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09E11EDD-47AF-4D40-9C73-BA0A993BE0F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120" y="295200"/>
            <a:ext cx="1544400" cy="1296360"/>
            <a:chOff x="78120" y="295200"/>
            <a:chExt cx="1544400" cy="1296360"/>
          </a:xfrm>
        </p:grpSpPr>
        <p:sp>
          <p:nvSpPr>
            <p:cNvPr id="5" name=""/>
            <p:cNvSpPr/>
            <p:nvPr/>
          </p:nvSpPr>
          <p:spPr>
            <a:xfrm>
              <a:off x="311040" y="504720"/>
              <a:ext cx="106704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120" y="295200"/>
              <a:ext cx="15444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8AA1FB6D-0BBB-4FE5-B4D7-020B4E85A03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file:///04_filesystem.ppt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address binding, general techniques, dynamic relocation H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32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800" spc="-1" strike="noStrike">
                <a:solidFill>
                  <a:srgbClr val="000000"/>
                </a:solidFill>
                <a:latin typeface="Tahoma"/>
              </a:rPr>
              <a:t>partitions, paging, segmentation, paged seg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79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279f"/>
                </a:solidFill>
                <a:latin typeface="Tahoma"/>
              </a:rPr>
              <a:t>Virtual Memory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demand 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thr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cess Page 4 … Page Fault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"/>
          <p:cNvSpPr/>
          <p:nvPr/>
        </p:nvSpPr>
        <p:spPr>
          <a:xfrm>
            <a:off x="1301760" y="25178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01760" y="28796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01760" y="32418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01760" y="36036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01760" y="39654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301760" y="21607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10160" y="249084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10160" y="285264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10160" y="213372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10160" y="391968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10160" y="427356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610160" y="357192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08360" y="3209760"/>
            <a:ext cx="90036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08360" y="4633920"/>
            <a:ext cx="90036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30080" y="2175480"/>
            <a:ext cx="30708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08360" y="2495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08360" y="3573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08360" y="427680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24480" y="2262240"/>
            <a:ext cx="2362320" cy="2743200"/>
          </a:xfrm>
          <a:prstGeom prst="can">
            <a:avLst>
              <a:gd name="adj" fmla="val 198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29400" y="2909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15160" y="340524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6338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2901960" y="2154240"/>
            <a:ext cx="903240" cy="2911320"/>
            <a:chOff x="2901960" y="2154240"/>
            <a:chExt cx="903240" cy="2911320"/>
          </a:xfrm>
        </p:grpSpPr>
        <p:sp>
          <p:nvSpPr>
            <p:cNvPr id="328" name=""/>
            <p:cNvSpPr/>
            <p:nvPr/>
          </p:nvSpPr>
          <p:spPr>
            <a:xfrm>
              <a:off x="2911680" y="2508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01960" y="215424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43400" y="215424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01960" y="251928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43400" y="2519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01960" y="28843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3400" y="28843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01960" y="32497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43400" y="32497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3760" y="36147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44840" y="36147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01960" y="39751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43400" y="39751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03760" y="43401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44840" y="43401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01960" y="470520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43400" y="470520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906640" y="215280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448080" y="215280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06640" y="251784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48080" y="25178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06640" y="288288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48080" y="288288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448080" y="32479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49520" y="36133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48080" y="397368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49520" y="433872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48080" y="470376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631240" y="2132640"/>
            <a:ext cx="469080" cy="2950200"/>
            <a:chOff x="2631240" y="2132640"/>
            <a:chExt cx="469080" cy="2950200"/>
          </a:xfrm>
        </p:grpSpPr>
        <p:sp>
          <p:nvSpPr>
            <p:cNvPr id="357" name=""/>
            <p:cNvSpPr/>
            <p:nvPr/>
          </p:nvSpPr>
          <p:spPr>
            <a:xfrm>
              <a:off x="2916000" y="2506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31240" y="2132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31240" y="2497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31240" y="28630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31240" y="3228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40600" y="35931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31240" y="3953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40600" y="43185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39160" y="46839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5715000" y="3048120"/>
            <a:ext cx="838080" cy="620640"/>
            <a:chOff x="5715000" y="3048120"/>
            <a:chExt cx="838080" cy="620640"/>
          </a:xfrm>
        </p:grpSpPr>
        <p:sp>
          <p:nvSpPr>
            <p:cNvPr id="367" name=""/>
            <p:cNvSpPr/>
            <p:nvPr/>
          </p:nvSpPr>
          <p:spPr>
            <a:xfrm>
              <a:off x="5715000" y="3048120"/>
              <a:ext cx="838080" cy="228600"/>
            </a:xfrm>
            <a:prstGeom prst="leftArrow">
              <a:avLst>
                <a:gd name="adj1" fmla="val 50000"/>
                <a:gd name="adj2" fmla="val 916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43600" y="32004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3352680" y="3276720"/>
            <a:ext cx="967680" cy="914400"/>
            <a:chOff x="3352680" y="3276720"/>
            <a:chExt cx="967680" cy="914400"/>
          </a:xfrm>
        </p:grpSpPr>
        <p:grpSp>
          <p:nvGrpSpPr>
            <p:cNvPr id="370" name=""/>
            <p:cNvGrpSpPr/>
            <p:nvPr/>
          </p:nvGrpSpPr>
          <p:grpSpPr>
            <a:xfrm>
              <a:off x="3352680" y="3581640"/>
              <a:ext cx="967680" cy="609480"/>
              <a:chOff x="3352680" y="3581640"/>
              <a:chExt cx="967680" cy="609480"/>
            </a:xfrm>
          </p:grpSpPr>
          <p:sp>
            <p:nvSpPr>
              <p:cNvPr id="371" name=""/>
              <p:cNvSpPr/>
              <p:nvPr/>
            </p:nvSpPr>
            <p:spPr>
              <a:xfrm>
                <a:off x="3352680" y="3581640"/>
                <a:ext cx="676080" cy="609480"/>
              </a:xfrm>
              <a:prstGeom prst="lightningBolt">
                <a:avLst/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53080" y="3656880"/>
                <a:ext cx="46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P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3657240" y="32767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286000" y="3276720"/>
            <a:ext cx="1143000" cy="609480"/>
            <a:chOff x="2286000" y="3276720"/>
            <a:chExt cx="1143000" cy="609480"/>
          </a:xfrm>
        </p:grpSpPr>
        <p:sp>
          <p:nvSpPr>
            <p:cNvPr id="375" name=""/>
            <p:cNvSpPr/>
            <p:nvPr/>
          </p:nvSpPr>
          <p:spPr>
            <a:xfrm>
              <a:off x="2286000" y="3657600"/>
              <a:ext cx="1143000" cy="228600"/>
            </a:xfrm>
            <a:prstGeom prst="rightArrow">
              <a:avLst>
                <a:gd name="adj1" fmla="val 50000"/>
                <a:gd name="adj2" fmla="val 1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86000" y="32767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161680" y="2589840"/>
            <a:ext cx="825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17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45680" y="5134680"/>
            <a:ext cx="23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ind Free Fram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nd Free Frame … NON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1301760" y="25178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01760" y="28796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01760" y="32418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01760" y="36036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01760" y="39654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01760" y="21607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10160" y="249084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610160" y="285264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610160" y="213372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10160" y="3919680"/>
            <a:ext cx="90000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10160" y="427356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10160" y="357192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08360" y="3209760"/>
            <a:ext cx="90036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08360" y="4633920"/>
            <a:ext cx="900360" cy="360360"/>
          </a:xfrm>
          <a:prstGeom prst="rect">
            <a:avLst/>
          </a:prstGeom>
          <a:solidFill>
            <a:srgbClr val="b3b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330080" y="2175480"/>
            <a:ext cx="30708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08360" y="2495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608360" y="3573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08360" y="427680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324480" y="2262240"/>
            <a:ext cx="2362320" cy="2743200"/>
          </a:xfrm>
          <a:prstGeom prst="can">
            <a:avLst>
              <a:gd name="adj" fmla="val 198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29400" y="2909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715160" y="340524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36338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01960" y="2154240"/>
            <a:ext cx="903240" cy="2911320"/>
            <a:chOff x="2901960" y="2154240"/>
            <a:chExt cx="903240" cy="2911320"/>
          </a:xfrm>
        </p:grpSpPr>
        <p:sp>
          <p:nvSpPr>
            <p:cNvPr id="404" name=""/>
            <p:cNvSpPr/>
            <p:nvPr/>
          </p:nvSpPr>
          <p:spPr>
            <a:xfrm>
              <a:off x="2911680" y="2508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901960" y="215424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43400" y="215424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901960" y="251928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443400" y="2519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901960" y="28843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43400" y="28843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01960" y="32497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43400" y="32497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03760" y="36147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44840" y="36147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01960" y="39751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43400" y="39751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03760" y="43401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444840" y="43401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01960" y="470520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443400" y="470520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906640" y="215280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48080" y="215280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06640" y="251784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48080" y="25178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06640" y="288288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48080" y="288288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48080" y="32479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49520" y="36133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48080" y="397368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49520" y="433872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48080" y="470376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631240" y="2132640"/>
            <a:ext cx="469080" cy="2950200"/>
            <a:chOff x="2631240" y="2132640"/>
            <a:chExt cx="469080" cy="2950200"/>
          </a:xfrm>
        </p:grpSpPr>
        <p:sp>
          <p:nvSpPr>
            <p:cNvPr id="433" name=""/>
            <p:cNvSpPr/>
            <p:nvPr/>
          </p:nvSpPr>
          <p:spPr>
            <a:xfrm>
              <a:off x="2916000" y="2506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31240" y="2132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31240" y="2497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31240" y="28630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31240" y="3228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40600" y="35931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31240" y="3953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640600" y="43185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39160" y="46839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608360" y="2496960"/>
            <a:ext cx="900360" cy="36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05200" y="3614760"/>
            <a:ext cx="53964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46640" y="361476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276720" y="3885840"/>
            <a:ext cx="849240" cy="697320"/>
            <a:chOff x="3276720" y="3885840"/>
            <a:chExt cx="849240" cy="697320"/>
          </a:xfrm>
        </p:grpSpPr>
        <p:sp>
          <p:nvSpPr>
            <p:cNvPr id="446" name=""/>
            <p:cNvSpPr/>
            <p:nvPr/>
          </p:nvSpPr>
          <p:spPr>
            <a:xfrm rot="16200000">
              <a:off x="3250440" y="3912120"/>
              <a:ext cx="569880" cy="51732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57600" y="41148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267080" y="5256720"/>
            <a:ext cx="2661120" cy="703800"/>
            <a:chOff x="4267080" y="5256720"/>
            <a:chExt cx="2661120" cy="703800"/>
          </a:xfrm>
        </p:grpSpPr>
        <p:sp>
          <p:nvSpPr>
            <p:cNvPr id="449" name=""/>
            <p:cNvSpPr/>
            <p:nvPr/>
          </p:nvSpPr>
          <p:spPr>
            <a:xfrm>
              <a:off x="4267080" y="5562720"/>
              <a:ext cx="914400" cy="228600"/>
            </a:xfrm>
            <a:prstGeom prst="leftArrow">
              <a:avLst>
                <a:gd name="adj1" fmla="val 50000"/>
                <a:gd name="adj2" fmla="val 100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029200" y="54100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38520" y="5256720"/>
              <a:ext cx="148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start 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276720" y="2895120"/>
            <a:ext cx="849240" cy="697320"/>
            <a:chOff x="3276720" y="2895120"/>
            <a:chExt cx="849240" cy="697320"/>
          </a:xfrm>
        </p:grpSpPr>
        <p:sp>
          <p:nvSpPr>
            <p:cNvPr id="453" name=""/>
            <p:cNvSpPr/>
            <p:nvPr/>
          </p:nvSpPr>
          <p:spPr>
            <a:xfrm rot="16200000">
              <a:off x="3250440" y="2921400"/>
              <a:ext cx="569880" cy="51732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57600" y="31240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903400" y="2514600"/>
            <a:ext cx="540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44840" y="251460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96080" y="2819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4401720" y="2747880"/>
            <a:ext cx="3617280" cy="1514520"/>
            <a:chOff x="4401720" y="2747880"/>
            <a:chExt cx="3617280" cy="1514520"/>
          </a:xfrm>
        </p:grpSpPr>
        <p:sp>
          <p:nvSpPr>
            <p:cNvPr id="459" name=""/>
            <p:cNvSpPr/>
            <p:nvPr/>
          </p:nvSpPr>
          <p:spPr>
            <a:xfrm flipH="1" rot="898800">
              <a:off x="4419360" y="320004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858000" y="35053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4613400" y="2496960"/>
            <a:ext cx="900000" cy="36072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4724280" y="1752480"/>
            <a:ext cx="3581640" cy="990000"/>
            <a:chOff x="4724280" y="1752480"/>
            <a:chExt cx="3581640" cy="990000"/>
          </a:xfrm>
        </p:grpSpPr>
        <p:sp>
          <p:nvSpPr>
            <p:cNvPr id="463" name=""/>
            <p:cNvSpPr/>
            <p:nvPr/>
          </p:nvSpPr>
          <p:spPr>
            <a:xfrm flipV="1">
              <a:off x="4724280" y="2132280"/>
              <a:ext cx="3581640" cy="609480"/>
            </a:xfrm>
            <a:custGeom>
              <a:avLst/>
              <a:gdLst>
                <a:gd name="textAreaLeft" fmla="*/ 626760 w 3581640"/>
                <a:gd name="textAreaRight" fmla="*/ 2596680 w 358164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53080" y="17524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410080" y="2261160"/>
            <a:ext cx="1052280" cy="874080"/>
            <a:chOff x="5410080" y="2261160"/>
            <a:chExt cx="1052280" cy="874080"/>
          </a:xfrm>
        </p:grpSpPr>
        <p:sp>
          <p:nvSpPr>
            <p:cNvPr id="466" name=""/>
            <p:cNvSpPr/>
            <p:nvPr/>
          </p:nvSpPr>
          <p:spPr>
            <a:xfrm>
              <a:off x="5547240" y="2261160"/>
              <a:ext cx="91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Victi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410080" y="2514600"/>
              <a:ext cx="914400" cy="228600"/>
            </a:xfrm>
            <a:prstGeom prst="leftArrow">
              <a:avLst>
                <a:gd name="adj1" fmla="val 50000"/>
                <a:gd name="adj2" fmla="val 10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15000" y="26668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395280" y="5373720"/>
            <a:ext cx="649440" cy="576360"/>
          </a:xfrm>
          <a:custGeom>
            <a:avLst/>
            <a:gdLst>
              <a:gd name="textAreaLeft" fmla="*/ 37080 w 649440"/>
              <a:gd name="textAreaRight" fmla="*/ 612360 w 649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337" h="21600">
                <a:moveTo>
                  <a:pt x="0" y="0"/>
                </a:moveTo>
                <a:lnTo>
                  <a:pt x="24337" y="0"/>
                </a:lnTo>
                <a:lnTo>
                  <a:pt x="24337" y="21600"/>
                </a:lnTo>
                <a:lnTo>
                  <a:pt x="0" y="21600"/>
                </a:lnTo>
                <a:close/>
              </a:path>
              <a:path fill="lightenLess" w="24337" h="21600">
                <a:moveTo>
                  <a:pt x="0" y="0"/>
                </a:moveTo>
                <a:lnTo>
                  <a:pt x="24337" y="0"/>
                </a:lnTo>
                <a:lnTo>
                  <a:pt x="22937" y="1400"/>
                </a:lnTo>
                <a:lnTo>
                  <a:pt x="1400" y="1400"/>
                </a:lnTo>
                <a:close/>
              </a:path>
              <a:path fill="darken" w="24337" h="21600">
                <a:moveTo>
                  <a:pt x="24337" y="0"/>
                </a:moveTo>
                <a:lnTo>
                  <a:pt x="24337" y="21600"/>
                </a:lnTo>
                <a:lnTo>
                  <a:pt x="22937" y="20200"/>
                </a:lnTo>
                <a:lnTo>
                  <a:pt x="22937" y="1400"/>
                </a:lnTo>
                <a:close/>
              </a:path>
              <a:path fill="darkenLess" w="24337" h="21600">
                <a:moveTo>
                  <a:pt x="24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37" y="20200"/>
                </a:lnTo>
                <a:close/>
              </a:path>
              <a:path fill="lighten" w="24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37" h="21600">
                <a:moveTo>
                  <a:pt x="15667" y="10800"/>
                </a:moveTo>
                <a:lnTo>
                  <a:pt x="5162" y="17806"/>
                </a:lnTo>
                <a:lnTo>
                  <a:pt x="5162" y="3794"/>
                </a:lnTo>
                <a:close/>
              </a:path>
              <a:path fill="darken" w="24337" h="21600">
                <a:moveTo>
                  <a:pt x="17513" y="3794"/>
                </a:moveTo>
                <a:lnTo>
                  <a:pt x="17513" y="17806"/>
                </a:lnTo>
                <a:lnTo>
                  <a:pt x="19175" y="17806"/>
                </a:lnTo>
                <a:lnTo>
                  <a:pt x="19175" y="3794"/>
                </a:lnTo>
                <a:close/>
              </a:path>
            </a:pathLst>
          </a:cu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07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1281240" y="1523880"/>
            <a:ext cx="7377120" cy="395928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90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nd Fre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on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Find Vict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y PT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Write Page to Swap Space</a:t>
            </a:r>
            <a:r>
              <a:rPr b="0" lang="nl-BE" sz="2400" spc="-1" strike="noStrike">
                <a:solidFill>
                  <a:srgbClr val="fc0128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ae00"/>
                </a:solidFill>
                <a:latin typeface="Tahoma"/>
              </a:rPr>
              <a:t>Read Page in Fre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y PT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STORE STATE  (s.t. instruction = restar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533520" y="1447920"/>
            <a:ext cx="794520" cy="1083600"/>
            <a:chOff x="533520" y="1447920"/>
            <a:chExt cx="794520" cy="1083600"/>
          </a:xfrm>
        </p:grpSpPr>
        <p:sp>
          <p:nvSpPr>
            <p:cNvPr id="473" name=""/>
            <p:cNvSpPr/>
            <p:nvPr/>
          </p:nvSpPr>
          <p:spPr>
            <a:xfrm>
              <a:off x="533520" y="144792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60760" y="21326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4546440" y="5532480"/>
            <a:ext cx="35308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82" y="-58219"/>
                </a:moveTo>
                <a:lnTo>
                  <a:pt x="-466" y="4000"/>
                </a:lnTo>
              </a:path>
              <a:path w="21600" h="21600">
                <a:moveTo>
                  <a:pt x="-466" y="0"/>
                </a:moveTo>
                <a:lnTo>
                  <a:pt x="-466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Avoid if not modified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(modify/dirty bit) or 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844400">
            <a:off x="4914720" y="1514160"/>
            <a:ext cx="3768840" cy="2657160"/>
          </a:xfrm>
          <a:prstGeom prst="irregularSeal1">
            <a:avLst/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5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erformance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#PF low: Good Replacement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ol of free fr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of modified fra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py-on-write (FOR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mory-mapped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8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3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8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3" dur="50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8" dur="5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ol of free fr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81960" y="1992240"/>
            <a:ext cx="1180080" cy="2890080"/>
            <a:chOff x="381960" y="1992240"/>
            <a:chExt cx="1180080" cy="2890080"/>
          </a:xfrm>
        </p:grpSpPr>
        <p:sp>
          <p:nvSpPr>
            <p:cNvPr id="481" name=""/>
            <p:cNvSpPr/>
            <p:nvPr/>
          </p:nvSpPr>
          <p:spPr>
            <a:xfrm>
              <a:off x="662040" y="234936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2040" y="271116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2040" y="19922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2040" y="377820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2040" y="413208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2040" y="3430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60240" y="30686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60240" y="44924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81960" y="2034000"/>
              <a:ext cx="307080" cy="28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0240" y="235404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60240" y="343188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60240" y="413532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590920" y="2057400"/>
            <a:ext cx="1218960" cy="2743200"/>
            <a:chOff x="2590920" y="2057400"/>
            <a:chExt cx="1218960" cy="2743200"/>
          </a:xfrm>
        </p:grpSpPr>
        <p:sp>
          <p:nvSpPr>
            <p:cNvPr id="494" name=""/>
            <p:cNvSpPr/>
            <p:nvPr/>
          </p:nvSpPr>
          <p:spPr>
            <a:xfrm>
              <a:off x="2590920" y="2057400"/>
              <a:ext cx="1218960" cy="2743200"/>
            </a:xfrm>
            <a:prstGeom prst="can">
              <a:avLst>
                <a:gd name="adj" fmla="val 1981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43200" y="3247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743200" y="41911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43200" y="3733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62040" y="2354400"/>
            <a:ext cx="90000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62040" y="236232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748440" y="1523880"/>
            <a:ext cx="3608640" cy="1708920"/>
            <a:chOff x="748440" y="1523880"/>
            <a:chExt cx="3608640" cy="1708920"/>
          </a:xfrm>
        </p:grpSpPr>
        <p:sp>
          <p:nvSpPr>
            <p:cNvPr id="501" name=""/>
            <p:cNvSpPr/>
            <p:nvPr/>
          </p:nvSpPr>
          <p:spPr>
            <a:xfrm flipV="1" rot="976800">
              <a:off x="761760" y="213336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33720" y="15238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8080" y="2366640"/>
            <a:ext cx="3524400" cy="2505240"/>
            <a:chOff x="28080" y="2366640"/>
            <a:chExt cx="3524400" cy="2505240"/>
          </a:xfrm>
        </p:grpSpPr>
        <p:sp>
          <p:nvSpPr>
            <p:cNvPr id="504" name=""/>
            <p:cNvSpPr/>
            <p:nvPr/>
          </p:nvSpPr>
          <p:spPr>
            <a:xfrm flipH="1" rot="1786200">
              <a:off x="0" y="3200040"/>
              <a:ext cx="3581280" cy="83772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111960 h 837720"/>
                <a:gd name="textAreaBottom" fmla="*/ 725760 h 83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9200">
              <a:off x="1904760" y="365724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4725360" y="1992240"/>
            <a:ext cx="1180080" cy="2890440"/>
            <a:chOff x="4725360" y="1992240"/>
            <a:chExt cx="1180080" cy="2890440"/>
          </a:xfrm>
        </p:grpSpPr>
        <p:sp>
          <p:nvSpPr>
            <p:cNvPr id="507" name=""/>
            <p:cNvSpPr/>
            <p:nvPr/>
          </p:nvSpPr>
          <p:spPr>
            <a:xfrm>
              <a:off x="5005440" y="234936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005440" y="271152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005440" y="19922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005440" y="377820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005440" y="4132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05440" y="3430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03640" y="306864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03640" y="449280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25360" y="2034360"/>
              <a:ext cx="307080" cy="28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03640" y="235440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03640" y="343224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03640" y="413532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934320" y="2057400"/>
            <a:ext cx="1218960" cy="2743200"/>
            <a:chOff x="6934320" y="2057400"/>
            <a:chExt cx="1218960" cy="2743200"/>
          </a:xfrm>
        </p:grpSpPr>
        <p:sp>
          <p:nvSpPr>
            <p:cNvPr id="520" name=""/>
            <p:cNvSpPr/>
            <p:nvPr/>
          </p:nvSpPr>
          <p:spPr>
            <a:xfrm>
              <a:off x="6934320" y="2057400"/>
              <a:ext cx="1218960" cy="2743200"/>
            </a:xfrm>
            <a:prstGeom prst="can">
              <a:avLst>
                <a:gd name="adj" fmla="val 1981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086600" y="3247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086600" y="41911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86600" y="3733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5000760" y="2354400"/>
            <a:ext cx="900000" cy="36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000760" y="306216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091840" y="1523880"/>
            <a:ext cx="3608640" cy="1708920"/>
            <a:chOff x="5091840" y="1523880"/>
            <a:chExt cx="3608640" cy="1708920"/>
          </a:xfrm>
        </p:grpSpPr>
        <p:sp>
          <p:nvSpPr>
            <p:cNvPr id="527" name=""/>
            <p:cNvSpPr/>
            <p:nvPr/>
          </p:nvSpPr>
          <p:spPr>
            <a:xfrm flipV="1" rot="976800">
              <a:off x="5105160" y="213336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77120" y="15238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5000760" y="235584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1840" y="48769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thout pool of fre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79080" y="487692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th pool of fre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374360" y="3081600"/>
            <a:ext cx="3671640" cy="1825560"/>
            <a:chOff x="4374360" y="3081600"/>
            <a:chExt cx="3671640" cy="1825560"/>
          </a:xfrm>
        </p:grpSpPr>
        <p:sp>
          <p:nvSpPr>
            <p:cNvPr id="533" name=""/>
            <p:cNvSpPr/>
            <p:nvPr/>
          </p:nvSpPr>
          <p:spPr>
            <a:xfrm flipH="1" rot="995400">
              <a:off x="4419000" y="3575160"/>
              <a:ext cx="3581280" cy="8380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112320 h 838080"/>
                <a:gd name="textAreaBottom" fmla="*/ 725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9600">
              <a:off x="6248520" y="3879360"/>
              <a:ext cx="468360" cy="4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971800" y="1363320"/>
            <a:ext cx="1012680" cy="1269360"/>
          </a:xfrm>
          <a:prstGeom prst="lightningBolt">
            <a:avLst/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543800" y="1418760"/>
            <a:ext cx="1012680" cy="1269360"/>
          </a:xfrm>
          <a:prstGeom prst="lightningBolt">
            <a:avLst/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43200" y="27432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086600" y="27432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50920" y="5516640"/>
            <a:ext cx="0" cy="43344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395280" y="5157720"/>
            <a:ext cx="1655640" cy="459720"/>
            <a:chOff x="395280" y="5157720"/>
            <a:chExt cx="1655640" cy="459720"/>
          </a:xfrm>
        </p:grpSpPr>
        <p:sp>
          <p:nvSpPr>
            <p:cNvPr id="541" name=""/>
            <p:cNvSpPr/>
            <p:nvPr/>
          </p:nvSpPr>
          <p:spPr>
            <a:xfrm>
              <a:off x="395280" y="5589720"/>
              <a:ext cx="165564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3200" y="515772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050920" y="5492880"/>
            <a:ext cx="1728720" cy="459720"/>
            <a:chOff x="2050920" y="5492880"/>
            <a:chExt cx="1728720" cy="459720"/>
          </a:xfrm>
        </p:grpSpPr>
        <p:sp>
          <p:nvSpPr>
            <p:cNvPr id="544" name=""/>
            <p:cNvSpPr/>
            <p:nvPr/>
          </p:nvSpPr>
          <p:spPr>
            <a:xfrm>
              <a:off x="2050920" y="5950080"/>
              <a:ext cx="1728720" cy="0"/>
            </a:xfrm>
            <a:prstGeom prst="line">
              <a:avLst/>
            </a:prstGeom>
            <a:ln w="38160">
              <a:solidFill>
                <a:srgbClr val="b3b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347200" y="549288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3b900"/>
                  </a:solidFill>
                  <a:latin typeface="Tahoma"/>
                </a:rPr>
                <a:t>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6588000" y="5157720"/>
            <a:ext cx="1656000" cy="459720"/>
            <a:chOff x="6588000" y="5157720"/>
            <a:chExt cx="1656000" cy="459720"/>
          </a:xfrm>
        </p:grpSpPr>
        <p:sp>
          <p:nvSpPr>
            <p:cNvPr id="547" name=""/>
            <p:cNvSpPr/>
            <p:nvPr/>
          </p:nvSpPr>
          <p:spPr>
            <a:xfrm>
              <a:off x="6588000" y="5589720"/>
              <a:ext cx="16560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76640" y="515772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6588000" y="5516640"/>
            <a:ext cx="0" cy="43344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859280" y="5492880"/>
            <a:ext cx="1728720" cy="459720"/>
            <a:chOff x="4859280" y="5492880"/>
            <a:chExt cx="1728720" cy="459720"/>
          </a:xfrm>
        </p:grpSpPr>
        <p:sp>
          <p:nvSpPr>
            <p:cNvPr id="551" name=""/>
            <p:cNvSpPr/>
            <p:nvPr/>
          </p:nvSpPr>
          <p:spPr>
            <a:xfrm>
              <a:off x="4859280" y="5950080"/>
              <a:ext cx="1728720" cy="0"/>
            </a:xfrm>
            <a:prstGeom prst="line">
              <a:avLst/>
            </a:prstGeom>
            <a:ln w="38160">
              <a:solidFill>
                <a:srgbClr val="b3b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55560" y="549288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3b900"/>
                  </a:solidFill>
                  <a:latin typeface="Tahoma"/>
                </a:rPr>
                <a:t>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3780000" y="5516640"/>
            <a:ext cx="0" cy="43344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713760" y="5229360"/>
            <a:ext cx="1218600" cy="459720"/>
            <a:chOff x="3713760" y="5229360"/>
            <a:chExt cx="1218600" cy="459720"/>
          </a:xfrm>
        </p:grpSpPr>
        <p:sp>
          <p:nvSpPr>
            <p:cNvPr id="555" name=""/>
            <p:cNvSpPr/>
            <p:nvPr/>
          </p:nvSpPr>
          <p:spPr>
            <a:xfrm>
              <a:off x="3780000" y="5661000"/>
              <a:ext cx="115236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713760" y="522936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re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6516720" y="5516640"/>
            <a:ext cx="1727280" cy="459720"/>
            <a:chOff x="6516720" y="5516640"/>
            <a:chExt cx="1727280" cy="459720"/>
          </a:xfrm>
        </p:grpSpPr>
        <p:sp>
          <p:nvSpPr>
            <p:cNvPr id="558" name=""/>
            <p:cNvSpPr/>
            <p:nvPr/>
          </p:nvSpPr>
          <p:spPr>
            <a:xfrm>
              <a:off x="6583320" y="5925960"/>
              <a:ext cx="1660680" cy="241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516720" y="55166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re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500"/>
                            </p:stCondLst>
                            <p:childTnLst>
                              <p:par>
                                <p:cTn id="9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ol of free fr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4725360" y="1992240"/>
            <a:ext cx="1180080" cy="2890440"/>
            <a:chOff x="4725360" y="1992240"/>
            <a:chExt cx="1180080" cy="2890440"/>
          </a:xfrm>
        </p:grpSpPr>
        <p:sp>
          <p:nvSpPr>
            <p:cNvPr id="562" name=""/>
            <p:cNvSpPr/>
            <p:nvPr/>
          </p:nvSpPr>
          <p:spPr>
            <a:xfrm>
              <a:off x="5005440" y="234936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005440" y="271152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05440" y="19922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05440" y="377820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05440" y="4132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05440" y="34304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003640" y="306864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003640" y="449280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25360" y="2034360"/>
              <a:ext cx="307080" cy="28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03640" y="235440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003640" y="343224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03640" y="413532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6934320" y="2057400"/>
            <a:ext cx="1218960" cy="2743200"/>
            <a:chOff x="6934320" y="2057400"/>
            <a:chExt cx="1218960" cy="2743200"/>
          </a:xfrm>
        </p:grpSpPr>
        <p:sp>
          <p:nvSpPr>
            <p:cNvPr id="575" name=""/>
            <p:cNvSpPr/>
            <p:nvPr/>
          </p:nvSpPr>
          <p:spPr>
            <a:xfrm>
              <a:off x="6934320" y="2057400"/>
              <a:ext cx="1218960" cy="2743200"/>
            </a:xfrm>
            <a:prstGeom prst="can">
              <a:avLst>
                <a:gd name="adj" fmla="val 1981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86600" y="3247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086600" y="41911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86600" y="37339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5000760" y="2354400"/>
            <a:ext cx="90000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000760" y="306216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91840" y="1523880"/>
            <a:ext cx="3608640" cy="1708920"/>
            <a:chOff x="5091840" y="1523880"/>
            <a:chExt cx="3608640" cy="1708920"/>
          </a:xfrm>
        </p:grpSpPr>
        <p:sp>
          <p:nvSpPr>
            <p:cNvPr id="582" name=""/>
            <p:cNvSpPr/>
            <p:nvPr/>
          </p:nvSpPr>
          <p:spPr>
            <a:xfrm flipV="1" rot="976800">
              <a:off x="5105160" y="213336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77120" y="15238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5000760" y="235584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79080" y="4876920"/>
            <a:ext cx="34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ith pool of fre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4374360" y="3081600"/>
            <a:ext cx="3671640" cy="1825560"/>
            <a:chOff x="4374360" y="3081600"/>
            <a:chExt cx="3671640" cy="1825560"/>
          </a:xfrm>
        </p:grpSpPr>
        <p:sp>
          <p:nvSpPr>
            <p:cNvPr id="587" name=""/>
            <p:cNvSpPr/>
            <p:nvPr/>
          </p:nvSpPr>
          <p:spPr>
            <a:xfrm flipH="1" rot="995400">
              <a:off x="4419000" y="3575160"/>
              <a:ext cx="3581280" cy="8380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112320 h 838080"/>
                <a:gd name="textAreaBottom" fmla="*/ 7257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9600">
              <a:off x="6248520" y="3879360"/>
              <a:ext cx="468360" cy="468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7543800" y="1418760"/>
            <a:ext cx="1012680" cy="1269360"/>
          </a:xfrm>
          <a:prstGeom prst="lightningBolt">
            <a:avLst/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86600" y="274320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588000" y="5157720"/>
            <a:ext cx="1656000" cy="459720"/>
            <a:chOff x="6588000" y="5157720"/>
            <a:chExt cx="1656000" cy="459720"/>
          </a:xfrm>
        </p:grpSpPr>
        <p:sp>
          <p:nvSpPr>
            <p:cNvPr id="592" name=""/>
            <p:cNvSpPr/>
            <p:nvPr/>
          </p:nvSpPr>
          <p:spPr>
            <a:xfrm>
              <a:off x="6588000" y="5589720"/>
              <a:ext cx="165600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76640" y="515772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588000" y="5516640"/>
            <a:ext cx="0" cy="43344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859280" y="5492880"/>
            <a:ext cx="1728720" cy="459720"/>
            <a:chOff x="4859280" y="5492880"/>
            <a:chExt cx="1728720" cy="459720"/>
          </a:xfrm>
        </p:grpSpPr>
        <p:sp>
          <p:nvSpPr>
            <p:cNvPr id="596" name=""/>
            <p:cNvSpPr/>
            <p:nvPr/>
          </p:nvSpPr>
          <p:spPr>
            <a:xfrm>
              <a:off x="4859280" y="5950080"/>
              <a:ext cx="1728720" cy="0"/>
            </a:xfrm>
            <a:prstGeom prst="line">
              <a:avLst/>
            </a:prstGeom>
            <a:ln w="38160">
              <a:solidFill>
                <a:srgbClr val="b3b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55560" y="5492880"/>
              <a:ext cx="83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b3b900"/>
                  </a:solidFill>
                  <a:latin typeface="Tahoma"/>
                </a:rPr>
                <a:t>re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6516720" y="5516640"/>
            <a:ext cx="1727280" cy="459720"/>
            <a:chOff x="6516720" y="5516640"/>
            <a:chExt cx="1727280" cy="459720"/>
          </a:xfrm>
        </p:grpSpPr>
        <p:sp>
          <p:nvSpPr>
            <p:cNvPr id="599" name=""/>
            <p:cNvSpPr/>
            <p:nvPr/>
          </p:nvSpPr>
          <p:spPr>
            <a:xfrm>
              <a:off x="6583320" y="5925960"/>
              <a:ext cx="1660680" cy="241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16720" y="55166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re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10560" y="1968480"/>
            <a:ext cx="1180080" cy="2890440"/>
            <a:chOff x="610560" y="1968480"/>
            <a:chExt cx="1180080" cy="2890440"/>
          </a:xfrm>
        </p:grpSpPr>
        <p:sp>
          <p:nvSpPr>
            <p:cNvPr id="602" name=""/>
            <p:cNvSpPr/>
            <p:nvPr/>
          </p:nvSpPr>
          <p:spPr>
            <a:xfrm>
              <a:off x="890640" y="232560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90640" y="268776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90640" y="196848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90640" y="3754440"/>
              <a:ext cx="900000" cy="360360"/>
            </a:xfrm>
            <a:prstGeom prst="rect">
              <a:avLst/>
            </a:prstGeom>
            <a:solidFill>
              <a:srgbClr val="b3b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90640" y="410868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90640" y="340668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88840" y="304488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88840" y="4469040"/>
              <a:ext cx="90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10560" y="2010600"/>
              <a:ext cx="307080" cy="28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88840" y="233064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88840" y="340848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88840" y="4111560"/>
              <a:ext cx="90036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819520" y="2033640"/>
            <a:ext cx="1218960" cy="2743200"/>
            <a:chOff x="2819520" y="2033640"/>
            <a:chExt cx="1218960" cy="2743200"/>
          </a:xfrm>
        </p:grpSpPr>
        <p:sp>
          <p:nvSpPr>
            <p:cNvPr id="615" name=""/>
            <p:cNvSpPr/>
            <p:nvPr/>
          </p:nvSpPr>
          <p:spPr>
            <a:xfrm>
              <a:off x="2819520" y="2033640"/>
              <a:ext cx="1218960" cy="2743200"/>
            </a:xfrm>
            <a:prstGeom prst="can">
              <a:avLst>
                <a:gd name="adj" fmla="val 19814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71800" y="322416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71800" y="416736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971800" y="371016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885960" y="2330280"/>
            <a:ext cx="900000" cy="36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85960" y="30384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977040" y="1500120"/>
            <a:ext cx="3608640" cy="1708920"/>
            <a:chOff x="977040" y="1500120"/>
            <a:chExt cx="3608640" cy="1708920"/>
          </a:xfrm>
        </p:grpSpPr>
        <p:sp>
          <p:nvSpPr>
            <p:cNvPr id="622" name=""/>
            <p:cNvSpPr/>
            <p:nvPr/>
          </p:nvSpPr>
          <p:spPr>
            <a:xfrm flipV="1" rot="976800">
              <a:off x="990360" y="210960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62320" y="15001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885960" y="2332080"/>
            <a:ext cx="90000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40720" y="4853160"/>
            <a:ext cx="39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ol + Remember Cont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rot="9600">
            <a:off x="1908000" y="3212640"/>
            <a:ext cx="468360" cy="4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29000" y="1395000"/>
            <a:ext cx="1012680" cy="1269360"/>
          </a:xfrm>
          <a:prstGeom prst="lightningBolt">
            <a:avLst/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71800" y="27194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684360" y="5133960"/>
            <a:ext cx="1655640" cy="459720"/>
            <a:chOff x="684360" y="5133960"/>
            <a:chExt cx="1655640" cy="459720"/>
          </a:xfrm>
        </p:grpSpPr>
        <p:sp>
          <p:nvSpPr>
            <p:cNvPr id="630" name=""/>
            <p:cNvSpPr/>
            <p:nvPr/>
          </p:nvSpPr>
          <p:spPr>
            <a:xfrm>
              <a:off x="684360" y="5565960"/>
              <a:ext cx="1655640" cy="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72280" y="513396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wri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682560" y="5492880"/>
            <a:ext cx="0" cy="433080"/>
          </a:xfrm>
          <a:prstGeom prst="line">
            <a:avLst/>
          </a:prstGeom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611280" y="5492880"/>
            <a:ext cx="1727280" cy="459720"/>
            <a:chOff x="611280" y="5492880"/>
            <a:chExt cx="1727280" cy="459720"/>
          </a:xfrm>
        </p:grpSpPr>
        <p:sp>
          <p:nvSpPr>
            <p:cNvPr id="634" name=""/>
            <p:cNvSpPr/>
            <p:nvPr/>
          </p:nvSpPr>
          <p:spPr>
            <a:xfrm>
              <a:off x="677880" y="5902200"/>
              <a:ext cx="1660680" cy="2412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11280" y="54928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c0128"/>
                  </a:solidFill>
                  <a:latin typeface="Tahoma"/>
                </a:rPr>
                <a:t>resta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763640" y="2205000"/>
            <a:ext cx="1368360" cy="936720"/>
          </a:xfrm>
          <a:prstGeom prst="cloudCallout">
            <a:avLst>
              <a:gd name="adj1" fmla="val -54175"/>
              <a:gd name="adj2" fmla="val 57458"/>
            </a:avLst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763640" y="3645000"/>
            <a:ext cx="1368360" cy="936360"/>
          </a:xfrm>
          <a:prstGeom prst="cloudCallout">
            <a:avLst>
              <a:gd name="adj1" fmla="val -54175"/>
              <a:gd name="adj2" fmla="val 57458"/>
            </a:avLst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63640" y="1341360"/>
            <a:ext cx="1368360" cy="936720"/>
          </a:xfrm>
          <a:prstGeom prst="cloudCallout">
            <a:avLst>
              <a:gd name="adj1" fmla="val -54175"/>
              <a:gd name="adj2" fmla="val 57458"/>
            </a:avLst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ist of modified fr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ing device id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rite page to di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ability (victim = clean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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Page Replac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ssential for Virtual Memory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| Process | &gt; | Memory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ever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PT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pproximations of LR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unting Algorithms MFU, LF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105520" y="3505320"/>
            <a:ext cx="2666880" cy="990360"/>
          </a:xfrm>
          <a:custGeom>
            <a:avLst/>
            <a:gdLst>
              <a:gd name="textAreaLeft" fmla="*/ 666720 w 2666880"/>
              <a:gd name="textAreaRight" fmla="*/ 2000160 w 2666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Low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F-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5" dur="500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e Replac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Reference St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| Frame | = 1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7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03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0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00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33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34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2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234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0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02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3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87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impl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nly page 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7 0 </a:t>
            </a:r>
            <a:r>
              <a:rPr b="0" lang="nl-BE" sz="2400" spc="-1" strike="noStrike" u="sng">
                <a:solidFill>
                  <a:srgbClr val="00279f"/>
                </a:solidFill>
                <a:uFillTx/>
                <a:latin typeface="Tahoma"/>
              </a:rPr>
              <a:t>1 1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2 0 3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 p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7 0 1 2 0 3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6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9" dur="500"/>
                                        <p:tgtEl>
                                          <p:spTgt spid="6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6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6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6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e Replace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ure Demand Pa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ever bring page in Memory until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Number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1736640" y="3200400"/>
            <a:ext cx="0" cy="30481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584360" y="601992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7320" y="5569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#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1143720" y="3429000"/>
            <a:ext cx="60696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# Page Fa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736640" y="518148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65240" y="3505320"/>
            <a:ext cx="4206960" cy="1676160"/>
          </a:xfrm>
          <a:custGeom>
            <a:avLst/>
            <a:gdLst/>
            <a:ahLst/>
            <a:rect l="l" t="t" r="r" b="b"/>
            <a:pathLst>
              <a:path w="2688" h="1064">
                <a:moveTo>
                  <a:pt x="0" y="0"/>
                </a:moveTo>
                <a:cubicBezTo>
                  <a:pt x="36" y="172"/>
                  <a:pt x="72" y="344"/>
                  <a:pt x="144" y="480"/>
                </a:cubicBezTo>
                <a:cubicBezTo>
                  <a:pt x="216" y="616"/>
                  <a:pt x="280" y="728"/>
                  <a:pt x="432" y="816"/>
                </a:cubicBezTo>
                <a:cubicBezTo>
                  <a:pt x="584" y="904"/>
                  <a:pt x="824" y="968"/>
                  <a:pt x="1056" y="1008"/>
                </a:cubicBezTo>
                <a:cubicBezTo>
                  <a:pt x="1288" y="1048"/>
                  <a:pt x="1552" y="1048"/>
                  <a:pt x="1824" y="1056"/>
                </a:cubicBezTo>
                <a:cubicBezTo>
                  <a:pt x="2096" y="1064"/>
                  <a:pt x="2392" y="1060"/>
                  <a:pt x="2688" y="1056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38880" y="3280320"/>
            <a:ext cx="1547640" cy="703800"/>
          </a:xfrm>
          <a:prstGeom prst="borderCallout1">
            <a:avLst>
              <a:gd name="adj1" fmla="val 18750"/>
              <a:gd name="adj2" fmla="val -8333"/>
              <a:gd name="adj3" fmla="val 271879"/>
              <a:gd name="adj4" fmla="val -51810"/>
            </a:avLst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different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4648320" y="4495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5" dur="5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13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3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on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rdware, Restri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e Replac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F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rst In, First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ctim = Longest in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6858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85800" y="433692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85800" y="380376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952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95280" y="4336920"/>
            <a:ext cx="54000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2952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9051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0512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90512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146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5146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5146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4336920"/>
            <a:ext cx="5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1240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339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7339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339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434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34340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34340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336920"/>
            <a:ext cx="5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5627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5627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5627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722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7220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17220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7816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781680" y="4336920"/>
            <a:ext cx="5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816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39152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39152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39152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00100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00100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00100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457200" y="2736720"/>
            <a:ext cx="7854840" cy="540000"/>
            <a:chOff x="457200" y="2736720"/>
            <a:chExt cx="7854840" cy="540000"/>
          </a:xfrm>
        </p:grpSpPr>
        <p:sp>
          <p:nvSpPr>
            <p:cNvPr id="698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0666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765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860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954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5053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48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7242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341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9436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530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629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724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7621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3716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9810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909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8098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4197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0292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6386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485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8580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143000" y="5562720"/>
            <a:ext cx="4002120" cy="539640"/>
            <a:chOff x="1143000" y="5562720"/>
            <a:chExt cx="4002120" cy="539640"/>
          </a:xfrm>
        </p:grpSpPr>
        <p:sp>
          <p:nvSpPr>
            <p:cNvPr id="723" name=""/>
            <p:cNvSpPr/>
            <p:nvPr/>
          </p:nvSpPr>
          <p:spPr>
            <a:xfrm>
              <a:off x="1143000" y="5562720"/>
              <a:ext cx="125892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young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514600" y="5562720"/>
              <a:ext cx="1258920" cy="53964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ld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86200" y="5562720"/>
              <a:ext cx="12589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midd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2482920" y="4724280"/>
            <a:ext cx="6095880" cy="1145520"/>
            <a:chOff x="2482920" y="4724280"/>
            <a:chExt cx="6095880" cy="1145520"/>
          </a:xfrm>
        </p:grpSpPr>
        <p:sp>
          <p:nvSpPr>
            <p:cNvPr id="727" name=""/>
            <p:cNvSpPr/>
            <p:nvPr/>
          </p:nvSpPr>
          <p:spPr>
            <a:xfrm>
              <a:off x="2482920" y="472428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82920" y="5181480"/>
              <a:ext cx="6095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593040" y="5349240"/>
              <a:ext cx="182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FIFO: 8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500"/>
                            </p:stCondLst>
                            <p:childTnLst>
                              <p:par>
                                <p:cTn id="1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500"/>
                            </p:stCondLst>
                            <p:childTnLst>
                              <p:par>
                                <p:cTn id="1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500"/>
                            </p:stCondLst>
                            <p:childTnLst>
                              <p:par>
                                <p:cTn id="1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"/>
                            </p:stCondLst>
                            <p:childTnLst>
                              <p:par>
                                <p:cTn id="1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500"/>
                            </p:stCondLst>
                            <p:childTnLst>
                              <p:par>
                                <p:cTn id="1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00"/>
                            </p:stCondLst>
                            <p:childTnLst>
                              <p:par>
                                <p:cTn id="1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500"/>
                            </p:stCondLst>
                            <p:childTnLst>
                              <p:par>
                                <p:cTn id="1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500"/>
                            </p:stCondLst>
                            <p:childTnLst>
                              <p:par>
                                <p:cTn id="1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IF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asy to impl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ot opti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ometimes bad 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Anomaly of Bela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ore frames but More P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>
            <a:off x="2340000" y="4470480"/>
            <a:ext cx="0" cy="1604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227320" y="5954760"/>
            <a:ext cx="4402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033520" y="5561640"/>
            <a:ext cx="12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1883160" y="4359960"/>
            <a:ext cx="485280" cy="16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Page Fa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340000" y="5513400"/>
            <a:ext cx="41194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666880" y="4419720"/>
            <a:ext cx="2895840" cy="1143000"/>
          </a:xfrm>
          <a:custGeom>
            <a:avLst/>
            <a:gdLst/>
            <a:ahLst/>
            <a:rect l="l" t="t" r="r" b="b"/>
            <a:pathLst>
              <a:path w="1824" h="720">
                <a:moveTo>
                  <a:pt x="0" y="0"/>
                </a:moveTo>
                <a:cubicBezTo>
                  <a:pt x="104" y="188"/>
                  <a:pt x="208" y="376"/>
                  <a:pt x="288" y="432"/>
                </a:cubicBezTo>
                <a:cubicBezTo>
                  <a:pt x="368" y="488"/>
                  <a:pt x="408" y="328"/>
                  <a:pt x="480" y="336"/>
                </a:cubicBezTo>
                <a:cubicBezTo>
                  <a:pt x="552" y="344"/>
                  <a:pt x="592" y="424"/>
                  <a:pt x="720" y="480"/>
                </a:cubicBezTo>
                <a:cubicBezTo>
                  <a:pt x="848" y="536"/>
                  <a:pt x="1064" y="632"/>
                  <a:pt x="1248" y="672"/>
                </a:cubicBezTo>
                <a:cubicBezTo>
                  <a:pt x="1432" y="712"/>
                  <a:pt x="1628" y="716"/>
                  <a:pt x="1824" y="720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95480" y="4572000"/>
            <a:ext cx="990720" cy="914400"/>
          </a:xfrm>
          <a:prstGeom prst="ellipse">
            <a:avLst/>
          </a:prstGeom>
          <a:noFill/>
          <a:ln w="7632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8" dur="500"/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1" dur="500"/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Optim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ctim = Page that will not be used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or longest perio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>
            <a:off x="6858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85800" y="433692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85800" y="380376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2952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95280" y="4336920"/>
            <a:ext cx="54000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2952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051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051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051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5146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146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51460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124080" y="327024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124080" y="4336920"/>
            <a:ext cx="54000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1240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7339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73392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7339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4340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34340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3434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9528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952880" y="4336920"/>
            <a:ext cx="54000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9528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56272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627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6272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1722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17220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1722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816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781680" y="4336920"/>
            <a:ext cx="54000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781680" y="380376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3915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3915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39152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0010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00100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0010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57200" y="2736720"/>
            <a:ext cx="7854840" cy="540000"/>
            <a:chOff x="457200" y="2736720"/>
            <a:chExt cx="7854840" cy="540000"/>
          </a:xfrm>
        </p:grpSpPr>
        <p:sp>
          <p:nvSpPr>
            <p:cNvPr id="781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0666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6765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860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954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5053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148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242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341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436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5530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629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724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7621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3716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810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5909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8098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0292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580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0773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1143000" y="5562720"/>
            <a:ext cx="4687920" cy="539640"/>
            <a:chOff x="1143000" y="5562720"/>
            <a:chExt cx="4687920" cy="539640"/>
          </a:xfrm>
        </p:grpSpPr>
        <p:sp>
          <p:nvSpPr>
            <p:cNvPr id="803" name=""/>
            <p:cNvSpPr/>
            <p:nvPr/>
          </p:nvSpPr>
          <p:spPr>
            <a:xfrm>
              <a:off x="1143000" y="5562720"/>
              <a:ext cx="144000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near fu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895480" y="5562720"/>
              <a:ext cx="1440000" cy="53964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far fu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72000" y="5562720"/>
              <a:ext cx="12589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482920" y="4724280"/>
            <a:ext cx="6095520" cy="1145520"/>
            <a:chOff x="2482920" y="4724280"/>
            <a:chExt cx="6095520" cy="1145520"/>
          </a:xfrm>
        </p:grpSpPr>
        <p:grpSp>
          <p:nvGrpSpPr>
            <p:cNvPr id="807" name=""/>
            <p:cNvGrpSpPr/>
            <p:nvPr/>
          </p:nvGrpSpPr>
          <p:grpSpPr>
            <a:xfrm>
              <a:off x="2482920" y="4724280"/>
              <a:ext cx="6095520" cy="457200"/>
              <a:chOff x="2482920" y="4724280"/>
              <a:chExt cx="6095520" cy="457200"/>
            </a:xfrm>
          </p:grpSpPr>
          <p:sp>
            <p:nvSpPr>
              <p:cNvPr id="808" name=""/>
              <p:cNvSpPr/>
              <p:nvPr/>
            </p:nvSpPr>
            <p:spPr>
              <a:xfrm>
                <a:off x="2482920" y="47242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482920" y="5181480"/>
                <a:ext cx="6095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0" name=""/>
            <p:cNvSpPr/>
            <p:nvPr/>
          </p:nvSpPr>
          <p:spPr>
            <a:xfrm>
              <a:off x="6632640" y="5349240"/>
              <a:ext cx="1753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OPT: 5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500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4" fill="hold">
                            <p:stCondLst>
                              <p:cond delay="500"/>
                            </p:stCondLst>
                            <p:childTnLst>
                              <p:par>
                                <p:cTn id="1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500"/>
                            </p:stCondLst>
                            <p:childTnLst>
                              <p:par>
                                <p:cTn id="1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500"/>
                            </p:stCondLst>
                            <p:childTnLst>
                              <p:par>
                                <p:cTn id="1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500"/>
                            </p:stCondLst>
                            <p:childTnLst>
                              <p:par>
                                <p:cTn id="1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500"/>
                            </p:stCondLst>
                            <p:childTnLst>
                              <p:par>
                                <p:cTn id="1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500"/>
                            </p:stCondLst>
                            <p:childTnLst>
                              <p:par>
                                <p:cTn id="1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Optim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mplement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Use as Re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7" dur="indefinite" restart="never" nodeType="tmRoot">
          <p:childTnLst>
            <p:seq>
              <p:cTn id="1668" dur="indefinite" nodeType="mainSeq">
                <p:childTnLst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6" dur="500"/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1" dur="500"/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R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ctim = Page that has not been used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or longest perio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6858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85800" y="4336920"/>
            <a:ext cx="53964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85800" y="3803760"/>
            <a:ext cx="539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2952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295280" y="4336920"/>
            <a:ext cx="54000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2952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90512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0512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514600" y="327024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5146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51460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24080" y="327024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124080" y="4336920"/>
            <a:ext cx="54000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124080" y="380376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73392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73392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73392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3434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434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34340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9528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952880" y="4336920"/>
            <a:ext cx="54000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952880" y="380376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627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56272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562720" y="38037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1722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172200" y="4336920"/>
            <a:ext cx="539640" cy="540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17220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781680" y="3270240"/>
            <a:ext cx="54000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781680" y="4336920"/>
            <a:ext cx="54000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781680" y="3803760"/>
            <a:ext cx="54000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91520" y="327024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91520" y="4336920"/>
            <a:ext cx="539640" cy="54000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391520" y="38037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8001000" y="327024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001000" y="433692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001000" y="3803760"/>
            <a:ext cx="539640" cy="539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457200" y="2736720"/>
            <a:ext cx="7854840" cy="540000"/>
            <a:chOff x="457200" y="2736720"/>
            <a:chExt cx="7854840" cy="540000"/>
          </a:xfrm>
        </p:grpSpPr>
        <p:sp>
          <p:nvSpPr>
            <p:cNvPr id="855" name=""/>
            <p:cNvSpPr/>
            <p:nvPr/>
          </p:nvSpPr>
          <p:spPr>
            <a:xfrm>
              <a:off x="4572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0666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6765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2860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8954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5053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1148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7242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3341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9436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553080" y="2736720"/>
              <a:ext cx="54000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16292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72400" y="2736720"/>
              <a:ext cx="539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7621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3716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10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5909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0292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773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1143000" y="5562720"/>
            <a:ext cx="4687920" cy="539640"/>
            <a:chOff x="1143000" y="5562720"/>
            <a:chExt cx="4687920" cy="539640"/>
          </a:xfrm>
        </p:grpSpPr>
        <p:sp>
          <p:nvSpPr>
            <p:cNvPr id="877" name=""/>
            <p:cNvSpPr/>
            <p:nvPr/>
          </p:nvSpPr>
          <p:spPr>
            <a:xfrm>
              <a:off x="1143000" y="5562720"/>
              <a:ext cx="1619280" cy="53964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centl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895480" y="5562720"/>
              <a:ext cx="1619280" cy="53964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Longest n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572000" y="5562720"/>
              <a:ext cx="1258920" cy="5396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ot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482920" y="4724280"/>
            <a:ext cx="6095520" cy="1145520"/>
            <a:chOff x="2482920" y="4724280"/>
            <a:chExt cx="6095520" cy="1145520"/>
          </a:xfrm>
        </p:grpSpPr>
        <p:grpSp>
          <p:nvGrpSpPr>
            <p:cNvPr id="881" name=""/>
            <p:cNvGrpSpPr/>
            <p:nvPr/>
          </p:nvGrpSpPr>
          <p:grpSpPr>
            <a:xfrm>
              <a:off x="2482920" y="4724280"/>
              <a:ext cx="6095520" cy="457200"/>
              <a:chOff x="2482920" y="4724280"/>
              <a:chExt cx="6095520" cy="457200"/>
            </a:xfrm>
          </p:grpSpPr>
          <p:sp>
            <p:nvSpPr>
              <p:cNvPr id="882" name=""/>
              <p:cNvSpPr/>
              <p:nvPr/>
            </p:nvSpPr>
            <p:spPr>
              <a:xfrm>
                <a:off x="2482920" y="4724280"/>
                <a:ext cx="0" cy="457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482920" y="5181480"/>
                <a:ext cx="60955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6644160" y="5349240"/>
              <a:ext cx="17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800" spc="-1" strike="noStrike">
                  <a:solidFill>
                    <a:srgbClr val="000000"/>
                  </a:solidFill>
                  <a:latin typeface="Tahoma"/>
                </a:rPr>
                <a:t>LRU: 7 P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5638680" y="2590920"/>
            <a:ext cx="30492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248520" y="2590920"/>
            <a:ext cx="304560" cy="4572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500"/>
                            </p:stCondLst>
                            <p:childTnLst>
                              <p:par>
                                <p:cTn id="1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500"/>
                            </p:stCondLst>
                            <p:childTnLst>
                              <p:par>
                                <p:cTn id="1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500"/>
                            </p:stCondLst>
                            <p:childTnLst>
                              <p:par>
                                <p:cTn id="1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7" fill="hold">
                            <p:stCondLst>
                              <p:cond delay="500"/>
                            </p:stCondLst>
                            <p:childTnLst>
                              <p:par>
                                <p:cTn id="1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3" fill="hold">
                            <p:stCondLst>
                              <p:cond delay="500"/>
                            </p:stCondLst>
                            <p:childTnLst>
                              <p:par>
                                <p:cTn id="18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500"/>
                            </p:stCondLst>
                            <p:childTnLst>
                              <p:par>
                                <p:cTn id="1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500"/>
                            </p:stCondLst>
                            <p:childTnLst>
                              <p:par>
                                <p:cTn id="18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500"/>
                            </p:stCondLst>
                            <p:childTnLst>
                              <p:par>
                                <p:cTn id="1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7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LR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741760" y="2682720"/>
            <a:ext cx="1800000" cy="1090800"/>
            <a:chOff x="2741760" y="2682720"/>
            <a:chExt cx="1800000" cy="1090800"/>
          </a:xfrm>
        </p:grpSpPr>
        <p:sp>
          <p:nvSpPr>
            <p:cNvPr id="889" name=""/>
            <p:cNvSpPr/>
            <p:nvPr/>
          </p:nvSpPr>
          <p:spPr>
            <a:xfrm>
              <a:off x="2741760" y="2682720"/>
              <a:ext cx="53964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82840" y="2682720"/>
              <a:ext cx="36036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41760" y="3048120"/>
              <a:ext cx="53964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282840" y="3048120"/>
              <a:ext cx="36036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41760" y="3413160"/>
              <a:ext cx="53964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82840" y="3413160"/>
              <a:ext cx="360360" cy="360360"/>
            </a:xfrm>
            <a:prstGeom prst="rect">
              <a:avLst/>
            </a:prstGeom>
            <a:solidFill>
              <a:srgbClr val="aff2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41760" y="26827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44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41760" y="304812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4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641760" y="341316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4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mplement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.g. Logical C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2286000" y="2666880"/>
            <a:ext cx="539640" cy="1090800"/>
            <a:chOff x="2286000" y="2666880"/>
            <a:chExt cx="539640" cy="1090800"/>
          </a:xfrm>
        </p:grpSpPr>
        <p:sp>
          <p:nvSpPr>
            <p:cNvPr id="900" name=""/>
            <p:cNvSpPr/>
            <p:nvPr/>
          </p:nvSpPr>
          <p:spPr>
            <a:xfrm>
              <a:off x="2286000" y="26668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286000" y="303228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286000" y="3397320"/>
              <a:ext cx="5396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6019920" y="2362320"/>
            <a:ext cx="2158920" cy="143964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400800" y="327672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543800" y="2895480"/>
            <a:ext cx="5396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33840" y="341316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410160" y="328608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24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 rot="21349800">
            <a:off x="4037400" y="3049560"/>
            <a:ext cx="2590920" cy="381240"/>
          </a:xfrm>
          <a:custGeom>
            <a:avLst/>
            <a:gdLst>
              <a:gd name="textAreaLeft" fmla="*/ 453240 w 2590920"/>
              <a:gd name="textAreaRight" fmla="*/ 1878480 w 259092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6860880" y="3467160"/>
            <a:ext cx="802440" cy="877320"/>
            <a:chOff x="6860880" y="3467160"/>
            <a:chExt cx="802440" cy="877320"/>
          </a:xfrm>
        </p:grpSpPr>
        <p:cxnSp>
          <p:nvCxnSpPr>
            <p:cNvPr id="910" name=""/>
            <p:cNvCxnSpPr>
              <a:stCxn id="907" idx="3"/>
              <a:endCxn id="907" idx="2"/>
            </p:cNvCxnSpPr>
            <p:nvPr/>
          </p:nvCxnSpPr>
          <p:spPr>
            <a:xfrm flipH="1">
              <a:off x="6860880" y="3467160"/>
              <a:ext cx="450000" cy="180000"/>
            </a:xfrm>
            <a:prstGeom prst="curvedConnector5">
              <a:avLst>
                <a:gd name="adj1" fmla="val -50840"/>
                <a:gd name="adj2" fmla="val 153907"/>
                <a:gd name="adj3" fmla="val -50840"/>
              </a:avLst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24400" y="394560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+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8" dur="indefinite" restart="never" nodeType="tmRoot">
          <p:childTnLst>
            <p:seq>
              <p:cTn id="1909" dur="indefinite" nodeType="mainSeq">
                <p:childTnLst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500"/>
                            </p:stCondLst>
                            <p:childTnLst>
                              <p:par>
                                <p:cTn id="19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33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8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500"/>
                            </p:stCondLst>
                            <p:childTnLst>
                              <p:par>
                                <p:cTn id="19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fill="hold">
                            <p:stCondLst>
                              <p:cond delay="500"/>
                            </p:stCondLst>
                            <p:childTnLst>
                              <p:par>
                                <p:cTn id="19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PT &amp; LR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dy’s anomal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VER!!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ck Algorithms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{pages in mem}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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{pages in mem}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ahoma"/>
              </a:rPr>
              <a:t>n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5" dur="indefinite" restart="never" nodeType="tmRoot">
          <p:childTnLst>
            <p:seq>
              <p:cTn id="1956" dur="indefinite" nodeType="mainSeq">
                <p:childTnLst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1" dur="5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6" dur="500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1" dur="500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pproximations of LR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ased on Referenc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OS: load-time: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4511520" y="2587680"/>
            <a:ext cx="540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510080" y="313200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10080" y="36720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510080" y="42102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1805040" y="2587680"/>
            <a:ext cx="2703600" cy="2162160"/>
            <a:chOff x="1805040" y="2587680"/>
            <a:chExt cx="2703600" cy="2162160"/>
          </a:xfrm>
        </p:grpSpPr>
        <p:sp>
          <p:nvSpPr>
            <p:cNvPr id="921" name=""/>
            <p:cNvSpPr/>
            <p:nvPr/>
          </p:nvSpPr>
          <p:spPr>
            <a:xfrm>
              <a:off x="1806480" y="2587680"/>
              <a:ext cx="107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87560" y="2587680"/>
              <a:ext cx="5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v/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429000" y="2587680"/>
              <a:ext cx="107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pro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805040" y="313200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886120" y="3132000"/>
              <a:ext cx="53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27560" y="313200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W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805040" y="36720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886120" y="3672000"/>
              <a:ext cx="53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427560" y="36720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W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05040" y="42102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86120" y="4210200"/>
              <a:ext cx="53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27560" y="42102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 -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1447920" y="3139920"/>
            <a:ext cx="325440" cy="1617840"/>
            <a:chOff x="1447920" y="3139920"/>
            <a:chExt cx="325440" cy="1617840"/>
          </a:xfrm>
        </p:grpSpPr>
        <p:sp>
          <p:nvSpPr>
            <p:cNvPr id="934" name=""/>
            <p:cNvSpPr/>
            <p:nvPr/>
          </p:nvSpPr>
          <p:spPr>
            <a:xfrm>
              <a:off x="1447920" y="3139920"/>
              <a:ext cx="3254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447920" y="371160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447920" y="421812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2605680" y="440316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175360" y="25830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m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049720" y="313704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049720" y="367668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049720" y="4214880"/>
            <a:ext cx="54000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120" y="5334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Sometimes Modify Bit (Dirty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096960" y="2891160"/>
            <a:ext cx="2209320" cy="703800"/>
          </a:xfrm>
          <a:prstGeom prst="borderCallout1">
            <a:avLst>
              <a:gd name="adj1" fmla="val 18750"/>
              <a:gd name="adj2" fmla="val -8333"/>
              <a:gd name="adj3" fmla="val 162828"/>
              <a:gd name="adj4" fmla="val -47097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t by MMU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hen refere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262560" y="4339080"/>
            <a:ext cx="1756440" cy="703800"/>
          </a:xfrm>
          <a:prstGeom prst="borderCallout1">
            <a:avLst>
              <a:gd name="adj1" fmla="val 18750"/>
              <a:gd name="adj2" fmla="val -8333"/>
              <a:gd name="adj3" fmla="val -34250"/>
              <a:gd name="adj4" fmla="val -41000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Set by MMU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when wri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8" dur="500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1" dur="5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90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4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8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8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9" fill="hold">
                            <p:stCondLst>
                              <p:cond delay="500"/>
                            </p:stCondLst>
                            <p:childTnLst>
                              <p:par>
                                <p:cTn id="20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8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ference Bi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ly reset ref. bit to ze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ctim is page with ref. bit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dvantage: Exact order unkn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mprovement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Additional Reference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2nd Chance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279f"/>
                </a:solidFill>
                <a:latin typeface="Tahoma"/>
              </a:rPr>
              <a:t>Improved 2nd Chance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9" dur="indefinite" restart="never" nodeType="tmRoot">
          <p:childTnLst>
            <p:seq>
              <p:cTn id="2050" dur="indefinite" nodeType="mainSeq">
                <p:childTnLst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5" dur="500"/>
                                        <p:tgtEl>
                                          <p:spTgt spid="9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0" dur="500"/>
                                        <p:tgtEl>
                                          <p:spTgt spid="9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5" dur="500"/>
                                        <p:tgtEl>
                                          <p:spTgt spid="9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0" dur="500"/>
                                        <p:tgtEl>
                                          <p:spTgt spid="9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3" dur="500"/>
                                        <p:tgtEl>
                                          <p:spTgt spid="9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6" dur="500"/>
                                        <p:tgtEl>
                                          <p:spTgt spid="9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79" dur="500"/>
                                        <p:tgtEl>
                                          <p:spTgt spid="9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3816360" y="2198520"/>
            <a:ext cx="539640" cy="2695680"/>
            <a:chOff x="3816360" y="2198520"/>
            <a:chExt cx="539640" cy="2695680"/>
          </a:xfrm>
        </p:grpSpPr>
        <p:sp>
          <p:nvSpPr>
            <p:cNvPr id="948" name=""/>
            <p:cNvSpPr/>
            <p:nvPr/>
          </p:nvSpPr>
          <p:spPr>
            <a:xfrm>
              <a:off x="3816360" y="274320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816360" y="2198520"/>
              <a:ext cx="53964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816360" y="327816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816360" y="3821040"/>
              <a:ext cx="53964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816360" y="4354560"/>
              <a:ext cx="53964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Additional Reference Bi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3827520" y="16542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r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305360" y="4571280"/>
            <a:ext cx="5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16360" y="273852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762120" y="1654200"/>
            <a:ext cx="3062160" cy="3246480"/>
            <a:chOff x="762120" y="1654200"/>
            <a:chExt cx="3062160" cy="3246480"/>
          </a:xfrm>
        </p:grpSpPr>
        <p:sp>
          <p:nvSpPr>
            <p:cNvPr id="958" name=""/>
            <p:cNvSpPr/>
            <p:nvPr/>
          </p:nvSpPr>
          <p:spPr>
            <a:xfrm>
              <a:off x="1122480" y="1654200"/>
              <a:ext cx="107928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203560" y="165420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v/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744640" y="1654200"/>
              <a:ext cx="107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400" spc="-1" strike="noStrike">
                  <a:solidFill>
                    <a:srgbClr val="000000"/>
                  </a:solidFill>
                  <a:latin typeface="Tahoma"/>
                </a:rPr>
                <a:t>pro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120680" y="2198520"/>
              <a:ext cx="107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01760" y="2198520"/>
              <a:ext cx="54000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743200" y="2198520"/>
              <a:ext cx="107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  -  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120680" y="27385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01760" y="2738520"/>
              <a:ext cx="54000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743200" y="27385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-   -   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3560" y="220680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63560" y="277812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120680" y="32767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01760" y="3276720"/>
              <a:ext cx="54000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743200" y="3276720"/>
              <a:ext cx="107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 W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3560" y="328464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119240" y="38196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200320" y="3819600"/>
              <a:ext cx="53964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741760" y="3819600"/>
              <a:ext cx="1079280" cy="53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 W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62120" y="382752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19240" y="435276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200320" y="4352760"/>
              <a:ext cx="53964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741760" y="4352760"/>
              <a:ext cx="1079280" cy="54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R   -   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62120" y="4361040"/>
              <a:ext cx="3254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5106960" y="1447920"/>
            <a:ext cx="107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additional</a:t>
            </a:r>
            <a:br>
              <a:rPr sz="2400"/>
            </a:br>
            <a:r>
              <a:rPr b="0" i="1" lang="nl-BE" sz="2400" spc="-1" strike="noStrike">
                <a:solidFill>
                  <a:srgbClr val="000000"/>
                </a:solidFill>
                <a:latin typeface="Tahoma"/>
              </a:rPr>
              <a:t>ref.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5103720" y="2195640"/>
            <a:ext cx="720720" cy="2700360"/>
            <a:chOff x="5103720" y="2195640"/>
            <a:chExt cx="720720" cy="2700360"/>
          </a:xfrm>
        </p:grpSpPr>
        <p:sp>
          <p:nvSpPr>
            <p:cNvPr id="983" name=""/>
            <p:cNvSpPr/>
            <p:nvPr/>
          </p:nvSpPr>
          <p:spPr>
            <a:xfrm>
              <a:off x="5105520" y="2195640"/>
              <a:ext cx="71892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105520" y="2735280"/>
              <a:ext cx="71892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105520" y="3279600"/>
              <a:ext cx="71892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103720" y="3822840"/>
              <a:ext cx="719280" cy="539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103720" y="4356000"/>
              <a:ext cx="719280" cy="540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4267080" y="2743200"/>
            <a:ext cx="914400" cy="304920"/>
          </a:xfrm>
          <a:custGeom>
            <a:avLst/>
            <a:gdLst>
              <a:gd name="textAreaLeft" fmla="*/ 159840 w 914400"/>
              <a:gd name="textAreaRight" fmla="*/ 663120 w 9144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6477120" y="2895480"/>
            <a:ext cx="1295280" cy="1524240"/>
            <a:chOff x="6477120" y="2895480"/>
            <a:chExt cx="1295280" cy="1524240"/>
          </a:xfrm>
        </p:grpSpPr>
        <p:sp>
          <p:nvSpPr>
            <p:cNvPr id="990" name=""/>
            <p:cNvSpPr/>
            <p:nvPr/>
          </p:nvSpPr>
          <p:spPr>
            <a:xfrm>
              <a:off x="6477120" y="2895480"/>
              <a:ext cx="1295280" cy="152424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1"/>
            <a:stretch/>
          </p:blipFill>
          <p:spPr>
            <a:xfrm>
              <a:off x="7010280" y="3352680"/>
              <a:ext cx="474840" cy="897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2" name=""/>
          <p:cNvSpPr/>
          <p:nvPr/>
        </p:nvSpPr>
        <p:spPr>
          <a:xfrm>
            <a:off x="340560" y="5256360"/>
            <a:ext cx="742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imer-Interrupt:  OS copies and clears ref. Bit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ge replacement: smallest number  (ref, add.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019920" y="2362320"/>
            <a:ext cx="1752480" cy="380880"/>
          </a:xfrm>
          <a:prstGeom prst="leftArrow">
            <a:avLst>
              <a:gd name="adj1" fmla="val 50000"/>
              <a:gd name="adj2" fmla="val 115028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816360" y="27432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816360" y="220032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816360" y="328932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816360" y="383220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16360" y="434340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816360" y="4352760"/>
            <a:ext cx="53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105520" y="2195640"/>
            <a:ext cx="7189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105520" y="2735280"/>
            <a:ext cx="7189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05520" y="3279600"/>
            <a:ext cx="71892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105520" y="3822840"/>
            <a:ext cx="71892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105520" y="4356000"/>
            <a:ext cx="718920" cy="5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105520" y="2195640"/>
            <a:ext cx="71892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105520" y="2735280"/>
            <a:ext cx="71892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105520" y="3279600"/>
            <a:ext cx="71892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105520" y="3822840"/>
            <a:ext cx="71892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105520" y="4356000"/>
            <a:ext cx="71892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718160" y="274644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718160" y="2201760"/>
            <a:ext cx="53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718160" y="328140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18160" y="382428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718160" y="4357800"/>
            <a:ext cx="53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202800" y="2970720"/>
            <a:ext cx="23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New reference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482880" y="385020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482880" y="3852000"/>
            <a:ext cx="99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570360" y="198000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"/>
          <p:cNvGrpSpPr/>
          <p:nvPr/>
        </p:nvGrpSpPr>
        <p:grpSpPr>
          <a:xfrm>
            <a:off x="6019920" y="3352320"/>
            <a:ext cx="1752480" cy="1708920"/>
            <a:chOff x="6019920" y="3352320"/>
            <a:chExt cx="1752480" cy="1708920"/>
          </a:xfrm>
        </p:grpSpPr>
        <p:sp>
          <p:nvSpPr>
            <p:cNvPr id="1020" name=""/>
            <p:cNvSpPr/>
            <p:nvPr/>
          </p:nvSpPr>
          <p:spPr>
            <a:xfrm>
              <a:off x="6019920" y="3962520"/>
              <a:ext cx="1752480" cy="380880"/>
            </a:xfrm>
            <a:prstGeom prst="leftArrow">
              <a:avLst>
                <a:gd name="adj1" fmla="val 50000"/>
                <a:gd name="adj2" fmla="val 115028"/>
              </a:avLst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521760" y="3352320"/>
              <a:ext cx="76428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6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0" dur="indefinite" restart="never" nodeType="tmRoot">
          <p:childTnLst>
            <p:seq>
              <p:cTn id="2081" dur="indefinite" nodeType="mainSeq">
                <p:childTnLst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5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0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0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5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5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6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2" fill="hold">
                      <p:stCondLst>
                        <p:cond delay="indefinite"/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8" fill="hold">
                      <p:stCondLst>
                        <p:cond delay="indefinite"/>
                      </p:stCondLst>
                      <p:childTnLst>
                        <p:par>
                          <p:cTn id="2209" fill="hold">
                            <p:stCondLst>
                              <p:cond delay="0"/>
                            </p:stCondLst>
                            <p:childTnLst>
                              <p:par>
                                <p:cTn id="2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9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8" fill="hold">
                      <p:stCondLst>
                        <p:cond delay="indefinite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5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rocess only partially in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rts not needed (error-subr., table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rts not needed at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8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8600"/>
                </a:solidFill>
                <a:latin typeface="Tahom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| Process |  &gt; | MEMORY |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ultiprog.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, throughput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Less I/O  (Load, Swap in/out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c01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fc0128"/>
                </a:solidFill>
                <a:latin typeface="Tahoma"/>
              </a:rPr>
              <a:t>Dis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Not easy (impossible?) to implement  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                        (HW-support, extra S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erformance!  (possibly Thras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"/>
          <p:cNvSpPr/>
          <p:nvPr/>
        </p:nvSpPr>
        <p:spPr>
          <a:xfrm>
            <a:off x="1704960" y="2971800"/>
            <a:ext cx="2519280" cy="2519280"/>
          </a:xfrm>
          <a:prstGeom prst="ellipse">
            <a:avLst/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nd Chance (Clock Alg.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irculair List, Replace Current Head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Unless Ref-Bit = 1, Give 2</a:t>
            </a:r>
            <a:r>
              <a:rPr b="0" lang="nl-BE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Ch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>
            <a:off x="2009880" y="502920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762360" y="3962520"/>
            <a:ext cx="539640" cy="53964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305160" y="502920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80880" y="2492280"/>
            <a:ext cx="1079640" cy="54000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f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80880" y="3102120"/>
            <a:ext cx="107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Ref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476360" y="396252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009880" y="300996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305160" y="300996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773440" y="4041720"/>
            <a:ext cx="380880" cy="380880"/>
          </a:xfrm>
          <a:prstGeom prst="ellipse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4" name=""/>
          <p:cNvCxnSpPr>
            <a:stCxn id="1033" idx="6"/>
            <a:endCxn id="1026" idx="1"/>
          </p:cNvCxnSpPr>
          <p:nvPr/>
        </p:nvCxnSpPr>
        <p:spPr>
          <a:xfrm>
            <a:off x="3153960" y="4231800"/>
            <a:ext cx="599400" cy="108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35" name=""/>
          <p:cNvSpPr/>
          <p:nvPr/>
        </p:nvSpPr>
        <p:spPr>
          <a:xfrm>
            <a:off x="3762360" y="3962520"/>
            <a:ext cx="539640" cy="53964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6" name=""/>
          <p:cNvCxnSpPr>
            <a:stCxn id="1033" idx="5"/>
            <a:endCxn id="1027" idx="0"/>
          </p:cNvCxnSpPr>
          <p:nvPr/>
        </p:nvCxnSpPr>
        <p:spPr>
          <a:xfrm>
            <a:off x="3098520" y="4366800"/>
            <a:ext cx="477000" cy="66276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37" name=""/>
          <p:cNvSpPr/>
          <p:nvPr/>
        </p:nvSpPr>
        <p:spPr>
          <a:xfrm>
            <a:off x="3305160" y="50292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8" name=""/>
          <p:cNvCxnSpPr>
            <a:stCxn id="1033" idx="3"/>
            <a:endCxn id="1025" idx="0"/>
          </p:cNvCxnSpPr>
          <p:nvPr/>
        </p:nvCxnSpPr>
        <p:spPr>
          <a:xfrm flipH="1">
            <a:off x="2279160" y="4366800"/>
            <a:ext cx="550080" cy="66276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39" name=""/>
          <p:cNvSpPr/>
          <p:nvPr/>
        </p:nvSpPr>
        <p:spPr>
          <a:xfrm>
            <a:off x="2009880" y="502920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0" name=""/>
          <p:cNvCxnSpPr>
            <a:stCxn id="1033" idx="2"/>
            <a:endCxn id="1030" idx="3"/>
          </p:cNvCxnSpPr>
          <p:nvPr/>
        </p:nvCxnSpPr>
        <p:spPr>
          <a:xfrm flipH="1">
            <a:off x="2015640" y="4231800"/>
            <a:ext cx="758160" cy="108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41" name=""/>
          <p:cNvSpPr/>
          <p:nvPr/>
        </p:nvSpPr>
        <p:spPr>
          <a:xfrm>
            <a:off x="1476360" y="3962520"/>
            <a:ext cx="539640" cy="53964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2" name=""/>
          <p:cNvCxnSpPr>
            <a:stCxn id="1033" idx="1"/>
            <a:endCxn id="1031" idx="2"/>
          </p:cNvCxnSpPr>
          <p:nvPr/>
        </p:nvCxnSpPr>
        <p:spPr>
          <a:xfrm flipH="1" flipV="1">
            <a:off x="2279160" y="3548880"/>
            <a:ext cx="550080" cy="548280"/>
          </a:xfrm>
          <a:prstGeom prst="straightConnector1">
            <a:avLst/>
          </a:prstGeom>
          <a:ln w="57240">
            <a:solidFill>
              <a:srgbClr val="fafd00"/>
            </a:solidFill>
            <a:miter/>
            <a:tailEnd len="med" type="triangle" w="med"/>
          </a:ln>
        </p:spPr>
      </p:cxnSp>
      <p:sp>
        <p:nvSpPr>
          <p:cNvPr id="1043" name=""/>
          <p:cNvSpPr/>
          <p:nvPr/>
        </p:nvSpPr>
        <p:spPr>
          <a:xfrm>
            <a:off x="250920" y="4581360"/>
            <a:ext cx="1447560" cy="1828800"/>
          </a:xfrm>
          <a:prstGeom prst="lightningBol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116000" y="4869000"/>
            <a:ext cx="539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476360" y="3962520"/>
            <a:ext cx="539640" cy="5396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/>
          <p:nvPr/>
        </p:nvCxnSpPr>
        <p:spPr>
          <a:xfrm>
            <a:off x="3152880" y="4233600"/>
            <a:ext cx="598680" cy="1080"/>
          </a:xfrm>
          <a:prstGeom prst="straightConnector1">
            <a:avLst/>
          </a:prstGeom>
          <a:ln w="57240">
            <a:solidFill>
              <a:srgbClr val="919191"/>
            </a:solidFill>
            <a:miter/>
            <a:tailEnd len="med" type="triangle" w="med"/>
          </a:ln>
        </p:spPr>
      </p:cxnSp>
      <p:grpSp>
        <p:nvGrpSpPr>
          <p:cNvPr id="1047" name=""/>
          <p:cNvGrpSpPr/>
          <p:nvPr/>
        </p:nvGrpSpPr>
        <p:grpSpPr>
          <a:xfrm>
            <a:off x="6659640" y="3578400"/>
            <a:ext cx="1347840" cy="1218960"/>
            <a:chOff x="6659640" y="3578400"/>
            <a:chExt cx="1347840" cy="1218960"/>
          </a:xfrm>
        </p:grpSpPr>
        <p:sp>
          <p:nvSpPr>
            <p:cNvPr id="1048" name=""/>
            <p:cNvSpPr/>
            <p:nvPr/>
          </p:nvSpPr>
          <p:spPr>
            <a:xfrm>
              <a:off x="6659640" y="3578400"/>
              <a:ext cx="1295640" cy="1218960"/>
            </a:xfrm>
            <a:prstGeom prst="ellipse">
              <a:avLst/>
            </a:prstGeom>
            <a:solidFill>
              <a:srgbClr val="aff2aa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 flipV="1">
              <a:off x="6711840" y="3930480"/>
              <a:ext cx="647640" cy="3045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359840" y="4216320"/>
              <a:ext cx="647640" cy="108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231320" y="4111560"/>
              <a:ext cx="152280" cy="151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"/>
          <p:cNvSpPr/>
          <p:nvPr/>
        </p:nvSpPr>
        <p:spPr>
          <a:xfrm>
            <a:off x="7408800" y="35067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f. bit </a:t>
            </a:r>
            <a:r>
              <a:rPr b="0" lang="en-US" sz="2000" spc="-1" strike="noStrike">
                <a:solidFill>
                  <a:srgbClr val="00279f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623840" y="3578400"/>
            <a:ext cx="190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if (ref. bit == 0)</a:t>
            </a:r>
            <a:br>
              <a:rPr sz="2000"/>
            </a:b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add to fre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493040" y="3984480"/>
            <a:ext cx="233280" cy="508320"/>
          </a:xfrm>
          <a:custGeom>
            <a:avLst/>
            <a:gdLst/>
            <a:ahLst/>
            <a:rect l="l" t="t" r="r" b="b"/>
            <a:pathLst>
              <a:path w="56" h="144">
                <a:moveTo>
                  <a:pt x="48" y="0"/>
                </a:moveTo>
                <a:cubicBezTo>
                  <a:pt x="52" y="36"/>
                  <a:pt x="56" y="72"/>
                  <a:pt x="48" y="96"/>
                </a:cubicBezTo>
                <a:cubicBezTo>
                  <a:pt x="40" y="120"/>
                  <a:pt x="20" y="132"/>
                  <a:pt x="0" y="144"/>
                </a:cubicBezTo>
              </a:path>
            </a:pathLst>
          </a:custGeom>
          <a:noFill/>
          <a:ln w="19080">
            <a:solidFill>
              <a:srgbClr val="00279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H="1" flipV="1" rot="795600">
            <a:off x="6854400" y="3798720"/>
            <a:ext cx="228600" cy="533520"/>
          </a:xfrm>
          <a:custGeom>
            <a:avLst/>
            <a:gdLst/>
            <a:ahLst/>
            <a:rect l="l" t="t" r="r" b="b"/>
            <a:pathLst>
              <a:path w="56" h="144">
                <a:moveTo>
                  <a:pt x="48" y="0"/>
                </a:moveTo>
                <a:cubicBezTo>
                  <a:pt x="52" y="36"/>
                  <a:pt x="56" y="72"/>
                  <a:pt x="48" y="96"/>
                </a:cubicBezTo>
                <a:cubicBezTo>
                  <a:pt x="40" y="120"/>
                  <a:pt x="20" y="132"/>
                  <a:pt x="0" y="144"/>
                </a:cubicBezTo>
              </a:path>
            </a:pathLst>
          </a:custGeom>
          <a:noFill/>
          <a:ln w="1908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87240" y="2421000"/>
            <a:ext cx="246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voi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Chanc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if not necessa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287680" y="4843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479920" y="5300640"/>
            <a:ext cx="245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Tahoma"/>
              </a:rPr>
              <a:t>ref. bit + modify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5" dur="indefinite" restart="never" nodeType="tmRoot">
          <p:childTnLst>
            <p:seq>
              <p:cTn id="2286" dur="indefinite" nodeType="mainSeq">
                <p:childTnLst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500"/>
                            </p:stCondLst>
                            <p:childTnLst>
                              <p:par>
                                <p:cTn id="2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5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09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3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0" fill="hold">
                            <p:stCondLst>
                              <p:cond delay="500"/>
                            </p:stCondLst>
                            <p:childTnLst>
                              <p:par>
                                <p:cTn id="2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3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52" fill="hold">
                            <p:stCondLst>
                              <p:cond delay="500"/>
                            </p:stCondLst>
                            <p:childTnLst>
                              <p:par>
                                <p:cTn id="2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500"/>
                            </p:stCondLst>
                            <p:childTnLst>
                              <p:par>
                                <p:cTn id="2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7" fill="hold">
                            <p:stCondLst>
                              <p:cond delay="500"/>
                            </p:stCondLst>
                            <p:childTnLst>
                              <p:par>
                                <p:cTn id="23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88" fill="hold">
                            <p:stCondLst>
                              <p:cond delay="500"/>
                            </p:stCondLst>
                            <p:childTnLst>
                              <p:par>
                                <p:cTn id="23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2" fill="hold">
                      <p:stCondLst>
                        <p:cond delay="indefinite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fill="hold">
                      <p:stCondLst>
                        <p:cond delay="indefinite"/>
                      </p:stCondLst>
                      <p:childTnLst>
                        <p:par>
                          <p:cTn id="2399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2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3" fill="hold">
                            <p:stCondLst>
                              <p:cond delay="500"/>
                            </p:stCondLst>
                            <p:childTnLst>
                              <p:par>
                                <p:cTn id="2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2" fill="hold">
                      <p:stCondLst>
                        <p:cond delay="indefinite"/>
                      </p:stCondLst>
                      <p:childTnLst>
                        <p:par>
                          <p:cTn id="2413" fill="hold">
                            <p:stCondLst>
                              <p:cond delay="0"/>
                            </p:stCondLst>
                            <p:childTnLst>
                              <p:par>
                                <p:cTn id="2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fill="hold">
                      <p:stCondLst>
                        <p:cond delay="indefinite"/>
                      </p:stCondLst>
                      <p:childTnLst>
                        <p:par>
                          <p:cTn id="2419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Counting Algorith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W-support necess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1" name=""/>
          <p:cNvGrpSpPr/>
          <p:nvPr/>
        </p:nvGrpSpPr>
        <p:grpSpPr>
          <a:xfrm>
            <a:off x="1652760" y="2332080"/>
            <a:ext cx="3095280" cy="2055240"/>
            <a:chOff x="1652760" y="2332080"/>
            <a:chExt cx="3095280" cy="2055240"/>
          </a:xfrm>
        </p:grpSpPr>
        <p:sp>
          <p:nvSpPr>
            <p:cNvPr id="1062" name=""/>
            <p:cNvSpPr/>
            <p:nvPr/>
          </p:nvSpPr>
          <p:spPr>
            <a:xfrm>
              <a:off x="1652760" y="2514960"/>
              <a:ext cx="147132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r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505320" y="2332080"/>
              <a:ext cx="1242720" cy="82548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u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124080" y="2514960"/>
              <a:ext cx="38124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652760" y="2952000"/>
              <a:ext cx="1471320" cy="5101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505320" y="2976840"/>
              <a:ext cx="124272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110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124080" y="2976840"/>
              <a:ext cx="38124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652760" y="3415320"/>
              <a:ext cx="1471320" cy="5101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505320" y="3440520"/>
              <a:ext cx="124272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0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124080" y="3440520"/>
              <a:ext cx="38124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652760" y="3877200"/>
              <a:ext cx="1471320" cy="5101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05320" y="3902400"/>
              <a:ext cx="124272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0000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124080" y="3902400"/>
              <a:ext cx="381240" cy="459720"/>
            </a:xfrm>
            <a:prstGeom prst="rect">
              <a:avLst/>
            </a:prstGeom>
            <a:noFill/>
            <a:ln w="32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3506760" y="3443760"/>
            <a:ext cx="1243080" cy="459720"/>
          </a:xfrm>
          <a:prstGeom prst="rect">
            <a:avLst/>
          </a:prstGeom>
          <a:solidFill>
            <a:srgbClr val="aff2aa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029200" y="3429000"/>
            <a:ext cx="762120" cy="3808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fe7c92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85800" y="47242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FU  (Most Frequently U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LFU (Least Frequently U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6" dur="indefinite" restart="never" nodeType="tmRoot">
          <p:childTnLst>
            <p:seq>
              <p:cTn id="2437" dur="indefinite" nodeType="mainSeq">
                <p:childTnLst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2" dur="500"/>
                                        <p:tgtEl>
                                          <p:spTgt spid="1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5" dur="500"/>
                                        <p:tgtEl>
                                          <p:spTgt spid="1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5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5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0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6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Warn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Not Always Correc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Instruction Boundarie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e Fault, Restart Instr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19000" indent="-2854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FIFO, 3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3733920" y="4648320"/>
            <a:ext cx="1149120" cy="539640"/>
            <a:chOff x="3733920" y="4648320"/>
            <a:chExt cx="1149120" cy="539640"/>
          </a:xfrm>
        </p:grpSpPr>
        <p:sp>
          <p:nvSpPr>
            <p:cNvPr id="1080" name=""/>
            <p:cNvSpPr/>
            <p:nvPr/>
          </p:nvSpPr>
          <p:spPr>
            <a:xfrm>
              <a:off x="3809880" y="4648320"/>
              <a:ext cx="990720" cy="5331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73392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34340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4952880" y="4648320"/>
            <a:ext cx="1758960" cy="539640"/>
            <a:chOff x="4952880" y="4648320"/>
            <a:chExt cx="1758960" cy="539640"/>
          </a:xfrm>
        </p:grpSpPr>
        <p:sp>
          <p:nvSpPr>
            <p:cNvPr id="1084" name=""/>
            <p:cNvSpPr/>
            <p:nvPr/>
          </p:nvSpPr>
          <p:spPr>
            <a:xfrm>
              <a:off x="5029200" y="4648320"/>
              <a:ext cx="1600200" cy="5331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52880" y="4648320"/>
              <a:ext cx="5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56272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17220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8" name=""/>
          <p:cNvGrpSpPr/>
          <p:nvPr/>
        </p:nvGrpSpPr>
        <p:grpSpPr>
          <a:xfrm>
            <a:off x="2584440" y="4648320"/>
            <a:ext cx="1079640" cy="539640"/>
            <a:chOff x="2584440" y="4648320"/>
            <a:chExt cx="1079640" cy="539640"/>
          </a:xfrm>
        </p:grpSpPr>
        <p:sp>
          <p:nvSpPr>
            <p:cNvPr id="1089" name=""/>
            <p:cNvSpPr/>
            <p:nvPr/>
          </p:nvSpPr>
          <p:spPr>
            <a:xfrm>
              <a:off x="2666880" y="4648320"/>
              <a:ext cx="990720" cy="5331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124080" y="4648320"/>
              <a:ext cx="54000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584440" y="4648320"/>
              <a:ext cx="539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3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7" dur="indefinite" restart="never" nodeType="tmRoot">
          <p:childTnLst>
            <p:seq>
              <p:cTn id="2468" dur="indefinite" nodeType="mainSeq">
                <p:childTnLst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3" dur="500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78" dur="500"/>
                                        <p:tgtEl>
                                          <p:spTgt spid="10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1" dur="500"/>
                                        <p:tgtEl>
                                          <p:spTgt spid="10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6" dur="500"/>
                                        <p:tgtEl>
                                          <p:spTgt spid="10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9" dur="500"/>
                                        <p:tgtEl>
                                          <p:spTgt spid="10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0" fill="hold">
                      <p:stCondLst>
                        <p:cond delay="indefinite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5" fill="hold">
                            <p:stCondLst>
                              <p:cond delay="500"/>
                            </p:stCondLst>
                            <p:childTnLst>
                              <p:par>
                                <p:cTn id="2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Frame Allo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IN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= function (Instruction Set)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= max # pages ref. in 1 instr. cy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914400" y="4419720"/>
            <a:ext cx="2400480" cy="1752120"/>
            <a:chOff x="914400" y="4419720"/>
            <a:chExt cx="2400480" cy="1752120"/>
          </a:xfrm>
        </p:grpSpPr>
        <p:sp>
          <p:nvSpPr>
            <p:cNvPr id="1095" name=""/>
            <p:cNvSpPr/>
            <p:nvPr/>
          </p:nvSpPr>
          <p:spPr>
            <a:xfrm>
              <a:off x="914400" y="533376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914400" y="44197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914400" y="5073480"/>
              <a:ext cx="2400480" cy="46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EX MVCIN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3200400" y="3048120"/>
            <a:ext cx="2400480" cy="1752120"/>
            <a:chOff x="3200400" y="3048120"/>
            <a:chExt cx="2400480" cy="1752120"/>
          </a:xfrm>
        </p:grpSpPr>
        <p:sp>
          <p:nvSpPr>
            <p:cNvPr id="1099" name=""/>
            <p:cNvSpPr/>
            <p:nvPr/>
          </p:nvSpPr>
          <p:spPr>
            <a:xfrm>
              <a:off x="3200400" y="396216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200400" y="30481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00400" y="3733560"/>
              <a:ext cx="2400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5943600" y="3048120"/>
            <a:ext cx="2400480" cy="1752480"/>
            <a:chOff x="5943600" y="3048120"/>
            <a:chExt cx="2400480" cy="1752480"/>
          </a:xfrm>
        </p:grpSpPr>
        <p:sp>
          <p:nvSpPr>
            <p:cNvPr id="1103" name=""/>
            <p:cNvSpPr/>
            <p:nvPr/>
          </p:nvSpPr>
          <p:spPr>
            <a:xfrm>
              <a:off x="5943600" y="39625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943600" y="30481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943600" y="3429000"/>
              <a:ext cx="2400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457200" y="3048120"/>
            <a:ext cx="2400480" cy="1752120"/>
            <a:chOff x="457200" y="3048120"/>
            <a:chExt cx="2400480" cy="1752120"/>
          </a:xfrm>
        </p:grpSpPr>
        <p:sp>
          <p:nvSpPr>
            <p:cNvPr id="1107" name=""/>
            <p:cNvSpPr/>
            <p:nvPr/>
          </p:nvSpPr>
          <p:spPr>
            <a:xfrm>
              <a:off x="457200" y="396216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7200" y="3048120"/>
              <a:ext cx="2400480" cy="838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57200" y="3701880"/>
              <a:ext cx="2400480" cy="466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MVC  A(L),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4264200" y="533340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N = 8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3" dur="indefinite" restart="never" nodeType="tmRoot">
          <p:childTnLst>
            <p:seq>
              <p:cTn id="2504" dur="indefinite" nodeType="mainSeq">
                <p:childTnLst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09" dur="500"/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4" dur="500"/>
                                        <p:tgtEl>
                                          <p:spTgt spid="10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9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4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9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location Sche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ed a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ortional a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ority al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obal vs Local Allocation/Replac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0" dur="indefinite" restart="never" nodeType="tmRoot">
          <p:childTnLst>
            <p:seq>
              <p:cTn id="2541" dur="indefinite" nodeType="mainSeq">
                <p:childTnLst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2133720" y="1981080"/>
            <a:ext cx="685800" cy="3048120"/>
            <a:chOff x="2133720" y="1981080"/>
            <a:chExt cx="685800" cy="3048120"/>
          </a:xfrm>
        </p:grpSpPr>
        <p:sp>
          <p:nvSpPr>
            <p:cNvPr id="1115" name=""/>
            <p:cNvSpPr/>
            <p:nvPr/>
          </p:nvSpPr>
          <p:spPr>
            <a:xfrm>
              <a:off x="2133720" y="1981080"/>
              <a:ext cx="685800" cy="3812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133720" y="236232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133720" y="274320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133720" y="3124080"/>
              <a:ext cx="685800" cy="3812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133720" y="350532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133720" y="388620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133720" y="4267080"/>
              <a:ext cx="685800" cy="38124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133720" y="4648320"/>
              <a:ext cx="685800" cy="38088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3581280" y="2438280"/>
            <a:ext cx="1638360" cy="2791080"/>
          </a:xfrm>
          <a:prstGeom prst="can">
            <a:avLst>
              <a:gd name="adj" fmla="val 25000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581280" y="4076640"/>
            <a:ext cx="685800" cy="3812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708360" y="3284640"/>
            <a:ext cx="685800" cy="3808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867280" y="27432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15000" y="4724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40760" y="22770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PU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 rot="20092800">
            <a:off x="2055240" y="3284280"/>
            <a:ext cx="2211120" cy="761760"/>
          </a:xfrm>
          <a:custGeom>
            <a:avLst/>
            <a:gdLst>
              <a:gd name="textAreaLeft" fmla="*/ 387000 w 2211120"/>
              <a:gd name="textAreaRight" fmla="*/ 1603080 w 2211120"/>
              <a:gd name="textAreaTop" fmla="*/ 101880 h 761760"/>
              <a:gd name="textAreaBottom" fmla="*/ 6598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 rot="1126800">
            <a:off x="2195280" y="4004280"/>
            <a:ext cx="1904760" cy="838080"/>
          </a:xfrm>
          <a:custGeom>
            <a:avLst/>
            <a:gdLst>
              <a:gd name="textAreaLeft" fmla="*/ 333360 w 1904760"/>
              <a:gd name="textAreaRight" fmla="*/ 1380960 w 190476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943600" y="2819520"/>
            <a:ext cx="2209680" cy="1942920"/>
          </a:xfrm>
          <a:custGeom>
            <a:avLst/>
            <a:gdLst/>
            <a:ahLst/>
            <a:rect l="l" t="t" r="r" b="b"/>
            <a:pathLst>
              <a:path w="1920" h="1224">
                <a:moveTo>
                  <a:pt x="0" y="416"/>
                </a:moveTo>
                <a:cubicBezTo>
                  <a:pt x="40" y="368"/>
                  <a:pt x="80" y="320"/>
                  <a:pt x="144" y="320"/>
                </a:cubicBezTo>
                <a:cubicBezTo>
                  <a:pt x="208" y="320"/>
                  <a:pt x="304" y="464"/>
                  <a:pt x="384" y="416"/>
                </a:cubicBezTo>
                <a:cubicBezTo>
                  <a:pt x="464" y="368"/>
                  <a:pt x="560" y="64"/>
                  <a:pt x="624" y="32"/>
                </a:cubicBezTo>
                <a:cubicBezTo>
                  <a:pt x="688" y="0"/>
                  <a:pt x="720" y="200"/>
                  <a:pt x="768" y="224"/>
                </a:cubicBezTo>
                <a:cubicBezTo>
                  <a:pt x="816" y="248"/>
                  <a:pt x="856" y="128"/>
                  <a:pt x="912" y="176"/>
                </a:cubicBezTo>
                <a:cubicBezTo>
                  <a:pt x="968" y="224"/>
                  <a:pt x="1056" y="496"/>
                  <a:pt x="1104" y="512"/>
                </a:cubicBezTo>
                <a:cubicBezTo>
                  <a:pt x="1152" y="528"/>
                  <a:pt x="1168" y="304"/>
                  <a:pt x="1200" y="272"/>
                </a:cubicBezTo>
                <a:cubicBezTo>
                  <a:pt x="1232" y="240"/>
                  <a:pt x="1264" y="328"/>
                  <a:pt x="1296" y="320"/>
                </a:cubicBezTo>
                <a:cubicBezTo>
                  <a:pt x="1328" y="312"/>
                  <a:pt x="1352" y="168"/>
                  <a:pt x="1392" y="224"/>
                </a:cubicBezTo>
                <a:cubicBezTo>
                  <a:pt x="1432" y="280"/>
                  <a:pt x="1496" y="504"/>
                  <a:pt x="1536" y="656"/>
                </a:cubicBezTo>
                <a:cubicBezTo>
                  <a:pt x="1576" y="808"/>
                  <a:pt x="1600" y="1048"/>
                  <a:pt x="1632" y="1136"/>
                </a:cubicBezTo>
                <a:cubicBezTo>
                  <a:pt x="1664" y="1224"/>
                  <a:pt x="1696" y="1184"/>
                  <a:pt x="1728" y="1184"/>
                </a:cubicBezTo>
                <a:cubicBezTo>
                  <a:pt x="1760" y="1184"/>
                  <a:pt x="1792" y="1136"/>
                  <a:pt x="1824" y="1136"/>
                </a:cubicBezTo>
                <a:cubicBezTo>
                  <a:pt x="1856" y="1136"/>
                  <a:pt x="1888" y="1160"/>
                  <a:pt x="1920" y="1184"/>
                </a:cubicBezTo>
              </a:path>
            </a:pathLst>
          </a:custGeom>
          <a:noFill/>
          <a:ln w="5724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544160" y="487584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427640" y="3645000"/>
            <a:ext cx="685800" cy="3808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267080" y="4076640"/>
            <a:ext cx="685800" cy="38124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>
            <a:off x="2195640" y="3068640"/>
            <a:ext cx="2808000" cy="719280"/>
          </a:xfrm>
          <a:custGeom>
            <a:avLst/>
            <a:gdLst>
              <a:gd name="textAreaLeft" fmla="*/ 491400 w 2808000"/>
              <a:gd name="textAreaRight" fmla="*/ 2035800 w 2808000"/>
              <a:gd name="textAreaTop" fmla="*/ 96120 h 719280"/>
              <a:gd name="textAreaBottom" fmla="*/ 6231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362320" y="4220280"/>
            <a:ext cx="2714400" cy="838440"/>
          </a:xfrm>
          <a:custGeom>
            <a:avLst/>
            <a:gdLst>
              <a:gd name="textAreaLeft" fmla="*/ 474840 w 2714400"/>
              <a:gd name="textAreaRight" fmla="*/ 1968120 w 271440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7" dur="indefinite" restart="never" nodeType="tmRoot">
          <p:childTnLst>
            <p:seq>
              <p:cTn id="2548" dur="indefinite" nodeType="mainSeq">
                <p:childTnLst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7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5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fill="hold">
                            <p:stCondLst>
                              <p:cond delay="500"/>
                            </p:stCondLst>
                            <p:childTnLst>
                              <p:par>
                                <p:cTn id="25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8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2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3" fill="hold">
                            <p:stCondLst>
                              <p:cond delay="4500"/>
                            </p:stCondLst>
                            <p:childTnLst>
                              <p:par>
                                <p:cTn id="26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500"/>
                            </p:stCondLst>
                            <p:childTnLst>
                              <p:par>
                                <p:cTn id="261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5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3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ocality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8" name="" descr=""/>
          <p:cNvPicPr/>
          <p:nvPr/>
        </p:nvPicPr>
        <p:blipFill>
          <a:blip r:embed="rId1"/>
          <a:srcRect l="21896" t="718" r="21896" b="1671"/>
          <a:stretch/>
        </p:blipFill>
        <p:spPr>
          <a:xfrm>
            <a:off x="4724280" y="1523880"/>
            <a:ext cx="3495960" cy="4552920"/>
          </a:xfrm>
          <a:prstGeom prst="rect">
            <a:avLst/>
          </a:prstGeom>
          <a:ln w="0">
            <a:noFill/>
          </a:ln>
        </p:spPr>
      </p:pic>
      <p:sp>
        <p:nvSpPr>
          <p:cNvPr id="1139" name=""/>
          <p:cNvSpPr/>
          <p:nvPr/>
        </p:nvSpPr>
        <p:spPr>
          <a:xfrm>
            <a:off x="426960" y="3327480"/>
            <a:ext cx="4301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igrates from Locality to Loc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calities may overl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9" dur="indefinite" restart="never" nodeType="tmRoot">
          <p:childTnLst>
            <p:seq>
              <p:cTn id="2630" dur="indefinite" nodeType="mainSeq">
                <p:childTnLst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3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0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Minimum #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etermined by Instruction 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tive Pages (current  loca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# Active in Use &gt; # Frames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F, PF, PF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Thra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1" dur="indefinite" restart="never" nodeType="tmRoot">
          <p:childTnLst>
            <p:seq>
              <p:cTn id="2642" dur="indefinite" nodeType="mainSeq">
                <p:childTnLst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7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2" dur="500"/>
                                        <p:tgtEl>
                                          <p:spTgt spid="1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7" dur="500"/>
                                        <p:tgtEl>
                                          <p:spTgt spid="1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8" fill="hold">
                            <p:stCondLst>
                              <p:cond delay="500"/>
                            </p:stCondLst>
                            <p:childTnLst>
                              <p:par>
                                <p:cTn id="265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1" dur="500"/>
                                        <p:tgtEl>
                                          <p:spTgt spid="1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6" dur="500"/>
                                        <p:tgtEl>
                                          <p:spTgt spid="1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1" dur="500"/>
                                        <p:tgtEl>
                                          <p:spTgt spid="1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Tr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Global Allocation (worst ca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4" name=""/>
          <p:cNvSpPr/>
          <p:nvPr/>
        </p:nvSpPr>
        <p:spPr>
          <a:xfrm>
            <a:off x="1752480" y="556272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981080" y="26665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149640"/>
            <a:ext cx="3810240" cy="2413080"/>
          </a:xfrm>
          <a:custGeom>
            <a:avLst/>
            <a:gdLst/>
            <a:ahLst/>
            <a:rect l="l" t="t" r="r" b="b"/>
            <a:pathLst>
              <a:path w="2640" h="1520">
                <a:moveTo>
                  <a:pt x="0" y="1520"/>
                </a:moveTo>
                <a:cubicBezTo>
                  <a:pt x="140" y="1316"/>
                  <a:pt x="280" y="1112"/>
                  <a:pt x="432" y="944"/>
                </a:cubicBezTo>
                <a:cubicBezTo>
                  <a:pt x="584" y="776"/>
                  <a:pt x="664" y="648"/>
                  <a:pt x="912" y="512"/>
                </a:cubicBezTo>
                <a:cubicBezTo>
                  <a:pt x="1160" y="376"/>
                  <a:pt x="1704" y="0"/>
                  <a:pt x="1920" y="128"/>
                </a:cubicBezTo>
                <a:cubicBezTo>
                  <a:pt x="2136" y="256"/>
                  <a:pt x="2088" y="1064"/>
                  <a:pt x="2208" y="1280"/>
                </a:cubicBezTo>
                <a:cubicBezTo>
                  <a:pt x="2328" y="1496"/>
                  <a:pt x="2484" y="1460"/>
                  <a:pt x="2640" y="1424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952880" y="3124080"/>
            <a:ext cx="0" cy="2743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816480" y="292500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PU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648040" y="5204520"/>
            <a:ext cx="247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gree of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multi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2" dur="indefinite" restart="never" nodeType="tmRoot">
          <p:childTnLst>
            <p:seq>
              <p:cTn id="2673" dur="indefinite" nodeType="mainSeq">
                <p:childTnLst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8" dur="500"/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4" fill="hold">
                            <p:stCondLst>
                              <p:cond delay="500"/>
                            </p:stCondLst>
                            <p:childTnLst>
                              <p:par>
                                <p:cTn id="26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87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1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0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1" fill="hold">
                            <p:stCondLst>
                              <p:cond delay="500"/>
                            </p:stCondLst>
                            <p:childTnLst>
                              <p:par>
                                <p:cTn id="2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4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rash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edi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ing Set Model  (Treat Cau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age Fault Rate  (Treat Symptom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5" dur="indefinite" restart="never" nodeType="tmRoot">
          <p:childTnLst>
            <p:seq>
              <p:cTn id="2706" dur="indefinite" nodeType="mainSeq">
                <p:childTnLst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1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= Paging + Swapping (Pag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301760" y="2160720"/>
            <a:ext cx="900000" cy="2165040"/>
            <a:chOff x="1301760" y="2160720"/>
            <a:chExt cx="900000" cy="2165040"/>
          </a:xfrm>
        </p:grpSpPr>
        <p:sp>
          <p:nvSpPr>
            <p:cNvPr id="94" name=""/>
            <p:cNvSpPr/>
            <p:nvPr/>
          </p:nvSpPr>
          <p:spPr>
            <a:xfrm>
              <a:off x="1301760" y="251784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01760" y="287964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01760" y="324180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01760" y="360360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01760" y="3965400"/>
              <a:ext cx="900000" cy="360360"/>
            </a:xfrm>
            <a:prstGeom prst="rect">
              <a:avLst/>
            </a:prstGeom>
            <a:solidFill>
              <a:srgbClr val="faf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1760" y="2160720"/>
              <a:ext cx="900000" cy="360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</a:t>
              </a:r>
              <a:r>
                <a:rPr b="0" lang="nl-BE" sz="20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608360" y="2133720"/>
            <a:ext cx="903600" cy="2860560"/>
            <a:chOff x="4608360" y="2133720"/>
            <a:chExt cx="903600" cy="2860560"/>
          </a:xfrm>
        </p:grpSpPr>
        <p:sp>
          <p:nvSpPr>
            <p:cNvPr id="101" name=""/>
            <p:cNvSpPr/>
            <p:nvPr/>
          </p:nvSpPr>
          <p:spPr>
            <a:xfrm>
              <a:off x="4610160" y="24908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10160" y="285264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10160" y="213372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10160" y="391968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10160" y="427356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10160" y="3571920"/>
              <a:ext cx="90000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1600" y="3209760"/>
              <a:ext cx="90036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08360" y="4633920"/>
              <a:ext cx="900360" cy="360360"/>
            </a:xfrm>
            <a:prstGeom prst="rect">
              <a:avLst/>
            </a:prstGeom>
            <a:solidFill>
              <a:srgbClr val="cecec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330080" y="2175480"/>
            <a:ext cx="30708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08360" y="2495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08360" y="3573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08360" y="427680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2262240"/>
            <a:ext cx="2362320" cy="2743200"/>
          </a:xfrm>
          <a:prstGeom prst="can">
            <a:avLst>
              <a:gd name="adj" fmla="val 198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9400" y="2909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15160" y="340524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36338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01960" y="2154240"/>
            <a:ext cx="903240" cy="2911320"/>
            <a:chOff x="2901960" y="2154240"/>
            <a:chExt cx="903240" cy="2911320"/>
          </a:xfrm>
        </p:grpSpPr>
        <p:sp>
          <p:nvSpPr>
            <p:cNvPr id="118" name=""/>
            <p:cNvSpPr/>
            <p:nvPr/>
          </p:nvSpPr>
          <p:spPr>
            <a:xfrm>
              <a:off x="2911680" y="2508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01960" y="215424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43400" y="215424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01960" y="251928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43400" y="2519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01960" y="28843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43400" y="28843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01960" y="32497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43400" y="32497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903760" y="36147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44840" y="36147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01960" y="39751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43400" y="39751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03760" y="43401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44840" y="43401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01960" y="470520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43400" y="470520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906640" y="215280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48080" y="215280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06640" y="251784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8080" y="25178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06640" y="288288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8080" y="288288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448080" y="3247920"/>
            <a:ext cx="361800" cy="1086120"/>
            <a:chOff x="3448080" y="3247920"/>
            <a:chExt cx="361800" cy="1086120"/>
          </a:xfrm>
        </p:grpSpPr>
        <p:sp>
          <p:nvSpPr>
            <p:cNvPr id="142" name=""/>
            <p:cNvSpPr/>
            <p:nvPr/>
          </p:nvSpPr>
          <p:spPr>
            <a:xfrm>
              <a:off x="3448080" y="3247920"/>
              <a:ext cx="36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49520" y="3613320"/>
              <a:ext cx="36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48080" y="3973680"/>
              <a:ext cx="360360" cy="360360"/>
            </a:xfrm>
            <a:prstGeom prst="rect">
              <a:avLst/>
            </a:prstGeom>
            <a:solidFill>
              <a:srgbClr val="fe7c9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448080" y="4338720"/>
            <a:ext cx="361800" cy="725400"/>
            <a:chOff x="3448080" y="4338720"/>
            <a:chExt cx="361800" cy="725400"/>
          </a:xfrm>
        </p:grpSpPr>
        <p:sp>
          <p:nvSpPr>
            <p:cNvPr id="146" name=""/>
            <p:cNvSpPr/>
            <p:nvPr/>
          </p:nvSpPr>
          <p:spPr>
            <a:xfrm>
              <a:off x="3449520" y="4338720"/>
              <a:ext cx="360360" cy="36036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48080" y="4703760"/>
              <a:ext cx="360360" cy="36036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631240" y="2132640"/>
            <a:ext cx="469080" cy="2950200"/>
            <a:chOff x="2631240" y="2132640"/>
            <a:chExt cx="469080" cy="2950200"/>
          </a:xfrm>
        </p:grpSpPr>
        <p:sp>
          <p:nvSpPr>
            <p:cNvPr id="149" name=""/>
            <p:cNvSpPr/>
            <p:nvPr/>
          </p:nvSpPr>
          <p:spPr>
            <a:xfrm>
              <a:off x="2916000" y="2506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31240" y="2132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31240" y="2497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31240" y="28630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31240" y="3228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640600" y="35931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1240" y="3953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40600" y="43185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39160" y="46839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928800" y="5253480"/>
            <a:ext cx="3227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 Page 0, 1, 2:      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ccess Page 4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200400" y="5562720"/>
            <a:ext cx="2153160" cy="685800"/>
            <a:chOff x="3200400" y="5562720"/>
            <a:chExt cx="2153160" cy="685800"/>
          </a:xfrm>
        </p:grpSpPr>
        <p:sp>
          <p:nvSpPr>
            <p:cNvPr id="160" name=""/>
            <p:cNvSpPr/>
            <p:nvPr/>
          </p:nvSpPr>
          <p:spPr>
            <a:xfrm>
              <a:off x="3200400" y="5562720"/>
              <a:ext cx="990720" cy="68580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03480" y="5713920"/>
              <a:ext cx="145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age-Faul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52280" y="4486320"/>
            <a:ext cx="236232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81" y="-43855"/>
                </a:moveTo>
                <a:lnTo>
                  <a:pt x="22297" y="7855"/>
                </a:lnTo>
              </a:path>
              <a:path w="21600" h="21600">
                <a:moveTo>
                  <a:pt x="22297" y="0"/>
                </a:moveTo>
                <a:lnTo>
                  <a:pt x="22297" y="21600"/>
                </a:lnTo>
              </a:path>
            </a:pathLst>
          </a:custGeom>
          <a:noFill/>
          <a:ln w="3240">
            <a:solidFill>
              <a:srgbClr val="fe7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7c92"/>
                </a:solidFill>
                <a:latin typeface="Tahoma"/>
              </a:rPr>
              <a:t>Valid but not loa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4943520"/>
            <a:ext cx="2362320" cy="31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481" y="-22909"/>
                </a:moveTo>
                <a:lnTo>
                  <a:pt x="22297" y="7855"/>
                </a:lnTo>
              </a:path>
              <a:path w="21600" h="21600">
                <a:moveTo>
                  <a:pt x="22297" y="0"/>
                </a:moveTo>
                <a:lnTo>
                  <a:pt x="22297" y="21600"/>
                </a:lnTo>
              </a:path>
            </a:pathLst>
          </a:custGeom>
          <a:noFill/>
          <a:ln w="3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Tahoma"/>
              </a:rPr>
              <a:t>In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Working Set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Based on “Locality”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Current Locality = Working Set (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W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= | WS of proces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|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WS</a:t>
            </a:r>
            <a:r>
              <a:rPr b="0" lang="nl-BE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 = D (Deman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 &gt; | RAM |  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swap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D &lt; | RAM |  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swap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2" dur="indefinite" restart="never" nodeType="tmRoot">
          <p:childTnLst>
            <p:seq>
              <p:cTn id="2713" dur="indefinite" nodeType="mainSeq">
                <p:childTnLst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8" dur="500"/>
                                        <p:tgtEl>
                                          <p:spTgt spid="1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3" dur="500"/>
                                        <p:tgtEl>
                                          <p:spTgt spid="1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8" dur="500"/>
                                        <p:tgtEl>
                                          <p:spTgt spid="1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3" dur="500"/>
                                        <p:tgtEl>
                                          <p:spTgt spid="1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6" dur="500"/>
                                        <p:tgtEl>
                                          <p:spTgt spid="1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9" dur="500"/>
                                        <p:tgtEl>
                                          <p:spTgt spid="1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orking Set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"/>
          <p:cNvSpPr/>
          <p:nvPr/>
        </p:nvSpPr>
        <p:spPr>
          <a:xfrm>
            <a:off x="1072080" y="4572000"/>
            <a:ext cx="64591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o small will not encompass entire loc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o large will encompass several loca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ae00"/>
              </a:buClr>
              <a:buSzPct val="9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ll encompass entir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2760" y="1752480"/>
            <a:ext cx="213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ing Se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68440" y="2575080"/>
            <a:ext cx="785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6 1 5 7 7 7 7 5 1 6 2 3 4 1 2 3 4 4 4 3 4 3 4 4 4 1 3 2 3 4 4 3 4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086480" y="3886200"/>
            <a:ext cx="2622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{1, 2, 5, 6, 7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830160" y="2727360"/>
            <a:ext cx="2490840" cy="1229040"/>
            <a:chOff x="830160" y="2727360"/>
            <a:chExt cx="2490840" cy="1229040"/>
          </a:xfrm>
        </p:grpSpPr>
        <p:grpSp>
          <p:nvGrpSpPr>
            <p:cNvPr id="1160" name=""/>
            <p:cNvGrpSpPr/>
            <p:nvPr/>
          </p:nvGrpSpPr>
          <p:grpSpPr>
            <a:xfrm>
              <a:off x="830160" y="2727360"/>
              <a:ext cx="2143080" cy="1066680"/>
              <a:chOff x="830160" y="2727360"/>
              <a:chExt cx="2143080" cy="1066680"/>
            </a:xfrm>
          </p:grpSpPr>
          <p:sp>
            <p:nvSpPr>
              <p:cNvPr id="1161" name=""/>
              <p:cNvSpPr/>
              <p:nvPr/>
            </p:nvSpPr>
            <p:spPr>
              <a:xfrm flipV="1">
                <a:off x="2973240" y="2879640"/>
                <a:ext cx="0" cy="914400"/>
              </a:xfrm>
              <a:prstGeom prst="line">
                <a:avLst/>
              </a:prstGeom>
              <a:ln w="2844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30160" y="3165480"/>
                <a:ext cx="2133720" cy="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755720" y="27273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c0128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4" name=""/>
            <p:cNvSpPr/>
            <p:nvPr/>
          </p:nvSpPr>
          <p:spPr>
            <a:xfrm>
              <a:off x="2930040" y="344628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4343400" y="2722680"/>
            <a:ext cx="2490840" cy="1229040"/>
            <a:chOff x="4343400" y="2722680"/>
            <a:chExt cx="2490840" cy="1229040"/>
          </a:xfrm>
        </p:grpSpPr>
        <p:grpSp>
          <p:nvGrpSpPr>
            <p:cNvPr id="1166" name=""/>
            <p:cNvGrpSpPr/>
            <p:nvPr/>
          </p:nvGrpSpPr>
          <p:grpSpPr>
            <a:xfrm>
              <a:off x="4343400" y="2722680"/>
              <a:ext cx="2143080" cy="1066680"/>
              <a:chOff x="4343400" y="2722680"/>
              <a:chExt cx="2143080" cy="1066680"/>
            </a:xfrm>
          </p:grpSpPr>
          <p:sp>
            <p:nvSpPr>
              <p:cNvPr id="1167" name=""/>
              <p:cNvSpPr/>
              <p:nvPr/>
            </p:nvSpPr>
            <p:spPr>
              <a:xfrm flipV="1">
                <a:off x="6486480" y="2874960"/>
                <a:ext cx="0" cy="914400"/>
              </a:xfrm>
              <a:prstGeom prst="line">
                <a:avLst/>
              </a:prstGeom>
              <a:ln w="28440">
                <a:solidFill>
                  <a:srgbClr val="00279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4343400" y="3160800"/>
                <a:ext cx="2133720" cy="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268960" y="2722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c0128"/>
                    </a:solidFill>
                    <a:latin typeface="Symbol"/>
                    <a:ea typeface="Symbol"/>
                  </a:rPr>
                  <a:t>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0" name=""/>
            <p:cNvSpPr/>
            <p:nvPr/>
          </p:nvSpPr>
          <p:spPr>
            <a:xfrm>
              <a:off x="6443280" y="3441600"/>
              <a:ext cx="390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Tahoma"/>
                </a:rPr>
                <a:t>t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1" name=""/>
          <p:cNvSpPr/>
          <p:nvPr/>
        </p:nvSpPr>
        <p:spPr>
          <a:xfrm>
            <a:off x="5110200" y="3886200"/>
            <a:ext cx="1780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{3, 4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909360" y="4495680"/>
            <a:ext cx="77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0" dur="indefinite" restart="never" nodeType="tmRoot">
          <p:childTnLst>
            <p:seq>
              <p:cTn id="2741" dur="indefinite" nodeType="mainSeq">
                <p:childTnLst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6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1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6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1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fill="hold">
                      <p:stCondLst>
                        <p:cond delay="indefinite"/>
                      </p:stCondLst>
                      <p:childTnLst>
                        <p:par>
                          <p:cTn id="2763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6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1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2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orking Set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track of W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ery referenc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modify 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ldest reference: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st reference: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pproxim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imer + extra referenc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Valid/invalid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3" dur="indefinite" restart="never" nodeType="tmRoot">
          <p:childTnLst>
            <p:seq>
              <p:cTn id="2784" dur="indefinite" nodeType="mainSeq">
                <p:childTnLst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9" dur="500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fill="hold">
                      <p:stCondLst>
                        <p:cond delay="indefinite"/>
                      </p:stCondLst>
                      <p:childTnLst>
                        <p:par>
                          <p:cTn id="2791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4" dur="500"/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97" dur="500"/>
                                        <p:tgtEl>
                                          <p:spTgt spid="1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0" dur="500"/>
                                        <p:tgtEl>
                                          <p:spTgt spid="1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5" dur="500"/>
                                        <p:tgtEl>
                                          <p:spTgt spid="1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8" dur="500"/>
                                        <p:tgtEl>
                                          <p:spTgt spid="1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1" dur="500"/>
                                        <p:tgtEl>
                                          <p:spTgt spid="1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Page Fault Frequenc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"/>
          <p:cNvSpPr/>
          <p:nvPr/>
        </p:nvSpPr>
        <p:spPr>
          <a:xfrm>
            <a:off x="2743200" y="1981080"/>
            <a:ext cx="9360" cy="3733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600280" y="556272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57480" y="2743200"/>
            <a:ext cx="4419720" cy="2133720"/>
          </a:xfrm>
          <a:custGeom>
            <a:avLst/>
            <a:gdLst/>
            <a:ahLst/>
            <a:rect l="l" t="t" r="r" b="b"/>
            <a:pathLst>
              <a:path w="2784" h="1344">
                <a:moveTo>
                  <a:pt x="0" y="0"/>
                </a:moveTo>
                <a:cubicBezTo>
                  <a:pt x="96" y="236"/>
                  <a:pt x="192" y="472"/>
                  <a:pt x="384" y="672"/>
                </a:cubicBezTo>
                <a:cubicBezTo>
                  <a:pt x="576" y="872"/>
                  <a:pt x="752" y="1088"/>
                  <a:pt x="1152" y="1200"/>
                </a:cubicBezTo>
                <a:cubicBezTo>
                  <a:pt x="1552" y="1312"/>
                  <a:pt x="2168" y="1328"/>
                  <a:pt x="2784" y="1344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652920" y="2492640"/>
            <a:ext cx="2337120" cy="398880"/>
          </a:xfrm>
          <a:prstGeom prst="borderCallout1">
            <a:avLst>
              <a:gd name="adj1" fmla="val 18750"/>
              <a:gd name="adj2" fmla="val -8333"/>
              <a:gd name="adj3" fmla="val 110004"/>
              <a:gd name="adj4" fmla="val -21189"/>
            </a:avLst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Increase #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821560" y="5032800"/>
            <a:ext cx="2422440" cy="398880"/>
          </a:xfrm>
          <a:prstGeom prst="borderCallout1">
            <a:avLst>
              <a:gd name="adj1" fmla="val 18750"/>
              <a:gd name="adj2" fmla="val -8333"/>
              <a:gd name="adj3" fmla="val -88546"/>
              <a:gd name="adj4" fmla="val -35912"/>
            </a:avLst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crease #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745640" y="2056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F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10920" y="563796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#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2523960" y="2886840"/>
            <a:ext cx="6031800" cy="398880"/>
            <a:chOff x="2523960" y="2886840"/>
            <a:chExt cx="6031800" cy="398880"/>
          </a:xfrm>
        </p:grpSpPr>
        <p:sp>
          <p:nvSpPr>
            <p:cNvPr id="1184" name=""/>
            <p:cNvSpPr/>
            <p:nvPr/>
          </p:nvSpPr>
          <p:spPr>
            <a:xfrm>
              <a:off x="2523960" y="3276720"/>
              <a:ext cx="5181840" cy="0"/>
            </a:xfrm>
            <a:prstGeom prst="line">
              <a:avLst/>
            </a:prstGeom>
            <a:ln cap="rnd" w="9360">
              <a:solidFill>
                <a:srgbClr val="00279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779520" y="2886840"/>
              <a:ext cx="177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279f"/>
                  </a:solidFill>
                  <a:latin typeface="Tahoma"/>
                </a:rPr>
                <a:t>Upper b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6" name=""/>
          <p:cNvGrpSpPr/>
          <p:nvPr/>
        </p:nvGrpSpPr>
        <p:grpSpPr>
          <a:xfrm>
            <a:off x="2523960" y="3961440"/>
            <a:ext cx="6223320" cy="398880"/>
            <a:chOff x="2523960" y="3961440"/>
            <a:chExt cx="6223320" cy="398880"/>
          </a:xfrm>
        </p:grpSpPr>
        <p:sp>
          <p:nvSpPr>
            <p:cNvPr id="1187" name=""/>
            <p:cNvSpPr/>
            <p:nvPr/>
          </p:nvSpPr>
          <p:spPr>
            <a:xfrm>
              <a:off x="2523960" y="4343400"/>
              <a:ext cx="5181840" cy="0"/>
            </a:xfrm>
            <a:prstGeom prst="line">
              <a:avLst/>
            </a:prstGeom>
            <a:ln cap="rnd" w="9360">
              <a:solidFill>
                <a:srgbClr val="00279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983280" y="3961440"/>
              <a:ext cx="176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279f"/>
                  </a:solidFill>
                  <a:latin typeface="Tahoma"/>
                </a:rPr>
                <a:t>Lower b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4191120" y="4114800"/>
            <a:ext cx="771480" cy="380880"/>
          </a:xfrm>
          <a:custGeom>
            <a:avLst/>
            <a:gdLst/>
            <a:ahLst/>
            <a:rect l="l" t="t" r="r" b="b"/>
            <a:pathLst>
              <a:path w="384" h="192">
                <a:moveTo>
                  <a:pt x="384" y="192"/>
                </a:moveTo>
                <a:cubicBezTo>
                  <a:pt x="320" y="184"/>
                  <a:pt x="256" y="176"/>
                  <a:pt x="192" y="144"/>
                </a:cubicBezTo>
                <a:cubicBezTo>
                  <a:pt x="128" y="112"/>
                  <a:pt x="64" y="56"/>
                  <a:pt x="0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271680" y="2957400"/>
            <a:ext cx="447840" cy="60984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0" y="0"/>
                </a:moveTo>
                <a:cubicBezTo>
                  <a:pt x="28" y="48"/>
                  <a:pt x="56" y="96"/>
                  <a:pt x="96" y="144"/>
                </a:cubicBezTo>
                <a:cubicBezTo>
                  <a:pt x="136" y="192"/>
                  <a:pt x="188" y="240"/>
                  <a:pt x="240" y="288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057480" y="2895480"/>
            <a:ext cx="152280" cy="15264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886280" y="4572000"/>
            <a:ext cx="152280" cy="15228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>
            <a:off x="2752200" y="4648320"/>
            <a:ext cx="221004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2752200" y="2971800"/>
            <a:ext cx="304920" cy="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438360" y="3581280"/>
            <a:ext cx="152640" cy="15264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971880" y="4114800"/>
            <a:ext cx="152280" cy="15228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533520" y="3276720"/>
            <a:ext cx="1990440" cy="1066680"/>
            <a:chOff x="533520" y="3276720"/>
            <a:chExt cx="1990440" cy="1066680"/>
          </a:xfrm>
        </p:grpSpPr>
        <p:sp>
          <p:nvSpPr>
            <p:cNvPr id="1198" name=""/>
            <p:cNvSpPr/>
            <p:nvPr/>
          </p:nvSpPr>
          <p:spPr>
            <a:xfrm>
              <a:off x="2219400" y="3276720"/>
              <a:ext cx="304560" cy="10666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33520" y="3462480"/>
              <a:ext cx="1676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Acceptable</a:t>
              </a:r>
              <a:br>
                <a:rPr sz="2400"/>
              </a:br>
              <a:r>
                <a:rPr b="0" i="1" lang="en-US" sz="2400" spc="-1" strike="noStrike">
                  <a:solidFill>
                    <a:srgbClr val="00279f"/>
                  </a:solidFill>
                  <a:latin typeface="Tahoma"/>
                </a:rPr>
                <a:t>PF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2" dur="indefinite" restart="never" nodeType="tmRoot">
          <p:childTnLst>
            <p:seq>
              <p:cTn id="2813" dur="indefinite" nodeType="mainSeq">
                <p:childTnLst>
                  <p:par>
                    <p:cTn id="2814" fill="hold">
                      <p:stCondLst>
                        <p:cond delay="indefinite"/>
                      </p:stCondLst>
                      <p:childTnLst>
                        <p:par>
                          <p:cTn id="2815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8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9" fill="hold">
                            <p:stCondLst>
                              <p:cond delay="500"/>
                            </p:stCondLst>
                            <p:childTnLst>
                              <p:par>
                                <p:cTn id="28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2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6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0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0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1" fill="hold">
                            <p:stCondLst>
                              <p:cond delay="500"/>
                            </p:stCondLst>
                            <p:childTnLst>
                              <p:par>
                                <p:cTn id="28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4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8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9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4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9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0" fill="hold">
                            <p:stCondLst>
                              <p:cond delay="500"/>
                            </p:stCondLst>
                            <p:childTnLst>
                              <p:par>
                                <p:cTn id="28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3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90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5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6" fill="hold">
                            <p:stCondLst>
                              <p:cond delay="500"/>
                            </p:stCondLst>
                            <p:childTnLst>
                              <p:par>
                                <p:cTn id="28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9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0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Consider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e Size Sel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LB R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rted Pag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/O Inter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 Time Proces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"/>
          <p:cNvSpPr/>
          <p:nvPr/>
        </p:nvSpPr>
        <p:spPr>
          <a:xfrm>
            <a:off x="4716360" y="1413000"/>
            <a:ext cx="352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02" y="15300"/>
                </a:moveTo>
                <a:lnTo>
                  <a:pt x="-467" y="4000"/>
                </a:lnTo>
              </a:path>
              <a:path w="21600" h="21600">
                <a:moveTo>
                  <a:pt x="-467" y="0"/>
                </a:moveTo>
                <a:lnTo>
                  <a:pt x="-467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Bring in Working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580000" y="1989000"/>
            <a:ext cx="252108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590" y="12825"/>
                </a:moveTo>
                <a:lnTo>
                  <a:pt x="-653" y="4000"/>
                </a:lnTo>
              </a:path>
              <a:path w="21600" h="21600">
                <a:moveTo>
                  <a:pt x="-653" y="0"/>
                </a:moveTo>
                <a:lnTo>
                  <a:pt x="-653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Large vs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148360" y="2708280"/>
            <a:ext cx="28796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979" y="8381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Address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508720" y="3357720"/>
            <a:ext cx="28796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80" y="5906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# Page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724360" y="4005360"/>
            <a:ext cx="28800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466" y="5513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PT/process on d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643280" y="4581360"/>
            <a:ext cx="28800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23" y="4613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I/O to user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724360" y="5340240"/>
            <a:ext cx="28800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192" y="-225"/>
                </a:moveTo>
                <a:lnTo>
                  <a:pt x="-572" y="4000"/>
                </a:lnTo>
              </a:path>
              <a:path w="21600" h="21600">
                <a:moveTo>
                  <a:pt x="-572" y="0"/>
                </a:moveTo>
                <a:lnTo>
                  <a:pt x="-572" y="21600"/>
                </a:lnTo>
              </a:path>
            </a:pathLst>
          </a:custGeom>
          <a:noFill/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Tahoma"/>
              </a:rPr>
              <a:t>Unexpected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1" dur="indefinite" restart="never" nodeType="tmRoot">
          <p:childTnLst>
            <p:seq>
              <p:cTn id="2902" dur="indefinite" nodeType="mainSeq">
                <p:childTnLst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7" dur="500"/>
                                        <p:tgtEl>
                                          <p:spTgt spid="1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7" dur="500"/>
                                        <p:tgtEl>
                                          <p:spTgt spid="1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fill="hold">
                      <p:stCondLst>
                        <p:cond delay="indefinite"/>
                      </p:stCondLst>
                      <p:childTnLst>
                        <p:par>
                          <p:cTn id="2919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7" dur="500"/>
                                        <p:tgtEl>
                                          <p:spTgt spid="1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7" dur="500"/>
                                        <p:tgtEl>
                                          <p:spTgt spid="1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fill="hold">
                      <p:stCondLst>
                        <p:cond delay="indefinite"/>
                      </p:stCondLst>
                      <p:childTnLst>
                        <p:par>
                          <p:cTn id="2939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2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3" fill="hold">
                      <p:stCondLst>
                        <p:cond delay="indefinite"/>
                      </p:stCondLst>
                      <p:childTnLst>
                        <p:par>
                          <p:cTn id="2944" fill="hold">
                            <p:stCondLst>
                              <p:cond delay="0"/>
                            </p:stCondLst>
                            <p:childTnLst>
                              <p:par>
                                <p:cTn id="29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7" dur="500"/>
                                        <p:tgtEl>
                                          <p:spTgt spid="1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5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7" dur="500"/>
                                        <p:tgtEl>
                                          <p:spTgt spid="1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62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7" dur="500"/>
                                        <p:tgtEl>
                                          <p:spTgt spid="1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2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Consider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 A[ ][ ] = new int[1024][1024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 Frame | = 4kB,   | int | = 4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w is stored in one p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ot yet in memory, Code in M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: &lt;1024 frames, Local Repl.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R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1" name=""/>
          <p:cNvSpPr/>
          <p:nvPr/>
        </p:nvSpPr>
        <p:spPr>
          <a:xfrm>
            <a:off x="920520" y="4419720"/>
            <a:ext cx="3402360" cy="10087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 = 0; i &lt; A.length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for (j = 0; j &lt; A.length; j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A[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035320" y="4419720"/>
            <a:ext cx="3402360" cy="10087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i = 0; i &lt; A.length;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for (j = 0; j &lt; A.length; j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A[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fc0128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820040" y="563868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1024 x 1024 Page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08840" y="563868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Tahoma"/>
              </a:rPr>
              <a:t>1024 Page Fa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064920" y="1315800"/>
            <a:ext cx="3224880" cy="2095560"/>
          </a:xfrm>
          <a:prstGeom prst="horizontalScroll">
            <a:avLst>
              <a:gd name="adj" fmla="val 12500"/>
            </a:avLst>
          </a:prstGeom>
          <a:solidFill>
            <a:srgbClr val="fafd00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/Link.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3" dur="indefinite" restart="never" nodeType="tmRoot">
          <p:childTnLst>
            <p:seq>
              <p:cTn id="2974" dur="indefinite" nodeType="mainSeq">
                <p:childTnLst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79" dur="500"/>
                                        <p:tgtEl>
                                          <p:spTgt spid="1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2" dur="500"/>
                                        <p:tgtEl>
                                          <p:spTgt spid="1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85" dur="500"/>
                                        <p:tgtEl>
                                          <p:spTgt spid="1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0" dur="500"/>
                                        <p:tgtEl>
                                          <p:spTgt spid="1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3" dur="500"/>
                                        <p:tgtEl>
                                          <p:spTgt spid="1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6" dur="500"/>
                                        <p:tgtEl>
                                          <p:spTgt spid="1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7" fill="hold">
                      <p:stCondLst>
                        <p:cond delay="indefinite"/>
                      </p:stCondLst>
                      <p:childTnLst>
                        <p:par>
                          <p:cTn id="2998" fill="hold">
                            <p:stCondLst>
                              <p:cond delay="0"/>
                            </p:stCondLst>
                            <p:childTnLst>
                              <p:par>
                                <p:cTn id="29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5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6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7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fill="hold">
                      <p:stCondLst>
                        <p:cond delay="indefinite"/>
                      </p:stCondLst>
                      <p:childTnLst>
                        <p:par>
                          <p:cTn id="3009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5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4" fill="hold">
                      <p:stCondLst>
                        <p:cond delay="indefinite"/>
                      </p:stCondLst>
                      <p:childTnLst>
                        <p:par>
                          <p:cTn id="3015" fill="hold">
                            <p:stCondLst>
                              <p:cond delay="0"/>
                            </p:stCondLst>
                            <p:childTnLst>
                              <p:par>
                                <p:cTn id="30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8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500" fill="hold"/>
                                        <p:tgtEl>
                                          <p:spTgt spid="1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4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1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Ques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7" name="" descr=""/>
          <p:cNvPicPr/>
          <p:nvPr/>
        </p:nvPicPr>
        <p:blipFill>
          <a:blip r:embed="rId1"/>
          <a:stretch/>
        </p:blipFill>
        <p:spPr>
          <a:xfrm>
            <a:off x="3389400" y="2246400"/>
            <a:ext cx="2365200" cy="2365200"/>
          </a:xfrm>
          <a:prstGeom prst="rect">
            <a:avLst/>
          </a:prstGeom>
          <a:ln w="0">
            <a:noFill/>
          </a:ln>
        </p:spPr>
      </p:pic>
      <p:sp>
        <p:nvSpPr>
          <p:cNvPr id="1218" name="">
            <a:hlinkClick r:id="rId2"/>
          </p:cNvPr>
          <p:cNvSpPr/>
          <p:nvPr/>
        </p:nvSpPr>
        <p:spPr>
          <a:xfrm>
            <a:off x="7238880" y="518148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3794"/>
                </a:moveTo>
                <a:lnTo>
                  <a:pt x="22125" y="10800"/>
                </a:lnTo>
                <a:lnTo>
                  <a:pt x="8112" y="17806"/>
                </a:lnTo>
                <a:close/>
              </a:path>
            </a:pathLst>
          </a:custGeom>
          <a:solidFill>
            <a:srgbClr val="aff2aa"/>
          </a:solidFill>
          <a:ln w="32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281240" y="1600200"/>
            <a:ext cx="7377120" cy="21099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90440">
              <a:lnSpc>
                <a:spcPct val="1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AVE STATE  (in PCB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Valid Address   (NO </a:t>
            </a:r>
            <a:r>
              <a:rPr b="0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ABORT P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ind Fre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art Reading Page in Free Frame</a:t>
            </a:r>
            <a:br>
              <a:rPr sz="2400"/>
            </a:b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81240" y="4002120"/>
            <a:ext cx="7377120" cy="180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AV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? I/O OK, for which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dify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RESTORE STATE  (s.t. instruction = restar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33520" y="1447920"/>
            <a:ext cx="795960" cy="1083600"/>
            <a:chOff x="533520" y="1447920"/>
            <a:chExt cx="795960" cy="1083600"/>
          </a:xfrm>
        </p:grpSpPr>
        <p:sp>
          <p:nvSpPr>
            <p:cNvPr id="168" name=""/>
            <p:cNvSpPr/>
            <p:nvPr/>
          </p:nvSpPr>
          <p:spPr>
            <a:xfrm>
              <a:off x="533520" y="144792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2200" y="21326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65120" y="3718080"/>
            <a:ext cx="849960" cy="1083600"/>
            <a:chOff x="465120" y="3718080"/>
            <a:chExt cx="849960" cy="1083600"/>
          </a:xfrm>
        </p:grpSpPr>
        <p:sp>
          <p:nvSpPr>
            <p:cNvPr id="171" name=""/>
            <p:cNvSpPr/>
            <p:nvPr/>
          </p:nvSpPr>
          <p:spPr>
            <a:xfrm>
              <a:off x="465120" y="3718080"/>
              <a:ext cx="68580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4920" y="4402800"/>
              <a:ext cx="56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I/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ccess Page 4 … Page Fault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25178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287964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01760" y="32418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01760" y="36036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01760" y="396540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01760" y="2160720"/>
            <a:ext cx="90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10160" y="249084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10160" y="285264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10160" y="213372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10160" y="391968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10160" y="427356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610160" y="3571920"/>
            <a:ext cx="90000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11600" y="3209760"/>
            <a:ext cx="90036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08360" y="4633920"/>
            <a:ext cx="900360" cy="360360"/>
          </a:xfrm>
          <a:prstGeom prst="rect">
            <a:avLst/>
          </a:prstGeom>
          <a:solidFill>
            <a:srgbClr val="cece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31160" y="2175480"/>
            <a:ext cx="307080" cy="28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8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08360" y="249552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08360" y="357336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08360" y="4276800"/>
            <a:ext cx="90036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2262240"/>
            <a:ext cx="2362320" cy="2743200"/>
          </a:xfrm>
          <a:prstGeom prst="can">
            <a:avLst>
              <a:gd name="adj" fmla="val 19814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290988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15160" y="3405240"/>
            <a:ext cx="90036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363384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901960" y="2154240"/>
            <a:ext cx="903240" cy="2911320"/>
            <a:chOff x="2901960" y="2154240"/>
            <a:chExt cx="903240" cy="2911320"/>
          </a:xfrm>
        </p:grpSpPr>
        <p:sp>
          <p:nvSpPr>
            <p:cNvPr id="198" name=""/>
            <p:cNvSpPr/>
            <p:nvPr/>
          </p:nvSpPr>
          <p:spPr>
            <a:xfrm>
              <a:off x="2911680" y="250812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01960" y="215424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43400" y="215424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01960" y="251928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43400" y="251928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01960" y="28843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43400" y="28843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01960" y="32497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43400" y="32497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03760" y="36147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44840" y="36147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01960" y="397512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43400" y="397512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03760" y="4340160"/>
              <a:ext cx="53964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44840" y="434016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01960" y="4705200"/>
              <a:ext cx="540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43400" y="4705200"/>
              <a:ext cx="36036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906640" y="215280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48080" y="215280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06640" y="251784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48080" y="25178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06640" y="2882880"/>
            <a:ext cx="540000" cy="36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48080" y="288288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48080" y="32479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49520" y="361332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48080" y="3973680"/>
            <a:ext cx="360360" cy="36036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49520" y="433872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48080" y="4703760"/>
            <a:ext cx="360360" cy="360360"/>
          </a:xfrm>
          <a:prstGeom prst="rect">
            <a:avLst/>
          </a:prstGeom>
          <a:solidFill>
            <a:srgbClr val="fc01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631240" y="2132640"/>
            <a:ext cx="468720" cy="2950200"/>
            <a:chOff x="2631240" y="2132640"/>
            <a:chExt cx="468720" cy="2950200"/>
          </a:xfrm>
        </p:grpSpPr>
        <p:sp>
          <p:nvSpPr>
            <p:cNvPr id="227" name=""/>
            <p:cNvSpPr/>
            <p:nvPr/>
          </p:nvSpPr>
          <p:spPr>
            <a:xfrm>
              <a:off x="2916000" y="25066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1240" y="213264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31240" y="24976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31240" y="286308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31240" y="32281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640600" y="35931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31240" y="395352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40600" y="43185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38800" y="4683960"/>
              <a:ext cx="32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BE" sz="2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4616280" y="3208320"/>
            <a:ext cx="900360" cy="36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10160" y="3208320"/>
            <a:ext cx="900000" cy="360360"/>
          </a:xfrm>
          <a:prstGeom prst="rect">
            <a:avLst/>
          </a:prstGeom>
          <a:solidFill>
            <a:srgbClr val="faf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e</a:t>
            </a:r>
            <a:r>
              <a:rPr b="0" lang="nl-BE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11320" y="3621240"/>
            <a:ext cx="54000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52760" y="3621240"/>
            <a:ext cx="360360" cy="36036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334120" y="3276720"/>
            <a:ext cx="838080" cy="620640"/>
            <a:chOff x="5334120" y="3276720"/>
            <a:chExt cx="838080" cy="620640"/>
          </a:xfrm>
        </p:grpSpPr>
        <p:sp>
          <p:nvSpPr>
            <p:cNvPr id="241" name=""/>
            <p:cNvSpPr/>
            <p:nvPr/>
          </p:nvSpPr>
          <p:spPr>
            <a:xfrm>
              <a:off x="5334120" y="3276720"/>
              <a:ext cx="838080" cy="228600"/>
            </a:xfrm>
            <a:prstGeom prst="leftArrow">
              <a:avLst>
                <a:gd name="adj1" fmla="val 50000"/>
                <a:gd name="adj2" fmla="val 9165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34290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276720" y="3885840"/>
            <a:ext cx="849240" cy="697320"/>
            <a:chOff x="3276720" y="3885840"/>
            <a:chExt cx="849240" cy="697320"/>
          </a:xfrm>
        </p:grpSpPr>
        <p:sp>
          <p:nvSpPr>
            <p:cNvPr id="244" name=""/>
            <p:cNvSpPr/>
            <p:nvPr/>
          </p:nvSpPr>
          <p:spPr>
            <a:xfrm rot="16200000">
              <a:off x="3250440" y="3912120"/>
              <a:ext cx="569880" cy="51732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57600" y="41148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24080" y="5256720"/>
            <a:ext cx="2661120" cy="703800"/>
            <a:chOff x="3124080" y="5256720"/>
            <a:chExt cx="2661120" cy="703800"/>
          </a:xfrm>
        </p:grpSpPr>
        <p:sp>
          <p:nvSpPr>
            <p:cNvPr id="247" name=""/>
            <p:cNvSpPr/>
            <p:nvPr/>
          </p:nvSpPr>
          <p:spPr>
            <a:xfrm>
              <a:off x="3124080" y="5562720"/>
              <a:ext cx="914400" cy="228600"/>
            </a:xfrm>
            <a:prstGeom prst="leftArrow">
              <a:avLst>
                <a:gd name="adj1" fmla="val 50000"/>
                <a:gd name="adj2" fmla="val 100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86200" y="541008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95520" y="5256720"/>
              <a:ext cx="1489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Restart </a:t>
              </a:r>
              <a:br>
                <a:rPr sz="2000"/>
              </a:b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Instru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352680" y="3276720"/>
            <a:ext cx="969480" cy="914400"/>
            <a:chOff x="3352680" y="3276720"/>
            <a:chExt cx="969480" cy="914400"/>
          </a:xfrm>
        </p:grpSpPr>
        <p:grpSp>
          <p:nvGrpSpPr>
            <p:cNvPr id="251" name=""/>
            <p:cNvGrpSpPr/>
            <p:nvPr/>
          </p:nvGrpSpPr>
          <p:grpSpPr>
            <a:xfrm>
              <a:off x="3352680" y="3581640"/>
              <a:ext cx="969480" cy="609480"/>
              <a:chOff x="3352680" y="3581640"/>
              <a:chExt cx="96948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3352680" y="3581640"/>
                <a:ext cx="676080" cy="609480"/>
              </a:xfrm>
              <a:prstGeom prst="lightningBolt">
                <a:avLst/>
              </a:prstGeom>
              <a:solidFill>
                <a:srgbClr val="618ff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54880" y="3656880"/>
                <a:ext cx="46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2000" spc="-1" strike="noStrike">
                    <a:solidFill>
                      <a:srgbClr val="000000"/>
                    </a:solidFill>
                    <a:latin typeface="Tahoma"/>
                  </a:rPr>
                  <a:t>P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3657240" y="32767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286000" y="3276720"/>
            <a:ext cx="1143000" cy="609480"/>
            <a:chOff x="2286000" y="3276720"/>
            <a:chExt cx="1143000" cy="609480"/>
          </a:xfrm>
        </p:grpSpPr>
        <p:sp>
          <p:nvSpPr>
            <p:cNvPr id="256" name=""/>
            <p:cNvSpPr/>
            <p:nvPr/>
          </p:nvSpPr>
          <p:spPr>
            <a:xfrm>
              <a:off x="2286000" y="3657600"/>
              <a:ext cx="1143000" cy="228600"/>
            </a:xfrm>
            <a:prstGeom prst="rightArrow">
              <a:avLst>
                <a:gd name="adj1" fmla="val 50000"/>
                <a:gd name="adj2" fmla="val 125000"/>
              </a:avLst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86000" y="32767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572000" y="2286000"/>
            <a:ext cx="3581280" cy="1142640"/>
            <a:chOff x="4572000" y="2286000"/>
            <a:chExt cx="3581280" cy="1142640"/>
          </a:xfrm>
        </p:grpSpPr>
        <p:sp>
          <p:nvSpPr>
            <p:cNvPr id="259" name=""/>
            <p:cNvSpPr/>
            <p:nvPr/>
          </p:nvSpPr>
          <p:spPr>
            <a:xfrm>
              <a:off x="6781680" y="2286000"/>
              <a:ext cx="468360" cy="468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32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flipV="1">
              <a:off x="4572000" y="2818800"/>
              <a:ext cx="3581280" cy="609480"/>
            </a:xfrm>
            <a:custGeom>
              <a:avLst/>
              <a:gdLst>
                <a:gd name="textAreaLeft" fmla="*/ 626760 w 3581280"/>
                <a:gd name="textAreaRight" fmla="*/ 2596680 w 35812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H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aging (valid/invali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swapping  (fast di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S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handling of page-fault (PF)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ahoma"/>
              </a:rPr>
              <a:t>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ble to RESTART instruction after 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tricky!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E.g.      ADD A,B,C    (C </a:t>
            </a:r>
            <a:r>
              <a:rPr b="0" lang="nl-B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A + 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5638680" y="2346480"/>
            <a:ext cx="1440000" cy="71892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DD A,B,C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8680" y="3352680"/>
            <a:ext cx="1440000" cy="71928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77040" y="3962520"/>
            <a:ext cx="1440000" cy="71892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77040" y="2971800"/>
            <a:ext cx="1440000" cy="719280"/>
          </a:xfrm>
          <a:prstGeom prst="rect">
            <a:avLst/>
          </a:prstGeom>
          <a:solidFill>
            <a:srgbClr val="fe7c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419720" y="2133720"/>
            <a:ext cx="969480" cy="609480"/>
            <a:chOff x="4419720" y="2133720"/>
            <a:chExt cx="969480" cy="609480"/>
          </a:xfrm>
        </p:grpSpPr>
        <p:sp>
          <p:nvSpPr>
            <p:cNvPr id="270" name=""/>
            <p:cNvSpPr/>
            <p:nvPr/>
          </p:nvSpPr>
          <p:spPr>
            <a:xfrm>
              <a:off x="4419720" y="213372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21920" y="220896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09480" y="265284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etch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317196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etch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369108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dd A t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421164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store result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09480" y="2133720"/>
            <a:ext cx="3962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fetch instr. + de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381560" y="2666880"/>
            <a:ext cx="969480" cy="609480"/>
            <a:chOff x="4381560" y="2666880"/>
            <a:chExt cx="969480" cy="609480"/>
          </a:xfrm>
        </p:grpSpPr>
        <p:sp>
          <p:nvSpPr>
            <p:cNvPr id="278" name=""/>
            <p:cNvSpPr/>
            <p:nvPr/>
          </p:nvSpPr>
          <p:spPr>
            <a:xfrm>
              <a:off x="4381560" y="266688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83760" y="274212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457880" y="3200400"/>
            <a:ext cx="969480" cy="609480"/>
            <a:chOff x="4457880" y="3200400"/>
            <a:chExt cx="969480" cy="609480"/>
          </a:xfrm>
        </p:grpSpPr>
        <p:sp>
          <p:nvSpPr>
            <p:cNvPr id="281" name=""/>
            <p:cNvSpPr/>
            <p:nvPr/>
          </p:nvSpPr>
          <p:spPr>
            <a:xfrm>
              <a:off x="4457880" y="320040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60080" y="32756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4114800"/>
            <a:ext cx="969480" cy="609480"/>
            <a:chOff x="4427640" y="4114800"/>
            <a:chExt cx="969480" cy="609480"/>
          </a:xfrm>
        </p:grpSpPr>
        <p:sp>
          <p:nvSpPr>
            <p:cNvPr id="284" name=""/>
            <p:cNvSpPr/>
            <p:nvPr/>
          </p:nvSpPr>
          <p:spPr>
            <a:xfrm>
              <a:off x="4427640" y="4114800"/>
              <a:ext cx="676080" cy="609480"/>
            </a:xfrm>
            <a:prstGeom prst="lightningBol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840" y="419004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2000" spc="-1" strike="noStrike">
                  <a:solidFill>
                    <a:srgbClr val="000000"/>
                  </a:solidFill>
                  <a:latin typeface="Tahoma"/>
                </a:rPr>
                <a:t>P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638680" y="2362320"/>
            <a:ext cx="1440000" cy="71892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DD A,B,C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3368520"/>
            <a:ext cx="1440000" cy="7192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A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77040" y="3978360"/>
            <a:ext cx="1440000" cy="71892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B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77040" y="2987640"/>
            <a:ext cx="1440000" cy="719280"/>
          </a:xfrm>
          <a:prstGeom prst="rect">
            <a:avLst/>
          </a:prstGeom>
          <a:solidFill>
            <a:srgbClr val="aff2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C: …        </a:t>
            </a:r>
            <a:br>
              <a:rPr sz="2000"/>
            </a:b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4800600"/>
            <a:ext cx="7696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Possible: restart 4 ti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 if changes occurred 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Tahoma"/>
              </a:rPr>
              <a:t>What if changes occurr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Autoincrement in indexregisters    12(R3+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Move bytes across page bounderies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3086280"/>
            <a:ext cx="990360" cy="685800"/>
          </a:xfrm>
          <a:prstGeom prst="rect">
            <a:avLst/>
          </a:prstGeom>
          <a:solidFill>
            <a:srgbClr val="cecece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86600" y="3352680"/>
            <a:ext cx="990720" cy="685800"/>
          </a:xfrm>
          <a:prstGeom prst="rect">
            <a:avLst/>
          </a:prstGeom>
          <a:gradFill rotWithShape="0">
            <a:gsLst>
              <a:gs pos="0">
                <a:srgbClr val="5e5e5e"/>
              </a:gs>
              <a:gs pos="100000">
                <a:srgbClr val="cecece"/>
              </a:gs>
            </a:gsLst>
            <a:lin ang="108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38880" y="2971800"/>
            <a:ext cx="533520" cy="622440"/>
          </a:xfrm>
          <a:custGeom>
            <a:avLst/>
            <a:gdLst/>
            <a:ahLst/>
            <a:rect l="l" t="t" r="r" b="b"/>
            <a:pathLst>
              <a:path w="440" h="392">
                <a:moveTo>
                  <a:pt x="336" y="392"/>
                </a:moveTo>
                <a:cubicBezTo>
                  <a:pt x="388" y="252"/>
                  <a:pt x="440" y="112"/>
                  <a:pt x="384" y="56"/>
                </a:cubicBezTo>
                <a:cubicBezTo>
                  <a:pt x="328" y="0"/>
                  <a:pt x="164" y="28"/>
                  <a:pt x="0" y="56"/>
                </a:cubicBezTo>
              </a:path>
            </a:pathLst>
          </a:custGeom>
          <a:noFill/>
          <a:ln w="38160">
            <a:solidFill>
              <a:srgbClr val="fc0128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48720" y="2819520"/>
            <a:ext cx="0" cy="1447560"/>
          </a:xfrm>
          <a:prstGeom prst="line">
            <a:avLst/>
          </a:prstGeom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90000"/>
              </a:lnSpc>
              <a:buClr>
                <a:srgbClr val="000000"/>
              </a:buClr>
              <a:buFont typeface="Tahoma"/>
              <a:buChar char="•"/>
              <a:tabLst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Tahoma"/>
              </a:rPr>
              <a:t>Paging HW available, OS impl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Paging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Demand P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46320"/>
                <a:tab algn="l" pos="2563920"/>
                <a:tab algn="l" pos="380988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BE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05720" y="3086280"/>
            <a:ext cx="761760" cy="685800"/>
          </a:xfrm>
          <a:prstGeom prst="rect">
            <a:avLst/>
          </a:prstGeom>
          <a:gradFill rotWithShape="0">
            <a:gsLst>
              <a:gs pos="0">
                <a:srgbClr val="5e5e5e"/>
              </a:gs>
              <a:gs pos="100000">
                <a:srgbClr val="cecece"/>
              </a:gs>
            </a:gsLst>
            <a:lin ang="10800000"/>
          </a:gra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5240" y="454500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41560" y="4545000"/>
            <a:ext cx="13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Tru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5181480"/>
            <a:ext cx="18892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PF = faul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never re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58520" y="5181480"/>
            <a:ext cx="27302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PF = often no 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Tahoma"/>
              </a:rPr>
              <a:t>almost always rest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09-28T07:01:41Z</cp:lastPrinted>
  <dcterms:modified xsi:type="dcterms:W3CDTF">2005-11-18T10:32:29Z</dcterms:modified>
  <cp:revision>304</cp:revision>
  <dc:subject>Lecture 3</dc:subject>
  <dc:title>IT - Module B1</dc:title>
</cp:coreProperties>
</file>