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51591995-82C9-4417-862A-2B7DFF8655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6CFC7E56-B693-46DD-9E35-BEC0B7BB0A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543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0680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751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6360" y="2521800"/>
            <a:ext cx="144108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14440" y="2971800"/>
            <a:ext cx="76320" cy="53352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051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339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05160" y="2895480"/>
            <a:ext cx="2514600" cy="5335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10480" y="3581280"/>
            <a:ext cx="761400" cy="533520"/>
            <a:chOff x="6810480" y="3581280"/>
            <a:chExt cx="761400" cy="533520"/>
          </a:xfrm>
        </p:grpSpPr>
        <p:grpSp>
          <p:nvGrpSpPr>
            <p:cNvPr id="240" name=""/>
            <p:cNvGrpSpPr/>
            <p:nvPr/>
          </p:nvGrpSpPr>
          <p:grpSpPr>
            <a:xfrm>
              <a:off x="7038720" y="3886200"/>
              <a:ext cx="533160" cy="228600"/>
              <a:chOff x="7038720" y="3886200"/>
              <a:chExt cx="533160" cy="228600"/>
            </a:xfrm>
          </p:grpSpPr>
          <p:sp>
            <p:nvSpPr>
              <p:cNvPr id="241" name=""/>
              <p:cNvSpPr/>
              <p:nvPr/>
            </p:nvSpPr>
            <p:spPr>
              <a:xfrm>
                <a:off x="7038720" y="388620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05320" y="400068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71920" y="411480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810480" y="358128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7320" y="358128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8" idx="3"/>
            <a:endCxn id="255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0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261" name=""/>
            <p:cNvCxnSpPr>
              <a:endCxn id="250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endCxn id="251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64" name=""/>
          <p:cNvCxnSpPr>
            <a:stCxn id="255" idx="4"/>
            <a:endCxn id="248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6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267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70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0" idx="1"/>
            <a:endCxn id="257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7" idx="2"/>
            <a:endCxn id="248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3" idx="1"/>
            <a:endCxn id="248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332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47" idx="3"/>
            <a:endCxn id="248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8032320" y="3022560"/>
            <a:ext cx="80568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577" y="21346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34040" y="4503600"/>
            <a:ext cx="959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77" y="21365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8" idx="6"/>
            <a:endCxn id="247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80" y="1927800"/>
            <a:ext cx="10418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830" y="-3584"/>
                </a:moveTo>
                <a:lnTo>
                  <a:pt x="22940" y="5254"/>
                </a:lnTo>
              </a:path>
              <a:path w="21600" h="21600">
                <a:moveTo>
                  <a:pt x="22940" y="0"/>
                </a:moveTo>
                <a:lnTo>
                  <a:pt x="22940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582880" y="1559520"/>
            <a:ext cx="10861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136" y="12816"/>
                </a:moveTo>
                <a:lnTo>
                  <a:pt x="-1286" y="5254"/>
                </a:lnTo>
              </a:path>
              <a:path w="21600" h="21600">
                <a:moveTo>
                  <a:pt x="-1286" y="0"/>
                </a:moveTo>
                <a:lnTo>
                  <a:pt x="-128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26160" y="2672280"/>
            <a:ext cx="11973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83" y="60398"/>
                </a:moveTo>
                <a:lnTo>
                  <a:pt x="-1359" y="6028"/>
                </a:lnTo>
              </a:path>
              <a:path w="21600" h="21600">
                <a:moveTo>
                  <a:pt x="-1359" y="0"/>
                </a:moveTo>
                <a:lnTo>
                  <a:pt x="-1359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32520" y="4835880"/>
            <a:ext cx="9594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02" y="23294"/>
                </a:moveTo>
                <a:lnTo>
                  <a:pt x="-1458" y="5254"/>
                </a:lnTo>
              </a:path>
              <a:path w="21600" h="21600">
                <a:moveTo>
                  <a:pt x="-1458" y="0"/>
                </a:moveTo>
                <a:lnTo>
                  <a:pt x="-1458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Ev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11400" y="4288320"/>
            <a:ext cx="14396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28" y="-23665"/>
                </a:moveTo>
                <a:lnTo>
                  <a:pt x="-1136" y="6028"/>
                </a:lnTo>
              </a:path>
              <a:path w="21600" h="21600">
                <a:moveTo>
                  <a:pt x="-1136" y="0"/>
                </a:moveTo>
                <a:lnTo>
                  <a:pt x="-113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7" idx="3"/>
            <a:endCxn id="294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99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300" name=""/>
            <p:cNvCxnSpPr>
              <a:endCxn id="289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endCxn id="290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3" name=""/>
          <p:cNvCxnSpPr>
            <a:stCxn id="294" idx="4"/>
            <a:endCxn id="287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305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306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9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89" idx="1"/>
            <a:endCxn id="296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287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292" idx="1"/>
            <a:endCxn id="287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566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286" idx="3"/>
            <a:endCxn id="287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5" idx="6"/>
            <a:endCxn id="286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1828800"/>
            <a:ext cx="106704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3124080"/>
            <a:ext cx="1066680" cy="1067040"/>
          </a:xfrm>
          <a:prstGeom prst="flowChartDecision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ev.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114300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702480" y="1101960"/>
            <a:ext cx="2235240" cy="4597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wapp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2" idx="0"/>
            <a:endCxn id="320" idx="1"/>
          </p:cNvCxnSpPr>
          <p:nvPr/>
        </p:nvCxnSpPr>
        <p:spPr>
          <a:xfrm flipH="1" flipV="1" rot="5400000">
            <a:off x="5700600" y="1175400"/>
            <a:ext cx="845280" cy="115776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324" idx="0"/>
          </p:cNvCxnSpPr>
          <p:nvPr/>
        </p:nvCxnSpPr>
        <p:spPr>
          <a:xfrm rot="5400000">
            <a:off x="6455520" y="799920"/>
            <a:ext cx="597600" cy="2131200"/>
          </a:xfrm>
          <a:prstGeom prst="bentConnector3">
            <a:avLst>
              <a:gd name="adj1" fmla="val 2573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99080" y="1050840"/>
            <a:ext cx="106668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wa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45080" y="2176560"/>
            <a:ext cx="0" cy="172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89440" y="2163600"/>
            <a:ext cx="0" cy="17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129280" y="2165400"/>
            <a:ext cx="679320" cy="2982960"/>
            <a:chOff x="5129280" y="2165400"/>
            <a:chExt cx="679320" cy="2982960"/>
          </a:xfrm>
        </p:grpSpPr>
        <p:sp>
          <p:nvSpPr>
            <p:cNvPr id="329" name=""/>
            <p:cNvSpPr/>
            <p:nvPr/>
          </p:nvSpPr>
          <p:spPr>
            <a:xfrm>
              <a:off x="5364000" y="2165400"/>
              <a:ext cx="444600" cy="298296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318600">
              <a:off x="5198760" y="2219400"/>
              <a:ext cx="523800" cy="152712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03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Jo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Swapp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56080" y="1596960"/>
            <a:ext cx="3003480" cy="4600440"/>
            <a:chOff x="3556080" y="1596960"/>
            <a:chExt cx="3003480" cy="4600440"/>
          </a:xfrm>
        </p:grpSpPr>
        <p:sp>
          <p:nvSpPr>
            <p:cNvPr id="334" name=""/>
            <p:cNvSpPr/>
            <p:nvPr/>
          </p:nvSpPr>
          <p:spPr>
            <a:xfrm>
              <a:off x="355608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956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11080" y="2350800"/>
            <a:ext cx="7810560" cy="3021480"/>
            <a:chOff x="811080" y="2350800"/>
            <a:chExt cx="7810560" cy="3021480"/>
          </a:xfrm>
        </p:grpSpPr>
        <p:sp>
          <p:nvSpPr>
            <p:cNvPr id="338" name=""/>
            <p:cNvSpPr/>
            <p:nvPr/>
          </p:nvSpPr>
          <p:spPr>
            <a:xfrm flipV="1">
              <a:off x="826920" y="2350800"/>
              <a:ext cx="7794720" cy="126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26920" y="383688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11080" y="535932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233680" y="2638440"/>
            <a:ext cx="9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8200" y="263844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54480" y="263844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perations on Processes (SVC/…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590920"/>
            <a:ext cx="838080" cy="53316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8200" y="3048120"/>
            <a:ext cx="838080" cy="533160"/>
          </a:xfrm>
          <a:prstGeom prst="ellipse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9400" y="2278440"/>
            <a:ext cx="11120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9" y="21161"/>
                </a:moveTo>
                <a:lnTo>
                  <a:pt x="-1550" y="5254"/>
                </a:lnTo>
              </a:path>
              <a:path w="21600" h="21600">
                <a:moveTo>
                  <a:pt x="-1550" y="0"/>
                </a:moveTo>
                <a:lnTo>
                  <a:pt x="-15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0640" y="2595960"/>
            <a:ext cx="8924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32" y="26975"/>
                </a:moveTo>
                <a:lnTo>
                  <a:pt x="-1816" y="5254"/>
                </a:lnTo>
              </a:path>
              <a:path w="21600" h="21600">
                <a:moveTo>
                  <a:pt x="-1816" y="0"/>
                </a:moveTo>
                <a:lnTo>
                  <a:pt x="-181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2971800"/>
            <a:ext cx="1219320" cy="3049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4952880"/>
            <a:ext cx="838440" cy="533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657600" y="4571640"/>
            <a:ext cx="1523880" cy="1448280"/>
            <a:chOff x="3657600" y="4571640"/>
            <a:chExt cx="1523880" cy="1448280"/>
          </a:xfrm>
        </p:grpSpPr>
        <p:sp>
          <p:nvSpPr>
            <p:cNvPr id="353" name=""/>
            <p:cNvSpPr/>
            <p:nvPr/>
          </p:nvSpPr>
          <p:spPr>
            <a:xfrm>
              <a:off x="3657600" y="4724280"/>
              <a:ext cx="1523880" cy="129564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57600" y="4571280"/>
              <a:ext cx="1219320" cy="121932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473520" y="4100400"/>
            <a:ext cx="195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.g.: Process Creation (Linu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800"/>
            </a:b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(pid == 0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child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ecve(“childprog”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  else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parent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ait (pid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2040" y="1452960"/>
            <a:ext cx="1736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682" y="22344"/>
                </a:moveTo>
                <a:lnTo>
                  <a:pt x="-938" y="5254"/>
                </a:lnTo>
              </a:path>
              <a:path w="21600" h="21600">
                <a:moveTo>
                  <a:pt x="-938" y="0"/>
                </a:moveTo>
                <a:lnTo>
                  <a:pt x="-93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58040" y="2791080"/>
            <a:ext cx="1718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53" y="22715"/>
                </a:moveTo>
                <a:lnTo>
                  <a:pt x="-947" y="5254"/>
                </a:lnTo>
              </a:path>
              <a:path w="21600" h="21600">
                <a:moveTo>
                  <a:pt x="-947" y="0"/>
                </a:moveTo>
                <a:lnTo>
                  <a:pt x="-947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44720" y="4534200"/>
            <a:ext cx="16527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5" y="19065"/>
                </a:moveTo>
                <a:lnTo>
                  <a:pt x="-986" y="5254"/>
                </a:lnTo>
              </a:path>
              <a:path w="21600" h="21600">
                <a:moveTo>
                  <a:pt x="-986" y="0"/>
                </a:moveTo>
                <a:lnTo>
                  <a:pt x="-98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7920" y="193356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33520" y="392760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87440" y="3877200"/>
            <a:ext cx="1855440" cy="21283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3. CPU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81400" y="34275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21440" y="33577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5" idx="3"/>
            <a:endCxn id="366" idx="2"/>
          </p:cNvCxnSpPr>
          <p:nvPr/>
        </p:nvCxnSpPr>
        <p:spPr>
          <a:xfrm>
            <a:off x="4514400" y="3657240"/>
            <a:ext cx="250740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6" idx="4"/>
            <a:endCxn id="365" idx="1"/>
          </p:cNvCxnSpPr>
          <p:nvPr/>
        </p:nvCxnSpPr>
        <p:spPr>
          <a:xfrm flipV="1" rot="16200000">
            <a:off x="4847760" y="1183680"/>
            <a:ext cx="310320" cy="5256720"/>
          </a:xfrm>
          <a:prstGeom prst="bentConnector4">
            <a:avLst>
              <a:gd name="adj1" fmla="val -73751"/>
              <a:gd name="adj2" fmla="val 104349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898880" y="2895480"/>
            <a:ext cx="1893960" cy="114300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14400" y="4572000"/>
            <a:ext cx="2514600" cy="53352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819520"/>
            <a:ext cx="2514600" cy="53316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352680"/>
            <a:ext cx="2514600" cy="1219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523880"/>
            <a:ext cx="2514600" cy="129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819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a,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a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Ra,3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b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b,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1523880"/>
            <a:ext cx="0" cy="9144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438280"/>
            <a:ext cx="0" cy="129564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523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29000" y="243792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335268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3733920"/>
            <a:ext cx="0" cy="6858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419720"/>
            <a:ext cx="0" cy="83808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429000" y="441936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510552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648320" y="2214720"/>
            <a:ext cx="3112920" cy="1823400"/>
            <a:chOff x="4648320" y="2214720"/>
            <a:chExt cx="3112920" cy="1823400"/>
          </a:xfrm>
        </p:grpSpPr>
        <p:sp>
          <p:nvSpPr>
            <p:cNvPr id="386" name=""/>
            <p:cNvSpPr/>
            <p:nvPr/>
          </p:nvSpPr>
          <p:spPr>
            <a:xfrm>
              <a:off x="6058080" y="2214720"/>
              <a:ext cx="1703160" cy="459720"/>
            </a:xfrm>
            <a:prstGeom prst="borderCallout1">
              <a:avLst>
                <a:gd name="adj1" fmla="val 18750"/>
                <a:gd name="adj2" fmla="val -8333"/>
                <a:gd name="adj3" fmla="val -52421"/>
                <a:gd name="adj4" fmla="val -83703"/>
              </a:avLst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u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648320" y="2437920"/>
              <a:ext cx="1295280" cy="1600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724280" y="3351600"/>
            <a:ext cx="3003120" cy="1524960"/>
            <a:chOff x="4724280" y="3351600"/>
            <a:chExt cx="3003120" cy="1524960"/>
          </a:xfrm>
        </p:grpSpPr>
        <p:sp>
          <p:nvSpPr>
            <p:cNvPr id="389" name=""/>
            <p:cNvSpPr/>
            <p:nvPr/>
          </p:nvSpPr>
          <p:spPr>
            <a:xfrm>
              <a:off x="6086520" y="3351600"/>
              <a:ext cx="1640880" cy="459720"/>
            </a:xfrm>
            <a:prstGeom prst="borderCallout1">
              <a:avLst>
                <a:gd name="adj1" fmla="val 18750"/>
                <a:gd name="adj2" fmla="val -8333"/>
                <a:gd name="adj3" fmla="val -43189"/>
                <a:gd name="adj4" fmla="val -88328"/>
              </a:avLst>
            </a:prstGeom>
            <a:solidFill>
              <a:srgbClr val="fe7c92"/>
            </a:solidFill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urs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724280" y="3733560"/>
              <a:ext cx="1295280" cy="1143000"/>
            </a:xfrm>
            <a:prstGeom prst="line">
              <a:avLst/>
            </a:prstGeom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rot="16200000">
            <a:off x="3939120" y="2842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066680" y="1981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510552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8160" y="52567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 burst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27000">
            <a:off x="-55800" y="30258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006640"/>
            <a:ext cx="4876920" cy="302256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1371600"/>
            <a:ext cx="1828800" cy="373392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4876920"/>
            <a:ext cx="5486400" cy="228600"/>
          </a:xfrm>
          <a:custGeom>
            <a:avLst/>
            <a:gdLst/>
            <a:ahLst/>
            <a:rect l="l" t="t" r="r" b="b"/>
            <a:pathLst>
              <a:path w="3456" h="144">
                <a:moveTo>
                  <a:pt x="0" y="144"/>
                </a:moveTo>
                <a:cubicBezTo>
                  <a:pt x="196" y="132"/>
                  <a:pt x="392" y="120"/>
                  <a:pt x="624" y="96"/>
                </a:cubicBezTo>
                <a:cubicBezTo>
                  <a:pt x="856" y="72"/>
                  <a:pt x="1056" y="0"/>
                  <a:pt x="1392" y="0"/>
                </a:cubicBezTo>
                <a:cubicBezTo>
                  <a:pt x="1728" y="0"/>
                  <a:pt x="2296" y="80"/>
                  <a:pt x="2640" y="96"/>
                </a:cubicBezTo>
                <a:cubicBezTo>
                  <a:pt x="2984" y="112"/>
                  <a:pt x="3220" y="104"/>
                  <a:pt x="3456" y="96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7000" y="1958760"/>
            <a:ext cx="2492640" cy="1572120"/>
            <a:chOff x="5337000" y="1958760"/>
            <a:chExt cx="2492640" cy="1572120"/>
          </a:xfrm>
        </p:grpSpPr>
        <p:sp>
          <p:nvSpPr>
            <p:cNvPr id="401" name=""/>
            <p:cNvSpPr/>
            <p:nvPr/>
          </p:nvSpPr>
          <p:spPr>
            <a:xfrm>
              <a:off x="5337000" y="1958760"/>
              <a:ext cx="1870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yp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20160" y="2209680"/>
              <a:ext cx="609480" cy="0"/>
            </a:xfrm>
            <a:prstGeom prst="line">
              <a:avLst/>
            </a:prstGeom>
            <a:ln w="763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20160" y="2743200"/>
              <a:ext cx="609480" cy="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20160" y="3276720"/>
              <a:ext cx="609480" cy="0"/>
            </a:xfrm>
            <a:prstGeom prst="line">
              <a:avLst/>
            </a:prstGeom>
            <a:ln w="7632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7524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18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436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38862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17524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8" idx="3"/>
            <a:endCxn id="410" idx="2"/>
          </p:cNvCxnSpPr>
          <p:nvPr/>
        </p:nvCxnSpPr>
        <p:spPr>
          <a:xfrm flipV="1">
            <a:off x="6743880" y="2209320"/>
            <a:ext cx="800640" cy="5342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2" name=""/>
          <p:cNvCxnSpPr>
            <a:endCxn id="409" idx="3"/>
          </p:cNvCxnSpPr>
          <p:nvPr/>
        </p:nvCxnSpPr>
        <p:spPr>
          <a:xfrm rot="5400000">
            <a:off x="5181120" y="304776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3" name=""/>
          <p:cNvCxnSpPr>
            <a:stCxn id="409" idx="1"/>
          </p:cNvCxnSpPr>
          <p:nvPr/>
        </p:nvCxnSpPr>
        <p:spPr>
          <a:xfrm rot="10800000">
            <a:off x="2513880" y="297108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4" name=""/>
          <p:cNvCxnSpPr>
            <a:stCxn id="407" idx="0"/>
            <a:endCxn id="408" idx="0"/>
          </p:cNvCxnSpPr>
          <p:nvPr/>
        </p:nvCxnSpPr>
        <p:spPr>
          <a:xfrm flipH="1" rot="16200000">
            <a:off x="4456800" y="102924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415" name=""/>
          <p:cNvCxnSpPr>
            <a:stCxn id="408" idx="2"/>
            <a:endCxn id="407" idx="2"/>
          </p:cNvCxnSpPr>
          <p:nvPr/>
        </p:nvCxnSpPr>
        <p:spPr>
          <a:xfrm rot="5400000">
            <a:off x="4456080" y="148644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6" name=""/>
          <p:cNvCxnSpPr>
            <a:stCxn id="406" idx="2"/>
            <a:endCxn id="407" idx="1"/>
          </p:cNvCxnSpPr>
          <p:nvPr/>
        </p:nvCxnSpPr>
        <p:spPr>
          <a:xfrm flipH="1" rot="16200000">
            <a:off x="1561320" y="2133360"/>
            <a:ext cx="53424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2004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hosen/</a:t>
            </a:r>
            <a:r>
              <a:rPr b="1" i="1" lang="nl-BE" sz="2400" spc="-1" strike="noStrike">
                <a:solidFill>
                  <a:srgbClr val="00279f"/>
                </a:solidFill>
                <a:latin typeface="Arial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297180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72200" y="3352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73896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25070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32054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38912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6160" y="4715280"/>
            <a:ext cx="7668000" cy="1351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igger?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leas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olunt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+</a:t>
            </a:r>
            <a:r>
              <a:rPr b="0" i="1" lang="nl-BE" sz="2400" spc="-1" strike="noStrike">
                <a:solidFill>
                  <a:srgbClr val="00ae00"/>
                </a:solidFill>
                <a:latin typeface="Arial"/>
              </a:rPr>
              <a:t>(3)</a:t>
            </a: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+(4)+(5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very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2910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4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5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6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8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3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4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5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6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.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0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84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3560" y="3594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25909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9320" y="312408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313848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80988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809880"/>
            <a:ext cx="0" cy="106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487692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4191120"/>
            <a:ext cx="1208160" cy="5331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7388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200" y="5562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7388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21800" y="2590920"/>
            <a:ext cx="288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11960" y="51055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571500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3613320"/>
            <a:ext cx="10954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365760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1960" y="2928960"/>
            <a:ext cx="1208160" cy="53352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6424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0" y="434340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3962520"/>
            <a:ext cx="304920" cy="53316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1800" y="4343400"/>
            <a:ext cx="612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27800" y="4346640"/>
            <a:ext cx="1208160" cy="5331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51055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532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276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347400" cy="583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7924680" y="57150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419112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133720" y="3886200"/>
            <a:ext cx="533160" cy="609480"/>
            <a:chOff x="2133720" y="3886200"/>
            <a:chExt cx="533160" cy="609480"/>
          </a:xfrm>
        </p:grpSpPr>
        <p:sp>
          <p:nvSpPr>
            <p:cNvPr id="463" name=""/>
            <p:cNvSpPr/>
            <p:nvPr/>
          </p:nvSpPr>
          <p:spPr>
            <a:xfrm>
              <a:off x="2133720" y="3950280"/>
              <a:ext cx="533160" cy="54540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133720" y="3886200"/>
              <a:ext cx="426600" cy="51336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9140600">
            <a:off x="307080" y="49518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8978000">
            <a:off x="4955400" y="35802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16160" y="1776240"/>
            <a:ext cx="5255280" cy="3945240"/>
            <a:chOff x="3116160" y="1776240"/>
            <a:chExt cx="5255280" cy="3945240"/>
          </a:xfrm>
        </p:grpSpPr>
        <p:sp>
          <p:nvSpPr>
            <p:cNvPr id="469" name=""/>
            <p:cNvSpPr/>
            <p:nvPr/>
          </p:nvSpPr>
          <p:spPr>
            <a:xfrm>
              <a:off x="3116160" y="2130480"/>
              <a:ext cx="5073840" cy="35910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5800" y="17762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83560" y="1773360"/>
            <a:ext cx="5047200" cy="3843360"/>
            <a:chOff x="583560" y="1773360"/>
            <a:chExt cx="5047200" cy="3843360"/>
          </a:xfrm>
        </p:grpSpPr>
        <p:sp>
          <p:nvSpPr>
            <p:cNvPr id="472" name=""/>
            <p:cNvSpPr/>
            <p:nvPr/>
          </p:nvSpPr>
          <p:spPr>
            <a:xfrm>
              <a:off x="1103400" y="2190600"/>
              <a:ext cx="4527360" cy="3426120"/>
            </a:xfrm>
            <a:prstGeom prst="ellipse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560" y="177336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n-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807200" y="2936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8600" y="255888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in (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24760" y="3021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JF/SR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7000" y="3952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87640" y="360504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ev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(M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73520" y="4795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First Come First Serv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514320" y="2971800"/>
            <a:ext cx="5411160" cy="596160"/>
            <a:chOff x="3514320" y="2971800"/>
            <a:chExt cx="5411160" cy="596160"/>
          </a:xfrm>
        </p:grpSpPr>
        <p:grpSp>
          <p:nvGrpSpPr>
            <p:cNvPr id="485" name=""/>
            <p:cNvGrpSpPr/>
            <p:nvPr/>
          </p:nvGrpSpPr>
          <p:grpSpPr>
            <a:xfrm>
              <a:off x="3674880" y="2971800"/>
              <a:ext cx="4966920" cy="228600"/>
              <a:chOff x="3674880" y="2971800"/>
              <a:chExt cx="496692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3828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84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400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95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04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59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15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71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823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36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91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47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58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136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67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22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34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894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435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99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10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652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21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748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674880" y="2971800"/>
                <a:ext cx="4655880" cy="228600"/>
                <a:chOff x="3674880" y="2971800"/>
                <a:chExt cx="4655880" cy="2286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6748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506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22684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030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7788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546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3076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8485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641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514320" y="319968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676680" y="2286000"/>
            <a:ext cx="37339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67800" y="2286000"/>
            <a:ext cx="457200" cy="60948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10600" y="2286000"/>
            <a:ext cx="457200" cy="60948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514320" y="4952880"/>
            <a:ext cx="5411160" cy="596160"/>
            <a:chOff x="3514320" y="4952880"/>
            <a:chExt cx="5411160" cy="596160"/>
          </a:xfrm>
        </p:grpSpPr>
        <p:grpSp>
          <p:nvGrpSpPr>
            <p:cNvPr id="525" name=""/>
            <p:cNvGrpSpPr/>
            <p:nvPr/>
          </p:nvGrpSpPr>
          <p:grpSpPr>
            <a:xfrm>
              <a:off x="3674880" y="4952880"/>
              <a:ext cx="4966920" cy="228600"/>
              <a:chOff x="3674880" y="4952880"/>
              <a:chExt cx="4966920" cy="228600"/>
            </a:xfrm>
          </p:grpSpPr>
          <p:sp>
            <p:nvSpPr>
              <p:cNvPr id="526" name=""/>
              <p:cNvSpPr/>
              <p:nvPr/>
            </p:nvSpPr>
            <p:spPr>
              <a:xfrm>
                <a:off x="3828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84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400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95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04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59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15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71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823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36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91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47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158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136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67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2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934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94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435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99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10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652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21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748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3674880" y="4952880"/>
                <a:ext cx="4655880" cy="228600"/>
                <a:chOff x="3674880" y="4952880"/>
                <a:chExt cx="4655880" cy="2286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36748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4506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2684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030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7788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546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3076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8485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641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514320" y="51807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591080" y="4267080"/>
            <a:ext cx="373392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33880" y="42670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76680" y="4267080"/>
            <a:ext cx="45720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17400" y="2212560"/>
            <a:ext cx="2835000" cy="1915200"/>
            <a:chOff x="617400" y="2212560"/>
            <a:chExt cx="2835000" cy="1915200"/>
          </a:xfrm>
        </p:grpSpPr>
        <p:sp>
          <p:nvSpPr>
            <p:cNvPr id="565" name=""/>
            <p:cNvSpPr/>
            <p:nvPr/>
          </p:nvSpPr>
          <p:spPr>
            <a:xfrm>
              <a:off x="617400" y="221256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47880" y="230184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560" y="268272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12720" y="4193640"/>
            <a:ext cx="2835000" cy="1915200"/>
            <a:chOff x="612720" y="4193640"/>
            <a:chExt cx="2835000" cy="1915200"/>
          </a:xfrm>
        </p:grpSpPr>
        <p:sp>
          <p:nvSpPr>
            <p:cNvPr id="569" name=""/>
            <p:cNvSpPr/>
            <p:nvPr/>
          </p:nvSpPr>
          <p:spPr>
            <a:xfrm>
              <a:off x="612720" y="419364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43200" y="428292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3880" y="4663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80640" y="3562200"/>
            <a:ext cx="2622240" cy="680040"/>
            <a:chOff x="4580640" y="3562200"/>
            <a:chExt cx="2622240" cy="680040"/>
          </a:xfrm>
        </p:grpSpPr>
        <p:sp>
          <p:nvSpPr>
            <p:cNvPr id="573" name=""/>
            <p:cNvSpPr/>
            <p:nvPr/>
          </p:nvSpPr>
          <p:spPr>
            <a:xfrm>
              <a:off x="4580640" y="3562200"/>
              <a:ext cx="2622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0 + 24 + 27 = 17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0080" y="3886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587840" y="5543280"/>
            <a:ext cx="2242800" cy="680040"/>
            <a:chOff x="4587840" y="5543280"/>
            <a:chExt cx="2242800" cy="680040"/>
          </a:xfrm>
        </p:grpSpPr>
        <p:sp>
          <p:nvSpPr>
            <p:cNvPr id="576" name=""/>
            <p:cNvSpPr/>
            <p:nvPr/>
          </p:nvSpPr>
          <p:spPr>
            <a:xfrm>
              <a:off x="4587840" y="5543280"/>
              <a:ext cx="22428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6 + 0 + 3 = 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5867280"/>
              <a:ext cx="9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CF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Average Waiting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 with shortest CPU-bu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495240" y="4038480"/>
            <a:ext cx="5411160" cy="596160"/>
            <a:chOff x="3495240" y="4038480"/>
            <a:chExt cx="5411160" cy="596160"/>
          </a:xfrm>
        </p:grpSpPr>
        <p:grpSp>
          <p:nvGrpSpPr>
            <p:cNvPr id="585" name=""/>
            <p:cNvGrpSpPr/>
            <p:nvPr/>
          </p:nvGrpSpPr>
          <p:grpSpPr>
            <a:xfrm>
              <a:off x="3655800" y="4038480"/>
              <a:ext cx="4966920" cy="228600"/>
              <a:chOff x="3655800" y="4038480"/>
              <a:chExt cx="4966920" cy="228600"/>
            </a:xfrm>
          </p:grpSpPr>
          <p:sp>
            <p:nvSpPr>
              <p:cNvPr id="586" name=""/>
              <p:cNvSpPr/>
              <p:nvPr/>
            </p:nvSpPr>
            <p:spPr>
              <a:xfrm>
                <a:off x="3809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5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209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76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85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40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96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52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632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17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2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28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39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946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48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03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15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704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244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80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691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462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002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558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655800" y="4038480"/>
                <a:ext cx="4655880" cy="228600"/>
                <a:chOff x="3655800" y="4038480"/>
                <a:chExt cx="4655880" cy="228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6558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316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0776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839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7597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5355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31168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466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22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495240" y="42663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138720" y="3352680"/>
            <a:ext cx="125280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57600" y="33526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3352680"/>
            <a:ext cx="94284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97120" y="4933440"/>
            <a:ext cx="3074760" cy="680040"/>
            <a:chOff x="3597120" y="4933440"/>
            <a:chExt cx="3074760" cy="680040"/>
          </a:xfrm>
        </p:grpSpPr>
        <p:sp>
          <p:nvSpPr>
            <p:cNvPr id="625" name=""/>
            <p:cNvSpPr/>
            <p:nvPr/>
          </p:nvSpPr>
          <p:spPr>
            <a:xfrm>
              <a:off x="3597120" y="4933440"/>
              <a:ext cx="3074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3 + 0 + 9 = 6.2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19440" y="52574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09480" y="3087000"/>
            <a:ext cx="2835000" cy="2420640"/>
            <a:chOff x="609480" y="3087000"/>
            <a:chExt cx="2835000" cy="2420640"/>
          </a:xfrm>
        </p:grpSpPr>
        <p:sp>
          <p:nvSpPr>
            <p:cNvPr id="628" name=""/>
            <p:cNvSpPr/>
            <p:nvPr/>
          </p:nvSpPr>
          <p:spPr>
            <a:xfrm>
              <a:off x="609480" y="3087000"/>
              <a:ext cx="2835000" cy="24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9960" y="3184560"/>
              <a:ext cx="0" cy="22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640" y="35654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057640" y="3352680"/>
            <a:ext cx="1081080" cy="6098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71500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 = opti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3048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3048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3048120"/>
            <a:ext cx="14479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15000" y="3048120"/>
            <a:ext cx="38088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4191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4191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4191120"/>
            <a:ext cx="38124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8" idx="2"/>
            <a:endCxn id="642" idx="0"/>
          </p:cNvCxnSpPr>
          <p:nvPr/>
        </p:nvCxnSpPr>
        <p:spPr>
          <a:xfrm>
            <a:off x="3809880" y="3504960"/>
            <a:ext cx="182952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0" idx="2"/>
            <a:endCxn id="644" idx="0"/>
          </p:cNvCxnSpPr>
          <p:nvPr/>
        </p:nvCxnSpPr>
        <p:spPr>
          <a:xfrm flipH="1">
            <a:off x="3542760" y="3504960"/>
            <a:ext cx="236268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47" name=""/>
          <p:cNvSpPr/>
          <p:nvPr/>
        </p:nvSpPr>
        <p:spPr>
          <a:xfrm>
            <a:off x="3352680" y="44956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5029200"/>
            <a:ext cx="236232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5562720"/>
            <a:ext cx="1828800" cy="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7200" y="479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47200" y="5333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33920" y="518148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6708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? Next CPU-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948200" y="3408480"/>
          <a:ext cx="27129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8200" y="3408480"/>
                    <a:ext cx="27129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1292400" y="2206800"/>
            <a:ext cx="4151160" cy="1784160"/>
          </a:xfrm>
          <a:prstGeom prst="wedgeRoundRectCallout">
            <a:avLst>
              <a:gd name="adj1" fmla="val 44990"/>
              <a:gd name="adj2" fmla="val 66546"/>
              <a:gd name="adj3" fmla="val 16667"/>
            </a:avLst>
          </a:prstGeom>
          <a:solidFill>
            <a:srgbClr val="aff2a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past, 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+ (1-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27000" y="5168880"/>
            <a:ext cx="155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517" y="-55125"/>
                </a:moveTo>
                <a:lnTo>
                  <a:pt x="22660" y="4000"/>
                </a:lnTo>
              </a:path>
              <a:path w="21600" h="21600">
                <a:moveTo>
                  <a:pt x="22660" y="0"/>
                </a:moveTo>
                <a:lnTo>
                  <a:pt x="2266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38440" y="5149800"/>
            <a:ext cx="169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288" y="-56531"/>
                </a:moveTo>
                <a:lnTo>
                  <a:pt x="22570" y="4000"/>
                </a:lnTo>
              </a:path>
              <a:path w="21600" h="21600">
                <a:moveTo>
                  <a:pt x="22570" y="0"/>
                </a:moveTo>
                <a:lnTo>
                  <a:pt x="2257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064040"/>
            <a:ext cx="1755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861" y="-18506"/>
                </a:moveTo>
                <a:lnTo>
                  <a:pt x="22537" y="4000"/>
                </a:lnTo>
              </a:path>
              <a:path w="21600" h="21600">
                <a:moveTo>
                  <a:pt x="22537" y="0"/>
                </a:moveTo>
                <a:lnTo>
                  <a:pt x="22537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,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e-Emptive-SJF = SRT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hortest Remaining Time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66200" y="4357800"/>
            <a:ext cx="5411160" cy="595800"/>
            <a:chOff x="466200" y="4357800"/>
            <a:chExt cx="5411160" cy="595800"/>
          </a:xfrm>
        </p:grpSpPr>
        <p:grpSp>
          <p:nvGrpSpPr>
            <p:cNvPr id="667" name=""/>
            <p:cNvGrpSpPr/>
            <p:nvPr/>
          </p:nvGrpSpPr>
          <p:grpSpPr>
            <a:xfrm>
              <a:off x="626760" y="4357800"/>
              <a:ext cx="4966920" cy="228240"/>
              <a:chOff x="626760" y="4357800"/>
              <a:chExt cx="4966920" cy="228240"/>
            </a:xfrm>
          </p:grpSpPr>
          <p:sp>
            <p:nvSpPr>
              <p:cNvPr id="668" name=""/>
              <p:cNvSpPr/>
              <p:nvPr/>
            </p:nvSpPr>
            <p:spPr>
              <a:xfrm>
                <a:off x="780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36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918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247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56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11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67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23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342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87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3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9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10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655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19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74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86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413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954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50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62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171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73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1267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626760" y="4357800"/>
                <a:ext cx="4655880" cy="228240"/>
                <a:chOff x="626760" y="4357800"/>
                <a:chExt cx="4655880" cy="228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267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4025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17872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9548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7306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5064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8264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5437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93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66200" y="4585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077840" y="3809880"/>
            <a:ext cx="3128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73080" y="3809880"/>
            <a:ext cx="4636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43240" y="3809880"/>
            <a:ext cx="93348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3809880"/>
            <a:ext cx="10666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24160" y="1893240"/>
            <a:ext cx="4495680" cy="1944360"/>
            <a:chOff x="2324160" y="1893240"/>
            <a:chExt cx="4495680" cy="1944360"/>
          </a:xfrm>
        </p:grpSpPr>
        <p:sp>
          <p:nvSpPr>
            <p:cNvPr id="708" name=""/>
            <p:cNvSpPr/>
            <p:nvPr/>
          </p:nvSpPr>
          <p:spPr>
            <a:xfrm>
              <a:off x="2324160" y="1893240"/>
              <a:ext cx="449568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5428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34960" y="2377800"/>
              <a:ext cx="40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1964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713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714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171880" y="4946760"/>
            <a:ext cx="1104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92240" y="4946760"/>
            <a:ext cx="31104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4946760"/>
            <a:ext cx="622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76720" y="4946760"/>
            <a:ext cx="1066680" cy="4712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4946760"/>
            <a:ext cx="177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7320" y="4946760"/>
            <a:ext cx="298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4778280" y="4816440"/>
            <a:ext cx="3985200" cy="954360"/>
            <a:chOff x="4778280" y="4816440"/>
            <a:chExt cx="3985200" cy="954360"/>
          </a:xfrm>
        </p:grpSpPr>
        <p:sp>
          <p:nvSpPr>
            <p:cNvPr id="756" name=""/>
            <p:cNvSpPr/>
            <p:nvPr/>
          </p:nvSpPr>
          <p:spPr>
            <a:xfrm>
              <a:off x="4778280" y="4816440"/>
              <a:ext cx="39852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7-8-0) + (10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6-3-3) + (24-7-5)        = 6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564160" y="45014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J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4160" y="56379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4484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4484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4484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480" y="3809880"/>
            <a:ext cx="171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6160" y="3809880"/>
            <a:ext cx="311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5360" y="3809880"/>
            <a:ext cx="477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7472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3971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03280" y="4946760"/>
            <a:ext cx="14616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8120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07964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068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49320" y="542772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2814"/>
              <a:gd name="adj5" fmla="val -92134"/>
              <a:gd name="adj6" fmla="val -1828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51080" y="543564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7032"/>
              <a:gd name="adj5" fmla="val -76685"/>
              <a:gd name="adj6" fmla="val -26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5440320"/>
            <a:ext cx="1015920" cy="552600"/>
          </a:xfrm>
          <a:prstGeom prst="borderCallout2">
            <a:avLst>
              <a:gd name="adj1" fmla="val 18750"/>
              <a:gd name="adj2" fmla="val -8333"/>
              <a:gd name="adj3" fmla="val 20689"/>
              <a:gd name="adj4" fmla="val -15625"/>
              <a:gd name="adj5" fmla="val -91666"/>
              <a:gd name="adj6" fmla="val -23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-2=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542960" y="4521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165400" y="452736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905120" y="5440320"/>
            <a:ext cx="101592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20000"/>
              <a:gd name="adj5" fmla="val -73930"/>
              <a:gd name="adj6" fmla="val -32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270240" y="4546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14760" y="5437080"/>
            <a:ext cx="1015920" cy="55908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28907"/>
              <a:gd name="adj5" fmla="val -91759"/>
              <a:gd name="adj6" fmla="val -5093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8-1=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866960" y="342252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96840" y="266544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19898"/>
              <a:gd name="adj5" fmla="val 116666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36760" y="3403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7760" y="2851200"/>
            <a:ext cx="62208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20662"/>
              <a:gd name="adj5" fmla="val 168537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270240" y="3378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336920" y="341604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343400" y="45021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77840" y="1993680"/>
            <a:ext cx="770760" cy="927360"/>
            <a:chOff x="177840" y="1993680"/>
            <a:chExt cx="770760" cy="927360"/>
          </a:xfrm>
        </p:grpSpPr>
        <p:sp>
          <p:nvSpPr>
            <p:cNvPr id="789" name=""/>
            <p:cNvSpPr/>
            <p:nvPr/>
          </p:nvSpPr>
          <p:spPr>
            <a:xfrm>
              <a:off x="177840" y="215892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01480" y="199368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85800" y="199980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00000">
              <a:off x="540720" y="217440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527688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7688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7688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4778640" y="3652920"/>
            <a:ext cx="4364640" cy="954360"/>
            <a:chOff x="4778640" y="3652920"/>
            <a:chExt cx="4364640" cy="954360"/>
          </a:xfrm>
        </p:grpSpPr>
        <p:sp>
          <p:nvSpPr>
            <p:cNvPr id="797" name=""/>
            <p:cNvSpPr/>
            <p:nvPr/>
          </p:nvSpPr>
          <p:spPr>
            <a:xfrm>
              <a:off x="4778640" y="365292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17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1-3-3) + (24-7-5)       = 6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89600" y="427356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117880" y="3032280"/>
            <a:ext cx="622080" cy="37620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134185"/>
              <a:gd name="adj5" fmla="val 187342"/>
              <a:gd name="adj6" fmla="val 18622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445000"/>
            <a:ext cx="623880" cy="355680"/>
          </a:xfrm>
          <a:prstGeom prst="borderCallout2">
            <a:avLst>
              <a:gd name="adj1" fmla="val 18750"/>
              <a:gd name="adj2" fmla="val -8333"/>
              <a:gd name="adj3" fmla="val 32143"/>
              <a:gd name="adj4" fmla="val -29009"/>
              <a:gd name="adj5" fmla="val -140180"/>
              <a:gd name="adj6" fmla="val -458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696000" y="3311640"/>
            <a:ext cx="9288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2" y="38327"/>
                </a:moveTo>
                <a:lnTo>
                  <a:pt x="-177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arr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898720"/>
            <a:ext cx="10602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5" y="68356"/>
                </a:moveTo>
                <a:lnTo>
                  <a:pt x="-155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2920" y="3108240"/>
            <a:ext cx="60984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75" y="52190"/>
                </a:moveTo>
                <a:lnTo>
                  <a:pt x="-2700" y="8990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5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Important Jobs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66200" y="4267080"/>
            <a:ext cx="5411160" cy="596160"/>
            <a:chOff x="466200" y="4267080"/>
            <a:chExt cx="5411160" cy="596160"/>
          </a:xfrm>
        </p:grpSpPr>
        <p:grpSp>
          <p:nvGrpSpPr>
            <p:cNvPr id="808" name=""/>
            <p:cNvGrpSpPr/>
            <p:nvPr/>
          </p:nvGrpSpPr>
          <p:grpSpPr>
            <a:xfrm>
              <a:off x="626760" y="4267080"/>
              <a:ext cx="4966920" cy="228600"/>
              <a:chOff x="626760" y="4267080"/>
              <a:chExt cx="4966920" cy="228600"/>
            </a:xfrm>
          </p:grpSpPr>
          <p:sp>
            <p:nvSpPr>
              <p:cNvPr id="809" name=""/>
              <p:cNvSpPr/>
              <p:nvPr/>
            </p:nvSpPr>
            <p:spPr>
              <a:xfrm>
                <a:off x="780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36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91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47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56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11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67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23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33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487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43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99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10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65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19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74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886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41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954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350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62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17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73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126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26760" y="4267080"/>
                <a:ext cx="4655880" cy="228600"/>
                <a:chOff x="626760" y="4267080"/>
                <a:chExt cx="4655880" cy="228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267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4025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17872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9548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7306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5064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82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437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93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46620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1386000" y="3719520"/>
            <a:ext cx="4903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3719520"/>
            <a:ext cx="4762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57400" y="3719520"/>
            <a:ext cx="9288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1360" y="3719520"/>
            <a:ext cx="10810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849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850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2795760" y="4952880"/>
            <a:ext cx="11095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05280" y="4952880"/>
            <a:ext cx="45720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57360" y="4952880"/>
            <a:ext cx="3384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90680" y="4952880"/>
            <a:ext cx="10954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4952880"/>
            <a:ext cx="176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1720" y="4952880"/>
            <a:ext cx="32832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01960" y="4411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78280" y="5637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-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610080" y="1436040"/>
            <a:ext cx="5600520" cy="1944360"/>
            <a:chOff x="3610080" y="1436040"/>
            <a:chExt cx="5600520" cy="1944360"/>
          </a:xfrm>
        </p:grpSpPr>
        <p:sp>
          <p:nvSpPr>
            <p:cNvPr id="894" name=""/>
            <p:cNvSpPr/>
            <p:nvPr/>
          </p:nvSpPr>
          <p:spPr>
            <a:xfrm>
              <a:off x="3610080" y="1436040"/>
              <a:ext cx="560052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i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4020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21240" y="1920960"/>
              <a:ext cx="52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0556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86720" y="158436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51636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1636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1636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4840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4840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54840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904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952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9200" y="3719520"/>
            <a:ext cx="18108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8120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08576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39068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1871640" y="34146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960640" y="3429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879720" y="3402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352760" y="340812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984320" y="1828440"/>
            <a:ext cx="768960" cy="927360"/>
            <a:chOff x="1984320" y="1828440"/>
            <a:chExt cx="768960" cy="927360"/>
          </a:xfrm>
        </p:grpSpPr>
        <p:sp>
          <p:nvSpPr>
            <p:cNvPr id="916" name=""/>
            <p:cNvSpPr/>
            <p:nvPr/>
          </p:nvSpPr>
          <p:spPr>
            <a:xfrm>
              <a:off x="1984320" y="199368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07960" y="182844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2492280" y="183456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6200000">
              <a:off x="2345400" y="20073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768240" y="259380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28828"/>
              <a:gd name="adj5" fmla="val 133972"/>
              <a:gd name="adj6" fmla="val 17244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31960" y="2773440"/>
            <a:ext cx="6224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135203"/>
              <a:gd name="adj5" fmla="val 179430"/>
              <a:gd name="adj6" fmla="val 19591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90560" y="4952880"/>
            <a:ext cx="28584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79056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08108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40004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86160" y="45813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789280" y="4595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898800" y="4568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362480" y="457488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67200" y="5530680"/>
            <a:ext cx="6080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32898"/>
              <a:gd name="adj5" fmla="val -84828"/>
              <a:gd name="adj6" fmla="val -892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81160" y="5580000"/>
            <a:ext cx="608040" cy="527040"/>
          </a:xfrm>
          <a:prstGeom prst="borderCallout2">
            <a:avLst>
              <a:gd name="adj1" fmla="val 18750"/>
              <a:gd name="adj2" fmla="val -8333"/>
              <a:gd name="adj3" fmla="val 21685"/>
              <a:gd name="adj4" fmla="val -25587"/>
              <a:gd name="adj5" fmla="val -110842"/>
              <a:gd name="adj6" fmla="val -6057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58880" y="5559480"/>
            <a:ext cx="6080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4203"/>
              <a:gd name="adj5" fmla="val -110287"/>
              <a:gd name="adj6" fmla="val -9242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28880" y="5553000"/>
            <a:ext cx="608040" cy="55584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1592"/>
              <a:gd name="adj5" fmla="val -110287"/>
              <a:gd name="adj6" fmla="val -8302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20960" y="5537160"/>
            <a:ext cx="608040" cy="554040"/>
          </a:xfrm>
          <a:prstGeom prst="borderCallout2">
            <a:avLst>
              <a:gd name="adj1" fmla="val 18750"/>
              <a:gd name="adj2" fmla="val -8333"/>
              <a:gd name="adj3" fmla="val 20629"/>
              <a:gd name="adj4" fmla="val -50393"/>
              <a:gd name="adj5" fmla="val -100574"/>
              <a:gd name="adj6" fmla="val -15613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60720" y="2970360"/>
            <a:ext cx="622440" cy="338040"/>
          </a:xfrm>
          <a:prstGeom prst="borderCallout2">
            <a:avLst>
              <a:gd name="adj1" fmla="val 18750"/>
              <a:gd name="adj2" fmla="val -8333"/>
              <a:gd name="adj3" fmla="val 33800"/>
              <a:gd name="adj4" fmla="val 117856"/>
              <a:gd name="adj5" fmla="val 221597"/>
              <a:gd name="adj6" fmla="val 132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54640" y="5557680"/>
            <a:ext cx="608040" cy="393840"/>
          </a:xfrm>
          <a:prstGeom prst="borderCallout2">
            <a:avLst>
              <a:gd name="adj1" fmla="val 18750"/>
              <a:gd name="adj2" fmla="val -8333"/>
              <a:gd name="adj3" fmla="val 29032"/>
              <a:gd name="adj4" fmla="val -32898"/>
              <a:gd name="adj5" fmla="val -156046"/>
              <a:gd name="adj6" fmla="val -91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78640" y="4816440"/>
            <a:ext cx="4237920" cy="954360"/>
            <a:chOff x="4778640" y="4816440"/>
            <a:chExt cx="4237920" cy="954360"/>
          </a:xfrm>
        </p:grpSpPr>
        <p:sp>
          <p:nvSpPr>
            <p:cNvPr id="938" name=""/>
            <p:cNvSpPr/>
            <p:nvPr/>
          </p:nvSpPr>
          <p:spPr>
            <a:xfrm>
              <a:off x="4778640" y="4816440"/>
              <a:ext cx="42379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1-8-0) + (14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2-7-5)       = 9.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778640" y="3552840"/>
            <a:ext cx="4364640" cy="954360"/>
            <a:chOff x="4778640" y="3552840"/>
            <a:chExt cx="4364640" cy="954360"/>
          </a:xfrm>
        </p:grpSpPr>
        <p:sp>
          <p:nvSpPr>
            <p:cNvPr id="941" name=""/>
            <p:cNvSpPr/>
            <p:nvPr/>
          </p:nvSpPr>
          <p:spPr>
            <a:xfrm>
              <a:off x="4778640" y="355284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21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5-7-5)       = 8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41734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ty Scheduling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047320" y="221472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59280" y="40323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39574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3"/>
            <a:endCxn id="948" idx="2"/>
          </p:cNvCxnSpPr>
          <p:nvPr/>
        </p:nvCxnSpPr>
        <p:spPr>
          <a:xfrm>
            <a:off x="6093000" y="4262040"/>
            <a:ext cx="10706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4"/>
            <a:endCxn id="947" idx="1"/>
          </p:cNvCxnSpPr>
          <p:nvPr/>
        </p:nvCxnSpPr>
        <p:spPr>
          <a:xfrm flipV="1" rot="16200000">
            <a:off x="5709600" y="2504160"/>
            <a:ext cx="305640" cy="3820320"/>
          </a:xfrm>
          <a:prstGeom prst="bentConnector4">
            <a:avLst>
              <a:gd name="adj1" fmla="val -75000"/>
              <a:gd name="adj2" fmla="val 140976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6" idx="3"/>
            <a:endCxn id="947" idx="0"/>
          </p:cNvCxnSpPr>
          <p:nvPr/>
        </p:nvCxnSpPr>
        <p:spPr>
          <a:xfrm>
            <a:off x="3809520" y="2444760"/>
            <a:ext cx="1213560" cy="158328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53" idx="6"/>
            <a:endCxn id="946" idx="1"/>
          </p:cNvCxnSpPr>
          <p:nvPr/>
        </p:nvCxnSpPr>
        <p:spPr>
          <a:xfrm>
            <a:off x="1218960" y="209556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533520" y="1828800"/>
            <a:ext cx="685800" cy="53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5880" y="3497400"/>
            <a:ext cx="1067040" cy="9903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33920" y="175248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004840" y="1425600"/>
            <a:ext cx="868680" cy="967320"/>
            <a:chOff x="2004840" y="1425600"/>
            <a:chExt cx="868680" cy="967320"/>
          </a:xfrm>
        </p:grpSpPr>
        <p:sp>
          <p:nvSpPr>
            <p:cNvPr id="957" name=""/>
            <p:cNvSpPr/>
            <p:nvPr/>
          </p:nvSpPr>
          <p:spPr>
            <a:xfrm>
              <a:off x="2004840" y="1425600"/>
              <a:ext cx="868680" cy="88272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13560" y="1438920"/>
              <a:ext cx="359640" cy="29880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52440" y="1493640"/>
              <a:ext cx="329040" cy="4075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18400" y="1603080"/>
              <a:ext cx="50040" cy="1368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2720" y="1629720"/>
              <a:ext cx="77040" cy="8064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17600" y="1625760"/>
              <a:ext cx="37440" cy="583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42080" y="1650600"/>
              <a:ext cx="71640" cy="874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36400" y="1654200"/>
              <a:ext cx="54720" cy="4536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3960" y="1663920"/>
              <a:ext cx="51840" cy="6552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7520" y="1675440"/>
              <a:ext cx="30600" cy="6588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16800" y="1728000"/>
              <a:ext cx="19800" cy="1188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23440" y="1747440"/>
              <a:ext cx="73080" cy="3780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17880" y="1742400"/>
              <a:ext cx="154440" cy="19404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99320" y="1782720"/>
              <a:ext cx="80640" cy="723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14360" y="1803960"/>
              <a:ext cx="532080" cy="3812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40360" y="1810440"/>
              <a:ext cx="29880" cy="180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6440" y="1876680"/>
              <a:ext cx="60480" cy="3708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04200" y="1887840"/>
              <a:ext cx="70560" cy="12996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53320" y="1902960"/>
              <a:ext cx="27360" cy="2700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79520" y="1901160"/>
              <a:ext cx="63000" cy="4860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10120" y="1912320"/>
              <a:ext cx="106200" cy="4428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59280" y="1922400"/>
              <a:ext cx="81720" cy="6480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18520" y="1971360"/>
              <a:ext cx="212760" cy="31500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77760" y="2050200"/>
              <a:ext cx="44280" cy="2304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95400" y="2081160"/>
              <a:ext cx="37440" cy="1512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50760" y="2112480"/>
              <a:ext cx="93240" cy="11232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54000" y="2114280"/>
              <a:ext cx="36720" cy="9216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1520" y="2135880"/>
              <a:ext cx="42480" cy="10152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31040" y="2169000"/>
              <a:ext cx="34200" cy="6480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1400" y="2189520"/>
              <a:ext cx="55440" cy="3096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5992200">
              <a:off x="2174400" y="1919520"/>
              <a:ext cx="379440" cy="4888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948120" y="3208320"/>
            <a:ext cx="795240" cy="906840"/>
            <a:chOff x="3948120" y="3208320"/>
            <a:chExt cx="795240" cy="906840"/>
          </a:xfrm>
        </p:grpSpPr>
        <p:sp>
          <p:nvSpPr>
            <p:cNvPr id="989" name=""/>
            <p:cNvSpPr/>
            <p:nvPr/>
          </p:nvSpPr>
          <p:spPr>
            <a:xfrm>
              <a:off x="3948120" y="3208320"/>
              <a:ext cx="795240" cy="82836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47840" y="3220560"/>
              <a:ext cx="329400" cy="28008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83120" y="3272040"/>
              <a:ext cx="301320" cy="3823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35040" y="3375000"/>
              <a:ext cx="45720" cy="1296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39000" y="3399840"/>
              <a:ext cx="70560" cy="7596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42880" y="3395880"/>
              <a:ext cx="34200" cy="547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65200" y="3419280"/>
              <a:ext cx="65880" cy="820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51600" y="3422880"/>
              <a:ext cx="50400" cy="4284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76000" y="3431880"/>
              <a:ext cx="47520" cy="6156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380840" y="3442680"/>
              <a:ext cx="27720" cy="6192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0720" y="3492000"/>
              <a:ext cx="18000" cy="11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9720" y="3510000"/>
              <a:ext cx="66960" cy="3528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1800" y="3505680"/>
              <a:ext cx="141480" cy="18180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17760" y="3543480"/>
              <a:ext cx="73800" cy="676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40000" y="3563280"/>
              <a:ext cx="487080" cy="3578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55200" y="3569760"/>
              <a:ext cx="27360" cy="1692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7680" y="3631680"/>
              <a:ext cx="55440" cy="3456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39200" y="3642120"/>
              <a:ext cx="64800" cy="12204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67080" y="3656160"/>
              <a:ext cx="25200" cy="2556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99400" y="3654720"/>
              <a:ext cx="57600" cy="4536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27480" y="3664800"/>
              <a:ext cx="97200" cy="4140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9600" y="3674520"/>
              <a:ext cx="74880" cy="6084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0720" y="3720240"/>
              <a:ext cx="194760" cy="29556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55520" y="3794400"/>
              <a:ext cx="40320" cy="2160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71720" y="3823560"/>
              <a:ext cx="34200" cy="1404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31040" y="3852720"/>
              <a:ext cx="85320" cy="10548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33920" y="3854520"/>
              <a:ext cx="33480" cy="8640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95040" y="3875040"/>
              <a:ext cx="38880" cy="9504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04480" y="3905640"/>
              <a:ext cx="31320" cy="6084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39960" y="3925080"/>
              <a:ext cx="50760" cy="2880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992200">
              <a:off x="4098600" y="3677760"/>
              <a:ext cx="356040" cy="4474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 txBox="1"/>
          <p:nvPr/>
        </p:nvSpPr>
        <p:spPr>
          <a:xfrm>
            <a:off x="422280" y="2543040"/>
            <a:ext cx="346716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rv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1" name=""/>
          <p:cNvSpPr/>
          <p:nvPr/>
        </p:nvSpPr>
        <p:spPr>
          <a:xfrm>
            <a:off x="3183480" y="55497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ng:   Priority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500"/>
                            </p:stCondLst>
                            <p:childTnLst>
                              <p:par>
                                <p:cTn id="2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iority defined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n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asurable quantity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#CPU, #RAM, CPU / IO-burst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policy, user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mportance, funds, typ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Response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avg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= quite high and function(T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904320" y="4267080"/>
            <a:ext cx="5411160" cy="596160"/>
            <a:chOff x="904320" y="4267080"/>
            <a:chExt cx="5411160" cy="596160"/>
          </a:xfrm>
        </p:grpSpPr>
        <p:grpSp>
          <p:nvGrpSpPr>
            <p:cNvPr id="1029" name=""/>
            <p:cNvGrpSpPr/>
            <p:nvPr/>
          </p:nvGrpSpPr>
          <p:grpSpPr>
            <a:xfrm>
              <a:off x="1061640" y="4267080"/>
              <a:ext cx="4862160" cy="228600"/>
              <a:chOff x="1061640" y="4267080"/>
              <a:chExt cx="4862160" cy="228600"/>
            </a:xfrm>
          </p:grpSpPr>
          <p:sp>
            <p:nvSpPr>
              <p:cNvPr id="1030" name=""/>
              <p:cNvSpPr/>
              <p:nvPr/>
            </p:nvSpPr>
            <p:spPr>
              <a:xfrm>
                <a:off x="1212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644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16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68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71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124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2762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28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733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35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88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92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45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795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947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523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40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5550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707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119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1638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16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66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1061640" y="4267080"/>
                <a:ext cx="4557600" cy="228600"/>
                <a:chOff x="1061640" y="4267080"/>
                <a:chExt cx="4557600" cy="2286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061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21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808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3404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1000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8592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619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" name=""/>
              <p:cNvSpPr/>
              <p:nvPr/>
            </p:nvSpPr>
            <p:spPr>
              <a:xfrm>
                <a:off x="5771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23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90432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2262240" y="3733920"/>
            <a:ext cx="623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76520" y="3733920"/>
            <a:ext cx="5760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967360" y="2131560"/>
            <a:ext cx="2835000" cy="1597680"/>
            <a:chOff x="5967360" y="2131560"/>
            <a:chExt cx="2835000" cy="1597680"/>
          </a:xfrm>
        </p:grpSpPr>
        <p:sp>
          <p:nvSpPr>
            <p:cNvPr id="1068" name=""/>
            <p:cNvSpPr/>
            <p:nvPr/>
          </p:nvSpPr>
          <p:spPr>
            <a:xfrm>
              <a:off x="5967360" y="2131560"/>
              <a:ext cx="283500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4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97480" y="2198520"/>
              <a:ext cx="0" cy="1387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78520" y="2579760"/>
              <a:ext cx="27432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891040" y="3943080"/>
            <a:ext cx="3065760" cy="680040"/>
            <a:chOff x="5891040" y="3943080"/>
            <a:chExt cx="3065760" cy="680040"/>
          </a:xfrm>
        </p:grpSpPr>
        <p:sp>
          <p:nvSpPr>
            <p:cNvPr id="1072" name=""/>
            <p:cNvSpPr/>
            <p:nvPr/>
          </p:nvSpPr>
          <p:spPr>
            <a:xfrm>
              <a:off x="5891040" y="3943080"/>
              <a:ext cx="3065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17 + 16 = 16.3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42240" y="4267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066680" y="3733920"/>
            <a:ext cx="609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86120" y="3733920"/>
            <a:ext cx="5954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91280" y="3733920"/>
            <a:ext cx="34740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96000" y="3733920"/>
            <a:ext cx="407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95720" y="3733920"/>
            <a:ext cx="18900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78320" y="3733920"/>
            <a:ext cx="6127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894960" y="5562720"/>
            <a:ext cx="5411160" cy="595800"/>
            <a:chOff x="894960" y="5562720"/>
            <a:chExt cx="5411160" cy="595800"/>
          </a:xfrm>
        </p:grpSpPr>
        <p:grpSp>
          <p:nvGrpSpPr>
            <p:cNvPr id="1081" name=""/>
            <p:cNvGrpSpPr/>
            <p:nvPr/>
          </p:nvGrpSpPr>
          <p:grpSpPr>
            <a:xfrm>
              <a:off x="1052280" y="5562720"/>
              <a:ext cx="4862160" cy="228240"/>
              <a:chOff x="1052280" y="5562720"/>
              <a:chExt cx="4862160" cy="228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202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3550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5073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659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62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14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2669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192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23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742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265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8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483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635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861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84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2429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948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457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980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25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544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06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57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1052280" y="5562720"/>
                <a:ext cx="4557600" cy="228240"/>
                <a:chOff x="1052280" y="5562720"/>
                <a:chExt cx="4557600" cy="22824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0522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11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5714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3310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0906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84992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609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5761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9144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894960" y="579024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1647720" y="5029200"/>
            <a:ext cx="30492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43160" y="5029200"/>
            <a:ext cx="3045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57320" y="5029200"/>
            <a:ext cx="285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52640" y="5029200"/>
            <a:ext cx="2998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2552760" y="5029200"/>
            <a:ext cx="326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258280" y="5029200"/>
            <a:ext cx="3063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0800" y="5029200"/>
            <a:ext cx="3002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95720" y="5029200"/>
            <a:ext cx="2808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90920" y="5029200"/>
            <a:ext cx="1540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51120" y="5029200"/>
            <a:ext cx="2876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43440" y="5029200"/>
            <a:ext cx="299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43320" y="5029200"/>
            <a:ext cx="30492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48240" y="5029200"/>
            <a:ext cx="3049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53160" y="5029200"/>
            <a:ext cx="3092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172120" y="5029200"/>
            <a:ext cx="12204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05320" y="5029200"/>
            <a:ext cx="30492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6765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5756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862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0957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7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578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548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38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943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86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8600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9548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67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575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43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4772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52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5938560" y="4978080"/>
            <a:ext cx="2684520" cy="680040"/>
            <a:chOff x="5938560" y="4978080"/>
            <a:chExt cx="2684520" cy="680040"/>
          </a:xfrm>
        </p:grpSpPr>
        <p:sp>
          <p:nvSpPr>
            <p:cNvPr id="1151" name=""/>
            <p:cNvSpPr/>
            <p:nvPr/>
          </p:nvSpPr>
          <p:spPr>
            <a:xfrm>
              <a:off x="5938560" y="4978080"/>
              <a:ext cx="2684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17 + 12 = 1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799320" y="5302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 rot="16195800">
            <a:off x="209880" y="3990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16159200">
            <a:off x="209880" y="5133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814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81480" y="3733920"/>
            <a:ext cx="6094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9600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54000" y="272556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6069"/>
              <a:gd name="adj4" fmla="val 149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717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4958"/>
              <a:gd name="adj4" fmla="val 137208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305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8375"/>
              <a:gd name="adj4" fmla="val 137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803680" y="2733840"/>
            <a:ext cx="477720" cy="928440"/>
          </a:xfrm>
          <a:prstGeom prst="borderCallout1">
            <a:avLst>
              <a:gd name="adj1" fmla="val 18750"/>
              <a:gd name="adj2" fmla="val -8333"/>
              <a:gd name="adj3" fmla="val 141879"/>
              <a:gd name="adj4" fmla="val 143523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63840" y="274788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2819"/>
              <a:gd name="adj4" fmla="val 15215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73440" y="2979720"/>
            <a:ext cx="477720" cy="696960"/>
          </a:xfrm>
          <a:prstGeom prst="borderCallout1">
            <a:avLst>
              <a:gd name="adj1" fmla="val 18750"/>
              <a:gd name="adj2" fmla="val -8333"/>
              <a:gd name="adj3" fmla="val 174712"/>
              <a:gd name="adj4" fmla="val 12591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5800" y="2973240"/>
            <a:ext cx="477720" cy="695520"/>
          </a:xfrm>
          <a:prstGeom prst="borderCallout1">
            <a:avLst>
              <a:gd name="adj1" fmla="val 18750"/>
              <a:gd name="adj2" fmla="val -8333"/>
              <a:gd name="adj3" fmla="val 170546"/>
              <a:gd name="adj4" fmla="val 14219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95840" y="3276720"/>
            <a:ext cx="477720" cy="393480"/>
          </a:xfrm>
          <a:prstGeom prst="borderCallout1">
            <a:avLst>
              <a:gd name="adj1" fmla="val 18750"/>
              <a:gd name="adj2" fmla="val -8333"/>
              <a:gd name="adj3" fmla="val 232259"/>
              <a:gd name="adj4" fmla="val 12923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702320" y="2214720"/>
            <a:ext cx="986400" cy="1052280"/>
            <a:chOff x="4702320" y="2214720"/>
            <a:chExt cx="986400" cy="1052280"/>
          </a:xfrm>
        </p:grpSpPr>
        <p:sp>
          <p:nvSpPr>
            <p:cNvPr id="1167" name=""/>
            <p:cNvSpPr/>
            <p:nvPr/>
          </p:nvSpPr>
          <p:spPr>
            <a:xfrm>
              <a:off x="4702320" y="2505240"/>
              <a:ext cx="812520" cy="76176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1"/>
            <a:stretch/>
          </p:blipFill>
          <p:spPr>
            <a:xfrm>
              <a:off x="4973760" y="2214720"/>
              <a:ext cx="3412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4967280" y="2278080"/>
              <a:ext cx="0" cy="56520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13320" y="2575080"/>
              <a:ext cx="0" cy="55692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6200000">
              <a:off x="5280840" y="28011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262400" y="408636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05320" y="4057560"/>
            <a:ext cx="0" cy="4003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614920" y="405288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6385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197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614920" y="541512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500"/>
                            </p:stCondLst>
                            <p:childTnLst>
                              <p:par>
                                <p:cTn id="2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 Robi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066680" y="2886120"/>
            <a:ext cx="3353040" cy="228600"/>
            <a:chOff x="1066680" y="2886120"/>
            <a:chExt cx="3353040" cy="228600"/>
          </a:xfrm>
        </p:grpSpPr>
        <p:grpSp>
          <p:nvGrpSpPr>
            <p:cNvPr id="1182" name=""/>
            <p:cNvGrpSpPr/>
            <p:nvPr/>
          </p:nvGrpSpPr>
          <p:grpSpPr>
            <a:xfrm>
              <a:off x="1219320" y="2886120"/>
              <a:ext cx="2895120" cy="228600"/>
              <a:chOff x="1219320" y="2886120"/>
              <a:chExt cx="2895120" cy="228600"/>
            </a:xfrm>
          </p:grpSpPr>
          <p:sp>
            <p:nvSpPr>
              <p:cNvPr id="1183" name=""/>
              <p:cNvSpPr/>
              <p:nvPr/>
            </p:nvSpPr>
            <p:spPr>
              <a:xfrm>
                <a:off x="1219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119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048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982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991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84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377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5700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630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56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1492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422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355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728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21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14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1066680" y="29840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1219320" y="2428920"/>
            <a:ext cx="190476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1066680" y="3733920"/>
            <a:ext cx="3353040" cy="228600"/>
            <a:chOff x="1066680" y="3733920"/>
            <a:chExt cx="3353040" cy="228600"/>
          </a:xfrm>
        </p:grpSpPr>
        <p:grpSp>
          <p:nvGrpSpPr>
            <p:cNvPr id="1202" name=""/>
            <p:cNvGrpSpPr/>
            <p:nvPr/>
          </p:nvGrpSpPr>
          <p:grpSpPr>
            <a:xfrm>
              <a:off x="1219320" y="3733920"/>
              <a:ext cx="2895120" cy="228600"/>
              <a:chOff x="1219320" y="3733920"/>
              <a:chExt cx="289512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1219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119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048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982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991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84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377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5700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7630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56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492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22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5355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728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21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114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1066680" y="38318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1219320" y="3276720"/>
            <a:ext cx="114300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66680" y="4572000"/>
            <a:ext cx="3353040" cy="228600"/>
            <a:chOff x="1066680" y="4572000"/>
            <a:chExt cx="3353040" cy="228600"/>
          </a:xfrm>
        </p:grpSpPr>
        <p:grpSp>
          <p:nvGrpSpPr>
            <p:cNvPr id="1222" name=""/>
            <p:cNvGrpSpPr/>
            <p:nvPr/>
          </p:nvGrpSpPr>
          <p:grpSpPr>
            <a:xfrm>
              <a:off x="1219320" y="4572000"/>
              <a:ext cx="2895120" cy="228600"/>
              <a:chOff x="1219320" y="4572000"/>
              <a:chExt cx="2895120" cy="228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1219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4119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6048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7982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991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184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377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5700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7630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956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1492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422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355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28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21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14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1066680" y="46699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2193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14600" y="3276720"/>
            <a:ext cx="8380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524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600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8195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3526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724640" y="1520640"/>
            <a:ext cx="3925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burst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15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0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6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5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02320" y="55616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&gt;&gt;&gt;  | context switch (incl. scheduling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2320" y="327672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6880" y="4114800"/>
            <a:ext cx="15264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3372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2004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01000" y="54864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7" dur="indefinite" restart="never" nodeType="tmRoot">
          <p:childTnLst>
            <p:seq>
              <p:cTn id="2508" dur="indefinite" nodeType="mainSeq">
                <p:childTnLst>
                  <p:par>
                    <p:cTn id="2509" fill="hold">
                      <p:stCondLst>
                        <p:cond delay="0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8" dur="5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7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9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5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5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500"/>
                            </p:stCondLst>
                            <p:childTnLst>
                              <p:par>
                                <p:cTn id="2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program in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quential  (at most 1 instr. at a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048120"/>
            <a:ext cx="1981440" cy="3013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12408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25448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4711680"/>
            <a:ext cx="144792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352680"/>
            <a:ext cx="4876920" cy="2128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330800"/>
            <a:ext cx="68580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50532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17816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C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3"/>
            <a:endCxn id="96" idx="1"/>
          </p:cNvCxnSpPr>
          <p:nvPr/>
        </p:nvCxnSpPr>
        <p:spPr>
          <a:xfrm flipV="1">
            <a:off x="5333760" y="3723480"/>
            <a:ext cx="1067400" cy="842040"/>
          </a:xfrm>
          <a:prstGeom prst="bentConnector3">
            <a:avLst>
              <a:gd name="adj1" fmla="val 5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Processes with Nee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Multilevel Queu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905120" y="29768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05120" y="365004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05120" y="502164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09480" y="434340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8895800">
            <a:off x="1066680" y="3809520"/>
            <a:ext cx="990360" cy="380880"/>
          </a:xfrm>
          <a:custGeom>
            <a:avLst/>
            <a:gdLst>
              <a:gd name="textAreaLeft" fmla="*/ 173160 w 990360"/>
              <a:gd name="textAreaRight" fmla="*/ 718200 w 9903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441800">
            <a:off x="685440" y="35042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334840" y="2970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4840" y="36406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28720" y="501228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289548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6837120" y="386568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  Alg.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between R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4" dur="indefinite" restart="never" nodeType="tmRoot">
          <p:childTnLst>
            <p:seq>
              <p:cTn id="2605" dur="indefinite" nodeType="mainSeq">
                <p:childTnLst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500"/>
                            </p:stCondLst>
                            <p:childTnLst>
                              <p:par>
                                <p:cTn id="2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500"/>
                            </p:stCondLst>
                            <p:childTnLst>
                              <p:par>
                                <p:cTn id="2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ultilevel Feedback Queue Sch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es can move between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828800" y="32054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8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425952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16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828800" y="532620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6680" y="3429000"/>
            <a:ext cx="7621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4" name=""/>
          <p:cNvCxnSpPr>
            <a:stCxn id="1270" idx="3"/>
            <a:endCxn id="1271" idx="1"/>
          </p:cNvCxnSpPr>
          <p:nvPr/>
        </p:nvCxnSpPr>
        <p:spPr>
          <a:xfrm flipH="1">
            <a:off x="1828440" y="3435480"/>
            <a:ext cx="3124800" cy="1054800"/>
          </a:xfrm>
          <a:prstGeom prst="bentConnector5">
            <a:avLst>
              <a:gd name="adj1" fmla="val -17018"/>
              <a:gd name="adj2" fmla="val 49982"/>
              <a:gd name="adj3" fmla="val 115842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271" idx="3"/>
            <a:endCxn id="1272" idx="1"/>
          </p:cNvCxnSpPr>
          <p:nvPr/>
        </p:nvCxnSpPr>
        <p:spPr>
          <a:xfrm flipH="1">
            <a:off x="1828440" y="4489200"/>
            <a:ext cx="3124800" cy="1067400"/>
          </a:xfrm>
          <a:prstGeom prst="bentConnector5">
            <a:avLst>
              <a:gd name="adj1" fmla="val -15796"/>
              <a:gd name="adj2" fmla="val 50000"/>
              <a:gd name="adj3" fmla="val 117064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276" name=""/>
          <p:cNvSpPr/>
          <p:nvPr/>
        </p:nvSpPr>
        <p:spPr>
          <a:xfrm>
            <a:off x="4952880" y="335268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4419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2880" y="5562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69080" y="3123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69080" y="412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869080" y="5271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705720" y="32767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11720" y="3961440"/>
            <a:ext cx="155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eem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5181480" y="3809880"/>
            <a:ext cx="456840" cy="533520"/>
            <a:chOff x="5181480" y="3809880"/>
            <a:chExt cx="456840" cy="533520"/>
          </a:xfrm>
        </p:grpSpPr>
        <p:pic>
          <p:nvPicPr>
            <p:cNvPr id="1285" name="" descr=""/>
            <p:cNvPicPr/>
            <p:nvPr/>
          </p:nvPicPr>
          <p:blipFill>
            <a:blip r:embed="rId1"/>
            <a:stretch/>
          </p:blipFill>
          <p:spPr>
            <a:xfrm>
              <a:off x="5316840" y="380988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5181480" y="398772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181480" y="4800600"/>
            <a:ext cx="456840" cy="533520"/>
            <a:chOff x="5181480" y="4800600"/>
            <a:chExt cx="456840" cy="533520"/>
          </a:xfrm>
        </p:grpSpPr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5316840" y="480060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5181480" y="497844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5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9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"/>
                            </p:stCondLst>
                            <p:childTnLst>
                              <p:par>
                                <p:cTn id="2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500"/>
                            </p:stCondLst>
                            <p:childTnLst>
                              <p:par>
                                <p:cTn id="2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(FB)Q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Processor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geneous vs Heterogene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/Slaves vs Self-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oft) Real-tim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Re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1 CPU 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lap I/O and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lect  Algorithm, Determin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fine 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utilization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response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&lt; 1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hroughput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turnaround ~ exec.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1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9" dur="500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7" dur="500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2" dur="500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orkload (Exac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JF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15238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2057400" y="1981080"/>
            <a:ext cx="837720" cy="685800"/>
            <a:chOff x="2057400" y="1981080"/>
            <a:chExt cx="837720" cy="685800"/>
          </a:xfrm>
        </p:grpSpPr>
        <p:sp>
          <p:nvSpPr>
            <p:cNvPr id="1302" name=""/>
            <p:cNvSpPr/>
            <p:nvPr/>
          </p:nvSpPr>
          <p:spPr>
            <a:xfrm>
              <a:off x="2057400" y="19810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360" y="205704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09680" y="213336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85640" y="22096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85800" y="3276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dvantage: simple &amp;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ac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sult only valid for tha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y indicat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3" dur="indefinite" restart="never" nodeType="tmRoot">
          <p:childTnLst>
            <p:seq>
              <p:cTn id="2774" dur="indefinite" nodeType="mainSeq">
                <p:childTnLst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500"/>
                            </p:stCondLst>
                            <p:childTnLst>
                              <p:par>
                                <p:cTn id="2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2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0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3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8" dur="50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o static set of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uter System = network of “serv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380880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05320" y="4577040"/>
            <a:ext cx="273816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0" y="37339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00200" y="4495680"/>
            <a:ext cx="121932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9" idx="3"/>
            <a:endCxn id="1311" idx="2"/>
          </p:cNvCxnSpPr>
          <p:nvPr/>
        </p:nvCxnSpPr>
        <p:spPr>
          <a:xfrm>
            <a:off x="6095520" y="403812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310" idx="1"/>
            <a:endCxn id="1312" idx="6"/>
          </p:cNvCxnSpPr>
          <p:nvPr/>
        </p:nvCxnSpPr>
        <p:spPr>
          <a:xfrm flipH="1" flipV="1">
            <a:off x="2818800" y="4800240"/>
            <a:ext cx="68652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2" idx="2"/>
            <a:endCxn id="1309" idx="1"/>
          </p:cNvCxnSpPr>
          <p:nvPr/>
        </p:nvCxnSpPr>
        <p:spPr>
          <a:xfrm flipH="1" rot="10800000">
            <a:off x="1599840" y="4037760"/>
            <a:ext cx="1372320" cy="762840"/>
          </a:xfrm>
          <a:prstGeom prst="bentConnector3">
            <a:avLst>
              <a:gd name="adj1" fmla="val -16662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311" idx="4"/>
            <a:endCxn id="1310" idx="3"/>
          </p:cNvCxnSpPr>
          <p:nvPr/>
        </p:nvCxnSpPr>
        <p:spPr>
          <a:xfrm rot="5400000">
            <a:off x="6622920" y="3963240"/>
            <a:ext cx="464400" cy="122472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743200" y="3352680"/>
            <a:ext cx="121932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0"/>
                </a:moveTo>
                <a:lnTo>
                  <a:pt x="768" y="0"/>
                </a:lnTo>
                <a:lnTo>
                  <a:pt x="768" y="288"/>
                </a:ln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257800" y="2514600"/>
            <a:ext cx="1219320" cy="990720"/>
            <a:chOff x="5257800" y="2514600"/>
            <a:chExt cx="1219320" cy="990720"/>
          </a:xfrm>
        </p:grpSpPr>
        <p:sp>
          <p:nvSpPr>
            <p:cNvPr id="1319" name=""/>
            <p:cNvSpPr/>
            <p:nvPr/>
          </p:nvSpPr>
          <p:spPr>
            <a:xfrm>
              <a:off x="53341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2578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4120" y="2654280"/>
              <a:ext cx="914400" cy="698400"/>
            </a:xfrm>
            <a:custGeom>
              <a:avLst/>
              <a:gdLst/>
              <a:ahLst/>
              <a:rect l="l" t="t" r="r" b="b"/>
              <a:pathLst>
                <a:path w="576" h="440">
                  <a:moveTo>
                    <a:pt x="0" y="344"/>
                  </a:moveTo>
                  <a:cubicBezTo>
                    <a:pt x="23" y="180"/>
                    <a:pt x="47" y="16"/>
                    <a:pt x="90" y="8"/>
                  </a:cubicBezTo>
                  <a:cubicBezTo>
                    <a:pt x="133" y="0"/>
                    <a:pt x="175" y="224"/>
                    <a:pt x="256" y="296"/>
                  </a:cubicBezTo>
                  <a:cubicBezTo>
                    <a:pt x="337" y="368"/>
                    <a:pt x="456" y="404"/>
                    <a:pt x="576" y="44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1600200" y="2514600"/>
            <a:ext cx="1219320" cy="990720"/>
            <a:chOff x="1600200" y="2514600"/>
            <a:chExt cx="1219320" cy="990720"/>
          </a:xfrm>
        </p:grpSpPr>
        <p:sp>
          <p:nvSpPr>
            <p:cNvPr id="1323" name=""/>
            <p:cNvSpPr/>
            <p:nvPr/>
          </p:nvSpPr>
          <p:spPr>
            <a:xfrm>
              <a:off x="16765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002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6520" y="2895840"/>
              <a:ext cx="99036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cubicBezTo>
                    <a:pt x="44" y="244"/>
                    <a:pt x="88" y="152"/>
                    <a:pt x="192" y="96"/>
                  </a:cubicBezTo>
                  <a:cubicBezTo>
                    <a:pt x="296" y="40"/>
                    <a:pt x="460" y="20"/>
                    <a:pt x="624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03360" y="4267080"/>
            <a:ext cx="1218960" cy="990720"/>
            <a:chOff x="603360" y="4267080"/>
            <a:chExt cx="1218960" cy="990720"/>
          </a:xfrm>
        </p:grpSpPr>
        <p:sp>
          <p:nvSpPr>
            <p:cNvPr id="1327" name=""/>
            <p:cNvSpPr/>
            <p:nvPr/>
          </p:nvSpPr>
          <p:spPr>
            <a:xfrm>
              <a:off x="679320" y="42670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03360" y="51814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07920" y="4635360"/>
              <a:ext cx="381240" cy="546120"/>
            </a:xfrm>
            <a:custGeom>
              <a:avLst/>
              <a:gdLst/>
              <a:ahLst/>
              <a:rect l="l" t="t" r="r" b="b"/>
              <a:pathLst>
                <a:path w="240" h="344">
                  <a:moveTo>
                    <a:pt x="0" y="344"/>
                  </a:moveTo>
                  <a:cubicBezTo>
                    <a:pt x="28" y="180"/>
                    <a:pt x="56" y="16"/>
                    <a:pt x="96" y="8"/>
                  </a:cubicBezTo>
                  <a:cubicBezTo>
                    <a:pt x="136" y="0"/>
                    <a:pt x="208" y="240"/>
                    <a:pt x="240" y="296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1603080" y="3442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6040" y="5195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437440" y="3428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 bu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41400" y="31237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= f (Al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200400" y="5312160"/>
            <a:ext cx="525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alculate for Every Algorithm: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CPU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9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3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500"/>
                            </p:stCondLst>
                            <p:childTnLst>
                              <p:par>
                                <p:cTn id="28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fill="hold">
                            <p:stCondLst>
                              <p:cond delay="500"/>
                            </p:stCondLst>
                            <p:childTnLst>
                              <p:par>
                                <p:cTn id="28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347652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mitations of Queue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mplex Mathematics  (simpl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ssumption (Events = independent)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ittle’s Formula:      </a:t>
            </a: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 = W x </a:t>
            </a:r>
            <a:r>
              <a:rPr b="1" lang="nl-BE" sz="24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819520" y="190368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05720" y="182880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stCxn id="1338" idx="3"/>
            <a:endCxn id="1339" idx="2"/>
          </p:cNvCxnSpPr>
          <p:nvPr/>
        </p:nvCxnSpPr>
        <p:spPr>
          <a:xfrm>
            <a:off x="59432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41" name=""/>
          <p:cNvCxnSpPr/>
          <p:nvPr/>
        </p:nvCxnSpPr>
        <p:spPr>
          <a:xfrm>
            <a:off x="20570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42" name=""/>
          <p:cNvSpPr/>
          <p:nvPr/>
        </p:nvSpPr>
        <p:spPr>
          <a:xfrm>
            <a:off x="2819520" y="25146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98160" y="17661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23000" y="2437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5840" y="15231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W = average Wait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782640" cy="117612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3276360" y="3848040"/>
            <a:ext cx="914760" cy="647640"/>
            <a:chOff x="3276360" y="3848040"/>
            <a:chExt cx="914760" cy="647640"/>
          </a:xfrm>
        </p:grpSpPr>
        <p:sp>
          <p:nvSpPr>
            <p:cNvPr id="1348" name=""/>
            <p:cNvSpPr/>
            <p:nvPr/>
          </p:nvSpPr>
          <p:spPr>
            <a:xfrm flipH="1">
              <a:off x="3467520" y="4068720"/>
              <a:ext cx="63360" cy="95400"/>
            </a:xfrm>
            <a:custGeom>
              <a:avLst/>
              <a:gdLst/>
              <a:ahLst/>
              <a:rect l="l" t="t" r="r" b="b"/>
              <a:pathLst>
                <a:path w="222" h="351">
                  <a:moveTo>
                    <a:pt x="0" y="108"/>
                  </a:moveTo>
                  <a:lnTo>
                    <a:pt x="199" y="0"/>
                  </a:lnTo>
                  <a:lnTo>
                    <a:pt x="215" y="1"/>
                  </a:lnTo>
                  <a:lnTo>
                    <a:pt x="221" y="5"/>
                  </a:lnTo>
                  <a:lnTo>
                    <a:pt x="222" y="12"/>
                  </a:lnTo>
                  <a:lnTo>
                    <a:pt x="213" y="152"/>
                  </a:lnTo>
                  <a:lnTo>
                    <a:pt x="137" y="230"/>
                  </a:lnTo>
                  <a:lnTo>
                    <a:pt x="138" y="287"/>
                  </a:lnTo>
                  <a:lnTo>
                    <a:pt x="138" y="305"/>
                  </a:lnTo>
                  <a:lnTo>
                    <a:pt x="134" y="321"/>
                  </a:lnTo>
                  <a:lnTo>
                    <a:pt x="124" y="332"/>
                  </a:lnTo>
                  <a:lnTo>
                    <a:pt x="112" y="341"/>
                  </a:lnTo>
                  <a:lnTo>
                    <a:pt x="99" y="351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cccc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3984120" y="4284720"/>
              <a:ext cx="81000" cy="152280"/>
            </a:xfrm>
            <a:custGeom>
              <a:avLst/>
              <a:gdLst/>
              <a:ahLst/>
              <a:rect l="l" t="t" r="r" b="b"/>
              <a:pathLst>
                <a:path w="284" h="571">
                  <a:moveTo>
                    <a:pt x="0" y="9"/>
                  </a:moveTo>
                  <a:lnTo>
                    <a:pt x="30" y="571"/>
                  </a:lnTo>
                  <a:lnTo>
                    <a:pt x="260" y="558"/>
                  </a:lnTo>
                  <a:lnTo>
                    <a:pt x="253" y="428"/>
                  </a:lnTo>
                  <a:lnTo>
                    <a:pt x="219" y="415"/>
                  </a:lnTo>
                  <a:lnTo>
                    <a:pt x="186" y="410"/>
                  </a:lnTo>
                  <a:lnTo>
                    <a:pt x="155" y="416"/>
                  </a:lnTo>
                  <a:lnTo>
                    <a:pt x="132" y="423"/>
                  </a:lnTo>
                  <a:lnTo>
                    <a:pt x="124" y="419"/>
                  </a:lnTo>
                  <a:lnTo>
                    <a:pt x="120" y="403"/>
                  </a:lnTo>
                  <a:lnTo>
                    <a:pt x="128" y="371"/>
                  </a:lnTo>
                  <a:lnTo>
                    <a:pt x="145" y="341"/>
                  </a:lnTo>
                  <a:lnTo>
                    <a:pt x="159" y="322"/>
                  </a:lnTo>
                  <a:lnTo>
                    <a:pt x="168" y="302"/>
                  </a:lnTo>
                  <a:lnTo>
                    <a:pt x="171" y="265"/>
                  </a:lnTo>
                  <a:lnTo>
                    <a:pt x="162" y="235"/>
                  </a:lnTo>
                  <a:lnTo>
                    <a:pt x="148" y="219"/>
                  </a:lnTo>
                  <a:lnTo>
                    <a:pt x="137" y="213"/>
                  </a:lnTo>
                  <a:lnTo>
                    <a:pt x="284" y="206"/>
                  </a:lnTo>
                  <a:lnTo>
                    <a:pt x="280" y="92"/>
                  </a:lnTo>
                  <a:lnTo>
                    <a:pt x="232" y="87"/>
                  </a:lnTo>
                  <a:lnTo>
                    <a:pt x="212" y="73"/>
                  </a:lnTo>
                  <a:lnTo>
                    <a:pt x="201" y="51"/>
                  </a:lnTo>
                  <a:lnTo>
                    <a:pt x="19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956400" y="4268880"/>
              <a:ext cx="126720" cy="193680"/>
            </a:xfrm>
            <a:custGeom>
              <a:avLst/>
              <a:gdLst/>
              <a:ahLst/>
              <a:rect l="l" t="t" r="r" b="b"/>
              <a:pathLst>
                <a:path w="451" h="715">
                  <a:moveTo>
                    <a:pt x="118" y="7"/>
                  </a:moveTo>
                  <a:lnTo>
                    <a:pt x="45" y="43"/>
                  </a:lnTo>
                  <a:lnTo>
                    <a:pt x="11" y="235"/>
                  </a:lnTo>
                  <a:lnTo>
                    <a:pt x="44" y="243"/>
                  </a:lnTo>
                  <a:lnTo>
                    <a:pt x="28" y="289"/>
                  </a:lnTo>
                  <a:lnTo>
                    <a:pt x="14" y="338"/>
                  </a:lnTo>
                  <a:lnTo>
                    <a:pt x="0" y="435"/>
                  </a:lnTo>
                  <a:lnTo>
                    <a:pt x="3" y="477"/>
                  </a:lnTo>
                  <a:lnTo>
                    <a:pt x="9" y="518"/>
                  </a:lnTo>
                  <a:lnTo>
                    <a:pt x="38" y="601"/>
                  </a:lnTo>
                  <a:lnTo>
                    <a:pt x="61" y="642"/>
                  </a:lnTo>
                  <a:lnTo>
                    <a:pt x="90" y="672"/>
                  </a:lnTo>
                  <a:lnTo>
                    <a:pt x="133" y="697"/>
                  </a:lnTo>
                  <a:lnTo>
                    <a:pt x="189" y="710"/>
                  </a:lnTo>
                  <a:lnTo>
                    <a:pt x="262" y="715"/>
                  </a:lnTo>
                  <a:lnTo>
                    <a:pt x="333" y="709"/>
                  </a:lnTo>
                  <a:lnTo>
                    <a:pt x="366" y="701"/>
                  </a:lnTo>
                  <a:lnTo>
                    <a:pt x="404" y="681"/>
                  </a:lnTo>
                  <a:lnTo>
                    <a:pt x="434" y="649"/>
                  </a:lnTo>
                  <a:lnTo>
                    <a:pt x="448" y="624"/>
                  </a:lnTo>
                  <a:lnTo>
                    <a:pt x="451" y="596"/>
                  </a:lnTo>
                  <a:lnTo>
                    <a:pt x="445" y="570"/>
                  </a:lnTo>
                  <a:lnTo>
                    <a:pt x="435" y="540"/>
                  </a:lnTo>
                  <a:lnTo>
                    <a:pt x="414" y="513"/>
                  </a:lnTo>
                  <a:lnTo>
                    <a:pt x="381" y="490"/>
                  </a:lnTo>
                  <a:lnTo>
                    <a:pt x="352" y="480"/>
                  </a:lnTo>
                  <a:lnTo>
                    <a:pt x="329" y="476"/>
                  </a:lnTo>
                  <a:lnTo>
                    <a:pt x="299" y="481"/>
                  </a:lnTo>
                  <a:lnTo>
                    <a:pt x="274" y="491"/>
                  </a:lnTo>
                  <a:lnTo>
                    <a:pt x="245" y="507"/>
                  </a:lnTo>
                  <a:lnTo>
                    <a:pt x="191" y="516"/>
                  </a:lnTo>
                  <a:lnTo>
                    <a:pt x="172" y="512"/>
                  </a:lnTo>
                  <a:lnTo>
                    <a:pt x="156" y="500"/>
                  </a:lnTo>
                  <a:lnTo>
                    <a:pt x="147" y="486"/>
                  </a:lnTo>
                  <a:lnTo>
                    <a:pt x="143" y="438"/>
                  </a:lnTo>
                  <a:lnTo>
                    <a:pt x="146" y="363"/>
                  </a:lnTo>
                  <a:lnTo>
                    <a:pt x="150" y="322"/>
                  </a:lnTo>
                  <a:lnTo>
                    <a:pt x="156" y="279"/>
                  </a:lnTo>
                  <a:lnTo>
                    <a:pt x="163" y="238"/>
                  </a:lnTo>
                  <a:lnTo>
                    <a:pt x="172" y="193"/>
                  </a:lnTo>
                  <a:lnTo>
                    <a:pt x="189" y="156"/>
                  </a:lnTo>
                  <a:lnTo>
                    <a:pt x="212" y="117"/>
                  </a:lnTo>
                  <a:lnTo>
                    <a:pt x="240" y="82"/>
                  </a:lnTo>
                  <a:lnTo>
                    <a:pt x="264" y="53"/>
                  </a:lnTo>
                  <a:lnTo>
                    <a:pt x="241" y="27"/>
                  </a:lnTo>
                  <a:lnTo>
                    <a:pt x="212" y="10"/>
                  </a:lnTo>
                  <a:lnTo>
                    <a:pt x="178" y="0"/>
                  </a:lnTo>
                  <a:lnTo>
                    <a:pt x="146" y="0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7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4015800" y="4280040"/>
              <a:ext cx="41400" cy="612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51" y="8"/>
                  </a:moveTo>
                  <a:lnTo>
                    <a:pt x="111" y="0"/>
                  </a:lnTo>
                  <a:lnTo>
                    <a:pt x="71" y="1"/>
                  </a:lnTo>
                  <a:lnTo>
                    <a:pt x="31" y="11"/>
                  </a:lnTo>
                  <a:lnTo>
                    <a:pt x="0" y="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4026960" y="4295880"/>
              <a:ext cx="33480" cy="9360"/>
            </a:xfrm>
            <a:custGeom>
              <a:avLst/>
              <a:gdLst/>
              <a:ahLst/>
              <a:rect l="l" t="t" r="r" b="b"/>
              <a:pathLst>
                <a:path w="118" h="37">
                  <a:moveTo>
                    <a:pt x="118" y="0"/>
                  </a:moveTo>
                  <a:lnTo>
                    <a:pt x="82" y="0"/>
                  </a:lnTo>
                  <a:lnTo>
                    <a:pt x="47" y="9"/>
                  </a:lnTo>
                  <a:lnTo>
                    <a:pt x="16" y="25"/>
                  </a:lnTo>
                  <a:lnTo>
                    <a:pt x="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034880" y="4313160"/>
              <a:ext cx="33480" cy="1908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15" y="0"/>
                  </a:moveTo>
                  <a:lnTo>
                    <a:pt x="23" y="5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4039560" y="4330800"/>
              <a:ext cx="33480" cy="302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0" y="111"/>
                  </a:moveTo>
                  <a:lnTo>
                    <a:pt x="42" y="81"/>
                  </a:lnTo>
                  <a:lnTo>
                    <a:pt x="80" y="47"/>
                  </a:lnTo>
                  <a:lnTo>
                    <a:pt x="111" y="8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4047480" y="4370400"/>
              <a:ext cx="27000" cy="2556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0" y="99"/>
                  </a:moveTo>
                  <a:lnTo>
                    <a:pt x="33" y="81"/>
                  </a:lnTo>
                  <a:lnTo>
                    <a:pt x="61" y="55"/>
                  </a:lnTo>
                  <a:lnTo>
                    <a:pt x="83" y="24"/>
                  </a:lnTo>
                  <a:lnTo>
                    <a:pt x="9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057200" y="4390920"/>
              <a:ext cx="11160" cy="39960"/>
            </a:xfrm>
            <a:custGeom>
              <a:avLst/>
              <a:gdLst/>
              <a:ahLst/>
              <a:rect l="l" t="t" r="r" b="b"/>
              <a:pathLst>
                <a:path w="39" h="147">
                  <a:moveTo>
                    <a:pt x="0" y="147"/>
                  </a:moveTo>
                  <a:lnTo>
                    <a:pt x="21" y="115"/>
                  </a:lnTo>
                  <a:lnTo>
                    <a:pt x="35" y="78"/>
                  </a:lnTo>
                  <a:lnTo>
                    <a:pt x="39" y="39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4040280" y="4395960"/>
              <a:ext cx="22320" cy="50760"/>
            </a:xfrm>
            <a:custGeom>
              <a:avLst/>
              <a:gdLst/>
              <a:ahLst/>
              <a:rect l="l" t="t" r="r" b="b"/>
              <a:pathLst>
                <a:path w="77" h="192">
                  <a:moveTo>
                    <a:pt x="0" y="192"/>
                  </a:moveTo>
                  <a:lnTo>
                    <a:pt x="32" y="167"/>
                  </a:lnTo>
                  <a:lnTo>
                    <a:pt x="56" y="137"/>
                  </a:lnTo>
                  <a:lnTo>
                    <a:pt x="71" y="100"/>
                  </a:lnTo>
                  <a:lnTo>
                    <a:pt x="77" y="62"/>
                  </a:lnTo>
                  <a:lnTo>
                    <a:pt x="74" y="24"/>
                  </a:lnTo>
                  <a:lnTo>
                    <a:pt x="6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4032360" y="4417920"/>
              <a:ext cx="6480" cy="33480"/>
            </a:xfrm>
            <a:custGeom>
              <a:avLst/>
              <a:gdLst/>
              <a:ahLst/>
              <a:rect l="l" t="t" r="r" b="b"/>
              <a:pathLst>
                <a:path w="24" h="123">
                  <a:moveTo>
                    <a:pt x="6" y="123"/>
                  </a:moveTo>
                  <a:lnTo>
                    <a:pt x="18" y="97"/>
                  </a:lnTo>
                  <a:lnTo>
                    <a:pt x="24" y="68"/>
                  </a:lnTo>
                  <a:lnTo>
                    <a:pt x="20" y="36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1120" y="4410000"/>
              <a:ext cx="25560" cy="49320"/>
            </a:xfrm>
            <a:custGeom>
              <a:avLst/>
              <a:gdLst/>
              <a:ahLst/>
              <a:rect l="l" t="t" r="r" b="b"/>
              <a:pathLst>
                <a:path w="86" h="185">
                  <a:moveTo>
                    <a:pt x="86" y="185"/>
                  </a:moveTo>
                  <a:lnTo>
                    <a:pt x="79" y="134"/>
                  </a:lnTo>
                  <a:lnTo>
                    <a:pt x="62" y="86"/>
                  </a:lnTo>
                  <a:lnTo>
                    <a:pt x="36" y="41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3992040" y="4411800"/>
              <a:ext cx="28440" cy="489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86" y="183"/>
                  </a:moveTo>
                  <a:lnTo>
                    <a:pt x="96" y="148"/>
                  </a:lnTo>
                  <a:lnTo>
                    <a:pt x="95" y="113"/>
                  </a:lnTo>
                  <a:lnTo>
                    <a:pt x="84" y="79"/>
                  </a:lnTo>
                  <a:lnTo>
                    <a:pt x="65" y="47"/>
                  </a:lnTo>
                  <a:lnTo>
                    <a:pt x="41" y="2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974760" y="4406760"/>
              <a:ext cx="21960" cy="41400"/>
            </a:xfrm>
            <a:custGeom>
              <a:avLst/>
              <a:gdLst/>
              <a:ahLst/>
              <a:rect l="l" t="t" r="r" b="b"/>
              <a:pathLst>
                <a:path w="75" h="153">
                  <a:moveTo>
                    <a:pt x="75" y="153"/>
                  </a:moveTo>
                  <a:lnTo>
                    <a:pt x="75" y="116"/>
                  </a:lnTo>
                  <a:lnTo>
                    <a:pt x="68" y="80"/>
                  </a:lnTo>
                  <a:lnTo>
                    <a:pt x="52" y="46"/>
                  </a:lnTo>
                  <a:lnTo>
                    <a:pt x="26" y="1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3960360" y="4427640"/>
              <a:ext cx="36360" cy="302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0" y="111"/>
                  </a:moveTo>
                  <a:lnTo>
                    <a:pt x="35" y="103"/>
                  </a:lnTo>
                  <a:lnTo>
                    <a:pt x="67" y="89"/>
                  </a:lnTo>
                  <a:lnTo>
                    <a:pt x="94" y="67"/>
                  </a:lnTo>
                  <a:lnTo>
                    <a:pt x="113" y="39"/>
                  </a:lnTo>
                  <a:lnTo>
                    <a:pt x="125" y="5"/>
                  </a:lnTo>
                  <a:lnTo>
                    <a:pt x="12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3971520" y="4410000"/>
              <a:ext cx="58680" cy="4788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0" y="177"/>
                  </a:moveTo>
                  <a:lnTo>
                    <a:pt x="52" y="157"/>
                  </a:lnTo>
                  <a:lnTo>
                    <a:pt x="99" y="131"/>
                  </a:lnTo>
                  <a:lnTo>
                    <a:pt x="142" y="95"/>
                  </a:lnTo>
                  <a:lnTo>
                    <a:pt x="178" y="53"/>
                  </a:lnTo>
                  <a:lnTo>
                    <a:pt x="205" y="7"/>
                  </a:lnTo>
                  <a:lnTo>
                    <a:pt x="2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3992760" y="4406760"/>
              <a:ext cx="60480" cy="4284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156"/>
                  </a:moveTo>
                  <a:lnTo>
                    <a:pt x="59" y="130"/>
                  </a:lnTo>
                  <a:lnTo>
                    <a:pt x="114" y="95"/>
                  </a:lnTo>
                  <a:lnTo>
                    <a:pt x="163" y="53"/>
                  </a:lnTo>
                  <a:lnTo>
                    <a:pt x="207" y="3"/>
                  </a:lnTo>
                  <a:lnTo>
                    <a:pt x="2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4021200" y="4416480"/>
              <a:ext cx="51120" cy="14400"/>
            </a:xfrm>
            <a:custGeom>
              <a:avLst/>
              <a:gdLst/>
              <a:ahLst/>
              <a:rect l="l" t="t" r="r" b="b"/>
              <a:pathLst>
                <a:path w="181" h="49">
                  <a:moveTo>
                    <a:pt x="0" y="49"/>
                  </a:moveTo>
                  <a:lnTo>
                    <a:pt x="60" y="43"/>
                  </a:lnTo>
                  <a:lnTo>
                    <a:pt x="118" y="27"/>
                  </a:lnTo>
                  <a:lnTo>
                    <a:pt x="173" y="4"/>
                  </a:lnTo>
                  <a:lnTo>
                    <a:pt x="1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4037400" y="4403880"/>
              <a:ext cx="39600" cy="612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0"/>
                  </a:moveTo>
                  <a:lnTo>
                    <a:pt x="26" y="17"/>
                  </a:lnTo>
                  <a:lnTo>
                    <a:pt x="55" y="26"/>
                  </a:lnTo>
                  <a:lnTo>
                    <a:pt x="87" y="27"/>
                  </a:lnTo>
                  <a:lnTo>
                    <a:pt x="117" y="19"/>
                  </a:lnTo>
                  <a:lnTo>
                    <a:pt x="14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043520" y="4379760"/>
              <a:ext cx="31680" cy="972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0" y="0"/>
                  </a:moveTo>
                  <a:lnTo>
                    <a:pt x="27" y="20"/>
                  </a:lnTo>
                  <a:lnTo>
                    <a:pt x="59" y="33"/>
                  </a:lnTo>
                  <a:lnTo>
                    <a:pt x="93" y="38"/>
                  </a:lnTo>
                  <a:lnTo>
                    <a:pt x="11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4045320" y="4359240"/>
              <a:ext cx="25200" cy="1260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0"/>
                  </a:moveTo>
                  <a:lnTo>
                    <a:pt x="24" y="22"/>
                  </a:lnTo>
                  <a:lnTo>
                    <a:pt x="55" y="39"/>
                  </a:lnTo>
                  <a:lnTo>
                    <a:pt x="88" y="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042080" y="4332240"/>
              <a:ext cx="30240" cy="1764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0" y="0"/>
                  </a:moveTo>
                  <a:lnTo>
                    <a:pt x="14" y="27"/>
                  </a:lnTo>
                  <a:lnTo>
                    <a:pt x="35" y="48"/>
                  </a:lnTo>
                  <a:lnTo>
                    <a:pt x="64" y="62"/>
                  </a:lnTo>
                  <a:lnTo>
                    <a:pt x="94" y="68"/>
                  </a:lnTo>
                  <a:lnTo>
                    <a:pt x="102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4034160" y="4300560"/>
              <a:ext cx="31680" cy="3024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3" y="0"/>
                  </a:moveTo>
                  <a:lnTo>
                    <a:pt x="0" y="29"/>
                  </a:lnTo>
                  <a:lnTo>
                    <a:pt x="8" y="56"/>
                  </a:lnTo>
                  <a:lnTo>
                    <a:pt x="24" y="79"/>
                  </a:lnTo>
                  <a:lnTo>
                    <a:pt x="47" y="98"/>
                  </a:lnTo>
                  <a:lnTo>
                    <a:pt x="75" y="108"/>
                  </a:lnTo>
                  <a:lnTo>
                    <a:pt x="104" y="110"/>
                  </a:lnTo>
                  <a:lnTo>
                    <a:pt x="106" y="1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038120" y="4275000"/>
              <a:ext cx="11160" cy="41400"/>
            </a:xfrm>
            <a:custGeom>
              <a:avLst/>
              <a:gdLst/>
              <a:ahLst/>
              <a:rect l="l" t="t" r="r" b="b"/>
              <a:pathLst>
                <a:path w="39" h="155">
                  <a:moveTo>
                    <a:pt x="19" y="0"/>
                  </a:moveTo>
                  <a:lnTo>
                    <a:pt x="5" y="32"/>
                  </a:lnTo>
                  <a:lnTo>
                    <a:pt x="0" y="65"/>
                  </a:lnTo>
                  <a:lnTo>
                    <a:pt x="5" y="99"/>
                  </a:lnTo>
                  <a:lnTo>
                    <a:pt x="19" y="132"/>
                  </a:lnTo>
                  <a:lnTo>
                    <a:pt x="39" y="1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4026960" y="4272120"/>
              <a:ext cx="3240" cy="237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7" y="0"/>
                  </a:moveTo>
                  <a:lnTo>
                    <a:pt x="0" y="30"/>
                  </a:lnTo>
                  <a:lnTo>
                    <a:pt x="1" y="61"/>
                  </a:lnTo>
                  <a:lnTo>
                    <a:pt x="11" y="90"/>
                  </a:lnTo>
                  <a:lnTo>
                    <a:pt x="13" y="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388680" y="4294080"/>
              <a:ext cx="125640" cy="163800"/>
            </a:xfrm>
            <a:custGeom>
              <a:avLst/>
              <a:gdLst/>
              <a:ahLst/>
              <a:rect l="l" t="t" r="r" b="b"/>
              <a:pathLst>
                <a:path w="440" h="604">
                  <a:moveTo>
                    <a:pt x="213" y="604"/>
                  </a:moveTo>
                  <a:lnTo>
                    <a:pt x="440" y="86"/>
                  </a:lnTo>
                  <a:lnTo>
                    <a:pt x="230" y="0"/>
                  </a:lnTo>
                  <a:lnTo>
                    <a:pt x="176" y="119"/>
                  </a:lnTo>
                  <a:lnTo>
                    <a:pt x="200" y="147"/>
                  </a:lnTo>
                  <a:lnTo>
                    <a:pt x="228" y="164"/>
                  </a:lnTo>
                  <a:lnTo>
                    <a:pt x="257" y="172"/>
                  </a:lnTo>
                  <a:lnTo>
                    <a:pt x="283" y="173"/>
                  </a:lnTo>
                  <a:lnTo>
                    <a:pt x="287" y="182"/>
                  </a:lnTo>
                  <a:lnTo>
                    <a:pt x="284" y="197"/>
                  </a:lnTo>
                  <a:lnTo>
                    <a:pt x="262" y="224"/>
                  </a:lnTo>
                  <a:lnTo>
                    <a:pt x="233" y="244"/>
                  </a:lnTo>
                  <a:lnTo>
                    <a:pt x="212" y="254"/>
                  </a:lnTo>
                  <a:lnTo>
                    <a:pt x="195" y="269"/>
                  </a:lnTo>
                  <a:lnTo>
                    <a:pt x="176" y="302"/>
                  </a:lnTo>
                  <a:lnTo>
                    <a:pt x="171" y="332"/>
                  </a:lnTo>
                  <a:lnTo>
                    <a:pt x="175" y="351"/>
                  </a:lnTo>
                  <a:lnTo>
                    <a:pt x="183" y="362"/>
                  </a:lnTo>
                  <a:lnTo>
                    <a:pt x="46" y="307"/>
                  </a:lnTo>
                  <a:lnTo>
                    <a:pt x="0" y="413"/>
                  </a:lnTo>
                  <a:lnTo>
                    <a:pt x="40" y="436"/>
                  </a:lnTo>
                  <a:lnTo>
                    <a:pt x="51" y="456"/>
                  </a:lnTo>
                  <a:lnTo>
                    <a:pt x="51" y="481"/>
                  </a:lnTo>
                  <a:lnTo>
                    <a:pt x="34" y="531"/>
                  </a:lnTo>
                  <a:lnTo>
                    <a:pt x="213" y="604"/>
                  </a:lnTo>
                  <a:lnTo>
                    <a:pt x="213" y="6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3376080" y="4268880"/>
              <a:ext cx="128520" cy="195120"/>
            </a:xfrm>
            <a:custGeom>
              <a:avLst/>
              <a:gdLst/>
              <a:ahLst/>
              <a:rect l="l" t="t" r="r" b="b"/>
              <a:pathLst>
                <a:path w="453" h="729">
                  <a:moveTo>
                    <a:pt x="110" y="728"/>
                  </a:moveTo>
                  <a:lnTo>
                    <a:pt x="194" y="729"/>
                  </a:lnTo>
                  <a:lnTo>
                    <a:pt x="310" y="571"/>
                  </a:lnTo>
                  <a:lnTo>
                    <a:pt x="284" y="549"/>
                  </a:lnTo>
                  <a:lnTo>
                    <a:pt x="321" y="513"/>
                  </a:lnTo>
                  <a:lnTo>
                    <a:pt x="354" y="475"/>
                  </a:lnTo>
                  <a:lnTo>
                    <a:pt x="411" y="394"/>
                  </a:lnTo>
                  <a:lnTo>
                    <a:pt x="428" y="355"/>
                  </a:lnTo>
                  <a:lnTo>
                    <a:pt x="440" y="314"/>
                  </a:lnTo>
                  <a:lnTo>
                    <a:pt x="453" y="228"/>
                  </a:lnTo>
                  <a:lnTo>
                    <a:pt x="450" y="183"/>
                  </a:lnTo>
                  <a:lnTo>
                    <a:pt x="439" y="142"/>
                  </a:lnTo>
                  <a:lnTo>
                    <a:pt x="411" y="102"/>
                  </a:lnTo>
                  <a:lnTo>
                    <a:pt x="366" y="65"/>
                  </a:lnTo>
                  <a:lnTo>
                    <a:pt x="304" y="31"/>
                  </a:lnTo>
                  <a:lnTo>
                    <a:pt x="237" y="6"/>
                  </a:lnTo>
                  <a:lnTo>
                    <a:pt x="204" y="0"/>
                  </a:lnTo>
                  <a:lnTo>
                    <a:pt x="161" y="2"/>
                  </a:lnTo>
                  <a:lnTo>
                    <a:pt x="120" y="17"/>
                  </a:lnTo>
                  <a:lnTo>
                    <a:pt x="95" y="35"/>
                  </a:lnTo>
                  <a:lnTo>
                    <a:pt x="79" y="58"/>
                  </a:lnTo>
                  <a:lnTo>
                    <a:pt x="73" y="83"/>
                  </a:lnTo>
                  <a:lnTo>
                    <a:pt x="69" y="115"/>
                  </a:lnTo>
                  <a:lnTo>
                    <a:pt x="76" y="148"/>
                  </a:lnTo>
                  <a:lnTo>
                    <a:pt x="94" y="181"/>
                  </a:lnTo>
                  <a:lnTo>
                    <a:pt x="115" y="204"/>
                  </a:lnTo>
                  <a:lnTo>
                    <a:pt x="135" y="216"/>
                  </a:lnTo>
                  <a:lnTo>
                    <a:pt x="164" y="226"/>
                  </a:lnTo>
                  <a:lnTo>
                    <a:pt x="189" y="226"/>
                  </a:lnTo>
                  <a:lnTo>
                    <a:pt x="223" y="226"/>
                  </a:lnTo>
                  <a:lnTo>
                    <a:pt x="276" y="241"/>
                  </a:lnTo>
                  <a:lnTo>
                    <a:pt x="293" y="252"/>
                  </a:lnTo>
                  <a:lnTo>
                    <a:pt x="301" y="267"/>
                  </a:lnTo>
                  <a:lnTo>
                    <a:pt x="303" y="285"/>
                  </a:lnTo>
                  <a:lnTo>
                    <a:pt x="285" y="331"/>
                  </a:lnTo>
                  <a:lnTo>
                    <a:pt x="249" y="397"/>
                  </a:lnTo>
                  <a:lnTo>
                    <a:pt x="225" y="432"/>
                  </a:lnTo>
                  <a:lnTo>
                    <a:pt x="201" y="467"/>
                  </a:lnTo>
                  <a:lnTo>
                    <a:pt x="177" y="503"/>
                  </a:lnTo>
                  <a:lnTo>
                    <a:pt x="147" y="537"/>
                  </a:lnTo>
                  <a:lnTo>
                    <a:pt x="116" y="563"/>
                  </a:lnTo>
                  <a:lnTo>
                    <a:pt x="78" y="590"/>
                  </a:lnTo>
                  <a:lnTo>
                    <a:pt x="36" y="611"/>
                  </a:lnTo>
                  <a:lnTo>
                    <a:pt x="0" y="627"/>
                  </a:lnTo>
                  <a:lnTo>
                    <a:pt x="9" y="658"/>
                  </a:lnTo>
                  <a:lnTo>
                    <a:pt x="27" y="686"/>
                  </a:lnTo>
                  <a:lnTo>
                    <a:pt x="53" y="709"/>
                  </a:lnTo>
                  <a:lnTo>
                    <a:pt x="83" y="723"/>
                  </a:lnTo>
                  <a:lnTo>
                    <a:pt x="109" y="729"/>
                  </a:lnTo>
                  <a:lnTo>
                    <a:pt x="110" y="728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457080" y="4441680"/>
              <a:ext cx="42840" cy="12960"/>
            </a:xfrm>
            <a:custGeom>
              <a:avLst/>
              <a:gdLst/>
              <a:ahLst/>
              <a:rect l="l" t="t" r="r" b="b"/>
              <a:pathLst>
                <a:path w="145" h="47">
                  <a:moveTo>
                    <a:pt x="0" y="0"/>
                  </a:moveTo>
                  <a:lnTo>
                    <a:pt x="32" y="23"/>
                  </a:lnTo>
                  <a:lnTo>
                    <a:pt x="70" y="39"/>
                  </a:lnTo>
                  <a:lnTo>
                    <a:pt x="109" y="47"/>
                  </a:lnTo>
                  <a:lnTo>
                    <a:pt x="145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3447720" y="4433760"/>
              <a:ext cx="34920" cy="64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0" y="0"/>
                  </a:moveTo>
                  <a:lnTo>
                    <a:pt x="31" y="17"/>
                  </a:lnTo>
                  <a:lnTo>
                    <a:pt x="67" y="23"/>
                  </a:lnTo>
                  <a:lnTo>
                    <a:pt x="102" y="22"/>
                  </a:lnTo>
                  <a:lnTo>
                    <a:pt x="121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429360" y="4416480"/>
              <a:ext cx="38160" cy="3240"/>
            </a:xfrm>
            <a:custGeom>
              <a:avLst/>
              <a:gdLst/>
              <a:ahLst/>
              <a:rect l="l" t="t" r="r" b="b"/>
              <a:pathLst>
                <a:path w="136" h="11">
                  <a:moveTo>
                    <a:pt x="0" y="11"/>
                  </a:moveTo>
                  <a:lnTo>
                    <a:pt x="107" y="3"/>
                  </a:lnTo>
                  <a:lnTo>
                    <a:pt x="1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3409560" y="4392720"/>
              <a:ext cx="44280" cy="1404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152" y="0"/>
                  </a:moveTo>
                  <a:lnTo>
                    <a:pt x="101" y="8"/>
                  </a:lnTo>
                  <a:lnTo>
                    <a:pt x="52" y="23"/>
                  </a:lnTo>
                  <a:lnTo>
                    <a:pt x="6" y="49"/>
                  </a:lnTo>
                  <a:lnTo>
                    <a:pt x="0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3392640" y="4361040"/>
              <a:ext cx="36720" cy="12600"/>
            </a:xfrm>
            <a:custGeom>
              <a:avLst/>
              <a:gdLst/>
              <a:ahLst/>
              <a:rect l="l" t="t" r="r" b="b"/>
              <a:pathLst>
                <a:path w="128" h="49">
                  <a:moveTo>
                    <a:pt x="128" y="0"/>
                  </a:moveTo>
                  <a:lnTo>
                    <a:pt x="89" y="2"/>
                  </a:lnTo>
                  <a:lnTo>
                    <a:pt x="51" y="14"/>
                  </a:lnTo>
                  <a:lnTo>
                    <a:pt x="19" y="32"/>
                  </a:lnTo>
                  <a:lnTo>
                    <a:pt x="0" y="4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380760" y="4329000"/>
              <a:ext cx="27000" cy="3204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66" y="21"/>
                  </a:lnTo>
                  <a:lnTo>
                    <a:pt x="36" y="47"/>
                  </a:lnTo>
                  <a:lnTo>
                    <a:pt x="14" y="80"/>
                  </a:lnTo>
                  <a:lnTo>
                    <a:pt x="0" y="117"/>
                  </a:lnTo>
                  <a:lnTo>
                    <a:pt x="0" y="1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377880" y="4311720"/>
              <a:ext cx="42840" cy="38160"/>
            </a:xfrm>
            <a:custGeom>
              <a:avLst/>
              <a:gdLst/>
              <a:ahLst/>
              <a:rect l="l" t="t" r="r" b="b"/>
              <a:pathLst>
                <a:path w="147" h="145">
                  <a:moveTo>
                    <a:pt x="147" y="0"/>
                  </a:moveTo>
                  <a:lnTo>
                    <a:pt x="108" y="10"/>
                  </a:lnTo>
                  <a:lnTo>
                    <a:pt x="72" y="27"/>
                  </a:lnTo>
                  <a:lnTo>
                    <a:pt x="41" y="53"/>
                  </a:lnTo>
                  <a:lnTo>
                    <a:pt x="18" y="86"/>
                  </a:lnTo>
                  <a:lnTo>
                    <a:pt x="5" y="122"/>
                  </a:lnTo>
                  <a:lnTo>
                    <a:pt x="0" y="1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3399120" y="4297320"/>
              <a:ext cx="15840" cy="3168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54" y="0"/>
                  </a:moveTo>
                  <a:lnTo>
                    <a:pt x="30" y="19"/>
                  </a:lnTo>
                  <a:lnTo>
                    <a:pt x="12" y="43"/>
                  </a:lnTo>
                  <a:lnTo>
                    <a:pt x="1" y="71"/>
                  </a:lnTo>
                  <a:lnTo>
                    <a:pt x="0" y="102"/>
                  </a:lnTo>
                  <a:lnTo>
                    <a:pt x="3" y="1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417480" y="4281480"/>
              <a:ext cx="6120" cy="54000"/>
            </a:xfrm>
            <a:custGeom>
              <a:avLst/>
              <a:gdLst/>
              <a:ahLst/>
              <a:rect l="l" t="t" r="r" b="b"/>
              <a:pathLst>
                <a:path w="21" h="202">
                  <a:moveTo>
                    <a:pt x="21" y="0"/>
                  </a:moveTo>
                  <a:lnTo>
                    <a:pt x="8" y="48"/>
                  </a:lnTo>
                  <a:lnTo>
                    <a:pt x="0" y="99"/>
                  </a:lnTo>
                  <a:lnTo>
                    <a:pt x="3" y="149"/>
                  </a:lnTo>
                  <a:lnTo>
                    <a:pt x="15" y="199"/>
                  </a:lnTo>
                  <a:lnTo>
                    <a:pt x="17" y="2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430800" y="4272120"/>
              <a:ext cx="14400" cy="53640"/>
            </a:xfrm>
            <a:custGeom>
              <a:avLst/>
              <a:gdLst/>
              <a:ahLst/>
              <a:rect l="l" t="t" r="r" b="b"/>
              <a:pathLst>
                <a:path w="46" h="201">
                  <a:moveTo>
                    <a:pt x="46" y="0"/>
                  </a:moveTo>
                  <a:lnTo>
                    <a:pt x="23" y="27"/>
                  </a:lnTo>
                  <a:lnTo>
                    <a:pt x="7" y="60"/>
                  </a:lnTo>
                  <a:lnTo>
                    <a:pt x="0" y="95"/>
                  </a:lnTo>
                  <a:lnTo>
                    <a:pt x="2" y="132"/>
                  </a:lnTo>
                  <a:lnTo>
                    <a:pt x="13" y="164"/>
                  </a:lnTo>
                  <a:lnTo>
                    <a:pt x="34" y="195"/>
                  </a:lnTo>
                  <a:lnTo>
                    <a:pt x="41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456360" y="4275000"/>
              <a:ext cx="7920" cy="46080"/>
            </a:xfrm>
            <a:custGeom>
              <a:avLst/>
              <a:gdLst/>
              <a:ahLst/>
              <a:rect l="l" t="t" r="r" b="b"/>
              <a:pathLst>
                <a:path w="27" h="168">
                  <a:moveTo>
                    <a:pt x="27" y="0"/>
                  </a:moveTo>
                  <a:lnTo>
                    <a:pt x="8" y="32"/>
                  </a:lnTo>
                  <a:lnTo>
                    <a:pt x="0" y="68"/>
                  </a:lnTo>
                  <a:lnTo>
                    <a:pt x="0" y="106"/>
                  </a:lnTo>
                  <a:lnTo>
                    <a:pt x="10" y="142"/>
                  </a:lnTo>
                  <a:lnTo>
                    <a:pt x="23" y="1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3433320" y="4272120"/>
              <a:ext cx="44280" cy="1584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61" y="8"/>
                  </a:moveTo>
                  <a:lnTo>
                    <a:pt x="127" y="0"/>
                  </a:lnTo>
                  <a:lnTo>
                    <a:pt x="92" y="0"/>
                  </a:lnTo>
                  <a:lnTo>
                    <a:pt x="58" y="9"/>
                  </a:lnTo>
                  <a:lnTo>
                    <a:pt x="27" y="26"/>
                  </a:lnTo>
                  <a:lnTo>
                    <a:pt x="4" y="50"/>
                  </a:lnTo>
                  <a:lnTo>
                    <a:pt x="0" y="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4287960"/>
              <a:ext cx="75960" cy="20520"/>
            </a:xfrm>
            <a:custGeom>
              <a:avLst/>
              <a:gdLst/>
              <a:ahLst/>
              <a:rect l="l" t="t" r="r" b="b"/>
              <a:pathLst>
                <a:path w="268" h="78">
                  <a:moveTo>
                    <a:pt x="268" y="5"/>
                  </a:moveTo>
                  <a:lnTo>
                    <a:pt x="212" y="0"/>
                  </a:lnTo>
                  <a:lnTo>
                    <a:pt x="158" y="5"/>
                  </a:lnTo>
                  <a:lnTo>
                    <a:pt x="104" y="19"/>
                  </a:lnTo>
                  <a:lnTo>
                    <a:pt x="53" y="42"/>
                  </a:lnTo>
                  <a:lnTo>
                    <a:pt x="7" y="73"/>
                  </a:lnTo>
                  <a:lnTo>
                    <a:pt x="0" y="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3385800" y="4305240"/>
              <a:ext cx="74520" cy="12600"/>
            </a:xfrm>
            <a:custGeom>
              <a:avLst/>
              <a:gdLst/>
              <a:ahLst/>
              <a:rect l="l" t="t" r="r" b="b"/>
              <a:pathLst>
                <a:path w="258" h="53">
                  <a:moveTo>
                    <a:pt x="258" y="1"/>
                  </a:moveTo>
                  <a:lnTo>
                    <a:pt x="193" y="0"/>
                  </a:lnTo>
                  <a:lnTo>
                    <a:pt x="129" y="8"/>
                  </a:lnTo>
                  <a:lnTo>
                    <a:pt x="64" y="26"/>
                  </a:lnTo>
                  <a:lnTo>
                    <a:pt x="5" y="52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376800" y="4321080"/>
              <a:ext cx="54000" cy="9720"/>
            </a:xfrm>
            <a:custGeom>
              <a:avLst/>
              <a:gdLst/>
              <a:ahLst/>
              <a:rect l="l" t="t" r="r" b="b"/>
              <a:pathLst>
                <a:path w="186" h="34">
                  <a:moveTo>
                    <a:pt x="186" y="34"/>
                  </a:moveTo>
                  <a:lnTo>
                    <a:pt x="130" y="14"/>
                  </a:lnTo>
                  <a:lnTo>
                    <a:pt x="71" y="2"/>
                  </a:ln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385800" y="4338720"/>
              <a:ext cx="36360" cy="19080"/>
            </a:xfrm>
            <a:custGeom>
              <a:avLst/>
              <a:gdLst/>
              <a:ahLst/>
              <a:rect l="l" t="t" r="r" b="b"/>
              <a:pathLst>
                <a:path w="124" h="67">
                  <a:moveTo>
                    <a:pt x="124" y="67"/>
                  </a:moveTo>
                  <a:lnTo>
                    <a:pt x="110" y="40"/>
                  </a:lnTo>
                  <a:lnTo>
                    <a:pt x="87" y="18"/>
                  </a:lnTo>
                  <a:lnTo>
                    <a:pt x="60" y="4"/>
                  </a:lnTo>
                  <a:lnTo>
                    <a:pt x="28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399120" y="4356000"/>
              <a:ext cx="23760" cy="208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80"/>
                  </a:moveTo>
                  <a:lnTo>
                    <a:pt x="67" y="48"/>
                  </a:lnTo>
                  <a:lnTo>
                    <a:pt x="44" y="24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413520" y="4370400"/>
              <a:ext cx="15840" cy="2232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8" y="81"/>
                  </a:moveTo>
                  <a:lnTo>
                    <a:pt x="46" y="50"/>
                  </a:lnTo>
                  <a:lnTo>
                    <a:pt x="28" y="2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426120" y="4389480"/>
              <a:ext cx="15840" cy="30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61" y="104"/>
                  </a:moveTo>
                  <a:lnTo>
                    <a:pt x="60" y="74"/>
                  </a:lnTo>
                  <a:lnTo>
                    <a:pt x="50" y="45"/>
                  </a:lnTo>
                  <a:lnTo>
                    <a:pt x="31" y="21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441960" y="4405320"/>
              <a:ext cx="17280" cy="381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3" y="142"/>
                  </a:moveTo>
                  <a:lnTo>
                    <a:pt x="58" y="118"/>
                  </a:lnTo>
                  <a:lnTo>
                    <a:pt x="63" y="89"/>
                  </a:lnTo>
                  <a:lnTo>
                    <a:pt x="60" y="61"/>
                  </a:lnTo>
                  <a:lnTo>
                    <a:pt x="47" y="35"/>
                  </a:lnTo>
                  <a:lnTo>
                    <a:pt x="28" y="14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461040" y="4419720"/>
              <a:ext cx="17280" cy="39600"/>
            </a:xfrm>
            <a:custGeom>
              <a:avLst/>
              <a:gdLst/>
              <a:ahLst/>
              <a:rect l="l" t="t" r="r" b="b"/>
              <a:pathLst>
                <a:path w="60" h="148">
                  <a:moveTo>
                    <a:pt x="0" y="148"/>
                  </a:moveTo>
                  <a:lnTo>
                    <a:pt x="25" y="125"/>
                  </a:lnTo>
                  <a:lnTo>
                    <a:pt x="45" y="97"/>
                  </a:lnTo>
                  <a:lnTo>
                    <a:pt x="57" y="65"/>
                  </a:lnTo>
                  <a:lnTo>
                    <a:pt x="60" y="30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83360" y="4433760"/>
              <a:ext cx="10800" cy="22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86"/>
                  </a:moveTo>
                  <a:lnTo>
                    <a:pt x="20" y="62"/>
                  </a:lnTo>
                  <a:lnTo>
                    <a:pt x="35" y="35"/>
                  </a:lnTo>
                  <a:lnTo>
                    <a:pt x="38" y="3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3276000" y="4051440"/>
              <a:ext cx="235080" cy="90360"/>
            </a:xfrm>
            <a:custGeom>
              <a:avLst/>
              <a:gdLst/>
              <a:ahLst/>
              <a:rect l="l" t="t" r="r" b="b"/>
              <a:pathLst>
                <a:path w="817" h="340">
                  <a:moveTo>
                    <a:pt x="20" y="298"/>
                  </a:moveTo>
                  <a:lnTo>
                    <a:pt x="12" y="294"/>
                  </a:lnTo>
                  <a:lnTo>
                    <a:pt x="3" y="280"/>
                  </a:lnTo>
                  <a:lnTo>
                    <a:pt x="0" y="262"/>
                  </a:lnTo>
                  <a:lnTo>
                    <a:pt x="7" y="243"/>
                  </a:lnTo>
                  <a:lnTo>
                    <a:pt x="22" y="231"/>
                  </a:lnTo>
                  <a:lnTo>
                    <a:pt x="40" y="227"/>
                  </a:lnTo>
                  <a:lnTo>
                    <a:pt x="378" y="208"/>
                  </a:lnTo>
                  <a:lnTo>
                    <a:pt x="398" y="202"/>
                  </a:lnTo>
                  <a:lnTo>
                    <a:pt x="411" y="185"/>
                  </a:lnTo>
                  <a:lnTo>
                    <a:pt x="434" y="88"/>
                  </a:lnTo>
                  <a:lnTo>
                    <a:pt x="437" y="77"/>
                  </a:lnTo>
                  <a:lnTo>
                    <a:pt x="443" y="57"/>
                  </a:lnTo>
                  <a:lnTo>
                    <a:pt x="462" y="34"/>
                  </a:lnTo>
                  <a:lnTo>
                    <a:pt x="486" y="14"/>
                  </a:lnTo>
                  <a:lnTo>
                    <a:pt x="514" y="2"/>
                  </a:lnTo>
                  <a:lnTo>
                    <a:pt x="545" y="0"/>
                  </a:lnTo>
                  <a:lnTo>
                    <a:pt x="694" y="19"/>
                  </a:lnTo>
                  <a:lnTo>
                    <a:pt x="694" y="29"/>
                  </a:lnTo>
                  <a:lnTo>
                    <a:pt x="689" y="38"/>
                  </a:lnTo>
                  <a:lnTo>
                    <a:pt x="675" y="48"/>
                  </a:lnTo>
                  <a:lnTo>
                    <a:pt x="654" y="57"/>
                  </a:lnTo>
                  <a:lnTo>
                    <a:pt x="601" y="64"/>
                  </a:lnTo>
                  <a:lnTo>
                    <a:pt x="611" y="70"/>
                  </a:lnTo>
                  <a:lnTo>
                    <a:pt x="699" y="96"/>
                  </a:lnTo>
                  <a:lnTo>
                    <a:pt x="762" y="99"/>
                  </a:lnTo>
                  <a:lnTo>
                    <a:pt x="772" y="103"/>
                  </a:lnTo>
                  <a:lnTo>
                    <a:pt x="773" y="111"/>
                  </a:lnTo>
                  <a:lnTo>
                    <a:pt x="764" y="128"/>
                  </a:lnTo>
                  <a:lnTo>
                    <a:pt x="745" y="136"/>
                  </a:lnTo>
                  <a:lnTo>
                    <a:pt x="724" y="141"/>
                  </a:lnTo>
                  <a:lnTo>
                    <a:pt x="703" y="139"/>
                  </a:lnTo>
                  <a:lnTo>
                    <a:pt x="672" y="137"/>
                  </a:lnTo>
                  <a:lnTo>
                    <a:pt x="699" y="147"/>
                  </a:lnTo>
                  <a:lnTo>
                    <a:pt x="752" y="163"/>
                  </a:lnTo>
                  <a:lnTo>
                    <a:pt x="793" y="166"/>
                  </a:lnTo>
                  <a:lnTo>
                    <a:pt x="802" y="166"/>
                  </a:lnTo>
                  <a:lnTo>
                    <a:pt x="802" y="179"/>
                  </a:lnTo>
                  <a:lnTo>
                    <a:pt x="795" y="190"/>
                  </a:lnTo>
                  <a:lnTo>
                    <a:pt x="780" y="196"/>
                  </a:lnTo>
                  <a:lnTo>
                    <a:pt x="758" y="198"/>
                  </a:lnTo>
                  <a:lnTo>
                    <a:pt x="790" y="195"/>
                  </a:lnTo>
                  <a:lnTo>
                    <a:pt x="801" y="196"/>
                  </a:lnTo>
                  <a:lnTo>
                    <a:pt x="812" y="203"/>
                  </a:lnTo>
                  <a:lnTo>
                    <a:pt x="817" y="214"/>
                  </a:lnTo>
                  <a:lnTo>
                    <a:pt x="815" y="226"/>
                  </a:lnTo>
                  <a:lnTo>
                    <a:pt x="810" y="236"/>
                  </a:lnTo>
                  <a:lnTo>
                    <a:pt x="798" y="242"/>
                  </a:lnTo>
                  <a:lnTo>
                    <a:pt x="698" y="247"/>
                  </a:lnTo>
                  <a:lnTo>
                    <a:pt x="602" y="262"/>
                  </a:lnTo>
                  <a:lnTo>
                    <a:pt x="598" y="276"/>
                  </a:lnTo>
                  <a:lnTo>
                    <a:pt x="585" y="289"/>
                  </a:lnTo>
                  <a:lnTo>
                    <a:pt x="569" y="293"/>
                  </a:lnTo>
                  <a:lnTo>
                    <a:pt x="558" y="293"/>
                  </a:lnTo>
                  <a:lnTo>
                    <a:pt x="492" y="275"/>
                  </a:lnTo>
                  <a:lnTo>
                    <a:pt x="473" y="329"/>
                  </a:lnTo>
                  <a:lnTo>
                    <a:pt x="467" y="337"/>
                  </a:lnTo>
                  <a:lnTo>
                    <a:pt x="451" y="340"/>
                  </a:lnTo>
                  <a:lnTo>
                    <a:pt x="428" y="340"/>
                  </a:lnTo>
                  <a:lnTo>
                    <a:pt x="404" y="332"/>
                  </a:lnTo>
                  <a:lnTo>
                    <a:pt x="383" y="321"/>
                  </a:lnTo>
                  <a:lnTo>
                    <a:pt x="360" y="313"/>
                  </a:lnTo>
                  <a:lnTo>
                    <a:pt x="339" y="312"/>
                  </a:lnTo>
                  <a:lnTo>
                    <a:pt x="22" y="299"/>
                  </a:lnTo>
                  <a:lnTo>
                    <a:pt x="20" y="298"/>
                  </a:lnTo>
                  <a:lnTo>
                    <a:pt x="20" y="298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506400" y="3876840"/>
              <a:ext cx="212760" cy="193680"/>
            </a:xfrm>
            <a:custGeom>
              <a:avLst/>
              <a:gdLst/>
              <a:ahLst/>
              <a:rect l="l" t="t" r="r" b="b"/>
              <a:pathLst>
                <a:path w="743" h="718">
                  <a:moveTo>
                    <a:pt x="112" y="58"/>
                  </a:moveTo>
                  <a:lnTo>
                    <a:pt x="450" y="0"/>
                  </a:lnTo>
                  <a:lnTo>
                    <a:pt x="513" y="58"/>
                  </a:lnTo>
                  <a:lnTo>
                    <a:pt x="518" y="74"/>
                  </a:lnTo>
                  <a:lnTo>
                    <a:pt x="516" y="89"/>
                  </a:lnTo>
                  <a:lnTo>
                    <a:pt x="522" y="173"/>
                  </a:lnTo>
                  <a:lnTo>
                    <a:pt x="528" y="207"/>
                  </a:lnTo>
                  <a:lnTo>
                    <a:pt x="539" y="232"/>
                  </a:lnTo>
                  <a:lnTo>
                    <a:pt x="563" y="219"/>
                  </a:lnTo>
                  <a:lnTo>
                    <a:pt x="592" y="214"/>
                  </a:lnTo>
                  <a:lnTo>
                    <a:pt x="619" y="219"/>
                  </a:lnTo>
                  <a:lnTo>
                    <a:pt x="643" y="231"/>
                  </a:lnTo>
                  <a:lnTo>
                    <a:pt x="662" y="251"/>
                  </a:lnTo>
                  <a:lnTo>
                    <a:pt x="702" y="300"/>
                  </a:lnTo>
                  <a:lnTo>
                    <a:pt x="735" y="324"/>
                  </a:lnTo>
                  <a:lnTo>
                    <a:pt x="742" y="333"/>
                  </a:lnTo>
                  <a:lnTo>
                    <a:pt x="743" y="341"/>
                  </a:lnTo>
                  <a:lnTo>
                    <a:pt x="742" y="350"/>
                  </a:lnTo>
                  <a:lnTo>
                    <a:pt x="732" y="355"/>
                  </a:lnTo>
                  <a:lnTo>
                    <a:pt x="535" y="352"/>
                  </a:lnTo>
                  <a:lnTo>
                    <a:pt x="530" y="368"/>
                  </a:lnTo>
                  <a:lnTo>
                    <a:pt x="526" y="406"/>
                  </a:lnTo>
                  <a:lnTo>
                    <a:pt x="507" y="378"/>
                  </a:lnTo>
                  <a:lnTo>
                    <a:pt x="481" y="357"/>
                  </a:lnTo>
                  <a:lnTo>
                    <a:pt x="449" y="343"/>
                  </a:lnTo>
                  <a:lnTo>
                    <a:pt x="416" y="338"/>
                  </a:lnTo>
                  <a:lnTo>
                    <a:pt x="382" y="342"/>
                  </a:lnTo>
                  <a:lnTo>
                    <a:pt x="353" y="353"/>
                  </a:lnTo>
                  <a:lnTo>
                    <a:pt x="366" y="381"/>
                  </a:lnTo>
                  <a:lnTo>
                    <a:pt x="374" y="415"/>
                  </a:lnTo>
                  <a:lnTo>
                    <a:pt x="374" y="451"/>
                  </a:lnTo>
                  <a:lnTo>
                    <a:pt x="366" y="487"/>
                  </a:lnTo>
                  <a:lnTo>
                    <a:pt x="383" y="471"/>
                  </a:lnTo>
                  <a:lnTo>
                    <a:pt x="409" y="456"/>
                  </a:lnTo>
                  <a:lnTo>
                    <a:pt x="438" y="450"/>
                  </a:lnTo>
                  <a:lnTo>
                    <a:pt x="468" y="453"/>
                  </a:lnTo>
                  <a:lnTo>
                    <a:pt x="496" y="466"/>
                  </a:lnTo>
                  <a:lnTo>
                    <a:pt x="522" y="489"/>
                  </a:lnTo>
                  <a:lnTo>
                    <a:pt x="530" y="510"/>
                  </a:lnTo>
                  <a:lnTo>
                    <a:pt x="533" y="519"/>
                  </a:lnTo>
                  <a:lnTo>
                    <a:pt x="523" y="527"/>
                  </a:lnTo>
                  <a:lnTo>
                    <a:pt x="512" y="524"/>
                  </a:lnTo>
                  <a:lnTo>
                    <a:pt x="503" y="535"/>
                  </a:lnTo>
                  <a:lnTo>
                    <a:pt x="502" y="559"/>
                  </a:lnTo>
                  <a:lnTo>
                    <a:pt x="507" y="590"/>
                  </a:lnTo>
                  <a:lnTo>
                    <a:pt x="502" y="619"/>
                  </a:lnTo>
                  <a:lnTo>
                    <a:pt x="488" y="643"/>
                  </a:lnTo>
                  <a:lnTo>
                    <a:pt x="469" y="661"/>
                  </a:lnTo>
                  <a:lnTo>
                    <a:pt x="455" y="672"/>
                  </a:lnTo>
                  <a:lnTo>
                    <a:pt x="427" y="683"/>
                  </a:lnTo>
                  <a:lnTo>
                    <a:pt x="396" y="687"/>
                  </a:lnTo>
                  <a:lnTo>
                    <a:pt x="367" y="681"/>
                  </a:lnTo>
                  <a:lnTo>
                    <a:pt x="345" y="667"/>
                  </a:lnTo>
                  <a:lnTo>
                    <a:pt x="331" y="647"/>
                  </a:lnTo>
                  <a:lnTo>
                    <a:pt x="321" y="612"/>
                  </a:lnTo>
                  <a:lnTo>
                    <a:pt x="302" y="579"/>
                  </a:lnTo>
                  <a:lnTo>
                    <a:pt x="273" y="552"/>
                  </a:lnTo>
                  <a:lnTo>
                    <a:pt x="261" y="544"/>
                  </a:lnTo>
                  <a:lnTo>
                    <a:pt x="225" y="611"/>
                  </a:lnTo>
                  <a:lnTo>
                    <a:pt x="185" y="663"/>
                  </a:lnTo>
                  <a:lnTo>
                    <a:pt x="137" y="711"/>
                  </a:lnTo>
                  <a:lnTo>
                    <a:pt x="5" y="718"/>
                  </a:lnTo>
                  <a:lnTo>
                    <a:pt x="0" y="637"/>
                  </a:lnTo>
                  <a:lnTo>
                    <a:pt x="13" y="633"/>
                  </a:lnTo>
                  <a:lnTo>
                    <a:pt x="64" y="604"/>
                  </a:lnTo>
                  <a:lnTo>
                    <a:pt x="114" y="567"/>
                  </a:lnTo>
                  <a:lnTo>
                    <a:pt x="155" y="524"/>
                  </a:lnTo>
                  <a:lnTo>
                    <a:pt x="190" y="475"/>
                  </a:lnTo>
                  <a:lnTo>
                    <a:pt x="196" y="467"/>
                  </a:lnTo>
                  <a:lnTo>
                    <a:pt x="167" y="447"/>
                  </a:lnTo>
                  <a:lnTo>
                    <a:pt x="146" y="420"/>
                  </a:lnTo>
                  <a:lnTo>
                    <a:pt x="131" y="391"/>
                  </a:lnTo>
                  <a:lnTo>
                    <a:pt x="127" y="357"/>
                  </a:lnTo>
                  <a:lnTo>
                    <a:pt x="132" y="322"/>
                  </a:lnTo>
                  <a:lnTo>
                    <a:pt x="146" y="295"/>
                  </a:lnTo>
                  <a:lnTo>
                    <a:pt x="161" y="277"/>
                  </a:lnTo>
                  <a:lnTo>
                    <a:pt x="148" y="275"/>
                  </a:lnTo>
                  <a:lnTo>
                    <a:pt x="131" y="264"/>
                  </a:lnTo>
                  <a:lnTo>
                    <a:pt x="122" y="246"/>
                  </a:lnTo>
                  <a:lnTo>
                    <a:pt x="112" y="5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293640" y="4102200"/>
              <a:ext cx="49320" cy="1440"/>
            </a:xfrm>
            <a:custGeom>
              <a:avLst/>
              <a:gdLst/>
              <a:ahLst/>
              <a:rect l="l" t="t" r="r" b="b"/>
              <a:pathLst>
                <a:path w="172" h="8">
                  <a:moveTo>
                    <a:pt x="172" y="8"/>
                  </a:moveTo>
                  <a:lnTo>
                    <a:pt x="76" y="0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319560" y="4086360"/>
              <a:ext cx="36720" cy="792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9" y="5"/>
                  </a:moveTo>
                  <a:lnTo>
                    <a:pt x="94" y="0"/>
                  </a:lnTo>
                  <a:lnTo>
                    <a:pt x="58" y="3"/>
                  </a:lnTo>
                  <a:lnTo>
                    <a:pt x="24" y="17"/>
                  </a:lnTo>
                  <a:lnTo>
                    <a:pt x="0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377880" y="4011480"/>
              <a:ext cx="107640" cy="85680"/>
            </a:xfrm>
            <a:custGeom>
              <a:avLst/>
              <a:gdLst/>
              <a:ahLst/>
              <a:rect l="l" t="t" r="r" b="b"/>
              <a:pathLst>
                <a:path w="375" h="316">
                  <a:moveTo>
                    <a:pt x="21" y="232"/>
                  </a:moveTo>
                  <a:lnTo>
                    <a:pt x="8" y="255"/>
                  </a:lnTo>
                  <a:lnTo>
                    <a:pt x="0" y="282"/>
                  </a:lnTo>
                  <a:lnTo>
                    <a:pt x="5" y="309"/>
                  </a:lnTo>
                  <a:lnTo>
                    <a:pt x="8" y="316"/>
                  </a:lnTo>
                  <a:lnTo>
                    <a:pt x="179" y="289"/>
                  </a:lnTo>
                  <a:lnTo>
                    <a:pt x="192" y="284"/>
                  </a:lnTo>
                  <a:lnTo>
                    <a:pt x="200" y="282"/>
                  </a:lnTo>
                  <a:lnTo>
                    <a:pt x="211" y="271"/>
                  </a:lnTo>
                  <a:lnTo>
                    <a:pt x="214" y="254"/>
                  </a:lnTo>
                  <a:lnTo>
                    <a:pt x="220" y="227"/>
                  </a:lnTo>
                  <a:lnTo>
                    <a:pt x="215" y="206"/>
                  </a:lnTo>
                  <a:lnTo>
                    <a:pt x="206" y="186"/>
                  </a:lnTo>
                  <a:lnTo>
                    <a:pt x="210" y="177"/>
                  </a:lnTo>
                  <a:lnTo>
                    <a:pt x="228" y="169"/>
                  </a:lnTo>
                  <a:lnTo>
                    <a:pt x="244" y="167"/>
                  </a:lnTo>
                  <a:lnTo>
                    <a:pt x="264" y="164"/>
                  </a:lnTo>
                  <a:lnTo>
                    <a:pt x="293" y="156"/>
                  </a:lnTo>
                  <a:lnTo>
                    <a:pt x="315" y="143"/>
                  </a:lnTo>
                  <a:lnTo>
                    <a:pt x="323" y="131"/>
                  </a:lnTo>
                  <a:lnTo>
                    <a:pt x="321" y="118"/>
                  </a:lnTo>
                  <a:lnTo>
                    <a:pt x="310" y="107"/>
                  </a:lnTo>
                  <a:lnTo>
                    <a:pt x="287" y="93"/>
                  </a:lnTo>
                  <a:lnTo>
                    <a:pt x="260" y="89"/>
                  </a:lnTo>
                  <a:lnTo>
                    <a:pt x="233" y="92"/>
                  </a:lnTo>
                  <a:lnTo>
                    <a:pt x="209" y="106"/>
                  </a:lnTo>
                  <a:lnTo>
                    <a:pt x="180" y="124"/>
                  </a:lnTo>
                  <a:lnTo>
                    <a:pt x="192" y="97"/>
                  </a:lnTo>
                  <a:lnTo>
                    <a:pt x="200" y="70"/>
                  </a:lnTo>
                  <a:lnTo>
                    <a:pt x="232" y="64"/>
                  </a:lnTo>
                  <a:lnTo>
                    <a:pt x="264" y="57"/>
                  </a:lnTo>
                  <a:lnTo>
                    <a:pt x="299" y="59"/>
                  </a:lnTo>
                  <a:lnTo>
                    <a:pt x="329" y="61"/>
                  </a:lnTo>
                  <a:lnTo>
                    <a:pt x="360" y="58"/>
                  </a:lnTo>
                  <a:lnTo>
                    <a:pt x="368" y="52"/>
                  </a:lnTo>
                  <a:lnTo>
                    <a:pt x="375" y="44"/>
                  </a:lnTo>
                  <a:lnTo>
                    <a:pt x="375" y="34"/>
                  </a:lnTo>
                  <a:lnTo>
                    <a:pt x="368" y="25"/>
                  </a:lnTo>
                  <a:lnTo>
                    <a:pt x="360" y="21"/>
                  </a:lnTo>
                  <a:lnTo>
                    <a:pt x="293" y="9"/>
                  </a:lnTo>
                  <a:lnTo>
                    <a:pt x="173" y="0"/>
                  </a:lnTo>
                  <a:lnTo>
                    <a:pt x="162" y="8"/>
                  </a:lnTo>
                  <a:lnTo>
                    <a:pt x="152" y="23"/>
                  </a:lnTo>
                  <a:lnTo>
                    <a:pt x="138" y="48"/>
                  </a:lnTo>
                  <a:lnTo>
                    <a:pt x="127" y="96"/>
                  </a:lnTo>
                  <a:lnTo>
                    <a:pt x="126" y="128"/>
                  </a:lnTo>
                  <a:lnTo>
                    <a:pt x="130" y="159"/>
                  </a:lnTo>
                  <a:lnTo>
                    <a:pt x="142" y="221"/>
                  </a:lnTo>
                  <a:lnTo>
                    <a:pt x="34" y="222"/>
                  </a:lnTo>
                  <a:lnTo>
                    <a:pt x="21" y="232"/>
                  </a:lnTo>
                  <a:lnTo>
                    <a:pt x="21" y="232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466800" y="4035600"/>
              <a:ext cx="561960" cy="425160"/>
            </a:xfrm>
            <a:custGeom>
              <a:avLst/>
              <a:gdLst/>
              <a:ahLst/>
              <a:rect l="l" t="t" r="r" b="b"/>
              <a:pathLst>
                <a:path w="1971" h="1574">
                  <a:moveTo>
                    <a:pt x="146" y="973"/>
                  </a:moveTo>
                  <a:lnTo>
                    <a:pt x="115" y="995"/>
                  </a:lnTo>
                  <a:lnTo>
                    <a:pt x="105" y="1038"/>
                  </a:lnTo>
                  <a:lnTo>
                    <a:pt x="131" y="1079"/>
                  </a:lnTo>
                  <a:lnTo>
                    <a:pt x="155" y="1130"/>
                  </a:lnTo>
                  <a:lnTo>
                    <a:pt x="161" y="1204"/>
                  </a:lnTo>
                  <a:lnTo>
                    <a:pt x="155" y="1300"/>
                  </a:lnTo>
                  <a:lnTo>
                    <a:pt x="208" y="1308"/>
                  </a:lnTo>
                  <a:lnTo>
                    <a:pt x="891" y="1357"/>
                  </a:lnTo>
                  <a:lnTo>
                    <a:pt x="902" y="1346"/>
                  </a:lnTo>
                  <a:lnTo>
                    <a:pt x="946" y="1165"/>
                  </a:lnTo>
                  <a:lnTo>
                    <a:pt x="978" y="1116"/>
                  </a:lnTo>
                  <a:lnTo>
                    <a:pt x="1131" y="1187"/>
                  </a:lnTo>
                  <a:lnTo>
                    <a:pt x="1244" y="1244"/>
                  </a:lnTo>
                  <a:lnTo>
                    <a:pt x="1324" y="1286"/>
                  </a:lnTo>
                  <a:lnTo>
                    <a:pt x="1401" y="1337"/>
                  </a:lnTo>
                  <a:lnTo>
                    <a:pt x="1483" y="1392"/>
                  </a:lnTo>
                  <a:lnTo>
                    <a:pt x="1561" y="1455"/>
                  </a:lnTo>
                  <a:lnTo>
                    <a:pt x="1689" y="1574"/>
                  </a:lnTo>
                  <a:lnTo>
                    <a:pt x="1699" y="1543"/>
                  </a:lnTo>
                  <a:lnTo>
                    <a:pt x="1725" y="1492"/>
                  </a:lnTo>
                  <a:lnTo>
                    <a:pt x="1747" y="1455"/>
                  </a:lnTo>
                  <a:lnTo>
                    <a:pt x="1840" y="1366"/>
                  </a:lnTo>
                  <a:lnTo>
                    <a:pt x="1884" y="1343"/>
                  </a:lnTo>
                  <a:lnTo>
                    <a:pt x="1971" y="1307"/>
                  </a:lnTo>
                  <a:lnTo>
                    <a:pt x="1891" y="1268"/>
                  </a:lnTo>
                  <a:lnTo>
                    <a:pt x="1832" y="1198"/>
                  </a:lnTo>
                  <a:lnTo>
                    <a:pt x="1723" y="1183"/>
                  </a:lnTo>
                  <a:lnTo>
                    <a:pt x="1654" y="1165"/>
                  </a:lnTo>
                  <a:lnTo>
                    <a:pt x="1631" y="1133"/>
                  </a:lnTo>
                  <a:lnTo>
                    <a:pt x="1563" y="1074"/>
                  </a:lnTo>
                  <a:lnTo>
                    <a:pt x="1517" y="1044"/>
                  </a:lnTo>
                  <a:lnTo>
                    <a:pt x="1476" y="1021"/>
                  </a:lnTo>
                  <a:lnTo>
                    <a:pt x="1437" y="1002"/>
                  </a:lnTo>
                  <a:lnTo>
                    <a:pt x="1350" y="979"/>
                  </a:lnTo>
                  <a:lnTo>
                    <a:pt x="1216" y="965"/>
                  </a:lnTo>
                  <a:lnTo>
                    <a:pt x="1126" y="927"/>
                  </a:lnTo>
                  <a:lnTo>
                    <a:pt x="1123" y="902"/>
                  </a:lnTo>
                  <a:lnTo>
                    <a:pt x="1153" y="891"/>
                  </a:lnTo>
                  <a:lnTo>
                    <a:pt x="1178" y="872"/>
                  </a:lnTo>
                  <a:lnTo>
                    <a:pt x="1197" y="847"/>
                  </a:lnTo>
                  <a:lnTo>
                    <a:pt x="1200" y="824"/>
                  </a:lnTo>
                  <a:lnTo>
                    <a:pt x="1194" y="803"/>
                  </a:lnTo>
                  <a:lnTo>
                    <a:pt x="1180" y="778"/>
                  </a:lnTo>
                  <a:lnTo>
                    <a:pt x="1175" y="749"/>
                  </a:lnTo>
                  <a:lnTo>
                    <a:pt x="1178" y="729"/>
                  </a:lnTo>
                  <a:lnTo>
                    <a:pt x="1189" y="714"/>
                  </a:lnTo>
                  <a:lnTo>
                    <a:pt x="1231" y="695"/>
                  </a:lnTo>
                  <a:lnTo>
                    <a:pt x="1264" y="678"/>
                  </a:lnTo>
                  <a:lnTo>
                    <a:pt x="1283" y="659"/>
                  </a:lnTo>
                  <a:lnTo>
                    <a:pt x="1295" y="647"/>
                  </a:lnTo>
                  <a:lnTo>
                    <a:pt x="1302" y="630"/>
                  </a:lnTo>
                  <a:lnTo>
                    <a:pt x="1302" y="609"/>
                  </a:lnTo>
                  <a:lnTo>
                    <a:pt x="1293" y="589"/>
                  </a:lnTo>
                  <a:lnTo>
                    <a:pt x="1235" y="572"/>
                  </a:lnTo>
                  <a:lnTo>
                    <a:pt x="1221" y="548"/>
                  </a:lnTo>
                  <a:lnTo>
                    <a:pt x="1254" y="542"/>
                  </a:lnTo>
                  <a:lnTo>
                    <a:pt x="1282" y="529"/>
                  </a:lnTo>
                  <a:lnTo>
                    <a:pt x="1305" y="509"/>
                  </a:lnTo>
                  <a:lnTo>
                    <a:pt x="1331" y="517"/>
                  </a:lnTo>
                  <a:lnTo>
                    <a:pt x="1366" y="531"/>
                  </a:lnTo>
                  <a:lnTo>
                    <a:pt x="1401" y="533"/>
                  </a:lnTo>
                  <a:lnTo>
                    <a:pt x="1437" y="529"/>
                  </a:lnTo>
                  <a:lnTo>
                    <a:pt x="1470" y="515"/>
                  </a:lnTo>
                  <a:lnTo>
                    <a:pt x="1499" y="494"/>
                  </a:lnTo>
                  <a:lnTo>
                    <a:pt x="1505" y="486"/>
                  </a:lnTo>
                  <a:lnTo>
                    <a:pt x="1521" y="510"/>
                  </a:lnTo>
                  <a:lnTo>
                    <a:pt x="1541" y="529"/>
                  </a:lnTo>
                  <a:lnTo>
                    <a:pt x="1568" y="539"/>
                  </a:lnTo>
                  <a:lnTo>
                    <a:pt x="1598" y="541"/>
                  </a:lnTo>
                  <a:lnTo>
                    <a:pt x="1627" y="534"/>
                  </a:lnTo>
                  <a:lnTo>
                    <a:pt x="1651" y="519"/>
                  </a:lnTo>
                  <a:lnTo>
                    <a:pt x="1697" y="477"/>
                  </a:lnTo>
                  <a:lnTo>
                    <a:pt x="1724" y="494"/>
                  </a:lnTo>
                  <a:lnTo>
                    <a:pt x="1755" y="504"/>
                  </a:lnTo>
                  <a:lnTo>
                    <a:pt x="1788" y="504"/>
                  </a:lnTo>
                  <a:lnTo>
                    <a:pt x="1819" y="494"/>
                  </a:lnTo>
                  <a:lnTo>
                    <a:pt x="1843" y="480"/>
                  </a:lnTo>
                  <a:lnTo>
                    <a:pt x="1846" y="459"/>
                  </a:lnTo>
                  <a:lnTo>
                    <a:pt x="1827" y="282"/>
                  </a:lnTo>
                  <a:lnTo>
                    <a:pt x="1829" y="256"/>
                  </a:lnTo>
                  <a:lnTo>
                    <a:pt x="1837" y="242"/>
                  </a:lnTo>
                  <a:lnTo>
                    <a:pt x="1852" y="233"/>
                  </a:lnTo>
                  <a:lnTo>
                    <a:pt x="1868" y="233"/>
                  </a:lnTo>
                  <a:lnTo>
                    <a:pt x="1883" y="242"/>
                  </a:lnTo>
                  <a:lnTo>
                    <a:pt x="1892" y="255"/>
                  </a:lnTo>
                  <a:lnTo>
                    <a:pt x="1895" y="283"/>
                  </a:lnTo>
                  <a:lnTo>
                    <a:pt x="1915" y="282"/>
                  </a:lnTo>
                  <a:lnTo>
                    <a:pt x="1912" y="221"/>
                  </a:lnTo>
                  <a:lnTo>
                    <a:pt x="1907" y="194"/>
                  </a:lnTo>
                  <a:lnTo>
                    <a:pt x="1913" y="167"/>
                  </a:lnTo>
                  <a:lnTo>
                    <a:pt x="1928" y="144"/>
                  </a:lnTo>
                  <a:lnTo>
                    <a:pt x="1949" y="128"/>
                  </a:lnTo>
                  <a:lnTo>
                    <a:pt x="1348" y="135"/>
                  </a:lnTo>
                  <a:lnTo>
                    <a:pt x="1236" y="121"/>
                  </a:lnTo>
                  <a:lnTo>
                    <a:pt x="1212" y="120"/>
                  </a:lnTo>
                  <a:lnTo>
                    <a:pt x="1174" y="112"/>
                  </a:lnTo>
                  <a:lnTo>
                    <a:pt x="1137" y="95"/>
                  </a:lnTo>
                  <a:lnTo>
                    <a:pt x="1107" y="70"/>
                  </a:lnTo>
                  <a:lnTo>
                    <a:pt x="1082" y="38"/>
                  </a:lnTo>
                  <a:lnTo>
                    <a:pt x="1066" y="3"/>
                  </a:lnTo>
                  <a:lnTo>
                    <a:pt x="1026" y="0"/>
                  </a:lnTo>
                  <a:lnTo>
                    <a:pt x="998" y="5"/>
                  </a:lnTo>
                  <a:lnTo>
                    <a:pt x="972" y="19"/>
                  </a:lnTo>
                  <a:lnTo>
                    <a:pt x="951" y="39"/>
                  </a:lnTo>
                  <a:lnTo>
                    <a:pt x="937" y="65"/>
                  </a:lnTo>
                  <a:lnTo>
                    <a:pt x="934" y="94"/>
                  </a:lnTo>
                  <a:lnTo>
                    <a:pt x="942" y="126"/>
                  </a:lnTo>
                  <a:lnTo>
                    <a:pt x="891" y="170"/>
                  </a:lnTo>
                  <a:lnTo>
                    <a:pt x="790" y="133"/>
                  </a:lnTo>
                  <a:lnTo>
                    <a:pt x="701" y="137"/>
                  </a:lnTo>
                  <a:lnTo>
                    <a:pt x="614" y="152"/>
                  </a:lnTo>
                  <a:lnTo>
                    <a:pt x="529" y="199"/>
                  </a:lnTo>
                  <a:lnTo>
                    <a:pt x="488" y="232"/>
                  </a:lnTo>
                  <a:lnTo>
                    <a:pt x="467" y="265"/>
                  </a:lnTo>
                  <a:lnTo>
                    <a:pt x="470" y="307"/>
                  </a:lnTo>
                  <a:lnTo>
                    <a:pt x="440" y="351"/>
                  </a:lnTo>
                  <a:lnTo>
                    <a:pt x="397" y="385"/>
                  </a:lnTo>
                  <a:lnTo>
                    <a:pt x="0" y="551"/>
                  </a:lnTo>
                  <a:lnTo>
                    <a:pt x="3" y="565"/>
                  </a:lnTo>
                  <a:lnTo>
                    <a:pt x="48" y="572"/>
                  </a:lnTo>
                  <a:lnTo>
                    <a:pt x="92" y="591"/>
                  </a:lnTo>
                  <a:lnTo>
                    <a:pt x="133" y="634"/>
                  </a:lnTo>
                  <a:lnTo>
                    <a:pt x="155" y="696"/>
                  </a:lnTo>
                  <a:lnTo>
                    <a:pt x="168" y="751"/>
                  </a:lnTo>
                  <a:lnTo>
                    <a:pt x="185" y="779"/>
                  </a:lnTo>
                  <a:lnTo>
                    <a:pt x="213" y="801"/>
                  </a:lnTo>
                  <a:lnTo>
                    <a:pt x="256" y="818"/>
                  </a:lnTo>
                  <a:lnTo>
                    <a:pt x="301" y="823"/>
                  </a:lnTo>
                  <a:lnTo>
                    <a:pt x="422" y="810"/>
                  </a:lnTo>
                  <a:lnTo>
                    <a:pt x="524" y="799"/>
                  </a:lnTo>
                  <a:lnTo>
                    <a:pt x="580" y="800"/>
                  </a:lnTo>
                  <a:lnTo>
                    <a:pt x="574" y="826"/>
                  </a:lnTo>
                  <a:lnTo>
                    <a:pt x="579" y="858"/>
                  </a:lnTo>
                  <a:lnTo>
                    <a:pt x="591" y="896"/>
                  </a:lnTo>
                  <a:lnTo>
                    <a:pt x="609" y="924"/>
                  </a:lnTo>
                  <a:lnTo>
                    <a:pt x="637" y="956"/>
                  </a:lnTo>
                  <a:lnTo>
                    <a:pt x="638" y="974"/>
                  </a:lnTo>
                  <a:lnTo>
                    <a:pt x="627" y="995"/>
                  </a:lnTo>
                  <a:lnTo>
                    <a:pt x="640" y="1027"/>
                  </a:lnTo>
                  <a:lnTo>
                    <a:pt x="597" y="1049"/>
                  </a:lnTo>
                  <a:lnTo>
                    <a:pt x="563" y="1030"/>
                  </a:lnTo>
                  <a:lnTo>
                    <a:pt x="542" y="1020"/>
                  </a:lnTo>
                  <a:lnTo>
                    <a:pt x="509" y="1032"/>
                  </a:lnTo>
                  <a:lnTo>
                    <a:pt x="467" y="1066"/>
                  </a:lnTo>
                  <a:lnTo>
                    <a:pt x="443" y="1015"/>
                  </a:lnTo>
                  <a:lnTo>
                    <a:pt x="386" y="975"/>
                  </a:lnTo>
                  <a:lnTo>
                    <a:pt x="319" y="958"/>
                  </a:lnTo>
                  <a:lnTo>
                    <a:pt x="264" y="951"/>
                  </a:lnTo>
                  <a:lnTo>
                    <a:pt x="146" y="973"/>
                  </a:lnTo>
                  <a:lnTo>
                    <a:pt x="146" y="9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05480" y="4071960"/>
              <a:ext cx="17280" cy="2376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91080" y="4078440"/>
              <a:ext cx="9720" cy="140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3497400" y="4082760"/>
              <a:ext cx="13680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3410280" y="402696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516480" y="4137120"/>
              <a:ext cx="47520" cy="936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65" y="16"/>
                  </a:moveTo>
                  <a:lnTo>
                    <a:pt x="131" y="4"/>
                  </a:lnTo>
                  <a:lnTo>
                    <a:pt x="95" y="0"/>
                  </a:lnTo>
                  <a:lnTo>
                    <a:pt x="59" y="4"/>
                  </a:lnTo>
                  <a:lnTo>
                    <a:pt x="26" y="17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3564000" y="4138560"/>
              <a:ext cx="46080" cy="972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63" y="26"/>
                  </a:moveTo>
                  <a:lnTo>
                    <a:pt x="136" y="1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8" y="10"/>
                  </a:lnTo>
                  <a:lnTo>
                    <a:pt x="10" y="26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613320" y="4143240"/>
              <a:ext cx="68400" cy="972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240" y="16"/>
                  </a:moveTo>
                  <a:lnTo>
                    <a:pt x="190" y="4"/>
                  </a:lnTo>
                  <a:lnTo>
                    <a:pt x="138" y="0"/>
                  </a:lnTo>
                  <a:lnTo>
                    <a:pt x="87" y="6"/>
                  </a:lnTo>
                  <a:lnTo>
                    <a:pt x="39" y="21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83160" y="4137120"/>
              <a:ext cx="46080" cy="14040"/>
            </a:xfrm>
            <a:custGeom>
              <a:avLst/>
              <a:gdLst/>
              <a:ahLst/>
              <a:rect l="l" t="t" r="r" b="b"/>
              <a:pathLst>
                <a:path w="166" h="51">
                  <a:moveTo>
                    <a:pt x="166" y="51"/>
                  </a:moveTo>
                  <a:lnTo>
                    <a:pt x="143" y="26"/>
                  </a:lnTo>
                  <a:lnTo>
                    <a:pt x="113" y="9"/>
                  </a:lnTo>
                  <a:lnTo>
                    <a:pt x="80" y="0"/>
                  </a:lnTo>
                  <a:lnTo>
                    <a:pt x="46" y="1"/>
                  </a:lnTo>
                  <a:lnTo>
                    <a:pt x="12" y="1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728520" y="4129200"/>
              <a:ext cx="25560" cy="1584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90" y="61"/>
                  </a:moveTo>
                  <a:lnTo>
                    <a:pt x="77" y="36"/>
                  </a:lnTo>
                  <a:lnTo>
                    <a:pt x="57" y="16"/>
                  </a:lnTo>
                  <a:lnTo>
                    <a:pt x="30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517560" y="4116240"/>
              <a:ext cx="222120" cy="9720"/>
            </a:xfrm>
            <a:custGeom>
              <a:avLst/>
              <a:gdLst/>
              <a:ahLst/>
              <a:rect l="l" t="t" r="r" b="b"/>
              <a:pathLst>
                <a:path w="778" h="33">
                  <a:moveTo>
                    <a:pt x="0" y="11"/>
                  </a:moveTo>
                  <a:lnTo>
                    <a:pt x="22" y="0"/>
                  </a:lnTo>
                  <a:lnTo>
                    <a:pt x="54" y="8"/>
                  </a:lnTo>
                  <a:lnTo>
                    <a:pt x="66" y="28"/>
                  </a:lnTo>
                  <a:lnTo>
                    <a:pt x="120" y="16"/>
                  </a:lnTo>
                  <a:lnTo>
                    <a:pt x="163" y="3"/>
                  </a:lnTo>
                  <a:lnTo>
                    <a:pt x="219" y="32"/>
                  </a:lnTo>
                  <a:lnTo>
                    <a:pt x="284" y="19"/>
                  </a:lnTo>
                  <a:lnTo>
                    <a:pt x="327" y="16"/>
                  </a:lnTo>
                  <a:lnTo>
                    <a:pt x="361" y="15"/>
                  </a:lnTo>
                  <a:lnTo>
                    <a:pt x="405" y="33"/>
                  </a:lnTo>
                  <a:lnTo>
                    <a:pt x="461" y="29"/>
                  </a:lnTo>
                  <a:lnTo>
                    <a:pt x="503" y="18"/>
                  </a:lnTo>
                  <a:lnTo>
                    <a:pt x="536" y="6"/>
                  </a:lnTo>
                  <a:lnTo>
                    <a:pt x="580" y="3"/>
                  </a:lnTo>
                  <a:lnTo>
                    <a:pt x="624" y="22"/>
                  </a:lnTo>
                  <a:lnTo>
                    <a:pt x="668" y="20"/>
                  </a:lnTo>
                  <a:lnTo>
                    <a:pt x="733" y="16"/>
                  </a:lnTo>
                  <a:lnTo>
                    <a:pt x="778" y="1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3771360" y="4092480"/>
              <a:ext cx="198360" cy="92160"/>
            </a:xfrm>
            <a:custGeom>
              <a:avLst/>
              <a:gdLst/>
              <a:ahLst/>
              <a:rect l="l" t="t" r="r" b="b"/>
              <a:pathLst>
                <a:path w="695" h="344">
                  <a:moveTo>
                    <a:pt x="695" y="5"/>
                  </a:moveTo>
                  <a:lnTo>
                    <a:pt x="585" y="0"/>
                  </a:lnTo>
                  <a:lnTo>
                    <a:pt x="497" y="15"/>
                  </a:lnTo>
                  <a:lnTo>
                    <a:pt x="398" y="30"/>
                  </a:lnTo>
                  <a:lnTo>
                    <a:pt x="336" y="75"/>
                  </a:lnTo>
                  <a:lnTo>
                    <a:pt x="328" y="118"/>
                  </a:lnTo>
                  <a:lnTo>
                    <a:pt x="318" y="160"/>
                  </a:lnTo>
                  <a:lnTo>
                    <a:pt x="320" y="192"/>
                  </a:lnTo>
                  <a:lnTo>
                    <a:pt x="300" y="225"/>
                  </a:lnTo>
                  <a:lnTo>
                    <a:pt x="246" y="248"/>
                  </a:lnTo>
                  <a:lnTo>
                    <a:pt x="149" y="275"/>
                  </a:lnTo>
                  <a:lnTo>
                    <a:pt x="64" y="299"/>
                  </a:lnTo>
                  <a:lnTo>
                    <a:pt x="0" y="34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772080" y="4102200"/>
              <a:ext cx="200160" cy="114120"/>
            </a:xfrm>
            <a:custGeom>
              <a:avLst/>
              <a:gdLst/>
              <a:ahLst/>
              <a:rect l="l" t="t" r="r" b="b"/>
              <a:pathLst>
                <a:path w="701" h="425">
                  <a:moveTo>
                    <a:pt x="701" y="0"/>
                  </a:moveTo>
                  <a:lnTo>
                    <a:pt x="624" y="4"/>
                  </a:lnTo>
                  <a:lnTo>
                    <a:pt x="558" y="17"/>
                  </a:lnTo>
                  <a:lnTo>
                    <a:pt x="474" y="54"/>
                  </a:lnTo>
                  <a:lnTo>
                    <a:pt x="419" y="87"/>
                  </a:lnTo>
                  <a:lnTo>
                    <a:pt x="390" y="132"/>
                  </a:lnTo>
                  <a:lnTo>
                    <a:pt x="381" y="174"/>
                  </a:lnTo>
                  <a:lnTo>
                    <a:pt x="372" y="195"/>
                  </a:lnTo>
                  <a:lnTo>
                    <a:pt x="340" y="229"/>
                  </a:lnTo>
                  <a:lnTo>
                    <a:pt x="287" y="262"/>
                  </a:lnTo>
                  <a:lnTo>
                    <a:pt x="222" y="286"/>
                  </a:lnTo>
                  <a:lnTo>
                    <a:pt x="169" y="300"/>
                  </a:lnTo>
                  <a:lnTo>
                    <a:pt x="93" y="335"/>
                  </a:lnTo>
                  <a:lnTo>
                    <a:pt x="41" y="371"/>
                  </a:lnTo>
                  <a:lnTo>
                    <a:pt x="0" y="42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71360" y="4121280"/>
              <a:ext cx="127080" cy="110880"/>
            </a:xfrm>
            <a:custGeom>
              <a:avLst/>
              <a:gdLst/>
              <a:ahLst/>
              <a:rect l="l" t="t" r="r" b="b"/>
              <a:pathLst>
                <a:path w="447" h="410">
                  <a:moveTo>
                    <a:pt x="447" y="0"/>
                  </a:moveTo>
                  <a:lnTo>
                    <a:pt x="384" y="11"/>
                  </a:lnTo>
                  <a:lnTo>
                    <a:pt x="319" y="37"/>
                  </a:lnTo>
                  <a:lnTo>
                    <a:pt x="255" y="73"/>
                  </a:lnTo>
                  <a:lnTo>
                    <a:pt x="224" y="95"/>
                  </a:lnTo>
                  <a:lnTo>
                    <a:pt x="214" y="126"/>
                  </a:lnTo>
                  <a:lnTo>
                    <a:pt x="226" y="146"/>
                  </a:lnTo>
                  <a:lnTo>
                    <a:pt x="248" y="168"/>
                  </a:lnTo>
                  <a:lnTo>
                    <a:pt x="251" y="209"/>
                  </a:lnTo>
                  <a:lnTo>
                    <a:pt x="221" y="252"/>
                  </a:lnTo>
                  <a:lnTo>
                    <a:pt x="167" y="286"/>
                  </a:lnTo>
                  <a:lnTo>
                    <a:pt x="104" y="321"/>
                  </a:lnTo>
                  <a:lnTo>
                    <a:pt x="72" y="344"/>
                  </a:lnTo>
                  <a:lnTo>
                    <a:pt x="0" y="41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3781800" y="4162320"/>
              <a:ext cx="47520" cy="6984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173" y="0"/>
                  </a:moveTo>
                  <a:lnTo>
                    <a:pt x="131" y="33"/>
                  </a:lnTo>
                  <a:lnTo>
                    <a:pt x="70" y="99"/>
                  </a:lnTo>
                  <a:lnTo>
                    <a:pt x="71" y="129"/>
                  </a:lnTo>
                  <a:lnTo>
                    <a:pt x="84" y="170"/>
                  </a:lnTo>
                  <a:lnTo>
                    <a:pt x="53" y="215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754080" y="4176720"/>
              <a:ext cx="42840" cy="68400"/>
            </a:xfrm>
            <a:custGeom>
              <a:avLst/>
              <a:gdLst/>
              <a:ahLst/>
              <a:rect l="l" t="t" r="r" b="b"/>
              <a:pathLst>
                <a:path w="152" h="251">
                  <a:moveTo>
                    <a:pt x="152" y="0"/>
                  </a:moveTo>
                  <a:lnTo>
                    <a:pt x="97" y="23"/>
                  </a:lnTo>
                  <a:lnTo>
                    <a:pt x="78" y="56"/>
                  </a:lnTo>
                  <a:lnTo>
                    <a:pt x="60" y="131"/>
                  </a:lnTo>
                  <a:lnTo>
                    <a:pt x="41" y="195"/>
                  </a:lnTo>
                  <a:lnTo>
                    <a:pt x="0" y="25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3731760" y="4181400"/>
              <a:ext cx="34920" cy="65160"/>
            </a:xfrm>
            <a:custGeom>
              <a:avLst/>
              <a:gdLst/>
              <a:ahLst/>
              <a:rect l="l" t="t" r="r" b="b"/>
              <a:pathLst>
                <a:path w="119" h="238">
                  <a:moveTo>
                    <a:pt x="106" y="0"/>
                  </a:moveTo>
                  <a:lnTo>
                    <a:pt x="119" y="52"/>
                  </a:lnTo>
                  <a:lnTo>
                    <a:pt x="102" y="116"/>
                  </a:lnTo>
                  <a:lnTo>
                    <a:pt x="41" y="195"/>
                  </a:lnTo>
                  <a:lnTo>
                    <a:pt x="0" y="2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699000" y="4179960"/>
              <a:ext cx="36720" cy="75960"/>
            </a:xfrm>
            <a:custGeom>
              <a:avLst/>
              <a:gdLst/>
              <a:ahLst/>
              <a:rect l="l" t="t" r="r" b="b"/>
              <a:pathLst>
                <a:path w="127" h="281">
                  <a:moveTo>
                    <a:pt x="127" y="0"/>
                  </a:moveTo>
                  <a:lnTo>
                    <a:pt x="95" y="22"/>
                  </a:lnTo>
                  <a:lnTo>
                    <a:pt x="85" y="44"/>
                  </a:lnTo>
                  <a:lnTo>
                    <a:pt x="98" y="76"/>
                  </a:lnTo>
                  <a:lnTo>
                    <a:pt x="102" y="127"/>
                  </a:lnTo>
                  <a:lnTo>
                    <a:pt x="61" y="192"/>
                  </a:lnTo>
                  <a:lnTo>
                    <a:pt x="0" y="28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523680" y="4300560"/>
              <a:ext cx="174600" cy="85680"/>
            </a:xfrm>
            <a:custGeom>
              <a:avLst/>
              <a:gdLst/>
              <a:ahLst/>
              <a:rect l="l" t="t" r="r" b="b"/>
              <a:pathLst>
                <a:path w="609" h="318">
                  <a:moveTo>
                    <a:pt x="0" y="0"/>
                  </a:moveTo>
                  <a:lnTo>
                    <a:pt x="201" y="63"/>
                  </a:lnTo>
                  <a:lnTo>
                    <a:pt x="257" y="92"/>
                  </a:lnTo>
                  <a:lnTo>
                    <a:pt x="357" y="119"/>
                  </a:lnTo>
                  <a:lnTo>
                    <a:pt x="392" y="158"/>
                  </a:lnTo>
                  <a:lnTo>
                    <a:pt x="440" y="209"/>
                  </a:lnTo>
                  <a:lnTo>
                    <a:pt x="495" y="271"/>
                  </a:lnTo>
                  <a:lnTo>
                    <a:pt x="609" y="3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534840" y="4281480"/>
              <a:ext cx="236520" cy="122400"/>
            </a:xfrm>
            <a:custGeom>
              <a:avLst/>
              <a:gdLst/>
              <a:ahLst/>
              <a:rect l="l" t="t" r="r" b="b"/>
              <a:pathLst>
                <a:path w="823" h="454">
                  <a:moveTo>
                    <a:pt x="0" y="0"/>
                  </a:moveTo>
                  <a:lnTo>
                    <a:pt x="81" y="60"/>
                  </a:lnTo>
                  <a:lnTo>
                    <a:pt x="192" y="107"/>
                  </a:lnTo>
                  <a:lnTo>
                    <a:pt x="336" y="163"/>
                  </a:lnTo>
                  <a:lnTo>
                    <a:pt x="461" y="220"/>
                  </a:lnTo>
                  <a:lnTo>
                    <a:pt x="574" y="299"/>
                  </a:lnTo>
                  <a:lnTo>
                    <a:pt x="688" y="388"/>
                  </a:lnTo>
                  <a:lnTo>
                    <a:pt x="823" y="45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553200" y="4264200"/>
              <a:ext cx="287280" cy="160200"/>
            </a:xfrm>
            <a:custGeom>
              <a:avLst/>
              <a:gdLst/>
              <a:ahLst/>
              <a:rect l="l" t="t" r="r" b="b"/>
              <a:pathLst>
                <a:path w="1006" h="594">
                  <a:moveTo>
                    <a:pt x="0" y="0"/>
                  </a:moveTo>
                  <a:lnTo>
                    <a:pt x="69" y="60"/>
                  </a:lnTo>
                  <a:lnTo>
                    <a:pt x="159" y="119"/>
                  </a:lnTo>
                  <a:lnTo>
                    <a:pt x="294" y="176"/>
                  </a:lnTo>
                  <a:lnTo>
                    <a:pt x="459" y="220"/>
                  </a:lnTo>
                  <a:lnTo>
                    <a:pt x="596" y="308"/>
                  </a:lnTo>
                  <a:lnTo>
                    <a:pt x="698" y="378"/>
                  </a:lnTo>
                  <a:lnTo>
                    <a:pt x="777" y="425"/>
                  </a:lnTo>
                  <a:lnTo>
                    <a:pt x="868" y="495"/>
                  </a:lnTo>
                  <a:lnTo>
                    <a:pt x="1006" y="59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3552480" y="4433760"/>
              <a:ext cx="81000" cy="28800"/>
            </a:xfrm>
            <a:custGeom>
              <a:avLst/>
              <a:gdLst/>
              <a:ahLst/>
              <a:rect l="l" t="t" r="r" b="b"/>
              <a:pathLst>
                <a:path w="291" h="103">
                  <a:moveTo>
                    <a:pt x="0" y="0"/>
                  </a:moveTo>
                  <a:lnTo>
                    <a:pt x="25" y="42"/>
                  </a:lnTo>
                  <a:lnTo>
                    <a:pt x="69" y="60"/>
                  </a:lnTo>
                  <a:lnTo>
                    <a:pt x="291" y="1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610080" y="4468680"/>
              <a:ext cx="15840" cy="50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0"/>
                  </a:moveTo>
                  <a:lnTo>
                    <a:pt x="16" y="13"/>
                  </a:lnTo>
                  <a:lnTo>
                    <a:pt x="38" y="19"/>
                  </a:lnTo>
                  <a:lnTo>
                    <a:pt x="55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458520" y="4489560"/>
              <a:ext cx="125640" cy="4680"/>
            </a:xfrm>
            <a:custGeom>
              <a:avLst/>
              <a:gdLst/>
              <a:ahLst/>
              <a:rect l="l" t="t" r="r" b="b"/>
              <a:pathLst>
                <a:path w="440" h="20">
                  <a:moveTo>
                    <a:pt x="0" y="0"/>
                  </a:moveTo>
                  <a:lnTo>
                    <a:pt x="440" y="9"/>
                  </a:lnTo>
                  <a:lnTo>
                    <a:pt x="440" y="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632400" y="4484520"/>
              <a:ext cx="558720" cy="11160"/>
            </a:xfrm>
            <a:custGeom>
              <a:avLst/>
              <a:gdLst/>
              <a:ahLst/>
              <a:rect l="l" t="t" r="r" b="b"/>
              <a:pathLst>
                <a:path w="1959" h="42">
                  <a:moveTo>
                    <a:pt x="0" y="42"/>
                  </a:moveTo>
                  <a:lnTo>
                    <a:pt x="1455" y="0"/>
                  </a:lnTo>
                  <a:lnTo>
                    <a:pt x="1959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760920" y="4344840"/>
              <a:ext cx="216000" cy="55800"/>
            </a:xfrm>
            <a:custGeom>
              <a:avLst/>
              <a:gdLst/>
              <a:ahLst/>
              <a:rect l="l" t="t" r="r" b="b"/>
              <a:pathLst>
                <a:path w="760" h="202">
                  <a:moveTo>
                    <a:pt x="726" y="0"/>
                  </a:moveTo>
                  <a:lnTo>
                    <a:pt x="681" y="160"/>
                  </a:lnTo>
                  <a:lnTo>
                    <a:pt x="9" y="120"/>
                  </a:lnTo>
                  <a:lnTo>
                    <a:pt x="0" y="143"/>
                  </a:lnTo>
                  <a:lnTo>
                    <a:pt x="22" y="152"/>
                  </a:lnTo>
                  <a:lnTo>
                    <a:pt x="705" y="202"/>
                  </a:lnTo>
                  <a:lnTo>
                    <a:pt x="715" y="190"/>
                  </a:lnTo>
                  <a:lnTo>
                    <a:pt x="760" y="9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810240" y="4316400"/>
              <a:ext cx="154080" cy="47520"/>
            </a:xfrm>
            <a:custGeom>
              <a:avLst/>
              <a:gdLst/>
              <a:ahLst/>
              <a:rect l="l" t="t" r="r" b="b"/>
              <a:pathLst>
                <a:path w="544" h="178">
                  <a:moveTo>
                    <a:pt x="0" y="83"/>
                  </a:moveTo>
                  <a:lnTo>
                    <a:pt x="110" y="87"/>
                  </a:lnTo>
                  <a:lnTo>
                    <a:pt x="255" y="111"/>
                  </a:lnTo>
                  <a:lnTo>
                    <a:pt x="289" y="131"/>
                  </a:lnTo>
                  <a:lnTo>
                    <a:pt x="310" y="150"/>
                  </a:lnTo>
                  <a:lnTo>
                    <a:pt x="329" y="145"/>
                  </a:lnTo>
                  <a:lnTo>
                    <a:pt x="342" y="128"/>
                  </a:lnTo>
                  <a:lnTo>
                    <a:pt x="374" y="131"/>
                  </a:lnTo>
                  <a:lnTo>
                    <a:pt x="401" y="137"/>
                  </a:lnTo>
                  <a:lnTo>
                    <a:pt x="418" y="155"/>
                  </a:lnTo>
                  <a:lnTo>
                    <a:pt x="431" y="178"/>
                  </a:lnTo>
                  <a:lnTo>
                    <a:pt x="487" y="164"/>
                  </a:lnTo>
                  <a:lnTo>
                    <a:pt x="510" y="132"/>
                  </a:lnTo>
                  <a:lnTo>
                    <a:pt x="534" y="67"/>
                  </a:lnTo>
                  <a:lnTo>
                    <a:pt x="54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828600" y="4305240"/>
              <a:ext cx="136440" cy="36720"/>
            </a:xfrm>
            <a:custGeom>
              <a:avLst/>
              <a:gdLst/>
              <a:ahLst/>
              <a:rect l="l" t="t" r="r" b="b"/>
              <a:pathLst>
                <a:path w="480" h="137">
                  <a:moveTo>
                    <a:pt x="480" y="0"/>
                  </a:moveTo>
                  <a:lnTo>
                    <a:pt x="454" y="119"/>
                  </a:lnTo>
                  <a:lnTo>
                    <a:pt x="412" y="137"/>
                  </a:lnTo>
                  <a:lnTo>
                    <a:pt x="390" y="112"/>
                  </a:lnTo>
                  <a:lnTo>
                    <a:pt x="365" y="103"/>
                  </a:lnTo>
                  <a:lnTo>
                    <a:pt x="313" y="109"/>
                  </a:lnTo>
                  <a:lnTo>
                    <a:pt x="269" y="126"/>
                  </a:lnTo>
                  <a:lnTo>
                    <a:pt x="207" y="101"/>
                  </a:lnTo>
                  <a:lnTo>
                    <a:pt x="166" y="70"/>
                  </a:lnTo>
                  <a:lnTo>
                    <a:pt x="109" y="41"/>
                  </a:lnTo>
                  <a:lnTo>
                    <a:pt x="64" y="32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4050000" y="4253040"/>
              <a:ext cx="33120" cy="316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115" y="0"/>
                  </a:moveTo>
                  <a:lnTo>
                    <a:pt x="52" y="44"/>
                  </a:lnTo>
                  <a:lnTo>
                    <a:pt x="0" y="100"/>
                  </a:lnTo>
                  <a:lnTo>
                    <a:pt x="1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089600" y="4268880"/>
              <a:ext cx="15840" cy="2700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59" y="0"/>
                  </a:moveTo>
                  <a:lnTo>
                    <a:pt x="33" y="25"/>
                  </a:lnTo>
                  <a:lnTo>
                    <a:pt x="13" y="56"/>
                  </a:lnTo>
                  <a:lnTo>
                    <a:pt x="1" y="90"/>
                  </a:lnTo>
                  <a:lnTo>
                    <a:pt x="0" y="9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588120" y="3848040"/>
              <a:ext cx="163440" cy="108000"/>
            </a:xfrm>
            <a:custGeom>
              <a:avLst/>
              <a:gdLst/>
              <a:ahLst/>
              <a:rect l="l" t="t" r="r" b="b"/>
              <a:pathLst>
                <a:path w="573" h="399">
                  <a:moveTo>
                    <a:pt x="277" y="304"/>
                  </a:moveTo>
                  <a:lnTo>
                    <a:pt x="277" y="304"/>
                  </a:lnTo>
                  <a:lnTo>
                    <a:pt x="258" y="307"/>
                  </a:lnTo>
                  <a:lnTo>
                    <a:pt x="242" y="319"/>
                  </a:lnTo>
                  <a:lnTo>
                    <a:pt x="232" y="334"/>
                  </a:lnTo>
                  <a:lnTo>
                    <a:pt x="234" y="353"/>
                  </a:lnTo>
                  <a:lnTo>
                    <a:pt x="237" y="361"/>
                  </a:lnTo>
                  <a:lnTo>
                    <a:pt x="137" y="399"/>
                  </a:lnTo>
                  <a:lnTo>
                    <a:pt x="149" y="365"/>
                  </a:lnTo>
                  <a:lnTo>
                    <a:pt x="52" y="371"/>
                  </a:lnTo>
                  <a:lnTo>
                    <a:pt x="167" y="327"/>
                  </a:lnTo>
                  <a:lnTo>
                    <a:pt x="74" y="325"/>
                  </a:lnTo>
                  <a:lnTo>
                    <a:pt x="190" y="273"/>
                  </a:lnTo>
                  <a:lnTo>
                    <a:pt x="5" y="311"/>
                  </a:lnTo>
                  <a:lnTo>
                    <a:pt x="78" y="275"/>
                  </a:lnTo>
                  <a:lnTo>
                    <a:pt x="203" y="235"/>
                  </a:lnTo>
                  <a:lnTo>
                    <a:pt x="0" y="216"/>
                  </a:lnTo>
                  <a:lnTo>
                    <a:pt x="204" y="162"/>
                  </a:lnTo>
                  <a:lnTo>
                    <a:pt x="62" y="149"/>
                  </a:lnTo>
                  <a:lnTo>
                    <a:pt x="269" y="138"/>
                  </a:lnTo>
                  <a:lnTo>
                    <a:pt x="81" y="75"/>
                  </a:lnTo>
                  <a:lnTo>
                    <a:pt x="399" y="112"/>
                  </a:lnTo>
                  <a:lnTo>
                    <a:pt x="259" y="59"/>
                  </a:lnTo>
                  <a:lnTo>
                    <a:pt x="475" y="108"/>
                  </a:lnTo>
                  <a:lnTo>
                    <a:pt x="448" y="25"/>
                  </a:lnTo>
                  <a:lnTo>
                    <a:pt x="531" y="116"/>
                  </a:lnTo>
                  <a:lnTo>
                    <a:pt x="524" y="0"/>
                  </a:lnTo>
                  <a:lnTo>
                    <a:pt x="550" y="83"/>
                  </a:lnTo>
                  <a:lnTo>
                    <a:pt x="573" y="108"/>
                  </a:lnTo>
                  <a:lnTo>
                    <a:pt x="437" y="146"/>
                  </a:lnTo>
                  <a:lnTo>
                    <a:pt x="418" y="150"/>
                  </a:lnTo>
                  <a:lnTo>
                    <a:pt x="400" y="162"/>
                  </a:lnTo>
                  <a:lnTo>
                    <a:pt x="392" y="180"/>
                  </a:lnTo>
                  <a:lnTo>
                    <a:pt x="392" y="200"/>
                  </a:lnTo>
                  <a:lnTo>
                    <a:pt x="402" y="217"/>
                  </a:lnTo>
                  <a:lnTo>
                    <a:pt x="419" y="230"/>
                  </a:lnTo>
                  <a:lnTo>
                    <a:pt x="421" y="230"/>
                  </a:lnTo>
                  <a:lnTo>
                    <a:pt x="370" y="277"/>
                  </a:lnTo>
                  <a:lnTo>
                    <a:pt x="375" y="353"/>
                  </a:lnTo>
                  <a:lnTo>
                    <a:pt x="341" y="356"/>
                  </a:lnTo>
                  <a:lnTo>
                    <a:pt x="300" y="312"/>
                  </a:lnTo>
                  <a:lnTo>
                    <a:pt x="277" y="304"/>
                  </a:lnTo>
                  <a:lnTo>
                    <a:pt x="277" y="3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572280" y="3882960"/>
              <a:ext cx="23760" cy="1908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83" y="11"/>
                  </a:moveTo>
                  <a:lnTo>
                    <a:pt x="67" y="1"/>
                  </a:lnTo>
                  <a:lnTo>
                    <a:pt x="44" y="0"/>
                  </a:lnTo>
                  <a:lnTo>
                    <a:pt x="24" y="6"/>
                  </a:lnTo>
                  <a:lnTo>
                    <a:pt x="7" y="2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1" y="68"/>
                  </a:lnTo>
                  <a:lnTo>
                    <a:pt x="7" y="49"/>
                  </a:lnTo>
                  <a:lnTo>
                    <a:pt x="23" y="34"/>
                  </a:lnTo>
                  <a:lnTo>
                    <a:pt x="44" y="24"/>
                  </a:lnTo>
                  <a:lnTo>
                    <a:pt x="67" y="24"/>
                  </a:lnTo>
                  <a:lnTo>
                    <a:pt x="84" y="41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66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568320" y="3895560"/>
              <a:ext cx="34920" cy="41400"/>
            </a:xfrm>
            <a:custGeom>
              <a:avLst/>
              <a:gdLst/>
              <a:ahLst/>
              <a:rect l="l" t="t" r="r" b="b"/>
              <a:pathLst>
                <a:path w="123" h="152">
                  <a:moveTo>
                    <a:pt x="97" y="113"/>
                  </a:moveTo>
                  <a:lnTo>
                    <a:pt x="116" y="85"/>
                  </a:lnTo>
                  <a:lnTo>
                    <a:pt x="120" y="53"/>
                  </a:lnTo>
                  <a:lnTo>
                    <a:pt x="123" y="21"/>
                  </a:lnTo>
                  <a:lnTo>
                    <a:pt x="113" y="8"/>
                  </a:lnTo>
                  <a:lnTo>
                    <a:pt x="99" y="0"/>
                  </a:lnTo>
                  <a:lnTo>
                    <a:pt x="81" y="3"/>
                  </a:lnTo>
                  <a:lnTo>
                    <a:pt x="51" y="15"/>
                  </a:lnTo>
                  <a:lnTo>
                    <a:pt x="25" y="39"/>
                  </a:lnTo>
                  <a:lnTo>
                    <a:pt x="9" y="67"/>
                  </a:lnTo>
                  <a:lnTo>
                    <a:pt x="0" y="99"/>
                  </a:lnTo>
                  <a:lnTo>
                    <a:pt x="1" y="131"/>
                  </a:lnTo>
                  <a:lnTo>
                    <a:pt x="13" y="146"/>
                  </a:lnTo>
                  <a:lnTo>
                    <a:pt x="30" y="152"/>
                  </a:lnTo>
                  <a:lnTo>
                    <a:pt x="52" y="150"/>
                  </a:lnTo>
                  <a:lnTo>
                    <a:pt x="72" y="141"/>
                  </a:lnTo>
                  <a:lnTo>
                    <a:pt x="97" y="113"/>
                  </a:lnTo>
                  <a:lnTo>
                    <a:pt x="97" y="1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3575160" y="3911760"/>
              <a:ext cx="14400" cy="158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3" y="2"/>
                  </a:moveTo>
                  <a:lnTo>
                    <a:pt x="48" y="19"/>
                  </a:lnTo>
                  <a:lnTo>
                    <a:pt x="43" y="36"/>
                  </a:lnTo>
                  <a:lnTo>
                    <a:pt x="31" y="51"/>
                  </a:lnTo>
                  <a:lnTo>
                    <a:pt x="20" y="53"/>
                  </a:lnTo>
                  <a:lnTo>
                    <a:pt x="8" y="51"/>
                  </a:lnTo>
                  <a:lnTo>
                    <a:pt x="0" y="36"/>
                  </a:lnTo>
                  <a:lnTo>
                    <a:pt x="2" y="20"/>
                  </a:lnTo>
                  <a:lnTo>
                    <a:pt x="11" y="7"/>
                  </a:lnTo>
                  <a:lnTo>
                    <a:pt x="26" y="0"/>
                  </a:lnTo>
                  <a:lnTo>
                    <a:pt x="43" y="2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3731760" y="4181400"/>
              <a:ext cx="297000" cy="96840"/>
            </a:xfrm>
            <a:custGeom>
              <a:avLst/>
              <a:gdLst/>
              <a:ahLst/>
              <a:rect l="l" t="t" r="r" b="b"/>
              <a:pathLst>
                <a:path w="1046" h="359">
                  <a:moveTo>
                    <a:pt x="34" y="0"/>
                  </a:moveTo>
                  <a:lnTo>
                    <a:pt x="111" y="17"/>
                  </a:lnTo>
                  <a:lnTo>
                    <a:pt x="141" y="33"/>
                  </a:lnTo>
                  <a:lnTo>
                    <a:pt x="159" y="57"/>
                  </a:lnTo>
                  <a:lnTo>
                    <a:pt x="177" y="120"/>
                  </a:lnTo>
                  <a:lnTo>
                    <a:pt x="191" y="173"/>
                  </a:lnTo>
                  <a:lnTo>
                    <a:pt x="230" y="221"/>
                  </a:lnTo>
                  <a:lnTo>
                    <a:pt x="269" y="240"/>
                  </a:lnTo>
                  <a:lnTo>
                    <a:pt x="318" y="245"/>
                  </a:lnTo>
                  <a:lnTo>
                    <a:pt x="441" y="232"/>
                  </a:lnTo>
                  <a:lnTo>
                    <a:pt x="544" y="221"/>
                  </a:lnTo>
                  <a:lnTo>
                    <a:pt x="648" y="223"/>
                  </a:lnTo>
                  <a:lnTo>
                    <a:pt x="714" y="230"/>
                  </a:lnTo>
                  <a:lnTo>
                    <a:pt x="766" y="244"/>
                  </a:lnTo>
                  <a:lnTo>
                    <a:pt x="815" y="266"/>
                  </a:lnTo>
                  <a:lnTo>
                    <a:pt x="860" y="293"/>
                  </a:lnTo>
                  <a:lnTo>
                    <a:pt x="900" y="312"/>
                  </a:lnTo>
                  <a:lnTo>
                    <a:pt x="927" y="319"/>
                  </a:lnTo>
                  <a:lnTo>
                    <a:pt x="966" y="326"/>
                  </a:lnTo>
                  <a:lnTo>
                    <a:pt x="1007" y="327"/>
                  </a:lnTo>
                  <a:lnTo>
                    <a:pt x="1046" y="307"/>
                  </a:lnTo>
                  <a:lnTo>
                    <a:pt x="1026" y="339"/>
                  </a:lnTo>
                  <a:lnTo>
                    <a:pt x="1007" y="353"/>
                  </a:lnTo>
                  <a:lnTo>
                    <a:pt x="985" y="359"/>
                  </a:lnTo>
                  <a:lnTo>
                    <a:pt x="906" y="351"/>
                  </a:lnTo>
                  <a:lnTo>
                    <a:pt x="879" y="343"/>
                  </a:lnTo>
                  <a:lnTo>
                    <a:pt x="838" y="324"/>
                  </a:lnTo>
                  <a:lnTo>
                    <a:pt x="794" y="297"/>
                  </a:lnTo>
                  <a:lnTo>
                    <a:pt x="694" y="262"/>
                  </a:lnTo>
                  <a:lnTo>
                    <a:pt x="626" y="254"/>
                  </a:lnTo>
                  <a:lnTo>
                    <a:pt x="522" y="253"/>
                  </a:lnTo>
                  <a:lnTo>
                    <a:pt x="419" y="265"/>
                  </a:lnTo>
                  <a:lnTo>
                    <a:pt x="296" y="277"/>
                  </a:lnTo>
                  <a:lnTo>
                    <a:pt x="253" y="270"/>
                  </a:lnTo>
                  <a:lnTo>
                    <a:pt x="210" y="254"/>
                  </a:lnTo>
                  <a:lnTo>
                    <a:pt x="182" y="232"/>
                  </a:lnTo>
                  <a:lnTo>
                    <a:pt x="165" y="204"/>
                  </a:lnTo>
                  <a:lnTo>
                    <a:pt x="151" y="150"/>
                  </a:lnTo>
                  <a:lnTo>
                    <a:pt x="131" y="88"/>
                  </a:lnTo>
                  <a:lnTo>
                    <a:pt x="89" y="44"/>
                  </a:lnTo>
                  <a:lnTo>
                    <a:pt x="44" y="26"/>
                  </a:lnTo>
                  <a:lnTo>
                    <a:pt x="0" y="1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3543480" y="4248000"/>
              <a:ext cx="324000" cy="211320"/>
            </a:xfrm>
            <a:custGeom>
              <a:avLst/>
              <a:gdLst/>
              <a:ahLst/>
              <a:rect l="l" t="t" r="r" b="b"/>
              <a:pathLst>
                <a:path w="1129" h="780">
                  <a:moveTo>
                    <a:pt x="15" y="0"/>
                  </a:moveTo>
                  <a:lnTo>
                    <a:pt x="21" y="34"/>
                  </a:lnTo>
                  <a:lnTo>
                    <a:pt x="30" y="71"/>
                  </a:lnTo>
                  <a:lnTo>
                    <a:pt x="49" y="99"/>
                  </a:lnTo>
                  <a:lnTo>
                    <a:pt x="78" y="131"/>
                  </a:lnTo>
                  <a:lnTo>
                    <a:pt x="124" y="170"/>
                  </a:lnTo>
                  <a:lnTo>
                    <a:pt x="178" y="201"/>
                  </a:lnTo>
                  <a:lnTo>
                    <a:pt x="271" y="235"/>
                  </a:lnTo>
                  <a:lnTo>
                    <a:pt x="332" y="257"/>
                  </a:lnTo>
                  <a:lnTo>
                    <a:pt x="417" y="289"/>
                  </a:lnTo>
                  <a:lnTo>
                    <a:pt x="571" y="361"/>
                  </a:lnTo>
                  <a:lnTo>
                    <a:pt x="685" y="419"/>
                  </a:lnTo>
                  <a:lnTo>
                    <a:pt x="765" y="461"/>
                  </a:lnTo>
                  <a:lnTo>
                    <a:pt x="841" y="511"/>
                  </a:lnTo>
                  <a:lnTo>
                    <a:pt x="923" y="565"/>
                  </a:lnTo>
                  <a:lnTo>
                    <a:pt x="1000" y="629"/>
                  </a:lnTo>
                  <a:lnTo>
                    <a:pt x="1129" y="747"/>
                  </a:lnTo>
                  <a:lnTo>
                    <a:pt x="1112" y="780"/>
                  </a:lnTo>
                  <a:lnTo>
                    <a:pt x="984" y="660"/>
                  </a:lnTo>
                  <a:lnTo>
                    <a:pt x="906" y="597"/>
                  </a:lnTo>
                  <a:lnTo>
                    <a:pt x="825" y="543"/>
                  </a:lnTo>
                  <a:lnTo>
                    <a:pt x="748" y="491"/>
                  </a:lnTo>
                  <a:lnTo>
                    <a:pt x="669" y="449"/>
                  </a:lnTo>
                  <a:lnTo>
                    <a:pt x="555" y="393"/>
                  </a:lnTo>
                  <a:lnTo>
                    <a:pt x="402" y="322"/>
                  </a:lnTo>
                  <a:lnTo>
                    <a:pt x="317" y="287"/>
                  </a:lnTo>
                  <a:lnTo>
                    <a:pt x="255" y="265"/>
                  </a:lnTo>
                  <a:lnTo>
                    <a:pt x="162" y="232"/>
                  </a:lnTo>
                  <a:lnTo>
                    <a:pt x="108" y="202"/>
                  </a:lnTo>
                  <a:lnTo>
                    <a:pt x="63" y="162"/>
                  </a:lnTo>
                  <a:lnTo>
                    <a:pt x="33" y="130"/>
                  </a:lnTo>
                  <a:lnTo>
                    <a:pt x="16" y="102"/>
                  </a:lnTo>
                  <a:lnTo>
                    <a:pt x="5" y="64"/>
                  </a:lnTo>
                  <a:lnTo>
                    <a:pt x="0" y="32"/>
                  </a:lnTo>
                  <a:lnTo>
                    <a:pt x="5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3657240" y="4187880"/>
              <a:ext cx="66600" cy="90360"/>
            </a:xfrm>
            <a:custGeom>
              <a:avLst/>
              <a:gdLst/>
              <a:ahLst/>
              <a:rect l="l" t="t" r="r" b="b"/>
              <a:pathLst>
                <a:path w="229" h="329">
                  <a:moveTo>
                    <a:pt x="0" y="309"/>
                  </a:moveTo>
                  <a:lnTo>
                    <a:pt x="29" y="297"/>
                  </a:lnTo>
                  <a:lnTo>
                    <a:pt x="54" y="279"/>
                  </a:lnTo>
                  <a:lnTo>
                    <a:pt x="73" y="255"/>
                  </a:lnTo>
                  <a:lnTo>
                    <a:pt x="74" y="231"/>
                  </a:lnTo>
                  <a:lnTo>
                    <a:pt x="70" y="210"/>
                  </a:lnTo>
                  <a:lnTo>
                    <a:pt x="56" y="184"/>
                  </a:lnTo>
                  <a:lnTo>
                    <a:pt x="51" y="157"/>
                  </a:lnTo>
                  <a:lnTo>
                    <a:pt x="54" y="135"/>
                  </a:lnTo>
                  <a:lnTo>
                    <a:pt x="66" y="122"/>
                  </a:lnTo>
                  <a:lnTo>
                    <a:pt x="107" y="103"/>
                  </a:lnTo>
                  <a:lnTo>
                    <a:pt x="141" y="85"/>
                  </a:lnTo>
                  <a:lnTo>
                    <a:pt x="158" y="66"/>
                  </a:lnTo>
                  <a:lnTo>
                    <a:pt x="171" y="55"/>
                  </a:lnTo>
                  <a:lnTo>
                    <a:pt x="177" y="38"/>
                  </a:lnTo>
                  <a:lnTo>
                    <a:pt x="177" y="16"/>
                  </a:lnTo>
                  <a:lnTo>
                    <a:pt x="162" y="0"/>
                  </a:lnTo>
                  <a:lnTo>
                    <a:pt x="220" y="16"/>
                  </a:lnTo>
                  <a:lnTo>
                    <a:pt x="229" y="37"/>
                  </a:lnTo>
                  <a:lnTo>
                    <a:pt x="229" y="59"/>
                  </a:lnTo>
                  <a:lnTo>
                    <a:pt x="223" y="74"/>
                  </a:lnTo>
                  <a:lnTo>
                    <a:pt x="210" y="87"/>
                  </a:lnTo>
                  <a:lnTo>
                    <a:pt x="192" y="105"/>
                  </a:lnTo>
                  <a:lnTo>
                    <a:pt x="157" y="122"/>
                  </a:lnTo>
                  <a:lnTo>
                    <a:pt x="116" y="143"/>
                  </a:lnTo>
                  <a:lnTo>
                    <a:pt x="105" y="156"/>
                  </a:lnTo>
                  <a:lnTo>
                    <a:pt x="102" y="176"/>
                  </a:lnTo>
                  <a:lnTo>
                    <a:pt x="108" y="205"/>
                  </a:lnTo>
                  <a:lnTo>
                    <a:pt x="121" y="230"/>
                  </a:lnTo>
                  <a:lnTo>
                    <a:pt x="127" y="251"/>
                  </a:lnTo>
                  <a:lnTo>
                    <a:pt x="125" y="274"/>
                  </a:lnTo>
                  <a:lnTo>
                    <a:pt x="105" y="299"/>
                  </a:lnTo>
                  <a:lnTo>
                    <a:pt x="80" y="318"/>
                  </a:lnTo>
                  <a:lnTo>
                    <a:pt x="51" y="329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954600" y="4292640"/>
              <a:ext cx="46080" cy="93600"/>
            </a:xfrm>
            <a:custGeom>
              <a:avLst/>
              <a:gdLst/>
              <a:ahLst/>
              <a:rect l="l" t="t" r="r" b="b"/>
              <a:pathLst>
                <a:path w="165" h="347">
                  <a:moveTo>
                    <a:pt x="40" y="16"/>
                  </a:moveTo>
                  <a:lnTo>
                    <a:pt x="9" y="37"/>
                  </a:lnTo>
                  <a:lnTo>
                    <a:pt x="0" y="80"/>
                  </a:lnTo>
                  <a:lnTo>
                    <a:pt x="25" y="121"/>
                  </a:lnTo>
                  <a:lnTo>
                    <a:pt x="49" y="173"/>
                  </a:lnTo>
                  <a:lnTo>
                    <a:pt x="57" y="247"/>
                  </a:lnTo>
                  <a:lnTo>
                    <a:pt x="49" y="343"/>
                  </a:lnTo>
                  <a:lnTo>
                    <a:pt x="88" y="347"/>
                  </a:lnTo>
                  <a:lnTo>
                    <a:pt x="95" y="202"/>
                  </a:lnTo>
                  <a:lnTo>
                    <a:pt x="69" y="108"/>
                  </a:lnTo>
                  <a:lnTo>
                    <a:pt x="45" y="68"/>
                  </a:lnTo>
                  <a:lnTo>
                    <a:pt x="165" y="31"/>
                  </a:lnTo>
                  <a:lnTo>
                    <a:pt x="163" y="0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3502440" y="4146480"/>
              <a:ext cx="264960" cy="36720"/>
            </a:xfrm>
            <a:custGeom>
              <a:avLst/>
              <a:gdLst/>
              <a:ahLst/>
              <a:rect l="l" t="t" r="r" b="b"/>
              <a:pathLst>
                <a:path w="929" h="132">
                  <a:moveTo>
                    <a:pt x="929" y="27"/>
                  </a:moveTo>
                  <a:lnTo>
                    <a:pt x="905" y="41"/>
                  </a:lnTo>
                  <a:lnTo>
                    <a:pt x="873" y="50"/>
                  </a:lnTo>
                  <a:lnTo>
                    <a:pt x="840" y="50"/>
                  </a:lnTo>
                  <a:lnTo>
                    <a:pt x="810" y="41"/>
                  </a:lnTo>
                  <a:lnTo>
                    <a:pt x="783" y="23"/>
                  </a:lnTo>
                  <a:lnTo>
                    <a:pt x="737" y="67"/>
                  </a:lnTo>
                  <a:lnTo>
                    <a:pt x="712" y="82"/>
                  </a:lnTo>
                  <a:lnTo>
                    <a:pt x="685" y="89"/>
                  </a:lnTo>
                  <a:lnTo>
                    <a:pt x="654" y="87"/>
                  </a:lnTo>
                  <a:lnTo>
                    <a:pt x="627" y="77"/>
                  </a:lnTo>
                  <a:lnTo>
                    <a:pt x="606" y="58"/>
                  </a:lnTo>
                  <a:lnTo>
                    <a:pt x="591" y="33"/>
                  </a:lnTo>
                  <a:lnTo>
                    <a:pt x="585" y="40"/>
                  </a:lnTo>
                  <a:lnTo>
                    <a:pt x="556" y="63"/>
                  </a:lnTo>
                  <a:lnTo>
                    <a:pt x="522" y="77"/>
                  </a:lnTo>
                  <a:lnTo>
                    <a:pt x="488" y="82"/>
                  </a:lnTo>
                  <a:lnTo>
                    <a:pt x="450" y="78"/>
                  </a:lnTo>
                  <a:lnTo>
                    <a:pt x="417" y="64"/>
                  </a:lnTo>
                  <a:lnTo>
                    <a:pt x="392" y="55"/>
                  </a:lnTo>
                  <a:lnTo>
                    <a:pt x="368" y="77"/>
                  </a:lnTo>
                  <a:lnTo>
                    <a:pt x="339" y="90"/>
                  </a:lnTo>
                  <a:lnTo>
                    <a:pt x="307" y="95"/>
                  </a:lnTo>
                  <a:lnTo>
                    <a:pt x="276" y="91"/>
                  </a:lnTo>
                  <a:lnTo>
                    <a:pt x="247" y="78"/>
                  </a:lnTo>
                  <a:lnTo>
                    <a:pt x="223" y="58"/>
                  </a:lnTo>
                  <a:lnTo>
                    <a:pt x="206" y="31"/>
                  </a:lnTo>
                  <a:lnTo>
                    <a:pt x="184" y="42"/>
                  </a:lnTo>
                  <a:lnTo>
                    <a:pt x="152" y="57"/>
                  </a:lnTo>
                  <a:lnTo>
                    <a:pt x="119" y="63"/>
                  </a:lnTo>
                  <a:lnTo>
                    <a:pt x="85" y="60"/>
                  </a:lnTo>
                  <a:lnTo>
                    <a:pt x="51" y="46"/>
                  </a:lnTo>
                  <a:lnTo>
                    <a:pt x="25" y="25"/>
                  </a:lnTo>
                  <a:lnTo>
                    <a:pt x="4" y="0"/>
                  </a:lnTo>
                  <a:lnTo>
                    <a:pt x="0" y="37"/>
                  </a:lnTo>
                  <a:lnTo>
                    <a:pt x="20" y="63"/>
                  </a:lnTo>
                  <a:lnTo>
                    <a:pt x="48" y="83"/>
                  </a:lnTo>
                  <a:lnTo>
                    <a:pt x="82" y="96"/>
                  </a:lnTo>
                  <a:lnTo>
                    <a:pt x="114" y="99"/>
                  </a:lnTo>
                  <a:lnTo>
                    <a:pt x="149" y="93"/>
                  </a:lnTo>
                  <a:lnTo>
                    <a:pt x="181" y="79"/>
                  </a:lnTo>
                  <a:lnTo>
                    <a:pt x="205" y="69"/>
                  </a:lnTo>
                  <a:lnTo>
                    <a:pt x="220" y="94"/>
                  </a:lnTo>
                  <a:lnTo>
                    <a:pt x="244" y="115"/>
                  </a:lnTo>
                  <a:lnTo>
                    <a:pt x="274" y="127"/>
                  </a:lnTo>
                  <a:lnTo>
                    <a:pt x="304" y="132"/>
                  </a:lnTo>
                  <a:lnTo>
                    <a:pt x="337" y="126"/>
                  </a:lnTo>
                  <a:lnTo>
                    <a:pt x="365" y="113"/>
                  </a:lnTo>
                  <a:lnTo>
                    <a:pt x="388" y="93"/>
                  </a:lnTo>
                  <a:lnTo>
                    <a:pt x="414" y="101"/>
                  </a:lnTo>
                  <a:lnTo>
                    <a:pt x="449" y="115"/>
                  </a:lnTo>
                  <a:lnTo>
                    <a:pt x="484" y="117"/>
                  </a:lnTo>
                  <a:lnTo>
                    <a:pt x="520" y="113"/>
                  </a:lnTo>
                  <a:lnTo>
                    <a:pt x="553" y="99"/>
                  </a:lnTo>
                  <a:lnTo>
                    <a:pt x="582" y="78"/>
                  </a:lnTo>
                  <a:lnTo>
                    <a:pt x="588" y="70"/>
                  </a:lnTo>
                  <a:lnTo>
                    <a:pt x="604" y="94"/>
                  </a:lnTo>
                  <a:lnTo>
                    <a:pt x="624" y="113"/>
                  </a:lnTo>
                  <a:lnTo>
                    <a:pt x="651" y="123"/>
                  </a:lnTo>
                  <a:lnTo>
                    <a:pt x="681" y="125"/>
                  </a:lnTo>
                  <a:lnTo>
                    <a:pt x="710" y="118"/>
                  </a:lnTo>
                  <a:lnTo>
                    <a:pt x="734" y="103"/>
                  </a:lnTo>
                  <a:lnTo>
                    <a:pt x="780" y="61"/>
                  </a:lnTo>
                  <a:lnTo>
                    <a:pt x="807" y="78"/>
                  </a:lnTo>
                  <a:lnTo>
                    <a:pt x="838" y="88"/>
                  </a:lnTo>
                  <a:lnTo>
                    <a:pt x="871" y="88"/>
                  </a:lnTo>
                  <a:lnTo>
                    <a:pt x="902" y="78"/>
                  </a:lnTo>
                  <a:lnTo>
                    <a:pt x="926" y="64"/>
                  </a:lnTo>
                  <a:lnTo>
                    <a:pt x="929" y="27"/>
                  </a:lnTo>
                  <a:lnTo>
                    <a:pt x="929" y="2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677040" y="4068720"/>
              <a:ext cx="7920" cy="28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3503160" y="4095720"/>
              <a:ext cx="114120" cy="6480"/>
            </a:xfrm>
            <a:custGeom>
              <a:avLst/>
              <a:gdLst/>
              <a:ahLst/>
              <a:rect l="l" t="t" r="r" b="b"/>
              <a:pathLst>
                <a:path w="403" h="24">
                  <a:moveTo>
                    <a:pt x="403" y="9"/>
                  </a:moveTo>
                  <a:lnTo>
                    <a:pt x="377" y="0"/>
                  </a:lnTo>
                  <a:lnTo>
                    <a:pt x="348" y="0"/>
                  </a:lnTo>
                  <a:lnTo>
                    <a:pt x="321" y="8"/>
                  </a:lnTo>
                  <a:lnTo>
                    <a:pt x="298" y="2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723840" y="4046400"/>
              <a:ext cx="20520" cy="33480"/>
            </a:xfrm>
            <a:custGeom>
              <a:avLst/>
              <a:gdLst/>
              <a:ahLst/>
              <a:rect l="l" t="t" r="r" b="b"/>
              <a:pathLst>
                <a:path w="69" h="126">
                  <a:moveTo>
                    <a:pt x="0" y="126"/>
                  </a:moveTo>
                  <a:lnTo>
                    <a:pt x="14" y="108"/>
                  </a:lnTo>
                  <a:lnTo>
                    <a:pt x="20" y="91"/>
                  </a:lnTo>
                  <a:lnTo>
                    <a:pt x="18" y="70"/>
                  </a:lnTo>
                  <a:lnTo>
                    <a:pt x="12" y="64"/>
                  </a:lnTo>
                  <a:lnTo>
                    <a:pt x="6" y="51"/>
                  </a:lnTo>
                  <a:lnTo>
                    <a:pt x="6" y="32"/>
                  </a:lnTo>
                  <a:lnTo>
                    <a:pt x="14" y="14"/>
                  </a:lnTo>
                  <a:lnTo>
                    <a:pt x="30" y="2"/>
                  </a:lnTo>
                  <a:lnTo>
                    <a:pt x="49" y="0"/>
                  </a:lnTo>
                  <a:lnTo>
                    <a:pt x="69" y="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714840" y="406224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108">
                  <a:moveTo>
                    <a:pt x="0" y="107"/>
                  </a:moveTo>
                  <a:lnTo>
                    <a:pt x="10" y="108"/>
                  </a:lnTo>
                  <a:lnTo>
                    <a:pt x="17" y="104"/>
                  </a:lnTo>
                  <a:lnTo>
                    <a:pt x="21" y="95"/>
                  </a:lnTo>
                  <a:lnTo>
                    <a:pt x="21" y="87"/>
                  </a:lnTo>
                  <a:lnTo>
                    <a:pt x="20" y="80"/>
                  </a:lnTo>
                  <a:lnTo>
                    <a:pt x="14" y="74"/>
                  </a:lnTo>
                  <a:lnTo>
                    <a:pt x="4" y="57"/>
                  </a:lnTo>
                  <a:lnTo>
                    <a:pt x="4" y="39"/>
                  </a:lnTo>
                  <a:lnTo>
                    <a:pt x="11" y="21"/>
                  </a:lnTo>
                  <a:lnTo>
                    <a:pt x="28" y="7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3783960" y="4325760"/>
              <a:ext cx="171720" cy="54000"/>
            </a:xfrm>
            <a:custGeom>
              <a:avLst/>
              <a:gdLst/>
              <a:ahLst/>
              <a:rect l="l" t="t" r="r" b="b"/>
              <a:pathLst>
                <a:path w="598" h="202">
                  <a:moveTo>
                    <a:pt x="0" y="140"/>
                  </a:moveTo>
                  <a:lnTo>
                    <a:pt x="158" y="165"/>
                  </a:lnTo>
                  <a:lnTo>
                    <a:pt x="317" y="187"/>
                  </a:lnTo>
                  <a:lnTo>
                    <a:pt x="474" y="202"/>
                  </a:lnTo>
                  <a:lnTo>
                    <a:pt x="512" y="200"/>
                  </a:lnTo>
                  <a:lnTo>
                    <a:pt x="531" y="184"/>
                  </a:lnTo>
                  <a:lnTo>
                    <a:pt x="567" y="134"/>
                  </a:lnTo>
                  <a:lnTo>
                    <a:pt x="583" y="76"/>
                  </a:lnTo>
                  <a:lnTo>
                    <a:pt x="598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4873320" y="3366000"/>
            <a:ext cx="389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 patients /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n = 6 patients in Waiting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W = 6/3 = 2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4" dur="indefinite" restart="never" nodeType="tmRoot">
          <p:childTnLst>
            <p:seq>
              <p:cTn id="2885" dur="indefinite" nodeType="mainSeq">
                <p:childTnLst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500"/>
                            </p:stCondLst>
                            <p:childTnLst>
                              <p:par>
                                <p:cTn id="28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500"/>
                            </p:stCondLst>
                            <p:childTnLst>
                              <p:par>
                                <p:cTn id="2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80200" y="1981080"/>
            <a:ext cx="1600200" cy="3657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1981080"/>
            <a:ext cx="1600200" cy="2590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2600" y="2057400"/>
            <a:ext cx="144756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2600" y="3187800"/>
            <a:ext cx="144756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2600" y="3657600"/>
            <a:ext cx="14475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56160" y="205740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6160" y="318780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6160" y="3645000"/>
            <a:ext cx="1447920" cy="19378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38240" y="2361240"/>
            <a:ext cx="759960" cy="459720"/>
            <a:chOff x="1038240" y="2361240"/>
            <a:chExt cx="759960" cy="459720"/>
          </a:xfrm>
        </p:grpSpPr>
        <p:sp>
          <p:nvSpPr>
            <p:cNvPr id="115" name=""/>
            <p:cNvSpPr/>
            <p:nvPr/>
          </p:nvSpPr>
          <p:spPr>
            <a:xfrm>
              <a:off x="1341360" y="274320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8240" y="2361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8600" y="2970720"/>
            <a:ext cx="1265400" cy="7038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87840" y="3656520"/>
            <a:ext cx="810720" cy="459720"/>
            <a:chOff x="987840" y="3656520"/>
            <a:chExt cx="810720" cy="459720"/>
          </a:xfrm>
        </p:grpSpPr>
        <p:sp>
          <p:nvSpPr>
            <p:cNvPr id="119" name=""/>
            <p:cNvSpPr/>
            <p:nvPr/>
          </p:nvSpPr>
          <p:spPr>
            <a:xfrm>
              <a:off x="1341360" y="4038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7840" y="36565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2920" y="50886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(Pogram) Coun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tack Pointer (Top of Stack)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ndi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2680" y="1751400"/>
            <a:ext cx="12002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83" y="20264"/>
                </a:moveTo>
                <a:lnTo>
                  <a:pt x="-1355" y="3456"/>
                </a:lnTo>
              </a:path>
              <a:path w="21600" h="21600">
                <a:moveTo>
                  <a:pt x="-1355" y="0"/>
                </a:moveTo>
                <a:lnTo>
                  <a:pt x="-135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12040" y="2047680"/>
            <a:ext cx="744120" cy="476640"/>
            <a:chOff x="4712040" y="2047680"/>
            <a:chExt cx="744120" cy="476640"/>
          </a:xfrm>
        </p:grpSpPr>
        <p:sp>
          <p:nvSpPr>
            <p:cNvPr id="124" name=""/>
            <p:cNvSpPr/>
            <p:nvPr/>
          </p:nvSpPr>
          <p:spPr>
            <a:xfrm>
              <a:off x="4998960" y="2514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2040" y="20476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712040" y="2581200"/>
            <a:ext cx="744120" cy="476640"/>
            <a:chOff x="4712040" y="2581200"/>
            <a:chExt cx="744120" cy="476640"/>
          </a:xfrm>
        </p:grpSpPr>
        <p:sp>
          <p:nvSpPr>
            <p:cNvPr id="127" name=""/>
            <p:cNvSpPr/>
            <p:nvPr/>
          </p:nvSpPr>
          <p:spPr>
            <a:xfrm>
              <a:off x="4998960" y="3048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12040" y="258120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04080" y="2276280"/>
            <a:ext cx="830880" cy="476640"/>
            <a:chOff x="6904080" y="2276280"/>
            <a:chExt cx="830880" cy="476640"/>
          </a:xfrm>
        </p:grpSpPr>
        <p:sp>
          <p:nvSpPr>
            <p:cNvPr id="130" name=""/>
            <p:cNvSpPr/>
            <p:nvPr/>
          </p:nvSpPr>
          <p:spPr>
            <a:xfrm>
              <a:off x="6904080" y="2743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0320" y="22762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03400" y="3419280"/>
            <a:ext cx="794160" cy="476640"/>
            <a:chOff x="4703400" y="3419280"/>
            <a:chExt cx="794160" cy="476640"/>
          </a:xfrm>
        </p:grpSpPr>
        <p:sp>
          <p:nvSpPr>
            <p:cNvPr id="133" name=""/>
            <p:cNvSpPr/>
            <p:nvPr/>
          </p:nvSpPr>
          <p:spPr>
            <a:xfrm>
              <a:off x="504036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03400" y="341928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703400" y="4181400"/>
            <a:ext cx="794160" cy="476640"/>
            <a:chOff x="4703400" y="4181400"/>
            <a:chExt cx="794160" cy="476640"/>
          </a:xfrm>
        </p:grpSpPr>
        <p:sp>
          <p:nvSpPr>
            <p:cNvPr id="136" name=""/>
            <p:cNvSpPr/>
            <p:nvPr/>
          </p:nvSpPr>
          <p:spPr>
            <a:xfrm>
              <a:off x="5040360" y="4648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03400" y="418140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904080" y="4714560"/>
            <a:ext cx="881280" cy="476640"/>
            <a:chOff x="6904080" y="4714560"/>
            <a:chExt cx="881280" cy="476640"/>
          </a:xfrm>
        </p:grpSpPr>
        <p:sp>
          <p:nvSpPr>
            <p:cNvPr id="139" name=""/>
            <p:cNvSpPr/>
            <p:nvPr/>
          </p:nvSpPr>
          <p:spPr>
            <a:xfrm>
              <a:off x="6904080" y="5181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00280" y="471456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456160" y="42670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6160" y="4876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59600" y="1324440"/>
            <a:ext cx="18907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04" y="23511"/>
                </a:moveTo>
                <a:lnTo>
                  <a:pt x="-865" y="2422"/>
                </a:lnTo>
              </a:path>
              <a:path w="21600" h="21600">
                <a:moveTo>
                  <a:pt x="-865" y="0"/>
                </a:moveTo>
                <a:lnTo>
                  <a:pt x="-86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Addr. Space.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92800" y="3005280"/>
            <a:ext cx="1417680" cy="7873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21400" y="336420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389736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14400" y="1828800"/>
            <a:ext cx="4724280" cy="3886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495440" y="415152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647720" y="430416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00000" y="445644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88320" y="282456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761280" y="4272120"/>
            <a:ext cx="891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 flipH="1">
            <a:off x="5181120" y="2819520"/>
            <a:ext cx="12193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78920" y="2513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555960" y="35042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257800" y="3733920"/>
            <a:ext cx="10666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67640" y="4341600"/>
            <a:ext cx="27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ry clock ti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adjus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gath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40600" y="297684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693240" y="312912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500"/>
                            </p:stCondLst>
                            <p:childTnLst>
                              <p:par>
                                <p:cTn id="2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rrival times, CPU- &amp; I/O-bur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ndom number generator (distribution)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accurate (order of ev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asurements of actual system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ace t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stly &amp; inaccu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3" dur="500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6" dur="50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9" dur="500"/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4" dur="500"/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7" dur="500"/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odify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e how it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mplementation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ction of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nvironment adju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sting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9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7" dur="500"/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0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(Thread)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18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36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1055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6668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3"/>
            <a:endCxn id="152" idx="2"/>
          </p:cNvCxnSpPr>
          <p:nvPr/>
        </p:nvCxnSpPr>
        <p:spPr>
          <a:xfrm flipV="1">
            <a:off x="6743880" y="3123360"/>
            <a:ext cx="800640" cy="83916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4" name=""/>
          <p:cNvCxnSpPr>
            <a:endCxn id="151" idx="3"/>
          </p:cNvCxnSpPr>
          <p:nvPr/>
        </p:nvCxnSpPr>
        <p:spPr>
          <a:xfrm rot="5400000">
            <a:off x="5181120" y="426708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1" idx="1"/>
          </p:cNvCxnSpPr>
          <p:nvPr/>
        </p:nvCxnSpPr>
        <p:spPr>
          <a:xfrm rot="10800000">
            <a:off x="2513880" y="419040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49" idx="0"/>
            <a:endCxn id="150" idx="0"/>
          </p:cNvCxnSpPr>
          <p:nvPr/>
        </p:nvCxnSpPr>
        <p:spPr>
          <a:xfrm flipH="1" rot="16200000">
            <a:off x="4456800" y="224856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157" name=""/>
          <p:cNvCxnSpPr>
            <a:stCxn id="150" idx="2"/>
            <a:endCxn id="149" idx="2"/>
          </p:cNvCxnSpPr>
          <p:nvPr/>
        </p:nvCxnSpPr>
        <p:spPr>
          <a:xfrm rot="5400000">
            <a:off x="4456080" y="270576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8" idx="2"/>
            <a:endCxn id="149" idx="1"/>
          </p:cNvCxnSpPr>
          <p:nvPr/>
        </p:nvCxnSpPr>
        <p:spPr>
          <a:xfrm flipH="1" rot="16200000">
            <a:off x="1408680" y="3200040"/>
            <a:ext cx="83916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3733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o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19112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00200"/>
            <a:ext cx="5562720" cy="449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523880"/>
            <a:ext cx="5562360" cy="4496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trol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266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Counter (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447920"/>
            <a:ext cx="5562720" cy="398880"/>
            <a:chOff x="1066680" y="1447920"/>
            <a:chExt cx="5562720" cy="398880"/>
          </a:xfrm>
        </p:grpSpPr>
        <p:sp>
          <p:nvSpPr>
            <p:cNvPr id="170" name=""/>
            <p:cNvSpPr/>
            <p:nvPr/>
          </p:nvSpPr>
          <p:spPr>
            <a:xfrm>
              <a:off x="384804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66680" y="267660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Register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3908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ower Limit Regis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Upper Limit Register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1054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8452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…                     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1968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pen File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llocated Devices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/O Status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533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# CPU time, …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ccounting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85724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e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33520" y="2514600"/>
            <a:ext cx="7772400" cy="2743200"/>
            <a:chOff x="533520" y="2514600"/>
            <a:chExt cx="7772400" cy="2743200"/>
          </a:xfrm>
        </p:grpSpPr>
        <p:sp>
          <p:nvSpPr>
            <p:cNvPr id="179" name=""/>
            <p:cNvSpPr/>
            <p:nvPr/>
          </p:nvSpPr>
          <p:spPr>
            <a:xfrm>
              <a:off x="533520" y="25146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520" y="34290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520" y="43434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52578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9810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13440" y="229428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26668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0"/>
            <a:endCxn id="186" idx="0"/>
          </p:cNvCxnSpPr>
          <p:nvPr/>
        </p:nvCxnSpPr>
        <p:spPr>
          <a:xfrm flipH="1" flipV="1" rot="5400000">
            <a:off x="2925360" y="944280"/>
            <a:ext cx="294480" cy="3037680"/>
          </a:xfrm>
          <a:prstGeom prst="curvedConnector5">
            <a:avLst>
              <a:gd name="adj1" fmla="val -71236"/>
              <a:gd name="adj2" fmla="val 14495"/>
              <a:gd name="adj3" fmla="val -71236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107520" y="320868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429000"/>
            <a:ext cx="152280" cy="91440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2"/>
            <a:endCxn id="190" idx="0"/>
          </p:cNvCxnSpPr>
          <p:nvPr/>
        </p:nvCxnSpPr>
        <p:spPr>
          <a:xfrm flipH="1" flipV="1" rot="5400000">
            <a:off x="5860800" y="2139480"/>
            <a:ext cx="218160" cy="2758320"/>
          </a:xfrm>
          <a:prstGeom prst="curvedConnector5">
            <a:avLst>
              <a:gd name="adj1" fmla="val -104958"/>
              <a:gd name="adj2" fmla="val 38167"/>
              <a:gd name="adj3" fmla="val -104958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313440" y="409284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7480" y="4465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7520" y="500724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257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1"/>
            <a:endCxn id="192" idx="0"/>
          </p:cNvCxnSpPr>
          <p:nvPr/>
        </p:nvCxnSpPr>
        <p:spPr>
          <a:xfrm flipV="1" rot="16200000">
            <a:off x="5902560" y="2802240"/>
            <a:ext cx="248400" cy="2872440"/>
          </a:xfrm>
          <a:prstGeom prst="curvedConnector5">
            <a:avLst>
              <a:gd name="adj1" fmla="val -84615"/>
              <a:gd name="adj2" fmla="val 15116"/>
              <a:gd name="adj3" fmla="val -84615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97" name=""/>
          <p:cNvCxnSpPr>
            <a:stCxn id="194" idx="2"/>
            <a:endCxn id="195" idx="0"/>
          </p:cNvCxnSpPr>
          <p:nvPr/>
        </p:nvCxnSpPr>
        <p:spPr>
          <a:xfrm flipV="1" rot="16200000">
            <a:off x="2908080" y="3742560"/>
            <a:ext cx="187920" cy="3178800"/>
          </a:xfrm>
          <a:prstGeom prst="curvedConnector5">
            <a:avLst>
              <a:gd name="adj1" fmla="val -121880"/>
              <a:gd name="adj2" fmla="val 35507"/>
              <a:gd name="adj3" fmla="val -121880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752480" y="220968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411480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Switch =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362320"/>
            <a:ext cx="1676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33720" y="5500800"/>
            <a:ext cx="5943600" cy="368280"/>
            <a:chOff x="2133720" y="5500800"/>
            <a:chExt cx="5943600" cy="368280"/>
          </a:xfrm>
        </p:grpSpPr>
        <p:sp>
          <p:nvSpPr>
            <p:cNvPr id="204" name=""/>
            <p:cNvSpPr/>
            <p:nvPr/>
          </p:nvSpPr>
          <p:spPr>
            <a:xfrm>
              <a:off x="2133720" y="579096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5160" y="5500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419720"/>
            <a:ext cx="1676520" cy="0"/>
          </a:xfrm>
          <a:prstGeom prst="line">
            <a:avLst/>
          </a:prstGeom>
          <a:ln w="57240">
            <a:solidFill>
              <a:srgbClr val="00279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819520"/>
            <a:ext cx="228600" cy="1600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24120" y="3657600"/>
            <a:ext cx="228600" cy="7621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657600"/>
            <a:ext cx="106704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2286000"/>
            <a:ext cx="747720" cy="2362320"/>
            <a:chOff x="3352680" y="2286000"/>
            <a:chExt cx="747720" cy="2362320"/>
          </a:xfrm>
        </p:grpSpPr>
        <p:sp>
          <p:nvSpPr>
            <p:cNvPr id="213" name=""/>
            <p:cNvSpPr/>
            <p:nvPr/>
          </p:nvSpPr>
          <p:spPr>
            <a:xfrm>
              <a:off x="335268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040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2286000"/>
            <a:ext cx="747720" cy="2362320"/>
            <a:chOff x="5791320" y="2286000"/>
            <a:chExt cx="747720" cy="2362320"/>
          </a:xfrm>
        </p:grpSpPr>
        <p:sp>
          <p:nvSpPr>
            <p:cNvPr id="216" name=""/>
            <p:cNvSpPr/>
            <p:nvPr/>
          </p:nvSpPr>
          <p:spPr>
            <a:xfrm>
              <a:off x="579132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3904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41972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2438280"/>
            <a:ext cx="76176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3429000"/>
            <a:ext cx="10414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98" y="33626"/>
                </a:moveTo>
                <a:lnTo>
                  <a:pt x="23180" y="5515"/>
                </a:lnTo>
              </a:path>
              <a:path w="21600" h="21600">
                <a:moveTo>
                  <a:pt x="23180" y="0"/>
                </a:moveTo>
                <a:lnTo>
                  <a:pt x="23180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648320"/>
            <a:ext cx="14479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8" y="-7200"/>
                </a:moveTo>
                <a:lnTo>
                  <a:pt x="22737" y="4114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648320"/>
            <a:ext cx="175248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22" y="-6629"/>
                </a:moveTo>
                <a:lnTo>
                  <a:pt x="-939" y="4114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36960" y="2743200"/>
            <a:ext cx="12700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71" y="50170"/>
                </a:moveTo>
                <a:lnTo>
                  <a:pt x="-1296" y="5515"/>
                </a:lnTo>
              </a:path>
              <a:path w="21600" h="21600">
                <a:moveTo>
                  <a:pt x="-1296" y="0"/>
                </a:moveTo>
                <a:lnTo>
                  <a:pt x="-1296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33560" y="1940040"/>
            <a:ext cx="2514960" cy="498240"/>
            <a:chOff x="3733560" y="1940040"/>
            <a:chExt cx="2514960" cy="498240"/>
          </a:xfrm>
        </p:grpSpPr>
        <p:sp>
          <p:nvSpPr>
            <p:cNvPr id="226" name=""/>
            <p:cNvSpPr/>
            <p:nvPr/>
          </p:nvSpPr>
          <p:spPr>
            <a:xfrm>
              <a:off x="4269600" y="194004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c0128"/>
                  </a:solidFill>
                  <a:latin typeface="Arial"/>
                </a:rPr>
                <a:t>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2133720"/>
              <a:ext cx="60948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715000" y="2133720"/>
              <a:ext cx="53352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56240" y="4648320"/>
            <a:ext cx="14396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68" y="-6150"/>
                </a:moveTo>
                <a:lnTo>
                  <a:pt x="-1143" y="3600"/>
                </a:lnTo>
              </a:path>
              <a:path w="21600" h="21600">
                <a:moveTo>
                  <a:pt x="-1143" y="0"/>
                </a:moveTo>
                <a:lnTo>
                  <a:pt x="-1143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3T13:18:31Z</cp:lastPrinted>
  <dcterms:modified xsi:type="dcterms:W3CDTF">2005-10-17T07:44:53Z</dcterms:modified>
  <cp:revision>241</cp:revision>
  <dc:subject>Lecture 2</dc:subject>
  <dc:title>IT - Module B1</dc:title>
</cp:coreProperties>
</file>