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37634BE8-D1BF-4166-A247-C207B42F6C9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2023CB7D-A066-40C8-877C-29F9EF834D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ledo.kuleuven.ac.be/" TargetMode="External"/><Relationship Id="rId2" Type="http://schemas.openxmlformats.org/officeDocument/2006/relationships/hyperlink" Target="http://toledo.kuleuven.ac.be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f. B. De Dec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709560"/>
            <a:ext cx="3886200" cy="9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everything of course b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: 5 x 2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: 9 x 2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Stud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ke Home Assign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s: 3 or 4 stud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Take home assign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, Deadlocks,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ines on Tole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on Synchronization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TH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d Book, Oral Ex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Which CPU scheduling whe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Automated farm (synchronization ex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of topic from take home 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gh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n O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vices (API, User Interfa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 (protec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What is an O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66960" y="4775040"/>
            <a:ext cx="3809880" cy="1246320"/>
            <a:chOff x="1866960" y="4775040"/>
            <a:chExt cx="3809880" cy="1246320"/>
          </a:xfrm>
        </p:grpSpPr>
        <p:sp>
          <p:nvSpPr>
            <p:cNvPr id="135" name=""/>
            <p:cNvSpPr/>
            <p:nvPr/>
          </p:nvSpPr>
          <p:spPr>
            <a:xfrm>
              <a:off x="1866960" y="477504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33640" y="5500800"/>
              <a:ext cx="18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8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66960" y="3657600"/>
            <a:ext cx="4152960" cy="1144800"/>
            <a:chOff x="1866960" y="3657600"/>
            <a:chExt cx="4152960" cy="1144800"/>
          </a:xfrm>
        </p:grpSpPr>
        <p:sp>
          <p:nvSpPr>
            <p:cNvPr id="138" name=""/>
            <p:cNvSpPr/>
            <p:nvPr/>
          </p:nvSpPr>
          <p:spPr>
            <a:xfrm>
              <a:off x="1866960" y="365760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42210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3200" spc="-1" strike="noStrike">
                  <a:solidFill>
                    <a:srgbClr val="00279f"/>
                  </a:solidFill>
                  <a:latin typeface="Arial"/>
                </a:rPr>
                <a:t>Operating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248520" y="4267080"/>
            <a:ext cx="2361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279f"/>
                </a:solidFill>
                <a:latin typeface="Arial"/>
              </a:rPr>
              <a:t>control &amp;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279f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47920" y="2666880"/>
            <a:ext cx="4228920" cy="1600200"/>
            <a:chOff x="1447920" y="2666880"/>
            <a:chExt cx="4228920" cy="1600200"/>
          </a:xfrm>
        </p:grpSpPr>
        <p:sp>
          <p:nvSpPr>
            <p:cNvPr id="142" name=""/>
            <p:cNvSpPr/>
            <p:nvPr/>
          </p:nvSpPr>
          <p:spPr>
            <a:xfrm>
              <a:off x="4800600" y="3352680"/>
              <a:ext cx="6858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720" y="3352680"/>
              <a:ext cx="6858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866960" y="2666880"/>
              <a:ext cx="3809880" cy="863640"/>
              <a:chOff x="1866960" y="2666880"/>
              <a:chExt cx="3809880" cy="863640"/>
            </a:xfrm>
          </p:grpSpPr>
          <p:sp>
            <p:nvSpPr>
              <p:cNvPr id="145" name=""/>
              <p:cNvSpPr/>
              <p:nvPr/>
            </p:nvSpPr>
            <p:spPr>
              <a:xfrm>
                <a:off x="1866960" y="2666880"/>
                <a:ext cx="3809880" cy="863640"/>
              </a:xfrm>
              <a:custGeom>
                <a:avLst/>
                <a:gdLst/>
                <a:ahLst/>
                <a:rect l="l" t="t" r="r" b="b"/>
                <a:pathLst>
                  <a:path w="2400" h="544">
                    <a:moveTo>
                      <a:pt x="0" y="544"/>
                    </a:moveTo>
                    <a:cubicBezTo>
                      <a:pt x="376" y="288"/>
                      <a:pt x="752" y="32"/>
                      <a:pt x="1152" y="16"/>
                    </a:cubicBezTo>
                    <a:cubicBezTo>
                      <a:pt x="1552" y="0"/>
                      <a:pt x="2192" y="376"/>
                      <a:pt x="2400" y="448"/>
                    </a:cubicBezTo>
                  </a:path>
                </a:pathLst>
              </a:custGeom>
              <a:noFill/>
              <a:ln w="3816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66880" y="2971800"/>
                <a:ext cx="232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8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447920" y="3733920"/>
              <a:ext cx="685800" cy="5331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90720" y="1600200"/>
            <a:ext cx="990360" cy="1595160"/>
            <a:chOff x="990720" y="1600200"/>
            <a:chExt cx="990360" cy="1595160"/>
          </a:xfrm>
        </p:grpSpPr>
        <p:sp>
          <p:nvSpPr>
            <p:cNvPr id="149" name=""/>
            <p:cNvSpPr/>
            <p:nvPr/>
          </p:nvSpPr>
          <p:spPr>
            <a:xfrm>
              <a:off x="990720" y="2997360"/>
              <a:ext cx="990360" cy="19800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720" y="3107520"/>
              <a:ext cx="990360" cy="8784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00520" y="1600200"/>
              <a:ext cx="154080" cy="149832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3200" y="1600200"/>
              <a:ext cx="95400" cy="149832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600200"/>
              <a:ext cx="718560" cy="1498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6880" y="1600200"/>
              <a:ext cx="667800" cy="90828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2440" y="2522520"/>
              <a:ext cx="1080" cy="576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4600" y="2522520"/>
              <a:ext cx="1440" cy="576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2192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5036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880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9760" y="2453040"/>
              <a:ext cx="1260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820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44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97960" y="2453040"/>
              <a:ext cx="1260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640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628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8472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460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644120" y="2453040"/>
              <a:ext cx="1440" cy="6357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67840" y="2282400"/>
              <a:ext cx="600480" cy="11052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67840" y="2383560"/>
              <a:ext cx="600480" cy="972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11760" y="2297160"/>
              <a:ext cx="528120" cy="820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0560" y="2305080"/>
              <a:ext cx="108360" cy="601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9000" y="2319840"/>
              <a:ext cx="59040" cy="3600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54040" y="2328120"/>
              <a:ext cx="58320" cy="370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7280" y="2328120"/>
              <a:ext cx="56880" cy="3708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8240" y="2176200"/>
              <a:ext cx="103320" cy="651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8240" y="2176200"/>
              <a:ext cx="103320" cy="65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9920" y="1623600"/>
              <a:ext cx="624240" cy="49788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159920" y="1623240"/>
              <a:ext cx="1440" cy="49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59920" y="2062080"/>
              <a:ext cx="6242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159920" y="1955880"/>
              <a:ext cx="6242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59920" y="1641600"/>
              <a:ext cx="624240" cy="183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4160" y="1623600"/>
              <a:ext cx="1080" cy="49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159920" y="1623600"/>
              <a:ext cx="62424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59920" y="1660320"/>
              <a:ext cx="624240" cy="193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4600" y="1872720"/>
              <a:ext cx="425880" cy="633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2040" y="1660320"/>
              <a:ext cx="336600" cy="50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84480" y="1756800"/>
              <a:ext cx="234000" cy="781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84480" y="1756800"/>
              <a:ext cx="234000" cy="781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80800" y="1779480"/>
              <a:ext cx="559080" cy="2340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2720" y="1761480"/>
              <a:ext cx="30960" cy="6912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21920" y="1766520"/>
              <a:ext cx="94320" cy="972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88360" y="1711080"/>
              <a:ext cx="43920" cy="2268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59920" y="1747800"/>
              <a:ext cx="6242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4480" y="1885680"/>
              <a:ext cx="359640" cy="3708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94280" y="1882440"/>
              <a:ext cx="14760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342080" y="1913400"/>
              <a:ext cx="154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92640" y="1908720"/>
              <a:ext cx="51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59600" y="1756800"/>
              <a:ext cx="12600" cy="13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523880" y="1676520"/>
            <a:ext cx="1600200" cy="761760"/>
            <a:chOff x="1523880" y="1676520"/>
            <a:chExt cx="1600200" cy="761760"/>
          </a:xfrm>
        </p:grpSpPr>
        <p:sp>
          <p:nvSpPr>
            <p:cNvPr id="201" name=""/>
            <p:cNvSpPr/>
            <p:nvPr/>
          </p:nvSpPr>
          <p:spPr>
            <a:xfrm>
              <a:off x="1523880" y="1676520"/>
              <a:ext cx="1600200" cy="7617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1828800"/>
              <a:ext cx="6858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00400" y="1752480"/>
            <a:ext cx="2895480" cy="1067040"/>
            <a:chOff x="3200400" y="1752480"/>
            <a:chExt cx="2895480" cy="1067040"/>
          </a:xfrm>
        </p:grpSpPr>
        <p:sp>
          <p:nvSpPr>
            <p:cNvPr id="204" name=""/>
            <p:cNvSpPr/>
            <p:nvPr/>
          </p:nvSpPr>
          <p:spPr>
            <a:xfrm>
              <a:off x="3200400" y="2057400"/>
              <a:ext cx="12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8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5400720" y="1882800"/>
              <a:ext cx="69516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343400" y="1752480"/>
              <a:ext cx="69516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/>
          <p:nvPr/>
        </p:nvSpPr>
        <p:spPr>
          <a:xfrm rot="19362600">
            <a:off x="1882440" y="39621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362600">
            <a:off x="2590920" y="3580920"/>
            <a:ext cx="304560" cy="838440"/>
          </a:xfrm>
          <a:prstGeom prst="upDownArrow">
            <a:avLst>
              <a:gd name="adj1" fmla="val 50000"/>
              <a:gd name="adj2" fmla="val 5480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0727600">
            <a:off x="2181240" y="2209680"/>
            <a:ext cx="304920" cy="1295640"/>
          </a:xfrm>
          <a:prstGeom prst="upDownArrow">
            <a:avLst>
              <a:gd name="adj1" fmla="val 50000"/>
              <a:gd name="adj2" fmla="val 845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903200">
            <a:off x="5257440" y="274284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1400">
            <a:off x="3581280" y="464832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191200">
            <a:off x="4746240" y="3587760"/>
            <a:ext cx="304920" cy="762120"/>
          </a:xfrm>
          <a:prstGeom prst="upDownArrow">
            <a:avLst>
              <a:gd name="adj1" fmla="val 50000"/>
              <a:gd name="adj2" fmla="val 4975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411280" y="3500280"/>
            <a:ext cx="3886200" cy="1828440"/>
            <a:chOff x="2411280" y="3500280"/>
            <a:chExt cx="3886200" cy="1828440"/>
          </a:xfrm>
        </p:grpSpPr>
        <p:sp>
          <p:nvSpPr>
            <p:cNvPr id="215" name=""/>
            <p:cNvSpPr/>
            <p:nvPr/>
          </p:nvSpPr>
          <p:spPr>
            <a:xfrm rot="1524000">
              <a:off x="3858480" y="3957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UB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411280" y="3500280"/>
              <a:ext cx="3886200" cy="1828440"/>
              <a:chOff x="2411280" y="3500280"/>
              <a:chExt cx="3886200" cy="18284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2411280" y="3500280"/>
                <a:ext cx="1218960" cy="893520"/>
                <a:chOff x="2411280" y="3500280"/>
                <a:chExt cx="1218960" cy="893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150360" y="3534120"/>
                  <a:ext cx="479880" cy="570600"/>
                </a:xfrm>
                <a:custGeom>
                  <a:avLst/>
                  <a:gdLst/>
                  <a:ahLst/>
                  <a:rect l="l" t="t" r="r" b="b"/>
                  <a:pathLst>
                    <a:path w="1512" h="1682">
                      <a:moveTo>
                        <a:pt x="354" y="0"/>
                      </a:moveTo>
                      <a:lnTo>
                        <a:pt x="0" y="1528"/>
                      </a:lnTo>
                      <a:lnTo>
                        <a:pt x="416" y="1573"/>
                      </a:lnTo>
                      <a:lnTo>
                        <a:pt x="1351" y="1682"/>
                      </a:lnTo>
                      <a:lnTo>
                        <a:pt x="1512" y="924"/>
                      </a:lnTo>
                      <a:lnTo>
                        <a:pt x="1138" y="668"/>
                      </a:lnTo>
                      <a:lnTo>
                        <a:pt x="985" y="319"/>
                      </a:lnTo>
                      <a:lnTo>
                        <a:pt x="3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106080" y="4091760"/>
                  <a:ext cx="393480" cy="63360"/>
                </a:xfrm>
                <a:custGeom>
                  <a:avLst/>
                  <a:gdLst/>
                  <a:ahLst/>
                  <a:rect l="l" t="t" r="r" b="b"/>
                  <a:pathLst>
                    <a:path w="1239" h="187">
                      <a:moveTo>
                        <a:pt x="0" y="89"/>
                      </a:moveTo>
                      <a:lnTo>
                        <a:pt x="426" y="89"/>
                      </a:lnTo>
                      <a:lnTo>
                        <a:pt x="626" y="0"/>
                      </a:lnTo>
                      <a:lnTo>
                        <a:pt x="837" y="89"/>
                      </a:lnTo>
                      <a:lnTo>
                        <a:pt x="1239" y="89"/>
                      </a:lnTo>
                      <a:lnTo>
                        <a:pt x="1233" y="187"/>
                      </a:lnTo>
                      <a:lnTo>
                        <a:pt x="0" y="187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87200" y="4164840"/>
                  <a:ext cx="730440" cy="226440"/>
                </a:xfrm>
                <a:custGeom>
                  <a:avLst/>
                  <a:gdLst/>
                  <a:ahLst/>
                  <a:rect l="l" t="t" r="r" b="b"/>
                  <a:pathLst>
                    <a:path w="2300" h="669">
                      <a:moveTo>
                        <a:pt x="277" y="0"/>
                      </a:moveTo>
                      <a:lnTo>
                        <a:pt x="2300" y="0"/>
                      </a:lnTo>
                      <a:lnTo>
                        <a:pt x="2299" y="669"/>
                      </a:lnTo>
                      <a:lnTo>
                        <a:pt x="98" y="668"/>
                      </a:lnTo>
                      <a:lnTo>
                        <a:pt x="0" y="229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411280" y="4304520"/>
                  <a:ext cx="473400" cy="89280"/>
                </a:xfrm>
                <a:custGeom>
                  <a:avLst/>
                  <a:gdLst/>
                  <a:ahLst/>
                  <a:rect l="l" t="t" r="r" b="b"/>
                  <a:pathLst>
                    <a:path w="1494" h="263">
                      <a:moveTo>
                        <a:pt x="74" y="114"/>
                      </a:moveTo>
                      <a:lnTo>
                        <a:pt x="1295" y="0"/>
                      </a:lnTo>
                      <a:lnTo>
                        <a:pt x="1419" y="11"/>
                      </a:lnTo>
                      <a:lnTo>
                        <a:pt x="1494" y="263"/>
                      </a:lnTo>
                      <a:lnTo>
                        <a:pt x="0" y="263"/>
                      </a:lnTo>
                      <a:lnTo>
                        <a:pt x="23" y="159"/>
                      </a:lnTo>
                      <a:lnTo>
                        <a:pt x="74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65400" y="3500280"/>
                  <a:ext cx="190080" cy="551880"/>
                </a:xfrm>
                <a:custGeom>
                  <a:avLst/>
                  <a:gdLst/>
                  <a:ahLst/>
                  <a:rect l="l" t="t" r="r" b="b"/>
                  <a:pathLst>
                    <a:path w="598" h="1629">
                      <a:moveTo>
                        <a:pt x="209" y="1629"/>
                      </a:moveTo>
                      <a:lnTo>
                        <a:pt x="0" y="1577"/>
                      </a:lnTo>
                      <a:lnTo>
                        <a:pt x="390" y="0"/>
                      </a:lnTo>
                      <a:lnTo>
                        <a:pt x="598" y="52"/>
                      </a:lnTo>
                      <a:lnTo>
                        <a:pt x="209" y="16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230800" y="3957480"/>
                <a:ext cx="1066680" cy="1371240"/>
                <a:chOff x="5230800" y="3957480"/>
                <a:chExt cx="1066680" cy="1371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300280" y="5241600"/>
                  <a:ext cx="904680" cy="8712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0800" y="3957480"/>
                  <a:ext cx="1066680" cy="131364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63960" y="4035600"/>
                  <a:ext cx="46800" cy="1136520"/>
                </a:xfrm>
                <a:prstGeom prst="rect">
                  <a:avLst/>
                </a:prstGeom>
                <a:solidFill>
                  <a:srgbClr val="7a7a7a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810760" y="4035600"/>
                  <a:ext cx="371520" cy="11365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810760" y="415260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10760" y="426168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10760" y="437832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810760" y="451584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10760" y="4662360"/>
                  <a:ext cx="371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810760" y="4799880"/>
                  <a:ext cx="371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810760" y="5054040"/>
                  <a:ext cx="371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833440" y="4279680"/>
                  <a:ext cx="324720" cy="781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25600" y="4300200"/>
                  <a:ext cx="138960" cy="385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02920" y="4399200"/>
                  <a:ext cx="161640" cy="7704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845680" y="4437360"/>
                  <a:ext cx="2883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089040" y="4476240"/>
                  <a:ext cx="58680" cy="201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995080" y="4515840"/>
                  <a:ext cx="1440" cy="146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925600" y="4761360"/>
                  <a:ext cx="256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6054120" y="4701960"/>
                  <a:ext cx="1440" cy="9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6123600" y="4701960"/>
                  <a:ext cx="1080" cy="9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54120" y="4682880"/>
                  <a:ext cx="93600" cy="381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08760" y="4534920"/>
                  <a:ext cx="36000" cy="1800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64560" y="4554720"/>
                  <a:ext cx="58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64560" y="4603320"/>
                  <a:ext cx="58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5914440" y="4623840"/>
                  <a:ext cx="1494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123600" y="4623840"/>
                  <a:ext cx="58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853240" y="4555800"/>
                  <a:ext cx="90360" cy="68040"/>
                </a:xfrm>
                <a:custGeom>
                  <a:avLst/>
                  <a:gdLst/>
                  <a:ahLst/>
                  <a:rect l="l" t="t" r="r" b="b"/>
                  <a:pathLst>
                    <a:path w="120" h="105">
                      <a:moveTo>
                        <a:pt x="0" y="45"/>
                      </a:moveTo>
                      <a:lnTo>
                        <a:pt x="63" y="105"/>
                      </a:lnTo>
                      <a:lnTo>
                        <a:pt x="120" y="45"/>
                      </a:lnTo>
                      <a:lnTo>
                        <a:pt x="96" y="0"/>
                      </a:lnTo>
                      <a:lnTo>
                        <a:pt x="3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835240" y="4534920"/>
                  <a:ext cx="125280" cy="88560"/>
                </a:xfrm>
                <a:custGeom>
                  <a:avLst/>
                  <a:gdLst/>
                  <a:ahLst/>
                  <a:rect l="l" t="t" r="r" b="b"/>
                  <a:pathLst>
                    <a:path w="166" h="138">
                      <a:moveTo>
                        <a:pt x="166" y="138"/>
                      </a:moveTo>
                      <a:lnTo>
                        <a:pt x="152" y="92"/>
                      </a:lnTo>
                      <a:lnTo>
                        <a:pt x="111" y="17"/>
                      </a:lnTo>
                      <a:lnTo>
                        <a:pt x="87" y="0"/>
                      </a:lnTo>
                      <a:lnTo>
                        <a:pt x="58" y="17"/>
                      </a:lnTo>
                      <a:lnTo>
                        <a:pt x="45" y="41"/>
                      </a:lnTo>
                      <a:lnTo>
                        <a:pt x="13" y="98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853240" y="4699800"/>
                  <a:ext cx="79560" cy="60120"/>
                </a:xfrm>
                <a:custGeom>
                  <a:avLst/>
                  <a:gdLst/>
                  <a:ahLst/>
                  <a:rect l="l" t="t" r="r" b="b"/>
                  <a:pathLst>
                    <a:path w="106" h="94">
                      <a:moveTo>
                        <a:pt x="0" y="41"/>
                      </a:moveTo>
                      <a:lnTo>
                        <a:pt x="54" y="94"/>
                      </a:lnTo>
                      <a:lnTo>
                        <a:pt x="106" y="41"/>
                      </a:lnTo>
                      <a:lnTo>
                        <a:pt x="85" y="0"/>
                      </a:lnTo>
                      <a:lnTo>
                        <a:pt x="24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36320" y="4681440"/>
                  <a:ext cx="111600" cy="78120"/>
                </a:xfrm>
                <a:custGeom>
                  <a:avLst/>
                  <a:gdLst/>
                  <a:ahLst/>
                  <a:rect l="l" t="t" r="r" b="b"/>
                  <a:pathLst>
                    <a:path w="148" h="121">
                      <a:moveTo>
                        <a:pt x="148" y="121"/>
                      </a:moveTo>
                      <a:lnTo>
                        <a:pt x="135" y="81"/>
                      </a:lnTo>
                      <a:lnTo>
                        <a:pt x="100" y="15"/>
                      </a:lnTo>
                      <a:lnTo>
                        <a:pt x="76" y="0"/>
                      </a:lnTo>
                      <a:lnTo>
                        <a:pt x="50" y="15"/>
                      </a:lnTo>
                      <a:lnTo>
                        <a:pt x="41" y="35"/>
                      </a:lnTo>
                      <a:lnTo>
                        <a:pt x="11" y="85"/>
                      </a:lnTo>
                      <a:lnTo>
                        <a:pt x="0" y="12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45280" y="456480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538164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540432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541620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543888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545112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547380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550836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552060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554364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556740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57928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560052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562500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564768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567036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45280" y="442728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538164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540432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41620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543888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545112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547380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550836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552060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554364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556740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557928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560052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562500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564768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567036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45280" y="428976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538164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540432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541620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543888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545112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547380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550836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552060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554364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556740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557928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560052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562500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564768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567036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345280" y="415260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538164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540432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541620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543888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45112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547380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550836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552060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554364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556740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557928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60052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562500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564768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67036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8" name=""/>
              <p:cNvCxnSpPr>
                <a:stCxn id="220" idx="0"/>
                <a:endCxn id="225" idx="1"/>
              </p:cNvCxnSpPr>
              <p:nvPr/>
            </p:nvCxnSpPr>
            <p:spPr>
              <a:xfrm>
                <a:off x="3618000" y="4165560"/>
                <a:ext cx="1613520" cy="450000"/>
              </a:xfrm>
              <a:prstGeom prst="curvedConnector5">
                <a:avLst>
                  <a:gd name="adj1" fmla="val 49988"/>
                  <a:gd name="adj2" fmla="val 49959"/>
                  <a:gd name="adj3" fmla="val 49988"/>
                </a:avLst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</p:cxnSp>
        </p:grpSp>
      </p:grp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Batch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771640" y="3141720"/>
            <a:ext cx="1816200" cy="1611360"/>
            <a:chOff x="2771640" y="3141720"/>
            <a:chExt cx="1816200" cy="1611360"/>
          </a:xfrm>
        </p:grpSpPr>
        <p:sp>
          <p:nvSpPr>
            <p:cNvPr id="322" name=""/>
            <p:cNvSpPr/>
            <p:nvPr/>
          </p:nvSpPr>
          <p:spPr>
            <a:xfrm>
              <a:off x="3176640" y="3578040"/>
              <a:ext cx="1409760" cy="79560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3440" y="4013280"/>
              <a:ext cx="644400" cy="44424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78080" y="3941640"/>
              <a:ext cx="770040" cy="51588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46560" y="3654360"/>
              <a:ext cx="1160280" cy="665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62480" y="3747960"/>
              <a:ext cx="780840" cy="43668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29000" y="3954240"/>
              <a:ext cx="431640" cy="29376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9840" y="3978360"/>
              <a:ext cx="419040" cy="26964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76640" y="3525840"/>
              <a:ext cx="279360" cy="53964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6520" y="3181320"/>
              <a:ext cx="879480" cy="34920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27520" y="3141720"/>
              <a:ext cx="698400" cy="38412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6000" y="3456000"/>
              <a:ext cx="169920" cy="36180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9160" y="3152880"/>
              <a:ext cx="766800" cy="102384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97440" y="3504960"/>
              <a:ext cx="128520" cy="6717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48000" y="3189240"/>
              <a:ext cx="690480" cy="99540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7080" y="3230640"/>
              <a:ext cx="622440" cy="94752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9160" y="3230640"/>
              <a:ext cx="630360" cy="9475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59160" y="3230640"/>
              <a:ext cx="630360" cy="9475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19640" y="3354480"/>
              <a:ext cx="466560" cy="69840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7320" y="3568680"/>
              <a:ext cx="98640" cy="60804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71640" y="4065480"/>
              <a:ext cx="1086120" cy="65736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16280" y="4087800"/>
              <a:ext cx="995400" cy="60804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16280" y="4233960"/>
              <a:ext cx="739800" cy="4698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54280" y="4530600"/>
              <a:ext cx="257400" cy="17316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71640" y="4228920"/>
              <a:ext cx="797040" cy="5241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68680" y="4540320"/>
              <a:ext cx="289080" cy="21276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52640" y="4138560"/>
              <a:ext cx="873360" cy="53820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6040" y="4105080"/>
              <a:ext cx="593640" cy="36828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02040" y="414000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62160" y="410508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65320" y="4162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28960" y="4182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2240" y="420372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57320" y="422424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35160" y="41608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95640" y="412596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98800" y="4182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2440" y="42019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25720" y="4224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89360" y="4244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1814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27320" y="41450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32280" y="42019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95560" y="42228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59200" y="4244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00320" y="4200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62240" y="416556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65400" y="42228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29040" y="4243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92320" y="426384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55960" y="42861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35240" y="4221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93920" y="4184640"/>
              <a:ext cx="50760" cy="33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97080" y="4243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62160" y="4263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25800" y="42847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89080" y="4306680"/>
              <a:ext cx="5112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66920" y="424188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7400" y="420696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32000" y="4263840"/>
              <a:ext cx="4932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95640" y="4282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58920" y="430524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22560" y="4327560"/>
              <a:ext cx="4932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98960" y="42624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0880" y="4227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65480" y="4282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7320" y="4305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92400" y="4325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56040" y="43466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32080" y="4281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92560" y="42480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97160" y="430380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62240" y="4325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25880" y="4344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89160" y="43671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65560" y="4302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25680" y="42670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28840" y="4324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93920" y="4344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59000" y="4365720"/>
              <a:ext cx="4932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2640" y="438768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00480" y="43210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59160" y="42876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62320" y="4343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27400" y="436572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92480" y="43862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55760" y="440676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33600" y="4343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92640" y="430848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363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59080" y="43862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24160" y="44053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89240" y="4427640"/>
              <a:ext cx="4932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65640" y="4363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25760" y="43290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28920" y="4383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92560" y="44053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57640" y="4425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98760" y="4383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60680" y="4348080"/>
              <a:ext cx="493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62400" y="44035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25680" y="4425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89320" y="4446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52600" y="446724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32240" y="44035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92360" y="43686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95520" y="4424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59160" y="4446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24240" y="4467240"/>
              <a:ext cx="4932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86080" y="4487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65360" y="4424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25840" y="43876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9000" y="4444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19560" y="4506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98840" y="4444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59320" y="440856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62480" y="4465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89400" y="4506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54480" y="4527360"/>
              <a:ext cx="489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30520" y="4465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92440" y="44290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95600" y="44845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6160" y="4548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64000" y="44845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27280" y="4506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92360" y="45259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56000" y="4548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19640" y="4568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97120" y="4505400"/>
              <a:ext cx="51120" cy="29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60760" y="45259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24400" y="4546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89480" y="4568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52760" y="4587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30600" y="4524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94240" y="4546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57520" y="456732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2600" y="4587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86240" y="4608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64080" y="4545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27360" y="456732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91000" y="4586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54280" y="4608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19360" y="4629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211640" y="3645000"/>
            <a:ext cx="1447560" cy="1295280"/>
            <a:chOff x="4211640" y="3645000"/>
            <a:chExt cx="1447560" cy="1295280"/>
          </a:xfrm>
        </p:grpSpPr>
        <p:sp>
          <p:nvSpPr>
            <p:cNvPr id="465" name=""/>
            <p:cNvSpPr/>
            <p:nvPr/>
          </p:nvSpPr>
          <p:spPr>
            <a:xfrm>
              <a:off x="4211640" y="3645000"/>
              <a:ext cx="1295280" cy="1295280"/>
            </a:xfrm>
            <a:prstGeom prst="can">
              <a:avLst>
                <a:gd name="adj" fmla="val 250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11640" y="402588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br>
                <a:rPr sz="2400"/>
              </a:b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nteractiv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Timeshar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990720" y="4343400"/>
            <a:ext cx="1295280" cy="1154160"/>
            <a:chOff x="990720" y="4343400"/>
            <a:chExt cx="1295280" cy="1154160"/>
          </a:xfrm>
        </p:grpSpPr>
        <p:sp>
          <p:nvSpPr>
            <p:cNvPr id="471" name=""/>
            <p:cNvSpPr/>
            <p:nvPr/>
          </p:nvSpPr>
          <p:spPr>
            <a:xfrm>
              <a:off x="1279440" y="4656240"/>
              <a:ext cx="100512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25560" y="4967280"/>
              <a:ext cx="460440" cy="31896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81240" y="4916520"/>
              <a:ext cx="549000" cy="36972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00040" y="471024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82840" y="4778280"/>
              <a:ext cx="556920" cy="31284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59080" y="4925880"/>
              <a:ext cx="30780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8960" y="494172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20960" y="4618080"/>
              <a:ext cx="19980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94000" y="4371840"/>
              <a:ext cx="626760" cy="24948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43120" y="4343400"/>
              <a:ext cx="49860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20760" y="4568760"/>
              <a:ext cx="120960" cy="25884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4351320"/>
              <a:ext cx="546120" cy="73332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65160" y="4603680"/>
              <a:ext cx="9072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01840" y="4376880"/>
              <a:ext cx="492120" cy="71424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14440" y="4406760"/>
              <a:ext cx="444600" cy="67968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09760" y="4406760"/>
              <a:ext cx="44928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09760" y="4406760"/>
              <a:ext cx="44928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52600" y="449568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86040" y="4649760"/>
              <a:ext cx="69840" cy="43488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90720" y="500544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22400" y="5021280"/>
              <a:ext cx="709560" cy="43488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22400" y="512604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9440" y="533880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90720" y="5122800"/>
              <a:ext cx="568080" cy="3747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58800" y="5345280"/>
              <a:ext cx="206640" cy="15228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47600" y="5057640"/>
              <a:ext cx="623880" cy="38592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93760" y="503388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54160" y="5059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98440" y="50338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28600" y="50752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103400" y="508968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76400" y="51037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52640" y="51181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77920" y="50734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22200" y="504828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52360" y="50896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27160" y="51022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00160" y="51181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74600" y="51339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01680" y="50878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44520" y="50626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76480" y="51022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50920" y="51181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23920" y="51339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25440" y="51022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68280" y="50767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00240" y="51181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74680" y="51325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47680" y="514656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22480" y="51624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49200" y="51166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92400" y="50911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22200" y="51325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98440" y="51465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71440" y="5162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46240" y="51786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73320" y="51307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16160" y="51069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47760" y="51465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22200" y="516096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95560" y="5176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70000" y="51926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95280" y="514656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9920" y="5121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71520" y="51609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4520" y="51768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5191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93760" y="5207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19040" y="51595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62240" y="51354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3840" y="51753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68280" y="5191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43080" y="520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17520" y="52214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43160" y="51753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86000" y="5149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6160" y="519120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92400" y="520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66840" y="52196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41280" y="52354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68360" y="51879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09760" y="5164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39920" y="52038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16160" y="52196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90600" y="523548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65400" y="52498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92120" y="52038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33520" y="51786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63680" y="52196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38120" y="523548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12920" y="52484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89160" y="52642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14440" y="52196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57280" y="519444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87440" y="52322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62240" y="52484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36680" y="52624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38200" y="52322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82840" y="52070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11200" y="524664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86000" y="52624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60440" y="527832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33440" y="52927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61960" y="524664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04800" y="52228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34960" y="52624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09760" y="527832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84200" y="52927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57200" y="53071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86080" y="52624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28920" y="52354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59080" y="52768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80960" y="5321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09840" y="52768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52680" y="5251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82840" y="52912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30280" y="5321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06520" y="53355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31800" y="52912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76440" y="52657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06600" y="5305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8840" y="53514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5920" y="5305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30360" y="53211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04800" y="53355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77800" y="5351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52600" y="5365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79680" y="53197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4120" y="53355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27120" y="53499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01920" y="5365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76360" y="53802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03440" y="53341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76440" y="53499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50880" y="5364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25680" y="53802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00120" y="53942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7200" y="53481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00200" y="5364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74640" y="5378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49440" y="539424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23880" y="54086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209680" y="3581280"/>
            <a:ext cx="4496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791320" y="4952880"/>
            <a:ext cx="1295280" cy="1154160"/>
            <a:chOff x="5791320" y="4952880"/>
            <a:chExt cx="1295280" cy="1154160"/>
          </a:xfrm>
        </p:grpSpPr>
        <p:sp>
          <p:nvSpPr>
            <p:cNvPr id="615" name=""/>
            <p:cNvSpPr/>
            <p:nvPr/>
          </p:nvSpPr>
          <p:spPr>
            <a:xfrm>
              <a:off x="6080040" y="5265720"/>
              <a:ext cx="100512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26160" y="5576760"/>
              <a:ext cx="460440" cy="31932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81840" y="5526000"/>
              <a:ext cx="549000" cy="37008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00640" y="531972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83440" y="5388120"/>
              <a:ext cx="556920" cy="31248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59680" y="5535720"/>
              <a:ext cx="30780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9560" y="555156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21560" y="5227560"/>
              <a:ext cx="19980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94600" y="4981680"/>
              <a:ext cx="626760" cy="24912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43720" y="4952880"/>
              <a:ext cx="49860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21360" y="5178600"/>
              <a:ext cx="120960" cy="25848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10360" y="4960800"/>
              <a:ext cx="546120" cy="73368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65760" y="5213520"/>
              <a:ext cx="9072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02440" y="4986360"/>
              <a:ext cx="492120" cy="71424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15040" y="5016600"/>
              <a:ext cx="444600" cy="67932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10360" y="501660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10360" y="501660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53200" y="510552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686640" y="5259240"/>
              <a:ext cx="69840" cy="43524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91320" y="561492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23000" y="5630760"/>
              <a:ext cx="709560" cy="43524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23000" y="573552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50040" y="594828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91320" y="5732640"/>
              <a:ext cx="568080" cy="37440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59400" y="5954760"/>
              <a:ext cx="206640" cy="15228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48200" y="5667480"/>
              <a:ext cx="623880" cy="38556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94360" y="564372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54760" y="5668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99040" y="56437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29200" y="568476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04000" y="569916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77000" y="571356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53240" y="57276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78520" y="5683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22800" y="565776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52960" y="56991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7760" y="57117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00760" y="57276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75200" y="57434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02280" y="56973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45120" y="5672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77080" y="571176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57276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24520" y="57434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26040" y="57117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68880" y="56865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000840" y="5727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75280" y="57420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48280" y="575640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23080" y="5772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49800" y="5726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93000" y="57006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22800" y="5742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99040" y="57564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2040" y="5772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46840" y="5788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73920" y="574056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116760" y="5716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48360" y="57564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22800" y="577044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96160" y="5786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70600" y="58024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95880" y="57564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40520" y="5730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72120" y="57704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45120" y="57862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19920" y="5800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94360" y="58165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19640" y="576900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62840" y="574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440" y="5784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68880" y="5800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43680" y="5815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18120" y="58309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43760" y="5784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86600" y="5759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16760" y="58006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3000" y="5815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67440" y="58294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41880" y="58453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68960" y="57974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10360" y="5773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40520" y="5813280"/>
              <a:ext cx="36360" cy="241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16760" y="58294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91200" y="584532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66000" y="5859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92720" y="5813280"/>
              <a:ext cx="34920" cy="241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34120" y="5788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64280" y="58294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38720" y="584532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13520" y="5857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89760" y="58737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15040" y="58294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57880" y="580392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88040" y="58420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2840" y="5857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37280" y="5872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38800" y="58420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83440" y="58165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11800" y="5856120"/>
              <a:ext cx="36720" cy="24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86600" y="5872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61040" y="588816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34040" y="5902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62560" y="5856120"/>
              <a:ext cx="36720" cy="24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05400" y="583236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35560" y="58723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10360" y="58881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84800" y="59022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57800" y="5916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6680" y="58723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9520" y="5845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59680" y="5886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81560" y="59310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10440" y="5886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53280" y="5861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83440" y="5900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30880" y="59310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07120" y="5945040"/>
              <a:ext cx="34920" cy="24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32400" y="5900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77040" y="5875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07200" y="5915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29440" y="5961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56520" y="5915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30960" y="59310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05400" y="5945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78400" y="5961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53200" y="5975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80280" y="5929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54720" y="59450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27720" y="595944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02520" y="5975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76960" y="5989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04040" y="5943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77040" y="59594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51480" y="59738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26280" y="5989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00720" y="60040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27800" y="59580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00800" y="5973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75240" y="59878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50040" y="600408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24480" y="6018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590920" y="4876920"/>
            <a:ext cx="1295280" cy="1154160"/>
            <a:chOff x="2590920" y="4876920"/>
            <a:chExt cx="1295280" cy="1154160"/>
          </a:xfrm>
        </p:grpSpPr>
        <p:sp>
          <p:nvSpPr>
            <p:cNvPr id="758" name=""/>
            <p:cNvSpPr/>
            <p:nvPr/>
          </p:nvSpPr>
          <p:spPr>
            <a:xfrm>
              <a:off x="2879640" y="5189400"/>
              <a:ext cx="100512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25760" y="5500800"/>
              <a:ext cx="460440" cy="31896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81440" y="5450040"/>
              <a:ext cx="549000" cy="36972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00240" y="524340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83040" y="5311800"/>
              <a:ext cx="556920" cy="31284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59280" y="5459400"/>
              <a:ext cx="30780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59160" y="547524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21160" y="5151600"/>
              <a:ext cx="19980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94200" y="4905360"/>
              <a:ext cx="626760" cy="24912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43320" y="4876920"/>
              <a:ext cx="49860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20960" y="5102280"/>
              <a:ext cx="120960" cy="25884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09960" y="4884840"/>
              <a:ext cx="546120" cy="73332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65360" y="5137200"/>
              <a:ext cx="9072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2040" y="4910040"/>
              <a:ext cx="492120" cy="71460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14640" y="4940280"/>
              <a:ext cx="444600" cy="67932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09960" y="494028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009960" y="494028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052800" y="502920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86240" y="5183280"/>
              <a:ext cx="69840" cy="43488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90920" y="553896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22600" y="5554800"/>
              <a:ext cx="709560" cy="43488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22600" y="565956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49640" y="587232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90920" y="5656320"/>
              <a:ext cx="568080" cy="3747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59000" y="5878440"/>
              <a:ext cx="206640" cy="15264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47800" y="5591160"/>
              <a:ext cx="623880" cy="38592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93960" y="556740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54360" y="5592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98640" y="55674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28800" y="56088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03600" y="562284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76600" y="56372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52840" y="56516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78120" y="5607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22400" y="5581800"/>
              <a:ext cx="3528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52560" y="56228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27360" y="56358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00360" y="56516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74800" y="56674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01880" y="5621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44720" y="55958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776680" y="56358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51120" y="56516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24120" y="56674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25640" y="56358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68480" y="56102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00440" y="56516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74880" y="5665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47880" y="56800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2680" y="5695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49400" y="56498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92600" y="56246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22400" y="5665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98640" y="5680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71640" y="5695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46440" y="5711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3520" y="56642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16360" y="56404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47960" y="5680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22400" y="5694480"/>
              <a:ext cx="3528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95760" y="5710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70200" y="57261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95480" y="56800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0120" y="5654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1720" y="56944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44720" y="57103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9520" y="5724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93960" y="57405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19240" y="56926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62440" y="5668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94040" y="5708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68480" y="57243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43280" y="5738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17720" y="57546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943360" y="5708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86200" y="5683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16360" y="572436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92600" y="5738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67040" y="57531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41480" y="57690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68560" y="57214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09960" y="5697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40120" y="5737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16360" y="57531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890800" y="57690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65600" y="57834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92320" y="57373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33720" y="5711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963880" y="57531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938320" y="57690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13120" y="5781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89360" y="57974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14640" y="57531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57480" y="572760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987640" y="5765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62440" y="5781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36880" y="57960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38400" y="5765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83040" y="57405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11400" y="578016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86200" y="57960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60640" y="581184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33640" y="5826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62160" y="578016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05000" y="57564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35160" y="5796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09960" y="58118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8262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57400" y="58402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86280" y="5796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29120" y="57690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59280" y="58104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81160" y="5854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10040" y="58104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52880" y="5784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83040" y="5824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30480" y="5854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06720" y="58690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32000" y="58244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176640" y="5799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06800" y="5838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29040" y="5884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56120" y="5838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30560" y="5854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05000" y="58690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078000" y="5884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52800" y="58993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9880" y="5853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54320" y="58690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27320" y="588312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02120" y="58993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76560" y="5913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03640" y="5867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76640" y="588312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51080" y="58975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5880" y="5913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00320" y="59277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27400" y="5881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00400" y="5897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74840" y="5911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149640" y="592776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24080" y="59421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038480" y="5029200"/>
            <a:ext cx="1295640" cy="1154160"/>
            <a:chOff x="4038480" y="5029200"/>
            <a:chExt cx="1295640" cy="1154160"/>
          </a:xfrm>
        </p:grpSpPr>
        <p:sp>
          <p:nvSpPr>
            <p:cNvPr id="901" name=""/>
            <p:cNvSpPr/>
            <p:nvPr/>
          </p:nvSpPr>
          <p:spPr>
            <a:xfrm>
              <a:off x="4327560" y="5342040"/>
              <a:ext cx="100476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73680" y="5653080"/>
              <a:ext cx="460440" cy="31896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29000" y="5602320"/>
              <a:ext cx="549360" cy="36972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48160" y="539604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530600" y="5464080"/>
              <a:ext cx="557280" cy="31284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506840" y="5611680"/>
              <a:ext cx="30816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07080" y="562752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68720" y="5303880"/>
              <a:ext cx="20016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41760" y="5057640"/>
              <a:ext cx="627120" cy="24948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91240" y="5029200"/>
              <a:ext cx="49824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68880" y="5254560"/>
              <a:ext cx="120600" cy="25884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57880" y="5037120"/>
              <a:ext cx="545760" cy="73332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13280" y="5289480"/>
              <a:ext cx="9036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49600" y="5062680"/>
              <a:ext cx="492120" cy="71424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62560" y="5092560"/>
              <a:ext cx="444240" cy="67968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57880" y="5092560"/>
              <a:ext cx="44892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57880" y="5092560"/>
              <a:ext cx="44892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00720" y="518148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33800" y="5335560"/>
              <a:ext cx="69840" cy="43488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38480" y="569124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70520" y="5707080"/>
              <a:ext cx="709560" cy="43488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70520" y="581184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97560" y="602460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38480" y="5808600"/>
              <a:ext cx="568440" cy="3747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06920" y="6031080"/>
              <a:ext cx="206280" cy="15228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95720" y="5743440"/>
              <a:ext cx="623880" cy="38592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1880" y="571968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02280" y="574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46560" y="5719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76720" y="57610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51160" y="577548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24160" y="57895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00400" y="58039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26040" y="5759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70320" y="5734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200480" y="57754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5280" y="57880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48280" y="58039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22720" y="5819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49800" y="5773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92640" y="57484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24240" y="57880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199040" y="58039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72040" y="5819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73560" y="5788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16400" y="5762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48000" y="5803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22800" y="58183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95800" y="583236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170240" y="5848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97320" y="58024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340160" y="57769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70320" y="58183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246560" y="5832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219560" y="5848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94000" y="58644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21080" y="58165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363920" y="5792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95880" y="5832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270320" y="58467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243320" y="5862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218120" y="58784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43400" y="583236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87680" y="5807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319640" y="5846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292640" y="5862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67080" y="5877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41880" y="5892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367160" y="58453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10000" y="5821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341960" y="5861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16400" y="5877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90840" y="5891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65640" y="59072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390920" y="58611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433760" y="5835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363920" y="58770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340160" y="5891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314960" y="59054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89400" y="59212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16480" y="58737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57880" y="5850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87680" y="588960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63920" y="59054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38720" y="592128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13160" y="5935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40240" y="58896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81640" y="58644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11800" y="59054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86240" y="592128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61040" y="5934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6920" y="59500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62560" y="59054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05400" y="58802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35560" y="59180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10000" y="5934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384800" y="59482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86320" y="59180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30600" y="58928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59320" y="59324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33760" y="59482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08560" y="596412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81560" y="5978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10080" y="59324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2920" y="59086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83080" y="5948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457880" y="596412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32320" y="59785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405320" y="59929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33840" y="59482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576680" y="59212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506840" y="5962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29080" y="60069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57600" y="5962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00440" y="5937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30600" y="59770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478400" y="60069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54640" y="60213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79920" y="59770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624560" y="5951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54360" y="5991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76600" y="6037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03680" y="5991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78480" y="60069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52920" y="60213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25920" y="6037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00720" y="6051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27440" y="60055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02240" y="6021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75240" y="6035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49680" y="6051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24480" y="60660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51200" y="60199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24560" y="6035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99000" y="6049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3440" y="60660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548240" y="608004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75320" y="60339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8320" y="6049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22760" y="6064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97560" y="608004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572000" y="6094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362320" y="3886200"/>
            <a:ext cx="914400" cy="6858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57600" y="3733920"/>
            <a:ext cx="838080" cy="9144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00600" y="3733920"/>
            <a:ext cx="1066680" cy="5331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19920" y="411480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952880" y="4343400"/>
            <a:ext cx="838440" cy="6858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multiproc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2286000" y="2819520"/>
            <a:ext cx="5715000" cy="1373760"/>
            <a:chOff x="2286000" y="2819520"/>
            <a:chExt cx="5715000" cy="1373760"/>
          </a:xfrm>
        </p:grpSpPr>
        <p:sp>
          <p:nvSpPr>
            <p:cNvPr id="1051" name=""/>
            <p:cNvSpPr/>
            <p:nvPr/>
          </p:nvSpPr>
          <p:spPr>
            <a:xfrm>
              <a:off x="3505320" y="312408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86000" y="3504960"/>
              <a:ext cx="571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4120" y="312408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62920" y="312408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952880" y="35049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2971800" y="2819520"/>
              <a:ext cx="4648320" cy="459720"/>
              <a:chOff x="2971800" y="2819520"/>
              <a:chExt cx="4648320" cy="45972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1800" y="2819520"/>
                <a:ext cx="990720" cy="459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00600" y="2819520"/>
                <a:ext cx="990720" cy="459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629400" y="2819520"/>
                <a:ext cx="990720" cy="459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4191120" y="3733560"/>
              <a:ext cx="2514600" cy="4597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-si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le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toledo.kuleuven.ac.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2209680" y="2971800"/>
            <a:ext cx="5257800" cy="1676520"/>
          </a:xfrm>
          <a:prstGeom prst="irregularSeal2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2133720" y="2514600"/>
            <a:ext cx="1600200" cy="1301760"/>
            <a:chOff x="2133720" y="2514600"/>
            <a:chExt cx="1600200" cy="1301760"/>
          </a:xfrm>
        </p:grpSpPr>
        <p:sp>
          <p:nvSpPr>
            <p:cNvPr id="1065" name=""/>
            <p:cNvSpPr/>
            <p:nvPr/>
          </p:nvSpPr>
          <p:spPr>
            <a:xfrm>
              <a:off x="3092760" y="2667600"/>
              <a:ext cx="640800" cy="1113840"/>
            </a:xfrm>
            <a:custGeom>
              <a:avLst/>
              <a:gdLst/>
              <a:ahLst/>
              <a:rect l="l" t="t" r="r" b="b"/>
              <a:pathLst>
                <a:path w="2358" h="3792">
                  <a:moveTo>
                    <a:pt x="0" y="3792"/>
                  </a:moveTo>
                  <a:lnTo>
                    <a:pt x="0" y="1068"/>
                  </a:lnTo>
                  <a:lnTo>
                    <a:pt x="2358" y="0"/>
                  </a:lnTo>
                  <a:lnTo>
                    <a:pt x="2358" y="2304"/>
                  </a:lnTo>
                  <a:lnTo>
                    <a:pt x="0" y="379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90240" y="2765880"/>
              <a:ext cx="604440" cy="1050480"/>
            </a:xfrm>
            <a:custGeom>
              <a:avLst/>
              <a:gdLst/>
              <a:ahLst/>
              <a:rect l="l" t="t" r="r" b="b"/>
              <a:pathLst>
                <a:path w="2225" h="3577">
                  <a:moveTo>
                    <a:pt x="0" y="3577"/>
                  </a:moveTo>
                  <a:lnTo>
                    <a:pt x="0" y="1011"/>
                  </a:lnTo>
                  <a:lnTo>
                    <a:pt x="2225" y="0"/>
                  </a:lnTo>
                  <a:lnTo>
                    <a:pt x="2225" y="2175"/>
                  </a:lnTo>
                  <a:lnTo>
                    <a:pt x="0" y="357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359800" y="2514600"/>
              <a:ext cx="1374120" cy="466920"/>
            </a:xfrm>
            <a:custGeom>
              <a:avLst/>
              <a:gdLst/>
              <a:ahLst/>
              <a:rect l="l" t="t" r="r" b="b"/>
              <a:pathLst>
                <a:path w="5054" h="1590">
                  <a:moveTo>
                    <a:pt x="0" y="729"/>
                  </a:moveTo>
                  <a:lnTo>
                    <a:pt x="2696" y="1590"/>
                  </a:lnTo>
                  <a:lnTo>
                    <a:pt x="5054" y="522"/>
                  </a:lnTo>
                  <a:lnTo>
                    <a:pt x="2372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359800" y="2514600"/>
              <a:ext cx="1016640" cy="399960"/>
            </a:xfrm>
            <a:custGeom>
              <a:avLst/>
              <a:gdLst/>
              <a:ahLst/>
              <a:rect l="l" t="t" r="r" b="b"/>
              <a:pathLst>
                <a:path w="3739" h="1362">
                  <a:moveTo>
                    <a:pt x="0" y="729"/>
                  </a:moveTo>
                  <a:lnTo>
                    <a:pt x="1980" y="1362"/>
                  </a:lnTo>
                  <a:lnTo>
                    <a:pt x="3739" y="403"/>
                  </a:lnTo>
                  <a:lnTo>
                    <a:pt x="1798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98360" y="2633040"/>
              <a:ext cx="566280" cy="281160"/>
            </a:xfrm>
            <a:custGeom>
              <a:avLst/>
              <a:gdLst/>
              <a:ahLst/>
              <a:rect l="l" t="t" r="r" b="b"/>
              <a:pathLst>
                <a:path w="2083" h="959">
                  <a:moveTo>
                    <a:pt x="0" y="959"/>
                  </a:moveTo>
                  <a:lnTo>
                    <a:pt x="1759" y="0"/>
                  </a:lnTo>
                  <a:lnTo>
                    <a:pt x="2083" y="105"/>
                  </a:lnTo>
                  <a:lnTo>
                    <a:pt x="0" y="9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2922120" y="2634480"/>
              <a:ext cx="652320" cy="28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99400" y="2824200"/>
              <a:ext cx="690480" cy="992160"/>
            </a:xfrm>
            <a:custGeom>
              <a:avLst/>
              <a:gdLst/>
              <a:ahLst/>
              <a:rect l="l" t="t" r="r" b="b"/>
              <a:pathLst>
                <a:path w="2540" h="3379">
                  <a:moveTo>
                    <a:pt x="2540" y="3379"/>
                  </a:moveTo>
                  <a:lnTo>
                    <a:pt x="2540" y="813"/>
                  </a:lnTo>
                  <a:lnTo>
                    <a:pt x="0" y="0"/>
                  </a:lnTo>
                  <a:lnTo>
                    <a:pt x="0" y="2039"/>
                  </a:lnTo>
                  <a:lnTo>
                    <a:pt x="2540" y="337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61760" y="2640240"/>
              <a:ext cx="743760" cy="237960"/>
            </a:xfrm>
            <a:custGeom>
              <a:avLst/>
              <a:gdLst/>
              <a:ahLst/>
              <a:rect l="l" t="t" r="r" b="b"/>
              <a:pathLst>
                <a:path w="2734" h="808">
                  <a:moveTo>
                    <a:pt x="0" y="0"/>
                  </a:moveTo>
                  <a:lnTo>
                    <a:pt x="2001" y="518"/>
                  </a:lnTo>
                  <a:lnTo>
                    <a:pt x="2001" y="620"/>
                  </a:lnTo>
                  <a:lnTo>
                    <a:pt x="2734" y="8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359800" y="2728800"/>
              <a:ext cx="732960" cy="1052640"/>
            </a:xfrm>
            <a:custGeom>
              <a:avLst/>
              <a:gdLst/>
              <a:ahLst/>
              <a:rect l="l" t="t" r="r" b="b"/>
              <a:pathLst>
                <a:path w="2696" h="3585">
                  <a:moveTo>
                    <a:pt x="2696" y="3585"/>
                  </a:moveTo>
                  <a:lnTo>
                    <a:pt x="2696" y="861"/>
                  </a:lnTo>
                  <a:lnTo>
                    <a:pt x="0" y="0"/>
                  </a:lnTo>
                  <a:lnTo>
                    <a:pt x="0" y="2163"/>
                  </a:lnTo>
                  <a:lnTo>
                    <a:pt x="2696" y="358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26040" y="3146760"/>
              <a:ext cx="321120" cy="337680"/>
            </a:xfrm>
            <a:custGeom>
              <a:avLst/>
              <a:gdLst/>
              <a:ahLst/>
              <a:rect l="l" t="t" r="r" b="b"/>
              <a:pathLst>
                <a:path w="1181" h="1150">
                  <a:moveTo>
                    <a:pt x="0" y="0"/>
                  </a:moveTo>
                  <a:lnTo>
                    <a:pt x="1181" y="528"/>
                  </a:lnTo>
                  <a:lnTo>
                    <a:pt x="1181" y="1150"/>
                  </a:lnTo>
                  <a:lnTo>
                    <a:pt x="0" y="5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426040" y="2944080"/>
              <a:ext cx="321120" cy="326520"/>
            </a:xfrm>
            <a:custGeom>
              <a:avLst/>
              <a:gdLst/>
              <a:ahLst/>
              <a:rect l="l" t="t" r="r" b="b"/>
              <a:pathLst>
                <a:path w="1181" h="1112">
                  <a:moveTo>
                    <a:pt x="0" y="0"/>
                  </a:moveTo>
                  <a:lnTo>
                    <a:pt x="1181" y="437"/>
                  </a:lnTo>
                  <a:lnTo>
                    <a:pt x="1181" y="1112"/>
                  </a:lnTo>
                  <a:lnTo>
                    <a:pt x="0" y="5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22680" y="2927520"/>
              <a:ext cx="299160" cy="263160"/>
            </a:xfrm>
            <a:custGeom>
              <a:avLst/>
              <a:gdLst/>
              <a:ahLst/>
              <a:rect l="l" t="t" r="r" b="b"/>
              <a:pathLst>
                <a:path w="1100" h="896">
                  <a:moveTo>
                    <a:pt x="1100" y="283"/>
                  </a:moveTo>
                  <a:lnTo>
                    <a:pt x="237" y="0"/>
                  </a:lnTo>
                  <a:lnTo>
                    <a:pt x="0" y="574"/>
                  </a:lnTo>
                  <a:lnTo>
                    <a:pt x="848" y="896"/>
                  </a:lnTo>
                  <a:lnTo>
                    <a:pt x="1100" y="28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83520" y="2949840"/>
              <a:ext cx="207720" cy="120960"/>
            </a:xfrm>
            <a:custGeom>
              <a:avLst/>
              <a:gdLst/>
              <a:ahLst/>
              <a:rect l="l" t="t" r="r" b="b"/>
              <a:pathLst>
                <a:path w="764" h="413">
                  <a:moveTo>
                    <a:pt x="764" y="229"/>
                  </a:moveTo>
                  <a:lnTo>
                    <a:pt x="72" y="0"/>
                  </a:lnTo>
                  <a:lnTo>
                    <a:pt x="0" y="178"/>
                  </a:lnTo>
                  <a:lnTo>
                    <a:pt x="683" y="413"/>
                  </a:lnTo>
                  <a:lnTo>
                    <a:pt x="764" y="2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769120" y="3014280"/>
              <a:ext cx="194040" cy="93600"/>
            </a:xfrm>
            <a:custGeom>
              <a:avLst/>
              <a:gdLst/>
              <a:ahLst/>
              <a:rect l="l" t="t" r="r" b="b"/>
              <a:pathLst>
                <a:path w="714" h="320">
                  <a:moveTo>
                    <a:pt x="714" y="233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1" y="320"/>
                  </a:lnTo>
                  <a:lnTo>
                    <a:pt x="714" y="23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54000" y="3052080"/>
              <a:ext cx="194400" cy="96840"/>
            </a:xfrm>
            <a:custGeom>
              <a:avLst/>
              <a:gdLst/>
              <a:ahLst/>
              <a:rect l="l" t="t" r="r" b="b"/>
              <a:pathLst>
                <a:path w="715" h="330">
                  <a:moveTo>
                    <a:pt x="715" y="242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2" y="330"/>
                  </a:lnTo>
                  <a:lnTo>
                    <a:pt x="715" y="24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953080" y="3010680"/>
              <a:ext cx="68400" cy="205560"/>
            </a:xfrm>
            <a:custGeom>
              <a:avLst/>
              <a:gdLst/>
              <a:ahLst/>
              <a:rect l="l" t="t" r="r" b="b"/>
              <a:pathLst>
                <a:path w="252" h="701">
                  <a:moveTo>
                    <a:pt x="252" y="0"/>
                  </a:moveTo>
                  <a:lnTo>
                    <a:pt x="252" y="701"/>
                  </a:lnTo>
                  <a:lnTo>
                    <a:pt x="0" y="61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29080" y="3243600"/>
              <a:ext cx="464400" cy="221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43440" y="3229920"/>
              <a:ext cx="603360" cy="286560"/>
            </a:xfrm>
            <a:custGeom>
              <a:avLst/>
              <a:gdLst/>
              <a:ahLst/>
              <a:rect l="l" t="t" r="r" b="b"/>
              <a:pathLst>
                <a:path w="2219" h="976">
                  <a:moveTo>
                    <a:pt x="0" y="390"/>
                  </a:moveTo>
                  <a:lnTo>
                    <a:pt x="1255" y="0"/>
                  </a:lnTo>
                  <a:lnTo>
                    <a:pt x="2219" y="411"/>
                  </a:lnTo>
                  <a:lnTo>
                    <a:pt x="2219" y="539"/>
                  </a:lnTo>
                  <a:lnTo>
                    <a:pt x="1032" y="9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3440" y="3344760"/>
              <a:ext cx="280440" cy="272520"/>
            </a:xfrm>
            <a:custGeom>
              <a:avLst/>
              <a:gdLst/>
              <a:ahLst/>
              <a:rect l="l" t="t" r="r" b="b"/>
              <a:pathLst>
                <a:path w="1032" h="927">
                  <a:moveTo>
                    <a:pt x="0" y="0"/>
                  </a:moveTo>
                  <a:lnTo>
                    <a:pt x="0" y="316"/>
                  </a:lnTo>
                  <a:lnTo>
                    <a:pt x="1032" y="927"/>
                  </a:lnTo>
                  <a:lnTo>
                    <a:pt x="1032" y="5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423880" y="3388680"/>
              <a:ext cx="323280" cy="2289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23880" y="3388680"/>
              <a:ext cx="323280" cy="2289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422" y="282"/>
                  </a:lnTo>
                  <a:lnTo>
                    <a:pt x="455" y="464"/>
                  </a:lnTo>
                  <a:lnTo>
                    <a:pt x="762" y="353"/>
                  </a:lnTo>
                  <a:lnTo>
                    <a:pt x="816" y="138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33720" y="3063600"/>
              <a:ext cx="300600" cy="217800"/>
            </a:xfrm>
            <a:custGeom>
              <a:avLst/>
              <a:gdLst/>
              <a:ahLst/>
              <a:rect l="l" t="t" r="r" b="b"/>
              <a:pathLst>
                <a:path w="1106" h="743">
                  <a:moveTo>
                    <a:pt x="0" y="205"/>
                  </a:moveTo>
                  <a:lnTo>
                    <a:pt x="0" y="0"/>
                  </a:lnTo>
                  <a:lnTo>
                    <a:pt x="1106" y="520"/>
                  </a:lnTo>
                  <a:lnTo>
                    <a:pt x="1106" y="743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133720" y="3003840"/>
              <a:ext cx="300600" cy="212760"/>
            </a:xfrm>
            <a:custGeom>
              <a:avLst/>
              <a:gdLst/>
              <a:ahLst/>
              <a:rect l="l" t="t" r="r" b="b"/>
              <a:pathLst>
                <a:path w="1106" h="724">
                  <a:moveTo>
                    <a:pt x="0" y="204"/>
                  </a:moveTo>
                  <a:lnTo>
                    <a:pt x="0" y="0"/>
                  </a:lnTo>
                  <a:lnTo>
                    <a:pt x="1106" y="501"/>
                  </a:lnTo>
                  <a:lnTo>
                    <a:pt x="1106" y="72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33720" y="2993400"/>
              <a:ext cx="613800" cy="157320"/>
            </a:xfrm>
            <a:custGeom>
              <a:avLst/>
              <a:gdLst/>
              <a:ahLst/>
              <a:rect l="l" t="t" r="r" b="b"/>
              <a:pathLst>
                <a:path w="2257" h="538">
                  <a:moveTo>
                    <a:pt x="1115" y="0"/>
                  </a:moveTo>
                  <a:lnTo>
                    <a:pt x="0" y="37"/>
                  </a:lnTo>
                  <a:lnTo>
                    <a:pt x="1106" y="538"/>
                  </a:lnTo>
                  <a:lnTo>
                    <a:pt x="2257" y="427"/>
                  </a:lnTo>
                  <a:lnTo>
                    <a:pt x="1115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434320" y="3178440"/>
              <a:ext cx="313200" cy="103320"/>
            </a:xfrm>
            <a:custGeom>
              <a:avLst/>
              <a:gdLst/>
              <a:ahLst/>
              <a:rect l="l" t="t" r="r" b="b"/>
              <a:pathLst>
                <a:path w="1151" h="353">
                  <a:moveTo>
                    <a:pt x="1151" y="205"/>
                  </a:moveTo>
                  <a:lnTo>
                    <a:pt x="1151" y="0"/>
                  </a:lnTo>
                  <a:lnTo>
                    <a:pt x="0" y="130"/>
                  </a:lnTo>
                  <a:lnTo>
                    <a:pt x="0" y="353"/>
                  </a:lnTo>
                  <a:lnTo>
                    <a:pt x="1151" y="20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34320" y="3118320"/>
              <a:ext cx="313200" cy="9792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34320" y="3118320"/>
              <a:ext cx="313200" cy="9792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779" y="213"/>
                  </a:lnTo>
                  <a:lnTo>
                    <a:pt x="463" y="240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43440" y="3394440"/>
              <a:ext cx="279360" cy="173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61120" y="2544480"/>
              <a:ext cx="613800" cy="211320"/>
            </a:xfrm>
            <a:custGeom>
              <a:avLst/>
              <a:gdLst/>
              <a:ahLst/>
              <a:rect l="l" t="t" r="r" b="b"/>
              <a:pathLst>
                <a:path w="2260" h="719">
                  <a:moveTo>
                    <a:pt x="0" y="328"/>
                  </a:moveTo>
                  <a:lnTo>
                    <a:pt x="1472" y="719"/>
                  </a:lnTo>
                  <a:lnTo>
                    <a:pt x="2260" y="3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61120" y="2544480"/>
              <a:ext cx="264240" cy="172440"/>
            </a:xfrm>
            <a:custGeom>
              <a:avLst/>
              <a:gdLst/>
              <a:ahLst/>
              <a:rect l="l" t="t" r="r" b="b"/>
              <a:pathLst>
                <a:path w="972" h="587">
                  <a:moveTo>
                    <a:pt x="0" y="328"/>
                  </a:moveTo>
                  <a:lnTo>
                    <a:pt x="972" y="587"/>
                  </a:lnTo>
                  <a:lnTo>
                    <a:pt x="972" y="221"/>
                  </a:lnTo>
                  <a:lnTo>
                    <a:pt x="887" y="200"/>
                  </a:lnTo>
                  <a:lnTo>
                    <a:pt x="887" y="128"/>
                  </a:lnTo>
                  <a:lnTo>
                    <a:pt x="801" y="1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78560" y="2544480"/>
              <a:ext cx="396000" cy="114480"/>
            </a:xfrm>
            <a:custGeom>
              <a:avLst/>
              <a:gdLst/>
              <a:ahLst/>
              <a:rect l="l" t="t" r="r" b="b"/>
              <a:pathLst>
                <a:path w="1459" h="390">
                  <a:moveTo>
                    <a:pt x="0" y="108"/>
                  </a:moveTo>
                  <a:lnTo>
                    <a:pt x="1302" y="390"/>
                  </a:lnTo>
                  <a:lnTo>
                    <a:pt x="1459" y="308"/>
                  </a:lnTo>
                  <a:lnTo>
                    <a:pt x="0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25360" y="2609640"/>
              <a:ext cx="277560" cy="82080"/>
            </a:xfrm>
            <a:custGeom>
              <a:avLst/>
              <a:gdLst/>
              <a:ahLst/>
              <a:rect l="l" t="t" r="r" b="b"/>
              <a:pathLst>
                <a:path w="1022" h="279">
                  <a:moveTo>
                    <a:pt x="0" y="0"/>
                  </a:moveTo>
                  <a:lnTo>
                    <a:pt x="1022" y="227"/>
                  </a:lnTo>
                  <a:lnTo>
                    <a:pt x="919" y="27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3505320" y="4038480"/>
            <a:ext cx="990360" cy="1904760"/>
            <a:chOff x="3505320" y="4038480"/>
            <a:chExt cx="990360" cy="1904760"/>
          </a:xfrm>
        </p:grpSpPr>
        <p:sp>
          <p:nvSpPr>
            <p:cNvPr id="1098" name=""/>
            <p:cNvSpPr/>
            <p:nvPr/>
          </p:nvSpPr>
          <p:spPr>
            <a:xfrm>
              <a:off x="3569760" y="5821920"/>
              <a:ext cx="839880" cy="1213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05320" y="4038480"/>
              <a:ext cx="990360" cy="18244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00320" y="4147200"/>
              <a:ext cx="43560" cy="1578600"/>
            </a:xfrm>
            <a:prstGeom prst="rect">
              <a:avLst/>
            </a:prstGeom>
            <a:solidFill>
              <a:srgbClr val="7a7a7a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43880" y="4147200"/>
              <a:ext cx="344880" cy="1578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43880" y="430920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043880" y="446112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43880" y="462312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43880" y="481392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43880" y="5017680"/>
              <a:ext cx="344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43880" y="5208480"/>
              <a:ext cx="344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43880" y="5561640"/>
              <a:ext cx="344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064760" y="4485960"/>
              <a:ext cx="301320" cy="108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150440" y="4514400"/>
              <a:ext cx="128880" cy="53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129200" y="4651920"/>
              <a:ext cx="150120" cy="106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76280" y="4705200"/>
              <a:ext cx="267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302000" y="4759200"/>
              <a:ext cx="54720" cy="280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214880" y="4813920"/>
              <a:ext cx="1440" cy="203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50440" y="515520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4269600" y="5073120"/>
              <a:ext cx="1440" cy="13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4334400" y="5073120"/>
              <a:ext cx="1080" cy="13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269600" y="5046120"/>
              <a:ext cx="87120" cy="532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227480" y="4840920"/>
              <a:ext cx="33480" cy="24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79680" y="4867920"/>
              <a:ext cx="5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279680" y="4935600"/>
              <a:ext cx="54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140360" y="4964040"/>
              <a:ext cx="138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34400" y="4964040"/>
              <a:ext cx="5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83120" y="4869360"/>
              <a:ext cx="83880" cy="9432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0" y="45"/>
                  </a:moveTo>
                  <a:lnTo>
                    <a:pt x="63" y="105"/>
                  </a:lnTo>
                  <a:lnTo>
                    <a:pt x="120" y="45"/>
                  </a:lnTo>
                  <a:lnTo>
                    <a:pt x="96" y="0"/>
                  </a:lnTo>
                  <a:lnTo>
                    <a:pt x="3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66200" y="4840920"/>
              <a:ext cx="116280" cy="123120"/>
            </a:xfrm>
            <a:custGeom>
              <a:avLst/>
              <a:gdLst/>
              <a:ahLst/>
              <a:rect l="l" t="t" r="r" b="b"/>
              <a:pathLst>
                <a:path w="166" h="138">
                  <a:moveTo>
                    <a:pt x="166" y="138"/>
                  </a:moveTo>
                  <a:lnTo>
                    <a:pt x="152" y="92"/>
                  </a:lnTo>
                  <a:lnTo>
                    <a:pt x="111" y="17"/>
                  </a:lnTo>
                  <a:lnTo>
                    <a:pt x="87" y="0"/>
                  </a:lnTo>
                  <a:lnTo>
                    <a:pt x="58" y="17"/>
                  </a:lnTo>
                  <a:lnTo>
                    <a:pt x="45" y="41"/>
                  </a:lnTo>
                  <a:lnTo>
                    <a:pt x="13" y="98"/>
                  </a:lnTo>
                  <a:lnTo>
                    <a:pt x="0" y="1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3120" y="5069160"/>
              <a:ext cx="73800" cy="83520"/>
            </a:xfrm>
            <a:custGeom>
              <a:avLst/>
              <a:gdLst/>
              <a:ahLst/>
              <a:rect l="l" t="t" r="r" b="b"/>
              <a:pathLst>
                <a:path w="106" h="94">
                  <a:moveTo>
                    <a:pt x="0" y="41"/>
                  </a:moveTo>
                  <a:lnTo>
                    <a:pt x="54" y="94"/>
                  </a:lnTo>
                  <a:lnTo>
                    <a:pt x="106" y="41"/>
                  </a:lnTo>
                  <a:lnTo>
                    <a:pt x="85" y="0"/>
                  </a:lnTo>
                  <a:lnTo>
                    <a:pt x="2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67640" y="5044320"/>
              <a:ext cx="103680" cy="10872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148" y="121"/>
                  </a:moveTo>
                  <a:lnTo>
                    <a:pt x="135" y="81"/>
                  </a:lnTo>
                  <a:lnTo>
                    <a:pt x="100" y="15"/>
                  </a:lnTo>
                  <a:lnTo>
                    <a:pt x="76" y="0"/>
                  </a:lnTo>
                  <a:lnTo>
                    <a:pt x="50" y="15"/>
                  </a:lnTo>
                  <a:lnTo>
                    <a:pt x="41" y="35"/>
                  </a:lnTo>
                  <a:lnTo>
                    <a:pt x="11" y="85"/>
                  </a:lnTo>
                  <a:lnTo>
                    <a:pt x="0" y="12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11880" y="488196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4536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366660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67740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369864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71016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373104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76308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377424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79548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381780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82896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384876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87144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389232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391320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611880" y="469116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364536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366660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367740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369864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71016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373104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76308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377424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379548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381780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382896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84876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387144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389232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391320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611880" y="450036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364536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66660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367740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69864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371016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373104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376308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377424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379548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81780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382896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384876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87144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389232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91320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11880" y="430920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364536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66660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67740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369864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371016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373104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376308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77424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79548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381780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82896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384876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87144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89232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391320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5486400" y="4114800"/>
            <a:ext cx="1676520" cy="1711080"/>
            <a:chOff x="5486400" y="4114800"/>
            <a:chExt cx="1676520" cy="1711080"/>
          </a:xfrm>
        </p:grpSpPr>
        <p:sp>
          <p:nvSpPr>
            <p:cNvPr id="1193" name=""/>
            <p:cNvSpPr/>
            <p:nvPr/>
          </p:nvSpPr>
          <p:spPr>
            <a:xfrm>
              <a:off x="7058880" y="5678280"/>
              <a:ext cx="4680" cy="756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11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062120" y="5646600"/>
              <a:ext cx="58320" cy="3960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6" y="0"/>
                  </a:moveTo>
                  <a:lnTo>
                    <a:pt x="126" y="0"/>
                  </a:lnTo>
                  <a:lnTo>
                    <a:pt x="124" y="8"/>
                  </a:lnTo>
                  <a:lnTo>
                    <a:pt x="121" y="16"/>
                  </a:lnTo>
                  <a:lnTo>
                    <a:pt x="117" y="23"/>
                  </a:lnTo>
                  <a:lnTo>
                    <a:pt x="113" y="30"/>
                  </a:lnTo>
                  <a:lnTo>
                    <a:pt x="106" y="36"/>
                  </a:lnTo>
                  <a:lnTo>
                    <a:pt x="100" y="42"/>
                  </a:lnTo>
                  <a:lnTo>
                    <a:pt x="92" y="46"/>
                  </a:lnTo>
                  <a:lnTo>
                    <a:pt x="84" y="51"/>
                  </a:lnTo>
                  <a:lnTo>
                    <a:pt x="74" y="55"/>
                  </a:lnTo>
                  <a:lnTo>
                    <a:pt x="65" y="59"/>
                  </a:lnTo>
                  <a:lnTo>
                    <a:pt x="54" y="63"/>
                  </a:lnTo>
                  <a:lnTo>
                    <a:pt x="45" y="66"/>
                  </a:lnTo>
                  <a:lnTo>
                    <a:pt x="34" y="69"/>
                  </a:lnTo>
                  <a:lnTo>
                    <a:pt x="23" y="71"/>
                  </a:lnTo>
                  <a:lnTo>
                    <a:pt x="13" y="74"/>
                  </a:lnTo>
                  <a:lnTo>
                    <a:pt x="0" y="77"/>
                  </a:lnTo>
                  <a:lnTo>
                    <a:pt x="5" y="94"/>
                  </a:lnTo>
                  <a:lnTo>
                    <a:pt x="15" y="91"/>
                  </a:lnTo>
                  <a:lnTo>
                    <a:pt x="27" y="89"/>
                  </a:lnTo>
                  <a:lnTo>
                    <a:pt x="38" y="86"/>
                  </a:lnTo>
                  <a:lnTo>
                    <a:pt x="49" y="83"/>
                  </a:lnTo>
                  <a:lnTo>
                    <a:pt x="61" y="81"/>
                  </a:lnTo>
                  <a:lnTo>
                    <a:pt x="71" y="77"/>
                  </a:lnTo>
                  <a:lnTo>
                    <a:pt x="82" y="73"/>
                  </a:lnTo>
                  <a:lnTo>
                    <a:pt x="92" y="67"/>
                  </a:lnTo>
                  <a:lnTo>
                    <a:pt x="101" y="62"/>
                  </a:lnTo>
                  <a:lnTo>
                    <a:pt x="110" y="55"/>
                  </a:lnTo>
                  <a:lnTo>
                    <a:pt x="118" y="48"/>
                  </a:lnTo>
                  <a:lnTo>
                    <a:pt x="125" y="42"/>
                  </a:lnTo>
                  <a:lnTo>
                    <a:pt x="133" y="34"/>
                  </a:lnTo>
                  <a:lnTo>
                    <a:pt x="137" y="24"/>
                  </a:lnTo>
                  <a:lnTo>
                    <a:pt x="141" y="15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113960" y="5581080"/>
              <a:ext cx="48600" cy="66960"/>
            </a:xfrm>
            <a:custGeom>
              <a:avLst/>
              <a:gdLst/>
              <a:ahLst/>
              <a:rect l="l" t="t" r="r" b="b"/>
              <a:pathLst>
                <a:path w="120" h="159">
                  <a:moveTo>
                    <a:pt x="102" y="0"/>
                  </a:moveTo>
                  <a:lnTo>
                    <a:pt x="102" y="0"/>
                  </a:lnTo>
                  <a:lnTo>
                    <a:pt x="100" y="11"/>
                  </a:lnTo>
                  <a:lnTo>
                    <a:pt x="97" y="20"/>
                  </a:lnTo>
                  <a:lnTo>
                    <a:pt x="93" y="29"/>
                  </a:lnTo>
                  <a:lnTo>
                    <a:pt x="86" y="37"/>
                  </a:lnTo>
                  <a:lnTo>
                    <a:pt x="79" y="47"/>
                  </a:lnTo>
                  <a:lnTo>
                    <a:pt x="73" y="55"/>
                  </a:lnTo>
                  <a:lnTo>
                    <a:pt x="65" y="63"/>
                  </a:lnTo>
                  <a:lnTo>
                    <a:pt x="55" y="72"/>
                  </a:lnTo>
                  <a:lnTo>
                    <a:pt x="47" y="80"/>
                  </a:lnTo>
                  <a:lnTo>
                    <a:pt x="39" y="90"/>
                  </a:lnTo>
                  <a:lnTo>
                    <a:pt x="30" y="99"/>
                  </a:lnTo>
                  <a:lnTo>
                    <a:pt x="22" y="108"/>
                  </a:lnTo>
                  <a:lnTo>
                    <a:pt x="15" y="119"/>
                  </a:lnTo>
                  <a:lnTo>
                    <a:pt x="8" y="130"/>
                  </a:lnTo>
                  <a:lnTo>
                    <a:pt x="3" y="142"/>
                  </a:lnTo>
                  <a:lnTo>
                    <a:pt x="0" y="155"/>
                  </a:lnTo>
                  <a:lnTo>
                    <a:pt x="18" y="159"/>
                  </a:lnTo>
                  <a:lnTo>
                    <a:pt x="21" y="149"/>
                  </a:lnTo>
                  <a:lnTo>
                    <a:pt x="25" y="138"/>
                  </a:lnTo>
                  <a:lnTo>
                    <a:pt x="30" y="128"/>
                  </a:lnTo>
                  <a:lnTo>
                    <a:pt x="37" y="119"/>
                  </a:lnTo>
                  <a:lnTo>
                    <a:pt x="43" y="110"/>
                  </a:lnTo>
                  <a:lnTo>
                    <a:pt x="51" y="102"/>
                  </a:lnTo>
                  <a:lnTo>
                    <a:pt x="61" y="94"/>
                  </a:lnTo>
                  <a:lnTo>
                    <a:pt x="69" y="84"/>
                  </a:lnTo>
                  <a:lnTo>
                    <a:pt x="77" y="76"/>
                  </a:lnTo>
                  <a:lnTo>
                    <a:pt x="85" y="67"/>
                  </a:lnTo>
                  <a:lnTo>
                    <a:pt x="94" y="57"/>
                  </a:lnTo>
                  <a:lnTo>
                    <a:pt x="102" y="48"/>
                  </a:lnTo>
                  <a:lnTo>
                    <a:pt x="108" y="39"/>
                  </a:lnTo>
                  <a:lnTo>
                    <a:pt x="113" y="27"/>
                  </a:lnTo>
                  <a:lnTo>
                    <a:pt x="117" y="16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130880" y="5545800"/>
              <a:ext cx="32040" cy="3600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0" y="19"/>
                  </a:moveTo>
                  <a:lnTo>
                    <a:pt x="0" y="19"/>
                  </a:lnTo>
                  <a:lnTo>
                    <a:pt x="10" y="23"/>
                  </a:lnTo>
                  <a:lnTo>
                    <a:pt x="22" y="29"/>
                  </a:lnTo>
                  <a:lnTo>
                    <a:pt x="33" y="37"/>
                  </a:lnTo>
                  <a:lnTo>
                    <a:pt x="44" y="46"/>
                  </a:lnTo>
                  <a:lnTo>
                    <a:pt x="51" y="55"/>
                  </a:lnTo>
                  <a:lnTo>
                    <a:pt x="57" y="65"/>
                  </a:lnTo>
                  <a:lnTo>
                    <a:pt x="61" y="75"/>
                  </a:lnTo>
                  <a:lnTo>
                    <a:pt x="61" y="85"/>
                  </a:lnTo>
                  <a:lnTo>
                    <a:pt x="79" y="87"/>
                  </a:lnTo>
                  <a:lnTo>
                    <a:pt x="79" y="73"/>
                  </a:lnTo>
                  <a:lnTo>
                    <a:pt x="73" y="58"/>
                  </a:lnTo>
                  <a:lnTo>
                    <a:pt x="67" y="45"/>
                  </a:lnTo>
                  <a:lnTo>
                    <a:pt x="56" y="33"/>
                  </a:lnTo>
                  <a:lnTo>
                    <a:pt x="44" y="22"/>
                  </a:lnTo>
                  <a:lnTo>
                    <a:pt x="32" y="14"/>
                  </a:lnTo>
                  <a:lnTo>
                    <a:pt x="17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014240" y="5536440"/>
              <a:ext cx="117720" cy="16560"/>
            </a:xfrm>
            <a:custGeom>
              <a:avLst/>
              <a:gdLst/>
              <a:ahLst/>
              <a:rect l="l" t="t" r="r" b="b"/>
              <a:pathLst>
                <a:path w="286" h="40">
                  <a:moveTo>
                    <a:pt x="2" y="21"/>
                  </a:moveTo>
                  <a:lnTo>
                    <a:pt x="18" y="21"/>
                  </a:lnTo>
                  <a:lnTo>
                    <a:pt x="35" y="20"/>
                  </a:lnTo>
                  <a:lnTo>
                    <a:pt x="53" y="20"/>
                  </a:lnTo>
                  <a:lnTo>
                    <a:pt x="70" y="20"/>
                  </a:lnTo>
                  <a:lnTo>
                    <a:pt x="87" y="19"/>
                  </a:lnTo>
                  <a:lnTo>
                    <a:pt x="105" y="19"/>
                  </a:lnTo>
                  <a:lnTo>
                    <a:pt x="124" y="19"/>
                  </a:lnTo>
                  <a:lnTo>
                    <a:pt x="142" y="20"/>
                  </a:lnTo>
                  <a:lnTo>
                    <a:pt x="158" y="20"/>
                  </a:lnTo>
                  <a:lnTo>
                    <a:pt x="177" y="21"/>
                  </a:lnTo>
                  <a:lnTo>
                    <a:pt x="195" y="24"/>
                  </a:lnTo>
                  <a:lnTo>
                    <a:pt x="212" y="25"/>
                  </a:lnTo>
                  <a:lnTo>
                    <a:pt x="229" y="28"/>
                  </a:lnTo>
                  <a:lnTo>
                    <a:pt x="248" y="31"/>
                  </a:lnTo>
                  <a:lnTo>
                    <a:pt x="264" y="36"/>
                  </a:lnTo>
                  <a:lnTo>
                    <a:pt x="282" y="40"/>
                  </a:lnTo>
                  <a:lnTo>
                    <a:pt x="286" y="21"/>
                  </a:lnTo>
                  <a:lnTo>
                    <a:pt x="270" y="17"/>
                  </a:lnTo>
                  <a:lnTo>
                    <a:pt x="251" y="13"/>
                  </a:lnTo>
                  <a:lnTo>
                    <a:pt x="232" y="11"/>
                  </a:lnTo>
                  <a:lnTo>
                    <a:pt x="215" y="8"/>
                  </a:lnTo>
                  <a:lnTo>
                    <a:pt x="196" y="7"/>
                  </a:lnTo>
                  <a:lnTo>
                    <a:pt x="178" y="4"/>
                  </a:lnTo>
                  <a:lnTo>
                    <a:pt x="160" y="3"/>
                  </a:lnTo>
                  <a:lnTo>
                    <a:pt x="142" y="3"/>
                  </a:lnTo>
                  <a:lnTo>
                    <a:pt x="124" y="1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70" y="1"/>
                  </a:lnTo>
                  <a:lnTo>
                    <a:pt x="53" y="1"/>
                  </a:lnTo>
                  <a:lnTo>
                    <a:pt x="34" y="3"/>
                  </a:lnTo>
                  <a:lnTo>
                    <a:pt x="18" y="4"/>
                  </a:lnTo>
                  <a:lnTo>
                    <a:pt x="0" y="4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27280" y="5545800"/>
              <a:ext cx="3960" cy="75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8" y="0"/>
                  </a:move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9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58880" y="5674320"/>
              <a:ext cx="4680" cy="75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6" y="0"/>
                  </a:move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1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062120" y="5642280"/>
              <a:ext cx="58320" cy="3960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6" y="0"/>
                  </a:moveTo>
                  <a:lnTo>
                    <a:pt x="126" y="0"/>
                  </a:lnTo>
                  <a:lnTo>
                    <a:pt x="124" y="8"/>
                  </a:lnTo>
                  <a:lnTo>
                    <a:pt x="121" y="16"/>
                  </a:lnTo>
                  <a:lnTo>
                    <a:pt x="117" y="23"/>
                  </a:lnTo>
                  <a:lnTo>
                    <a:pt x="113" y="29"/>
                  </a:lnTo>
                  <a:lnTo>
                    <a:pt x="106" y="36"/>
                  </a:lnTo>
                  <a:lnTo>
                    <a:pt x="100" y="41"/>
                  </a:lnTo>
                  <a:lnTo>
                    <a:pt x="92" y="45"/>
                  </a:lnTo>
                  <a:lnTo>
                    <a:pt x="84" y="51"/>
                  </a:lnTo>
                  <a:lnTo>
                    <a:pt x="74" y="55"/>
                  </a:lnTo>
                  <a:lnTo>
                    <a:pt x="65" y="59"/>
                  </a:lnTo>
                  <a:lnTo>
                    <a:pt x="54" y="63"/>
                  </a:lnTo>
                  <a:lnTo>
                    <a:pt x="45" y="66"/>
                  </a:lnTo>
                  <a:lnTo>
                    <a:pt x="34" y="68"/>
                  </a:lnTo>
                  <a:lnTo>
                    <a:pt x="23" y="71"/>
                  </a:lnTo>
                  <a:lnTo>
                    <a:pt x="13" y="74"/>
                  </a:lnTo>
                  <a:lnTo>
                    <a:pt x="0" y="76"/>
                  </a:lnTo>
                  <a:lnTo>
                    <a:pt x="5" y="94"/>
                  </a:lnTo>
                  <a:lnTo>
                    <a:pt x="15" y="91"/>
                  </a:lnTo>
                  <a:lnTo>
                    <a:pt x="27" y="88"/>
                  </a:lnTo>
                  <a:lnTo>
                    <a:pt x="38" y="86"/>
                  </a:lnTo>
                  <a:lnTo>
                    <a:pt x="49" y="83"/>
                  </a:lnTo>
                  <a:lnTo>
                    <a:pt x="61" y="80"/>
                  </a:lnTo>
                  <a:lnTo>
                    <a:pt x="71" y="76"/>
                  </a:lnTo>
                  <a:lnTo>
                    <a:pt x="82" y="72"/>
                  </a:lnTo>
                  <a:lnTo>
                    <a:pt x="92" y="67"/>
                  </a:lnTo>
                  <a:lnTo>
                    <a:pt x="101" y="61"/>
                  </a:lnTo>
                  <a:lnTo>
                    <a:pt x="110" y="55"/>
                  </a:lnTo>
                  <a:lnTo>
                    <a:pt x="118" y="48"/>
                  </a:lnTo>
                  <a:lnTo>
                    <a:pt x="125" y="41"/>
                  </a:lnTo>
                  <a:lnTo>
                    <a:pt x="133" y="33"/>
                  </a:lnTo>
                  <a:lnTo>
                    <a:pt x="137" y="24"/>
                  </a:lnTo>
                  <a:lnTo>
                    <a:pt x="141" y="15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13960" y="5576760"/>
              <a:ext cx="48600" cy="66960"/>
            </a:xfrm>
            <a:custGeom>
              <a:avLst/>
              <a:gdLst/>
              <a:ahLst/>
              <a:rect l="l" t="t" r="r" b="b"/>
              <a:pathLst>
                <a:path w="120" h="160">
                  <a:moveTo>
                    <a:pt x="102" y="0"/>
                  </a:moveTo>
                  <a:lnTo>
                    <a:pt x="102" y="0"/>
                  </a:lnTo>
                  <a:lnTo>
                    <a:pt x="100" y="11"/>
                  </a:lnTo>
                  <a:lnTo>
                    <a:pt x="97" y="21"/>
                  </a:lnTo>
                  <a:lnTo>
                    <a:pt x="93" y="30"/>
                  </a:lnTo>
                  <a:lnTo>
                    <a:pt x="86" y="38"/>
                  </a:lnTo>
                  <a:lnTo>
                    <a:pt x="79" y="47"/>
                  </a:lnTo>
                  <a:lnTo>
                    <a:pt x="73" y="55"/>
                  </a:lnTo>
                  <a:lnTo>
                    <a:pt x="65" y="63"/>
                  </a:lnTo>
                  <a:lnTo>
                    <a:pt x="55" y="73"/>
                  </a:lnTo>
                  <a:lnTo>
                    <a:pt x="47" y="81"/>
                  </a:lnTo>
                  <a:lnTo>
                    <a:pt x="39" y="90"/>
                  </a:lnTo>
                  <a:lnTo>
                    <a:pt x="30" y="100"/>
                  </a:lnTo>
                  <a:lnTo>
                    <a:pt x="22" y="109"/>
                  </a:lnTo>
                  <a:lnTo>
                    <a:pt x="15" y="120"/>
                  </a:lnTo>
                  <a:lnTo>
                    <a:pt x="8" y="130"/>
                  </a:lnTo>
                  <a:lnTo>
                    <a:pt x="3" y="142"/>
                  </a:lnTo>
                  <a:lnTo>
                    <a:pt x="0" y="156"/>
                  </a:lnTo>
                  <a:lnTo>
                    <a:pt x="18" y="160"/>
                  </a:lnTo>
                  <a:lnTo>
                    <a:pt x="21" y="149"/>
                  </a:lnTo>
                  <a:lnTo>
                    <a:pt x="25" y="138"/>
                  </a:lnTo>
                  <a:lnTo>
                    <a:pt x="30" y="129"/>
                  </a:lnTo>
                  <a:lnTo>
                    <a:pt x="37" y="120"/>
                  </a:lnTo>
                  <a:lnTo>
                    <a:pt x="43" y="110"/>
                  </a:lnTo>
                  <a:lnTo>
                    <a:pt x="51" y="102"/>
                  </a:lnTo>
                  <a:lnTo>
                    <a:pt x="61" y="94"/>
                  </a:lnTo>
                  <a:lnTo>
                    <a:pt x="69" y="85"/>
                  </a:lnTo>
                  <a:lnTo>
                    <a:pt x="77" y="77"/>
                  </a:lnTo>
                  <a:lnTo>
                    <a:pt x="85" y="67"/>
                  </a:lnTo>
                  <a:lnTo>
                    <a:pt x="94" y="59"/>
                  </a:lnTo>
                  <a:lnTo>
                    <a:pt x="102" y="49"/>
                  </a:lnTo>
                  <a:lnTo>
                    <a:pt x="108" y="39"/>
                  </a:lnTo>
                  <a:lnTo>
                    <a:pt x="113" y="27"/>
                  </a:lnTo>
                  <a:lnTo>
                    <a:pt x="117" y="16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30880" y="5542560"/>
              <a:ext cx="32040" cy="3564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0" y="18"/>
                  </a:moveTo>
                  <a:lnTo>
                    <a:pt x="0" y="18"/>
                  </a:lnTo>
                  <a:lnTo>
                    <a:pt x="10" y="22"/>
                  </a:lnTo>
                  <a:lnTo>
                    <a:pt x="22" y="27"/>
                  </a:lnTo>
                  <a:lnTo>
                    <a:pt x="33" y="35"/>
                  </a:lnTo>
                  <a:lnTo>
                    <a:pt x="44" y="45"/>
                  </a:lnTo>
                  <a:lnTo>
                    <a:pt x="51" y="54"/>
                  </a:lnTo>
                  <a:lnTo>
                    <a:pt x="57" y="63"/>
                  </a:lnTo>
                  <a:lnTo>
                    <a:pt x="61" y="74"/>
                  </a:lnTo>
                  <a:lnTo>
                    <a:pt x="61" y="83"/>
                  </a:lnTo>
                  <a:lnTo>
                    <a:pt x="79" y="86"/>
                  </a:lnTo>
                  <a:lnTo>
                    <a:pt x="79" y="71"/>
                  </a:lnTo>
                  <a:lnTo>
                    <a:pt x="73" y="57"/>
                  </a:lnTo>
                  <a:lnTo>
                    <a:pt x="67" y="43"/>
                  </a:lnTo>
                  <a:lnTo>
                    <a:pt x="56" y="31"/>
                  </a:lnTo>
                  <a:lnTo>
                    <a:pt x="44" y="20"/>
                  </a:lnTo>
                  <a:lnTo>
                    <a:pt x="32" y="12"/>
                  </a:lnTo>
                  <a:lnTo>
                    <a:pt x="17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014240" y="5532480"/>
              <a:ext cx="117720" cy="16560"/>
            </a:xfrm>
            <a:custGeom>
              <a:avLst/>
              <a:gdLst/>
              <a:ahLst/>
              <a:rect l="l" t="t" r="r" b="b"/>
              <a:pathLst>
                <a:path w="286" h="40">
                  <a:moveTo>
                    <a:pt x="2" y="21"/>
                  </a:moveTo>
                  <a:lnTo>
                    <a:pt x="18" y="21"/>
                  </a:lnTo>
                  <a:lnTo>
                    <a:pt x="35" y="20"/>
                  </a:lnTo>
                  <a:lnTo>
                    <a:pt x="53" y="20"/>
                  </a:lnTo>
                  <a:lnTo>
                    <a:pt x="70" y="20"/>
                  </a:lnTo>
                  <a:lnTo>
                    <a:pt x="87" y="18"/>
                  </a:lnTo>
                  <a:lnTo>
                    <a:pt x="105" y="18"/>
                  </a:lnTo>
                  <a:lnTo>
                    <a:pt x="124" y="18"/>
                  </a:lnTo>
                  <a:lnTo>
                    <a:pt x="142" y="20"/>
                  </a:lnTo>
                  <a:lnTo>
                    <a:pt x="158" y="20"/>
                  </a:lnTo>
                  <a:lnTo>
                    <a:pt x="177" y="22"/>
                  </a:lnTo>
                  <a:lnTo>
                    <a:pt x="195" y="24"/>
                  </a:lnTo>
                  <a:lnTo>
                    <a:pt x="212" y="25"/>
                  </a:lnTo>
                  <a:lnTo>
                    <a:pt x="229" y="28"/>
                  </a:lnTo>
                  <a:lnTo>
                    <a:pt x="248" y="30"/>
                  </a:lnTo>
                  <a:lnTo>
                    <a:pt x="264" y="36"/>
                  </a:lnTo>
                  <a:lnTo>
                    <a:pt x="282" y="40"/>
                  </a:lnTo>
                  <a:lnTo>
                    <a:pt x="286" y="22"/>
                  </a:lnTo>
                  <a:lnTo>
                    <a:pt x="270" y="17"/>
                  </a:lnTo>
                  <a:lnTo>
                    <a:pt x="251" y="13"/>
                  </a:lnTo>
                  <a:lnTo>
                    <a:pt x="232" y="10"/>
                  </a:lnTo>
                  <a:lnTo>
                    <a:pt x="215" y="8"/>
                  </a:lnTo>
                  <a:lnTo>
                    <a:pt x="196" y="6"/>
                  </a:lnTo>
                  <a:lnTo>
                    <a:pt x="178" y="4"/>
                  </a:lnTo>
                  <a:lnTo>
                    <a:pt x="160" y="2"/>
                  </a:lnTo>
                  <a:lnTo>
                    <a:pt x="142" y="2"/>
                  </a:lnTo>
                  <a:lnTo>
                    <a:pt x="124" y="1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70" y="1"/>
                  </a:lnTo>
                  <a:lnTo>
                    <a:pt x="53" y="1"/>
                  </a:lnTo>
                  <a:lnTo>
                    <a:pt x="34" y="2"/>
                  </a:lnTo>
                  <a:lnTo>
                    <a:pt x="18" y="4"/>
                  </a:lnTo>
                  <a:lnTo>
                    <a:pt x="0" y="4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27280" y="5542560"/>
              <a:ext cx="3960" cy="64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5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9" y="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61400" y="5673240"/>
              <a:ext cx="1440" cy="32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1" y="6"/>
                  </a:lnTo>
                  <a:lnTo>
                    <a:pt x="4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62120" y="5639760"/>
              <a:ext cx="56520" cy="3672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30" y="0"/>
                  </a:moveTo>
                  <a:lnTo>
                    <a:pt x="130" y="0"/>
                  </a:lnTo>
                  <a:lnTo>
                    <a:pt x="127" y="10"/>
                  </a:lnTo>
                  <a:lnTo>
                    <a:pt x="124" y="18"/>
                  </a:lnTo>
                  <a:lnTo>
                    <a:pt x="120" y="25"/>
                  </a:lnTo>
                  <a:lnTo>
                    <a:pt x="115" y="33"/>
                  </a:lnTo>
                  <a:lnTo>
                    <a:pt x="107" y="38"/>
                  </a:lnTo>
                  <a:lnTo>
                    <a:pt x="100" y="45"/>
                  </a:lnTo>
                  <a:lnTo>
                    <a:pt x="92" y="50"/>
                  </a:lnTo>
                  <a:lnTo>
                    <a:pt x="84" y="55"/>
                  </a:lnTo>
                  <a:lnTo>
                    <a:pt x="75" y="59"/>
                  </a:lnTo>
                  <a:lnTo>
                    <a:pt x="65" y="63"/>
                  </a:lnTo>
                  <a:lnTo>
                    <a:pt x="55" y="66"/>
                  </a:lnTo>
                  <a:lnTo>
                    <a:pt x="43" y="70"/>
                  </a:lnTo>
                  <a:lnTo>
                    <a:pt x="33" y="73"/>
                  </a:lnTo>
                  <a:lnTo>
                    <a:pt x="23" y="76"/>
                  </a:lnTo>
                  <a:lnTo>
                    <a:pt x="12" y="78"/>
                  </a:lnTo>
                  <a:lnTo>
                    <a:pt x="0" y="80"/>
                  </a:lnTo>
                  <a:lnTo>
                    <a:pt x="1" y="88"/>
                  </a:lnTo>
                  <a:lnTo>
                    <a:pt x="12" y="85"/>
                  </a:lnTo>
                  <a:lnTo>
                    <a:pt x="24" y="82"/>
                  </a:lnTo>
                  <a:lnTo>
                    <a:pt x="35" y="80"/>
                  </a:lnTo>
                  <a:lnTo>
                    <a:pt x="45" y="77"/>
                  </a:lnTo>
                  <a:lnTo>
                    <a:pt x="57" y="74"/>
                  </a:lnTo>
                  <a:lnTo>
                    <a:pt x="67" y="70"/>
                  </a:lnTo>
                  <a:lnTo>
                    <a:pt x="78" y="65"/>
                  </a:lnTo>
                  <a:lnTo>
                    <a:pt x="87" y="61"/>
                  </a:lnTo>
                  <a:lnTo>
                    <a:pt x="96" y="55"/>
                  </a:lnTo>
                  <a:lnTo>
                    <a:pt x="106" y="50"/>
                  </a:lnTo>
                  <a:lnTo>
                    <a:pt x="112" y="43"/>
                  </a:lnTo>
                  <a:lnTo>
                    <a:pt x="119" y="37"/>
                  </a:lnTo>
                  <a:lnTo>
                    <a:pt x="126" y="29"/>
                  </a:lnTo>
                  <a:lnTo>
                    <a:pt x="131" y="21"/>
                  </a:lnTo>
                  <a:lnTo>
                    <a:pt x="135" y="11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15760" y="5575320"/>
              <a:ext cx="45360" cy="65160"/>
            </a:xfrm>
            <a:custGeom>
              <a:avLst/>
              <a:gdLst/>
              <a:ahLst/>
              <a:rect l="l" t="t" r="r" b="b"/>
              <a:pathLst>
                <a:path w="108" h="157">
                  <a:moveTo>
                    <a:pt x="102" y="0"/>
                  </a:moveTo>
                  <a:lnTo>
                    <a:pt x="102" y="0"/>
                  </a:lnTo>
                  <a:lnTo>
                    <a:pt x="99" y="11"/>
                  </a:lnTo>
                  <a:lnTo>
                    <a:pt x="96" y="21"/>
                  </a:lnTo>
                  <a:lnTo>
                    <a:pt x="91" y="31"/>
                  </a:lnTo>
                  <a:lnTo>
                    <a:pt x="86" y="40"/>
                  </a:lnTo>
                  <a:lnTo>
                    <a:pt x="79" y="48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3" y="74"/>
                  </a:lnTo>
                  <a:lnTo>
                    <a:pt x="45" y="83"/>
                  </a:lnTo>
                  <a:lnTo>
                    <a:pt x="37" y="91"/>
                  </a:lnTo>
                  <a:lnTo>
                    <a:pt x="28" y="101"/>
                  </a:lnTo>
                  <a:lnTo>
                    <a:pt x="20" y="110"/>
                  </a:lnTo>
                  <a:lnTo>
                    <a:pt x="15" y="121"/>
                  </a:lnTo>
                  <a:lnTo>
                    <a:pt x="8" y="131"/>
                  </a:lnTo>
                  <a:lnTo>
                    <a:pt x="2" y="142"/>
                  </a:lnTo>
                  <a:lnTo>
                    <a:pt x="0" y="155"/>
                  </a:lnTo>
                  <a:lnTo>
                    <a:pt x="6" y="157"/>
                  </a:lnTo>
                  <a:lnTo>
                    <a:pt x="9" y="145"/>
                  </a:lnTo>
                  <a:lnTo>
                    <a:pt x="15" y="134"/>
                  </a:lnTo>
                  <a:lnTo>
                    <a:pt x="20" y="123"/>
                  </a:lnTo>
                  <a:lnTo>
                    <a:pt x="27" y="114"/>
                  </a:lnTo>
                  <a:lnTo>
                    <a:pt x="33" y="105"/>
                  </a:lnTo>
                  <a:lnTo>
                    <a:pt x="41" y="97"/>
                  </a:lnTo>
                  <a:lnTo>
                    <a:pt x="51" y="87"/>
                  </a:lnTo>
                  <a:lnTo>
                    <a:pt x="59" y="79"/>
                  </a:lnTo>
                  <a:lnTo>
                    <a:pt x="67" y="71"/>
                  </a:lnTo>
                  <a:lnTo>
                    <a:pt x="75" y="62"/>
                  </a:lnTo>
                  <a:lnTo>
                    <a:pt x="84" y="54"/>
                  </a:lnTo>
                  <a:lnTo>
                    <a:pt x="91" y="43"/>
                  </a:lnTo>
                  <a:lnTo>
                    <a:pt x="98" y="34"/>
                  </a:lnTo>
                  <a:lnTo>
                    <a:pt x="103" y="23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30880" y="5540760"/>
              <a:ext cx="30240" cy="3420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6"/>
                  </a:moveTo>
                  <a:lnTo>
                    <a:pt x="0" y="6"/>
                  </a:lnTo>
                  <a:lnTo>
                    <a:pt x="12" y="10"/>
                  </a:lnTo>
                  <a:lnTo>
                    <a:pt x="24" y="17"/>
                  </a:lnTo>
                  <a:lnTo>
                    <a:pt x="35" y="25"/>
                  </a:lnTo>
                  <a:lnTo>
                    <a:pt x="47" y="35"/>
                  </a:lnTo>
                  <a:lnTo>
                    <a:pt x="55" y="45"/>
                  </a:lnTo>
                  <a:lnTo>
                    <a:pt x="62" y="57"/>
                  </a:lnTo>
                  <a:lnTo>
                    <a:pt x="66" y="68"/>
                  </a:lnTo>
                  <a:lnTo>
                    <a:pt x="66" y="80"/>
                  </a:lnTo>
                  <a:lnTo>
                    <a:pt x="72" y="80"/>
                  </a:lnTo>
                  <a:lnTo>
                    <a:pt x="72" y="67"/>
                  </a:lnTo>
                  <a:lnTo>
                    <a:pt x="67" y="55"/>
                  </a:lnTo>
                  <a:lnTo>
                    <a:pt x="60" y="41"/>
                  </a:lnTo>
                  <a:lnTo>
                    <a:pt x="51" y="30"/>
                  </a:lnTo>
                  <a:lnTo>
                    <a:pt x="40" y="20"/>
                  </a:lnTo>
                  <a:lnTo>
                    <a:pt x="28" y="12"/>
                  </a:lnTo>
                  <a:lnTo>
                    <a:pt x="15" y="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014240" y="5532480"/>
              <a:ext cx="117000" cy="11520"/>
            </a:xfrm>
            <a:custGeom>
              <a:avLst/>
              <a:gdLst/>
              <a:ahLst/>
              <a:rect l="l" t="t" r="r" b="b"/>
              <a:pathLst>
                <a:path w="284" h="28">
                  <a:moveTo>
                    <a:pt x="0" y="11"/>
                  </a:moveTo>
                  <a:lnTo>
                    <a:pt x="18" y="10"/>
                  </a:lnTo>
                  <a:lnTo>
                    <a:pt x="35" y="10"/>
                  </a:lnTo>
                  <a:lnTo>
                    <a:pt x="53" y="8"/>
                  </a:lnTo>
                  <a:lnTo>
                    <a:pt x="70" y="8"/>
                  </a:lnTo>
                  <a:lnTo>
                    <a:pt x="87" y="8"/>
                  </a:lnTo>
                  <a:lnTo>
                    <a:pt x="105" y="8"/>
                  </a:lnTo>
                  <a:lnTo>
                    <a:pt x="124" y="8"/>
                  </a:lnTo>
                  <a:lnTo>
                    <a:pt x="142" y="10"/>
                  </a:lnTo>
                  <a:lnTo>
                    <a:pt x="160" y="10"/>
                  </a:lnTo>
                  <a:lnTo>
                    <a:pt x="177" y="11"/>
                  </a:lnTo>
                  <a:lnTo>
                    <a:pt x="195" y="14"/>
                  </a:lnTo>
                  <a:lnTo>
                    <a:pt x="213" y="15"/>
                  </a:lnTo>
                  <a:lnTo>
                    <a:pt x="231" y="18"/>
                  </a:lnTo>
                  <a:lnTo>
                    <a:pt x="248" y="20"/>
                  </a:lnTo>
                  <a:lnTo>
                    <a:pt x="266" y="24"/>
                  </a:lnTo>
                  <a:lnTo>
                    <a:pt x="283" y="28"/>
                  </a:lnTo>
                  <a:lnTo>
                    <a:pt x="284" y="22"/>
                  </a:lnTo>
                  <a:lnTo>
                    <a:pt x="267" y="18"/>
                  </a:lnTo>
                  <a:lnTo>
                    <a:pt x="249" y="14"/>
                  </a:lnTo>
                  <a:lnTo>
                    <a:pt x="232" y="11"/>
                  </a:lnTo>
                  <a:lnTo>
                    <a:pt x="215" y="8"/>
                  </a:lnTo>
                  <a:lnTo>
                    <a:pt x="196" y="6"/>
                  </a:lnTo>
                  <a:lnTo>
                    <a:pt x="178" y="4"/>
                  </a:lnTo>
                  <a:lnTo>
                    <a:pt x="160" y="3"/>
                  </a:lnTo>
                  <a:lnTo>
                    <a:pt x="142" y="2"/>
                  </a:lnTo>
                  <a:lnTo>
                    <a:pt x="124" y="2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70" y="2"/>
                  </a:lnTo>
                  <a:lnTo>
                    <a:pt x="53" y="2"/>
                  </a:lnTo>
                  <a:lnTo>
                    <a:pt x="35" y="2"/>
                  </a:lnTo>
                  <a:lnTo>
                    <a:pt x="18" y="3"/>
                  </a:lnTo>
                  <a:lnTo>
                    <a:pt x="0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9800" y="5540760"/>
              <a:ext cx="1440" cy="28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73520" y="5168520"/>
              <a:ext cx="1058040" cy="407160"/>
            </a:xfrm>
            <a:custGeom>
              <a:avLst/>
              <a:gdLst/>
              <a:ahLst/>
              <a:rect l="l" t="t" r="r" b="b"/>
              <a:pathLst>
                <a:path w="2566" h="969">
                  <a:moveTo>
                    <a:pt x="0" y="237"/>
                  </a:moveTo>
                  <a:lnTo>
                    <a:pt x="595" y="969"/>
                  </a:lnTo>
                  <a:lnTo>
                    <a:pt x="2566" y="730"/>
                  </a:lnTo>
                  <a:lnTo>
                    <a:pt x="1617" y="0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569560" y="4954680"/>
              <a:ext cx="1029960" cy="332280"/>
            </a:xfrm>
            <a:custGeom>
              <a:avLst/>
              <a:gdLst/>
              <a:ahLst/>
              <a:rect l="l" t="t" r="r" b="b"/>
              <a:pathLst>
                <a:path w="2497" h="793">
                  <a:moveTo>
                    <a:pt x="0" y="181"/>
                  </a:moveTo>
                  <a:lnTo>
                    <a:pt x="1717" y="0"/>
                  </a:lnTo>
                  <a:lnTo>
                    <a:pt x="2497" y="567"/>
                  </a:lnTo>
                  <a:lnTo>
                    <a:pt x="553" y="793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97800" y="5192280"/>
              <a:ext cx="834480" cy="123120"/>
            </a:xfrm>
            <a:custGeom>
              <a:avLst/>
              <a:gdLst/>
              <a:ahLst/>
              <a:rect l="l" t="t" r="r" b="b"/>
              <a:pathLst>
                <a:path w="2023" h="295">
                  <a:moveTo>
                    <a:pt x="0" y="226"/>
                  </a:moveTo>
                  <a:lnTo>
                    <a:pt x="1944" y="0"/>
                  </a:lnTo>
                  <a:lnTo>
                    <a:pt x="2023" y="63"/>
                  </a:lnTo>
                  <a:lnTo>
                    <a:pt x="51" y="29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800320" y="5194800"/>
              <a:ext cx="831960" cy="120600"/>
            </a:xfrm>
            <a:custGeom>
              <a:avLst/>
              <a:gdLst/>
              <a:ahLst/>
              <a:rect l="l" t="t" r="r" b="b"/>
              <a:pathLst>
                <a:path w="2016" h="288">
                  <a:moveTo>
                    <a:pt x="0" y="230"/>
                  </a:moveTo>
                  <a:lnTo>
                    <a:pt x="1949" y="0"/>
                  </a:lnTo>
                  <a:lnTo>
                    <a:pt x="2016" y="56"/>
                  </a:lnTo>
                  <a:lnTo>
                    <a:pt x="44" y="288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69560" y="5030280"/>
              <a:ext cx="249840" cy="536400"/>
            </a:xfrm>
            <a:custGeom>
              <a:avLst/>
              <a:gdLst/>
              <a:ahLst/>
              <a:rect l="l" t="t" r="r" b="b"/>
              <a:pathLst>
                <a:path w="604" h="1278">
                  <a:moveTo>
                    <a:pt x="604" y="681"/>
                  </a:moveTo>
                  <a:lnTo>
                    <a:pt x="604" y="1278"/>
                  </a:lnTo>
                  <a:lnTo>
                    <a:pt x="9" y="547"/>
                  </a:lnTo>
                  <a:lnTo>
                    <a:pt x="0" y="0"/>
                  </a:lnTo>
                  <a:lnTo>
                    <a:pt x="553" y="612"/>
                  </a:lnTo>
                  <a:lnTo>
                    <a:pt x="604" y="68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797800" y="5286960"/>
              <a:ext cx="2520" cy="76320"/>
            </a:xfrm>
            <a:custGeom>
              <a:avLst/>
              <a:gdLst/>
              <a:ahLst/>
              <a:rect l="l" t="t" r="r" b="b"/>
              <a:pathLst>
                <a:path w="7" h="183">
                  <a:moveTo>
                    <a:pt x="0" y="173"/>
                  </a:moveTo>
                  <a:lnTo>
                    <a:pt x="7" y="183"/>
                  </a:lnTo>
                  <a:lnTo>
                    <a:pt x="7" y="10"/>
                  </a:ln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819400" y="5218200"/>
              <a:ext cx="812880" cy="348480"/>
            </a:xfrm>
            <a:custGeom>
              <a:avLst/>
              <a:gdLst/>
              <a:ahLst/>
              <a:rect l="l" t="t" r="r" b="b"/>
              <a:pathLst>
                <a:path w="1972" h="829">
                  <a:moveTo>
                    <a:pt x="0" y="232"/>
                  </a:moveTo>
                  <a:lnTo>
                    <a:pt x="0" y="829"/>
                  </a:lnTo>
                  <a:lnTo>
                    <a:pt x="1971" y="591"/>
                  </a:lnTo>
                  <a:lnTo>
                    <a:pt x="1971" y="232"/>
                  </a:lnTo>
                  <a:lnTo>
                    <a:pt x="1949" y="205"/>
                  </a:lnTo>
                  <a:lnTo>
                    <a:pt x="1949" y="154"/>
                  </a:lnTo>
                  <a:lnTo>
                    <a:pt x="1972" y="154"/>
                  </a:lnTo>
                  <a:lnTo>
                    <a:pt x="1972" y="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19400" y="5315760"/>
              <a:ext cx="812160" cy="250920"/>
            </a:xfrm>
            <a:custGeom>
              <a:avLst/>
              <a:gdLst/>
              <a:ahLst/>
              <a:rect l="l" t="t" r="r" b="b"/>
              <a:pathLst>
                <a:path w="1971" h="597">
                  <a:moveTo>
                    <a:pt x="1971" y="0"/>
                  </a:moveTo>
                  <a:lnTo>
                    <a:pt x="1971" y="359"/>
                  </a:lnTo>
                  <a:lnTo>
                    <a:pt x="0" y="597"/>
                  </a:lnTo>
                  <a:lnTo>
                    <a:pt x="0" y="248"/>
                  </a:lnTo>
                  <a:lnTo>
                    <a:pt x="1971" y="0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19400" y="5304600"/>
              <a:ext cx="812160" cy="114840"/>
            </a:xfrm>
            <a:custGeom>
              <a:avLst/>
              <a:gdLst/>
              <a:ahLst/>
              <a:rect l="l" t="t" r="r" b="b"/>
              <a:pathLst>
                <a:path w="1971" h="275">
                  <a:moveTo>
                    <a:pt x="1971" y="27"/>
                  </a:moveTo>
                  <a:lnTo>
                    <a:pt x="0" y="275"/>
                  </a:lnTo>
                  <a:lnTo>
                    <a:pt x="0" y="245"/>
                  </a:lnTo>
                  <a:lnTo>
                    <a:pt x="1949" y="0"/>
                  </a:lnTo>
                  <a:lnTo>
                    <a:pt x="1971" y="2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19400" y="5218200"/>
              <a:ext cx="812880" cy="168840"/>
            </a:xfrm>
            <a:custGeom>
              <a:avLst/>
              <a:gdLst/>
              <a:ahLst/>
              <a:rect l="l" t="t" r="r" b="b"/>
              <a:pathLst>
                <a:path w="1972" h="402">
                  <a:moveTo>
                    <a:pt x="1972" y="154"/>
                  </a:moveTo>
                  <a:lnTo>
                    <a:pt x="1972" y="0"/>
                  </a:lnTo>
                  <a:lnTo>
                    <a:pt x="0" y="232"/>
                  </a:lnTo>
                  <a:lnTo>
                    <a:pt x="0" y="402"/>
                  </a:lnTo>
                  <a:lnTo>
                    <a:pt x="1972" y="154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19400" y="5387760"/>
              <a:ext cx="29520" cy="24840"/>
            </a:xfrm>
            <a:custGeom>
              <a:avLst/>
              <a:gdLst/>
              <a:ahLst/>
              <a:rect l="l" t="t" r="r" b="b"/>
              <a:pathLst>
                <a:path w="74" h="59">
                  <a:moveTo>
                    <a:pt x="0" y="10"/>
                  </a:moveTo>
                  <a:lnTo>
                    <a:pt x="74" y="0"/>
                  </a:lnTo>
                  <a:lnTo>
                    <a:pt x="74" y="48"/>
                  </a:lnTo>
                  <a:lnTo>
                    <a:pt x="0" y="5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87280" y="5287680"/>
              <a:ext cx="35280" cy="25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" y="12"/>
                  </a:moveTo>
                  <a:lnTo>
                    <a:pt x="85" y="0"/>
                  </a:lnTo>
                  <a:lnTo>
                    <a:pt x="85" y="51"/>
                  </a:lnTo>
                  <a:lnTo>
                    <a:pt x="0" y="6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35080" y="5295600"/>
              <a:ext cx="32040" cy="24840"/>
            </a:xfrm>
            <a:custGeom>
              <a:avLst/>
              <a:gdLst/>
              <a:ahLst/>
              <a:rect l="l" t="t" r="r" b="b"/>
              <a:pathLst>
                <a:path w="76" h="60">
                  <a:moveTo>
                    <a:pt x="0" y="11"/>
                  </a:moveTo>
                  <a:lnTo>
                    <a:pt x="76" y="0"/>
                  </a:lnTo>
                  <a:lnTo>
                    <a:pt x="76" y="50"/>
                  </a:lnTo>
                  <a:lnTo>
                    <a:pt x="0" y="6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83240" y="5302080"/>
              <a:ext cx="33840" cy="2520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2" y="11"/>
                  </a:moveTo>
                  <a:lnTo>
                    <a:pt x="82" y="0"/>
                  </a:lnTo>
                  <a:lnTo>
                    <a:pt x="82" y="50"/>
                  </a:lnTo>
                  <a:lnTo>
                    <a:pt x="0" y="6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431400" y="5308920"/>
              <a:ext cx="32760" cy="2484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0" y="11"/>
                  </a:moveTo>
                  <a:lnTo>
                    <a:pt x="80" y="0"/>
                  </a:lnTo>
                  <a:lnTo>
                    <a:pt x="80" y="50"/>
                  </a:lnTo>
                  <a:lnTo>
                    <a:pt x="0" y="6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77760" y="5315760"/>
              <a:ext cx="33480" cy="2484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1" y="11"/>
                  </a:moveTo>
                  <a:lnTo>
                    <a:pt x="80" y="0"/>
                  </a:lnTo>
                  <a:lnTo>
                    <a:pt x="80" y="51"/>
                  </a:lnTo>
                  <a:lnTo>
                    <a:pt x="0" y="62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327360" y="5322240"/>
              <a:ext cx="31680" cy="24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0" y="11"/>
                  </a:moveTo>
                  <a:lnTo>
                    <a:pt x="77" y="0"/>
                  </a:lnTo>
                  <a:lnTo>
                    <a:pt x="76" y="51"/>
                  </a:lnTo>
                  <a:lnTo>
                    <a:pt x="0" y="6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74440" y="5329080"/>
              <a:ext cx="32760" cy="2412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1" y="9"/>
                  </a:moveTo>
                  <a:lnTo>
                    <a:pt x="82" y="0"/>
                  </a:lnTo>
                  <a:lnTo>
                    <a:pt x="82" y="49"/>
                  </a:lnTo>
                  <a:lnTo>
                    <a:pt x="0" y="5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22600" y="5335920"/>
              <a:ext cx="32760" cy="24120"/>
            </a:xfrm>
            <a:custGeom>
              <a:avLst/>
              <a:gdLst/>
              <a:ahLst/>
              <a:rect l="l" t="t" r="r" b="b"/>
              <a:pathLst>
                <a:path w="80" h="59">
                  <a:moveTo>
                    <a:pt x="0" y="9"/>
                  </a:moveTo>
                  <a:lnTo>
                    <a:pt x="80" y="0"/>
                  </a:lnTo>
                  <a:lnTo>
                    <a:pt x="80" y="49"/>
                  </a:lnTo>
                  <a:lnTo>
                    <a:pt x="2" y="5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70760" y="5341680"/>
              <a:ext cx="32040" cy="2484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0" y="11"/>
                  </a:moveTo>
                  <a:lnTo>
                    <a:pt x="77" y="0"/>
                  </a:lnTo>
                  <a:lnTo>
                    <a:pt x="77" y="51"/>
                  </a:lnTo>
                  <a:lnTo>
                    <a:pt x="0" y="5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20360" y="5349240"/>
              <a:ext cx="32040" cy="2412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2" y="9"/>
                  </a:moveTo>
                  <a:lnTo>
                    <a:pt x="79" y="0"/>
                  </a:lnTo>
                  <a:lnTo>
                    <a:pt x="78" y="48"/>
                  </a:lnTo>
                  <a:lnTo>
                    <a:pt x="0" y="5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9240" y="5355000"/>
              <a:ext cx="32760" cy="2484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0" y="10"/>
                  </a:moveTo>
                  <a:lnTo>
                    <a:pt x="79" y="0"/>
                  </a:lnTo>
                  <a:lnTo>
                    <a:pt x="78" y="50"/>
                  </a:lnTo>
                  <a:lnTo>
                    <a:pt x="0" y="5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18120" y="5361840"/>
              <a:ext cx="32040" cy="24120"/>
            </a:xfrm>
            <a:custGeom>
              <a:avLst/>
              <a:gdLst/>
              <a:ahLst/>
              <a:rect l="l" t="t" r="r" b="b"/>
              <a:pathLst>
                <a:path w="77" h="57">
                  <a:moveTo>
                    <a:pt x="0" y="9"/>
                  </a:moveTo>
                  <a:lnTo>
                    <a:pt x="77" y="0"/>
                  </a:lnTo>
                  <a:lnTo>
                    <a:pt x="76" y="48"/>
                  </a:lnTo>
                  <a:lnTo>
                    <a:pt x="0" y="5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65560" y="5368680"/>
              <a:ext cx="33480" cy="24840"/>
            </a:xfrm>
            <a:custGeom>
              <a:avLst/>
              <a:gdLst/>
              <a:ahLst/>
              <a:rect l="l" t="t" r="r" b="b"/>
              <a:pathLst>
                <a:path w="82" h="59">
                  <a:moveTo>
                    <a:pt x="0" y="9"/>
                  </a:moveTo>
                  <a:lnTo>
                    <a:pt x="82" y="0"/>
                  </a:lnTo>
                  <a:lnTo>
                    <a:pt x="82" y="48"/>
                  </a:lnTo>
                  <a:lnTo>
                    <a:pt x="0" y="5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915880" y="5375160"/>
              <a:ext cx="31320" cy="2412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0" y="9"/>
                  </a:moveTo>
                  <a:lnTo>
                    <a:pt x="75" y="0"/>
                  </a:lnTo>
                  <a:lnTo>
                    <a:pt x="74" y="49"/>
                  </a:lnTo>
                  <a:lnTo>
                    <a:pt x="0" y="5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67280" y="5382000"/>
              <a:ext cx="30960" cy="2412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0" y="10"/>
                  </a:moveTo>
                  <a:lnTo>
                    <a:pt x="76" y="0"/>
                  </a:lnTo>
                  <a:lnTo>
                    <a:pt x="76" y="47"/>
                  </a:lnTo>
                  <a:lnTo>
                    <a:pt x="0" y="5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48640" y="5275080"/>
              <a:ext cx="252360" cy="91440"/>
            </a:xfrm>
            <a:custGeom>
              <a:avLst/>
              <a:gdLst/>
              <a:ahLst/>
              <a:rect l="l" t="t" r="r" b="b"/>
              <a:pathLst>
                <a:path w="612" h="217">
                  <a:moveTo>
                    <a:pt x="0" y="75"/>
                  </a:moveTo>
                  <a:lnTo>
                    <a:pt x="612" y="0"/>
                  </a:lnTo>
                  <a:lnTo>
                    <a:pt x="612" y="140"/>
                  </a:lnTo>
                  <a:lnTo>
                    <a:pt x="0" y="21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52240" y="5279400"/>
              <a:ext cx="244800" cy="83160"/>
            </a:xfrm>
            <a:custGeom>
              <a:avLst/>
              <a:gdLst/>
              <a:ahLst/>
              <a:rect l="l" t="t" r="r" b="b"/>
              <a:pathLst>
                <a:path w="595" h="197">
                  <a:moveTo>
                    <a:pt x="595" y="125"/>
                  </a:moveTo>
                  <a:lnTo>
                    <a:pt x="0" y="197"/>
                  </a:lnTo>
                  <a:lnTo>
                    <a:pt x="0" y="72"/>
                  </a:lnTo>
                  <a:lnTo>
                    <a:pt x="595" y="0"/>
                  </a:lnTo>
                  <a:lnTo>
                    <a:pt x="595" y="125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63760" y="5292000"/>
              <a:ext cx="221040" cy="41760"/>
            </a:xfrm>
            <a:custGeom>
              <a:avLst/>
              <a:gdLst/>
              <a:ahLst/>
              <a:rect l="l" t="t" r="r" b="b"/>
              <a:pathLst>
                <a:path w="536" h="101">
                  <a:moveTo>
                    <a:pt x="0" y="65"/>
                  </a:moveTo>
                  <a:lnTo>
                    <a:pt x="188" y="42"/>
                  </a:lnTo>
                  <a:lnTo>
                    <a:pt x="188" y="27"/>
                  </a:lnTo>
                  <a:lnTo>
                    <a:pt x="343" y="8"/>
                  </a:lnTo>
                  <a:lnTo>
                    <a:pt x="343" y="23"/>
                  </a:lnTo>
                  <a:lnTo>
                    <a:pt x="536" y="0"/>
                  </a:lnTo>
                  <a:lnTo>
                    <a:pt x="536" y="37"/>
                  </a:lnTo>
                  <a:lnTo>
                    <a:pt x="0" y="101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3760" y="5292000"/>
              <a:ext cx="221040" cy="52920"/>
            </a:xfrm>
            <a:custGeom>
              <a:avLst/>
              <a:gdLst/>
              <a:ahLst/>
              <a:rect l="l" t="t" r="r" b="b"/>
              <a:pathLst>
                <a:path w="536" h="125">
                  <a:moveTo>
                    <a:pt x="19" y="81"/>
                  </a:moveTo>
                  <a:lnTo>
                    <a:pt x="523" y="2"/>
                  </a:lnTo>
                  <a:lnTo>
                    <a:pt x="536" y="0"/>
                  </a:lnTo>
                  <a:lnTo>
                    <a:pt x="536" y="37"/>
                  </a:lnTo>
                  <a:lnTo>
                    <a:pt x="343" y="59"/>
                  </a:lnTo>
                  <a:lnTo>
                    <a:pt x="343" y="105"/>
                  </a:lnTo>
                  <a:lnTo>
                    <a:pt x="188" y="125"/>
                  </a:lnTo>
                  <a:lnTo>
                    <a:pt x="188" y="79"/>
                  </a:lnTo>
                  <a:lnTo>
                    <a:pt x="0" y="101"/>
                  </a:lnTo>
                  <a:lnTo>
                    <a:pt x="19" y="81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69520" y="5293080"/>
              <a:ext cx="209160" cy="34200"/>
            </a:xfrm>
            <a:custGeom>
              <a:avLst/>
              <a:gdLst/>
              <a:ahLst/>
              <a:rect l="l" t="t" r="r" b="b"/>
              <a:pathLst>
                <a:path w="508" h="83">
                  <a:moveTo>
                    <a:pt x="0" y="61"/>
                  </a:moveTo>
                  <a:lnTo>
                    <a:pt x="173" y="40"/>
                  </a:lnTo>
                  <a:lnTo>
                    <a:pt x="173" y="25"/>
                  </a:lnTo>
                  <a:lnTo>
                    <a:pt x="182" y="39"/>
                  </a:lnTo>
                  <a:lnTo>
                    <a:pt x="317" y="23"/>
                  </a:lnTo>
                  <a:lnTo>
                    <a:pt x="328" y="6"/>
                  </a:lnTo>
                  <a:lnTo>
                    <a:pt x="328" y="21"/>
                  </a:lnTo>
                  <a:lnTo>
                    <a:pt x="508" y="0"/>
                  </a:lnTo>
                  <a:lnTo>
                    <a:pt x="508" y="21"/>
                  </a:lnTo>
                  <a:lnTo>
                    <a:pt x="312" y="44"/>
                  </a:lnTo>
                  <a:lnTo>
                    <a:pt x="312" y="64"/>
                  </a:lnTo>
                  <a:lnTo>
                    <a:pt x="189" y="79"/>
                  </a:lnTo>
                  <a:lnTo>
                    <a:pt x="189" y="60"/>
                  </a:lnTo>
                  <a:lnTo>
                    <a:pt x="0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972040" y="5295600"/>
              <a:ext cx="204480" cy="30240"/>
            </a:xfrm>
            <a:custGeom>
              <a:avLst/>
              <a:gdLst/>
              <a:ahLst/>
              <a:rect l="l" t="t" r="r" b="b"/>
              <a:pathLst>
                <a:path w="496" h="74">
                  <a:moveTo>
                    <a:pt x="0" y="60"/>
                  </a:moveTo>
                  <a:lnTo>
                    <a:pt x="496" y="0"/>
                  </a:lnTo>
                  <a:lnTo>
                    <a:pt x="496" y="14"/>
                  </a:lnTo>
                  <a:lnTo>
                    <a:pt x="303" y="36"/>
                  </a:lnTo>
                  <a:lnTo>
                    <a:pt x="303" y="56"/>
                  </a:lnTo>
                  <a:lnTo>
                    <a:pt x="189" y="70"/>
                  </a:lnTo>
                  <a:lnTo>
                    <a:pt x="189" y="50"/>
                  </a:lnTo>
                  <a:lnTo>
                    <a:pt x="0" y="7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41160" y="5319000"/>
              <a:ext cx="63360" cy="25560"/>
            </a:xfrm>
            <a:custGeom>
              <a:avLst/>
              <a:gdLst/>
              <a:ahLst/>
              <a:rect l="l" t="t" r="r" b="b"/>
              <a:pathLst>
                <a:path w="154" h="60">
                  <a:moveTo>
                    <a:pt x="154" y="40"/>
                  </a:moveTo>
                  <a:lnTo>
                    <a:pt x="139" y="0"/>
                  </a:lnTo>
                  <a:lnTo>
                    <a:pt x="14" y="16"/>
                  </a:lnTo>
                  <a:lnTo>
                    <a:pt x="0" y="60"/>
                  </a:lnTo>
                  <a:lnTo>
                    <a:pt x="154" y="4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41160" y="5319000"/>
              <a:ext cx="6480" cy="2556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15"/>
                  </a:moveTo>
                  <a:lnTo>
                    <a:pt x="16" y="0"/>
                  </a:lnTo>
                  <a:lnTo>
                    <a:pt x="16" y="18"/>
                  </a:lnTo>
                  <a:lnTo>
                    <a:pt x="0" y="6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99040" y="5339160"/>
              <a:ext cx="21240" cy="100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9" y="4"/>
                  </a:moveTo>
                  <a:lnTo>
                    <a:pt x="41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1" y="5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1" y="12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1" y="19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31160" y="5317920"/>
              <a:ext cx="31320" cy="1512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62" y="30"/>
                  </a:moveTo>
                  <a:lnTo>
                    <a:pt x="15" y="36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5" y="5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3"/>
                  </a:lnTo>
                  <a:lnTo>
                    <a:pt x="75" y="7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5" y="20"/>
                  </a:lnTo>
                  <a:lnTo>
                    <a:pt x="72" y="24"/>
                  </a:lnTo>
                  <a:lnTo>
                    <a:pt x="67" y="28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01560" y="5340600"/>
              <a:ext cx="16200" cy="7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8" y="3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33680" y="5319720"/>
              <a:ext cx="26280" cy="1152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1" y="23"/>
                  </a:moveTo>
                  <a:lnTo>
                    <a:pt x="11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6" y="7"/>
                  </a:lnTo>
                  <a:lnTo>
                    <a:pt x="11" y="5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1" y="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59" y="19"/>
                  </a:lnTo>
                  <a:lnTo>
                    <a:pt x="55" y="22"/>
                  </a:lnTo>
                  <a:lnTo>
                    <a:pt x="51" y="23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34400" y="5322240"/>
              <a:ext cx="25200" cy="900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50" y="19"/>
                  </a:moveTo>
                  <a:lnTo>
                    <a:pt x="12" y="23"/>
                  </a:lnTo>
                  <a:lnTo>
                    <a:pt x="7" y="23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8"/>
                  </a:lnTo>
                  <a:lnTo>
                    <a:pt x="7" y="6"/>
                  </a:lnTo>
                  <a:lnTo>
                    <a:pt x="12" y="6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0" y="13"/>
                  </a:lnTo>
                  <a:lnTo>
                    <a:pt x="58" y="15"/>
                  </a:lnTo>
                  <a:lnTo>
                    <a:pt x="54" y="18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64760" y="5439960"/>
              <a:ext cx="83880" cy="56160"/>
            </a:xfrm>
            <a:custGeom>
              <a:avLst/>
              <a:gdLst/>
              <a:ahLst/>
              <a:rect l="l" t="t" r="r" b="b"/>
              <a:pathLst>
                <a:path w="205" h="136">
                  <a:moveTo>
                    <a:pt x="205" y="112"/>
                  </a:moveTo>
                  <a:lnTo>
                    <a:pt x="0" y="136"/>
                  </a:lnTo>
                  <a:lnTo>
                    <a:pt x="0" y="25"/>
                  </a:lnTo>
                  <a:lnTo>
                    <a:pt x="205" y="0"/>
                  </a:lnTo>
                  <a:lnTo>
                    <a:pt x="205" y="112"/>
                  </a:lnTo>
                  <a:close/>
                </a:path>
              </a:pathLst>
            </a:custGeom>
            <a:solidFill>
              <a:srgbClr val="c5cccc"/>
            </a:solidFill>
            <a:ln w="7920">
              <a:solidFill>
                <a:srgbClr val="46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90800" y="5109120"/>
              <a:ext cx="228240" cy="298800"/>
            </a:xfrm>
            <a:custGeom>
              <a:avLst/>
              <a:gdLst/>
              <a:ahLst/>
              <a:rect l="l" t="t" r="r" b="b"/>
              <a:pathLst>
                <a:path w="553" h="710">
                  <a:moveTo>
                    <a:pt x="553" y="662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553" y="710"/>
                  </a:lnTo>
                  <a:lnTo>
                    <a:pt x="553" y="662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88800" y="5378760"/>
              <a:ext cx="38520" cy="4104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38" y="8"/>
                  </a:moveTo>
                  <a:lnTo>
                    <a:pt x="35" y="6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3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6" y="35"/>
                  </a:lnTo>
                  <a:lnTo>
                    <a:pt x="55" y="92"/>
                  </a:lnTo>
                  <a:lnTo>
                    <a:pt x="58" y="93"/>
                  </a:lnTo>
                  <a:lnTo>
                    <a:pt x="61" y="96"/>
                  </a:lnTo>
                  <a:lnTo>
                    <a:pt x="63" y="97"/>
                  </a:lnTo>
                  <a:lnTo>
                    <a:pt x="66" y="98"/>
                  </a:lnTo>
                  <a:lnTo>
                    <a:pt x="70" y="100"/>
                  </a:lnTo>
                  <a:lnTo>
                    <a:pt x="73" y="100"/>
                  </a:lnTo>
                  <a:lnTo>
                    <a:pt x="76" y="100"/>
                  </a:lnTo>
                  <a:lnTo>
                    <a:pt x="78" y="98"/>
                  </a:lnTo>
                  <a:lnTo>
                    <a:pt x="93" y="85"/>
                  </a:lnTo>
                  <a:lnTo>
                    <a:pt x="96" y="81"/>
                  </a:lnTo>
                  <a:lnTo>
                    <a:pt x="96" y="74"/>
                  </a:lnTo>
                  <a:lnTo>
                    <a:pt x="94" y="67"/>
                  </a:lnTo>
                  <a:lnTo>
                    <a:pt x="92" y="6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2040" y="5380200"/>
              <a:ext cx="28800" cy="3024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20" y="6"/>
                  </a:moveTo>
                  <a:lnTo>
                    <a:pt x="17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7" y="67"/>
                  </a:lnTo>
                  <a:lnTo>
                    <a:pt x="51" y="70"/>
                  </a:lnTo>
                  <a:lnTo>
                    <a:pt x="53" y="71"/>
                  </a:lnTo>
                  <a:lnTo>
                    <a:pt x="57" y="73"/>
                  </a:lnTo>
                  <a:lnTo>
                    <a:pt x="60" y="71"/>
                  </a:lnTo>
                  <a:lnTo>
                    <a:pt x="68" y="65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68" y="51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90080" y="5052960"/>
              <a:ext cx="2160" cy="230040"/>
            </a:xfrm>
            <a:custGeom>
              <a:avLst/>
              <a:gdLst/>
              <a:ahLst/>
              <a:rect l="l" t="t" r="r" b="b"/>
              <a:pathLst>
                <a:path w="5" h="547">
                  <a:moveTo>
                    <a:pt x="5" y="547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547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91840" y="5399640"/>
              <a:ext cx="720" cy="15768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24400" y="5368680"/>
              <a:ext cx="720" cy="15768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610320" y="5319000"/>
              <a:ext cx="720" cy="15588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89320" y="5399640"/>
              <a:ext cx="720" cy="157680"/>
            </a:xfrm>
            <a:prstGeom prst="line">
              <a:avLst/>
            </a:prstGeom>
            <a:ln w="4680">
              <a:solidFill>
                <a:srgbClr val="c5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21880" y="5368680"/>
              <a:ext cx="720" cy="157680"/>
            </a:xfrm>
            <a:prstGeom prst="line">
              <a:avLst/>
            </a:prstGeom>
            <a:ln w="4680">
              <a:solidFill>
                <a:srgbClr val="c5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606720" y="5319000"/>
              <a:ext cx="720" cy="155880"/>
            </a:xfrm>
            <a:prstGeom prst="line">
              <a:avLst/>
            </a:prstGeom>
            <a:ln w="4680">
              <a:solidFill>
                <a:srgbClr val="c5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7400" y="5223960"/>
              <a:ext cx="64800" cy="63000"/>
            </a:xfrm>
            <a:custGeom>
              <a:avLst/>
              <a:gdLst/>
              <a:ahLst/>
              <a:rect l="l" t="t" r="r" b="b"/>
              <a:pathLst>
                <a:path w="157" h="150">
                  <a:moveTo>
                    <a:pt x="0" y="150"/>
                  </a:moveTo>
                  <a:lnTo>
                    <a:pt x="157" y="132"/>
                  </a:lnTo>
                  <a:lnTo>
                    <a:pt x="157" y="0"/>
                  </a:lnTo>
                  <a:lnTo>
                    <a:pt x="0" y="19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560640" y="5226480"/>
              <a:ext cx="58680" cy="56880"/>
            </a:xfrm>
            <a:custGeom>
              <a:avLst/>
              <a:gdLst/>
              <a:ahLst/>
              <a:rect l="l" t="t" r="r" b="b"/>
              <a:pathLst>
                <a:path w="142" h="135">
                  <a:moveTo>
                    <a:pt x="0" y="135"/>
                  </a:moveTo>
                  <a:lnTo>
                    <a:pt x="142" y="119"/>
                  </a:lnTo>
                  <a:lnTo>
                    <a:pt x="142" y="0"/>
                  </a:lnTo>
                  <a:lnTo>
                    <a:pt x="0" y="1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566400" y="5237640"/>
              <a:ext cx="9720" cy="48600"/>
            </a:xfrm>
            <a:custGeom>
              <a:avLst/>
              <a:gdLst/>
              <a:ahLst/>
              <a:rect l="l" t="t" r="r" b="b"/>
              <a:pathLst>
                <a:path w="24" h="116">
                  <a:moveTo>
                    <a:pt x="24" y="113"/>
                  </a:moveTo>
                  <a:lnTo>
                    <a:pt x="0" y="116"/>
                  </a:lnTo>
                  <a:lnTo>
                    <a:pt x="0" y="3"/>
                  </a:lnTo>
                  <a:lnTo>
                    <a:pt x="24" y="0"/>
                  </a:lnTo>
                  <a:lnTo>
                    <a:pt x="24" y="11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60640" y="5233320"/>
              <a:ext cx="15480" cy="576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12"/>
                  </a:moveTo>
                  <a:lnTo>
                    <a:pt x="25" y="0"/>
                  </a:lnTo>
                  <a:lnTo>
                    <a:pt x="0" y="2"/>
                  </a:lnTo>
                  <a:lnTo>
                    <a:pt x="15" y="14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60640" y="5234040"/>
              <a:ext cx="5760" cy="52920"/>
            </a:xfrm>
            <a:custGeom>
              <a:avLst/>
              <a:gdLst/>
              <a:ahLst/>
              <a:rect l="l" t="t" r="r" b="b"/>
              <a:pathLst>
                <a:path w="15" h="125">
                  <a:moveTo>
                    <a:pt x="0" y="0"/>
                  </a:moveTo>
                  <a:lnTo>
                    <a:pt x="15" y="12"/>
                  </a:lnTo>
                  <a:lnTo>
                    <a:pt x="15" y="125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14280" y="5231520"/>
              <a:ext cx="9720" cy="4752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24" y="112"/>
                  </a:moveTo>
                  <a:lnTo>
                    <a:pt x="0" y="115"/>
                  </a:lnTo>
                  <a:lnTo>
                    <a:pt x="0" y="2"/>
                  </a:lnTo>
                  <a:lnTo>
                    <a:pt x="2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08520" y="5226480"/>
              <a:ext cx="15480" cy="684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12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14" y="15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08520" y="5228280"/>
              <a:ext cx="5760" cy="51840"/>
            </a:xfrm>
            <a:custGeom>
              <a:avLst/>
              <a:gdLst/>
              <a:ahLst/>
              <a:rect l="l" t="t" r="r" b="b"/>
              <a:pathLst>
                <a:path w="14" h="124">
                  <a:moveTo>
                    <a:pt x="0" y="0"/>
                  </a:moveTo>
                  <a:lnTo>
                    <a:pt x="14" y="12"/>
                  </a:lnTo>
                  <a:lnTo>
                    <a:pt x="14" y="124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585760" y="5052960"/>
              <a:ext cx="17280" cy="39960"/>
            </a:xfrm>
            <a:custGeom>
              <a:avLst/>
              <a:gdLst/>
              <a:ahLst/>
              <a:rect l="l" t="t" r="r" b="b"/>
              <a:pathLst>
                <a:path w="41" h="95">
                  <a:moveTo>
                    <a:pt x="41" y="46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41" y="95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581800" y="5059440"/>
              <a:ext cx="13680" cy="27360"/>
            </a:xfrm>
            <a:custGeom>
              <a:avLst/>
              <a:gdLst/>
              <a:ahLst/>
              <a:rect l="l" t="t" r="r" b="b"/>
              <a:pathLst>
                <a:path w="35" h="67">
                  <a:moveTo>
                    <a:pt x="0" y="28"/>
                  </a:moveTo>
                  <a:lnTo>
                    <a:pt x="35" y="67"/>
                  </a:lnTo>
                  <a:lnTo>
                    <a:pt x="35" y="39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581800" y="5056920"/>
              <a:ext cx="19800" cy="183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6"/>
                  </a:moveTo>
                  <a:lnTo>
                    <a:pt x="12" y="0"/>
                  </a:lnTo>
                  <a:lnTo>
                    <a:pt x="49" y="37"/>
                  </a:lnTo>
                  <a:lnTo>
                    <a:pt x="34" y="4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595840" y="5072040"/>
              <a:ext cx="5760" cy="1656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0" y="36"/>
                  </a:moveTo>
                  <a:lnTo>
                    <a:pt x="15" y="40"/>
                  </a:lnTo>
                  <a:lnTo>
                    <a:pt x="15" y="0"/>
                  </a:lnTo>
                  <a:lnTo>
                    <a:pt x="0" y="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85040" y="5235840"/>
              <a:ext cx="16200" cy="3852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41" y="43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41" y="93"/>
                  </a:lnTo>
                  <a:lnTo>
                    <a:pt x="41" y="4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581800" y="5240880"/>
              <a:ext cx="12960" cy="2772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29"/>
                  </a:moveTo>
                  <a:lnTo>
                    <a:pt x="34" y="66"/>
                  </a:lnTo>
                  <a:lnTo>
                    <a:pt x="34" y="38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581800" y="5239080"/>
              <a:ext cx="18720" cy="17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6"/>
                  </a:moveTo>
                  <a:lnTo>
                    <a:pt x="13" y="0"/>
                  </a:lnTo>
                  <a:lnTo>
                    <a:pt x="47" y="35"/>
                  </a:lnTo>
                  <a:lnTo>
                    <a:pt x="34" y="4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95120" y="5254200"/>
              <a:ext cx="5760" cy="1584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0" y="35"/>
                  </a:moveTo>
                  <a:lnTo>
                    <a:pt x="13" y="39"/>
                  </a:lnTo>
                  <a:lnTo>
                    <a:pt x="13" y="0"/>
                  </a:lnTo>
                  <a:lnTo>
                    <a:pt x="0" y="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009840" y="5424840"/>
              <a:ext cx="37800" cy="4428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0" y="9"/>
                  </a:moveTo>
                  <a:lnTo>
                    <a:pt x="91" y="0"/>
                  </a:lnTo>
                  <a:lnTo>
                    <a:pt x="91" y="93"/>
                  </a:lnTo>
                  <a:lnTo>
                    <a:pt x="0" y="10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4680">
              <a:solidFill>
                <a:srgbClr val="2c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09840" y="5472720"/>
              <a:ext cx="37800" cy="4428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0" y="12"/>
                  </a:moveTo>
                  <a:lnTo>
                    <a:pt x="91" y="0"/>
                  </a:lnTo>
                  <a:lnTo>
                    <a:pt x="91" y="93"/>
                  </a:lnTo>
                  <a:lnTo>
                    <a:pt x="0" y="10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98080"/>
            </a:solidFill>
            <a:ln w="4680">
              <a:solidFill>
                <a:srgbClr val="2c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014880" y="5478480"/>
              <a:ext cx="27720" cy="3240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0" y="8"/>
                  </a:moveTo>
                  <a:lnTo>
                    <a:pt x="69" y="0"/>
                  </a:lnTo>
                  <a:lnTo>
                    <a:pt x="69" y="68"/>
                  </a:lnTo>
                  <a:lnTo>
                    <a:pt x="0" y="7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4680">
              <a:solidFill>
                <a:srgbClr val="2c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03400" y="5474160"/>
              <a:ext cx="1491840" cy="351720"/>
            </a:xfrm>
            <a:custGeom>
              <a:avLst/>
              <a:gdLst/>
              <a:ahLst/>
              <a:rect l="l" t="t" r="r" b="b"/>
              <a:pathLst>
                <a:path w="3619" h="837">
                  <a:moveTo>
                    <a:pt x="296" y="837"/>
                  </a:moveTo>
                  <a:lnTo>
                    <a:pt x="0" y="411"/>
                  </a:lnTo>
                  <a:lnTo>
                    <a:pt x="2984" y="0"/>
                  </a:lnTo>
                  <a:lnTo>
                    <a:pt x="3619" y="380"/>
                  </a:lnTo>
                  <a:lnTo>
                    <a:pt x="296" y="8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613120" y="5604480"/>
              <a:ext cx="95400" cy="172800"/>
            </a:xfrm>
            <a:custGeom>
              <a:avLst/>
              <a:gdLst/>
              <a:ahLst/>
              <a:rect l="l" t="t" r="r" b="b"/>
              <a:pathLst>
                <a:path w="230" h="411">
                  <a:moveTo>
                    <a:pt x="0" y="0"/>
                  </a:moveTo>
                  <a:lnTo>
                    <a:pt x="230" y="411"/>
                  </a:lnTo>
                  <a:lnTo>
                    <a:pt x="16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598360" y="5397120"/>
              <a:ext cx="1496880" cy="397080"/>
            </a:xfrm>
            <a:custGeom>
              <a:avLst/>
              <a:gdLst/>
              <a:ahLst/>
              <a:rect l="l" t="t" r="r" b="b"/>
              <a:pathLst>
                <a:path w="3629" h="945">
                  <a:moveTo>
                    <a:pt x="0" y="385"/>
                  </a:moveTo>
                  <a:lnTo>
                    <a:pt x="3097" y="0"/>
                  </a:lnTo>
                  <a:lnTo>
                    <a:pt x="3629" y="493"/>
                  </a:lnTo>
                  <a:lnTo>
                    <a:pt x="306" y="94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25080" y="5604480"/>
              <a:ext cx="1369800" cy="215640"/>
            </a:xfrm>
            <a:custGeom>
              <a:avLst/>
              <a:gdLst/>
              <a:ahLst/>
              <a:rect l="l" t="t" r="r" b="b"/>
              <a:pathLst>
                <a:path w="3323" h="513">
                  <a:moveTo>
                    <a:pt x="3323" y="0"/>
                  </a:moveTo>
                  <a:lnTo>
                    <a:pt x="3318" y="52"/>
                  </a:lnTo>
                  <a:lnTo>
                    <a:pt x="0" y="513"/>
                  </a:lnTo>
                  <a:lnTo>
                    <a:pt x="0" y="452"/>
                  </a:lnTo>
                  <a:lnTo>
                    <a:pt x="3323" y="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598360" y="5559120"/>
              <a:ext cx="126720" cy="261000"/>
            </a:xfrm>
            <a:custGeom>
              <a:avLst/>
              <a:gdLst/>
              <a:ahLst/>
              <a:rect l="l" t="t" r="r" b="b"/>
              <a:pathLst>
                <a:path w="306" h="621">
                  <a:moveTo>
                    <a:pt x="306" y="56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306" y="621"/>
                  </a:lnTo>
                  <a:lnTo>
                    <a:pt x="306" y="56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630400" y="5408640"/>
              <a:ext cx="1423440" cy="366120"/>
            </a:xfrm>
            <a:custGeom>
              <a:avLst/>
              <a:gdLst/>
              <a:ahLst/>
              <a:rect l="l" t="t" r="r" b="b"/>
              <a:pathLst>
                <a:path w="3451" h="872">
                  <a:moveTo>
                    <a:pt x="0" y="374"/>
                  </a:moveTo>
                  <a:lnTo>
                    <a:pt x="299" y="872"/>
                  </a:lnTo>
                  <a:lnTo>
                    <a:pt x="3451" y="442"/>
                  </a:lnTo>
                  <a:lnTo>
                    <a:pt x="2972" y="0"/>
                  </a:lnTo>
                  <a:lnTo>
                    <a:pt x="0" y="374"/>
                  </a:lnTo>
                  <a:lnTo>
                    <a:pt x="0" y="374"/>
                  </a:lnTo>
                </a:path>
              </a:pathLst>
            </a:custGeom>
            <a:noFill/>
            <a:ln w="11160">
              <a:solidFill>
                <a:srgbClr val="46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55680" y="5415480"/>
              <a:ext cx="225720" cy="53640"/>
            </a:xfrm>
            <a:custGeom>
              <a:avLst/>
              <a:gdLst/>
              <a:ahLst/>
              <a:rect l="l" t="t" r="r" b="b"/>
              <a:pathLst>
                <a:path w="548" h="128">
                  <a:moveTo>
                    <a:pt x="0" y="63"/>
                  </a:moveTo>
                  <a:lnTo>
                    <a:pt x="480" y="0"/>
                  </a:lnTo>
                  <a:lnTo>
                    <a:pt x="548" y="63"/>
                  </a:lnTo>
                  <a:lnTo>
                    <a:pt x="67" y="128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687000" y="5438160"/>
              <a:ext cx="329040" cy="171000"/>
            </a:xfrm>
            <a:custGeom>
              <a:avLst/>
              <a:gdLst/>
              <a:ahLst/>
              <a:rect l="l" t="t" r="r" b="b"/>
              <a:pathLst>
                <a:path w="798" h="409">
                  <a:moveTo>
                    <a:pt x="28" y="46"/>
                  </a:moveTo>
                  <a:lnTo>
                    <a:pt x="0" y="93"/>
                  </a:lnTo>
                  <a:lnTo>
                    <a:pt x="312" y="409"/>
                  </a:lnTo>
                  <a:lnTo>
                    <a:pt x="798" y="338"/>
                  </a:lnTo>
                  <a:lnTo>
                    <a:pt x="781" y="268"/>
                  </a:lnTo>
                  <a:lnTo>
                    <a:pt x="646" y="193"/>
                  </a:lnTo>
                  <a:lnTo>
                    <a:pt x="640" y="142"/>
                  </a:lnTo>
                  <a:lnTo>
                    <a:pt x="513" y="105"/>
                  </a:lnTo>
                  <a:lnTo>
                    <a:pt x="508" y="25"/>
                  </a:lnTo>
                  <a:lnTo>
                    <a:pt x="396" y="0"/>
                  </a:lnTo>
                  <a:lnTo>
                    <a:pt x="384" y="41"/>
                  </a:lnTo>
                  <a:lnTo>
                    <a:pt x="274" y="14"/>
                  </a:lnTo>
                  <a:lnTo>
                    <a:pt x="262" y="55"/>
                  </a:lnTo>
                  <a:lnTo>
                    <a:pt x="153" y="30"/>
                  </a:lnTo>
                  <a:lnTo>
                    <a:pt x="138" y="71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54520" y="5549760"/>
              <a:ext cx="67680" cy="5184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39" y="0"/>
                  </a:moveTo>
                  <a:lnTo>
                    <a:pt x="138" y="28"/>
                  </a:lnTo>
                  <a:lnTo>
                    <a:pt x="165" y="110"/>
                  </a:lnTo>
                  <a:lnTo>
                    <a:pt x="37" y="125"/>
                  </a:lnTo>
                  <a:lnTo>
                    <a:pt x="0" y="5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60400" y="5455080"/>
              <a:ext cx="218520" cy="65160"/>
            </a:xfrm>
            <a:custGeom>
              <a:avLst/>
              <a:gdLst/>
              <a:ahLst/>
              <a:rect l="l" t="t" r="r" b="b"/>
              <a:pathLst>
                <a:path w="530" h="156">
                  <a:moveTo>
                    <a:pt x="32" y="47"/>
                  </a:moveTo>
                  <a:lnTo>
                    <a:pt x="136" y="72"/>
                  </a:lnTo>
                  <a:lnTo>
                    <a:pt x="159" y="30"/>
                  </a:lnTo>
                  <a:lnTo>
                    <a:pt x="265" y="56"/>
                  </a:lnTo>
                  <a:lnTo>
                    <a:pt x="286" y="14"/>
                  </a:lnTo>
                  <a:lnTo>
                    <a:pt x="393" y="41"/>
                  </a:lnTo>
                  <a:lnTo>
                    <a:pt x="414" y="0"/>
                  </a:lnTo>
                  <a:lnTo>
                    <a:pt x="519" y="24"/>
                  </a:lnTo>
                  <a:lnTo>
                    <a:pt x="530" y="88"/>
                  </a:lnTo>
                  <a:lnTo>
                    <a:pt x="32" y="156"/>
                  </a:lnTo>
                  <a:lnTo>
                    <a:pt x="0" y="97"/>
                  </a:lnTo>
                  <a:lnTo>
                    <a:pt x="32" y="47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009840" y="5486040"/>
              <a:ext cx="228960" cy="67680"/>
            </a:xfrm>
            <a:custGeom>
              <a:avLst/>
              <a:gdLst/>
              <a:ahLst/>
              <a:rect l="l" t="t" r="r" b="b"/>
              <a:pathLst>
                <a:path w="556" h="164">
                  <a:moveTo>
                    <a:pt x="32" y="49"/>
                  </a:moveTo>
                  <a:lnTo>
                    <a:pt x="136" y="75"/>
                  </a:lnTo>
                  <a:lnTo>
                    <a:pt x="163" y="33"/>
                  </a:lnTo>
                  <a:lnTo>
                    <a:pt x="269" y="59"/>
                  </a:lnTo>
                  <a:lnTo>
                    <a:pt x="294" y="16"/>
                  </a:lnTo>
                  <a:lnTo>
                    <a:pt x="400" y="43"/>
                  </a:lnTo>
                  <a:lnTo>
                    <a:pt x="426" y="0"/>
                  </a:lnTo>
                  <a:lnTo>
                    <a:pt x="532" y="27"/>
                  </a:lnTo>
                  <a:lnTo>
                    <a:pt x="556" y="89"/>
                  </a:lnTo>
                  <a:lnTo>
                    <a:pt x="47" y="164"/>
                  </a:lnTo>
                  <a:lnTo>
                    <a:pt x="0" y="102"/>
                  </a:lnTo>
                  <a:lnTo>
                    <a:pt x="32" y="4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67200" y="5515560"/>
              <a:ext cx="234000" cy="68760"/>
            </a:xfrm>
            <a:custGeom>
              <a:avLst/>
              <a:gdLst/>
              <a:ahLst/>
              <a:rect l="l" t="t" r="r" b="b"/>
              <a:pathLst>
                <a:path w="568" h="165">
                  <a:moveTo>
                    <a:pt x="36" y="50"/>
                  </a:moveTo>
                  <a:lnTo>
                    <a:pt x="141" y="78"/>
                  </a:lnTo>
                  <a:lnTo>
                    <a:pt x="173" y="34"/>
                  </a:lnTo>
                  <a:lnTo>
                    <a:pt x="278" y="60"/>
                  </a:lnTo>
                  <a:lnTo>
                    <a:pt x="307" y="17"/>
                  </a:lnTo>
                  <a:lnTo>
                    <a:pt x="413" y="43"/>
                  </a:lnTo>
                  <a:lnTo>
                    <a:pt x="444" y="0"/>
                  </a:lnTo>
                  <a:lnTo>
                    <a:pt x="548" y="27"/>
                  </a:lnTo>
                  <a:lnTo>
                    <a:pt x="568" y="94"/>
                  </a:lnTo>
                  <a:lnTo>
                    <a:pt x="32" y="165"/>
                  </a:lnTo>
                  <a:lnTo>
                    <a:pt x="0" y="107"/>
                  </a:lnTo>
                  <a:lnTo>
                    <a:pt x="36" y="5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86480" y="5433120"/>
              <a:ext cx="163800" cy="55080"/>
            </a:xfrm>
            <a:custGeom>
              <a:avLst/>
              <a:gdLst/>
              <a:ahLst/>
              <a:rect l="l" t="t" r="r" b="b"/>
              <a:pathLst>
                <a:path w="398" h="131">
                  <a:moveTo>
                    <a:pt x="29" y="29"/>
                  </a:moveTo>
                  <a:lnTo>
                    <a:pt x="135" y="56"/>
                  </a:lnTo>
                  <a:lnTo>
                    <a:pt x="154" y="14"/>
                  </a:lnTo>
                  <a:lnTo>
                    <a:pt x="260" y="40"/>
                  </a:lnTo>
                  <a:lnTo>
                    <a:pt x="277" y="0"/>
                  </a:lnTo>
                  <a:lnTo>
                    <a:pt x="383" y="24"/>
                  </a:lnTo>
                  <a:lnTo>
                    <a:pt x="398" y="80"/>
                  </a:lnTo>
                  <a:lnTo>
                    <a:pt x="44" y="131"/>
                  </a:lnTo>
                  <a:lnTo>
                    <a:pt x="0" y="7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18880" y="5465880"/>
              <a:ext cx="195840" cy="85680"/>
            </a:xfrm>
            <a:custGeom>
              <a:avLst/>
              <a:gdLst/>
              <a:ahLst/>
              <a:rect l="l" t="t" r="r" b="b"/>
              <a:pathLst>
                <a:path w="477" h="205">
                  <a:moveTo>
                    <a:pt x="26" y="31"/>
                  </a:moveTo>
                  <a:lnTo>
                    <a:pt x="0" y="85"/>
                  </a:lnTo>
                  <a:lnTo>
                    <a:pt x="110" y="205"/>
                  </a:lnTo>
                  <a:lnTo>
                    <a:pt x="477" y="158"/>
                  </a:lnTo>
                  <a:lnTo>
                    <a:pt x="448" y="86"/>
                  </a:lnTo>
                  <a:lnTo>
                    <a:pt x="403" y="67"/>
                  </a:lnTo>
                  <a:lnTo>
                    <a:pt x="386" y="26"/>
                  </a:lnTo>
                  <a:lnTo>
                    <a:pt x="278" y="0"/>
                  </a:lnTo>
                  <a:lnTo>
                    <a:pt x="261" y="42"/>
                  </a:lnTo>
                  <a:lnTo>
                    <a:pt x="152" y="16"/>
                  </a:lnTo>
                  <a:lnTo>
                    <a:pt x="136" y="58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613560" y="5549040"/>
              <a:ext cx="177840" cy="87120"/>
            </a:xfrm>
            <a:custGeom>
              <a:avLst/>
              <a:gdLst/>
              <a:ahLst/>
              <a:rect l="l" t="t" r="r" b="b"/>
              <a:pathLst>
                <a:path w="431" h="206">
                  <a:moveTo>
                    <a:pt x="51" y="206"/>
                  </a:moveTo>
                  <a:lnTo>
                    <a:pt x="431" y="150"/>
                  </a:lnTo>
                  <a:lnTo>
                    <a:pt x="410" y="75"/>
                  </a:lnTo>
                  <a:lnTo>
                    <a:pt x="293" y="47"/>
                  </a:lnTo>
                  <a:lnTo>
                    <a:pt x="280" y="92"/>
                  </a:lnTo>
                  <a:lnTo>
                    <a:pt x="226" y="68"/>
                  </a:lnTo>
                  <a:lnTo>
                    <a:pt x="213" y="28"/>
                  </a:lnTo>
                  <a:lnTo>
                    <a:pt x="103" y="0"/>
                  </a:lnTo>
                  <a:lnTo>
                    <a:pt x="83" y="57"/>
                  </a:lnTo>
                  <a:lnTo>
                    <a:pt x="117" y="94"/>
                  </a:lnTo>
                  <a:lnTo>
                    <a:pt x="33" y="81"/>
                  </a:lnTo>
                  <a:lnTo>
                    <a:pt x="0" y="144"/>
                  </a:lnTo>
                  <a:lnTo>
                    <a:pt x="51" y="20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676480" y="5493600"/>
              <a:ext cx="939240" cy="266760"/>
            </a:xfrm>
            <a:custGeom>
              <a:avLst/>
              <a:gdLst/>
              <a:ahLst/>
              <a:rect l="l" t="t" r="r" b="b"/>
              <a:pathLst>
                <a:path w="2277" h="637">
                  <a:moveTo>
                    <a:pt x="0" y="298"/>
                  </a:moveTo>
                  <a:lnTo>
                    <a:pt x="202" y="637"/>
                  </a:lnTo>
                  <a:lnTo>
                    <a:pt x="419" y="604"/>
                  </a:lnTo>
                  <a:lnTo>
                    <a:pt x="391" y="513"/>
                  </a:lnTo>
                  <a:lnTo>
                    <a:pt x="455" y="505"/>
                  </a:lnTo>
                  <a:lnTo>
                    <a:pt x="517" y="590"/>
                  </a:lnTo>
                  <a:lnTo>
                    <a:pt x="2038" y="387"/>
                  </a:lnTo>
                  <a:lnTo>
                    <a:pt x="2003" y="298"/>
                  </a:lnTo>
                  <a:lnTo>
                    <a:pt x="2047" y="312"/>
                  </a:lnTo>
                  <a:lnTo>
                    <a:pt x="2103" y="378"/>
                  </a:lnTo>
                  <a:lnTo>
                    <a:pt x="2277" y="350"/>
                  </a:lnTo>
                  <a:lnTo>
                    <a:pt x="2251" y="265"/>
                  </a:lnTo>
                  <a:lnTo>
                    <a:pt x="2197" y="252"/>
                  </a:lnTo>
                  <a:lnTo>
                    <a:pt x="2189" y="198"/>
                  </a:lnTo>
                  <a:lnTo>
                    <a:pt x="2134" y="186"/>
                  </a:lnTo>
                  <a:lnTo>
                    <a:pt x="2125" y="131"/>
                  </a:lnTo>
                  <a:lnTo>
                    <a:pt x="2017" y="67"/>
                  </a:lnTo>
                  <a:lnTo>
                    <a:pt x="2011" y="11"/>
                  </a:lnTo>
                  <a:lnTo>
                    <a:pt x="1772" y="0"/>
                  </a:lnTo>
                  <a:lnTo>
                    <a:pt x="1751" y="44"/>
                  </a:lnTo>
                  <a:lnTo>
                    <a:pt x="1642" y="16"/>
                  </a:lnTo>
                  <a:lnTo>
                    <a:pt x="1622" y="60"/>
                  </a:lnTo>
                  <a:lnTo>
                    <a:pt x="1514" y="34"/>
                  </a:lnTo>
                  <a:lnTo>
                    <a:pt x="1490" y="76"/>
                  </a:lnTo>
                  <a:lnTo>
                    <a:pt x="1382" y="50"/>
                  </a:lnTo>
                  <a:lnTo>
                    <a:pt x="1360" y="93"/>
                  </a:lnTo>
                  <a:lnTo>
                    <a:pt x="1251" y="67"/>
                  </a:lnTo>
                  <a:lnTo>
                    <a:pt x="1227" y="110"/>
                  </a:lnTo>
                  <a:lnTo>
                    <a:pt x="1120" y="83"/>
                  </a:lnTo>
                  <a:lnTo>
                    <a:pt x="1094" y="126"/>
                  </a:lnTo>
                  <a:lnTo>
                    <a:pt x="986" y="99"/>
                  </a:lnTo>
                  <a:lnTo>
                    <a:pt x="960" y="143"/>
                  </a:lnTo>
                  <a:lnTo>
                    <a:pt x="853" y="117"/>
                  </a:lnTo>
                  <a:lnTo>
                    <a:pt x="825" y="161"/>
                  </a:lnTo>
                  <a:lnTo>
                    <a:pt x="718" y="133"/>
                  </a:lnTo>
                  <a:lnTo>
                    <a:pt x="690" y="178"/>
                  </a:lnTo>
                  <a:lnTo>
                    <a:pt x="581" y="150"/>
                  </a:lnTo>
                  <a:lnTo>
                    <a:pt x="552" y="196"/>
                  </a:lnTo>
                  <a:lnTo>
                    <a:pt x="445" y="168"/>
                  </a:lnTo>
                  <a:lnTo>
                    <a:pt x="414" y="213"/>
                  </a:lnTo>
                  <a:lnTo>
                    <a:pt x="307" y="184"/>
                  </a:lnTo>
                  <a:lnTo>
                    <a:pt x="276" y="229"/>
                  </a:lnTo>
                  <a:lnTo>
                    <a:pt x="169" y="202"/>
                  </a:lnTo>
                  <a:lnTo>
                    <a:pt x="135" y="248"/>
                  </a:lnTo>
                  <a:lnTo>
                    <a:pt x="29" y="219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34880" y="5565240"/>
              <a:ext cx="47520" cy="1980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10"/>
                  </a:moveTo>
                  <a:lnTo>
                    <a:pt x="77" y="0"/>
                  </a:lnTo>
                  <a:lnTo>
                    <a:pt x="117" y="38"/>
                  </a:lnTo>
                  <a:lnTo>
                    <a:pt x="39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27600" y="5579280"/>
              <a:ext cx="47520" cy="19800"/>
            </a:xfrm>
            <a:custGeom>
              <a:avLst/>
              <a:gdLst/>
              <a:ahLst/>
              <a:rect l="l" t="t" r="r" b="b"/>
              <a:pathLst>
                <a:path w="116" h="48">
                  <a:moveTo>
                    <a:pt x="0" y="10"/>
                  </a:moveTo>
                  <a:lnTo>
                    <a:pt x="78" y="0"/>
                  </a:lnTo>
                  <a:lnTo>
                    <a:pt x="116" y="39"/>
                  </a:lnTo>
                  <a:lnTo>
                    <a:pt x="38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960" y="5571720"/>
              <a:ext cx="46800" cy="201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11"/>
                  </a:moveTo>
                  <a:lnTo>
                    <a:pt x="76" y="0"/>
                  </a:lnTo>
                  <a:lnTo>
                    <a:pt x="115" y="39"/>
                  </a:lnTo>
                  <a:lnTo>
                    <a:pt x="39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56400" y="5545800"/>
              <a:ext cx="45360" cy="190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10"/>
                  </a:moveTo>
                  <a:lnTo>
                    <a:pt x="74" y="0"/>
                  </a:lnTo>
                  <a:lnTo>
                    <a:pt x="110" y="38"/>
                  </a:lnTo>
                  <a:lnTo>
                    <a:pt x="36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908760" y="5541480"/>
              <a:ext cx="47520" cy="1908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0" y="9"/>
                  </a:moveTo>
                  <a:lnTo>
                    <a:pt x="74" y="0"/>
                  </a:lnTo>
                  <a:lnTo>
                    <a:pt x="116" y="38"/>
                  </a:lnTo>
                  <a:lnTo>
                    <a:pt x="42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6920" y="5548320"/>
              <a:ext cx="47520" cy="20160"/>
            </a:xfrm>
            <a:custGeom>
              <a:avLst/>
              <a:gdLst/>
              <a:ahLst/>
              <a:rect l="l" t="t" r="r" b="b"/>
              <a:pathLst>
                <a:path w="117" h="48">
                  <a:moveTo>
                    <a:pt x="0" y="11"/>
                  </a:moveTo>
                  <a:lnTo>
                    <a:pt x="75" y="0"/>
                  </a:lnTo>
                  <a:lnTo>
                    <a:pt x="117" y="38"/>
                  </a:lnTo>
                  <a:lnTo>
                    <a:pt x="42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04000" y="5555880"/>
              <a:ext cx="47520" cy="20160"/>
            </a:xfrm>
            <a:custGeom>
              <a:avLst/>
              <a:gdLst/>
              <a:ahLst/>
              <a:rect l="l" t="t" r="r" b="b"/>
              <a:pathLst>
                <a:path w="115" h="48">
                  <a:moveTo>
                    <a:pt x="0" y="9"/>
                  </a:moveTo>
                  <a:lnTo>
                    <a:pt x="74" y="0"/>
                  </a:lnTo>
                  <a:lnTo>
                    <a:pt x="115" y="37"/>
                  </a:lnTo>
                  <a:lnTo>
                    <a:pt x="39" y="4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81760" y="5515560"/>
              <a:ext cx="45000" cy="190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9"/>
                  </a:moveTo>
                  <a:lnTo>
                    <a:pt x="73" y="0"/>
                  </a:lnTo>
                  <a:lnTo>
                    <a:pt x="112" y="36"/>
                  </a:lnTo>
                  <a:lnTo>
                    <a:pt x="39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829560" y="5522400"/>
              <a:ext cx="46080" cy="2016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10"/>
                  </a:moveTo>
                  <a:lnTo>
                    <a:pt x="74" y="0"/>
                  </a:lnTo>
                  <a:lnTo>
                    <a:pt x="113" y="37"/>
                  </a:lnTo>
                  <a:lnTo>
                    <a:pt x="38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77000" y="5528880"/>
              <a:ext cx="46080" cy="2016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0" y="9"/>
                  </a:moveTo>
                  <a:lnTo>
                    <a:pt x="75" y="0"/>
                  </a:lnTo>
                  <a:lnTo>
                    <a:pt x="113" y="37"/>
                  </a:lnTo>
                  <a:lnTo>
                    <a:pt x="38" y="4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53680" y="5489640"/>
              <a:ext cx="45000" cy="1836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0" y="11"/>
                  </a:moveTo>
                  <a:lnTo>
                    <a:pt x="72" y="0"/>
                  </a:lnTo>
                  <a:lnTo>
                    <a:pt x="111" y="37"/>
                  </a:lnTo>
                  <a:lnTo>
                    <a:pt x="39" y="4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801480" y="5496120"/>
              <a:ext cx="46800" cy="1908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0" y="10"/>
                  </a:moveTo>
                  <a:lnTo>
                    <a:pt x="76" y="0"/>
                  </a:lnTo>
                  <a:lnTo>
                    <a:pt x="113" y="37"/>
                  </a:lnTo>
                  <a:lnTo>
                    <a:pt x="38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49640" y="5502960"/>
              <a:ext cx="46800" cy="190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9"/>
                  </a:moveTo>
                  <a:lnTo>
                    <a:pt x="75" y="0"/>
                  </a:lnTo>
                  <a:lnTo>
                    <a:pt x="112" y="35"/>
                  </a:lnTo>
                  <a:lnTo>
                    <a:pt x="37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826320" y="5465160"/>
              <a:ext cx="45360" cy="1728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0" y="8"/>
                  </a:moveTo>
                  <a:lnTo>
                    <a:pt x="71" y="0"/>
                  </a:lnTo>
                  <a:lnTo>
                    <a:pt x="110" y="33"/>
                  </a:lnTo>
                  <a:lnTo>
                    <a:pt x="37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75920" y="5470920"/>
              <a:ext cx="45360" cy="1836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0" y="11"/>
                  </a:moveTo>
                  <a:lnTo>
                    <a:pt x="72" y="0"/>
                  </a:lnTo>
                  <a:lnTo>
                    <a:pt x="111" y="36"/>
                  </a:lnTo>
                  <a:lnTo>
                    <a:pt x="36" y="4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24080" y="5477760"/>
              <a:ext cx="45000" cy="18360"/>
            </a:xfrm>
            <a:custGeom>
              <a:avLst/>
              <a:gdLst/>
              <a:ahLst/>
              <a:rect l="l" t="t" r="r" b="b"/>
              <a:pathLst>
                <a:path w="110" h="44">
                  <a:moveTo>
                    <a:pt x="0" y="9"/>
                  </a:moveTo>
                  <a:lnTo>
                    <a:pt x="72" y="0"/>
                  </a:lnTo>
                  <a:lnTo>
                    <a:pt x="110" y="34"/>
                  </a:lnTo>
                  <a:lnTo>
                    <a:pt x="36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932520" y="5508720"/>
              <a:ext cx="75600" cy="45000"/>
            </a:xfrm>
            <a:custGeom>
              <a:avLst/>
              <a:gdLst/>
              <a:ahLst/>
              <a:rect l="l" t="t" r="r" b="b"/>
              <a:pathLst>
                <a:path w="185" h="109">
                  <a:moveTo>
                    <a:pt x="0" y="10"/>
                  </a:moveTo>
                  <a:lnTo>
                    <a:pt x="74" y="0"/>
                  </a:lnTo>
                  <a:lnTo>
                    <a:pt x="129" y="50"/>
                  </a:lnTo>
                  <a:lnTo>
                    <a:pt x="185" y="99"/>
                  </a:lnTo>
                  <a:lnTo>
                    <a:pt x="110" y="109"/>
                  </a:lnTo>
                  <a:lnTo>
                    <a:pt x="55" y="5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76720" y="5458320"/>
              <a:ext cx="74160" cy="42480"/>
            </a:xfrm>
            <a:custGeom>
              <a:avLst/>
              <a:gdLst/>
              <a:ahLst/>
              <a:rect l="l" t="t" r="r" b="b"/>
              <a:pathLst>
                <a:path w="179" h="103">
                  <a:moveTo>
                    <a:pt x="0" y="8"/>
                  </a:moveTo>
                  <a:lnTo>
                    <a:pt x="72" y="0"/>
                  </a:lnTo>
                  <a:lnTo>
                    <a:pt x="126" y="47"/>
                  </a:lnTo>
                  <a:lnTo>
                    <a:pt x="179" y="93"/>
                  </a:lnTo>
                  <a:lnTo>
                    <a:pt x="106" y="103"/>
                  </a:lnTo>
                  <a:lnTo>
                    <a:pt x="52" y="5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50080" y="5434200"/>
              <a:ext cx="46080" cy="17280"/>
            </a:xfrm>
            <a:custGeom>
              <a:avLst/>
              <a:gdLst/>
              <a:ahLst/>
              <a:rect l="l" t="t" r="r" b="b"/>
              <a:pathLst>
                <a:path w="112" h="43">
                  <a:moveTo>
                    <a:pt x="0" y="9"/>
                  </a:moveTo>
                  <a:lnTo>
                    <a:pt x="73" y="0"/>
                  </a:lnTo>
                  <a:lnTo>
                    <a:pt x="112" y="34"/>
                  </a:lnTo>
                  <a:lnTo>
                    <a:pt x="38" y="4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00040" y="5439960"/>
              <a:ext cx="45360" cy="1836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0" y="8"/>
                  </a:moveTo>
                  <a:lnTo>
                    <a:pt x="71" y="0"/>
                  </a:lnTo>
                  <a:lnTo>
                    <a:pt x="110" y="35"/>
                  </a:lnTo>
                  <a:lnTo>
                    <a:pt x="39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749640" y="5446800"/>
              <a:ext cx="45360" cy="1836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9"/>
                  </a:moveTo>
                  <a:lnTo>
                    <a:pt x="72" y="0"/>
                  </a:lnTo>
                  <a:lnTo>
                    <a:pt x="109" y="34"/>
                  </a:lnTo>
                  <a:lnTo>
                    <a:pt x="36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8520" y="5453280"/>
              <a:ext cx="45000" cy="18360"/>
            </a:xfrm>
            <a:custGeom>
              <a:avLst/>
              <a:gdLst/>
              <a:ahLst/>
              <a:rect l="l" t="t" r="r" b="b"/>
              <a:pathLst>
                <a:path w="110" h="44">
                  <a:moveTo>
                    <a:pt x="0" y="9"/>
                  </a:moveTo>
                  <a:lnTo>
                    <a:pt x="74" y="0"/>
                  </a:lnTo>
                  <a:lnTo>
                    <a:pt x="110" y="34"/>
                  </a:lnTo>
                  <a:lnTo>
                    <a:pt x="37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657120" y="5486040"/>
              <a:ext cx="45360" cy="190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9"/>
                  </a:moveTo>
                  <a:lnTo>
                    <a:pt x="76" y="0"/>
                  </a:lnTo>
                  <a:lnTo>
                    <a:pt x="112" y="36"/>
                  </a:lnTo>
                  <a:lnTo>
                    <a:pt x="37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52360" y="5499720"/>
              <a:ext cx="45360" cy="1908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0" y="9"/>
                  </a:moveTo>
                  <a:lnTo>
                    <a:pt x="75" y="0"/>
                  </a:lnTo>
                  <a:lnTo>
                    <a:pt x="110" y="36"/>
                  </a:lnTo>
                  <a:lnTo>
                    <a:pt x="35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605280" y="5492880"/>
              <a:ext cx="45000" cy="19080"/>
            </a:xfrm>
            <a:custGeom>
              <a:avLst/>
              <a:gdLst/>
              <a:ahLst/>
              <a:rect l="l" t="t" r="r" b="b"/>
              <a:pathLst>
                <a:path w="111" h="45">
                  <a:moveTo>
                    <a:pt x="0" y="9"/>
                  </a:moveTo>
                  <a:lnTo>
                    <a:pt x="73" y="0"/>
                  </a:lnTo>
                  <a:lnTo>
                    <a:pt x="111" y="35"/>
                  </a:lnTo>
                  <a:lnTo>
                    <a:pt x="36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32640" y="5461560"/>
              <a:ext cx="45360" cy="18360"/>
            </a:xfrm>
            <a:custGeom>
              <a:avLst/>
              <a:gdLst/>
              <a:ahLst/>
              <a:rect l="l" t="t" r="r" b="b"/>
              <a:pathLst>
                <a:path w="108" h="44">
                  <a:moveTo>
                    <a:pt x="0" y="9"/>
                  </a:moveTo>
                  <a:lnTo>
                    <a:pt x="72" y="0"/>
                  </a:lnTo>
                  <a:lnTo>
                    <a:pt x="108" y="35"/>
                  </a:lnTo>
                  <a:lnTo>
                    <a:pt x="34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28600" y="5474160"/>
              <a:ext cx="45360" cy="1908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0" y="9"/>
                  </a:moveTo>
                  <a:lnTo>
                    <a:pt x="75" y="0"/>
                  </a:lnTo>
                  <a:lnTo>
                    <a:pt x="110" y="36"/>
                  </a:lnTo>
                  <a:lnTo>
                    <a:pt x="35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80440" y="5468400"/>
              <a:ext cx="45360" cy="1836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9"/>
                  </a:moveTo>
                  <a:lnTo>
                    <a:pt x="73" y="0"/>
                  </a:lnTo>
                  <a:lnTo>
                    <a:pt x="109" y="35"/>
                  </a:lnTo>
                  <a:lnTo>
                    <a:pt x="36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1320" y="5429880"/>
              <a:ext cx="43560" cy="17280"/>
            </a:xfrm>
            <a:custGeom>
              <a:avLst/>
              <a:gdLst/>
              <a:ahLst/>
              <a:rect l="l" t="t" r="r" b="b"/>
              <a:pathLst>
                <a:path w="106" h="41">
                  <a:moveTo>
                    <a:pt x="0" y="8"/>
                  </a:moveTo>
                  <a:lnTo>
                    <a:pt x="73" y="0"/>
                  </a:lnTo>
                  <a:lnTo>
                    <a:pt x="106" y="32"/>
                  </a:lnTo>
                  <a:lnTo>
                    <a:pt x="34" y="4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50200" y="5435640"/>
              <a:ext cx="43560" cy="18360"/>
            </a:xfrm>
            <a:custGeom>
              <a:avLst/>
              <a:gdLst/>
              <a:ahLst/>
              <a:rect l="l" t="t" r="r" b="b"/>
              <a:pathLst>
                <a:path w="106" h="44">
                  <a:moveTo>
                    <a:pt x="0" y="9"/>
                  </a:moveTo>
                  <a:lnTo>
                    <a:pt x="72" y="0"/>
                  </a:lnTo>
                  <a:lnTo>
                    <a:pt x="106" y="35"/>
                  </a:lnTo>
                  <a:lnTo>
                    <a:pt x="32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99080" y="5442480"/>
              <a:ext cx="43560" cy="1836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0" y="8"/>
                  </a:moveTo>
                  <a:lnTo>
                    <a:pt x="74" y="0"/>
                  </a:lnTo>
                  <a:lnTo>
                    <a:pt x="106" y="35"/>
                  </a:lnTo>
                  <a:lnTo>
                    <a:pt x="32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456960" y="5508000"/>
              <a:ext cx="96480" cy="46080"/>
            </a:xfrm>
            <a:custGeom>
              <a:avLst/>
              <a:gdLst/>
              <a:ahLst/>
              <a:rect l="l" t="t" r="r" b="b"/>
              <a:pathLst>
                <a:path w="235" h="110">
                  <a:moveTo>
                    <a:pt x="0" y="19"/>
                  </a:moveTo>
                  <a:lnTo>
                    <a:pt x="144" y="0"/>
                  </a:lnTo>
                  <a:lnTo>
                    <a:pt x="189" y="48"/>
                  </a:lnTo>
                  <a:lnTo>
                    <a:pt x="235" y="96"/>
                  </a:lnTo>
                  <a:lnTo>
                    <a:pt x="137" y="110"/>
                  </a:lnTo>
                  <a:lnTo>
                    <a:pt x="81" y="50"/>
                  </a:lnTo>
                  <a:lnTo>
                    <a:pt x="35" y="5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38600" y="5560920"/>
              <a:ext cx="140760" cy="32400"/>
            </a:xfrm>
            <a:custGeom>
              <a:avLst/>
              <a:gdLst/>
              <a:ahLst/>
              <a:rect l="l" t="t" r="r" b="b"/>
              <a:pathLst>
                <a:path w="342" h="78">
                  <a:moveTo>
                    <a:pt x="0" y="39"/>
                  </a:moveTo>
                  <a:lnTo>
                    <a:pt x="304" y="0"/>
                  </a:lnTo>
                  <a:lnTo>
                    <a:pt x="342" y="37"/>
                  </a:lnTo>
                  <a:lnTo>
                    <a:pt x="34" y="7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43640" y="5542560"/>
              <a:ext cx="45360" cy="1980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9"/>
                  </a:moveTo>
                  <a:lnTo>
                    <a:pt x="76" y="0"/>
                  </a:lnTo>
                  <a:lnTo>
                    <a:pt x="111" y="37"/>
                  </a:lnTo>
                  <a:lnTo>
                    <a:pt x="34" y="4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04040" y="5518800"/>
              <a:ext cx="45000" cy="19080"/>
            </a:xfrm>
            <a:custGeom>
              <a:avLst/>
              <a:gdLst/>
              <a:ahLst/>
              <a:rect l="l" t="t" r="r" b="b"/>
              <a:pathLst>
                <a:path w="110" h="46">
                  <a:moveTo>
                    <a:pt x="0" y="10"/>
                  </a:moveTo>
                  <a:lnTo>
                    <a:pt x="76" y="0"/>
                  </a:lnTo>
                  <a:lnTo>
                    <a:pt x="110" y="37"/>
                  </a:lnTo>
                  <a:lnTo>
                    <a:pt x="32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3520" y="5580000"/>
              <a:ext cx="46080" cy="20880"/>
            </a:xfrm>
            <a:custGeom>
              <a:avLst/>
              <a:gdLst/>
              <a:ahLst/>
              <a:rect l="l" t="t" r="r" b="b"/>
              <a:pathLst>
                <a:path w="113" h="50">
                  <a:moveTo>
                    <a:pt x="0" y="11"/>
                  </a:moveTo>
                  <a:lnTo>
                    <a:pt x="79" y="0"/>
                  </a:lnTo>
                  <a:lnTo>
                    <a:pt x="113" y="39"/>
                  </a:lnTo>
                  <a:lnTo>
                    <a:pt x="34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90000" y="5549760"/>
              <a:ext cx="44280" cy="2016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9"/>
                  </a:moveTo>
                  <a:lnTo>
                    <a:pt x="76" y="0"/>
                  </a:lnTo>
                  <a:lnTo>
                    <a:pt x="110" y="38"/>
                  </a:lnTo>
                  <a:lnTo>
                    <a:pt x="32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50400" y="5525640"/>
              <a:ext cx="44280" cy="2016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11"/>
                  </a:moveTo>
                  <a:lnTo>
                    <a:pt x="76" y="0"/>
                  </a:lnTo>
                  <a:lnTo>
                    <a:pt x="108" y="38"/>
                  </a:lnTo>
                  <a:lnTo>
                    <a:pt x="32" y="4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28800" y="5588640"/>
              <a:ext cx="45360" cy="2016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10"/>
                  </a:moveTo>
                  <a:lnTo>
                    <a:pt x="77" y="0"/>
                  </a:lnTo>
                  <a:lnTo>
                    <a:pt x="111" y="39"/>
                  </a:lnTo>
                  <a:lnTo>
                    <a:pt x="32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34920" y="5556600"/>
              <a:ext cx="45360" cy="2016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11"/>
                  </a:moveTo>
                  <a:lnTo>
                    <a:pt x="79" y="0"/>
                  </a:lnTo>
                  <a:lnTo>
                    <a:pt x="111" y="38"/>
                  </a:lnTo>
                  <a:lnTo>
                    <a:pt x="32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96040" y="5533200"/>
              <a:ext cx="45000" cy="1908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9"/>
                  </a:moveTo>
                  <a:lnTo>
                    <a:pt x="76" y="0"/>
                  </a:lnTo>
                  <a:lnTo>
                    <a:pt x="108" y="36"/>
                  </a:lnTo>
                  <a:lnTo>
                    <a:pt x="32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408360" y="5482800"/>
              <a:ext cx="97920" cy="25920"/>
            </a:xfrm>
            <a:custGeom>
              <a:avLst/>
              <a:gdLst/>
              <a:ahLst/>
              <a:rect l="l" t="t" r="r" b="b"/>
              <a:pathLst>
                <a:path w="239" h="61">
                  <a:moveTo>
                    <a:pt x="0" y="25"/>
                  </a:moveTo>
                  <a:lnTo>
                    <a:pt x="204" y="0"/>
                  </a:lnTo>
                  <a:lnTo>
                    <a:pt x="239" y="36"/>
                  </a:lnTo>
                  <a:lnTo>
                    <a:pt x="34" y="6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33640" y="5588640"/>
              <a:ext cx="71640" cy="24120"/>
            </a:xfrm>
            <a:custGeom>
              <a:avLst/>
              <a:gdLst/>
              <a:ahLst/>
              <a:rect l="l" t="t" r="r" b="b"/>
              <a:pathLst>
                <a:path w="175" h="57">
                  <a:moveTo>
                    <a:pt x="0" y="17"/>
                  </a:moveTo>
                  <a:lnTo>
                    <a:pt x="137" y="0"/>
                  </a:lnTo>
                  <a:lnTo>
                    <a:pt x="175" y="38"/>
                  </a:lnTo>
                  <a:lnTo>
                    <a:pt x="37" y="5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29600" y="5601960"/>
              <a:ext cx="73440" cy="24840"/>
            </a:xfrm>
            <a:custGeom>
              <a:avLst/>
              <a:gdLst/>
              <a:ahLst/>
              <a:rect l="l" t="t" r="r" b="b"/>
              <a:pathLst>
                <a:path w="178" h="59">
                  <a:moveTo>
                    <a:pt x="0" y="20"/>
                  </a:moveTo>
                  <a:lnTo>
                    <a:pt x="142" y="0"/>
                  </a:lnTo>
                  <a:lnTo>
                    <a:pt x="178" y="39"/>
                  </a:lnTo>
                  <a:lnTo>
                    <a:pt x="34" y="5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54720" y="5496840"/>
              <a:ext cx="44280" cy="1908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0" y="8"/>
                  </a:moveTo>
                  <a:lnTo>
                    <a:pt x="77" y="0"/>
                  </a:lnTo>
                  <a:lnTo>
                    <a:pt x="109" y="36"/>
                  </a:lnTo>
                  <a:lnTo>
                    <a:pt x="32" y="4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01080" y="5502960"/>
              <a:ext cx="45360" cy="2016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11"/>
                  </a:moveTo>
                  <a:lnTo>
                    <a:pt x="76" y="0"/>
                  </a:lnTo>
                  <a:lnTo>
                    <a:pt x="108" y="37"/>
                  </a:lnTo>
                  <a:lnTo>
                    <a:pt x="32" y="4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247440" y="5510520"/>
              <a:ext cx="43560" cy="19080"/>
            </a:xfrm>
            <a:custGeom>
              <a:avLst/>
              <a:gdLst/>
              <a:ahLst/>
              <a:rect l="l" t="t" r="r" b="b"/>
              <a:pathLst>
                <a:path w="108" h="46">
                  <a:moveTo>
                    <a:pt x="0" y="10"/>
                  </a:moveTo>
                  <a:lnTo>
                    <a:pt x="77" y="0"/>
                  </a:lnTo>
                  <a:lnTo>
                    <a:pt x="108" y="36"/>
                  </a:lnTo>
                  <a:lnTo>
                    <a:pt x="31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273720" y="5595120"/>
              <a:ext cx="45000" cy="2088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0" y="9"/>
                  </a:moveTo>
                  <a:lnTo>
                    <a:pt x="79" y="0"/>
                  </a:lnTo>
                  <a:lnTo>
                    <a:pt x="111" y="38"/>
                  </a:lnTo>
                  <a:lnTo>
                    <a:pt x="32" y="4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80200" y="5564160"/>
              <a:ext cx="45360" cy="2016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10"/>
                  </a:moveTo>
                  <a:lnTo>
                    <a:pt x="78" y="0"/>
                  </a:lnTo>
                  <a:lnTo>
                    <a:pt x="110" y="38"/>
                  </a:lnTo>
                  <a:lnTo>
                    <a:pt x="32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242400" y="5539680"/>
              <a:ext cx="44280" cy="1908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0" y="9"/>
                  </a:moveTo>
                  <a:lnTo>
                    <a:pt x="78" y="0"/>
                  </a:lnTo>
                  <a:lnTo>
                    <a:pt x="109" y="38"/>
                  </a:lnTo>
                  <a:lnTo>
                    <a:pt x="31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193080" y="5517000"/>
              <a:ext cx="44280" cy="20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0" y="11"/>
                  </a:moveTo>
                  <a:lnTo>
                    <a:pt x="78" y="0"/>
                  </a:lnTo>
                  <a:lnTo>
                    <a:pt x="109" y="37"/>
                  </a:lnTo>
                  <a:lnTo>
                    <a:pt x="31" y="4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217560" y="5602680"/>
              <a:ext cx="46080" cy="20880"/>
            </a:xfrm>
            <a:custGeom>
              <a:avLst/>
              <a:gdLst/>
              <a:ahLst/>
              <a:rect l="l" t="t" r="r" b="b"/>
              <a:pathLst>
                <a:path w="113" h="50">
                  <a:moveTo>
                    <a:pt x="0" y="11"/>
                  </a:moveTo>
                  <a:lnTo>
                    <a:pt x="81" y="0"/>
                  </a:lnTo>
                  <a:lnTo>
                    <a:pt x="113" y="39"/>
                  </a:lnTo>
                  <a:lnTo>
                    <a:pt x="33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225120" y="5571720"/>
              <a:ext cx="45000" cy="2016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11"/>
                  </a:moveTo>
                  <a:lnTo>
                    <a:pt x="79" y="0"/>
                  </a:lnTo>
                  <a:lnTo>
                    <a:pt x="110" y="39"/>
                  </a:lnTo>
                  <a:lnTo>
                    <a:pt x="31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87320" y="5547240"/>
              <a:ext cx="45000" cy="190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10"/>
                  </a:moveTo>
                  <a:lnTo>
                    <a:pt x="79" y="0"/>
                  </a:lnTo>
                  <a:lnTo>
                    <a:pt x="110" y="38"/>
                  </a:lnTo>
                  <a:lnTo>
                    <a:pt x="31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38720" y="5524920"/>
              <a:ext cx="44280" cy="1908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0" y="9"/>
                  </a:moveTo>
                  <a:lnTo>
                    <a:pt x="78" y="0"/>
                  </a:lnTo>
                  <a:lnTo>
                    <a:pt x="107" y="36"/>
                  </a:lnTo>
                  <a:lnTo>
                    <a:pt x="29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161400" y="5610600"/>
              <a:ext cx="45360" cy="20880"/>
            </a:xfrm>
            <a:custGeom>
              <a:avLst/>
              <a:gdLst/>
              <a:ahLst/>
              <a:rect l="l" t="t" r="r" b="b"/>
              <a:pathLst>
                <a:path w="111" h="50">
                  <a:moveTo>
                    <a:pt x="0" y="11"/>
                  </a:moveTo>
                  <a:lnTo>
                    <a:pt x="80" y="0"/>
                  </a:lnTo>
                  <a:lnTo>
                    <a:pt x="111" y="41"/>
                  </a:lnTo>
                  <a:lnTo>
                    <a:pt x="31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169680" y="5578560"/>
              <a:ext cx="44280" cy="2016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0" y="11"/>
                  </a:moveTo>
                  <a:lnTo>
                    <a:pt x="78" y="0"/>
                  </a:lnTo>
                  <a:lnTo>
                    <a:pt x="108" y="39"/>
                  </a:lnTo>
                  <a:lnTo>
                    <a:pt x="28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131880" y="5554080"/>
              <a:ext cx="44640" cy="20160"/>
            </a:xfrm>
            <a:custGeom>
              <a:avLst/>
              <a:gdLst/>
              <a:ahLst/>
              <a:rect l="l" t="t" r="r" b="b"/>
              <a:pathLst>
                <a:path w="107" h="47">
                  <a:moveTo>
                    <a:pt x="0" y="9"/>
                  </a:moveTo>
                  <a:lnTo>
                    <a:pt x="77" y="0"/>
                  </a:lnTo>
                  <a:lnTo>
                    <a:pt x="107" y="37"/>
                  </a:lnTo>
                  <a:lnTo>
                    <a:pt x="28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83280" y="5531400"/>
              <a:ext cx="45360" cy="1908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9"/>
                  </a:moveTo>
                  <a:lnTo>
                    <a:pt x="79" y="0"/>
                  </a:lnTo>
                  <a:lnTo>
                    <a:pt x="108" y="36"/>
                  </a:lnTo>
                  <a:lnTo>
                    <a:pt x="29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105600" y="5617080"/>
              <a:ext cx="45360" cy="22320"/>
            </a:xfrm>
            <a:custGeom>
              <a:avLst/>
              <a:gdLst/>
              <a:ahLst/>
              <a:rect l="l" t="t" r="r" b="b"/>
              <a:pathLst>
                <a:path w="111" h="52">
                  <a:moveTo>
                    <a:pt x="0" y="11"/>
                  </a:moveTo>
                  <a:lnTo>
                    <a:pt x="81" y="0"/>
                  </a:lnTo>
                  <a:lnTo>
                    <a:pt x="111" y="40"/>
                  </a:lnTo>
                  <a:lnTo>
                    <a:pt x="31" y="5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113520" y="5586120"/>
              <a:ext cx="45360" cy="201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0" y="11"/>
                  </a:moveTo>
                  <a:lnTo>
                    <a:pt x="79" y="0"/>
                  </a:lnTo>
                  <a:lnTo>
                    <a:pt x="108" y="39"/>
                  </a:lnTo>
                  <a:lnTo>
                    <a:pt x="28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76800" y="5560920"/>
              <a:ext cx="44280" cy="2088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0" y="11"/>
                  </a:moveTo>
                  <a:lnTo>
                    <a:pt x="80" y="0"/>
                  </a:lnTo>
                  <a:lnTo>
                    <a:pt x="109" y="37"/>
                  </a:lnTo>
                  <a:lnTo>
                    <a:pt x="30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28920" y="5538240"/>
              <a:ext cx="44280" cy="20160"/>
            </a:xfrm>
            <a:custGeom>
              <a:avLst/>
              <a:gdLst/>
              <a:ahLst/>
              <a:rect l="l" t="t" r="r" b="b"/>
              <a:pathLst>
                <a:path w="107" h="48">
                  <a:moveTo>
                    <a:pt x="0" y="11"/>
                  </a:moveTo>
                  <a:lnTo>
                    <a:pt x="79" y="0"/>
                  </a:lnTo>
                  <a:lnTo>
                    <a:pt x="107" y="37"/>
                  </a:lnTo>
                  <a:lnTo>
                    <a:pt x="28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048000" y="5625360"/>
              <a:ext cx="45000" cy="2088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0" y="10"/>
                  </a:moveTo>
                  <a:lnTo>
                    <a:pt x="82" y="0"/>
                  </a:lnTo>
                  <a:lnTo>
                    <a:pt x="111" y="40"/>
                  </a:lnTo>
                  <a:lnTo>
                    <a:pt x="29" y="5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57000" y="5593680"/>
              <a:ext cx="45360" cy="198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11"/>
                  </a:moveTo>
                  <a:lnTo>
                    <a:pt x="80" y="0"/>
                  </a:lnTo>
                  <a:lnTo>
                    <a:pt x="109" y="38"/>
                  </a:lnTo>
                  <a:lnTo>
                    <a:pt x="29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20640" y="5568480"/>
              <a:ext cx="44280" cy="201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1"/>
                  </a:moveTo>
                  <a:lnTo>
                    <a:pt x="81" y="0"/>
                  </a:lnTo>
                  <a:lnTo>
                    <a:pt x="107" y="38"/>
                  </a:lnTo>
                  <a:lnTo>
                    <a:pt x="28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972760" y="5545800"/>
              <a:ext cx="44280" cy="19080"/>
            </a:xfrm>
            <a:custGeom>
              <a:avLst/>
              <a:gdLst/>
              <a:ahLst/>
              <a:rect l="l" t="t" r="r" b="b"/>
              <a:pathLst>
                <a:path w="107" h="47">
                  <a:moveTo>
                    <a:pt x="0" y="10"/>
                  </a:moveTo>
                  <a:lnTo>
                    <a:pt x="79" y="0"/>
                  </a:lnTo>
                  <a:lnTo>
                    <a:pt x="107" y="38"/>
                  </a:lnTo>
                  <a:lnTo>
                    <a:pt x="28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90040" y="5633280"/>
              <a:ext cx="45000" cy="21600"/>
            </a:xfrm>
            <a:custGeom>
              <a:avLst/>
              <a:gdLst/>
              <a:ahLst/>
              <a:rect l="l" t="t" r="r" b="b"/>
              <a:pathLst>
                <a:path w="111" h="52">
                  <a:moveTo>
                    <a:pt x="0" y="12"/>
                  </a:moveTo>
                  <a:lnTo>
                    <a:pt x="83" y="0"/>
                  </a:lnTo>
                  <a:lnTo>
                    <a:pt x="111" y="42"/>
                  </a:lnTo>
                  <a:lnTo>
                    <a:pt x="28" y="5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00120" y="5600520"/>
              <a:ext cx="45000" cy="2088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10"/>
                  </a:moveTo>
                  <a:lnTo>
                    <a:pt x="81" y="0"/>
                  </a:lnTo>
                  <a:lnTo>
                    <a:pt x="109" y="39"/>
                  </a:lnTo>
                  <a:lnTo>
                    <a:pt x="26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64480" y="5576040"/>
              <a:ext cx="44280" cy="201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0" y="9"/>
                  </a:moveTo>
                  <a:lnTo>
                    <a:pt x="80" y="0"/>
                  </a:lnTo>
                  <a:lnTo>
                    <a:pt x="108" y="37"/>
                  </a:lnTo>
                  <a:lnTo>
                    <a:pt x="25" y="4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16600" y="5552280"/>
              <a:ext cx="44640" cy="201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11"/>
                  </a:moveTo>
                  <a:lnTo>
                    <a:pt x="81" y="0"/>
                  </a:lnTo>
                  <a:lnTo>
                    <a:pt x="109" y="39"/>
                  </a:lnTo>
                  <a:lnTo>
                    <a:pt x="27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970240" y="5613840"/>
              <a:ext cx="451800" cy="77040"/>
            </a:xfrm>
            <a:custGeom>
              <a:avLst/>
              <a:gdLst/>
              <a:ahLst/>
              <a:rect l="l" t="t" r="r" b="b"/>
              <a:pathLst>
                <a:path w="1096" h="183">
                  <a:moveTo>
                    <a:pt x="0" y="142"/>
                  </a:moveTo>
                  <a:lnTo>
                    <a:pt x="539" y="69"/>
                  </a:lnTo>
                  <a:lnTo>
                    <a:pt x="1061" y="0"/>
                  </a:lnTo>
                  <a:lnTo>
                    <a:pt x="1096" y="40"/>
                  </a:lnTo>
                  <a:lnTo>
                    <a:pt x="570" y="111"/>
                  </a:lnTo>
                  <a:lnTo>
                    <a:pt x="28" y="18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932440" y="5640480"/>
              <a:ext cx="45360" cy="2160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11"/>
                  </a:moveTo>
                  <a:lnTo>
                    <a:pt x="82" y="0"/>
                  </a:lnTo>
                  <a:lnTo>
                    <a:pt x="110" y="41"/>
                  </a:lnTo>
                  <a:lnTo>
                    <a:pt x="27" y="5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43240" y="5608800"/>
              <a:ext cx="45000" cy="208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10"/>
                  </a:moveTo>
                  <a:lnTo>
                    <a:pt x="82" y="0"/>
                  </a:lnTo>
                  <a:lnTo>
                    <a:pt x="110" y="39"/>
                  </a:lnTo>
                  <a:lnTo>
                    <a:pt x="27" y="5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906880" y="5583600"/>
              <a:ext cx="44280" cy="19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0" y="11"/>
                  </a:moveTo>
                  <a:lnTo>
                    <a:pt x="82" y="0"/>
                  </a:lnTo>
                  <a:lnTo>
                    <a:pt x="109" y="39"/>
                  </a:lnTo>
                  <a:lnTo>
                    <a:pt x="27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60800" y="5559120"/>
              <a:ext cx="43560" cy="2088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2"/>
                  </a:moveTo>
                  <a:lnTo>
                    <a:pt x="80" y="0"/>
                  </a:lnTo>
                  <a:lnTo>
                    <a:pt x="107" y="40"/>
                  </a:lnTo>
                  <a:lnTo>
                    <a:pt x="26" y="4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79520" y="5676120"/>
              <a:ext cx="74880" cy="2664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0" y="20"/>
                  </a:moveTo>
                  <a:lnTo>
                    <a:pt x="154" y="0"/>
                  </a:lnTo>
                  <a:lnTo>
                    <a:pt x="180" y="42"/>
                  </a:lnTo>
                  <a:lnTo>
                    <a:pt x="26" y="6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4840" y="5648040"/>
              <a:ext cx="44280" cy="2160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10"/>
                  </a:moveTo>
                  <a:lnTo>
                    <a:pt x="82" y="0"/>
                  </a:lnTo>
                  <a:lnTo>
                    <a:pt x="110" y="41"/>
                  </a:lnTo>
                  <a:lnTo>
                    <a:pt x="27" y="5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85280" y="5615280"/>
              <a:ext cx="44280" cy="208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0" y="11"/>
                  </a:moveTo>
                  <a:lnTo>
                    <a:pt x="82" y="0"/>
                  </a:lnTo>
                  <a:lnTo>
                    <a:pt x="108" y="39"/>
                  </a:lnTo>
                  <a:lnTo>
                    <a:pt x="2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49640" y="5590080"/>
              <a:ext cx="44280" cy="2088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0"/>
                  </a:moveTo>
                  <a:lnTo>
                    <a:pt x="82" y="0"/>
                  </a:lnTo>
                  <a:lnTo>
                    <a:pt x="107" y="38"/>
                  </a:lnTo>
                  <a:lnTo>
                    <a:pt x="26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03560" y="5566680"/>
              <a:ext cx="43560" cy="201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0"/>
                  </a:moveTo>
                  <a:lnTo>
                    <a:pt x="80" y="0"/>
                  </a:lnTo>
                  <a:lnTo>
                    <a:pt x="107" y="39"/>
                  </a:lnTo>
                  <a:lnTo>
                    <a:pt x="25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815080" y="5656680"/>
              <a:ext cx="45360" cy="21600"/>
            </a:xfrm>
            <a:custGeom>
              <a:avLst/>
              <a:gdLst/>
              <a:ahLst/>
              <a:rect l="l" t="t" r="r" b="b"/>
              <a:pathLst>
                <a:path w="110" h="53">
                  <a:moveTo>
                    <a:pt x="0" y="11"/>
                  </a:moveTo>
                  <a:lnTo>
                    <a:pt x="84" y="0"/>
                  </a:lnTo>
                  <a:lnTo>
                    <a:pt x="110" y="42"/>
                  </a:lnTo>
                  <a:lnTo>
                    <a:pt x="27" y="5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27680" y="5622840"/>
              <a:ext cx="44280" cy="21600"/>
            </a:xfrm>
            <a:custGeom>
              <a:avLst/>
              <a:gdLst/>
              <a:ahLst/>
              <a:rect l="l" t="t" r="r" b="b"/>
              <a:pathLst>
                <a:path w="107" h="51">
                  <a:moveTo>
                    <a:pt x="0" y="12"/>
                  </a:moveTo>
                  <a:lnTo>
                    <a:pt x="81" y="0"/>
                  </a:lnTo>
                  <a:lnTo>
                    <a:pt x="107" y="40"/>
                  </a:lnTo>
                  <a:lnTo>
                    <a:pt x="24" y="5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793120" y="5598000"/>
              <a:ext cx="43560" cy="2088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0" y="11"/>
                  </a:moveTo>
                  <a:lnTo>
                    <a:pt x="81" y="0"/>
                  </a:lnTo>
                  <a:lnTo>
                    <a:pt x="106" y="39"/>
                  </a:lnTo>
                  <a:lnTo>
                    <a:pt x="24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746680" y="5574240"/>
              <a:ext cx="43560" cy="2088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0"/>
                  </a:moveTo>
                  <a:lnTo>
                    <a:pt x="80" y="0"/>
                  </a:lnTo>
                  <a:lnTo>
                    <a:pt x="107" y="37"/>
                  </a:lnTo>
                  <a:lnTo>
                    <a:pt x="25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60720" y="5691600"/>
              <a:ext cx="77400" cy="27000"/>
            </a:xfrm>
            <a:custGeom>
              <a:avLst/>
              <a:gdLst/>
              <a:ahLst/>
              <a:rect l="l" t="t" r="r" b="b"/>
              <a:pathLst>
                <a:path w="189" h="64">
                  <a:moveTo>
                    <a:pt x="0" y="21"/>
                  </a:moveTo>
                  <a:lnTo>
                    <a:pt x="162" y="0"/>
                  </a:lnTo>
                  <a:lnTo>
                    <a:pt x="189" y="41"/>
                  </a:lnTo>
                  <a:lnTo>
                    <a:pt x="24" y="6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739120" y="5663520"/>
              <a:ext cx="64080" cy="24840"/>
            </a:xfrm>
            <a:custGeom>
              <a:avLst/>
              <a:gdLst/>
              <a:ahLst/>
              <a:rect l="l" t="t" r="r" b="b"/>
              <a:pathLst>
                <a:path w="157" h="59">
                  <a:moveTo>
                    <a:pt x="0" y="17"/>
                  </a:moveTo>
                  <a:lnTo>
                    <a:pt x="130" y="0"/>
                  </a:lnTo>
                  <a:lnTo>
                    <a:pt x="157" y="41"/>
                  </a:lnTo>
                  <a:lnTo>
                    <a:pt x="24" y="5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21120" y="5634720"/>
              <a:ext cx="62640" cy="24120"/>
            </a:xfrm>
            <a:custGeom>
              <a:avLst/>
              <a:gdLst/>
              <a:ahLst/>
              <a:rect l="l" t="t" r="r" b="b"/>
              <a:pathLst>
                <a:path w="153" h="59">
                  <a:moveTo>
                    <a:pt x="0" y="18"/>
                  </a:moveTo>
                  <a:lnTo>
                    <a:pt x="129" y="0"/>
                  </a:lnTo>
                  <a:lnTo>
                    <a:pt x="153" y="40"/>
                  </a:lnTo>
                  <a:lnTo>
                    <a:pt x="23" y="5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705640" y="5605200"/>
              <a:ext cx="74880" cy="2520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21"/>
                  </a:moveTo>
                  <a:lnTo>
                    <a:pt x="156" y="0"/>
                  </a:lnTo>
                  <a:lnTo>
                    <a:pt x="180" y="41"/>
                  </a:lnTo>
                  <a:lnTo>
                    <a:pt x="24" y="6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689080" y="5581800"/>
              <a:ext cx="43560" cy="2016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10"/>
                  </a:moveTo>
                  <a:lnTo>
                    <a:pt x="82" y="0"/>
                  </a:lnTo>
                  <a:lnTo>
                    <a:pt x="106" y="39"/>
                  </a:lnTo>
                  <a:lnTo>
                    <a:pt x="24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31400" y="5450760"/>
              <a:ext cx="43560" cy="18360"/>
            </a:xfrm>
            <a:custGeom>
              <a:avLst/>
              <a:gdLst/>
              <a:ahLst/>
              <a:rect l="l" t="t" r="r" b="b"/>
              <a:pathLst>
                <a:path w="105" h="44">
                  <a:moveTo>
                    <a:pt x="0" y="10"/>
                  </a:moveTo>
                  <a:lnTo>
                    <a:pt x="73" y="0"/>
                  </a:lnTo>
                  <a:lnTo>
                    <a:pt x="105" y="34"/>
                  </a:lnTo>
                  <a:lnTo>
                    <a:pt x="32" y="4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78480" y="5457600"/>
              <a:ext cx="44280" cy="18360"/>
            </a:xfrm>
            <a:custGeom>
              <a:avLst/>
              <a:gdLst/>
              <a:ahLst/>
              <a:rect l="l" t="t" r="r" b="b"/>
              <a:pathLst>
                <a:path w="107" h="44">
                  <a:moveTo>
                    <a:pt x="0" y="9"/>
                  </a:moveTo>
                  <a:lnTo>
                    <a:pt x="74" y="0"/>
                  </a:lnTo>
                  <a:lnTo>
                    <a:pt x="107" y="36"/>
                  </a:lnTo>
                  <a:lnTo>
                    <a:pt x="32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326640" y="5464080"/>
              <a:ext cx="42480" cy="18360"/>
            </a:xfrm>
            <a:custGeom>
              <a:avLst/>
              <a:gdLst/>
              <a:ahLst/>
              <a:rect l="l" t="t" r="r" b="b"/>
              <a:pathLst>
                <a:path w="106" h="44">
                  <a:moveTo>
                    <a:pt x="0" y="9"/>
                  </a:moveTo>
                  <a:lnTo>
                    <a:pt x="75" y="0"/>
                  </a:lnTo>
                  <a:lnTo>
                    <a:pt x="106" y="35"/>
                  </a:lnTo>
                  <a:lnTo>
                    <a:pt x="31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273720" y="5470920"/>
              <a:ext cx="42480" cy="1836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0" y="10"/>
                  </a:moveTo>
                  <a:lnTo>
                    <a:pt x="73" y="0"/>
                  </a:lnTo>
                  <a:lnTo>
                    <a:pt x="104" y="35"/>
                  </a:lnTo>
                  <a:lnTo>
                    <a:pt x="29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85520" y="548172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9"/>
                  </a:moveTo>
                  <a:lnTo>
                    <a:pt x="76" y="0"/>
                  </a:lnTo>
                  <a:lnTo>
                    <a:pt x="106" y="36"/>
                  </a:lnTo>
                  <a:lnTo>
                    <a:pt x="29" y="4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131880" y="548856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9"/>
                  </a:moveTo>
                  <a:lnTo>
                    <a:pt x="78" y="0"/>
                  </a:lnTo>
                  <a:lnTo>
                    <a:pt x="106" y="36"/>
                  </a:lnTo>
                  <a:lnTo>
                    <a:pt x="30" y="4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77520" y="549540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10"/>
                  </a:moveTo>
                  <a:lnTo>
                    <a:pt x="78" y="0"/>
                  </a:lnTo>
                  <a:lnTo>
                    <a:pt x="106" y="36"/>
                  </a:lnTo>
                  <a:lnTo>
                    <a:pt x="28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023160" y="5502240"/>
              <a:ext cx="43560" cy="1908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0" y="10"/>
                  </a:moveTo>
                  <a:lnTo>
                    <a:pt x="78" y="0"/>
                  </a:lnTo>
                  <a:lnTo>
                    <a:pt x="104" y="36"/>
                  </a:lnTo>
                  <a:lnTo>
                    <a:pt x="27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49720" y="5511240"/>
              <a:ext cx="43560" cy="190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0" y="9"/>
                  </a:moveTo>
                  <a:lnTo>
                    <a:pt x="77" y="0"/>
                  </a:lnTo>
                  <a:lnTo>
                    <a:pt x="104" y="36"/>
                  </a:lnTo>
                  <a:lnTo>
                    <a:pt x="25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93560" y="551808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10"/>
                  </a:moveTo>
                  <a:lnTo>
                    <a:pt x="80" y="0"/>
                  </a:lnTo>
                  <a:lnTo>
                    <a:pt x="106" y="36"/>
                  </a:lnTo>
                  <a:lnTo>
                    <a:pt x="27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38480" y="5524920"/>
              <a:ext cx="42480" cy="201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0" y="11"/>
                  </a:moveTo>
                  <a:lnTo>
                    <a:pt x="79" y="0"/>
                  </a:lnTo>
                  <a:lnTo>
                    <a:pt x="105" y="37"/>
                  </a:lnTo>
                  <a:lnTo>
                    <a:pt x="24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82320" y="5532480"/>
              <a:ext cx="42480" cy="19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10"/>
                  </a:moveTo>
                  <a:lnTo>
                    <a:pt x="81" y="0"/>
                  </a:lnTo>
                  <a:lnTo>
                    <a:pt x="105" y="38"/>
                  </a:lnTo>
                  <a:lnTo>
                    <a:pt x="25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669280" y="5545800"/>
              <a:ext cx="42480" cy="20160"/>
            </a:xfrm>
            <a:custGeom>
              <a:avLst/>
              <a:gdLst/>
              <a:ahLst/>
              <a:rect l="l" t="t" r="r" b="b"/>
              <a:pathLst>
                <a:path w="103" h="48">
                  <a:moveTo>
                    <a:pt x="0" y="10"/>
                  </a:moveTo>
                  <a:lnTo>
                    <a:pt x="80" y="0"/>
                  </a:lnTo>
                  <a:lnTo>
                    <a:pt x="103" y="37"/>
                  </a:lnTo>
                  <a:lnTo>
                    <a:pt x="23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13920" y="5008320"/>
              <a:ext cx="750240" cy="239400"/>
            </a:xfrm>
            <a:custGeom>
              <a:avLst/>
              <a:gdLst/>
              <a:ahLst/>
              <a:rect l="l" t="t" r="r" b="b"/>
              <a:pathLst>
                <a:path w="1821" h="569">
                  <a:moveTo>
                    <a:pt x="1812" y="416"/>
                  </a:moveTo>
                  <a:lnTo>
                    <a:pt x="426" y="569"/>
                  </a:lnTo>
                  <a:lnTo>
                    <a:pt x="416" y="569"/>
                  </a:lnTo>
                  <a:lnTo>
                    <a:pt x="404" y="569"/>
                  </a:lnTo>
                  <a:lnTo>
                    <a:pt x="393" y="568"/>
                  </a:lnTo>
                  <a:lnTo>
                    <a:pt x="381" y="565"/>
                  </a:lnTo>
                  <a:lnTo>
                    <a:pt x="370" y="563"/>
                  </a:lnTo>
                  <a:lnTo>
                    <a:pt x="359" y="557"/>
                  </a:lnTo>
                  <a:lnTo>
                    <a:pt x="350" y="552"/>
                  </a:lnTo>
                  <a:lnTo>
                    <a:pt x="343" y="544"/>
                  </a:lnTo>
                  <a:lnTo>
                    <a:pt x="0" y="139"/>
                  </a:lnTo>
                  <a:lnTo>
                    <a:pt x="1332" y="0"/>
                  </a:lnTo>
                  <a:lnTo>
                    <a:pt x="1793" y="349"/>
                  </a:lnTo>
                  <a:lnTo>
                    <a:pt x="1801" y="356"/>
                  </a:lnTo>
                  <a:lnTo>
                    <a:pt x="1806" y="366"/>
                  </a:lnTo>
                  <a:lnTo>
                    <a:pt x="1813" y="376"/>
                  </a:lnTo>
                  <a:lnTo>
                    <a:pt x="1818" y="387"/>
                  </a:lnTo>
                  <a:lnTo>
                    <a:pt x="1821" y="398"/>
                  </a:lnTo>
                  <a:lnTo>
                    <a:pt x="1821" y="407"/>
                  </a:lnTo>
                  <a:lnTo>
                    <a:pt x="1818" y="414"/>
                  </a:lnTo>
                  <a:lnTo>
                    <a:pt x="1812" y="416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13920" y="5022360"/>
              <a:ext cx="750240" cy="220680"/>
            </a:xfrm>
            <a:custGeom>
              <a:avLst/>
              <a:gdLst/>
              <a:ahLst/>
              <a:rect l="l" t="t" r="r" b="b"/>
              <a:pathLst>
                <a:path w="1821" h="527">
                  <a:moveTo>
                    <a:pt x="1821" y="268"/>
                  </a:moveTo>
                  <a:lnTo>
                    <a:pt x="1820" y="363"/>
                  </a:lnTo>
                  <a:lnTo>
                    <a:pt x="1818" y="370"/>
                  </a:lnTo>
                  <a:lnTo>
                    <a:pt x="1812" y="373"/>
                  </a:lnTo>
                  <a:lnTo>
                    <a:pt x="426" y="527"/>
                  </a:lnTo>
                  <a:lnTo>
                    <a:pt x="414" y="527"/>
                  </a:lnTo>
                  <a:lnTo>
                    <a:pt x="404" y="527"/>
                  </a:lnTo>
                  <a:lnTo>
                    <a:pt x="391" y="526"/>
                  </a:lnTo>
                  <a:lnTo>
                    <a:pt x="381" y="523"/>
                  </a:lnTo>
                  <a:lnTo>
                    <a:pt x="369" y="519"/>
                  </a:lnTo>
                  <a:lnTo>
                    <a:pt x="359" y="515"/>
                  </a:lnTo>
                  <a:lnTo>
                    <a:pt x="350" y="508"/>
                  </a:lnTo>
                  <a:lnTo>
                    <a:pt x="342" y="500"/>
                  </a:lnTo>
                  <a:lnTo>
                    <a:pt x="0" y="95"/>
                  </a:lnTo>
                  <a:lnTo>
                    <a:pt x="0" y="0"/>
                  </a:lnTo>
                  <a:lnTo>
                    <a:pt x="343" y="405"/>
                  </a:lnTo>
                  <a:lnTo>
                    <a:pt x="350" y="413"/>
                  </a:lnTo>
                  <a:lnTo>
                    <a:pt x="359" y="418"/>
                  </a:lnTo>
                  <a:lnTo>
                    <a:pt x="370" y="424"/>
                  </a:lnTo>
                  <a:lnTo>
                    <a:pt x="381" y="426"/>
                  </a:lnTo>
                  <a:lnTo>
                    <a:pt x="393" y="429"/>
                  </a:lnTo>
                  <a:lnTo>
                    <a:pt x="404" y="432"/>
                  </a:lnTo>
                  <a:lnTo>
                    <a:pt x="416" y="432"/>
                  </a:lnTo>
                  <a:lnTo>
                    <a:pt x="426" y="430"/>
                  </a:lnTo>
                  <a:lnTo>
                    <a:pt x="1812" y="278"/>
                  </a:lnTo>
                  <a:lnTo>
                    <a:pt x="1818" y="275"/>
                  </a:lnTo>
                  <a:lnTo>
                    <a:pt x="1821" y="268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13920" y="4963680"/>
              <a:ext cx="750240" cy="239400"/>
            </a:xfrm>
            <a:custGeom>
              <a:avLst/>
              <a:gdLst/>
              <a:ahLst/>
              <a:rect l="l" t="t" r="r" b="b"/>
              <a:pathLst>
                <a:path w="1821" h="571">
                  <a:moveTo>
                    <a:pt x="1812" y="417"/>
                  </a:moveTo>
                  <a:lnTo>
                    <a:pt x="426" y="569"/>
                  </a:lnTo>
                  <a:lnTo>
                    <a:pt x="416" y="571"/>
                  </a:lnTo>
                  <a:lnTo>
                    <a:pt x="404" y="571"/>
                  </a:lnTo>
                  <a:lnTo>
                    <a:pt x="393" y="568"/>
                  </a:lnTo>
                  <a:lnTo>
                    <a:pt x="381" y="565"/>
                  </a:lnTo>
                  <a:lnTo>
                    <a:pt x="370" y="563"/>
                  </a:lnTo>
                  <a:lnTo>
                    <a:pt x="359" y="557"/>
                  </a:lnTo>
                  <a:lnTo>
                    <a:pt x="350" y="552"/>
                  </a:lnTo>
                  <a:lnTo>
                    <a:pt x="343" y="544"/>
                  </a:lnTo>
                  <a:lnTo>
                    <a:pt x="0" y="139"/>
                  </a:lnTo>
                  <a:lnTo>
                    <a:pt x="1332" y="0"/>
                  </a:lnTo>
                  <a:lnTo>
                    <a:pt x="1793" y="351"/>
                  </a:lnTo>
                  <a:lnTo>
                    <a:pt x="1801" y="356"/>
                  </a:lnTo>
                  <a:lnTo>
                    <a:pt x="1806" y="366"/>
                  </a:lnTo>
                  <a:lnTo>
                    <a:pt x="1813" y="376"/>
                  </a:lnTo>
                  <a:lnTo>
                    <a:pt x="1818" y="387"/>
                  </a:lnTo>
                  <a:lnTo>
                    <a:pt x="1821" y="398"/>
                  </a:lnTo>
                  <a:lnTo>
                    <a:pt x="1821" y="407"/>
                  </a:lnTo>
                  <a:lnTo>
                    <a:pt x="1818" y="414"/>
                  </a:lnTo>
                  <a:lnTo>
                    <a:pt x="1812" y="41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31920" y="4963680"/>
              <a:ext cx="718200" cy="220680"/>
            </a:xfrm>
            <a:custGeom>
              <a:avLst/>
              <a:gdLst/>
              <a:ahLst/>
              <a:rect l="l" t="t" r="r" b="b"/>
              <a:pathLst>
                <a:path w="1742" h="527">
                  <a:moveTo>
                    <a:pt x="1722" y="378"/>
                  </a:moveTo>
                  <a:lnTo>
                    <a:pt x="388" y="525"/>
                  </a:lnTo>
                  <a:lnTo>
                    <a:pt x="377" y="527"/>
                  </a:lnTo>
                  <a:lnTo>
                    <a:pt x="366" y="527"/>
                  </a:lnTo>
                  <a:lnTo>
                    <a:pt x="356" y="524"/>
                  </a:lnTo>
                  <a:lnTo>
                    <a:pt x="343" y="522"/>
                  </a:lnTo>
                  <a:lnTo>
                    <a:pt x="333" y="518"/>
                  </a:lnTo>
                  <a:lnTo>
                    <a:pt x="323" y="514"/>
                  </a:lnTo>
                  <a:lnTo>
                    <a:pt x="314" y="508"/>
                  </a:lnTo>
                  <a:lnTo>
                    <a:pt x="307" y="501"/>
                  </a:lnTo>
                  <a:lnTo>
                    <a:pt x="0" y="135"/>
                  </a:lnTo>
                  <a:lnTo>
                    <a:pt x="1288" y="0"/>
                  </a:lnTo>
                  <a:lnTo>
                    <a:pt x="1705" y="315"/>
                  </a:lnTo>
                  <a:lnTo>
                    <a:pt x="1711" y="321"/>
                  </a:lnTo>
                  <a:lnTo>
                    <a:pt x="1721" y="330"/>
                  </a:lnTo>
                  <a:lnTo>
                    <a:pt x="1729" y="339"/>
                  </a:lnTo>
                  <a:lnTo>
                    <a:pt x="1737" y="350"/>
                  </a:lnTo>
                  <a:lnTo>
                    <a:pt x="1742" y="359"/>
                  </a:lnTo>
                  <a:lnTo>
                    <a:pt x="1742" y="368"/>
                  </a:lnTo>
                  <a:lnTo>
                    <a:pt x="1735" y="375"/>
                  </a:lnTo>
                  <a:lnTo>
                    <a:pt x="1722" y="378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31920" y="4963680"/>
              <a:ext cx="627120" cy="148680"/>
            </a:xfrm>
            <a:custGeom>
              <a:avLst/>
              <a:gdLst/>
              <a:ahLst/>
              <a:rect l="l" t="t" r="r" b="b"/>
              <a:pathLst>
                <a:path w="1524" h="355">
                  <a:moveTo>
                    <a:pt x="1505" y="217"/>
                  </a:moveTo>
                  <a:lnTo>
                    <a:pt x="244" y="355"/>
                  </a:lnTo>
                  <a:lnTo>
                    <a:pt x="235" y="355"/>
                  </a:lnTo>
                  <a:lnTo>
                    <a:pt x="223" y="355"/>
                  </a:lnTo>
                  <a:lnTo>
                    <a:pt x="212" y="352"/>
                  </a:lnTo>
                  <a:lnTo>
                    <a:pt x="201" y="351"/>
                  </a:lnTo>
                  <a:lnTo>
                    <a:pt x="191" y="347"/>
                  </a:lnTo>
                  <a:lnTo>
                    <a:pt x="180" y="342"/>
                  </a:lnTo>
                  <a:lnTo>
                    <a:pt x="172" y="336"/>
                  </a:lnTo>
                  <a:lnTo>
                    <a:pt x="164" y="330"/>
                  </a:lnTo>
                  <a:lnTo>
                    <a:pt x="0" y="135"/>
                  </a:lnTo>
                  <a:lnTo>
                    <a:pt x="1288" y="0"/>
                  </a:lnTo>
                  <a:lnTo>
                    <a:pt x="1488" y="153"/>
                  </a:lnTo>
                  <a:lnTo>
                    <a:pt x="1494" y="158"/>
                  </a:lnTo>
                  <a:lnTo>
                    <a:pt x="1504" y="167"/>
                  </a:lnTo>
                  <a:lnTo>
                    <a:pt x="1513" y="177"/>
                  </a:lnTo>
                  <a:lnTo>
                    <a:pt x="1520" y="188"/>
                  </a:lnTo>
                  <a:lnTo>
                    <a:pt x="1524" y="198"/>
                  </a:lnTo>
                  <a:lnTo>
                    <a:pt x="1524" y="206"/>
                  </a:lnTo>
                  <a:lnTo>
                    <a:pt x="1518" y="213"/>
                  </a:lnTo>
                  <a:lnTo>
                    <a:pt x="1505" y="217"/>
                  </a:lnTo>
                  <a:close/>
                </a:path>
              </a:pathLst>
            </a:custGeom>
            <a:solidFill>
              <a:srgbClr val="8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89600" y="5138280"/>
              <a:ext cx="570600" cy="105120"/>
            </a:xfrm>
            <a:custGeom>
              <a:avLst/>
              <a:gdLst/>
              <a:ahLst/>
              <a:rect l="l" t="t" r="r" b="b"/>
              <a:pathLst>
                <a:path w="1386" h="249">
                  <a:moveTo>
                    <a:pt x="1386" y="0"/>
                  </a:moveTo>
                  <a:lnTo>
                    <a:pt x="0" y="152"/>
                  </a:lnTo>
                  <a:lnTo>
                    <a:pt x="0" y="249"/>
                  </a:lnTo>
                  <a:lnTo>
                    <a:pt x="1386" y="9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713920" y="5022360"/>
              <a:ext cx="140760" cy="209880"/>
            </a:xfrm>
            <a:custGeom>
              <a:avLst/>
              <a:gdLst/>
              <a:ahLst/>
              <a:rect l="l" t="t" r="r" b="b"/>
              <a:pathLst>
                <a:path w="343" h="500">
                  <a:moveTo>
                    <a:pt x="0" y="0"/>
                  </a:moveTo>
                  <a:lnTo>
                    <a:pt x="343" y="405"/>
                  </a:lnTo>
                  <a:lnTo>
                    <a:pt x="342" y="500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86400" y="4204440"/>
              <a:ext cx="173160" cy="817920"/>
            </a:xfrm>
            <a:custGeom>
              <a:avLst/>
              <a:gdLst/>
              <a:ahLst/>
              <a:rect l="l" t="t" r="r" b="b"/>
              <a:pathLst>
                <a:path w="419" h="1950">
                  <a:moveTo>
                    <a:pt x="419" y="1950"/>
                  </a:moveTo>
                  <a:lnTo>
                    <a:pt x="93" y="1550"/>
                  </a:lnTo>
                  <a:lnTo>
                    <a:pt x="0" y="519"/>
                  </a:lnTo>
                  <a:lnTo>
                    <a:pt x="289" y="0"/>
                  </a:lnTo>
                  <a:lnTo>
                    <a:pt x="419" y="195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521680" y="4809240"/>
              <a:ext cx="123480" cy="2232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21680" y="4812480"/>
              <a:ext cx="123480" cy="21600"/>
            </a:xfrm>
            <a:prstGeom prst="line">
              <a:avLst/>
            </a:prstGeom>
            <a:ln w="6480">
              <a:solidFill>
                <a:srgbClr val="d2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99800" y="4116960"/>
              <a:ext cx="1048680" cy="921960"/>
            </a:xfrm>
            <a:custGeom>
              <a:avLst/>
              <a:gdLst/>
              <a:ahLst/>
              <a:rect l="l" t="t" r="r" b="b"/>
              <a:pathLst>
                <a:path w="2546" h="2196">
                  <a:moveTo>
                    <a:pt x="47" y="149"/>
                  </a:moveTo>
                  <a:lnTo>
                    <a:pt x="39" y="150"/>
                  </a:lnTo>
                  <a:lnTo>
                    <a:pt x="30" y="154"/>
                  </a:lnTo>
                  <a:lnTo>
                    <a:pt x="22" y="160"/>
                  </a:lnTo>
                  <a:lnTo>
                    <a:pt x="15" y="167"/>
                  </a:lnTo>
                  <a:lnTo>
                    <a:pt x="8" y="175"/>
                  </a:lnTo>
                  <a:lnTo>
                    <a:pt x="4" y="183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134" y="2139"/>
                  </a:lnTo>
                  <a:lnTo>
                    <a:pt x="137" y="2150"/>
                  </a:lnTo>
                  <a:lnTo>
                    <a:pt x="142" y="2160"/>
                  </a:lnTo>
                  <a:lnTo>
                    <a:pt x="150" y="2171"/>
                  </a:lnTo>
                  <a:lnTo>
                    <a:pt x="160" y="2179"/>
                  </a:lnTo>
                  <a:lnTo>
                    <a:pt x="170" y="2187"/>
                  </a:lnTo>
                  <a:lnTo>
                    <a:pt x="182" y="2192"/>
                  </a:lnTo>
                  <a:lnTo>
                    <a:pt x="195" y="2195"/>
                  </a:lnTo>
                  <a:lnTo>
                    <a:pt x="207" y="2196"/>
                  </a:lnTo>
                  <a:lnTo>
                    <a:pt x="2400" y="1959"/>
                  </a:lnTo>
                  <a:lnTo>
                    <a:pt x="2406" y="1958"/>
                  </a:lnTo>
                  <a:lnTo>
                    <a:pt x="2414" y="1954"/>
                  </a:lnTo>
                  <a:lnTo>
                    <a:pt x="2425" y="1949"/>
                  </a:lnTo>
                  <a:lnTo>
                    <a:pt x="2435" y="1942"/>
                  </a:lnTo>
                  <a:lnTo>
                    <a:pt x="2447" y="1934"/>
                  </a:lnTo>
                  <a:lnTo>
                    <a:pt x="2460" y="1924"/>
                  </a:lnTo>
                  <a:lnTo>
                    <a:pt x="2472" y="1915"/>
                  </a:lnTo>
                  <a:lnTo>
                    <a:pt x="2485" y="1904"/>
                  </a:lnTo>
                  <a:lnTo>
                    <a:pt x="2498" y="1895"/>
                  </a:lnTo>
                  <a:lnTo>
                    <a:pt x="2508" y="1884"/>
                  </a:lnTo>
                  <a:lnTo>
                    <a:pt x="2519" y="1872"/>
                  </a:lnTo>
                  <a:lnTo>
                    <a:pt x="2528" y="1863"/>
                  </a:lnTo>
                  <a:lnTo>
                    <a:pt x="2535" y="1853"/>
                  </a:lnTo>
                  <a:lnTo>
                    <a:pt x="2542" y="1845"/>
                  </a:lnTo>
                  <a:lnTo>
                    <a:pt x="2544" y="1837"/>
                  </a:lnTo>
                  <a:lnTo>
                    <a:pt x="2546" y="1831"/>
                  </a:lnTo>
                  <a:lnTo>
                    <a:pt x="2349" y="46"/>
                  </a:lnTo>
                  <a:lnTo>
                    <a:pt x="2346" y="35"/>
                  </a:lnTo>
                  <a:lnTo>
                    <a:pt x="2339" y="26"/>
                  </a:lnTo>
                  <a:lnTo>
                    <a:pt x="2331" y="18"/>
                  </a:lnTo>
                  <a:lnTo>
                    <a:pt x="2321" y="11"/>
                  </a:lnTo>
                  <a:lnTo>
                    <a:pt x="2309" y="6"/>
                  </a:lnTo>
                  <a:lnTo>
                    <a:pt x="2297" y="3"/>
                  </a:lnTo>
                  <a:lnTo>
                    <a:pt x="2283" y="0"/>
                  </a:lnTo>
                  <a:lnTo>
                    <a:pt x="2272" y="0"/>
                  </a:lnTo>
                  <a:lnTo>
                    <a:pt x="47" y="149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83320" y="4885560"/>
              <a:ext cx="965520" cy="154440"/>
            </a:xfrm>
            <a:custGeom>
              <a:avLst/>
              <a:gdLst/>
              <a:ahLst/>
              <a:rect l="l" t="t" r="r" b="b"/>
              <a:pathLst>
                <a:path w="2343" h="368">
                  <a:moveTo>
                    <a:pt x="52" y="296"/>
                  </a:moveTo>
                  <a:lnTo>
                    <a:pt x="0" y="368"/>
                  </a:lnTo>
                  <a:lnTo>
                    <a:pt x="2197" y="128"/>
                  </a:lnTo>
                  <a:lnTo>
                    <a:pt x="2213" y="126"/>
                  </a:lnTo>
                  <a:lnTo>
                    <a:pt x="2230" y="122"/>
                  </a:lnTo>
                  <a:lnTo>
                    <a:pt x="2245" y="116"/>
                  </a:lnTo>
                  <a:lnTo>
                    <a:pt x="2258" y="111"/>
                  </a:lnTo>
                  <a:lnTo>
                    <a:pt x="2273" y="104"/>
                  </a:lnTo>
                  <a:lnTo>
                    <a:pt x="2285" y="96"/>
                  </a:lnTo>
                  <a:lnTo>
                    <a:pt x="2296" y="87"/>
                  </a:lnTo>
                  <a:lnTo>
                    <a:pt x="2307" y="79"/>
                  </a:lnTo>
                  <a:lnTo>
                    <a:pt x="2315" y="69"/>
                  </a:lnTo>
                  <a:lnTo>
                    <a:pt x="2323" y="59"/>
                  </a:lnTo>
                  <a:lnTo>
                    <a:pt x="2329" y="48"/>
                  </a:lnTo>
                  <a:lnTo>
                    <a:pt x="2335" y="39"/>
                  </a:lnTo>
                  <a:lnTo>
                    <a:pt x="2339" y="28"/>
                  </a:lnTo>
                  <a:lnTo>
                    <a:pt x="2341" y="18"/>
                  </a:lnTo>
                  <a:lnTo>
                    <a:pt x="2343" y="9"/>
                  </a:lnTo>
                  <a:lnTo>
                    <a:pt x="2343" y="0"/>
                  </a:lnTo>
                  <a:lnTo>
                    <a:pt x="52" y="296"/>
                  </a:lnTo>
                  <a:close/>
                </a:path>
              </a:pathLst>
            </a:custGeom>
            <a:solidFill>
              <a:srgbClr val="53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633640" y="4114800"/>
              <a:ext cx="1014840" cy="895320"/>
            </a:xfrm>
            <a:custGeom>
              <a:avLst/>
              <a:gdLst/>
              <a:ahLst/>
              <a:rect l="l" t="t" r="r" b="b"/>
              <a:pathLst>
                <a:path w="2464" h="2132">
                  <a:moveTo>
                    <a:pt x="44" y="145"/>
                  </a:moveTo>
                  <a:lnTo>
                    <a:pt x="36" y="146"/>
                  </a:lnTo>
                  <a:lnTo>
                    <a:pt x="28" y="150"/>
                  </a:lnTo>
                  <a:lnTo>
                    <a:pt x="20" y="155"/>
                  </a:lnTo>
                  <a:lnTo>
                    <a:pt x="13" y="162"/>
                  </a:lnTo>
                  <a:lnTo>
                    <a:pt x="8" y="169"/>
                  </a:lnTo>
                  <a:lnTo>
                    <a:pt x="3" y="178"/>
                  </a:lnTo>
                  <a:lnTo>
                    <a:pt x="0" y="186"/>
                  </a:lnTo>
                  <a:lnTo>
                    <a:pt x="0" y="196"/>
                  </a:lnTo>
                  <a:lnTo>
                    <a:pt x="130" y="2077"/>
                  </a:lnTo>
                  <a:lnTo>
                    <a:pt x="131" y="2088"/>
                  </a:lnTo>
                  <a:lnTo>
                    <a:pt x="137" y="2097"/>
                  </a:lnTo>
                  <a:lnTo>
                    <a:pt x="145" y="2108"/>
                  </a:lnTo>
                  <a:lnTo>
                    <a:pt x="154" y="2116"/>
                  </a:lnTo>
                  <a:lnTo>
                    <a:pt x="165" y="2124"/>
                  </a:lnTo>
                  <a:lnTo>
                    <a:pt x="176" y="2129"/>
                  </a:lnTo>
                  <a:lnTo>
                    <a:pt x="188" y="2132"/>
                  </a:lnTo>
                  <a:lnTo>
                    <a:pt x="200" y="2132"/>
                  </a:lnTo>
                  <a:lnTo>
                    <a:pt x="2399" y="1892"/>
                  </a:lnTo>
                  <a:lnTo>
                    <a:pt x="2410" y="1889"/>
                  </a:lnTo>
                  <a:lnTo>
                    <a:pt x="2422" y="1885"/>
                  </a:lnTo>
                  <a:lnTo>
                    <a:pt x="2433" y="1879"/>
                  </a:lnTo>
                  <a:lnTo>
                    <a:pt x="2444" y="1872"/>
                  </a:lnTo>
                  <a:lnTo>
                    <a:pt x="2453" y="1862"/>
                  </a:lnTo>
                  <a:lnTo>
                    <a:pt x="2460" y="1853"/>
                  </a:lnTo>
                  <a:lnTo>
                    <a:pt x="2464" y="1842"/>
                  </a:lnTo>
                  <a:lnTo>
                    <a:pt x="2464" y="1832"/>
                  </a:lnTo>
                  <a:lnTo>
                    <a:pt x="2279" y="44"/>
                  </a:lnTo>
                  <a:lnTo>
                    <a:pt x="2276" y="35"/>
                  </a:lnTo>
                  <a:lnTo>
                    <a:pt x="2271" y="25"/>
                  </a:lnTo>
                  <a:lnTo>
                    <a:pt x="2261" y="17"/>
                  </a:lnTo>
                  <a:lnTo>
                    <a:pt x="2252" y="11"/>
                  </a:lnTo>
                  <a:lnTo>
                    <a:pt x="2240" y="5"/>
                  </a:lnTo>
                  <a:lnTo>
                    <a:pt x="2228" y="3"/>
                  </a:lnTo>
                  <a:lnTo>
                    <a:pt x="2216" y="0"/>
                  </a:lnTo>
                  <a:lnTo>
                    <a:pt x="2205" y="0"/>
                  </a:lnTo>
                  <a:lnTo>
                    <a:pt x="44" y="145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601600" y="4204440"/>
              <a:ext cx="53640" cy="810360"/>
            </a:xfrm>
            <a:prstGeom prst="line">
              <a:avLst/>
            </a:prstGeom>
            <a:ln w="792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36680" y="4883760"/>
              <a:ext cx="704880" cy="177120"/>
            </a:xfrm>
            <a:custGeom>
              <a:avLst/>
              <a:gdLst/>
              <a:ahLst/>
              <a:rect l="l" t="t" r="r" b="b"/>
              <a:pathLst>
                <a:path w="1711" h="422">
                  <a:moveTo>
                    <a:pt x="0" y="187"/>
                  </a:moveTo>
                  <a:lnTo>
                    <a:pt x="1711" y="0"/>
                  </a:lnTo>
                  <a:lnTo>
                    <a:pt x="1711" y="233"/>
                  </a:lnTo>
                  <a:lnTo>
                    <a:pt x="0" y="422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36680" y="4883760"/>
              <a:ext cx="704880" cy="112320"/>
            </a:xfrm>
            <a:custGeom>
              <a:avLst/>
              <a:gdLst/>
              <a:ahLst/>
              <a:rect l="l" t="t" r="r" b="b"/>
              <a:pathLst>
                <a:path w="1711" h="269">
                  <a:moveTo>
                    <a:pt x="0" y="187"/>
                  </a:moveTo>
                  <a:lnTo>
                    <a:pt x="1711" y="0"/>
                  </a:lnTo>
                  <a:lnTo>
                    <a:pt x="1711" y="77"/>
                  </a:lnTo>
                  <a:lnTo>
                    <a:pt x="0" y="26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672520" y="4151520"/>
              <a:ext cx="948240" cy="838080"/>
            </a:xfrm>
            <a:custGeom>
              <a:avLst/>
              <a:gdLst/>
              <a:ahLst/>
              <a:rect l="l" t="t" r="r" b="b"/>
              <a:pathLst>
                <a:path w="2300" h="1997">
                  <a:moveTo>
                    <a:pt x="62" y="140"/>
                  </a:moveTo>
                  <a:lnTo>
                    <a:pt x="2032" y="0"/>
                  </a:lnTo>
                  <a:lnTo>
                    <a:pt x="2046" y="0"/>
                  </a:lnTo>
                  <a:lnTo>
                    <a:pt x="2062" y="3"/>
                  </a:lnTo>
                  <a:lnTo>
                    <a:pt x="2077" y="8"/>
                  </a:lnTo>
                  <a:lnTo>
                    <a:pt x="2091" y="17"/>
                  </a:lnTo>
                  <a:lnTo>
                    <a:pt x="2103" y="26"/>
                  </a:lnTo>
                  <a:lnTo>
                    <a:pt x="2114" y="37"/>
                  </a:lnTo>
                  <a:lnTo>
                    <a:pt x="2121" y="49"/>
                  </a:lnTo>
                  <a:lnTo>
                    <a:pt x="2125" y="62"/>
                  </a:lnTo>
                  <a:lnTo>
                    <a:pt x="2136" y="164"/>
                  </a:lnTo>
                  <a:lnTo>
                    <a:pt x="2148" y="266"/>
                  </a:lnTo>
                  <a:lnTo>
                    <a:pt x="2157" y="366"/>
                  </a:lnTo>
                  <a:lnTo>
                    <a:pt x="2169" y="468"/>
                  </a:lnTo>
                  <a:lnTo>
                    <a:pt x="2180" y="570"/>
                  </a:lnTo>
                  <a:lnTo>
                    <a:pt x="2191" y="672"/>
                  </a:lnTo>
                  <a:lnTo>
                    <a:pt x="2201" y="772"/>
                  </a:lnTo>
                  <a:lnTo>
                    <a:pt x="2212" y="874"/>
                  </a:lnTo>
                  <a:lnTo>
                    <a:pt x="2224" y="976"/>
                  </a:lnTo>
                  <a:lnTo>
                    <a:pt x="2235" y="1076"/>
                  </a:lnTo>
                  <a:lnTo>
                    <a:pt x="2245" y="1178"/>
                  </a:lnTo>
                  <a:lnTo>
                    <a:pt x="2256" y="1280"/>
                  </a:lnTo>
                  <a:lnTo>
                    <a:pt x="2267" y="1382"/>
                  </a:lnTo>
                  <a:lnTo>
                    <a:pt x="2279" y="1482"/>
                  </a:lnTo>
                  <a:lnTo>
                    <a:pt x="2290" y="1584"/>
                  </a:lnTo>
                  <a:lnTo>
                    <a:pt x="2300" y="1686"/>
                  </a:lnTo>
                  <a:lnTo>
                    <a:pt x="2299" y="1699"/>
                  </a:lnTo>
                  <a:lnTo>
                    <a:pt x="2295" y="1714"/>
                  </a:lnTo>
                  <a:lnTo>
                    <a:pt x="2287" y="1728"/>
                  </a:lnTo>
                  <a:lnTo>
                    <a:pt x="2276" y="1740"/>
                  </a:lnTo>
                  <a:lnTo>
                    <a:pt x="2264" y="1750"/>
                  </a:lnTo>
                  <a:lnTo>
                    <a:pt x="2251" y="1760"/>
                  </a:lnTo>
                  <a:lnTo>
                    <a:pt x="2237" y="1766"/>
                  </a:lnTo>
                  <a:lnTo>
                    <a:pt x="2223" y="1769"/>
                  </a:lnTo>
                  <a:lnTo>
                    <a:pt x="228" y="1997"/>
                  </a:lnTo>
                  <a:lnTo>
                    <a:pt x="213" y="1997"/>
                  </a:lnTo>
                  <a:lnTo>
                    <a:pt x="198" y="1994"/>
                  </a:lnTo>
                  <a:lnTo>
                    <a:pt x="185" y="1988"/>
                  </a:lnTo>
                  <a:lnTo>
                    <a:pt x="172" y="1978"/>
                  </a:lnTo>
                  <a:lnTo>
                    <a:pt x="160" y="1969"/>
                  </a:lnTo>
                  <a:lnTo>
                    <a:pt x="150" y="1955"/>
                  </a:lnTo>
                  <a:lnTo>
                    <a:pt x="142" y="1943"/>
                  </a:lnTo>
                  <a:lnTo>
                    <a:pt x="139" y="1930"/>
                  </a:lnTo>
                  <a:lnTo>
                    <a:pt x="0" y="217"/>
                  </a:lnTo>
                  <a:lnTo>
                    <a:pt x="0" y="205"/>
                  </a:lnTo>
                  <a:lnTo>
                    <a:pt x="4" y="192"/>
                  </a:lnTo>
                  <a:lnTo>
                    <a:pt x="10" y="180"/>
                  </a:lnTo>
                  <a:lnTo>
                    <a:pt x="18" y="168"/>
                  </a:lnTo>
                  <a:lnTo>
                    <a:pt x="27" y="157"/>
                  </a:lnTo>
                  <a:lnTo>
                    <a:pt x="38" y="149"/>
                  </a:lnTo>
                  <a:lnTo>
                    <a:pt x="50" y="142"/>
                  </a:lnTo>
                  <a:lnTo>
                    <a:pt x="62" y="14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701320" y="4150800"/>
              <a:ext cx="920160" cy="829440"/>
            </a:xfrm>
            <a:custGeom>
              <a:avLst/>
              <a:gdLst/>
              <a:ahLst/>
              <a:rect l="l" t="t" r="r" b="b"/>
              <a:pathLst>
                <a:path w="2232" h="1976">
                  <a:moveTo>
                    <a:pt x="61" y="138"/>
                  </a:moveTo>
                  <a:lnTo>
                    <a:pt x="1965" y="0"/>
                  </a:lnTo>
                  <a:lnTo>
                    <a:pt x="1980" y="0"/>
                  </a:lnTo>
                  <a:lnTo>
                    <a:pt x="1995" y="2"/>
                  </a:lnTo>
                  <a:lnTo>
                    <a:pt x="2009" y="8"/>
                  </a:lnTo>
                  <a:lnTo>
                    <a:pt x="2024" y="16"/>
                  </a:lnTo>
                  <a:lnTo>
                    <a:pt x="2036" y="25"/>
                  </a:lnTo>
                  <a:lnTo>
                    <a:pt x="2047" y="36"/>
                  </a:lnTo>
                  <a:lnTo>
                    <a:pt x="2054" y="48"/>
                  </a:lnTo>
                  <a:lnTo>
                    <a:pt x="2058" y="61"/>
                  </a:lnTo>
                  <a:lnTo>
                    <a:pt x="2079" y="161"/>
                  </a:lnTo>
                  <a:lnTo>
                    <a:pt x="2098" y="261"/>
                  </a:lnTo>
                  <a:lnTo>
                    <a:pt x="2115" y="362"/>
                  </a:lnTo>
                  <a:lnTo>
                    <a:pt x="2131" y="462"/>
                  </a:lnTo>
                  <a:lnTo>
                    <a:pt x="2146" y="563"/>
                  </a:lnTo>
                  <a:lnTo>
                    <a:pt x="2159" y="664"/>
                  </a:lnTo>
                  <a:lnTo>
                    <a:pt x="2170" y="765"/>
                  </a:lnTo>
                  <a:lnTo>
                    <a:pt x="2181" y="867"/>
                  </a:lnTo>
                  <a:lnTo>
                    <a:pt x="2190" y="969"/>
                  </a:lnTo>
                  <a:lnTo>
                    <a:pt x="2198" y="1069"/>
                  </a:lnTo>
                  <a:lnTo>
                    <a:pt x="2206" y="1169"/>
                  </a:lnTo>
                  <a:lnTo>
                    <a:pt x="2212" y="1271"/>
                  </a:lnTo>
                  <a:lnTo>
                    <a:pt x="2218" y="1370"/>
                  </a:lnTo>
                  <a:lnTo>
                    <a:pt x="2222" y="1471"/>
                  </a:lnTo>
                  <a:lnTo>
                    <a:pt x="2228" y="1570"/>
                  </a:lnTo>
                  <a:lnTo>
                    <a:pt x="2232" y="1668"/>
                  </a:lnTo>
                  <a:lnTo>
                    <a:pt x="2230" y="1683"/>
                  </a:lnTo>
                  <a:lnTo>
                    <a:pt x="2226" y="1696"/>
                  </a:lnTo>
                  <a:lnTo>
                    <a:pt x="2218" y="1709"/>
                  </a:lnTo>
                  <a:lnTo>
                    <a:pt x="2208" y="1722"/>
                  </a:lnTo>
                  <a:lnTo>
                    <a:pt x="2197" y="1732"/>
                  </a:lnTo>
                  <a:lnTo>
                    <a:pt x="2182" y="1742"/>
                  </a:lnTo>
                  <a:lnTo>
                    <a:pt x="2169" y="1747"/>
                  </a:lnTo>
                  <a:lnTo>
                    <a:pt x="2155" y="1750"/>
                  </a:lnTo>
                  <a:lnTo>
                    <a:pt x="225" y="1976"/>
                  </a:lnTo>
                  <a:lnTo>
                    <a:pt x="211" y="1976"/>
                  </a:lnTo>
                  <a:lnTo>
                    <a:pt x="197" y="1973"/>
                  </a:lnTo>
                  <a:lnTo>
                    <a:pt x="183" y="1967"/>
                  </a:lnTo>
                  <a:lnTo>
                    <a:pt x="170" y="1957"/>
                  </a:lnTo>
                  <a:lnTo>
                    <a:pt x="158" y="1948"/>
                  </a:lnTo>
                  <a:lnTo>
                    <a:pt x="149" y="1936"/>
                  </a:lnTo>
                  <a:lnTo>
                    <a:pt x="142" y="1923"/>
                  </a:lnTo>
                  <a:lnTo>
                    <a:pt x="139" y="1909"/>
                  </a:lnTo>
                  <a:lnTo>
                    <a:pt x="135" y="1805"/>
                  </a:lnTo>
                  <a:lnTo>
                    <a:pt x="132" y="1700"/>
                  </a:lnTo>
                  <a:lnTo>
                    <a:pt x="128" y="1596"/>
                  </a:lnTo>
                  <a:lnTo>
                    <a:pt x="124" y="1491"/>
                  </a:lnTo>
                  <a:lnTo>
                    <a:pt x="120" y="1385"/>
                  </a:lnTo>
                  <a:lnTo>
                    <a:pt x="115" y="1281"/>
                  </a:lnTo>
                  <a:lnTo>
                    <a:pt x="108" y="1175"/>
                  </a:lnTo>
                  <a:lnTo>
                    <a:pt x="102" y="1068"/>
                  </a:lnTo>
                  <a:lnTo>
                    <a:pt x="94" y="962"/>
                  </a:lnTo>
                  <a:lnTo>
                    <a:pt x="84" y="856"/>
                  </a:lnTo>
                  <a:lnTo>
                    <a:pt x="75" y="749"/>
                  </a:lnTo>
                  <a:lnTo>
                    <a:pt x="63" y="643"/>
                  </a:lnTo>
                  <a:lnTo>
                    <a:pt x="49" y="536"/>
                  </a:lnTo>
                  <a:lnTo>
                    <a:pt x="35" y="430"/>
                  </a:lnTo>
                  <a:lnTo>
                    <a:pt x="19" y="323"/>
                  </a:lnTo>
                  <a:lnTo>
                    <a:pt x="0" y="215"/>
                  </a:lnTo>
                  <a:lnTo>
                    <a:pt x="1" y="202"/>
                  </a:lnTo>
                  <a:lnTo>
                    <a:pt x="4" y="190"/>
                  </a:lnTo>
                  <a:lnTo>
                    <a:pt x="11" y="177"/>
                  </a:lnTo>
                  <a:lnTo>
                    <a:pt x="17" y="165"/>
                  </a:lnTo>
                  <a:lnTo>
                    <a:pt x="28" y="155"/>
                  </a:lnTo>
                  <a:lnTo>
                    <a:pt x="39" y="147"/>
                  </a:lnTo>
                  <a:lnTo>
                    <a:pt x="49" y="140"/>
                  </a:lnTo>
                  <a:lnTo>
                    <a:pt x="61" y="138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84120" y="4234680"/>
              <a:ext cx="764280" cy="650520"/>
            </a:xfrm>
            <a:custGeom>
              <a:avLst/>
              <a:gdLst/>
              <a:ahLst/>
              <a:rect l="l" t="t" r="r" b="b"/>
              <a:pathLst>
                <a:path w="1856" h="1551">
                  <a:moveTo>
                    <a:pt x="73" y="109"/>
                  </a:moveTo>
                  <a:lnTo>
                    <a:pt x="121" y="104"/>
                  </a:lnTo>
                  <a:lnTo>
                    <a:pt x="169" y="98"/>
                  </a:lnTo>
                  <a:lnTo>
                    <a:pt x="217" y="92"/>
                  </a:lnTo>
                  <a:lnTo>
                    <a:pt x="267" y="86"/>
                  </a:lnTo>
                  <a:lnTo>
                    <a:pt x="315" y="81"/>
                  </a:lnTo>
                  <a:lnTo>
                    <a:pt x="363" y="75"/>
                  </a:lnTo>
                  <a:lnTo>
                    <a:pt x="413" y="71"/>
                  </a:lnTo>
                  <a:lnTo>
                    <a:pt x="461" y="66"/>
                  </a:lnTo>
                  <a:lnTo>
                    <a:pt x="510" y="61"/>
                  </a:lnTo>
                  <a:lnTo>
                    <a:pt x="559" y="57"/>
                  </a:lnTo>
                  <a:lnTo>
                    <a:pt x="607" y="53"/>
                  </a:lnTo>
                  <a:lnTo>
                    <a:pt x="657" y="47"/>
                  </a:lnTo>
                  <a:lnTo>
                    <a:pt x="705" y="43"/>
                  </a:lnTo>
                  <a:lnTo>
                    <a:pt x="753" y="39"/>
                  </a:lnTo>
                  <a:lnTo>
                    <a:pt x="803" y="35"/>
                  </a:lnTo>
                  <a:lnTo>
                    <a:pt x="851" y="31"/>
                  </a:lnTo>
                  <a:lnTo>
                    <a:pt x="901" y="29"/>
                  </a:lnTo>
                  <a:lnTo>
                    <a:pt x="949" y="26"/>
                  </a:lnTo>
                  <a:lnTo>
                    <a:pt x="997" y="22"/>
                  </a:lnTo>
                  <a:lnTo>
                    <a:pt x="1047" y="19"/>
                  </a:lnTo>
                  <a:lnTo>
                    <a:pt x="1095" y="16"/>
                  </a:lnTo>
                  <a:lnTo>
                    <a:pt x="1145" y="14"/>
                  </a:lnTo>
                  <a:lnTo>
                    <a:pt x="1193" y="11"/>
                  </a:lnTo>
                  <a:lnTo>
                    <a:pt x="1242" y="10"/>
                  </a:lnTo>
                  <a:lnTo>
                    <a:pt x="1291" y="7"/>
                  </a:lnTo>
                  <a:lnTo>
                    <a:pt x="1340" y="6"/>
                  </a:lnTo>
                  <a:lnTo>
                    <a:pt x="1388" y="4"/>
                  </a:lnTo>
                  <a:lnTo>
                    <a:pt x="1438" y="3"/>
                  </a:lnTo>
                  <a:lnTo>
                    <a:pt x="1486" y="2"/>
                  </a:lnTo>
                  <a:lnTo>
                    <a:pt x="1536" y="2"/>
                  </a:lnTo>
                  <a:lnTo>
                    <a:pt x="1584" y="0"/>
                  </a:lnTo>
                  <a:lnTo>
                    <a:pt x="1634" y="0"/>
                  </a:lnTo>
                  <a:lnTo>
                    <a:pt x="1642" y="0"/>
                  </a:lnTo>
                  <a:lnTo>
                    <a:pt x="1650" y="3"/>
                  </a:lnTo>
                  <a:lnTo>
                    <a:pt x="1659" y="6"/>
                  </a:lnTo>
                  <a:lnTo>
                    <a:pt x="1667" y="8"/>
                  </a:lnTo>
                  <a:lnTo>
                    <a:pt x="1675" y="14"/>
                  </a:lnTo>
                  <a:lnTo>
                    <a:pt x="1683" y="19"/>
                  </a:lnTo>
                  <a:lnTo>
                    <a:pt x="1690" y="26"/>
                  </a:lnTo>
                  <a:lnTo>
                    <a:pt x="1696" y="33"/>
                  </a:lnTo>
                  <a:lnTo>
                    <a:pt x="1703" y="39"/>
                  </a:lnTo>
                  <a:lnTo>
                    <a:pt x="1710" y="47"/>
                  </a:lnTo>
                  <a:lnTo>
                    <a:pt x="1715" y="55"/>
                  </a:lnTo>
                  <a:lnTo>
                    <a:pt x="1719" y="65"/>
                  </a:lnTo>
                  <a:lnTo>
                    <a:pt x="1723" y="73"/>
                  </a:lnTo>
                  <a:lnTo>
                    <a:pt x="1727" y="81"/>
                  </a:lnTo>
                  <a:lnTo>
                    <a:pt x="1730" y="90"/>
                  </a:lnTo>
                  <a:lnTo>
                    <a:pt x="1731" y="98"/>
                  </a:lnTo>
                  <a:lnTo>
                    <a:pt x="1745" y="173"/>
                  </a:lnTo>
                  <a:lnTo>
                    <a:pt x="1755" y="247"/>
                  </a:lnTo>
                  <a:lnTo>
                    <a:pt x="1767" y="322"/>
                  </a:lnTo>
                  <a:lnTo>
                    <a:pt x="1777" y="397"/>
                  </a:lnTo>
                  <a:lnTo>
                    <a:pt x="1788" y="471"/>
                  </a:lnTo>
                  <a:lnTo>
                    <a:pt x="1797" y="546"/>
                  </a:lnTo>
                  <a:lnTo>
                    <a:pt x="1805" y="621"/>
                  </a:lnTo>
                  <a:lnTo>
                    <a:pt x="1813" y="696"/>
                  </a:lnTo>
                  <a:lnTo>
                    <a:pt x="1821" y="771"/>
                  </a:lnTo>
                  <a:lnTo>
                    <a:pt x="1828" y="846"/>
                  </a:lnTo>
                  <a:lnTo>
                    <a:pt x="1833" y="921"/>
                  </a:lnTo>
                  <a:lnTo>
                    <a:pt x="1840" y="996"/>
                  </a:lnTo>
                  <a:lnTo>
                    <a:pt x="1844" y="1071"/>
                  </a:lnTo>
                  <a:lnTo>
                    <a:pt x="1849" y="1146"/>
                  </a:lnTo>
                  <a:lnTo>
                    <a:pt x="1852" y="1221"/>
                  </a:lnTo>
                  <a:lnTo>
                    <a:pt x="1856" y="1297"/>
                  </a:lnTo>
                  <a:lnTo>
                    <a:pt x="1855" y="1312"/>
                  </a:lnTo>
                  <a:lnTo>
                    <a:pt x="1851" y="1327"/>
                  </a:lnTo>
                  <a:lnTo>
                    <a:pt x="1844" y="1342"/>
                  </a:lnTo>
                  <a:lnTo>
                    <a:pt x="1834" y="1356"/>
                  </a:lnTo>
                  <a:lnTo>
                    <a:pt x="1824" y="1368"/>
                  </a:lnTo>
                  <a:lnTo>
                    <a:pt x="1812" y="1379"/>
                  </a:lnTo>
                  <a:lnTo>
                    <a:pt x="1798" y="1386"/>
                  </a:lnTo>
                  <a:lnTo>
                    <a:pt x="1784" y="1391"/>
                  </a:lnTo>
                  <a:lnTo>
                    <a:pt x="1734" y="1398"/>
                  </a:lnTo>
                  <a:lnTo>
                    <a:pt x="1684" y="1405"/>
                  </a:lnTo>
                  <a:lnTo>
                    <a:pt x="1635" y="1413"/>
                  </a:lnTo>
                  <a:lnTo>
                    <a:pt x="1585" y="1419"/>
                  </a:lnTo>
                  <a:lnTo>
                    <a:pt x="1536" y="1426"/>
                  </a:lnTo>
                  <a:lnTo>
                    <a:pt x="1486" y="1433"/>
                  </a:lnTo>
                  <a:lnTo>
                    <a:pt x="1437" y="1439"/>
                  </a:lnTo>
                  <a:lnTo>
                    <a:pt x="1387" y="1446"/>
                  </a:lnTo>
                  <a:lnTo>
                    <a:pt x="1337" y="1452"/>
                  </a:lnTo>
                  <a:lnTo>
                    <a:pt x="1288" y="1458"/>
                  </a:lnTo>
                  <a:lnTo>
                    <a:pt x="1238" y="1464"/>
                  </a:lnTo>
                  <a:lnTo>
                    <a:pt x="1189" y="1469"/>
                  </a:lnTo>
                  <a:lnTo>
                    <a:pt x="1139" y="1474"/>
                  </a:lnTo>
                  <a:lnTo>
                    <a:pt x="1088" y="1481"/>
                  </a:lnTo>
                  <a:lnTo>
                    <a:pt x="1039" y="1486"/>
                  </a:lnTo>
                  <a:lnTo>
                    <a:pt x="989" y="1490"/>
                  </a:lnTo>
                  <a:lnTo>
                    <a:pt x="940" y="1496"/>
                  </a:lnTo>
                  <a:lnTo>
                    <a:pt x="890" y="1501"/>
                  </a:lnTo>
                  <a:lnTo>
                    <a:pt x="840" y="1505"/>
                  </a:lnTo>
                  <a:lnTo>
                    <a:pt x="790" y="1509"/>
                  </a:lnTo>
                  <a:lnTo>
                    <a:pt x="740" y="1514"/>
                  </a:lnTo>
                  <a:lnTo>
                    <a:pt x="690" y="1519"/>
                  </a:lnTo>
                  <a:lnTo>
                    <a:pt x="639" y="1523"/>
                  </a:lnTo>
                  <a:lnTo>
                    <a:pt x="590" y="1525"/>
                  </a:lnTo>
                  <a:lnTo>
                    <a:pt x="540" y="1529"/>
                  </a:lnTo>
                  <a:lnTo>
                    <a:pt x="491" y="1533"/>
                  </a:lnTo>
                  <a:lnTo>
                    <a:pt x="441" y="1537"/>
                  </a:lnTo>
                  <a:lnTo>
                    <a:pt x="390" y="1540"/>
                  </a:lnTo>
                  <a:lnTo>
                    <a:pt x="341" y="1543"/>
                  </a:lnTo>
                  <a:lnTo>
                    <a:pt x="291" y="1547"/>
                  </a:lnTo>
                  <a:lnTo>
                    <a:pt x="240" y="1548"/>
                  </a:lnTo>
                  <a:lnTo>
                    <a:pt x="191" y="1551"/>
                  </a:lnTo>
                  <a:lnTo>
                    <a:pt x="184" y="1551"/>
                  </a:lnTo>
                  <a:lnTo>
                    <a:pt x="175" y="1551"/>
                  </a:lnTo>
                  <a:lnTo>
                    <a:pt x="168" y="1548"/>
                  </a:lnTo>
                  <a:lnTo>
                    <a:pt x="160" y="1547"/>
                  </a:lnTo>
                  <a:lnTo>
                    <a:pt x="152" y="1543"/>
                  </a:lnTo>
                  <a:lnTo>
                    <a:pt x="144" y="1540"/>
                  </a:lnTo>
                  <a:lnTo>
                    <a:pt x="136" y="1536"/>
                  </a:lnTo>
                  <a:lnTo>
                    <a:pt x="129" y="1531"/>
                  </a:lnTo>
                  <a:lnTo>
                    <a:pt x="122" y="1525"/>
                  </a:lnTo>
                  <a:lnTo>
                    <a:pt x="116" y="1520"/>
                  </a:lnTo>
                  <a:lnTo>
                    <a:pt x="110" y="1513"/>
                  </a:lnTo>
                  <a:lnTo>
                    <a:pt x="105" y="1506"/>
                  </a:lnTo>
                  <a:lnTo>
                    <a:pt x="101" y="1501"/>
                  </a:lnTo>
                  <a:lnTo>
                    <a:pt x="97" y="1493"/>
                  </a:lnTo>
                  <a:lnTo>
                    <a:pt x="94" y="1486"/>
                  </a:lnTo>
                  <a:lnTo>
                    <a:pt x="93" y="1478"/>
                  </a:lnTo>
                  <a:lnTo>
                    <a:pt x="85" y="1319"/>
                  </a:lnTo>
                  <a:lnTo>
                    <a:pt x="74" y="1159"/>
                  </a:lnTo>
                  <a:lnTo>
                    <a:pt x="65" y="1000"/>
                  </a:lnTo>
                  <a:lnTo>
                    <a:pt x="53" y="841"/>
                  </a:lnTo>
                  <a:lnTo>
                    <a:pt x="39" y="681"/>
                  </a:lnTo>
                  <a:lnTo>
                    <a:pt x="27" y="522"/>
                  </a:lnTo>
                  <a:lnTo>
                    <a:pt x="14" y="362"/>
                  </a:lnTo>
                  <a:lnTo>
                    <a:pt x="0" y="203"/>
                  </a:lnTo>
                  <a:lnTo>
                    <a:pt x="2" y="188"/>
                  </a:lnTo>
                  <a:lnTo>
                    <a:pt x="6" y="172"/>
                  </a:lnTo>
                  <a:lnTo>
                    <a:pt x="12" y="157"/>
                  </a:lnTo>
                  <a:lnTo>
                    <a:pt x="22" y="142"/>
                  </a:lnTo>
                  <a:lnTo>
                    <a:pt x="33" y="130"/>
                  </a:lnTo>
                  <a:lnTo>
                    <a:pt x="45" y="121"/>
                  </a:lnTo>
                  <a:lnTo>
                    <a:pt x="58" y="113"/>
                  </a:lnTo>
                  <a:lnTo>
                    <a:pt x="73" y="109"/>
                  </a:lnTo>
                  <a:close/>
                </a:path>
              </a:pathLst>
            </a:custGeom>
            <a:solidFill>
              <a:srgbClr val="8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790600" y="4239720"/>
              <a:ext cx="751680" cy="639720"/>
            </a:xfrm>
            <a:custGeom>
              <a:avLst/>
              <a:gdLst/>
              <a:ahLst/>
              <a:rect l="l" t="t" r="r" b="b"/>
              <a:pathLst>
                <a:path w="1825" h="1525">
                  <a:moveTo>
                    <a:pt x="72" y="108"/>
                  </a:moveTo>
                  <a:lnTo>
                    <a:pt x="120" y="102"/>
                  </a:lnTo>
                  <a:lnTo>
                    <a:pt x="167" y="96"/>
                  </a:lnTo>
                  <a:lnTo>
                    <a:pt x="215" y="92"/>
                  </a:lnTo>
                  <a:lnTo>
                    <a:pt x="263" y="86"/>
                  </a:lnTo>
                  <a:lnTo>
                    <a:pt x="310" y="81"/>
                  </a:lnTo>
                  <a:lnTo>
                    <a:pt x="358" y="75"/>
                  </a:lnTo>
                  <a:lnTo>
                    <a:pt x="406" y="70"/>
                  </a:lnTo>
                  <a:lnTo>
                    <a:pt x="453" y="65"/>
                  </a:lnTo>
                  <a:lnTo>
                    <a:pt x="502" y="61"/>
                  </a:lnTo>
                  <a:lnTo>
                    <a:pt x="550" y="55"/>
                  </a:lnTo>
                  <a:lnTo>
                    <a:pt x="598" y="51"/>
                  </a:lnTo>
                  <a:lnTo>
                    <a:pt x="645" y="47"/>
                  </a:lnTo>
                  <a:lnTo>
                    <a:pt x="693" y="43"/>
                  </a:lnTo>
                  <a:lnTo>
                    <a:pt x="741" y="39"/>
                  </a:lnTo>
                  <a:lnTo>
                    <a:pt x="790" y="35"/>
                  </a:lnTo>
                  <a:lnTo>
                    <a:pt x="838" y="31"/>
                  </a:lnTo>
                  <a:lnTo>
                    <a:pt x="885" y="29"/>
                  </a:lnTo>
                  <a:lnTo>
                    <a:pt x="933" y="25"/>
                  </a:lnTo>
                  <a:lnTo>
                    <a:pt x="981" y="22"/>
                  </a:lnTo>
                  <a:lnTo>
                    <a:pt x="1029" y="19"/>
                  </a:lnTo>
                  <a:lnTo>
                    <a:pt x="1078" y="17"/>
                  </a:lnTo>
                  <a:lnTo>
                    <a:pt x="1126" y="14"/>
                  </a:lnTo>
                  <a:lnTo>
                    <a:pt x="1174" y="11"/>
                  </a:lnTo>
                  <a:lnTo>
                    <a:pt x="1221" y="10"/>
                  </a:lnTo>
                  <a:lnTo>
                    <a:pt x="1269" y="8"/>
                  </a:lnTo>
                  <a:lnTo>
                    <a:pt x="1317" y="6"/>
                  </a:lnTo>
                  <a:lnTo>
                    <a:pt x="1366" y="4"/>
                  </a:lnTo>
                  <a:lnTo>
                    <a:pt x="1414" y="3"/>
                  </a:lnTo>
                  <a:lnTo>
                    <a:pt x="1462" y="2"/>
                  </a:lnTo>
                  <a:lnTo>
                    <a:pt x="1510" y="2"/>
                  </a:lnTo>
                  <a:lnTo>
                    <a:pt x="1559" y="0"/>
                  </a:lnTo>
                  <a:lnTo>
                    <a:pt x="1605" y="0"/>
                  </a:lnTo>
                  <a:lnTo>
                    <a:pt x="1615" y="0"/>
                  </a:lnTo>
                  <a:lnTo>
                    <a:pt x="1623" y="3"/>
                  </a:lnTo>
                  <a:lnTo>
                    <a:pt x="1631" y="6"/>
                  </a:lnTo>
                  <a:lnTo>
                    <a:pt x="1639" y="8"/>
                  </a:lnTo>
                  <a:lnTo>
                    <a:pt x="1647" y="14"/>
                  </a:lnTo>
                  <a:lnTo>
                    <a:pt x="1655" y="19"/>
                  </a:lnTo>
                  <a:lnTo>
                    <a:pt x="1662" y="26"/>
                  </a:lnTo>
                  <a:lnTo>
                    <a:pt x="1668" y="31"/>
                  </a:lnTo>
                  <a:lnTo>
                    <a:pt x="1675" y="39"/>
                  </a:lnTo>
                  <a:lnTo>
                    <a:pt x="1680" y="47"/>
                  </a:lnTo>
                  <a:lnTo>
                    <a:pt x="1686" y="55"/>
                  </a:lnTo>
                  <a:lnTo>
                    <a:pt x="1691" y="63"/>
                  </a:lnTo>
                  <a:lnTo>
                    <a:pt x="1695" y="71"/>
                  </a:lnTo>
                  <a:lnTo>
                    <a:pt x="1698" y="81"/>
                  </a:lnTo>
                  <a:lnTo>
                    <a:pt x="1702" y="89"/>
                  </a:lnTo>
                  <a:lnTo>
                    <a:pt x="1703" y="97"/>
                  </a:lnTo>
                  <a:lnTo>
                    <a:pt x="1715" y="171"/>
                  </a:lnTo>
                  <a:lnTo>
                    <a:pt x="1727" y="243"/>
                  </a:lnTo>
                  <a:lnTo>
                    <a:pt x="1738" y="317"/>
                  </a:lnTo>
                  <a:lnTo>
                    <a:pt x="1747" y="389"/>
                  </a:lnTo>
                  <a:lnTo>
                    <a:pt x="1758" y="463"/>
                  </a:lnTo>
                  <a:lnTo>
                    <a:pt x="1766" y="536"/>
                  </a:lnTo>
                  <a:lnTo>
                    <a:pt x="1776" y="610"/>
                  </a:lnTo>
                  <a:lnTo>
                    <a:pt x="1784" y="684"/>
                  </a:lnTo>
                  <a:lnTo>
                    <a:pt x="1790" y="758"/>
                  </a:lnTo>
                  <a:lnTo>
                    <a:pt x="1797" y="831"/>
                  </a:lnTo>
                  <a:lnTo>
                    <a:pt x="1802" y="905"/>
                  </a:lnTo>
                  <a:lnTo>
                    <a:pt x="1809" y="980"/>
                  </a:lnTo>
                  <a:lnTo>
                    <a:pt x="1813" y="1054"/>
                  </a:lnTo>
                  <a:lnTo>
                    <a:pt x="1817" y="1127"/>
                  </a:lnTo>
                  <a:lnTo>
                    <a:pt x="1821" y="1201"/>
                  </a:lnTo>
                  <a:lnTo>
                    <a:pt x="1825" y="1275"/>
                  </a:lnTo>
                  <a:lnTo>
                    <a:pt x="1824" y="1289"/>
                  </a:lnTo>
                  <a:lnTo>
                    <a:pt x="1820" y="1306"/>
                  </a:lnTo>
                  <a:lnTo>
                    <a:pt x="1813" y="1319"/>
                  </a:lnTo>
                  <a:lnTo>
                    <a:pt x="1804" y="1334"/>
                  </a:lnTo>
                  <a:lnTo>
                    <a:pt x="1793" y="1346"/>
                  </a:lnTo>
                  <a:lnTo>
                    <a:pt x="1781" y="1356"/>
                  </a:lnTo>
                  <a:lnTo>
                    <a:pt x="1768" y="1363"/>
                  </a:lnTo>
                  <a:lnTo>
                    <a:pt x="1753" y="1367"/>
                  </a:lnTo>
                  <a:lnTo>
                    <a:pt x="1705" y="1374"/>
                  </a:lnTo>
                  <a:lnTo>
                    <a:pt x="1656" y="1382"/>
                  </a:lnTo>
                  <a:lnTo>
                    <a:pt x="1608" y="1389"/>
                  </a:lnTo>
                  <a:lnTo>
                    <a:pt x="1559" y="1395"/>
                  </a:lnTo>
                  <a:lnTo>
                    <a:pt x="1510" y="1402"/>
                  </a:lnTo>
                  <a:lnTo>
                    <a:pt x="1462" y="1409"/>
                  </a:lnTo>
                  <a:lnTo>
                    <a:pt x="1413" y="1415"/>
                  </a:lnTo>
                  <a:lnTo>
                    <a:pt x="1364" y="1421"/>
                  </a:lnTo>
                  <a:lnTo>
                    <a:pt x="1315" y="1427"/>
                  </a:lnTo>
                  <a:lnTo>
                    <a:pt x="1267" y="1434"/>
                  </a:lnTo>
                  <a:lnTo>
                    <a:pt x="1217" y="1440"/>
                  </a:lnTo>
                  <a:lnTo>
                    <a:pt x="1169" y="1445"/>
                  </a:lnTo>
                  <a:lnTo>
                    <a:pt x="1119" y="1450"/>
                  </a:lnTo>
                  <a:lnTo>
                    <a:pt x="1071" y="1456"/>
                  </a:lnTo>
                  <a:lnTo>
                    <a:pt x="1021" y="1461"/>
                  </a:lnTo>
                  <a:lnTo>
                    <a:pt x="973" y="1466"/>
                  </a:lnTo>
                  <a:lnTo>
                    <a:pt x="924" y="1470"/>
                  </a:lnTo>
                  <a:lnTo>
                    <a:pt x="875" y="1476"/>
                  </a:lnTo>
                  <a:lnTo>
                    <a:pt x="826" y="1480"/>
                  </a:lnTo>
                  <a:lnTo>
                    <a:pt x="778" y="1484"/>
                  </a:lnTo>
                  <a:lnTo>
                    <a:pt x="728" y="1489"/>
                  </a:lnTo>
                  <a:lnTo>
                    <a:pt x="678" y="1493"/>
                  </a:lnTo>
                  <a:lnTo>
                    <a:pt x="630" y="1497"/>
                  </a:lnTo>
                  <a:lnTo>
                    <a:pt x="581" y="1500"/>
                  </a:lnTo>
                  <a:lnTo>
                    <a:pt x="531" y="1504"/>
                  </a:lnTo>
                  <a:lnTo>
                    <a:pt x="483" y="1508"/>
                  </a:lnTo>
                  <a:lnTo>
                    <a:pt x="435" y="1511"/>
                  </a:lnTo>
                  <a:lnTo>
                    <a:pt x="385" y="1515"/>
                  </a:lnTo>
                  <a:lnTo>
                    <a:pt x="335" y="1517"/>
                  </a:lnTo>
                  <a:lnTo>
                    <a:pt x="287" y="1520"/>
                  </a:lnTo>
                  <a:lnTo>
                    <a:pt x="238" y="1523"/>
                  </a:lnTo>
                  <a:lnTo>
                    <a:pt x="188" y="1525"/>
                  </a:lnTo>
                  <a:lnTo>
                    <a:pt x="181" y="1525"/>
                  </a:lnTo>
                  <a:lnTo>
                    <a:pt x="173" y="1524"/>
                  </a:lnTo>
                  <a:lnTo>
                    <a:pt x="165" y="1523"/>
                  </a:lnTo>
                  <a:lnTo>
                    <a:pt x="157" y="1521"/>
                  </a:lnTo>
                  <a:lnTo>
                    <a:pt x="149" y="1517"/>
                  </a:lnTo>
                  <a:lnTo>
                    <a:pt x="141" y="1513"/>
                  </a:lnTo>
                  <a:lnTo>
                    <a:pt x="134" y="1509"/>
                  </a:lnTo>
                  <a:lnTo>
                    <a:pt x="126" y="1505"/>
                  </a:lnTo>
                  <a:lnTo>
                    <a:pt x="120" y="1500"/>
                  </a:lnTo>
                  <a:lnTo>
                    <a:pt x="114" y="1494"/>
                  </a:lnTo>
                  <a:lnTo>
                    <a:pt x="108" y="1489"/>
                  </a:lnTo>
                  <a:lnTo>
                    <a:pt x="104" y="1482"/>
                  </a:lnTo>
                  <a:lnTo>
                    <a:pt x="100" y="1476"/>
                  </a:lnTo>
                  <a:lnTo>
                    <a:pt x="96" y="1469"/>
                  </a:lnTo>
                  <a:lnTo>
                    <a:pt x="93" y="1461"/>
                  </a:lnTo>
                  <a:lnTo>
                    <a:pt x="92" y="1454"/>
                  </a:lnTo>
                  <a:lnTo>
                    <a:pt x="84" y="1297"/>
                  </a:lnTo>
                  <a:lnTo>
                    <a:pt x="74" y="1141"/>
                  </a:lnTo>
                  <a:lnTo>
                    <a:pt x="63" y="984"/>
                  </a:lnTo>
                  <a:lnTo>
                    <a:pt x="51" y="827"/>
                  </a:lnTo>
                  <a:lnTo>
                    <a:pt x="39" y="670"/>
                  </a:lnTo>
                  <a:lnTo>
                    <a:pt x="26" y="512"/>
                  </a:lnTo>
                  <a:lnTo>
                    <a:pt x="14" y="357"/>
                  </a:lnTo>
                  <a:lnTo>
                    <a:pt x="0" y="200"/>
                  </a:lnTo>
                  <a:lnTo>
                    <a:pt x="2" y="184"/>
                  </a:lnTo>
                  <a:lnTo>
                    <a:pt x="6" y="169"/>
                  </a:lnTo>
                  <a:lnTo>
                    <a:pt x="13" y="155"/>
                  </a:lnTo>
                  <a:lnTo>
                    <a:pt x="22" y="141"/>
                  </a:lnTo>
                  <a:lnTo>
                    <a:pt x="33" y="129"/>
                  </a:lnTo>
                  <a:lnTo>
                    <a:pt x="45" y="118"/>
                  </a:lnTo>
                  <a:lnTo>
                    <a:pt x="58" y="112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89520" y="4981320"/>
              <a:ext cx="48600" cy="81360"/>
            </a:xfrm>
            <a:custGeom>
              <a:avLst/>
              <a:gdLst/>
              <a:ahLst/>
              <a:rect l="l" t="t" r="r" b="b"/>
              <a:pathLst>
                <a:path w="118" h="193">
                  <a:moveTo>
                    <a:pt x="118" y="0"/>
                  </a:moveTo>
                  <a:lnTo>
                    <a:pt x="93" y="0"/>
                  </a:lnTo>
                  <a:lnTo>
                    <a:pt x="93" y="67"/>
                  </a:lnTo>
                  <a:lnTo>
                    <a:pt x="91" y="73"/>
                  </a:lnTo>
                  <a:lnTo>
                    <a:pt x="87" y="80"/>
                  </a:lnTo>
                  <a:lnTo>
                    <a:pt x="83" y="86"/>
                  </a:lnTo>
                  <a:lnTo>
                    <a:pt x="77" y="91"/>
                  </a:lnTo>
                  <a:lnTo>
                    <a:pt x="70" y="95"/>
                  </a:lnTo>
                  <a:lnTo>
                    <a:pt x="63" y="99"/>
                  </a:lnTo>
                  <a:lnTo>
                    <a:pt x="54" y="102"/>
                  </a:lnTo>
                  <a:lnTo>
                    <a:pt x="47" y="103"/>
                  </a:lnTo>
                  <a:lnTo>
                    <a:pt x="0" y="11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2"/>
                  </a:lnTo>
                  <a:lnTo>
                    <a:pt x="6" y="185"/>
                  </a:lnTo>
                  <a:lnTo>
                    <a:pt x="10" y="189"/>
                  </a:lnTo>
                  <a:lnTo>
                    <a:pt x="14" y="190"/>
                  </a:lnTo>
                  <a:lnTo>
                    <a:pt x="19" y="193"/>
                  </a:lnTo>
                  <a:lnTo>
                    <a:pt x="23" y="193"/>
                  </a:lnTo>
                  <a:lnTo>
                    <a:pt x="27" y="193"/>
                  </a:lnTo>
                  <a:lnTo>
                    <a:pt x="114" y="187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752880" y="5718960"/>
              <a:ext cx="319680" cy="92880"/>
            </a:xfrm>
            <a:custGeom>
              <a:avLst/>
              <a:gdLst/>
              <a:ahLst/>
              <a:rect l="l" t="t" r="r" b="b"/>
              <a:pathLst>
                <a:path w="775" h="221">
                  <a:moveTo>
                    <a:pt x="636" y="0"/>
                  </a:moveTo>
                  <a:lnTo>
                    <a:pt x="720" y="30"/>
                  </a:lnTo>
                  <a:lnTo>
                    <a:pt x="734" y="32"/>
                  </a:lnTo>
                  <a:lnTo>
                    <a:pt x="746" y="38"/>
                  </a:lnTo>
                  <a:lnTo>
                    <a:pt x="757" y="42"/>
                  </a:lnTo>
                  <a:lnTo>
                    <a:pt x="766" y="46"/>
                  </a:lnTo>
                  <a:lnTo>
                    <a:pt x="773" y="51"/>
                  </a:lnTo>
                  <a:lnTo>
                    <a:pt x="775" y="55"/>
                  </a:lnTo>
                  <a:lnTo>
                    <a:pt x="773" y="59"/>
                  </a:lnTo>
                  <a:lnTo>
                    <a:pt x="765" y="63"/>
                  </a:lnTo>
                  <a:lnTo>
                    <a:pt x="369" y="202"/>
                  </a:lnTo>
                  <a:lnTo>
                    <a:pt x="351" y="208"/>
                  </a:lnTo>
                  <a:lnTo>
                    <a:pt x="333" y="213"/>
                  </a:lnTo>
                  <a:lnTo>
                    <a:pt x="316" y="216"/>
                  </a:lnTo>
                  <a:lnTo>
                    <a:pt x="298" y="218"/>
                  </a:lnTo>
                  <a:lnTo>
                    <a:pt x="282" y="220"/>
                  </a:lnTo>
                  <a:lnTo>
                    <a:pt x="266" y="221"/>
                  </a:lnTo>
                  <a:lnTo>
                    <a:pt x="250" y="221"/>
                  </a:lnTo>
                  <a:lnTo>
                    <a:pt x="234" y="221"/>
                  </a:lnTo>
                  <a:lnTo>
                    <a:pt x="218" y="220"/>
                  </a:lnTo>
                  <a:lnTo>
                    <a:pt x="202" y="218"/>
                  </a:lnTo>
                  <a:lnTo>
                    <a:pt x="186" y="216"/>
                  </a:lnTo>
                  <a:lnTo>
                    <a:pt x="170" y="213"/>
                  </a:lnTo>
                  <a:lnTo>
                    <a:pt x="154" y="210"/>
                  </a:lnTo>
                  <a:lnTo>
                    <a:pt x="136" y="206"/>
                  </a:lnTo>
                  <a:lnTo>
                    <a:pt x="119" y="202"/>
                  </a:lnTo>
                  <a:lnTo>
                    <a:pt x="100" y="198"/>
                  </a:lnTo>
                  <a:lnTo>
                    <a:pt x="91" y="197"/>
                  </a:lnTo>
                  <a:lnTo>
                    <a:pt x="83" y="193"/>
                  </a:lnTo>
                  <a:lnTo>
                    <a:pt x="73" y="190"/>
                  </a:lnTo>
                  <a:lnTo>
                    <a:pt x="65" y="186"/>
                  </a:lnTo>
                  <a:lnTo>
                    <a:pt x="57" y="182"/>
                  </a:lnTo>
                  <a:lnTo>
                    <a:pt x="49" y="177"/>
                  </a:lnTo>
                  <a:lnTo>
                    <a:pt x="41" y="173"/>
                  </a:lnTo>
                  <a:lnTo>
                    <a:pt x="33" y="166"/>
                  </a:lnTo>
                  <a:lnTo>
                    <a:pt x="26" y="161"/>
                  </a:lnTo>
                  <a:lnTo>
                    <a:pt x="21" y="156"/>
                  </a:lnTo>
                  <a:lnTo>
                    <a:pt x="16" y="149"/>
                  </a:lnTo>
                  <a:lnTo>
                    <a:pt x="10" y="142"/>
                  </a:lnTo>
                  <a:lnTo>
                    <a:pt x="6" y="135"/>
                  </a:lnTo>
                  <a:lnTo>
                    <a:pt x="4" y="129"/>
                  </a:lnTo>
                  <a:lnTo>
                    <a:pt x="1" y="121"/>
                  </a:lnTo>
                  <a:lnTo>
                    <a:pt x="0" y="113"/>
                  </a:lnTo>
                  <a:lnTo>
                    <a:pt x="0" y="3"/>
                  </a:lnTo>
                  <a:lnTo>
                    <a:pt x="2" y="3"/>
                  </a:lnTo>
                  <a:lnTo>
                    <a:pt x="6" y="3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4" y="3"/>
                  </a:lnTo>
                  <a:lnTo>
                    <a:pt x="56" y="3"/>
                  </a:lnTo>
                  <a:lnTo>
                    <a:pt x="71" y="3"/>
                  </a:lnTo>
                  <a:lnTo>
                    <a:pt x="87" y="3"/>
                  </a:lnTo>
                  <a:lnTo>
                    <a:pt x="104" y="3"/>
                  </a:lnTo>
                  <a:lnTo>
                    <a:pt x="123" y="3"/>
                  </a:lnTo>
                  <a:lnTo>
                    <a:pt x="143" y="3"/>
                  </a:lnTo>
                  <a:lnTo>
                    <a:pt x="164" y="3"/>
                  </a:lnTo>
                  <a:lnTo>
                    <a:pt x="186" y="3"/>
                  </a:lnTo>
                  <a:lnTo>
                    <a:pt x="209" y="3"/>
                  </a:lnTo>
                  <a:lnTo>
                    <a:pt x="231" y="3"/>
                  </a:lnTo>
                  <a:lnTo>
                    <a:pt x="255" y="3"/>
                  </a:lnTo>
                  <a:lnTo>
                    <a:pt x="280" y="3"/>
                  </a:lnTo>
                  <a:lnTo>
                    <a:pt x="305" y="3"/>
                  </a:lnTo>
                  <a:lnTo>
                    <a:pt x="331" y="3"/>
                  </a:lnTo>
                  <a:lnTo>
                    <a:pt x="356" y="1"/>
                  </a:lnTo>
                  <a:lnTo>
                    <a:pt x="383" y="1"/>
                  </a:lnTo>
                  <a:lnTo>
                    <a:pt x="408" y="1"/>
                  </a:lnTo>
                  <a:lnTo>
                    <a:pt x="435" y="1"/>
                  </a:lnTo>
                  <a:lnTo>
                    <a:pt x="460" y="1"/>
                  </a:lnTo>
                  <a:lnTo>
                    <a:pt x="487" y="1"/>
                  </a:lnTo>
                  <a:lnTo>
                    <a:pt x="513" y="1"/>
                  </a:lnTo>
                  <a:lnTo>
                    <a:pt x="538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13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52880" y="5678280"/>
              <a:ext cx="318240" cy="124920"/>
            </a:xfrm>
            <a:custGeom>
              <a:avLst/>
              <a:gdLst/>
              <a:ahLst/>
              <a:rect l="l" t="t" r="r" b="b"/>
              <a:pathLst>
                <a:path w="771" h="297">
                  <a:moveTo>
                    <a:pt x="766" y="0"/>
                  </a:moveTo>
                  <a:lnTo>
                    <a:pt x="771" y="125"/>
                  </a:lnTo>
                  <a:lnTo>
                    <a:pt x="771" y="131"/>
                  </a:lnTo>
                  <a:lnTo>
                    <a:pt x="770" y="137"/>
                  </a:lnTo>
                  <a:lnTo>
                    <a:pt x="766" y="142"/>
                  </a:lnTo>
                  <a:lnTo>
                    <a:pt x="759" y="146"/>
                  </a:lnTo>
                  <a:lnTo>
                    <a:pt x="369" y="279"/>
                  </a:lnTo>
                  <a:lnTo>
                    <a:pt x="351" y="284"/>
                  </a:lnTo>
                  <a:lnTo>
                    <a:pt x="333" y="289"/>
                  </a:lnTo>
                  <a:lnTo>
                    <a:pt x="316" y="292"/>
                  </a:lnTo>
                  <a:lnTo>
                    <a:pt x="298" y="295"/>
                  </a:lnTo>
                  <a:lnTo>
                    <a:pt x="282" y="297"/>
                  </a:lnTo>
                  <a:lnTo>
                    <a:pt x="266" y="297"/>
                  </a:lnTo>
                  <a:lnTo>
                    <a:pt x="250" y="297"/>
                  </a:lnTo>
                  <a:lnTo>
                    <a:pt x="234" y="297"/>
                  </a:lnTo>
                  <a:lnTo>
                    <a:pt x="218" y="296"/>
                  </a:lnTo>
                  <a:lnTo>
                    <a:pt x="202" y="295"/>
                  </a:lnTo>
                  <a:lnTo>
                    <a:pt x="186" y="292"/>
                  </a:lnTo>
                  <a:lnTo>
                    <a:pt x="170" y="289"/>
                  </a:lnTo>
                  <a:lnTo>
                    <a:pt x="154" y="287"/>
                  </a:lnTo>
                  <a:lnTo>
                    <a:pt x="136" y="283"/>
                  </a:lnTo>
                  <a:lnTo>
                    <a:pt x="119" y="279"/>
                  </a:lnTo>
                  <a:lnTo>
                    <a:pt x="100" y="275"/>
                  </a:lnTo>
                  <a:lnTo>
                    <a:pt x="91" y="273"/>
                  </a:lnTo>
                  <a:lnTo>
                    <a:pt x="83" y="269"/>
                  </a:lnTo>
                  <a:lnTo>
                    <a:pt x="73" y="267"/>
                  </a:lnTo>
                  <a:lnTo>
                    <a:pt x="65" y="263"/>
                  </a:lnTo>
                  <a:lnTo>
                    <a:pt x="57" y="259"/>
                  </a:lnTo>
                  <a:lnTo>
                    <a:pt x="49" y="253"/>
                  </a:lnTo>
                  <a:lnTo>
                    <a:pt x="41" y="249"/>
                  </a:lnTo>
                  <a:lnTo>
                    <a:pt x="33" y="242"/>
                  </a:lnTo>
                  <a:lnTo>
                    <a:pt x="26" y="237"/>
                  </a:lnTo>
                  <a:lnTo>
                    <a:pt x="21" y="232"/>
                  </a:lnTo>
                  <a:lnTo>
                    <a:pt x="16" y="225"/>
                  </a:lnTo>
                  <a:lnTo>
                    <a:pt x="10" y="218"/>
                  </a:lnTo>
                  <a:lnTo>
                    <a:pt x="6" y="212"/>
                  </a:lnTo>
                  <a:lnTo>
                    <a:pt x="4" y="205"/>
                  </a:lnTo>
                  <a:lnTo>
                    <a:pt x="1" y="197"/>
                  </a:lnTo>
                  <a:lnTo>
                    <a:pt x="0" y="189"/>
                  </a:lnTo>
                  <a:lnTo>
                    <a:pt x="0" y="79"/>
                  </a:lnTo>
                  <a:lnTo>
                    <a:pt x="2" y="88"/>
                  </a:lnTo>
                  <a:lnTo>
                    <a:pt x="5" y="98"/>
                  </a:lnTo>
                  <a:lnTo>
                    <a:pt x="12" y="107"/>
                  </a:lnTo>
                  <a:lnTo>
                    <a:pt x="18" y="115"/>
                  </a:lnTo>
                  <a:lnTo>
                    <a:pt x="26" y="122"/>
                  </a:lnTo>
                  <a:lnTo>
                    <a:pt x="34" y="129"/>
                  </a:lnTo>
                  <a:lnTo>
                    <a:pt x="44" y="134"/>
                  </a:lnTo>
                  <a:lnTo>
                    <a:pt x="53" y="138"/>
                  </a:lnTo>
                  <a:lnTo>
                    <a:pt x="64" y="141"/>
                  </a:lnTo>
                  <a:lnTo>
                    <a:pt x="73" y="145"/>
                  </a:lnTo>
                  <a:lnTo>
                    <a:pt x="84" y="147"/>
                  </a:lnTo>
                  <a:lnTo>
                    <a:pt x="95" y="150"/>
                  </a:lnTo>
                  <a:lnTo>
                    <a:pt x="105" y="153"/>
                  </a:lnTo>
                  <a:lnTo>
                    <a:pt x="116" y="155"/>
                  </a:lnTo>
                  <a:lnTo>
                    <a:pt x="127" y="158"/>
                  </a:lnTo>
                  <a:lnTo>
                    <a:pt x="138" y="159"/>
                  </a:lnTo>
                  <a:lnTo>
                    <a:pt x="150" y="161"/>
                  </a:lnTo>
                  <a:lnTo>
                    <a:pt x="160" y="162"/>
                  </a:lnTo>
                  <a:lnTo>
                    <a:pt x="171" y="163"/>
                  </a:lnTo>
                  <a:lnTo>
                    <a:pt x="183" y="163"/>
                  </a:lnTo>
                  <a:lnTo>
                    <a:pt x="194" y="163"/>
                  </a:lnTo>
                  <a:lnTo>
                    <a:pt x="205" y="163"/>
                  </a:lnTo>
                  <a:lnTo>
                    <a:pt x="215" y="163"/>
                  </a:lnTo>
                  <a:lnTo>
                    <a:pt x="226" y="163"/>
                  </a:lnTo>
                  <a:lnTo>
                    <a:pt x="237" y="163"/>
                  </a:lnTo>
                  <a:lnTo>
                    <a:pt x="246" y="162"/>
                  </a:lnTo>
                  <a:lnTo>
                    <a:pt x="257" y="161"/>
                  </a:lnTo>
                  <a:lnTo>
                    <a:pt x="266" y="159"/>
                  </a:lnTo>
                  <a:lnTo>
                    <a:pt x="277" y="157"/>
                  </a:lnTo>
                  <a:lnTo>
                    <a:pt x="288" y="155"/>
                  </a:lnTo>
                  <a:lnTo>
                    <a:pt x="297" y="153"/>
                  </a:lnTo>
                  <a:lnTo>
                    <a:pt x="308" y="150"/>
                  </a:lnTo>
                  <a:lnTo>
                    <a:pt x="318" y="147"/>
                  </a:lnTo>
                  <a:lnTo>
                    <a:pt x="329" y="145"/>
                  </a:lnTo>
                  <a:lnTo>
                    <a:pt x="339" y="141"/>
                  </a:lnTo>
                  <a:lnTo>
                    <a:pt x="349" y="138"/>
                  </a:lnTo>
                  <a:lnTo>
                    <a:pt x="359" y="135"/>
                  </a:lnTo>
                  <a:lnTo>
                    <a:pt x="368" y="131"/>
                  </a:lnTo>
                  <a:lnTo>
                    <a:pt x="377" y="129"/>
                  </a:lnTo>
                  <a:lnTo>
                    <a:pt x="387" y="125"/>
                  </a:lnTo>
                  <a:lnTo>
                    <a:pt x="403" y="118"/>
                  </a:lnTo>
                  <a:lnTo>
                    <a:pt x="418" y="112"/>
                  </a:lnTo>
                  <a:lnTo>
                    <a:pt x="432" y="106"/>
                  </a:lnTo>
                  <a:lnTo>
                    <a:pt x="444" y="99"/>
                  </a:lnTo>
                  <a:lnTo>
                    <a:pt x="458" y="92"/>
                  </a:lnTo>
                  <a:lnTo>
                    <a:pt x="470" y="86"/>
                  </a:lnTo>
                  <a:lnTo>
                    <a:pt x="482" y="78"/>
                  </a:lnTo>
                  <a:lnTo>
                    <a:pt x="495" y="71"/>
                  </a:lnTo>
                  <a:lnTo>
                    <a:pt x="506" y="64"/>
                  </a:lnTo>
                  <a:lnTo>
                    <a:pt x="518" y="58"/>
                  </a:lnTo>
                  <a:lnTo>
                    <a:pt x="531" y="51"/>
                  </a:lnTo>
                  <a:lnTo>
                    <a:pt x="544" y="46"/>
                  </a:lnTo>
                  <a:lnTo>
                    <a:pt x="558" y="39"/>
                  </a:lnTo>
                  <a:lnTo>
                    <a:pt x="572" y="33"/>
                  </a:lnTo>
                  <a:lnTo>
                    <a:pt x="586" y="28"/>
                  </a:lnTo>
                  <a:lnTo>
                    <a:pt x="604" y="23"/>
                  </a:lnTo>
                  <a:lnTo>
                    <a:pt x="611" y="20"/>
                  </a:lnTo>
                  <a:lnTo>
                    <a:pt x="619" y="19"/>
                  </a:lnTo>
                  <a:lnTo>
                    <a:pt x="628" y="16"/>
                  </a:lnTo>
                  <a:lnTo>
                    <a:pt x="636" y="15"/>
                  </a:lnTo>
                  <a:lnTo>
                    <a:pt x="645" y="13"/>
                  </a:lnTo>
                  <a:lnTo>
                    <a:pt x="655" y="11"/>
                  </a:lnTo>
                  <a:lnTo>
                    <a:pt x="665" y="9"/>
                  </a:lnTo>
                  <a:lnTo>
                    <a:pt x="675" y="8"/>
                  </a:lnTo>
                  <a:lnTo>
                    <a:pt x="684" y="7"/>
                  </a:lnTo>
                  <a:lnTo>
                    <a:pt x="695" y="7"/>
                  </a:lnTo>
                  <a:lnTo>
                    <a:pt x="706" y="5"/>
                  </a:lnTo>
                  <a:lnTo>
                    <a:pt x="716" y="5"/>
                  </a:lnTo>
                  <a:lnTo>
                    <a:pt x="728" y="5"/>
                  </a:lnTo>
                  <a:lnTo>
                    <a:pt x="739" y="5"/>
                  </a:lnTo>
                  <a:lnTo>
                    <a:pt x="750" y="7"/>
                  </a:lnTo>
                  <a:lnTo>
                    <a:pt x="762" y="8"/>
                  </a:lnTo>
                  <a:lnTo>
                    <a:pt x="765" y="7"/>
                  </a:lnTo>
                  <a:lnTo>
                    <a:pt x="766" y="4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905520" y="5680080"/>
              <a:ext cx="165600" cy="11556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1" y="276"/>
                  </a:moveTo>
                  <a:lnTo>
                    <a:pt x="391" y="143"/>
                  </a:lnTo>
                  <a:lnTo>
                    <a:pt x="403" y="122"/>
                  </a:lnTo>
                  <a:lnTo>
                    <a:pt x="398" y="1"/>
                  </a:lnTo>
                  <a:lnTo>
                    <a:pt x="213" y="0"/>
                  </a:lnTo>
                  <a:lnTo>
                    <a:pt x="0" y="128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752880" y="5623920"/>
              <a:ext cx="315720" cy="123480"/>
            </a:xfrm>
            <a:custGeom>
              <a:avLst/>
              <a:gdLst/>
              <a:ahLst/>
              <a:rect l="l" t="t" r="r" b="b"/>
              <a:pathLst>
                <a:path w="766" h="293">
                  <a:moveTo>
                    <a:pt x="331" y="12"/>
                  </a:moveTo>
                  <a:lnTo>
                    <a:pt x="341" y="11"/>
                  </a:lnTo>
                  <a:lnTo>
                    <a:pt x="352" y="8"/>
                  </a:lnTo>
                  <a:lnTo>
                    <a:pt x="363" y="5"/>
                  </a:lnTo>
                  <a:lnTo>
                    <a:pt x="373" y="4"/>
                  </a:lnTo>
                  <a:lnTo>
                    <a:pt x="384" y="3"/>
                  </a:lnTo>
                  <a:lnTo>
                    <a:pt x="396" y="1"/>
                  </a:lnTo>
                  <a:lnTo>
                    <a:pt x="407" y="0"/>
                  </a:lnTo>
                  <a:lnTo>
                    <a:pt x="418" y="0"/>
                  </a:lnTo>
                  <a:lnTo>
                    <a:pt x="427" y="0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455" y="1"/>
                  </a:lnTo>
                  <a:lnTo>
                    <a:pt x="464" y="3"/>
                  </a:lnTo>
                  <a:lnTo>
                    <a:pt x="474" y="4"/>
                  </a:lnTo>
                  <a:lnTo>
                    <a:pt x="482" y="7"/>
                  </a:lnTo>
                  <a:lnTo>
                    <a:pt x="491" y="9"/>
                  </a:lnTo>
                  <a:lnTo>
                    <a:pt x="751" y="110"/>
                  </a:lnTo>
                  <a:lnTo>
                    <a:pt x="755" y="111"/>
                  </a:lnTo>
                  <a:lnTo>
                    <a:pt x="758" y="115"/>
                  </a:lnTo>
                  <a:lnTo>
                    <a:pt x="762" y="119"/>
                  </a:lnTo>
                  <a:lnTo>
                    <a:pt x="763" y="125"/>
                  </a:lnTo>
                  <a:lnTo>
                    <a:pt x="766" y="130"/>
                  </a:lnTo>
                  <a:lnTo>
                    <a:pt x="766" y="134"/>
                  </a:lnTo>
                  <a:lnTo>
                    <a:pt x="765" y="137"/>
                  </a:lnTo>
                  <a:lnTo>
                    <a:pt x="762" y="138"/>
                  </a:lnTo>
                  <a:lnTo>
                    <a:pt x="750" y="137"/>
                  </a:lnTo>
                  <a:lnTo>
                    <a:pt x="739" y="135"/>
                  </a:lnTo>
                  <a:lnTo>
                    <a:pt x="728" y="135"/>
                  </a:lnTo>
                  <a:lnTo>
                    <a:pt x="716" y="135"/>
                  </a:lnTo>
                  <a:lnTo>
                    <a:pt x="706" y="135"/>
                  </a:lnTo>
                  <a:lnTo>
                    <a:pt x="695" y="137"/>
                  </a:lnTo>
                  <a:lnTo>
                    <a:pt x="684" y="137"/>
                  </a:lnTo>
                  <a:lnTo>
                    <a:pt x="675" y="138"/>
                  </a:lnTo>
                  <a:lnTo>
                    <a:pt x="665" y="139"/>
                  </a:lnTo>
                  <a:lnTo>
                    <a:pt x="655" y="141"/>
                  </a:lnTo>
                  <a:lnTo>
                    <a:pt x="645" y="143"/>
                  </a:lnTo>
                  <a:lnTo>
                    <a:pt x="636" y="145"/>
                  </a:lnTo>
                  <a:lnTo>
                    <a:pt x="628" y="146"/>
                  </a:lnTo>
                  <a:lnTo>
                    <a:pt x="619" y="149"/>
                  </a:lnTo>
                  <a:lnTo>
                    <a:pt x="611" y="150"/>
                  </a:lnTo>
                  <a:lnTo>
                    <a:pt x="604" y="153"/>
                  </a:lnTo>
                  <a:lnTo>
                    <a:pt x="586" y="158"/>
                  </a:lnTo>
                  <a:lnTo>
                    <a:pt x="572" y="163"/>
                  </a:lnTo>
                  <a:lnTo>
                    <a:pt x="558" y="169"/>
                  </a:lnTo>
                  <a:lnTo>
                    <a:pt x="544" y="176"/>
                  </a:lnTo>
                  <a:lnTo>
                    <a:pt x="531" y="181"/>
                  </a:lnTo>
                  <a:lnTo>
                    <a:pt x="518" y="188"/>
                  </a:lnTo>
                  <a:lnTo>
                    <a:pt x="506" y="194"/>
                  </a:lnTo>
                  <a:lnTo>
                    <a:pt x="495" y="201"/>
                  </a:lnTo>
                  <a:lnTo>
                    <a:pt x="482" y="208"/>
                  </a:lnTo>
                  <a:lnTo>
                    <a:pt x="470" y="216"/>
                  </a:lnTo>
                  <a:lnTo>
                    <a:pt x="458" y="222"/>
                  </a:lnTo>
                  <a:lnTo>
                    <a:pt x="444" y="229"/>
                  </a:lnTo>
                  <a:lnTo>
                    <a:pt x="432" y="236"/>
                  </a:lnTo>
                  <a:lnTo>
                    <a:pt x="418" y="242"/>
                  </a:lnTo>
                  <a:lnTo>
                    <a:pt x="403" y="248"/>
                  </a:lnTo>
                  <a:lnTo>
                    <a:pt x="387" y="255"/>
                  </a:lnTo>
                  <a:lnTo>
                    <a:pt x="377" y="259"/>
                  </a:lnTo>
                  <a:lnTo>
                    <a:pt x="368" y="261"/>
                  </a:lnTo>
                  <a:lnTo>
                    <a:pt x="359" y="265"/>
                  </a:lnTo>
                  <a:lnTo>
                    <a:pt x="349" y="268"/>
                  </a:lnTo>
                  <a:lnTo>
                    <a:pt x="339" y="271"/>
                  </a:lnTo>
                  <a:lnTo>
                    <a:pt x="329" y="275"/>
                  </a:lnTo>
                  <a:lnTo>
                    <a:pt x="318" y="277"/>
                  </a:lnTo>
                  <a:lnTo>
                    <a:pt x="308" y="280"/>
                  </a:lnTo>
                  <a:lnTo>
                    <a:pt x="297" y="283"/>
                  </a:lnTo>
                  <a:lnTo>
                    <a:pt x="288" y="285"/>
                  </a:lnTo>
                  <a:lnTo>
                    <a:pt x="277" y="287"/>
                  </a:lnTo>
                  <a:lnTo>
                    <a:pt x="266" y="289"/>
                  </a:lnTo>
                  <a:lnTo>
                    <a:pt x="257" y="291"/>
                  </a:lnTo>
                  <a:lnTo>
                    <a:pt x="246" y="292"/>
                  </a:lnTo>
                  <a:lnTo>
                    <a:pt x="237" y="293"/>
                  </a:lnTo>
                  <a:lnTo>
                    <a:pt x="226" y="293"/>
                  </a:lnTo>
                  <a:lnTo>
                    <a:pt x="215" y="293"/>
                  </a:lnTo>
                  <a:lnTo>
                    <a:pt x="205" y="293"/>
                  </a:lnTo>
                  <a:lnTo>
                    <a:pt x="194" y="293"/>
                  </a:lnTo>
                  <a:lnTo>
                    <a:pt x="183" y="293"/>
                  </a:lnTo>
                  <a:lnTo>
                    <a:pt x="171" y="293"/>
                  </a:lnTo>
                  <a:lnTo>
                    <a:pt x="160" y="292"/>
                  </a:lnTo>
                  <a:lnTo>
                    <a:pt x="150" y="291"/>
                  </a:lnTo>
                  <a:lnTo>
                    <a:pt x="138" y="289"/>
                  </a:lnTo>
                  <a:lnTo>
                    <a:pt x="127" y="288"/>
                  </a:lnTo>
                  <a:lnTo>
                    <a:pt x="116" y="285"/>
                  </a:lnTo>
                  <a:lnTo>
                    <a:pt x="105" y="283"/>
                  </a:lnTo>
                  <a:lnTo>
                    <a:pt x="95" y="280"/>
                  </a:lnTo>
                  <a:lnTo>
                    <a:pt x="84" y="277"/>
                  </a:lnTo>
                  <a:lnTo>
                    <a:pt x="73" y="275"/>
                  </a:lnTo>
                  <a:lnTo>
                    <a:pt x="64" y="271"/>
                  </a:lnTo>
                  <a:lnTo>
                    <a:pt x="53" y="268"/>
                  </a:lnTo>
                  <a:lnTo>
                    <a:pt x="44" y="264"/>
                  </a:lnTo>
                  <a:lnTo>
                    <a:pt x="34" y="259"/>
                  </a:lnTo>
                  <a:lnTo>
                    <a:pt x="26" y="252"/>
                  </a:lnTo>
                  <a:lnTo>
                    <a:pt x="18" y="245"/>
                  </a:lnTo>
                  <a:lnTo>
                    <a:pt x="12" y="237"/>
                  </a:lnTo>
                  <a:lnTo>
                    <a:pt x="5" y="228"/>
                  </a:lnTo>
                  <a:lnTo>
                    <a:pt x="2" y="218"/>
                  </a:lnTo>
                  <a:lnTo>
                    <a:pt x="0" y="209"/>
                  </a:lnTo>
                  <a:lnTo>
                    <a:pt x="0" y="197"/>
                  </a:lnTo>
                  <a:lnTo>
                    <a:pt x="0" y="185"/>
                  </a:lnTo>
                  <a:lnTo>
                    <a:pt x="4" y="173"/>
                  </a:lnTo>
                  <a:lnTo>
                    <a:pt x="8" y="161"/>
                  </a:lnTo>
                  <a:lnTo>
                    <a:pt x="13" y="149"/>
                  </a:lnTo>
                  <a:lnTo>
                    <a:pt x="18" y="138"/>
                  </a:lnTo>
                  <a:lnTo>
                    <a:pt x="26" y="129"/>
                  </a:lnTo>
                  <a:lnTo>
                    <a:pt x="36" y="119"/>
                  </a:lnTo>
                  <a:lnTo>
                    <a:pt x="44" y="113"/>
                  </a:lnTo>
                  <a:lnTo>
                    <a:pt x="52" y="106"/>
                  </a:lnTo>
                  <a:lnTo>
                    <a:pt x="60" y="100"/>
                  </a:lnTo>
                  <a:lnTo>
                    <a:pt x="69" y="95"/>
                  </a:lnTo>
                  <a:lnTo>
                    <a:pt x="79" y="90"/>
                  </a:lnTo>
                  <a:lnTo>
                    <a:pt x="88" y="84"/>
                  </a:lnTo>
                  <a:lnTo>
                    <a:pt x="97" y="79"/>
                  </a:lnTo>
                  <a:lnTo>
                    <a:pt x="108" y="75"/>
                  </a:lnTo>
                  <a:lnTo>
                    <a:pt x="117" y="71"/>
                  </a:lnTo>
                  <a:lnTo>
                    <a:pt x="128" y="67"/>
                  </a:lnTo>
                  <a:lnTo>
                    <a:pt x="138" y="63"/>
                  </a:lnTo>
                  <a:lnTo>
                    <a:pt x="147" y="59"/>
                  </a:lnTo>
                  <a:lnTo>
                    <a:pt x="158" y="56"/>
                  </a:lnTo>
                  <a:lnTo>
                    <a:pt x="168" y="52"/>
                  </a:lnTo>
                  <a:lnTo>
                    <a:pt x="178" y="48"/>
                  </a:lnTo>
                  <a:lnTo>
                    <a:pt x="187" y="46"/>
                  </a:lnTo>
                  <a:lnTo>
                    <a:pt x="197" y="42"/>
                  </a:lnTo>
                  <a:lnTo>
                    <a:pt x="206" y="39"/>
                  </a:lnTo>
                  <a:lnTo>
                    <a:pt x="214" y="37"/>
                  </a:lnTo>
                  <a:lnTo>
                    <a:pt x="223" y="35"/>
                  </a:lnTo>
                  <a:lnTo>
                    <a:pt x="233" y="32"/>
                  </a:lnTo>
                  <a:lnTo>
                    <a:pt x="241" y="29"/>
                  </a:lnTo>
                  <a:lnTo>
                    <a:pt x="250" y="28"/>
                  </a:lnTo>
                  <a:lnTo>
                    <a:pt x="260" y="25"/>
                  </a:lnTo>
                  <a:lnTo>
                    <a:pt x="268" y="24"/>
                  </a:lnTo>
                  <a:lnTo>
                    <a:pt x="277" y="23"/>
                  </a:lnTo>
                  <a:lnTo>
                    <a:pt x="286" y="20"/>
                  </a:lnTo>
                  <a:lnTo>
                    <a:pt x="296" y="19"/>
                  </a:lnTo>
                  <a:lnTo>
                    <a:pt x="304" y="17"/>
                  </a:lnTo>
                  <a:lnTo>
                    <a:pt x="313" y="16"/>
                  </a:lnTo>
                  <a:lnTo>
                    <a:pt x="322" y="15"/>
                  </a:lnTo>
                  <a:lnTo>
                    <a:pt x="331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761880" y="5620680"/>
              <a:ext cx="293400" cy="114840"/>
            </a:xfrm>
            <a:custGeom>
              <a:avLst/>
              <a:gdLst/>
              <a:ahLst/>
              <a:rect l="l" t="t" r="r" b="b"/>
              <a:pathLst>
                <a:path w="711" h="273">
                  <a:moveTo>
                    <a:pt x="308" y="11"/>
                  </a:moveTo>
                  <a:lnTo>
                    <a:pt x="318" y="9"/>
                  </a:lnTo>
                  <a:lnTo>
                    <a:pt x="327" y="8"/>
                  </a:lnTo>
                  <a:lnTo>
                    <a:pt x="338" y="5"/>
                  </a:lnTo>
                  <a:lnTo>
                    <a:pt x="347" y="4"/>
                  </a:lnTo>
                  <a:lnTo>
                    <a:pt x="358" y="3"/>
                  </a:lnTo>
                  <a:lnTo>
                    <a:pt x="368" y="0"/>
                  </a:lnTo>
                  <a:lnTo>
                    <a:pt x="378" y="0"/>
                  </a:lnTo>
                  <a:lnTo>
                    <a:pt x="387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414" y="0"/>
                  </a:lnTo>
                  <a:lnTo>
                    <a:pt x="423" y="0"/>
                  </a:lnTo>
                  <a:lnTo>
                    <a:pt x="431" y="1"/>
                  </a:lnTo>
                  <a:lnTo>
                    <a:pt x="439" y="4"/>
                  </a:lnTo>
                  <a:lnTo>
                    <a:pt x="447" y="5"/>
                  </a:lnTo>
                  <a:lnTo>
                    <a:pt x="456" y="8"/>
                  </a:lnTo>
                  <a:lnTo>
                    <a:pt x="698" y="100"/>
                  </a:lnTo>
                  <a:lnTo>
                    <a:pt x="701" y="103"/>
                  </a:lnTo>
                  <a:lnTo>
                    <a:pt x="705" y="107"/>
                  </a:lnTo>
                  <a:lnTo>
                    <a:pt x="707" y="111"/>
                  </a:lnTo>
                  <a:lnTo>
                    <a:pt x="709" y="115"/>
                  </a:lnTo>
                  <a:lnTo>
                    <a:pt x="711" y="121"/>
                  </a:lnTo>
                  <a:lnTo>
                    <a:pt x="711" y="125"/>
                  </a:lnTo>
                  <a:lnTo>
                    <a:pt x="710" y="127"/>
                  </a:lnTo>
                  <a:lnTo>
                    <a:pt x="707" y="127"/>
                  </a:lnTo>
                  <a:lnTo>
                    <a:pt x="697" y="126"/>
                  </a:lnTo>
                  <a:lnTo>
                    <a:pt x="686" y="126"/>
                  </a:lnTo>
                  <a:lnTo>
                    <a:pt x="677" y="125"/>
                  </a:lnTo>
                  <a:lnTo>
                    <a:pt x="666" y="125"/>
                  </a:lnTo>
                  <a:lnTo>
                    <a:pt x="655" y="126"/>
                  </a:lnTo>
                  <a:lnTo>
                    <a:pt x="646" y="126"/>
                  </a:lnTo>
                  <a:lnTo>
                    <a:pt x="636" y="127"/>
                  </a:lnTo>
                  <a:lnTo>
                    <a:pt x="627" y="127"/>
                  </a:lnTo>
                  <a:lnTo>
                    <a:pt x="618" y="129"/>
                  </a:lnTo>
                  <a:lnTo>
                    <a:pt x="608" y="130"/>
                  </a:lnTo>
                  <a:lnTo>
                    <a:pt x="600" y="133"/>
                  </a:lnTo>
                  <a:lnTo>
                    <a:pt x="591" y="134"/>
                  </a:lnTo>
                  <a:lnTo>
                    <a:pt x="583" y="135"/>
                  </a:lnTo>
                  <a:lnTo>
                    <a:pt x="575" y="137"/>
                  </a:lnTo>
                  <a:lnTo>
                    <a:pt x="568" y="139"/>
                  </a:lnTo>
                  <a:lnTo>
                    <a:pt x="561" y="142"/>
                  </a:lnTo>
                  <a:lnTo>
                    <a:pt x="545" y="146"/>
                  </a:lnTo>
                  <a:lnTo>
                    <a:pt x="532" y="151"/>
                  </a:lnTo>
                  <a:lnTo>
                    <a:pt x="519" y="157"/>
                  </a:lnTo>
                  <a:lnTo>
                    <a:pt x="505" y="162"/>
                  </a:lnTo>
                  <a:lnTo>
                    <a:pt x="493" y="167"/>
                  </a:lnTo>
                  <a:lnTo>
                    <a:pt x="482" y="174"/>
                  </a:lnTo>
                  <a:lnTo>
                    <a:pt x="470" y="179"/>
                  </a:lnTo>
                  <a:lnTo>
                    <a:pt x="460" y="186"/>
                  </a:lnTo>
                  <a:lnTo>
                    <a:pt x="447" y="193"/>
                  </a:lnTo>
                  <a:lnTo>
                    <a:pt x="437" y="200"/>
                  </a:lnTo>
                  <a:lnTo>
                    <a:pt x="426" y="206"/>
                  </a:lnTo>
                  <a:lnTo>
                    <a:pt x="414" y="212"/>
                  </a:lnTo>
                  <a:lnTo>
                    <a:pt x="401" y="218"/>
                  </a:lnTo>
                  <a:lnTo>
                    <a:pt x="389" y="224"/>
                  </a:lnTo>
                  <a:lnTo>
                    <a:pt x="374" y="230"/>
                  </a:lnTo>
                  <a:lnTo>
                    <a:pt x="359" y="236"/>
                  </a:lnTo>
                  <a:lnTo>
                    <a:pt x="351" y="238"/>
                  </a:lnTo>
                  <a:lnTo>
                    <a:pt x="343" y="242"/>
                  </a:lnTo>
                  <a:lnTo>
                    <a:pt x="334" y="245"/>
                  </a:lnTo>
                  <a:lnTo>
                    <a:pt x="324" y="248"/>
                  </a:lnTo>
                  <a:lnTo>
                    <a:pt x="315" y="252"/>
                  </a:lnTo>
                  <a:lnTo>
                    <a:pt x="305" y="255"/>
                  </a:lnTo>
                  <a:lnTo>
                    <a:pt x="296" y="257"/>
                  </a:lnTo>
                  <a:lnTo>
                    <a:pt x="287" y="260"/>
                  </a:lnTo>
                  <a:lnTo>
                    <a:pt x="276" y="261"/>
                  </a:lnTo>
                  <a:lnTo>
                    <a:pt x="268" y="264"/>
                  </a:lnTo>
                  <a:lnTo>
                    <a:pt x="257" y="265"/>
                  </a:lnTo>
                  <a:lnTo>
                    <a:pt x="248" y="268"/>
                  </a:lnTo>
                  <a:lnTo>
                    <a:pt x="239" y="269"/>
                  </a:lnTo>
                  <a:lnTo>
                    <a:pt x="229" y="271"/>
                  </a:lnTo>
                  <a:lnTo>
                    <a:pt x="220" y="272"/>
                  </a:lnTo>
                  <a:lnTo>
                    <a:pt x="210" y="272"/>
                  </a:lnTo>
                  <a:lnTo>
                    <a:pt x="201" y="273"/>
                  </a:lnTo>
                  <a:lnTo>
                    <a:pt x="190" y="273"/>
                  </a:lnTo>
                  <a:lnTo>
                    <a:pt x="180" y="272"/>
                  </a:lnTo>
                  <a:lnTo>
                    <a:pt x="170" y="272"/>
                  </a:lnTo>
                  <a:lnTo>
                    <a:pt x="159" y="272"/>
                  </a:lnTo>
                  <a:lnTo>
                    <a:pt x="149" y="271"/>
                  </a:lnTo>
                  <a:lnTo>
                    <a:pt x="139" y="269"/>
                  </a:lnTo>
                  <a:lnTo>
                    <a:pt x="129" y="268"/>
                  </a:lnTo>
                  <a:lnTo>
                    <a:pt x="118" y="267"/>
                  </a:lnTo>
                  <a:lnTo>
                    <a:pt x="109" y="265"/>
                  </a:lnTo>
                  <a:lnTo>
                    <a:pt x="98" y="263"/>
                  </a:lnTo>
                  <a:lnTo>
                    <a:pt x="88" y="260"/>
                  </a:lnTo>
                  <a:lnTo>
                    <a:pt x="79" y="257"/>
                  </a:lnTo>
                  <a:lnTo>
                    <a:pt x="68" y="255"/>
                  </a:lnTo>
                  <a:lnTo>
                    <a:pt x="59" y="252"/>
                  </a:lnTo>
                  <a:lnTo>
                    <a:pt x="50" y="248"/>
                  </a:lnTo>
                  <a:lnTo>
                    <a:pt x="40" y="245"/>
                  </a:lnTo>
                  <a:lnTo>
                    <a:pt x="32" y="240"/>
                  </a:lnTo>
                  <a:lnTo>
                    <a:pt x="24" y="233"/>
                  </a:lnTo>
                  <a:lnTo>
                    <a:pt x="17" y="228"/>
                  </a:lnTo>
                  <a:lnTo>
                    <a:pt x="11" y="220"/>
                  </a:lnTo>
                  <a:lnTo>
                    <a:pt x="5" y="212"/>
                  </a:lnTo>
                  <a:lnTo>
                    <a:pt x="1" y="202"/>
                  </a:lnTo>
                  <a:lnTo>
                    <a:pt x="0" y="194"/>
                  </a:lnTo>
                  <a:lnTo>
                    <a:pt x="0" y="184"/>
                  </a:lnTo>
                  <a:lnTo>
                    <a:pt x="1" y="171"/>
                  </a:lnTo>
                  <a:lnTo>
                    <a:pt x="3" y="159"/>
                  </a:lnTo>
                  <a:lnTo>
                    <a:pt x="7" y="149"/>
                  </a:lnTo>
                  <a:lnTo>
                    <a:pt x="12" y="137"/>
                  </a:lnTo>
                  <a:lnTo>
                    <a:pt x="17" y="127"/>
                  </a:lnTo>
                  <a:lnTo>
                    <a:pt x="24" y="119"/>
                  </a:lnTo>
                  <a:lnTo>
                    <a:pt x="34" y="110"/>
                  </a:lnTo>
                  <a:lnTo>
                    <a:pt x="40" y="104"/>
                  </a:lnTo>
                  <a:lnTo>
                    <a:pt x="48" y="98"/>
                  </a:lnTo>
                  <a:lnTo>
                    <a:pt x="56" y="92"/>
                  </a:lnTo>
                  <a:lnTo>
                    <a:pt x="64" y="87"/>
                  </a:lnTo>
                  <a:lnTo>
                    <a:pt x="74" y="82"/>
                  </a:lnTo>
                  <a:lnTo>
                    <a:pt x="82" y="78"/>
                  </a:lnTo>
                  <a:lnTo>
                    <a:pt x="91" y="74"/>
                  </a:lnTo>
                  <a:lnTo>
                    <a:pt x="101" y="70"/>
                  </a:lnTo>
                  <a:lnTo>
                    <a:pt x="110" y="66"/>
                  </a:lnTo>
                  <a:lnTo>
                    <a:pt x="119" y="62"/>
                  </a:lnTo>
                  <a:lnTo>
                    <a:pt x="129" y="59"/>
                  </a:lnTo>
                  <a:lnTo>
                    <a:pt x="138" y="55"/>
                  </a:lnTo>
                  <a:lnTo>
                    <a:pt x="147" y="51"/>
                  </a:lnTo>
                  <a:lnTo>
                    <a:pt x="157" y="48"/>
                  </a:lnTo>
                  <a:lnTo>
                    <a:pt x="166" y="45"/>
                  </a:lnTo>
                  <a:lnTo>
                    <a:pt x="176" y="41"/>
                  </a:lnTo>
                  <a:lnTo>
                    <a:pt x="184" y="39"/>
                  </a:lnTo>
                  <a:lnTo>
                    <a:pt x="192" y="36"/>
                  </a:lnTo>
                  <a:lnTo>
                    <a:pt x="200" y="33"/>
                  </a:lnTo>
                  <a:lnTo>
                    <a:pt x="208" y="32"/>
                  </a:lnTo>
                  <a:lnTo>
                    <a:pt x="216" y="29"/>
                  </a:lnTo>
                  <a:lnTo>
                    <a:pt x="224" y="27"/>
                  </a:lnTo>
                  <a:lnTo>
                    <a:pt x="232" y="25"/>
                  </a:lnTo>
                  <a:lnTo>
                    <a:pt x="241" y="23"/>
                  </a:lnTo>
                  <a:lnTo>
                    <a:pt x="249" y="23"/>
                  </a:lnTo>
                  <a:lnTo>
                    <a:pt x="257" y="20"/>
                  </a:lnTo>
                  <a:lnTo>
                    <a:pt x="267" y="19"/>
                  </a:lnTo>
                  <a:lnTo>
                    <a:pt x="275" y="17"/>
                  </a:lnTo>
                  <a:lnTo>
                    <a:pt x="283" y="16"/>
                  </a:lnTo>
                  <a:lnTo>
                    <a:pt x="291" y="13"/>
                  </a:lnTo>
                  <a:lnTo>
                    <a:pt x="300" y="13"/>
                  </a:lnTo>
                  <a:lnTo>
                    <a:pt x="308" y="1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56480" y="5700240"/>
              <a:ext cx="310680" cy="68400"/>
            </a:xfrm>
            <a:custGeom>
              <a:avLst/>
              <a:gdLst/>
              <a:ahLst/>
              <a:rect l="l" t="t" r="r" b="b"/>
              <a:pathLst>
                <a:path w="754" h="165">
                  <a:moveTo>
                    <a:pt x="0" y="87"/>
                  </a:moveTo>
                  <a:lnTo>
                    <a:pt x="4" y="94"/>
                  </a:lnTo>
                  <a:lnTo>
                    <a:pt x="8" y="100"/>
                  </a:lnTo>
                  <a:lnTo>
                    <a:pt x="12" y="106"/>
                  </a:lnTo>
                  <a:lnTo>
                    <a:pt x="16" y="111"/>
                  </a:lnTo>
                  <a:lnTo>
                    <a:pt x="20" y="116"/>
                  </a:lnTo>
                  <a:lnTo>
                    <a:pt x="24" y="120"/>
                  </a:lnTo>
                  <a:lnTo>
                    <a:pt x="28" y="124"/>
                  </a:lnTo>
                  <a:lnTo>
                    <a:pt x="33" y="127"/>
                  </a:lnTo>
                  <a:lnTo>
                    <a:pt x="38" y="131"/>
                  </a:lnTo>
                  <a:lnTo>
                    <a:pt x="44" y="134"/>
                  </a:lnTo>
                  <a:lnTo>
                    <a:pt x="51" y="137"/>
                  </a:lnTo>
                  <a:lnTo>
                    <a:pt x="59" y="141"/>
                  </a:lnTo>
                  <a:lnTo>
                    <a:pt x="65" y="143"/>
                  </a:lnTo>
                  <a:lnTo>
                    <a:pt x="75" y="146"/>
                  </a:lnTo>
                  <a:lnTo>
                    <a:pt x="84" y="149"/>
                  </a:lnTo>
                  <a:lnTo>
                    <a:pt x="96" y="151"/>
                  </a:lnTo>
                  <a:lnTo>
                    <a:pt x="105" y="154"/>
                  </a:lnTo>
                  <a:lnTo>
                    <a:pt x="118" y="155"/>
                  </a:lnTo>
                  <a:lnTo>
                    <a:pt x="128" y="158"/>
                  </a:lnTo>
                  <a:lnTo>
                    <a:pt x="139" y="159"/>
                  </a:lnTo>
                  <a:lnTo>
                    <a:pt x="151" y="161"/>
                  </a:lnTo>
                  <a:lnTo>
                    <a:pt x="162" y="162"/>
                  </a:lnTo>
                  <a:lnTo>
                    <a:pt x="174" y="163"/>
                  </a:lnTo>
                  <a:lnTo>
                    <a:pt x="186" y="163"/>
                  </a:lnTo>
                  <a:lnTo>
                    <a:pt x="198" y="165"/>
                  </a:lnTo>
                  <a:lnTo>
                    <a:pt x="209" y="165"/>
                  </a:lnTo>
                  <a:lnTo>
                    <a:pt x="221" y="165"/>
                  </a:lnTo>
                  <a:lnTo>
                    <a:pt x="233" y="165"/>
                  </a:lnTo>
                  <a:lnTo>
                    <a:pt x="243" y="163"/>
                  </a:lnTo>
                  <a:lnTo>
                    <a:pt x="256" y="163"/>
                  </a:lnTo>
                  <a:lnTo>
                    <a:pt x="266" y="162"/>
                  </a:lnTo>
                  <a:lnTo>
                    <a:pt x="278" y="161"/>
                  </a:lnTo>
                  <a:lnTo>
                    <a:pt x="296" y="158"/>
                  </a:lnTo>
                  <a:lnTo>
                    <a:pt x="313" y="154"/>
                  </a:lnTo>
                  <a:lnTo>
                    <a:pt x="331" y="150"/>
                  </a:lnTo>
                  <a:lnTo>
                    <a:pt x="345" y="145"/>
                  </a:lnTo>
                  <a:lnTo>
                    <a:pt x="361" y="138"/>
                  </a:lnTo>
                  <a:lnTo>
                    <a:pt x="376" y="131"/>
                  </a:lnTo>
                  <a:lnTo>
                    <a:pt x="391" y="122"/>
                  </a:lnTo>
                  <a:lnTo>
                    <a:pt x="407" y="114"/>
                  </a:lnTo>
                  <a:lnTo>
                    <a:pt x="423" y="104"/>
                  </a:lnTo>
                  <a:lnTo>
                    <a:pt x="440" y="95"/>
                  </a:lnTo>
                  <a:lnTo>
                    <a:pt x="458" y="86"/>
                  </a:lnTo>
                  <a:lnTo>
                    <a:pt x="477" y="75"/>
                  </a:lnTo>
                  <a:lnTo>
                    <a:pt x="497" y="63"/>
                  </a:lnTo>
                  <a:lnTo>
                    <a:pt x="519" y="52"/>
                  </a:lnTo>
                  <a:lnTo>
                    <a:pt x="542" y="40"/>
                  </a:lnTo>
                  <a:lnTo>
                    <a:pt x="569" y="28"/>
                  </a:lnTo>
                  <a:lnTo>
                    <a:pt x="582" y="23"/>
                  </a:lnTo>
                  <a:lnTo>
                    <a:pt x="596" y="17"/>
                  </a:lnTo>
                  <a:lnTo>
                    <a:pt x="608" y="13"/>
                  </a:lnTo>
                  <a:lnTo>
                    <a:pt x="620" y="9"/>
                  </a:lnTo>
                  <a:lnTo>
                    <a:pt x="632" y="7"/>
                  </a:lnTo>
                  <a:lnTo>
                    <a:pt x="643" y="4"/>
                  </a:lnTo>
                  <a:lnTo>
                    <a:pt x="655" y="3"/>
                  </a:lnTo>
                  <a:lnTo>
                    <a:pt x="665" y="1"/>
                  </a:lnTo>
                  <a:lnTo>
                    <a:pt x="676" y="0"/>
                  </a:lnTo>
                  <a:lnTo>
                    <a:pt x="687" y="0"/>
                  </a:lnTo>
                  <a:lnTo>
                    <a:pt x="698" y="0"/>
                  </a:lnTo>
                  <a:lnTo>
                    <a:pt x="708" y="0"/>
                  </a:lnTo>
                  <a:lnTo>
                    <a:pt x="720" y="0"/>
                  </a:lnTo>
                  <a:lnTo>
                    <a:pt x="731" y="1"/>
                  </a:lnTo>
                  <a:lnTo>
                    <a:pt x="742" y="1"/>
                  </a:lnTo>
                  <a:lnTo>
                    <a:pt x="754" y="3"/>
                  </a:lnTo>
                </a:path>
              </a:pathLst>
            </a:custGeom>
            <a:noFill/>
            <a:ln w="11160">
              <a:solidFill>
                <a:srgbClr val="79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56480" y="5702760"/>
              <a:ext cx="310680" cy="69480"/>
            </a:xfrm>
            <a:custGeom>
              <a:avLst/>
              <a:gdLst/>
              <a:ahLst/>
              <a:rect l="l" t="t" r="r" b="b"/>
              <a:pathLst>
                <a:path w="754" h="166">
                  <a:moveTo>
                    <a:pt x="0" y="87"/>
                  </a:moveTo>
                  <a:lnTo>
                    <a:pt x="4" y="93"/>
                  </a:lnTo>
                  <a:lnTo>
                    <a:pt x="8" y="100"/>
                  </a:lnTo>
                  <a:lnTo>
                    <a:pt x="12" y="105"/>
                  </a:lnTo>
                  <a:lnTo>
                    <a:pt x="16" y="111"/>
                  </a:lnTo>
                  <a:lnTo>
                    <a:pt x="20" y="116"/>
                  </a:lnTo>
                  <a:lnTo>
                    <a:pt x="24" y="120"/>
                  </a:lnTo>
                  <a:lnTo>
                    <a:pt x="28" y="124"/>
                  </a:lnTo>
                  <a:lnTo>
                    <a:pt x="33" y="128"/>
                  </a:lnTo>
                  <a:lnTo>
                    <a:pt x="38" y="131"/>
                  </a:lnTo>
                  <a:lnTo>
                    <a:pt x="44" y="134"/>
                  </a:lnTo>
                  <a:lnTo>
                    <a:pt x="51" y="138"/>
                  </a:lnTo>
                  <a:lnTo>
                    <a:pt x="59" y="140"/>
                  </a:lnTo>
                  <a:lnTo>
                    <a:pt x="65" y="143"/>
                  </a:lnTo>
                  <a:lnTo>
                    <a:pt x="75" y="146"/>
                  </a:lnTo>
                  <a:lnTo>
                    <a:pt x="84" y="148"/>
                  </a:lnTo>
                  <a:lnTo>
                    <a:pt x="96" y="151"/>
                  </a:lnTo>
                  <a:lnTo>
                    <a:pt x="105" y="154"/>
                  </a:lnTo>
                  <a:lnTo>
                    <a:pt x="118" y="156"/>
                  </a:lnTo>
                  <a:lnTo>
                    <a:pt x="128" y="158"/>
                  </a:lnTo>
                  <a:lnTo>
                    <a:pt x="139" y="160"/>
                  </a:lnTo>
                  <a:lnTo>
                    <a:pt x="151" y="160"/>
                  </a:lnTo>
                  <a:lnTo>
                    <a:pt x="162" y="162"/>
                  </a:lnTo>
                  <a:lnTo>
                    <a:pt x="174" y="163"/>
                  </a:lnTo>
                  <a:lnTo>
                    <a:pt x="186" y="164"/>
                  </a:lnTo>
                  <a:lnTo>
                    <a:pt x="198" y="164"/>
                  </a:lnTo>
                  <a:lnTo>
                    <a:pt x="209" y="166"/>
                  </a:lnTo>
                  <a:lnTo>
                    <a:pt x="221" y="166"/>
                  </a:lnTo>
                  <a:lnTo>
                    <a:pt x="233" y="164"/>
                  </a:lnTo>
                  <a:lnTo>
                    <a:pt x="243" y="164"/>
                  </a:lnTo>
                  <a:lnTo>
                    <a:pt x="256" y="163"/>
                  </a:lnTo>
                  <a:lnTo>
                    <a:pt x="266" y="162"/>
                  </a:lnTo>
                  <a:lnTo>
                    <a:pt x="278" y="160"/>
                  </a:lnTo>
                  <a:lnTo>
                    <a:pt x="296" y="158"/>
                  </a:lnTo>
                  <a:lnTo>
                    <a:pt x="313" y="154"/>
                  </a:lnTo>
                  <a:lnTo>
                    <a:pt x="331" y="150"/>
                  </a:lnTo>
                  <a:lnTo>
                    <a:pt x="345" y="144"/>
                  </a:lnTo>
                  <a:lnTo>
                    <a:pt x="361" y="138"/>
                  </a:lnTo>
                  <a:lnTo>
                    <a:pt x="376" y="131"/>
                  </a:lnTo>
                  <a:lnTo>
                    <a:pt x="391" y="123"/>
                  </a:lnTo>
                  <a:lnTo>
                    <a:pt x="407" y="113"/>
                  </a:lnTo>
                  <a:lnTo>
                    <a:pt x="423" y="105"/>
                  </a:lnTo>
                  <a:lnTo>
                    <a:pt x="440" y="95"/>
                  </a:lnTo>
                  <a:lnTo>
                    <a:pt x="458" y="85"/>
                  </a:lnTo>
                  <a:lnTo>
                    <a:pt x="477" y="75"/>
                  </a:lnTo>
                  <a:lnTo>
                    <a:pt x="497" y="64"/>
                  </a:lnTo>
                  <a:lnTo>
                    <a:pt x="519" y="52"/>
                  </a:lnTo>
                  <a:lnTo>
                    <a:pt x="542" y="40"/>
                  </a:lnTo>
                  <a:lnTo>
                    <a:pt x="569" y="28"/>
                  </a:lnTo>
                  <a:lnTo>
                    <a:pt x="582" y="22"/>
                  </a:lnTo>
                  <a:lnTo>
                    <a:pt x="596" y="17"/>
                  </a:lnTo>
                  <a:lnTo>
                    <a:pt x="608" y="13"/>
                  </a:lnTo>
                  <a:lnTo>
                    <a:pt x="620" y="10"/>
                  </a:lnTo>
                  <a:lnTo>
                    <a:pt x="632" y="6"/>
                  </a:lnTo>
                  <a:lnTo>
                    <a:pt x="643" y="5"/>
                  </a:lnTo>
                  <a:lnTo>
                    <a:pt x="655" y="2"/>
                  </a:lnTo>
                  <a:lnTo>
                    <a:pt x="665" y="1"/>
                  </a:lnTo>
                  <a:lnTo>
                    <a:pt x="676" y="1"/>
                  </a:lnTo>
                  <a:lnTo>
                    <a:pt x="687" y="0"/>
                  </a:lnTo>
                  <a:lnTo>
                    <a:pt x="698" y="0"/>
                  </a:lnTo>
                  <a:lnTo>
                    <a:pt x="708" y="0"/>
                  </a:lnTo>
                  <a:lnTo>
                    <a:pt x="720" y="1"/>
                  </a:lnTo>
                  <a:lnTo>
                    <a:pt x="731" y="1"/>
                  </a:lnTo>
                  <a:lnTo>
                    <a:pt x="742" y="1"/>
                  </a:lnTo>
                  <a:lnTo>
                    <a:pt x="754" y="2"/>
                  </a:lnTo>
                </a:path>
              </a:pathLst>
            </a:custGeom>
            <a:noFill/>
            <a:ln w="4680">
              <a:solidFill>
                <a:srgbClr val="d2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879960" y="5626440"/>
              <a:ext cx="136800" cy="74520"/>
            </a:xfrm>
            <a:custGeom>
              <a:avLst/>
              <a:gdLst/>
              <a:ahLst/>
              <a:rect l="l" t="t" r="r" b="b"/>
              <a:pathLst>
                <a:path w="332" h="179">
                  <a:moveTo>
                    <a:pt x="332" y="179"/>
                  </a:moveTo>
                  <a:lnTo>
                    <a:pt x="331" y="148"/>
                  </a:lnTo>
                  <a:lnTo>
                    <a:pt x="331" y="142"/>
                  </a:lnTo>
                  <a:lnTo>
                    <a:pt x="329" y="138"/>
                  </a:lnTo>
                  <a:lnTo>
                    <a:pt x="327" y="133"/>
                  </a:lnTo>
                  <a:lnTo>
                    <a:pt x="324" y="129"/>
                  </a:lnTo>
                  <a:lnTo>
                    <a:pt x="320" y="125"/>
                  </a:lnTo>
                  <a:lnTo>
                    <a:pt x="316" y="122"/>
                  </a:lnTo>
                  <a:lnTo>
                    <a:pt x="312" y="120"/>
                  </a:lnTo>
                  <a:lnTo>
                    <a:pt x="308" y="11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79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76720" y="5627880"/>
              <a:ext cx="137520" cy="70560"/>
            </a:xfrm>
            <a:custGeom>
              <a:avLst/>
              <a:gdLst/>
              <a:ahLst/>
              <a:rect l="l" t="t" r="r" b="b"/>
              <a:pathLst>
                <a:path w="333" h="169">
                  <a:moveTo>
                    <a:pt x="333" y="169"/>
                  </a:moveTo>
                  <a:lnTo>
                    <a:pt x="333" y="149"/>
                  </a:lnTo>
                  <a:lnTo>
                    <a:pt x="333" y="143"/>
                  </a:lnTo>
                  <a:lnTo>
                    <a:pt x="332" y="139"/>
                  </a:lnTo>
                  <a:lnTo>
                    <a:pt x="329" y="134"/>
                  </a:lnTo>
                  <a:lnTo>
                    <a:pt x="327" y="130"/>
                  </a:lnTo>
                  <a:lnTo>
                    <a:pt x="323" y="126"/>
                  </a:lnTo>
                  <a:lnTo>
                    <a:pt x="319" y="122"/>
                  </a:lnTo>
                  <a:lnTo>
                    <a:pt x="315" y="119"/>
                  </a:lnTo>
                  <a:lnTo>
                    <a:pt x="311" y="11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d2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609480" y="3505320"/>
            <a:ext cx="1890720" cy="1714320"/>
            <a:chOff x="609480" y="3505320"/>
            <a:chExt cx="1890720" cy="1714320"/>
          </a:xfrm>
        </p:grpSpPr>
        <p:sp>
          <p:nvSpPr>
            <p:cNvPr id="1430" name=""/>
            <p:cNvSpPr/>
            <p:nvPr/>
          </p:nvSpPr>
          <p:spPr>
            <a:xfrm>
              <a:off x="1031760" y="3968640"/>
              <a:ext cx="1466640" cy="847800"/>
            </a:xfrm>
            <a:custGeom>
              <a:avLst/>
              <a:gdLst/>
              <a:ahLst/>
              <a:rect l="l" t="t" r="r" b="b"/>
              <a:pathLst>
                <a:path w="2772" h="1600">
                  <a:moveTo>
                    <a:pt x="1514" y="1600"/>
                  </a:moveTo>
                  <a:lnTo>
                    <a:pt x="2772" y="874"/>
                  </a:lnTo>
                  <a:lnTo>
                    <a:pt x="1271" y="0"/>
                  </a:lnTo>
                  <a:lnTo>
                    <a:pt x="0" y="732"/>
                  </a:lnTo>
                  <a:lnTo>
                    <a:pt x="1514" y="160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30240" y="4432320"/>
              <a:ext cx="669960" cy="474480"/>
            </a:xfrm>
            <a:custGeom>
              <a:avLst/>
              <a:gdLst/>
              <a:ahLst/>
              <a:rect l="l" t="t" r="r" b="b"/>
              <a:pathLst>
                <a:path w="1267" h="897">
                  <a:moveTo>
                    <a:pt x="6" y="726"/>
                  </a:moveTo>
                  <a:lnTo>
                    <a:pt x="1264" y="0"/>
                  </a:lnTo>
                  <a:lnTo>
                    <a:pt x="1267" y="144"/>
                  </a:lnTo>
                  <a:lnTo>
                    <a:pt x="0" y="897"/>
                  </a:lnTo>
                  <a:lnTo>
                    <a:pt x="6" y="726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3200" y="4356000"/>
              <a:ext cx="801720" cy="550800"/>
            </a:xfrm>
            <a:custGeom>
              <a:avLst/>
              <a:gdLst/>
              <a:ahLst/>
              <a:rect l="l" t="t" r="r" b="b"/>
              <a:pathLst>
                <a:path w="1513" h="1039">
                  <a:moveTo>
                    <a:pt x="1513" y="868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1507" y="1039"/>
                  </a:lnTo>
                  <a:lnTo>
                    <a:pt x="1513" y="868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07800" y="4051440"/>
              <a:ext cx="1206360" cy="709560"/>
            </a:xfrm>
            <a:custGeom>
              <a:avLst/>
              <a:gdLst/>
              <a:ahLst/>
              <a:rect l="l" t="t" r="r" b="b"/>
              <a:pathLst>
                <a:path w="2280" h="1340">
                  <a:moveTo>
                    <a:pt x="1169" y="1340"/>
                  </a:moveTo>
                  <a:lnTo>
                    <a:pt x="2280" y="698"/>
                  </a:lnTo>
                  <a:lnTo>
                    <a:pt x="1121" y="0"/>
                  </a:lnTo>
                  <a:lnTo>
                    <a:pt x="0" y="648"/>
                  </a:lnTo>
                  <a:lnTo>
                    <a:pt x="1169" y="134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328400" y="4151160"/>
              <a:ext cx="812880" cy="463680"/>
            </a:xfrm>
            <a:custGeom>
              <a:avLst/>
              <a:gdLst/>
              <a:ahLst/>
              <a:rect l="l" t="t" r="r" b="b"/>
              <a:pathLst>
                <a:path w="1535" h="876">
                  <a:moveTo>
                    <a:pt x="732" y="0"/>
                  </a:moveTo>
                  <a:lnTo>
                    <a:pt x="1535" y="461"/>
                  </a:lnTo>
                  <a:lnTo>
                    <a:pt x="782" y="876"/>
                  </a:lnTo>
                  <a:lnTo>
                    <a:pt x="0" y="414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293480" y="4370400"/>
              <a:ext cx="449280" cy="312840"/>
            </a:xfrm>
            <a:custGeom>
              <a:avLst/>
              <a:gdLst/>
              <a:ahLst/>
              <a:rect l="l" t="t" r="r" b="b"/>
              <a:pathLst>
                <a:path w="847" h="589">
                  <a:moveTo>
                    <a:pt x="0" y="97"/>
                  </a:moveTo>
                  <a:lnTo>
                    <a:pt x="824" y="589"/>
                  </a:lnTo>
                  <a:lnTo>
                    <a:pt x="847" y="462"/>
                  </a:lnTo>
                  <a:lnTo>
                    <a:pt x="65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30160" y="4395600"/>
              <a:ext cx="436680" cy="287640"/>
            </a:xfrm>
            <a:custGeom>
              <a:avLst/>
              <a:gdLst/>
              <a:ahLst/>
              <a:rect l="l" t="t" r="r" b="b"/>
              <a:pathLst>
                <a:path w="826" h="542">
                  <a:moveTo>
                    <a:pt x="826" y="78"/>
                  </a:moveTo>
                  <a:lnTo>
                    <a:pt x="0" y="542"/>
                  </a:lnTo>
                  <a:lnTo>
                    <a:pt x="23" y="415"/>
                  </a:lnTo>
                  <a:lnTo>
                    <a:pt x="776" y="0"/>
                  </a:lnTo>
                  <a:lnTo>
                    <a:pt x="826" y="78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68120" y="3914640"/>
              <a:ext cx="289080" cy="57492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34" y="1087"/>
                  </a:moveTo>
                  <a:lnTo>
                    <a:pt x="0" y="10"/>
                  </a:lnTo>
                  <a:lnTo>
                    <a:pt x="548" y="0"/>
                  </a:lnTo>
                  <a:lnTo>
                    <a:pt x="548" y="598"/>
                  </a:lnTo>
                  <a:lnTo>
                    <a:pt x="34" y="1087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44240" y="3548160"/>
              <a:ext cx="912960" cy="371520"/>
            </a:xfrm>
            <a:custGeom>
              <a:avLst/>
              <a:gdLst/>
              <a:ahLst/>
              <a:rect l="l" t="t" r="r" b="b"/>
              <a:pathLst>
                <a:path w="1727" h="701">
                  <a:moveTo>
                    <a:pt x="0" y="0"/>
                  </a:moveTo>
                  <a:lnTo>
                    <a:pt x="1179" y="701"/>
                  </a:lnTo>
                  <a:lnTo>
                    <a:pt x="1727" y="691"/>
                  </a:lnTo>
                  <a:lnTo>
                    <a:pt x="68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07840" y="3505320"/>
              <a:ext cx="728640" cy="409320"/>
            </a:xfrm>
            <a:custGeom>
              <a:avLst/>
              <a:gdLst/>
              <a:ahLst/>
              <a:rect l="l" t="t" r="r" b="b"/>
              <a:pathLst>
                <a:path w="1376" h="772">
                  <a:moveTo>
                    <a:pt x="326" y="0"/>
                  </a:moveTo>
                  <a:lnTo>
                    <a:pt x="1376" y="632"/>
                  </a:lnTo>
                  <a:lnTo>
                    <a:pt x="1039" y="772"/>
                  </a:lnTo>
                  <a:lnTo>
                    <a:pt x="0" y="119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257200" y="3840120"/>
              <a:ext cx="179280" cy="384120"/>
            </a:xfrm>
            <a:custGeom>
              <a:avLst/>
              <a:gdLst/>
              <a:ahLst/>
              <a:rect l="l" t="t" r="r" b="b"/>
              <a:pathLst>
                <a:path w="337" h="727">
                  <a:moveTo>
                    <a:pt x="337" y="539"/>
                  </a:moveTo>
                  <a:lnTo>
                    <a:pt x="337" y="0"/>
                  </a:lnTo>
                  <a:lnTo>
                    <a:pt x="0" y="140"/>
                  </a:lnTo>
                  <a:lnTo>
                    <a:pt x="0" y="727"/>
                  </a:lnTo>
                  <a:lnTo>
                    <a:pt x="337" y="539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20400" y="3516480"/>
              <a:ext cx="798480" cy="1090440"/>
            </a:xfrm>
            <a:custGeom>
              <a:avLst/>
              <a:gdLst/>
              <a:ahLst/>
              <a:rect l="l" t="t" r="r" b="b"/>
              <a:pathLst>
                <a:path w="1508" h="2060">
                  <a:moveTo>
                    <a:pt x="1315" y="2060"/>
                  </a:moveTo>
                  <a:lnTo>
                    <a:pt x="1464" y="1969"/>
                  </a:lnTo>
                  <a:lnTo>
                    <a:pt x="1470" y="1960"/>
                  </a:lnTo>
                  <a:lnTo>
                    <a:pt x="1483" y="1944"/>
                  </a:lnTo>
                  <a:lnTo>
                    <a:pt x="1493" y="1926"/>
                  </a:lnTo>
                  <a:lnTo>
                    <a:pt x="1495" y="1911"/>
                  </a:lnTo>
                  <a:lnTo>
                    <a:pt x="1508" y="839"/>
                  </a:lnTo>
                  <a:lnTo>
                    <a:pt x="1498" y="805"/>
                  </a:lnTo>
                  <a:lnTo>
                    <a:pt x="1480" y="767"/>
                  </a:lnTo>
                  <a:lnTo>
                    <a:pt x="1452" y="732"/>
                  </a:lnTo>
                  <a:lnTo>
                    <a:pt x="1424" y="711"/>
                  </a:lnTo>
                  <a:lnTo>
                    <a:pt x="249" y="0"/>
                  </a:lnTo>
                  <a:lnTo>
                    <a:pt x="238" y="0"/>
                  </a:lnTo>
                  <a:lnTo>
                    <a:pt x="209" y="4"/>
                  </a:lnTo>
                  <a:lnTo>
                    <a:pt x="182" y="8"/>
                  </a:lnTo>
                  <a:lnTo>
                    <a:pt x="165" y="8"/>
                  </a:lnTo>
                  <a:lnTo>
                    <a:pt x="0" y="79"/>
                  </a:lnTo>
                  <a:lnTo>
                    <a:pt x="1255" y="801"/>
                  </a:lnTo>
                  <a:lnTo>
                    <a:pt x="1328" y="916"/>
                  </a:lnTo>
                  <a:lnTo>
                    <a:pt x="1315" y="2060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85680" y="3892680"/>
              <a:ext cx="133200" cy="714240"/>
            </a:xfrm>
            <a:custGeom>
              <a:avLst/>
              <a:gdLst/>
              <a:ahLst/>
              <a:rect l="l" t="t" r="r" b="b"/>
              <a:pathLst>
                <a:path w="253" h="1349">
                  <a:moveTo>
                    <a:pt x="60" y="1349"/>
                  </a:moveTo>
                  <a:lnTo>
                    <a:pt x="209" y="1258"/>
                  </a:lnTo>
                  <a:lnTo>
                    <a:pt x="215" y="1249"/>
                  </a:lnTo>
                  <a:lnTo>
                    <a:pt x="228" y="1233"/>
                  </a:lnTo>
                  <a:lnTo>
                    <a:pt x="238" y="1215"/>
                  </a:lnTo>
                  <a:lnTo>
                    <a:pt x="240" y="1200"/>
                  </a:lnTo>
                  <a:lnTo>
                    <a:pt x="253" y="128"/>
                  </a:lnTo>
                  <a:lnTo>
                    <a:pt x="247" y="94"/>
                  </a:lnTo>
                  <a:lnTo>
                    <a:pt x="225" y="53"/>
                  </a:lnTo>
                  <a:lnTo>
                    <a:pt x="200" y="21"/>
                  </a:lnTo>
                  <a:lnTo>
                    <a:pt x="169" y="0"/>
                  </a:lnTo>
                  <a:lnTo>
                    <a:pt x="0" y="90"/>
                  </a:lnTo>
                  <a:lnTo>
                    <a:pt x="73" y="205"/>
                  </a:lnTo>
                  <a:lnTo>
                    <a:pt x="60" y="134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209600" y="3556080"/>
              <a:ext cx="718920" cy="1058760"/>
            </a:xfrm>
            <a:custGeom>
              <a:avLst/>
              <a:gdLst/>
              <a:ahLst/>
              <a:rect l="l" t="t" r="r" b="b"/>
              <a:pathLst>
                <a:path w="1357" h="2001">
                  <a:moveTo>
                    <a:pt x="0" y="38"/>
                  </a:moveTo>
                  <a:lnTo>
                    <a:pt x="10" y="19"/>
                  </a:lnTo>
                  <a:lnTo>
                    <a:pt x="31" y="7"/>
                  </a:lnTo>
                  <a:lnTo>
                    <a:pt x="59" y="0"/>
                  </a:lnTo>
                  <a:lnTo>
                    <a:pt x="78" y="7"/>
                  </a:lnTo>
                  <a:lnTo>
                    <a:pt x="1280" y="732"/>
                  </a:lnTo>
                  <a:lnTo>
                    <a:pt x="1305" y="751"/>
                  </a:lnTo>
                  <a:lnTo>
                    <a:pt x="1326" y="782"/>
                  </a:lnTo>
                  <a:lnTo>
                    <a:pt x="1345" y="816"/>
                  </a:lnTo>
                  <a:lnTo>
                    <a:pt x="1351" y="851"/>
                  </a:lnTo>
                  <a:lnTo>
                    <a:pt x="1357" y="1966"/>
                  </a:lnTo>
                  <a:lnTo>
                    <a:pt x="1355" y="1978"/>
                  </a:lnTo>
                  <a:lnTo>
                    <a:pt x="1345" y="1988"/>
                  </a:lnTo>
                  <a:lnTo>
                    <a:pt x="1332" y="1993"/>
                  </a:lnTo>
                  <a:lnTo>
                    <a:pt x="1320" y="1997"/>
                  </a:lnTo>
                  <a:lnTo>
                    <a:pt x="1301" y="2001"/>
                  </a:lnTo>
                  <a:lnTo>
                    <a:pt x="1286" y="2001"/>
                  </a:lnTo>
                  <a:lnTo>
                    <a:pt x="1274" y="1997"/>
                  </a:lnTo>
                  <a:lnTo>
                    <a:pt x="1261" y="1993"/>
                  </a:lnTo>
                  <a:lnTo>
                    <a:pt x="103" y="1305"/>
                  </a:lnTo>
                  <a:lnTo>
                    <a:pt x="78" y="1280"/>
                  </a:lnTo>
                  <a:lnTo>
                    <a:pt x="59" y="1246"/>
                  </a:lnTo>
                  <a:lnTo>
                    <a:pt x="44" y="1213"/>
                  </a:lnTo>
                  <a:lnTo>
                    <a:pt x="40" y="118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30120" y="3600360"/>
              <a:ext cx="647640" cy="1008000"/>
            </a:xfrm>
            <a:custGeom>
              <a:avLst/>
              <a:gdLst/>
              <a:ahLst/>
              <a:rect l="l" t="t" r="r" b="b"/>
              <a:pathLst>
                <a:path w="1224" h="1906">
                  <a:moveTo>
                    <a:pt x="1218" y="732"/>
                  </a:moveTo>
                  <a:lnTo>
                    <a:pt x="1137" y="691"/>
                  </a:lnTo>
                  <a:lnTo>
                    <a:pt x="1059" y="648"/>
                  </a:lnTo>
                  <a:lnTo>
                    <a:pt x="978" y="607"/>
                  </a:lnTo>
                  <a:lnTo>
                    <a:pt x="900" y="564"/>
                  </a:lnTo>
                  <a:lnTo>
                    <a:pt x="822" y="520"/>
                  </a:lnTo>
                  <a:lnTo>
                    <a:pt x="745" y="476"/>
                  </a:lnTo>
                  <a:lnTo>
                    <a:pt x="666" y="430"/>
                  </a:lnTo>
                  <a:lnTo>
                    <a:pt x="589" y="386"/>
                  </a:lnTo>
                  <a:lnTo>
                    <a:pt x="515" y="339"/>
                  </a:lnTo>
                  <a:lnTo>
                    <a:pt x="440" y="292"/>
                  </a:lnTo>
                  <a:lnTo>
                    <a:pt x="365" y="246"/>
                  </a:lnTo>
                  <a:lnTo>
                    <a:pt x="290" y="199"/>
                  </a:lnTo>
                  <a:lnTo>
                    <a:pt x="216" y="150"/>
                  </a:lnTo>
                  <a:lnTo>
                    <a:pt x="143" y="100"/>
                  </a:lnTo>
                  <a:lnTo>
                    <a:pt x="72" y="50"/>
                  </a:lnTo>
                  <a:lnTo>
                    <a:pt x="0" y="0"/>
                  </a:lnTo>
                  <a:lnTo>
                    <a:pt x="44" y="1187"/>
                  </a:lnTo>
                  <a:lnTo>
                    <a:pt x="1224" y="1906"/>
                  </a:lnTo>
                  <a:lnTo>
                    <a:pt x="1218" y="73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20400" y="3600360"/>
              <a:ext cx="657360" cy="1008000"/>
            </a:xfrm>
            <a:custGeom>
              <a:avLst/>
              <a:gdLst/>
              <a:ahLst/>
              <a:rect l="l" t="t" r="r" b="b"/>
              <a:pathLst>
                <a:path w="1242" h="1906">
                  <a:moveTo>
                    <a:pt x="1236" y="732"/>
                  </a:moveTo>
                  <a:lnTo>
                    <a:pt x="1161" y="685"/>
                  </a:lnTo>
                  <a:lnTo>
                    <a:pt x="1083" y="641"/>
                  </a:lnTo>
                  <a:lnTo>
                    <a:pt x="1008" y="594"/>
                  </a:lnTo>
                  <a:lnTo>
                    <a:pt x="934" y="548"/>
                  </a:lnTo>
                  <a:lnTo>
                    <a:pt x="856" y="504"/>
                  </a:lnTo>
                  <a:lnTo>
                    <a:pt x="782" y="458"/>
                  </a:lnTo>
                  <a:lnTo>
                    <a:pt x="707" y="414"/>
                  </a:lnTo>
                  <a:lnTo>
                    <a:pt x="629" y="367"/>
                  </a:lnTo>
                  <a:lnTo>
                    <a:pt x="554" y="320"/>
                  </a:lnTo>
                  <a:lnTo>
                    <a:pt x="476" y="276"/>
                  </a:lnTo>
                  <a:lnTo>
                    <a:pt x="401" y="230"/>
                  </a:lnTo>
                  <a:lnTo>
                    <a:pt x="326" y="184"/>
                  </a:lnTo>
                  <a:lnTo>
                    <a:pt x="249" y="136"/>
                  </a:lnTo>
                  <a:lnTo>
                    <a:pt x="171" y="93"/>
                  </a:lnTo>
                  <a:lnTo>
                    <a:pt x="96" y="46"/>
                  </a:lnTo>
                  <a:lnTo>
                    <a:pt x="18" y="0"/>
                  </a:lnTo>
                  <a:lnTo>
                    <a:pt x="0" y="295"/>
                  </a:lnTo>
                  <a:lnTo>
                    <a:pt x="0" y="598"/>
                  </a:lnTo>
                  <a:lnTo>
                    <a:pt x="21" y="893"/>
                  </a:lnTo>
                  <a:lnTo>
                    <a:pt x="62" y="1187"/>
                  </a:lnTo>
                  <a:lnTo>
                    <a:pt x="1242" y="1906"/>
                  </a:lnTo>
                  <a:lnTo>
                    <a:pt x="1196" y="1620"/>
                  </a:lnTo>
                  <a:lnTo>
                    <a:pt x="1177" y="1327"/>
                  </a:lnTo>
                  <a:lnTo>
                    <a:pt x="1189" y="1031"/>
                  </a:lnTo>
                  <a:lnTo>
                    <a:pt x="1236" y="732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20400" y="3600360"/>
              <a:ext cx="657360" cy="1008000"/>
            </a:xfrm>
            <a:custGeom>
              <a:avLst/>
              <a:gdLst/>
              <a:ahLst/>
              <a:rect l="l" t="t" r="r" b="b"/>
              <a:pathLst>
                <a:path w="1242" h="1906">
                  <a:moveTo>
                    <a:pt x="1236" y="732"/>
                  </a:moveTo>
                  <a:lnTo>
                    <a:pt x="1152" y="698"/>
                  </a:lnTo>
                  <a:lnTo>
                    <a:pt x="1071" y="660"/>
                  </a:lnTo>
                  <a:lnTo>
                    <a:pt x="987" y="623"/>
                  </a:lnTo>
                  <a:lnTo>
                    <a:pt x="906" y="583"/>
                  </a:lnTo>
                  <a:lnTo>
                    <a:pt x="828" y="541"/>
                  </a:lnTo>
                  <a:lnTo>
                    <a:pt x="747" y="501"/>
                  </a:lnTo>
                  <a:lnTo>
                    <a:pt x="669" y="458"/>
                  </a:lnTo>
                  <a:lnTo>
                    <a:pt x="594" y="414"/>
                  </a:lnTo>
                  <a:lnTo>
                    <a:pt x="516" y="367"/>
                  </a:lnTo>
                  <a:lnTo>
                    <a:pt x="441" y="320"/>
                  </a:lnTo>
                  <a:lnTo>
                    <a:pt x="370" y="271"/>
                  </a:lnTo>
                  <a:lnTo>
                    <a:pt x="295" y="221"/>
                  </a:lnTo>
                  <a:lnTo>
                    <a:pt x="224" y="167"/>
                  </a:lnTo>
                  <a:lnTo>
                    <a:pt x="155" y="115"/>
                  </a:lnTo>
                  <a:lnTo>
                    <a:pt x="87" y="59"/>
                  </a:lnTo>
                  <a:lnTo>
                    <a:pt x="18" y="0"/>
                  </a:lnTo>
                  <a:lnTo>
                    <a:pt x="0" y="295"/>
                  </a:lnTo>
                  <a:lnTo>
                    <a:pt x="0" y="598"/>
                  </a:lnTo>
                  <a:lnTo>
                    <a:pt x="21" y="893"/>
                  </a:lnTo>
                  <a:lnTo>
                    <a:pt x="62" y="1187"/>
                  </a:lnTo>
                  <a:lnTo>
                    <a:pt x="115" y="1239"/>
                  </a:lnTo>
                  <a:lnTo>
                    <a:pt x="171" y="1292"/>
                  </a:lnTo>
                  <a:lnTo>
                    <a:pt x="230" y="1342"/>
                  </a:lnTo>
                  <a:lnTo>
                    <a:pt x="295" y="1392"/>
                  </a:lnTo>
                  <a:lnTo>
                    <a:pt x="364" y="1438"/>
                  </a:lnTo>
                  <a:lnTo>
                    <a:pt x="433" y="1488"/>
                  </a:lnTo>
                  <a:lnTo>
                    <a:pt x="508" y="1532"/>
                  </a:lnTo>
                  <a:lnTo>
                    <a:pt x="582" y="1579"/>
                  </a:lnTo>
                  <a:lnTo>
                    <a:pt x="663" y="1622"/>
                  </a:lnTo>
                  <a:lnTo>
                    <a:pt x="740" y="1662"/>
                  </a:lnTo>
                  <a:lnTo>
                    <a:pt x="822" y="1706"/>
                  </a:lnTo>
                  <a:lnTo>
                    <a:pt x="906" y="1747"/>
                  </a:lnTo>
                  <a:lnTo>
                    <a:pt x="989" y="1787"/>
                  </a:lnTo>
                  <a:lnTo>
                    <a:pt x="1073" y="1828"/>
                  </a:lnTo>
                  <a:lnTo>
                    <a:pt x="1158" y="1869"/>
                  </a:lnTo>
                  <a:lnTo>
                    <a:pt x="1242" y="1906"/>
                  </a:lnTo>
                  <a:lnTo>
                    <a:pt x="1196" y="1620"/>
                  </a:lnTo>
                  <a:lnTo>
                    <a:pt x="1177" y="1327"/>
                  </a:lnTo>
                  <a:lnTo>
                    <a:pt x="1189" y="1031"/>
                  </a:lnTo>
                  <a:lnTo>
                    <a:pt x="1236" y="732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84120" y="3733920"/>
              <a:ext cx="484200" cy="741240"/>
            </a:xfrm>
            <a:custGeom>
              <a:avLst/>
              <a:gdLst/>
              <a:ahLst/>
              <a:rect l="l" t="t" r="r" b="b"/>
              <a:pathLst>
                <a:path w="916" h="1402">
                  <a:moveTo>
                    <a:pt x="910" y="538"/>
                  </a:moveTo>
                  <a:lnTo>
                    <a:pt x="847" y="513"/>
                  </a:lnTo>
                  <a:lnTo>
                    <a:pt x="788" y="486"/>
                  </a:lnTo>
                  <a:lnTo>
                    <a:pt x="726" y="458"/>
                  </a:lnTo>
                  <a:lnTo>
                    <a:pt x="667" y="430"/>
                  </a:lnTo>
                  <a:lnTo>
                    <a:pt x="607" y="398"/>
                  </a:lnTo>
                  <a:lnTo>
                    <a:pt x="552" y="371"/>
                  </a:lnTo>
                  <a:lnTo>
                    <a:pt x="492" y="339"/>
                  </a:lnTo>
                  <a:lnTo>
                    <a:pt x="436" y="306"/>
                  </a:lnTo>
                  <a:lnTo>
                    <a:pt x="380" y="271"/>
                  </a:lnTo>
                  <a:lnTo>
                    <a:pt x="327" y="237"/>
                  </a:lnTo>
                  <a:lnTo>
                    <a:pt x="270" y="199"/>
                  </a:lnTo>
                  <a:lnTo>
                    <a:pt x="218" y="162"/>
                  </a:lnTo>
                  <a:lnTo>
                    <a:pt x="165" y="124"/>
                  </a:lnTo>
                  <a:lnTo>
                    <a:pt x="113" y="84"/>
                  </a:lnTo>
                  <a:lnTo>
                    <a:pt x="63" y="43"/>
                  </a:lnTo>
                  <a:lnTo>
                    <a:pt x="13" y="0"/>
                  </a:lnTo>
                  <a:lnTo>
                    <a:pt x="0" y="218"/>
                  </a:lnTo>
                  <a:lnTo>
                    <a:pt x="0" y="439"/>
                  </a:lnTo>
                  <a:lnTo>
                    <a:pt x="15" y="657"/>
                  </a:lnTo>
                  <a:lnTo>
                    <a:pt x="46" y="872"/>
                  </a:lnTo>
                  <a:lnTo>
                    <a:pt x="84" y="912"/>
                  </a:lnTo>
                  <a:lnTo>
                    <a:pt x="125" y="950"/>
                  </a:lnTo>
                  <a:lnTo>
                    <a:pt x="171" y="987"/>
                  </a:lnTo>
                  <a:lnTo>
                    <a:pt x="218" y="1025"/>
                  </a:lnTo>
                  <a:lnTo>
                    <a:pt x="268" y="1059"/>
                  </a:lnTo>
                  <a:lnTo>
                    <a:pt x="320" y="1093"/>
                  </a:lnTo>
                  <a:lnTo>
                    <a:pt x="374" y="1128"/>
                  </a:lnTo>
                  <a:lnTo>
                    <a:pt x="429" y="1161"/>
                  </a:lnTo>
                  <a:lnTo>
                    <a:pt x="489" y="1193"/>
                  </a:lnTo>
                  <a:lnTo>
                    <a:pt x="544" y="1224"/>
                  </a:lnTo>
                  <a:lnTo>
                    <a:pt x="607" y="1255"/>
                  </a:lnTo>
                  <a:lnTo>
                    <a:pt x="667" y="1286"/>
                  </a:lnTo>
                  <a:lnTo>
                    <a:pt x="728" y="1314"/>
                  </a:lnTo>
                  <a:lnTo>
                    <a:pt x="791" y="1345"/>
                  </a:lnTo>
                  <a:lnTo>
                    <a:pt x="853" y="1373"/>
                  </a:lnTo>
                  <a:lnTo>
                    <a:pt x="916" y="1402"/>
                  </a:lnTo>
                  <a:lnTo>
                    <a:pt x="878" y="1193"/>
                  </a:lnTo>
                  <a:lnTo>
                    <a:pt x="866" y="978"/>
                  </a:lnTo>
                  <a:lnTo>
                    <a:pt x="875" y="760"/>
                  </a:lnTo>
                  <a:lnTo>
                    <a:pt x="910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917360" y="3960720"/>
              <a:ext cx="101520" cy="646200"/>
            </a:xfrm>
            <a:custGeom>
              <a:avLst/>
              <a:gdLst/>
              <a:ahLst/>
              <a:rect l="l" t="t" r="r" b="b"/>
              <a:pathLst>
                <a:path w="193" h="1221">
                  <a:moveTo>
                    <a:pt x="0" y="1221"/>
                  </a:moveTo>
                  <a:lnTo>
                    <a:pt x="149" y="1130"/>
                  </a:lnTo>
                  <a:lnTo>
                    <a:pt x="155" y="1121"/>
                  </a:lnTo>
                  <a:lnTo>
                    <a:pt x="168" y="1105"/>
                  </a:lnTo>
                  <a:lnTo>
                    <a:pt x="178" y="1087"/>
                  </a:lnTo>
                  <a:lnTo>
                    <a:pt x="180" y="1072"/>
                  </a:lnTo>
                  <a:lnTo>
                    <a:pt x="193" y="0"/>
                  </a:lnTo>
                  <a:lnTo>
                    <a:pt x="13" y="77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09480" y="4489560"/>
              <a:ext cx="1130040" cy="698400"/>
            </a:xfrm>
            <a:custGeom>
              <a:avLst/>
              <a:gdLst/>
              <a:ahLst/>
              <a:rect l="l" t="t" r="r" b="b"/>
              <a:pathLst>
                <a:path w="2136" h="1321">
                  <a:moveTo>
                    <a:pt x="0" y="328"/>
                  </a:moveTo>
                  <a:lnTo>
                    <a:pt x="1567" y="1321"/>
                  </a:lnTo>
                  <a:lnTo>
                    <a:pt x="2136" y="953"/>
                  </a:lnTo>
                  <a:lnTo>
                    <a:pt x="567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57000" y="4513320"/>
              <a:ext cx="1035000" cy="646200"/>
            </a:xfrm>
            <a:custGeom>
              <a:avLst/>
              <a:gdLst/>
              <a:ahLst/>
              <a:rect l="l" t="t" r="r" b="b"/>
              <a:pathLst>
                <a:path w="1958" h="1221">
                  <a:moveTo>
                    <a:pt x="0" y="293"/>
                  </a:moveTo>
                  <a:lnTo>
                    <a:pt x="1454" y="1221"/>
                  </a:lnTo>
                  <a:lnTo>
                    <a:pt x="1958" y="894"/>
                  </a:lnTo>
                  <a:lnTo>
                    <a:pt x="502" y="0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57000" y="4667400"/>
              <a:ext cx="768240" cy="500040"/>
            </a:xfrm>
            <a:custGeom>
              <a:avLst/>
              <a:gdLst/>
              <a:ahLst/>
              <a:rect l="l" t="t" r="r" b="b"/>
              <a:pathLst>
                <a:path w="1454" h="943">
                  <a:moveTo>
                    <a:pt x="0" y="0"/>
                  </a:moveTo>
                  <a:lnTo>
                    <a:pt x="1454" y="928"/>
                  </a:lnTo>
                  <a:lnTo>
                    <a:pt x="1450" y="943"/>
                  </a:lnTo>
                  <a:lnTo>
                    <a:pt x="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423800" y="4984920"/>
              <a:ext cx="268200" cy="182520"/>
            </a:xfrm>
            <a:custGeom>
              <a:avLst/>
              <a:gdLst/>
              <a:ahLst/>
              <a:rect l="l" t="t" r="r" b="b"/>
              <a:pathLst>
                <a:path w="508" h="345">
                  <a:moveTo>
                    <a:pt x="508" y="0"/>
                  </a:moveTo>
                  <a:lnTo>
                    <a:pt x="4" y="330"/>
                  </a:lnTo>
                  <a:lnTo>
                    <a:pt x="0" y="345"/>
                  </a:lnTo>
                  <a:lnTo>
                    <a:pt x="508" y="25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09480" y="4662360"/>
              <a:ext cx="830160" cy="557280"/>
            </a:xfrm>
            <a:custGeom>
              <a:avLst/>
              <a:gdLst/>
              <a:ahLst/>
              <a:rect l="l" t="t" r="r" b="b"/>
              <a:pathLst>
                <a:path w="1567" h="1052">
                  <a:moveTo>
                    <a:pt x="0" y="0"/>
                  </a:moveTo>
                  <a:lnTo>
                    <a:pt x="1567" y="993"/>
                  </a:lnTo>
                  <a:lnTo>
                    <a:pt x="1567" y="1052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439640" y="4994280"/>
              <a:ext cx="299880" cy="225360"/>
            </a:xfrm>
            <a:custGeom>
              <a:avLst/>
              <a:gdLst/>
              <a:ahLst/>
              <a:rect l="l" t="t" r="r" b="b"/>
              <a:pathLst>
                <a:path w="569" h="427">
                  <a:moveTo>
                    <a:pt x="569" y="0"/>
                  </a:moveTo>
                  <a:lnTo>
                    <a:pt x="0" y="368"/>
                  </a:lnTo>
                  <a:lnTo>
                    <a:pt x="0" y="427"/>
                  </a:lnTo>
                  <a:lnTo>
                    <a:pt x="569" y="119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93360" y="4565520"/>
              <a:ext cx="908280" cy="573120"/>
            </a:xfrm>
            <a:custGeom>
              <a:avLst/>
              <a:gdLst/>
              <a:ahLst/>
              <a:rect l="l" t="t" r="r" b="b"/>
              <a:pathLst>
                <a:path w="1716" h="1083">
                  <a:moveTo>
                    <a:pt x="15" y="203"/>
                  </a:moveTo>
                  <a:lnTo>
                    <a:pt x="0" y="218"/>
                  </a:lnTo>
                  <a:lnTo>
                    <a:pt x="1368" y="1083"/>
                  </a:lnTo>
                  <a:lnTo>
                    <a:pt x="1716" y="875"/>
                  </a:lnTo>
                  <a:lnTo>
                    <a:pt x="1701" y="847"/>
                  </a:lnTo>
                  <a:lnTo>
                    <a:pt x="352" y="0"/>
                  </a:lnTo>
                  <a:lnTo>
                    <a:pt x="15" y="20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904680" y="4530600"/>
              <a:ext cx="619200" cy="392400"/>
            </a:xfrm>
            <a:custGeom>
              <a:avLst/>
              <a:gdLst/>
              <a:ahLst/>
              <a:rect l="l" t="t" r="r" b="b"/>
              <a:pathLst>
                <a:path w="1170" h="741">
                  <a:moveTo>
                    <a:pt x="19" y="30"/>
                  </a:moveTo>
                  <a:lnTo>
                    <a:pt x="0" y="49"/>
                  </a:lnTo>
                  <a:lnTo>
                    <a:pt x="1111" y="741"/>
                  </a:lnTo>
                  <a:lnTo>
                    <a:pt x="1170" y="707"/>
                  </a:lnTo>
                  <a:lnTo>
                    <a:pt x="1158" y="678"/>
                  </a:lnTo>
                  <a:lnTo>
                    <a:pt x="72" y="0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49240" y="45687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912600" y="453060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99" y="30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11080" y="459252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0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72920" y="461340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34760" y="463716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8400" y="465768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84160" y="4589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46080" y="455292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46000" y="461340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840" y="463392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69680" y="46576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31520" y="468000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100" y="3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17280" y="461160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981000" y="457344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80920" y="463392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42760" y="465624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04600" y="4680000"/>
              <a:ext cx="5256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99" y="3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952200" y="4633920"/>
              <a:ext cx="5256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15920" y="459576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15840" y="465624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77680" y="46767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39520" y="470052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01360" y="4724280"/>
              <a:ext cx="52560" cy="320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87120" y="465444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50840" y="461628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48960" y="467676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912600" y="469908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99" y="30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73000" y="472104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36280" y="4745160"/>
              <a:ext cx="5256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020600" y="467676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0" y="61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99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083960" y="464040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983880" y="4699080"/>
              <a:ext cx="52560" cy="3312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946080" y="4721040"/>
              <a:ext cx="52200" cy="320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909360" y="474336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99" y="32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69760" y="476568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055520" y="4697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118880" y="466092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018800" y="4721040"/>
              <a:ext cx="52560" cy="3204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81000" y="47433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42840" y="476568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904680" y="478800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88640" y="471816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152360" y="468324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052280" y="47419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15920" y="476568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77760" y="478620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939600" y="480852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23560" y="474012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87280" y="47037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85760" y="4764240"/>
              <a:ext cx="5364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049040" y="478620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12680" y="480852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974520" y="483084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58480" y="476100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220400" y="472608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20680" y="478476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082520" y="480852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47600" y="48290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09440" y="4852800"/>
              <a:ext cx="52200" cy="3204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193400" y="4784760"/>
              <a:ext cx="5256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55320" y="474660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55600" y="480528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17440" y="48290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79280" y="484992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44360" y="487368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28320" y="480528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290240" y="476892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90520" y="482760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152360" y="48499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114200" y="487188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263240" y="482760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25160" y="47894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225440" y="484812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187280" y="48718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149120" y="489276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110960" y="491652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296720" y="484812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60080" y="481176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260360" y="48704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220400" y="489276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184040" y="49165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45880" y="49370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331640" y="48704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395000" y="48322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93480" y="489276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180800" y="495936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366560" y="4892760"/>
              <a:ext cx="5256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428480" y="485280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328400" y="491328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252440" y="495936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15720" y="49798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400040" y="4913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463400" y="487512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363320" y="493380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249200" y="500220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0" y="61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99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433160" y="493380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396800" y="49579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360080" y="4979880"/>
              <a:ext cx="5256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322280" y="500220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284120" y="502452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68080" y="495612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431720" y="497988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392120" y="500076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357200" y="502452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319040" y="504504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503000" y="49766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64840" y="500076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27040" y="5021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392120" y="50450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352160" y="506736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537920" y="499896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3"/>
                  </a:lnTo>
                  <a:lnTo>
                    <a:pt x="54" y="0"/>
                  </a:lnTo>
                  <a:lnTo>
                    <a:pt x="100" y="33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99760" y="502128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461960" y="504360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423800" y="506736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87080" y="50878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6553080" y="2362320"/>
            <a:ext cx="865440" cy="1687320"/>
            <a:chOff x="6553080" y="2362320"/>
            <a:chExt cx="865440" cy="1687320"/>
          </a:xfrm>
        </p:grpSpPr>
        <p:sp>
          <p:nvSpPr>
            <p:cNvPr id="1573" name=""/>
            <p:cNvSpPr/>
            <p:nvPr/>
          </p:nvSpPr>
          <p:spPr>
            <a:xfrm>
              <a:off x="6553080" y="3840120"/>
              <a:ext cx="865440" cy="20952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553080" y="3957480"/>
              <a:ext cx="865440" cy="9180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48480" y="2362320"/>
              <a:ext cx="134280" cy="15843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218720" y="2362320"/>
              <a:ext cx="82800" cy="15843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662520" y="2362320"/>
              <a:ext cx="628200" cy="15843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680520" y="2362320"/>
              <a:ext cx="583560" cy="96120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174440" y="3337200"/>
              <a:ext cx="1080" cy="609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783120" y="3337200"/>
              <a:ext cx="1080" cy="609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4144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67720" y="3265200"/>
              <a:ext cx="1080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9256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18840" y="3265200"/>
              <a:ext cx="1080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4404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7032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552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20360" y="3265200"/>
              <a:ext cx="1368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4664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071480" y="3265200"/>
              <a:ext cx="1368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09776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7124400" y="3264840"/>
              <a:ext cx="1080" cy="6721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07160" y="3084120"/>
              <a:ext cx="525240" cy="11736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07160" y="3191040"/>
              <a:ext cx="525240" cy="1044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45680" y="3098880"/>
              <a:ext cx="461520" cy="87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85160" y="3108600"/>
              <a:ext cx="95760" cy="633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10360" y="3123360"/>
              <a:ext cx="51120" cy="3780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56280" y="3132720"/>
              <a:ext cx="52560" cy="39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881400" y="3132720"/>
              <a:ext cx="49680" cy="39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52520" y="2971800"/>
              <a:ext cx="88560" cy="68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752520" y="2971800"/>
              <a:ext cx="88560" cy="6876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99600" y="2386800"/>
              <a:ext cx="544680" cy="5270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6699600" y="2386800"/>
              <a:ext cx="1440" cy="527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6699240" y="2850120"/>
              <a:ext cx="5446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6699240" y="2738160"/>
              <a:ext cx="5446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699600" y="2405520"/>
              <a:ext cx="544680" cy="201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4640" y="2386800"/>
              <a:ext cx="1440" cy="527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6699240" y="2386800"/>
              <a:ext cx="54468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699600" y="2425680"/>
              <a:ext cx="544680" cy="2041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783120" y="2650320"/>
              <a:ext cx="372960" cy="676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14800" y="2425680"/>
              <a:ext cx="295560" cy="54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809400" y="2528280"/>
              <a:ext cx="204840" cy="8244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09400" y="2528280"/>
              <a:ext cx="204840" cy="8244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719400" y="2552760"/>
              <a:ext cx="487800" cy="241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930000" y="2533680"/>
              <a:ext cx="26280" cy="720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41440" y="2538000"/>
              <a:ext cx="83160" cy="1044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726240" y="2479680"/>
              <a:ext cx="37080" cy="241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99600" y="2517840"/>
              <a:ext cx="5446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809400" y="2664720"/>
              <a:ext cx="314640" cy="38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905160" y="2660760"/>
              <a:ext cx="1288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6860880" y="2693520"/>
              <a:ext cx="122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78320" y="2689200"/>
              <a:ext cx="457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37000" y="2528280"/>
              <a:ext cx="12240" cy="13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3494520" y="357336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, WAN,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2971800" y="2895480"/>
            <a:ext cx="914400" cy="2068560"/>
            <a:chOff x="2971800" y="2895480"/>
            <a:chExt cx="914400" cy="2068560"/>
          </a:xfrm>
        </p:grpSpPr>
        <p:sp>
          <p:nvSpPr>
            <p:cNvPr id="1628" name=""/>
            <p:cNvSpPr/>
            <p:nvPr/>
          </p:nvSpPr>
          <p:spPr>
            <a:xfrm>
              <a:off x="2971800" y="470700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71800" y="485136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72600" y="289548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674880" y="289548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87360" y="2895480"/>
              <a:ext cx="663840" cy="19425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106440" y="289548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808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21480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276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0408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330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5844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385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12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39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6536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93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1972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547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75520" y="4002480"/>
              <a:ext cx="1080" cy="8236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134520" y="378072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134520" y="391140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75200" y="3798360"/>
              <a:ext cx="487440" cy="10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534120" y="3810240"/>
              <a:ext cx="101160" cy="77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560760" y="382860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398040" y="384012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318840" y="384012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82760" y="3642840"/>
              <a:ext cx="93600" cy="84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182760" y="364284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126960" y="2925360"/>
              <a:ext cx="575640" cy="64620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3126960" y="292500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3126600" y="349344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3126600" y="335628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126960" y="2948400"/>
              <a:ext cx="575640" cy="244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702600" y="292536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126600" y="2925360"/>
              <a:ext cx="5756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126960" y="2973240"/>
              <a:ext cx="575640" cy="250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214800" y="3248280"/>
              <a:ext cx="393840" cy="82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248280" y="2973240"/>
              <a:ext cx="312120" cy="65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147480" y="312912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69960" y="310536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276360" y="311076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154680" y="3039480"/>
              <a:ext cx="39240" cy="2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126960" y="3085920"/>
              <a:ext cx="575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242880" y="326628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343680" y="3261240"/>
              <a:ext cx="136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3296880" y="33015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26920" y="3296520"/>
              <a:ext cx="4824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8480" y="309888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4643280" y="3573360"/>
            <a:ext cx="914400" cy="2068560"/>
            <a:chOff x="4643280" y="3573360"/>
            <a:chExt cx="914400" cy="2068560"/>
          </a:xfrm>
        </p:grpSpPr>
        <p:sp>
          <p:nvSpPr>
            <p:cNvPr id="1680" name=""/>
            <p:cNvSpPr/>
            <p:nvPr/>
          </p:nvSpPr>
          <p:spPr>
            <a:xfrm>
              <a:off x="4643280" y="538488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643280" y="552924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44080" y="357336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6360" y="357336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758840" y="3573360"/>
              <a:ext cx="663840" cy="1942560"/>
            </a:xfrm>
            <a:prstGeom prst="rect">
              <a:avLst/>
            </a:prstGeom>
            <a:solidFill>
              <a:srgbClr val="999999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777920" y="357336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99560" y="4768200"/>
              <a:ext cx="1080" cy="74736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886280" y="4768200"/>
              <a:ext cx="1080" cy="74736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47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7556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01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2992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056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83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10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3684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64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9120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218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5247000" y="4680360"/>
              <a:ext cx="1080" cy="823680"/>
            </a:xfrm>
            <a:prstGeom prst="line">
              <a:avLst/>
            </a:prstGeom>
            <a:ln w="180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06000" y="445860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>
                <a:alpha val="7000"/>
              </a:srgbClr>
            </a:solidFill>
            <a:ln w="18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06000" y="458928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46680" y="4476240"/>
              <a:ext cx="487440" cy="107640"/>
            </a:xfrm>
            <a:prstGeom prst="rect">
              <a:avLst/>
            </a:pr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205600" y="4488120"/>
              <a:ext cx="101160" cy="7776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232240" y="450648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069520" y="451800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90320" y="451800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854240" y="4320720"/>
              <a:ext cx="93600" cy="8424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854240" y="432072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798440" y="3603240"/>
              <a:ext cx="575640" cy="646200"/>
            </a:xfrm>
            <a:prstGeom prst="rect">
              <a:avLst/>
            </a:pr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4798440" y="3602880"/>
              <a:ext cx="1440" cy="64620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4798080" y="4171320"/>
              <a:ext cx="575640" cy="108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4798080" y="4034160"/>
              <a:ext cx="575640" cy="108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98440" y="3626280"/>
              <a:ext cx="575640" cy="24480"/>
            </a:xfrm>
            <a:prstGeom prst="rect">
              <a:avLst/>
            </a:pr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374080" y="3603240"/>
              <a:ext cx="1440" cy="64620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4798080" y="3603240"/>
              <a:ext cx="575640" cy="1080"/>
            </a:xfrm>
            <a:prstGeom prst="line">
              <a:avLst/>
            </a:prstGeom>
            <a:ln w="18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798440" y="3651120"/>
              <a:ext cx="575640" cy="25020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86280" y="3926160"/>
              <a:ext cx="393840" cy="8280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3651120"/>
              <a:ext cx="312120" cy="65880"/>
            </a:xfrm>
            <a:prstGeom prst="rect">
              <a:avLst/>
            </a:prstGeom>
            <a:noFill/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818960" y="380700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41440" y="378324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47840" y="378864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26160" y="3717360"/>
              <a:ext cx="39240" cy="29520"/>
            </a:xfrm>
            <a:prstGeom prst="rect">
              <a:avLst/>
            </a:prstGeom>
            <a:solidFill>
              <a:srgbClr val="999999">
                <a:alpha val="7000"/>
              </a:srgbClr>
            </a:solidFill>
            <a:ln w="18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798440" y="3763800"/>
              <a:ext cx="575640" cy="144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914360" y="394416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015160" y="3939120"/>
              <a:ext cx="136080" cy="108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4968360" y="3979440"/>
              <a:ext cx="12960" cy="144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198400" y="3974400"/>
              <a:ext cx="48240" cy="17640"/>
            </a:xfrm>
            <a:prstGeom prst="rect">
              <a:avLst/>
            </a:prstGeom>
            <a:noFill/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259960" y="377676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31" name=""/>
          <p:cNvCxnSpPr>
            <a:stCxn id="1650" idx="3"/>
            <a:endCxn id="1685" idx="0"/>
          </p:cNvCxnSpPr>
          <p:nvPr/>
        </p:nvCxnSpPr>
        <p:spPr>
          <a:xfrm>
            <a:off x="3664080" y="3852720"/>
            <a:ext cx="1149840" cy="899280"/>
          </a:xfrm>
          <a:prstGeom prst="curvedConnector5">
            <a:avLst>
              <a:gd name="adj1" fmla="val 48481"/>
              <a:gd name="adj2" fmla="val 62715"/>
              <a:gd name="adj3" fmla="val 48481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2" name=""/>
          <p:cNvSpPr/>
          <p:nvPr/>
        </p:nvSpPr>
        <p:spPr>
          <a:xfrm>
            <a:off x="4139640" y="30686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Stan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050920" y="3422160"/>
            <a:ext cx="2603520" cy="1026360"/>
            <a:chOff x="2050920" y="3422160"/>
            <a:chExt cx="2603520" cy="1026360"/>
          </a:xfrm>
        </p:grpSpPr>
        <p:sp>
          <p:nvSpPr>
            <p:cNvPr id="1734" name=""/>
            <p:cNvSpPr/>
            <p:nvPr/>
          </p:nvSpPr>
          <p:spPr>
            <a:xfrm>
              <a:off x="2050920" y="3429000"/>
              <a:ext cx="2603520" cy="1006560"/>
            </a:xfrm>
            <a:prstGeom prst="irregularSeal2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rot="20502600">
              <a:off x="2675880" y="3674880"/>
              <a:ext cx="169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4643280" y="3573360"/>
            <a:ext cx="914400" cy="2068560"/>
            <a:chOff x="4643280" y="3573360"/>
            <a:chExt cx="914400" cy="2068560"/>
          </a:xfrm>
        </p:grpSpPr>
        <p:sp>
          <p:nvSpPr>
            <p:cNvPr id="1737" name=""/>
            <p:cNvSpPr/>
            <p:nvPr/>
          </p:nvSpPr>
          <p:spPr>
            <a:xfrm>
              <a:off x="4643280" y="538488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643280" y="552924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744080" y="357336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46360" y="357336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758840" y="3573360"/>
              <a:ext cx="663840" cy="19425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777920" y="357336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99560" y="476820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86280" y="476820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947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97556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001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02992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056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083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110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13684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164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19120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18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5247000" y="4680360"/>
              <a:ext cx="1080" cy="8236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06000" y="445860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06000" y="458928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46680" y="4476240"/>
              <a:ext cx="487440" cy="10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205600" y="4488120"/>
              <a:ext cx="101160" cy="77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232240" y="450648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69520" y="451800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90320" y="451800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854240" y="4320720"/>
              <a:ext cx="93600" cy="84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54240" y="432072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98440" y="3603240"/>
              <a:ext cx="575640" cy="64620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798440" y="360288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4798080" y="417132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798080" y="403416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798440" y="3626280"/>
              <a:ext cx="575640" cy="244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374080" y="360324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4798080" y="3603240"/>
              <a:ext cx="5756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98440" y="3651120"/>
              <a:ext cx="575640" cy="250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886280" y="3926160"/>
              <a:ext cx="393840" cy="82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919760" y="3651120"/>
              <a:ext cx="312120" cy="65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18960" y="380700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041440" y="378324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947840" y="378864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826160" y="3717360"/>
              <a:ext cx="39240" cy="2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98440" y="3763800"/>
              <a:ext cx="575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14360" y="394416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015160" y="3939120"/>
              <a:ext cx="136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4968360" y="397944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98400" y="3974400"/>
              <a:ext cx="4824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59960" y="377676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Fixed Tim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f not me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0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1793880" cy="326880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2971800" y="2895480"/>
            <a:ext cx="914400" cy="2068560"/>
            <a:chOff x="2971800" y="2895480"/>
            <a:chExt cx="914400" cy="2068560"/>
          </a:xfrm>
        </p:grpSpPr>
        <p:sp>
          <p:nvSpPr>
            <p:cNvPr id="1792" name=""/>
            <p:cNvSpPr/>
            <p:nvPr/>
          </p:nvSpPr>
          <p:spPr>
            <a:xfrm>
              <a:off x="2971800" y="470700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971800" y="485136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072600" y="289548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74880" y="289548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087360" y="2895480"/>
              <a:ext cx="663840" cy="19425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06440" y="289548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2808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21480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76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408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30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35844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385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412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439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46536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493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51972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547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3575520" y="4002480"/>
              <a:ext cx="1080" cy="8236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134520" y="378072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134520" y="391140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175200" y="3798360"/>
              <a:ext cx="487440" cy="10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534120" y="3810240"/>
              <a:ext cx="101160" cy="77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560760" y="382860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98040" y="384012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318840" y="384012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82760" y="3642840"/>
              <a:ext cx="93600" cy="84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182760" y="364284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126960" y="2925360"/>
              <a:ext cx="575640" cy="64620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3126960" y="292500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3126600" y="349344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126600" y="335628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126960" y="2948400"/>
              <a:ext cx="575640" cy="244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702600" y="292536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3126600" y="2925360"/>
              <a:ext cx="5756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126960" y="2973240"/>
              <a:ext cx="575640" cy="250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214800" y="3248280"/>
              <a:ext cx="393840" cy="82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248280" y="2973240"/>
              <a:ext cx="312120" cy="65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147480" y="312912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69960" y="310536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276360" y="311076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54680" y="3039480"/>
              <a:ext cx="39240" cy="2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126960" y="3085920"/>
              <a:ext cx="575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42880" y="326628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343680" y="3261240"/>
              <a:ext cx="136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296880" y="33015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526920" y="3296520"/>
              <a:ext cx="4824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588480" y="309888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3" name=""/>
          <p:cNvCxnSpPr>
            <a:stCxn id="1814" idx="3"/>
            <a:endCxn id="1790" idx="2"/>
          </p:cNvCxnSpPr>
          <p:nvPr/>
        </p:nvCxnSpPr>
        <p:spPr>
          <a:xfrm>
            <a:off x="3664080" y="3852360"/>
            <a:ext cx="3024720" cy="1017000"/>
          </a:xfrm>
          <a:prstGeom prst="curvedConnector5">
            <a:avLst>
              <a:gd name="adj1" fmla="val 35162"/>
              <a:gd name="adj2" fmla="val 61225"/>
              <a:gd name="adj3" fmla="val 35162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44" name=""/>
          <p:cNvGrpSpPr/>
          <p:nvPr/>
        </p:nvGrpSpPr>
        <p:grpSpPr>
          <a:xfrm>
            <a:off x="3048120" y="3886200"/>
            <a:ext cx="5029200" cy="2133720"/>
            <a:chOff x="3048120" y="3886200"/>
            <a:chExt cx="5029200" cy="2133720"/>
          </a:xfrm>
        </p:grpSpPr>
        <p:sp>
          <p:nvSpPr>
            <p:cNvPr id="1845" name=""/>
            <p:cNvSpPr/>
            <p:nvPr/>
          </p:nvSpPr>
          <p:spPr>
            <a:xfrm>
              <a:off x="3048120" y="3886200"/>
              <a:ext cx="5029200" cy="2133720"/>
            </a:xfrm>
            <a:prstGeom prst="irregularSeal2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20502600">
              <a:off x="4191120" y="441936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6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1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9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18288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0" name=""/>
          <p:cNvGrpSpPr/>
          <p:nvPr/>
        </p:nvGrpSpPr>
        <p:grpSpPr>
          <a:xfrm>
            <a:off x="1371600" y="3505320"/>
            <a:ext cx="5715000" cy="761760"/>
            <a:chOff x="1371600" y="3505320"/>
            <a:chExt cx="5715000" cy="761760"/>
          </a:xfrm>
        </p:grpSpPr>
        <p:sp>
          <p:nvSpPr>
            <p:cNvPr id="1851" name=""/>
            <p:cNvSpPr/>
            <p:nvPr/>
          </p:nvSpPr>
          <p:spPr>
            <a:xfrm>
              <a:off x="259092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371600" y="3886200"/>
              <a:ext cx="571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41972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4852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038480" y="3886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1447920" y="3429000"/>
            <a:ext cx="5715000" cy="761760"/>
            <a:chOff x="1447920" y="3429000"/>
            <a:chExt cx="5715000" cy="761760"/>
          </a:xfrm>
        </p:grpSpPr>
        <p:sp>
          <p:nvSpPr>
            <p:cNvPr id="1857" name=""/>
            <p:cNvSpPr/>
            <p:nvPr/>
          </p:nvSpPr>
          <p:spPr>
            <a:xfrm>
              <a:off x="2667240" y="342900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447920" y="3809880"/>
              <a:ext cx="5715000" cy="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496040" y="342900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24840" y="342900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114800" y="380988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1295280" y="3505320"/>
            <a:ext cx="5715000" cy="990000"/>
            <a:chOff x="1295280" y="3505320"/>
            <a:chExt cx="5715000" cy="990000"/>
          </a:xfrm>
        </p:grpSpPr>
        <p:sp>
          <p:nvSpPr>
            <p:cNvPr id="1863" name=""/>
            <p:cNvSpPr/>
            <p:nvPr/>
          </p:nvSpPr>
          <p:spPr>
            <a:xfrm>
              <a:off x="2514600" y="3505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295280" y="4000320"/>
              <a:ext cx="57150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343400" y="3505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172200" y="3505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962160" y="4000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 flipV="1">
            <a:off x="4572000" y="236232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5181480" y="205704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7391520" y="25909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omput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48006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057400" y="3035160"/>
            <a:ext cx="99072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505320" y="2666880"/>
            <a:ext cx="182880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638680" y="2666880"/>
            <a:ext cx="182880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inter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257800" y="4191120"/>
            <a:ext cx="2514600" cy="15721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124080" y="4191120"/>
            <a:ext cx="182880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800600" y="1600200"/>
            <a:ext cx="838080" cy="685800"/>
          </a:xfrm>
          <a:prstGeom prst="can">
            <a:avLst>
              <a:gd name="adj" fmla="val 250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934320" y="1600200"/>
            <a:ext cx="1295280" cy="1066680"/>
            <a:chOff x="6934320" y="1600200"/>
            <a:chExt cx="1295280" cy="1066680"/>
          </a:xfrm>
        </p:grpSpPr>
        <p:sp>
          <p:nvSpPr>
            <p:cNvPr id="1880" name=""/>
            <p:cNvSpPr/>
            <p:nvPr/>
          </p:nvSpPr>
          <p:spPr>
            <a:xfrm>
              <a:off x="7710840" y="1725840"/>
              <a:ext cx="518760" cy="912600"/>
            </a:xfrm>
            <a:custGeom>
              <a:avLst/>
              <a:gdLst/>
              <a:ahLst/>
              <a:rect l="l" t="t" r="r" b="b"/>
              <a:pathLst>
                <a:path w="2358" h="3792">
                  <a:moveTo>
                    <a:pt x="0" y="3792"/>
                  </a:moveTo>
                  <a:lnTo>
                    <a:pt x="0" y="1068"/>
                  </a:lnTo>
                  <a:lnTo>
                    <a:pt x="2358" y="0"/>
                  </a:lnTo>
                  <a:lnTo>
                    <a:pt x="2358" y="2304"/>
                  </a:lnTo>
                  <a:lnTo>
                    <a:pt x="0" y="379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708320" y="1806120"/>
              <a:ext cx="489240" cy="860760"/>
            </a:xfrm>
            <a:custGeom>
              <a:avLst/>
              <a:gdLst/>
              <a:ahLst/>
              <a:rect l="l" t="t" r="r" b="b"/>
              <a:pathLst>
                <a:path w="2225" h="3577">
                  <a:moveTo>
                    <a:pt x="0" y="3577"/>
                  </a:moveTo>
                  <a:lnTo>
                    <a:pt x="0" y="1011"/>
                  </a:lnTo>
                  <a:lnTo>
                    <a:pt x="2225" y="0"/>
                  </a:lnTo>
                  <a:lnTo>
                    <a:pt x="2225" y="2175"/>
                  </a:lnTo>
                  <a:lnTo>
                    <a:pt x="0" y="357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117200" y="1600200"/>
              <a:ext cx="1112040" cy="382680"/>
            </a:xfrm>
            <a:custGeom>
              <a:avLst/>
              <a:gdLst/>
              <a:ahLst/>
              <a:rect l="l" t="t" r="r" b="b"/>
              <a:pathLst>
                <a:path w="5054" h="1590">
                  <a:moveTo>
                    <a:pt x="0" y="729"/>
                  </a:moveTo>
                  <a:lnTo>
                    <a:pt x="2696" y="1590"/>
                  </a:lnTo>
                  <a:lnTo>
                    <a:pt x="5054" y="522"/>
                  </a:lnTo>
                  <a:lnTo>
                    <a:pt x="2372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117200" y="1600200"/>
              <a:ext cx="822960" cy="327600"/>
            </a:xfrm>
            <a:custGeom>
              <a:avLst/>
              <a:gdLst/>
              <a:ahLst/>
              <a:rect l="l" t="t" r="r" b="b"/>
              <a:pathLst>
                <a:path w="3739" h="1362">
                  <a:moveTo>
                    <a:pt x="0" y="729"/>
                  </a:moveTo>
                  <a:lnTo>
                    <a:pt x="1980" y="1362"/>
                  </a:lnTo>
                  <a:lnTo>
                    <a:pt x="3739" y="403"/>
                  </a:lnTo>
                  <a:lnTo>
                    <a:pt x="1798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553160" y="1697400"/>
              <a:ext cx="458280" cy="230400"/>
            </a:xfrm>
            <a:custGeom>
              <a:avLst/>
              <a:gdLst/>
              <a:ahLst/>
              <a:rect l="l" t="t" r="r" b="b"/>
              <a:pathLst>
                <a:path w="2083" h="959">
                  <a:moveTo>
                    <a:pt x="0" y="959"/>
                  </a:moveTo>
                  <a:lnTo>
                    <a:pt x="1759" y="0"/>
                  </a:lnTo>
                  <a:lnTo>
                    <a:pt x="2083" y="105"/>
                  </a:lnTo>
                  <a:lnTo>
                    <a:pt x="0" y="9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7572240" y="1698120"/>
              <a:ext cx="528120" cy="236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149600" y="1853640"/>
              <a:ext cx="558720" cy="812880"/>
            </a:xfrm>
            <a:custGeom>
              <a:avLst/>
              <a:gdLst/>
              <a:ahLst/>
              <a:rect l="l" t="t" r="r" b="b"/>
              <a:pathLst>
                <a:path w="2540" h="3379">
                  <a:moveTo>
                    <a:pt x="2540" y="3379"/>
                  </a:moveTo>
                  <a:lnTo>
                    <a:pt x="2540" y="813"/>
                  </a:lnTo>
                  <a:lnTo>
                    <a:pt x="0" y="0"/>
                  </a:lnTo>
                  <a:lnTo>
                    <a:pt x="0" y="2039"/>
                  </a:lnTo>
                  <a:lnTo>
                    <a:pt x="2540" y="337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80640" y="1703160"/>
              <a:ext cx="601920" cy="194760"/>
            </a:xfrm>
            <a:custGeom>
              <a:avLst/>
              <a:gdLst/>
              <a:ahLst/>
              <a:rect l="l" t="t" r="r" b="b"/>
              <a:pathLst>
                <a:path w="2734" h="808">
                  <a:moveTo>
                    <a:pt x="0" y="0"/>
                  </a:moveTo>
                  <a:lnTo>
                    <a:pt x="2001" y="518"/>
                  </a:lnTo>
                  <a:lnTo>
                    <a:pt x="2001" y="620"/>
                  </a:lnTo>
                  <a:lnTo>
                    <a:pt x="2734" y="8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117200" y="1775880"/>
              <a:ext cx="593280" cy="862560"/>
            </a:xfrm>
            <a:custGeom>
              <a:avLst/>
              <a:gdLst/>
              <a:ahLst/>
              <a:rect l="l" t="t" r="r" b="b"/>
              <a:pathLst>
                <a:path w="2696" h="3585">
                  <a:moveTo>
                    <a:pt x="2696" y="3585"/>
                  </a:moveTo>
                  <a:lnTo>
                    <a:pt x="2696" y="861"/>
                  </a:lnTo>
                  <a:lnTo>
                    <a:pt x="0" y="0"/>
                  </a:lnTo>
                  <a:lnTo>
                    <a:pt x="0" y="2163"/>
                  </a:lnTo>
                  <a:lnTo>
                    <a:pt x="2696" y="358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171200" y="2118240"/>
              <a:ext cx="259920" cy="276480"/>
            </a:xfrm>
            <a:custGeom>
              <a:avLst/>
              <a:gdLst/>
              <a:ahLst/>
              <a:rect l="l" t="t" r="r" b="b"/>
              <a:pathLst>
                <a:path w="1181" h="1150">
                  <a:moveTo>
                    <a:pt x="0" y="0"/>
                  </a:moveTo>
                  <a:lnTo>
                    <a:pt x="1181" y="528"/>
                  </a:lnTo>
                  <a:lnTo>
                    <a:pt x="1181" y="1150"/>
                  </a:lnTo>
                  <a:lnTo>
                    <a:pt x="0" y="5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171200" y="1951920"/>
              <a:ext cx="259920" cy="267480"/>
            </a:xfrm>
            <a:custGeom>
              <a:avLst/>
              <a:gdLst/>
              <a:ahLst/>
              <a:rect l="l" t="t" r="r" b="b"/>
              <a:pathLst>
                <a:path w="1181" h="1112">
                  <a:moveTo>
                    <a:pt x="0" y="0"/>
                  </a:moveTo>
                  <a:lnTo>
                    <a:pt x="1181" y="437"/>
                  </a:lnTo>
                  <a:lnTo>
                    <a:pt x="1181" y="1112"/>
                  </a:lnTo>
                  <a:lnTo>
                    <a:pt x="0" y="5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10960" y="1938600"/>
              <a:ext cx="241920" cy="215640"/>
            </a:xfrm>
            <a:custGeom>
              <a:avLst/>
              <a:gdLst/>
              <a:ahLst/>
              <a:rect l="l" t="t" r="r" b="b"/>
              <a:pathLst>
                <a:path w="1100" h="896">
                  <a:moveTo>
                    <a:pt x="1100" y="283"/>
                  </a:moveTo>
                  <a:lnTo>
                    <a:pt x="237" y="0"/>
                  </a:lnTo>
                  <a:lnTo>
                    <a:pt x="0" y="574"/>
                  </a:lnTo>
                  <a:lnTo>
                    <a:pt x="848" y="896"/>
                  </a:lnTo>
                  <a:lnTo>
                    <a:pt x="1100" y="28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60280" y="1956960"/>
              <a:ext cx="168120" cy="99000"/>
            </a:xfrm>
            <a:custGeom>
              <a:avLst/>
              <a:gdLst/>
              <a:ahLst/>
              <a:rect l="l" t="t" r="r" b="b"/>
              <a:pathLst>
                <a:path w="764" h="413">
                  <a:moveTo>
                    <a:pt x="764" y="229"/>
                  </a:moveTo>
                  <a:lnTo>
                    <a:pt x="72" y="0"/>
                  </a:lnTo>
                  <a:lnTo>
                    <a:pt x="0" y="178"/>
                  </a:lnTo>
                  <a:lnTo>
                    <a:pt x="683" y="413"/>
                  </a:lnTo>
                  <a:lnTo>
                    <a:pt x="764" y="2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448760" y="2009880"/>
              <a:ext cx="156960" cy="76680"/>
            </a:xfrm>
            <a:custGeom>
              <a:avLst/>
              <a:gdLst/>
              <a:ahLst/>
              <a:rect l="l" t="t" r="r" b="b"/>
              <a:pathLst>
                <a:path w="714" h="320">
                  <a:moveTo>
                    <a:pt x="714" y="233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1" y="320"/>
                  </a:lnTo>
                  <a:lnTo>
                    <a:pt x="714" y="23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436520" y="2040480"/>
              <a:ext cx="157320" cy="79200"/>
            </a:xfrm>
            <a:custGeom>
              <a:avLst/>
              <a:gdLst/>
              <a:ahLst/>
              <a:rect l="l" t="t" r="r" b="b"/>
              <a:pathLst>
                <a:path w="715" h="330">
                  <a:moveTo>
                    <a:pt x="715" y="242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2" y="330"/>
                  </a:lnTo>
                  <a:lnTo>
                    <a:pt x="715" y="24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597440" y="2007000"/>
              <a:ext cx="55440" cy="168480"/>
            </a:xfrm>
            <a:custGeom>
              <a:avLst/>
              <a:gdLst/>
              <a:ahLst/>
              <a:rect l="l" t="t" r="r" b="b"/>
              <a:pathLst>
                <a:path w="252" h="701">
                  <a:moveTo>
                    <a:pt x="252" y="0"/>
                  </a:moveTo>
                  <a:lnTo>
                    <a:pt x="252" y="701"/>
                  </a:lnTo>
                  <a:lnTo>
                    <a:pt x="0" y="61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335360" y="2197440"/>
              <a:ext cx="375840" cy="18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942240" y="2186280"/>
              <a:ext cx="488520" cy="234720"/>
            </a:xfrm>
            <a:custGeom>
              <a:avLst/>
              <a:gdLst/>
              <a:ahLst/>
              <a:rect l="l" t="t" r="r" b="b"/>
              <a:pathLst>
                <a:path w="2219" h="976">
                  <a:moveTo>
                    <a:pt x="0" y="390"/>
                  </a:moveTo>
                  <a:lnTo>
                    <a:pt x="1255" y="0"/>
                  </a:lnTo>
                  <a:lnTo>
                    <a:pt x="2219" y="411"/>
                  </a:lnTo>
                  <a:lnTo>
                    <a:pt x="2219" y="539"/>
                  </a:lnTo>
                  <a:lnTo>
                    <a:pt x="1032" y="9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942240" y="2280240"/>
              <a:ext cx="226800" cy="223200"/>
            </a:xfrm>
            <a:custGeom>
              <a:avLst/>
              <a:gdLst/>
              <a:ahLst/>
              <a:rect l="l" t="t" r="r" b="b"/>
              <a:pathLst>
                <a:path w="1032" h="927">
                  <a:moveTo>
                    <a:pt x="0" y="0"/>
                  </a:moveTo>
                  <a:lnTo>
                    <a:pt x="0" y="316"/>
                  </a:lnTo>
                  <a:lnTo>
                    <a:pt x="1032" y="927"/>
                  </a:lnTo>
                  <a:lnTo>
                    <a:pt x="1032" y="5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169400" y="2316600"/>
              <a:ext cx="261720" cy="1875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169400" y="2316600"/>
              <a:ext cx="261720" cy="1875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422" y="282"/>
                  </a:lnTo>
                  <a:lnTo>
                    <a:pt x="455" y="464"/>
                  </a:lnTo>
                  <a:lnTo>
                    <a:pt x="762" y="353"/>
                  </a:lnTo>
                  <a:lnTo>
                    <a:pt x="816" y="138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34320" y="2050200"/>
              <a:ext cx="243360" cy="178560"/>
            </a:xfrm>
            <a:custGeom>
              <a:avLst/>
              <a:gdLst/>
              <a:ahLst/>
              <a:rect l="l" t="t" r="r" b="b"/>
              <a:pathLst>
                <a:path w="1106" h="743">
                  <a:moveTo>
                    <a:pt x="0" y="205"/>
                  </a:moveTo>
                  <a:lnTo>
                    <a:pt x="0" y="0"/>
                  </a:lnTo>
                  <a:lnTo>
                    <a:pt x="1106" y="520"/>
                  </a:lnTo>
                  <a:lnTo>
                    <a:pt x="1106" y="743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934320" y="2000880"/>
              <a:ext cx="243360" cy="174240"/>
            </a:xfrm>
            <a:custGeom>
              <a:avLst/>
              <a:gdLst/>
              <a:ahLst/>
              <a:rect l="l" t="t" r="r" b="b"/>
              <a:pathLst>
                <a:path w="1106" h="724">
                  <a:moveTo>
                    <a:pt x="0" y="204"/>
                  </a:moveTo>
                  <a:lnTo>
                    <a:pt x="0" y="0"/>
                  </a:lnTo>
                  <a:lnTo>
                    <a:pt x="1106" y="501"/>
                  </a:lnTo>
                  <a:lnTo>
                    <a:pt x="1106" y="72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934320" y="1992600"/>
              <a:ext cx="496800" cy="128880"/>
            </a:xfrm>
            <a:custGeom>
              <a:avLst/>
              <a:gdLst/>
              <a:ahLst/>
              <a:rect l="l" t="t" r="r" b="b"/>
              <a:pathLst>
                <a:path w="2257" h="538">
                  <a:moveTo>
                    <a:pt x="1115" y="0"/>
                  </a:moveTo>
                  <a:lnTo>
                    <a:pt x="0" y="37"/>
                  </a:lnTo>
                  <a:lnTo>
                    <a:pt x="1106" y="538"/>
                  </a:lnTo>
                  <a:lnTo>
                    <a:pt x="2257" y="427"/>
                  </a:lnTo>
                  <a:lnTo>
                    <a:pt x="1115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177680" y="2144160"/>
              <a:ext cx="253440" cy="84600"/>
            </a:xfrm>
            <a:custGeom>
              <a:avLst/>
              <a:gdLst/>
              <a:ahLst/>
              <a:rect l="l" t="t" r="r" b="b"/>
              <a:pathLst>
                <a:path w="1151" h="353">
                  <a:moveTo>
                    <a:pt x="1151" y="205"/>
                  </a:moveTo>
                  <a:lnTo>
                    <a:pt x="1151" y="0"/>
                  </a:lnTo>
                  <a:lnTo>
                    <a:pt x="0" y="130"/>
                  </a:lnTo>
                  <a:lnTo>
                    <a:pt x="0" y="353"/>
                  </a:lnTo>
                  <a:lnTo>
                    <a:pt x="1151" y="20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177680" y="2094840"/>
              <a:ext cx="253440" cy="8028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177680" y="2094840"/>
              <a:ext cx="253440" cy="8028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779" y="213"/>
                  </a:lnTo>
                  <a:lnTo>
                    <a:pt x="463" y="240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42240" y="2321280"/>
              <a:ext cx="226080" cy="141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361280" y="1624680"/>
              <a:ext cx="496800" cy="173160"/>
            </a:xfrm>
            <a:custGeom>
              <a:avLst/>
              <a:gdLst/>
              <a:ahLst/>
              <a:rect l="l" t="t" r="r" b="b"/>
              <a:pathLst>
                <a:path w="2260" h="719">
                  <a:moveTo>
                    <a:pt x="0" y="328"/>
                  </a:moveTo>
                  <a:lnTo>
                    <a:pt x="1472" y="719"/>
                  </a:lnTo>
                  <a:lnTo>
                    <a:pt x="2260" y="3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361280" y="1624680"/>
              <a:ext cx="213840" cy="141480"/>
            </a:xfrm>
            <a:custGeom>
              <a:avLst/>
              <a:gdLst/>
              <a:ahLst/>
              <a:rect l="l" t="t" r="r" b="b"/>
              <a:pathLst>
                <a:path w="972" h="587">
                  <a:moveTo>
                    <a:pt x="0" y="328"/>
                  </a:moveTo>
                  <a:lnTo>
                    <a:pt x="972" y="587"/>
                  </a:lnTo>
                  <a:lnTo>
                    <a:pt x="972" y="221"/>
                  </a:lnTo>
                  <a:lnTo>
                    <a:pt x="887" y="200"/>
                  </a:lnTo>
                  <a:lnTo>
                    <a:pt x="887" y="128"/>
                  </a:lnTo>
                  <a:lnTo>
                    <a:pt x="801" y="1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537320" y="1624680"/>
              <a:ext cx="320760" cy="93600"/>
            </a:xfrm>
            <a:custGeom>
              <a:avLst/>
              <a:gdLst/>
              <a:ahLst/>
              <a:rect l="l" t="t" r="r" b="b"/>
              <a:pathLst>
                <a:path w="1459" h="390">
                  <a:moveTo>
                    <a:pt x="0" y="108"/>
                  </a:moveTo>
                  <a:lnTo>
                    <a:pt x="1302" y="390"/>
                  </a:lnTo>
                  <a:lnTo>
                    <a:pt x="1459" y="308"/>
                  </a:lnTo>
                  <a:lnTo>
                    <a:pt x="0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575120" y="1677960"/>
              <a:ext cx="224640" cy="67320"/>
            </a:xfrm>
            <a:custGeom>
              <a:avLst/>
              <a:gdLst/>
              <a:ahLst/>
              <a:rect l="l" t="t" r="r" b="b"/>
              <a:pathLst>
                <a:path w="1022" h="279">
                  <a:moveTo>
                    <a:pt x="0" y="0"/>
                  </a:moveTo>
                  <a:lnTo>
                    <a:pt x="1022" y="227"/>
                  </a:lnTo>
                  <a:lnTo>
                    <a:pt x="919" y="27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>
            <a:off x="4267080" y="1828800"/>
            <a:ext cx="838440" cy="685800"/>
          </a:xfrm>
          <a:prstGeom prst="can">
            <a:avLst>
              <a:gd name="adj" fmla="val 250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609480" y="4259880"/>
            <a:ext cx="2057040" cy="1697400"/>
            <a:chOff x="609480" y="4259880"/>
            <a:chExt cx="2057040" cy="1697400"/>
          </a:xfrm>
        </p:grpSpPr>
        <p:sp>
          <p:nvSpPr>
            <p:cNvPr id="1914" name=""/>
            <p:cNvSpPr/>
            <p:nvPr/>
          </p:nvSpPr>
          <p:spPr>
            <a:xfrm>
              <a:off x="609480" y="4259880"/>
              <a:ext cx="2005200" cy="1697400"/>
            </a:xfrm>
            <a:prstGeom prst="wedgeRoundRectCallout">
              <a:avLst>
                <a:gd name="adj1" fmla="val 72796"/>
                <a:gd name="adj2" fmla="val -67425"/>
                <a:gd name="adj3" fmla="val 16667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5" name=""/>
            <p:cNvGrpSpPr/>
            <p:nvPr/>
          </p:nvGrpSpPr>
          <p:grpSpPr>
            <a:xfrm>
              <a:off x="685800" y="4724280"/>
              <a:ext cx="1980720" cy="1069200"/>
              <a:chOff x="685800" y="4724280"/>
              <a:chExt cx="1980720" cy="1069200"/>
            </a:xfrm>
          </p:grpSpPr>
          <p:sp>
            <p:nvSpPr>
              <p:cNvPr id="1916" name=""/>
              <p:cNvSpPr/>
              <p:nvPr/>
            </p:nvSpPr>
            <p:spPr>
              <a:xfrm>
                <a:off x="1218960" y="47242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add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18960" y="50292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8" name=""/>
              <p:cNvGrpSpPr/>
              <p:nvPr/>
            </p:nvGrpSpPr>
            <p:grpSpPr>
              <a:xfrm>
                <a:off x="685800" y="5029200"/>
                <a:ext cx="456840" cy="609480"/>
                <a:chOff x="685800" y="5029200"/>
                <a:chExt cx="456840" cy="609480"/>
              </a:xfrm>
            </p:grpSpPr>
            <p:sp>
              <p:nvSpPr>
                <p:cNvPr id="1919" name=""/>
                <p:cNvSpPr/>
                <p:nvPr/>
              </p:nvSpPr>
              <p:spPr>
                <a:xfrm>
                  <a:off x="685800" y="5029200"/>
                  <a:ext cx="45684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85800" y="533376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85800" y="563868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2" name=""/>
              <p:cNvSpPr/>
              <p:nvPr/>
            </p:nvSpPr>
            <p:spPr>
              <a:xfrm>
                <a:off x="1218960" y="533376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3" name=""/>
          <p:cNvGrpSpPr/>
          <p:nvPr/>
        </p:nvGrpSpPr>
        <p:grpSpPr>
          <a:xfrm>
            <a:off x="914400" y="1383840"/>
            <a:ext cx="2941560" cy="1491840"/>
            <a:chOff x="914400" y="1383840"/>
            <a:chExt cx="2941560" cy="1491840"/>
          </a:xfrm>
        </p:grpSpPr>
        <p:sp>
          <p:nvSpPr>
            <p:cNvPr id="1924" name=""/>
            <p:cNvSpPr/>
            <p:nvPr/>
          </p:nvSpPr>
          <p:spPr>
            <a:xfrm>
              <a:off x="914400" y="1383840"/>
              <a:ext cx="2941560" cy="1491840"/>
            </a:xfrm>
            <a:prstGeom prst="wedgeRoundRectCallout">
              <a:avLst>
                <a:gd name="adj1" fmla="val 44870"/>
                <a:gd name="adj2" fmla="val 64111"/>
                <a:gd name="adj3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ecial Register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295280" y="2438280"/>
              <a:ext cx="838440" cy="3049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286000" y="2438280"/>
              <a:ext cx="838080" cy="3049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057400" y="1447920"/>
              <a:ext cx="1295280" cy="6094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6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1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nterrupt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990720" y="2133720"/>
            <a:ext cx="19047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rup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andler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666880" y="4191120"/>
            <a:ext cx="6858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3352680" y="411444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581280" y="4114800"/>
            <a:ext cx="2286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4191120" y="251424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191120" y="2362320"/>
            <a:ext cx="457200" cy="76176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4648320" y="2666880"/>
            <a:ext cx="75960" cy="45720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724280" y="2666880"/>
            <a:ext cx="381240" cy="30492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5105520" y="2133720"/>
            <a:ext cx="75960" cy="83808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181480" y="2209680"/>
            <a:ext cx="533520" cy="68580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5715000" y="28951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715000" y="449568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6019920" y="4343040"/>
            <a:ext cx="75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095880" y="4343400"/>
            <a:ext cx="10670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038480" y="2971800"/>
            <a:ext cx="381240" cy="1143000"/>
          </a:xfrm>
          <a:prstGeom prst="upArrow">
            <a:avLst>
              <a:gd name="adj1" fmla="val 50000"/>
              <a:gd name="adj2" fmla="val 7495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5486400" y="3123360"/>
            <a:ext cx="380880" cy="1143000"/>
          </a:xfrm>
          <a:prstGeom prst="upArrow">
            <a:avLst>
              <a:gd name="adj1" fmla="val 50000"/>
              <a:gd name="adj2" fmla="val 7502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3809880" y="3733920"/>
            <a:ext cx="990360" cy="685800"/>
            <a:chOff x="3809880" y="3733920"/>
            <a:chExt cx="990360" cy="685800"/>
          </a:xfrm>
        </p:grpSpPr>
        <p:sp>
          <p:nvSpPr>
            <p:cNvPr id="1946" name=""/>
            <p:cNvSpPr/>
            <p:nvPr/>
          </p:nvSpPr>
          <p:spPr>
            <a:xfrm>
              <a:off x="3809880" y="3810240"/>
              <a:ext cx="990360" cy="60948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038480" y="3733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8" name=""/>
          <p:cNvSpPr/>
          <p:nvPr/>
        </p:nvSpPr>
        <p:spPr>
          <a:xfrm>
            <a:off x="3962520" y="4267080"/>
            <a:ext cx="304560" cy="304920"/>
          </a:xfrm>
          <a:prstGeom prst="ellipse">
            <a:avLst/>
          </a:prstGeom>
          <a:solidFill>
            <a:srgbClr val="fe7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809880" y="4419360"/>
            <a:ext cx="304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965040" y="4879080"/>
            <a:ext cx="1712520" cy="891000"/>
          </a:xfrm>
          <a:prstGeom prst="wedgeRoundRectCallout">
            <a:avLst>
              <a:gd name="adj1" fmla="val -38023"/>
              <a:gd name="adj2" fmla="val -107430"/>
              <a:gd name="adj3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ave IC &amp;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083640" y="2266200"/>
            <a:ext cx="943920" cy="496440"/>
          </a:xfrm>
          <a:prstGeom prst="wedgeRoundRectCallout">
            <a:avLst>
              <a:gd name="adj1" fmla="val -92351"/>
              <a:gd name="adj2" fmla="val 79416"/>
              <a:gd name="adj3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762120" y="3276720"/>
            <a:ext cx="1371600" cy="459720"/>
            <a:chOff x="762120" y="3276720"/>
            <a:chExt cx="1371600" cy="459720"/>
          </a:xfrm>
        </p:grpSpPr>
        <p:sp>
          <p:nvSpPr>
            <p:cNvPr id="1953" name=""/>
            <p:cNvSpPr/>
            <p:nvPr/>
          </p:nvSpPr>
          <p:spPr>
            <a:xfrm>
              <a:off x="762120" y="37339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914400" y="3276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7846920" y="2057400"/>
            <a:ext cx="534600" cy="3657240"/>
            <a:chOff x="7846920" y="2057400"/>
            <a:chExt cx="534600" cy="3657240"/>
          </a:xfrm>
        </p:grpSpPr>
        <p:sp>
          <p:nvSpPr>
            <p:cNvPr id="1956" name=""/>
            <p:cNvSpPr/>
            <p:nvPr/>
          </p:nvSpPr>
          <p:spPr>
            <a:xfrm>
              <a:off x="8381520" y="2057400"/>
              <a:ext cx="0" cy="365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rot="16200000">
              <a:off x="7232760" y="36068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5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4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9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4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9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7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6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0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nterrupt (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990720" y="2133720"/>
            <a:ext cx="19047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rup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andler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666880" y="4191120"/>
            <a:ext cx="6858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3352680" y="411444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581280" y="4114800"/>
            <a:ext cx="2286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114800" y="449568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419720" y="4343040"/>
            <a:ext cx="75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95680" y="4343400"/>
            <a:ext cx="10670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V="1">
            <a:off x="3809880" y="4419360"/>
            <a:ext cx="304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762120" y="3276720"/>
            <a:ext cx="1371600" cy="459720"/>
            <a:chOff x="762120" y="3276720"/>
            <a:chExt cx="1371600" cy="459720"/>
          </a:xfrm>
        </p:grpSpPr>
        <p:sp>
          <p:nvSpPr>
            <p:cNvPr id="1968" name=""/>
            <p:cNvSpPr/>
            <p:nvPr/>
          </p:nvSpPr>
          <p:spPr>
            <a:xfrm>
              <a:off x="762120" y="37339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914400" y="3276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7846920" y="2057400"/>
            <a:ext cx="534600" cy="3657240"/>
            <a:chOff x="7846920" y="2057400"/>
            <a:chExt cx="534600" cy="3657240"/>
          </a:xfrm>
        </p:grpSpPr>
        <p:sp>
          <p:nvSpPr>
            <p:cNvPr id="1971" name=""/>
            <p:cNvSpPr/>
            <p:nvPr/>
          </p:nvSpPr>
          <p:spPr>
            <a:xfrm>
              <a:off x="8381520" y="2057400"/>
              <a:ext cx="0" cy="365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rot="16200000">
              <a:off x="7232760" y="36068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nterrupt Hand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1905120" y="1752480"/>
            <a:ext cx="5867280" cy="4114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av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or Registers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? Why Interru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ossibly Po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Handle Interrupt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Restor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Return From Interrupt  (ire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1143000" y="1523880"/>
            <a:ext cx="990720" cy="228600"/>
            <a:chOff x="1143000" y="1523880"/>
            <a:chExt cx="990720" cy="228600"/>
          </a:xfrm>
        </p:grpSpPr>
        <p:sp>
          <p:nvSpPr>
            <p:cNvPr id="1976" name=""/>
            <p:cNvSpPr/>
            <p:nvPr/>
          </p:nvSpPr>
          <p:spPr>
            <a:xfrm>
              <a:off x="1143000" y="15238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133720" y="1523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143360" y="5867280"/>
            <a:ext cx="990360" cy="152640"/>
            <a:chOff x="1143360" y="5867280"/>
            <a:chExt cx="990360" cy="152640"/>
          </a:xfrm>
        </p:grpSpPr>
        <p:sp>
          <p:nvSpPr>
            <p:cNvPr id="1979" name=""/>
            <p:cNvSpPr/>
            <p:nvPr/>
          </p:nvSpPr>
          <p:spPr>
            <a:xfrm>
              <a:off x="2133720" y="58672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1143360" y="601992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7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2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ardware Support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1600200" y="2819520"/>
            <a:ext cx="5943600" cy="2684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905120" y="3200400"/>
            <a:ext cx="213336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029200" y="3657600"/>
            <a:ext cx="2133720" cy="8254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g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590920" y="4495680"/>
            <a:ext cx="213336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g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3124080" y="2819520"/>
            <a:ext cx="3200400" cy="1143000"/>
            <a:chOff x="3124080" y="2819520"/>
            <a:chExt cx="3200400" cy="1143000"/>
          </a:xfrm>
        </p:grpSpPr>
        <p:sp>
          <p:nvSpPr>
            <p:cNvPr id="1988" name=""/>
            <p:cNvSpPr/>
            <p:nvPr/>
          </p:nvSpPr>
          <p:spPr>
            <a:xfrm>
              <a:off x="3124080" y="3060720"/>
              <a:ext cx="2743200" cy="901800"/>
            </a:xfrm>
            <a:custGeom>
              <a:avLst/>
              <a:gdLst/>
              <a:ahLst/>
              <a:rect l="l" t="t" r="r" b="b"/>
              <a:pathLst>
                <a:path w="1728" h="568">
                  <a:moveTo>
                    <a:pt x="1728" y="568"/>
                  </a:moveTo>
                  <a:cubicBezTo>
                    <a:pt x="1512" y="324"/>
                    <a:pt x="1296" y="80"/>
                    <a:pt x="1008" y="40"/>
                  </a:cubicBezTo>
                  <a:cubicBezTo>
                    <a:pt x="720" y="0"/>
                    <a:pt x="360" y="164"/>
                    <a:pt x="0" y="328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876920" y="28195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3886200" y="4191120"/>
            <a:ext cx="2514600" cy="992880"/>
            <a:chOff x="3886200" y="4191120"/>
            <a:chExt cx="2514600" cy="992880"/>
          </a:xfrm>
        </p:grpSpPr>
        <p:sp>
          <p:nvSpPr>
            <p:cNvPr id="1991" name=""/>
            <p:cNvSpPr/>
            <p:nvPr/>
          </p:nvSpPr>
          <p:spPr>
            <a:xfrm>
              <a:off x="3886200" y="4191120"/>
              <a:ext cx="1905120" cy="685800"/>
            </a:xfrm>
            <a:custGeom>
              <a:avLst/>
              <a:gdLst/>
              <a:ahLst/>
              <a:rect l="l" t="t" r="r" b="b"/>
              <a:pathLst>
                <a:path w="1200" h="432">
                  <a:moveTo>
                    <a:pt x="0" y="432"/>
                  </a:moveTo>
                  <a:cubicBezTo>
                    <a:pt x="284" y="420"/>
                    <a:pt x="568" y="408"/>
                    <a:pt x="768" y="336"/>
                  </a:cubicBezTo>
                  <a:cubicBezTo>
                    <a:pt x="968" y="264"/>
                    <a:pt x="1084" y="132"/>
                    <a:pt x="1200" y="0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02920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1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6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ardware Support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447920" y="3505320"/>
            <a:ext cx="3962160" cy="1557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AD …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D …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ORE ...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UMP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791320" y="3581280"/>
            <a:ext cx="1371600" cy="381240"/>
          </a:xfrm>
          <a:prstGeom prst="leftArrow">
            <a:avLst>
              <a:gd name="adj1" fmla="val 50000"/>
              <a:gd name="adj2" fmla="val 89943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91320" y="391176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791320" y="424188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791320" y="45720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791320" y="3581280"/>
            <a:ext cx="1371600" cy="381240"/>
          </a:xfrm>
          <a:prstGeom prst="leftArrow">
            <a:avLst>
              <a:gd name="adj1" fmla="val 50000"/>
              <a:gd name="adj2" fmla="val 89943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791320" y="391176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791320" y="424188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791320" y="45720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299000" y="4454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5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0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500"/>
                            </p:stCondLst>
                            <p:childTnLst>
                              <p:par>
                                <p:cTn id="9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0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ourse B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2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 Concepts, 7/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Silberschatz, P. Galvin, G. Gag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, John Wiley and So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0-471-69466-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s 1-15 (20-22), 23, (ap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 Concepts, 6/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Silberschatz, P. Galvin, G. Gag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, John Wiley and So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0-471-26272-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s 1-14, 18-19, (20-22), 23, (ap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80360" y="3854520"/>
            <a:ext cx="1270080" cy="1892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12700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Support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2987640" y="2421000"/>
            <a:ext cx="4248360" cy="360036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132000" y="3522960"/>
            <a:ext cx="230364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356000" y="3650040"/>
            <a:ext cx="2303640" cy="4597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7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General System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S interrupt driv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590920" y="2283840"/>
            <a:ext cx="5790960" cy="36064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666880" y="2362320"/>
            <a:ext cx="3581640" cy="26845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895480" y="3886200"/>
            <a:ext cx="13716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257800" y="2514600"/>
            <a:ext cx="83808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2743200" y="2438280"/>
            <a:ext cx="609480" cy="457200"/>
            <a:chOff x="2743200" y="2438280"/>
            <a:chExt cx="609480" cy="457200"/>
          </a:xfrm>
        </p:grpSpPr>
        <p:sp>
          <p:nvSpPr>
            <p:cNvPr id="2017" name=""/>
            <p:cNvSpPr/>
            <p:nvPr/>
          </p:nvSpPr>
          <p:spPr>
            <a:xfrm>
              <a:off x="2743200" y="2438280"/>
              <a:ext cx="6094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743200" y="2590560"/>
              <a:ext cx="6094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43200" y="2742840"/>
              <a:ext cx="6094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3124080" y="3124080"/>
            <a:ext cx="60984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876920" y="3733920"/>
            <a:ext cx="99036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191120" y="2514600"/>
            <a:ext cx="76176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200400" y="2514600"/>
            <a:ext cx="99072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200400" y="2666880"/>
            <a:ext cx="1752480" cy="10670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895480" y="2819520"/>
            <a:ext cx="76320" cy="10666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629400" y="2971800"/>
            <a:ext cx="1447920" cy="1937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371600" y="25146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200400" y="2666880"/>
            <a:ext cx="1752480" cy="10670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876920" y="3733920"/>
            <a:ext cx="990360" cy="609480"/>
          </a:xfrm>
          <a:prstGeom prst="rect">
            <a:avLst/>
          </a:prstGeom>
          <a:solidFill>
            <a:srgbClr val="fe7e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105520" y="3048120"/>
            <a:ext cx="380880" cy="761760"/>
          </a:xfrm>
          <a:custGeom>
            <a:avLst/>
            <a:gdLst>
              <a:gd name="textAreaLeft" fmla="*/ 0 w 380880"/>
              <a:gd name="textAreaRight" fmla="*/ 381240 w 38088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e7e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33520" y="320040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/O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476360" y="2276640"/>
            <a:ext cx="792000" cy="936360"/>
          </a:xfrm>
          <a:prstGeom prst="lightningBolt">
            <a:avLst/>
          </a:prstGeom>
          <a:solidFill>
            <a:srgbClr val="fc0128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380360" y="3068640"/>
            <a:ext cx="396720" cy="1081080"/>
          </a:xfrm>
          <a:custGeom>
            <a:avLst/>
            <a:gdLst/>
            <a:ahLst/>
            <a:rect l="l" t="t" r="r" b="b"/>
            <a:pathLst>
              <a:path w="250" h="681">
                <a:moveTo>
                  <a:pt x="8" y="0"/>
                </a:moveTo>
                <a:cubicBezTo>
                  <a:pt x="98" y="49"/>
                  <a:pt x="189" y="99"/>
                  <a:pt x="189" y="137"/>
                </a:cubicBezTo>
                <a:cubicBezTo>
                  <a:pt x="189" y="175"/>
                  <a:pt x="0" y="189"/>
                  <a:pt x="8" y="227"/>
                </a:cubicBezTo>
                <a:cubicBezTo>
                  <a:pt x="16" y="265"/>
                  <a:pt x="220" y="325"/>
                  <a:pt x="235" y="363"/>
                </a:cubicBezTo>
                <a:cubicBezTo>
                  <a:pt x="250" y="401"/>
                  <a:pt x="122" y="401"/>
                  <a:pt x="99" y="454"/>
                </a:cubicBezTo>
                <a:cubicBezTo>
                  <a:pt x="76" y="507"/>
                  <a:pt x="87" y="594"/>
                  <a:pt x="99" y="681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2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6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0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88520" y="160236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320560" y="291672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68880" y="1850040"/>
            <a:ext cx="136512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744880" y="487908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85240" y="5107680"/>
            <a:ext cx="182268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082680" y="426924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ec. Memory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036480" y="3354840"/>
            <a:ext cx="26816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process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70360" y="3812040"/>
            <a:ext cx="184248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mand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OS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1866960" y="4775040"/>
            <a:ext cx="3809880" cy="1246320"/>
            <a:chOff x="1866960" y="4775040"/>
            <a:chExt cx="3809880" cy="1246320"/>
          </a:xfrm>
        </p:grpSpPr>
        <p:sp>
          <p:nvSpPr>
            <p:cNvPr id="2045" name=""/>
            <p:cNvSpPr/>
            <p:nvPr/>
          </p:nvSpPr>
          <p:spPr>
            <a:xfrm>
              <a:off x="1866960" y="477504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933640" y="5500800"/>
              <a:ext cx="18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8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1866960" y="3657600"/>
            <a:ext cx="4152960" cy="1083960"/>
            <a:chOff x="1866960" y="3657600"/>
            <a:chExt cx="4152960" cy="1083960"/>
          </a:xfrm>
        </p:grpSpPr>
        <p:sp>
          <p:nvSpPr>
            <p:cNvPr id="2048" name=""/>
            <p:cNvSpPr/>
            <p:nvPr/>
          </p:nvSpPr>
          <p:spPr>
            <a:xfrm>
              <a:off x="1866960" y="365760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133720" y="42210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800" spc="-1" strike="noStrike">
                  <a:solidFill>
                    <a:srgbClr val="00279f"/>
                  </a:solidFill>
                  <a:latin typeface="Arial"/>
                </a:rPr>
                <a:t>    </a:t>
              </a:r>
              <a:r>
                <a:rPr b="0" i="1" lang="nl-BE" sz="2800" spc="-1" strike="noStrike">
                  <a:solidFill>
                    <a:srgbClr val="00279f"/>
                  </a:solidFill>
                  <a:latin typeface="Arial"/>
                </a:rPr>
                <a:t>Operating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4876920" y="3200400"/>
            <a:ext cx="685800" cy="533520"/>
          </a:xfrm>
          <a:prstGeom prst="ellipse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209680" y="3200400"/>
            <a:ext cx="685800" cy="5335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943280" y="2514600"/>
            <a:ext cx="3809880" cy="863640"/>
          </a:xfrm>
          <a:custGeom>
            <a:avLst/>
            <a:gdLst/>
            <a:ahLst/>
            <a:rect l="l" t="t" r="r" b="b"/>
            <a:pathLst>
              <a:path w="2400" h="544">
                <a:moveTo>
                  <a:pt x="0" y="544"/>
                </a:moveTo>
                <a:cubicBezTo>
                  <a:pt x="376" y="288"/>
                  <a:pt x="752" y="32"/>
                  <a:pt x="1152" y="16"/>
                </a:cubicBezTo>
                <a:cubicBezTo>
                  <a:pt x="1552" y="0"/>
                  <a:pt x="2192" y="376"/>
                  <a:pt x="2400" y="448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38680" y="3276720"/>
            <a:ext cx="23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b3b900"/>
                </a:solidFill>
                <a:latin typeface="Arial"/>
              </a:rPr>
              <a:t>System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523880" y="3581280"/>
            <a:ext cx="685800" cy="5335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1"/>
          <a:stretch/>
        </p:blipFill>
        <p:spPr>
          <a:xfrm>
            <a:off x="5400720" y="1882800"/>
            <a:ext cx="695160" cy="93672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 rot="19362600">
            <a:off x="1882440" y="39621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rot="19362600">
            <a:off x="2742840" y="35049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rot="1903200">
            <a:off x="5257440" y="274284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rot="2191200">
            <a:off x="4746240" y="3587760"/>
            <a:ext cx="304920" cy="762120"/>
          </a:xfrm>
          <a:prstGeom prst="upDownArrow">
            <a:avLst>
              <a:gd name="adj1" fmla="val 50000"/>
              <a:gd name="adj2" fmla="val 4975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990720" y="42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ae00"/>
                </a:solidFill>
                <a:latin typeface="Arial"/>
              </a:rPr>
              <a:t>S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962520" y="2971800"/>
            <a:ext cx="685800" cy="533520"/>
          </a:xfrm>
          <a:prstGeom prst="ellipse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9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1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5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4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2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1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5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/>
          <p:nvPr/>
        </p:nvSpPr>
        <p:spPr>
          <a:xfrm>
            <a:off x="380880" y="2209680"/>
            <a:ext cx="7696440" cy="3576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upervisor Call (SV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952880" y="2819520"/>
            <a:ext cx="2895840" cy="1747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 123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57200" y="2286000"/>
            <a:ext cx="3505320" cy="3240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533520" y="2590920"/>
            <a:ext cx="838080" cy="609480"/>
            <a:chOff x="533520" y="2590920"/>
            <a:chExt cx="838080" cy="609480"/>
          </a:xfrm>
        </p:grpSpPr>
        <p:sp>
          <p:nvSpPr>
            <p:cNvPr id="2068" name=""/>
            <p:cNvSpPr/>
            <p:nvPr/>
          </p:nvSpPr>
          <p:spPr>
            <a:xfrm>
              <a:off x="533520" y="2590920"/>
              <a:ext cx="83808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33520" y="2895480"/>
              <a:ext cx="8380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1676520" y="3048120"/>
            <a:ext cx="2133360" cy="211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-handler</a:t>
            </a:r>
            <a:br>
              <a:rPr sz="2400"/>
            </a:b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43000" y="2971800"/>
            <a:ext cx="609480" cy="152280"/>
          </a:xfrm>
          <a:prstGeom prst="line">
            <a:avLst/>
          </a:prstGeom>
          <a:ln w="1015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048120" y="3429000"/>
            <a:ext cx="2057400" cy="1739880"/>
          </a:xfrm>
          <a:custGeom>
            <a:avLst/>
            <a:gdLst/>
            <a:ahLst/>
            <a:rect l="l" t="t" r="r" b="b"/>
            <a:pathLst>
              <a:path w="1296" h="1136">
                <a:moveTo>
                  <a:pt x="0" y="952"/>
                </a:moveTo>
                <a:cubicBezTo>
                  <a:pt x="336" y="1044"/>
                  <a:pt x="672" y="1136"/>
                  <a:pt x="816" y="1000"/>
                </a:cubicBezTo>
                <a:cubicBezTo>
                  <a:pt x="960" y="864"/>
                  <a:pt x="784" y="272"/>
                  <a:pt x="864" y="136"/>
                </a:cubicBezTo>
                <a:cubicBezTo>
                  <a:pt x="944" y="0"/>
                  <a:pt x="1120" y="92"/>
                  <a:pt x="1296" y="184"/>
                </a:cubicBezTo>
              </a:path>
            </a:pathLst>
          </a:custGeom>
          <a:noFill/>
          <a:ln w="1015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905120" y="2451240"/>
            <a:ext cx="3047760" cy="1028520"/>
          </a:xfrm>
          <a:custGeom>
            <a:avLst/>
            <a:gdLst/>
            <a:ahLst/>
            <a:rect l="l" t="t" r="r" b="b"/>
            <a:pathLst>
              <a:path w="2072" h="648">
                <a:moveTo>
                  <a:pt x="2072" y="568"/>
                </a:moveTo>
                <a:cubicBezTo>
                  <a:pt x="1772" y="608"/>
                  <a:pt x="1472" y="648"/>
                  <a:pt x="1304" y="568"/>
                </a:cubicBezTo>
                <a:cubicBezTo>
                  <a:pt x="1136" y="488"/>
                  <a:pt x="1224" y="176"/>
                  <a:pt x="1064" y="88"/>
                </a:cubicBezTo>
                <a:cubicBezTo>
                  <a:pt x="904" y="0"/>
                  <a:pt x="512" y="40"/>
                  <a:pt x="344" y="40"/>
                </a:cubicBezTo>
                <a:cubicBezTo>
                  <a:pt x="176" y="40"/>
                  <a:pt x="112" y="32"/>
                  <a:pt x="56" y="88"/>
                </a:cubicBezTo>
                <a:cubicBezTo>
                  <a:pt x="0" y="144"/>
                  <a:pt x="4" y="260"/>
                  <a:pt x="8" y="376"/>
                </a:cubicBezTo>
              </a:path>
            </a:pathLst>
          </a:custGeom>
          <a:noFill/>
          <a:ln w="10152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809880" y="2895480"/>
            <a:ext cx="533520" cy="91440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502000" y="3505320"/>
            <a:ext cx="241200" cy="1218960"/>
          </a:xfrm>
          <a:custGeom>
            <a:avLst/>
            <a:gdLst/>
            <a:ahLst/>
            <a:rect l="l" t="t" r="r" b="b"/>
            <a:pathLst>
              <a:path w="152" h="768">
                <a:moveTo>
                  <a:pt x="8" y="0"/>
                </a:moveTo>
                <a:cubicBezTo>
                  <a:pt x="80" y="44"/>
                  <a:pt x="152" y="88"/>
                  <a:pt x="152" y="144"/>
                </a:cubicBezTo>
                <a:cubicBezTo>
                  <a:pt x="152" y="200"/>
                  <a:pt x="16" y="264"/>
                  <a:pt x="8" y="336"/>
                </a:cubicBezTo>
                <a:cubicBezTo>
                  <a:pt x="0" y="408"/>
                  <a:pt x="104" y="504"/>
                  <a:pt x="104" y="576"/>
                </a:cubicBezTo>
                <a:cubicBezTo>
                  <a:pt x="104" y="648"/>
                  <a:pt x="56" y="708"/>
                  <a:pt x="8" y="768"/>
                </a:cubicBezTo>
              </a:path>
            </a:pathLst>
          </a:custGeom>
          <a:noFill/>
          <a:ln w="1015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4572000" y="1675440"/>
            <a:ext cx="2570760" cy="3125160"/>
            <a:chOff x="4572000" y="1675440"/>
            <a:chExt cx="2570760" cy="3125160"/>
          </a:xfrm>
        </p:grpSpPr>
        <p:sp>
          <p:nvSpPr>
            <p:cNvPr id="2077" name=""/>
            <p:cNvSpPr/>
            <p:nvPr/>
          </p:nvSpPr>
          <p:spPr>
            <a:xfrm>
              <a:off x="4572000" y="1752480"/>
              <a:ext cx="0" cy="3048120"/>
            </a:xfrm>
            <a:prstGeom prst="line">
              <a:avLst/>
            </a:prstGeom>
            <a:ln w="57240">
              <a:solidFill>
                <a:srgbClr val="00279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80960" y="167544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279f"/>
                  </a:solidFill>
                  <a:latin typeface="Arial"/>
                </a:rPr>
                <a:t>SV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4957200" y="31798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c0128"/>
                </a:solidFill>
                <a:latin typeface="Arial"/>
              </a:rPr>
              <a:t>SVC  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3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2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7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VC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rvice-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217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REATE-PROC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N-FILE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6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LOSE-FILE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-FILE                     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Extra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217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ormat, Location (register, stack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492120" y="3200400"/>
            <a:ext cx="2174760" cy="928800"/>
            <a:chOff x="492120" y="3200400"/>
            <a:chExt cx="2174760" cy="928800"/>
          </a:xfrm>
        </p:grpSpPr>
        <p:sp>
          <p:nvSpPr>
            <p:cNvPr id="2083" name=""/>
            <p:cNvSpPr/>
            <p:nvPr/>
          </p:nvSpPr>
          <p:spPr>
            <a:xfrm>
              <a:off x="2057400" y="3657600"/>
              <a:ext cx="431640" cy="406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938160" y="3722760"/>
              <a:ext cx="433440" cy="406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92120" y="3200400"/>
              <a:ext cx="2174760" cy="53352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00240" y="3276720"/>
              <a:ext cx="14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380880" y="4098960"/>
            <a:ext cx="2673360" cy="673560"/>
            <a:chOff x="380880" y="4098960"/>
            <a:chExt cx="2673360" cy="673560"/>
          </a:xfrm>
        </p:grpSpPr>
        <p:sp>
          <p:nvSpPr>
            <p:cNvPr id="2088" name=""/>
            <p:cNvSpPr/>
            <p:nvPr/>
          </p:nvSpPr>
          <p:spPr>
            <a:xfrm>
              <a:off x="533520" y="4098960"/>
              <a:ext cx="2361960" cy="6332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0880" y="4191120"/>
              <a:ext cx="267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3200" spc="-1" strike="noStrike">
                  <a:solidFill>
                    <a:srgbClr val="00279f"/>
                  </a:solidFill>
                  <a:latin typeface="Arial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0" name=""/>
          <p:cNvSpPr/>
          <p:nvPr/>
        </p:nvSpPr>
        <p:spPr>
          <a:xfrm rot="2191200">
            <a:off x="205704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rot="19362600">
            <a:off x="1219320" y="3886200"/>
            <a:ext cx="228600" cy="53352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7238880" y="1676520"/>
            <a:ext cx="1600200" cy="4266720"/>
            <a:chOff x="7238880" y="1676520"/>
            <a:chExt cx="1600200" cy="4266720"/>
          </a:xfrm>
        </p:grpSpPr>
        <p:sp>
          <p:nvSpPr>
            <p:cNvPr id="2093" name=""/>
            <p:cNvSpPr/>
            <p:nvPr/>
          </p:nvSpPr>
          <p:spPr>
            <a:xfrm>
              <a:off x="7238880" y="1676520"/>
              <a:ext cx="685800" cy="426672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11240 h 4266720"/>
                <a:gd name="textAreaBottom" fmla="*/ 4155480 h 426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924680" y="3345840"/>
              <a:ext cx="9144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600" spc="-1" strike="noStrike">
                  <a:solidFill>
                    <a:srgbClr val="00279f"/>
                  </a:solidFill>
                  <a:latin typeface="Times New Roman"/>
                </a:rPr>
                <a:t>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3057480" y="4272840"/>
            <a:ext cx="2492640" cy="520560"/>
          </a:xfrm>
          <a:prstGeom prst="borderCallout1">
            <a:avLst>
              <a:gd name="adj1" fmla="val 18750"/>
              <a:gd name="adj2" fmla="val -8333"/>
              <a:gd name="adj3" fmla="val -27916"/>
              <a:gd name="adj4" fmla="val -34685"/>
            </a:avLst>
          </a:pr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VC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8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1752480" y="3429000"/>
            <a:ext cx="5715000" cy="979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133720" y="4191120"/>
            <a:ext cx="4724280" cy="979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819520" y="4962600"/>
            <a:ext cx="3352680" cy="979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ystem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ften: rich set of System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ome: interface to SV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others: more comp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905120" y="3581280"/>
            <a:ext cx="53316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666880" y="3581280"/>
            <a:ext cx="53352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791320" y="3581280"/>
            <a:ext cx="53316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4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695160" cy="936720"/>
          </a:xfrm>
          <a:prstGeom prst="rect">
            <a:avLst/>
          </a:prstGeom>
          <a:ln w="0">
            <a:noFill/>
          </a:ln>
        </p:spPr>
      </p:pic>
      <p:pic>
        <p:nvPicPr>
          <p:cNvPr id="2105" name="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6955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1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OS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Layer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icro-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bject Orien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856400" y="1828800"/>
            <a:ext cx="1406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ayer 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ay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ayer 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9" name=""/>
          <p:cNvGrpSpPr/>
          <p:nvPr/>
        </p:nvGrpSpPr>
        <p:grpSpPr>
          <a:xfrm>
            <a:off x="4782960" y="2577960"/>
            <a:ext cx="3352680" cy="851040"/>
            <a:chOff x="4782960" y="2577960"/>
            <a:chExt cx="3352680" cy="851040"/>
          </a:xfrm>
        </p:grpSpPr>
        <p:sp>
          <p:nvSpPr>
            <p:cNvPr id="2110" name=""/>
            <p:cNvSpPr/>
            <p:nvPr/>
          </p:nvSpPr>
          <p:spPr>
            <a:xfrm>
              <a:off x="4782960" y="257796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782960" y="34290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 flipH="1">
            <a:off x="6916680" y="2060640"/>
            <a:ext cx="31680" cy="108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297560" y="268776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667640" y="2060640"/>
            <a:ext cx="11160" cy="108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678800" y="268776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084720" y="4458240"/>
            <a:ext cx="1943280" cy="8910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39640" y="4221000"/>
            <a:ext cx="2286000" cy="1911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icro-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PU s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em. M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omm.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276880" y="5573160"/>
            <a:ext cx="1942920" cy="49644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995640" y="4941720"/>
            <a:ext cx="432000" cy="4320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086440" y="4776840"/>
            <a:ext cx="761760" cy="7621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638520" y="4035960"/>
            <a:ext cx="1968480" cy="8910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Virtual Mem.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059280" y="5178960"/>
            <a:ext cx="1942920" cy="891000"/>
          </a:xfrm>
          <a:prstGeom prst="flowChartAlternateProcess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6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1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6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2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1752480" y="4757760"/>
            <a:ext cx="1295640" cy="1111320"/>
          </a:xfrm>
          <a:prstGeom prst="rect">
            <a:avLst/>
          </a:prstGeom>
          <a:ln w="0">
            <a:noFill/>
          </a:ln>
        </p:spPr>
      </p:pic>
      <p:sp>
        <p:nvSpPr>
          <p:cNvPr id="2125" name=""/>
          <p:cNvSpPr/>
          <p:nvPr/>
        </p:nvSpPr>
        <p:spPr>
          <a:xfrm>
            <a:off x="2895480" y="1447920"/>
            <a:ext cx="5029200" cy="3352680"/>
          </a:xfrm>
          <a:prstGeom prst="cloudCallout">
            <a:avLst>
              <a:gd name="adj1" fmla="val -57037"/>
              <a:gd name="adj2" fmla="val 55967"/>
            </a:avLst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1295640" cy="1111320"/>
          </a:xfrm>
          <a:prstGeom prst="rect">
            <a:avLst/>
          </a:prstGeom>
          <a:ln w="0">
            <a:noFill/>
          </a:ln>
        </p:spPr>
      </p:pic>
      <p:pic>
        <p:nvPicPr>
          <p:cNvPr id="2127" name="" descr=""/>
          <p:cNvPicPr/>
          <p:nvPr/>
        </p:nvPicPr>
        <p:blipFill>
          <a:blip r:embed="rId3"/>
          <a:stretch/>
        </p:blipFill>
        <p:spPr>
          <a:xfrm>
            <a:off x="5753160" y="182880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28" name="" descr=""/>
          <p:cNvPicPr/>
          <p:nvPr/>
        </p:nvPicPr>
        <p:blipFill>
          <a:blip r:embed="rId4"/>
          <a:stretch/>
        </p:blipFill>
        <p:spPr>
          <a:xfrm>
            <a:off x="4876920" y="205740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29" name="" descr=""/>
          <p:cNvPicPr/>
          <p:nvPr/>
        </p:nvPicPr>
        <p:blipFill>
          <a:blip r:embed="rId5"/>
          <a:stretch/>
        </p:blipFill>
        <p:spPr>
          <a:xfrm>
            <a:off x="6019920" y="251460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30" name="" descr=""/>
          <p:cNvPicPr/>
          <p:nvPr/>
        </p:nvPicPr>
        <p:blipFill>
          <a:blip r:embed="rId6"/>
          <a:stretch/>
        </p:blipFill>
        <p:spPr>
          <a:xfrm>
            <a:off x="4876920" y="289548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31" name="" descr=""/>
          <p:cNvPicPr/>
          <p:nvPr/>
        </p:nvPicPr>
        <p:blipFill>
          <a:blip r:embed="rId7"/>
          <a:stretch/>
        </p:blipFill>
        <p:spPr>
          <a:xfrm>
            <a:off x="3809880" y="2971800"/>
            <a:ext cx="129564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7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1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9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3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7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533520" y="3000240"/>
            <a:ext cx="1828800" cy="3020760"/>
            <a:chOff x="533520" y="3000240"/>
            <a:chExt cx="1828800" cy="3020760"/>
          </a:xfrm>
        </p:grpSpPr>
        <p:sp>
          <p:nvSpPr>
            <p:cNvPr id="2134" name=""/>
            <p:cNvSpPr/>
            <p:nvPr/>
          </p:nvSpPr>
          <p:spPr>
            <a:xfrm>
              <a:off x="648360" y="5561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46200" y="4959360"/>
              <a:ext cx="1552320" cy="60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46200" y="3976560"/>
              <a:ext cx="155232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46200" y="3000240"/>
              <a:ext cx="1552320" cy="9684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33520" y="556236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429000" y="4952880"/>
            <a:ext cx="4876920" cy="1144440"/>
            <a:chOff x="3429000" y="4952880"/>
            <a:chExt cx="4876920" cy="1144440"/>
          </a:xfrm>
        </p:grpSpPr>
        <p:sp>
          <p:nvSpPr>
            <p:cNvPr id="2140" name=""/>
            <p:cNvSpPr/>
            <p:nvPr/>
          </p:nvSpPr>
          <p:spPr>
            <a:xfrm>
              <a:off x="4991760" y="56376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429000" y="4952880"/>
              <a:ext cx="4876920" cy="6033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rtual Machine Mon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429000" y="5562360"/>
              <a:ext cx="480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3" name=""/>
          <p:cNvGrpSpPr/>
          <p:nvPr/>
        </p:nvGrpSpPr>
        <p:grpSpPr>
          <a:xfrm>
            <a:off x="6643800" y="2057400"/>
            <a:ext cx="1600200" cy="2895480"/>
            <a:chOff x="6643800" y="2057400"/>
            <a:chExt cx="1600200" cy="2895480"/>
          </a:xfrm>
        </p:grpSpPr>
        <p:sp>
          <p:nvSpPr>
            <p:cNvPr id="2144" name=""/>
            <p:cNvSpPr/>
            <p:nvPr/>
          </p:nvSpPr>
          <p:spPr>
            <a:xfrm>
              <a:off x="6665760" y="4343400"/>
              <a:ext cx="1552680" cy="60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Kernel</a:t>
              </a:r>
              <a:r>
                <a:rPr b="1" lang="en-US" sz="2400" spc="-1" strike="noStrike" baseline="-25000">
                  <a:solidFill>
                    <a:srgbClr val="367622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665760" y="3381120"/>
              <a:ext cx="155268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665760" y="2412720"/>
              <a:ext cx="1552680" cy="9684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43800" y="2057400"/>
              <a:ext cx="1600200" cy="2895480"/>
            </a:xfrm>
            <a:prstGeom prst="rect">
              <a:avLst/>
            </a:prstGeom>
            <a:noFill/>
            <a:ln w="5724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5029200" y="2057400"/>
            <a:ext cx="1600200" cy="2895480"/>
            <a:chOff x="5029200" y="2057400"/>
            <a:chExt cx="1600200" cy="2895480"/>
          </a:xfrm>
        </p:grpSpPr>
        <p:sp>
          <p:nvSpPr>
            <p:cNvPr id="2149" name=""/>
            <p:cNvSpPr/>
            <p:nvPr/>
          </p:nvSpPr>
          <p:spPr>
            <a:xfrm>
              <a:off x="5051520" y="4343400"/>
              <a:ext cx="1552320" cy="603000"/>
            </a:xfrm>
            <a:prstGeom prst="rect">
              <a:avLst/>
            </a:prstGeom>
            <a:solidFill>
              <a:srgbClr val="5f605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051520" y="3517920"/>
              <a:ext cx="1552320" cy="822240"/>
            </a:xfrm>
            <a:prstGeom prst="rect">
              <a:avLst/>
            </a:prstGeom>
            <a:solidFill>
              <a:srgbClr val="69e4f5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051520" y="2541600"/>
              <a:ext cx="1552320" cy="96840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029200" y="2057400"/>
              <a:ext cx="1600200" cy="2895480"/>
            </a:xfrm>
            <a:prstGeom prst="rect">
              <a:avLst/>
            </a:prstGeom>
            <a:noFill/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3429000" y="2057400"/>
            <a:ext cx="1600200" cy="2895480"/>
            <a:chOff x="3429000" y="2057400"/>
            <a:chExt cx="1600200" cy="2895480"/>
          </a:xfrm>
        </p:grpSpPr>
        <p:sp>
          <p:nvSpPr>
            <p:cNvPr id="2154" name=""/>
            <p:cNvSpPr/>
            <p:nvPr/>
          </p:nvSpPr>
          <p:spPr>
            <a:xfrm>
              <a:off x="3451320" y="4441680"/>
              <a:ext cx="1552320" cy="511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451320" y="3504960"/>
              <a:ext cx="1552320" cy="9684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451320" y="2892240"/>
              <a:ext cx="1552320" cy="6127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429000" y="2057400"/>
              <a:ext cx="1600200" cy="2895480"/>
            </a:xfrm>
            <a:prstGeom prst="rect">
              <a:avLst/>
            </a:prstGeom>
            <a:noFill/>
            <a:ln w="57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8" name=""/>
          <p:cNvGrpSpPr/>
          <p:nvPr/>
        </p:nvGrpSpPr>
        <p:grpSpPr>
          <a:xfrm>
            <a:off x="2286000" y="4267080"/>
            <a:ext cx="2743200" cy="685800"/>
            <a:chOff x="2286000" y="4267080"/>
            <a:chExt cx="2743200" cy="685800"/>
          </a:xfrm>
        </p:grpSpPr>
        <p:sp>
          <p:nvSpPr>
            <p:cNvPr id="2159" name=""/>
            <p:cNvSpPr/>
            <p:nvPr/>
          </p:nvSpPr>
          <p:spPr>
            <a:xfrm>
              <a:off x="2286000" y="4267080"/>
              <a:ext cx="9144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9475" y="38880"/>
                  </a:moveTo>
                  <a:lnTo>
                    <a:pt x="23400" y="6480"/>
                  </a:lnTo>
                </a:path>
                <a:path w="21600" h="21600">
                  <a:moveTo>
                    <a:pt x="23400" y="0"/>
                  </a:moveTo>
                  <a:lnTo>
                    <a:pt x="23400" y="21600"/>
                  </a:ln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429000" y="4952880"/>
              <a:ext cx="16002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4191120" y="4114800"/>
            <a:ext cx="2438280" cy="838080"/>
            <a:chOff x="4191120" y="4114800"/>
            <a:chExt cx="2438280" cy="838080"/>
          </a:xfrm>
        </p:grpSpPr>
        <p:sp>
          <p:nvSpPr>
            <p:cNvPr id="2162" name=""/>
            <p:cNvSpPr/>
            <p:nvPr/>
          </p:nvSpPr>
          <p:spPr>
            <a:xfrm>
              <a:off x="5029200" y="4952880"/>
              <a:ext cx="1600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191120" y="411480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6263" y="27956"/>
                  </a:moveTo>
                  <a:lnTo>
                    <a:pt x="23400" y="4000"/>
                  </a:lnTo>
                </a:path>
                <a:path w="21600" h="21600">
                  <a:moveTo>
                    <a:pt x="23400" y="0"/>
                  </a:moveTo>
                  <a:lnTo>
                    <a:pt x="23400" y="21600"/>
                  </a:lnTo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4" name=""/>
          <p:cNvGrpSpPr/>
          <p:nvPr/>
        </p:nvGrpSpPr>
        <p:grpSpPr>
          <a:xfrm>
            <a:off x="6629400" y="3962520"/>
            <a:ext cx="2362320" cy="990360"/>
            <a:chOff x="6629400" y="3962520"/>
            <a:chExt cx="2362320" cy="990360"/>
          </a:xfrm>
        </p:grpSpPr>
        <p:sp>
          <p:nvSpPr>
            <p:cNvPr id="2165" name=""/>
            <p:cNvSpPr/>
            <p:nvPr/>
          </p:nvSpPr>
          <p:spPr>
            <a:xfrm>
              <a:off x="8077320" y="396252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9263" y="35213"/>
                  </a:moveTo>
                  <a:lnTo>
                    <a:pt x="-1800" y="400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3816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629400" y="4952880"/>
              <a:ext cx="1600200" cy="0"/>
            </a:xfrm>
            <a:prstGeom prst="line">
              <a:avLst/>
            </a:prstGeom>
            <a:ln w="3816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7" name=""/>
          <p:cNvSpPr/>
          <p:nvPr/>
        </p:nvSpPr>
        <p:spPr>
          <a:xfrm>
            <a:off x="2133720" y="20574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050" y="20250"/>
                </a:moveTo>
                <a:lnTo>
                  <a:pt x="23400" y="400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VM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943600" y="15238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00" y="189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M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772400" y="16002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50" y="1687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19080">
            <a:solidFill>
              <a:srgbClr val="367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22"/>
                </a:solidFill>
                <a:latin typeface="Arial"/>
              </a:rPr>
              <a:t>VM</a:t>
            </a:r>
            <a:r>
              <a:rPr b="1" lang="en-US" sz="2400" spc="-1" strike="noStrike" baseline="-25000">
                <a:solidFill>
                  <a:srgbClr val="36762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3200400" y="1143000"/>
            <a:ext cx="25146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ernels unmodified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9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3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7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2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ourse B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04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rating Systems met Java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. Silberschatz, P. Galvin, G. Gagne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004, Academic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90-395-2252-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fst: 1-14, 18-19, (20-21), 22, (ap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1338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Scenari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914400" y="3610080"/>
            <a:ext cx="1552320" cy="2044440"/>
            <a:chOff x="914400" y="3610080"/>
            <a:chExt cx="1552320" cy="2044440"/>
          </a:xfrm>
        </p:grpSpPr>
        <p:sp>
          <p:nvSpPr>
            <p:cNvPr id="2173" name=""/>
            <p:cNvSpPr/>
            <p:nvPr/>
          </p:nvSpPr>
          <p:spPr>
            <a:xfrm>
              <a:off x="916560" y="51948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914400" y="4592880"/>
              <a:ext cx="1552320" cy="60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914400" y="3610080"/>
              <a:ext cx="155232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SVC 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3124080" y="1676520"/>
            <a:ext cx="4876920" cy="4039920"/>
            <a:chOff x="3124080" y="1676520"/>
            <a:chExt cx="4876920" cy="4039920"/>
          </a:xfrm>
        </p:grpSpPr>
        <p:grpSp>
          <p:nvGrpSpPr>
            <p:cNvPr id="2177" name=""/>
            <p:cNvGrpSpPr/>
            <p:nvPr/>
          </p:nvGrpSpPr>
          <p:grpSpPr>
            <a:xfrm>
              <a:off x="3124080" y="1676520"/>
              <a:ext cx="4876920" cy="4039920"/>
              <a:chOff x="3124080" y="1676520"/>
              <a:chExt cx="4876920" cy="4039920"/>
            </a:xfrm>
          </p:grpSpPr>
          <p:sp>
            <p:nvSpPr>
              <p:cNvPr id="2178" name=""/>
              <p:cNvSpPr/>
              <p:nvPr/>
            </p:nvSpPr>
            <p:spPr>
              <a:xfrm>
                <a:off x="4686840" y="5256720"/>
                <a:ext cx="153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ardwa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124080" y="4572000"/>
                <a:ext cx="4876920" cy="60336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irtual Machine Moni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124080" y="5181480"/>
                <a:ext cx="4800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6360840" y="3962520"/>
                <a:ext cx="1552680" cy="6030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Kern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360840" y="3000240"/>
                <a:ext cx="1552680" cy="9684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c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SVC re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338880" y="1676520"/>
                <a:ext cx="1600200" cy="28954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324480" y="4572000"/>
                <a:ext cx="1600200" cy="0"/>
              </a:xfrm>
              <a:prstGeom prst="line">
                <a:avLst/>
              </a:prstGeom>
              <a:ln w="38160">
                <a:solidFill>
                  <a:srgbClr val="3676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>
              <a:off x="4952880" y="388620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9825" y="25425"/>
                  </a:moveTo>
                  <a:lnTo>
                    <a:pt x="23400" y="4000"/>
                  </a:lnTo>
                </a:path>
                <a:path w="21600" h="21600">
                  <a:moveTo>
                    <a:pt x="23400" y="0"/>
                  </a:moveTo>
                  <a:lnTo>
                    <a:pt x="23400" y="21600"/>
                  </a:lnTo>
                </a:path>
              </a:pathLst>
            </a:custGeom>
            <a:noFill/>
            <a:ln w="3816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6" name=""/>
          <p:cNvSpPr/>
          <p:nvPr/>
        </p:nvSpPr>
        <p:spPr>
          <a:xfrm>
            <a:off x="1220760" y="16765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upervisor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220040" y="21337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oblem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267080" y="2057400"/>
            <a:ext cx="152640" cy="60948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2666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838080" y="2819520"/>
            <a:ext cx="914400" cy="1620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u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010280" y="4267080"/>
            <a:ext cx="228600" cy="60984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752480" y="2666880"/>
            <a:ext cx="2057400" cy="30492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1751760" y="3886200"/>
            <a:ext cx="5257800" cy="3938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1752480" y="4572000"/>
            <a:ext cx="5257800" cy="3938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7238880" y="4572000"/>
            <a:ext cx="894240" cy="533520"/>
            <a:chOff x="7238880" y="4572000"/>
            <a:chExt cx="894240" cy="533520"/>
          </a:xfrm>
        </p:grpSpPr>
        <p:sp>
          <p:nvSpPr>
            <p:cNvPr id="2198" name=""/>
            <p:cNvSpPr/>
            <p:nvPr/>
          </p:nvSpPr>
          <p:spPr>
            <a:xfrm>
              <a:off x="7238880" y="480060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543800" y="457200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838080" y="4876920"/>
            <a:ext cx="914400" cy="7855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1752480" y="5410080"/>
            <a:ext cx="2438640" cy="1652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191120" y="5562720"/>
            <a:ext cx="228600" cy="53316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2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5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"/>
                            </p:stCondLst>
                            <p:childTnLst>
                              <p:par>
                                <p:cTn id="15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4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5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4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8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105520" y="1981080"/>
            <a:ext cx="152280" cy="60984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64832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2819520"/>
            <a:ext cx="190512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438280" y="2514600"/>
            <a:ext cx="2286000" cy="38088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447920" y="4495680"/>
            <a:ext cx="1295280" cy="24156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762120" y="4800600"/>
            <a:ext cx="914400" cy="12027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u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295280" y="5715000"/>
            <a:ext cx="1447920" cy="15228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743200" y="3990960"/>
            <a:ext cx="914400" cy="785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ou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219320" y="37339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232" y="8"/>
                  <a:pt x="464" y="16"/>
                  <a:pt x="624" y="48"/>
                </a:cubicBezTo>
                <a:cubicBezTo>
                  <a:pt x="784" y="80"/>
                  <a:pt x="872" y="136"/>
                  <a:pt x="960" y="19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1676520" y="4114800"/>
            <a:ext cx="1020600" cy="460440"/>
            <a:chOff x="1676520" y="4114800"/>
            <a:chExt cx="1020600" cy="460440"/>
          </a:xfrm>
        </p:grpSpPr>
        <p:sp>
          <p:nvSpPr>
            <p:cNvPr id="2215" name=""/>
            <p:cNvSpPr/>
            <p:nvPr/>
          </p:nvSpPr>
          <p:spPr>
            <a:xfrm>
              <a:off x="1676520" y="427032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982880" y="4114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4427640" y="2997360"/>
            <a:ext cx="3024000" cy="2017440"/>
            <a:chOff x="4427640" y="2997360"/>
            <a:chExt cx="3024000" cy="2017440"/>
          </a:xfrm>
        </p:grpSpPr>
        <p:sp>
          <p:nvSpPr>
            <p:cNvPr id="2218" name=""/>
            <p:cNvSpPr/>
            <p:nvPr/>
          </p:nvSpPr>
          <p:spPr>
            <a:xfrm>
              <a:off x="4427640" y="2997360"/>
              <a:ext cx="3024000" cy="2017440"/>
            </a:xfrm>
            <a:prstGeom prst="wedgeRectCallout">
              <a:avLst>
                <a:gd name="adj1" fmla="val -152361"/>
                <a:gd name="adj2" fmla="val -15222"/>
              </a:avLst>
            </a:prstGeom>
            <a:solidFill>
              <a:srgbClr val="cecece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076720" y="3200040"/>
              <a:ext cx="1871640" cy="1572120"/>
            </a:xfrm>
            <a:prstGeom prst="rect">
              <a:avLst/>
            </a:prstGeom>
            <a:solidFill>
              <a:srgbClr val="fafd00"/>
            </a:solidFill>
            <a:ln w="7632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M (V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155920" y="3289680"/>
              <a:ext cx="468720" cy="4597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5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0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0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9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4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9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8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5800" y="3657600"/>
            <a:ext cx="190512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934320" y="4724280"/>
            <a:ext cx="228600" cy="76212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905120" y="5181480"/>
            <a:ext cx="5105160" cy="3812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7162920" y="5105520"/>
            <a:ext cx="893520" cy="532800"/>
            <a:chOff x="7162920" y="5105520"/>
            <a:chExt cx="893520" cy="532800"/>
          </a:xfrm>
        </p:grpSpPr>
        <p:sp>
          <p:nvSpPr>
            <p:cNvPr id="2227" name=""/>
            <p:cNvSpPr/>
            <p:nvPr/>
          </p:nvSpPr>
          <p:spPr>
            <a:xfrm>
              <a:off x="7162920" y="5333760"/>
              <a:ext cx="533160" cy="30456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467120" y="51055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9" name=""/>
          <p:cNvSpPr/>
          <p:nvPr/>
        </p:nvSpPr>
        <p:spPr>
          <a:xfrm flipH="1">
            <a:off x="1523880" y="2209680"/>
            <a:ext cx="1447920" cy="1526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895480" y="2438280"/>
            <a:ext cx="914400" cy="785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ire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600200" y="4572000"/>
            <a:ext cx="5410080" cy="15228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232" y="8"/>
                  <a:pt x="464" y="16"/>
                  <a:pt x="624" y="48"/>
                </a:cubicBezTo>
                <a:cubicBezTo>
                  <a:pt x="784" y="80"/>
                  <a:pt x="872" y="136"/>
                  <a:pt x="960" y="19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600200" y="31240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816" y="0"/>
                </a:moveTo>
                <a:cubicBezTo>
                  <a:pt x="644" y="0"/>
                  <a:pt x="472" y="0"/>
                  <a:pt x="336" y="48"/>
                </a:cubicBezTo>
                <a:cubicBezTo>
                  <a:pt x="200" y="96"/>
                  <a:pt x="100" y="192"/>
                  <a:pt x="0" y="28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1752480" y="2666880"/>
            <a:ext cx="1020600" cy="460440"/>
            <a:chOff x="1752480" y="2666880"/>
            <a:chExt cx="1020600" cy="460440"/>
          </a:xfrm>
        </p:grpSpPr>
        <p:sp>
          <p:nvSpPr>
            <p:cNvPr id="2234" name=""/>
            <p:cNvSpPr/>
            <p:nvPr/>
          </p:nvSpPr>
          <p:spPr>
            <a:xfrm>
              <a:off x="1752480" y="282240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58840" y="26668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fill="hold">
                      <p:stCondLst>
                        <p:cond delay="0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6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5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9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0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762120" y="2438280"/>
            <a:ext cx="190476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257800" y="5334120"/>
            <a:ext cx="228600" cy="60948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600200" y="4038480"/>
            <a:ext cx="1295280" cy="22860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1371600" y="3276720"/>
            <a:ext cx="1447920" cy="15228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819520" y="3429000"/>
            <a:ext cx="914400" cy="785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ire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600200" y="5257800"/>
            <a:ext cx="3657600" cy="763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232" y="8"/>
                  <a:pt x="464" y="16"/>
                  <a:pt x="624" y="48"/>
                </a:cubicBezTo>
                <a:cubicBezTo>
                  <a:pt x="784" y="80"/>
                  <a:pt x="872" y="136"/>
                  <a:pt x="960" y="19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838080" y="4343400"/>
            <a:ext cx="190512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209680" y="1981080"/>
            <a:ext cx="5105520" cy="3812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1752480" y="3581280"/>
            <a:ext cx="1020600" cy="460440"/>
            <a:chOff x="1752480" y="3581280"/>
            <a:chExt cx="1020600" cy="460440"/>
          </a:xfrm>
        </p:grpSpPr>
        <p:sp>
          <p:nvSpPr>
            <p:cNvPr id="2247" name=""/>
            <p:cNvSpPr/>
            <p:nvPr/>
          </p:nvSpPr>
          <p:spPr>
            <a:xfrm>
              <a:off x="1752480" y="373680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058840" y="35812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7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2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6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5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9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M on top of guest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2743200" y="4876920"/>
            <a:ext cx="3254400" cy="60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4335480" y="2133720"/>
            <a:ext cx="1600200" cy="2743200"/>
            <a:chOff x="4335480" y="2133720"/>
            <a:chExt cx="1600200" cy="2743200"/>
          </a:xfrm>
        </p:grpSpPr>
        <p:sp>
          <p:nvSpPr>
            <p:cNvPr id="2252" name=""/>
            <p:cNvSpPr/>
            <p:nvPr/>
          </p:nvSpPr>
          <p:spPr>
            <a:xfrm>
              <a:off x="4357800" y="4267080"/>
              <a:ext cx="1552320" cy="6033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357800" y="3305160"/>
              <a:ext cx="155232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35480" y="2133720"/>
              <a:ext cx="1600200" cy="2743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5" name=""/>
          <p:cNvSpPr/>
          <p:nvPr/>
        </p:nvSpPr>
        <p:spPr>
          <a:xfrm>
            <a:off x="2743200" y="2389320"/>
            <a:ext cx="1552680" cy="9684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743200" y="3913200"/>
            <a:ext cx="1552680" cy="96840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743200" y="3303720"/>
            <a:ext cx="15526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029200" y="4979880"/>
            <a:ext cx="83808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4321080" y="4267080"/>
            <a:ext cx="2841840" cy="609840"/>
            <a:chOff x="4321080" y="4267080"/>
            <a:chExt cx="2841840" cy="609840"/>
          </a:xfrm>
        </p:grpSpPr>
        <p:sp>
          <p:nvSpPr>
            <p:cNvPr id="2260" name=""/>
            <p:cNvSpPr/>
            <p:nvPr/>
          </p:nvSpPr>
          <p:spPr>
            <a:xfrm>
              <a:off x="4321080" y="4876920"/>
              <a:ext cx="1600200" cy="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248520" y="4267080"/>
              <a:ext cx="9144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3388" y="33840"/>
                  </a:moveTo>
                  <a:lnTo>
                    <a:pt x="-1800" y="648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6553080" y="2057400"/>
            <a:ext cx="144792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55" y="21273"/>
                </a:moveTo>
                <a:lnTo>
                  <a:pt x="-1137" y="2945"/>
                </a:lnTo>
              </a:path>
              <a:path w="21600" h="21600">
                <a:moveTo>
                  <a:pt x="-1137" y="0"/>
                </a:moveTo>
                <a:lnTo>
                  <a:pt x="-1137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752560" y="1628640"/>
            <a:ext cx="1552680" cy="7527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 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1692360" y="2133720"/>
            <a:ext cx="1511280" cy="309564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0" y="0"/>
                </a:moveTo>
                <a:cubicBezTo>
                  <a:pt x="181" y="321"/>
                  <a:pt x="363" y="642"/>
                  <a:pt x="363" y="816"/>
                </a:cubicBezTo>
                <a:cubicBezTo>
                  <a:pt x="363" y="990"/>
                  <a:pt x="181" y="1016"/>
                  <a:pt x="0" y="1043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580000" y="4437000"/>
            <a:ext cx="576360" cy="71928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0" y="0"/>
                </a:moveTo>
                <a:cubicBezTo>
                  <a:pt x="181" y="321"/>
                  <a:pt x="363" y="642"/>
                  <a:pt x="363" y="816"/>
                </a:cubicBezTo>
                <a:cubicBezTo>
                  <a:pt x="363" y="990"/>
                  <a:pt x="181" y="1016"/>
                  <a:pt x="0" y="1043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V="1" rot="20037000">
            <a:off x="4390560" y="1330920"/>
            <a:ext cx="1513080" cy="360036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0" y="0"/>
                </a:moveTo>
                <a:cubicBezTo>
                  <a:pt x="181" y="321"/>
                  <a:pt x="363" y="642"/>
                  <a:pt x="363" y="816"/>
                </a:cubicBezTo>
                <a:cubicBezTo>
                  <a:pt x="363" y="990"/>
                  <a:pt x="181" y="1016"/>
                  <a:pt x="0" y="1043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6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1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5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9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9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9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500"/>
                            </p:stCondLst>
                            <p:childTnLst>
                              <p:par>
                                <p:cTn id="17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3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2819520" y="2590920"/>
            <a:ext cx="3276360" cy="249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loa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215160" y="5486400"/>
            <a:ext cx="259632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445840" y="1523880"/>
            <a:ext cx="152028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750400" y="1676520"/>
            <a:ext cx="152028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83920" y="1828800"/>
            <a:ext cx="152028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809880" y="2286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419720" y="5029200"/>
            <a:ext cx="0" cy="457200"/>
          </a:xfrm>
          <a:prstGeom prst="line">
            <a:avLst/>
          </a:prstGeom>
          <a:ln w="2844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500"/>
                            </p:stCondLst>
                            <p:childTnLst>
                              <p:par>
                                <p:cTn id="1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7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 – 3 + 2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ine: Zie Toled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9" dur="500"/>
                                        <p:tgtEl>
                                          <p:spTgt spid="2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4" dur="500"/>
                                        <p:tgtEl>
                                          <p:spTgt spid="2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particular 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ble to variety of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id understanding 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 &amp; allocation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trade-o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(HW, programs, us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 of this Course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rogramm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application or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access to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inconsistency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synchro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ng for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lock situ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400" y="294840"/>
            <a:ext cx="1656000" cy="1296360"/>
            <a:chOff x="23400" y="294840"/>
            <a:chExt cx="1656000" cy="1296360"/>
          </a:xfrm>
        </p:grpSpPr>
        <p:sp>
          <p:nvSpPr>
            <p:cNvPr id="104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00" y="29484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429000"/>
            <a:ext cx="1828800" cy="68904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800600"/>
            <a:ext cx="1828800" cy="689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v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82760"/>
            <a:ext cx="1828800" cy="689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286000"/>
            <a:ext cx="1828800" cy="689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+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4800600"/>
            <a:ext cx="1828800" cy="689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3"/>
            <a:endCxn id="107" idx="1"/>
          </p:cNvCxnSpPr>
          <p:nvPr/>
        </p:nvCxnSpPr>
        <p:spPr>
          <a:xfrm>
            <a:off x="2666880" y="2627280"/>
            <a:ext cx="991440" cy="1146960"/>
          </a:xfrm>
          <a:prstGeom prst="bentConnector3">
            <a:avLst>
              <a:gd name="adj1" fmla="val 49981"/>
            </a:avLst>
          </a:prstGeom>
          <a:ln w="0">
            <a:noFill/>
          </a:ln>
        </p:spPr>
      </p:cxnSp>
      <p:cxnSp>
        <p:nvCxnSpPr>
          <p:cNvPr id="113" name=""/>
          <p:cNvCxnSpPr>
            <a:stCxn id="109" idx="3"/>
            <a:endCxn id="107" idx="1"/>
          </p:cNvCxnSpPr>
          <p:nvPr/>
        </p:nvCxnSpPr>
        <p:spPr>
          <a:xfrm>
            <a:off x="2666880" y="2627280"/>
            <a:ext cx="991440" cy="1146960"/>
          </a:xfrm>
          <a:prstGeom prst="bentConnector3">
            <a:avLst>
              <a:gd name="adj1" fmla="val 49981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"/>
          <p:cNvCxnSpPr>
            <a:stCxn id="108" idx="3"/>
            <a:endCxn id="107" idx="1"/>
          </p:cNvCxnSpPr>
          <p:nvPr/>
        </p:nvCxnSpPr>
        <p:spPr>
          <a:xfrm flipV="1">
            <a:off x="2666880" y="3773160"/>
            <a:ext cx="991440" cy="1372320"/>
          </a:xfrm>
          <a:prstGeom prst="bentConnector3">
            <a:avLst>
              <a:gd name="adj1" fmla="val 49981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"/>
          <p:cNvCxnSpPr>
            <a:stCxn id="107" idx="3"/>
            <a:endCxn id="111" idx="1"/>
          </p:cNvCxnSpPr>
          <p:nvPr/>
        </p:nvCxnSpPr>
        <p:spPr>
          <a:xfrm>
            <a:off x="5486040" y="3773520"/>
            <a:ext cx="1143720" cy="137232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"/>
          <p:cNvCxnSpPr>
            <a:stCxn id="107" idx="3"/>
            <a:endCxn id="110" idx="1"/>
          </p:cNvCxnSpPr>
          <p:nvPr/>
        </p:nvCxnSpPr>
        <p:spPr>
          <a:xfrm flipV="1">
            <a:off x="5486040" y="2629800"/>
            <a:ext cx="1143720" cy="114372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 6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60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tro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H23 Historical Persp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 H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3 OS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4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5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6 CPU S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7 Process Synch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8 Dead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9 Memory M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0 Virtual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1 File Sys.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2 File Sys. Impl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/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3 I/O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4 Mass-Stg Stru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&amp;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8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9 Security +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Extra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Case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0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1 Windows 2000/X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 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60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tro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H23 Influential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 OS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3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4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5 CPU S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6 Process Synch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7 Dead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8 Memory M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9 Virtual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0 File Sys.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1 File Sys. Impl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2 Mass-Stg Stru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3 I/O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&amp;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4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5 Security +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Extra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Case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1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2 Windows 2000/X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16T15:23:15Z</cp:lastPrinted>
  <dcterms:modified xsi:type="dcterms:W3CDTF">2005-10-03T08:25:45Z</dcterms:modified>
  <cp:revision>250</cp:revision>
  <dc:subject>Lecture 1</dc:subject>
  <dc:title>IT - Module B1</dc:title>
</cp:coreProperties>
</file>