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2.wmf" ContentType="image/x-wmf"/>
  <Override PartName="/ppt/media/image4.png" ContentType="image/png"/>
  <Override PartName="/ppt/media/image5.png" ContentType="image/png"/>
  <Override PartName="/ppt/media/image13.wmf" ContentType="image/x-wmf"/>
  <Override PartName="/ppt/media/image15.wmf" ContentType="image/x-wmf"/>
  <Override PartName="/ppt/media/image32.png" ContentType="image/png"/>
  <Override PartName="/ppt/media/image2.png" ContentType="image/png"/>
  <Override PartName="/ppt/media/image10.wmf" ContentType="image/x-wmf"/>
  <Override PartName="/ppt/media/image30.wmf" ContentType="image/x-wmf"/>
  <Override PartName="/ppt/media/image34.wmf" ContentType="image/x-wmf"/>
  <Override PartName="/ppt/media/image9.wmf" ContentType="image/x-wmf"/>
  <Override PartName="/ppt/media/image35.wmf" ContentType="image/x-wmf"/>
  <Override PartName="/ppt/media/image8.wmf" ContentType="image/x-wmf"/>
  <Override PartName="/ppt/media/image38.png" ContentType="image/png"/>
  <Override PartName="/ppt/media/image39.png" ContentType="image/png"/>
  <Override PartName="/ppt/media/image1.wmf" ContentType="image/x-wmf"/>
  <Override PartName="/ppt/media/image24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</p:sldIdLst>
  <p:sldSz cx="9144000" cy="6858000"/>
  <p:notesSz cx="9666288" cy="6653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142623B4-87DB-4550-9C56-EDADCFE265B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3400" y="295200"/>
            <a:ext cx="1656000" cy="1296360"/>
            <a:chOff x="23400" y="295200"/>
            <a:chExt cx="1656000" cy="1296360"/>
          </a:xfrm>
        </p:grpSpPr>
        <p:sp>
          <p:nvSpPr>
            <p:cNvPr id="5" name=""/>
            <p:cNvSpPr/>
            <p:nvPr/>
          </p:nvSpPr>
          <p:spPr>
            <a:xfrm>
              <a:off x="310680" y="504720"/>
              <a:ext cx="1066680" cy="91440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3400" y="295200"/>
              <a:ext cx="1656000" cy="1296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A594517D-209C-47FA-80E7-9406D41FE94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04240" y="131760"/>
            <a:ext cx="2537640" cy="2028600"/>
            <a:chOff x="804240" y="131760"/>
            <a:chExt cx="2537640" cy="2028600"/>
          </a:xfrm>
        </p:grpSpPr>
        <p:sp>
          <p:nvSpPr>
            <p:cNvPr id="47" name=""/>
            <p:cNvSpPr/>
            <p:nvPr/>
          </p:nvSpPr>
          <p:spPr>
            <a:xfrm>
              <a:off x="1255680" y="376920"/>
              <a:ext cx="1605600" cy="159876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4240" y="131760"/>
              <a:ext cx="2537640" cy="20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image" Target="../media/image26.wmf"/><Relationship Id="rId6" Type="http://schemas.openxmlformats.org/officeDocument/2006/relationships/image" Target="../media/image26.wmf"/><Relationship Id="rId7" Type="http://schemas.openxmlformats.org/officeDocument/2006/relationships/image" Target="../media/image26.wmf"/><Relationship Id="rId8" Type="http://schemas.openxmlformats.org/officeDocument/2006/relationships/image" Target="../media/image26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Tahoma"/>
              </a:rPr>
              <a:t>Protection &amp; Securi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1. 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2.  Secu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3.  Cryptograp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Example: Un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omain =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ll processes inherit user’s privile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182600" y="3594240"/>
            <a:ext cx="878040" cy="761760"/>
            <a:chOff x="1182600" y="3594240"/>
            <a:chExt cx="878040" cy="761760"/>
          </a:xfrm>
        </p:grpSpPr>
        <p:sp>
          <p:nvSpPr>
            <p:cNvPr id="162" name=""/>
            <p:cNvSpPr/>
            <p:nvPr/>
          </p:nvSpPr>
          <p:spPr>
            <a:xfrm>
              <a:off x="1182600" y="3594240"/>
              <a:ext cx="878040" cy="76176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82600" y="3679920"/>
              <a:ext cx="878040" cy="67572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07800" y="3837240"/>
              <a:ext cx="8100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09480" y="4724280"/>
            <a:ext cx="1179720" cy="91440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ss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18960" y="4280040"/>
            <a:ext cx="268200" cy="4442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400800" y="3594240"/>
            <a:ext cx="878040" cy="761760"/>
            <a:chOff x="6400800" y="3594240"/>
            <a:chExt cx="878040" cy="761760"/>
          </a:xfrm>
        </p:grpSpPr>
        <p:sp>
          <p:nvSpPr>
            <p:cNvPr id="168" name=""/>
            <p:cNvSpPr/>
            <p:nvPr/>
          </p:nvSpPr>
          <p:spPr>
            <a:xfrm>
              <a:off x="6400800" y="3594240"/>
              <a:ext cx="878040" cy="76176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00800" y="3679920"/>
              <a:ext cx="878040" cy="67572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26000" y="3837240"/>
              <a:ext cx="8100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et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6458040" y="4876920"/>
            <a:ext cx="1103400" cy="68580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ss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280040"/>
            <a:ext cx="533160" cy="596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429000" y="2743200"/>
            <a:ext cx="878040" cy="762120"/>
            <a:chOff x="3429000" y="2743200"/>
            <a:chExt cx="878040" cy="762120"/>
          </a:xfrm>
        </p:grpSpPr>
        <p:sp>
          <p:nvSpPr>
            <p:cNvPr id="174" name=""/>
            <p:cNvSpPr/>
            <p:nvPr/>
          </p:nvSpPr>
          <p:spPr>
            <a:xfrm>
              <a:off x="3429000" y="2743200"/>
              <a:ext cx="878040" cy="7621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29000" y="2828880"/>
              <a:ext cx="878040" cy="67608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54200" y="2986200"/>
              <a:ext cx="8100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 flipH="1">
            <a:off x="1447560" y="3429000"/>
            <a:ext cx="205740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1120" y="3352680"/>
            <a:ext cx="243828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28400" y="5698080"/>
            <a:ext cx="344376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62" y="-12504"/>
                </a:moveTo>
                <a:lnTo>
                  <a:pt x="-469" y="6075"/>
                </a:lnTo>
              </a:path>
              <a:path w="21600" h="21600">
                <a:moveTo>
                  <a:pt x="-469" y="0"/>
                </a:moveTo>
                <a:lnTo>
                  <a:pt x="-469" y="21600"/>
                </a:lnTo>
              </a:path>
            </a:pathLst>
          </a:cu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hange Password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886200"/>
            <a:ext cx="3733560" cy="1371600"/>
          </a:xfrm>
          <a:prstGeom prst="wedgeRectCallout">
            <a:avLst>
              <a:gd name="adj1" fmla="val 66328"/>
              <a:gd name="adj2" fmla="val 2488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john:</a:t>
            </a:r>
            <a:r>
              <a:rPr b="0" lang="nl-BE" sz="1800" spc="-1" strike="noStrike" u="sng">
                <a:solidFill>
                  <a:srgbClr val="000000"/>
                </a:solidFill>
                <a:uFillTx/>
                <a:latin typeface="Tahoma"/>
              </a:rPr>
              <a:t>87IUUAIAI8754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:87:8: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mary:</a:t>
            </a:r>
            <a:r>
              <a:rPr b="0" lang="nl-BE" sz="1800" spc="-1" strike="noStrike" u="sng">
                <a:solidFill>
                  <a:srgbClr val="000000"/>
                </a:solidFill>
                <a:uFillTx/>
                <a:latin typeface="Tahoma"/>
              </a:rPr>
              <a:t>0k1iuydjwudu7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:88:8: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tony:</a:t>
            </a:r>
            <a:r>
              <a:rPr b="0" lang="nl-BE" sz="1800" spc="-1" strike="noStrike" u="sng">
                <a:solidFill>
                  <a:srgbClr val="000000"/>
                </a:solidFill>
                <a:uFillTx/>
                <a:latin typeface="Tahoma"/>
              </a:rPr>
              <a:t>99uwywwshd765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:89:9: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5486400"/>
            <a:ext cx="1981080" cy="609480"/>
          </a:xfrm>
          <a:custGeom>
            <a:avLst/>
            <a:gdLst>
              <a:gd name="textAreaLeft" fmla="*/ 495360 w 1981080"/>
              <a:gd name="textAreaRight" fmla="*/ 1486080 w 198108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: root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G: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4495680"/>
            <a:ext cx="1523880" cy="990720"/>
          </a:xfrm>
          <a:prstGeom prst="vertic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wn: RW-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Grp: R--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th: R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Example: Un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witch Domain: Set-Uid B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182600" y="3594240"/>
            <a:ext cx="878040" cy="761760"/>
            <a:chOff x="1182600" y="3594240"/>
            <a:chExt cx="878040" cy="761760"/>
          </a:xfrm>
        </p:grpSpPr>
        <p:sp>
          <p:nvSpPr>
            <p:cNvPr id="186" name=""/>
            <p:cNvSpPr/>
            <p:nvPr/>
          </p:nvSpPr>
          <p:spPr>
            <a:xfrm>
              <a:off x="1182600" y="3594240"/>
              <a:ext cx="878040" cy="76176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82600" y="3679920"/>
              <a:ext cx="878040" cy="67572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07800" y="3837240"/>
              <a:ext cx="8100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09480" y="4724280"/>
            <a:ext cx="1179720" cy="91440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ss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218960" y="4280040"/>
            <a:ext cx="268200" cy="4442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400800" y="3594240"/>
            <a:ext cx="878040" cy="761760"/>
            <a:chOff x="6400800" y="3594240"/>
            <a:chExt cx="878040" cy="761760"/>
          </a:xfrm>
        </p:grpSpPr>
        <p:sp>
          <p:nvSpPr>
            <p:cNvPr id="192" name=""/>
            <p:cNvSpPr/>
            <p:nvPr/>
          </p:nvSpPr>
          <p:spPr>
            <a:xfrm>
              <a:off x="6400800" y="3594240"/>
              <a:ext cx="878040" cy="76176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0800" y="3679920"/>
              <a:ext cx="878040" cy="67572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26000" y="3837240"/>
              <a:ext cx="8100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et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458040" y="4876920"/>
            <a:ext cx="1103400" cy="68580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ss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05720" y="4280040"/>
            <a:ext cx="533160" cy="596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429000" y="2743200"/>
            <a:ext cx="878040" cy="762120"/>
            <a:chOff x="3429000" y="2743200"/>
            <a:chExt cx="878040" cy="762120"/>
          </a:xfrm>
        </p:grpSpPr>
        <p:sp>
          <p:nvSpPr>
            <p:cNvPr id="198" name=""/>
            <p:cNvSpPr/>
            <p:nvPr/>
          </p:nvSpPr>
          <p:spPr>
            <a:xfrm>
              <a:off x="3429000" y="2743200"/>
              <a:ext cx="878040" cy="7621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29000" y="2828880"/>
              <a:ext cx="878040" cy="67608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54200" y="2986200"/>
              <a:ext cx="8100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1447560" y="3429000"/>
            <a:ext cx="205740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3352680"/>
            <a:ext cx="243828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5486400"/>
            <a:ext cx="1981080" cy="609480"/>
          </a:xfrm>
          <a:custGeom>
            <a:avLst/>
            <a:gdLst>
              <a:gd name="textAreaLeft" fmla="*/ 495360 w 1981080"/>
              <a:gd name="textAreaRight" fmla="*/ 1486080 w 198108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: root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G: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96200" y="4495680"/>
            <a:ext cx="1523880" cy="990720"/>
          </a:xfrm>
          <a:prstGeom prst="vertic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wn: RW-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Grp: R--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th: R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5410080"/>
            <a:ext cx="1981080" cy="609840"/>
          </a:xfrm>
          <a:custGeom>
            <a:avLst/>
            <a:gdLst>
              <a:gd name="textAreaLeft" fmla="*/ 495360 w 1981080"/>
              <a:gd name="textAreaRight" fmla="*/ 1486080 w 1981080"/>
              <a:gd name="textAreaTop" fmla="*/ 7596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: root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G: b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04880" y="4343400"/>
            <a:ext cx="1524240" cy="1295280"/>
          </a:xfrm>
          <a:prstGeom prst="vertic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wn: R-X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Grp: R-X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th: R-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set-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95480" y="5334120"/>
            <a:ext cx="1524240" cy="304560"/>
          </a:xfrm>
          <a:prstGeom prst="leftArrow">
            <a:avLst>
              <a:gd name="adj1" fmla="val 50000"/>
              <a:gd name="adj2" fmla="val 125118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5920" y="4167720"/>
            <a:ext cx="2533680" cy="100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62" y="28844"/>
                </a:moveTo>
                <a:lnTo>
                  <a:pt x="-639" y="2430"/>
                </a:lnTo>
              </a:path>
              <a:path w="21600" h="21600">
                <a:moveTo>
                  <a:pt x="-639" y="0"/>
                </a:moveTo>
                <a:lnTo>
                  <a:pt x="-639" y="21600"/>
                </a:lnTo>
              </a:path>
            </a:pathLst>
          </a:cu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ecuted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vileges of own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ence as “roo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cess Matr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309960" y="1811520"/>
            <a:ext cx="861156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omain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ec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85800" y="1844640"/>
            <a:ext cx="7924680" cy="3886200"/>
            <a:chOff x="685800" y="1844640"/>
            <a:chExt cx="7924680" cy="3886200"/>
          </a:xfrm>
        </p:grpSpPr>
        <p:grpSp>
          <p:nvGrpSpPr>
            <p:cNvPr id="212" name=""/>
            <p:cNvGrpSpPr/>
            <p:nvPr/>
          </p:nvGrpSpPr>
          <p:grpSpPr>
            <a:xfrm>
              <a:off x="2514600" y="1844640"/>
              <a:ext cx="5562720" cy="3886200"/>
              <a:chOff x="2514600" y="1844640"/>
              <a:chExt cx="5562720" cy="3886200"/>
            </a:xfrm>
          </p:grpSpPr>
          <p:sp>
            <p:nvSpPr>
              <p:cNvPr id="213" name=""/>
              <p:cNvSpPr/>
              <p:nvPr/>
            </p:nvSpPr>
            <p:spPr>
              <a:xfrm>
                <a:off x="2514600" y="184464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41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368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95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222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15032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07732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685800" y="2938320"/>
              <a:ext cx="7924680" cy="2514600"/>
              <a:chOff x="685800" y="2938320"/>
              <a:chExt cx="7924680" cy="2514600"/>
            </a:xfrm>
          </p:grpSpPr>
          <p:sp>
            <p:nvSpPr>
              <p:cNvPr id="221" name=""/>
              <p:cNvSpPr/>
              <p:nvPr/>
            </p:nvSpPr>
            <p:spPr>
              <a:xfrm>
                <a:off x="685800" y="293832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85800" y="377640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5800" y="461448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5800" y="545292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cess Matr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lso for dynamic assoc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omain =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witch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ccess Matrix =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ntrolled Mod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py 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wnership 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ntrol 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3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8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1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4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7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0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cess Matr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1811520"/>
            <a:ext cx="800100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omain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switch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ec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85800" y="1963800"/>
            <a:ext cx="7848720" cy="3522600"/>
            <a:chOff x="685800" y="1963800"/>
            <a:chExt cx="7848720" cy="3522600"/>
          </a:xfrm>
        </p:grpSpPr>
        <p:grpSp>
          <p:nvGrpSpPr>
            <p:cNvPr id="230" name=""/>
            <p:cNvGrpSpPr/>
            <p:nvPr/>
          </p:nvGrpSpPr>
          <p:grpSpPr>
            <a:xfrm>
              <a:off x="2496960" y="1963800"/>
              <a:ext cx="5509080" cy="3522600"/>
              <a:chOff x="2496960" y="1963800"/>
              <a:chExt cx="5509080" cy="3522600"/>
            </a:xfrm>
          </p:grpSpPr>
          <p:sp>
            <p:nvSpPr>
              <p:cNvPr id="231" name=""/>
              <p:cNvSpPr/>
              <p:nvPr/>
            </p:nvSpPr>
            <p:spPr>
              <a:xfrm>
                <a:off x="2496960" y="1963800"/>
                <a:ext cx="0" cy="352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415320" y="2309040"/>
                <a:ext cx="0" cy="31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333320" y="2309040"/>
                <a:ext cx="0" cy="31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51320" y="2309040"/>
                <a:ext cx="0" cy="31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69320" y="2309040"/>
                <a:ext cx="0" cy="31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087680" y="2309040"/>
                <a:ext cx="0" cy="31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006040" y="2309040"/>
                <a:ext cx="0" cy="31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85800" y="2847240"/>
              <a:ext cx="7848720" cy="2279160"/>
              <a:chOff x="685800" y="2847240"/>
              <a:chExt cx="7848720" cy="2279160"/>
            </a:xfrm>
          </p:grpSpPr>
          <p:sp>
            <p:nvSpPr>
              <p:cNvPr id="239" name=""/>
              <p:cNvSpPr/>
              <p:nvPr/>
            </p:nvSpPr>
            <p:spPr>
              <a:xfrm>
                <a:off x="685800" y="2847240"/>
                <a:ext cx="78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5800" y="3606840"/>
                <a:ext cx="78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85800" y="4366440"/>
                <a:ext cx="78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85800" y="5126400"/>
                <a:ext cx="78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3" name=""/>
          <p:cNvSpPr/>
          <p:nvPr/>
        </p:nvSpPr>
        <p:spPr>
          <a:xfrm>
            <a:off x="4056120" y="5490000"/>
            <a:ext cx="3027600" cy="398880"/>
          </a:xfrm>
          <a:prstGeom prst="borderCallout1">
            <a:avLst>
              <a:gd name="adj1" fmla="val 18750"/>
              <a:gd name="adj2" fmla="val -8333"/>
              <a:gd name="adj3" fmla="val -569699"/>
              <a:gd name="adj4" fmla="val 116166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an switch to domain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cess Matr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309960" y="1811520"/>
            <a:ext cx="861156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omain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 baseline="30000">
                <a:solidFill>
                  <a:srgbClr val="00279f"/>
                </a:solidFill>
                <a:latin typeface="Wingdings"/>
                <a:ea typeface="Wingdings"/>
              </a:rPr>
              <a:t>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ec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85800" y="1844640"/>
            <a:ext cx="7924680" cy="3886200"/>
            <a:chOff x="685800" y="1844640"/>
            <a:chExt cx="7924680" cy="3886200"/>
          </a:xfrm>
        </p:grpSpPr>
        <p:grpSp>
          <p:nvGrpSpPr>
            <p:cNvPr id="247" name=""/>
            <p:cNvGrpSpPr/>
            <p:nvPr/>
          </p:nvGrpSpPr>
          <p:grpSpPr>
            <a:xfrm>
              <a:off x="2514600" y="1844640"/>
              <a:ext cx="5562720" cy="3886200"/>
              <a:chOff x="2514600" y="1844640"/>
              <a:chExt cx="5562720" cy="3886200"/>
            </a:xfrm>
          </p:grpSpPr>
          <p:sp>
            <p:nvSpPr>
              <p:cNvPr id="248" name=""/>
              <p:cNvSpPr/>
              <p:nvPr/>
            </p:nvSpPr>
            <p:spPr>
              <a:xfrm>
                <a:off x="2514600" y="184464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441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68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95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222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15032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07732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685800" y="2938320"/>
              <a:ext cx="7924680" cy="2514600"/>
              <a:chOff x="685800" y="2938320"/>
              <a:chExt cx="7924680" cy="2514600"/>
            </a:xfrm>
          </p:grpSpPr>
          <p:sp>
            <p:nvSpPr>
              <p:cNvPr id="256" name=""/>
              <p:cNvSpPr/>
              <p:nvPr/>
            </p:nvSpPr>
            <p:spPr>
              <a:xfrm>
                <a:off x="685800" y="293832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85800" y="377640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85800" y="461448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85800" y="545292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5608800" y="1680120"/>
            <a:ext cx="2004840" cy="398880"/>
          </a:xfrm>
          <a:prstGeom prst="borderCallout1">
            <a:avLst>
              <a:gd name="adj1" fmla="val 18750"/>
              <a:gd name="adj2" fmla="val -8333"/>
              <a:gd name="adj3" fmla="val 362754"/>
              <a:gd name="adj4" fmla="val -17180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an Copy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5400" y="409788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cess Matr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309960" y="1811520"/>
            <a:ext cx="861156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omain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ow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ec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685800" y="1844640"/>
            <a:ext cx="7924680" cy="3886200"/>
            <a:chOff x="685800" y="1844640"/>
            <a:chExt cx="7924680" cy="3886200"/>
          </a:xfrm>
        </p:grpSpPr>
        <p:grpSp>
          <p:nvGrpSpPr>
            <p:cNvPr id="265" name=""/>
            <p:cNvGrpSpPr/>
            <p:nvPr/>
          </p:nvGrpSpPr>
          <p:grpSpPr>
            <a:xfrm>
              <a:off x="2514600" y="1844640"/>
              <a:ext cx="5562720" cy="3886200"/>
              <a:chOff x="2514600" y="1844640"/>
              <a:chExt cx="5562720" cy="3886200"/>
            </a:xfrm>
          </p:grpSpPr>
          <p:sp>
            <p:nvSpPr>
              <p:cNvPr id="266" name=""/>
              <p:cNvSpPr/>
              <p:nvPr/>
            </p:nvSpPr>
            <p:spPr>
              <a:xfrm>
                <a:off x="2514600" y="184464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441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368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295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22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15032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07732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685800" y="2938320"/>
              <a:ext cx="7924680" cy="2514600"/>
              <a:chOff x="685800" y="2938320"/>
              <a:chExt cx="7924680" cy="2514600"/>
            </a:xfrm>
          </p:grpSpPr>
          <p:sp>
            <p:nvSpPr>
              <p:cNvPr id="274" name=""/>
              <p:cNvSpPr/>
              <p:nvPr/>
            </p:nvSpPr>
            <p:spPr>
              <a:xfrm>
                <a:off x="685800" y="293832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85800" y="377640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85800" y="461448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85800" y="545292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8" name=""/>
          <p:cNvSpPr/>
          <p:nvPr/>
        </p:nvSpPr>
        <p:spPr>
          <a:xfrm>
            <a:off x="3989520" y="2645280"/>
            <a:ext cx="2536920" cy="398880"/>
          </a:xfrm>
          <a:prstGeom prst="borderCallout1">
            <a:avLst>
              <a:gd name="adj1" fmla="val 18750"/>
              <a:gd name="adj2" fmla="val -8333"/>
              <a:gd name="adj3" fmla="val 199546"/>
              <a:gd name="adj4" fmla="val -19097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an modify Colu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86600" y="380916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72560" y="486000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590920" y="4724280"/>
            <a:ext cx="761760" cy="76320"/>
          </a:xfrm>
          <a:prstGeom prst="line">
            <a:avLst/>
          </a:prstGeom>
          <a:ln w="7632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cess Matr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309960" y="1811520"/>
            <a:ext cx="861156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omain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contro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ec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85800" y="1844640"/>
            <a:ext cx="7924680" cy="3886200"/>
            <a:chOff x="685800" y="1844640"/>
            <a:chExt cx="7924680" cy="3886200"/>
          </a:xfrm>
        </p:grpSpPr>
        <p:grpSp>
          <p:nvGrpSpPr>
            <p:cNvPr id="285" name=""/>
            <p:cNvGrpSpPr/>
            <p:nvPr/>
          </p:nvGrpSpPr>
          <p:grpSpPr>
            <a:xfrm>
              <a:off x="2514600" y="1844640"/>
              <a:ext cx="5562720" cy="3886200"/>
              <a:chOff x="2514600" y="1844640"/>
              <a:chExt cx="5562720" cy="3886200"/>
            </a:xfrm>
          </p:grpSpPr>
          <p:sp>
            <p:nvSpPr>
              <p:cNvPr id="286" name=""/>
              <p:cNvSpPr/>
              <p:nvPr/>
            </p:nvSpPr>
            <p:spPr>
              <a:xfrm>
                <a:off x="2514600" y="184464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441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368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295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222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15032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07732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685800" y="2819520"/>
              <a:ext cx="7924680" cy="2514600"/>
              <a:chOff x="685800" y="2819520"/>
              <a:chExt cx="7924680" cy="2514600"/>
            </a:xfrm>
          </p:grpSpPr>
          <p:sp>
            <p:nvSpPr>
              <p:cNvPr id="294" name=""/>
              <p:cNvSpPr/>
              <p:nvPr/>
            </p:nvSpPr>
            <p:spPr>
              <a:xfrm>
                <a:off x="685800" y="281952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85800" y="365760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5800" y="449568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85800" y="533412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"/>
          <p:cNvSpPr/>
          <p:nvPr/>
        </p:nvSpPr>
        <p:spPr>
          <a:xfrm>
            <a:off x="3680640" y="5490000"/>
            <a:ext cx="3754440" cy="398880"/>
          </a:xfrm>
          <a:prstGeom prst="borderCallout1">
            <a:avLst>
              <a:gd name="adj1" fmla="val 18750"/>
              <a:gd name="adj2" fmla="val -8333"/>
              <a:gd name="adj3" fmla="val -512439"/>
              <a:gd name="adj4" fmla="val 104629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an delete rights in domain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429000" y="3962160"/>
            <a:ext cx="762120" cy="75960"/>
          </a:xfrm>
          <a:prstGeom prst="line">
            <a:avLst/>
          </a:prstGeom>
          <a:ln w="7632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Global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parse matrix 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ccess List for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lumn-w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apability List for Dom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ow-w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Lock-Key Mechan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2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5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0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3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8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1" dur="5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6" dur="5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Global Tab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2362320" y="1676520"/>
            <a:ext cx="2590560" cy="1143000"/>
          </a:xfrm>
          <a:prstGeom prst="ellipse">
            <a:avLst/>
          </a:prstGeom>
          <a:solidFill>
            <a:srgbClr val="cecec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18160" y="1781640"/>
            <a:ext cx="1102680" cy="398880"/>
          </a:xfrm>
          <a:prstGeom prst="rect">
            <a:avLst/>
          </a:prstGeom>
          <a:solidFill>
            <a:srgbClr val="11f2ed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49920" y="1981080"/>
            <a:ext cx="1731960" cy="9144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bjec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38480" y="1523880"/>
            <a:ext cx="4114800" cy="533520"/>
          </a:xfrm>
          <a:custGeom>
            <a:avLst/>
            <a:gdLst>
              <a:gd name="textAreaLeft" fmla="*/ 720000 w 4114800"/>
              <a:gd name="textAreaRight" fmla="*/ 2983320 w 41148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95080" y="1751400"/>
            <a:ext cx="139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peration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78680" y="3347280"/>
            <a:ext cx="366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nd &lt;Di, Oj, Rk&gt; in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f found then M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Rk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76920" y="5100120"/>
            <a:ext cx="642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able too large  (not in 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Grouping impossible  (objects, domai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41520" y="2895480"/>
            <a:ext cx="2406600" cy="1981440"/>
            <a:chOff x="641520" y="2895480"/>
            <a:chExt cx="2406600" cy="1981440"/>
          </a:xfrm>
        </p:grpSpPr>
        <p:sp>
          <p:nvSpPr>
            <p:cNvPr id="311" name=""/>
            <p:cNvSpPr/>
            <p:nvPr/>
          </p:nvSpPr>
          <p:spPr>
            <a:xfrm>
              <a:off x="642960" y="2895480"/>
              <a:ext cx="2405160" cy="4320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&lt;Dom, Obj, Right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2960" y="3325680"/>
              <a:ext cx="2405160" cy="4320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&lt;D1, Ox, Rz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2960" y="3757680"/>
              <a:ext cx="2405160" cy="43164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&lt;D1, Oy, Rs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1520" y="4444920"/>
              <a:ext cx="2404800" cy="4320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&lt;Dn, Ob, Rt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29280" y="3780360"/>
              <a:ext cx="628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4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. Prot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rotec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ccess Matr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mplementation of Access Matr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Rev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apability Bas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Language Based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cess (Control) Lis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838080" y="2362320"/>
            <a:ext cx="2590920" cy="1143000"/>
          </a:xfrm>
          <a:prstGeom prst="ellipse">
            <a:avLst/>
          </a:prstGeom>
          <a:solidFill>
            <a:srgbClr val="cecec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94280" y="2467440"/>
            <a:ext cx="1102680" cy="398880"/>
          </a:xfrm>
          <a:prstGeom prst="rect">
            <a:avLst/>
          </a:prstGeom>
          <a:solidFill>
            <a:srgbClr val="11f2ed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26040" y="2666880"/>
            <a:ext cx="1731960" cy="9144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bjec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2209680"/>
            <a:ext cx="4114800" cy="533520"/>
          </a:xfrm>
          <a:custGeom>
            <a:avLst/>
            <a:gdLst>
              <a:gd name="textAreaLeft" fmla="*/ 720000 w 4114800"/>
              <a:gd name="textAreaRight" fmla="*/ 2983320 w 41148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71200" y="2437200"/>
            <a:ext cx="139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peration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4440" y="3948120"/>
            <a:ext cx="38854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nd &lt;Di, Rk&gt; in access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f found then M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Rk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therwise: M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Rdef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11840" y="5377320"/>
            <a:ext cx="56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or every operation, search th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7238880" y="2152800"/>
            <a:ext cx="1447560" cy="2114280"/>
            <a:chOff x="7238880" y="2152800"/>
            <a:chExt cx="1447560" cy="2114280"/>
          </a:xfrm>
        </p:grpSpPr>
        <p:sp>
          <p:nvSpPr>
            <p:cNvPr id="325" name=""/>
            <p:cNvSpPr/>
            <p:nvPr/>
          </p:nvSpPr>
          <p:spPr>
            <a:xfrm>
              <a:off x="7238880" y="2152800"/>
              <a:ext cx="1447560" cy="5331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1:  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38880" y="2590920"/>
              <a:ext cx="1447560" cy="5331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2:  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38880" y="3276720"/>
              <a:ext cx="1447560" cy="5331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n:  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38880" y="3733920"/>
              <a:ext cx="1447560" cy="5331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ef:  Rde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98160" y="2683800"/>
              <a:ext cx="587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4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119920" y="1527480"/>
            <a:ext cx="299844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3366" y="47836"/>
                </a:moveTo>
                <a:lnTo>
                  <a:pt x="22144" y="6075"/>
                </a:lnTo>
              </a:path>
              <a:path w="21600" h="21600">
                <a:moveTo>
                  <a:pt x="22144" y="0"/>
                </a:moveTo>
                <a:lnTo>
                  <a:pt x="22144" y="21600"/>
                </a:lnTo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nly non-empty e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21320" y="4550040"/>
            <a:ext cx="18709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3748" y="-19886"/>
                </a:moveTo>
                <a:lnTo>
                  <a:pt x="22460" y="6075"/>
                </a:lnTo>
              </a:path>
              <a:path w="21600" h="21600">
                <a:moveTo>
                  <a:pt x="22460" y="0"/>
                </a:moveTo>
                <a:lnTo>
                  <a:pt x="22460" y="21600"/>
                </a:lnTo>
              </a:path>
            </a:pathLst>
          </a:cu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fault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apability Lis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1828800"/>
            <a:ext cx="4114800" cy="3048120"/>
          </a:xfrm>
          <a:prstGeom prst="ellipse">
            <a:avLst/>
          </a:prstGeom>
          <a:solidFill>
            <a:srgbClr val="cecec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29440" y="2746800"/>
            <a:ext cx="1102680" cy="398880"/>
          </a:xfrm>
          <a:prstGeom prst="rect">
            <a:avLst/>
          </a:prstGeom>
          <a:solidFill>
            <a:srgbClr val="11f2ed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45360" y="2666880"/>
            <a:ext cx="1731960" cy="9144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bjec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2209680"/>
            <a:ext cx="4876920" cy="533520"/>
          </a:xfrm>
          <a:custGeom>
            <a:avLst/>
            <a:gdLst>
              <a:gd name="textAreaLeft" fmla="*/ 853200 w 4876920"/>
              <a:gd name="textAreaRight" fmla="*/ 3535920 w 48769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06280" y="2284920"/>
            <a:ext cx="139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peration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73560" y="3683880"/>
            <a:ext cx="264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apability is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nd M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Rj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384720" y="5333040"/>
            <a:ext cx="25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ery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838080" y="2514600"/>
            <a:ext cx="1447560" cy="1657080"/>
            <a:chOff x="838080" y="2514600"/>
            <a:chExt cx="1447560" cy="1657080"/>
          </a:xfrm>
        </p:grpSpPr>
        <p:sp>
          <p:nvSpPr>
            <p:cNvPr id="341" name=""/>
            <p:cNvSpPr/>
            <p:nvPr/>
          </p:nvSpPr>
          <p:spPr>
            <a:xfrm>
              <a:off x="838080" y="2514600"/>
              <a:ext cx="1447560" cy="5331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O1:  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38080" y="2952720"/>
              <a:ext cx="1447560" cy="5331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O2:  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38080" y="3638520"/>
              <a:ext cx="1447560" cy="5331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Ok:  R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97360" y="3045600"/>
              <a:ext cx="587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4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800600" y="1523880"/>
            <a:ext cx="1447920" cy="533520"/>
          </a:xfrm>
          <a:prstGeom prst="rect">
            <a:avLst/>
          </a:prstGeom>
          <a:solidFill>
            <a:srgbClr val="99ff99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j:  R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01960" y="1680120"/>
            <a:ext cx="299844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5" y="50835"/>
                </a:moveTo>
                <a:lnTo>
                  <a:pt x="-544" y="6075"/>
                </a:lnTo>
              </a:path>
              <a:path w="21600" h="21600">
                <a:moveTo>
                  <a:pt x="-544" y="0"/>
                </a:moveTo>
                <a:lnTo>
                  <a:pt x="-544" y="21600"/>
                </a:lnTo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nly non-empty e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apability Lis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apability = protected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bjects in memory have a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apabilities in separate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apabilities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2895480" y="2590920"/>
            <a:ext cx="838440" cy="4572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14840" y="2590920"/>
            <a:ext cx="2819160" cy="45720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og.c    {read, write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90680" y="3204000"/>
            <a:ext cx="301824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63" y="-12154"/>
                </a:moveTo>
                <a:lnTo>
                  <a:pt x="-554" y="6075"/>
                </a:lnTo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W/firmware prot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305160" y="5638680"/>
            <a:ext cx="281952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og.c    {read, write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52680" y="4191120"/>
            <a:ext cx="1447920" cy="99036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ogical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ddres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638680" y="4114800"/>
            <a:ext cx="1295640" cy="1066680"/>
            <a:chOff x="5638680" y="4114800"/>
            <a:chExt cx="1295640" cy="1066680"/>
          </a:xfrm>
        </p:grpSpPr>
        <p:sp>
          <p:nvSpPr>
            <p:cNvPr id="355" name=""/>
            <p:cNvSpPr/>
            <p:nvPr/>
          </p:nvSpPr>
          <p:spPr>
            <a:xfrm>
              <a:off x="5638680" y="4114800"/>
              <a:ext cx="1295640" cy="106668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C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5867280" y="4191120"/>
              <a:ext cx="457200" cy="609480"/>
              <a:chOff x="5867280" y="4191120"/>
              <a:chExt cx="457200" cy="609480"/>
            </a:xfrm>
          </p:grpSpPr>
          <p:sp>
            <p:nvSpPr>
              <p:cNvPr id="357" name=""/>
              <p:cNvSpPr/>
              <p:nvPr/>
            </p:nvSpPr>
            <p:spPr>
              <a:xfrm>
                <a:off x="5867280" y="4191120"/>
                <a:ext cx="457200" cy="152280"/>
              </a:xfrm>
              <a:prstGeom prst="rect">
                <a:avLst/>
              </a:prstGeom>
              <a:solidFill>
                <a:srgbClr val="b3b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67280" y="4343400"/>
                <a:ext cx="457200" cy="152280"/>
              </a:xfrm>
              <a:prstGeom prst="rect">
                <a:avLst/>
              </a:prstGeom>
              <a:solidFill>
                <a:srgbClr val="b3b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867280" y="4495680"/>
                <a:ext cx="457200" cy="152640"/>
              </a:xfrm>
              <a:prstGeom prst="rect">
                <a:avLst/>
              </a:prstGeom>
              <a:solidFill>
                <a:srgbClr val="b3b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67280" y="4648320"/>
                <a:ext cx="457200" cy="152280"/>
              </a:xfrm>
              <a:prstGeom prst="rect">
                <a:avLst/>
              </a:prstGeom>
              <a:solidFill>
                <a:srgbClr val="b3b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1" name=""/>
          <p:cNvSpPr/>
          <p:nvPr/>
        </p:nvSpPr>
        <p:spPr>
          <a:xfrm>
            <a:off x="5334120" y="43434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0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5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500"/>
                            </p:stCondLst>
                            <p:childTnLst>
                              <p:par>
                                <p:cTn id="8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3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1" dur="5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Lock - Key Mechanis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1828800"/>
            <a:ext cx="4114800" cy="3048120"/>
          </a:xfrm>
          <a:prstGeom prst="ellipse">
            <a:avLst/>
          </a:prstGeom>
          <a:solidFill>
            <a:srgbClr val="cecec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629440" y="2746800"/>
            <a:ext cx="1102680" cy="398880"/>
          </a:xfrm>
          <a:prstGeom prst="rect">
            <a:avLst/>
          </a:prstGeom>
          <a:solidFill>
            <a:srgbClr val="11f2ed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345360" y="2666880"/>
            <a:ext cx="2189160" cy="12956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bjec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24080" y="2209680"/>
            <a:ext cx="4876920" cy="533520"/>
          </a:xfrm>
          <a:custGeom>
            <a:avLst/>
            <a:gdLst>
              <a:gd name="textAreaLeft" fmla="*/ 853200 w 4876920"/>
              <a:gd name="textAreaRight" fmla="*/ 3535920 w 48769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06280" y="2284920"/>
            <a:ext cx="139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peration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36560" y="4411440"/>
            <a:ext cx="278064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Key matches lo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(possibly:  # lo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58480" y="5637600"/>
            <a:ext cx="36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Keys must be protec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295280" y="3416400"/>
            <a:ext cx="914400" cy="422280"/>
          </a:xfrm>
          <a:prstGeom prst="rect">
            <a:avLst/>
          </a:prstGeom>
          <a:ln w="0">
            <a:noFill/>
          </a:ln>
        </p:spPr>
      </p:pic>
      <p:grpSp>
        <p:nvGrpSpPr>
          <p:cNvPr id="371" name=""/>
          <p:cNvGrpSpPr/>
          <p:nvPr/>
        </p:nvGrpSpPr>
        <p:grpSpPr>
          <a:xfrm>
            <a:off x="1071360" y="2858040"/>
            <a:ext cx="1041480" cy="487800"/>
            <a:chOff x="1071360" y="2858040"/>
            <a:chExt cx="1041480" cy="487800"/>
          </a:xfrm>
        </p:grpSpPr>
        <p:sp>
          <p:nvSpPr>
            <p:cNvPr id="372" name=""/>
            <p:cNvSpPr/>
            <p:nvPr/>
          </p:nvSpPr>
          <p:spPr>
            <a:xfrm rot="16357800">
              <a:off x="1371240" y="2590560"/>
              <a:ext cx="441360" cy="10224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1238400" y="2909160"/>
              <a:ext cx="131040" cy="341640"/>
              <a:chOff x="1238400" y="2909160"/>
              <a:chExt cx="131040" cy="341640"/>
            </a:xfrm>
          </p:grpSpPr>
          <p:sp>
            <p:nvSpPr>
              <p:cNvPr id="374" name=""/>
              <p:cNvSpPr/>
              <p:nvPr/>
            </p:nvSpPr>
            <p:spPr>
              <a:xfrm rot="16357800">
                <a:off x="1148040" y="3033720"/>
                <a:ext cx="311400" cy="11700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357800">
                <a:off x="1147680" y="3009240"/>
                <a:ext cx="312480" cy="11664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1369800" y="2902320"/>
              <a:ext cx="733320" cy="377280"/>
              <a:chOff x="1369800" y="2902320"/>
              <a:chExt cx="733320" cy="377280"/>
            </a:xfrm>
          </p:grpSpPr>
          <p:sp>
            <p:nvSpPr>
              <p:cNvPr id="377" name=""/>
              <p:cNvSpPr/>
              <p:nvPr/>
            </p:nvSpPr>
            <p:spPr>
              <a:xfrm rot="16357800">
                <a:off x="1792800" y="2843280"/>
                <a:ext cx="9360" cy="5580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357800">
                <a:off x="1803600" y="2796480"/>
                <a:ext cx="8640" cy="54432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1369800" y="2902320"/>
                <a:ext cx="733320" cy="377280"/>
                <a:chOff x="1369800" y="2902320"/>
                <a:chExt cx="733320" cy="377280"/>
              </a:xfrm>
            </p:grpSpPr>
            <p:sp>
              <p:nvSpPr>
                <p:cNvPr id="380" name=""/>
                <p:cNvSpPr/>
                <p:nvPr/>
              </p:nvSpPr>
              <p:spPr>
                <a:xfrm rot="16357800">
                  <a:off x="1196640" y="3083760"/>
                  <a:ext cx="376920" cy="1368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16357800">
                  <a:off x="1336320" y="3083760"/>
                  <a:ext cx="230760" cy="1260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rot="16357800">
                  <a:off x="1805400" y="2798640"/>
                  <a:ext cx="28800" cy="56592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rot="16357800">
                  <a:off x="1456920" y="3051000"/>
                  <a:ext cx="200520" cy="8460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rot="16357800">
                  <a:off x="1263240" y="3083400"/>
                  <a:ext cx="297000" cy="1152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5" name=""/>
          <p:cNvGrpSpPr/>
          <p:nvPr/>
        </p:nvGrpSpPr>
        <p:grpSpPr>
          <a:xfrm>
            <a:off x="6324480" y="3083040"/>
            <a:ext cx="532440" cy="879120"/>
            <a:chOff x="6324480" y="3083040"/>
            <a:chExt cx="532440" cy="879120"/>
          </a:xfrm>
        </p:grpSpPr>
        <p:grpSp>
          <p:nvGrpSpPr>
            <p:cNvPr id="386" name=""/>
            <p:cNvGrpSpPr/>
            <p:nvPr/>
          </p:nvGrpSpPr>
          <p:grpSpPr>
            <a:xfrm>
              <a:off x="6324480" y="3083040"/>
              <a:ext cx="532440" cy="879120"/>
              <a:chOff x="6324480" y="3083040"/>
              <a:chExt cx="532440" cy="87912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6324480" y="3098160"/>
                <a:ext cx="514440" cy="864000"/>
                <a:chOff x="6324480" y="3098160"/>
                <a:chExt cx="514440" cy="8640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419880" y="3695760"/>
                  <a:ext cx="356760" cy="254520"/>
                </a:xfrm>
                <a:prstGeom prst="ellipse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9" name=""/>
                <p:cNvGrpSpPr/>
                <p:nvPr/>
              </p:nvGrpSpPr>
              <p:grpSpPr>
                <a:xfrm>
                  <a:off x="6324480" y="3098160"/>
                  <a:ext cx="514440" cy="864000"/>
                  <a:chOff x="6324480" y="3098160"/>
                  <a:chExt cx="514440" cy="86400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6324480" y="3098160"/>
                    <a:ext cx="514440" cy="735480"/>
                  </a:xfrm>
                  <a:custGeom>
                    <a:avLst/>
                    <a:gdLst/>
                    <a:ahLst/>
                    <a:rect l="l" t="t" r="r" b="b"/>
                    <a:pathLst>
                      <a:path w="940" h="1872">
                        <a:moveTo>
                          <a:pt x="2" y="0"/>
                        </a:moveTo>
                        <a:lnTo>
                          <a:pt x="939" y="0"/>
                        </a:lnTo>
                        <a:lnTo>
                          <a:pt x="940" y="1872"/>
                        </a:lnTo>
                        <a:lnTo>
                          <a:pt x="0" y="187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9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6403320" y="3707640"/>
                    <a:ext cx="356400" cy="254520"/>
                  </a:xfrm>
                  <a:prstGeom prst="ellipse">
                    <a:avLst/>
                  </a:prstGeom>
                  <a:solidFill>
                    <a:srgbClr val="ff9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2" name=""/>
              <p:cNvGrpSpPr/>
              <p:nvPr/>
            </p:nvGrpSpPr>
            <p:grpSpPr>
              <a:xfrm>
                <a:off x="6326280" y="3083040"/>
                <a:ext cx="530640" cy="749160"/>
                <a:chOff x="6326280" y="3083040"/>
                <a:chExt cx="530640" cy="7491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326280" y="3083040"/>
                  <a:ext cx="530640" cy="15120"/>
                </a:xfrm>
                <a:custGeom>
                  <a:avLst/>
                  <a:gdLst/>
                  <a:ahLst/>
                  <a:rect l="l" t="t" r="r" b="b"/>
                  <a:pathLst>
                    <a:path w="970" h="39">
                      <a:moveTo>
                        <a:pt x="33" y="0"/>
                      </a:moveTo>
                      <a:lnTo>
                        <a:pt x="970" y="0"/>
                      </a:lnTo>
                      <a:lnTo>
                        <a:pt x="935" y="39"/>
                      </a:lnTo>
                      <a:lnTo>
                        <a:pt x="0" y="39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b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839280" y="3083760"/>
                  <a:ext cx="17640" cy="748440"/>
                </a:xfrm>
                <a:custGeom>
                  <a:avLst/>
                  <a:gdLst/>
                  <a:ahLst/>
                  <a:rect l="l" t="t" r="r" b="b"/>
                  <a:pathLst>
                    <a:path w="33" h="1906">
                      <a:moveTo>
                        <a:pt x="30" y="0"/>
                      </a:moveTo>
                      <a:lnTo>
                        <a:pt x="0" y="36"/>
                      </a:lnTo>
                      <a:lnTo>
                        <a:pt x="1" y="1906"/>
                      </a:lnTo>
                      <a:lnTo>
                        <a:pt x="33" y="1871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" name=""/>
            <p:cNvGrpSpPr/>
            <p:nvPr/>
          </p:nvGrpSpPr>
          <p:grpSpPr>
            <a:xfrm>
              <a:off x="6359040" y="3121560"/>
              <a:ext cx="443160" cy="822600"/>
              <a:chOff x="6359040" y="3121560"/>
              <a:chExt cx="443160" cy="82260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6359040" y="3121560"/>
                <a:ext cx="443160" cy="822600"/>
                <a:chOff x="6359040" y="3121560"/>
                <a:chExt cx="443160" cy="82260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6359040" y="3121560"/>
                  <a:ext cx="443160" cy="822600"/>
                  <a:chOff x="6359040" y="3121560"/>
                  <a:chExt cx="443160" cy="8226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6434640" y="3737880"/>
                    <a:ext cx="295560" cy="206280"/>
                  </a:xfrm>
                  <a:prstGeom prst="ellipse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6359040" y="3121560"/>
                    <a:ext cx="443160" cy="694440"/>
                    <a:chOff x="6359040" y="3121560"/>
                    <a:chExt cx="443160" cy="69444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6360480" y="3121560"/>
                      <a:ext cx="44172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7" h="47">
                          <a:moveTo>
                            <a:pt x="0" y="0"/>
                          </a:moveTo>
                          <a:lnTo>
                            <a:pt x="807" y="0"/>
                          </a:lnTo>
                          <a:lnTo>
                            <a:pt x="757" y="47"/>
                          </a:lnTo>
                          <a:lnTo>
                            <a:pt x="48" y="4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b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6359040" y="3795840"/>
                      <a:ext cx="10656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7" h="49">
                          <a:moveTo>
                            <a:pt x="52" y="0"/>
                          </a:moveTo>
                          <a:lnTo>
                            <a:pt x="197" y="0"/>
                          </a:lnTo>
                          <a:lnTo>
                            <a:pt x="142" y="49"/>
                          </a:lnTo>
                          <a:lnTo>
                            <a:pt x="0" y="49"/>
                          </a:lnTo>
                          <a:lnTo>
                            <a:pt x="52" y="0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6695640" y="3795840"/>
                      <a:ext cx="10476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2" h="49">
                          <a:moveTo>
                            <a:pt x="0" y="2"/>
                          </a:moveTo>
                          <a:lnTo>
                            <a:pt x="47" y="49"/>
                          </a:lnTo>
                          <a:lnTo>
                            <a:pt x="192" y="49"/>
                          </a:lnTo>
                          <a:lnTo>
                            <a:pt x="145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6775920" y="3121560"/>
                      <a:ext cx="26280" cy="69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1767">
                          <a:moveTo>
                            <a:pt x="49" y="0"/>
                          </a:moveTo>
                          <a:lnTo>
                            <a:pt x="47" y="1767"/>
                          </a:lnTo>
                          <a:lnTo>
                            <a:pt x="0" y="1718"/>
                          </a:lnTo>
                          <a:lnTo>
                            <a:pt x="0" y="48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bf7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6359040" y="3121560"/>
                      <a:ext cx="27720" cy="69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1766">
                          <a:moveTo>
                            <a:pt x="2" y="0"/>
                          </a:moveTo>
                          <a:lnTo>
                            <a:pt x="0" y="1766"/>
                          </a:lnTo>
                          <a:lnTo>
                            <a:pt x="51" y="1718"/>
                          </a:lnTo>
                          <a:lnTo>
                            <a:pt x="51" y="48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6386760" y="3139200"/>
                  <a:ext cx="389160" cy="788400"/>
                  <a:chOff x="6386760" y="3139200"/>
                  <a:chExt cx="389160" cy="7884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6454080" y="3741840"/>
                    <a:ext cx="256320" cy="185760"/>
                  </a:xfrm>
                  <a:prstGeom prst="ellipse">
                    <a:avLst/>
                  </a:prstGeom>
                  <a:solidFill>
                    <a:srgbClr val="ffb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6386760" y="3139200"/>
                    <a:ext cx="389160" cy="65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10" h="1671">
                        <a:moveTo>
                          <a:pt x="0" y="0"/>
                        </a:moveTo>
                        <a:lnTo>
                          <a:pt x="710" y="1"/>
                        </a:lnTo>
                        <a:lnTo>
                          <a:pt x="710" y="1671"/>
                        </a:lnTo>
                        <a:lnTo>
                          <a:pt x="0" y="167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b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6406560" y="3246480"/>
                  <a:ext cx="312120" cy="225000"/>
                  <a:chOff x="6406560" y="3246480"/>
                  <a:chExt cx="312120" cy="22500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6406560" y="3246480"/>
                    <a:ext cx="312120" cy="225000"/>
                  </a:xfrm>
                  <a:prstGeom prst="ellipse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6406560" y="3247200"/>
                    <a:ext cx="305640" cy="2224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6459120" y="3285000"/>
                    <a:ext cx="128160" cy="91800"/>
                  </a:xfrm>
                  <a:prstGeom prst="ellipse">
                    <a:avLst/>
                  </a:prstGeom>
                  <a:solidFill>
                    <a:srgbClr val="ffb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6528240" y="3538800"/>
                  <a:ext cx="99720" cy="200160"/>
                  <a:chOff x="6528240" y="3538800"/>
                  <a:chExt cx="99720" cy="20016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6537960" y="3538800"/>
                    <a:ext cx="74880" cy="52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6528240" y="3583440"/>
                    <a:ext cx="9972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395">
                        <a:moveTo>
                          <a:pt x="54" y="9"/>
                        </a:moveTo>
                        <a:lnTo>
                          <a:pt x="0" y="395"/>
                        </a:lnTo>
                        <a:lnTo>
                          <a:pt x="183" y="395"/>
                        </a:lnTo>
                        <a:lnTo>
                          <a:pt x="124" y="0"/>
                        </a:lnTo>
                        <a:lnTo>
                          <a:pt x="54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5" name=""/>
              <p:cNvGrpSpPr/>
              <p:nvPr/>
            </p:nvGrpSpPr>
            <p:grpSpPr>
              <a:xfrm>
                <a:off x="6406560" y="3157920"/>
                <a:ext cx="344880" cy="622440"/>
                <a:chOff x="6406560" y="3157920"/>
                <a:chExt cx="344880" cy="622440"/>
              </a:xfrm>
            </p:grpSpPr>
            <p:grpSp>
              <p:nvGrpSpPr>
                <p:cNvPr id="416" name=""/>
                <p:cNvGrpSpPr/>
                <p:nvPr/>
              </p:nvGrpSpPr>
              <p:grpSpPr>
                <a:xfrm>
                  <a:off x="6700680" y="3157920"/>
                  <a:ext cx="50040" cy="36360"/>
                  <a:chOff x="6700680" y="3157920"/>
                  <a:chExt cx="50040" cy="36360"/>
                </a:xfrm>
              </p:grpSpPr>
              <p:grpSp>
                <p:nvGrpSpPr>
                  <p:cNvPr id="417" name=""/>
                  <p:cNvGrpSpPr/>
                  <p:nvPr/>
                </p:nvGrpSpPr>
                <p:grpSpPr>
                  <a:xfrm>
                    <a:off x="6700680" y="3157920"/>
                    <a:ext cx="50040" cy="36360"/>
                    <a:chOff x="6700680" y="3157920"/>
                    <a:chExt cx="50040" cy="36360"/>
                  </a:xfrm>
                </p:grpSpPr>
                <p:grpSp>
                  <p:nvGrpSpPr>
                    <p:cNvPr id="418" name=""/>
                    <p:cNvGrpSpPr/>
                    <p:nvPr/>
                  </p:nvGrpSpPr>
                  <p:grpSpPr>
                    <a:xfrm>
                      <a:off x="6700680" y="3157920"/>
                      <a:ext cx="50040" cy="36360"/>
                      <a:chOff x="6700680" y="3157920"/>
                      <a:chExt cx="50040" cy="36360"/>
                    </a:xfrm>
                  </p:grpSpPr>
                  <p:sp>
                    <p:nvSpPr>
                      <p:cNvPr id="419" name=""/>
                      <p:cNvSpPr/>
                      <p:nvPr/>
                    </p:nvSpPr>
                    <p:spPr>
                      <a:xfrm>
                        <a:off x="6700680" y="3157920"/>
                        <a:ext cx="50040" cy="36360"/>
                      </a:xfrm>
                      <a:prstGeom prst="ellipse">
                        <a:avLst/>
                      </a:prstGeom>
                      <a:solidFill>
                        <a:srgbClr val="bf7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0" name=""/>
                      <p:cNvSpPr/>
                      <p:nvPr/>
                    </p:nvSpPr>
                    <p:spPr>
                      <a:xfrm>
                        <a:off x="6708600" y="3162600"/>
                        <a:ext cx="25920" cy="19440"/>
                      </a:xfrm>
                      <a:prstGeom prst="ellipse">
                        <a:avLst/>
                      </a:prstGeom>
                      <a:solidFill>
                        <a:srgbClr val="ff9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13640" y="3164760"/>
                      <a:ext cx="11160" cy="7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22" name=""/>
                  <p:cNvSpPr/>
                  <p:nvPr/>
                </p:nvSpPr>
                <p:spPr>
                  <a:xfrm>
                    <a:off x="6702480" y="3173040"/>
                    <a:ext cx="47160" cy="576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6702840" y="3742560"/>
                  <a:ext cx="48600" cy="36360"/>
                  <a:chOff x="6702840" y="3742560"/>
                  <a:chExt cx="48600" cy="36360"/>
                </a:xfrm>
              </p:grpSpPr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6702840" y="3742560"/>
                    <a:ext cx="47880" cy="36360"/>
                    <a:chOff x="6702840" y="3742560"/>
                    <a:chExt cx="47880" cy="36360"/>
                  </a:xfrm>
                </p:grpSpPr>
                <p:grpSp>
                  <p:nvGrpSpPr>
                    <p:cNvPr id="425" name=""/>
                    <p:cNvGrpSpPr/>
                    <p:nvPr/>
                  </p:nvGrpSpPr>
                  <p:grpSpPr>
                    <a:xfrm>
                      <a:off x="6702840" y="3742560"/>
                      <a:ext cx="47880" cy="36360"/>
                      <a:chOff x="6702840" y="3742560"/>
                      <a:chExt cx="47880" cy="36360"/>
                    </a:xfrm>
                  </p:grpSpPr>
                  <p:sp>
                    <p:nvSpPr>
                      <p:cNvPr id="426" name=""/>
                      <p:cNvSpPr/>
                      <p:nvPr/>
                    </p:nvSpPr>
                    <p:spPr>
                      <a:xfrm>
                        <a:off x="6702840" y="3742560"/>
                        <a:ext cx="47880" cy="36360"/>
                      </a:xfrm>
                      <a:prstGeom prst="ellipse">
                        <a:avLst/>
                      </a:prstGeom>
                      <a:solidFill>
                        <a:srgbClr val="bf7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7" name=""/>
                      <p:cNvSpPr/>
                      <p:nvPr/>
                    </p:nvSpPr>
                    <p:spPr>
                      <a:xfrm>
                        <a:off x="6708960" y="3747240"/>
                        <a:ext cx="27360" cy="19800"/>
                      </a:xfrm>
                      <a:prstGeom prst="ellipse">
                        <a:avLst/>
                      </a:prstGeom>
                      <a:solidFill>
                        <a:srgbClr val="ff9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6715440" y="3750480"/>
                      <a:ext cx="9360" cy="6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29" name=""/>
                  <p:cNvSpPr/>
                  <p:nvPr/>
                </p:nvSpPr>
                <p:spPr>
                  <a:xfrm>
                    <a:off x="6704280" y="3757680"/>
                    <a:ext cx="47160" cy="576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6406560" y="3744000"/>
                  <a:ext cx="50040" cy="36360"/>
                  <a:chOff x="6406560" y="3744000"/>
                  <a:chExt cx="50040" cy="36360"/>
                </a:xfrm>
              </p:grpSpPr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406560" y="3744000"/>
                    <a:ext cx="50040" cy="36360"/>
                    <a:chOff x="6406560" y="3744000"/>
                    <a:chExt cx="50040" cy="36360"/>
                  </a:xfrm>
                </p:grpSpPr>
                <p:grpSp>
                  <p:nvGrpSpPr>
                    <p:cNvPr id="432" name=""/>
                    <p:cNvGrpSpPr/>
                    <p:nvPr/>
                  </p:nvGrpSpPr>
                  <p:grpSpPr>
                    <a:xfrm>
                      <a:off x="6406560" y="3744000"/>
                      <a:ext cx="50040" cy="36360"/>
                      <a:chOff x="6406560" y="3744000"/>
                      <a:chExt cx="50040" cy="36360"/>
                    </a:xfrm>
                  </p:grpSpPr>
                  <p:sp>
                    <p:nvSpPr>
                      <p:cNvPr id="433" name=""/>
                      <p:cNvSpPr/>
                      <p:nvPr/>
                    </p:nvSpPr>
                    <p:spPr>
                      <a:xfrm>
                        <a:off x="6406560" y="3744000"/>
                        <a:ext cx="50040" cy="36360"/>
                      </a:xfrm>
                      <a:prstGeom prst="ellipse">
                        <a:avLst/>
                      </a:prstGeom>
                      <a:solidFill>
                        <a:srgbClr val="bf7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4" name=""/>
                      <p:cNvSpPr/>
                      <p:nvPr/>
                    </p:nvSpPr>
                    <p:spPr>
                      <a:xfrm>
                        <a:off x="6412680" y="3748320"/>
                        <a:ext cx="27360" cy="19800"/>
                      </a:xfrm>
                      <a:prstGeom prst="ellipse">
                        <a:avLst/>
                      </a:prstGeom>
                      <a:solidFill>
                        <a:srgbClr val="ff9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6419520" y="3750840"/>
                      <a:ext cx="9720" cy="8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6" name=""/>
                  <p:cNvSpPr/>
                  <p:nvPr/>
                </p:nvSpPr>
                <p:spPr>
                  <a:xfrm>
                    <a:off x="6408000" y="3757680"/>
                    <a:ext cx="47520" cy="72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6406560" y="3157920"/>
                  <a:ext cx="50040" cy="35280"/>
                  <a:chOff x="6406560" y="3157920"/>
                  <a:chExt cx="50040" cy="35280"/>
                </a:xfrm>
              </p:grpSpPr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6406560" y="3157920"/>
                    <a:ext cx="50040" cy="35280"/>
                    <a:chOff x="6406560" y="3157920"/>
                    <a:chExt cx="50040" cy="35280"/>
                  </a:xfrm>
                </p:grpSpPr>
                <p:grpSp>
                  <p:nvGrpSpPr>
                    <p:cNvPr id="439" name=""/>
                    <p:cNvGrpSpPr/>
                    <p:nvPr/>
                  </p:nvGrpSpPr>
                  <p:grpSpPr>
                    <a:xfrm>
                      <a:off x="6406560" y="3157920"/>
                      <a:ext cx="50040" cy="35280"/>
                      <a:chOff x="6406560" y="3157920"/>
                      <a:chExt cx="50040" cy="35280"/>
                    </a:xfrm>
                  </p:grpSpPr>
                  <p:sp>
                    <p:nvSpPr>
                      <p:cNvPr id="440" name=""/>
                      <p:cNvSpPr/>
                      <p:nvPr/>
                    </p:nvSpPr>
                    <p:spPr>
                      <a:xfrm>
                        <a:off x="6406560" y="3157920"/>
                        <a:ext cx="50040" cy="35280"/>
                      </a:xfrm>
                      <a:prstGeom prst="ellipse">
                        <a:avLst/>
                      </a:prstGeom>
                      <a:solidFill>
                        <a:srgbClr val="bf7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1" name=""/>
                      <p:cNvSpPr/>
                      <p:nvPr/>
                    </p:nvSpPr>
                    <p:spPr>
                      <a:xfrm>
                        <a:off x="6412680" y="3161160"/>
                        <a:ext cx="27360" cy="20880"/>
                      </a:xfrm>
                      <a:prstGeom prst="ellipse">
                        <a:avLst/>
                      </a:prstGeom>
                      <a:solidFill>
                        <a:srgbClr val="ff9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6419520" y="3164760"/>
                      <a:ext cx="9720" cy="8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3" name=""/>
                  <p:cNvSpPr/>
                  <p:nvPr/>
                </p:nvSpPr>
                <p:spPr>
                  <a:xfrm>
                    <a:off x="6408000" y="3171960"/>
                    <a:ext cx="47520" cy="576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444" name=""/>
          <p:cNvGrpSpPr/>
          <p:nvPr/>
        </p:nvGrpSpPr>
        <p:grpSpPr>
          <a:xfrm>
            <a:off x="1066680" y="2286000"/>
            <a:ext cx="1295280" cy="558360"/>
            <a:chOff x="1066680" y="2286000"/>
            <a:chExt cx="1295280" cy="558360"/>
          </a:xfrm>
        </p:grpSpPr>
        <p:sp>
          <p:nvSpPr>
            <p:cNvPr id="445" name=""/>
            <p:cNvSpPr/>
            <p:nvPr/>
          </p:nvSpPr>
          <p:spPr>
            <a:xfrm>
              <a:off x="1979640" y="2589120"/>
              <a:ext cx="272880" cy="233280"/>
            </a:xfrm>
            <a:custGeom>
              <a:avLst/>
              <a:gdLst/>
              <a:ahLst/>
              <a:rect l="l" t="t" r="r" b="b"/>
              <a:pathLst>
                <a:path w="350" h="260">
                  <a:moveTo>
                    <a:pt x="0" y="0"/>
                  </a:moveTo>
                  <a:lnTo>
                    <a:pt x="0" y="260"/>
                  </a:lnTo>
                  <a:lnTo>
                    <a:pt x="61" y="260"/>
                  </a:lnTo>
                  <a:lnTo>
                    <a:pt x="61" y="208"/>
                  </a:lnTo>
                  <a:lnTo>
                    <a:pt x="92" y="208"/>
                  </a:lnTo>
                  <a:lnTo>
                    <a:pt x="92" y="182"/>
                  </a:lnTo>
                  <a:lnTo>
                    <a:pt x="129" y="182"/>
                  </a:lnTo>
                  <a:lnTo>
                    <a:pt x="129" y="212"/>
                  </a:lnTo>
                  <a:lnTo>
                    <a:pt x="182" y="212"/>
                  </a:lnTo>
                  <a:lnTo>
                    <a:pt x="182" y="122"/>
                  </a:lnTo>
                  <a:lnTo>
                    <a:pt x="221" y="122"/>
                  </a:lnTo>
                  <a:lnTo>
                    <a:pt x="221" y="185"/>
                  </a:lnTo>
                  <a:lnTo>
                    <a:pt x="247" y="194"/>
                  </a:lnTo>
                  <a:lnTo>
                    <a:pt x="247" y="238"/>
                  </a:lnTo>
                  <a:lnTo>
                    <a:pt x="350" y="238"/>
                  </a:lnTo>
                  <a:lnTo>
                    <a:pt x="350" y="186"/>
                  </a:lnTo>
                  <a:lnTo>
                    <a:pt x="323" y="186"/>
                  </a:lnTo>
                  <a:lnTo>
                    <a:pt x="32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1066680" y="2286000"/>
              <a:ext cx="456840" cy="558360"/>
              <a:chOff x="1066680" y="2286000"/>
              <a:chExt cx="456840" cy="558360"/>
            </a:xfrm>
          </p:grpSpPr>
          <p:sp>
            <p:nvSpPr>
              <p:cNvPr id="447" name=""/>
              <p:cNvSpPr/>
              <p:nvPr/>
            </p:nvSpPr>
            <p:spPr>
              <a:xfrm>
                <a:off x="1066680" y="2425320"/>
                <a:ext cx="237600" cy="279360"/>
              </a:xfrm>
              <a:prstGeom prst="ellipse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271520" y="2562480"/>
                <a:ext cx="242280" cy="281880"/>
              </a:xfrm>
              <a:prstGeom prst="ellipse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279080" y="2286000"/>
                <a:ext cx="244440" cy="279360"/>
              </a:xfrm>
              <a:prstGeom prst="ellipse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1424160" y="2535120"/>
              <a:ext cx="937800" cy="68040"/>
              <a:chOff x="1424160" y="2535120"/>
              <a:chExt cx="937800" cy="68040"/>
            </a:xfrm>
          </p:grpSpPr>
          <p:sp>
            <p:nvSpPr>
              <p:cNvPr id="451" name=""/>
              <p:cNvSpPr/>
              <p:nvPr/>
            </p:nvSpPr>
            <p:spPr>
              <a:xfrm>
                <a:off x="1424160" y="2535120"/>
                <a:ext cx="937800" cy="68040"/>
              </a:xfrm>
              <a:prstGeom prst="roundRect">
                <a:avLst>
                  <a:gd name="adj" fmla="val 38681"/>
                </a:avLst>
              </a:prstGeom>
              <a:solidFill>
                <a:srgbClr val="919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510200" y="2551680"/>
                <a:ext cx="80928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5486400" y="3429000"/>
            <a:ext cx="914400" cy="4222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4876920" y="1752480"/>
            <a:ext cx="91440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mparis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nl-B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nl-B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ccess Lists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Users’ Needs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’s Righ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ccess: searc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apability List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fficient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Who has acces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voc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ck-Key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fficient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arge Keys, 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457200" y="1905120"/>
            <a:ext cx="8229600" cy="4038480"/>
            <a:chOff x="457200" y="1905120"/>
            <a:chExt cx="8229600" cy="4038480"/>
          </a:xfrm>
        </p:grpSpPr>
        <p:sp>
          <p:nvSpPr>
            <p:cNvPr id="458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7200" y="380988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7200" y="510552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971800" y="1905120"/>
              <a:ext cx="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1905120"/>
              <a:ext cx="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5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mbining ACL + CAP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irst access (op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heck AC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reate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5334120" y="2209680"/>
            <a:ext cx="838080" cy="685800"/>
          </a:xfrm>
          <a:prstGeom prst="cube">
            <a:avLst>
              <a:gd name="adj" fmla="val 250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248520" y="1828800"/>
            <a:ext cx="1143000" cy="1523520"/>
            <a:chOff x="6248520" y="1828800"/>
            <a:chExt cx="1143000" cy="1523520"/>
          </a:xfrm>
        </p:grpSpPr>
        <p:sp>
          <p:nvSpPr>
            <p:cNvPr id="467" name=""/>
            <p:cNvSpPr/>
            <p:nvPr/>
          </p:nvSpPr>
          <p:spPr>
            <a:xfrm>
              <a:off x="6248520" y="1828800"/>
              <a:ext cx="1143000" cy="3841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D1:  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248520" y="2144520"/>
              <a:ext cx="1143000" cy="3841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D2:  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48520" y="2638800"/>
              <a:ext cx="1143000" cy="3841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Dn:  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248520" y="2968200"/>
              <a:ext cx="1143000" cy="38412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def:  Rde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492240" y="2144160"/>
              <a:ext cx="54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6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5562720" y="4876920"/>
            <a:ext cx="1447560" cy="5331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j:  R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19920" y="3657600"/>
            <a:ext cx="685800" cy="990720"/>
          </a:xfrm>
          <a:prstGeom prst="downArrow">
            <a:avLst>
              <a:gd name="adj1" fmla="val 50000"/>
              <a:gd name="adj2" fmla="val 3611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7543800" y="1839960"/>
            <a:ext cx="838080" cy="979200"/>
            <a:chOff x="7543800" y="1839960"/>
            <a:chExt cx="838080" cy="979200"/>
          </a:xfrm>
        </p:grpSpPr>
        <p:sp>
          <p:nvSpPr>
            <p:cNvPr id="475" name=""/>
            <p:cNvSpPr/>
            <p:nvPr/>
          </p:nvSpPr>
          <p:spPr>
            <a:xfrm>
              <a:off x="7543800" y="2361960"/>
              <a:ext cx="838080" cy="457200"/>
            </a:xfrm>
            <a:prstGeom prst="leftArrow">
              <a:avLst>
                <a:gd name="adj1" fmla="val 50000"/>
                <a:gd name="adj2" fmla="val 45827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880760" y="1839960"/>
              <a:ext cx="47196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57200" y="403848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dditional ac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use c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Last access (clo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estroy c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1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4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7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6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9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4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7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Revo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Revoke Access Righ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CL: modify en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Lock-Key: modify 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apabilities: difficult, distrib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acquisition   (cap = lim. lifet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back-pointer  (from object to ca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include bitpattern in cap. an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indirection (via central tab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4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9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4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9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2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5" dur="500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8" dur="500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1" dur="500"/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apability Based Syste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d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 defined access r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fined auxiliary r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ghts ampl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bridge CAP Syst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ata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ftware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al/Uns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anguage Based Prot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-level description of polic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ion and use of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 implement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for protection enforcement  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hardware-supported che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 protection specifica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 calls on whatever protection syste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provided by HW or 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1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6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9" dur="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2" dur="5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7" dur="500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0" dur="500"/>
                                        <p:tgtEl>
                                          <p:spTgt spid="4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tection in Java 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is handled by JV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la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tection domain (when loa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domai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operations the class can/cannot per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e library method (privileged operation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 Insp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revent intentional mis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nsure usage conform poli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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impact of bugs or misuse</a:t>
            </a: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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4724280"/>
            <a:ext cx="1371600" cy="1067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r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4343400"/>
            <a:ext cx="2209680" cy="1447920"/>
          </a:xfrm>
          <a:prstGeom prst="irregularSeal1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91" idx="3"/>
            <a:endCxn id="92" idx="1"/>
          </p:cNvCxnSpPr>
          <p:nvPr/>
        </p:nvCxnSpPr>
        <p:spPr>
          <a:xfrm flipV="1">
            <a:off x="2971440" y="4920480"/>
            <a:ext cx="2972520" cy="337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878360" y="5599080"/>
            <a:ext cx="228456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75" y="-24761"/>
                </a:moveTo>
                <a:lnTo>
                  <a:pt x="-721" y="5290"/>
                </a:lnTo>
              </a:path>
              <a:path w="21600" h="21600">
                <a:moveTo>
                  <a:pt x="-721" y="0"/>
                </a:moveTo>
                <a:lnTo>
                  <a:pt x="-721" y="2160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uthorized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21098400">
            <a:off x="350532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tection in Java 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rcRect l="765" t="24351" r="765" b="24321"/>
          <a:stretch/>
        </p:blipFill>
        <p:spPr>
          <a:xfrm>
            <a:off x="684360" y="1874880"/>
            <a:ext cx="7949880" cy="3108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88" name=""/>
          <p:cNvSpPr/>
          <p:nvPr/>
        </p:nvSpPr>
        <p:spPr>
          <a:xfrm>
            <a:off x="2700360" y="4704120"/>
            <a:ext cx="1150920" cy="459720"/>
          </a:xfrm>
          <a:prstGeom prst="rect">
            <a:avLst/>
          </a:prstGeom>
          <a:solidFill>
            <a:srgbClr val="11f2ed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00360" y="5188320"/>
            <a:ext cx="1150920" cy="459720"/>
          </a:xfrm>
          <a:prstGeom prst="rect">
            <a:avLst/>
          </a:prstGeom>
          <a:solidFill>
            <a:srgbClr val="00ff00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00360" y="5673960"/>
            <a:ext cx="1150920" cy="459720"/>
          </a:xfrm>
          <a:prstGeom prst="rect">
            <a:avLst/>
          </a:prstGeom>
          <a:solidFill>
            <a:srgbClr val="fafd00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380360" y="5242320"/>
            <a:ext cx="1150920" cy="459720"/>
          </a:xfrm>
          <a:prstGeom prst="rect">
            <a:avLst/>
          </a:prstGeom>
          <a:solidFill>
            <a:srgbClr val="11f2ed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380360" y="5729400"/>
            <a:ext cx="1150920" cy="459720"/>
          </a:xfrm>
          <a:prstGeom prst="rect">
            <a:avLst/>
          </a:prstGeom>
          <a:solidFill>
            <a:srgbClr val="b3b900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2556000" y="5805360"/>
            <a:ext cx="288720" cy="561600"/>
            <a:chOff x="2556000" y="5805360"/>
            <a:chExt cx="288720" cy="561600"/>
          </a:xfrm>
        </p:grpSpPr>
        <p:sp>
          <p:nvSpPr>
            <p:cNvPr id="494" name=""/>
            <p:cNvSpPr/>
            <p:nvPr/>
          </p:nvSpPr>
          <p:spPr>
            <a:xfrm>
              <a:off x="2680200" y="6039360"/>
              <a:ext cx="41040" cy="32760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2556000" y="5805360"/>
              <a:ext cx="288720" cy="257400"/>
              <a:chOff x="2556000" y="5805360"/>
              <a:chExt cx="288720" cy="257400"/>
            </a:xfrm>
          </p:grpSpPr>
          <p:sp>
            <p:nvSpPr>
              <p:cNvPr id="496" name=""/>
              <p:cNvSpPr/>
              <p:nvPr/>
            </p:nvSpPr>
            <p:spPr>
              <a:xfrm>
                <a:off x="2556000" y="5805360"/>
                <a:ext cx="288720" cy="25740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608200" y="5910480"/>
                <a:ext cx="183600" cy="46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8" name=""/>
          <p:cNvGrpSpPr/>
          <p:nvPr/>
        </p:nvGrpSpPr>
        <p:grpSpPr>
          <a:xfrm>
            <a:off x="180360" y="5229360"/>
            <a:ext cx="2784960" cy="433080"/>
            <a:chOff x="180360" y="5229360"/>
            <a:chExt cx="2784960" cy="433080"/>
          </a:xfrm>
        </p:grpSpPr>
        <p:sp>
          <p:nvSpPr>
            <p:cNvPr id="499" name=""/>
            <p:cNvSpPr/>
            <p:nvPr/>
          </p:nvSpPr>
          <p:spPr>
            <a:xfrm>
              <a:off x="180360" y="5294160"/>
              <a:ext cx="248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.lucent.com:80,con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2"/>
            <a:stretch/>
          </p:blipFill>
          <p:spPr>
            <a:xfrm>
              <a:off x="2604960" y="5229360"/>
              <a:ext cx="360360" cy="3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1" name=""/>
          <p:cNvGrpSpPr/>
          <p:nvPr/>
        </p:nvGrpSpPr>
        <p:grpSpPr>
          <a:xfrm>
            <a:off x="7236000" y="5805360"/>
            <a:ext cx="288720" cy="561600"/>
            <a:chOff x="7236000" y="5805360"/>
            <a:chExt cx="288720" cy="561600"/>
          </a:xfrm>
        </p:grpSpPr>
        <p:sp>
          <p:nvSpPr>
            <p:cNvPr id="502" name=""/>
            <p:cNvSpPr/>
            <p:nvPr/>
          </p:nvSpPr>
          <p:spPr>
            <a:xfrm>
              <a:off x="7360200" y="6039360"/>
              <a:ext cx="41040" cy="32760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7236000" y="5805360"/>
              <a:ext cx="288720" cy="257400"/>
              <a:chOff x="7236000" y="5805360"/>
              <a:chExt cx="288720" cy="257400"/>
            </a:xfrm>
          </p:grpSpPr>
          <p:sp>
            <p:nvSpPr>
              <p:cNvPr id="504" name=""/>
              <p:cNvSpPr/>
              <p:nvPr/>
            </p:nvSpPr>
            <p:spPr>
              <a:xfrm>
                <a:off x="7236000" y="5805360"/>
                <a:ext cx="288720" cy="25740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288200" y="5910480"/>
                <a:ext cx="183600" cy="46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6" name=""/>
          <p:cNvSpPr/>
          <p:nvPr/>
        </p:nvSpPr>
        <p:spPr>
          <a:xfrm>
            <a:off x="2340000" y="3789360"/>
            <a:ext cx="936720" cy="216000"/>
          </a:xfrm>
          <a:prstGeom prst="ellipse">
            <a:avLst/>
          </a:prstGeom>
          <a:noFill/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340000" y="4005360"/>
            <a:ext cx="936720" cy="215640"/>
          </a:xfrm>
          <a:prstGeom prst="ellipse">
            <a:avLst/>
          </a:prstGeom>
          <a:noFill/>
          <a:ln w="28440">
            <a:solidFill>
              <a:srgbClr val="b3b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753000" y="3944880"/>
            <a:ext cx="2232000" cy="287280"/>
          </a:xfrm>
          <a:prstGeom prst="ellipse">
            <a:avLst/>
          </a:prstGeom>
          <a:noFill/>
          <a:ln w="28440">
            <a:solidFill>
              <a:srgbClr val="00279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64000" y="3789360"/>
            <a:ext cx="1224000" cy="216000"/>
          </a:xfrm>
          <a:prstGeom prst="ellipse">
            <a:avLst/>
          </a:prstGeom>
          <a:noFill/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56360" y="3716280"/>
            <a:ext cx="2448000" cy="2890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19880" y="5136840"/>
            <a:ext cx="1688400" cy="1377720"/>
          </a:xfrm>
          <a:prstGeom prst="star5">
            <a:avLst/>
          </a:prstGeom>
          <a:solidFill>
            <a:srgbClr val="00ff00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724360" y="5445000"/>
            <a:ext cx="1440000" cy="936720"/>
          </a:xfrm>
          <a:prstGeom prst="star5">
            <a:avLst/>
          </a:prstGeom>
          <a:solidFill>
            <a:srgbClr val="ff3300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1115640" y="5661000"/>
            <a:ext cx="2879640" cy="0"/>
          </a:xfrm>
          <a:prstGeom prst="line">
            <a:avLst/>
          </a:prstGeom>
          <a:ln w="7632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1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. Secur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2057400"/>
            <a:ext cx="4114800" cy="2438280"/>
          </a:xfrm>
          <a:prstGeom prst="roundRect">
            <a:avLst>
              <a:gd name="adj" fmla="val 16667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rotection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(internal)</a:t>
            </a:r>
            <a:br>
              <a:rPr sz="32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= controlled access to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7200" y="525708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xternal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3200400" y="3886200"/>
            <a:ext cx="949320" cy="1816200"/>
          </a:xfrm>
          <a:prstGeom prst="rect">
            <a:avLst/>
          </a:prstGeom>
          <a:ln w="0">
            <a:noFill/>
          </a:ln>
        </p:spPr>
      </p:pic>
      <p:grpSp>
        <p:nvGrpSpPr>
          <p:cNvPr id="518" name=""/>
          <p:cNvGrpSpPr/>
          <p:nvPr/>
        </p:nvGrpSpPr>
        <p:grpSpPr>
          <a:xfrm>
            <a:off x="4724280" y="2590920"/>
            <a:ext cx="990360" cy="2565000"/>
            <a:chOff x="4724280" y="2590920"/>
            <a:chExt cx="990360" cy="2565000"/>
          </a:xfrm>
        </p:grpSpPr>
        <p:sp>
          <p:nvSpPr>
            <p:cNvPr id="519" name=""/>
            <p:cNvSpPr/>
            <p:nvPr/>
          </p:nvSpPr>
          <p:spPr>
            <a:xfrm>
              <a:off x="4826880" y="2590920"/>
              <a:ext cx="887760" cy="1334880"/>
            </a:xfrm>
            <a:custGeom>
              <a:avLst/>
              <a:gdLst/>
              <a:ahLst/>
              <a:rect l="l" t="t" r="r" b="b"/>
              <a:pathLst>
                <a:path w="2773" h="2824">
                  <a:moveTo>
                    <a:pt x="1314" y="2824"/>
                  </a:moveTo>
                  <a:lnTo>
                    <a:pt x="1205" y="2457"/>
                  </a:lnTo>
                  <a:lnTo>
                    <a:pt x="1205" y="2457"/>
                  </a:lnTo>
                  <a:lnTo>
                    <a:pt x="1204" y="2457"/>
                  </a:lnTo>
                  <a:lnTo>
                    <a:pt x="1204" y="2456"/>
                  </a:lnTo>
                  <a:lnTo>
                    <a:pt x="1203" y="2455"/>
                  </a:lnTo>
                  <a:lnTo>
                    <a:pt x="1193" y="2440"/>
                  </a:lnTo>
                  <a:lnTo>
                    <a:pt x="1182" y="2425"/>
                  </a:lnTo>
                  <a:lnTo>
                    <a:pt x="1171" y="2409"/>
                  </a:lnTo>
                  <a:lnTo>
                    <a:pt x="1160" y="2394"/>
                  </a:lnTo>
                  <a:lnTo>
                    <a:pt x="1149" y="2379"/>
                  </a:lnTo>
                  <a:lnTo>
                    <a:pt x="1138" y="2363"/>
                  </a:lnTo>
                  <a:lnTo>
                    <a:pt x="1127" y="2348"/>
                  </a:lnTo>
                  <a:lnTo>
                    <a:pt x="1115" y="2332"/>
                  </a:lnTo>
                  <a:lnTo>
                    <a:pt x="1104" y="2317"/>
                  </a:lnTo>
                  <a:lnTo>
                    <a:pt x="1093" y="2301"/>
                  </a:lnTo>
                  <a:lnTo>
                    <a:pt x="1082" y="2286"/>
                  </a:lnTo>
                  <a:lnTo>
                    <a:pt x="1070" y="2271"/>
                  </a:lnTo>
                  <a:lnTo>
                    <a:pt x="1060" y="2254"/>
                  </a:lnTo>
                  <a:lnTo>
                    <a:pt x="1049" y="2239"/>
                  </a:lnTo>
                  <a:lnTo>
                    <a:pt x="1038" y="2224"/>
                  </a:lnTo>
                  <a:lnTo>
                    <a:pt x="1028" y="2208"/>
                  </a:lnTo>
                  <a:lnTo>
                    <a:pt x="1018" y="2196"/>
                  </a:lnTo>
                  <a:lnTo>
                    <a:pt x="1010" y="2186"/>
                  </a:lnTo>
                  <a:lnTo>
                    <a:pt x="1001" y="2176"/>
                  </a:lnTo>
                  <a:lnTo>
                    <a:pt x="993" y="2166"/>
                  </a:lnTo>
                  <a:lnTo>
                    <a:pt x="985" y="2156"/>
                  </a:lnTo>
                  <a:lnTo>
                    <a:pt x="979" y="2144"/>
                  </a:lnTo>
                  <a:lnTo>
                    <a:pt x="974" y="2131"/>
                  </a:lnTo>
                  <a:lnTo>
                    <a:pt x="970" y="2118"/>
                  </a:lnTo>
                  <a:lnTo>
                    <a:pt x="970" y="2111"/>
                  </a:lnTo>
                  <a:lnTo>
                    <a:pt x="971" y="2103"/>
                  </a:lnTo>
                  <a:lnTo>
                    <a:pt x="974" y="2095"/>
                  </a:lnTo>
                  <a:lnTo>
                    <a:pt x="976" y="2086"/>
                  </a:lnTo>
                  <a:lnTo>
                    <a:pt x="971" y="2077"/>
                  </a:lnTo>
                  <a:lnTo>
                    <a:pt x="967" y="2069"/>
                  </a:lnTo>
                  <a:lnTo>
                    <a:pt x="962" y="2061"/>
                  </a:lnTo>
                  <a:lnTo>
                    <a:pt x="957" y="2053"/>
                  </a:lnTo>
                  <a:lnTo>
                    <a:pt x="952" y="2043"/>
                  </a:lnTo>
                  <a:lnTo>
                    <a:pt x="947" y="2035"/>
                  </a:lnTo>
                  <a:lnTo>
                    <a:pt x="942" y="2028"/>
                  </a:lnTo>
                  <a:lnTo>
                    <a:pt x="936" y="2020"/>
                  </a:lnTo>
                  <a:lnTo>
                    <a:pt x="928" y="2011"/>
                  </a:lnTo>
                  <a:lnTo>
                    <a:pt x="919" y="2004"/>
                  </a:lnTo>
                  <a:lnTo>
                    <a:pt x="908" y="1996"/>
                  </a:lnTo>
                  <a:lnTo>
                    <a:pt x="899" y="1988"/>
                  </a:lnTo>
                  <a:lnTo>
                    <a:pt x="889" y="1980"/>
                  </a:lnTo>
                  <a:lnTo>
                    <a:pt x="879" y="1972"/>
                  </a:lnTo>
                  <a:lnTo>
                    <a:pt x="869" y="1964"/>
                  </a:lnTo>
                  <a:lnTo>
                    <a:pt x="861" y="1955"/>
                  </a:lnTo>
                  <a:lnTo>
                    <a:pt x="856" y="1947"/>
                  </a:lnTo>
                  <a:lnTo>
                    <a:pt x="851" y="1938"/>
                  </a:lnTo>
                  <a:lnTo>
                    <a:pt x="846" y="1930"/>
                  </a:lnTo>
                  <a:lnTo>
                    <a:pt x="842" y="1921"/>
                  </a:lnTo>
                  <a:lnTo>
                    <a:pt x="838" y="1912"/>
                  </a:lnTo>
                  <a:lnTo>
                    <a:pt x="834" y="1903"/>
                  </a:lnTo>
                  <a:lnTo>
                    <a:pt x="830" y="1894"/>
                  </a:lnTo>
                  <a:lnTo>
                    <a:pt x="827" y="1884"/>
                  </a:lnTo>
                  <a:lnTo>
                    <a:pt x="823" y="1874"/>
                  </a:lnTo>
                  <a:lnTo>
                    <a:pt x="822" y="1867"/>
                  </a:lnTo>
                  <a:lnTo>
                    <a:pt x="818" y="1859"/>
                  </a:lnTo>
                  <a:lnTo>
                    <a:pt x="816" y="1849"/>
                  </a:lnTo>
                  <a:lnTo>
                    <a:pt x="816" y="1847"/>
                  </a:lnTo>
                  <a:lnTo>
                    <a:pt x="816" y="1844"/>
                  </a:lnTo>
                  <a:lnTo>
                    <a:pt x="817" y="1840"/>
                  </a:lnTo>
                  <a:lnTo>
                    <a:pt x="819" y="1836"/>
                  </a:lnTo>
                  <a:lnTo>
                    <a:pt x="822" y="1831"/>
                  </a:lnTo>
                  <a:lnTo>
                    <a:pt x="825" y="1827"/>
                  </a:lnTo>
                  <a:lnTo>
                    <a:pt x="828" y="1824"/>
                  </a:lnTo>
                  <a:lnTo>
                    <a:pt x="832" y="1822"/>
                  </a:lnTo>
                  <a:lnTo>
                    <a:pt x="830" y="1813"/>
                  </a:lnTo>
                  <a:lnTo>
                    <a:pt x="830" y="1803"/>
                  </a:lnTo>
                  <a:lnTo>
                    <a:pt x="830" y="1794"/>
                  </a:lnTo>
                  <a:lnTo>
                    <a:pt x="830" y="1789"/>
                  </a:lnTo>
                  <a:lnTo>
                    <a:pt x="833" y="1782"/>
                  </a:lnTo>
                  <a:lnTo>
                    <a:pt x="836" y="1776"/>
                  </a:lnTo>
                  <a:lnTo>
                    <a:pt x="839" y="1772"/>
                  </a:lnTo>
                  <a:lnTo>
                    <a:pt x="843" y="1769"/>
                  </a:lnTo>
                  <a:lnTo>
                    <a:pt x="845" y="1768"/>
                  </a:lnTo>
                  <a:lnTo>
                    <a:pt x="848" y="1769"/>
                  </a:lnTo>
                  <a:lnTo>
                    <a:pt x="851" y="1771"/>
                  </a:lnTo>
                  <a:lnTo>
                    <a:pt x="855" y="1772"/>
                  </a:lnTo>
                  <a:lnTo>
                    <a:pt x="854" y="1766"/>
                  </a:lnTo>
                  <a:lnTo>
                    <a:pt x="854" y="1760"/>
                  </a:lnTo>
                  <a:lnTo>
                    <a:pt x="853" y="1753"/>
                  </a:lnTo>
                  <a:lnTo>
                    <a:pt x="854" y="1748"/>
                  </a:lnTo>
                  <a:lnTo>
                    <a:pt x="855" y="1745"/>
                  </a:lnTo>
                  <a:lnTo>
                    <a:pt x="856" y="1742"/>
                  </a:lnTo>
                  <a:lnTo>
                    <a:pt x="858" y="1740"/>
                  </a:lnTo>
                  <a:lnTo>
                    <a:pt x="860" y="1738"/>
                  </a:lnTo>
                  <a:lnTo>
                    <a:pt x="863" y="1737"/>
                  </a:lnTo>
                  <a:lnTo>
                    <a:pt x="865" y="1735"/>
                  </a:lnTo>
                  <a:lnTo>
                    <a:pt x="867" y="1733"/>
                  </a:lnTo>
                  <a:lnTo>
                    <a:pt x="870" y="1732"/>
                  </a:lnTo>
                  <a:lnTo>
                    <a:pt x="872" y="1731"/>
                  </a:lnTo>
                  <a:lnTo>
                    <a:pt x="875" y="1731"/>
                  </a:lnTo>
                  <a:lnTo>
                    <a:pt x="877" y="1731"/>
                  </a:lnTo>
                  <a:lnTo>
                    <a:pt x="879" y="1732"/>
                  </a:lnTo>
                  <a:lnTo>
                    <a:pt x="882" y="1733"/>
                  </a:lnTo>
                  <a:lnTo>
                    <a:pt x="885" y="1734"/>
                  </a:lnTo>
                  <a:lnTo>
                    <a:pt x="888" y="1734"/>
                  </a:lnTo>
                  <a:lnTo>
                    <a:pt x="890" y="1734"/>
                  </a:lnTo>
                  <a:lnTo>
                    <a:pt x="888" y="1729"/>
                  </a:lnTo>
                  <a:lnTo>
                    <a:pt x="887" y="1722"/>
                  </a:lnTo>
                  <a:lnTo>
                    <a:pt x="886" y="1717"/>
                  </a:lnTo>
                  <a:lnTo>
                    <a:pt x="885" y="1710"/>
                  </a:lnTo>
                  <a:lnTo>
                    <a:pt x="885" y="1706"/>
                  </a:lnTo>
                  <a:lnTo>
                    <a:pt x="885" y="1702"/>
                  </a:lnTo>
                  <a:lnTo>
                    <a:pt x="887" y="1698"/>
                  </a:lnTo>
                  <a:lnTo>
                    <a:pt x="888" y="1695"/>
                  </a:lnTo>
                  <a:lnTo>
                    <a:pt x="890" y="1692"/>
                  </a:lnTo>
                  <a:lnTo>
                    <a:pt x="893" y="1690"/>
                  </a:lnTo>
                  <a:lnTo>
                    <a:pt x="896" y="1689"/>
                  </a:lnTo>
                  <a:lnTo>
                    <a:pt x="900" y="1688"/>
                  </a:lnTo>
                  <a:lnTo>
                    <a:pt x="0" y="25"/>
                  </a:lnTo>
                  <a:lnTo>
                    <a:pt x="48" y="0"/>
                  </a:lnTo>
                  <a:lnTo>
                    <a:pt x="975" y="1712"/>
                  </a:lnTo>
                  <a:lnTo>
                    <a:pt x="978" y="1713"/>
                  </a:lnTo>
                  <a:lnTo>
                    <a:pt x="981" y="1714"/>
                  </a:lnTo>
                  <a:lnTo>
                    <a:pt x="984" y="1716"/>
                  </a:lnTo>
                  <a:lnTo>
                    <a:pt x="985" y="1717"/>
                  </a:lnTo>
                  <a:lnTo>
                    <a:pt x="990" y="1718"/>
                  </a:lnTo>
                  <a:lnTo>
                    <a:pt x="994" y="1721"/>
                  </a:lnTo>
                  <a:lnTo>
                    <a:pt x="997" y="1723"/>
                  </a:lnTo>
                  <a:lnTo>
                    <a:pt x="1001" y="1727"/>
                  </a:lnTo>
                  <a:lnTo>
                    <a:pt x="1004" y="1731"/>
                  </a:lnTo>
                  <a:lnTo>
                    <a:pt x="1006" y="1734"/>
                  </a:lnTo>
                  <a:lnTo>
                    <a:pt x="1010" y="1738"/>
                  </a:lnTo>
                  <a:lnTo>
                    <a:pt x="1013" y="1740"/>
                  </a:lnTo>
                  <a:lnTo>
                    <a:pt x="1021" y="1749"/>
                  </a:lnTo>
                  <a:lnTo>
                    <a:pt x="1028" y="1757"/>
                  </a:lnTo>
                  <a:lnTo>
                    <a:pt x="1033" y="1763"/>
                  </a:lnTo>
                  <a:lnTo>
                    <a:pt x="1038" y="1769"/>
                  </a:lnTo>
                  <a:lnTo>
                    <a:pt x="1042" y="1775"/>
                  </a:lnTo>
                  <a:lnTo>
                    <a:pt x="1046" y="1784"/>
                  </a:lnTo>
                  <a:lnTo>
                    <a:pt x="1051" y="1792"/>
                  </a:lnTo>
                  <a:lnTo>
                    <a:pt x="1058" y="1802"/>
                  </a:lnTo>
                  <a:lnTo>
                    <a:pt x="1063" y="1814"/>
                  </a:lnTo>
                  <a:lnTo>
                    <a:pt x="1066" y="1827"/>
                  </a:lnTo>
                  <a:lnTo>
                    <a:pt x="1067" y="1841"/>
                  </a:lnTo>
                  <a:lnTo>
                    <a:pt x="1068" y="1854"/>
                  </a:lnTo>
                  <a:lnTo>
                    <a:pt x="1068" y="1869"/>
                  </a:lnTo>
                  <a:lnTo>
                    <a:pt x="1068" y="1883"/>
                  </a:lnTo>
                  <a:lnTo>
                    <a:pt x="1068" y="1898"/>
                  </a:lnTo>
                  <a:lnTo>
                    <a:pt x="1068" y="1912"/>
                  </a:lnTo>
                  <a:lnTo>
                    <a:pt x="1068" y="1921"/>
                  </a:lnTo>
                  <a:lnTo>
                    <a:pt x="1070" y="1930"/>
                  </a:lnTo>
                  <a:lnTo>
                    <a:pt x="1071" y="1938"/>
                  </a:lnTo>
                  <a:lnTo>
                    <a:pt x="1073" y="1948"/>
                  </a:lnTo>
                  <a:lnTo>
                    <a:pt x="1076" y="1956"/>
                  </a:lnTo>
                  <a:lnTo>
                    <a:pt x="1079" y="1964"/>
                  </a:lnTo>
                  <a:lnTo>
                    <a:pt x="1082" y="1972"/>
                  </a:lnTo>
                  <a:lnTo>
                    <a:pt x="1085" y="1980"/>
                  </a:lnTo>
                  <a:lnTo>
                    <a:pt x="1087" y="1984"/>
                  </a:lnTo>
                  <a:lnTo>
                    <a:pt x="1088" y="1988"/>
                  </a:lnTo>
                  <a:lnTo>
                    <a:pt x="1090" y="1991"/>
                  </a:lnTo>
                  <a:lnTo>
                    <a:pt x="1091" y="1996"/>
                  </a:lnTo>
                  <a:lnTo>
                    <a:pt x="1096" y="1996"/>
                  </a:lnTo>
                  <a:lnTo>
                    <a:pt x="1100" y="1996"/>
                  </a:lnTo>
                  <a:lnTo>
                    <a:pt x="1105" y="1996"/>
                  </a:lnTo>
                  <a:lnTo>
                    <a:pt x="1109" y="1997"/>
                  </a:lnTo>
                  <a:lnTo>
                    <a:pt x="1114" y="1999"/>
                  </a:lnTo>
                  <a:lnTo>
                    <a:pt x="1118" y="2001"/>
                  </a:lnTo>
                  <a:lnTo>
                    <a:pt x="1122" y="2003"/>
                  </a:lnTo>
                  <a:lnTo>
                    <a:pt x="1126" y="2006"/>
                  </a:lnTo>
                  <a:lnTo>
                    <a:pt x="1132" y="2014"/>
                  </a:lnTo>
                  <a:lnTo>
                    <a:pt x="1137" y="2022"/>
                  </a:lnTo>
                  <a:lnTo>
                    <a:pt x="1142" y="2030"/>
                  </a:lnTo>
                  <a:lnTo>
                    <a:pt x="1146" y="2038"/>
                  </a:lnTo>
                  <a:lnTo>
                    <a:pt x="1150" y="2046"/>
                  </a:lnTo>
                  <a:lnTo>
                    <a:pt x="1153" y="2056"/>
                  </a:lnTo>
                  <a:lnTo>
                    <a:pt x="1157" y="2065"/>
                  </a:lnTo>
                  <a:lnTo>
                    <a:pt x="1161" y="2074"/>
                  </a:lnTo>
                  <a:lnTo>
                    <a:pt x="1166" y="2075"/>
                  </a:lnTo>
                  <a:lnTo>
                    <a:pt x="1171" y="2076"/>
                  </a:lnTo>
                  <a:lnTo>
                    <a:pt x="1178" y="2077"/>
                  </a:lnTo>
                  <a:lnTo>
                    <a:pt x="1184" y="2077"/>
                  </a:lnTo>
                  <a:lnTo>
                    <a:pt x="1189" y="2079"/>
                  </a:lnTo>
                  <a:lnTo>
                    <a:pt x="1194" y="2080"/>
                  </a:lnTo>
                  <a:lnTo>
                    <a:pt x="1199" y="2082"/>
                  </a:lnTo>
                  <a:lnTo>
                    <a:pt x="1203" y="2085"/>
                  </a:lnTo>
                  <a:lnTo>
                    <a:pt x="1212" y="2093"/>
                  </a:lnTo>
                  <a:lnTo>
                    <a:pt x="1222" y="2104"/>
                  </a:lnTo>
                  <a:lnTo>
                    <a:pt x="1232" y="2114"/>
                  </a:lnTo>
                  <a:lnTo>
                    <a:pt x="1241" y="2124"/>
                  </a:lnTo>
                  <a:lnTo>
                    <a:pt x="1249" y="2134"/>
                  </a:lnTo>
                  <a:lnTo>
                    <a:pt x="1258" y="2144"/>
                  </a:lnTo>
                  <a:lnTo>
                    <a:pt x="1267" y="2153"/>
                  </a:lnTo>
                  <a:lnTo>
                    <a:pt x="1275" y="2164"/>
                  </a:lnTo>
                  <a:lnTo>
                    <a:pt x="1285" y="2171"/>
                  </a:lnTo>
                  <a:lnTo>
                    <a:pt x="1294" y="2179"/>
                  </a:lnTo>
                  <a:lnTo>
                    <a:pt x="1303" y="2186"/>
                  </a:lnTo>
                  <a:lnTo>
                    <a:pt x="1312" y="2194"/>
                  </a:lnTo>
                  <a:lnTo>
                    <a:pt x="1321" y="2201"/>
                  </a:lnTo>
                  <a:lnTo>
                    <a:pt x="1331" y="2209"/>
                  </a:lnTo>
                  <a:lnTo>
                    <a:pt x="1341" y="2216"/>
                  </a:lnTo>
                  <a:lnTo>
                    <a:pt x="1350" y="2223"/>
                  </a:lnTo>
                  <a:lnTo>
                    <a:pt x="1359" y="2230"/>
                  </a:lnTo>
                  <a:lnTo>
                    <a:pt x="1368" y="2238"/>
                  </a:lnTo>
                  <a:lnTo>
                    <a:pt x="1379" y="2245"/>
                  </a:lnTo>
                  <a:lnTo>
                    <a:pt x="1388" y="2252"/>
                  </a:lnTo>
                  <a:lnTo>
                    <a:pt x="1397" y="2261"/>
                  </a:lnTo>
                  <a:lnTo>
                    <a:pt x="1406" y="2269"/>
                  </a:lnTo>
                  <a:lnTo>
                    <a:pt x="1414" y="2276"/>
                  </a:lnTo>
                  <a:lnTo>
                    <a:pt x="1422" y="2284"/>
                  </a:lnTo>
                  <a:lnTo>
                    <a:pt x="1430" y="2291"/>
                  </a:lnTo>
                  <a:lnTo>
                    <a:pt x="1436" y="2298"/>
                  </a:lnTo>
                  <a:lnTo>
                    <a:pt x="1442" y="2305"/>
                  </a:lnTo>
                  <a:lnTo>
                    <a:pt x="1448" y="2312"/>
                  </a:lnTo>
                  <a:lnTo>
                    <a:pt x="1454" y="2320"/>
                  </a:lnTo>
                  <a:lnTo>
                    <a:pt x="1460" y="2327"/>
                  </a:lnTo>
                  <a:lnTo>
                    <a:pt x="1465" y="2335"/>
                  </a:lnTo>
                  <a:lnTo>
                    <a:pt x="1471" y="2342"/>
                  </a:lnTo>
                  <a:lnTo>
                    <a:pt x="1477" y="2349"/>
                  </a:lnTo>
                  <a:lnTo>
                    <a:pt x="1483" y="2357"/>
                  </a:lnTo>
                  <a:lnTo>
                    <a:pt x="1489" y="2364"/>
                  </a:lnTo>
                  <a:lnTo>
                    <a:pt x="1494" y="2372"/>
                  </a:lnTo>
                  <a:lnTo>
                    <a:pt x="1500" y="2380"/>
                  </a:lnTo>
                  <a:lnTo>
                    <a:pt x="1505" y="2387"/>
                  </a:lnTo>
                  <a:lnTo>
                    <a:pt x="1510" y="2394"/>
                  </a:lnTo>
                  <a:lnTo>
                    <a:pt x="1516" y="2402"/>
                  </a:lnTo>
                  <a:lnTo>
                    <a:pt x="1527" y="2406"/>
                  </a:lnTo>
                  <a:lnTo>
                    <a:pt x="1538" y="2411"/>
                  </a:lnTo>
                  <a:lnTo>
                    <a:pt x="1549" y="2415"/>
                  </a:lnTo>
                  <a:lnTo>
                    <a:pt x="1559" y="2421"/>
                  </a:lnTo>
                  <a:lnTo>
                    <a:pt x="1570" y="2426"/>
                  </a:lnTo>
                  <a:lnTo>
                    <a:pt x="1580" y="2431"/>
                  </a:lnTo>
                  <a:lnTo>
                    <a:pt x="1591" y="2436"/>
                  </a:lnTo>
                  <a:lnTo>
                    <a:pt x="1602" y="2440"/>
                  </a:lnTo>
                  <a:lnTo>
                    <a:pt x="1612" y="2445"/>
                  </a:lnTo>
                  <a:lnTo>
                    <a:pt x="1623" y="2450"/>
                  </a:lnTo>
                  <a:lnTo>
                    <a:pt x="1634" y="2454"/>
                  </a:lnTo>
                  <a:lnTo>
                    <a:pt x="1645" y="2458"/>
                  </a:lnTo>
                  <a:lnTo>
                    <a:pt x="1655" y="2463"/>
                  </a:lnTo>
                  <a:lnTo>
                    <a:pt x="1666" y="2467"/>
                  </a:lnTo>
                  <a:lnTo>
                    <a:pt x="1676" y="2470"/>
                  </a:lnTo>
                  <a:lnTo>
                    <a:pt x="1688" y="2475"/>
                  </a:lnTo>
                  <a:lnTo>
                    <a:pt x="1698" y="2478"/>
                  </a:lnTo>
                  <a:lnTo>
                    <a:pt x="1707" y="2481"/>
                  </a:lnTo>
                  <a:lnTo>
                    <a:pt x="1717" y="2484"/>
                  </a:lnTo>
                  <a:lnTo>
                    <a:pt x="1727" y="2487"/>
                  </a:lnTo>
                  <a:lnTo>
                    <a:pt x="1738" y="2489"/>
                  </a:lnTo>
                  <a:lnTo>
                    <a:pt x="1748" y="2492"/>
                  </a:lnTo>
                  <a:lnTo>
                    <a:pt x="1758" y="2494"/>
                  </a:lnTo>
                  <a:lnTo>
                    <a:pt x="1768" y="2496"/>
                  </a:lnTo>
                  <a:lnTo>
                    <a:pt x="1779" y="2498"/>
                  </a:lnTo>
                  <a:lnTo>
                    <a:pt x="1790" y="2500"/>
                  </a:lnTo>
                  <a:lnTo>
                    <a:pt x="1800" y="2502"/>
                  </a:lnTo>
                  <a:lnTo>
                    <a:pt x="1810" y="2504"/>
                  </a:lnTo>
                  <a:lnTo>
                    <a:pt x="1821" y="2506"/>
                  </a:lnTo>
                  <a:lnTo>
                    <a:pt x="1831" y="2507"/>
                  </a:lnTo>
                  <a:lnTo>
                    <a:pt x="1842" y="2509"/>
                  </a:lnTo>
                  <a:lnTo>
                    <a:pt x="1852" y="2510"/>
                  </a:lnTo>
                  <a:lnTo>
                    <a:pt x="1855" y="2511"/>
                  </a:lnTo>
                  <a:lnTo>
                    <a:pt x="1860" y="2511"/>
                  </a:lnTo>
                  <a:lnTo>
                    <a:pt x="1865" y="2511"/>
                  </a:lnTo>
                  <a:lnTo>
                    <a:pt x="1869" y="2512"/>
                  </a:lnTo>
                  <a:lnTo>
                    <a:pt x="1874" y="2512"/>
                  </a:lnTo>
                  <a:lnTo>
                    <a:pt x="1879" y="2512"/>
                  </a:lnTo>
                  <a:lnTo>
                    <a:pt x="1885" y="2513"/>
                  </a:lnTo>
                  <a:lnTo>
                    <a:pt x="1891" y="2513"/>
                  </a:lnTo>
                  <a:lnTo>
                    <a:pt x="1897" y="2513"/>
                  </a:lnTo>
                  <a:lnTo>
                    <a:pt x="1902" y="2514"/>
                  </a:lnTo>
                  <a:lnTo>
                    <a:pt x="1907" y="2514"/>
                  </a:lnTo>
                  <a:lnTo>
                    <a:pt x="1912" y="2515"/>
                  </a:lnTo>
                  <a:lnTo>
                    <a:pt x="1917" y="2515"/>
                  </a:lnTo>
                  <a:lnTo>
                    <a:pt x="1921" y="2515"/>
                  </a:lnTo>
                  <a:lnTo>
                    <a:pt x="1926" y="2515"/>
                  </a:lnTo>
                  <a:lnTo>
                    <a:pt x="1930" y="2516"/>
                  </a:lnTo>
                  <a:lnTo>
                    <a:pt x="1940" y="2517"/>
                  </a:lnTo>
                  <a:lnTo>
                    <a:pt x="1949" y="2517"/>
                  </a:lnTo>
                  <a:lnTo>
                    <a:pt x="1956" y="2518"/>
                  </a:lnTo>
                  <a:lnTo>
                    <a:pt x="1963" y="2518"/>
                  </a:lnTo>
                  <a:lnTo>
                    <a:pt x="1970" y="2519"/>
                  </a:lnTo>
                  <a:lnTo>
                    <a:pt x="1977" y="2520"/>
                  </a:lnTo>
                  <a:lnTo>
                    <a:pt x="1984" y="2522"/>
                  </a:lnTo>
                  <a:lnTo>
                    <a:pt x="1995" y="2524"/>
                  </a:lnTo>
                  <a:lnTo>
                    <a:pt x="2002" y="2521"/>
                  </a:lnTo>
                  <a:lnTo>
                    <a:pt x="2009" y="2517"/>
                  </a:lnTo>
                  <a:lnTo>
                    <a:pt x="2017" y="2513"/>
                  </a:lnTo>
                  <a:lnTo>
                    <a:pt x="2024" y="2510"/>
                  </a:lnTo>
                  <a:lnTo>
                    <a:pt x="2031" y="2506"/>
                  </a:lnTo>
                  <a:lnTo>
                    <a:pt x="2040" y="2503"/>
                  </a:lnTo>
                  <a:lnTo>
                    <a:pt x="2047" y="2501"/>
                  </a:lnTo>
                  <a:lnTo>
                    <a:pt x="2055" y="2500"/>
                  </a:lnTo>
                  <a:lnTo>
                    <a:pt x="2061" y="2500"/>
                  </a:lnTo>
                  <a:lnTo>
                    <a:pt x="2067" y="2500"/>
                  </a:lnTo>
                  <a:lnTo>
                    <a:pt x="2072" y="2499"/>
                  </a:lnTo>
                  <a:lnTo>
                    <a:pt x="2078" y="2499"/>
                  </a:lnTo>
                  <a:lnTo>
                    <a:pt x="2084" y="2500"/>
                  </a:lnTo>
                  <a:lnTo>
                    <a:pt x="2091" y="2500"/>
                  </a:lnTo>
                  <a:lnTo>
                    <a:pt x="2096" y="2500"/>
                  </a:lnTo>
                  <a:lnTo>
                    <a:pt x="2102" y="2501"/>
                  </a:lnTo>
                  <a:lnTo>
                    <a:pt x="2108" y="2501"/>
                  </a:lnTo>
                  <a:lnTo>
                    <a:pt x="2114" y="2502"/>
                  </a:lnTo>
                  <a:lnTo>
                    <a:pt x="2119" y="2504"/>
                  </a:lnTo>
                  <a:lnTo>
                    <a:pt x="2125" y="2505"/>
                  </a:lnTo>
                  <a:lnTo>
                    <a:pt x="2130" y="2506"/>
                  </a:lnTo>
                  <a:lnTo>
                    <a:pt x="2136" y="2508"/>
                  </a:lnTo>
                  <a:lnTo>
                    <a:pt x="2142" y="2510"/>
                  </a:lnTo>
                  <a:lnTo>
                    <a:pt x="2147" y="2512"/>
                  </a:lnTo>
                  <a:lnTo>
                    <a:pt x="2149" y="2513"/>
                  </a:lnTo>
                  <a:lnTo>
                    <a:pt x="2151" y="2514"/>
                  </a:lnTo>
                  <a:lnTo>
                    <a:pt x="2153" y="2516"/>
                  </a:lnTo>
                  <a:lnTo>
                    <a:pt x="2156" y="2517"/>
                  </a:lnTo>
                  <a:lnTo>
                    <a:pt x="2158" y="2519"/>
                  </a:lnTo>
                  <a:lnTo>
                    <a:pt x="2160" y="2520"/>
                  </a:lnTo>
                  <a:lnTo>
                    <a:pt x="2162" y="2522"/>
                  </a:lnTo>
                  <a:lnTo>
                    <a:pt x="2164" y="2523"/>
                  </a:lnTo>
                  <a:lnTo>
                    <a:pt x="2168" y="2522"/>
                  </a:lnTo>
                  <a:lnTo>
                    <a:pt x="2171" y="2520"/>
                  </a:lnTo>
                  <a:lnTo>
                    <a:pt x="2174" y="2518"/>
                  </a:lnTo>
                  <a:lnTo>
                    <a:pt x="2178" y="2516"/>
                  </a:lnTo>
                  <a:lnTo>
                    <a:pt x="2180" y="2514"/>
                  </a:lnTo>
                  <a:lnTo>
                    <a:pt x="2183" y="2512"/>
                  </a:lnTo>
                  <a:lnTo>
                    <a:pt x="2186" y="2510"/>
                  </a:lnTo>
                  <a:lnTo>
                    <a:pt x="2187" y="2507"/>
                  </a:lnTo>
                  <a:lnTo>
                    <a:pt x="2189" y="2498"/>
                  </a:lnTo>
                  <a:lnTo>
                    <a:pt x="2188" y="2490"/>
                  </a:lnTo>
                  <a:lnTo>
                    <a:pt x="2185" y="2481"/>
                  </a:lnTo>
                  <a:lnTo>
                    <a:pt x="2181" y="2472"/>
                  </a:lnTo>
                  <a:lnTo>
                    <a:pt x="2177" y="2467"/>
                  </a:lnTo>
                  <a:lnTo>
                    <a:pt x="2173" y="2461"/>
                  </a:lnTo>
                  <a:lnTo>
                    <a:pt x="2169" y="2456"/>
                  </a:lnTo>
                  <a:lnTo>
                    <a:pt x="2164" y="2451"/>
                  </a:lnTo>
                  <a:lnTo>
                    <a:pt x="2159" y="2446"/>
                  </a:lnTo>
                  <a:lnTo>
                    <a:pt x="2154" y="2441"/>
                  </a:lnTo>
                  <a:lnTo>
                    <a:pt x="2149" y="2436"/>
                  </a:lnTo>
                  <a:lnTo>
                    <a:pt x="2144" y="2432"/>
                  </a:lnTo>
                  <a:lnTo>
                    <a:pt x="2137" y="2428"/>
                  </a:lnTo>
                  <a:lnTo>
                    <a:pt x="2132" y="2425"/>
                  </a:lnTo>
                  <a:lnTo>
                    <a:pt x="2126" y="2423"/>
                  </a:lnTo>
                  <a:lnTo>
                    <a:pt x="2120" y="2419"/>
                  </a:lnTo>
                  <a:lnTo>
                    <a:pt x="2114" y="2416"/>
                  </a:lnTo>
                  <a:lnTo>
                    <a:pt x="2108" y="2413"/>
                  </a:lnTo>
                  <a:lnTo>
                    <a:pt x="2102" y="2411"/>
                  </a:lnTo>
                  <a:lnTo>
                    <a:pt x="2097" y="2407"/>
                  </a:lnTo>
                  <a:lnTo>
                    <a:pt x="2094" y="2405"/>
                  </a:lnTo>
                  <a:lnTo>
                    <a:pt x="2090" y="2403"/>
                  </a:lnTo>
                  <a:lnTo>
                    <a:pt x="2086" y="2401"/>
                  </a:lnTo>
                  <a:lnTo>
                    <a:pt x="2082" y="2398"/>
                  </a:lnTo>
                  <a:lnTo>
                    <a:pt x="2080" y="2396"/>
                  </a:lnTo>
                  <a:lnTo>
                    <a:pt x="2077" y="2393"/>
                  </a:lnTo>
                  <a:lnTo>
                    <a:pt x="2075" y="2390"/>
                  </a:lnTo>
                  <a:lnTo>
                    <a:pt x="2073" y="2387"/>
                  </a:lnTo>
                  <a:lnTo>
                    <a:pt x="2069" y="2377"/>
                  </a:lnTo>
                  <a:lnTo>
                    <a:pt x="2067" y="2364"/>
                  </a:lnTo>
                  <a:lnTo>
                    <a:pt x="2067" y="2353"/>
                  </a:lnTo>
                  <a:lnTo>
                    <a:pt x="2070" y="2343"/>
                  </a:lnTo>
                  <a:lnTo>
                    <a:pt x="2072" y="2339"/>
                  </a:lnTo>
                  <a:lnTo>
                    <a:pt x="2076" y="2336"/>
                  </a:lnTo>
                  <a:lnTo>
                    <a:pt x="2081" y="2333"/>
                  </a:lnTo>
                  <a:lnTo>
                    <a:pt x="2086" y="2330"/>
                  </a:lnTo>
                  <a:lnTo>
                    <a:pt x="2092" y="2327"/>
                  </a:lnTo>
                  <a:lnTo>
                    <a:pt x="2096" y="2324"/>
                  </a:lnTo>
                  <a:lnTo>
                    <a:pt x="2100" y="2321"/>
                  </a:lnTo>
                  <a:lnTo>
                    <a:pt x="2103" y="2316"/>
                  </a:lnTo>
                  <a:lnTo>
                    <a:pt x="2104" y="2312"/>
                  </a:lnTo>
                  <a:lnTo>
                    <a:pt x="2103" y="2308"/>
                  </a:lnTo>
                  <a:lnTo>
                    <a:pt x="2102" y="2304"/>
                  </a:lnTo>
                  <a:lnTo>
                    <a:pt x="2099" y="2301"/>
                  </a:lnTo>
                  <a:lnTo>
                    <a:pt x="2097" y="2297"/>
                  </a:lnTo>
                  <a:lnTo>
                    <a:pt x="2095" y="2294"/>
                  </a:lnTo>
                  <a:lnTo>
                    <a:pt x="2094" y="2290"/>
                  </a:lnTo>
                  <a:lnTo>
                    <a:pt x="2095" y="2286"/>
                  </a:lnTo>
                  <a:lnTo>
                    <a:pt x="2096" y="2284"/>
                  </a:lnTo>
                  <a:lnTo>
                    <a:pt x="2098" y="2282"/>
                  </a:lnTo>
                  <a:lnTo>
                    <a:pt x="2101" y="2281"/>
                  </a:lnTo>
                  <a:lnTo>
                    <a:pt x="2104" y="2279"/>
                  </a:lnTo>
                  <a:lnTo>
                    <a:pt x="2106" y="2278"/>
                  </a:lnTo>
                  <a:lnTo>
                    <a:pt x="2110" y="2277"/>
                  </a:lnTo>
                  <a:lnTo>
                    <a:pt x="2113" y="2276"/>
                  </a:lnTo>
                  <a:lnTo>
                    <a:pt x="2115" y="2275"/>
                  </a:lnTo>
                  <a:lnTo>
                    <a:pt x="2114" y="2270"/>
                  </a:lnTo>
                  <a:lnTo>
                    <a:pt x="2112" y="2265"/>
                  </a:lnTo>
                  <a:lnTo>
                    <a:pt x="2110" y="2259"/>
                  </a:lnTo>
                  <a:lnTo>
                    <a:pt x="2109" y="2253"/>
                  </a:lnTo>
                  <a:lnTo>
                    <a:pt x="2114" y="2248"/>
                  </a:lnTo>
                  <a:lnTo>
                    <a:pt x="2118" y="2242"/>
                  </a:lnTo>
                  <a:lnTo>
                    <a:pt x="2123" y="2237"/>
                  </a:lnTo>
                  <a:lnTo>
                    <a:pt x="2127" y="2231"/>
                  </a:lnTo>
                  <a:lnTo>
                    <a:pt x="2132" y="2226"/>
                  </a:lnTo>
                  <a:lnTo>
                    <a:pt x="2137" y="2221"/>
                  </a:lnTo>
                  <a:lnTo>
                    <a:pt x="2142" y="2215"/>
                  </a:lnTo>
                  <a:lnTo>
                    <a:pt x="2147" y="2210"/>
                  </a:lnTo>
                  <a:lnTo>
                    <a:pt x="2143" y="2204"/>
                  </a:lnTo>
                  <a:lnTo>
                    <a:pt x="2137" y="2199"/>
                  </a:lnTo>
                  <a:lnTo>
                    <a:pt x="2133" y="2195"/>
                  </a:lnTo>
                  <a:lnTo>
                    <a:pt x="2128" y="2189"/>
                  </a:lnTo>
                  <a:lnTo>
                    <a:pt x="2125" y="2185"/>
                  </a:lnTo>
                  <a:lnTo>
                    <a:pt x="2121" y="2180"/>
                  </a:lnTo>
                  <a:lnTo>
                    <a:pt x="2118" y="2174"/>
                  </a:lnTo>
                  <a:lnTo>
                    <a:pt x="2117" y="2169"/>
                  </a:lnTo>
                  <a:lnTo>
                    <a:pt x="2118" y="2164"/>
                  </a:lnTo>
                  <a:lnTo>
                    <a:pt x="2120" y="2161"/>
                  </a:lnTo>
                  <a:lnTo>
                    <a:pt x="2123" y="2157"/>
                  </a:lnTo>
                  <a:lnTo>
                    <a:pt x="2126" y="2153"/>
                  </a:lnTo>
                  <a:lnTo>
                    <a:pt x="2130" y="2151"/>
                  </a:lnTo>
                  <a:lnTo>
                    <a:pt x="2135" y="2148"/>
                  </a:lnTo>
                  <a:lnTo>
                    <a:pt x="2138" y="2145"/>
                  </a:lnTo>
                  <a:lnTo>
                    <a:pt x="2143" y="2143"/>
                  </a:lnTo>
                  <a:lnTo>
                    <a:pt x="2150" y="2138"/>
                  </a:lnTo>
                  <a:lnTo>
                    <a:pt x="2158" y="2134"/>
                  </a:lnTo>
                  <a:lnTo>
                    <a:pt x="2166" y="2130"/>
                  </a:lnTo>
                  <a:lnTo>
                    <a:pt x="2173" y="2125"/>
                  </a:lnTo>
                  <a:lnTo>
                    <a:pt x="2181" y="2121"/>
                  </a:lnTo>
                  <a:lnTo>
                    <a:pt x="2189" y="2117"/>
                  </a:lnTo>
                  <a:lnTo>
                    <a:pt x="2197" y="2112"/>
                  </a:lnTo>
                  <a:lnTo>
                    <a:pt x="2204" y="2107"/>
                  </a:lnTo>
                  <a:lnTo>
                    <a:pt x="2207" y="2105"/>
                  </a:lnTo>
                  <a:lnTo>
                    <a:pt x="2210" y="2102"/>
                  </a:lnTo>
                  <a:lnTo>
                    <a:pt x="2212" y="2098"/>
                  </a:lnTo>
                  <a:lnTo>
                    <a:pt x="2214" y="2096"/>
                  </a:lnTo>
                  <a:lnTo>
                    <a:pt x="2216" y="2092"/>
                  </a:lnTo>
                  <a:lnTo>
                    <a:pt x="2218" y="2089"/>
                  </a:lnTo>
                  <a:lnTo>
                    <a:pt x="2220" y="2086"/>
                  </a:lnTo>
                  <a:lnTo>
                    <a:pt x="2221" y="2083"/>
                  </a:lnTo>
                  <a:lnTo>
                    <a:pt x="2224" y="2076"/>
                  </a:lnTo>
                  <a:lnTo>
                    <a:pt x="2225" y="2068"/>
                  </a:lnTo>
                  <a:lnTo>
                    <a:pt x="2226" y="2061"/>
                  </a:lnTo>
                  <a:lnTo>
                    <a:pt x="2229" y="2054"/>
                  </a:lnTo>
                  <a:lnTo>
                    <a:pt x="2235" y="2044"/>
                  </a:lnTo>
                  <a:lnTo>
                    <a:pt x="2242" y="2036"/>
                  </a:lnTo>
                  <a:lnTo>
                    <a:pt x="2248" y="2027"/>
                  </a:lnTo>
                  <a:lnTo>
                    <a:pt x="2255" y="2019"/>
                  </a:lnTo>
                  <a:lnTo>
                    <a:pt x="2262" y="2011"/>
                  </a:lnTo>
                  <a:lnTo>
                    <a:pt x="2268" y="2003"/>
                  </a:lnTo>
                  <a:lnTo>
                    <a:pt x="2276" y="1996"/>
                  </a:lnTo>
                  <a:lnTo>
                    <a:pt x="2284" y="1988"/>
                  </a:lnTo>
                  <a:lnTo>
                    <a:pt x="2288" y="1985"/>
                  </a:lnTo>
                  <a:lnTo>
                    <a:pt x="2293" y="1981"/>
                  </a:lnTo>
                  <a:lnTo>
                    <a:pt x="2297" y="1978"/>
                  </a:lnTo>
                  <a:lnTo>
                    <a:pt x="2301" y="1974"/>
                  </a:lnTo>
                  <a:lnTo>
                    <a:pt x="2305" y="1971"/>
                  </a:lnTo>
                  <a:lnTo>
                    <a:pt x="2309" y="1968"/>
                  </a:lnTo>
                  <a:lnTo>
                    <a:pt x="2313" y="1965"/>
                  </a:lnTo>
                  <a:lnTo>
                    <a:pt x="2318" y="1962"/>
                  </a:lnTo>
                  <a:lnTo>
                    <a:pt x="2316" y="1960"/>
                  </a:lnTo>
                  <a:lnTo>
                    <a:pt x="2315" y="1958"/>
                  </a:lnTo>
                  <a:lnTo>
                    <a:pt x="2313" y="1957"/>
                  </a:lnTo>
                  <a:lnTo>
                    <a:pt x="2312" y="1954"/>
                  </a:lnTo>
                  <a:lnTo>
                    <a:pt x="2315" y="1951"/>
                  </a:lnTo>
                  <a:lnTo>
                    <a:pt x="2318" y="1947"/>
                  </a:lnTo>
                  <a:lnTo>
                    <a:pt x="2320" y="1943"/>
                  </a:lnTo>
                  <a:lnTo>
                    <a:pt x="2322" y="1938"/>
                  </a:lnTo>
                  <a:lnTo>
                    <a:pt x="2320" y="1935"/>
                  </a:lnTo>
                  <a:lnTo>
                    <a:pt x="2319" y="1932"/>
                  </a:lnTo>
                  <a:lnTo>
                    <a:pt x="2320" y="1928"/>
                  </a:lnTo>
                  <a:lnTo>
                    <a:pt x="2322" y="1925"/>
                  </a:lnTo>
                  <a:lnTo>
                    <a:pt x="2323" y="1923"/>
                  </a:lnTo>
                  <a:lnTo>
                    <a:pt x="2326" y="1921"/>
                  </a:lnTo>
                  <a:lnTo>
                    <a:pt x="2329" y="1919"/>
                  </a:lnTo>
                  <a:lnTo>
                    <a:pt x="2332" y="1918"/>
                  </a:lnTo>
                  <a:lnTo>
                    <a:pt x="2334" y="1920"/>
                  </a:lnTo>
                  <a:lnTo>
                    <a:pt x="2336" y="1918"/>
                  </a:lnTo>
                  <a:lnTo>
                    <a:pt x="2340" y="1916"/>
                  </a:lnTo>
                  <a:lnTo>
                    <a:pt x="2344" y="1913"/>
                  </a:lnTo>
                  <a:lnTo>
                    <a:pt x="2349" y="1910"/>
                  </a:lnTo>
                  <a:lnTo>
                    <a:pt x="2354" y="1907"/>
                  </a:lnTo>
                  <a:lnTo>
                    <a:pt x="2357" y="1905"/>
                  </a:lnTo>
                  <a:lnTo>
                    <a:pt x="2361" y="1903"/>
                  </a:lnTo>
                  <a:lnTo>
                    <a:pt x="2363" y="1904"/>
                  </a:lnTo>
                  <a:lnTo>
                    <a:pt x="2365" y="1903"/>
                  </a:lnTo>
                  <a:lnTo>
                    <a:pt x="2367" y="1901"/>
                  </a:lnTo>
                  <a:lnTo>
                    <a:pt x="2370" y="1900"/>
                  </a:lnTo>
                  <a:lnTo>
                    <a:pt x="2372" y="1901"/>
                  </a:lnTo>
                  <a:lnTo>
                    <a:pt x="2376" y="1899"/>
                  </a:lnTo>
                  <a:lnTo>
                    <a:pt x="2382" y="1899"/>
                  </a:lnTo>
                  <a:lnTo>
                    <a:pt x="2389" y="1901"/>
                  </a:lnTo>
                  <a:lnTo>
                    <a:pt x="2398" y="1903"/>
                  </a:lnTo>
                  <a:lnTo>
                    <a:pt x="2406" y="1907"/>
                  </a:lnTo>
                  <a:lnTo>
                    <a:pt x="2412" y="1912"/>
                  </a:lnTo>
                  <a:lnTo>
                    <a:pt x="2418" y="1915"/>
                  </a:lnTo>
                  <a:lnTo>
                    <a:pt x="2422" y="1919"/>
                  </a:lnTo>
                  <a:lnTo>
                    <a:pt x="2425" y="1918"/>
                  </a:lnTo>
                  <a:lnTo>
                    <a:pt x="2428" y="1918"/>
                  </a:lnTo>
                  <a:lnTo>
                    <a:pt x="2431" y="1918"/>
                  </a:lnTo>
                  <a:lnTo>
                    <a:pt x="2434" y="1919"/>
                  </a:lnTo>
                  <a:lnTo>
                    <a:pt x="2437" y="1917"/>
                  </a:lnTo>
                  <a:lnTo>
                    <a:pt x="2441" y="1916"/>
                  </a:lnTo>
                  <a:lnTo>
                    <a:pt x="2445" y="1914"/>
                  </a:lnTo>
                  <a:lnTo>
                    <a:pt x="2448" y="1913"/>
                  </a:lnTo>
                  <a:lnTo>
                    <a:pt x="2451" y="1916"/>
                  </a:lnTo>
                  <a:lnTo>
                    <a:pt x="2453" y="1914"/>
                  </a:lnTo>
                  <a:lnTo>
                    <a:pt x="2455" y="1914"/>
                  </a:lnTo>
                  <a:lnTo>
                    <a:pt x="2457" y="1914"/>
                  </a:lnTo>
                  <a:lnTo>
                    <a:pt x="2459" y="1914"/>
                  </a:lnTo>
                  <a:lnTo>
                    <a:pt x="2461" y="1914"/>
                  </a:lnTo>
                  <a:lnTo>
                    <a:pt x="2463" y="1914"/>
                  </a:lnTo>
                  <a:lnTo>
                    <a:pt x="2464" y="1914"/>
                  </a:lnTo>
                  <a:lnTo>
                    <a:pt x="2466" y="1913"/>
                  </a:lnTo>
                  <a:lnTo>
                    <a:pt x="2469" y="1914"/>
                  </a:lnTo>
                  <a:lnTo>
                    <a:pt x="2473" y="1915"/>
                  </a:lnTo>
                  <a:lnTo>
                    <a:pt x="2477" y="1917"/>
                  </a:lnTo>
                  <a:lnTo>
                    <a:pt x="2481" y="1918"/>
                  </a:lnTo>
                  <a:lnTo>
                    <a:pt x="2486" y="1919"/>
                  </a:lnTo>
                  <a:lnTo>
                    <a:pt x="2491" y="1921"/>
                  </a:lnTo>
                  <a:lnTo>
                    <a:pt x="2496" y="1923"/>
                  </a:lnTo>
                  <a:lnTo>
                    <a:pt x="2498" y="1924"/>
                  </a:lnTo>
                  <a:lnTo>
                    <a:pt x="2504" y="1928"/>
                  </a:lnTo>
                  <a:lnTo>
                    <a:pt x="2509" y="1931"/>
                  </a:lnTo>
                  <a:lnTo>
                    <a:pt x="2516" y="1934"/>
                  </a:lnTo>
                  <a:lnTo>
                    <a:pt x="2522" y="1936"/>
                  </a:lnTo>
                  <a:lnTo>
                    <a:pt x="2528" y="1938"/>
                  </a:lnTo>
                  <a:lnTo>
                    <a:pt x="2534" y="1940"/>
                  </a:lnTo>
                  <a:lnTo>
                    <a:pt x="2539" y="1944"/>
                  </a:lnTo>
                  <a:lnTo>
                    <a:pt x="2544" y="1947"/>
                  </a:lnTo>
                  <a:lnTo>
                    <a:pt x="2550" y="1950"/>
                  </a:lnTo>
                  <a:lnTo>
                    <a:pt x="2556" y="1954"/>
                  </a:lnTo>
                  <a:lnTo>
                    <a:pt x="2561" y="1957"/>
                  </a:lnTo>
                  <a:lnTo>
                    <a:pt x="2567" y="1960"/>
                  </a:lnTo>
                  <a:lnTo>
                    <a:pt x="2573" y="1964"/>
                  </a:lnTo>
                  <a:lnTo>
                    <a:pt x="2579" y="1967"/>
                  </a:lnTo>
                  <a:lnTo>
                    <a:pt x="2585" y="1970"/>
                  </a:lnTo>
                  <a:lnTo>
                    <a:pt x="2590" y="1973"/>
                  </a:lnTo>
                  <a:lnTo>
                    <a:pt x="2700" y="2040"/>
                  </a:lnTo>
                  <a:lnTo>
                    <a:pt x="2705" y="2043"/>
                  </a:lnTo>
                  <a:lnTo>
                    <a:pt x="2711" y="2046"/>
                  </a:lnTo>
                  <a:lnTo>
                    <a:pt x="2717" y="2051"/>
                  </a:lnTo>
                  <a:lnTo>
                    <a:pt x="2722" y="2055"/>
                  </a:lnTo>
                  <a:lnTo>
                    <a:pt x="2727" y="2058"/>
                  </a:lnTo>
                  <a:lnTo>
                    <a:pt x="2731" y="2063"/>
                  </a:lnTo>
                  <a:lnTo>
                    <a:pt x="2734" y="2068"/>
                  </a:lnTo>
                  <a:lnTo>
                    <a:pt x="2736" y="2074"/>
                  </a:lnTo>
                  <a:lnTo>
                    <a:pt x="2735" y="2076"/>
                  </a:lnTo>
                  <a:lnTo>
                    <a:pt x="2744" y="2085"/>
                  </a:lnTo>
                  <a:lnTo>
                    <a:pt x="2745" y="2089"/>
                  </a:lnTo>
                  <a:lnTo>
                    <a:pt x="2746" y="2095"/>
                  </a:lnTo>
                  <a:lnTo>
                    <a:pt x="2750" y="2102"/>
                  </a:lnTo>
                  <a:lnTo>
                    <a:pt x="2753" y="2108"/>
                  </a:lnTo>
                  <a:lnTo>
                    <a:pt x="2757" y="2115"/>
                  </a:lnTo>
                  <a:lnTo>
                    <a:pt x="2760" y="2120"/>
                  </a:lnTo>
                  <a:lnTo>
                    <a:pt x="2764" y="2125"/>
                  </a:lnTo>
                  <a:lnTo>
                    <a:pt x="2767" y="2129"/>
                  </a:lnTo>
                  <a:lnTo>
                    <a:pt x="2766" y="2134"/>
                  </a:lnTo>
                  <a:lnTo>
                    <a:pt x="2768" y="2140"/>
                  </a:lnTo>
                  <a:lnTo>
                    <a:pt x="2771" y="2145"/>
                  </a:lnTo>
                  <a:lnTo>
                    <a:pt x="2773" y="2148"/>
                  </a:lnTo>
                  <a:lnTo>
                    <a:pt x="2772" y="2151"/>
                  </a:lnTo>
                  <a:lnTo>
                    <a:pt x="2771" y="2156"/>
                  </a:lnTo>
                  <a:lnTo>
                    <a:pt x="2770" y="2159"/>
                  </a:lnTo>
                  <a:lnTo>
                    <a:pt x="2768" y="2159"/>
                  </a:lnTo>
                  <a:lnTo>
                    <a:pt x="2768" y="2163"/>
                  </a:lnTo>
                  <a:lnTo>
                    <a:pt x="2766" y="2170"/>
                  </a:lnTo>
                  <a:lnTo>
                    <a:pt x="2765" y="2176"/>
                  </a:lnTo>
                  <a:lnTo>
                    <a:pt x="2764" y="2180"/>
                  </a:lnTo>
                  <a:lnTo>
                    <a:pt x="2763" y="2189"/>
                  </a:lnTo>
                  <a:lnTo>
                    <a:pt x="2761" y="2197"/>
                  </a:lnTo>
                  <a:lnTo>
                    <a:pt x="2761" y="2205"/>
                  </a:lnTo>
                  <a:lnTo>
                    <a:pt x="2766" y="2213"/>
                  </a:lnTo>
                  <a:lnTo>
                    <a:pt x="2764" y="2216"/>
                  </a:lnTo>
                  <a:lnTo>
                    <a:pt x="2762" y="2219"/>
                  </a:lnTo>
                  <a:lnTo>
                    <a:pt x="2760" y="2223"/>
                  </a:lnTo>
                  <a:lnTo>
                    <a:pt x="2759" y="2225"/>
                  </a:lnTo>
                  <a:lnTo>
                    <a:pt x="2758" y="2226"/>
                  </a:lnTo>
                  <a:lnTo>
                    <a:pt x="2756" y="2227"/>
                  </a:lnTo>
                  <a:lnTo>
                    <a:pt x="2753" y="2229"/>
                  </a:lnTo>
                  <a:lnTo>
                    <a:pt x="2752" y="2229"/>
                  </a:lnTo>
                  <a:lnTo>
                    <a:pt x="2755" y="2237"/>
                  </a:lnTo>
                  <a:lnTo>
                    <a:pt x="2757" y="2249"/>
                  </a:lnTo>
                  <a:lnTo>
                    <a:pt x="2759" y="2262"/>
                  </a:lnTo>
                  <a:lnTo>
                    <a:pt x="2761" y="2271"/>
                  </a:lnTo>
                  <a:lnTo>
                    <a:pt x="2758" y="2273"/>
                  </a:lnTo>
                  <a:lnTo>
                    <a:pt x="2756" y="2274"/>
                  </a:lnTo>
                  <a:lnTo>
                    <a:pt x="2753" y="2275"/>
                  </a:lnTo>
                  <a:lnTo>
                    <a:pt x="2750" y="2275"/>
                  </a:lnTo>
                  <a:lnTo>
                    <a:pt x="2751" y="2277"/>
                  </a:lnTo>
                  <a:lnTo>
                    <a:pt x="2752" y="2278"/>
                  </a:lnTo>
                  <a:lnTo>
                    <a:pt x="2752" y="2280"/>
                  </a:lnTo>
                  <a:lnTo>
                    <a:pt x="2753" y="2282"/>
                  </a:lnTo>
                  <a:lnTo>
                    <a:pt x="2752" y="2286"/>
                  </a:lnTo>
                  <a:lnTo>
                    <a:pt x="2750" y="2296"/>
                  </a:lnTo>
                  <a:lnTo>
                    <a:pt x="2747" y="2306"/>
                  </a:lnTo>
                  <a:lnTo>
                    <a:pt x="2745" y="2315"/>
                  </a:lnTo>
                  <a:lnTo>
                    <a:pt x="2741" y="2319"/>
                  </a:lnTo>
                  <a:lnTo>
                    <a:pt x="2737" y="2324"/>
                  </a:lnTo>
                  <a:lnTo>
                    <a:pt x="2735" y="2329"/>
                  </a:lnTo>
                  <a:lnTo>
                    <a:pt x="2735" y="2337"/>
                  </a:lnTo>
                  <a:lnTo>
                    <a:pt x="2741" y="2348"/>
                  </a:lnTo>
                  <a:lnTo>
                    <a:pt x="2742" y="2353"/>
                  </a:lnTo>
                  <a:lnTo>
                    <a:pt x="2739" y="2356"/>
                  </a:lnTo>
                  <a:lnTo>
                    <a:pt x="2733" y="2364"/>
                  </a:lnTo>
                  <a:lnTo>
                    <a:pt x="2730" y="2368"/>
                  </a:lnTo>
                  <a:lnTo>
                    <a:pt x="2728" y="2370"/>
                  </a:lnTo>
                  <a:lnTo>
                    <a:pt x="2726" y="2372"/>
                  </a:lnTo>
                  <a:lnTo>
                    <a:pt x="2724" y="2373"/>
                  </a:lnTo>
                  <a:lnTo>
                    <a:pt x="2723" y="2374"/>
                  </a:lnTo>
                  <a:lnTo>
                    <a:pt x="2720" y="2375"/>
                  </a:lnTo>
                  <a:lnTo>
                    <a:pt x="2718" y="2377"/>
                  </a:lnTo>
                  <a:lnTo>
                    <a:pt x="2715" y="2379"/>
                  </a:lnTo>
                  <a:lnTo>
                    <a:pt x="2710" y="2376"/>
                  </a:lnTo>
                  <a:lnTo>
                    <a:pt x="2705" y="2377"/>
                  </a:lnTo>
                  <a:lnTo>
                    <a:pt x="2701" y="2381"/>
                  </a:lnTo>
                  <a:lnTo>
                    <a:pt x="2696" y="2388"/>
                  </a:lnTo>
                  <a:lnTo>
                    <a:pt x="2693" y="2395"/>
                  </a:lnTo>
                  <a:lnTo>
                    <a:pt x="2691" y="2402"/>
                  </a:lnTo>
                  <a:lnTo>
                    <a:pt x="2690" y="2409"/>
                  </a:lnTo>
                  <a:lnTo>
                    <a:pt x="2690" y="2413"/>
                  </a:lnTo>
                  <a:lnTo>
                    <a:pt x="2686" y="2418"/>
                  </a:lnTo>
                  <a:lnTo>
                    <a:pt x="2681" y="2425"/>
                  </a:lnTo>
                  <a:lnTo>
                    <a:pt x="2675" y="2431"/>
                  </a:lnTo>
                  <a:lnTo>
                    <a:pt x="2670" y="2437"/>
                  </a:lnTo>
                  <a:lnTo>
                    <a:pt x="2666" y="2444"/>
                  </a:lnTo>
                  <a:lnTo>
                    <a:pt x="2662" y="2451"/>
                  </a:lnTo>
                  <a:lnTo>
                    <a:pt x="2660" y="2457"/>
                  </a:lnTo>
                  <a:lnTo>
                    <a:pt x="2659" y="2464"/>
                  </a:lnTo>
                  <a:lnTo>
                    <a:pt x="2646" y="2477"/>
                  </a:lnTo>
                  <a:lnTo>
                    <a:pt x="2643" y="2477"/>
                  </a:lnTo>
                  <a:lnTo>
                    <a:pt x="2637" y="2482"/>
                  </a:lnTo>
                  <a:lnTo>
                    <a:pt x="2633" y="2486"/>
                  </a:lnTo>
                  <a:lnTo>
                    <a:pt x="2630" y="2490"/>
                  </a:lnTo>
                  <a:lnTo>
                    <a:pt x="2626" y="2494"/>
                  </a:lnTo>
                  <a:lnTo>
                    <a:pt x="2623" y="2499"/>
                  </a:lnTo>
                  <a:lnTo>
                    <a:pt x="2619" y="2503"/>
                  </a:lnTo>
                  <a:lnTo>
                    <a:pt x="2614" y="2509"/>
                  </a:lnTo>
                  <a:lnTo>
                    <a:pt x="2607" y="2516"/>
                  </a:lnTo>
                  <a:lnTo>
                    <a:pt x="2610" y="2521"/>
                  </a:lnTo>
                  <a:lnTo>
                    <a:pt x="2609" y="2527"/>
                  </a:lnTo>
                  <a:lnTo>
                    <a:pt x="2605" y="2532"/>
                  </a:lnTo>
                  <a:lnTo>
                    <a:pt x="2600" y="2536"/>
                  </a:lnTo>
                  <a:lnTo>
                    <a:pt x="2592" y="2540"/>
                  </a:lnTo>
                  <a:lnTo>
                    <a:pt x="2584" y="2543"/>
                  </a:lnTo>
                  <a:lnTo>
                    <a:pt x="2578" y="2546"/>
                  </a:lnTo>
                  <a:lnTo>
                    <a:pt x="2572" y="2548"/>
                  </a:lnTo>
                  <a:lnTo>
                    <a:pt x="2569" y="2553"/>
                  </a:lnTo>
                  <a:lnTo>
                    <a:pt x="2564" y="2558"/>
                  </a:lnTo>
                  <a:lnTo>
                    <a:pt x="2560" y="2564"/>
                  </a:lnTo>
                  <a:lnTo>
                    <a:pt x="2556" y="2569"/>
                  </a:lnTo>
                  <a:lnTo>
                    <a:pt x="2551" y="2574"/>
                  </a:lnTo>
                  <a:lnTo>
                    <a:pt x="2545" y="2578"/>
                  </a:lnTo>
                  <a:lnTo>
                    <a:pt x="2539" y="2583"/>
                  </a:lnTo>
                  <a:lnTo>
                    <a:pt x="2533" y="2584"/>
                  </a:lnTo>
                  <a:lnTo>
                    <a:pt x="2532" y="2583"/>
                  </a:lnTo>
                  <a:lnTo>
                    <a:pt x="2524" y="2588"/>
                  </a:lnTo>
                  <a:lnTo>
                    <a:pt x="2521" y="2584"/>
                  </a:lnTo>
                  <a:lnTo>
                    <a:pt x="2519" y="2581"/>
                  </a:lnTo>
                  <a:lnTo>
                    <a:pt x="2516" y="2577"/>
                  </a:lnTo>
                  <a:lnTo>
                    <a:pt x="2514" y="2575"/>
                  </a:lnTo>
                  <a:lnTo>
                    <a:pt x="2506" y="2592"/>
                  </a:lnTo>
                  <a:lnTo>
                    <a:pt x="2511" y="2595"/>
                  </a:lnTo>
                  <a:lnTo>
                    <a:pt x="2515" y="2598"/>
                  </a:lnTo>
                  <a:lnTo>
                    <a:pt x="2520" y="2601"/>
                  </a:lnTo>
                  <a:lnTo>
                    <a:pt x="2524" y="2605"/>
                  </a:lnTo>
                  <a:lnTo>
                    <a:pt x="2528" y="2609"/>
                  </a:lnTo>
                  <a:lnTo>
                    <a:pt x="2531" y="2613"/>
                  </a:lnTo>
                  <a:lnTo>
                    <a:pt x="2535" y="2617"/>
                  </a:lnTo>
                  <a:lnTo>
                    <a:pt x="2538" y="2621"/>
                  </a:lnTo>
                  <a:lnTo>
                    <a:pt x="2540" y="2628"/>
                  </a:lnTo>
                  <a:lnTo>
                    <a:pt x="2540" y="2635"/>
                  </a:lnTo>
                  <a:lnTo>
                    <a:pt x="2539" y="2642"/>
                  </a:lnTo>
                  <a:lnTo>
                    <a:pt x="2538" y="2649"/>
                  </a:lnTo>
                  <a:lnTo>
                    <a:pt x="2536" y="2655"/>
                  </a:lnTo>
                  <a:lnTo>
                    <a:pt x="2534" y="2663"/>
                  </a:lnTo>
                  <a:lnTo>
                    <a:pt x="2533" y="2669"/>
                  </a:lnTo>
                  <a:lnTo>
                    <a:pt x="2533" y="2676"/>
                  </a:lnTo>
                  <a:lnTo>
                    <a:pt x="2541" y="2682"/>
                  </a:lnTo>
                  <a:lnTo>
                    <a:pt x="2551" y="2688"/>
                  </a:lnTo>
                  <a:lnTo>
                    <a:pt x="2560" y="2694"/>
                  </a:lnTo>
                  <a:lnTo>
                    <a:pt x="2570" y="2699"/>
                  </a:lnTo>
                  <a:lnTo>
                    <a:pt x="2579" y="2705"/>
                  </a:lnTo>
                  <a:lnTo>
                    <a:pt x="2587" y="2711"/>
                  </a:lnTo>
                  <a:lnTo>
                    <a:pt x="2594" y="2717"/>
                  </a:lnTo>
                  <a:lnTo>
                    <a:pt x="2601" y="2725"/>
                  </a:lnTo>
                  <a:lnTo>
                    <a:pt x="2610" y="2745"/>
                  </a:lnTo>
                  <a:lnTo>
                    <a:pt x="2619" y="2766"/>
                  </a:lnTo>
                  <a:lnTo>
                    <a:pt x="2626" y="2787"/>
                  </a:lnTo>
                  <a:lnTo>
                    <a:pt x="2633" y="2810"/>
                  </a:lnTo>
                  <a:lnTo>
                    <a:pt x="2637" y="2824"/>
                  </a:lnTo>
                  <a:lnTo>
                    <a:pt x="1679" y="2824"/>
                  </a:lnTo>
                  <a:lnTo>
                    <a:pt x="1675" y="2820"/>
                  </a:lnTo>
                  <a:lnTo>
                    <a:pt x="1665" y="2813"/>
                  </a:lnTo>
                  <a:lnTo>
                    <a:pt x="1655" y="2806"/>
                  </a:lnTo>
                  <a:lnTo>
                    <a:pt x="1645" y="2799"/>
                  </a:lnTo>
                  <a:lnTo>
                    <a:pt x="1635" y="2791"/>
                  </a:lnTo>
                  <a:lnTo>
                    <a:pt x="1624" y="2783"/>
                  </a:lnTo>
                  <a:lnTo>
                    <a:pt x="1614" y="2777"/>
                  </a:lnTo>
                  <a:lnTo>
                    <a:pt x="1604" y="2770"/>
                  </a:lnTo>
                  <a:lnTo>
                    <a:pt x="1594" y="2763"/>
                  </a:lnTo>
                  <a:lnTo>
                    <a:pt x="1583" y="2756"/>
                  </a:lnTo>
                  <a:lnTo>
                    <a:pt x="1571" y="2750"/>
                  </a:lnTo>
                  <a:lnTo>
                    <a:pt x="1561" y="2743"/>
                  </a:lnTo>
                  <a:lnTo>
                    <a:pt x="1550" y="2735"/>
                  </a:lnTo>
                  <a:lnTo>
                    <a:pt x="1540" y="2729"/>
                  </a:lnTo>
                  <a:lnTo>
                    <a:pt x="1528" y="2722"/>
                  </a:lnTo>
                  <a:lnTo>
                    <a:pt x="1518" y="2716"/>
                  </a:lnTo>
                  <a:lnTo>
                    <a:pt x="1507" y="2709"/>
                  </a:lnTo>
                  <a:lnTo>
                    <a:pt x="1500" y="2705"/>
                  </a:lnTo>
                  <a:lnTo>
                    <a:pt x="1492" y="2700"/>
                  </a:lnTo>
                  <a:lnTo>
                    <a:pt x="1484" y="2696"/>
                  </a:lnTo>
                  <a:lnTo>
                    <a:pt x="1475" y="2691"/>
                  </a:lnTo>
                  <a:lnTo>
                    <a:pt x="1467" y="2686"/>
                  </a:lnTo>
                  <a:lnTo>
                    <a:pt x="1458" y="2681"/>
                  </a:lnTo>
                  <a:lnTo>
                    <a:pt x="1450" y="2677"/>
                  </a:lnTo>
                  <a:lnTo>
                    <a:pt x="1441" y="2673"/>
                  </a:lnTo>
                  <a:lnTo>
                    <a:pt x="1433" y="2668"/>
                  </a:lnTo>
                  <a:lnTo>
                    <a:pt x="1424" y="2664"/>
                  </a:lnTo>
                  <a:lnTo>
                    <a:pt x="1415" y="2660"/>
                  </a:lnTo>
                  <a:lnTo>
                    <a:pt x="1407" y="2655"/>
                  </a:lnTo>
                  <a:lnTo>
                    <a:pt x="1399" y="2651"/>
                  </a:lnTo>
                  <a:lnTo>
                    <a:pt x="1391" y="2646"/>
                  </a:lnTo>
                  <a:lnTo>
                    <a:pt x="1383" y="2642"/>
                  </a:lnTo>
                  <a:lnTo>
                    <a:pt x="1374" y="2637"/>
                  </a:lnTo>
                  <a:lnTo>
                    <a:pt x="1365" y="2630"/>
                  </a:lnTo>
                  <a:lnTo>
                    <a:pt x="1356" y="2625"/>
                  </a:lnTo>
                  <a:lnTo>
                    <a:pt x="1347" y="2619"/>
                  </a:lnTo>
                  <a:lnTo>
                    <a:pt x="1338" y="2614"/>
                  </a:lnTo>
                  <a:lnTo>
                    <a:pt x="1329" y="2609"/>
                  </a:lnTo>
                  <a:lnTo>
                    <a:pt x="1319" y="2603"/>
                  </a:lnTo>
                  <a:lnTo>
                    <a:pt x="1310" y="2598"/>
                  </a:lnTo>
                  <a:lnTo>
                    <a:pt x="1302" y="2591"/>
                  </a:lnTo>
                  <a:lnTo>
                    <a:pt x="1371" y="2824"/>
                  </a:lnTo>
                  <a:lnTo>
                    <a:pt x="1314" y="2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35840" y="3925800"/>
              <a:ext cx="444240" cy="191520"/>
            </a:xfrm>
            <a:custGeom>
              <a:avLst/>
              <a:gdLst/>
              <a:ahLst/>
              <a:rect l="l" t="t" r="r" b="b"/>
              <a:pathLst>
                <a:path w="1388" h="405">
                  <a:moveTo>
                    <a:pt x="156" y="405"/>
                  </a:moveTo>
                  <a:lnTo>
                    <a:pt x="139" y="347"/>
                  </a:lnTo>
                  <a:lnTo>
                    <a:pt x="135" y="346"/>
                  </a:lnTo>
                  <a:lnTo>
                    <a:pt x="131" y="344"/>
                  </a:lnTo>
                  <a:lnTo>
                    <a:pt x="128" y="343"/>
                  </a:lnTo>
                  <a:lnTo>
                    <a:pt x="125" y="342"/>
                  </a:lnTo>
                  <a:lnTo>
                    <a:pt x="121" y="341"/>
                  </a:lnTo>
                  <a:lnTo>
                    <a:pt x="118" y="339"/>
                  </a:lnTo>
                  <a:lnTo>
                    <a:pt x="115" y="338"/>
                  </a:lnTo>
                  <a:lnTo>
                    <a:pt x="112" y="337"/>
                  </a:lnTo>
                  <a:lnTo>
                    <a:pt x="106" y="335"/>
                  </a:lnTo>
                  <a:lnTo>
                    <a:pt x="101" y="334"/>
                  </a:lnTo>
                  <a:lnTo>
                    <a:pt x="97" y="332"/>
                  </a:lnTo>
                  <a:lnTo>
                    <a:pt x="93" y="331"/>
                  </a:lnTo>
                  <a:lnTo>
                    <a:pt x="90" y="329"/>
                  </a:lnTo>
                  <a:lnTo>
                    <a:pt x="87" y="328"/>
                  </a:lnTo>
                  <a:lnTo>
                    <a:pt x="82" y="326"/>
                  </a:lnTo>
                  <a:lnTo>
                    <a:pt x="77" y="324"/>
                  </a:lnTo>
                  <a:lnTo>
                    <a:pt x="73" y="320"/>
                  </a:lnTo>
                  <a:lnTo>
                    <a:pt x="69" y="313"/>
                  </a:lnTo>
                  <a:lnTo>
                    <a:pt x="66" y="304"/>
                  </a:lnTo>
                  <a:lnTo>
                    <a:pt x="66" y="296"/>
                  </a:lnTo>
                  <a:lnTo>
                    <a:pt x="62" y="294"/>
                  </a:lnTo>
                  <a:lnTo>
                    <a:pt x="58" y="292"/>
                  </a:lnTo>
                  <a:lnTo>
                    <a:pt x="54" y="289"/>
                  </a:lnTo>
                  <a:lnTo>
                    <a:pt x="49" y="284"/>
                  </a:lnTo>
                  <a:lnTo>
                    <a:pt x="45" y="282"/>
                  </a:lnTo>
                  <a:lnTo>
                    <a:pt x="42" y="279"/>
                  </a:lnTo>
                  <a:lnTo>
                    <a:pt x="40" y="276"/>
                  </a:lnTo>
                  <a:lnTo>
                    <a:pt x="38" y="275"/>
                  </a:lnTo>
                  <a:lnTo>
                    <a:pt x="34" y="268"/>
                  </a:lnTo>
                  <a:lnTo>
                    <a:pt x="32" y="263"/>
                  </a:lnTo>
                  <a:lnTo>
                    <a:pt x="31" y="258"/>
                  </a:lnTo>
                  <a:lnTo>
                    <a:pt x="31" y="254"/>
                  </a:lnTo>
                  <a:lnTo>
                    <a:pt x="32" y="251"/>
                  </a:lnTo>
                  <a:lnTo>
                    <a:pt x="34" y="250"/>
                  </a:lnTo>
                  <a:lnTo>
                    <a:pt x="38" y="248"/>
                  </a:lnTo>
                  <a:lnTo>
                    <a:pt x="41" y="246"/>
                  </a:lnTo>
                  <a:lnTo>
                    <a:pt x="39" y="244"/>
                  </a:lnTo>
                  <a:lnTo>
                    <a:pt x="36" y="242"/>
                  </a:lnTo>
                  <a:lnTo>
                    <a:pt x="33" y="241"/>
                  </a:lnTo>
                  <a:lnTo>
                    <a:pt x="31" y="239"/>
                  </a:lnTo>
                  <a:lnTo>
                    <a:pt x="28" y="237"/>
                  </a:lnTo>
                  <a:lnTo>
                    <a:pt x="25" y="235"/>
                  </a:lnTo>
                  <a:lnTo>
                    <a:pt x="23" y="232"/>
                  </a:lnTo>
                  <a:lnTo>
                    <a:pt x="21" y="230"/>
                  </a:lnTo>
                  <a:lnTo>
                    <a:pt x="19" y="225"/>
                  </a:lnTo>
                  <a:lnTo>
                    <a:pt x="18" y="220"/>
                  </a:lnTo>
                  <a:lnTo>
                    <a:pt x="18" y="214"/>
                  </a:lnTo>
                  <a:lnTo>
                    <a:pt x="19" y="209"/>
                  </a:lnTo>
                  <a:lnTo>
                    <a:pt x="19" y="207"/>
                  </a:lnTo>
                  <a:lnTo>
                    <a:pt x="21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7" y="200"/>
                  </a:lnTo>
                  <a:lnTo>
                    <a:pt x="30" y="198"/>
                  </a:lnTo>
                  <a:lnTo>
                    <a:pt x="32" y="196"/>
                  </a:lnTo>
                  <a:lnTo>
                    <a:pt x="33" y="194"/>
                  </a:lnTo>
                  <a:lnTo>
                    <a:pt x="30" y="193"/>
                  </a:lnTo>
                  <a:lnTo>
                    <a:pt x="27" y="192"/>
                  </a:lnTo>
                  <a:lnTo>
                    <a:pt x="24" y="191"/>
                  </a:lnTo>
                  <a:lnTo>
                    <a:pt x="22" y="190"/>
                  </a:lnTo>
                  <a:lnTo>
                    <a:pt x="20" y="189"/>
                  </a:lnTo>
                  <a:lnTo>
                    <a:pt x="17" y="188"/>
                  </a:lnTo>
                  <a:lnTo>
                    <a:pt x="15" y="186"/>
                  </a:lnTo>
                  <a:lnTo>
                    <a:pt x="12" y="184"/>
                  </a:lnTo>
                  <a:lnTo>
                    <a:pt x="8" y="181"/>
                  </a:lnTo>
                  <a:lnTo>
                    <a:pt x="4" y="176"/>
                  </a:lnTo>
                  <a:lnTo>
                    <a:pt x="2" y="173"/>
                  </a:lnTo>
                  <a:lnTo>
                    <a:pt x="1" y="169"/>
                  </a:lnTo>
                  <a:lnTo>
                    <a:pt x="0" y="165"/>
                  </a:lnTo>
                  <a:lnTo>
                    <a:pt x="2" y="161"/>
                  </a:lnTo>
                  <a:lnTo>
                    <a:pt x="4" y="157"/>
                  </a:lnTo>
                  <a:lnTo>
                    <a:pt x="8" y="153"/>
                  </a:lnTo>
                  <a:lnTo>
                    <a:pt x="11" y="151"/>
                  </a:lnTo>
                  <a:lnTo>
                    <a:pt x="15" y="149"/>
                  </a:lnTo>
                  <a:lnTo>
                    <a:pt x="21" y="148"/>
                  </a:lnTo>
                  <a:lnTo>
                    <a:pt x="27" y="147"/>
                  </a:lnTo>
                  <a:lnTo>
                    <a:pt x="32" y="147"/>
                  </a:lnTo>
                  <a:lnTo>
                    <a:pt x="38" y="146"/>
                  </a:lnTo>
                  <a:lnTo>
                    <a:pt x="44" y="146"/>
                  </a:lnTo>
                  <a:lnTo>
                    <a:pt x="48" y="146"/>
                  </a:lnTo>
                  <a:lnTo>
                    <a:pt x="47" y="144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2" y="135"/>
                  </a:lnTo>
                  <a:lnTo>
                    <a:pt x="55" y="133"/>
                  </a:lnTo>
                  <a:lnTo>
                    <a:pt x="57" y="130"/>
                  </a:lnTo>
                  <a:lnTo>
                    <a:pt x="59" y="126"/>
                  </a:lnTo>
                  <a:lnTo>
                    <a:pt x="61" y="124"/>
                  </a:lnTo>
                  <a:lnTo>
                    <a:pt x="62" y="121"/>
                  </a:lnTo>
                  <a:lnTo>
                    <a:pt x="64" y="119"/>
                  </a:lnTo>
                  <a:lnTo>
                    <a:pt x="67" y="116"/>
                  </a:lnTo>
                  <a:lnTo>
                    <a:pt x="70" y="114"/>
                  </a:lnTo>
                  <a:lnTo>
                    <a:pt x="36" y="0"/>
                  </a:lnTo>
                  <a:lnTo>
                    <a:pt x="93" y="0"/>
                  </a:lnTo>
                  <a:lnTo>
                    <a:pt x="124" y="102"/>
                  </a:lnTo>
                  <a:lnTo>
                    <a:pt x="133" y="101"/>
                  </a:lnTo>
                  <a:lnTo>
                    <a:pt x="141" y="101"/>
                  </a:lnTo>
                  <a:lnTo>
                    <a:pt x="149" y="101"/>
                  </a:lnTo>
                  <a:lnTo>
                    <a:pt x="156" y="101"/>
                  </a:lnTo>
                  <a:lnTo>
                    <a:pt x="163" y="102"/>
                  </a:lnTo>
                  <a:lnTo>
                    <a:pt x="171" y="103"/>
                  </a:lnTo>
                  <a:lnTo>
                    <a:pt x="180" y="104"/>
                  </a:lnTo>
                  <a:lnTo>
                    <a:pt x="191" y="106"/>
                  </a:lnTo>
                  <a:lnTo>
                    <a:pt x="197" y="107"/>
                  </a:lnTo>
                  <a:lnTo>
                    <a:pt x="205" y="109"/>
                  </a:lnTo>
                  <a:lnTo>
                    <a:pt x="211" y="112"/>
                  </a:lnTo>
                  <a:lnTo>
                    <a:pt x="217" y="115"/>
                  </a:lnTo>
                  <a:lnTo>
                    <a:pt x="222" y="118"/>
                  </a:lnTo>
                  <a:lnTo>
                    <a:pt x="228" y="122"/>
                  </a:lnTo>
                  <a:lnTo>
                    <a:pt x="233" y="126"/>
                  </a:lnTo>
                  <a:lnTo>
                    <a:pt x="238" y="131"/>
                  </a:lnTo>
                  <a:lnTo>
                    <a:pt x="244" y="135"/>
                  </a:lnTo>
                  <a:lnTo>
                    <a:pt x="250" y="140"/>
                  </a:lnTo>
                  <a:lnTo>
                    <a:pt x="256" y="145"/>
                  </a:lnTo>
                  <a:lnTo>
                    <a:pt x="262" y="149"/>
                  </a:lnTo>
                  <a:lnTo>
                    <a:pt x="267" y="154"/>
                  </a:lnTo>
                  <a:lnTo>
                    <a:pt x="272" y="158"/>
                  </a:lnTo>
                  <a:lnTo>
                    <a:pt x="278" y="163"/>
                  </a:lnTo>
                  <a:lnTo>
                    <a:pt x="283" y="167"/>
                  </a:lnTo>
                  <a:lnTo>
                    <a:pt x="291" y="172"/>
                  </a:lnTo>
                  <a:lnTo>
                    <a:pt x="298" y="176"/>
                  </a:lnTo>
                  <a:lnTo>
                    <a:pt x="307" y="181"/>
                  </a:lnTo>
                  <a:lnTo>
                    <a:pt x="316" y="185"/>
                  </a:lnTo>
                  <a:lnTo>
                    <a:pt x="324" y="188"/>
                  </a:lnTo>
                  <a:lnTo>
                    <a:pt x="332" y="191"/>
                  </a:lnTo>
                  <a:lnTo>
                    <a:pt x="339" y="195"/>
                  </a:lnTo>
                  <a:lnTo>
                    <a:pt x="347" y="197"/>
                  </a:lnTo>
                  <a:lnTo>
                    <a:pt x="350" y="198"/>
                  </a:lnTo>
                  <a:lnTo>
                    <a:pt x="355" y="199"/>
                  </a:lnTo>
                  <a:lnTo>
                    <a:pt x="359" y="201"/>
                  </a:lnTo>
                  <a:lnTo>
                    <a:pt x="364" y="203"/>
                  </a:lnTo>
                  <a:lnTo>
                    <a:pt x="369" y="205"/>
                  </a:lnTo>
                  <a:lnTo>
                    <a:pt x="374" y="207"/>
                  </a:lnTo>
                  <a:lnTo>
                    <a:pt x="379" y="209"/>
                  </a:lnTo>
                  <a:lnTo>
                    <a:pt x="385" y="212"/>
                  </a:lnTo>
                  <a:lnTo>
                    <a:pt x="390" y="214"/>
                  </a:lnTo>
                  <a:lnTo>
                    <a:pt x="396" y="217"/>
                  </a:lnTo>
                  <a:lnTo>
                    <a:pt x="402" y="219"/>
                  </a:lnTo>
                  <a:lnTo>
                    <a:pt x="408" y="222"/>
                  </a:lnTo>
                  <a:lnTo>
                    <a:pt x="414" y="225"/>
                  </a:lnTo>
                  <a:lnTo>
                    <a:pt x="420" y="227"/>
                  </a:lnTo>
                  <a:lnTo>
                    <a:pt x="425" y="230"/>
                  </a:lnTo>
                  <a:lnTo>
                    <a:pt x="431" y="232"/>
                  </a:lnTo>
                  <a:lnTo>
                    <a:pt x="437" y="212"/>
                  </a:lnTo>
                  <a:lnTo>
                    <a:pt x="443" y="193"/>
                  </a:lnTo>
                  <a:lnTo>
                    <a:pt x="449" y="172"/>
                  </a:lnTo>
                  <a:lnTo>
                    <a:pt x="455" y="153"/>
                  </a:lnTo>
                  <a:lnTo>
                    <a:pt x="462" y="133"/>
                  </a:lnTo>
                  <a:lnTo>
                    <a:pt x="468" y="112"/>
                  </a:lnTo>
                  <a:lnTo>
                    <a:pt x="474" y="93"/>
                  </a:lnTo>
                  <a:lnTo>
                    <a:pt x="480" y="72"/>
                  </a:lnTo>
                  <a:lnTo>
                    <a:pt x="475" y="67"/>
                  </a:lnTo>
                  <a:lnTo>
                    <a:pt x="470" y="63"/>
                  </a:lnTo>
                  <a:lnTo>
                    <a:pt x="465" y="58"/>
                  </a:lnTo>
                  <a:lnTo>
                    <a:pt x="460" y="53"/>
                  </a:lnTo>
                  <a:lnTo>
                    <a:pt x="454" y="48"/>
                  </a:lnTo>
                  <a:lnTo>
                    <a:pt x="449" y="44"/>
                  </a:lnTo>
                  <a:lnTo>
                    <a:pt x="444" y="39"/>
                  </a:lnTo>
                  <a:lnTo>
                    <a:pt x="439" y="34"/>
                  </a:lnTo>
                  <a:lnTo>
                    <a:pt x="434" y="29"/>
                  </a:lnTo>
                  <a:lnTo>
                    <a:pt x="429" y="24"/>
                  </a:lnTo>
                  <a:lnTo>
                    <a:pt x="424" y="19"/>
                  </a:lnTo>
                  <a:lnTo>
                    <a:pt x="419" y="14"/>
                  </a:lnTo>
                  <a:lnTo>
                    <a:pt x="414" y="10"/>
                  </a:lnTo>
                  <a:lnTo>
                    <a:pt x="408" y="5"/>
                  </a:lnTo>
                  <a:lnTo>
                    <a:pt x="402" y="1"/>
                  </a:lnTo>
                  <a:lnTo>
                    <a:pt x="401" y="0"/>
                  </a:lnTo>
                  <a:lnTo>
                    <a:pt x="1359" y="0"/>
                  </a:lnTo>
                  <a:lnTo>
                    <a:pt x="1360" y="8"/>
                  </a:lnTo>
                  <a:lnTo>
                    <a:pt x="1366" y="30"/>
                  </a:lnTo>
                  <a:lnTo>
                    <a:pt x="1373" y="52"/>
                  </a:lnTo>
                  <a:lnTo>
                    <a:pt x="1379" y="73"/>
                  </a:lnTo>
                  <a:lnTo>
                    <a:pt x="1383" y="86"/>
                  </a:lnTo>
                  <a:lnTo>
                    <a:pt x="1386" y="98"/>
                  </a:lnTo>
                  <a:lnTo>
                    <a:pt x="1388" y="110"/>
                  </a:lnTo>
                  <a:lnTo>
                    <a:pt x="1387" y="122"/>
                  </a:lnTo>
                  <a:lnTo>
                    <a:pt x="1381" y="143"/>
                  </a:lnTo>
                  <a:lnTo>
                    <a:pt x="1373" y="162"/>
                  </a:lnTo>
                  <a:lnTo>
                    <a:pt x="1364" y="182"/>
                  </a:lnTo>
                  <a:lnTo>
                    <a:pt x="1356" y="201"/>
                  </a:lnTo>
                  <a:lnTo>
                    <a:pt x="1348" y="220"/>
                  </a:lnTo>
                  <a:lnTo>
                    <a:pt x="1339" y="240"/>
                  </a:lnTo>
                  <a:lnTo>
                    <a:pt x="1331" y="258"/>
                  </a:lnTo>
                  <a:lnTo>
                    <a:pt x="1323" y="277"/>
                  </a:lnTo>
                  <a:lnTo>
                    <a:pt x="1317" y="291"/>
                  </a:lnTo>
                  <a:lnTo>
                    <a:pt x="1314" y="304"/>
                  </a:lnTo>
                  <a:lnTo>
                    <a:pt x="1310" y="317"/>
                  </a:lnTo>
                  <a:lnTo>
                    <a:pt x="1306" y="330"/>
                  </a:lnTo>
                  <a:lnTo>
                    <a:pt x="1302" y="344"/>
                  </a:lnTo>
                  <a:lnTo>
                    <a:pt x="1298" y="357"/>
                  </a:lnTo>
                  <a:lnTo>
                    <a:pt x="1293" y="369"/>
                  </a:lnTo>
                  <a:lnTo>
                    <a:pt x="1286" y="381"/>
                  </a:lnTo>
                  <a:lnTo>
                    <a:pt x="1272" y="404"/>
                  </a:lnTo>
                  <a:lnTo>
                    <a:pt x="1272" y="405"/>
                  </a:lnTo>
                  <a:lnTo>
                    <a:pt x="285" y="405"/>
                  </a:lnTo>
                  <a:lnTo>
                    <a:pt x="288" y="401"/>
                  </a:lnTo>
                  <a:lnTo>
                    <a:pt x="294" y="391"/>
                  </a:lnTo>
                  <a:lnTo>
                    <a:pt x="299" y="385"/>
                  </a:lnTo>
                  <a:lnTo>
                    <a:pt x="304" y="379"/>
                  </a:lnTo>
                  <a:lnTo>
                    <a:pt x="309" y="373"/>
                  </a:lnTo>
                  <a:lnTo>
                    <a:pt x="313" y="367"/>
                  </a:lnTo>
                  <a:lnTo>
                    <a:pt x="318" y="361"/>
                  </a:lnTo>
                  <a:lnTo>
                    <a:pt x="323" y="354"/>
                  </a:lnTo>
                  <a:lnTo>
                    <a:pt x="327" y="349"/>
                  </a:lnTo>
                  <a:lnTo>
                    <a:pt x="333" y="342"/>
                  </a:lnTo>
                  <a:lnTo>
                    <a:pt x="327" y="341"/>
                  </a:lnTo>
                  <a:lnTo>
                    <a:pt x="321" y="339"/>
                  </a:lnTo>
                  <a:lnTo>
                    <a:pt x="316" y="339"/>
                  </a:lnTo>
                  <a:lnTo>
                    <a:pt x="310" y="339"/>
                  </a:lnTo>
                  <a:lnTo>
                    <a:pt x="304" y="338"/>
                  </a:lnTo>
                  <a:lnTo>
                    <a:pt x="297" y="338"/>
                  </a:lnTo>
                  <a:lnTo>
                    <a:pt x="291" y="337"/>
                  </a:lnTo>
                  <a:lnTo>
                    <a:pt x="285" y="337"/>
                  </a:lnTo>
                  <a:lnTo>
                    <a:pt x="280" y="338"/>
                  </a:lnTo>
                  <a:lnTo>
                    <a:pt x="275" y="338"/>
                  </a:lnTo>
                  <a:lnTo>
                    <a:pt x="270" y="339"/>
                  </a:lnTo>
                  <a:lnTo>
                    <a:pt x="264" y="339"/>
                  </a:lnTo>
                  <a:lnTo>
                    <a:pt x="259" y="342"/>
                  </a:lnTo>
                  <a:lnTo>
                    <a:pt x="254" y="343"/>
                  </a:lnTo>
                  <a:lnTo>
                    <a:pt x="247" y="344"/>
                  </a:lnTo>
                  <a:lnTo>
                    <a:pt x="242" y="346"/>
                  </a:lnTo>
                  <a:lnTo>
                    <a:pt x="237" y="347"/>
                  </a:lnTo>
                  <a:lnTo>
                    <a:pt x="231" y="349"/>
                  </a:lnTo>
                  <a:lnTo>
                    <a:pt x="226" y="350"/>
                  </a:lnTo>
                  <a:lnTo>
                    <a:pt x="220" y="351"/>
                  </a:lnTo>
                  <a:lnTo>
                    <a:pt x="215" y="352"/>
                  </a:lnTo>
                  <a:lnTo>
                    <a:pt x="209" y="353"/>
                  </a:lnTo>
                  <a:lnTo>
                    <a:pt x="204" y="354"/>
                  </a:lnTo>
                  <a:lnTo>
                    <a:pt x="197" y="354"/>
                  </a:lnTo>
                  <a:lnTo>
                    <a:pt x="213" y="405"/>
                  </a:lnTo>
                  <a:lnTo>
                    <a:pt x="156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85520" y="4117680"/>
              <a:ext cx="19080" cy="2520"/>
            </a:xfrm>
            <a:custGeom>
              <a:avLst/>
              <a:gdLst/>
              <a:ahLst/>
              <a:rect l="l" t="t" r="r" b="b"/>
              <a:pathLst>
                <a:path w="59" h="6">
                  <a:moveTo>
                    <a:pt x="2" y="6"/>
                  </a:moveTo>
                  <a:lnTo>
                    <a:pt x="0" y="0"/>
                  </a:lnTo>
                  <a:lnTo>
                    <a:pt x="57" y="0"/>
                  </a:lnTo>
                  <a:lnTo>
                    <a:pt x="59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26200" y="4117680"/>
              <a:ext cx="316440" cy="2520"/>
            </a:xfrm>
            <a:custGeom>
              <a:avLst/>
              <a:gdLst/>
              <a:ahLst/>
              <a:rect l="l" t="t" r="r" b="b"/>
              <a:pathLst>
                <a:path w="991" h="6">
                  <a:moveTo>
                    <a:pt x="0" y="6"/>
                  </a:moveTo>
                  <a:lnTo>
                    <a:pt x="0" y="5"/>
                  </a:lnTo>
                  <a:lnTo>
                    <a:pt x="4" y="0"/>
                  </a:lnTo>
                  <a:lnTo>
                    <a:pt x="991" y="0"/>
                  </a:lnTo>
                  <a:lnTo>
                    <a:pt x="98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64640" y="4120200"/>
              <a:ext cx="377280" cy="300600"/>
            </a:xfrm>
            <a:custGeom>
              <a:avLst/>
              <a:gdLst/>
              <a:ahLst/>
              <a:rect l="l" t="t" r="r" b="b"/>
              <a:pathLst>
                <a:path w="1178" h="635">
                  <a:moveTo>
                    <a:pt x="69" y="0"/>
                  </a:moveTo>
                  <a:lnTo>
                    <a:pt x="90" y="71"/>
                  </a:lnTo>
                  <a:lnTo>
                    <a:pt x="0" y="589"/>
                  </a:lnTo>
                  <a:lnTo>
                    <a:pt x="717" y="635"/>
                  </a:lnTo>
                  <a:lnTo>
                    <a:pt x="733" y="616"/>
                  </a:lnTo>
                  <a:lnTo>
                    <a:pt x="748" y="599"/>
                  </a:lnTo>
                  <a:lnTo>
                    <a:pt x="763" y="580"/>
                  </a:lnTo>
                  <a:lnTo>
                    <a:pt x="779" y="561"/>
                  </a:lnTo>
                  <a:lnTo>
                    <a:pt x="793" y="542"/>
                  </a:lnTo>
                  <a:lnTo>
                    <a:pt x="808" y="524"/>
                  </a:lnTo>
                  <a:lnTo>
                    <a:pt x="822" y="504"/>
                  </a:lnTo>
                  <a:lnTo>
                    <a:pt x="837" y="485"/>
                  </a:lnTo>
                  <a:lnTo>
                    <a:pt x="851" y="466"/>
                  </a:lnTo>
                  <a:lnTo>
                    <a:pt x="865" y="446"/>
                  </a:lnTo>
                  <a:lnTo>
                    <a:pt x="879" y="427"/>
                  </a:lnTo>
                  <a:lnTo>
                    <a:pt x="893" y="406"/>
                  </a:lnTo>
                  <a:lnTo>
                    <a:pt x="907" y="387"/>
                  </a:lnTo>
                  <a:lnTo>
                    <a:pt x="920" y="368"/>
                  </a:lnTo>
                  <a:lnTo>
                    <a:pt x="935" y="349"/>
                  </a:lnTo>
                  <a:lnTo>
                    <a:pt x="948" y="330"/>
                  </a:lnTo>
                  <a:lnTo>
                    <a:pt x="964" y="308"/>
                  </a:lnTo>
                  <a:lnTo>
                    <a:pt x="981" y="286"/>
                  </a:lnTo>
                  <a:lnTo>
                    <a:pt x="997" y="264"/>
                  </a:lnTo>
                  <a:lnTo>
                    <a:pt x="1012" y="241"/>
                  </a:lnTo>
                  <a:lnTo>
                    <a:pt x="1029" y="219"/>
                  </a:lnTo>
                  <a:lnTo>
                    <a:pt x="1044" y="197"/>
                  </a:lnTo>
                  <a:lnTo>
                    <a:pt x="1060" y="174"/>
                  </a:lnTo>
                  <a:lnTo>
                    <a:pt x="1075" y="152"/>
                  </a:lnTo>
                  <a:lnTo>
                    <a:pt x="1092" y="129"/>
                  </a:lnTo>
                  <a:lnTo>
                    <a:pt x="1107" y="107"/>
                  </a:lnTo>
                  <a:lnTo>
                    <a:pt x="1122" y="84"/>
                  </a:lnTo>
                  <a:lnTo>
                    <a:pt x="1138" y="61"/>
                  </a:lnTo>
                  <a:lnTo>
                    <a:pt x="1153" y="39"/>
                  </a:lnTo>
                  <a:lnTo>
                    <a:pt x="1168" y="15"/>
                  </a:lnTo>
                  <a:lnTo>
                    <a:pt x="1178" y="0"/>
                  </a:lnTo>
                  <a:lnTo>
                    <a:pt x="192" y="0"/>
                  </a:lnTo>
                  <a:lnTo>
                    <a:pt x="186" y="8"/>
                  </a:lnTo>
                  <a:lnTo>
                    <a:pt x="180" y="17"/>
                  </a:lnTo>
                  <a:lnTo>
                    <a:pt x="174" y="26"/>
                  </a:lnTo>
                  <a:lnTo>
                    <a:pt x="168" y="36"/>
                  </a:lnTo>
                  <a:lnTo>
                    <a:pt x="162" y="45"/>
                  </a:lnTo>
                  <a:lnTo>
                    <a:pt x="157" y="54"/>
                  </a:lnTo>
                  <a:lnTo>
                    <a:pt x="154" y="58"/>
                  </a:lnTo>
                  <a:lnTo>
                    <a:pt x="152" y="63"/>
                  </a:lnTo>
                  <a:lnTo>
                    <a:pt x="150" y="68"/>
                  </a:lnTo>
                  <a:lnTo>
                    <a:pt x="147" y="73"/>
                  </a:lnTo>
                  <a:lnTo>
                    <a:pt x="126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24280" y="4025160"/>
              <a:ext cx="769680" cy="1130760"/>
            </a:xfrm>
            <a:custGeom>
              <a:avLst/>
              <a:gdLst/>
              <a:ahLst/>
              <a:rect l="l" t="t" r="r" b="b"/>
              <a:pathLst>
                <a:path w="2406" h="2391">
                  <a:moveTo>
                    <a:pt x="2406" y="838"/>
                  </a:moveTo>
                  <a:lnTo>
                    <a:pt x="2402" y="842"/>
                  </a:lnTo>
                  <a:lnTo>
                    <a:pt x="2397" y="847"/>
                  </a:lnTo>
                  <a:lnTo>
                    <a:pt x="2392" y="851"/>
                  </a:lnTo>
                  <a:lnTo>
                    <a:pt x="2387" y="855"/>
                  </a:lnTo>
                  <a:lnTo>
                    <a:pt x="2382" y="859"/>
                  </a:lnTo>
                  <a:lnTo>
                    <a:pt x="2376" y="863"/>
                  </a:lnTo>
                  <a:lnTo>
                    <a:pt x="2371" y="867"/>
                  </a:lnTo>
                  <a:lnTo>
                    <a:pt x="2366" y="870"/>
                  </a:lnTo>
                  <a:lnTo>
                    <a:pt x="2359" y="874"/>
                  </a:lnTo>
                  <a:lnTo>
                    <a:pt x="2353" y="879"/>
                  </a:lnTo>
                  <a:lnTo>
                    <a:pt x="2348" y="882"/>
                  </a:lnTo>
                  <a:lnTo>
                    <a:pt x="2342" y="885"/>
                  </a:lnTo>
                  <a:lnTo>
                    <a:pt x="2337" y="888"/>
                  </a:lnTo>
                  <a:lnTo>
                    <a:pt x="2331" y="891"/>
                  </a:lnTo>
                  <a:lnTo>
                    <a:pt x="2325" y="893"/>
                  </a:lnTo>
                  <a:lnTo>
                    <a:pt x="2319" y="896"/>
                  </a:lnTo>
                  <a:lnTo>
                    <a:pt x="2315" y="898"/>
                  </a:lnTo>
                  <a:lnTo>
                    <a:pt x="2310" y="900"/>
                  </a:lnTo>
                  <a:lnTo>
                    <a:pt x="2304" y="901"/>
                  </a:lnTo>
                  <a:lnTo>
                    <a:pt x="2299" y="902"/>
                  </a:lnTo>
                  <a:lnTo>
                    <a:pt x="2294" y="902"/>
                  </a:lnTo>
                  <a:lnTo>
                    <a:pt x="2289" y="903"/>
                  </a:lnTo>
                  <a:lnTo>
                    <a:pt x="2284" y="904"/>
                  </a:lnTo>
                  <a:lnTo>
                    <a:pt x="2278" y="904"/>
                  </a:lnTo>
                  <a:lnTo>
                    <a:pt x="2273" y="905"/>
                  </a:lnTo>
                  <a:lnTo>
                    <a:pt x="2268" y="905"/>
                  </a:lnTo>
                  <a:lnTo>
                    <a:pt x="2263" y="906"/>
                  </a:lnTo>
                  <a:lnTo>
                    <a:pt x="2256" y="906"/>
                  </a:lnTo>
                  <a:lnTo>
                    <a:pt x="2251" y="907"/>
                  </a:lnTo>
                  <a:lnTo>
                    <a:pt x="2246" y="908"/>
                  </a:lnTo>
                  <a:lnTo>
                    <a:pt x="2241" y="910"/>
                  </a:lnTo>
                  <a:lnTo>
                    <a:pt x="2236" y="911"/>
                  </a:lnTo>
                  <a:lnTo>
                    <a:pt x="2229" y="914"/>
                  </a:lnTo>
                  <a:lnTo>
                    <a:pt x="2222" y="919"/>
                  </a:lnTo>
                  <a:lnTo>
                    <a:pt x="2216" y="924"/>
                  </a:lnTo>
                  <a:lnTo>
                    <a:pt x="2209" y="929"/>
                  </a:lnTo>
                  <a:lnTo>
                    <a:pt x="2201" y="935"/>
                  </a:lnTo>
                  <a:lnTo>
                    <a:pt x="2195" y="940"/>
                  </a:lnTo>
                  <a:lnTo>
                    <a:pt x="2188" y="944"/>
                  </a:lnTo>
                  <a:lnTo>
                    <a:pt x="2182" y="947"/>
                  </a:lnTo>
                  <a:lnTo>
                    <a:pt x="2179" y="949"/>
                  </a:lnTo>
                  <a:lnTo>
                    <a:pt x="2176" y="950"/>
                  </a:lnTo>
                  <a:lnTo>
                    <a:pt x="2172" y="951"/>
                  </a:lnTo>
                  <a:lnTo>
                    <a:pt x="2169" y="952"/>
                  </a:lnTo>
                  <a:lnTo>
                    <a:pt x="2166" y="953"/>
                  </a:lnTo>
                  <a:lnTo>
                    <a:pt x="2162" y="953"/>
                  </a:lnTo>
                  <a:lnTo>
                    <a:pt x="2159" y="954"/>
                  </a:lnTo>
                  <a:lnTo>
                    <a:pt x="2154" y="954"/>
                  </a:lnTo>
                  <a:lnTo>
                    <a:pt x="2148" y="960"/>
                  </a:lnTo>
                  <a:lnTo>
                    <a:pt x="2141" y="966"/>
                  </a:lnTo>
                  <a:lnTo>
                    <a:pt x="2134" y="972"/>
                  </a:lnTo>
                  <a:lnTo>
                    <a:pt x="2128" y="978"/>
                  </a:lnTo>
                  <a:lnTo>
                    <a:pt x="2121" y="984"/>
                  </a:lnTo>
                  <a:lnTo>
                    <a:pt x="2114" y="989"/>
                  </a:lnTo>
                  <a:lnTo>
                    <a:pt x="2108" y="993"/>
                  </a:lnTo>
                  <a:lnTo>
                    <a:pt x="2101" y="997"/>
                  </a:lnTo>
                  <a:lnTo>
                    <a:pt x="2085" y="1005"/>
                  </a:lnTo>
                  <a:lnTo>
                    <a:pt x="2069" y="1012"/>
                  </a:lnTo>
                  <a:lnTo>
                    <a:pt x="2053" y="1019"/>
                  </a:lnTo>
                  <a:lnTo>
                    <a:pt x="2038" y="1025"/>
                  </a:lnTo>
                  <a:lnTo>
                    <a:pt x="2024" y="1031"/>
                  </a:lnTo>
                  <a:lnTo>
                    <a:pt x="2010" y="1035"/>
                  </a:lnTo>
                  <a:lnTo>
                    <a:pt x="1995" y="1041"/>
                  </a:lnTo>
                  <a:lnTo>
                    <a:pt x="1981" y="1044"/>
                  </a:lnTo>
                  <a:lnTo>
                    <a:pt x="1969" y="1047"/>
                  </a:lnTo>
                  <a:lnTo>
                    <a:pt x="1956" y="1049"/>
                  </a:lnTo>
                  <a:lnTo>
                    <a:pt x="1943" y="1051"/>
                  </a:lnTo>
                  <a:lnTo>
                    <a:pt x="1930" y="1052"/>
                  </a:lnTo>
                  <a:lnTo>
                    <a:pt x="1919" y="1053"/>
                  </a:lnTo>
                  <a:lnTo>
                    <a:pt x="1907" y="1052"/>
                  </a:lnTo>
                  <a:lnTo>
                    <a:pt x="1894" y="1052"/>
                  </a:lnTo>
                  <a:lnTo>
                    <a:pt x="1883" y="1050"/>
                  </a:lnTo>
                  <a:lnTo>
                    <a:pt x="1872" y="1048"/>
                  </a:lnTo>
                  <a:lnTo>
                    <a:pt x="1861" y="1046"/>
                  </a:lnTo>
                  <a:lnTo>
                    <a:pt x="1850" y="1043"/>
                  </a:lnTo>
                  <a:lnTo>
                    <a:pt x="1839" y="1040"/>
                  </a:lnTo>
                  <a:lnTo>
                    <a:pt x="1828" y="1035"/>
                  </a:lnTo>
                  <a:lnTo>
                    <a:pt x="1818" y="1030"/>
                  </a:lnTo>
                  <a:lnTo>
                    <a:pt x="1808" y="1025"/>
                  </a:lnTo>
                  <a:lnTo>
                    <a:pt x="1796" y="1020"/>
                  </a:lnTo>
                  <a:lnTo>
                    <a:pt x="1786" y="1013"/>
                  </a:lnTo>
                  <a:lnTo>
                    <a:pt x="1776" y="1007"/>
                  </a:lnTo>
                  <a:lnTo>
                    <a:pt x="1766" y="1000"/>
                  </a:lnTo>
                  <a:lnTo>
                    <a:pt x="1755" y="992"/>
                  </a:lnTo>
                  <a:lnTo>
                    <a:pt x="1744" y="985"/>
                  </a:lnTo>
                  <a:lnTo>
                    <a:pt x="1733" y="975"/>
                  </a:lnTo>
                  <a:lnTo>
                    <a:pt x="1723" y="967"/>
                  </a:lnTo>
                  <a:lnTo>
                    <a:pt x="1712" y="957"/>
                  </a:lnTo>
                  <a:lnTo>
                    <a:pt x="1687" y="1033"/>
                  </a:lnTo>
                  <a:lnTo>
                    <a:pt x="1665" y="1117"/>
                  </a:lnTo>
                  <a:lnTo>
                    <a:pt x="1645" y="1206"/>
                  </a:lnTo>
                  <a:lnTo>
                    <a:pt x="1629" y="1297"/>
                  </a:lnTo>
                  <a:lnTo>
                    <a:pt x="1618" y="1392"/>
                  </a:lnTo>
                  <a:lnTo>
                    <a:pt x="1610" y="1489"/>
                  </a:lnTo>
                  <a:lnTo>
                    <a:pt x="1607" y="1588"/>
                  </a:lnTo>
                  <a:lnTo>
                    <a:pt x="1608" y="1686"/>
                  </a:lnTo>
                  <a:lnTo>
                    <a:pt x="1614" y="1784"/>
                  </a:lnTo>
                  <a:lnTo>
                    <a:pt x="1626" y="1879"/>
                  </a:lnTo>
                  <a:lnTo>
                    <a:pt x="1643" y="1973"/>
                  </a:lnTo>
                  <a:lnTo>
                    <a:pt x="1667" y="2062"/>
                  </a:lnTo>
                  <a:lnTo>
                    <a:pt x="1697" y="2147"/>
                  </a:lnTo>
                  <a:lnTo>
                    <a:pt x="1734" y="2226"/>
                  </a:lnTo>
                  <a:lnTo>
                    <a:pt x="1778" y="2298"/>
                  </a:lnTo>
                  <a:lnTo>
                    <a:pt x="1829" y="2363"/>
                  </a:lnTo>
                  <a:lnTo>
                    <a:pt x="1769" y="2391"/>
                  </a:lnTo>
                  <a:lnTo>
                    <a:pt x="1717" y="2324"/>
                  </a:lnTo>
                  <a:lnTo>
                    <a:pt x="1672" y="2248"/>
                  </a:lnTo>
                  <a:lnTo>
                    <a:pt x="1634" y="2165"/>
                  </a:lnTo>
                  <a:lnTo>
                    <a:pt x="1604" y="2076"/>
                  </a:lnTo>
                  <a:lnTo>
                    <a:pt x="1579" y="1981"/>
                  </a:lnTo>
                  <a:lnTo>
                    <a:pt x="1562" y="1882"/>
                  </a:lnTo>
                  <a:lnTo>
                    <a:pt x="1551" y="1782"/>
                  </a:lnTo>
                  <a:lnTo>
                    <a:pt x="1544" y="1678"/>
                  </a:lnTo>
                  <a:lnTo>
                    <a:pt x="1543" y="1574"/>
                  </a:lnTo>
                  <a:lnTo>
                    <a:pt x="1547" y="1470"/>
                  </a:lnTo>
                  <a:lnTo>
                    <a:pt x="1557" y="1367"/>
                  </a:lnTo>
                  <a:lnTo>
                    <a:pt x="1570" y="1266"/>
                  </a:lnTo>
                  <a:lnTo>
                    <a:pt x="1587" y="1169"/>
                  </a:lnTo>
                  <a:lnTo>
                    <a:pt x="1609" y="1076"/>
                  </a:lnTo>
                  <a:lnTo>
                    <a:pt x="1632" y="990"/>
                  </a:lnTo>
                  <a:lnTo>
                    <a:pt x="1660" y="908"/>
                  </a:lnTo>
                  <a:lnTo>
                    <a:pt x="1659" y="907"/>
                  </a:lnTo>
                  <a:lnTo>
                    <a:pt x="1658" y="907"/>
                  </a:lnTo>
                  <a:lnTo>
                    <a:pt x="1658" y="906"/>
                  </a:lnTo>
                  <a:lnTo>
                    <a:pt x="1657" y="905"/>
                  </a:lnTo>
                  <a:lnTo>
                    <a:pt x="1639" y="889"/>
                  </a:lnTo>
                  <a:lnTo>
                    <a:pt x="1622" y="871"/>
                  </a:lnTo>
                  <a:lnTo>
                    <a:pt x="1604" y="854"/>
                  </a:lnTo>
                  <a:lnTo>
                    <a:pt x="1585" y="837"/>
                  </a:lnTo>
                  <a:lnTo>
                    <a:pt x="1567" y="820"/>
                  </a:lnTo>
                  <a:lnTo>
                    <a:pt x="1549" y="803"/>
                  </a:lnTo>
                  <a:lnTo>
                    <a:pt x="1530" y="786"/>
                  </a:lnTo>
                  <a:lnTo>
                    <a:pt x="1513" y="769"/>
                  </a:lnTo>
                  <a:lnTo>
                    <a:pt x="1493" y="752"/>
                  </a:lnTo>
                  <a:lnTo>
                    <a:pt x="1476" y="736"/>
                  </a:lnTo>
                  <a:lnTo>
                    <a:pt x="1459" y="720"/>
                  </a:lnTo>
                  <a:lnTo>
                    <a:pt x="1440" y="703"/>
                  </a:lnTo>
                  <a:lnTo>
                    <a:pt x="1424" y="688"/>
                  </a:lnTo>
                  <a:lnTo>
                    <a:pt x="1407" y="673"/>
                  </a:lnTo>
                  <a:lnTo>
                    <a:pt x="1391" y="657"/>
                  </a:lnTo>
                  <a:lnTo>
                    <a:pt x="1376" y="642"/>
                  </a:lnTo>
                  <a:lnTo>
                    <a:pt x="1350" y="629"/>
                  </a:lnTo>
                  <a:lnTo>
                    <a:pt x="1325" y="617"/>
                  </a:lnTo>
                  <a:lnTo>
                    <a:pt x="1304" y="605"/>
                  </a:lnTo>
                  <a:lnTo>
                    <a:pt x="1284" y="595"/>
                  </a:lnTo>
                  <a:lnTo>
                    <a:pt x="1266" y="585"/>
                  </a:lnTo>
                  <a:lnTo>
                    <a:pt x="1252" y="576"/>
                  </a:lnTo>
                  <a:lnTo>
                    <a:pt x="1237" y="567"/>
                  </a:lnTo>
                  <a:lnTo>
                    <a:pt x="1226" y="559"/>
                  </a:lnTo>
                  <a:lnTo>
                    <a:pt x="1215" y="551"/>
                  </a:lnTo>
                  <a:lnTo>
                    <a:pt x="1207" y="545"/>
                  </a:lnTo>
                  <a:lnTo>
                    <a:pt x="1198" y="539"/>
                  </a:lnTo>
                  <a:lnTo>
                    <a:pt x="1191" y="533"/>
                  </a:lnTo>
                  <a:lnTo>
                    <a:pt x="1185" y="528"/>
                  </a:lnTo>
                  <a:lnTo>
                    <a:pt x="1179" y="523"/>
                  </a:lnTo>
                  <a:lnTo>
                    <a:pt x="1174" y="519"/>
                  </a:lnTo>
                  <a:lnTo>
                    <a:pt x="1169" y="515"/>
                  </a:lnTo>
                  <a:lnTo>
                    <a:pt x="1168" y="522"/>
                  </a:lnTo>
                  <a:lnTo>
                    <a:pt x="1168" y="528"/>
                  </a:lnTo>
                  <a:lnTo>
                    <a:pt x="1168" y="535"/>
                  </a:lnTo>
                  <a:lnTo>
                    <a:pt x="1168" y="542"/>
                  </a:lnTo>
                  <a:lnTo>
                    <a:pt x="1170" y="577"/>
                  </a:lnTo>
                  <a:lnTo>
                    <a:pt x="1173" y="613"/>
                  </a:lnTo>
                  <a:lnTo>
                    <a:pt x="1177" y="648"/>
                  </a:lnTo>
                  <a:lnTo>
                    <a:pt x="1183" y="683"/>
                  </a:lnTo>
                  <a:lnTo>
                    <a:pt x="1188" y="719"/>
                  </a:lnTo>
                  <a:lnTo>
                    <a:pt x="1195" y="753"/>
                  </a:lnTo>
                  <a:lnTo>
                    <a:pt x="1200" y="789"/>
                  </a:lnTo>
                  <a:lnTo>
                    <a:pt x="1205" y="824"/>
                  </a:lnTo>
                  <a:lnTo>
                    <a:pt x="1208" y="852"/>
                  </a:lnTo>
                  <a:lnTo>
                    <a:pt x="1210" y="882"/>
                  </a:lnTo>
                  <a:lnTo>
                    <a:pt x="1213" y="911"/>
                  </a:lnTo>
                  <a:lnTo>
                    <a:pt x="1218" y="940"/>
                  </a:lnTo>
                  <a:lnTo>
                    <a:pt x="1221" y="957"/>
                  </a:lnTo>
                  <a:lnTo>
                    <a:pt x="1226" y="975"/>
                  </a:lnTo>
                  <a:lnTo>
                    <a:pt x="1230" y="993"/>
                  </a:lnTo>
                  <a:lnTo>
                    <a:pt x="1234" y="1011"/>
                  </a:lnTo>
                  <a:lnTo>
                    <a:pt x="1238" y="1029"/>
                  </a:lnTo>
                  <a:lnTo>
                    <a:pt x="1241" y="1048"/>
                  </a:lnTo>
                  <a:lnTo>
                    <a:pt x="1245" y="1065"/>
                  </a:lnTo>
                  <a:lnTo>
                    <a:pt x="1247" y="1083"/>
                  </a:lnTo>
                  <a:lnTo>
                    <a:pt x="1247" y="1096"/>
                  </a:lnTo>
                  <a:lnTo>
                    <a:pt x="1247" y="1107"/>
                  </a:lnTo>
                  <a:lnTo>
                    <a:pt x="1245" y="1117"/>
                  </a:lnTo>
                  <a:lnTo>
                    <a:pt x="1240" y="1126"/>
                  </a:lnTo>
                  <a:lnTo>
                    <a:pt x="1248" y="1169"/>
                  </a:lnTo>
                  <a:lnTo>
                    <a:pt x="1252" y="1174"/>
                  </a:lnTo>
                  <a:lnTo>
                    <a:pt x="1257" y="1179"/>
                  </a:lnTo>
                  <a:lnTo>
                    <a:pt x="1262" y="1184"/>
                  </a:lnTo>
                  <a:lnTo>
                    <a:pt x="1266" y="1189"/>
                  </a:lnTo>
                  <a:lnTo>
                    <a:pt x="1271" y="1195"/>
                  </a:lnTo>
                  <a:lnTo>
                    <a:pt x="1274" y="1201"/>
                  </a:lnTo>
                  <a:lnTo>
                    <a:pt x="1278" y="1207"/>
                  </a:lnTo>
                  <a:lnTo>
                    <a:pt x="1281" y="1212"/>
                  </a:lnTo>
                  <a:lnTo>
                    <a:pt x="1288" y="1229"/>
                  </a:lnTo>
                  <a:lnTo>
                    <a:pt x="1296" y="1246"/>
                  </a:lnTo>
                  <a:lnTo>
                    <a:pt x="1302" y="1264"/>
                  </a:lnTo>
                  <a:lnTo>
                    <a:pt x="1308" y="1282"/>
                  </a:lnTo>
                  <a:lnTo>
                    <a:pt x="1313" y="1299"/>
                  </a:lnTo>
                  <a:lnTo>
                    <a:pt x="1319" y="1318"/>
                  </a:lnTo>
                  <a:lnTo>
                    <a:pt x="1324" y="1336"/>
                  </a:lnTo>
                  <a:lnTo>
                    <a:pt x="1328" y="1353"/>
                  </a:lnTo>
                  <a:lnTo>
                    <a:pt x="1333" y="1371"/>
                  </a:lnTo>
                  <a:lnTo>
                    <a:pt x="1336" y="1388"/>
                  </a:lnTo>
                  <a:lnTo>
                    <a:pt x="1338" y="1405"/>
                  </a:lnTo>
                  <a:lnTo>
                    <a:pt x="1336" y="1423"/>
                  </a:lnTo>
                  <a:lnTo>
                    <a:pt x="1334" y="1428"/>
                  </a:lnTo>
                  <a:lnTo>
                    <a:pt x="1332" y="1432"/>
                  </a:lnTo>
                  <a:lnTo>
                    <a:pt x="1328" y="1436"/>
                  </a:lnTo>
                  <a:lnTo>
                    <a:pt x="1325" y="1440"/>
                  </a:lnTo>
                  <a:lnTo>
                    <a:pt x="1321" y="1444"/>
                  </a:lnTo>
                  <a:lnTo>
                    <a:pt x="1317" y="1446"/>
                  </a:lnTo>
                  <a:lnTo>
                    <a:pt x="1312" y="1449"/>
                  </a:lnTo>
                  <a:lnTo>
                    <a:pt x="1307" y="1452"/>
                  </a:lnTo>
                  <a:lnTo>
                    <a:pt x="1302" y="1454"/>
                  </a:lnTo>
                  <a:lnTo>
                    <a:pt x="1296" y="1456"/>
                  </a:lnTo>
                  <a:lnTo>
                    <a:pt x="1290" y="1458"/>
                  </a:lnTo>
                  <a:lnTo>
                    <a:pt x="1284" y="1460"/>
                  </a:lnTo>
                  <a:lnTo>
                    <a:pt x="1279" y="1463"/>
                  </a:lnTo>
                  <a:lnTo>
                    <a:pt x="1274" y="1465"/>
                  </a:lnTo>
                  <a:lnTo>
                    <a:pt x="1268" y="1467"/>
                  </a:lnTo>
                  <a:lnTo>
                    <a:pt x="1263" y="1468"/>
                  </a:lnTo>
                  <a:lnTo>
                    <a:pt x="1257" y="1470"/>
                  </a:lnTo>
                  <a:lnTo>
                    <a:pt x="1251" y="1471"/>
                  </a:lnTo>
                  <a:lnTo>
                    <a:pt x="1245" y="1473"/>
                  </a:lnTo>
                  <a:lnTo>
                    <a:pt x="1239" y="1474"/>
                  </a:lnTo>
                  <a:lnTo>
                    <a:pt x="1233" y="1475"/>
                  </a:lnTo>
                  <a:lnTo>
                    <a:pt x="1228" y="1476"/>
                  </a:lnTo>
                  <a:lnTo>
                    <a:pt x="1222" y="1477"/>
                  </a:lnTo>
                  <a:lnTo>
                    <a:pt x="1216" y="1478"/>
                  </a:lnTo>
                  <a:lnTo>
                    <a:pt x="1210" y="1479"/>
                  </a:lnTo>
                  <a:lnTo>
                    <a:pt x="1204" y="1479"/>
                  </a:lnTo>
                  <a:lnTo>
                    <a:pt x="1198" y="1480"/>
                  </a:lnTo>
                  <a:lnTo>
                    <a:pt x="1191" y="1480"/>
                  </a:lnTo>
                  <a:lnTo>
                    <a:pt x="1185" y="1480"/>
                  </a:lnTo>
                  <a:lnTo>
                    <a:pt x="1179" y="1480"/>
                  </a:lnTo>
                  <a:lnTo>
                    <a:pt x="1173" y="1481"/>
                  </a:lnTo>
                  <a:lnTo>
                    <a:pt x="1166" y="1480"/>
                  </a:lnTo>
                  <a:lnTo>
                    <a:pt x="1160" y="1480"/>
                  </a:lnTo>
                  <a:lnTo>
                    <a:pt x="1154" y="1480"/>
                  </a:lnTo>
                  <a:lnTo>
                    <a:pt x="1148" y="1480"/>
                  </a:lnTo>
                  <a:lnTo>
                    <a:pt x="1141" y="1480"/>
                  </a:lnTo>
                  <a:lnTo>
                    <a:pt x="1134" y="1480"/>
                  </a:lnTo>
                  <a:lnTo>
                    <a:pt x="1129" y="1480"/>
                  </a:lnTo>
                  <a:lnTo>
                    <a:pt x="1122" y="1480"/>
                  </a:lnTo>
                  <a:lnTo>
                    <a:pt x="1116" y="1480"/>
                  </a:lnTo>
                  <a:lnTo>
                    <a:pt x="1113" y="1472"/>
                  </a:lnTo>
                  <a:lnTo>
                    <a:pt x="1111" y="1464"/>
                  </a:lnTo>
                  <a:lnTo>
                    <a:pt x="1108" y="1456"/>
                  </a:lnTo>
                  <a:lnTo>
                    <a:pt x="1105" y="1447"/>
                  </a:lnTo>
                  <a:lnTo>
                    <a:pt x="1100" y="1449"/>
                  </a:lnTo>
                  <a:lnTo>
                    <a:pt x="1095" y="1451"/>
                  </a:lnTo>
                  <a:lnTo>
                    <a:pt x="1088" y="1453"/>
                  </a:lnTo>
                  <a:lnTo>
                    <a:pt x="1084" y="1456"/>
                  </a:lnTo>
                  <a:lnTo>
                    <a:pt x="1078" y="1457"/>
                  </a:lnTo>
                  <a:lnTo>
                    <a:pt x="1073" y="1460"/>
                  </a:lnTo>
                  <a:lnTo>
                    <a:pt x="1068" y="1463"/>
                  </a:lnTo>
                  <a:lnTo>
                    <a:pt x="1063" y="1465"/>
                  </a:lnTo>
                  <a:lnTo>
                    <a:pt x="1057" y="1468"/>
                  </a:lnTo>
                  <a:lnTo>
                    <a:pt x="1052" y="1469"/>
                  </a:lnTo>
                  <a:lnTo>
                    <a:pt x="1047" y="1471"/>
                  </a:lnTo>
                  <a:lnTo>
                    <a:pt x="1042" y="1473"/>
                  </a:lnTo>
                  <a:lnTo>
                    <a:pt x="1035" y="1475"/>
                  </a:lnTo>
                  <a:lnTo>
                    <a:pt x="1030" y="1477"/>
                  </a:lnTo>
                  <a:lnTo>
                    <a:pt x="1024" y="1478"/>
                  </a:lnTo>
                  <a:lnTo>
                    <a:pt x="1019" y="1479"/>
                  </a:lnTo>
                  <a:lnTo>
                    <a:pt x="1011" y="1480"/>
                  </a:lnTo>
                  <a:lnTo>
                    <a:pt x="1002" y="1482"/>
                  </a:lnTo>
                  <a:lnTo>
                    <a:pt x="993" y="1483"/>
                  </a:lnTo>
                  <a:lnTo>
                    <a:pt x="984" y="1484"/>
                  </a:lnTo>
                  <a:lnTo>
                    <a:pt x="975" y="1485"/>
                  </a:lnTo>
                  <a:lnTo>
                    <a:pt x="967" y="1486"/>
                  </a:lnTo>
                  <a:lnTo>
                    <a:pt x="958" y="1487"/>
                  </a:lnTo>
                  <a:lnTo>
                    <a:pt x="949" y="1487"/>
                  </a:lnTo>
                  <a:lnTo>
                    <a:pt x="940" y="1488"/>
                  </a:lnTo>
                  <a:lnTo>
                    <a:pt x="931" y="1488"/>
                  </a:lnTo>
                  <a:lnTo>
                    <a:pt x="922" y="1488"/>
                  </a:lnTo>
                  <a:lnTo>
                    <a:pt x="913" y="1488"/>
                  </a:lnTo>
                  <a:lnTo>
                    <a:pt x="904" y="1488"/>
                  </a:lnTo>
                  <a:lnTo>
                    <a:pt x="895" y="1488"/>
                  </a:lnTo>
                  <a:lnTo>
                    <a:pt x="886" y="1487"/>
                  </a:lnTo>
                  <a:lnTo>
                    <a:pt x="877" y="1487"/>
                  </a:lnTo>
                  <a:lnTo>
                    <a:pt x="871" y="1486"/>
                  </a:lnTo>
                  <a:lnTo>
                    <a:pt x="864" y="1485"/>
                  </a:lnTo>
                  <a:lnTo>
                    <a:pt x="857" y="1484"/>
                  </a:lnTo>
                  <a:lnTo>
                    <a:pt x="850" y="1483"/>
                  </a:lnTo>
                  <a:lnTo>
                    <a:pt x="844" y="1482"/>
                  </a:lnTo>
                  <a:lnTo>
                    <a:pt x="838" y="1480"/>
                  </a:lnTo>
                  <a:lnTo>
                    <a:pt x="830" y="1479"/>
                  </a:lnTo>
                  <a:lnTo>
                    <a:pt x="823" y="1478"/>
                  </a:lnTo>
                  <a:lnTo>
                    <a:pt x="817" y="1476"/>
                  </a:lnTo>
                  <a:lnTo>
                    <a:pt x="810" y="1474"/>
                  </a:lnTo>
                  <a:lnTo>
                    <a:pt x="804" y="1471"/>
                  </a:lnTo>
                  <a:lnTo>
                    <a:pt x="797" y="1469"/>
                  </a:lnTo>
                  <a:lnTo>
                    <a:pt x="791" y="1467"/>
                  </a:lnTo>
                  <a:lnTo>
                    <a:pt x="784" y="1464"/>
                  </a:lnTo>
                  <a:lnTo>
                    <a:pt x="778" y="1460"/>
                  </a:lnTo>
                  <a:lnTo>
                    <a:pt x="772" y="1457"/>
                  </a:lnTo>
                  <a:lnTo>
                    <a:pt x="763" y="1453"/>
                  </a:lnTo>
                  <a:lnTo>
                    <a:pt x="755" y="1447"/>
                  </a:lnTo>
                  <a:lnTo>
                    <a:pt x="747" y="1441"/>
                  </a:lnTo>
                  <a:lnTo>
                    <a:pt x="739" y="1435"/>
                  </a:lnTo>
                  <a:lnTo>
                    <a:pt x="730" y="1428"/>
                  </a:lnTo>
                  <a:lnTo>
                    <a:pt x="723" y="1421"/>
                  </a:lnTo>
                  <a:lnTo>
                    <a:pt x="716" y="1414"/>
                  </a:lnTo>
                  <a:lnTo>
                    <a:pt x="708" y="1405"/>
                  </a:lnTo>
                  <a:lnTo>
                    <a:pt x="704" y="1401"/>
                  </a:lnTo>
                  <a:lnTo>
                    <a:pt x="699" y="1395"/>
                  </a:lnTo>
                  <a:lnTo>
                    <a:pt x="694" y="1390"/>
                  </a:lnTo>
                  <a:lnTo>
                    <a:pt x="689" y="1384"/>
                  </a:lnTo>
                  <a:lnTo>
                    <a:pt x="684" y="1378"/>
                  </a:lnTo>
                  <a:lnTo>
                    <a:pt x="680" y="1372"/>
                  </a:lnTo>
                  <a:lnTo>
                    <a:pt x="677" y="1366"/>
                  </a:lnTo>
                  <a:lnTo>
                    <a:pt x="675" y="1359"/>
                  </a:lnTo>
                  <a:lnTo>
                    <a:pt x="674" y="1350"/>
                  </a:lnTo>
                  <a:lnTo>
                    <a:pt x="675" y="1341"/>
                  </a:lnTo>
                  <a:lnTo>
                    <a:pt x="679" y="1334"/>
                  </a:lnTo>
                  <a:lnTo>
                    <a:pt x="684" y="1328"/>
                  </a:lnTo>
                  <a:lnTo>
                    <a:pt x="690" y="1324"/>
                  </a:lnTo>
                  <a:lnTo>
                    <a:pt x="696" y="1320"/>
                  </a:lnTo>
                  <a:lnTo>
                    <a:pt x="702" y="1317"/>
                  </a:lnTo>
                  <a:lnTo>
                    <a:pt x="708" y="1315"/>
                  </a:lnTo>
                  <a:lnTo>
                    <a:pt x="715" y="1313"/>
                  </a:lnTo>
                  <a:lnTo>
                    <a:pt x="722" y="1311"/>
                  </a:lnTo>
                  <a:lnTo>
                    <a:pt x="728" y="1310"/>
                  </a:lnTo>
                  <a:lnTo>
                    <a:pt x="735" y="1310"/>
                  </a:lnTo>
                  <a:lnTo>
                    <a:pt x="741" y="1310"/>
                  </a:lnTo>
                  <a:lnTo>
                    <a:pt x="746" y="1310"/>
                  </a:lnTo>
                  <a:lnTo>
                    <a:pt x="752" y="1310"/>
                  </a:lnTo>
                  <a:lnTo>
                    <a:pt x="757" y="1311"/>
                  </a:lnTo>
                  <a:lnTo>
                    <a:pt x="762" y="1311"/>
                  </a:lnTo>
                  <a:lnTo>
                    <a:pt x="767" y="1312"/>
                  </a:lnTo>
                  <a:lnTo>
                    <a:pt x="773" y="1313"/>
                  </a:lnTo>
                  <a:lnTo>
                    <a:pt x="778" y="1314"/>
                  </a:lnTo>
                  <a:lnTo>
                    <a:pt x="783" y="1315"/>
                  </a:lnTo>
                  <a:lnTo>
                    <a:pt x="789" y="1316"/>
                  </a:lnTo>
                  <a:lnTo>
                    <a:pt x="795" y="1317"/>
                  </a:lnTo>
                  <a:lnTo>
                    <a:pt x="800" y="1318"/>
                  </a:lnTo>
                  <a:lnTo>
                    <a:pt x="805" y="1319"/>
                  </a:lnTo>
                  <a:lnTo>
                    <a:pt x="810" y="1320"/>
                  </a:lnTo>
                  <a:lnTo>
                    <a:pt x="816" y="1321"/>
                  </a:lnTo>
                  <a:lnTo>
                    <a:pt x="821" y="1322"/>
                  </a:lnTo>
                  <a:lnTo>
                    <a:pt x="830" y="1319"/>
                  </a:lnTo>
                  <a:lnTo>
                    <a:pt x="839" y="1316"/>
                  </a:lnTo>
                  <a:lnTo>
                    <a:pt x="849" y="1313"/>
                  </a:lnTo>
                  <a:lnTo>
                    <a:pt x="858" y="1309"/>
                  </a:lnTo>
                  <a:lnTo>
                    <a:pt x="867" y="1306"/>
                  </a:lnTo>
                  <a:lnTo>
                    <a:pt x="875" y="1303"/>
                  </a:lnTo>
                  <a:lnTo>
                    <a:pt x="884" y="1299"/>
                  </a:lnTo>
                  <a:lnTo>
                    <a:pt x="894" y="1295"/>
                  </a:lnTo>
                  <a:lnTo>
                    <a:pt x="903" y="1288"/>
                  </a:lnTo>
                  <a:lnTo>
                    <a:pt x="912" y="1282"/>
                  </a:lnTo>
                  <a:lnTo>
                    <a:pt x="920" y="1274"/>
                  </a:lnTo>
                  <a:lnTo>
                    <a:pt x="929" y="1268"/>
                  </a:lnTo>
                  <a:lnTo>
                    <a:pt x="937" y="1261"/>
                  </a:lnTo>
                  <a:lnTo>
                    <a:pt x="947" y="1254"/>
                  </a:lnTo>
                  <a:lnTo>
                    <a:pt x="956" y="1246"/>
                  </a:lnTo>
                  <a:lnTo>
                    <a:pt x="964" y="1239"/>
                  </a:lnTo>
                  <a:lnTo>
                    <a:pt x="965" y="1239"/>
                  </a:lnTo>
                  <a:lnTo>
                    <a:pt x="965" y="1239"/>
                  </a:lnTo>
                  <a:lnTo>
                    <a:pt x="965" y="1239"/>
                  </a:lnTo>
                  <a:lnTo>
                    <a:pt x="965" y="1240"/>
                  </a:lnTo>
                  <a:lnTo>
                    <a:pt x="968" y="1229"/>
                  </a:lnTo>
                  <a:lnTo>
                    <a:pt x="971" y="1219"/>
                  </a:lnTo>
                  <a:lnTo>
                    <a:pt x="975" y="1210"/>
                  </a:lnTo>
                  <a:lnTo>
                    <a:pt x="978" y="1200"/>
                  </a:lnTo>
                  <a:lnTo>
                    <a:pt x="981" y="1189"/>
                  </a:lnTo>
                  <a:lnTo>
                    <a:pt x="984" y="1178"/>
                  </a:lnTo>
                  <a:lnTo>
                    <a:pt x="987" y="1167"/>
                  </a:lnTo>
                  <a:lnTo>
                    <a:pt x="992" y="1154"/>
                  </a:lnTo>
                  <a:lnTo>
                    <a:pt x="996" y="1137"/>
                  </a:lnTo>
                  <a:lnTo>
                    <a:pt x="999" y="1120"/>
                  </a:lnTo>
                  <a:lnTo>
                    <a:pt x="1001" y="1103"/>
                  </a:lnTo>
                  <a:lnTo>
                    <a:pt x="1002" y="1085"/>
                  </a:lnTo>
                  <a:lnTo>
                    <a:pt x="993" y="1079"/>
                  </a:lnTo>
                  <a:lnTo>
                    <a:pt x="983" y="1073"/>
                  </a:lnTo>
                  <a:lnTo>
                    <a:pt x="975" y="1067"/>
                  </a:lnTo>
                  <a:lnTo>
                    <a:pt x="967" y="1061"/>
                  </a:lnTo>
                  <a:lnTo>
                    <a:pt x="958" y="1055"/>
                  </a:lnTo>
                  <a:lnTo>
                    <a:pt x="949" y="1050"/>
                  </a:lnTo>
                  <a:lnTo>
                    <a:pt x="941" y="1044"/>
                  </a:lnTo>
                  <a:lnTo>
                    <a:pt x="931" y="1040"/>
                  </a:lnTo>
                  <a:lnTo>
                    <a:pt x="923" y="1037"/>
                  </a:lnTo>
                  <a:lnTo>
                    <a:pt x="915" y="1034"/>
                  </a:lnTo>
                  <a:lnTo>
                    <a:pt x="907" y="1032"/>
                  </a:lnTo>
                  <a:lnTo>
                    <a:pt x="899" y="1029"/>
                  </a:lnTo>
                  <a:lnTo>
                    <a:pt x="892" y="1026"/>
                  </a:lnTo>
                  <a:lnTo>
                    <a:pt x="883" y="1024"/>
                  </a:lnTo>
                  <a:lnTo>
                    <a:pt x="875" y="1021"/>
                  </a:lnTo>
                  <a:lnTo>
                    <a:pt x="868" y="1018"/>
                  </a:lnTo>
                  <a:lnTo>
                    <a:pt x="860" y="1015"/>
                  </a:lnTo>
                  <a:lnTo>
                    <a:pt x="852" y="1012"/>
                  </a:lnTo>
                  <a:lnTo>
                    <a:pt x="845" y="1009"/>
                  </a:lnTo>
                  <a:lnTo>
                    <a:pt x="836" y="1006"/>
                  </a:lnTo>
                  <a:lnTo>
                    <a:pt x="828" y="1003"/>
                  </a:lnTo>
                  <a:lnTo>
                    <a:pt x="821" y="999"/>
                  </a:lnTo>
                  <a:lnTo>
                    <a:pt x="814" y="995"/>
                  </a:lnTo>
                  <a:lnTo>
                    <a:pt x="806" y="991"/>
                  </a:lnTo>
                  <a:lnTo>
                    <a:pt x="799" y="987"/>
                  </a:lnTo>
                  <a:lnTo>
                    <a:pt x="791" y="980"/>
                  </a:lnTo>
                  <a:lnTo>
                    <a:pt x="784" y="973"/>
                  </a:lnTo>
                  <a:lnTo>
                    <a:pt x="778" y="966"/>
                  </a:lnTo>
                  <a:lnTo>
                    <a:pt x="772" y="958"/>
                  </a:lnTo>
                  <a:lnTo>
                    <a:pt x="768" y="950"/>
                  </a:lnTo>
                  <a:lnTo>
                    <a:pt x="764" y="942"/>
                  </a:lnTo>
                  <a:lnTo>
                    <a:pt x="761" y="934"/>
                  </a:lnTo>
                  <a:lnTo>
                    <a:pt x="755" y="910"/>
                  </a:lnTo>
                  <a:lnTo>
                    <a:pt x="754" y="886"/>
                  </a:lnTo>
                  <a:lnTo>
                    <a:pt x="755" y="862"/>
                  </a:lnTo>
                  <a:lnTo>
                    <a:pt x="757" y="838"/>
                  </a:lnTo>
                  <a:lnTo>
                    <a:pt x="758" y="830"/>
                  </a:lnTo>
                  <a:lnTo>
                    <a:pt x="759" y="821"/>
                  </a:lnTo>
                  <a:lnTo>
                    <a:pt x="759" y="814"/>
                  </a:lnTo>
                  <a:lnTo>
                    <a:pt x="760" y="805"/>
                  </a:lnTo>
                  <a:lnTo>
                    <a:pt x="758" y="807"/>
                  </a:lnTo>
                  <a:lnTo>
                    <a:pt x="755" y="809"/>
                  </a:lnTo>
                  <a:lnTo>
                    <a:pt x="753" y="811"/>
                  </a:lnTo>
                  <a:lnTo>
                    <a:pt x="751" y="813"/>
                  </a:lnTo>
                  <a:lnTo>
                    <a:pt x="743" y="821"/>
                  </a:lnTo>
                  <a:lnTo>
                    <a:pt x="734" y="830"/>
                  </a:lnTo>
                  <a:lnTo>
                    <a:pt x="726" y="838"/>
                  </a:lnTo>
                  <a:lnTo>
                    <a:pt x="718" y="847"/>
                  </a:lnTo>
                  <a:lnTo>
                    <a:pt x="710" y="855"/>
                  </a:lnTo>
                  <a:lnTo>
                    <a:pt x="702" y="864"/>
                  </a:lnTo>
                  <a:lnTo>
                    <a:pt x="694" y="872"/>
                  </a:lnTo>
                  <a:lnTo>
                    <a:pt x="686" y="881"/>
                  </a:lnTo>
                  <a:lnTo>
                    <a:pt x="676" y="890"/>
                  </a:lnTo>
                  <a:lnTo>
                    <a:pt x="668" y="898"/>
                  </a:lnTo>
                  <a:lnTo>
                    <a:pt x="660" y="906"/>
                  </a:lnTo>
                  <a:lnTo>
                    <a:pt x="651" y="913"/>
                  </a:lnTo>
                  <a:lnTo>
                    <a:pt x="642" y="920"/>
                  </a:lnTo>
                  <a:lnTo>
                    <a:pt x="632" y="927"/>
                  </a:lnTo>
                  <a:lnTo>
                    <a:pt x="622" y="935"/>
                  </a:lnTo>
                  <a:lnTo>
                    <a:pt x="613" y="940"/>
                  </a:lnTo>
                  <a:lnTo>
                    <a:pt x="610" y="942"/>
                  </a:lnTo>
                  <a:lnTo>
                    <a:pt x="606" y="943"/>
                  </a:lnTo>
                  <a:lnTo>
                    <a:pt x="602" y="942"/>
                  </a:lnTo>
                  <a:lnTo>
                    <a:pt x="600" y="941"/>
                  </a:lnTo>
                  <a:lnTo>
                    <a:pt x="593" y="948"/>
                  </a:lnTo>
                  <a:lnTo>
                    <a:pt x="585" y="956"/>
                  </a:lnTo>
                  <a:lnTo>
                    <a:pt x="577" y="964"/>
                  </a:lnTo>
                  <a:lnTo>
                    <a:pt x="570" y="971"/>
                  </a:lnTo>
                  <a:lnTo>
                    <a:pt x="563" y="979"/>
                  </a:lnTo>
                  <a:lnTo>
                    <a:pt x="556" y="988"/>
                  </a:lnTo>
                  <a:lnTo>
                    <a:pt x="549" y="995"/>
                  </a:lnTo>
                  <a:lnTo>
                    <a:pt x="542" y="1003"/>
                  </a:lnTo>
                  <a:lnTo>
                    <a:pt x="543" y="1003"/>
                  </a:lnTo>
                  <a:lnTo>
                    <a:pt x="545" y="1004"/>
                  </a:lnTo>
                  <a:lnTo>
                    <a:pt x="546" y="1005"/>
                  </a:lnTo>
                  <a:lnTo>
                    <a:pt x="547" y="1006"/>
                  </a:lnTo>
                  <a:lnTo>
                    <a:pt x="545" y="1015"/>
                  </a:lnTo>
                  <a:lnTo>
                    <a:pt x="544" y="1024"/>
                  </a:lnTo>
                  <a:lnTo>
                    <a:pt x="541" y="1033"/>
                  </a:lnTo>
                  <a:lnTo>
                    <a:pt x="537" y="1043"/>
                  </a:lnTo>
                  <a:lnTo>
                    <a:pt x="534" y="1052"/>
                  </a:lnTo>
                  <a:lnTo>
                    <a:pt x="529" y="1060"/>
                  </a:lnTo>
                  <a:lnTo>
                    <a:pt x="524" y="1068"/>
                  </a:lnTo>
                  <a:lnTo>
                    <a:pt x="520" y="1076"/>
                  </a:lnTo>
                  <a:lnTo>
                    <a:pt x="515" y="1084"/>
                  </a:lnTo>
                  <a:lnTo>
                    <a:pt x="510" y="1094"/>
                  </a:lnTo>
                  <a:lnTo>
                    <a:pt x="505" y="1103"/>
                  </a:lnTo>
                  <a:lnTo>
                    <a:pt x="500" y="1112"/>
                  </a:lnTo>
                  <a:lnTo>
                    <a:pt x="495" y="1120"/>
                  </a:lnTo>
                  <a:lnTo>
                    <a:pt x="491" y="1129"/>
                  </a:lnTo>
                  <a:lnTo>
                    <a:pt x="486" y="1137"/>
                  </a:lnTo>
                  <a:lnTo>
                    <a:pt x="479" y="1147"/>
                  </a:lnTo>
                  <a:lnTo>
                    <a:pt x="474" y="1155"/>
                  </a:lnTo>
                  <a:lnTo>
                    <a:pt x="469" y="1163"/>
                  </a:lnTo>
                  <a:lnTo>
                    <a:pt x="463" y="1170"/>
                  </a:lnTo>
                  <a:lnTo>
                    <a:pt x="457" y="1178"/>
                  </a:lnTo>
                  <a:lnTo>
                    <a:pt x="450" y="1185"/>
                  </a:lnTo>
                  <a:lnTo>
                    <a:pt x="443" y="1191"/>
                  </a:lnTo>
                  <a:lnTo>
                    <a:pt x="436" y="1199"/>
                  </a:lnTo>
                  <a:lnTo>
                    <a:pt x="427" y="1205"/>
                  </a:lnTo>
                  <a:lnTo>
                    <a:pt x="421" y="1208"/>
                  </a:lnTo>
                  <a:lnTo>
                    <a:pt x="414" y="1209"/>
                  </a:lnTo>
                  <a:lnTo>
                    <a:pt x="406" y="1209"/>
                  </a:lnTo>
                  <a:lnTo>
                    <a:pt x="398" y="1208"/>
                  </a:lnTo>
                  <a:lnTo>
                    <a:pt x="390" y="1207"/>
                  </a:lnTo>
                  <a:lnTo>
                    <a:pt x="382" y="1204"/>
                  </a:lnTo>
                  <a:lnTo>
                    <a:pt x="374" y="1200"/>
                  </a:lnTo>
                  <a:lnTo>
                    <a:pt x="367" y="1197"/>
                  </a:lnTo>
                  <a:lnTo>
                    <a:pt x="358" y="1191"/>
                  </a:lnTo>
                  <a:lnTo>
                    <a:pt x="349" y="1185"/>
                  </a:lnTo>
                  <a:lnTo>
                    <a:pt x="341" y="1179"/>
                  </a:lnTo>
                  <a:lnTo>
                    <a:pt x="333" y="1172"/>
                  </a:lnTo>
                  <a:lnTo>
                    <a:pt x="324" y="1165"/>
                  </a:lnTo>
                  <a:lnTo>
                    <a:pt x="316" y="1157"/>
                  </a:lnTo>
                  <a:lnTo>
                    <a:pt x="309" y="1150"/>
                  </a:lnTo>
                  <a:lnTo>
                    <a:pt x="302" y="1141"/>
                  </a:lnTo>
                  <a:lnTo>
                    <a:pt x="295" y="1134"/>
                  </a:lnTo>
                  <a:lnTo>
                    <a:pt x="289" y="1127"/>
                  </a:lnTo>
                  <a:lnTo>
                    <a:pt x="282" y="1119"/>
                  </a:lnTo>
                  <a:lnTo>
                    <a:pt x="275" y="1110"/>
                  </a:lnTo>
                  <a:lnTo>
                    <a:pt x="269" y="1102"/>
                  </a:lnTo>
                  <a:lnTo>
                    <a:pt x="262" y="1093"/>
                  </a:lnTo>
                  <a:lnTo>
                    <a:pt x="257" y="1083"/>
                  </a:lnTo>
                  <a:lnTo>
                    <a:pt x="251" y="1074"/>
                  </a:lnTo>
                  <a:lnTo>
                    <a:pt x="254" y="1069"/>
                  </a:lnTo>
                  <a:lnTo>
                    <a:pt x="258" y="1065"/>
                  </a:lnTo>
                  <a:lnTo>
                    <a:pt x="261" y="1063"/>
                  </a:lnTo>
                  <a:lnTo>
                    <a:pt x="264" y="1060"/>
                  </a:lnTo>
                  <a:lnTo>
                    <a:pt x="267" y="1058"/>
                  </a:lnTo>
                  <a:lnTo>
                    <a:pt x="270" y="1055"/>
                  </a:lnTo>
                  <a:lnTo>
                    <a:pt x="273" y="1053"/>
                  </a:lnTo>
                  <a:lnTo>
                    <a:pt x="275" y="1049"/>
                  </a:lnTo>
                  <a:lnTo>
                    <a:pt x="268" y="1044"/>
                  </a:lnTo>
                  <a:lnTo>
                    <a:pt x="261" y="1039"/>
                  </a:lnTo>
                  <a:lnTo>
                    <a:pt x="253" y="1033"/>
                  </a:lnTo>
                  <a:lnTo>
                    <a:pt x="245" y="1028"/>
                  </a:lnTo>
                  <a:lnTo>
                    <a:pt x="238" y="1023"/>
                  </a:lnTo>
                  <a:lnTo>
                    <a:pt x="230" y="1019"/>
                  </a:lnTo>
                  <a:lnTo>
                    <a:pt x="221" y="1014"/>
                  </a:lnTo>
                  <a:lnTo>
                    <a:pt x="214" y="1009"/>
                  </a:lnTo>
                  <a:lnTo>
                    <a:pt x="206" y="1004"/>
                  </a:lnTo>
                  <a:lnTo>
                    <a:pt x="198" y="999"/>
                  </a:lnTo>
                  <a:lnTo>
                    <a:pt x="191" y="994"/>
                  </a:lnTo>
                  <a:lnTo>
                    <a:pt x="183" y="989"/>
                  </a:lnTo>
                  <a:lnTo>
                    <a:pt x="175" y="984"/>
                  </a:lnTo>
                  <a:lnTo>
                    <a:pt x="167" y="978"/>
                  </a:lnTo>
                  <a:lnTo>
                    <a:pt x="160" y="972"/>
                  </a:lnTo>
                  <a:lnTo>
                    <a:pt x="153" y="967"/>
                  </a:lnTo>
                  <a:lnTo>
                    <a:pt x="144" y="960"/>
                  </a:lnTo>
                  <a:lnTo>
                    <a:pt x="136" y="953"/>
                  </a:lnTo>
                  <a:lnTo>
                    <a:pt x="126" y="946"/>
                  </a:lnTo>
                  <a:lnTo>
                    <a:pt x="117" y="939"/>
                  </a:lnTo>
                  <a:lnTo>
                    <a:pt x="109" y="932"/>
                  </a:lnTo>
                  <a:lnTo>
                    <a:pt x="100" y="924"/>
                  </a:lnTo>
                  <a:lnTo>
                    <a:pt x="91" y="917"/>
                  </a:lnTo>
                  <a:lnTo>
                    <a:pt x="83" y="910"/>
                  </a:lnTo>
                  <a:lnTo>
                    <a:pt x="73" y="902"/>
                  </a:lnTo>
                  <a:lnTo>
                    <a:pt x="65" y="895"/>
                  </a:lnTo>
                  <a:lnTo>
                    <a:pt x="57" y="887"/>
                  </a:lnTo>
                  <a:lnTo>
                    <a:pt x="49" y="880"/>
                  </a:lnTo>
                  <a:lnTo>
                    <a:pt x="42" y="870"/>
                  </a:lnTo>
                  <a:lnTo>
                    <a:pt x="34" y="862"/>
                  </a:lnTo>
                  <a:lnTo>
                    <a:pt x="27" y="854"/>
                  </a:lnTo>
                  <a:lnTo>
                    <a:pt x="20" y="845"/>
                  </a:lnTo>
                  <a:lnTo>
                    <a:pt x="14" y="836"/>
                  </a:lnTo>
                  <a:lnTo>
                    <a:pt x="9" y="826"/>
                  </a:lnTo>
                  <a:lnTo>
                    <a:pt x="6" y="815"/>
                  </a:lnTo>
                  <a:lnTo>
                    <a:pt x="3" y="803"/>
                  </a:lnTo>
                  <a:lnTo>
                    <a:pt x="1" y="792"/>
                  </a:lnTo>
                  <a:lnTo>
                    <a:pt x="0" y="781"/>
                  </a:lnTo>
                  <a:lnTo>
                    <a:pt x="0" y="768"/>
                  </a:lnTo>
                  <a:lnTo>
                    <a:pt x="0" y="757"/>
                  </a:lnTo>
                  <a:lnTo>
                    <a:pt x="0" y="751"/>
                  </a:lnTo>
                  <a:lnTo>
                    <a:pt x="1" y="746"/>
                  </a:lnTo>
                  <a:lnTo>
                    <a:pt x="3" y="740"/>
                  </a:lnTo>
                  <a:lnTo>
                    <a:pt x="5" y="735"/>
                  </a:lnTo>
                  <a:lnTo>
                    <a:pt x="8" y="730"/>
                  </a:lnTo>
                  <a:lnTo>
                    <a:pt x="12" y="725"/>
                  </a:lnTo>
                  <a:lnTo>
                    <a:pt x="16" y="722"/>
                  </a:lnTo>
                  <a:lnTo>
                    <a:pt x="21" y="719"/>
                  </a:lnTo>
                  <a:lnTo>
                    <a:pt x="28" y="716"/>
                  </a:lnTo>
                  <a:lnTo>
                    <a:pt x="34" y="716"/>
                  </a:lnTo>
                  <a:lnTo>
                    <a:pt x="40" y="716"/>
                  </a:lnTo>
                  <a:lnTo>
                    <a:pt x="46" y="718"/>
                  </a:lnTo>
                  <a:lnTo>
                    <a:pt x="53" y="720"/>
                  </a:lnTo>
                  <a:lnTo>
                    <a:pt x="58" y="722"/>
                  </a:lnTo>
                  <a:lnTo>
                    <a:pt x="65" y="724"/>
                  </a:lnTo>
                  <a:lnTo>
                    <a:pt x="70" y="727"/>
                  </a:lnTo>
                  <a:lnTo>
                    <a:pt x="79" y="731"/>
                  </a:lnTo>
                  <a:lnTo>
                    <a:pt x="87" y="736"/>
                  </a:lnTo>
                  <a:lnTo>
                    <a:pt x="95" y="741"/>
                  </a:lnTo>
                  <a:lnTo>
                    <a:pt x="102" y="746"/>
                  </a:lnTo>
                  <a:lnTo>
                    <a:pt x="110" y="751"/>
                  </a:lnTo>
                  <a:lnTo>
                    <a:pt x="118" y="757"/>
                  </a:lnTo>
                  <a:lnTo>
                    <a:pt x="125" y="762"/>
                  </a:lnTo>
                  <a:lnTo>
                    <a:pt x="134" y="768"/>
                  </a:lnTo>
                  <a:lnTo>
                    <a:pt x="142" y="774"/>
                  </a:lnTo>
                  <a:lnTo>
                    <a:pt x="149" y="780"/>
                  </a:lnTo>
                  <a:lnTo>
                    <a:pt x="157" y="785"/>
                  </a:lnTo>
                  <a:lnTo>
                    <a:pt x="164" y="790"/>
                  </a:lnTo>
                  <a:lnTo>
                    <a:pt x="173" y="794"/>
                  </a:lnTo>
                  <a:lnTo>
                    <a:pt x="182" y="799"/>
                  </a:lnTo>
                  <a:lnTo>
                    <a:pt x="190" y="803"/>
                  </a:lnTo>
                  <a:lnTo>
                    <a:pt x="198" y="807"/>
                  </a:lnTo>
                  <a:lnTo>
                    <a:pt x="206" y="810"/>
                  </a:lnTo>
                  <a:lnTo>
                    <a:pt x="213" y="812"/>
                  </a:lnTo>
                  <a:lnTo>
                    <a:pt x="221" y="815"/>
                  </a:lnTo>
                  <a:lnTo>
                    <a:pt x="230" y="816"/>
                  </a:lnTo>
                  <a:lnTo>
                    <a:pt x="237" y="818"/>
                  </a:lnTo>
                  <a:lnTo>
                    <a:pt x="245" y="820"/>
                  </a:lnTo>
                  <a:lnTo>
                    <a:pt x="252" y="821"/>
                  </a:lnTo>
                  <a:lnTo>
                    <a:pt x="261" y="824"/>
                  </a:lnTo>
                  <a:lnTo>
                    <a:pt x="268" y="825"/>
                  </a:lnTo>
                  <a:lnTo>
                    <a:pt x="276" y="826"/>
                  </a:lnTo>
                  <a:lnTo>
                    <a:pt x="285" y="827"/>
                  </a:lnTo>
                  <a:lnTo>
                    <a:pt x="293" y="827"/>
                  </a:lnTo>
                  <a:lnTo>
                    <a:pt x="301" y="827"/>
                  </a:lnTo>
                  <a:lnTo>
                    <a:pt x="309" y="828"/>
                  </a:lnTo>
                  <a:lnTo>
                    <a:pt x="316" y="828"/>
                  </a:lnTo>
                  <a:lnTo>
                    <a:pt x="324" y="828"/>
                  </a:lnTo>
                  <a:lnTo>
                    <a:pt x="331" y="828"/>
                  </a:lnTo>
                  <a:lnTo>
                    <a:pt x="337" y="828"/>
                  </a:lnTo>
                  <a:lnTo>
                    <a:pt x="342" y="827"/>
                  </a:lnTo>
                  <a:lnTo>
                    <a:pt x="348" y="827"/>
                  </a:lnTo>
                  <a:lnTo>
                    <a:pt x="353" y="826"/>
                  </a:lnTo>
                  <a:lnTo>
                    <a:pt x="358" y="825"/>
                  </a:lnTo>
                  <a:lnTo>
                    <a:pt x="363" y="822"/>
                  </a:lnTo>
                  <a:lnTo>
                    <a:pt x="369" y="821"/>
                  </a:lnTo>
                  <a:lnTo>
                    <a:pt x="374" y="819"/>
                  </a:lnTo>
                  <a:lnTo>
                    <a:pt x="379" y="818"/>
                  </a:lnTo>
                  <a:lnTo>
                    <a:pt x="385" y="816"/>
                  </a:lnTo>
                  <a:lnTo>
                    <a:pt x="390" y="815"/>
                  </a:lnTo>
                  <a:lnTo>
                    <a:pt x="395" y="813"/>
                  </a:lnTo>
                  <a:lnTo>
                    <a:pt x="401" y="812"/>
                  </a:lnTo>
                  <a:lnTo>
                    <a:pt x="407" y="810"/>
                  </a:lnTo>
                  <a:lnTo>
                    <a:pt x="413" y="809"/>
                  </a:lnTo>
                  <a:lnTo>
                    <a:pt x="420" y="803"/>
                  </a:lnTo>
                  <a:lnTo>
                    <a:pt x="426" y="797"/>
                  </a:lnTo>
                  <a:lnTo>
                    <a:pt x="434" y="791"/>
                  </a:lnTo>
                  <a:lnTo>
                    <a:pt x="441" y="785"/>
                  </a:lnTo>
                  <a:lnTo>
                    <a:pt x="447" y="779"/>
                  </a:lnTo>
                  <a:lnTo>
                    <a:pt x="453" y="773"/>
                  </a:lnTo>
                  <a:lnTo>
                    <a:pt x="458" y="766"/>
                  </a:lnTo>
                  <a:lnTo>
                    <a:pt x="463" y="760"/>
                  </a:lnTo>
                  <a:lnTo>
                    <a:pt x="458" y="748"/>
                  </a:lnTo>
                  <a:lnTo>
                    <a:pt x="454" y="737"/>
                  </a:lnTo>
                  <a:lnTo>
                    <a:pt x="449" y="726"/>
                  </a:lnTo>
                  <a:lnTo>
                    <a:pt x="445" y="714"/>
                  </a:lnTo>
                  <a:lnTo>
                    <a:pt x="439" y="703"/>
                  </a:lnTo>
                  <a:lnTo>
                    <a:pt x="434" y="692"/>
                  </a:lnTo>
                  <a:lnTo>
                    <a:pt x="428" y="682"/>
                  </a:lnTo>
                  <a:lnTo>
                    <a:pt x="422" y="672"/>
                  </a:lnTo>
                  <a:lnTo>
                    <a:pt x="416" y="663"/>
                  </a:lnTo>
                  <a:lnTo>
                    <a:pt x="410" y="656"/>
                  </a:lnTo>
                  <a:lnTo>
                    <a:pt x="403" y="650"/>
                  </a:lnTo>
                  <a:lnTo>
                    <a:pt x="395" y="643"/>
                  </a:lnTo>
                  <a:lnTo>
                    <a:pt x="388" y="637"/>
                  </a:lnTo>
                  <a:lnTo>
                    <a:pt x="380" y="631"/>
                  </a:lnTo>
                  <a:lnTo>
                    <a:pt x="372" y="624"/>
                  </a:lnTo>
                  <a:lnTo>
                    <a:pt x="367" y="617"/>
                  </a:lnTo>
                  <a:lnTo>
                    <a:pt x="363" y="610"/>
                  </a:lnTo>
                  <a:lnTo>
                    <a:pt x="359" y="604"/>
                  </a:lnTo>
                  <a:lnTo>
                    <a:pt x="356" y="597"/>
                  </a:lnTo>
                  <a:lnTo>
                    <a:pt x="353" y="590"/>
                  </a:lnTo>
                  <a:lnTo>
                    <a:pt x="350" y="583"/>
                  </a:lnTo>
                  <a:lnTo>
                    <a:pt x="349" y="576"/>
                  </a:lnTo>
                  <a:lnTo>
                    <a:pt x="349" y="568"/>
                  </a:lnTo>
                  <a:lnTo>
                    <a:pt x="349" y="562"/>
                  </a:lnTo>
                  <a:lnTo>
                    <a:pt x="351" y="554"/>
                  </a:lnTo>
                  <a:lnTo>
                    <a:pt x="354" y="546"/>
                  </a:lnTo>
                  <a:lnTo>
                    <a:pt x="358" y="540"/>
                  </a:lnTo>
                  <a:lnTo>
                    <a:pt x="362" y="533"/>
                  </a:lnTo>
                  <a:lnTo>
                    <a:pt x="368" y="527"/>
                  </a:lnTo>
                  <a:lnTo>
                    <a:pt x="373" y="522"/>
                  </a:lnTo>
                  <a:lnTo>
                    <a:pt x="379" y="516"/>
                  </a:lnTo>
                  <a:lnTo>
                    <a:pt x="386" y="512"/>
                  </a:lnTo>
                  <a:lnTo>
                    <a:pt x="399" y="501"/>
                  </a:lnTo>
                  <a:lnTo>
                    <a:pt x="413" y="493"/>
                  </a:lnTo>
                  <a:lnTo>
                    <a:pt x="427" y="484"/>
                  </a:lnTo>
                  <a:lnTo>
                    <a:pt x="442" y="475"/>
                  </a:lnTo>
                  <a:lnTo>
                    <a:pt x="456" y="467"/>
                  </a:lnTo>
                  <a:lnTo>
                    <a:pt x="470" y="458"/>
                  </a:lnTo>
                  <a:lnTo>
                    <a:pt x="486" y="449"/>
                  </a:lnTo>
                  <a:lnTo>
                    <a:pt x="501" y="441"/>
                  </a:lnTo>
                  <a:lnTo>
                    <a:pt x="515" y="433"/>
                  </a:lnTo>
                  <a:lnTo>
                    <a:pt x="529" y="425"/>
                  </a:lnTo>
                  <a:lnTo>
                    <a:pt x="545" y="417"/>
                  </a:lnTo>
                  <a:lnTo>
                    <a:pt x="558" y="409"/>
                  </a:lnTo>
                  <a:lnTo>
                    <a:pt x="573" y="400"/>
                  </a:lnTo>
                  <a:lnTo>
                    <a:pt x="588" y="391"/>
                  </a:lnTo>
                  <a:lnTo>
                    <a:pt x="601" y="381"/>
                  </a:lnTo>
                  <a:lnTo>
                    <a:pt x="615" y="372"/>
                  </a:lnTo>
                  <a:lnTo>
                    <a:pt x="628" y="363"/>
                  </a:lnTo>
                  <a:lnTo>
                    <a:pt x="642" y="354"/>
                  </a:lnTo>
                  <a:lnTo>
                    <a:pt x="654" y="344"/>
                  </a:lnTo>
                  <a:lnTo>
                    <a:pt x="667" y="335"/>
                  </a:lnTo>
                  <a:lnTo>
                    <a:pt x="680" y="326"/>
                  </a:lnTo>
                  <a:lnTo>
                    <a:pt x="694" y="316"/>
                  </a:lnTo>
                  <a:lnTo>
                    <a:pt x="707" y="307"/>
                  </a:lnTo>
                  <a:lnTo>
                    <a:pt x="719" y="297"/>
                  </a:lnTo>
                  <a:lnTo>
                    <a:pt x="732" y="287"/>
                  </a:lnTo>
                  <a:lnTo>
                    <a:pt x="745" y="277"/>
                  </a:lnTo>
                  <a:lnTo>
                    <a:pt x="758" y="268"/>
                  </a:lnTo>
                  <a:lnTo>
                    <a:pt x="771" y="258"/>
                  </a:lnTo>
                  <a:lnTo>
                    <a:pt x="783" y="249"/>
                  </a:lnTo>
                  <a:lnTo>
                    <a:pt x="796" y="239"/>
                  </a:lnTo>
                  <a:lnTo>
                    <a:pt x="808" y="228"/>
                  </a:lnTo>
                  <a:lnTo>
                    <a:pt x="821" y="219"/>
                  </a:lnTo>
                  <a:lnTo>
                    <a:pt x="820" y="196"/>
                  </a:lnTo>
                  <a:lnTo>
                    <a:pt x="819" y="172"/>
                  </a:lnTo>
                  <a:lnTo>
                    <a:pt x="819" y="149"/>
                  </a:lnTo>
                  <a:lnTo>
                    <a:pt x="823" y="126"/>
                  </a:lnTo>
                  <a:lnTo>
                    <a:pt x="826" y="116"/>
                  </a:lnTo>
                  <a:lnTo>
                    <a:pt x="830" y="105"/>
                  </a:lnTo>
                  <a:lnTo>
                    <a:pt x="835" y="95"/>
                  </a:lnTo>
                  <a:lnTo>
                    <a:pt x="841" y="85"/>
                  </a:lnTo>
                  <a:lnTo>
                    <a:pt x="847" y="75"/>
                  </a:lnTo>
                  <a:lnTo>
                    <a:pt x="854" y="66"/>
                  </a:lnTo>
                  <a:lnTo>
                    <a:pt x="861" y="57"/>
                  </a:lnTo>
                  <a:lnTo>
                    <a:pt x="869" y="50"/>
                  </a:lnTo>
                  <a:lnTo>
                    <a:pt x="876" y="44"/>
                  </a:lnTo>
                  <a:lnTo>
                    <a:pt x="883" y="37"/>
                  </a:lnTo>
                  <a:lnTo>
                    <a:pt x="893" y="32"/>
                  </a:lnTo>
                  <a:lnTo>
                    <a:pt x="902" y="27"/>
                  </a:lnTo>
                  <a:lnTo>
                    <a:pt x="911" y="22"/>
                  </a:lnTo>
                  <a:lnTo>
                    <a:pt x="920" y="19"/>
                  </a:lnTo>
                  <a:lnTo>
                    <a:pt x="930" y="17"/>
                  </a:lnTo>
                  <a:lnTo>
                    <a:pt x="940" y="15"/>
                  </a:lnTo>
                  <a:lnTo>
                    <a:pt x="947" y="15"/>
                  </a:lnTo>
                  <a:lnTo>
                    <a:pt x="954" y="14"/>
                  </a:lnTo>
                  <a:lnTo>
                    <a:pt x="960" y="14"/>
                  </a:lnTo>
                  <a:lnTo>
                    <a:pt x="968" y="15"/>
                  </a:lnTo>
                  <a:lnTo>
                    <a:pt x="974" y="15"/>
                  </a:lnTo>
                  <a:lnTo>
                    <a:pt x="981" y="16"/>
                  </a:lnTo>
                  <a:lnTo>
                    <a:pt x="988" y="17"/>
                  </a:lnTo>
                  <a:lnTo>
                    <a:pt x="996" y="18"/>
                  </a:lnTo>
                  <a:lnTo>
                    <a:pt x="1002" y="19"/>
                  </a:lnTo>
                  <a:lnTo>
                    <a:pt x="1009" y="20"/>
                  </a:lnTo>
                  <a:lnTo>
                    <a:pt x="1016" y="21"/>
                  </a:lnTo>
                  <a:lnTo>
                    <a:pt x="1023" y="22"/>
                  </a:lnTo>
                  <a:lnTo>
                    <a:pt x="1030" y="23"/>
                  </a:lnTo>
                  <a:lnTo>
                    <a:pt x="1036" y="24"/>
                  </a:lnTo>
                  <a:lnTo>
                    <a:pt x="1045" y="27"/>
                  </a:lnTo>
                  <a:lnTo>
                    <a:pt x="1051" y="28"/>
                  </a:lnTo>
                  <a:lnTo>
                    <a:pt x="1053" y="27"/>
                  </a:lnTo>
                  <a:lnTo>
                    <a:pt x="1055" y="24"/>
                  </a:lnTo>
                  <a:lnTo>
                    <a:pt x="1056" y="23"/>
                  </a:lnTo>
                  <a:lnTo>
                    <a:pt x="1058" y="22"/>
                  </a:lnTo>
                  <a:lnTo>
                    <a:pt x="1060" y="21"/>
                  </a:lnTo>
                  <a:lnTo>
                    <a:pt x="1062" y="20"/>
                  </a:lnTo>
                  <a:lnTo>
                    <a:pt x="1064" y="19"/>
                  </a:lnTo>
                  <a:lnTo>
                    <a:pt x="1066" y="18"/>
                  </a:lnTo>
                  <a:lnTo>
                    <a:pt x="1071" y="15"/>
                  </a:lnTo>
                  <a:lnTo>
                    <a:pt x="1076" y="12"/>
                  </a:lnTo>
                  <a:lnTo>
                    <a:pt x="1081" y="10"/>
                  </a:lnTo>
                  <a:lnTo>
                    <a:pt x="1087" y="8"/>
                  </a:lnTo>
                  <a:lnTo>
                    <a:pt x="1094" y="6"/>
                  </a:lnTo>
                  <a:lnTo>
                    <a:pt x="1100" y="4"/>
                  </a:lnTo>
                  <a:lnTo>
                    <a:pt x="1106" y="2"/>
                  </a:lnTo>
                  <a:lnTo>
                    <a:pt x="1112" y="1"/>
                  </a:lnTo>
                  <a:lnTo>
                    <a:pt x="1118" y="1"/>
                  </a:lnTo>
                  <a:lnTo>
                    <a:pt x="1124" y="0"/>
                  </a:lnTo>
                  <a:lnTo>
                    <a:pt x="1131" y="0"/>
                  </a:lnTo>
                  <a:lnTo>
                    <a:pt x="1136" y="0"/>
                  </a:lnTo>
                  <a:lnTo>
                    <a:pt x="1144" y="0"/>
                  </a:lnTo>
                  <a:lnTo>
                    <a:pt x="1149" y="0"/>
                  </a:lnTo>
                  <a:lnTo>
                    <a:pt x="1155" y="1"/>
                  </a:lnTo>
                  <a:lnTo>
                    <a:pt x="1161" y="2"/>
                  </a:lnTo>
                  <a:lnTo>
                    <a:pt x="1171" y="5"/>
                  </a:lnTo>
                  <a:lnTo>
                    <a:pt x="1181" y="8"/>
                  </a:lnTo>
                  <a:lnTo>
                    <a:pt x="1191" y="11"/>
                  </a:lnTo>
                  <a:lnTo>
                    <a:pt x="1202" y="15"/>
                  </a:lnTo>
                  <a:lnTo>
                    <a:pt x="1212" y="20"/>
                  </a:lnTo>
                  <a:lnTo>
                    <a:pt x="1222" y="24"/>
                  </a:lnTo>
                  <a:lnTo>
                    <a:pt x="1232" y="30"/>
                  </a:lnTo>
                  <a:lnTo>
                    <a:pt x="1241" y="35"/>
                  </a:lnTo>
                  <a:lnTo>
                    <a:pt x="1252" y="40"/>
                  </a:lnTo>
                  <a:lnTo>
                    <a:pt x="1262" y="45"/>
                  </a:lnTo>
                  <a:lnTo>
                    <a:pt x="1272" y="50"/>
                  </a:lnTo>
                  <a:lnTo>
                    <a:pt x="1281" y="55"/>
                  </a:lnTo>
                  <a:lnTo>
                    <a:pt x="1291" y="60"/>
                  </a:lnTo>
                  <a:lnTo>
                    <a:pt x="1301" y="66"/>
                  </a:lnTo>
                  <a:lnTo>
                    <a:pt x="1311" y="70"/>
                  </a:lnTo>
                  <a:lnTo>
                    <a:pt x="1320" y="75"/>
                  </a:lnTo>
                  <a:lnTo>
                    <a:pt x="1332" y="81"/>
                  </a:lnTo>
                  <a:lnTo>
                    <a:pt x="1344" y="87"/>
                  </a:lnTo>
                  <a:lnTo>
                    <a:pt x="1357" y="92"/>
                  </a:lnTo>
                  <a:lnTo>
                    <a:pt x="1369" y="98"/>
                  </a:lnTo>
                  <a:lnTo>
                    <a:pt x="1380" y="103"/>
                  </a:lnTo>
                  <a:lnTo>
                    <a:pt x="1392" y="109"/>
                  </a:lnTo>
                  <a:lnTo>
                    <a:pt x="1405" y="114"/>
                  </a:lnTo>
                  <a:lnTo>
                    <a:pt x="1417" y="120"/>
                  </a:lnTo>
                  <a:lnTo>
                    <a:pt x="1428" y="125"/>
                  </a:lnTo>
                  <a:lnTo>
                    <a:pt x="1440" y="130"/>
                  </a:lnTo>
                  <a:lnTo>
                    <a:pt x="1453" y="137"/>
                  </a:lnTo>
                  <a:lnTo>
                    <a:pt x="1465" y="142"/>
                  </a:lnTo>
                  <a:lnTo>
                    <a:pt x="1477" y="147"/>
                  </a:lnTo>
                  <a:lnTo>
                    <a:pt x="1489" y="153"/>
                  </a:lnTo>
                  <a:lnTo>
                    <a:pt x="1502" y="158"/>
                  </a:lnTo>
                  <a:lnTo>
                    <a:pt x="1513" y="163"/>
                  </a:lnTo>
                  <a:lnTo>
                    <a:pt x="1530" y="170"/>
                  </a:lnTo>
                  <a:lnTo>
                    <a:pt x="1546" y="177"/>
                  </a:lnTo>
                  <a:lnTo>
                    <a:pt x="1563" y="184"/>
                  </a:lnTo>
                  <a:lnTo>
                    <a:pt x="1579" y="192"/>
                  </a:lnTo>
                  <a:lnTo>
                    <a:pt x="1596" y="198"/>
                  </a:lnTo>
                  <a:lnTo>
                    <a:pt x="1613" y="205"/>
                  </a:lnTo>
                  <a:lnTo>
                    <a:pt x="1629" y="212"/>
                  </a:lnTo>
                  <a:lnTo>
                    <a:pt x="1645" y="219"/>
                  </a:lnTo>
                  <a:lnTo>
                    <a:pt x="1663" y="226"/>
                  </a:lnTo>
                  <a:lnTo>
                    <a:pt x="1679" y="232"/>
                  </a:lnTo>
                  <a:lnTo>
                    <a:pt x="1695" y="240"/>
                  </a:lnTo>
                  <a:lnTo>
                    <a:pt x="1712" y="247"/>
                  </a:lnTo>
                  <a:lnTo>
                    <a:pt x="1729" y="254"/>
                  </a:lnTo>
                  <a:lnTo>
                    <a:pt x="1745" y="261"/>
                  </a:lnTo>
                  <a:lnTo>
                    <a:pt x="1763" y="267"/>
                  </a:lnTo>
                  <a:lnTo>
                    <a:pt x="1779" y="274"/>
                  </a:lnTo>
                  <a:lnTo>
                    <a:pt x="2406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4075200" y="1765800"/>
            <a:ext cx="3149640" cy="703800"/>
          </a:xfrm>
          <a:prstGeom prst="borderCallout1">
            <a:avLst>
              <a:gd name="adj1" fmla="val 18750"/>
              <a:gd name="adj2" fmla="val -8333"/>
              <a:gd name="adj3" fmla="val 130263"/>
              <a:gd name="adj4" fmla="val -2062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K, if users do not try to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ircumvent intended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ecurity Poli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26287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Worsen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T technology evolved very fa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voicing, wages administ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trategic deci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Networks are boo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Mainframe </a:t>
            </a: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LAN </a:t>
            </a: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emocratization of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Lowering of threshold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xposure is minimal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cident: &lt; 1 seco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4776840" y="4483080"/>
            <a:ext cx="2461320" cy="1078920"/>
            <a:chOff x="4776840" y="4483080"/>
            <a:chExt cx="2461320" cy="1078920"/>
          </a:xfrm>
        </p:grpSpPr>
        <p:sp>
          <p:nvSpPr>
            <p:cNvPr id="534" name=""/>
            <p:cNvSpPr/>
            <p:nvPr/>
          </p:nvSpPr>
          <p:spPr>
            <a:xfrm>
              <a:off x="5368680" y="4539600"/>
              <a:ext cx="794160" cy="565920"/>
            </a:xfrm>
            <a:custGeom>
              <a:avLst/>
              <a:gdLst/>
              <a:ahLst/>
              <a:rect l="l" t="t" r="r" b="b"/>
              <a:pathLst>
                <a:path w="1022" h="796">
                  <a:moveTo>
                    <a:pt x="300" y="423"/>
                  </a:moveTo>
                  <a:lnTo>
                    <a:pt x="335" y="371"/>
                  </a:lnTo>
                  <a:lnTo>
                    <a:pt x="305" y="354"/>
                  </a:lnTo>
                  <a:lnTo>
                    <a:pt x="288" y="342"/>
                  </a:lnTo>
                  <a:lnTo>
                    <a:pt x="272" y="323"/>
                  </a:lnTo>
                  <a:lnTo>
                    <a:pt x="219" y="283"/>
                  </a:lnTo>
                  <a:lnTo>
                    <a:pt x="167" y="251"/>
                  </a:lnTo>
                  <a:lnTo>
                    <a:pt x="125" y="234"/>
                  </a:lnTo>
                  <a:lnTo>
                    <a:pt x="99" y="219"/>
                  </a:lnTo>
                  <a:lnTo>
                    <a:pt x="83" y="205"/>
                  </a:lnTo>
                  <a:lnTo>
                    <a:pt x="75" y="195"/>
                  </a:lnTo>
                  <a:lnTo>
                    <a:pt x="55" y="179"/>
                  </a:lnTo>
                  <a:lnTo>
                    <a:pt x="45" y="170"/>
                  </a:lnTo>
                  <a:lnTo>
                    <a:pt x="33" y="158"/>
                  </a:lnTo>
                  <a:lnTo>
                    <a:pt x="24" y="145"/>
                  </a:lnTo>
                  <a:lnTo>
                    <a:pt x="17" y="132"/>
                  </a:lnTo>
                  <a:lnTo>
                    <a:pt x="8" y="111"/>
                  </a:lnTo>
                  <a:lnTo>
                    <a:pt x="4" y="92"/>
                  </a:lnTo>
                  <a:lnTo>
                    <a:pt x="0" y="74"/>
                  </a:lnTo>
                  <a:lnTo>
                    <a:pt x="0" y="53"/>
                  </a:lnTo>
                  <a:lnTo>
                    <a:pt x="2" y="39"/>
                  </a:lnTo>
                  <a:lnTo>
                    <a:pt x="6" y="24"/>
                  </a:lnTo>
                  <a:lnTo>
                    <a:pt x="10" y="13"/>
                  </a:lnTo>
                  <a:lnTo>
                    <a:pt x="17" y="6"/>
                  </a:lnTo>
                  <a:lnTo>
                    <a:pt x="36" y="0"/>
                  </a:lnTo>
                  <a:lnTo>
                    <a:pt x="53" y="2"/>
                  </a:lnTo>
                  <a:lnTo>
                    <a:pt x="80" y="9"/>
                  </a:lnTo>
                  <a:lnTo>
                    <a:pt x="107" y="18"/>
                  </a:lnTo>
                  <a:lnTo>
                    <a:pt x="144" y="27"/>
                  </a:lnTo>
                  <a:lnTo>
                    <a:pt x="175" y="41"/>
                  </a:lnTo>
                  <a:lnTo>
                    <a:pt x="208" y="53"/>
                  </a:lnTo>
                  <a:lnTo>
                    <a:pt x="227" y="64"/>
                  </a:lnTo>
                  <a:lnTo>
                    <a:pt x="245" y="74"/>
                  </a:lnTo>
                  <a:lnTo>
                    <a:pt x="267" y="86"/>
                  </a:lnTo>
                  <a:lnTo>
                    <a:pt x="286" y="97"/>
                  </a:lnTo>
                  <a:lnTo>
                    <a:pt x="310" y="112"/>
                  </a:lnTo>
                  <a:lnTo>
                    <a:pt x="375" y="142"/>
                  </a:lnTo>
                  <a:lnTo>
                    <a:pt x="451" y="167"/>
                  </a:lnTo>
                  <a:lnTo>
                    <a:pt x="484" y="177"/>
                  </a:lnTo>
                  <a:lnTo>
                    <a:pt x="506" y="192"/>
                  </a:lnTo>
                  <a:lnTo>
                    <a:pt x="539" y="225"/>
                  </a:lnTo>
                  <a:lnTo>
                    <a:pt x="582" y="264"/>
                  </a:lnTo>
                  <a:lnTo>
                    <a:pt x="618" y="313"/>
                  </a:lnTo>
                  <a:lnTo>
                    <a:pt x="644" y="343"/>
                  </a:lnTo>
                  <a:lnTo>
                    <a:pt x="669" y="369"/>
                  </a:lnTo>
                  <a:lnTo>
                    <a:pt x="738" y="439"/>
                  </a:lnTo>
                  <a:lnTo>
                    <a:pt x="753" y="460"/>
                  </a:lnTo>
                  <a:lnTo>
                    <a:pt x="764" y="478"/>
                  </a:lnTo>
                  <a:lnTo>
                    <a:pt x="788" y="519"/>
                  </a:lnTo>
                  <a:lnTo>
                    <a:pt x="857" y="581"/>
                  </a:lnTo>
                  <a:lnTo>
                    <a:pt x="934" y="636"/>
                  </a:lnTo>
                  <a:lnTo>
                    <a:pt x="1022" y="664"/>
                  </a:lnTo>
                  <a:lnTo>
                    <a:pt x="1022" y="796"/>
                  </a:lnTo>
                  <a:lnTo>
                    <a:pt x="528" y="717"/>
                  </a:lnTo>
                  <a:lnTo>
                    <a:pt x="300" y="423"/>
                  </a:lnTo>
                  <a:close/>
                </a:path>
              </a:pathLst>
            </a:custGeom>
            <a:solidFill>
              <a:srgbClr val="ffd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368680" y="4539600"/>
              <a:ext cx="798480" cy="565920"/>
            </a:xfrm>
            <a:custGeom>
              <a:avLst/>
              <a:gdLst/>
              <a:ahLst/>
              <a:rect l="l" t="t" r="r" b="b"/>
              <a:pathLst>
                <a:path w="1023" h="794">
                  <a:moveTo>
                    <a:pt x="299" y="423"/>
                  </a:moveTo>
                  <a:lnTo>
                    <a:pt x="335" y="371"/>
                  </a:lnTo>
                  <a:lnTo>
                    <a:pt x="304" y="354"/>
                  </a:lnTo>
                  <a:lnTo>
                    <a:pt x="286" y="341"/>
                  </a:lnTo>
                  <a:lnTo>
                    <a:pt x="272" y="325"/>
                  </a:lnTo>
                  <a:lnTo>
                    <a:pt x="219" y="282"/>
                  </a:lnTo>
                  <a:lnTo>
                    <a:pt x="166" y="250"/>
                  </a:lnTo>
                  <a:lnTo>
                    <a:pt x="124" y="233"/>
                  </a:lnTo>
                  <a:lnTo>
                    <a:pt x="98" y="217"/>
                  </a:lnTo>
                  <a:lnTo>
                    <a:pt x="81" y="204"/>
                  </a:lnTo>
                  <a:lnTo>
                    <a:pt x="74" y="197"/>
                  </a:lnTo>
                  <a:lnTo>
                    <a:pt x="54" y="178"/>
                  </a:lnTo>
                  <a:lnTo>
                    <a:pt x="43" y="170"/>
                  </a:lnTo>
                  <a:lnTo>
                    <a:pt x="32" y="158"/>
                  </a:lnTo>
                  <a:lnTo>
                    <a:pt x="23" y="145"/>
                  </a:lnTo>
                  <a:lnTo>
                    <a:pt x="17" y="132"/>
                  </a:lnTo>
                  <a:lnTo>
                    <a:pt x="9" y="111"/>
                  </a:lnTo>
                  <a:lnTo>
                    <a:pt x="2" y="91"/>
                  </a:lnTo>
                  <a:lnTo>
                    <a:pt x="1" y="73"/>
                  </a:lnTo>
                  <a:lnTo>
                    <a:pt x="0" y="52"/>
                  </a:lnTo>
                  <a:lnTo>
                    <a:pt x="2" y="38"/>
                  </a:lnTo>
                  <a:lnTo>
                    <a:pt x="5" y="22"/>
                  </a:lnTo>
                  <a:lnTo>
                    <a:pt x="10" y="12"/>
                  </a:lnTo>
                  <a:lnTo>
                    <a:pt x="17" y="6"/>
                  </a:lnTo>
                  <a:lnTo>
                    <a:pt x="36" y="0"/>
                  </a:lnTo>
                  <a:lnTo>
                    <a:pt x="52" y="1"/>
                  </a:lnTo>
                  <a:lnTo>
                    <a:pt x="79" y="7"/>
                  </a:lnTo>
                  <a:lnTo>
                    <a:pt x="106" y="18"/>
                  </a:lnTo>
                  <a:lnTo>
                    <a:pt x="145" y="28"/>
                  </a:lnTo>
                  <a:lnTo>
                    <a:pt x="174" y="40"/>
                  </a:lnTo>
                  <a:lnTo>
                    <a:pt x="206" y="54"/>
                  </a:lnTo>
                  <a:lnTo>
                    <a:pt x="227" y="63"/>
                  </a:lnTo>
                  <a:lnTo>
                    <a:pt x="244" y="73"/>
                  </a:lnTo>
                  <a:lnTo>
                    <a:pt x="267" y="85"/>
                  </a:lnTo>
                  <a:lnTo>
                    <a:pt x="285" y="96"/>
                  </a:lnTo>
                  <a:lnTo>
                    <a:pt x="310" y="111"/>
                  </a:lnTo>
                  <a:lnTo>
                    <a:pt x="377" y="140"/>
                  </a:lnTo>
                  <a:lnTo>
                    <a:pt x="452" y="166"/>
                  </a:lnTo>
                  <a:lnTo>
                    <a:pt x="482" y="176"/>
                  </a:lnTo>
                  <a:lnTo>
                    <a:pt x="506" y="192"/>
                  </a:lnTo>
                  <a:lnTo>
                    <a:pt x="539" y="225"/>
                  </a:lnTo>
                  <a:lnTo>
                    <a:pt x="581" y="263"/>
                  </a:lnTo>
                  <a:lnTo>
                    <a:pt x="618" y="312"/>
                  </a:lnTo>
                  <a:lnTo>
                    <a:pt x="643" y="342"/>
                  </a:lnTo>
                  <a:lnTo>
                    <a:pt x="668" y="368"/>
                  </a:lnTo>
                  <a:lnTo>
                    <a:pt x="738" y="438"/>
                  </a:lnTo>
                  <a:lnTo>
                    <a:pt x="752" y="457"/>
                  </a:lnTo>
                  <a:lnTo>
                    <a:pt x="763" y="477"/>
                  </a:lnTo>
                  <a:lnTo>
                    <a:pt x="787" y="518"/>
                  </a:lnTo>
                  <a:lnTo>
                    <a:pt x="856" y="580"/>
                  </a:lnTo>
                  <a:lnTo>
                    <a:pt x="933" y="637"/>
                  </a:lnTo>
                  <a:lnTo>
                    <a:pt x="1023" y="664"/>
                  </a:lnTo>
                  <a:lnTo>
                    <a:pt x="1023" y="794"/>
                  </a:lnTo>
                  <a:lnTo>
                    <a:pt x="528" y="716"/>
                  </a:lnTo>
                  <a:lnTo>
                    <a:pt x="299" y="423"/>
                  </a:lnTo>
                </a:path>
              </a:pathLst>
            </a:custGeom>
            <a:noFill/>
            <a:ln w="0">
              <a:solidFill>
                <a:srgbClr val="ffd4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62040" y="4917600"/>
              <a:ext cx="50040" cy="99000"/>
            </a:xfrm>
            <a:custGeom>
              <a:avLst/>
              <a:gdLst/>
              <a:ahLst/>
              <a:rect l="l" t="t" r="r" b="b"/>
              <a:pathLst>
                <a:path w="66" h="140">
                  <a:moveTo>
                    <a:pt x="24" y="0"/>
                  </a:moveTo>
                  <a:lnTo>
                    <a:pt x="0" y="86"/>
                  </a:lnTo>
                  <a:lnTo>
                    <a:pt x="66" y="14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78680" y="5298840"/>
              <a:ext cx="171360" cy="202680"/>
            </a:xfrm>
            <a:custGeom>
              <a:avLst/>
              <a:gdLst/>
              <a:ahLst/>
              <a:rect l="l" t="t" r="r" b="b"/>
              <a:pathLst>
                <a:path w="219" h="284">
                  <a:moveTo>
                    <a:pt x="18" y="284"/>
                  </a:moveTo>
                  <a:lnTo>
                    <a:pt x="2" y="213"/>
                  </a:lnTo>
                  <a:lnTo>
                    <a:pt x="2" y="142"/>
                  </a:lnTo>
                  <a:lnTo>
                    <a:pt x="0" y="69"/>
                  </a:lnTo>
                  <a:lnTo>
                    <a:pt x="15" y="0"/>
                  </a:lnTo>
                  <a:lnTo>
                    <a:pt x="219" y="48"/>
                  </a:lnTo>
                  <a:lnTo>
                    <a:pt x="18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10920" y="5305320"/>
              <a:ext cx="74160" cy="71640"/>
            </a:xfrm>
            <a:custGeom>
              <a:avLst/>
              <a:gdLst/>
              <a:ahLst/>
              <a:rect l="l" t="t" r="r" b="b"/>
              <a:pathLst>
                <a:path w="95" h="104">
                  <a:moveTo>
                    <a:pt x="0" y="104"/>
                  </a:moveTo>
                  <a:lnTo>
                    <a:pt x="13" y="0"/>
                  </a:lnTo>
                  <a:lnTo>
                    <a:pt x="95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56440" y="4856760"/>
              <a:ext cx="96840" cy="81360"/>
            </a:xfrm>
            <a:custGeom>
              <a:avLst/>
              <a:gdLst/>
              <a:ahLst/>
              <a:rect l="l" t="t" r="r" b="b"/>
              <a:pathLst>
                <a:path w="123" h="114">
                  <a:moveTo>
                    <a:pt x="60" y="0"/>
                  </a:moveTo>
                  <a:lnTo>
                    <a:pt x="0" y="114"/>
                  </a:lnTo>
                  <a:lnTo>
                    <a:pt x="123" y="3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92760" y="5059800"/>
              <a:ext cx="343440" cy="256680"/>
            </a:xfrm>
            <a:custGeom>
              <a:avLst/>
              <a:gdLst/>
              <a:ahLst/>
              <a:rect l="l" t="t" r="r" b="b"/>
              <a:pathLst>
                <a:path w="440" h="361">
                  <a:moveTo>
                    <a:pt x="0" y="361"/>
                  </a:moveTo>
                  <a:lnTo>
                    <a:pt x="140" y="361"/>
                  </a:lnTo>
                  <a:lnTo>
                    <a:pt x="264" y="361"/>
                  </a:lnTo>
                  <a:lnTo>
                    <a:pt x="422" y="361"/>
                  </a:lnTo>
                  <a:lnTo>
                    <a:pt x="440" y="0"/>
                  </a:lnTo>
                  <a:lnTo>
                    <a:pt x="193" y="122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d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792760" y="5059800"/>
              <a:ext cx="343440" cy="256680"/>
            </a:xfrm>
            <a:custGeom>
              <a:avLst/>
              <a:gdLst/>
              <a:ahLst/>
              <a:rect l="l" t="t" r="r" b="b"/>
              <a:pathLst>
                <a:path w="440" h="361">
                  <a:moveTo>
                    <a:pt x="0" y="361"/>
                  </a:moveTo>
                  <a:lnTo>
                    <a:pt x="140" y="361"/>
                  </a:lnTo>
                  <a:lnTo>
                    <a:pt x="264" y="361"/>
                  </a:lnTo>
                  <a:lnTo>
                    <a:pt x="422" y="361"/>
                  </a:lnTo>
                  <a:lnTo>
                    <a:pt x="440" y="0"/>
                  </a:lnTo>
                  <a:lnTo>
                    <a:pt x="193" y="122"/>
                  </a:lnTo>
                  <a:lnTo>
                    <a:pt x="0" y="361"/>
                  </a:lnTo>
                </a:path>
              </a:pathLst>
            </a:custGeom>
            <a:noFill/>
            <a:ln w="0">
              <a:solidFill>
                <a:srgbClr val="ffd4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76840" y="4483080"/>
              <a:ext cx="1319760" cy="947520"/>
            </a:xfrm>
            <a:custGeom>
              <a:avLst/>
              <a:gdLst/>
              <a:ahLst/>
              <a:rect l="l" t="t" r="r" b="b"/>
              <a:pathLst>
                <a:path w="1695" h="1327">
                  <a:moveTo>
                    <a:pt x="17" y="473"/>
                  </a:moveTo>
                  <a:lnTo>
                    <a:pt x="75" y="466"/>
                  </a:lnTo>
                  <a:lnTo>
                    <a:pt x="159" y="478"/>
                  </a:lnTo>
                  <a:lnTo>
                    <a:pt x="283" y="532"/>
                  </a:lnTo>
                  <a:lnTo>
                    <a:pt x="425" y="638"/>
                  </a:lnTo>
                  <a:lnTo>
                    <a:pt x="637" y="797"/>
                  </a:lnTo>
                  <a:lnTo>
                    <a:pt x="742" y="902"/>
                  </a:lnTo>
                  <a:lnTo>
                    <a:pt x="830" y="956"/>
                  </a:lnTo>
                  <a:lnTo>
                    <a:pt x="900" y="982"/>
                  </a:lnTo>
                  <a:lnTo>
                    <a:pt x="953" y="1008"/>
                  </a:lnTo>
                  <a:lnTo>
                    <a:pt x="1026" y="1087"/>
                  </a:lnTo>
                  <a:lnTo>
                    <a:pt x="1077" y="1169"/>
                  </a:lnTo>
                  <a:lnTo>
                    <a:pt x="1130" y="1247"/>
                  </a:lnTo>
                  <a:lnTo>
                    <a:pt x="1166" y="1327"/>
                  </a:lnTo>
                  <a:lnTo>
                    <a:pt x="1271" y="1221"/>
                  </a:lnTo>
                  <a:lnTo>
                    <a:pt x="1342" y="1143"/>
                  </a:lnTo>
                  <a:lnTo>
                    <a:pt x="1482" y="1034"/>
                  </a:lnTo>
                  <a:lnTo>
                    <a:pt x="1589" y="956"/>
                  </a:lnTo>
                  <a:lnTo>
                    <a:pt x="1676" y="929"/>
                  </a:lnTo>
                  <a:lnTo>
                    <a:pt x="1695" y="902"/>
                  </a:lnTo>
                  <a:lnTo>
                    <a:pt x="1659" y="744"/>
                  </a:lnTo>
                  <a:lnTo>
                    <a:pt x="1482" y="663"/>
                  </a:lnTo>
                  <a:lnTo>
                    <a:pt x="1325" y="558"/>
                  </a:lnTo>
                  <a:lnTo>
                    <a:pt x="1166" y="532"/>
                  </a:lnTo>
                  <a:lnTo>
                    <a:pt x="1023" y="435"/>
                  </a:lnTo>
                  <a:lnTo>
                    <a:pt x="980" y="397"/>
                  </a:lnTo>
                  <a:lnTo>
                    <a:pt x="938" y="365"/>
                  </a:lnTo>
                  <a:lnTo>
                    <a:pt x="866" y="306"/>
                  </a:lnTo>
                  <a:lnTo>
                    <a:pt x="817" y="237"/>
                  </a:lnTo>
                  <a:lnTo>
                    <a:pt x="742" y="80"/>
                  </a:lnTo>
                  <a:lnTo>
                    <a:pt x="707" y="34"/>
                  </a:lnTo>
                  <a:lnTo>
                    <a:pt x="672" y="0"/>
                  </a:lnTo>
                  <a:lnTo>
                    <a:pt x="521" y="36"/>
                  </a:lnTo>
                  <a:lnTo>
                    <a:pt x="388" y="52"/>
                  </a:lnTo>
                  <a:lnTo>
                    <a:pt x="312" y="62"/>
                  </a:lnTo>
                  <a:lnTo>
                    <a:pt x="213" y="56"/>
                  </a:lnTo>
                  <a:lnTo>
                    <a:pt x="159" y="52"/>
                  </a:lnTo>
                  <a:lnTo>
                    <a:pt x="187" y="105"/>
                  </a:lnTo>
                  <a:lnTo>
                    <a:pt x="108" y="133"/>
                  </a:lnTo>
                  <a:lnTo>
                    <a:pt x="117" y="162"/>
                  </a:lnTo>
                  <a:lnTo>
                    <a:pt x="98" y="223"/>
                  </a:lnTo>
                  <a:lnTo>
                    <a:pt x="60" y="270"/>
                  </a:lnTo>
                  <a:lnTo>
                    <a:pt x="55" y="324"/>
                  </a:lnTo>
                  <a:lnTo>
                    <a:pt x="19" y="372"/>
                  </a:lnTo>
                  <a:lnTo>
                    <a:pt x="21" y="430"/>
                  </a:lnTo>
                  <a:lnTo>
                    <a:pt x="0" y="476"/>
                  </a:lnTo>
                  <a:lnTo>
                    <a:pt x="17" y="473"/>
                  </a:lnTo>
                  <a:close/>
                </a:path>
              </a:pathLst>
            </a:custGeom>
            <a:solidFill>
              <a:srgbClr val="00f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982400" y="4507920"/>
              <a:ext cx="370080" cy="180720"/>
            </a:xfrm>
            <a:custGeom>
              <a:avLst/>
              <a:gdLst/>
              <a:ahLst/>
              <a:rect l="l" t="t" r="r" b="b"/>
              <a:pathLst>
                <a:path w="476" h="256">
                  <a:moveTo>
                    <a:pt x="476" y="97"/>
                  </a:moveTo>
                  <a:lnTo>
                    <a:pt x="394" y="0"/>
                  </a:lnTo>
                  <a:lnTo>
                    <a:pt x="331" y="17"/>
                  </a:lnTo>
                  <a:lnTo>
                    <a:pt x="267" y="32"/>
                  </a:lnTo>
                  <a:lnTo>
                    <a:pt x="194" y="46"/>
                  </a:lnTo>
                  <a:lnTo>
                    <a:pt x="125" y="55"/>
                  </a:lnTo>
                  <a:lnTo>
                    <a:pt x="62" y="63"/>
                  </a:lnTo>
                  <a:lnTo>
                    <a:pt x="0" y="70"/>
                  </a:lnTo>
                  <a:lnTo>
                    <a:pt x="141" y="2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13960" y="4774680"/>
              <a:ext cx="366480" cy="217080"/>
            </a:xfrm>
            <a:custGeom>
              <a:avLst/>
              <a:gdLst/>
              <a:ahLst/>
              <a:rect l="l" t="t" r="r" b="b"/>
              <a:pathLst>
                <a:path w="469" h="308">
                  <a:moveTo>
                    <a:pt x="0" y="151"/>
                  </a:moveTo>
                  <a:lnTo>
                    <a:pt x="140" y="96"/>
                  </a:lnTo>
                  <a:lnTo>
                    <a:pt x="228" y="69"/>
                  </a:lnTo>
                  <a:lnTo>
                    <a:pt x="293" y="41"/>
                  </a:lnTo>
                  <a:lnTo>
                    <a:pt x="324" y="0"/>
                  </a:lnTo>
                  <a:lnTo>
                    <a:pt x="402" y="35"/>
                  </a:lnTo>
                  <a:lnTo>
                    <a:pt x="433" y="81"/>
                  </a:lnTo>
                  <a:lnTo>
                    <a:pt x="469" y="112"/>
                  </a:lnTo>
                  <a:lnTo>
                    <a:pt x="387" y="151"/>
                  </a:lnTo>
                  <a:lnTo>
                    <a:pt x="193" y="256"/>
                  </a:lnTo>
                  <a:lnTo>
                    <a:pt x="123" y="308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13960" y="4774680"/>
              <a:ext cx="366480" cy="217080"/>
            </a:xfrm>
            <a:custGeom>
              <a:avLst/>
              <a:gdLst/>
              <a:ahLst/>
              <a:rect l="l" t="t" r="r" b="b"/>
              <a:pathLst>
                <a:path w="469" h="308">
                  <a:moveTo>
                    <a:pt x="0" y="151"/>
                  </a:moveTo>
                  <a:lnTo>
                    <a:pt x="140" y="96"/>
                  </a:lnTo>
                  <a:lnTo>
                    <a:pt x="228" y="69"/>
                  </a:lnTo>
                  <a:lnTo>
                    <a:pt x="293" y="41"/>
                  </a:lnTo>
                  <a:lnTo>
                    <a:pt x="324" y="0"/>
                  </a:lnTo>
                  <a:lnTo>
                    <a:pt x="402" y="35"/>
                  </a:lnTo>
                  <a:lnTo>
                    <a:pt x="433" y="81"/>
                  </a:lnTo>
                  <a:lnTo>
                    <a:pt x="469" y="112"/>
                  </a:lnTo>
                  <a:lnTo>
                    <a:pt x="387" y="151"/>
                  </a:lnTo>
                  <a:lnTo>
                    <a:pt x="193" y="256"/>
                  </a:lnTo>
                  <a:lnTo>
                    <a:pt x="123" y="308"/>
                  </a:lnTo>
                  <a:lnTo>
                    <a:pt x="0" y="151"/>
                  </a:lnTo>
                  <a:lnTo>
                    <a:pt x="0" y="1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928760" y="4781880"/>
              <a:ext cx="315360" cy="381240"/>
            </a:xfrm>
            <a:custGeom>
              <a:avLst/>
              <a:gdLst/>
              <a:ahLst/>
              <a:rect l="l" t="t" r="r" b="b"/>
              <a:pathLst>
                <a:path w="408" h="537">
                  <a:moveTo>
                    <a:pt x="355" y="537"/>
                  </a:moveTo>
                  <a:lnTo>
                    <a:pt x="302" y="478"/>
                  </a:lnTo>
                  <a:lnTo>
                    <a:pt x="249" y="449"/>
                  </a:lnTo>
                  <a:lnTo>
                    <a:pt x="204" y="430"/>
                  </a:lnTo>
                  <a:lnTo>
                    <a:pt x="188" y="415"/>
                  </a:lnTo>
                  <a:lnTo>
                    <a:pt x="177" y="403"/>
                  </a:lnTo>
                  <a:lnTo>
                    <a:pt x="160" y="351"/>
                  </a:lnTo>
                  <a:lnTo>
                    <a:pt x="131" y="307"/>
                  </a:lnTo>
                  <a:lnTo>
                    <a:pt x="100" y="261"/>
                  </a:lnTo>
                  <a:lnTo>
                    <a:pt x="72" y="240"/>
                  </a:lnTo>
                  <a:lnTo>
                    <a:pt x="61" y="231"/>
                  </a:lnTo>
                  <a:lnTo>
                    <a:pt x="53" y="219"/>
                  </a:lnTo>
                  <a:lnTo>
                    <a:pt x="44" y="180"/>
                  </a:lnTo>
                  <a:lnTo>
                    <a:pt x="36" y="139"/>
                  </a:lnTo>
                  <a:lnTo>
                    <a:pt x="21" y="111"/>
                  </a:lnTo>
                  <a:lnTo>
                    <a:pt x="1" y="57"/>
                  </a:lnTo>
                  <a:lnTo>
                    <a:pt x="0" y="45"/>
                  </a:lnTo>
                  <a:lnTo>
                    <a:pt x="1" y="32"/>
                  </a:lnTo>
                  <a:lnTo>
                    <a:pt x="25" y="15"/>
                  </a:lnTo>
                  <a:lnTo>
                    <a:pt x="53" y="4"/>
                  </a:lnTo>
                  <a:lnTo>
                    <a:pt x="80" y="0"/>
                  </a:lnTo>
                  <a:lnTo>
                    <a:pt x="109" y="4"/>
                  </a:lnTo>
                  <a:lnTo>
                    <a:pt x="142" y="16"/>
                  </a:lnTo>
                  <a:lnTo>
                    <a:pt x="169" y="33"/>
                  </a:lnTo>
                  <a:lnTo>
                    <a:pt x="194" y="57"/>
                  </a:lnTo>
                  <a:lnTo>
                    <a:pt x="204" y="85"/>
                  </a:lnTo>
                  <a:lnTo>
                    <a:pt x="210" y="111"/>
                  </a:lnTo>
                  <a:lnTo>
                    <a:pt x="213" y="139"/>
                  </a:lnTo>
                  <a:lnTo>
                    <a:pt x="266" y="194"/>
                  </a:lnTo>
                  <a:lnTo>
                    <a:pt x="335" y="254"/>
                  </a:lnTo>
                  <a:lnTo>
                    <a:pt x="390" y="296"/>
                  </a:lnTo>
                  <a:lnTo>
                    <a:pt x="408" y="296"/>
                  </a:lnTo>
                  <a:lnTo>
                    <a:pt x="355" y="537"/>
                  </a:lnTo>
                  <a:close/>
                </a:path>
              </a:pathLst>
            </a:custGeom>
            <a:solidFill>
              <a:srgbClr val="ffd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48200" y="4792320"/>
              <a:ext cx="22680" cy="82080"/>
            </a:xfrm>
            <a:custGeom>
              <a:avLst/>
              <a:gdLst/>
              <a:ahLst/>
              <a:rect l="l" t="t" r="r" b="b"/>
              <a:pathLst>
                <a:path w="26" h="111">
                  <a:moveTo>
                    <a:pt x="0" y="0"/>
                  </a:moveTo>
                  <a:lnTo>
                    <a:pt x="9" y="16"/>
                  </a:lnTo>
                  <a:lnTo>
                    <a:pt x="26" y="67"/>
                  </a:lnTo>
                  <a:lnTo>
                    <a:pt x="25" y="88"/>
                  </a:lnTo>
                  <a:lnTo>
                    <a:pt x="9" y="1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10920" y="4917600"/>
              <a:ext cx="374400" cy="473040"/>
            </a:xfrm>
            <a:custGeom>
              <a:avLst/>
              <a:gdLst/>
              <a:ahLst/>
              <a:rect l="l" t="t" r="r" b="b"/>
              <a:pathLst>
                <a:path w="481" h="665">
                  <a:moveTo>
                    <a:pt x="92" y="0"/>
                  </a:moveTo>
                  <a:lnTo>
                    <a:pt x="101" y="27"/>
                  </a:lnTo>
                  <a:lnTo>
                    <a:pt x="111" y="53"/>
                  </a:lnTo>
                  <a:lnTo>
                    <a:pt x="128" y="187"/>
                  </a:lnTo>
                  <a:lnTo>
                    <a:pt x="121" y="241"/>
                  </a:lnTo>
                  <a:lnTo>
                    <a:pt x="111" y="294"/>
                  </a:lnTo>
                  <a:lnTo>
                    <a:pt x="97" y="372"/>
                  </a:lnTo>
                  <a:lnTo>
                    <a:pt x="80" y="452"/>
                  </a:lnTo>
                  <a:lnTo>
                    <a:pt x="58" y="533"/>
                  </a:lnTo>
                  <a:lnTo>
                    <a:pt x="40" y="576"/>
                  </a:lnTo>
                  <a:lnTo>
                    <a:pt x="24" y="611"/>
                  </a:lnTo>
                  <a:lnTo>
                    <a:pt x="0" y="646"/>
                  </a:lnTo>
                  <a:lnTo>
                    <a:pt x="253" y="658"/>
                  </a:lnTo>
                  <a:lnTo>
                    <a:pt x="368" y="658"/>
                  </a:lnTo>
                  <a:lnTo>
                    <a:pt x="465" y="665"/>
                  </a:lnTo>
                  <a:lnTo>
                    <a:pt x="465" y="559"/>
                  </a:lnTo>
                  <a:lnTo>
                    <a:pt x="481" y="319"/>
                  </a:lnTo>
                  <a:lnTo>
                    <a:pt x="465" y="106"/>
                  </a:lnTo>
                  <a:lnTo>
                    <a:pt x="476" y="1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94880" y="4852800"/>
              <a:ext cx="1043280" cy="709200"/>
            </a:xfrm>
            <a:custGeom>
              <a:avLst/>
              <a:gdLst/>
              <a:ahLst/>
              <a:rect l="l" t="t" r="r" b="b"/>
              <a:pathLst>
                <a:path w="1341" h="994">
                  <a:moveTo>
                    <a:pt x="140" y="0"/>
                  </a:moveTo>
                  <a:lnTo>
                    <a:pt x="160" y="117"/>
                  </a:lnTo>
                  <a:lnTo>
                    <a:pt x="162" y="232"/>
                  </a:lnTo>
                  <a:lnTo>
                    <a:pt x="160" y="374"/>
                  </a:lnTo>
                  <a:lnTo>
                    <a:pt x="137" y="521"/>
                  </a:lnTo>
                  <a:lnTo>
                    <a:pt x="106" y="682"/>
                  </a:lnTo>
                  <a:lnTo>
                    <a:pt x="53" y="817"/>
                  </a:lnTo>
                  <a:lnTo>
                    <a:pt x="0" y="909"/>
                  </a:lnTo>
                  <a:lnTo>
                    <a:pt x="88" y="933"/>
                  </a:lnTo>
                  <a:lnTo>
                    <a:pt x="282" y="947"/>
                  </a:lnTo>
                  <a:lnTo>
                    <a:pt x="533" y="958"/>
                  </a:lnTo>
                  <a:lnTo>
                    <a:pt x="813" y="969"/>
                  </a:lnTo>
                  <a:lnTo>
                    <a:pt x="1077" y="985"/>
                  </a:lnTo>
                  <a:lnTo>
                    <a:pt x="1341" y="994"/>
                  </a:lnTo>
                  <a:lnTo>
                    <a:pt x="1341" y="72"/>
                  </a:lnTo>
                  <a:lnTo>
                    <a:pt x="1234" y="50"/>
                  </a:lnTo>
                  <a:lnTo>
                    <a:pt x="1057" y="31"/>
                  </a:lnTo>
                  <a:lnTo>
                    <a:pt x="796" y="8"/>
                  </a:lnTo>
                  <a:lnTo>
                    <a:pt x="512" y="5"/>
                  </a:lnTo>
                  <a:lnTo>
                    <a:pt x="460" y="0"/>
                  </a:lnTo>
                  <a:lnTo>
                    <a:pt x="357" y="9"/>
                  </a:lnTo>
                  <a:lnTo>
                    <a:pt x="250" y="17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0180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194880" y="4852800"/>
              <a:ext cx="1043280" cy="709200"/>
            </a:xfrm>
            <a:custGeom>
              <a:avLst/>
              <a:gdLst/>
              <a:ahLst/>
              <a:rect l="l" t="t" r="r" b="b"/>
              <a:pathLst>
                <a:path w="1341" h="994">
                  <a:moveTo>
                    <a:pt x="140" y="0"/>
                  </a:moveTo>
                  <a:lnTo>
                    <a:pt x="160" y="117"/>
                  </a:lnTo>
                  <a:lnTo>
                    <a:pt x="162" y="232"/>
                  </a:lnTo>
                  <a:lnTo>
                    <a:pt x="160" y="374"/>
                  </a:lnTo>
                  <a:lnTo>
                    <a:pt x="137" y="521"/>
                  </a:lnTo>
                  <a:lnTo>
                    <a:pt x="106" y="682"/>
                  </a:lnTo>
                  <a:lnTo>
                    <a:pt x="53" y="817"/>
                  </a:lnTo>
                  <a:lnTo>
                    <a:pt x="0" y="909"/>
                  </a:lnTo>
                  <a:lnTo>
                    <a:pt x="88" y="933"/>
                  </a:lnTo>
                  <a:lnTo>
                    <a:pt x="282" y="947"/>
                  </a:lnTo>
                  <a:lnTo>
                    <a:pt x="533" y="958"/>
                  </a:lnTo>
                  <a:lnTo>
                    <a:pt x="813" y="969"/>
                  </a:lnTo>
                  <a:lnTo>
                    <a:pt x="1077" y="985"/>
                  </a:lnTo>
                  <a:lnTo>
                    <a:pt x="1341" y="994"/>
                  </a:lnTo>
                  <a:lnTo>
                    <a:pt x="1341" y="72"/>
                  </a:lnTo>
                  <a:lnTo>
                    <a:pt x="1234" y="50"/>
                  </a:lnTo>
                  <a:lnTo>
                    <a:pt x="1057" y="31"/>
                  </a:lnTo>
                  <a:lnTo>
                    <a:pt x="796" y="8"/>
                  </a:lnTo>
                  <a:lnTo>
                    <a:pt x="512" y="5"/>
                  </a:lnTo>
                  <a:lnTo>
                    <a:pt x="460" y="0"/>
                  </a:lnTo>
                  <a:lnTo>
                    <a:pt x="357" y="9"/>
                  </a:lnTo>
                  <a:lnTo>
                    <a:pt x="250" y="17"/>
                  </a:lnTo>
                  <a:lnTo>
                    <a:pt x="140" y="0"/>
                  </a:lnTo>
                  <a:lnTo>
                    <a:pt x="140" y="0"/>
                  </a:lnTo>
                </a:path>
              </a:pathLst>
            </a:custGeom>
            <a:noFill/>
            <a:ln w="0">
              <a:solidFill>
                <a:srgbClr val="01805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216760" y="4507920"/>
              <a:ext cx="19080" cy="2808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3" y="39"/>
                  </a:moveTo>
                  <a:lnTo>
                    <a:pt x="0" y="36"/>
                  </a:lnTo>
                  <a:lnTo>
                    <a:pt x="20" y="6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24" y="6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247720" y="4521600"/>
              <a:ext cx="11160" cy="24840"/>
            </a:xfrm>
            <a:custGeom>
              <a:avLst/>
              <a:gdLst/>
              <a:ahLst/>
              <a:rect l="l" t="t" r="r" b="b"/>
              <a:pathLst>
                <a:path w="18" h="38">
                  <a:moveTo>
                    <a:pt x="0" y="34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5" y="36"/>
                  </a:lnTo>
                  <a:lnTo>
                    <a:pt x="9" y="33"/>
                  </a:lnTo>
                  <a:lnTo>
                    <a:pt x="15" y="22"/>
                  </a:lnTo>
                  <a:lnTo>
                    <a:pt x="17" y="17"/>
                  </a:lnTo>
                  <a:lnTo>
                    <a:pt x="18" y="11"/>
                  </a:lnTo>
                  <a:lnTo>
                    <a:pt x="16" y="7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3"/>
                  </a:lnTo>
                  <a:lnTo>
                    <a:pt x="6" y="3"/>
                  </a:lnTo>
                  <a:lnTo>
                    <a:pt x="10" y="5"/>
                  </a:lnTo>
                  <a:lnTo>
                    <a:pt x="13" y="9"/>
                  </a:lnTo>
                  <a:lnTo>
                    <a:pt x="14" y="11"/>
                  </a:lnTo>
                  <a:lnTo>
                    <a:pt x="14" y="16"/>
                  </a:lnTo>
                  <a:lnTo>
                    <a:pt x="13" y="19"/>
                  </a:lnTo>
                  <a:lnTo>
                    <a:pt x="5" y="30"/>
                  </a:lnTo>
                  <a:lnTo>
                    <a:pt x="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36200" y="4521600"/>
              <a:ext cx="11160" cy="2880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7" y="3"/>
                  </a:moveTo>
                  <a:lnTo>
                    <a:pt x="17" y="0"/>
                  </a:lnTo>
                  <a:lnTo>
                    <a:pt x="16" y="0"/>
                  </a:lnTo>
                  <a:lnTo>
                    <a:pt x="13" y="2"/>
                  </a:lnTo>
                  <a:lnTo>
                    <a:pt x="9" y="7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2" y="31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2" y="39"/>
                  </a:lnTo>
                  <a:lnTo>
                    <a:pt x="15" y="39"/>
                  </a:lnTo>
                  <a:lnTo>
                    <a:pt x="17" y="37"/>
                  </a:lnTo>
                  <a:lnTo>
                    <a:pt x="17" y="33"/>
                  </a:lnTo>
                  <a:lnTo>
                    <a:pt x="15" y="34"/>
                  </a:lnTo>
                  <a:lnTo>
                    <a:pt x="12" y="34"/>
                  </a:lnTo>
                  <a:lnTo>
                    <a:pt x="8" y="33"/>
                  </a:lnTo>
                  <a:lnTo>
                    <a:pt x="5" y="31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13" y="8"/>
                  </a:lnTo>
                  <a:lnTo>
                    <a:pt x="16" y="4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14440" y="4592880"/>
              <a:ext cx="22680" cy="248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32"/>
                  </a:moveTo>
                  <a:lnTo>
                    <a:pt x="27" y="35"/>
                  </a:lnTo>
                  <a:lnTo>
                    <a:pt x="7" y="4"/>
                  </a:lnTo>
                  <a:lnTo>
                    <a:pt x="2" y="8"/>
                  </a:lnTo>
                  <a:lnTo>
                    <a:pt x="0" y="4"/>
                  </a:lnTo>
                  <a:lnTo>
                    <a:pt x="9" y="0"/>
                  </a:lnTo>
                  <a:lnTo>
                    <a:pt x="3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48640" y="4579200"/>
              <a:ext cx="11160" cy="28080"/>
            </a:xfrm>
            <a:custGeom>
              <a:avLst/>
              <a:gdLst/>
              <a:ahLst/>
              <a:rect l="l" t="t" r="r" b="b"/>
              <a:pathLst>
                <a:path w="18" h="39">
                  <a:moveTo>
                    <a:pt x="0" y="36"/>
                  </a:moveTo>
                  <a:lnTo>
                    <a:pt x="0" y="39"/>
                  </a:lnTo>
                  <a:lnTo>
                    <a:pt x="2" y="39"/>
                  </a:lnTo>
                  <a:lnTo>
                    <a:pt x="6" y="39"/>
                  </a:lnTo>
                  <a:lnTo>
                    <a:pt x="9" y="38"/>
                  </a:lnTo>
                  <a:lnTo>
                    <a:pt x="13" y="38"/>
                  </a:lnTo>
                  <a:lnTo>
                    <a:pt x="16" y="32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17" y="23"/>
                  </a:lnTo>
                  <a:lnTo>
                    <a:pt x="15" y="17"/>
                  </a:lnTo>
                  <a:lnTo>
                    <a:pt x="9" y="7"/>
                  </a:lnTo>
                  <a:lnTo>
                    <a:pt x="5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6"/>
                  </a:lnTo>
                  <a:lnTo>
                    <a:pt x="5" y="10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4" y="28"/>
                  </a:lnTo>
                  <a:lnTo>
                    <a:pt x="13" y="32"/>
                  </a:lnTo>
                  <a:lnTo>
                    <a:pt x="10" y="34"/>
                  </a:lnTo>
                  <a:lnTo>
                    <a:pt x="6" y="37"/>
                  </a:lnTo>
                  <a:lnTo>
                    <a:pt x="2" y="37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3880" y="4579200"/>
              <a:ext cx="14760" cy="2808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7" y="5"/>
                  </a:moveTo>
                  <a:lnTo>
                    <a:pt x="17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2" y="23"/>
                  </a:lnTo>
                  <a:lnTo>
                    <a:pt x="9" y="32"/>
                  </a:lnTo>
                  <a:lnTo>
                    <a:pt x="13" y="37"/>
                  </a:lnTo>
                  <a:lnTo>
                    <a:pt x="16" y="39"/>
                  </a:lnTo>
                  <a:lnTo>
                    <a:pt x="17" y="39"/>
                  </a:lnTo>
                  <a:lnTo>
                    <a:pt x="17" y="36"/>
                  </a:lnTo>
                  <a:lnTo>
                    <a:pt x="16" y="34"/>
                  </a:lnTo>
                  <a:lnTo>
                    <a:pt x="13" y="31"/>
                  </a:lnTo>
                  <a:lnTo>
                    <a:pt x="6" y="20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5" y="8"/>
                  </a:lnTo>
                  <a:lnTo>
                    <a:pt x="8" y="6"/>
                  </a:lnTo>
                  <a:lnTo>
                    <a:pt x="11" y="4"/>
                  </a:lnTo>
                  <a:lnTo>
                    <a:pt x="15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85800" y="4657320"/>
              <a:ext cx="163440" cy="91800"/>
            </a:xfrm>
            <a:custGeom>
              <a:avLst/>
              <a:gdLst/>
              <a:ahLst/>
              <a:rect l="l" t="t" r="r" b="b"/>
              <a:pathLst>
                <a:path w="210" h="129">
                  <a:moveTo>
                    <a:pt x="96" y="128"/>
                  </a:moveTo>
                  <a:lnTo>
                    <a:pt x="73" y="129"/>
                  </a:lnTo>
                  <a:lnTo>
                    <a:pt x="53" y="124"/>
                  </a:lnTo>
                  <a:lnTo>
                    <a:pt x="19" y="107"/>
                  </a:lnTo>
                  <a:lnTo>
                    <a:pt x="6" y="95"/>
                  </a:lnTo>
                  <a:lnTo>
                    <a:pt x="0" y="79"/>
                  </a:lnTo>
                  <a:lnTo>
                    <a:pt x="4" y="61"/>
                  </a:lnTo>
                  <a:lnTo>
                    <a:pt x="19" y="32"/>
                  </a:lnTo>
                  <a:lnTo>
                    <a:pt x="48" y="14"/>
                  </a:lnTo>
                  <a:lnTo>
                    <a:pt x="110" y="0"/>
                  </a:lnTo>
                  <a:lnTo>
                    <a:pt x="171" y="4"/>
                  </a:lnTo>
                  <a:lnTo>
                    <a:pt x="187" y="13"/>
                  </a:lnTo>
                  <a:lnTo>
                    <a:pt x="200" y="29"/>
                  </a:lnTo>
                  <a:lnTo>
                    <a:pt x="207" y="46"/>
                  </a:lnTo>
                  <a:lnTo>
                    <a:pt x="210" y="63"/>
                  </a:lnTo>
                  <a:lnTo>
                    <a:pt x="207" y="81"/>
                  </a:lnTo>
                  <a:lnTo>
                    <a:pt x="195" y="95"/>
                  </a:lnTo>
                  <a:lnTo>
                    <a:pt x="173" y="107"/>
                  </a:lnTo>
                  <a:lnTo>
                    <a:pt x="150" y="117"/>
                  </a:lnTo>
                  <a:lnTo>
                    <a:pt x="128" y="122"/>
                  </a:lnTo>
                  <a:lnTo>
                    <a:pt x="129" y="124"/>
                  </a:lnTo>
                  <a:lnTo>
                    <a:pt x="96" y="1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928760" y="4781880"/>
              <a:ext cx="315360" cy="381240"/>
            </a:xfrm>
            <a:custGeom>
              <a:avLst/>
              <a:gdLst/>
              <a:ahLst/>
              <a:rect l="l" t="t" r="r" b="b"/>
              <a:pathLst>
                <a:path w="408" h="537">
                  <a:moveTo>
                    <a:pt x="355" y="537"/>
                  </a:moveTo>
                  <a:lnTo>
                    <a:pt x="302" y="478"/>
                  </a:lnTo>
                  <a:lnTo>
                    <a:pt x="249" y="449"/>
                  </a:lnTo>
                  <a:lnTo>
                    <a:pt x="204" y="430"/>
                  </a:lnTo>
                  <a:lnTo>
                    <a:pt x="188" y="415"/>
                  </a:lnTo>
                  <a:lnTo>
                    <a:pt x="177" y="403"/>
                  </a:lnTo>
                  <a:lnTo>
                    <a:pt x="160" y="351"/>
                  </a:lnTo>
                  <a:lnTo>
                    <a:pt x="131" y="307"/>
                  </a:lnTo>
                  <a:lnTo>
                    <a:pt x="100" y="261"/>
                  </a:lnTo>
                  <a:lnTo>
                    <a:pt x="72" y="240"/>
                  </a:lnTo>
                  <a:lnTo>
                    <a:pt x="61" y="231"/>
                  </a:lnTo>
                  <a:lnTo>
                    <a:pt x="53" y="219"/>
                  </a:lnTo>
                  <a:lnTo>
                    <a:pt x="44" y="180"/>
                  </a:lnTo>
                  <a:lnTo>
                    <a:pt x="36" y="139"/>
                  </a:lnTo>
                  <a:lnTo>
                    <a:pt x="21" y="111"/>
                  </a:lnTo>
                  <a:lnTo>
                    <a:pt x="1" y="57"/>
                  </a:lnTo>
                  <a:lnTo>
                    <a:pt x="0" y="45"/>
                  </a:lnTo>
                  <a:lnTo>
                    <a:pt x="1" y="32"/>
                  </a:lnTo>
                  <a:lnTo>
                    <a:pt x="25" y="15"/>
                  </a:lnTo>
                  <a:lnTo>
                    <a:pt x="53" y="4"/>
                  </a:lnTo>
                  <a:lnTo>
                    <a:pt x="80" y="0"/>
                  </a:lnTo>
                  <a:lnTo>
                    <a:pt x="109" y="4"/>
                  </a:lnTo>
                  <a:lnTo>
                    <a:pt x="142" y="16"/>
                  </a:lnTo>
                  <a:lnTo>
                    <a:pt x="169" y="33"/>
                  </a:lnTo>
                  <a:lnTo>
                    <a:pt x="194" y="57"/>
                  </a:lnTo>
                  <a:lnTo>
                    <a:pt x="204" y="85"/>
                  </a:lnTo>
                  <a:lnTo>
                    <a:pt x="210" y="111"/>
                  </a:lnTo>
                  <a:lnTo>
                    <a:pt x="213" y="139"/>
                  </a:lnTo>
                  <a:lnTo>
                    <a:pt x="266" y="194"/>
                  </a:lnTo>
                  <a:lnTo>
                    <a:pt x="335" y="254"/>
                  </a:lnTo>
                  <a:lnTo>
                    <a:pt x="390" y="296"/>
                  </a:lnTo>
                  <a:lnTo>
                    <a:pt x="408" y="296"/>
                  </a:lnTo>
                  <a:lnTo>
                    <a:pt x="355" y="5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3200" y="4852800"/>
              <a:ext cx="222480" cy="388440"/>
            </a:xfrm>
            <a:custGeom>
              <a:avLst/>
              <a:gdLst/>
              <a:ahLst/>
              <a:rect l="l" t="t" r="r" b="b"/>
              <a:pathLst>
                <a:path w="288" h="545">
                  <a:moveTo>
                    <a:pt x="179" y="0"/>
                  </a:moveTo>
                  <a:lnTo>
                    <a:pt x="234" y="15"/>
                  </a:lnTo>
                  <a:lnTo>
                    <a:pt x="259" y="92"/>
                  </a:lnTo>
                  <a:lnTo>
                    <a:pt x="234" y="198"/>
                  </a:lnTo>
                  <a:lnTo>
                    <a:pt x="182" y="332"/>
                  </a:lnTo>
                  <a:lnTo>
                    <a:pt x="199" y="412"/>
                  </a:lnTo>
                  <a:lnTo>
                    <a:pt x="254" y="491"/>
                  </a:lnTo>
                  <a:lnTo>
                    <a:pt x="288" y="545"/>
                  </a:lnTo>
                  <a:lnTo>
                    <a:pt x="146" y="517"/>
                  </a:lnTo>
                  <a:lnTo>
                    <a:pt x="41" y="465"/>
                  </a:lnTo>
                  <a:lnTo>
                    <a:pt x="19" y="442"/>
                  </a:lnTo>
                  <a:lnTo>
                    <a:pt x="5" y="412"/>
                  </a:lnTo>
                  <a:lnTo>
                    <a:pt x="0" y="332"/>
                  </a:lnTo>
                  <a:lnTo>
                    <a:pt x="5" y="279"/>
                  </a:lnTo>
                  <a:lnTo>
                    <a:pt x="21" y="226"/>
                  </a:lnTo>
                  <a:lnTo>
                    <a:pt x="76" y="173"/>
                  </a:lnTo>
                  <a:lnTo>
                    <a:pt x="88" y="146"/>
                  </a:lnTo>
                  <a:lnTo>
                    <a:pt x="112" y="93"/>
                  </a:lnTo>
                  <a:lnTo>
                    <a:pt x="146" y="41"/>
                  </a:lnTo>
                  <a:lnTo>
                    <a:pt x="161" y="13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ffd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1480" y="4852800"/>
              <a:ext cx="66240" cy="572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0" y="64"/>
                  </a:moveTo>
                  <a:lnTo>
                    <a:pt x="35" y="79"/>
                  </a:lnTo>
                  <a:lnTo>
                    <a:pt x="66" y="63"/>
                  </a:lnTo>
                  <a:lnTo>
                    <a:pt x="82" y="31"/>
                  </a:lnTo>
                  <a:lnTo>
                    <a:pt x="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73200" y="4852800"/>
              <a:ext cx="222480" cy="388440"/>
            </a:xfrm>
            <a:custGeom>
              <a:avLst/>
              <a:gdLst/>
              <a:ahLst/>
              <a:rect l="l" t="t" r="r" b="b"/>
              <a:pathLst>
                <a:path w="288" h="545">
                  <a:moveTo>
                    <a:pt x="179" y="0"/>
                  </a:moveTo>
                  <a:lnTo>
                    <a:pt x="234" y="15"/>
                  </a:lnTo>
                  <a:lnTo>
                    <a:pt x="259" y="92"/>
                  </a:lnTo>
                  <a:lnTo>
                    <a:pt x="234" y="198"/>
                  </a:lnTo>
                  <a:lnTo>
                    <a:pt x="182" y="332"/>
                  </a:lnTo>
                  <a:lnTo>
                    <a:pt x="199" y="412"/>
                  </a:lnTo>
                  <a:lnTo>
                    <a:pt x="254" y="491"/>
                  </a:lnTo>
                  <a:lnTo>
                    <a:pt x="288" y="545"/>
                  </a:lnTo>
                  <a:lnTo>
                    <a:pt x="146" y="517"/>
                  </a:lnTo>
                  <a:lnTo>
                    <a:pt x="41" y="465"/>
                  </a:lnTo>
                  <a:lnTo>
                    <a:pt x="19" y="442"/>
                  </a:lnTo>
                  <a:lnTo>
                    <a:pt x="5" y="412"/>
                  </a:lnTo>
                  <a:lnTo>
                    <a:pt x="0" y="332"/>
                  </a:lnTo>
                  <a:lnTo>
                    <a:pt x="5" y="279"/>
                  </a:lnTo>
                  <a:lnTo>
                    <a:pt x="21" y="226"/>
                  </a:lnTo>
                  <a:lnTo>
                    <a:pt x="76" y="173"/>
                  </a:lnTo>
                  <a:lnTo>
                    <a:pt x="88" y="146"/>
                  </a:lnTo>
                  <a:lnTo>
                    <a:pt x="112" y="93"/>
                  </a:lnTo>
                  <a:lnTo>
                    <a:pt x="146" y="41"/>
                  </a:lnTo>
                  <a:lnTo>
                    <a:pt x="161" y="13"/>
                  </a:lnTo>
                  <a:lnTo>
                    <a:pt x="17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259240" y="4899600"/>
              <a:ext cx="350640" cy="416520"/>
            </a:xfrm>
            <a:custGeom>
              <a:avLst/>
              <a:gdLst/>
              <a:ahLst/>
              <a:rect l="l" t="t" r="r" b="b"/>
              <a:pathLst>
                <a:path w="449" h="583">
                  <a:moveTo>
                    <a:pt x="62" y="9"/>
                  </a:moveTo>
                  <a:lnTo>
                    <a:pt x="106" y="0"/>
                  </a:lnTo>
                  <a:lnTo>
                    <a:pt x="136" y="9"/>
                  </a:lnTo>
                  <a:lnTo>
                    <a:pt x="158" y="26"/>
                  </a:lnTo>
                  <a:lnTo>
                    <a:pt x="180" y="53"/>
                  </a:lnTo>
                  <a:lnTo>
                    <a:pt x="194" y="84"/>
                  </a:lnTo>
                  <a:lnTo>
                    <a:pt x="194" y="119"/>
                  </a:lnTo>
                  <a:lnTo>
                    <a:pt x="183" y="158"/>
                  </a:lnTo>
                  <a:lnTo>
                    <a:pt x="169" y="189"/>
                  </a:lnTo>
                  <a:lnTo>
                    <a:pt x="203" y="244"/>
                  </a:lnTo>
                  <a:lnTo>
                    <a:pt x="216" y="278"/>
                  </a:lnTo>
                  <a:lnTo>
                    <a:pt x="225" y="310"/>
                  </a:lnTo>
                  <a:lnTo>
                    <a:pt x="229" y="344"/>
                  </a:lnTo>
                  <a:lnTo>
                    <a:pt x="305" y="397"/>
                  </a:lnTo>
                  <a:lnTo>
                    <a:pt x="360" y="443"/>
                  </a:lnTo>
                  <a:lnTo>
                    <a:pt x="385" y="473"/>
                  </a:lnTo>
                  <a:lnTo>
                    <a:pt x="407" y="502"/>
                  </a:lnTo>
                  <a:lnTo>
                    <a:pt x="429" y="540"/>
                  </a:lnTo>
                  <a:lnTo>
                    <a:pt x="449" y="575"/>
                  </a:lnTo>
                  <a:lnTo>
                    <a:pt x="398" y="569"/>
                  </a:lnTo>
                  <a:lnTo>
                    <a:pt x="364" y="569"/>
                  </a:lnTo>
                  <a:lnTo>
                    <a:pt x="310" y="575"/>
                  </a:lnTo>
                  <a:lnTo>
                    <a:pt x="264" y="583"/>
                  </a:lnTo>
                  <a:lnTo>
                    <a:pt x="226" y="582"/>
                  </a:lnTo>
                  <a:lnTo>
                    <a:pt x="214" y="577"/>
                  </a:lnTo>
                  <a:lnTo>
                    <a:pt x="198" y="568"/>
                  </a:lnTo>
                  <a:lnTo>
                    <a:pt x="158" y="530"/>
                  </a:lnTo>
                  <a:lnTo>
                    <a:pt x="87" y="449"/>
                  </a:lnTo>
                  <a:lnTo>
                    <a:pt x="34" y="397"/>
                  </a:lnTo>
                  <a:lnTo>
                    <a:pt x="25" y="369"/>
                  </a:lnTo>
                  <a:lnTo>
                    <a:pt x="18" y="344"/>
                  </a:lnTo>
                  <a:lnTo>
                    <a:pt x="9" y="305"/>
                  </a:lnTo>
                  <a:lnTo>
                    <a:pt x="0" y="264"/>
                  </a:lnTo>
                  <a:lnTo>
                    <a:pt x="5" y="213"/>
                  </a:lnTo>
                  <a:lnTo>
                    <a:pt x="18" y="159"/>
                  </a:lnTo>
                  <a:lnTo>
                    <a:pt x="28" y="78"/>
                  </a:lnTo>
                  <a:lnTo>
                    <a:pt x="62" y="9"/>
                  </a:lnTo>
                  <a:close/>
                </a:path>
              </a:pathLst>
            </a:custGeom>
            <a:solidFill>
              <a:srgbClr val="ffd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78680" y="4906080"/>
              <a:ext cx="66240" cy="64440"/>
            </a:xfrm>
            <a:custGeom>
              <a:avLst/>
              <a:gdLst/>
              <a:ahLst/>
              <a:rect l="l" t="t" r="r" b="b"/>
              <a:pathLst>
                <a:path w="83" h="91">
                  <a:moveTo>
                    <a:pt x="78" y="0"/>
                  </a:moveTo>
                  <a:lnTo>
                    <a:pt x="83" y="45"/>
                  </a:lnTo>
                  <a:lnTo>
                    <a:pt x="66" y="83"/>
                  </a:lnTo>
                  <a:lnTo>
                    <a:pt x="51" y="88"/>
                  </a:lnTo>
                  <a:lnTo>
                    <a:pt x="28" y="91"/>
                  </a:lnTo>
                  <a:lnTo>
                    <a:pt x="0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72280" y="4568400"/>
              <a:ext cx="77400" cy="127440"/>
            </a:xfrm>
            <a:custGeom>
              <a:avLst/>
              <a:gdLst/>
              <a:ahLst/>
              <a:rect l="l" t="t" r="r" b="b"/>
              <a:pathLst>
                <a:path w="101" h="181">
                  <a:moveTo>
                    <a:pt x="0" y="0"/>
                  </a:moveTo>
                  <a:lnTo>
                    <a:pt x="1" y="23"/>
                  </a:lnTo>
                  <a:lnTo>
                    <a:pt x="4" y="45"/>
                  </a:lnTo>
                  <a:lnTo>
                    <a:pt x="8" y="69"/>
                  </a:lnTo>
                  <a:lnTo>
                    <a:pt x="14" y="87"/>
                  </a:lnTo>
                  <a:lnTo>
                    <a:pt x="22" y="103"/>
                  </a:lnTo>
                  <a:lnTo>
                    <a:pt x="33" y="126"/>
                  </a:lnTo>
                  <a:lnTo>
                    <a:pt x="51" y="144"/>
                  </a:lnTo>
                  <a:lnTo>
                    <a:pt x="74" y="165"/>
                  </a:lnTo>
                  <a:lnTo>
                    <a:pt x="101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085080" y="5067000"/>
              <a:ext cx="23760" cy="1764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0" y="17"/>
                  </a:moveTo>
                  <a:lnTo>
                    <a:pt x="4" y="28"/>
                  </a:lnTo>
                  <a:lnTo>
                    <a:pt x="24" y="17"/>
                  </a:lnTo>
                  <a:lnTo>
                    <a:pt x="2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924080" y="4561200"/>
              <a:ext cx="331200" cy="359280"/>
            </a:xfrm>
            <a:custGeom>
              <a:avLst/>
              <a:gdLst/>
              <a:ahLst/>
              <a:rect l="l" t="t" r="r" b="b"/>
              <a:pathLst>
                <a:path w="426" h="505">
                  <a:moveTo>
                    <a:pt x="0" y="0"/>
                  </a:moveTo>
                  <a:lnTo>
                    <a:pt x="252" y="342"/>
                  </a:lnTo>
                  <a:lnTo>
                    <a:pt x="312" y="406"/>
                  </a:lnTo>
                  <a:lnTo>
                    <a:pt x="374" y="456"/>
                  </a:lnTo>
                  <a:lnTo>
                    <a:pt x="426" y="5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873680" y="4604040"/>
              <a:ext cx="163440" cy="17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854240" y="4642920"/>
              <a:ext cx="53640" cy="5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22560" y="4678560"/>
              <a:ext cx="167760" cy="9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818960" y="4713840"/>
              <a:ext cx="113040" cy="5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791600" y="4749480"/>
              <a:ext cx="5472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795920" y="4789080"/>
              <a:ext cx="132480" cy="24840"/>
            </a:xfrm>
            <a:custGeom>
              <a:avLst/>
              <a:gdLst/>
              <a:ahLst/>
              <a:rect l="l" t="t" r="r" b="b"/>
              <a:pathLst>
                <a:path w="169" h="37">
                  <a:moveTo>
                    <a:pt x="0" y="0"/>
                  </a:moveTo>
                  <a:lnTo>
                    <a:pt x="42" y="3"/>
                  </a:lnTo>
                  <a:lnTo>
                    <a:pt x="84" y="12"/>
                  </a:lnTo>
                  <a:lnTo>
                    <a:pt x="129" y="22"/>
                  </a:lnTo>
                  <a:lnTo>
                    <a:pt x="169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0120" y="4846320"/>
              <a:ext cx="135720" cy="11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60760" y="4789080"/>
              <a:ext cx="159840" cy="74880"/>
            </a:xfrm>
            <a:custGeom>
              <a:avLst/>
              <a:gdLst/>
              <a:ahLst/>
              <a:rect l="l" t="t" r="r" b="b"/>
              <a:pathLst>
                <a:path w="205" h="106">
                  <a:moveTo>
                    <a:pt x="205" y="29"/>
                  </a:moveTo>
                  <a:lnTo>
                    <a:pt x="164" y="7"/>
                  </a:lnTo>
                  <a:lnTo>
                    <a:pt x="127" y="0"/>
                  </a:lnTo>
                  <a:lnTo>
                    <a:pt x="81" y="0"/>
                  </a:lnTo>
                  <a:lnTo>
                    <a:pt x="39" y="19"/>
                  </a:lnTo>
                  <a:lnTo>
                    <a:pt x="16" y="46"/>
                  </a:lnTo>
                  <a:lnTo>
                    <a:pt x="3" y="81"/>
                  </a:lnTo>
                  <a:lnTo>
                    <a:pt x="0" y="106"/>
                  </a:lnTo>
                  <a:lnTo>
                    <a:pt x="99" y="66"/>
                  </a:lnTo>
                  <a:lnTo>
                    <a:pt x="2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442840" y="4888440"/>
              <a:ext cx="151920" cy="89640"/>
            </a:xfrm>
            <a:custGeom>
              <a:avLst/>
              <a:gdLst/>
              <a:ahLst/>
              <a:rect l="l" t="t" r="r" b="b"/>
              <a:pathLst>
                <a:path w="192" h="125">
                  <a:moveTo>
                    <a:pt x="0" y="114"/>
                  </a:moveTo>
                  <a:lnTo>
                    <a:pt x="44" y="120"/>
                  </a:lnTo>
                  <a:lnTo>
                    <a:pt x="82" y="125"/>
                  </a:lnTo>
                  <a:lnTo>
                    <a:pt x="128" y="118"/>
                  </a:lnTo>
                  <a:lnTo>
                    <a:pt x="165" y="91"/>
                  </a:lnTo>
                  <a:lnTo>
                    <a:pt x="186" y="63"/>
                  </a:lnTo>
                  <a:lnTo>
                    <a:pt x="192" y="27"/>
                  </a:lnTo>
                  <a:lnTo>
                    <a:pt x="192" y="0"/>
                  </a:lnTo>
                  <a:lnTo>
                    <a:pt x="99" y="56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59240" y="4899600"/>
              <a:ext cx="350640" cy="416520"/>
            </a:xfrm>
            <a:custGeom>
              <a:avLst/>
              <a:gdLst/>
              <a:ahLst/>
              <a:rect l="l" t="t" r="r" b="b"/>
              <a:pathLst>
                <a:path w="449" h="583">
                  <a:moveTo>
                    <a:pt x="62" y="9"/>
                  </a:moveTo>
                  <a:lnTo>
                    <a:pt x="106" y="0"/>
                  </a:lnTo>
                  <a:lnTo>
                    <a:pt x="136" y="9"/>
                  </a:lnTo>
                  <a:lnTo>
                    <a:pt x="158" y="26"/>
                  </a:lnTo>
                  <a:lnTo>
                    <a:pt x="180" y="53"/>
                  </a:lnTo>
                  <a:lnTo>
                    <a:pt x="194" y="84"/>
                  </a:lnTo>
                  <a:lnTo>
                    <a:pt x="194" y="119"/>
                  </a:lnTo>
                  <a:lnTo>
                    <a:pt x="183" y="158"/>
                  </a:lnTo>
                  <a:lnTo>
                    <a:pt x="169" y="189"/>
                  </a:lnTo>
                  <a:lnTo>
                    <a:pt x="203" y="244"/>
                  </a:lnTo>
                  <a:lnTo>
                    <a:pt x="216" y="278"/>
                  </a:lnTo>
                  <a:lnTo>
                    <a:pt x="225" y="310"/>
                  </a:lnTo>
                  <a:lnTo>
                    <a:pt x="229" y="344"/>
                  </a:lnTo>
                  <a:lnTo>
                    <a:pt x="305" y="397"/>
                  </a:lnTo>
                  <a:lnTo>
                    <a:pt x="360" y="443"/>
                  </a:lnTo>
                  <a:lnTo>
                    <a:pt x="385" y="473"/>
                  </a:lnTo>
                  <a:lnTo>
                    <a:pt x="407" y="502"/>
                  </a:lnTo>
                  <a:lnTo>
                    <a:pt x="429" y="540"/>
                  </a:lnTo>
                  <a:lnTo>
                    <a:pt x="449" y="575"/>
                  </a:lnTo>
                  <a:lnTo>
                    <a:pt x="398" y="569"/>
                  </a:lnTo>
                  <a:lnTo>
                    <a:pt x="364" y="569"/>
                  </a:lnTo>
                  <a:lnTo>
                    <a:pt x="310" y="575"/>
                  </a:lnTo>
                  <a:lnTo>
                    <a:pt x="264" y="583"/>
                  </a:lnTo>
                  <a:lnTo>
                    <a:pt x="226" y="582"/>
                  </a:lnTo>
                  <a:lnTo>
                    <a:pt x="214" y="577"/>
                  </a:lnTo>
                  <a:lnTo>
                    <a:pt x="198" y="568"/>
                  </a:lnTo>
                  <a:lnTo>
                    <a:pt x="158" y="530"/>
                  </a:lnTo>
                  <a:lnTo>
                    <a:pt x="87" y="449"/>
                  </a:lnTo>
                  <a:lnTo>
                    <a:pt x="34" y="397"/>
                  </a:lnTo>
                  <a:lnTo>
                    <a:pt x="25" y="369"/>
                  </a:lnTo>
                  <a:lnTo>
                    <a:pt x="18" y="344"/>
                  </a:lnTo>
                  <a:lnTo>
                    <a:pt x="9" y="305"/>
                  </a:lnTo>
                  <a:lnTo>
                    <a:pt x="0" y="264"/>
                  </a:lnTo>
                  <a:lnTo>
                    <a:pt x="5" y="213"/>
                  </a:lnTo>
                  <a:lnTo>
                    <a:pt x="18" y="159"/>
                  </a:lnTo>
                  <a:lnTo>
                    <a:pt x="28" y="78"/>
                  </a:lnTo>
                  <a:lnTo>
                    <a:pt x="62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99640" y="5013720"/>
              <a:ext cx="666000" cy="227520"/>
            </a:xfrm>
            <a:custGeom>
              <a:avLst/>
              <a:gdLst/>
              <a:ahLst/>
              <a:rect l="l" t="t" r="r" b="b"/>
              <a:pathLst>
                <a:path w="855" h="320">
                  <a:moveTo>
                    <a:pt x="855" y="0"/>
                  </a:moveTo>
                  <a:lnTo>
                    <a:pt x="730" y="63"/>
                  </a:lnTo>
                  <a:lnTo>
                    <a:pt x="613" y="143"/>
                  </a:lnTo>
                  <a:lnTo>
                    <a:pt x="497" y="230"/>
                  </a:lnTo>
                  <a:lnTo>
                    <a:pt x="400" y="320"/>
                  </a:lnTo>
                  <a:lnTo>
                    <a:pt x="324" y="240"/>
                  </a:lnTo>
                  <a:lnTo>
                    <a:pt x="274" y="193"/>
                  </a:lnTo>
                  <a:lnTo>
                    <a:pt x="151" y="104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99640" y="5049000"/>
              <a:ext cx="673920" cy="231480"/>
            </a:xfrm>
            <a:custGeom>
              <a:avLst/>
              <a:gdLst/>
              <a:ahLst/>
              <a:rect l="l" t="t" r="r" b="b"/>
              <a:pathLst>
                <a:path w="864" h="329">
                  <a:moveTo>
                    <a:pt x="864" y="0"/>
                  </a:moveTo>
                  <a:lnTo>
                    <a:pt x="749" y="61"/>
                  </a:lnTo>
                  <a:lnTo>
                    <a:pt x="635" y="140"/>
                  </a:lnTo>
                  <a:lnTo>
                    <a:pt x="516" y="228"/>
                  </a:lnTo>
                  <a:lnTo>
                    <a:pt x="409" y="329"/>
                  </a:lnTo>
                  <a:lnTo>
                    <a:pt x="338" y="249"/>
                  </a:lnTo>
                  <a:lnTo>
                    <a:pt x="281" y="190"/>
                  </a:lnTo>
                  <a:lnTo>
                    <a:pt x="170" y="10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423400" y="5081400"/>
              <a:ext cx="658080" cy="2379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843" y="0"/>
                  </a:moveTo>
                  <a:lnTo>
                    <a:pt x="730" y="53"/>
                  </a:lnTo>
                  <a:lnTo>
                    <a:pt x="615" y="133"/>
                  </a:lnTo>
                  <a:lnTo>
                    <a:pt x="496" y="221"/>
                  </a:lnTo>
                  <a:lnTo>
                    <a:pt x="372" y="332"/>
                  </a:lnTo>
                  <a:lnTo>
                    <a:pt x="311" y="237"/>
                  </a:lnTo>
                  <a:lnTo>
                    <a:pt x="253" y="184"/>
                  </a:lnTo>
                  <a:lnTo>
                    <a:pt x="150" y="9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51560" y="5184000"/>
              <a:ext cx="354240" cy="189000"/>
            </a:xfrm>
            <a:custGeom>
              <a:avLst/>
              <a:gdLst/>
              <a:ahLst/>
              <a:rect l="l" t="t" r="r" b="b"/>
              <a:pathLst>
                <a:path w="453" h="264">
                  <a:moveTo>
                    <a:pt x="453" y="33"/>
                  </a:moveTo>
                  <a:lnTo>
                    <a:pt x="309" y="143"/>
                  </a:lnTo>
                  <a:lnTo>
                    <a:pt x="190" y="264"/>
                  </a:lnTo>
                  <a:lnTo>
                    <a:pt x="142" y="165"/>
                  </a:lnTo>
                  <a:lnTo>
                    <a:pt x="86" y="8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520600" y="4910040"/>
              <a:ext cx="483120" cy="277560"/>
            </a:xfrm>
            <a:custGeom>
              <a:avLst/>
              <a:gdLst/>
              <a:ahLst/>
              <a:rect l="l" t="t" r="r" b="b"/>
              <a:pathLst>
                <a:path w="620" h="388">
                  <a:moveTo>
                    <a:pt x="369" y="0"/>
                  </a:moveTo>
                  <a:lnTo>
                    <a:pt x="496" y="87"/>
                  </a:lnTo>
                  <a:lnTo>
                    <a:pt x="559" y="113"/>
                  </a:lnTo>
                  <a:lnTo>
                    <a:pt x="620" y="131"/>
                  </a:lnTo>
                  <a:lnTo>
                    <a:pt x="437" y="230"/>
                  </a:lnTo>
                  <a:lnTo>
                    <a:pt x="305" y="331"/>
                  </a:lnTo>
                  <a:lnTo>
                    <a:pt x="252" y="388"/>
                  </a:lnTo>
                  <a:lnTo>
                    <a:pt x="124" y="271"/>
                  </a:lnTo>
                  <a:lnTo>
                    <a:pt x="0" y="1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890680" y="4956120"/>
              <a:ext cx="30600" cy="1440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0" y="18"/>
                  </a:moveTo>
                  <a:lnTo>
                    <a:pt x="0" y="14"/>
                  </a:lnTo>
                  <a:lnTo>
                    <a:pt x="35" y="8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0" y="1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10120" y="4978080"/>
              <a:ext cx="14760" cy="1764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0" y="24"/>
                  </a:moveTo>
                  <a:lnTo>
                    <a:pt x="0" y="29"/>
                  </a:lnTo>
                  <a:lnTo>
                    <a:pt x="9" y="27"/>
                  </a:lnTo>
                  <a:lnTo>
                    <a:pt x="15" y="24"/>
                  </a:lnTo>
                  <a:lnTo>
                    <a:pt x="19" y="21"/>
                  </a:lnTo>
                  <a:lnTo>
                    <a:pt x="20" y="17"/>
                  </a:lnTo>
                  <a:lnTo>
                    <a:pt x="20" y="12"/>
                  </a:lnTo>
                  <a:lnTo>
                    <a:pt x="20" y="9"/>
                  </a:lnTo>
                  <a:lnTo>
                    <a:pt x="18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2"/>
                  </a:lnTo>
                  <a:lnTo>
                    <a:pt x="0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4" y="5"/>
                  </a:lnTo>
                  <a:lnTo>
                    <a:pt x="16" y="9"/>
                  </a:lnTo>
                  <a:lnTo>
                    <a:pt x="18" y="12"/>
                  </a:lnTo>
                  <a:lnTo>
                    <a:pt x="18" y="15"/>
                  </a:lnTo>
                  <a:lnTo>
                    <a:pt x="16" y="20"/>
                  </a:lnTo>
                  <a:lnTo>
                    <a:pt x="14" y="21"/>
                  </a:lnTo>
                  <a:lnTo>
                    <a:pt x="9" y="2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894280" y="4978080"/>
              <a:ext cx="15840" cy="2088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20" y="2"/>
                  </a:moveTo>
                  <a:lnTo>
                    <a:pt x="20" y="0"/>
                  </a:lnTo>
                  <a:lnTo>
                    <a:pt x="12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8" y="27"/>
                  </a:lnTo>
                  <a:lnTo>
                    <a:pt x="12" y="27"/>
                  </a:lnTo>
                  <a:lnTo>
                    <a:pt x="17" y="27"/>
                  </a:lnTo>
                  <a:lnTo>
                    <a:pt x="20" y="27"/>
                  </a:lnTo>
                  <a:lnTo>
                    <a:pt x="20" y="23"/>
                  </a:lnTo>
                  <a:lnTo>
                    <a:pt x="15" y="24"/>
                  </a:lnTo>
                  <a:lnTo>
                    <a:pt x="11" y="24"/>
                  </a:lnTo>
                  <a:lnTo>
                    <a:pt x="8" y="23"/>
                  </a:lnTo>
                  <a:lnTo>
                    <a:pt x="5" y="19"/>
                  </a:lnTo>
                  <a:lnTo>
                    <a:pt x="3" y="16"/>
                  </a:lnTo>
                  <a:lnTo>
                    <a:pt x="3" y="12"/>
                  </a:lnTo>
                  <a:lnTo>
                    <a:pt x="5" y="9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89160" y="5095080"/>
              <a:ext cx="11160" cy="28080"/>
            </a:xfrm>
            <a:custGeom>
              <a:avLst/>
              <a:gdLst/>
              <a:ahLst/>
              <a:rect l="l" t="t" r="r" b="b"/>
              <a:pathLst>
                <a:path w="14" h="39">
                  <a:moveTo>
                    <a:pt x="0" y="0"/>
                  </a:moveTo>
                  <a:lnTo>
                    <a:pt x="3" y="0"/>
                  </a:lnTo>
                  <a:lnTo>
                    <a:pt x="7" y="35"/>
                  </a:lnTo>
                  <a:lnTo>
                    <a:pt x="14" y="35"/>
                  </a:lnTo>
                  <a:lnTo>
                    <a:pt x="14" y="38"/>
                  </a:lnTo>
                  <a:lnTo>
                    <a:pt x="3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769720" y="5099400"/>
              <a:ext cx="11160" cy="28080"/>
            </a:xfrm>
            <a:custGeom>
              <a:avLst/>
              <a:gdLst/>
              <a:ahLst/>
              <a:rect l="l" t="t" r="r" b="b"/>
              <a:pathLst>
                <a:path w="13" h="40">
                  <a:moveTo>
                    <a:pt x="0" y="37"/>
                  </a:moveTo>
                  <a:lnTo>
                    <a:pt x="0" y="40"/>
                  </a:lnTo>
                  <a:lnTo>
                    <a:pt x="1" y="40"/>
                  </a:lnTo>
                  <a:lnTo>
                    <a:pt x="4" y="40"/>
                  </a:lnTo>
                  <a:lnTo>
                    <a:pt x="7" y="38"/>
                  </a:lnTo>
                  <a:lnTo>
                    <a:pt x="9" y="37"/>
                  </a:lnTo>
                  <a:lnTo>
                    <a:pt x="11" y="34"/>
                  </a:lnTo>
                  <a:lnTo>
                    <a:pt x="13" y="30"/>
                  </a:lnTo>
                  <a:lnTo>
                    <a:pt x="13" y="25"/>
                  </a:lnTo>
                  <a:lnTo>
                    <a:pt x="12" y="13"/>
                  </a:lnTo>
                  <a:lnTo>
                    <a:pt x="11" y="8"/>
                  </a:lnTo>
                  <a:lnTo>
                    <a:pt x="9" y="4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6" y="5"/>
                  </a:lnTo>
                  <a:lnTo>
                    <a:pt x="7" y="8"/>
                  </a:lnTo>
                  <a:lnTo>
                    <a:pt x="8" y="12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1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758200" y="5099400"/>
              <a:ext cx="11160" cy="280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14" y="3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4" y="35"/>
                  </a:lnTo>
                  <a:lnTo>
                    <a:pt x="5" y="37"/>
                  </a:lnTo>
                  <a:lnTo>
                    <a:pt x="7" y="39"/>
                  </a:lnTo>
                  <a:lnTo>
                    <a:pt x="10" y="40"/>
                  </a:lnTo>
                  <a:lnTo>
                    <a:pt x="13" y="40"/>
                  </a:lnTo>
                  <a:lnTo>
                    <a:pt x="14" y="40"/>
                  </a:lnTo>
                  <a:lnTo>
                    <a:pt x="14" y="37"/>
                  </a:lnTo>
                  <a:lnTo>
                    <a:pt x="11" y="37"/>
                  </a:lnTo>
                  <a:lnTo>
                    <a:pt x="8" y="35"/>
                  </a:lnTo>
                  <a:lnTo>
                    <a:pt x="6" y="31"/>
                  </a:lnTo>
                  <a:lnTo>
                    <a:pt x="5" y="28"/>
                  </a:lnTo>
                  <a:lnTo>
                    <a:pt x="4" y="14"/>
                  </a:lnTo>
                  <a:lnTo>
                    <a:pt x="4" y="9"/>
                  </a:lnTo>
                  <a:lnTo>
                    <a:pt x="6" y="6"/>
                  </a:lnTo>
                  <a:lnTo>
                    <a:pt x="8" y="4"/>
                  </a:lnTo>
                  <a:lnTo>
                    <a:pt x="13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372280" y="4568400"/>
              <a:ext cx="77400" cy="127440"/>
            </a:xfrm>
            <a:custGeom>
              <a:avLst/>
              <a:gdLst/>
              <a:ahLst/>
              <a:rect l="l" t="t" r="r" b="b"/>
              <a:pathLst>
                <a:path w="101" h="181">
                  <a:moveTo>
                    <a:pt x="0" y="0"/>
                  </a:moveTo>
                  <a:lnTo>
                    <a:pt x="1" y="23"/>
                  </a:lnTo>
                  <a:lnTo>
                    <a:pt x="4" y="45"/>
                  </a:lnTo>
                  <a:lnTo>
                    <a:pt x="8" y="69"/>
                  </a:lnTo>
                  <a:lnTo>
                    <a:pt x="14" y="87"/>
                  </a:lnTo>
                  <a:lnTo>
                    <a:pt x="22" y="103"/>
                  </a:lnTo>
                  <a:lnTo>
                    <a:pt x="33" y="126"/>
                  </a:lnTo>
                  <a:lnTo>
                    <a:pt x="51" y="144"/>
                  </a:lnTo>
                  <a:lnTo>
                    <a:pt x="74" y="165"/>
                  </a:lnTo>
                  <a:lnTo>
                    <a:pt x="101" y="18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372280" y="4586400"/>
              <a:ext cx="85680" cy="113760"/>
            </a:xfrm>
            <a:custGeom>
              <a:avLst/>
              <a:gdLst/>
              <a:ahLst/>
              <a:rect l="l" t="t" r="r" b="b"/>
              <a:pathLst>
                <a:path w="107" h="162">
                  <a:moveTo>
                    <a:pt x="0" y="0"/>
                  </a:moveTo>
                  <a:lnTo>
                    <a:pt x="11" y="19"/>
                  </a:lnTo>
                  <a:lnTo>
                    <a:pt x="81" y="146"/>
                  </a:lnTo>
                  <a:lnTo>
                    <a:pt x="107" y="162"/>
                  </a:lnTo>
                  <a:lnTo>
                    <a:pt x="2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72280" y="4568400"/>
              <a:ext cx="124560" cy="35280"/>
            </a:xfrm>
            <a:custGeom>
              <a:avLst/>
              <a:gdLst/>
              <a:ahLst/>
              <a:rect l="l" t="t" r="r" b="b"/>
              <a:pathLst>
                <a:path w="163" h="48">
                  <a:moveTo>
                    <a:pt x="0" y="1"/>
                  </a:moveTo>
                  <a:lnTo>
                    <a:pt x="4" y="11"/>
                  </a:lnTo>
                  <a:lnTo>
                    <a:pt x="10" y="18"/>
                  </a:lnTo>
                  <a:lnTo>
                    <a:pt x="26" y="27"/>
                  </a:lnTo>
                  <a:lnTo>
                    <a:pt x="56" y="36"/>
                  </a:lnTo>
                  <a:lnTo>
                    <a:pt x="85" y="44"/>
                  </a:lnTo>
                  <a:lnTo>
                    <a:pt x="110" y="48"/>
                  </a:lnTo>
                  <a:lnTo>
                    <a:pt x="126" y="48"/>
                  </a:lnTo>
                  <a:lnTo>
                    <a:pt x="140" y="44"/>
                  </a:lnTo>
                  <a:lnTo>
                    <a:pt x="151" y="28"/>
                  </a:lnTo>
                  <a:lnTo>
                    <a:pt x="155" y="17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6477120" y="1981080"/>
            <a:ext cx="1977840" cy="126540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685800" y="37339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ontrols performed by 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entr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Re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uto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5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685800" y="1523880"/>
          <a:ext cx="77709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709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# Inexperienced users </a:t>
            </a: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W too complex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(accidently) Erasing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mputer illiter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orget to save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nic rea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urn off pow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Wrong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ypo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7128000" y="4098960"/>
            <a:ext cx="776160" cy="1727280"/>
            <a:chOff x="7128000" y="4098960"/>
            <a:chExt cx="776160" cy="1727280"/>
          </a:xfrm>
        </p:grpSpPr>
        <p:sp>
          <p:nvSpPr>
            <p:cNvPr id="599" name=""/>
            <p:cNvSpPr/>
            <p:nvPr/>
          </p:nvSpPr>
          <p:spPr>
            <a:xfrm>
              <a:off x="7262640" y="4145040"/>
              <a:ext cx="48924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7128000" y="4098960"/>
              <a:ext cx="776160" cy="1727280"/>
              <a:chOff x="7128000" y="4098960"/>
              <a:chExt cx="776160" cy="1727280"/>
            </a:xfrm>
          </p:grpSpPr>
          <p:sp>
            <p:nvSpPr>
              <p:cNvPr id="601" name=""/>
              <p:cNvSpPr/>
              <p:nvPr/>
            </p:nvSpPr>
            <p:spPr>
              <a:xfrm>
                <a:off x="7128000" y="5610240"/>
                <a:ext cx="776160" cy="216000"/>
              </a:xfrm>
              <a:custGeom>
                <a:avLst/>
                <a:gdLst/>
                <a:ahLst/>
                <a:rect l="l" t="t" r="r" b="b"/>
                <a:pathLst>
                  <a:path w="1474" h="469">
                    <a:moveTo>
                      <a:pt x="0" y="469"/>
                    </a:moveTo>
                    <a:lnTo>
                      <a:pt x="56" y="109"/>
                    </a:lnTo>
                    <a:lnTo>
                      <a:pt x="176" y="0"/>
                    </a:lnTo>
                    <a:lnTo>
                      <a:pt x="1258" y="34"/>
                    </a:lnTo>
                    <a:lnTo>
                      <a:pt x="1388" y="98"/>
                    </a:lnTo>
                    <a:lnTo>
                      <a:pt x="1474" y="469"/>
                    </a:lnTo>
                    <a:lnTo>
                      <a:pt x="1312" y="381"/>
                    </a:lnTo>
                    <a:lnTo>
                      <a:pt x="152" y="381"/>
                    </a:lnTo>
                    <a:lnTo>
                      <a:pt x="0" y="469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128000" y="5610240"/>
                <a:ext cx="776160" cy="216000"/>
              </a:xfrm>
              <a:custGeom>
                <a:avLst/>
                <a:gdLst/>
                <a:ahLst/>
                <a:rect l="l" t="t" r="r" b="b"/>
                <a:pathLst>
                  <a:path w="1474" h="469">
                    <a:moveTo>
                      <a:pt x="0" y="469"/>
                    </a:moveTo>
                    <a:lnTo>
                      <a:pt x="56" y="109"/>
                    </a:lnTo>
                    <a:lnTo>
                      <a:pt x="176" y="0"/>
                    </a:lnTo>
                    <a:lnTo>
                      <a:pt x="1258" y="34"/>
                    </a:lnTo>
                    <a:lnTo>
                      <a:pt x="1388" y="98"/>
                    </a:lnTo>
                    <a:lnTo>
                      <a:pt x="1474" y="469"/>
                    </a:lnTo>
                    <a:lnTo>
                      <a:pt x="1312" y="381"/>
                    </a:lnTo>
                    <a:lnTo>
                      <a:pt x="152" y="381"/>
                    </a:lnTo>
                    <a:lnTo>
                      <a:pt x="0" y="469"/>
                    </a:lnTo>
                    <a:lnTo>
                      <a:pt x="0" y="4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128000" y="5729400"/>
                <a:ext cx="776160" cy="96840"/>
              </a:xfrm>
              <a:custGeom>
                <a:avLst/>
                <a:gdLst/>
                <a:ahLst/>
                <a:rect l="l" t="t" r="r" b="b"/>
                <a:pathLst>
                  <a:path w="1474" h="207">
                    <a:moveTo>
                      <a:pt x="0" y="207"/>
                    </a:moveTo>
                    <a:lnTo>
                      <a:pt x="1474" y="207"/>
                    </a:lnTo>
                    <a:lnTo>
                      <a:pt x="1290" y="0"/>
                    </a:lnTo>
                    <a:lnTo>
                      <a:pt x="163" y="0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128000" y="5729400"/>
                <a:ext cx="776160" cy="96840"/>
              </a:xfrm>
              <a:custGeom>
                <a:avLst/>
                <a:gdLst/>
                <a:ahLst/>
                <a:rect l="l" t="t" r="r" b="b"/>
                <a:pathLst>
                  <a:path w="1474" h="207">
                    <a:moveTo>
                      <a:pt x="0" y="207"/>
                    </a:moveTo>
                    <a:lnTo>
                      <a:pt x="1474" y="207"/>
                    </a:lnTo>
                    <a:lnTo>
                      <a:pt x="1290" y="0"/>
                    </a:lnTo>
                    <a:lnTo>
                      <a:pt x="163" y="0"/>
                    </a:lnTo>
                    <a:lnTo>
                      <a:pt x="0" y="207"/>
                    </a:lnTo>
                    <a:lnTo>
                      <a:pt x="0" y="20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215120" y="4098960"/>
                <a:ext cx="120600" cy="1622520"/>
              </a:xfrm>
              <a:custGeom>
                <a:avLst/>
                <a:gdLst/>
                <a:ahLst/>
                <a:rect l="l" t="t" r="r" b="b"/>
                <a:pathLst>
                  <a:path w="231" h="3537">
                    <a:moveTo>
                      <a:pt x="0" y="3527"/>
                    </a:moveTo>
                    <a:lnTo>
                      <a:pt x="23" y="3537"/>
                    </a:lnTo>
                    <a:lnTo>
                      <a:pt x="231" y="3537"/>
                    </a:lnTo>
                    <a:lnTo>
                      <a:pt x="231" y="0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0" y="352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215120" y="4098960"/>
                <a:ext cx="120600" cy="1622520"/>
              </a:xfrm>
              <a:custGeom>
                <a:avLst/>
                <a:gdLst/>
                <a:ahLst/>
                <a:rect l="l" t="t" r="r" b="b"/>
                <a:pathLst>
                  <a:path w="231" h="3537">
                    <a:moveTo>
                      <a:pt x="0" y="3527"/>
                    </a:moveTo>
                    <a:lnTo>
                      <a:pt x="23" y="3537"/>
                    </a:lnTo>
                    <a:lnTo>
                      <a:pt x="231" y="3537"/>
                    </a:lnTo>
                    <a:lnTo>
                      <a:pt x="231" y="0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0" y="3527"/>
                    </a:lnTo>
                    <a:lnTo>
                      <a:pt x="0" y="35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728120" y="4098960"/>
                <a:ext cx="72720" cy="1622520"/>
              </a:xfrm>
              <a:custGeom>
                <a:avLst/>
                <a:gdLst/>
                <a:ahLst/>
                <a:rect l="l" t="t" r="r" b="b"/>
                <a:pathLst>
                  <a:path w="141" h="3537">
                    <a:moveTo>
                      <a:pt x="0" y="3537"/>
                    </a:moveTo>
                    <a:lnTo>
                      <a:pt x="120" y="3537"/>
                    </a:lnTo>
                    <a:lnTo>
                      <a:pt x="141" y="3516"/>
                    </a:lnTo>
                    <a:lnTo>
                      <a:pt x="141" y="33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35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728120" y="4098960"/>
                <a:ext cx="72720" cy="1622520"/>
              </a:xfrm>
              <a:custGeom>
                <a:avLst/>
                <a:gdLst/>
                <a:ahLst/>
                <a:rect l="l" t="t" r="r" b="b"/>
                <a:pathLst>
                  <a:path w="141" h="3537">
                    <a:moveTo>
                      <a:pt x="0" y="3537"/>
                    </a:moveTo>
                    <a:lnTo>
                      <a:pt x="120" y="3537"/>
                    </a:lnTo>
                    <a:lnTo>
                      <a:pt x="141" y="3516"/>
                    </a:lnTo>
                    <a:lnTo>
                      <a:pt x="141" y="33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3537"/>
                    </a:lnTo>
                    <a:lnTo>
                      <a:pt x="0" y="35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227720" y="4098960"/>
                <a:ext cx="563760" cy="162252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227720" y="4098960"/>
                <a:ext cx="563760" cy="1622520"/>
              </a:xfrm>
              <a:custGeom>
                <a:avLst/>
                <a:gdLst/>
                <a:ahLst/>
                <a:rect l="l" t="t" r="r" b="b"/>
                <a:pathLst>
                  <a:path w="1071" h="3537">
                    <a:moveTo>
                      <a:pt x="0" y="3537"/>
                    </a:moveTo>
                    <a:lnTo>
                      <a:pt x="0" y="0"/>
                    </a:lnTo>
                    <a:lnTo>
                      <a:pt x="1071" y="0"/>
                    </a:lnTo>
                    <a:lnTo>
                      <a:pt x="1071" y="3537"/>
                    </a:lnTo>
                    <a:lnTo>
                      <a:pt x="0" y="3537"/>
                    </a:lnTo>
                    <a:lnTo>
                      <a:pt x="0" y="35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243920" y="4098960"/>
                <a:ext cx="523800" cy="982800"/>
              </a:xfrm>
              <a:custGeom>
                <a:avLst/>
                <a:gdLst/>
                <a:ahLst/>
                <a:rect l="l" t="t" r="r" b="b"/>
                <a:pathLst>
                  <a:path w="995" h="2145">
                    <a:moveTo>
                      <a:pt x="0" y="0"/>
                    </a:moveTo>
                    <a:lnTo>
                      <a:pt x="0" y="2101"/>
                    </a:lnTo>
                    <a:lnTo>
                      <a:pt x="55" y="2145"/>
                    </a:lnTo>
                    <a:lnTo>
                      <a:pt x="176" y="2145"/>
                    </a:lnTo>
                    <a:lnTo>
                      <a:pt x="176" y="2026"/>
                    </a:lnTo>
                    <a:lnTo>
                      <a:pt x="207" y="1980"/>
                    </a:lnTo>
                    <a:lnTo>
                      <a:pt x="798" y="1980"/>
                    </a:lnTo>
                    <a:lnTo>
                      <a:pt x="840" y="2026"/>
                    </a:lnTo>
                    <a:lnTo>
                      <a:pt x="840" y="2145"/>
                    </a:lnTo>
                    <a:lnTo>
                      <a:pt x="963" y="2145"/>
                    </a:lnTo>
                    <a:lnTo>
                      <a:pt x="995" y="2112"/>
                    </a:lnTo>
                    <a:lnTo>
                      <a:pt x="99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684920" y="5097600"/>
                <a:ext cx="3240" cy="62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335720" y="5097600"/>
                <a:ext cx="3240" cy="62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8280" y="5022720"/>
                <a:ext cx="11160" cy="685800"/>
              </a:xfrm>
              <a:custGeom>
                <a:avLst/>
                <a:gdLst/>
                <a:ahLst/>
                <a:rect l="l" t="t" r="r" b="b"/>
                <a:pathLst>
                  <a:path w="21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410600" y="5022720"/>
                <a:ext cx="12600" cy="685800"/>
              </a:xfrm>
              <a:custGeom>
                <a:avLst/>
                <a:gdLst/>
                <a:ahLst/>
                <a:rect l="l" t="t" r="r" b="b"/>
                <a:pathLst>
                  <a:path w="21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432560" y="5022720"/>
                <a:ext cx="14400" cy="685800"/>
              </a:xfrm>
              <a:custGeom>
                <a:avLst/>
                <a:gdLst/>
                <a:ahLst/>
                <a:rect l="l" t="t" r="r" b="b"/>
                <a:pathLst>
                  <a:path w="21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456320" y="5022720"/>
                <a:ext cx="11160" cy="685800"/>
              </a:xfrm>
              <a:custGeom>
                <a:avLst/>
                <a:gdLst/>
                <a:ahLst/>
                <a:rect l="l" t="t" r="r" b="b"/>
                <a:pathLst>
                  <a:path w="20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480440" y="5022720"/>
                <a:ext cx="10800" cy="685800"/>
              </a:xfrm>
              <a:custGeom>
                <a:avLst/>
                <a:gdLst/>
                <a:ahLst/>
                <a:rect l="l" t="t" r="r" b="b"/>
                <a:pathLst>
                  <a:path w="23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504200" y="5022720"/>
                <a:ext cx="11160" cy="685800"/>
              </a:xfrm>
              <a:custGeom>
                <a:avLst/>
                <a:gdLst/>
                <a:ahLst/>
                <a:rect l="l" t="t" r="r" b="b"/>
                <a:pathLst>
                  <a:path w="21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524720" y="5022720"/>
                <a:ext cx="11160" cy="685800"/>
              </a:xfrm>
              <a:custGeom>
                <a:avLst/>
                <a:gdLst/>
                <a:ahLst/>
                <a:rect l="l" t="t" r="r" b="b"/>
                <a:pathLst>
                  <a:path w="21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548480" y="5022720"/>
                <a:ext cx="11160" cy="685800"/>
              </a:xfrm>
              <a:custGeom>
                <a:avLst/>
                <a:gdLst/>
                <a:ahLst/>
                <a:rect l="l" t="t" r="r" b="b"/>
                <a:pathLst>
                  <a:path w="22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572240" y="5022720"/>
                <a:ext cx="11160" cy="685800"/>
              </a:xfrm>
              <a:custGeom>
                <a:avLst/>
                <a:gdLst/>
                <a:ahLst/>
                <a:rect l="l" t="t" r="r" b="b"/>
                <a:pathLst>
                  <a:path w="20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596360" y="5022720"/>
                <a:ext cx="10800" cy="685800"/>
              </a:xfrm>
              <a:custGeom>
                <a:avLst/>
                <a:gdLst/>
                <a:ahLst/>
                <a:rect l="l" t="t" r="r" b="b"/>
                <a:pathLst>
                  <a:path w="21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616880" y="5022720"/>
                <a:ext cx="14400" cy="685800"/>
              </a:xfrm>
              <a:custGeom>
                <a:avLst/>
                <a:gdLst/>
                <a:ahLst/>
                <a:rect l="l" t="t" r="r" b="b"/>
                <a:pathLst>
                  <a:path w="23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7640640" y="5022360"/>
                <a:ext cx="3240" cy="685800"/>
              </a:xfrm>
              <a:prstGeom prst="line">
                <a:avLst/>
              </a:prstGeom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267680" y="4836960"/>
                <a:ext cx="469800" cy="120960"/>
              </a:xfrm>
              <a:custGeom>
                <a:avLst/>
                <a:gdLst/>
                <a:ahLst/>
                <a:rect l="l" t="t" r="r" b="b"/>
                <a:pathLst>
                  <a:path w="895" h="262">
                    <a:moveTo>
                      <a:pt x="895" y="0"/>
                    </a:moveTo>
                    <a:lnTo>
                      <a:pt x="0" y="0"/>
                    </a:lnTo>
                    <a:lnTo>
                      <a:pt x="0" y="262"/>
                    </a:lnTo>
                    <a:lnTo>
                      <a:pt x="76" y="262"/>
                    </a:lnTo>
                    <a:lnTo>
                      <a:pt x="76" y="45"/>
                    </a:lnTo>
                    <a:lnTo>
                      <a:pt x="842" y="22"/>
                    </a:lnTo>
                    <a:lnTo>
                      <a:pt x="89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267680" y="4836960"/>
                <a:ext cx="469800" cy="120960"/>
              </a:xfrm>
              <a:custGeom>
                <a:avLst/>
                <a:gdLst/>
                <a:ahLst/>
                <a:rect l="l" t="t" r="r" b="b"/>
                <a:pathLst>
                  <a:path w="895" h="262">
                    <a:moveTo>
                      <a:pt x="895" y="0"/>
                    </a:moveTo>
                    <a:lnTo>
                      <a:pt x="0" y="0"/>
                    </a:lnTo>
                    <a:lnTo>
                      <a:pt x="0" y="262"/>
                    </a:lnTo>
                    <a:lnTo>
                      <a:pt x="76" y="262"/>
                    </a:lnTo>
                    <a:lnTo>
                      <a:pt x="76" y="45"/>
                    </a:lnTo>
                    <a:lnTo>
                      <a:pt x="842" y="22"/>
                    </a:lnTo>
                    <a:lnTo>
                      <a:pt x="895" y="0"/>
                    </a:lnTo>
                    <a:lnTo>
                      <a:pt x="895" y="0"/>
                    </a:lnTo>
                  </a:path>
                </a:pathLst>
              </a:custGeom>
              <a:noFill/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267680" y="4946760"/>
                <a:ext cx="469800" cy="9360"/>
              </a:xfrm>
              <a:custGeom>
                <a:avLst/>
                <a:gdLst/>
                <a:ahLst/>
                <a:rect l="l" t="t" r="r" b="b"/>
                <a:pathLst>
                  <a:path w="895" h="21">
                    <a:moveTo>
                      <a:pt x="842" y="0"/>
                    </a:moveTo>
                    <a:lnTo>
                      <a:pt x="76" y="0"/>
                    </a:lnTo>
                    <a:lnTo>
                      <a:pt x="0" y="21"/>
                    </a:lnTo>
                    <a:lnTo>
                      <a:pt x="895" y="21"/>
                    </a:lnTo>
                    <a:lnTo>
                      <a:pt x="84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267680" y="4946760"/>
                <a:ext cx="469800" cy="9360"/>
              </a:xfrm>
              <a:custGeom>
                <a:avLst/>
                <a:gdLst/>
                <a:ahLst/>
                <a:rect l="l" t="t" r="r" b="b"/>
                <a:pathLst>
                  <a:path w="895" h="21">
                    <a:moveTo>
                      <a:pt x="842" y="0"/>
                    </a:moveTo>
                    <a:lnTo>
                      <a:pt x="76" y="0"/>
                    </a:lnTo>
                    <a:lnTo>
                      <a:pt x="0" y="21"/>
                    </a:lnTo>
                    <a:lnTo>
                      <a:pt x="895" y="21"/>
                    </a:lnTo>
                    <a:lnTo>
                      <a:pt x="842" y="0"/>
                    </a:lnTo>
                    <a:lnTo>
                      <a:pt x="842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302600" y="4853160"/>
                <a:ext cx="412560" cy="88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302600" y="4853160"/>
                <a:ext cx="412560" cy="88560"/>
              </a:xfrm>
              <a:custGeom>
                <a:avLst/>
                <a:gdLst/>
                <a:ahLst/>
                <a:rect l="l" t="t" r="r" b="b"/>
                <a:pathLst>
                  <a:path w="787" h="195">
                    <a:moveTo>
                      <a:pt x="787" y="195"/>
                    </a:moveTo>
                    <a:lnTo>
                      <a:pt x="787" y="0"/>
                    </a:lnTo>
                    <a:lnTo>
                      <a:pt x="0" y="0"/>
                    </a:lnTo>
                    <a:lnTo>
                      <a:pt x="0" y="195"/>
                    </a:lnTo>
                    <a:lnTo>
                      <a:pt x="787" y="195"/>
                    </a:lnTo>
                    <a:lnTo>
                      <a:pt x="787" y="19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607160" y="4862520"/>
                <a:ext cx="86040" cy="6516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607160" y="4862520"/>
                <a:ext cx="86040" cy="65160"/>
              </a:xfrm>
              <a:custGeom>
                <a:avLst/>
                <a:gdLst/>
                <a:ahLst/>
                <a:rect l="l" t="t" r="r" b="b"/>
                <a:pathLst>
                  <a:path w="164" h="142">
                    <a:moveTo>
                      <a:pt x="0" y="142"/>
                    </a:moveTo>
                    <a:lnTo>
                      <a:pt x="0" y="0"/>
                    </a:lnTo>
                    <a:lnTo>
                      <a:pt x="164" y="0"/>
                    </a:lnTo>
                    <a:lnTo>
                      <a:pt x="164" y="142"/>
                    </a:lnTo>
                    <a:lnTo>
                      <a:pt x="0" y="142"/>
                    </a:lnTo>
                    <a:lnTo>
                      <a:pt x="0" y="142"/>
                    </a:lnTo>
                  </a:path>
                </a:pathLst>
              </a:custGeom>
              <a:noFill/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631280" y="4878360"/>
                <a:ext cx="44280" cy="38160"/>
              </a:xfrm>
              <a:custGeom>
                <a:avLst/>
                <a:gdLst/>
                <a:ahLst/>
                <a:rect l="l" t="t" r="r" b="b"/>
                <a:pathLst>
                  <a:path w="87" h="85">
                    <a:moveTo>
                      <a:pt x="87" y="43"/>
                    </a:moveTo>
                    <a:lnTo>
                      <a:pt x="86" y="33"/>
                    </a:lnTo>
                    <a:lnTo>
                      <a:pt x="82" y="26"/>
                    </a:lnTo>
                    <a:lnTo>
                      <a:pt x="80" y="19"/>
                    </a:lnTo>
                    <a:lnTo>
                      <a:pt x="72" y="11"/>
                    </a:lnTo>
                    <a:lnTo>
                      <a:pt x="66" y="6"/>
                    </a:lnTo>
                    <a:lnTo>
                      <a:pt x="57" y="2"/>
                    </a:lnTo>
                    <a:lnTo>
                      <a:pt x="48" y="0"/>
                    </a:lnTo>
                    <a:lnTo>
                      <a:pt x="39" y="0"/>
                    </a:lnTo>
                    <a:lnTo>
                      <a:pt x="31" y="2"/>
                    </a:lnTo>
                    <a:lnTo>
                      <a:pt x="22" y="6"/>
                    </a:lnTo>
                    <a:lnTo>
                      <a:pt x="14" y="11"/>
                    </a:lnTo>
                    <a:lnTo>
                      <a:pt x="9" y="16"/>
                    </a:lnTo>
                    <a:lnTo>
                      <a:pt x="5" y="24"/>
                    </a:lnTo>
                    <a:lnTo>
                      <a:pt x="1" y="33"/>
                    </a:lnTo>
                    <a:lnTo>
                      <a:pt x="0" y="43"/>
                    </a:lnTo>
                    <a:lnTo>
                      <a:pt x="1" y="52"/>
                    </a:lnTo>
                    <a:lnTo>
                      <a:pt x="3" y="59"/>
                    </a:lnTo>
                    <a:lnTo>
                      <a:pt x="9" y="68"/>
                    </a:lnTo>
                    <a:lnTo>
                      <a:pt x="14" y="75"/>
                    </a:lnTo>
                    <a:lnTo>
                      <a:pt x="22" y="81"/>
                    </a:lnTo>
                    <a:lnTo>
                      <a:pt x="29" y="84"/>
                    </a:lnTo>
                    <a:lnTo>
                      <a:pt x="39" y="85"/>
                    </a:lnTo>
                    <a:lnTo>
                      <a:pt x="48" y="85"/>
                    </a:lnTo>
                    <a:lnTo>
                      <a:pt x="55" y="84"/>
                    </a:lnTo>
                    <a:lnTo>
                      <a:pt x="64" y="82"/>
                    </a:lnTo>
                    <a:lnTo>
                      <a:pt x="72" y="76"/>
                    </a:lnTo>
                    <a:lnTo>
                      <a:pt x="78" y="68"/>
                    </a:lnTo>
                    <a:lnTo>
                      <a:pt x="82" y="61"/>
                    </a:lnTo>
                    <a:lnTo>
                      <a:pt x="86" y="52"/>
                    </a:lnTo>
                    <a:lnTo>
                      <a:pt x="87" y="44"/>
                    </a:lnTo>
                    <a:lnTo>
                      <a:pt x="87" y="4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631280" y="4878360"/>
                <a:ext cx="44280" cy="38160"/>
              </a:xfrm>
              <a:custGeom>
                <a:avLst/>
                <a:gdLst/>
                <a:ahLst/>
                <a:rect l="l" t="t" r="r" b="b"/>
                <a:pathLst>
                  <a:path w="87" h="85">
                    <a:moveTo>
                      <a:pt x="87" y="43"/>
                    </a:moveTo>
                    <a:lnTo>
                      <a:pt x="86" y="33"/>
                    </a:lnTo>
                    <a:lnTo>
                      <a:pt x="82" y="26"/>
                    </a:lnTo>
                    <a:lnTo>
                      <a:pt x="80" y="19"/>
                    </a:lnTo>
                    <a:lnTo>
                      <a:pt x="72" y="11"/>
                    </a:lnTo>
                    <a:lnTo>
                      <a:pt x="66" y="6"/>
                    </a:lnTo>
                    <a:lnTo>
                      <a:pt x="57" y="2"/>
                    </a:lnTo>
                    <a:lnTo>
                      <a:pt x="48" y="0"/>
                    </a:lnTo>
                    <a:lnTo>
                      <a:pt x="39" y="0"/>
                    </a:lnTo>
                    <a:lnTo>
                      <a:pt x="31" y="2"/>
                    </a:lnTo>
                    <a:lnTo>
                      <a:pt x="22" y="6"/>
                    </a:lnTo>
                    <a:lnTo>
                      <a:pt x="14" y="11"/>
                    </a:lnTo>
                    <a:lnTo>
                      <a:pt x="9" y="16"/>
                    </a:lnTo>
                    <a:lnTo>
                      <a:pt x="5" y="24"/>
                    </a:lnTo>
                    <a:lnTo>
                      <a:pt x="1" y="33"/>
                    </a:lnTo>
                    <a:lnTo>
                      <a:pt x="0" y="43"/>
                    </a:lnTo>
                    <a:lnTo>
                      <a:pt x="1" y="52"/>
                    </a:lnTo>
                    <a:lnTo>
                      <a:pt x="3" y="59"/>
                    </a:lnTo>
                    <a:lnTo>
                      <a:pt x="9" y="68"/>
                    </a:lnTo>
                    <a:lnTo>
                      <a:pt x="14" y="75"/>
                    </a:lnTo>
                    <a:lnTo>
                      <a:pt x="22" y="81"/>
                    </a:lnTo>
                    <a:lnTo>
                      <a:pt x="29" y="84"/>
                    </a:lnTo>
                    <a:lnTo>
                      <a:pt x="39" y="85"/>
                    </a:lnTo>
                    <a:lnTo>
                      <a:pt x="48" y="85"/>
                    </a:lnTo>
                    <a:lnTo>
                      <a:pt x="55" y="84"/>
                    </a:lnTo>
                    <a:lnTo>
                      <a:pt x="64" y="82"/>
                    </a:lnTo>
                    <a:lnTo>
                      <a:pt x="72" y="76"/>
                    </a:lnTo>
                    <a:lnTo>
                      <a:pt x="78" y="68"/>
                    </a:lnTo>
                    <a:lnTo>
                      <a:pt x="82" y="61"/>
                    </a:lnTo>
                    <a:lnTo>
                      <a:pt x="86" y="52"/>
                    </a:lnTo>
                    <a:lnTo>
                      <a:pt x="87" y="44"/>
                    </a:lnTo>
                    <a:lnTo>
                      <a:pt x="87" y="43"/>
                    </a:lnTo>
                    <a:lnTo>
                      <a:pt x="87" y="43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491240" y="4886280"/>
                <a:ext cx="47880" cy="4140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87" y="44"/>
                    </a:moveTo>
                    <a:lnTo>
                      <a:pt x="85" y="35"/>
                    </a:lnTo>
                    <a:lnTo>
                      <a:pt x="82" y="26"/>
                    </a:lnTo>
                    <a:lnTo>
                      <a:pt x="79" y="18"/>
                    </a:lnTo>
                    <a:lnTo>
                      <a:pt x="72" y="11"/>
                    </a:lnTo>
                    <a:lnTo>
                      <a:pt x="67" y="5"/>
                    </a:lnTo>
                    <a:lnTo>
                      <a:pt x="56" y="1"/>
                    </a:lnTo>
                    <a:lnTo>
                      <a:pt x="47" y="1"/>
                    </a:lnTo>
                    <a:lnTo>
                      <a:pt x="39" y="0"/>
                    </a:lnTo>
                    <a:lnTo>
                      <a:pt x="31" y="1"/>
                    </a:lnTo>
                    <a:lnTo>
                      <a:pt x="22" y="5"/>
                    </a:lnTo>
                    <a:lnTo>
                      <a:pt x="14" y="11"/>
                    </a:lnTo>
                    <a:lnTo>
                      <a:pt x="9" y="18"/>
                    </a:lnTo>
                    <a:lnTo>
                      <a:pt x="4" y="26"/>
                    </a:lnTo>
                    <a:lnTo>
                      <a:pt x="1" y="35"/>
                    </a:lnTo>
                    <a:lnTo>
                      <a:pt x="0" y="43"/>
                    </a:lnTo>
                    <a:lnTo>
                      <a:pt x="1" y="51"/>
                    </a:lnTo>
                    <a:lnTo>
                      <a:pt x="3" y="61"/>
                    </a:lnTo>
                    <a:lnTo>
                      <a:pt x="6" y="68"/>
                    </a:lnTo>
                    <a:lnTo>
                      <a:pt x="14" y="76"/>
                    </a:lnTo>
                    <a:lnTo>
                      <a:pt x="22" y="81"/>
                    </a:lnTo>
                    <a:lnTo>
                      <a:pt x="29" y="85"/>
                    </a:lnTo>
                    <a:lnTo>
                      <a:pt x="39" y="87"/>
                    </a:lnTo>
                    <a:lnTo>
                      <a:pt x="47" y="87"/>
                    </a:lnTo>
                    <a:lnTo>
                      <a:pt x="55" y="85"/>
                    </a:lnTo>
                    <a:lnTo>
                      <a:pt x="64" y="81"/>
                    </a:lnTo>
                    <a:lnTo>
                      <a:pt x="72" y="76"/>
                    </a:lnTo>
                    <a:lnTo>
                      <a:pt x="77" y="70"/>
                    </a:lnTo>
                    <a:lnTo>
                      <a:pt x="82" y="62"/>
                    </a:lnTo>
                    <a:lnTo>
                      <a:pt x="85" y="53"/>
                    </a:lnTo>
                    <a:lnTo>
                      <a:pt x="87" y="4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491240" y="4886280"/>
                <a:ext cx="47880" cy="4140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87" y="44"/>
                    </a:moveTo>
                    <a:lnTo>
                      <a:pt x="85" y="35"/>
                    </a:lnTo>
                    <a:lnTo>
                      <a:pt x="82" y="26"/>
                    </a:lnTo>
                    <a:lnTo>
                      <a:pt x="79" y="18"/>
                    </a:lnTo>
                    <a:lnTo>
                      <a:pt x="72" y="11"/>
                    </a:lnTo>
                    <a:lnTo>
                      <a:pt x="67" y="5"/>
                    </a:lnTo>
                    <a:lnTo>
                      <a:pt x="56" y="1"/>
                    </a:lnTo>
                    <a:lnTo>
                      <a:pt x="47" y="1"/>
                    </a:lnTo>
                    <a:lnTo>
                      <a:pt x="39" y="0"/>
                    </a:lnTo>
                    <a:lnTo>
                      <a:pt x="31" y="1"/>
                    </a:lnTo>
                    <a:lnTo>
                      <a:pt x="22" y="5"/>
                    </a:lnTo>
                    <a:lnTo>
                      <a:pt x="14" y="11"/>
                    </a:lnTo>
                    <a:lnTo>
                      <a:pt x="9" y="18"/>
                    </a:lnTo>
                    <a:lnTo>
                      <a:pt x="4" y="26"/>
                    </a:lnTo>
                    <a:lnTo>
                      <a:pt x="1" y="35"/>
                    </a:lnTo>
                    <a:lnTo>
                      <a:pt x="0" y="43"/>
                    </a:lnTo>
                    <a:lnTo>
                      <a:pt x="1" y="51"/>
                    </a:lnTo>
                    <a:lnTo>
                      <a:pt x="3" y="61"/>
                    </a:lnTo>
                    <a:lnTo>
                      <a:pt x="6" y="68"/>
                    </a:lnTo>
                    <a:lnTo>
                      <a:pt x="14" y="76"/>
                    </a:lnTo>
                    <a:lnTo>
                      <a:pt x="22" y="81"/>
                    </a:lnTo>
                    <a:lnTo>
                      <a:pt x="29" y="85"/>
                    </a:lnTo>
                    <a:lnTo>
                      <a:pt x="39" y="87"/>
                    </a:lnTo>
                    <a:lnTo>
                      <a:pt x="47" y="87"/>
                    </a:lnTo>
                    <a:lnTo>
                      <a:pt x="55" y="85"/>
                    </a:lnTo>
                    <a:lnTo>
                      <a:pt x="64" y="81"/>
                    </a:lnTo>
                    <a:lnTo>
                      <a:pt x="72" y="76"/>
                    </a:lnTo>
                    <a:lnTo>
                      <a:pt x="77" y="70"/>
                    </a:lnTo>
                    <a:lnTo>
                      <a:pt x="82" y="62"/>
                    </a:lnTo>
                    <a:lnTo>
                      <a:pt x="85" y="53"/>
                    </a:lnTo>
                    <a:lnTo>
                      <a:pt x="87" y="44"/>
                    </a:lnTo>
                    <a:lnTo>
                      <a:pt x="87" y="44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23200" y="4886280"/>
                <a:ext cx="44280" cy="41400"/>
              </a:xfrm>
              <a:custGeom>
                <a:avLst/>
                <a:gdLst/>
                <a:ahLst/>
                <a:rect l="l" t="t" r="r" b="b"/>
                <a:pathLst>
                  <a:path w="85" h="87">
                    <a:moveTo>
                      <a:pt x="85" y="44"/>
                    </a:moveTo>
                    <a:lnTo>
                      <a:pt x="85" y="35"/>
                    </a:lnTo>
                    <a:lnTo>
                      <a:pt x="82" y="26"/>
                    </a:lnTo>
                    <a:lnTo>
                      <a:pt x="79" y="18"/>
                    </a:lnTo>
                    <a:lnTo>
                      <a:pt x="73" y="11"/>
                    </a:lnTo>
                    <a:lnTo>
                      <a:pt x="65" y="5"/>
                    </a:lnTo>
                    <a:lnTo>
                      <a:pt x="56" y="1"/>
                    </a:lnTo>
                    <a:lnTo>
                      <a:pt x="48" y="1"/>
                    </a:lnTo>
                    <a:lnTo>
                      <a:pt x="40" y="0"/>
                    </a:lnTo>
                    <a:lnTo>
                      <a:pt x="31" y="1"/>
                    </a:lnTo>
                    <a:lnTo>
                      <a:pt x="21" y="5"/>
                    </a:lnTo>
                    <a:lnTo>
                      <a:pt x="15" y="11"/>
                    </a:lnTo>
                    <a:lnTo>
                      <a:pt x="7" y="18"/>
                    </a:lnTo>
                    <a:lnTo>
                      <a:pt x="4" y="26"/>
                    </a:lnTo>
                    <a:lnTo>
                      <a:pt x="0" y="35"/>
                    </a:lnTo>
                    <a:lnTo>
                      <a:pt x="0" y="43"/>
                    </a:lnTo>
                    <a:lnTo>
                      <a:pt x="0" y="51"/>
                    </a:lnTo>
                    <a:lnTo>
                      <a:pt x="4" y="61"/>
                    </a:lnTo>
                    <a:lnTo>
                      <a:pt x="7" y="68"/>
                    </a:lnTo>
                    <a:lnTo>
                      <a:pt x="13" y="76"/>
                    </a:lnTo>
                    <a:lnTo>
                      <a:pt x="21" y="81"/>
                    </a:lnTo>
                    <a:lnTo>
                      <a:pt x="31" y="85"/>
                    </a:lnTo>
                    <a:lnTo>
                      <a:pt x="38" y="87"/>
                    </a:lnTo>
                    <a:lnTo>
                      <a:pt x="47" y="87"/>
                    </a:lnTo>
                    <a:lnTo>
                      <a:pt x="56" y="85"/>
                    </a:lnTo>
                    <a:lnTo>
                      <a:pt x="64" y="81"/>
                    </a:lnTo>
                    <a:lnTo>
                      <a:pt x="72" y="76"/>
                    </a:lnTo>
                    <a:lnTo>
                      <a:pt x="79" y="70"/>
                    </a:lnTo>
                    <a:lnTo>
                      <a:pt x="82" y="62"/>
                    </a:lnTo>
                    <a:lnTo>
                      <a:pt x="85" y="53"/>
                    </a:lnTo>
                    <a:lnTo>
                      <a:pt x="85" y="4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423200" y="4886280"/>
                <a:ext cx="44280" cy="41400"/>
              </a:xfrm>
              <a:custGeom>
                <a:avLst/>
                <a:gdLst/>
                <a:ahLst/>
                <a:rect l="l" t="t" r="r" b="b"/>
                <a:pathLst>
                  <a:path w="85" h="87">
                    <a:moveTo>
                      <a:pt x="85" y="44"/>
                    </a:moveTo>
                    <a:lnTo>
                      <a:pt x="85" y="35"/>
                    </a:lnTo>
                    <a:lnTo>
                      <a:pt x="82" y="26"/>
                    </a:lnTo>
                    <a:lnTo>
                      <a:pt x="79" y="18"/>
                    </a:lnTo>
                    <a:lnTo>
                      <a:pt x="73" y="11"/>
                    </a:lnTo>
                    <a:lnTo>
                      <a:pt x="65" y="5"/>
                    </a:lnTo>
                    <a:lnTo>
                      <a:pt x="56" y="1"/>
                    </a:lnTo>
                    <a:lnTo>
                      <a:pt x="48" y="1"/>
                    </a:lnTo>
                    <a:lnTo>
                      <a:pt x="40" y="0"/>
                    </a:lnTo>
                    <a:lnTo>
                      <a:pt x="31" y="1"/>
                    </a:lnTo>
                    <a:lnTo>
                      <a:pt x="21" y="5"/>
                    </a:lnTo>
                    <a:lnTo>
                      <a:pt x="15" y="11"/>
                    </a:lnTo>
                    <a:lnTo>
                      <a:pt x="7" y="18"/>
                    </a:lnTo>
                    <a:lnTo>
                      <a:pt x="4" y="26"/>
                    </a:lnTo>
                    <a:lnTo>
                      <a:pt x="0" y="35"/>
                    </a:lnTo>
                    <a:lnTo>
                      <a:pt x="0" y="43"/>
                    </a:lnTo>
                    <a:lnTo>
                      <a:pt x="0" y="51"/>
                    </a:lnTo>
                    <a:lnTo>
                      <a:pt x="4" y="61"/>
                    </a:lnTo>
                    <a:lnTo>
                      <a:pt x="7" y="68"/>
                    </a:lnTo>
                    <a:lnTo>
                      <a:pt x="13" y="76"/>
                    </a:lnTo>
                    <a:lnTo>
                      <a:pt x="21" y="81"/>
                    </a:lnTo>
                    <a:lnTo>
                      <a:pt x="31" y="85"/>
                    </a:lnTo>
                    <a:lnTo>
                      <a:pt x="38" y="87"/>
                    </a:lnTo>
                    <a:lnTo>
                      <a:pt x="47" y="87"/>
                    </a:lnTo>
                    <a:lnTo>
                      <a:pt x="56" y="85"/>
                    </a:lnTo>
                    <a:lnTo>
                      <a:pt x="64" y="81"/>
                    </a:lnTo>
                    <a:lnTo>
                      <a:pt x="72" y="76"/>
                    </a:lnTo>
                    <a:lnTo>
                      <a:pt x="79" y="70"/>
                    </a:lnTo>
                    <a:lnTo>
                      <a:pt x="82" y="62"/>
                    </a:lnTo>
                    <a:lnTo>
                      <a:pt x="85" y="53"/>
                    </a:lnTo>
                    <a:lnTo>
                      <a:pt x="85" y="44"/>
                    </a:lnTo>
                    <a:lnTo>
                      <a:pt x="85" y="44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307280" y="4721400"/>
                <a:ext cx="81000" cy="7128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307280" y="4721400"/>
                <a:ext cx="81000" cy="71280"/>
              </a:xfrm>
              <a:custGeom>
                <a:avLst/>
                <a:gdLst/>
                <a:ahLst/>
                <a:rect l="l" t="t" r="r" b="b"/>
                <a:pathLst>
                  <a:path w="154" h="153">
                    <a:moveTo>
                      <a:pt x="0" y="153"/>
                    </a:moveTo>
                    <a:lnTo>
                      <a:pt x="0" y="0"/>
                    </a:lnTo>
                    <a:lnTo>
                      <a:pt x="154" y="0"/>
                    </a:lnTo>
                    <a:lnTo>
                      <a:pt x="154" y="153"/>
                    </a:lnTo>
                    <a:lnTo>
                      <a:pt x="0" y="153"/>
                    </a:lnTo>
                    <a:lnTo>
                      <a:pt x="0" y="153"/>
                    </a:lnTo>
                  </a:path>
                </a:pathLst>
              </a:custGeom>
              <a:noFill/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307280" y="4721400"/>
                <a:ext cx="81000" cy="71280"/>
              </a:xfrm>
              <a:custGeom>
                <a:avLst/>
                <a:gdLst/>
                <a:ahLst/>
                <a:rect l="l" t="t" r="r" b="b"/>
                <a:pathLst>
                  <a:path w="154" h="153">
                    <a:moveTo>
                      <a:pt x="154" y="0"/>
                    </a:moveTo>
                    <a:lnTo>
                      <a:pt x="0" y="0"/>
                    </a:lnTo>
                    <a:lnTo>
                      <a:pt x="0" y="1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262640" y="4124160"/>
                <a:ext cx="489240" cy="540000"/>
              </a:xfrm>
              <a:prstGeom prst="rect">
                <a:avLst/>
              </a:pr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262640" y="4124160"/>
                <a:ext cx="489240" cy="540000"/>
              </a:xfrm>
              <a:custGeom>
                <a:avLst/>
                <a:gdLst/>
                <a:ahLst/>
                <a:rect l="l" t="t" r="r" b="b"/>
                <a:pathLst>
                  <a:path w="930" h="1178">
                    <a:moveTo>
                      <a:pt x="0" y="1178"/>
                    </a:moveTo>
                    <a:lnTo>
                      <a:pt x="0" y="0"/>
                    </a:lnTo>
                    <a:lnTo>
                      <a:pt x="930" y="0"/>
                    </a:lnTo>
                    <a:lnTo>
                      <a:pt x="930" y="1178"/>
                    </a:lnTo>
                    <a:lnTo>
                      <a:pt x="0" y="1178"/>
                    </a:lnTo>
                    <a:lnTo>
                      <a:pt x="0" y="1178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7262640" y="4123800"/>
                <a:ext cx="3240" cy="538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7262280" y="4599000"/>
                <a:ext cx="489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7262280" y="4483080"/>
                <a:ext cx="4892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262640" y="4145040"/>
                <a:ext cx="489240" cy="17280"/>
              </a:xfrm>
              <a:custGeom>
                <a:avLst/>
                <a:gdLst/>
                <a:ahLst/>
                <a:rect l="l" t="t" r="r" b="b"/>
                <a:pathLst>
                  <a:path w="930" h="44">
                    <a:moveTo>
                      <a:pt x="0" y="44"/>
                    </a:moveTo>
                    <a:lnTo>
                      <a:pt x="0" y="0"/>
                    </a:lnTo>
                    <a:lnTo>
                      <a:pt x="930" y="0"/>
                    </a:lnTo>
                    <a:lnTo>
                      <a:pt x="930" y="44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751880" y="4124160"/>
                <a:ext cx="1440" cy="538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7262280" y="4124160"/>
                <a:ext cx="489240" cy="1800"/>
              </a:xfrm>
              <a:prstGeom prst="line">
                <a:avLst/>
              </a:prstGeom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262640" y="4162320"/>
                <a:ext cx="489240" cy="21132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262640" y="4162320"/>
                <a:ext cx="489240" cy="211320"/>
              </a:xfrm>
              <a:custGeom>
                <a:avLst/>
                <a:gdLst/>
                <a:ahLst/>
                <a:rect l="l" t="t" r="r" b="b"/>
                <a:pathLst>
                  <a:path w="930" h="456">
                    <a:moveTo>
                      <a:pt x="0" y="456"/>
                    </a:moveTo>
                    <a:lnTo>
                      <a:pt x="0" y="0"/>
                    </a:lnTo>
                    <a:lnTo>
                      <a:pt x="930" y="0"/>
                    </a:lnTo>
                    <a:lnTo>
                      <a:pt x="930" y="456"/>
                    </a:lnTo>
                    <a:lnTo>
                      <a:pt x="0" y="456"/>
                    </a:lnTo>
                    <a:lnTo>
                      <a:pt x="0" y="4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335720" y="4394160"/>
                <a:ext cx="333360" cy="6840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335720" y="4394160"/>
                <a:ext cx="333360" cy="68400"/>
              </a:xfrm>
              <a:custGeom>
                <a:avLst/>
                <a:gdLst/>
                <a:ahLst/>
                <a:rect l="l" t="t" r="r" b="b"/>
                <a:pathLst>
                  <a:path w="634" h="152">
                    <a:moveTo>
                      <a:pt x="0" y="152"/>
                    </a:moveTo>
                    <a:lnTo>
                      <a:pt x="0" y="0"/>
                    </a:lnTo>
                    <a:lnTo>
                      <a:pt x="634" y="0"/>
                    </a:lnTo>
                    <a:lnTo>
                      <a:pt x="634" y="152"/>
                    </a:lnTo>
                    <a:lnTo>
                      <a:pt x="0" y="152"/>
                    </a:lnTo>
                    <a:lnTo>
                      <a:pt x="0" y="1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64520" y="4165560"/>
                <a:ext cx="266760" cy="525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59480" y="4268880"/>
                <a:ext cx="184320" cy="83880"/>
              </a:xfrm>
              <a:custGeom>
                <a:avLst/>
                <a:gdLst/>
                <a:ahLst/>
                <a:rect l="l" t="t" r="r" b="b"/>
                <a:pathLst>
                  <a:path w="349" h="186">
                    <a:moveTo>
                      <a:pt x="349" y="0"/>
                    </a:moveTo>
                    <a:lnTo>
                      <a:pt x="0" y="0"/>
                    </a:lnTo>
                    <a:lnTo>
                      <a:pt x="0" y="1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359480" y="4268880"/>
                <a:ext cx="184320" cy="83880"/>
              </a:xfrm>
              <a:custGeom>
                <a:avLst/>
                <a:gdLst/>
                <a:ahLst/>
                <a:rect l="l" t="t" r="r" b="b"/>
                <a:pathLst>
                  <a:path w="349" h="186">
                    <a:moveTo>
                      <a:pt x="0" y="186"/>
                    </a:moveTo>
                    <a:lnTo>
                      <a:pt x="349" y="186"/>
                    </a:lnTo>
                    <a:lnTo>
                      <a:pt x="349" y="0"/>
                    </a:lnTo>
                  </a:path>
                </a:pathLst>
              </a:custGeom>
              <a:noFill/>
              <a:ln w="0">
                <a:solidFill>
                  <a:srgbClr val="99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278840" y="4294080"/>
                <a:ext cx="436320" cy="25560"/>
              </a:xfrm>
              <a:custGeom>
                <a:avLst/>
                <a:gdLst/>
                <a:ahLst/>
                <a:rect l="l" t="t" r="r" b="b"/>
                <a:pathLst>
                  <a:path w="831" h="55">
                    <a:moveTo>
                      <a:pt x="0" y="55"/>
                    </a:moveTo>
                    <a:lnTo>
                      <a:pt x="153" y="55"/>
                    </a:lnTo>
                    <a:lnTo>
                      <a:pt x="153" y="45"/>
                    </a:lnTo>
                    <a:lnTo>
                      <a:pt x="502" y="45"/>
                    </a:lnTo>
                    <a:lnTo>
                      <a:pt x="502" y="55"/>
                    </a:lnTo>
                    <a:lnTo>
                      <a:pt x="831" y="55"/>
                    </a:lnTo>
                    <a:lnTo>
                      <a:pt x="831" y="0"/>
                    </a:lnTo>
                    <a:lnTo>
                      <a:pt x="513" y="0"/>
                    </a:lnTo>
                    <a:lnTo>
                      <a:pt x="513" y="12"/>
                    </a:lnTo>
                    <a:lnTo>
                      <a:pt x="153" y="12"/>
                    </a:lnTo>
                    <a:lnTo>
                      <a:pt x="153" y="0"/>
                    </a:lnTo>
                    <a:lnTo>
                      <a:pt x="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278840" y="4294080"/>
                <a:ext cx="436320" cy="25560"/>
              </a:xfrm>
              <a:custGeom>
                <a:avLst/>
                <a:gdLst/>
                <a:ahLst/>
                <a:rect l="l" t="t" r="r" b="b"/>
                <a:pathLst>
                  <a:path w="831" h="55">
                    <a:moveTo>
                      <a:pt x="0" y="55"/>
                    </a:moveTo>
                    <a:lnTo>
                      <a:pt x="153" y="55"/>
                    </a:lnTo>
                    <a:lnTo>
                      <a:pt x="153" y="45"/>
                    </a:lnTo>
                    <a:lnTo>
                      <a:pt x="502" y="45"/>
                    </a:lnTo>
                    <a:lnTo>
                      <a:pt x="502" y="55"/>
                    </a:lnTo>
                    <a:lnTo>
                      <a:pt x="831" y="55"/>
                    </a:lnTo>
                    <a:lnTo>
                      <a:pt x="831" y="0"/>
                    </a:lnTo>
                    <a:lnTo>
                      <a:pt x="513" y="0"/>
                    </a:lnTo>
                    <a:lnTo>
                      <a:pt x="513" y="12"/>
                    </a:lnTo>
                    <a:lnTo>
                      <a:pt x="153" y="12"/>
                    </a:lnTo>
                    <a:lnTo>
                      <a:pt x="153" y="0"/>
                    </a:lnTo>
                    <a:lnTo>
                      <a:pt x="0" y="0"/>
                    </a:ln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467480" y="4273560"/>
                <a:ext cx="23760" cy="74520"/>
              </a:xfrm>
              <a:custGeom>
                <a:avLst/>
                <a:gdLst/>
                <a:ahLst/>
                <a:rect l="l" t="t" r="r" b="b"/>
                <a:pathLst>
                  <a:path w="45" h="164">
                    <a:moveTo>
                      <a:pt x="0" y="164"/>
                    </a:moveTo>
                    <a:lnTo>
                      <a:pt x="0" y="0"/>
                    </a:lnTo>
                    <a:lnTo>
                      <a:pt x="45" y="0"/>
                    </a:lnTo>
                    <a:lnTo>
                      <a:pt x="45" y="12"/>
                    </a:lnTo>
                    <a:lnTo>
                      <a:pt x="22" y="12"/>
                    </a:lnTo>
                    <a:lnTo>
                      <a:pt x="1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467480" y="4273560"/>
                <a:ext cx="23760" cy="74520"/>
              </a:xfrm>
              <a:custGeom>
                <a:avLst/>
                <a:gdLst/>
                <a:ahLst/>
                <a:rect l="l" t="t" r="r" b="b"/>
                <a:pathLst>
                  <a:path w="45" h="164">
                    <a:moveTo>
                      <a:pt x="0" y="164"/>
                    </a:moveTo>
                    <a:lnTo>
                      <a:pt x="0" y="0"/>
                    </a:lnTo>
                    <a:lnTo>
                      <a:pt x="45" y="0"/>
                    </a:lnTo>
                    <a:lnTo>
                      <a:pt x="45" y="12"/>
                    </a:lnTo>
                    <a:lnTo>
                      <a:pt x="22" y="12"/>
                    </a:lnTo>
                    <a:lnTo>
                      <a:pt x="12" y="164"/>
                    </a:lnTo>
                    <a:lnTo>
                      <a:pt x="0" y="164"/>
                    </a:lnTo>
                    <a:lnTo>
                      <a:pt x="0" y="1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388280" y="42800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140" h="21">
                    <a:moveTo>
                      <a:pt x="0" y="21"/>
                    </a:moveTo>
                    <a:lnTo>
                      <a:pt x="0" y="0"/>
                    </a:lnTo>
                    <a:lnTo>
                      <a:pt x="14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283520" y="4218120"/>
                <a:ext cx="36360" cy="2520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283520" y="4218120"/>
                <a:ext cx="36360" cy="25200"/>
              </a:xfrm>
              <a:custGeom>
                <a:avLst/>
                <a:gdLst/>
                <a:ahLst/>
                <a:rect l="l" t="t" r="r" b="b"/>
                <a:pathLst>
                  <a:path w="66" h="55">
                    <a:moveTo>
                      <a:pt x="0" y="55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6" y="55"/>
                    </a:ln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noFill/>
              <a:ln w="0">
                <a:solidFill>
                  <a:srgbClr val="99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262640" y="4257720"/>
                <a:ext cx="489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359480" y="4408560"/>
                <a:ext cx="281160" cy="41040"/>
              </a:xfrm>
              <a:custGeom>
                <a:avLst/>
                <a:gdLst/>
                <a:ahLst/>
                <a:rect l="l" t="t" r="r" b="b"/>
                <a:pathLst>
                  <a:path w="535" h="87">
                    <a:moveTo>
                      <a:pt x="0" y="0"/>
                    </a:moveTo>
                    <a:lnTo>
                      <a:pt x="0" y="34"/>
                    </a:lnTo>
                    <a:lnTo>
                      <a:pt x="163" y="34"/>
                    </a:lnTo>
                    <a:lnTo>
                      <a:pt x="163" y="87"/>
                    </a:lnTo>
                    <a:lnTo>
                      <a:pt x="382" y="87"/>
                    </a:lnTo>
                    <a:lnTo>
                      <a:pt x="382" y="34"/>
                    </a:lnTo>
                    <a:lnTo>
                      <a:pt x="535" y="34"/>
                    </a:lnTo>
                    <a:lnTo>
                      <a:pt x="5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446960" y="4403880"/>
                <a:ext cx="112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7404120" y="443880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601040" y="4433760"/>
                <a:ext cx="39600" cy="15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53240" y="42688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20" y="17"/>
                    </a:moveTo>
                    <a:lnTo>
                      <a:pt x="20" y="9"/>
                    </a:lnTo>
                    <a:lnTo>
                      <a:pt x="17" y="3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2" y="24"/>
                    </a:lnTo>
                    <a:lnTo>
                      <a:pt x="6" y="29"/>
                    </a:lnTo>
                    <a:lnTo>
                      <a:pt x="9" y="32"/>
                    </a:lnTo>
                    <a:lnTo>
                      <a:pt x="15" y="32"/>
                    </a:lnTo>
                    <a:lnTo>
                      <a:pt x="17" y="28"/>
                    </a:lnTo>
                    <a:lnTo>
                      <a:pt x="20" y="23"/>
                    </a:lnTo>
                    <a:lnTo>
                      <a:pt x="20" y="17"/>
                    </a:lnTo>
                    <a:close/>
                  </a:path>
                </a:pathLst>
              </a:custGeom>
              <a:solidFill>
                <a:srgbClr val="eaff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653240" y="42688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20" y="17"/>
                    </a:moveTo>
                    <a:lnTo>
                      <a:pt x="20" y="9"/>
                    </a:lnTo>
                    <a:lnTo>
                      <a:pt x="17" y="3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2" y="24"/>
                    </a:lnTo>
                    <a:lnTo>
                      <a:pt x="6" y="29"/>
                    </a:lnTo>
                    <a:lnTo>
                      <a:pt x="9" y="32"/>
                    </a:lnTo>
                    <a:lnTo>
                      <a:pt x="15" y="32"/>
                    </a:lnTo>
                    <a:lnTo>
                      <a:pt x="17" y="28"/>
                    </a:lnTo>
                    <a:lnTo>
                      <a:pt x="20" y="23"/>
                    </a:lnTo>
                    <a:lnTo>
                      <a:pt x="20" y="17"/>
                    </a:lnTo>
                    <a:lnTo>
                      <a:pt x="2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2" name=""/>
          <p:cNvGrpSpPr/>
          <p:nvPr/>
        </p:nvGrpSpPr>
        <p:grpSpPr>
          <a:xfrm>
            <a:off x="6400800" y="1828800"/>
            <a:ext cx="1973160" cy="2270160"/>
            <a:chOff x="6400800" y="1828800"/>
            <a:chExt cx="1973160" cy="2270160"/>
          </a:xfrm>
        </p:grpSpPr>
        <p:sp>
          <p:nvSpPr>
            <p:cNvPr id="673" name=""/>
            <p:cNvSpPr/>
            <p:nvPr/>
          </p:nvSpPr>
          <p:spPr>
            <a:xfrm>
              <a:off x="7310520" y="2050920"/>
              <a:ext cx="357120" cy="1411560"/>
            </a:xfrm>
            <a:custGeom>
              <a:avLst/>
              <a:gdLst/>
              <a:ahLst/>
              <a:rect l="l" t="t" r="r" b="b"/>
              <a:pathLst>
                <a:path w="676" h="3083">
                  <a:moveTo>
                    <a:pt x="676" y="3065"/>
                  </a:moveTo>
                  <a:lnTo>
                    <a:pt x="616" y="2725"/>
                  </a:lnTo>
                  <a:lnTo>
                    <a:pt x="560" y="2354"/>
                  </a:lnTo>
                  <a:lnTo>
                    <a:pt x="513" y="1966"/>
                  </a:lnTo>
                  <a:lnTo>
                    <a:pt x="474" y="1575"/>
                  </a:lnTo>
                  <a:lnTo>
                    <a:pt x="447" y="1191"/>
                  </a:lnTo>
                  <a:lnTo>
                    <a:pt x="432" y="829"/>
                  </a:lnTo>
                  <a:lnTo>
                    <a:pt x="426" y="502"/>
                  </a:lnTo>
                  <a:lnTo>
                    <a:pt x="439" y="221"/>
                  </a:lnTo>
                  <a:lnTo>
                    <a:pt x="444" y="218"/>
                  </a:lnTo>
                  <a:lnTo>
                    <a:pt x="465" y="215"/>
                  </a:lnTo>
                  <a:lnTo>
                    <a:pt x="489" y="209"/>
                  </a:lnTo>
                  <a:lnTo>
                    <a:pt x="513" y="202"/>
                  </a:lnTo>
                  <a:lnTo>
                    <a:pt x="534" y="192"/>
                  </a:lnTo>
                  <a:lnTo>
                    <a:pt x="549" y="176"/>
                  </a:lnTo>
                  <a:lnTo>
                    <a:pt x="549" y="156"/>
                  </a:lnTo>
                  <a:lnTo>
                    <a:pt x="530" y="132"/>
                  </a:lnTo>
                  <a:lnTo>
                    <a:pt x="486" y="122"/>
                  </a:lnTo>
                  <a:lnTo>
                    <a:pt x="444" y="113"/>
                  </a:lnTo>
                  <a:lnTo>
                    <a:pt x="405" y="103"/>
                  </a:lnTo>
                  <a:lnTo>
                    <a:pt x="364" y="91"/>
                  </a:lnTo>
                  <a:lnTo>
                    <a:pt x="327" y="78"/>
                  </a:lnTo>
                  <a:lnTo>
                    <a:pt x="290" y="66"/>
                  </a:lnTo>
                  <a:lnTo>
                    <a:pt x="255" y="53"/>
                  </a:lnTo>
                  <a:lnTo>
                    <a:pt x="223" y="42"/>
                  </a:lnTo>
                  <a:lnTo>
                    <a:pt x="193" y="32"/>
                  </a:lnTo>
                  <a:lnTo>
                    <a:pt x="163" y="22"/>
                  </a:lnTo>
                  <a:lnTo>
                    <a:pt x="139" y="12"/>
                  </a:lnTo>
                  <a:lnTo>
                    <a:pt x="119" y="7"/>
                  </a:lnTo>
                  <a:lnTo>
                    <a:pt x="99" y="1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66" y="2"/>
                  </a:lnTo>
                  <a:lnTo>
                    <a:pt x="60" y="32"/>
                  </a:lnTo>
                  <a:lnTo>
                    <a:pt x="51" y="62"/>
                  </a:lnTo>
                  <a:lnTo>
                    <a:pt x="32" y="94"/>
                  </a:lnTo>
                  <a:lnTo>
                    <a:pt x="0" y="126"/>
                  </a:lnTo>
                  <a:lnTo>
                    <a:pt x="29" y="134"/>
                  </a:lnTo>
                  <a:lnTo>
                    <a:pt x="70" y="141"/>
                  </a:lnTo>
                  <a:lnTo>
                    <a:pt x="116" y="151"/>
                  </a:lnTo>
                  <a:lnTo>
                    <a:pt x="163" y="161"/>
                  </a:lnTo>
                  <a:lnTo>
                    <a:pt x="205" y="170"/>
                  </a:lnTo>
                  <a:lnTo>
                    <a:pt x="244" y="178"/>
                  </a:lnTo>
                  <a:lnTo>
                    <a:pt x="273" y="186"/>
                  </a:lnTo>
                  <a:lnTo>
                    <a:pt x="288" y="189"/>
                  </a:lnTo>
                  <a:lnTo>
                    <a:pt x="333" y="308"/>
                  </a:lnTo>
                  <a:lnTo>
                    <a:pt x="354" y="576"/>
                  </a:lnTo>
                  <a:lnTo>
                    <a:pt x="358" y="955"/>
                  </a:lnTo>
                  <a:lnTo>
                    <a:pt x="351" y="1400"/>
                  </a:lnTo>
                  <a:lnTo>
                    <a:pt x="347" y="1877"/>
                  </a:lnTo>
                  <a:lnTo>
                    <a:pt x="354" y="2337"/>
                  </a:lnTo>
                  <a:lnTo>
                    <a:pt x="379" y="2750"/>
                  </a:lnTo>
                  <a:lnTo>
                    <a:pt x="432" y="3067"/>
                  </a:lnTo>
                  <a:lnTo>
                    <a:pt x="441" y="3072"/>
                  </a:lnTo>
                  <a:lnTo>
                    <a:pt x="465" y="3079"/>
                  </a:lnTo>
                  <a:lnTo>
                    <a:pt x="498" y="3082"/>
                  </a:lnTo>
                  <a:lnTo>
                    <a:pt x="539" y="3083"/>
                  </a:lnTo>
                  <a:lnTo>
                    <a:pt x="579" y="3083"/>
                  </a:lnTo>
                  <a:lnTo>
                    <a:pt x="620" y="3080"/>
                  </a:lnTo>
                  <a:lnTo>
                    <a:pt x="654" y="3074"/>
                  </a:lnTo>
                  <a:lnTo>
                    <a:pt x="676" y="306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310520" y="2050920"/>
              <a:ext cx="357120" cy="1411560"/>
            </a:xfrm>
            <a:custGeom>
              <a:avLst/>
              <a:gdLst/>
              <a:ahLst/>
              <a:rect l="l" t="t" r="r" b="b"/>
              <a:pathLst>
                <a:path w="676" h="3083">
                  <a:moveTo>
                    <a:pt x="676" y="3065"/>
                  </a:moveTo>
                  <a:lnTo>
                    <a:pt x="616" y="2725"/>
                  </a:lnTo>
                  <a:lnTo>
                    <a:pt x="560" y="2354"/>
                  </a:lnTo>
                  <a:lnTo>
                    <a:pt x="513" y="1966"/>
                  </a:lnTo>
                  <a:lnTo>
                    <a:pt x="474" y="1575"/>
                  </a:lnTo>
                  <a:lnTo>
                    <a:pt x="447" y="1191"/>
                  </a:lnTo>
                  <a:lnTo>
                    <a:pt x="432" y="829"/>
                  </a:lnTo>
                  <a:lnTo>
                    <a:pt x="426" y="502"/>
                  </a:lnTo>
                  <a:lnTo>
                    <a:pt x="439" y="221"/>
                  </a:lnTo>
                  <a:lnTo>
                    <a:pt x="444" y="218"/>
                  </a:lnTo>
                  <a:lnTo>
                    <a:pt x="465" y="215"/>
                  </a:lnTo>
                  <a:lnTo>
                    <a:pt x="489" y="209"/>
                  </a:lnTo>
                  <a:lnTo>
                    <a:pt x="513" y="202"/>
                  </a:lnTo>
                  <a:lnTo>
                    <a:pt x="534" y="192"/>
                  </a:lnTo>
                  <a:lnTo>
                    <a:pt x="549" y="176"/>
                  </a:lnTo>
                  <a:lnTo>
                    <a:pt x="549" y="156"/>
                  </a:lnTo>
                  <a:lnTo>
                    <a:pt x="530" y="132"/>
                  </a:lnTo>
                  <a:lnTo>
                    <a:pt x="486" y="122"/>
                  </a:lnTo>
                  <a:lnTo>
                    <a:pt x="444" y="113"/>
                  </a:lnTo>
                  <a:lnTo>
                    <a:pt x="405" y="103"/>
                  </a:lnTo>
                  <a:lnTo>
                    <a:pt x="364" y="91"/>
                  </a:lnTo>
                  <a:lnTo>
                    <a:pt x="327" y="78"/>
                  </a:lnTo>
                  <a:lnTo>
                    <a:pt x="290" y="66"/>
                  </a:lnTo>
                  <a:lnTo>
                    <a:pt x="255" y="53"/>
                  </a:lnTo>
                  <a:lnTo>
                    <a:pt x="223" y="42"/>
                  </a:lnTo>
                  <a:lnTo>
                    <a:pt x="193" y="32"/>
                  </a:lnTo>
                  <a:lnTo>
                    <a:pt x="163" y="22"/>
                  </a:lnTo>
                  <a:lnTo>
                    <a:pt x="139" y="12"/>
                  </a:lnTo>
                  <a:lnTo>
                    <a:pt x="119" y="7"/>
                  </a:lnTo>
                  <a:lnTo>
                    <a:pt x="99" y="1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66" y="2"/>
                  </a:lnTo>
                  <a:lnTo>
                    <a:pt x="60" y="32"/>
                  </a:lnTo>
                  <a:lnTo>
                    <a:pt x="51" y="62"/>
                  </a:lnTo>
                  <a:lnTo>
                    <a:pt x="32" y="94"/>
                  </a:lnTo>
                  <a:lnTo>
                    <a:pt x="0" y="126"/>
                  </a:lnTo>
                  <a:lnTo>
                    <a:pt x="29" y="134"/>
                  </a:lnTo>
                  <a:lnTo>
                    <a:pt x="70" y="141"/>
                  </a:lnTo>
                  <a:lnTo>
                    <a:pt x="116" y="151"/>
                  </a:lnTo>
                  <a:lnTo>
                    <a:pt x="163" y="161"/>
                  </a:lnTo>
                  <a:lnTo>
                    <a:pt x="205" y="170"/>
                  </a:lnTo>
                  <a:lnTo>
                    <a:pt x="244" y="178"/>
                  </a:lnTo>
                  <a:lnTo>
                    <a:pt x="273" y="186"/>
                  </a:lnTo>
                  <a:lnTo>
                    <a:pt x="288" y="189"/>
                  </a:lnTo>
                  <a:lnTo>
                    <a:pt x="333" y="308"/>
                  </a:lnTo>
                  <a:lnTo>
                    <a:pt x="354" y="576"/>
                  </a:lnTo>
                  <a:lnTo>
                    <a:pt x="358" y="955"/>
                  </a:lnTo>
                  <a:lnTo>
                    <a:pt x="351" y="1400"/>
                  </a:lnTo>
                  <a:lnTo>
                    <a:pt x="347" y="1877"/>
                  </a:lnTo>
                  <a:lnTo>
                    <a:pt x="354" y="2337"/>
                  </a:lnTo>
                  <a:lnTo>
                    <a:pt x="379" y="2750"/>
                  </a:lnTo>
                  <a:lnTo>
                    <a:pt x="432" y="3067"/>
                  </a:lnTo>
                  <a:lnTo>
                    <a:pt x="441" y="3072"/>
                  </a:lnTo>
                  <a:lnTo>
                    <a:pt x="465" y="3079"/>
                  </a:lnTo>
                  <a:lnTo>
                    <a:pt x="498" y="3082"/>
                  </a:lnTo>
                  <a:lnTo>
                    <a:pt x="539" y="3083"/>
                  </a:lnTo>
                  <a:lnTo>
                    <a:pt x="579" y="3083"/>
                  </a:lnTo>
                  <a:lnTo>
                    <a:pt x="620" y="3080"/>
                  </a:lnTo>
                  <a:lnTo>
                    <a:pt x="654" y="3074"/>
                  </a:lnTo>
                  <a:lnTo>
                    <a:pt x="676" y="3065"/>
                  </a:lnTo>
                  <a:lnTo>
                    <a:pt x="676" y="3065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302600" y="2295360"/>
              <a:ext cx="341280" cy="1167120"/>
            </a:xfrm>
            <a:custGeom>
              <a:avLst/>
              <a:gdLst/>
              <a:ahLst/>
              <a:rect l="l" t="t" r="r" b="b"/>
              <a:pathLst>
                <a:path w="650" h="2546">
                  <a:moveTo>
                    <a:pt x="0" y="0"/>
                  </a:moveTo>
                  <a:lnTo>
                    <a:pt x="258" y="2531"/>
                  </a:lnTo>
                  <a:lnTo>
                    <a:pt x="650" y="2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302600" y="2295360"/>
              <a:ext cx="341280" cy="1167120"/>
            </a:xfrm>
            <a:custGeom>
              <a:avLst/>
              <a:gdLst/>
              <a:ahLst/>
              <a:rect l="l" t="t" r="r" b="b"/>
              <a:pathLst>
                <a:path w="650" h="2546">
                  <a:moveTo>
                    <a:pt x="0" y="0"/>
                  </a:moveTo>
                  <a:lnTo>
                    <a:pt x="258" y="2531"/>
                  </a:lnTo>
                  <a:lnTo>
                    <a:pt x="650" y="254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443720" y="2392200"/>
              <a:ext cx="316080" cy="1070280"/>
            </a:xfrm>
            <a:custGeom>
              <a:avLst/>
              <a:gdLst/>
              <a:ahLst/>
              <a:rect l="l" t="t" r="r" b="b"/>
              <a:pathLst>
                <a:path w="597" h="2336">
                  <a:moveTo>
                    <a:pt x="597" y="0"/>
                  </a:moveTo>
                  <a:lnTo>
                    <a:pt x="0" y="2329"/>
                  </a:lnTo>
                  <a:lnTo>
                    <a:pt x="200" y="2336"/>
                  </a:lnTo>
                  <a:lnTo>
                    <a:pt x="409" y="2333"/>
                  </a:lnTo>
                  <a:lnTo>
                    <a:pt x="59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443720" y="2392200"/>
              <a:ext cx="316080" cy="1070280"/>
            </a:xfrm>
            <a:custGeom>
              <a:avLst/>
              <a:gdLst/>
              <a:ahLst/>
              <a:rect l="l" t="t" r="r" b="b"/>
              <a:pathLst>
                <a:path w="597" h="2336">
                  <a:moveTo>
                    <a:pt x="597" y="0"/>
                  </a:moveTo>
                  <a:lnTo>
                    <a:pt x="0" y="2329"/>
                  </a:lnTo>
                  <a:lnTo>
                    <a:pt x="200" y="2336"/>
                  </a:lnTo>
                  <a:lnTo>
                    <a:pt x="409" y="2333"/>
                  </a:lnTo>
                  <a:lnTo>
                    <a:pt x="597" y="0"/>
                  </a:lnTo>
                  <a:lnTo>
                    <a:pt x="597" y="0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961320" y="2795760"/>
              <a:ext cx="682560" cy="661680"/>
            </a:xfrm>
            <a:custGeom>
              <a:avLst/>
              <a:gdLst/>
              <a:ahLst/>
              <a:rect l="l" t="t" r="r" b="b"/>
              <a:pathLst>
                <a:path w="1302" h="1443">
                  <a:moveTo>
                    <a:pt x="1095" y="1315"/>
                  </a:moveTo>
                  <a:lnTo>
                    <a:pt x="593" y="0"/>
                  </a:lnTo>
                  <a:lnTo>
                    <a:pt x="0" y="444"/>
                  </a:lnTo>
                  <a:lnTo>
                    <a:pt x="534" y="263"/>
                  </a:lnTo>
                  <a:lnTo>
                    <a:pt x="925" y="1443"/>
                  </a:lnTo>
                  <a:lnTo>
                    <a:pt x="1302" y="1437"/>
                  </a:lnTo>
                  <a:lnTo>
                    <a:pt x="1095" y="131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961320" y="2795760"/>
              <a:ext cx="682560" cy="661680"/>
            </a:xfrm>
            <a:custGeom>
              <a:avLst/>
              <a:gdLst/>
              <a:ahLst/>
              <a:rect l="l" t="t" r="r" b="b"/>
              <a:pathLst>
                <a:path w="1302" h="1443">
                  <a:moveTo>
                    <a:pt x="1095" y="1315"/>
                  </a:moveTo>
                  <a:lnTo>
                    <a:pt x="593" y="0"/>
                  </a:lnTo>
                  <a:lnTo>
                    <a:pt x="0" y="444"/>
                  </a:lnTo>
                  <a:lnTo>
                    <a:pt x="534" y="263"/>
                  </a:lnTo>
                  <a:lnTo>
                    <a:pt x="925" y="1443"/>
                  </a:lnTo>
                  <a:lnTo>
                    <a:pt x="1302" y="1437"/>
                  </a:lnTo>
                  <a:lnTo>
                    <a:pt x="1095" y="1315"/>
                  </a:lnTo>
                  <a:lnTo>
                    <a:pt x="1095" y="1315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531200" y="2698920"/>
              <a:ext cx="842760" cy="757080"/>
            </a:xfrm>
            <a:custGeom>
              <a:avLst/>
              <a:gdLst/>
              <a:ahLst/>
              <a:rect l="l" t="t" r="r" b="b"/>
              <a:pathLst>
                <a:path w="1607" h="1648">
                  <a:moveTo>
                    <a:pt x="70" y="1548"/>
                  </a:moveTo>
                  <a:lnTo>
                    <a:pt x="685" y="149"/>
                  </a:lnTo>
                  <a:lnTo>
                    <a:pt x="1607" y="0"/>
                  </a:lnTo>
                  <a:lnTo>
                    <a:pt x="771" y="268"/>
                  </a:lnTo>
                  <a:lnTo>
                    <a:pt x="251" y="1642"/>
                  </a:lnTo>
                  <a:lnTo>
                    <a:pt x="0" y="1648"/>
                  </a:lnTo>
                  <a:lnTo>
                    <a:pt x="70" y="154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531200" y="2698920"/>
              <a:ext cx="842760" cy="757080"/>
            </a:xfrm>
            <a:custGeom>
              <a:avLst/>
              <a:gdLst/>
              <a:ahLst/>
              <a:rect l="l" t="t" r="r" b="b"/>
              <a:pathLst>
                <a:path w="1607" h="1648">
                  <a:moveTo>
                    <a:pt x="70" y="1548"/>
                  </a:moveTo>
                  <a:lnTo>
                    <a:pt x="685" y="149"/>
                  </a:lnTo>
                  <a:lnTo>
                    <a:pt x="1607" y="0"/>
                  </a:lnTo>
                  <a:lnTo>
                    <a:pt x="771" y="268"/>
                  </a:lnTo>
                  <a:lnTo>
                    <a:pt x="251" y="1642"/>
                  </a:lnTo>
                  <a:lnTo>
                    <a:pt x="0" y="1648"/>
                  </a:lnTo>
                  <a:lnTo>
                    <a:pt x="70" y="1548"/>
                  </a:lnTo>
                  <a:lnTo>
                    <a:pt x="70" y="1548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62640" y="1932120"/>
              <a:ext cx="200160" cy="237960"/>
            </a:xfrm>
            <a:custGeom>
              <a:avLst/>
              <a:gdLst/>
              <a:ahLst/>
              <a:rect l="l" t="t" r="r" b="b"/>
              <a:pathLst>
                <a:path w="381" h="521">
                  <a:moveTo>
                    <a:pt x="0" y="182"/>
                  </a:moveTo>
                  <a:lnTo>
                    <a:pt x="0" y="372"/>
                  </a:lnTo>
                  <a:lnTo>
                    <a:pt x="274" y="521"/>
                  </a:lnTo>
                  <a:lnTo>
                    <a:pt x="371" y="430"/>
                  </a:lnTo>
                  <a:lnTo>
                    <a:pt x="332" y="268"/>
                  </a:lnTo>
                  <a:lnTo>
                    <a:pt x="381" y="125"/>
                  </a:lnTo>
                  <a:lnTo>
                    <a:pt x="286" y="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62640" y="1932120"/>
              <a:ext cx="200160" cy="237960"/>
            </a:xfrm>
            <a:custGeom>
              <a:avLst/>
              <a:gdLst/>
              <a:ahLst/>
              <a:rect l="l" t="t" r="r" b="b"/>
              <a:pathLst>
                <a:path w="381" h="521">
                  <a:moveTo>
                    <a:pt x="0" y="182"/>
                  </a:moveTo>
                  <a:lnTo>
                    <a:pt x="0" y="372"/>
                  </a:lnTo>
                  <a:lnTo>
                    <a:pt x="274" y="521"/>
                  </a:lnTo>
                  <a:lnTo>
                    <a:pt x="371" y="430"/>
                  </a:lnTo>
                  <a:lnTo>
                    <a:pt x="332" y="268"/>
                  </a:lnTo>
                  <a:lnTo>
                    <a:pt x="381" y="125"/>
                  </a:lnTo>
                  <a:lnTo>
                    <a:pt x="286" y="0"/>
                  </a:lnTo>
                  <a:lnTo>
                    <a:pt x="0" y="182"/>
                  </a:lnTo>
                  <a:lnTo>
                    <a:pt x="0" y="182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62640" y="1828800"/>
              <a:ext cx="177840" cy="165240"/>
            </a:xfrm>
            <a:custGeom>
              <a:avLst/>
              <a:gdLst/>
              <a:ahLst/>
              <a:rect l="l" t="t" r="r" b="b"/>
              <a:pathLst>
                <a:path w="340" h="358">
                  <a:moveTo>
                    <a:pt x="0" y="358"/>
                  </a:moveTo>
                  <a:lnTo>
                    <a:pt x="340" y="133"/>
                  </a:lnTo>
                  <a:lnTo>
                    <a:pt x="301" y="0"/>
                  </a:lnTo>
                  <a:lnTo>
                    <a:pt x="93" y="76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62640" y="1828800"/>
              <a:ext cx="177840" cy="165240"/>
            </a:xfrm>
            <a:custGeom>
              <a:avLst/>
              <a:gdLst/>
              <a:ahLst/>
              <a:rect l="l" t="t" r="r" b="b"/>
              <a:pathLst>
                <a:path w="340" h="358">
                  <a:moveTo>
                    <a:pt x="0" y="358"/>
                  </a:moveTo>
                  <a:lnTo>
                    <a:pt x="340" y="133"/>
                  </a:lnTo>
                  <a:lnTo>
                    <a:pt x="301" y="0"/>
                  </a:lnTo>
                  <a:lnTo>
                    <a:pt x="93" y="76"/>
                  </a:lnTo>
                  <a:lnTo>
                    <a:pt x="0" y="358"/>
                  </a:lnTo>
                  <a:lnTo>
                    <a:pt x="0" y="358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59760" y="2130480"/>
              <a:ext cx="179280" cy="156960"/>
            </a:xfrm>
            <a:custGeom>
              <a:avLst/>
              <a:gdLst/>
              <a:ahLst/>
              <a:rect l="l" t="t" r="r" b="b"/>
              <a:pathLst>
                <a:path w="344" h="339">
                  <a:moveTo>
                    <a:pt x="0" y="0"/>
                  </a:moveTo>
                  <a:lnTo>
                    <a:pt x="164" y="316"/>
                  </a:lnTo>
                  <a:lnTo>
                    <a:pt x="344" y="339"/>
                  </a:lnTo>
                  <a:lnTo>
                    <a:pt x="320" y="1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259760" y="2130480"/>
              <a:ext cx="179280" cy="156960"/>
            </a:xfrm>
            <a:custGeom>
              <a:avLst/>
              <a:gdLst/>
              <a:ahLst/>
              <a:rect l="l" t="t" r="r" b="b"/>
              <a:pathLst>
                <a:path w="344" h="339">
                  <a:moveTo>
                    <a:pt x="0" y="0"/>
                  </a:moveTo>
                  <a:lnTo>
                    <a:pt x="164" y="316"/>
                  </a:lnTo>
                  <a:lnTo>
                    <a:pt x="344" y="339"/>
                  </a:lnTo>
                  <a:lnTo>
                    <a:pt x="320" y="1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934320" y="1897200"/>
              <a:ext cx="296640" cy="344520"/>
            </a:xfrm>
            <a:custGeom>
              <a:avLst/>
              <a:gdLst/>
              <a:ahLst/>
              <a:rect l="l" t="t" r="r" b="b"/>
              <a:pathLst>
                <a:path w="569" h="747">
                  <a:moveTo>
                    <a:pt x="569" y="253"/>
                  </a:moveTo>
                  <a:lnTo>
                    <a:pt x="218" y="154"/>
                  </a:lnTo>
                  <a:lnTo>
                    <a:pt x="123" y="0"/>
                  </a:lnTo>
                  <a:lnTo>
                    <a:pt x="18" y="139"/>
                  </a:lnTo>
                  <a:lnTo>
                    <a:pt x="76" y="294"/>
                  </a:lnTo>
                  <a:lnTo>
                    <a:pt x="0" y="393"/>
                  </a:lnTo>
                  <a:lnTo>
                    <a:pt x="86" y="528"/>
                  </a:lnTo>
                  <a:lnTo>
                    <a:pt x="29" y="655"/>
                  </a:lnTo>
                  <a:lnTo>
                    <a:pt x="123" y="747"/>
                  </a:lnTo>
                  <a:lnTo>
                    <a:pt x="218" y="627"/>
                  </a:lnTo>
                  <a:lnTo>
                    <a:pt x="569" y="472"/>
                  </a:lnTo>
                  <a:lnTo>
                    <a:pt x="569" y="253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934320" y="1897200"/>
              <a:ext cx="296640" cy="344520"/>
            </a:xfrm>
            <a:custGeom>
              <a:avLst/>
              <a:gdLst/>
              <a:ahLst/>
              <a:rect l="l" t="t" r="r" b="b"/>
              <a:pathLst>
                <a:path w="569" h="747">
                  <a:moveTo>
                    <a:pt x="569" y="253"/>
                  </a:moveTo>
                  <a:lnTo>
                    <a:pt x="218" y="154"/>
                  </a:lnTo>
                  <a:lnTo>
                    <a:pt x="123" y="0"/>
                  </a:lnTo>
                  <a:lnTo>
                    <a:pt x="18" y="139"/>
                  </a:lnTo>
                  <a:lnTo>
                    <a:pt x="76" y="294"/>
                  </a:lnTo>
                  <a:lnTo>
                    <a:pt x="0" y="393"/>
                  </a:lnTo>
                  <a:lnTo>
                    <a:pt x="86" y="528"/>
                  </a:lnTo>
                  <a:lnTo>
                    <a:pt x="29" y="655"/>
                  </a:lnTo>
                  <a:lnTo>
                    <a:pt x="123" y="747"/>
                  </a:lnTo>
                  <a:lnTo>
                    <a:pt x="218" y="627"/>
                  </a:lnTo>
                  <a:lnTo>
                    <a:pt x="569" y="472"/>
                  </a:lnTo>
                  <a:lnTo>
                    <a:pt x="569" y="253"/>
                  </a:lnTo>
                  <a:lnTo>
                    <a:pt x="569" y="253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99120" y="2263680"/>
              <a:ext cx="355680" cy="1413000"/>
            </a:xfrm>
            <a:custGeom>
              <a:avLst/>
              <a:gdLst/>
              <a:ahLst/>
              <a:rect l="l" t="t" r="r" b="b"/>
              <a:pathLst>
                <a:path w="676" h="3084">
                  <a:moveTo>
                    <a:pt x="676" y="3066"/>
                  </a:moveTo>
                  <a:lnTo>
                    <a:pt x="614" y="2726"/>
                  </a:lnTo>
                  <a:lnTo>
                    <a:pt x="560" y="2355"/>
                  </a:lnTo>
                  <a:lnTo>
                    <a:pt x="512" y="1967"/>
                  </a:lnTo>
                  <a:lnTo>
                    <a:pt x="475" y="1575"/>
                  </a:lnTo>
                  <a:lnTo>
                    <a:pt x="447" y="1193"/>
                  </a:lnTo>
                  <a:lnTo>
                    <a:pt x="432" y="830"/>
                  </a:lnTo>
                  <a:lnTo>
                    <a:pt x="426" y="502"/>
                  </a:lnTo>
                  <a:lnTo>
                    <a:pt x="439" y="223"/>
                  </a:lnTo>
                  <a:lnTo>
                    <a:pt x="445" y="219"/>
                  </a:lnTo>
                  <a:lnTo>
                    <a:pt x="465" y="216"/>
                  </a:lnTo>
                  <a:lnTo>
                    <a:pt x="489" y="210"/>
                  </a:lnTo>
                  <a:lnTo>
                    <a:pt x="512" y="203"/>
                  </a:lnTo>
                  <a:lnTo>
                    <a:pt x="534" y="192"/>
                  </a:lnTo>
                  <a:lnTo>
                    <a:pt x="549" y="176"/>
                  </a:lnTo>
                  <a:lnTo>
                    <a:pt x="549" y="157"/>
                  </a:lnTo>
                  <a:lnTo>
                    <a:pt x="529" y="132"/>
                  </a:lnTo>
                  <a:lnTo>
                    <a:pt x="486" y="124"/>
                  </a:lnTo>
                  <a:lnTo>
                    <a:pt x="445" y="115"/>
                  </a:lnTo>
                  <a:lnTo>
                    <a:pt x="405" y="104"/>
                  </a:lnTo>
                  <a:lnTo>
                    <a:pt x="365" y="91"/>
                  </a:lnTo>
                  <a:lnTo>
                    <a:pt x="326" y="78"/>
                  </a:lnTo>
                  <a:lnTo>
                    <a:pt x="290" y="66"/>
                  </a:lnTo>
                  <a:lnTo>
                    <a:pt x="255" y="53"/>
                  </a:lnTo>
                  <a:lnTo>
                    <a:pt x="223" y="44"/>
                  </a:lnTo>
                  <a:lnTo>
                    <a:pt x="193" y="33"/>
                  </a:lnTo>
                  <a:lnTo>
                    <a:pt x="163" y="23"/>
                  </a:lnTo>
                  <a:lnTo>
                    <a:pt x="139" y="13"/>
                  </a:lnTo>
                  <a:lnTo>
                    <a:pt x="119" y="7"/>
                  </a:lnTo>
                  <a:lnTo>
                    <a:pt x="100" y="3"/>
                  </a:lnTo>
                  <a:lnTo>
                    <a:pt x="85" y="0"/>
                  </a:lnTo>
                  <a:lnTo>
                    <a:pt x="72" y="0"/>
                  </a:lnTo>
                  <a:lnTo>
                    <a:pt x="65" y="5"/>
                  </a:lnTo>
                  <a:lnTo>
                    <a:pt x="60" y="33"/>
                  </a:lnTo>
                  <a:lnTo>
                    <a:pt x="51" y="64"/>
                  </a:lnTo>
                  <a:lnTo>
                    <a:pt x="31" y="94"/>
                  </a:lnTo>
                  <a:lnTo>
                    <a:pt x="0" y="127"/>
                  </a:lnTo>
                  <a:lnTo>
                    <a:pt x="29" y="134"/>
                  </a:lnTo>
                  <a:lnTo>
                    <a:pt x="70" y="143"/>
                  </a:lnTo>
                  <a:lnTo>
                    <a:pt x="115" y="151"/>
                  </a:lnTo>
                  <a:lnTo>
                    <a:pt x="163" y="162"/>
                  </a:lnTo>
                  <a:lnTo>
                    <a:pt x="206" y="171"/>
                  </a:lnTo>
                  <a:lnTo>
                    <a:pt x="244" y="180"/>
                  </a:lnTo>
                  <a:lnTo>
                    <a:pt x="273" y="187"/>
                  </a:lnTo>
                  <a:lnTo>
                    <a:pt x="289" y="191"/>
                  </a:lnTo>
                  <a:lnTo>
                    <a:pt x="333" y="310"/>
                  </a:lnTo>
                  <a:lnTo>
                    <a:pt x="354" y="578"/>
                  </a:lnTo>
                  <a:lnTo>
                    <a:pt x="358" y="955"/>
                  </a:lnTo>
                  <a:lnTo>
                    <a:pt x="351" y="1402"/>
                  </a:lnTo>
                  <a:lnTo>
                    <a:pt x="347" y="1877"/>
                  </a:lnTo>
                  <a:lnTo>
                    <a:pt x="354" y="2338"/>
                  </a:lnTo>
                  <a:lnTo>
                    <a:pt x="379" y="2751"/>
                  </a:lnTo>
                  <a:lnTo>
                    <a:pt x="432" y="3069"/>
                  </a:lnTo>
                  <a:lnTo>
                    <a:pt x="441" y="3073"/>
                  </a:lnTo>
                  <a:lnTo>
                    <a:pt x="465" y="3079"/>
                  </a:lnTo>
                  <a:lnTo>
                    <a:pt x="499" y="3082"/>
                  </a:lnTo>
                  <a:lnTo>
                    <a:pt x="538" y="3084"/>
                  </a:lnTo>
                  <a:lnTo>
                    <a:pt x="580" y="3084"/>
                  </a:lnTo>
                  <a:lnTo>
                    <a:pt x="620" y="3081"/>
                  </a:lnTo>
                  <a:lnTo>
                    <a:pt x="654" y="3075"/>
                  </a:lnTo>
                  <a:lnTo>
                    <a:pt x="676" y="306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99120" y="2263680"/>
              <a:ext cx="355680" cy="1413000"/>
            </a:xfrm>
            <a:custGeom>
              <a:avLst/>
              <a:gdLst/>
              <a:ahLst/>
              <a:rect l="l" t="t" r="r" b="b"/>
              <a:pathLst>
                <a:path w="676" h="3084">
                  <a:moveTo>
                    <a:pt x="676" y="3066"/>
                  </a:moveTo>
                  <a:lnTo>
                    <a:pt x="614" y="2726"/>
                  </a:lnTo>
                  <a:lnTo>
                    <a:pt x="560" y="2355"/>
                  </a:lnTo>
                  <a:lnTo>
                    <a:pt x="512" y="1967"/>
                  </a:lnTo>
                  <a:lnTo>
                    <a:pt x="475" y="1575"/>
                  </a:lnTo>
                  <a:lnTo>
                    <a:pt x="447" y="1193"/>
                  </a:lnTo>
                  <a:lnTo>
                    <a:pt x="432" y="830"/>
                  </a:lnTo>
                  <a:lnTo>
                    <a:pt x="426" y="502"/>
                  </a:lnTo>
                  <a:lnTo>
                    <a:pt x="439" y="223"/>
                  </a:lnTo>
                  <a:lnTo>
                    <a:pt x="445" y="219"/>
                  </a:lnTo>
                  <a:lnTo>
                    <a:pt x="465" y="216"/>
                  </a:lnTo>
                  <a:lnTo>
                    <a:pt x="489" y="210"/>
                  </a:lnTo>
                  <a:lnTo>
                    <a:pt x="512" y="203"/>
                  </a:lnTo>
                  <a:lnTo>
                    <a:pt x="534" y="192"/>
                  </a:lnTo>
                  <a:lnTo>
                    <a:pt x="549" y="176"/>
                  </a:lnTo>
                  <a:lnTo>
                    <a:pt x="549" y="157"/>
                  </a:lnTo>
                  <a:lnTo>
                    <a:pt x="529" y="132"/>
                  </a:lnTo>
                  <a:lnTo>
                    <a:pt x="486" y="124"/>
                  </a:lnTo>
                  <a:lnTo>
                    <a:pt x="445" y="115"/>
                  </a:lnTo>
                  <a:lnTo>
                    <a:pt x="405" y="104"/>
                  </a:lnTo>
                  <a:lnTo>
                    <a:pt x="365" y="91"/>
                  </a:lnTo>
                  <a:lnTo>
                    <a:pt x="326" y="78"/>
                  </a:lnTo>
                  <a:lnTo>
                    <a:pt x="290" y="66"/>
                  </a:lnTo>
                  <a:lnTo>
                    <a:pt x="255" y="53"/>
                  </a:lnTo>
                  <a:lnTo>
                    <a:pt x="223" y="44"/>
                  </a:lnTo>
                  <a:lnTo>
                    <a:pt x="193" y="33"/>
                  </a:lnTo>
                  <a:lnTo>
                    <a:pt x="163" y="23"/>
                  </a:lnTo>
                  <a:lnTo>
                    <a:pt x="139" y="13"/>
                  </a:lnTo>
                  <a:lnTo>
                    <a:pt x="119" y="7"/>
                  </a:lnTo>
                  <a:lnTo>
                    <a:pt x="100" y="3"/>
                  </a:lnTo>
                  <a:lnTo>
                    <a:pt x="85" y="0"/>
                  </a:lnTo>
                  <a:lnTo>
                    <a:pt x="72" y="0"/>
                  </a:lnTo>
                  <a:lnTo>
                    <a:pt x="65" y="5"/>
                  </a:lnTo>
                  <a:lnTo>
                    <a:pt x="60" y="33"/>
                  </a:lnTo>
                  <a:lnTo>
                    <a:pt x="51" y="64"/>
                  </a:lnTo>
                  <a:lnTo>
                    <a:pt x="31" y="94"/>
                  </a:lnTo>
                  <a:lnTo>
                    <a:pt x="0" y="127"/>
                  </a:lnTo>
                  <a:lnTo>
                    <a:pt x="29" y="134"/>
                  </a:lnTo>
                  <a:lnTo>
                    <a:pt x="70" y="143"/>
                  </a:lnTo>
                  <a:lnTo>
                    <a:pt x="115" y="151"/>
                  </a:lnTo>
                  <a:lnTo>
                    <a:pt x="163" y="162"/>
                  </a:lnTo>
                  <a:lnTo>
                    <a:pt x="206" y="171"/>
                  </a:lnTo>
                  <a:lnTo>
                    <a:pt x="244" y="180"/>
                  </a:lnTo>
                  <a:lnTo>
                    <a:pt x="273" y="187"/>
                  </a:lnTo>
                  <a:lnTo>
                    <a:pt x="289" y="191"/>
                  </a:lnTo>
                  <a:lnTo>
                    <a:pt x="333" y="310"/>
                  </a:lnTo>
                  <a:lnTo>
                    <a:pt x="354" y="578"/>
                  </a:lnTo>
                  <a:lnTo>
                    <a:pt x="358" y="955"/>
                  </a:lnTo>
                  <a:lnTo>
                    <a:pt x="351" y="1402"/>
                  </a:lnTo>
                  <a:lnTo>
                    <a:pt x="347" y="1877"/>
                  </a:lnTo>
                  <a:lnTo>
                    <a:pt x="354" y="2338"/>
                  </a:lnTo>
                  <a:lnTo>
                    <a:pt x="379" y="2751"/>
                  </a:lnTo>
                  <a:lnTo>
                    <a:pt x="432" y="3069"/>
                  </a:lnTo>
                  <a:lnTo>
                    <a:pt x="441" y="3073"/>
                  </a:lnTo>
                  <a:lnTo>
                    <a:pt x="465" y="3079"/>
                  </a:lnTo>
                  <a:lnTo>
                    <a:pt x="499" y="3082"/>
                  </a:lnTo>
                  <a:lnTo>
                    <a:pt x="538" y="3084"/>
                  </a:lnTo>
                  <a:lnTo>
                    <a:pt x="580" y="3084"/>
                  </a:lnTo>
                  <a:lnTo>
                    <a:pt x="620" y="3081"/>
                  </a:lnTo>
                  <a:lnTo>
                    <a:pt x="654" y="3075"/>
                  </a:lnTo>
                  <a:lnTo>
                    <a:pt x="676" y="3066"/>
                  </a:lnTo>
                  <a:lnTo>
                    <a:pt x="676" y="3066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873840" y="2541600"/>
              <a:ext cx="460440" cy="1133640"/>
            </a:xfrm>
            <a:custGeom>
              <a:avLst/>
              <a:gdLst/>
              <a:ahLst/>
              <a:rect l="l" t="t" r="r" b="b"/>
              <a:pathLst>
                <a:path w="879" h="2476">
                  <a:moveTo>
                    <a:pt x="0" y="0"/>
                  </a:moveTo>
                  <a:lnTo>
                    <a:pt x="486" y="2463"/>
                  </a:lnTo>
                  <a:lnTo>
                    <a:pt x="879" y="24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873840" y="2541600"/>
              <a:ext cx="460440" cy="1133640"/>
            </a:xfrm>
            <a:custGeom>
              <a:avLst/>
              <a:gdLst/>
              <a:ahLst/>
              <a:rect l="l" t="t" r="r" b="b"/>
              <a:pathLst>
                <a:path w="879" h="2476">
                  <a:moveTo>
                    <a:pt x="0" y="0"/>
                  </a:moveTo>
                  <a:lnTo>
                    <a:pt x="486" y="2463"/>
                  </a:lnTo>
                  <a:lnTo>
                    <a:pt x="879" y="247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134120" y="2608200"/>
              <a:ext cx="312840" cy="1068480"/>
            </a:xfrm>
            <a:custGeom>
              <a:avLst/>
              <a:gdLst/>
              <a:ahLst/>
              <a:rect l="l" t="t" r="r" b="b"/>
              <a:pathLst>
                <a:path w="596" h="2336">
                  <a:moveTo>
                    <a:pt x="596" y="0"/>
                  </a:moveTo>
                  <a:lnTo>
                    <a:pt x="0" y="2329"/>
                  </a:lnTo>
                  <a:lnTo>
                    <a:pt x="199" y="2336"/>
                  </a:lnTo>
                  <a:lnTo>
                    <a:pt x="408" y="2332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34120" y="2608200"/>
              <a:ext cx="312840" cy="1068480"/>
            </a:xfrm>
            <a:custGeom>
              <a:avLst/>
              <a:gdLst/>
              <a:ahLst/>
              <a:rect l="l" t="t" r="r" b="b"/>
              <a:pathLst>
                <a:path w="596" h="2336">
                  <a:moveTo>
                    <a:pt x="596" y="0"/>
                  </a:moveTo>
                  <a:lnTo>
                    <a:pt x="0" y="2329"/>
                  </a:lnTo>
                  <a:lnTo>
                    <a:pt x="199" y="2336"/>
                  </a:lnTo>
                  <a:lnTo>
                    <a:pt x="408" y="2332"/>
                  </a:lnTo>
                  <a:lnTo>
                    <a:pt x="596" y="0"/>
                  </a:lnTo>
                  <a:lnTo>
                    <a:pt x="596" y="0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400800" y="2859120"/>
              <a:ext cx="933480" cy="811080"/>
            </a:xfrm>
            <a:custGeom>
              <a:avLst/>
              <a:gdLst/>
              <a:ahLst/>
              <a:rect l="l" t="t" r="r" b="b"/>
              <a:pathLst>
                <a:path w="1777" h="1771">
                  <a:moveTo>
                    <a:pt x="1571" y="1643"/>
                  </a:moveTo>
                  <a:lnTo>
                    <a:pt x="1068" y="328"/>
                  </a:lnTo>
                  <a:lnTo>
                    <a:pt x="0" y="0"/>
                  </a:lnTo>
                  <a:lnTo>
                    <a:pt x="1009" y="591"/>
                  </a:lnTo>
                  <a:lnTo>
                    <a:pt x="1402" y="1771"/>
                  </a:lnTo>
                  <a:lnTo>
                    <a:pt x="1777" y="1767"/>
                  </a:lnTo>
                  <a:lnTo>
                    <a:pt x="1571" y="164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400800" y="2859120"/>
              <a:ext cx="933480" cy="811080"/>
            </a:xfrm>
            <a:custGeom>
              <a:avLst/>
              <a:gdLst/>
              <a:ahLst/>
              <a:rect l="l" t="t" r="r" b="b"/>
              <a:pathLst>
                <a:path w="1777" h="1771">
                  <a:moveTo>
                    <a:pt x="1571" y="1643"/>
                  </a:moveTo>
                  <a:lnTo>
                    <a:pt x="1068" y="328"/>
                  </a:lnTo>
                  <a:lnTo>
                    <a:pt x="0" y="0"/>
                  </a:lnTo>
                  <a:lnTo>
                    <a:pt x="1009" y="591"/>
                  </a:lnTo>
                  <a:lnTo>
                    <a:pt x="1402" y="1771"/>
                  </a:lnTo>
                  <a:lnTo>
                    <a:pt x="1777" y="1767"/>
                  </a:lnTo>
                  <a:lnTo>
                    <a:pt x="1571" y="1643"/>
                  </a:lnTo>
                  <a:lnTo>
                    <a:pt x="1571" y="1643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18360" y="2913120"/>
              <a:ext cx="846000" cy="755640"/>
            </a:xfrm>
            <a:custGeom>
              <a:avLst/>
              <a:gdLst/>
              <a:ahLst/>
              <a:rect l="l" t="t" r="r" b="b"/>
              <a:pathLst>
                <a:path w="1606" h="1648">
                  <a:moveTo>
                    <a:pt x="69" y="1548"/>
                  </a:moveTo>
                  <a:lnTo>
                    <a:pt x="684" y="149"/>
                  </a:lnTo>
                  <a:lnTo>
                    <a:pt x="1606" y="0"/>
                  </a:lnTo>
                  <a:lnTo>
                    <a:pt x="770" y="268"/>
                  </a:lnTo>
                  <a:lnTo>
                    <a:pt x="250" y="1643"/>
                  </a:lnTo>
                  <a:lnTo>
                    <a:pt x="0" y="1648"/>
                  </a:lnTo>
                  <a:lnTo>
                    <a:pt x="69" y="154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218360" y="2913120"/>
              <a:ext cx="846000" cy="755640"/>
            </a:xfrm>
            <a:custGeom>
              <a:avLst/>
              <a:gdLst/>
              <a:ahLst/>
              <a:rect l="l" t="t" r="r" b="b"/>
              <a:pathLst>
                <a:path w="1606" h="1648">
                  <a:moveTo>
                    <a:pt x="69" y="1548"/>
                  </a:moveTo>
                  <a:lnTo>
                    <a:pt x="684" y="149"/>
                  </a:lnTo>
                  <a:lnTo>
                    <a:pt x="1606" y="0"/>
                  </a:lnTo>
                  <a:lnTo>
                    <a:pt x="770" y="268"/>
                  </a:lnTo>
                  <a:lnTo>
                    <a:pt x="250" y="1643"/>
                  </a:lnTo>
                  <a:lnTo>
                    <a:pt x="0" y="1648"/>
                  </a:lnTo>
                  <a:lnTo>
                    <a:pt x="69" y="1548"/>
                  </a:lnTo>
                  <a:lnTo>
                    <a:pt x="69" y="1548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32640" y="2454120"/>
              <a:ext cx="355680" cy="1413000"/>
            </a:xfrm>
            <a:custGeom>
              <a:avLst/>
              <a:gdLst/>
              <a:ahLst/>
              <a:rect l="l" t="t" r="r" b="b"/>
              <a:pathLst>
                <a:path w="676" h="3085">
                  <a:moveTo>
                    <a:pt x="0" y="3067"/>
                  </a:moveTo>
                  <a:lnTo>
                    <a:pt x="60" y="2727"/>
                  </a:lnTo>
                  <a:lnTo>
                    <a:pt x="116" y="2356"/>
                  </a:lnTo>
                  <a:lnTo>
                    <a:pt x="163" y="1967"/>
                  </a:lnTo>
                  <a:lnTo>
                    <a:pt x="202" y="1574"/>
                  </a:lnTo>
                  <a:lnTo>
                    <a:pt x="229" y="1191"/>
                  </a:lnTo>
                  <a:lnTo>
                    <a:pt x="244" y="831"/>
                  </a:lnTo>
                  <a:lnTo>
                    <a:pt x="249" y="503"/>
                  </a:lnTo>
                  <a:lnTo>
                    <a:pt x="237" y="222"/>
                  </a:lnTo>
                  <a:lnTo>
                    <a:pt x="231" y="219"/>
                  </a:lnTo>
                  <a:lnTo>
                    <a:pt x="211" y="216"/>
                  </a:lnTo>
                  <a:lnTo>
                    <a:pt x="187" y="209"/>
                  </a:lnTo>
                  <a:lnTo>
                    <a:pt x="163" y="202"/>
                  </a:lnTo>
                  <a:lnTo>
                    <a:pt x="142" y="192"/>
                  </a:lnTo>
                  <a:lnTo>
                    <a:pt x="127" y="176"/>
                  </a:lnTo>
                  <a:lnTo>
                    <a:pt x="127" y="157"/>
                  </a:lnTo>
                  <a:lnTo>
                    <a:pt x="146" y="132"/>
                  </a:lnTo>
                  <a:lnTo>
                    <a:pt x="189" y="123"/>
                  </a:lnTo>
                  <a:lnTo>
                    <a:pt x="231" y="114"/>
                  </a:lnTo>
                  <a:lnTo>
                    <a:pt x="271" y="104"/>
                  </a:lnTo>
                  <a:lnTo>
                    <a:pt x="312" y="91"/>
                  </a:lnTo>
                  <a:lnTo>
                    <a:pt x="349" y="79"/>
                  </a:lnTo>
                  <a:lnTo>
                    <a:pt x="386" y="66"/>
                  </a:lnTo>
                  <a:lnTo>
                    <a:pt x="421" y="54"/>
                  </a:lnTo>
                  <a:lnTo>
                    <a:pt x="455" y="44"/>
                  </a:lnTo>
                  <a:lnTo>
                    <a:pt x="483" y="32"/>
                  </a:lnTo>
                  <a:lnTo>
                    <a:pt x="513" y="23"/>
                  </a:lnTo>
                  <a:lnTo>
                    <a:pt x="536" y="13"/>
                  </a:lnTo>
                  <a:lnTo>
                    <a:pt x="557" y="7"/>
                  </a:lnTo>
                  <a:lnTo>
                    <a:pt x="577" y="3"/>
                  </a:lnTo>
                  <a:lnTo>
                    <a:pt x="591" y="0"/>
                  </a:lnTo>
                  <a:lnTo>
                    <a:pt x="604" y="0"/>
                  </a:lnTo>
                  <a:lnTo>
                    <a:pt x="610" y="4"/>
                  </a:lnTo>
                  <a:lnTo>
                    <a:pt x="616" y="32"/>
                  </a:lnTo>
                  <a:lnTo>
                    <a:pt x="625" y="64"/>
                  </a:lnTo>
                  <a:lnTo>
                    <a:pt x="644" y="95"/>
                  </a:lnTo>
                  <a:lnTo>
                    <a:pt x="676" y="126"/>
                  </a:lnTo>
                  <a:lnTo>
                    <a:pt x="646" y="134"/>
                  </a:lnTo>
                  <a:lnTo>
                    <a:pt x="606" y="142"/>
                  </a:lnTo>
                  <a:lnTo>
                    <a:pt x="560" y="151"/>
                  </a:lnTo>
                  <a:lnTo>
                    <a:pt x="515" y="162"/>
                  </a:lnTo>
                  <a:lnTo>
                    <a:pt x="471" y="172"/>
                  </a:lnTo>
                  <a:lnTo>
                    <a:pt x="432" y="180"/>
                  </a:lnTo>
                  <a:lnTo>
                    <a:pt x="403" y="188"/>
                  </a:lnTo>
                  <a:lnTo>
                    <a:pt x="388" y="191"/>
                  </a:lnTo>
                  <a:lnTo>
                    <a:pt x="342" y="310"/>
                  </a:lnTo>
                  <a:lnTo>
                    <a:pt x="322" y="577"/>
                  </a:lnTo>
                  <a:lnTo>
                    <a:pt x="318" y="955"/>
                  </a:lnTo>
                  <a:lnTo>
                    <a:pt x="324" y="1402"/>
                  </a:lnTo>
                  <a:lnTo>
                    <a:pt x="329" y="1877"/>
                  </a:lnTo>
                  <a:lnTo>
                    <a:pt x="322" y="2338"/>
                  </a:lnTo>
                  <a:lnTo>
                    <a:pt x="297" y="2751"/>
                  </a:lnTo>
                  <a:lnTo>
                    <a:pt x="244" y="3068"/>
                  </a:lnTo>
                  <a:lnTo>
                    <a:pt x="235" y="3074"/>
                  </a:lnTo>
                  <a:lnTo>
                    <a:pt x="211" y="3079"/>
                  </a:lnTo>
                  <a:lnTo>
                    <a:pt x="178" y="3083"/>
                  </a:lnTo>
                  <a:lnTo>
                    <a:pt x="137" y="3085"/>
                  </a:lnTo>
                  <a:lnTo>
                    <a:pt x="96" y="3085"/>
                  </a:lnTo>
                  <a:lnTo>
                    <a:pt x="56" y="3081"/>
                  </a:lnTo>
                  <a:lnTo>
                    <a:pt x="21" y="3075"/>
                  </a:lnTo>
                  <a:lnTo>
                    <a:pt x="0" y="306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532640" y="2454120"/>
              <a:ext cx="355680" cy="1413000"/>
            </a:xfrm>
            <a:custGeom>
              <a:avLst/>
              <a:gdLst/>
              <a:ahLst/>
              <a:rect l="l" t="t" r="r" b="b"/>
              <a:pathLst>
                <a:path w="676" h="3085">
                  <a:moveTo>
                    <a:pt x="0" y="3067"/>
                  </a:moveTo>
                  <a:lnTo>
                    <a:pt x="60" y="2727"/>
                  </a:lnTo>
                  <a:lnTo>
                    <a:pt x="116" y="2356"/>
                  </a:lnTo>
                  <a:lnTo>
                    <a:pt x="163" y="1967"/>
                  </a:lnTo>
                  <a:lnTo>
                    <a:pt x="202" y="1574"/>
                  </a:lnTo>
                  <a:lnTo>
                    <a:pt x="229" y="1191"/>
                  </a:lnTo>
                  <a:lnTo>
                    <a:pt x="244" y="831"/>
                  </a:lnTo>
                  <a:lnTo>
                    <a:pt x="249" y="503"/>
                  </a:lnTo>
                  <a:lnTo>
                    <a:pt x="237" y="222"/>
                  </a:lnTo>
                  <a:lnTo>
                    <a:pt x="231" y="219"/>
                  </a:lnTo>
                  <a:lnTo>
                    <a:pt x="211" y="216"/>
                  </a:lnTo>
                  <a:lnTo>
                    <a:pt x="187" y="209"/>
                  </a:lnTo>
                  <a:lnTo>
                    <a:pt x="163" y="202"/>
                  </a:lnTo>
                  <a:lnTo>
                    <a:pt x="142" y="192"/>
                  </a:lnTo>
                  <a:lnTo>
                    <a:pt x="127" y="176"/>
                  </a:lnTo>
                  <a:lnTo>
                    <a:pt x="127" y="157"/>
                  </a:lnTo>
                  <a:lnTo>
                    <a:pt x="146" y="132"/>
                  </a:lnTo>
                  <a:lnTo>
                    <a:pt x="189" y="123"/>
                  </a:lnTo>
                  <a:lnTo>
                    <a:pt x="231" y="114"/>
                  </a:lnTo>
                  <a:lnTo>
                    <a:pt x="271" y="104"/>
                  </a:lnTo>
                  <a:lnTo>
                    <a:pt x="312" y="91"/>
                  </a:lnTo>
                  <a:lnTo>
                    <a:pt x="349" y="79"/>
                  </a:lnTo>
                  <a:lnTo>
                    <a:pt x="386" y="66"/>
                  </a:lnTo>
                  <a:lnTo>
                    <a:pt x="421" y="54"/>
                  </a:lnTo>
                  <a:lnTo>
                    <a:pt x="455" y="44"/>
                  </a:lnTo>
                  <a:lnTo>
                    <a:pt x="483" y="32"/>
                  </a:lnTo>
                  <a:lnTo>
                    <a:pt x="513" y="23"/>
                  </a:lnTo>
                  <a:lnTo>
                    <a:pt x="536" y="13"/>
                  </a:lnTo>
                  <a:lnTo>
                    <a:pt x="557" y="7"/>
                  </a:lnTo>
                  <a:lnTo>
                    <a:pt x="577" y="3"/>
                  </a:lnTo>
                  <a:lnTo>
                    <a:pt x="591" y="0"/>
                  </a:lnTo>
                  <a:lnTo>
                    <a:pt x="604" y="0"/>
                  </a:lnTo>
                  <a:lnTo>
                    <a:pt x="610" y="4"/>
                  </a:lnTo>
                  <a:lnTo>
                    <a:pt x="616" y="32"/>
                  </a:lnTo>
                  <a:lnTo>
                    <a:pt x="625" y="64"/>
                  </a:lnTo>
                  <a:lnTo>
                    <a:pt x="644" y="95"/>
                  </a:lnTo>
                  <a:lnTo>
                    <a:pt x="676" y="126"/>
                  </a:lnTo>
                  <a:lnTo>
                    <a:pt x="646" y="134"/>
                  </a:lnTo>
                  <a:lnTo>
                    <a:pt x="606" y="142"/>
                  </a:lnTo>
                  <a:lnTo>
                    <a:pt x="560" y="151"/>
                  </a:lnTo>
                  <a:lnTo>
                    <a:pt x="515" y="162"/>
                  </a:lnTo>
                  <a:lnTo>
                    <a:pt x="471" y="172"/>
                  </a:lnTo>
                  <a:lnTo>
                    <a:pt x="432" y="180"/>
                  </a:lnTo>
                  <a:lnTo>
                    <a:pt x="403" y="188"/>
                  </a:lnTo>
                  <a:lnTo>
                    <a:pt x="388" y="191"/>
                  </a:lnTo>
                  <a:lnTo>
                    <a:pt x="342" y="310"/>
                  </a:lnTo>
                  <a:lnTo>
                    <a:pt x="322" y="577"/>
                  </a:lnTo>
                  <a:lnTo>
                    <a:pt x="318" y="955"/>
                  </a:lnTo>
                  <a:lnTo>
                    <a:pt x="324" y="1402"/>
                  </a:lnTo>
                  <a:lnTo>
                    <a:pt x="329" y="1877"/>
                  </a:lnTo>
                  <a:lnTo>
                    <a:pt x="322" y="2338"/>
                  </a:lnTo>
                  <a:lnTo>
                    <a:pt x="297" y="2751"/>
                  </a:lnTo>
                  <a:lnTo>
                    <a:pt x="244" y="3068"/>
                  </a:lnTo>
                  <a:lnTo>
                    <a:pt x="235" y="3074"/>
                  </a:lnTo>
                  <a:lnTo>
                    <a:pt x="211" y="3079"/>
                  </a:lnTo>
                  <a:lnTo>
                    <a:pt x="178" y="3083"/>
                  </a:lnTo>
                  <a:lnTo>
                    <a:pt x="137" y="3085"/>
                  </a:lnTo>
                  <a:lnTo>
                    <a:pt x="96" y="3085"/>
                  </a:lnTo>
                  <a:lnTo>
                    <a:pt x="56" y="3081"/>
                  </a:lnTo>
                  <a:lnTo>
                    <a:pt x="21" y="3075"/>
                  </a:lnTo>
                  <a:lnTo>
                    <a:pt x="0" y="3067"/>
                  </a:lnTo>
                  <a:lnTo>
                    <a:pt x="0" y="3067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554960" y="2701800"/>
              <a:ext cx="341280" cy="1165320"/>
            </a:xfrm>
            <a:custGeom>
              <a:avLst/>
              <a:gdLst/>
              <a:ahLst/>
              <a:rect l="l" t="t" r="r" b="b"/>
              <a:pathLst>
                <a:path w="650" h="2546">
                  <a:moveTo>
                    <a:pt x="650" y="0"/>
                  </a:moveTo>
                  <a:lnTo>
                    <a:pt x="392" y="2531"/>
                  </a:lnTo>
                  <a:lnTo>
                    <a:pt x="0" y="2546"/>
                  </a:lnTo>
                  <a:lnTo>
                    <a:pt x="65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554960" y="2701800"/>
              <a:ext cx="341280" cy="1165320"/>
            </a:xfrm>
            <a:custGeom>
              <a:avLst/>
              <a:gdLst/>
              <a:ahLst/>
              <a:rect l="l" t="t" r="r" b="b"/>
              <a:pathLst>
                <a:path w="650" h="2546">
                  <a:moveTo>
                    <a:pt x="650" y="0"/>
                  </a:moveTo>
                  <a:lnTo>
                    <a:pt x="392" y="2531"/>
                  </a:lnTo>
                  <a:lnTo>
                    <a:pt x="0" y="2546"/>
                  </a:lnTo>
                  <a:lnTo>
                    <a:pt x="650" y="0"/>
                  </a:lnTo>
                  <a:lnTo>
                    <a:pt x="650" y="0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40480" y="2797200"/>
              <a:ext cx="312840" cy="1069920"/>
            </a:xfrm>
            <a:custGeom>
              <a:avLst/>
              <a:gdLst/>
              <a:ahLst/>
              <a:rect l="l" t="t" r="r" b="b"/>
              <a:pathLst>
                <a:path w="595" h="2336">
                  <a:moveTo>
                    <a:pt x="0" y="0"/>
                  </a:moveTo>
                  <a:lnTo>
                    <a:pt x="595" y="2329"/>
                  </a:lnTo>
                  <a:lnTo>
                    <a:pt x="397" y="2336"/>
                  </a:lnTo>
                  <a:lnTo>
                    <a:pt x="187" y="23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440480" y="2797200"/>
              <a:ext cx="312840" cy="1069920"/>
            </a:xfrm>
            <a:custGeom>
              <a:avLst/>
              <a:gdLst/>
              <a:ahLst/>
              <a:rect l="l" t="t" r="r" b="b"/>
              <a:pathLst>
                <a:path w="595" h="2336">
                  <a:moveTo>
                    <a:pt x="0" y="0"/>
                  </a:moveTo>
                  <a:lnTo>
                    <a:pt x="595" y="2329"/>
                  </a:lnTo>
                  <a:lnTo>
                    <a:pt x="397" y="2336"/>
                  </a:lnTo>
                  <a:lnTo>
                    <a:pt x="187" y="233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554960" y="3200400"/>
              <a:ext cx="682560" cy="662040"/>
            </a:xfrm>
            <a:custGeom>
              <a:avLst/>
              <a:gdLst/>
              <a:ahLst/>
              <a:rect l="l" t="t" r="r" b="b"/>
              <a:pathLst>
                <a:path w="1302" h="1443">
                  <a:moveTo>
                    <a:pt x="206" y="1316"/>
                  </a:moveTo>
                  <a:lnTo>
                    <a:pt x="709" y="0"/>
                  </a:lnTo>
                  <a:lnTo>
                    <a:pt x="1302" y="444"/>
                  </a:lnTo>
                  <a:lnTo>
                    <a:pt x="767" y="263"/>
                  </a:lnTo>
                  <a:lnTo>
                    <a:pt x="376" y="1443"/>
                  </a:lnTo>
                  <a:lnTo>
                    <a:pt x="0" y="1439"/>
                  </a:lnTo>
                  <a:lnTo>
                    <a:pt x="206" y="13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554960" y="3200400"/>
              <a:ext cx="682560" cy="662040"/>
            </a:xfrm>
            <a:custGeom>
              <a:avLst/>
              <a:gdLst/>
              <a:ahLst/>
              <a:rect l="l" t="t" r="r" b="b"/>
              <a:pathLst>
                <a:path w="1302" h="1443">
                  <a:moveTo>
                    <a:pt x="206" y="1316"/>
                  </a:moveTo>
                  <a:lnTo>
                    <a:pt x="709" y="0"/>
                  </a:lnTo>
                  <a:lnTo>
                    <a:pt x="1302" y="444"/>
                  </a:lnTo>
                  <a:lnTo>
                    <a:pt x="767" y="263"/>
                  </a:lnTo>
                  <a:lnTo>
                    <a:pt x="376" y="1443"/>
                  </a:lnTo>
                  <a:lnTo>
                    <a:pt x="0" y="1439"/>
                  </a:lnTo>
                  <a:lnTo>
                    <a:pt x="206" y="1316"/>
                  </a:lnTo>
                  <a:lnTo>
                    <a:pt x="206" y="1316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823080" y="3105000"/>
              <a:ext cx="846000" cy="755640"/>
            </a:xfrm>
            <a:custGeom>
              <a:avLst/>
              <a:gdLst/>
              <a:ahLst/>
              <a:rect l="l" t="t" r="r" b="b"/>
              <a:pathLst>
                <a:path w="1608" h="1649">
                  <a:moveTo>
                    <a:pt x="1537" y="1548"/>
                  </a:moveTo>
                  <a:lnTo>
                    <a:pt x="922" y="149"/>
                  </a:lnTo>
                  <a:lnTo>
                    <a:pt x="0" y="0"/>
                  </a:lnTo>
                  <a:lnTo>
                    <a:pt x="836" y="267"/>
                  </a:lnTo>
                  <a:lnTo>
                    <a:pt x="1357" y="1642"/>
                  </a:lnTo>
                  <a:lnTo>
                    <a:pt x="1608" y="1649"/>
                  </a:lnTo>
                  <a:lnTo>
                    <a:pt x="1537" y="154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823080" y="3105000"/>
              <a:ext cx="846000" cy="755640"/>
            </a:xfrm>
            <a:custGeom>
              <a:avLst/>
              <a:gdLst/>
              <a:ahLst/>
              <a:rect l="l" t="t" r="r" b="b"/>
              <a:pathLst>
                <a:path w="1608" h="1649">
                  <a:moveTo>
                    <a:pt x="1537" y="1548"/>
                  </a:moveTo>
                  <a:lnTo>
                    <a:pt x="922" y="149"/>
                  </a:lnTo>
                  <a:lnTo>
                    <a:pt x="0" y="0"/>
                  </a:lnTo>
                  <a:lnTo>
                    <a:pt x="836" y="267"/>
                  </a:lnTo>
                  <a:lnTo>
                    <a:pt x="1357" y="1642"/>
                  </a:lnTo>
                  <a:lnTo>
                    <a:pt x="1608" y="1649"/>
                  </a:lnTo>
                  <a:lnTo>
                    <a:pt x="1537" y="1548"/>
                  </a:lnTo>
                  <a:lnTo>
                    <a:pt x="1537" y="1548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950160" y="2147760"/>
              <a:ext cx="201600" cy="238320"/>
            </a:xfrm>
            <a:custGeom>
              <a:avLst/>
              <a:gdLst/>
              <a:ahLst/>
              <a:rect l="l" t="t" r="r" b="b"/>
              <a:pathLst>
                <a:path w="382" h="521">
                  <a:moveTo>
                    <a:pt x="0" y="183"/>
                  </a:moveTo>
                  <a:lnTo>
                    <a:pt x="0" y="373"/>
                  </a:lnTo>
                  <a:lnTo>
                    <a:pt x="274" y="521"/>
                  </a:lnTo>
                  <a:lnTo>
                    <a:pt x="371" y="430"/>
                  </a:lnTo>
                  <a:lnTo>
                    <a:pt x="332" y="267"/>
                  </a:lnTo>
                  <a:lnTo>
                    <a:pt x="382" y="127"/>
                  </a:lnTo>
                  <a:lnTo>
                    <a:pt x="286" y="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950160" y="2147760"/>
              <a:ext cx="201600" cy="238320"/>
            </a:xfrm>
            <a:custGeom>
              <a:avLst/>
              <a:gdLst/>
              <a:ahLst/>
              <a:rect l="l" t="t" r="r" b="b"/>
              <a:pathLst>
                <a:path w="382" h="521">
                  <a:moveTo>
                    <a:pt x="0" y="183"/>
                  </a:moveTo>
                  <a:lnTo>
                    <a:pt x="0" y="373"/>
                  </a:lnTo>
                  <a:lnTo>
                    <a:pt x="274" y="521"/>
                  </a:lnTo>
                  <a:lnTo>
                    <a:pt x="371" y="430"/>
                  </a:lnTo>
                  <a:lnTo>
                    <a:pt x="332" y="267"/>
                  </a:lnTo>
                  <a:lnTo>
                    <a:pt x="382" y="127"/>
                  </a:lnTo>
                  <a:lnTo>
                    <a:pt x="286" y="0"/>
                  </a:lnTo>
                  <a:lnTo>
                    <a:pt x="0" y="183"/>
                  </a:lnTo>
                  <a:lnTo>
                    <a:pt x="0" y="183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953400" y="2041560"/>
              <a:ext cx="177480" cy="165240"/>
            </a:xfrm>
            <a:custGeom>
              <a:avLst/>
              <a:gdLst/>
              <a:ahLst/>
              <a:rect l="l" t="t" r="r" b="b"/>
              <a:pathLst>
                <a:path w="340" h="358">
                  <a:moveTo>
                    <a:pt x="0" y="358"/>
                  </a:moveTo>
                  <a:lnTo>
                    <a:pt x="340" y="134"/>
                  </a:lnTo>
                  <a:lnTo>
                    <a:pt x="301" y="0"/>
                  </a:lnTo>
                  <a:lnTo>
                    <a:pt x="93" y="76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53400" y="2041560"/>
              <a:ext cx="177480" cy="165240"/>
            </a:xfrm>
            <a:custGeom>
              <a:avLst/>
              <a:gdLst/>
              <a:ahLst/>
              <a:rect l="l" t="t" r="r" b="b"/>
              <a:pathLst>
                <a:path w="340" h="358">
                  <a:moveTo>
                    <a:pt x="0" y="358"/>
                  </a:moveTo>
                  <a:lnTo>
                    <a:pt x="340" y="134"/>
                  </a:lnTo>
                  <a:lnTo>
                    <a:pt x="301" y="0"/>
                  </a:lnTo>
                  <a:lnTo>
                    <a:pt x="93" y="76"/>
                  </a:lnTo>
                  <a:lnTo>
                    <a:pt x="0" y="358"/>
                  </a:lnTo>
                  <a:lnTo>
                    <a:pt x="0" y="358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946920" y="2346480"/>
              <a:ext cx="181080" cy="155520"/>
            </a:xfrm>
            <a:custGeom>
              <a:avLst/>
              <a:gdLst/>
              <a:ahLst/>
              <a:rect l="l" t="t" r="r" b="b"/>
              <a:pathLst>
                <a:path w="344" h="340">
                  <a:moveTo>
                    <a:pt x="0" y="0"/>
                  </a:moveTo>
                  <a:lnTo>
                    <a:pt x="164" y="318"/>
                  </a:lnTo>
                  <a:lnTo>
                    <a:pt x="344" y="340"/>
                  </a:lnTo>
                  <a:lnTo>
                    <a:pt x="32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946920" y="2346480"/>
              <a:ext cx="181080" cy="155520"/>
            </a:xfrm>
            <a:custGeom>
              <a:avLst/>
              <a:gdLst/>
              <a:ahLst/>
              <a:rect l="l" t="t" r="r" b="b"/>
              <a:pathLst>
                <a:path w="344" h="340">
                  <a:moveTo>
                    <a:pt x="0" y="0"/>
                  </a:moveTo>
                  <a:lnTo>
                    <a:pt x="164" y="318"/>
                  </a:lnTo>
                  <a:lnTo>
                    <a:pt x="344" y="340"/>
                  </a:lnTo>
                  <a:lnTo>
                    <a:pt x="320" y="16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21480" y="2112840"/>
              <a:ext cx="299880" cy="343080"/>
            </a:xfrm>
            <a:custGeom>
              <a:avLst/>
              <a:gdLst/>
              <a:ahLst/>
              <a:rect l="l" t="t" r="r" b="b"/>
              <a:pathLst>
                <a:path w="569" h="749">
                  <a:moveTo>
                    <a:pt x="569" y="255"/>
                  </a:moveTo>
                  <a:lnTo>
                    <a:pt x="218" y="156"/>
                  </a:lnTo>
                  <a:lnTo>
                    <a:pt x="125" y="0"/>
                  </a:lnTo>
                  <a:lnTo>
                    <a:pt x="19" y="141"/>
                  </a:lnTo>
                  <a:lnTo>
                    <a:pt x="76" y="296"/>
                  </a:lnTo>
                  <a:lnTo>
                    <a:pt x="0" y="395"/>
                  </a:lnTo>
                  <a:lnTo>
                    <a:pt x="86" y="530"/>
                  </a:lnTo>
                  <a:lnTo>
                    <a:pt x="29" y="656"/>
                  </a:lnTo>
                  <a:lnTo>
                    <a:pt x="125" y="749"/>
                  </a:lnTo>
                  <a:lnTo>
                    <a:pt x="218" y="627"/>
                  </a:lnTo>
                  <a:lnTo>
                    <a:pt x="569" y="473"/>
                  </a:lnTo>
                  <a:lnTo>
                    <a:pt x="569" y="255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21480" y="2112840"/>
              <a:ext cx="299880" cy="343080"/>
            </a:xfrm>
            <a:custGeom>
              <a:avLst/>
              <a:gdLst/>
              <a:ahLst/>
              <a:rect l="l" t="t" r="r" b="b"/>
              <a:pathLst>
                <a:path w="569" h="749">
                  <a:moveTo>
                    <a:pt x="569" y="255"/>
                  </a:moveTo>
                  <a:lnTo>
                    <a:pt x="218" y="156"/>
                  </a:lnTo>
                  <a:lnTo>
                    <a:pt x="125" y="0"/>
                  </a:lnTo>
                  <a:lnTo>
                    <a:pt x="19" y="141"/>
                  </a:lnTo>
                  <a:lnTo>
                    <a:pt x="76" y="296"/>
                  </a:lnTo>
                  <a:lnTo>
                    <a:pt x="0" y="395"/>
                  </a:lnTo>
                  <a:lnTo>
                    <a:pt x="86" y="530"/>
                  </a:lnTo>
                  <a:lnTo>
                    <a:pt x="29" y="656"/>
                  </a:lnTo>
                  <a:lnTo>
                    <a:pt x="125" y="749"/>
                  </a:lnTo>
                  <a:lnTo>
                    <a:pt x="218" y="627"/>
                  </a:lnTo>
                  <a:lnTo>
                    <a:pt x="569" y="473"/>
                  </a:lnTo>
                  <a:lnTo>
                    <a:pt x="569" y="255"/>
                  </a:lnTo>
                  <a:lnTo>
                    <a:pt x="569" y="255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736040" y="2336760"/>
              <a:ext cx="201600" cy="238320"/>
            </a:xfrm>
            <a:custGeom>
              <a:avLst/>
              <a:gdLst/>
              <a:ahLst/>
              <a:rect l="l" t="t" r="r" b="b"/>
              <a:pathLst>
                <a:path w="381" h="521">
                  <a:moveTo>
                    <a:pt x="381" y="183"/>
                  </a:moveTo>
                  <a:lnTo>
                    <a:pt x="381" y="372"/>
                  </a:lnTo>
                  <a:lnTo>
                    <a:pt x="106" y="521"/>
                  </a:lnTo>
                  <a:lnTo>
                    <a:pt x="10" y="430"/>
                  </a:lnTo>
                  <a:lnTo>
                    <a:pt x="48" y="268"/>
                  </a:lnTo>
                  <a:lnTo>
                    <a:pt x="0" y="125"/>
                  </a:lnTo>
                  <a:lnTo>
                    <a:pt x="95" y="0"/>
                  </a:lnTo>
                  <a:lnTo>
                    <a:pt x="381" y="183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736040" y="2336760"/>
              <a:ext cx="201600" cy="238320"/>
            </a:xfrm>
            <a:custGeom>
              <a:avLst/>
              <a:gdLst/>
              <a:ahLst/>
              <a:rect l="l" t="t" r="r" b="b"/>
              <a:pathLst>
                <a:path w="381" h="521">
                  <a:moveTo>
                    <a:pt x="381" y="183"/>
                  </a:moveTo>
                  <a:lnTo>
                    <a:pt x="381" y="372"/>
                  </a:lnTo>
                  <a:lnTo>
                    <a:pt x="106" y="521"/>
                  </a:lnTo>
                  <a:lnTo>
                    <a:pt x="10" y="430"/>
                  </a:lnTo>
                  <a:lnTo>
                    <a:pt x="48" y="268"/>
                  </a:lnTo>
                  <a:lnTo>
                    <a:pt x="0" y="125"/>
                  </a:lnTo>
                  <a:lnTo>
                    <a:pt x="95" y="0"/>
                  </a:lnTo>
                  <a:lnTo>
                    <a:pt x="381" y="183"/>
                  </a:lnTo>
                  <a:lnTo>
                    <a:pt x="381" y="183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759800" y="2233440"/>
              <a:ext cx="177840" cy="165240"/>
            </a:xfrm>
            <a:custGeom>
              <a:avLst/>
              <a:gdLst/>
              <a:ahLst/>
              <a:rect l="l" t="t" r="r" b="b"/>
              <a:pathLst>
                <a:path w="340" h="360">
                  <a:moveTo>
                    <a:pt x="340" y="360"/>
                  </a:moveTo>
                  <a:lnTo>
                    <a:pt x="0" y="133"/>
                  </a:lnTo>
                  <a:lnTo>
                    <a:pt x="38" y="0"/>
                  </a:lnTo>
                  <a:lnTo>
                    <a:pt x="247" y="76"/>
                  </a:lnTo>
                  <a:lnTo>
                    <a:pt x="340" y="36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759800" y="2233440"/>
              <a:ext cx="177840" cy="165240"/>
            </a:xfrm>
            <a:custGeom>
              <a:avLst/>
              <a:gdLst/>
              <a:ahLst/>
              <a:rect l="l" t="t" r="r" b="b"/>
              <a:pathLst>
                <a:path w="340" h="360">
                  <a:moveTo>
                    <a:pt x="340" y="360"/>
                  </a:moveTo>
                  <a:lnTo>
                    <a:pt x="0" y="133"/>
                  </a:lnTo>
                  <a:lnTo>
                    <a:pt x="38" y="0"/>
                  </a:lnTo>
                  <a:lnTo>
                    <a:pt x="247" y="76"/>
                  </a:lnTo>
                  <a:lnTo>
                    <a:pt x="340" y="360"/>
                  </a:lnTo>
                  <a:lnTo>
                    <a:pt x="340" y="360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759800" y="2536920"/>
              <a:ext cx="180720" cy="155520"/>
            </a:xfrm>
            <a:custGeom>
              <a:avLst/>
              <a:gdLst/>
              <a:ahLst/>
              <a:rect l="l" t="t" r="r" b="b"/>
              <a:pathLst>
                <a:path w="343" h="340">
                  <a:moveTo>
                    <a:pt x="343" y="0"/>
                  </a:moveTo>
                  <a:lnTo>
                    <a:pt x="180" y="316"/>
                  </a:lnTo>
                  <a:lnTo>
                    <a:pt x="0" y="340"/>
                  </a:lnTo>
                  <a:lnTo>
                    <a:pt x="24" y="164"/>
                  </a:lnTo>
                  <a:lnTo>
                    <a:pt x="343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759800" y="2536920"/>
              <a:ext cx="180720" cy="155520"/>
            </a:xfrm>
            <a:custGeom>
              <a:avLst/>
              <a:gdLst/>
              <a:ahLst/>
              <a:rect l="l" t="t" r="r" b="b"/>
              <a:pathLst>
                <a:path w="343" h="340">
                  <a:moveTo>
                    <a:pt x="343" y="0"/>
                  </a:moveTo>
                  <a:lnTo>
                    <a:pt x="180" y="316"/>
                  </a:lnTo>
                  <a:lnTo>
                    <a:pt x="0" y="340"/>
                  </a:lnTo>
                  <a:lnTo>
                    <a:pt x="24" y="164"/>
                  </a:lnTo>
                  <a:lnTo>
                    <a:pt x="343" y="0"/>
                  </a:lnTo>
                  <a:lnTo>
                    <a:pt x="343" y="0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66080" y="2305080"/>
              <a:ext cx="299880" cy="341280"/>
            </a:xfrm>
            <a:custGeom>
              <a:avLst/>
              <a:gdLst/>
              <a:ahLst/>
              <a:rect l="l" t="t" r="r" b="b"/>
              <a:pathLst>
                <a:path w="569" h="748">
                  <a:moveTo>
                    <a:pt x="0" y="254"/>
                  </a:moveTo>
                  <a:lnTo>
                    <a:pt x="351" y="155"/>
                  </a:lnTo>
                  <a:lnTo>
                    <a:pt x="444" y="0"/>
                  </a:lnTo>
                  <a:lnTo>
                    <a:pt x="551" y="140"/>
                  </a:lnTo>
                  <a:lnTo>
                    <a:pt x="493" y="293"/>
                  </a:lnTo>
                  <a:lnTo>
                    <a:pt x="569" y="394"/>
                  </a:lnTo>
                  <a:lnTo>
                    <a:pt x="483" y="529"/>
                  </a:lnTo>
                  <a:lnTo>
                    <a:pt x="540" y="655"/>
                  </a:lnTo>
                  <a:lnTo>
                    <a:pt x="444" y="748"/>
                  </a:lnTo>
                  <a:lnTo>
                    <a:pt x="351" y="627"/>
                  </a:lnTo>
                  <a:lnTo>
                    <a:pt x="0" y="471"/>
                  </a:lnTo>
                  <a:lnTo>
                    <a:pt x="0" y="254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966080" y="2305080"/>
              <a:ext cx="299880" cy="341280"/>
            </a:xfrm>
            <a:custGeom>
              <a:avLst/>
              <a:gdLst/>
              <a:ahLst/>
              <a:rect l="l" t="t" r="r" b="b"/>
              <a:pathLst>
                <a:path w="569" h="748">
                  <a:moveTo>
                    <a:pt x="0" y="254"/>
                  </a:moveTo>
                  <a:lnTo>
                    <a:pt x="351" y="155"/>
                  </a:lnTo>
                  <a:lnTo>
                    <a:pt x="444" y="0"/>
                  </a:lnTo>
                  <a:lnTo>
                    <a:pt x="551" y="140"/>
                  </a:lnTo>
                  <a:lnTo>
                    <a:pt x="493" y="293"/>
                  </a:lnTo>
                  <a:lnTo>
                    <a:pt x="569" y="394"/>
                  </a:lnTo>
                  <a:lnTo>
                    <a:pt x="483" y="529"/>
                  </a:lnTo>
                  <a:lnTo>
                    <a:pt x="540" y="655"/>
                  </a:lnTo>
                  <a:lnTo>
                    <a:pt x="444" y="748"/>
                  </a:lnTo>
                  <a:lnTo>
                    <a:pt x="351" y="627"/>
                  </a:lnTo>
                  <a:lnTo>
                    <a:pt x="0" y="471"/>
                  </a:lnTo>
                  <a:lnTo>
                    <a:pt x="0" y="254"/>
                  </a:lnTo>
                  <a:lnTo>
                    <a:pt x="0" y="254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89840" y="3616200"/>
              <a:ext cx="745920" cy="57240"/>
            </a:xfrm>
            <a:custGeom>
              <a:avLst/>
              <a:gdLst/>
              <a:ahLst/>
              <a:rect l="l" t="t" r="r" b="b"/>
              <a:pathLst>
                <a:path w="1418" h="127">
                  <a:moveTo>
                    <a:pt x="1418" y="63"/>
                  </a:moveTo>
                  <a:lnTo>
                    <a:pt x="1361" y="38"/>
                  </a:lnTo>
                  <a:lnTo>
                    <a:pt x="1209" y="18"/>
                  </a:lnTo>
                  <a:lnTo>
                    <a:pt x="985" y="4"/>
                  </a:lnTo>
                  <a:lnTo>
                    <a:pt x="709" y="0"/>
                  </a:lnTo>
                  <a:lnTo>
                    <a:pt x="432" y="4"/>
                  </a:lnTo>
                  <a:lnTo>
                    <a:pt x="208" y="18"/>
                  </a:lnTo>
                  <a:lnTo>
                    <a:pt x="56" y="38"/>
                  </a:lnTo>
                  <a:lnTo>
                    <a:pt x="0" y="63"/>
                  </a:lnTo>
                  <a:lnTo>
                    <a:pt x="56" y="87"/>
                  </a:lnTo>
                  <a:lnTo>
                    <a:pt x="208" y="107"/>
                  </a:lnTo>
                  <a:lnTo>
                    <a:pt x="432" y="121"/>
                  </a:lnTo>
                  <a:lnTo>
                    <a:pt x="709" y="127"/>
                  </a:lnTo>
                  <a:lnTo>
                    <a:pt x="985" y="121"/>
                  </a:lnTo>
                  <a:lnTo>
                    <a:pt x="1209" y="107"/>
                  </a:lnTo>
                  <a:lnTo>
                    <a:pt x="1361" y="87"/>
                  </a:lnTo>
                  <a:lnTo>
                    <a:pt x="1418" y="63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89840" y="3643200"/>
              <a:ext cx="745920" cy="455760"/>
            </a:xfrm>
            <a:custGeom>
              <a:avLst/>
              <a:gdLst/>
              <a:ahLst/>
              <a:rect l="l" t="t" r="r" b="b"/>
              <a:pathLst>
                <a:path w="1420" h="995">
                  <a:moveTo>
                    <a:pt x="0" y="0"/>
                  </a:moveTo>
                  <a:lnTo>
                    <a:pt x="379" y="995"/>
                  </a:lnTo>
                  <a:lnTo>
                    <a:pt x="1168" y="995"/>
                  </a:lnTo>
                  <a:lnTo>
                    <a:pt x="14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5216400" y="1595880"/>
            <a:ext cx="1734840" cy="1831680"/>
            <a:chOff x="5216400" y="1595880"/>
            <a:chExt cx="1734840" cy="1831680"/>
          </a:xfrm>
        </p:grpSpPr>
        <p:sp>
          <p:nvSpPr>
            <p:cNvPr id="730" name=""/>
            <p:cNvSpPr/>
            <p:nvPr/>
          </p:nvSpPr>
          <p:spPr>
            <a:xfrm rot="2857800">
              <a:off x="5509440" y="1891440"/>
              <a:ext cx="1018800" cy="1243080"/>
            </a:xfrm>
            <a:custGeom>
              <a:avLst/>
              <a:gdLst/>
              <a:ahLst/>
              <a:rect l="l" t="t" r="r" b="b"/>
              <a:pathLst>
                <a:path w="1016" h="1260">
                  <a:moveTo>
                    <a:pt x="8" y="1104"/>
                  </a:moveTo>
                  <a:lnTo>
                    <a:pt x="0" y="1024"/>
                  </a:lnTo>
                  <a:lnTo>
                    <a:pt x="4" y="949"/>
                  </a:lnTo>
                  <a:lnTo>
                    <a:pt x="15" y="872"/>
                  </a:lnTo>
                  <a:lnTo>
                    <a:pt x="28" y="793"/>
                  </a:lnTo>
                  <a:lnTo>
                    <a:pt x="31" y="777"/>
                  </a:lnTo>
                  <a:lnTo>
                    <a:pt x="33" y="760"/>
                  </a:lnTo>
                  <a:lnTo>
                    <a:pt x="37" y="744"/>
                  </a:lnTo>
                  <a:lnTo>
                    <a:pt x="39" y="727"/>
                  </a:lnTo>
                  <a:lnTo>
                    <a:pt x="44" y="709"/>
                  </a:lnTo>
                  <a:lnTo>
                    <a:pt x="50" y="689"/>
                  </a:lnTo>
                  <a:lnTo>
                    <a:pt x="57" y="667"/>
                  </a:lnTo>
                  <a:lnTo>
                    <a:pt x="66" y="645"/>
                  </a:lnTo>
                  <a:lnTo>
                    <a:pt x="74" y="623"/>
                  </a:lnTo>
                  <a:lnTo>
                    <a:pt x="81" y="601"/>
                  </a:lnTo>
                  <a:lnTo>
                    <a:pt x="88" y="581"/>
                  </a:lnTo>
                  <a:lnTo>
                    <a:pt x="94" y="563"/>
                  </a:lnTo>
                  <a:lnTo>
                    <a:pt x="97" y="550"/>
                  </a:lnTo>
                  <a:lnTo>
                    <a:pt x="101" y="537"/>
                  </a:lnTo>
                  <a:lnTo>
                    <a:pt x="103" y="526"/>
                  </a:lnTo>
                  <a:lnTo>
                    <a:pt x="106" y="513"/>
                  </a:lnTo>
                  <a:lnTo>
                    <a:pt x="121" y="460"/>
                  </a:lnTo>
                  <a:lnTo>
                    <a:pt x="134" y="409"/>
                  </a:lnTo>
                  <a:lnTo>
                    <a:pt x="147" y="362"/>
                  </a:lnTo>
                  <a:lnTo>
                    <a:pt x="158" y="314"/>
                  </a:lnTo>
                  <a:lnTo>
                    <a:pt x="167" y="270"/>
                  </a:lnTo>
                  <a:lnTo>
                    <a:pt x="172" y="228"/>
                  </a:lnTo>
                  <a:lnTo>
                    <a:pt x="174" y="190"/>
                  </a:lnTo>
                  <a:lnTo>
                    <a:pt x="174" y="153"/>
                  </a:lnTo>
                  <a:lnTo>
                    <a:pt x="178" y="139"/>
                  </a:lnTo>
                  <a:lnTo>
                    <a:pt x="185" y="126"/>
                  </a:lnTo>
                  <a:lnTo>
                    <a:pt x="192" y="113"/>
                  </a:lnTo>
                  <a:lnTo>
                    <a:pt x="202" y="100"/>
                  </a:lnTo>
                  <a:lnTo>
                    <a:pt x="205" y="95"/>
                  </a:lnTo>
                  <a:lnTo>
                    <a:pt x="211" y="89"/>
                  </a:lnTo>
                  <a:lnTo>
                    <a:pt x="216" y="84"/>
                  </a:lnTo>
                  <a:lnTo>
                    <a:pt x="224" y="80"/>
                  </a:lnTo>
                  <a:lnTo>
                    <a:pt x="233" y="73"/>
                  </a:lnTo>
                  <a:lnTo>
                    <a:pt x="242" y="65"/>
                  </a:lnTo>
                  <a:lnTo>
                    <a:pt x="251" y="60"/>
                  </a:lnTo>
                  <a:lnTo>
                    <a:pt x="262" y="53"/>
                  </a:lnTo>
                  <a:lnTo>
                    <a:pt x="275" y="47"/>
                  </a:lnTo>
                  <a:lnTo>
                    <a:pt x="286" y="42"/>
                  </a:lnTo>
                  <a:lnTo>
                    <a:pt x="299" y="38"/>
                  </a:lnTo>
                  <a:lnTo>
                    <a:pt x="311" y="33"/>
                  </a:lnTo>
                  <a:lnTo>
                    <a:pt x="320" y="29"/>
                  </a:lnTo>
                  <a:lnTo>
                    <a:pt x="328" y="27"/>
                  </a:lnTo>
                  <a:lnTo>
                    <a:pt x="337" y="23"/>
                  </a:lnTo>
                  <a:lnTo>
                    <a:pt x="346" y="22"/>
                  </a:lnTo>
                  <a:lnTo>
                    <a:pt x="383" y="14"/>
                  </a:lnTo>
                  <a:lnTo>
                    <a:pt x="421" y="7"/>
                  </a:lnTo>
                  <a:lnTo>
                    <a:pt x="459" y="3"/>
                  </a:lnTo>
                  <a:lnTo>
                    <a:pt x="500" y="1"/>
                  </a:lnTo>
                  <a:lnTo>
                    <a:pt x="540" y="0"/>
                  </a:lnTo>
                  <a:lnTo>
                    <a:pt x="580" y="1"/>
                  </a:lnTo>
                  <a:lnTo>
                    <a:pt x="620" y="3"/>
                  </a:lnTo>
                  <a:lnTo>
                    <a:pt x="657" y="9"/>
                  </a:lnTo>
                  <a:lnTo>
                    <a:pt x="694" y="14"/>
                  </a:lnTo>
                  <a:lnTo>
                    <a:pt x="727" y="22"/>
                  </a:lnTo>
                  <a:lnTo>
                    <a:pt x="758" y="31"/>
                  </a:lnTo>
                  <a:lnTo>
                    <a:pt x="785" y="42"/>
                  </a:lnTo>
                  <a:lnTo>
                    <a:pt x="809" y="54"/>
                  </a:lnTo>
                  <a:lnTo>
                    <a:pt x="827" y="67"/>
                  </a:lnTo>
                  <a:lnTo>
                    <a:pt x="840" y="82"/>
                  </a:lnTo>
                  <a:lnTo>
                    <a:pt x="847" y="98"/>
                  </a:lnTo>
                  <a:lnTo>
                    <a:pt x="855" y="228"/>
                  </a:lnTo>
                  <a:lnTo>
                    <a:pt x="877" y="356"/>
                  </a:lnTo>
                  <a:lnTo>
                    <a:pt x="908" y="482"/>
                  </a:lnTo>
                  <a:lnTo>
                    <a:pt x="941" y="607"/>
                  </a:lnTo>
                  <a:lnTo>
                    <a:pt x="974" y="727"/>
                  </a:lnTo>
                  <a:lnTo>
                    <a:pt x="1001" y="844"/>
                  </a:lnTo>
                  <a:lnTo>
                    <a:pt x="1016" y="954"/>
                  </a:lnTo>
                  <a:lnTo>
                    <a:pt x="1016" y="1060"/>
                  </a:lnTo>
                  <a:lnTo>
                    <a:pt x="977" y="1104"/>
                  </a:lnTo>
                  <a:lnTo>
                    <a:pt x="928" y="1142"/>
                  </a:lnTo>
                  <a:lnTo>
                    <a:pt x="871" y="1175"/>
                  </a:lnTo>
                  <a:lnTo>
                    <a:pt x="809" y="1203"/>
                  </a:lnTo>
                  <a:lnTo>
                    <a:pt x="739" y="1225"/>
                  </a:lnTo>
                  <a:lnTo>
                    <a:pt x="668" y="1241"/>
                  </a:lnTo>
                  <a:lnTo>
                    <a:pt x="591" y="1254"/>
                  </a:lnTo>
                  <a:lnTo>
                    <a:pt x="514" y="1260"/>
                  </a:lnTo>
                  <a:lnTo>
                    <a:pt x="438" y="1260"/>
                  </a:lnTo>
                  <a:lnTo>
                    <a:pt x="363" y="1254"/>
                  </a:lnTo>
                  <a:lnTo>
                    <a:pt x="289" y="1243"/>
                  </a:lnTo>
                  <a:lnTo>
                    <a:pt x="220" y="1227"/>
                  </a:lnTo>
                  <a:lnTo>
                    <a:pt x="156" y="1205"/>
                  </a:lnTo>
                  <a:lnTo>
                    <a:pt x="97" y="1177"/>
                  </a:lnTo>
                  <a:lnTo>
                    <a:pt x="48" y="1142"/>
                  </a:lnTo>
                  <a:lnTo>
                    <a:pt x="8" y="1104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2857800">
              <a:off x="5703840" y="1633320"/>
              <a:ext cx="468720" cy="830160"/>
            </a:xfrm>
            <a:custGeom>
              <a:avLst/>
              <a:gdLst/>
              <a:ahLst/>
              <a:rect l="l" t="t" r="r" b="b"/>
              <a:pathLst>
                <a:path w="468" h="843">
                  <a:moveTo>
                    <a:pt x="468" y="72"/>
                  </a:moveTo>
                  <a:lnTo>
                    <a:pt x="459" y="73"/>
                  </a:lnTo>
                  <a:lnTo>
                    <a:pt x="450" y="77"/>
                  </a:lnTo>
                  <a:lnTo>
                    <a:pt x="442" y="79"/>
                  </a:lnTo>
                  <a:lnTo>
                    <a:pt x="433" y="83"/>
                  </a:lnTo>
                  <a:lnTo>
                    <a:pt x="421" y="88"/>
                  </a:lnTo>
                  <a:lnTo>
                    <a:pt x="408" y="92"/>
                  </a:lnTo>
                  <a:lnTo>
                    <a:pt x="397" y="97"/>
                  </a:lnTo>
                  <a:lnTo>
                    <a:pt x="384" y="103"/>
                  </a:lnTo>
                  <a:lnTo>
                    <a:pt x="373" y="110"/>
                  </a:lnTo>
                  <a:lnTo>
                    <a:pt x="364" y="115"/>
                  </a:lnTo>
                  <a:lnTo>
                    <a:pt x="355" y="123"/>
                  </a:lnTo>
                  <a:lnTo>
                    <a:pt x="346" y="130"/>
                  </a:lnTo>
                  <a:lnTo>
                    <a:pt x="338" y="134"/>
                  </a:lnTo>
                  <a:lnTo>
                    <a:pt x="333" y="139"/>
                  </a:lnTo>
                  <a:lnTo>
                    <a:pt x="327" y="145"/>
                  </a:lnTo>
                  <a:lnTo>
                    <a:pt x="324" y="150"/>
                  </a:lnTo>
                  <a:lnTo>
                    <a:pt x="291" y="123"/>
                  </a:lnTo>
                  <a:lnTo>
                    <a:pt x="254" y="141"/>
                  </a:lnTo>
                  <a:lnTo>
                    <a:pt x="217" y="194"/>
                  </a:lnTo>
                  <a:lnTo>
                    <a:pt x="188" y="269"/>
                  </a:lnTo>
                  <a:lnTo>
                    <a:pt x="170" y="357"/>
                  </a:lnTo>
                  <a:lnTo>
                    <a:pt x="166" y="441"/>
                  </a:lnTo>
                  <a:lnTo>
                    <a:pt x="185" y="514"/>
                  </a:lnTo>
                  <a:lnTo>
                    <a:pt x="228" y="563"/>
                  </a:lnTo>
                  <a:lnTo>
                    <a:pt x="225" y="576"/>
                  </a:lnTo>
                  <a:lnTo>
                    <a:pt x="223" y="587"/>
                  </a:lnTo>
                  <a:lnTo>
                    <a:pt x="219" y="600"/>
                  </a:lnTo>
                  <a:lnTo>
                    <a:pt x="216" y="613"/>
                  </a:lnTo>
                  <a:lnTo>
                    <a:pt x="210" y="631"/>
                  </a:lnTo>
                  <a:lnTo>
                    <a:pt x="203" y="651"/>
                  </a:lnTo>
                  <a:lnTo>
                    <a:pt x="196" y="673"/>
                  </a:lnTo>
                  <a:lnTo>
                    <a:pt x="188" y="695"/>
                  </a:lnTo>
                  <a:lnTo>
                    <a:pt x="179" y="717"/>
                  </a:lnTo>
                  <a:lnTo>
                    <a:pt x="172" y="739"/>
                  </a:lnTo>
                  <a:lnTo>
                    <a:pt x="166" y="759"/>
                  </a:lnTo>
                  <a:lnTo>
                    <a:pt x="161" y="777"/>
                  </a:lnTo>
                  <a:lnTo>
                    <a:pt x="159" y="794"/>
                  </a:lnTo>
                  <a:lnTo>
                    <a:pt x="155" y="810"/>
                  </a:lnTo>
                  <a:lnTo>
                    <a:pt x="153" y="827"/>
                  </a:lnTo>
                  <a:lnTo>
                    <a:pt x="150" y="843"/>
                  </a:lnTo>
                  <a:lnTo>
                    <a:pt x="84" y="765"/>
                  </a:lnTo>
                  <a:lnTo>
                    <a:pt x="38" y="682"/>
                  </a:lnTo>
                  <a:lnTo>
                    <a:pt x="11" y="598"/>
                  </a:lnTo>
                  <a:lnTo>
                    <a:pt x="0" y="512"/>
                  </a:lnTo>
                  <a:lnTo>
                    <a:pt x="2" y="428"/>
                  </a:lnTo>
                  <a:lnTo>
                    <a:pt x="18" y="346"/>
                  </a:lnTo>
                  <a:lnTo>
                    <a:pt x="45" y="269"/>
                  </a:lnTo>
                  <a:lnTo>
                    <a:pt x="82" y="198"/>
                  </a:lnTo>
                  <a:lnTo>
                    <a:pt x="124" y="134"/>
                  </a:lnTo>
                  <a:lnTo>
                    <a:pt x="172" y="81"/>
                  </a:lnTo>
                  <a:lnTo>
                    <a:pt x="225" y="40"/>
                  </a:lnTo>
                  <a:lnTo>
                    <a:pt x="278" y="13"/>
                  </a:lnTo>
                  <a:lnTo>
                    <a:pt x="331" y="0"/>
                  </a:lnTo>
                  <a:lnTo>
                    <a:pt x="380" y="4"/>
                  </a:lnTo>
                  <a:lnTo>
                    <a:pt x="428" y="28"/>
                  </a:lnTo>
                  <a:lnTo>
                    <a:pt x="468" y="7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2857800">
              <a:off x="5546520" y="2051640"/>
              <a:ext cx="906480" cy="1010160"/>
            </a:xfrm>
            <a:custGeom>
              <a:avLst/>
              <a:gdLst/>
              <a:ahLst/>
              <a:rect l="l" t="t" r="r" b="b"/>
              <a:pathLst>
                <a:path w="904" h="1024">
                  <a:moveTo>
                    <a:pt x="904" y="888"/>
                  </a:moveTo>
                  <a:lnTo>
                    <a:pt x="873" y="912"/>
                  </a:lnTo>
                  <a:lnTo>
                    <a:pt x="836" y="936"/>
                  </a:lnTo>
                  <a:lnTo>
                    <a:pt x="792" y="956"/>
                  </a:lnTo>
                  <a:lnTo>
                    <a:pt x="741" y="976"/>
                  </a:lnTo>
                  <a:lnTo>
                    <a:pt x="686" y="992"/>
                  </a:lnTo>
                  <a:lnTo>
                    <a:pt x="628" y="1005"/>
                  </a:lnTo>
                  <a:lnTo>
                    <a:pt x="566" y="1014"/>
                  </a:lnTo>
                  <a:lnTo>
                    <a:pt x="502" y="1022"/>
                  </a:lnTo>
                  <a:lnTo>
                    <a:pt x="436" y="1024"/>
                  </a:lnTo>
                  <a:lnTo>
                    <a:pt x="368" y="1022"/>
                  </a:lnTo>
                  <a:lnTo>
                    <a:pt x="302" y="1016"/>
                  </a:lnTo>
                  <a:lnTo>
                    <a:pt x="236" y="1003"/>
                  </a:lnTo>
                  <a:lnTo>
                    <a:pt x="172" y="985"/>
                  </a:lnTo>
                  <a:lnTo>
                    <a:pt x="112" y="963"/>
                  </a:lnTo>
                  <a:lnTo>
                    <a:pt x="53" y="934"/>
                  </a:lnTo>
                  <a:lnTo>
                    <a:pt x="0" y="897"/>
                  </a:lnTo>
                  <a:lnTo>
                    <a:pt x="0" y="762"/>
                  </a:lnTo>
                  <a:lnTo>
                    <a:pt x="13" y="638"/>
                  </a:lnTo>
                  <a:lnTo>
                    <a:pt x="35" y="523"/>
                  </a:lnTo>
                  <a:lnTo>
                    <a:pt x="63" y="413"/>
                  </a:lnTo>
                  <a:lnTo>
                    <a:pt x="90" y="310"/>
                  </a:lnTo>
                  <a:lnTo>
                    <a:pt x="116" y="212"/>
                  </a:lnTo>
                  <a:lnTo>
                    <a:pt x="132" y="113"/>
                  </a:lnTo>
                  <a:lnTo>
                    <a:pt x="136" y="12"/>
                  </a:lnTo>
                  <a:lnTo>
                    <a:pt x="147" y="20"/>
                  </a:lnTo>
                  <a:lnTo>
                    <a:pt x="159" y="29"/>
                  </a:lnTo>
                  <a:lnTo>
                    <a:pt x="174" y="36"/>
                  </a:lnTo>
                  <a:lnTo>
                    <a:pt x="189" y="43"/>
                  </a:lnTo>
                  <a:lnTo>
                    <a:pt x="205" y="51"/>
                  </a:lnTo>
                  <a:lnTo>
                    <a:pt x="222" y="58"/>
                  </a:lnTo>
                  <a:lnTo>
                    <a:pt x="240" y="64"/>
                  </a:lnTo>
                  <a:lnTo>
                    <a:pt x="260" y="69"/>
                  </a:lnTo>
                  <a:lnTo>
                    <a:pt x="278" y="75"/>
                  </a:lnTo>
                  <a:lnTo>
                    <a:pt x="300" y="80"/>
                  </a:lnTo>
                  <a:lnTo>
                    <a:pt x="320" y="84"/>
                  </a:lnTo>
                  <a:lnTo>
                    <a:pt x="342" y="87"/>
                  </a:lnTo>
                  <a:lnTo>
                    <a:pt x="363" y="91"/>
                  </a:lnTo>
                  <a:lnTo>
                    <a:pt x="384" y="93"/>
                  </a:lnTo>
                  <a:lnTo>
                    <a:pt x="406" y="95"/>
                  </a:lnTo>
                  <a:lnTo>
                    <a:pt x="428" y="95"/>
                  </a:lnTo>
                  <a:lnTo>
                    <a:pt x="450" y="95"/>
                  </a:lnTo>
                  <a:lnTo>
                    <a:pt x="472" y="93"/>
                  </a:lnTo>
                  <a:lnTo>
                    <a:pt x="494" y="91"/>
                  </a:lnTo>
                  <a:lnTo>
                    <a:pt x="518" y="87"/>
                  </a:lnTo>
                  <a:lnTo>
                    <a:pt x="540" y="84"/>
                  </a:lnTo>
                  <a:lnTo>
                    <a:pt x="562" y="78"/>
                  </a:lnTo>
                  <a:lnTo>
                    <a:pt x="582" y="75"/>
                  </a:lnTo>
                  <a:lnTo>
                    <a:pt x="604" y="67"/>
                  </a:lnTo>
                  <a:lnTo>
                    <a:pt x="622" y="62"/>
                  </a:lnTo>
                  <a:lnTo>
                    <a:pt x="642" y="54"/>
                  </a:lnTo>
                  <a:lnTo>
                    <a:pt x="659" y="45"/>
                  </a:lnTo>
                  <a:lnTo>
                    <a:pt x="675" y="38"/>
                  </a:lnTo>
                  <a:lnTo>
                    <a:pt x="690" y="29"/>
                  </a:lnTo>
                  <a:lnTo>
                    <a:pt x="703" y="20"/>
                  </a:lnTo>
                  <a:lnTo>
                    <a:pt x="714" y="11"/>
                  </a:lnTo>
                  <a:lnTo>
                    <a:pt x="723" y="0"/>
                  </a:lnTo>
                  <a:lnTo>
                    <a:pt x="730" y="139"/>
                  </a:lnTo>
                  <a:lnTo>
                    <a:pt x="750" y="257"/>
                  </a:lnTo>
                  <a:lnTo>
                    <a:pt x="780" y="365"/>
                  </a:lnTo>
                  <a:lnTo>
                    <a:pt x="813" y="466"/>
                  </a:lnTo>
                  <a:lnTo>
                    <a:pt x="847" y="563"/>
                  </a:lnTo>
                  <a:lnTo>
                    <a:pt x="877" y="663"/>
                  </a:lnTo>
                  <a:lnTo>
                    <a:pt x="897" y="769"/>
                  </a:lnTo>
                  <a:lnTo>
                    <a:pt x="904" y="888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2857800">
              <a:off x="6125400" y="2094480"/>
              <a:ext cx="533520" cy="161640"/>
            </a:xfrm>
            <a:custGeom>
              <a:avLst/>
              <a:gdLst/>
              <a:ahLst/>
              <a:rect l="l" t="t" r="r" b="b"/>
              <a:pathLst>
                <a:path w="532" h="165">
                  <a:moveTo>
                    <a:pt x="267" y="165"/>
                  </a:moveTo>
                  <a:lnTo>
                    <a:pt x="320" y="163"/>
                  </a:lnTo>
                  <a:lnTo>
                    <a:pt x="369" y="157"/>
                  </a:lnTo>
                  <a:lnTo>
                    <a:pt x="415" y="150"/>
                  </a:lnTo>
                  <a:lnTo>
                    <a:pt x="455" y="141"/>
                  </a:lnTo>
                  <a:lnTo>
                    <a:pt x="486" y="128"/>
                  </a:lnTo>
                  <a:lnTo>
                    <a:pt x="512" y="115"/>
                  </a:lnTo>
                  <a:lnTo>
                    <a:pt x="526" y="99"/>
                  </a:lnTo>
                  <a:lnTo>
                    <a:pt x="532" y="82"/>
                  </a:lnTo>
                  <a:lnTo>
                    <a:pt x="526" y="66"/>
                  </a:lnTo>
                  <a:lnTo>
                    <a:pt x="512" y="50"/>
                  </a:lnTo>
                  <a:lnTo>
                    <a:pt x="486" y="37"/>
                  </a:lnTo>
                  <a:lnTo>
                    <a:pt x="455" y="24"/>
                  </a:lnTo>
                  <a:lnTo>
                    <a:pt x="415" y="15"/>
                  </a:lnTo>
                  <a:lnTo>
                    <a:pt x="369" y="8"/>
                  </a:lnTo>
                  <a:lnTo>
                    <a:pt x="320" y="2"/>
                  </a:lnTo>
                  <a:lnTo>
                    <a:pt x="267" y="0"/>
                  </a:lnTo>
                  <a:lnTo>
                    <a:pt x="214" y="2"/>
                  </a:lnTo>
                  <a:lnTo>
                    <a:pt x="162" y="8"/>
                  </a:lnTo>
                  <a:lnTo>
                    <a:pt x="119" y="15"/>
                  </a:lnTo>
                  <a:lnTo>
                    <a:pt x="78" y="24"/>
                  </a:lnTo>
                  <a:lnTo>
                    <a:pt x="45" y="37"/>
                  </a:lnTo>
                  <a:lnTo>
                    <a:pt x="22" y="50"/>
                  </a:lnTo>
                  <a:lnTo>
                    <a:pt x="5" y="66"/>
                  </a:lnTo>
                  <a:lnTo>
                    <a:pt x="0" y="82"/>
                  </a:lnTo>
                  <a:lnTo>
                    <a:pt x="5" y="99"/>
                  </a:lnTo>
                  <a:lnTo>
                    <a:pt x="22" y="115"/>
                  </a:lnTo>
                  <a:lnTo>
                    <a:pt x="45" y="128"/>
                  </a:lnTo>
                  <a:lnTo>
                    <a:pt x="78" y="141"/>
                  </a:lnTo>
                  <a:lnTo>
                    <a:pt x="119" y="150"/>
                  </a:lnTo>
                  <a:lnTo>
                    <a:pt x="162" y="157"/>
                  </a:lnTo>
                  <a:lnTo>
                    <a:pt x="214" y="163"/>
                  </a:lnTo>
                  <a:lnTo>
                    <a:pt x="267" y="16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2857800">
              <a:off x="5995800" y="2478240"/>
              <a:ext cx="795960" cy="783000"/>
            </a:xfrm>
            <a:custGeom>
              <a:avLst/>
              <a:gdLst/>
              <a:ahLst/>
              <a:rect l="l" t="t" r="r" b="b"/>
              <a:pathLst>
                <a:path w="794" h="794">
                  <a:moveTo>
                    <a:pt x="80" y="278"/>
                  </a:moveTo>
                  <a:lnTo>
                    <a:pt x="60" y="258"/>
                  </a:lnTo>
                  <a:lnTo>
                    <a:pt x="51" y="218"/>
                  </a:lnTo>
                  <a:lnTo>
                    <a:pt x="58" y="178"/>
                  </a:lnTo>
                  <a:lnTo>
                    <a:pt x="84" y="158"/>
                  </a:lnTo>
                  <a:lnTo>
                    <a:pt x="93" y="158"/>
                  </a:lnTo>
                  <a:lnTo>
                    <a:pt x="108" y="158"/>
                  </a:lnTo>
                  <a:lnTo>
                    <a:pt x="126" y="158"/>
                  </a:lnTo>
                  <a:lnTo>
                    <a:pt x="148" y="158"/>
                  </a:lnTo>
                  <a:lnTo>
                    <a:pt x="174" y="158"/>
                  </a:lnTo>
                  <a:lnTo>
                    <a:pt x="201" y="158"/>
                  </a:lnTo>
                  <a:lnTo>
                    <a:pt x="230" y="158"/>
                  </a:lnTo>
                  <a:lnTo>
                    <a:pt x="260" y="159"/>
                  </a:lnTo>
                  <a:lnTo>
                    <a:pt x="291" y="159"/>
                  </a:lnTo>
                  <a:lnTo>
                    <a:pt x="322" y="159"/>
                  </a:lnTo>
                  <a:lnTo>
                    <a:pt x="353" y="159"/>
                  </a:lnTo>
                  <a:lnTo>
                    <a:pt x="382" y="159"/>
                  </a:lnTo>
                  <a:lnTo>
                    <a:pt x="412" y="158"/>
                  </a:lnTo>
                  <a:lnTo>
                    <a:pt x="437" y="158"/>
                  </a:lnTo>
                  <a:lnTo>
                    <a:pt x="459" y="158"/>
                  </a:lnTo>
                  <a:lnTo>
                    <a:pt x="479" y="156"/>
                  </a:lnTo>
                  <a:lnTo>
                    <a:pt x="485" y="147"/>
                  </a:lnTo>
                  <a:lnTo>
                    <a:pt x="496" y="130"/>
                  </a:lnTo>
                  <a:lnTo>
                    <a:pt x="505" y="114"/>
                  </a:lnTo>
                  <a:lnTo>
                    <a:pt x="510" y="103"/>
                  </a:lnTo>
                  <a:lnTo>
                    <a:pt x="516" y="84"/>
                  </a:lnTo>
                  <a:lnTo>
                    <a:pt x="523" y="68"/>
                  </a:lnTo>
                  <a:lnTo>
                    <a:pt x="532" y="51"/>
                  </a:lnTo>
                  <a:lnTo>
                    <a:pt x="543" y="37"/>
                  </a:lnTo>
                  <a:lnTo>
                    <a:pt x="558" y="24"/>
                  </a:lnTo>
                  <a:lnTo>
                    <a:pt x="573" y="15"/>
                  </a:lnTo>
                  <a:lnTo>
                    <a:pt x="589" y="8"/>
                  </a:lnTo>
                  <a:lnTo>
                    <a:pt x="607" y="2"/>
                  </a:lnTo>
                  <a:lnTo>
                    <a:pt x="633" y="0"/>
                  </a:lnTo>
                  <a:lnTo>
                    <a:pt x="660" y="4"/>
                  </a:lnTo>
                  <a:lnTo>
                    <a:pt x="688" y="13"/>
                  </a:lnTo>
                  <a:lnTo>
                    <a:pt x="715" y="28"/>
                  </a:lnTo>
                  <a:lnTo>
                    <a:pt x="739" y="50"/>
                  </a:lnTo>
                  <a:lnTo>
                    <a:pt x="761" y="77"/>
                  </a:lnTo>
                  <a:lnTo>
                    <a:pt x="777" y="114"/>
                  </a:lnTo>
                  <a:lnTo>
                    <a:pt x="790" y="158"/>
                  </a:lnTo>
                  <a:lnTo>
                    <a:pt x="794" y="205"/>
                  </a:lnTo>
                  <a:lnTo>
                    <a:pt x="790" y="247"/>
                  </a:lnTo>
                  <a:lnTo>
                    <a:pt x="781" y="282"/>
                  </a:lnTo>
                  <a:lnTo>
                    <a:pt x="765" y="309"/>
                  </a:lnTo>
                  <a:lnTo>
                    <a:pt x="746" y="331"/>
                  </a:lnTo>
                  <a:lnTo>
                    <a:pt x="726" y="346"/>
                  </a:lnTo>
                  <a:lnTo>
                    <a:pt x="706" y="355"/>
                  </a:lnTo>
                  <a:lnTo>
                    <a:pt x="688" y="361"/>
                  </a:lnTo>
                  <a:lnTo>
                    <a:pt x="669" y="362"/>
                  </a:lnTo>
                  <a:lnTo>
                    <a:pt x="653" y="361"/>
                  </a:lnTo>
                  <a:lnTo>
                    <a:pt x="638" y="361"/>
                  </a:lnTo>
                  <a:lnTo>
                    <a:pt x="627" y="357"/>
                  </a:lnTo>
                  <a:lnTo>
                    <a:pt x="618" y="353"/>
                  </a:lnTo>
                  <a:lnTo>
                    <a:pt x="609" y="348"/>
                  </a:lnTo>
                  <a:lnTo>
                    <a:pt x="600" y="342"/>
                  </a:lnTo>
                  <a:lnTo>
                    <a:pt x="591" y="337"/>
                  </a:lnTo>
                  <a:lnTo>
                    <a:pt x="587" y="335"/>
                  </a:lnTo>
                  <a:lnTo>
                    <a:pt x="576" y="331"/>
                  </a:lnTo>
                  <a:lnTo>
                    <a:pt x="562" y="328"/>
                  </a:lnTo>
                  <a:lnTo>
                    <a:pt x="551" y="328"/>
                  </a:lnTo>
                  <a:lnTo>
                    <a:pt x="534" y="342"/>
                  </a:lnTo>
                  <a:lnTo>
                    <a:pt x="512" y="362"/>
                  </a:lnTo>
                  <a:lnTo>
                    <a:pt x="488" y="390"/>
                  </a:lnTo>
                  <a:lnTo>
                    <a:pt x="463" y="423"/>
                  </a:lnTo>
                  <a:lnTo>
                    <a:pt x="434" y="457"/>
                  </a:lnTo>
                  <a:lnTo>
                    <a:pt x="404" y="498"/>
                  </a:lnTo>
                  <a:lnTo>
                    <a:pt x="373" y="538"/>
                  </a:lnTo>
                  <a:lnTo>
                    <a:pt x="344" y="578"/>
                  </a:lnTo>
                  <a:lnTo>
                    <a:pt x="315" y="618"/>
                  </a:lnTo>
                  <a:lnTo>
                    <a:pt x="285" y="657"/>
                  </a:lnTo>
                  <a:lnTo>
                    <a:pt x="260" y="693"/>
                  </a:lnTo>
                  <a:lnTo>
                    <a:pt x="236" y="724"/>
                  </a:lnTo>
                  <a:lnTo>
                    <a:pt x="214" y="752"/>
                  </a:lnTo>
                  <a:lnTo>
                    <a:pt x="198" y="774"/>
                  </a:lnTo>
                  <a:lnTo>
                    <a:pt x="185" y="788"/>
                  </a:lnTo>
                  <a:lnTo>
                    <a:pt x="177" y="794"/>
                  </a:lnTo>
                  <a:lnTo>
                    <a:pt x="137" y="788"/>
                  </a:lnTo>
                  <a:lnTo>
                    <a:pt x="99" y="774"/>
                  </a:lnTo>
                  <a:lnTo>
                    <a:pt x="64" y="750"/>
                  </a:lnTo>
                  <a:lnTo>
                    <a:pt x="35" y="719"/>
                  </a:lnTo>
                  <a:lnTo>
                    <a:pt x="13" y="681"/>
                  </a:lnTo>
                  <a:lnTo>
                    <a:pt x="2" y="633"/>
                  </a:lnTo>
                  <a:lnTo>
                    <a:pt x="0" y="580"/>
                  </a:lnTo>
                  <a:lnTo>
                    <a:pt x="11" y="520"/>
                  </a:lnTo>
                  <a:lnTo>
                    <a:pt x="16" y="512"/>
                  </a:lnTo>
                  <a:lnTo>
                    <a:pt x="27" y="501"/>
                  </a:lnTo>
                  <a:lnTo>
                    <a:pt x="44" y="489"/>
                  </a:lnTo>
                  <a:lnTo>
                    <a:pt x="64" y="474"/>
                  </a:lnTo>
                  <a:lnTo>
                    <a:pt x="88" y="456"/>
                  </a:lnTo>
                  <a:lnTo>
                    <a:pt x="115" y="437"/>
                  </a:lnTo>
                  <a:lnTo>
                    <a:pt x="144" y="417"/>
                  </a:lnTo>
                  <a:lnTo>
                    <a:pt x="174" y="397"/>
                  </a:lnTo>
                  <a:lnTo>
                    <a:pt x="203" y="377"/>
                  </a:lnTo>
                  <a:lnTo>
                    <a:pt x="230" y="357"/>
                  </a:lnTo>
                  <a:lnTo>
                    <a:pt x="258" y="339"/>
                  </a:lnTo>
                  <a:lnTo>
                    <a:pt x="283" y="322"/>
                  </a:lnTo>
                  <a:lnTo>
                    <a:pt x="305" y="309"/>
                  </a:lnTo>
                  <a:lnTo>
                    <a:pt x="322" y="297"/>
                  </a:lnTo>
                  <a:lnTo>
                    <a:pt x="335" y="289"/>
                  </a:lnTo>
                  <a:lnTo>
                    <a:pt x="342" y="284"/>
                  </a:lnTo>
                  <a:lnTo>
                    <a:pt x="320" y="284"/>
                  </a:lnTo>
                  <a:lnTo>
                    <a:pt x="291" y="284"/>
                  </a:lnTo>
                  <a:lnTo>
                    <a:pt x="258" y="284"/>
                  </a:lnTo>
                  <a:lnTo>
                    <a:pt x="221" y="284"/>
                  </a:lnTo>
                  <a:lnTo>
                    <a:pt x="183" y="284"/>
                  </a:lnTo>
                  <a:lnTo>
                    <a:pt x="146" y="284"/>
                  </a:lnTo>
                  <a:lnTo>
                    <a:pt x="112" y="282"/>
                  </a:lnTo>
                  <a:lnTo>
                    <a:pt x="80" y="278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2857800">
              <a:off x="6138360" y="1859040"/>
              <a:ext cx="210960" cy="78480"/>
            </a:xfrm>
            <a:custGeom>
              <a:avLst/>
              <a:gdLst/>
              <a:ahLst/>
              <a:rect l="l" t="t" r="r" b="b"/>
              <a:pathLst>
                <a:path w="208" h="79">
                  <a:moveTo>
                    <a:pt x="121" y="79"/>
                  </a:moveTo>
                  <a:lnTo>
                    <a:pt x="130" y="72"/>
                  </a:lnTo>
                  <a:lnTo>
                    <a:pt x="139" y="64"/>
                  </a:lnTo>
                  <a:lnTo>
                    <a:pt x="148" y="59"/>
                  </a:lnTo>
                  <a:lnTo>
                    <a:pt x="159" y="52"/>
                  </a:lnTo>
                  <a:lnTo>
                    <a:pt x="172" y="46"/>
                  </a:lnTo>
                  <a:lnTo>
                    <a:pt x="183" y="41"/>
                  </a:lnTo>
                  <a:lnTo>
                    <a:pt x="196" y="37"/>
                  </a:lnTo>
                  <a:lnTo>
                    <a:pt x="208" y="32"/>
                  </a:lnTo>
                  <a:lnTo>
                    <a:pt x="196" y="21"/>
                  </a:lnTo>
                  <a:lnTo>
                    <a:pt x="179" y="11"/>
                  </a:lnTo>
                  <a:lnTo>
                    <a:pt x="159" y="4"/>
                  </a:lnTo>
                  <a:lnTo>
                    <a:pt x="135" y="0"/>
                  </a:lnTo>
                  <a:lnTo>
                    <a:pt x="106" y="0"/>
                  </a:lnTo>
                  <a:lnTo>
                    <a:pt x="73" y="4"/>
                  </a:lnTo>
                  <a:lnTo>
                    <a:pt x="38" y="13"/>
                  </a:lnTo>
                  <a:lnTo>
                    <a:pt x="0" y="30"/>
                  </a:lnTo>
                  <a:lnTo>
                    <a:pt x="16" y="26"/>
                  </a:lnTo>
                  <a:lnTo>
                    <a:pt x="35" y="26"/>
                  </a:lnTo>
                  <a:lnTo>
                    <a:pt x="53" y="28"/>
                  </a:lnTo>
                  <a:lnTo>
                    <a:pt x="71" y="33"/>
                  </a:lnTo>
                  <a:lnTo>
                    <a:pt x="88" y="41"/>
                  </a:lnTo>
                  <a:lnTo>
                    <a:pt x="102" y="52"/>
                  </a:lnTo>
                  <a:lnTo>
                    <a:pt x="113" y="64"/>
                  </a:lnTo>
                  <a:lnTo>
                    <a:pt x="121" y="7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2857800">
              <a:off x="5758560" y="1665360"/>
              <a:ext cx="214560" cy="663120"/>
            </a:xfrm>
            <a:custGeom>
              <a:avLst/>
              <a:gdLst/>
              <a:ahLst/>
              <a:rect l="l" t="t" r="r" b="b"/>
              <a:pathLst>
                <a:path w="214" h="673">
                  <a:moveTo>
                    <a:pt x="121" y="673"/>
                  </a:moveTo>
                  <a:lnTo>
                    <a:pt x="84" y="642"/>
                  </a:lnTo>
                  <a:lnTo>
                    <a:pt x="55" y="604"/>
                  </a:lnTo>
                  <a:lnTo>
                    <a:pt x="31" y="560"/>
                  </a:lnTo>
                  <a:lnTo>
                    <a:pt x="15" y="509"/>
                  </a:lnTo>
                  <a:lnTo>
                    <a:pt x="4" y="456"/>
                  </a:lnTo>
                  <a:lnTo>
                    <a:pt x="0" y="401"/>
                  </a:lnTo>
                  <a:lnTo>
                    <a:pt x="0" y="344"/>
                  </a:lnTo>
                  <a:lnTo>
                    <a:pt x="7" y="288"/>
                  </a:lnTo>
                  <a:lnTo>
                    <a:pt x="18" y="233"/>
                  </a:lnTo>
                  <a:lnTo>
                    <a:pt x="35" y="182"/>
                  </a:lnTo>
                  <a:lnTo>
                    <a:pt x="55" y="132"/>
                  </a:lnTo>
                  <a:lnTo>
                    <a:pt x="80" y="90"/>
                  </a:lnTo>
                  <a:lnTo>
                    <a:pt x="108" y="55"/>
                  </a:lnTo>
                  <a:lnTo>
                    <a:pt x="141" y="26"/>
                  </a:lnTo>
                  <a:lnTo>
                    <a:pt x="176" y="8"/>
                  </a:lnTo>
                  <a:lnTo>
                    <a:pt x="214" y="0"/>
                  </a:lnTo>
                  <a:lnTo>
                    <a:pt x="170" y="52"/>
                  </a:lnTo>
                  <a:lnTo>
                    <a:pt x="134" y="116"/>
                  </a:lnTo>
                  <a:lnTo>
                    <a:pt x="108" y="191"/>
                  </a:lnTo>
                  <a:lnTo>
                    <a:pt x="93" y="267"/>
                  </a:lnTo>
                  <a:lnTo>
                    <a:pt x="91" y="344"/>
                  </a:lnTo>
                  <a:lnTo>
                    <a:pt x="102" y="414"/>
                  </a:lnTo>
                  <a:lnTo>
                    <a:pt x="132" y="470"/>
                  </a:lnTo>
                  <a:lnTo>
                    <a:pt x="176" y="509"/>
                  </a:lnTo>
                  <a:lnTo>
                    <a:pt x="170" y="527"/>
                  </a:lnTo>
                  <a:lnTo>
                    <a:pt x="163" y="547"/>
                  </a:lnTo>
                  <a:lnTo>
                    <a:pt x="156" y="569"/>
                  </a:lnTo>
                  <a:lnTo>
                    <a:pt x="148" y="591"/>
                  </a:lnTo>
                  <a:lnTo>
                    <a:pt x="139" y="613"/>
                  </a:lnTo>
                  <a:lnTo>
                    <a:pt x="132" y="635"/>
                  </a:lnTo>
                  <a:lnTo>
                    <a:pt x="126" y="655"/>
                  </a:lnTo>
                  <a:lnTo>
                    <a:pt x="121" y="673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2857800">
              <a:off x="6019560" y="2581920"/>
              <a:ext cx="469080" cy="501120"/>
            </a:xfrm>
            <a:custGeom>
              <a:avLst/>
              <a:gdLst/>
              <a:ahLst/>
              <a:rect l="l" t="t" r="r" b="b"/>
              <a:pathLst>
                <a:path w="468" h="508">
                  <a:moveTo>
                    <a:pt x="468" y="73"/>
                  </a:moveTo>
                  <a:lnTo>
                    <a:pt x="459" y="84"/>
                  </a:lnTo>
                  <a:lnTo>
                    <a:pt x="445" y="100"/>
                  </a:lnTo>
                  <a:lnTo>
                    <a:pt x="426" y="124"/>
                  </a:lnTo>
                  <a:lnTo>
                    <a:pt x="404" y="153"/>
                  </a:lnTo>
                  <a:lnTo>
                    <a:pt x="377" y="188"/>
                  </a:lnTo>
                  <a:lnTo>
                    <a:pt x="349" y="224"/>
                  </a:lnTo>
                  <a:lnTo>
                    <a:pt x="320" y="263"/>
                  </a:lnTo>
                  <a:lnTo>
                    <a:pt x="291" y="301"/>
                  </a:lnTo>
                  <a:lnTo>
                    <a:pt x="260" y="340"/>
                  </a:lnTo>
                  <a:lnTo>
                    <a:pt x="231" y="378"/>
                  </a:lnTo>
                  <a:lnTo>
                    <a:pt x="203" y="413"/>
                  </a:lnTo>
                  <a:lnTo>
                    <a:pt x="179" y="442"/>
                  </a:lnTo>
                  <a:lnTo>
                    <a:pt x="157" y="469"/>
                  </a:lnTo>
                  <a:lnTo>
                    <a:pt x="141" y="490"/>
                  </a:lnTo>
                  <a:lnTo>
                    <a:pt x="128" y="502"/>
                  </a:lnTo>
                  <a:lnTo>
                    <a:pt x="123" y="508"/>
                  </a:lnTo>
                  <a:lnTo>
                    <a:pt x="90" y="506"/>
                  </a:lnTo>
                  <a:lnTo>
                    <a:pt x="60" y="491"/>
                  </a:lnTo>
                  <a:lnTo>
                    <a:pt x="35" y="464"/>
                  </a:lnTo>
                  <a:lnTo>
                    <a:pt x="16" y="429"/>
                  </a:lnTo>
                  <a:lnTo>
                    <a:pt x="4" y="391"/>
                  </a:lnTo>
                  <a:lnTo>
                    <a:pt x="0" y="354"/>
                  </a:lnTo>
                  <a:lnTo>
                    <a:pt x="4" y="321"/>
                  </a:lnTo>
                  <a:lnTo>
                    <a:pt x="18" y="296"/>
                  </a:lnTo>
                  <a:lnTo>
                    <a:pt x="26" y="290"/>
                  </a:lnTo>
                  <a:lnTo>
                    <a:pt x="40" y="279"/>
                  </a:lnTo>
                  <a:lnTo>
                    <a:pt x="62" y="265"/>
                  </a:lnTo>
                  <a:lnTo>
                    <a:pt x="88" y="245"/>
                  </a:lnTo>
                  <a:lnTo>
                    <a:pt x="117" y="224"/>
                  </a:lnTo>
                  <a:lnTo>
                    <a:pt x="150" y="201"/>
                  </a:lnTo>
                  <a:lnTo>
                    <a:pt x="187" y="175"/>
                  </a:lnTo>
                  <a:lnTo>
                    <a:pt x="223" y="149"/>
                  </a:lnTo>
                  <a:lnTo>
                    <a:pt x="260" y="124"/>
                  </a:lnTo>
                  <a:lnTo>
                    <a:pt x="295" y="100"/>
                  </a:lnTo>
                  <a:lnTo>
                    <a:pt x="327" y="76"/>
                  </a:lnTo>
                  <a:lnTo>
                    <a:pt x="359" y="54"/>
                  </a:lnTo>
                  <a:lnTo>
                    <a:pt x="386" y="34"/>
                  </a:lnTo>
                  <a:lnTo>
                    <a:pt x="408" y="20"/>
                  </a:lnTo>
                  <a:lnTo>
                    <a:pt x="424" y="7"/>
                  </a:lnTo>
                  <a:lnTo>
                    <a:pt x="434" y="0"/>
                  </a:lnTo>
                  <a:lnTo>
                    <a:pt x="437" y="20"/>
                  </a:lnTo>
                  <a:lnTo>
                    <a:pt x="446" y="42"/>
                  </a:lnTo>
                  <a:lnTo>
                    <a:pt x="459" y="62"/>
                  </a:lnTo>
                  <a:lnTo>
                    <a:pt x="468" y="73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2857800">
              <a:off x="6266160" y="2627640"/>
              <a:ext cx="366840" cy="57240"/>
            </a:xfrm>
            <a:custGeom>
              <a:avLst/>
              <a:gdLst/>
              <a:ahLst/>
              <a:rect l="l" t="t" r="r" b="b"/>
              <a:pathLst>
                <a:path w="366" h="59">
                  <a:moveTo>
                    <a:pt x="20" y="0"/>
                  </a:moveTo>
                  <a:lnTo>
                    <a:pt x="28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83" y="0"/>
                  </a:lnTo>
                  <a:lnTo>
                    <a:pt x="108" y="0"/>
                  </a:lnTo>
                  <a:lnTo>
                    <a:pt x="136" y="0"/>
                  </a:lnTo>
                  <a:lnTo>
                    <a:pt x="167" y="0"/>
                  </a:lnTo>
                  <a:lnTo>
                    <a:pt x="196" y="0"/>
                  </a:lnTo>
                  <a:lnTo>
                    <a:pt x="227" y="0"/>
                  </a:lnTo>
                  <a:lnTo>
                    <a:pt x="256" y="0"/>
                  </a:lnTo>
                  <a:lnTo>
                    <a:pt x="284" y="0"/>
                  </a:lnTo>
                  <a:lnTo>
                    <a:pt x="309" y="0"/>
                  </a:lnTo>
                  <a:lnTo>
                    <a:pt x="331" y="0"/>
                  </a:lnTo>
                  <a:lnTo>
                    <a:pt x="348" y="0"/>
                  </a:lnTo>
                  <a:lnTo>
                    <a:pt x="361" y="0"/>
                  </a:lnTo>
                  <a:lnTo>
                    <a:pt x="366" y="0"/>
                  </a:lnTo>
                  <a:lnTo>
                    <a:pt x="359" y="6"/>
                  </a:lnTo>
                  <a:lnTo>
                    <a:pt x="350" y="15"/>
                  </a:lnTo>
                  <a:lnTo>
                    <a:pt x="339" y="22"/>
                  </a:lnTo>
                  <a:lnTo>
                    <a:pt x="328" y="32"/>
                  </a:lnTo>
                  <a:lnTo>
                    <a:pt x="317" y="41"/>
                  </a:lnTo>
                  <a:lnTo>
                    <a:pt x="308" y="48"/>
                  </a:lnTo>
                  <a:lnTo>
                    <a:pt x="300" y="54"/>
                  </a:lnTo>
                  <a:lnTo>
                    <a:pt x="295" y="57"/>
                  </a:lnTo>
                  <a:lnTo>
                    <a:pt x="275" y="59"/>
                  </a:lnTo>
                  <a:lnTo>
                    <a:pt x="242" y="59"/>
                  </a:lnTo>
                  <a:lnTo>
                    <a:pt x="200" y="59"/>
                  </a:lnTo>
                  <a:lnTo>
                    <a:pt x="154" y="57"/>
                  </a:lnTo>
                  <a:lnTo>
                    <a:pt x="108" y="57"/>
                  </a:lnTo>
                  <a:lnTo>
                    <a:pt x="68" y="55"/>
                  </a:lnTo>
                  <a:lnTo>
                    <a:pt x="35" y="55"/>
                  </a:lnTo>
                  <a:lnTo>
                    <a:pt x="17" y="54"/>
                  </a:lnTo>
                  <a:lnTo>
                    <a:pt x="2" y="44"/>
                  </a:lnTo>
                  <a:lnTo>
                    <a:pt x="0" y="26"/>
                  </a:lnTo>
                  <a:lnTo>
                    <a:pt x="6" y="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2857800">
              <a:off x="6638760" y="2793600"/>
              <a:ext cx="188280" cy="258120"/>
            </a:xfrm>
            <a:custGeom>
              <a:avLst/>
              <a:gdLst/>
              <a:ahLst/>
              <a:rect l="l" t="t" r="r" b="b"/>
              <a:pathLst>
                <a:path w="186" h="261">
                  <a:moveTo>
                    <a:pt x="128" y="258"/>
                  </a:moveTo>
                  <a:lnTo>
                    <a:pt x="144" y="249"/>
                  </a:lnTo>
                  <a:lnTo>
                    <a:pt x="159" y="236"/>
                  </a:lnTo>
                  <a:lnTo>
                    <a:pt x="170" y="219"/>
                  </a:lnTo>
                  <a:lnTo>
                    <a:pt x="179" y="199"/>
                  </a:lnTo>
                  <a:lnTo>
                    <a:pt x="184" y="177"/>
                  </a:lnTo>
                  <a:lnTo>
                    <a:pt x="186" y="153"/>
                  </a:lnTo>
                  <a:lnTo>
                    <a:pt x="183" y="128"/>
                  </a:lnTo>
                  <a:lnTo>
                    <a:pt x="177" y="102"/>
                  </a:lnTo>
                  <a:lnTo>
                    <a:pt x="168" y="77"/>
                  </a:lnTo>
                  <a:lnTo>
                    <a:pt x="155" y="55"/>
                  </a:lnTo>
                  <a:lnTo>
                    <a:pt x="142" y="35"/>
                  </a:lnTo>
                  <a:lnTo>
                    <a:pt x="126" y="20"/>
                  </a:lnTo>
                  <a:lnTo>
                    <a:pt x="108" y="9"/>
                  </a:lnTo>
                  <a:lnTo>
                    <a:pt x="89" y="2"/>
                  </a:lnTo>
                  <a:lnTo>
                    <a:pt x="73" y="0"/>
                  </a:lnTo>
                  <a:lnTo>
                    <a:pt x="55" y="3"/>
                  </a:lnTo>
                  <a:lnTo>
                    <a:pt x="38" y="13"/>
                  </a:lnTo>
                  <a:lnTo>
                    <a:pt x="23" y="25"/>
                  </a:lnTo>
                  <a:lnTo>
                    <a:pt x="13" y="44"/>
                  </a:lnTo>
                  <a:lnTo>
                    <a:pt x="5" y="62"/>
                  </a:lnTo>
                  <a:lnTo>
                    <a:pt x="2" y="86"/>
                  </a:lnTo>
                  <a:lnTo>
                    <a:pt x="0" y="110"/>
                  </a:lnTo>
                  <a:lnTo>
                    <a:pt x="2" y="135"/>
                  </a:lnTo>
                  <a:lnTo>
                    <a:pt x="7" y="161"/>
                  </a:lnTo>
                  <a:lnTo>
                    <a:pt x="16" y="186"/>
                  </a:lnTo>
                  <a:lnTo>
                    <a:pt x="27" y="208"/>
                  </a:lnTo>
                  <a:lnTo>
                    <a:pt x="42" y="227"/>
                  </a:lnTo>
                  <a:lnTo>
                    <a:pt x="58" y="241"/>
                  </a:lnTo>
                  <a:lnTo>
                    <a:pt x="75" y="252"/>
                  </a:lnTo>
                  <a:lnTo>
                    <a:pt x="93" y="259"/>
                  </a:lnTo>
                  <a:lnTo>
                    <a:pt x="109" y="261"/>
                  </a:lnTo>
                  <a:lnTo>
                    <a:pt x="128" y="258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2857800">
              <a:off x="6781320" y="2834640"/>
              <a:ext cx="15840" cy="136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15"/>
                  </a:moveTo>
                  <a:lnTo>
                    <a:pt x="11" y="15"/>
                  </a:lnTo>
                  <a:lnTo>
                    <a:pt x="13" y="13"/>
                  </a:lnTo>
                  <a:lnTo>
                    <a:pt x="14" y="11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2857800">
              <a:off x="6733440" y="2828880"/>
              <a:ext cx="16200" cy="133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15"/>
                  </a:moveTo>
                  <a:lnTo>
                    <a:pt x="11" y="15"/>
                  </a:lnTo>
                  <a:lnTo>
                    <a:pt x="15" y="13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3"/>
                  </a:lnTo>
                  <a:lnTo>
                    <a:pt x="6" y="1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2857800">
              <a:off x="6760800" y="2869200"/>
              <a:ext cx="14040" cy="136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9" y="14"/>
                  </a:lnTo>
                  <a:lnTo>
                    <a:pt x="13" y="12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3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2857800">
              <a:off x="6723000" y="2885040"/>
              <a:ext cx="16200" cy="136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15"/>
                  </a:moveTo>
                  <a:lnTo>
                    <a:pt x="9" y="15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3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2857800">
              <a:off x="6699600" y="2917440"/>
              <a:ext cx="15840" cy="136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8" y="15"/>
                  </a:moveTo>
                  <a:lnTo>
                    <a:pt x="11" y="15"/>
                  </a:lnTo>
                  <a:lnTo>
                    <a:pt x="15" y="13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3"/>
                  </a:lnTo>
                  <a:lnTo>
                    <a:pt x="6" y="1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2857800">
              <a:off x="6694200" y="2959920"/>
              <a:ext cx="14040" cy="136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15"/>
                  </a:moveTo>
                  <a:lnTo>
                    <a:pt x="9" y="15"/>
                  </a:lnTo>
                  <a:lnTo>
                    <a:pt x="12" y="13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3"/>
                  </a:lnTo>
                  <a:lnTo>
                    <a:pt x="5" y="15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2857800">
              <a:off x="6734880" y="2943360"/>
              <a:ext cx="14040" cy="158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15"/>
                  </a:moveTo>
                  <a:lnTo>
                    <a:pt x="9" y="15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3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6" y="15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2857800">
              <a:off x="6759720" y="2913120"/>
              <a:ext cx="15840" cy="15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9" y="14"/>
                  </a:lnTo>
                  <a:lnTo>
                    <a:pt x="12" y="13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3"/>
                  </a:lnTo>
                  <a:lnTo>
                    <a:pt x="5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2857800">
              <a:off x="6699240" y="2855880"/>
              <a:ext cx="15840" cy="133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8" y="15"/>
                  </a:moveTo>
                  <a:lnTo>
                    <a:pt x="10" y="15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3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3"/>
                  </a:lnTo>
                  <a:lnTo>
                    <a:pt x="6" y="1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2857800">
              <a:off x="6675480" y="2893680"/>
              <a:ext cx="15840" cy="133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15"/>
                  </a:moveTo>
                  <a:lnTo>
                    <a:pt x="11" y="15"/>
                  </a:lnTo>
                  <a:lnTo>
                    <a:pt x="15" y="13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6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6" y="15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2857800">
              <a:off x="6661440" y="2930760"/>
              <a:ext cx="14040" cy="176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7" y="16"/>
                  </a:moveTo>
                  <a:lnTo>
                    <a:pt x="9" y="16"/>
                  </a:lnTo>
                  <a:lnTo>
                    <a:pt x="12" y="14"/>
                  </a:lnTo>
                  <a:lnTo>
                    <a:pt x="14" y="11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3" y="16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2857800">
              <a:off x="6659280" y="2971800"/>
              <a:ext cx="14040" cy="154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7" y="16"/>
                  </a:moveTo>
                  <a:lnTo>
                    <a:pt x="9" y="16"/>
                  </a:lnTo>
                  <a:lnTo>
                    <a:pt x="13" y="15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5"/>
                  </a:lnTo>
                  <a:lnTo>
                    <a:pt x="13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2857800">
              <a:off x="6686280" y="2994120"/>
              <a:ext cx="15840" cy="154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9" y="15"/>
                  </a:moveTo>
                  <a:lnTo>
                    <a:pt x="11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2857800">
              <a:off x="6728400" y="2993400"/>
              <a:ext cx="11520" cy="136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6" y="15"/>
                  </a:moveTo>
                  <a:lnTo>
                    <a:pt x="9" y="15"/>
                  </a:lnTo>
                  <a:lnTo>
                    <a:pt x="11" y="13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1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2857800">
              <a:off x="6760080" y="2968560"/>
              <a:ext cx="15840" cy="11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7" y="13"/>
                  </a:moveTo>
                  <a:lnTo>
                    <a:pt x="9" y="13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2857800">
              <a:off x="6791760" y="2931840"/>
              <a:ext cx="14040" cy="11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3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2857800">
              <a:off x="6800760" y="2884320"/>
              <a:ext cx="14040" cy="136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4"/>
                  </a:moveTo>
                  <a:lnTo>
                    <a:pt x="9" y="14"/>
                  </a:lnTo>
                  <a:lnTo>
                    <a:pt x="13" y="12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3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2"/>
                  </a:lnTo>
                  <a:lnTo>
                    <a:pt x="6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2857800">
              <a:off x="6202800" y="2122920"/>
              <a:ext cx="395280" cy="80640"/>
            </a:xfrm>
            <a:custGeom>
              <a:avLst/>
              <a:gdLst/>
              <a:ahLst/>
              <a:rect l="l" t="t" r="r" b="b"/>
              <a:pathLst>
                <a:path w="396" h="82">
                  <a:moveTo>
                    <a:pt x="200" y="82"/>
                  </a:moveTo>
                  <a:lnTo>
                    <a:pt x="240" y="82"/>
                  </a:lnTo>
                  <a:lnTo>
                    <a:pt x="277" y="78"/>
                  </a:lnTo>
                  <a:lnTo>
                    <a:pt x="310" y="75"/>
                  </a:lnTo>
                  <a:lnTo>
                    <a:pt x="339" y="69"/>
                  </a:lnTo>
                  <a:lnTo>
                    <a:pt x="363" y="64"/>
                  </a:lnTo>
                  <a:lnTo>
                    <a:pt x="381" y="56"/>
                  </a:lnTo>
                  <a:lnTo>
                    <a:pt x="392" y="49"/>
                  </a:lnTo>
                  <a:lnTo>
                    <a:pt x="396" y="40"/>
                  </a:lnTo>
                  <a:lnTo>
                    <a:pt x="392" y="33"/>
                  </a:lnTo>
                  <a:lnTo>
                    <a:pt x="381" y="23"/>
                  </a:lnTo>
                  <a:lnTo>
                    <a:pt x="363" y="18"/>
                  </a:lnTo>
                  <a:lnTo>
                    <a:pt x="339" y="11"/>
                  </a:lnTo>
                  <a:lnTo>
                    <a:pt x="310" y="7"/>
                  </a:lnTo>
                  <a:lnTo>
                    <a:pt x="277" y="3"/>
                  </a:lnTo>
                  <a:lnTo>
                    <a:pt x="240" y="0"/>
                  </a:lnTo>
                  <a:lnTo>
                    <a:pt x="200" y="0"/>
                  </a:lnTo>
                  <a:lnTo>
                    <a:pt x="160" y="0"/>
                  </a:lnTo>
                  <a:lnTo>
                    <a:pt x="123" y="3"/>
                  </a:lnTo>
                  <a:lnTo>
                    <a:pt x="88" y="7"/>
                  </a:lnTo>
                  <a:lnTo>
                    <a:pt x="59" y="11"/>
                  </a:lnTo>
                  <a:lnTo>
                    <a:pt x="35" y="18"/>
                  </a:lnTo>
                  <a:lnTo>
                    <a:pt x="17" y="23"/>
                  </a:lnTo>
                  <a:lnTo>
                    <a:pt x="4" y="33"/>
                  </a:lnTo>
                  <a:lnTo>
                    <a:pt x="0" y="40"/>
                  </a:lnTo>
                  <a:lnTo>
                    <a:pt x="4" y="49"/>
                  </a:lnTo>
                  <a:lnTo>
                    <a:pt x="17" y="56"/>
                  </a:lnTo>
                  <a:lnTo>
                    <a:pt x="35" y="64"/>
                  </a:lnTo>
                  <a:lnTo>
                    <a:pt x="59" y="69"/>
                  </a:lnTo>
                  <a:lnTo>
                    <a:pt x="88" y="75"/>
                  </a:lnTo>
                  <a:lnTo>
                    <a:pt x="123" y="78"/>
                  </a:lnTo>
                  <a:lnTo>
                    <a:pt x="160" y="82"/>
                  </a:lnTo>
                  <a:lnTo>
                    <a:pt x="200" y="8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6477120" y="2895480"/>
            <a:ext cx="1109520" cy="1365120"/>
            <a:chOff x="6477120" y="2895480"/>
            <a:chExt cx="1109520" cy="1365120"/>
          </a:xfrm>
        </p:grpSpPr>
        <p:sp>
          <p:nvSpPr>
            <p:cNvPr id="759" name=""/>
            <p:cNvSpPr/>
            <p:nvPr/>
          </p:nvSpPr>
          <p:spPr>
            <a:xfrm>
              <a:off x="6477120" y="2903400"/>
              <a:ext cx="1109520" cy="1357200"/>
            </a:xfrm>
            <a:custGeom>
              <a:avLst/>
              <a:gdLst/>
              <a:ahLst/>
              <a:rect l="l" t="t" r="r" b="b"/>
              <a:pathLst>
                <a:path w="2096" h="2566">
                  <a:moveTo>
                    <a:pt x="0" y="0"/>
                  </a:moveTo>
                  <a:lnTo>
                    <a:pt x="23" y="0"/>
                  </a:lnTo>
                  <a:lnTo>
                    <a:pt x="47" y="0"/>
                  </a:lnTo>
                  <a:lnTo>
                    <a:pt x="70" y="14"/>
                  </a:lnTo>
                  <a:lnTo>
                    <a:pt x="94" y="28"/>
                  </a:lnTo>
                  <a:lnTo>
                    <a:pt x="106" y="28"/>
                  </a:lnTo>
                  <a:lnTo>
                    <a:pt x="129" y="28"/>
                  </a:lnTo>
                  <a:lnTo>
                    <a:pt x="153" y="28"/>
                  </a:lnTo>
                  <a:lnTo>
                    <a:pt x="176" y="28"/>
                  </a:lnTo>
                  <a:lnTo>
                    <a:pt x="200" y="28"/>
                  </a:lnTo>
                  <a:lnTo>
                    <a:pt x="223" y="28"/>
                  </a:lnTo>
                  <a:lnTo>
                    <a:pt x="247" y="28"/>
                  </a:lnTo>
                  <a:lnTo>
                    <a:pt x="270" y="28"/>
                  </a:lnTo>
                  <a:lnTo>
                    <a:pt x="295" y="28"/>
                  </a:lnTo>
                  <a:lnTo>
                    <a:pt x="318" y="42"/>
                  </a:lnTo>
                  <a:lnTo>
                    <a:pt x="342" y="56"/>
                  </a:lnTo>
                  <a:lnTo>
                    <a:pt x="365" y="56"/>
                  </a:lnTo>
                  <a:lnTo>
                    <a:pt x="388" y="70"/>
                  </a:lnTo>
                  <a:lnTo>
                    <a:pt x="412" y="70"/>
                  </a:lnTo>
                  <a:lnTo>
                    <a:pt x="435" y="86"/>
                  </a:lnTo>
                  <a:lnTo>
                    <a:pt x="459" y="86"/>
                  </a:lnTo>
                  <a:lnTo>
                    <a:pt x="482" y="86"/>
                  </a:lnTo>
                  <a:lnTo>
                    <a:pt x="507" y="100"/>
                  </a:lnTo>
                  <a:lnTo>
                    <a:pt x="530" y="114"/>
                  </a:lnTo>
                  <a:lnTo>
                    <a:pt x="554" y="114"/>
                  </a:lnTo>
                  <a:lnTo>
                    <a:pt x="577" y="128"/>
                  </a:lnTo>
                  <a:lnTo>
                    <a:pt x="600" y="142"/>
                  </a:lnTo>
                  <a:lnTo>
                    <a:pt x="624" y="156"/>
                  </a:lnTo>
                  <a:lnTo>
                    <a:pt x="647" y="170"/>
                  </a:lnTo>
                  <a:lnTo>
                    <a:pt x="671" y="184"/>
                  </a:lnTo>
                  <a:lnTo>
                    <a:pt x="694" y="198"/>
                  </a:lnTo>
                  <a:lnTo>
                    <a:pt x="719" y="228"/>
                  </a:lnTo>
                  <a:lnTo>
                    <a:pt x="741" y="228"/>
                  </a:lnTo>
                  <a:lnTo>
                    <a:pt x="753" y="256"/>
                  </a:lnTo>
                  <a:lnTo>
                    <a:pt x="777" y="256"/>
                  </a:lnTo>
                  <a:lnTo>
                    <a:pt x="800" y="270"/>
                  </a:lnTo>
                  <a:lnTo>
                    <a:pt x="824" y="284"/>
                  </a:lnTo>
                  <a:lnTo>
                    <a:pt x="824" y="284"/>
                  </a:lnTo>
                  <a:lnTo>
                    <a:pt x="847" y="298"/>
                  </a:lnTo>
                  <a:lnTo>
                    <a:pt x="872" y="312"/>
                  </a:lnTo>
                  <a:lnTo>
                    <a:pt x="847" y="312"/>
                  </a:lnTo>
                  <a:lnTo>
                    <a:pt x="824" y="298"/>
                  </a:lnTo>
                  <a:lnTo>
                    <a:pt x="847" y="298"/>
                  </a:lnTo>
                  <a:lnTo>
                    <a:pt x="859" y="326"/>
                  </a:lnTo>
                  <a:lnTo>
                    <a:pt x="847" y="354"/>
                  </a:lnTo>
                  <a:lnTo>
                    <a:pt x="824" y="369"/>
                  </a:lnTo>
                  <a:lnTo>
                    <a:pt x="777" y="397"/>
                  </a:lnTo>
                  <a:lnTo>
                    <a:pt x="766" y="425"/>
                  </a:lnTo>
                  <a:lnTo>
                    <a:pt x="741" y="425"/>
                  </a:lnTo>
                  <a:lnTo>
                    <a:pt x="719" y="454"/>
                  </a:lnTo>
                  <a:lnTo>
                    <a:pt x="694" y="468"/>
                  </a:lnTo>
                  <a:lnTo>
                    <a:pt x="694" y="496"/>
                  </a:lnTo>
                  <a:lnTo>
                    <a:pt x="683" y="525"/>
                  </a:lnTo>
                  <a:lnTo>
                    <a:pt x="671" y="553"/>
                  </a:lnTo>
                  <a:lnTo>
                    <a:pt x="660" y="581"/>
                  </a:lnTo>
                  <a:lnTo>
                    <a:pt x="660" y="609"/>
                  </a:lnTo>
                  <a:lnTo>
                    <a:pt x="647" y="637"/>
                  </a:lnTo>
                  <a:lnTo>
                    <a:pt x="635" y="667"/>
                  </a:lnTo>
                  <a:lnTo>
                    <a:pt x="624" y="695"/>
                  </a:lnTo>
                  <a:lnTo>
                    <a:pt x="624" y="723"/>
                  </a:lnTo>
                  <a:lnTo>
                    <a:pt x="613" y="751"/>
                  </a:lnTo>
                  <a:lnTo>
                    <a:pt x="613" y="779"/>
                  </a:lnTo>
                  <a:lnTo>
                    <a:pt x="635" y="779"/>
                  </a:lnTo>
                  <a:lnTo>
                    <a:pt x="647" y="751"/>
                  </a:lnTo>
                  <a:lnTo>
                    <a:pt x="660" y="723"/>
                  </a:lnTo>
                  <a:lnTo>
                    <a:pt x="660" y="695"/>
                  </a:lnTo>
                  <a:lnTo>
                    <a:pt x="683" y="667"/>
                  </a:lnTo>
                  <a:lnTo>
                    <a:pt x="683" y="637"/>
                  </a:lnTo>
                  <a:lnTo>
                    <a:pt x="694" y="609"/>
                  </a:lnTo>
                  <a:lnTo>
                    <a:pt x="706" y="581"/>
                  </a:lnTo>
                  <a:lnTo>
                    <a:pt x="719" y="553"/>
                  </a:lnTo>
                  <a:lnTo>
                    <a:pt x="730" y="525"/>
                  </a:lnTo>
                  <a:lnTo>
                    <a:pt x="753" y="525"/>
                  </a:lnTo>
                  <a:lnTo>
                    <a:pt x="766" y="496"/>
                  </a:lnTo>
                  <a:lnTo>
                    <a:pt x="789" y="482"/>
                  </a:lnTo>
                  <a:lnTo>
                    <a:pt x="813" y="482"/>
                  </a:lnTo>
                  <a:lnTo>
                    <a:pt x="836" y="468"/>
                  </a:lnTo>
                  <a:lnTo>
                    <a:pt x="859" y="468"/>
                  </a:lnTo>
                  <a:lnTo>
                    <a:pt x="883" y="468"/>
                  </a:lnTo>
                  <a:lnTo>
                    <a:pt x="906" y="468"/>
                  </a:lnTo>
                  <a:lnTo>
                    <a:pt x="906" y="496"/>
                  </a:lnTo>
                  <a:lnTo>
                    <a:pt x="895" y="525"/>
                  </a:lnTo>
                  <a:lnTo>
                    <a:pt x="883" y="553"/>
                  </a:lnTo>
                  <a:lnTo>
                    <a:pt x="872" y="581"/>
                  </a:lnTo>
                  <a:lnTo>
                    <a:pt x="859" y="609"/>
                  </a:lnTo>
                  <a:lnTo>
                    <a:pt x="847" y="637"/>
                  </a:lnTo>
                  <a:lnTo>
                    <a:pt x="836" y="667"/>
                  </a:lnTo>
                  <a:lnTo>
                    <a:pt x="824" y="695"/>
                  </a:lnTo>
                  <a:lnTo>
                    <a:pt x="813" y="723"/>
                  </a:lnTo>
                  <a:lnTo>
                    <a:pt x="813" y="751"/>
                  </a:lnTo>
                  <a:lnTo>
                    <a:pt x="813" y="779"/>
                  </a:lnTo>
                  <a:lnTo>
                    <a:pt x="813" y="809"/>
                  </a:lnTo>
                  <a:lnTo>
                    <a:pt x="800" y="837"/>
                  </a:lnTo>
                  <a:lnTo>
                    <a:pt x="800" y="865"/>
                  </a:lnTo>
                  <a:lnTo>
                    <a:pt x="789" y="893"/>
                  </a:lnTo>
                  <a:lnTo>
                    <a:pt x="813" y="893"/>
                  </a:lnTo>
                  <a:lnTo>
                    <a:pt x="813" y="865"/>
                  </a:lnTo>
                  <a:lnTo>
                    <a:pt x="824" y="837"/>
                  </a:lnTo>
                  <a:lnTo>
                    <a:pt x="836" y="809"/>
                  </a:lnTo>
                  <a:lnTo>
                    <a:pt x="847" y="779"/>
                  </a:lnTo>
                  <a:lnTo>
                    <a:pt x="859" y="751"/>
                  </a:lnTo>
                  <a:lnTo>
                    <a:pt x="859" y="723"/>
                  </a:lnTo>
                  <a:lnTo>
                    <a:pt x="872" y="695"/>
                  </a:lnTo>
                  <a:lnTo>
                    <a:pt x="895" y="667"/>
                  </a:lnTo>
                  <a:lnTo>
                    <a:pt x="906" y="637"/>
                  </a:lnTo>
                  <a:lnTo>
                    <a:pt x="919" y="609"/>
                  </a:lnTo>
                  <a:lnTo>
                    <a:pt x="942" y="595"/>
                  </a:lnTo>
                  <a:lnTo>
                    <a:pt x="953" y="567"/>
                  </a:lnTo>
                  <a:lnTo>
                    <a:pt x="953" y="595"/>
                  </a:lnTo>
                  <a:lnTo>
                    <a:pt x="942" y="623"/>
                  </a:lnTo>
                  <a:lnTo>
                    <a:pt x="930" y="653"/>
                  </a:lnTo>
                  <a:lnTo>
                    <a:pt x="906" y="681"/>
                  </a:lnTo>
                  <a:lnTo>
                    <a:pt x="895" y="709"/>
                  </a:lnTo>
                  <a:lnTo>
                    <a:pt x="883" y="737"/>
                  </a:lnTo>
                  <a:lnTo>
                    <a:pt x="859" y="779"/>
                  </a:lnTo>
                  <a:lnTo>
                    <a:pt x="859" y="809"/>
                  </a:lnTo>
                  <a:lnTo>
                    <a:pt x="847" y="837"/>
                  </a:lnTo>
                  <a:lnTo>
                    <a:pt x="847" y="865"/>
                  </a:lnTo>
                  <a:lnTo>
                    <a:pt x="836" y="893"/>
                  </a:lnTo>
                  <a:lnTo>
                    <a:pt x="824" y="921"/>
                  </a:lnTo>
                  <a:lnTo>
                    <a:pt x="824" y="950"/>
                  </a:lnTo>
                  <a:lnTo>
                    <a:pt x="824" y="979"/>
                  </a:lnTo>
                  <a:lnTo>
                    <a:pt x="813" y="1007"/>
                  </a:lnTo>
                  <a:lnTo>
                    <a:pt x="813" y="1035"/>
                  </a:lnTo>
                  <a:lnTo>
                    <a:pt x="813" y="1063"/>
                  </a:lnTo>
                  <a:lnTo>
                    <a:pt x="813" y="1035"/>
                  </a:lnTo>
                  <a:lnTo>
                    <a:pt x="836" y="1021"/>
                  </a:lnTo>
                  <a:lnTo>
                    <a:pt x="847" y="993"/>
                  </a:lnTo>
                  <a:lnTo>
                    <a:pt x="859" y="964"/>
                  </a:lnTo>
                  <a:lnTo>
                    <a:pt x="872" y="936"/>
                  </a:lnTo>
                  <a:lnTo>
                    <a:pt x="895" y="921"/>
                  </a:lnTo>
                  <a:lnTo>
                    <a:pt x="906" y="893"/>
                  </a:lnTo>
                  <a:lnTo>
                    <a:pt x="919" y="865"/>
                  </a:lnTo>
                  <a:lnTo>
                    <a:pt x="919" y="893"/>
                  </a:lnTo>
                  <a:lnTo>
                    <a:pt x="906" y="921"/>
                  </a:lnTo>
                  <a:lnTo>
                    <a:pt x="883" y="950"/>
                  </a:lnTo>
                  <a:lnTo>
                    <a:pt x="872" y="979"/>
                  </a:lnTo>
                  <a:lnTo>
                    <a:pt x="859" y="1007"/>
                  </a:lnTo>
                  <a:lnTo>
                    <a:pt x="836" y="1021"/>
                  </a:lnTo>
                  <a:lnTo>
                    <a:pt x="824" y="1049"/>
                  </a:lnTo>
                  <a:lnTo>
                    <a:pt x="813" y="1078"/>
                  </a:lnTo>
                  <a:lnTo>
                    <a:pt x="800" y="1106"/>
                  </a:lnTo>
                  <a:lnTo>
                    <a:pt x="800" y="1134"/>
                  </a:lnTo>
                  <a:lnTo>
                    <a:pt x="800" y="1162"/>
                  </a:lnTo>
                  <a:lnTo>
                    <a:pt x="800" y="1191"/>
                  </a:lnTo>
                  <a:lnTo>
                    <a:pt x="813" y="1162"/>
                  </a:lnTo>
                  <a:lnTo>
                    <a:pt x="824" y="1134"/>
                  </a:lnTo>
                  <a:lnTo>
                    <a:pt x="836" y="1106"/>
                  </a:lnTo>
                  <a:lnTo>
                    <a:pt x="847" y="1078"/>
                  </a:lnTo>
                  <a:lnTo>
                    <a:pt x="859" y="1049"/>
                  </a:lnTo>
                  <a:lnTo>
                    <a:pt x="872" y="1021"/>
                  </a:lnTo>
                  <a:lnTo>
                    <a:pt x="895" y="1007"/>
                  </a:lnTo>
                  <a:lnTo>
                    <a:pt x="906" y="979"/>
                  </a:lnTo>
                  <a:lnTo>
                    <a:pt x="930" y="950"/>
                  </a:lnTo>
                  <a:lnTo>
                    <a:pt x="953" y="921"/>
                  </a:lnTo>
                  <a:lnTo>
                    <a:pt x="953" y="950"/>
                  </a:lnTo>
                  <a:lnTo>
                    <a:pt x="953" y="979"/>
                  </a:lnTo>
                  <a:lnTo>
                    <a:pt x="942" y="1007"/>
                  </a:lnTo>
                  <a:lnTo>
                    <a:pt x="930" y="1035"/>
                  </a:lnTo>
                  <a:lnTo>
                    <a:pt x="919" y="1063"/>
                  </a:lnTo>
                  <a:lnTo>
                    <a:pt x="906" y="1092"/>
                  </a:lnTo>
                  <a:lnTo>
                    <a:pt x="895" y="1120"/>
                  </a:lnTo>
                  <a:lnTo>
                    <a:pt x="883" y="1148"/>
                  </a:lnTo>
                  <a:lnTo>
                    <a:pt x="872" y="1176"/>
                  </a:lnTo>
                  <a:lnTo>
                    <a:pt x="859" y="1205"/>
                  </a:lnTo>
                  <a:lnTo>
                    <a:pt x="847" y="1234"/>
                  </a:lnTo>
                  <a:lnTo>
                    <a:pt x="847" y="1262"/>
                  </a:lnTo>
                  <a:lnTo>
                    <a:pt x="836" y="1290"/>
                  </a:lnTo>
                  <a:lnTo>
                    <a:pt x="836" y="1318"/>
                  </a:lnTo>
                  <a:lnTo>
                    <a:pt x="859" y="1332"/>
                  </a:lnTo>
                  <a:lnTo>
                    <a:pt x="872" y="1304"/>
                  </a:lnTo>
                  <a:lnTo>
                    <a:pt x="883" y="1276"/>
                  </a:lnTo>
                  <a:lnTo>
                    <a:pt x="895" y="1248"/>
                  </a:lnTo>
                  <a:lnTo>
                    <a:pt x="906" y="1220"/>
                  </a:lnTo>
                  <a:lnTo>
                    <a:pt x="919" y="1191"/>
                  </a:lnTo>
                  <a:lnTo>
                    <a:pt x="919" y="1162"/>
                  </a:lnTo>
                  <a:lnTo>
                    <a:pt x="930" y="1134"/>
                  </a:lnTo>
                  <a:lnTo>
                    <a:pt x="953" y="1106"/>
                  </a:lnTo>
                  <a:lnTo>
                    <a:pt x="965" y="1063"/>
                  </a:lnTo>
                  <a:lnTo>
                    <a:pt x="989" y="1035"/>
                  </a:lnTo>
                  <a:lnTo>
                    <a:pt x="1012" y="1007"/>
                  </a:lnTo>
                  <a:lnTo>
                    <a:pt x="1025" y="979"/>
                  </a:lnTo>
                  <a:lnTo>
                    <a:pt x="1036" y="950"/>
                  </a:lnTo>
                  <a:lnTo>
                    <a:pt x="1025" y="979"/>
                  </a:lnTo>
                  <a:lnTo>
                    <a:pt x="1001" y="1007"/>
                  </a:lnTo>
                  <a:lnTo>
                    <a:pt x="978" y="1035"/>
                  </a:lnTo>
                  <a:lnTo>
                    <a:pt x="965" y="1063"/>
                  </a:lnTo>
                  <a:lnTo>
                    <a:pt x="953" y="1092"/>
                  </a:lnTo>
                  <a:lnTo>
                    <a:pt x="953" y="1120"/>
                  </a:lnTo>
                  <a:lnTo>
                    <a:pt x="942" y="1148"/>
                  </a:lnTo>
                  <a:lnTo>
                    <a:pt x="930" y="1176"/>
                  </a:lnTo>
                  <a:lnTo>
                    <a:pt x="919" y="1205"/>
                  </a:lnTo>
                  <a:lnTo>
                    <a:pt x="906" y="1234"/>
                  </a:lnTo>
                  <a:lnTo>
                    <a:pt x="906" y="1262"/>
                  </a:lnTo>
                  <a:lnTo>
                    <a:pt x="906" y="1290"/>
                  </a:lnTo>
                  <a:lnTo>
                    <a:pt x="895" y="1318"/>
                  </a:lnTo>
                  <a:lnTo>
                    <a:pt x="883" y="1346"/>
                  </a:lnTo>
                  <a:lnTo>
                    <a:pt x="883" y="1376"/>
                  </a:lnTo>
                  <a:lnTo>
                    <a:pt x="872" y="1404"/>
                  </a:lnTo>
                  <a:lnTo>
                    <a:pt x="872" y="1432"/>
                  </a:lnTo>
                  <a:lnTo>
                    <a:pt x="895" y="1432"/>
                  </a:lnTo>
                  <a:lnTo>
                    <a:pt x="919" y="1446"/>
                  </a:lnTo>
                  <a:lnTo>
                    <a:pt x="919" y="1474"/>
                  </a:lnTo>
                  <a:lnTo>
                    <a:pt x="919" y="1503"/>
                  </a:lnTo>
                  <a:lnTo>
                    <a:pt x="919" y="1532"/>
                  </a:lnTo>
                  <a:lnTo>
                    <a:pt x="919" y="1560"/>
                  </a:lnTo>
                  <a:lnTo>
                    <a:pt x="942" y="1517"/>
                  </a:lnTo>
                  <a:lnTo>
                    <a:pt x="942" y="1488"/>
                  </a:lnTo>
                  <a:lnTo>
                    <a:pt x="942" y="1460"/>
                  </a:lnTo>
                  <a:lnTo>
                    <a:pt x="953" y="1418"/>
                  </a:lnTo>
                  <a:lnTo>
                    <a:pt x="953" y="1390"/>
                  </a:lnTo>
                  <a:lnTo>
                    <a:pt x="965" y="1362"/>
                  </a:lnTo>
                  <a:lnTo>
                    <a:pt x="978" y="1332"/>
                  </a:lnTo>
                  <a:lnTo>
                    <a:pt x="989" y="1304"/>
                  </a:lnTo>
                  <a:lnTo>
                    <a:pt x="1001" y="1276"/>
                  </a:lnTo>
                  <a:lnTo>
                    <a:pt x="1012" y="1248"/>
                  </a:lnTo>
                  <a:lnTo>
                    <a:pt x="1025" y="1220"/>
                  </a:lnTo>
                  <a:lnTo>
                    <a:pt x="1036" y="1191"/>
                  </a:lnTo>
                  <a:lnTo>
                    <a:pt x="1048" y="1162"/>
                  </a:lnTo>
                  <a:lnTo>
                    <a:pt x="1048" y="1134"/>
                  </a:lnTo>
                  <a:lnTo>
                    <a:pt x="1059" y="1106"/>
                  </a:lnTo>
                  <a:lnTo>
                    <a:pt x="1071" y="1078"/>
                  </a:lnTo>
                  <a:lnTo>
                    <a:pt x="1084" y="1049"/>
                  </a:lnTo>
                  <a:lnTo>
                    <a:pt x="1084" y="1021"/>
                  </a:lnTo>
                  <a:lnTo>
                    <a:pt x="1095" y="1063"/>
                  </a:lnTo>
                  <a:lnTo>
                    <a:pt x="1084" y="1092"/>
                  </a:lnTo>
                  <a:lnTo>
                    <a:pt x="1071" y="1134"/>
                  </a:lnTo>
                  <a:lnTo>
                    <a:pt x="1059" y="1162"/>
                  </a:lnTo>
                  <a:lnTo>
                    <a:pt x="1048" y="1191"/>
                  </a:lnTo>
                  <a:lnTo>
                    <a:pt x="1036" y="1220"/>
                  </a:lnTo>
                  <a:lnTo>
                    <a:pt x="1025" y="1248"/>
                  </a:lnTo>
                  <a:lnTo>
                    <a:pt x="1025" y="1276"/>
                  </a:lnTo>
                  <a:lnTo>
                    <a:pt x="1012" y="1304"/>
                  </a:lnTo>
                  <a:lnTo>
                    <a:pt x="1001" y="1332"/>
                  </a:lnTo>
                  <a:lnTo>
                    <a:pt x="1001" y="1362"/>
                  </a:lnTo>
                  <a:lnTo>
                    <a:pt x="989" y="1390"/>
                  </a:lnTo>
                  <a:lnTo>
                    <a:pt x="978" y="1418"/>
                  </a:lnTo>
                  <a:lnTo>
                    <a:pt x="978" y="1446"/>
                  </a:lnTo>
                  <a:lnTo>
                    <a:pt x="965" y="1474"/>
                  </a:lnTo>
                  <a:lnTo>
                    <a:pt x="965" y="1503"/>
                  </a:lnTo>
                  <a:lnTo>
                    <a:pt x="965" y="1532"/>
                  </a:lnTo>
                  <a:lnTo>
                    <a:pt x="953" y="1560"/>
                  </a:lnTo>
                  <a:lnTo>
                    <a:pt x="942" y="1588"/>
                  </a:lnTo>
                  <a:lnTo>
                    <a:pt x="942" y="1616"/>
                  </a:lnTo>
                  <a:lnTo>
                    <a:pt x="942" y="1645"/>
                  </a:lnTo>
                  <a:lnTo>
                    <a:pt x="930" y="1673"/>
                  </a:lnTo>
                  <a:lnTo>
                    <a:pt x="930" y="1701"/>
                  </a:lnTo>
                  <a:lnTo>
                    <a:pt x="942" y="1730"/>
                  </a:lnTo>
                  <a:lnTo>
                    <a:pt x="953" y="1758"/>
                  </a:lnTo>
                  <a:lnTo>
                    <a:pt x="953" y="1787"/>
                  </a:lnTo>
                  <a:lnTo>
                    <a:pt x="953" y="1815"/>
                  </a:lnTo>
                  <a:lnTo>
                    <a:pt x="953" y="1843"/>
                  </a:lnTo>
                  <a:lnTo>
                    <a:pt x="953" y="1885"/>
                  </a:lnTo>
                  <a:lnTo>
                    <a:pt x="953" y="1913"/>
                  </a:lnTo>
                  <a:lnTo>
                    <a:pt x="978" y="1929"/>
                  </a:lnTo>
                  <a:lnTo>
                    <a:pt x="978" y="1957"/>
                  </a:lnTo>
                  <a:lnTo>
                    <a:pt x="978" y="1985"/>
                  </a:lnTo>
                  <a:lnTo>
                    <a:pt x="965" y="2013"/>
                  </a:lnTo>
                  <a:lnTo>
                    <a:pt x="942" y="2013"/>
                  </a:lnTo>
                  <a:lnTo>
                    <a:pt x="919" y="2027"/>
                  </a:lnTo>
                  <a:lnTo>
                    <a:pt x="895" y="2041"/>
                  </a:lnTo>
                  <a:lnTo>
                    <a:pt x="872" y="2055"/>
                  </a:lnTo>
                  <a:lnTo>
                    <a:pt x="872" y="2085"/>
                  </a:lnTo>
                  <a:lnTo>
                    <a:pt x="847" y="2099"/>
                  </a:lnTo>
                  <a:lnTo>
                    <a:pt x="836" y="2127"/>
                  </a:lnTo>
                  <a:lnTo>
                    <a:pt x="824" y="2155"/>
                  </a:lnTo>
                  <a:lnTo>
                    <a:pt x="813" y="2183"/>
                  </a:lnTo>
                  <a:lnTo>
                    <a:pt x="800" y="2212"/>
                  </a:lnTo>
                  <a:lnTo>
                    <a:pt x="789" y="2240"/>
                  </a:lnTo>
                  <a:lnTo>
                    <a:pt x="777" y="2268"/>
                  </a:lnTo>
                  <a:lnTo>
                    <a:pt x="777" y="2297"/>
                  </a:lnTo>
                  <a:lnTo>
                    <a:pt x="766" y="2325"/>
                  </a:lnTo>
                  <a:lnTo>
                    <a:pt x="753" y="2354"/>
                  </a:lnTo>
                  <a:lnTo>
                    <a:pt x="741" y="2368"/>
                  </a:lnTo>
                  <a:lnTo>
                    <a:pt x="730" y="2339"/>
                  </a:lnTo>
                  <a:lnTo>
                    <a:pt x="741" y="2368"/>
                  </a:lnTo>
                  <a:lnTo>
                    <a:pt x="730" y="2396"/>
                  </a:lnTo>
                  <a:lnTo>
                    <a:pt x="706" y="2410"/>
                  </a:lnTo>
                  <a:lnTo>
                    <a:pt x="694" y="2438"/>
                  </a:lnTo>
                  <a:lnTo>
                    <a:pt x="683" y="2466"/>
                  </a:lnTo>
                  <a:lnTo>
                    <a:pt x="683" y="2496"/>
                  </a:lnTo>
                  <a:lnTo>
                    <a:pt x="683" y="2524"/>
                  </a:lnTo>
                  <a:lnTo>
                    <a:pt x="683" y="2552"/>
                  </a:lnTo>
                  <a:lnTo>
                    <a:pt x="706" y="2566"/>
                  </a:lnTo>
                  <a:lnTo>
                    <a:pt x="730" y="2566"/>
                  </a:lnTo>
                  <a:lnTo>
                    <a:pt x="753" y="2566"/>
                  </a:lnTo>
                  <a:lnTo>
                    <a:pt x="777" y="2566"/>
                  </a:lnTo>
                  <a:lnTo>
                    <a:pt x="800" y="2552"/>
                  </a:lnTo>
                  <a:lnTo>
                    <a:pt x="824" y="2552"/>
                  </a:lnTo>
                  <a:lnTo>
                    <a:pt x="847" y="2552"/>
                  </a:lnTo>
                  <a:lnTo>
                    <a:pt x="872" y="2538"/>
                  </a:lnTo>
                  <a:lnTo>
                    <a:pt x="895" y="2538"/>
                  </a:lnTo>
                  <a:lnTo>
                    <a:pt x="919" y="2538"/>
                  </a:lnTo>
                  <a:lnTo>
                    <a:pt x="942" y="2524"/>
                  </a:lnTo>
                  <a:lnTo>
                    <a:pt x="965" y="2524"/>
                  </a:lnTo>
                  <a:lnTo>
                    <a:pt x="989" y="2510"/>
                  </a:lnTo>
                  <a:lnTo>
                    <a:pt x="1012" y="2496"/>
                  </a:lnTo>
                  <a:lnTo>
                    <a:pt x="1036" y="2496"/>
                  </a:lnTo>
                  <a:lnTo>
                    <a:pt x="1059" y="2480"/>
                  </a:lnTo>
                  <a:lnTo>
                    <a:pt x="1084" y="2466"/>
                  </a:lnTo>
                  <a:lnTo>
                    <a:pt x="1107" y="2452"/>
                  </a:lnTo>
                  <a:lnTo>
                    <a:pt x="1131" y="2438"/>
                  </a:lnTo>
                  <a:lnTo>
                    <a:pt x="1154" y="2410"/>
                  </a:lnTo>
                  <a:lnTo>
                    <a:pt x="1190" y="2396"/>
                  </a:lnTo>
                  <a:lnTo>
                    <a:pt x="1213" y="2396"/>
                  </a:lnTo>
                  <a:lnTo>
                    <a:pt x="1237" y="2382"/>
                  </a:lnTo>
                  <a:lnTo>
                    <a:pt x="1260" y="2382"/>
                  </a:lnTo>
                  <a:lnTo>
                    <a:pt x="1283" y="2382"/>
                  </a:lnTo>
                  <a:lnTo>
                    <a:pt x="1307" y="2382"/>
                  </a:lnTo>
                  <a:lnTo>
                    <a:pt x="1330" y="2382"/>
                  </a:lnTo>
                  <a:lnTo>
                    <a:pt x="1354" y="2382"/>
                  </a:lnTo>
                  <a:lnTo>
                    <a:pt x="1377" y="2396"/>
                  </a:lnTo>
                  <a:lnTo>
                    <a:pt x="1402" y="2396"/>
                  </a:lnTo>
                  <a:lnTo>
                    <a:pt x="1425" y="2396"/>
                  </a:lnTo>
                  <a:lnTo>
                    <a:pt x="1449" y="2396"/>
                  </a:lnTo>
                  <a:lnTo>
                    <a:pt x="1472" y="2396"/>
                  </a:lnTo>
                  <a:lnTo>
                    <a:pt x="1496" y="2396"/>
                  </a:lnTo>
                  <a:lnTo>
                    <a:pt x="1519" y="2396"/>
                  </a:lnTo>
                  <a:lnTo>
                    <a:pt x="1542" y="2396"/>
                  </a:lnTo>
                  <a:lnTo>
                    <a:pt x="1566" y="2396"/>
                  </a:lnTo>
                  <a:lnTo>
                    <a:pt x="1542" y="2382"/>
                  </a:lnTo>
                  <a:lnTo>
                    <a:pt x="1519" y="2368"/>
                  </a:lnTo>
                  <a:lnTo>
                    <a:pt x="1496" y="2368"/>
                  </a:lnTo>
                  <a:lnTo>
                    <a:pt x="1472" y="2354"/>
                  </a:lnTo>
                  <a:lnTo>
                    <a:pt x="1449" y="2354"/>
                  </a:lnTo>
                  <a:lnTo>
                    <a:pt x="1425" y="2354"/>
                  </a:lnTo>
                  <a:lnTo>
                    <a:pt x="1402" y="2354"/>
                  </a:lnTo>
                  <a:lnTo>
                    <a:pt x="1377" y="2354"/>
                  </a:lnTo>
                  <a:lnTo>
                    <a:pt x="1354" y="2354"/>
                  </a:lnTo>
                  <a:lnTo>
                    <a:pt x="1330" y="2354"/>
                  </a:lnTo>
                  <a:lnTo>
                    <a:pt x="1307" y="2354"/>
                  </a:lnTo>
                  <a:lnTo>
                    <a:pt x="1307" y="2325"/>
                  </a:lnTo>
                  <a:lnTo>
                    <a:pt x="1330" y="2311"/>
                  </a:lnTo>
                  <a:lnTo>
                    <a:pt x="1354" y="2297"/>
                  </a:lnTo>
                  <a:lnTo>
                    <a:pt x="1377" y="2283"/>
                  </a:lnTo>
                  <a:lnTo>
                    <a:pt x="1402" y="2283"/>
                  </a:lnTo>
                  <a:lnTo>
                    <a:pt x="1425" y="2268"/>
                  </a:lnTo>
                  <a:lnTo>
                    <a:pt x="1449" y="2268"/>
                  </a:lnTo>
                  <a:lnTo>
                    <a:pt x="1472" y="2254"/>
                  </a:lnTo>
                  <a:lnTo>
                    <a:pt x="1496" y="2254"/>
                  </a:lnTo>
                  <a:lnTo>
                    <a:pt x="1519" y="2240"/>
                  </a:lnTo>
                  <a:lnTo>
                    <a:pt x="1531" y="2212"/>
                  </a:lnTo>
                  <a:lnTo>
                    <a:pt x="1555" y="2197"/>
                  </a:lnTo>
                  <a:lnTo>
                    <a:pt x="1555" y="2169"/>
                  </a:lnTo>
                  <a:lnTo>
                    <a:pt x="1531" y="2155"/>
                  </a:lnTo>
                  <a:lnTo>
                    <a:pt x="1508" y="2155"/>
                  </a:lnTo>
                  <a:lnTo>
                    <a:pt x="1483" y="2155"/>
                  </a:lnTo>
                  <a:lnTo>
                    <a:pt x="1460" y="2155"/>
                  </a:lnTo>
                  <a:lnTo>
                    <a:pt x="1436" y="2155"/>
                  </a:lnTo>
                  <a:lnTo>
                    <a:pt x="1413" y="2169"/>
                  </a:lnTo>
                  <a:lnTo>
                    <a:pt x="1390" y="2183"/>
                  </a:lnTo>
                  <a:lnTo>
                    <a:pt x="1366" y="2212"/>
                  </a:lnTo>
                  <a:lnTo>
                    <a:pt x="1377" y="2183"/>
                  </a:lnTo>
                  <a:lnTo>
                    <a:pt x="1402" y="2169"/>
                  </a:lnTo>
                  <a:lnTo>
                    <a:pt x="1425" y="2155"/>
                  </a:lnTo>
                  <a:lnTo>
                    <a:pt x="1436" y="2127"/>
                  </a:lnTo>
                  <a:lnTo>
                    <a:pt x="1460" y="2113"/>
                  </a:lnTo>
                  <a:lnTo>
                    <a:pt x="1483" y="2099"/>
                  </a:lnTo>
                  <a:lnTo>
                    <a:pt x="1508" y="2099"/>
                  </a:lnTo>
                  <a:lnTo>
                    <a:pt x="1531" y="2085"/>
                  </a:lnTo>
                  <a:lnTo>
                    <a:pt x="1555" y="2071"/>
                  </a:lnTo>
                  <a:lnTo>
                    <a:pt x="1602" y="2055"/>
                  </a:lnTo>
                  <a:lnTo>
                    <a:pt x="1625" y="2055"/>
                  </a:lnTo>
                  <a:lnTo>
                    <a:pt x="1648" y="2041"/>
                  </a:lnTo>
                  <a:lnTo>
                    <a:pt x="1672" y="2041"/>
                  </a:lnTo>
                  <a:lnTo>
                    <a:pt x="1695" y="2041"/>
                  </a:lnTo>
                  <a:lnTo>
                    <a:pt x="1720" y="2041"/>
                  </a:lnTo>
                  <a:lnTo>
                    <a:pt x="1720" y="2013"/>
                  </a:lnTo>
                  <a:lnTo>
                    <a:pt x="1720" y="1985"/>
                  </a:lnTo>
                  <a:lnTo>
                    <a:pt x="1708" y="1957"/>
                  </a:lnTo>
                  <a:lnTo>
                    <a:pt x="1661" y="1957"/>
                  </a:lnTo>
                  <a:lnTo>
                    <a:pt x="1637" y="1957"/>
                  </a:lnTo>
                  <a:lnTo>
                    <a:pt x="1602" y="1957"/>
                  </a:lnTo>
                  <a:lnTo>
                    <a:pt x="1578" y="1957"/>
                  </a:lnTo>
                  <a:lnTo>
                    <a:pt x="1542" y="1985"/>
                  </a:lnTo>
                  <a:lnTo>
                    <a:pt x="1519" y="1985"/>
                  </a:lnTo>
                  <a:lnTo>
                    <a:pt x="1496" y="1999"/>
                  </a:lnTo>
                  <a:lnTo>
                    <a:pt x="1483" y="2027"/>
                  </a:lnTo>
                  <a:lnTo>
                    <a:pt x="1496" y="1999"/>
                  </a:lnTo>
                  <a:lnTo>
                    <a:pt x="1519" y="1999"/>
                  </a:lnTo>
                  <a:lnTo>
                    <a:pt x="1542" y="1971"/>
                  </a:lnTo>
                  <a:lnTo>
                    <a:pt x="1566" y="1971"/>
                  </a:lnTo>
                  <a:lnTo>
                    <a:pt x="1589" y="1957"/>
                  </a:lnTo>
                  <a:lnTo>
                    <a:pt x="1614" y="1957"/>
                  </a:lnTo>
                  <a:lnTo>
                    <a:pt x="1637" y="1943"/>
                  </a:lnTo>
                  <a:lnTo>
                    <a:pt x="1661" y="1929"/>
                  </a:lnTo>
                  <a:lnTo>
                    <a:pt x="1684" y="1913"/>
                  </a:lnTo>
                  <a:lnTo>
                    <a:pt x="1695" y="1885"/>
                  </a:lnTo>
                  <a:lnTo>
                    <a:pt x="1695" y="1857"/>
                  </a:lnTo>
                  <a:lnTo>
                    <a:pt x="1672" y="1843"/>
                  </a:lnTo>
                  <a:lnTo>
                    <a:pt x="1648" y="1843"/>
                  </a:lnTo>
                  <a:lnTo>
                    <a:pt x="1625" y="1843"/>
                  </a:lnTo>
                  <a:lnTo>
                    <a:pt x="1602" y="1843"/>
                  </a:lnTo>
                  <a:lnTo>
                    <a:pt x="1578" y="1857"/>
                  </a:lnTo>
                  <a:lnTo>
                    <a:pt x="1555" y="1871"/>
                  </a:lnTo>
                  <a:lnTo>
                    <a:pt x="1531" y="1885"/>
                  </a:lnTo>
                  <a:lnTo>
                    <a:pt x="1508" y="1899"/>
                  </a:lnTo>
                  <a:lnTo>
                    <a:pt x="1496" y="1929"/>
                  </a:lnTo>
                  <a:lnTo>
                    <a:pt x="1472" y="1929"/>
                  </a:lnTo>
                  <a:lnTo>
                    <a:pt x="1449" y="1957"/>
                  </a:lnTo>
                  <a:lnTo>
                    <a:pt x="1436" y="1985"/>
                  </a:lnTo>
                  <a:lnTo>
                    <a:pt x="1413" y="1999"/>
                  </a:lnTo>
                  <a:lnTo>
                    <a:pt x="1402" y="2027"/>
                  </a:lnTo>
                  <a:lnTo>
                    <a:pt x="1377" y="2041"/>
                  </a:lnTo>
                  <a:lnTo>
                    <a:pt x="1366" y="2071"/>
                  </a:lnTo>
                  <a:lnTo>
                    <a:pt x="1343" y="2085"/>
                  </a:lnTo>
                  <a:lnTo>
                    <a:pt x="1343" y="2055"/>
                  </a:lnTo>
                  <a:lnTo>
                    <a:pt x="1366" y="2027"/>
                  </a:lnTo>
                  <a:lnTo>
                    <a:pt x="1390" y="1999"/>
                  </a:lnTo>
                  <a:lnTo>
                    <a:pt x="1413" y="1985"/>
                  </a:lnTo>
                  <a:lnTo>
                    <a:pt x="1425" y="1957"/>
                  </a:lnTo>
                  <a:lnTo>
                    <a:pt x="1449" y="1929"/>
                  </a:lnTo>
                  <a:lnTo>
                    <a:pt x="1472" y="1913"/>
                  </a:lnTo>
                  <a:lnTo>
                    <a:pt x="1483" y="1885"/>
                  </a:lnTo>
                  <a:lnTo>
                    <a:pt x="1508" y="1871"/>
                  </a:lnTo>
                  <a:lnTo>
                    <a:pt x="1531" y="1857"/>
                  </a:lnTo>
                  <a:lnTo>
                    <a:pt x="1555" y="1843"/>
                  </a:lnTo>
                  <a:lnTo>
                    <a:pt x="1578" y="1829"/>
                  </a:lnTo>
                  <a:lnTo>
                    <a:pt x="1602" y="1815"/>
                  </a:lnTo>
                  <a:lnTo>
                    <a:pt x="1602" y="1787"/>
                  </a:lnTo>
                  <a:lnTo>
                    <a:pt x="1578" y="1772"/>
                  </a:lnTo>
                  <a:lnTo>
                    <a:pt x="1555" y="1787"/>
                  </a:lnTo>
                  <a:lnTo>
                    <a:pt x="1531" y="1801"/>
                  </a:lnTo>
                  <a:lnTo>
                    <a:pt x="1508" y="1801"/>
                  </a:lnTo>
                  <a:lnTo>
                    <a:pt x="1531" y="1801"/>
                  </a:lnTo>
                  <a:lnTo>
                    <a:pt x="1555" y="1801"/>
                  </a:lnTo>
                  <a:lnTo>
                    <a:pt x="1578" y="1787"/>
                  </a:lnTo>
                  <a:lnTo>
                    <a:pt x="1602" y="1758"/>
                  </a:lnTo>
                  <a:lnTo>
                    <a:pt x="1614" y="1730"/>
                  </a:lnTo>
                  <a:lnTo>
                    <a:pt x="1614" y="1701"/>
                  </a:lnTo>
                  <a:lnTo>
                    <a:pt x="1614" y="1673"/>
                  </a:lnTo>
                  <a:lnTo>
                    <a:pt x="1589" y="1687"/>
                  </a:lnTo>
                  <a:lnTo>
                    <a:pt x="1566" y="1687"/>
                  </a:lnTo>
                  <a:lnTo>
                    <a:pt x="1589" y="1673"/>
                  </a:lnTo>
                  <a:lnTo>
                    <a:pt x="1614" y="1673"/>
                  </a:lnTo>
                  <a:lnTo>
                    <a:pt x="1637" y="1659"/>
                  </a:lnTo>
                  <a:lnTo>
                    <a:pt x="1661" y="1659"/>
                  </a:lnTo>
                  <a:lnTo>
                    <a:pt x="1684" y="1659"/>
                  </a:lnTo>
                  <a:lnTo>
                    <a:pt x="1708" y="1659"/>
                  </a:lnTo>
                  <a:lnTo>
                    <a:pt x="1731" y="1659"/>
                  </a:lnTo>
                  <a:lnTo>
                    <a:pt x="1754" y="1673"/>
                  </a:lnTo>
                  <a:lnTo>
                    <a:pt x="1778" y="1673"/>
                  </a:lnTo>
                  <a:lnTo>
                    <a:pt x="1801" y="1659"/>
                  </a:lnTo>
                  <a:lnTo>
                    <a:pt x="1814" y="1630"/>
                  </a:lnTo>
                  <a:lnTo>
                    <a:pt x="1826" y="1602"/>
                  </a:lnTo>
                  <a:lnTo>
                    <a:pt x="1837" y="1574"/>
                  </a:lnTo>
                  <a:lnTo>
                    <a:pt x="1814" y="1560"/>
                  </a:lnTo>
                  <a:lnTo>
                    <a:pt x="1790" y="1560"/>
                  </a:lnTo>
                  <a:lnTo>
                    <a:pt x="1767" y="1560"/>
                  </a:lnTo>
                  <a:lnTo>
                    <a:pt x="1743" y="1560"/>
                  </a:lnTo>
                  <a:lnTo>
                    <a:pt x="1720" y="1560"/>
                  </a:lnTo>
                  <a:lnTo>
                    <a:pt x="1695" y="1560"/>
                  </a:lnTo>
                  <a:lnTo>
                    <a:pt x="1672" y="1574"/>
                  </a:lnTo>
                  <a:lnTo>
                    <a:pt x="1648" y="1574"/>
                  </a:lnTo>
                  <a:lnTo>
                    <a:pt x="1625" y="1574"/>
                  </a:lnTo>
                  <a:lnTo>
                    <a:pt x="1602" y="1588"/>
                  </a:lnTo>
                  <a:lnTo>
                    <a:pt x="1578" y="1602"/>
                  </a:lnTo>
                  <a:lnTo>
                    <a:pt x="1602" y="1602"/>
                  </a:lnTo>
                  <a:lnTo>
                    <a:pt x="1625" y="1588"/>
                  </a:lnTo>
                  <a:lnTo>
                    <a:pt x="1625" y="1560"/>
                  </a:lnTo>
                  <a:lnTo>
                    <a:pt x="1602" y="1546"/>
                  </a:lnTo>
                  <a:lnTo>
                    <a:pt x="1625" y="1532"/>
                  </a:lnTo>
                  <a:lnTo>
                    <a:pt x="1648" y="1517"/>
                  </a:lnTo>
                  <a:lnTo>
                    <a:pt x="1661" y="1488"/>
                  </a:lnTo>
                  <a:lnTo>
                    <a:pt x="1637" y="1474"/>
                  </a:lnTo>
                  <a:lnTo>
                    <a:pt x="1614" y="1474"/>
                  </a:lnTo>
                  <a:lnTo>
                    <a:pt x="1589" y="1474"/>
                  </a:lnTo>
                  <a:lnTo>
                    <a:pt x="1566" y="1488"/>
                  </a:lnTo>
                  <a:lnTo>
                    <a:pt x="1542" y="1488"/>
                  </a:lnTo>
                  <a:lnTo>
                    <a:pt x="1566" y="1588"/>
                  </a:lnTo>
                  <a:lnTo>
                    <a:pt x="1566" y="1488"/>
                  </a:lnTo>
                  <a:lnTo>
                    <a:pt x="1589" y="1474"/>
                  </a:lnTo>
                  <a:lnTo>
                    <a:pt x="1614" y="1474"/>
                  </a:lnTo>
                  <a:lnTo>
                    <a:pt x="1637" y="1460"/>
                  </a:lnTo>
                  <a:lnTo>
                    <a:pt x="1661" y="1460"/>
                  </a:lnTo>
                  <a:lnTo>
                    <a:pt x="1684" y="1460"/>
                  </a:lnTo>
                  <a:lnTo>
                    <a:pt x="1708" y="1460"/>
                  </a:lnTo>
                  <a:lnTo>
                    <a:pt x="1731" y="1460"/>
                  </a:lnTo>
                  <a:lnTo>
                    <a:pt x="1754" y="1446"/>
                  </a:lnTo>
                  <a:lnTo>
                    <a:pt x="1743" y="1418"/>
                  </a:lnTo>
                  <a:lnTo>
                    <a:pt x="1720" y="1418"/>
                  </a:lnTo>
                  <a:lnTo>
                    <a:pt x="1695" y="1418"/>
                  </a:lnTo>
                  <a:lnTo>
                    <a:pt x="1672" y="1418"/>
                  </a:lnTo>
                  <a:lnTo>
                    <a:pt x="1648" y="1418"/>
                  </a:lnTo>
                  <a:lnTo>
                    <a:pt x="1625" y="1418"/>
                  </a:lnTo>
                  <a:lnTo>
                    <a:pt x="1602" y="1432"/>
                  </a:lnTo>
                  <a:lnTo>
                    <a:pt x="1578" y="1432"/>
                  </a:lnTo>
                  <a:lnTo>
                    <a:pt x="1555" y="1432"/>
                  </a:lnTo>
                  <a:lnTo>
                    <a:pt x="1555" y="1404"/>
                  </a:lnTo>
                  <a:lnTo>
                    <a:pt x="1578" y="1390"/>
                  </a:lnTo>
                  <a:lnTo>
                    <a:pt x="1602" y="1376"/>
                  </a:lnTo>
                  <a:lnTo>
                    <a:pt x="1625" y="1376"/>
                  </a:lnTo>
                  <a:lnTo>
                    <a:pt x="1648" y="1362"/>
                  </a:lnTo>
                  <a:lnTo>
                    <a:pt x="1672" y="1362"/>
                  </a:lnTo>
                  <a:lnTo>
                    <a:pt x="1695" y="1362"/>
                  </a:lnTo>
                  <a:lnTo>
                    <a:pt x="1720" y="1362"/>
                  </a:lnTo>
                  <a:lnTo>
                    <a:pt x="1743" y="1362"/>
                  </a:lnTo>
                  <a:lnTo>
                    <a:pt x="1767" y="1362"/>
                  </a:lnTo>
                  <a:lnTo>
                    <a:pt x="1790" y="1346"/>
                  </a:lnTo>
                  <a:lnTo>
                    <a:pt x="1790" y="1318"/>
                  </a:lnTo>
                  <a:lnTo>
                    <a:pt x="1778" y="1290"/>
                  </a:lnTo>
                  <a:lnTo>
                    <a:pt x="1754" y="1276"/>
                  </a:lnTo>
                  <a:lnTo>
                    <a:pt x="1731" y="1262"/>
                  </a:lnTo>
                  <a:lnTo>
                    <a:pt x="1708" y="1262"/>
                  </a:lnTo>
                  <a:lnTo>
                    <a:pt x="1684" y="1262"/>
                  </a:lnTo>
                  <a:lnTo>
                    <a:pt x="1661" y="1262"/>
                  </a:lnTo>
                  <a:lnTo>
                    <a:pt x="1637" y="1262"/>
                  </a:lnTo>
                  <a:lnTo>
                    <a:pt x="1614" y="1262"/>
                  </a:lnTo>
                  <a:lnTo>
                    <a:pt x="1589" y="1262"/>
                  </a:lnTo>
                  <a:lnTo>
                    <a:pt x="1566" y="1262"/>
                  </a:lnTo>
                  <a:lnTo>
                    <a:pt x="1542" y="1276"/>
                  </a:lnTo>
                  <a:lnTo>
                    <a:pt x="1519" y="1290"/>
                  </a:lnTo>
                  <a:lnTo>
                    <a:pt x="1519" y="1262"/>
                  </a:lnTo>
                  <a:lnTo>
                    <a:pt x="1542" y="1234"/>
                  </a:lnTo>
                  <a:lnTo>
                    <a:pt x="1566" y="1220"/>
                  </a:lnTo>
                  <a:lnTo>
                    <a:pt x="1589" y="1205"/>
                  </a:lnTo>
                  <a:lnTo>
                    <a:pt x="1614" y="1191"/>
                  </a:lnTo>
                  <a:lnTo>
                    <a:pt x="1637" y="1176"/>
                  </a:lnTo>
                  <a:lnTo>
                    <a:pt x="1708" y="1134"/>
                  </a:lnTo>
                  <a:lnTo>
                    <a:pt x="1731" y="1134"/>
                  </a:lnTo>
                  <a:lnTo>
                    <a:pt x="1754" y="1134"/>
                  </a:lnTo>
                  <a:lnTo>
                    <a:pt x="1778" y="1120"/>
                  </a:lnTo>
                  <a:lnTo>
                    <a:pt x="1801" y="1120"/>
                  </a:lnTo>
                  <a:lnTo>
                    <a:pt x="1826" y="1120"/>
                  </a:lnTo>
                  <a:lnTo>
                    <a:pt x="1849" y="1120"/>
                  </a:lnTo>
                  <a:lnTo>
                    <a:pt x="1873" y="1120"/>
                  </a:lnTo>
                  <a:lnTo>
                    <a:pt x="1896" y="1120"/>
                  </a:lnTo>
                  <a:lnTo>
                    <a:pt x="1920" y="1120"/>
                  </a:lnTo>
                  <a:lnTo>
                    <a:pt x="1943" y="1120"/>
                  </a:lnTo>
                  <a:lnTo>
                    <a:pt x="1967" y="1120"/>
                  </a:lnTo>
                  <a:lnTo>
                    <a:pt x="1990" y="1134"/>
                  </a:lnTo>
                  <a:lnTo>
                    <a:pt x="2002" y="1106"/>
                  </a:lnTo>
                  <a:lnTo>
                    <a:pt x="1979" y="1092"/>
                  </a:lnTo>
                  <a:lnTo>
                    <a:pt x="1955" y="1078"/>
                  </a:lnTo>
                  <a:lnTo>
                    <a:pt x="1932" y="1078"/>
                  </a:lnTo>
                  <a:lnTo>
                    <a:pt x="1907" y="1063"/>
                  </a:lnTo>
                  <a:lnTo>
                    <a:pt x="1932" y="1049"/>
                  </a:lnTo>
                  <a:lnTo>
                    <a:pt x="1955" y="1049"/>
                  </a:lnTo>
                  <a:lnTo>
                    <a:pt x="1979" y="1049"/>
                  </a:lnTo>
                  <a:lnTo>
                    <a:pt x="2002" y="1035"/>
                  </a:lnTo>
                  <a:lnTo>
                    <a:pt x="2026" y="1035"/>
                  </a:lnTo>
                  <a:lnTo>
                    <a:pt x="2049" y="1021"/>
                  </a:lnTo>
                  <a:lnTo>
                    <a:pt x="2073" y="1021"/>
                  </a:lnTo>
                  <a:lnTo>
                    <a:pt x="2096" y="1007"/>
                  </a:lnTo>
                  <a:lnTo>
                    <a:pt x="2073" y="993"/>
                  </a:lnTo>
                  <a:lnTo>
                    <a:pt x="2038" y="979"/>
                  </a:lnTo>
                  <a:lnTo>
                    <a:pt x="2013" y="964"/>
                  </a:lnTo>
                  <a:lnTo>
                    <a:pt x="1990" y="964"/>
                  </a:lnTo>
                  <a:lnTo>
                    <a:pt x="1967" y="964"/>
                  </a:lnTo>
                  <a:lnTo>
                    <a:pt x="1943" y="964"/>
                  </a:lnTo>
                  <a:lnTo>
                    <a:pt x="1920" y="964"/>
                  </a:lnTo>
                  <a:lnTo>
                    <a:pt x="1896" y="979"/>
                  </a:lnTo>
                  <a:lnTo>
                    <a:pt x="1873" y="979"/>
                  </a:lnTo>
                  <a:lnTo>
                    <a:pt x="1849" y="993"/>
                  </a:lnTo>
                  <a:lnTo>
                    <a:pt x="1826" y="1021"/>
                  </a:lnTo>
                  <a:lnTo>
                    <a:pt x="1801" y="1035"/>
                  </a:lnTo>
                  <a:lnTo>
                    <a:pt x="1778" y="1049"/>
                  </a:lnTo>
                  <a:lnTo>
                    <a:pt x="1767" y="1078"/>
                  </a:lnTo>
                  <a:lnTo>
                    <a:pt x="1743" y="1078"/>
                  </a:lnTo>
                  <a:lnTo>
                    <a:pt x="1778" y="1049"/>
                  </a:lnTo>
                  <a:lnTo>
                    <a:pt x="1801" y="1035"/>
                  </a:lnTo>
                  <a:lnTo>
                    <a:pt x="1826" y="1021"/>
                  </a:lnTo>
                  <a:lnTo>
                    <a:pt x="1861" y="993"/>
                  </a:lnTo>
                  <a:lnTo>
                    <a:pt x="1884" y="993"/>
                  </a:lnTo>
                  <a:lnTo>
                    <a:pt x="1907" y="979"/>
                  </a:lnTo>
                  <a:lnTo>
                    <a:pt x="1932" y="964"/>
                  </a:lnTo>
                  <a:lnTo>
                    <a:pt x="1943" y="936"/>
                  </a:lnTo>
                  <a:lnTo>
                    <a:pt x="1967" y="921"/>
                  </a:lnTo>
                  <a:lnTo>
                    <a:pt x="1979" y="893"/>
                  </a:lnTo>
                  <a:lnTo>
                    <a:pt x="1990" y="865"/>
                  </a:lnTo>
                  <a:lnTo>
                    <a:pt x="1967" y="851"/>
                  </a:lnTo>
                  <a:lnTo>
                    <a:pt x="1943" y="851"/>
                  </a:lnTo>
                  <a:lnTo>
                    <a:pt x="1920" y="865"/>
                  </a:lnTo>
                  <a:lnTo>
                    <a:pt x="1907" y="893"/>
                  </a:lnTo>
                  <a:lnTo>
                    <a:pt x="1884" y="907"/>
                  </a:lnTo>
                  <a:lnTo>
                    <a:pt x="1861" y="921"/>
                  </a:lnTo>
                  <a:lnTo>
                    <a:pt x="1837" y="936"/>
                  </a:lnTo>
                  <a:lnTo>
                    <a:pt x="1814" y="950"/>
                  </a:lnTo>
                  <a:lnTo>
                    <a:pt x="1801" y="979"/>
                  </a:lnTo>
                  <a:lnTo>
                    <a:pt x="1778" y="993"/>
                  </a:lnTo>
                  <a:lnTo>
                    <a:pt x="1801" y="964"/>
                  </a:lnTo>
                  <a:lnTo>
                    <a:pt x="1826" y="950"/>
                  </a:lnTo>
                  <a:lnTo>
                    <a:pt x="1849" y="936"/>
                  </a:lnTo>
                  <a:lnTo>
                    <a:pt x="1873" y="921"/>
                  </a:lnTo>
                  <a:lnTo>
                    <a:pt x="1896" y="907"/>
                  </a:lnTo>
                  <a:lnTo>
                    <a:pt x="1920" y="893"/>
                  </a:lnTo>
                  <a:lnTo>
                    <a:pt x="1943" y="879"/>
                  </a:lnTo>
                  <a:lnTo>
                    <a:pt x="1967" y="865"/>
                  </a:lnTo>
                  <a:lnTo>
                    <a:pt x="1979" y="837"/>
                  </a:lnTo>
                  <a:lnTo>
                    <a:pt x="1979" y="809"/>
                  </a:lnTo>
                  <a:lnTo>
                    <a:pt x="1955" y="795"/>
                  </a:lnTo>
                  <a:lnTo>
                    <a:pt x="1932" y="795"/>
                  </a:lnTo>
                  <a:lnTo>
                    <a:pt x="1907" y="795"/>
                  </a:lnTo>
                  <a:lnTo>
                    <a:pt x="1884" y="809"/>
                  </a:lnTo>
                  <a:lnTo>
                    <a:pt x="1873" y="837"/>
                  </a:lnTo>
                  <a:lnTo>
                    <a:pt x="1861" y="865"/>
                  </a:lnTo>
                  <a:lnTo>
                    <a:pt x="1849" y="893"/>
                  </a:lnTo>
                  <a:lnTo>
                    <a:pt x="1837" y="921"/>
                  </a:lnTo>
                  <a:lnTo>
                    <a:pt x="1814" y="950"/>
                  </a:lnTo>
                  <a:lnTo>
                    <a:pt x="1801" y="979"/>
                  </a:lnTo>
                  <a:lnTo>
                    <a:pt x="1778" y="1007"/>
                  </a:lnTo>
                  <a:lnTo>
                    <a:pt x="1767" y="979"/>
                  </a:lnTo>
                  <a:lnTo>
                    <a:pt x="1778" y="950"/>
                  </a:lnTo>
                  <a:lnTo>
                    <a:pt x="1790" y="921"/>
                  </a:lnTo>
                  <a:lnTo>
                    <a:pt x="1814" y="907"/>
                  </a:lnTo>
                  <a:lnTo>
                    <a:pt x="1837" y="893"/>
                  </a:lnTo>
                  <a:lnTo>
                    <a:pt x="1861" y="879"/>
                  </a:lnTo>
                  <a:lnTo>
                    <a:pt x="1873" y="851"/>
                  </a:lnTo>
                  <a:lnTo>
                    <a:pt x="1884" y="823"/>
                  </a:lnTo>
                  <a:lnTo>
                    <a:pt x="1896" y="795"/>
                  </a:lnTo>
                  <a:lnTo>
                    <a:pt x="1896" y="765"/>
                  </a:lnTo>
                  <a:lnTo>
                    <a:pt x="1873" y="751"/>
                  </a:lnTo>
                  <a:lnTo>
                    <a:pt x="1849" y="751"/>
                  </a:lnTo>
                  <a:lnTo>
                    <a:pt x="1837" y="779"/>
                  </a:lnTo>
                  <a:lnTo>
                    <a:pt x="1826" y="809"/>
                  </a:lnTo>
                  <a:lnTo>
                    <a:pt x="1814" y="837"/>
                  </a:lnTo>
                  <a:lnTo>
                    <a:pt x="1801" y="865"/>
                  </a:lnTo>
                  <a:lnTo>
                    <a:pt x="1790" y="893"/>
                  </a:lnTo>
                  <a:lnTo>
                    <a:pt x="1778" y="921"/>
                  </a:lnTo>
                  <a:lnTo>
                    <a:pt x="1754" y="950"/>
                  </a:lnTo>
                  <a:lnTo>
                    <a:pt x="1743" y="979"/>
                  </a:lnTo>
                  <a:lnTo>
                    <a:pt x="1720" y="993"/>
                  </a:lnTo>
                  <a:lnTo>
                    <a:pt x="1720" y="964"/>
                  </a:lnTo>
                  <a:lnTo>
                    <a:pt x="1720" y="936"/>
                  </a:lnTo>
                  <a:lnTo>
                    <a:pt x="1720" y="907"/>
                  </a:lnTo>
                  <a:lnTo>
                    <a:pt x="1731" y="879"/>
                  </a:lnTo>
                  <a:lnTo>
                    <a:pt x="1754" y="851"/>
                  </a:lnTo>
                  <a:lnTo>
                    <a:pt x="1778" y="823"/>
                  </a:lnTo>
                  <a:lnTo>
                    <a:pt x="1790" y="795"/>
                  </a:lnTo>
                  <a:lnTo>
                    <a:pt x="1801" y="751"/>
                  </a:lnTo>
                  <a:lnTo>
                    <a:pt x="1814" y="723"/>
                  </a:lnTo>
                  <a:lnTo>
                    <a:pt x="1814" y="695"/>
                  </a:lnTo>
                  <a:lnTo>
                    <a:pt x="1790" y="681"/>
                  </a:lnTo>
                  <a:lnTo>
                    <a:pt x="1767" y="695"/>
                  </a:lnTo>
                  <a:lnTo>
                    <a:pt x="1754" y="723"/>
                  </a:lnTo>
                  <a:lnTo>
                    <a:pt x="1743" y="751"/>
                  </a:lnTo>
                  <a:lnTo>
                    <a:pt x="1720" y="779"/>
                  </a:lnTo>
                  <a:lnTo>
                    <a:pt x="1708" y="809"/>
                  </a:lnTo>
                  <a:lnTo>
                    <a:pt x="1695" y="837"/>
                  </a:lnTo>
                  <a:lnTo>
                    <a:pt x="1684" y="865"/>
                  </a:lnTo>
                  <a:lnTo>
                    <a:pt x="1672" y="893"/>
                  </a:lnTo>
                  <a:lnTo>
                    <a:pt x="1648" y="907"/>
                  </a:lnTo>
                  <a:lnTo>
                    <a:pt x="1637" y="936"/>
                  </a:lnTo>
                  <a:lnTo>
                    <a:pt x="1625" y="964"/>
                  </a:lnTo>
                  <a:lnTo>
                    <a:pt x="1602" y="993"/>
                  </a:lnTo>
                  <a:lnTo>
                    <a:pt x="1602" y="1021"/>
                  </a:lnTo>
                  <a:lnTo>
                    <a:pt x="1578" y="1049"/>
                  </a:lnTo>
                  <a:lnTo>
                    <a:pt x="1566" y="1021"/>
                  </a:lnTo>
                  <a:lnTo>
                    <a:pt x="1566" y="993"/>
                  </a:lnTo>
                  <a:lnTo>
                    <a:pt x="1566" y="964"/>
                  </a:lnTo>
                  <a:lnTo>
                    <a:pt x="1578" y="936"/>
                  </a:lnTo>
                  <a:lnTo>
                    <a:pt x="1602" y="907"/>
                  </a:lnTo>
                  <a:lnTo>
                    <a:pt x="1614" y="879"/>
                  </a:lnTo>
                  <a:lnTo>
                    <a:pt x="1625" y="851"/>
                  </a:lnTo>
                  <a:lnTo>
                    <a:pt x="1637" y="823"/>
                  </a:lnTo>
                  <a:lnTo>
                    <a:pt x="1661" y="795"/>
                  </a:lnTo>
                  <a:lnTo>
                    <a:pt x="1672" y="765"/>
                  </a:lnTo>
                  <a:lnTo>
                    <a:pt x="1684" y="737"/>
                  </a:lnTo>
                  <a:lnTo>
                    <a:pt x="1708" y="723"/>
                  </a:lnTo>
                  <a:lnTo>
                    <a:pt x="1720" y="695"/>
                  </a:lnTo>
                  <a:lnTo>
                    <a:pt x="1708" y="667"/>
                  </a:lnTo>
                  <a:lnTo>
                    <a:pt x="1684" y="667"/>
                  </a:lnTo>
                  <a:lnTo>
                    <a:pt x="1661" y="681"/>
                  </a:lnTo>
                  <a:lnTo>
                    <a:pt x="1637" y="695"/>
                  </a:lnTo>
                  <a:lnTo>
                    <a:pt x="1625" y="723"/>
                  </a:lnTo>
                  <a:lnTo>
                    <a:pt x="1602" y="751"/>
                  </a:lnTo>
                  <a:lnTo>
                    <a:pt x="1589" y="779"/>
                  </a:lnTo>
                  <a:lnTo>
                    <a:pt x="1566" y="795"/>
                  </a:lnTo>
                  <a:lnTo>
                    <a:pt x="1589" y="795"/>
                  </a:lnTo>
                  <a:lnTo>
                    <a:pt x="1602" y="765"/>
                  </a:lnTo>
                  <a:lnTo>
                    <a:pt x="1625" y="737"/>
                  </a:lnTo>
                  <a:lnTo>
                    <a:pt x="1637" y="709"/>
                  </a:lnTo>
                  <a:lnTo>
                    <a:pt x="1637" y="681"/>
                  </a:lnTo>
                  <a:lnTo>
                    <a:pt x="1625" y="653"/>
                  </a:lnTo>
                  <a:lnTo>
                    <a:pt x="1602" y="653"/>
                  </a:lnTo>
                  <a:lnTo>
                    <a:pt x="1578" y="637"/>
                  </a:lnTo>
                  <a:lnTo>
                    <a:pt x="1555" y="623"/>
                  </a:lnTo>
                  <a:lnTo>
                    <a:pt x="1531" y="623"/>
                  </a:lnTo>
                  <a:lnTo>
                    <a:pt x="1508" y="623"/>
                  </a:lnTo>
                  <a:lnTo>
                    <a:pt x="1483" y="623"/>
                  </a:lnTo>
                  <a:lnTo>
                    <a:pt x="1460" y="623"/>
                  </a:lnTo>
                  <a:lnTo>
                    <a:pt x="1436" y="637"/>
                  </a:lnTo>
                  <a:lnTo>
                    <a:pt x="1413" y="653"/>
                  </a:lnTo>
                  <a:lnTo>
                    <a:pt x="1390" y="681"/>
                  </a:lnTo>
                  <a:lnTo>
                    <a:pt x="1377" y="709"/>
                  </a:lnTo>
                  <a:lnTo>
                    <a:pt x="1366" y="737"/>
                  </a:lnTo>
                  <a:lnTo>
                    <a:pt x="1354" y="765"/>
                  </a:lnTo>
                  <a:lnTo>
                    <a:pt x="1330" y="809"/>
                  </a:lnTo>
                  <a:lnTo>
                    <a:pt x="1319" y="837"/>
                  </a:lnTo>
                  <a:lnTo>
                    <a:pt x="1296" y="865"/>
                  </a:lnTo>
                  <a:lnTo>
                    <a:pt x="1296" y="837"/>
                  </a:lnTo>
                  <a:lnTo>
                    <a:pt x="1307" y="809"/>
                  </a:lnTo>
                  <a:lnTo>
                    <a:pt x="1319" y="779"/>
                  </a:lnTo>
                  <a:lnTo>
                    <a:pt x="1330" y="751"/>
                  </a:lnTo>
                  <a:lnTo>
                    <a:pt x="1343" y="723"/>
                  </a:lnTo>
                  <a:lnTo>
                    <a:pt x="1354" y="695"/>
                  </a:lnTo>
                  <a:lnTo>
                    <a:pt x="1366" y="667"/>
                  </a:lnTo>
                  <a:lnTo>
                    <a:pt x="1377" y="637"/>
                  </a:lnTo>
                  <a:lnTo>
                    <a:pt x="1354" y="637"/>
                  </a:lnTo>
                  <a:lnTo>
                    <a:pt x="1343" y="667"/>
                  </a:lnTo>
                  <a:lnTo>
                    <a:pt x="1330" y="695"/>
                  </a:lnTo>
                  <a:lnTo>
                    <a:pt x="1307" y="723"/>
                  </a:lnTo>
                  <a:lnTo>
                    <a:pt x="1296" y="751"/>
                  </a:lnTo>
                  <a:lnTo>
                    <a:pt x="1271" y="779"/>
                  </a:lnTo>
                  <a:lnTo>
                    <a:pt x="1260" y="809"/>
                  </a:lnTo>
                  <a:lnTo>
                    <a:pt x="1260" y="837"/>
                  </a:lnTo>
                  <a:lnTo>
                    <a:pt x="1237" y="865"/>
                  </a:lnTo>
                  <a:lnTo>
                    <a:pt x="1224" y="893"/>
                  </a:lnTo>
                  <a:lnTo>
                    <a:pt x="1201" y="907"/>
                  </a:lnTo>
                  <a:lnTo>
                    <a:pt x="1213" y="879"/>
                  </a:lnTo>
                  <a:lnTo>
                    <a:pt x="1224" y="851"/>
                  </a:lnTo>
                  <a:lnTo>
                    <a:pt x="1248" y="809"/>
                  </a:lnTo>
                  <a:lnTo>
                    <a:pt x="1283" y="779"/>
                  </a:lnTo>
                  <a:lnTo>
                    <a:pt x="1307" y="751"/>
                  </a:lnTo>
                  <a:lnTo>
                    <a:pt x="1319" y="709"/>
                  </a:lnTo>
                  <a:lnTo>
                    <a:pt x="1343" y="681"/>
                  </a:lnTo>
                  <a:lnTo>
                    <a:pt x="1343" y="653"/>
                  </a:lnTo>
                  <a:lnTo>
                    <a:pt x="1354" y="623"/>
                  </a:lnTo>
                  <a:lnTo>
                    <a:pt x="1366" y="595"/>
                  </a:lnTo>
                  <a:lnTo>
                    <a:pt x="1343" y="581"/>
                  </a:lnTo>
                  <a:lnTo>
                    <a:pt x="1319" y="595"/>
                  </a:lnTo>
                  <a:lnTo>
                    <a:pt x="1307" y="623"/>
                  </a:lnTo>
                  <a:lnTo>
                    <a:pt x="1296" y="653"/>
                  </a:lnTo>
                  <a:lnTo>
                    <a:pt x="1271" y="681"/>
                  </a:lnTo>
                  <a:lnTo>
                    <a:pt x="1260" y="709"/>
                  </a:lnTo>
                  <a:lnTo>
                    <a:pt x="1248" y="737"/>
                  </a:lnTo>
                  <a:lnTo>
                    <a:pt x="1248" y="765"/>
                  </a:lnTo>
                  <a:lnTo>
                    <a:pt x="1224" y="795"/>
                  </a:lnTo>
                  <a:lnTo>
                    <a:pt x="1213" y="823"/>
                  </a:lnTo>
                  <a:lnTo>
                    <a:pt x="1201" y="851"/>
                  </a:lnTo>
                  <a:lnTo>
                    <a:pt x="1201" y="809"/>
                  </a:lnTo>
                  <a:lnTo>
                    <a:pt x="1213" y="779"/>
                  </a:lnTo>
                  <a:lnTo>
                    <a:pt x="1248" y="737"/>
                  </a:lnTo>
                  <a:lnTo>
                    <a:pt x="1307" y="653"/>
                  </a:lnTo>
                  <a:lnTo>
                    <a:pt x="1319" y="623"/>
                  </a:lnTo>
                  <a:lnTo>
                    <a:pt x="1330" y="595"/>
                  </a:lnTo>
                  <a:lnTo>
                    <a:pt x="1343" y="567"/>
                  </a:lnTo>
                  <a:lnTo>
                    <a:pt x="1319" y="553"/>
                  </a:lnTo>
                  <a:lnTo>
                    <a:pt x="1296" y="567"/>
                  </a:lnTo>
                  <a:lnTo>
                    <a:pt x="1283" y="595"/>
                  </a:lnTo>
                  <a:lnTo>
                    <a:pt x="1260" y="623"/>
                  </a:lnTo>
                  <a:lnTo>
                    <a:pt x="1248" y="653"/>
                  </a:lnTo>
                  <a:lnTo>
                    <a:pt x="1224" y="681"/>
                  </a:lnTo>
                  <a:lnTo>
                    <a:pt x="1213" y="709"/>
                  </a:lnTo>
                  <a:lnTo>
                    <a:pt x="1201" y="737"/>
                  </a:lnTo>
                  <a:lnTo>
                    <a:pt x="1190" y="765"/>
                  </a:lnTo>
                  <a:lnTo>
                    <a:pt x="1190" y="795"/>
                  </a:lnTo>
                  <a:lnTo>
                    <a:pt x="1165" y="823"/>
                  </a:lnTo>
                  <a:lnTo>
                    <a:pt x="1154" y="851"/>
                  </a:lnTo>
                  <a:lnTo>
                    <a:pt x="1142" y="879"/>
                  </a:lnTo>
                  <a:lnTo>
                    <a:pt x="1131" y="907"/>
                  </a:lnTo>
                  <a:lnTo>
                    <a:pt x="1118" y="936"/>
                  </a:lnTo>
                  <a:lnTo>
                    <a:pt x="1118" y="907"/>
                  </a:lnTo>
                  <a:lnTo>
                    <a:pt x="1131" y="879"/>
                  </a:lnTo>
                  <a:lnTo>
                    <a:pt x="1154" y="851"/>
                  </a:lnTo>
                  <a:lnTo>
                    <a:pt x="1165" y="823"/>
                  </a:lnTo>
                  <a:lnTo>
                    <a:pt x="1177" y="795"/>
                  </a:lnTo>
                  <a:lnTo>
                    <a:pt x="1201" y="751"/>
                  </a:lnTo>
                  <a:lnTo>
                    <a:pt x="1213" y="723"/>
                  </a:lnTo>
                  <a:lnTo>
                    <a:pt x="1224" y="695"/>
                  </a:lnTo>
                  <a:lnTo>
                    <a:pt x="1248" y="667"/>
                  </a:lnTo>
                  <a:lnTo>
                    <a:pt x="1260" y="637"/>
                  </a:lnTo>
                  <a:lnTo>
                    <a:pt x="1271" y="609"/>
                  </a:lnTo>
                  <a:lnTo>
                    <a:pt x="1283" y="581"/>
                  </a:lnTo>
                  <a:lnTo>
                    <a:pt x="1283" y="553"/>
                  </a:lnTo>
                  <a:lnTo>
                    <a:pt x="1283" y="525"/>
                  </a:lnTo>
                  <a:lnTo>
                    <a:pt x="1260" y="511"/>
                  </a:lnTo>
                  <a:lnTo>
                    <a:pt x="1248" y="539"/>
                  </a:lnTo>
                  <a:lnTo>
                    <a:pt x="1248" y="567"/>
                  </a:lnTo>
                  <a:lnTo>
                    <a:pt x="1224" y="581"/>
                  </a:lnTo>
                  <a:lnTo>
                    <a:pt x="1224" y="581"/>
                  </a:lnTo>
                  <a:lnTo>
                    <a:pt x="1248" y="581"/>
                  </a:lnTo>
                  <a:lnTo>
                    <a:pt x="1271" y="567"/>
                  </a:lnTo>
                  <a:lnTo>
                    <a:pt x="1283" y="539"/>
                  </a:lnTo>
                  <a:lnTo>
                    <a:pt x="1283" y="511"/>
                  </a:lnTo>
                  <a:lnTo>
                    <a:pt x="1260" y="511"/>
                  </a:lnTo>
                  <a:lnTo>
                    <a:pt x="1237" y="525"/>
                  </a:lnTo>
                  <a:lnTo>
                    <a:pt x="1213" y="553"/>
                  </a:lnTo>
                  <a:lnTo>
                    <a:pt x="1190" y="567"/>
                  </a:lnTo>
                  <a:lnTo>
                    <a:pt x="1165" y="595"/>
                  </a:lnTo>
                  <a:lnTo>
                    <a:pt x="1165" y="567"/>
                  </a:lnTo>
                  <a:lnTo>
                    <a:pt x="1165" y="539"/>
                  </a:lnTo>
                  <a:lnTo>
                    <a:pt x="1165" y="511"/>
                  </a:lnTo>
                  <a:lnTo>
                    <a:pt x="1165" y="482"/>
                  </a:lnTo>
                  <a:lnTo>
                    <a:pt x="1165" y="454"/>
                  </a:lnTo>
                  <a:lnTo>
                    <a:pt x="1142" y="440"/>
                  </a:lnTo>
                  <a:lnTo>
                    <a:pt x="1107" y="440"/>
                  </a:lnTo>
                  <a:lnTo>
                    <a:pt x="1084" y="440"/>
                  </a:lnTo>
                  <a:lnTo>
                    <a:pt x="1095" y="411"/>
                  </a:lnTo>
                  <a:lnTo>
                    <a:pt x="1095" y="383"/>
                  </a:lnTo>
                  <a:lnTo>
                    <a:pt x="1107" y="354"/>
                  </a:lnTo>
                  <a:lnTo>
                    <a:pt x="1107" y="326"/>
                  </a:lnTo>
                  <a:lnTo>
                    <a:pt x="1107" y="298"/>
                  </a:lnTo>
                  <a:lnTo>
                    <a:pt x="1084" y="284"/>
                  </a:lnTo>
                  <a:lnTo>
                    <a:pt x="1059" y="284"/>
                  </a:lnTo>
                  <a:lnTo>
                    <a:pt x="1036" y="284"/>
                  </a:lnTo>
                  <a:lnTo>
                    <a:pt x="1012" y="284"/>
                  </a:lnTo>
                  <a:lnTo>
                    <a:pt x="989" y="270"/>
                  </a:lnTo>
                  <a:lnTo>
                    <a:pt x="978" y="242"/>
                  </a:lnTo>
                  <a:lnTo>
                    <a:pt x="953" y="228"/>
                  </a:lnTo>
                  <a:lnTo>
                    <a:pt x="930" y="212"/>
                  </a:lnTo>
                  <a:lnTo>
                    <a:pt x="906" y="198"/>
                  </a:lnTo>
                  <a:lnTo>
                    <a:pt x="883" y="184"/>
                  </a:lnTo>
                  <a:lnTo>
                    <a:pt x="872" y="156"/>
                  </a:lnTo>
                  <a:lnTo>
                    <a:pt x="847" y="156"/>
                  </a:lnTo>
                  <a:lnTo>
                    <a:pt x="824" y="142"/>
                  </a:lnTo>
                  <a:lnTo>
                    <a:pt x="800" y="128"/>
                  </a:lnTo>
                  <a:lnTo>
                    <a:pt x="777" y="114"/>
                  </a:lnTo>
                  <a:lnTo>
                    <a:pt x="741" y="100"/>
                  </a:lnTo>
                  <a:lnTo>
                    <a:pt x="719" y="100"/>
                  </a:lnTo>
                  <a:lnTo>
                    <a:pt x="694" y="86"/>
                  </a:lnTo>
                  <a:lnTo>
                    <a:pt x="671" y="70"/>
                  </a:lnTo>
                  <a:lnTo>
                    <a:pt x="647" y="56"/>
                  </a:lnTo>
                  <a:lnTo>
                    <a:pt x="624" y="56"/>
                  </a:lnTo>
                  <a:lnTo>
                    <a:pt x="600" y="42"/>
                  </a:lnTo>
                  <a:lnTo>
                    <a:pt x="577" y="28"/>
                  </a:lnTo>
                  <a:lnTo>
                    <a:pt x="554" y="28"/>
                  </a:lnTo>
                  <a:lnTo>
                    <a:pt x="530" y="28"/>
                  </a:lnTo>
                  <a:lnTo>
                    <a:pt x="507" y="14"/>
                  </a:lnTo>
                  <a:lnTo>
                    <a:pt x="471" y="14"/>
                  </a:lnTo>
                  <a:lnTo>
                    <a:pt x="448" y="14"/>
                  </a:lnTo>
                  <a:lnTo>
                    <a:pt x="424" y="14"/>
                  </a:lnTo>
                  <a:lnTo>
                    <a:pt x="401" y="14"/>
                  </a:lnTo>
                  <a:lnTo>
                    <a:pt x="376" y="14"/>
                  </a:lnTo>
                  <a:lnTo>
                    <a:pt x="353" y="14"/>
                  </a:lnTo>
                  <a:lnTo>
                    <a:pt x="329" y="14"/>
                  </a:lnTo>
                  <a:lnTo>
                    <a:pt x="306" y="14"/>
                  </a:lnTo>
                  <a:lnTo>
                    <a:pt x="282" y="14"/>
                  </a:lnTo>
                  <a:lnTo>
                    <a:pt x="259" y="0"/>
                  </a:lnTo>
                  <a:lnTo>
                    <a:pt x="235" y="0"/>
                  </a:lnTo>
                  <a:lnTo>
                    <a:pt x="212" y="0"/>
                  </a:lnTo>
                  <a:lnTo>
                    <a:pt x="189" y="0"/>
                  </a:lnTo>
                  <a:lnTo>
                    <a:pt x="164" y="0"/>
                  </a:lnTo>
                  <a:lnTo>
                    <a:pt x="141" y="0"/>
                  </a:lnTo>
                  <a:lnTo>
                    <a:pt x="117" y="0"/>
                  </a:lnTo>
                  <a:lnTo>
                    <a:pt x="94" y="14"/>
                  </a:lnTo>
                  <a:lnTo>
                    <a:pt x="70" y="14"/>
                  </a:lnTo>
                  <a:lnTo>
                    <a:pt x="47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eff"/>
            </a:solidFill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981840" y="3743280"/>
              <a:ext cx="317160" cy="135000"/>
            </a:xfrm>
            <a:custGeom>
              <a:avLst/>
              <a:gdLst/>
              <a:ahLst/>
              <a:rect l="l" t="t" r="r" b="b"/>
              <a:pathLst>
                <a:path w="600" h="255">
                  <a:moveTo>
                    <a:pt x="600" y="0"/>
                  </a:moveTo>
                  <a:lnTo>
                    <a:pt x="577" y="14"/>
                  </a:lnTo>
                  <a:lnTo>
                    <a:pt x="553" y="28"/>
                  </a:lnTo>
                  <a:lnTo>
                    <a:pt x="530" y="28"/>
                  </a:lnTo>
                  <a:lnTo>
                    <a:pt x="505" y="42"/>
                  </a:lnTo>
                  <a:lnTo>
                    <a:pt x="482" y="56"/>
                  </a:lnTo>
                  <a:lnTo>
                    <a:pt x="458" y="56"/>
                  </a:lnTo>
                  <a:lnTo>
                    <a:pt x="435" y="71"/>
                  </a:lnTo>
                  <a:lnTo>
                    <a:pt x="412" y="85"/>
                  </a:lnTo>
                  <a:lnTo>
                    <a:pt x="388" y="85"/>
                  </a:lnTo>
                  <a:lnTo>
                    <a:pt x="365" y="99"/>
                  </a:lnTo>
                  <a:lnTo>
                    <a:pt x="341" y="99"/>
                  </a:lnTo>
                  <a:lnTo>
                    <a:pt x="318" y="113"/>
                  </a:lnTo>
                  <a:lnTo>
                    <a:pt x="293" y="127"/>
                  </a:lnTo>
                  <a:lnTo>
                    <a:pt x="247" y="127"/>
                  </a:lnTo>
                  <a:lnTo>
                    <a:pt x="223" y="142"/>
                  </a:lnTo>
                  <a:lnTo>
                    <a:pt x="200" y="156"/>
                  </a:lnTo>
                  <a:lnTo>
                    <a:pt x="176" y="170"/>
                  </a:lnTo>
                  <a:lnTo>
                    <a:pt x="164" y="199"/>
                  </a:lnTo>
                  <a:lnTo>
                    <a:pt x="141" y="213"/>
                  </a:lnTo>
                  <a:lnTo>
                    <a:pt x="117" y="227"/>
                  </a:lnTo>
                  <a:lnTo>
                    <a:pt x="94" y="241"/>
                  </a:lnTo>
                  <a:lnTo>
                    <a:pt x="70" y="241"/>
                  </a:lnTo>
                  <a:lnTo>
                    <a:pt x="47" y="241"/>
                  </a:lnTo>
                  <a:lnTo>
                    <a:pt x="23" y="255"/>
                  </a:lnTo>
                  <a:lnTo>
                    <a:pt x="0" y="255"/>
                  </a:lnTo>
                  <a:lnTo>
                    <a:pt x="58" y="241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800760" y="2963880"/>
              <a:ext cx="37800" cy="6120"/>
            </a:xfrm>
            <a:custGeom>
              <a:avLst/>
              <a:gdLst/>
              <a:ahLst/>
              <a:rect l="l" t="t" r="r" b="b"/>
              <a:pathLst>
                <a:path w="70" h="14">
                  <a:moveTo>
                    <a:pt x="0" y="0"/>
                  </a:moveTo>
                  <a:lnTo>
                    <a:pt x="22" y="0"/>
                  </a:lnTo>
                  <a:lnTo>
                    <a:pt x="47" y="0"/>
                  </a:lnTo>
                  <a:lnTo>
                    <a:pt x="70" y="14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024680" y="3443040"/>
              <a:ext cx="250560" cy="179640"/>
            </a:xfrm>
            <a:custGeom>
              <a:avLst/>
              <a:gdLst/>
              <a:ahLst/>
              <a:rect l="l" t="t" r="r" b="b"/>
              <a:pathLst>
                <a:path w="472" h="339">
                  <a:moveTo>
                    <a:pt x="472" y="0"/>
                  </a:moveTo>
                  <a:lnTo>
                    <a:pt x="449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7" y="28"/>
                  </a:lnTo>
                  <a:lnTo>
                    <a:pt x="354" y="28"/>
                  </a:lnTo>
                  <a:lnTo>
                    <a:pt x="330" y="28"/>
                  </a:lnTo>
                  <a:lnTo>
                    <a:pt x="307" y="42"/>
                  </a:lnTo>
                  <a:lnTo>
                    <a:pt x="283" y="56"/>
                  </a:lnTo>
                  <a:lnTo>
                    <a:pt x="260" y="56"/>
                  </a:lnTo>
                  <a:lnTo>
                    <a:pt x="237" y="85"/>
                  </a:lnTo>
                  <a:lnTo>
                    <a:pt x="212" y="99"/>
                  </a:lnTo>
                  <a:lnTo>
                    <a:pt x="189" y="113"/>
                  </a:lnTo>
                  <a:lnTo>
                    <a:pt x="165" y="127"/>
                  </a:lnTo>
                  <a:lnTo>
                    <a:pt x="154" y="155"/>
                  </a:lnTo>
                  <a:lnTo>
                    <a:pt x="129" y="170"/>
                  </a:lnTo>
                  <a:lnTo>
                    <a:pt x="118" y="198"/>
                  </a:lnTo>
                  <a:lnTo>
                    <a:pt x="95" y="226"/>
                  </a:lnTo>
                  <a:lnTo>
                    <a:pt x="83" y="255"/>
                  </a:lnTo>
                  <a:lnTo>
                    <a:pt x="59" y="283"/>
                  </a:lnTo>
                  <a:lnTo>
                    <a:pt x="36" y="283"/>
                  </a:lnTo>
                  <a:lnTo>
                    <a:pt x="12" y="311"/>
                  </a:lnTo>
                  <a:lnTo>
                    <a:pt x="0" y="339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75440" y="3503520"/>
              <a:ext cx="248760" cy="179280"/>
            </a:xfrm>
            <a:custGeom>
              <a:avLst/>
              <a:gdLst/>
              <a:ahLst/>
              <a:rect l="l" t="t" r="r" b="b"/>
              <a:pathLst>
                <a:path w="471" h="340">
                  <a:moveTo>
                    <a:pt x="471" y="0"/>
                  </a:moveTo>
                  <a:lnTo>
                    <a:pt x="448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6" y="28"/>
                  </a:lnTo>
                  <a:lnTo>
                    <a:pt x="353" y="28"/>
                  </a:lnTo>
                  <a:lnTo>
                    <a:pt x="329" y="28"/>
                  </a:lnTo>
                  <a:lnTo>
                    <a:pt x="306" y="42"/>
                  </a:lnTo>
                  <a:lnTo>
                    <a:pt x="282" y="57"/>
                  </a:lnTo>
                  <a:lnTo>
                    <a:pt x="259" y="57"/>
                  </a:lnTo>
                  <a:lnTo>
                    <a:pt x="236" y="86"/>
                  </a:lnTo>
                  <a:lnTo>
                    <a:pt x="212" y="100"/>
                  </a:lnTo>
                  <a:lnTo>
                    <a:pt x="189" y="114"/>
                  </a:lnTo>
                  <a:lnTo>
                    <a:pt x="164" y="128"/>
                  </a:lnTo>
                  <a:lnTo>
                    <a:pt x="153" y="156"/>
                  </a:lnTo>
                  <a:lnTo>
                    <a:pt x="129" y="170"/>
                  </a:lnTo>
                  <a:lnTo>
                    <a:pt x="117" y="198"/>
                  </a:lnTo>
                  <a:lnTo>
                    <a:pt x="94" y="226"/>
                  </a:lnTo>
                  <a:lnTo>
                    <a:pt x="83" y="256"/>
                  </a:lnTo>
                  <a:lnTo>
                    <a:pt x="58" y="284"/>
                  </a:lnTo>
                  <a:lnTo>
                    <a:pt x="35" y="284"/>
                  </a:lnTo>
                  <a:lnTo>
                    <a:pt x="11" y="312"/>
                  </a:lnTo>
                  <a:lnTo>
                    <a:pt x="0" y="34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124760" y="3563640"/>
              <a:ext cx="248760" cy="179640"/>
            </a:xfrm>
            <a:custGeom>
              <a:avLst/>
              <a:gdLst/>
              <a:ahLst/>
              <a:rect l="l" t="t" r="r" b="b"/>
              <a:pathLst>
                <a:path w="471" h="340">
                  <a:moveTo>
                    <a:pt x="471" y="0"/>
                  </a:moveTo>
                  <a:lnTo>
                    <a:pt x="448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7" y="28"/>
                  </a:lnTo>
                  <a:lnTo>
                    <a:pt x="354" y="28"/>
                  </a:lnTo>
                  <a:lnTo>
                    <a:pt x="330" y="28"/>
                  </a:lnTo>
                  <a:lnTo>
                    <a:pt x="307" y="42"/>
                  </a:lnTo>
                  <a:lnTo>
                    <a:pt x="282" y="56"/>
                  </a:lnTo>
                  <a:lnTo>
                    <a:pt x="259" y="56"/>
                  </a:lnTo>
                  <a:lnTo>
                    <a:pt x="236" y="86"/>
                  </a:lnTo>
                  <a:lnTo>
                    <a:pt x="212" y="100"/>
                  </a:lnTo>
                  <a:lnTo>
                    <a:pt x="189" y="114"/>
                  </a:lnTo>
                  <a:lnTo>
                    <a:pt x="165" y="128"/>
                  </a:lnTo>
                  <a:lnTo>
                    <a:pt x="153" y="156"/>
                  </a:lnTo>
                  <a:lnTo>
                    <a:pt x="129" y="170"/>
                  </a:lnTo>
                  <a:lnTo>
                    <a:pt x="118" y="198"/>
                  </a:lnTo>
                  <a:lnTo>
                    <a:pt x="95" y="226"/>
                  </a:lnTo>
                  <a:lnTo>
                    <a:pt x="83" y="255"/>
                  </a:lnTo>
                  <a:lnTo>
                    <a:pt x="59" y="284"/>
                  </a:lnTo>
                  <a:lnTo>
                    <a:pt x="36" y="284"/>
                  </a:lnTo>
                  <a:lnTo>
                    <a:pt x="12" y="312"/>
                  </a:lnTo>
                  <a:lnTo>
                    <a:pt x="0" y="34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000920" y="3728880"/>
              <a:ext cx="248760" cy="179280"/>
            </a:xfrm>
            <a:custGeom>
              <a:avLst/>
              <a:gdLst/>
              <a:ahLst/>
              <a:rect l="l" t="t" r="r" b="b"/>
              <a:pathLst>
                <a:path w="471" h="339">
                  <a:moveTo>
                    <a:pt x="471" y="0"/>
                  </a:moveTo>
                  <a:lnTo>
                    <a:pt x="448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7" y="28"/>
                  </a:lnTo>
                  <a:lnTo>
                    <a:pt x="354" y="28"/>
                  </a:lnTo>
                  <a:lnTo>
                    <a:pt x="330" y="28"/>
                  </a:lnTo>
                  <a:lnTo>
                    <a:pt x="307" y="42"/>
                  </a:lnTo>
                  <a:lnTo>
                    <a:pt x="282" y="56"/>
                  </a:lnTo>
                  <a:lnTo>
                    <a:pt x="259" y="56"/>
                  </a:lnTo>
                  <a:lnTo>
                    <a:pt x="236" y="85"/>
                  </a:lnTo>
                  <a:lnTo>
                    <a:pt x="212" y="99"/>
                  </a:lnTo>
                  <a:lnTo>
                    <a:pt x="189" y="113"/>
                  </a:lnTo>
                  <a:lnTo>
                    <a:pt x="165" y="127"/>
                  </a:lnTo>
                  <a:lnTo>
                    <a:pt x="153" y="155"/>
                  </a:lnTo>
                  <a:lnTo>
                    <a:pt x="129" y="170"/>
                  </a:lnTo>
                  <a:lnTo>
                    <a:pt x="118" y="198"/>
                  </a:lnTo>
                  <a:lnTo>
                    <a:pt x="95" y="226"/>
                  </a:lnTo>
                  <a:lnTo>
                    <a:pt x="83" y="255"/>
                  </a:lnTo>
                  <a:lnTo>
                    <a:pt x="59" y="283"/>
                  </a:lnTo>
                  <a:lnTo>
                    <a:pt x="36" y="283"/>
                  </a:lnTo>
                  <a:lnTo>
                    <a:pt x="12" y="311"/>
                  </a:lnTo>
                  <a:lnTo>
                    <a:pt x="0" y="339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75280" y="3892320"/>
              <a:ext cx="249120" cy="181080"/>
            </a:xfrm>
            <a:custGeom>
              <a:avLst/>
              <a:gdLst/>
              <a:ahLst/>
              <a:rect l="l" t="t" r="r" b="b"/>
              <a:pathLst>
                <a:path w="471" h="340">
                  <a:moveTo>
                    <a:pt x="471" y="0"/>
                  </a:moveTo>
                  <a:lnTo>
                    <a:pt x="448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7" y="28"/>
                  </a:lnTo>
                  <a:lnTo>
                    <a:pt x="354" y="28"/>
                  </a:lnTo>
                  <a:lnTo>
                    <a:pt x="329" y="28"/>
                  </a:lnTo>
                  <a:lnTo>
                    <a:pt x="306" y="42"/>
                  </a:lnTo>
                  <a:lnTo>
                    <a:pt x="282" y="56"/>
                  </a:lnTo>
                  <a:lnTo>
                    <a:pt x="259" y="56"/>
                  </a:lnTo>
                  <a:lnTo>
                    <a:pt x="236" y="86"/>
                  </a:lnTo>
                  <a:lnTo>
                    <a:pt x="212" y="100"/>
                  </a:lnTo>
                  <a:lnTo>
                    <a:pt x="189" y="114"/>
                  </a:lnTo>
                  <a:lnTo>
                    <a:pt x="165" y="128"/>
                  </a:lnTo>
                  <a:lnTo>
                    <a:pt x="153" y="156"/>
                  </a:lnTo>
                  <a:lnTo>
                    <a:pt x="129" y="170"/>
                  </a:lnTo>
                  <a:lnTo>
                    <a:pt x="117" y="198"/>
                  </a:lnTo>
                  <a:lnTo>
                    <a:pt x="94" y="226"/>
                  </a:lnTo>
                  <a:lnTo>
                    <a:pt x="83" y="256"/>
                  </a:lnTo>
                  <a:lnTo>
                    <a:pt x="59" y="284"/>
                  </a:lnTo>
                  <a:lnTo>
                    <a:pt x="36" y="284"/>
                  </a:lnTo>
                  <a:lnTo>
                    <a:pt x="11" y="312"/>
                  </a:lnTo>
                  <a:lnTo>
                    <a:pt x="0" y="34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875280" y="3855960"/>
              <a:ext cx="249120" cy="179280"/>
            </a:xfrm>
            <a:custGeom>
              <a:avLst/>
              <a:gdLst/>
              <a:ahLst/>
              <a:rect l="l" t="t" r="r" b="b"/>
              <a:pathLst>
                <a:path w="471" h="341">
                  <a:moveTo>
                    <a:pt x="471" y="0"/>
                  </a:moveTo>
                  <a:lnTo>
                    <a:pt x="448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7" y="28"/>
                  </a:lnTo>
                  <a:lnTo>
                    <a:pt x="354" y="28"/>
                  </a:lnTo>
                  <a:lnTo>
                    <a:pt x="329" y="28"/>
                  </a:lnTo>
                  <a:lnTo>
                    <a:pt x="306" y="42"/>
                  </a:lnTo>
                  <a:lnTo>
                    <a:pt x="282" y="57"/>
                  </a:lnTo>
                  <a:lnTo>
                    <a:pt x="259" y="57"/>
                  </a:lnTo>
                  <a:lnTo>
                    <a:pt x="236" y="85"/>
                  </a:lnTo>
                  <a:lnTo>
                    <a:pt x="212" y="99"/>
                  </a:lnTo>
                  <a:lnTo>
                    <a:pt x="189" y="113"/>
                  </a:lnTo>
                  <a:lnTo>
                    <a:pt x="165" y="127"/>
                  </a:lnTo>
                  <a:lnTo>
                    <a:pt x="153" y="156"/>
                  </a:lnTo>
                  <a:lnTo>
                    <a:pt x="129" y="171"/>
                  </a:lnTo>
                  <a:lnTo>
                    <a:pt x="117" y="199"/>
                  </a:lnTo>
                  <a:lnTo>
                    <a:pt x="94" y="227"/>
                  </a:lnTo>
                  <a:lnTo>
                    <a:pt x="83" y="255"/>
                  </a:lnTo>
                  <a:lnTo>
                    <a:pt x="59" y="285"/>
                  </a:lnTo>
                  <a:lnTo>
                    <a:pt x="36" y="285"/>
                  </a:lnTo>
                  <a:lnTo>
                    <a:pt x="11" y="313"/>
                  </a:lnTo>
                  <a:lnTo>
                    <a:pt x="0" y="341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043760" y="3314520"/>
              <a:ext cx="248760" cy="181080"/>
            </a:xfrm>
            <a:custGeom>
              <a:avLst/>
              <a:gdLst/>
              <a:ahLst/>
              <a:rect l="l" t="t" r="r" b="b"/>
              <a:pathLst>
                <a:path w="471" h="341">
                  <a:moveTo>
                    <a:pt x="471" y="0"/>
                  </a:moveTo>
                  <a:lnTo>
                    <a:pt x="448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7" y="28"/>
                  </a:lnTo>
                  <a:lnTo>
                    <a:pt x="354" y="28"/>
                  </a:lnTo>
                  <a:lnTo>
                    <a:pt x="329" y="28"/>
                  </a:lnTo>
                  <a:lnTo>
                    <a:pt x="306" y="42"/>
                  </a:lnTo>
                  <a:lnTo>
                    <a:pt x="282" y="58"/>
                  </a:lnTo>
                  <a:lnTo>
                    <a:pt x="259" y="58"/>
                  </a:lnTo>
                  <a:lnTo>
                    <a:pt x="236" y="86"/>
                  </a:lnTo>
                  <a:lnTo>
                    <a:pt x="212" y="100"/>
                  </a:lnTo>
                  <a:lnTo>
                    <a:pt x="189" y="114"/>
                  </a:lnTo>
                  <a:lnTo>
                    <a:pt x="165" y="128"/>
                  </a:lnTo>
                  <a:lnTo>
                    <a:pt x="153" y="156"/>
                  </a:lnTo>
                  <a:lnTo>
                    <a:pt x="129" y="171"/>
                  </a:lnTo>
                  <a:lnTo>
                    <a:pt x="117" y="200"/>
                  </a:lnTo>
                  <a:lnTo>
                    <a:pt x="94" y="228"/>
                  </a:lnTo>
                  <a:lnTo>
                    <a:pt x="83" y="256"/>
                  </a:lnTo>
                  <a:lnTo>
                    <a:pt x="59" y="285"/>
                  </a:lnTo>
                  <a:lnTo>
                    <a:pt x="36" y="285"/>
                  </a:lnTo>
                  <a:lnTo>
                    <a:pt x="11" y="313"/>
                  </a:lnTo>
                  <a:lnTo>
                    <a:pt x="0" y="341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913440" y="3217680"/>
              <a:ext cx="248760" cy="181080"/>
            </a:xfrm>
            <a:custGeom>
              <a:avLst/>
              <a:gdLst/>
              <a:ahLst/>
              <a:rect l="l" t="t" r="r" b="b"/>
              <a:pathLst>
                <a:path w="472" h="341">
                  <a:moveTo>
                    <a:pt x="472" y="0"/>
                  </a:moveTo>
                  <a:lnTo>
                    <a:pt x="449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7" y="28"/>
                  </a:lnTo>
                  <a:lnTo>
                    <a:pt x="354" y="28"/>
                  </a:lnTo>
                  <a:lnTo>
                    <a:pt x="330" y="28"/>
                  </a:lnTo>
                  <a:lnTo>
                    <a:pt x="307" y="42"/>
                  </a:lnTo>
                  <a:lnTo>
                    <a:pt x="283" y="58"/>
                  </a:lnTo>
                  <a:lnTo>
                    <a:pt x="260" y="58"/>
                  </a:lnTo>
                  <a:lnTo>
                    <a:pt x="237" y="86"/>
                  </a:lnTo>
                  <a:lnTo>
                    <a:pt x="212" y="100"/>
                  </a:lnTo>
                  <a:lnTo>
                    <a:pt x="189" y="114"/>
                  </a:lnTo>
                  <a:lnTo>
                    <a:pt x="165" y="128"/>
                  </a:lnTo>
                  <a:lnTo>
                    <a:pt x="154" y="156"/>
                  </a:lnTo>
                  <a:lnTo>
                    <a:pt x="129" y="171"/>
                  </a:lnTo>
                  <a:lnTo>
                    <a:pt x="118" y="200"/>
                  </a:lnTo>
                  <a:lnTo>
                    <a:pt x="95" y="228"/>
                  </a:lnTo>
                  <a:lnTo>
                    <a:pt x="83" y="256"/>
                  </a:lnTo>
                  <a:lnTo>
                    <a:pt x="59" y="285"/>
                  </a:lnTo>
                  <a:lnTo>
                    <a:pt x="36" y="285"/>
                  </a:lnTo>
                  <a:lnTo>
                    <a:pt x="12" y="313"/>
                  </a:lnTo>
                  <a:lnTo>
                    <a:pt x="0" y="341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13360" y="3068640"/>
              <a:ext cx="249120" cy="179280"/>
            </a:xfrm>
            <a:custGeom>
              <a:avLst/>
              <a:gdLst/>
              <a:ahLst/>
              <a:rect l="l" t="t" r="r" b="b"/>
              <a:pathLst>
                <a:path w="471" h="341">
                  <a:moveTo>
                    <a:pt x="471" y="0"/>
                  </a:moveTo>
                  <a:lnTo>
                    <a:pt x="448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6" y="28"/>
                  </a:lnTo>
                  <a:lnTo>
                    <a:pt x="354" y="28"/>
                  </a:lnTo>
                  <a:lnTo>
                    <a:pt x="329" y="28"/>
                  </a:lnTo>
                  <a:lnTo>
                    <a:pt x="306" y="42"/>
                  </a:lnTo>
                  <a:lnTo>
                    <a:pt x="282" y="57"/>
                  </a:lnTo>
                  <a:lnTo>
                    <a:pt x="259" y="57"/>
                  </a:lnTo>
                  <a:lnTo>
                    <a:pt x="236" y="85"/>
                  </a:lnTo>
                  <a:lnTo>
                    <a:pt x="212" y="99"/>
                  </a:lnTo>
                  <a:lnTo>
                    <a:pt x="189" y="113"/>
                  </a:lnTo>
                  <a:lnTo>
                    <a:pt x="165" y="128"/>
                  </a:lnTo>
                  <a:lnTo>
                    <a:pt x="153" y="156"/>
                  </a:lnTo>
                  <a:lnTo>
                    <a:pt x="129" y="171"/>
                  </a:lnTo>
                  <a:lnTo>
                    <a:pt x="117" y="199"/>
                  </a:lnTo>
                  <a:lnTo>
                    <a:pt x="94" y="227"/>
                  </a:lnTo>
                  <a:lnTo>
                    <a:pt x="83" y="255"/>
                  </a:lnTo>
                  <a:lnTo>
                    <a:pt x="59" y="285"/>
                  </a:lnTo>
                  <a:lnTo>
                    <a:pt x="36" y="285"/>
                  </a:lnTo>
                  <a:lnTo>
                    <a:pt x="11" y="313"/>
                  </a:lnTo>
                  <a:lnTo>
                    <a:pt x="0" y="341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13520" y="3878280"/>
              <a:ext cx="248760" cy="179280"/>
            </a:xfrm>
            <a:custGeom>
              <a:avLst/>
              <a:gdLst/>
              <a:ahLst/>
              <a:rect l="l" t="t" r="r" b="b"/>
              <a:pathLst>
                <a:path w="472" h="340">
                  <a:moveTo>
                    <a:pt x="472" y="0"/>
                  </a:moveTo>
                  <a:lnTo>
                    <a:pt x="449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7" y="28"/>
                  </a:lnTo>
                  <a:lnTo>
                    <a:pt x="354" y="28"/>
                  </a:lnTo>
                  <a:lnTo>
                    <a:pt x="330" y="28"/>
                  </a:lnTo>
                  <a:lnTo>
                    <a:pt x="307" y="42"/>
                  </a:lnTo>
                  <a:lnTo>
                    <a:pt x="283" y="56"/>
                  </a:lnTo>
                  <a:lnTo>
                    <a:pt x="260" y="56"/>
                  </a:lnTo>
                  <a:lnTo>
                    <a:pt x="237" y="86"/>
                  </a:lnTo>
                  <a:lnTo>
                    <a:pt x="212" y="100"/>
                  </a:lnTo>
                  <a:lnTo>
                    <a:pt x="189" y="114"/>
                  </a:lnTo>
                  <a:lnTo>
                    <a:pt x="165" y="128"/>
                  </a:lnTo>
                  <a:lnTo>
                    <a:pt x="154" y="156"/>
                  </a:lnTo>
                  <a:lnTo>
                    <a:pt x="129" y="170"/>
                  </a:lnTo>
                  <a:lnTo>
                    <a:pt x="118" y="198"/>
                  </a:lnTo>
                  <a:lnTo>
                    <a:pt x="95" y="226"/>
                  </a:lnTo>
                  <a:lnTo>
                    <a:pt x="83" y="256"/>
                  </a:lnTo>
                  <a:lnTo>
                    <a:pt x="59" y="284"/>
                  </a:lnTo>
                  <a:lnTo>
                    <a:pt x="36" y="284"/>
                  </a:lnTo>
                  <a:lnTo>
                    <a:pt x="12" y="312"/>
                  </a:lnTo>
                  <a:lnTo>
                    <a:pt x="0" y="34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826320" y="2941560"/>
              <a:ext cx="204120" cy="74520"/>
            </a:xfrm>
            <a:custGeom>
              <a:avLst/>
              <a:gdLst/>
              <a:ahLst/>
              <a:rect l="l" t="t" r="r" b="b"/>
              <a:pathLst>
                <a:path w="388" h="141">
                  <a:moveTo>
                    <a:pt x="0" y="141"/>
                  </a:moveTo>
                  <a:lnTo>
                    <a:pt x="0" y="113"/>
                  </a:lnTo>
                  <a:lnTo>
                    <a:pt x="23" y="99"/>
                  </a:lnTo>
                  <a:lnTo>
                    <a:pt x="36" y="71"/>
                  </a:lnTo>
                  <a:lnTo>
                    <a:pt x="59" y="56"/>
                  </a:lnTo>
                  <a:lnTo>
                    <a:pt x="81" y="42"/>
                  </a:lnTo>
                  <a:lnTo>
                    <a:pt x="106" y="28"/>
                  </a:lnTo>
                  <a:lnTo>
                    <a:pt x="129" y="14"/>
                  </a:lnTo>
                  <a:lnTo>
                    <a:pt x="153" y="14"/>
                  </a:lnTo>
                  <a:lnTo>
                    <a:pt x="200" y="14"/>
                  </a:lnTo>
                  <a:lnTo>
                    <a:pt x="223" y="14"/>
                  </a:lnTo>
                  <a:lnTo>
                    <a:pt x="246" y="14"/>
                  </a:lnTo>
                  <a:lnTo>
                    <a:pt x="270" y="14"/>
                  </a:lnTo>
                  <a:lnTo>
                    <a:pt x="293" y="14"/>
                  </a:lnTo>
                  <a:lnTo>
                    <a:pt x="318" y="14"/>
                  </a:lnTo>
                  <a:lnTo>
                    <a:pt x="341" y="14"/>
                  </a:lnTo>
                  <a:lnTo>
                    <a:pt x="365" y="0"/>
                  </a:lnTo>
                  <a:lnTo>
                    <a:pt x="388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70520" y="2895480"/>
              <a:ext cx="204480" cy="74520"/>
            </a:xfrm>
            <a:custGeom>
              <a:avLst/>
              <a:gdLst/>
              <a:ahLst/>
              <a:rect l="l" t="t" r="r" b="b"/>
              <a:pathLst>
                <a:path w="388" h="142">
                  <a:moveTo>
                    <a:pt x="0" y="142"/>
                  </a:moveTo>
                  <a:lnTo>
                    <a:pt x="0" y="114"/>
                  </a:lnTo>
                  <a:lnTo>
                    <a:pt x="23" y="100"/>
                  </a:lnTo>
                  <a:lnTo>
                    <a:pt x="36" y="72"/>
                  </a:lnTo>
                  <a:lnTo>
                    <a:pt x="59" y="56"/>
                  </a:lnTo>
                  <a:lnTo>
                    <a:pt x="81" y="42"/>
                  </a:lnTo>
                  <a:lnTo>
                    <a:pt x="106" y="28"/>
                  </a:lnTo>
                  <a:lnTo>
                    <a:pt x="129" y="14"/>
                  </a:lnTo>
                  <a:lnTo>
                    <a:pt x="153" y="14"/>
                  </a:lnTo>
                  <a:lnTo>
                    <a:pt x="200" y="14"/>
                  </a:lnTo>
                  <a:lnTo>
                    <a:pt x="223" y="14"/>
                  </a:lnTo>
                  <a:lnTo>
                    <a:pt x="246" y="14"/>
                  </a:lnTo>
                  <a:lnTo>
                    <a:pt x="270" y="14"/>
                  </a:lnTo>
                  <a:lnTo>
                    <a:pt x="293" y="14"/>
                  </a:lnTo>
                  <a:lnTo>
                    <a:pt x="318" y="14"/>
                  </a:lnTo>
                  <a:lnTo>
                    <a:pt x="341" y="14"/>
                  </a:lnTo>
                  <a:lnTo>
                    <a:pt x="365" y="0"/>
                  </a:lnTo>
                  <a:lnTo>
                    <a:pt x="388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101000" y="3074760"/>
              <a:ext cx="204120" cy="76320"/>
            </a:xfrm>
            <a:custGeom>
              <a:avLst/>
              <a:gdLst/>
              <a:ahLst/>
              <a:rect l="l" t="t" r="r" b="b"/>
              <a:pathLst>
                <a:path w="388" h="142">
                  <a:moveTo>
                    <a:pt x="0" y="142"/>
                  </a:moveTo>
                  <a:lnTo>
                    <a:pt x="0" y="114"/>
                  </a:lnTo>
                  <a:lnTo>
                    <a:pt x="23" y="99"/>
                  </a:lnTo>
                  <a:lnTo>
                    <a:pt x="36" y="71"/>
                  </a:lnTo>
                  <a:lnTo>
                    <a:pt x="59" y="56"/>
                  </a:lnTo>
                  <a:lnTo>
                    <a:pt x="82" y="42"/>
                  </a:lnTo>
                  <a:lnTo>
                    <a:pt x="106" y="28"/>
                  </a:lnTo>
                  <a:lnTo>
                    <a:pt x="129" y="14"/>
                  </a:lnTo>
                  <a:lnTo>
                    <a:pt x="153" y="14"/>
                  </a:lnTo>
                  <a:lnTo>
                    <a:pt x="201" y="14"/>
                  </a:lnTo>
                  <a:lnTo>
                    <a:pt x="224" y="14"/>
                  </a:lnTo>
                  <a:lnTo>
                    <a:pt x="247" y="14"/>
                  </a:lnTo>
                  <a:lnTo>
                    <a:pt x="271" y="14"/>
                  </a:lnTo>
                  <a:lnTo>
                    <a:pt x="294" y="14"/>
                  </a:lnTo>
                  <a:lnTo>
                    <a:pt x="318" y="14"/>
                  </a:lnTo>
                  <a:lnTo>
                    <a:pt x="341" y="14"/>
                  </a:lnTo>
                  <a:lnTo>
                    <a:pt x="365" y="0"/>
                  </a:lnTo>
                  <a:lnTo>
                    <a:pt x="388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43760" y="2947680"/>
              <a:ext cx="199440" cy="60480"/>
            </a:xfrm>
            <a:custGeom>
              <a:avLst/>
              <a:gdLst/>
              <a:ahLst/>
              <a:rect l="l" t="t" r="r" b="b"/>
              <a:pathLst>
                <a:path w="377" h="113">
                  <a:moveTo>
                    <a:pt x="377" y="113"/>
                  </a:moveTo>
                  <a:lnTo>
                    <a:pt x="354" y="99"/>
                  </a:lnTo>
                  <a:lnTo>
                    <a:pt x="329" y="85"/>
                  </a:lnTo>
                  <a:lnTo>
                    <a:pt x="306" y="85"/>
                  </a:lnTo>
                  <a:lnTo>
                    <a:pt x="282" y="85"/>
                  </a:lnTo>
                  <a:lnTo>
                    <a:pt x="259" y="85"/>
                  </a:lnTo>
                  <a:lnTo>
                    <a:pt x="235" y="85"/>
                  </a:lnTo>
                  <a:lnTo>
                    <a:pt x="212" y="71"/>
                  </a:lnTo>
                  <a:lnTo>
                    <a:pt x="189" y="57"/>
                  </a:lnTo>
                  <a:lnTo>
                    <a:pt x="165" y="57"/>
                  </a:lnTo>
                  <a:lnTo>
                    <a:pt x="142" y="57"/>
                  </a:lnTo>
                  <a:lnTo>
                    <a:pt x="117" y="42"/>
                  </a:lnTo>
                  <a:lnTo>
                    <a:pt x="94" y="28"/>
                  </a:lnTo>
                  <a:lnTo>
                    <a:pt x="70" y="14"/>
                  </a:lnTo>
                  <a:lnTo>
                    <a:pt x="47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94360" y="4005000"/>
              <a:ext cx="385560" cy="120960"/>
            </a:xfrm>
            <a:custGeom>
              <a:avLst/>
              <a:gdLst/>
              <a:ahLst/>
              <a:rect l="l" t="t" r="r" b="b"/>
              <a:pathLst>
                <a:path w="730" h="228">
                  <a:moveTo>
                    <a:pt x="0" y="228"/>
                  </a:moveTo>
                  <a:lnTo>
                    <a:pt x="23" y="214"/>
                  </a:lnTo>
                  <a:lnTo>
                    <a:pt x="83" y="171"/>
                  </a:lnTo>
                  <a:lnTo>
                    <a:pt x="106" y="156"/>
                  </a:lnTo>
                  <a:lnTo>
                    <a:pt x="129" y="156"/>
                  </a:lnTo>
                  <a:lnTo>
                    <a:pt x="153" y="128"/>
                  </a:lnTo>
                  <a:lnTo>
                    <a:pt x="176" y="128"/>
                  </a:lnTo>
                  <a:lnTo>
                    <a:pt x="200" y="100"/>
                  </a:lnTo>
                  <a:lnTo>
                    <a:pt x="223" y="100"/>
                  </a:lnTo>
                  <a:lnTo>
                    <a:pt x="247" y="86"/>
                  </a:lnTo>
                  <a:lnTo>
                    <a:pt x="270" y="86"/>
                  </a:lnTo>
                  <a:lnTo>
                    <a:pt x="295" y="86"/>
                  </a:lnTo>
                  <a:lnTo>
                    <a:pt x="318" y="86"/>
                  </a:lnTo>
                  <a:lnTo>
                    <a:pt x="342" y="86"/>
                  </a:lnTo>
                  <a:lnTo>
                    <a:pt x="365" y="86"/>
                  </a:lnTo>
                  <a:lnTo>
                    <a:pt x="388" y="86"/>
                  </a:lnTo>
                  <a:lnTo>
                    <a:pt x="412" y="72"/>
                  </a:lnTo>
                  <a:lnTo>
                    <a:pt x="435" y="72"/>
                  </a:lnTo>
                  <a:lnTo>
                    <a:pt x="459" y="58"/>
                  </a:lnTo>
                  <a:lnTo>
                    <a:pt x="518" y="42"/>
                  </a:lnTo>
                  <a:lnTo>
                    <a:pt x="565" y="14"/>
                  </a:lnTo>
                  <a:lnTo>
                    <a:pt x="588" y="0"/>
                  </a:lnTo>
                  <a:lnTo>
                    <a:pt x="613" y="0"/>
                  </a:lnTo>
                  <a:lnTo>
                    <a:pt x="636" y="0"/>
                  </a:lnTo>
                  <a:lnTo>
                    <a:pt x="660" y="0"/>
                  </a:lnTo>
                  <a:lnTo>
                    <a:pt x="683" y="0"/>
                  </a:lnTo>
                  <a:lnTo>
                    <a:pt x="707" y="0"/>
                  </a:lnTo>
                  <a:lnTo>
                    <a:pt x="730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75360" y="3024000"/>
              <a:ext cx="310680" cy="185760"/>
            </a:xfrm>
            <a:custGeom>
              <a:avLst/>
              <a:gdLst/>
              <a:ahLst/>
              <a:rect l="l" t="t" r="r" b="b"/>
              <a:pathLst>
                <a:path w="589" h="353">
                  <a:moveTo>
                    <a:pt x="589" y="0"/>
                  </a:moveTo>
                  <a:lnTo>
                    <a:pt x="566" y="14"/>
                  </a:lnTo>
                  <a:lnTo>
                    <a:pt x="541" y="14"/>
                  </a:lnTo>
                  <a:lnTo>
                    <a:pt x="518" y="14"/>
                  </a:lnTo>
                  <a:lnTo>
                    <a:pt x="460" y="14"/>
                  </a:lnTo>
                  <a:lnTo>
                    <a:pt x="412" y="14"/>
                  </a:lnTo>
                  <a:lnTo>
                    <a:pt x="388" y="14"/>
                  </a:lnTo>
                  <a:lnTo>
                    <a:pt x="365" y="14"/>
                  </a:lnTo>
                  <a:lnTo>
                    <a:pt x="341" y="28"/>
                  </a:lnTo>
                  <a:lnTo>
                    <a:pt x="318" y="42"/>
                  </a:lnTo>
                  <a:lnTo>
                    <a:pt x="318" y="70"/>
                  </a:lnTo>
                  <a:lnTo>
                    <a:pt x="295" y="70"/>
                  </a:lnTo>
                  <a:lnTo>
                    <a:pt x="282" y="99"/>
                  </a:lnTo>
                  <a:lnTo>
                    <a:pt x="259" y="113"/>
                  </a:lnTo>
                  <a:lnTo>
                    <a:pt x="235" y="127"/>
                  </a:lnTo>
                  <a:lnTo>
                    <a:pt x="212" y="127"/>
                  </a:lnTo>
                  <a:lnTo>
                    <a:pt x="189" y="141"/>
                  </a:lnTo>
                  <a:lnTo>
                    <a:pt x="165" y="155"/>
                  </a:lnTo>
                  <a:lnTo>
                    <a:pt x="153" y="183"/>
                  </a:lnTo>
                  <a:lnTo>
                    <a:pt x="142" y="212"/>
                  </a:lnTo>
                  <a:lnTo>
                    <a:pt x="117" y="226"/>
                  </a:lnTo>
                  <a:lnTo>
                    <a:pt x="106" y="254"/>
                  </a:lnTo>
                  <a:lnTo>
                    <a:pt x="83" y="269"/>
                  </a:lnTo>
                  <a:lnTo>
                    <a:pt x="70" y="297"/>
                  </a:lnTo>
                  <a:lnTo>
                    <a:pt x="47" y="311"/>
                  </a:lnTo>
                  <a:lnTo>
                    <a:pt x="23" y="339"/>
                  </a:lnTo>
                  <a:lnTo>
                    <a:pt x="0" y="353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939000" y="4029120"/>
              <a:ext cx="248760" cy="179280"/>
            </a:xfrm>
            <a:custGeom>
              <a:avLst/>
              <a:gdLst/>
              <a:ahLst/>
              <a:rect l="l" t="t" r="r" b="b"/>
              <a:pathLst>
                <a:path w="471" h="339">
                  <a:moveTo>
                    <a:pt x="471" y="0"/>
                  </a:moveTo>
                  <a:lnTo>
                    <a:pt x="448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6" y="28"/>
                  </a:lnTo>
                  <a:lnTo>
                    <a:pt x="353" y="28"/>
                  </a:lnTo>
                  <a:lnTo>
                    <a:pt x="329" y="28"/>
                  </a:lnTo>
                  <a:lnTo>
                    <a:pt x="306" y="42"/>
                  </a:lnTo>
                  <a:lnTo>
                    <a:pt x="282" y="56"/>
                  </a:lnTo>
                  <a:lnTo>
                    <a:pt x="259" y="56"/>
                  </a:lnTo>
                  <a:lnTo>
                    <a:pt x="236" y="85"/>
                  </a:lnTo>
                  <a:lnTo>
                    <a:pt x="212" y="99"/>
                  </a:lnTo>
                  <a:lnTo>
                    <a:pt x="189" y="113"/>
                  </a:lnTo>
                  <a:lnTo>
                    <a:pt x="164" y="127"/>
                  </a:lnTo>
                  <a:lnTo>
                    <a:pt x="153" y="156"/>
                  </a:lnTo>
                  <a:lnTo>
                    <a:pt x="129" y="170"/>
                  </a:lnTo>
                  <a:lnTo>
                    <a:pt x="117" y="198"/>
                  </a:lnTo>
                  <a:lnTo>
                    <a:pt x="94" y="226"/>
                  </a:lnTo>
                  <a:lnTo>
                    <a:pt x="83" y="255"/>
                  </a:lnTo>
                  <a:lnTo>
                    <a:pt x="58" y="283"/>
                  </a:lnTo>
                  <a:lnTo>
                    <a:pt x="35" y="283"/>
                  </a:lnTo>
                  <a:lnTo>
                    <a:pt x="11" y="311"/>
                  </a:lnTo>
                  <a:lnTo>
                    <a:pt x="0" y="339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isast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ower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ire, smoke, w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952880" y="4114800"/>
            <a:ext cx="2590200" cy="623520"/>
            <a:chOff x="4952880" y="4114800"/>
            <a:chExt cx="2590200" cy="623520"/>
          </a:xfrm>
        </p:grpSpPr>
        <p:sp>
          <p:nvSpPr>
            <p:cNvPr id="782" name=""/>
            <p:cNvSpPr/>
            <p:nvPr/>
          </p:nvSpPr>
          <p:spPr>
            <a:xfrm flipH="1">
              <a:off x="5986440" y="4559040"/>
              <a:ext cx="56880" cy="122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79160" y="4617720"/>
              <a:ext cx="145080" cy="61560"/>
            </a:xfrm>
            <a:custGeom>
              <a:avLst/>
              <a:gdLst/>
              <a:ahLst/>
              <a:rect l="l" t="t" r="r" b="b"/>
              <a:pathLst>
                <a:path w="204" h="119">
                  <a:moveTo>
                    <a:pt x="0" y="119"/>
                  </a:moveTo>
                  <a:lnTo>
                    <a:pt x="204" y="100"/>
                  </a:lnTo>
                  <a:lnTo>
                    <a:pt x="20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93920" y="4641120"/>
              <a:ext cx="137880" cy="51120"/>
            </a:xfrm>
            <a:custGeom>
              <a:avLst/>
              <a:gdLst/>
              <a:ahLst/>
              <a:rect l="l" t="t" r="r" b="b"/>
              <a:pathLst>
                <a:path w="198" h="100">
                  <a:moveTo>
                    <a:pt x="198" y="0"/>
                  </a:moveTo>
                  <a:lnTo>
                    <a:pt x="58" y="14"/>
                  </a:lnTo>
                  <a:lnTo>
                    <a:pt x="15" y="30"/>
                  </a:lnTo>
                  <a:lnTo>
                    <a:pt x="0" y="50"/>
                  </a:lnTo>
                  <a:lnTo>
                    <a:pt x="55" y="86"/>
                  </a:lnTo>
                  <a:lnTo>
                    <a:pt x="195" y="100"/>
                  </a:lnTo>
                  <a:lnTo>
                    <a:pt x="198" y="5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893920" y="4641120"/>
              <a:ext cx="137880" cy="51120"/>
            </a:xfrm>
            <a:custGeom>
              <a:avLst/>
              <a:gdLst/>
              <a:ahLst/>
              <a:rect l="l" t="t" r="r" b="b"/>
              <a:pathLst>
                <a:path w="198" h="100">
                  <a:moveTo>
                    <a:pt x="198" y="0"/>
                  </a:moveTo>
                  <a:lnTo>
                    <a:pt x="58" y="14"/>
                  </a:lnTo>
                  <a:lnTo>
                    <a:pt x="15" y="30"/>
                  </a:lnTo>
                  <a:lnTo>
                    <a:pt x="0" y="50"/>
                  </a:lnTo>
                  <a:lnTo>
                    <a:pt x="55" y="86"/>
                  </a:lnTo>
                  <a:lnTo>
                    <a:pt x="195" y="100"/>
                  </a:lnTo>
                  <a:lnTo>
                    <a:pt x="198" y="50"/>
                  </a:lnTo>
                  <a:lnTo>
                    <a:pt x="198" y="0"/>
                  </a:lnTo>
                  <a:lnTo>
                    <a:pt x="19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32160" y="4633560"/>
              <a:ext cx="747000" cy="63720"/>
            </a:xfrm>
            <a:custGeom>
              <a:avLst/>
              <a:gdLst/>
              <a:ahLst/>
              <a:rect l="l" t="t" r="r" b="b"/>
              <a:pathLst>
                <a:path w="1056" h="123">
                  <a:moveTo>
                    <a:pt x="0" y="13"/>
                  </a:moveTo>
                  <a:lnTo>
                    <a:pt x="130" y="4"/>
                  </a:lnTo>
                  <a:lnTo>
                    <a:pt x="244" y="0"/>
                  </a:lnTo>
                  <a:lnTo>
                    <a:pt x="416" y="0"/>
                  </a:lnTo>
                  <a:lnTo>
                    <a:pt x="639" y="0"/>
                  </a:lnTo>
                  <a:lnTo>
                    <a:pt x="971" y="23"/>
                  </a:lnTo>
                  <a:lnTo>
                    <a:pt x="1056" y="28"/>
                  </a:lnTo>
                  <a:lnTo>
                    <a:pt x="1056" y="87"/>
                  </a:lnTo>
                  <a:lnTo>
                    <a:pt x="967" y="92"/>
                  </a:lnTo>
                  <a:lnTo>
                    <a:pt x="826" y="105"/>
                  </a:lnTo>
                  <a:lnTo>
                    <a:pt x="571" y="123"/>
                  </a:lnTo>
                  <a:lnTo>
                    <a:pt x="392" y="123"/>
                  </a:lnTo>
                  <a:lnTo>
                    <a:pt x="196" y="114"/>
                  </a:lnTo>
                  <a:lnTo>
                    <a:pt x="97" y="114"/>
                  </a:lnTo>
                  <a:lnTo>
                    <a:pt x="0" y="11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160" y="4633560"/>
              <a:ext cx="747000" cy="63720"/>
            </a:xfrm>
            <a:custGeom>
              <a:avLst/>
              <a:gdLst/>
              <a:ahLst/>
              <a:rect l="l" t="t" r="r" b="b"/>
              <a:pathLst>
                <a:path w="1056" h="123">
                  <a:moveTo>
                    <a:pt x="0" y="13"/>
                  </a:moveTo>
                  <a:lnTo>
                    <a:pt x="130" y="4"/>
                  </a:lnTo>
                  <a:lnTo>
                    <a:pt x="244" y="0"/>
                  </a:lnTo>
                  <a:lnTo>
                    <a:pt x="416" y="0"/>
                  </a:lnTo>
                  <a:lnTo>
                    <a:pt x="639" y="0"/>
                  </a:lnTo>
                  <a:lnTo>
                    <a:pt x="971" y="23"/>
                  </a:lnTo>
                  <a:lnTo>
                    <a:pt x="1056" y="28"/>
                  </a:lnTo>
                  <a:lnTo>
                    <a:pt x="1056" y="87"/>
                  </a:lnTo>
                  <a:lnTo>
                    <a:pt x="967" y="92"/>
                  </a:lnTo>
                  <a:lnTo>
                    <a:pt x="826" y="105"/>
                  </a:lnTo>
                  <a:lnTo>
                    <a:pt x="571" y="123"/>
                  </a:lnTo>
                  <a:lnTo>
                    <a:pt x="392" y="123"/>
                  </a:lnTo>
                  <a:lnTo>
                    <a:pt x="196" y="114"/>
                  </a:lnTo>
                  <a:lnTo>
                    <a:pt x="97" y="114"/>
                  </a:lnTo>
                  <a:lnTo>
                    <a:pt x="0" y="110"/>
                  </a:lnTo>
                  <a:lnTo>
                    <a:pt x="0" y="1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145200" y="4584600"/>
              <a:ext cx="3960" cy="15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137200" y="4458600"/>
              <a:ext cx="2302920" cy="166320"/>
            </a:xfrm>
            <a:custGeom>
              <a:avLst/>
              <a:gdLst/>
              <a:ahLst/>
              <a:rect l="l" t="t" r="r" b="b"/>
              <a:pathLst>
                <a:path w="3258" h="324">
                  <a:moveTo>
                    <a:pt x="0" y="186"/>
                  </a:moveTo>
                  <a:lnTo>
                    <a:pt x="242" y="120"/>
                  </a:lnTo>
                  <a:lnTo>
                    <a:pt x="419" y="76"/>
                  </a:lnTo>
                  <a:lnTo>
                    <a:pt x="615" y="38"/>
                  </a:lnTo>
                  <a:lnTo>
                    <a:pt x="868" y="19"/>
                  </a:lnTo>
                  <a:lnTo>
                    <a:pt x="1102" y="0"/>
                  </a:lnTo>
                  <a:lnTo>
                    <a:pt x="1391" y="3"/>
                  </a:lnTo>
                  <a:lnTo>
                    <a:pt x="1677" y="23"/>
                  </a:lnTo>
                  <a:lnTo>
                    <a:pt x="1951" y="47"/>
                  </a:lnTo>
                  <a:lnTo>
                    <a:pt x="2316" y="103"/>
                  </a:lnTo>
                  <a:lnTo>
                    <a:pt x="3258" y="103"/>
                  </a:lnTo>
                  <a:lnTo>
                    <a:pt x="3258" y="296"/>
                  </a:lnTo>
                  <a:lnTo>
                    <a:pt x="3127" y="315"/>
                  </a:lnTo>
                  <a:lnTo>
                    <a:pt x="2802" y="324"/>
                  </a:lnTo>
                  <a:lnTo>
                    <a:pt x="2539" y="324"/>
                  </a:lnTo>
                  <a:lnTo>
                    <a:pt x="2044" y="305"/>
                  </a:lnTo>
                  <a:lnTo>
                    <a:pt x="1568" y="296"/>
                  </a:lnTo>
                  <a:lnTo>
                    <a:pt x="1233" y="277"/>
                  </a:lnTo>
                  <a:lnTo>
                    <a:pt x="849" y="268"/>
                  </a:lnTo>
                  <a:lnTo>
                    <a:pt x="715" y="266"/>
                  </a:lnTo>
                  <a:lnTo>
                    <a:pt x="576" y="260"/>
                  </a:lnTo>
                  <a:lnTo>
                    <a:pt x="442" y="254"/>
                  </a:lnTo>
                  <a:lnTo>
                    <a:pt x="318" y="245"/>
                  </a:lnTo>
                  <a:lnTo>
                    <a:pt x="183" y="226"/>
                  </a:lnTo>
                  <a:lnTo>
                    <a:pt x="67" y="213"/>
                  </a:lnTo>
                  <a:lnTo>
                    <a:pt x="1" y="20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137200" y="4458600"/>
              <a:ext cx="2302920" cy="166320"/>
            </a:xfrm>
            <a:custGeom>
              <a:avLst/>
              <a:gdLst/>
              <a:ahLst/>
              <a:rect l="l" t="t" r="r" b="b"/>
              <a:pathLst>
                <a:path w="3258" h="324">
                  <a:moveTo>
                    <a:pt x="0" y="186"/>
                  </a:moveTo>
                  <a:lnTo>
                    <a:pt x="242" y="120"/>
                  </a:lnTo>
                  <a:lnTo>
                    <a:pt x="419" y="76"/>
                  </a:lnTo>
                  <a:lnTo>
                    <a:pt x="615" y="38"/>
                  </a:lnTo>
                  <a:lnTo>
                    <a:pt x="868" y="19"/>
                  </a:lnTo>
                  <a:lnTo>
                    <a:pt x="1102" y="0"/>
                  </a:lnTo>
                  <a:lnTo>
                    <a:pt x="1391" y="3"/>
                  </a:lnTo>
                  <a:lnTo>
                    <a:pt x="1677" y="23"/>
                  </a:lnTo>
                  <a:lnTo>
                    <a:pt x="1951" y="47"/>
                  </a:lnTo>
                  <a:lnTo>
                    <a:pt x="2316" y="103"/>
                  </a:lnTo>
                  <a:lnTo>
                    <a:pt x="3258" y="103"/>
                  </a:lnTo>
                  <a:lnTo>
                    <a:pt x="3258" y="296"/>
                  </a:lnTo>
                  <a:lnTo>
                    <a:pt x="3127" y="315"/>
                  </a:lnTo>
                  <a:lnTo>
                    <a:pt x="2802" y="324"/>
                  </a:lnTo>
                  <a:lnTo>
                    <a:pt x="2539" y="324"/>
                  </a:lnTo>
                  <a:lnTo>
                    <a:pt x="2044" y="305"/>
                  </a:lnTo>
                  <a:lnTo>
                    <a:pt x="1568" y="296"/>
                  </a:lnTo>
                  <a:lnTo>
                    <a:pt x="1233" y="277"/>
                  </a:lnTo>
                  <a:lnTo>
                    <a:pt x="849" y="268"/>
                  </a:lnTo>
                  <a:lnTo>
                    <a:pt x="715" y="266"/>
                  </a:lnTo>
                  <a:lnTo>
                    <a:pt x="576" y="260"/>
                  </a:lnTo>
                  <a:lnTo>
                    <a:pt x="442" y="254"/>
                  </a:lnTo>
                  <a:lnTo>
                    <a:pt x="318" y="245"/>
                  </a:lnTo>
                  <a:lnTo>
                    <a:pt x="183" y="226"/>
                  </a:lnTo>
                  <a:lnTo>
                    <a:pt x="67" y="213"/>
                  </a:lnTo>
                  <a:lnTo>
                    <a:pt x="1" y="203"/>
                  </a:lnTo>
                  <a:lnTo>
                    <a:pt x="0" y="18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52880" y="4550760"/>
              <a:ext cx="184320" cy="12600"/>
            </a:xfrm>
            <a:custGeom>
              <a:avLst/>
              <a:gdLst/>
              <a:ahLst/>
              <a:rect l="l" t="t" r="r" b="b"/>
              <a:pathLst>
                <a:path w="259" h="26">
                  <a:moveTo>
                    <a:pt x="259" y="0"/>
                  </a:moveTo>
                  <a:lnTo>
                    <a:pt x="259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370840" y="4435560"/>
              <a:ext cx="2880" cy="225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742360" y="4402440"/>
              <a:ext cx="1209960" cy="112680"/>
            </a:xfrm>
            <a:custGeom>
              <a:avLst/>
              <a:gdLst/>
              <a:ahLst/>
              <a:rect l="l" t="t" r="r" b="b"/>
              <a:pathLst>
                <a:path w="1709" h="222">
                  <a:moveTo>
                    <a:pt x="0" y="134"/>
                  </a:moveTo>
                  <a:lnTo>
                    <a:pt x="43" y="110"/>
                  </a:lnTo>
                  <a:lnTo>
                    <a:pt x="121" y="76"/>
                  </a:lnTo>
                  <a:lnTo>
                    <a:pt x="202" y="38"/>
                  </a:lnTo>
                  <a:lnTo>
                    <a:pt x="271" y="15"/>
                  </a:lnTo>
                  <a:lnTo>
                    <a:pt x="347" y="0"/>
                  </a:lnTo>
                  <a:lnTo>
                    <a:pt x="512" y="0"/>
                  </a:lnTo>
                  <a:lnTo>
                    <a:pt x="659" y="15"/>
                  </a:lnTo>
                  <a:lnTo>
                    <a:pt x="841" y="38"/>
                  </a:lnTo>
                  <a:lnTo>
                    <a:pt x="1022" y="66"/>
                  </a:lnTo>
                  <a:lnTo>
                    <a:pt x="1135" y="85"/>
                  </a:lnTo>
                  <a:lnTo>
                    <a:pt x="1229" y="101"/>
                  </a:lnTo>
                  <a:lnTo>
                    <a:pt x="1323" y="117"/>
                  </a:lnTo>
                  <a:lnTo>
                    <a:pt x="1410" y="129"/>
                  </a:lnTo>
                  <a:lnTo>
                    <a:pt x="1510" y="138"/>
                  </a:lnTo>
                  <a:lnTo>
                    <a:pt x="1605" y="138"/>
                  </a:lnTo>
                  <a:lnTo>
                    <a:pt x="1634" y="129"/>
                  </a:lnTo>
                  <a:lnTo>
                    <a:pt x="1709" y="222"/>
                  </a:lnTo>
                  <a:lnTo>
                    <a:pt x="1546" y="218"/>
                  </a:lnTo>
                  <a:lnTo>
                    <a:pt x="1387" y="205"/>
                  </a:lnTo>
                  <a:lnTo>
                    <a:pt x="1262" y="191"/>
                  </a:lnTo>
                  <a:lnTo>
                    <a:pt x="1135" y="167"/>
                  </a:lnTo>
                  <a:lnTo>
                    <a:pt x="999" y="152"/>
                  </a:lnTo>
                  <a:lnTo>
                    <a:pt x="846" y="138"/>
                  </a:lnTo>
                  <a:lnTo>
                    <a:pt x="705" y="125"/>
                  </a:lnTo>
                  <a:lnTo>
                    <a:pt x="564" y="120"/>
                  </a:lnTo>
                  <a:lnTo>
                    <a:pt x="410" y="115"/>
                  </a:lnTo>
                  <a:lnTo>
                    <a:pt x="235" y="115"/>
                  </a:lnTo>
                  <a:lnTo>
                    <a:pt x="126" y="125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742360" y="4402440"/>
              <a:ext cx="1209960" cy="112680"/>
            </a:xfrm>
            <a:custGeom>
              <a:avLst/>
              <a:gdLst/>
              <a:ahLst/>
              <a:rect l="l" t="t" r="r" b="b"/>
              <a:pathLst>
                <a:path w="1709" h="222">
                  <a:moveTo>
                    <a:pt x="0" y="134"/>
                  </a:moveTo>
                  <a:lnTo>
                    <a:pt x="43" y="110"/>
                  </a:lnTo>
                  <a:lnTo>
                    <a:pt x="121" y="76"/>
                  </a:lnTo>
                  <a:lnTo>
                    <a:pt x="202" y="38"/>
                  </a:lnTo>
                  <a:lnTo>
                    <a:pt x="271" y="15"/>
                  </a:lnTo>
                  <a:lnTo>
                    <a:pt x="347" y="0"/>
                  </a:lnTo>
                  <a:lnTo>
                    <a:pt x="512" y="0"/>
                  </a:lnTo>
                  <a:lnTo>
                    <a:pt x="659" y="15"/>
                  </a:lnTo>
                  <a:lnTo>
                    <a:pt x="841" y="38"/>
                  </a:lnTo>
                  <a:lnTo>
                    <a:pt x="1022" y="66"/>
                  </a:lnTo>
                  <a:lnTo>
                    <a:pt x="1135" y="85"/>
                  </a:lnTo>
                  <a:lnTo>
                    <a:pt x="1229" y="101"/>
                  </a:lnTo>
                  <a:lnTo>
                    <a:pt x="1323" y="117"/>
                  </a:lnTo>
                  <a:lnTo>
                    <a:pt x="1410" y="129"/>
                  </a:lnTo>
                  <a:lnTo>
                    <a:pt x="1510" y="138"/>
                  </a:lnTo>
                  <a:lnTo>
                    <a:pt x="1605" y="138"/>
                  </a:lnTo>
                  <a:lnTo>
                    <a:pt x="1634" y="129"/>
                  </a:lnTo>
                  <a:lnTo>
                    <a:pt x="1709" y="222"/>
                  </a:lnTo>
                  <a:lnTo>
                    <a:pt x="1546" y="218"/>
                  </a:lnTo>
                  <a:lnTo>
                    <a:pt x="1387" y="205"/>
                  </a:lnTo>
                  <a:lnTo>
                    <a:pt x="1262" y="191"/>
                  </a:lnTo>
                  <a:lnTo>
                    <a:pt x="1135" y="167"/>
                  </a:lnTo>
                  <a:lnTo>
                    <a:pt x="999" y="152"/>
                  </a:lnTo>
                  <a:lnTo>
                    <a:pt x="846" y="138"/>
                  </a:lnTo>
                  <a:lnTo>
                    <a:pt x="705" y="125"/>
                  </a:lnTo>
                  <a:lnTo>
                    <a:pt x="564" y="120"/>
                  </a:lnTo>
                  <a:lnTo>
                    <a:pt x="410" y="115"/>
                  </a:lnTo>
                  <a:lnTo>
                    <a:pt x="235" y="115"/>
                  </a:lnTo>
                  <a:lnTo>
                    <a:pt x="126" y="125"/>
                  </a:lnTo>
                  <a:lnTo>
                    <a:pt x="0" y="13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742360" y="4399200"/>
              <a:ext cx="371520" cy="69120"/>
            </a:xfrm>
            <a:custGeom>
              <a:avLst/>
              <a:gdLst/>
              <a:ahLst/>
              <a:rect l="l" t="t" r="r" b="b"/>
              <a:pathLst>
                <a:path w="524" h="134">
                  <a:moveTo>
                    <a:pt x="0" y="134"/>
                  </a:moveTo>
                  <a:lnTo>
                    <a:pt x="43" y="110"/>
                  </a:lnTo>
                  <a:lnTo>
                    <a:pt x="121" y="76"/>
                  </a:lnTo>
                  <a:lnTo>
                    <a:pt x="202" y="39"/>
                  </a:lnTo>
                  <a:lnTo>
                    <a:pt x="271" y="15"/>
                  </a:lnTo>
                  <a:lnTo>
                    <a:pt x="347" y="0"/>
                  </a:lnTo>
                  <a:lnTo>
                    <a:pt x="504" y="0"/>
                  </a:lnTo>
                  <a:lnTo>
                    <a:pt x="524" y="2"/>
                  </a:lnTo>
                  <a:lnTo>
                    <a:pt x="457" y="115"/>
                  </a:lnTo>
                  <a:lnTo>
                    <a:pt x="410" y="115"/>
                  </a:lnTo>
                  <a:lnTo>
                    <a:pt x="235" y="115"/>
                  </a:lnTo>
                  <a:lnTo>
                    <a:pt x="126" y="125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742360" y="4399200"/>
              <a:ext cx="371520" cy="69120"/>
            </a:xfrm>
            <a:custGeom>
              <a:avLst/>
              <a:gdLst/>
              <a:ahLst/>
              <a:rect l="l" t="t" r="r" b="b"/>
              <a:pathLst>
                <a:path w="524" h="134">
                  <a:moveTo>
                    <a:pt x="0" y="134"/>
                  </a:moveTo>
                  <a:lnTo>
                    <a:pt x="43" y="110"/>
                  </a:lnTo>
                  <a:lnTo>
                    <a:pt x="121" y="76"/>
                  </a:lnTo>
                  <a:lnTo>
                    <a:pt x="202" y="39"/>
                  </a:lnTo>
                  <a:lnTo>
                    <a:pt x="271" y="15"/>
                  </a:lnTo>
                  <a:lnTo>
                    <a:pt x="347" y="0"/>
                  </a:lnTo>
                  <a:lnTo>
                    <a:pt x="504" y="0"/>
                  </a:lnTo>
                  <a:lnTo>
                    <a:pt x="524" y="2"/>
                  </a:lnTo>
                  <a:lnTo>
                    <a:pt x="457" y="115"/>
                  </a:lnTo>
                  <a:lnTo>
                    <a:pt x="410" y="115"/>
                  </a:lnTo>
                  <a:lnTo>
                    <a:pt x="235" y="115"/>
                  </a:lnTo>
                  <a:lnTo>
                    <a:pt x="126" y="125"/>
                  </a:lnTo>
                  <a:lnTo>
                    <a:pt x="0" y="13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05440" y="4371480"/>
              <a:ext cx="2880" cy="133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899400" y="4255560"/>
              <a:ext cx="487800" cy="256680"/>
            </a:xfrm>
            <a:custGeom>
              <a:avLst/>
              <a:gdLst/>
              <a:ahLst/>
              <a:rect l="l" t="t" r="r" b="b"/>
              <a:pathLst>
                <a:path w="687" h="501">
                  <a:moveTo>
                    <a:pt x="0" y="423"/>
                  </a:moveTo>
                  <a:lnTo>
                    <a:pt x="53" y="475"/>
                  </a:lnTo>
                  <a:lnTo>
                    <a:pt x="211" y="484"/>
                  </a:lnTo>
                  <a:lnTo>
                    <a:pt x="409" y="488"/>
                  </a:lnTo>
                  <a:lnTo>
                    <a:pt x="570" y="501"/>
                  </a:lnTo>
                  <a:lnTo>
                    <a:pt x="687" y="501"/>
                  </a:lnTo>
                  <a:lnTo>
                    <a:pt x="565" y="0"/>
                  </a:lnTo>
                  <a:lnTo>
                    <a:pt x="370" y="0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899400" y="4255560"/>
              <a:ext cx="487800" cy="256680"/>
            </a:xfrm>
            <a:custGeom>
              <a:avLst/>
              <a:gdLst/>
              <a:ahLst/>
              <a:rect l="l" t="t" r="r" b="b"/>
              <a:pathLst>
                <a:path w="687" h="501">
                  <a:moveTo>
                    <a:pt x="0" y="423"/>
                  </a:moveTo>
                  <a:lnTo>
                    <a:pt x="53" y="475"/>
                  </a:lnTo>
                  <a:lnTo>
                    <a:pt x="211" y="484"/>
                  </a:lnTo>
                  <a:lnTo>
                    <a:pt x="409" y="488"/>
                  </a:lnTo>
                  <a:lnTo>
                    <a:pt x="570" y="501"/>
                  </a:lnTo>
                  <a:lnTo>
                    <a:pt x="687" y="501"/>
                  </a:lnTo>
                  <a:lnTo>
                    <a:pt x="565" y="0"/>
                  </a:lnTo>
                  <a:lnTo>
                    <a:pt x="370" y="0"/>
                  </a:lnTo>
                  <a:lnTo>
                    <a:pt x="0" y="4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6736680" y="4114800"/>
              <a:ext cx="604800" cy="58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870600" y="4307400"/>
              <a:ext cx="67248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85080" y="4499640"/>
              <a:ext cx="1412280" cy="125640"/>
            </a:xfrm>
            <a:custGeom>
              <a:avLst/>
              <a:gdLst/>
              <a:ahLst/>
              <a:rect l="l" t="t" r="r" b="b"/>
              <a:pathLst>
                <a:path w="1991" h="248">
                  <a:moveTo>
                    <a:pt x="5" y="81"/>
                  </a:moveTo>
                  <a:lnTo>
                    <a:pt x="208" y="62"/>
                  </a:lnTo>
                  <a:lnTo>
                    <a:pt x="459" y="38"/>
                  </a:lnTo>
                  <a:lnTo>
                    <a:pt x="702" y="21"/>
                  </a:lnTo>
                  <a:lnTo>
                    <a:pt x="935" y="9"/>
                  </a:lnTo>
                  <a:lnTo>
                    <a:pt x="1159" y="0"/>
                  </a:lnTo>
                  <a:lnTo>
                    <a:pt x="1384" y="9"/>
                  </a:lnTo>
                  <a:lnTo>
                    <a:pt x="1628" y="27"/>
                  </a:lnTo>
                  <a:lnTo>
                    <a:pt x="1766" y="53"/>
                  </a:lnTo>
                  <a:lnTo>
                    <a:pt x="1908" y="81"/>
                  </a:lnTo>
                  <a:lnTo>
                    <a:pt x="1982" y="110"/>
                  </a:lnTo>
                  <a:lnTo>
                    <a:pt x="1991" y="146"/>
                  </a:lnTo>
                  <a:lnTo>
                    <a:pt x="1991" y="209"/>
                  </a:lnTo>
                  <a:lnTo>
                    <a:pt x="1860" y="229"/>
                  </a:lnTo>
                  <a:lnTo>
                    <a:pt x="1728" y="248"/>
                  </a:lnTo>
                  <a:lnTo>
                    <a:pt x="1450" y="248"/>
                  </a:lnTo>
                  <a:lnTo>
                    <a:pt x="1187" y="248"/>
                  </a:lnTo>
                  <a:lnTo>
                    <a:pt x="635" y="229"/>
                  </a:lnTo>
                  <a:lnTo>
                    <a:pt x="329" y="220"/>
                  </a:lnTo>
                  <a:lnTo>
                    <a:pt x="142" y="220"/>
                  </a:lnTo>
                  <a:lnTo>
                    <a:pt x="60" y="205"/>
                  </a:lnTo>
                  <a:lnTo>
                    <a:pt x="24" y="196"/>
                  </a:lnTo>
                  <a:lnTo>
                    <a:pt x="5" y="181"/>
                  </a:lnTo>
                  <a:lnTo>
                    <a:pt x="0" y="158"/>
                  </a:lnTo>
                  <a:lnTo>
                    <a:pt x="0" y="117"/>
                  </a:lnTo>
                  <a:lnTo>
                    <a:pt x="5" y="81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085080" y="4499640"/>
              <a:ext cx="1412280" cy="125640"/>
            </a:xfrm>
            <a:custGeom>
              <a:avLst/>
              <a:gdLst/>
              <a:ahLst/>
              <a:rect l="l" t="t" r="r" b="b"/>
              <a:pathLst>
                <a:path w="1991" h="248">
                  <a:moveTo>
                    <a:pt x="5" y="81"/>
                  </a:moveTo>
                  <a:lnTo>
                    <a:pt x="208" y="62"/>
                  </a:lnTo>
                  <a:lnTo>
                    <a:pt x="459" y="38"/>
                  </a:lnTo>
                  <a:lnTo>
                    <a:pt x="702" y="21"/>
                  </a:lnTo>
                  <a:lnTo>
                    <a:pt x="935" y="9"/>
                  </a:lnTo>
                  <a:lnTo>
                    <a:pt x="1159" y="0"/>
                  </a:lnTo>
                  <a:lnTo>
                    <a:pt x="1384" y="9"/>
                  </a:lnTo>
                  <a:lnTo>
                    <a:pt x="1628" y="27"/>
                  </a:lnTo>
                  <a:lnTo>
                    <a:pt x="1766" y="53"/>
                  </a:lnTo>
                  <a:lnTo>
                    <a:pt x="1908" y="81"/>
                  </a:lnTo>
                  <a:lnTo>
                    <a:pt x="1982" y="110"/>
                  </a:lnTo>
                  <a:lnTo>
                    <a:pt x="1991" y="146"/>
                  </a:lnTo>
                  <a:lnTo>
                    <a:pt x="1991" y="209"/>
                  </a:lnTo>
                  <a:lnTo>
                    <a:pt x="1860" y="229"/>
                  </a:lnTo>
                  <a:lnTo>
                    <a:pt x="1728" y="248"/>
                  </a:lnTo>
                  <a:lnTo>
                    <a:pt x="1450" y="248"/>
                  </a:lnTo>
                  <a:lnTo>
                    <a:pt x="1187" y="248"/>
                  </a:lnTo>
                  <a:lnTo>
                    <a:pt x="635" y="229"/>
                  </a:lnTo>
                  <a:lnTo>
                    <a:pt x="329" y="220"/>
                  </a:lnTo>
                  <a:lnTo>
                    <a:pt x="142" y="220"/>
                  </a:lnTo>
                  <a:lnTo>
                    <a:pt x="60" y="205"/>
                  </a:lnTo>
                  <a:lnTo>
                    <a:pt x="24" y="196"/>
                  </a:lnTo>
                  <a:lnTo>
                    <a:pt x="5" y="181"/>
                  </a:lnTo>
                  <a:lnTo>
                    <a:pt x="0" y="158"/>
                  </a:lnTo>
                  <a:lnTo>
                    <a:pt x="0" y="117"/>
                  </a:lnTo>
                  <a:lnTo>
                    <a:pt x="5" y="8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18640" y="4607280"/>
              <a:ext cx="230040" cy="18000"/>
            </a:xfrm>
            <a:custGeom>
              <a:avLst/>
              <a:gdLst/>
              <a:ahLst/>
              <a:rect l="l" t="t" r="r" b="b"/>
              <a:pathLst>
                <a:path w="322" h="32">
                  <a:moveTo>
                    <a:pt x="0" y="0"/>
                  </a:moveTo>
                  <a:lnTo>
                    <a:pt x="322" y="0"/>
                  </a:lnTo>
                  <a:lnTo>
                    <a:pt x="307" y="17"/>
                  </a:lnTo>
                  <a:lnTo>
                    <a:pt x="296" y="21"/>
                  </a:lnTo>
                  <a:lnTo>
                    <a:pt x="284" y="27"/>
                  </a:lnTo>
                  <a:lnTo>
                    <a:pt x="274" y="30"/>
                  </a:lnTo>
                  <a:lnTo>
                    <a:pt x="255" y="32"/>
                  </a:lnTo>
                  <a:lnTo>
                    <a:pt x="173" y="32"/>
                  </a:lnTo>
                  <a:lnTo>
                    <a:pt x="109" y="30"/>
                  </a:lnTo>
                  <a:lnTo>
                    <a:pt x="84" y="27"/>
                  </a:lnTo>
                  <a:lnTo>
                    <a:pt x="65" y="26"/>
                  </a:lnTo>
                  <a:lnTo>
                    <a:pt x="48" y="21"/>
                  </a:lnTo>
                  <a:lnTo>
                    <a:pt x="2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118640" y="4607280"/>
              <a:ext cx="230040" cy="18000"/>
            </a:xfrm>
            <a:custGeom>
              <a:avLst/>
              <a:gdLst/>
              <a:ahLst/>
              <a:rect l="l" t="t" r="r" b="b"/>
              <a:pathLst>
                <a:path w="322" h="32">
                  <a:moveTo>
                    <a:pt x="0" y="0"/>
                  </a:moveTo>
                  <a:lnTo>
                    <a:pt x="322" y="0"/>
                  </a:lnTo>
                  <a:lnTo>
                    <a:pt x="307" y="17"/>
                  </a:lnTo>
                  <a:lnTo>
                    <a:pt x="296" y="21"/>
                  </a:lnTo>
                  <a:lnTo>
                    <a:pt x="284" y="27"/>
                  </a:lnTo>
                  <a:lnTo>
                    <a:pt x="274" y="30"/>
                  </a:lnTo>
                  <a:lnTo>
                    <a:pt x="255" y="32"/>
                  </a:lnTo>
                  <a:lnTo>
                    <a:pt x="173" y="32"/>
                  </a:lnTo>
                  <a:lnTo>
                    <a:pt x="109" y="30"/>
                  </a:lnTo>
                  <a:lnTo>
                    <a:pt x="84" y="27"/>
                  </a:lnTo>
                  <a:lnTo>
                    <a:pt x="65" y="26"/>
                  </a:lnTo>
                  <a:lnTo>
                    <a:pt x="48" y="21"/>
                  </a:lnTo>
                  <a:lnTo>
                    <a:pt x="27" y="13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73880" y="4446000"/>
              <a:ext cx="2880" cy="256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444440" y="4474080"/>
              <a:ext cx="2880" cy="20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230160" y="4638240"/>
              <a:ext cx="152280" cy="38880"/>
            </a:xfrm>
            <a:custGeom>
              <a:avLst/>
              <a:gdLst/>
              <a:ahLst/>
              <a:rect l="l" t="t" r="r" b="b"/>
              <a:pathLst>
                <a:path w="214" h="74">
                  <a:moveTo>
                    <a:pt x="212" y="0"/>
                  </a:moveTo>
                  <a:lnTo>
                    <a:pt x="61" y="10"/>
                  </a:lnTo>
                  <a:lnTo>
                    <a:pt x="0" y="37"/>
                  </a:lnTo>
                  <a:lnTo>
                    <a:pt x="60" y="62"/>
                  </a:lnTo>
                  <a:lnTo>
                    <a:pt x="208" y="74"/>
                  </a:lnTo>
                  <a:lnTo>
                    <a:pt x="214" y="37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230160" y="4638240"/>
              <a:ext cx="152280" cy="38880"/>
            </a:xfrm>
            <a:custGeom>
              <a:avLst/>
              <a:gdLst/>
              <a:ahLst/>
              <a:rect l="l" t="t" r="r" b="b"/>
              <a:pathLst>
                <a:path w="214" h="74">
                  <a:moveTo>
                    <a:pt x="212" y="0"/>
                  </a:moveTo>
                  <a:lnTo>
                    <a:pt x="61" y="10"/>
                  </a:lnTo>
                  <a:lnTo>
                    <a:pt x="0" y="37"/>
                  </a:lnTo>
                  <a:lnTo>
                    <a:pt x="60" y="62"/>
                  </a:lnTo>
                  <a:lnTo>
                    <a:pt x="208" y="74"/>
                  </a:lnTo>
                  <a:lnTo>
                    <a:pt x="214" y="37"/>
                  </a:lnTo>
                  <a:lnTo>
                    <a:pt x="212" y="0"/>
                  </a:lnTo>
                  <a:lnTo>
                    <a:pt x="21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378840" y="4638240"/>
              <a:ext cx="396360" cy="38880"/>
            </a:xfrm>
            <a:custGeom>
              <a:avLst/>
              <a:gdLst/>
              <a:ahLst/>
              <a:rect l="l" t="t" r="r" b="b"/>
              <a:pathLst>
                <a:path w="560" h="74">
                  <a:moveTo>
                    <a:pt x="0" y="0"/>
                  </a:moveTo>
                  <a:lnTo>
                    <a:pt x="362" y="0"/>
                  </a:lnTo>
                  <a:lnTo>
                    <a:pt x="396" y="15"/>
                  </a:lnTo>
                  <a:lnTo>
                    <a:pt x="425" y="28"/>
                  </a:lnTo>
                  <a:lnTo>
                    <a:pt x="475" y="28"/>
                  </a:lnTo>
                  <a:lnTo>
                    <a:pt x="488" y="15"/>
                  </a:lnTo>
                  <a:lnTo>
                    <a:pt x="560" y="15"/>
                  </a:lnTo>
                  <a:lnTo>
                    <a:pt x="560" y="69"/>
                  </a:lnTo>
                  <a:lnTo>
                    <a:pt x="488" y="69"/>
                  </a:lnTo>
                  <a:lnTo>
                    <a:pt x="478" y="53"/>
                  </a:lnTo>
                  <a:lnTo>
                    <a:pt x="426" y="53"/>
                  </a:lnTo>
                  <a:lnTo>
                    <a:pt x="392" y="65"/>
                  </a:lnTo>
                  <a:lnTo>
                    <a:pt x="362" y="74"/>
                  </a:lnTo>
                  <a:lnTo>
                    <a:pt x="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378840" y="4638240"/>
              <a:ext cx="396360" cy="38880"/>
            </a:xfrm>
            <a:custGeom>
              <a:avLst/>
              <a:gdLst/>
              <a:ahLst/>
              <a:rect l="l" t="t" r="r" b="b"/>
              <a:pathLst>
                <a:path w="560" h="74">
                  <a:moveTo>
                    <a:pt x="0" y="0"/>
                  </a:moveTo>
                  <a:lnTo>
                    <a:pt x="362" y="0"/>
                  </a:lnTo>
                  <a:lnTo>
                    <a:pt x="396" y="15"/>
                  </a:lnTo>
                  <a:lnTo>
                    <a:pt x="425" y="28"/>
                  </a:lnTo>
                  <a:lnTo>
                    <a:pt x="475" y="28"/>
                  </a:lnTo>
                  <a:lnTo>
                    <a:pt x="488" y="15"/>
                  </a:lnTo>
                  <a:lnTo>
                    <a:pt x="560" y="15"/>
                  </a:lnTo>
                  <a:lnTo>
                    <a:pt x="560" y="69"/>
                  </a:lnTo>
                  <a:lnTo>
                    <a:pt x="488" y="69"/>
                  </a:lnTo>
                  <a:lnTo>
                    <a:pt x="478" y="53"/>
                  </a:lnTo>
                  <a:lnTo>
                    <a:pt x="426" y="53"/>
                  </a:lnTo>
                  <a:lnTo>
                    <a:pt x="392" y="65"/>
                  </a:lnTo>
                  <a:lnTo>
                    <a:pt x="362" y="74"/>
                  </a:lnTo>
                  <a:lnTo>
                    <a:pt x="0" y="7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666120" y="4628160"/>
              <a:ext cx="88200" cy="25560"/>
            </a:xfrm>
            <a:custGeom>
              <a:avLst/>
              <a:gdLst/>
              <a:ahLst/>
              <a:rect l="l" t="t" r="r" b="b"/>
              <a:pathLst>
                <a:path w="125" h="51">
                  <a:moveTo>
                    <a:pt x="0" y="38"/>
                  </a:moveTo>
                  <a:lnTo>
                    <a:pt x="55" y="0"/>
                  </a:lnTo>
                  <a:lnTo>
                    <a:pt x="125" y="0"/>
                  </a:lnTo>
                  <a:lnTo>
                    <a:pt x="83" y="51"/>
                  </a:lnTo>
                  <a:lnTo>
                    <a:pt x="20" y="5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666120" y="4628160"/>
              <a:ext cx="88200" cy="25560"/>
            </a:xfrm>
            <a:custGeom>
              <a:avLst/>
              <a:gdLst/>
              <a:ahLst/>
              <a:rect l="l" t="t" r="r" b="b"/>
              <a:pathLst>
                <a:path w="125" h="51">
                  <a:moveTo>
                    <a:pt x="0" y="38"/>
                  </a:moveTo>
                  <a:lnTo>
                    <a:pt x="55" y="0"/>
                  </a:lnTo>
                  <a:lnTo>
                    <a:pt x="125" y="0"/>
                  </a:lnTo>
                  <a:lnTo>
                    <a:pt x="83" y="51"/>
                  </a:lnTo>
                  <a:lnTo>
                    <a:pt x="20" y="51"/>
                  </a:lnTo>
                  <a:lnTo>
                    <a:pt x="0" y="3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662160" y="4666680"/>
              <a:ext cx="81720" cy="20160"/>
            </a:xfrm>
            <a:custGeom>
              <a:avLst/>
              <a:gdLst/>
              <a:ahLst/>
              <a:rect l="l" t="t" r="r" b="b"/>
              <a:pathLst>
                <a:path w="119" h="40">
                  <a:moveTo>
                    <a:pt x="0" y="11"/>
                  </a:moveTo>
                  <a:lnTo>
                    <a:pt x="52" y="40"/>
                  </a:lnTo>
                  <a:lnTo>
                    <a:pt x="119" y="40"/>
                  </a:lnTo>
                  <a:lnTo>
                    <a:pt x="78" y="0"/>
                  </a:lnTo>
                  <a:lnTo>
                    <a:pt x="1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662160" y="4666680"/>
              <a:ext cx="81720" cy="20160"/>
            </a:xfrm>
            <a:custGeom>
              <a:avLst/>
              <a:gdLst/>
              <a:ahLst/>
              <a:rect l="l" t="t" r="r" b="b"/>
              <a:pathLst>
                <a:path w="119" h="40">
                  <a:moveTo>
                    <a:pt x="0" y="11"/>
                  </a:moveTo>
                  <a:lnTo>
                    <a:pt x="52" y="40"/>
                  </a:lnTo>
                  <a:lnTo>
                    <a:pt x="119" y="40"/>
                  </a:lnTo>
                  <a:lnTo>
                    <a:pt x="78" y="0"/>
                  </a:lnTo>
                  <a:lnTo>
                    <a:pt x="17" y="0"/>
                  </a:lnTo>
                  <a:lnTo>
                    <a:pt x="0" y="1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474240" y="4607280"/>
              <a:ext cx="3960" cy="100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576840" y="4604760"/>
              <a:ext cx="3960" cy="10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899400" y="4599720"/>
              <a:ext cx="2880" cy="10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361200" y="4584600"/>
              <a:ext cx="155520" cy="38160"/>
            </a:xfrm>
            <a:custGeom>
              <a:avLst/>
              <a:gdLst/>
              <a:ahLst/>
              <a:rect l="l" t="t" r="r" b="b"/>
              <a:pathLst>
                <a:path w="220" h="73">
                  <a:moveTo>
                    <a:pt x="213" y="0"/>
                  </a:moveTo>
                  <a:lnTo>
                    <a:pt x="61" y="10"/>
                  </a:lnTo>
                  <a:lnTo>
                    <a:pt x="0" y="36"/>
                  </a:lnTo>
                  <a:lnTo>
                    <a:pt x="63" y="62"/>
                  </a:lnTo>
                  <a:lnTo>
                    <a:pt x="218" y="73"/>
                  </a:lnTo>
                  <a:lnTo>
                    <a:pt x="220" y="73"/>
                  </a:lnTo>
                  <a:lnTo>
                    <a:pt x="218" y="36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361200" y="4584600"/>
              <a:ext cx="155520" cy="38160"/>
            </a:xfrm>
            <a:custGeom>
              <a:avLst/>
              <a:gdLst/>
              <a:ahLst/>
              <a:rect l="l" t="t" r="r" b="b"/>
              <a:pathLst>
                <a:path w="220" h="73">
                  <a:moveTo>
                    <a:pt x="213" y="0"/>
                  </a:moveTo>
                  <a:lnTo>
                    <a:pt x="61" y="10"/>
                  </a:lnTo>
                  <a:lnTo>
                    <a:pt x="0" y="36"/>
                  </a:lnTo>
                  <a:lnTo>
                    <a:pt x="63" y="62"/>
                  </a:lnTo>
                  <a:lnTo>
                    <a:pt x="218" y="73"/>
                  </a:lnTo>
                  <a:lnTo>
                    <a:pt x="220" y="73"/>
                  </a:lnTo>
                  <a:lnTo>
                    <a:pt x="218" y="36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13480" y="4584600"/>
              <a:ext cx="378720" cy="40680"/>
            </a:xfrm>
            <a:custGeom>
              <a:avLst/>
              <a:gdLst/>
              <a:ahLst/>
              <a:rect l="l" t="t" r="r" b="b"/>
              <a:pathLst>
                <a:path w="533" h="79">
                  <a:moveTo>
                    <a:pt x="0" y="4"/>
                  </a:moveTo>
                  <a:lnTo>
                    <a:pt x="84" y="4"/>
                  </a:lnTo>
                  <a:lnTo>
                    <a:pt x="120" y="5"/>
                  </a:lnTo>
                  <a:lnTo>
                    <a:pt x="169" y="12"/>
                  </a:lnTo>
                  <a:lnTo>
                    <a:pt x="206" y="21"/>
                  </a:lnTo>
                  <a:lnTo>
                    <a:pt x="244" y="20"/>
                  </a:lnTo>
                  <a:lnTo>
                    <a:pt x="271" y="0"/>
                  </a:lnTo>
                  <a:lnTo>
                    <a:pt x="361" y="0"/>
                  </a:lnTo>
                  <a:lnTo>
                    <a:pt x="413" y="0"/>
                  </a:lnTo>
                  <a:lnTo>
                    <a:pt x="446" y="17"/>
                  </a:lnTo>
                  <a:lnTo>
                    <a:pt x="533" y="17"/>
                  </a:lnTo>
                  <a:lnTo>
                    <a:pt x="533" y="63"/>
                  </a:lnTo>
                  <a:lnTo>
                    <a:pt x="446" y="63"/>
                  </a:lnTo>
                  <a:lnTo>
                    <a:pt x="412" y="79"/>
                  </a:lnTo>
                  <a:lnTo>
                    <a:pt x="270" y="79"/>
                  </a:lnTo>
                  <a:lnTo>
                    <a:pt x="243" y="59"/>
                  </a:lnTo>
                  <a:lnTo>
                    <a:pt x="211" y="59"/>
                  </a:lnTo>
                  <a:lnTo>
                    <a:pt x="179" y="63"/>
                  </a:lnTo>
                  <a:lnTo>
                    <a:pt x="133" y="70"/>
                  </a:lnTo>
                  <a:lnTo>
                    <a:pt x="84" y="71"/>
                  </a:lnTo>
                  <a:lnTo>
                    <a:pt x="0" y="7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513480" y="4584600"/>
              <a:ext cx="378720" cy="40680"/>
            </a:xfrm>
            <a:custGeom>
              <a:avLst/>
              <a:gdLst/>
              <a:ahLst/>
              <a:rect l="l" t="t" r="r" b="b"/>
              <a:pathLst>
                <a:path w="533" h="79">
                  <a:moveTo>
                    <a:pt x="0" y="4"/>
                  </a:moveTo>
                  <a:lnTo>
                    <a:pt x="84" y="4"/>
                  </a:lnTo>
                  <a:lnTo>
                    <a:pt x="120" y="5"/>
                  </a:lnTo>
                  <a:lnTo>
                    <a:pt x="169" y="12"/>
                  </a:lnTo>
                  <a:lnTo>
                    <a:pt x="206" y="21"/>
                  </a:lnTo>
                  <a:lnTo>
                    <a:pt x="244" y="20"/>
                  </a:lnTo>
                  <a:lnTo>
                    <a:pt x="271" y="0"/>
                  </a:lnTo>
                  <a:lnTo>
                    <a:pt x="361" y="0"/>
                  </a:lnTo>
                  <a:lnTo>
                    <a:pt x="413" y="0"/>
                  </a:lnTo>
                  <a:lnTo>
                    <a:pt x="446" y="17"/>
                  </a:lnTo>
                  <a:lnTo>
                    <a:pt x="533" y="17"/>
                  </a:lnTo>
                  <a:lnTo>
                    <a:pt x="533" y="63"/>
                  </a:lnTo>
                  <a:lnTo>
                    <a:pt x="446" y="63"/>
                  </a:lnTo>
                  <a:lnTo>
                    <a:pt x="412" y="79"/>
                  </a:lnTo>
                  <a:lnTo>
                    <a:pt x="270" y="79"/>
                  </a:lnTo>
                  <a:lnTo>
                    <a:pt x="243" y="59"/>
                  </a:lnTo>
                  <a:lnTo>
                    <a:pt x="211" y="59"/>
                  </a:lnTo>
                  <a:lnTo>
                    <a:pt x="179" y="63"/>
                  </a:lnTo>
                  <a:lnTo>
                    <a:pt x="133" y="70"/>
                  </a:lnTo>
                  <a:lnTo>
                    <a:pt x="84" y="71"/>
                  </a:lnTo>
                  <a:lnTo>
                    <a:pt x="0" y="73"/>
                  </a:lnTo>
                  <a:lnTo>
                    <a:pt x="0" y="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729480" y="4546080"/>
              <a:ext cx="2880" cy="120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782400" y="4543200"/>
              <a:ext cx="3960" cy="123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800600" y="1828800"/>
            <a:ext cx="1143000" cy="1315800"/>
            <a:chOff x="4800600" y="1828800"/>
            <a:chExt cx="1143000" cy="1315800"/>
          </a:xfrm>
        </p:grpSpPr>
        <p:sp>
          <p:nvSpPr>
            <p:cNvPr id="826" name=""/>
            <p:cNvSpPr/>
            <p:nvPr/>
          </p:nvSpPr>
          <p:spPr>
            <a:xfrm>
              <a:off x="4800600" y="1828800"/>
              <a:ext cx="1143000" cy="1006200"/>
            </a:xfrm>
            <a:custGeom>
              <a:avLst/>
              <a:gdLst/>
              <a:ahLst/>
              <a:rect l="l" t="t" r="r" b="b"/>
              <a:pathLst>
                <a:path w="2673" h="2673">
                  <a:moveTo>
                    <a:pt x="1360" y="2673"/>
                  </a:moveTo>
                  <a:lnTo>
                    <a:pt x="1292" y="2673"/>
                  </a:lnTo>
                  <a:lnTo>
                    <a:pt x="1224" y="2669"/>
                  </a:lnTo>
                  <a:lnTo>
                    <a:pt x="1155" y="2661"/>
                  </a:lnTo>
                  <a:lnTo>
                    <a:pt x="1090" y="2650"/>
                  </a:lnTo>
                  <a:lnTo>
                    <a:pt x="1025" y="2637"/>
                  </a:lnTo>
                  <a:lnTo>
                    <a:pt x="963" y="2619"/>
                  </a:lnTo>
                  <a:lnTo>
                    <a:pt x="897" y="2599"/>
                  </a:lnTo>
                  <a:lnTo>
                    <a:pt x="836" y="2576"/>
                  </a:lnTo>
                  <a:lnTo>
                    <a:pt x="779" y="2550"/>
                  </a:lnTo>
                  <a:lnTo>
                    <a:pt x="719" y="2522"/>
                  </a:lnTo>
                  <a:lnTo>
                    <a:pt x="664" y="2490"/>
                  </a:lnTo>
                  <a:lnTo>
                    <a:pt x="609" y="2457"/>
                  </a:lnTo>
                  <a:lnTo>
                    <a:pt x="555" y="2421"/>
                  </a:lnTo>
                  <a:lnTo>
                    <a:pt x="505" y="2380"/>
                  </a:lnTo>
                  <a:lnTo>
                    <a:pt x="454" y="2341"/>
                  </a:lnTo>
                  <a:lnTo>
                    <a:pt x="407" y="2296"/>
                  </a:lnTo>
                  <a:lnTo>
                    <a:pt x="362" y="2251"/>
                  </a:lnTo>
                  <a:lnTo>
                    <a:pt x="320" y="2202"/>
                  </a:lnTo>
                  <a:lnTo>
                    <a:pt x="278" y="2151"/>
                  </a:lnTo>
                  <a:lnTo>
                    <a:pt x="241" y="2100"/>
                  </a:lnTo>
                  <a:lnTo>
                    <a:pt x="204" y="2045"/>
                  </a:lnTo>
                  <a:lnTo>
                    <a:pt x="173" y="1992"/>
                  </a:lnTo>
                  <a:lnTo>
                    <a:pt x="141" y="1934"/>
                  </a:lnTo>
                  <a:lnTo>
                    <a:pt x="115" y="1874"/>
                  </a:lnTo>
                  <a:lnTo>
                    <a:pt x="90" y="1816"/>
                  </a:lnTo>
                  <a:lnTo>
                    <a:pt x="67" y="1754"/>
                  </a:lnTo>
                  <a:lnTo>
                    <a:pt x="46" y="1690"/>
                  </a:lnTo>
                  <a:lnTo>
                    <a:pt x="32" y="1626"/>
                  </a:lnTo>
                  <a:lnTo>
                    <a:pt x="19" y="1561"/>
                  </a:lnTo>
                  <a:lnTo>
                    <a:pt x="10" y="1495"/>
                  </a:lnTo>
                  <a:lnTo>
                    <a:pt x="3" y="1426"/>
                  </a:lnTo>
                  <a:lnTo>
                    <a:pt x="0" y="1360"/>
                  </a:lnTo>
                  <a:lnTo>
                    <a:pt x="0" y="1290"/>
                  </a:lnTo>
                  <a:lnTo>
                    <a:pt x="6" y="1222"/>
                  </a:lnTo>
                  <a:lnTo>
                    <a:pt x="12" y="1155"/>
                  </a:lnTo>
                  <a:lnTo>
                    <a:pt x="23" y="1089"/>
                  </a:lnTo>
                  <a:lnTo>
                    <a:pt x="38" y="1023"/>
                  </a:lnTo>
                  <a:lnTo>
                    <a:pt x="55" y="961"/>
                  </a:lnTo>
                  <a:lnTo>
                    <a:pt x="74" y="899"/>
                  </a:lnTo>
                  <a:lnTo>
                    <a:pt x="97" y="838"/>
                  </a:lnTo>
                  <a:lnTo>
                    <a:pt x="123" y="777"/>
                  </a:lnTo>
                  <a:lnTo>
                    <a:pt x="152" y="720"/>
                  </a:lnTo>
                  <a:lnTo>
                    <a:pt x="183" y="663"/>
                  </a:lnTo>
                  <a:lnTo>
                    <a:pt x="218" y="607"/>
                  </a:lnTo>
                  <a:lnTo>
                    <a:pt x="255" y="555"/>
                  </a:lnTo>
                  <a:lnTo>
                    <a:pt x="293" y="503"/>
                  </a:lnTo>
                  <a:lnTo>
                    <a:pt x="333" y="454"/>
                  </a:lnTo>
                  <a:lnTo>
                    <a:pt x="378" y="407"/>
                  </a:lnTo>
                  <a:lnTo>
                    <a:pt x="423" y="362"/>
                  </a:lnTo>
                  <a:lnTo>
                    <a:pt x="471" y="320"/>
                  </a:lnTo>
                  <a:lnTo>
                    <a:pt x="520" y="278"/>
                  </a:lnTo>
                  <a:lnTo>
                    <a:pt x="573" y="241"/>
                  </a:lnTo>
                  <a:lnTo>
                    <a:pt x="628" y="204"/>
                  </a:lnTo>
                  <a:lnTo>
                    <a:pt x="681" y="173"/>
                  </a:lnTo>
                  <a:lnTo>
                    <a:pt x="739" y="141"/>
                  </a:lnTo>
                  <a:lnTo>
                    <a:pt x="799" y="115"/>
                  </a:lnTo>
                  <a:lnTo>
                    <a:pt x="858" y="90"/>
                  </a:lnTo>
                  <a:lnTo>
                    <a:pt x="919" y="67"/>
                  </a:lnTo>
                  <a:lnTo>
                    <a:pt x="983" y="46"/>
                  </a:lnTo>
                  <a:lnTo>
                    <a:pt x="1048" y="32"/>
                  </a:lnTo>
                  <a:lnTo>
                    <a:pt x="1113" y="19"/>
                  </a:lnTo>
                  <a:lnTo>
                    <a:pt x="1180" y="10"/>
                  </a:lnTo>
                  <a:lnTo>
                    <a:pt x="1248" y="3"/>
                  </a:lnTo>
                  <a:lnTo>
                    <a:pt x="1315" y="0"/>
                  </a:lnTo>
                  <a:lnTo>
                    <a:pt x="1384" y="0"/>
                  </a:lnTo>
                  <a:lnTo>
                    <a:pt x="1453" y="6"/>
                  </a:lnTo>
                  <a:lnTo>
                    <a:pt x="1519" y="12"/>
                  </a:lnTo>
                  <a:lnTo>
                    <a:pt x="1586" y="23"/>
                  </a:lnTo>
                  <a:lnTo>
                    <a:pt x="1651" y="36"/>
                  </a:lnTo>
                  <a:lnTo>
                    <a:pt x="1713" y="55"/>
                  </a:lnTo>
                  <a:lnTo>
                    <a:pt x="1776" y="75"/>
                  </a:lnTo>
                  <a:lnTo>
                    <a:pt x="1837" y="97"/>
                  </a:lnTo>
                  <a:lnTo>
                    <a:pt x="1898" y="123"/>
                  </a:lnTo>
                  <a:lnTo>
                    <a:pt x="1954" y="152"/>
                  </a:lnTo>
                  <a:lnTo>
                    <a:pt x="2011" y="184"/>
                  </a:lnTo>
                  <a:lnTo>
                    <a:pt x="2066" y="218"/>
                  </a:lnTo>
                  <a:lnTo>
                    <a:pt x="2121" y="252"/>
                  </a:lnTo>
                  <a:lnTo>
                    <a:pt x="2170" y="293"/>
                  </a:lnTo>
                  <a:lnTo>
                    <a:pt x="2221" y="333"/>
                  </a:lnTo>
                  <a:lnTo>
                    <a:pt x="2266" y="378"/>
                  </a:lnTo>
                  <a:lnTo>
                    <a:pt x="2312" y="423"/>
                  </a:lnTo>
                  <a:lnTo>
                    <a:pt x="2354" y="471"/>
                  </a:lnTo>
                  <a:lnTo>
                    <a:pt x="2395" y="522"/>
                  </a:lnTo>
                  <a:lnTo>
                    <a:pt x="2432" y="573"/>
                  </a:lnTo>
                  <a:lnTo>
                    <a:pt x="2467" y="628"/>
                  </a:lnTo>
                  <a:lnTo>
                    <a:pt x="2502" y="681"/>
                  </a:lnTo>
                  <a:lnTo>
                    <a:pt x="2533" y="739"/>
                  </a:lnTo>
                  <a:lnTo>
                    <a:pt x="2560" y="799"/>
                  </a:lnTo>
                  <a:lnTo>
                    <a:pt x="2585" y="858"/>
                  </a:lnTo>
                  <a:lnTo>
                    <a:pt x="2605" y="921"/>
                  </a:lnTo>
                  <a:lnTo>
                    <a:pt x="2625" y="983"/>
                  </a:lnTo>
                  <a:lnTo>
                    <a:pt x="2640" y="1048"/>
                  </a:lnTo>
                  <a:lnTo>
                    <a:pt x="2654" y="1113"/>
                  </a:lnTo>
                  <a:lnTo>
                    <a:pt x="2663" y="1180"/>
                  </a:lnTo>
                  <a:lnTo>
                    <a:pt x="2669" y="1248"/>
                  </a:lnTo>
                  <a:lnTo>
                    <a:pt x="2673" y="1316"/>
                  </a:lnTo>
                  <a:lnTo>
                    <a:pt x="2673" y="1384"/>
                  </a:lnTo>
                  <a:lnTo>
                    <a:pt x="2667" y="1452"/>
                  </a:lnTo>
                  <a:lnTo>
                    <a:pt x="2660" y="1519"/>
                  </a:lnTo>
                  <a:lnTo>
                    <a:pt x="2650" y="1586"/>
                  </a:lnTo>
                  <a:lnTo>
                    <a:pt x="2635" y="1650"/>
                  </a:lnTo>
                  <a:lnTo>
                    <a:pt x="2619" y="1712"/>
                  </a:lnTo>
                  <a:lnTo>
                    <a:pt x="2599" y="1777"/>
                  </a:lnTo>
                  <a:lnTo>
                    <a:pt x="2576" y="1838"/>
                  </a:lnTo>
                  <a:lnTo>
                    <a:pt x="2550" y="1896"/>
                  </a:lnTo>
                  <a:lnTo>
                    <a:pt x="2521" y="1955"/>
                  </a:lnTo>
                  <a:lnTo>
                    <a:pt x="2490" y="2011"/>
                  </a:lnTo>
                  <a:lnTo>
                    <a:pt x="2456" y="2066"/>
                  </a:lnTo>
                  <a:lnTo>
                    <a:pt x="2419" y="2119"/>
                  </a:lnTo>
                  <a:lnTo>
                    <a:pt x="2382" y="2171"/>
                  </a:lnTo>
                  <a:lnTo>
                    <a:pt x="2340" y="2219"/>
                  </a:lnTo>
                  <a:lnTo>
                    <a:pt x="2296" y="2266"/>
                  </a:lnTo>
                  <a:lnTo>
                    <a:pt x="2251" y="2312"/>
                  </a:lnTo>
                  <a:lnTo>
                    <a:pt x="2203" y="2353"/>
                  </a:lnTo>
                  <a:lnTo>
                    <a:pt x="2153" y="2395"/>
                  </a:lnTo>
                  <a:lnTo>
                    <a:pt x="2102" y="2432"/>
                  </a:lnTo>
                  <a:lnTo>
                    <a:pt x="2048" y="2469"/>
                  </a:lnTo>
                  <a:lnTo>
                    <a:pt x="1993" y="2502"/>
                  </a:lnTo>
                  <a:lnTo>
                    <a:pt x="1934" y="2532"/>
                  </a:lnTo>
                  <a:lnTo>
                    <a:pt x="1877" y="2558"/>
                  </a:lnTo>
                  <a:lnTo>
                    <a:pt x="1816" y="2583"/>
                  </a:lnTo>
                  <a:lnTo>
                    <a:pt x="1756" y="2606"/>
                  </a:lnTo>
                  <a:lnTo>
                    <a:pt x="1693" y="2627"/>
                  </a:lnTo>
                  <a:lnTo>
                    <a:pt x="1628" y="2641"/>
                  </a:lnTo>
                  <a:lnTo>
                    <a:pt x="1563" y="2654"/>
                  </a:lnTo>
                  <a:lnTo>
                    <a:pt x="1496" y="2664"/>
                  </a:lnTo>
                  <a:lnTo>
                    <a:pt x="1428" y="2670"/>
                  </a:lnTo>
                  <a:lnTo>
                    <a:pt x="1360" y="2673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800600" y="1828800"/>
              <a:ext cx="1143000" cy="1006200"/>
            </a:xfrm>
            <a:custGeom>
              <a:avLst/>
              <a:gdLst/>
              <a:ahLst/>
              <a:rect l="l" t="t" r="r" b="b"/>
              <a:pathLst>
                <a:path w="2673" h="2673">
                  <a:moveTo>
                    <a:pt x="1360" y="2673"/>
                  </a:moveTo>
                  <a:lnTo>
                    <a:pt x="1292" y="2673"/>
                  </a:lnTo>
                  <a:lnTo>
                    <a:pt x="1224" y="2669"/>
                  </a:lnTo>
                  <a:lnTo>
                    <a:pt x="1155" y="2661"/>
                  </a:lnTo>
                  <a:lnTo>
                    <a:pt x="1090" y="2650"/>
                  </a:lnTo>
                  <a:lnTo>
                    <a:pt x="1025" y="2637"/>
                  </a:lnTo>
                  <a:lnTo>
                    <a:pt x="963" y="2619"/>
                  </a:lnTo>
                  <a:lnTo>
                    <a:pt x="897" y="2599"/>
                  </a:lnTo>
                  <a:lnTo>
                    <a:pt x="836" y="2576"/>
                  </a:lnTo>
                  <a:lnTo>
                    <a:pt x="779" y="2550"/>
                  </a:lnTo>
                  <a:lnTo>
                    <a:pt x="719" y="2522"/>
                  </a:lnTo>
                  <a:lnTo>
                    <a:pt x="664" y="2490"/>
                  </a:lnTo>
                  <a:lnTo>
                    <a:pt x="609" y="2457"/>
                  </a:lnTo>
                  <a:lnTo>
                    <a:pt x="555" y="2421"/>
                  </a:lnTo>
                  <a:lnTo>
                    <a:pt x="505" y="2380"/>
                  </a:lnTo>
                  <a:lnTo>
                    <a:pt x="454" y="2341"/>
                  </a:lnTo>
                  <a:lnTo>
                    <a:pt x="407" y="2296"/>
                  </a:lnTo>
                  <a:lnTo>
                    <a:pt x="362" y="2251"/>
                  </a:lnTo>
                  <a:lnTo>
                    <a:pt x="320" y="2202"/>
                  </a:lnTo>
                  <a:lnTo>
                    <a:pt x="278" y="2151"/>
                  </a:lnTo>
                  <a:lnTo>
                    <a:pt x="241" y="2100"/>
                  </a:lnTo>
                  <a:lnTo>
                    <a:pt x="204" y="2045"/>
                  </a:lnTo>
                  <a:lnTo>
                    <a:pt x="173" y="1992"/>
                  </a:lnTo>
                  <a:lnTo>
                    <a:pt x="141" y="1934"/>
                  </a:lnTo>
                  <a:lnTo>
                    <a:pt x="115" y="1874"/>
                  </a:lnTo>
                  <a:lnTo>
                    <a:pt x="90" y="1816"/>
                  </a:lnTo>
                  <a:lnTo>
                    <a:pt x="67" y="1754"/>
                  </a:lnTo>
                  <a:lnTo>
                    <a:pt x="46" y="1690"/>
                  </a:lnTo>
                  <a:lnTo>
                    <a:pt x="32" y="1626"/>
                  </a:lnTo>
                  <a:lnTo>
                    <a:pt x="19" y="1561"/>
                  </a:lnTo>
                  <a:lnTo>
                    <a:pt x="10" y="1495"/>
                  </a:lnTo>
                  <a:lnTo>
                    <a:pt x="3" y="1426"/>
                  </a:lnTo>
                  <a:lnTo>
                    <a:pt x="0" y="1360"/>
                  </a:lnTo>
                  <a:lnTo>
                    <a:pt x="0" y="1290"/>
                  </a:lnTo>
                  <a:lnTo>
                    <a:pt x="6" y="1222"/>
                  </a:lnTo>
                  <a:lnTo>
                    <a:pt x="12" y="1155"/>
                  </a:lnTo>
                  <a:lnTo>
                    <a:pt x="23" y="1089"/>
                  </a:lnTo>
                  <a:lnTo>
                    <a:pt x="38" y="1023"/>
                  </a:lnTo>
                  <a:lnTo>
                    <a:pt x="55" y="961"/>
                  </a:lnTo>
                  <a:lnTo>
                    <a:pt x="74" y="899"/>
                  </a:lnTo>
                  <a:lnTo>
                    <a:pt x="97" y="838"/>
                  </a:lnTo>
                  <a:lnTo>
                    <a:pt x="123" y="777"/>
                  </a:lnTo>
                  <a:lnTo>
                    <a:pt x="152" y="720"/>
                  </a:lnTo>
                  <a:lnTo>
                    <a:pt x="183" y="663"/>
                  </a:lnTo>
                  <a:lnTo>
                    <a:pt x="218" y="607"/>
                  </a:lnTo>
                  <a:lnTo>
                    <a:pt x="255" y="555"/>
                  </a:lnTo>
                  <a:lnTo>
                    <a:pt x="293" y="503"/>
                  </a:lnTo>
                  <a:lnTo>
                    <a:pt x="333" y="454"/>
                  </a:lnTo>
                  <a:lnTo>
                    <a:pt x="378" y="407"/>
                  </a:lnTo>
                  <a:lnTo>
                    <a:pt x="423" y="362"/>
                  </a:lnTo>
                  <a:lnTo>
                    <a:pt x="471" y="320"/>
                  </a:lnTo>
                  <a:lnTo>
                    <a:pt x="520" y="278"/>
                  </a:lnTo>
                  <a:lnTo>
                    <a:pt x="573" y="241"/>
                  </a:lnTo>
                  <a:lnTo>
                    <a:pt x="628" y="204"/>
                  </a:lnTo>
                  <a:lnTo>
                    <a:pt x="681" y="173"/>
                  </a:lnTo>
                  <a:lnTo>
                    <a:pt x="739" y="141"/>
                  </a:lnTo>
                  <a:lnTo>
                    <a:pt x="799" y="115"/>
                  </a:lnTo>
                  <a:lnTo>
                    <a:pt x="858" y="90"/>
                  </a:lnTo>
                  <a:lnTo>
                    <a:pt x="919" y="67"/>
                  </a:lnTo>
                  <a:lnTo>
                    <a:pt x="983" y="46"/>
                  </a:lnTo>
                  <a:lnTo>
                    <a:pt x="1048" y="32"/>
                  </a:lnTo>
                  <a:lnTo>
                    <a:pt x="1113" y="19"/>
                  </a:lnTo>
                  <a:lnTo>
                    <a:pt x="1180" y="10"/>
                  </a:lnTo>
                  <a:lnTo>
                    <a:pt x="1248" y="3"/>
                  </a:lnTo>
                  <a:lnTo>
                    <a:pt x="1315" y="0"/>
                  </a:lnTo>
                  <a:lnTo>
                    <a:pt x="1384" y="0"/>
                  </a:lnTo>
                  <a:lnTo>
                    <a:pt x="1453" y="6"/>
                  </a:lnTo>
                  <a:lnTo>
                    <a:pt x="1519" y="12"/>
                  </a:lnTo>
                  <a:lnTo>
                    <a:pt x="1586" y="23"/>
                  </a:lnTo>
                  <a:lnTo>
                    <a:pt x="1651" y="36"/>
                  </a:lnTo>
                  <a:lnTo>
                    <a:pt x="1713" y="55"/>
                  </a:lnTo>
                  <a:lnTo>
                    <a:pt x="1776" y="75"/>
                  </a:lnTo>
                  <a:lnTo>
                    <a:pt x="1837" y="97"/>
                  </a:lnTo>
                  <a:lnTo>
                    <a:pt x="1898" y="123"/>
                  </a:lnTo>
                  <a:lnTo>
                    <a:pt x="1954" y="152"/>
                  </a:lnTo>
                  <a:lnTo>
                    <a:pt x="2011" y="184"/>
                  </a:lnTo>
                  <a:lnTo>
                    <a:pt x="2066" y="218"/>
                  </a:lnTo>
                  <a:lnTo>
                    <a:pt x="2121" y="252"/>
                  </a:lnTo>
                  <a:lnTo>
                    <a:pt x="2170" y="293"/>
                  </a:lnTo>
                  <a:lnTo>
                    <a:pt x="2221" y="333"/>
                  </a:lnTo>
                  <a:lnTo>
                    <a:pt x="2266" y="378"/>
                  </a:lnTo>
                  <a:lnTo>
                    <a:pt x="2312" y="423"/>
                  </a:lnTo>
                  <a:lnTo>
                    <a:pt x="2354" y="471"/>
                  </a:lnTo>
                  <a:lnTo>
                    <a:pt x="2395" y="522"/>
                  </a:lnTo>
                  <a:lnTo>
                    <a:pt x="2432" y="573"/>
                  </a:lnTo>
                  <a:lnTo>
                    <a:pt x="2467" y="628"/>
                  </a:lnTo>
                  <a:lnTo>
                    <a:pt x="2502" y="681"/>
                  </a:lnTo>
                  <a:lnTo>
                    <a:pt x="2533" y="739"/>
                  </a:lnTo>
                  <a:lnTo>
                    <a:pt x="2560" y="799"/>
                  </a:lnTo>
                  <a:lnTo>
                    <a:pt x="2585" y="858"/>
                  </a:lnTo>
                  <a:lnTo>
                    <a:pt x="2605" y="921"/>
                  </a:lnTo>
                  <a:lnTo>
                    <a:pt x="2625" y="983"/>
                  </a:lnTo>
                  <a:lnTo>
                    <a:pt x="2640" y="1048"/>
                  </a:lnTo>
                  <a:lnTo>
                    <a:pt x="2654" y="1113"/>
                  </a:lnTo>
                  <a:lnTo>
                    <a:pt x="2663" y="1180"/>
                  </a:lnTo>
                  <a:lnTo>
                    <a:pt x="2669" y="1248"/>
                  </a:lnTo>
                  <a:lnTo>
                    <a:pt x="2673" y="1316"/>
                  </a:lnTo>
                  <a:lnTo>
                    <a:pt x="2673" y="1384"/>
                  </a:lnTo>
                  <a:lnTo>
                    <a:pt x="2667" y="1452"/>
                  </a:lnTo>
                  <a:lnTo>
                    <a:pt x="2660" y="1519"/>
                  </a:lnTo>
                  <a:lnTo>
                    <a:pt x="2650" y="1586"/>
                  </a:lnTo>
                  <a:lnTo>
                    <a:pt x="2635" y="1650"/>
                  </a:lnTo>
                  <a:lnTo>
                    <a:pt x="2619" y="1712"/>
                  </a:lnTo>
                  <a:lnTo>
                    <a:pt x="2599" y="1777"/>
                  </a:lnTo>
                  <a:lnTo>
                    <a:pt x="2576" y="1838"/>
                  </a:lnTo>
                  <a:lnTo>
                    <a:pt x="2550" y="1896"/>
                  </a:lnTo>
                  <a:lnTo>
                    <a:pt x="2521" y="1955"/>
                  </a:lnTo>
                  <a:lnTo>
                    <a:pt x="2490" y="2011"/>
                  </a:lnTo>
                  <a:lnTo>
                    <a:pt x="2456" y="2066"/>
                  </a:lnTo>
                  <a:lnTo>
                    <a:pt x="2419" y="2119"/>
                  </a:lnTo>
                  <a:lnTo>
                    <a:pt x="2382" y="2171"/>
                  </a:lnTo>
                  <a:lnTo>
                    <a:pt x="2340" y="2219"/>
                  </a:lnTo>
                  <a:lnTo>
                    <a:pt x="2296" y="2266"/>
                  </a:lnTo>
                  <a:lnTo>
                    <a:pt x="2251" y="2312"/>
                  </a:lnTo>
                  <a:lnTo>
                    <a:pt x="2203" y="2353"/>
                  </a:lnTo>
                  <a:lnTo>
                    <a:pt x="2153" y="2395"/>
                  </a:lnTo>
                  <a:lnTo>
                    <a:pt x="2102" y="2432"/>
                  </a:lnTo>
                  <a:lnTo>
                    <a:pt x="2048" y="2469"/>
                  </a:lnTo>
                  <a:lnTo>
                    <a:pt x="1993" y="2502"/>
                  </a:lnTo>
                  <a:lnTo>
                    <a:pt x="1934" y="2532"/>
                  </a:lnTo>
                  <a:lnTo>
                    <a:pt x="1877" y="2558"/>
                  </a:lnTo>
                  <a:lnTo>
                    <a:pt x="1816" y="2583"/>
                  </a:lnTo>
                  <a:lnTo>
                    <a:pt x="1756" y="2606"/>
                  </a:lnTo>
                  <a:lnTo>
                    <a:pt x="1693" y="2627"/>
                  </a:lnTo>
                  <a:lnTo>
                    <a:pt x="1628" y="2641"/>
                  </a:lnTo>
                  <a:lnTo>
                    <a:pt x="1563" y="2654"/>
                  </a:lnTo>
                  <a:lnTo>
                    <a:pt x="1496" y="2664"/>
                  </a:lnTo>
                  <a:lnTo>
                    <a:pt x="1428" y="2670"/>
                  </a:lnTo>
                  <a:lnTo>
                    <a:pt x="1360" y="2673"/>
                  </a:lnTo>
                  <a:lnTo>
                    <a:pt x="1360" y="267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879800" y="1897560"/>
              <a:ext cx="985320" cy="868680"/>
            </a:xfrm>
            <a:custGeom>
              <a:avLst/>
              <a:gdLst/>
              <a:ahLst/>
              <a:rect l="l" t="t" r="r" b="b"/>
              <a:pathLst>
                <a:path w="2305" h="2307">
                  <a:moveTo>
                    <a:pt x="1173" y="2307"/>
                  </a:moveTo>
                  <a:lnTo>
                    <a:pt x="1113" y="2307"/>
                  </a:lnTo>
                  <a:lnTo>
                    <a:pt x="1054" y="2303"/>
                  </a:lnTo>
                  <a:lnTo>
                    <a:pt x="996" y="2297"/>
                  </a:lnTo>
                  <a:lnTo>
                    <a:pt x="938" y="2288"/>
                  </a:lnTo>
                  <a:lnTo>
                    <a:pt x="883" y="2275"/>
                  </a:lnTo>
                  <a:lnTo>
                    <a:pt x="829" y="2259"/>
                  </a:lnTo>
                  <a:lnTo>
                    <a:pt x="774" y="2244"/>
                  </a:lnTo>
                  <a:lnTo>
                    <a:pt x="721" y="2225"/>
                  </a:lnTo>
                  <a:lnTo>
                    <a:pt x="668" y="2202"/>
                  </a:lnTo>
                  <a:lnTo>
                    <a:pt x="619" y="2177"/>
                  </a:lnTo>
                  <a:lnTo>
                    <a:pt x="571" y="2149"/>
                  </a:lnTo>
                  <a:lnTo>
                    <a:pt x="523" y="2119"/>
                  </a:lnTo>
                  <a:lnTo>
                    <a:pt x="477" y="2088"/>
                  </a:lnTo>
                  <a:lnTo>
                    <a:pt x="434" y="2054"/>
                  </a:lnTo>
                  <a:lnTo>
                    <a:pt x="392" y="2019"/>
                  </a:lnTo>
                  <a:lnTo>
                    <a:pt x="351" y="1983"/>
                  </a:lnTo>
                  <a:lnTo>
                    <a:pt x="312" y="1942"/>
                  </a:lnTo>
                  <a:lnTo>
                    <a:pt x="274" y="1900"/>
                  </a:lnTo>
                  <a:lnTo>
                    <a:pt x="239" y="1858"/>
                  </a:lnTo>
                  <a:lnTo>
                    <a:pt x="207" y="1812"/>
                  </a:lnTo>
                  <a:lnTo>
                    <a:pt x="176" y="1767"/>
                  </a:lnTo>
                  <a:lnTo>
                    <a:pt x="147" y="1719"/>
                  </a:lnTo>
                  <a:lnTo>
                    <a:pt x="122" y="1668"/>
                  </a:lnTo>
                  <a:lnTo>
                    <a:pt x="97" y="1619"/>
                  </a:lnTo>
                  <a:lnTo>
                    <a:pt x="76" y="1567"/>
                  </a:lnTo>
                  <a:lnTo>
                    <a:pt x="58" y="1512"/>
                  </a:lnTo>
                  <a:lnTo>
                    <a:pt x="41" y="1458"/>
                  </a:lnTo>
                  <a:lnTo>
                    <a:pt x="28" y="1404"/>
                  </a:lnTo>
                  <a:lnTo>
                    <a:pt x="15" y="1346"/>
                  </a:lnTo>
                  <a:lnTo>
                    <a:pt x="7" y="1290"/>
                  </a:lnTo>
                  <a:lnTo>
                    <a:pt x="5" y="1230"/>
                  </a:lnTo>
                  <a:lnTo>
                    <a:pt x="0" y="1172"/>
                  </a:lnTo>
                  <a:lnTo>
                    <a:pt x="0" y="1113"/>
                  </a:lnTo>
                  <a:lnTo>
                    <a:pt x="5" y="1054"/>
                  </a:lnTo>
                  <a:lnTo>
                    <a:pt x="10" y="997"/>
                  </a:lnTo>
                  <a:lnTo>
                    <a:pt x="19" y="939"/>
                  </a:lnTo>
                  <a:lnTo>
                    <a:pt x="32" y="882"/>
                  </a:lnTo>
                  <a:lnTo>
                    <a:pt x="47" y="829"/>
                  </a:lnTo>
                  <a:lnTo>
                    <a:pt x="64" y="775"/>
                  </a:lnTo>
                  <a:lnTo>
                    <a:pt x="84" y="723"/>
                  </a:lnTo>
                  <a:lnTo>
                    <a:pt x="106" y="671"/>
                  </a:lnTo>
                  <a:lnTo>
                    <a:pt x="131" y="620"/>
                  </a:lnTo>
                  <a:lnTo>
                    <a:pt x="158" y="572"/>
                  </a:lnTo>
                  <a:lnTo>
                    <a:pt x="186" y="523"/>
                  </a:lnTo>
                  <a:lnTo>
                    <a:pt x="219" y="478"/>
                  </a:lnTo>
                  <a:lnTo>
                    <a:pt x="251" y="435"/>
                  </a:lnTo>
                  <a:lnTo>
                    <a:pt x="287" y="393"/>
                  </a:lnTo>
                  <a:lnTo>
                    <a:pt x="326" y="352"/>
                  </a:lnTo>
                  <a:lnTo>
                    <a:pt x="365" y="313"/>
                  </a:lnTo>
                  <a:lnTo>
                    <a:pt x="406" y="275"/>
                  </a:lnTo>
                  <a:lnTo>
                    <a:pt x="448" y="242"/>
                  </a:lnTo>
                  <a:lnTo>
                    <a:pt x="494" y="207"/>
                  </a:lnTo>
                  <a:lnTo>
                    <a:pt x="539" y="177"/>
                  </a:lnTo>
                  <a:lnTo>
                    <a:pt x="589" y="149"/>
                  </a:lnTo>
                  <a:lnTo>
                    <a:pt x="638" y="123"/>
                  </a:lnTo>
                  <a:lnTo>
                    <a:pt x="687" y="98"/>
                  </a:lnTo>
                  <a:lnTo>
                    <a:pt x="741" y="78"/>
                  </a:lnTo>
                  <a:lnTo>
                    <a:pt x="795" y="58"/>
                  </a:lnTo>
                  <a:lnTo>
                    <a:pt x="848" y="40"/>
                  </a:lnTo>
                  <a:lnTo>
                    <a:pt x="905" y="27"/>
                  </a:lnTo>
                  <a:lnTo>
                    <a:pt x="961" y="17"/>
                  </a:lnTo>
                  <a:lnTo>
                    <a:pt x="1018" y="7"/>
                  </a:lnTo>
                  <a:lnTo>
                    <a:pt x="1076" y="3"/>
                  </a:lnTo>
                  <a:lnTo>
                    <a:pt x="1137" y="0"/>
                  </a:lnTo>
                  <a:lnTo>
                    <a:pt x="1195" y="0"/>
                  </a:lnTo>
                  <a:lnTo>
                    <a:pt x="1254" y="6"/>
                  </a:lnTo>
                  <a:lnTo>
                    <a:pt x="1311" y="10"/>
                  </a:lnTo>
                  <a:lnTo>
                    <a:pt x="1369" y="20"/>
                  </a:lnTo>
                  <a:lnTo>
                    <a:pt x="1425" y="32"/>
                  </a:lnTo>
                  <a:lnTo>
                    <a:pt x="1479" y="46"/>
                  </a:lnTo>
                  <a:lnTo>
                    <a:pt x="1532" y="64"/>
                  </a:lnTo>
                  <a:lnTo>
                    <a:pt x="1585" y="84"/>
                  </a:lnTo>
                  <a:lnTo>
                    <a:pt x="1637" y="106"/>
                  </a:lnTo>
                  <a:lnTo>
                    <a:pt x="1686" y="130"/>
                  </a:lnTo>
                  <a:lnTo>
                    <a:pt x="1735" y="158"/>
                  </a:lnTo>
                  <a:lnTo>
                    <a:pt x="1783" y="187"/>
                  </a:lnTo>
                  <a:lnTo>
                    <a:pt x="1830" y="220"/>
                  </a:lnTo>
                  <a:lnTo>
                    <a:pt x="1873" y="252"/>
                  </a:lnTo>
                  <a:lnTo>
                    <a:pt x="1915" y="287"/>
                  </a:lnTo>
                  <a:lnTo>
                    <a:pt x="1956" y="326"/>
                  </a:lnTo>
                  <a:lnTo>
                    <a:pt x="1993" y="366"/>
                  </a:lnTo>
                  <a:lnTo>
                    <a:pt x="2032" y="407"/>
                  </a:lnTo>
                  <a:lnTo>
                    <a:pt x="2067" y="449"/>
                  </a:lnTo>
                  <a:lnTo>
                    <a:pt x="2099" y="495"/>
                  </a:lnTo>
                  <a:lnTo>
                    <a:pt x="2131" y="542"/>
                  </a:lnTo>
                  <a:lnTo>
                    <a:pt x="2159" y="588"/>
                  </a:lnTo>
                  <a:lnTo>
                    <a:pt x="2185" y="639"/>
                  </a:lnTo>
                  <a:lnTo>
                    <a:pt x="2208" y="688"/>
                  </a:lnTo>
                  <a:lnTo>
                    <a:pt x="2230" y="742"/>
                  </a:lnTo>
                  <a:lnTo>
                    <a:pt x="2248" y="795"/>
                  </a:lnTo>
                  <a:lnTo>
                    <a:pt x="2264" y="849"/>
                  </a:lnTo>
                  <a:lnTo>
                    <a:pt x="2279" y="906"/>
                  </a:lnTo>
                  <a:lnTo>
                    <a:pt x="2291" y="962"/>
                  </a:lnTo>
                  <a:lnTo>
                    <a:pt x="2299" y="1019"/>
                  </a:lnTo>
                  <a:lnTo>
                    <a:pt x="2302" y="1078"/>
                  </a:lnTo>
                  <a:lnTo>
                    <a:pt x="2305" y="1138"/>
                  </a:lnTo>
                  <a:lnTo>
                    <a:pt x="2305" y="1196"/>
                  </a:lnTo>
                  <a:lnTo>
                    <a:pt x="2301" y="1255"/>
                  </a:lnTo>
                  <a:lnTo>
                    <a:pt x="2295" y="1313"/>
                  </a:lnTo>
                  <a:lnTo>
                    <a:pt x="2286" y="1368"/>
                  </a:lnTo>
                  <a:lnTo>
                    <a:pt x="2275" y="1425"/>
                  </a:lnTo>
                  <a:lnTo>
                    <a:pt x="2260" y="1480"/>
                  </a:lnTo>
                  <a:lnTo>
                    <a:pt x="2243" y="1535"/>
                  </a:lnTo>
                  <a:lnTo>
                    <a:pt x="2222" y="1587"/>
                  </a:lnTo>
                  <a:lnTo>
                    <a:pt x="2199" y="1636"/>
                  </a:lnTo>
                  <a:lnTo>
                    <a:pt x="2176" y="1688"/>
                  </a:lnTo>
                  <a:lnTo>
                    <a:pt x="2148" y="1738"/>
                  </a:lnTo>
                  <a:lnTo>
                    <a:pt x="2119" y="1784"/>
                  </a:lnTo>
                  <a:lnTo>
                    <a:pt x="2088" y="1829"/>
                  </a:lnTo>
                  <a:lnTo>
                    <a:pt x="2054" y="1872"/>
                  </a:lnTo>
                  <a:lnTo>
                    <a:pt x="2018" y="1916"/>
                  </a:lnTo>
                  <a:lnTo>
                    <a:pt x="1982" y="1957"/>
                  </a:lnTo>
                  <a:lnTo>
                    <a:pt x="1941" y="1996"/>
                  </a:lnTo>
                  <a:lnTo>
                    <a:pt x="1901" y="2032"/>
                  </a:lnTo>
                  <a:lnTo>
                    <a:pt x="1859" y="2067"/>
                  </a:lnTo>
                  <a:lnTo>
                    <a:pt x="1812" y="2100"/>
                  </a:lnTo>
                  <a:lnTo>
                    <a:pt x="1767" y="2130"/>
                  </a:lnTo>
                  <a:lnTo>
                    <a:pt x="1718" y="2159"/>
                  </a:lnTo>
                  <a:lnTo>
                    <a:pt x="1670" y="2184"/>
                  </a:lnTo>
                  <a:lnTo>
                    <a:pt x="1619" y="2209"/>
                  </a:lnTo>
                  <a:lnTo>
                    <a:pt x="1567" y="2229"/>
                  </a:lnTo>
                  <a:lnTo>
                    <a:pt x="1515" y="2251"/>
                  </a:lnTo>
                  <a:lnTo>
                    <a:pt x="1460" y="2267"/>
                  </a:lnTo>
                  <a:lnTo>
                    <a:pt x="1403" y="2280"/>
                  </a:lnTo>
                  <a:lnTo>
                    <a:pt x="1348" y="2290"/>
                  </a:lnTo>
                  <a:lnTo>
                    <a:pt x="1290" y="2300"/>
                  </a:lnTo>
                  <a:lnTo>
                    <a:pt x="1231" y="2304"/>
                  </a:lnTo>
                  <a:lnTo>
                    <a:pt x="1173" y="230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879800" y="1897560"/>
              <a:ext cx="985320" cy="868680"/>
            </a:xfrm>
            <a:custGeom>
              <a:avLst/>
              <a:gdLst/>
              <a:ahLst/>
              <a:rect l="l" t="t" r="r" b="b"/>
              <a:pathLst>
                <a:path w="2305" h="2307">
                  <a:moveTo>
                    <a:pt x="1173" y="2307"/>
                  </a:moveTo>
                  <a:lnTo>
                    <a:pt x="1113" y="2307"/>
                  </a:lnTo>
                  <a:lnTo>
                    <a:pt x="1054" y="2303"/>
                  </a:lnTo>
                  <a:lnTo>
                    <a:pt x="996" y="2297"/>
                  </a:lnTo>
                  <a:lnTo>
                    <a:pt x="938" y="2288"/>
                  </a:lnTo>
                  <a:lnTo>
                    <a:pt x="883" y="2275"/>
                  </a:lnTo>
                  <a:lnTo>
                    <a:pt x="829" y="2259"/>
                  </a:lnTo>
                  <a:lnTo>
                    <a:pt x="774" y="2244"/>
                  </a:lnTo>
                  <a:lnTo>
                    <a:pt x="721" y="2225"/>
                  </a:lnTo>
                  <a:lnTo>
                    <a:pt x="668" y="2202"/>
                  </a:lnTo>
                  <a:lnTo>
                    <a:pt x="619" y="2177"/>
                  </a:lnTo>
                  <a:lnTo>
                    <a:pt x="571" y="2149"/>
                  </a:lnTo>
                  <a:lnTo>
                    <a:pt x="523" y="2119"/>
                  </a:lnTo>
                  <a:lnTo>
                    <a:pt x="477" y="2088"/>
                  </a:lnTo>
                  <a:lnTo>
                    <a:pt x="434" y="2054"/>
                  </a:lnTo>
                  <a:lnTo>
                    <a:pt x="392" y="2019"/>
                  </a:lnTo>
                  <a:lnTo>
                    <a:pt x="351" y="1983"/>
                  </a:lnTo>
                  <a:lnTo>
                    <a:pt x="312" y="1942"/>
                  </a:lnTo>
                  <a:lnTo>
                    <a:pt x="274" y="1900"/>
                  </a:lnTo>
                  <a:lnTo>
                    <a:pt x="239" y="1858"/>
                  </a:lnTo>
                  <a:lnTo>
                    <a:pt x="207" y="1812"/>
                  </a:lnTo>
                  <a:lnTo>
                    <a:pt x="176" y="1767"/>
                  </a:lnTo>
                  <a:lnTo>
                    <a:pt x="147" y="1719"/>
                  </a:lnTo>
                  <a:lnTo>
                    <a:pt x="122" y="1668"/>
                  </a:lnTo>
                  <a:lnTo>
                    <a:pt x="97" y="1619"/>
                  </a:lnTo>
                  <a:lnTo>
                    <a:pt x="76" y="1567"/>
                  </a:lnTo>
                  <a:lnTo>
                    <a:pt x="58" y="1512"/>
                  </a:lnTo>
                  <a:lnTo>
                    <a:pt x="41" y="1458"/>
                  </a:lnTo>
                  <a:lnTo>
                    <a:pt x="28" y="1404"/>
                  </a:lnTo>
                  <a:lnTo>
                    <a:pt x="15" y="1346"/>
                  </a:lnTo>
                  <a:lnTo>
                    <a:pt x="7" y="1290"/>
                  </a:lnTo>
                  <a:lnTo>
                    <a:pt x="5" y="1230"/>
                  </a:lnTo>
                  <a:lnTo>
                    <a:pt x="0" y="1172"/>
                  </a:lnTo>
                  <a:lnTo>
                    <a:pt x="0" y="1113"/>
                  </a:lnTo>
                  <a:lnTo>
                    <a:pt x="5" y="1054"/>
                  </a:lnTo>
                  <a:lnTo>
                    <a:pt x="10" y="997"/>
                  </a:lnTo>
                  <a:lnTo>
                    <a:pt x="19" y="939"/>
                  </a:lnTo>
                  <a:lnTo>
                    <a:pt x="32" y="882"/>
                  </a:lnTo>
                  <a:lnTo>
                    <a:pt x="47" y="829"/>
                  </a:lnTo>
                  <a:lnTo>
                    <a:pt x="64" y="775"/>
                  </a:lnTo>
                  <a:lnTo>
                    <a:pt x="84" y="723"/>
                  </a:lnTo>
                  <a:lnTo>
                    <a:pt x="106" y="671"/>
                  </a:lnTo>
                  <a:lnTo>
                    <a:pt x="131" y="620"/>
                  </a:lnTo>
                  <a:lnTo>
                    <a:pt x="158" y="572"/>
                  </a:lnTo>
                  <a:lnTo>
                    <a:pt x="186" y="523"/>
                  </a:lnTo>
                  <a:lnTo>
                    <a:pt x="219" y="478"/>
                  </a:lnTo>
                  <a:lnTo>
                    <a:pt x="251" y="435"/>
                  </a:lnTo>
                  <a:lnTo>
                    <a:pt x="287" y="393"/>
                  </a:lnTo>
                  <a:lnTo>
                    <a:pt x="326" y="352"/>
                  </a:lnTo>
                  <a:lnTo>
                    <a:pt x="365" y="313"/>
                  </a:lnTo>
                  <a:lnTo>
                    <a:pt x="406" y="275"/>
                  </a:lnTo>
                  <a:lnTo>
                    <a:pt x="448" y="242"/>
                  </a:lnTo>
                  <a:lnTo>
                    <a:pt x="494" y="207"/>
                  </a:lnTo>
                  <a:lnTo>
                    <a:pt x="539" y="177"/>
                  </a:lnTo>
                  <a:lnTo>
                    <a:pt x="589" y="149"/>
                  </a:lnTo>
                  <a:lnTo>
                    <a:pt x="638" y="123"/>
                  </a:lnTo>
                  <a:lnTo>
                    <a:pt x="687" y="98"/>
                  </a:lnTo>
                  <a:lnTo>
                    <a:pt x="741" y="78"/>
                  </a:lnTo>
                  <a:lnTo>
                    <a:pt x="795" y="58"/>
                  </a:lnTo>
                  <a:lnTo>
                    <a:pt x="848" y="40"/>
                  </a:lnTo>
                  <a:lnTo>
                    <a:pt x="905" y="27"/>
                  </a:lnTo>
                  <a:lnTo>
                    <a:pt x="961" y="17"/>
                  </a:lnTo>
                  <a:lnTo>
                    <a:pt x="1018" y="7"/>
                  </a:lnTo>
                  <a:lnTo>
                    <a:pt x="1076" y="3"/>
                  </a:lnTo>
                  <a:lnTo>
                    <a:pt x="1137" y="0"/>
                  </a:lnTo>
                  <a:lnTo>
                    <a:pt x="1195" y="0"/>
                  </a:lnTo>
                  <a:lnTo>
                    <a:pt x="1254" y="6"/>
                  </a:lnTo>
                  <a:lnTo>
                    <a:pt x="1311" y="10"/>
                  </a:lnTo>
                  <a:lnTo>
                    <a:pt x="1369" y="20"/>
                  </a:lnTo>
                  <a:lnTo>
                    <a:pt x="1425" y="32"/>
                  </a:lnTo>
                  <a:lnTo>
                    <a:pt x="1479" y="46"/>
                  </a:lnTo>
                  <a:lnTo>
                    <a:pt x="1532" y="64"/>
                  </a:lnTo>
                  <a:lnTo>
                    <a:pt x="1585" y="84"/>
                  </a:lnTo>
                  <a:lnTo>
                    <a:pt x="1637" y="106"/>
                  </a:lnTo>
                  <a:lnTo>
                    <a:pt x="1686" y="130"/>
                  </a:lnTo>
                  <a:lnTo>
                    <a:pt x="1735" y="158"/>
                  </a:lnTo>
                  <a:lnTo>
                    <a:pt x="1783" y="187"/>
                  </a:lnTo>
                  <a:lnTo>
                    <a:pt x="1830" y="220"/>
                  </a:lnTo>
                  <a:lnTo>
                    <a:pt x="1873" y="252"/>
                  </a:lnTo>
                  <a:lnTo>
                    <a:pt x="1915" y="287"/>
                  </a:lnTo>
                  <a:lnTo>
                    <a:pt x="1956" y="326"/>
                  </a:lnTo>
                  <a:lnTo>
                    <a:pt x="1993" y="366"/>
                  </a:lnTo>
                  <a:lnTo>
                    <a:pt x="2032" y="407"/>
                  </a:lnTo>
                  <a:lnTo>
                    <a:pt x="2067" y="449"/>
                  </a:lnTo>
                  <a:lnTo>
                    <a:pt x="2099" y="495"/>
                  </a:lnTo>
                  <a:lnTo>
                    <a:pt x="2131" y="542"/>
                  </a:lnTo>
                  <a:lnTo>
                    <a:pt x="2159" y="588"/>
                  </a:lnTo>
                  <a:lnTo>
                    <a:pt x="2185" y="639"/>
                  </a:lnTo>
                  <a:lnTo>
                    <a:pt x="2208" y="688"/>
                  </a:lnTo>
                  <a:lnTo>
                    <a:pt x="2230" y="742"/>
                  </a:lnTo>
                  <a:lnTo>
                    <a:pt x="2248" y="795"/>
                  </a:lnTo>
                  <a:lnTo>
                    <a:pt x="2264" y="849"/>
                  </a:lnTo>
                  <a:lnTo>
                    <a:pt x="2279" y="906"/>
                  </a:lnTo>
                  <a:lnTo>
                    <a:pt x="2291" y="962"/>
                  </a:lnTo>
                  <a:lnTo>
                    <a:pt x="2299" y="1019"/>
                  </a:lnTo>
                  <a:lnTo>
                    <a:pt x="2302" y="1078"/>
                  </a:lnTo>
                  <a:lnTo>
                    <a:pt x="2305" y="1138"/>
                  </a:lnTo>
                  <a:lnTo>
                    <a:pt x="2305" y="1196"/>
                  </a:lnTo>
                  <a:lnTo>
                    <a:pt x="2301" y="1255"/>
                  </a:lnTo>
                  <a:lnTo>
                    <a:pt x="2295" y="1313"/>
                  </a:lnTo>
                  <a:lnTo>
                    <a:pt x="2286" y="1368"/>
                  </a:lnTo>
                  <a:lnTo>
                    <a:pt x="2275" y="1425"/>
                  </a:lnTo>
                  <a:lnTo>
                    <a:pt x="2260" y="1480"/>
                  </a:lnTo>
                  <a:lnTo>
                    <a:pt x="2243" y="1535"/>
                  </a:lnTo>
                  <a:lnTo>
                    <a:pt x="2222" y="1587"/>
                  </a:lnTo>
                  <a:lnTo>
                    <a:pt x="2199" y="1636"/>
                  </a:lnTo>
                  <a:lnTo>
                    <a:pt x="2176" y="1688"/>
                  </a:lnTo>
                  <a:lnTo>
                    <a:pt x="2148" y="1738"/>
                  </a:lnTo>
                  <a:lnTo>
                    <a:pt x="2119" y="1784"/>
                  </a:lnTo>
                  <a:lnTo>
                    <a:pt x="2088" y="1829"/>
                  </a:lnTo>
                  <a:lnTo>
                    <a:pt x="2054" y="1872"/>
                  </a:lnTo>
                  <a:lnTo>
                    <a:pt x="2018" y="1916"/>
                  </a:lnTo>
                  <a:lnTo>
                    <a:pt x="1982" y="1957"/>
                  </a:lnTo>
                  <a:lnTo>
                    <a:pt x="1941" y="1996"/>
                  </a:lnTo>
                  <a:lnTo>
                    <a:pt x="1901" y="2032"/>
                  </a:lnTo>
                  <a:lnTo>
                    <a:pt x="1859" y="2067"/>
                  </a:lnTo>
                  <a:lnTo>
                    <a:pt x="1812" y="2100"/>
                  </a:lnTo>
                  <a:lnTo>
                    <a:pt x="1767" y="2130"/>
                  </a:lnTo>
                  <a:lnTo>
                    <a:pt x="1718" y="2159"/>
                  </a:lnTo>
                  <a:lnTo>
                    <a:pt x="1670" y="2184"/>
                  </a:lnTo>
                  <a:lnTo>
                    <a:pt x="1619" y="2209"/>
                  </a:lnTo>
                  <a:lnTo>
                    <a:pt x="1567" y="2229"/>
                  </a:lnTo>
                  <a:lnTo>
                    <a:pt x="1515" y="2251"/>
                  </a:lnTo>
                  <a:lnTo>
                    <a:pt x="1460" y="2267"/>
                  </a:lnTo>
                  <a:lnTo>
                    <a:pt x="1403" y="2280"/>
                  </a:lnTo>
                  <a:lnTo>
                    <a:pt x="1348" y="2290"/>
                  </a:lnTo>
                  <a:lnTo>
                    <a:pt x="1290" y="2300"/>
                  </a:lnTo>
                  <a:lnTo>
                    <a:pt x="1231" y="2304"/>
                  </a:lnTo>
                  <a:lnTo>
                    <a:pt x="1173" y="2307"/>
                  </a:lnTo>
                  <a:lnTo>
                    <a:pt x="1173" y="230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202000" y="1924560"/>
              <a:ext cx="604080" cy="301680"/>
            </a:xfrm>
            <a:custGeom>
              <a:avLst/>
              <a:gdLst/>
              <a:ahLst/>
              <a:rect l="l" t="t" r="r" b="b"/>
              <a:pathLst>
                <a:path w="1412" h="803">
                  <a:moveTo>
                    <a:pt x="844" y="84"/>
                  </a:moveTo>
                  <a:lnTo>
                    <a:pt x="803" y="71"/>
                  </a:lnTo>
                  <a:lnTo>
                    <a:pt x="766" y="58"/>
                  </a:lnTo>
                  <a:lnTo>
                    <a:pt x="727" y="47"/>
                  </a:lnTo>
                  <a:lnTo>
                    <a:pt x="688" y="36"/>
                  </a:lnTo>
                  <a:lnTo>
                    <a:pt x="648" y="28"/>
                  </a:lnTo>
                  <a:lnTo>
                    <a:pt x="611" y="19"/>
                  </a:lnTo>
                  <a:lnTo>
                    <a:pt x="572" y="13"/>
                  </a:lnTo>
                  <a:lnTo>
                    <a:pt x="530" y="7"/>
                  </a:lnTo>
                  <a:lnTo>
                    <a:pt x="490" y="5"/>
                  </a:lnTo>
                  <a:lnTo>
                    <a:pt x="448" y="2"/>
                  </a:lnTo>
                  <a:lnTo>
                    <a:pt x="408" y="0"/>
                  </a:lnTo>
                  <a:lnTo>
                    <a:pt x="363" y="2"/>
                  </a:lnTo>
                  <a:lnTo>
                    <a:pt x="319" y="5"/>
                  </a:lnTo>
                  <a:lnTo>
                    <a:pt x="274" y="9"/>
                  </a:lnTo>
                  <a:lnTo>
                    <a:pt x="228" y="15"/>
                  </a:lnTo>
                  <a:lnTo>
                    <a:pt x="180" y="23"/>
                  </a:lnTo>
                  <a:lnTo>
                    <a:pt x="161" y="28"/>
                  </a:lnTo>
                  <a:lnTo>
                    <a:pt x="132" y="35"/>
                  </a:lnTo>
                  <a:lnTo>
                    <a:pt x="99" y="45"/>
                  </a:lnTo>
                  <a:lnTo>
                    <a:pt x="67" y="55"/>
                  </a:lnTo>
                  <a:lnTo>
                    <a:pt x="35" y="67"/>
                  </a:lnTo>
                  <a:lnTo>
                    <a:pt x="12" y="76"/>
                  </a:lnTo>
                  <a:lnTo>
                    <a:pt x="0" y="84"/>
                  </a:lnTo>
                  <a:lnTo>
                    <a:pt x="6" y="84"/>
                  </a:lnTo>
                  <a:lnTo>
                    <a:pt x="64" y="76"/>
                  </a:lnTo>
                  <a:lnTo>
                    <a:pt x="125" y="68"/>
                  </a:lnTo>
                  <a:lnTo>
                    <a:pt x="187" y="63"/>
                  </a:lnTo>
                  <a:lnTo>
                    <a:pt x="248" y="61"/>
                  </a:lnTo>
                  <a:lnTo>
                    <a:pt x="312" y="61"/>
                  </a:lnTo>
                  <a:lnTo>
                    <a:pt x="373" y="63"/>
                  </a:lnTo>
                  <a:lnTo>
                    <a:pt x="437" y="67"/>
                  </a:lnTo>
                  <a:lnTo>
                    <a:pt x="498" y="74"/>
                  </a:lnTo>
                  <a:lnTo>
                    <a:pt x="560" y="84"/>
                  </a:lnTo>
                  <a:lnTo>
                    <a:pt x="621" y="99"/>
                  </a:lnTo>
                  <a:lnTo>
                    <a:pt x="682" y="115"/>
                  </a:lnTo>
                  <a:lnTo>
                    <a:pt x="740" y="134"/>
                  </a:lnTo>
                  <a:lnTo>
                    <a:pt x="798" y="154"/>
                  </a:lnTo>
                  <a:lnTo>
                    <a:pt x="854" y="178"/>
                  </a:lnTo>
                  <a:lnTo>
                    <a:pt x="909" y="207"/>
                  </a:lnTo>
                  <a:lnTo>
                    <a:pt x="961" y="238"/>
                  </a:lnTo>
                  <a:lnTo>
                    <a:pt x="999" y="260"/>
                  </a:lnTo>
                  <a:lnTo>
                    <a:pt x="1035" y="286"/>
                  </a:lnTo>
                  <a:lnTo>
                    <a:pt x="1069" y="315"/>
                  </a:lnTo>
                  <a:lnTo>
                    <a:pt x="1102" y="345"/>
                  </a:lnTo>
                  <a:lnTo>
                    <a:pt x="1134" y="377"/>
                  </a:lnTo>
                  <a:lnTo>
                    <a:pt x="1166" y="412"/>
                  </a:lnTo>
                  <a:lnTo>
                    <a:pt x="1195" y="447"/>
                  </a:lnTo>
                  <a:lnTo>
                    <a:pt x="1222" y="484"/>
                  </a:lnTo>
                  <a:lnTo>
                    <a:pt x="1249" y="522"/>
                  </a:lnTo>
                  <a:lnTo>
                    <a:pt x="1276" y="561"/>
                  </a:lnTo>
                  <a:lnTo>
                    <a:pt x="1301" y="603"/>
                  </a:lnTo>
                  <a:lnTo>
                    <a:pt x="1325" y="642"/>
                  </a:lnTo>
                  <a:lnTo>
                    <a:pt x="1347" y="683"/>
                  </a:lnTo>
                  <a:lnTo>
                    <a:pt x="1370" y="723"/>
                  </a:lnTo>
                  <a:lnTo>
                    <a:pt x="1391" y="764"/>
                  </a:lnTo>
                  <a:lnTo>
                    <a:pt x="1412" y="803"/>
                  </a:lnTo>
                  <a:lnTo>
                    <a:pt x="1408" y="767"/>
                  </a:lnTo>
                  <a:lnTo>
                    <a:pt x="1399" y="728"/>
                  </a:lnTo>
                  <a:lnTo>
                    <a:pt x="1388" y="689"/>
                  </a:lnTo>
                  <a:lnTo>
                    <a:pt x="1373" y="648"/>
                  </a:lnTo>
                  <a:lnTo>
                    <a:pt x="1356" y="606"/>
                  </a:lnTo>
                  <a:lnTo>
                    <a:pt x="1335" y="568"/>
                  </a:lnTo>
                  <a:lnTo>
                    <a:pt x="1314" y="526"/>
                  </a:lnTo>
                  <a:lnTo>
                    <a:pt x="1291" y="487"/>
                  </a:lnTo>
                  <a:lnTo>
                    <a:pt x="1266" y="450"/>
                  </a:lnTo>
                  <a:lnTo>
                    <a:pt x="1240" y="413"/>
                  </a:lnTo>
                  <a:lnTo>
                    <a:pt x="1214" y="379"/>
                  </a:lnTo>
                  <a:lnTo>
                    <a:pt x="1188" y="347"/>
                  </a:lnTo>
                  <a:lnTo>
                    <a:pt x="1164" y="316"/>
                  </a:lnTo>
                  <a:lnTo>
                    <a:pt x="1138" y="290"/>
                  </a:lnTo>
                  <a:lnTo>
                    <a:pt x="1115" y="267"/>
                  </a:lnTo>
                  <a:lnTo>
                    <a:pt x="1095" y="247"/>
                  </a:lnTo>
                  <a:lnTo>
                    <a:pt x="1080" y="235"/>
                  </a:lnTo>
                  <a:lnTo>
                    <a:pt x="1064" y="222"/>
                  </a:lnTo>
                  <a:lnTo>
                    <a:pt x="1053" y="210"/>
                  </a:lnTo>
                  <a:lnTo>
                    <a:pt x="1038" y="199"/>
                  </a:lnTo>
                  <a:lnTo>
                    <a:pt x="1024" y="189"/>
                  </a:lnTo>
                  <a:lnTo>
                    <a:pt x="1009" y="178"/>
                  </a:lnTo>
                  <a:lnTo>
                    <a:pt x="995" y="170"/>
                  </a:lnTo>
                  <a:lnTo>
                    <a:pt x="980" y="158"/>
                  </a:lnTo>
                  <a:lnTo>
                    <a:pt x="966" y="149"/>
                  </a:lnTo>
                  <a:lnTo>
                    <a:pt x="950" y="141"/>
                  </a:lnTo>
                  <a:lnTo>
                    <a:pt x="934" y="132"/>
                  </a:lnTo>
                  <a:lnTo>
                    <a:pt x="918" y="123"/>
                  </a:lnTo>
                  <a:lnTo>
                    <a:pt x="901" y="115"/>
                  </a:lnTo>
                  <a:lnTo>
                    <a:pt x="883" y="105"/>
                  </a:lnTo>
                  <a:lnTo>
                    <a:pt x="863" y="93"/>
                  </a:lnTo>
                  <a:lnTo>
                    <a:pt x="84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013360" y="2183400"/>
              <a:ext cx="162720" cy="261000"/>
            </a:xfrm>
            <a:custGeom>
              <a:avLst/>
              <a:gdLst/>
              <a:ahLst/>
              <a:rect l="l" t="t" r="r" b="b"/>
              <a:pathLst>
                <a:path w="382" h="693">
                  <a:moveTo>
                    <a:pt x="10" y="693"/>
                  </a:moveTo>
                  <a:lnTo>
                    <a:pt x="0" y="6"/>
                  </a:lnTo>
                  <a:lnTo>
                    <a:pt x="379" y="0"/>
                  </a:lnTo>
                  <a:lnTo>
                    <a:pt x="382" y="137"/>
                  </a:lnTo>
                  <a:lnTo>
                    <a:pt x="167" y="140"/>
                  </a:lnTo>
                  <a:lnTo>
                    <a:pt x="170" y="269"/>
                  </a:lnTo>
                  <a:lnTo>
                    <a:pt x="368" y="266"/>
                  </a:lnTo>
                  <a:lnTo>
                    <a:pt x="370" y="401"/>
                  </a:lnTo>
                  <a:lnTo>
                    <a:pt x="171" y="406"/>
                  </a:lnTo>
                  <a:lnTo>
                    <a:pt x="176" y="691"/>
                  </a:lnTo>
                  <a:lnTo>
                    <a:pt x="10" y="693"/>
                  </a:lnTo>
                  <a:close/>
                </a:path>
              </a:pathLst>
            </a:custGeom>
            <a:solidFill>
              <a:srgbClr val="fff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14600" y="2182320"/>
              <a:ext cx="74160" cy="259560"/>
            </a:xfrm>
            <a:custGeom>
              <a:avLst/>
              <a:gdLst/>
              <a:ahLst/>
              <a:rect l="l" t="t" r="r" b="b"/>
              <a:pathLst>
                <a:path w="175" h="690">
                  <a:moveTo>
                    <a:pt x="10" y="690"/>
                  </a:moveTo>
                  <a:lnTo>
                    <a:pt x="0" y="2"/>
                  </a:lnTo>
                  <a:lnTo>
                    <a:pt x="164" y="0"/>
                  </a:lnTo>
                  <a:lnTo>
                    <a:pt x="175" y="689"/>
                  </a:lnTo>
                  <a:lnTo>
                    <a:pt x="10" y="690"/>
                  </a:lnTo>
                  <a:close/>
                </a:path>
              </a:pathLst>
            </a:custGeom>
            <a:solidFill>
              <a:srgbClr val="fff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330160" y="2180160"/>
              <a:ext cx="187200" cy="76680"/>
            </a:xfrm>
            <a:custGeom>
              <a:avLst/>
              <a:gdLst/>
              <a:ahLst/>
              <a:rect l="l" t="t" r="r" b="b"/>
              <a:pathLst>
                <a:path w="438" h="204">
                  <a:moveTo>
                    <a:pt x="3" y="204"/>
                  </a:moveTo>
                  <a:lnTo>
                    <a:pt x="0" y="1"/>
                  </a:lnTo>
                  <a:lnTo>
                    <a:pt x="179" y="0"/>
                  </a:lnTo>
                  <a:lnTo>
                    <a:pt x="199" y="0"/>
                  </a:lnTo>
                  <a:lnTo>
                    <a:pt x="221" y="0"/>
                  </a:lnTo>
                  <a:lnTo>
                    <a:pt x="240" y="0"/>
                  </a:lnTo>
                  <a:lnTo>
                    <a:pt x="257" y="0"/>
                  </a:lnTo>
                  <a:lnTo>
                    <a:pt x="273" y="1"/>
                  </a:lnTo>
                  <a:lnTo>
                    <a:pt x="286" y="3"/>
                  </a:lnTo>
                  <a:lnTo>
                    <a:pt x="299" y="4"/>
                  </a:lnTo>
                  <a:lnTo>
                    <a:pt x="311" y="6"/>
                  </a:lnTo>
                  <a:lnTo>
                    <a:pt x="321" y="7"/>
                  </a:lnTo>
                  <a:lnTo>
                    <a:pt x="330" y="10"/>
                  </a:lnTo>
                  <a:lnTo>
                    <a:pt x="338" y="13"/>
                  </a:lnTo>
                  <a:lnTo>
                    <a:pt x="347" y="17"/>
                  </a:lnTo>
                  <a:lnTo>
                    <a:pt x="356" y="20"/>
                  </a:lnTo>
                  <a:lnTo>
                    <a:pt x="363" y="23"/>
                  </a:lnTo>
                  <a:lnTo>
                    <a:pt x="369" y="29"/>
                  </a:lnTo>
                  <a:lnTo>
                    <a:pt x="377" y="32"/>
                  </a:lnTo>
                  <a:lnTo>
                    <a:pt x="385" y="39"/>
                  </a:lnTo>
                  <a:lnTo>
                    <a:pt x="390" y="45"/>
                  </a:lnTo>
                  <a:lnTo>
                    <a:pt x="399" y="52"/>
                  </a:lnTo>
                  <a:lnTo>
                    <a:pt x="403" y="58"/>
                  </a:lnTo>
                  <a:lnTo>
                    <a:pt x="408" y="67"/>
                  </a:lnTo>
                  <a:lnTo>
                    <a:pt x="414" y="75"/>
                  </a:lnTo>
                  <a:lnTo>
                    <a:pt x="419" y="83"/>
                  </a:lnTo>
                  <a:lnTo>
                    <a:pt x="422" y="93"/>
                  </a:lnTo>
                  <a:lnTo>
                    <a:pt x="430" y="110"/>
                  </a:lnTo>
                  <a:lnTo>
                    <a:pt x="434" y="129"/>
                  </a:lnTo>
                  <a:lnTo>
                    <a:pt x="437" y="152"/>
                  </a:lnTo>
                  <a:lnTo>
                    <a:pt x="438" y="177"/>
                  </a:lnTo>
                  <a:lnTo>
                    <a:pt x="437" y="204"/>
                  </a:lnTo>
                  <a:lnTo>
                    <a:pt x="273" y="204"/>
                  </a:lnTo>
                  <a:lnTo>
                    <a:pt x="273" y="199"/>
                  </a:lnTo>
                  <a:lnTo>
                    <a:pt x="273" y="180"/>
                  </a:lnTo>
                  <a:lnTo>
                    <a:pt x="267" y="161"/>
                  </a:lnTo>
                  <a:lnTo>
                    <a:pt x="263" y="149"/>
                  </a:lnTo>
                  <a:lnTo>
                    <a:pt x="251" y="138"/>
                  </a:lnTo>
                  <a:lnTo>
                    <a:pt x="245" y="135"/>
                  </a:lnTo>
                  <a:lnTo>
                    <a:pt x="240" y="132"/>
                  </a:lnTo>
                  <a:lnTo>
                    <a:pt x="231" y="128"/>
                  </a:lnTo>
                  <a:lnTo>
                    <a:pt x="222" y="125"/>
                  </a:lnTo>
                  <a:lnTo>
                    <a:pt x="214" y="123"/>
                  </a:lnTo>
                  <a:lnTo>
                    <a:pt x="202" y="123"/>
                  </a:lnTo>
                  <a:lnTo>
                    <a:pt x="190" y="123"/>
                  </a:lnTo>
                  <a:lnTo>
                    <a:pt x="179" y="123"/>
                  </a:lnTo>
                  <a:lnTo>
                    <a:pt x="176" y="123"/>
                  </a:lnTo>
                  <a:lnTo>
                    <a:pt x="176" y="123"/>
                  </a:lnTo>
                  <a:lnTo>
                    <a:pt x="172" y="123"/>
                  </a:lnTo>
                  <a:lnTo>
                    <a:pt x="170" y="123"/>
                  </a:lnTo>
                  <a:lnTo>
                    <a:pt x="167" y="123"/>
                  </a:lnTo>
                  <a:lnTo>
                    <a:pt x="163" y="123"/>
                  </a:lnTo>
                  <a:lnTo>
                    <a:pt x="161" y="123"/>
                  </a:lnTo>
                  <a:lnTo>
                    <a:pt x="158" y="123"/>
                  </a:lnTo>
                  <a:lnTo>
                    <a:pt x="160" y="204"/>
                  </a:lnTo>
                  <a:lnTo>
                    <a:pt x="3" y="204"/>
                  </a:lnTo>
                  <a:close/>
                </a:path>
              </a:pathLst>
            </a:custGeom>
            <a:solidFill>
              <a:srgbClr val="fff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31600" y="2256840"/>
              <a:ext cx="204840" cy="182880"/>
            </a:xfrm>
            <a:custGeom>
              <a:avLst/>
              <a:gdLst/>
              <a:ahLst/>
              <a:rect l="l" t="t" r="r" b="b"/>
              <a:pathLst>
                <a:path w="480" h="485">
                  <a:moveTo>
                    <a:pt x="0" y="0"/>
                  </a:moveTo>
                  <a:lnTo>
                    <a:pt x="8" y="485"/>
                  </a:lnTo>
                  <a:lnTo>
                    <a:pt x="164" y="483"/>
                  </a:lnTo>
                  <a:lnTo>
                    <a:pt x="160" y="212"/>
                  </a:lnTo>
                  <a:lnTo>
                    <a:pt x="192" y="209"/>
                  </a:lnTo>
                  <a:lnTo>
                    <a:pt x="203" y="209"/>
                  </a:lnTo>
                  <a:lnTo>
                    <a:pt x="212" y="212"/>
                  </a:lnTo>
                  <a:lnTo>
                    <a:pt x="221" y="212"/>
                  </a:lnTo>
                  <a:lnTo>
                    <a:pt x="228" y="216"/>
                  </a:lnTo>
                  <a:lnTo>
                    <a:pt x="237" y="221"/>
                  </a:lnTo>
                  <a:lnTo>
                    <a:pt x="242" y="224"/>
                  </a:lnTo>
                  <a:lnTo>
                    <a:pt x="247" y="228"/>
                  </a:lnTo>
                  <a:lnTo>
                    <a:pt x="251" y="234"/>
                  </a:lnTo>
                  <a:lnTo>
                    <a:pt x="260" y="247"/>
                  </a:lnTo>
                  <a:lnTo>
                    <a:pt x="264" y="267"/>
                  </a:lnTo>
                  <a:lnTo>
                    <a:pt x="269" y="290"/>
                  </a:lnTo>
                  <a:lnTo>
                    <a:pt x="270" y="318"/>
                  </a:lnTo>
                  <a:lnTo>
                    <a:pt x="270" y="324"/>
                  </a:lnTo>
                  <a:lnTo>
                    <a:pt x="270" y="329"/>
                  </a:lnTo>
                  <a:lnTo>
                    <a:pt x="270" y="338"/>
                  </a:lnTo>
                  <a:lnTo>
                    <a:pt x="270" y="350"/>
                  </a:lnTo>
                  <a:lnTo>
                    <a:pt x="270" y="360"/>
                  </a:lnTo>
                  <a:lnTo>
                    <a:pt x="270" y="370"/>
                  </a:lnTo>
                  <a:lnTo>
                    <a:pt x="270" y="379"/>
                  </a:lnTo>
                  <a:lnTo>
                    <a:pt x="270" y="387"/>
                  </a:lnTo>
                  <a:lnTo>
                    <a:pt x="270" y="400"/>
                  </a:lnTo>
                  <a:lnTo>
                    <a:pt x="270" y="413"/>
                  </a:lnTo>
                  <a:lnTo>
                    <a:pt x="270" y="427"/>
                  </a:lnTo>
                  <a:lnTo>
                    <a:pt x="274" y="438"/>
                  </a:lnTo>
                  <a:lnTo>
                    <a:pt x="277" y="448"/>
                  </a:lnTo>
                  <a:lnTo>
                    <a:pt x="280" y="461"/>
                  </a:lnTo>
                  <a:lnTo>
                    <a:pt x="283" y="471"/>
                  </a:lnTo>
                  <a:lnTo>
                    <a:pt x="286" y="482"/>
                  </a:lnTo>
                  <a:lnTo>
                    <a:pt x="480" y="479"/>
                  </a:lnTo>
                  <a:lnTo>
                    <a:pt x="471" y="470"/>
                  </a:lnTo>
                  <a:lnTo>
                    <a:pt x="461" y="458"/>
                  </a:lnTo>
                  <a:lnTo>
                    <a:pt x="454" y="444"/>
                  </a:lnTo>
                  <a:lnTo>
                    <a:pt x="448" y="428"/>
                  </a:lnTo>
                  <a:lnTo>
                    <a:pt x="442" y="408"/>
                  </a:lnTo>
                  <a:lnTo>
                    <a:pt x="440" y="387"/>
                  </a:lnTo>
                  <a:lnTo>
                    <a:pt x="435" y="361"/>
                  </a:lnTo>
                  <a:lnTo>
                    <a:pt x="434" y="334"/>
                  </a:lnTo>
                  <a:lnTo>
                    <a:pt x="434" y="324"/>
                  </a:lnTo>
                  <a:lnTo>
                    <a:pt x="434" y="312"/>
                  </a:lnTo>
                  <a:lnTo>
                    <a:pt x="432" y="303"/>
                  </a:lnTo>
                  <a:lnTo>
                    <a:pt x="432" y="298"/>
                  </a:lnTo>
                  <a:lnTo>
                    <a:pt x="432" y="296"/>
                  </a:lnTo>
                  <a:lnTo>
                    <a:pt x="432" y="295"/>
                  </a:lnTo>
                  <a:lnTo>
                    <a:pt x="431" y="266"/>
                  </a:lnTo>
                  <a:lnTo>
                    <a:pt x="427" y="238"/>
                  </a:lnTo>
                  <a:lnTo>
                    <a:pt x="419" y="215"/>
                  </a:lnTo>
                  <a:lnTo>
                    <a:pt x="411" y="195"/>
                  </a:lnTo>
                  <a:lnTo>
                    <a:pt x="400" y="177"/>
                  </a:lnTo>
                  <a:lnTo>
                    <a:pt x="386" y="161"/>
                  </a:lnTo>
                  <a:lnTo>
                    <a:pt x="370" y="148"/>
                  </a:lnTo>
                  <a:lnTo>
                    <a:pt x="351" y="140"/>
                  </a:lnTo>
                  <a:lnTo>
                    <a:pt x="361" y="132"/>
                  </a:lnTo>
                  <a:lnTo>
                    <a:pt x="371" y="125"/>
                  </a:lnTo>
                  <a:lnTo>
                    <a:pt x="382" y="116"/>
                  </a:lnTo>
                  <a:lnTo>
                    <a:pt x="390" y="111"/>
                  </a:lnTo>
                  <a:lnTo>
                    <a:pt x="398" y="100"/>
                  </a:lnTo>
                  <a:lnTo>
                    <a:pt x="405" y="92"/>
                  </a:lnTo>
                  <a:lnTo>
                    <a:pt x="411" y="83"/>
                  </a:lnTo>
                  <a:lnTo>
                    <a:pt x="416" y="71"/>
                  </a:lnTo>
                  <a:lnTo>
                    <a:pt x="424" y="51"/>
                  </a:lnTo>
                  <a:lnTo>
                    <a:pt x="431" y="28"/>
                  </a:lnTo>
                  <a:lnTo>
                    <a:pt x="434" y="2"/>
                  </a:lnTo>
                  <a:lnTo>
                    <a:pt x="434" y="0"/>
                  </a:lnTo>
                  <a:lnTo>
                    <a:pt x="270" y="0"/>
                  </a:lnTo>
                  <a:lnTo>
                    <a:pt x="270" y="16"/>
                  </a:lnTo>
                  <a:lnTo>
                    <a:pt x="266" y="35"/>
                  </a:lnTo>
                  <a:lnTo>
                    <a:pt x="260" y="51"/>
                  </a:lnTo>
                  <a:lnTo>
                    <a:pt x="251" y="63"/>
                  </a:lnTo>
                  <a:lnTo>
                    <a:pt x="245" y="67"/>
                  </a:lnTo>
                  <a:lnTo>
                    <a:pt x="240" y="71"/>
                  </a:lnTo>
                  <a:lnTo>
                    <a:pt x="231" y="74"/>
                  </a:lnTo>
                  <a:lnTo>
                    <a:pt x="222" y="76"/>
                  </a:lnTo>
                  <a:lnTo>
                    <a:pt x="213" y="80"/>
                  </a:lnTo>
                  <a:lnTo>
                    <a:pt x="203" y="80"/>
                  </a:lnTo>
                  <a:lnTo>
                    <a:pt x="190" y="80"/>
                  </a:lnTo>
                  <a:lnTo>
                    <a:pt x="179" y="83"/>
                  </a:lnTo>
                  <a:lnTo>
                    <a:pt x="177" y="83"/>
                  </a:lnTo>
                  <a:lnTo>
                    <a:pt x="176" y="83"/>
                  </a:lnTo>
                  <a:lnTo>
                    <a:pt x="173" y="83"/>
                  </a:lnTo>
                  <a:lnTo>
                    <a:pt x="169" y="83"/>
                  </a:lnTo>
                  <a:lnTo>
                    <a:pt x="167" y="83"/>
                  </a:lnTo>
                  <a:lnTo>
                    <a:pt x="164" y="83"/>
                  </a:lnTo>
                  <a:lnTo>
                    <a:pt x="161" y="83"/>
                  </a:lnTo>
                  <a:lnTo>
                    <a:pt x="158" y="83"/>
                  </a:lnTo>
                  <a:lnTo>
                    <a:pt x="15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0200" y="2176920"/>
              <a:ext cx="162720" cy="260640"/>
            </a:xfrm>
            <a:custGeom>
              <a:avLst/>
              <a:gdLst/>
              <a:ahLst/>
              <a:rect l="l" t="t" r="r" b="b"/>
              <a:pathLst>
                <a:path w="383" h="693">
                  <a:moveTo>
                    <a:pt x="11" y="693"/>
                  </a:moveTo>
                  <a:lnTo>
                    <a:pt x="0" y="4"/>
                  </a:lnTo>
                  <a:lnTo>
                    <a:pt x="373" y="0"/>
                  </a:lnTo>
                  <a:lnTo>
                    <a:pt x="374" y="136"/>
                  </a:lnTo>
                  <a:lnTo>
                    <a:pt x="160" y="139"/>
                  </a:lnTo>
                  <a:lnTo>
                    <a:pt x="163" y="268"/>
                  </a:lnTo>
                  <a:lnTo>
                    <a:pt x="361" y="265"/>
                  </a:lnTo>
                  <a:lnTo>
                    <a:pt x="361" y="401"/>
                  </a:lnTo>
                  <a:lnTo>
                    <a:pt x="164" y="404"/>
                  </a:lnTo>
                  <a:lnTo>
                    <a:pt x="167" y="554"/>
                  </a:lnTo>
                  <a:lnTo>
                    <a:pt x="382" y="552"/>
                  </a:lnTo>
                  <a:lnTo>
                    <a:pt x="383" y="688"/>
                  </a:lnTo>
                  <a:lnTo>
                    <a:pt x="11" y="693"/>
                  </a:lnTo>
                  <a:close/>
                </a:path>
              </a:pathLst>
            </a:custGeom>
            <a:solidFill>
              <a:srgbClr val="fff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293080" y="2480760"/>
              <a:ext cx="115200" cy="603000"/>
            </a:xfrm>
            <a:custGeom>
              <a:avLst/>
              <a:gdLst/>
              <a:ahLst/>
              <a:rect l="l" t="t" r="r" b="b"/>
              <a:pathLst>
                <a:path w="271" h="1603">
                  <a:moveTo>
                    <a:pt x="124" y="0"/>
                  </a:moveTo>
                  <a:lnTo>
                    <a:pt x="145" y="0"/>
                  </a:lnTo>
                  <a:lnTo>
                    <a:pt x="171" y="2"/>
                  </a:lnTo>
                  <a:lnTo>
                    <a:pt x="194" y="9"/>
                  </a:lnTo>
                  <a:lnTo>
                    <a:pt x="214" y="21"/>
                  </a:lnTo>
                  <a:lnTo>
                    <a:pt x="234" y="36"/>
                  </a:lnTo>
                  <a:lnTo>
                    <a:pt x="249" y="55"/>
                  </a:lnTo>
                  <a:lnTo>
                    <a:pt x="261" y="76"/>
                  </a:lnTo>
                  <a:lnTo>
                    <a:pt x="266" y="99"/>
                  </a:lnTo>
                  <a:lnTo>
                    <a:pt x="271" y="125"/>
                  </a:lnTo>
                  <a:lnTo>
                    <a:pt x="271" y="1479"/>
                  </a:lnTo>
                  <a:lnTo>
                    <a:pt x="266" y="1505"/>
                  </a:lnTo>
                  <a:lnTo>
                    <a:pt x="261" y="1527"/>
                  </a:lnTo>
                  <a:lnTo>
                    <a:pt x="249" y="1548"/>
                  </a:lnTo>
                  <a:lnTo>
                    <a:pt x="234" y="1567"/>
                  </a:lnTo>
                  <a:lnTo>
                    <a:pt x="214" y="1583"/>
                  </a:lnTo>
                  <a:lnTo>
                    <a:pt x="194" y="1593"/>
                  </a:lnTo>
                  <a:lnTo>
                    <a:pt x="171" y="1602"/>
                  </a:lnTo>
                  <a:lnTo>
                    <a:pt x="145" y="1603"/>
                  </a:lnTo>
                  <a:lnTo>
                    <a:pt x="124" y="1603"/>
                  </a:lnTo>
                  <a:lnTo>
                    <a:pt x="100" y="1602"/>
                  </a:lnTo>
                  <a:lnTo>
                    <a:pt x="76" y="1593"/>
                  </a:lnTo>
                  <a:lnTo>
                    <a:pt x="55" y="1583"/>
                  </a:lnTo>
                  <a:lnTo>
                    <a:pt x="36" y="1567"/>
                  </a:lnTo>
                  <a:lnTo>
                    <a:pt x="20" y="1548"/>
                  </a:lnTo>
                  <a:lnTo>
                    <a:pt x="10" y="1527"/>
                  </a:lnTo>
                  <a:lnTo>
                    <a:pt x="3" y="1505"/>
                  </a:lnTo>
                  <a:lnTo>
                    <a:pt x="0" y="1479"/>
                  </a:lnTo>
                  <a:lnTo>
                    <a:pt x="0" y="125"/>
                  </a:lnTo>
                  <a:lnTo>
                    <a:pt x="3" y="99"/>
                  </a:lnTo>
                  <a:lnTo>
                    <a:pt x="10" y="76"/>
                  </a:lnTo>
                  <a:lnTo>
                    <a:pt x="20" y="55"/>
                  </a:lnTo>
                  <a:lnTo>
                    <a:pt x="36" y="36"/>
                  </a:lnTo>
                  <a:lnTo>
                    <a:pt x="55" y="21"/>
                  </a:lnTo>
                  <a:lnTo>
                    <a:pt x="76" y="9"/>
                  </a:lnTo>
                  <a:lnTo>
                    <a:pt x="100" y="2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293080" y="2480760"/>
              <a:ext cx="115200" cy="603000"/>
            </a:xfrm>
            <a:custGeom>
              <a:avLst/>
              <a:gdLst/>
              <a:ahLst/>
              <a:rect l="l" t="t" r="r" b="b"/>
              <a:pathLst>
                <a:path w="271" h="1603">
                  <a:moveTo>
                    <a:pt x="124" y="0"/>
                  </a:moveTo>
                  <a:lnTo>
                    <a:pt x="145" y="0"/>
                  </a:lnTo>
                  <a:lnTo>
                    <a:pt x="171" y="2"/>
                  </a:lnTo>
                  <a:lnTo>
                    <a:pt x="194" y="9"/>
                  </a:lnTo>
                  <a:lnTo>
                    <a:pt x="214" y="21"/>
                  </a:lnTo>
                  <a:lnTo>
                    <a:pt x="234" y="36"/>
                  </a:lnTo>
                  <a:lnTo>
                    <a:pt x="249" y="55"/>
                  </a:lnTo>
                  <a:lnTo>
                    <a:pt x="261" y="76"/>
                  </a:lnTo>
                  <a:lnTo>
                    <a:pt x="266" y="99"/>
                  </a:lnTo>
                  <a:lnTo>
                    <a:pt x="271" y="125"/>
                  </a:lnTo>
                  <a:lnTo>
                    <a:pt x="271" y="1479"/>
                  </a:lnTo>
                  <a:lnTo>
                    <a:pt x="266" y="1505"/>
                  </a:lnTo>
                  <a:lnTo>
                    <a:pt x="261" y="1527"/>
                  </a:lnTo>
                  <a:lnTo>
                    <a:pt x="249" y="1548"/>
                  </a:lnTo>
                  <a:lnTo>
                    <a:pt x="234" y="1567"/>
                  </a:lnTo>
                  <a:lnTo>
                    <a:pt x="214" y="1583"/>
                  </a:lnTo>
                  <a:lnTo>
                    <a:pt x="194" y="1593"/>
                  </a:lnTo>
                  <a:lnTo>
                    <a:pt x="171" y="1602"/>
                  </a:lnTo>
                  <a:lnTo>
                    <a:pt x="145" y="1603"/>
                  </a:lnTo>
                  <a:lnTo>
                    <a:pt x="124" y="1603"/>
                  </a:lnTo>
                  <a:lnTo>
                    <a:pt x="100" y="1602"/>
                  </a:lnTo>
                  <a:lnTo>
                    <a:pt x="76" y="1593"/>
                  </a:lnTo>
                  <a:lnTo>
                    <a:pt x="55" y="1583"/>
                  </a:lnTo>
                  <a:lnTo>
                    <a:pt x="36" y="1567"/>
                  </a:lnTo>
                  <a:lnTo>
                    <a:pt x="20" y="1548"/>
                  </a:lnTo>
                  <a:lnTo>
                    <a:pt x="10" y="1527"/>
                  </a:lnTo>
                  <a:lnTo>
                    <a:pt x="3" y="1505"/>
                  </a:lnTo>
                  <a:lnTo>
                    <a:pt x="0" y="1479"/>
                  </a:lnTo>
                  <a:lnTo>
                    <a:pt x="0" y="125"/>
                  </a:lnTo>
                  <a:lnTo>
                    <a:pt x="3" y="99"/>
                  </a:lnTo>
                  <a:lnTo>
                    <a:pt x="10" y="76"/>
                  </a:lnTo>
                  <a:lnTo>
                    <a:pt x="20" y="55"/>
                  </a:lnTo>
                  <a:lnTo>
                    <a:pt x="36" y="36"/>
                  </a:lnTo>
                  <a:lnTo>
                    <a:pt x="55" y="21"/>
                  </a:lnTo>
                  <a:lnTo>
                    <a:pt x="76" y="9"/>
                  </a:lnTo>
                  <a:lnTo>
                    <a:pt x="100" y="2"/>
                  </a:lnTo>
                  <a:lnTo>
                    <a:pt x="124" y="0"/>
                  </a:lnTo>
                  <a:lnTo>
                    <a:pt x="12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230080" y="2927880"/>
              <a:ext cx="247320" cy="216720"/>
            </a:xfrm>
            <a:custGeom>
              <a:avLst/>
              <a:gdLst/>
              <a:ahLst/>
              <a:rect l="l" t="t" r="r" b="b"/>
              <a:pathLst>
                <a:path w="577" h="577">
                  <a:moveTo>
                    <a:pt x="288" y="577"/>
                  </a:moveTo>
                  <a:lnTo>
                    <a:pt x="261" y="576"/>
                  </a:lnTo>
                  <a:lnTo>
                    <a:pt x="230" y="571"/>
                  </a:lnTo>
                  <a:lnTo>
                    <a:pt x="203" y="564"/>
                  </a:lnTo>
                  <a:lnTo>
                    <a:pt x="176" y="556"/>
                  </a:lnTo>
                  <a:lnTo>
                    <a:pt x="150" y="542"/>
                  </a:lnTo>
                  <a:lnTo>
                    <a:pt x="126" y="528"/>
                  </a:lnTo>
                  <a:lnTo>
                    <a:pt x="105" y="511"/>
                  </a:lnTo>
                  <a:lnTo>
                    <a:pt x="84" y="493"/>
                  </a:lnTo>
                  <a:lnTo>
                    <a:pt x="66" y="471"/>
                  </a:lnTo>
                  <a:lnTo>
                    <a:pt x="49" y="451"/>
                  </a:lnTo>
                  <a:lnTo>
                    <a:pt x="34" y="427"/>
                  </a:lnTo>
                  <a:lnTo>
                    <a:pt x="23" y="400"/>
                  </a:lnTo>
                  <a:lnTo>
                    <a:pt x="13" y="374"/>
                  </a:lnTo>
                  <a:lnTo>
                    <a:pt x="5" y="347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1" y="260"/>
                  </a:lnTo>
                  <a:lnTo>
                    <a:pt x="5" y="231"/>
                  </a:lnTo>
                  <a:lnTo>
                    <a:pt x="13" y="203"/>
                  </a:lnTo>
                  <a:lnTo>
                    <a:pt x="23" y="177"/>
                  </a:lnTo>
                  <a:lnTo>
                    <a:pt x="34" y="151"/>
                  </a:lnTo>
                  <a:lnTo>
                    <a:pt x="49" y="126"/>
                  </a:lnTo>
                  <a:lnTo>
                    <a:pt x="66" y="106"/>
                  </a:lnTo>
                  <a:lnTo>
                    <a:pt x="84" y="84"/>
                  </a:lnTo>
                  <a:lnTo>
                    <a:pt x="105" y="67"/>
                  </a:lnTo>
                  <a:lnTo>
                    <a:pt x="126" y="50"/>
                  </a:lnTo>
                  <a:lnTo>
                    <a:pt x="150" y="35"/>
                  </a:lnTo>
                  <a:lnTo>
                    <a:pt x="176" y="22"/>
                  </a:lnTo>
                  <a:lnTo>
                    <a:pt x="203" y="13"/>
                  </a:lnTo>
                  <a:lnTo>
                    <a:pt x="230" y="6"/>
                  </a:lnTo>
                  <a:lnTo>
                    <a:pt x="261" y="2"/>
                  </a:lnTo>
                  <a:lnTo>
                    <a:pt x="288" y="0"/>
                  </a:lnTo>
                  <a:lnTo>
                    <a:pt x="317" y="2"/>
                  </a:lnTo>
                  <a:lnTo>
                    <a:pt x="346" y="6"/>
                  </a:lnTo>
                  <a:lnTo>
                    <a:pt x="375" y="13"/>
                  </a:lnTo>
                  <a:lnTo>
                    <a:pt x="401" y="22"/>
                  </a:lnTo>
                  <a:lnTo>
                    <a:pt x="426" y="35"/>
                  </a:lnTo>
                  <a:lnTo>
                    <a:pt x="450" y="50"/>
                  </a:lnTo>
                  <a:lnTo>
                    <a:pt x="471" y="67"/>
                  </a:lnTo>
                  <a:lnTo>
                    <a:pt x="493" y="84"/>
                  </a:lnTo>
                  <a:lnTo>
                    <a:pt x="511" y="106"/>
                  </a:lnTo>
                  <a:lnTo>
                    <a:pt x="527" y="126"/>
                  </a:lnTo>
                  <a:lnTo>
                    <a:pt x="542" y="151"/>
                  </a:lnTo>
                  <a:lnTo>
                    <a:pt x="555" y="177"/>
                  </a:lnTo>
                  <a:lnTo>
                    <a:pt x="564" y="203"/>
                  </a:lnTo>
                  <a:lnTo>
                    <a:pt x="572" y="231"/>
                  </a:lnTo>
                  <a:lnTo>
                    <a:pt x="577" y="260"/>
                  </a:lnTo>
                  <a:lnTo>
                    <a:pt x="577" y="289"/>
                  </a:lnTo>
                  <a:lnTo>
                    <a:pt x="577" y="318"/>
                  </a:lnTo>
                  <a:lnTo>
                    <a:pt x="572" y="347"/>
                  </a:lnTo>
                  <a:lnTo>
                    <a:pt x="564" y="374"/>
                  </a:lnTo>
                  <a:lnTo>
                    <a:pt x="555" y="400"/>
                  </a:lnTo>
                  <a:lnTo>
                    <a:pt x="542" y="427"/>
                  </a:lnTo>
                  <a:lnTo>
                    <a:pt x="527" y="451"/>
                  </a:lnTo>
                  <a:lnTo>
                    <a:pt x="511" y="471"/>
                  </a:lnTo>
                  <a:lnTo>
                    <a:pt x="493" y="493"/>
                  </a:lnTo>
                  <a:lnTo>
                    <a:pt x="471" y="511"/>
                  </a:lnTo>
                  <a:lnTo>
                    <a:pt x="450" y="528"/>
                  </a:lnTo>
                  <a:lnTo>
                    <a:pt x="426" y="542"/>
                  </a:lnTo>
                  <a:lnTo>
                    <a:pt x="401" y="556"/>
                  </a:lnTo>
                  <a:lnTo>
                    <a:pt x="375" y="564"/>
                  </a:lnTo>
                  <a:lnTo>
                    <a:pt x="346" y="571"/>
                  </a:lnTo>
                  <a:lnTo>
                    <a:pt x="317" y="576"/>
                  </a:lnTo>
                  <a:lnTo>
                    <a:pt x="288" y="577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230080" y="2927880"/>
              <a:ext cx="247320" cy="216720"/>
            </a:xfrm>
            <a:custGeom>
              <a:avLst/>
              <a:gdLst/>
              <a:ahLst/>
              <a:rect l="l" t="t" r="r" b="b"/>
              <a:pathLst>
                <a:path w="577" h="577">
                  <a:moveTo>
                    <a:pt x="288" y="577"/>
                  </a:moveTo>
                  <a:lnTo>
                    <a:pt x="261" y="576"/>
                  </a:lnTo>
                  <a:lnTo>
                    <a:pt x="230" y="571"/>
                  </a:lnTo>
                  <a:lnTo>
                    <a:pt x="203" y="564"/>
                  </a:lnTo>
                  <a:lnTo>
                    <a:pt x="176" y="556"/>
                  </a:lnTo>
                  <a:lnTo>
                    <a:pt x="150" y="542"/>
                  </a:lnTo>
                  <a:lnTo>
                    <a:pt x="126" y="528"/>
                  </a:lnTo>
                  <a:lnTo>
                    <a:pt x="105" y="511"/>
                  </a:lnTo>
                  <a:lnTo>
                    <a:pt x="84" y="493"/>
                  </a:lnTo>
                  <a:lnTo>
                    <a:pt x="66" y="471"/>
                  </a:lnTo>
                  <a:lnTo>
                    <a:pt x="49" y="451"/>
                  </a:lnTo>
                  <a:lnTo>
                    <a:pt x="34" y="427"/>
                  </a:lnTo>
                  <a:lnTo>
                    <a:pt x="23" y="400"/>
                  </a:lnTo>
                  <a:lnTo>
                    <a:pt x="13" y="374"/>
                  </a:lnTo>
                  <a:lnTo>
                    <a:pt x="5" y="347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1" y="260"/>
                  </a:lnTo>
                  <a:lnTo>
                    <a:pt x="5" y="231"/>
                  </a:lnTo>
                  <a:lnTo>
                    <a:pt x="13" y="203"/>
                  </a:lnTo>
                  <a:lnTo>
                    <a:pt x="23" y="177"/>
                  </a:lnTo>
                  <a:lnTo>
                    <a:pt x="34" y="151"/>
                  </a:lnTo>
                  <a:lnTo>
                    <a:pt x="49" y="126"/>
                  </a:lnTo>
                  <a:lnTo>
                    <a:pt x="66" y="106"/>
                  </a:lnTo>
                  <a:lnTo>
                    <a:pt x="84" y="84"/>
                  </a:lnTo>
                  <a:lnTo>
                    <a:pt x="105" y="67"/>
                  </a:lnTo>
                  <a:lnTo>
                    <a:pt x="126" y="50"/>
                  </a:lnTo>
                  <a:lnTo>
                    <a:pt x="150" y="35"/>
                  </a:lnTo>
                  <a:lnTo>
                    <a:pt x="176" y="22"/>
                  </a:lnTo>
                  <a:lnTo>
                    <a:pt x="203" y="13"/>
                  </a:lnTo>
                  <a:lnTo>
                    <a:pt x="230" y="6"/>
                  </a:lnTo>
                  <a:lnTo>
                    <a:pt x="261" y="2"/>
                  </a:lnTo>
                  <a:lnTo>
                    <a:pt x="288" y="0"/>
                  </a:lnTo>
                  <a:lnTo>
                    <a:pt x="317" y="2"/>
                  </a:lnTo>
                  <a:lnTo>
                    <a:pt x="346" y="6"/>
                  </a:lnTo>
                  <a:lnTo>
                    <a:pt x="375" y="13"/>
                  </a:lnTo>
                  <a:lnTo>
                    <a:pt x="401" y="22"/>
                  </a:lnTo>
                  <a:lnTo>
                    <a:pt x="426" y="35"/>
                  </a:lnTo>
                  <a:lnTo>
                    <a:pt x="450" y="50"/>
                  </a:lnTo>
                  <a:lnTo>
                    <a:pt x="471" y="67"/>
                  </a:lnTo>
                  <a:lnTo>
                    <a:pt x="493" y="84"/>
                  </a:lnTo>
                  <a:lnTo>
                    <a:pt x="511" y="106"/>
                  </a:lnTo>
                  <a:lnTo>
                    <a:pt x="527" y="126"/>
                  </a:lnTo>
                  <a:lnTo>
                    <a:pt x="542" y="151"/>
                  </a:lnTo>
                  <a:lnTo>
                    <a:pt x="555" y="177"/>
                  </a:lnTo>
                  <a:lnTo>
                    <a:pt x="564" y="203"/>
                  </a:lnTo>
                  <a:lnTo>
                    <a:pt x="572" y="231"/>
                  </a:lnTo>
                  <a:lnTo>
                    <a:pt x="577" y="260"/>
                  </a:lnTo>
                  <a:lnTo>
                    <a:pt x="577" y="289"/>
                  </a:lnTo>
                  <a:lnTo>
                    <a:pt x="577" y="318"/>
                  </a:lnTo>
                  <a:lnTo>
                    <a:pt x="572" y="347"/>
                  </a:lnTo>
                  <a:lnTo>
                    <a:pt x="564" y="374"/>
                  </a:lnTo>
                  <a:lnTo>
                    <a:pt x="555" y="400"/>
                  </a:lnTo>
                  <a:lnTo>
                    <a:pt x="542" y="427"/>
                  </a:lnTo>
                  <a:lnTo>
                    <a:pt x="527" y="451"/>
                  </a:lnTo>
                  <a:lnTo>
                    <a:pt x="511" y="471"/>
                  </a:lnTo>
                  <a:lnTo>
                    <a:pt x="493" y="493"/>
                  </a:lnTo>
                  <a:lnTo>
                    <a:pt x="471" y="511"/>
                  </a:lnTo>
                  <a:lnTo>
                    <a:pt x="450" y="528"/>
                  </a:lnTo>
                  <a:lnTo>
                    <a:pt x="426" y="542"/>
                  </a:lnTo>
                  <a:lnTo>
                    <a:pt x="401" y="556"/>
                  </a:lnTo>
                  <a:lnTo>
                    <a:pt x="375" y="564"/>
                  </a:lnTo>
                  <a:lnTo>
                    <a:pt x="346" y="571"/>
                  </a:lnTo>
                  <a:lnTo>
                    <a:pt x="317" y="576"/>
                  </a:lnTo>
                  <a:lnTo>
                    <a:pt x="288" y="577"/>
                  </a:lnTo>
                  <a:lnTo>
                    <a:pt x="288" y="57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6477120" y="2590920"/>
            <a:ext cx="1218960" cy="1437840"/>
            <a:chOff x="6477120" y="2590920"/>
            <a:chExt cx="1218960" cy="1437840"/>
          </a:xfrm>
        </p:grpSpPr>
        <p:sp>
          <p:nvSpPr>
            <p:cNvPr id="841" name=""/>
            <p:cNvSpPr/>
            <p:nvPr/>
          </p:nvSpPr>
          <p:spPr>
            <a:xfrm>
              <a:off x="6480360" y="2710440"/>
              <a:ext cx="1215360" cy="1315080"/>
            </a:xfrm>
            <a:prstGeom prst="rect">
              <a:avLst/>
            </a:pr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626160" y="2778840"/>
              <a:ext cx="406080" cy="1107000"/>
            </a:xfrm>
            <a:custGeom>
              <a:avLst/>
              <a:gdLst/>
              <a:ahLst/>
              <a:rect l="l" t="t" r="r" b="b"/>
              <a:pathLst>
                <a:path w="721" h="1711">
                  <a:moveTo>
                    <a:pt x="563" y="17"/>
                  </a:moveTo>
                  <a:lnTo>
                    <a:pt x="551" y="17"/>
                  </a:lnTo>
                  <a:lnTo>
                    <a:pt x="540" y="17"/>
                  </a:lnTo>
                  <a:lnTo>
                    <a:pt x="527" y="17"/>
                  </a:lnTo>
                  <a:lnTo>
                    <a:pt x="516" y="23"/>
                  </a:lnTo>
                  <a:lnTo>
                    <a:pt x="506" y="29"/>
                  </a:lnTo>
                  <a:lnTo>
                    <a:pt x="493" y="34"/>
                  </a:lnTo>
                  <a:lnTo>
                    <a:pt x="493" y="47"/>
                  </a:lnTo>
                  <a:lnTo>
                    <a:pt x="481" y="53"/>
                  </a:lnTo>
                  <a:lnTo>
                    <a:pt x="475" y="64"/>
                  </a:lnTo>
                  <a:lnTo>
                    <a:pt x="462" y="70"/>
                  </a:lnTo>
                  <a:lnTo>
                    <a:pt x="457" y="82"/>
                  </a:lnTo>
                  <a:lnTo>
                    <a:pt x="452" y="93"/>
                  </a:lnTo>
                  <a:lnTo>
                    <a:pt x="445" y="105"/>
                  </a:lnTo>
                  <a:lnTo>
                    <a:pt x="434" y="110"/>
                  </a:lnTo>
                  <a:lnTo>
                    <a:pt x="428" y="123"/>
                  </a:lnTo>
                  <a:lnTo>
                    <a:pt x="416" y="128"/>
                  </a:lnTo>
                  <a:lnTo>
                    <a:pt x="411" y="141"/>
                  </a:lnTo>
                  <a:lnTo>
                    <a:pt x="404" y="151"/>
                  </a:lnTo>
                  <a:lnTo>
                    <a:pt x="393" y="158"/>
                  </a:lnTo>
                  <a:lnTo>
                    <a:pt x="387" y="169"/>
                  </a:lnTo>
                  <a:lnTo>
                    <a:pt x="381" y="182"/>
                  </a:lnTo>
                  <a:lnTo>
                    <a:pt x="370" y="192"/>
                  </a:lnTo>
                  <a:lnTo>
                    <a:pt x="370" y="204"/>
                  </a:lnTo>
                  <a:lnTo>
                    <a:pt x="363" y="216"/>
                  </a:lnTo>
                  <a:lnTo>
                    <a:pt x="358" y="227"/>
                  </a:lnTo>
                  <a:lnTo>
                    <a:pt x="351" y="239"/>
                  </a:lnTo>
                  <a:lnTo>
                    <a:pt x="351" y="251"/>
                  </a:lnTo>
                  <a:lnTo>
                    <a:pt x="346" y="263"/>
                  </a:lnTo>
                  <a:lnTo>
                    <a:pt x="340" y="273"/>
                  </a:lnTo>
                  <a:lnTo>
                    <a:pt x="340" y="286"/>
                  </a:lnTo>
                  <a:lnTo>
                    <a:pt x="334" y="298"/>
                  </a:lnTo>
                  <a:lnTo>
                    <a:pt x="328" y="309"/>
                  </a:lnTo>
                  <a:lnTo>
                    <a:pt x="322" y="321"/>
                  </a:lnTo>
                  <a:lnTo>
                    <a:pt x="322" y="333"/>
                  </a:lnTo>
                  <a:lnTo>
                    <a:pt x="317" y="345"/>
                  </a:lnTo>
                  <a:lnTo>
                    <a:pt x="317" y="357"/>
                  </a:lnTo>
                  <a:lnTo>
                    <a:pt x="310" y="367"/>
                  </a:lnTo>
                  <a:lnTo>
                    <a:pt x="305" y="380"/>
                  </a:lnTo>
                  <a:lnTo>
                    <a:pt x="305" y="391"/>
                  </a:lnTo>
                  <a:lnTo>
                    <a:pt x="299" y="403"/>
                  </a:lnTo>
                  <a:lnTo>
                    <a:pt x="293" y="415"/>
                  </a:lnTo>
                  <a:lnTo>
                    <a:pt x="287" y="426"/>
                  </a:lnTo>
                  <a:lnTo>
                    <a:pt x="287" y="439"/>
                  </a:lnTo>
                  <a:lnTo>
                    <a:pt x="281" y="449"/>
                  </a:lnTo>
                  <a:lnTo>
                    <a:pt x="276" y="461"/>
                  </a:lnTo>
                  <a:lnTo>
                    <a:pt x="276" y="473"/>
                  </a:lnTo>
                  <a:lnTo>
                    <a:pt x="269" y="484"/>
                  </a:lnTo>
                  <a:lnTo>
                    <a:pt x="269" y="497"/>
                  </a:lnTo>
                  <a:lnTo>
                    <a:pt x="264" y="508"/>
                  </a:lnTo>
                  <a:lnTo>
                    <a:pt x="259" y="519"/>
                  </a:lnTo>
                  <a:lnTo>
                    <a:pt x="259" y="531"/>
                  </a:lnTo>
                  <a:lnTo>
                    <a:pt x="252" y="543"/>
                  </a:lnTo>
                  <a:lnTo>
                    <a:pt x="252" y="554"/>
                  </a:lnTo>
                  <a:lnTo>
                    <a:pt x="246" y="567"/>
                  </a:lnTo>
                  <a:lnTo>
                    <a:pt x="246" y="578"/>
                  </a:lnTo>
                  <a:lnTo>
                    <a:pt x="240" y="591"/>
                  </a:lnTo>
                  <a:lnTo>
                    <a:pt x="240" y="619"/>
                  </a:lnTo>
                  <a:lnTo>
                    <a:pt x="240" y="631"/>
                  </a:lnTo>
                  <a:lnTo>
                    <a:pt x="235" y="643"/>
                  </a:lnTo>
                  <a:lnTo>
                    <a:pt x="235" y="654"/>
                  </a:lnTo>
                  <a:lnTo>
                    <a:pt x="235" y="665"/>
                  </a:lnTo>
                  <a:lnTo>
                    <a:pt x="228" y="677"/>
                  </a:lnTo>
                  <a:lnTo>
                    <a:pt x="228" y="689"/>
                  </a:lnTo>
                  <a:lnTo>
                    <a:pt x="228" y="700"/>
                  </a:lnTo>
                  <a:lnTo>
                    <a:pt x="222" y="712"/>
                  </a:lnTo>
                  <a:lnTo>
                    <a:pt x="222" y="724"/>
                  </a:lnTo>
                  <a:lnTo>
                    <a:pt x="215" y="736"/>
                  </a:lnTo>
                  <a:lnTo>
                    <a:pt x="211" y="747"/>
                  </a:lnTo>
                  <a:lnTo>
                    <a:pt x="211" y="759"/>
                  </a:lnTo>
                  <a:lnTo>
                    <a:pt x="205" y="771"/>
                  </a:lnTo>
                  <a:lnTo>
                    <a:pt x="205" y="783"/>
                  </a:lnTo>
                  <a:lnTo>
                    <a:pt x="198" y="795"/>
                  </a:lnTo>
                  <a:lnTo>
                    <a:pt x="198" y="806"/>
                  </a:lnTo>
                  <a:lnTo>
                    <a:pt x="193" y="818"/>
                  </a:lnTo>
                  <a:lnTo>
                    <a:pt x="193" y="830"/>
                  </a:lnTo>
                  <a:lnTo>
                    <a:pt x="187" y="841"/>
                  </a:lnTo>
                  <a:lnTo>
                    <a:pt x="181" y="852"/>
                  </a:lnTo>
                  <a:lnTo>
                    <a:pt x="175" y="870"/>
                  </a:lnTo>
                  <a:lnTo>
                    <a:pt x="175" y="882"/>
                  </a:lnTo>
                  <a:lnTo>
                    <a:pt x="175" y="893"/>
                  </a:lnTo>
                  <a:lnTo>
                    <a:pt x="170" y="904"/>
                  </a:lnTo>
                  <a:lnTo>
                    <a:pt x="170" y="917"/>
                  </a:lnTo>
                  <a:lnTo>
                    <a:pt x="164" y="928"/>
                  </a:lnTo>
                  <a:lnTo>
                    <a:pt x="164" y="941"/>
                  </a:lnTo>
                  <a:lnTo>
                    <a:pt x="158" y="952"/>
                  </a:lnTo>
                  <a:lnTo>
                    <a:pt x="153" y="970"/>
                  </a:lnTo>
                  <a:lnTo>
                    <a:pt x="153" y="981"/>
                  </a:lnTo>
                  <a:lnTo>
                    <a:pt x="153" y="994"/>
                  </a:lnTo>
                  <a:lnTo>
                    <a:pt x="146" y="1004"/>
                  </a:lnTo>
                  <a:lnTo>
                    <a:pt x="146" y="1017"/>
                  </a:lnTo>
                  <a:lnTo>
                    <a:pt x="146" y="1028"/>
                  </a:lnTo>
                  <a:lnTo>
                    <a:pt x="146" y="1039"/>
                  </a:lnTo>
                  <a:lnTo>
                    <a:pt x="146" y="1052"/>
                  </a:lnTo>
                  <a:lnTo>
                    <a:pt x="146" y="1063"/>
                  </a:lnTo>
                  <a:lnTo>
                    <a:pt x="146" y="1075"/>
                  </a:lnTo>
                  <a:lnTo>
                    <a:pt x="146" y="1087"/>
                  </a:lnTo>
                  <a:lnTo>
                    <a:pt x="146" y="1097"/>
                  </a:lnTo>
                  <a:lnTo>
                    <a:pt x="146" y="1109"/>
                  </a:lnTo>
                  <a:lnTo>
                    <a:pt x="146" y="1121"/>
                  </a:lnTo>
                  <a:lnTo>
                    <a:pt x="146" y="1133"/>
                  </a:lnTo>
                  <a:lnTo>
                    <a:pt x="146" y="1145"/>
                  </a:lnTo>
                  <a:lnTo>
                    <a:pt x="141" y="1156"/>
                  </a:lnTo>
                  <a:lnTo>
                    <a:pt x="141" y="1168"/>
                  </a:lnTo>
                  <a:lnTo>
                    <a:pt x="134" y="1180"/>
                  </a:lnTo>
                  <a:lnTo>
                    <a:pt x="134" y="1191"/>
                  </a:lnTo>
                  <a:lnTo>
                    <a:pt x="128" y="1203"/>
                  </a:lnTo>
                  <a:lnTo>
                    <a:pt x="128" y="1215"/>
                  </a:lnTo>
                  <a:lnTo>
                    <a:pt x="123" y="1227"/>
                  </a:lnTo>
                  <a:lnTo>
                    <a:pt x="117" y="1239"/>
                  </a:lnTo>
                  <a:lnTo>
                    <a:pt x="111" y="1250"/>
                  </a:lnTo>
                  <a:lnTo>
                    <a:pt x="104" y="1262"/>
                  </a:lnTo>
                  <a:lnTo>
                    <a:pt x="104" y="1273"/>
                  </a:lnTo>
                  <a:lnTo>
                    <a:pt x="99" y="1285"/>
                  </a:lnTo>
                  <a:lnTo>
                    <a:pt x="93" y="1296"/>
                  </a:lnTo>
                  <a:lnTo>
                    <a:pt x="87" y="1309"/>
                  </a:lnTo>
                  <a:lnTo>
                    <a:pt x="87" y="1320"/>
                  </a:lnTo>
                  <a:lnTo>
                    <a:pt x="82" y="1331"/>
                  </a:lnTo>
                  <a:lnTo>
                    <a:pt x="82" y="1344"/>
                  </a:lnTo>
                  <a:lnTo>
                    <a:pt x="76" y="1361"/>
                  </a:lnTo>
                  <a:lnTo>
                    <a:pt x="76" y="1372"/>
                  </a:lnTo>
                  <a:lnTo>
                    <a:pt x="76" y="1385"/>
                  </a:lnTo>
                  <a:lnTo>
                    <a:pt x="76" y="1396"/>
                  </a:lnTo>
                  <a:lnTo>
                    <a:pt x="76" y="1407"/>
                  </a:lnTo>
                  <a:lnTo>
                    <a:pt x="76" y="1420"/>
                  </a:lnTo>
                  <a:lnTo>
                    <a:pt x="76" y="1431"/>
                  </a:lnTo>
                  <a:lnTo>
                    <a:pt x="76" y="1442"/>
                  </a:lnTo>
                  <a:lnTo>
                    <a:pt x="70" y="1455"/>
                  </a:lnTo>
                  <a:lnTo>
                    <a:pt x="70" y="1466"/>
                  </a:lnTo>
                  <a:lnTo>
                    <a:pt x="70" y="1479"/>
                  </a:lnTo>
                  <a:lnTo>
                    <a:pt x="64" y="1489"/>
                  </a:lnTo>
                  <a:lnTo>
                    <a:pt x="64" y="1501"/>
                  </a:lnTo>
                  <a:lnTo>
                    <a:pt x="59" y="1513"/>
                  </a:lnTo>
                  <a:lnTo>
                    <a:pt x="59" y="1524"/>
                  </a:lnTo>
                  <a:lnTo>
                    <a:pt x="52" y="1537"/>
                  </a:lnTo>
                  <a:lnTo>
                    <a:pt x="47" y="1548"/>
                  </a:lnTo>
                  <a:lnTo>
                    <a:pt x="47" y="1560"/>
                  </a:lnTo>
                  <a:lnTo>
                    <a:pt x="41" y="1571"/>
                  </a:lnTo>
                  <a:lnTo>
                    <a:pt x="41" y="1582"/>
                  </a:lnTo>
                  <a:lnTo>
                    <a:pt x="41" y="1594"/>
                  </a:lnTo>
                  <a:lnTo>
                    <a:pt x="34" y="1607"/>
                  </a:lnTo>
                  <a:lnTo>
                    <a:pt x="34" y="1618"/>
                  </a:lnTo>
                  <a:lnTo>
                    <a:pt x="34" y="1629"/>
                  </a:lnTo>
                  <a:lnTo>
                    <a:pt x="34" y="1642"/>
                  </a:lnTo>
                  <a:lnTo>
                    <a:pt x="34" y="1653"/>
                  </a:lnTo>
                  <a:lnTo>
                    <a:pt x="23" y="1665"/>
                  </a:lnTo>
                  <a:lnTo>
                    <a:pt x="17" y="1676"/>
                  </a:lnTo>
                  <a:lnTo>
                    <a:pt x="17" y="1688"/>
                  </a:lnTo>
                  <a:lnTo>
                    <a:pt x="10" y="1700"/>
                  </a:lnTo>
                  <a:lnTo>
                    <a:pt x="0" y="1711"/>
                  </a:lnTo>
                  <a:lnTo>
                    <a:pt x="82" y="1653"/>
                  </a:lnTo>
                  <a:lnTo>
                    <a:pt x="93" y="1653"/>
                  </a:lnTo>
                  <a:lnTo>
                    <a:pt x="104" y="1659"/>
                  </a:lnTo>
                  <a:lnTo>
                    <a:pt x="117" y="1665"/>
                  </a:lnTo>
                  <a:lnTo>
                    <a:pt x="128" y="1670"/>
                  </a:lnTo>
                  <a:lnTo>
                    <a:pt x="141" y="1670"/>
                  </a:lnTo>
                  <a:lnTo>
                    <a:pt x="153" y="1670"/>
                  </a:lnTo>
                  <a:lnTo>
                    <a:pt x="164" y="1670"/>
                  </a:lnTo>
                  <a:lnTo>
                    <a:pt x="175" y="1670"/>
                  </a:lnTo>
                  <a:lnTo>
                    <a:pt x="181" y="1659"/>
                  </a:lnTo>
                  <a:lnTo>
                    <a:pt x="193" y="1653"/>
                  </a:lnTo>
                  <a:lnTo>
                    <a:pt x="193" y="1642"/>
                  </a:lnTo>
                  <a:lnTo>
                    <a:pt x="198" y="1629"/>
                  </a:lnTo>
                  <a:lnTo>
                    <a:pt x="205" y="1618"/>
                  </a:lnTo>
                  <a:lnTo>
                    <a:pt x="211" y="1607"/>
                  </a:lnTo>
                  <a:lnTo>
                    <a:pt x="215" y="1594"/>
                  </a:lnTo>
                  <a:lnTo>
                    <a:pt x="215" y="1582"/>
                  </a:lnTo>
                  <a:lnTo>
                    <a:pt x="222" y="1571"/>
                  </a:lnTo>
                  <a:lnTo>
                    <a:pt x="222" y="1560"/>
                  </a:lnTo>
                  <a:lnTo>
                    <a:pt x="222" y="1548"/>
                  </a:lnTo>
                  <a:lnTo>
                    <a:pt x="222" y="1537"/>
                  </a:lnTo>
                  <a:lnTo>
                    <a:pt x="228" y="1524"/>
                  </a:lnTo>
                  <a:lnTo>
                    <a:pt x="228" y="1513"/>
                  </a:lnTo>
                  <a:lnTo>
                    <a:pt x="235" y="1501"/>
                  </a:lnTo>
                  <a:lnTo>
                    <a:pt x="235" y="1489"/>
                  </a:lnTo>
                  <a:lnTo>
                    <a:pt x="235" y="1479"/>
                  </a:lnTo>
                  <a:lnTo>
                    <a:pt x="240" y="1466"/>
                  </a:lnTo>
                  <a:lnTo>
                    <a:pt x="240" y="1455"/>
                  </a:lnTo>
                  <a:lnTo>
                    <a:pt x="240" y="1442"/>
                  </a:lnTo>
                  <a:lnTo>
                    <a:pt x="240" y="1431"/>
                  </a:lnTo>
                  <a:lnTo>
                    <a:pt x="240" y="1420"/>
                  </a:lnTo>
                  <a:lnTo>
                    <a:pt x="240" y="1389"/>
                  </a:lnTo>
                  <a:lnTo>
                    <a:pt x="240" y="1378"/>
                  </a:lnTo>
                  <a:lnTo>
                    <a:pt x="240" y="1367"/>
                  </a:lnTo>
                  <a:lnTo>
                    <a:pt x="240" y="1354"/>
                  </a:lnTo>
                  <a:lnTo>
                    <a:pt x="246" y="1344"/>
                  </a:lnTo>
                  <a:lnTo>
                    <a:pt x="246" y="1331"/>
                  </a:lnTo>
                  <a:lnTo>
                    <a:pt x="246" y="1313"/>
                  </a:lnTo>
                  <a:lnTo>
                    <a:pt x="252" y="1303"/>
                  </a:lnTo>
                  <a:lnTo>
                    <a:pt x="252" y="1291"/>
                  </a:lnTo>
                  <a:lnTo>
                    <a:pt x="259" y="1279"/>
                  </a:lnTo>
                  <a:lnTo>
                    <a:pt x="259" y="1268"/>
                  </a:lnTo>
                  <a:lnTo>
                    <a:pt x="259" y="1256"/>
                  </a:lnTo>
                  <a:lnTo>
                    <a:pt x="264" y="1244"/>
                  </a:lnTo>
                  <a:lnTo>
                    <a:pt x="264" y="1232"/>
                  </a:lnTo>
                  <a:lnTo>
                    <a:pt x="264" y="1220"/>
                  </a:lnTo>
                  <a:lnTo>
                    <a:pt x="264" y="1209"/>
                  </a:lnTo>
                  <a:lnTo>
                    <a:pt x="269" y="1198"/>
                  </a:lnTo>
                  <a:lnTo>
                    <a:pt x="269" y="1186"/>
                  </a:lnTo>
                  <a:lnTo>
                    <a:pt x="269" y="1174"/>
                  </a:lnTo>
                  <a:lnTo>
                    <a:pt x="269" y="1162"/>
                  </a:lnTo>
                  <a:lnTo>
                    <a:pt x="276" y="1150"/>
                  </a:lnTo>
                  <a:lnTo>
                    <a:pt x="281" y="1138"/>
                  </a:lnTo>
                  <a:lnTo>
                    <a:pt x="287" y="1128"/>
                  </a:lnTo>
                  <a:lnTo>
                    <a:pt x="287" y="1116"/>
                  </a:lnTo>
                  <a:lnTo>
                    <a:pt x="293" y="1104"/>
                  </a:lnTo>
                  <a:lnTo>
                    <a:pt x="293" y="1092"/>
                  </a:lnTo>
                  <a:lnTo>
                    <a:pt x="305" y="1080"/>
                  </a:lnTo>
                  <a:lnTo>
                    <a:pt x="305" y="1069"/>
                  </a:lnTo>
                  <a:lnTo>
                    <a:pt x="310" y="1056"/>
                  </a:lnTo>
                  <a:lnTo>
                    <a:pt x="317" y="1046"/>
                  </a:lnTo>
                  <a:lnTo>
                    <a:pt x="322" y="1035"/>
                  </a:lnTo>
                  <a:lnTo>
                    <a:pt x="328" y="1022"/>
                  </a:lnTo>
                  <a:lnTo>
                    <a:pt x="328" y="1011"/>
                  </a:lnTo>
                  <a:lnTo>
                    <a:pt x="334" y="998"/>
                  </a:lnTo>
                  <a:lnTo>
                    <a:pt x="334" y="987"/>
                  </a:lnTo>
                  <a:lnTo>
                    <a:pt x="340" y="976"/>
                  </a:lnTo>
                  <a:lnTo>
                    <a:pt x="340" y="963"/>
                  </a:lnTo>
                  <a:lnTo>
                    <a:pt x="340" y="952"/>
                  </a:lnTo>
                  <a:lnTo>
                    <a:pt x="346" y="941"/>
                  </a:lnTo>
                  <a:lnTo>
                    <a:pt x="346" y="928"/>
                  </a:lnTo>
                  <a:lnTo>
                    <a:pt x="346" y="917"/>
                  </a:lnTo>
                  <a:lnTo>
                    <a:pt x="346" y="904"/>
                  </a:lnTo>
                  <a:lnTo>
                    <a:pt x="346" y="893"/>
                  </a:lnTo>
                  <a:lnTo>
                    <a:pt x="346" y="882"/>
                  </a:lnTo>
                  <a:lnTo>
                    <a:pt x="346" y="870"/>
                  </a:lnTo>
                  <a:lnTo>
                    <a:pt x="351" y="859"/>
                  </a:lnTo>
                  <a:lnTo>
                    <a:pt x="351" y="847"/>
                  </a:lnTo>
                  <a:lnTo>
                    <a:pt x="351" y="835"/>
                  </a:lnTo>
                  <a:lnTo>
                    <a:pt x="351" y="824"/>
                  </a:lnTo>
                  <a:lnTo>
                    <a:pt x="358" y="812"/>
                  </a:lnTo>
                  <a:lnTo>
                    <a:pt x="358" y="800"/>
                  </a:lnTo>
                  <a:lnTo>
                    <a:pt x="363" y="788"/>
                  </a:lnTo>
                  <a:lnTo>
                    <a:pt x="363" y="778"/>
                  </a:lnTo>
                  <a:lnTo>
                    <a:pt x="363" y="766"/>
                  </a:lnTo>
                  <a:lnTo>
                    <a:pt x="363" y="754"/>
                  </a:lnTo>
                  <a:lnTo>
                    <a:pt x="363" y="741"/>
                  </a:lnTo>
                  <a:lnTo>
                    <a:pt x="363" y="730"/>
                  </a:lnTo>
                  <a:lnTo>
                    <a:pt x="363" y="717"/>
                  </a:lnTo>
                  <a:lnTo>
                    <a:pt x="363" y="706"/>
                  </a:lnTo>
                  <a:lnTo>
                    <a:pt x="363" y="695"/>
                  </a:lnTo>
                  <a:lnTo>
                    <a:pt x="363" y="684"/>
                  </a:lnTo>
                  <a:lnTo>
                    <a:pt x="370" y="672"/>
                  </a:lnTo>
                  <a:lnTo>
                    <a:pt x="370" y="660"/>
                  </a:lnTo>
                  <a:lnTo>
                    <a:pt x="370" y="648"/>
                  </a:lnTo>
                  <a:lnTo>
                    <a:pt x="375" y="636"/>
                  </a:lnTo>
                  <a:lnTo>
                    <a:pt x="375" y="625"/>
                  </a:lnTo>
                  <a:lnTo>
                    <a:pt x="381" y="608"/>
                  </a:lnTo>
                  <a:lnTo>
                    <a:pt x="381" y="595"/>
                  </a:lnTo>
                  <a:lnTo>
                    <a:pt x="387" y="584"/>
                  </a:lnTo>
                  <a:lnTo>
                    <a:pt x="387" y="574"/>
                  </a:lnTo>
                  <a:lnTo>
                    <a:pt x="393" y="561"/>
                  </a:lnTo>
                  <a:lnTo>
                    <a:pt x="393" y="550"/>
                  </a:lnTo>
                  <a:lnTo>
                    <a:pt x="393" y="537"/>
                  </a:lnTo>
                  <a:lnTo>
                    <a:pt x="399" y="525"/>
                  </a:lnTo>
                  <a:lnTo>
                    <a:pt x="404" y="514"/>
                  </a:lnTo>
                  <a:lnTo>
                    <a:pt x="411" y="502"/>
                  </a:lnTo>
                  <a:lnTo>
                    <a:pt x="416" y="490"/>
                  </a:lnTo>
                  <a:lnTo>
                    <a:pt x="422" y="480"/>
                  </a:lnTo>
                  <a:lnTo>
                    <a:pt x="422" y="467"/>
                  </a:lnTo>
                  <a:lnTo>
                    <a:pt x="422" y="456"/>
                  </a:lnTo>
                  <a:lnTo>
                    <a:pt x="428" y="443"/>
                  </a:lnTo>
                  <a:lnTo>
                    <a:pt x="428" y="432"/>
                  </a:lnTo>
                  <a:lnTo>
                    <a:pt x="434" y="421"/>
                  </a:lnTo>
                  <a:lnTo>
                    <a:pt x="434" y="408"/>
                  </a:lnTo>
                  <a:lnTo>
                    <a:pt x="440" y="398"/>
                  </a:lnTo>
                  <a:lnTo>
                    <a:pt x="440" y="386"/>
                  </a:lnTo>
                  <a:lnTo>
                    <a:pt x="445" y="374"/>
                  </a:lnTo>
                  <a:lnTo>
                    <a:pt x="452" y="362"/>
                  </a:lnTo>
                  <a:lnTo>
                    <a:pt x="457" y="350"/>
                  </a:lnTo>
                  <a:lnTo>
                    <a:pt x="462" y="339"/>
                  </a:lnTo>
                  <a:lnTo>
                    <a:pt x="469" y="327"/>
                  </a:lnTo>
                  <a:lnTo>
                    <a:pt x="469" y="315"/>
                  </a:lnTo>
                  <a:lnTo>
                    <a:pt x="475" y="304"/>
                  </a:lnTo>
                  <a:lnTo>
                    <a:pt x="475" y="292"/>
                  </a:lnTo>
                  <a:lnTo>
                    <a:pt x="481" y="280"/>
                  </a:lnTo>
                  <a:lnTo>
                    <a:pt x="486" y="268"/>
                  </a:lnTo>
                  <a:lnTo>
                    <a:pt x="486" y="256"/>
                  </a:lnTo>
                  <a:lnTo>
                    <a:pt x="493" y="245"/>
                  </a:lnTo>
                  <a:lnTo>
                    <a:pt x="499" y="233"/>
                  </a:lnTo>
                  <a:lnTo>
                    <a:pt x="506" y="222"/>
                  </a:lnTo>
                  <a:lnTo>
                    <a:pt x="510" y="210"/>
                  </a:lnTo>
                  <a:lnTo>
                    <a:pt x="516" y="199"/>
                  </a:lnTo>
                  <a:lnTo>
                    <a:pt x="523" y="187"/>
                  </a:lnTo>
                  <a:lnTo>
                    <a:pt x="527" y="175"/>
                  </a:lnTo>
                  <a:lnTo>
                    <a:pt x="540" y="164"/>
                  </a:lnTo>
                  <a:lnTo>
                    <a:pt x="551" y="151"/>
                  </a:lnTo>
                  <a:lnTo>
                    <a:pt x="563" y="147"/>
                  </a:lnTo>
                  <a:lnTo>
                    <a:pt x="568" y="134"/>
                  </a:lnTo>
                  <a:lnTo>
                    <a:pt x="580" y="128"/>
                  </a:lnTo>
                  <a:lnTo>
                    <a:pt x="593" y="123"/>
                  </a:lnTo>
                  <a:lnTo>
                    <a:pt x="598" y="110"/>
                  </a:lnTo>
                  <a:lnTo>
                    <a:pt x="610" y="110"/>
                  </a:lnTo>
                  <a:lnTo>
                    <a:pt x="621" y="110"/>
                  </a:lnTo>
                  <a:lnTo>
                    <a:pt x="634" y="105"/>
                  </a:lnTo>
                  <a:lnTo>
                    <a:pt x="645" y="99"/>
                  </a:lnTo>
                  <a:lnTo>
                    <a:pt x="657" y="88"/>
                  </a:lnTo>
                  <a:lnTo>
                    <a:pt x="669" y="82"/>
                  </a:lnTo>
                  <a:lnTo>
                    <a:pt x="680" y="75"/>
                  </a:lnTo>
                  <a:lnTo>
                    <a:pt x="692" y="70"/>
                  </a:lnTo>
                  <a:lnTo>
                    <a:pt x="698" y="58"/>
                  </a:lnTo>
                  <a:lnTo>
                    <a:pt x="711" y="53"/>
                  </a:lnTo>
                  <a:lnTo>
                    <a:pt x="715" y="41"/>
                  </a:lnTo>
                  <a:lnTo>
                    <a:pt x="721" y="29"/>
                  </a:lnTo>
                  <a:lnTo>
                    <a:pt x="721" y="17"/>
                  </a:lnTo>
                  <a:lnTo>
                    <a:pt x="715" y="6"/>
                  </a:lnTo>
                  <a:lnTo>
                    <a:pt x="704" y="6"/>
                  </a:lnTo>
                  <a:lnTo>
                    <a:pt x="692" y="6"/>
                  </a:lnTo>
                  <a:lnTo>
                    <a:pt x="680" y="6"/>
                  </a:lnTo>
                  <a:lnTo>
                    <a:pt x="669" y="6"/>
                  </a:lnTo>
                  <a:lnTo>
                    <a:pt x="657" y="6"/>
                  </a:lnTo>
                  <a:lnTo>
                    <a:pt x="645" y="6"/>
                  </a:lnTo>
                  <a:lnTo>
                    <a:pt x="634" y="6"/>
                  </a:lnTo>
                  <a:lnTo>
                    <a:pt x="621" y="6"/>
                  </a:lnTo>
                  <a:lnTo>
                    <a:pt x="610" y="0"/>
                  </a:lnTo>
                  <a:lnTo>
                    <a:pt x="598" y="0"/>
                  </a:lnTo>
                  <a:lnTo>
                    <a:pt x="587" y="0"/>
                  </a:lnTo>
                  <a:lnTo>
                    <a:pt x="575" y="6"/>
                  </a:lnTo>
                  <a:lnTo>
                    <a:pt x="563" y="6"/>
                  </a:lnTo>
                  <a:lnTo>
                    <a:pt x="557" y="17"/>
                  </a:lnTo>
                  <a:lnTo>
                    <a:pt x="563" y="17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96920" y="2752560"/>
              <a:ext cx="397080" cy="1204920"/>
            </a:xfrm>
            <a:custGeom>
              <a:avLst/>
              <a:gdLst/>
              <a:ahLst/>
              <a:rect l="l" t="t" r="r" b="b"/>
              <a:pathLst>
                <a:path w="705" h="1859">
                  <a:moveTo>
                    <a:pt x="552" y="17"/>
                  </a:moveTo>
                  <a:lnTo>
                    <a:pt x="540" y="17"/>
                  </a:lnTo>
                  <a:lnTo>
                    <a:pt x="530" y="17"/>
                  </a:lnTo>
                  <a:lnTo>
                    <a:pt x="518" y="17"/>
                  </a:lnTo>
                  <a:lnTo>
                    <a:pt x="508" y="24"/>
                  </a:lnTo>
                  <a:lnTo>
                    <a:pt x="496" y="28"/>
                  </a:lnTo>
                  <a:lnTo>
                    <a:pt x="484" y="34"/>
                  </a:lnTo>
                  <a:lnTo>
                    <a:pt x="484" y="45"/>
                  </a:lnTo>
                  <a:lnTo>
                    <a:pt x="472" y="51"/>
                  </a:lnTo>
                  <a:lnTo>
                    <a:pt x="467" y="62"/>
                  </a:lnTo>
                  <a:lnTo>
                    <a:pt x="456" y="68"/>
                  </a:lnTo>
                  <a:lnTo>
                    <a:pt x="449" y="79"/>
                  </a:lnTo>
                  <a:lnTo>
                    <a:pt x="445" y="90"/>
                  </a:lnTo>
                  <a:lnTo>
                    <a:pt x="438" y="102"/>
                  </a:lnTo>
                  <a:lnTo>
                    <a:pt x="426" y="106"/>
                  </a:lnTo>
                  <a:lnTo>
                    <a:pt x="421" y="119"/>
                  </a:lnTo>
                  <a:lnTo>
                    <a:pt x="411" y="126"/>
                  </a:lnTo>
                  <a:lnTo>
                    <a:pt x="404" y="136"/>
                  </a:lnTo>
                  <a:lnTo>
                    <a:pt x="398" y="147"/>
                  </a:lnTo>
                  <a:lnTo>
                    <a:pt x="387" y="154"/>
                  </a:lnTo>
                  <a:lnTo>
                    <a:pt x="381" y="165"/>
                  </a:lnTo>
                  <a:lnTo>
                    <a:pt x="375" y="176"/>
                  </a:lnTo>
                  <a:lnTo>
                    <a:pt x="365" y="187"/>
                  </a:lnTo>
                  <a:lnTo>
                    <a:pt x="365" y="199"/>
                  </a:lnTo>
                  <a:lnTo>
                    <a:pt x="358" y="209"/>
                  </a:lnTo>
                  <a:lnTo>
                    <a:pt x="353" y="221"/>
                  </a:lnTo>
                  <a:lnTo>
                    <a:pt x="347" y="232"/>
                  </a:lnTo>
                  <a:lnTo>
                    <a:pt x="347" y="243"/>
                  </a:lnTo>
                  <a:lnTo>
                    <a:pt x="343" y="255"/>
                  </a:lnTo>
                  <a:lnTo>
                    <a:pt x="336" y="266"/>
                  </a:lnTo>
                  <a:lnTo>
                    <a:pt x="336" y="277"/>
                  </a:lnTo>
                  <a:lnTo>
                    <a:pt x="330" y="289"/>
                  </a:lnTo>
                  <a:lnTo>
                    <a:pt x="324" y="299"/>
                  </a:lnTo>
                  <a:lnTo>
                    <a:pt x="320" y="311"/>
                  </a:lnTo>
                  <a:lnTo>
                    <a:pt x="320" y="321"/>
                  </a:lnTo>
                  <a:lnTo>
                    <a:pt x="313" y="334"/>
                  </a:lnTo>
                  <a:lnTo>
                    <a:pt x="313" y="344"/>
                  </a:lnTo>
                  <a:lnTo>
                    <a:pt x="307" y="358"/>
                  </a:lnTo>
                  <a:lnTo>
                    <a:pt x="302" y="368"/>
                  </a:lnTo>
                  <a:lnTo>
                    <a:pt x="302" y="380"/>
                  </a:lnTo>
                  <a:lnTo>
                    <a:pt x="296" y="392"/>
                  </a:lnTo>
                  <a:lnTo>
                    <a:pt x="289" y="403"/>
                  </a:lnTo>
                  <a:lnTo>
                    <a:pt x="284" y="413"/>
                  </a:lnTo>
                  <a:lnTo>
                    <a:pt x="284" y="426"/>
                  </a:lnTo>
                  <a:lnTo>
                    <a:pt x="279" y="436"/>
                  </a:lnTo>
                  <a:lnTo>
                    <a:pt x="274" y="447"/>
                  </a:lnTo>
                  <a:lnTo>
                    <a:pt x="274" y="459"/>
                  </a:lnTo>
                  <a:lnTo>
                    <a:pt x="268" y="470"/>
                  </a:lnTo>
                  <a:lnTo>
                    <a:pt x="268" y="482"/>
                  </a:lnTo>
                  <a:lnTo>
                    <a:pt x="261" y="493"/>
                  </a:lnTo>
                  <a:lnTo>
                    <a:pt x="257" y="505"/>
                  </a:lnTo>
                  <a:lnTo>
                    <a:pt x="257" y="515"/>
                  </a:lnTo>
                  <a:lnTo>
                    <a:pt x="251" y="528"/>
                  </a:lnTo>
                  <a:lnTo>
                    <a:pt x="251" y="538"/>
                  </a:lnTo>
                  <a:lnTo>
                    <a:pt x="245" y="549"/>
                  </a:lnTo>
                  <a:lnTo>
                    <a:pt x="245" y="561"/>
                  </a:lnTo>
                  <a:lnTo>
                    <a:pt x="238" y="572"/>
                  </a:lnTo>
                  <a:lnTo>
                    <a:pt x="238" y="601"/>
                  </a:lnTo>
                  <a:lnTo>
                    <a:pt x="238" y="611"/>
                  </a:lnTo>
                  <a:lnTo>
                    <a:pt x="234" y="624"/>
                  </a:lnTo>
                  <a:lnTo>
                    <a:pt x="234" y="634"/>
                  </a:lnTo>
                  <a:lnTo>
                    <a:pt x="234" y="647"/>
                  </a:lnTo>
                  <a:lnTo>
                    <a:pt x="228" y="657"/>
                  </a:lnTo>
                  <a:lnTo>
                    <a:pt x="228" y="668"/>
                  </a:lnTo>
                  <a:lnTo>
                    <a:pt x="228" y="681"/>
                  </a:lnTo>
                  <a:lnTo>
                    <a:pt x="223" y="691"/>
                  </a:lnTo>
                  <a:lnTo>
                    <a:pt x="223" y="702"/>
                  </a:lnTo>
                  <a:lnTo>
                    <a:pt x="216" y="713"/>
                  </a:lnTo>
                  <a:lnTo>
                    <a:pt x="210" y="725"/>
                  </a:lnTo>
                  <a:lnTo>
                    <a:pt x="210" y="736"/>
                  </a:lnTo>
                  <a:lnTo>
                    <a:pt x="204" y="747"/>
                  </a:lnTo>
                  <a:lnTo>
                    <a:pt x="204" y="759"/>
                  </a:lnTo>
                  <a:lnTo>
                    <a:pt x="200" y="770"/>
                  </a:lnTo>
                  <a:lnTo>
                    <a:pt x="200" y="780"/>
                  </a:lnTo>
                  <a:lnTo>
                    <a:pt x="193" y="793"/>
                  </a:lnTo>
                  <a:lnTo>
                    <a:pt x="193" y="804"/>
                  </a:lnTo>
                  <a:lnTo>
                    <a:pt x="187" y="817"/>
                  </a:lnTo>
                  <a:lnTo>
                    <a:pt x="182" y="827"/>
                  </a:lnTo>
                  <a:lnTo>
                    <a:pt x="177" y="844"/>
                  </a:lnTo>
                  <a:lnTo>
                    <a:pt x="177" y="855"/>
                  </a:lnTo>
                  <a:lnTo>
                    <a:pt x="177" y="866"/>
                  </a:lnTo>
                  <a:lnTo>
                    <a:pt x="170" y="878"/>
                  </a:lnTo>
                  <a:lnTo>
                    <a:pt x="170" y="889"/>
                  </a:lnTo>
                  <a:lnTo>
                    <a:pt x="165" y="900"/>
                  </a:lnTo>
                  <a:lnTo>
                    <a:pt x="165" y="913"/>
                  </a:lnTo>
                  <a:lnTo>
                    <a:pt x="159" y="923"/>
                  </a:lnTo>
                  <a:lnTo>
                    <a:pt x="155" y="940"/>
                  </a:lnTo>
                  <a:lnTo>
                    <a:pt x="155" y="951"/>
                  </a:lnTo>
                  <a:lnTo>
                    <a:pt x="155" y="963"/>
                  </a:lnTo>
                  <a:lnTo>
                    <a:pt x="149" y="974"/>
                  </a:lnTo>
                  <a:lnTo>
                    <a:pt x="149" y="985"/>
                  </a:lnTo>
                  <a:lnTo>
                    <a:pt x="149" y="997"/>
                  </a:lnTo>
                  <a:lnTo>
                    <a:pt x="149" y="1007"/>
                  </a:lnTo>
                  <a:lnTo>
                    <a:pt x="149" y="1019"/>
                  </a:lnTo>
                  <a:lnTo>
                    <a:pt x="149" y="1031"/>
                  </a:lnTo>
                  <a:lnTo>
                    <a:pt x="149" y="1042"/>
                  </a:lnTo>
                  <a:lnTo>
                    <a:pt x="149" y="1054"/>
                  </a:lnTo>
                  <a:lnTo>
                    <a:pt x="149" y="1066"/>
                  </a:lnTo>
                  <a:lnTo>
                    <a:pt x="149" y="1077"/>
                  </a:lnTo>
                  <a:lnTo>
                    <a:pt x="149" y="1088"/>
                  </a:lnTo>
                  <a:lnTo>
                    <a:pt x="149" y="1100"/>
                  </a:lnTo>
                  <a:lnTo>
                    <a:pt x="149" y="1111"/>
                  </a:lnTo>
                  <a:lnTo>
                    <a:pt x="142" y="1121"/>
                  </a:lnTo>
                  <a:lnTo>
                    <a:pt x="142" y="1133"/>
                  </a:lnTo>
                  <a:lnTo>
                    <a:pt x="136" y="1144"/>
                  </a:lnTo>
                  <a:lnTo>
                    <a:pt x="136" y="1155"/>
                  </a:lnTo>
                  <a:lnTo>
                    <a:pt x="131" y="1167"/>
                  </a:lnTo>
                  <a:lnTo>
                    <a:pt x="131" y="1178"/>
                  </a:lnTo>
                  <a:lnTo>
                    <a:pt x="125" y="1189"/>
                  </a:lnTo>
                  <a:lnTo>
                    <a:pt x="119" y="1201"/>
                  </a:lnTo>
                  <a:lnTo>
                    <a:pt x="114" y="1213"/>
                  </a:lnTo>
                  <a:lnTo>
                    <a:pt x="108" y="1223"/>
                  </a:lnTo>
                  <a:lnTo>
                    <a:pt x="108" y="1235"/>
                  </a:lnTo>
                  <a:lnTo>
                    <a:pt x="102" y="1245"/>
                  </a:lnTo>
                  <a:lnTo>
                    <a:pt x="96" y="1257"/>
                  </a:lnTo>
                  <a:lnTo>
                    <a:pt x="91" y="1269"/>
                  </a:lnTo>
                  <a:lnTo>
                    <a:pt x="91" y="1281"/>
                  </a:lnTo>
                  <a:lnTo>
                    <a:pt x="85" y="1292"/>
                  </a:lnTo>
                  <a:lnTo>
                    <a:pt x="85" y="1304"/>
                  </a:lnTo>
                  <a:lnTo>
                    <a:pt x="80" y="1320"/>
                  </a:lnTo>
                  <a:lnTo>
                    <a:pt x="80" y="1332"/>
                  </a:lnTo>
                  <a:lnTo>
                    <a:pt x="80" y="1342"/>
                  </a:lnTo>
                  <a:lnTo>
                    <a:pt x="80" y="1355"/>
                  </a:lnTo>
                  <a:lnTo>
                    <a:pt x="80" y="1365"/>
                  </a:lnTo>
                  <a:lnTo>
                    <a:pt x="80" y="1377"/>
                  </a:lnTo>
                  <a:lnTo>
                    <a:pt x="80" y="1387"/>
                  </a:lnTo>
                  <a:lnTo>
                    <a:pt x="80" y="1399"/>
                  </a:lnTo>
                  <a:lnTo>
                    <a:pt x="74" y="1410"/>
                  </a:lnTo>
                  <a:lnTo>
                    <a:pt x="74" y="1421"/>
                  </a:lnTo>
                  <a:lnTo>
                    <a:pt x="74" y="1433"/>
                  </a:lnTo>
                  <a:lnTo>
                    <a:pt x="68" y="1444"/>
                  </a:lnTo>
                  <a:lnTo>
                    <a:pt x="68" y="1457"/>
                  </a:lnTo>
                  <a:lnTo>
                    <a:pt x="64" y="1467"/>
                  </a:lnTo>
                  <a:lnTo>
                    <a:pt x="64" y="1479"/>
                  </a:lnTo>
                  <a:lnTo>
                    <a:pt x="57" y="1489"/>
                  </a:lnTo>
                  <a:lnTo>
                    <a:pt x="51" y="1502"/>
                  </a:lnTo>
                  <a:lnTo>
                    <a:pt x="51" y="1512"/>
                  </a:lnTo>
                  <a:lnTo>
                    <a:pt x="47" y="1525"/>
                  </a:lnTo>
                  <a:lnTo>
                    <a:pt x="47" y="1535"/>
                  </a:lnTo>
                  <a:lnTo>
                    <a:pt x="47" y="1547"/>
                  </a:lnTo>
                  <a:lnTo>
                    <a:pt x="40" y="1557"/>
                  </a:lnTo>
                  <a:lnTo>
                    <a:pt x="40" y="1570"/>
                  </a:lnTo>
                  <a:lnTo>
                    <a:pt x="40" y="1580"/>
                  </a:lnTo>
                  <a:lnTo>
                    <a:pt x="40" y="1593"/>
                  </a:lnTo>
                  <a:lnTo>
                    <a:pt x="40" y="1604"/>
                  </a:lnTo>
                  <a:lnTo>
                    <a:pt x="28" y="1614"/>
                  </a:lnTo>
                  <a:lnTo>
                    <a:pt x="23" y="1625"/>
                  </a:lnTo>
                  <a:lnTo>
                    <a:pt x="23" y="1637"/>
                  </a:lnTo>
                  <a:lnTo>
                    <a:pt x="17" y="1648"/>
                  </a:lnTo>
                  <a:lnTo>
                    <a:pt x="0" y="1859"/>
                  </a:lnTo>
                  <a:lnTo>
                    <a:pt x="176" y="1773"/>
                  </a:lnTo>
                  <a:lnTo>
                    <a:pt x="200" y="1580"/>
                  </a:lnTo>
                  <a:lnTo>
                    <a:pt x="204" y="1570"/>
                  </a:lnTo>
                  <a:lnTo>
                    <a:pt x="210" y="1557"/>
                  </a:lnTo>
                  <a:lnTo>
                    <a:pt x="216" y="1547"/>
                  </a:lnTo>
                  <a:lnTo>
                    <a:pt x="216" y="1535"/>
                  </a:lnTo>
                  <a:lnTo>
                    <a:pt x="223" y="1525"/>
                  </a:lnTo>
                  <a:lnTo>
                    <a:pt x="223" y="1512"/>
                  </a:lnTo>
                  <a:lnTo>
                    <a:pt x="223" y="1502"/>
                  </a:lnTo>
                  <a:lnTo>
                    <a:pt x="223" y="1489"/>
                  </a:lnTo>
                  <a:lnTo>
                    <a:pt x="228" y="1479"/>
                  </a:lnTo>
                  <a:lnTo>
                    <a:pt x="228" y="1467"/>
                  </a:lnTo>
                  <a:lnTo>
                    <a:pt x="234" y="1457"/>
                  </a:lnTo>
                  <a:lnTo>
                    <a:pt x="234" y="1444"/>
                  </a:lnTo>
                  <a:lnTo>
                    <a:pt x="234" y="1433"/>
                  </a:lnTo>
                  <a:lnTo>
                    <a:pt x="238" y="1421"/>
                  </a:lnTo>
                  <a:lnTo>
                    <a:pt x="238" y="1410"/>
                  </a:lnTo>
                  <a:lnTo>
                    <a:pt x="238" y="1399"/>
                  </a:lnTo>
                  <a:lnTo>
                    <a:pt x="238" y="1387"/>
                  </a:lnTo>
                  <a:lnTo>
                    <a:pt x="238" y="1377"/>
                  </a:lnTo>
                  <a:lnTo>
                    <a:pt x="238" y="1348"/>
                  </a:lnTo>
                  <a:lnTo>
                    <a:pt x="238" y="1336"/>
                  </a:lnTo>
                  <a:lnTo>
                    <a:pt x="238" y="1326"/>
                  </a:lnTo>
                  <a:lnTo>
                    <a:pt x="238" y="1315"/>
                  </a:lnTo>
                  <a:lnTo>
                    <a:pt x="245" y="1304"/>
                  </a:lnTo>
                  <a:lnTo>
                    <a:pt x="245" y="1292"/>
                  </a:lnTo>
                  <a:lnTo>
                    <a:pt x="245" y="1274"/>
                  </a:lnTo>
                  <a:lnTo>
                    <a:pt x="251" y="1264"/>
                  </a:lnTo>
                  <a:lnTo>
                    <a:pt x="251" y="1252"/>
                  </a:lnTo>
                  <a:lnTo>
                    <a:pt x="257" y="1240"/>
                  </a:lnTo>
                  <a:lnTo>
                    <a:pt x="257" y="1229"/>
                  </a:lnTo>
                  <a:lnTo>
                    <a:pt x="257" y="1218"/>
                  </a:lnTo>
                  <a:lnTo>
                    <a:pt x="261" y="1206"/>
                  </a:lnTo>
                  <a:lnTo>
                    <a:pt x="261" y="1195"/>
                  </a:lnTo>
                  <a:lnTo>
                    <a:pt x="261" y="1184"/>
                  </a:lnTo>
                  <a:lnTo>
                    <a:pt x="261" y="1172"/>
                  </a:lnTo>
                  <a:lnTo>
                    <a:pt x="268" y="1162"/>
                  </a:lnTo>
                  <a:lnTo>
                    <a:pt x="268" y="1151"/>
                  </a:lnTo>
                  <a:lnTo>
                    <a:pt x="268" y="1139"/>
                  </a:lnTo>
                  <a:lnTo>
                    <a:pt x="268" y="1127"/>
                  </a:lnTo>
                  <a:lnTo>
                    <a:pt x="274" y="1116"/>
                  </a:lnTo>
                  <a:lnTo>
                    <a:pt x="279" y="1104"/>
                  </a:lnTo>
                  <a:lnTo>
                    <a:pt x="284" y="1093"/>
                  </a:lnTo>
                  <a:lnTo>
                    <a:pt x="284" y="1082"/>
                  </a:lnTo>
                  <a:lnTo>
                    <a:pt x="289" y="1070"/>
                  </a:lnTo>
                  <a:lnTo>
                    <a:pt x="289" y="1060"/>
                  </a:lnTo>
                  <a:lnTo>
                    <a:pt x="302" y="1048"/>
                  </a:lnTo>
                  <a:lnTo>
                    <a:pt x="302" y="1036"/>
                  </a:lnTo>
                  <a:lnTo>
                    <a:pt x="307" y="1025"/>
                  </a:lnTo>
                  <a:lnTo>
                    <a:pt x="313" y="1014"/>
                  </a:lnTo>
                  <a:lnTo>
                    <a:pt x="320" y="1002"/>
                  </a:lnTo>
                  <a:lnTo>
                    <a:pt x="324" y="991"/>
                  </a:lnTo>
                  <a:lnTo>
                    <a:pt x="324" y="980"/>
                  </a:lnTo>
                  <a:lnTo>
                    <a:pt x="330" y="968"/>
                  </a:lnTo>
                  <a:lnTo>
                    <a:pt x="330" y="958"/>
                  </a:lnTo>
                  <a:lnTo>
                    <a:pt x="336" y="946"/>
                  </a:lnTo>
                  <a:lnTo>
                    <a:pt x="336" y="935"/>
                  </a:lnTo>
                  <a:lnTo>
                    <a:pt x="336" y="923"/>
                  </a:lnTo>
                  <a:lnTo>
                    <a:pt x="343" y="913"/>
                  </a:lnTo>
                  <a:lnTo>
                    <a:pt x="343" y="900"/>
                  </a:lnTo>
                  <a:lnTo>
                    <a:pt x="343" y="889"/>
                  </a:lnTo>
                  <a:lnTo>
                    <a:pt x="343" y="878"/>
                  </a:lnTo>
                  <a:lnTo>
                    <a:pt x="343" y="866"/>
                  </a:lnTo>
                  <a:lnTo>
                    <a:pt x="343" y="855"/>
                  </a:lnTo>
                  <a:lnTo>
                    <a:pt x="343" y="844"/>
                  </a:lnTo>
                  <a:lnTo>
                    <a:pt x="347" y="834"/>
                  </a:lnTo>
                  <a:lnTo>
                    <a:pt x="347" y="821"/>
                  </a:lnTo>
                  <a:lnTo>
                    <a:pt x="347" y="810"/>
                  </a:lnTo>
                  <a:lnTo>
                    <a:pt x="347" y="798"/>
                  </a:lnTo>
                  <a:lnTo>
                    <a:pt x="353" y="787"/>
                  </a:lnTo>
                  <a:lnTo>
                    <a:pt x="353" y="776"/>
                  </a:lnTo>
                  <a:lnTo>
                    <a:pt x="358" y="764"/>
                  </a:lnTo>
                  <a:lnTo>
                    <a:pt x="358" y="753"/>
                  </a:lnTo>
                  <a:lnTo>
                    <a:pt x="358" y="742"/>
                  </a:lnTo>
                  <a:lnTo>
                    <a:pt x="358" y="729"/>
                  </a:lnTo>
                  <a:lnTo>
                    <a:pt x="358" y="719"/>
                  </a:lnTo>
                  <a:lnTo>
                    <a:pt x="358" y="708"/>
                  </a:lnTo>
                  <a:lnTo>
                    <a:pt x="358" y="698"/>
                  </a:lnTo>
                  <a:lnTo>
                    <a:pt x="358" y="685"/>
                  </a:lnTo>
                  <a:lnTo>
                    <a:pt x="358" y="675"/>
                  </a:lnTo>
                  <a:lnTo>
                    <a:pt x="358" y="662"/>
                  </a:lnTo>
                  <a:lnTo>
                    <a:pt x="365" y="651"/>
                  </a:lnTo>
                  <a:lnTo>
                    <a:pt x="365" y="640"/>
                  </a:lnTo>
                  <a:lnTo>
                    <a:pt x="365" y="630"/>
                  </a:lnTo>
                  <a:lnTo>
                    <a:pt x="370" y="617"/>
                  </a:lnTo>
                  <a:lnTo>
                    <a:pt x="370" y="607"/>
                  </a:lnTo>
                  <a:lnTo>
                    <a:pt x="375" y="589"/>
                  </a:lnTo>
                  <a:lnTo>
                    <a:pt x="375" y="579"/>
                  </a:lnTo>
                  <a:lnTo>
                    <a:pt x="381" y="566"/>
                  </a:lnTo>
                  <a:lnTo>
                    <a:pt x="381" y="556"/>
                  </a:lnTo>
                  <a:lnTo>
                    <a:pt x="387" y="544"/>
                  </a:lnTo>
                  <a:lnTo>
                    <a:pt x="387" y="532"/>
                  </a:lnTo>
                  <a:lnTo>
                    <a:pt x="387" y="521"/>
                  </a:lnTo>
                  <a:lnTo>
                    <a:pt x="392" y="510"/>
                  </a:lnTo>
                  <a:lnTo>
                    <a:pt x="398" y="498"/>
                  </a:lnTo>
                  <a:lnTo>
                    <a:pt x="404" y="487"/>
                  </a:lnTo>
                  <a:lnTo>
                    <a:pt x="411" y="477"/>
                  </a:lnTo>
                  <a:lnTo>
                    <a:pt x="416" y="464"/>
                  </a:lnTo>
                  <a:lnTo>
                    <a:pt x="416" y="454"/>
                  </a:lnTo>
                  <a:lnTo>
                    <a:pt x="416" y="442"/>
                  </a:lnTo>
                  <a:lnTo>
                    <a:pt x="421" y="431"/>
                  </a:lnTo>
                  <a:lnTo>
                    <a:pt x="421" y="419"/>
                  </a:lnTo>
                  <a:lnTo>
                    <a:pt x="426" y="409"/>
                  </a:lnTo>
                  <a:lnTo>
                    <a:pt x="426" y="396"/>
                  </a:lnTo>
                  <a:lnTo>
                    <a:pt x="433" y="385"/>
                  </a:lnTo>
                  <a:lnTo>
                    <a:pt x="433" y="374"/>
                  </a:lnTo>
                  <a:lnTo>
                    <a:pt x="438" y="362"/>
                  </a:lnTo>
                  <a:lnTo>
                    <a:pt x="445" y="352"/>
                  </a:lnTo>
                  <a:lnTo>
                    <a:pt x="449" y="340"/>
                  </a:lnTo>
                  <a:lnTo>
                    <a:pt x="456" y="328"/>
                  </a:lnTo>
                  <a:lnTo>
                    <a:pt x="460" y="317"/>
                  </a:lnTo>
                  <a:lnTo>
                    <a:pt x="460" y="306"/>
                  </a:lnTo>
                  <a:lnTo>
                    <a:pt x="467" y="294"/>
                  </a:lnTo>
                  <a:lnTo>
                    <a:pt x="467" y="283"/>
                  </a:lnTo>
                  <a:lnTo>
                    <a:pt x="472" y="272"/>
                  </a:lnTo>
                  <a:lnTo>
                    <a:pt x="477" y="260"/>
                  </a:lnTo>
                  <a:lnTo>
                    <a:pt x="477" y="248"/>
                  </a:lnTo>
                  <a:lnTo>
                    <a:pt x="484" y="238"/>
                  </a:lnTo>
                  <a:lnTo>
                    <a:pt x="489" y="226"/>
                  </a:lnTo>
                  <a:lnTo>
                    <a:pt x="496" y="216"/>
                  </a:lnTo>
                  <a:lnTo>
                    <a:pt x="501" y="204"/>
                  </a:lnTo>
                  <a:lnTo>
                    <a:pt x="508" y="192"/>
                  </a:lnTo>
                  <a:lnTo>
                    <a:pt x="513" y="181"/>
                  </a:lnTo>
                  <a:lnTo>
                    <a:pt x="518" y="170"/>
                  </a:lnTo>
                  <a:lnTo>
                    <a:pt x="530" y="158"/>
                  </a:lnTo>
                  <a:lnTo>
                    <a:pt x="540" y="147"/>
                  </a:lnTo>
                  <a:lnTo>
                    <a:pt x="552" y="142"/>
                  </a:lnTo>
                  <a:lnTo>
                    <a:pt x="558" y="131"/>
                  </a:lnTo>
                  <a:lnTo>
                    <a:pt x="569" y="126"/>
                  </a:lnTo>
                  <a:lnTo>
                    <a:pt x="581" y="119"/>
                  </a:lnTo>
                  <a:lnTo>
                    <a:pt x="586" y="106"/>
                  </a:lnTo>
                  <a:lnTo>
                    <a:pt x="599" y="106"/>
                  </a:lnTo>
                  <a:lnTo>
                    <a:pt x="609" y="106"/>
                  </a:lnTo>
                  <a:lnTo>
                    <a:pt x="621" y="102"/>
                  </a:lnTo>
                  <a:lnTo>
                    <a:pt x="632" y="96"/>
                  </a:lnTo>
                  <a:lnTo>
                    <a:pt x="643" y="85"/>
                  </a:lnTo>
                  <a:lnTo>
                    <a:pt x="654" y="79"/>
                  </a:lnTo>
                  <a:lnTo>
                    <a:pt x="667" y="73"/>
                  </a:lnTo>
                  <a:lnTo>
                    <a:pt x="677" y="68"/>
                  </a:lnTo>
                  <a:lnTo>
                    <a:pt x="683" y="56"/>
                  </a:lnTo>
                  <a:lnTo>
                    <a:pt x="695" y="51"/>
                  </a:lnTo>
                  <a:lnTo>
                    <a:pt x="701" y="39"/>
                  </a:lnTo>
                  <a:lnTo>
                    <a:pt x="705" y="28"/>
                  </a:lnTo>
                  <a:lnTo>
                    <a:pt x="705" y="17"/>
                  </a:lnTo>
                  <a:lnTo>
                    <a:pt x="701" y="5"/>
                  </a:lnTo>
                  <a:lnTo>
                    <a:pt x="689" y="5"/>
                  </a:lnTo>
                  <a:lnTo>
                    <a:pt x="677" y="5"/>
                  </a:lnTo>
                  <a:lnTo>
                    <a:pt x="667" y="5"/>
                  </a:lnTo>
                  <a:lnTo>
                    <a:pt x="654" y="5"/>
                  </a:lnTo>
                  <a:lnTo>
                    <a:pt x="643" y="5"/>
                  </a:lnTo>
                  <a:lnTo>
                    <a:pt x="632" y="5"/>
                  </a:lnTo>
                  <a:lnTo>
                    <a:pt x="621" y="5"/>
                  </a:lnTo>
                  <a:lnTo>
                    <a:pt x="609" y="5"/>
                  </a:lnTo>
                  <a:lnTo>
                    <a:pt x="599" y="0"/>
                  </a:lnTo>
                  <a:lnTo>
                    <a:pt x="586" y="0"/>
                  </a:lnTo>
                  <a:lnTo>
                    <a:pt x="576" y="0"/>
                  </a:lnTo>
                  <a:lnTo>
                    <a:pt x="564" y="5"/>
                  </a:lnTo>
                  <a:lnTo>
                    <a:pt x="552" y="5"/>
                  </a:lnTo>
                  <a:lnTo>
                    <a:pt x="547" y="17"/>
                  </a:lnTo>
                  <a:lnTo>
                    <a:pt x="552" y="17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756480" y="2836440"/>
              <a:ext cx="406080" cy="1108080"/>
            </a:xfrm>
            <a:custGeom>
              <a:avLst/>
              <a:gdLst/>
              <a:ahLst/>
              <a:rect l="l" t="t" r="r" b="b"/>
              <a:pathLst>
                <a:path w="721" h="1711">
                  <a:moveTo>
                    <a:pt x="564" y="17"/>
                  </a:moveTo>
                  <a:lnTo>
                    <a:pt x="551" y="17"/>
                  </a:lnTo>
                  <a:lnTo>
                    <a:pt x="540" y="17"/>
                  </a:lnTo>
                  <a:lnTo>
                    <a:pt x="528" y="17"/>
                  </a:lnTo>
                  <a:lnTo>
                    <a:pt x="516" y="23"/>
                  </a:lnTo>
                  <a:lnTo>
                    <a:pt x="505" y="28"/>
                  </a:lnTo>
                  <a:lnTo>
                    <a:pt x="493" y="35"/>
                  </a:lnTo>
                  <a:lnTo>
                    <a:pt x="493" y="45"/>
                  </a:lnTo>
                  <a:lnTo>
                    <a:pt x="481" y="52"/>
                  </a:lnTo>
                  <a:lnTo>
                    <a:pt x="475" y="64"/>
                  </a:lnTo>
                  <a:lnTo>
                    <a:pt x="463" y="69"/>
                  </a:lnTo>
                  <a:lnTo>
                    <a:pt x="457" y="81"/>
                  </a:lnTo>
                  <a:lnTo>
                    <a:pt x="451" y="93"/>
                  </a:lnTo>
                  <a:lnTo>
                    <a:pt x="446" y="104"/>
                  </a:lnTo>
                  <a:lnTo>
                    <a:pt x="434" y="111"/>
                  </a:lnTo>
                  <a:lnTo>
                    <a:pt x="429" y="123"/>
                  </a:lnTo>
                  <a:lnTo>
                    <a:pt x="417" y="129"/>
                  </a:lnTo>
                  <a:lnTo>
                    <a:pt x="411" y="140"/>
                  </a:lnTo>
                  <a:lnTo>
                    <a:pt x="404" y="152"/>
                  </a:lnTo>
                  <a:lnTo>
                    <a:pt x="392" y="158"/>
                  </a:lnTo>
                  <a:lnTo>
                    <a:pt x="387" y="170"/>
                  </a:lnTo>
                  <a:lnTo>
                    <a:pt x="381" y="180"/>
                  </a:lnTo>
                  <a:lnTo>
                    <a:pt x="370" y="193"/>
                  </a:lnTo>
                  <a:lnTo>
                    <a:pt x="370" y="204"/>
                  </a:lnTo>
                  <a:lnTo>
                    <a:pt x="363" y="215"/>
                  </a:lnTo>
                  <a:lnTo>
                    <a:pt x="358" y="228"/>
                  </a:lnTo>
                  <a:lnTo>
                    <a:pt x="352" y="239"/>
                  </a:lnTo>
                  <a:lnTo>
                    <a:pt x="352" y="252"/>
                  </a:lnTo>
                  <a:lnTo>
                    <a:pt x="346" y="262"/>
                  </a:lnTo>
                  <a:lnTo>
                    <a:pt x="340" y="273"/>
                  </a:lnTo>
                  <a:lnTo>
                    <a:pt x="340" y="286"/>
                  </a:lnTo>
                  <a:lnTo>
                    <a:pt x="335" y="297"/>
                  </a:lnTo>
                  <a:lnTo>
                    <a:pt x="328" y="309"/>
                  </a:lnTo>
                  <a:lnTo>
                    <a:pt x="323" y="322"/>
                  </a:lnTo>
                  <a:lnTo>
                    <a:pt x="323" y="333"/>
                  </a:lnTo>
                  <a:lnTo>
                    <a:pt x="317" y="346"/>
                  </a:lnTo>
                  <a:lnTo>
                    <a:pt x="317" y="356"/>
                  </a:lnTo>
                  <a:lnTo>
                    <a:pt x="310" y="367"/>
                  </a:lnTo>
                  <a:lnTo>
                    <a:pt x="305" y="380"/>
                  </a:lnTo>
                  <a:lnTo>
                    <a:pt x="305" y="391"/>
                  </a:lnTo>
                  <a:lnTo>
                    <a:pt x="298" y="403"/>
                  </a:lnTo>
                  <a:lnTo>
                    <a:pt x="293" y="415"/>
                  </a:lnTo>
                  <a:lnTo>
                    <a:pt x="287" y="426"/>
                  </a:lnTo>
                  <a:lnTo>
                    <a:pt x="287" y="437"/>
                  </a:lnTo>
                  <a:lnTo>
                    <a:pt x="281" y="449"/>
                  </a:lnTo>
                  <a:lnTo>
                    <a:pt x="276" y="461"/>
                  </a:lnTo>
                  <a:lnTo>
                    <a:pt x="276" y="473"/>
                  </a:lnTo>
                  <a:lnTo>
                    <a:pt x="269" y="485"/>
                  </a:lnTo>
                  <a:lnTo>
                    <a:pt x="269" y="496"/>
                  </a:lnTo>
                  <a:lnTo>
                    <a:pt x="264" y="508"/>
                  </a:lnTo>
                  <a:lnTo>
                    <a:pt x="258" y="520"/>
                  </a:lnTo>
                  <a:lnTo>
                    <a:pt x="258" y="530"/>
                  </a:lnTo>
                  <a:lnTo>
                    <a:pt x="252" y="543"/>
                  </a:lnTo>
                  <a:lnTo>
                    <a:pt x="252" y="555"/>
                  </a:lnTo>
                  <a:lnTo>
                    <a:pt x="246" y="567"/>
                  </a:lnTo>
                  <a:lnTo>
                    <a:pt x="246" y="579"/>
                  </a:lnTo>
                  <a:lnTo>
                    <a:pt x="241" y="590"/>
                  </a:lnTo>
                  <a:lnTo>
                    <a:pt x="241" y="619"/>
                  </a:lnTo>
                  <a:lnTo>
                    <a:pt x="241" y="631"/>
                  </a:lnTo>
                  <a:lnTo>
                    <a:pt x="235" y="642"/>
                  </a:lnTo>
                  <a:lnTo>
                    <a:pt x="235" y="654"/>
                  </a:lnTo>
                  <a:lnTo>
                    <a:pt x="235" y="665"/>
                  </a:lnTo>
                  <a:lnTo>
                    <a:pt x="229" y="678"/>
                  </a:lnTo>
                  <a:lnTo>
                    <a:pt x="229" y="689"/>
                  </a:lnTo>
                  <a:lnTo>
                    <a:pt x="229" y="700"/>
                  </a:lnTo>
                  <a:lnTo>
                    <a:pt x="223" y="713"/>
                  </a:lnTo>
                  <a:lnTo>
                    <a:pt x="223" y="724"/>
                  </a:lnTo>
                  <a:lnTo>
                    <a:pt x="216" y="737"/>
                  </a:lnTo>
                  <a:lnTo>
                    <a:pt x="211" y="747"/>
                  </a:lnTo>
                  <a:lnTo>
                    <a:pt x="211" y="759"/>
                  </a:lnTo>
                  <a:lnTo>
                    <a:pt x="204" y="772"/>
                  </a:lnTo>
                  <a:lnTo>
                    <a:pt x="204" y="783"/>
                  </a:lnTo>
                  <a:lnTo>
                    <a:pt x="199" y="794"/>
                  </a:lnTo>
                  <a:lnTo>
                    <a:pt x="199" y="806"/>
                  </a:lnTo>
                  <a:lnTo>
                    <a:pt x="194" y="818"/>
                  </a:lnTo>
                  <a:lnTo>
                    <a:pt x="194" y="829"/>
                  </a:lnTo>
                  <a:lnTo>
                    <a:pt x="187" y="841"/>
                  </a:lnTo>
                  <a:lnTo>
                    <a:pt x="182" y="852"/>
                  </a:lnTo>
                  <a:lnTo>
                    <a:pt x="176" y="869"/>
                  </a:lnTo>
                  <a:lnTo>
                    <a:pt x="176" y="882"/>
                  </a:lnTo>
                  <a:lnTo>
                    <a:pt x="176" y="893"/>
                  </a:lnTo>
                  <a:lnTo>
                    <a:pt x="170" y="905"/>
                  </a:lnTo>
                  <a:lnTo>
                    <a:pt x="170" y="917"/>
                  </a:lnTo>
                  <a:lnTo>
                    <a:pt x="164" y="929"/>
                  </a:lnTo>
                  <a:lnTo>
                    <a:pt x="164" y="940"/>
                  </a:lnTo>
                  <a:lnTo>
                    <a:pt x="158" y="951"/>
                  </a:lnTo>
                  <a:lnTo>
                    <a:pt x="153" y="970"/>
                  </a:lnTo>
                  <a:lnTo>
                    <a:pt x="153" y="981"/>
                  </a:lnTo>
                  <a:lnTo>
                    <a:pt x="153" y="994"/>
                  </a:lnTo>
                  <a:lnTo>
                    <a:pt x="147" y="1004"/>
                  </a:lnTo>
                  <a:lnTo>
                    <a:pt x="147" y="1016"/>
                  </a:lnTo>
                  <a:lnTo>
                    <a:pt x="147" y="1028"/>
                  </a:lnTo>
                  <a:lnTo>
                    <a:pt x="147" y="1040"/>
                  </a:lnTo>
                  <a:lnTo>
                    <a:pt x="147" y="1051"/>
                  </a:lnTo>
                  <a:lnTo>
                    <a:pt x="147" y="1063"/>
                  </a:lnTo>
                  <a:lnTo>
                    <a:pt x="147" y="1075"/>
                  </a:lnTo>
                  <a:lnTo>
                    <a:pt x="147" y="1085"/>
                  </a:lnTo>
                  <a:lnTo>
                    <a:pt x="147" y="1098"/>
                  </a:lnTo>
                  <a:lnTo>
                    <a:pt x="147" y="1109"/>
                  </a:lnTo>
                  <a:lnTo>
                    <a:pt x="147" y="1122"/>
                  </a:lnTo>
                  <a:lnTo>
                    <a:pt x="147" y="1133"/>
                  </a:lnTo>
                  <a:lnTo>
                    <a:pt x="147" y="1144"/>
                  </a:lnTo>
                  <a:lnTo>
                    <a:pt x="141" y="1157"/>
                  </a:lnTo>
                  <a:lnTo>
                    <a:pt x="141" y="1167"/>
                  </a:lnTo>
                  <a:lnTo>
                    <a:pt x="134" y="1179"/>
                  </a:lnTo>
                  <a:lnTo>
                    <a:pt x="134" y="1192"/>
                  </a:lnTo>
                  <a:lnTo>
                    <a:pt x="128" y="1203"/>
                  </a:lnTo>
                  <a:lnTo>
                    <a:pt x="128" y="1216"/>
                  </a:lnTo>
                  <a:lnTo>
                    <a:pt x="123" y="1226"/>
                  </a:lnTo>
                  <a:lnTo>
                    <a:pt x="117" y="1238"/>
                  </a:lnTo>
                  <a:lnTo>
                    <a:pt x="110" y="1250"/>
                  </a:lnTo>
                  <a:lnTo>
                    <a:pt x="105" y="1261"/>
                  </a:lnTo>
                  <a:lnTo>
                    <a:pt x="105" y="1273"/>
                  </a:lnTo>
                  <a:lnTo>
                    <a:pt x="100" y="1285"/>
                  </a:lnTo>
                  <a:lnTo>
                    <a:pt x="93" y="1296"/>
                  </a:lnTo>
                  <a:lnTo>
                    <a:pt x="88" y="1307"/>
                  </a:lnTo>
                  <a:lnTo>
                    <a:pt x="88" y="1320"/>
                  </a:lnTo>
                  <a:lnTo>
                    <a:pt x="82" y="1331"/>
                  </a:lnTo>
                  <a:lnTo>
                    <a:pt x="82" y="1343"/>
                  </a:lnTo>
                  <a:lnTo>
                    <a:pt x="76" y="1361"/>
                  </a:lnTo>
                  <a:lnTo>
                    <a:pt x="76" y="1372"/>
                  </a:lnTo>
                  <a:lnTo>
                    <a:pt x="76" y="1383"/>
                  </a:lnTo>
                  <a:lnTo>
                    <a:pt x="76" y="1396"/>
                  </a:lnTo>
                  <a:lnTo>
                    <a:pt x="76" y="1408"/>
                  </a:lnTo>
                  <a:lnTo>
                    <a:pt x="76" y="1420"/>
                  </a:lnTo>
                  <a:lnTo>
                    <a:pt x="76" y="1431"/>
                  </a:lnTo>
                  <a:lnTo>
                    <a:pt x="76" y="1442"/>
                  </a:lnTo>
                  <a:lnTo>
                    <a:pt x="70" y="1455"/>
                  </a:lnTo>
                  <a:lnTo>
                    <a:pt x="70" y="1466"/>
                  </a:lnTo>
                  <a:lnTo>
                    <a:pt x="70" y="1477"/>
                  </a:lnTo>
                  <a:lnTo>
                    <a:pt x="64" y="1489"/>
                  </a:lnTo>
                  <a:lnTo>
                    <a:pt x="64" y="1501"/>
                  </a:lnTo>
                  <a:lnTo>
                    <a:pt x="59" y="1512"/>
                  </a:lnTo>
                  <a:lnTo>
                    <a:pt x="59" y="1524"/>
                  </a:lnTo>
                  <a:lnTo>
                    <a:pt x="53" y="1536"/>
                  </a:lnTo>
                  <a:lnTo>
                    <a:pt x="47" y="1546"/>
                  </a:lnTo>
                  <a:lnTo>
                    <a:pt x="47" y="1559"/>
                  </a:lnTo>
                  <a:lnTo>
                    <a:pt x="41" y="1570"/>
                  </a:lnTo>
                  <a:lnTo>
                    <a:pt x="41" y="1583"/>
                  </a:lnTo>
                  <a:lnTo>
                    <a:pt x="41" y="1594"/>
                  </a:lnTo>
                  <a:lnTo>
                    <a:pt x="34" y="1607"/>
                  </a:lnTo>
                  <a:lnTo>
                    <a:pt x="34" y="1618"/>
                  </a:lnTo>
                  <a:lnTo>
                    <a:pt x="34" y="1629"/>
                  </a:lnTo>
                  <a:lnTo>
                    <a:pt x="34" y="1641"/>
                  </a:lnTo>
                  <a:lnTo>
                    <a:pt x="34" y="1653"/>
                  </a:lnTo>
                  <a:lnTo>
                    <a:pt x="23" y="1664"/>
                  </a:lnTo>
                  <a:lnTo>
                    <a:pt x="17" y="1677"/>
                  </a:lnTo>
                  <a:lnTo>
                    <a:pt x="17" y="1688"/>
                  </a:lnTo>
                  <a:lnTo>
                    <a:pt x="11" y="1699"/>
                  </a:lnTo>
                  <a:lnTo>
                    <a:pt x="0" y="1711"/>
                  </a:lnTo>
                  <a:lnTo>
                    <a:pt x="82" y="1653"/>
                  </a:lnTo>
                  <a:lnTo>
                    <a:pt x="93" y="1653"/>
                  </a:lnTo>
                  <a:lnTo>
                    <a:pt x="105" y="1659"/>
                  </a:lnTo>
                  <a:lnTo>
                    <a:pt x="117" y="1664"/>
                  </a:lnTo>
                  <a:lnTo>
                    <a:pt x="128" y="1670"/>
                  </a:lnTo>
                  <a:lnTo>
                    <a:pt x="141" y="1670"/>
                  </a:lnTo>
                  <a:lnTo>
                    <a:pt x="153" y="1670"/>
                  </a:lnTo>
                  <a:lnTo>
                    <a:pt x="164" y="1670"/>
                  </a:lnTo>
                  <a:lnTo>
                    <a:pt x="176" y="1670"/>
                  </a:lnTo>
                  <a:lnTo>
                    <a:pt x="182" y="1659"/>
                  </a:lnTo>
                  <a:lnTo>
                    <a:pt x="194" y="1653"/>
                  </a:lnTo>
                  <a:lnTo>
                    <a:pt x="194" y="1641"/>
                  </a:lnTo>
                  <a:lnTo>
                    <a:pt x="199" y="1629"/>
                  </a:lnTo>
                  <a:lnTo>
                    <a:pt x="204" y="1618"/>
                  </a:lnTo>
                  <a:lnTo>
                    <a:pt x="211" y="1607"/>
                  </a:lnTo>
                  <a:lnTo>
                    <a:pt x="216" y="1594"/>
                  </a:lnTo>
                  <a:lnTo>
                    <a:pt x="216" y="1583"/>
                  </a:lnTo>
                  <a:lnTo>
                    <a:pt x="223" y="1570"/>
                  </a:lnTo>
                  <a:lnTo>
                    <a:pt x="223" y="1559"/>
                  </a:lnTo>
                  <a:lnTo>
                    <a:pt x="223" y="1546"/>
                  </a:lnTo>
                  <a:lnTo>
                    <a:pt x="223" y="1536"/>
                  </a:lnTo>
                  <a:lnTo>
                    <a:pt x="229" y="1524"/>
                  </a:lnTo>
                  <a:lnTo>
                    <a:pt x="229" y="1512"/>
                  </a:lnTo>
                  <a:lnTo>
                    <a:pt x="235" y="1501"/>
                  </a:lnTo>
                  <a:lnTo>
                    <a:pt x="235" y="1489"/>
                  </a:lnTo>
                  <a:lnTo>
                    <a:pt x="235" y="1477"/>
                  </a:lnTo>
                  <a:lnTo>
                    <a:pt x="241" y="1466"/>
                  </a:lnTo>
                  <a:lnTo>
                    <a:pt x="241" y="1455"/>
                  </a:lnTo>
                  <a:lnTo>
                    <a:pt x="241" y="1442"/>
                  </a:lnTo>
                  <a:lnTo>
                    <a:pt x="241" y="1431"/>
                  </a:lnTo>
                  <a:lnTo>
                    <a:pt x="241" y="1420"/>
                  </a:lnTo>
                  <a:lnTo>
                    <a:pt x="241" y="1390"/>
                  </a:lnTo>
                  <a:lnTo>
                    <a:pt x="241" y="1378"/>
                  </a:lnTo>
                  <a:lnTo>
                    <a:pt x="241" y="1366"/>
                  </a:lnTo>
                  <a:lnTo>
                    <a:pt x="241" y="1354"/>
                  </a:lnTo>
                  <a:lnTo>
                    <a:pt x="246" y="1343"/>
                  </a:lnTo>
                  <a:lnTo>
                    <a:pt x="246" y="1331"/>
                  </a:lnTo>
                  <a:lnTo>
                    <a:pt x="246" y="1314"/>
                  </a:lnTo>
                  <a:lnTo>
                    <a:pt x="252" y="1302"/>
                  </a:lnTo>
                  <a:lnTo>
                    <a:pt x="252" y="1290"/>
                  </a:lnTo>
                  <a:lnTo>
                    <a:pt x="258" y="1279"/>
                  </a:lnTo>
                  <a:lnTo>
                    <a:pt x="258" y="1267"/>
                  </a:lnTo>
                  <a:lnTo>
                    <a:pt x="258" y="1255"/>
                  </a:lnTo>
                  <a:lnTo>
                    <a:pt x="264" y="1244"/>
                  </a:lnTo>
                  <a:lnTo>
                    <a:pt x="264" y="1233"/>
                  </a:lnTo>
                  <a:lnTo>
                    <a:pt x="264" y="1220"/>
                  </a:lnTo>
                  <a:lnTo>
                    <a:pt x="264" y="1209"/>
                  </a:lnTo>
                  <a:lnTo>
                    <a:pt x="269" y="1198"/>
                  </a:lnTo>
                  <a:lnTo>
                    <a:pt x="269" y="1185"/>
                  </a:lnTo>
                  <a:lnTo>
                    <a:pt x="269" y="1174"/>
                  </a:lnTo>
                  <a:lnTo>
                    <a:pt x="269" y="1161"/>
                  </a:lnTo>
                  <a:lnTo>
                    <a:pt x="276" y="1150"/>
                  </a:lnTo>
                  <a:lnTo>
                    <a:pt x="281" y="1139"/>
                  </a:lnTo>
                  <a:lnTo>
                    <a:pt x="287" y="1126"/>
                  </a:lnTo>
                  <a:lnTo>
                    <a:pt x="287" y="1116"/>
                  </a:lnTo>
                  <a:lnTo>
                    <a:pt x="293" y="1104"/>
                  </a:lnTo>
                  <a:lnTo>
                    <a:pt x="293" y="1092"/>
                  </a:lnTo>
                  <a:lnTo>
                    <a:pt x="305" y="1081"/>
                  </a:lnTo>
                  <a:lnTo>
                    <a:pt x="305" y="1068"/>
                  </a:lnTo>
                  <a:lnTo>
                    <a:pt x="310" y="1057"/>
                  </a:lnTo>
                  <a:lnTo>
                    <a:pt x="317" y="1045"/>
                  </a:lnTo>
                  <a:lnTo>
                    <a:pt x="323" y="1034"/>
                  </a:lnTo>
                  <a:lnTo>
                    <a:pt x="328" y="1022"/>
                  </a:lnTo>
                  <a:lnTo>
                    <a:pt x="328" y="1011"/>
                  </a:lnTo>
                  <a:lnTo>
                    <a:pt x="335" y="999"/>
                  </a:lnTo>
                  <a:lnTo>
                    <a:pt x="335" y="987"/>
                  </a:lnTo>
                  <a:lnTo>
                    <a:pt x="340" y="976"/>
                  </a:lnTo>
                  <a:lnTo>
                    <a:pt x="340" y="963"/>
                  </a:lnTo>
                  <a:lnTo>
                    <a:pt x="340" y="951"/>
                  </a:lnTo>
                  <a:lnTo>
                    <a:pt x="346" y="940"/>
                  </a:lnTo>
                  <a:lnTo>
                    <a:pt x="346" y="929"/>
                  </a:lnTo>
                  <a:lnTo>
                    <a:pt x="346" y="917"/>
                  </a:lnTo>
                  <a:lnTo>
                    <a:pt x="346" y="905"/>
                  </a:lnTo>
                  <a:lnTo>
                    <a:pt x="346" y="893"/>
                  </a:lnTo>
                  <a:lnTo>
                    <a:pt x="346" y="882"/>
                  </a:lnTo>
                  <a:lnTo>
                    <a:pt x="346" y="869"/>
                  </a:lnTo>
                  <a:lnTo>
                    <a:pt x="352" y="859"/>
                  </a:lnTo>
                  <a:lnTo>
                    <a:pt x="352" y="846"/>
                  </a:lnTo>
                  <a:lnTo>
                    <a:pt x="352" y="835"/>
                  </a:lnTo>
                  <a:lnTo>
                    <a:pt x="352" y="824"/>
                  </a:lnTo>
                  <a:lnTo>
                    <a:pt x="358" y="811"/>
                  </a:lnTo>
                  <a:lnTo>
                    <a:pt x="358" y="800"/>
                  </a:lnTo>
                  <a:lnTo>
                    <a:pt x="363" y="789"/>
                  </a:lnTo>
                  <a:lnTo>
                    <a:pt x="363" y="777"/>
                  </a:lnTo>
                  <a:lnTo>
                    <a:pt x="363" y="765"/>
                  </a:lnTo>
                  <a:lnTo>
                    <a:pt x="363" y="753"/>
                  </a:lnTo>
                  <a:lnTo>
                    <a:pt x="363" y="741"/>
                  </a:lnTo>
                  <a:lnTo>
                    <a:pt x="363" y="730"/>
                  </a:lnTo>
                  <a:lnTo>
                    <a:pt x="363" y="717"/>
                  </a:lnTo>
                  <a:lnTo>
                    <a:pt x="363" y="706"/>
                  </a:lnTo>
                  <a:lnTo>
                    <a:pt x="363" y="695"/>
                  </a:lnTo>
                  <a:lnTo>
                    <a:pt x="363" y="683"/>
                  </a:lnTo>
                  <a:lnTo>
                    <a:pt x="370" y="672"/>
                  </a:lnTo>
                  <a:lnTo>
                    <a:pt x="370" y="659"/>
                  </a:lnTo>
                  <a:lnTo>
                    <a:pt x="370" y="648"/>
                  </a:lnTo>
                  <a:lnTo>
                    <a:pt x="375" y="637"/>
                  </a:lnTo>
                  <a:lnTo>
                    <a:pt x="375" y="624"/>
                  </a:lnTo>
                  <a:lnTo>
                    <a:pt x="381" y="607"/>
                  </a:lnTo>
                  <a:lnTo>
                    <a:pt x="381" y="596"/>
                  </a:lnTo>
                  <a:lnTo>
                    <a:pt x="387" y="584"/>
                  </a:lnTo>
                  <a:lnTo>
                    <a:pt x="387" y="572"/>
                  </a:lnTo>
                  <a:lnTo>
                    <a:pt x="392" y="561"/>
                  </a:lnTo>
                  <a:lnTo>
                    <a:pt x="392" y="550"/>
                  </a:lnTo>
                  <a:lnTo>
                    <a:pt x="392" y="538"/>
                  </a:lnTo>
                  <a:lnTo>
                    <a:pt x="399" y="525"/>
                  </a:lnTo>
                  <a:lnTo>
                    <a:pt x="404" y="513"/>
                  </a:lnTo>
                  <a:lnTo>
                    <a:pt x="411" y="502"/>
                  </a:lnTo>
                  <a:lnTo>
                    <a:pt x="417" y="490"/>
                  </a:lnTo>
                  <a:lnTo>
                    <a:pt x="422" y="478"/>
                  </a:lnTo>
                  <a:lnTo>
                    <a:pt x="422" y="467"/>
                  </a:lnTo>
                  <a:lnTo>
                    <a:pt x="422" y="456"/>
                  </a:lnTo>
                  <a:lnTo>
                    <a:pt x="429" y="444"/>
                  </a:lnTo>
                  <a:lnTo>
                    <a:pt x="429" y="432"/>
                  </a:lnTo>
                  <a:lnTo>
                    <a:pt x="434" y="420"/>
                  </a:lnTo>
                  <a:lnTo>
                    <a:pt x="434" y="408"/>
                  </a:lnTo>
                  <a:lnTo>
                    <a:pt x="440" y="397"/>
                  </a:lnTo>
                  <a:lnTo>
                    <a:pt x="440" y="386"/>
                  </a:lnTo>
                  <a:lnTo>
                    <a:pt x="446" y="374"/>
                  </a:lnTo>
                  <a:lnTo>
                    <a:pt x="451" y="363"/>
                  </a:lnTo>
                  <a:lnTo>
                    <a:pt x="457" y="350"/>
                  </a:lnTo>
                  <a:lnTo>
                    <a:pt x="463" y="339"/>
                  </a:lnTo>
                  <a:lnTo>
                    <a:pt x="470" y="326"/>
                  </a:lnTo>
                  <a:lnTo>
                    <a:pt x="470" y="315"/>
                  </a:lnTo>
                  <a:lnTo>
                    <a:pt x="475" y="304"/>
                  </a:lnTo>
                  <a:lnTo>
                    <a:pt x="475" y="292"/>
                  </a:lnTo>
                  <a:lnTo>
                    <a:pt x="481" y="280"/>
                  </a:lnTo>
                  <a:lnTo>
                    <a:pt x="487" y="269"/>
                  </a:lnTo>
                  <a:lnTo>
                    <a:pt x="487" y="256"/>
                  </a:lnTo>
                  <a:lnTo>
                    <a:pt x="493" y="245"/>
                  </a:lnTo>
                  <a:lnTo>
                    <a:pt x="499" y="232"/>
                  </a:lnTo>
                  <a:lnTo>
                    <a:pt x="505" y="221"/>
                  </a:lnTo>
                  <a:lnTo>
                    <a:pt x="510" y="211"/>
                  </a:lnTo>
                  <a:lnTo>
                    <a:pt x="516" y="198"/>
                  </a:lnTo>
                  <a:lnTo>
                    <a:pt x="523" y="187"/>
                  </a:lnTo>
                  <a:lnTo>
                    <a:pt x="528" y="175"/>
                  </a:lnTo>
                  <a:lnTo>
                    <a:pt x="540" y="163"/>
                  </a:lnTo>
                  <a:lnTo>
                    <a:pt x="551" y="152"/>
                  </a:lnTo>
                  <a:lnTo>
                    <a:pt x="564" y="146"/>
                  </a:lnTo>
                  <a:lnTo>
                    <a:pt x="569" y="134"/>
                  </a:lnTo>
                  <a:lnTo>
                    <a:pt x="581" y="129"/>
                  </a:lnTo>
                  <a:lnTo>
                    <a:pt x="593" y="123"/>
                  </a:lnTo>
                  <a:lnTo>
                    <a:pt x="599" y="111"/>
                  </a:lnTo>
                  <a:lnTo>
                    <a:pt x="610" y="111"/>
                  </a:lnTo>
                  <a:lnTo>
                    <a:pt x="622" y="111"/>
                  </a:lnTo>
                  <a:lnTo>
                    <a:pt x="634" y="104"/>
                  </a:lnTo>
                  <a:lnTo>
                    <a:pt x="645" y="99"/>
                  </a:lnTo>
                  <a:lnTo>
                    <a:pt x="656" y="87"/>
                  </a:lnTo>
                  <a:lnTo>
                    <a:pt x="669" y="81"/>
                  </a:lnTo>
                  <a:lnTo>
                    <a:pt x="680" y="76"/>
                  </a:lnTo>
                  <a:lnTo>
                    <a:pt x="693" y="69"/>
                  </a:lnTo>
                  <a:lnTo>
                    <a:pt x="697" y="58"/>
                  </a:lnTo>
                  <a:lnTo>
                    <a:pt x="710" y="52"/>
                  </a:lnTo>
                  <a:lnTo>
                    <a:pt x="717" y="40"/>
                  </a:lnTo>
                  <a:lnTo>
                    <a:pt x="721" y="28"/>
                  </a:lnTo>
                  <a:lnTo>
                    <a:pt x="721" y="17"/>
                  </a:lnTo>
                  <a:lnTo>
                    <a:pt x="717" y="5"/>
                  </a:lnTo>
                  <a:lnTo>
                    <a:pt x="704" y="5"/>
                  </a:lnTo>
                  <a:lnTo>
                    <a:pt x="693" y="5"/>
                  </a:lnTo>
                  <a:lnTo>
                    <a:pt x="680" y="5"/>
                  </a:lnTo>
                  <a:lnTo>
                    <a:pt x="669" y="5"/>
                  </a:lnTo>
                  <a:lnTo>
                    <a:pt x="656" y="5"/>
                  </a:lnTo>
                  <a:lnTo>
                    <a:pt x="645" y="5"/>
                  </a:lnTo>
                  <a:lnTo>
                    <a:pt x="634" y="5"/>
                  </a:lnTo>
                  <a:lnTo>
                    <a:pt x="622" y="5"/>
                  </a:lnTo>
                  <a:lnTo>
                    <a:pt x="610" y="0"/>
                  </a:lnTo>
                  <a:lnTo>
                    <a:pt x="599" y="0"/>
                  </a:lnTo>
                  <a:lnTo>
                    <a:pt x="587" y="0"/>
                  </a:lnTo>
                  <a:lnTo>
                    <a:pt x="575" y="5"/>
                  </a:lnTo>
                  <a:lnTo>
                    <a:pt x="564" y="5"/>
                  </a:lnTo>
                  <a:lnTo>
                    <a:pt x="557" y="17"/>
                  </a:lnTo>
                  <a:lnTo>
                    <a:pt x="564" y="17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86120" y="2720160"/>
              <a:ext cx="270360" cy="1150200"/>
            </a:xfrm>
            <a:custGeom>
              <a:avLst/>
              <a:gdLst/>
              <a:ahLst/>
              <a:rect l="l" t="t" r="r" b="b"/>
              <a:pathLst>
                <a:path w="480" h="1773">
                  <a:moveTo>
                    <a:pt x="326" y="16"/>
                  </a:moveTo>
                  <a:lnTo>
                    <a:pt x="314" y="16"/>
                  </a:lnTo>
                  <a:lnTo>
                    <a:pt x="303" y="16"/>
                  </a:lnTo>
                  <a:lnTo>
                    <a:pt x="291" y="16"/>
                  </a:lnTo>
                  <a:lnTo>
                    <a:pt x="281" y="22"/>
                  </a:lnTo>
                  <a:lnTo>
                    <a:pt x="268" y="29"/>
                  </a:lnTo>
                  <a:lnTo>
                    <a:pt x="258" y="34"/>
                  </a:lnTo>
                  <a:lnTo>
                    <a:pt x="258" y="44"/>
                  </a:lnTo>
                  <a:lnTo>
                    <a:pt x="246" y="51"/>
                  </a:lnTo>
                  <a:lnTo>
                    <a:pt x="240" y="61"/>
                  </a:lnTo>
                  <a:lnTo>
                    <a:pt x="230" y="67"/>
                  </a:lnTo>
                  <a:lnTo>
                    <a:pt x="223" y="80"/>
                  </a:lnTo>
                  <a:lnTo>
                    <a:pt x="217" y="90"/>
                  </a:lnTo>
                  <a:lnTo>
                    <a:pt x="212" y="102"/>
                  </a:lnTo>
                  <a:lnTo>
                    <a:pt x="199" y="107"/>
                  </a:lnTo>
                  <a:lnTo>
                    <a:pt x="195" y="119"/>
                  </a:lnTo>
                  <a:lnTo>
                    <a:pt x="183" y="124"/>
                  </a:lnTo>
                  <a:lnTo>
                    <a:pt x="177" y="136"/>
                  </a:lnTo>
                  <a:lnTo>
                    <a:pt x="172" y="148"/>
                  </a:lnTo>
                  <a:lnTo>
                    <a:pt x="161" y="153"/>
                  </a:lnTo>
                  <a:lnTo>
                    <a:pt x="155" y="165"/>
                  </a:lnTo>
                  <a:lnTo>
                    <a:pt x="148" y="175"/>
                  </a:lnTo>
                  <a:lnTo>
                    <a:pt x="138" y="187"/>
                  </a:lnTo>
                  <a:lnTo>
                    <a:pt x="138" y="199"/>
                  </a:lnTo>
                  <a:lnTo>
                    <a:pt x="131" y="209"/>
                  </a:lnTo>
                  <a:lnTo>
                    <a:pt x="126" y="221"/>
                  </a:lnTo>
                  <a:lnTo>
                    <a:pt x="120" y="231"/>
                  </a:lnTo>
                  <a:lnTo>
                    <a:pt x="120" y="244"/>
                  </a:lnTo>
                  <a:lnTo>
                    <a:pt x="115" y="254"/>
                  </a:lnTo>
                  <a:lnTo>
                    <a:pt x="109" y="267"/>
                  </a:lnTo>
                  <a:lnTo>
                    <a:pt x="109" y="277"/>
                  </a:lnTo>
                  <a:lnTo>
                    <a:pt x="103" y="289"/>
                  </a:lnTo>
                  <a:lnTo>
                    <a:pt x="97" y="299"/>
                  </a:lnTo>
                  <a:lnTo>
                    <a:pt x="93" y="312"/>
                  </a:lnTo>
                  <a:lnTo>
                    <a:pt x="93" y="322"/>
                  </a:lnTo>
                  <a:lnTo>
                    <a:pt x="85" y="334"/>
                  </a:lnTo>
                  <a:lnTo>
                    <a:pt x="85" y="346"/>
                  </a:lnTo>
                  <a:lnTo>
                    <a:pt x="80" y="357"/>
                  </a:lnTo>
                  <a:lnTo>
                    <a:pt x="75" y="368"/>
                  </a:lnTo>
                  <a:lnTo>
                    <a:pt x="75" y="380"/>
                  </a:lnTo>
                  <a:lnTo>
                    <a:pt x="69" y="391"/>
                  </a:lnTo>
                  <a:lnTo>
                    <a:pt x="63" y="401"/>
                  </a:lnTo>
                  <a:lnTo>
                    <a:pt x="58" y="414"/>
                  </a:lnTo>
                  <a:lnTo>
                    <a:pt x="58" y="424"/>
                  </a:lnTo>
                  <a:lnTo>
                    <a:pt x="52" y="436"/>
                  </a:lnTo>
                  <a:lnTo>
                    <a:pt x="46" y="447"/>
                  </a:lnTo>
                  <a:lnTo>
                    <a:pt x="46" y="459"/>
                  </a:lnTo>
                  <a:lnTo>
                    <a:pt x="41" y="470"/>
                  </a:lnTo>
                  <a:lnTo>
                    <a:pt x="41" y="482"/>
                  </a:lnTo>
                  <a:lnTo>
                    <a:pt x="34" y="493"/>
                  </a:lnTo>
                  <a:lnTo>
                    <a:pt x="28" y="503"/>
                  </a:lnTo>
                  <a:lnTo>
                    <a:pt x="28" y="516"/>
                  </a:lnTo>
                  <a:lnTo>
                    <a:pt x="24" y="526"/>
                  </a:lnTo>
                  <a:lnTo>
                    <a:pt x="24" y="537"/>
                  </a:lnTo>
                  <a:lnTo>
                    <a:pt x="17" y="549"/>
                  </a:lnTo>
                  <a:lnTo>
                    <a:pt x="17" y="561"/>
                  </a:lnTo>
                  <a:lnTo>
                    <a:pt x="12" y="572"/>
                  </a:lnTo>
                  <a:lnTo>
                    <a:pt x="12" y="601"/>
                  </a:lnTo>
                  <a:lnTo>
                    <a:pt x="12" y="612"/>
                  </a:lnTo>
                  <a:lnTo>
                    <a:pt x="5" y="623"/>
                  </a:lnTo>
                  <a:lnTo>
                    <a:pt x="5" y="635"/>
                  </a:lnTo>
                  <a:lnTo>
                    <a:pt x="5" y="646"/>
                  </a:lnTo>
                  <a:lnTo>
                    <a:pt x="0" y="656"/>
                  </a:lnTo>
                  <a:lnTo>
                    <a:pt x="0" y="669"/>
                  </a:lnTo>
                  <a:lnTo>
                    <a:pt x="0" y="679"/>
                  </a:lnTo>
                  <a:lnTo>
                    <a:pt x="2" y="1773"/>
                  </a:lnTo>
                  <a:lnTo>
                    <a:pt x="12" y="1421"/>
                  </a:lnTo>
                  <a:lnTo>
                    <a:pt x="12" y="1388"/>
                  </a:lnTo>
                  <a:lnTo>
                    <a:pt x="12" y="1347"/>
                  </a:lnTo>
                  <a:lnTo>
                    <a:pt x="12" y="1337"/>
                  </a:lnTo>
                  <a:lnTo>
                    <a:pt x="12" y="1325"/>
                  </a:lnTo>
                  <a:lnTo>
                    <a:pt x="12" y="1314"/>
                  </a:lnTo>
                  <a:lnTo>
                    <a:pt x="17" y="1303"/>
                  </a:lnTo>
                  <a:lnTo>
                    <a:pt x="17" y="1292"/>
                  </a:lnTo>
                  <a:lnTo>
                    <a:pt x="17" y="1274"/>
                  </a:lnTo>
                  <a:lnTo>
                    <a:pt x="24" y="1263"/>
                  </a:lnTo>
                  <a:lnTo>
                    <a:pt x="24" y="1252"/>
                  </a:lnTo>
                  <a:lnTo>
                    <a:pt x="28" y="1241"/>
                  </a:lnTo>
                  <a:lnTo>
                    <a:pt x="28" y="1229"/>
                  </a:lnTo>
                  <a:lnTo>
                    <a:pt x="28" y="1218"/>
                  </a:lnTo>
                  <a:lnTo>
                    <a:pt x="34" y="1206"/>
                  </a:lnTo>
                  <a:lnTo>
                    <a:pt x="34" y="1195"/>
                  </a:lnTo>
                  <a:lnTo>
                    <a:pt x="34" y="1183"/>
                  </a:lnTo>
                  <a:lnTo>
                    <a:pt x="34" y="1172"/>
                  </a:lnTo>
                  <a:lnTo>
                    <a:pt x="41" y="1161"/>
                  </a:lnTo>
                  <a:lnTo>
                    <a:pt x="41" y="1150"/>
                  </a:lnTo>
                  <a:lnTo>
                    <a:pt x="41" y="1139"/>
                  </a:lnTo>
                  <a:lnTo>
                    <a:pt x="41" y="1127"/>
                  </a:lnTo>
                  <a:lnTo>
                    <a:pt x="46" y="1116"/>
                  </a:lnTo>
                  <a:lnTo>
                    <a:pt x="52" y="1104"/>
                  </a:lnTo>
                  <a:lnTo>
                    <a:pt x="58" y="1093"/>
                  </a:lnTo>
                  <a:lnTo>
                    <a:pt x="58" y="1081"/>
                  </a:lnTo>
                  <a:lnTo>
                    <a:pt x="63" y="1071"/>
                  </a:lnTo>
                  <a:lnTo>
                    <a:pt x="63" y="1058"/>
                  </a:lnTo>
                  <a:lnTo>
                    <a:pt x="75" y="1048"/>
                  </a:lnTo>
                  <a:lnTo>
                    <a:pt x="75" y="1037"/>
                  </a:lnTo>
                  <a:lnTo>
                    <a:pt x="80" y="1026"/>
                  </a:lnTo>
                  <a:lnTo>
                    <a:pt x="85" y="1014"/>
                  </a:lnTo>
                  <a:lnTo>
                    <a:pt x="93" y="1003"/>
                  </a:lnTo>
                  <a:lnTo>
                    <a:pt x="97" y="990"/>
                  </a:lnTo>
                  <a:lnTo>
                    <a:pt x="97" y="979"/>
                  </a:lnTo>
                  <a:lnTo>
                    <a:pt x="103" y="968"/>
                  </a:lnTo>
                  <a:lnTo>
                    <a:pt x="103" y="956"/>
                  </a:lnTo>
                  <a:lnTo>
                    <a:pt x="109" y="946"/>
                  </a:lnTo>
                  <a:lnTo>
                    <a:pt x="109" y="935"/>
                  </a:lnTo>
                  <a:lnTo>
                    <a:pt x="109" y="924"/>
                  </a:lnTo>
                  <a:lnTo>
                    <a:pt x="115" y="912"/>
                  </a:lnTo>
                  <a:lnTo>
                    <a:pt x="115" y="901"/>
                  </a:lnTo>
                  <a:lnTo>
                    <a:pt x="115" y="888"/>
                  </a:lnTo>
                  <a:lnTo>
                    <a:pt x="115" y="878"/>
                  </a:lnTo>
                  <a:lnTo>
                    <a:pt x="115" y="866"/>
                  </a:lnTo>
                  <a:lnTo>
                    <a:pt x="115" y="856"/>
                  </a:lnTo>
                  <a:lnTo>
                    <a:pt x="115" y="843"/>
                  </a:lnTo>
                  <a:lnTo>
                    <a:pt x="120" y="832"/>
                  </a:lnTo>
                  <a:lnTo>
                    <a:pt x="120" y="822"/>
                  </a:lnTo>
                  <a:lnTo>
                    <a:pt x="120" y="810"/>
                  </a:lnTo>
                  <a:lnTo>
                    <a:pt x="120" y="799"/>
                  </a:lnTo>
                  <a:lnTo>
                    <a:pt x="126" y="788"/>
                  </a:lnTo>
                  <a:lnTo>
                    <a:pt x="126" y="776"/>
                  </a:lnTo>
                  <a:lnTo>
                    <a:pt x="131" y="764"/>
                  </a:lnTo>
                  <a:lnTo>
                    <a:pt x="131" y="753"/>
                  </a:lnTo>
                  <a:lnTo>
                    <a:pt x="131" y="741"/>
                  </a:lnTo>
                  <a:lnTo>
                    <a:pt x="131" y="730"/>
                  </a:lnTo>
                  <a:lnTo>
                    <a:pt x="131" y="720"/>
                  </a:lnTo>
                  <a:lnTo>
                    <a:pt x="131" y="708"/>
                  </a:lnTo>
                  <a:lnTo>
                    <a:pt x="131" y="697"/>
                  </a:lnTo>
                  <a:lnTo>
                    <a:pt x="131" y="686"/>
                  </a:lnTo>
                  <a:lnTo>
                    <a:pt x="131" y="674"/>
                  </a:lnTo>
                  <a:lnTo>
                    <a:pt x="131" y="663"/>
                  </a:lnTo>
                  <a:lnTo>
                    <a:pt x="138" y="652"/>
                  </a:lnTo>
                  <a:lnTo>
                    <a:pt x="138" y="639"/>
                  </a:lnTo>
                  <a:lnTo>
                    <a:pt x="138" y="628"/>
                  </a:lnTo>
                  <a:lnTo>
                    <a:pt x="143" y="618"/>
                  </a:lnTo>
                  <a:lnTo>
                    <a:pt x="143" y="605"/>
                  </a:lnTo>
                  <a:lnTo>
                    <a:pt x="148" y="588"/>
                  </a:lnTo>
                  <a:lnTo>
                    <a:pt x="148" y="578"/>
                  </a:lnTo>
                  <a:lnTo>
                    <a:pt x="155" y="567"/>
                  </a:lnTo>
                  <a:lnTo>
                    <a:pt x="155" y="557"/>
                  </a:lnTo>
                  <a:lnTo>
                    <a:pt x="161" y="544"/>
                  </a:lnTo>
                  <a:lnTo>
                    <a:pt x="161" y="533"/>
                  </a:lnTo>
                  <a:lnTo>
                    <a:pt x="161" y="520"/>
                  </a:lnTo>
                  <a:lnTo>
                    <a:pt x="166" y="509"/>
                  </a:lnTo>
                  <a:lnTo>
                    <a:pt x="172" y="498"/>
                  </a:lnTo>
                  <a:lnTo>
                    <a:pt x="177" y="486"/>
                  </a:lnTo>
                  <a:lnTo>
                    <a:pt x="183" y="475"/>
                  </a:lnTo>
                  <a:lnTo>
                    <a:pt x="189" y="465"/>
                  </a:lnTo>
                  <a:lnTo>
                    <a:pt x="189" y="452"/>
                  </a:lnTo>
                  <a:lnTo>
                    <a:pt x="189" y="442"/>
                  </a:lnTo>
                  <a:lnTo>
                    <a:pt x="195" y="431"/>
                  </a:lnTo>
                  <a:lnTo>
                    <a:pt x="195" y="419"/>
                  </a:lnTo>
                  <a:lnTo>
                    <a:pt x="199" y="408"/>
                  </a:lnTo>
                  <a:lnTo>
                    <a:pt x="199" y="396"/>
                  </a:lnTo>
                  <a:lnTo>
                    <a:pt x="206" y="385"/>
                  </a:lnTo>
                  <a:lnTo>
                    <a:pt x="206" y="373"/>
                  </a:lnTo>
                  <a:lnTo>
                    <a:pt x="212" y="363"/>
                  </a:lnTo>
                  <a:lnTo>
                    <a:pt x="217" y="350"/>
                  </a:lnTo>
                  <a:lnTo>
                    <a:pt x="223" y="340"/>
                  </a:lnTo>
                  <a:lnTo>
                    <a:pt x="230" y="328"/>
                  </a:lnTo>
                  <a:lnTo>
                    <a:pt x="234" y="318"/>
                  </a:lnTo>
                  <a:lnTo>
                    <a:pt x="234" y="305"/>
                  </a:lnTo>
                  <a:lnTo>
                    <a:pt x="240" y="295"/>
                  </a:lnTo>
                  <a:lnTo>
                    <a:pt x="240" y="282"/>
                  </a:lnTo>
                  <a:lnTo>
                    <a:pt x="246" y="272"/>
                  </a:lnTo>
                  <a:lnTo>
                    <a:pt x="252" y="260"/>
                  </a:lnTo>
                  <a:lnTo>
                    <a:pt x="252" y="248"/>
                  </a:lnTo>
                  <a:lnTo>
                    <a:pt x="258" y="238"/>
                  </a:lnTo>
                  <a:lnTo>
                    <a:pt x="263" y="226"/>
                  </a:lnTo>
                  <a:lnTo>
                    <a:pt x="268" y="216"/>
                  </a:lnTo>
                  <a:lnTo>
                    <a:pt x="275" y="203"/>
                  </a:lnTo>
                  <a:lnTo>
                    <a:pt x="281" y="193"/>
                  </a:lnTo>
                  <a:lnTo>
                    <a:pt x="285" y="180"/>
                  </a:lnTo>
                  <a:lnTo>
                    <a:pt x="291" y="170"/>
                  </a:lnTo>
                  <a:lnTo>
                    <a:pt x="303" y="158"/>
                  </a:lnTo>
                  <a:lnTo>
                    <a:pt x="314" y="148"/>
                  </a:lnTo>
                  <a:lnTo>
                    <a:pt x="326" y="142"/>
                  </a:lnTo>
                  <a:lnTo>
                    <a:pt x="332" y="131"/>
                  </a:lnTo>
                  <a:lnTo>
                    <a:pt x="344" y="124"/>
                  </a:lnTo>
                  <a:lnTo>
                    <a:pt x="354" y="119"/>
                  </a:lnTo>
                  <a:lnTo>
                    <a:pt x="360" y="107"/>
                  </a:lnTo>
                  <a:lnTo>
                    <a:pt x="373" y="107"/>
                  </a:lnTo>
                  <a:lnTo>
                    <a:pt x="383" y="107"/>
                  </a:lnTo>
                  <a:lnTo>
                    <a:pt x="395" y="102"/>
                  </a:lnTo>
                  <a:lnTo>
                    <a:pt x="405" y="95"/>
                  </a:lnTo>
                  <a:lnTo>
                    <a:pt x="418" y="85"/>
                  </a:lnTo>
                  <a:lnTo>
                    <a:pt x="428" y="80"/>
                  </a:lnTo>
                  <a:lnTo>
                    <a:pt x="441" y="73"/>
                  </a:lnTo>
                  <a:lnTo>
                    <a:pt x="452" y="67"/>
                  </a:lnTo>
                  <a:lnTo>
                    <a:pt x="458" y="56"/>
                  </a:lnTo>
                  <a:lnTo>
                    <a:pt x="468" y="51"/>
                  </a:lnTo>
                  <a:lnTo>
                    <a:pt x="475" y="39"/>
                  </a:lnTo>
                  <a:lnTo>
                    <a:pt x="480" y="29"/>
                  </a:lnTo>
                  <a:lnTo>
                    <a:pt x="480" y="16"/>
                  </a:lnTo>
                  <a:lnTo>
                    <a:pt x="475" y="6"/>
                  </a:lnTo>
                  <a:lnTo>
                    <a:pt x="463" y="6"/>
                  </a:lnTo>
                  <a:lnTo>
                    <a:pt x="452" y="6"/>
                  </a:lnTo>
                  <a:lnTo>
                    <a:pt x="441" y="6"/>
                  </a:lnTo>
                  <a:lnTo>
                    <a:pt x="428" y="6"/>
                  </a:lnTo>
                  <a:lnTo>
                    <a:pt x="418" y="6"/>
                  </a:lnTo>
                  <a:lnTo>
                    <a:pt x="405" y="6"/>
                  </a:lnTo>
                  <a:lnTo>
                    <a:pt x="395" y="6"/>
                  </a:lnTo>
                  <a:lnTo>
                    <a:pt x="383" y="6"/>
                  </a:lnTo>
                  <a:lnTo>
                    <a:pt x="373" y="0"/>
                  </a:lnTo>
                  <a:lnTo>
                    <a:pt x="360" y="0"/>
                  </a:lnTo>
                  <a:lnTo>
                    <a:pt x="349" y="0"/>
                  </a:lnTo>
                  <a:lnTo>
                    <a:pt x="337" y="6"/>
                  </a:lnTo>
                  <a:lnTo>
                    <a:pt x="326" y="6"/>
                  </a:lnTo>
                  <a:lnTo>
                    <a:pt x="320" y="16"/>
                  </a:lnTo>
                  <a:lnTo>
                    <a:pt x="326" y="16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745320" y="2716920"/>
              <a:ext cx="857520" cy="356040"/>
            </a:xfrm>
            <a:custGeom>
              <a:avLst/>
              <a:gdLst/>
              <a:ahLst/>
              <a:rect l="l" t="t" r="r" b="b"/>
              <a:pathLst>
                <a:path w="1523" h="549">
                  <a:moveTo>
                    <a:pt x="0" y="0"/>
                  </a:moveTo>
                  <a:lnTo>
                    <a:pt x="1401" y="17"/>
                  </a:lnTo>
                  <a:lnTo>
                    <a:pt x="1523" y="140"/>
                  </a:lnTo>
                  <a:lnTo>
                    <a:pt x="776" y="115"/>
                  </a:lnTo>
                  <a:lnTo>
                    <a:pt x="1362" y="320"/>
                  </a:lnTo>
                  <a:lnTo>
                    <a:pt x="1179" y="549"/>
                  </a:lnTo>
                  <a:lnTo>
                    <a:pt x="937" y="523"/>
                  </a:lnTo>
                  <a:lnTo>
                    <a:pt x="720" y="254"/>
                  </a:lnTo>
                  <a:lnTo>
                    <a:pt x="655" y="156"/>
                  </a:lnTo>
                  <a:lnTo>
                    <a:pt x="552" y="115"/>
                  </a:lnTo>
                  <a:lnTo>
                    <a:pt x="452" y="91"/>
                  </a:lnTo>
                  <a:lnTo>
                    <a:pt x="15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80360" y="2590920"/>
              <a:ext cx="1211760" cy="158400"/>
            </a:xfrm>
            <a:custGeom>
              <a:avLst/>
              <a:gdLst/>
              <a:ahLst/>
              <a:rect l="l" t="t" r="r" b="b"/>
              <a:pathLst>
                <a:path w="2151" h="242">
                  <a:moveTo>
                    <a:pt x="27" y="40"/>
                  </a:moveTo>
                  <a:lnTo>
                    <a:pt x="41" y="50"/>
                  </a:lnTo>
                  <a:lnTo>
                    <a:pt x="53" y="57"/>
                  </a:lnTo>
                  <a:lnTo>
                    <a:pt x="67" y="57"/>
                  </a:lnTo>
                  <a:lnTo>
                    <a:pt x="94" y="57"/>
                  </a:lnTo>
                  <a:lnTo>
                    <a:pt x="121" y="57"/>
                  </a:lnTo>
                  <a:lnTo>
                    <a:pt x="135" y="57"/>
                  </a:lnTo>
                  <a:lnTo>
                    <a:pt x="155" y="64"/>
                  </a:lnTo>
                  <a:lnTo>
                    <a:pt x="195" y="64"/>
                  </a:lnTo>
                  <a:lnTo>
                    <a:pt x="215" y="64"/>
                  </a:lnTo>
                  <a:lnTo>
                    <a:pt x="248" y="64"/>
                  </a:lnTo>
                  <a:lnTo>
                    <a:pt x="282" y="73"/>
                  </a:lnTo>
                  <a:lnTo>
                    <a:pt x="316" y="73"/>
                  </a:lnTo>
                  <a:lnTo>
                    <a:pt x="350" y="81"/>
                  </a:lnTo>
                  <a:lnTo>
                    <a:pt x="369" y="81"/>
                  </a:lnTo>
                  <a:lnTo>
                    <a:pt x="423" y="81"/>
                  </a:lnTo>
                  <a:lnTo>
                    <a:pt x="450" y="81"/>
                  </a:lnTo>
                  <a:lnTo>
                    <a:pt x="482" y="81"/>
                  </a:lnTo>
                  <a:lnTo>
                    <a:pt x="524" y="81"/>
                  </a:lnTo>
                  <a:lnTo>
                    <a:pt x="571" y="81"/>
                  </a:lnTo>
                  <a:lnTo>
                    <a:pt x="591" y="81"/>
                  </a:lnTo>
                  <a:lnTo>
                    <a:pt x="617" y="81"/>
                  </a:lnTo>
                  <a:lnTo>
                    <a:pt x="638" y="81"/>
                  </a:lnTo>
                  <a:lnTo>
                    <a:pt x="665" y="81"/>
                  </a:lnTo>
                  <a:lnTo>
                    <a:pt x="685" y="81"/>
                  </a:lnTo>
                  <a:lnTo>
                    <a:pt x="699" y="81"/>
                  </a:lnTo>
                  <a:lnTo>
                    <a:pt x="725" y="89"/>
                  </a:lnTo>
                  <a:lnTo>
                    <a:pt x="745" y="89"/>
                  </a:lnTo>
                  <a:lnTo>
                    <a:pt x="772" y="89"/>
                  </a:lnTo>
                  <a:lnTo>
                    <a:pt x="800" y="89"/>
                  </a:lnTo>
                  <a:lnTo>
                    <a:pt x="819" y="97"/>
                  </a:lnTo>
                  <a:lnTo>
                    <a:pt x="845" y="97"/>
                  </a:lnTo>
                  <a:lnTo>
                    <a:pt x="865" y="97"/>
                  </a:lnTo>
                  <a:lnTo>
                    <a:pt x="886" y="105"/>
                  </a:lnTo>
                  <a:lnTo>
                    <a:pt x="906" y="114"/>
                  </a:lnTo>
                  <a:lnTo>
                    <a:pt x="927" y="114"/>
                  </a:lnTo>
                  <a:lnTo>
                    <a:pt x="939" y="114"/>
                  </a:lnTo>
                  <a:lnTo>
                    <a:pt x="959" y="122"/>
                  </a:lnTo>
                  <a:lnTo>
                    <a:pt x="988" y="122"/>
                  </a:lnTo>
                  <a:lnTo>
                    <a:pt x="1000" y="122"/>
                  </a:lnTo>
                  <a:lnTo>
                    <a:pt x="1014" y="122"/>
                  </a:lnTo>
                  <a:lnTo>
                    <a:pt x="1027" y="130"/>
                  </a:lnTo>
                  <a:lnTo>
                    <a:pt x="1041" y="130"/>
                  </a:lnTo>
                  <a:lnTo>
                    <a:pt x="1053" y="130"/>
                  </a:lnTo>
                  <a:lnTo>
                    <a:pt x="1067" y="130"/>
                  </a:lnTo>
                  <a:lnTo>
                    <a:pt x="1087" y="130"/>
                  </a:lnTo>
                  <a:lnTo>
                    <a:pt x="1115" y="138"/>
                  </a:lnTo>
                  <a:lnTo>
                    <a:pt x="1142" y="138"/>
                  </a:lnTo>
                  <a:lnTo>
                    <a:pt x="1168" y="138"/>
                  </a:lnTo>
                  <a:lnTo>
                    <a:pt x="1188" y="138"/>
                  </a:lnTo>
                  <a:lnTo>
                    <a:pt x="1202" y="138"/>
                  </a:lnTo>
                  <a:lnTo>
                    <a:pt x="1214" y="138"/>
                  </a:lnTo>
                  <a:lnTo>
                    <a:pt x="1242" y="138"/>
                  </a:lnTo>
                  <a:lnTo>
                    <a:pt x="1269" y="138"/>
                  </a:lnTo>
                  <a:lnTo>
                    <a:pt x="1296" y="138"/>
                  </a:lnTo>
                  <a:lnTo>
                    <a:pt x="1308" y="138"/>
                  </a:lnTo>
                  <a:lnTo>
                    <a:pt x="1329" y="138"/>
                  </a:lnTo>
                  <a:lnTo>
                    <a:pt x="1342" y="138"/>
                  </a:lnTo>
                  <a:lnTo>
                    <a:pt x="1362" y="138"/>
                  </a:lnTo>
                  <a:lnTo>
                    <a:pt x="1382" y="138"/>
                  </a:lnTo>
                  <a:lnTo>
                    <a:pt x="1397" y="138"/>
                  </a:lnTo>
                  <a:lnTo>
                    <a:pt x="1423" y="138"/>
                  </a:lnTo>
                  <a:lnTo>
                    <a:pt x="1450" y="138"/>
                  </a:lnTo>
                  <a:lnTo>
                    <a:pt x="1476" y="138"/>
                  </a:lnTo>
                  <a:lnTo>
                    <a:pt x="1496" y="138"/>
                  </a:lnTo>
                  <a:lnTo>
                    <a:pt x="1510" y="138"/>
                  </a:lnTo>
                  <a:lnTo>
                    <a:pt x="1530" y="138"/>
                  </a:lnTo>
                  <a:lnTo>
                    <a:pt x="1558" y="138"/>
                  </a:lnTo>
                  <a:lnTo>
                    <a:pt x="1570" y="138"/>
                  </a:lnTo>
                  <a:lnTo>
                    <a:pt x="1590" y="138"/>
                  </a:lnTo>
                  <a:lnTo>
                    <a:pt x="1618" y="138"/>
                  </a:lnTo>
                  <a:lnTo>
                    <a:pt x="1645" y="138"/>
                  </a:lnTo>
                  <a:lnTo>
                    <a:pt x="1671" y="138"/>
                  </a:lnTo>
                  <a:lnTo>
                    <a:pt x="1691" y="138"/>
                  </a:lnTo>
                  <a:lnTo>
                    <a:pt x="1712" y="138"/>
                  </a:lnTo>
                  <a:lnTo>
                    <a:pt x="1739" y="138"/>
                  </a:lnTo>
                  <a:lnTo>
                    <a:pt x="1758" y="138"/>
                  </a:lnTo>
                  <a:lnTo>
                    <a:pt x="1779" y="138"/>
                  </a:lnTo>
                  <a:lnTo>
                    <a:pt x="1793" y="138"/>
                  </a:lnTo>
                  <a:lnTo>
                    <a:pt x="1806" y="138"/>
                  </a:lnTo>
                  <a:lnTo>
                    <a:pt x="1818" y="138"/>
                  </a:lnTo>
                  <a:lnTo>
                    <a:pt x="1845" y="138"/>
                  </a:lnTo>
                  <a:lnTo>
                    <a:pt x="1866" y="138"/>
                  </a:lnTo>
                  <a:lnTo>
                    <a:pt x="1879" y="138"/>
                  </a:lnTo>
                  <a:lnTo>
                    <a:pt x="1900" y="138"/>
                  </a:lnTo>
                  <a:lnTo>
                    <a:pt x="1920" y="138"/>
                  </a:lnTo>
                  <a:lnTo>
                    <a:pt x="1933" y="138"/>
                  </a:lnTo>
                  <a:lnTo>
                    <a:pt x="1953" y="147"/>
                  </a:lnTo>
                  <a:lnTo>
                    <a:pt x="1973" y="147"/>
                  </a:lnTo>
                  <a:lnTo>
                    <a:pt x="1987" y="147"/>
                  </a:lnTo>
                  <a:lnTo>
                    <a:pt x="2007" y="147"/>
                  </a:lnTo>
                  <a:lnTo>
                    <a:pt x="2020" y="147"/>
                  </a:lnTo>
                  <a:lnTo>
                    <a:pt x="2034" y="147"/>
                  </a:lnTo>
                  <a:lnTo>
                    <a:pt x="2047" y="147"/>
                  </a:lnTo>
                  <a:lnTo>
                    <a:pt x="2060" y="147"/>
                  </a:lnTo>
                  <a:lnTo>
                    <a:pt x="2074" y="147"/>
                  </a:lnTo>
                  <a:lnTo>
                    <a:pt x="2088" y="147"/>
                  </a:lnTo>
                  <a:lnTo>
                    <a:pt x="2100" y="147"/>
                  </a:lnTo>
                  <a:lnTo>
                    <a:pt x="2114" y="154"/>
                  </a:lnTo>
                  <a:lnTo>
                    <a:pt x="2129" y="154"/>
                  </a:lnTo>
                  <a:lnTo>
                    <a:pt x="2141" y="162"/>
                  </a:lnTo>
                  <a:lnTo>
                    <a:pt x="2151" y="167"/>
                  </a:lnTo>
                  <a:lnTo>
                    <a:pt x="2148" y="189"/>
                  </a:lnTo>
                  <a:lnTo>
                    <a:pt x="2141" y="200"/>
                  </a:lnTo>
                  <a:lnTo>
                    <a:pt x="2134" y="210"/>
                  </a:lnTo>
                  <a:lnTo>
                    <a:pt x="2121" y="218"/>
                  </a:lnTo>
                  <a:lnTo>
                    <a:pt x="2108" y="226"/>
                  </a:lnTo>
                  <a:lnTo>
                    <a:pt x="2095" y="226"/>
                  </a:lnTo>
                  <a:lnTo>
                    <a:pt x="2080" y="226"/>
                  </a:lnTo>
                  <a:lnTo>
                    <a:pt x="2067" y="226"/>
                  </a:lnTo>
                  <a:lnTo>
                    <a:pt x="2047" y="226"/>
                  </a:lnTo>
                  <a:lnTo>
                    <a:pt x="2034" y="226"/>
                  </a:lnTo>
                  <a:lnTo>
                    <a:pt x="2020" y="218"/>
                  </a:lnTo>
                  <a:lnTo>
                    <a:pt x="2007" y="218"/>
                  </a:lnTo>
                  <a:lnTo>
                    <a:pt x="1987" y="210"/>
                  </a:lnTo>
                  <a:lnTo>
                    <a:pt x="1967" y="202"/>
                  </a:lnTo>
                  <a:lnTo>
                    <a:pt x="1953" y="202"/>
                  </a:lnTo>
                  <a:lnTo>
                    <a:pt x="1939" y="202"/>
                  </a:lnTo>
                  <a:lnTo>
                    <a:pt x="1926" y="202"/>
                  </a:lnTo>
                  <a:lnTo>
                    <a:pt x="1905" y="202"/>
                  </a:lnTo>
                  <a:lnTo>
                    <a:pt x="1885" y="210"/>
                  </a:lnTo>
                  <a:lnTo>
                    <a:pt x="1873" y="218"/>
                  </a:lnTo>
                  <a:lnTo>
                    <a:pt x="1859" y="235"/>
                  </a:lnTo>
                  <a:lnTo>
                    <a:pt x="1845" y="235"/>
                  </a:lnTo>
                  <a:lnTo>
                    <a:pt x="1832" y="242"/>
                  </a:lnTo>
                  <a:lnTo>
                    <a:pt x="1818" y="242"/>
                  </a:lnTo>
                  <a:lnTo>
                    <a:pt x="1806" y="242"/>
                  </a:lnTo>
                  <a:lnTo>
                    <a:pt x="1793" y="242"/>
                  </a:lnTo>
                  <a:lnTo>
                    <a:pt x="1779" y="242"/>
                  </a:lnTo>
                  <a:lnTo>
                    <a:pt x="1765" y="242"/>
                  </a:lnTo>
                  <a:lnTo>
                    <a:pt x="1753" y="242"/>
                  </a:lnTo>
                  <a:lnTo>
                    <a:pt x="1739" y="242"/>
                  </a:lnTo>
                  <a:lnTo>
                    <a:pt x="1725" y="242"/>
                  </a:lnTo>
                  <a:lnTo>
                    <a:pt x="1712" y="242"/>
                  </a:lnTo>
                  <a:lnTo>
                    <a:pt x="1699" y="242"/>
                  </a:lnTo>
                  <a:lnTo>
                    <a:pt x="1685" y="242"/>
                  </a:lnTo>
                  <a:lnTo>
                    <a:pt x="1671" y="242"/>
                  </a:lnTo>
                  <a:lnTo>
                    <a:pt x="1658" y="242"/>
                  </a:lnTo>
                  <a:lnTo>
                    <a:pt x="1645" y="242"/>
                  </a:lnTo>
                  <a:lnTo>
                    <a:pt x="1631" y="235"/>
                  </a:lnTo>
                  <a:lnTo>
                    <a:pt x="1618" y="235"/>
                  </a:lnTo>
                  <a:lnTo>
                    <a:pt x="1604" y="235"/>
                  </a:lnTo>
                  <a:lnTo>
                    <a:pt x="1584" y="235"/>
                  </a:lnTo>
                  <a:lnTo>
                    <a:pt x="1570" y="226"/>
                  </a:lnTo>
                  <a:lnTo>
                    <a:pt x="1558" y="226"/>
                  </a:lnTo>
                  <a:lnTo>
                    <a:pt x="1544" y="226"/>
                  </a:lnTo>
                  <a:lnTo>
                    <a:pt x="1530" y="218"/>
                  </a:lnTo>
                  <a:lnTo>
                    <a:pt x="1517" y="218"/>
                  </a:lnTo>
                  <a:lnTo>
                    <a:pt x="1503" y="218"/>
                  </a:lnTo>
                  <a:lnTo>
                    <a:pt x="1491" y="218"/>
                  </a:lnTo>
                  <a:lnTo>
                    <a:pt x="1470" y="218"/>
                  </a:lnTo>
                  <a:lnTo>
                    <a:pt x="1450" y="218"/>
                  </a:lnTo>
                  <a:lnTo>
                    <a:pt x="1436" y="218"/>
                  </a:lnTo>
                  <a:lnTo>
                    <a:pt x="1423" y="218"/>
                  </a:lnTo>
                  <a:lnTo>
                    <a:pt x="1409" y="218"/>
                  </a:lnTo>
                  <a:lnTo>
                    <a:pt x="1397" y="218"/>
                  </a:lnTo>
                  <a:lnTo>
                    <a:pt x="1376" y="218"/>
                  </a:lnTo>
                  <a:lnTo>
                    <a:pt x="1362" y="218"/>
                  </a:lnTo>
                  <a:lnTo>
                    <a:pt x="1342" y="218"/>
                  </a:lnTo>
                  <a:lnTo>
                    <a:pt x="1322" y="218"/>
                  </a:lnTo>
                  <a:lnTo>
                    <a:pt x="1308" y="210"/>
                  </a:lnTo>
                  <a:lnTo>
                    <a:pt x="1296" y="210"/>
                  </a:lnTo>
                  <a:lnTo>
                    <a:pt x="1281" y="210"/>
                  </a:lnTo>
                  <a:lnTo>
                    <a:pt x="1269" y="218"/>
                  </a:lnTo>
                  <a:lnTo>
                    <a:pt x="1255" y="218"/>
                  </a:lnTo>
                  <a:lnTo>
                    <a:pt x="1235" y="218"/>
                  </a:lnTo>
                  <a:lnTo>
                    <a:pt x="1222" y="218"/>
                  </a:lnTo>
                  <a:lnTo>
                    <a:pt x="1202" y="218"/>
                  </a:lnTo>
                  <a:lnTo>
                    <a:pt x="1188" y="218"/>
                  </a:lnTo>
                  <a:lnTo>
                    <a:pt x="1174" y="218"/>
                  </a:lnTo>
                  <a:lnTo>
                    <a:pt x="1162" y="218"/>
                  </a:lnTo>
                  <a:lnTo>
                    <a:pt x="1147" y="218"/>
                  </a:lnTo>
                  <a:lnTo>
                    <a:pt x="1128" y="218"/>
                  </a:lnTo>
                  <a:lnTo>
                    <a:pt x="1115" y="218"/>
                  </a:lnTo>
                  <a:lnTo>
                    <a:pt x="1067" y="218"/>
                  </a:lnTo>
                  <a:lnTo>
                    <a:pt x="1027" y="218"/>
                  </a:lnTo>
                  <a:lnTo>
                    <a:pt x="973" y="218"/>
                  </a:lnTo>
                  <a:lnTo>
                    <a:pt x="954" y="218"/>
                  </a:lnTo>
                  <a:lnTo>
                    <a:pt x="933" y="210"/>
                  </a:lnTo>
                  <a:lnTo>
                    <a:pt x="906" y="210"/>
                  </a:lnTo>
                  <a:lnTo>
                    <a:pt x="886" y="218"/>
                  </a:lnTo>
                  <a:lnTo>
                    <a:pt x="860" y="218"/>
                  </a:lnTo>
                  <a:lnTo>
                    <a:pt x="765" y="210"/>
                  </a:lnTo>
                  <a:lnTo>
                    <a:pt x="670" y="210"/>
                  </a:lnTo>
                  <a:lnTo>
                    <a:pt x="631" y="210"/>
                  </a:lnTo>
                  <a:lnTo>
                    <a:pt x="579" y="210"/>
                  </a:lnTo>
                  <a:lnTo>
                    <a:pt x="558" y="210"/>
                  </a:lnTo>
                  <a:lnTo>
                    <a:pt x="524" y="210"/>
                  </a:lnTo>
                  <a:lnTo>
                    <a:pt x="462" y="210"/>
                  </a:lnTo>
                  <a:lnTo>
                    <a:pt x="429" y="210"/>
                  </a:lnTo>
                  <a:lnTo>
                    <a:pt x="417" y="210"/>
                  </a:lnTo>
                  <a:lnTo>
                    <a:pt x="396" y="210"/>
                  </a:lnTo>
                  <a:lnTo>
                    <a:pt x="376" y="210"/>
                  </a:lnTo>
                  <a:lnTo>
                    <a:pt x="362" y="210"/>
                  </a:lnTo>
                  <a:lnTo>
                    <a:pt x="335" y="210"/>
                  </a:lnTo>
                  <a:lnTo>
                    <a:pt x="316" y="202"/>
                  </a:lnTo>
                  <a:lnTo>
                    <a:pt x="302" y="202"/>
                  </a:lnTo>
                  <a:lnTo>
                    <a:pt x="235" y="202"/>
                  </a:lnTo>
                  <a:lnTo>
                    <a:pt x="222" y="195"/>
                  </a:lnTo>
                  <a:lnTo>
                    <a:pt x="175" y="195"/>
                  </a:lnTo>
                  <a:lnTo>
                    <a:pt x="128" y="195"/>
                  </a:lnTo>
                  <a:lnTo>
                    <a:pt x="114" y="185"/>
                  </a:lnTo>
                  <a:lnTo>
                    <a:pt x="73" y="185"/>
                  </a:lnTo>
                  <a:lnTo>
                    <a:pt x="51" y="178"/>
                  </a:lnTo>
                  <a:lnTo>
                    <a:pt x="20" y="179"/>
                  </a:lnTo>
                  <a:lnTo>
                    <a:pt x="0" y="171"/>
                  </a:lnTo>
                  <a:lnTo>
                    <a:pt x="0" y="71"/>
                  </a:lnTo>
                  <a:lnTo>
                    <a:pt x="0" y="25"/>
                  </a:lnTo>
                  <a:lnTo>
                    <a:pt x="8" y="9"/>
                  </a:lnTo>
                  <a:lnTo>
                    <a:pt x="20" y="0"/>
                  </a:lnTo>
                  <a:lnTo>
                    <a:pt x="33" y="0"/>
                  </a:lnTo>
                  <a:lnTo>
                    <a:pt x="41" y="17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91520" y="2658960"/>
              <a:ext cx="631440" cy="66960"/>
            </a:xfrm>
            <a:custGeom>
              <a:avLst/>
              <a:gdLst/>
              <a:ahLst/>
              <a:rect l="l" t="t" r="r" b="b"/>
              <a:pathLst>
                <a:path w="1121" h="105">
                  <a:moveTo>
                    <a:pt x="6" y="65"/>
                  </a:moveTo>
                  <a:lnTo>
                    <a:pt x="21" y="65"/>
                  </a:lnTo>
                  <a:lnTo>
                    <a:pt x="40" y="65"/>
                  </a:lnTo>
                  <a:lnTo>
                    <a:pt x="53" y="73"/>
                  </a:lnTo>
                  <a:lnTo>
                    <a:pt x="81" y="73"/>
                  </a:lnTo>
                  <a:lnTo>
                    <a:pt x="100" y="73"/>
                  </a:lnTo>
                  <a:lnTo>
                    <a:pt x="115" y="82"/>
                  </a:lnTo>
                  <a:lnTo>
                    <a:pt x="126" y="82"/>
                  </a:lnTo>
                  <a:lnTo>
                    <a:pt x="141" y="88"/>
                  </a:lnTo>
                  <a:lnTo>
                    <a:pt x="154" y="88"/>
                  </a:lnTo>
                  <a:lnTo>
                    <a:pt x="167" y="88"/>
                  </a:lnTo>
                  <a:lnTo>
                    <a:pt x="187" y="96"/>
                  </a:lnTo>
                  <a:lnTo>
                    <a:pt x="207" y="96"/>
                  </a:lnTo>
                  <a:lnTo>
                    <a:pt x="228" y="105"/>
                  </a:lnTo>
                  <a:lnTo>
                    <a:pt x="248" y="105"/>
                  </a:lnTo>
                  <a:lnTo>
                    <a:pt x="261" y="105"/>
                  </a:lnTo>
                  <a:lnTo>
                    <a:pt x="281" y="105"/>
                  </a:lnTo>
                  <a:lnTo>
                    <a:pt x="302" y="105"/>
                  </a:lnTo>
                  <a:lnTo>
                    <a:pt x="314" y="105"/>
                  </a:lnTo>
                  <a:lnTo>
                    <a:pt x="334" y="105"/>
                  </a:lnTo>
                  <a:lnTo>
                    <a:pt x="349" y="105"/>
                  </a:lnTo>
                  <a:lnTo>
                    <a:pt x="363" y="105"/>
                  </a:lnTo>
                  <a:lnTo>
                    <a:pt x="375" y="105"/>
                  </a:lnTo>
                  <a:lnTo>
                    <a:pt x="389" y="105"/>
                  </a:lnTo>
                  <a:lnTo>
                    <a:pt x="402" y="105"/>
                  </a:lnTo>
                  <a:lnTo>
                    <a:pt x="423" y="105"/>
                  </a:lnTo>
                  <a:lnTo>
                    <a:pt x="435" y="105"/>
                  </a:lnTo>
                  <a:lnTo>
                    <a:pt x="449" y="96"/>
                  </a:lnTo>
                  <a:lnTo>
                    <a:pt x="462" y="96"/>
                  </a:lnTo>
                  <a:lnTo>
                    <a:pt x="476" y="96"/>
                  </a:lnTo>
                  <a:lnTo>
                    <a:pt x="490" y="96"/>
                  </a:lnTo>
                  <a:lnTo>
                    <a:pt x="503" y="96"/>
                  </a:lnTo>
                  <a:lnTo>
                    <a:pt x="517" y="96"/>
                  </a:lnTo>
                  <a:lnTo>
                    <a:pt x="529" y="96"/>
                  </a:lnTo>
                  <a:lnTo>
                    <a:pt x="543" y="88"/>
                  </a:lnTo>
                  <a:lnTo>
                    <a:pt x="556" y="88"/>
                  </a:lnTo>
                  <a:lnTo>
                    <a:pt x="570" y="88"/>
                  </a:lnTo>
                  <a:lnTo>
                    <a:pt x="582" y="88"/>
                  </a:lnTo>
                  <a:lnTo>
                    <a:pt x="597" y="88"/>
                  </a:lnTo>
                  <a:lnTo>
                    <a:pt x="611" y="88"/>
                  </a:lnTo>
                  <a:lnTo>
                    <a:pt x="623" y="88"/>
                  </a:lnTo>
                  <a:lnTo>
                    <a:pt x="637" y="88"/>
                  </a:lnTo>
                  <a:lnTo>
                    <a:pt x="650" y="88"/>
                  </a:lnTo>
                  <a:lnTo>
                    <a:pt x="664" y="88"/>
                  </a:lnTo>
                  <a:lnTo>
                    <a:pt x="677" y="88"/>
                  </a:lnTo>
                  <a:lnTo>
                    <a:pt x="691" y="88"/>
                  </a:lnTo>
                  <a:lnTo>
                    <a:pt x="705" y="88"/>
                  </a:lnTo>
                  <a:lnTo>
                    <a:pt x="717" y="88"/>
                  </a:lnTo>
                  <a:lnTo>
                    <a:pt x="731" y="88"/>
                  </a:lnTo>
                  <a:lnTo>
                    <a:pt x="746" y="88"/>
                  </a:lnTo>
                  <a:lnTo>
                    <a:pt x="758" y="88"/>
                  </a:lnTo>
                  <a:lnTo>
                    <a:pt x="771" y="88"/>
                  </a:lnTo>
                  <a:lnTo>
                    <a:pt x="784" y="96"/>
                  </a:lnTo>
                  <a:lnTo>
                    <a:pt x="798" y="96"/>
                  </a:lnTo>
                  <a:lnTo>
                    <a:pt x="811" y="96"/>
                  </a:lnTo>
                  <a:lnTo>
                    <a:pt x="825" y="96"/>
                  </a:lnTo>
                  <a:lnTo>
                    <a:pt x="845" y="96"/>
                  </a:lnTo>
                  <a:lnTo>
                    <a:pt x="858" y="96"/>
                  </a:lnTo>
                  <a:lnTo>
                    <a:pt x="873" y="96"/>
                  </a:lnTo>
                  <a:lnTo>
                    <a:pt x="885" y="96"/>
                  </a:lnTo>
                  <a:lnTo>
                    <a:pt x="899" y="96"/>
                  </a:lnTo>
                  <a:lnTo>
                    <a:pt x="912" y="96"/>
                  </a:lnTo>
                  <a:lnTo>
                    <a:pt x="926" y="96"/>
                  </a:lnTo>
                  <a:lnTo>
                    <a:pt x="939" y="96"/>
                  </a:lnTo>
                  <a:lnTo>
                    <a:pt x="952" y="96"/>
                  </a:lnTo>
                  <a:lnTo>
                    <a:pt x="967" y="96"/>
                  </a:lnTo>
                  <a:lnTo>
                    <a:pt x="979" y="96"/>
                  </a:lnTo>
                  <a:lnTo>
                    <a:pt x="993" y="96"/>
                  </a:lnTo>
                  <a:lnTo>
                    <a:pt x="1006" y="96"/>
                  </a:lnTo>
                  <a:lnTo>
                    <a:pt x="1020" y="96"/>
                  </a:lnTo>
                  <a:lnTo>
                    <a:pt x="1032" y="96"/>
                  </a:lnTo>
                  <a:lnTo>
                    <a:pt x="1047" y="96"/>
                  </a:lnTo>
                  <a:lnTo>
                    <a:pt x="1061" y="96"/>
                  </a:lnTo>
                  <a:lnTo>
                    <a:pt x="1073" y="96"/>
                  </a:lnTo>
                  <a:lnTo>
                    <a:pt x="1087" y="96"/>
                  </a:lnTo>
                  <a:lnTo>
                    <a:pt x="1107" y="96"/>
                  </a:lnTo>
                  <a:lnTo>
                    <a:pt x="1121" y="96"/>
                  </a:lnTo>
                  <a:lnTo>
                    <a:pt x="1107" y="88"/>
                  </a:lnTo>
                  <a:lnTo>
                    <a:pt x="1093" y="88"/>
                  </a:lnTo>
                  <a:lnTo>
                    <a:pt x="1080" y="82"/>
                  </a:lnTo>
                  <a:lnTo>
                    <a:pt x="1066" y="82"/>
                  </a:lnTo>
                  <a:lnTo>
                    <a:pt x="1053" y="73"/>
                  </a:lnTo>
                  <a:lnTo>
                    <a:pt x="1040" y="73"/>
                  </a:lnTo>
                  <a:lnTo>
                    <a:pt x="1027" y="73"/>
                  </a:lnTo>
                  <a:lnTo>
                    <a:pt x="1012" y="73"/>
                  </a:lnTo>
                  <a:lnTo>
                    <a:pt x="993" y="65"/>
                  </a:lnTo>
                  <a:lnTo>
                    <a:pt x="967" y="65"/>
                  </a:lnTo>
                  <a:lnTo>
                    <a:pt x="939" y="65"/>
                  </a:lnTo>
                  <a:lnTo>
                    <a:pt x="926" y="65"/>
                  </a:lnTo>
                  <a:lnTo>
                    <a:pt x="905" y="65"/>
                  </a:lnTo>
                  <a:lnTo>
                    <a:pt x="885" y="65"/>
                  </a:lnTo>
                  <a:lnTo>
                    <a:pt x="873" y="65"/>
                  </a:lnTo>
                  <a:lnTo>
                    <a:pt x="858" y="65"/>
                  </a:lnTo>
                  <a:lnTo>
                    <a:pt x="845" y="65"/>
                  </a:lnTo>
                  <a:lnTo>
                    <a:pt x="832" y="65"/>
                  </a:lnTo>
                  <a:lnTo>
                    <a:pt x="818" y="65"/>
                  </a:lnTo>
                  <a:lnTo>
                    <a:pt x="805" y="65"/>
                  </a:lnTo>
                  <a:lnTo>
                    <a:pt x="791" y="65"/>
                  </a:lnTo>
                  <a:lnTo>
                    <a:pt x="779" y="56"/>
                  </a:lnTo>
                  <a:lnTo>
                    <a:pt x="764" y="56"/>
                  </a:lnTo>
                  <a:lnTo>
                    <a:pt x="731" y="56"/>
                  </a:lnTo>
                  <a:lnTo>
                    <a:pt x="717" y="56"/>
                  </a:lnTo>
                  <a:lnTo>
                    <a:pt x="705" y="56"/>
                  </a:lnTo>
                  <a:lnTo>
                    <a:pt x="691" y="56"/>
                  </a:lnTo>
                  <a:lnTo>
                    <a:pt x="677" y="48"/>
                  </a:lnTo>
                  <a:lnTo>
                    <a:pt x="664" y="48"/>
                  </a:lnTo>
                  <a:lnTo>
                    <a:pt x="650" y="48"/>
                  </a:lnTo>
                  <a:lnTo>
                    <a:pt x="637" y="48"/>
                  </a:lnTo>
                  <a:lnTo>
                    <a:pt x="623" y="48"/>
                  </a:lnTo>
                  <a:lnTo>
                    <a:pt x="611" y="41"/>
                  </a:lnTo>
                  <a:lnTo>
                    <a:pt x="597" y="41"/>
                  </a:lnTo>
                  <a:lnTo>
                    <a:pt x="577" y="32"/>
                  </a:lnTo>
                  <a:lnTo>
                    <a:pt x="563" y="32"/>
                  </a:lnTo>
                  <a:lnTo>
                    <a:pt x="550" y="32"/>
                  </a:lnTo>
                  <a:lnTo>
                    <a:pt x="537" y="32"/>
                  </a:lnTo>
                  <a:lnTo>
                    <a:pt x="522" y="23"/>
                  </a:lnTo>
                  <a:lnTo>
                    <a:pt x="509" y="23"/>
                  </a:lnTo>
                  <a:lnTo>
                    <a:pt x="496" y="23"/>
                  </a:lnTo>
                  <a:lnTo>
                    <a:pt x="483" y="23"/>
                  </a:lnTo>
                  <a:lnTo>
                    <a:pt x="469" y="23"/>
                  </a:lnTo>
                  <a:lnTo>
                    <a:pt x="449" y="23"/>
                  </a:lnTo>
                  <a:lnTo>
                    <a:pt x="435" y="23"/>
                  </a:lnTo>
                  <a:lnTo>
                    <a:pt x="423" y="23"/>
                  </a:lnTo>
                  <a:lnTo>
                    <a:pt x="409" y="23"/>
                  </a:lnTo>
                  <a:lnTo>
                    <a:pt x="396" y="23"/>
                  </a:lnTo>
                  <a:lnTo>
                    <a:pt x="375" y="15"/>
                  </a:lnTo>
                  <a:lnTo>
                    <a:pt x="363" y="15"/>
                  </a:lnTo>
                  <a:lnTo>
                    <a:pt x="349" y="15"/>
                  </a:lnTo>
                  <a:lnTo>
                    <a:pt x="334" y="15"/>
                  </a:lnTo>
                  <a:lnTo>
                    <a:pt x="322" y="8"/>
                  </a:lnTo>
                  <a:lnTo>
                    <a:pt x="308" y="8"/>
                  </a:lnTo>
                  <a:lnTo>
                    <a:pt x="295" y="8"/>
                  </a:lnTo>
                  <a:lnTo>
                    <a:pt x="281" y="8"/>
                  </a:lnTo>
                  <a:lnTo>
                    <a:pt x="269" y="8"/>
                  </a:lnTo>
                  <a:lnTo>
                    <a:pt x="254" y="8"/>
                  </a:lnTo>
                  <a:lnTo>
                    <a:pt x="240" y="8"/>
                  </a:lnTo>
                  <a:lnTo>
                    <a:pt x="228" y="8"/>
                  </a:lnTo>
                  <a:lnTo>
                    <a:pt x="214" y="8"/>
                  </a:lnTo>
                  <a:lnTo>
                    <a:pt x="201" y="8"/>
                  </a:lnTo>
                  <a:lnTo>
                    <a:pt x="187" y="8"/>
                  </a:lnTo>
                  <a:lnTo>
                    <a:pt x="175" y="8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4" y="0"/>
                  </a:lnTo>
                  <a:lnTo>
                    <a:pt x="60" y="0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13" y="8"/>
                  </a:lnTo>
                  <a:lnTo>
                    <a:pt x="0" y="15"/>
                  </a:lnTo>
                  <a:lnTo>
                    <a:pt x="6" y="6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86600" y="2674800"/>
              <a:ext cx="536400" cy="61920"/>
            </a:xfrm>
            <a:custGeom>
              <a:avLst/>
              <a:gdLst/>
              <a:ahLst/>
              <a:rect l="l" t="t" r="r" b="b"/>
              <a:pathLst>
                <a:path w="952" h="97">
                  <a:moveTo>
                    <a:pt x="940" y="39"/>
                  </a:moveTo>
                  <a:lnTo>
                    <a:pt x="926" y="49"/>
                  </a:lnTo>
                  <a:lnTo>
                    <a:pt x="905" y="49"/>
                  </a:lnTo>
                  <a:lnTo>
                    <a:pt x="892" y="49"/>
                  </a:lnTo>
                  <a:lnTo>
                    <a:pt x="865" y="49"/>
                  </a:lnTo>
                  <a:lnTo>
                    <a:pt x="846" y="49"/>
                  </a:lnTo>
                  <a:lnTo>
                    <a:pt x="826" y="49"/>
                  </a:lnTo>
                  <a:lnTo>
                    <a:pt x="805" y="49"/>
                  </a:lnTo>
                  <a:lnTo>
                    <a:pt x="785" y="39"/>
                  </a:lnTo>
                  <a:lnTo>
                    <a:pt x="758" y="39"/>
                  </a:lnTo>
                  <a:lnTo>
                    <a:pt x="737" y="39"/>
                  </a:lnTo>
                  <a:lnTo>
                    <a:pt x="717" y="32"/>
                  </a:lnTo>
                  <a:lnTo>
                    <a:pt x="698" y="32"/>
                  </a:lnTo>
                  <a:lnTo>
                    <a:pt x="683" y="32"/>
                  </a:lnTo>
                  <a:lnTo>
                    <a:pt x="664" y="32"/>
                  </a:lnTo>
                  <a:lnTo>
                    <a:pt x="651" y="32"/>
                  </a:lnTo>
                  <a:lnTo>
                    <a:pt x="631" y="24"/>
                  </a:lnTo>
                  <a:lnTo>
                    <a:pt x="617" y="24"/>
                  </a:lnTo>
                  <a:lnTo>
                    <a:pt x="604" y="24"/>
                  </a:lnTo>
                  <a:lnTo>
                    <a:pt x="590" y="24"/>
                  </a:lnTo>
                  <a:lnTo>
                    <a:pt x="577" y="24"/>
                  </a:lnTo>
                  <a:lnTo>
                    <a:pt x="529" y="24"/>
                  </a:lnTo>
                  <a:lnTo>
                    <a:pt x="516" y="17"/>
                  </a:lnTo>
                  <a:lnTo>
                    <a:pt x="496" y="17"/>
                  </a:lnTo>
                  <a:lnTo>
                    <a:pt x="476" y="17"/>
                  </a:lnTo>
                  <a:lnTo>
                    <a:pt x="455" y="17"/>
                  </a:lnTo>
                  <a:lnTo>
                    <a:pt x="443" y="17"/>
                  </a:lnTo>
                  <a:lnTo>
                    <a:pt x="429" y="8"/>
                  </a:lnTo>
                  <a:lnTo>
                    <a:pt x="416" y="8"/>
                  </a:lnTo>
                  <a:lnTo>
                    <a:pt x="402" y="8"/>
                  </a:lnTo>
                  <a:lnTo>
                    <a:pt x="390" y="8"/>
                  </a:lnTo>
                  <a:lnTo>
                    <a:pt x="375" y="8"/>
                  </a:lnTo>
                  <a:lnTo>
                    <a:pt x="361" y="8"/>
                  </a:lnTo>
                  <a:lnTo>
                    <a:pt x="349" y="8"/>
                  </a:lnTo>
                  <a:lnTo>
                    <a:pt x="335" y="0"/>
                  </a:lnTo>
                  <a:lnTo>
                    <a:pt x="320" y="0"/>
                  </a:lnTo>
                  <a:lnTo>
                    <a:pt x="308" y="0"/>
                  </a:lnTo>
                  <a:lnTo>
                    <a:pt x="296" y="0"/>
                  </a:lnTo>
                  <a:lnTo>
                    <a:pt x="282" y="0"/>
                  </a:lnTo>
                  <a:lnTo>
                    <a:pt x="268" y="0"/>
                  </a:lnTo>
                  <a:lnTo>
                    <a:pt x="255" y="0"/>
                  </a:lnTo>
                  <a:lnTo>
                    <a:pt x="241" y="0"/>
                  </a:lnTo>
                  <a:lnTo>
                    <a:pt x="248" y="17"/>
                  </a:lnTo>
                  <a:lnTo>
                    <a:pt x="262" y="17"/>
                  </a:lnTo>
                  <a:lnTo>
                    <a:pt x="275" y="24"/>
                  </a:lnTo>
                  <a:lnTo>
                    <a:pt x="288" y="24"/>
                  </a:lnTo>
                  <a:lnTo>
                    <a:pt x="308" y="32"/>
                  </a:lnTo>
                  <a:lnTo>
                    <a:pt x="320" y="32"/>
                  </a:lnTo>
                  <a:lnTo>
                    <a:pt x="335" y="32"/>
                  </a:lnTo>
                  <a:lnTo>
                    <a:pt x="349" y="32"/>
                  </a:lnTo>
                  <a:lnTo>
                    <a:pt x="361" y="32"/>
                  </a:lnTo>
                  <a:lnTo>
                    <a:pt x="382" y="32"/>
                  </a:lnTo>
                  <a:lnTo>
                    <a:pt x="402" y="32"/>
                  </a:lnTo>
                  <a:lnTo>
                    <a:pt x="416" y="32"/>
                  </a:lnTo>
                  <a:lnTo>
                    <a:pt x="443" y="32"/>
                  </a:lnTo>
                  <a:lnTo>
                    <a:pt x="463" y="32"/>
                  </a:lnTo>
                  <a:lnTo>
                    <a:pt x="484" y="32"/>
                  </a:lnTo>
                  <a:lnTo>
                    <a:pt x="496" y="32"/>
                  </a:lnTo>
                  <a:lnTo>
                    <a:pt x="510" y="32"/>
                  </a:lnTo>
                  <a:lnTo>
                    <a:pt x="529" y="32"/>
                  </a:lnTo>
                  <a:lnTo>
                    <a:pt x="549" y="32"/>
                  </a:lnTo>
                  <a:lnTo>
                    <a:pt x="563" y="32"/>
                  </a:lnTo>
                  <a:lnTo>
                    <a:pt x="577" y="32"/>
                  </a:lnTo>
                  <a:lnTo>
                    <a:pt x="590" y="32"/>
                  </a:lnTo>
                  <a:lnTo>
                    <a:pt x="604" y="32"/>
                  </a:lnTo>
                  <a:lnTo>
                    <a:pt x="617" y="32"/>
                  </a:lnTo>
                  <a:lnTo>
                    <a:pt x="631" y="32"/>
                  </a:lnTo>
                  <a:lnTo>
                    <a:pt x="643" y="32"/>
                  </a:lnTo>
                  <a:lnTo>
                    <a:pt x="657" y="32"/>
                  </a:lnTo>
                  <a:lnTo>
                    <a:pt x="671" y="32"/>
                  </a:lnTo>
                  <a:lnTo>
                    <a:pt x="664" y="49"/>
                  </a:lnTo>
                  <a:lnTo>
                    <a:pt x="651" y="49"/>
                  </a:lnTo>
                  <a:lnTo>
                    <a:pt x="638" y="49"/>
                  </a:lnTo>
                  <a:lnTo>
                    <a:pt x="623" y="58"/>
                  </a:lnTo>
                  <a:lnTo>
                    <a:pt x="611" y="58"/>
                  </a:lnTo>
                  <a:lnTo>
                    <a:pt x="590" y="58"/>
                  </a:lnTo>
                  <a:lnTo>
                    <a:pt x="570" y="49"/>
                  </a:lnTo>
                  <a:lnTo>
                    <a:pt x="549" y="49"/>
                  </a:lnTo>
                  <a:lnTo>
                    <a:pt x="523" y="49"/>
                  </a:lnTo>
                  <a:lnTo>
                    <a:pt x="503" y="39"/>
                  </a:lnTo>
                  <a:lnTo>
                    <a:pt x="476" y="39"/>
                  </a:lnTo>
                  <a:lnTo>
                    <a:pt x="455" y="39"/>
                  </a:lnTo>
                  <a:lnTo>
                    <a:pt x="435" y="32"/>
                  </a:lnTo>
                  <a:lnTo>
                    <a:pt x="416" y="32"/>
                  </a:lnTo>
                  <a:lnTo>
                    <a:pt x="395" y="32"/>
                  </a:lnTo>
                  <a:lnTo>
                    <a:pt x="382" y="32"/>
                  </a:lnTo>
                  <a:lnTo>
                    <a:pt x="361" y="32"/>
                  </a:lnTo>
                  <a:lnTo>
                    <a:pt x="349" y="32"/>
                  </a:lnTo>
                  <a:lnTo>
                    <a:pt x="335" y="32"/>
                  </a:lnTo>
                  <a:lnTo>
                    <a:pt x="320" y="32"/>
                  </a:lnTo>
                  <a:lnTo>
                    <a:pt x="302" y="32"/>
                  </a:lnTo>
                  <a:lnTo>
                    <a:pt x="282" y="24"/>
                  </a:lnTo>
                  <a:lnTo>
                    <a:pt x="262" y="24"/>
                  </a:lnTo>
                  <a:lnTo>
                    <a:pt x="248" y="24"/>
                  </a:lnTo>
                  <a:lnTo>
                    <a:pt x="234" y="24"/>
                  </a:lnTo>
                  <a:lnTo>
                    <a:pt x="221" y="24"/>
                  </a:lnTo>
                  <a:lnTo>
                    <a:pt x="202" y="24"/>
                  </a:lnTo>
                  <a:lnTo>
                    <a:pt x="188" y="24"/>
                  </a:lnTo>
                  <a:lnTo>
                    <a:pt x="174" y="24"/>
                  </a:lnTo>
                  <a:lnTo>
                    <a:pt x="161" y="24"/>
                  </a:lnTo>
                  <a:lnTo>
                    <a:pt x="147" y="24"/>
                  </a:lnTo>
                  <a:lnTo>
                    <a:pt x="134" y="24"/>
                  </a:lnTo>
                  <a:lnTo>
                    <a:pt x="120" y="24"/>
                  </a:lnTo>
                  <a:lnTo>
                    <a:pt x="106" y="24"/>
                  </a:lnTo>
                  <a:lnTo>
                    <a:pt x="94" y="24"/>
                  </a:lnTo>
                  <a:lnTo>
                    <a:pt x="80" y="32"/>
                  </a:lnTo>
                  <a:lnTo>
                    <a:pt x="67" y="32"/>
                  </a:lnTo>
                  <a:lnTo>
                    <a:pt x="54" y="32"/>
                  </a:lnTo>
                  <a:lnTo>
                    <a:pt x="39" y="39"/>
                  </a:lnTo>
                  <a:lnTo>
                    <a:pt x="26" y="39"/>
                  </a:lnTo>
                  <a:lnTo>
                    <a:pt x="13" y="39"/>
                  </a:lnTo>
                  <a:lnTo>
                    <a:pt x="0" y="49"/>
                  </a:lnTo>
                  <a:lnTo>
                    <a:pt x="7" y="64"/>
                  </a:lnTo>
                  <a:lnTo>
                    <a:pt x="20" y="64"/>
                  </a:lnTo>
                  <a:lnTo>
                    <a:pt x="34" y="72"/>
                  </a:lnTo>
                  <a:lnTo>
                    <a:pt x="46" y="72"/>
                  </a:lnTo>
                  <a:lnTo>
                    <a:pt x="60" y="72"/>
                  </a:lnTo>
                  <a:lnTo>
                    <a:pt x="73" y="72"/>
                  </a:lnTo>
                  <a:lnTo>
                    <a:pt x="87" y="72"/>
                  </a:lnTo>
                  <a:lnTo>
                    <a:pt x="100" y="72"/>
                  </a:lnTo>
                  <a:lnTo>
                    <a:pt x="114" y="72"/>
                  </a:lnTo>
                  <a:lnTo>
                    <a:pt x="134" y="72"/>
                  </a:lnTo>
                  <a:lnTo>
                    <a:pt x="147" y="72"/>
                  </a:lnTo>
                  <a:lnTo>
                    <a:pt x="161" y="72"/>
                  </a:lnTo>
                  <a:lnTo>
                    <a:pt x="181" y="72"/>
                  </a:lnTo>
                  <a:lnTo>
                    <a:pt x="194" y="72"/>
                  </a:lnTo>
                  <a:lnTo>
                    <a:pt x="214" y="72"/>
                  </a:lnTo>
                  <a:lnTo>
                    <a:pt x="228" y="72"/>
                  </a:lnTo>
                  <a:lnTo>
                    <a:pt x="248" y="72"/>
                  </a:lnTo>
                  <a:lnTo>
                    <a:pt x="262" y="72"/>
                  </a:lnTo>
                  <a:lnTo>
                    <a:pt x="275" y="72"/>
                  </a:lnTo>
                  <a:lnTo>
                    <a:pt x="288" y="72"/>
                  </a:lnTo>
                  <a:lnTo>
                    <a:pt x="302" y="72"/>
                  </a:lnTo>
                  <a:lnTo>
                    <a:pt x="315" y="72"/>
                  </a:lnTo>
                  <a:lnTo>
                    <a:pt x="328" y="72"/>
                  </a:lnTo>
                  <a:lnTo>
                    <a:pt x="341" y="72"/>
                  </a:lnTo>
                  <a:lnTo>
                    <a:pt x="356" y="72"/>
                  </a:lnTo>
                  <a:lnTo>
                    <a:pt x="369" y="72"/>
                  </a:lnTo>
                  <a:lnTo>
                    <a:pt x="382" y="72"/>
                  </a:lnTo>
                  <a:lnTo>
                    <a:pt x="402" y="72"/>
                  </a:lnTo>
                  <a:lnTo>
                    <a:pt x="416" y="72"/>
                  </a:lnTo>
                  <a:lnTo>
                    <a:pt x="429" y="72"/>
                  </a:lnTo>
                  <a:lnTo>
                    <a:pt x="443" y="72"/>
                  </a:lnTo>
                  <a:lnTo>
                    <a:pt x="463" y="72"/>
                  </a:lnTo>
                  <a:lnTo>
                    <a:pt x="476" y="64"/>
                  </a:lnTo>
                  <a:lnTo>
                    <a:pt x="496" y="64"/>
                  </a:lnTo>
                  <a:lnTo>
                    <a:pt x="516" y="64"/>
                  </a:lnTo>
                  <a:lnTo>
                    <a:pt x="529" y="58"/>
                  </a:lnTo>
                  <a:lnTo>
                    <a:pt x="549" y="58"/>
                  </a:lnTo>
                  <a:lnTo>
                    <a:pt x="570" y="58"/>
                  </a:lnTo>
                  <a:lnTo>
                    <a:pt x="583" y="58"/>
                  </a:lnTo>
                  <a:lnTo>
                    <a:pt x="597" y="58"/>
                  </a:lnTo>
                  <a:lnTo>
                    <a:pt x="611" y="58"/>
                  </a:lnTo>
                  <a:lnTo>
                    <a:pt x="623" y="58"/>
                  </a:lnTo>
                  <a:lnTo>
                    <a:pt x="638" y="58"/>
                  </a:lnTo>
                  <a:lnTo>
                    <a:pt x="651" y="58"/>
                  </a:lnTo>
                  <a:lnTo>
                    <a:pt x="664" y="58"/>
                  </a:lnTo>
                  <a:lnTo>
                    <a:pt x="677" y="58"/>
                  </a:lnTo>
                  <a:lnTo>
                    <a:pt x="691" y="64"/>
                  </a:lnTo>
                  <a:lnTo>
                    <a:pt x="703" y="64"/>
                  </a:lnTo>
                  <a:lnTo>
                    <a:pt x="724" y="72"/>
                  </a:lnTo>
                  <a:lnTo>
                    <a:pt x="737" y="72"/>
                  </a:lnTo>
                  <a:lnTo>
                    <a:pt x="751" y="81"/>
                  </a:lnTo>
                  <a:lnTo>
                    <a:pt x="765" y="81"/>
                  </a:lnTo>
                  <a:lnTo>
                    <a:pt x="777" y="89"/>
                  </a:lnTo>
                  <a:lnTo>
                    <a:pt x="792" y="89"/>
                  </a:lnTo>
                  <a:lnTo>
                    <a:pt x="805" y="97"/>
                  </a:lnTo>
                  <a:lnTo>
                    <a:pt x="818" y="97"/>
                  </a:lnTo>
                  <a:lnTo>
                    <a:pt x="831" y="97"/>
                  </a:lnTo>
                  <a:lnTo>
                    <a:pt x="846" y="89"/>
                  </a:lnTo>
                  <a:lnTo>
                    <a:pt x="859" y="89"/>
                  </a:lnTo>
                  <a:lnTo>
                    <a:pt x="871" y="81"/>
                  </a:lnTo>
                  <a:lnTo>
                    <a:pt x="886" y="72"/>
                  </a:lnTo>
                  <a:lnTo>
                    <a:pt x="899" y="64"/>
                  </a:lnTo>
                  <a:lnTo>
                    <a:pt x="912" y="58"/>
                  </a:lnTo>
                  <a:lnTo>
                    <a:pt x="926" y="49"/>
                  </a:lnTo>
                  <a:lnTo>
                    <a:pt x="940" y="49"/>
                  </a:lnTo>
                  <a:lnTo>
                    <a:pt x="952" y="49"/>
                  </a:lnTo>
                  <a:lnTo>
                    <a:pt x="940" y="39"/>
                  </a:lnTo>
                  <a:close/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86600" y="2674800"/>
              <a:ext cx="536400" cy="61920"/>
            </a:xfrm>
            <a:custGeom>
              <a:avLst/>
              <a:gdLst/>
              <a:ahLst/>
              <a:rect l="l" t="t" r="r" b="b"/>
              <a:pathLst>
                <a:path w="952" h="97">
                  <a:moveTo>
                    <a:pt x="940" y="39"/>
                  </a:moveTo>
                  <a:lnTo>
                    <a:pt x="926" y="49"/>
                  </a:lnTo>
                  <a:lnTo>
                    <a:pt x="905" y="49"/>
                  </a:lnTo>
                  <a:lnTo>
                    <a:pt x="892" y="49"/>
                  </a:lnTo>
                  <a:lnTo>
                    <a:pt x="865" y="49"/>
                  </a:lnTo>
                  <a:lnTo>
                    <a:pt x="846" y="49"/>
                  </a:lnTo>
                  <a:lnTo>
                    <a:pt x="826" y="49"/>
                  </a:lnTo>
                  <a:lnTo>
                    <a:pt x="805" y="49"/>
                  </a:lnTo>
                  <a:lnTo>
                    <a:pt x="785" y="39"/>
                  </a:lnTo>
                  <a:lnTo>
                    <a:pt x="758" y="39"/>
                  </a:lnTo>
                  <a:lnTo>
                    <a:pt x="737" y="39"/>
                  </a:lnTo>
                  <a:lnTo>
                    <a:pt x="717" y="32"/>
                  </a:lnTo>
                  <a:lnTo>
                    <a:pt x="698" y="32"/>
                  </a:lnTo>
                  <a:lnTo>
                    <a:pt x="683" y="32"/>
                  </a:lnTo>
                  <a:lnTo>
                    <a:pt x="664" y="32"/>
                  </a:lnTo>
                  <a:lnTo>
                    <a:pt x="651" y="32"/>
                  </a:lnTo>
                  <a:lnTo>
                    <a:pt x="631" y="24"/>
                  </a:lnTo>
                  <a:lnTo>
                    <a:pt x="617" y="24"/>
                  </a:lnTo>
                  <a:lnTo>
                    <a:pt x="604" y="24"/>
                  </a:lnTo>
                  <a:lnTo>
                    <a:pt x="590" y="24"/>
                  </a:lnTo>
                  <a:lnTo>
                    <a:pt x="577" y="24"/>
                  </a:lnTo>
                  <a:lnTo>
                    <a:pt x="529" y="24"/>
                  </a:lnTo>
                  <a:lnTo>
                    <a:pt x="516" y="17"/>
                  </a:lnTo>
                  <a:lnTo>
                    <a:pt x="496" y="17"/>
                  </a:lnTo>
                  <a:lnTo>
                    <a:pt x="476" y="17"/>
                  </a:lnTo>
                  <a:lnTo>
                    <a:pt x="455" y="17"/>
                  </a:lnTo>
                  <a:lnTo>
                    <a:pt x="443" y="17"/>
                  </a:lnTo>
                  <a:lnTo>
                    <a:pt x="429" y="8"/>
                  </a:lnTo>
                  <a:lnTo>
                    <a:pt x="416" y="8"/>
                  </a:lnTo>
                  <a:lnTo>
                    <a:pt x="402" y="8"/>
                  </a:lnTo>
                  <a:lnTo>
                    <a:pt x="390" y="8"/>
                  </a:lnTo>
                  <a:lnTo>
                    <a:pt x="375" y="8"/>
                  </a:lnTo>
                  <a:lnTo>
                    <a:pt x="361" y="8"/>
                  </a:lnTo>
                  <a:lnTo>
                    <a:pt x="349" y="8"/>
                  </a:lnTo>
                  <a:lnTo>
                    <a:pt x="335" y="0"/>
                  </a:lnTo>
                  <a:lnTo>
                    <a:pt x="320" y="0"/>
                  </a:lnTo>
                  <a:lnTo>
                    <a:pt x="308" y="0"/>
                  </a:lnTo>
                  <a:lnTo>
                    <a:pt x="296" y="0"/>
                  </a:lnTo>
                  <a:lnTo>
                    <a:pt x="282" y="0"/>
                  </a:lnTo>
                  <a:lnTo>
                    <a:pt x="268" y="0"/>
                  </a:lnTo>
                  <a:lnTo>
                    <a:pt x="255" y="0"/>
                  </a:lnTo>
                  <a:lnTo>
                    <a:pt x="241" y="0"/>
                  </a:lnTo>
                  <a:lnTo>
                    <a:pt x="248" y="17"/>
                  </a:lnTo>
                  <a:lnTo>
                    <a:pt x="262" y="17"/>
                  </a:lnTo>
                  <a:lnTo>
                    <a:pt x="275" y="24"/>
                  </a:lnTo>
                  <a:lnTo>
                    <a:pt x="288" y="24"/>
                  </a:lnTo>
                  <a:lnTo>
                    <a:pt x="308" y="32"/>
                  </a:lnTo>
                  <a:lnTo>
                    <a:pt x="320" y="32"/>
                  </a:lnTo>
                  <a:lnTo>
                    <a:pt x="335" y="32"/>
                  </a:lnTo>
                  <a:lnTo>
                    <a:pt x="349" y="32"/>
                  </a:lnTo>
                  <a:lnTo>
                    <a:pt x="361" y="32"/>
                  </a:lnTo>
                  <a:lnTo>
                    <a:pt x="382" y="32"/>
                  </a:lnTo>
                  <a:lnTo>
                    <a:pt x="402" y="32"/>
                  </a:lnTo>
                  <a:lnTo>
                    <a:pt x="416" y="32"/>
                  </a:lnTo>
                  <a:lnTo>
                    <a:pt x="443" y="32"/>
                  </a:lnTo>
                  <a:lnTo>
                    <a:pt x="463" y="32"/>
                  </a:lnTo>
                  <a:lnTo>
                    <a:pt x="484" y="32"/>
                  </a:lnTo>
                  <a:lnTo>
                    <a:pt x="496" y="32"/>
                  </a:lnTo>
                  <a:lnTo>
                    <a:pt x="510" y="32"/>
                  </a:lnTo>
                  <a:lnTo>
                    <a:pt x="529" y="32"/>
                  </a:lnTo>
                  <a:lnTo>
                    <a:pt x="549" y="32"/>
                  </a:lnTo>
                  <a:lnTo>
                    <a:pt x="563" y="32"/>
                  </a:lnTo>
                  <a:lnTo>
                    <a:pt x="577" y="32"/>
                  </a:lnTo>
                  <a:lnTo>
                    <a:pt x="590" y="32"/>
                  </a:lnTo>
                  <a:lnTo>
                    <a:pt x="604" y="32"/>
                  </a:lnTo>
                  <a:lnTo>
                    <a:pt x="617" y="32"/>
                  </a:lnTo>
                  <a:lnTo>
                    <a:pt x="631" y="32"/>
                  </a:lnTo>
                  <a:lnTo>
                    <a:pt x="643" y="32"/>
                  </a:lnTo>
                  <a:lnTo>
                    <a:pt x="657" y="32"/>
                  </a:lnTo>
                  <a:lnTo>
                    <a:pt x="671" y="32"/>
                  </a:lnTo>
                  <a:lnTo>
                    <a:pt x="664" y="49"/>
                  </a:lnTo>
                  <a:lnTo>
                    <a:pt x="651" y="49"/>
                  </a:lnTo>
                  <a:lnTo>
                    <a:pt x="638" y="49"/>
                  </a:lnTo>
                  <a:lnTo>
                    <a:pt x="623" y="58"/>
                  </a:lnTo>
                  <a:lnTo>
                    <a:pt x="611" y="58"/>
                  </a:lnTo>
                  <a:lnTo>
                    <a:pt x="590" y="58"/>
                  </a:lnTo>
                  <a:lnTo>
                    <a:pt x="570" y="49"/>
                  </a:lnTo>
                  <a:lnTo>
                    <a:pt x="549" y="49"/>
                  </a:lnTo>
                  <a:lnTo>
                    <a:pt x="523" y="49"/>
                  </a:lnTo>
                  <a:lnTo>
                    <a:pt x="503" y="39"/>
                  </a:lnTo>
                  <a:lnTo>
                    <a:pt x="476" y="39"/>
                  </a:lnTo>
                  <a:lnTo>
                    <a:pt x="455" y="39"/>
                  </a:lnTo>
                  <a:lnTo>
                    <a:pt x="435" y="32"/>
                  </a:lnTo>
                  <a:lnTo>
                    <a:pt x="416" y="32"/>
                  </a:lnTo>
                  <a:lnTo>
                    <a:pt x="395" y="32"/>
                  </a:lnTo>
                  <a:lnTo>
                    <a:pt x="382" y="32"/>
                  </a:lnTo>
                  <a:lnTo>
                    <a:pt x="361" y="32"/>
                  </a:lnTo>
                  <a:lnTo>
                    <a:pt x="349" y="32"/>
                  </a:lnTo>
                  <a:lnTo>
                    <a:pt x="335" y="32"/>
                  </a:lnTo>
                  <a:lnTo>
                    <a:pt x="320" y="32"/>
                  </a:lnTo>
                  <a:lnTo>
                    <a:pt x="302" y="32"/>
                  </a:lnTo>
                  <a:lnTo>
                    <a:pt x="282" y="24"/>
                  </a:lnTo>
                  <a:lnTo>
                    <a:pt x="262" y="24"/>
                  </a:lnTo>
                  <a:lnTo>
                    <a:pt x="248" y="24"/>
                  </a:lnTo>
                  <a:lnTo>
                    <a:pt x="234" y="24"/>
                  </a:lnTo>
                  <a:lnTo>
                    <a:pt x="221" y="24"/>
                  </a:lnTo>
                  <a:lnTo>
                    <a:pt x="202" y="24"/>
                  </a:lnTo>
                  <a:lnTo>
                    <a:pt x="188" y="24"/>
                  </a:lnTo>
                  <a:lnTo>
                    <a:pt x="174" y="24"/>
                  </a:lnTo>
                  <a:lnTo>
                    <a:pt x="161" y="24"/>
                  </a:lnTo>
                  <a:lnTo>
                    <a:pt x="147" y="24"/>
                  </a:lnTo>
                  <a:lnTo>
                    <a:pt x="134" y="24"/>
                  </a:lnTo>
                  <a:lnTo>
                    <a:pt x="120" y="24"/>
                  </a:lnTo>
                  <a:lnTo>
                    <a:pt x="106" y="24"/>
                  </a:lnTo>
                  <a:lnTo>
                    <a:pt x="94" y="24"/>
                  </a:lnTo>
                  <a:lnTo>
                    <a:pt x="80" y="32"/>
                  </a:lnTo>
                  <a:lnTo>
                    <a:pt x="67" y="32"/>
                  </a:lnTo>
                  <a:lnTo>
                    <a:pt x="54" y="32"/>
                  </a:lnTo>
                  <a:lnTo>
                    <a:pt x="39" y="39"/>
                  </a:lnTo>
                  <a:lnTo>
                    <a:pt x="26" y="39"/>
                  </a:lnTo>
                  <a:lnTo>
                    <a:pt x="13" y="39"/>
                  </a:lnTo>
                  <a:lnTo>
                    <a:pt x="0" y="49"/>
                  </a:lnTo>
                  <a:lnTo>
                    <a:pt x="7" y="64"/>
                  </a:lnTo>
                  <a:lnTo>
                    <a:pt x="20" y="64"/>
                  </a:lnTo>
                  <a:lnTo>
                    <a:pt x="34" y="72"/>
                  </a:lnTo>
                  <a:lnTo>
                    <a:pt x="46" y="72"/>
                  </a:lnTo>
                  <a:lnTo>
                    <a:pt x="60" y="72"/>
                  </a:lnTo>
                  <a:lnTo>
                    <a:pt x="73" y="72"/>
                  </a:lnTo>
                  <a:lnTo>
                    <a:pt x="87" y="72"/>
                  </a:lnTo>
                  <a:lnTo>
                    <a:pt x="100" y="72"/>
                  </a:lnTo>
                  <a:lnTo>
                    <a:pt x="114" y="72"/>
                  </a:lnTo>
                  <a:lnTo>
                    <a:pt x="134" y="72"/>
                  </a:lnTo>
                  <a:lnTo>
                    <a:pt x="147" y="72"/>
                  </a:lnTo>
                  <a:lnTo>
                    <a:pt x="161" y="72"/>
                  </a:lnTo>
                  <a:lnTo>
                    <a:pt x="181" y="72"/>
                  </a:lnTo>
                  <a:lnTo>
                    <a:pt x="194" y="72"/>
                  </a:lnTo>
                  <a:lnTo>
                    <a:pt x="214" y="72"/>
                  </a:lnTo>
                  <a:lnTo>
                    <a:pt x="228" y="72"/>
                  </a:lnTo>
                  <a:lnTo>
                    <a:pt x="248" y="72"/>
                  </a:lnTo>
                  <a:lnTo>
                    <a:pt x="262" y="72"/>
                  </a:lnTo>
                  <a:lnTo>
                    <a:pt x="275" y="72"/>
                  </a:lnTo>
                  <a:lnTo>
                    <a:pt x="288" y="72"/>
                  </a:lnTo>
                  <a:lnTo>
                    <a:pt x="302" y="72"/>
                  </a:lnTo>
                  <a:lnTo>
                    <a:pt x="315" y="72"/>
                  </a:lnTo>
                  <a:lnTo>
                    <a:pt x="328" y="72"/>
                  </a:lnTo>
                  <a:lnTo>
                    <a:pt x="341" y="72"/>
                  </a:lnTo>
                  <a:lnTo>
                    <a:pt x="356" y="72"/>
                  </a:lnTo>
                  <a:lnTo>
                    <a:pt x="369" y="72"/>
                  </a:lnTo>
                  <a:lnTo>
                    <a:pt x="382" y="72"/>
                  </a:lnTo>
                  <a:lnTo>
                    <a:pt x="402" y="72"/>
                  </a:lnTo>
                  <a:lnTo>
                    <a:pt x="416" y="72"/>
                  </a:lnTo>
                  <a:lnTo>
                    <a:pt x="429" y="72"/>
                  </a:lnTo>
                  <a:lnTo>
                    <a:pt x="443" y="72"/>
                  </a:lnTo>
                  <a:lnTo>
                    <a:pt x="463" y="72"/>
                  </a:lnTo>
                  <a:lnTo>
                    <a:pt x="476" y="64"/>
                  </a:lnTo>
                  <a:lnTo>
                    <a:pt x="496" y="64"/>
                  </a:lnTo>
                  <a:lnTo>
                    <a:pt x="516" y="64"/>
                  </a:lnTo>
                  <a:lnTo>
                    <a:pt x="529" y="58"/>
                  </a:lnTo>
                  <a:lnTo>
                    <a:pt x="549" y="58"/>
                  </a:lnTo>
                  <a:lnTo>
                    <a:pt x="570" y="58"/>
                  </a:lnTo>
                  <a:lnTo>
                    <a:pt x="583" y="58"/>
                  </a:lnTo>
                  <a:lnTo>
                    <a:pt x="597" y="58"/>
                  </a:lnTo>
                  <a:lnTo>
                    <a:pt x="611" y="58"/>
                  </a:lnTo>
                  <a:lnTo>
                    <a:pt x="623" y="58"/>
                  </a:lnTo>
                  <a:lnTo>
                    <a:pt x="638" y="58"/>
                  </a:lnTo>
                  <a:lnTo>
                    <a:pt x="651" y="58"/>
                  </a:lnTo>
                  <a:lnTo>
                    <a:pt x="664" y="58"/>
                  </a:lnTo>
                  <a:lnTo>
                    <a:pt x="677" y="58"/>
                  </a:lnTo>
                  <a:lnTo>
                    <a:pt x="691" y="64"/>
                  </a:lnTo>
                  <a:lnTo>
                    <a:pt x="703" y="64"/>
                  </a:lnTo>
                  <a:lnTo>
                    <a:pt x="724" y="72"/>
                  </a:lnTo>
                  <a:lnTo>
                    <a:pt x="737" y="72"/>
                  </a:lnTo>
                  <a:lnTo>
                    <a:pt x="751" y="81"/>
                  </a:lnTo>
                  <a:lnTo>
                    <a:pt x="765" y="81"/>
                  </a:lnTo>
                  <a:lnTo>
                    <a:pt x="777" y="89"/>
                  </a:lnTo>
                  <a:lnTo>
                    <a:pt x="792" y="89"/>
                  </a:lnTo>
                  <a:lnTo>
                    <a:pt x="805" y="97"/>
                  </a:lnTo>
                  <a:lnTo>
                    <a:pt x="818" y="97"/>
                  </a:lnTo>
                  <a:lnTo>
                    <a:pt x="831" y="97"/>
                  </a:lnTo>
                  <a:lnTo>
                    <a:pt x="846" y="89"/>
                  </a:lnTo>
                  <a:lnTo>
                    <a:pt x="859" y="89"/>
                  </a:lnTo>
                  <a:lnTo>
                    <a:pt x="871" y="81"/>
                  </a:lnTo>
                  <a:lnTo>
                    <a:pt x="886" y="72"/>
                  </a:lnTo>
                  <a:lnTo>
                    <a:pt x="899" y="64"/>
                  </a:lnTo>
                  <a:lnTo>
                    <a:pt x="912" y="58"/>
                  </a:lnTo>
                  <a:lnTo>
                    <a:pt x="926" y="49"/>
                  </a:lnTo>
                  <a:lnTo>
                    <a:pt x="940" y="49"/>
                  </a:lnTo>
                  <a:lnTo>
                    <a:pt x="952" y="49"/>
                  </a:lnTo>
                  <a:lnTo>
                    <a:pt x="940" y="39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242120" y="2749320"/>
              <a:ext cx="114840" cy="9360"/>
            </a:xfrm>
            <a:custGeom>
              <a:avLst/>
              <a:gdLst/>
              <a:ahLst/>
              <a:rect l="l" t="t" r="r" b="b"/>
              <a:pathLst>
                <a:path w="209" h="16">
                  <a:moveTo>
                    <a:pt x="0" y="16"/>
                  </a:moveTo>
                  <a:lnTo>
                    <a:pt x="13" y="8"/>
                  </a:lnTo>
                  <a:lnTo>
                    <a:pt x="27" y="8"/>
                  </a:lnTo>
                  <a:lnTo>
                    <a:pt x="40" y="8"/>
                  </a:lnTo>
                  <a:lnTo>
                    <a:pt x="53" y="8"/>
                  </a:lnTo>
                  <a:lnTo>
                    <a:pt x="67" y="8"/>
                  </a:lnTo>
                  <a:lnTo>
                    <a:pt x="81" y="8"/>
                  </a:lnTo>
                  <a:lnTo>
                    <a:pt x="94" y="0"/>
                  </a:lnTo>
                  <a:lnTo>
                    <a:pt x="108" y="0"/>
                  </a:lnTo>
                  <a:lnTo>
                    <a:pt x="154" y="16"/>
                  </a:lnTo>
                  <a:lnTo>
                    <a:pt x="168" y="16"/>
                  </a:lnTo>
                  <a:lnTo>
                    <a:pt x="181" y="16"/>
                  </a:lnTo>
                  <a:lnTo>
                    <a:pt x="195" y="16"/>
                  </a:lnTo>
                  <a:lnTo>
                    <a:pt x="209" y="16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979320" y="2726280"/>
              <a:ext cx="126720" cy="48960"/>
            </a:xfrm>
            <a:custGeom>
              <a:avLst/>
              <a:gdLst/>
              <a:ahLst/>
              <a:rect l="l" t="t" r="r" b="b"/>
              <a:pathLst>
                <a:path w="228" h="73">
                  <a:moveTo>
                    <a:pt x="228" y="9"/>
                  </a:moveTo>
                  <a:lnTo>
                    <a:pt x="215" y="9"/>
                  </a:lnTo>
                  <a:lnTo>
                    <a:pt x="201" y="0"/>
                  </a:lnTo>
                  <a:lnTo>
                    <a:pt x="189" y="0"/>
                  </a:lnTo>
                  <a:lnTo>
                    <a:pt x="175" y="0"/>
                  </a:lnTo>
                  <a:lnTo>
                    <a:pt x="162" y="0"/>
                  </a:lnTo>
                  <a:lnTo>
                    <a:pt x="148" y="9"/>
                  </a:lnTo>
                  <a:lnTo>
                    <a:pt x="134" y="16"/>
                  </a:lnTo>
                  <a:lnTo>
                    <a:pt x="121" y="24"/>
                  </a:lnTo>
                  <a:lnTo>
                    <a:pt x="107" y="24"/>
                  </a:lnTo>
                  <a:lnTo>
                    <a:pt x="94" y="24"/>
                  </a:lnTo>
                  <a:lnTo>
                    <a:pt x="81" y="41"/>
                  </a:lnTo>
                  <a:lnTo>
                    <a:pt x="66" y="41"/>
                  </a:lnTo>
                  <a:lnTo>
                    <a:pt x="54" y="50"/>
                  </a:lnTo>
                  <a:lnTo>
                    <a:pt x="40" y="57"/>
                  </a:lnTo>
                  <a:lnTo>
                    <a:pt x="27" y="57"/>
                  </a:lnTo>
                  <a:lnTo>
                    <a:pt x="13" y="57"/>
                  </a:lnTo>
                  <a:lnTo>
                    <a:pt x="0" y="73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10280" y="2943720"/>
              <a:ext cx="160920" cy="764640"/>
            </a:xfrm>
            <a:custGeom>
              <a:avLst/>
              <a:gdLst/>
              <a:ahLst/>
              <a:rect l="l" t="t" r="r" b="b"/>
              <a:pathLst>
                <a:path w="286" h="1177">
                  <a:moveTo>
                    <a:pt x="262" y="5"/>
                  </a:moveTo>
                  <a:lnTo>
                    <a:pt x="250" y="0"/>
                  </a:lnTo>
                  <a:lnTo>
                    <a:pt x="238" y="5"/>
                  </a:lnTo>
                  <a:lnTo>
                    <a:pt x="225" y="12"/>
                  </a:lnTo>
                  <a:lnTo>
                    <a:pt x="214" y="23"/>
                  </a:lnTo>
                  <a:lnTo>
                    <a:pt x="202" y="29"/>
                  </a:lnTo>
                  <a:lnTo>
                    <a:pt x="197" y="40"/>
                  </a:lnTo>
                  <a:lnTo>
                    <a:pt x="190" y="52"/>
                  </a:lnTo>
                  <a:lnTo>
                    <a:pt x="185" y="64"/>
                  </a:lnTo>
                  <a:lnTo>
                    <a:pt x="179" y="75"/>
                  </a:lnTo>
                  <a:lnTo>
                    <a:pt x="172" y="88"/>
                  </a:lnTo>
                  <a:lnTo>
                    <a:pt x="161" y="99"/>
                  </a:lnTo>
                  <a:lnTo>
                    <a:pt x="154" y="111"/>
                  </a:lnTo>
                  <a:lnTo>
                    <a:pt x="150" y="123"/>
                  </a:lnTo>
                  <a:lnTo>
                    <a:pt x="143" y="134"/>
                  </a:lnTo>
                  <a:lnTo>
                    <a:pt x="137" y="146"/>
                  </a:lnTo>
                  <a:lnTo>
                    <a:pt x="137" y="158"/>
                  </a:lnTo>
                  <a:lnTo>
                    <a:pt x="131" y="169"/>
                  </a:lnTo>
                  <a:lnTo>
                    <a:pt x="131" y="181"/>
                  </a:lnTo>
                  <a:lnTo>
                    <a:pt x="126" y="192"/>
                  </a:lnTo>
                  <a:lnTo>
                    <a:pt x="126" y="205"/>
                  </a:lnTo>
                  <a:lnTo>
                    <a:pt x="118" y="216"/>
                  </a:lnTo>
                  <a:lnTo>
                    <a:pt x="118" y="228"/>
                  </a:lnTo>
                  <a:lnTo>
                    <a:pt x="113" y="240"/>
                  </a:lnTo>
                  <a:lnTo>
                    <a:pt x="113" y="251"/>
                  </a:lnTo>
                  <a:lnTo>
                    <a:pt x="113" y="262"/>
                  </a:lnTo>
                  <a:lnTo>
                    <a:pt x="107" y="275"/>
                  </a:lnTo>
                  <a:lnTo>
                    <a:pt x="107" y="286"/>
                  </a:lnTo>
                  <a:lnTo>
                    <a:pt x="101" y="299"/>
                  </a:lnTo>
                  <a:lnTo>
                    <a:pt x="101" y="310"/>
                  </a:lnTo>
                  <a:lnTo>
                    <a:pt x="96" y="321"/>
                  </a:lnTo>
                  <a:lnTo>
                    <a:pt x="96" y="334"/>
                  </a:lnTo>
                  <a:lnTo>
                    <a:pt x="90" y="344"/>
                  </a:lnTo>
                  <a:lnTo>
                    <a:pt x="90" y="356"/>
                  </a:lnTo>
                  <a:lnTo>
                    <a:pt x="83" y="369"/>
                  </a:lnTo>
                  <a:lnTo>
                    <a:pt x="83" y="380"/>
                  </a:lnTo>
                  <a:lnTo>
                    <a:pt x="83" y="393"/>
                  </a:lnTo>
                  <a:lnTo>
                    <a:pt x="77" y="404"/>
                  </a:lnTo>
                  <a:lnTo>
                    <a:pt x="77" y="415"/>
                  </a:lnTo>
                  <a:lnTo>
                    <a:pt x="77" y="427"/>
                  </a:lnTo>
                  <a:lnTo>
                    <a:pt x="77" y="438"/>
                  </a:lnTo>
                  <a:lnTo>
                    <a:pt x="77" y="450"/>
                  </a:lnTo>
                  <a:lnTo>
                    <a:pt x="71" y="462"/>
                  </a:lnTo>
                  <a:lnTo>
                    <a:pt x="71" y="473"/>
                  </a:lnTo>
                  <a:lnTo>
                    <a:pt x="71" y="486"/>
                  </a:lnTo>
                  <a:lnTo>
                    <a:pt x="66" y="497"/>
                  </a:lnTo>
                  <a:lnTo>
                    <a:pt x="66" y="508"/>
                  </a:lnTo>
                  <a:lnTo>
                    <a:pt x="60" y="521"/>
                  </a:lnTo>
                  <a:lnTo>
                    <a:pt x="60" y="532"/>
                  </a:lnTo>
                  <a:lnTo>
                    <a:pt x="54" y="544"/>
                  </a:lnTo>
                  <a:lnTo>
                    <a:pt x="54" y="556"/>
                  </a:lnTo>
                  <a:lnTo>
                    <a:pt x="48" y="567"/>
                  </a:lnTo>
                  <a:lnTo>
                    <a:pt x="48" y="578"/>
                  </a:lnTo>
                  <a:lnTo>
                    <a:pt x="48" y="591"/>
                  </a:lnTo>
                  <a:lnTo>
                    <a:pt x="48" y="602"/>
                  </a:lnTo>
                  <a:lnTo>
                    <a:pt x="48" y="614"/>
                  </a:lnTo>
                  <a:lnTo>
                    <a:pt x="42" y="625"/>
                  </a:lnTo>
                  <a:lnTo>
                    <a:pt x="42" y="637"/>
                  </a:lnTo>
                  <a:lnTo>
                    <a:pt x="35" y="649"/>
                  </a:lnTo>
                  <a:lnTo>
                    <a:pt x="35" y="661"/>
                  </a:lnTo>
                  <a:lnTo>
                    <a:pt x="35" y="672"/>
                  </a:lnTo>
                  <a:lnTo>
                    <a:pt x="35" y="684"/>
                  </a:lnTo>
                  <a:lnTo>
                    <a:pt x="35" y="696"/>
                  </a:lnTo>
                  <a:lnTo>
                    <a:pt x="35" y="708"/>
                  </a:lnTo>
                  <a:lnTo>
                    <a:pt x="35" y="719"/>
                  </a:lnTo>
                  <a:lnTo>
                    <a:pt x="35" y="731"/>
                  </a:lnTo>
                  <a:lnTo>
                    <a:pt x="29" y="743"/>
                  </a:lnTo>
                  <a:lnTo>
                    <a:pt x="29" y="754"/>
                  </a:lnTo>
                  <a:lnTo>
                    <a:pt x="29" y="766"/>
                  </a:lnTo>
                  <a:lnTo>
                    <a:pt x="25" y="778"/>
                  </a:lnTo>
                  <a:lnTo>
                    <a:pt x="25" y="789"/>
                  </a:lnTo>
                  <a:lnTo>
                    <a:pt x="18" y="800"/>
                  </a:lnTo>
                  <a:lnTo>
                    <a:pt x="18" y="813"/>
                  </a:lnTo>
                  <a:lnTo>
                    <a:pt x="18" y="825"/>
                  </a:lnTo>
                  <a:lnTo>
                    <a:pt x="18" y="836"/>
                  </a:lnTo>
                  <a:lnTo>
                    <a:pt x="18" y="848"/>
                  </a:lnTo>
                  <a:lnTo>
                    <a:pt x="12" y="859"/>
                  </a:lnTo>
                  <a:lnTo>
                    <a:pt x="12" y="872"/>
                  </a:lnTo>
                  <a:lnTo>
                    <a:pt x="12" y="883"/>
                  </a:lnTo>
                  <a:lnTo>
                    <a:pt x="12" y="911"/>
                  </a:lnTo>
                  <a:lnTo>
                    <a:pt x="12" y="924"/>
                  </a:lnTo>
                  <a:lnTo>
                    <a:pt x="12" y="935"/>
                  </a:lnTo>
                  <a:lnTo>
                    <a:pt x="12" y="948"/>
                  </a:lnTo>
                  <a:lnTo>
                    <a:pt x="12" y="960"/>
                  </a:lnTo>
                  <a:lnTo>
                    <a:pt x="12" y="970"/>
                  </a:lnTo>
                  <a:lnTo>
                    <a:pt x="12" y="983"/>
                  </a:lnTo>
                  <a:lnTo>
                    <a:pt x="12" y="994"/>
                  </a:lnTo>
                  <a:lnTo>
                    <a:pt x="6" y="1006"/>
                  </a:lnTo>
                  <a:lnTo>
                    <a:pt x="6" y="1018"/>
                  </a:lnTo>
                  <a:lnTo>
                    <a:pt x="6" y="1029"/>
                  </a:lnTo>
                  <a:lnTo>
                    <a:pt x="6" y="1042"/>
                  </a:lnTo>
                  <a:lnTo>
                    <a:pt x="6" y="1052"/>
                  </a:lnTo>
                  <a:lnTo>
                    <a:pt x="6" y="1064"/>
                  </a:lnTo>
                  <a:lnTo>
                    <a:pt x="6" y="1076"/>
                  </a:lnTo>
                  <a:lnTo>
                    <a:pt x="0" y="1087"/>
                  </a:lnTo>
                  <a:lnTo>
                    <a:pt x="0" y="1100"/>
                  </a:lnTo>
                  <a:lnTo>
                    <a:pt x="0" y="1111"/>
                  </a:lnTo>
                  <a:lnTo>
                    <a:pt x="0" y="1123"/>
                  </a:lnTo>
                  <a:lnTo>
                    <a:pt x="0" y="1135"/>
                  </a:lnTo>
                  <a:lnTo>
                    <a:pt x="0" y="1146"/>
                  </a:lnTo>
                  <a:lnTo>
                    <a:pt x="0" y="1158"/>
                  </a:lnTo>
                  <a:lnTo>
                    <a:pt x="0" y="1170"/>
                  </a:lnTo>
                  <a:lnTo>
                    <a:pt x="12" y="1177"/>
                  </a:lnTo>
                  <a:lnTo>
                    <a:pt x="25" y="1177"/>
                  </a:lnTo>
                  <a:lnTo>
                    <a:pt x="35" y="1164"/>
                  </a:lnTo>
                  <a:lnTo>
                    <a:pt x="48" y="1152"/>
                  </a:lnTo>
                  <a:lnTo>
                    <a:pt x="60" y="1140"/>
                  </a:lnTo>
                  <a:lnTo>
                    <a:pt x="71" y="1135"/>
                  </a:lnTo>
                  <a:lnTo>
                    <a:pt x="83" y="1129"/>
                  </a:lnTo>
                  <a:lnTo>
                    <a:pt x="83" y="1118"/>
                  </a:lnTo>
                  <a:lnTo>
                    <a:pt x="83" y="1105"/>
                  </a:lnTo>
                  <a:lnTo>
                    <a:pt x="83" y="1087"/>
                  </a:lnTo>
                  <a:lnTo>
                    <a:pt x="83" y="1076"/>
                  </a:lnTo>
                  <a:lnTo>
                    <a:pt x="83" y="1064"/>
                  </a:lnTo>
                  <a:lnTo>
                    <a:pt x="83" y="1052"/>
                  </a:lnTo>
                  <a:lnTo>
                    <a:pt x="90" y="1042"/>
                  </a:lnTo>
                  <a:lnTo>
                    <a:pt x="90" y="1029"/>
                  </a:lnTo>
                  <a:lnTo>
                    <a:pt x="90" y="1018"/>
                  </a:lnTo>
                  <a:lnTo>
                    <a:pt x="96" y="1006"/>
                  </a:lnTo>
                  <a:lnTo>
                    <a:pt x="96" y="994"/>
                  </a:lnTo>
                  <a:lnTo>
                    <a:pt x="96" y="983"/>
                  </a:lnTo>
                  <a:lnTo>
                    <a:pt x="96" y="970"/>
                  </a:lnTo>
                  <a:lnTo>
                    <a:pt x="96" y="960"/>
                  </a:lnTo>
                  <a:lnTo>
                    <a:pt x="96" y="948"/>
                  </a:lnTo>
                  <a:lnTo>
                    <a:pt x="96" y="935"/>
                  </a:lnTo>
                  <a:lnTo>
                    <a:pt x="101" y="924"/>
                  </a:lnTo>
                  <a:lnTo>
                    <a:pt x="101" y="911"/>
                  </a:lnTo>
                  <a:lnTo>
                    <a:pt x="101" y="900"/>
                  </a:lnTo>
                  <a:lnTo>
                    <a:pt x="101" y="889"/>
                  </a:lnTo>
                  <a:lnTo>
                    <a:pt x="107" y="876"/>
                  </a:lnTo>
                  <a:lnTo>
                    <a:pt x="107" y="866"/>
                  </a:lnTo>
                  <a:lnTo>
                    <a:pt x="107" y="854"/>
                  </a:lnTo>
                  <a:lnTo>
                    <a:pt x="113" y="842"/>
                  </a:lnTo>
                  <a:lnTo>
                    <a:pt x="113" y="831"/>
                  </a:lnTo>
                  <a:lnTo>
                    <a:pt x="113" y="819"/>
                  </a:lnTo>
                  <a:lnTo>
                    <a:pt x="118" y="807"/>
                  </a:lnTo>
                  <a:lnTo>
                    <a:pt x="118" y="795"/>
                  </a:lnTo>
                  <a:lnTo>
                    <a:pt x="126" y="783"/>
                  </a:lnTo>
                  <a:lnTo>
                    <a:pt x="126" y="772"/>
                  </a:lnTo>
                  <a:lnTo>
                    <a:pt x="126" y="760"/>
                  </a:lnTo>
                  <a:lnTo>
                    <a:pt x="131" y="748"/>
                  </a:lnTo>
                  <a:lnTo>
                    <a:pt x="137" y="737"/>
                  </a:lnTo>
                  <a:lnTo>
                    <a:pt x="137" y="725"/>
                  </a:lnTo>
                  <a:lnTo>
                    <a:pt x="137" y="713"/>
                  </a:lnTo>
                  <a:lnTo>
                    <a:pt x="137" y="702"/>
                  </a:lnTo>
                  <a:lnTo>
                    <a:pt x="137" y="691"/>
                  </a:lnTo>
                  <a:lnTo>
                    <a:pt x="137" y="679"/>
                  </a:lnTo>
                  <a:lnTo>
                    <a:pt x="137" y="667"/>
                  </a:lnTo>
                  <a:lnTo>
                    <a:pt x="143" y="654"/>
                  </a:lnTo>
                  <a:lnTo>
                    <a:pt x="143" y="643"/>
                  </a:lnTo>
                  <a:lnTo>
                    <a:pt x="150" y="632"/>
                  </a:lnTo>
                  <a:lnTo>
                    <a:pt x="154" y="620"/>
                  </a:lnTo>
                  <a:lnTo>
                    <a:pt x="161" y="608"/>
                  </a:lnTo>
                  <a:lnTo>
                    <a:pt x="167" y="597"/>
                  </a:lnTo>
                  <a:lnTo>
                    <a:pt x="172" y="585"/>
                  </a:lnTo>
                  <a:lnTo>
                    <a:pt x="179" y="573"/>
                  </a:lnTo>
                  <a:lnTo>
                    <a:pt x="179" y="561"/>
                  </a:lnTo>
                  <a:lnTo>
                    <a:pt x="185" y="550"/>
                  </a:lnTo>
                  <a:lnTo>
                    <a:pt x="190" y="538"/>
                  </a:lnTo>
                  <a:lnTo>
                    <a:pt x="190" y="526"/>
                  </a:lnTo>
                  <a:lnTo>
                    <a:pt x="197" y="515"/>
                  </a:lnTo>
                  <a:lnTo>
                    <a:pt x="197" y="503"/>
                  </a:lnTo>
                  <a:lnTo>
                    <a:pt x="197" y="491"/>
                  </a:lnTo>
                  <a:lnTo>
                    <a:pt x="202" y="479"/>
                  </a:lnTo>
                  <a:lnTo>
                    <a:pt x="208" y="467"/>
                  </a:lnTo>
                  <a:lnTo>
                    <a:pt x="208" y="456"/>
                  </a:lnTo>
                  <a:lnTo>
                    <a:pt x="214" y="445"/>
                  </a:lnTo>
                  <a:lnTo>
                    <a:pt x="221" y="432"/>
                  </a:lnTo>
                  <a:lnTo>
                    <a:pt x="221" y="421"/>
                  </a:lnTo>
                  <a:lnTo>
                    <a:pt x="221" y="410"/>
                  </a:lnTo>
                  <a:lnTo>
                    <a:pt x="225" y="397"/>
                  </a:lnTo>
                  <a:lnTo>
                    <a:pt x="232" y="386"/>
                  </a:lnTo>
                  <a:lnTo>
                    <a:pt x="232" y="375"/>
                  </a:lnTo>
                  <a:lnTo>
                    <a:pt x="238" y="362"/>
                  </a:lnTo>
                  <a:lnTo>
                    <a:pt x="238" y="351"/>
                  </a:lnTo>
                  <a:lnTo>
                    <a:pt x="238" y="338"/>
                  </a:lnTo>
                  <a:lnTo>
                    <a:pt x="238" y="327"/>
                  </a:lnTo>
                  <a:lnTo>
                    <a:pt x="238" y="316"/>
                  </a:lnTo>
                  <a:lnTo>
                    <a:pt x="238" y="303"/>
                  </a:lnTo>
                  <a:lnTo>
                    <a:pt x="238" y="292"/>
                  </a:lnTo>
                  <a:lnTo>
                    <a:pt x="244" y="281"/>
                  </a:lnTo>
                  <a:lnTo>
                    <a:pt x="250" y="269"/>
                  </a:lnTo>
                  <a:lnTo>
                    <a:pt x="250" y="258"/>
                  </a:lnTo>
                  <a:lnTo>
                    <a:pt x="255" y="245"/>
                  </a:lnTo>
                  <a:lnTo>
                    <a:pt x="262" y="234"/>
                  </a:lnTo>
                  <a:lnTo>
                    <a:pt x="269" y="222"/>
                  </a:lnTo>
                  <a:lnTo>
                    <a:pt x="274" y="210"/>
                  </a:lnTo>
                  <a:lnTo>
                    <a:pt x="274" y="199"/>
                  </a:lnTo>
                  <a:lnTo>
                    <a:pt x="280" y="186"/>
                  </a:lnTo>
                  <a:lnTo>
                    <a:pt x="286" y="175"/>
                  </a:lnTo>
                  <a:lnTo>
                    <a:pt x="286" y="164"/>
                  </a:lnTo>
                  <a:lnTo>
                    <a:pt x="280" y="151"/>
                  </a:lnTo>
                  <a:lnTo>
                    <a:pt x="274" y="140"/>
                  </a:lnTo>
                  <a:lnTo>
                    <a:pt x="269" y="129"/>
                  </a:lnTo>
                  <a:lnTo>
                    <a:pt x="255" y="117"/>
                  </a:lnTo>
                  <a:lnTo>
                    <a:pt x="250" y="106"/>
                  </a:lnTo>
                  <a:lnTo>
                    <a:pt x="238" y="94"/>
                  </a:lnTo>
                  <a:lnTo>
                    <a:pt x="238" y="82"/>
                  </a:lnTo>
                  <a:lnTo>
                    <a:pt x="238" y="70"/>
                  </a:lnTo>
                  <a:lnTo>
                    <a:pt x="238" y="57"/>
                  </a:lnTo>
                  <a:lnTo>
                    <a:pt x="238" y="47"/>
                  </a:lnTo>
                  <a:lnTo>
                    <a:pt x="244" y="35"/>
                  </a:lnTo>
                  <a:lnTo>
                    <a:pt x="244" y="23"/>
                  </a:lnTo>
                  <a:lnTo>
                    <a:pt x="250" y="12"/>
                  </a:lnTo>
                  <a:lnTo>
                    <a:pt x="262" y="5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858000" y="2752560"/>
              <a:ext cx="674280" cy="949680"/>
            </a:xfrm>
            <a:custGeom>
              <a:avLst/>
              <a:gdLst/>
              <a:ahLst/>
              <a:rect l="l" t="t" r="r" b="b"/>
              <a:pathLst>
                <a:path w="1196" h="1462">
                  <a:moveTo>
                    <a:pt x="0" y="0"/>
                  </a:moveTo>
                  <a:lnTo>
                    <a:pt x="13" y="0"/>
                  </a:lnTo>
                  <a:lnTo>
                    <a:pt x="27" y="0"/>
                  </a:lnTo>
                  <a:lnTo>
                    <a:pt x="40" y="8"/>
                  </a:lnTo>
                  <a:lnTo>
                    <a:pt x="55" y="16"/>
                  </a:lnTo>
                  <a:lnTo>
                    <a:pt x="61" y="16"/>
                  </a:lnTo>
                  <a:lnTo>
                    <a:pt x="74" y="16"/>
                  </a:lnTo>
                  <a:lnTo>
                    <a:pt x="88" y="16"/>
                  </a:lnTo>
                  <a:lnTo>
                    <a:pt x="100" y="16"/>
                  </a:lnTo>
                  <a:lnTo>
                    <a:pt x="115" y="16"/>
                  </a:lnTo>
                  <a:lnTo>
                    <a:pt x="127" y="16"/>
                  </a:lnTo>
                  <a:lnTo>
                    <a:pt x="141" y="16"/>
                  </a:lnTo>
                  <a:lnTo>
                    <a:pt x="155" y="16"/>
                  </a:lnTo>
                  <a:lnTo>
                    <a:pt x="169" y="16"/>
                  </a:lnTo>
                  <a:lnTo>
                    <a:pt x="182" y="25"/>
                  </a:lnTo>
                  <a:lnTo>
                    <a:pt x="195" y="32"/>
                  </a:lnTo>
                  <a:lnTo>
                    <a:pt x="208" y="32"/>
                  </a:lnTo>
                  <a:lnTo>
                    <a:pt x="221" y="40"/>
                  </a:lnTo>
                  <a:lnTo>
                    <a:pt x="235" y="40"/>
                  </a:lnTo>
                  <a:lnTo>
                    <a:pt x="249" y="49"/>
                  </a:lnTo>
                  <a:lnTo>
                    <a:pt x="262" y="49"/>
                  </a:lnTo>
                  <a:lnTo>
                    <a:pt x="276" y="49"/>
                  </a:lnTo>
                  <a:lnTo>
                    <a:pt x="289" y="57"/>
                  </a:lnTo>
                  <a:lnTo>
                    <a:pt x="302" y="64"/>
                  </a:lnTo>
                  <a:lnTo>
                    <a:pt x="317" y="64"/>
                  </a:lnTo>
                  <a:lnTo>
                    <a:pt x="329" y="73"/>
                  </a:lnTo>
                  <a:lnTo>
                    <a:pt x="343" y="81"/>
                  </a:lnTo>
                  <a:lnTo>
                    <a:pt x="356" y="89"/>
                  </a:lnTo>
                  <a:lnTo>
                    <a:pt x="370" y="96"/>
                  </a:lnTo>
                  <a:lnTo>
                    <a:pt x="383" y="104"/>
                  </a:lnTo>
                  <a:lnTo>
                    <a:pt x="396" y="113"/>
                  </a:lnTo>
                  <a:lnTo>
                    <a:pt x="411" y="129"/>
                  </a:lnTo>
                  <a:lnTo>
                    <a:pt x="423" y="129"/>
                  </a:lnTo>
                  <a:lnTo>
                    <a:pt x="430" y="145"/>
                  </a:lnTo>
                  <a:lnTo>
                    <a:pt x="443" y="145"/>
                  </a:lnTo>
                  <a:lnTo>
                    <a:pt x="456" y="153"/>
                  </a:lnTo>
                  <a:lnTo>
                    <a:pt x="471" y="161"/>
                  </a:lnTo>
                  <a:lnTo>
                    <a:pt x="484" y="169"/>
                  </a:lnTo>
                  <a:lnTo>
                    <a:pt x="497" y="178"/>
                  </a:lnTo>
                  <a:lnTo>
                    <a:pt x="484" y="178"/>
                  </a:lnTo>
                  <a:lnTo>
                    <a:pt x="471" y="169"/>
                  </a:lnTo>
                  <a:lnTo>
                    <a:pt x="484" y="169"/>
                  </a:lnTo>
                  <a:lnTo>
                    <a:pt x="490" y="186"/>
                  </a:lnTo>
                  <a:lnTo>
                    <a:pt x="484" y="202"/>
                  </a:lnTo>
                  <a:lnTo>
                    <a:pt x="471" y="211"/>
                  </a:lnTo>
                  <a:lnTo>
                    <a:pt x="443" y="227"/>
                  </a:lnTo>
                  <a:lnTo>
                    <a:pt x="437" y="243"/>
                  </a:lnTo>
                  <a:lnTo>
                    <a:pt x="423" y="243"/>
                  </a:lnTo>
                  <a:lnTo>
                    <a:pt x="411" y="258"/>
                  </a:lnTo>
                  <a:lnTo>
                    <a:pt x="396" y="266"/>
                  </a:lnTo>
                  <a:lnTo>
                    <a:pt x="396" y="282"/>
                  </a:lnTo>
                  <a:lnTo>
                    <a:pt x="390" y="299"/>
                  </a:lnTo>
                  <a:lnTo>
                    <a:pt x="383" y="315"/>
                  </a:lnTo>
                  <a:lnTo>
                    <a:pt x="377" y="331"/>
                  </a:lnTo>
                  <a:lnTo>
                    <a:pt x="377" y="347"/>
                  </a:lnTo>
                  <a:lnTo>
                    <a:pt x="370" y="364"/>
                  </a:lnTo>
                  <a:lnTo>
                    <a:pt x="363" y="380"/>
                  </a:lnTo>
                  <a:lnTo>
                    <a:pt x="356" y="396"/>
                  </a:lnTo>
                  <a:lnTo>
                    <a:pt x="356" y="413"/>
                  </a:lnTo>
                  <a:lnTo>
                    <a:pt x="349" y="427"/>
                  </a:lnTo>
                  <a:lnTo>
                    <a:pt x="349" y="443"/>
                  </a:lnTo>
                  <a:lnTo>
                    <a:pt x="363" y="443"/>
                  </a:lnTo>
                  <a:lnTo>
                    <a:pt x="370" y="427"/>
                  </a:lnTo>
                  <a:lnTo>
                    <a:pt x="377" y="413"/>
                  </a:lnTo>
                  <a:lnTo>
                    <a:pt x="377" y="396"/>
                  </a:lnTo>
                  <a:lnTo>
                    <a:pt x="390" y="380"/>
                  </a:lnTo>
                  <a:lnTo>
                    <a:pt x="390" y="364"/>
                  </a:lnTo>
                  <a:lnTo>
                    <a:pt x="396" y="347"/>
                  </a:lnTo>
                  <a:lnTo>
                    <a:pt x="403" y="331"/>
                  </a:lnTo>
                  <a:lnTo>
                    <a:pt x="411" y="315"/>
                  </a:lnTo>
                  <a:lnTo>
                    <a:pt x="416" y="299"/>
                  </a:lnTo>
                  <a:lnTo>
                    <a:pt x="430" y="299"/>
                  </a:lnTo>
                  <a:lnTo>
                    <a:pt x="437" y="282"/>
                  </a:lnTo>
                  <a:lnTo>
                    <a:pt x="450" y="274"/>
                  </a:lnTo>
                  <a:lnTo>
                    <a:pt x="464" y="274"/>
                  </a:lnTo>
                  <a:lnTo>
                    <a:pt x="476" y="266"/>
                  </a:lnTo>
                  <a:lnTo>
                    <a:pt x="490" y="266"/>
                  </a:lnTo>
                  <a:lnTo>
                    <a:pt x="504" y="266"/>
                  </a:lnTo>
                  <a:lnTo>
                    <a:pt x="516" y="266"/>
                  </a:lnTo>
                  <a:lnTo>
                    <a:pt x="516" y="282"/>
                  </a:lnTo>
                  <a:lnTo>
                    <a:pt x="510" y="299"/>
                  </a:lnTo>
                  <a:lnTo>
                    <a:pt x="504" y="315"/>
                  </a:lnTo>
                  <a:lnTo>
                    <a:pt x="497" y="331"/>
                  </a:lnTo>
                  <a:lnTo>
                    <a:pt x="490" y="347"/>
                  </a:lnTo>
                  <a:lnTo>
                    <a:pt x="484" y="364"/>
                  </a:lnTo>
                  <a:lnTo>
                    <a:pt x="476" y="380"/>
                  </a:lnTo>
                  <a:lnTo>
                    <a:pt x="471" y="396"/>
                  </a:lnTo>
                  <a:lnTo>
                    <a:pt x="464" y="413"/>
                  </a:lnTo>
                  <a:lnTo>
                    <a:pt x="464" y="427"/>
                  </a:lnTo>
                  <a:lnTo>
                    <a:pt x="464" y="443"/>
                  </a:lnTo>
                  <a:lnTo>
                    <a:pt x="464" y="460"/>
                  </a:lnTo>
                  <a:lnTo>
                    <a:pt x="456" y="476"/>
                  </a:lnTo>
                  <a:lnTo>
                    <a:pt x="456" y="493"/>
                  </a:lnTo>
                  <a:lnTo>
                    <a:pt x="450" y="509"/>
                  </a:lnTo>
                  <a:lnTo>
                    <a:pt x="464" y="509"/>
                  </a:lnTo>
                  <a:lnTo>
                    <a:pt x="464" y="493"/>
                  </a:lnTo>
                  <a:lnTo>
                    <a:pt x="471" y="476"/>
                  </a:lnTo>
                  <a:lnTo>
                    <a:pt x="476" y="460"/>
                  </a:lnTo>
                  <a:lnTo>
                    <a:pt x="484" y="443"/>
                  </a:lnTo>
                  <a:lnTo>
                    <a:pt x="490" y="427"/>
                  </a:lnTo>
                  <a:lnTo>
                    <a:pt x="490" y="413"/>
                  </a:lnTo>
                  <a:lnTo>
                    <a:pt x="497" y="396"/>
                  </a:lnTo>
                  <a:lnTo>
                    <a:pt x="510" y="380"/>
                  </a:lnTo>
                  <a:lnTo>
                    <a:pt x="516" y="364"/>
                  </a:lnTo>
                  <a:lnTo>
                    <a:pt x="524" y="347"/>
                  </a:lnTo>
                  <a:lnTo>
                    <a:pt x="538" y="339"/>
                  </a:lnTo>
                  <a:lnTo>
                    <a:pt x="544" y="323"/>
                  </a:lnTo>
                  <a:lnTo>
                    <a:pt x="544" y="339"/>
                  </a:lnTo>
                  <a:lnTo>
                    <a:pt x="538" y="355"/>
                  </a:lnTo>
                  <a:lnTo>
                    <a:pt x="531" y="372"/>
                  </a:lnTo>
                  <a:lnTo>
                    <a:pt x="516" y="388"/>
                  </a:lnTo>
                  <a:lnTo>
                    <a:pt x="510" y="405"/>
                  </a:lnTo>
                  <a:lnTo>
                    <a:pt x="504" y="420"/>
                  </a:lnTo>
                  <a:lnTo>
                    <a:pt x="490" y="443"/>
                  </a:lnTo>
                  <a:lnTo>
                    <a:pt x="490" y="460"/>
                  </a:lnTo>
                  <a:lnTo>
                    <a:pt x="484" y="476"/>
                  </a:lnTo>
                  <a:lnTo>
                    <a:pt x="484" y="493"/>
                  </a:lnTo>
                  <a:lnTo>
                    <a:pt x="476" y="509"/>
                  </a:lnTo>
                  <a:lnTo>
                    <a:pt x="471" y="525"/>
                  </a:lnTo>
                  <a:lnTo>
                    <a:pt x="471" y="542"/>
                  </a:lnTo>
                  <a:lnTo>
                    <a:pt x="471" y="558"/>
                  </a:lnTo>
                  <a:lnTo>
                    <a:pt x="464" y="573"/>
                  </a:lnTo>
                  <a:lnTo>
                    <a:pt x="464" y="589"/>
                  </a:lnTo>
                  <a:lnTo>
                    <a:pt x="464" y="605"/>
                  </a:lnTo>
                  <a:lnTo>
                    <a:pt x="464" y="589"/>
                  </a:lnTo>
                  <a:lnTo>
                    <a:pt x="476" y="581"/>
                  </a:lnTo>
                  <a:lnTo>
                    <a:pt x="484" y="565"/>
                  </a:lnTo>
                  <a:lnTo>
                    <a:pt x="490" y="548"/>
                  </a:lnTo>
                  <a:lnTo>
                    <a:pt x="497" y="534"/>
                  </a:lnTo>
                  <a:lnTo>
                    <a:pt x="510" y="525"/>
                  </a:lnTo>
                  <a:lnTo>
                    <a:pt x="516" y="509"/>
                  </a:lnTo>
                  <a:lnTo>
                    <a:pt x="524" y="493"/>
                  </a:lnTo>
                  <a:lnTo>
                    <a:pt x="524" y="509"/>
                  </a:lnTo>
                  <a:lnTo>
                    <a:pt x="516" y="525"/>
                  </a:lnTo>
                  <a:lnTo>
                    <a:pt x="504" y="542"/>
                  </a:lnTo>
                  <a:lnTo>
                    <a:pt x="497" y="558"/>
                  </a:lnTo>
                  <a:lnTo>
                    <a:pt x="490" y="573"/>
                  </a:lnTo>
                  <a:lnTo>
                    <a:pt x="476" y="581"/>
                  </a:lnTo>
                  <a:lnTo>
                    <a:pt x="471" y="598"/>
                  </a:lnTo>
                  <a:lnTo>
                    <a:pt x="464" y="614"/>
                  </a:lnTo>
                  <a:lnTo>
                    <a:pt x="456" y="630"/>
                  </a:lnTo>
                  <a:lnTo>
                    <a:pt x="456" y="646"/>
                  </a:lnTo>
                  <a:lnTo>
                    <a:pt x="456" y="662"/>
                  </a:lnTo>
                  <a:lnTo>
                    <a:pt x="456" y="679"/>
                  </a:lnTo>
                  <a:lnTo>
                    <a:pt x="464" y="662"/>
                  </a:lnTo>
                  <a:lnTo>
                    <a:pt x="471" y="646"/>
                  </a:lnTo>
                  <a:lnTo>
                    <a:pt x="476" y="630"/>
                  </a:lnTo>
                  <a:lnTo>
                    <a:pt x="484" y="614"/>
                  </a:lnTo>
                  <a:lnTo>
                    <a:pt x="490" y="598"/>
                  </a:lnTo>
                  <a:lnTo>
                    <a:pt x="497" y="581"/>
                  </a:lnTo>
                  <a:lnTo>
                    <a:pt x="510" y="573"/>
                  </a:lnTo>
                  <a:lnTo>
                    <a:pt x="516" y="558"/>
                  </a:lnTo>
                  <a:lnTo>
                    <a:pt x="531" y="542"/>
                  </a:lnTo>
                  <a:lnTo>
                    <a:pt x="544" y="525"/>
                  </a:lnTo>
                  <a:lnTo>
                    <a:pt x="544" y="542"/>
                  </a:lnTo>
                  <a:lnTo>
                    <a:pt x="544" y="558"/>
                  </a:lnTo>
                  <a:lnTo>
                    <a:pt x="538" y="573"/>
                  </a:lnTo>
                  <a:lnTo>
                    <a:pt x="531" y="589"/>
                  </a:lnTo>
                  <a:lnTo>
                    <a:pt x="524" y="605"/>
                  </a:lnTo>
                  <a:lnTo>
                    <a:pt x="516" y="622"/>
                  </a:lnTo>
                  <a:lnTo>
                    <a:pt x="510" y="638"/>
                  </a:lnTo>
                  <a:lnTo>
                    <a:pt x="504" y="654"/>
                  </a:lnTo>
                  <a:lnTo>
                    <a:pt x="497" y="670"/>
                  </a:lnTo>
                  <a:lnTo>
                    <a:pt x="490" y="687"/>
                  </a:lnTo>
                  <a:lnTo>
                    <a:pt x="484" y="703"/>
                  </a:lnTo>
                  <a:lnTo>
                    <a:pt x="484" y="720"/>
                  </a:lnTo>
                  <a:lnTo>
                    <a:pt x="476" y="734"/>
                  </a:lnTo>
                  <a:lnTo>
                    <a:pt x="476" y="751"/>
                  </a:lnTo>
                  <a:lnTo>
                    <a:pt x="490" y="759"/>
                  </a:lnTo>
                  <a:lnTo>
                    <a:pt x="497" y="743"/>
                  </a:lnTo>
                  <a:lnTo>
                    <a:pt x="504" y="726"/>
                  </a:lnTo>
                  <a:lnTo>
                    <a:pt x="510" y="710"/>
                  </a:lnTo>
                  <a:lnTo>
                    <a:pt x="516" y="695"/>
                  </a:lnTo>
                  <a:lnTo>
                    <a:pt x="524" y="679"/>
                  </a:lnTo>
                  <a:lnTo>
                    <a:pt x="524" y="662"/>
                  </a:lnTo>
                  <a:lnTo>
                    <a:pt x="531" y="646"/>
                  </a:lnTo>
                  <a:lnTo>
                    <a:pt x="544" y="630"/>
                  </a:lnTo>
                  <a:lnTo>
                    <a:pt x="550" y="605"/>
                  </a:lnTo>
                  <a:lnTo>
                    <a:pt x="565" y="589"/>
                  </a:lnTo>
                  <a:lnTo>
                    <a:pt x="577" y="573"/>
                  </a:lnTo>
                  <a:lnTo>
                    <a:pt x="585" y="558"/>
                  </a:lnTo>
                  <a:lnTo>
                    <a:pt x="591" y="542"/>
                  </a:lnTo>
                  <a:lnTo>
                    <a:pt x="585" y="558"/>
                  </a:lnTo>
                  <a:lnTo>
                    <a:pt x="570" y="573"/>
                  </a:lnTo>
                  <a:lnTo>
                    <a:pt x="558" y="589"/>
                  </a:lnTo>
                  <a:lnTo>
                    <a:pt x="550" y="605"/>
                  </a:lnTo>
                  <a:lnTo>
                    <a:pt x="544" y="622"/>
                  </a:lnTo>
                  <a:lnTo>
                    <a:pt x="544" y="638"/>
                  </a:lnTo>
                  <a:lnTo>
                    <a:pt x="538" y="654"/>
                  </a:lnTo>
                  <a:lnTo>
                    <a:pt x="531" y="670"/>
                  </a:lnTo>
                  <a:lnTo>
                    <a:pt x="524" y="687"/>
                  </a:lnTo>
                  <a:lnTo>
                    <a:pt x="516" y="703"/>
                  </a:lnTo>
                  <a:lnTo>
                    <a:pt x="516" y="720"/>
                  </a:lnTo>
                  <a:lnTo>
                    <a:pt x="516" y="734"/>
                  </a:lnTo>
                  <a:lnTo>
                    <a:pt x="510" y="751"/>
                  </a:lnTo>
                  <a:lnTo>
                    <a:pt x="504" y="767"/>
                  </a:lnTo>
                  <a:lnTo>
                    <a:pt x="504" y="784"/>
                  </a:lnTo>
                  <a:lnTo>
                    <a:pt x="497" y="800"/>
                  </a:lnTo>
                  <a:lnTo>
                    <a:pt x="497" y="815"/>
                  </a:lnTo>
                  <a:lnTo>
                    <a:pt x="510" y="815"/>
                  </a:lnTo>
                  <a:lnTo>
                    <a:pt x="524" y="823"/>
                  </a:lnTo>
                  <a:lnTo>
                    <a:pt x="524" y="840"/>
                  </a:lnTo>
                  <a:lnTo>
                    <a:pt x="524" y="855"/>
                  </a:lnTo>
                  <a:lnTo>
                    <a:pt x="524" y="872"/>
                  </a:lnTo>
                  <a:lnTo>
                    <a:pt x="524" y="888"/>
                  </a:lnTo>
                  <a:lnTo>
                    <a:pt x="538" y="865"/>
                  </a:lnTo>
                  <a:lnTo>
                    <a:pt x="538" y="848"/>
                  </a:lnTo>
                  <a:lnTo>
                    <a:pt x="538" y="832"/>
                  </a:lnTo>
                  <a:lnTo>
                    <a:pt x="544" y="808"/>
                  </a:lnTo>
                  <a:lnTo>
                    <a:pt x="544" y="792"/>
                  </a:lnTo>
                  <a:lnTo>
                    <a:pt x="550" y="775"/>
                  </a:lnTo>
                  <a:lnTo>
                    <a:pt x="558" y="759"/>
                  </a:lnTo>
                  <a:lnTo>
                    <a:pt x="565" y="743"/>
                  </a:lnTo>
                  <a:lnTo>
                    <a:pt x="570" y="726"/>
                  </a:lnTo>
                  <a:lnTo>
                    <a:pt x="577" y="710"/>
                  </a:lnTo>
                  <a:lnTo>
                    <a:pt x="585" y="695"/>
                  </a:lnTo>
                  <a:lnTo>
                    <a:pt x="591" y="679"/>
                  </a:lnTo>
                  <a:lnTo>
                    <a:pt x="598" y="662"/>
                  </a:lnTo>
                  <a:lnTo>
                    <a:pt x="598" y="646"/>
                  </a:lnTo>
                  <a:lnTo>
                    <a:pt x="604" y="630"/>
                  </a:lnTo>
                  <a:lnTo>
                    <a:pt x="610" y="614"/>
                  </a:lnTo>
                  <a:lnTo>
                    <a:pt x="618" y="598"/>
                  </a:lnTo>
                  <a:lnTo>
                    <a:pt x="618" y="581"/>
                  </a:lnTo>
                  <a:lnTo>
                    <a:pt x="625" y="605"/>
                  </a:lnTo>
                  <a:lnTo>
                    <a:pt x="618" y="622"/>
                  </a:lnTo>
                  <a:lnTo>
                    <a:pt x="610" y="646"/>
                  </a:lnTo>
                  <a:lnTo>
                    <a:pt x="604" y="662"/>
                  </a:lnTo>
                  <a:lnTo>
                    <a:pt x="598" y="679"/>
                  </a:lnTo>
                  <a:lnTo>
                    <a:pt x="591" y="695"/>
                  </a:lnTo>
                  <a:lnTo>
                    <a:pt x="585" y="710"/>
                  </a:lnTo>
                  <a:lnTo>
                    <a:pt x="585" y="726"/>
                  </a:lnTo>
                  <a:lnTo>
                    <a:pt x="577" y="743"/>
                  </a:lnTo>
                  <a:lnTo>
                    <a:pt x="570" y="759"/>
                  </a:lnTo>
                  <a:lnTo>
                    <a:pt x="570" y="775"/>
                  </a:lnTo>
                  <a:lnTo>
                    <a:pt x="565" y="792"/>
                  </a:lnTo>
                  <a:lnTo>
                    <a:pt x="558" y="808"/>
                  </a:lnTo>
                  <a:lnTo>
                    <a:pt x="558" y="823"/>
                  </a:lnTo>
                  <a:lnTo>
                    <a:pt x="550" y="840"/>
                  </a:lnTo>
                  <a:lnTo>
                    <a:pt x="550" y="855"/>
                  </a:lnTo>
                  <a:lnTo>
                    <a:pt x="550" y="872"/>
                  </a:lnTo>
                  <a:lnTo>
                    <a:pt x="544" y="888"/>
                  </a:lnTo>
                  <a:lnTo>
                    <a:pt x="538" y="904"/>
                  </a:lnTo>
                  <a:lnTo>
                    <a:pt x="538" y="920"/>
                  </a:lnTo>
                  <a:lnTo>
                    <a:pt x="538" y="937"/>
                  </a:lnTo>
                  <a:lnTo>
                    <a:pt x="531" y="953"/>
                  </a:lnTo>
                  <a:lnTo>
                    <a:pt x="531" y="969"/>
                  </a:lnTo>
                  <a:lnTo>
                    <a:pt x="538" y="986"/>
                  </a:lnTo>
                  <a:lnTo>
                    <a:pt x="544" y="1000"/>
                  </a:lnTo>
                  <a:lnTo>
                    <a:pt x="544" y="1019"/>
                  </a:lnTo>
                  <a:lnTo>
                    <a:pt x="544" y="1033"/>
                  </a:lnTo>
                  <a:lnTo>
                    <a:pt x="544" y="1049"/>
                  </a:lnTo>
                  <a:lnTo>
                    <a:pt x="544" y="1074"/>
                  </a:lnTo>
                  <a:lnTo>
                    <a:pt x="544" y="1090"/>
                  </a:lnTo>
                  <a:lnTo>
                    <a:pt x="558" y="1099"/>
                  </a:lnTo>
                  <a:lnTo>
                    <a:pt x="558" y="1115"/>
                  </a:lnTo>
                  <a:lnTo>
                    <a:pt x="558" y="1131"/>
                  </a:lnTo>
                  <a:lnTo>
                    <a:pt x="550" y="1147"/>
                  </a:lnTo>
                  <a:lnTo>
                    <a:pt x="538" y="1147"/>
                  </a:lnTo>
                  <a:lnTo>
                    <a:pt x="524" y="1155"/>
                  </a:lnTo>
                  <a:lnTo>
                    <a:pt x="510" y="1162"/>
                  </a:lnTo>
                  <a:lnTo>
                    <a:pt x="497" y="1172"/>
                  </a:lnTo>
                  <a:lnTo>
                    <a:pt x="497" y="1187"/>
                  </a:lnTo>
                  <a:lnTo>
                    <a:pt x="484" y="1195"/>
                  </a:lnTo>
                  <a:lnTo>
                    <a:pt x="476" y="1211"/>
                  </a:lnTo>
                  <a:lnTo>
                    <a:pt x="471" y="1227"/>
                  </a:lnTo>
                  <a:lnTo>
                    <a:pt x="464" y="1244"/>
                  </a:lnTo>
                  <a:lnTo>
                    <a:pt x="456" y="1260"/>
                  </a:lnTo>
                  <a:lnTo>
                    <a:pt x="450" y="1277"/>
                  </a:lnTo>
                  <a:lnTo>
                    <a:pt x="443" y="1293"/>
                  </a:lnTo>
                  <a:lnTo>
                    <a:pt x="443" y="1307"/>
                  </a:lnTo>
                  <a:lnTo>
                    <a:pt x="437" y="1324"/>
                  </a:lnTo>
                  <a:lnTo>
                    <a:pt x="430" y="1340"/>
                  </a:lnTo>
                  <a:lnTo>
                    <a:pt x="423" y="1348"/>
                  </a:lnTo>
                  <a:lnTo>
                    <a:pt x="416" y="1332"/>
                  </a:lnTo>
                  <a:lnTo>
                    <a:pt x="423" y="1348"/>
                  </a:lnTo>
                  <a:lnTo>
                    <a:pt x="416" y="1365"/>
                  </a:lnTo>
                  <a:lnTo>
                    <a:pt x="403" y="1373"/>
                  </a:lnTo>
                  <a:lnTo>
                    <a:pt x="396" y="1389"/>
                  </a:lnTo>
                  <a:lnTo>
                    <a:pt x="390" y="1405"/>
                  </a:lnTo>
                  <a:lnTo>
                    <a:pt x="390" y="1422"/>
                  </a:lnTo>
                  <a:lnTo>
                    <a:pt x="390" y="1438"/>
                  </a:lnTo>
                  <a:lnTo>
                    <a:pt x="390" y="1454"/>
                  </a:lnTo>
                  <a:lnTo>
                    <a:pt x="403" y="1462"/>
                  </a:lnTo>
                  <a:lnTo>
                    <a:pt x="416" y="1462"/>
                  </a:lnTo>
                  <a:lnTo>
                    <a:pt x="430" y="1462"/>
                  </a:lnTo>
                  <a:lnTo>
                    <a:pt x="443" y="1462"/>
                  </a:lnTo>
                  <a:lnTo>
                    <a:pt x="456" y="1454"/>
                  </a:lnTo>
                  <a:lnTo>
                    <a:pt x="471" y="1454"/>
                  </a:lnTo>
                  <a:lnTo>
                    <a:pt x="484" y="1454"/>
                  </a:lnTo>
                  <a:lnTo>
                    <a:pt x="497" y="1446"/>
                  </a:lnTo>
                  <a:lnTo>
                    <a:pt x="510" y="1446"/>
                  </a:lnTo>
                  <a:lnTo>
                    <a:pt x="524" y="1446"/>
                  </a:lnTo>
                  <a:lnTo>
                    <a:pt x="538" y="1438"/>
                  </a:lnTo>
                  <a:lnTo>
                    <a:pt x="550" y="1438"/>
                  </a:lnTo>
                  <a:lnTo>
                    <a:pt x="565" y="1430"/>
                  </a:lnTo>
                  <a:lnTo>
                    <a:pt x="577" y="1422"/>
                  </a:lnTo>
                  <a:lnTo>
                    <a:pt x="591" y="1422"/>
                  </a:lnTo>
                  <a:lnTo>
                    <a:pt x="604" y="1413"/>
                  </a:lnTo>
                  <a:lnTo>
                    <a:pt x="618" y="1405"/>
                  </a:lnTo>
                  <a:lnTo>
                    <a:pt x="630" y="1397"/>
                  </a:lnTo>
                  <a:lnTo>
                    <a:pt x="645" y="1389"/>
                  </a:lnTo>
                  <a:lnTo>
                    <a:pt x="659" y="1373"/>
                  </a:lnTo>
                  <a:lnTo>
                    <a:pt x="679" y="1365"/>
                  </a:lnTo>
                  <a:lnTo>
                    <a:pt x="692" y="1365"/>
                  </a:lnTo>
                  <a:lnTo>
                    <a:pt x="705" y="1357"/>
                  </a:lnTo>
                  <a:lnTo>
                    <a:pt x="719" y="1357"/>
                  </a:lnTo>
                  <a:lnTo>
                    <a:pt x="732" y="1357"/>
                  </a:lnTo>
                  <a:lnTo>
                    <a:pt x="745" y="1357"/>
                  </a:lnTo>
                  <a:lnTo>
                    <a:pt x="758" y="1357"/>
                  </a:lnTo>
                  <a:lnTo>
                    <a:pt x="773" y="1357"/>
                  </a:lnTo>
                  <a:lnTo>
                    <a:pt x="785" y="1365"/>
                  </a:lnTo>
                  <a:lnTo>
                    <a:pt x="799" y="1365"/>
                  </a:lnTo>
                  <a:lnTo>
                    <a:pt x="813" y="1365"/>
                  </a:lnTo>
                  <a:lnTo>
                    <a:pt x="825" y="1365"/>
                  </a:lnTo>
                  <a:lnTo>
                    <a:pt x="839" y="1365"/>
                  </a:lnTo>
                  <a:lnTo>
                    <a:pt x="854" y="1365"/>
                  </a:lnTo>
                  <a:lnTo>
                    <a:pt x="866" y="1365"/>
                  </a:lnTo>
                  <a:lnTo>
                    <a:pt x="879" y="1365"/>
                  </a:lnTo>
                  <a:lnTo>
                    <a:pt x="893" y="1365"/>
                  </a:lnTo>
                  <a:lnTo>
                    <a:pt x="879" y="1357"/>
                  </a:lnTo>
                  <a:lnTo>
                    <a:pt x="866" y="1348"/>
                  </a:lnTo>
                  <a:lnTo>
                    <a:pt x="854" y="1348"/>
                  </a:lnTo>
                  <a:lnTo>
                    <a:pt x="839" y="1340"/>
                  </a:lnTo>
                  <a:lnTo>
                    <a:pt x="825" y="1340"/>
                  </a:lnTo>
                  <a:lnTo>
                    <a:pt x="813" y="1340"/>
                  </a:lnTo>
                  <a:lnTo>
                    <a:pt x="799" y="1340"/>
                  </a:lnTo>
                  <a:lnTo>
                    <a:pt x="785" y="1340"/>
                  </a:lnTo>
                  <a:lnTo>
                    <a:pt x="773" y="1340"/>
                  </a:lnTo>
                  <a:lnTo>
                    <a:pt x="758" y="1340"/>
                  </a:lnTo>
                  <a:lnTo>
                    <a:pt x="745" y="1340"/>
                  </a:lnTo>
                  <a:lnTo>
                    <a:pt x="745" y="1324"/>
                  </a:lnTo>
                  <a:lnTo>
                    <a:pt x="758" y="1317"/>
                  </a:lnTo>
                  <a:lnTo>
                    <a:pt x="773" y="1307"/>
                  </a:lnTo>
                  <a:lnTo>
                    <a:pt x="785" y="1300"/>
                  </a:lnTo>
                  <a:lnTo>
                    <a:pt x="799" y="1300"/>
                  </a:lnTo>
                  <a:lnTo>
                    <a:pt x="813" y="1293"/>
                  </a:lnTo>
                  <a:lnTo>
                    <a:pt x="825" y="1293"/>
                  </a:lnTo>
                  <a:lnTo>
                    <a:pt x="839" y="1285"/>
                  </a:lnTo>
                  <a:lnTo>
                    <a:pt x="854" y="1285"/>
                  </a:lnTo>
                  <a:lnTo>
                    <a:pt x="866" y="1277"/>
                  </a:lnTo>
                  <a:lnTo>
                    <a:pt x="873" y="1260"/>
                  </a:lnTo>
                  <a:lnTo>
                    <a:pt x="887" y="1252"/>
                  </a:lnTo>
                  <a:lnTo>
                    <a:pt x="887" y="1235"/>
                  </a:lnTo>
                  <a:lnTo>
                    <a:pt x="873" y="1227"/>
                  </a:lnTo>
                  <a:lnTo>
                    <a:pt x="859" y="1227"/>
                  </a:lnTo>
                  <a:lnTo>
                    <a:pt x="846" y="1227"/>
                  </a:lnTo>
                  <a:lnTo>
                    <a:pt x="833" y="1227"/>
                  </a:lnTo>
                  <a:lnTo>
                    <a:pt x="819" y="1227"/>
                  </a:lnTo>
                  <a:lnTo>
                    <a:pt x="805" y="1235"/>
                  </a:lnTo>
                  <a:lnTo>
                    <a:pt x="794" y="1244"/>
                  </a:lnTo>
                  <a:lnTo>
                    <a:pt x="779" y="1260"/>
                  </a:lnTo>
                  <a:lnTo>
                    <a:pt x="785" y="1244"/>
                  </a:lnTo>
                  <a:lnTo>
                    <a:pt x="799" y="1235"/>
                  </a:lnTo>
                  <a:lnTo>
                    <a:pt x="813" y="1227"/>
                  </a:lnTo>
                  <a:lnTo>
                    <a:pt x="819" y="1211"/>
                  </a:lnTo>
                  <a:lnTo>
                    <a:pt x="833" y="1203"/>
                  </a:lnTo>
                  <a:lnTo>
                    <a:pt x="846" y="1195"/>
                  </a:lnTo>
                  <a:lnTo>
                    <a:pt x="859" y="1195"/>
                  </a:lnTo>
                  <a:lnTo>
                    <a:pt x="873" y="1187"/>
                  </a:lnTo>
                  <a:lnTo>
                    <a:pt x="887" y="1179"/>
                  </a:lnTo>
                  <a:lnTo>
                    <a:pt x="914" y="1172"/>
                  </a:lnTo>
                  <a:lnTo>
                    <a:pt x="927" y="1172"/>
                  </a:lnTo>
                  <a:lnTo>
                    <a:pt x="940" y="1162"/>
                  </a:lnTo>
                  <a:lnTo>
                    <a:pt x="953" y="1162"/>
                  </a:lnTo>
                  <a:lnTo>
                    <a:pt x="967" y="1162"/>
                  </a:lnTo>
                  <a:lnTo>
                    <a:pt x="981" y="1162"/>
                  </a:lnTo>
                  <a:lnTo>
                    <a:pt x="981" y="1147"/>
                  </a:lnTo>
                  <a:lnTo>
                    <a:pt x="981" y="1131"/>
                  </a:lnTo>
                  <a:lnTo>
                    <a:pt x="974" y="1115"/>
                  </a:lnTo>
                  <a:lnTo>
                    <a:pt x="948" y="1115"/>
                  </a:lnTo>
                  <a:lnTo>
                    <a:pt x="933" y="1115"/>
                  </a:lnTo>
                  <a:lnTo>
                    <a:pt x="914" y="1115"/>
                  </a:lnTo>
                  <a:lnTo>
                    <a:pt x="899" y="1115"/>
                  </a:lnTo>
                  <a:lnTo>
                    <a:pt x="879" y="1131"/>
                  </a:lnTo>
                  <a:lnTo>
                    <a:pt x="866" y="1131"/>
                  </a:lnTo>
                  <a:lnTo>
                    <a:pt x="854" y="1139"/>
                  </a:lnTo>
                  <a:lnTo>
                    <a:pt x="846" y="1155"/>
                  </a:lnTo>
                  <a:lnTo>
                    <a:pt x="854" y="1139"/>
                  </a:lnTo>
                  <a:lnTo>
                    <a:pt x="866" y="1139"/>
                  </a:lnTo>
                  <a:lnTo>
                    <a:pt x="879" y="1122"/>
                  </a:lnTo>
                  <a:lnTo>
                    <a:pt x="893" y="1122"/>
                  </a:lnTo>
                  <a:lnTo>
                    <a:pt x="907" y="1115"/>
                  </a:lnTo>
                  <a:lnTo>
                    <a:pt x="919" y="1115"/>
                  </a:lnTo>
                  <a:lnTo>
                    <a:pt x="933" y="1107"/>
                  </a:lnTo>
                  <a:lnTo>
                    <a:pt x="948" y="1099"/>
                  </a:lnTo>
                  <a:lnTo>
                    <a:pt x="960" y="1090"/>
                  </a:lnTo>
                  <a:lnTo>
                    <a:pt x="967" y="1074"/>
                  </a:lnTo>
                  <a:lnTo>
                    <a:pt x="967" y="1058"/>
                  </a:lnTo>
                  <a:lnTo>
                    <a:pt x="953" y="1049"/>
                  </a:lnTo>
                  <a:lnTo>
                    <a:pt x="940" y="1049"/>
                  </a:lnTo>
                  <a:lnTo>
                    <a:pt x="927" y="1049"/>
                  </a:lnTo>
                  <a:lnTo>
                    <a:pt x="914" y="1049"/>
                  </a:lnTo>
                  <a:lnTo>
                    <a:pt x="899" y="1058"/>
                  </a:lnTo>
                  <a:lnTo>
                    <a:pt x="887" y="1066"/>
                  </a:lnTo>
                  <a:lnTo>
                    <a:pt x="873" y="1074"/>
                  </a:lnTo>
                  <a:lnTo>
                    <a:pt x="859" y="1082"/>
                  </a:lnTo>
                  <a:lnTo>
                    <a:pt x="854" y="1099"/>
                  </a:lnTo>
                  <a:lnTo>
                    <a:pt x="839" y="1099"/>
                  </a:lnTo>
                  <a:lnTo>
                    <a:pt x="825" y="1115"/>
                  </a:lnTo>
                  <a:lnTo>
                    <a:pt x="819" y="1131"/>
                  </a:lnTo>
                  <a:lnTo>
                    <a:pt x="805" y="1139"/>
                  </a:lnTo>
                  <a:lnTo>
                    <a:pt x="799" y="1155"/>
                  </a:lnTo>
                  <a:lnTo>
                    <a:pt x="785" y="1162"/>
                  </a:lnTo>
                  <a:lnTo>
                    <a:pt x="779" y="1179"/>
                  </a:lnTo>
                  <a:lnTo>
                    <a:pt x="765" y="1187"/>
                  </a:lnTo>
                  <a:lnTo>
                    <a:pt x="765" y="1172"/>
                  </a:lnTo>
                  <a:lnTo>
                    <a:pt x="779" y="1155"/>
                  </a:lnTo>
                  <a:lnTo>
                    <a:pt x="794" y="1139"/>
                  </a:lnTo>
                  <a:lnTo>
                    <a:pt x="805" y="1131"/>
                  </a:lnTo>
                  <a:lnTo>
                    <a:pt x="813" y="1115"/>
                  </a:lnTo>
                  <a:lnTo>
                    <a:pt x="825" y="1099"/>
                  </a:lnTo>
                  <a:lnTo>
                    <a:pt x="839" y="1090"/>
                  </a:lnTo>
                  <a:lnTo>
                    <a:pt x="846" y="1074"/>
                  </a:lnTo>
                  <a:lnTo>
                    <a:pt x="859" y="1066"/>
                  </a:lnTo>
                  <a:lnTo>
                    <a:pt x="873" y="1058"/>
                  </a:lnTo>
                  <a:lnTo>
                    <a:pt x="887" y="1049"/>
                  </a:lnTo>
                  <a:lnTo>
                    <a:pt x="899" y="1041"/>
                  </a:lnTo>
                  <a:lnTo>
                    <a:pt x="914" y="1033"/>
                  </a:lnTo>
                  <a:lnTo>
                    <a:pt x="914" y="1019"/>
                  </a:lnTo>
                  <a:lnTo>
                    <a:pt x="899" y="1008"/>
                  </a:lnTo>
                  <a:lnTo>
                    <a:pt x="887" y="1019"/>
                  </a:lnTo>
                  <a:lnTo>
                    <a:pt x="873" y="1026"/>
                  </a:lnTo>
                  <a:lnTo>
                    <a:pt x="859" y="1026"/>
                  </a:lnTo>
                  <a:lnTo>
                    <a:pt x="873" y="1026"/>
                  </a:lnTo>
                  <a:lnTo>
                    <a:pt x="887" y="1026"/>
                  </a:lnTo>
                  <a:lnTo>
                    <a:pt x="899" y="1019"/>
                  </a:lnTo>
                  <a:lnTo>
                    <a:pt x="914" y="1000"/>
                  </a:lnTo>
                  <a:lnTo>
                    <a:pt x="919" y="986"/>
                  </a:lnTo>
                  <a:lnTo>
                    <a:pt x="919" y="969"/>
                  </a:lnTo>
                  <a:lnTo>
                    <a:pt x="919" y="953"/>
                  </a:lnTo>
                  <a:lnTo>
                    <a:pt x="907" y="961"/>
                  </a:lnTo>
                  <a:lnTo>
                    <a:pt x="893" y="961"/>
                  </a:lnTo>
                  <a:lnTo>
                    <a:pt x="907" y="953"/>
                  </a:lnTo>
                  <a:lnTo>
                    <a:pt x="919" y="953"/>
                  </a:lnTo>
                  <a:lnTo>
                    <a:pt x="933" y="945"/>
                  </a:lnTo>
                  <a:lnTo>
                    <a:pt x="948" y="945"/>
                  </a:lnTo>
                  <a:lnTo>
                    <a:pt x="960" y="945"/>
                  </a:lnTo>
                  <a:lnTo>
                    <a:pt x="974" y="945"/>
                  </a:lnTo>
                  <a:lnTo>
                    <a:pt x="987" y="945"/>
                  </a:lnTo>
                  <a:lnTo>
                    <a:pt x="1001" y="953"/>
                  </a:lnTo>
                  <a:lnTo>
                    <a:pt x="1013" y="953"/>
                  </a:lnTo>
                  <a:lnTo>
                    <a:pt x="1027" y="945"/>
                  </a:lnTo>
                  <a:lnTo>
                    <a:pt x="1034" y="928"/>
                  </a:lnTo>
                  <a:lnTo>
                    <a:pt x="1042" y="912"/>
                  </a:lnTo>
                  <a:lnTo>
                    <a:pt x="1047" y="896"/>
                  </a:lnTo>
                  <a:lnTo>
                    <a:pt x="1034" y="888"/>
                  </a:lnTo>
                  <a:lnTo>
                    <a:pt x="1021" y="888"/>
                  </a:lnTo>
                  <a:lnTo>
                    <a:pt x="1008" y="888"/>
                  </a:lnTo>
                  <a:lnTo>
                    <a:pt x="993" y="888"/>
                  </a:lnTo>
                  <a:lnTo>
                    <a:pt x="981" y="888"/>
                  </a:lnTo>
                  <a:lnTo>
                    <a:pt x="967" y="888"/>
                  </a:lnTo>
                  <a:lnTo>
                    <a:pt x="953" y="896"/>
                  </a:lnTo>
                  <a:lnTo>
                    <a:pt x="940" y="896"/>
                  </a:lnTo>
                  <a:lnTo>
                    <a:pt x="927" y="896"/>
                  </a:lnTo>
                  <a:lnTo>
                    <a:pt x="914" y="904"/>
                  </a:lnTo>
                  <a:lnTo>
                    <a:pt x="899" y="912"/>
                  </a:lnTo>
                  <a:lnTo>
                    <a:pt x="914" y="912"/>
                  </a:lnTo>
                  <a:lnTo>
                    <a:pt x="927" y="904"/>
                  </a:lnTo>
                  <a:lnTo>
                    <a:pt x="927" y="888"/>
                  </a:lnTo>
                  <a:lnTo>
                    <a:pt x="914" y="880"/>
                  </a:lnTo>
                  <a:lnTo>
                    <a:pt x="927" y="872"/>
                  </a:lnTo>
                  <a:lnTo>
                    <a:pt x="940" y="865"/>
                  </a:lnTo>
                  <a:lnTo>
                    <a:pt x="948" y="848"/>
                  </a:lnTo>
                  <a:lnTo>
                    <a:pt x="933" y="840"/>
                  </a:lnTo>
                  <a:lnTo>
                    <a:pt x="919" y="840"/>
                  </a:lnTo>
                  <a:lnTo>
                    <a:pt x="907" y="840"/>
                  </a:lnTo>
                  <a:lnTo>
                    <a:pt x="893" y="848"/>
                  </a:lnTo>
                  <a:lnTo>
                    <a:pt x="879" y="848"/>
                  </a:lnTo>
                  <a:lnTo>
                    <a:pt x="893" y="904"/>
                  </a:lnTo>
                  <a:lnTo>
                    <a:pt x="893" y="848"/>
                  </a:lnTo>
                  <a:lnTo>
                    <a:pt x="907" y="840"/>
                  </a:lnTo>
                  <a:lnTo>
                    <a:pt x="919" y="840"/>
                  </a:lnTo>
                  <a:lnTo>
                    <a:pt x="933" y="832"/>
                  </a:lnTo>
                  <a:lnTo>
                    <a:pt x="948" y="832"/>
                  </a:lnTo>
                  <a:lnTo>
                    <a:pt x="960" y="832"/>
                  </a:lnTo>
                  <a:lnTo>
                    <a:pt x="974" y="832"/>
                  </a:lnTo>
                  <a:lnTo>
                    <a:pt x="987" y="832"/>
                  </a:lnTo>
                  <a:lnTo>
                    <a:pt x="1001" y="823"/>
                  </a:lnTo>
                  <a:lnTo>
                    <a:pt x="993" y="808"/>
                  </a:lnTo>
                  <a:lnTo>
                    <a:pt x="981" y="808"/>
                  </a:lnTo>
                  <a:lnTo>
                    <a:pt x="967" y="808"/>
                  </a:lnTo>
                  <a:lnTo>
                    <a:pt x="953" y="808"/>
                  </a:lnTo>
                  <a:lnTo>
                    <a:pt x="940" y="808"/>
                  </a:lnTo>
                  <a:lnTo>
                    <a:pt x="927" y="808"/>
                  </a:lnTo>
                  <a:lnTo>
                    <a:pt x="914" y="815"/>
                  </a:lnTo>
                  <a:lnTo>
                    <a:pt x="899" y="815"/>
                  </a:lnTo>
                  <a:lnTo>
                    <a:pt x="887" y="815"/>
                  </a:lnTo>
                  <a:lnTo>
                    <a:pt x="887" y="800"/>
                  </a:lnTo>
                  <a:lnTo>
                    <a:pt x="899" y="792"/>
                  </a:lnTo>
                  <a:lnTo>
                    <a:pt x="914" y="784"/>
                  </a:lnTo>
                  <a:lnTo>
                    <a:pt x="927" y="784"/>
                  </a:lnTo>
                  <a:lnTo>
                    <a:pt x="940" y="775"/>
                  </a:lnTo>
                  <a:lnTo>
                    <a:pt x="953" y="775"/>
                  </a:lnTo>
                  <a:lnTo>
                    <a:pt x="967" y="775"/>
                  </a:lnTo>
                  <a:lnTo>
                    <a:pt x="981" y="775"/>
                  </a:lnTo>
                  <a:lnTo>
                    <a:pt x="993" y="775"/>
                  </a:lnTo>
                  <a:lnTo>
                    <a:pt x="1008" y="775"/>
                  </a:lnTo>
                  <a:lnTo>
                    <a:pt x="1021" y="767"/>
                  </a:lnTo>
                  <a:lnTo>
                    <a:pt x="1021" y="751"/>
                  </a:lnTo>
                  <a:lnTo>
                    <a:pt x="1013" y="734"/>
                  </a:lnTo>
                  <a:lnTo>
                    <a:pt x="1001" y="726"/>
                  </a:lnTo>
                  <a:lnTo>
                    <a:pt x="987" y="720"/>
                  </a:lnTo>
                  <a:lnTo>
                    <a:pt x="974" y="720"/>
                  </a:lnTo>
                  <a:lnTo>
                    <a:pt x="960" y="720"/>
                  </a:lnTo>
                  <a:lnTo>
                    <a:pt x="948" y="720"/>
                  </a:lnTo>
                  <a:lnTo>
                    <a:pt x="933" y="720"/>
                  </a:lnTo>
                  <a:lnTo>
                    <a:pt x="919" y="720"/>
                  </a:lnTo>
                  <a:lnTo>
                    <a:pt x="907" y="720"/>
                  </a:lnTo>
                  <a:lnTo>
                    <a:pt x="893" y="720"/>
                  </a:lnTo>
                  <a:lnTo>
                    <a:pt x="879" y="726"/>
                  </a:lnTo>
                  <a:lnTo>
                    <a:pt x="866" y="734"/>
                  </a:lnTo>
                  <a:lnTo>
                    <a:pt x="866" y="720"/>
                  </a:lnTo>
                  <a:lnTo>
                    <a:pt x="879" y="703"/>
                  </a:lnTo>
                  <a:lnTo>
                    <a:pt x="893" y="695"/>
                  </a:lnTo>
                  <a:lnTo>
                    <a:pt x="907" y="687"/>
                  </a:lnTo>
                  <a:lnTo>
                    <a:pt x="919" y="679"/>
                  </a:lnTo>
                  <a:lnTo>
                    <a:pt x="933" y="670"/>
                  </a:lnTo>
                  <a:lnTo>
                    <a:pt x="974" y="646"/>
                  </a:lnTo>
                  <a:lnTo>
                    <a:pt x="987" y="646"/>
                  </a:lnTo>
                  <a:lnTo>
                    <a:pt x="1001" y="646"/>
                  </a:lnTo>
                  <a:lnTo>
                    <a:pt x="1013" y="638"/>
                  </a:lnTo>
                  <a:lnTo>
                    <a:pt x="1027" y="638"/>
                  </a:lnTo>
                  <a:lnTo>
                    <a:pt x="1042" y="638"/>
                  </a:lnTo>
                  <a:lnTo>
                    <a:pt x="1054" y="638"/>
                  </a:lnTo>
                  <a:lnTo>
                    <a:pt x="1068" y="638"/>
                  </a:lnTo>
                  <a:lnTo>
                    <a:pt x="1081" y="638"/>
                  </a:lnTo>
                  <a:lnTo>
                    <a:pt x="1094" y="638"/>
                  </a:lnTo>
                  <a:lnTo>
                    <a:pt x="1107" y="638"/>
                  </a:lnTo>
                  <a:lnTo>
                    <a:pt x="1122" y="638"/>
                  </a:lnTo>
                  <a:lnTo>
                    <a:pt x="1135" y="646"/>
                  </a:lnTo>
                  <a:lnTo>
                    <a:pt x="1141" y="630"/>
                  </a:lnTo>
                  <a:lnTo>
                    <a:pt x="1128" y="622"/>
                  </a:lnTo>
                  <a:lnTo>
                    <a:pt x="1114" y="614"/>
                  </a:lnTo>
                  <a:lnTo>
                    <a:pt x="1102" y="614"/>
                  </a:lnTo>
                  <a:lnTo>
                    <a:pt x="1087" y="605"/>
                  </a:lnTo>
                  <a:lnTo>
                    <a:pt x="1102" y="598"/>
                  </a:lnTo>
                  <a:lnTo>
                    <a:pt x="1114" y="598"/>
                  </a:lnTo>
                  <a:lnTo>
                    <a:pt x="1128" y="598"/>
                  </a:lnTo>
                  <a:lnTo>
                    <a:pt x="1141" y="589"/>
                  </a:lnTo>
                  <a:lnTo>
                    <a:pt x="1155" y="589"/>
                  </a:lnTo>
                  <a:lnTo>
                    <a:pt x="1167" y="581"/>
                  </a:lnTo>
                  <a:lnTo>
                    <a:pt x="1182" y="581"/>
                  </a:lnTo>
                  <a:lnTo>
                    <a:pt x="1196" y="573"/>
                  </a:lnTo>
                  <a:lnTo>
                    <a:pt x="1182" y="565"/>
                  </a:lnTo>
                  <a:lnTo>
                    <a:pt x="1162" y="558"/>
                  </a:lnTo>
                  <a:lnTo>
                    <a:pt x="1147" y="548"/>
                  </a:lnTo>
                  <a:lnTo>
                    <a:pt x="1135" y="548"/>
                  </a:lnTo>
                  <a:lnTo>
                    <a:pt x="1122" y="548"/>
                  </a:lnTo>
                  <a:lnTo>
                    <a:pt x="1107" y="548"/>
                  </a:lnTo>
                  <a:lnTo>
                    <a:pt x="1094" y="548"/>
                  </a:lnTo>
                  <a:lnTo>
                    <a:pt x="1081" y="558"/>
                  </a:lnTo>
                  <a:lnTo>
                    <a:pt x="1068" y="558"/>
                  </a:lnTo>
                  <a:lnTo>
                    <a:pt x="1054" y="565"/>
                  </a:lnTo>
                  <a:lnTo>
                    <a:pt x="1042" y="581"/>
                  </a:lnTo>
                  <a:lnTo>
                    <a:pt x="1027" y="589"/>
                  </a:lnTo>
                  <a:lnTo>
                    <a:pt x="1013" y="598"/>
                  </a:lnTo>
                  <a:lnTo>
                    <a:pt x="1008" y="614"/>
                  </a:lnTo>
                  <a:lnTo>
                    <a:pt x="993" y="614"/>
                  </a:lnTo>
                  <a:lnTo>
                    <a:pt x="1013" y="598"/>
                  </a:lnTo>
                  <a:lnTo>
                    <a:pt x="1027" y="589"/>
                  </a:lnTo>
                  <a:lnTo>
                    <a:pt x="1042" y="581"/>
                  </a:lnTo>
                  <a:lnTo>
                    <a:pt x="1062" y="565"/>
                  </a:lnTo>
                  <a:lnTo>
                    <a:pt x="1073" y="565"/>
                  </a:lnTo>
                  <a:lnTo>
                    <a:pt x="1087" y="558"/>
                  </a:lnTo>
                  <a:lnTo>
                    <a:pt x="1102" y="548"/>
                  </a:lnTo>
                  <a:lnTo>
                    <a:pt x="1107" y="534"/>
                  </a:lnTo>
                  <a:lnTo>
                    <a:pt x="1122" y="525"/>
                  </a:lnTo>
                  <a:lnTo>
                    <a:pt x="1128" y="509"/>
                  </a:lnTo>
                  <a:lnTo>
                    <a:pt x="1135" y="493"/>
                  </a:lnTo>
                  <a:lnTo>
                    <a:pt x="1122" y="484"/>
                  </a:lnTo>
                  <a:lnTo>
                    <a:pt x="1107" y="484"/>
                  </a:lnTo>
                  <a:lnTo>
                    <a:pt x="1094" y="493"/>
                  </a:lnTo>
                  <a:lnTo>
                    <a:pt x="1087" y="509"/>
                  </a:lnTo>
                  <a:lnTo>
                    <a:pt x="1073" y="517"/>
                  </a:lnTo>
                  <a:lnTo>
                    <a:pt x="1062" y="525"/>
                  </a:lnTo>
                  <a:lnTo>
                    <a:pt x="1047" y="534"/>
                  </a:lnTo>
                  <a:lnTo>
                    <a:pt x="1034" y="542"/>
                  </a:lnTo>
                  <a:lnTo>
                    <a:pt x="1027" y="558"/>
                  </a:lnTo>
                  <a:lnTo>
                    <a:pt x="1013" y="565"/>
                  </a:lnTo>
                  <a:lnTo>
                    <a:pt x="1027" y="548"/>
                  </a:lnTo>
                  <a:lnTo>
                    <a:pt x="1042" y="542"/>
                  </a:lnTo>
                  <a:lnTo>
                    <a:pt x="1054" y="534"/>
                  </a:lnTo>
                  <a:lnTo>
                    <a:pt x="1068" y="525"/>
                  </a:lnTo>
                  <a:lnTo>
                    <a:pt x="1081" y="517"/>
                  </a:lnTo>
                  <a:lnTo>
                    <a:pt x="1094" y="509"/>
                  </a:lnTo>
                  <a:lnTo>
                    <a:pt x="1107" y="501"/>
                  </a:lnTo>
                  <a:lnTo>
                    <a:pt x="1122" y="493"/>
                  </a:lnTo>
                  <a:lnTo>
                    <a:pt x="1128" y="476"/>
                  </a:lnTo>
                  <a:lnTo>
                    <a:pt x="1128" y="460"/>
                  </a:lnTo>
                  <a:lnTo>
                    <a:pt x="1114" y="453"/>
                  </a:lnTo>
                  <a:lnTo>
                    <a:pt x="1102" y="453"/>
                  </a:lnTo>
                  <a:lnTo>
                    <a:pt x="1087" y="453"/>
                  </a:lnTo>
                  <a:lnTo>
                    <a:pt x="1073" y="460"/>
                  </a:lnTo>
                  <a:lnTo>
                    <a:pt x="1068" y="476"/>
                  </a:lnTo>
                  <a:lnTo>
                    <a:pt x="1062" y="493"/>
                  </a:lnTo>
                  <a:lnTo>
                    <a:pt x="1054" y="509"/>
                  </a:lnTo>
                  <a:lnTo>
                    <a:pt x="1047" y="525"/>
                  </a:lnTo>
                  <a:lnTo>
                    <a:pt x="1034" y="542"/>
                  </a:lnTo>
                  <a:lnTo>
                    <a:pt x="1027" y="558"/>
                  </a:lnTo>
                  <a:lnTo>
                    <a:pt x="1013" y="573"/>
                  </a:lnTo>
                  <a:lnTo>
                    <a:pt x="1008" y="558"/>
                  </a:lnTo>
                  <a:lnTo>
                    <a:pt x="1013" y="542"/>
                  </a:lnTo>
                  <a:lnTo>
                    <a:pt x="1021" y="525"/>
                  </a:lnTo>
                  <a:lnTo>
                    <a:pt x="1034" y="517"/>
                  </a:lnTo>
                  <a:lnTo>
                    <a:pt x="1047" y="509"/>
                  </a:lnTo>
                  <a:lnTo>
                    <a:pt x="1062" y="501"/>
                  </a:lnTo>
                  <a:lnTo>
                    <a:pt x="1068" y="484"/>
                  </a:lnTo>
                  <a:lnTo>
                    <a:pt x="1073" y="468"/>
                  </a:lnTo>
                  <a:lnTo>
                    <a:pt x="1081" y="453"/>
                  </a:lnTo>
                  <a:lnTo>
                    <a:pt x="1081" y="435"/>
                  </a:lnTo>
                  <a:lnTo>
                    <a:pt x="1068" y="427"/>
                  </a:lnTo>
                  <a:lnTo>
                    <a:pt x="1054" y="427"/>
                  </a:lnTo>
                  <a:lnTo>
                    <a:pt x="1047" y="443"/>
                  </a:lnTo>
                  <a:lnTo>
                    <a:pt x="1042" y="460"/>
                  </a:lnTo>
                  <a:lnTo>
                    <a:pt x="1034" y="476"/>
                  </a:lnTo>
                  <a:lnTo>
                    <a:pt x="1027" y="493"/>
                  </a:lnTo>
                  <a:lnTo>
                    <a:pt x="1021" y="509"/>
                  </a:lnTo>
                  <a:lnTo>
                    <a:pt x="1013" y="525"/>
                  </a:lnTo>
                  <a:lnTo>
                    <a:pt x="1001" y="542"/>
                  </a:lnTo>
                  <a:lnTo>
                    <a:pt x="993" y="558"/>
                  </a:lnTo>
                  <a:lnTo>
                    <a:pt x="981" y="565"/>
                  </a:lnTo>
                  <a:lnTo>
                    <a:pt x="981" y="548"/>
                  </a:lnTo>
                  <a:lnTo>
                    <a:pt x="981" y="534"/>
                  </a:lnTo>
                  <a:lnTo>
                    <a:pt x="981" y="517"/>
                  </a:lnTo>
                  <a:lnTo>
                    <a:pt x="987" y="501"/>
                  </a:lnTo>
                  <a:lnTo>
                    <a:pt x="1001" y="484"/>
                  </a:lnTo>
                  <a:lnTo>
                    <a:pt x="1013" y="468"/>
                  </a:lnTo>
                  <a:lnTo>
                    <a:pt x="1021" y="453"/>
                  </a:lnTo>
                  <a:lnTo>
                    <a:pt x="1027" y="427"/>
                  </a:lnTo>
                  <a:lnTo>
                    <a:pt x="1034" y="413"/>
                  </a:lnTo>
                  <a:lnTo>
                    <a:pt x="1034" y="396"/>
                  </a:lnTo>
                  <a:lnTo>
                    <a:pt x="1021" y="388"/>
                  </a:lnTo>
                  <a:lnTo>
                    <a:pt x="1008" y="396"/>
                  </a:lnTo>
                  <a:lnTo>
                    <a:pt x="1001" y="413"/>
                  </a:lnTo>
                  <a:lnTo>
                    <a:pt x="993" y="427"/>
                  </a:lnTo>
                  <a:lnTo>
                    <a:pt x="981" y="443"/>
                  </a:lnTo>
                  <a:lnTo>
                    <a:pt x="974" y="460"/>
                  </a:lnTo>
                  <a:lnTo>
                    <a:pt x="967" y="476"/>
                  </a:lnTo>
                  <a:lnTo>
                    <a:pt x="960" y="493"/>
                  </a:lnTo>
                  <a:lnTo>
                    <a:pt x="953" y="509"/>
                  </a:lnTo>
                  <a:lnTo>
                    <a:pt x="940" y="517"/>
                  </a:lnTo>
                  <a:lnTo>
                    <a:pt x="933" y="534"/>
                  </a:lnTo>
                  <a:lnTo>
                    <a:pt x="927" y="548"/>
                  </a:lnTo>
                  <a:lnTo>
                    <a:pt x="914" y="565"/>
                  </a:lnTo>
                  <a:lnTo>
                    <a:pt x="914" y="581"/>
                  </a:lnTo>
                  <a:lnTo>
                    <a:pt x="899" y="598"/>
                  </a:lnTo>
                  <a:lnTo>
                    <a:pt x="893" y="581"/>
                  </a:lnTo>
                  <a:lnTo>
                    <a:pt x="893" y="565"/>
                  </a:lnTo>
                  <a:lnTo>
                    <a:pt x="893" y="548"/>
                  </a:lnTo>
                  <a:lnTo>
                    <a:pt x="899" y="534"/>
                  </a:lnTo>
                  <a:lnTo>
                    <a:pt x="914" y="517"/>
                  </a:lnTo>
                  <a:lnTo>
                    <a:pt x="919" y="501"/>
                  </a:lnTo>
                  <a:lnTo>
                    <a:pt x="927" y="484"/>
                  </a:lnTo>
                  <a:lnTo>
                    <a:pt x="933" y="468"/>
                  </a:lnTo>
                  <a:lnTo>
                    <a:pt x="948" y="453"/>
                  </a:lnTo>
                  <a:lnTo>
                    <a:pt x="953" y="435"/>
                  </a:lnTo>
                  <a:lnTo>
                    <a:pt x="960" y="420"/>
                  </a:lnTo>
                  <a:lnTo>
                    <a:pt x="974" y="413"/>
                  </a:lnTo>
                  <a:lnTo>
                    <a:pt x="981" y="396"/>
                  </a:lnTo>
                  <a:lnTo>
                    <a:pt x="974" y="380"/>
                  </a:lnTo>
                  <a:lnTo>
                    <a:pt x="960" y="380"/>
                  </a:lnTo>
                  <a:lnTo>
                    <a:pt x="948" y="388"/>
                  </a:lnTo>
                  <a:lnTo>
                    <a:pt x="933" y="396"/>
                  </a:lnTo>
                  <a:lnTo>
                    <a:pt x="927" y="413"/>
                  </a:lnTo>
                  <a:lnTo>
                    <a:pt x="914" y="427"/>
                  </a:lnTo>
                  <a:lnTo>
                    <a:pt x="907" y="443"/>
                  </a:lnTo>
                  <a:lnTo>
                    <a:pt x="893" y="453"/>
                  </a:lnTo>
                  <a:lnTo>
                    <a:pt x="907" y="453"/>
                  </a:lnTo>
                  <a:lnTo>
                    <a:pt x="914" y="435"/>
                  </a:lnTo>
                  <a:lnTo>
                    <a:pt x="927" y="420"/>
                  </a:lnTo>
                  <a:lnTo>
                    <a:pt x="933" y="405"/>
                  </a:lnTo>
                  <a:lnTo>
                    <a:pt x="933" y="388"/>
                  </a:lnTo>
                  <a:lnTo>
                    <a:pt x="927" y="372"/>
                  </a:lnTo>
                  <a:lnTo>
                    <a:pt x="914" y="372"/>
                  </a:lnTo>
                  <a:lnTo>
                    <a:pt x="899" y="364"/>
                  </a:lnTo>
                  <a:lnTo>
                    <a:pt x="887" y="355"/>
                  </a:lnTo>
                  <a:lnTo>
                    <a:pt x="873" y="355"/>
                  </a:lnTo>
                  <a:lnTo>
                    <a:pt x="859" y="355"/>
                  </a:lnTo>
                  <a:lnTo>
                    <a:pt x="846" y="355"/>
                  </a:lnTo>
                  <a:lnTo>
                    <a:pt x="833" y="355"/>
                  </a:lnTo>
                  <a:lnTo>
                    <a:pt x="819" y="364"/>
                  </a:lnTo>
                  <a:lnTo>
                    <a:pt x="805" y="372"/>
                  </a:lnTo>
                  <a:lnTo>
                    <a:pt x="794" y="388"/>
                  </a:lnTo>
                  <a:lnTo>
                    <a:pt x="785" y="405"/>
                  </a:lnTo>
                  <a:lnTo>
                    <a:pt x="779" y="420"/>
                  </a:lnTo>
                  <a:lnTo>
                    <a:pt x="773" y="435"/>
                  </a:lnTo>
                  <a:lnTo>
                    <a:pt x="758" y="460"/>
                  </a:lnTo>
                  <a:lnTo>
                    <a:pt x="753" y="476"/>
                  </a:lnTo>
                  <a:lnTo>
                    <a:pt x="739" y="493"/>
                  </a:lnTo>
                  <a:lnTo>
                    <a:pt x="739" y="476"/>
                  </a:lnTo>
                  <a:lnTo>
                    <a:pt x="745" y="460"/>
                  </a:lnTo>
                  <a:lnTo>
                    <a:pt x="753" y="443"/>
                  </a:lnTo>
                  <a:lnTo>
                    <a:pt x="758" y="427"/>
                  </a:lnTo>
                  <a:lnTo>
                    <a:pt x="765" y="413"/>
                  </a:lnTo>
                  <a:lnTo>
                    <a:pt x="773" y="396"/>
                  </a:lnTo>
                  <a:lnTo>
                    <a:pt x="779" y="380"/>
                  </a:lnTo>
                  <a:lnTo>
                    <a:pt x="785" y="364"/>
                  </a:lnTo>
                  <a:lnTo>
                    <a:pt x="773" y="364"/>
                  </a:lnTo>
                  <a:lnTo>
                    <a:pt x="765" y="380"/>
                  </a:lnTo>
                  <a:lnTo>
                    <a:pt x="758" y="396"/>
                  </a:lnTo>
                  <a:lnTo>
                    <a:pt x="745" y="413"/>
                  </a:lnTo>
                  <a:lnTo>
                    <a:pt x="739" y="427"/>
                  </a:lnTo>
                  <a:lnTo>
                    <a:pt x="724" y="443"/>
                  </a:lnTo>
                  <a:lnTo>
                    <a:pt x="719" y="460"/>
                  </a:lnTo>
                  <a:lnTo>
                    <a:pt x="719" y="476"/>
                  </a:lnTo>
                  <a:lnTo>
                    <a:pt x="705" y="493"/>
                  </a:lnTo>
                  <a:lnTo>
                    <a:pt x="698" y="509"/>
                  </a:lnTo>
                  <a:lnTo>
                    <a:pt x="685" y="517"/>
                  </a:lnTo>
                  <a:lnTo>
                    <a:pt x="692" y="501"/>
                  </a:lnTo>
                  <a:lnTo>
                    <a:pt x="698" y="484"/>
                  </a:lnTo>
                  <a:lnTo>
                    <a:pt x="712" y="460"/>
                  </a:lnTo>
                  <a:lnTo>
                    <a:pt x="732" y="443"/>
                  </a:lnTo>
                  <a:lnTo>
                    <a:pt x="745" y="427"/>
                  </a:lnTo>
                  <a:lnTo>
                    <a:pt x="753" y="405"/>
                  </a:lnTo>
                  <a:lnTo>
                    <a:pt x="765" y="388"/>
                  </a:lnTo>
                  <a:lnTo>
                    <a:pt x="765" y="372"/>
                  </a:lnTo>
                  <a:lnTo>
                    <a:pt x="773" y="355"/>
                  </a:lnTo>
                  <a:lnTo>
                    <a:pt x="779" y="339"/>
                  </a:lnTo>
                  <a:lnTo>
                    <a:pt x="765" y="331"/>
                  </a:lnTo>
                  <a:lnTo>
                    <a:pt x="753" y="339"/>
                  </a:lnTo>
                  <a:lnTo>
                    <a:pt x="745" y="355"/>
                  </a:lnTo>
                  <a:lnTo>
                    <a:pt x="739" y="372"/>
                  </a:lnTo>
                  <a:lnTo>
                    <a:pt x="724" y="388"/>
                  </a:lnTo>
                  <a:lnTo>
                    <a:pt x="719" y="405"/>
                  </a:lnTo>
                  <a:lnTo>
                    <a:pt x="712" y="420"/>
                  </a:lnTo>
                  <a:lnTo>
                    <a:pt x="712" y="435"/>
                  </a:lnTo>
                  <a:lnTo>
                    <a:pt x="698" y="453"/>
                  </a:lnTo>
                  <a:lnTo>
                    <a:pt x="692" y="468"/>
                  </a:lnTo>
                  <a:lnTo>
                    <a:pt x="685" y="484"/>
                  </a:lnTo>
                  <a:lnTo>
                    <a:pt x="685" y="460"/>
                  </a:lnTo>
                  <a:lnTo>
                    <a:pt x="692" y="443"/>
                  </a:lnTo>
                  <a:lnTo>
                    <a:pt x="712" y="420"/>
                  </a:lnTo>
                  <a:lnTo>
                    <a:pt x="745" y="372"/>
                  </a:lnTo>
                  <a:lnTo>
                    <a:pt x="753" y="355"/>
                  </a:lnTo>
                  <a:lnTo>
                    <a:pt x="758" y="339"/>
                  </a:lnTo>
                  <a:lnTo>
                    <a:pt x="765" y="323"/>
                  </a:lnTo>
                  <a:lnTo>
                    <a:pt x="753" y="315"/>
                  </a:lnTo>
                  <a:lnTo>
                    <a:pt x="739" y="323"/>
                  </a:lnTo>
                  <a:lnTo>
                    <a:pt x="732" y="339"/>
                  </a:lnTo>
                  <a:lnTo>
                    <a:pt x="719" y="355"/>
                  </a:lnTo>
                  <a:lnTo>
                    <a:pt x="712" y="372"/>
                  </a:lnTo>
                  <a:lnTo>
                    <a:pt x="698" y="388"/>
                  </a:lnTo>
                  <a:lnTo>
                    <a:pt x="692" y="405"/>
                  </a:lnTo>
                  <a:lnTo>
                    <a:pt x="685" y="420"/>
                  </a:lnTo>
                  <a:lnTo>
                    <a:pt x="679" y="435"/>
                  </a:lnTo>
                  <a:lnTo>
                    <a:pt x="679" y="453"/>
                  </a:lnTo>
                  <a:lnTo>
                    <a:pt x="664" y="468"/>
                  </a:lnTo>
                  <a:lnTo>
                    <a:pt x="659" y="484"/>
                  </a:lnTo>
                  <a:lnTo>
                    <a:pt x="652" y="501"/>
                  </a:lnTo>
                  <a:lnTo>
                    <a:pt x="645" y="517"/>
                  </a:lnTo>
                  <a:lnTo>
                    <a:pt x="638" y="534"/>
                  </a:lnTo>
                  <a:lnTo>
                    <a:pt x="638" y="517"/>
                  </a:lnTo>
                  <a:lnTo>
                    <a:pt x="645" y="501"/>
                  </a:lnTo>
                  <a:lnTo>
                    <a:pt x="659" y="484"/>
                  </a:lnTo>
                  <a:lnTo>
                    <a:pt x="664" y="468"/>
                  </a:lnTo>
                  <a:lnTo>
                    <a:pt x="671" y="453"/>
                  </a:lnTo>
                  <a:lnTo>
                    <a:pt x="685" y="427"/>
                  </a:lnTo>
                  <a:lnTo>
                    <a:pt x="692" y="413"/>
                  </a:lnTo>
                  <a:lnTo>
                    <a:pt x="698" y="396"/>
                  </a:lnTo>
                  <a:lnTo>
                    <a:pt x="712" y="380"/>
                  </a:lnTo>
                  <a:lnTo>
                    <a:pt x="719" y="364"/>
                  </a:lnTo>
                  <a:lnTo>
                    <a:pt x="724" y="347"/>
                  </a:lnTo>
                  <a:lnTo>
                    <a:pt x="732" y="331"/>
                  </a:lnTo>
                  <a:lnTo>
                    <a:pt x="732" y="315"/>
                  </a:lnTo>
                  <a:lnTo>
                    <a:pt x="732" y="299"/>
                  </a:lnTo>
                  <a:lnTo>
                    <a:pt x="719" y="290"/>
                  </a:lnTo>
                  <a:lnTo>
                    <a:pt x="712" y="307"/>
                  </a:lnTo>
                  <a:lnTo>
                    <a:pt x="712" y="323"/>
                  </a:lnTo>
                  <a:lnTo>
                    <a:pt x="698" y="331"/>
                  </a:lnTo>
                  <a:lnTo>
                    <a:pt x="712" y="331"/>
                  </a:lnTo>
                  <a:lnTo>
                    <a:pt x="724" y="323"/>
                  </a:lnTo>
                  <a:lnTo>
                    <a:pt x="732" y="307"/>
                  </a:lnTo>
                  <a:lnTo>
                    <a:pt x="732" y="290"/>
                  </a:lnTo>
                  <a:lnTo>
                    <a:pt x="719" y="290"/>
                  </a:lnTo>
                  <a:lnTo>
                    <a:pt x="705" y="299"/>
                  </a:lnTo>
                  <a:lnTo>
                    <a:pt x="692" y="315"/>
                  </a:lnTo>
                  <a:lnTo>
                    <a:pt x="679" y="323"/>
                  </a:lnTo>
                  <a:lnTo>
                    <a:pt x="664" y="339"/>
                  </a:lnTo>
                  <a:lnTo>
                    <a:pt x="664" y="323"/>
                  </a:lnTo>
                  <a:lnTo>
                    <a:pt x="664" y="307"/>
                  </a:lnTo>
                  <a:lnTo>
                    <a:pt x="664" y="290"/>
                  </a:lnTo>
                  <a:lnTo>
                    <a:pt x="664" y="274"/>
                  </a:lnTo>
                  <a:lnTo>
                    <a:pt x="664" y="258"/>
                  </a:lnTo>
                  <a:lnTo>
                    <a:pt x="652" y="249"/>
                  </a:lnTo>
                  <a:lnTo>
                    <a:pt x="630" y="249"/>
                  </a:lnTo>
                  <a:lnTo>
                    <a:pt x="618" y="249"/>
                  </a:lnTo>
                  <a:lnTo>
                    <a:pt x="625" y="235"/>
                  </a:lnTo>
                  <a:lnTo>
                    <a:pt x="625" y="219"/>
                  </a:lnTo>
                  <a:lnTo>
                    <a:pt x="630" y="202"/>
                  </a:lnTo>
                  <a:lnTo>
                    <a:pt x="630" y="186"/>
                  </a:lnTo>
                  <a:lnTo>
                    <a:pt x="630" y="169"/>
                  </a:lnTo>
                  <a:lnTo>
                    <a:pt x="618" y="161"/>
                  </a:lnTo>
                  <a:lnTo>
                    <a:pt x="604" y="161"/>
                  </a:lnTo>
                  <a:lnTo>
                    <a:pt x="591" y="161"/>
                  </a:lnTo>
                  <a:lnTo>
                    <a:pt x="577" y="161"/>
                  </a:lnTo>
                  <a:lnTo>
                    <a:pt x="565" y="153"/>
                  </a:lnTo>
                  <a:lnTo>
                    <a:pt x="558" y="137"/>
                  </a:lnTo>
                  <a:lnTo>
                    <a:pt x="544" y="129"/>
                  </a:lnTo>
                  <a:lnTo>
                    <a:pt x="531" y="120"/>
                  </a:lnTo>
                  <a:lnTo>
                    <a:pt x="516" y="113"/>
                  </a:lnTo>
                  <a:lnTo>
                    <a:pt x="504" y="104"/>
                  </a:lnTo>
                  <a:lnTo>
                    <a:pt x="497" y="89"/>
                  </a:lnTo>
                  <a:lnTo>
                    <a:pt x="484" y="89"/>
                  </a:lnTo>
                  <a:lnTo>
                    <a:pt x="471" y="81"/>
                  </a:lnTo>
                  <a:lnTo>
                    <a:pt x="456" y="73"/>
                  </a:lnTo>
                  <a:lnTo>
                    <a:pt x="443" y="64"/>
                  </a:lnTo>
                  <a:lnTo>
                    <a:pt x="423" y="57"/>
                  </a:lnTo>
                  <a:lnTo>
                    <a:pt x="411" y="57"/>
                  </a:lnTo>
                  <a:lnTo>
                    <a:pt x="396" y="49"/>
                  </a:lnTo>
                  <a:lnTo>
                    <a:pt x="383" y="40"/>
                  </a:lnTo>
                  <a:lnTo>
                    <a:pt x="370" y="32"/>
                  </a:lnTo>
                  <a:lnTo>
                    <a:pt x="356" y="32"/>
                  </a:lnTo>
                  <a:lnTo>
                    <a:pt x="343" y="25"/>
                  </a:lnTo>
                  <a:lnTo>
                    <a:pt x="329" y="16"/>
                  </a:lnTo>
                  <a:lnTo>
                    <a:pt x="317" y="16"/>
                  </a:lnTo>
                  <a:lnTo>
                    <a:pt x="302" y="16"/>
                  </a:lnTo>
                  <a:lnTo>
                    <a:pt x="289" y="8"/>
                  </a:lnTo>
                  <a:lnTo>
                    <a:pt x="269" y="8"/>
                  </a:lnTo>
                  <a:lnTo>
                    <a:pt x="255" y="8"/>
                  </a:lnTo>
                  <a:lnTo>
                    <a:pt x="242" y="8"/>
                  </a:lnTo>
                  <a:lnTo>
                    <a:pt x="228" y="8"/>
                  </a:lnTo>
                  <a:lnTo>
                    <a:pt x="215" y="8"/>
                  </a:lnTo>
                  <a:lnTo>
                    <a:pt x="202" y="8"/>
                  </a:lnTo>
                  <a:lnTo>
                    <a:pt x="187" y="8"/>
                  </a:lnTo>
                  <a:lnTo>
                    <a:pt x="175" y="8"/>
                  </a:lnTo>
                  <a:lnTo>
                    <a:pt x="161" y="8"/>
                  </a:lnTo>
                  <a:lnTo>
                    <a:pt x="148" y="0"/>
                  </a:lnTo>
                  <a:lnTo>
                    <a:pt x="134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5" y="0"/>
                  </a:lnTo>
                  <a:lnTo>
                    <a:pt x="81" y="0"/>
                  </a:lnTo>
                  <a:lnTo>
                    <a:pt x="67" y="0"/>
                  </a:lnTo>
                  <a:lnTo>
                    <a:pt x="55" y="8"/>
                  </a:lnTo>
                  <a:lnTo>
                    <a:pt x="40" y="8"/>
                  </a:lnTo>
                  <a:lnTo>
                    <a:pt x="27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58000" y="2752560"/>
              <a:ext cx="589320" cy="949680"/>
            </a:xfrm>
            <a:custGeom>
              <a:avLst/>
              <a:gdLst/>
              <a:ahLst/>
              <a:rect l="l" t="t" r="r" b="b"/>
              <a:pathLst>
                <a:path w="1047" h="1462">
                  <a:moveTo>
                    <a:pt x="0" y="0"/>
                  </a:moveTo>
                  <a:lnTo>
                    <a:pt x="13" y="0"/>
                  </a:lnTo>
                  <a:lnTo>
                    <a:pt x="27" y="0"/>
                  </a:lnTo>
                  <a:lnTo>
                    <a:pt x="40" y="8"/>
                  </a:lnTo>
                  <a:lnTo>
                    <a:pt x="55" y="16"/>
                  </a:lnTo>
                  <a:lnTo>
                    <a:pt x="61" y="16"/>
                  </a:lnTo>
                  <a:lnTo>
                    <a:pt x="74" y="16"/>
                  </a:lnTo>
                  <a:lnTo>
                    <a:pt x="88" y="16"/>
                  </a:lnTo>
                  <a:lnTo>
                    <a:pt x="100" y="16"/>
                  </a:lnTo>
                  <a:lnTo>
                    <a:pt x="115" y="16"/>
                  </a:lnTo>
                  <a:lnTo>
                    <a:pt x="127" y="16"/>
                  </a:lnTo>
                  <a:lnTo>
                    <a:pt x="141" y="16"/>
                  </a:lnTo>
                  <a:lnTo>
                    <a:pt x="155" y="16"/>
                  </a:lnTo>
                  <a:lnTo>
                    <a:pt x="169" y="16"/>
                  </a:lnTo>
                  <a:lnTo>
                    <a:pt x="182" y="25"/>
                  </a:lnTo>
                  <a:lnTo>
                    <a:pt x="195" y="32"/>
                  </a:lnTo>
                  <a:lnTo>
                    <a:pt x="208" y="32"/>
                  </a:lnTo>
                  <a:lnTo>
                    <a:pt x="221" y="40"/>
                  </a:lnTo>
                  <a:lnTo>
                    <a:pt x="235" y="40"/>
                  </a:lnTo>
                  <a:lnTo>
                    <a:pt x="249" y="49"/>
                  </a:lnTo>
                  <a:lnTo>
                    <a:pt x="262" y="49"/>
                  </a:lnTo>
                  <a:lnTo>
                    <a:pt x="276" y="49"/>
                  </a:lnTo>
                  <a:lnTo>
                    <a:pt x="289" y="57"/>
                  </a:lnTo>
                  <a:lnTo>
                    <a:pt x="302" y="64"/>
                  </a:lnTo>
                  <a:lnTo>
                    <a:pt x="317" y="64"/>
                  </a:lnTo>
                  <a:lnTo>
                    <a:pt x="329" y="73"/>
                  </a:lnTo>
                  <a:lnTo>
                    <a:pt x="343" y="81"/>
                  </a:lnTo>
                  <a:lnTo>
                    <a:pt x="356" y="89"/>
                  </a:lnTo>
                  <a:lnTo>
                    <a:pt x="370" y="96"/>
                  </a:lnTo>
                  <a:lnTo>
                    <a:pt x="383" y="104"/>
                  </a:lnTo>
                  <a:lnTo>
                    <a:pt x="396" y="113"/>
                  </a:lnTo>
                  <a:lnTo>
                    <a:pt x="411" y="129"/>
                  </a:lnTo>
                  <a:lnTo>
                    <a:pt x="423" y="129"/>
                  </a:lnTo>
                  <a:lnTo>
                    <a:pt x="430" y="145"/>
                  </a:lnTo>
                  <a:lnTo>
                    <a:pt x="443" y="145"/>
                  </a:lnTo>
                  <a:lnTo>
                    <a:pt x="456" y="153"/>
                  </a:lnTo>
                  <a:lnTo>
                    <a:pt x="471" y="161"/>
                  </a:lnTo>
                  <a:lnTo>
                    <a:pt x="484" y="169"/>
                  </a:lnTo>
                  <a:lnTo>
                    <a:pt x="497" y="178"/>
                  </a:lnTo>
                  <a:lnTo>
                    <a:pt x="484" y="178"/>
                  </a:lnTo>
                  <a:lnTo>
                    <a:pt x="471" y="169"/>
                  </a:lnTo>
                  <a:lnTo>
                    <a:pt x="484" y="169"/>
                  </a:lnTo>
                  <a:lnTo>
                    <a:pt x="490" y="186"/>
                  </a:lnTo>
                  <a:lnTo>
                    <a:pt x="484" y="202"/>
                  </a:lnTo>
                  <a:lnTo>
                    <a:pt x="471" y="211"/>
                  </a:lnTo>
                  <a:lnTo>
                    <a:pt x="443" y="227"/>
                  </a:lnTo>
                  <a:lnTo>
                    <a:pt x="437" y="243"/>
                  </a:lnTo>
                  <a:lnTo>
                    <a:pt x="423" y="243"/>
                  </a:lnTo>
                  <a:lnTo>
                    <a:pt x="411" y="258"/>
                  </a:lnTo>
                  <a:lnTo>
                    <a:pt x="396" y="266"/>
                  </a:lnTo>
                  <a:lnTo>
                    <a:pt x="396" y="282"/>
                  </a:lnTo>
                  <a:lnTo>
                    <a:pt x="390" y="299"/>
                  </a:lnTo>
                  <a:lnTo>
                    <a:pt x="383" y="315"/>
                  </a:lnTo>
                  <a:lnTo>
                    <a:pt x="377" y="331"/>
                  </a:lnTo>
                  <a:lnTo>
                    <a:pt x="377" y="347"/>
                  </a:lnTo>
                  <a:lnTo>
                    <a:pt x="370" y="364"/>
                  </a:lnTo>
                  <a:lnTo>
                    <a:pt x="363" y="380"/>
                  </a:lnTo>
                  <a:lnTo>
                    <a:pt x="356" y="396"/>
                  </a:lnTo>
                  <a:lnTo>
                    <a:pt x="356" y="413"/>
                  </a:lnTo>
                  <a:lnTo>
                    <a:pt x="349" y="427"/>
                  </a:lnTo>
                  <a:lnTo>
                    <a:pt x="349" y="443"/>
                  </a:lnTo>
                  <a:lnTo>
                    <a:pt x="363" y="443"/>
                  </a:lnTo>
                  <a:lnTo>
                    <a:pt x="370" y="427"/>
                  </a:lnTo>
                  <a:lnTo>
                    <a:pt x="377" y="413"/>
                  </a:lnTo>
                  <a:lnTo>
                    <a:pt x="377" y="396"/>
                  </a:lnTo>
                  <a:lnTo>
                    <a:pt x="390" y="380"/>
                  </a:lnTo>
                  <a:lnTo>
                    <a:pt x="390" y="364"/>
                  </a:lnTo>
                  <a:lnTo>
                    <a:pt x="396" y="347"/>
                  </a:lnTo>
                  <a:lnTo>
                    <a:pt x="403" y="331"/>
                  </a:lnTo>
                  <a:lnTo>
                    <a:pt x="411" y="315"/>
                  </a:lnTo>
                  <a:lnTo>
                    <a:pt x="416" y="299"/>
                  </a:lnTo>
                  <a:lnTo>
                    <a:pt x="430" y="299"/>
                  </a:lnTo>
                  <a:lnTo>
                    <a:pt x="437" y="282"/>
                  </a:lnTo>
                  <a:lnTo>
                    <a:pt x="450" y="274"/>
                  </a:lnTo>
                  <a:lnTo>
                    <a:pt x="464" y="274"/>
                  </a:lnTo>
                  <a:lnTo>
                    <a:pt x="476" y="266"/>
                  </a:lnTo>
                  <a:lnTo>
                    <a:pt x="490" y="266"/>
                  </a:lnTo>
                  <a:lnTo>
                    <a:pt x="504" y="266"/>
                  </a:lnTo>
                  <a:lnTo>
                    <a:pt x="516" y="266"/>
                  </a:lnTo>
                  <a:lnTo>
                    <a:pt x="516" y="282"/>
                  </a:lnTo>
                  <a:lnTo>
                    <a:pt x="510" y="299"/>
                  </a:lnTo>
                  <a:lnTo>
                    <a:pt x="504" y="315"/>
                  </a:lnTo>
                  <a:lnTo>
                    <a:pt x="497" y="331"/>
                  </a:lnTo>
                  <a:lnTo>
                    <a:pt x="490" y="347"/>
                  </a:lnTo>
                  <a:lnTo>
                    <a:pt x="484" y="364"/>
                  </a:lnTo>
                  <a:lnTo>
                    <a:pt x="476" y="380"/>
                  </a:lnTo>
                  <a:lnTo>
                    <a:pt x="471" y="396"/>
                  </a:lnTo>
                  <a:lnTo>
                    <a:pt x="464" y="413"/>
                  </a:lnTo>
                  <a:lnTo>
                    <a:pt x="464" y="427"/>
                  </a:lnTo>
                  <a:lnTo>
                    <a:pt x="464" y="443"/>
                  </a:lnTo>
                  <a:lnTo>
                    <a:pt x="464" y="460"/>
                  </a:lnTo>
                  <a:lnTo>
                    <a:pt x="456" y="476"/>
                  </a:lnTo>
                  <a:lnTo>
                    <a:pt x="456" y="493"/>
                  </a:lnTo>
                  <a:lnTo>
                    <a:pt x="450" y="509"/>
                  </a:lnTo>
                  <a:lnTo>
                    <a:pt x="464" y="509"/>
                  </a:lnTo>
                  <a:lnTo>
                    <a:pt x="464" y="493"/>
                  </a:lnTo>
                  <a:lnTo>
                    <a:pt x="471" y="476"/>
                  </a:lnTo>
                  <a:lnTo>
                    <a:pt x="476" y="460"/>
                  </a:lnTo>
                  <a:lnTo>
                    <a:pt x="484" y="443"/>
                  </a:lnTo>
                  <a:lnTo>
                    <a:pt x="490" y="427"/>
                  </a:lnTo>
                  <a:lnTo>
                    <a:pt x="490" y="413"/>
                  </a:lnTo>
                  <a:lnTo>
                    <a:pt x="497" y="396"/>
                  </a:lnTo>
                  <a:lnTo>
                    <a:pt x="510" y="380"/>
                  </a:lnTo>
                  <a:lnTo>
                    <a:pt x="516" y="364"/>
                  </a:lnTo>
                  <a:lnTo>
                    <a:pt x="524" y="347"/>
                  </a:lnTo>
                  <a:lnTo>
                    <a:pt x="538" y="339"/>
                  </a:lnTo>
                  <a:lnTo>
                    <a:pt x="544" y="323"/>
                  </a:lnTo>
                  <a:lnTo>
                    <a:pt x="544" y="339"/>
                  </a:lnTo>
                  <a:lnTo>
                    <a:pt x="538" y="355"/>
                  </a:lnTo>
                  <a:lnTo>
                    <a:pt x="531" y="372"/>
                  </a:lnTo>
                  <a:lnTo>
                    <a:pt x="516" y="388"/>
                  </a:lnTo>
                  <a:lnTo>
                    <a:pt x="510" y="405"/>
                  </a:lnTo>
                  <a:lnTo>
                    <a:pt x="504" y="420"/>
                  </a:lnTo>
                  <a:lnTo>
                    <a:pt x="490" y="443"/>
                  </a:lnTo>
                  <a:lnTo>
                    <a:pt x="490" y="460"/>
                  </a:lnTo>
                  <a:lnTo>
                    <a:pt x="484" y="476"/>
                  </a:lnTo>
                  <a:lnTo>
                    <a:pt x="484" y="493"/>
                  </a:lnTo>
                  <a:lnTo>
                    <a:pt x="476" y="509"/>
                  </a:lnTo>
                  <a:lnTo>
                    <a:pt x="471" y="525"/>
                  </a:lnTo>
                  <a:lnTo>
                    <a:pt x="471" y="542"/>
                  </a:lnTo>
                  <a:lnTo>
                    <a:pt x="471" y="558"/>
                  </a:lnTo>
                  <a:lnTo>
                    <a:pt x="464" y="573"/>
                  </a:lnTo>
                  <a:lnTo>
                    <a:pt x="464" y="589"/>
                  </a:lnTo>
                  <a:lnTo>
                    <a:pt x="464" y="605"/>
                  </a:lnTo>
                  <a:lnTo>
                    <a:pt x="464" y="589"/>
                  </a:lnTo>
                  <a:lnTo>
                    <a:pt x="476" y="581"/>
                  </a:lnTo>
                  <a:lnTo>
                    <a:pt x="484" y="565"/>
                  </a:lnTo>
                  <a:lnTo>
                    <a:pt x="490" y="548"/>
                  </a:lnTo>
                  <a:lnTo>
                    <a:pt x="497" y="534"/>
                  </a:lnTo>
                  <a:lnTo>
                    <a:pt x="510" y="525"/>
                  </a:lnTo>
                  <a:lnTo>
                    <a:pt x="516" y="509"/>
                  </a:lnTo>
                  <a:lnTo>
                    <a:pt x="524" y="493"/>
                  </a:lnTo>
                  <a:lnTo>
                    <a:pt x="524" y="509"/>
                  </a:lnTo>
                  <a:lnTo>
                    <a:pt x="516" y="525"/>
                  </a:lnTo>
                  <a:lnTo>
                    <a:pt x="504" y="542"/>
                  </a:lnTo>
                  <a:lnTo>
                    <a:pt x="497" y="558"/>
                  </a:lnTo>
                  <a:lnTo>
                    <a:pt x="490" y="573"/>
                  </a:lnTo>
                  <a:lnTo>
                    <a:pt x="476" y="581"/>
                  </a:lnTo>
                  <a:lnTo>
                    <a:pt x="471" y="598"/>
                  </a:lnTo>
                  <a:lnTo>
                    <a:pt x="464" y="614"/>
                  </a:lnTo>
                  <a:lnTo>
                    <a:pt x="456" y="630"/>
                  </a:lnTo>
                  <a:lnTo>
                    <a:pt x="456" y="646"/>
                  </a:lnTo>
                  <a:lnTo>
                    <a:pt x="456" y="662"/>
                  </a:lnTo>
                  <a:lnTo>
                    <a:pt x="456" y="679"/>
                  </a:lnTo>
                  <a:lnTo>
                    <a:pt x="464" y="662"/>
                  </a:lnTo>
                  <a:lnTo>
                    <a:pt x="471" y="646"/>
                  </a:lnTo>
                  <a:lnTo>
                    <a:pt x="476" y="630"/>
                  </a:lnTo>
                  <a:lnTo>
                    <a:pt x="484" y="614"/>
                  </a:lnTo>
                  <a:lnTo>
                    <a:pt x="490" y="598"/>
                  </a:lnTo>
                  <a:lnTo>
                    <a:pt x="497" y="581"/>
                  </a:lnTo>
                  <a:lnTo>
                    <a:pt x="510" y="573"/>
                  </a:lnTo>
                  <a:lnTo>
                    <a:pt x="516" y="558"/>
                  </a:lnTo>
                  <a:lnTo>
                    <a:pt x="531" y="542"/>
                  </a:lnTo>
                  <a:lnTo>
                    <a:pt x="544" y="525"/>
                  </a:lnTo>
                  <a:lnTo>
                    <a:pt x="544" y="542"/>
                  </a:lnTo>
                  <a:lnTo>
                    <a:pt x="544" y="558"/>
                  </a:lnTo>
                  <a:lnTo>
                    <a:pt x="538" y="573"/>
                  </a:lnTo>
                  <a:lnTo>
                    <a:pt x="531" y="589"/>
                  </a:lnTo>
                  <a:lnTo>
                    <a:pt x="524" y="605"/>
                  </a:lnTo>
                  <a:lnTo>
                    <a:pt x="516" y="622"/>
                  </a:lnTo>
                  <a:lnTo>
                    <a:pt x="510" y="638"/>
                  </a:lnTo>
                  <a:lnTo>
                    <a:pt x="504" y="654"/>
                  </a:lnTo>
                  <a:lnTo>
                    <a:pt x="497" y="670"/>
                  </a:lnTo>
                  <a:lnTo>
                    <a:pt x="490" y="687"/>
                  </a:lnTo>
                  <a:lnTo>
                    <a:pt x="484" y="703"/>
                  </a:lnTo>
                  <a:lnTo>
                    <a:pt x="484" y="720"/>
                  </a:lnTo>
                  <a:lnTo>
                    <a:pt x="476" y="734"/>
                  </a:lnTo>
                  <a:lnTo>
                    <a:pt x="476" y="751"/>
                  </a:lnTo>
                  <a:lnTo>
                    <a:pt x="490" y="759"/>
                  </a:lnTo>
                  <a:lnTo>
                    <a:pt x="497" y="743"/>
                  </a:lnTo>
                  <a:lnTo>
                    <a:pt x="504" y="726"/>
                  </a:lnTo>
                  <a:lnTo>
                    <a:pt x="510" y="710"/>
                  </a:lnTo>
                  <a:lnTo>
                    <a:pt x="516" y="695"/>
                  </a:lnTo>
                  <a:lnTo>
                    <a:pt x="524" y="679"/>
                  </a:lnTo>
                  <a:lnTo>
                    <a:pt x="524" y="662"/>
                  </a:lnTo>
                  <a:lnTo>
                    <a:pt x="531" y="646"/>
                  </a:lnTo>
                  <a:lnTo>
                    <a:pt x="544" y="630"/>
                  </a:lnTo>
                  <a:lnTo>
                    <a:pt x="550" y="605"/>
                  </a:lnTo>
                  <a:lnTo>
                    <a:pt x="565" y="589"/>
                  </a:lnTo>
                  <a:lnTo>
                    <a:pt x="577" y="573"/>
                  </a:lnTo>
                  <a:lnTo>
                    <a:pt x="585" y="558"/>
                  </a:lnTo>
                  <a:lnTo>
                    <a:pt x="591" y="542"/>
                  </a:lnTo>
                  <a:lnTo>
                    <a:pt x="585" y="558"/>
                  </a:lnTo>
                  <a:lnTo>
                    <a:pt x="570" y="573"/>
                  </a:lnTo>
                  <a:lnTo>
                    <a:pt x="558" y="589"/>
                  </a:lnTo>
                  <a:lnTo>
                    <a:pt x="550" y="605"/>
                  </a:lnTo>
                  <a:lnTo>
                    <a:pt x="544" y="622"/>
                  </a:lnTo>
                  <a:lnTo>
                    <a:pt x="544" y="638"/>
                  </a:lnTo>
                  <a:lnTo>
                    <a:pt x="538" y="654"/>
                  </a:lnTo>
                  <a:lnTo>
                    <a:pt x="531" y="670"/>
                  </a:lnTo>
                  <a:lnTo>
                    <a:pt x="524" y="687"/>
                  </a:lnTo>
                  <a:lnTo>
                    <a:pt x="516" y="703"/>
                  </a:lnTo>
                  <a:lnTo>
                    <a:pt x="516" y="720"/>
                  </a:lnTo>
                  <a:lnTo>
                    <a:pt x="516" y="734"/>
                  </a:lnTo>
                  <a:lnTo>
                    <a:pt x="510" y="751"/>
                  </a:lnTo>
                  <a:lnTo>
                    <a:pt x="504" y="767"/>
                  </a:lnTo>
                  <a:lnTo>
                    <a:pt x="504" y="784"/>
                  </a:lnTo>
                  <a:lnTo>
                    <a:pt x="497" y="800"/>
                  </a:lnTo>
                  <a:lnTo>
                    <a:pt x="497" y="815"/>
                  </a:lnTo>
                  <a:lnTo>
                    <a:pt x="510" y="815"/>
                  </a:lnTo>
                  <a:lnTo>
                    <a:pt x="524" y="823"/>
                  </a:lnTo>
                  <a:lnTo>
                    <a:pt x="524" y="840"/>
                  </a:lnTo>
                  <a:lnTo>
                    <a:pt x="524" y="855"/>
                  </a:lnTo>
                  <a:lnTo>
                    <a:pt x="524" y="872"/>
                  </a:lnTo>
                  <a:lnTo>
                    <a:pt x="524" y="888"/>
                  </a:lnTo>
                  <a:lnTo>
                    <a:pt x="538" y="865"/>
                  </a:lnTo>
                  <a:lnTo>
                    <a:pt x="538" y="848"/>
                  </a:lnTo>
                  <a:lnTo>
                    <a:pt x="538" y="832"/>
                  </a:lnTo>
                  <a:lnTo>
                    <a:pt x="544" y="808"/>
                  </a:lnTo>
                  <a:lnTo>
                    <a:pt x="544" y="792"/>
                  </a:lnTo>
                  <a:lnTo>
                    <a:pt x="550" y="775"/>
                  </a:lnTo>
                  <a:lnTo>
                    <a:pt x="558" y="759"/>
                  </a:lnTo>
                  <a:lnTo>
                    <a:pt x="565" y="743"/>
                  </a:lnTo>
                  <a:lnTo>
                    <a:pt x="570" y="726"/>
                  </a:lnTo>
                  <a:lnTo>
                    <a:pt x="577" y="710"/>
                  </a:lnTo>
                  <a:lnTo>
                    <a:pt x="585" y="695"/>
                  </a:lnTo>
                  <a:lnTo>
                    <a:pt x="591" y="679"/>
                  </a:lnTo>
                  <a:lnTo>
                    <a:pt x="598" y="662"/>
                  </a:lnTo>
                  <a:lnTo>
                    <a:pt x="598" y="646"/>
                  </a:lnTo>
                  <a:lnTo>
                    <a:pt x="604" y="630"/>
                  </a:lnTo>
                  <a:lnTo>
                    <a:pt x="610" y="614"/>
                  </a:lnTo>
                  <a:lnTo>
                    <a:pt x="618" y="598"/>
                  </a:lnTo>
                  <a:lnTo>
                    <a:pt x="618" y="581"/>
                  </a:lnTo>
                  <a:lnTo>
                    <a:pt x="625" y="605"/>
                  </a:lnTo>
                  <a:lnTo>
                    <a:pt x="618" y="622"/>
                  </a:lnTo>
                  <a:lnTo>
                    <a:pt x="610" y="646"/>
                  </a:lnTo>
                  <a:lnTo>
                    <a:pt x="604" y="662"/>
                  </a:lnTo>
                  <a:lnTo>
                    <a:pt x="598" y="679"/>
                  </a:lnTo>
                  <a:lnTo>
                    <a:pt x="591" y="695"/>
                  </a:lnTo>
                  <a:lnTo>
                    <a:pt x="585" y="710"/>
                  </a:lnTo>
                  <a:lnTo>
                    <a:pt x="585" y="726"/>
                  </a:lnTo>
                  <a:lnTo>
                    <a:pt x="577" y="743"/>
                  </a:lnTo>
                  <a:lnTo>
                    <a:pt x="570" y="759"/>
                  </a:lnTo>
                  <a:lnTo>
                    <a:pt x="570" y="775"/>
                  </a:lnTo>
                  <a:lnTo>
                    <a:pt x="565" y="792"/>
                  </a:lnTo>
                  <a:lnTo>
                    <a:pt x="558" y="808"/>
                  </a:lnTo>
                  <a:lnTo>
                    <a:pt x="558" y="823"/>
                  </a:lnTo>
                  <a:lnTo>
                    <a:pt x="550" y="840"/>
                  </a:lnTo>
                  <a:lnTo>
                    <a:pt x="550" y="855"/>
                  </a:lnTo>
                  <a:lnTo>
                    <a:pt x="550" y="872"/>
                  </a:lnTo>
                  <a:lnTo>
                    <a:pt x="544" y="888"/>
                  </a:lnTo>
                  <a:lnTo>
                    <a:pt x="538" y="904"/>
                  </a:lnTo>
                  <a:lnTo>
                    <a:pt x="538" y="920"/>
                  </a:lnTo>
                  <a:lnTo>
                    <a:pt x="538" y="937"/>
                  </a:lnTo>
                  <a:lnTo>
                    <a:pt x="531" y="953"/>
                  </a:lnTo>
                  <a:lnTo>
                    <a:pt x="531" y="969"/>
                  </a:lnTo>
                  <a:lnTo>
                    <a:pt x="538" y="986"/>
                  </a:lnTo>
                  <a:lnTo>
                    <a:pt x="544" y="1000"/>
                  </a:lnTo>
                  <a:lnTo>
                    <a:pt x="544" y="1019"/>
                  </a:lnTo>
                  <a:lnTo>
                    <a:pt x="544" y="1033"/>
                  </a:lnTo>
                  <a:lnTo>
                    <a:pt x="544" y="1049"/>
                  </a:lnTo>
                  <a:lnTo>
                    <a:pt x="544" y="1074"/>
                  </a:lnTo>
                  <a:lnTo>
                    <a:pt x="544" y="1090"/>
                  </a:lnTo>
                  <a:lnTo>
                    <a:pt x="558" y="1099"/>
                  </a:lnTo>
                  <a:lnTo>
                    <a:pt x="558" y="1115"/>
                  </a:lnTo>
                  <a:lnTo>
                    <a:pt x="558" y="1131"/>
                  </a:lnTo>
                  <a:lnTo>
                    <a:pt x="550" y="1147"/>
                  </a:lnTo>
                  <a:lnTo>
                    <a:pt x="538" y="1147"/>
                  </a:lnTo>
                  <a:lnTo>
                    <a:pt x="524" y="1155"/>
                  </a:lnTo>
                  <a:lnTo>
                    <a:pt x="510" y="1162"/>
                  </a:lnTo>
                  <a:lnTo>
                    <a:pt x="497" y="1172"/>
                  </a:lnTo>
                  <a:lnTo>
                    <a:pt x="497" y="1187"/>
                  </a:lnTo>
                  <a:lnTo>
                    <a:pt x="484" y="1195"/>
                  </a:lnTo>
                  <a:lnTo>
                    <a:pt x="476" y="1211"/>
                  </a:lnTo>
                  <a:lnTo>
                    <a:pt x="471" y="1227"/>
                  </a:lnTo>
                  <a:lnTo>
                    <a:pt x="464" y="1244"/>
                  </a:lnTo>
                  <a:lnTo>
                    <a:pt x="456" y="1260"/>
                  </a:lnTo>
                  <a:lnTo>
                    <a:pt x="450" y="1277"/>
                  </a:lnTo>
                  <a:lnTo>
                    <a:pt x="443" y="1293"/>
                  </a:lnTo>
                  <a:lnTo>
                    <a:pt x="443" y="1307"/>
                  </a:lnTo>
                  <a:lnTo>
                    <a:pt x="437" y="1324"/>
                  </a:lnTo>
                  <a:lnTo>
                    <a:pt x="430" y="1340"/>
                  </a:lnTo>
                  <a:lnTo>
                    <a:pt x="423" y="1348"/>
                  </a:lnTo>
                  <a:lnTo>
                    <a:pt x="416" y="1332"/>
                  </a:lnTo>
                  <a:lnTo>
                    <a:pt x="423" y="1348"/>
                  </a:lnTo>
                  <a:lnTo>
                    <a:pt x="416" y="1365"/>
                  </a:lnTo>
                  <a:lnTo>
                    <a:pt x="403" y="1373"/>
                  </a:lnTo>
                  <a:lnTo>
                    <a:pt x="396" y="1389"/>
                  </a:lnTo>
                  <a:lnTo>
                    <a:pt x="390" y="1405"/>
                  </a:lnTo>
                  <a:lnTo>
                    <a:pt x="390" y="1422"/>
                  </a:lnTo>
                  <a:lnTo>
                    <a:pt x="390" y="1438"/>
                  </a:lnTo>
                  <a:lnTo>
                    <a:pt x="390" y="1454"/>
                  </a:lnTo>
                  <a:lnTo>
                    <a:pt x="403" y="1462"/>
                  </a:lnTo>
                  <a:lnTo>
                    <a:pt x="416" y="1462"/>
                  </a:lnTo>
                  <a:lnTo>
                    <a:pt x="430" y="1462"/>
                  </a:lnTo>
                  <a:lnTo>
                    <a:pt x="443" y="1462"/>
                  </a:lnTo>
                  <a:lnTo>
                    <a:pt x="456" y="1454"/>
                  </a:lnTo>
                  <a:lnTo>
                    <a:pt x="471" y="1454"/>
                  </a:lnTo>
                  <a:lnTo>
                    <a:pt x="484" y="1454"/>
                  </a:lnTo>
                  <a:lnTo>
                    <a:pt x="497" y="1446"/>
                  </a:lnTo>
                  <a:lnTo>
                    <a:pt x="510" y="1446"/>
                  </a:lnTo>
                  <a:lnTo>
                    <a:pt x="524" y="1446"/>
                  </a:lnTo>
                  <a:lnTo>
                    <a:pt x="538" y="1438"/>
                  </a:lnTo>
                  <a:lnTo>
                    <a:pt x="550" y="1438"/>
                  </a:lnTo>
                  <a:lnTo>
                    <a:pt x="565" y="1430"/>
                  </a:lnTo>
                  <a:lnTo>
                    <a:pt x="577" y="1422"/>
                  </a:lnTo>
                  <a:lnTo>
                    <a:pt x="591" y="1422"/>
                  </a:lnTo>
                  <a:lnTo>
                    <a:pt x="604" y="1413"/>
                  </a:lnTo>
                  <a:lnTo>
                    <a:pt x="618" y="1405"/>
                  </a:lnTo>
                  <a:lnTo>
                    <a:pt x="630" y="1397"/>
                  </a:lnTo>
                  <a:lnTo>
                    <a:pt x="645" y="1389"/>
                  </a:lnTo>
                  <a:lnTo>
                    <a:pt x="659" y="1373"/>
                  </a:lnTo>
                  <a:lnTo>
                    <a:pt x="679" y="1365"/>
                  </a:lnTo>
                  <a:lnTo>
                    <a:pt x="692" y="1365"/>
                  </a:lnTo>
                  <a:lnTo>
                    <a:pt x="705" y="1357"/>
                  </a:lnTo>
                  <a:lnTo>
                    <a:pt x="719" y="1357"/>
                  </a:lnTo>
                  <a:lnTo>
                    <a:pt x="732" y="1357"/>
                  </a:lnTo>
                  <a:lnTo>
                    <a:pt x="745" y="1357"/>
                  </a:lnTo>
                  <a:lnTo>
                    <a:pt x="758" y="1357"/>
                  </a:lnTo>
                  <a:lnTo>
                    <a:pt x="773" y="1357"/>
                  </a:lnTo>
                  <a:lnTo>
                    <a:pt x="785" y="1365"/>
                  </a:lnTo>
                  <a:lnTo>
                    <a:pt x="799" y="1365"/>
                  </a:lnTo>
                  <a:lnTo>
                    <a:pt x="813" y="1365"/>
                  </a:lnTo>
                  <a:lnTo>
                    <a:pt x="825" y="1365"/>
                  </a:lnTo>
                  <a:lnTo>
                    <a:pt x="839" y="1365"/>
                  </a:lnTo>
                  <a:lnTo>
                    <a:pt x="854" y="1365"/>
                  </a:lnTo>
                  <a:lnTo>
                    <a:pt x="866" y="1365"/>
                  </a:lnTo>
                  <a:lnTo>
                    <a:pt x="879" y="1365"/>
                  </a:lnTo>
                  <a:lnTo>
                    <a:pt x="893" y="1365"/>
                  </a:lnTo>
                  <a:lnTo>
                    <a:pt x="879" y="1357"/>
                  </a:lnTo>
                  <a:lnTo>
                    <a:pt x="866" y="1348"/>
                  </a:lnTo>
                  <a:lnTo>
                    <a:pt x="854" y="1348"/>
                  </a:lnTo>
                  <a:lnTo>
                    <a:pt x="839" y="1340"/>
                  </a:lnTo>
                  <a:lnTo>
                    <a:pt x="825" y="1340"/>
                  </a:lnTo>
                  <a:lnTo>
                    <a:pt x="813" y="1340"/>
                  </a:lnTo>
                  <a:lnTo>
                    <a:pt x="799" y="1340"/>
                  </a:lnTo>
                  <a:lnTo>
                    <a:pt x="785" y="1340"/>
                  </a:lnTo>
                  <a:lnTo>
                    <a:pt x="773" y="1340"/>
                  </a:lnTo>
                  <a:lnTo>
                    <a:pt x="758" y="1340"/>
                  </a:lnTo>
                  <a:lnTo>
                    <a:pt x="745" y="1340"/>
                  </a:lnTo>
                  <a:lnTo>
                    <a:pt x="745" y="1324"/>
                  </a:lnTo>
                  <a:lnTo>
                    <a:pt x="758" y="1317"/>
                  </a:lnTo>
                  <a:lnTo>
                    <a:pt x="773" y="1307"/>
                  </a:lnTo>
                  <a:lnTo>
                    <a:pt x="785" y="1300"/>
                  </a:lnTo>
                  <a:lnTo>
                    <a:pt x="799" y="1300"/>
                  </a:lnTo>
                  <a:lnTo>
                    <a:pt x="813" y="1293"/>
                  </a:lnTo>
                  <a:lnTo>
                    <a:pt x="825" y="1293"/>
                  </a:lnTo>
                  <a:lnTo>
                    <a:pt x="839" y="1285"/>
                  </a:lnTo>
                  <a:lnTo>
                    <a:pt x="854" y="1285"/>
                  </a:lnTo>
                  <a:lnTo>
                    <a:pt x="866" y="1277"/>
                  </a:lnTo>
                  <a:lnTo>
                    <a:pt x="873" y="1260"/>
                  </a:lnTo>
                  <a:lnTo>
                    <a:pt x="887" y="1252"/>
                  </a:lnTo>
                  <a:lnTo>
                    <a:pt x="887" y="1235"/>
                  </a:lnTo>
                  <a:lnTo>
                    <a:pt x="873" y="1227"/>
                  </a:lnTo>
                  <a:lnTo>
                    <a:pt x="859" y="1227"/>
                  </a:lnTo>
                  <a:lnTo>
                    <a:pt x="846" y="1227"/>
                  </a:lnTo>
                  <a:lnTo>
                    <a:pt x="833" y="1227"/>
                  </a:lnTo>
                  <a:lnTo>
                    <a:pt x="819" y="1227"/>
                  </a:lnTo>
                  <a:lnTo>
                    <a:pt x="805" y="1235"/>
                  </a:lnTo>
                  <a:lnTo>
                    <a:pt x="794" y="1244"/>
                  </a:lnTo>
                  <a:lnTo>
                    <a:pt x="779" y="1260"/>
                  </a:lnTo>
                  <a:lnTo>
                    <a:pt x="785" y="1244"/>
                  </a:lnTo>
                  <a:lnTo>
                    <a:pt x="799" y="1235"/>
                  </a:lnTo>
                  <a:lnTo>
                    <a:pt x="813" y="1227"/>
                  </a:lnTo>
                  <a:lnTo>
                    <a:pt x="819" y="1211"/>
                  </a:lnTo>
                  <a:lnTo>
                    <a:pt x="833" y="1203"/>
                  </a:lnTo>
                  <a:lnTo>
                    <a:pt x="846" y="1195"/>
                  </a:lnTo>
                  <a:lnTo>
                    <a:pt x="859" y="1195"/>
                  </a:lnTo>
                  <a:lnTo>
                    <a:pt x="873" y="1187"/>
                  </a:lnTo>
                  <a:lnTo>
                    <a:pt x="887" y="1179"/>
                  </a:lnTo>
                  <a:lnTo>
                    <a:pt x="914" y="1172"/>
                  </a:lnTo>
                  <a:lnTo>
                    <a:pt x="927" y="1172"/>
                  </a:lnTo>
                  <a:lnTo>
                    <a:pt x="940" y="1162"/>
                  </a:lnTo>
                  <a:lnTo>
                    <a:pt x="953" y="1162"/>
                  </a:lnTo>
                  <a:lnTo>
                    <a:pt x="967" y="1162"/>
                  </a:lnTo>
                  <a:lnTo>
                    <a:pt x="981" y="1162"/>
                  </a:lnTo>
                  <a:lnTo>
                    <a:pt x="981" y="1147"/>
                  </a:lnTo>
                  <a:lnTo>
                    <a:pt x="981" y="1131"/>
                  </a:lnTo>
                  <a:lnTo>
                    <a:pt x="974" y="1115"/>
                  </a:lnTo>
                  <a:lnTo>
                    <a:pt x="948" y="1115"/>
                  </a:lnTo>
                  <a:lnTo>
                    <a:pt x="933" y="1115"/>
                  </a:lnTo>
                  <a:lnTo>
                    <a:pt x="914" y="1115"/>
                  </a:lnTo>
                  <a:lnTo>
                    <a:pt x="899" y="1115"/>
                  </a:lnTo>
                  <a:lnTo>
                    <a:pt x="879" y="1131"/>
                  </a:lnTo>
                  <a:lnTo>
                    <a:pt x="866" y="1131"/>
                  </a:lnTo>
                  <a:lnTo>
                    <a:pt x="854" y="1139"/>
                  </a:lnTo>
                  <a:lnTo>
                    <a:pt x="846" y="1155"/>
                  </a:lnTo>
                  <a:lnTo>
                    <a:pt x="854" y="1139"/>
                  </a:lnTo>
                  <a:lnTo>
                    <a:pt x="866" y="1139"/>
                  </a:lnTo>
                  <a:lnTo>
                    <a:pt x="879" y="1122"/>
                  </a:lnTo>
                  <a:lnTo>
                    <a:pt x="893" y="1122"/>
                  </a:lnTo>
                  <a:lnTo>
                    <a:pt x="907" y="1115"/>
                  </a:lnTo>
                  <a:lnTo>
                    <a:pt x="919" y="1115"/>
                  </a:lnTo>
                  <a:lnTo>
                    <a:pt x="933" y="1107"/>
                  </a:lnTo>
                  <a:lnTo>
                    <a:pt x="948" y="1099"/>
                  </a:lnTo>
                  <a:lnTo>
                    <a:pt x="960" y="1090"/>
                  </a:lnTo>
                  <a:lnTo>
                    <a:pt x="967" y="1074"/>
                  </a:lnTo>
                  <a:lnTo>
                    <a:pt x="967" y="1058"/>
                  </a:lnTo>
                  <a:lnTo>
                    <a:pt x="953" y="1049"/>
                  </a:lnTo>
                  <a:lnTo>
                    <a:pt x="940" y="1049"/>
                  </a:lnTo>
                  <a:lnTo>
                    <a:pt x="927" y="1049"/>
                  </a:lnTo>
                  <a:lnTo>
                    <a:pt x="914" y="1049"/>
                  </a:lnTo>
                  <a:lnTo>
                    <a:pt x="899" y="1058"/>
                  </a:lnTo>
                  <a:lnTo>
                    <a:pt x="887" y="1066"/>
                  </a:lnTo>
                  <a:lnTo>
                    <a:pt x="873" y="1074"/>
                  </a:lnTo>
                  <a:lnTo>
                    <a:pt x="859" y="1082"/>
                  </a:lnTo>
                  <a:lnTo>
                    <a:pt x="854" y="1099"/>
                  </a:lnTo>
                  <a:lnTo>
                    <a:pt x="839" y="1099"/>
                  </a:lnTo>
                  <a:lnTo>
                    <a:pt x="825" y="1115"/>
                  </a:lnTo>
                  <a:lnTo>
                    <a:pt x="819" y="1131"/>
                  </a:lnTo>
                  <a:lnTo>
                    <a:pt x="805" y="1139"/>
                  </a:lnTo>
                  <a:lnTo>
                    <a:pt x="799" y="1155"/>
                  </a:lnTo>
                  <a:lnTo>
                    <a:pt x="785" y="1162"/>
                  </a:lnTo>
                  <a:lnTo>
                    <a:pt x="779" y="1179"/>
                  </a:lnTo>
                  <a:lnTo>
                    <a:pt x="765" y="1187"/>
                  </a:lnTo>
                  <a:lnTo>
                    <a:pt x="765" y="1172"/>
                  </a:lnTo>
                  <a:lnTo>
                    <a:pt x="779" y="1155"/>
                  </a:lnTo>
                  <a:lnTo>
                    <a:pt x="794" y="1139"/>
                  </a:lnTo>
                  <a:lnTo>
                    <a:pt x="805" y="1131"/>
                  </a:lnTo>
                  <a:lnTo>
                    <a:pt x="813" y="1115"/>
                  </a:lnTo>
                  <a:lnTo>
                    <a:pt x="825" y="1099"/>
                  </a:lnTo>
                  <a:lnTo>
                    <a:pt x="839" y="1090"/>
                  </a:lnTo>
                  <a:lnTo>
                    <a:pt x="846" y="1074"/>
                  </a:lnTo>
                  <a:lnTo>
                    <a:pt x="859" y="1066"/>
                  </a:lnTo>
                  <a:lnTo>
                    <a:pt x="873" y="1058"/>
                  </a:lnTo>
                  <a:lnTo>
                    <a:pt x="887" y="1049"/>
                  </a:lnTo>
                  <a:lnTo>
                    <a:pt x="899" y="1041"/>
                  </a:lnTo>
                  <a:lnTo>
                    <a:pt x="914" y="1033"/>
                  </a:lnTo>
                  <a:lnTo>
                    <a:pt x="914" y="1019"/>
                  </a:lnTo>
                  <a:lnTo>
                    <a:pt x="899" y="1008"/>
                  </a:lnTo>
                  <a:lnTo>
                    <a:pt x="887" y="1019"/>
                  </a:lnTo>
                  <a:lnTo>
                    <a:pt x="873" y="1026"/>
                  </a:lnTo>
                  <a:lnTo>
                    <a:pt x="859" y="1026"/>
                  </a:lnTo>
                  <a:lnTo>
                    <a:pt x="873" y="1026"/>
                  </a:lnTo>
                  <a:lnTo>
                    <a:pt x="887" y="1026"/>
                  </a:lnTo>
                  <a:lnTo>
                    <a:pt x="899" y="1019"/>
                  </a:lnTo>
                  <a:lnTo>
                    <a:pt x="914" y="1000"/>
                  </a:lnTo>
                  <a:lnTo>
                    <a:pt x="919" y="986"/>
                  </a:lnTo>
                  <a:lnTo>
                    <a:pt x="919" y="969"/>
                  </a:lnTo>
                  <a:lnTo>
                    <a:pt x="919" y="953"/>
                  </a:lnTo>
                  <a:lnTo>
                    <a:pt x="907" y="961"/>
                  </a:lnTo>
                  <a:lnTo>
                    <a:pt x="893" y="961"/>
                  </a:lnTo>
                  <a:lnTo>
                    <a:pt x="907" y="953"/>
                  </a:lnTo>
                  <a:lnTo>
                    <a:pt x="919" y="953"/>
                  </a:lnTo>
                  <a:lnTo>
                    <a:pt x="933" y="945"/>
                  </a:lnTo>
                  <a:lnTo>
                    <a:pt x="948" y="945"/>
                  </a:lnTo>
                  <a:lnTo>
                    <a:pt x="960" y="945"/>
                  </a:lnTo>
                  <a:lnTo>
                    <a:pt x="974" y="945"/>
                  </a:lnTo>
                  <a:lnTo>
                    <a:pt x="987" y="945"/>
                  </a:lnTo>
                  <a:lnTo>
                    <a:pt x="1001" y="953"/>
                  </a:lnTo>
                  <a:lnTo>
                    <a:pt x="1013" y="953"/>
                  </a:lnTo>
                  <a:lnTo>
                    <a:pt x="1027" y="945"/>
                  </a:lnTo>
                  <a:lnTo>
                    <a:pt x="1034" y="928"/>
                  </a:lnTo>
                  <a:lnTo>
                    <a:pt x="1042" y="912"/>
                  </a:lnTo>
                  <a:lnTo>
                    <a:pt x="1047" y="896"/>
                  </a:lnTo>
                  <a:lnTo>
                    <a:pt x="1034" y="888"/>
                  </a:lnTo>
                  <a:lnTo>
                    <a:pt x="1021" y="888"/>
                  </a:lnTo>
                  <a:lnTo>
                    <a:pt x="1008" y="888"/>
                  </a:lnTo>
                  <a:lnTo>
                    <a:pt x="993" y="888"/>
                  </a:lnTo>
                  <a:lnTo>
                    <a:pt x="981" y="888"/>
                  </a:lnTo>
                  <a:lnTo>
                    <a:pt x="967" y="888"/>
                  </a:lnTo>
                  <a:lnTo>
                    <a:pt x="953" y="896"/>
                  </a:lnTo>
                  <a:lnTo>
                    <a:pt x="940" y="896"/>
                  </a:lnTo>
                  <a:lnTo>
                    <a:pt x="927" y="896"/>
                  </a:lnTo>
                  <a:lnTo>
                    <a:pt x="914" y="904"/>
                  </a:lnTo>
                  <a:lnTo>
                    <a:pt x="899" y="912"/>
                  </a:lnTo>
                  <a:lnTo>
                    <a:pt x="914" y="912"/>
                  </a:lnTo>
                  <a:lnTo>
                    <a:pt x="927" y="904"/>
                  </a:lnTo>
                  <a:lnTo>
                    <a:pt x="927" y="888"/>
                  </a:lnTo>
                  <a:lnTo>
                    <a:pt x="914" y="880"/>
                  </a:lnTo>
                  <a:lnTo>
                    <a:pt x="927" y="872"/>
                  </a:lnTo>
                  <a:lnTo>
                    <a:pt x="940" y="865"/>
                  </a:lnTo>
                  <a:lnTo>
                    <a:pt x="948" y="848"/>
                  </a:lnTo>
                  <a:lnTo>
                    <a:pt x="933" y="840"/>
                  </a:lnTo>
                  <a:lnTo>
                    <a:pt x="919" y="840"/>
                  </a:lnTo>
                  <a:lnTo>
                    <a:pt x="907" y="840"/>
                  </a:lnTo>
                  <a:lnTo>
                    <a:pt x="893" y="848"/>
                  </a:lnTo>
                  <a:lnTo>
                    <a:pt x="879" y="848"/>
                  </a:lnTo>
                  <a:lnTo>
                    <a:pt x="893" y="904"/>
                  </a:lnTo>
                  <a:lnTo>
                    <a:pt x="893" y="848"/>
                  </a:lnTo>
                  <a:lnTo>
                    <a:pt x="907" y="840"/>
                  </a:lnTo>
                  <a:lnTo>
                    <a:pt x="919" y="840"/>
                  </a:lnTo>
                  <a:lnTo>
                    <a:pt x="933" y="832"/>
                  </a:lnTo>
                  <a:lnTo>
                    <a:pt x="948" y="832"/>
                  </a:lnTo>
                  <a:lnTo>
                    <a:pt x="960" y="832"/>
                  </a:lnTo>
                  <a:lnTo>
                    <a:pt x="974" y="832"/>
                  </a:lnTo>
                  <a:lnTo>
                    <a:pt x="987" y="832"/>
                  </a:lnTo>
                  <a:lnTo>
                    <a:pt x="1001" y="823"/>
                  </a:lnTo>
                  <a:lnTo>
                    <a:pt x="993" y="808"/>
                  </a:lnTo>
                  <a:lnTo>
                    <a:pt x="981" y="808"/>
                  </a:lnTo>
                  <a:lnTo>
                    <a:pt x="967" y="808"/>
                  </a:lnTo>
                  <a:lnTo>
                    <a:pt x="953" y="808"/>
                  </a:lnTo>
                  <a:lnTo>
                    <a:pt x="940" y="808"/>
                  </a:lnTo>
                  <a:lnTo>
                    <a:pt x="927" y="808"/>
                  </a:lnTo>
                  <a:lnTo>
                    <a:pt x="914" y="815"/>
                  </a:lnTo>
                  <a:lnTo>
                    <a:pt x="899" y="815"/>
                  </a:lnTo>
                  <a:lnTo>
                    <a:pt x="887" y="815"/>
                  </a:lnTo>
                  <a:lnTo>
                    <a:pt x="887" y="800"/>
                  </a:lnTo>
                  <a:lnTo>
                    <a:pt x="899" y="792"/>
                  </a:lnTo>
                  <a:lnTo>
                    <a:pt x="914" y="784"/>
                  </a:lnTo>
                  <a:lnTo>
                    <a:pt x="927" y="784"/>
                  </a:lnTo>
                  <a:lnTo>
                    <a:pt x="940" y="775"/>
                  </a:lnTo>
                  <a:lnTo>
                    <a:pt x="953" y="775"/>
                  </a:lnTo>
                  <a:lnTo>
                    <a:pt x="967" y="775"/>
                  </a:lnTo>
                  <a:lnTo>
                    <a:pt x="981" y="775"/>
                  </a:lnTo>
                  <a:lnTo>
                    <a:pt x="993" y="775"/>
                  </a:lnTo>
                  <a:lnTo>
                    <a:pt x="1008" y="775"/>
                  </a:lnTo>
                  <a:lnTo>
                    <a:pt x="1021" y="767"/>
                  </a:lnTo>
                  <a:lnTo>
                    <a:pt x="1021" y="751"/>
                  </a:lnTo>
                  <a:lnTo>
                    <a:pt x="1013" y="734"/>
                  </a:lnTo>
                  <a:lnTo>
                    <a:pt x="1001" y="726"/>
                  </a:lnTo>
                  <a:lnTo>
                    <a:pt x="987" y="720"/>
                  </a:lnTo>
                  <a:lnTo>
                    <a:pt x="974" y="720"/>
                  </a:lnTo>
                  <a:lnTo>
                    <a:pt x="960" y="720"/>
                  </a:lnTo>
                  <a:lnTo>
                    <a:pt x="948" y="720"/>
                  </a:lnTo>
                  <a:lnTo>
                    <a:pt x="933" y="720"/>
                  </a:lnTo>
                  <a:lnTo>
                    <a:pt x="919" y="720"/>
                  </a:lnTo>
                  <a:lnTo>
                    <a:pt x="907" y="720"/>
                  </a:lnTo>
                  <a:lnTo>
                    <a:pt x="893" y="720"/>
                  </a:lnTo>
                  <a:lnTo>
                    <a:pt x="879" y="726"/>
                  </a:lnTo>
                  <a:lnTo>
                    <a:pt x="866" y="734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858000" y="2752560"/>
              <a:ext cx="674280" cy="466200"/>
            </a:xfrm>
            <a:custGeom>
              <a:avLst/>
              <a:gdLst/>
              <a:ahLst/>
              <a:rect l="l" t="t" r="r" b="b"/>
              <a:pathLst>
                <a:path w="1196" h="720">
                  <a:moveTo>
                    <a:pt x="866" y="720"/>
                  </a:moveTo>
                  <a:lnTo>
                    <a:pt x="879" y="703"/>
                  </a:lnTo>
                  <a:lnTo>
                    <a:pt x="893" y="695"/>
                  </a:lnTo>
                  <a:lnTo>
                    <a:pt x="907" y="687"/>
                  </a:lnTo>
                  <a:lnTo>
                    <a:pt x="919" y="679"/>
                  </a:lnTo>
                  <a:lnTo>
                    <a:pt x="933" y="670"/>
                  </a:lnTo>
                  <a:lnTo>
                    <a:pt x="974" y="646"/>
                  </a:lnTo>
                  <a:lnTo>
                    <a:pt x="987" y="646"/>
                  </a:lnTo>
                  <a:lnTo>
                    <a:pt x="1001" y="646"/>
                  </a:lnTo>
                  <a:lnTo>
                    <a:pt x="1013" y="638"/>
                  </a:lnTo>
                  <a:lnTo>
                    <a:pt x="1027" y="638"/>
                  </a:lnTo>
                  <a:lnTo>
                    <a:pt x="1042" y="638"/>
                  </a:lnTo>
                  <a:lnTo>
                    <a:pt x="1054" y="638"/>
                  </a:lnTo>
                  <a:lnTo>
                    <a:pt x="1068" y="638"/>
                  </a:lnTo>
                  <a:lnTo>
                    <a:pt x="1081" y="638"/>
                  </a:lnTo>
                  <a:lnTo>
                    <a:pt x="1094" y="638"/>
                  </a:lnTo>
                  <a:lnTo>
                    <a:pt x="1107" y="638"/>
                  </a:lnTo>
                  <a:lnTo>
                    <a:pt x="1122" y="638"/>
                  </a:lnTo>
                  <a:lnTo>
                    <a:pt x="1135" y="646"/>
                  </a:lnTo>
                  <a:lnTo>
                    <a:pt x="1141" y="630"/>
                  </a:lnTo>
                  <a:lnTo>
                    <a:pt x="1128" y="622"/>
                  </a:lnTo>
                  <a:lnTo>
                    <a:pt x="1114" y="614"/>
                  </a:lnTo>
                  <a:lnTo>
                    <a:pt x="1102" y="614"/>
                  </a:lnTo>
                  <a:lnTo>
                    <a:pt x="1087" y="605"/>
                  </a:lnTo>
                  <a:lnTo>
                    <a:pt x="1102" y="598"/>
                  </a:lnTo>
                  <a:lnTo>
                    <a:pt x="1114" y="598"/>
                  </a:lnTo>
                  <a:lnTo>
                    <a:pt x="1128" y="598"/>
                  </a:lnTo>
                  <a:lnTo>
                    <a:pt x="1141" y="589"/>
                  </a:lnTo>
                  <a:lnTo>
                    <a:pt x="1155" y="589"/>
                  </a:lnTo>
                  <a:lnTo>
                    <a:pt x="1167" y="581"/>
                  </a:lnTo>
                  <a:lnTo>
                    <a:pt x="1182" y="581"/>
                  </a:lnTo>
                  <a:lnTo>
                    <a:pt x="1196" y="573"/>
                  </a:lnTo>
                  <a:lnTo>
                    <a:pt x="1182" y="565"/>
                  </a:lnTo>
                  <a:lnTo>
                    <a:pt x="1162" y="558"/>
                  </a:lnTo>
                  <a:lnTo>
                    <a:pt x="1147" y="548"/>
                  </a:lnTo>
                  <a:lnTo>
                    <a:pt x="1135" y="548"/>
                  </a:lnTo>
                  <a:lnTo>
                    <a:pt x="1122" y="548"/>
                  </a:lnTo>
                  <a:lnTo>
                    <a:pt x="1107" y="548"/>
                  </a:lnTo>
                  <a:lnTo>
                    <a:pt x="1094" y="548"/>
                  </a:lnTo>
                  <a:lnTo>
                    <a:pt x="1081" y="558"/>
                  </a:lnTo>
                  <a:lnTo>
                    <a:pt x="1068" y="558"/>
                  </a:lnTo>
                  <a:lnTo>
                    <a:pt x="1054" y="565"/>
                  </a:lnTo>
                  <a:lnTo>
                    <a:pt x="1042" y="581"/>
                  </a:lnTo>
                  <a:lnTo>
                    <a:pt x="1027" y="589"/>
                  </a:lnTo>
                  <a:lnTo>
                    <a:pt x="1013" y="598"/>
                  </a:lnTo>
                  <a:lnTo>
                    <a:pt x="1008" y="614"/>
                  </a:lnTo>
                  <a:lnTo>
                    <a:pt x="993" y="614"/>
                  </a:lnTo>
                  <a:lnTo>
                    <a:pt x="1013" y="598"/>
                  </a:lnTo>
                  <a:lnTo>
                    <a:pt x="1027" y="589"/>
                  </a:lnTo>
                  <a:lnTo>
                    <a:pt x="1042" y="581"/>
                  </a:lnTo>
                  <a:lnTo>
                    <a:pt x="1062" y="565"/>
                  </a:lnTo>
                  <a:lnTo>
                    <a:pt x="1073" y="565"/>
                  </a:lnTo>
                  <a:lnTo>
                    <a:pt x="1087" y="558"/>
                  </a:lnTo>
                  <a:lnTo>
                    <a:pt x="1102" y="548"/>
                  </a:lnTo>
                  <a:lnTo>
                    <a:pt x="1107" y="534"/>
                  </a:lnTo>
                  <a:lnTo>
                    <a:pt x="1122" y="525"/>
                  </a:lnTo>
                  <a:lnTo>
                    <a:pt x="1128" y="509"/>
                  </a:lnTo>
                  <a:lnTo>
                    <a:pt x="1135" y="493"/>
                  </a:lnTo>
                  <a:lnTo>
                    <a:pt x="1122" y="484"/>
                  </a:lnTo>
                  <a:lnTo>
                    <a:pt x="1107" y="484"/>
                  </a:lnTo>
                  <a:lnTo>
                    <a:pt x="1094" y="493"/>
                  </a:lnTo>
                  <a:lnTo>
                    <a:pt x="1087" y="509"/>
                  </a:lnTo>
                  <a:lnTo>
                    <a:pt x="1073" y="517"/>
                  </a:lnTo>
                  <a:lnTo>
                    <a:pt x="1062" y="525"/>
                  </a:lnTo>
                  <a:lnTo>
                    <a:pt x="1047" y="534"/>
                  </a:lnTo>
                  <a:lnTo>
                    <a:pt x="1034" y="542"/>
                  </a:lnTo>
                  <a:lnTo>
                    <a:pt x="1027" y="558"/>
                  </a:lnTo>
                  <a:lnTo>
                    <a:pt x="1013" y="565"/>
                  </a:lnTo>
                  <a:lnTo>
                    <a:pt x="1027" y="548"/>
                  </a:lnTo>
                  <a:lnTo>
                    <a:pt x="1042" y="542"/>
                  </a:lnTo>
                  <a:lnTo>
                    <a:pt x="1054" y="534"/>
                  </a:lnTo>
                  <a:lnTo>
                    <a:pt x="1068" y="525"/>
                  </a:lnTo>
                  <a:lnTo>
                    <a:pt x="1081" y="517"/>
                  </a:lnTo>
                  <a:lnTo>
                    <a:pt x="1094" y="509"/>
                  </a:lnTo>
                  <a:lnTo>
                    <a:pt x="1107" y="501"/>
                  </a:lnTo>
                  <a:lnTo>
                    <a:pt x="1122" y="493"/>
                  </a:lnTo>
                  <a:lnTo>
                    <a:pt x="1128" y="476"/>
                  </a:lnTo>
                  <a:lnTo>
                    <a:pt x="1128" y="460"/>
                  </a:lnTo>
                  <a:lnTo>
                    <a:pt x="1114" y="453"/>
                  </a:lnTo>
                  <a:lnTo>
                    <a:pt x="1102" y="453"/>
                  </a:lnTo>
                  <a:lnTo>
                    <a:pt x="1087" y="453"/>
                  </a:lnTo>
                  <a:lnTo>
                    <a:pt x="1073" y="460"/>
                  </a:lnTo>
                  <a:lnTo>
                    <a:pt x="1068" y="476"/>
                  </a:lnTo>
                  <a:lnTo>
                    <a:pt x="1062" y="493"/>
                  </a:lnTo>
                  <a:lnTo>
                    <a:pt x="1054" y="509"/>
                  </a:lnTo>
                  <a:lnTo>
                    <a:pt x="1047" y="525"/>
                  </a:lnTo>
                  <a:lnTo>
                    <a:pt x="1034" y="542"/>
                  </a:lnTo>
                  <a:lnTo>
                    <a:pt x="1027" y="558"/>
                  </a:lnTo>
                  <a:lnTo>
                    <a:pt x="1013" y="573"/>
                  </a:lnTo>
                  <a:lnTo>
                    <a:pt x="1008" y="558"/>
                  </a:lnTo>
                  <a:lnTo>
                    <a:pt x="1013" y="542"/>
                  </a:lnTo>
                  <a:lnTo>
                    <a:pt x="1021" y="525"/>
                  </a:lnTo>
                  <a:lnTo>
                    <a:pt x="1034" y="517"/>
                  </a:lnTo>
                  <a:lnTo>
                    <a:pt x="1047" y="509"/>
                  </a:lnTo>
                  <a:lnTo>
                    <a:pt x="1062" y="501"/>
                  </a:lnTo>
                  <a:lnTo>
                    <a:pt x="1068" y="484"/>
                  </a:lnTo>
                  <a:lnTo>
                    <a:pt x="1073" y="468"/>
                  </a:lnTo>
                  <a:lnTo>
                    <a:pt x="1081" y="453"/>
                  </a:lnTo>
                  <a:lnTo>
                    <a:pt x="1081" y="435"/>
                  </a:lnTo>
                  <a:lnTo>
                    <a:pt x="1068" y="427"/>
                  </a:lnTo>
                  <a:lnTo>
                    <a:pt x="1054" y="427"/>
                  </a:lnTo>
                  <a:lnTo>
                    <a:pt x="1047" y="443"/>
                  </a:lnTo>
                  <a:lnTo>
                    <a:pt x="1042" y="460"/>
                  </a:lnTo>
                  <a:lnTo>
                    <a:pt x="1034" y="476"/>
                  </a:lnTo>
                  <a:lnTo>
                    <a:pt x="1027" y="493"/>
                  </a:lnTo>
                  <a:lnTo>
                    <a:pt x="1021" y="509"/>
                  </a:lnTo>
                  <a:lnTo>
                    <a:pt x="1013" y="525"/>
                  </a:lnTo>
                  <a:lnTo>
                    <a:pt x="1001" y="542"/>
                  </a:lnTo>
                  <a:lnTo>
                    <a:pt x="993" y="558"/>
                  </a:lnTo>
                  <a:lnTo>
                    <a:pt x="981" y="565"/>
                  </a:lnTo>
                  <a:lnTo>
                    <a:pt x="981" y="548"/>
                  </a:lnTo>
                  <a:lnTo>
                    <a:pt x="981" y="534"/>
                  </a:lnTo>
                  <a:lnTo>
                    <a:pt x="981" y="517"/>
                  </a:lnTo>
                  <a:lnTo>
                    <a:pt x="987" y="501"/>
                  </a:lnTo>
                  <a:lnTo>
                    <a:pt x="1001" y="484"/>
                  </a:lnTo>
                  <a:lnTo>
                    <a:pt x="1013" y="468"/>
                  </a:lnTo>
                  <a:lnTo>
                    <a:pt x="1021" y="453"/>
                  </a:lnTo>
                  <a:lnTo>
                    <a:pt x="1027" y="427"/>
                  </a:lnTo>
                  <a:lnTo>
                    <a:pt x="1034" y="413"/>
                  </a:lnTo>
                  <a:lnTo>
                    <a:pt x="1034" y="396"/>
                  </a:lnTo>
                  <a:lnTo>
                    <a:pt x="1021" y="388"/>
                  </a:lnTo>
                  <a:lnTo>
                    <a:pt x="1008" y="396"/>
                  </a:lnTo>
                  <a:lnTo>
                    <a:pt x="1001" y="413"/>
                  </a:lnTo>
                  <a:lnTo>
                    <a:pt x="993" y="427"/>
                  </a:lnTo>
                  <a:lnTo>
                    <a:pt x="981" y="443"/>
                  </a:lnTo>
                  <a:lnTo>
                    <a:pt x="974" y="460"/>
                  </a:lnTo>
                  <a:lnTo>
                    <a:pt x="967" y="476"/>
                  </a:lnTo>
                  <a:lnTo>
                    <a:pt x="960" y="493"/>
                  </a:lnTo>
                  <a:lnTo>
                    <a:pt x="953" y="509"/>
                  </a:lnTo>
                  <a:lnTo>
                    <a:pt x="940" y="517"/>
                  </a:lnTo>
                  <a:lnTo>
                    <a:pt x="933" y="534"/>
                  </a:lnTo>
                  <a:lnTo>
                    <a:pt x="927" y="548"/>
                  </a:lnTo>
                  <a:lnTo>
                    <a:pt x="914" y="565"/>
                  </a:lnTo>
                  <a:lnTo>
                    <a:pt x="914" y="581"/>
                  </a:lnTo>
                  <a:lnTo>
                    <a:pt x="899" y="598"/>
                  </a:lnTo>
                  <a:lnTo>
                    <a:pt x="893" y="581"/>
                  </a:lnTo>
                  <a:lnTo>
                    <a:pt x="893" y="565"/>
                  </a:lnTo>
                  <a:lnTo>
                    <a:pt x="893" y="548"/>
                  </a:lnTo>
                  <a:lnTo>
                    <a:pt x="899" y="534"/>
                  </a:lnTo>
                  <a:lnTo>
                    <a:pt x="914" y="517"/>
                  </a:lnTo>
                  <a:lnTo>
                    <a:pt x="919" y="501"/>
                  </a:lnTo>
                  <a:lnTo>
                    <a:pt x="927" y="484"/>
                  </a:lnTo>
                  <a:lnTo>
                    <a:pt x="933" y="468"/>
                  </a:lnTo>
                  <a:lnTo>
                    <a:pt x="948" y="453"/>
                  </a:lnTo>
                  <a:lnTo>
                    <a:pt x="953" y="435"/>
                  </a:lnTo>
                  <a:lnTo>
                    <a:pt x="960" y="420"/>
                  </a:lnTo>
                  <a:lnTo>
                    <a:pt x="974" y="413"/>
                  </a:lnTo>
                  <a:lnTo>
                    <a:pt x="981" y="396"/>
                  </a:lnTo>
                  <a:lnTo>
                    <a:pt x="974" y="380"/>
                  </a:lnTo>
                  <a:lnTo>
                    <a:pt x="960" y="380"/>
                  </a:lnTo>
                  <a:lnTo>
                    <a:pt x="948" y="388"/>
                  </a:lnTo>
                  <a:lnTo>
                    <a:pt x="933" y="396"/>
                  </a:lnTo>
                  <a:lnTo>
                    <a:pt x="927" y="413"/>
                  </a:lnTo>
                  <a:lnTo>
                    <a:pt x="914" y="427"/>
                  </a:lnTo>
                  <a:lnTo>
                    <a:pt x="907" y="443"/>
                  </a:lnTo>
                  <a:lnTo>
                    <a:pt x="893" y="453"/>
                  </a:lnTo>
                  <a:lnTo>
                    <a:pt x="907" y="453"/>
                  </a:lnTo>
                  <a:lnTo>
                    <a:pt x="914" y="435"/>
                  </a:lnTo>
                  <a:lnTo>
                    <a:pt x="927" y="420"/>
                  </a:lnTo>
                  <a:lnTo>
                    <a:pt x="933" y="405"/>
                  </a:lnTo>
                  <a:lnTo>
                    <a:pt x="933" y="388"/>
                  </a:lnTo>
                  <a:lnTo>
                    <a:pt x="927" y="372"/>
                  </a:lnTo>
                  <a:lnTo>
                    <a:pt x="914" y="372"/>
                  </a:lnTo>
                  <a:lnTo>
                    <a:pt x="899" y="364"/>
                  </a:lnTo>
                  <a:lnTo>
                    <a:pt x="887" y="355"/>
                  </a:lnTo>
                  <a:lnTo>
                    <a:pt x="873" y="355"/>
                  </a:lnTo>
                  <a:lnTo>
                    <a:pt x="859" y="355"/>
                  </a:lnTo>
                  <a:lnTo>
                    <a:pt x="846" y="355"/>
                  </a:lnTo>
                  <a:lnTo>
                    <a:pt x="833" y="355"/>
                  </a:lnTo>
                  <a:lnTo>
                    <a:pt x="819" y="364"/>
                  </a:lnTo>
                  <a:lnTo>
                    <a:pt x="805" y="372"/>
                  </a:lnTo>
                  <a:lnTo>
                    <a:pt x="794" y="388"/>
                  </a:lnTo>
                  <a:lnTo>
                    <a:pt x="785" y="405"/>
                  </a:lnTo>
                  <a:lnTo>
                    <a:pt x="779" y="420"/>
                  </a:lnTo>
                  <a:lnTo>
                    <a:pt x="773" y="435"/>
                  </a:lnTo>
                  <a:lnTo>
                    <a:pt x="758" y="460"/>
                  </a:lnTo>
                  <a:lnTo>
                    <a:pt x="753" y="476"/>
                  </a:lnTo>
                  <a:lnTo>
                    <a:pt x="739" y="493"/>
                  </a:lnTo>
                  <a:lnTo>
                    <a:pt x="739" y="476"/>
                  </a:lnTo>
                  <a:lnTo>
                    <a:pt x="745" y="460"/>
                  </a:lnTo>
                  <a:lnTo>
                    <a:pt x="753" y="443"/>
                  </a:lnTo>
                  <a:lnTo>
                    <a:pt x="758" y="427"/>
                  </a:lnTo>
                  <a:lnTo>
                    <a:pt x="765" y="413"/>
                  </a:lnTo>
                  <a:lnTo>
                    <a:pt x="773" y="396"/>
                  </a:lnTo>
                  <a:lnTo>
                    <a:pt x="779" y="380"/>
                  </a:lnTo>
                  <a:lnTo>
                    <a:pt x="785" y="364"/>
                  </a:lnTo>
                  <a:lnTo>
                    <a:pt x="773" y="364"/>
                  </a:lnTo>
                  <a:lnTo>
                    <a:pt x="765" y="380"/>
                  </a:lnTo>
                  <a:lnTo>
                    <a:pt x="758" y="396"/>
                  </a:lnTo>
                  <a:lnTo>
                    <a:pt x="745" y="413"/>
                  </a:lnTo>
                  <a:lnTo>
                    <a:pt x="739" y="427"/>
                  </a:lnTo>
                  <a:lnTo>
                    <a:pt x="724" y="443"/>
                  </a:lnTo>
                  <a:lnTo>
                    <a:pt x="719" y="460"/>
                  </a:lnTo>
                  <a:lnTo>
                    <a:pt x="719" y="476"/>
                  </a:lnTo>
                  <a:lnTo>
                    <a:pt x="705" y="493"/>
                  </a:lnTo>
                  <a:lnTo>
                    <a:pt x="698" y="509"/>
                  </a:lnTo>
                  <a:lnTo>
                    <a:pt x="685" y="517"/>
                  </a:lnTo>
                  <a:lnTo>
                    <a:pt x="692" y="501"/>
                  </a:lnTo>
                  <a:lnTo>
                    <a:pt x="698" y="484"/>
                  </a:lnTo>
                  <a:lnTo>
                    <a:pt x="712" y="460"/>
                  </a:lnTo>
                  <a:lnTo>
                    <a:pt x="732" y="443"/>
                  </a:lnTo>
                  <a:lnTo>
                    <a:pt x="745" y="427"/>
                  </a:lnTo>
                  <a:lnTo>
                    <a:pt x="753" y="405"/>
                  </a:lnTo>
                  <a:lnTo>
                    <a:pt x="765" y="388"/>
                  </a:lnTo>
                  <a:lnTo>
                    <a:pt x="765" y="372"/>
                  </a:lnTo>
                  <a:lnTo>
                    <a:pt x="773" y="355"/>
                  </a:lnTo>
                  <a:lnTo>
                    <a:pt x="779" y="339"/>
                  </a:lnTo>
                  <a:lnTo>
                    <a:pt x="765" y="331"/>
                  </a:lnTo>
                  <a:lnTo>
                    <a:pt x="753" y="339"/>
                  </a:lnTo>
                  <a:lnTo>
                    <a:pt x="745" y="355"/>
                  </a:lnTo>
                  <a:lnTo>
                    <a:pt x="739" y="372"/>
                  </a:lnTo>
                  <a:lnTo>
                    <a:pt x="724" y="388"/>
                  </a:lnTo>
                  <a:lnTo>
                    <a:pt x="719" y="405"/>
                  </a:lnTo>
                  <a:lnTo>
                    <a:pt x="712" y="420"/>
                  </a:lnTo>
                  <a:lnTo>
                    <a:pt x="712" y="435"/>
                  </a:lnTo>
                  <a:lnTo>
                    <a:pt x="698" y="453"/>
                  </a:lnTo>
                  <a:lnTo>
                    <a:pt x="692" y="468"/>
                  </a:lnTo>
                  <a:lnTo>
                    <a:pt x="685" y="484"/>
                  </a:lnTo>
                  <a:lnTo>
                    <a:pt x="685" y="460"/>
                  </a:lnTo>
                  <a:lnTo>
                    <a:pt x="692" y="443"/>
                  </a:lnTo>
                  <a:lnTo>
                    <a:pt x="712" y="420"/>
                  </a:lnTo>
                  <a:lnTo>
                    <a:pt x="745" y="372"/>
                  </a:lnTo>
                  <a:lnTo>
                    <a:pt x="753" y="355"/>
                  </a:lnTo>
                  <a:lnTo>
                    <a:pt x="758" y="339"/>
                  </a:lnTo>
                  <a:lnTo>
                    <a:pt x="765" y="323"/>
                  </a:lnTo>
                  <a:lnTo>
                    <a:pt x="753" y="315"/>
                  </a:lnTo>
                  <a:lnTo>
                    <a:pt x="739" y="323"/>
                  </a:lnTo>
                  <a:lnTo>
                    <a:pt x="732" y="339"/>
                  </a:lnTo>
                  <a:lnTo>
                    <a:pt x="719" y="355"/>
                  </a:lnTo>
                  <a:lnTo>
                    <a:pt x="712" y="372"/>
                  </a:lnTo>
                  <a:lnTo>
                    <a:pt x="698" y="388"/>
                  </a:lnTo>
                  <a:lnTo>
                    <a:pt x="692" y="405"/>
                  </a:lnTo>
                  <a:lnTo>
                    <a:pt x="685" y="420"/>
                  </a:lnTo>
                  <a:lnTo>
                    <a:pt x="679" y="435"/>
                  </a:lnTo>
                  <a:lnTo>
                    <a:pt x="679" y="453"/>
                  </a:lnTo>
                  <a:lnTo>
                    <a:pt x="664" y="468"/>
                  </a:lnTo>
                  <a:lnTo>
                    <a:pt x="659" y="484"/>
                  </a:lnTo>
                  <a:lnTo>
                    <a:pt x="652" y="501"/>
                  </a:lnTo>
                  <a:lnTo>
                    <a:pt x="645" y="517"/>
                  </a:lnTo>
                  <a:lnTo>
                    <a:pt x="638" y="534"/>
                  </a:lnTo>
                  <a:lnTo>
                    <a:pt x="638" y="517"/>
                  </a:lnTo>
                  <a:lnTo>
                    <a:pt x="645" y="501"/>
                  </a:lnTo>
                  <a:lnTo>
                    <a:pt x="659" y="484"/>
                  </a:lnTo>
                  <a:lnTo>
                    <a:pt x="664" y="468"/>
                  </a:lnTo>
                  <a:lnTo>
                    <a:pt x="671" y="453"/>
                  </a:lnTo>
                  <a:lnTo>
                    <a:pt x="685" y="427"/>
                  </a:lnTo>
                  <a:lnTo>
                    <a:pt x="692" y="413"/>
                  </a:lnTo>
                  <a:lnTo>
                    <a:pt x="698" y="396"/>
                  </a:lnTo>
                  <a:lnTo>
                    <a:pt x="712" y="380"/>
                  </a:lnTo>
                  <a:lnTo>
                    <a:pt x="719" y="364"/>
                  </a:lnTo>
                  <a:lnTo>
                    <a:pt x="724" y="347"/>
                  </a:lnTo>
                  <a:lnTo>
                    <a:pt x="732" y="331"/>
                  </a:lnTo>
                  <a:lnTo>
                    <a:pt x="732" y="315"/>
                  </a:lnTo>
                  <a:lnTo>
                    <a:pt x="732" y="299"/>
                  </a:lnTo>
                  <a:lnTo>
                    <a:pt x="719" y="290"/>
                  </a:lnTo>
                  <a:lnTo>
                    <a:pt x="712" y="307"/>
                  </a:lnTo>
                  <a:lnTo>
                    <a:pt x="712" y="323"/>
                  </a:lnTo>
                  <a:lnTo>
                    <a:pt x="698" y="331"/>
                  </a:lnTo>
                  <a:lnTo>
                    <a:pt x="712" y="331"/>
                  </a:lnTo>
                  <a:lnTo>
                    <a:pt x="724" y="323"/>
                  </a:lnTo>
                  <a:lnTo>
                    <a:pt x="732" y="307"/>
                  </a:lnTo>
                  <a:lnTo>
                    <a:pt x="732" y="290"/>
                  </a:lnTo>
                  <a:lnTo>
                    <a:pt x="719" y="290"/>
                  </a:lnTo>
                  <a:lnTo>
                    <a:pt x="705" y="299"/>
                  </a:lnTo>
                  <a:lnTo>
                    <a:pt x="692" y="315"/>
                  </a:lnTo>
                  <a:lnTo>
                    <a:pt x="679" y="323"/>
                  </a:lnTo>
                  <a:lnTo>
                    <a:pt x="664" y="339"/>
                  </a:lnTo>
                  <a:lnTo>
                    <a:pt x="664" y="323"/>
                  </a:lnTo>
                  <a:lnTo>
                    <a:pt x="664" y="307"/>
                  </a:lnTo>
                  <a:lnTo>
                    <a:pt x="664" y="290"/>
                  </a:lnTo>
                  <a:lnTo>
                    <a:pt x="664" y="274"/>
                  </a:lnTo>
                  <a:lnTo>
                    <a:pt x="664" y="258"/>
                  </a:lnTo>
                  <a:lnTo>
                    <a:pt x="652" y="249"/>
                  </a:lnTo>
                  <a:lnTo>
                    <a:pt x="630" y="249"/>
                  </a:lnTo>
                  <a:lnTo>
                    <a:pt x="618" y="249"/>
                  </a:lnTo>
                  <a:lnTo>
                    <a:pt x="625" y="235"/>
                  </a:lnTo>
                  <a:lnTo>
                    <a:pt x="625" y="219"/>
                  </a:lnTo>
                  <a:lnTo>
                    <a:pt x="630" y="202"/>
                  </a:lnTo>
                  <a:lnTo>
                    <a:pt x="630" y="186"/>
                  </a:lnTo>
                  <a:lnTo>
                    <a:pt x="630" y="169"/>
                  </a:lnTo>
                  <a:lnTo>
                    <a:pt x="618" y="161"/>
                  </a:lnTo>
                  <a:lnTo>
                    <a:pt x="604" y="161"/>
                  </a:lnTo>
                  <a:lnTo>
                    <a:pt x="591" y="161"/>
                  </a:lnTo>
                  <a:lnTo>
                    <a:pt x="577" y="161"/>
                  </a:lnTo>
                  <a:lnTo>
                    <a:pt x="565" y="153"/>
                  </a:lnTo>
                  <a:lnTo>
                    <a:pt x="558" y="137"/>
                  </a:lnTo>
                  <a:lnTo>
                    <a:pt x="544" y="129"/>
                  </a:lnTo>
                  <a:lnTo>
                    <a:pt x="531" y="120"/>
                  </a:lnTo>
                  <a:lnTo>
                    <a:pt x="516" y="113"/>
                  </a:lnTo>
                  <a:lnTo>
                    <a:pt x="504" y="104"/>
                  </a:lnTo>
                  <a:lnTo>
                    <a:pt x="497" y="89"/>
                  </a:lnTo>
                  <a:lnTo>
                    <a:pt x="484" y="89"/>
                  </a:lnTo>
                  <a:lnTo>
                    <a:pt x="471" y="81"/>
                  </a:lnTo>
                  <a:lnTo>
                    <a:pt x="456" y="73"/>
                  </a:lnTo>
                  <a:lnTo>
                    <a:pt x="443" y="64"/>
                  </a:lnTo>
                  <a:lnTo>
                    <a:pt x="423" y="57"/>
                  </a:lnTo>
                  <a:lnTo>
                    <a:pt x="411" y="57"/>
                  </a:lnTo>
                  <a:lnTo>
                    <a:pt x="396" y="49"/>
                  </a:lnTo>
                  <a:lnTo>
                    <a:pt x="383" y="40"/>
                  </a:lnTo>
                  <a:lnTo>
                    <a:pt x="370" y="32"/>
                  </a:lnTo>
                  <a:lnTo>
                    <a:pt x="356" y="32"/>
                  </a:lnTo>
                  <a:lnTo>
                    <a:pt x="343" y="25"/>
                  </a:lnTo>
                  <a:lnTo>
                    <a:pt x="329" y="16"/>
                  </a:lnTo>
                  <a:lnTo>
                    <a:pt x="317" y="16"/>
                  </a:lnTo>
                  <a:lnTo>
                    <a:pt x="302" y="16"/>
                  </a:lnTo>
                  <a:lnTo>
                    <a:pt x="289" y="8"/>
                  </a:lnTo>
                  <a:lnTo>
                    <a:pt x="269" y="8"/>
                  </a:lnTo>
                  <a:lnTo>
                    <a:pt x="255" y="8"/>
                  </a:lnTo>
                  <a:lnTo>
                    <a:pt x="242" y="8"/>
                  </a:lnTo>
                  <a:lnTo>
                    <a:pt x="228" y="8"/>
                  </a:lnTo>
                  <a:lnTo>
                    <a:pt x="215" y="8"/>
                  </a:lnTo>
                  <a:lnTo>
                    <a:pt x="202" y="8"/>
                  </a:lnTo>
                  <a:lnTo>
                    <a:pt x="187" y="8"/>
                  </a:lnTo>
                  <a:lnTo>
                    <a:pt x="175" y="8"/>
                  </a:lnTo>
                  <a:lnTo>
                    <a:pt x="161" y="8"/>
                  </a:lnTo>
                  <a:lnTo>
                    <a:pt x="148" y="0"/>
                  </a:lnTo>
                  <a:lnTo>
                    <a:pt x="134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5" y="0"/>
                  </a:lnTo>
                  <a:lnTo>
                    <a:pt x="81" y="0"/>
                  </a:lnTo>
                  <a:lnTo>
                    <a:pt x="67" y="0"/>
                  </a:lnTo>
                  <a:lnTo>
                    <a:pt x="55" y="8"/>
                  </a:lnTo>
                  <a:lnTo>
                    <a:pt x="40" y="8"/>
                  </a:lnTo>
                  <a:lnTo>
                    <a:pt x="27" y="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165800" y="3339000"/>
              <a:ext cx="190800" cy="94320"/>
            </a:xfrm>
            <a:custGeom>
              <a:avLst/>
              <a:gdLst/>
              <a:ahLst/>
              <a:rect l="l" t="t" r="r" b="b"/>
              <a:pathLst>
                <a:path w="344" h="146">
                  <a:moveTo>
                    <a:pt x="344" y="0"/>
                  </a:moveTo>
                  <a:lnTo>
                    <a:pt x="330" y="8"/>
                  </a:lnTo>
                  <a:lnTo>
                    <a:pt x="315" y="16"/>
                  </a:lnTo>
                  <a:lnTo>
                    <a:pt x="303" y="16"/>
                  </a:lnTo>
                  <a:lnTo>
                    <a:pt x="289" y="25"/>
                  </a:lnTo>
                  <a:lnTo>
                    <a:pt x="276" y="33"/>
                  </a:lnTo>
                  <a:lnTo>
                    <a:pt x="262" y="33"/>
                  </a:lnTo>
                  <a:lnTo>
                    <a:pt x="250" y="41"/>
                  </a:lnTo>
                  <a:lnTo>
                    <a:pt x="236" y="49"/>
                  </a:lnTo>
                  <a:lnTo>
                    <a:pt x="221" y="49"/>
                  </a:lnTo>
                  <a:lnTo>
                    <a:pt x="209" y="57"/>
                  </a:lnTo>
                  <a:lnTo>
                    <a:pt x="195" y="57"/>
                  </a:lnTo>
                  <a:lnTo>
                    <a:pt x="182" y="66"/>
                  </a:lnTo>
                  <a:lnTo>
                    <a:pt x="168" y="74"/>
                  </a:lnTo>
                  <a:lnTo>
                    <a:pt x="142" y="74"/>
                  </a:lnTo>
                  <a:lnTo>
                    <a:pt x="128" y="82"/>
                  </a:lnTo>
                  <a:lnTo>
                    <a:pt x="115" y="90"/>
                  </a:lnTo>
                  <a:lnTo>
                    <a:pt x="101" y="96"/>
                  </a:lnTo>
                  <a:lnTo>
                    <a:pt x="94" y="115"/>
                  </a:lnTo>
                  <a:lnTo>
                    <a:pt x="82" y="122"/>
                  </a:lnTo>
                  <a:lnTo>
                    <a:pt x="67" y="129"/>
                  </a:lnTo>
                  <a:lnTo>
                    <a:pt x="55" y="137"/>
                  </a:lnTo>
                  <a:lnTo>
                    <a:pt x="41" y="137"/>
                  </a:lnTo>
                  <a:lnTo>
                    <a:pt x="28" y="137"/>
                  </a:lnTo>
                  <a:lnTo>
                    <a:pt x="14" y="146"/>
                  </a:lnTo>
                  <a:lnTo>
                    <a:pt x="0" y="146"/>
                  </a:lnTo>
                  <a:lnTo>
                    <a:pt x="34" y="137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55640" y="2794680"/>
              <a:ext cx="21960" cy="612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0" y="0"/>
                  </a:moveTo>
                  <a:lnTo>
                    <a:pt x="14" y="0"/>
                  </a:lnTo>
                  <a:lnTo>
                    <a:pt x="28" y="0"/>
                  </a:lnTo>
                  <a:lnTo>
                    <a:pt x="41" y="8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191360" y="3131640"/>
              <a:ext cx="152280" cy="126000"/>
            </a:xfrm>
            <a:custGeom>
              <a:avLst/>
              <a:gdLst/>
              <a:ahLst/>
              <a:rect l="l" t="t" r="r" b="b"/>
              <a:pathLst>
                <a:path w="268" h="195">
                  <a:moveTo>
                    <a:pt x="268" y="0"/>
                  </a:moveTo>
                  <a:lnTo>
                    <a:pt x="255" y="0"/>
                  </a:lnTo>
                  <a:lnTo>
                    <a:pt x="241" y="0"/>
                  </a:lnTo>
                  <a:lnTo>
                    <a:pt x="229" y="9"/>
                  </a:lnTo>
                  <a:lnTo>
                    <a:pt x="214" y="17"/>
                  </a:lnTo>
                  <a:lnTo>
                    <a:pt x="202" y="17"/>
                  </a:lnTo>
                  <a:lnTo>
                    <a:pt x="188" y="17"/>
                  </a:lnTo>
                  <a:lnTo>
                    <a:pt x="174" y="24"/>
                  </a:lnTo>
                  <a:lnTo>
                    <a:pt x="161" y="33"/>
                  </a:lnTo>
                  <a:lnTo>
                    <a:pt x="147" y="33"/>
                  </a:lnTo>
                  <a:lnTo>
                    <a:pt x="135" y="50"/>
                  </a:lnTo>
                  <a:lnTo>
                    <a:pt x="120" y="57"/>
                  </a:lnTo>
                  <a:lnTo>
                    <a:pt x="108" y="65"/>
                  </a:lnTo>
                  <a:lnTo>
                    <a:pt x="94" y="74"/>
                  </a:lnTo>
                  <a:lnTo>
                    <a:pt x="87" y="90"/>
                  </a:lnTo>
                  <a:lnTo>
                    <a:pt x="74" y="98"/>
                  </a:lnTo>
                  <a:lnTo>
                    <a:pt x="67" y="114"/>
                  </a:lnTo>
                  <a:lnTo>
                    <a:pt x="53" y="129"/>
                  </a:lnTo>
                  <a:lnTo>
                    <a:pt x="46" y="145"/>
                  </a:lnTo>
                  <a:lnTo>
                    <a:pt x="33" y="162"/>
                  </a:lnTo>
                  <a:lnTo>
                    <a:pt x="20" y="162"/>
                  </a:lnTo>
                  <a:lnTo>
                    <a:pt x="6" y="178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222320" y="3174120"/>
              <a:ext cx="151920" cy="126000"/>
            </a:xfrm>
            <a:custGeom>
              <a:avLst/>
              <a:gdLst/>
              <a:ahLst/>
              <a:rect l="l" t="t" r="r" b="b"/>
              <a:pathLst>
                <a:path w="269" h="195">
                  <a:moveTo>
                    <a:pt x="269" y="0"/>
                  </a:moveTo>
                  <a:lnTo>
                    <a:pt x="255" y="0"/>
                  </a:lnTo>
                  <a:lnTo>
                    <a:pt x="242" y="0"/>
                  </a:lnTo>
                  <a:lnTo>
                    <a:pt x="229" y="9"/>
                  </a:lnTo>
                  <a:lnTo>
                    <a:pt x="214" y="17"/>
                  </a:lnTo>
                  <a:lnTo>
                    <a:pt x="202" y="17"/>
                  </a:lnTo>
                  <a:lnTo>
                    <a:pt x="188" y="17"/>
                  </a:lnTo>
                  <a:lnTo>
                    <a:pt x="175" y="25"/>
                  </a:lnTo>
                  <a:lnTo>
                    <a:pt x="161" y="33"/>
                  </a:lnTo>
                  <a:lnTo>
                    <a:pt x="147" y="33"/>
                  </a:lnTo>
                  <a:lnTo>
                    <a:pt x="135" y="50"/>
                  </a:lnTo>
                  <a:lnTo>
                    <a:pt x="120" y="58"/>
                  </a:lnTo>
                  <a:lnTo>
                    <a:pt x="108" y="66"/>
                  </a:lnTo>
                  <a:lnTo>
                    <a:pt x="94" y="74"/>
                  </a:lnTo>
                  <a:lnTo>
                    <a:pt x="87" y="89"/>
                  </a:lnTo>
                  <a:lnTo>
                    <a:pt x="74" y="97"/>
                  </a:lnTo>
                  <a:lnTo>
                    <a:pt x="67" y="113"/>
                  </a:lnTo>
                  <a:lnTo>
                    <a:pt x="53" y="130"/>
                  </a:lnTo>
                  <a:lnTo>
                    <a:pt x="47" y="146"/>
                  </a:lnTo>
                  <a:lnTo>
                    <a:pt x="33" y="162"/>
                  </a:lnTo>
                  <a:lnTo>
                    <a:pt x="21" y="162"/>
                  </a:lnTo>
                  <a:lnTo>
                    <a:pt x="7" y="178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249680" y="3215880"/>
              <a:ext cx="152280" cy="122760"/>
            </a:xfrm>
            <a:custGeom>
              <a:avLst/>
              <a:gdLst/>
              <a:ahLst/>
              <a:rect l="l" t="t" r="r" b="b"/>
              <a:pathLst>
                <a:path w="270" h="192">
                  <a:moveTo>
                    <a:pt x="270" y="0"/>
                  </a:moveTo>
                  <a:lnTo>
                    <a:pt x="256" y="0"/>
                  </a:lnTo>
                  <a:lnTo>
                    <a:pt x="243" y="0"/>
                  </a:lnTo>
                  <a:lnTo>
                    <a:pt x="229" y="8"/>
                  </a:lnTo>
                  <a:lnTo>
                    <a:pt x="216" y="14"/>
                  </a:lnTo>
                  <a:lnTo>
                    <a:pt x="202" y="14"/>
                  </a:lnTo>
                  <a:lnTo>
                    <a:pt x="189" y="14"/>
                  </a:lnTo>
                  <a:lnTo>
                    <a:pt x="176" y="23"/>
                  </a:lnTo>
                  <a:lnTo>
                    <a:pt x="161" y="31"/>
                  </a:lnTo>
                  <a:lnTo>
                    <a:pt x="149" y="31"/>
                  </a:lnTo>
                  <a:lnTo>
                    <a:pt x="135" y="48"/>
                  </a:lnTo>
                  <a:lnTo>
                    <a:pt x="122" y="55"/>
                  </a:lnTo>
                  <a:lnTo>
                    <a:pt x="108" y="64"/>
                  </a:lnTo>
                  <a:lnTo>
                    <a:pt x="94" y="72"/>
                  </a:lnTo>
                  <a:lnTo>
                    <a:pt x="88" y="88"/>
                  </a:lnTo>
                  <a:lnTo>
                    <a:pt x="74" y="96"/>
                  </a:lnTo>
                  <a:lnTo>
                    <a:pt x="67" y="112"/>
                  </a:lnTo>
                  <a:lnTo>
                    <a:pt x="55" y="129"/>
                  </a:lnTo>
                  <a:lnTo>
                    <a:pt x="48" y="145"/>
                  </a:lnTo>
                  <a:lnTo>
                    <a:pt x="34" y="160"/>
                  </a:lnTo>
                  <a:lnTo>
                    <a:pt x="21" y="160"/>
                  </a:lnTo>
                  <a:lnTo>
                    <a:pt x="7" y="177"/>
                  </a:lnTo>
                  <a:lnTo>
                    <a:pt x="0" y="192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176960" y="3329280"/>
              <a:ext cx="152280" cy="126000"/>
            </a:xfrm>
            <a:custGeom>
              <a:avLst/>
              <a:gdLst/>
              <a:ahLst/>
              <a:rect l="l" t="t" r="r" b="b"/>
              <a:pathLst>
                <a:path w="269" h="195">
                  <a:moveTo>
                    <a:pt x="269" y="0"/>
                  </a:moveTo>
                  <a:lnTo>
                    <a:pt x="256" y="0"/>
                  </a:lnTo>
                  <a:lnTo>
                    <a:pt x="241" y="0"/>
                  </a:lnTo>
                  <a:lnTo>
                    <a:pt x="229" y="9"/>
                  </a:lnTo>
                  <a:lnTo>
                    <a:pt x="215" y="16"/>
                  </a:lnTo>
                  <a:lnTo>
                    <a:pt x="201" y="16"/>
                  </a:lnTo>
                  <a:lnTo>
                    <a:pt x="188" y="16"/>
                  </a:lnTo>
                  <a:lnTo>
                    <a:pt x="175" y="24"/>
                  </a:lnTo>
                  <a:lnTo>
                    <a:pt x="161" y="33"/>
                  </a:lnTo>
                  <a:lnTo>
                    <a:pt x="147" y="33"/>
                  </a:lnTo>
                  <a:lnTo>
                    <a:pt x="135" y="50"/>
                  </a:lnTo>
                  <a:lnTo>
                    <a:pt x="121" y="57"/>
                  </a:lnTo>
                  <a:lnTo>
                    <a:pt x="107" y="65"/>
                  </a:lnTo>
                  <a:lnTo>
                    <a:pt x="94" y="74"/>
                  </a:lnTo>
                  <a:lnTo>
                    <a:pt x="87" y="90"/>
                  </a:lnTo>
                  <a:lnTo>
                    <a:pt x="73" y="98"/>
                  </a:lnTo>
                  <a:lnTo>
                    <a:pt x="67" y="114"/>
                  </a:lnTo>
                  <a:lnTo>
                    <a:pt x="53" y="129"/>
                  </a:lnTo>
                  <a:lnTo>
                    <a:pt x="47" y="145"/>
                  </a:lnTo>
                  <a:lnTo>
                    <a:pt x="33" y="162"/>
                  </a:lnTo>
                  <a:lnTo>
                    <a:pt x="20" y="162"/>
                  </a:lnTo>
                  <a:lnTo>
                    <a:pt x="7" y="178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101000" y="3445920"/>
              <a:ext cx="151920" cy="126000"/>
            </a:xfrm>
            <a:custGeom>
              <a:avLst/>
              <a:gdLst/>
              <a:ahLst/>
              <a:rect l="l" t="t" r="r" b="b"/>
              <a:pathLst>
                <a:path w="270" h="195">
                  <a:moveTo>
                    <a:pt x="270" y="0"/>
                  </a:moveTo>
                  <a:lnTo>
                    <a:pt x="256" y="0"/>
                  </a:lnTo>
                  <a:lnTo>
                    <a:pt x="241" y="0"/>
                  </a:lnTo>
                  <a:lnTo>
                    <a:pt x="229" y="9"/>
                  </a:lnTo>
                  <a:lnTo>
                    <a:pt x="215" y="17"/>
                  </a:lnTo>
                  <a:lnTo>
                    <a:pt x="202" y="17"/>
                  </a:lnTo>
                  <a:lnTo>
                    <a:pt x="188" y="17"/>
                  </a:lnTo>
                  <a:lnTo>
                    <a:pt x="176" y="24"/>
                  </a:lnTo>
                  <a:lnTo>
                    <a:pt x="161" y="32"/>
                  </a:lnTo>
                  <a:lnTo>
                    <a:pt x="147" y="32"/>
                  </a:lnTo>
                  <a:lnTo>
                    <a:pt x="135" y="50"/>
                  </a:lnTo>
                  <a:lnTo>
                    <a:pt x="121" y="57"/>
                  </a:lnTo>
                  <a:lnTo>
                    <a:pt x="108" y="65"/>
                  </a:lnTo>
                  <a:lnTo>
                    <a:pt x="94" y="73"/>
                  </a:lnTo>
                  <a:lnTo>
                    <a:pt x="87" y="90"/>
                  </a:lnTo>
                  <a:lnTo>
                    <a:pt x="74" y="98"/>
                  </a:lnTo>
                  <a:lnTo>
                    <a:pt x="67" y="113"/>
                  </a:lnTo>
                  <a:lnTo>
                    <a:pt x="54" y="129"/>
                  </a:lnTo>
                  <a:lnTo>
                    <a:pt x="47" y="145"/>
                  </a:lnTo>
                  <a:lnTo>
                    <a:pt x="34" y="162"/>
                  </a:lnTo>
                  <a:lnTo>
                    <a:pt x="20" y="162"/>
                  </a:lnTo>
                  <a:lnTo>
                    <a:pt x="7" y="178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101000" y="3416400"/>
              <a:ext cx="151920" cy="126000"/>
            </a:xfrm>
            <a:custGeom>
              <a:avLst/>
              <a:gdLst/>
              <a:ahLst/>
              <a:rect l="l" t="t" r="r" b="b"/>
              <a:pathLst>
                <a:path w="270" h="195">
                  <a:moveTo>
                    <a:pt x="270" y="0"/>
                  </a:moveTo>
                  <a:lnTo>
                    <a:pt x="256" y="0"/>
                  </a:lnTo>
                  <a:lnTo>
                    <a:pt x="241" y="0"/>
                  </a:lnTo>
                  <a:lnTo>
                    <a:pt x="229" y="9"/>
                  </a:lnTo>
                  <a:lnTo>
                    <a:pt x="215" y="17"/>
                  </a:lnTo>
                  <a:lnTo>
                    <a:pt x="202" y="17"/>
                  </a:lnTo>
                  <a:lnTo>
                    <a:pt x="188" y="17"/>
                  </a:lnTo>
                  <a:lnTo>
                    <a:pt x="176" y="24"/>
                  </a:lnTo>
                  <a:lnTo>
                    <a:pt x="161" y="33"/>
                  </a:lnTo>
                  <a:lnTo>
                    <a:pt x="147" y="33"/>
                  </a:lnTo>
                  <a:lnTo>
                    <a:pt x="135" y="50"/>
                  </a:lnTo>
                  <a:lnTo>
                    <a:pt x="121" y="58"/>
                  </a:lnTo>
                  <a:lnTo>
                    <a:pt x="108" y="65"/>
                  </a:lnTo>
                  <a:lnTo>
                    <a:pt x="94" y="73"/>
                  </a:lnTo>
                  <a:lnTo>
                    <a:pt x="87" y="90"/>
                  </a:lnTo>
                  <a:lnTo>
                    <a:pt x="74" y="98"/>
                  </a:lnTo>
                  <a:lnTo>
                    <a:pt x="67" y="114"/>
                  </a:lnTo>
                  <a:lnTo>
                    <a:pt x="54" y="131"/>
                  </a:lnTo>
                  <a:lnTo>
                    <a:pt x="47" y="146"/>
                  </a:lnTo>
                  <a:lnTo>
                    <a:pt x="34" y="163"/>
                  </a:lnTo>
                  <a:lnTo>
                    <a:pt x="20" y="163"/>
                  </a:lnTo>
                  <a:lnTo>
                    <a:pt x="7" y="179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202520" y="3040560"/>
              <a:ext cx="151920" cy="126720"/>
            </a:xfrm>
            <a:custGeom>
              <a:avLst/>
              <a:gdLst/>
              <a:ahLst/>
              <a:rect l="l" t="t" r="r" b="b"/>
              <a:pathLst>
                <a:path w="270" h="195">
                  <a:moveTo>
                    <a:pt x="270" y="0"/>
                  </a:moveTo>
                  <a:lnTo>
                    <a:pt x="257" y="0"/>
                  </a:lnTo>
                  <a:lnTo>
                    <a:pt x="243" y="0"/>
                  </a:lnTo>
                  <a:lnTo>
                    <a:pt x="229" y="9"/>
                  </a:lnTo>
                  <a:lnTo>
                    <a:pt x="216" y="17"/>
                  </a:lnTo>
                  <a:lnTo>
                    <a:pt x="203" y="17"/>
                  </a:lnTo>
                  <a:lnTo>
                    <a:pt x="188" y="17"/>
                  </a:lnTo>
                  <a:lnTo>
                    <a:pt x="176" y="25"/>
                  </a:lnTo>
                  <a:lnTo>
                    <a:pt x="162" y="33"/>
                  </a:lnTo>
                  <a:lnTo>
                    <a:pt x="148" y="33"/>
                  </a:lnTo>
                  <a:lnTo>
                    <a:pt x="135" y="50"/>
                  </a:lnTo>
                  <a:lnTo>
                    <a:pt x="122" y="58"/>
                  </a:lnTo>
                  <a:lnTo>
                    <a:pt x="109" y="66"/>
                  </a:lnTo>
                  <a:lnTo>
                    <a:pt x="94" y="74"/>
                  </a:lnTo>
                  <a:lnTo>
                    <a:pt x="88" y="90"/>
                  </a:lnTo>
                  <a:lnTo>
                    <a:pt x="74" y="99"/>
                  </a:lnTo>
                  <a:lnTo>
                    <a:pt x="68" y="115"/>
                  </a:lnTo>
                  <a:lnTo>
                    <a:pt x="54" y="130"/>
                  </a:lnTo>
                  <a:lnTo>
                    <a:pt x="49" y="147"/>
                  </a:lnTo>
                  <a:lnTo>
                    <a:pt x="34" y="163"/>
                  </a:lnTo>
                  <a:lnTo>
                    <a:pt x="20" y="163"/>
                  </a:lnTo>
                  <a:lnTo>
                    <a:pt x="8" y="179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122960" y="2973240"/>
              <a:ext cx="152280" cy="126000"/>
            </a:xfrm>
            <a:custGeom>
              <a:avLst/>
              <a:gdLst/>
              <a:ahLst/>
              <a:rect l="l" t="t" r="r" b="b"/>
              <a:pathLst>
                <a:path w="269" h="195">
                  <a:moveTo>
                    <a:pt x="269" y="0"/>
                  </a:moveTo>
                  <a:lnTo>
                    <a:pt x="256" y="0"/>
                  </a:lnTo>
                  <a:lnTo>
                    <a:pt x="241" y="0"/>
                  </a:lnTo>
                  <a:lnTo>
                    <a:pt x="229" y="8"/>
                  </a:lnTo>
                  <a:lnTo>
                    <a:pt x="215" y="16"/>
                  </a:lnTo>
                  <a:lnTo>
                    <a:pt x="201" y="16"/>
                  </a:lnTo>
                  <a:lnTo>
                    <a:pt x="188" y="16"/>
                  </a:lnTo>
                  <a:lnTo>
                    <a:pt x="175" y="25"/>
                  </a:lnTo>
                  <a:lnTo>
                    <a:pt x="161" y="33"/>
                  </a:lnTo>
                  <a:lnTo>
                    <a:pt x="147" y="33"/>
                  </a:lnTo>
                  <a:lnTo>
                    <a:pt x="135" y="49"/>
                  </a:lnTo>
                  <a:lnTo>
                    <a:pt x="121" y="57"/>
                  </a:lnTo>
                  <a:lnTo>
                    <a:pt x="107" y="66"/>
                  </a:lnTo>
                  <a:lnTo>
                    <a:pt x="94" y="74"/>
                  </a:lnTo>
                  <a:lnTo>
                    <a:pt x="87" y="88"/>
                  </a:lnTo>
                  <a:lnTo>
                    <a:pt x="73" y="98"/>
                  </a:lnTo>
                  <a:lnTo>
                    <a:pt x="67" y="114"/>
                  </a:lnTo>
                  <a:lnTo>
                    <a:pt x="53" y="130"/>
                  </a:lnTo>
                  <a:lnTo>
                    <a:pt x="47" y="146"/>
                  </a:lnTo>
                  <a:lnTo>
                    <a:pt x="33" y="162"/>
                  </a:lnTo>
                  <a:lnTo>
                    <a:pt x="20" y="162"/>
                  </a:lnTo>
                  <a:lnTo>
                    <a:pt x="6" y="179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061040" y="2869200"/>
              <a:ext cx="152280" cy="126000"/>
            </a:xfrm>
            <a:custGeom>
              <a:avLst/>
              <a:gdLst/>
              <a:ahLst/>
              <a:rect l="l" t="t" r="r" b="b"/>
              <a:pathLst>
                <a:path w="270" h="195">
                  <a:moveTo>
                    <a:pt x="270" y="0"/>
                  </a:moveTo>
                  <a:lnTo>
                    <a:pt x="256" y="0"/>
                  </a:lnTo>
                  <a:lnTo>
                    <a:pt x="243" y="0"/>
                  </a:lnTo>
                  <a:lnTo>
                    <a:pt x="229" y="9"/>
                  </a:lnTo>
                  <a:lnTo>
                    <a:pt x="215" y="17"/>
                  </a:lnTo>
                  <a:lnTo>
                    <a:pt x="202" y="17"/>
                  </a:lnTo>
                  <a:lnTo>
                    <a:pt x="188" y="17"/>
                  </a:lnTo>
                  <a:lnTo>
                    <a:pt x="176" y="25"/>
                  </a:lnTo>
                  <a:lnTo>
                    <a:pt x="161" y="33"/>
                  </a:lnTo>
                  <a:lnTo>
                    <a:pt x="148" y="33"/>
                  </a:lnTo>
                  <a:lnTo>
                    <a:pt x="135" y="50"/>
                  </a:lnTo>
                  <a:lnTo>
                    <a:pt x="121" y="58"/>
                  </a:lnTo>
                  <a:lnTo>
                    <a:pt x="108" y="66"/>
                  </a:lnTo>
                  <a:lnTo>
                    <a:pt x="94" y="72"/>
                  </a:lnTo>
                  <a:lnTo>
                    <a:pt x="87" y="89"/>
                  </a:lnTo>
                  <a:lnTo>
                    <a:pt x="74" y="98"/>
                  </a:lnTo>
                  <a:lnTo>
                    <a:pt x="67" y="113"/>
                  </a:lnTo>
                  <a:lnTo>
                    <a:pt x="54" y="130"/>
                  </a:lnTo>
                  <a:lnTo>
                    <a:pt x="48" y="146"/>
                  </a:lnTo>
                  <a:lnTo>
                    <a:pt x="34" y="162"/>
                  </a:lnTo>
                  <a:lnTo>
                    <a:pt x="20" y="162"/>
                  </a:lnTo>
                  <a:lnTo>
                    <a:pt x="7" y="179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182360" y="3433320"/>
              <a:ext cx="152280" cy="126000"/>
            </a:xfrm>
            <a:custGeom>
              <a:avLst/>
              <a:gdLst/>
              <a:ahLst/>
              <a:rect l="l" t="t" r="r" b="b"/>
              <a:pathLst>
                <a:path w="269" h="195">
                  <a:moveTo>
                    <a:pt x="269" y="0"/>
                  </a:moveTo>
                  <a:lnTo>
                    <a:pt x="255" y="0"/>
                  </a:lnTo>
                  <a:lnTo>
                    <a:pt x="242" y="0"/>
                  </a:lnTo>
                  <a:lnTo>
                    <a:pt x="229" y="9"/>
                  </a:lnTo>
                  <a:lnTo>
                    <a:pt x="216" y="17"/>
                  </a:lnTo>
                  <a:lnTo>
                    <a:pt x="202" y="17"/>
                  </a:lnTo>
                  <a:lnTo>
                    <a:pt x="187" y="17"/>
                  </a:lnTo>
                  <a:lnTo>
                    <a:pt x="175" y="25"/>
                  </a:lnTo>
                  <a:lnTo>
                    <a:pt x="161" y="33"/>
                  </a:lnTo>
                  <a:lnTo>
                    <a:pt x="148" y="33"/>
                  </a:lnTo>
                  <a:lnTo>
                    <a:pt x="135" y="50"/>
                  </a:lnTo>
                  <a:lnTo>
                    <a:pt x="122" y="58"/>
                  </a:lnTo>
                  <a:lnTo>
                    <a:pt x="108" y="66"/>
                  </a:lnTo>
                  <a:lnTo>
                    <a:pt x="94" y="74"/>
                  </a:lnTo>
                  <a:lnTo>
                    <a:pt x="88" y="90"/>
                  </a:lnTo>
                  <a:lnTo>
                    <a:pt x="74" y="98"/>
                  </a:lnTo>
                  <a:lnTo>
                    <a:pt x="67" y="115"/>
                  </a:lnTo>
                  <a:lnTo>
                    <a:pt x="54" y="129"/>
                  </a:lnTo>
                  <a:lnTo>
                    <a:pt x="48" y="147"/>
                  </a:lnTo>
                  <a:lnTo>
                    <a:pt x="33" y="162"/>
                  </a:lnTo>
                  <a:lnTo>
                    <a:pt x="21" y="162"/>
                  </a:lnTo>
                  <a:lnTo>
                    <a:pt x="7" y="178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69680" y="2782080"/>
              <a:ext cx="123480" cy="51120"/>
            </a:xfrm>
            <a:custGeom>
              <a:avLst/>
              <a:gdLst/>
              <a:ahLst/>
              <a:rect l="l" t="t" r="r" b="b"/>
              <a:pathLst>
                <a:path w="221" h="81">
                  <a:moveTo>
                    <a:pt x="0" y="81"/>
                  </a:moveTo>
                  <a:lnTo>
                    <a:pt x="0" y="64"/>
                  </a:lnTo>
                  <a:lnTo>
                    <a:pt x="13" y="57"/>
                  </a:lnTo>
                  <a:lnTo>
                    <a:pt x="20" y="40"/>
                  </a:lnTo>
                  <a:lnTo>
                    <a:pt x="34" y="32"/>
                  </a:lnTo>
                  <a:lnTo>
                    <a:pt x="46" y="23"/>
                  </a:lnTo>
                  <a:lnTo>
                    <a:pt x="60" y="16"/>
                  </a:lnTo>
                  <a:lnTo>
                    <a:pt x="73" y="8"/>
                  </a:lnTo>
                  <a:lnTo>
                    <a:pt x="87" y="8"/>
                  </a:lnTo>
                  <a:lnTo>
                    <a:pt x="114" y="8"/>
                  </a:lnTo>
                  <a:lnTo>
                    <a:pt x="127" y="8"/>
                  </a:lnTo>
                  <a:lnTo>
                    <a:pt x="139" y="8"/>
                  </a:lnTo>
                  <a:lnTo>
                    <a:pt x="154" y="8"/>
                  </a:lnTo>
                  <a:lnTo>
                    <a:pt x="167" y="8"/>
                  </a:lnTo>
                  <a:lnTo>
                    <a:pt x="181" y="8"/>
                  </a:lnTo>
                  <a:lnTo>
                    <a:pt x="193" y="8"/>
                  </a:lnTo>
                  <a:lnTo>
                    <a:pt x="208" y="0"/>
                  </a:lnTo>
                  <a:lnTo>
                    <a:pt x="221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035840" y="2749320"/>
              <a:ext cx="126720" cy="51120"/>
            </a:xfrm>
            <a:custGeom>
              <a:avLst/>
              <a:gdLst/>
              <a:ahLst/>
              <a:rect l="l" t="t" r="r" b="b"/>
              <a:pathLst>
                <a:path w="221" h="81">
                  <a:moveTo>
                    <a:pt x="0" y="81"/>
                  </a:moveTo>
                  <a:lnTo>
                    <a:pt x="0" y="65"/>
                  </a:lnTo>
                  <a:lnTo>
                    <a:pt x="12" y="57"/>
                  </a:lnTo>
                  <a:lnTo>
                    <a:pt x="19" y="41"/>
                  </a:lnTo>
                  <a:lnTo>
                    <a:pt x="33" y="33"/>
                  </a:lnTo>
                  <a:lnTo>
                    <a:pt x="45" y="24"/>
                  </a:lnTo>
                  <a:lnTo>
                    <a:pt x="60" y="16"/>
                  </a:lnTo>
                  <a:lnTo>
                    <a:pt x="73" y="8"/>
                  </a:lnTo>
                  <a:lnTo>
                    <a:pt x="86" y="8"/>
                  </a:lnTo>
                  <a:lnTo>
                    <a:pt x="113" y="8"/>
                  </a:lnTo>
                  <a:lnTo>
                    <a:pt x="127" y="8"/>
                  </a:lnTo>
                  <a:lnTo>
                    <a:pt x="139" y="8"/>
                  </a:lnTo>
                  <a:lnTo>
                    <a:pt x="154" y="8"/>
                  </a:lnTo>
                  <a:lnTo>
                    <a:pt x="167" y="8"/>
                  </a:lnTo>
                  <a:lnTo>
                    <a:pt x="180" y="8"/>
                  </a:lnTo>
                  <a:lnTo>
                    <a:pt x="193" y="8"/>
                  </a:lnTo>
                  <a:lnTo>
                    <a:pt x="207" y="0"/>
                  </a:lnTo>
                  <a:lnTo>
                    <a:pt x="221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235640" y="2875320"/>
              <a:ext cx="126720" cy="51120"/>
            </a:xfrm>
            <a:custGeom>
              <a:avLst/>
              <a:gdLst/>
              <a:ahLst/>
              <a:rect l="l" t="t" r="r" b="b"/>
              <a:pathLst>
                <a:path w="222" h="81">
                  <a:moveTo>
                    <a:pt x="0" y="81"/>
                  </a:moveTo>
                  <a:lnTo>
                    <a:pt x="0" y="64"/>
                  </a:lnTo>
                  <a:lnTo>
                    <a:pt x="14" y="57"/>
                  </a:lnTo>
                  <a:lnTo>
                    <a:pt x="21" y="40"/>
                  </a:lnTo>
                  <a:lnTo>
                    <a:pt x="34" y="32"/>
                  </a:lnTo>
                  <a:lnTo>
                    <a:pt x="48" y="23"/>
                  </a:lnTo>
                  <a:lnTo>
                    <a:pt x="60" y="16"/>
                  </a:lnTo>
                  <a:lnTo>
                    <a:pt x="74" y="8"/>
                  </a:lnTo>
                  <a:lnTo>
                    <a:pt x="89" y="8"/>
                  </a:lnTo>
                  <a:lnTo>
                    <a:pt x="115" y="8"/>
                  </a:lnTo>
                  <a:lnTo>
                    <a:pt x="128" y="8"/>
                  </a:lnTo>
                  <a:lnTo>
                    <a:pt x="142" y="8"/>
                  </a:lnTo>
                  <a:lnTo>
                    <a:pt x="154" y="8"/>
                  </a:lnTo>
                  <a:lnTo>
                    <a:pt x="168" y="8"/>
                  </a:lnTo>
                  <a:lnTo>
                    <a:pt x="183" y="8"/>
                  </a:lnTo>
                  <a:lnTo>
                    <a:pt x="195" y="8"/>
                  </a:lnTo>
                  <a:lnTo>
                    <a:pt x="209" y="0"/>
                  </a:lnTo>
                  <a:lnTo>
                    <a:pt x="222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202520" y="2785320"/>
              <a:ext cx="121320" cy="41760"/>
            </a:xfrm>
            <a:custGeom>
              <a:avLst/>
              <a:gdLst/>
              <a:ahLst/>
              <a:rect l="l" t="t" r="r" b="b"/>
              <a:pathLst>
                <a:path w="215" h="64">
                  <a:moveTo>
                    <a:pt x="215" y="64"/>
                  </a:moveTo>
                  <a:lnTo>
                    <a:pt x="203" y="55"/>
                  </a:lnTo>
                  <a:lnTo>
                    <a:pt x="188" y="49"/>
                  </a:lnTo>
                  <a:lnTo>
                    <a:pt x="175" y="49"/>
                  </a:lnTo>
                  <a:lnTo>
                    <a:pt x="162" y="49"/>
                  </a:lnTo>
                  <a:lnTo>
                    <a:pt x="148" y="49"/>
                  </a:lnTo>
                  <a:lnTo>
                    <a:pt x="134" y="49"/>
                  </a:lnTo>
                  <a:lnTo>
                    <a:pt x="121" y="41"/>
                  </a:lnTo>
                  <a:lnTo>
                    <a:pt x="109" y="33"/>
                  </a:lnTo>
                  <a:lnTo>
                    <a:pt x="94" y="33"/>
                  </a:lnTo>
                  <a:lnTo>
                    <a:pt x="80" y="33"/>
                  </a:lnTo>
                  <a:lnTo>
                    <a:pt x="68" y="24"/>
                  </a:lnTo>
                  <a:lnTo>
                    <a:pt x="54" y="16"/>
                  </a:lnTo>
                  <a:lnTo>
                    <a:pt x="41" y="8"/>
                  </a:lnTo>
                  <a:lnTo>
                    <a:pt x="27" y="8"/>
                  </a:ln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11800" y="3523680"/>
              <a:ext cx="234000" cy="81000"/>
            </a:xfrm>
            <a:custGeom>
              <a:avLst/>
              <a:gdLst/>
              <a:ahLst/>
              <a:rect l="l" t="t" r="r" b="b"/>
              <a:pathLst>
                <a:path w="417" h="129">
                  <a:moveTo>
                    <a:pt x="0" y="129"/>
                  </a:moveTo>
                  <a:lnTo>
                    <a:pt x="14" y="121"/>
                  </a:lnTo>
                  <a:lnTo>
                    <a:pt x="48" y="99"/>
                  </a:lnTo>
                  <a:lnTo>
                    <a:pt x="60" y="89"/>
                  </a:lnTo>
                  <a:lnTo>
                    <a:pt x="74" y="89"/>
                  </a:lnTo>
                  <a:lnTo>
                    <a:pt x="88" y="74"/>
                  </a:lnTo>
                  <a:lnTo>
                    <a:pt x="101" y="74"/>
                  </a:lnTo>
                  <a:lnTo>
                    <a:pt x="115" y="58"/>
                  </a:lnTo>
                  <a:lnTo>
                    <a:pt x="127" y="58"/>
                  </a:lnTo>
                  <a:lnTo>
                    <a:pt x="142" y="49"/>
                  </a:lnTo>
                  <a:lnTo>
                    <a:pt x="154" y="49"/>
                  </a:lnTo>
                  <a:lnTo>
                    <a:pt x="168" y="49"/>
                  </a:lnTo>
                  <a:lnTo>
                    <a:pt x="182" y="49"/>
                  </a:lnTo>
                  <a:lnTo>
                    <a:pt x="195" y="49"/>
                  </a:lnTo>
                  <a:lnTo>
                    <a:pt x="209" y="49"/>
                  </a:lnTo>
                  <a:lnTo>
                    <a:pt x="221" y="49"/>
                  </a:lnTo>
                  <a:lnTo>
                    <a:pt x="236" y="41"/>
                  </a:lnTo>
                  <a:lnTo>
                    <a:pt x="248" y="41"/>
                  </a:lnTo>
                  <a:lnTo>
                    <a:pt x="262" y="33"/>
                  </a:lnTo>
                  <a:lnTo>
                    <a:pt x="296" y="25"/>
                  </a:lnTo>
                  <a:lnTo>
                    <a:pt x="323" y="8"/>
                  </a:lnTo>
                  <a:lnTo>
                    <a:pt x="336" y="0"/>
                  </a:lnTo>
                  <a:lnTo>
                    <a:pt x="350" y="0"/>
                  </a:lnTo>
                  <a:lnTo>
                    <a:pt x="363" y="0"/>
                  </a:lnTo>
                  <a:lnTo>
                    <a:pt x="376" y="0"/>
                  </a:lnTo>
                  <a:lnTo>
                    <a:pt x="389" y="0"/>
                  </a:lnTo>
                  <a:lnTo>
                    <a:pt x="404" y="0"/>
                  </a:lnTo>
                  <a:lnTo>
                    <a:pt x="417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159320" y="2836440"/>
              <a:ext cx="189720" cy="133200"/>
            </a:xfrm>
            <a:custGeom>
              <a:avLst/>
              <a:gdLst/>
              <a:ahLst/>
              <a:rect l="l" t="t" r="r" b="b"/>
              <a:pathLst>
                <a:path w="335" h="202">
                  <a:moveTo>
                    <a:pt x="335" y="0"/>
                  </a:moveTo>
                  <a:lnTo>
                    <a:pt x="321" y="8"/>
                  </a:lnTo>
                  <a:lnTo>
                    <a:pt x="309" y="8"/>
                  </a:lnTo>
                  <a:lnTo>
                    <a:pt x="295" y="8"/>
                  </a:lnTo>
                  <a:lnTo>
                    <a:pt x="261" y="8"/>
                  </a:lnTo>
                  <a:lnTo>
                    <a:pt x="235" y="8"/>
                  </a:lnTo>
                  <a:lnTo>
                    <a:pt x="220" y="8"/>
                  </a:lnTo>
                  <a:lnTo>
                    <a:pt x="207" y="8"/>
                  </a:lnTo>
                  <a:lnTo>
                    <a:pt x="194" y="16"/>
                  </a:lnTo>
                  <a:lnTo>
                    <a:pt x="181" y="24"/>
                  </a:lnTo>
                  <a:lnTo>
                    <a:pt x="181" y="40"/>
                  </a:lnTo>
                  <a:lnTo>
                    <a:pt x="167" y="40"/>
                  </a:lnTo>
                  <a:lnTo>
                    <a:pt x="160" y="57"/>
                  </a:lnTo>
                  <a:lnTo>
                    <a:pt x="147" y="65"/>
                  </a:lnTo>
                  <a:lnTo>
                    <a:pt x="133" y="73"/>
                  </a:lnTo>
                  <a:lnTo>
                    <a:pt x="121" y="73"/>
                  </a:lnTo>
                  <a:lnTo>
                    <a:pt x="107" y="81"/>
                  </a:lnTo>
                  <a:lnTo>
                    <a:pt x="92" y="89"/>
                  </a:lnTo>
                  <a:lnTo>
                    <a:pt x="87" y="106"/>
                  </a:lnTo>
                  <a:lnTo>
                    <a:pt x="80" y="121"/>
                  </a:lnTo>
                  <a:lnTo>
                    <a:pt x="66" y="128"/>
                  </a:lnTo>
                  <a:lnTo>
                    <a:pt x="60" y="145"/>
                  </a:lnTo>
                  <a:lnTo>
                    <a:pt x="47" y="153"/>
                  </a:lnTo>
                  <a:lnTo>
                    <a:pt x="39" y="169"/>
                  </a:lnTo>
                  <a:lnTo>
                    <a:pt x="27" y="178"/>
                  </a:lnTo>
                  <a:lnTo>
                    <a:pt x="12" y="194"/>
                  </a:lnTo>
                  <a:lnTo>
                    <a:pt x="0" y="202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37000" y="3539520"/>
              <a:ext cx="152280" cy="127080"/>
            </a:xfrm>
            <a:custGeom>
              <a:avLst/>
              <a:gdLst/>
              <a:ahLst/>
              <a:rect l="l" t="t" r="r" b="b"/>
              <a:pathLst>
                <a:path w="268" h="195">
                  <a:moveTo>
                    <a:pt x="268" y="0"/>
                  </a:moveTo>
                  <a:lnTo>
                    <a:pt x="255" y="0"/>
                  </a:lnTo>
                  <a:lnTo>
                    <a:pt x="241" y="0"/>
                  </a:lnTo>
                  <a:lnTo>
                    <a:pt x="229" y="9"/>
                  </a:lnTo>
                  <a:lnTo>
                    <a:pt x="214" y="17"/>
                  </a:lnTo>
                  <a:lnTo>
                    <a:pt x="202" y="17"/>
                  </a:lnTo>
                  <a:lnTo>
                    <a:pt x="188" y="17"/>
                  </a:lnTo>
                  <a:lnTo>
                    <a:pt x="174" y="25"/>
                  </a:lnTo>
                  <a:lnTo>
                    <a:pt x="161" y="33"/>
                  </a:lnTo>
                  <a:lnTo>
                    <a:pt x="147" y="33"/>
                  </a:lnTo>
                  <a:lnTo>
                    <a:pt x="135" y="50"/>
                  </a:lnTo>
                  <a:lnTo>
                    <a:pt x="120" y="58"/>
                  </a:lnTo>
                  <a:lnTo>
                    <a:pt x="108" y="66"/>
                  </a:lnTo>
                  <a:lnTo>
                    <a:pt x="94" y="74"/>
                  </a:lnTo>
                  <a:lnTo>
                    <a:pt x="87" y="90"/>
                  </a:lnTo>
                  <a:lnTo>
                    <a:pt x="74" y="98"/>
                  </a:lnTo>
                  <a:lnTo>
                    <a:pt x="67" y="113"/>
                  </a:lnTo>
                  <a:lnTo>
                    <a:pt x="53" y="130"/>
                  </a:lnTo>
                  <a:lnTo>
                    <a:pt x="46" y="146"/>
                  </a:lnTo>
                  <a:lnTo>
                    <a:pt x="33" y="163"/>
                  </a:lnTo>
                  <a:lnTo>
                    <a:pt x="20" y="163"/>
                  </a:lnTo>
                  <a:lnTo>
                    <a:pt x="6" y="178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80360" y="3569040"/>
              <a:ext cx="647640" cy="453600"/>
            </a:xfrm>
            <a:custGeom>
              <a:avLst/>
              <a:gdLst/>
              <a:ahLst/>
              <a:rect l="l" t="t" r="r" b="b"/>
              <a:pathLst>
                <a:path w="1149" h="699">
                  <a:moveTo>
                    <a:pt x="53" y="537"/>
                  </a:moveTo>
                  <a:lnTo>
                    <a:pt x="62" y="532"/>
                  </a:lnTo>
                  <a:lnTo>
                    <a:pt x="71" y="532"/>
                  </a:lnTo>
                  <a:lnTo>
                    <a:pt x="79" y="526"/>
                  </a:lnTo>
                  <a:lnTo>
                    <a:pt x="88" y="526"/>
                  </a:lnTo>
                  <a:lnTo>
                    <a:pt x="98" y="526"/>
                  </a:lnTo>
                  <a:lnTo>
                    <a:pt x="107" y="526"/>
                  </a:lnTo>
                  <a:lnTo>
                    <a:pt x="111" y="516"/>
                  </a:lnTo>
                  <a:lnTo>
                    <a:pt x="120" y="511"/>
                  </a:lnTo>
                  <a:lnTo>
                    <a:pt x="129" y="499"/>
                  </a:lnTo>
                  <a:lnTo>
                    <a:pt x="138" y="499"/>
                  </a:lnTo>
                  <a:lnTo>
                    <a:pt x="147" y="505"/>
                  </a:lnTo>
                  <a:lnTo>
                    <a:pt x="156" y="505"/>
                  </a:lnTo>
                  <a:lnTo>
                    <a:pt x="174" y="516"/>
                  </a:lnTo>
                  <a:lnTo>
                    <a:pt x="182" y="516"/>
                  </a:lnTo>
                  <a:lnTo>
                    <a:pt x="191" y="505"/>
                  </a:lnTo>
                  <a:lnTo>
                    <a:pt x="201" y="505"/>
                  </a:lnTo>
                  <a:lnTo>
                    <a:pt x="210" y="499"/>
                  </a:lnTo>
                  <a:lnTo>
                    <a:pt x="218" y="494"/>
                  </a:lnTo>
                  <a:lnTo>
                    <a:pt x="241" y="494"/>
                  </a:lnTo>
                  <a:lnTo>
                    <a:pt x="250" y="489"/>
                  </a:lnTo>
                  <a:lnTo>
                    <a:pt x="259" y="483"/>
                  </a:lnTo>
                  <a:lnTo>
                    <a:pt x="268" y="479"/>
                  </a:lnTo>
                  <a:lnTo>
                    <a:pt x="276" y="479"/>
                  </a:lnTo>
                  <a:lnTo>
                    <a:pt x="286" y="473"/>
                  </a:lnTo>
                  <a:lnTo>
                    <a:pt x="293" y="467"/>
                  </a:lnTo>
                  <a:lnTo>
                    <a:pt x="303" y="463"/>
                  </a:lnTo>
                  <a:lnTo>
                    <a:pt x="312" y="456"/>
                  </a:lnTo>
                  <a:lnTo>
                    <a:pt x="323" y="456"/>
                  </a:lnTo>
                  <a:lnTo>
                    <a:pt x="326" y="467"/>
                  </a:lnTo>
                  <a:lnTo>
                    <a:pt x="334" y="467"/>
                  </a:lnTo>
                  <a:lnTo>
                    <a:pt x="344" y="463"/>
                  </a:lnTo>
                  <a:lnTo>
                    <a:pt x="353" y="456"/>
                  </a:lnTo>
                  <a:lnTo>
                    <a:pt x="362" y="463"/>
                  </a:lnTo>
                  <a:lnTo>
                    <a:pt x="370" y="463"/>
                  </a:lnTo>
                  <a:lnTo>
                    <a:pt x="370" y="452"/>
                  </a:lnTo>
                  <a:lnTo>
                    <a:pt x="380" y="446"/>
                  </a:lnTo>
                  <a:lnTo>
                    <a:pt x="388" y="446"/>
                  </a:lnTo>
                  <a:lnTo>
                    <a:pt x="397" y="440"/>
                  </a:lnTo>
                  <a:lnTo>
                    <a:pt x="405" y="446"/>
                  </a:lnTo>
                  <a:lnTo>
                    <a:pt x="411" y="436"/>
                  </a:lnTo>
                  <a:lnTo>
                    <a:pt x="416" y="424"/>
                  </a:lnTo>
                  <a:lnTo>
                    <a:pt x="425" y="419"/>
                  </a:lnTo>
                  <a:lnTo>
                    <a:pt x="434" y="419"/>
                  </a:lnTo>
                  <a:lnTo>
                    <a:pt x="443" y="419"/>
                  </a:lnTo>
                  <a:lnTo>
                    <a:pt x="451" y="424"/>
                  </a:lnTo>
                  <a:lnTo>
                    <a:pt x="460" y="419"/>
                  </a:lnTo>
                  <a:lnTo>
                    <a:pt x="464" y="409"/>
                  </a:lnTo>
                  <a:lnTo>
                    <a:pt x="474" y="402"/>
                  </a:lnTo>
                  <a:lnTo>
                    <a:pt x="482" y="402"/>
                  </a:lnTo>
                  <a:lnTo>
                    <a:pt x="491" y="402"/>
                  </a:lnTo>
                  <a:lnTo>
                    <a:pt x="499" y="402"/>
                  </a:lnTo>
                  <a:lnTo>
                    <a:pt x="510" y="392"/>
                  </a:lnTo>
                  <a:lnTo>
                    <a:pt x="518" y="381"/>
                  </a:lnTo>
                  <a:lnTo>
                    <a:pt x="528" y="381"/>
                  </a:lnTo>
                  <a:lnTo>
                    <a:pt x="537" y="381"/>
                  </a:lnTo>
                  <a:lnTo>
                    <a:pt x="545" y="381"/>
                  </a:lnTo>
                  <a:lnTo>
                    <a:pt x="550" y="371"/>
                  </a:lnTo>
                  <a:lnTo>
                    <a:pt x="554" y="359"/>
                  </a:lnTo>
                  <a:lnTo>
                    <a:pt x="563" y="359"/>
                  </a:lnTo>
                  <a:lnTo>
                    <a:pt x="569" y="349"/>
                  </a:lnTo>
                  <a:lnTo>
                    <a:pt x="576" y="349"/>
                  </a:lnTo>
                  <a:lnTo>
                    <a:pt x="585" y="349"/>
                  </a:lnTo>
                  <a:lnTo>
                    <a:pt x="595" y="344"/>
                  </a:lnTo>
                  <a:lnTo>
                    <a:pt x="604" y="338"/>
                  </a:lnTo>
                  <a:lnTo>
                    <a:pt x="612" y="333"/>
                  </a:lnTo>
                  <a:lnTo>
                    <a:pt x="622" y="333"/>
                  </a:lnTo>
                  <a:lnTo>
                    <a:pt x="631" y="328"/>
                  </a:lnTo>
                  <a:lnTo>
                    <a:pt x="639" y="328"/>
                  </a:lnTo>
                  <a:lnTo>
                    <a:pt x="649" y="328"/>
                  </a:lnTo>
                  <a:lnTo>
                    <a:pt x="657" y="317"/>
                  </a:lnTo>
                  <a:lnTo>
                    <a:pt x="666" y="317"/>
                  </a:lnTo>
                  <a:lnTo>
                    <a:pt x="675" y="317"/>
                  </a:lnTo>
                  <a:lnTo>
                    <a:pt x="685" y="317"/>
                  </a:lnTo>
                  <a:lnTo>
                    <a:pt x="689" y="307"/>
                  </a:lnTo>
                  <a:lnTo>
                    <a:pt x="693" y="295"/>
                  </a:lnTo>
                  <a:lnTo>
                    <a:pt x="702" y="290"/>
                  </a:lnTo>
                  <a:lnTo>
                    <a:pt x="710" y="290"/>
                  </a:lnTo>
                  <a:lnTo>
                    <a:pt x="720" y="284"/>
                  </a:lnTo>
                  <a:lnTo>
                    <a:pt x="728" y="284"/>
                  </a:lnTo>
                  <a:lnTo>
                    <a:pt x="737" y="284"/>
                  </a:lnTo>
                  <a:lnTo>
                    <a:pt x="746" y="290"/>
                  </a:lnTo>
                  <a:lnTo>
                    <a:pt x="751" y="278"/>
                  </a:lnTo>
                  <a:lnTo>
                    <a:pt x="760" y="274"/>
                  </a:lnTo>
                  <a:lnTo>
                    <a:pt x="768" y="264"/>
                  </a:lnTo>
                  <a:lnTo>
                    <a:pt x="778" y="264"/>
                  </a:lnTo>
                  <a:lnTo>
                    <a:pt x="787" y="257"/>
                  </a:lnTo>
                  <a:lnTo>
                    <a:pt x="796" y="264"/>
                  </a:lnTo>
                  <a:lnTo>
                    <a:pt x="805" y="264"/>
                  </a:lnTo>
                  <a:lnTo>
                    <a:pt x="814" y="257"/>
                  </a:lnTo>
                  <a:lnTo>
                    <a:pt x="822" y="252"/>
                  </a:lnTo>
                  <a:lnTo>
                    <a:pt x="822" y="241"/>
                  </a:lnTo>
                  <a:lnTo>
                    <a:pt x="827" y="230"/>
                  </a:lnTo>
                  <a:lnTo>
                    <a:pt x="831" y="219"/>
                  </a:lnTo>
                  <a:lnTo>
                    <a:pt x="840" y="209"/>
                  </a:lnTo>
                  <a:lnTo>
                    <a:pt x="849" y="204"/>
                  </a:lnTo>
                  <a:lnTo>
                    <a:pt x="860" y="204"/>
                  </a:lnTo>
                  <a:lnTo>
                    <a:pt x="877" y="209"/>
                  </a:lnTo>
                  <a:lnTo>
                    <a:pt x="885" y="204"/>
                  </a:lnTo>
                  <a:lnTo>
                    <a:pt x="895" y="204"/>
                  </a:lnTo>
                  <a:lnTo>
                    <a:pt x="903" y="198"/>
                  </a:lnTo>
                  <a:lnTo>
                    <a:pt x="908" y="187"/>
                  </a:lnTo>
                  <a:lnTo>
                    <a:pt x="916" y="182"/>
                  </a:lnTo>
                  <a:lnTo>
                    <a:pt x="925" y="176"/>
                  </a:lnTo>
                  <a:lnTo>
                    <a:pt x="934" y="172"/>
                  </a:lnTo>
                  <a:lnTo>
                    <a:pt x="942" y="172"/>
                  </a:lnTo>
                  <a:lnTo>
                    <a:pt x="954" y="165"/>
                  </a:lnTo>
                  <a:lnTo>
                    <a:pt x="962" y="155"/>
                  </a:lnTo>
                  <a:lnTo>
                    <a:pt x="971" y="149"/>
                  </a:lnTo>
                  <a:lnTo>
                    <a:pt x="979" y="145"/>
                  </a:lnTo>
                  <a:lnTo>
                    <a:pt x="984" y="134"/>
                  </a:lnTo>
                  <a:lnTo>
                    <a:pt x="992" y="122"/>
                  </a:lnTo>
                  <a:lnTo>
                    <a:pt x="997" y="112"/>
                  </a:lnTo>
                  <a:lnTo>
                    <a:pt x="1006" y="102"/>
                  </a:lnTo>
                  <a:lnTo>
                    <a:pt x="1015" y="96"/>
                  </a:lnTo>
                  <a:lnTo>
                    <a:pt x="1015" y="85"/>
                  </a:lnTo>
                  <a:lnTo>
                    <a:pt x="1025" y="80"/>
                  </a:lnTo>
                  <a:lnTo>
                    <a:pt x="1029" y="69"/>
                  </a:lnTo>
                  <a:lnTo>
                    <a:pt x="1036" y="63"/>
                  </a:lnTo>
                  <a:lnTo>
                    <a:pt x="1036" y="53"/>
                  </a:lnTo>
                  <a:lnTo>
                    <a:pt x="1056" y="37"/>
                  </a:lnTo>
                  <a:lnTo>
                    <a:pt x="1056" y="14"/>
                  </a:lnTo>
                  <a:lnTo>
                    <a:pt x="1077" y="4"/>
                  </a:lnTo>
                  <a:lnTo>
                    <a:pt x="1094" y="0"/>
                  </a:lnTo>
                  <a:lnTo>
                    <a:pt x="1104" y="0"/>
                  </a:lnTo>
                  <a:lnTo>
                    <a:pt x="1109" y="10"/>
                  </a:lnTo>
                  <a:lnTo>
                    <a:pt x="1109" y="20"/>
                  </a:lnTo>
                  <a:lnTo>
                    <a:pt x="1109" y="30"/>
                  </a:lnTo>
                  <a:lnTo>
                    <a:pt x="1109" y="43"/>
                  </a:lnTo>
                  <a:lnTo>
                    <a:pt x="1109" y="53"/>
                  </a:lnTo>
                  <a:lnTo>
                    <a:pt x="1104" y="63"/>
                  </a:lnTo>
                  <a:lnTo>
                    <a:pt x="1100" y="74"/>
                  </a:lnTo>
                  <a:lnTo>
                    <a:pt x="1094" y="85"/>
                  </a:lnTo>
                  <a:lnTo>
                    <a:pt x="1086" y="91"/>
                  </a:lnTo>
                  <a:lnTo>
                    <a:pt x="1083" y="102"/>
                  </a:lnTo>
                  <a:lnTo>
                    <a:pt x="1083" y="112"/>
                  </a:lnTo>
                  <a:lnTo>
                    <a:pt x="1083" y="122"/>
                  </a:lnTo>
                  <a:lnTo>
                    <a:pt x="1077" y="134"/>
                  </a:lnTo>
                  <a:lnTo>
                    <a:pt x="1073" y="145"/>
                  </a:lnTo>
                  <a:lnTo>
                    <a:pt x="1073" y="155"/>
                  </a:lnTo>
                  <a:lnTo>
                    <a:pt x="1077" y="165"/>
                  </a:lnTo>
                  <a:lnTo>
                    <a:pt x="1083" y="176"/>
                  </a:lnTo>
                  <a:lnTo>
                    <a:pt x="1100" y="187"/>
                  </a:lnTo>
                  <a:lnTo>
                    <a:pt x="1109" y="187"/>
                  </a:lnTo>
                  <a:lnTo>
                    <a:pt x="1118" y="193"/>
                  </a:lnTo>
                  <a:lnTo>
                    <a:pt x="1127" y="193"/>
                  </a:lnTo>
                  <a:lnTo>
                    <a:pt x="1135" y="193"/>
                  </a:lnTo>
                  <a:lnTo>
                    <a:pt x="1145" y="198"/>
                  </a:lnTo>
                  <a:lnTo>
                    <a:pt x="1149" y="209"/>
                  </a:lnTo>
                  <a:lnTo>
                    <a:pt x="1149" y="219"/>
                  </a:lnTo>
                  <a:lnTo>
                    <a:pt x="1141" y="224"/>
                  </a:lnTo>
                  <a:lnTo>
                    <a:pt x="1130" y="230"/>
                  </a:lnTo>
                  <a:lnTo>
                    <a:pt x="1124" y="230"/>
                  </a:lnTo>
                  <a:lnTo>
                    <a:pt x="1113" y="236"/>
                  </a:lnTo>
                  <a:lnTo>
                    <a:pt x="1104" y="230"/>
                  </a:lnTo>
                  <a:lnTo>
                    <a:pt x="1094" y="236"/>
                  </a:lnTo>
                  <a:lnTo>
                    <a:pt x="1086" y="241"/>
                  </a:lnTo>
                  <a:lnTo>
                    <a:pt x="1077" y="247"/>
                  </a:lnTo>
                  <a:lnTo>
                    <a:pt x="1077" y="257"/>
                  </a:lnTo>
                  <a:lnTo>
                    <a:pt x="1077" y="268"/>
                  </a:lnTo>
                  <a:lnTo>
                    <a:pt x="1086" y="264"/>
                  </a:lnTo>
                  <a:lnTo>
                    <a:pt x="1094" y="264"/>
                  </a:lnTo>
                  <a:lnTo>
                    <a:pt x="1100" y="274"/>
                  </a:lnTo>
                  <a:lnTo>
                    <a:pt x="1094" y="284"/>
                  </a:lnTo>
                  <a:lnTo>
                    <a:pt x="1094" y="295"/>
                  </a:lnTo>
                  <a:lnTo>
                    <a:pt x="1091" y="307"/>
                  </a:lnTo>
                  <a:lnTo>
                    <a:pt x="1083" y="311"/>
                  </a:lnTo>
                  <a:lnTo>
                    <a:pt x="1073" y="317"/>
                  </a:lnTo>
                  <a:lnTo>
                    <a:pt x="1066" y="321"/>
                  </a:lnTo>
                  <a:lnTo>
                    <a:pt x="1056" y="328"/>
                  </a:lnTo>
                  <a:lnTo>
                    <a:pt x="1047" y="333"/>
                  </a:lnTo>
                  <a:lnTo>
                    <a:pt x="1036" y="333"/>
                  </a:lnTo>
                  <a:lnTo>
                    <a:pt x="1029" y="338"/>
                  </a:lnTo>
                  <a:lnTo>
                    <a:pt x="1019" y="344"/>
                  </a:lnTo>
                  <a:lnTo>
                    <a:pt x="1012" y="349"/>
                  </a:lnTo>
                  <a:lnTo>
                    <a:pt x="1001" y="354"/>
                  </a:lnTo>
                  <a:lnTo>
                    <a:pt x="992" y="364"/>
                  </a:lnTo>
                  <a:lnTo>
                    <a:pt x="984" y="371"/>
                  </a:lnTo>
                  <a:lnTo>
                    <a:pt x="974" y="376"/>
                  </a:lnTo>
                  <a:lnTo>
                    <a:pt x="954" y="387"/>
                  </a:lnTo>
                  <a:lnTo>
                    <a:pt x="942" y="392"/>
                  </a:lnTo>
                  <a:lnTo>
                    <a:pt x="934" y="397"/>
                  </a:lnTo>
                  <a:lnTo>
                    <a:pt x="913" y="397"/>
                  </a:lnTo>
                  <a:lnTo>
                    <a:pt x="903" y="397"/>
                  </a:lnTo>
                  <a:lnTo>
                    <a:pt x="895" y="397"/>
                  </a:lnTo>
                  <a:lnTo>
                    <a:pt x="872" y="397"/>
                  </a:lnTo>
                  <a:lnTo>
                    <a:pt x="854" y="419"/>
                  </a:lnTo>
                  <a:lnTo>
                    <a:pt x="837" y="419"/>
                  </a:lnTo>
                  <a:lnTo>
                    <a:pt x="827" y="413"/>
                  </a:lnTo>
                  <a:lnTo>
                    <a:pt x="809" y="413"/>
                  </a:lnTo>
                  <a:lnTo>
                    <a:pt x="791" y="413"/>
                  </a:lnTo>
                  <a:lnTo>
                    <a:pt x="774" y="413"/>
                  </a:lnTo>
                  <a:lnTo>
                    <a:pt x="757" y="436"/>
                  </a:lnTo>
                  <a:lnTo>
                    <a:pt x="737" y="436"/>
                  </a:lnTo>
                  <a:lnTo>
                    <a:pt x="733" y="446"/>
                  </a:lnTo>
                  <a:lnTo>
                    <a:pt x="737" y="456"/>
                  </a:lnTo>
                  <a:lnTo>
                    <a:pt x="733" y="467"/>
                  </a:lnTo>
                  <a:lnTo>
                    <a:pt x="728" y="479"/>
                  </a:lnTo>
                  <a:lnTo>
                    <a:pt x="720" y="483"/>
                  </a:lnTo>
                  <a:lnTo>
                    <a:pt x="710" y="483"/>
                  </a:lnTo>
                  <a:lnTo>
                    <a:pt x="702" y="483"/>
                  </a:lnTo>
                  <a:lnTo>
                    <a:pt x="693" y="483"/>
                  </a:lnTo>
                  <a:lnTo>
                    <a:pt x="685" y="489"/>
                  </a:lnTo>
                  <a:lnTo>
                    <a:pt x="675" y="494"/>
                  </a:lnTo>
                  <a:lnTo>
                    <a:pt x="666" y="499"/>
                  </a:lnTo>
                  <a:lnTo>
                    <a:pt x="657" y="505"/>
                  </a:lnTo>
                  <a:lnTo>
                    <a:pt x="649" y="499"/>
                  </a:lnTo>
                  <a:lnTo>
                    <a:pt x="626" y="511"/>
                  </a:lnTo>
                  <a:lnTo>
                    <a:pt x="604" y="522"/>
                  </a:lnTo>
                  <a:lnTo>
                    <a:pt x="595" y="522"/>
                  </a:lnTo>
                  <a:lnTo>
                    <a:pt x="572" y="522"/>
                  </a:lnTo>
                  <a:lnTo>
                    <a:pt x="554" y="522"/>
                  </a:lnTo>
                  <a:lnTo>
                    <a:pt x="545" y="522"/>
                  </a:lnTo>
                  <a:lnTo>
                    <a:pt x="537" y="522"/>
                  </a:lnTo>
                  <a:lnTo>
                    <a:pt x="528" y="522"/>
                  </a:lnTo>
                  <a:lnTo>
                    <a:pt x="518" y="526"/>
                  </a:lnTo>
                  <a:lnTo>
                    <a:pt x="510" y="532"/>
                  </a:lnTo>
                  <a:lnTo>
                    <a:pt x="499" y="543"/>
                  </a:lnTo>
                  <a:lnTo>
                    <a:pt x="491" y="548"/>
                  </a:lnTo>
                  <a:lnTo>
                    <a:pt x="482" y="555"/>
                  </a:lnTo>
                  <a:lnTo>
                    <a:pt x="474" y="559"/>
                  </a:lnTo>
                  <a:lnTo>
                    <a:pt x="464" y="565"/>
                  </a:lnTo>
                  <a:lnTo>
                    <a:pt x="446" y="575"/>
                  </a:lnTo>
                  <a:lnTo>
                    <a:pt x="428" y="575"/>
                  </a:lnTo>
                  <a:lnTo>
                    <a:pt x="411" y="597"/>
                  </a:lnTo>
                  <a:lnTo>
                    <a:pt x="393" y="608"/>
                  </a:lnTo>
                  <a:lnTo>
                    <a:pt x="375" y="608"/>
                  </a:lnTo>
                  <a:lnTo>
                    <a:pt x="375" y="628"/>
                  </a:lnTo>
                  <a:lnTo>
                    <a:pt x="367" y="628"/>
                  </a:lnTo>
                  <a:lnTo>
                    <a:pt x="357" y="628"/>
                  </a:lnTo>
                  <a:lnTo>
                    <a:pt x="348" y="624"/>
                  </a:lnTo>
                  <a:lnTo>
                    <a:pt x="340" y="624"/>
                  </a:lnTo>
                  <a:lnTo>
                    <a:pt x="331" y="624"/>
                  </a:lnTo>
                  <a:lnTo>
                    <a:pt x="308" y="635"/>
                  </a:lnTo>
                  <a:lnTo>
                    <a:pt x="290" y="635"/>
                  </a:lnTo>
                  <a:lnTo>
                    <a:pt x="273" y="635"/>
                  </a:lnTo>
                  <a:lnTo>
                    <a:pt x="264" y="640"/>
                  </a:lnTo>
                  <a:lnTo>
                    <a:pt x="254" y="640"/>
                  </a:lnTo>
                  <a:lnTo>
                    <a:pt x="246" y="640"/>
                  </a:lnTo>
                  <a:lnTo>
                    <a:pt x="235" y="635"/>
                  </a:lnTo>
                  <a:lnTo>
                    <a:pt x="214" y="635"/>
                  </a:lnTo>
                  <a:lnTo>
                    <a:pt x="196" y="635"/>
                  </a:lnTo>
                  <a:lnTo>
                    <a:pt x="188" y="635"/>
                  </a:lnTo>
                  <a:lnTo>
                    <a:pt x="179" y="640"/>
                  </a:lnTo>
                  <a:lnTo>
                    <a:pt x="170" y="645"/>
                  </a:lnTo>
                  <a:lnTo>
                    <a:pt x="165" y="657"/>
                  </a:lnTo>
                  <a:lnTo>
                    <a:pt x="147" y="667"/>
                  </a:lnTo>
                  <a:lnTo>
                    <a:pt x="129" y="667"/>
                  </a:lnTo>
                  <a:lnTo>
                    <a:pt x="111" y="678"/>
                  </a:lnTo>
                  <a:lnTo>
                    <a:pt x="94" y="678"/>
                  </a:lnTo>
                  <a:lnTo>
                    <a:pt x="77" y="688"/>
                  </a:lnTo>
                  <a:lnTo>
                    <a:pt x="58" y="688"/>
                  </a:lnTo>
                  <a:lnTo>
                    <a:pt x="48" y="694"/>
                  </a:lnTo>
                  <a:lnTo>
                    <a:pt x="44" y="683"/>
                  </a:lnTo>
                  <a:lnTo>
                    <a:pt x="0" y="699"/>
                  </a:lnTo>
                  <a:lnTo>
                    <a:pt x="0" y="583"/>
                  </a:lnTo>
                  <a:lnTo>
                    <a:pt x="113" y="530"/>
                  </a:lnTo>
                  <a:lnTo>
                    <a:pt x="3" y="582"/>
                  </a:lnTo>
                  <a:lnTo>
                    <a:pt x="43" y="559"/>
                  </a:lnTo>
                  <a:lnTo>
                    <a:pt x="159" y="505"/>
                  </a:lnTo>
                  <a:lnTo>
                    <a:pt x="53" y="537"/>
                  </a:lnTo>
                  <a:close/>
                </a:path>
              </a:pathLst>
            </a:cu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480360" y="3569040"/>
              <a:ext cx="647640" cy="453600"/>
            </a:xfrm>
            <a:custGeom>
              <a:avLst/>
              <a:gdLst/>
              <a:ahLst/>
              <a:rect l="l" t="t" r="r" b="b"/>
              <a:pathLst>
                <a:path w="1149" h="699">
                  <a:moveTo>
                    <a:pt x="53" y="537"/>
                  </a:moveTo>
                  <a:lnTo>
                    <a:pt x="62" y="532"/>
                  </a:lnTo>
                  <a:lnTo>
                    <a:pt x="71" y="532"/>
                  </a:lnTo>
                  <a:lnTo>
                    <a:pt x="79" y="526"/>
                  </a:lnTo>
                  <a:lnTo>
                    <a:pt x="88" y="526"/>
                  </a:lnTo>
                  <a:lnTo>
                    <a:pt x="98" y="526"/>
                  </a:lnTo>
                  <a:lnTo>
                    <a:pt x="107" y="526"/>
                  </a:lnTo>
                  <a:lnTo>
                    <a:pt x="111" y="516"/>
                  </a:lnTo>
                  <a:lnTo>
                    <a:pt x="120" y="511"/>
                  </a:lnTo>
                  <a:lnTo>
                    <a:pt x="129" y="499"/>
                  </a:lnTo>
                  <a:lnTo>
                    <a:pt x="138" y="499"/>
                  </a:lnTo>
                  <a:lnTo>
                    <a:pt x="147" y="505"/>
                  </a:lnTo>
                  <a:lnTo>
                    <a:pt x="156" y="505"/>
                  </a:lnTo>
                  <a:lnTo>
                    <a:pt x="174" y="516"/>
                  </a:lnTo>
                  <a:lnTo>
                    <a:pt x="182" y="516"/>
                  </a:lnTo>
                  <a:lnTo>
                    <a:pt x="191" y="505"/>
                  </a:lnTo>
                  <a:lnTo>
                    <a:pt x="201" y="505"/>
                  </a:lnTo>
                  <a:lnTo>
                    <a:pt x="210" y="499"/>
                  </a:lnTo>
                  <a:lnTo>
                    <a:pt x="218" y="494"/>
                  </a:lnTo>
                  <a:lnTo>
                    <a:pt x="241" y="494"/>
                  </a:lnTo>
                  <a:lnTo>
                    <a:pt x="250" y="489"/>
                  </a:lnTo>
                  <a:lnTo>
                    <a:pt x="259" y="483"/>
                  </a:lnTo>
                  <a:lnTo>
                    <a:pt x="268" y="479"/>
                  </a:lnTo>
                  <a:lnTo>
                    <a:pt x="276" y="479"/>
                  </a:lnTo>
                  <a:lnTo>
                    <a:pt x="286" y="473"/>
                  </a:lnTo>
                  <a:lnTo>
                    <a:pt x="293" y="467"/>
                  </a:lnTo>
                  <a:lnTo>
                    <a:pt x="303" y="463"/>
                  </a:lnTo>
                  <a:lnTo>
                    <a:pt x="312" y="456"/>
                  </a:lnTo>
                  <a:lnTo>
                    <a:pt x="323" y="456"/>
                  </a:lnTo>
                  <a:lnTo>
                    <a:pt x="326" y="467"/>
                  </a:lnTo>
                  <a:lnTo>
                    <a:pt x="334" y="467"/>
                  </a:lnTo>
                  <a:lnTo>
                    <a:pt x="344" y="463"/>
                  </a:lnTo>
                  <a:lnTo>
                    <a:pt x="353" y="456"/>
                  </a:lnTo>
                  <a:lnTo>
                    <a:pt x="362" y="463"/>
                  </a:lnTo>
                  <a:lnTo>
                    <a:pt x="370" y="463"/>
                  </a:lnTo>
                  <a:lnTo>
                    <a:pt x="370" y="452"/>
                  </a:lnTo>
                  <a:lnTo>
                    <a:pt x="380" y="446"/>
                  </a:lnTo>
                  <a:lnTo>
                    <a:pt x="388" y="446"/>
                  </a:lnTo>
                  <a:lnTo>
                    <a:pt x="397" y="440"/>
                  </a:lnTo>
                  <a:lnTo>
                    <a:pt x="405" y="446"/>
                  </a:lnTo>
                  <a:lnTo>
                    <a:pt x="411" y="436"/>
                  </a:lnTo>
                  <a:lnTo>
                    <a:pt x="416" y="424"/>
                  </a:lnTo>
                  <a:lnTo>
                    <a:pt x="425" y="419"/>
                  </a:lnTo>
                  <a:lnTo>
                    <a:pt x="434" y="419"/>
                  </a:lnTo>
                  <a:lnTo>
                    <a:pt x="443" y="419"/>
                  </a:lnTo>
                  <a:lnTo>
                    <a:pt x="451" y="424"/>
                  </a:lnTo>
                  <a:lnTo>
                    <a:pt x="460" y="419"/>
                  </a:lnTo>
                  <a:lnTo>
                    <a:pt x="464" y="409"/>
                  </a:lnTo>
                  <a:lnTo>
                    <a:pt x="474" y="402"/>
                  </a:lnTo>
                  <a:lnTo>
                    <a:pt x="482" y="402"/>
                  </a:lnTo>
                  <a:lnTo>
                    <a:pt x="491" y="402"/>
                  </a:lnTo>
                  <a:lnTo>
                    <a:pt x="499" y="402"/>
                  </a:lnTo>
                  <a:lnTo>
                    <a:pt x="510" y="392"/>
                  </a:lnTo>
                  <a:lnTo>
                    <a:pt x="518" y="381"/>
                  </a:lnTo>
                  <a:lnTo>
                    <a:pt x="528" y="381"/>
                  </a:lnTo>
                  <a:lnTo>
                    <a:pt x="537" y="381"/>
                  </a:lnTo>
                  <a:lnTo>
                    <a:pt x="545" y="381"/>
                  </a:lnTo>
                  <a:lnTo>
                    <a:pt x="550" y="371"/>
                  </a:lnTo>
                  <a:lnTo>
                    <a:pt x="554" y="359"/>
                  </a:lnTo>
                  <a:lnTo>
                    <a:pt x="563" y="359"/>
                  </a:lnTo>
                  <a:lnTo>
                    <a:pt x="569" y="349"/>
                  </a:lnTo>
                  <a:lnTo>
                    <a:pt x="576" y="349"/>
                  </a:lnTo>
                  <a:lnTo>
                    <a:pt x="585" y="349"/>
                  </a:lnTo>
                  <a:lnTo>
                    <a:pt x="595" y="344"/>
                  </a:lnTo>
                  <a:lnTo>
                    <a:pt x="604" y="338"/>
                  </a:lnTo>
                  <a:lnTo>
                    <a:pt x="612" y="333"/>
                  </a:lnTo>
                  <a:lnTo>
                    <a:pt x="622" y="333"/>
                  </a:lnTo>
                  <a:lnTo>
                    <a:pt x="631" y="328"/>
                  </a:lnTo>
                  <a:lnTo>
                    <a:pt x="639" y="328"/>
                  </a:lnTo>
                  <a:lnTo>
                    <a:pt x="649" y="328"/>
                  </a:lnTo>
                  <a:lnTo>
                    <a:pt x="657" y="317"/>
                  </a:lnTo>
                  <a:lnTo>
                    <a:pt x="666" y="317"/>
                  </a:lnTo>
                  <a:lnTo>
                    <a:pt x="675" y="317"/>
                  </a:lnTo>
                  <a:lnTo>
                    <a:pt x="685" y="317"/>
                  </a:lnTo>
                  <a:lnTo>
                    <a:pt x="689" y="307"/>
                  </a:lnTo>
                  <a:lnTo>
                    <a:pt x="693" y="295"/>
                  </a:lnTo>
                  <a:lnTo>
                    <a:pt x="702" y="290"/>
                  </a:lnTo>
                  <a:lnTo>
                    <a:pt x="710" y="290"/>
                  </a:lnTo>
                  <a:lnTo>
                    <a:pt x="720" y="284"/>
                  </a:lnTo>
                  <a:lnTo>
                    <a:pt x="728" y="284"/>
                  </a:lnTo>
                  <a:lnTo>
                    <a:pt x="737" y="284"/>
                  </a:lnTo>
                  <a:lnTo>
                    <a:pt x="746" y="290"/>
                  </a:lnTo>
                  <a:lnTo>
                    <a:pt x="751" y="278"/>
                  </a:lnTo>
                  <a:lnTo>
                    <a:pt x="760" y="274"/>
                  </a:lnTo>
                  <a:lnTo>
                    <a:pt x="768" y="264"/>
                  </a:lnTo>
                  <a:lnTo>
                    <a:pt x="778" y="264"/>
                  </a:lnTo>
                  <a:lnTo>
                    <a:pt x="787" y="257"/>
                  </a:lnTo>
                  <a:lnTo>
                    <a:pt x="796" y="264"/>
                  </a:lnTo>
                  <a:lnTo>
                    <a:pt x="805" y="264"/>
                  </a:lnTo>
                  <a:lnTo>
                    <a:pt x="814" y="257"/>
                  </a:lnTo>
                  <a:lnTo>
                    <a:pt x="822" y="252"/>
                  </a:lnTo>
                  <a:lnTo>
                    <a:pt x="822" y="241"/>
                  </a:lnTo>
                  <a:lnTo>
                    <a:pt x="827" y="230"/>
                  </a:lnTo>
                  <a:lnTo>
                    <a:pt x="831" y="219"/>
                  </a:lnTo>
                  <a:lnTo>
                    <a:pt x="840" y="209"/>
                  </a:lnTo>
                  <a:lnTo>
                    <a:pt x="849" y="204"/>
                  </a:lnTo>
                  <a:lnTo>
                    <a:pt x="860" y="204"/>
                  </a:lnTo>
                  <a:lnTo>
                    <a:pt x="877" y="209"/>
                  </a:lnTo>
                  <a:lnTo>
                    <a:pt x="885" y="204"/>
                  </a:lnTo>
                  <a:lnTo>
                    <a:pt x="895" y="204"/>
                  </a:lnTo>
                  <a:lnTo>
                    <a:pt x="903" y="198"/>
                  </a:lnTo>
                  <a:lnTo>
                    <a:pt x="908" y="187"/>
                  </a:lnTo>
                  <a:lnTo>
                    <a:pt x="916" y="182"/>
                  </a:lnTo>
                  <a:lnTo>
                    <a:pt x="925" y="176"/>
                  </a:lnTo>
                  <a:lnTo>
                    <a:pt x="934" y="172"/>
                  </a:lnTo>
                  <a:lnTo>
                    <a:pt x="942" y="172"/>
                  </a:lnTo>
                  <a:lnTo>
                    <a:pt x="954" y="165"/>
                  </a:lnTo>
                  <a:lnTo>
                    <a:pt x="962" y="155"/>
                  </a:lnTo>
                  <a:lnTo>
                    <a:pt x="971" y="149"/>
                  </a:lnTo>
                  <a:lnTo>
                    <a:pt x="979" y="145"/>
                  </a:lnTo>
                  <a:lnTo>
                    <a:pt x="984" y="134"/>
                  </a:lnTo>
                  <a:lnTo>
                    <a:pt x="992" y="122"/>
                  </a:lnTo>
                  <a:lnTo>
                    <a:pt x="997" y="112"/>
                  </a:lnTo>
                  <a:lnTo>
                    <a:pt x="1006" y="102"/>
                  </a:lnTo>
                  <a:lnTo>
                    <a:pt x="1015" y="96"/>
                  </a:lnTo>
                  <a:lnTo>
                    <a:pt x="1015" y="85"/>
                  </a:lnTo>
                  <a:lnTo>
                    <a:pt x="1025" y="80"/>
                  </a:lnTo>
                  <a:lnTo>
                    <a:pt x="1029" y="69"/>
                  </a:lnTo>
                  <a:lnTo>
                    <a:pt x="1036" y="63"/>
                  </a:lnTo>
                  <a:lnTo>
                    <a:pt x="1036" y="53"/>
                  </a:lnTo>
                  <a:lnTo>
                    <a:pt x="1056" y="37"/>
                  </a:lnTo>
                  <a:lnTo>
                    <a:pt x="1056" y="14"/>
                  </a:lnTo>
                  <a:lnTo>
                    <a:pt x="1077" y="4"/>
                  </a:lnTo>
                  <a:lnTo>
                    <a:pt x="1094" y="0"/>
                  </a:lnTo>
                  <a:lnTo>
                    <a:pt x="1104" y="0"/>
                  </a:lnTo>
                  <a:lnTo>
                    <a:pt x="1109" y="10"/>
                  </a:lnTo>
                  <a:lnTo>
                    <a:pt x="1109" y="20"/>
                  </a:lnTo>
                  <a:lnTo>
                    <a:pt x="1109" y="30"/>
                  </a:lnTo>
                  <a:lnTo>
                    <a:pt x="1109" y="43"/>
                  </a:lnTo>
                  <a:lnTo>
                    <a:pt x="1109" y="53"/>
                  </a:lnTo>
                  <a:lnTo>
                    <a:pt x="1104" y="63"/>
                  </a:lnTo>
                  <a:lnTo>
                    <a:pt x="1100" y="74"/>
                  </a:lnTo>
                  <a:lnTo>
                    <a:pt x="1094" y="85"/>
                  </a:lnTo>
                  <a:lnTo>
                    <a:pt x="1086" y="91"/>
                  </a:lnTo>
                  <a:lnTo>
                    <a:pt x="1083" y="102"/>
                  </a:lnTo>
                  <a:lnTo>
                    <a:pt x="1083" y="112"/>
                  </a:lnTo>
                  <a:lnTo>
                    <a:pt x="1083" y="122"/>
                  </a:lnTo>
                  <a:lnTo>
                    <a:pt x="1077" y="134"/>
                  </a:lnTo>
                  <a:lnTo>
                    <a:pt x="1073" y="145"/>
                  </a:lnTo>
                  <a:lnTo>
                    <a:pt x="1073" y="155"/>
                  </a:lnTo>
                  <a:lnTo>
                    <a:pt x="1077" y="165"/>
                  </a:lnTo>
                  <a:lnTo>
                    <a:pt x="1083" y="176"/>
                  </a:lnTo>
                  <a:lnTo>
                    <a:pt x="1100" y="187"/>
                  </a:lnTo>
                  <a:lnTo>
                    <a:pt x="1109" y="187"/>
                  </a:lnTo>
                  <a:lnTo>
                    <a:pt x="1118" y="193"/>
                  </a:lnTo>
                  <a:lnTo>
                    <a:pt x="1127" y="193"/>
                  </a:lnTo>
                  <a:lnTo>
                    <a:pt x="1135" y="193"/>
                  </a:lnTo>
                  <a:lnTo>
                    <a:pt x="1145" y="198"/>
                  </a:lnTo>
                  <a:lnTo>
                    <a:pt x="1149" y="209"/>
                  </a:lnTo>
                  <a:lnTo>
                    <a:pt x="1149" y="219"/>
                  </a:lnTo>
                  <a:lnTo>
                    <a:pt x="1141" y="224"/>
                  </a:lnTo>
                  <a:lnTo>
                    <a:pt x="1130" y="230"/>
                  </a:lnTo>
                  <a:lnTo>
                    <a:pt x="1124" y="230"/>
                  </a:lnTo>
                  <a:lnTo>
                    <a:pt x="1113" y="236"/>
                  </a:lnTo>
                  <a:lnTo>
                    <a:pt x="1104" y="230"/>
                  </a:lnTo>
                  <a:lnTo>
                    <a:pt x="1094" y="236"/>
                  </a:lnTo>
                  <a:lnTo>
                    <a:pt x="1086" y="241"/>
                  </a:lnTo>
                  <a:lnTo>
                    <a:pt x="1077" y="247"/>
                  </a:lnTo>
                  <a:lnTo>
                    <a:pt x="1077" y="257"/>
                  </a:lnTo>
                  <a:lnTo>
                    <a:pt x="1077" y="268"/>
                  </a:lnTo>
                  <a:lnTo>
                    <a:pt x="1086" y="264"/>
                  </a:lnTo>
                  <a:lnTo>
                    <a:pt x="1094" y="264"/>
                  </a:lnTo>
                  <a:lnTo>
                    <a:pt x="1100" y="274"/>
                  </a:lnTo>
                  <a:lnTo>
                    <a:pt x="1094" y="284"/>
                  </a:lnTo>
                  <a:lnTo>
                    <a:pt x="1094" y="295"/>
                  </a:lnTo>
                  <a:lnTo>
                    <a:pt x="1091" y="307"/>
                  </a:lnTo>
                  <a:lnTo>
                    <a:pt x="1083" y="311"/>
                  </a:lnTo>
                  <a:lnTo>
                    <a:pt x="1073" y="317"/>
                  </a:lnTo>
                  <a:lnTo>
                    <a:pt x="1066" y="321"/>
                  </a:lnTo>
                  <a:lnTo>
                    <a:pt x="1056" y="328"/>
                  </a:lnTo>
                  <a:lnTo>
                    <a:pt x="1047" y="333"/>
                  </a:lnTo>
                  <a:lnTo>
                    <a:pt x="1036" y="333"/>
                  </a:lnTo>
                  <a:lnTo>
                    <a:pt x="1029" y="338"/>
                  </a:lnTo>
                  <a:lnTo>
                    <a:pt x="1019" y="344"/>
                  </a:lnTo>
                  <a:lnTo>
                    <a:pt x="1012" y="349"/>
                  </a:lnTo>
                  <a:lnTo>
                    <a:pt x="1001" y="354"/>
                  </a:lnTo>
                  <a:lnTo>
                    <a:pt x="992" y="364"/>
                  </a:lnTo>
                  <a:lnTo>
                    <a:pt x="984" y="371"/>
                  </a:lnTo>
                  <a:lnTo>
                    <a:pt x="974" y="376"/>
                  </a:lnTo>
                  <a:lnTo>
                    <a:pt x="954" y="387"/>
                  </a:lnTo>
                  <a:lnTo>
                    <a:pt x="942" y="392"/>
                  </a:lnTo>
                  <a:lnTo>
                    <a:pt x="934" y="397"/>
                  </a:lnTo>
                  <a:lnTo>
                    <a:pt x="913" y="397"/>
                  </a:lnTo>
                  <a:lnTo>
                    <a:pt x="903" y="397"/>
                  </a:lnTo>
                  <a:lnTo>
                    <a:pt x="895" y="397"/>
                  </a:lnTo>
                  <a:lnTo>
                    <a:pt x="872" y="397"/>
                  </a:lnTo>
                  <a:lnTo>
                    <a:pt x="854" y="419"/>
                  </a:lnTo>
                  <a:lnTo>
                    <a:pt x="837" y="419"/>
                  </a:lnTo>
                  <a:lnTo>
                    <a:pt x="827" y="413"/>
                  </a:lnTo>
                  <a:lnTo>
                    <a:pt x="809" y="413"/>
                  </a:lnTo>
                  <a:lnTo>
                    <a:pt x="791" y="413"/>
                  </a:lnTo>
                  <a:lnTo>
                    <a:pt x="774" y="413"/>
                  </a:lnTo>
                  <a:lnTo>
                    <a:pt x="757" y="436"/>
                  </a:lnTo>
                  <a:lnTo>
                    <a:pt x="737" y="436"/>
                  </a:lnTo>
                  <a:lnTo>
                    <a:pt x="733" y="446"/>
                  </a:lnTo>
                  <a:lnTo>
                    <a:pt x="737" y="456"/>
                  </a:lnTo>
                  <a:lnTo>
                    <a:pt x="733" y="467"/>
                  </a:lnTo>
                  <a:lnTo>
                    <a:pt x="728" y="479"/>
                  </a:lnTo>
                  <a:lnTo>
                    <a:pt x="720" y="483"/>
                  </a:lnTo>
                  <a:lnTo>
                    <a:pt x="710" y="483"/>
                  </a:lnTo>
                  <a:lnTo>
                    <a:pt x="702" y="483"/>
                  </a:lnTo>
                  <a:lnTo>
                    <a:pt x="693" y="483"/>
                  </a:lnTo>
                  <a:lnTo>
                    <a:pt x="685" y="489"/>
                  </a:lnTo>
                  <a:lnTo>
                    <a:pt x="675" y="494"/>
                  </a:lnTo>
                  <a:lnTo>
                    <a:pt x="666" y="499"/>
                  </a:lnTo>
                  <a:lnTo>
                    <a:pt x="657" y="505"/>
                  </a:lnTo>
                  <a:lnTo>
                    <a:pt x="649" y="499"/>
                  </a:lnTo>
                  <a:lnTo>
                    <a:pt x="626" y="511"/>
                  </a:lnTo>
                  <a:lnTo>
                    <a:pt x="604" y="522"/>
                  </a:lnTo>
                  <a:lnTo>
                    <a:pt x="595" y="522"/>
                  </a:lnTo>
                  <a:lnTo>
                    <a:pt x="572" y="522"/>
                  </a:lnTo>
                  <a:lnTo>
                    <a:pt x="554" y="522"/>
                  </a:lnTo>
                  <a:lnTo>
                    <a:pt x="545" y="522"/>
                  </a:lnTo>
                  <a:lnTo>
                    <a:pt x="537" y="522"/>
                  </a:lnTo>
                  <a:lnTo>
                    <a:pt x="528" y="522"/>
                  </a:lnTo>
                  <a:lnTo>
                    <a:pt x="518" y="526"/>
                  </a:lnTo>
                  <a:lnTo>
                    <a:pt x="510" y="532"/>
                  </a:lnTo>
                  <a:lnTo>
                    <a:pt x="499" y="543"/>
                  </a:lnTo>
                  <a:lnTo>
                    <a:pt x="491" y="548"/>
                  </a:lnTo>
                  <a:lnTo>
                    <a:pt x="482" y="555"/>
                  </a:lnTo>
                  <a:lnTo>
                    <a:pt x="474" y="559"/>
                  </a:lnTo>
                  <a:lnTo>
                    <a:pt x="464" y="565"/>
                  </a:lnTo>
                  <a:lnTo>
                    <a:pt x="446" y="575"/>
                  </a:lnTo>
                  <a:lnTo>
                    <a:pt x="428" y="575"/>
                  </a:lnTo>
                  <a:lnTo>
                    <a:pt x="411" y="597"/>
                  </a:lnTo>
                  <a:lnTo>
                    <a:pt x="393" y="608"/>
                  </a:lnTo>
                  <a:lnTo>
                    <a:pt x="375" y="608"/>
                  </a:lnTo>
                  <a:lnTo>
                    <a:pt x="375" y="628"/>
                  </a:lnTo>
                  <a:lnTo>
                    <a:pt x="367" y="628"/>
                  </a:lnTo>
                  <a:lnTo>
                    <a:pt x="357" y="628"/>
                  </a:lnTo>
                  <a:lnTo>
                    <a:pt x="348" y="624"/>
                  </a:lnTo>
                  <a:lnTo>
                    <a:pt x="340" y="624"/>
                  </a:lnTo>
                  <a:lnTo>
                    <a:pt x="331" y="624"/>
                  </a:lnTo>
                  <a:lnTo>
                    <a:pt x="308" y="635"/>
                  </a:lnTo>
                  <a:lnTo>
                    <a:pt x="290" y="635"/>
                  </a:lnTo>
                  <a:lnTo>
                    <a:pt x="273" y="635"/>
                  </a:lnTo>
                  <a:lnTo>
                    <a:pt x="264" y="640"/>
                  </a:lnTo>
                  <a:lnTo>
                    <a:pt x="254" y="640"/>
                  </a:lnTo>
                  <a:lnTo>
                    <a:pt x="246" y="640"/>
                  </a:lnTo>
                  <a:lnTo>
                    <a:pt x="235" y="635"/>
                  </a:lnTo>
                  <a:lnTo>
                    <a:pt x="214" y="635"/>
                  </a:lnTo>
                  <a:lnTo>
                    <a:pt x="196" y="635"/>
                  </a:lnTo>
                  <a:lnTo>
                    <a:pt x="188" y="635"/>
                  </a:lnTo>
                  <a:lnTo>
                    <a:pt x="179" y="640"/>
                  </a:lnTo>
                  <a:lnTo>
                    <a:pt x="170" y="645"/>
                  </a:lnTo>
                  <a:lnTo>
                    <a:pt x="165" y="657"/>
                  </a:lnTo>
                  <a:lnTo>
                    <a:pt x="147" y="667"/>
                  </a:lnTo>
                  <a:lnTo>
                    <a:pt x="129" y="667"/>
                  </a:lnTo>
                  <a:lnTo>
                    <a:pt x="111" y="678"/>
                  </a:lnTo>
                  <a:lnTo>
                    <a:pt x="94" y="678"/>
                  </a:lnTo>
                  <a:lnTo>
                    <a:pt x="77" y="688"/>
                  </a:lnTo>
                  <a:lnTo>
                    <a:pt x="58" y="688"/>
                  </a:lnTo>
                  <a:lnTo>
                    <a:pt x="48" y="694"/>
                  </a:lnTo>
                  <a:lnTo>
                    <a:pt x="44" y="683"/>
                  </a:lnTo>
                  <a:lnTo>
                    <a:pt x="0" y="699"/>
                  </a:lnTo>
                  <a:lnTo>
                    <a:pt x="0" y="583"/>
                  </a:lnTo>
                  <a:lnTo>
                    <a:pt x="113" y="530"/>
                  </a:lnTo>
                  <a:lnTo>
                    <a:pt x="3" y="582"/>
                  </a:lnTo>
                  <a:lnTo>
                    <a:pt x="43" y="559"/>
                  </a:lnTo>
                  <a:lnTo>
                    <a:pt x="159" y="50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603840" y="3906000"/>
              <a:ext cx="9000" cy="71280"/>
            </a:xfrm>
            <a:custGeom>
              <a:avLst/>
              <a:gdLst/>
              <a:ahLst/>
              <a:rect l="l" t="t" r="r" b="b"/>
              <a:pathLst>
                <a:path w="13" h="114">
                  <a:moveTo>
                    <a:pt x="8" y="0"/>
                  </a:moveTo>
                  <a:lnTo>
                    <a:pt x="8" y="16"/>
                  </a:lnTo>
                  <a:lnTo>
                    <a:pt x="0" y="33"/>
                  </a:lnTo>
                  <a:lnTo>
                    <a:pt x="0" y="49"/>
                  </a:lnTo>
                  <a:lnTo>
                    <a:pt x="8" y="65"/>
                  </a:lnTo>
                  <a:lnTo>
                    <a:pt x="8" y="81"/>
                  </a:lnTo>
                  <a:lnTo>
                    <a:pt x="13" y="98"/>
                  </a:lnTo>
                  <a:lnTo>
                    <a:pt x="13" y="114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658200" y="3915720"/>
              <a:ext cx="69120" cy="58680"/>
            </a:xfrm>
            <a:custGeom>
              <a:avLst/>
              <a:gdLst/>
              <a:ahLst/>
              <a:rect l="l" t="t" r="r" b="b"/>
              <a:pathLst>
                <a:path w="129" h="89">
                  <a:moveTo>
                    <a:pt x="0" y="0"/>
                  </a:moveTo>
                  <a:lnTo>
                    <a:pt x="0" y="17"/>
                  </a:lnTo>
                  <a:lnTo>
                    <a:pt x="0" y="33"/>
                  </a:lnTo>
                  <a:lnTo>
                    <a:pt x="8" y="50"/>
                  </a:lnTo>
                  <a:lnTo>
                    <a:pt x="20" y="66"/>
                  </a:lnTo>
                  <a:lnTo>
                    <a:pt x="28" y="81"/>
                  </a:lnTo>
                  <a:lnTo>
                    <a:pt x="40" y="89"/>
                  </a:lnTo>
                  <a:lnTo>
                    <a:pt x="54" y="89"/>
                  </a:lnTo>
                  <a:lnTo>
                    <a:pt x="69" y="89"/>
                  </a:lnTo>
                  <a:lnTo>
                    <a:pt x="129" y="81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914520" y="3763440"/>
              <a:ext cx="101160" cy="58320"/>
            </a:xfrm>
            <a:custGeom>
              <a:avLst/>
              <a:gdLst/>
              <a:ahLst/>
              <a:rect l="l" t="t" r="r" b="b"/>
              <a:pathLst>
                <a:path w="182" h="88">
                  <a:moveTo>
                    <a:pt x="0" y="0"/>
                  </a:moveTo>
                  <a:lnTo>
                    <a:pt x="13" y="0"/>
                  </a:lnTo>
                  <a:lnTo>
                    <a:pt x="28" y="0"/>
                  </a:lnTo>
                  <a:lnTo>
                    <a:pt x="40" y="7"/>
                  </a:lnTo>
                  <a:lnTo>
                    <a:pt x="54" y="7"/>
                  </a:lnTo>
                  <a:lnTo>
                    <a:pt x="67" y="15"/>
                  </a:lnTo>
                  <a:lnTo>
                    <a:pt x="81" y="15"/>
                  </a:lnTo>
                  <a:lnTo>
                    <a:pt x="94" y="24"/>
                  </a:lnTo>
                  <a:lnTo>
                    <a:pt x="108" y="24"/>
                  </a:lnTo>
                  <a:lnTo>
                    <a:pt x="122" y="32"/>
                  </a:lnTo>
                  <a:lnTo>
                    <a:pt x="134" y="40"/>
                  </a:lnTo>
                  <a:lnTo>
                    <a:pt x="142" y="57"/>
                  </a:lnTo>
                  <a:lnTo>
                    <a:pt x="154" y="65"/>
                  </a:lnTo>
                  <a:lnTo>
                    <a:pt x="168" y="72"/>
                  </a:lnTo>
                  <a:lnTo>
                    <a:pt x="182" y="88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85080" y="3691800"/>
              <a:ext cx="110160" cy="29160"/>
            </a:xfrm>
            <a:custGeom>
              <a:avLst/>
              <a:gdLst/>
              <a:ahLst/>
              <a:rect l="l" t="t" r="r" b="b"/>
              <a:pathLst>
                <a:path w="195" h="48">
                  <a:moveTo>
                    <a:pt x="0" y="16"/>
                  </a:moveTo>
                  <a:lnTo>
                    <a:pt x="14" y="16"/>
                  </a:lnTo>
                  <a:lnTo>
                    <a:pt x="27" y="8"/>
                  </a:lnTo>
                  <a:lnTo>
                    <a:pt x="41" y="8"/>
                  </a:lnTo>
                  <a:lnTo>
                    <a:pt x="55" y="8"/>
                  </a:lnTo>
                  <a:lnTo>
                    <a:pt x="68" y="8"/>
                  </a:lnTo>
                  <a:lnTo>
                    <a:pt x="81" y="0"/>
                  </a:lnTo>
                  <a:lnTo>
                    <a:pt x="94" y="16"/>
                  </a:lnTo>
                  <a:lnTo>
                    <a:pt x="108" y="16"/>
                  </a:lnTo>
                  <a:lnTo>
                    <a:pt x="121" y="16"/>
                  </a:lnTo>
                  <a:lnTo>
                    <a:pt x="135" y="16"/>
                  </a:lnTo>
                  <a:lnTo>
                    <a:pt x="149" y="16"/>
                  </a:lnTo>
                  <a:lnTo>
                    <a:pt x="162" y="16"/>
                  </a:lnTo>
                  <a:lnTo>
                    <a:pt x="175" y="25"/>
                  </a:lnTo>
                  <a:lnTo>
                    <a:pt x="188" y="31"/>
                  </a:lnTo>
                  <a:lnTo>
                    <a:pt x="195" y="48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942960" y="3727800"/>
              <a:ext cx="89280" cy="52200"/>
            </a:xfrm>
            <a:custGeom>
              <a:avLst/>
              <a:gdLst/>
              <a:ahLst/>
              <a:rect l="l" t="t" r="r" b="b"/>
              <a:pathLst>
                <a:path w="161" h="81">
                  <a:moveTo>
                    <a:pt x="0" y="0"/>
                  </a:moveTo>
                  <a:lnTo>
                    <a:pt x="12" y="8"/>
                  </a:lnTo>
                  <a:lnTo>
                    <a:pt x="27" y="8"/>
                  </a:lnTo>
                  <a:lnTo>
                    <a:pt x="41" y="16"/>
                  </a:lnTo>
                  <a:lnTo>
                    <a:pt x="53" y="16"/>
                  </a:lnTo>
                  <a:lnTo>
                    <a:pt x="67" y="24"/>
                  </a:lnTo>
                  <a:lnTo>
                    <a:pt x="81" y="32"/>
                  </a:lnTo>
                  <a:lnTo>
                    <a:pt x="94" y="40"/>
                  </a:lnTo>
                  <a:lnTo>
                    <a:pt x="106" y="48"/>
                  </a:lnTo>
                  <a:lnTo>
                    <a:pt x="121" y="57"/>
                  </a:lnTo>
                  <a:lnTo>
                    <a:pt x="135" y="64"/>
                  </a:lnTo>
                  <a:lnTo>
                    <a:pt x="147" y="73"/>
                  </a:lnTo>
                  <a:lnTo>
                    <a:pt x="161" y="81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77120" y="2701080"/>
              <a:ext cx="1218960" cy="1327680"/>
            </a:xfrm>
            <a:custGeom>
              <a:avLst/>
              <a:gdLst/>
              <a:ahLst/>
              <a:rect l="l" t="t" r="r" b="b"/>
              <a:pathLst>
                <a:path w="2160" h="2048">
                  <a:moveTo>
                    <a:pt x="2032" y="121"/>
                  </a:moveTo>
                  <a:lnTo>
                    <a:pt x="2018" y="121"/>
                  </a:lnTo>
                  <a:lnTo>
                    <a:pt x="2006" y="121"/>
                  </a:lnTo>
                  <a:lnTo>
                    <a:pt x="1985" y="121"/>
                  </a:lnTo>
                  <a:lnTo>
                    <a:pt x="1951" y="121"/>
                  </a:lnTo>
                  <a:lnTo>
                    <a:pt x="1938" y="121"/>
                  </a:lnTo>
                  <a:lnTo>
                    <a:pt x="1924" y="121"/>
                  </a:lnTo>
                  <a:lnTo>
                    <a:pt x="1905" y="121"/>
                  </a:lnTo>
                  <a:lnTo>
                    <a:pt x="1891" y="121"/>
                  </a:lnTo>
                  <a:lnTo>
                    <a:pt x="1872" y="121"/>
                  </a:lnTo>
                  <a:lnTo>
                    <a:pt x="1857" y="121"/>
                  </a:lnTo>
                  <a:lnTo>
                    <a:pt x="1843" y="121"/>
                  </a:lnTo>
                  <a:lnTo>
                    <a:pt x="1831" y="121"/>
                  </a:lnTo>
                  <a:lnTo>
                    <a:pt x="1817" y="121"/>
                  </a:lnTo>
                  <a:lnTo>
                    <a:pt x="1804" y="121"/>
                  </a:lnTo>
                  <a:lnTo>
                    <a:pt x="1789" y="121"/>
                  </a:lnTo>
                  <a:lnTo>
                    <a:pt x="1771" y="129"/>
                  </a:lnTo>
                  <a:lnTo>
                    <a:pt x="1757" y="129"/>
                  </a:lnTo>
                  <a:lnTo>
                    <a:pt x="1737" y="129"/>
                  </a:lnTo>
                  <a:lnTo>
                    <a:pt x="1717" y="129"/>
                  </a:lnTo>
                  <a:lnTo>
                    <a:pt x="1697" y="138"/>
                  </a:lnTo>
                  <a:lnTo>
                    <a:pt x="1677" y="138"/>
                  </a:lnTo>
                  <a:lnTo>
                    <a:pt x="1657" y="138"/>
                  </a:lnTo>
                  <a:lnTo>
                    <a:pt x="1636" y="138"/>
                  </a:lnTo>
                  <a:lnTo>
                    <a:pt x="1623" y="138"/>
                  </a:lnTo>
                  <a:lnTo>
                    <a:pt x="1609" y="138"/>
                  </a:lnTo>
                  <a:lnTo>
                    <a:pt x="1595" y="138"/>
                  </a:lnTo>
                  <a:lnTo>
                    <a:pt x="1583" y="138"/>
                  </a:lnTo>
                  <a:lnTo>
                    <a:pt x="1563" y="138"/>
                  </a:lnTo>
                  <a:lnTo>
                    <a:pt x="1549" y="129"/>
                  </a:lnTo>
                  <a:lnTo>
                    <a:pt x="1534" y="129"/>
                  </a:lnTo>
                  <a:lnTo>
                    <a:pt x="1522" y="121"/>
                  </a:lnTo>
                  <a:lnTo>
                    <a:pt x="1509" y="121"/>
                  </a:lnTo>
                  <a:lnTo>
                    <a:pt x="1489" y="121"/>
                  </a:lnTo>
                  <a:lnTo>
                    <a:pt x="1475" y="113"/>
                  </a:lnTo>
                  <a:lnTo>
                    <a:pt x="1461" y="113"/>
                  </a:lnTo>
                  <a:lnTo>
                    <a:pt x="1448" y="113"/>
                  </a:lnTo>
                  <a:lnTo>
                    <a:pt x="1436" y="113"/>
                  </a:lnTo>
                  <a:lnTo>
                    <a:pt x="1421" y="113"/>
                  </a:lnTo>
                  <a:lnTo>
                    <a:pt x="1408" y="113"/>
                  </a:lnTo>
                  <a:lnTo>
                    <a:pt x="1395" y="113"/>
                  </a:lnTo>
                  <a:lnTo>
                    <a:pt x="1381" y="113"/>
                  </a:lnTo>
                  <a:lnTo>
                    <a:pt x="1368" y="113"/>
                  </a:lnTo>
                  <a:lnTo>
                    <a:pt x="1354" y="113"/>
                  </a:lnTo>
                  <a:lnTo>
                    <a:pt x="1340" y="113"/>
                  </a:lnTo>
                  <a:lnTo>
                    <a:pt x="1328" y="113"/>
                  </a:lnTo>
                  <a:lnTo>
                    <a:pt x="1314" y="113"/>
                  </a:lnTo>
                  <a:lnTo>
                    <a:pt x="1301" y="113"/>
                  </a:lnTo>
                  <a:lnTo>
                    <a:pt x="1286" y="113"/>
                  </a:lnTo>
                  <a:lnTo>
                    <a:pt x="1274" y="121"/>
                  </a:lnTo>
                  <a:lnTo>
                    <a:pt x="1261" y="121"/>
                  </a:lnTo>
                  <a:lnTo>
                    <a:pt x="1241" y="121"/>
                  </a:lnTo>
                  <a:lnTo>
                    <a:pt x="1226" y="129"/>
                  </a:lnTo>
                  <a:lnTo>
                    <a:pt x="1214" y="138"/>
                  </a:lnTo>
                  <a:lnTo>
                    <a:pt x="1200" y="146"/>
                  </a:lnTo>
                  <a:lnTo>
                    <a:pt x="1214" y="154"/>
                  </a:lnTo>
                  <a:lnTo>
                    <a:pt x="1226" y="154"/>
                  </a:lnTo>
                  <a:lnTo>
                    <a:pt x="1241" y="160"/>
                  </a:lnTo>
                  <a:lnTo>
                    <a:pt x="1253" y="160"/>
                  </a:lnTo>
                  <a:lnTo>
                    <a:pt x="1266" y="168"/>
                  </a:lnTo>
                  <a:lnTo>
                    <a:pt x="1280" y="177"/>
                  </a:lnTo>
                  <a:lnTo>
                    <a:pt x="1294" y="177"/>
                  </a:lnTo>
                  <a:lnTo>
                    <a:pt x="1306" y="177"/>
                  </a:lnTo>
                  <a:lnTo>
                    <a:pt x="1320" y="185"/>
                  </a:lnTo>
                  <a:lnTo>
                    <a:pt x="1335" y="193"/>
                  </a:lnTo>
                  <a:lnTo>
                    <a:pt x="1348" y="193"/>
                  </a:lnTo>
                  <a:lnTo>
                    <a:pt x="1360" y="201"/>
                  </a:lnTo>
                  <a:lnTo>
                    <a:pt x="1374" y="209"/>
                  </a:lnTo>
                  <a:lnTo>
                    <a:pt x="1388" y="218"/>
                  </a:lnTo>
                  <a:lnTo>
                    <a:pt x="1400" y="218"/>
                  </a:lnTo>
                  <a:lnTo>
                    <a:pt x="1414" y="226"/>
                  </a:lnTo>
                  <a:lnTo>
                    <a:pt x="1429" y="234"/>
                  </a:lnTo>
                  <a:lnTo>
                    <a:pt x="1440" y="242"/>
                  </a:lnTo>
                  <a:lnTo>
                    <a:pt x="1455" y="250"/>
                  </a:lnTo>
                  <a:lnTo>
                    <a:pt x="1468" y="258"/>
                  </a:lnTo>
                  <a:lnTo>
                    <a:pt x="1481" y="258"/>
                  </a:lnTo>
                  <a:lnTo>
                    <a:pt x="1495" y="266"/>
                  </a:lnTo>
                  <a:lnTo>
                    <a:pt x="1509" y="274"/>
                  </a:lnTo>
                  <a:lnTo>
                    <a:pt x="1522" y="274"/>
                  </a:lnTo>
                  <a:lnTo>
                    <a:pt x="1534" y="282"/>
                  </a:lnTo>
                  <a:lnTo>
                    <a:pt x="1549" y="282"/>
                  </a:lnTo>
                  <a:lnTo>
                    <a:pt x="1563" y="291"/>
                  </a:lnTo>
                  <a:lnTo>
                    <a:pt x="1575" y="291"/>
                  </a:lnTo>
                  <a:lnTo>
                    <a:pt x="1589" y="291"/>
                  </a:lnTo>
                  <a:lnTo>
                    <a:pt x="1603" y="299"/>
                  </a:lnTo>
                  <a:lnTo>
                    <a:pt x="1616" y="307"/>
                  </a:lnTo>
                  <a:lnTo>
                    <a:pt x="1628" y="307"/>
                  </a:lnTo>
                  <a:lnTo>
                    <a:pt x="1643" y="307"/>
                  </a:lnTo>
                  <a:lnTo>
                    <a:pt x="1657" y="307"/>
                  </a:lnTo>
                  <a:lnTo>
                    <a:pt x="1669" y="315"/>
                  </a:lnTo>
                  <a:lnTo>
                    <a:pt x="1683" y="315"/>
                  </a:lnTo>
                  <a:lnTo>
                    <a:pt x="1697" y="322"/>
                  </a:lnTo>
                  <a:lnTo>
                    <a:pt x="1710" y="338"/>
                  </a:lnTo>
                  <a:lnTo>
                    <a:pt x="1723" y="346"/>
                  </a:lnTo>
                  <a:lnTo>
                    <a:pt x="1730" y="363"/>
                  </a:lnTo>
                  <a:lnTo>
                    <a:pt x="1743" y="379"/>
                  </a:lnTo>
                  <a:lnTo>
                    <a:pt x="1751" y="395"/>
                  </a:lnTo>
                  <a:lnTo>
                    <a:pt x="1751" y="412"/>
                  </a:lnTo>
                  <a:lnTo>
                    <a:pt x="1737" y="412"/>
                  </a:lnTo>
                  <a:lnTo>
                    <a:pt x="1723" y="427"/>
                  </a:lnTo>
                  <a:lnTo>
                    <a:pt x="1710" y="435"/>
                  </a:lnTo>
                  <a:lnTo>
                    <a:pt x="1697" y="444"/>
                  </a:lnTo>
                  <a:lnTo>
                    <a:pt x="1677" y="452"/>
                  </a:lnTo>
                  <a:lnTo>
                    <a:pt x="1662" y="467"/>
                  </a:lnTo>
                  <a:lnTo>
                    <a:pt x="1650" y="477"/>
                  </a:lnTo>
                  <a:lnTo>
                    <a:pt x="1636" y="492"/>
                  </a:lnTo>
                  <a:lnTo>
                    <a:pt x="1628" y="508"/>
                  </a:lnTo>
                  <a:lnTo>
                    <a:pt x="1616" y="524"/>
                  </a:lnTo>
                  <a:lnTo>
                    <a:pt x="1603" y="540"/>
                  </a:lnTo>
                  <a:lnTo>
                    <a:pt x="1595" y="557"/>
                  </a:lnTo>
                  <a:lnTo>
                    <a:pt x="1609" y="549"/>
                  </a:lnTo>
                  <a:lnTo>
                    <a:pt x="1623" y="540"/>
                  </a:lnTo>
                  <a:lnTo>
                    <a:pt x="1636" y="532"/>
                  </a:lnTo>
                  <a:lnTo>
                    <a:pt x="1650" y="524"/>
                  </a:lnTo>
                  <a:lnTo>
                    <a:pt x="1662" y="516"/>
                  </a:lnTo>
                  <a:lnTo>
                    <a:pt x="1677" y="516"/>
                  </a:lnTo>
                  <a:lnTo>
                    <a:pt x="1689" y="508"/>
                  </a:lnTo>
                  <a:lnTo>
                    <a:pt x="1710" y="500"/>
                  </a:lnTo>
                  <a:lnTo>
                    <a:pt x="1723" y="492"/>
                  </a:lnTo>
                  <a:lnTo>
                    <a:pt x="1737" y="484"/>
                  </a:lnTo>
                  <a:lnTo>
                    <a:pt x="1751" y="484"/>
                  </a:lnTo>
                  <a:lnTo>
                    <a:pt x="1763" y="477"/>
                  </a:lnTo>
                  <a:lnTo>
                    <a:pt x="1778" y="477"/>
                  </a:lnTo>
                  <a:lnTo>
                    <a:pt x="1789" y="467"/>
                  </a:lnTo>
                  <a:lnTo>
                    <a:pt x="1804" y="467"/>
                  </a:lnTo>
                  <a:lnTo>
                    <a:pt x="1817" y="460"/>
                  </a:lnTo>
                  <a:lnTo>
                    <a:pt x="1831" y="452"/>
                  </a:lnTo>
                  <a:lnTo>
                    <a:pt x="1843" y="452"/>
                  </a:lnTo>
                  <a:lnTo>
                    <a:pt x="1857" y="452"/>
                  </a:lnTo>
                  <a:lnTo>
                    <a:pt x="1872" y="452"/>
                  </a:lnTo>
                  <a:lnTo>
                    <a:pt x="1884" y="460"/>
                  </a:lnTo>
                  <a:lnTo>
                    <a:pt x="1897" y="460"/>
                  </a:lnTo>
                  <a:lnTo>
                    <a:pt x="1911" y="460"/>
                  </a:lnTo>
                  <a:lnTo>
                    <a:pt x="1917" y="477"/>
                  </a:lnTo>
                  <a:lnTo>
                    <a:pt x="1905" y="477"/>
                  </a:lnTo>
                  <a:lnTo>
                    <a:pt x="1891" y="477"/>
                  </a:lnTo>
                  <a:lnTo>
                    <a:pt x="1877" y="477"/>
                  </a:lnTo>
                  <a:lnTo>
                    <a:pt x="1857" y="477"/>
                  </a:lnTo>
                  <a:lnTo>
                    <a:pt x="1843" y="477"/>
                  </a:lnTo>
                  <a:lnTo>
                    <a:pt x="1831" y="477"/>
                  </a:lnTo>
                  <a:lnTo>
                    <a:pt x="1817" y="477"/>
                  </a:lnTo>
                  <a:lnTo>
                    <a:pt x="1804" y="477"/>
                  </a:lnTo>
                  <a:lnTo>
                    <a:pt x="1789" y="484"/>
                  </a:lnTo>
                  <a:lnTo>
                    <a:pt x="1778" y="484"/>
                  </a:lnTo>
                  <a:lnTo>
                    <a:pt x="1763" y="484"/>
                  </a:lnTo>
                  <a:lnTo>
                    <a:pt x="1751" y="492"/>
                  </a:lnTo>
                  <a:lnTo>
                    <a:pt x="1751" y="508"/>
                  </a:lnTo>
                  <a:lnTo>
                    <a:pt x="1743" y="524"/>
                  </a:lnTo>
                  <a:lnTo>
                    <a:pt x="1751" y="540"/>
                  </a:lnTo>
                  <a:lnTo>
                    <a:pt x="1763" y="540"/>
                  </a:lnTo>
                  <a:lnTo>
                    <a:pt x="1778" y="549"/>
                  </a:lnTo>
                  <a:lnTo>
                    <a:pt x="1789" y="549"/>
                  </a:lnTo>
                  <a:lnTo>
                    <a:pt x="1804" y="557"/>
                  </a:lnTo>
                  <a:lnTo>
                    <a:pt x="1817" y="557"/>
                  </a:lnTo>
                  <a:lnTo>
                    <a:pt x="1831" y="557"/>
                  </a:lnTo>
                  <a:lnTo>
                    <a:pt x="1843" y="557"/>
                  </a:lnTo>
                  <a:lnTo>
                    <a:pt x="1857" y="557"/>
                  </a:lnTo>
                  <a:lnTo>
                    <a:pt x="1872" y="557"/>
                  </a:lnTo>
                  <a:lnTo>
                    <a:pt x="1884" y="557"/>
                  </a:lnTo>
                  <a:lnTo>
                    <a:pt x="1897" y="565"/>
                  </a:lnTo>
                  <a:lnTo>
                    <a:pt x="1911" y="565"/>
                  </a:lnTo>
                  <a:lnTo>
                    <a:pt x="1897" y="573"/>
                  </a:lnTo>
                  <a:lnTo>
                    <a:pt x="1872" y="573"/>
                  </a:lnTo>
                  <a:lnTo>
                    <a:pt x="1857" y="573"/>
                  </a:lnTo>
                  <a:lnTo>
                    <a:pt x="1837" y="573"/>
                  </a:lnTo>
                  <a:lnTo>
                    <a:pt x="1817" y="573"/>
                  </a:lnTo>
                  <a:lnTo>
                    <a:pt x="1804" y="573"/>
                  </a:lnTo>
                  <a:lnTo>
                    <a:pt x="1789" y="573"/>
                  </a:lnTo>
                  <a:lnTo>
                    <a:pt x="1771" y="573"/>
                  </a:lnTo>
                  <a:lnTo>
                    <a:pt x="1757" y="573"/>
                  </a:lnTo>
                  <a:lnTo>
                    <a:pt x="1743" y="573"/>
                  </a:lnTo>
                  <a:lnTo>
                    <a:pt x="1730" y="573"/>
                  </a:lnTo>
                  <a:lnTo>
                    <a:pt x="1710" y="565"/>
                  </a:lnTo>
                  <a:lnTo>
                    <a:pt x="1697" y="565"/>
                  </a:lnTo>
                  <a:lnTo>
                    <a:pt x="1683" y="565"/>
                  </a:lnTo>
                  <a:lnTo>
                    <a:pt x="1669" y="565"/>
                  </a:lnTo>
                  <a:lnTo>
                    <a:pt x="1657" y="565"/>
                  </a:lnTo>
                  <a:lnTo>
                    <a:pt x="1643" y="565"/>
                  </a:lnTo>
                  <a:lnTo>
                    <a:pt x="1628" y="565"/>
                  </a:lnTo>
                  <a:lnTo>
                    <a:pt x="1616" y="565"/>
                  </a:lnTo>
                  <a:lnTo>
                    <a:pt x="1603" y="565"/>
                  </a:lnTo>
                  <a:lnTo>
                    <a:pt x="1589" y="573"/>
                  </a:lnTo>
                  <a:lnTo>
                    <a:pt x="1575" y="573"/>
                  </a:lnTo>
                  <a:lnTo>
                    <a:pt x="1563" y="581"/>
                  </a:lnTo>
                  <a:lnTo>
                    <a:pt x="1549" y="590"/>
                  </a:lnTo>
                  <a:lnTo>
                    <a:pt x="1534" y="590"/>
                  </a:lnTo>
                  <a:lnTo>
                    <a:pt x="1522" y="598"/>
                  </a:lnTo>
                  <a:lnTo>
                    <a:pt x="1509" y="606"/>
                  </a:lnTo>
                  <a:lnTo>
                    <a:pt x="1495" y="606"/>
                  </a:lnTo>
                  <a:lnTo>
                    <a:pt x="1481" y="606"/>
                  </a:lnTo>
                  <a:lnTo>
                    <a:pt x="1468" y="620"/>
                  </a:lnTo>
                  <a:lnTo>
                    <a:pt x="1455" y="629"/>
                  </a:lnTo>
                  <a:lnTo>
                    <a:pt x="1440" y="645"/>
                  </a:lnTo>
                  <a:lnTo>
                    <a:pt x="1429" y="653"/>
                  </a:lnTo>
                  <a:lnTo>
                    <a:pt x="1421" y="670"/>
                  </a:lnTo>
                  <a:lnTo>
                    <a:pt x="1436" y="670"/>
                  </a:lnTo>
                  <a:lnTo>
                    <a:pt x="1448" y="661"/>
                  </a:lnTo>
                  <a:lnTo>
                    <a:pt x="1461" y="661"/>
                  </a:lnTo>
                  <a:lnTo>
                    <a:pt x="1475" y="653"/>
                  </a:lnTo>
                  <a:lnTo>
                    <a:pt x="1495" y="653"/>
                  </a:lnTo>
                  <a:lnTo>
                    <a:pt x="1515" y="645"/>
                  </a:lnTo>
                  <a:lnTo>
                    <a:pt x="1529" y="645"/>
                  </a:lnTo>
                  <a:lnTo>
                    <a:pt x="1542" y="645"/>
                  </a:lnTo>
                  <a:lnTo>
                    <a:pt x="1555" y="645"/>
                  </a:lnTo>
                  <a:lnTo>
                    <a:pt x="1575" y="645"/>
                  </a:lnTo>
                  <a:lnTo>
                    <a:pt x="1589" y="645"/>
                  </a:lnTo>
                  <a:lnTo>
                    <a:pt x="1603" y="653"/>
                  </a:lnTo>
                  <a:lnTo>
                    <a:pt x="1609" y="670"/>
                  </a:lnTo>
                  <a:lnTo>
                    <a:pt x="1623" y="678"/>
                  </a:lnTo>
                  <a:lnTo>
                    <a:pt x="1609" y="678"/>
                  </a:lnTo>
                  <a:lnTo>
                    <a:pt x="1595" y="678"/>
                  </a:lnTo>
                  <a:lnTo>
                    <a:pt x="1583" y="670"/>
                  </a:lnTo>
                  <a:lnTo>
                    <a:pt x="1555" y="670"/>
                  </a:lnTo>
                  <a:lnTo>
                    <a:pt x="1534" y="678"/>
                  </a:lnTo>
                  <a:lnTo>
                    <a:pt x="1522" y="686"/>
                  </a:lnTo>
                  <a:lnTo>
                    <a:pt x="1509" y="686"/>
                  </a:lnTo>
                  <a:lnTo>
                    <a:pt x="1495" y="694"/>
                  </a:lnTo>
                  <a:lnTo>
                    <a:pt x="1481" y="710"/>
                  </a:lnTo>
                  <a:lnTo>
                    <a:pt x="1468" y="727"/>
                  </a:lnTo>
                  <a:lnTo>
                    <a:pt x="1455" y="735"/>
                  </a:lnTo>
                  <a:lnTo>
                    <a:pt x="1448" y="751"/>
                  </a:lnTo>
                  <a:lnTo>
                    <a:pt x="1440" y="767"/>
                  </a:lnTo>
                  <a:lnTo>
                    <a:pt x="1455" y="767"/>
                  </a:lnTo>
                  <a:lnTo>
                    <a:pt x="1468" y="767"/>
                  </a:lnTo>
                  <a:lnTo>
                    <a:pt x="1481" y="767"/>
                  </a:lnTo>
                  <a:lnTo>
                    <a:pt x="1495" y="767"/>
                  </a:lnTo>
                  <a:lnTo>
                    <a:pt x="1509" y="767"/>
                  </a:lnTo>
                  <a:lnTo>
                    <a:pt x="1522" y="767"/>
                  </a:lnTo>
                  <a:lnTo>
                    <a:pt x="1534" y="767"/>
                  </a:lnTo>
                  <a:lnTo>
                    <a:pt x="1549" y="767"/>
                  </a:lnTo>
                  <a:lnTo>
                    <a:pt x="1563" y="767"/>
                  </a:lnTo>
                  <a:lnTo>
                    <a:pt x="1575" y="767"/>
                  </a:lnTo>
                  <a:lnTo>
                    <a:pt x="1555" y="776"/>
                  </a:lnTo>
                  <a:lnTo>
                    <a:pt x="1542" y="776"/>
                  </a:lnTo>
                  <a:lnTo>
                    <a:pt x="1529" y="790"/>
                  </a:lnTo>
                  <a:lnTo>
                    <a:pt x="1495" y="799"/>
                  </a:lnTo>
                  <a:lnTo>
                    <a:pt x="1481" y="807"/>
                  </a:lnTo>
                  <a:lnTo>
                    <a:pt x="1468" y="823"/>
                  </a:lnTo>
                  <a:lnTo>
                    <a:pt x="1455" y="831"/>
                  </a:lnTo>
                  <a:lnTo>
                    <a:pt x="1440" y="847"/>
                  </a:lnTo>
                  <a:lnTo>
                    <a:pt x="1429" y="872"/>
                  </a:lnTo>
                  <a:lnTo>
                    <a:pt x="1414" y="888"/>
                  </a:lnTo>
                  <a:lnTo>
                    <a:pt x="1408" y="912"/>
                  </a:lnTo>
                  <a:lnTo>
                    <a:pt x="1400" y="929"/>
                  </a:lnTo>
                  <a:lnTo>
                    <a:pt x="1414" y="929"/>
                  </a:lnTo>
                  <a:lnTo>
                    <a:pt x="1429" y="919"/>
                  </a:lnTo>
                  <a:lnTo>
                    <a:pt x="1448" y="905"/>
                  </a:lnTo>
                  <a:lnTo>
                    <a:pt x="1461" y="896"/>
                  </a:lnTo>
                  <a:lnTo>
                    <a:pt x="1481" y="888"/>
                  </a:lnTo>
                  <a:lnTo>
                    <a:pt x="1495" y="879"/>
                  </a:lnTo>
                  <a:lnTo>
                    <a:pt x="1509" y="879"/>
                  </a:lnTo>
                  <a:lnTo>
                    <a:pt x="1522" y="879"/>
                  </a:lnTo>
                  <a:lnTo>
                    <a:pt x="1542" y="872"/>
                  </a:lnTo>
                  <a:lnTo>
                    <a:pt x="1555" y="872"/>
                  </a:lnTo>
                  <a:lnTo>
                    <a:pt x="1534" y="888"/>
                  </a:lnTo>
                  <a:lnTo>
                    <a:pt x="1509" y="896"/>
                  </a:lnTo>
                  <a:lnTo>
                    <a:pt x="1495" y="912"/>
                  </a:lnTo>
                  <a:lnTo>
                    <a:pt x="1475" y="929"/>
                  </a:lnTo>
                  <a:lnTo>
                    <a:pt x="1461" y="944"/>
                  </a:lnTo>
                  <a:lnTo>
                    <a:pt x="1448" y="960"/>
                  </a:lnTo>
                  <a:lnTo>
                    <a:pt x="1436" y="985"/>
                  </a:lnTo>
                  <a:lnTo>
                    <a:pt x="1429" y="1000"/>
                  </a:lnTo>
                  <a:lnTo>
                    <a:pt x="1421" y="1017"/>
                  </a:lnTo>
                  <a:lnTo>
                    <a:pt x="1421" y="1033"/>
                  </a:lnTo>
                  <a:lnTo>
                    <a:pt x="1414" y="1050"/>
                  </a:lnTo>
                  <a:lnTo>
                    <a:pt x="1429" y="1050"/>
                  </a:lnTo>
                  <a:lnTo>
                    <a:pt x="1440" y="1041"/>
                  </a:lnTo>
                  <a:lnTo>
                    <a:pt x="1468" y="1033"/>
                  </a:lnTo>
                  <a:lnTo>
                    <a:pt x="1489" y="1025"/>
                  </a:lnTo>
                  <a:lnTo>
                    <a:pt x="1515" y="1008"/>
                  </a:lnTo>
                  <a:lnTo>
                    <a:pt x="1542" y="1000"/>
                  </a:lnTo>
                  <a:lnTo>
                    <a:pt x="1563" y="993"/>
                  </a:lnTo>
                  <a:lnTo>
                    <a:pt x="1575" y="993"/>
                  </a:lnTo>
                  <a:lnTo>
                    <a:pt x="1569" y="1008"/>
                  </a:lnTo>
                  <a:lnTo>
                    <a:pt x="1549" y="1025"/>
                  </a:lnTo>
                  <a:lnTo>
                    <a:pt x="1522" y="1050"/>
                  </a:lnTo>
                  <a:lnTo>
                    <a:pt x="1509" y="1058"/>
                  </a:lnTo>
                  <a:lnTo>
                    <a:pt x="1495" y="1074"/>
                  </a:lnTo>
                  <a:lnTo>
                    <a:pt x="1481" y="1074"/>
                  </a:lnTo>
                  <a:lnTo>
                    <a:pt x="1475" y="1089"/>
                  </a:lnTo>
                  <a:lnTo>
                    <a:pt x="1455" y="1105"/>
                  </a:lnTo>
                  <a:lnTo>
                    <a:pt x="1436" y="1122"/>
                  </a:lnTo>
                  <a:lnTo>
                    <a:pt x="1414" y="1138"/>
                  </a:lnTo>
                  <a:lnTo>
                    <a:pt x="1400" y="1155"/>
                  </a:lnTo>
                  <a:lnTo>
                    <a:pt x="1414" y="1155"/>
                  </a:lnTo>
                  <a:lnTo>
                    <a:pt x="1429" y="1146"/>
                  </a:lnTo>
                  <a:lnTo>
                    <a:pt x="1448" y="1138"/>
                  </a:lnTo>
                  <a:lnTo>
                    <a:pt x="1475" y="1130"/>
                  </a:lnTo>
                  <a:lnTo>
                    <a:pt x="1495" y="1122"/>
                  </a:lnTo>
                  <a:lnTo>
                    <a:pt x="1509" y="1122"/>
                  </a:lnTo>
                  <a:lnTo>
                    <a:pt x="1522" y="1122"/>
                  </a:lnTo>
                  <a:lnTo>
                    <a:pt x="1509" y="1130"/>
                  </a:lnTo>
                  <a:lnTo>
                    <a:pt x="1495" y="1138"/>
                  </a:lnTo>
                  <a:lnTo>
                    <a:pt x="1481" y="1155"/>
                  </a:lnTo>
                  <a:lnTo>
                    <a:pt x="1468" y="1171"/>
                  </a:lnTo>
                  <a:lnTo>
                    <a:pt x="1455" y="1178"/>
                  </a:lnTo>
                  <a:lnTo>
                    <a:pt x="1440" y="1194"/>
                  </a:lnTo>
                  <a:lnTo>
                    <a:pt x="1421" y="1211"/>
                  </a:lnTo>
                  <a:lnTo>
                    <a:pt x="1408" y="1226"/>
                  </a:lnTo>
                  <a:lnTo>
                    <a:pt x="1395" y="1243"/>
                  </a:lnTo>
                  <a:lnTo>
                    <a:pt x="1381" y="1259"/>
                  </a:lnTo>
                  <a:lnTo>
                    <a:pt x="1368" y="1267"/>
                  </a:lnTo>
                  <a:lnTo>
                    <a:pt x="1354" y="1283"/>
                  </a:lnTo>
                  <a:lnTo>
                    <a:pt x="1340" y="1291"/>
                  </a:lnTo>
                  <a:lnTo>
                    <a:pt x="1320" y="1299"/>
                  </a:lnTo>
                  <a:lnTo>
                    <a:pt x="1340" y="1299"/>
                  </a:lnTo>
                  <a:lnTo>
                    <a:pt x="1354" y="1283"/>
                  </a:lnTo>
                  <a:lnTo>
                    <a:pt x="1374" y="1275"/>
                  </a:lnTo>
                  <a:lnTo>
                    <a:pt x="1388" y="1267"/>
                  </a:lnTo>
                  <a:lnTo>
                    <a:pt x="1400" y="1259"/>
                  </a:lnTo>
                  <a:lnTo>
                    <a:pt x="1414" y="1259"/>
                  </a:lnTo>
                  <a:lnTo>
                    <a:pt x="1429" y="1251"/>
                  </a:lnTo>
                  <a:lnTo>
                    <a:pt x="1440" y="1251"/>
                  </a:lnTo>
                  <a:lnTo>
                    <a:pt x="1455" y="1243"/>
                  </a:lnTo>
                  <a:lnTo>
                    <a:pt x="1461" y="1234"/>
                  </a:lnTo>
                  <a:lnTo>
                    <a:pt x="1448" y="1251"/>
                  </a:lnTo>
                  <a:lnTo>
                    <a:pt x="1436" y="1251"/>
                  </a:lnTo>
                  <a:lnTo>
                    <a:pt x="1421" y="1259"/>
                  </a:lnTo>
                  <a:lnTo>
                    <a:pt x="1408" y="1267"/>
                  </a:lnTo>
                  <a:lnTo>
                    <a:pt x="1395" y="1275"/>
                  </a:lnTo>
                  <a:lnTo>
                    <a:pt x="1381" y="1283"/>
                  </a:lnTo>
                  <a:lnTo>
                    <a:pt x="1374" y="1299"/>
                  </a:lnTo>
                  <a:lnTo>
                    <a:pt x="1360" y="1308"/>
                  </a:lnTo>
                  <a:lnTo>
                    <a:pt x="1348" y="1316"/>
                  </a:lnTo>
                  <a:lnTo>
                    <a:pt x="1335" y="1316"/>
                  </a:lnTo>
                  <a:lnTo>
                    <a:pt x="1320" y="1324"/>
                  </a:lnTo>
                  <a:lnTo>
                    <a:pt x="1306" y="1332"/>
                  </a:lnTo>
                  <a:lnTo>
                    <a:pt x="1286" y="1340"/>
                  </a:lnTo>
                  <a:lnTo>
                    <a:pt x="1274" y="1340"/>
                  </a:lnTo>
                  <a:lnTo>
                    <a:pt x="1261" y="1349"/>
                  </a:lnTo>
                  <a:lnTo>
                    <a:pt x="1246" y="1357"/>
                  </a:lnTo>
                  <a:lnTo>
                    <a:pt x="1246" y="1371"/>
                  </a:lnTo>
                  <a:lnTo>
                    <a:pt x="1261" y="1371"/>
                  </a:lnTo>
                  <a:lnTo>
                    <a:pt x="1274" y="1379"/>
                  </a:lnTo>
                  <a:lnTo>
                    <a:pt x="1286" y="1379"/>
                  </a:lnTo>
                  <a:lnTo>
                    <a:pt x="1301" y="1379"/>
                  </a:lnTo>
                  <a:lnTo>
                    <a:pt x="1314" y="1379"/>
                  </a:lnTo>
                  <a:lnTo>
                    <a:pt x="1301" y="1379"/>
                  </a:lnTo>
                  <a:lnTo>
                    <a:pt x="1286" y="1390"/>
                  </a:lnTo>
                  <a:lnTo>
                    <a:pt x="1274" y="1390"/>
                  </a:lnTo>
                  <a:lnTo>
                    <a:pt x="1261" y="1404"/>
                  </a:lnTo>
                  <a:lnTo>
                    <a:pt x="1246" y="1412"/>
                  </a:lnTo>
                  <a:lnTo>
                    <a:pt x="1226" y="1420"/>
                  </a:lnTo>
                  <a:lnTo>
                    <a:pt x="1207" y="1437"/>
                  </a:lnTo>
                  <a:lnTo>
                    <a:pt x="1186" y="1445"/>
                  </a:lnTo>
                  <a:lnTo>
                    <a:pt x="1167" y="1452"/>
                  </a:lnTo>
                  <a:lnTo>
                    <a:pt x="1146" y="1461"/>
                  </a:lnTo>
                  <a:lnTo>
                    <a:pt x="1126" y="1469"/>
                  </a:lnTo>
                  <a:lnTo>
                    <a:pt x="1106" y="1469"/>
                  </a:lnTo>
                  <a:lnTo>
                    <a:pt x="1092" y="1478"/>
                  </a:lnTo>
                  <a:lnTo>
                    <a:pt x="1080" y="1485"/>
                  </a:lnTo>
                  <a:lnTo>
                    <a:pt x="1066" y="1485"/>
                  </a:lnTo>
                  <a:lnTo>
                    <a:pt x="1066" y="1502"/>
                  </a:lnTo>
                  <a:lnTo>
                    <a:pt x="1087" y="1518"/>
                  </a:lnTo>
                  <a:lnTo>
                    <a:pt x="1099" y="1518"/>
                  </a:lnTo>
                  <a:lnTo>
                    <a:pt x="1113" y="1518"/>
                  </a:lnTo>
                  <a:lnTo>
                    <a:pt x="1106" y="1541"/>
                  </a:lnTo>
                  <a:lnTo>
                    <a:pt x="1092" y="1549"/>
                  </a:lnTo>
                  <a:lnTo>
                    <a:pt x="1072" y="1566"/>
                  </a:lnTo>
                  <a:lnTo>
                    <a:pt x="1046" y="1590"/>
                  </a:lnTo>
                  <a:lnTo>
                    <a:pt x="1032" y="1598"/>
                  </a:lnTo>
                  <a:lnTo>
                    <a:pt x="1019" y="1598"/>
                  </a:lnTo>
                  <a:lnTo>
                    <a:pt x="1005" y="1606"/>
                  </a:lnTo>
                  <a:lnTo>
                    <a:pt x="1019" y="1615"/>
                  </a:lnTo>
                  <a:lnTo>
                    <a:pt x="1032" y="1615"/>
                  </a:lnTo>
                  <a:lnTo>
                    <a:pt x="1046" y="1615"/>
                  </a:lnTo>
                  <a:lnTo>
                    <a:pt x="1046" y="1630"/>
                  </a:lnTo>
                  <a:lnTo>
                    <a:pt x="1032" y="1638"/>
                  </a:lnTo>
                  <a:lnTo>
                    <a:pt x="1012" y="1656"/>
                  </a:lnTo>
                  <a:lnTo>
                    <a:pt x="998" y="1663"/>
                  </a:lnTo>
                  <a:lnTo>
                    <a:pt x="978" y="1671"/>
                  </a:lnTo>
                  <a:lnTo>
                    <a:pt x="964" y="1678"/>
                  </a:lnTo>
                  <a:lnTo>
                    <a:pt x="952" y="1688"/>
                  </a:lnTo>
                  <a:lnTo>
                    <a:pt x="938" y="1695"/>
                  </a:lnTo>
                  <a:lnTo>
                    <a:pt x="925" y="1703"/>
                  </a:lnTo>
                  <a:lnTo>
                    <a:pt x="904" y="1711"/>
                  </a:lnTo>
                  <a:lnTo>
                    <a:pt x="877" y="1728"/>
                  </a:lnTo>
                  <a:lnTo>
                    <a:pt x="866" y="1736"/>
                  </a:lnTo>
                  <a:lnTo>
                    <a:pt x="837" y="1744"/>
                  </a:lnTo>
                  <a:lnTo>
                    <a:pt x="817" y="1759"/>
                  </a:lnTo>
                  <a:lnTo>
                    <a:pt x="797" y="1768"/>
                  </a:lnTo>
                  <a:lnTo>
                    <a:pt x="783" y="1776"/>
                  </a:lnTo>
                  <a:lnTo>
                    <a:pt x="750" y="1784"/>
                  </a:lnTo>
                  <a:lnTo>
                    <a:pt x="737" y="1792"/>
                  </a:lnTo>
                  <a:lnTo>
                    <a:pt x="723" y="1801"/>
                  </a:lnTo>
                  <a:lnTo>
                    <a:pt x="710" y="1801"/>
                  </a:lnTo>
                  <a:lnTo>
                    <a:pt x="690" y="1809"/>
                  </a:lnTo>
                  <a:lnTo>
                    <a:pt x="676" y="1817"/>
                  </a:lnTo>
                  <a:lnTo>
                    <a:pt x="663" y="1817"/>
                  </a:lnTo>
                  <a:lnTo>
                    <a:pt x="649" y="1817"/>
                  </a:lnTo>
                  <a:lnTo>
                    <a:pt x="649" y="1833"/>
                  </a:lnTo>
                  <a:lnTo>
                    <a:pt x="663" y="1833"/>
                  </a:lnTo>
                  <a:lnTo>
                    <a:pt x="649" y="1840"/>
                  </a:lnTo>
                  <a:lnTo>
                    <a:pt x="629" y="1848"/>
                  </a:lnTo>
                  <a:lnTo>
                    <a:pt x="608" y="1856"/>
                  </a:lnTo>
                  <a:lnTo>
                    <a:pt x="597" y="1856"/>
                  </a:lnTo>
                  <a:lnTo>
                    <a:pt x="582" y="1864"/>
                  </a:lnTo>
                  <a:lnTo>
                    <a:pt x="569" y="1864"/>
                  </a:lnTo>
                  <a:lnTo>
                    <a:pt x="556" y="1872"/>
                  </a:lnTo>
                  <a:lnTo>
                    <a:pt x="543" y="1881"/>
                  </a:lnTo>
                  <a:lnTo>
                    <a:pt x="522" y="1889"/>
                  </a:lnTo>
                  <a:lnTo>
                    <a:pt x="502" y="1905"/>
                  </a:lnTo>
                  <a:lnTo>
                    <a:pt x="488" y="1913"/>
                  </a:lnTo>
                  <a:lnTo>
                    <a:pt x="475" y="1922"/>
                  </a:lnTo>
                  <a:lnTo>
                    <a:pt x="462" y="1937"/>
                  </a:lnTo>
                  <a:lnTo>
                    <a:pt x="448" y="1945"/>
                  </a:lnTo>
                  <a:lnTo>
                    <a:pt x="462" y="1945"/>
                  </a:lnTo>
                  <a:lnTo>
                    <a:pt x="475" y="1945"/>
                  </a:lnTo>
                  <a:lnTo>
                    <a:pt x="462" y="1937"/>
                  </a:lnTo>
                  <a:lnTo>
                    <a:pt x="442" y="1929"/>
                  </a:lnTo>
                  <a:lnTo>
                    <a:pt x="428" y="1929"/>
                  </a:lnTo>
                  <a:lnTo>
                    <a:pt x="408" y="1929"/>
                  </a:lnTo>
                  <a:lnTo>
                    <a:pt x="393" y="1929"/>
                  </a:lnTo>
                  <a:lnTo>
                    <a:pt x="374" y="1929"/>
                  </a:lnTo>
                  <a:lnTo>
                    <a:pt x="360" y="1937"/>
                  </a:lnTo>
                  <a:lnTo>
                    <a:pt x="340" y="1937"/>
                  </a:lnTo>
                  <a:lnTo>
                    <a:pt x="314" y="1945"/>
                  </a:lnTo>
                  <a:lnTo>
                    <a:pt x="300" y="1954"/>
                  </a:lnTo>
                  <a:lnTo>
                    <a:pt x="287" y="1954"/>
                  </a:lnTo>
                  <a:lnTo>
                    <a:pt x="274" y="1962"/>
                  </a:lnTo>
                  <a:lnTo>
                    <a:pt x="260" y="1962"/>
                  </a:lnTo>
                  <a:lnTo>
                    <a:pt x="246" y="1962"/>
                  </a:lnTo>
                  <a:lnTo>
                    <a:pt x="226" y="1962"/>
                  </a:lnTo>
                  <a:lnTo>
                    <a:pt x="214" y="1962"/>
                  </a:lnTo>
                  <a:lnTo>
                    <a:pt x="201" y="1962"/>
                  </a:lnTo>
                  <a:lnTo>
                    <a:pt x="186" y="1962"/>
                  </a:lnTo>
                  <a:lnTo>
                    <a:pt x="173" y="1962"/>
                  </a:lnTo>
                  <a:lnTo>
                    <a:pt x="153" y="1962"/>
                  </a:lnTo>
                  <a:lnTo>
                    <a:pt x="133" y="1962"/>
                  </a:lnTo>
                  <a:lnTo>
                    <a:pt x="120" y="1962"/>
                  </a:lnTo>
                  <a:lnTo>
                    <a:pt x="105" y="1970"/>
                  </a:lnTo>
                  <a:lnTo>
                    <a:pt x="93" y="1995"/>
                  </a:lnTo>
                  <a:lnTo>
                    <a:pt x="79" y="2010"/>
                  </a:lnTo>
                  <a:lnTo>
                    <a:pt x="66" y="2010"/>
                  </a:lnTo>
                  <a:lnTo>
                    <a:pt x="51" y="2010"/>
                  </a:lnTo>
                  <a:lnTo>
                    <a:pt x="30" y="2025"/>
                  </a:lnTo>
                  <a:lnTo>
                    <a:pt x="0" y="2045"/>
                  </a:lnTo>
                  <a:lnTo>
                    <a:pt x="2160" y="2048"/>
                  </a:lnTo>
                  <a:lnTo>
                    <a:pt x="2160" y="0"/>
                  </a:lnTo>
                  <a:lnTo>
                    <a:pt x="2126" y="39"/>
                  </a:lnTo>
                  <a:lnTo>
                    <a:pt x="2112" y="39"/>
                  </a:lnTo>
                  <a:lnTo>
                    <a:pt x="2098" y="39"/>
                  </a:lnTo>
                  <a:lnTo>
                    <a:pt x="2086" y="39"/>
                  </a:lnTo>
                  <a:lnTo>
                    <a:pt x="2072" y="32"/>
                  </a:lnTo>
                  <a:lnTo>
                    <a:pt x="2046" y="48"/>
                  </a:lnTo>
                  <a:lnTo>
                    <a:pt x="2032" y="65"/>
                  </a:lnTo>
                  <a:lnTo>
                    <a:pt x="2018" y="72"/>
                  </a:lnTo>
                  <a:lnTo>
                    <a:pt x="1992" y="72"/>
                  </a:lnTo>
                  <a:lnTo>
                    <a:pt x="1965" y="72"/>
                  </a:lnTo>
                  <a:lnTo>
                    <a:pt x="1951" y="72"/>
                  </a:lnTo>
                  <a:lnTo>
                    <a:pt x="1931" y="65"/>
                  </a:lnTo>
                  <a:lnTo>
                    <a:pt x="1917" y="65"/>
                  </a:lnTo>
                  <a:lnTo>
                    <a:pt x="1905" y="65"/>
                  </a:lnTo>
                  <a:lnTo>
                    <a:pt x="1891" y="56"/>
                  </a:lnTo>
                  <a:lnTo>
                    <a:pt x="1877" y="56"/>
                  </a:lnTo>
                  <a:lnTo>
                    <a:pt x="1864" y="56"/>
                  </a:lnTo>
                  <a:lnTo>
                    <a:pt x="1851" y="56"/>
                  </a:lnTo>
                  <a:lnTo>
                    <a:pt x="1831" y="65"/>
                  </a:lnTo>
                  <a:lnTo>
                    <a:pt x="1817" y="65"/>
                  </a:lnTo>
                  <a:lnTo>
                    <a:pt x="1804" y="80"/>
                  </a:lnTo>
                  <a:lnTo>
                    <a:pt x="1789" y="88"/>
                  </a:lnTo>
                  <a:lnTo>
                    <a:pt x="1778" y="97"/>
                  </a:lnTo>
                  <a:lnTo>
                    <a:pt x="2032" y="121"/>
                  </a:lnTo>
                  <a:close/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477120" y="2701080"/>
              <a:ext cx="1218960" cy="1327680"/>
            </a:xfrm>
            <a:custGeom>
              <a:avLst/>
              <a:gdLst/>
              <a:ahLst/>
              <a:rect l="l" t="t" r="r" b="b"/>
              <a:pathLst>
                <a:path w="2160" h="2048">
                  <a:moveTo>
                    <a:pt x="2032" y="121"/>
                  </a:moveTo>
                  <a:lnTo>
                    <a:pt x="2018" y="121"/>
                  </a:lnTo>
                  <a:lnTo>
                    <a:pt x="2006" y="121"/>
                  </a:lnTo>
                  <a:lnTo>
                    <a:pt x="1985" y="121"/>
                  </a:lnTo>
                  <a:lnTo>
                    <a:pt x="1951" y="121"/>
                  </a:lnTo>
                  <a:lnTo>
                    <a:pt x="1938" y="121"/>
                  </a:lnTo>
                  <a:lnTo>
                    <a:pt x="1924" y="121"/>
                  </a:lnTo>
                  <a:lnTo>
                    <a:pt x="1905" y="121"/>
                  </a:lnTo>
                  <a:lnTo>
                    <a:pt x="1891" y="121"/>
                  </a:lnTo>
                  <a:lnTo>
                    <a:pt x="1872" y="121"/>
                  </a:lnTo>
                  <a:lnTo>
                    <a:pt x="1857" y="121"/>
                  </a:lnTo>
                  <a:lnTo>
                    <a:pt x="1843" y="121"/>
                  </a:lnTo>
                  <a:lnTo>
                    <a:pt x="1831" y="121"/>
                  </a:lnTo>
                  <a:lnTo>
                    <a:pt x="1817" y="121"/>
                  </a:lnTo>
                  <a:lnTo>
                    <a:pt x="1804" y="121"/>
                  </a:lnTo>
                  <a:lnTo>
                    <a:pt x="1789" y="121"/>
                  </a:lnTo>
                  <a:lnTo>
                    <a:pt x="1771" y="129"/>
                  </a:lnTo>
                  <a:lnTo>
                    <a:pt x="1757" y="129"/>
                  </a:lnTo>
                  <a:lnTo>
                    <a:pt x="1737" y="129"/>
                  </a:lnTo>
                  <a:lnTo>
                    <a:pt x="1717" y="129"/>
                  </a:lnTo>
                  <a:lnTo>
                    <a:pt x="1697" y="138"/>
                  </a:lnTo>
                  <a:lnTo>
                    <a:pt x="1677" y="138"/>
                  </a:lnTo>
                  <a:lnTo>
                    <a:pt x="1657" y="138"/>
                  </a:lnTo>
                  <a:lnTo>
                    <a:pt x="1636" y="138"/>
                  </a:lnTo>
                  <a:lnTo>
                    <a:pt x="1623" y="138"/>
                  </a:lnTo>
                  <a:lnTo>
                    <a:pt x="1609" y="138"/>
                  </a:lnTo>
                  <a:lnTo>
                    <a:pt x="1595" y="138"/>
                  </a:lnTo>
                  <a:lnTo>
                    <a:pt x="1583" y="138"/>
                  </a:lnTo>
                  <a:lnTo>
                    <a:pt x="1563" y="138"/>
                  </a:lnTo>
                  <a:lnTo>
                    <a:pt x="1549" y="129"/>
                  </a:lnTo>
                  <a:lnTo>
                    <a:pt x="1534" y="129"/>
                  </a:lnTo>
                  <a:lnTo>
                    <a:pt x="1522" y="121"/>
                  </a:lnTo>
                  <a:lnTo>
                    <a:pt x="1509" y="121"/>
                  </a:lnTo>
                  <a:lnTo>
                    <a:pt x="1489" y="121"/>
                  </a:lnTo>
                  <a:lnTo>
                    <a:pt x="1475" y="113"/>
                  </a:lnTo>
                  <a:lnTo>
                    <a:pt x="1461" y="113"/>
                  </a:lnTo>
                  <a:lnTo>
                    <a:pt x="1448" y="113"/>
                  </a:lnTo>
                  <a:lnTo>
                    <a:pt x="1436" y="113"/>
                  </a:lnTo>
                  <a:lnTo>
                    <a:pt x="1421" y="113"/>
                  </a:lnTo>
                  <a:lnTo>
                    <a:pt x="1408" y="113"/>
                  </a:lnTo>
                  <a:lnTo>
                    <a:pt x="1395" y="113"/>
                  </a:lnTo>
                  <a:lnTo>
                    <a:pt x="1381" y="113"/>
                  </a:lnTo>
                  <a:lnTo>
                    <a:pt x="1368" y="113"/>
                  </a:lnTo>
                  <a:lnTo>
                    <a:pt x="1354" y="113"/>
                  </a:lnTo>
                  <a:lnTo>
                    <a:pt x="1340" y="113"/>
                  </a:lnTo>
                  <a:lnTo>
                    <a:pt x="1328" y="113"/>
                  </a:lnTo>
                  <a:lnTo>
                    <a:pt x="1314" y="113"/>
                  </a:lnTo>
                  <a:lnTo>
                    <a:pt x="1301" y="113"/>
                  </a:lnTo>
                  <a:lnTo>
                    <a:pt x="1286" y="113"/>
                  </a:lnTo>
                  <a:lnTo>
                    <a:pt x="1274" y="121"/>
                  </a:lnTo>
                  <a:lnTo>
                    <a:pt x="1261" y="121"/>
                  </a:lnTo>
                  <a:lnTo>
                    <a:pt x="1241" y="121"/>
                  </a:lnTo>
                  <a:lnTo>
                    <a:pt x="1226" y="129"/>
                  </a:lnTo>
                  <a:lnTo>
                    <a:pt x="1214" y="138"/>
                  </a:lnTo>
                  <a:lnTo>
                    <a:pt x="1200" y="146"/>
                  </a:lnTo>
                  <a:lnTo>
                    <a:pt x="1214" y="154"/>
                  </a:lnTo>
                  <a:lnTo>
                    <a:pt x="1226" y="154"/>
                  </a:lnTo>
                  <a:lnTo>
                    <a:pt x="1241" y="160"/>
                  </a:lnTo>
                  <a:lnTo>
                    <a:pt x="1253" y="160"/>
                  </a:lnTo>
                  <a:lnTo>
                    <a:pt x="1266" y="168"/>
                  </a:lnTo>
                  <a:lnTo>
                    <a:pt x="1280" y="177"/>
                  </a:lnTo>
                  <a:lnTo>
                    <a:pt x="1294" y="177"/>
                  </a:lnTo>
                  <a:lnTo>
                    <a:pt x="1306" y="177"/>
                  </a:lnTo>
                  <a:lnTo>
                    <a:pt x="1320" y="185"/>
                  </a:lnTo>
                  <a:lnTo>
                    <a:pt x="1335" y="193"/>
                  </a:lnTo>
                  <a:lnTo>
                    <a:pt x="1348" y="193"/>
                  </a:lnTo>
                  <a:lnTo>
                    <a:pt x="1360" y="201"/>
                  </a:lnTo>
                  <a:lnTo>
                    <a:pt x="1374" y="209"/>
                  </a:lnTo>
                  <a:lnTo>
                    <a:pt x="1388" y="218"/>
                  </a:lnTo>
                  <a:lnTo>
                    <a:pt x="1400" y="218"/>
                  </a:lnTo>
                  <a:lnTo>
                    <a:pt x="1414" y="226"/>
                  </a:lnTo>
                  <a:lnTo>
                    <a:pt x="1429" y="234"/>
                  </a:lnTo>
                  <a:lnTo>
                    <a:pt x="1440" y="242"/>
                  </a:lnTo>
                  <a:lnTo>
                    <a:pt x="1455" y="250"/>
                  </a:lnTo>
                  <a:lnTo>
                    <a:pt x="1468" y="258"/>
                  </a:lnTo>
                  <a:lnTo>
                    <a:pt x="1481" y="258"/>
                  </a:lnTo>
                  <a:lnTo>
                    <a:pt x="1495" y="266"/>
                  </a:lnTo>
                  <a:lnTo>
                    <a:pt x="1509" y="274"/>
                  </a:lnTo>
                  <a:lnTo>
                    <a:pt x="1522" y="274"/>
                  </a:lnTo>
                  <a:lnTo>
                    <a:pt x="1534" y="282"/>
                  </a:lnTo>
                  <a:lnTo>
                    <a:pt x="1549" y="282"/>
                  </a:lnTo>
                  <a:lnTo>
                    <a:pt x="1563" y="291"/>
                  </a:lnTo>
                  <a:lnTo>
                    <a:pt x="1575" y="291"/>
                  </a:lnTo>
                  <a:lnTo>
                    <a:pt x="1589" y="291"/>
                  </a:lnTo>
                  <a:lnTo>
                    <a:pt x="1603" y="299"/>
                  </a:lnTo>
                  <a:lnTo>
                    <a:pt x="1616" y="307"/>
                  </a:lnTo>
                  <a:lnTo>
                    <a:pt x="1628" y="307"/>
                  </a:lnTo>
                  <a:lnTo>
                    <a:pt x="1643" y="307"/>
                  </a:lnTo>
                  <a:lnTo>
                    <a:pt x="1657" y="307"/>
                  </a:lnTo>
                  <a:lnTo>
                    <a:pt x="1669" y="315"/>
                  </a:lnTo>
                  <a:lnTo>
                    <a:pt x="1683" y="315"/>
                  </a:lnTo>
                  <a:lnTo>
                    <a:pt x="1697" y="322"/>
                  </a:lnTo>
                  <a:lnTo>
                    <a:pt x="1710" y="338"/>
                  </a:lnTo>
                  <a:lnTo>
                    <a:pt x="1723" y="346"/>
                  </a:lnTo>
                  <a:lnTo>
                    <a:pt x="1730" y="363"/>
                  </a:lnTo>
                  <a:lnTo>
                    <a:pt x="1743" y="379"/>
                  </a:lnTo>
                  <a:lnTo>
                    <a:pt x="1751" y="395"/>
                  </a:lnTo>
                  <a:lnTo>
                    <a:pt x="1751" y="412"/>
                  </a:lnTo>
                  <a:lnTo>
                    <a:pt x="1737" y="412"/>
                  </a:lnTo>
                  <a:lnTo>
                    <a:pt x="1723" y="427"/>
                  </a:lnTo>
                  <a:lnTo>
                    <a:pt x="1710" y="435"/>
                  </a:lnTo>
                  <a:lnTo>
                    <a:pt x="1697" y="444"/>
                  </a:lnTo>
                  <a:lnTo>
                    <a:pt x="1677" y="452"/>
                  </a:lnTo>
                  <a:lnTo>
                    <a:pt x="1662" y="467"/>
                  </a:lnTo>
                  <a:lnTo>
                    <a:pt x="1650" y="477"/>
                  </a:lnTo>
                  <a:lnTo>
                    <a:pt x="1636" y="492"/>
                  </a:lnTo>
                  <a:lnTo>
                    <a:pt x="1628" y="508"/>
                  </a:lnTo>
                  <a:lnTo>
                    <a:pt x="1616" y="524"/>
                  </a:lnTo>
                  <a:lnTo>
                    <a:pt x="1603" y="540"/>
                  </a:lnTo>
                  <a:lnTo>
                    <a:pt x="1595" y="557"/>
                  </a:lnTo>
                  <a:lnTo>
                    <a:pt x="1609" y="549"/>
                  </a:lnTo>
                  <a:lnTo>
                    <a:pt x="1623" y="540"/>
                  </a:lnTo>
                  <a:lnTo>
                    <a:pt x="1636" y="532"/>
                  </a:lnTo>
                  <a:lnTo>
                    <a:pt x="1650" y="524"/>
                  </a:lnTo>
                  <a:lnTo>
                    <a:pt x="1662" y="516"/>
                  </a:lnTo>
                  <a:lnTo>
                    <a:pt x="1677" y="516"/>
                  </a:lnTo>
                  <a:lnTo>
                    <a:pt x="1689" y="508"/>
                  </a:lnTo>
                  <a:lnTo>
                    <a:pt x="1710" y="500"/>
                  </a:lnTo>
                  <a:lnTo>
                    <a:pt x="1723" y="492"/>
                  </a:lnTo>
                  <a:lnTo>
                    <a:pt x="1737" y="484"/>
                  </a:lnTo>
                  <a:lnTo>
                    <a:pt x="1751" y="484"/>
                  </a:lnTo>
                  <a:lnTo>
                    <a:pt x="1763" y="477"/>
                  </a:lnTo>
                  <a:lnTo>
                    <a:pt x="1778" y="477"/>
                  </a:lnTo>
                  <a:lnTo>
                    <a:pt x="1789" y="467"/>
                  </a:lnTo>
                  <a:lnTo>
                    <a:pt x="1804" y="467"/>
                  </a:lnTo>
                  <a:lnTo>
                    <a:pt x="1817" y="460"/>
                  </a:lnTo>
                  <a:lnTo>
                    <a:pt x="1831" y="452"/>
                  </a:lnTo>
                  <a:lnTo>
                    <a:pt x="1843" y="452"/>
                  </a:lnTo>
                  <a:lnTo>
                    <a:pt x="1857" y="452"/>
                  </a:lnTo>
                  <a:lnTo>
                    <a:pt x="1872" y="452"/>
                  </a:lnTo>
                  <a:lnTo>
                    <a:pt x="1884" y="460"/>
                  </a:lnTo>
                  <a:lnTo>
                    <a:pt x="1897" y="460"/>
                  </a:lnTo>
                  <a:lnTo>
                    <a:pt x="1911" y="460"/>
                  </a:lnTo>
                  <a:lnTo>
                    <a:pt x="1917" y="477"/>
                  </a:lnTo>
                  <a:lnTo>
                    <a:pt x="1905" y="477"/>
                  </a:lnTo>
                  <a:lnTo>
                    <a:pt x="1891" y="477"/>
                  </a:lnTo>
                  <a:lnTo>
                    <a:pt x="1877" y="477"/>
                  </a:lnTo>
                  <a:lnTo>
                    <a:pt x="1857" y="477"/>
                  </a:lnTo>
                  <a:lnTo>
                    <a:pt x="1843" y="477"/>
                  </a:lnTo>
                  <a:lnTo>
                    <a:pt x="1831" y="477"/>
                  </a:lnTo>
                  <a:lnTo>
                    <a:pt x="1817" y="477"/>
                  </a:lnTo>
                  <a:lnTo>
                    <a:pt x="1804" y="477"/>
                  </a:lnTo>
                  <a:lnTo>
                    <a:pt x="1789" y="484"/>
                  </a:lnTo>
                  <a:lnTo>
                    <a:pt x="1778" y="484"/>
                  </a:lnTo>
                  <a:lnTo>
                    <a:pt x="1763" y="484"/>
                  </a:lnTo>
                  <a:lnTo>
                    <a:pt x="1751" y="492"/>
                  </a:lnTo>
                  <a:lnTo>
                    <a:pt x="1751" y="508"/>
                  </a:lnTo>
                  <a:lnTo>
                    <a:pt x="1743" y="524"/>
                  </a:lnTo>
                  <a:lnTo>
                    <a:pt x="1751" y="540"/>
                  </a:lnTo>
                  <a:lnTo>
                    <a:pt x="1763" y="540"/>
                  </a:lnTo>
                  <a:lnTo>
                    <a:pt x="1778" y="549"/>
                  </a:lnTo>
                  <a:lnTo>
                    <a:pt x="1789" y="549"/>
                  </a:lnTo>
                  <a:lnTo>
                    <a:pt x="1804" y="557"/>
                  </a:lnTo>
                  <a:lnTo>
                    <a:pt x="1817" y="557"/>
                  </a:lnTo>
                  <a:lnTo>
                    <a:pt x="1831" y="557"/>
                  </a:lnTo>
                  <a:lnTo>
                    <a:pt x="1843" y="557"/>
                  </a:lnTo>
                  <a:lnTo>
                    <a:pt x="1857" y="557"/>
                  </a:lnTo>
                  <a:lnTo>
                    <a:pt x="1872" y="557"/>
                  </a:lnTo>
                  <a:lnTo>
                    <a:pt x="1884" y="557"/>
                  </a:lnTo>
                  <a:lnTo>
                    <a:pt x="1897" y="565"/>
                  </a:lnTo>
                  <a:lnTo>
                    <a:pt x="1911" y="565"/>
                  </a:lnTo>
                  <a:lnTo>
                    <a:pt x="1897" y="573"/>
                  </a:lnTo>
                  <a:lnTo>
                    <a:pt x="1872" y="573"/>
                  </a:lnTo>
                  <a:lnTo>
                    <a:pt x="1857" y="573"/>
                  </a:lnTo>
                  <a:lnTo>
                    <a:pt x="1837" y="573"/>
                  </a:lnTo>
                  <a:lnTo>
                    <a:pt x="1817" y="573"/>
                  </a:lnTo>
                  <a:lnTo>
                    <a:pt x="1804" y="573"/>
                  </a:lnTo>
                  <a:lnTo>
                    <a:pt x="1789" y="573"/>
                  </a:lnTo>
                  <a:lnTo>
                    <a:pt x="1771" y="573"/>
                  </a:lnTo>
                  <a:lnTo>
                    <a:pt x="1757" y="573"/>
                  </a:lnTo>
                  <a:lnTo>
                    <a:pt x="1743" y="573"/>
                  </a:lnTo>
                  <a:lnTo>
                    <a:pt x="1730" y="573"/>
                  </a:lnTo>
                  <a:lnTo>
                    <a:pt x="1710" y="565"/>
                  </a:lnTo>
                  <a:lnTo>
                    <a:pt x="1697" y="565"/>
                  </a:lnTo>
                  <a:lnTo>
                    <a:pt x="1683" y="565"/>
                  </a:lnTo>
                  <a:lnTo>
                    <a:pt x="1669" y="565"/>
                  </a:lnTo>
                  <a:lnTo>
                    <a:pt x="1657" y="565"/>
                  </a:lnTo>
                  <a:lnTo>
                    <a:pt x="1643" y="565"/>
                  </a:lnTo>
                  <a:lnTo>
                    <a:pt x="1628" y="565"/>
                  </a:lnTo>
                  <a:lnTo>
                    <a:pt x="1616" y="565"/>
                  </a:lnTo>
                  <a:lnTo>
                    <a:pt x="1603" y="565"/>
                  </a:lnTo>
                  <a:lnTo>
                    <a:pt x="1589" y="573"/>
                  </a:lnTo>
                  <a:lnTo>
                    <a:pt x="1575" y="573"/>
                  </a:lnTo>
                  <a:lnTo>
                    <a:pt x="1563" y="581"/>
                  </a:lnTo>
                  <a:lnTo>
                    <a:pt x="1549" y="590"/>
                  </a:lnTo>
                  <a:lnTo>
                    <a:pt x="1534" y="590"/>
                  </a:lnTo>
                  <a:lnTo>
                    <a:pt x="1522" y="598"/>
                  </a:lnTo>
                  <a:lnTo>
                    <a:pt x="1509" y="606"/>
                  </a:lnTo>
                  <a:lnTo>
                    <a:pt x="1495" y="606"/>
                  </a:lnTo>
                  <a:lnTo>
                    <a:pt x="1481" y="606"/>
                  </a:lnTo>
                  <a:lnTo>
                    <a:pt x="1468" y="620"/>
                  </a:lnTo>
                  <a:lnTo>
                    <a:pt x="1455" y="629"/>
                  </a:lnTo>
                  <a:lnTo>
                    <a:pt x="1440" y="645"/>
                  </a:lnTo>
                  <a:lnTo>
                    <a:pt x="1429" y="653"/>
                  </a:lnTo>
                  <a:lnTo>
                    <a:pt x="1421" y="670"/>
                  </a:lnTo>
                  <a:lnTo>
                    <a:pt x="1436" y="670"/>
                  </a:lnTo>
                  <a:lnTo>
                    <a:pt x="1448" y="661"/>
                  </a:lnTo>
                  <a:lnTo>
                    <a:pt x="1461" y="661"/>
                  </a:lnTo>
                  <a:lnTo>
                    <a:pt x="1475" y="653"/>
                  </a:lnTo>
                  <a:lnTo>
                    <a:pt x="1495" y="653"/>
                  </a:lnTo>
                  <a:lnTo>
                    <a:pt x="1515" y="645"/>
                  </a:lnTo>
                  <a:lnTo>
                    <a:pt x="1529" y="645"/>
                  </a:lnTo>
                  <a:lnTo>
                    <a:pt x="1542" y="645"/>
                  </a:lnTo>
                  <a:lnTo>
                    <a:pt x="1555" y="645"/>
                  </a:lnTo>
                  <a:lnTo>
                    <a:pt x="1575" y="645"/>
                  </a:lnTo>
                  <a:lnTo>
                    <a:pt x="1589" y="645"/>
                  </a:lnTo>
                  <a:lnTo>
                    <a:pt x="1603" y="653"/>
                  </a:lnTo>
                  <a:lnTo>
                    <a:pt x="1609" y="670"/>
                  </a:lnTo>
                  <a:lnTo>
                    <a:pt x="1623" y="678"/>
                  </a:lnTo>
                  <a:lnTo>
                    <a:pt x="1609" y="678"/>
                  </a:lnTo>
                  <a:lnTo>
                    <a:pt x="1595" y="678"/>
                  </a:lnTo>
                  <a:lnTo>
                    <a:pt x="1583" y="670"/>
                  </a:lnTo>
                  <a:lnTo>
                    <a:pt x="1555" y="670"/>
                  </a:lnTo>
                  <a:lnTo>
                    <a:pt x="1534" y="678"/>
                  </a:lnTo>
                  <a:lnTo>
                    <a:pt x="1522" y="686"/>
                  </a:lnTo>
                  <a:lnTo>
                    <a:pt x="1509" y="686"/>
                  </a:lnTo>
                  <a:lnTo>
                    <a:pt x="1495" y="694"/>
                  </a:lnTo>
                  <a:lnTo>
                    <a:pt x="1481" y="710"/>
                  </a:lnTo>
                  <a:lnTo>
                    <a:pt x="1468" y="727"/>
                  </a:lnTo>
                  <a:lnTo>
                    <a:pt x="1455" y="735"/>
                  </a:lnTo>
                  <a:lnTo>
                    <a:pt x="1448" y="751"/>
                  </a:lnTo>
                  <a:lnTo>
                    <a:pt x="1440" y="767"/>
                  </a:lnTo>
                  <a:lnTo>
                    <a:pt x="1455" y="767"/>
                  </a:lnTo>
                  <a:lnTo>
                    <a:pt x="1468" y="767"/>
                  </a:lnTo>
                  <a:lnTo>
                    <a:pt x="1481" y="767"/>
                  </a:lnTo>
                  <a:lnTo>
                    <a:pt x="1495" y="767"/>
                  </a:lnTo>
                  <a:lnTo>
                    <a:pt x="1509" y="767"/>
                  </a:lnTo>
                  <a:lnTo>
                    <a:pt x="1522" y="767"/>
                  </a:lnTo>
                  <a:lnTo>
                    <a:pt x="1534" y="767"/>
                  </a:lnTo>
                  <a:lnTo>
                    <a:pt x="1549" y="767"/>
                  </a:lnTo>
                  <a:lnTo>
                    <a:pt x="1563" y="767"/>
                  </a:lnTo>
                  <a:lnTo>
                    <a:pt x="1575" y="767"/>
                  </a:lnTo>
                  <a:lnTo>
                    <a:pt x="1555" y="776"/>
                  </a:lnTo>
                  <a:lnTo>
                    <a:pt x="1542" y="776"/>
                  </a:lnTo>
                  <a:lnTo>
                    <a:pt x="1529" y="790"/>
                  </a:lnTo>
                  <a:lnTo>
                    <a:pt x="1495" y="799"/>
                  </a:lnTo>
                  <a:lnTo>
                    <a:pt x="1481" y="807"/>
                  </a:lnTo>
                  <a:lnTo>
                    <a:pt x="1468" y="823"/>
                  </a:lnTo>
                  <a:lnTo>
                    <a:pt x="1455" y="831"/>
                  </a:lnTo>
                  <a:lnTo>
                    <a:pt x="1440" y="847"/>
                  </a:lnTo>
                  <a:lnTo>
                    <a:pt x="1429" y="872"/>
                  </a:lnTo>
                  <a:lnTo>
                    <a:pt x="1414" y="888"/>
                  </a:lnTo>
                  <a:lnTo>
                    <a:pt x="1408" y="912"/>
                  </a:lnTo>
                  <a:lnTo>
                    <a:pt x="1400" y="929"/>
                  </a:lnTo>
                  <a:lnTo>
                    <a:pt x="1414" y="929"/>
                  </a:lnTo>
                  <a:lnTo>
                    <a:pt x="1429" y="919"/>
                  </a:lnTo>
                  <a:lnTo>
                    <a:pt x="1448" y="905"/>
                  </a:lnTo>
                  <a:lnTo>
                    <a:pt x="1461" y="896"/>
                  </a:lnTo>
                  <a:lnTo>
                    <a:pt x="1481" y="888"/>
                  </a:lnTo>
                  <a:lnTo>
                    <a:pt x="1495" y="879"/>
                  </a:lnTo>
                  <a:lnTo>
                    <a:pt x="1509" y="879"/>
                  </a:lnTo>
                  <a:lnTo>
                    <a:pt x="1522" y="879"/>
                  </a:lnTo>
                  <a:lnTo>
                    <a:pt x="1542" y="872"/>
                  </a:lnTo>
                  <a:lnTo>
                    <a:pt x="1555" y="872"/>
                  </a:lnTo>
                  <a:lnTo>
                    <a:pt x="1534" y="888"/>
                  </a:lnTo>
                  <a:lnTo>
                    <a:pt x="1509" y="896"/>
                  </a:lnTo>
                  <a:lnTo>
                    <a:pt x="1495" y="912"/>
                  </a:lnTo>
                  <a:lnTo>
                    <a:pt x="1475" y="929"/>
                  </a:lnTo>
                  <a:lnTo>
                    <a:pt x="1461" y="944"/>
                  </a:lnTo>
                  <a:lnTo>
                    <a:pt x="1448" y="960"/>
                  </a:lnTo>
                  <a:lnTo>
                    <a:pt x="1436" y="985"/>
                  </a:lnTo>
                  <a:lnTo>
                    <a:pt x="1429" y="1000"/>
                  </a:lnTo>
                  <a:lnTo>
                    <a:pt x="1421" y="1017"/>
                  </a:lnTo>
                  <a:lnTo>
                    <a:pt x="1421" y="1033"/>
                  </a:lnTo>
                  <a:lnTo>
                    <a:pt x="1414" y="1050"/>
                  </a:lnTo>
                  <a:lnTo>
                    <a:pt x="1429" y="1050"/>
                  </a:lnTo>
                  <a:lnTo>
                    <a:pt x="1440" y="1041"/>
                  </a:lnTo>
                  <a:lnTo>
                    <a:pt x="1468" y="1033"/>
                  </a:lnTo>
                  <a:lnTo>
                    <a:pt x="1489" y="1025"/>
                  </a:lnTo>
                  <a:lnTo>
                    <a:pt x="1515" y="1008"/>
                  </a:lnTo>
                  <a:lnTo>
                    <a:pt x="1542" y="1000"/>
                  </a:lnTo>
                  <a:lnTo>
                    <a:pt x="1563" y="993"/>
                  </a:lnTo>
                  <a:lnTo>
                    <a:pt x="1575" y="993"/>
                  </a:lnTo>
                  <a:lnTo>
                    <a:pt x="1569" y="1008"/>
                  </a:lnTo>
                  <a:lnTo>
                    <a:pt x="1549" y="1025"/>
                  </a:lnTo>
                  <a:lnTo>
                    <a:pt x="1522" y="1050"/>
                  </a:lnTo>
                  <a:lnTo>
                    <a:pt x="1509" y="1058"/>
                  </a:lnTo>
                  <a:lnTo>
                    <a:pt x="1495" y="1074"/>
                  </a:lnTo>
                  <a:lnTo>
                    <a:pt x="1481" y="1074"/>
                  </a:lnTo>
                  <a:lnTo>
                    <a:pt x="1475" y="1089"/>
                  </a:lnTo>
                  <a:lnTo>
                    <a:pt x="1455" y="1105"/>
                  </a:lnTo>
                  <a:lnTo>
                    <a:pt x="1436" y="1122"/>
                  </a:lnTo>
                  <a:lnTo>
                    <a:pt x="1414" y="1138"/>
                  </a:lnTo>
                  <a:lnTo>
                    <a:pt x="1400" y="1155"/>
                  </a:lnTo>
                  <a:lnTo>
                    <a:pt x="1414" y="1155"/>
                  </a:lnTo>
                  <a:lnTo>
                    <a:pt x="1429" y="1146"/>
                  </a:lnTo>
                  <a:lnTo>
                    <a:pt x="1448" y="1138"/>
                  </a:lnTo>
                  <a:lnTo>
                    <a:pt x="1475" y="1130"/>
                  </a:lnTo>
                  <a:lnTo>
                    <a:pt x="1495" y="1122"/>
                  </a:lnTo>
                  <a:lnTo>
                    <a:pt x="1509" y="1122"/>
                  </a:lnTo>
                  <a:lnTo>
                    <a:pt x="1522" y="1122"/>
                  </a:lnTo>
                  <a:lnTo>
                    <a:pt x="1509" y="1130"/>
                  </a:lnTo>
                  <a:lnTo>
                    <a:pt x="1495" y="1138"/>
                  </a:lnTo>
                  <a:lnTo>
                    <a:pt x="1481" y="1155"/>
                  </a:lnTo>
                  <a:lnTo>
                    <a:pt x="1468" y="1171"/>
                  </a:lnTo>
                  <a:lnTo>
                    <a:pt x="1455" y="1178"/>
                  </a:lnTo>
                  <a:lnTo>
                    <a:pt x="1440" y="1194"/>
                  </a:lnTo>
                  <a:lnTo>
                    <a:pt x="1421" y="1211"/>
                  </a:lnTo>
                  <a:lnTo>
                    <a:pt x="1408" y="1226"/>
                  </a:lnTo>
                  <a:lnTo>
                    <a:pt x="1395" y="1243"/>
                  </a:lnTo>
                  <a:lnTo>
                    <a:pt x="1381" y="1259"/>
                  </a:lnTo>
                  <a:lnTo>
                    <a:pt x="1368" y="1267"/>
                  </a:lnTo>
                  <a:lnTo>
                    <a:pt x="1354" y="1283"/>
                  </a:lnTo>
                  <a:lnTo>
                    <a:pt x="1340" y="1291"/>
                  </a:lnTo>
                  <a:lnTo>
                    <a:pt x="1320" y="1299"/>
                  </a:lnTo>
                  <a:lnTo>
                    <a:pt x="1340" y="1299"/>
                  </a:lnTo>
                  <a:lnTo>
                    <a:pt x="1354" y="1283"/>
                  </a:lnTo>
                  <a:lnTo>
                    <a:pt x="1374" y="1275"/>
                  </a:lnTo>
                  <a:lnTo>
                    <a:pt x="1388" y="1267"/>
                  </a:lnTo>
                  <a:lnTo>
                    <a:pt x="1400" y="1259"/>
                  </a:lnTo>
                  <a:lnTo>
                    <a:pt x="1414" y="1259"/>
                  </a:lnTo>
                  <a:lnTo>
                    <a:pt x="1429" y="1251"/>
                  </a:lnTo>
                  <a:lnTo>
                    <a:pt x="1440" y="1251"/>
                  </a:lnTo>
                  <a:lnTo>
                    <a:pt x="1455" y="1243"/>
                  </a:lnTo>
                  <a:lnTo>
                    <a:pt x="1461" y="1234"/>
                  </a:lnTo>
                  <a:lnTo>
                    <a:pt x="1448" y="1251"/>
                  </a:lnTo>
                  <a:lnTo>
                    <a:pt x="1436" y="1251"/>
                  </a:lnTo>
                  <a:lnTo>
                    <a:pt x="1421" y="1259"/>
                  </a:lnTo>
                  <a:lnTo>
                    <a:pt x="1408" y="1267"/>
                  </a:lnTo>
                  <a:lnTo>
                    <a:pt x="1395" y="1275"/>
                  </a:lnTo>
                  <a:lnTo>
                    <a:pt x="1381" y="1283"/>
                  </a:lnTo>
                  <a:lnTo>
                    <a:pt x="1374" y="1299"/>
                  </a:lnTo>
                  <a:lnTo>
                    <a:pt x="1360" y="1308"/>
                  </a:lnTo>
                  <a:lnTo>
                    <a:pt x="1348" y="1316"/>
                  </a:lnTo>
                  <a:lnTo>
                    <a:pt x="1335" y="1316"/>
                  </a:lnTo>
                  <a:lnTo>
                    <a:pt x="1320" y="1324"/>
                  </a:lnTo>
                  <a:lnTo>
                    <a:pt x="1306" y="1332"/>
                  </a:lnTo>
                  <a:lnTo>
                    <a:pt x="1286" y="1340"/>
                  </a:lnTo>
                  <a:lnTo>
                    <a:pt x="1274" y="1340"/>
                  </a:lnTo>
                  <a:lnTo>
                    <a:pt x="1261" y="1349"/>
                  </a:lnTo>
                  <a:lnTo>
                    <a:pt x="1246" y="1357"/>
                  </a:lnTo>
                  <a:lnTo>
                    <a:pt x="1246" y="1371"/>
                  </a:lnTo>
                  <a:lnTo>
                    <a:pt x="1261" y="1371"/>
                  </a:lnTo>
                  <a:lnTo>
                    <a:pt x="1274" y="1379"/>
                  </a:lnTo>
                  <a:lnTo>
                    <a:pt x="1286" y="1379"/>
                  </a:lnTo>
                  <a:lnTo>
                    <a:pt x="1301" y="1379"/>
                  </a:lnTo>
                  <a:lnTo>
                    <a:pt x="1314" y="1379"/>
                  </a:lnTo>
                  <a:lnTo>
                    <a:pt x="1301" y="1379"/>
                  </a:lnTo>
                  <a:lnTo>
                    <a:pt x="1286" y="1390"/>
                  </a:lnTo>
                  <a:lnTo>
                    <a:pt x="1274" y="1390"/>
                  </a:lnTo>
                  <a:lnTo>
                    <a:pt x="1261" y="1404"/>
                  </a:lnTo>
                  <a:lnTo>
                    <a:pt x="1246" y="1412"/>
                  </a:lnTo>
                  <a:lnTo>
                    <a:pt x="1226" y="1420"/>
                  </a:lnTo>
                  <a:lnTo>
                    <a:pt x="1207" y="1437"/>
                  </a:lnTo>
                  <a:lnTo>
                    <a:pt x="1186" y="1445"/>
                  </a:lnTo>
                  <a:lnTo>
                    <a:pt x="1167" y="1452"/>
                  </a:lnTo>
                  <a:lnTo>
                    <a:pt x="1146" y="1461"/>
                  </a:lnTo>
                  <a:lnTo>
                    <a:pt x="1126" y="1469"/>
                  </a:lnTo>
                  <a:lnTo>
                    <a:pt x="1106" y="1469"/>
                  </a:lnTo>
                  <a:lnTo>
                    <a:pt x="1092" y="1478"/>
                  </a:lnTo>
                  <a:lnTo>
                    <a:pt x="1080" y="1485"/>
                  </a:lnTo>
                  <a:lnTo>
                    <a:pt x="1066" y="1485"/>
                  </a:lnTo>
                  <a:lnTo>
                    <a:pt x="1066" y="1502"/>
                  </a:lnTo>
                  <a:lnTo>
                    <a:pt x="1087" y="1518"/>
                  </a:lnTo>
                  <a:lnTo>
                    <a:pt x="1099" y="1518"/>
                  </a:lnTo>
                  <a:lnTo>
                    <a:pt x="1113" y="1518"/>
                  </a:lnTo>
                  <a:lnTo>
                    <a:pt x="1106" y="1541"/>
                  </a:lnTo>
                  <a:lnTo>
                    <a:pt x="1092" y="1549"/>
                  </a:lnTo>
                  <a:lnTo>
                    <a:pt x="1072" y="1566"/>
                  </a:lnTo>
                  <a:lnTo>
                    <a:pt x="1046" y="1590"/>
                  </a:lnTo>
                  <a:lnTo>
                    <a:pt x="1032" y="1598"/>
                  </a:lnTo>
                  <a:lnTo>
                    <a:pt x="1019" y="1598"/>
                  </a:lnTo>
                  <a:lnTo>
                    <a:pt x="1005" y="1606"/>
                  </a:lnTo>
                  <a:lnTo>
                    <a:pt x="1019" y="1615"/>
                  </a:lnTo>
                  <a:lnTo>
                    <a:pt x="1032" y="1615"/>
                  </a:lnTo>
                  <a:lnTo>
                    <a:pt x="1046" y="1615"/>
                  </a:lnTo>
                  <a:lnTo>
                    <a:pt x="1046" y="1630"/>
                  </a:lnTo>
                  <a:lnTo>
                    <a:pt x="1032" y="1638"/>
                  </a:lnTo>
                  <a:lnTo>
                    <a:pt x="1012" y="1656"/>
                  </a:lnTo>
                  <a:lnTo>
                    <a:pt x="998" y="1663"/>
                  </a:lnTo>
                  <a:lnTo>
                    <a:pt x="978" y="1671"/>
                  </a:lnTo>
                  <a:lnTo>
                    <a:pt x="964" y="1678"/>
                  </a:lnTo>
                  <a:lnTo>
                    <a:pt x="952" y="1688"/>
                  </a:lnTo>
                  <a:lnTo>
                    <a:pt x="938" y="1695"/>
                  </a:lnTo>
                  <a:lnTo>
                    <a:pt x="925" y="1703"/>
                  </a:lnTo>
                  <a:lnTo>
                    <a:pt x="904" y="1711"/>
                  </a:lnTo>
                  <a:lnTo>
                    <a:pt x="877" y="1728"/>
                  </a:lnTo>
                  <a:lnTo>
                    <a:pt x="866" y="1736"/>
                  </a:lnTo>
                  <a:lnTo>
                    <a:pt x="837" y="1744"/>
                  </a:lnTo>
                  <a:lnTo>
                    <a:pt x="817" y="1759"/>
                  </a:lnTo>
                  <a:lnTo>
                    <a:pt x="797" y="1768"/>
                  </a:lnTo>
                  <a:lnTo>
                    <a:pt x="783" y="1776"/>
                  </a:lnTo>
                  <a:lnTo>
                    <a:pt x="750" y="1784"/>
                  </a:lnTo>
                  <a:lnTo>
                    <a:pt x="737" y="1792"/>
                  </a:lnTo>
                  <a:lnTo>
                    <a:pt x="723" y="1801"/>
                  </a:lnTo>
                  <a:lnTo>
                    <a:pt x="710" y="1801"/>
                  </a:lnTo>
                  <a:lnTo>
                    <a:pt x="690" y="1809"/>
                  </a:lnTo>
                  <a:lnTo>
                    <a:pt x="676" y="1817"/>
                  </a:lnTo>
                  <a:lnTo>
                    <a:pt x="663" y="1817"/>
                  </a:lnTo>
                  <a:lnTo>
                    <a:pt x="649" y="1817"/>
                  </a:lnTo>
                  <a:lnTo>
                    <a:pt x="649" y="1833"/>
                  </a:lnTo>
                  <a:lnTo>
                    <a:pt x="663" y="1833"/>
                  </a:lnTo>
                  <a:lnTo>
                    <a:pt x="649" y="1840"/>
                  </a:lnTo>
                  <a:lnTo>
                    <a:pt x="629" y="1848"/>
                  </a:lnTo>
                  <a:lnTo>
                    <a:pt x="608" y="1856"/>
                  </a:lnTo>
                  <a:lnTo>
                    <a:pt x="597" y="1856"/>
                  </a:lnTo>
                  <a:lnTo>
                    <a:pt x="582" y="1864"/>
                  </a:lnTo>
                  <a:lnTo>
                    <a:pt x="569" y="1864"/>
                  </a:lnTo>
                  <a:lnTo>
                    <a:pt x="556" y="1872"/>
                  </a:lnTo>
                  <a:lnTo>
                    <a:pt x="543" y="1881"/>
                  </a:lnTo>
                  <a:lnTo>
                    <a:pt x="522" y="1889"/>
                  </a:lnTo>
                  <a:lnTo>
                    <a:pt x="502" y="1905"/>
                  </a:lnTo>
                  <a:lnTo>
                    <a:pt x="488" y="1913"/>
                  </a:lnTo>
                  <a:lnTo>
                    <a:pt x="475" y="1922"/>
                  </a:lnTo>
                  <a:lnTo>
                    <a:pt x="462" y="1937"/>
                  </a:lnTo>
                  <a:lnTo>
                    <a:pt x="448" y="1945"/>
                  </a:lnTo>
                  <a:lnTo>
                    <a:pt x="462" y="1945"/>
                  </a:lnTo>
                  <a:lnTo>
                    <a:pt x="475" y="1945"/>
                  </a:lnTo>
                  <a:lnTo>
                    <a:pt x="462" y="1937"/>
                  </a:lnTo>
                  <a:lnTo>
                    <a:pt x="442" y="1929"/>
                  </a:lnTo>
                  <a:lnTo>
                    <a:pt x="428" y="1929"/>
                  </a:lnTo>
                  <a:lnTo>
                    <a:pt x="408" y="1929"/>
                  </a:lnTo>
                  <a:lnTo>
                    <a:pt x="393" y="1929"/>
                  </a:lnTo>
                  <a:lnTo>
                    <a:pt x="374" y="1929"/>
                  </a:lnTo>
                  <a:lnTo>
                    <a:pt x="360" y="1937"/>
                  </a:lnTo>
                  <a:lnTo>
                    <a:pt x="340" y="1937"/>
                  </a:lnTo>
                  <a:lnTo>
                    <a:pt x="314" y="1945"/>
                  </a:lnTo>
                  <a:lnTo>
                    <a:pt x="300" y="1954"/>
                  </a:lnTo>
                  <a:lnTo>
                    <a:pt x="287" y="1954"/>
                  </a:lnTo>
                  <a:lnTo>
                    <a:pt x="274" y="1962"/>
                  </a:lnTo>
                  <a:lnTo>
                    <a:pt x="260" y="1962"/>
                  </a:lnTo>
                  <a:lnTo>
                    <a:pt x="246" y="1962"/>
                  </a:lnTo>
                  <a:lnTo>
                    <a:pt x="226" y="1962"/>
                  </a:lnTo>
                  <a:lnTo>
                    <a:pt x="214" y="1962"/>
                  </a:lnTo>
                  <a:lnTo>
                    <a:pt x="201" y="1962"/>
                  </a:lnTo>
                  <a:lnTo>
                    <a:pt x="186" y="1962"/>
                  </a:lnTo>
                  <a:lnTo>
                    <a:pt x="173" y="1962"/>
                  </a:lnTo>
                  <a:lnTo>
                    <a:pt x="153" y="1962"/>
                  </a:lnTo>
                  <a:lnTo>
                    <a:pt x="133" y="1962"/>
                  </a:lnTo>
                  <a:lnTo>
                    <a:pt x="120" y="1962"/>
                  </a:lnTo>
                  <a:lnTo>
                    <a:pt x="105" y="1970"/>
                  </a:lnTo>
                  <a:lnTo>
                    <a:pt x="93" y="1995"/>
                  </a:lnTo>
                  <a:lnTo>
                    <a:pt x="79" y="2010"/>
                  </a:lnTo>
                  <a:lnTo>
                    <a:pt x="66" y="2010"/>
                  </a:lnTo>
                  <a:lnTo>
                    <a:pt x="51" y="2010"/>
                  </a:lnTo>
                  <a:lnTo>
                    <a:pt x="30" y="2025"/>
                  </a:lnTo>
                  <a:lnTo>
                    <a:pt x="0" y="2045"/>
                  </a:lnTo>
                  <a:lnTo>
                    <a:pt x="2160" y="2048"/>
                  </a:lnTo>
                  <a:lnTo>
                    <a:pt x="2160" y="0"/>
                  </a:lnTo>
                  <a:lnTo>
                    <a:pt x="2126" y="39"/>
                  </a:lnTo>
                  <a:lnTo>
                    <a:pt x="2112" y="39"/>
                  </a:lnTo>
                  <a:lnTo>
                    <a:pt x="2098" y="39"/>
                  </a:lnTo>
                  <a:lnTo>
                    <a:pt x="2086" y="39"/>
                  </a:lnTo>
                  <a:lnTo>
                    <a:pt x="2072" y="32"/>
                  </a:lnTo>
                  <a:lnTo>
                    <a:pt x="2046" y="48"/>
                  </a:lnTo>
                  <a:lnTo>
                    <a:pt x="2032" y="65"/>
                  </a:lnTo>
                  <a:lnTo>
                    <a:pt x="2018" y="72"/>
                  </a:lnTo>
                  <a:lnTo>
                    <a:pt x="1992" y="72"/>
                  </a:lnTo>
                  <a:lnTo>
                    <a:pt x="1965" y="72"/>
                  </a:lnTo>
                  <a:lnTo>
                    <a:pt x="1951" y="72"/>
                  </a:lnTo>
                  <a:lnTo>
                    <a:pt x="1931" y="65"/>
                  </a:lnTo>
                  <a:lnTo>
                    <a:pt x="1917" y="65"/>
                  </a:lnTo>
                  <a:lnTo>
                    <a:pt x="1905" y="65"/>
                  </a:lnTo>
                  <a:lnTo>
                    <a:pt x="1891" y="56"/>
                  </a:lnTo>
                  <a:lnTo>
                    <a:pt x="1877" y="56"/>
                  </a:lnTo>
                  <a:lnTo>
                    <a:pt x="1864" y="56"/>
                  </a:lnTo>
                  <a:lnTo>
                    <a:pt x="1851" y="56"/>
                  </a:lnTo>
                  <a:lnTo>
                    <a:pt x="1831" y="65"/>
                  </a:lnTo>
                  <a:lnTo>
                    <a:pt x="1817" y="65"/>
                  </a:lnTo>
                  <a:lnTo>
                    <a:pt x="1804" y="80"/>
                  </a:lnTo>
                  <a:lnTo>
                    <a:pt x="1789" y="88"/>
                  </a:lnTo>
                  <a:lnTo>
                    <a:pt x="1778" y="97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376760" y="2820960"/>
              <a:ext cx="246240" cy="64080"/>
            </a:xfrm>
            <a:custGeom>
              <a:avLst/>
              <a:gdLst/>
              <a:ahLst/>
              <a:rect l="l" t="t" r="r" b="b"/>
              <a:pathLst>
                <a:path w="436" h="98">
                  <a:moveTo>
                    <a:pt x="436" y="90"/>
                  </a:moveTo>
                  <a:lnTo>
                    <a:pt x="424" y="74"/>
                  </a:lnTo>
                  <a:lnTo>
                    <a:pt x="410" y="74"/>
                  </a:lnTo>
                  <a:lnTo>
                    <a:pt x="396" y="74"/>
                  </a:lnTo>
                  <a:lnTo>
                    <a:pt x="370" y="74"/>
                  </a:lnTo>
                  <a:lnTo>
                    <a:pt x="355" y="74"/>
                  </a:lnTo>
                  <a:lnTo>
                    <a:pt x="343" y="74"/>
                  </a:lnTo>
                  <a:lnTo>
                    <a:pt x="330" y="74"/>
                  </a:lnTo>
                  <a:lnTo>
                    <a:pt x="322" y="90"/>
                  </a:lnTo>
                  <a:lnTo>
                    <a:pt x="310" y="90"/>
                  </a:lnTo>
                  <a:lnTo>
                    <a:pt x="295" y="90"/>
                  </a:lnTo>
                  <a:lnTo>
                    <a:pt x="281" y="90"/>
                  </a:lnTo>
                  <a:lnTo>
                    <a:pt x="269" y="82"/>
                  </a:lnTo>
                  <a:lnTo>
                    <a:pt x="255" y="82"/>
                  </a:lnTo>
                  <a:lnTo>
                    <a:pt x="242" y="90"/>
                  </a:lnTo>
                  <a:lnTo>
                    <a:pt x="228" y="90"/>
                  </a:lnTo>
                  <a:lnTo>
                    <a:pt x="216" y="90"/>
                  </a:lnTo>
                  <a:lnTo>
                    <a:pt x="201" y="82"/>
                  </a:lnTo>
                  <a:lnTo>
                    <a:pt x="187" y="74"/>
                  </a:lnTo>
                  <a:lnTo>
                    <a:pt x="175" y="74"/>
                  </a:lnTo>
                  <a:lnTo>
                    <a:pt x="142" y="57"/>
                  </a:lnTo>
                  <a:lnTo>
                    <a:pt x="127" y="65"/>
                  </a:lnTo>
                  <a:lnTo>
                    <a:pt x="127" y="49"/>
                  </a:lnTo>
                  <a:lnTo>
                    <a:pt x="93" y="25"/>
                  </a:lnTo>
                  <a:lnTo>
                    <a:pt x="61" y="8"/>
                  </a:lnTo>
                  <a:lnTo>
                    <a:pt x="54" y="25"/>
                  </a:lnTo>
                  <a:lnTo>
                    <a:pt x="41" y="25"/>
                  </a:lnTo>
                  <a:lnTo>
                    <a:pt x="28" y="25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13" y="8"/>
                  </a:lnTo>
                  <a:lnTo>
                    <a:pt x="28" y="0"/>
                  </a:lnTo>
                  <a:lnTo>
                    <a:pt x="41" y="0"/>
                  </a:lnTo>
                  <a:lnTo>
                    <a:pt x="54" y="8"/>
                  </a:lnTo>
                  <a:lnTo>
                    <a:pt x="67" y="8"/>
                  </a:lnTo>
                  <a:lnTo>
                    <a:pt x="81" y="0"/>
                  </a:lnTo>
                  <a:lnTo>
                    <a:pt x="93" y="0"/>
                  </a:lnTo>
                  <a:lnTo>
                    <a:pt x="107" y="0"/>
                  </a:lnTo>
                  <a:lnTo>
                    <a:pt x="122" y="8"/>
                  </a:lnTo>
                  <a:lnTo>
                    <a:pt x="134" y="16"/>
                  </a:lnTo>
                  <a:lnTo>
                    <a:pt x="148" y="25"/>
                  </a:lnTo>
                  <a:lnTo>
                    <a:pt x="161" y="25"/>
                  </a:lnTo>
                  <a:lnTo>
                    <a:pt x="175" y="25"/>
                  </a:lnTo>
                  <a:lnTo>
                    <a:pt x="187" y="33"/>
                  </a:lnTo>
                  <a:lnTo>
                    <a:pt x="201" y="33"/>
                  </a:lnTo>
                  <a:lnTo>
                    <a:pt x="216" y="41"/>
                  </a:lnTo>
                  <a:lnTo>
                    <a:pt x="228" y="49"/>
                  </a:lnTo>
                  <a:lnTo>
                    <a:pt x="242" y="49"/>
                  </a:lnTo>
                  <a:lnTo>
                    <a:pt x="255" y="57"/>
                  </a:lnTo>
                  <a:lnTo>
                    <a:pt x="269" y="57"/>
                  </a:lnTo>
                  <a:lnTo>
                    <a:pt x="302" y="65"/>
                  </a:lnTo>
                  <a:lnTo>
                    <a:pt x="330" y="98"/>
                  </a:lnTo>
                  <a:lnTo>
                    <a:pt x="343" y="98"/>
                  </a:lnTo>
                  <a:lnTo>
                    <a:pt x="355" y="98"/>
                  </a:lnTo>
                  <a:lnTo>
                    <a:pt x="370" y="90"/>
                  </a:lnTo>
                  <a:lnTo>
                    <a:pt x="383" y="9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182360" y="2931120"/>
              <a:ext cx="293400" cy="183600"/>
            </a:xfrm>
            <a:custGeom>
              <a:avLst/>
              <a:gdLst/>
              <a:ahLst/>
              <a:rect l="l" t="t" r="r" b="b"/>
              <a:pathLst>
                <a:path w="517" h="284">
                  <a:moveTo>
                    <a:pt x="517" y="9"/>
                  </a:moveTo>
                  <a:lnTo>
                    <a:pt x="503" y="9"/>
                  </a:lnTo>
                  <a:lnTo>
                    <a:pt x="490" y="17"/>
                  </a:lnTo>
                  <a:lnTo>
                    <a:pt x="477" y="17"/>
                  </a:lnTo>
                  <a:lnTo>
                    <a:pt x="463" y="24"/>
                  </a:lnTo>
                  <a:lnTo>
                    <a:pt x="449" y="24"/>
                  </a:lnTo>
                  <a:lnTo>
                    <a:pt x="437" y="24"/>
                  </a:lnTo>
                  <a:lnTo>
                    <a:pt x="423" y="24"/>
                  </a:lnTo>
                  <a:lnTo>
                    <a:pt x="410" y="17"/>
                  </a:lnTo>
                  <a:lnTo>
                    <a:pt x="396" y="9"/>
                  </a:lnTo>
                  <a:lnTo>
                    <a:pt x="383" y="9"/>
                  </a:lnTo>
                  <a:lnTo>
                    <a:pt x="370" y="0"/>
                  </a:lnTo>
                  <a:lnTo>
                    <a:pt x="356" y="0"/>
                  </a:lnTo>
                  <a:lnTo>
                    <a:pt x="342" y="0"/>
                  </a:lnTo>
                  <a:lnTo>
                    <a:pt x="329" y="0"/>
                  </a:lnTo>
                  <a:lnTo>
                    <a:pt x="316" y="0"/>
                  </a:lnTo>
                  <a:lnTo>
                    <a:pt x="302" y="9"/>
                  </a:lnTo>
                  <a:lnTo>
                    <a:pt x="289" y="24"/>
                  </a:lnTo>
                  <a:lnTo>
                    <a:pt x="276" y="32"/>
                  </a:lnTo>
                  <a:lnTo>
                    <a:pt x="262" y="41"/>
                  </a:lnTo>
                  <a:lnTo>
                    <a:pt x="248" y="41"/>
                  </a:lnTo>
                  <a:lnTo>
                    <a:pt x="235" y="50"/>
                  </a:lnTo>
                  <a:lnTo>
                    <a:pt x="222" y="58"/>
                  </a:lnTo>
                  <a:lnTo>
                    <a:pt x="208" y="65"/>
                  </a:lnTo>
                  <a:lnTo>
                    <a:pt x="195" y="73"/>
                  </a:lnTo>
                  <a:lnTo>
                    <a:pt x="182" y="81"/>
                  </a:lnTo>
                  <a:lnTo>
                    <a:pt x="168" y="90"/>
                  </a:lnTo>
                  <a:lnTo>
                    <a:pt x="154" y="98"/>
                  </a:lnTo>
                  <a:lnTo>
                    <a:pt x="141" y="114"/>
                  </a:lnTo>
                  <a:lnTo>
                    <a:pt x="128" y="122"/>
                  </a:lnTo>
                  <a:lnTo>
                    <a:pt x="115" y="131"/>
                  </a:lnTo>
                  <a:lnTo>
                    <a:pt x="108" y="146"/>
                  </a:lnTo>
                  <a:lnTo>
                    <a:pt x="94" y="154"/>
                  </a:lnTo>
                  <a:lnTo>
                    <a:pt x="89" y="170"/>
                  </a:lnTo>
                  <a:lnTo>
                    <a:pt x="74" y="186"/>
                  </a:lnTo>
                  <a:lnTo>
                    <a:pt x="48" y="203"/>
                  </a:lnTo>
                  <a:lnTo>
                    <a:pt x="48" y="236"/>
                  </a:lnTo>
                  <a:lnTo>
                    <a:pt x="34" y="243"/>
                  </a:lnTo>
                  <a:lnTo>
                    <a:pt x="28" y="260"/>
                  </a:lnTo>
                  <a:lnTo>
                    <a:pt x="14" y="276"/>
                  </a:lnTo>
                  <a:lnTo>
                    <a:pt x="0" y="284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06200" y="2791440"/>
              <a:ext cx="318960" cy="61920"/>
            </a:xfrm>
            <a:custGeom>
              <a:avLst/>
              <a:gdLst/>
              <a:ahLst/>
              <a:rect l="l" t="t" r="r" b="b"/>
              <a:pathLst>
                <a:path w="568" h="95">
                  <a:moveTo>
                    <a:pt x="0" y="7"/>
                  </a:moveTo>
                  <a:lnTo>
                    <a:pt x="12" y="7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3" y="7"/>
                  </a:lnTo>
                  <a:lnTo>
                    <a:pt x="65" y="7"/>
                  </a:lnTo>
                  <a:lnTo>
                    <a:pt x="80" y="7"/>
                  </a:lnTo>
                  <a:lnTo>
                    <a:pt x="94" y="7"/>
                  </a:lnTo>
                  <a:lnTo>
                    <a:pt x="105" y="7"/>
                  </a:lnTo>
                  <a:lnTo>
                    <a:pt x="120" y="7"/>
                  </a:lnTo>
                  <a:lnTo>
                    <a:pt x="133" y="7"/>
                  </a:lnTo>
                  <a:lnTo>
                    <a:pt x="146" y="7"/>
                  </a:lnTo>
                  <a:lnTo>
                    <a:pt x="159" y="7"/>
                  </a:lnTo>
                  <a:lnTo>
                    <a:pt x="174" y="7"/>
                  </a:lnTo>
                  <a:lnTo>
                    <a:pt x="187" y="15"/>
                  </a:lnTo>
                  <a:lnTo>
                    <a:pt x="199" y="15"/>
                  </a:lnTo>
                  <a:lnTo>
                    <a:pt x="214" y="15"/>
                  </a:lnTo>
                  <a:lnTo>
                    <a:pt x="240" y="15"/>
                  </a:lnTo>
                  <a:lnTo>
                    <a:pt x="267" y="15"/>
                  </a:lnTo>
                  <a:lnTo>
                    <a:pt x="293" y="15"/>
                  </a:lnTo>
                  <a:lnTo>
                    <a:pt x="308" y="15"/>
                  </a:lnTo>
                  <a:lnTo>
                    <a:pt x="334" y="15"/>
                  </a:lnTo>
                  <a:lnTo>
                    <a:pt x="347" y="15"/>
                  </a:lnTo>
                  <a:lnTo>
                    <a:pt x="361" y="15"/>
                  </a:lnTo>
                  <a:lnTo>
                    <a:pt x="375" y="15"/>
                  </a:lnTo>
                  <a:lnTo>
                    <a:pt x="407" y="32"/>
                  </a:lnTo>
                  <a:lnTo>
                    <a:pt x="436" y="48"/>
                  </a:lnTo>
                  <a:lnTo>
                    <a:pt x="436" y="80"/>
                  </a:lnTo>
                  <a:lnTo>
                    <a:pt x="447" y="80"/>
                  </a:lnTo>
                  <a:lnTo>
                    <a:pt x="462" y="80"/>
                  </a:lnTo>
                  <a:lnTo>
                    <a:pt x="475" y="80"/>
                  </a:lnTo>
                  <a:lnTo>
                    <a:pt x="488" y="80"/>
                  </a:lnTo>
                  <a:lnTo>
                    <a:pt x="502" y="88"/>
                  </a:lnTo>
                  <a:lnTo>
                    <a:pt x="515" y="95"/>
                  </a:lnTo>
                  <a:lnTo>
                    <a:pt x="568" y="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25360" y="3192840"/>
              <a:ext cx="165600" cy="41760"/>
            </a:xfrm>
            <a:custGeom>
              <a:avLst/>
              <a:gdLst/>
              <a:ahLst/>
              <a:rect l="l" t="t" r="r" b="b"/>
              <a:pathLst>
                <a:path w="294" h="64">
                  <a:moveTo>
                    <a:pt x="0" y="16"/>
                  </a:moveTo>
                  <a:lnTo>
                    <a:pt x="12" y="8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4" y="16"/>
                  </a:lnTo>
                  <a:lnTo>
                    <a:pt x="106" y="16"/>
                  </a:lnTo>
                  <a:lnTo>
                    <a:pt x="120" y="24"/>
                  </a:lnTo>
                  <a:lnTo>
                    <a:pt x="133" y="24"/>
                  </a:lnTo>
                  <a:lnTo>
                    <a:pt x="147" y="24"/>
                  </a:lnTo>
                  <a:lnTo>
                    <a:pt x="159" y="24"/>
                  </a:lnTo>
                  <a:lnTo>
                    <a:pt x="173" y="31"/>
                  </a:lnTo>
                  <a:lnTo>
                    <a:pt x="188" y="31"/>
                  </a:lnTo>
                  <a:lnTo>
                    <a:pt x="200" y="41"/>
                  </a:lnTo>
                  <a:lnTo>
                    <a:pt x="214" y="41"/>
                  </a:lnTo>
                  <a:lnTo>
                    <a:pt x="227" y="47"/>
                  </a:lnTo>
                  <a:lnTo>
                    <a:pt x="240" y="47"/>
                  </a:lnTo>
                  <a:lnTo>
                    <a:pt x="254" y="47"/>
                  </a:lnTo>
                  <a:lnTo>
                    <a:pt x="267" y="55"/>
                  </a:lnTo>
                  <a:lnTo>
                    <a:pt x="282" y="64"/>
                  </a:lnTo>
                  <a:lnTo>
                    <a:pt x="294" y="64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38680" y="3293640"/>
              <a:ext cx="203040" cy="61920"/>
            </a:xfrm>
            <a:custGeom>
              <a:avLst/>
              <a:gdLst/>
              <a:ahLst/>
              <a:rect l="l" t="t" r="r" b="b"/>
              <a:pathLst>
                <a:path w="361" h="97">
                  <a:moveTo>
                    <a:pt x="0" y="16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4" y="0"/>
                  </a:lnTo>
                  <a:lnTo>
                    <a:pt x="66" y="8"/>
                  </a:lnTo>
                  <a:lnTo>
                    <a:pt x="80" y="8"/>
                  </a:lnTo>
                  <a:lnTo>
                    <a:pt x="93" y="16"/>
                  </a:lnTo>
                  <a:lnTo>
                    <a:pt x="107" y="16"/>
                  </a:lnTo>
                  <a:lnTo>
                    <a:pt x="120" y="16"/>
                  </a:lnTo>
                  <a:lnTo>
                    <a:pt x="133" y="25"/>
                  </a:lnTo>
                  <a:lnTo>
                    <a:pt x="146" y="33"/>
                  </a:lnTo>
                  <a:lnTo>
                    <a:pt x="160" y="33"/>
                  </a:lnTo>
                  <a:lnTo>
                    <a:pt x="174" y="39"/>
                  </a:lnTo>
                  <a:lnTo>
                    <a:pt x="187" y="39"/>
                  </a:lnTo>
                  <a:lnTo>
                    <a:pt x="201" y="48"/>
                  </a:lnTo>
                  <a:lnTo>
                    <a:pt x="214" y="48"/>
                  </a:lnTo>
                  <a:lnTo>
                    <a:pt x="227" y="48"/>
                  </a:lnTo>
                  <a:lnTo>
                    <a:pt x="240" y="57"/>
                  </a:lnTo>
                  <a:lnTo>
                    <a:pt x="254" y="65"/>
                  </a:lnTo>
                  <a:lnTo>
                    <a:pt x="268" y="72"/>
                  </a:lnTo>
                  <a:lnTo>
                    <a:pt x="301" y="80"/>
                  </a:lnTo>
                  <a:lnTo>
                    <a:pt x="335" y="97"/>
                  </a:lnTo>
                  <a:lnTo>
                    <a:pt x="361" y="97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529400" y="2940840"/>
              <a:ext cx="75960" cy="15480"/>
            </a:xfrm>
            <a:custGeom>
              <a:avLst/>
              <a:gdLst/>
              <a:ahLst/>
              <a:rect l="l" t="t" r="r" b="b"/>
              <a:pathLst>
                <a:path w="135" h="25">
                  <a:moveTo>
                    <a:pt x="0" y="25"/>
                  </a:moveTo>
                  <a:lnTo>
                    <a:pt x="27" y="8"/>
                  </a:lnTo>
                  <a:lnTo>
                    <a:pt x="41" y="8"/>
                  </a:lnTo>
                  <a:lnTo>
                    <a:pt x="53" y="8"/>
                  </a:lnTo>
                  <a:lnTo>
                    <a:pt x="67" y="8"/>
                  </a:lnTo>
                  <a:lnTo>
                    <a:pt x="80" y="0"/>
                  </a:lnTo>
                  <a:lnTo>
                    <a:pt x="94" y="0"/>
                  </a:lnTo>
                  <a:lnTo>
                    <a:pt x="107" y="0"/>
                  </a:lnTo>
                  <a:lnTo>
                    <a:pt x="121" y="8"/>
                  </a:lnTo>
                  <a:lnTo>
                    <a:pt x="135" y="8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402320" y="3387240"/>
              <a:ext cx="137880" cy="19800"/>
            </a:xfrm>
            <a:custGeom>
              <a:avLst/>
              <a:gdLst/>
              <a:ahLst/>
              <a:rect l="l" t="t" r="r" b="b"/>
              <a:pathLst>
                <a:path w="242" h="32">
                  <a:moveTo>
                    <a:pt x="0" y="32"/>
                  </a:moveTo>
                  <a:lnTo>
                    <a:pt x="14" y="24"/>
                  </a:lnTo>
                  <a:lnTo>
                    <a:pt x="27" y="16"/>
                  </a:lnTo>
                  <a:lnTo>
                    <a:pt x="41" y="8"/>
                  </a:lnTo>
                  <a:lnTo>
                    <a:pt x="54" y="8"/>
                  </a:lnTo>
                  <a:lnTo>
                    <a:pt x="68" y="0"/>
                  </a:lnTo>
                  <a:lnTo>
                    <a:pt x="80" y="0"/>
                  </a:lnTo>
                  <a:lnTo>
                    <a:pt x="95" y="0"/>
                  </a:lnTo>
                  <a:lnTo>
                    <a:pt x="108" y="8"/>
                  </a:lnTo>
                  <a:lnTo>
                    <a:pt x="121" y="8"/>
                  </a:lnTo>
                  <a:lnTo>
                    <a:pt x="135" y="8"/>
                  </a:lnTo>
                  <a:lnTo>
                    <a:pt x="148" y="8"/>
                  </a:lnTo>
                  <a:lnTo>
                    <a:pt x="162" y="0"/>
                  </a:lnTo>
                  <a:lnTo>
                    <a:pt x="176" y="0"/>
                  </a:lnTo>
                  <a:lnTo>
                    <a:pt x="189" y="0"/>
                  </a:lnTo>
                  <a:lnTo>
                    <a:pt x="203" y="0"/>
                  </a:lnTo>
                  <a:lnTo>
                    <a:pt x="215" y="0"/>
                  </a:lnTo>
                  <a:lnTo>
                    <a:pt x="230" y="0"/>
                  </a:lnTo>
                  <a:lnTo>
                    <a:pt x="242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425360" y="3458520"/>
              <a:ext cx="177480" cy="41760"/>
            </a:xfrm>
            <a:custGeom>
              <a:avLst/>
              <a:gdLst/>
              <a:ahLst/>
              <a:rect l="l" t="t" r="r" b="b"/>
              <a:pathLst>
                <a:path w="315" h="66">
                  <a:moveTo>
                    <a:pt x="0" y="9"/>
                  </a:moveTo>
                  <a:lnTo>
                    <a:pt x="12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80" y="0"/>
                  </a:lnTo>
                  <a:lnTo>
                    <a:pt x="94" y="0"/>
                  </a:lnTo>
                  <a:lnTo>
                    <a:pt x="106" y="0"/>
                  </a:lnTo>
                  <a:lnTo>
                    <a:pt x="120" y="0"/>
                  </a:lnTo>
                  <a:lnTo>
                    <a:pt x="133" y="9"/>
                  </a:lnTo>
                  <a:lnTo>
                    <a:pt x="147" y="9"/>
                  </a:lnTo>
                  <a:lnTo>
                    <a:pt x="159" y="17"/>
                  </a:lnTo>
                  <a:lnTo>
                    <a:pt x="174" y="17"/>
                  </a:lnTo>
                  <a:lnTo>
                    <a:pt x="188" y="25"/>
                  </a:lnTo>
                  <a:lnTo>
                    <a:pt x="200" y="25"/>
                  </a:lnTo>
                  <a:lnTo>
                    <a:pt x="214" y="33"/>
                  </a:lnTo>
                  <a:lnTo>
                    <a:pt x="227" y="41"/>
                  </a:lnTo>
                  <a:lnTo>
                    <a:pt x="241" y="41"/>
                  </a:lnTo>
                  <a:lnTo>
                    <a:pt x="254" y="49"/>
                  </a:lnTo>
                  <a:lnTo>
                    <a:pt x="268" y="58"/>
                  </a:lnTo>
                  <a:lnTo>
                    <a:pt x="282" y="58"/>
                  </a:lnTo>
                  <a:lnTo>
                    <a:pt x="294" y="58"/>
                  </a:lnTo>
                  <a:lnTo>
                    <a:pt x="308" y="66"/>
                  </a:lnTo>
                  <a:lnTo>
                    <a:pt x="315" y="66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331400" y="3607920"/>
              <a:ext cx="284760" cy="45000"/>
            </a:xfrm>
            <a:custGeom>
              <a:avLst/>
              <a:gdLst/>
              <a:ahLst/>
              <a:rect l="l" t="t" r="r" b="b"/>
              <a:pathLst>
                <a:path w="504" h="72">
                  <a:moveTo>
                    <a:pt x="0" y="7"/>
                  </a:moveTo>
                  <a:lnTo>
                    <a:pt x="14" y="7"/>
                  </a:lnTo>
                  <a:lnTo>
                    <a:pt x="27" y="7"/>
                  </a:lnTo>
                  <a:lnTo>
                    <a:pt x="40" y="0"/>
                  </a:lnTo>
                  <a:lnTo>
                    <a:pt x="54" y="0"/>
                  </a:lnTo>
                  <a:lnTo>
                    <a:pt x="67" y="0"/>
                  </a:lnTo>
                  <a:lnTo>
                    <a:pt x="80" y="0"/>
                  </a:lnTo>
                  <a:lnTo>
                    <a:pt x="93" y="0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34" y="0"/>
                  </a:lnTo>
                  <a:lnTo>
                    <a:pt x="147" y="0"/>
                  </a:lnTo>
                  <a:lnTo>
                    <a:pt x="161" y="0"/>
                  </a:lnTo>
                  <a:lnTo>
                    <a:pt x="175" y="0"/>
                  </a:lnTo>
                  <a:lnTo>
                    <a:pt x="187" y="0"/>
                  </a:lnTo>
                  <a:lnTo>
                    <a:pt x="202" y="0"/>
                  </a:lnTo>
                  <a:lnTo>
                    <a:pt x="215" y="0"/>
                  </a:lnTo>
                  <a:lnTo>
                    <a:pt x="228" y="0"/>
                  </a:lnTo>
                  <a:lnTo>
                    <a:pt x="241" y="0"/>
                  </a:lnTo>
                  <a:lnTo>
                    <a:pt x="255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8" y="7"/>
                  </a:lnTo>
                  <a:lnTo>
                    <a:pt x="322" y="16"/>
                  </a:lnTo>
                  <a:lnTo>
                    <a:pt x="335" y="24"/>
                  </a:lnTo>
                  <a:lnTo>
                    <a:pt x="349" y="24"/>
                  </a:lnTo>
                  <a:lnTo>
                    <a:pt x="363" y="32"/>
                  </a:lnTo>
                  <a:lnTo>
                    <a:pt x="395" y="32"/>
                  </a:lnTo>
                  <a:lnTo>
                    <a:pt x="423" y="32"/>
                  </a:lnTo>
                  <a:lnTo>
                    <a:pt x="450" y="65"/>
                  </a:lnTo>
                  <a:lnTo>
                    <a:pt x="463" y="65"/>
                  </a:lnTo>
                  <a:lnTo>
                    <a:pt x="476" y="72"/>
                  </a:lnTo>
                  <a:lnTo>
                    <a:pt x="491" y="72"/>
                  </a:lnTo>
                  <a:lnTo>
                    <a:pt x="504" y="72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22960" y="3705480"/>
              <a:ext cx="522000" cy="168120"/>
            </a:xfrm>
            <a:custGeom>
              <a:avLst/>
              <a:gdLst/>
              <a:ahLst/>
              <a:rect l="l" t="t" r="r" b="b"/>
              <a:pathLst>
                <a:path w="925" h="259">
                  <a:moveTo>
                    <a:pt x="0" y="65"/>
                  </a:moveTo>
                  <a:lnTo>
                    <a:pt x="13" y="49"/>
                  </a:lnTo>
                  <a:lnTo>
                    <a:pt x="26" y="40"/>
                  </a:lnTo>
                  <a:lnTo>
                    <a:pt x="39" y="32"/>
                  </a:lnTo>
                  <a:lnTo>
                    <a:pt x="52" y="32"/>
                  </a:lnTo>
                  <a:lnTo>
                    <a:pt x="86" y="32"/>
                  </a:lnTo>
                  <a:lnTo>
                    <a:pt x="113" y="32"/>
                  </a:lnTo>
                  <a:lnTo>
                    <a:pt x="126" y="32"/>
                  </a:lnTo>
                  <a:lnTo>
                    <a:pt x="140" y="32"/>
                  </a:lnTo>
                  <a:lnTo>
                    <a:pt x="154" y="24"/>
                  </a:lnTo>
                  <a:lnTo>
                    <a:pt x="166" y="24"/>
                  </a:lnTo>
                  <a:lnTo>
                    <a:pt x="180" y="24"/>
                  </a:lnTo>
                  <a:lnTo>
                    <a:pt x="194" y="24"/>
                  </a:lnTo>
                  <a:lnTo>
                    <a:pt x="254" y="7"/>
                  </a:lnTo>
                  <a:lnTo>
                    <a:pt x="268" y="7"/>
                  </a:lnTo>
                  <a:lnTo>
                    <a:pt x="281" y="0"/>
                  </a:lnTo>
                  <a:lnTo>
                    <a:pt x="294" y="0"/>
                  </a:lnTo>
                  <a:lnTo>
                    <a:pt x="308" y="0"/>
                  </a:lnTo>
                  <a:lnTo>
                    <a:pt x="320" y="0"/>
                  </a:lnTo>
                  <a:lnTo>
                    <a:pt x="334" y="0"/>
                  </a:lnTo>
                  <a:lnTo>
                    <a:pt x="361" y="0"/>
                  </a:lnTo>
                  <a:lnTo>
                    <a:pt x="375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5" y="7"/>
                  </a:lnTo>
                  <a:lnTo>
                    <a:pt x="428" y="7"/>
                  </a:lnTo>
                  <a:lnTo>
                    <a:pt x="442" y="7"/>
                  </a:lnTo>
                  <a:lnTo>
                    <a:pt x="482" y="7"/>
                  </a:lnTo>
                  <a:lnTo>
                    <a:pt x="496" y="7"/>
                  </a:lnTo>
                  <a:lnTo>
                    <a:pt x="509" y="16"/>
                  </a:lnTo>
                  <a:lnTo>
                    <a:pt x="522" y="16"/>
                  </a:lnTo>
                  <a:lnTo>
                    <a:pt x="536" y="24"/>
                  </a:lnTo>
                  <a:lnTo>
                    <a:pt x="549" y="24"/>
                  </a:lnTo>
                  <a:lnTo>
                    <a:pt x="563" y="24"/>
                  </a:lnTo>
                  <a:lnTo>
                    <a:pt x="577" y="32"/>
                  </a:lnTo>
                  <a:lnTo>
                    <a:pt x="590" y="40"/>
                  </a:lnTo>
                  <a:lnTo>
                    <a:pt x="603" y="40"/>
                  </a:lnTo>
                  <a:lnTo>
                    <a:pt x="637" y="40"/>
                  </a:lnTo>
                  <a:lnTo>
                    <a:pt x="649" y="49"/>
                  </a:lnTo>
                  <a:lnTo>
                    <a:pt x="683" y="65"/>
                  </a:lnTo>
                  <a:lnTo>
                    <a:pt x="697" y="73"/>
                  </a:lnTo>
                  <a:lnTo>
                    <a:pt x="710" y="73"/>
                  </a:lnTo>
                  <a:lnTo>
                    <a:pt x="723" y="81"/>
                  </a:lnTo>
                  <a:lnTo>
                    <a:pt x="811" y="153"/>
                  </a:lnTo>
                  <a:lnTo>
                    <a:pt x="837" y="226"/>
                  </a:lnTo>
                  <a:lnTo>
                    <a:pt x="897" y="226"/>
                  </a:lnTo>
                  <a:lnTo>
                    <a:pt x="925" y="259"/>
                  </a:lnTo>
                  <a:lnTo>
                    <a:pt x="844" y="251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385760" y="3258000"/>
              <a:ext cx="248040" cy="51480"/>
            </a:xfrm>
            <a:custGeom>
              <a:avLst/>
              <a:gdLst/>
              <a:ahLst/>
              <a:rect l="l" t="t" r="r" b="b"/>
              <a:pathLst>
                <a:path w="443" h="81">
                  <a:moveTo>
                    <a:pt x="0" y="16"/>
                  </a:moveTo>
                  <a:lnTo>
                    <a:pt x="14" y="16"/>
                  </a:lnTo>
                  <a:lnTo>
                    <a:pt x="27" y="16"/>
                  </a:lnTo>
                  <a:lnTo>
                    <a:pt x="40" y="7"/>
                  </a:lnTo>
                  <a:lnTo>
                    <a:pt x="67" y="7"/>
                  </a:lnTo>
                  <a:lnTo>
                    <a:pt x="81" y="7"/>
                  </a:lnTo>
                  <a:lnTo>
                    <a:pt x="93" y="7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34" y="0"/>
                  </a:lnTo>
                  <a:lnTo>
                    <a:pt x="147" y="0"/>
                  </a:lnTo>
                  <a:lnTo>
                    <a:pt x="161" y="0"/>
                  </a:lnTo>
                  <a:lnTo>
                    <a:pt x="175" y="7"/>
                  </a:lnTo>
                  <a:lnTo>
                    <a:pt x="187" y="7"/>
                  </a:lnTo>
                  <a:lnTo>
                    <a:pt x="202" y="7"/>
                  </a:lnTo>
                  <a:lnTo>
                    <a:pt x="214" y="7"/>
                  </a:lnTo>
                  <a:lnTo>
                    <a:pt x="228" y="7"/>
                  </a:lnTo>
                  <a:lnTo>
                    <a:pt x="241" y="16"/>
                  </a:lnTo>
                  <a:lnTo>
                    <a:pt x="255" y="16"/>
                  </a:lnTo>
                  <a:lnTo>
                    <a:pt x="269" y="16"/>
                  </a:lnTo>
                  <a:lnTo>
                    <a:pt x="282" y="24"/>
                  </a:lnTo>
                  <a:lnTo>
                    <a:pt x="296" y="24"/>
                  </a:lnTo>
                  <a:lnTo>
                    <a:pt x="308" y="32"/>
                  </a:lnTo>
                  <a:lnTo>
                    <a:pt x="322" y="40"/>
                  </a:lnTo>
                  <a:lnTo>
                    <a:pt x="349" y="40"/>
                  </a:lnTo>
                  <a:lnTo>
                    <a:pt x="376" y="40"/>
                  </a:lnTo>
                  <a:lnTo>
                    <a:pt x="390" y="48"/>
                  </a:lnTo>
                  <a:lnTo>
                    <a:pt x="416" y="48"/>
                  </a:lnTo>
                  <a:lnTo>
                    <a:pt x="416" y="81"/>
                  </a:lnTo>
                  <a:lnTo>
                    <a:pt x="431" y="81"/>
                  </a:lnTo>
                  <a:lnTo>
                    <a:pt x="443" y="81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057800" y="3805200"/>
              <a:ext cx="550800" cy="184680"/>
            </a:xfrm>
            <a:custGeom>
              <a:avLst/>
              <a:gdLst/>
              <a:ahLst/>
              <a:rect l="l" t="t" r="r" b="b"/>
              <a:pathLst>
                <a:path w="975" h="284">
                  <a:moveTo>
                    <a:pt x="0" y="8"/>
                  </a:moveTo>
                  <a:lnTo>
                    <a:pt x="14" y="0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48" y="8"/>
                  </a:lnTo>
                  <a:lnTo>
                    <a:pt x="161" y="8"/>
                  </a:lnTo>
                  <a:lnTo>
                    <a:pt x="175" y="16"/>
                  </a:lnTo>
                  <a:lnTo>
                    <a:pt x="216" y="24"/>
                  </a:lnTo>
                  <a:lnTo>
                    <a:pt x="242" y="24"/>
                  </a:lnTo>
                  <a:lnTo>
                    <a:pt x="269" y="24"/>
                  </a:lnTo>
                  <a:lnTo>
                    <a:pt x="296" y="24"/>
                  </a:lnTo>
                  <a:lnTo>
                    <a:pt x="308" y="24"/>
                  </a:lnTo>
                  <a:lnTo>
                    <a:pt x="323" y="24"/>
                  </a:lnTo>
                  <a:lnTo>
                    <a:pt x="336" y="24"/>
                  </a:lnTo>
                  <a:lnTo>
                    <a:pt x="349" y="24"/>
                  </a:lnTo>
                  <a:lnTo>
                    <a:pt x="363" y="24"/>
                  </a:lnTo>
                  <a:lnTo>
                    <a:pt x="376" y="33"/>
                  </a:lnTo>
                  <a:lnTo>
                    <a:pt x="389" y="33"/>
                  </a:lnTo>
                  <a:lnTo>
                    <a:pt x="404" y="33"/>
                  </a:lnTo>
                  <a:lnTo>
                    <a:pt x="417" y="33"/>
                  </a:lnTo>
                  <a:lnTo>
                    <a:pt x="438" y="41"/>
                  </a:lnTo>
                  <a:lnTo>
                    <a:pt x="450" y="41"/>
                  </a:lnTo>
                  <a:lnTo>
                    <a:pt x="483" y="49"/>
                  </a:lnTo>
                  <a:lnTo>
                    <a:pt x="511" y="49"/>
                  </a:lnTo>
                  <a:lnTo>
                    <a:pt x="537" y="82"/>
                  </a:lnTo>
                  <a:lnTo>
                    <a:pt x="551" y="82"/>
                  </a:lnTo>
                  <a:lnTo>
                    <a:pt x="564" y="98"/>
                  </a:lnTo>
                  <a:lnTo>
                    <a:pt x="578" y="106"/>
                  </a:lnTo>
                  <a:lnTo>
                    <a:pt x="592" y="106"/>
                  </a:lnTo>
                  <a:lnTo>
                    <a:pt x="605" y="115"/>
                  </a:lnTo>
                  <a:lnTo>
                    <a:pt x="631" y="115"/>
                  </a:lnTo>
                  <a:lnTo>
                    <a:pt x="657" y="147"/>
                  </a:lnTo>
                  <a:lnTo>
                    <a:pt x="672" y="147"/>
                  </a:lnTo>
                  <a:lnTo>
                    <a:pt x="686" y="154"/>
                  </a:lnTo>
                  <a:lnTo>
                    <a:pt x="698" y="162"/>
                  </a:lnTo>
                  <a:lnTo>
                    <a:pt x="712" y="170"/>
                  </a:lnTo>
                  <a:lnTo>
                    <a:pt x="727" y="170"/>
                  </a:lnTo>
                  <a:lnTo>
                    <a:pt x="739" y="179"/>
                  </a:lnTo>
                  <a:lnTo>
                    <a:pt x="800" y="211"/>
                  </a:lnTo>
                  <a:lnTo>
                    <a:pt x="826" y="243"/>
                  </a:lnTo>
                  <a:lnTo>
                    <a:pt x="853" y="243"/>
                  </a:lnTo>
                  <a:lnTo>
                    <a:pt x="881" y="276"/>
                  </a:lnTo>
                  <a:lnTo>
                    <a:pt x="915" y="276"/>
                  </a:lnTo>
                  <a:lnTo>
                    <a:pt x="941" y="276"/>
                  </a:lnTo>
                  <a:lnTo>
                    <a:pt x="954" y="284"/>
                  </a:lnTo>
                  <a:lnTo>
                    <a:pt x="967" y="284"/>
                  </a:lnTo>
                  <a:lnTo>
                    <a:pt x="975" y="284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394400" y="2765160"/>
              <a:ext cx="87120" cy="42120"/>
            </a:xfrm>
            <a:custGeom>
              <a:avLst/>
              <a:gdLst/>
              <a:ahLst/>
              <a:rect l="l" t="t" r="r" b="b"/>
              <a:pathLst>
                <a:path w="154" h="65">
                  <a:moveTo>
                    <a:pt x="154" y="0"/>
                  </a:moveTo>
                  <a:lnTo>
                    <a:pt x="142" y="8"/>
                  </a:lnTo>
                  <a:lnTo>
                    <a:pt x="128" y="8"/>
                  </a:lnTo>
                  <a:lnTo>
                    <a:pt x="115" y="15"/>
                  </a:lnTo>
                  <a:lnTo>
                    <a:pt x="101" y="15"/>
                  </a:lnTo>
                  <a:lnTo>
                    <a:pt x="89" y="24"/>
                  </a:lnTo>
                  <a:lnTo>
                    <a:pt x="81" y="40"/>
                  </a:lnTo>
                  <a:lnTo>
                    <a:pt x="68" y="40"/>
                  </a:lnTo>
                  <a:lnTo>
                    <a:pt x="55" y="40"/>
                  </a:lnTo>
                  <a:lnTo>
                    <a:pt x="40" y="48"/>
                  </a:lnTo>
                  <a:lnTo>
                    <a:pt x="28" y="56"/>
                  </a:lnTo>
                  <a:lnTo>
                    <a:pt x="14" y="56"/>
                  </a:lnTo>
                  <a:lnTo>
                    <a:pt x="0" y="6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309440" y="2911320"/>
              <a:ext cx="219600" cy="29520"/>
            </a:xfrm>
            <a:custGeom>
              <a:avLst/>
              <a:gdLst/>
              <a:ahLst/>
              <a:rect l="l" t="t" r="r" b="b"/>
              <a:pathLst>
                <a:path w="389" h="47">
                  <a:moveTo>
                    <a:pt x="389" y="15"/>
                  </a:moveTo>
                  <a:lnTo>
                    <a:pt x="377" y="8"/>
                  </a:lnTo>
                  <a:lnTo>
                    <a:pt x="362" y="8"/>
                  </a:lnTo>
                  <a:lnTo>
                    <a:pt x="349" y="8"/>
                  </a:lnTo>
                  <a:lnTo>
                    <a:pt x="336" y="0"/>
                  </a:lnTo>
                  <a:lnTo>
                    <a:pt x="322" y="0"/>
                  </a:lnTo>
                  <a:lnTo>
                    <a:pt x="309" y="0"/>
                  </a:lnTo>
                  <a:lnTo>
                    <a:pt x="295" y="0"/>
                  </a:lnTo>
                  <a:lnTo>
                    <a:pt x="281" y="8"/>
                  </a:lnTo>
                  <a:lnTo>
                    <a:pt x="268" y="8"/>
                  </a:lnTo>
                  <a:lnTo>
                    <a:pt x="255" y="0"/>
                  </a:lnTo>
                  <a:lnTo>
                    <a:pt x="242" y="0"/>
                  </a:lnTo>
                  <a:lnTo>
                    <a:pt x="228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7" y="0"/>
                  </a:lnTo>
                  <a:lnTo>
                    <a:pt x="174" y="8"/>
                  </a:lnTo>
                  <a:lnTo>
                    <a:pt x="161" y="8"/>
                  </a:lnTo>
                  <a:lnTo>
                    <a:pt x="148" y="8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7" y="0"/>
                  </a:lnTo>
                  <a:lnTo>
                    <a:pt x="93" y="8"/>
                  </a:lnTo>
                  <a:lnTo>
                    <a:pt x="80" y="8"/>
                  </a:lnTo>
                  <a:lnTo>
                    <a:pt x="67" y="8"/>
                  </a:lnTo>
                  <a:lnTo>
                    <a:pt x="54" y="15"/>
                  </a:lnTo>
                  <a:lnTo>
                    <a:pt x="39" y="15"/>
                  </a:lnTo>
                  <a:lnTo>
                    <a:pt x="26" y="15"/>
                  </a:lnTo>
                  <a:lnTo>
                    <a:pt x="13" y="32"/>
                  </a:lnTo>
                  <a:lnTo>
                    <a:pt x="0" y="32"/>
                  </a:lnTo>
                  <a:lnTo>
                    <a:pt x="0" y="47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464240" y="3141360"/>
              <a:ext cx="177480" cy="15480"/>
            </a:xfrm>
            <a:custGeom>
              <a:avLst/>
              <a:gdLst/>
              <a:ahLst/>
              <a:rect l="l" t="t" r="r" b="b"/>
              <a:pathLst>
                <a:path w="315" h="25">
                  <a:moveTo>
                    <a:pt x="315" y="25"/>
                  </a:moveTo>
                  <a:lnTo>
                    <a:pt x="302" y="16"/>
                  </a:lnTo>
                  <a:lnTo>
                    <a:pt x="289" y="16"/>
                  </a:lnTo>
                  <a:lnTo>
                    <a:pt x="275" y="8"/>
                  </a:lnTo>
                  <a:lnTo>
                    <a:pt x="261" y="8"/>
                  </a:lnTo>
                  <a:lnTo>
                    <a:pt x="249" y="0"/>
                  </a:lnTo>
                  <a:lnTo>
                    <a:pt x="221" y="0"/>
                  </a:lnTo>
                  <a:lnTo>
                    <a:pt x="194" y="0"/>
                  </a:lnTo>
                  <a:lnTo>
                    <a:pt x="181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4" y="8"/>
                  </a:lnTo>
                  <a:lnTo>
                    <a:pt x="100" y="8"/>
                  </a:lnTo>
                  <a:lnTo>
                    <a:pt x="87" y="16"/>
                  </a:lnTo>
                  <a:lnTo>
                    <a:pt x="73" y="16"/>
                  </a:lnTo>
                  <a:lnTo>
                    <a:pt x="61" y="25"/>
                  </a:lnTo>
                  <a:lnTo>
                    <a:pt x="0" y="8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427520" y="3083400"/>
              <a:ext cx="206280" cy="25200"/>
            </a:xfrm>
            <a:custGeom>
              <a:avLst/>
              <a:gdLst/>
              <a:ahLst/>
              <a:rect l="l" t="t" r="r" b="b"/>
              <a:pathLst>
                <a:path w="368" h="40">
                  <a:moveTo>
                    <a:pt x="368" y="15"/>
                  </a:moveTo>
                  <a:lnTo>
                    <a:pt x="356" y="15"/>
                  </a:lnTo>
                  <a:lnTo>
                    <a:pt x="341" y="24"/>
                  </a:lnTo>
                  <a:lnTo>
                    <a:pt x="328" y="24"/>
                  </a:lnTo>
                  <a:lnTo>
                    <a:pt x="315" y="24"/>
                  </a:lnTo>
                  <a:lnTo>
                    <a:pt x="301" y="24"/>
                  </a:lnTo>
                  <a:lnTo>
                    <a:pt x="254" y="7"/>
                  </a:lnTo>
                  <a:lnTo>
                    <a:pt x="241" y="7"/>
                  </a:lnTo>
                  <a:lnTo>
                    <a:pt x="226" y="7"/>
                  </a:lnTo>
                  <a:lnTo>
                    <a:pt x="214" y="0"/>
                  </a:lnTo>
                  <a:lnTo>
                    <a:pt x="200" y="0"/>
                  </a:lnTo>
                  <a:lnTo>
                    <a:pt x="187" y="15"/>
                  </a:lnTo>
                  <a:lnTo>
                    <a:pt x="173" y="24"/>
                  </a:lnTo>
                  <a:lnTo>
                    <a:pt x="160" y="32"/>
                  </a:lnTo>
                  <a:lnTo>
                    <a:pt x="147" y="32"/>
                  </a:lnTo>
                  <a:lnTo>
                    <a:pt x="132" y="40"/>
                  </a:lnTo>
                  <a:lnTo>
                    <a:pt x="120" y="40"/>
                  </a:lnTo>
                  <a:lnTo>
                    <a:pt x="59" y="40"/>
                  </a:lnTo>
                  <a:lnTo>
                    <a:pt x="0" y="4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53760" y="3873600"/>
              <a:ext cx="228240" cy="128880"/>
            </a:xfrm>
            <a:custGeom>
              <a:avLst/>
              <a:gdLst/>
              <a:ahLst/>
              <a:rect l="l" t="t" r="r" b="b"/>
              <a:pathLst>
                <a:path w="409" h="201">
                  <a:moveTo>
                    <a:pt x="0" y="0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4" y="9"/>
                  </a:lnTo>
                  <a:lnTo>
                    <a:pt x="66" y="9"/>
                  </a:lnTo>
                  <a:lnTo>
                    <a:pt x="80" y="17"/>
                  </a:lnTo>
                  <a:lnTo>
                    <a:pt x="93" y="24"/>
                  </a:lnTo>
                  <a:lnTo>
                    <a:pt x="107" y="33"/>
                  </a:lnTo>
                  <a:lnTo>
                    <a:pt x="120" y="41"/>
                  </a:lnTo>
                  <a:lnTo>
                    <a:pt x="134" y="48"/>
                  </a:lnTo>
                  <a:lnTo>
                    <a:pt x="148" y="56"/>
                  </a:lnTo>
                  <a:lnTo>
                    <a:pt x="161" y="64"/>
                  </a:lnTo>
                  <a:lnTo>
                    <a:pt x="174" y="73"/>
                  </a:lnTo>
                  <a:lnTo>
                    <a:pt x="187" y="81"/>
                  </a:lnTo>
                  <a:lnTo>
                    <a:pt x="214" y="97"/>
                  </a:lnTo>
                  <a:lnTo>
                    <a:pt x="242" y="97"/>
                  </a:lnTo>
                  <a:lnTo>
                    <a:pt x="268" y="129"/>
                  </a:lnTo>
                  <a:lnTo>
                    <a:pt x="295" y="129"/>
                  </a:lnTo>
                  <a:lnTo>
                    <a:pt x="322" y="129"/>
                  </a:lnTo>
                  <a:lnTo>
                    <a:pt x="349" y="162"/>
                  </a:lnTo>
                  <a:lnTo>
                    <a:pt x="362" y="162"/>
                  </a:lnTo>
                  <a:lnTo>
                    <a:pt x="409" y="201"/>
                  </a:lnTo>
                  <a:lnTo>
                    <a:pt x="375" y="201"/>
                  </a:lnTo>
                  <a:lnTo>
                    <a:pt x="382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032240" y="3837960"/>
              <a:ext cx="253800" cy="178200"/>
            </a:xfrm>
            <a:custGeom>
              <a:avLst/>
              <a:gdLst/>
              <a:ahLst/>
              <a:rect l="l" t="t" r="r" b="b"/>
              <a:pathLst>
                <a:path w="450" h="279">
                  <a:moveTo>
                    <a:pt x="0" y="0"/>
                  </a:moveTo>
                  <a:lnTo>
                    <a:pt x="7" y="17"/>
                  </a:lnTo>
                  <a:lnTo>
                    <a:pt x="20" y="25"/>
                  </a:lnTo>
                  <a:lnTo>
                    <a:pt x="33" y="33"/>
                  </a:lnTo>
                  <a:lnTo>
                    <a:pt x="46" y="40"/>
                  </a:lnTo>
                  <a:lnTo>
                    <a:pt x="72" y="58"/>
                  </a:lnTo>
                  <a:lnTo>
                    <a:pt x="87" y="58"/>
                  </a:lnTo>
                  <a:lnTo>
                    <a:pt x="113" y="74"/>
                  </a:lnTo>
                  <a:lnTo>
                    <a:pt x="140" y="105"/>
                  </a:lnTo>
                  <a:lnTo>
                    <a:pt x="166" y="105"/>
                  </a:lnTo>
                  <a:lnTo>
                    <a:pt x="195" y="121"/>
                  </a:lnTo>
                  <a:lnTo>
                    <a:pt x="221" y="121"/>
                  </a:lnTo>
                  <a:lnTo>
                    <a:pt x="248" y="154"/>
                  </a:lnTo>
                  <a:lnTo>
                    <a:pt x="275" y="170"/>
                  </a:lnTo>
                  <a:lnTo>
                    <a:pt x="300" y="203"/>
                  </a:lnTo>
                  <a:lnTo>
                    <a:pt x="315" y="203"/>
                  </a:lnTo>
                  <a:lnTo>
                    <a:pt x="328" y="211"/>
                  </a:lnTo>
                  <a:lnTo>
                    <a:pt x="342" y="219"/>
                  </a:lnTo>
                  <a:lnTo>
                    <a:pt x="354" y="227"/>
                  </a:lnTo>
                  <a:lnTo>
                    <a:pt x="369" y="235"/>
                  </a:lnTo>
                  <a:lnTo>
                    <a:pt x="383" y="244"/>
                  </a:lnTo>
                  <a:lnTo>
                    <a:pt x="395" y="252"/>
                  </a:lnTo>
                  <a:lnTo>
                    <a:pt x="409" y="252"/>
                  </a:lnTo>
                  <a:lnTo>
                    <a:pt x="421" y="258"/>
                  </a:lnTo>
                  <a:lnTo>
                    <a:pt x="435" y="266"/>
                  </a:lnTo>
                  <a:lnTo>
                    <a:pt x="450" y="279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730920" y="3864240"/>
              <a:ext cx="123120" cy="158400"/>
            </a:xfrm>
            <a:custGeom>
              <a:avLst/>
              <a:gdLst/>
              <a:ahLst/>
              <a:rect l="l" t="t" r="r" b="b"/>
              <a:pathLst>
                <a:path w="224" h="248">
                  <a:moveTo>
                    <a:pt x="0" y="0"/>
                  </a:moveTo>
                  <a:lnTo>
                    <a:pt x="12" y="0"/>
                  </a:lnTo>
                  <a:lnTo>
                    <a:pt x="26" y="8"/>
                  </a:lnTo>
                  <a:lnTo>
                    <a:pt x="38" y="8"/>
                  </a:lnTo>
                  <a:lnTo>
                    <a:pt x="53" y="16"/>
                  </a:lnTo>
                  <a:lnTo>
                    <a:pt x="67" y="33"/>
                  </a:lnTo>
                  <a:lnTo>
                    <a:pt x="79" y="40"/>
                  </a:lnTo>
                  <a:lnTo>
                    <a:pt x="93" y="57"/>
                  </a:lnTo>
                  <a:lnTo>
                    <a:pt x="106" y="64"/>
                  </a:lnTo>
                  <a:lnTo>
                    <a:pt x="106" y="80"/>
                  </a:lnTo>
                  <a:lnTo>
                    <a:pt x="120" y="88"/>
                  </a:lnTo>
                  <a:lnTo>
                    <a:pt x="127" y="104"/>
                  </a:lnTo>
                  <a:lnTo>
                    <a:pt x="140" y="121"/>
                  </a:lnTo>
                  <a:lnTo>
                    <a:pt x="153" y="137"/>
                  </a:lnTo>
                  <a:lnTo>
                    <a:pt x="166" y="146"/>
                  </a:lnTo>
                  <a:lnTo>
                    <a:pt x="180" y="161"/>
                  </a:lnTo>
                  <a:lnTo>
                    <a:pt x="187" y="177"/>
                  </a:lnTo>
                  <a:lnTo>
                    <a:pt x="200" y="186"/>
                  </a:lnTo>
                  <a:lnTo>
                    <a:pt x="200" y="202"/>
                  </a:lnTo>
                  <a:lnTo>
                    <a:pt x="206" y="218"/>
                  </a:lnTo>
                  <a:lnTo>
                    <a:pt x="221" y="234"/>
                  </a:lnTo>
                  <a:lnTo>
                    <a:pt x="224" y="248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21280" y="3808440"/>
              <a:ext cx="137880" cy="211320"/>
            </a:xfrm>
            <a:custGeom>
              <a:avLst/>
              <a:gdLst/>
              <a:ahLst/>
              <a:rect l="l" t="t" r="r" b="b"/>
              <a:pathLst>
                <a:path w="249" h="324">
                  <a:moveTo>
                    <a:pt x="0" y="0"/>
                  </a:moveTo>
                  <a:lnTo>
                    <a:pt x="14" y="9"/>
                  </a:lnTo>
                  <a:lnTo>
                    <a:pt x="20" y="24"/>
                  </a:lnTo>
                  <a:lnTo>
                    <a:pt x="34" y="32"/>
                  </a:lnTo>
                  <a:lnTo>
                    <a:pt x="48" y="50"/>
                  </a:lnTo>
                  <a:lnTo>
                    <a:pt x="61" y="65"/>
                  </a:lnTo>
                  <a:lnTo>
                    <a:pt x="68" y="82"/>
                  </a:lnTo>
                  <a:lnTo>
                    <a:pt x="81" y="98"/>
                  </a:lnTo>
                  <a:lnTo>
                    <a:pt x="94" y="106"/>
                  </a:lnTo>
                  <a:lnTo>
                    <a:pt x="102" y="122"/>
                  </a:lnTo>
                  <a:lnTo>
                    <a:pt x="114" y="131"/>
                  </a:lnTo>
                  <a:lnTo>
                    <a:pt x="122" y="146"/>
                  </a:lnTo>
                  <a:lnTo>
                    <a:pt x="134" y="153"/>
                  </a:lnTo>
                  <a:lnTo>
                    <a:pt x="142" y="170"/>
                  </a:lnTo>
                  <a:lnTo>
                    <a:pt x="155" y="178"/>
                  </a:lnTo>
                  <a:lnTo>
                    <a:pt x="167" y="195"/>
                  </a:lnTo>
                  <a:lnTo>
                    <a:pt x="188" y="210"/>
                  </a:lnTo>
                  <a:lnTo>
                    <a:pt x="196" y="227"/>
                  </a:lnTo>
                  <a:lnTo>
                    <a:pt x="201" y="243"/>
                  </a:lnTo>
                  <a:lnTo>
                    <a:pt x="216" y="259"/>
                  </a:lnTo>
                  <a:lnTo>
                    <a:pt x="228" y="276"/>
                  </a:lnTo>
                  <a:lnTo>
                    <a:pt x="242" y="291"/>
                  </a:lnTo>
                  <a:lnTo>
                    <a:pt x="242" y="308"/>
                  </a:lnTo>
                  <a:lnTo>
                    <a:pt x="249" y="324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85800" y="2514600"/>
            <a:ext cx="7924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85800" y="2971800"/>
            <a:ext cx="79246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Lightning stro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xplo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arth qu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(road-/air-) Acc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85800" y="4800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ardware / media failures (limited lifetime!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9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500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5" dur="5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5" dur="500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0" dur="500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1" dur="5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Outsid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mputer hobby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ackers' cl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0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295280" cy="116676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6019920" y="1633680"/>
            <a:ext cx="1904760" cy="179532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3"/>
          <a:stretch/>
        </p:blipFill>
        <p:spPr>
          <a:xfrm>
            <a:off x="6324480" y="3048120"/>
            <a:ext cx="1951200" cy="212724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rganised cr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160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blackmail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ostile political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oreign / national intelligence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Visitors,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160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dustrial espio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4" dur="50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9" dur="500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2" dur="500"/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1" dur="5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500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500"/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Insid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(former) Employ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ales / maintenance 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utorized consult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ther authorized users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(guests, clients, 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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Less hurdles to t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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ften more ef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1"/>
          <a:stretch/>
        </p:blipFill>
        <p:spPr>
          <a:xfrm>
            <a:off x="6324480" y="3505320"/>
            <a:ext cx="200196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3" dur="500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8" dur="500"/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3" dur="500"/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8" dur="500"/>
                                        <p:tgtEl>
                                          <p:spTgt spid="9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3" dur="500"/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8" dur="500"/>
                                        <p:tgtEl>
                                          <p:spTgt spid="9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3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rot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ys. Mg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=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nfor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gene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130824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curity Polic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plicit statemen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o has access to an organisation’s information technology 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rules by which these users must ab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larifies to users and staf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is considered “Appropriate Use” of the I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4" dur="indefinite" restart="never" nodeType="tmRoot">
          <p:childTnLst>
            <p:seq>
              <p:cTn id="1465" dur="indefinite" nodeType="mainSeq">
                <p:childTnLst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0" dur="5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3" dur="50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6" dur="500"/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1" dur="500"/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4" dur="500"/>
                                        <p:tgtEl>
                                          <p:spTgt spid="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curity Polic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General Objective (justif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Importance of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Validity (short te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llocated Resources (budget, personne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pecific Objectives &amp; Respons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Information Qual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279f"/>
                </a:solidFill>
                <a:latin typeface="Tahoma"/>
              </a:rPr>
              <a:t>C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ivacy of the 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rategic information / research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279f"/>
                </a:solidFill>
                <a:latin typeface="Tahoma"/>
              </a:rPr>
              <a:t>I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rrectness (data / process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uthent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non repud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279f"/>
                </a:solidFill>
                <a:latin typeface="Tahoma"/>
              </a:rPr>
              <a:t>A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imeliness (processing, distribu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8" dur="500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1" dur="500"/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4" dur="500"/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9" dur="500"/>
                                        <p:tgtEl>
                                          <p:spTgt spid="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2" dur="500"/>
                                        <p:tgtEl>
                                          <p:spTgt spid="9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5" dur="500"/>
                                        <p:tgtEl>
                                          <p:spTgt spid="9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8" dur="500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3" dur="500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6" dur="500"/>
                                        <p:tgtEl>
                                          <p:spTgt spid="9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"/>
          <p:cNvSpPr/>
          <p:nvPr/>
        </p:nvSpPr>
        <p:spPr>
          <a:xfrm>
            <a:off x="4038480" y="1676520"/>
            <a:ext cx="2133720" cy="1066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90720" y="4952880"/>
            <a:ext cx="2133360" cy="10670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7" name=""/>
          <p:cNvCxnSpPr>
            <a:stCxn id="925" idx="2"/>
            <a:endCxn id="928" idx="0"/>
          </p:cNvCxnSpPr>
          <p:nvPr/>
        </p:nvCxnSpPr>
        <p:spPr>
          <a:xfrm>
            <a:off x="5105520" y="2743200"/>
            <a:ext cx="2160" cy="534240"/>
          </a:xfrm>
          <a:prstGeom prst="straightConnector1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sp>
        <p:nvSpPr>
          <p:cNvPr id="929" name=""/>
          <p:cNvSpPr/>
          <p:nvPr/>
        </p:nvSpPr>
        <p:spPr>
          <a:xfrm>
            <a:off x="609480" y="16002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ssets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HW, SW, Perso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67652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1" name=""/>
          <p:cNvCxnSpPr>
            <a:stCxn id="929" idx="3"/>
            <a:endCxn id="925" idx="1"/>
          </p:cNvCxnSpPr>
          <p:nvPr/>
        </p:nvCxnSpPr>
        <p:spPr>
          <a:xfrm>
            <a:off x="3504960" y="2010960"/>
            <a:ext cx="533880" cy="199080"/>
          </a:xfrm>
          <a:prstGeom prst="straightConnector1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cxnSp>
        <p:nvCxnSpPr>
          <p:cNvPr id="932" name=""/>
          <p:cNvCxnSpPr>
            <a:stCxn id="930" idx="3"/>
            <a:endCxn id="925" idx="1"/>
          </p:cNvCxnSpPr>
          <p:nvPr/>
        </p:nvCxnSpPr>
        <p:spPr>
          <a:xfrm flipV="1">
            <a:off x="3504960" y="2209320"/>
            <a:ext cx="533880" cy="457920"/>
          </a:xfrm>
          <a:prstGeom prst="straightConnector1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sp>
        <p:nvSpPr>
          <p:cNvPr id="933" name=""/>
          <p:cNvSpPr/>
          <p:nvPr/>
        </p:nvSpPr>
        <p:spPr>
          <a:xfrm>
            <a:off x="7086600" y="3581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705720" y="40892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Weak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400800" y="4597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dver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43600" y="5105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7" name=""/>
          <p:cNvCxnSpPr>
            <a:stCxn id="933" idx="1"/>
            <a:endCxn id="938" idx="0"/>
          </p:cNvCxnSpPr>
          <p:nvPr/>
        </p:nvCxnSpPr>
        <p:spPr>
          <a:xfrm flipH="1">
            <a:off x="6428880" y="3809880"/>
            <a:ext cx="658080" cy="153360"/>
          </a:xfrm>
          <a:prstGeom prst="straightConnector1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cxnSp>
        <p:nvCxnSpPr>
          <p:cNvPr id="939" name=""/>
          <p:cNvCxnSpPr>
            <a:stCxn id="934" idx="1"/>
            <a:endCxn id="938" idx="3"/>
          </p:cNvCxnSpPr>
          <p:nvPr/>
        </p:nvCxnSpPr>
        <p:spPr>
          <a:xfrm flipH="1" flipV="1">
            <a:off x="6439680" y="4152600"/>
            <a:ext cx="266040" cy="165600"/>
          </a:xfrm>
          <a:prstGeom prst="straightConnector1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cxnSp>
        <p:nvCxnSpPr>
          <p:cNvPr id="940" name=""/>
          <p:cNvCxnSpPr>
            <a:stCxn id="935" idx="1"/>
            <a:endCxn id="941" idx="2"/>
          </p:cNvCxnSpPr>
          <p:nvPr/>
        </p:nvCxnSpPr>
        <p:spPr>
          <a:xfrm flipH="1" flipV="1">
            <a:off x="6011640" y="4342680"/>
            <a:ext cx="389520" cy="483480"/>
          </a:xfrm>
          <a:prstGeom prst="straightConnector1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cxnSp>
        <p:nvCxnSpPr>
          <p:cNvPr id="942" name=""/>
          <p:cNvCxnSpPr>
            <a:stCxn id="936" idx="1"/>
            <a:endCxn id="941" idx="1"/>
          </p:cNvCxnSpPr>
          <p:nvPr/>
        </p:nvCxnSpPr>
        <p:spPr>
          <a:xfrm flipH="1" flipV="1">
            <a:off x="5582520" y="4335480"/>
            <a:ext cx="361080" cy="999000"/>
          </a:xfrm>
          <a:prstGeom prst="straightConnector1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grpSp>
        <p:nvGrpSpPr>
          <p:cNvPr id="943" name=""/>
          <p:cNvGrpSpPr/>
          <p:nvPr/>
        </p:nvGrpSpPr>
        <p:grpSpPr>
          <a:xfrm>
            <a:off x="3773520" y="3276720"/>
            <a:ext cx="2666160" cy="1066680"/>
            <a:chOff x="3773520" y="3276720"/>
            <a:chExt cx="2666160" cy="1066680"/>
          </a:xfrm>
        </p:grpSpPr>
        <p:grpSp>
          <p:nvGrpSpPr>
            <p:cNvPr id="944" name=""/>
            <p:cNvGrpSpPr/>
            <p:nvPr/>
          </p:nvGrpSpPr>
          <p:grpSpPr>
            <a:xfrm>
              <a:off x="3773520" y="3276720"/>
              <a:ext cx="2666160" cy="1066680"/>
              <a:chOff x="3773520" y="3276720"/>
              <a:chExt cx="2666160" cy="1066680"/>
            </a:xfrm>
          </p:grpSpPr>
          <p:sp>
            <p:nvSpPr>
              <p:cNvPr id="928" name=""/>
              <p:cNvSpPr/>
              <p:nvPr/>
            </p:nvSpPr>
            <p:spPr>
              <a:xfrm>
                <a:off x="3773520" y="3276720"/>
                <a:ext cx="2666160" cy="10666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Risk Analy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582880" y="4325760"/>
                <a:ext cx="856800" cy="1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417720" y="3962160"/>
                <a:ext cx="21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3773520" y="4191120"/>
              <a:ext cx="571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6" name=""/>
          <p:cNvCxnSpPr>
            <a:stCxn id="945" idx="2"/>
            <a:endCxn id="945" idx="1"/>
          </p:cNvCxnSpPr>
          <p:nvPr/>
        </p:nvCxnSpPr>
        <p:spPr>
          <a:xfrm flipV="1" rot="16200000">
            <a:off x="3877920" y="4161960"/>
            <a:ext cx="76680" cy="286560"/>
          </a:xfrm>
          <a:prstGeom prst="curvedConnector5">
            <a:avLst>
              <a:gd name="adj1" fmla="val -950000"/>
              <a:gd name="adj2" fmla="val 175471"/>
              <a:gd name="adj3" fmla="val -950000"/>
            </a:avLst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cxnSp>
        <p:nvCxnSpPr>
          <p:cNvPr id="947" name=""/>
          <p:cNvCxnSpPr>
            <a:stCxn id="926" idx="0"/>
            <a:endCxn id="928" idx="1"/>
          </p:cNvCxnSpPr>
          <p:nvPr/>
        </p:nvCxnSpPr>
        <p:spPr>
          <a:xfrm flipH="1" flipV="1" rot="5400000">
            <a:off x="2343600" y="3522600"/>
            <a:ext cx="1143720" cy="1716840"/>
          </a:xfrm>
          <a:prstGeom prst="curvedConnector2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cxnSp>
        <p:nvCxnSpPr>
          <p:cNvPr id="948" name=""/>
          <p:cNvCxnSpPr>
            <a:stCxn id="928" idx="2"/>
            <a:endCxn id="926" idx="3"/>
          </p:cNvCxnSpPr>
          <p:nvPr/>
        </p:nvCxnSpPr>
        <p:spPr>
          <a:xfrm rot="5400000">
            <a:off x="3543840" y="3923280"/>
            <a:ext cx="1143720" cy="1983240"/>
          </a:xfrm>
          <a:prstGeom prst="curvedConnector2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cxnSp>
        <p:nvCxnSpPr>
          <p:cNvPr id="949" name=""/>
          <p:cNvCxnSpPr>
            <a:stCxn id="928" idx="3"/>
            <a:endCxn id="925" idx="3"/>
          </p:cNvCxnSpPr>
          <p:nvPr/>
        </p:nvCxnSpPr>
        <p:spPr>
          <a:xfrm flipH="1" flipV="1">
            <a:off x="6171480" y="2208960"/>
            <a:ext cx="268920" cy="1600920"/>
          </a:xfrm>
          <a:prstGeom prst="curvedConnector5">
            <a:avLst>
              <a:gd name="adj1" fmla="val -144906"/>
              <a:gd name="adj2" fmla="val 50000"/>
              <a:gd name="adj3" fmla="val -144906"/>
            </a:avLst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pic>
        <p:nvPicPr>
          <p:cNvPr id="950" name="" descr=""/>
          <p:cNvPicPr/>
          <p:nvPr/>
        </p:nvPicPr>
        <p:blipFill>
          <a:blip r:embed="rId1"/>
          <a:stretch/>
        </p:blipFill>
        <p:spPr>
          <a:xfrm>
            <a:off x="4191120" y="3200400"/>
            <a:ext cx="974520" cy="476280"/>
          </a:xfrm>
          <a:prstGeom prst="rect">
            <a:avLst/>
          </a:prstGeom>
          <a:ln w="0">
            <a:noFill/>
          </a:ln>
        </p:spPr>
      </p:pic>
      <p:sp>
        <p:nvSpPr>
          <p:cNvPr id="951" name=""/>
          <p:cNvSpPr/>
          <p:nvPr/>
        </p:nvSpPr>
        <p:spPr>
          <a:xfrm>
            <a:off x="3809880" y="3962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Risk = probability x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7" dur="indefinite" restart="never" nodeType="tmRoot">
          <p:childTnLst>
            <p:seq>
              <p:cTn id="1528" dur="indefinite" nodeType="mainSeq">
                <p:childTnLst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500"/>
                            </p:stCondLst>
                            <p:childTnLst>
                              <p:par>
                                <p:cTn id="1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0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5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64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7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500"/>
                            </p:stCondLst>
                            <p:childTnLst>
                              <p:par>
                                <p:cTn id="15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8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500"/>
                            </p:stCondLst>
                            <p:childTnLst>
                              <p:par>
                                <p:cTn id="15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9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500"/>
                            </p:stCondLst>
                            <p:childTnLst>
                              <p:par>
                                <p:cTn id="160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500"/>
                            </p:stCondLst>
                            <p:childTnLst>
                              <p:par>
                                <p:cTn id="16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5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Los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Tahoma"/>
              </a:rPr>
              <a:t>Direct</a:t>
            </a:r>
            <a:r>
              <a:rPr b="1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2286000"/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609480" y="1523880"/>
            <a:ext cx="7696440" cy="4114800"/>
            <a:chOff x="609480" y="1523880"/>
            <a:chExt cx="7696440" cy="4114800"/>
          </a:xfrm>
        </p:grpSpPr>
        <p:sp>
          <p:nvSpPr>
            <p:cNvPr id="955" name=""/>
            <p:cNvSpPr/>
            <p:nvPr/>
          </p:nvSpPr>
          <p:spPr>
            <a:xfrm>
              <a:off x="2819520" y="152388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952880" y="152388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80" y="3886200"/>
              <a:ext cx="769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09480" y="2057400"/>
              <a:ext cx="769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9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1371600" cy="1299960"/>
          </a:xfrm>
          <a:prstGeom prst="rect">
            <a:avLst/>
          </a:prstGeom>
          <a:ln w="0">
            <a:noFill/>
          </a:ln>
        </p:spPr>
      </p:pic>
      <p:grpSp>
        <p:nvGrpSpPr>
          <p:cNvPr id="960" name=""/>
          <p:cNvGrpSpPr/>
          <p:nvPr/>
        </p:nvGrpSpPr>
        <p:grpSpPr>
          <a:xfrm>
            <a:off x="3354480" y="4874400"/>
            <a:ext cx="1425240" cy="1119960"/>
            <a:chOff x="3354480" y="4874400"/>
            <a:chExt cx="1425240" cy="1119960"/>
          </a:xfrm>
        </p:grpSpPr>
        <p:grpSp>
          <p:nvGrpSpPr>
            <p:cNvPr id="961" name=""/>
            <p:cNvGrpSpPr/>
            <p:nvPr/>
          </p:nvGrpSpPr>
          <p:grpSpPr>
            <a:xfrm>
              <a:off x="3354480" y="4874400"/>
              <a:ext cx="774360" cy="1119960"/>
              <a:chOff x="3354480" y="4874400"/>
              <a:chExt cx="774360" cy="1119960"/>
            </a:xfrm>
          </p:grpSpPr>
          <p:grpSp>
            <p:nvGrpSpPr>
              <p:cNvPr id="962" name=""/>
              <p:cNvGrpSpPr/>
              <p:nvPr/>
            </p:nvGrpSpPr>
            <p:grpSpPr>
              <a:xfrm>
                <a:off x="3354480" y="4923360"/>
                <a:ext cx="489240" cy="1059120"/>
                <a:chOff x="3354480" y="4923360"/>
                <a:chExt cx="489240" cy="1059120"/>
              </a:xfrm>
            </p:grpSpPr>
            <p:sp>
              <p:nvSpPr>
                <p:cNvPr id="963" name=""/>
                <p:cNvSpPr/>
                <p:nvPr/>
              </p:nvSpPr>
              <p:spPr>
                <a:xfrm>
                  <a:off x="3584160" y="5913000"/>
                  <a:ext cx="259560" cy="69480"/>
                </a:xfrm>
                <a:custGeom>
                  <a:avLst/>
                  <a:gdLst/>
                  <a:ahLst/>
                  <a:rect l="l" t="t" r="r" b="b"/>
                  <a:pathLst>
                    <a:path w="571" h="152">
                      <a:moveTo>
                        <a:pt x="341" y="0"/>
                      </a:moveTo>
                      <a:lnTo>
                        <a:pt x="289" y="5"/>
                      </a:lnTo>
                      <a:lnTo>
                        <a:pt x="234" y="11"/>
                      </a:lnTo>
                      <a:lnTo>
                        <a:pt x="196" y="19"/>
                      </a:lnTo>
                      <a:lnTo>
                        <a:pt x="170" y="15"/>
                      </a:lnTo>
                      <a:lnTo>
                        <a:pt x="128" y="16"/>
                      </a:lnTo>
                      <a:lnTo>
                        <a:pt x="72" y="22"/>
                      </a:lnTo>
                      <a:lnTo>
                        <a:pt x="37" y="31"/>
                      </a:lnTo>
                      <a:lnTo>
                        <a:pt x="14" y="43"/>
                      </a:lnTo>
                      <a:lnTo>
                        <a:pt x="4" y="53"/>
                      </a:lnTo>
                      <a:lnTo>
                        <a:pt x="0" y="69"/>
                      </a:lnTo>
                      <a:lnTo>
                        <a:pt x="8" y="80"/>
                      </a:lnTo>
                      <a:lnTo>
                        <a:pt x="22" y="90"/>
                      </a:lnTo>
                      <a:lnTo>
                        <a:pt x="40" y="99"/>
                      </a:lnTo>
                      <a:lnTo>
                        <a:pt x="67" y="108"/>
                      </a:lnTo>
                      <a:lnTo>
                        <a:pt x="97" y="114"/>
                      </a:lnTo>
                      <a:lnTo>
                        <a:pt x="177" y="122"/>
                      </a:lnTo>
                      <a:lnTo>
                        <a:pt x="391" y="139"/>
                      </a:lnTo>
                      <a:lnTo>
                        <a:pt x="571" y="152"/>
                      </a:lnTo>
                      <a:lnTo>
                        <a:pt x="341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4" name=""/>
                <p:cNvGrpSpPr/>
                <p:nvPr/>
              </p:nvGrpSpPr>
              <p:grpSpPr>
                <a:xfrm>
                  <a:off x="3354480" y="4923360"/>
                  <a:ext cx="399960" cy="429120"/>
                  <a:chOff x="3354480" y="4923360"/>
                  <a:chExt cx="399960" cy="429120"/>
                </a:xfrm>
              </p:grpSpPr>
              <p:grpSp>
                <p:nvGrpSpPr>
                  <p:cNvPr id="965" name=""/>
                  <p:cNvGrpSpPr/>
                  <p:nvPr/>
                </p:nvGrpSpPr>
                <p:grpSpPr>
                  <a:xfrm>
                    <a:off x="3354480" y="4923360"/>
                    <a:ext cx="399960" cy="428760"/>
                    <a:chOff x="3354480" y="4923360"/>
                    <a:chExt cx="399960" cy="428760"/>
                  </a:xfrm>
                </p:grpSpPr>
                <p:grpSp>
                  <p:nvGrpSpPr>
                    <p:cNvPr id="966" name=""/>
                    <p:cNvGrpSpPr/>
                    <p:nvPr/>
                  </p:nvGrpSpPr>
                  <p:grpSpPr>
                    <a:xfrm>
                      <a:off x="3400920" y="4923360"/>
                      <a:ext cx="353520" cy="398520"/>
                      <a:chOff x="3400920" y="4923360"/>
                      <a:chExt cx="353520" cy="398520"/>
                    </a:xfrm>
                  </p:grpSpPr>
                  <p:grpSp>
                    <p:nvGrpSpPr>
                      <p:cNvPr id="967" name=""/>
                      <p:cNvGrpSpPr/>
                      <p:nvPr/>
                    </p:nvGrpSpPr>
                    <p:grpSpPr>
                      <a:xfrm>
                        <a:off x="3400920" y="4923360"/>
                        <a:ext cx="353520" cy="398520"/>
                        <a:chOff x="3400920" y="4923360"/>
                        <a:chExt cx="353520" cy="398520"/>
                      </a:xfrm>
                    </p:grpSpPr>
                    <p:sp>
                      <p:nvSpPr>
                        <p:cNvPr id="968" name=""/>
                        <p:cNvSpPr/>
                        <p:nvPr/>
                      </p:nvSpPr>
                      <p:spPr>
                        <a:xfrm>
                          <a:off x="3402000" y="4923360"/>
                          <a:ext cx="352440" cy="397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72" h="871">
                              <a:moveTo>
                                <a:pt x="616" y="75"/>
                              </a:moveTo>
                              <a:lnTo>
                                <a:pt x="684" y="0"/>
                              </a:lnTo>
                              <a:lnTo>
                                <a:pt x="704" y="1"/>
                              </a:lnTo>
                              <a:lnTo>
                                <a:pt x="721" y="5"/>
                              </a:lnTo>
                              <a:lnTo>
                                <a:pt x="738" y="12"/>
                              </a:lnTo>
                              <a:lnTo>
                                <a:pt x="750" y="21"/>
                              </a:lnTo>
                              <a:lnTo>
                                <a:pt x="760" y="31"/>
                              </a:lnTo>
                              <a:lnTo>
                                <a:pt x="768" y="46"/>
                              </a:lnTo>
                              <a:lnTo>
                                <a:pt x="772" y="66"/>
                              </a:lnTo>
                              <a:lnTo>
                                <a:pt x="770" y="85"/>
                              </a:lnTo>
                              <a:lnTo>
                                <a:pt x="55" y="871"/>
                              </a:lnTo>
                              <a:lnTo>
                                <a:pt x="0" y="811"/>
                              </a:lnTo>
                              <a:lnTo>
                                <a:pt x="616" y="7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9" name=""/>
                        <p:cNvSpPr/>
                        <p:nvPr/>
                      </p:nvSpPr>
                      <p:spPr>
                        <a:xfrm>
                          <a:off x="3400920" y="5293440"/>
                          <a:ext cx="28800" cy="28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" h="64">
                              <a:moveTo>
                                <a:pt x="2" y="2"/>
                              </a:moveTo>
                              <a:lnTo>
                                <a:pt x="19" y="0"/>
                              </a:lnTo>
                              <a:lnTo>
                                <a:pt x="34" y="6"/>
                              </a:lnTo>
                              <a:lnTo>
                                <a:pt x="46" y="13"/>
                              </a:lnTo>
                              <a:lnTo>
                                <a:pt x="55" y="22"/>
                              </a:lnTo>
                              <a:lnTo>
                                <a:pt x="61" y="37"/>
                              </a:lnTo>
                              <a:lnTo>
                                <a:pt x="63" y="52"/>
                              </a:lnTo>
                              <a:lnTo>
                                <a:pt x="60" y="61"/>
                              </a:lnTo>
                              <a:lnTo>
                                <a:pt x="49" y="64"/>
                              </a:lnTo>
                              <a:lnTo>
                                <a:pt x="32" y="62"/>
                              </a:lnTo>
                              <a:lnTo>
                                <a:pt x="22" y="57"/>
                              </a:lnTo>
                              <a:lnTo>
                                <a:pt x="12" y="50"/>
                              </a:lnTo>
                              <a:lnTo>
                                <a:pt x="6" y="42"/>
                              </a:lnTo>
                              <a:lnTo>
                                <a:pt x="1" y="27"/>
                              </a:lnTo>
                              <a:lnTo>
                                <a:pt x="0" y="13"/>
                              </a:lnTo>
                              <a:lnTo>
                                <a:pt x="2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360" bIns="-18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70" name=""/>
                      <p:cNvGrpSpPr/>
                      <p:nvPr/>
                    </p:nvGrpSpPr>
                    <p:grpSpPr>
                      <a:xfrm>
                        <a:off x="3477240" y="4925520"/>
                        <a:ext cx="275760" cy="295560"/>
                        <a:chOff x="3477240" y="4925520"/>
                        <a:chExt cx="275760" cy="295560"/>
                      </a:xfrm>
                    </p:grpSpPr>
                    <p:grpSp>
                      <p:nvGrpSpPr>
                        <p:cNvPr id="971" name=""/>
                        <p:cNvGrpSpPr/>
                        <p:nvPr/>
                      </p:nvGrpSpPr>
                      <p:grpSpPr>
                        <a:xfrm>
                          <a:off x="3682080" y="4925520"/>
                          <a:ext cx="70920" cy="54000"/>
                          <a:chOff x="3682080" y="4925520"/>
                          <a:chExt cx="70920" cy="54000"/>
                        </a:xfrm>
                      </p:grpSpPr>
                      <p:sp>
                        <p:nvSpPr>
                          <p:cNvPr id="972" name=""/>
                          <p:cNvSpPr/>
                          <p:nvPr/>
                        </p:nvSpPr>
                        <p:spPr>
                          <a:xfrm flipV="1">
                            <a:off x="3682080" y="4925520"/>
                            <a:ext cx="43560" cy="4572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80" bIns="-1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3" name=""/>
                          <p:cNvSpPr/>
                          <p:nvPr/>
                        </p:nvSpPr>
                        <p:spPr>
                          <a:xfrm flipV="1">
                            <a:off x="3708000" y="4930560"/>
                            <a:ext cx="32760" cy="2988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4" name=""/>
                          <p:cNvSpPr/>
                          <p:nvPr/>
                        </p:nvSpPr>
                        <p:spPr>
                          <a:xfrm flipV="1">
                            <a:off x="3702600" y="4938840"/>
                            <a:ext cx="44640" cy="4068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120" bIns="-6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5" name=""/>
                          <p:cNvSpPr/>
                          <p:nvPr/>
                        </p:nvSpPr>
                        <p:spPr>
                          <a:xfrm flipV="1">
                            <a:off x="3721680" y="4952880"/>
                            <a:ext cx="31320" cy="2304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760" bIns="-23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76" name=""/>
                        <p:cNvGrpSpPr/>
                        <p:nvPr/>
                      </p:nvGrpSpPr>
                      <p:grpSpPr>
                        <a:xfrm>
                          <a:off x="3477240" y="5114880"/>
                          <a:ext cx="93600" cy="106200"/>
                          <a:chOff x="3477240" y="5114880"/>
                          <a:chExt cx="93600" cy="106200"/>
                        </a:xfrm>
                      </p:grpSpPr>
                      <p:sp>
                        <p:nvSpPr>
                          <p:cNvPr id="977" name=""/>
                          <p:cNvSpPr/>
                          <p:nvPr/>
                        </p:nvSpPr>
                        <p:spPr>
                          <a:xfrm flipV="1">
                            <a:off x="3477240" y="5172840"/>
                            <a:ext cx="30960" cy="3672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080" bIns="-10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8" name=""/>
                          <p:cNvSpPr/>
                          <p:nvPr/>
                        </p:nvSpPr>
                        <p:spPr>
                          <a:xfrm flipV="1">
                            <a:off x="3494520" y="5195880"/>
                            <a:ext cx="17640" cy="1872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080" bIns="-28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9" name=""/>
                          <p:cNvSpPr/>
                          <p:nvPr/>
                        </p:nvSpPr>
                        <p:spPr>
                          <a:xfrm flipV="1">
                            <a:off x="3501360" y="5145120"/>
                            <a:ext cx="69480" cy="7596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9160" bIns="29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80" name=""/>
                          <p:cNvSpPr/>
                          <p:nvPr/>
                        </p:nvSpPr>
                        <p:spPr>
                          <a:xfrm flipV="1">
                            <a:off x="3535920" y="5114880"/>
                            <a:ext cx="33840" cy="3420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2600" bIns="-12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981" name=""/>
                    <p:cNvSpPr/>
                    <p:nvPr/>
                  </p:nvSpPr>
                  <p:spPr>
                    <a:xfrm>
                      <a:off x="3354480" y="5160960"/>
                      <a:ext cx="213120" cy="19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" h="420">
                          <a:moveTo>
                            <a:pt x="0" y="198"/>
                          </a:moveTo>
                          <a:lnTo>
                            <a:pt x="10" y="167"/>
                          </a:lnTo>
                          <a:lnTo>
                            <a:pt x="25" y="135"/>
                          </a:lnTo>
                          <a:lnTo>
                            <a:pt x="41" y="108"/>
                          </a:lnTo>
                          <a:lnTo>
                            <a:pt x="61" y="81"/>
                          </a:lnTo>
                          <a:lnTo>
                            <a:pt x="80" y="59"/>
                          </a:lnTo>
                          <a:lnTo>
                            <a:pt x="104" y="38"/>
                          </a:lnTo>
                          <a:lnTo>
                            <a:pt x="129" y="19"/>
                          </a:lnTo>
                          <a:lnTo>
                            <a:pt x="157" y="0"/>
                          </a:lnTo>
                          <a:lnTo>
                            <a:pt x="172" y="17"/>
                          </a:lnTo>
                          <a:lnTo>
                            <a:pt x="191" y="34"/>
                          </a:lnTo>
                          <a:lnTo>
                            <a:pt x="214" y="53"/>
                          </a:lnTo>
                          <a:lnTo>
                            <a:pt x="244" y="78"/>
                          </a:lnTo>
                          <a:lnTo>
                            <a:pt x="273" y="101"/>
                          </a:lnTo>
                          <a:lnTo>
                            <a:pt x="303" y="121"/>
                          </a:lnTo>
                          <a:lnTo>
                            <a:pt x="337" y="145"/>
                          </a:lnTo>
                          <a:lnTo>
                            <a:pt x="373" y="166"/>
                          </a:lnTo>
                          <a:lnTo>
                            <a:pt x="405" y="182"/>
                          </a:lnTo>
                          <a:lnTo>
                            <a:pt x="434" y="199"/>
                          </a:lnTo>
                          <a:lnTo>
                            <a:pt x="470" y="218"/>
                          </a:lnTo>
                          <a:lnTo>
                            <a:pt x="320" y="420"/>
                          </a:lnTo>
                          <a:lnTo>
                            <a:pt x="293" y="392"/>
                          </a:lnTo>
                          <a:lnTo>
                            <a:pt x="261" y="362"/>
                          </a:lnTo>
                          <a:lnTo>
                            <a:pt x="241" y="340"/>
                          </a:lnTo>
                          <a:lnTo>
                            <a:pt x="217" y="318"/>
                          </a:lnTo>
                          <a:lnTo>
                            <a:pt x="190" y="299"/>
                          </a:lnTo>
                          <a:lnTo>
                            <a:pt x="152" y="274"/>
                          </a:lnTo>
                          <a:lnTo>
                            <a:pt x="119" y="255"/>
                          </a:lnTo>
                          <a:lnTo>
                            <a:pt x="85" y="237"/>
                          </a:lnTo>
                          <a:lnTo>
                            <a:pt x="56" y="220"/>
                          </a:lnTo>
                          <a:lnTo>
                            <a:pt x="25" y="206"/>
                          </a:lnTo>
                          <a:lnTo>
                            <a:pt x="0" y="198"/>
                          </a:lnTo>
                          <a:close/>
                        </a:path>
                      </a:pathLst>
                    </a:custGeom>
                    <a:solidFill>
                      <a:srgbClr val="7f3f0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82" name=""/>
                  <p:cNvSpPr/>
                  <p:nvPr/>
                </p:nvSpPr>
                <p:spPr>
                  <a:xfrm>
                    <a:off x="3498840" y="5261040"/>
                    <a:ext cx="6840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201">
                        <a:moveTo>
                          <a:pt x="150" y="0"/>
                        </a:moveTo>
                        <a:lnTo>
                          <a:pt x="128" y="9"/>
                        </a:lnTo>
                        <a:lnTo>
                          <a:pt x="110" y="21"/>
                        </a:lnTo>
                        <a:lnTo>
                          <a:pt x="92" y="36"/>
                        </a:lnTo>
                        <a:lnTo>
                          <a:pt x="74" y="54"/>
                        </a:lnTo>
                        <a:lnTo>
                          <a:pt x="55" y="77"/>
                        </a:lnTo>
                        <a:lnTo>
                          <a:pt x="44" y="94"/>
                        </a:lnTo>
                        <a:lnTo>
                          <a:pt x="29" y="118"/>
                        </a:lnTo>
                        <a:lnTo>
                          <a:pt x="16" y="143"/>
                        </a:lnTo>
                        <a:lnTo>
                          <a:pt x="5" y="170"/>
                        </a:lnTo>
                        <a:lnTo>
                          <a:pt x="0" y="201"/>
                        </a:lnTo>
                        <a:lnTo>
                          <a:pt x="23" y="195"/>
                        </a:lnTo>
                        <a:lnTo>
                          <a:pt x="40" y="186"/>
                        </a:lnTo>
                        <a:lnTo>
                          <a:pt x="63" y="173"/>
                        </a:lnTo>
                        <a:lnTo>
                          <a:pt x="83" y="156"/>
                        </a:lnTo>
                        <a:lnTo>
                          <a:pt x="102" y="136"/>
                        </a:lnTo>
                        <a:lnTo>
                          <a:pt x="117" y="114"/>
                        </a:lnTo>
                        <a:lnTo>
                          <a:pt x="128" y="93"/>
                        </a:lnTo>
                        <a:lnTo>
                          <a:pt x="140" y="67"/>
                        </a:lnTo>
                        <a:lnTo>
                          <a:pt x="146" y="45"/>
                        </a:lnTo>
                        <a:lnTo>
                          <a:pt x="148" y="21"/>
                        </a:lnTo>
                        <a:lnTo>
                          <a:pt x="150" y="0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3" name=""/>
              <p:cNvGrpSpPr/>
              <p:nvPr/>
            </p:nvGrpSpPr>
            <p:grpSpPr>
              <a:xfrm>
                <a:off x="3521160" y="4874400"/>
                <a:ext cx="607680" cy="1119960"/>
                <a:chOff x="3521160" y="4874400"/>
                <a:chExt cx="607680" cy="1119960"/>
              </a:xfrm>
            </p:grpSpPr>
            <p:grpSp>
              <p:nvGrpSpPr>
                <p:cNvPr id="984" name=""/>
                <p:cNvGrpSpPr/>
                <p:nvPr/>
              </p:nvGrpSpPr>
              <p:grpSpPr>
                <a:xfrm>
                  <a:off x="3521160" y="4874400"/>
                  <a:ext cx="607680" cy="1119960"/>
                  <a:chOff x="3521160" y="4874400"/>
                  <a:chExt cx="607680" cy="1119960"/>
                </a:xfrm>
              </p:grpSpPr>
              <p:grpSp>
                <p:nvGrpSpPr>
                  <p:cNvPr id="985" name=""/>
                  <p:cNvGrpSpPr/>
                  <p:nvPr/>
                </p:nvGrpSpPr>
                <p:grpSpPr>
                  <a:xfrm>
                    <a:off x="3648240" y="5645520"/>
                    <a:ext cx="356400" cy="348840"/>
                    <a:chOff x="3648240" y="5645520"/>
                    <a:chExt cx="356400" cy="348840"/>
                  </a:xfrm>
                </p:grpSpPr>
                <p:grpSp>
                  <p:nvGrpSpPr>
                    <p:cNvPr id="986" name=""/>
                    <p:cNvGrpSpPr/>
                    <p:nvPr/>
                  </p:nvGrpSpPr>
                  <p:grpSpPr>
                    <a:xfrm>
                      <a:off x="3712320" y="5652000"/>
                      <a:ext cx="292320" cy="233640"/>
                      <a:chOff x="3712320" y="5652000"/>
                      <a:chExt cx="292320" cy="233640"/>
                    </a:xfrm>
                  </p:grpSpPr>
                  <p:sp>
                    <p:nvSpPr>
                      <p:cNvPr id="987" name=""/>
                      <p:cNvSpPr/>
                      <p:nvPr/>
                    </p:nvSpPr>
                    <p:spPr>
                      <a:xfrm>
                        <a:off x="3712320" y="5652000"/>
                        <a:ext cx="292320" cy="23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4" h="512">
                            <a:moveTo>
                              <a:pt x="171" y="0"/>
                            </a:moveTo>
                            <a:lnTo>
                              <a:pt x="226" y="12"/>
                            </a:lnTo>
                            <a:lnTo>
                              <a:pt x="181" y="114"/>
                            </a:lnTo>
                            <a:lnTo>
                              <a:pt x="139" y="198"/>
                            </a:lnTo>
                            <a:lnTo>
                              <a:pt x="113" y="260"/>
                            </a:lnTo>
                            <a:lnTo>
                              <a:pt x="105" y="286"/>
                            </a:lnTo>
                            <a:lnTo>
                              <a:pt x="106" y="308"/>
                            </a:lnTo>
                            <a:lnTo>
                              <a:pt x="116" y="323"/>
                            </a:lnTo>
                            <a:lnTo>
                              <a:pt x="137" y="338"/>
                            </a:lnTo>
                            <a:lnTo>
                              <a:pt x="164" y="354"/>
                            </a:lnTo>
                            <a:lnTo>
                              <a:pt x="193" y="364"/>
                            </a:lnTo>
                            <a:lnTo>
                              <a:pt x="233" y="377"/>
                            </a:lnTo>
                            <a:lnTo>
                              <a:pt x="271" y="383"/>
                            </a:lnTo>
                            <a:lnTo>
                              <a:pt x="318" y="387"/>
                            </a:lnTo>
                            <a:lnTo>
                              <a:pt x="360" y="383"/>
                            </a:lnTo>
                            <a:lnTo>
                              <a:pt x="403" y="377"/>
                            </a:lnTo>
                            <a:lnTo>
                              <a:pt x="450" y="367"/>
                            </a:lnTo>
                            <a:lnTo>
                              <a:pt x="466" y="371"/>
                            </a:lnTo>
                            <a:lnTo>
                              <a:pt x="472" y="374"/>
                            </a:lnTo>
                            <a:lnTo>
                              <a:pt x="475" y="383"/>
                            </a:lnTo>
                            <a:lnTo>
                              <a:pt x="468" y="401"/>
                            </a:lnTo>
                            <a:lnTo>
                              <a:pt x="462" y="411"/>
                            </a:lnTo>
                            <a:lnTo>
                              <a:pt x="471" y="415"/>
                            </a:lnTo>
                            <a:lnTo>
                              <a:pt x="535" y="403"/>
                            </a:lnTo>
                            <a:lnTo>
                              <a:pt x="550" y="407"/>
                            </a:lnTo>
                            <a:lnTo>
                              <a:pt x="559" y="413"/>
                            </a:lnTo>
                            <a:lnTo>
                              <a:pt x="563" y="424"/>
                            </a:lnTo>
                            <a:lnTo>
                              <a:pt x="556" y="432"/>
                            </a:lnTo>
                            <a:lnTo>
                              <a:pt x="545" y="440"/>
                            </a:lnTo>
                            <a:lnTo>
                              <a:pt x="531" y="449"/>
                            </a:lnTo>
                            <a:lnTo>
                              <a:pt x="541" y="455"/>
                            </a:lnTo>
                            <a:lnTo>
                              <a:pt x="569" y="452"/>
                            </a:lnTo>
                            <a:lnTo>
                              <a:pt x="592" y="455"/>
                            </a:lnTo>
                            <a:lnTo>
                              <a:pt x="614" y="462"/>
                            </a:lnTo>
                            <a:lnTo>
                              <a:pt x="639" y="474"/>
                            </a:lnTo>
                            <a:lnTo>
                              <a:pt x="644" y="483"/>
                            </a:lnTo>
                            <a:lnTo>
                              <a:pt x="643" y="494"/>
                            </a:lnTo>
                            <a:lnTo>
                              <a:pt x="632" y="501"/>
                            </a:lnTo>
                            <a:lnTo>
                              <a:pt x="609" y="505"/>
                            </a:lnTo>
                            <a:lnTo>
                              <a:pt x="572" y="508"/>
                            </a:lnTo>
                            <a:lnTo>
                              <a:pt x="530" y="505"/>
                            </a:lnTo>
                            <a:lnTo>
                              <a:pt x="484" y="509"/>
                            </a:lnTo>
                            <a:lnTo>
                              <a:pt x="452" y="512"/>
                            </a:lnTo>
                            <a:lnTo>
                              <a:pt x="393" y="508"/>
                            </a:lnTo>
                            <a:lnTo>
                              <a:pt x="363" y="501"/>
                            </a:lnTo>
                            <a:lnTo>
                              <a:pt x="319" y="494"/>
                            </a:lnTo>
                            <a:lnTo>
                              <a:pt x="246" y="491"/>
                            </a:lnTo>
                            <a:lnTo>
                              <a:pt x="0" y="418"/>
                            </a:lnTo>
                            <a:lnTo>
                              <a:pt x="30" y="244"/>
                            </a:lnTo>
                            <a:lnTo>
                              <a:pt x="171" y="0"/>
                            </a:lnTo>
                            <a:close/>
                          </a:path>
                        </a:pathLst>
                      </a:custGeom>
                      <a:solidFill>
                        <a:srgbClr val="ff9f0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8" name=""/>
                      <p:cNvSpPr/>
                      <p:nvPr/>
                    </p:nvSpPr>
                    <p:spPr>
                      <a:xfrm>
                        <a:off x="3832200" y="5826960"/>
                        <a:ext cx="4788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28">
                            <a:moveTo>
                              <a:pt x="0" y="0"/>
                            </a:moveTo>
                            <a:lnTo>
                              <a:pt x="53" y="25"/>
                            </a:lnTo>
                            <a:lnTo>
                              <a:pt x="75" y="25"/>
                            </a:lnTo>
                            <a:lnTo>
                              <a:pt x="103" y="28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89" name=""/>
                    <p:cNvGrpSpPr/>
                    <p:nvPr/>
                  </p:nvGrpSpPr>
                  <p:grpSpPr>
                    <a:xfrm>
                      <a:off x="3648240" y="5645520"/>
                      <a:ext cx="295200" cy="348840"/>
                      <a:chOff x="3648240" y="5645520"/>
                      <a:chExt cx="295200" cy="348840"/>
                    </a:xfrm>
                  </p:grpSpPr>
                  <p:sp>
                    <p:nvSpPr>
                      <p:cNvPr id="990" name=""/>
                      <p:cNvSpPr/>
                      <p:nvPr/>
                    </p:nvSpPr>
                    <p:spPr>
                      <a:xfrm>
                        <a:off x="3648240" y="5645520"/>
                        <a:ext cx="295200" cy="348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9" h="767">
                            <a:moveTo>
                              <a:pt x="234" y="0"/>
                            </a:moveTo>
                            <a:lnTo>
                              <a:pt x="338" y="21"/>
                            </a:lnTo>
                            <a:lnTo>
                              <a:pt x="333" y="44"/>
                            </a:lnTo>
                            <a:lnTo>
                              <a:pt x="322" y="72"/>
                            </a:lnTo>
                            <a:lnTo>
                              <a:pt x="311" y="96"/>
                            </a:lnTo>
                            <a:lnTo>
                              <a:pt x="294" y="124"/>
                            </a:lnTo>
                            <a:lnTo>
                              <a:pt x="277" y="149"/>
                            </a:lnTo>
                            <a:lnTo>
                              <a:pt x="259" y="171"/>
                            </a:lnTo>
                            <a:lnTo>
                              <a:pt x="248" y="203"/>
                            </a:lnTo>
                            <a:lnTo>
                              <a:pt x="228" y="247"/>
                            </a:lnTo>
                            <a:lnTo>
                              <a:pt x="207" y="287"/>
                            </a:lnTo>
                            <a:lnTo>
                              <a:pt x="200" y="301"/>
                            </a:lnTo>
                            <a:lnTo>
                              <a:pt x="195" y="317"/>
                            </a:lnTo>
                            <a:lnTo>
                              <a:pt x="191" y="337"/>
                            </a:lnTo>
                            <a:lnTo>
                              <a:pt x="187" y="360"/>
                            </a:lnTo>
                            <a:lnTo>
                              <a:pt x="184" y="383"/>
                            </a:lnTo>
                            <a:lnTo>
                              <a:pt x="185" y="403"/>
                            </a:lnTo>
                            <a:lnTo>
                              <a:pt x="191" y="419"/>
                            </a:lnTo>
                            <a:lnTo>
                              <a:pt x="204" y="433"/>
                            </a:lnTo>
                            <a:lnTo>
                              <a:pt x="231" y="439"/>
                            </a:lnTo>
                            <a:lnTo>
                              <a:pt x="259" y="449"/>
                            </a:lnTo>
                            <a:lnTo>
                              <a:pt x="288" y="461"/>
                            </a:lnTo>
                            <a:lnTo>
                              <a:pt x="322" y="474"/>
                            </a:lnTo>
                            <a:lnTo>
                              <a:pt x="342" y="477"/>
                            </a:lnTo>
                            <a:lnTo>
                              <a:pt x="363" y="482"/>
                            </a:lnTo>
                            <a:lnTo>
                              <a:pt x="383" y="490"/>
                            </a:lnTo>
                            <a:lnTo>
                              <a:pt x="404" y="498"/>
                            </a:lnTo>
                            <a:lnTo>
                              <a:pt x="420" y="510"/>
                            </a:lnTo>
                            <a:lnTo>
                              <a:pt x="436" y="523"/>
                            </a:lnTo>
                            <a:lnTo>
                              <a:pt x="448" y="520"/>
                            </a:lnTo>
                            <a:lnTo>
                              <a:pt x="461" y="518"/>
                            </a:lnTo>
                            <a:lnTo>
                              <a:pt x="470" y="522"/>
                            </a:lnTo>
                            <a:lnTo>
                              <a:pt x="475" y="527"/>
                            </a:lnTo>
                            <a:lnTo>
                              <a:pt x="483" y="539"/>
                            </a:lnTo>
                            <a:lnTo>
                              <a:pt x="508" y="540"/>
                            </a:lnTo>
                            <a:lnTo>
                              <a:pt x="543" y="544"/>
                            </a:lnTo>
                            <a:lnTo>
                              <a:pt x="582" y="549"/>
                            </a:lnTo>
                            <a:lnTo>
                              <a:pt x="616" y="551"/>
                            </a:lnTo>
                            <a:lnTo>
                              <a:pt x="637" y="555"/>
                            </a:lnTo>
                            <a:lnTo>
                              <a:pt x="646" y="560"/>
                            </a:lnTo>
                            <a:lnTo>
                              <a:pt x="649" y="567"/>
                            </a:lnTo>
                            <a:lnTo>
                              <a:pt x="646" y="574"/>
                            </a:lnTo>
                            <a:lnTo>
                              <a:pt x="635" y="581"/>
                            </a:lnTo>
                            <a:lnTo>
                              <a:pt x="616" y="589"/>
                            </a:lnTo>
                            <a:lnTo>
                              <a:pt x="591" y="598"/>
                            </a:lnTo>
                            <a:lnTo>
                              <a:pt x="568" y="601"/>
                            </a:lnTo>
                            <a:lnTo>
                              <a:pt x="547" y="603"/>
                            </a:lnTo>
                            <a:lnTo>
                              <a:pt x="529" y="604"/>
                            </a:lnTo>
                            <a:lnTo>
                              <a:pt x="557" y="619"/>
                            </a:lnTo>
                            <a:lnTo>
                              <a:pt x="577" y="630"/>
                            </a:lnTo>
                            <a:lnTo>
                              <a:pt x="591" y="640"/>
                            </a:lnTo>
                            <a:lnTo>
                              <a:pt x="598" y="652"/>
                            </a:lnTo>
                            <a:lnTo>
                              <a:pt x="597" y="664"/>
                            </a:lnTo>
                            <a:lnTo>
                              <a:pt x="591" y="671"/>
                            </a:lnTo>
                            <a:lnTo>
                              <a:pt x="581" y="674"/>
                            </a:lnTo>
                            <a:lnTo>
                              <a:pt x="563" y="676"/>
                            </a:lnTo>
                            <a:lnTo>
                              <a:pt x="539" y="673"/>
                            </a:lnTo>
                            <a:lnTo>
                              <a:pt x="515" y="669"/>
                            </a:lnTo>
                            <a:lnTo>
                              <a:pt x="503" y="668"/>
                            </a:lnTo>
                            <a:lnTo>
                              <a:pt x="494" y="671"/>
                            </a:lnTo>
                            <a:lnTo>
                              <a:pt x="489" y="677"/>
                            </a:lnTo>
                            <a:lnTo>
                              <a:pt x="492" y="684"/>
                            </a:lnTo>
                            <a:lnTo>
                              <a:pt x="499" y="692"/>
                            </a:lnTo>
                            <a:lnTo>
                              <a:pt x="509" y="703"/>
                            </a:lnTo>
                            <a:lnTo>
                              <a:pt x="529" y="725"/>
                            </a:lnTo>
                            <a:lnTo>
                              <a:pt x="541" y="741"/>
                            </a:lnTo>
                            <a:lnTo>
                              <a:pt x="541" y="752"/>
                            </a:lnTo>
                            <a:lnTo>
                              <a:pt x="536" y="762"/>
                            </a:lnTo>
                            <a:lnTo>
                              <a:pt x="527" y="766"/>
                            </a:lnTo>
                            <a:lnTo>
                              <a:pt x="514" y="767"/>
                            </a:lnTo>
                            <a:lnTo>
                              <a:pt x="488" y="761"/>
                            </a:lnTo>
                            <a:lnTo>
                              <a:pt x="461" y="756"/>
                            </a:lnTo>
                            <a:lnTo>
                              <a:pt x="437" y="752"/>
                            </a:lnTo>
                            <a:lnTo>
                              <a:pt x="395" y="738"/>
                            </a:lnTo>
                            <a:lnTo>
                              <a:pt x="361" y="721"/>
                            </a:lnTo>
                            <a:lnTo>
                              <a:pt x="321" y="698"/>
                            </a:lnTo>
                            <a:lnTo>
                              <a:pt x="292" y="679"/>
                            </a:lnTo>
                            <a:lnTo>
                              <a:pt x="260" y="659"/>
                            </a:lnTo>
                            <a:lnTo>
                              <a:pt x="228" y="635"/>
                            </a:lnTo>
                            <a:lnTo>
                              <a:pt x="196" y="611"/>
                            </a:lnTo>
                            <a:lnTo>
                              <a:pt x="157" y="585"/>
                            </a:lnTo>
                            <a:lnTo>
                              <a:pt x="124" y="566"/>
                            </a:lnTo>
                            <a:lnTo>
                              <a:pt x="83" y="544"/>
                            </a:lnTo>
                            <a:lnTo>
                              <a:pt x="50" y="523"/>
                            </a:lnTo>
                            <a:lnTo>
                              <a:pt x="31" y="510"/>
                            </a:lnTo>
                            <a:lnTo>
                              <a:pt x="14" y="496"/>
                            </a:lnTo>
                            <a:lnTo>
                              <a:pt x="1" y="477"/>
                            </a:lnTo>
                            <a:lnTo>
                              <a:pt x="0" y="459"/>
                            </a:lnTo>
                            <a:lnTo>
                              <a:pt x="5" y="443"/>
                            </a:lnTo>
                            <a:lnTo>
                              <a:pt x="18" y="429"/>
                            </a:lnTo>
                            <a:lnTo>
                              <a:pt x="40" y="413"/>
                            </a:lnTo>
                            <a:lnTo>
                              <a:pt x="83" y="352"/>
                            </a:lnTo>
                            <a:lnTo>
                              <a:pt x="113" y="310"/>
                            </a:lnTo>
                            <a:lnTo>
                              <a:pt x="128" y="277"/>
                            </a:lnTo>
                            <a:lnTo>
                              <a:pt x="210" y="62"/>
                            </a:lnTo>
                            <a:lnTo>
                              <a:pt x="234" y="0"/>
                            </a:lnTo>
                            <a:close/>
                          </a:path>
                        </a:pathLst>
                      </a:custGeom>
                      <a:solidFill>
                        <a:srgbClr val="ffbf1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91" name=""/>
                      <p:cNvGrpSpPr/>
                      <p:nvPr/>
                    </p:nvGrpSpPr>
                    <p:grpSpPr>
                      <a:xfrm>
                        <a:off x="3679560" y="5817600"/>
                        <a:ext cx="191880" cy="96480"/>
                        <a:chOff x="3679560" y="5817600"/>
                        <a:chExt cx="191880" cy="96480"/>
                      </a:xfrm>
                    </p:grpSpPr>
                    <p:sp>
                      <p:nvSpPr>
                        <p:cNvPr id="992" name=""/>
                        <p:cNvSpPr/>
                        <p:nvPr/>
                      </p:nvSpPr>
                      <p:spPr>
                        <a:xfrm>
                          <a:off x="3833640" y="5884200"/>
                          <a:ext cx="16200" cy="29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4" h="66">
                              <a:moveTo>
                                <a:pt x="27" y="0"/>
                              </a:moveTo>
                              <a:lnTo>
                                <a:pt x="31" y="9"/>
                              </a:lnTo>
                              <a:lnTo>
                                <a:pt x="34" y="19"/>
                              </a:lnTo>
                              <a:lnTo>
                                <a:pt x="32" y="30"/>
                              </a:lnTo>
                              <a:lnTo>
                                <a:pt x="27" y="45"/>
                              </a:lnTo>
                              <a:lnTo>
                                <a:pt x="22" y="53"/>
                              </a:lnTo>
                              <a:lnTo>
                                <a:pt x="12" y="60"/>
                              </a:lnTo>
                              <a:lnTo>
                                <a:pt x="0" y="66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93" name=""/>
                        <p:cNvSpPr/>
                        <p:nvPr/>
                      </p:nvSpPr>
                      <p:spPr>
                        <a:xfrm>
                          <a:off x="3859560" y="5889600"/>
                          <a:ext cx="11880" cy="2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51">
                              <a:moveTo>
                                <a:pt x="19" y="0"/>
                              </a:moveTo>
                              <a:lnTo>
                                <a:pt x="25" y="12"/>
                              </a:lnTo>
                              <a:lnTo>
                                <a:pt x="28" y="20"/>
                              </a:lnTo>
                              <a:lnTo>
                                <a:pt x="25" y="28"/>
                              </a:lnTo>
                              <a:lnTo>
                                <a:pt x="20" y="36"/>
                              </a:lnTo>
                              <a:lnTo>
                                <a:pt x="12" y="42"/>
                              </a:lnTo>
                              <a:lnTo>
                                <a:pt x="0" y="51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760" bIns="-23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94" name=""/>
                        <p:cNvSpPr/>
                        <p:nvPr/>
                      </p:nvSpPr>
                      <p:spPr>
                        <a:xfrm>
                          <a:off x="3679560" y="5817600"/>
                          <a:ext cx="23040" cy="57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" h="127">
                              <a:moveTo>
                                <a:pt x="49" y="0"/>
                              </a:moveTo>
                              <a:lnTo>
                                <a:pt x="34" y="13"/>
                              </a:lnTo>
                              <a:lnTo>
                                <a:pt x="19" y="32"/>
                              </a:lnTo>
                              <a:lnTo>
                                <a:pt x="10" y="50"/>
                              </a:lnTo>
                              <a:lnTo>
                                <a:pt x="4" y="63"/>
                              </a:lnTo>
                              <a:lnTo>
                                <a:pt x="0" y="78"/>
                              </a:lnTo>
                              <a:lnTo>
                                <a:pt x="0" y="91"/>
                              </a:lnTo>
                              <a:lnTo>
                                <a:pt x="4" y="107"/>
                              </a:lnTo>
                              <a:lnTo>
                                <a:pt x="14" y="127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995" name=""/>
                  <p:cNvGrpSpPr/>
                  <p:nvPr/>
                </p:nvGrpSpPr>
                <p:grpSpPr>
                  <a:xfrm>
                    <a:off x="3521160" y="4874400"/>
                    <a:ext cx="607680" cy="807480"/>
                    <a:chOff x="3521160" y="4874400"/>
                    <a:chExt cx="607680" cy="807480"/>
                  </a:xfrm>
                </p:grpSpPr>
                <p:grpSp>
                  <p:nvGrpSpPr>
                    <p:cNvPr id="996" name=""/>
                    <p:cNvGrpSpPr/>
                    <p:nvPr/>
                  </p:nvGrpSpPr>
                  <p:grpSpPr>
                    <a:xfrm>
                      <a:off x="3521160" y="4874400"/>
                      <a:ext cx="607680" cy="807480"/>
                      <a:chOff x="3521160" y="4874400"/>
                      <a:chExt cx="607680" cy="807480"/>
                    </a:xfrm>
                  </p:grpSpPr>
                  <p:grpSp>
                    <p:nvGrpSpPr>
                      <p:cNvPr id="997" name=""/>
                      <p:cNvGrpSpPr/>
                      <p:nvPr/>
                    </p:nvGrpSpPr>
                    <p:grpSpPr>
                      <a:xfrm>
                        <a:off x="3521160" y="4946760"/>
                        <a:ext cx="186840" cy="211320"/>
                        <a:chOff x="3521160" y="4946760"/>
                        <a:chExt cx="186840" cy="211320"/>
                      </a:xfrm>
                    </p:grpSpPr>
                    <p:grpSp>
                      <p:nvGrpSpPr>
                        <p:cNvPr id="998" name=""/>
                        <p:cNvGrpSpPr/>
                        <p:nvPr/>
                      </p:nvGrpSpPr>
                      <p:grpSpPr>
                        <a:xfrm>
                          <a:off x="3521160" y="5023080"/>
                          <a:ext cx="137880" cy="120240"/>
                          <a:chOff x="3521160" y="5023080"/>
                          <a:chExt cx="137880" cy="120240"/>
                        </a:xfrm>
                      </p:grpSpPr>
                      <p:sp>
                        <p:nvSpPr>
                          <p:cNvPr id="999" name=""/>
                          <p:cNvSpPr/>
                          <p:nvPr/>
                        </p:nvSpPr>
                        <p:spPr>
                          <a:xfrm>
                            <a:off x="3521160" y="5023080"/>
                            <a:ext cx="137880" cy="120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5" h="263">
                                <a:moveTo>
                                  <a:pt x="176" y="0"/>
                                </a:moveTo>
                                <a:lnTo>
                                  <a:pt x="115" y="10"/>
                                </a:lnTo>
                                <a:lnTo>
                                  <a:pt x="104" y="16"/>
                                </a:lnTo>
                                <a:lnTo>
                                  <a:pt x="117" y="53"/>
                                </a:lnTo>
                                <a:lnTo>
                                  <a:pt x="98" y="53"/>
                                </a:lnTo>
                                <a:lnTo>
                                  <a:pt x="90" y="57"/>
                                </a:lnTo>
                                <a:lnTo>
                                  <a:pt x="83" y="110"/>
                                </a:lnTo>
                                <a:lnTo>
                                  <a:pt x="70" y="106"/>
                                </a:lnTo>
                                <a:lnTo>
                                  <a:pt x="39" y="121"/>
                                </a:lnTo>
                                <a:lnTo>
                                  <a:pt x="6" y="148"/>
                                </a:lnTo>
                                <a:lnTo>
                                  <a:pt x="0" y="174"/>
                                </a:lnTo>
                                <a:lnTo>
                                  <a:pt x="7" y="199"/>
                                </a:lnTo>
                                <a:lnTo>
                                  <a:pt x="21" y="214"/>
                                </a:lnTo>
                                <a:lnTo>
                                  <a:pt x="32" y="223"/>
                                </a:lnTo>
                                <a:lnTo>
                                  <a:pt x="51" y="218"/>
                                </a:lnTo>
                                <a:lnTo>
                                  <a:pt x="74" y="215"/>
                                </a:lnTo>
                                <a:lnTo>
                                  <a:pt x="94" y="219"/>
                                </a:lnTo>
                                <a:lnTo>
                                  <a:pt x="115" y="225"/>
                                </a:lnTo>
                                <a:lnTo>
                                  <a:pt x="138" y="238"/>
                                </a:lnTo>
                                <a:lnTo>
                                  <a:pt x="164" y="263"/>
                                </a:lnTo>
                                <a:lnTo>
                                  <a:pt x="236" y="261"/>
                                </a:lnTo>
                                <a:lnTo>
                                  <a:pt x="305" y="238"/>
                                </a:lnTo>
                                <a:lnTo>
                                  <a:pt x="198" y="0"/>
                                </a:lnTo>
                                <a:lnTo>
                                  <a:pt x="17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46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00" name=""/>
                          <p:cNvSpPr/>
                          <p:nvPr/>
                        </p:nvSpPr>
                        <p:spPr>
                          <a:xfrm>
                            <a:off x="3559320" y="5072040"/>
                            <a:ext cx="52920" cy="1512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1680" bIns="-31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01" name=""/>
                          <p:cNvSpPr/>
                          <p:nvPr/>
                        </p:nvSpPr>
                        <p:spPr>
                          <a:xfrm>
                            <a:off x="3573000" y="5046120"/>
                            <a:ext cx="39240" cy="504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760" bIns="-41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002" name=""/>
                        <p:cNvSpPr/>
                        <p:nvPr/>
                      </p:nvSpPr>
                      <p:spPr>
                        <a:xfrm>
                          <a:off x="3598920" y="5064120"/>
                          <a:ext cx="53280" cy="80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8" h="176">
                              <a:moveTo>
                                <a:pt x="0" y="15"/>
                              </a:moveTo>
                              <a:lnTo>
                                <a:pt x="61" y="0"/>
                              </a:lnTo>
                              <a:lnTo>
                                <a:pt x="118" y="157"/>
                              </a:lnTo>
                              <a:lnTo>
                                <a:pt x="49" y="176"/>
                              </a:lnTo>
                              <a:lnTo>
                                <a:pt x="0" y="1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dff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480" bIns="33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03" name=""/>
                        <p:cNvSpPr/>
                        <p:nvPr/>
                      </p:nvSpPr>
                      <p:spPr>
                        <a:xfrm>
                          <a:off x="3581280" y="5085720"/>
                          <a:ext cx="53280" cy="72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7" h="157">
                              <a:moveTo>
                                <a:pt x="74" y="0"/>
                              </a:moveTo>
                              <a:lnTo>
                                <a:pt x="37" y="1"/>
                              </a:lnTo>
                              <a:lnTo>
                                <a:pt x="15" y="31"/>
                              </a:lnTo>
                              <a:lnTo>
                                <a:pt x="11" y="46"/>
                              </a:lnTo>
                              <a:lnTo>
                                <a:pt x="15" y="61"/>
                              </a:lnTo>
                              <a:lnTo>
                                <a:pt x="34" y="84"/>
                              </a:lnTo>
                              <a:lnTo>
                                <a:pt x="11" y="107"/>
                              </a:lnTo>
                              <a:lnTo>
                                <a:pt x="0" y="124"/>
                              </a:lnTo>
                              <a:lnTo>
                                <a:pt x="6" y="142"/>
                              </a:lnTo>
                              <a:lnTo>
                                <a:pt x="17" y="157"/>
                              </a:lnTo>
                              <a:lnTo>
                                <a:pt x="51" y="154"/>
                              </a:lnTo>
                              <a:lnTo>
                                <a:pt x="89" y="143"/>
                              </a:lnTo>
                              <a:lnTo>
                                <a:pt x="104" y="124"/>
                              </a:lnTo>
                              <a:lnTo>
                                <a:pt x="117" y="31"/>
                              </a:lnTo>
                              <a:lnTo>
                                <a:pt x="89" y="20"/>
                              </a:lnTo>
                              <a:lnTo>
                                <a:pt x="7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560" bIns="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04" name=""/>
                        <p:cNvSpPr/>
                        <p:nvPr/>
                      </p:nvSpPr>
                      <p:spPr>
                        <a:xfrm>
                          <a:off x="3585240" y="4946760"/>
                          <a:ext cx="122760" cy="13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0" h="294">
                              <a:moveTo>
                                <a:pt x="112" y="282"/>
                              </a:moveTo>
                              <a:lnTo>
                                <a:pt x="78" y="293"/>
                              </a:lnTo>
                              <a:lnTo>
                                <a:pt x="67" y="294"/>
                              </a:lnTo>
                              <a:lnTo>
                                <a:pt x="57" y="290"/>
                              </a:lnTo>
                              <a:lnTo>
                                <a:pt x="49" y="279"/>
                              </a:lnTo>
                              <a:lnTo>
                                <a:pt x="15" y="225"/>
                              </a:lnTo>
                              <a:lnTo>
                                <a:pt x="0" y="180"/>
                              </a:lnTo>
                              <a:lnTo>
                                <a:pt x="6" y="127"/>
                              </a:lnTo>
                              <a:lnTo>
                                <a:pt x="18" y="78"/>
                              </a:lnTo>
                              <a:lnTo>
                                <a:pt x="26" y="78"/>
                              </a:lnTo>
                              <a:lnTo>
                                <a:pt x="49" y="85"/>
                              </a:lnTo>
                              <a:lnTo>
                                <a:pt x="85" y="104"/>
                              </a:lnTo>
                              <a:lnTo>
                                <a:pt x="89" y="68"/>
                              </a:lnTo>
                              <a:lnTo>
                                <a:pt x="97" y="49"/>
                              </a:lnTo>
                              <a:lnTo>
                                <a:pt x="117" y="40"/>
                              </a:lnTo>
                              <a:lnTo>
                                <a:pt x="143" y="36"/>
                              </a:lnTo>
                              <a:lnTo>
                                <a:pt x="176" y="36"/>
                              </a:lnTo>
                              <a:lnTo>
                                <a:pt x="180" y="23"/>
                              </a:lnTo>
                              <a:lnTo>
                                <a:pt x="184" y="11"/>
                              </a:lnTo>
                              <a:lnTo>
                                <a:pt x="195" y="1"/>
                              </a:lnTo>
                              <a:lnTo>
                                <a:pt x="211" y="0"/>
                              </a:lnTo>
                              <a:lnTo>
                                <a:pt x="240" y="4"/>
                              </a:lnTo>
                              <a:lnTo>
                                <a:pt x="221" y="24"/>
                              </a:lnTo>
                              <a:lnTo>
                                <a:pt x="240" y="57"/>
                              </a:lnTo>
                              <a:lnTo>
                                <a:pt x="270" y="93"/>
                              </a:lnTo>
                              <a:lnTo>
                                <a:pt x="112" y="28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05" name=""/>
                      <p:cNvGrpSpPr/>
                      <p:nvPr/>
                    </p:nvGrpSpPr>
                    <p:grpSpPr>
                      <a:xfrm>
                        <a:off x="3738240" y="4874400"/>
                        <a:ext cx="390600" cy="329400"/>
                        <a:chOff x="3738240" y="4874400"/>
                        <a:chExt cx="390600" cy="329400"/>
                      </a:xfrm>
                    </p:grpSpPr>
                    <p:grpSp>
                      <p:nvGrpSpPr>
                        <p:cNvPr id="1006" name=""/>
                        <p:cNvGrpSpPr/>
                        <p:nvPr/>
                      </p:nvGrpSpPr>
                      <p:grpSpPr>
                        <a:xfrm>
                          <a:off x="3738240" y="4874400"/>
                          <a:ext cx="239040" cy="329400"/>
                          <a:chOff x="3738240" y="4874400"/>
                          <a:chExt cx="239040" cy="329400"/>
                        </a:xfrm>
                      </p:grpSpPr>
                      <p:sp>
                        <p:nvSpPr>
                          <p:cNvPr id="1007" name=""/>
                          <p:cNvSpPr/>
                          <p:nvPr/>
                        </p:nvSpPr>
                        <p:spPr>
                          <a:xfrm>
                            <a:off x="3738240" y="4874400"/>
                            <a:ext cx="239040" cy="329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26" h="722">
                                <a:moveTo>
                                  <a:pt x="22" y="241"/>
                                </a:moveTo>
                                <a:lnTo>
                                  <a:pt x="51" y="186"/>
                                </a:lnTo>
                                <a:lnTo>
                                  <a:pt x="90" y="129"/>
                                </a:lnTo>
                                <a:lnTo>
                                  <a:pt x="127" y="75"/>
                                </a:lnTo>
                                <a:lnTo>
                                  <a:pt x="210" y="30"/>
                                </a:lnTo>
                                <a:lnTo>
                                  <a:pt x="200" y="80"/>
                                </a:lnTo>
                                <a:lnTo>
                                  <a:pt x="283" y="0"/>
                                </a:lnTo>
                                <a:lnTo>
                                  <a:pt x="272" y="26"/>
                                </a:lnTo>
                                <a:lnTo>
                                  <a:pt x="264" y="60"/>
                                </a:lnTo>
                                <a:lnTo>
                                  <a:pt x="331" y="0"/>
                                </a:lnTo>
                                <a:lnTo>
                                  <a:pt x="274" y="83"/>
                                </a:lnTo>
                                <a:lnTo>
                                  <a:pt x="267" y="114"/>
                                </a:lnTo>
                                <a:lnTo>
                                  <a:pt x="298" y="75"/>
                                </a:lnTo>
                                <a:lnTo>
                                  <a:pt x="359" y="49"/>
                                </a:lnTo>
                                <a:lnTo>
                                  <a:pt x="418" y="46"/>
                                </a:lnTo>
                                <a:lnTo>
                                  <a:pt x="357" y="83"/>
                                </a:lnTo>
                                <a:lnTo>
                                  <a:pt x="335" y="128"/>
                                </a:lnTo>
                                <a:lnTo>
                                  <a:pt x="339" y="153"/>
                                </a:lnTo>
                                <a:lnTo>
                                  <a:pt x="357" y="154"/>
                                </a:lnTo>
                                <a:lnTo>
                                  <a:pt x="388" y="169"/>
                                </a:lnTo>
                                <a:lnTo>
                                  <a:pt x="430" y="202"/>
                                </a:lnTo>
                                <a:lnTo>
                                  <a:pt x="422" y="217"/>
                                </a:lnTo>
                                <a:lnTo>
                                  <a:pt x="419" y="230"/>
                                </a:lnTo>
                                <a:lnTo>
                                  <a:pt x="425" y="248"/>
                                </a:lnTo>
                                <a:lnTo>
                                  <a:pt x="437" y="264"/>
                                </a:lnTo>
                                <a:lnTo>
                                  <a:pt x="455" y="279"/>
                                </a:lnTo>
                                <a:lnTo>
                                  <a:pt x="481" y="290"/>
                                </a:lnTo>
                                <a:lnTo>
                                  <a:pt x="504" y="298"/>
                                </a:lnTo>
                                <a:lnTo>
                                  <a:pt x="526" y="301"/>
                                </a:lnTo>
                                <a:lnTo>
                                  <a:pt x="497" y="335"/>
                                </a:lnTo>
                                <a:lnTo>
                                  <a:pt x="477" y="369"/>
                                </a:lnTo>
                                <a:lnTo>
                                  <a:pt x="455" y="407"/>
                                </a:lnTo>
                                <a:lnTo>
                                  <a:pt x="437" y="446"/>
                                </a:lnTo>
                                <a:lnTo>
                                  <a:pt x="419" y="487"/>
                                </a:lnTo>
                                <a:lnTo>
                                  <a:pt x="385" y="507"/>
                                </a:lnTo>
                                <a:lnTo>
                                  <a:pt x="334" y="511"/>
                                </a:lnTo>
                                <a:lnTo>
                                  <a:pt x="298" y="500"/>
                                </a:lnTo>
                                <a:lnTo>
                                  <a:pt x="276" y="492"/>
                                </a:lnTo>
                                <a:lnTo>
                                  <a:pt x="254" y="505"/>
                                </a:lnTo>
                                <a:lnTo>
                                  <a:pt x="261" y="548"/>
                                </a:lnTo>
                                <a:lnTo>
                                  <a:pt x="282" y="595"/>
                                </a:lnTo>
                                <a:lnTo>
                                  <a:pt x="295" y="627"/>
                                </a:lnTo>
                                <a:lnTo>
                                  <a:pt x="295" y="653"/>
                                </a:lnTo>
                                <a:lnTo>
                                  <a:pt x="272" y="722"/>
                                </a:lnTo>
                                <a:lnTo>
                                  <a:pt x="15" y="695"/>
                                </a:lnTo>
                                <a:lnTo>
                                  <a:pt x="4" y="481"/>
                                </a:lnTo>
                                <a:lnTo>
                                  <a:pt x="0" y="357"/>
                                </a:lnTo>
                                <a:lnTo>
                                  <a:pt x="8" y="286"/>
                                </a:lnTo>
                                <a:lnTo>
                                  <a:pt x="22" y="24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46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08" name=""/>
                          <p:cNvSpPr/>
                          <p:nvPr/>
                        </p:nvSpPr>
                        <p:spPr>
                          <a:xfrm>
                            <a:off x="3892320" y="4964400"/>
                            <a:ext cx="37080" cy="9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3" h="21">
                                <a:moveTo>
                                  <a:pt x="83" y="21"/>
                                </a:moveTo>
                                <a:lnTo>
                                  <a:pt x="67" y="14"/>
                                </a:lnTo>
                                <a:lnTo>
                                  <a:pt x="49" y="6"/>
                                </a:lnTo>
                                <a:lnTo>
                                  <a:pt x="33" y="0"/>
                                </a:lnTo>
                                <a:lnTo>
                                  <a:pt x="16" y="3"/>
                                </a:ln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noFill/>
                          <a:ln w="46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09" name=""/>
                        <p:cNvGrpSpPr/>
                        <p:nvPr/>
                      </p:nvGrpSpPr>
                      <p:grpSpPr>
                        <a:xfrm>
                          <a:off x="3841920" y="5010840"/>
                          <a:ext cx="286920" cy="159840"/>
                          <a:chOff x="3841920" y="5010840"/>
                          <a:chExt cx="286920" cy="159840"/>
                        </a:xfrm>
                      </p:grpSpPr>
                      <p:sp>
                        <p:nvSpPr>
                          <p:cNvPr id="1010" name=""/>
                          <p:cNvSpPr/>
                          <p:nvPr/>
                        </p:nvSpPr>
                        <p:spPr>
                          <a:xfrm>
                            <a:off x="3841920" y="5010840"/>
                            <a:ext cx="286920" cy="159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0" h="353">
                                <a:moveTo>
                                  <a:pt x="0" y="206"/>
                                </a:moveTo>
                                <a:lnTo>
                                  <a:pt x="62" y="165"/>
                                </a:lnTo>
                                <a:lnTo>
                                  <a:pt x="145" y="192"/>
                                </a:lnTo>
                                <a:lnTo>
                                  <a:pt x="194" y="160"/>
                                </a:lnTo>
                                <a:lnTo>
                                  <a:pt x="230" y="96"/>
                                </a:lnTo>
                                <a:lnTo>
                                  <a:pt x="271" y="37"/>
                                </a:lnTo>
                                <a:lnTo>
                                  <a:pt x="290" y="0"/>
                                </a:lnTo>
                                <a:lnTo>
                                  <a:pt x="331" y="3"/>
                                </a:lnTo>
                                <a:lnTo>
                                  <a:pt x="359" y="13"/>
                                </a:lnTo>
                                <a:lnTo>
                                  <a:pt x="381" y="41"/>
                                </a:lnTo>
                                <a:lnTo>
                                  <a:pt x="410" y="79"/>
                                </a:lnTo>
                                <a:lnTo>
                                  <a:pt x="440" y="113"/>
                                </a:lnTo>
                                <a:lnTo>
                                  <a:pt x="483" y="147"/>
                                </a:lnTo>
                                <a:lnTo>
                                  <a:pt x="527" y="177"/>
                                </a:lnTo>
                                <a:lnTo>
                                  <a:pt x="561" y="199"/>
                                </a:lnTo>
                                <a:lnTo>
                                  <a:pt x="585" y="211"/>
                                </a:lnTo>
                                <a:lnTo>
                                  <a:pt x="606" y="216"/>
                                </a:lnTo>
                                <a:lnTo>
                                  <a:pt x="630" y="211"/>
                                </a:lnTo>
                                <a:lnTo>
                                  <a:pt x="629" y="240"/>
                                </a:lnTo>
                                <a:lnTo>
                                  <a:pt x="621" y="270"/>
                                </a:lnTo>
                                <a:lnTo>
                                  <a:pt x="599" y="305"/>
                                </a:lnTo>
                                <a:lnTo>
                                  <a:pt x="576" y="333"/>
                                </a:lnTo>
                                <a:lnTo>
                                  <a:pt x="554" y="345"/>
                                </a:lnTo>
                                <a:lnTo>
                                  <a:pt x="527" y="334"/>
                                </a:lnTo>
                                <a:lnTo>
                                  <a:pt x="498" y="318"/>
                                </a:lnTo>
                                <a:lnTo>
                                  <a:pt x="467" y="304"/>
                                </a:lnTo>
                                <a:lnTo>
                                  <a:pt x="430" y="292"/>
                                </a:lnTo>
                                <a:lnTo>
                                  <a:pt x="403" y="311"/>
                                </a:lnTo>
                                <a:lnTo>
                                  <a:pt x="365" y="334"/>
                                </a:lnTo>
                                <a:lnTo>
                                  <a:pt x="339" y="314"/>
                                </a:lnTo>
                                <a:lnTo>
                                  <a:pt x="295" y="286"/>
                                </a:lnTo>
                                <a:lnTo>
                                  <a:pt x="267" y="301"/>
                                </a:lnTo>
                                <a:lnTo>
                                  <a:pt x="228" y="319"/>
                                </a:lnTo>
                                <a:lnTo>
                                  <a:pt x="178" y="330"/>
                                </a:lnTo>
                                <a:lnTo>
                                  <a:pt x="111" y="345"/>
                                </a:lnTo>
                                <a:lnTo>
                                  <a:pt x="61" y="353"/>
                                </a:lnTo>
                                <a:lnTo>
                                  <a:pt x="36" y="318"/>
                                </a:lnTo>
                                <a:lnTo>
                                  <a:pt x="27" y="296"/>
                                </a:lnTo>
                                <a:lnTo>
                                  <a:pt x="9" y="247"/>
                                </a:lnTo>
                                <a:lnTo>
                                  <a:pt x="0" y="20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5f00"/>
                          </a:solidFill>
                          <a:ln w="46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011" name=""/>
                          <p:cNvGrpSpPr/>
                          <p:nvPr/>
                        </p:nvGrpSpPr>
                        <p:grpSpPr>
                          <a:xfrm>
                            <a:off x="3878640" y="5068080"/>
                            <a:ext cx="233280" cy="79920"/>
                            <a:chOff x="3878640" y="5068080"/>
                            <a:chExt cx="233280" cy="79920"/>
                          </a:xfrm>
                        </p:grpSpPr>
                        <p:sp>
                          <p:nvSpPr>
                            <p:cNvPr id="1012" name=""/>
                            <p:cNvSpPr/>
                            <p:nvPr/>
                          </p:nvSpPr>
                          <p:spPr>
                            <a:xfrm>
                              <a:off x="3997440" y="5068080"/>
                              <a:ext cx="23040" cy="16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1" h="37">
                                  <a:moveTo>
                                    <a:pt x="10" y="0"/>
                                  </a:moveTo>
                                  <a:lnTo>
                                    <a:pt x="51" y="23"/>
                                  </a:lnTo>
                                  <a:lnTo>
                                    <a:pt x="0" y="37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0600" bIns="-306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13" name=""/>
                            <p:cNvSpPr/>
                            <p:nvPr/>
                          </p:nvSpPr>
                          <p:spPr>
                            <a:xfrm flipH="1">
                              <a:off x="4088880" y="5108760"/>
                              <a:ext cx="23040" cy="136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120" bIns="-33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14" name=""/>
                            <p:cNvSpPr/>
                            <p:nvPr/>
                          </p:nvSpPr>
                          <p:spPr>
                            <a:xfrm>
                              <a:off x="3878640" y="5122440"/>
                              <a:ext cx="28800" cy="25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57">
                                  <a:moveTo>
                                    <a:pt x="63" y="0"/>
                                  </a:moveTo>
                                  <a:lnTo>
                                    <a:pt x="34" y="13"/>
                                  </a:lnTo>
                                  <a:lnTo>
                                    <a:pt x="19" y="27"/>
                                  </a:lnTo>
                                  <a:lnTo>
                                    <a:pt x="10" y="39"/>
                                  </a:lnTo>
                                  <a:lnTo>
                                    <a:pt x="0" y="57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240" bIns="-212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15" name=""/>
                            <p:cNvSpPr/>
                            <p:nvPr/>
                          </p:nvSpPr>
                          <p:spPr>
                            <a:xfrm>
                              <a:off x="3888000" y="5122440"/>
                              <a:ext cx="150120" cy="18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30" h="43">
                                  <a:moveTo>
                                    <a:pt x="0" y="32"/>
                                  </a:moveTo>
                                  <a:lnTo>
                                    <a:pt x="41" y="20"/>
                                  </a:lnTo>
                                  <a:lnTo>
                                    <a:pt x="90" y="12"/>
                                  </a:lnTo>
                                  <a:lnTo>
                                    <a:pt x="132" y="3"/>
                                  </a:lnTo>
                                  <a:lnTo>
                                    <a:pt x="168" y="0"/>
                                  </a:lnTo>
                                  <a:lnTo>
                                    <a:pt x="206" y="4"/>
                                  </a:lnTo>
                                  <a:lnTo>
                                    <a:pt x="244" y="12"/>
                                  </a:lnTo>
                                  <a:lnTo>
                                    <a:pt x="284" y="23"/>
                                  </a:lnTo>
                                  <a:lnTo>
                                    <a:pt x="330" y="43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8080" bIns="-28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016" name=""/>
                      <p:cNvGrpSpPr/>
                      <p:nvPr/>
                    </p:nvGrpSpPr>
                    <p:grpSpPr>
                      <a:xfrm>
                        <a:off x="3611160" y="5374440"/>
                        <a:ext cx="317160" cy="307440"/>
                        <a:chOff x="3611160" y="5374440"/>
                        <a:chExt cx="317160" cy="307440"/>
                      </a:xfrm>
                    </p:grpSpPr>
                    <p:sp>
                      <p:nvSpPr>
                        <p:cNvPr id="1017" name=""/>
                        <p:cNvSpPr/>
                        <p:nvPr/>
                      </p:nvSpPr>
                      <p:spPr>
                        <a:xfrm>
                          <a:off x="3790080" y="5562720"/>
                          <a:ext cx="92880" cy="110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6" h="243">
                              <a:moveTo>
                                <a:pt x="138" y="0"/>
                              </a:moveTo>
                              <a:lnTo>
                                <a:pt x="206" y="0"/>
                              </a:lnTo>
                              <a:lnTo>
                                <a:pt x="199" y="35"/>
                              </a:lnTo>
                              <a:lnTo>
                                <a:pt x="192" y="73"/>
                              </a:lnTo>
                              <a:lnTo>
                                <a:pt x="177" y="107"/>
                              </a:lnTo>
                              <a:lnTo>
                                <a:pt x="157" y="136"/>
                              </a:lnTo>
                              <a:lnTo>
                                <a:pt x="128" y="166"/>
                              </a:lnTo>
                              <a:lnTo>
                                <a:pt x="100" y="190"/>
                              </a:lnTo>
                              <a:lnTo>
                                <a:pt x="70" y="222"/>
                              </a:lnTo>
                              <a:lnTo>
                                <a:pt x="55" y="238"/>
                              </a:lnTo>
                              <a:lnTo>
                                <a:pt x="44" y="241"/>
                              </a:lnTo>
                              <a:lnTo>
                                <a:pt x="26" y="243"/>
                              </a:lnTo>
                              <a:lnTo>
                                <a:pt x="0" y="222"/>
                              </a:lnTo>
                              <a:lnTo>
                                <a:pt x="13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dff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18" name=""/>
                        <p:cNvSpPr/>
                        <p:nvPr/>
                      </p:nvSpPr>
                      <p:spPr>
                        <a:xfrm>
                          <a:off x="3611160" y="5374440"/>
                          <a:ext cx="317160" cy="307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7" h="676">
                              <a:moveTo>
                                <a:pt x="267" y="499"/>
                              </a:moveTo>
                              <a:lnTo>
                                <a:pt x="263" y="538"/>
                              </a:lnTo>
                              <a:lnTo>
                                <a:pt x="266" y="579"/>
                              </a:lnTo>
                              <a:lnTo>
                                <a:pt x="274" y="621"/>
                              </a:lnTo>
                              <a:lnTo>
                                <a:pt x="282" y="644"/>
                              </a:lnTo>
                              <a:lnTo>
                                <a:pt x="296" y="660"/>
                              </a:lnTo>
                              <a:lnTo>
                                <a:pt x="313" y="659"/>
                              </a:lnTo>
                              <a:lnTo>
                                <a:pt x="335" y="654"/>
                              </a:lnTo>
                              <a:lnTo>
                                <a:pt x="346" y="666"/>
                              </a:lnTo>
                              <a:lnTo>
                                <a:pt x="360" y="674"/>
                              </a:lnTo>
                              <a:lnTo>
                                <a:pt x="376" y="676"/>
                              </a:lnTo>
                              <a:lnTo>
                                <a:pt x="393" y="672"/>
                              </a:lnTo>
                              <a:lnTo>
                                <a:pt x="410" y="659"/>
                              </a:lnTo>
                              <a:lnTo>
                                <a:pt x="426" y="640"/>
                              </a:lnTo>
                              <a:lnTo>
                                <a:pt x="447" y="617"/>
                              </a:lnTo>
                              <a:lnTo>
                                <a:pt x="468" y="593"/>
                              </a:lnTo>
                              <a:lnTo>
                                <a:pt x="488" y="569"/>
                              </a:lnTo>
                              <a:lnTo>
                                <a:pt x="512" y="542"/>
                              </a:lnTo>
                              <a:lnTo>
                                <a:pt x="543" y="495"/>
                              </a:lnTo>
                              <a:lnTo>
                                <a:pt x="572" y="459"/>
                              </a:lnTo>
                              <a:lnTo>
                                <a:pt x="607" y="427"/>
                              </a:lnTo>
                              <a:lnTo>
                                <a:pt x="633" y="408"/>
                              </a:lnTo>
                              <a:lnTo>
                                <a:pt x="657" y="381"/>
                              </a:lnTo>
                              <a:lnTo>
                                <a:pt x="679" y="346"/>
                              </a:lnTo>
                              <a:lnTo>
                                <a:pt x="690" y="310"/>
                              </a:lnTo>
                              <a:lnTo>
                                <a:pt x="697" y="268"/>
                              </a:lnTo>
                              <a:lnTo>
                                <a:pt x="683" y="211"/>
                              </a:lnTo>
                              <a:lnTo>
                                <a:pt x="160" y="63"/>
                              </a:lnTo>
                              <a:lnTo>
                                <a:pt x="132" y="59"/>
                              </a:lnTo>
                              <a:lnTo>
                                <a:pt x="100" y="30"/>
                              </a:lnTo>
                              <a:lnTo>
                                <a:pt x="58" y="0"/>
                              </a:lnTo>
                              <a:lnTo>
                                <a:pt x="0" y="41"/>
                              </a:lnTo>
                              <a:lnTo>
                                <a:pt x="17" y="66"/>
                              </a:lnTo>
                              <a:lnTo>
                                <a:pt x="46" y="94"/>
                              </a:lnTo>
                              <a:lnTo>
                                <a:pt x="20" y="109"/>
                              </a:lnTo>
                              <a:lnTo>
                                <a:pt x="2" y="131"/>
                              </a:lnTo>
                              <a:lnTo>
                                <a:pt x="28" y="146"/>
                              </a:lnTo>
                              <a:lnTo>
                                <a:pt x="46" y="163"/>
                              </a:lnTo>
                              <a:lnTo>
                                <a:pt x="57" y="191"/>
                              </a:lnTo>
                              <a:lnTo>
                                <a:pt x="61" y="214"/>
                              </a:lnTo>
                              <a:lnTo>
                                <a:pt x="17" y="206"/>
                              </a:lnTo>
                              <a:lnTo>
                                <a:pt x="13" y="230"/>
                              </a:lnTo>
                              <a:lnTo>
                                <a:pt x="20" y="263"/>
                              </a:lnTo>
                              <a:lnTo>
                                <a:pt x="43" y="295"/>
                              </a:lnTo>
                              <a:lnTo>
                                <a:pt x="67" y="318"/>
                              </a:lnTo>
                              <a:lnTo>
                                <a:pt x="102" y="336"/>
                              </a:lnTo>
                              <a:lnTo>
                                <a:pt x="136" y="344"/>
                              </a:lnTo>
                              <a:lnTo>
                                <a:pt x="141" y="378"/>
                              </a:lnTo>
                              <a:lnTo>
                                <a:pt x="162" y="408"/>
                              </a:lnTo>
                              <a:lnTo>
                                <a:pt x="190" y="442"/>
                              </a:lnTo>
                              <a:lnTo>
                                <a:pt x="225" y="474"/>
                              </a:lnTo>
                              <a:lnTo>
                                <a:pt x="267" y="49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19" name=""/>
                    <p:cNvGrpSpPr/>
                    <p:nvPr/>
                  </p:nvGrpSpPr>
                  <p:grpSpPr>
                    <a:xfrm>
                      <a:off x="3772440" y="4946760"/>
                      <a:ext cx="229680" cy="149760"/>
                      <a:chOff x="3772440" y="4946760"/>
                      <a:chExt cx="229680" cy="149760"/>
                    </a:xfrm>
                  </p:grpSpPr>
                  <p:sp>
                    <p:nvSpPr>
                      <p:cNvPr id="1020" name=""/>
                      <p:cNvSpPr/>
                      <p:nvPr/>
                    </p:nvSpPr>
                    <p:spPr>
                      <a:xfrm>
                        <a:off x="3772440" y="4998240"/>
                        <a:ext cx="171000" cy="42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3" h="93">
                            <a:moveTo>
                              <a:pt x="0" y="67"/>
                            </a:moveTo>
                            <a:lnTo>
                              <a:pt x="26" y="33"/>
                            </a:lnTo>
                            <a:lnTo>
                              <a:pt x="60" y="5"/>
                            </a:lnTo>
                            <a:lnTo>
                              <a:pt x="88" y="0"/>
                            </a:lnTo>
                            <a:lnTo>
                              <a:pt x="373" y="37"/>
                            </a:lnTo>
                            <a:lnTo>
                              <a:pt x="366" y="74"/>
                            </a:lnTo>
                            <a:lnTo>
                              <a:pt x="309" y="72"/>
                            </a:lnTo>
                            <a:lnTo>
                              <a:pt x="180" y="67"/>
                            </a:lnTo>
                            <a:lnTo>
                              <a:pt x="96" y="63"/>
                            </a:lnTo>
                            <a:lnTo>
                              <a:pt x="79" y="68"/>
                            </a:lnTo>
                            <a:lnTo>
                              <a:pt x="57" y="93"/>
                            </a:lnTo>
                            <a:lnTo>
                              <a:pt x="0" y="67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" bIns="-4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1" name=""/>
                      <p:cNvSpPr/>
                      <p:nvPr/>
                    </p:nvSpPr>
                    <p:spPr>
                      <a:xfrm>
                        <a:off x="3977640" y="4964400"/>
                        <a:ext cx="2448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" h="138">
                            <a:moveTo>
                              <a:pt x="17" y="0"/>
                            </a:moveTo>
                            <a:lnTo>
                              <a:pt x="36" y="19"/>
                            </a:lnTo>
                            <a:lnTo>
                              <a:pt x="45" y="36"/>
                            </a:lnTo>
                            <a:lnTo>
                              <a:pt x="51" y="59"/>
                            </a:lnTo>
                            <a:lnTo>
                              <a:pt x="55" y="80"/>
                            </a:lnTo>
                            <a:lnTo>
                              <a:pt x="49" y="100"/>
                            </a:lnTo>
                            <a:lnTo>
                              <a:pt x="37" y="118"/>
                            </a:lnTo>
                            <a:lnTo>
                              <a:pt x="20" y="130"/>
                            </a:lnTo>
                            <a:lnTo>
                              <a:pt x="0" y="138"/>
                            </a:lnTo>
                            <a:lnTo>
                              <a:pt x="17" y="0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2" name=""/>
                      <p:cNvSpPr/>
                      <p:nvPr/>
                    </p:nvSpPr>
                    <p:spPr>
                      <a:xfrm>
                        <a:off x="3961080" y="4946760"/>
                        <a:ext cx="32760" cy="81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180">
                            <a:moveTo>
                              <a:pt x="0" y="149"/>
                            </a:moveTo>
                            <a:lnTo>
                              <a:pt x="34" y="0"/>
                            </a:lnTo>
                            <a:lnTo>
                              <a:pt x="73" y="19"/>
                            </a:lnTo>
                            <a:lnTo>
                              <a:pt x="39" y="180"/>
                            </a:lnTo>
                            <a:lnTo>
                              <a:pt x="4" y="176"/>
                            </a:lnTo>
                            <a:lnTo>
                              <a:pt x="0" y="149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920" bIns="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3" name=""/>
                      <p:cNvSpPr/>
                      <p:nvPr/>
                    </p:nvSpPr>
                    <p:spPr>
                      <a:xfrm>
                        <a:off x="3944520" y="4961520"/>
                        <a:ext cx="32760" cy="12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283">
                            <a:moveTo>
                              <a:pt x="32" y="0"/>
                            </a:moveTo>
                            <a:lnTo>
                              <a:pt x="50" y="15"/>
                            </a:lnTo>
                            <a:lnTo>
                              <a:pt x="62" y="36"/>
                            </a:lnTo>
                            <a:lnTo>
                              <a:pt x="68" y="62"/>
                            </a:lnTo>
                            <a:lnTo>
                              <a:pt x="72" y="89"/>
                            </a:lnTo>
                            <a:lnTo>
                              <a:pt x="71" y="116"/>
                            </a:lnTo>
                            <a:lnTo>
                              <a:pt x="64" y="153"/>
                            </a:lnTo>
                            <a:lnTo>
                              <a:pt x="56" y="187"/>
                            </a:lnTo>
                            <a:lnTo>
                              <a:pt x="43" y="222"/>
                            </a:lnTo>
                            <a:lnTo>
                              <a:pt x="24" y="251"/>
                            </a:lnTo>
                            <a:lnTo>
                              <a:pt x="0" y="283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4" name=""/>
                      <p:cNvSpPr/>
                      <p:nvPr/>
                    </p:nvSpPr>
                    <p:spPr>
                      <a:xfrm>
                        <a:off x="3925440" y="4950720"/>
                        <a:ext cx="42120" cy="14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323">
                            <a:moveTo>
                              <a:pt x="45" y="0"/>
                            </a:moveTo>
                            <a:lnTo>
                              <a:pt x="93" y="5"/>
                            </a:lnTo>
                            <a:lnTo>
                              <a:pt x="45" y="323"/>
                            </a:lnTo>
                            <a:lnTo>
                              <a:pt x="0" y="319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25" name=""/>
                <p:cNvGrpSpPr/>
                <p:nvPr/>
              </p:nvGrpSpPr>
              <p:grpSpPr>
                <a:xfrm>
                  <a:off x="3619440" y="4975200"/>
                  <a:ext cx="324720" cy="579240"/>
                  <a:chOff x="3619440" y="4975200"/>
                  <a:chExt cx="324720" cy="579240"/>
                </a:xfrm>
              </p:grpSpPr>
              <p:grpSp>
                <p:nvGrpSpPr>
                  <p:cNvPr id="1026" name=""/>
                  <p:cNvGrpSpPr/>
                  <p:nvPr/>
                </p:nvGrpSpPr>
                <p:grpSpPr>
                  <a:xfrm>
                    <a:off x="3619440" y="4975200"/>
                    <a:ext cx="324720" cy="579240"/>
                    <a:chOff x="3619440" y="4975200"/>
                    <a:chExt cx="324720" cy="579240"/>
                  </a:xfrm>
                </p:grpSpPr>
                <p:grpSp>
                  <p:nvGrpSpPr>
                    <p:cNvPr id="1027" name=""/>
                    <p:cNvGrpSpPr/>
                    <p:nvPr/>
                  </p:nvGrpSpPr>
                  <p:grpSpPr>
                    <a:xfrm>
                      <a:off x="3781800" y="5178600"/>
                      <a:ext cx="142200" cy="105120"/>
                      <a:chOff x="3781800" y="5178600"/>
                      <a:chExt cx="142200" cy="105120"/>
                    </a:xfrm>
                  </p:grpSpPr>
                  <p:sp>
                    <p:nvSpPr>
                      <p:cNvPr id="1028" name=""/>
                      <p:cNvSpPr/>
                      <p:nvPr/>
                    </p:nvSpPr>
                    <p:spPr>
                      <a:xfrm>
                        <a:off x="3781800" y="5178600"/>
                        <a:ext cx="99720" cy="66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147">
                            <a:moveTo>
                              <a:pt x="0" y="70"/>
                            </a:moveTo>
                            <a:lnTo>
                              <a:pt x="49" y="0"/>
                            </a:lnTo>
                            <a:lnTo>
                              <a:pt x="213" y="15"/>
                            </a:lnTo>
                            <a:lnTo>
                              <a:pt x="218" y="34"/>
                            </a:lnTo>
                            <a:lnTo>
                              <a:pt x="214" y="57"/>
                            </a:lnTo>
                            <a:lnTo>
                              <a:pt x="176" y="81"/>
                            </a:lnTo>
                            <a:lnTo>
                              <a:pt x="103" y="147"/>
                            </a:lnTo>
                            <a:lnTo>
                              <a:pt x="0" y="7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800" bIns="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9" name=""/>
                      <p:cNvSpPr/>
                      <p:nvPr/>
                    </p:nvSpPr>
                    <p:spPr>
                      <a:xfrm>
                        <a:off x="3828240" y="5200560"/>
                        <a:ext cx="95760" cy="83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1" h="181">
                            <a:moveTo>
                              <a:pt x="0" y="106"/>
                            </a:moveTo>
                            <a:lnTo>
                              <a:pt x="73" y="16"/>
                            </a:lnTo>
                            <a:lnTo>
                              <a:pt x="107" y="34"/>
                            </a:lnTo>
                            <a:lnTo>
                              <a:pt x="122" y="16"/>
                            </a:lnTo>
                            <a:lnTo>
                              <a:pt x="159" y="0"/>
                            </a:lnTo>
                            <a:lnTo>
                              <a:pt x="173" y="27"/>
                            </a:lnTo>
                            <a:lnTo>
                              <a:pt x="188" y="33"/>
                            </a:lnTo>
                            <a:lnTo>
                              <a:pt x="188" y="54"/>
                            </a:lnTo>
                            <a:lnTo>
                              <a:pt x="211" y="62"/>
                            </a:lnTo>
                            <a:lnTo>
                              <a:pt x="206" y="75"/>
                            </a:lnTo>
                            <a:lnTo>
                              <a:pt x="146" y="98"/>
                            </a:lnTo>
                            <a:lnTo>
                              <a:pt x="157" y="131"/>
                            </a:lnTo>
                            <a:lnTo>
                              <a:pt x="151" y="151"/>
                            </a:lnTo>
                            <a:lnTo>
                              <a:pt x="136" y="155"/>
                            </a:lnTo>
                            <a:lnTo>
                              <a:pt x="117" y="145"/>
                            </a:lnTo>
                            <a:lnTo>
                              <a:pt x="113" y="181"/>
                            </a:lnTo>
                            <a:lnTo>
                              <a:pt x="0" y="106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360" bIns="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30" name=""/>
                    <p:cNvGrpSpPr/>
                    <p:nvPr/>
                  </p:nvGrpSpPr>
                  <p:grpSpPr>
                    <a:xfrm>
                      <a:off x="3619440" y="4975200"/>
                      <a:ext cx="324720" cy="579240"/>
                      <a:chOff x="3619440" y="4975200"/>
                      <a:chExt cx="324720" cy="579240"/>
                    </a:xfrm>
                  </p:grpSpPr>
                  <p:grpSp>
                    <p:nvGrpSpPr>
                      <p:cNvPr id="1031" name=""/>
                      <p:cNvGrpSpPr/>
                      <p:nvPr/>
                    </p:nvGrpSpPr>
                    <p:grpSpPr>
                      <a:xfrm>
                        <a:off x="3619440" y="4975200"/>
                        <a:ext cx="324720" cy="579240"/>
                        <a:chOff x="3619440" y="4975200"/>
                        <a:chExt cx="324720" cy="579240"/>
                      </a:xfrm>
                    </p:grpSpPr>
                    <p:grpSp>
                      <p:nvGrpSpPr>
                        <p:cNvPr id="1032" name=""/>
                        <p:cNvGrpSpPr/>
                        <p:nvPr/>
                      </p:nvGrpSpPr>
                      <p:grpSpPr>
                        <a:xfrm>
                          <a:off x="3619440" y="4975200"/>
                          <a:ext cx="324720" cy="579240"/>
                          <a:chOff x="3619440" y="4975200"/>
                          <a:chExt cx="324720" cy="579240"/>
                        </a:xfrm>
                      </p:grpSpPr>
                      <p:grpSp>
                        <p:nvGrpSpPr>
                          <p:cNvPr id="1033" name=""/>
                          <p:cNvGrpSpPr/>
                          <p:nvPr/>
                        </p:nvGrpSpPr>
                        <p:grpSpPr>
                          <a:xfrm>
                            <a:off x="3619440" y="4975200"/>
                            <a:ext cx="111600" cy="174600"/>
                            <a:chOff x="3619440" y="4975200"/>
                            <a:chExt cx="111600" cy="174600"/>
                          </a:xfrm>
                        </p:grpSpPr>
                        <p:sp>
                          <p:nvSpPr>
                            <p:cNvPr id="1034" name=""/>
                            <p:cNvSpPr/>
                            <p:nvPr/>
                          </p:nvSpPr>
                          <p:spPr>
                            <a:xfrm>
                              <a:off x="3669840" y="5088240"/>
                              <a:ext cx="59760" cy="61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2" h="133">
                                  <a:moveTo>
                                    <a:pt x="0" y="49"/>
                                  </a:moveTo>
                                  <a:lnTo>
                                    <a:pt x="22" y="107"/>
                                  </a:lnTo>
                                  <a:lnTo>
                                    <a:pt x="42" y="133"/>
                                  </a:lnTo>
                                  <a:lnTo>
                                    <a:pt x="132" y="92"/>
                                  </a:lnTo>
                                  <a:lnTo>
                                    <a:pt x="80" y="0"/>
                                  </a:lnTo>
                                  <a:lnTo>
                                    <a:pt x="0" y="49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46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4760" bIns="14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035" name=""/>
                            <p:cNvGrpSpPr/>
                            <p:nvPr/>
                          </p:nvGrpSpPr>
                          <p:grpSpPr>
                            <a:xfrm>
                              <a:off x="3619440" y="4975200"/>
                              <a:ext cx="111600" cy="172800"/>
                              <a:chOff x="3619440" y="4975200"/>
                              <a:chExt cx="111600" cy="172800"/>
                            </a:xfrm>
                          </p:grpSpPr>
                          <p:grpSp>
                            <p:nvGrpSpPr>
                              <p:cNvPr id="1036" name=""/>
                              <p:cNvGrpSpPr/>
                              <p:nvPr/>
                            </p:nvGrpSpPr>
                            <p:grpSpPr>
                              <a:xfrm>
                                <a:off x="3619440" y="4975200"/>
                                <a:ext cx="111600" cy="172800"/>
                                <a:chOff x="3619440" y="4975200"/>
                                <a:chExt cx="111600" cy="172800"/>
                              </a:xfrm>
                            </p:grpSpPr>
                            <p:sp>
                              <p:nvSpPr>
                                <p:cNvPr id="1037" name=""/>
                                <p:cNvSpPr/>
                                <p:nvPr/>
                              </p:nvSpPr>
                              <p:spPr>
                                <a:xfrm>
                                  <a:off x="3636720" y="5073480"/>
                                  <a:ext cx="48960" cy="745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10" h="165">
                                      <a:moveTo>
                                        <a:pt x="0" y="5"/>
                                      </a:moveTo>
                                      <a:lnTo>
                                        <a:pt x="2" y="74"/>
                                      </a:lnTo>
                                      <a:lnTo>
                                        <a:pt x="14" y="99"/>
                                      </a:lnTo>
                                      <a:lnTo>
                                        <a:pt x="28" y="130"/>
                                      </a:lnTo>
                                      <a:lnTo>
                                        <a:pt x="38" y="147"/>
                                      </a:lnTo>
                                      <a:lnTo>
                                        <a:pt x="51" y="165"/>
                                      </a:lnTo>
                                      <a:lnTo>
                                        <a:pt x="73" y="156"/>
                                      </a:lnTo>
                                      <a:lnTo>
                                        <a:pt x="110" y="148"/>
                                      </a:lnTo>
                                      <a:lnTo>
                                        <a:pt x="84" y="0"/>
                                      </a:lnTo>
                                      <a:lnTo>
                                        <a:pt x="0" y="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468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38" name=""/>
                                <p:cNvSpPr/>
                                <p:nvPr/>
                              </p:nvSpPr>
                              <p:spPr>
                                <a:xfrm>
                                  <a:off x="3619440" y="4975200"/>
                                  <a:ext cx="111600" cy="1198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45" h="266">
                                      <a:moveTo>
                                        <a:pt x="0" y="249"/>
                                      </a:moveTo>
                                      <a:lnTo>
                                        <a:pt x="11" y="208"/>
                                      </a:lnTo>
                                      <a:lnTo>
                                        <a:pt x="23" y="182"/>
                                      </a:lnTo>
                                      <a:lnTo>
                                        <a:pt x="48" y="144"/>
                                      </a:lnTo>
                                      <a:lnTo>
                                        <a:pt x="93" y="95"/>
                                      </a:lnTo>
                                      <a:lnTo>
                                        <a:pt x="138" y="47"/>
                                      </a:lnTo>
                                      <a:lnTo>
                                        <a:pt x="185" y="0"/>
                                      </a:lnTo>
                                      <a:lnTo>
                                        <a:pt x="199" y="1"/>
                                      </a:lnTo>
                                      <a:lnTo>
                                        <a:pt x="245" y="46"/>
                                      </a:lnTo>
                                      <a:lnTo>
                                        <a:pt x="103" y="266"/>
                                      </a:lnTo>
                                      <a:lnTo>
                                        <a:pt x="0" y="249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468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039" name=""/>
                              <p:cNvSpPr/>
                              <p:nvPr/>
                            </p:nvSpPr>
                            <p:spPr>
                              <a:xfrm>
                                <a:off x="3692880" y="4986000"/>
                                <a:ext cx="20160" cy="241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9f00"/>
                              </a:solidFill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1040" name=""/>
                          <p:cNvSpPr/>
                          <p:nvPr/>
                        </p:nvSpPr>
                        <p:spPr>
                          <a:xfrm>
                            <a:off x="3654720" y="4983480"/>
                            <a:ext cx="289440" cy="570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8" h="1254">
                                <a:moveTo>
                                  <a:pt x="0" y="286"/>
                                </a:moveTo>
                                <a:lnTo>
                                  <a:pt x="14" y="231"/>
                                </a:lnTo>
                                <a:lnTo>
                                  <a:pt x="38" y="180"/>
                                </a:lnTo>
                                <a:lnTo>
                                  <a:pt x="68" y="135"/>
                                </a:lnTo>
                                <a:lnTo>
                                  <a:pt x="98" y="90"/>
                                </a:lnTo>
                                <a:lnTo>
                                  <a:pt x="138" y="46"/>
                                </a:lnTo>
                                <a:lnTo>
                                  <a:pt x="168" y="0"/>
                                </a:lnTo>
                                <a:lnTo>
                                  <a:pt x="205" y="16"/>
                                </a:lnTo>
                                <a:lnTo>
                                  <a:pt x="240" y="38"/>
                                </a:lnTo>
                                <a:lnTo>
                                  <a:pt x="278" y="65"/>
                                </a:lnTo>
                                <a:lnTo>
                                  <a:pt x="315" y="101"/>
                                </a:lnTo>
                                <a:lnTo>
                                  <a:pt x="352" y="131"/>
                                </a:lnTo>
                                <a:lnTo>
                                  <a:pt x="408" y="193"/>
                                </a:lnTo>
                                <a:lnTo>
                                  <a:pt x="398" y="244"/>
                                </a:lnTo>
                                <a:lnTo>
                                  <a:pt x="383" y="310"/>
                                </a:lnTo>
                                <a:lnTo>
                                  <a:pt x="371" y="376"/>
                                </a:lnTo>
                                <a:lnTo>
                                  <a:pt x="363" y="424"/>
                                </a:lnTo>
                                <a:lnTo>
                                  <a:pt x="359" y="451"/>
                                </a:lnTo>
                                <a:lnTo>
                                  <a:pt x="342" y="496"/>
                                </a:lnTo>
                                <a:lnTo>
                                  <a:pt x="563" y="716"/>
                                </a:lnTo>
                                <a:lnTo>
                                  <a:pt x="589" y="779"/>
                                </a:lnTo>
                                <a:lnTo>
                                  <a:pt x="608" y="841"/>
                                </a:lnTo>
                                <a:lnTo>
                                  <a:pt x="631" y="902"/>
                                </a:lnTo>
                                <a:lnTo>
                                  <a:pt x="638" y="943"/>
                                </a:lnTo>
                                <a:lnTo>
                                  <a:pt x="635" y="994"/>
                                </a:lnTo>
                                <a:lnTo>
                                  <a:pt x="632" y="1034"/>
                                </a:lnTo>
                                <a:lnTo>
                                  <a:pt x="620" y="1098"/>
                                </a:lnTo>
                                <a:lnTo>
                                  <a:pt x="469" y="1254"/>
                                </a:lnTo>
                                <a:lnTo>
                                  <a:pt x="398" y="1250"/>
                                </a:lnTo>
                                <a:lnTo>
                                  <a:pt x="198" y="1229"/>
                                </a:lnTo>
                                <a:lnTo>
                                  <a:pt x="105" y="1119"/>
                                </a:lnTo>
                                <a:lnTo>
                                  <a:pt x="94" y="1068"/>
                                </a:lnTo>
                                <a:lnTo>
                                  <a:pt x="74" y="992"/>
                                </a:lnTo>
                                <a:lnTo>
                                  <a:pt x="45" y="926"/>
                                </a:lnTo>
                                <a:lnTo>
                                  <a:pt x="33" y="860"/>
                                </a:lnTo>
                                <a:lnTo>
                                  <a:pt x="53" y="864"/>
                                </a:lnTo>
                                <a:lnTo>
                                  <a:pt x="94" y="906"/>
                                </a:lnTo>
                                <a:lnTo>
                                  <a:pt x="137" y="918"/>
                                </a:lnTo>
                                <a:lnTo>
                                  <a:pt x="146" y="903"/>
                                </a:lnTo>
                                <a:lnTo>
                                  <a:pt x="165" y="902"/>
                                </a:lnTo>
                                <a:lnTo>
                                  <a:pt x="168" y="830"/>
                                </a:lnTo>
                                <a:lnTo>
                                  <a:pt x="175" y="756"/>
                                </a:lnTo>
                                <a:lnTo>
                                  <a:pt x="65" y="645"/>
                                </a:lnTo>
                                <a:lnTo>
                                  <a:pt x="115" y="444"/>
                                </a:lnTo>
                                <a:lnTo>
                                  <a:pt x="141" y="369"/>
                                </a:lnTo>
                                <a:lnTo>
                                  <a:pt x="118" y="361"/>
                                </a:lnTo>
                                <a:lnTo>
                                  <a:pt x="134" y="344"/>
                                </a:lnTo>
                                <a:lnTo>
                                  <a:pt x="70" y="310"/>
                                </a:lnTo>
                                <a:lnTo>
                                  <a:pt x="0" y="28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ff"/>
                          </a:solidFill>
                          <a:ln w="46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41" name=""/>
                        <p:cNvGrpSpPr/>
                        <p:nvPr/>
                      </p:nvGrpSpPr>
                      <p:grpSpPr>
                        <a:xfrm>
                          <a:off x="3714840" y="5119920"/>
                          <a:ext cx="47160" cy="302400"/>
                          <a:chOff x="3714840" y="5119920"/>
                          <a:chExt cx="47160" cy="302400"/>
                        </a:xfrm>
                      </p:grpSpPr>
                      <p:grpSp>
                        <p:nvGrpSpPr>
                          <p:cNvPr id="1042" name=""/>
                          <p:cNvGrpSpPr/>
                          <p:nvPr/>
                        </p:nvGrpSpPr>
                        <p:grpSpPr>
                          <a:xfrm>
                            <a:off x="3714840" y="5119920"/>
                            <a:ext cx="43200" cy="30600"/>
                            <a:chOff x="3714840" y="5119920"/>
                            <a:chExt cx="43200" cy="30600"/>
                          </a:xfrm>
                        </p:grpSpPr>
                        <p:sp>
                          <p:nvSpPr>
                            <p:cNvPr id="1043" name=""/>
                            <p:cNvSpPr/>
                            <p:nvPr/>
                          </p:nvSpPr>
                          <p:spPr>
                            <a:xfrm flipV="1">
                              <a:off x="3714840" y="5119920"/>
                              <a:ext cx="39240" cy="1872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8080" bIns="-28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44" name=""/>
                            <p:cNvSpPr/>
                            <p:nvPr/>
                          </p:nvSpPr>
                          <p:spPr>
                            <a:xfrm flipV="1">
                              <a:off x="3718800" y="5144040"/>
                              <a:ext cx="39240" cy="64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45" name=""/>
                          <p:cNvGrpSpPr/>
                          <p:nvPr/>
                        </p:nvGrpSpPr>
                        <p:grpSpPr>
                          <a:xfrm>
                            <a:off x="3716280" y="5327280"/>
                            <a:ext cx="45720" cy="95040"/>
                            <a:chOff x="3716280" y="5327280"/>
                            <a:chExt cx="45720" cy="95040"/>
                          </a:xfrm>
                        </p:grpSpPr>
                        <p:sp>
                          <p:nvSpPr>
                            <p:cNvPr id="1046" name=""/>
                            <p:cNvSpPr/>
                            <p:nvPr/>
                          </p:nvSpPr>
                          <p:spPr>
                            <a:xfrm>
                              <a:off x="3733560" y="5327280"/>
                              <a:ext cx="28440" cy="5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4" h="13">
                                  <a:moveTo>
                                    <a:pt x="0" y="0"/>
                                  </a:moveTo>
                                  <a:lnTo>
                                    <a:pt x="16" y="13"/>
                                  </a:lnTo>
                                  <a:lnTo>
                                    <a:pt x="64" y="5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400" bIns="-414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47" name=""/>
                            <p:cNvSpPr/>
                            <p:nvPr/>
                          </p:nvSpPr>
                          <p:spPr>
                            <a:xfrm>
                              <a:off x="3729600" y="5392440"/>
                              <a:ext cx="2016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5" h="58">
                                  <a:moveTo>
                                    <a:pt x="0" y="0"/>
                                  </a:moveTo>
                                  <a:lnTo>
                                    <a:pt x="15" y="26"/>
                                  </a:lnTo>
                                  <a:lnTo>
                                    <a:pt x="45" y="58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48" name=""/>
                            <p:cNvSpPr/>
                            <p:nvPr/>
                          </p:nvSpPr>
                          <p:spPr>
                            <a:xfrm>
                              <a:off x="3716280" y="5402160"/>
                              <a:ext cx="10440" cy="2016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640" bIns="-26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sp>
                    <p:nvSpPr>
                      <p:cNvPr id="1049" name=""/>
                      <p:cNvSpPr/>
                      <p:nvPr/>
                    </p:nvSpPr>
                    <p:spPr>
                      <a:xfrm>
                        <a:off x="3781800" y="5035320"/>
                        <a:ext cx="57600" cy="9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8" h="220">
                            <a:moveTo>
                              <a:pt x="55" y="0"/>
                            </a:moveTo>
                            <a:lnTo>
                              <a:pt x="11" y="33"/>
                            </a:lnTo>
                            <a:lnTo>
                              <a:pt x="0" y="70"/>
                            </a:lnTo>
                            <a:lnTo>
                              <a:pt x="45" y="104"/>
                            </a:lnTo>
                            <a:lnTo>
                              <a:pt x="54" y="131"/>
                            </a:lnTo>
                            <a:lnTo>
                              <a:pt x="38" y="191"/>
                            </a:lnTo>
                            <a:lnTo>
                              <a:pt x="46" y="215"/>
                            </a:lnTo>
                            <a:lnTo>
                              <a:pt x="99" y="220"/>
                            </a:lnTo>
                            <a:lnTo>
                              <a:pt x="128" y="79"/>
                            </a:lnTo>
                            <a:lnTo>
                              <a:pt x="85" y="29"/>
                            </a:lnTo>
                            <a:lnTo>
                              <a:pt x="72" y="14"/>
                            </a:lnTo>
                            <a:lnTo>
                              <a:pt x="55" y="0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050" name=""/>
                  <p:cNvGrpSpPr/>
                  <p:nvPr/>
                </p:nvGrpSpPr>
                <p:grpSpPr>
                  <a:xfrm>
                    <a:off x="3907440" y="5385240"/>
                    <a:ext cx="19800" cy="65160"/>
                    <a:chOff x="3907440" y="5385240"/>
                    <a:chExt cx="19800" cy="65160"/>
                  </a:xfrm>
                </p:grpSpPr>
                <p:sp>
                  <p:nvSpPr>
                    <p:cNvPr id="1051" name=""/>
                    <p:cNvSpPr/>
                    <p:nvPr/>
                  </p:nvSpPr>
                  <p:spPr>
                    <a:xfrm>
                      <a:off x="3908520" y="5385240"/>
                      <a:ext cx="18720" cy="27000"/>
                    </a:xfrm>
                    <a:prstGeom prst="ellipse">
                      <a:avLst/>
                    </a:prstGeom>
                    <a:solidFill>
                      <a:srgbClr val="ff9f00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3907440" y="5423400"/>
                      <a:ext cx="18720" cy="27000"/>
                    </a:xfrm>
                    <a:prstGeom prst="ellipse">
                      <a:avLst/>
                    </a:prstGeom>
                    <a:solidFill>
                      <a:srgbClr val="ff9f00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53" name=""/>
            <p:cNvGrpSpPr/>
            <p:nvPr/>
          </p:nvGrpSpPr>
          <p:grpSpPr>
            <a:xfrm>
              <a:off x="4053600" y="5117760"/>
              <a:ext cx="726120" cy="861840"/>
              <a:chOff x="4053600" y="5117760"/>
              <a:chExt cx="726120" cy="861840"/>
            </a:xfrm>
          </p:grpSpPr>
          <p:grpSp>
            <p:nvGrpSpPr>
              <p:cNvPr id="1054" name=""/>
              <p:cNvGrpSpPr/>
              <p:nvPr/>
            </p:nvGrpSpPr>
            <p:grpSpPr>
              <a:xfrm>
                <a:off x="4053600" y="5380200"/>
                <a:ext cx="726120" cy="599400"/>
                <a:chOff x="4053600" y="5380200"/>
                <a:chExt cx="726120" cy="59940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4053600" y="5893920"/>
                  <a:ext cx="345960" cy="81720"/>
                </a:xfrm>
                <a:custGeom>
                  <a:avLst/>
                  <a:gdLst/>
                  <a:ahLst/>
                  <a:rect l="l" t="t" r="r" b="b"/>
                  <a:pathLst>
                    <a:path w="760" h="180">
                      <a:moveTo>
                        <a:pt x="226" y="0"/>
                      </a:moveTo>
                      <a:lnTo>
                        <a:pt x="700" y="0"/>
                      </a:lnTo>
                      <a:lnTo>
                        <a:pt x="760" y="180"/>
                      </a:lnTo>
                      <a:lnTo>
                        <a:pt x="0" y="165"/>
                      </a:lnTo>
                      <a:lnTo>
                        <a:pt x="226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6" name=""/>
                <p:cNvGrpSpPr/>
                <p:nvPr/>
              </p:nvGrpSpPr>
              <p:grpSpPr>
                <a:xfrm>
                  <a:off x="4223160" y="5380200"/>
                  <a:ext cx="556560" cy="599400"/>
                  <a:chOff x="4223160" y="5380200"/>
                  <a:chExt cx="556560" cy="599400"/>
                </a:xfrm>
              </p:grpSpPr>
              <p:grpSp>
                <p:nvGrpSpPr>
                  <p:cNvPr id="1057" name=""/>
                  <p:cNvGrpSpPr/>
                  <p:nvPr/>
                </p:nvGrpSpPr>
                <p:grpSpPr>
                  <a:xfrm>
                    <a:off x="4251960" y="5445360"/>
                    <a:ext cx="464760" cy="534240"/>
                    <a:chOff x="4251960" y="5445360"/>
                    <a:chExt cx="464760" cy="534240"/>
                  </a:xfrm>
                </p:grpSpPr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4251960" y="5445360"/>
                      <a:ext cx="464760" cy="53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19" h="1175">
                          <a:moveTo>
                            <a:pt x="412" y="0"/>
                          </a:moveTo>
                          <a:lnTo>
                            <a:pt x="677" y="0"/>
                          </a:lnTo>
                          <a:lnTo>
                            <a:pt x="649" y="34"/>
                          </a:lnTo>
                          <a:lnTo>
                            <a:pt x="633" y="60"/>
                          </a:lnTo>
                          <a:lnTo>
                            <a:pt x="621" y="86"/>
                          </a:lnTo>
                          <a:lnTo>
                            <a:pt x="613" y="112"/>
                          </a:lnTo>
                          <a:lnTo>
                            <a:pt x="604" y="147"/>
                          </a:lnTo>
                          <a:lnTo>
                            <a:pt x="599" y="181"/>
                          </a:lnTo>
                          <a:lnTo>
                            <a:pt x="593" y="229"/>
                          </a:lnTo>
                          <a:lnTo>
                            <a:pt x="587" y="288"/>
                          </a:lnTo>
                          <a:lnTo>
                            <a:pt x="583" y="359"/>
                          </a:lnTo>
                          <a:lnTo>
                            <a:pt x="577" y="475"/>
                          </a:lnTo>
                          <a:lnTo>
                            <a:pt x="577" y="553"/>
                          </a:lnTo>
                          <a:lnTo>
                            <a:pt x="582" y="630"/>
                          </a:lnTo>
                          <a:lnTo>
                            <a:pt x="588" y="690"/>
                          </a:lnTo>
                          <a:lnTo>
                            <a:pt x="594" y="736"/>
                          </a:lnTo>
                          <a:lnTo>
                            <a:pt x="608" y="782"/>
                          </a:lnTo>
                          <a:lnTo>
                            <a:pt x="618" y="804"/>
                          </a:lnTo>
                          <a:lnTo>
                            <a:pt x="639" y="832"/>
                          </a:lnTo>
                          <a:lnTo>
                            <a:pt x="665" y="856"/>
                          </a:lnTo>
                          <a:lnTo>
                            <a:pt x="697" y="876"/>
                          </a:lnTo>
                          <a:lnTo>
                            <a:pt x="739" y="899"/>
                          </a:lnTo>
                          <a:lnTo>
                            <a:pt x="774" y="914"/>
                          </a:lnTo>
                          <a:lnTo>
                            <a:pt x="824" y="939"/>
                          </a:lnTo>
                          <a:lnTo>
                            <a:pt x="918" y="985"/>
                          </a:lnTo>
                          <a:lnTo>
                            <a:pt x="1019" y="1033"/>
                          </a:lnTo>
                          <a:lnTo>
                            <a:pt x="1019" y="1075"/>
                          </a:lnTo>
                          <a:lnTo>
                            <a:pt x="964" y="1101"/>
                          </a:lnTo>
                          <a:lnTo>
                            <a:pt x="900" y="1124"/>
                          </a:lnTo>
                          <a:lnTo>
                            <a:pt x="813" y="1145"/>
                          </a:lnTo>
                          <a:lnTo>
                            <a:pt x="719" y="1160"/>
                          </a:lnTo>
                          <a:lnTo>
                            <a:pt x="632" y="1169"/>
                          </a:lnTo>
                          <a:lnTo>
                            <a:pt x="516" y="1175"/>
                          </a:lnTo>
                          <a:lnTo>
                            <a:pt x="407" y="1169"/>
                          </a:lnTo>
                          <a:lnTo>
                            <a:pt x="325" y="1158"/>
                          </a:lnTo>
                          <a:lnTo>
                            <a:pt x="227" y="1145"/>
                          </a:lnTo>
                          <a:lnTo>
                            <a:pt x="132" y="1124"/>
                          </a:lnTo>
                          <a:lnTo>
                            <a:pt x="57" y="1101"/>
                          </a:lnTo>
                          <a:lnTo>
                            <a:pt x="0" y="1075"/>
                          </a:lnTo>
                          <a:lnTo>
                            <a:pt x="0" y="1033"/>
                          </a:lnTo>
                          <a:lnTo>
                            <a:pt x="121" y="984"/>
                          </a:lnTo>
                          <a:lnTo>
                            <a:pt x="226" y="939"/>
                          </a:lnTo>
                          <a:lnTo>
                            <a:pt x="279" y="914"/>
                          </a:lnTo>
                          <a:lnTo>
                            <a:pt x="311" y="899"/>
                          </a:lnTo>
                          <a:lnTo>
                            <a:pt x="346" y="876"/>
                          </a:lnTo>
                          <a:lnTo>
                            <a:pt x="375" y="853"/>
                          </a:lnTo>
                          <a:lnTo>
                            <a:pt x="393" y="836"/>
                          </a:lnTo>
                          <a:lnTo>
                            <a:pt x="416" y="808"/>
                          </a:lnTo>
                          <a:lnTo>
                            <a:pt x="431" y="782"/>
                          </a:lnTo>
                          <a:lnTo>
                            <a:pt x="446" y="736"/>
                          </a:lnTo>
                          <a:lnTo>
                            <a:pt x="457" y="691"/>
                          </a:lnTo>
                          <a:lnTo>
                            <a:pt x="467" y="630"/>
                          </a:lnTo>
                          <a:lnTo>
                            <a:pt x="476" y="553"/>
                          </a:lnTo>
                          <a:lnTo>
                            <a:pt x="481" y="475"/>
                          </a:lnTo>
                          <a:lnTo>
                            <a:pt x="485" y="362"/>
                          </a:lnTo>
                          <a:lnTo>
                            <a:pt x="480" y="286"/>
                          </a:lnTo>
                          <a:lnTo>
                            <a:pt x="477" y="205"/>
                          </a:lnTo>
                          <a:lnTo>
                            <a:pt x="473" y="159"/>
                          </a:lnTo>
                          <a:lnTo>
                            <a:pt x="467" y="117"/>
                          </a:lnTo>
                          <a:lnTo>
                            <a:pt x="458" y="83"/>
                          </a:lnTo>
                          <a:lnTo>
                            <a:pt x="448" y="55"/>
                          </a:lnTo>
                          <a:lnTo>
                            <a:pt x="434" y="30"/>
                          </a:lnTo>
                          <a:lnTo>
                            <a:pt x="412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59" name=""/>
                    <p:cNvGrpSpPr/>
                    <p:nvPr/>
                  </p:nvGrpSpPr>
                  <p:grpSpPr>
                    <a:xfrm>
                      <a:off x="4251960" y="5830560"/>
                      <a:ext cx="461880" cy="130680"/>
                      <a:chOff x="4251960" y="5830560"/>
                      <a:chExt cx="461880" cy="130680"/>
                    </a:xfrm>
                  </p:grpSpPr>
                  <p:sp>
                    <p:nvSpPr>
                      <p:cNvPr id="1060" name=""/>
                      <p:cNvSpPr/>
                      <p:nvPr/>
                    </p:nvSpPr>
                    <p:spPr>
                      <a:xfrm>
                        <a:off x="4428360" y="5830560"/>
                        <a:ext cx="1213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7" h="37">
                            <a:moveTo>
                              <a:pt x="0" y="2"/>
                            </a:moveTo>
                            <a:lnTo>
                              <a:pt x="30" y="15"/>
                            </a:lnTo>
                            <a:lnTo>
                              <a:pt x="64" y="27"/>
                            </a:lnTo>
                            <a:lnTo>
                              <a:pt x="100" y="33"/>
                            </a:lnTo>
                            <a:lnTo>
                              <a:pt x="139" y="37"/>
                            </a:lnTo>
                            <a:lnTo>
                              <a:pt x="182" y="32"/>
                            </a:lnTo>
                            <a:lnTo>
                              <a:pt x="218" y="22"/>
                            </a:lnTo>
                            <a:lnTo>
                              <a:pt x="246" y="13"/>
                            </a:lnTo>
                            <a:lnTo>
                              <a:pt x="267" y="0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1" name=""/>
                      <p:cNvSpPr/>
                      <p:nvPr/>
                    </p:nvSpPr>
                    <p:spPr>
                      <a:xfrm>
                        <a:off x="4251960" y="5916600"/>
                        <a:ext cx="46188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5" h="99">
                            <a:moveTo>
                              <a:pt x="0" y="1"/>
                            </a:moveTo>
                            <a:lnTo>
                              <a:pt x="56" y="26"/>
                            </a:lnTo>
                            <a:lnTo>
                              <a:pt x="113" y="42"/>
                            </a:lnTo>
                            <a:lnTo>
                              <a:pt x="159" y="56"/>
                            </a:lnTo>
                            <a:lnTo>
                              <a:pt x="226" y="69"/>
                            </a:lnTo>
                            <a:lnTo>
                              <a:pt x="291" y="79"/>
                            </a:lnTo>
                            <a:lnTo>
                              <a:pt x="359" y="88"/>
                            </a:lnTo>
                            <a:lnTo>
                              <a:pt x="417" y="95"/>
                            </a:lnTo>
                            <a:lnTo>
                              <a:pt x="511" y="99"/>
                            </a:lnTo>
                            <a:lnTo>
                              <a:pt x="622" y="95"/>
                            </a:lnTo>
                            <a:lnTo>
                              <a:pt x="690" y="88"/>
                            </a:lnTo>
                            <a:lnTo>
                              <a:pt x="802" y="71"/>
                            </a:lnTo>
                            <a:lnTo>
                              <a:pt x="858" y="60"/>
                            </a:lnTo>
                            <a:lnTo>
                              <a:pt x="910" y="45"/>
                            </a:lnTo>
                            <a:lnTo>
                              <a:pt x="970" y="22"/>
                            </a:lnTo>
                            <a:lnTo>
                              <a:pt x="1015" y="0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062" name=""/>
                  <p:cNvSpPr/>
                  <p:nvPr/>
                </p:nvSpPr>
                <p:spPr>
                  <a:xfrm>
                    <a:off x="4223160" y="5380200"/>
                    <a:ext cx="556560" cy="76320"/>
                  </a:xfrm>
                  <a:prstGeom prst="rect">
                    <a:avLst/>
                  </a:prstGeom>
                  <a:solidFill>
                    <a:srgbClr val="ff0000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3" name=""/>
              <p:cNvGrpSpPr/>
              <p:nvPr/>
            </p:nvGrpSpPr>
            <p:grpSpPr>
              <a:xfrm>
                <a:off x="4234320" y="5117760"/>
                <a:ext cx="513720" cy="294120"/>
                <a:chOff x="4234320" y="5117760"/>
                <a:chExt cx="513720" cy="294120"/>
              </a:xfrm>
            </p:grpSpPr>
            <p:grpSp>
              <p:nvGrpSpPr>
                <p:cNvPr id="1064" name=""/>
                <p:cNvGrpSpPr/>
                <p:nvPr/>
              </p:nvGrpSpPr>
              <p:grpSpPr>
                <a:xfrm>
                  <a:off x="4234320" y="5328000"/>
                  <a:ext cx="513720" cy="83880"/>
                  <a:chOff x="4234320" y="5328000"/>
                  <a:chExt cx="513720" cy="83880"/>
                </a:xfrm>
              </p:grpSpPr>
              <p:grpSp>
                <p:nvGrpSpPr>
                  <p:cNvPr id="1065" name=""/>
                  <p:cNvGrpSpPr/>
                  <p:nvPr/>
                </p:nvGrpSpPr>
                <p:grpSpPr>
                  <a:xfrm>
                    <a:off x="4234320" y="5328000"/>
                    <a:ext cx="210240" cy="49680"/>
                    <a:chOff x="4234320" y="5328000"/>
                    <a:chExt cx="210240" cy="49680"/>
                  </a:xfrm>
                </p:grpSpPr>
                <p:sp>
                  <p:nvSpPr>
                    <p:cNvPr id="1066" name=""/>
                    <p:cNvSpPr/>
                    <p:nvPr/>
                  </p:nvSpPr>
                  <p:spPr>
                    <a:xfrm>
                      <a:off x="4249080" y="5328000"/>
                      <a:ext cx="14328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88">
                          <a:moveTo>
                            <a:pt x="0" y="48"/>
                          </a:moveTo>
                          <a:lnTo>
                            <a:pt x="137" y="40"/>
                          </a:lnTo>
                          <a:lnTo>
                            <a:pt x="317" y="0"/>
                          </a:lnTo>
                          <a:lnTo>
                            <a:pt x="317" y="59"/>
                          </a:lnTo>
                          <a:lnTo>
                            <a:pt x="130" y="84"/>
                          </a:lnTo>
                          <a:lnTo>
                            <a:pt x="0" y="88"/>
                          </a:lnTo>
                          <a:lnTo>
                            <a:pt x="0" y="4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67" name=""/>
                    <p:cNvGrpSpPr/>
                    <p:nvPr/>
                  </p:nvGrpSpPr>
                  <p:grpSpPr>
                    <a:xfrm>
                      <a:off x="4234320" y="5330520"/>
                      <a:ext cx="210240" cy="47160"/>
                      <a:chOff x="4234320" y="5330520"/>
                      <a:chExt cx="210240" cy="47160"/>
                    </a:xfrm>
                  </p:grpSpPr>
                  <p:sp>
                    <p:nvSpPr>
                      <p:cNvPr id="1068" name=""/>
                      <p:cNvSpPr/>
                      <p:nvPr/>
                    </p:nvSpPr>
                    <p:spPr>
                      <a:xfrm>
                        <a:off x="4422600" y="5356080"/>
                        <a:ext cx="12240" cy="2016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69" name=""/>
                      <p:cNvGrpSpPr/>
                      <p:nvPr/>
                    </p:nvGrpSpPr>
                    <p:grpSpPr>
                      <a:xfrm>
                        <a:off x="4234320" y="5330520"/>
                        <a:ext cx="210240" cy="47160"/>
                        <a:chOff x="4234320" y="5330520"/>
                        <a:chExt cx="210240" cy="47160"/>
                      </a:xfrm>
                    </p:grpSpPr>
                    <p:sp>
                      <p:nvSpPr>
                        <p:cNvPr id="1070" name=""/>
                        <p:cNvSpPr/>
                        <p:nvPr/>
                      </p:nvSpPr>
                      <p:spPr>
                        <a:xfrm>
                          <a:off x="4234320" y="5330520"/>
                          <a:ext cx="210240" cy="47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61" h="106">
                              <a:moveTo>
                                <a:pt x="461" y="0"/>
                              </a:moveTo>
                              <a:lnTo>
                                <a:pt x="172" y="61"/>
                              </a:lnTo>
                              <a:lnTo>
                                <a:pt x="0" y="71"/>
                              </a:lnTo>
                              <a:lnTo>
                                <a:pt x="0" y="106"/>
                              </a:lnTo>
                              <a:lnTo>
                                <a:pt x="177" y="97"/>
                              </a:lnTo>
                              <a:lnTo>
                                <a:pt x="461" y="68"/>
                              </a:lnTo>
                              <a:lnTo>
                                <a:pt x="46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60" bIns="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1" name=""/>
                        <p:cNvSpPr/>
                        <p:nvPr/>
                      </p:nvSpPr>
                      <p:spPr>
                        <a:xfrm>
                          <a:off x="4243320" y="5338440"/>
                          <a:ext cx="194040" cy="29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5" h="66">
                              <a:moveTo>
                                <a:pt x="0" y="66"/>
                              </a:moveTo>
                              <a:lnTo>
                                <a:pt x="158" y="56"/>
                              </a:lnTo>
                              <a:lnTo>
                                <a:pt x="425" y="0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7280" bIns="-17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072" name=""/>
                  <p:cNvSpPr/>
                  <p:nvPr/>
                </p:nvSpPr>
                <p:spPr>
                  <a:xfrm>
                    <a:off x="4426560" y="5357880"/>
                    <a:ext cx="3214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704" h="119">
                        <a:moveTo>
                          <a:pt x="0" y="45"/>
                        </a:moveTo>
                        <a:lnTo>
                          <a:pt x="8" y="74"/>
                        </a:lnTo>
                        <a:lnTo>
                          <a:pt x="19" y="90"/>
                        </a:lnTo>
                        <a:lnTo>
                          <a:pt x="38" y="105"/>
                        </a:lnTo>
                        <a:lnTo>
                          <a:pt x="58" y="113"/>
                        </a:lnTo>
                        <a:lnTo>
                          <a:pt x="83" y="116"/>
                        </a:lnTo>
                        <a:lnTo>
                          <a:pt x="104" y="108"/>
                        </a:lnTo>
                        <a:lnTo>
                          <a:pt x="132" y="98"/>
                        </a:lnTo>
                        <a:lnTo>
                          <a:pt x="168" y="89"/>
                        </a:lnTo>
                        <a:lnTo>
                          <a:pt x="208" y="85"/>
                        </a:lnTo>
                        <a:lnTo>
                          <a:pt x="258" y="90"/>
                        </a:lnTo>
                        <a:lnTo>
                          <a:pt x="302" y="100"/>
                        </a:lnTo>
                        <a:lnTo>
                          <a:pt x="347" y="113"/>
                        </a:lnTo>
                        <a:lnTo>
                          <a:pt x="390" y="119"/>
                        </a:lnTo>
                        <a:lnTo>
                          <a:pt x="420" y="116"/>
                        </a:lnTo>
                        <a:lnTo>
                          <a:pt x="469" y="108"/>
                        </a:lnTo>
                        <a:lnTo>
                          <a:pt x="523" y="100"/>
                        </a:lnTo>
                        <a:lnTo>
                          <a:pt x="576" y="90"/>
                        </a:lnTo>
                        <a:lnTo>
                          <a:pt x="633" y="79"/>
                        </a:lnTo>
                        <a:lnTo>
                          <a:pt x="667" y="70"/>
                        </a:lnTo>
                        <a:lnTo>
                          <a:pt x="683" y="64"/>
                        </a:lnTo>
                        <a:lnTo>
                          <a:pt x="697" y="55"/>
                        </a:lnTo>
                        <a:lnTo>
                          <a:pt x="704" y="41"/>
                        </a:lnTo>
                        <a:lnTo>
                          <a:pt x="698" y="21"/>
                        </a:lnTo>
                        <a:lnTo>
                          <a:pt x="687" y="10"/>
                        </a:lnTo>
                        <a:lnTo>
                          <a:pt x="667" y="0"/>
                        </a:lnTo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3" name=""/>
                <p:cNvGrpSpPr/>
                <p:nvPr/>
              </p:nvGrpSpPr>
              <p:grpSpPr>
                <a:xfrm>
                  <a:off x="4448880" y="5117760"/>
                  <a:ext cx="278280" cy="264240"/>
                  <a:chOff x="4448880" y="5117760"/>
                  <a:chExt cx="278280" cy="264240"/>
                </a:xfrm>
              </p:grpSpPr>
              <p:grpSp>
                <p:nvGrpSpPr>
                  <p:cNvPr id="1074" name=""/>
                  <p:cNvGrpSpPr/>
                  <p:nvPr/>
                </p:nvGrpSpPr>
                <p:grpSpPr>
                  <a:xfrm>
                    <a:off x="4456800" y="5262120"/>
                    <a:ext cx="270360" cy="119880"/>
                    <a:chOff x="4456800" y="5262120"/>
                    <a:chExt cx="270360" cy="119880"/>
                  </a:xfrm>
                </p:grpSpPr>
                <p:grpSp>
                  <p:nvGrpSpPr>
                    <p:cNvPr id="1075" name=""/>
                    <p:cNvGrpSpPr/>
                    <p:nvPr/>
                  </p:nvGrpSpPr>
                  <p:grpSpPr>
                    <a:xfrm>
                      <a:off x="4456800" y="5271480"/>
                      <a:ext cx="270360" cy="110520"/>
                      <a:chOff x="4456800" y="5271480"/>
                      <a:chExt cx="270360" cy="110520"/>
                    </a:xfrm>
                  </p:grpSpPr>
                  <p:sp>
                    <p:nvSpPr>
                      <p:cNvPr id="1076" name=""/>
                      <p:cNvSpPr/>
                      <p:nvPr/>
                    </p:nvSpPr>
                    <p:spPr>
                      <a:xfrm>
                        <a:off x="4456800" y="5271480"/>
                        <a:ext cx="270360" cy="10476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77" name=""/>
                      <p:cNvGrpSpPr/>
                      <p:nvPr/>
                    </p:nvGrpSpPr>
                    <p:grpSpPr>
                      <a:xfrm>
                        <a:off x="4470120" y="5281920"/>
                        <a:ext cx="248400" cy="100080"/>
                        <a:chOff x="4470120" y="5281920"/>
                        <a:chExt cx="248400" cy="100080"/>
                      </a:xfrm>
                    </p:grpSpPr>
                    <p:grpSp>
                      <p:nvGrpSpPr>
                        <p:cNvPr id="1078" name=""/>
                        <p:cNvGrpSpPr/>
                        <p:nvPr/>
                      </p:nvGrpSpPr>
                      <p:grpSpPr>
                        <a:xfrm>
                          <a:off x="4470120" y="5281920"/>
                          <a:ext cx="248400" cy="56520"/>
                          <a:chOff x="4470120" y="5281920"/>
                          <a:chExt cx="248400" cy="56520"/>
                        </a:xfrm>
                      </p:grpSpPr>
                      <p:grpSp>
                        <p:nvGrpSpPr>
                          <p:cNvPr id="1079" name=""/>
                          <p:cNvGrpSpPr/>
                          <p:nvPr/>
                        </p:nvGrpSpPr>
                        <p:grpSpPr>
                          <a:xfrm>
                            <a:off x="4470120" y="5281920"/>
                            <a:ext cx="248400" cy="21240"/>
                            <a:chOff x="4470120" y="5281920"/>
                            <a:chExt cx="248400" cy="21240"/>
                          </a:xfrm>
                        </p:grpSpPr>
                        <p:sp>
                          <p:nvSpPr>
                            <p:cNvPr id="1080" name=""/>
                            <p:cNvSpPr/>
                            <p:nvPr/>
                          </p:nvSpPr>
                          <p:spPr>
                            <a:xfrm>
                              <a:off x="4471560" y="5281920"/>
                              <a:ext cx="246600" cy="14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1" name=""/>
                            <p:cNvSpPr/>
                            <p:nvPr/>
                          </p:nvSpPr>
                          <p:spPr>
                            <a:xfrm>
                              <a:off x="4470120" y="5291280"/>
                              <a:ext cx="248400" cy="14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2" name=""/>
                            <p:cNvSpPr/>
                            <p:nvPr/>
                          </p:nvSpPr>
                          <p:spPr>
                            <a:xfrm>
                              <a:off x="4471560" y="5302080"/>
                              <a:ext cx="246600" cy="10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83" name=""/>
                          <p:cNvGrpSpPr/>
                          <p:nvPr/>
                        </p:nvGrpSpPr>
                        <p:grpSpPr>
                          <a:xfrm>
                            <a:off x="4471560" y="5317200"/>
                            <a:ext cx="246600" cy="21240"/>
                            <a:chOff x="4471560" y="5317200"/>
                            <a:chExt cx="246600" cy="21240"/>
                          </a:xfrm>
                        </p:grpSpPr>
                        <p:sp>
                          <p:nvSpPr>
                            <p:cNvPr id="1084" name=""/>
                            <p:cNvSpPr/>
                            <p:nvPr/>
                          </p:nvSpPr>
                          <p:spPr>
                            <a:xfrm>
                              <a:off x="4471560" y="5317200"/>
                              <a:ext cx="246600" cy="14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5" name=""/>
                            <p:cNvSpPr/>
                            <p:nvPr/>
                          </p:nvSpPr>
                          <p:spPr>
                            <a:xfrm>
                              <a:off x="4471560" y="5327640"/>
                              <a:ext cx="246600" cy="14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6" name=""/>
                            <p:cNvSpPr/>
                            <p:nvPr/>
                          </p:nvSpPr>
                          <p:spPr>
                            <a:xfrm>
                              <a:off x="4471560" y="5337000"/>
                              <a:ext cx="246600" cy="14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087" name=""/>
                        <p:cNvGrpSpPr/>
                        <p:nvPr/>
                      </p:nvGrpSpPr>
                      <p:grpSpPr>
                        <a:xfrm>
                          <a:off x="4471560" y="5353920"/>
                          <a:ext cx="235080" cy="28080"/>
                          <a:chOff x="4471560" y="5353920"/>
                          <a:chExt cx="235080" cy="28080"/>
                        </a:xfrm>
                      </p:grpSpPr>
                      <p:grpSp>
                        <p:nvGrpSpPr>
                          <p:cNvPr id="1088" name=""/>
                          <p:cNvGrpSpPr/>
                          <p:nvPr/>
                        </p:nvGrpSpPr>
                        <p:grpSpPr>
                          <a:xfrm>
                            <a:off x="4471560" y="5353920"/>
                            <a:ext cx="86400" cy="26640"/>
                            <a:chOff x="4471560" y="5353920"/>
                            <a:chExt cx="86400" cy="26640"/>
                          </a:xfrm>
                        </p:grpSpPr>
                        <p:grpSp>
                          <p:nvGrpSpPr>
                            <p:cNvPr id="1089" name=""/>
                            <p:cNvGrpSpPr/>
                            <p:nvPr/>
                          </p:nvGrpSpPr>
                          <p:grpSpPr>
                            <a:xfrm>
                              <a:off x="4471560" y="5353920"/>
                              <a:ext cx="37440" cy="26640"/>
                              <a:chOff x="4471560" y="5353920"/>
                              <a:chExt cx="37440" cy="26640"/>
                            </a:xfrm>
                          </p:grpSpPr>
                          <p:grpSp>
                            <p:nvGrpSpPr>
                              <p:cNvPr id="1090" name=""/>
                              <p:cNvGrpSpPr/>
                              <p:nvPr/>
                            </p:nvGrpSpPr>
                            <p:grpSpPr>
                              <a:xfrm>
                                <a:off x="4471560" y="5353920"/>
                                <a:ext cx="11520" cy="26640"/>
                                <a:chOff x="4471560" y="5353920"/>
                                <a:chExt cx="11520" cy="26640"/>
                              </a:xfrm>
                            </p:grpSpPr>
                            <p:sp>
                              <p:nvSpPr>
                                <p:cNvPr id="1091" name=""/>
                                <p:cNvSpPr/>
                                <p:nvPr/>
                              </p:nvSpPr>
                              <p:spPr>
                                <a:xfrm>
                                  <a:off x="4471560" y="5353920"/>
                                  <a:ext cx="1080" cy="26640"/>
                                </a:xfrm>
                                <a:prstGeom prst="line">
                                  <a:avLst/>
                                </a:prstGeom>
                                <a:ln w="4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0160" bIns="-201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92" name=""/>
                                <p:cNvSpPr/>
                                <p:nvPr/>
                              </p:nvSpPr>
                              <p:spPr>
                                <a:xfrm>
                                  <a:off x="4482000" y="5355360"/>
                                  <a:ext cx="1080" cy="24840"/>
                                </a:xfrm>
                                <a:prstGeom prst="line">
                                  <a:avLst/>
                                </a:prstGeom>
                                <a:ln w="4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1960" bIns="-219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093" name=""/>
                              <p:cNvSpPr/>
                              <p:nvPr/>
                            </p:nvSpPr>
                            <p:spPr>
                              <a:xfrm>
                                <a:off x="4495680" y="5353920"/>
                                <a:ext cx="1440" cy="2664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94" name=""/>
                              <p:cNvSpPr/>
                              <p:nvPr/>
                            </p:nvSpPr>
                            <p:spPr>
                              <a:xfrm>
                                <a:off x="4507920" y="5353920"/>
                                <a:ext cx="1080" cy="2664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95" name=""/>
                            <p:cNvGrpSpPr/>
                            <p:nvPr/>
                          </p:nvGrpSpPr>
                          <p:grpSpPr>
                            <a:xfrm>
                              <a:off x="4521600" y="5353920"/>
                              <a:ext cx="36360" cy="26640"/>
                              <a:chOff x="4521600" y="5353920"/>
                              <a:chExt cx="36360" cy="26640"/>
                            </a:xfrm>
                          </p:grpSpPr>
                          <p:grpSp>
                            <p:nvGrpSpPr>
                              <p:cNvPr id="1096" name=""/>
                              <p:cNvGrpSpPr/>
                              <p:nvPr/>
                            </p:nvGrpSpPr>
                            <p:grpSpPr>
                              <a:xfrm>
                                <a:off x="4521600" y="5353920"/>
                                <a:ext cx="11880" cy="26640"/>
                                <a:chOff x="4521600" y="5353920"/>
                                <a:chExt cx="11880" cy="26640"/>
                              </a:xfrm>
                            </p:grpSpPr>
                            <p:sp>
                              <p:nvSpPr>
                                <p:cNvPr id="1097" name=""/>
                                <p:cNvSpPr/>
                                <p:nvPr/>
                              </p:nvSpPr>
                              <p:spPr>
                                <a:xfrm>
                                  <a:off x="4521600" y="5353920"/>
                                  <a:ext cx="1080" cy="25200"/>
                                </a:xfrm>
                                <a:prstGeom prst="line">
                                  <a:avLst/>
                                </a:prstGeom>
                                <a:ln w="4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1600" bIns="-216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98" name=""/>
                                <p:cNvSpPr/>
                                <p:nvPr/>
                              </p:nvSpPr>
                              <p:spPr>
                                <a:xfrm>
                                  <a:off x="4532040" y="5353920"/>
                                  <a:ext cx="1440" cy="26640"/>
                                </a:xfrm>
                                <a:prstGeom prst="line">
                                  <a:avLst/>
                                </a:prstGeom>
                                <a:ln w="4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0160" bIns="-201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099" name=""/>
                              <p:cNvSpPr/>
                              <p:nvPr/>
                            </p:nvSpPr>
                            <p:spPr>
                              <a:xfrm>
                                <a:off x="4545720" y="5353920"/>
                                <a:ext cx="1440" cy="2520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600" bIns="-216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00" name=""/>
                              <p:cNvSpPr/>
                              <p:nvPr/>
                            </p:nvSpPr>
                            <p:spPr>
                              <a:xfrm>
                                <a:off x="4556880" y="5353920"/>
                                <a:ext cx="1080" cy="2520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600" bIns="-216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101" name=""/>
                          <p:cNvGrpSpPr/>
                          <p:nvPr/>
                        </p:nvGrpSpPr>
                        <p:grpSpPr>
                          <a:xfrm>
                            <a:off x="4570920" y="5353920"/>
                            <a:ext cx="86400" cy="28080"/>
                            <a:chOff x="4570920" y="5353920"/>
                            <a:chExt cx="86400" cy="28080"/>
                          </a:xfrm>
                        </p:grpSpPr>
                        <p:grpSp>
                          <p:nvGrpSpPr>
                            <p:cNvPr id="1102" name=""/>
                            <p:cNvGrpSpPr/>
                            <p:nvPr/>
                          </p:nvGrpSpPr>
                          <p:grpSpPr>
                            <a:xfrm>
                              <a:off x="4570920" y="5355360"/>
                              <a:ext cx="36360" cy="26640"/>
                              <a:chOff x="4570920" y="5355360"/>
                              <a:chExt cx="36360" cy="26640"/>
                            </a:xfrm>
                          </p:grpSpPr>
                          <p:grpSp>
                            <p:nvGrpSpPr>
                              <p:cNvPr id="1103" name=""/>
                              <p:cNvGrpSpPr/>
                              <p:nvPr/>
                            </p:nvGrpSpPr>
                            <p:grpSpPr>
                              <a:xfrm>
                                <a:off x="4570920" y="5355360"/>
                                <a:ext cx="11520" cy="26640"/>
                                <a:chOff x="4570920" y="5355360"/>
                                <a:chExt cx="11520" cy="26640"/>
                              </a:xfrm>
                            </p:grpSpPr>
                            <p:sp>
                              <p:nvSpPr>
                                <p:cNvPr id="1104" name=""/>
                                <p:cNvSpPr/>
                                <p:nvPr/>
                              </p:nvSpPr>
                              <p:spPr>
                                <a:xfrm>
                                  <a:off x="4570920" y="5355360"/>
                                  <a:ext cx="1080" cy="24840"/>
                                </a:xfrm>
                                <a:prstGeom prst="line">
                                  <a:avLst/>
                                </a:prstGeom>
                                <a:ln w="4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1960" bIns="-219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05" name=""/>
                                <p:cNvSpPr/>
                                <p:nvPr/>
                              </p:nvSpPr>
                              <p:spPr>
                                <a:xfrm>
                                  <a:off x="4581360" y="5355360"/>
                                  <a:ext cx="1080" cy="26640"/>
                                </a:xfrm>
                                <a:prstGeom prst="line">
                                  <a:avLst/>
                                </a:prstGeom>
                                <a:ln w="4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0160" bIns="-201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106" name=""/>
                              <p:cNvSpPr/>
                              <p:nvPr/>
                            </p:nvSpPr>
                            <p:spPr>
                              <a:xfrm>
                                <a:off x="4595040" y="5355360"/>
                                <a:ext cx="1080" cy="2484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960" bIns="-219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07" name=""/>
                              <p:cNvSpPr/>
                              <p:nvPr/>
                            </p:nvSpPr>
                            <p:spPr>
                              <a:xfrm>
                                <a:off x="4605840" y="5355360"/>
                                <a:ext cx="1440" cy="2484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960" bIns="-219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08" name=""/>
                            <p:cNvGrpSpPr/>
                            <p:nvPr/>
                          </p:nvGrpSpPr>
                          <p:grpSpPr>
                            <a:xfrm>
                              <a:off x="4620960" y="5353920"/>
                              <a:ext cx="36360" cy="26640"/>
                              <a:chOff x="4620960" y="5353920"/>
                              <a:chExt cx="36360" cy="26640"/>
                            </a:xfrm>
                          </p:grpSpPr>
                          <p:grpSp>
                            <p:nvGrpSpPr>
                              <p:cNvPr id="1109" name=""/>
                              <p:cNvGrpSpPr/>
                              <p:nvPr/>
                            </p:nvGrpSpPr>
                            <p:grpSpPr>
                              <a:xfrm>
                                <a:off x="4620960" y="5353920"/>
                                <a:ext cx="11880" cy="26640"/>
                                <a:chOff x="4620960" y="5353920"/>
                                <a:chExt cx="11880" cy="26640"/>
                              </a:xfrm>
                            </p:grpSpPr>
                            <p:sp>
                              <p:nvSpPr>
                                <p:cNvPr id="1110" name=""/>
                                <p:cNvSpPr/>
                                <p:nvPr/>
                              </p:nvSpPr>
                              <p:spPr>
                                <a:xfrm>
                                  <a:off x="4620960" y="5353920"/>
                                  <a:ext cx="1080" cy="26640"/>
                                </a:xfrm>
                                <a:prstGeom prst="line">
                                  <a:avLst/>
                                </a:prstGeom>
                                <a:ln w="4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0160" bIns="-201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11" name=""/>
                                <p:cNvSpPr/>
                                <p:nvPr/>
                              </p:nvSpPr>
                              <p:spPr>
                                <a:xfrm>
                                  <a:off x="4631400" y="5355360"/>
                                  <a:ext cx="1440" cy="24840"/>
                                </a:xfrm>
                                <a:prstGeom prst="line">
                                  <a:avLst/>
                                </a:prstGeom>
                                <a:ln w="4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1960" bIns="-219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112" name=""/>
                              <p:cNvSpPr/>
                              <p:nvPr/>
                            </p:nvSpPr>
                            <p:spPr>
                              <a:xfrm>
                                <a:off x="4645080" y="5353920"/>
                                <a:ext cx="1440" cy="2664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13" name=""/>
                              <p:cNvSpPr/>
                              <p:nvPr/>
                            </p:nvSpPr>
                            <p:spPr>
                              <a:xfrm>
                                <a:off x="4656240" y="5353920"/>
                                <a:ext cx="1080" cy="2664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114" name=""/>
                          <p:cNvGrpSpPr/>
                          <p:nvPr/>
                        </p:nvGrpSpPr>
                        <p:grpSpPr>
                          <a:xfrm>
                            <a:off x="4668840" y="5353920"/>
                            <a:ext cx="37800" cy="26640"/>
                            <a:chOff x="4668840" y="5353920"/>
                            <a:chExt cx="37800" cy="26640"/>
                          </a:xfrm>
                        </p:grpSpPr>
                        <p:grpSp>
                          <p:nvGrpSpPr>
                            <p:cNvPr id="1115" name=""/>
                            <p:cNvGrpSpPr/>
                            <p:nvPr/>
                          </p:nvGrpSpPr>
                          <p:grpSpPr>
                            <a:xfrm>
                              <a:off x="4668840" y="5353920"/>
                              <a:ext cx="12960" cy="26640"/>
                              <a:chOff x="4668840" y="5353920"/>
                              <a:chExt cx="12960" cy="26640"/>
                            </a:xfrm>
                          </p:grpSpPr>
                          <p:sp>
                            <p:nvSpPr>
                              <p:cNvPr id="1116" name=""/>
                              <p:cNvSpPr/>
                              <p:nvPr/>
                            </p:nvSpPr>
                            <p:spPr>
                              <a:xfrm>
                                <a:off x="4668840" y="5353920"/>
                                <a:ext cx="1440" cy="2664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17" name=""/>
                              <p:cNvSpPr/>
                              <p:nvPr/>
                            </p:nvSpPr>
                            <p:spPr>
                              <a:xfrm>
                                <a:off x="4680720" y="5355360"/>
                                <a:ext cx="1080" cy="2484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960" bIns="-219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118" name=""/>
                            <p:cNvSpPr/>
                            <p:nvPr/>
                          </p:nvSpPr>
                          <p:spPr>
                            <a:xfrm>
                              <a:off x="4694400" y="5353920"/>
                              <a:ext cx="1080" cy="266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160" bIns="-20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9" name=""/>
                            <p:cNvSpPr/>
                            <p:nvPr/>
                          </p:nvSpPr>
                          <p:spPr>
                            <a:xfrm>
                              <a:off x="4705200" y="5353920"/>
                              <a:ext cx="1440" cy="266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160" bIns="-20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1120" name=""/>
                    <p:cNvSpPr/>
                    <p:nvPr/>
                  </p:nvSpPr>
                  <p:spPr>
                    <a:xfrm>
                      <a:off x="4467600" y="5262120"/>
                      <a:ext cx="2127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9" h="15">
                          <a:moveTo>
                            <a:pt x="469" y="15"/>
                          </a:moveTo>
                          <a:lnTo>
                            <a:pt x="0" y="15"/>
                          </a:lnTo>
                          <a:lnTo>
                            <a:pt x="0" y="0"/>
                          </a:lnTo>
                          <a:lnTo>
                            <a:pt x="468" y="0"/>
                          </a:lnTo>
                          <a:lnTo>
                            <a:pt x="469" y="15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21" name=""/>
                  <p:cNvGrpSpPr/>
                  <p:nvPr/>
                </p:nvGrpSpPr>
                <p:grpSpPr>
                  <a:xfrm>
                    <a:off x="4448880" y="5117760"/>
                    <a:ext cx="245520" cy="148320"/>
                    <a:chOff x="4448880" y="5117760"/>
                    <a:chExt cx="245520" cy="148320"/>
                  </a:xfrm>
                </p:grpSpPr>
                <p:grpSp>
                  <p:nvGrpSpPr>
                    <p:cNvPr id="1122" name=""/>
                    <p:cNvGrpSpPr/>
                    <p:nvPr/>
                  </p:nvGrpSpPr>
                  <p:grpSpPr>
                    <a:xfrm>
                      <a:off x="4528080" y="5131080"/>
                      <a:ext cx="166320" cy="129240"/>
                      <a:chOff x="4528080" y="5131080"/>
                      <a:chExt cx="166320" cy="129240"/>
                    </a:xfrm>
                  </p:grpSpPr>
                  <p:sp>
                    <p:nvSpPr>
                      <p:cNvPr id="1123" name=""/>
                      <p:cNvSpPr/>
                      <p:nvPr/>
                    </p:nvSpPr>
                    <p:spPr>
                      <a:xfrm>
                        <a:off x="4528080" y="5131080"/>
                        <a:ext cx="166320" cy="12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6" h="284">
                            <a:moveTo>
                              <a:pt x="0" y="284"/>
                            </a:moveTo>
                            <a:lnTo>
                              <a:pt x="351" y="284"/>
                            </a:lnTo>
                            <a:lnTo>
                              <a:pt x="361" y="277"/>
                            </a:lnTo>
                            <a:lnTo>
                              <a:pt x="366" y="259"/>
                            </a:lnTo>
                            <a:lnTo>
                              <a:pt x="366" y="26"/>
                            </a:lnTo>
                            <a:lnTo>
                              <a:pt x="364" y="8"/>
                            </a:lnTo>
                            <a:lnTo>
                              <a:pt x="354" y="0"/>
                            </a:lnTo>
                            <a:lnTo>
                              <a:pt x="0" y="0"/>
                            </a:lnTo>
                            <a:lnTo>
                              <a:pt x="0" y="28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24" name=""/>
                      <p:cNvGrpSpPr/>
                      <p:nvPr/>
                    </p:nvGrpSpPr>
                    <p:grpSpPr>
                      <a:xfrm>
                        <a:off x="4536000" y="5141880"/>
                        <a:ext cx="152640" cy="95040"/>
                        <a:chOff x="4536000" y="5141880"/>
                        <a:chExt cx="152640" cy="95040"/>
                      </a:xfrm>
                    </p:grpSpPr>
                    <p:grpSp>
                      <p:nvGrpSpPr>
                        <p:cNvPr id="1125" name=""/>
                        <p:cNvGrpSpPr/>
                        <p:nvPr/>
                      </p:nvGrpSpPr>
                      <p:grpSpPr>
                        <a:xfrm>
                          <a:off x="4536000" y="5141880"/>
                          <a:ext cx="152640" cy="25920"/>
                          <a:chOff x="4536000" y="5141880"/>
                          <a:chExt cx="152640" cy="25920"/>
                        </a:xfrm>
                      </p:grpSpPr>
                      <p:grpSp>
                        <p:nvGrpSpPr>
                          <p:cNvPr id="1126" name=""/>
                          <p:cNvGrpSpPr/>
                          <p:nvPr/>
                        </p:nvGrpSpPr>
                        <p:grpSpPr>
                          <a:xfrm>
                            <a:off x="4536000" y="5141880"/>
                            <a:ext cx="152640" cy="10440"/>
                            <a:chOff x="4536000" y="5141880"/>
                            <a:chExt cx="152640" cy="10440"/>
                          </a:xfrm>
                        </p:grpSpPr>
                        <p:sp>
                          <p:nvSpPr>
                            <p:cNvPr id="1127" name=""/>
                            <p:cNvSpPr/>
                            <p:nvPr/>
                          </p:nvSpPr>
                          <p:spPr>
                            <a:xfrm>
                              <a:off x="4536000" y="5141880"/>
                              <a:ext cx="152640" cy="14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28" name=""/>
                            <p:cNvSpPr/>
                            <p:nvPr/>
                          </p:nvSpPr>
                          <p:spPr>
                            <a:xfrm flipV="1">
                              <a:off x="4536000" y="5150880"/>
                              <a:ext cx="152640" cy="14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29" name=""/>
                          <p:cNvGrpSpPr/>
                          <p:nvPr/>
                        </p:nvGrpSpPr>
                        <p:grpSpPr>
                          <a:xfrm>
                            <a:off x="4536000" y="5159520"/>
                            <a:ext cx="152640" cy="8280"/>
                            <a:chOff x="4536000" y="5159520"/>
                            <a:chExt cx="152640" cy="8280"/>
                          </a:xfrm>
                        </p:grpSpPr>
                        <p:sp>
                          <p:nvSpPr>
                            <p:cNvPr id="1130" name=""/>
                            <p:cNvSpPr/>
                            <p:nvPr/>
                          </p:nvSpPr>
                          <p:spPr>
                            <a:xfrm>
                              <a:off x="4536000" y="5159520"/>
                              <a:ext cx="152640" cy="10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31" name=""/>
                            <p:cNvSpPr/>
                            <p:nvPr/>
                          </p:nvSpPr>
                          <p:spPr>
                            <a:xfrm flipV="1">
                              <a:off x="4536000" y="5166720"/>
                              <a:ext cx="152640" cy="10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132" name=""/>
                        <p:cNvGrpSpPr/>
                        <p:nvPr/>
                      </p:nvGrpSpPr>
                      <p:grpSpPr>
                        <a:xfrm>
                          <a:off x="4537080" y="5176080"/>
                          <a:ext cx="151200" cy="27000"/>
                          <a:chOff x="4537080" y="5176080"/>
                          <a:chExt cx="151200" cy="27000"/>
                        </a:xfrm>
                      </p:grpSpPr>
                      <p:grpSp>
                        <p:nvGrpSpPr>
                          <p:cNvPr id="1133" name=""/>
                          <p:cNvGrpSpPr/>
                          <p:nvPr/>
                        </p:nvGrpSpPr>
                        <p:grpSpPr>
                          <a:xfrm>
                            <a:off x="4537080" y="5176080"/>
                            <a:ext cx="151200" cy="10440"/>
                            <a:chOff x="4537080" y="5176080"/>
                            <a:chExt cx="151200" cy="10440"/>
                          </a:xfrm>
                        </p:grpSpPr>
                        <p:sp>
                          <p:nvSpPr>
                            <p:cNvPr id="1134" name=""/>
                            <p:cNvSpPr/>
                            <p:nvPr/>
                          </p:nvSpPr>
                          <p:spPr>
                            <a:xfrm>
                              <a:off x="4537080" y="5176080"/>
                              <a:ext cx="151200" cy="10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35" name=""/>
                            <p:cNvSpPr/>
                            <p:nvPr/>
                          </p:nvSpPr>
                          <p:spPr>
                            <a:xfrm flipV="1">
                              <a:off x="4537080" y="5185080"/>
                              <a:ext cx="151200" cy="14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36" name=""/>
                          <p:cNvGrpSpPr/>
                          <p:nvPr/>
                        </p:nvGrpSpPr>
                        <p:grpSpPr>
                          <a:xfrm>
                            <a:off x="4537080" y="5193360"/>
                            <a:ext cx="151200" cy="9720"/>
                            <a:chOff x="4537080" y="5193360"/>
                            <a:chExt cx="151200" cy="9720"/>
                          </a:xfrm>
                        </p:grpSpPr>
                        <p:sp>
                          <p:nvSpPr>
                            <p:cNvPr id="1137" name=""/>
                            <p:cNvSpPr/>
                            <p:nvPr/>
                          </p:nvSpPr>
                          <p:spPr>
                            <a:xfrm>
                              <a:off x="4537080" y="5193360"/>
                              <a:ext cx="151200" cy="10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38" name=""/>
                            <p:cNvSpPr/>
                            <p:nvPr/>
                          </p:nvSpPr>
                          <p:spPr>
                            <a:xfrm flipV="1">
                              <a:off x="4537080" y="5202000"/>
                              <a:ext cx="151200" cy="10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139" name=""/>
                        <p:cNvGrpSpPr/>
                        <p:nvPr/>
                      </p:nvGrpSpPr>
                      <p:grpSpPr>
                        <a:xfrm>
                          <a:off x="4536000" y="5211000"/>
                          <a:ext cx="152640" cy="25920"/>
                          <a:chOff x="4536000" y="5211000"/>
                          <a:chExt cx="152640" cy="25920"/>
                        </a:xfrm>
                      </p:grpSpPr>
                      <p:grpSp>
                        <p:nvGrpSpPr>
                          <p:cNvPr id="1140" name=""/>
                          <p:cNvGrpSpPr/>
                          <p:nvPr/>
                        </p:nvGrpSpPr>
                        <p:grpSpPr>
                          <a:xfrm>
                            <a:off x="4536000" y="5211000"/>
                            <a:ext cx="152640" cy="8640"/>
                            <a:chOff x="4536000" y="5211000"/>
                            <a:chExt cx="152640" cy="8640"/>
                          </a:xfrm>
                        </p:grpSpPr>
                        <p:sp>
                          <p:nvSpPr>
                            <p:cNvPr id="1141" name=""/>
                            <p:cNvSpPr/>
                            <p:nvPr/>
                          </p:nvSpPr>
                          <p:spPr>
                            <a:xfrm>
                              <a:off x="4536000" y="5211000"/>
                              <a:ext cx="152640" cy="14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42" name=""/>
                            <p:cNvSpPr/>
                            <p:nvPr/>
                          </p:nvSpPr>
                          <p:spPr>
                            <a:xfrm flipV="1">
                              <a:off x="4536000" y="5218560"/>
                              <a:ext cx="152640" cy="10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43" name=""/>
                          <p:cNvGrpSpPr/>
                          <p:nvPr/>
                        </p:nvGrpSpPr>
                        <p:grpSpPr>
                          <a:xfrm>
                            <a:off x="4536000" y="5228640"/>
                            <a:ext cx="152640" cy="8280"/>
                            <a:chOff x="4536000" y="5228640"/>
                            <a:chExt cx="152640" cy="8280"/>
                          </a:xfrm>
                        </p:grpSpPr>
                        <p:sp>
                          <p:nvSpPr>
                            <p:cNvPr id="1144" name=""/>
                            <p:cNvSpPr/>
                            <p:nvPr/>
                          </p:nvSpPr>
                          <p:spPr>
                            <a:xfrm>
                              <a:off x="4536000" y="5228640"/>
                              <a:ext cx="152640" cy="10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45" name=""/>
                            <p:cNvSpPr/>
                            <p:nvPr/>
                          </p:nvSpPr>
                          <p:spPr>
                            <a:xfrm flipV="1">
                              <a:off x="4536000" y="5235840"/>
                              <a:ext cx="152640" cy="10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146" name=""/>
                    <p:cNvGrpSpPr/>
                    <p:nvPr/>
                  </p:nvGrpSpPr>
                  <p:grpSpPr>
                    <a:xfrm>
                      <a:off x="4448880" y="5117760"/>
                      <a:ext cx="77400" cy="148320"/>
                      <a:chOff x="4448880" y="5117760"/>
                      <a:chExt cx="77400" cy="148320"/>
                    </a:xfrm>
                  </p:grpSpPr>
                  <p:sp>
                    <p:nvSpPr>
                      <p:cNvPr id="1147" name=""/>
                      <p:cNvSpPr/>
                      <p:nvPr/>
                    </p:nvSpPr>
                    <p:spPr>
                      <a:xfrm>
                        <a:off x="4448880" y="5117760"/>
                        <a:ext cx="77400" cy="14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0" h="314">
                            <a:moveTo>
                              <a:pt x="170" y="0"/>
                            </a:moveTo>
                            <a:lnTo>
                              <a:pt x="170" y="314"/>
                            </a:lnTo>
                            <a:lnTo>
                              <a:pt x="12" y="314"/>
                            </a:lnTo>
                            <a:lnTo>
                              <a:pt x="5" y="311"/>
                            </a:lnTo>
                            <a:lnTo>
                              <a:pt x="1" y="303"/>
                            </a:lnTo>
                            <a:lnTo>
                              <a:pt x="0" y="294"/>
                            </a:lnTo>
                            <a:lnTo>
                              <a:pt x="0" y="17"/>
                            </a:lnTo>
                            <a:lnTo>
                              <a:pt x="3" y="8"/>
                            </a:lnTo>
                            <a:lnTo>
                              <a:pt x="8" y="1"/>
                            </a:lnTo>
                            <a:lnTo>
                              <a:pt x="15" y="0"/>
                            </a:lnTo>
                            <a:lnTo>
                              <a:pt x="170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8" name=""/>
                      <p:cNvSpPr/>
                      <p:nvPr/>
                    </p:nvSpPr>
                    <p:spPr>
                      <a:xfrm>
                        <a:off x="4515480" y="5118840"/>
                        <a:ext cx="1080" cy="14724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1149" name=""/>
          <p:cNvSpPr/>
          <p:nvPr/>
        </p:nvSpPr>
        <p:spPr>
          <a:xfrm>
            <a:off x="673200" y="2178000"/>
            <a:ext cx="202716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Material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Im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946240" y="2049480"/>
            <a:ext cx="19018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wages,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vertime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64040" y="2038320"/>
            <a:ext cx="31687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verdue payment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87640" y="4076640"/>
            <a:ext cx="19018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frustration,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83120" y="4062240"/>
            <a:ext cx="359892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negative publicity,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loss of goodwill,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500"/>
                            </p:stCondLst>
                            <p:childTnLst>
                              <p:par>
                                <p:cTn id="1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9" dur="500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3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Meas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duce highest ri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bability (threat)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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nd/or    loss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ever 100% secur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unctionality vs. 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6781680" y="2438280"/>
            <a:ext cx="990360" cy="1041120"/>
            <a:chOff x="6781680" y="2438280"/>
            <a:chExt cx="990360" cy="1041120"/>
          </a:xfrm>
        </p:grpSpPr>
        <p:sp>
          <p:nvSpPr>
            <p:cNvPr id="1157" name=""/>
            <p:cNvSpPr/>
            <p:nvPr/>
          </p:nvSpPr>
          <p:spPr>
            <a:xfrm>
              <a:off x="7254000" y="2486520"/>
              <a:ext cx="29880" cy="92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466400" y="2755800"/>
              <a:ext cx="256320" cy="428400"/>
            </a:xfrm>
            <a:custGeom>
              <a:avLst/>
              <a:gdLst/>
              <a:ahLst/>
              <a:rect l="l" t="t" r="r" b="b"/>
              <a:pathLst>
                <a:path w="810" h="1242">
                  <a:moveTo>
                    <a:pt x="373" y="17"/>
                  </a:moveTo>
                  <a:lnTo>
                    <a:pt x="365" y="17"/>
                  </a:lnTo>
                  <a:lnTo>
                    <a:pt x="800" y="1238"/>
                  </a:lnTo>
                  <a:lnTo>
                    <a:pt x="804" y="1231"/>
                  </a:lnTo>
                  <a:lnTo>
                    <a:pt x="4" y="1231"/>
                  </a:lnTo>
                  <a:lnTo>
                    <a:pt x="10" y="1238"/>
                  </a:lnTo>
                  <a:lnTo>
                    <a:pt x="373" y="17"/>
                  </a:lnTo>
                  <a:lnTo>
                    <a:pt x="369" y="0"/>
                  </a:lnTo>
                  <a:lnTo>
                    <a:pt x="0" y="1242"/>
                  </a:lnTo>
                  <a:lnTo>
                    <a:pt x="810" y="1242"/>
                  </a:lnTo>
                  <a:lnTo>
                    <a:pt x="369" y="0"/>
                  </a:lnTo>
                  <a:lnTo>
                    <a:pt x="373" y="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581960" y="2764440"/>
              <a:ext cx="4320" cy="419760"/>
            </a:xfrm>
            <a:custGeom>
              <a:avLst/>
              <a:gdLst/>
              <a:ahLst/>
              <a:rect l="l" t="t" r="r" b="b"/>
              <a:pathLst>
                <a:path w="12" h="1213">
                  <a:moveTo>
                    <a:pt x="0" y="0"/>
                  </a:moveTo>
                  <a:lnTo>
                    <a:pt x="4" y="1213"/>
                  </a:lnTo>
                  <a:lnTo>
                    <a:pt x="12" y="1213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407720" y="3180600"/>
              <a:ext cx="364320" cy="24120"/>
            </a:xfrm>
            <a:custGeom>
              <a:avLst/>
              <a:gdLst/>
              <a:ahLst/>
              <a:rect l="l" t="t" r="r" b="b"/>
              <a:pathLst>
                <a:path w="1149" h="73">
                  <a:moveTo>
                    <a:pt x="1149" y="64"/>
                  </a:moveTo>
                  <a:lnTo>
                    <a:pt x="1149" y="0"/>
                  </a:lnTo>
                  <a:lnTo>
                    <a:pt x="0" y="6"/>
                  </a:lnTo>
                  <a:lnTo>
                    <a:pt x="0" y="73"/>
                  </a:lnTo>
                  <a:lnTo>
                    <a:pt x="1149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448760" y="3192840"/>
              <a:ext cx="283680" cy="34200"/>
            </a:xfrm>
            <a:custGeom>
              <a:avLst/>
              <a:gdLst/>
              <a:ahLst/>
              <a:rect l="l" t="t" r="r" b="b"/>
              <a:pathLst>
                <a:path w="894" h="101">
                  <a:moveTo>
                    <a:pt x="894" y="97"/>
                  </a:moveTo>
                  <a:lnTo>
                    <a:pt x="894" y="0"/>
                  </a:lnTo>
                  <a:lnTo>
                    <a:pt x="0" y="3"/>
                  </a:lnTo>
                  <a:lnTo>
                    <a:pt x="0" y="101"/>
                  </a:lnTo>
                  <a:lnTo>
                    <a:pt x="894" y="9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491960" y="3216960"/>
              <a:ext cx="205920" cy="36000"/>
            </a:xfrm>
            <a:custGeom>
              <a:avLst/>
              <a:gdLst/>
              <a:ahLst/>
              <a:rect l="l" t="t" r="r" b="b"/>
              <a:pathLst>
                <a:path w="650" h="106">
                  <a:moveTo>
                    <a:pt x="648" y="0"/>
                  </a:moveTo>
                  <a:lnTo>
                    <a:pt x="0" y="6"/>
                  </a:lnTo>
                  <a:lnTo>
                    <a:pt x="6" y="23"/>
                  </a:lnTo>
                  <a:lnTo>
                    <a:pt x="11" y="44"/>
                  </a:lnTo>
                  <a:lnTo>
                    <a:pt x="22" y="60"/>
                  </a:lnTo>
                  <a:lnTo>
                    <a:pt x="34" y="77"/>
                  </a:lnTo>
                  <a:lnTo>
                    <a:pt x="44" y="89"/>
                  </a:lnTo>
                  <a:lnTo>
                    <a:pt x="58" y="102"/>
                  </a:lnTo>
                  <a:lnTo>
                    <a:pt x="73" y="106"/>
                  </a:lnTo>
                  <a:lnTo>
                    <a:pt x="86" y="106"/>
                  </a:lnTo>
                  <a:lnTo>
                    <a:pt x="86" y="104"/>
                  </a:lnTo>
                  <a:lnTo>
                    <a:pt x="564" y="104"/>
                  </a:lnTo>
                  <a:lnTo>
                    <a:pt x="578" y="104"/>
                  </a:lnTo>
                  <a:lnTo>
                    <a:pt x="592" y="94"/>
                  </a:lnTo>
                  <a:lnTo>
                    <a:pt x="606" y="87"/>
                  </a:lnTo>
                  <a:lnTo>
                    <a:pt x="620" y="72"/>
                  </a:lnTo>
                  <a:lnTo>
                    <a:pt x="634" y="57"/>
                  </a:lnTo>
                  <a:lnTo>
                    <a:pt x="642" y="40"/>
                  </a:lnTo>
                  <a:lnTo>
                    <a:pt x="650" y="20"/>
                  </a:lnTo>
                  <a:lnTo>
                    <a:pt x="650" y="0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542360" y="2674800"/>
              <a:ext cx="58320" cy="77760"/>
            </a:xfrm>
            <a:custGeom>
              <a:avLst/>
              <a:gdLst/>
              <a:ahLst/>
              <a:rect l="l" t="t" r="r" b="b"/>
              <a:pathLst>
                <a:path w="186" h="224">
                  <a:moveTo>
                    <a:pt x="61" y="222"/>
                  </a:moveTo>
                  <a:lnTo>
                    <a:pt x="80" y="224"/>
                  </a:lnTo>
                  <a:lnTo>
                    <a:pt x="97" y="224"/>
                  </a:lnTo>
                  <a:lnTo>
                    <a:pt x="117" y="222"/>
                  </a:lnTo>
                  <a:lnTo>
                    <a:pt x="133" y="214"/>
                  </a:lnTo>
                  <a:lnTo>
                    <a:pt x="149" y="205"/>
                  </a:lnTo>
                  <a:lnTo>
                    <a:pt x="161" y="187"/>
                  </a:lnTo>
                  <a:lnTo>
                    <a:pt x="173" y="170"/>
                  </a:lnTo>
                  <a:lnTo>
                    <a:pt x="181" y="150"/>
                  </a:lnTo>
                  <a:lnTo>
                    <a:pt x="186" y="126"/>
                  </a:lnTo>
                  <a:lnTo>
                    <a:pt x="186" y="104"/>
                  </a:lnTo>
                  <a:lnTo>
                    <a:pt x="183" y="81"/>
                  </a:lnTo>
                  <a:lnTo>
                    <a:pt x="175" y="64"/>
                  </a:lnTo>
                  <a:lnTo>
                    <a:pt x="167" y="44"/>
                  </a:lnTo>
                  <a:lnTo>
                    <a:pt x="152" y="27"/>
                  </a:lnTo>
                  <a:lnTo>
                    <a:pt x="139" y="14"/>
                  </a:lnTo>
                  <a:lnTo>
                    <a:pt x="122" y="6"/>
                  </a:lnTo>
                  <a:lnTo>
                    <a:pt x="102" y="0"/>
                  </a:lnTo>
                  <a:lnTo>
                    <a:pt x="86" y="0"/>
                  </a:lnTo>
                  <a:lnTo>
                    <a:pt x="69" y="3"/>
                  </a:lnTo>
                  <a:lnTo>
                    <a:pt x="52" y="10"/>
                  </a:lnTo>
                  <a:lnTo>
                    <a:pt x="36" y="23"/>
                  </a:lnTo>
                  <a:lnTo>
                    <a:pt x="24" y="36"/>
                  </a:lnTo>
                  <a:lnTo>
                    <a:pt x="14" y="53"/>
                  </a:lnTo>
                  <a:lnTo>
                    <a:pt x="6" y="77"/>
                  </a:lnTo>
                  <a:lnTo>
                    <a:pt x="0" y="100"/>
                  </a:lnTo>
                  <a:lnTo>
                    <a:pt x="0" y="119"/>
                  </a:lnTo>
                  <a:lnTo>
                    <a:pt x="2" y="142"/>
                  </a:lnTo>
                  <a:lnTo>
                    <a:pt x="10" y="164"/>
                  </a:lnTo>
                  <a:lnTo>
                    <a:pt x="19" y="181"/>
                  </a:lnTo>
                  <a:lnTo>
                    <a:pt x="30" y="198"/>
                  </a:lnTo>
                  <a:lnTo>
                    <a:pt x="44" y="210"/>
                  </a:lnTo>
                  <a:lnTo>
                    <a:pt x="61" y="222"/>
                  </a:lnTo>
                  <a:lnTo>
                    <a:pt x="61" y="217"/>
                  </a:lnTo>
                  <a:lnTo>
                    <a:pt x="61" y="22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946560" y="2559240"/>
              <a:ext cx="644760" cy="222840"/>
            </a:xfrm>
            <a:custGeom>
              <a:avLst/>
              <a:gdLst/>
              <a:ahLst/>
              <a:rect l="l" t="t" r="r" b="b"/>
              <a:pathLst>
                <a:path w="2035" h="645">
                  <a:moveTo>
                    <a:pt x="1005" y="370"/>
                  </a:moveTo>
                  <a:lnTo>
                    <a:pt x="993" y="368"/>
                  </a:lnTo>
                  <a:lnTo>
                    <a:pt x="979" y="364"/>
                  </a:lnTo>
                  <a:lnTo>
                    <a:pt x="965" y="361"/>
                  </a:lnTo>
                  <a:lnTo>
                    <a:pt x="950" y="357"/>
                  </a:lnTo>
                  <a:lnTo>
                    <a:pt x="910" y="340"/>
                  </a:lnTo>
                  <a:lnTo>
                    <a:pt x="891" y="330"/>
                  </a:lnTo>
                  <a:lnTo>
                    <a:pt x="866" y="317"/>
                  </a:lnTo>
                  <a:lnTo>
                    <a:pt x="837" y="297"/>
                  </a:lnTo>
                  <a:lnTo>
                    <a:pt x="812" y="276"/>
                  </a:lnTo>
                  <a:lnTo>
                    <a:pt x="784" y="263"/>
                  </a:lnTo>
                  <a:lnTo>
                    <a:pt x="759" y="253"/>
                  </a:lnTo>
                  <a:lnTo>
                    <a:pt x="709" y="239"/>
                  </a:lnTo>
                  <a:lnTo>
                    <a:pt x="658" y="236"/>
                  </a:lnTo>
                  <a:lnTo>
                    <a:pt x="608" y="239"/>
                  </a:lnTo>
                  <a:lnTo>
                    <a:pt x="552" y="250"/>
                  </a:lnTo>
                  <a:lnTo>
                    <a:pt x="495" y="263"/>
                  </a:lnTo>
                  <a:lnTo>
                    <a:pt x="429" y="276"/>
                  </a:lnTo>
                  <a:lnTo>
                    <a:pt x="397" y="284"/>
                  </a:lnTo>
                  <a:lnTo>
                    <a:pt x="363" y="289"/>
                  </a:lnTo>
                  <a:lnTo>
                    <a:pt x="297" y="289"/>
                  </a:lnTo>
                  <a:lnTo>
                    <a:pt x="268" y="284"/>
                  </a:lnTo>
                  <a:lnTo>
                    <a:pt x="237" y="276"/>
                  </a:lnTo>
                  <a:lnTo>
                    <a:pt x="209" y="267"/>
                  </a:lnTo>
                  <a:lnTo>
                    <a:pt x="181" y="253"/>
                  </a:lnTo>
                  <a:lnTo>
                    <a:pt x="153" y="239"/>
                  </a:lnTo>
                  <a:lnTo>
                    <a:pt x="128" y="220"/>
                  </a:lnTo>
                  <a:lnTo>
                    <a:pt x="102" y="199"/>
                  </a:lnTo>
                  <a:lnTo>
                    <a:pt x="80" y="175"/>
                  </a:lnTo>
                  <a:lnTo>
                    <a:pt x="58" y="149"/>
                  </a:lnTo>
                  <a:lnTo>
                    <a:pt x="36" y="121"/>
                  </a:lnTo>
                  <a:lnTo>
                    <a:pt x="16" y="87"/>
                  </a:lnTo>
                  <a:lnTo>
                    <a:pt x="0" y="53"/>
                  </a:lnTo>
                  <a:lnTo>
                    <a:pt x="13" y="58"/>
                  </a:lnTo>
                  <a:lnTo>
                    <a:pt x="18" y="58"/>
                  </a:lnTo>
                  <a:lnTo>
                    <a:pt x="24" y="60"/>
                  </a:lnTo>
                  <a:lnTo>
                    <a:pt x="44" y="64"/>
                  </a:lnTo>
                  <a:lnTo>
                    <a:pt x="63" y="68"/>
                  </a:lnTo>
                  <a:lnTo>
                    <a:pt x="75" y="70"/>
                  </a:lnTo>
                  <a:lnTo>
                    <a:pt x="92" y="77"/>
                  </a:lnTo>
                  <a:lnTo>
                    <a:pt x="144" y="94"/>
                  </a:lnTo>
                  <a:lnTo>
                    <a:pt x="192" y="109"/>
                  </a:lnTo>
                  <a:lnTo>
                    <a:pt x="234" y="111"/>
                  </a:lnTo>
                  <a:lnTo>
                    <a:pt x="273" y="115"/>
                  </a:lnTo>
                  <a:lnTo>
                    <a:pt x="310" y="111"/>
                  </a:lnTo>
                  <a:lnTo>
                    <a:pt x="342" y="104"/>
                  </a:lnTo>
                  <a:lnTo>
                    <a:pt x="377" y="94"/>
                  </a:lnTo>
                  <a:lnTo>
                    <a:pt x="405" y="85"/>
                  </a:lnTo>
                  <a:lnTo>
                    <a:pt x="461" y="58"/>
                  </a:lnTo>
                  <a:lnTo>
                    <a:pt x="484" y="44"/>
                  </a:lnTo>
                  <a:lnTo>
                    <a:pt x="510" y="30"/>
                  </a:lnTo>
                  <a:lnTo>
                    <a:pt x="560" y="10"/>
                  </a:lnTo>
                  <a:lnTo>
                    <a:pt x="586" y="3"/>
                  </a:lnTo>
                  <a:lnTo>
                    <a:pt x="614" y="0"/>
                  </a:lnTo>
                  <a:lnTo>
                    <a:pt x="650" y="0"/>
                  </a:lnTo>
                  <a:lnTo>
                    <a:pt x="692" y="3"/>
                  </a:lnTo>
                  <a:lnTo>
                    <a:pt x="732" y="15"/>
                  </a:lnTo>
                  <a:lnTo>
                    <a:pt x="770" y="30"/>
                  </a:lnTo>
                  <a:lnTo>
                    <a:pt x="832" y="70"/>
                  </a:lnTo>
                  <a:lnTo>
                    <a:pt x="895" y="104"/>
                  </a:lnTo>
                  <a:lnTo>
                    <a:pt x="965" y="132"/>
                  </a:lnTo>
                  <a:lnTo>
                    <a:pt x="1003" y="145"/>
                  </a:lnTo>
                  <a:lnTo>
                    <a:pt x="1041" y="152"/>
                  </a:lnTo>
                  <a:lnTo>
                    <a:pt x="1116" y="165"/>
                  </a:lnTo>
                  <a:lnTo>
                    <a:pt x="1192" y="171"/>
                  </a:lnTo>
                  <a:lnTo>
                    <a:pt x="1262" y="171"/>
                  </a:lnTo>
                  <a:lnTo>
                    <a:pt x="1332" y="165"/>
                  </a:lnTo>
                  <a:lnTo>
                    <a:pt x="1372" y="165"/>
                  </a:lnTo>
                  <a:lnTo>
                    <a:pt x="1409" y="175"/>
                  </a:lnTo>
                  <a:lnTo>
                    <a:pt x="1449" y="192"/>
                  </a:lnTo>
                  <a:lnTo>
                    <a:pt x="1485" y="209"/>
                  </a:lnTo>
                  <a:lnTo>
                    <a:pt x="1508" y="226"/>
                  </a:lnTo>
                  <a:lnTo>
                    <a:pt x="1530" y="243"/>
                  </a:lnTo>
                  <a:lnTo>
                    <a:pt x="1569" y="287"/>
                  </a:lnTo>
                  <a:lnTo>
                    <a:pt x="1609" y="334"/>
                  </a:lnTo>
                  <a:lnTo>
                    <a:pt x="1651" y="385"/>
                  </a:lnTo>
                  <a:lnTo>
                    <a:pt x="1672" y="411"/>
                  </a:lnTo>
                  <a:lnTo>
                    <a:pt x="1698" y="432"/>
                  </a:lnTo>
                  <a:lnTo>
                    <a:pt x="1728" y="455"/>
                  </a:lnTo>
                  <a:lnTo>
                    <a:pt x="1760" y="475"/>
                  </a:lnTo>
                  <a:lnTo>
                    <a:pt x="1798" y="492"/>
                  </a:lnTo>
                  <a:lnTo>
                    <a:pt x="1840" y="505"/>
                  </a:lnTo>
                  <a:lnTo>
                    <a:pt x="1888" y="515"/>
                  </a:lnTo>
                  <a:lnTo>
                    <a:pt x="1941" y="522"/>
                  </a:lnTo>
                  <a:lnTo>
                    <a:pt x="1957" y="526"/>
                  </a:lnTo>
                  <a:lnTo>
                    <a:pt x="1970" y="529"/>
                  </a:lnTo>
                  <a:lnTo>
                    <a:pt x="1991" y="532"/>
                  </a:lnTo>
                  <a:lnTo>
                    <a:pt x="2012" y="537"/>
                  </a:lnTo>
                  <a:lnTo>
                    <a:pt x="2035" y="539"/>
                  </a:lnTo>
                  <a:lnTo>
                    <a:pt x="2007" y="563"/>
                  </a:lnTo>
                  <a:lnTo>
                    <a:pt x="1980" y="583"/>
                  </a:lnTo>
                  <a:lnTo>
                    <a:pt x="1949" y="599"/>
                  </a:lnTo>
                  <a:lnTo>
                    <a:pt x="1922" y="616"/>
                  </a:lnTo>
                  <a:lnTo>
                    <a:pt x="1894" y="628"/>
                  </a:lnTo>
                  <a:lnTo>
                    <a:pt x="1862" y="638"/>
                  </a:lnTo>
                  <a:lnTo>
                    <a:pt x="1835" y="640"/>
                  </a:lnTo>
                  <a:lnTo>
                    <a:pt x="1804" y="645"/>
                  </a:lnTo>
                  <a:lnTo>
                    <a:pt x="1773" y="640"/>
                  </a:lnTo>
                  <a:lnTo>
                    <a:pt x="1743" y="638"/>
                  </a:lnTo>
                  <a:lnTo>
                    <a:pt x="1714" y="631"/>
                  </a:lnTo>
                  <a:lnTo>
                    <a:pt x="1684" y="621"/>
                  </a:lnTo>
                  <a:lnTo>
                    <a:pt x="1653" y="611"/>
                  </a:lnTo>
                  <a:lnTo>
                    <a:pt x="1622" y="590"/>
                  </a:lnTo>
                  <a:lnTo>
                    <a:pt x="1594" y="573"/>
                  </a:lnTo>
                  <a:lnTo>
                    <a:pt x="1563" y="549"/>
                  </a:lnTo>
                  <a:lnTo>
                    <a:pt x="1535" y="529"/>
                  </a:lnTo>
                  <a:lnTo>
                    <a:pt x="1511" y="505"/>
                  </a:lnTo>
                  <a:lnTo>
                    <a:pt x="1485" y="486"/>
                  </a:lnTo>
                  <a:lnTo>
                    <a:pt x="1461" y="464"/>
                  </a:lnTo>
                  <a:lnTo>
                    <a:pt x="1414" y="432"/>
                  </a:lnTo>
                  <a:lnTo>
                    <a:pt x="1368" y="404"/>
                  </a:lnTo>
                  <a:lnTo>
                    <a:pt x="1321" y="385"/>
                  </a:lnTo>
                  <a:lnTo>
                    <a:pt x="1296" y="378"/>
                  </a:lnTo>
                  <a:lnTo>
                    <a:pt x="1270" y="374"/>
                  </a:lnTo>
                  <a:lnTo>
                    <a:pt x="1242" y="374"/>
                  </a:lnTo>
                  <a:lnTo>
                    <a:pt x="1214" y="374"/>
                  </a:lnTo>
                  <a:lnTo>
                    <a:pt x="1184" y="378"/>
                  </a:lnTo>
                  <a:lnTo>
                    <a:pt x="1150" y="387"/>
                  </a:lnTo>
                  <a:lnTo>
                    <a:pt x="1130" y="391"/>
                  </a:lnTo>
                  <a:lnTo>
                    <a:pt x="1114" y="391"/>
                  </a:lnTo>
                  <a:lnTo>
                    <a:pt x="1082" y="387"/>
                  </a:lnTo>
                  <a:lnTo>
                    <a:pt x="1066" y="385"/>
                  </a:lnTo>
                  <a:lnTo>
                    <a:pt x="1051" y="378"/>
                  </a:lnTo>
                  <a:lnTo>
                    <a:pt x="1030" y="374"/>
                  </a:lnTo>
                  <a:lnTo>
                    <a:pt x="1005" y="370"/>
                  </a:lnTo>
                  <a:lnTo>
                    <a:pt x="1005" y="364"/>
                  </a:lnTo>
                  <a:lnTo>
                    <a:pt x="1005" y="37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944760" y="2517480"/>
              <a:ext cx="56880" cy="77400"/>
            </a:xfrm>
            <a:custGeom>
              <a:avLst/>
              <a:gdLst/>
              <a:ahLst/>
              <a:rect l="l" t="t" r="r" b="b"/>
              <a:pathLst>
                <a:path w="183" h="225">
                  <a:moveTo>
                    <a:pt x="87" y="225"/>
                  </a:moveTo>
                  <a:lnTo>
                    <a:pt x="66" y="220"/>
                  </a:lnTo>
                  <a:lnTo>
                    <a:pt x="48" y="214"/>
                  </a:lnTo>
                  <a:lnTo>
                    <a:pt x="34" y="201"/>
                  </a:lnTo>
                  <a:lnTo>
                    <a:pt x="21" y="187"/>
                  </a:lnTo>
                  <a:lnTo>
                    <a:pt x="11" y="170"/>
                  </a:lnTo>
                  <a:lnTo>
                    <a:pt x="3" y="151"/>
                  </a:lnTo>
                  <a:lnTo>
                    <a:pt x="0" y="127"/>
                  </a:lnTo>
                  <a:lnTo>
                    <a:pt x="0" y="104"/>
                  </a:lnTo>
                  <a:lnTo>
                    <a:pt x="3" y="84"/>
                  </a:lnTo>
                  <a:lnTo>
                    <a:pt x="8" y="65"/>
                  </a:lnTo>
                  <a:lnTo>
                    <a:pt x="21" y="44"/>
                  </a:lnTo>
                  <a:lnTo>
                    <a:pt x="31" y="31"/>
                  </a:lnTo>
                  <a:lnTo>
                    <a:pt x="45" y="17"/>
                  </a:lnTo>
                  <a:lnTo>
                    <a:pt x="62" y="7"/>
                  </a:lnTo>
                  <a:lnTo>
                    <a:pt x="79" y="0"/>
                  </a:lnTo>
                  <a:lnTo>
                    <a:pt x="97" y="0"/>
                  </a:lnTo>
                  <a:lnTo>
                    <a:pt x="117" y="4"/>
                  </a:lnTo>
                  <a:lnTo>
                    <a:pt x="133" y="15"/>
                  </a:lnTo>
                  <a:lnTo>
                    <a:pt x="147" y="27"/>
                  </a:lnTo>
                  <a:lnTo>
                    <a:pt x="162" y="41"/>
                  </a:lnTo>
                  <a:lnTo>
                    <a:pt x="173" y="58"/>
                  </a:lnTo>
                  <a:lnTo>
                    <a:pt x="177" y="77"/>
                  </a:lnTo>
                  <a:lnTo>
                    <a:pt x="183" y="99"/>
                  </a:lnTo>
                  <a:lnTo>
                    <a:pt x="183" y="119"/>
                  </a:lnTo>
                  <a:lnTo>
                    <a:pt x="181" y="143"/>
                  </a:lnTo>
                  <a:lnTo>
                    <a:pt x="175" y="167"/>
                  </a:lnTo>
                  <a:lnTo>
                    <a:pt x="163" y="184"/>
                  </a:lnTo>
                  <a:lnTo>
                    <a:pt x="152" y="201"/>
                  </a:lnTo>
                  <a:lnTo>
                    <a:pt x="139" y="211"/>
                  </a:lnTo>
                  <a:lnTo>
                    <a:pt x="118" y="220"/>
                  </a:lnTo>
                  <a:lnTo>
                    <a:pt x="104" y="225"/>
                  </a:lnTo>
                  <a:lnTo>
                    <a:pt x="80" y="225"/>
                  </a:lnTo>
                  <a:lnTo>
                    <a:pt x="87" y="22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840000" y="2607480"/>
              <a:ext cx="256680" cy="429840"/>
            </a:xfrm>
            <a:custGeom>
              <a:avLst/>
              <a:gdLst/>
              <a:ahLst/>
              <a:rect l="l" t="t" r="r" b="b"/>
              <a:pathLst>
                <a:path w="808" h="1242">
                  <a:moveTo>
                    <a:pt x="375" y="17"/>
                  </a:moveTo>
                  <a:lnTo>
                    <a:pt x="363" y="17"/>
                  </a:lnTo>
                  <a:lnTo>
                    <a:pt x="796" y="1237"/>
                  </a:lnTo>
                  <a:lnTo>
                    <a:pt x="803" y="1227"/>
                  </a:lnTo>
                  <a:lnTo>
                    <a:pt x="6" y="1227"/>
                  </a:lnTo>
                  <a:lnTo>
                    <a:pt x="11" y="1237"/>
                  </a:lnTo>
                  <a:lnTo>
                    <a:pt x="375" y="17"/>
                  </a:lnTo>
                  <a:lnTo>
                    <a:pt x="369" y="0"/>
                  </a:lnTo>
                  <a:lnTo>
                    <a:pt x="0" y="1242"/>
                  </a:lnTo>
                  <a:lnTo>
                    <a:pt x="808" y="1242"/>
                  </a:lnTo>
                  <a:lnTo>
                    <a:pt x="369" y="0"/>
                  </a:lnTo>
                  <a:lnTo>
                    <a:pt x="375" y="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955920" y="2615760"/>
              <a:ext cx="2880" cy="417600"/>
            </a:xfrm>
            <a:custGeom>
              <a:avLst/>
              <a:gdLst/>
              <a:ahLst/>
              <a:rect l="l" t="t" r="r" b="b"/>
              <a:pathLst>
                <a:path w="14" h="1210">
                  <a:moveTo>
                    <a:pt x="0" y="0"/>
                  </a:moveTo>
                  <a:lnTo>
                    <a:pt x="6" y="1210"/>
                  </a:lnTo>
                  <a:lnTo>
                    <a:pt x="14" y="121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781680" y="3032280"/>
              <a:ext cx="362880" cy="25560"/>
            </a:xfrm>
            <a:custGeom>
              <a:avLst/>
              <a:gdLst/>
              <a:ahLst/>
              <a:rect l="l" t="t" r="r" b="b"/>
              <a:pathLst>
                <a:path w="1147" h="74">
                  <a:moveTo>
                    <a:pt x="1147" y="65"/>
                  </a:moveTo>
                  <a:lnTo>
                    <a:pt x="1147" y="0"/>
                  </a:lnTo>
                  <a:lnTo>
                    <a:pt x="0" y="7"/>
                  </a:lnTo>
                  <a:lnTo>
                    <a:pt x="0" y="74"/>
                  </a:lnTo>
                  <a:lnTo>
                    <a:pt x="1147" y="6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822720" y="3045960"/>
              <a:ext cx="283320" cy="32760"/>
            </a:xfrm>
            <a:custGeom>
              <a:avLst/>
              <a:gdLst/>
              <a:ahLst/>
              <a:rect l="l" t="t" r="r" b="b"/>
              <a:pathLst>
                <a:path w="894" h="96">
                  <a:moveTo>
                    <a:pt x="894" y="94"/>
                  </a:moveTo>
                  <a:lnTo>
                    <a:pt x="892" y="0"/>
                  </a:lnTo>
                  <a:lnTo>
                    <a:pt x="0" y="5"/>
                  </a:lnTo>
                  <a:lnTo>
                    <a:pt x="0" y="96"/>
                  </a:lnTo>
                  <a:lnTo>
                    <a:pt x="894" y="9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865560" y="3068640"/>
              <a:ext cx="205920" cy="36000"/>
            </a:xfrm>
            <a:custGeom>
              <a:avLst/>
              <a:gdLst/>
              <a:ahLst/>
              <a:rect l="l" t="t" r="r" b="b"/>
              <a:pathLst>
                <a:path w="651" h="106">
                  <a:moveTo>
                    <a:pt x="651" y="0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5" y="22"/>
                  </a:lnTo>
                  <a:lnTo>
                    <a:pt x="11" y="39"/>
                  </a:lnTo>
                  <a:lnTo>
                    <a:pt x="21" y="55"/>
                  </a:lnTo>
                  <a:lnTo>
                    <a:pt x="34" y="77"/>
                  </a:lnTo>
                  <a:lnTo>
                    <a:pt x="44" y="89"/>
                  </a:lnTo>
                  <a:lnTo>
                    <a:pt x="61" y="97"/>
                  </a:lnTo>
                  <a:lnTo>
                    <a:pt x="76" y="106"/>
                  </a:lnTo>
                  <a:lnTo>
                    <a:pt x="89" y="106"/>
                  </a:lnTo>
                  <a:lnTo>
                    <a:pt x="86" y="106"/>
                  </a:lnTo>
                  <a:lnTo>
                    <a:pt x="564" y="104"/>
                  </a:lnTo>
                  <a:lnTo>
                    <a:pt x="566" y="104"/>
                  </a:lnTo>
                  <a:lnTo>
                    <a:pt x="577" y="100"/>
                  </a:lnTo>
                  <a:lnTo>
                    <a:pt x="592" y="94"/>
                  </a:lnTo>
                  <a:lnTo>
                    <a:pt x="606" y="83"/>
                  </a:lnTo>
                  <a:lnTo>
                    <a:pt x="619" y="70"/>
                  </a:lnTo>
                  <a:lnTo>
                    <a:pt x="634" y="55"/>
                  </a:lnTo>
                  <a:lnTo>
                    <a:pt x="642" y="39"/>
                  </a:lnTo>
                  <a:lnTo>
                    <a:pt x="651" y="20"/>
                  </a:lnTo>
                  <a:lnTo>
                    <a:pt x="65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246080" y="2438280"/>
              <a:ext cx="43920" cy="58680"/>
            </a:xfrm>
            <a:custGeom>
              <a:avLst/>
              <a:gdLst/>
              <a:ahLst/>
              <a:rect l="l" t="t" r="r" b="b"/>
              <a:pathLst>
                <a:path w="142" h="174">
                  <a:moveTo>
                    <a:pt x="72" y="8"/>
                  </a:moveTo>
                  <a:lnTo>
                    <a:pt x="85" y="8"/>
                  </a:lnTo>
                  <a:lnTo>
                    <a:pt x="100" y="10"/>
                  </a:lnTo>
                  <a:lnTo>
                    <a:pt x="114" y="20"/>
                  </a:lnTo>
                  <a:lnTo>
                    <a:pt x="122" y="31"/>
                  </a:lnTo>
                  <a:lnTo>
                    <a:pt x="131" y="40"/>
                  </a:lnTo>
                  <a:lnTo>
                    <a:pt x="140" y="57"/>
                  </a:lnTo>
                  <a:lnTo>
                    <a:pt x="142" y="72"/>
                  </a:lnTo>
                  <a:lnTo>
                    <a:pt x="142" y="88"/>
                  </a:lnTo>
                  <a:lnTo>
                    <a:pt x="142" y="104"/>
                  </a:lnTo>
                  <a:lnTo>
                    <a:pt x="140" y="121"/>
                  </a:lnTo>
                  <a:lnTo>
                    <a:pt x="131" y="138"/>
                  </a:lnTo>
                  <a:lnTo>
                    <a:pt x="114" y="161"/>
                  </a:lnTo>
                  <a:lnTo>
                    <a:pt x="100" y="167"/>
                  </a:lnTo>
                  <a:lnTo>
                    <a:pt x="85" y="172"/>
                  </a:lnTo>
                  <a:lnTo>
                    <a:pt x="72" y="174"/>
                  </a:lnTo>
                  <a:lnTo>
                    <a:pt x="58" y="172"/>
                  </a:lnTo>
                  <a:lnTo>
                    <a:pt x="45" y="167"/>
                  </a:lnTo>
                  <a:lnTo>
                    <a:pt x="31" y="161"/>
                  </a:lnTo>
                  <a:lnTo>
                    <a:pt x="10" y="138"/>
                  </a:lnTo>
                  <a:lnTo>
                    <a:pt x="5" y="121"/>
                  </a:lnTo>
                  <a:lnTo>
                    <a:pt x="0" y="104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5" y="57"/>
                  </a:lnTo>
                  <a:lnTo>
                    <a:pt x="10" y="40"/>
                  </a:lnTo>
                  <a:lnTo>
                    <a:pt x="22" y="31"/>
                  </a:lnTo>
                  <a:lnTo>
                    <a:pt x="31" y="20"/>
                  </a:lnTo>
                  <a:lnTo>
                    <a:pt x="45" y="10"/>
                  </a:lnTo>
                  <a:lnTo>
                    <a:pt x="58" y="8"/>
                  </a:lnTo>
                  <a:lnTo>
                    <a:pt x="72" y="8"/>
                  </a:lnTo>
                  <a:lnTo>
                    <a:pt x="69" y="0"/>
                  </a:lnTo>
                  <a:lnTo>
                    <a:pt x="7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209720" y="2508840"/>
              <a:ext cx="121680" cy="255240"/>
            </a:xfrm>
            <a:custGeom>
              <a:avLst/>
              <a:gdLst/>
              <a:ahLst/>
              <a:rect l="l" t="t" r="r" b="b"/>
              <a:pathLst>
                <a:path w="385" h="739">
                  <a:moveTo>
                    <a:pt x="190" y="739"/>
                  </a:moveTo>
                  <a:lnTo>
                    <a:pt x="159" y="736"/>
                  </a:lnTo>
                  <a:lnTo>
                    <a:pt x="134" y="732"/>
                  </a:lnTo>
                  <a:lnTo>
                    <a:pt x="108" y="725"/>
                  </a:lnTo>
                  <a:lnTo>
                    <a:pt x="90" y="715"/>
                  </a:lnTo>
                  <a:lnTo>
                    <a:pt x="70" y="703"/>
                  </a:lnTo>
                  <a:lnTo>
                    <a:pt x="53" y="686"/>
                  </a:lnTo>
                  <a:lnTo>
                    <a:pt x="37" y="664"/>
                  </a:lnTo>
                  <a:lnTo>
                    <a:pt x="24" y="640"/>
                  </a:lnTo>
                  <a:lnTo>
                    <a:pt x="14" y="617"/>
                  </a:lnTo>
                  <a:lnTo>
                    <a:pt x="6" y="594"/>
                  </a:lnTo>
                  <a:lnTo>
                    <a:pt x="3" y="567"/>
                  </a:lnTo>
                  <a:lnTo>
                    <a:pt x="0" y="544"/>
                  </a:lnTo>
                  <a:lnTo>
                    <a:pt x="3" y="489"/>
                  </a:lnTo>
                  <a:lnTo>
                    <a:pt x="11" y="435"/>
                  </a:lnTo>
                  <a:lnTo>
                    <a:pt x="16" y="405"/>
                  </a:lnTo>
                  <a:lnTo>
                    <a:pt x="24" y="375"/>
                  </a:lnTo>
                  <a:lnTo>
                    <a:pt x="48" y="307"/>
                  </a:lnTo>
                  <a:lnTo>
                    <a:pt x="72" y="240"/>
                  </a:lnTo>
                  <a:lnTo>
                    <a:pt x="98" y="178"/>
                  </a:lnTo>
                  <a:lnTo>
                    <a:pt x="114" y="140"/>
                  </a:lnTo>
                  <a:lnTo>
                    <a:pt x="137" y="99"/>
                  </a:lnTo>
                  <a:lnTo>
                    <a:pt x="162" y="51"/>
                  </a:lnTo>
                  <a:lnTo>
                    <a:pt x="190" y="0"/>
                  </a:lnTo>
                  <a:lnTo>
                    <a:pt x="224" y="51"/>
                  </a:lnTo>
                  <a:lnTo>
                    <a:pt x="249" y="99"/>
                  </a:lnTo>
                  <a:lnTo>
                    <a:pt x="272" y="140"/>
                  </a:lnTo>
                  <a:lnTo>
                    <a:pt x="287" y="178"/>
                  </a:lnTo>
                  <a:lnTo>
                    <a:pt x="310" y="240"/>
                  </a:lnTo>
                  <a:lnTo>
                    <a:pt x="335" y="307"/>
                  </a:lnTo>
                  <a:lnTo>
                    <a:pt x="358" y="375"/>
                  </a:lnTo>
                  <a:lnTo>
                    <a:pt x="375" y="435"/>
                  </a:lnTo>
                  <a:lnTo>
                    <a:pt x="383" y="489"/>
                  </a:lnTo>
                  <a:lnTo>
                    <a:pt x="385" y="544"/>
                  </a:lnTo>
                  <a:lnTo>
                    <a:pt x="383" y="567"/>
                  </a:lnTo>
                  <a:lnTo>
                    <a:pt x="377" y="594"/>
                  </a:lnTo>
                  <a:lnTo>
                    <a:pt x="369" y="617"/>
                  </a:lnTo>
                  <a:lnTo>
                    <a:pt x="358" y="640"/>
                  </a:lnTo>
                  <a:lnTo>
                    <a:pt x="346" y="664"/>
                  </a:lnTo>
                  <a:lnTo>
                    <a:pt x="333" y="686"/>
                  </a:lnTo>
                  <a:lnTo>
                    <a:pt x="316" y="703"/>
                  </a:lnTo>
                  <a:lnTo>
                    <a:pt x="299" y="715"/>
                  </a:lnTo>
                  <a:lnTo>
                    <a:pt x="277" y="725"/>
                  </a:lnTo>
                  <a:lnTo>
                    <a:pt x="251" y="732"/>
                  </a:lnTo>
                  <a:lnTo>
                    <a:pt x="224" y="736"/>
                  </a:lnTo>
                  <a:lnTo>
                    <a:pt x="193" y="739"/>
                  </a:lnTo>
                  <a:lnTo>
                    <a:pt x="190" y="732"/>
                  </a:lnTo>
                  <a:lnTo>
                    <a:pt x="188" y="732"/>
                  </a:lnTo>
                  <a:lnTo>
                    <a:pt x="190" y="73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227000" y="3066840"/>
              <a:ext cx="80640" cy="276480"/>
            </a:xfrm>
            <a:custGeom>
              <a:avLst/>
              <a:gdLst/>
              <a:ahLst/>
              <a:rect l="l" t="t" r="r" b="b"/>
              <a:pathLst>
                <a:path w="258" h="799">
                  <a:moveTo>
                    <a:pt x="128" y="799"/>
                  </a:moveTo>
                  <a:lnTo>
                    <a:pt x="142" y="799"/>
                  </a:lnTo>
                  <a:lnTo>
                    <a:pt x="157" y="792"/>
                  </a:lnTo>
                  <a:lnTo>
                    <a:pt x="168" y="782"/>
                  </a:lnTo>
                  <a:lnTo>
                    <a:pt x="179" y="770"/>
                  </a:lnTo>
                  <a:lnTo>
                    <a:pt x="189" y="753"/>
                  </a:lnTo>
                  <a:lnTo>
                    <a:pt x="202" y="732"/>
                  </a:lnTo>
                  <a:lnTo>
                    <a:pt x="212" y="708"/>
                  </a:lnTo>
                  <a:lnTo>
                    <a:pt x="221" y="681"/>
                  </a:lnTo>
                  <a:lnTo>
                    <a:pt x="237" y="623"/>
                  </a:lnTo>
                  <a:lnTo>
                    <a:pt x="250" y="553"/>
                  </a:lnTo>
                  <a:lnTo>
                    <a:pt x="254" y="479"/>
                  </a:lnTo>
                  <a:lnTo>
                    <a:pt x="258" y="398"/>
                  </a:lnTo>
                  <a:lnTo>
                    <a:pt x="254" y="317"/>
                  </a:lnTo>
                  <a:lnTo>
                    <a:pt x="250" y="243"/>
                  </a:lnTo>
                  <a:lnTo>
                    <a:pt x="237" y="176"/>
                  </a:lnTo>
                  <a:lnTo>
                    <a:pt x="221" y="116"/>
                  </a:lnTo>
                  <a:lnTo>
                    <a:pt x="212" y="92"/>
                  </a:lnTo>
                  <a:lnTo>
                    <a:pt x="202" y="68"/>
                  </a:lnTo>
                  <a:lnTo>
                    <a:pt x="189" y="48"/>
                  </a:lnTo>
                  <a:lnTo>
                    <a:pt x="179" y="31"/>
                  </a:lnTo>
                  <a:lnTo>
                    <a:pt x="168" y="17"/>
                  </a:lnTo>
                  <a:lnTo>
                    <a:pt x="157" y="7"/>
                  </a:lnTo>
                  <a:lnTo>
                    <a:pt x="142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0" y="7"/>
                  </a:lnTo>
                  <a:lnTo>
                    <a:pt x="90" y="17"/>
                  </a:lnTo>
                  <a:lnTo>
                    <a:pt x="78" y="31"/>
                  </a:lnTo>
                  <a:lnTo>
                    <a:pt x="67" y="48"/>
                  </a:lnTo>
                  <a:lnTo>
                    <a:pt x="56" y="68"/>
                  </a:lnTo>
                  <a:lnTo>
                    <a:pt x="44" y="92"/>
                  </a:lnTo>
                  <a:lnTo>
                    <a:pt x="36" y="116"/>
                  </a:lnTo>
                  <a:lnTo>
                    <a:pt x="23" y="176"/>
                  </a:lnTo>
                  <a:lnTo>
                    <a:pt x="8" y="243"/>
                  </a:lnTo>
                  <a:lnTo>
                    <a:pt x="2" y="317"/>
                  </a:lnTo>
                  <a:lnTo>
                    <a:pt x="0" y="398"/>
                  </a:lnTo>
                  <a:lnTo>
                    <a:pt x="2" y="479"/>
                  </a:lnTo>
                  <a:lnTo>
                    <a:pt x="8" y="553"/>
                  </a:lnTo>
                  <a:lnTo>
                    <a:pt x="23" y="623"/>
                  </a:lnTo>
                  <a:lnTo>
                    <a:pt x="36" y="681"/>
                  </a:lnTo>
                  <a:lnTo>
                    <a:pt x="44" y="708"/>
                  </a:lnTo>
                  <a:lnTo>
                    <a:pt x="56" y="732"/>
                  </a:lnTo>
                  <a:lnTo>
                    <a:pt x="67" y="753"/>
                  </a:lnTo>
                  <a:lnTo>
                    <a:pt x="78" y="770"/>
                  </a:lnTo>
                  <a:lnTo>
                    <a:pt x="90" y="782"/>
                  </a:lnTo>
                  <a:lnTo>
                    <a:pt x="100" y="792"/>
                  </a:lnTo>
                  <a:lnTo>
                    <a:pt x="115" y="799"/>
                  </a:lnTo>
                  <a:lnTo>
                    <a:pt x="128" y="799"/>
                  </a:lnTo>
                  <a:lnTo>
                    <a:pt x="126" y="797"/>
                  </a:lnTo>
                  <a:lnTo>
                    <a:pt x="128" y="79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238160" y="3317400"/>
              <a:ext cx="58320" cy="77400"/>
            </a:xfrm>
            <a:custGeom>
              <a:avLst/>
              <a:gdLst/>
              <a:ahLst/>
              <a:rect l="l" t="t" r="r" b="b"/>
              <a:pathLst>
                <a:path w="186" h="225">
                  <a:moveTo>
                    <a:pt x="64" y="218"/>
                  </a:moveTo>
                  <a:lnTo>
                    <a:pt x="84" y="225"/>
                  </a:lnTo>
                  <a:lnTo>
                    <a:pt x="100" y="225"/>
                  </a:lnTo>
                  <a:lnTo>
                    <a:pt x="118" y="223"/>
                  </a:lnTo>
                  <a:lnTo>
                    <a:pt x="133" y="212"/>
                  </a:lnTo>
                  <a:lnTo>
                    <a:pt x="150" y="201"/>
                  </a:lnTo>
                  <a:lnTo>
                    <a:pt x="165" y="189"/>
                  </a:lnTo>
                  <a:lnTo>
                    <a:pt x="173" y="172"/>
                  </a:lnTo>
                  <a:lnTo>
                    <a:pt x="181" y="151"/>
                  </a:lnTo>
                  <a:lnTo>
                    <a:pt x="186" y="129"/>
                  </a:lnTo>
                  <a:lnTo>
                    <a:pt x="186" y="106"/>
                  </a:lnTo>
                  <a:lnTo>
                    <a:pt x="184" y="84"/>
                  </a:lnTo>
                  <a:lnTo>
                    <a:pt x="178" y="65"/>
                  </a:lnTo>
                  <a:lnTo>
                    <a:pt x="167" y="46"/>
                  </a:lnTo>
                  <a:lnTo>
                    <a:pt x="156" y="29"/>
                  </a:lnTo>
                  <a:lnTo>
                    <a:pt x="142" y="15"/>
                  </a:lnTo>
                  <a:lnTo>
                    <a:pt x="125" y="7"/>
                  </a:lnTo>
                  <a:lnTo>
                    <a:pt x="106" y="0"/>
                  </a:lnTo>
                  <a:lnTo>
                    <a:pt x="90" y="0"/>
                  </a:lnTo>
                  <a:lnTo>
                    <a:pt x="70" y="5"/>
                  </a:lnTo>
                  <a:lnTo>
                    <a:pt x="54" y="15"/>
                  </a:lnTo>
                  <a:lnTo>
                    <a:pt x="37" y="24"/>
                  </a:lnTo>
                  <a:lnTo>
                    <a:pt x="25" y="41"/>
                  </a:lnTo>
                  <a:lnTo>
                    <a:pt x="14" y="58"/>
                  </a:lnTo>
                  <a:lnTo>
                    <a:pt x="6" y="79"/>
                  </a:lnTo>
                  <a:lnTo>
                    <a:pt x="0" y="101"/>
                  </a:lnTo>
                  <a:lnTo>
                    <a:pt x="0" y="122"/>
                  </a:lnTo>
                  <a:lnTo>
                    <a:pt x="3" y="141"/>
                  </a:lnTo>
                  <a:lnTo>
                    <a:pt x="12" y="161"/>
                  </a:lnTo>
                  <a:lnTo>
                    <a:pt x="20" y="182"/>
                  </a:lnTo>
                  <a:lnTo>
                    <a:pt x="34" y="195"/>
                  </a:lnTo>
                  <a:lnTo>
                    <a:pt x="48" y="208"/>
                  </a:lnTo>
                  <a:lnTo>
                    <a:pt x="64" y="218"/>
                  </a:lnTo>
                  <a:lnTo>
                    <a:pt x="62" y="218"/>
                  </a:lnTo>
                  <a:lnTo>
                    <a:pt x="64" y="2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238160" y="3016440"/>
              <a:ext cx="58320" cy="77760"/>
            </a:xfrm>
            <a:custGeom>
              <a:avLst/>
              <a:gdLst/>
              <a:ahLst/>
              <a:rect l="l" t="t" r="r" b="b"/>
              <a:pathLst>
                <a:path w="186" h="225">
                  <a:moveTo>
                    <a:pt x="64" y="218"/>
                  </a:moveTo>
                  <a:lnTo>
                    <a:pt x="84" y="225"/>
                  </a:lnTo>
                  <a:lnTo>
                    <a:pt x="100" y="225"/>
                  </a:lnTo>
                  <a:lnTo>
                    <a:pt x="118" y="220"/>
                  </a:lnTo>
                  <a:lnTo>
                    <a:pt x="133" y="214"/>
                  </a:lnTo>
                  <a:lnTo>
                    <a:pt x="150" y="201"/>
                  </a:lnTo>
                  <a:lnTo>
                    <a:pt x="165" y="187"/>
                  </a:lnTo>
                  <a:lnTo>
                    <a:pt x="173" y="170"/>
                  </a:lnTo>
                  <a:lnTo>
                    <a:pt x="181" y="151"/>
                  </a:lnTo>
                  <a:lnTo>
                    <a:pt x="186" y="127"/>
                  </a:lnTo>
                  <a:lnTo>
                    <a:pt x="186" y="108"/>
                  </a:lnTo>
                  <a:lnTo>
                    <a:pt x="184" y="84"/>
                  </a:lnTo>
                  <a:lnTo>
                    <a:pt x="178" y="65"/>
                  </a:lnTo>
                  <a:lnTo>
                    <a:pt x="167" y="44"/>
                  </a:lnTo>
                  <a:lnTo>
                    <a:pt x="156" y="31"/>
                  </a:lnTo>
                  <a:lnTo>
                    <a:pt x="142" y="17"/>
                  </a:lnTo>
                  <a:lnTo>
                    <a:pt x="125" y="7"/>
                  </a:lnTo>
                  <a:lnTo>
                    <a:pt x="106" y="0"/>
                  </a:lnTo>
                  <a:lnTo>
                    <a:pt x="90" y="0"/>
                  </a:lnTo>
                  <a:lnTo>
                    <a:pt x="70" y="4"/>
                  </a:lnTo>
                  <a:lnTo>
                    <a:pt x="54" y="15"/>
                  </a:lnTo>
                  <a:lnTo>
                    <a:pt x="37" y="27"/>
                  </a:lnTo>
                  <a:lnTo>
                    <a:pt x="25" y="41"/>
                  </a:lnTo>
                  <a:lnTo>
                    <a:pt x="14" y="58"/>
                  </a:lnTo>
                  <a:lnTo>
                    <a:pt x="6" y="82"/>
                  </a:lnTo>
                  <a:lnTo>
                    <a:pt x="0" y="104"/>
                  </a:lnTo>
                  <a:lnTo>
                    <a:pt x="0" y="124"/>
                  </a:lnTo>
                  <a:lnTo>
                    <a:pt x="3" y="143"/>
                  </a:lnTo>
                  <a:lnTo>
                    <a:pt x="12" y="164"/>
                  </a:lnTo>
                  <a:lnTo>
                    <a:pt x="20" y="184"/>
                  </a:lnTo>
                  <a:lnTo>
                    <a:pt x="34" y="198"/>
                  </a:lnTo>
                  <a:lnTo>
                    <a:pt x="48" y="211"/>
                  </a:lnTo>
                  <a:lnTo>
                    <a:pt x="64" y="218"/>
                  </a:lnTo>
                  <a:lnTo>
                    <a:pt x="62" y="218"/>
                  </a:lnTo>
                  <a:lnTo>
                    <a:pt x="64" y="2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099920" y="3357000"/>
              <a:ext cx="348480" cy="60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029000" y="3402000"/>
              <a:ext cx="480240" cy="55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957360" y="3441600"/>
              <a:ext cx="619920" cy="37800"/>
            </a:xfrm>
            <a:custGeom>
              <a:avLst/>
              <a:gdLst/>
              <a:ahLst/>
              <a:rect l="l" t="t" r="r" b="b"/>
              <a:pathLst>
                <a:path w="1955" h="112">
                  <a:moveTo>
                    <a:pt x="0" y="112"/>
                  </a:moveTo>
                  <a:lnTo>
                    <a:pt x="1955" y="112"/>
                  </a:lnTo>
                  <a:lnTo>
                    <a:pt x="1952" y="91"/>
                  </a:lnTo>
                  <a:lnTo>
                    <a:pt x="1944" y="74"/>
                  </a:lnTo>
                  <a:lnTo>
                    <a:pt x="1936" y="54"/>
                  </a:lnTo>
                  <a:lnTo>
                    <a:pt x="1925" y="37"/>
                  </a:lnTo>
                  <a:lnTo>
                    <a:pt x="1913" y="24"/>
                  </a:lnTo>
                  <a:lnTo>
                    <a:pt x="1900" y="11"/>
                  </a:lnTo>
                  <a:lnTo>
                    <a:pt x="1883" y="0"/>
                  </a:lnTo>
                  <a:lnTo>
                    <a:pt x="1866" y="0"/>
                  </a:lnTo>
                  <a:lnTo>
                    <a:pt x="92" y="0"/>
                  </a:lnTo>
                  <a:lnTo>
                    <a:pt x="79" y="0"/>
                  </a:lnTo>
                  <a:lnTo>
                    <a:pt x="62" y="7"/>
                  </a:lnTo>
                  <a:lnTo>
                    <a:pt x="48" y="13"/>
                  </a:lnTo>
                  <a:lnTo>
                    <a:pt x="34" y="28"/>
                  </a:lnTo>
                  <a:lnTo>
                    <a:pt x="22" y="41"/>
                  </a:lnTo>
                  <a:lnTo>
                    <a:pt x="10" y="61"/>
                  </a:lnTo>
                  <a:lnTo>
                    <a:pt x="6" y="84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685800" y="3429000"/>
            <a:ext cx="81532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ixture: preventive, detective, corr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iolation Response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ix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hysical protection (e.g. building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echnical measures (e.g. access control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rganizational measures  (e.g. education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4" dur="indefinite" restart="never" nodeType="tmRoot">
          <p:childTnLst>
            <p:seq>
              <p:cTn id="1675" dur="indefinite" nodeType="mainSeq">
                <p:childTnLst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0" dur="500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3" dur="500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8" dur="500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1" dur="500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500"/>
                            </p:stCondLst>
                            <p:childTnLst>
                              <p:par>
                                <p:cTn id="169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6" dur="500"/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1" dur="500"/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4" dur="500"/>
                                        <p:tgtEl>
                                          <p:spTgt spid="1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7" dur="500"/>
                                        <p:tgtEl>
                                          <p:spTgt spid="1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500"/>
                                        <p:tgtEl>
                                          <p:spTgt spid="1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Meas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1036800" y="5484960"/>
            <a:ext cx="6659280" cy="288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1979640" y="2727360"/>
            <a:ext cx="1440" cy="283536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357200" y="4114800"/>
            <a:ext cx="6461280" cy="3240"/>
          </a:xfrm>
          <a:prstGeom prst="line">
            <a:avLst/>
          </a:prstGeom>
          <a:ln cap="rnd" w="38160">
            <a:solidFill>
              <a:srgbClr val="00279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732120" y="2727360"/>
            <a:ext cx="1800" cy="2835360"/>
          </a:xfrm>
          <a:prstGeom prst="line">
            <a:avLst/>
          </a:prstGeom>
          <a:ln cap="rnd" w="38160">
            <a:solidFill>
              <a:srgbClr val="00279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752480" y="3048120"/>
            <a:ext cx="19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ae00"/>
                </a:solidFill>
                <a:latin typeface="Tahoma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900600" y="3048120"/>
            <a:ext cx="19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279f"/>
                </a:solidFill>
                <a:latin typeface="Tahoma"/>
              </a:rPr>
              <a:t>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752480" y="4540320"/>
            <a:ext cx="19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618ffd"/>
                </a:solidFill>
                <a:latin typeface="Tahoma"/>
              </a:rPr>
              <a:t>?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976560" y="4572000"/>
            <a:ext cx="19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c0128"/>
                </a:solidFill>
                <a:latin typeface="Tahoma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 rot="16200000">
            <a:off x="582120" y="304236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Ris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943600" y="5454720"/>
            <a:ext cx="19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5410080" y="2514600"/>
            <a:ext cx="2378160" cy="148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suranc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1" dur="indefinite" restart="never" nodeType="tmRoot">
          <p:childTnLst>
            <p:seq>
              <p:cTn id="1722" dur="indefinite" nodeType="mainSeq">
                <p:childTnLst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7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500"/>
                            </p:stCondLst>
                            <p:childTnLst>
                              <p:par>
                                <p:cTn id="172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31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6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500"/>
                            </p:stCondLst>
                            <p:childTnLst>
                              <p:par>
                                <p:cTn id="17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0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5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500"/>
                            </p:stCondLst>
                            <p:childTnLst>
                              <p:par>
                                <p:cTn id="17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9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4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ARN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no invitation, nor an encouragement to try out these threat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w explicitly makes these actions prosecutabl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8" dur="500"/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3" dur="500"/>
                                        <p:tgtEl>
                                          <p:spTgt spid="1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"/>
          <p:cNvSpPr/>
          <p:nvPr/>
        </p:nvSpPr>
        <p:spPr>
          <a:xfrm>
            <a:off x="4800600" y="162072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ess to computer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800600" y="210672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use of computer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800600" y="259236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pparently authorized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800600" y="307800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irect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800600" y="356400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use conf. w. intended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800600" y="404964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tive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800600" y="453564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pparently normal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800600" y="502128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pparently proper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800600" y="550692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oper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85800" y="180180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W mis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85800" y="228744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asquer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85800" y="277344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est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85800" y="325908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bypass of intended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5800" y="374508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tive mis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85800" y="423072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ssive mis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85800" y="471636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isuse resulting from in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85800" y="520236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use as aid to other mis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85800" y="131616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ternal mis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952880" y="1523880"/>
            <a:ext cx="0" cy="30492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H="1">
            <a:off x="2209680" y="2033640"/>
            <a:ext cx="2743200" cy="9216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2743200" y="1523880"/>
            <a:ext cx="2209680" cy="6516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2590560" y="2522520"/>
            <a:ext cx="2361960" cy="7956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2590560" y="3021120"/>
            <a:ext cx="2361960" cy="7920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4191120" y="3502080"/>
            <a:ext cx="761760" cy="2520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2590560" y="3978360"/>
            <a:ext cx="2361960" cy="7920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2743200" y="4476600"/>
            <a:ext cx="2209680" cy="74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495680" y="4952880"/>
            <a:ext cx="457200" cy="1584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038480" y="5437080"/>
            <a:ext cx="914400" cy="3024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952880" y="2021040"/>
            <a:ext cx="0" cy="30456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952880" y="2522520"/>
            <a:ext cx="0" cy="30492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952880" y="2995560"/>
            <a:ext cx="0" cy="30492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952880" y="3489480"/>
            <a:ext cx="0" cy="30456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952880" y="3962520"/>
            <a:ext cx="0" cy="30456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952880" y="4464000"/>
            <a:ext cx="0" cy="30492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952880" y="4944960"/>
            <a:ext cx="0" cy="30492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952880" y="5425920"/>
            <a:ext cx="0" cy="30492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4" dur="indefinite" restart="never" nodeType="tmRoot">
          <p:childTnLst>
            <p:seq>
              <p:cTn id="1795" dur="indefinite" nodeType="mainSeq">
                <p:childTnLst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500"/>
                            </p:stCondLst>
                            <p:childTnLst>
                              <p:par>
                                <p:cTn id="18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4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8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2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7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500"/>
                            </p:stCondLst>
                            <p:childTnLst>
                              <p:par>
                                <p:cTn id="18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1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9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4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8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2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6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1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500"/>
                            </p:stCondLst>
                            <p:childTnLst>
                              <p:par>
                                <p:cTn id="18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5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9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3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8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500"/>
                            </p:stCondLst>
                            <p:childTnLst>
                              <p:par>
                                <p:cTn id="18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2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6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0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5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9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3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7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2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500"/>
                            </p:stCondLst>
                            <p:childTnLst>
                              <p:par>
                                <p:cTn id="19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6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0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4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9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500"/>
                            </p:stCondLst>
                            <p:childTnLst>
                              <p:par>
                                <p:cTn id="19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3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7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1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6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500"/>
                            </p:stCondLst>
                            <p:childTnLst>
                              <p:par>
                                <p:cTn id="19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0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4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8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xternal Mis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visual sp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earching waste bas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457200" y="3657600"/>
            <a:ext cx="1676520" cy="2089080"/>
            <a:chOff x="457200" y="3657600"/>
            <a:chExt cx="1676520" cy="2089080"/>
          </a:xfrm>
        </p:grpSpPr>
        <p:sp>
          <p:nvSpPr>
            <p:cNvPr id="1234" name=""/>
            <p:cNvSpPr/>
            <p:nvPr/>
          </p:nvSpPr>
          <p:spPr>
            <a:xfrm>
              <a:off x="608040" y="4216320"/>
              <a:ext cx="1525680" cy="1530360"/>
            </a:xfrm>
            <a:custGeom>
              <a:avLst/>
              <a:gdLst/>
              <a:ahLst/>
              <a:rect l="l" t="t" r="r" b="b"/>
              <a:pathLst>
                <a:path w="1722" h="2019">
                  <a:moveTo>
                    <a:pt x="1381" y="1783"/>
                  </a:moveTo>
                  <a:lnTo>
                    <a:pt x="778" y="2003"/>
                  </a:lnTo>
                  <a:lnTo>
                    <a:pt x="769" y="2008"/>
                  </a:lnTo>
                  <a:lnTo>
                    <a:pt x="736" y="2018"/>
                  </a:lnTo>
                  <a:lnTo>
                    <a:pt x="700" y="2019"/>
                  </a:lnTo>
                  <a:lnTo>
                    <a:pt x="669" y="2014"/>
                  </a:lnTo>
                  <a:lnTo>
                    <a:pt x="637" y="2001"/>
                  </a:lnTo>
                  <a:lnTo>
                    <a:pt x="113" y="1682"/>
                  </a:lnTo>
                  <a:lnTo>
                    <a:pt x="96" y="1666"/>
                  </a:lnTo>
                  <a:lnTo>
                    <a:pt x="81" y="1642"/>
                  </a:lnTo>
                  <a:lnTo>
                    <a:pt x="75" y="1615"/>
                  </a:lnTo>
                  <a:lnTo>
                    <a:pt x="77" y="1587"/>
                  </a:lnTo>
                  <a:lnTo>
                    <a:pt x="58" y="472"/>
                  </a:lnTo>
                  <a:lnTo>
                    <a:pt x="24" y="456"/>
                  </a:lnTo>
                  <a:lnTo>
                    <a:pt x="18" y="450"/>
                  </a:lnTo>
                  <a:lnTo>
                    <a:pt x="0" y="417"/>
                  </a:lnTo>
                  <a:lnTo>
                    <a:pt x="15" y="267"/>
                  </a:lnTo>
                  <a:lnTo>
                    <a:pt x="15" y="252"/>
                  </a:lnTo>
                  <a:lnTo>
                    <a:pt x="20" y="243"/>
                  </a:lnTo>
                  <a:lnTo>
                    <a:pt x="38" y="224"/>
                  </a:lnTo>
                  <a:lnTo>
                    <a:pt x="58" y="211"/>
                  </a:lnTo>
                  <a:lnTo>
                    <a:pt x="85" y="204"/>
                  </a:lnTo>
                  <a:lnTo>
                    <a:pt x="856" y="9"/>
                  </a:lnTo>
                  <a:lnTo>
                    <a:pt x="891" y="3"/>
                  </a:lnTo>
                  <a:lnTo>
                    <a:pt x="968" y="0"/>
                  </a:lnTo>
                  <a:lnTo>
                    <a:pt x="1044" y="5"/>
                  </a:lnTo>
                  <a:lnTo>
                    <a:pt x="1119" y="17"/>
                  </a:lnTo>
                  <a:lnTo>
                    <a:pt x="1653" y="220"/>
                  </a:lnTo>
                  <a:lnTo>
                    <a:pt x="1679" y="237"/>
                  </a:lnTo>
                  <a:lnTo>
                    <a:pt x="1696" y="259"/>
                  </a:lnTo>
                  <a:lnTo>
                    <a:pt x="1704" y="290"/>
                  </a:lnTo>
                  <a:lnTo>
                    <a:pt x="1721" y="414"/>
                  </a:lnTo>
                  <a:lnTo>
                    <a:pt x="1722" y="430"/>
                  </a:lnTo>
                  <a:lnTo>
                    <a:pt x="1719" y="450"/>
                  </a:lnTo>
                  <a:lnTo>
                    <a:pt x="1706" y="468"/>
                  </a:lnTo>
                  <a:lnTo>
                    <a:pt x="1688" y="480"/>
                  </a:lnTo>
                  <a:lnTo>
                    <a:pt x="1666" y="487"/>
                  </a:lnTo>
                  <a:lnTo>
                    <a:pt x="1600" y="1619"/>
                  </a:lnTo>
                  <a:lnTo>
                    <a:pt x="1588" y="1655"/>
                  </a:lnTo>
                  <a:lnTo>
                    <a:pt x="1567" y="1694"/>
                  </a:lnTo>
                  <a:lnTo>
                    <a:pt x="1538" y="1729"/>
                  </a:lnTo>
                  <a:lnTo>
                    <a:pt x="1381" y="1783"/>
                  </a:lnTo>
                  <a:close/>
                </a:path>
              </a:pathLst>
            </a:custGeom>
            <a:solidFill>
              <a:srgbClr val="d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8040" y="4216320"/>
              <a:ext cx="1525680" cy="1530360"/>
            </a:xfrm>
            <a:custGeom>
              <a:avLst/>
              <a:gdLst/>
              <a:ahLst/>
              <a:rect l="l" t="t" r="r" b="b"/>
              <a:pathLst>
                <a:path w="1722" h="2019">
                  <a:moveTo>
                    <a:pt x="1381" y="1783"/>
                  </a:moveTo>
                  <a:lnTo>
                    <a:pt x="778" y="2003"/>
                  </a:lnTo>
                  <a:lnTo>
                    <a:pt x="769" y="2008"/>
                  </a:lnTo>
                  <a:lnTo>
                    <a:pt x="736" y="2018"/>
                  </a:lnTo>
                  <a:lnTo>
                    <a:pt x="700" y="2019"/>
                  </a:lnTo>
                  <a:lnTo>
                    <a:pt x="669" y="2014"/>
                  </a:lnTo>
                  <a:lnTo>
                    <a:pt x="637" y="2001"/>
                  </a:lnTo>
                  <a:lnTo>
                    <a:pt x="113" y="1682"/>
                  </a:lnTo>
                  <a:lnTo>
                    <a:pt x="96" y="1666"/>
                  </a:lnTo>
                  <a:lnTo>
                    <a:pt x="81" y="1642"/>
                  </a:lnTo>
                  <a:lnTo>
                    <a:pt x="75" y="1615"/>
                  </a:lnTo>
                  <a:lnTo>
                    <a:pt x="77" y="1587"/>
                  </a:lnTo>
                  <a:lnTo>
                    <a:pt x="58" y="472"/>
                  </a:lnTo>
                  <a:lnTo>
                    <a:pt x="24" y="456"/>
                  </a:lnTo>
                  <a:lnTo>
                    <a:pt x="18" y="450"/>
                  </a:lnTo>
                  <a:lnTo>
                    <a:pt x="0" y="417"/>
                  </a:lnTo>
                  <a:lnTo>
                    <a:pt x="15" y="267"/>
                  </a:lnTo>
                  <a:lnTo>
                    <a:pt x="15" y="252"/>
                  </a:lnTo>
                  <a:lnTo>
                    <a:pt x="20" y="243"/>
                  </a:lnTo>
                  <a:lnTo>
                    <a:pt x="38" y="224"/>
                  </a:lnTo>
                  <a:lnTo>
                    <a:pt x="58" y="211"/>
                  </a:lnTo>
                  <a:lnTo>
                    <a:pt x="85" y="204"/>
                  </a:lnTo>
                  <a:lnTo>
                    <a:pt x="856" y="9"/>
                  </a:lnTo>
                  <a:lnTo>
                    <a:pt x="891" y="3"/>
                  </a:lnTo>
                  <a:lnTo>
                    <a:pt x="968" y="0"/>
                  </a:lnTo>
                  <a:lnTo>
                    <a:pt x="1044" y="5"/>
                  </a:lnTo>
                  <a:lnTo>
                    <a:pt x="1119" y="17"/>
                  </a:lnTo>
                  <a:lnTo>
                    <a:pt x="1653" y="220"/>
                  </a:lnTo>
                  <a:lnTo>
                    <a:pt x="1679" y="237"/>
                  </a:lnTo>
                  <a:lnTo>
                    <a:pt x="1696" y="259"/>
                  </a:lnTo>
                  <a:lnTo>
                    <a:pt x="1704" y="290"/>
                  </a:lnTo>
                  <a:lnTo>
                    <a:pt x="1721" y="414"/>
                  </a:lnTo>
                  <a:lnTo>
                    <a:pt x="1722" y="430"/>
                  </a:lnTo>
                  <a:lnTo>
                    <a:pt x="1719" y="450"/>
                  </a:lnTo>
                  <a:lnTo>
                    <a:pt x="1706" y="468"/>
                  </a:lnTo>
                  <a:lnTo>
                    <a:pt x="1688" y="480"/>
                  </a:lnTo>
                  <a:lnTo>
                    <a:pt x="1666" y="487"/>
                  </a:lnTo>
                  <a:lnTo>
                    <a:pt x="1600" y="1619"/>
                  </a:lnTo>
                  <a:lnTo>
                    <a:pt x="1588" y="1655"/>
                  </a:lnTo>
                  <a:lnTo>
                    <a:pt x="1567" y="1694"/>
                  </a:lnTo>
                  <a:lnTo>
                    <a:pt x="1538" y="1729"/>
                  </a:lnTo>
                  <a:lnTo>
                    <a:pt x="1381" y="1783"/>
                  </a:lnTo>
                  <a:lnTo>
                    <a:pt x="1381" y="1783"/>
                  </a:lnTo>
                </a:path>
              </a:pathLst>
            </a:custGeom>
            <a:noFill/>
            <a:ln w="1440">
              <a:solidFill>
                <a:srgbClr val="dd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58800" y="4568760"/>
              <a:ext cx="452520" cy="195480"/>
            </a:xfrm>
            <a:custGeom>
              <a:avLst/>
              <a:gdLst/>
              <a:ahLst/>
              <a:rect l="l" t="t" r="r" b="b"/>
              <a:pathLst>
                <a:path w="508" h="258">
                  <a:moveTo>
                    <a:pt x="0" y="0"/>
                  </a:moveTo>
                  <a:lnTo>
                    <a:pt x="19" y="15"/>
                  </a:lnTo>
                  <a:lnTo>
                    <a:pt x="508" y="2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58800" y="4568760"/>
              <a:ext cx="452520" cy="195480"/>
            </a:xfrm>
            <a:custGeom>
              <a:avLst/>
              <a:gdLst/>
              <a:ahLst/>
              <a:rect l="l" t="t" r="r" b="b"/>
              <a:pathLst>
                <a:path w="508" h="258">
                  <a:moveTo>
                    <a:pt x="0" y="0"/>
                  </a:moveTo>
                  <a:lnTo>
                    <a:pt x="19" y="15"/>
                  </a:lnTo>
                  <a:lnTo>
                    <a:pt x="508" y="2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f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2560" y="4437000"/>
              <a:ext cx="444600" cy="173160"/>
            </a:xfrm>
            <a:custGeom>
              <a:avLst/>
              <a:gdLst/>
              <a:ahLst/>
              <a:rect l="l" t="t" r="r" b="b"/>
              <a:pathLst>
                <a:path w="499" h="228">
                  <a:moveTo>
                    <a:pt x="18" y="0"/>
                  </a:moveTo>
                  <a:lnTo>
                    <a:pt x="0" y="0"/>
                  </a:lnTo>
                  <a:lnTo>
                    <a:pt x="499" y="22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82560" y="4437000"/>
              <a:ext cx="444600" cy="173160"/>
            </a:xfrm>
            <a:custGeom>
              <a:avLst/>
              <a:gdLst/>
              <a:ahLst/>
              <a:rect l="l" t="t" r="r" b="b"/>
              <a:pathLst>
                <a:path w="499" h="228">
                  <a:moveTo>
                    <a:pt x="18" y="0"/>
                  </a:moveTo>
                  <a:lnTo>
                    <a:pt x="0" y="0"/>
                  </a:lnTo>
                  <a:lnTo>
                    <a:pt x="499" y="228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9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111320" y="4467240"/>
              <a:ext cx="920520" cy="297000"/>
            </a:xfrm>
            <a:custGeom>
              <a:avLst/>
              <a:gdLst/>
              <a:ahLst/>
              <a:rect l="l" t="t" r="r" b="b"/>
              <a:pathLst>
                <a:path w="1042" h="392">
                  <a:moveTo>
                    <a:pt x="267" y="222"/>
                  </a:moveTo>
                  <a:lnTo>
                    <a:pt x="175" y="235"/>
                  </a:lnTo>
                  <a:lnTo>
                    <a:pt x="88" y="229"/>
                  </a:lnTo>
                  <a:lnTo>
                    <a:pt x="0" y="204"/>
                  </a:lnTo>
                  <a:lnTo>
                    <a:pt x="0" y="213"/>
                  </a:lnTo>
                  <a:lnTo>
                    <a:pt x="88" y="243"/>
                  </a:lnTo>
                  <a:lnTo>
                    <a:pt x="175" y="251"/>
                  </a:lnTo>
                  <a:lnTo>
                    <a:pt x="267" y="236"/>
                  </a:lnTo>
                  <a:lnTo>
                    <a:pt x="273" y="235"/>
                  </a:lnTo>
                  <a:lnTo>
                    <a:pt x="299" y="243"/>
                  </a:lnTo>
                  <a:lnTo>
                    <a:pt x="299" y="392"/>
                  </a:lnTo>
                  <a:lnTo>
                    <a:pt x="341" y="376"/>
                  </a:lnTo>
                  <a:lnTo>
                    <a:pt x="341" y="251"/>
                  </a:lnTo>
                  <a:lnTo>
                    <a:pt x="345" y="237"/>
                  </a:lnTo>
                  <a:lnTo>
                    <a:pt x="354" y="225"/>
                  </a:lnTo>
                  <a:lnTo>
                    <a:pt x="368" y="220"/>
                  </a:lnTo>
                  <a:lnTo>
                    <a:pt x="1042" y="0"/>
                  </a:lnTo>
                  <a:lnTo>
                    <a:pt x="267" y="222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111320" y="4467240"/>
              <a:ext cx="920520" cy="297000"/>
            </a:xfrm>
            <a:custGeom>
              <a:avLst/>
              <a:gdLst/>
              <a:ahLst/>
              <a:rect l="l" t="t" r="r" b="b"/>
              <a:pathLst>
                <a:path w="1042" h="392">
                  <a:moveTo>
                    <a:pt x="267" y="222"/>
                  </a:moveTo>
                  <a:lnTo>
                    <a:pt x="175" y="235"/>
                  </a:lnTo>
                  <a:lnTo>
                    <a:pt x="88" y="229"/>
                  </a:lnTo>
                  <a:lnTo>
                    <a:pt x="0" y="204"/>
                  </a:lnTo>
                  <a:lnTo>
                    <a:pt x="0" y="213"/>
                  </a:lnTo>
                  <a:lnTo>
                    <a:pt x="88" y="243"/>
                  </a:lnTo>
                  <a:lnTo>
                    <a:pt x="175" y="251"/>
                  </a:lnTo>
                  <a:lnTo>
                    <a:pt x="267" y="236"/>
                  </a:lnTo>
                  <a:lnTo>
                    <a:pt x="273" y="235"/>
                  </a:lnTo>
                  <a:lnTo>
                    <a:pt x="299" y="243"/>
                  </a:lnTo>
                  <a:lnTo>
                    <a:pt x="299" y="392"/>
                  </a:lnTo>
                  <a:lnTo>
                    <a:pt x="341" y="376"/>
                  </a:lnTo>
                  <a:lnTo>
                    <a:pt x="341" y="251"/>
                  </a:lnTo>
                  <a:lnTo>
                    <a:pt x="345" y="237"/>
                  </a:lnTo>
                  <a:lnTo>
                    <a:pt x="354" y="225"/>
                  </a:lnTo>
                  <a:lnTo>
                    <a:pt x="368" y="220"/>
                  </a:lnTo>
                  <a:lnTo>
                    <a:pt x="1042" y="0"/>
                  </a:lnTo>
                  <a:lnTo>
                    <a:pt x="267" y="222"/>
                  </a:lnTo>
                  <a:lnTo>
                    <a:pt x="267" y="222"/>
                  </a:lnTo>
                </a:path>
              </a:pathLst>
            </a:custGeom>
            <a:noFill/>
            <a:ln w="1440">
              <a:solidFill>
                <a:srgbClr val="f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06320" y="4592520"/>
              <a:ext cx="1357560" cy="1154160"/>
            </a:xfrm>
            <a:custGeom>
              <a:avLst/>
              <a:gdLst/>
              <a:ahLst/>
              <a:rect l="l" t="t" r="r" b="b"/>
              <a:pathLst>
                <a:path w="1531" h="1524">
                  <a:moveTo>
                    <a:pt x="708" y="284"/>
                  </a:moveTo>
                  <a:lnTo>
                    <a:pt x="691" y="1375"/>
                  </a:lnTo>
                  <a:lnTo>
                    <a:pt x="691" y="1397"/>
                  </a:lnTo>
                  <a:lnTo>
                    <a:pt x="700" y="1418"/>
                  </a:lnTo>
                  <a:lnTo>
                    <a:pt x="715" y="1436"/>
                  </a:lnTo>
                  <a:lnTo>
                    <a:pt x="736" y="1446"/>
                  </a:lnTo>
                  <a:lnTo>
                    <a:pt x="760" y="1450"/>
                  </a:lnTo>
                  <a:lnTo>
                    <a:pt x="786" y="1446"/>
                  </a:lnTo>
                  <a:lnTo>
                    <a:pt x="787" y="1446"/>
                  </a:lnTo>
                  <a:lnTo>
                    <a:pt x="1269" y="1288"/>
                  </a:lnTo>
                  <a:lnTo>
                    <a:pt x="1425" y="1235"/>
                  </a:lnTo>
                  <a:lnTo>
                    <a:pt x="666" y="1509"/>
                  </a:lnTo>
                  <a:lnTo>
                    <a:pt x="656" y="1514"/>
                  </a:lnTo>
                  <a:lnTo>
                    <a:pt x="623" y="1523"/>
                  </a:lnTo>
                  <a:lnTo>
                    <a:pt x="588" y="1524"/>
                  </a:lnTo>
                  <a:lnTo>
                    <a:pt x="556" y="1518"/>
                  </a:lnTo>
                  <a:lnTo>
                    <a:pt x="525" y="1506"/>
                  </a:lnTo>
                  <a:lnTo>
                    <a:pt x="0" y="1188"/>
                  </a:lnTo>
                  <a:lnTo>
                    <a:pt x="34" y="1210"/>
                  </a:lnTo>
                  <a:lnTo>
                    <a:pt x="481" y="1446"/>
                  </a:lnTo>
                  <a:lnTo>
                    <a:pt x="513" y="1454"/>
                  </a:lnTo>
                  <a:lnTo>
                    <a:pt x="532" y="1450"/>
                  </a:lnTo>
                  <a:lnTo>
                    <a:pt x="548" y="1438"/>
                  </a:lnTo>
                  <a:lnTo>
                    <a:pt x="562" y="1421"/>
                  </a:lnTo>
                  <a:lnTo>
                    <a:pt x="568" y="1407"/>
                  </a:lnTo>
                  <a:lnTo>
                    <a:pt x="586" y="284"/>
                  </a:lnTo>
                  <a:lnTo>
                    <a:pt x="542" y="275"/>
                  </a:lnTo>
                  <a:lnTo>
                    <a:pt x="507" y="253"/>
                  </a:lnTo>
                  <a:lnTo>
                    <a:pt x="454" y="228"/>
                  </a:lnTo>
                  <a:lnTo>
                    <a:pt x="504" y="247"/>
                  </a:lnTo>
                  <a:lnTo>
                    <a:pt x="556" y="258"/>
                  </a:lnTo>
                  <a:lnTo>
                    <a:pt x="608" y="261"/>
                  </a:lnTo>
                  <a:lnTo>
                    <a:pt x="656" y="259"/>
                  </a:lnTo>
                  <a:lnTo>
                    <a:pt x="708" y="244"/>
                  </a:lnTo>
                  <a:lnTo>
                    <a:pt x="1531" y="0"/>
                  </a:lnTo>
                  <a:lnTo>
                    <a:pt x="708" y="284"/>
                  </a:lnTo>
                  <a:close/>
                </a:path>
              </a:pathLst>
            </a:cu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06320" y="4592520"/>
              <a:ext cx="1357560" cy="1154160"/>
            </a:xfrm>
            <a:custGeom>
              <a:avLst/>
              <a:gdLst/>
              <a:ahLst/>
              <a:rect l="l" t="t" r="r" b="b"/>
              <a:pathLst>
                <a:path w="1531" h="1524">
                  <a:moveTo>
                    <a:pt x="708" y="284"/>
                  </a:moveTo>
                  <a:lnTo>
                    <a:pt x="691" y="1375"/>
                  </a:lnTo>
                  <a:lnTo>
                    <a:pt x="691" y="1397"/>
                  </a:lnTo>
                  <a:lnTo>
                    <a:pt x="700" y="1418"/>
                  </a:lnTo>
                  <a:lnTo>
                    <a:pt x="715" y="1436"/>
                  </a:lnTo>
                  <a:lnTo>
                    <a:pt x="736" y="1446"/>
                  </a:lnTo>
                  <a:lnTo>
                    <a:pt x="760" y="1450"/>
                  </a:lnTo>
                  <a:lnTo>
                    <a:pt x="786" y="1446"/>
                  </a:lnTo>
                  <a:lnTo>
                    <a:pt x="787" y="1446"/>
                  </a:lnTo>
                  <a:lnTo>
                    <a:pt x="1269" y="1288"/>
                  </a:lnTo>
                  <a:lnTo>
                    <a:pt x="1425" y="1235"/>
                  </a:lnTo>
                  <a:lnTo>
                    <a:pt x="666" y="1509"/>
                  </a:lnTo>
                  <a:lnTo>
                    <a:pt x="656" y="1514"/>
                  </a:lnTo>
                  <a:lnTo>
                    <a:pt x="623" y="1523"/>
                  </a:lnTo>
                  <a:lnTo>
                    <a:pt x="588" y="1524"/>
                  </a:lnTo>
                  <a:lnTo>
                    <a:pt x="556" y="1518"/>
                  </a:lnTo>
                  <a:lnTo>
                    <a:pt x="525" y="1506"/>
                  </a:lnTo>
                  <a:lnTo>
                    <a:pt x="0" y="1188"/>
                  </a:lnTo>
                  <a:lnTo>
                    <a:pt x="34" y="1210"/>
                  </a:lnTo>
                  <a:lnTo>
                    <a:pt x="481" y="1446"/>
                  </a:lnTo>
                  <a:lnTo>
                    <a:pt x="513" y="1454"/>
                  </a:lnTo>
                  <a:lnTo>
                    <a:pt x="532" y="1450"/>
                  </a:lnTo>
                  <a:lnTo>
                    <a:pt x="548" y="1438"/>
                  </a:lnTo>
                  <a:lnTo>
                    <a:pt x="562" y="1421"/>
                  </a:lnTo>
                  <a:lnTo>
                    <a:pt x="568" y="1407"/>
                  </a:lnTo>
                  <a:lnTo>
                    <a:pt x="586" y="284"/>
                  </a:lnTo>
                  <a:lnTo>
                    <a:pt x="542" y="275"/>
                  </a:lnTo>
                  <a:lnTo>
                    <a:pt x="507" y="253"/>
                  </a:lnTo>
                  <a:lnTo>
                    <a:pt x="454" y="228"/>
                  </a:lnTo>
                  <a:lnTo>
                    <a:pt x="504" y="247"/>
                  </a:lnTo>
                  <a:lnTo>
                    <a:pt x="556" y="258"/>
                  </a:lnTo>
                  <a:lnTo>
                    <a:pt x="608" y="261"/>
                  </a:lnTo>
                  <a:lnTo>
                    <a:pt x="656" y="259"/>
                  </a:lnTo>
                  <a:lnTo>
                    <a:pt x="708" y="244"/>
                  </a:lnTo>
                  <a:lnTo>
                    <a:pt x="1531" y="0"/>
                  </a:lnTo>
                  <a:lnTo>
                    <a:pt x="708" y="284"/>
                  </a:lnTo>
                  <a:lnTo>
                    <a:pt x="708" y="284"/>
                  </a:lnTo>
                </a:path>
              </a:pathLst>
            </a:custGeom>
            <a:noFill/>
            <a:ln w="1440">
              <a:solidFill>
                <a:srgbClr val="9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62040" y="4241880"/>
              <a:ext cx="898560" cy="388800"/>
            </a:xfrm>
            <a:custGeom>
              <a:avLst/>
              <a:gdLst/>
              <a:ahLst/>
              <a:rect l="l" t="t" r="r" b="b"/>
              <a:pathLst>
                <a:path w="1016" h="512">
                  <a:moveTo>
                    <a:pt x="587" y="487"/>
                  </a:moveTo>
                  <a:lnTo>
                    <a:pt x="638" y="503"/>
                  </a:lnTo>
                  <a:lnTo>
                    <a:pt x="691" y="512"/>
                  </a:lnTo>
                  <a:lnTo>
                    <a:pt x="700" y="512"/>
                  </a:lnTo>
                  <a:lnTo>
                    <a:pt x="700" y="503"/>
                  </a:lnTo>
                  <a:lnTo>
                    <a:pt x="719" y="433"/>
                  </a:lnTo>
                  <a:lnTo>
                    <a:pt x="748" y="353"/>
                  </a:lnTo>
                  <a:lnTo>
                    <a:pt x="787" y="277"/>
                  </a:lnTo>
                  <a:lnTo>
                    <a:pt x="835" y="204"/>
                  </a:lnTo>
                  <a:lnTo>
                    <a:pt x="890" y="133"/>
                  </a:lnTo>
                  <a:lnTo>
                    <a:pt x="955" y="68"/>
                  </a:lnTo>
                  <a:lnTo>
                    <a:pt x="1016" y="15"/>
                  </a:lnTo>
                  <a:lnTo>
                    <a:pt x="965" y="0"/>
                  </a:lnTo>
                  <a:lnTo>
                    <a:pt x="901" y="0"/>
                  </a:lnTo>
                  <a:lnTo>
                    <a:pt x="833" y="0"/>
                  </a:lnTo>
                  <a:lnTo>
                    <a:pt x="771" y="15"/>
                  </a:lnTo>
                  <a:lnTo>
                    <a:pt x="55" y="197"/>
                  </a:lnTo>
                  <a:lnTo>
                    <a:pt x="26" y="205"/>
                  </a:lnTo>
                  <a:lnTo>
                    <a:pt x="9" y="213"/>
                  </a:lnTo>
                  <a:lnTo>
                    <a:pt x="0" y="221"/>
                  </a:lnTo>
                  <a:lnTo>
                    <a:pt x="9" y="228"/>
                  </a:lnTo>
                  <a:lnTo>
                    <a:pt x="26" y="237"/>
                  </a:lnTo>
                  <a:lnTo>
                    <a:pt x="553" y="472"/>
                  </a:lnTo>
                  <a:lnTo>
                    <a:pt x="587" y="487"/>
                  </a:lnTo>
                  <a:close/>
                </a:path>
              </a:pathLst>
            </a:cu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62040" y="4241880"/>
              <a:ext cx="898560" cy="388800"/>
            </a:xfrm>
            <a:custGeom>
              <a:avLst/>
              <a:gdLst/>
              <a:ahLst/>
              <a:rect l="l" t="t" r="r" b="b"/>
              <a:pathLst>
                <a:path w="1016" h="512">
                  <a:moveTo>
                    <a:pt x="587" y="487"/>
                  </a:moveTo>
                  <a:lnTo>
                    <a:pt x="638" y="503"/>
                  </a:lnTo>
                  <a:lnTo>
                    <a:pt x="691" y="512"/>
                  </a:lnTo>
                  <a:lnTo>
                    <a:pt x="700" y="512"/>
                  </a:lnTo>
                  <a:lnTo>
                    <a:pt x="700" y="503"/>
                  </a:lnTo>
                  <a:lnTo>
                    <a:pt x="719" y="433"/>
                  </a:lnTo>
                  <a:lnTo>
                    <a:pt x="748" y="353"/>
                  </a:lnTo>
                  <a:lnTo>
                    <a:pt x="787" y="277"/>
                  </a:lnTo>
                  <a:lnTo>
                    <a:pt x="835" y="204"/>
                  </a:lnTo>
                  <a:lnTo>
                    <a:pt x="890" y="133"/>
                  </a:lnTo>
                  <a:lnTo>
                    <a:pt x="955" y="68"/>
                  </a:lnTo>
                  <a:lnTo>
                    <a:pt x="1016" y="15"/>
                  </a:lnTo>
                  <a:lnTo>
                    <a:pt x="965" y="0"/>
                  </a:lnTo>
                  <a:lnTo>
                    <a:pt x="901" y="0"/>
                  </a:lnTo>
                  <a:lnTo>
                    <a:pt x="833" y="0"/>
                  </a:lnTo>
                  <a:lnTo>
                    <a:pt x="771" y="15"/>
                  </a:lnTo>
                  <a:lnTo>
                    <a:pt x="55" y="197"/>
                  </a:lnTo>
                  <a:lnTo>
                    <a:pt x="26" y="205"/>
                  </a:lnTo>
                  <a:lnTo>
                    <a:pt x="9" y="213"/>
                  </a:lnTo>
                  <a:lnTo>
                    <a:pt x="0" y="221"/>
                  </a:lnTo>
                  <a:lnTo>
                    <a:pt x="9" y="228"/>
                  </a:lnTo>
                  <a:lnTo>
                    <a:pt x="26" y="237"/>
                  </a:lnTo>
                  <a:lnTo>
                    <a:pt x="553" y="472"/>
                  </a:lnTo>
                  <a:lnTo>
                    <a:pt x="587" y="487"/>
                  </a:lnTo>
                  <a:lnTo>
                    <a:pt x="587" y="487"/>
                  </a:lnTo>
                </a:path>
              </a:pathLst>
            </a:custGeom>
            <a:noFill/>
            <a:ln w="1440">
              <a:solidFill>
                <a:srgbClr val="9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69960" y="4235400"/>
              <a:ext cx="898560" cy="168480"/>
            </a:xfrm>
            <a:custGeom>
              <a:avLst/>
              <a:gdLst/>
              <a:ahLst/>
              <a:rect l="l" t="t" r="r" b="b"/>
              <a:pathLst>
                <a:path w="1016" h="221">
                  <a:moveTo>
                    <a:pt x="1" y="213"/>
                  </a:moveTo>
                  <a:lnTo>
                    <a:pt x="17" y="203"/>
                  </a:lnTo>
                  <a:lnTo>
                    <a:pt x="41" y="195"/>
                  </a:lnTo>
                  <a:lnTo>
                    <a:pt x="762" y="16"/>
                  </a:lnTo>
                  <a:lnTo>
                    <a:pt x="827" y="3"/>
                  </a:lnTo>
                  <a:lnTo>
                    <a:pt x="890" y="0"/>
                  </a:lnTo>
                  <a:lnTo>
                    <a:pt x="954" y="3"/>
                  </a:lnTo>
                  <a:lnTo>
                    <a:pt x="1016" y="16"/>
                  </a:lnTo>
                  <a:lnTo>
                    <a:pt x="1016" y="20"/>
                  </a:lnTo>
                  <a:lnTo>
                    <a:pt x="986" y="16"/>
                  </a:lnTo>
                  <a:lnTo>
                    <a:pt x="954" y="12"/>
                  </a:lnTo>
                  <a:lnTo>
                    <a:pt x="889" y="8"/>
                  </a:lnTo>
                  <a:lnTo>
                    <a:pt x="827" y="12"/>
                  </a:lnTo>
                  <a:lnTo>
                    <a:pt x="762" y="23"/>
                  </a:lnTo>
                  <a:lnTo>
                    <a:pt x="41" y="203"/>
                  </a:lnTo>
                  <a:lnTo>
                    <a:pt x="17" y="212"/>
                  </a:lnTo>
                  <a:lnTo>
                    <a:pt x="0" y="221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69960" y="4235400"/>
              <a:ext cx="898560" cy="168480"/>
            </a:xfrm>
            <a:custGeom>
              <a:avLst/>
              <a:gdLst/>
              <a:ahLst/>
              <a:rect l="l" t="t" r="r" b="b"/>
              <a:pathLst>
                <a:path w="1016" h="221">
                  <a:moveTo>
                    <a:pt x="1" y="213"/>
                  </a:moveTo>
                  <a:lnTo>
                    <a:pt x="17" y="203"/>
                  </a:lnTo>
                  <a:lnTo>
                    <a:pt x="41" y="195"/>
                  </a:lnTo>
                  <a:lnTo>
                    <a:pt x="762" y="16"/>
                  </a:lnTo>
                  <a:lnTo>
                    <a:pt x="827" y="3"/>
                  </a:lnTo>
                  <a:lnTo>
                    <a:pt x="890" y="0"/>
                  </a:lnTo>
                  <a:lnTo>
                    <a:pt x="954" y="3"/>
                  </a:lnTo>
                  <a:lnTo>
                    <a:pt x="1016" y="16"/>
                  </a:lnTo>
                  <a:lnTo>
                    <a:pt x="1016" y="20"/>
                  </a:lnTo>
                  <a:lnTo>
                    <a:pt x="986" y="16"/>
                  </a:lnTo>
                  <a:lnTo>
                    <a:pt x="954" y="12"/>
                  </a:lnTo>
                  <a:lnTo>
                    <a:pt x="889" y="8"/>
                  </a:lnTo>
                  <a:lnTo>
                    <a:pt x="827" y="12"/>
                  </a:lnTo>
                  <a:lnTo>
                    <a:pt x="762" y="23"/>
                  </a:lnTo>
                  <a:lnTo>
                    <a:pt x="41" y="203"/>
                  </a:lnTo>
                  <a:lnTo>
                    <a:pt x="17" y="212"/>
                  </a:lnTo>
                  <a:lnTo>
                    <a:pt x="0" y="221"/>
                  </a:lnTo>
                  <a:lnTo>
                    <a:pt x="1" y="213"/>
                  </a:lnTo>
                  <a:lnTo>
                    <a:pt x="1" y="213"/>
                  </a:lnTo>
                </a:path>
              </a:pathLst>
            </a:custGeom>
            <a:noFill/>
            <a:ln w="1440">
              <a:solidFill>
                <a:srgbClr val="f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592280" y="4235400"/>
              <a:ext cx="455760" cy="147600"/>
            </a:xfrm>
            <a:custGeom>
              <a:avLst/>
              <a:gdLst/>
              <a:ahLst/>
              <a:rect l="l" t="t" r="r" b="b"/>
              <a:pathLst>
                <a:path w="518" h="195">
                  <a:moveTo>
                    <a:pt x="0" y="0"/>
                  </a:moveTo>
                  <a:lnTo>
                    <a:pt x="518" y="188"/>
                  </a:lnTo>
                  <a:lnTo>
                    <a:pt x="499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592280" y="4235400"/>
              <a:ext cx="455760" cy="147600"/>
            </a:xfrm>
            <a:custGeom>
              <a:avLst/>
              <a:gdLst/>
              <a:ahLst/>
              <a:rect l="l" t="t" r="r" b="b"/>
              <a:pathLst>
                <a:path w="518" h="195">
                  <a:moveTo>
                    <a:pt x="0" y="0"/>
                  </a:moveTo>
                  <a:lnTo>
                    <a:pt x="518" y="188"/>
                  </a:lnTo>
                  <a:lnTo>
                    <a:pt x="499" y="19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f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014560" y="4587840"/>
              <a:ext cx="68400" cy="884160"/>
            </a:xfrm>
            <a:custGeom>
              <a:avLst/>
              <a:gdLst/>
              <a:ahLst/>
              <a:rect l="l" t="t" r="r" b="b"/>
              <a:pathLst>
                <a:path w="78" h="1168">
                  <a:moveTo>
                    <a:pt x="65" y="16"/>
                  </a:moveTo>
                  <a:lnTo>
                    <a:pt x="78" y="0"/>
                  </a:lnTo>
                  <a:lnTo>
                    <a:pt x="12" y="1132"/>
                  </a:lnTo>
                  <a:lnTo>
                    <a:pt x="0" y="1168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014560" y="4587840"/>
              <a:ext cx="68400" cy="884160"/>
            </a:xfrm>
            <a:custGeom>
              <a:avLst/>
              <a:gdLst/>
              <a:ahLst/>
              <a:rect l="l" t="t" r="r" b="b"/>
              <a:pathLst>
                <a:path w="78" h="1168">
                  <a:moveTo>
                    <a:pt x="65" y="16"/>
                  </a:moveTo>
                  <a:lnTo>
                    <a:pt x="78" y="0"/>
                  </a:lnTo>
                  <a:lnTo>
                    <a:pt x="12" y="1132"/>
                  </a:lnTo>
                  <a:lnTo>
                    <a:pt x="0" y="1168"/>
                  </a:lnTo>
                  <a:lnTo>
                    <a:pt x="65" y="16"/>
                  </a:lnTo>
                  <a:lnTo>
                    <a:pt x="65" y="16"/>
                  </a:lnTo>
                </a:path>
              </a:pathLst>
            </a:custGeom>
            <a:noFill/>
            <a:ln w="1440">
              <a:solidFill>
                <a:srgbClr val="f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62040" y="4579920"/>
              <a:ext cx="19080" cy="880920"/>
            </a:xfrm>
            <a:custGeom>
              <a:avLst/>
              <a:gdLst/>
              <a:ahLst/>
              <a:rect l="l" t="t" r="r" b="b"/>
              <a:pathLst>
                <a:path w="23" h="1162">
                  <a:moveTo>
                    <a:pt x="23" y="1162"/>
                  </a:moveTo>
                  <a:lnTo>
                    <a:pt x="17" y="1135"/>
                  </a:lnTo>
                  <a:lnTo>
                    <a:pt x="0" y="0"/>
                  </a:lnTo>
                  <a:lnTo>
                    <a:pt x="18" y="8"/>
                  </a:lnTo>
                  <a:lnTo>
                    <a:pt x="23" y="1162"/>
                  </a:lnTo>
                  <a:close/>
                </a:path>
              </a:pathLst>
            </a:cu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62040" y="4579920"/>
              <a:ext cx="19080" cy="880920"/>
            </a:xfrm>
            <a:custGeom>
              <a:avLst/>
              <a:gdLst/>
              <a:ahLst/>
              <a:rect l="l" t="t" r="r" b="b"/>
              <a:pathLst>
                <a:path w="23" h="1162">
                  <a:moveTo>
                    <a:pt x="23" y="1162"/>
                  </a:moveTo>
                  <a:lnTo>
                    <a:pt x="17" y="1135"/>
                  </a:lnTo>
                  <a:lnTo>
                    <a:pt x="0" y="0"/>
                  </a:lnTo>
                  <a:lnTo>
                    <a:pt x="18" y="8"/>
                  </a:lnTo>
                  <a:lnTo>
                    <a:pt x="23" y="1162"/>
                  </a:lnTo>
                  <a:lnTo>
                    <a:pt x="23" y="1162"/>
                  </a:lnTo>
                </a:path>
              </a:pathLst>
            </a:custGeom>
            <a:noFill/>
            <a:ln w="1440">
              <a:solidFill>
                <a:srgbClr val="9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57200" y="3657600"/>
              <a:ext cx="1265400" cy="846000"/>
            </a:xfrm>
            <a:custGeom>
              <a:avLst/>
              <a:gdLst/>
              <a:ahLst/>
              <a:rect l="l" t="t" r="r" b="b"/>
              <a:pathLst>
                <a:path w="1428" h="1114">
                  <a:moveTo>
                    <a:pt x="619" y="1076"/>
                  </a:moveTo>
                  <a:lnTo>
                    <a:pt x="561" y="1029"/>
                  </a:lnTo>
                  <a:lnTo>
                    <a:pt x="530" y="978"/>
                  </a:lnTo>
                  <a:lnTo>
                    <a:pt x="512" y="874"/>
                  </a:lnTo>
                  <a:lnTo>
                    <a:pt x="497" y="758"/>
                  </a:lnTo>
                  <a:lnTo>
                    <a:pt x="468" y="698"/>
                  </a:lnTo>
                  <a:lnTo>
                    <a:pt x="414" y="635"/>
                  </a:lnTo>
                  <a:lnTo>
                    <a:pt x="347" y="586"/>
                  </a:lnTo>
                  <a:lnTo>
                    <a:pt x="276" y="554"/>
                  </a:lnTo>
                  <a:lnTo>
                    <a:pt x="140" y="520"/>
                  </a:lnTo>
                  <a:lnTo>
                    <a:pt x="35" y="502"/>
                  </a:lnTo>
                  <a:lnTo>
                    <a:pt x="0" y="469"/>
                  </a:lnTo>
                  <a:lnTo>
                    <a:pt x="29" y="469"/>
                  </a:lnTo>
                  <a:lnTo>
                    <a:pt x="217" y="424"/>
                  </a:lnTo>
                  <a:lnTo>
                    <a:pt x="355" y="383"/>
                  </a:lnTo>
                  <a:lnTo>
                    <a:pt x="457" y="341"/>
                  </a:lnTo>
                  <a:lnTo>
                    <a:pt x="544" y="296"/>
                  </a:lnTo>
                  <a:lnTo>
                    <a:pt x="725" y="185"/>
                  </a:lnTo>
                  <a:lnTo>
                    <a:pt x="856" y="114"/>
                  </a:lnTo>
                  <a:lnTo>
                    <a:pt x="1033" y="28"/>
                  </a:lnTo>
                  <a:lnTo>
                    <a:pt x="1066" y="6"/>
                  </a:lnTo>
                  <a:lnTo>
                    <a:pt x="1093" y="0"/>
                  </a:lnTo>
                  <a:lnTo>
                    <a:pt x="1193" y="48"/>
                  </a:lnTo>
                  <a:lnTo>
                    <a:pt x="1277" y="115"/>
                  </a:lnTo>
                  <a:lnTo>
                    <a:pt x="1343" y="195"/>
                  </a:lnTo>
                  <a:lnTo>
                    <a:pt x="1391" y="288"/>
                  </a:lnTo>
                  <a:lnTo>
                    <a:pt x="1420" y="390"/>
                  </a:lnTo>
                  <a:lnTo>
                    <a:pt x="1428" y="502"/>
                  </a:lnTo>
                  <a:lnTo>
                    <a:pt x="1419" y="621"/>
                  </a:lnTo>
                  <a:lnTo>
                    <a:pt x="1388" y="744"/>
                  </a:lnTo>
                  <a:lnTo>
                    <a:pt x="1357" y="823"/>
                  </a:lnTo>
                  <a:lnTo>
                    <a:pt x="1319" y="884"/>
                  </a:lnTo>
                  <a:lnTo>
                    <a:pt x="1223" y="965"/>
                  </a:lnTo>
                  <a:lnTo>
                    <a:pt x="1083" y="1018"/>
                  </a:lnTo>
                  <a:lnTo>
                    <a:pt x="886" y="1076"/>
                  </a:lnTo>
                  <a:lnTo>
                    <a:pt x="802" y="1101"/>
                  </a:lnTo>
                  <a:lnTo>
                    <a:pt x="741" y="1114"/>
                  </a:lnTo>
                  <a:lnTo>
                    <a:pt x="685" y="1107"/>
                  </a:lnTo>
                  <a:lnTo>
                    <a:pt x="619" y="10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57200" y="3657600"/>
              <a:ext cx="1265400" cy="846000"/>
            </a:xfrm>
            <a:custGeom>
              <a:avLst/>
              <a:gdLst/>
              <a:ahLst/>
              <a:rect l="l" t="t" r="r" b="b"/>
              <a:pathLst>
                <a:path w="1428" h="1114">
                  <a:moveTo>
                    <a:pt x="619" y="1076"/>
                  </a:moveTo>
                  <a:lnTo>
                    <a:pt x="561" y="1029"/>
                  </a:lnTo>
                  <a:lnTo>
                    <a:pt x="530" y="978"/>
                  </a:lnTo>
                  <a:lnTo>
                    <a:pt x="512" y="874"/>
                  </a:lnTo>
                  <a:lnTo>
                    <a:pt x="497" y="758"/>
                  </a:lnTo>
                  <a:lnTo>
                    <a:pt x="468" y="698"/>
                  </a:lnTo>
                  <a:lnTo>
                    <a:pt x="414" y="635"/>
                  </a:lnTo>
                  <a:lnTo>
                    <a:pt x="347" y="586"/>
                  </a:lnTo>
                  <a:lnTo>
                    <a:pt x="276" y="554"/>
                  </a:lnTo>
                  <a:lnTo>
                    <a:pt x="140" y="520"/>
                  </a:lnTo>
                  <a:lnTo>
                    <a:pt x="35" y="502"/>
                  </a:lnTo>
                  <a:lnTo>
                    <a:pt x="0" y="469"/>
                  </a:lnTo>
                  <a:lnTo>
                    <a:pt x="29" y="469"/>
                  </a:lnTo>
                  <a:lnTo>
                    <a:pt x="217" y="424"/>
                  </a:lnTo>
                  <a:lnTo>
                    <a:pt x="355" y="383"/>
                  </a:lnTo>
                  <a:lnTo>
                    <a:pt x="457" y="341"/>
                  </a:lnTo>
                  <a:lnTo>
                    <a:pt x="544" y="296"/>
                  </a:lnTo>
                  <a:lnTo>
                    <a:pt x="725" y="185"/>
                  </a:lnTo>
                  <a:lnTo>
                    <a:pt x="856" y="114"/>
                  </a:lnTo>
                  <a:lnTo>
                    <a:pt x="1033" y="28"/>
                  </a:lnTo>
                  <a:lnTo>
                    <a:pt x="1066" y="6"/>
                  </a:lnTo>
                  <a:lnTo>
                    <a:pt x="1093" y="0"/>
                  </a:lnTo>
                  <a:lnTo>
                    <a:pt x="1193" y="48"/>
                  </a:lnTo>
                  <a:lnTo>
                    <a:pt x="1277" y="115"/>
                  </a:lnTo>
                  <a:lnTo>
                    <a:pt x="1343" y="195"/>
                  </a:lnTo>
                  <a:lnTo>
                    <a:pt x="1391" y="288"/>
                  </a:lnTo>
                  <a:lnTo>
                    <a:pt x="1420" y="390"/>
                  </a:lnTo>
                  <a:lnTo>
                    <a:pt x="1428" y="502"/>
                  </a:lnTo>
                  <a:lnTo>
                    <a:pt x="1419" y="621"/>
                  </a:lnTo>
                  <a:lnTo>
                    <a:pt x="1388" y="744"/>
                  </a:lnTo>
                  <a:lnTo>
                    <a:pt x="1357" y="823"/>
                  </a:lnTo>
                  <a:lnTo>
                    <a:pt x="1319" y="884"/>
                  </a:lnTo>
                  <a:lnTo>
                    <a:pt x="1223" y="965"/>
                  </a:lnTo>
                  <a:lnTo>
                    <a:pt x="1083" y="1018"/>
                  </a:lnTo>
                  <a:lnTo>
                    <a:pt x="886" y="1076"/>
                  </a:lnTo>
                  <a:lnTo>
                    <a:pt x="802" y="1101"/>
                  </a:lnTo>
                  <a:lnTo>
                    <a:pt x="741" y="1114"/>
                  </a:lnTo>
                  <a:lnTo>
                    <a:pt x="685" y="1107"/>
                  </a:lnTo>
                  <a:lnTo>
                    <a:pt x="619" y="1076"/>
                  </a:lnTo>
                  <a:lnTo>
                    <a:pt x="619" y="1076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60520" y="3741840"/>
              <a:ext cx="1265040" cy="842760"/>
            </a:xfrm>
            <a:custGeom>
              <a:avLst/>
              <a:gdLst/>
              <a:ahLst/>
              <a:rect l="l" t="t" r="r" b="b"/>
              <a:pathLst>
                <a:path w="1428" h="1113">
                  <a:moveTo>
                    <a:pt x="619" y="1075"/>
                  </a:moveTo>
                  <a:lnTo>
                    <a:pt x="560" y="1028"/>
                  </a:lnTo>
                  <a:lnTo>
                    <a:pt x="530" y="978"/>
                  </a:lnTo>
                  <a:lnTo>
                    <a:pt x="512" y="873"/>
                  </a:lnTo>
                  <a:lnTo>
                    <a:pt x="497" y="758"/>
                  </a:lnTo>
                  <a:lnTo>
                    <a:pt x="467" y="698"/>
                  </a:lnTo>
                  <a:lnTo>
                    <a:pt x="413" y="635"/>
                  </a:lnTo>
                  <a:lnTo>
                    <a:pt x="346" y="585"/>
                  </a:lnTo>
                  <a:lnTo>
                    <a:pt x="276" y="553"/>
                  </a:lnTo>
                  <a:lnTo>
                    <a:pt x="139" y="519"/>
                  </a:lnTo>
                  <a:lnTo>
                    <a:pt x="35" y="502"/>
                  </a:lnTo>
                  <a:lnTo>
                    <a:pt x="0" y="469"/>
                  </a:lnTo>
                  <a:lnTo>
                    <a:pt x="29" y="469"/>
                  </a:lnTo>
                  <a:lnTo>
                    <a:pt x="217" y="424"/>
                  </a:lnTo>
                  <a:lnTo>
                    <a:pt x="355" y="383"/>
                  </a:lnTo>
                  <a:lnTo>
                    <a:pt x="457" y="341"/>
                  </a:lnTo>
                  <a:lnTo>
                    <a:pt x="544" y="296"/>
                  </a:lnTo>
                  <a:lnTo>
                    <a:pt x="725" y="184"/>
                  </a:lnTo>
                  <a:lnTo>
                    <a:pt x="856" y="114"/>
                  </a:lnTo>
                  <a:lnTo>
                    <a:pt x="1033" y="28"/>
                  </a:lnTo>
                  <a:lnTo>
                    <a:pt x="1066" y="5"/>
                  </a:lnTo>
                  <a:lnTo>
                    <a:pt x="1093" y="0"/>
                  </a:lnTo>
                  <a:lnTo>
                    <a:pt x="1193" y="48"/>
                  </a:lnTo>
                  <a:lnTo>
                    <a:pt x="1276" y="115"/>
                  </a:lnTo>
                  <a:lnTo>
                    <a:pt x="1342" y="195"/>
                  </a:lnTo>
                  <a:lnTo>
                    <a:pt x="1390" y="288"/>
                  </a:lnTo>
                  <a:lnTo>
                    <a:pt x="1420" y="390"/>
                  </a:lnTo>
                  <a:lnTo>
                    <a:pt x="1428" y="502"/>
                  </a:lnTo>
                  <a:lnTo>
                    <a:pt x="1419" y="620"/>
                  </a:lnTo>
                  <a:lnTo>
                    <a:pt x="1388" y="744"/>
                  </a:lnTo>
                  <a:lnTo>
                    <a:pt x="1356" y="823"/>
                  </a:lnTo>
                  <a:lnTo>
                    <a:pt x="1319" y="884"/>
                  </a:lnTo>
                  <a:lnTo>
                    <a:pt x="1222" y="965"/>
                  </a:lnTo>
                  <a:lnTo>
                    <a:pt x="1082" y="1018"/>
                  </a:lnTo>
                  <a:lnTo>
                    <a:pt x="886" y="1075"/>
                  </a:lnTo>
                  <a:lnTo>
                    <a:pt x="801" y="1100"/>
                  </a:lnTo>
                  <a:lnTo>
                    <a:pt x="740" y="1113"/>
                  </a:lnTo>
                  <a:lnTo>
                    <a:pt x="685" y="1106"/>
                  </a:lnTo>
                  <a:lnTo>
                    <a:pt x="619" y="10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60520" y="3741840"/>
              <a:ext cx="1265040" cy="842760"/>
            </a:xfrm>
            <a:custGeom>
              <a:avLst/>
              <a:gdLst/>
              <a:ahLst/>
              <a:rect l="l" t="t" r="r" b="b"/>
              <a:pathLst>
                <a:path w="1428" h="1113">
                  <a:moveTo>
                    <a:pt x="619" y="1075"/>
                  </a:moveTo>
                  <a:lnTo>
                    <a:pt x="560" y="1028"/>
                  </a:lnTo>
                  <a:lnTo>
                    <a:pt x="530" y="978"/>
                  </a:lnTo>
                  <a:lnTo>
                    <a:pt x="512" y="873"/>
                  </a:lnTo>
                  <a:lnTo>
                    <a:pt x="497" y="758"/>
                  </a:lnTo>
                  <a:lnTo>
                    <a:pt x="467" y="698"/>
                  </a:lnTo>
                  <a:lnTo>
                    <a:pt x="413" y="635"/>
                  </a:lnTo>
                  <a:lnTo>
                    <a:pt x="346" y="585"/>
                  </a:lnTo>
                  <a:lnTo>
                    <a:pt x="276" y="553"/>
                  </a:lnTo>
                  <a:lnTo>
                    <a:pt x="139" y="519"/>
                  </a:lnTo>
                  <a:lnTo>
                    <a:pt x="35" y="502"/>
                  </a:lnTo>
                  <a:lnTo>
                    <a:pt x="0" y="469"/>
                  </a:lnTo>
                  <a:lnTo>
                    <a:pt x="29" y="469"/>
                  </a:lnTo>
                  <a:lnTo>
                    <a:pt x="217" y="424"/>
                  </a:lnTo>
                  <a:lnTo>
                    <a:pt x="355" y="383"/>
                  </a:lnTo>
                  <a:lnTo>
                    <a:pt x="457" y="341"/>
                  </a:lnTo>
                  <a:lnTo>
                    <a:pt x="544" y="296"/>
                  </a:lnTo>
                  <a:lnTo>
                    <a:pt x="725" y="184"/>
                  </a:lnTo>
                  <a:lnTo>
                    <a:pt x="856" y="114"/>
                  </a:lnTo>
                  <a:lnTo>
                    <a:pt x="1033" y="28"/>
                  </a:lnTo>
                  <a:lnTo>
                    <a:pt x="1066" y="5"/>
                  </a:lnTo>
                  <a:lnTo>
                    <a:pt x="1093" y="0"/>
                  </a:lnTo>
                  <a:lnTo>
                    <a:pt x="1193" y="48"/>
                  </a:lnTo>
                  <a:lnTo>
                    <a:pt x="1276" y="115"/>
                  </a:lnTo>
                  <a:lnTo>
                    <a:pt x="1342" y="195"/>
                  </a:lnTo>
                  <a:lnTo>
                    <a:pt x="1390" y="288"/>
                  </a:lnTo>
                  <a:lnTo>
                    <a:pt x="1420" y="390"/>
                  </a:lnTo>
                  <a:lnTo>
                    <a:pt x="1428" y="502"/>
                  </a:lnTo>
                  <a:lnTo>
                    <a:pt x="1419" y="620"/>
                  </a:lnTo>
                  <a:lnTo>
                    <a:pt x="1388" y="744"/>
                  </a:lnTo>
                  <a:lnTo>
                    <a:pt x="1356" y="823"/>
                  </a:lnTo>
                  <a:lnTo>
                    <a:pt x="1319" y="884"/>
                  </a:lnTo>
                  <a:lnTo>
                    <a:pt x="1222" y="965"/>
                  </a:lnTo>
                  <a:lnTo>
                    <a:pt x="1082" y="1018"/>
                  </a:lnTo>
                  <a:lnTo>
                    <a:pt x="886" y="1075"/>
                  </a:lnTo>
                  <a:lnTo>
                    <a:pt x="801" y="1100"/>
                  </a:lnTo>
                  <a:lnTo>
                    <a:pt x="740" y="1113"/>
                  </a:lnTo>
                  <a:lnTo>
                    <a:pt x="685" y="1106"/>
                  </a:lnTo>
                  <a:lnTo>
                    <a:pt x="619" y="1075"/>
                  </a:lnTo>
                  <a:lnTo>
                    <a:pt x="619" y="1075"/>
                  </a:lnTo>
                </a:path>
              </a:pathLst>
            </a:custGeom>
            <a:solidFill>
              <a:srgbClr val="ffff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65280" y="3825720"/>
              <a:ext cx="1266840" cy="843120"/>
            </a:xfrm>
            <a:custGeom>
              <a:avLst/>
              <a:gdLst/>
              <a:ahLst/>
              <a:rect l="l" t="t" r="r" b="b"/>
              <a:pathLst>
                <a:path w="1429" h="1113">
                  <a:moveTo>
                    <a:pt x="620" y="1076"/>
                  </a:moveTo>
                  <a:lnTo>
                    <a:pt x="561" y="1029"/>
                  </a:lnTo>
                  <a:lnTo>
                    <a:pt x="530" y="978"/>
                  </a:lnTo>
                  <a:lnTo>
                    <a:pt x="513" y="874"/>
                  </a:lnTo>
                  <a:lnTo>
                    <a:pt x="497" y="758"/>
                  </a:lnTo>
                  <a:lnTo>
                    <a:pt x="468" y="698"/>
                  </a:lnTo>
                  <a:lnTo>
                    <a:pt x="414" y="635"/>
                  </a:lnTo>
                  <a:lnTo>
                    <a:pt x="347" y="585"/>
                  </a:lnTo>
                  <a:lnTo>
                    <a:pt x="276" y="554"/>
                  </a:lnTo>
                  <a:lnTo>
                    <a:pt x="140" y="520"/>
                  </a:lnTo>
                  <a:lnTo>
                    <a:pt x="35" y="502"/>
                  </a:lnTo>
                  <a:lnTo>
                    <a:pt x="0" y="469"/>
                  </a:lnTo>
                  <a:lnTo>
                    <a:pt x="30" y="469"/>
                  </a:lnTo>
                  <a:lnTo>
                    <a:pt x="218" y="424"/>
                  </a:lnTo>
                  <a:lnTo>
                    <a:pt x="355" y="383"/>
                  </a:lnTo>
                  <a:lnTo>
                    <a:pt x="457" y="341"/>
                  </a:lnTo>
                  <a:lnTo>
                    <a:pt x="545" y="296"/>
                  </a:lnTo>
                  <a:lnTo>
                    <a:pt x="726" y="184"/>
                  </a:lnTo>
                  <a:lnTo>
                    <a:pt x="856" y="114"/>
                  </a:lnTo>
                  <a:lnTo>
                    <a:pt x="1034" y="28"/>
                  </a:lnTo>
                  <a:lnTo>
                    <a:pt x="1067" y="6"/>
                  </a:lnTo>
                  <a:lnTo>
                    <a:pt x="1094" y="0"/>
                  </a:lnTo>
                  <a:lnTo>
                    <a:pt x="1194" y="48"/>
                  </a:lnTo>
                  <a:lnTo>
                    <a:pt x="1277" y="115"/>
                  </a:lnTo>
                  <a:lnTo>
                    <a:pt x="1343" y="195"/>
                  </a:lnTo>
                  <a:lnTo>
                    <a:pt x="1391" y="288"/>
                  </a:lnTo>
                  <a:lnTo>
                    <a:pt x="1420" y="390"/>
                  </a:lnTo>
                  <a:lnTo>
                    <a:pt x="1429" y="502"/>
                  </a:lnTo>
                  <a:lnTo>
                    <a:pt x="1419" y="621"/>
                  </a:lnTo>
                  <a:lnTo>
                    <a:pt x="1389" y="744"/>
                  </a:lnTo>
                  <a:lnTo>
                    <a:pt x="1357" y="823"/>
                  </a:lnTo>
                  <a:lnTo>
                    <a:pt x="1319" y="884"/>
                  </a:lnTo>
                  <a:lnTo>
                    <a:pt x="1223" y="965"/>
                  </a:lnTo>
                  <a:lnTo>
                    <a:pt x="1083" y="1018"/>
                  </a:lnTo>
                  <a:lnTo>
                    <a:pt x="887" y="1076"/>
                  </a:lnTo>
                  <a:lnTo>
                    <a:pt x="802" y="1101"/>
                  </a:lnTo>
                  <a:lnTo>
                    <a:pt x="741" y="1113"/>
                  </a:lnTo>
                  <a:lnTo>
                    <a:pt x="686" y="1106"/>
                  </a:lnTo>
                  <a:lnTo>
                    <a:pt x="620" y="10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65280" y="3825720"/>
              <a:ext cx="1266840" cy="843120"/>
            </a:xfrm>
            <a:custGeom>
              <a:avLst/>
              <a:gdLst/>
              <a:ahLst/>
              <a:rect l="l" t="t" r="r" b="b"/>
              <a:pathLst>
                <a:path w="1429" h="1113">
                  <a:moveTo>
                    <a:pt x="620" y="1076"/>
                  </a:moveTo>
                  <a:lnTo>
                    <a:pt x="561" y="1029"/>
                  </a:lnTo>
                  <a:lnTo>
                    <a:pt x="530" y="978"/>
                  </a:lnTo>
                  <a:lnTo>
                    <a:pt x="513" y="874"/>
                  </a:lnTo>
                  <a:lnTo>
                    <a:pt x="497" y="758"/>
                  </a:lnTo>
                  <a:lnTo>
                    <a:pt x="468" y="698"/>
                  </a:lnTo>
                  <a:lnTo>
                    <a:pt x="414" y="635"/>
                  </a:lnTo>
                  <a:lnTo>
                    <a:pt x="347" y="585"/>
                  </a:lnTo>
                  <a:lnTo>
                    <a:pt x="276" y="554"/>
                  </a:lnTo>
                  <a:lnTo>
                    <a:pt x="140" y="520"/>
                  </a:lnTo>
                  <a:lnTo>
                    <a:pt x="35" y="502"/>
                  </a:lnTo>
                  <a:lnTo>
                    <a:pt x="0" y="469"/>
                  </a:lnTo>
                  <a:lnTo>
                    <a:pt x="30" y="469"/>
                  </a:lnTo>
                  <a:lnTo>
                    <a:pt x="218" y="424"/>
                  </a:lnTo>
                  <a:lnTo>
                    <a:pt x="355" y="383"/>
                  </a:lnTo>
                  <a:lnTo>
                    <a:pt x="457" y="341"/>
                  </a:lnTo>
                  <a:lnTo>
                    <a:pt x="545" y="296"/>
                  </a:lnTo>
                  <a:lnTo>
                    <a:pt x="726" y="184"/>
                  </a:lnTo>
                  <a:lnTo>
                    <a:pt x="856" y="114"/>
                  </a:lnTo>
                  <a:lnTo>
                    <a:pt x="1034" y="28"/>
                  </a:lnTo>
                  <a:lnTo>
                    <a:pt x="1067" y="6"/>
                  </a:lnTo>
                  <a:lnTo>
                    <a:pt x="1094" y="0"/>
                  </a:lnTo>
                  <a:lnTo>
                    <a:pt x="1194" y="48"/>
                  </a:lnTo>
                  <a:lnTo>
                    <a:pt x="1277" y="115"/>
                  </a:lnTo>
                  <a:lnTo>
                    <a:pt x="1343" y="195"/>
                  </a:lnTo>
                  <a:lnTo>
                    <a:pt x="1391" y="288"/>
                  </a:lnTo>
                  <a:lnTo>
                    <a:pt x="1420" y="390"/>
                  </a:lnTo>
                  <a:lnTo>
                    <a:pt x="1429" y="502"/>
                  </a:lnTo>
                  <a:lnTo>
                    <a:pt x="1419" y="621"/>
                  </a:lnTo>
                  <a:lnTo>
                    <a:pt x="1389" y="744"/>
                  </a:lnTo>
                  <a:lnTo>
                    <a:pt x="1357" y="823"/>
                  </a:lnTo>
                  <a:lnTo>
                    <a:pt x="1319" y="884"/>
                  </a:lnTo>
                  <a:lnTo>
                    <a:pt x="1223" y="965"/>
                  </a:lnTo>
                  <a:lnTo>
                    <a:pt x="1083" y="1018"/>
                  </a:lnTo>
                  <a:lnTo>
                    <a:pt x="887" y="1076"/>
                  </a:lnTo>
                  <a:lnTo>
                    <a:pt x="802" y="1101"/>
                  </a:lnTo>
                  <a:lnTo>
                    <a:pt x="741" y="1113"/>
                  </a:lnTo>
                  <a:lnTo>
                    <a:pt x="686" y="1106"/>
                  </a:lnTo>
                  <a:lnTo>
                    <a:pt x="620" y="1076"/>
                  </a:lnTo>
                  <a:lnTo>
                    <a:pt x="620" y="1076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0" name="" descr=""/>
          <p:cNvPicPr/>
          <p:nvPr/>
        </p:nvPicPr>
        <p:blipFill>
          <a:blip r:embed="rId1"/>
          <a:stretch/>
        </p:blipFill>
        <p:spPr>
          <a:xfrm>
            <a:off x="2743200" y="3711600"/>
            <a:ext cx="3333600" cy="2136600"/>
          </a:xfrm>
          <a:prstGeom prst="rect">
            <a:avLst/>
          </a:prstGeom>
          <a:ln w="0">
            <a:noFill/>
          </a:ln>
        </p:spPr>
      </p:pic>
      <p:grpSp>
        <p:nvGrpSpPr>
          <p:cNvPr id="1261" name=""/>
          <p:cNvGrpSpPr/>
          <p:nvPr/>
        </p:nvGrpSpPr>
        <p:grpSpPr>
          <a:xfrm>
            <a:off x="6400800" y="1828800"/>
            <a:ext cx="1371240" cy="1320840"/>
            <a:chOff x="6400800" y="1828800"/>
            <a:chExt cx="1371240" cy="1320840"/>
          </a:xfrm>
        </p:grpSpPr>
        <p:sp>
          <p:nvSpPr>
            <p:cNvPr id="1262" name=""/>
            <p:cNvSpPr/>
            <p:nvPr/>
          </p:nvSpPr>
          <p:spPr>
            <a:xfrm>
              <a:off x="6470640" y="2941200"/>
              <a:ext cx="119520" cy="176400"/>
            </a:xfrm>
            <a:custGeom>
              <a:avLst/>
              <a:gdLst/>
              <a:ahLst/>
              <a:rect l="l" t="t" r="r" b="b"/>
              <a:pathLst>
                <a:path w="151" h="312">
                  <a:moveTo>
                    <a:pt x="0" y="285"/>
                  </a:moveTo>
                  <a:lnTo>
                    <a:pt x="138" y="0"/>
                  </a:lnTo>
                  <a:lnTo>
                    <a:pt x="151" y="0"/>
                  </a:lnTo>
                  <a:lnTo>
                    <a:pt x="54" y="312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486840" y="2933640"/>
              <a:ext cx="1224720" cy="215640"/>
            </a:xfrm>
            <a:custGeom>
              <a:avLst/>
              <a:gdLst/>
              <a:ahLst/>
              <a:rect l="l" t="t" r="r" b="b"/>
              <a:pathLst>
                <a:path w="1537" h="382">
                  <a:moveTo>
                    <a:pt x="1428" y="0"/>
                  </a:moveTo>
                  <a:lnTo>
                    <a:pt x="1531" y="287"/>
                  </a:lnTo>
                  <a:lnTo>
                    <a:pt x="1537" y="368"/>
                  </a:lnTo>
                  <a:lnTo>
                    <a:pt x="1516" y="382"/>
                  </a:lnTo>
                  <a:lnTo>
                    <a:pt x="0" y="299"/>
                  </a:lnTo>
                  <a:lnTo>
                    <a:pt x="0" y="287"/>
                  </a:lnTo>
                  <a:lnTo>
                    <a:pt x="117" y="35"/>
                  </a:lnTo>
                  <a:lnTo>
                    <a:pt x="1428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470640" y="3095280"/>
              <a:ext cx="1220040" cy="54360"/>
            </a:xfrm>
            <a:custGeom>
              <a:avLst/>
              <a:gdLst/>
              <a:ahLst/>
              <a:rect l="l" t="t" r="r" b="b"/>
              <a:pathLst>
                <a:path w="1531" h="95">
                  <a:moveTo>
                    <a:pt x="0" y="12"/>
                  </a:moveTo>
                  <a:lnTo>
                    <a:pt x="21" y="0"/>
                  </a:lnTo>
                  <a:lnTo>
                    <a:pt x="1518" y="0"/>
                  </a:lnTo>
                  <a:lnTo>
                    <a:pt x="1531" y="95"/>
                  </a:lnTo>
                  <a:lnTo>
                    <a:pt x="14" y="95"/>
                  </a:lnTo>
                  <a:lnTo>
                    <a:pt x="0" y="9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601320" y="2906280"/>
              <a:ext cx="1001880" cy="145800"/>
            </a:xfrm>
            <a:custGeom>
              <a:avLst/>
              <a:gdLst/>
              <a:ahLst/>
              <a:rect l="l" t="t" r="r" b="b"/>
              <a:pathLst>
                <a:path w="1257" h="259">
                  <a:moveTo>
                    <a:pt x="1257" y="130"/>
                  </a:moveTo>
                  <a:lnTo>
                    <a:pt x="1257" y="124"/>
                  </a:lnTo>
                  <a:lnTo>
                    <a:pt x="1255" y="119"/>
                  </a:lnTo>
                  <a:lnTo>
                    <a:pt x="1252" y="113"/>
                  </a:lnTo>
                  <a:lnTo>
                    <a:pt x="1248" y="107"/>
                  </a:lnTo>
                  <a:lnTo>
                    <a:pt x="1243" y="102"/>
                  </a:lnTo>
                  <a:lnTo>
                    <a:pt x="1236" y="97"/>
                  </a:lnTo>
                  <a:lnTo>
                    <a:pt x="1228" y="92"/>
                  </a:lnTo>
                  <a:lnTo>
                    <a:pt x="1219" y="86"/>
                  </a:lnTo>
                  <a:lnTo>
                    <a:pt x="1209" y="81"/>
                  </a:lnTo>
                  <a:lnTo>
                    <a:pt x="1199" y="76"/>
                  </a:lnTo>
                  <a:lnTo>
                    <a:pt x="1186" y="70"/>
                  </a:lnTo>
                  <a:lnTo>
                    <a:pt x="1173" y="66"/>
                  </a:lnTo>
                  <a:lnTo>
                    <a:pt x="1159" y="61"/>
                  </a:lnTo>
                  <a:lnTo>
                    <a:pt x="1145" y="56"/>
                  </a:lnTo>
                  <a:lnTo>
                    <a:pt x="1128" y="52"/>
                  </a:lnTo>
                  <a:lnTo>
                    <a:pt x="1111" y="47"/>
                  </a:lnTo>
                  <a:lnTo>
                    <a:pt x="1093" y="43"/>
                  </a:lnTo>
                  <a:lnTo>
                    <a:pt x="1075" y="39"/>
                  </a:lnTo>
                  <a:lnTo>
                    <a:pt x="1055" y="35"/>
                  </a:lnTo>
                  <a:lnTo>
                    <a:pt x="1034" y="31"/>
                  </a:lnTo>
                  <a:lnTo>
                    <a:pt x="1014" y="27"/>
                  </a:lnTo>
                  <a:lnTo>
                    <a:pt x="992" y="25"/>
                  </a:lnTo>
                  <a:lnTo>
                    <a:pt x="969" y="21"/>
                  </a:lnTo>
                  <a:lnTo>
                    <a:pt x="945" y="18"/>
                  </a:lnTo>
                  <a:lnTo>
                    <a:pt x="922" y="16"/>
                  </a:lnTo>
                  <a:lnTo>
                    <a:pt x="898" y="13"/>
                  </a:lnTo>
                  <a:lnTo>
                    <a:pt x="872" y="11"/>
                  </a:lnTo>
                  <a:lnTo>
                    <a:pt x="846" y="8"/>
                  </a:lnTo>
                  <a:lnTo>
                    <a:pt x="821" y="7"/>
                  </a:lnTo>
                  <a:lnTo>
                    <a:pt x="795" y="5"/>
                  </a:lnTo>
                  <a:lnTo>
                    <a:pt x="768" y="4"/>
                  </a:lnTo>
                  <a:lnTo>
                    <a:pt x="742" y="3"/>
                  </a:lnTo>
                  <a:lnTo>
                    <a:pt x="714" y="2"/>
                  </a:lnTo>
                  <a:lnTo>
                    <a:pt x="688" y="2"/>
                  </a:lnTo>
                  <a:lnTo>
                    <a:pt x="661" y="0"/>
                  </a:lnTo>
                  <a:lnTo>
                    <a:pt x="633" y="0"/>
                  </a:lnTo>
                  <a:lnTo>
                    <a:pt x="606" y="0"/>
                  </a:lnTo>
                  <a:lnTo>
                    <a:pt x="579" y="0"/>
                  </a:lnTo>
                  <a:lnTo>
                    <a:pt x="552" y="2"/>
                  </a:lnTo>
                  <a:lnTo>
                    <a:pt x="524" y="3"/>
                  </a:lnTo>
                  <a:lnTo>
                    <a:pt x="498" y="3"/>
                  </a:lnTo>
                  <a:lnTo>
                    <a:pt x="471" y="4"/>
                  </a:lnTo>
                  <a:lnTo>
                    <a:pt x="445" y="5"/>
                  </a:lnTo>
                  <a:lnTo>
                    <a:pt x="418" y="8"/>
                  </a:lnTo>
                  <a:lnTo>
                    <a:pt x="394" y="11"/>
                  </a:lnTo>
                  <a:lnTo>
                    <a:pt x="368" y="12"/>
                  </a:lnTo>
                  <a:lnTo>
                    <a:pt x="343" y="14"/>
                  </a:lnTo>
                  <a:lnTo>
                    <a:pt x="319" y="17"/>
                  </a:lnTo>
                  <a:lnTo>
                    <a:pt x="296" y="20"/>
                  </a:lnTo>
                  <a:lnTo>
                    <a:pt x="273" y="23"/>
                  </a:lnTo>
                  <a:lnTo>
                    <a:pt x="251" y="26"/>
                  </a:lnTo>
                  <a:lnTo>
                    <a:pt x="229" y="30"/>
                  </a:lnTo>
                  <a:lnTo>
                    <a:pt x="208" y="34"/>
                  </a:lnTo>
                  <a:lnTo>
                    <a:pt x="189" y="38"/>
                  </a:lnTo>
                  <a:lnTo>
                    <a:pt x="170" y="41"/>
                  </a:lnTo>
                  <a:lnTo>
                    <a:pt x="152" y="45"/>
                  </a:lnTo>
                  <a:lnTo>
                    <a:pt x="134" y="50"/>
                  </a:lnTo>
                  <a:lnTo>
                    <a:pt x="117" y="54"/>
                  </a:lnTo>
                  <a:lnTo>
                    <a:pt x="103" y="59"/>
                  </a:lnTo>
                  <a:lnTo>
                    <a:pt x="87" y="63"/>
                  </a:lnTo>
                  <a:lnTo>
                    <a:pt x="75" y="68"/>
                  </a:lnTo>
                  <a:lnTo>
                    <a:pt x="62" y="74"/>
                  </a:lnTo>
                  <a:lnTo>
                    <a:pt x="50" y="79"/>
                  </a:lnTo>
                  <a:lnTo>
                    <a:pt x="40" y="84"/>
                  </a:lnTo>
                  <a:lnTo>
                    <a:pt x="31" y="89"/>
                  </a:lnTo>
                  <a:lnTo>
                    <a:pt x="23" y="94"/>
                  </a:lnTo>
                  <a:lnTo>
                    <a:pt x="17" y="101"/>
                  </a:lnTo>
                  <a:lnTo>
                    <a:pt x="12" y="106"/>
                  </a:lnTo>
                  <a:lnTo>
                    <a:pt x="6" y="111"/>
                  </a:lnTo>
                  <a:lnTo>
                    <a:pt x="3" y="117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1" y="139"/>
                  </a:lnTo>
                  <a:lnTo>
                    <a:pt x="4" y="144"/>
                  </a:lnTo>
                  <a:lnTo>
                    <a:pt x="8" y="151"/>
                  </a:lnTo>
                  <a:lnTo>
                    <a:pt x="13" y="156"/>
                  </a:lnTo>
                  <a:lnTo>
                    <a:pt x="18" y="161"/>
                  </a:lnTo>
                  <a:lnTo>
                    <a:pt x="26" y="166"/>
                  </a:lnTo>
                  <a:lnTo>
                    <a:pt x="33" y="173"/>
                  </a:lnTo>
                  <a:lnTo>
                    <a:pt x="44" y="178"/>
                  </a:lnTo>
                  <a:lnTo>
                    <a:pt x="54" y="183"/>
                  </a:lnTo>
                  <a:lnTo>
                    <a:pt x="66" y="188"/>
                  </a:lnTo>
                  <a:lnTo>
                    <a:pt x="78" y="192"/>
                  </a:lnTo>
                  <a:lnTo>
                    <a:pt x="93" y="197"/>
                  </a:lnTo>
                  <a:lnTo>
                    <a:pt x="107" y="202"/>
                  </a:lnTo>
                  <a:lnTo>
                    <a:pt x="122" y="207"/>
                  </a:lnTo>
                  <a:lnTo>
                    <a:pt x="139" y="211"/>
                  </a:lnTo>
                  <a:lnTo>
                    <a:pt x="157" y="216"/>
                  </a:lnTo>
                  <a:lnTo>
                    <a:pt x="175" y="220"/>
                  </a:lnTo>
                  <a:lnTo>
                    <a:pt x="194" y="224"/>
                  </a:lnTo>
                  <a:lnTo>
                    <a:pt x="215" y="228"/>
                  </a:lnTo>
                  <a:lnTo>
                    <a:pt x="235" y="230"/>
                  </a:lnTo>
                  <a:lnTo>
                    <a:pt x="257" y="234"/>
                  </a:lnTo>
                  <a:lnTo>
                    <a:pt x="279" y="238"/>
                  </a:lnTo>
                  <a:lnTo>
                    <a:pt x="302" y="241"/>
                  </a:lnTo>
                  <a:lnTo>
                    <a:pt x="327" y="243"/>
                  </a:lnTo>
                  <a:lnTo>
                    <a:pt x="351" y="246"/>
                  </a:lnTo>
                  <a:lnTo>
                    <a:pt x="376" y="248"/>
                  </a:lnTo>
                  <a:lnTo>
                    <a:pt x="400" y="250"/>
                  </a:lnTo>
                  <a:lnTo>
                    <a:pt x="426" y="252"/>
                  </a:lnTo>
                  <a:lnTo>
                    <a:pt x="453" y="254"/>
                  </a:lnTo>
                  <a:lnTo>
                    <a:pt x="478" y="256"/>
                  </a:lnTo>
                  <a:lnTo>
                    <a:pt x="505" y="257"/>
                  </a:lnTo>
                  <a:lnTo>
                    <a:pt x="533" y="257"/>
                  </a:lnTo>
                  <a:lnTo>
                    <a:pt x="560" y="259"/>
                  </a:lnTo>
                  <a:lnTo>
                    <a:pt x="587" y="259"/>
                  </a:lnTo>
                  <a:lnTo>
                    <a:pt x="614" y="259"/>
                  </a:lnTo>
                  <a:lnTo>
                    <a:pt x="641" y="259"/>
                  </a:lnTo>
                  <a:lnTo>
                    <a:pt x="669" y="259"/>
                  </a:lnTo>
                  <a:lnTo>
                    <a:pt x="696" y="259"/>
                  </a:lnTo>
                  <a:lnTo>
                    <a:pt x="723" y="257"/>
                  </a:lnTo>
                  <a:lnTo>
                    <a:pt x="750" y="257"/>
                  </a:lnTo>
                  <a:lnTo>
                    <a:pt x="776" y="256"/>
                  </a:lnTo>
                  <a:lnTo>
                    <a:pt x="803" y="254"/>
                  </a:lnTo>
                  <a:lnTo>
                    <a:pt x="828" y="252"/>
                  </a:lnTo>
                  <a:lnTo>
                    <a:pt x="854" y="251"/>
                  </a:lnTo>
                  <a:lnTo>
                    <a:pt x="880" y="248"/>
                  </a:lnTo>
                  <a:lnTo>
                    <a:pt x="904" y="246"/>
                  </a:lnTo>
                  <a:lnTo>
                    <a:pt x="929" y="243"/>
                  </a:lnTo>
                  <a:lnTo>
                    <a:pt x="952" y="241"/>
                  </a:lnTo>
                  <a:lnTo>
                    <a:pt x="975" y="238"/>
                  </a:lnTo>
                  <a:lnTo>
                    <a:pt x="998" y="234"/>
                  </a:lnTo>
                  <a:lnTo>
                    <a:pt x="1019" y="232"/>
                  </a:lnTo>
                  <a:lnTo>
                    <a:pt x="1041" y="228"/>
                  </a:lnTo>
                  <a:lnTo>
                    <a:pt x="1060" y="224"/>
                  </a:lnTo>
                  <a:lnTo>
                    <a:pt x="1080" y="220"/>
                  </a:lnTo>
                  <a:lnTo>
                    <a:pt x="1098" y="216"/>
                  </a:lnTo>
                  <a:lnTo>
                    <a:pt x="1116" y="211"/>
                  </a:lnTo>
                  <a:lnTo>
                    <a:pt x="1133" y="207"/>
                  </a:lnTo>
                  <a:lnTo>
                    <a:pt x="1149" y="202"/>
                  </a:lnTo>
                  <a:lnTo>
                    <a:pt x="1164" y="198"/>
                  </a:lnTo>
                  <a:lnTo>
                    <a:pt x="1178" y="193"/>
                  </a:lnTo>
                  <a:lnTo>
                    <a:pt x="1190" y="188"/>
                  </a:lnTo>
                  <a:lnTo>
                    <a:pt x="1203" y="183"/>
                  </a:lnTo>
                  <a:lnTo>
                    <a:pt x="1213" y="178"/>
                  </a:lnTo>
                  <a:lnTo>
                    <a:pt x="1222" y="173"/>
                  </a:lnTo>
                  <a:lnTo>
                    <a:pt x="1231" y="167"/>
                  </a:lnTo>
                  <a:lnTo>
                    <a:pt x="1237" y="161"/>
                  </a:lnTo>
                  <a:lnTo>
                    <a:pt x="1244" y="156"/>
                  </a:lnTo>
                  <a:lnTo>
                    <a:pt x="1249" y="151"/>
                  </a:lnTo>
                  <a:lnTo>
                    <a:pt x="1253" y="146"/>
                  </a:lnTo>
                  <a:lnTo>
                    <a:pt x="1255" y="139"/>
                  </a:lnTo>
                  <a:lnTo>
                    <a:pt x="1257" y="134"/>
                  </a:lnTo>
                  <a:lnTo>
                    <a:pt x="1257" y="13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748200" y="2930040"/>
              <a:ext cx="28440" cy="73440"/>
            </a:xfrm>
            <a:custGeom>
              <a:avLst/>
              <a:gdLst/>
              <a:ahLst/>
              <a:rect l="l" t="t" r="r" b="b"/>
              <a:pathLst>
                <a:path w="35" h="130">
                  <a:moveTo>
                    <a:pt x="6" y="130"/>
                  </a:moveTo>
                  <a:lnTo>
                    <a:pt x="0" y="21"/>
                  </a:lnTo>
                  <a:lnTo>
                    <a:pt x="20" y="0"/>
                  </a:lnTo>
                  <a:lnTo>
                    <a:pt x="35" y="61"/>
                  </a:lnTo>
                  <a:lnTo>
                    <a:pt x="6" y="13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754320" y="2948400"/>
              <a:ext cx="691200" cy="55080"/>
            </a:xfrm>
            <a:custGeom>
              <a:avLst/>
              <a:gdLst/>
              <a:ahLst/>
              <a:rect l="l" t="t" r="r" b="b"/>
              <a:pathLst>
                <a:path w="869" h="96">
                  <a:moveTo>
                    <a:pt x="8" y="0"/>
                  </a:moveTo>
                  <a:lnTo>
                    <a:pt x="0" y="96"/>
                  </a:lnTo>
                  <a:lnTo>
                    <a:pt x="869" y="96"/>
                  </a:lnTo>
                  <a:lnTo>
                    <a:pt x="85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486840" y="1828800"/>
              <a:ext cx="1285200" cy="1128600"/>
            </a:xfrm>
            <a:custGeom>
              <a:avLst/>
              <a:gdLst/>
              <a:ahLst/>
              <a:rect l="l" t="t" r="r" b="b"/>
              <a:pathLst>
                <a:path w="1613" h="1995">
                  <a:moveTo>
                    <a:pt x="103" y="1995"/>
                  </a:moveTo>
                  <a:lnTo>
                    <a:pt x="1613" y="1995"/>
                  </a:lnTo>
                  <a:lnTo>
                    <a:pt x="1613" y="0"/>
                  </a:lnTo>
                  <a:lnTo>
                    <a:pt x="1326" y="122"/>
                  </a:lnTo>
                  <a:lnTo>
                    <a:pt x="0" y="1803"/>
                  </a:lnTo>
                  <a:lnTo>
                    <a:pt x="103" y="1995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400800" y="1828800"/>
              <a:ext cx="1371240" cy="1128600"/>
            </a:xfrm>
            <a:custGeom>
              <a:avLst/>
              <a:gdLst/>
              <a:ahLst/>
              <a:rect l="l" t="t" r="r" b="b"/>
              <a:pathLst>
                <a:path w="1722" h="1995">
                  <a:moveTo>
                    <a:pt x="1722" y="0"/>
                  </a:moveTo>
                  <a:lnTo>
                    <a:pt x="0" y="0"/>
                  </a:lnTo>
                  <a:lnTo>
                    <a:pt x="0" y="1803"/>
                  </a:lnTo>
                  <a:lnTo>
                    <a:pt x="212" y="1995"/>
                  </a:lnTo>
                  <a:lnTo>
                    <a:pt x="171" y="1832"/>
                  </a:lnTo>
                  <a:lnTo>
                    <a:pt x="1483" y="223"/>
                  </a:lnTo>
                  <a:lnTo>
                    <a:pt x="1557" y="157"/>
                  </a:lnTo>
                  <a:lnTo>
                    <a:pt x="1722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536160" y="1912320"/>
              <a:ext cx="1105560" cy="951840"/>
            </a:xfrm>
            <a:custGeom>
              <a:avLst/>
              <a:gdLst/>
              <a:ahLst/>
              <a:rect l="l" t="t" r="r" b="b"/>
              <a:pathLst>
                <a:path w="1386" h="1683">
                  <a:moveTo>
                    <a:pt x="1386" y="0"/>
                  </a:moveTo>
                  <a:lnTo>
                    <a:pt x="0" y="0"/>
                  </a:lnTo>
                  <a:lnTo>
                    <a:pt x="0" y="1683"/>
                  </a:lnTo>
                  <a:lnTo>
                    <a:pt x="88" y="1648"/>
                  </a:lnTo>
                  <a:lnTo>
                    <a:pt x="157" y="1608"/>
                  </a:lnTo>
                  <a:lnTo>
                    <a:pt x="1366" y="55"/>
                  </a:lnTo>
                  <a:lnTo>
                    <a:pt x="1386" y="0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536160" y="1912320"/>
              <a:ext cx="1105560" cy="951840"/>
            </a:xfrm>
            <a:custGeom>
              <a:avLst/>
              <a:gdLst/>
              <a:ahLst/>
              <a:rect l="l" t="t" r="r" b="b"/>
              <a:pathLst>
                <a:path w="1386" h="1683">
                  <a:moveTo>
                    <a:pt x="1386" y="0"/>
                  </a:moveTo>
                  <a:lnTo>
                    <a:pt x="1386" y="1683"/>
                  </a:lnTo>
                  <a:lnTo>
                    <a:pt x="0" y="1683"/>
                  </a:lnTo>
                  <a:lnTo>
                    <a:pt x="68" y="1621"/>
                  </a:lnTo>
                  <a:lnTo>
                    <a:pt x="1312" y="55"/>
                  </a:lnTo>
                  <a:lnTo>
                    <a:pt x="1386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585480" y="1940760"/>
              <a:ext cx="1001880" cy="8920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647840" y="2864520"/>
              <a:ext cx="124200" cy="92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 flipV="1">
              <a:off x="6400800" y="1828800"/>
              <a:ext cx="135360" cy="83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619320" y="1963080"/>
              <a:ext cx="941040" cy="84672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619320" y="1963080"/>
              <a:ext cx="941040" cy="846720"/>
            </a:xfrm>
            <a:custGeom>
              <a:avLst/>
              <a:gdLst/>
              <a:ahLst/>
              <a:rect l="l" t="t" r="r" b="b"/>
              <a:pathLst>
                <a:path w="1182" h="1499">
                  <a:moveTo>
                    <a:pt x="1182" y="0"/>
                  </a:moveTo>
                  <a:lnTo>
                    <a:pt x="0" y="0"/>
                  </a:lnTo>
                  <a:lnTo>
                    <a:pt x="0" y="1499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619320" y="1963080"/>
              <a:ext cx="941040" cy="846720"/>
            </a:xfrm>
            <a:custGeom>
              <a:avLst/>
              <a:gdLst/>
              <a:ahLst/>
              <a:rect l="l" t="t" r="r" b="b"/>
              <a:pathLst>
                <a:path w="1182" h="1499">
                  <a:moveTo>
                    <a:pt x="1182" y="0"/>
                  </a:moveTo>
                  <a:lnTo>
                    <a:pt x="1182" y="1499"/>
                  </a:lnTo>
                  <a:lnTo>
                    <a:pt x="0" y="1499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478560" y="2881440"/>
              <a:ext cx="25560" cy="17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11"/>
                  </a:lnTo>
                  <a:lnTo>
                    <a:pt x="28" y="6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6" y="2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5"/>
                  </a:lnTo>
                  <a:lnTo>
                    <a:pt x="7" y="28"/>
                  </a:lnTo>
                  <a:lnTo>
                    <a:pt x="11" y="29"/>
                  </a:lnTo>
                  <a:lnTo>
                    <a:pt x="16" y="30"/>
                  </a:lnTo>
                  <a:lnTo>
                    <a:pt x="20" y="29"/>
                  </a:lnTo>
                  <a:lnTo>
                    <a:pt x="24" y="28"/>
                  </a:lnTo>
                  <a:lnTo>
                    <a:pt x="27" y="24"/>
                  </a:lnTo>
                  <a:lnTo>
                    <a:pt x="29" y="21"/>
                  </a:lnTo>
                  <a:lnTo>
                    <a:pt x="30" y="16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470640" y="2848680"/>
              <a:ext cx="76320" cy="49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624080" y="2957400"/>
              <a:ext cx="66600" cy="137880"/>
            </a:xfrm>
            <a:custGeom>
              <a:avLst/>
              <a:gdLst/>
              <a:ahLst/>
              <a:rect l="l" t="t" r="r" b="b"/>
              <a:pathLst>
                <a:path w="82" h="246">
                  <a:moveTo>
                    <a:pt x="69" y="246"/>
                  </a:moveTo>
                  <a:lnTo>
                    <a:pt x="82" y="239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1" name=""/>
          <p:cNvSpPr/>
          <p:nvPr/>
        </p:nvSpPr>
        <p:spPr>
          <a:xfrm>
            <a:off x="7315200" y="2057400"/>
            <a:ext cx="838080" cy="76212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c07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123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3962520" y="5388120"/>
            <a:ext cx="1269360" cy="479160"/>
            <a:chOff x="3962520" y="5388120"/>
            <a:chExt cx="1269360" cy="479160"/>
          </a:xfrm>
        </p:grpSpPr>
        <p:sp>
          <p:nvSpPr>
            <p:cNvPr id="1283" name=""/>
            <p:cNvSpPr/>
            <p:nvPr/>
          </p:nvSpPr>
          <p:spPr>
            <a:xfrm>
              <a:off x="4133520" y="5700600"/>
              <a:ext cx="1042560" cy="115920"/>
            </a:xfrm>
            <a:custGeom>
              <a:avLst/>
              <a:gdLst/>
              <a:ahLst/>
              <a:rect l="l" t="t" r="r" b="b"/>
              <a:pathLst>
                <a:path w="3107" h="383">
                  <a:moveTo>
                    <a:pt x="2969" y="91"/>
                  </a:moveTo>
                  <a:lnTo>
                    <a:pt x="2538" y="0"/>
                  </a:lnTo>
                  <a:lnTo>
                    <a:pt x="1201" y="276"/>
                  </a:lnTo>
                  <a:lnTo>
                    <a:pt x="1201" y="322"/>
                  </a:lnTo>
                  <a:lnTo>
                    <a:pt x="1078" y="322"/>
                  </a:lnTo>
                  <a:lnTo>
                    <a:pt x="1078" y="229"/>
                  </a:lnTo>
                  <a:lnTo>
                    <a:pt x="524" y="76"/>
                  </a:lnTo>
                  <a:lnTo>
                    <a:pt x="278" y="37"/>
                  </a:lnTo>
                  <a:lnTo>
                    <a:pt x="31" y="61"/>
                  </a:lnTo>
                  <a:lnTo>
                    <a:pt x="0" y="229"/>
                  </a:lnTo>
                  <a:lnTo>
                    <a:pt x="493" y="352"/>
                  </a:lnTo>
                  <a:lnTo>
                    <a:pt x="863" y="337"/>
                  </a:lnTo>
                  <a:lnTo>
                    <a:pt x="894" y="367"/>
                  </a:lnTo>
                  <a:lnTo>
                    <a:pt x="1047" y="367"/>
                  </a:lnTo>
                  <a:lnTo>
                    <a:pt x="1078" y="352"/>
                  </a:lnTo>
                  <a:lnTo>
                    <a:pt x="1185" y="352"/>
                  </a:lnTo>
                  <a:lnTo>
                    <a:pt x="1216" y="383"/>
                  </a:lnTo>
                  <a:lnTo>
                    <a:pt x="1232" y="383"/>
                  </a:lnTo>
                  <a:lnTo>
                    <a:pt x="1247" y="367"/>
                  </a:lnTo>
                  <a:lnTo>
                    <a:pt x="1630" y="367"/>
                  </a:lnTo>
                  <a:lnTo>
                    <a:pt x="1646" y="383"/>
                  </a:lnTo>
                  <a:lnTo>
                    <a:pt x="1676" y="383"/>
                  </a:lnTo>
                  <a:lnTo>
                    <a:pt x="1676" y="337"/>
                  </a:lnTo>
                  <a:lnTo>
                    <a:pt x="1738" y="337"/>
                  </a:lnTo>
                  <a:lnTo>
                    <a:pt x="1753" y="367"/>
                  </a:lnTo>
                  <a:lnTo>
                    <a:pt x="1801" y="367"/>
                  </a:lnTo>
                  <a:lnTo>
                    <a:pt x="1845" y="337"/>
                  </a:lnTo>
                  <a:lnTo>
                    <a:pt x="2400" y="367"/>
                  </a:lnTo>
                  <a:lnTo>
                    <a:pt x="2400" y="337"/>
                  </a:lnTo>
                  <a:lnTo>
                    <a:pt x="2338" y="306"/>
                  </a:lnTo>
                  <a:lnTo>
                    <a:pt x="2384" y="291"/>
                  </a:lnTo>
                  <a:lnTo>
                    <a:pt x="2831" y="276"/>
                  </a:lnTo>
                  <a:lnTo>
                    <a:pt x="2892" y="306"/>
                  </a:lnTo>
                  <a:lnTo>
                    <a:pt x="3000" y="306"/>
                  </a:lnTo>
                  <a:lnTo>
                    <a:pt x="3000" y="322"/>
                  </a:lnTo>
                  <a:lnTo>
                    <a:pt x="2847" y="322"/>
                  </a:lnTo>
                  <a:lnTo>
                    <a:pt x="2847" y="367"/>
                  </a:lnTo>
                  <a:lnTo>
                    <a:pt x="3015" y="352"/>
                  </a:lnTo>
                  <a:lnTo>
                    <a:pt x="3031" y="367"/>
                  </a:lnTo>
                  <a:lnTo>
                    <a:pt x="3077" y="367"/>
                  </a:lnTo>
                  <a:lnTo>
                    <a:pt x="3107" y="337"/>
                  </a:lnTo>
                  <a:lnTo>
                    <a:pt x="3092" y="322"/>
                  </a:lnTo>
                  <a:lnTo>
                    <a:pt x="3092" y="276"/>
                  </a:lnTo>
                  <a:lnTo>
                    <a:pt x="3000" y="276"/>
                  </a:lnTo>
                  <a:lnTo>
                    <a:pt x="2969" y="91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962520" y="5388120"/>
              <a:ext cx="1225080" cy="411120"/>
            </a:xfrm>
            <a:custGeom>
              <a:avLst/>
              <a:gdLst/>
              <a:ahLst/>
              <a:rect l="l" t="t" r="r" b="b"/>
              <a:pathLst>
                <a:path w="3646" h="1363">
                  <a:moveTo>
                    <a:pt x="2830" y="1363"/>
                  </a:moveTo>
                  <a:lnTo>
                    <a:pt x="2891" y="1240"/>
                  </a:lnTo>
                  <a:lnTo>
                    <a:pt x="2940" y="1187"/>
                  </a:lnTo>
                  <a:lnTo>
                    <a:pt x="2997" y="1146"/>
                  </a:lnTo>
                  <a:lnTo>
                    <a:pt x="3062" y="1116"/>
                  </a:lnTo>
                  <a:lnTo>
                    <a:pt x="3133" y="1103"/>
                  </a:lnTo>
                  <a:lnTo>
                    <a:pt x="3138" y="1102"/>
                  </a:lnTo>
                  <a:lnTo>
                    <a:pt x="3210" y="1111"/>
                  </a:lnTo>
                  <a:lnTo>
                    <a:pt x="3278" y="1133"/>
                  </a:lnTo>
                  <a:lnTo>
                    <a:pt x="3340" y="1170"/>
                  </a:lnTo>
                  <a:lnTo>
                    <a:pt x="3384" y="1210"/>
                  </a:lnTo>
                  <a:lnTo>
                    <a:pt x="3415" y="1270"/>
                  </a:lnTo>
                  <a:lnTo>
                    <a:pt x="3415" y="1317"/>
                  </a:lnTo>
                  <a:lnTo>
                    <a:pt x="3599" y="1332"/>
                  </a:lnTo>
                  <a:lnTo>
                    <a:pt x="3630" y="1317"/>
                  </a:lnTo>
                  <a:lnTo>
                    <a:pt x="3630" y="1270"/>
                  </a:lnTo>
                  <a:lnTo>
                    <a:pt x="3646" y="1255"/>
                  </a:lnTo>
                  <a:lnTo>
                    <a:pt x="3634" y="1230"/>
                  </a:lnTo>
                  <a:lnTo>
                    <a:pt x="3612" y="1213"/>
                  </a:lnTo>
                  <a:lnTo>
                    <a:pt x="3584" y="1210"/>
                  </a:lnTo>
                  <a:lnTo>
                    <a:pt x="3599" y="1102"/>
                  </a:lnTo>
                  <a:lnTo>
                    <a:pt x="3630" y="1087"/>
                  </a:lnTo>
                  <a:lnTo>
                    <a:pt x="3630" y="964"/>
                  </a:lnTo>
                  <a:lnTo>
                    <a:pt x="3614" y="949"/>
                  </a:lnTo>
                  <a:lnTo>
                    <a:pt x="3614" y="903"/>
                  </a:lnTo>
                  <a:lnTo>
                    <a:pt x="3608" y="885"/>
                  </a:lnTo>
                  <a:lnTo>
                    <a:pt x="3584" y="856"/>
                  </a:lnTo>
                  <a:lnTo>
                    <a:pt x="3384" y="781"/>
                  </a:lnTo>
                  <a:lnTo>
                    <a:pt x="3384" y="759"/>
                  </a:lnTo>
                  <a:lnTo>
                    <a:pt x="3338" y="719"/>
                  </a:lnTo>
                  <a:lnTo>
                    <a:pt x="3091" y="307"/>
                  </a:lnTo>
                  <a:lnTo>
                    <a:pt x="3091" y="291"/>
                  </a:lnTo>
                  <a:lnTo>
                    <a:pt x="3093" y="262"/>
                  </a:lnTo>
                  <a:lnTo>
                    <a:pt x="3045" y="230"/>
                  </a:lnTo>
                  <a:lnTo>
                    <a:pt x="3031" y="230"/>
                  </a:lnTo>
                  <a:lnTo>
                    <a:pt x="2962" y="190"/>
                  </a:lnTo>
                  <a:lnTo>
                    <a:pt x="2812" y="118"/>
                  </a:lnTo>
                  <a:lnTo>
                    <a:pt x="2654" y="59"/>
                  </a:lnTo>
                  <a:lnTo>
                    <a:pt x="2492" y="16"/>
                  </a:lnTo>
                  <a:lnTo>
                    <a:pt x="2273" y="2"/>
                  </a:lnTo>
                  <a:lnTo>
                    <a:pt x="254" y="0"/>
                  </a:lnTo>
                  <a:lnTo>
                    <a:pt x="216" y="8"/>
                  </a:lnTo>
                  <a:lnTo>
                    <a:pt x="183" y="31"/>
                  </a:lnTo>
                  <a:lnTo>
                    <a:pt x="165" y="53"/>
                  </a:lnTo>
                  <a:lnTo>
                    <a:pt x="128" y="117"/>
                  </a:lnTo>
                  <a:lnTo>
                    <a:pt x="106" y="186"/>
                  </a:lnTo>
                  <a:lnTo>
                    <a:pt x="76" y="186"/>
                  </a:lnTo>
                  <a:lnTo>
                    <a:pt x="74" y="211"/>
                  </a:lnTo>
                  <a:lnTo>
                    <a:pt x="94" y="212"/>
                  </a:lnTo>
                  <a:lnTo>
                    <a:pt x="88" y="253"/>
                  </a:lnTo>
                  <a:lnTo>
                    <a:pt x="54" y="503"/>
                  </a:lnTo>
                  <a:lnTo>
                    <a:pt x="36" y="757"/>
                  </a:lnTo>
                  <a:lnTo>
                    <a:pt x="32" y="1008"/>
                  </a:lnTo>
                  <a:lnTo>
                    <a:pt x="31" y="1026"/>
                  </a:lnTo>
                  <a:lnTo>
                    <a:pt x="46" y="1194"/>
                  </a:lnTo>
                  <a:lnTo>
                    <a:pt x="0" y="1240"/>
                  </a:lnTo>
                  <a:lnTo>
                    <a:pt x="15" y="1317"/>
                  </a:lnTo>
                  <a:lnTo>
                    <a:pt x="507" y="1332"/>
                  </a:lnTo>
                  <a:lnTo>
                    <a:pt x="522" y="1318"/>
                  </a:lnTo>
                  <a:lnTo>
                    <a:pt x="552" y="1194"/>
                  </a:lnTo>
                  <a:lnTo>
                    <a:pt x="577" y="1153"/>
                  </a:lnTo>
                  <a:lnTo>
                    <a:pt x="618" y="1131"/>
                  </a:lnTo>
                  <a:lnTo>
                    <a:pt x="664" y="1115"/>
                  </a:lnTo>
                  <a:lnTo>
                    <a:pt x="739" y="1102"/>
                  </a:lnTo>
                  <a:lnTo>
                    <a:pt x="777" y="1102"/>
                  </a:lnTo>
                  <a:lnTo>
                    <a:pt x="869" y="1115"/>
                  </a:lnTo>
                  <a:lnTo>
                    <a:pt x="939" y="1149"/>
                  </a:lnTo>
                  <a:lnTo>
                    <a:pt x="965" y="1179"/>
                  </a:lnTo>
                  <a:lnTo>
                    <a:pt x="988" y="1240"/>
                  </a:lnTo>
                  <a:lnTo>
                    <a:pt x="1009" y="1310"/>
                  </a:lnTo>
                  <a:lnTo>
                    <a:pt x="1062" y="1332"/>
                  </a:lnTo>
                  <a:lnTo>
                    <a:pt x="2845" y="1363"/>
                  </a:lnTo>
                  <a:lnTo>
                    <a:pt x="2830" y="1363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>
              <a:off x="3971160" y="5695920"/>
              <a:ext cx="1044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V="1">
              <a:off x="5016240" y="5605200"/>
              <a:ext cx="108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773240" y="5470560"/>
              <a:ext cx="233280" cy="322200"/>
            </a:xfrm>
            <a:custGeom>
              <a:avLst/>
              <a:gdLst/>
              <a:ahLst/>
              <a:rect l="l" t="t" r="r" b="b"/>
              <a:pathLst>
                <a:path w="693" h="1071">
                  <a:moveTo>
                    <a:pt x="0" y="1071"/>
                  </a:moveTo>
                  <a:lnTo>
                    <a:pt x="0" y="17"/>
                  </a:lnTo>
                  <a:lnTo>
                    <a:pt x="22" y="0"/>
                  </a:lnTo>
                  <a:lnTo>
                    <a:pt x="522" y="25"/>
                  </a:lnTo>
                  <a:lnTo>
                    <a:pt x="572" y="44"/>
                  </a:lnTo>
                  <a:lnTo>
                    <a:pt x="693" y="3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5073480" y="5627880"/>
              <a:ext cx="26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74840" y="5475240"/>
              <a:ext cx="161640" cy="174600"/>
            </a:xfrm>
            <a:custGeom>
              <a:avLst/>
              <a:gdLst/>
              <a:ahLst/>
              <a:rect l="l" t="t" r="r" b="b"/>
              <a:pathLst>
                <a:path w="478" h="581">
                  <a:moveTo>
                    <a:pt x="0" y="0"/>
                  </a:moveTo>
                  <a:lnTo>
                    <a:pt x="248" y="535"/>
                  </a:lnTo>
                  <a:lnTo>
                    <a:pt x="478" y="5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74840" y="5475240"/>
              <a:ext cx="110880" cy="130320"/>
            </a:xfrm>
            <a:custGeom>
              <a:avLst/>
              <a:gdLst/>
              <a:ahLst/>
              <a:rect l="l" t="t" r="r" b="b"/>
              <a:pathLst>
                <a:path w="326" h="432">
                  <a:moveTo>
                    <a:pt x="74" y="2"/>
                  </a:moveTo>
                  <a:lnTo>
                    <a:pt x="0" y="0"/>
                  </a:lnTo>
                  <a:lnTo>
                    <a:pt x="201" y="432"/>
                  </a:lnTo>
                  <a:lnTo>
                    <a:pt x="326" y="432"/>
                  </a:lnTo>
                  <a:lnTo>
                    <a:pt x="74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44960" y="5738760"/>
              <a:ext cx="144000" cy="128520"/>
            </a:xfrm>
            <a:custGeom>
              <a:avLst/>
              <a:gdLst/>
              <a:ahLst/>
              <a:rect l="l" t="t" r="r" b="b"/>
              <a:pathLst>
                <a:path w="429" h="428">
                  <a:moveTo>
                    <a:pt x="0" y="214"/>
                  </a:moveTo>
                  <a:lnTo>
                    <a:pt x="4" y="171"/>
                  </a:lnTo>
                  <a:lnTo>
                    <a:pt x="17" y="131"/>
                  </a:lnTo>
                  <a:lnTo>
                    <a:pt x="36" y="93"/>
                  </a:lnTo>
                  <a:lnTo>
                    <a:pt x="63" y="62"/>
                  </a:lnTo>
                  <a:lnTo>
                    <a:pt x="94" y="36"/>
                  </a:lnTo>
                  <a:lnTo>
                    <a:pt x="130" y="16"/>
                  </a:lnTo>
                  <a:lnTo>
                    <a:pt x="171" y="4"/>
                  </a:lnTo>
                  <a:lnTo>
                    <a:pt x="214" y="0"/>
                  </a:lnTo>
                  <a:lnTo>
                    <a:pt x="257" y="4"/>
                  </a:lnTo>
                  <a:lnTo>
                    <a:pt x="297" y="16"/>
                  </a:lnTo>
                  <a:lnTo>
                    <a:pt x="334" y="36"/>
                  </a:lnTo>
                  <a:lnTo>
                    <a:pt x="365" y="62"/>
                  </a:lnTo>
                  <a:lnTo>
                    <a:pt x="393" y="93"/>
                  </a:lnTo>
                  <a:lnTo>
                    <a:pt x="411" y="131"/>
                  </a:lnTo>
                  <a:lnTo>
                    <a:pt x="424" y="171"/>
                  </a:lnTo>
                  <a:lnTo>
                    <a:pt x="429" y="214"/>
                  </a:lnTo>
                  <a:lnTo>
                    <a:pt x="428" y="235"/>
                  </a:lnTo>
                  <a:lnTo>
                    <a:pt x="424" y="256"/>
                  </a:lnTo>
                  <a:lnTo>
                    <a:pt x="411" y="297"/>
                  </a:lnTo>
                  <a:lnTo>
                    <a:pt x="393" y="333"/>
                  </a:lnTo>
                  <a:lnTo>
                    <a:pt x="365" y="366"/>
                  </a:lnTo>
                  <a:lnTo>
                    <a:pt x="334" y="392"/>
                  </a:lnTo>
                  <a:lnTo>
                    <a:pt x="297" y="412"/>
                  </a:lnTo>
                  <a:lnTo>
                    <a:pt x="257" y="424"/>
                  </a:lnTo>
                  <a:lnTo>
                    <a:pt x="236" y="427"/>
                  </a:lnTo>
                  <a:lnTo>
                    <a:pt x="214" y="428"/>
                  </a:lnTo>
                  <a:lnTo>
                    <a:pt x="171" y="424"/>
                  </a:lnTo>
                  <a:lnTo>
                    <a:pt x="130" y="412"/>
                  </a:lnTo>
                  <a:lnTo>
                    <a:pt x="94" y="392"/>
                  </a:lnTo>
                  <a:lnTo>
                    <a:pt x="63" y="366"/>
                  </a:lnTo>
                  <a:lnTo>
                    <a:pt x="36" y="333"/>
                  </a:lnTo>
                  <a:lnTo>
                    <a:pt x="17" y="297"/>
                  </a:lnTo>
                  <a:lnTo>
                    <a:pt x="4" y="256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81320" y="5770440"/>
              <a:ext cx="70920" cy="65160"/>
            </a:xfrm>
            <a:custGeom>
              <a:avLst/>
              <a:gdLst/>
              <a:ahLst/>
              <a:rect l="l" t="t" r="r" b="b"/>
              <a:pathLst>
                <a:path w="215" h="214">
                  <a:moveTo>
                    <a:pt x="0" y="107"/>
                  </a:moveTo>
                  <a:lnTo>
                    <a:pt x="8" y="66"/>
                  </a:lnTo>
                  <a:lnTo>
                    <a:pt x="18" y="47"/>
                  </a:lnTo>
                  <a:lnTo>
                    <a:pt x="31" y="31"/>
                  </a:lnTo>
                  <a:lnTo>
                    <a:pt x="47" y="18"/>
                  </a:lnTo>
                  <a:lnTo>
                    <a:pt x="65" y="8"/>
                  </a:lnTo>
                  <a:lnTo>
                    <a:pt x="107" y="0"/>
                  </a:lnTo>
                  <a:lnTo>
                    <a:pt x="129" y="3"/>
                  </a:lnTo>
                  <a:lnTo>
                    <a:pt x="149" y="8"/>
                  </a:lnTo>
                  <a:lnTo>
                    <a:pt x="167" y="18"/>
                  </a:lnTo>
                  <a:lnTo>
                    <a:pt x="184" y="31"/>
                  </a:lnTo>
                  <a:lnTo>
                    <a:pt x="196" y="47"/>
                  </a:lnTo>
                  <a:lnTo>
                    <a:pt x="206" y="66"/>
                  </a:lnTo>
                  <a:lnTo>
                    <a:pt x="212" y="85"/>
                  </a:lnTo>
                  <a:lnTo>
                    <a:pt x="215" y="107"/>
                  </a:lnTo>
                  <a:lnTo>
                    <a:pt x="212" y="128"/>
                  </a:lnTo>
                  <a:lnTo>
                    <a:pt x="206" y="148"/>
                  </a:lnTo>
                  <a:lnTo>
                    <a:pt x="196" y="167"/>
                  </a:lnTo>
                  <a:lnTo>
                    <a:pt x="184" y="183"/>
                  </a:lnTo>
                  <a:lnTo>
                    <a:pt x="167" y="195"/>
                  </a:lnTo>
                  <a:lnTo>
                    <a:pt x="149" y="205"/>
                  </a:lnTo>
                  <a:lnTo>
                    <a:pt x="129" y="211"/>
                  </a:lnTo>
                  <a:lnTo>
                    <a:pt x="107" y="214"/>
                  </a:lnTo>
                  <a:lnTo>
                    <a:pt x="85" y="211"/>
                  </a:lnTo>
                  <a:lnTo>
                    <a:pt x="65" y="205"/>
                  </a:lnTo>
                  <a:lnTo>
                    <a:pt x="47" y="195"/>
                  </a:lnTo>
                  <a:lnTo>
                    <a:pt x="31" y="183"/>
                  </a:lnTo>
                  <a:lnTo>
                    <a:pt x="18" y="167"/>
                  </a:lnTo>
                  <a:lnTo>
                    <a:pt x="8" y="148"/>
                  </a:lnTo>
                  <a:lnTo>
                    <a:pt x="2" y="128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81320" y="5802480"/>
              <a:ext cx="64800" cy="33120"/>
            </a:xfrm>
            <a:custGeom>
              <a:avLst/>
              <a:gdLst/>
              <a:ahLst/>
              <a:rect l="l" t="t" r="r" b="b"/>
              <a:pathLst>
                <a:path w="194" h="107">
                  <a:moveTo>
                    <a:pt x="192" y="66"/>
                  </a:moveTo>
                  <a:lnTo>
                    <a:pt x="150" y="79"/>
                  </a:lnTo>
                  <a:lnTo>
                    <a:pt x="103" y="79"/>
                  </a:lnTo>
                  <a:lnTo>
                    <a:pt x="59" y="64"/>
                  </a:lnTo>
                  <a:lnTo>
                    <a:pt x="23" y="37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6"/>
                  </a:lnTo>
                  <a:lnTo>
                    <a:pt x="18" y="63"/>
                  </a:lnTo>
                  <a:lnTo>
                    <a:pt x="48" y="90"/>
                  </a:lnTo>
                  <a:lnTo>
                    <a:pt x="85" y="107"/>
                  </a:lnTo>
                  <a:lnTo>
                    <a:pt x="126" y="107"/>
                  </a:lnTo>
                  <a:lnTo>
                    <a:pt x="164" y="90"/>
                  </a:lnTo>
                  <a:lnTo>
                    <a:pt x="194" y="63"/>
                  </a:lnTo>
                  <a:lnTo>
                    <a:pt x="192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91040" y="5780160"/>
              <a:ext cx="51840" cy="44280"/>
            </a:xfrm>
            <a:custGeom>
              <a:avLst/>
              <a:gdLst/>
              <a:ahLst/>
              <a:rect l="l" t="t" r="r" b="b"/>
              <a:pathLst>
                <a:path w="153" h="153">
                  <a:moveTo>
                    <a:pt x="0" y="77"/>
                  </a:moveTo>
                  <a:lnTo>
                    <a:pt x="5" y="47"/>
                  </a:lnTo>
                  <a:lnTo>
                    <a:pt x="22" y="24"/>
                  </a:lnTo>
                  <a:lnTo>
                    <a:pt x="46" y="6"/>
                  </a:lnTo>
                  <a:lnTo>
                    <a:pt x="76" y="0"/>
                  </a:lnTo>
                  <a:lnTo>
                    <a:pt x="105" y="6"/>
                  </a:lnTo>
                  <a:lnTo>
                    <a:pt x="130" y="24"/>
                  </a:lnTo>
                  <a:lnTo>
                    <a:pt x="148" y="47"/>
                  </a:lnTo>
                  <a:lnTo>
                    <a:pt x="153" y="77"/>
                  </a:lnTo>
                  <a:lnTo>
                    <a:pt x="151" y="92"/>
                  </a:lnTo>
                  <a:lnTo>
                    <a:pt x="148" y="107"/>
                  </a:lnTo>
                  <a:lnTo>
                    <a:pt x="130" y="130"/>
                  </a:lnTo>
                  <a:lnTo>
                    <a:pt x="105" y="148"/>
                  </a:lnTo>
                  <a:lnTo>
                    <a:pt x="90" y="152"/>
                  </a:lnTo>
                  <a:lnTo>
                    <a:pt x="76" y="153"/>
                  </a:lnTo>
                  <a:lnTo>
                    <a:pt x="46" y="148"/>
                  </a:lnTo>
                  <a:lnTo>
                    <a:pt x="22" y="130"/>
                  </a:lnTo>
                  <a:lnTo>
                    <a:pt x="5" y="10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001840" y="5789520"/>
              <a:ext cx="31680" cy="27000"/>
            </a:xfrm>
            <a:custGeom>
              <a:avLst/>
              <a:gdLst/>
              <a:ahLst/>
              <a:rect l="l" t="t" r="r" b="b"/>
              <a:pathLst>
                <a:path w="94" h="92">
                  <a:moveTo>
                    <a:pt x="0" y="46"/>
                  </a:moveTo>
                  <a:lnTo>
                    <a:pt x="8" y="24"/>
                  </a:lnTo>
                  <a:lnTo>
                    <a:pt x="23" y="6"/>
                  </a:lnTo>
                  <a:lnTo>
                    <a:pt x="47" y="0"/>
                  </a:lnTo>
                  <a:lnTo>
                    <a:pt x="70" y="6"/>
                  </a:lnTo>
                  <a:lnTo>
                    <a:pt x="86" y="24"/>
                  </a:lnTo>
                  <a:lnTo>
                    <a:pt x="94" y="46"/>
                  </a:lnTo>
                  <a:lnTo>
                    <a:pt x="86" y="68"/>
                  </a:lnTo>
                  <a:lnTo>
                    <a:pt x="70" y="86"/>
                  </a:lnTo>
                  <a:lnTo>
                    <a:pt x="47" y="92"/>
                  </a:lnTo>
                  <a:lnTo>
                    <a:pt x="23" y="86"/>
                  </a:lnTo>
                  <a:lnTo>
                    <a:pt x="8" y="68"/>
                  </a:lnTo>
                  <a:lnTo>
                    <a:pt x="0" y="46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006880" y="5789520"/>
              <a:ext cx="10440" cy="22320"/>
            </a:xfrm>
            <a:custGeom>
              <a:avLst/>
              <a:gdLst/>
              <a:ahLst/>
              <a:rect l="l" t="t" r="r" b="b"/>
              <a:pathLst>
                <a:path w="36" h="78">
                  <a:moveTo>
                    <a:pt x="0" y="78"/>
                  </a:moveTo>
                  <a:lnTo>
                    <a:pt x="36" y="45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006880" y="5789520"/>
              <a:ext cx="10440" cy="22320"/>
            </a:xfrm>
            <a:custGeom>
              <a:avLst/>
              <a:gdLst/>
              <a:ahLst/>
              <a:rect l="l" t="t" r="r" b="b"/>
              <a:pathLst>
                <a:path w="36" h="78">
                  <a:moveTo>
                    <a:pt x="0" y="78"/>
                  </a:moveTo>
                  <a:lnTo>
                    <a:pt x="36" y="45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 flipV="1">
              <a:off x="5017680" y="5802480"/>
              <a:ext cx="108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143240" y="5738760"/>
              <a:ext cx="144000" cy="128520"/>
            </a:xfrm>
            <a:custGeom>
              <a:avLst/>
              <a:gdLst/>
              <a:ahLst/>
              <a:rect l="l" t="t" r="r" b="b"/>
              <a:pathLst>
                <a:path w="431" h="428">
                  <a:moveTo>
                    <a:pt x="0" y="214"/>
                  </a:moveTo>
                  <a:lnTo>
                    <a:pt x="5" y="171"/>
                  </a:lnTo>
                  <a:lnTo>
                    <a:pt x="18" y="131"/>
                  </a:lnTo>
                  <a:lnTo>
                    <a:pt x="27" y="111"/>
                  </a:lnTo>
                  <a:lnTo>
                    <a:pt x="38" y="93"/>
                  </a:lnTo>
                  <a:lnTo>
                    <a:pt x="64" y="62"/>
                  </a:lnTo>
                  <a:lnTo>
                    <a:pt x="96" y="36"/>
                  </a:lnTo>
                  <a:lnTo>
                    <a:pt x="132" y="16"/>
                  </a:lnTo>
                  <a:lnTo>
                    <a:pt x="172" y="4"/>
                  </a:lnTo>
                  <a:lnTo>
                    <a:pt x="216" y="0"/>
                  </a:lnTo>
                  <a:lnTo>
                    <a:pt x="259" y="4"/>
                  </a:lnTo>
                  <a:lnTo>
                    <a:pt x="299" y="16"/>
                  </a:lnTo>
                  <a:lnTo>
                    <a:pt x="335" y="36"/>
                  </a:lnTo>
                  <a:lnTo>
                    <a:pt x="367" y="62"/>
                  </a:lnTo>
                  <a:lnTo>
                    <a:pt x="394" y="93"/>
                  </a:lnTo>
                  <a:lnTo>
                    <a:pt x="414" y="131"/>
                  </a:lnTo>
                  <a:lnTo>
                    <a:pt x="426" y="171"/>
                  </a:lnTo>
                  <a:lnTo>
                    <a:pt x="431" y="214"/>
                  </a:lnTo>
                  <a:lnTo>
                    <a:pt x="426" y="256"/>
                  </a:lnTo>
                  <a:lnTo>
                    <a:pt x="414" y="297"/>
                  </a:lnTo>
                  <a:lnTo>
                    <a:pt x="394" y="333"/>
                  </a:lnTo>
                  <a:lnTo>
                    <a:pt x="367" y="366"/>
                  </a:lnTo>
                  <a:lnTo>
                    <a:pt x="335" y="392"/>
                  </a:lnTo>
                  <a:lnTo>
                    <a:pt x="299" y="412"/>
                  </a:lnTo>
                  <a:lnTo>
                    <a:pt x="259" y="424"/>
                  </a:lnTo>
                  <a:lnTo>
                    <a:pt x="216" y="428"/>
                  </a:lnTo>
                  <a:lnTo>
                    <a:pt x="193" y="427"/>
                  </a:lnTo>
                  <a:lnTo>
                    <a:pt x="172" y="424"/>
                  </a:lnTo>
                  <a:lnTo>
                    <a:pt x="132" y="412"/>
                  </a:lnTo>
                  <a:lnTo>
                    <a:pt x="96" y="392"/>
                  </a:lnTo>
                  <a:lnTo>
                    <a:pt x="64" y="366"/>
                  </a:lnTo>
                  <a:lnTo>
                    <a:pt x="38" y="333"/>
                  </a:lnTo>
                  <a:lnTo>
                    <a:pt x="18" y="297"/>
                  </a:lnTo>
                  <a:lnTo>
                    <a:pt x="10" y="277"/>
                  </a:lnTo>
                  <a:lnTo>
                    <a:pt x="5" y="256"/>
                  </a:lnTo>
                  <a:lnTo>
                    <a:pt x="2" y="235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178160" y="5770440"/>
              <a:ext cx="72720" cy="6516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07"/>
                  </a:moveTo>
                  <a:lnTo>
                    <a:pt x="2" y="85"/>
                  </a:lnTo>
                  <a:lnTo>
                    <a:pt x="7" y="66"/>
                  </a:lnTo>
                  <a:lnTo>
                    <a:pt x="18" y="47"/>
                  </a:lnTo>
                  <a:lnTo>
                    <a:pt x="31" y="31"/>
                  </a:lnTo>
                  <a:lnTo>
                    <a:pt x="47" y="18"/>
                  </a:lnTo>
                  <a:lnTo>
                    <a:pt x="66" y="8"/>
                  </a:lnTo>
                  <a:lnTo>
                    <a:pt x="86" y="3"/>
                  </a:lnTo>
                  <a:lnTo>
                    <a:pt x="107" y="0"/>
                  </a:lnTo>
                  <a:lnTo>
                    <a:pt x="148" y="8"/>
                  </a:lnTo>
                  <a:lnTo>
                    <a:pt x="166" y="18"/>
                  </a:lnTo>
                  <a:lnTo>
                    <a:pt x="183" y="31"/>
                  </a:lnTo>
                  <a:lnTo>
                    <a:pt x="195" y="47"/>
                  </a:lnTo>
                  <a:lnTo>
                    <a:pt x="205" y="66"/>
                  </a:lnTo>
                  <a:lnTo>
                    <a:pt x="211" y="85"/>
                  </a:lnTo>
                  <a:lnTo>
                    <a:pt x="214" y="107"/>
                  </a:lnTo>
                  <a:lnTo>
                    <a:pt x="211" y="128"/>
                  </a:lnTo>
                  <a:lnTo>
                    <a:pt x="205" y="148"/>
                  </a:lnTo>
                  <a:lnTo>
                    <a:pt x="183" y="183"/>
                  </a:lnTo>
                  <a:lnTo>
                    <a:pt x="166" y="195"/>
                  </a:lnTo>
                  <a:lnTo>
                    <a:pt x="148" y="205"/>
                  </a:lnTo>
                  <a:lnTo>
                    <a:pt x="128" y="211"/>
                  </a:lnTo>
                  <a:lnTo>
                    <a:pt x="107" y="214"/>
                  </a:lnTo>
                  <a:lnTo>
                    <a:pt x="86" y="211"/>
                  </a:lnTo>
                  <a:lnTo>
                    <a:pt x="66" y="205"/>
                  </a:lnTo>
                  <a:lnTo>
                    <a:pt x="47" y="195"/>
                  </a:lnTo>
                  <a:lnTo>
                    <a:pt x="31" y="183"/>
                  </a:lnTo>
                  <a:lnTo>
                    <a:pt x="18" y="167"/>
                  </a:lnTo>
                  <a:lnTo>
                    <a:pt x="7" y="148"/>
                  </a:lnTo>
                  <a:lnTo>
                    <a:pt x="2" y="128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178160" y="5802480"/>
              <a:ext cx="66240" cy="33120"/>
            </a:xfrm>
            <a:custGeom>
              <a:avLst/>
              <a:gdLst/>
              <a:ahLst/>
              <a:rect l="l" t="t" r="r" b="b"/>
              <a:pathLst>
                <a:path w="195" h="107">
                  <a:moveTo>
                    <a:pt x="193" y="66"/>
                  </a:moveTo>
                  <a:lnTo>
                    <a:pt x="151" y="79"/>
                  </a:lnTo>
                  <a:lnTo>
                    <a:pt x="104" y="79"/>
                  </a:lnTo>
                  <a:lnTo>
                    <a:pt x="60" y="64"/>
                  </a:lnTo>
                  <a:lnTo>
                    <a:pt x="24" y="37"/>
                  </a:lnTo>
                  <a:lnTo>
                    <a:pt x="0" y="0"/>
                  </a:lnTo>
                  <a:lnTo>
                    <a:pt x="0" y="1"/>
                  </a:lnTo>
                  <a:lnTo>
                    <a:pt x="4" y="26"/>
                  </a:lnTo>
                  <a:lnTo>
                    <a:pt x="20" y="63"/>
                  </a:lnTo>
                  <a:lnTo>
                    <a:pt x="50" y="90"/>
                  </a:lnTo>
                  <a:lnTo>
                    <a:pt x="88" y="107"/>
                  </a:lnTo>
                  <a:lnTo>
                    <a:pt x="127" y="107"/>
                  </a:lnTo>
                  <a:lnTo>
                    <a:pt x="165" y="90"/>
                  </a:lnTo>
                  <a:lnTo>
                    <a:pt x="195" y="63"/>
                  </a:lnTo>
                  <a:lnTo>
                    <a:pt x="193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189320" y="5780160"/>
              <a:ext cx="50400" cy="44280"/>
            </a:xfrm>
            <a:custGeom>
              <a:avLst/>
              <a:gdLst/>
              <a:ahLst/>
              <a:rect l="l" t="t" r="r" b="b"/>
              <a:pathLst>
                <a:path w="152" h="153">
                  <a:moveTo>
                    <a:pt x="0" y="77"/>
                  </a:moveTo>
                  <a:lnTo>
                    <a:pt x="5" y="47"/>
                  </a:lnTo>
                  <a:lnTo>
                    <a:pt x="12" y="34"/>
                  </a:lnTo>
                  <a:lnTo>
                    <a:pt x="22" y="24"/>
                  </a:lnTo>
                  <a:lnTo>
                    <a:pt x="46" y="6"/>
                  </a:lnTo>
                  <a:lnTo>
                    <a:pt x="76" y="0"/>
                  </a:lnTo>
                  <a:lnTo>
                    <a:pt x="106" y="6"/>
                  </a:lnTo>
                  <a:lnTo>
                    <a:pt x="129" y="24"/>
                  </a:lnTo>
                  <a:lnTo>
                    <a:pt x="147" y="47"/>
                  </a:lnTo>
                  <a:lnTo>
                    <a:pt x="152" y="77"/>
                  </a:lnTo>
                  <a:lnTo>
                    <a:pt x="147" y="107"/>
                  </a:lnTo>
                  <a:lnTo>
                    <a:pt x="129" y="130"/>
                  </a:lnTo>
                  <a:lnTo>
                    <a:pt x="106" y="148"/>
                  </a:lnTo>
                  <a:lnTo>
                    <a:pt x="76" y="153"/>
                  </a:lnTo>
                  <a:lnTo>
                    <a:pt x="61" y="152"/>
                  </a:lnTo>
                  <a:lnTo>
                    <a:pt x="46" y="148"/>
                  </a:lnTo>
                  <a:lnTo>
                    <a:pt x="22" y="130"/>
                  </a:lnTo>
                  <a:lnTo>
                    <a:pt x="12" y="119"/>
                  </a:lnTo>
                  <a:lnTo>
                    <a:pt x="5" y="107"/>
                  </a:lnTo>
                  <a:lnTo>
                    <a:pt x="1" y="92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200120" y="5789520"/>
              <a:ext cx="29880" cy="270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0" y="46"/>
                  </a:moveTo>
                  <a:lnTo>
                    <a:pt x="6" y="24"/>
                  </a:lnTo>
                  <a:lnTo>
                    <a:pt x="22" y="6"/>
                  </a:lnTo>
                  <a:lnTo>
                    <a:pt x="44" y="0"/>
                  </a:lnTo>
                  <a:lnTo>
                    <a:pt x="68" y="6"/>
                  </a:lnTo>
                  <a:lnTo>
                    <a:pt x="86" y="24"/>
                  </a:lnTo>
                  <a:lnTo>
                    <a:pt x="92" y="46"/>
                  </a:lnTo>
                  <a:lnTo>
                    <a:pt x="86" y="68"/>
                  </a:lnTo>
                  <a:lnTo>
                    <a:pt x="68" y="86"/>
                  </a:lnTo>
                  <a:lnTo>
                    <a:pt x="44" y="92"/>
                  </a:lnTo>
                  <a:lnTo>
                    <a:pt x="22" y="86"/>
                  </a:lnTo>
                  <a:lnTo>
                    <a:pt x="6" y="68"/>
                  </a:lnTo>
                  <a:lnTo>
                    <a:pt x="0" y="46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205160" y="5789520"/>
              <a:ext cx="10800" cy="22320"/>
            </a:xfrm>
            <a:custGeom>
              <a:avLst/>
              <a:gdLst/>
              <a:ahLst/>
              <a:rect l="l" t="t" r="r" b="b"/>
              <a:pathLst>
                <a:path w="36" h="78">
                  <a:moveTo>
                    <a:pt x="0" y="78"/>
                  </a:moveTo>
                  <a:lnTo>
                    <a:pt x="36" y="45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205160" y="5789520"/>
              <a:ext cx="10800" cy="22320"/>
            </a:xfrm>
            <a:custGeom>
              <a:avLst/>
              <a:gdLst/>
              <a:ahLst/>
              <a:rect l="l" t="t" r="r" b="b"/>
              <a:pathLst>
                <a:path w="36" h="78">
                  <a:moveTo>
                    <a:pt x="0" y="78"/>
                  </a:moveTo>
                  <a:lnTo>
                    <a:pt x="36" y="45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 flipV="1">
              <a:off x="4215960" y="5802480"/>
              <a:ext cx="104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78160" y="5673600"/>
              <a:ext cx="104400" cy="46080"/>
            </a:xfrm>
            <a:custGeom>
              <a:avLst/>
              <a:gdLst/>
              <a:ahLst/>
              <a:rect l="l" t="t" r="r" b="b"/>
              <a:pathLst>
                <a:path w="307" h="151">
                  <a:moveTo>
                    <a:pt x="307" y="15"/>
                  </a:moveTo>
                  <a:lnTo>
                    <a:pt x="307" y="137"/>
                  </a:lnTo>
                  <a:lnTo>
                    <a:pt x="276" y="151"/>
                  </a:lnTo>
                  <a:lnTo>
                    <a:pt x="76" y="138"/>
                  </a:lnTo>
                  <a:lnTo>
                    <a:pt x="0" y="0"/>
                  </a:lnTo>
                  <a:lnTo>
                    <a:pt x="289" y="0"/>
                  </a:lnTo>
                  <a:lnTo>
                    <a:pt x="30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155920" y="5680080"/>
              <a:ext cx="12240" cy="31680"/>
            </a:xfrm>
            <a:custGeom>
              <a:avLst/>
              <a:gdLst/>
              <a:ahLst/>
              <a:rect l="l" t="t" r="r" b="b"/>
              <a:pathLst>
                <a:path w="40" h="107">
                  <a:moveTo>
                    <a:pt x="40" y="13"/>
                  </a:moveTo>
                  <a:lnTo>
                    <a:pt x="40" y="95"/>
                  </a:lnTo>
                  <a:lnTo>
                    <a:pt x="25" y="107"/>
                  </a:lnTo>
                  <a:lnTo>
                    <a:pt x="0" y="107"/>
                  </a:lnTo>
                  <a:lnTo>
                    <a:pt x="0" y="0"/>
                  </a:lnTo>
                  <a:lnTo>
                    <a:pt x="21" y="0"/>
                  </a:lnTo>
                  <a:lnTo>
                    <a:pt x="4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128920" y="5680080"/>
              <a:ext cx="20160" cy="324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128920" y="5689800"/>
              <a:ext cx="20160" cy="144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128920" y="5699160"/>
              <a:ext cx="20160" cy="324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128920" y="5710320"/>
              <a:ext cx="20160" cy="144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805280" y="5484960"/>
              <a:ext cx="120240" cy="120600"/>
            </a:xfrm>
            <a:custGeom>
              <a:avLst/>
              <a:gdLst/>
              <a:ahLst/>
              <a:rect l="l" t="t" r="r" b="b"/>
              <a:pathLst>
                <a:path w="357" h="397">
                  <a:moveTo>
                    <a:pt x="30" y="0"/>
                  </a:moveTo>
                  <a:lnTo>
                    <a:pt x="17" y="2"/>
                  </a:lnTo>
                  <a:lnTo>
                    <a:pt x="6" y="6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0" y="313"/>
                  </a:lnTo>
                  <a:lnTo>
                    <a:pt x="1" y="328"/>
                  </a:lnTo>
                  <a:lnTo>
                    <a:pt x="6" y="339"/>
                  </a:lnTo>
                  <a:lnTo>
                    <a:pt x="14" y="345"/>
                  </a:lnTo>
                  <a:lnTo>
                    <a:pt x="32" y="350"/>
                  </a:lnTo>
                  <a:lnTo>
                    <a:pt x="337" y="397"/>
                  </a:lnTo>
                  <a:lnTo>
                    <a:pt x="345" y="397"/>
                  </a:lnTo>
                  <a:lnTo>
                    <a:pt x="352" y="395"/>
                  </a:lnTo>
                  <a:lnTo>
                    <a:pt x="357" y="381"/>
                  </a:lnTo>
                  <a:lnTo>
                    <a:pt x="357" y="43"/>
                  </a:lnTo>
                  <a:lnTo>
                    <a:pt x="356" y="28"/>
                  </a:lnTo>
                  <a:lnTo>
                    <a:pt x="350" y="21"/>
                  </a:lnTo>
                  <a:lnTo>
                    <a:pt x="336" y="15"/>
                  </a:lnTo>
                  <a:lnTo>
                    <a:pt x="323" y="1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468680" y="5484960"/>
              <a:ext cx="290160" cy="118800"/>
            </a:xfrm>
            <a:custGeom>
              <a:avLst/>
              <a:gdLst/>
              <a:ahLst/>
              <a:rect l="l" t="t" r="r" b="b"/>
              <a:pathLst>
                <a:path w="861" h="395">
                  <a:moveTo>
                    <a:pt x="838" y="0"/>
                  </a:moveTo>
                  <a:lnTo>
                    <a:pt x="861" y="21"/>
                  </a:lnTo>
                  <a:lnTo>
                    <a:pt x="861" y="378"/>
                  </a:lnTo>
                  <a:lnTo>
                    <a:pt x="830" y="395"/>
                  </a:lnTo>
                  <a:lnTo>
                    <a:pt x="17" y="395"/>
                  </a:lnTo>
                  <a:lnTo>
                    <a:pt x="0" y="378"/>
                  </a:lnTo>
                  <a:lnTo>
                    <a:pt x="0" y="21"/>
                  </a:lnTo>
                  <a:lnTo>
                    <a:pt x="26" y="0"/>
                  </a:lnTo>
                  <a:lnTo>
                    <a:pt x="83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468680" y="5484960"/>
              <a:ext cx="290160" cy="118800"/>
            </a:xfrm>
            <a:custGeom>
              <a:avLst/>
              <a:gdLst/>
              <a:ahLst/>
              <a:rect l="l" t="t" r="r" b="b"/>
              <a:pathLst>
                <a:path w="861" h="395">
                  <a:moveTo>
                    <a:pt x="838" y="0"/>
                  </a:moveTo>
                  <a:lnTo>
                    <a:pt x="861" y="21"/>
                  </a:lnTo>
                  <a:lnTo>
                    <a:pt x="861" y="378"/>
                  </a:lnTo>
                  <a:lnTo>
                    <a:pt x="830" y="395"/>
                  </a:lnTo>
                  <a:lnTo>
                    <a:pt x="17" y="395"/>
                  </a:lnTo>
                  <a:lnTo>
                    <a:pt x="0" y="378"/>
                  </a:lnTo>
                  <a:lnTo>
                    <a:pt x="0" y="21"/>
                  </a:lnTo>
                  <a:lnTo>
                    <a:pt x="26" y="0"/>
                  </a:lnTo>
                  <a:lnTo>
                    <a:pt x="83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076640" y="5484960"/>
              <a:ext cx="366120" cy="120600"/>
            </a:xfrm>
            <a:custGeom>
              <a:avLst/>
              <a:gdLst/>
              <a:ahLst/>
              <a:rect l="l" t="t" r="r" b="b"/>
              <a:pathLst>
                <a:path w="1092" h="397">
                  <a:moveTo>
                    <a:pt x="1070" y="1"/>
                  </a:moveTo>
                  <a:lnTo>
                    <a:pt x="1092" y="22"/>
                  </a:lnTo>
                  <a:lnTo>
                    <a:pt x="1092" y="379"/>
                  </a:lnTo>
                  <a:lnTo>
                    <a:pt x="1062" y="397"/>
                  </a:lnTo>
                  <a:lnTo>
                    <a:pt x="30" y="397"/>
                  </a:lnTo>
                  <a:lnTo>
                    <a:pt x="0" y="382"/>
                  </a:lnTo>
                  <a:lnTo>
                    <a:pt x="0" y="15"/>
                  </a:lnTo>
                  <a:lnTo>
                    <a:pt x="30" y="0"/>
                  </a:lnTo>
                  <a:lnTo>
                    <a:pt x="1062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076640" y="5484960"/>
              <a:ext cx="366120" cy="120600"/>
            </a:xfrm>
            <a:custGeom>
              <a:avLst/>
              <a:gdLst/>
              <a:ahLst/>
              <a:rect l="l" t="t" r="r" b="b"/>
              <a:pathLst>
                <a:path w="1092" h="397">
                  <a:moveTo>
                    <a:pt x="1070" y="1"/>
                  </a:moveTo>
                  <a:lnTo>
                    <a:pt x="1092" y="22"/>
                  </a:lnTo>
                  <a:lnTo>
                    <a:pt x="1092" y="379"/>
                  </a:lnTo>
                  <a:lnTo>
                    <a:pt x="1062" y="397"/>
                  </a:lnTo>
                  <a:lnTo>
                    <a:pt x="30" y="397"/>
                  </a:lnTo>
                  <a:lnTo>
                    <a:pt x="0" y="382"/>
                  </a:lnTo>
                  <a:lnTo>
                    <a:pt x="0" y="15"/>
                  </a:lnTo>
                  <a:lnTo>
                    <a:pt x="30" y="0"/>
                  </a:lnTo>
                  <a:lnTo>
                    <a:pt x="1062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992400" y="5450040"/>
              <a:ext cx="1007640" cy="15840"/>
            </a:xfrm>
            <a:custGeom>
              <a:avLst/>
              <a:gdLst/>
              <a:ahLst/>
              <a:rect l="l" t="t" r="r" b="b"/>
              <a:pathLst>
                <a:path w="2996" h="52">
                  <a:moveTo>
                    <a:pt x="0" y="0"/>
                  </a:moveTo>
                  <a:lnTo>
                    <a:pt x="2460" y="12"/>
                  </a:lnTo>
                  <a:lnTo>
                    <a:pt x="2891" y="43"/>
                  </a:lnTo>
                  <a:lnTo>
                    <a:pt x="2996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992400" y="5443560"/>
              <a:ext cx="991800" cy="12600"/>
            </a:xfrm>
            <a:custGeom>
              <a:avLst/>
              <a:gdLst/>
              <a:ahLst/>
              <a:rect l="l" t="t" r="r" b="b"/>
              <a:pathLst>
                <a:path w="2948" h="43">
                  <a:moveTo>
                    <a:pt x="0" y="0"/>
                  </a:moveTo>
                  <a:lnTo>
                    <a:pt x="2460" y="14"/>
                  </a:lnTo>
                  <a:lnTo>
                    <a:pt x="2892" y="43"/>
                  </a:lnTo>
                  <a:lnTo>
                    <a:pt x="2948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932000" y="5489640"/>
              <a:ext cx="64800" cy="123840"/>
            </a:xfrm>
            <a:custGeom>
              <a:avLst/>
              <a:gdLst/>
              <a:ahLst/>
              <a:rect l="l" t="t" r="r" b="b"/>
              <a:pathLst>
                <a:path w="191" h="413">
                  <a:moveTo>
                    <a:pt x="51" y="3"/>
                  </a:moveTo>
                  <a:lnTo>
                    <a:pt x="40" y="2"/>
                  </a:lnTo>
                  <a:lnTo>
                    <a:pt x="14" y="0"/>
                  </a:lnTo>
                  <a:lnTo>
                    <a:pt x="3" y="6"/>
                  </a:lnTo>
                  <a:lnTo>
                    <a:pt x="0" y="28"/>
                  </a:lnTo>
                  <a:lnTo>
                    <a:pt x="0" y="367"/>
                  </a:lnTo>
                  <a:lnTo>
                    <a:pt x="3" y="380"/>
                  </a:lnTo>
                  <a:lnTo>
                    <a:pt x="14" y="389"/>
                  </a:lnTo>
                  <a:lnTo>
                    <a:pt x="159" y="413"/>
                  </a:lnTo>
                  <a:lnTo>
                    <a:pt x="172" y="412"/>
                  </a:lnTo>
                  <a:lnTo>
                    <a:pt x="182" y="407"/>
                  </a:lnTo>
                  <a:lnTo>
                    <a:pt x="188" y="396"/>
                  </a:lnTo>
                  <a:lnTo>
                    <a:pt x="191" y="382"/>
                  </a:lnTo>
                  <a:lnTo>
                    <a:pt x="191" y="275"/>
                  </a:lnTo>
                  <a:lnTo>
                    <a:pt x="64" y="16"/>
                  </a:lnTo>
                  <a:lnTo>
                    <a:pt x="5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794120" y="5478480"/>
              <a:ext cx="340920" cy="171360"/>
            </a:xfrm>
            <a:custGeom>
              <a:avLst/>
              <a:gdLst/>
              <a:ahLst/>
              <a:rect l="l" t="t" r="r" b="b"/>
              <a:pathLst>
                <a:path w="1017" h="573">
                  <a:moveTo>
                    <a:pt x="451" y="20"/>
                  </a:moveTo>
                  <a:lnTo>
                    <a:pt x="39" y="0"/>
                  </a:lnTo>
                  <a:lnTo>
                    <a:pt x="27" y="2"/>
                  </a:lnTo>
                  <a:lnTo>
                    <a:pt x="10" y="10"/>
                  </a:lnTo>
                  <a:lnTo>
                    <a:pt x="2" y="25"/>
                  </a:lnTo>
                  <a:lnTo>
                    <a:pt x="0" y="44"/>
                  </a:lnTo>
                  <a:lnTo>
                    <a:pt x="0" y="341"/>
                  </a:lnTo>
                  <a:lnTo>
                    <a:pt x="3" y="362"/>
                  </a:lnTo>
                  <a:lnTo>
                    <a:pt x="18" y="393"/>
                  </a:lnTo>
                  <a:lnTo>
                    <a:pt x="44" y="412"/>
                  </a:lnTo>
                  <a:lnTo>
                    <a:pt x="78" y="420"/>
                  </a:lnTo>
                  <a:lnTo>
                    <a:pt x="1017" y="5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976560" y="5700600"/>
              <a:ext cx="1039320" cy="60480"/>
            </a:xfrm>
            <a:custGeom>
              <a:avLst/>
              <a:gdLst/>
              <a:ahLst/>
              <a:rect l="l" t="t" r="r" b="b"/>
              <a:pathLst>
                <a:path w="3092" h="199">
                  <a:moveTo>
                    <a:pt x="0" y="169"/>
                  </a:moveTo>
                  <a:lnTo>
                    <a:pt x="445" y="169"/>
                  </a:lnTo>
                  <a:lnTo>
                    <a:pt x="458" y="134"/>
                  </a:lnTo>
                  <a:lnTo>
                    <a:pt x="478" y="100"/>
                  </a:lnTo>
                  <a:lnTo>
                    <a:pt x="507" y="66"/>
                  </a:lnTo>
                  <a:lnTo>
                    <a:pt x="539" y="49"/>
                  </a:lnTo>
                  <a:lnTo>
                    <a:pt x="623" y="25"/>
                  </a:lnTo>
                  <a:lnTo>
                    <a:pt x="706" y="18"/>
                  </a:lnTo>
                  <a:lnTo>
                    <a:pt x="791" y="25"/>
                  </a:lnTo>
                  <a:lnTo>
                    <a:pt x="871" y="44"/>
                  </a:lnTo>
                  <a:lnTo>
                    <a:pt x="918" y="65"/>
                  </a:lnTo>
                  <a:lnTo>
                    <a:pt x="953" y="96"/>
                  </a:lnTo>
                  <a:lnTo>
                    <a:pt x="978" y="126"/>
                  </a:lnTo>
                  <a:lnTo>
                    <a:pt x="1005" y="169"/>
                  </a:lnTo>
                  <a:lnTo>
                    <a:pt x="2784" y="199"/>
                  </a:lnTo>
                  <a:lnTo>
                    <a:pt x="2825" y="136"/>
                  </a:lnTo>
                  <a:lnTo>
                    <a:pt x="2878" y="83"/>
                  </a:lnTo>
                  <a:lnTo>
                    <a:pt x="2938" y="42"/>
                  </a:lnTo>
                  <a:lnTo>
                    <a:pt x="3009" y="14"/>
                  </a:lnTo>
                  <a:lnTo>
                    <a:pt x="3083" y="0"/>
                  </a:lnTo>
                  <a:lnTo>
                    <a:pt x="309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5103360" y="5751360"/>
              <a:ext cx="63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4024080" y="5751000"/>
              <a:ext cx="108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4898880" y="5761080"/>
              <a:ext cx="2016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06880" y="5562720"/>
              <a:ext cx="16920" cy="42840"/>
            </a:xfrm>
            <a:custGeom>
              <a:avLst/>
              <a:gdLst/>
              <a:ahLst/>
              <a:rect l="l" t="t" r="r" b="b"/>
              <a:pathLst>
                <a:path w="51" h="138">
                  <a:moveTo>
                    <a:pt x="51" y="15"/>
                  </a:moveTo>
                  <a:lnTo>
                    <a:pt x="43" y="123"/>
                  </a:lnTo>
                  <a:lnTo>
                    <a:pt x="30" y="138"/>
                  </a:lnTo>
                  <a:lnTo>
                    <a:pt x="0" y="123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37" y="0"/>
                  </a:lnTo>
                  <a:lnTo>
                    <a:pt x="5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001760" y="5865840"/>
              <a:ext cx="1230120" cy="1440"/>
            </a:xfrm>
            <a:custGeom>
              <a:avLst/>
              <a:gdLst/>
              <a:ahLst/>
              <a:rect l="l" t="t" r="r" b="b"/>
              <a:pathLst>
                <a:path w="3657" h="0">
                  <a:moveTo>
                    <a:pt x="0" y="0"/>
                  </a:moveTo>
                  <a:lnTo>
                    <a:pt x="3657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762120" y="3582720"/>
            <a:ext cx="2222280" cy="1751400"/>
            <a:chOff x="762120" y="3582720"/>
            <a:chExt cx="2222280" cy="1751400"/>
          </a:xfrm>
        </p:grpSpPr>
        <p:sp>
          <p:nvSpPr>
            <p:cNvPr id="1329" name=""/>
            <p:cNvSpPr/>
            <p:nvPr/>
          </p:nvSpPr>
          <p:spPr>
            <a:xfrm>
              <a:off x="762120" y="3657600"/>
              <a:ext cx="2206440" cy="1676520"/>
            </a:xfrm>
            <a:custGeom>
              <a:avLst/>
              <a:gdLst/>
              <a:ahLst/>
              <a:rect l="l" t="t" r="r" b="b"/>
              <a:pathLst>
                <a:path w="1429" h="1113">
                  <a:moveTo>
                    <a:pt x="620" y="1076"/>
                  </a:moveTo>
                  <a:lnTo>
                    <a:pt x="561" y="1029"/>
                  </a:lnTo>
                  <a:lnTo>
                    <a:pt x="530" y="978"/>
                  </a:lnTo>
                  <a:lnTo>
                    <a:pt x="513" y="874"/>
                  </a:lnTo>
                  <a:lnTo>
                    <a:pt x="497" y="758"/>
                  </a:lnTo>
                  <a:lnTo>
                    <a:pt x="468" y="698"/>
                  </a:lnTo>
                  <a:lnTo>
                    <a:pt x="414" y="635"/>
                  </a:lnTo>
                  <a:lnTo>
                    <a:pt x="347" y="585"/>
                  </a:lnTo>
                  <a:lnTo>
                    <a:pt x="276" y="554"/>
                  </a:lnTo>
                  <a:lnTo>
                    <a:pt x="140" y="520"/>
                  </a:lnTo>
                  <a:lnTo>
                    <a:pt x="35" y="502"/>
                  </a:lnTo>
                  <a:lnTo>
                    <a:pt x="0" y="469"/>
                  </a:lnTo>
                  <a:lnTo>
                    <a:pt x="30" y="469"/>
                  </a:lnTo>
                  <a:lnTo>
                    <a:pt x="218" y="424"/>
                  </a:lnTo>
                  <a:lnTo>
                    <a:pt x="355" y="383"/>
                  </a:lnTo>
                  <a:lnTo>
                    <a:pt x="457" y="341"/>
                  </a:lnTo>
                  <a:lnTo>
                    <a:pt x="545" y="296"/>
                  </a:lnTo>
                  <a:lnTo>
                    <a:pt x="726" y="184"/>
                  </a:lnTo>
                  <a:lnTo>
                    <a:pt x="856" y="114"/>
                  </a:lnTo>
                  <a:lnTo>
                    <a:pt x="1034" y="28"/>
                  </a:lnTo>
                  <a:lnTo>
                    <a:pt x="1067" y="6"/>
                  </a:lnTo>
                  <a:lnTo>
                    <a:pt x="1094" y="0"/>
                  </a:lnTo>
                  <a:lnTo>
                    <a:pt x="1194" y="48"/>
                  </a:lnTo>
                  <a:lnTo>
                    <a:pt x="1277" y="115"/>
                  </a:lnTo>
                  <a:lnTo>
                    <a:pt x="1343" y="195"/>
                  </a:lnTo>
                  <a:lnTo>
                    <a:pt x="1391" y="288"/>
                  </a:lnTo>
                  <a:lnTo>
                    <a:pt x="1420" y="390"/>
                  </a:lnTo>
                  <a:lnTo>
                    <a:pt x="1429" y="502"/>
                  </a:lnTo>
                  <a:lnTo>
                    <a:pt x="1419" y="621"/>
                  </a:lnTo>
                  <a:lnTo>
                    <a:pt x="1389" y="744"/>
                  </a:lnTo>
                  <a:lnTo>
                    <a:pt x="1357" y="823"/>
                  </a:lnTo>
                  <a:lnTo>
                    <a:pt x="1319" y="884"/>
                  </a:lnTo>
                  <a:lnTo>
                    <a:pt x="1223" y="965"/>
                  </a:lnTo>
                  <a:lnTo>
                    <a:pt x="1083" y="1018"/>
                  </a:lnTo>
                  <a:lnTo>
                    <a:pt x="887" y="1076"/>
                  </a:lnTo>
                  <a:lnTo>
                    <a:pt x="802" y="1101"/>
                  </a:lnTo>
                  <a:lnTo>
                    <a:pt x="741" y="1113"/>
                  </a:lnTo>
                  <a:lnTo>
                    <a:pt x="686" y="1106"/>
                  </a:lnTo>
                  <a:lnTo>
                    <a:pt x="620" y="1076"/>
                  </a:lnTo>
                  <a:lnTo>
                    <a:pt x="620" y="1076"/>
                  </a:lnTo>
                </a:path>
              </a:pathLst>
            </a:custGeom>
            <a:solidFill>
              <a:srgbClr val="fafd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rot="20088000">
              <a:off x="1293480" y="3885840"/>
              <a:ext cx="15998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Confidential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5029200" y="3254400"/>
            <a:ext cx="1752480" cy="1523880"/>
            <a:chOff x="5029200" y="3254400"/>
            <a:chExt cx="1752480" cy="1523880"/>
          </a:xfrm>
        </p:grpSpPr>
        <p:grpSp>
          <p:nvGrpSpPr>
            <p:cNvPr id="1332" name=""/>
            <p:cNvGrpSpPr/>
            <p:nvPr/>
          </p:nvGrpSpPr>
          <p:grpSpPr>
            <a:xfrm>
              <a:off x="5029200" y="3254400"/>
              <a:ext cx="1752480" cy="1523880"/>
              <a:chOff x="5029200" y="3254400"/>
              <a:chExt cx="1752480" cy="1523880"/>
            </a:xfrm>
          </p:grpSpPr>
          <p:sp>
            <p:nvSpPr>
              <p:cNvPr id="1333" name=""/>
              <p:cNvSpPr/>
              <p:nvPr/>
            </p:nvSpPr>
            <p:spPr>
              <a:xfrm>
                <a:off x="5029200" y="3254400"/>
                <a:ext cx="1752480" cy="1523880"/>
              </a:xfrm>
              <a:prstGeom prst="wedgeRectCallout">
                <a:avLst>
                  <a:gd name="adj1" fmla="val -46375"/>
                  <a:gd name="adj2" fmla="val 94166"/>
                </a:avLst>
              </a:prstGeom>
              <a:solidFill>
                <a:srgbClr val="faf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181480" y="3330720"/>
                <a:ext cx="1498680" cy="1433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35" name="" descr=""/>
            <p:cNvPicPr/>
            <p:nvPr/>
          </p:nvPicPr>
          <p:blipFill>
            <a:blip r:embed="rId3"/>
            <a:stretch/>
          </p:blipFill>
          <p:spPr>
            <a:xfrm>
              <a:off x="5562720" y="3559320"/>
              <a:ext cx="736560" cy="73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6" name=""/>
          <p:cNvGrpSpPr/>
          <p:nvPr/>
        </p:nvGrpSpPr>
        <p:grpSpPr>
          <a:xfrm>
            <a:off x="3124080" y="3711600"/>
            <a:ext cx="1752840" cy="1523880"/>
            <a:chOff x="3124080" y="3711600"/>
            <a:chExt cx="1752840" cy="1523880"/>
          </a:xfrm>
        </p:grpSpPr>
        <p:sp>
          <p:nvSpPr>
            <p:cNvPr id="1337" name=""/>
            <p:cNvSpPr/>
            <p:nvPr/>
          </p:nvSpPr>
          <p:spPr>
            <a:xfrm>
              <a:off x="3124080" y="3711600"/>
              <a:ext cx="1752840" cy="1523880"/>
            </a:xfrm>
            <a:prstGeom prst="wedgeRectCallout">
              <a:avLst>
                <a:gd name="adj1" fmla="val 29981"/>
                <a:gd name="adj2" fmla="val 74374"/>
              </a:avLst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8" name="" descr=""/>
            <p:cNvPicPr/>
            <p:nvPr/>
          </p:nvPicPr>
          <p:blipFill>
            <a:blip r:embed="rId4"/>
            <a:stretch/>
          </p:blipFill>
          <p:spPr>
            <a:xfrm>
              <a:off x="3276720" y="3787920"/>
              <a:ext cx="1498320" cy="14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9" name="" descr=""/>
            <p:cNvPicPr/>
            <p:nvPr/>
          </p:nvPicPr>
          <p:blipFill>
            <a:blip r:embed="rId5"/>
            <a:stretch/>
          </p:blipFill>
          <p:spPr>
            <a:xfrm>
              <a:off x="3657600" y="4016520"/>
              <a:ext cx="736560" cy="73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0" name=""/>
          <p:cNvGrpSpPr/>
          <p:nvPr/>
        </p:nvGrpSpPr>
        <p:grpSpPr>
          <a:xfrm>
            <a:off x="6400800" y="4919760"/>
            <a:ext cx="1722240" cy="1176120"/>
            <a:chOff x="6400800" y="4919760"/>
            <a:chExt cx="1722240" cy="1176120"/>
          </a:xfrm>
        </p:grpSpPr>
        <p:sp>
          <p:nvSpPr>
            <p:cNvPr id="1341" name=""/>
            <p:cNvSpPr/>
            <p:nvPr/>
          </p:nvSpPr>
          <p:spPr>
            <a:xfrm>
              <a:off x="6402600" y="5437080"/>
              <a:ext cx="1716840" cy="658800"/>
            </a:xfrm>
            <a:custGeom>
              <a:avLst/>
              <a:gdLst/>
              <a:ahLst/>
              <a:rect l="l" t="t" r="r" b="b"/>
              <a:pathLst>
                <a:path w="5407" h="2077">
                  <a:moveTo>
                    <a:pt x="0" y="1861"/>
                  </a:moveTo>
                  <a:lnTo>
                    <a:pt x="5407" y="0"/>
                  </a:lnTo>
                  <a:lnTo>
                    <a:pt x="5407" y="129"/>
                  </a:lnTo>
                  <a:lnTo>
                    <a:pt x="0" y="2077"/>
                  </a:lnTo>
                  <a:lnTo>
                    <a:pt x="0" y="1861"/>
                  </a:lnTo>
                  <a:close/>
                </a:path>
              </a:pathLst>
            </a:custGeom>
            <a:solidFill>
              <a:srgbClr val="80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402600" y="5437080"/>
              <a:ext cx="1716840" cy="658800"/>
            </a:xfrm>
            <a:custGeom>
              <a:avLst/>
              <a:gdLst/>
              <a:ahLst/>
              <a:rect l="l" t="t" r="r" b="b"/>
              <a:pathLst>
                <a:path w="5407" h="2077">
                  <a:moveTo>
                    <a:pt x="0" y="1861"/>
                  </a:moveTo>
                  <a:lnTo>
                    <a:pt x="5407" y="0"/>
                  </a:lnTo>
                  <a:lnTo>
                    <a:pt x="5407" y="129"/>
                  </a:lnTo>
                  <a:lnTo>
                    <a:pt x="0" y="2077"/>
                  </a:lnTo>
                  <a:lnTo>
                    <a:pt x="0" y="1861"/>
                  </a:lnTo>
                  <a:lnTo>
                    <a:pt x="0" y="18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02600" y="5337360"/>
              <a:ext cx="1716840" cy="689760"/>
            </a:xfrm>
            <a:custGeom>
              <a:avLst/>
              <a:gdLst/>
              <a:ahLst/>
              <a:rect l="l" t="t" r="r" b="b"/>
              <a:pathLst>
                <a:path w="5407" h="2176">
                  <a:moveTo>
                    <a:pt x="0" y="2176"/>
                  </a:moveTo>
                  <a:lnTo>
                    <a:pt x="5407" y="315"/>
                  </a:lnTo>
                  <a:lnTo>
                    <a:pt x="3516" y="0"/>
                  </a:lnTo>
                  <a:lnTo>
                    <a:pt x="0" y="860"/>
                  </a:lnTo>
                  <a:lnTo>
                    <a:pt x="0" y="2176"/>
                  </a:lnTo>
                  <a:close/>
                </a:path>
              </a:pathLst>
            </a:custGeom>
            <a:solidFill>
              <a:srgbClr val="cca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402600" y="5337360"/>
              <a:ext cx="1716840" cy="689760"/>
            </a:xfrm>
            <a:custGeom>
              <a:avLst/>
              <a:gdLst/>
              <a:ahLst/>
              <a:rect l="l" t="t" r="r" b="b"/>
              <a:pathLst>
                <a:path w="5407" h="2176">
                  <a:moveTo>
                    <a:pt x="0" y="2176"/>
                  </a:moveTo>
                  <a:lnTo>
                    <a:pt x="5407" y="315"/>
                  </a:lnTo>
                  <a:lnTo>
                    <a:pt x="3516" y="0"/>
                  </a:lnTo>
                  <a:lnTo>
                    <a:pt x="0" y="860"/>
                  </a:lnTo>
                  <a:lnTo>
                    <a:pt x="0" y="2176"/>
                  </a:lnTo>
                  <a:lnTo>
                    <a:pt x="0" y="21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402600" y="5085360"/>
              <a:ext cx="1716840" cy="396000"/>
            </a:xfrm>
            <a:custGeom>
              <a:avLst/>
              <a:gdLst/>
              <a:ahLst/>
              <a:rect l="l" t="t" r="r" b="b"/>
              <a:pathLst>
                <a:path w="5407" h="1248">
                  <a:moveTo>
                    <a:pt x="0" y="1105"/>
                  </a:moveTo>
                  <a:lnTo>
                    <a:pt x="5407" y="0"/>
                  </a:lnTo>
                  <a:lnTo>
                    <a:pt x="5407" y="87"/>
                  </a:lnTo>
                  <a:lnTo>
                    <a:pt x="0" y="1248"/>
                  </a:lnTo>
                  <a:lnTo>
                    <a:pt x="0" y="1105"/>
                  </a:lnTo>
                  <a:close/>
                </a:path>
              </a:pathLst>
            </a:custGeom>
            <a:solidFill>
              <a:srgbClr val="80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402960" y="5083920"/>
              <a:ext cx="1720080" cy="353520"/>
            </a:xfrm>
            <a:custGeom>
              <a:avLst/>
              <a:gdLst/>
              <a:ahLst/>
              <a:rect l="l" t="t" r="r" b="b"/>
              <a:pathLst>
                <a:path w="5417" h="1113">
                  <a:moveTo>
                    <a:pt x="5417" y="4"/>
                  </a:moveTo>
                  <a:lnTo>
                    <a:pt x="5407" y="0"/>
                  </a:lnTo>
                  <a:lnTo>
                    <a:pt x="0" y="1105"/>
                  </a:lnTo>
                  <a:lnTo>
                    <a:pt x="2" y="1113"/>
                  </a:lnTo>
                  <a:lnTo>
                    <a:pt x="5409" y="8"/>
                  </a:lnTo>
                  <a:lnTo>
                    <a:pt x="5401" y="4"/>
                  </a:lnTo>
                  <a:lnTo>
                    <a:pt x="5413" y="8"/>
                  </a:lnTo>
                  <a:lnTo>
                    <a:pt x="5417" y="6"/>
                  </a:lnTo>
                  <a:lnTo>
                    <a:pt x="5417" y="4"/>
                  </a:lnTo>
                  <a:lnTo>
                    <a:pt x="5413" y="0"/>
                  </a:lnTo>
                  <a:lnTo>
                    <a:pt x="5405" y="0"/>
                  </a:lnTo>
                  <a:lnTo>
                    <a:pt x="54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400800" y="5112720"/>
              <a:ext cx="1720800" cy="370440"/>
            </a:xfrm>
            <a:custGeom>
              <a:avLst/>
              <a:gdLst/>
              <a:ahLst/>
              <a:rect l="l" t="t" r="r" b="b"/>
              <a:pathLst>
                <a:path w="5419" h="1169">
                  <a:moveTo>
                    <a:pt x="0" y="1165"/>
                  </a:moveTo>
                  <a:lnTo>
                    <a:pt x="12" y="1169"/>
                  </a:lnTo>
                  <a:lnTo>
                    <a:pt x="5419" y="8"/>
                  </a:lnTo>
                  <a:lnTo>
                    <a:pt x="5413" y="0"/>
                  </a:lnTo>
                  <a:lnTo>
                    <a:pt x="4" y="1161"/>
                  </a:lnTo>
                  <a:lnTo>
                    <a:pt x="16" y="1165"/>
                  </a:lnTo>
                  <a:lnTo>
                    <a:pt x="4" y="1161"/>
                  </a:lnTo>
                  <a:lnTo>
                    <a:pt x="0" y="1163"/>
                  </a:lnTo>
                  <a:lnTo>
                    <a:pt x="2" y="1167"/>
                  </a:lnTo>
                  <a:lnTo>
                    <a:pt x="4" y="1169"/>
                  </a:lnTo>
                  <a:lnTo>
                    <a:pt x="12" y="1169"/>
                  </a:lnTo>
                  <a:lnTo>
                    <a:pt x="0" y="1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400800" y="5435640"/>
              <a:ext cx="5040" cy="45720"/>
            </a:xfrm>
            <a:custGeom>
              <a:avLst/>
              <a:gdLst/>
              <a:ahLst/>
              <a:rect l="l" t="t" r="r" b="b"/>
              <a:pathLst>
                <a:path w="16" h="145">
                  <a:moveTo>
                    <a:pt x="8" y="0"/>
                  </a:moveTo>
                  <a:lnTo>
                    <a:pt x="0" y="4"/>
                  </a:lnTo>
                  <a:lnTo>
                    <a:pt x="0" y="145"/>
                  </a:lnTo>
                  <a:lnTo>
                    <a:pt x="16" y="145"/>
                  </a:lnTo>
                  <a:lnTo>
                    <a:pt x="16" y="4"/>
                  </a:lnTo>
                  <a:lnTo>
                    <a:pt x="8" y="8"/>
                  </a:lnTo>
                  <a:lnTo>
                    <a:pt x="16" y="4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402600" y="5067720"/>
              <a:ext cx="1716840" cy="369360"/>
            </a:xfrm>
            <a:custGeom>
              <a:avLst/>
              <a:gdLst/>
              <a:ahLst/>
              <a:rect l="l" t="t" r="r" b="b"/>
              <a:pathLst>
                <a:path w="5407" h="1165">
                  <a:moveTo>
                    <a:pt x="0" y="1165"/>
                  </a:moveTo>
                  <a:lnTo>
                    <a:pt x="5407" y="56"/>
                  </a:lnTo>
                  <a:lnTo>
                    <a:pt x="3516" y="0"/>
                  </a:lnTo>
                  <a:lnTo>
                    <a:pt x="0" y="531"/>
                  </a:lnTo>
                  <a:lnTo>
                    <a:pt x="0" y="1165"/>
                  </a:lnTo>
                  <a:close/>
                </a:path>
              </a:pathLst>
            </a:custGeom>
            <a:solidFill>
              <a:srgbClr val="cca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402960" y="5083560"/>
              <a:ext cx="1720080" cy="354600"/>
            </a:xfrm>
            <a:custGeom>
              <a:avLst/>
              <a:gdLst/>
              <a:ahLst/>
              <a:rect l="l" t="t" r="r" b="b"/>
              <a:pathLst>
                <a:path w="5417" h="1117">
                  <a:moveTo>
                    <a:pt x="5407" y="10"/>
                  </a:moveTo>
                  <a:lnTo>
                    <a:pt x="5407" y="0"/>
                  </a:lnTo>
                  <a:lnTo>
                    <a:pt x="0" y="1109"/>
                  </a:lnTo>
                  <a:lnTo>
                    <a:pt x="2" y="1117"/>
                  </a:lnTo>
                  <a:lnTo>
                    <a:pt x="5409" y="10"/>
                  </a:lnTo>
                  <a:lnTo>
                    <a:pt x="5407" y="0"/>
                  </a:lnTo>
                  <a:lnTo>
                    <a:pt x="5413" y="10"/>
                  </a:lnTo>
                  <a:lnTo>
                    <a:pt x="5417" y="6"/>
                  </a:lnTo>
                  <a:lnTo>
                    <a:pt x="5417" y="2"/>
                  </a:lnTo>
                  <a:lnTo>
                    <a:pt x="5413" y="0"/>
                  </a:lnTo>
                  <a:lnTo>
                    <a:pt x="5405" y="0"/>
                  </a:lnTo>
                  <a:lnTo>
                    <a:pt x="540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516800" y="5067000"/>
              <a:ext cx="602640" cy="19440"/>
            </a:xfrm>
            <a:custGeom>
              <a:avLst/>
              <a:gdLst/>
              <a:ahLst/>
              <a:rect l="l" t="t" r="r" b="b"/>
              <a:pathLst>
                <a:path w="1897" h="64">
                  <a:moveTo>
                    <a:pt x="6" y="8"/>
                  </a:moveTo>
                  <a:lnTo>
                    <a:pt x="1897" y="64"/>
                  </a:lnTo>
                  <a:lnTo>
                    <a:pt x="1897" y="5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6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400800" y="5066280"/>
              <a:ext cx="1119240" cy="170640"/>
            </a:xfrm>
            <a:custGeom>
              <a:avLst/>
              <a:gdLst/>
              <a:ahLst/>
              <a:rect l="l" t="t" r="r" b="b"/>
              <a:pathLst>
                <a:path w="3526" h="539">
                  <a:moveTo>
                    <a:pt x="16" y="535"/>
                  </a:moveTo>
                  <a:lnTo>
                    <a:pt x="10" y="539"/>
                  </a:lnTo>
                  <a:lnTo>
                    <a:pt x="3526" y="10"/>
                  </a:lnTo>
                  <a:lnTo>
                    <a:pt x="3524" y="0"/>
                  </a:lnTo>
                  <a:lnTo>
                    <a:pt x="8" y="531"/>
                  </a:lnTo>
                  <a:lnTo>
                    <a:pt x="0" y="535"/>
                  </a:lnTo>
                  <a:lnTo>
                    <a:pt x="8" y="531"/>
                  </a:lnTo>
                  <a:lnTo>
                    <a:pt x="2" y="533"/>
                  </a:lnTo>
                  <a:lnTo>
                    <a:pt x="2" y="537"/>
                  </a:lnTo>
                  <a:lnTo>
                    <a:pt x="4" y="539"/>
                  </a:lnTo>
                  <a:lnTo>
                    <a:pt x="10" y="539"/>
                  </a:lnTo>
                  <a:lnTo>
                    <a:pt x="16" y="5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400800" y="5235840"/>
              <a:ext cx="5040" cy="202320"/>
            </a:xfrm>
            <a:custGeom>
              <a:avLst/>
              <a:gdLst/>
              <a:ahLst/>
              <a:rect l="l" t="t" r="r" b="b"/>
              <a:pathLst>
                <a:path w="16" h="638">
                  <a:moveTo>
                    <a:pt x="8" y="630"/>
                  </a:moveTo>
                  <a:lnTo>
                    <a:pt x="16" y="63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34"/>
                  </a:lnTo>
                  <a:lnTo>
                    <a:pt x="8" y="638"/>
                  </a:lnTo>
                  <a:lnTo>
                    <a:pt x="0" y="634"/>
                  </a:lnTo>
                  <a:lnTo>
                    <a:pt x="4" y="636"/>
                  </a:lnTo>
                  <a:lnTo>
                    <a:pt x="8" y="638"/>
                  </a:lnTo>
                  <a:lnTo>
                    <a:pt x="14" y="636"/>
                  </a:lnTo>
                  <a:lnTo>
                    <a:pt x="16" y="634"/>
                  </a:lnTo>
                  <a:lnTo>
                    <a:pt x="8" y="6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570720" y="5515200"/>
              <a:ext cx="641520" cy="148320"/>
            </a:xfrm>
            <a:custGeom>
              <a:avLst/>
              <a:gdLst/>
              <a:ahLst/>
              <a:rect l="l" t="t" r="r" b="b"/>
              <a:pathLst>
                <a:path w="2020" h="467">
                  <a:moveTo>
                    <a:pt x="0" y="273"/>
                  </a:moveTo>
                  <a:lnTo>
                    <a:pt x="1060" y="467"/>
                  </a:lnTo>
                  <a:lnTo>
                    <a:pt x="2020" y="164"/>
                  </a:lnTo>
                  <a:lnTo>
                    <a:pt x="1024" y="0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570720" y="5394960"/>
              <a:ext cx="641520" cy="120600"/>
            </a:xfrm>
            <a:custGeom>
              <a:avLst/>
              <a:gdLst/>
              <a:ahLst/>
              <a:rect l="l" t="t" r="r" b="b"/>
              <a:pathLst>
                <a:path w="2020" h="381">
                  <a:moveTo>
                    <a:pt x="0" y="201"/>
                  </a:moveTo>
                  <a:lnTo>
                    <a:pt x="1024" y="0"/>
                  </a:lnTo>
                  <a:lnTo>
                    <a:pt x="2020" y="131"/>
                  </a:lnTo>
                  <a:lnTo>
                    <a:pt x="1060" y="38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df8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570720" y="5458680"/>
              <a:ext cx="335880" cy="201240"/>
            </a:xfrm>
            <a:custGeom>
              <a:avLst/>
              <a:gdLst/>
              <a:ahLst/>
              <a:rect l="l" t="t" r="r" b="b"/>
              <a:pathLst>
                <a:path w="1058" h="634">
                  <a:moveTo>
                    <a:pt x="0" y="0"/>
                  </a:moveTo>
                  <a:lnTo>
                    <a:pt x="1058" y="178"/>
                  </a:lnTo>
                  <a:lnTo>
                    <a:pt x="1058" y="634"/>
                  </a:lnTo>
                  <a:lnTo>
                    <a:pt x="0" y="4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be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906960" y="5435280"/>
              <a:ext cx="305280" cy="223920"/>
            </a:xfrm>
            <a:custGeom>
              <a:avLst/>
              <a:gdLst/>
              <a:ahLst/>
              <a:rect l="l" t="t" r="r" b="b"/>
              <a:pathLst>
                <a:path w="962" h="706">
                  <a:moveTo>
                    <a:pt x="962" y="0"/>
                  </a:moveTo>
                  <a:lnTo>
                    <a:pt x="0" y="250"/>
                  </a:lnTo>
                  <a:lnTo>
                    <a:pt x="0" y="706"/>
                  </a:lnTo>
                  <a:lnTo>
                    <a:pt x="962" y="402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a4a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570720" y="5394960"/>
              <a:ext cx="641520" cy="264600"/>
            </a:xfrm>
            <a:custGeom>
              <a:avLst/>
              <a:gdLst/>
              <a:ahLst/>
              <a:rect l="l" t="t" r="r" b="b"/>
              <a:pathLst>
                <a:path w="2020" h="835">
                  <a:moveTo>
                    <a:pt x="0" y="638"/>
                  </a:moveTo>
                  <a:lnTo>
                    <a:pt x="0" y="199"/>
                  </a:lnTo>
                  <a:lnTo>
                    <a:pt x="1024" y="0"/>
                  </a:lnTo>
                  <a:lnTo>
                    <a:pt x="2020" y="129"/>
                  </a:lnTo>
                  <a:lnTo>
                    <a:pt x="2020" y="531"/>
                  </a:lnTo>
                  <a:lnTo>
                    <a:pt x="1060" y="835"/>
                  </a:lnTo>
                  <a:lnTo>
                    <a:pt x="0" y="638"/>
                  </a:lnTo>
                </a:path>
              </a:pathLst>
            </a:custGeom>
            <a:noFill/>
            <a:ln w="19080">
              <a:solidFill>
                <a:srgbClr val="a4a28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989400" y="5509440"/>
              <a:ext cx="534240" cy="189000"/>
            </a:xfrm>
            <a:custGeom>
              <a:avLst/>
              <a:gdLst/>
              <a:ahLst/>
              <a:rect l="l" t="t" r="r" b="b"/>
              <a:pathLst>
                <a:path w="1684" h="596">
                  <a:moveTo>
                    <a:pt x="0" y="361"/>
                  </a:moveTo>
                  <a:lnTo>
                    <a:pt x="1082" y="0"/>
                  </a:lnTo>
                  <a:lnTo>
                    <a:pt x="1684" y="190"/>
                  </a:lnTo>
                  <a:lnTo>
                    <a:pt x="618" y="596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df8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989400" y="5622840"/>
              <a:ext cx="196200" cy="93240"/>
            </a:xfrm>
            <a:custGeom>
              <a:avLst/>
              <a:gdLst/>
              <a:ahLst/>
              <a:rect l="l" t="t" r="r" b="b"/>
              <a:pathLst>
                <a:path w="618" h="293">
                  <a:moveTo>
                    <a:pt x="0" y="0"/>
                  </a:moveTo>
                  <a:lnTo>
                    <a:pt x="618" y="233"/>
                  </a:lnTo>
                  <a:lnTo>
                    <a:pt x="618" y="293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be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185600" y="5568840"/>
              <a:ext cx="337680" cy="146520"/>
            </a:xfrm>
            <a:custGeom>
              <a:avLst/>
              <a:gdLst/>
              <a:ahLst/>
              <a:rect l="l" t="t" r="r" b="b"/>
              <a:pathLst>
                <a:path w="1066" h="462">
                  <a:moveTo>
                    <a:pt x="0" y="462"/>
                  </a:moveTo>
                  <a:lnTo>
                    <a:pt x="0" y="404"/>
                  </a:lnTo>
                  <a:lnTo>
                    <a:pt x="1066" y="0"/>
                  </a:lnTo>
                  <a:lnTo>
                    <a:pt x="1066" y="42"/>
                  </a:lnTo>
                  <a:lnTo>
                    <a:pt x="0" y="462"/>
                  </a:lnTo>
                  <a:close/>
                </a:path>
              </a:pathLst>
            </a:custGeom>
            <a:solidFill>
              <a:srgbClr val="a4a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989400" y="5509800"/>
              <a:ext cx="534240" cy="207360"/>
            </a:xfrm>
            <a:custGeom>
              <a:avLst/>
              <a:gdLst/>
              <a:ahLst/>
              <a:rect l="l" t="t" r="r" b="b"/>
              <a:pathLst>
                <a:path w="1684" h="654">
                  <a:moveTo>
                    <a:pt x="1082" y="0"/>
                  </a:moveTo>
                  <a:lnTo>
                    <a:pt x="1684" y="192"/>
                  </a:lnTo>
                  <a:lnTo>
                    <a:pt x="1684" y="234"/>
                  </a:lnTo>
                  <a:lnTo>
                    <a:pt x="618" y="654"/>
                  </a:lnTo>
                  <a:lnTo>
                    <a:pt x="0" y="452"/>
                  </a:lnTo>
                  <a:lnTo>
                    <a:pt x="0" y="361"/>
                  </a:lnTo>
                  <a:lnTo>
                    <a:pt x="1082" y="0"/>
                  </a:lnTo>
                </a:path>
              </a:pathLst>
            </a:custGeom>
            <a:noFill/>
            <a:ln w="19080">
              <a:solidFill>
                <a:srgbClr val="a4a28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632280" y="5233320"/>
              <a:ext cx="325800" cy="61200"/>
            </a:xfrm>
            <a:custGeom>
              <a:avLst/>
              <a:gdLst/>
              <a:ahLst/>
              <a:rect l="l" t="t" r="r" b="b"/>
              <a:pathLst>
                <a:path w="1026" h="194">
                  <a:moveTo>
                    <a:pt x="513" y="0"/>
                  </a:moveTo>
                  <a:lnTo>
                    <a:pt x="565" y="0"/>
                  </a:lnTo>
                  <a:lnTo>
                    <a:pt x="616" y="2"/>
                  </a:lnTo>
                  <a:lnTo>
                    <a:pt x="664" y="4"/>
                  </a:lnTo>
                  <a:lnTo>
                    <a:pt x="713" y="6"/>
                  </a:lnTo>
                  <a:lnTo>
                    <a:pt x="755" y="10"/>
                  </a:lnTo>
                  <a:lnTo>
                    <a:pt x="800" y="16"/>
                  </a:lnTo>
                  <a:lnTo>
                    <a:pt x="838" y="24"/>
                  </a:lnTo>
                  <a:lnTo>
                    <a:pt x="874" y="28"/>
                  </a:lnTo>
                  <a:lnTo>
                    <a:pt x="907" y="36"/>
                  </a:lnTo>
                  <a:lnTo>
                    <a:pt x="939" y="44"/>
                  </a:lnTo>
                  <a:lnTo>
                    <a:pt x="963" y="52"/>
                  </a:lnTo>
                  <a:lnTo>
                    <a:pt x="985" y="60"/>
                  </a:lnTo>
                  <a:lnTo>
                    <a:pt x="1002" y="68"/>
                  </a:lnTo>
                  <a:lnTo>
                    <a:pt x="1014" y="78"/>
                  </a:lnTo>
                  <a:lnTo>
                    <a:pt x="1022" y="87"/>
                  </a:lnTo>
                  <a:lnTo>
                    <a:pt x="1026" y="97"/>
                  </a:lnTo>
                  <a:lnTo>
                    <a:pt x="1022" y="107"/>
                  </a:lnTo>
                  <a:lnTo>
                    <a:pt x="1014" y="117"/>
                  </a:lnTo>
                  <a:lnTo>
                    <a:pt x="1002" y="125"/>
                  </a:lnTo>
                  <a:lnTo>
                    <a:pt x="985" y="137"/>
                  </a:lnTo>
                  <a:lnTo>
                    <a:pt x="963" y="145"/>
                  </a:lnTo>
                  <a:lnTo>
                    <a:pt x="939" y="151"/>
                  </a:lnTo>
                  <a:lnTo>
                    <a:pt x="907" y="159"/>
                  </a:lnTo>
                  <a:lnTo>
                    <a:pt x="874" y="167"/>
                  </a:lnTo>
                  <a:lnTo>
                    <a:pt x="838" y="173"/>
                  </a:lnTo>
                  <a:lnTo>
                    <a:pt x="800" y="177"/>
                  </a:lnTo>
                  <a:lnTo>
                    <a:pt x="755" y="183"/>
                  </a:lnTo>
                  <a:lnTo>
                    <a:pt x="713" y="187"/>
                  </a:lnTo>
                  <a:lnTo>
                    <a:pt x="664" y="191"/>
                  </a:lnTo>
                  <a:lnTo>
                    <a:pt x="616" y="194"/>
                  </a:lnTo>
                  <a:lnTo>
                    <a:pt x="565" y="194"/>
                  </a:lnTo>
                  <a:lnTo>
                    <a:pt x="513" y="194"/>
                  </a:lnTo>
                  <a:lnTo>
                    <a:pt x="462" y="194"/>
                  </a:lnTo>
                  <a:lnTo>
                    <a:pt x="410" y="194"/>
                  </a:lnTo>
                  <a:lnTo>
                    <a:pt x="363" y="191"/>
                  </a:lnTo>
                  <a:lnTo>
                    <a:pt x="313" y="187"/>
                  </a:lnTo>
                  <a:lnTo>
                    <a:pt x="272" y="183"/>
                  </a:lnTo>
                  <a:lnTo>
                    <a:pt x="226" y="177"/>
                  </a:lnTo>
                  <a:lnTo>
                    <a:pt x="188" y="173"/>
                  </a:lnTo>
                  <a:lnTo>
                    <a:pt x="153" y="167"/>
                  </a:lnTo>
                  <a:lnTo>
                    <a:pt x="119" y="159"/>
                  </a:lnTo>
                  <a:lnTo>
                    <a:pt x="87" y="151"/>
                  </a:lnTo>
                  <a:lnTo>
                    <a:pt x="64" y="145"/>
                  </a:lnTo>
                  <a:lnTo>
                    <a:pt x="40" y="137"/>
                  </a:lnTo>
                  <a:lnTo>
                    <a:pt x="24" y="125"/>
                  </a:lnTo>
                  <a:lnTo>
                    <a:pt x="10" y="117"/>
                  </a:lnTo>
                  <a:lnTo>
                    <a:pt x="4" y="107"/>
                  </a:lnTo>
                  <a:lnTo>
                    <a:pt x="0" y="97"/>
                  </a:lnTo>
                  <a:lnTo>
                    <a:pt x="4" y="87"/>
                  </a:lnTo>
                  <a:lnTo>
                    <a:pt x="10" y="78"/>
                  </a:lnTo>
                  <a:lnTo>
                    <a:pt x="24" y="68"/>
                  </a:lnTo>
                  <a:lnTo>
                    <a:pt x="40" y="60"/>
                  </a:lnTo>
                  <a:lnTo>
                    <a:pt x="64" y="52"/>
                  </a:lnTo>
                  <a:lnTo>
                    <a:pt x="87" y="44"/>
                  </a:lnTo>
                  <a:lnTo>
                    <a:pt x="119" y="36"/>
                  </a:lnTo>
                  <a:lnTo>
                    <a:pt x="153" y="28"/>
                  </a:lnTo>
                  <a:lnTo>
                    <a:pt x="188" y="24"/>
                  </a:lnTo>
                  <a:lnTo>
                    <a:pt x="226" y="16"/>
                  </a:lnTo>
                  <a:lnTo>
                    <a:pt x="272" y="10"/>
                  </a:lnTo>
                  <a:lnTo>
                    <a:pt x="313" y="6"/>
                  </a:lnTo>
                  <a:lnTo>
                    <a:pt x="363" y="4"/>
                  </a:lnTo>
                  <a:lnTo>
                    <a:pt x="410" y="2"/>
                  </a:lnTo>
                  <a:lnTo>
                    <a:pt x="462" y="0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632280" y="5226120"/>
              <a:ext cx="325800" cy="61560"/>
            </a:xfrm>
            <a:custGeom>
              <a:avLst/>
              <a:gdLst/>
              <a:ahLst/>
              <a:rect l="l" t="t" r="r" b="b"/>
              <a:pathLst>
                <a:path w="1026" h="194">
                  <a:moveTo>
                    <a:pt x="513" y="0"/>
                  </a:moveTo>
                  <a:lnTo>
                    <a:pt x="565" y="0"/>
                  </a:lnTo>
                  <a:lnTo>
                    <a:pt x="616" y="1"/>
                  </a:lnTo>
                  <a:lnTo>
                    <a:pt x="664" y="3"/>
                  </a:lnTo>
                  <a:lnTo>
                    <a:pt x="713" y="5"/>
                  </a:lnTo>
                  <a:lnTo>
                    <a:pt x="755" y="9"/>
                  </a:lnTo>
                  <a:lnTo>
                    <a:pt x="800" y="17"/>
                  </a:lnTo>
                  <a:lnTo>
                    <a:pt x="838" y="23"/>
                  </a:lnTo>
                  <a:lnTo>
                    <a:pt x="874" y="27"/>
                  </a:lnTo>
                  <a:lnTo>
                    <a:pt x="907" y="35"/>
                  </a:lnTo>
                  <a:lnTo>
                    <a:pt x="939" y="43"/>
                  </a:lnTo>
                  <a:lnTo>
                    <a:pt x="963" y="51"/>
                  </a:lnTo>
                  <a:lnTo>
                    <a:pt x="985" y="59"/>
                  </a:lnTo>
                  <a:lnTo>
                    <a:pt x="1002" y="69"/>
                  </a:lnTo>
                  <a:lnTo>
                    <a:pt x="1014" y="79"/>
                  </a:lnTo>
                  <a:lnTo>
                    <a:pt x="1022" y="87"/>
                  </a:lnTo>
                  <a:lnTo>
                    <a:pt x="1026" y="97"/>
                  </a:lnTo>
                  <a:lnTo>
                    <a:pt x="1022" y="107"/>
                  </a:lnTo>
                  <a:lnTo>
                    <a:pt x="1014" y="116"/>
                  </a:lnTo>
                  <a:lnTo>
                    <a:pt x="1002" y="124"/>
                  </a:lnTo>
                  <a:lnTo>
                    <a:pt x="985" y="136"/>
                  </a:lnTo>
                  <a:lnTo>
                    <a:pt x="963" y="144"/>
                  </a:lnTo>
                  <a:lnTo>
                    <a:pt x="939" y="152"/>
                  </a:lnTo>
                  <a:lnTo>
                    <a:pt x="907" y="160"/>
                  </a:lnTo>
                  <a:lnTo>
                    <a:pt x="874" y="166"/>
                  </a:lnTo>
                  <a:lnTo>
                    <a:pt x="838" y="172"/>
                  </a:lnTo>
                  <a:lnTo>
                    <a:pt x="800" y="176"/>
                  </a:lnTo>
                  <a:lnTo>
                    <a:pt x="755" y="184"/>
                  </a:lnTo>
                  <a:lnTo>
                    <a:pt x="713" y="188"/>
                  </a:lnTo>
                  <a:lnTo>
                    <a:pt x="664" y="190"/>
                  </a:lnTo>
                  <a:lnTo>
                    <a:pt x="616" y="194"/>
                  </a:lnTo>
                  <a:lnTo>
                    <a:pt x="565" y="194"/>
                  </a:lnTo>
                  <a:lnTo>
                    <a:pt x="513" y="194"/>
                  </a:lnTo>
                  <a:lnTo>
                    <a:pt x="462" y="194"/>
                  </a:lnTo>
                  <a:lnTo>
                    <a:pt x="410" y="194"/>
                  </a:lnTo>
                  <a:lnTo>
                    <a:pt x="363" y="190"/>
                  </a:lnTo>
                  <a:lnTo>
                    <a:pt x="313" y="188"/>
                  </a:lnTo>
                  <a:lnTo>
                    <a:pt x="272" y="184"/>
                  </a:lnTo>
                  <a:lnTo>
                    <a:pt x="226" y="176"/>
                  </a:lnTo>
                  <a:lnTo>
                    <a:pt x="188" y="172"/>
                  </a:lnTo>
                  <a:lnTo>
                    <a:pt x="153" y="166"/>
                  </a:lnTo>
                  <a:lnTo>
                    <a:pt x="119" y="160"/>
                  </a:lnTo>
                  <a:lnTo>
                    <a:pt x="87" y="152"/>
                  </a:lnTo>
                  <a:lnTo>
                    <a:pt x="64" y="144"/>
                  </a:lnTo>
                  <a:lnTo>
                    <a:pt x="40" y="136"/>
                  </a:lnTo>
                  <a:lnTo>
                    <a:pt x="24" y="124"/>
                  </a:lnTo>
                  <a:lnTo>
                    <a:pt x="10" y="116"/>
                  </a:lnTo>
                  <a:lnTo>
                    <a:pt x="4" y="107"/>
                  </a:lnTo>
                  <a:lnTo>
                    <a:pt x="0" y="97"/>
                  </a:lnTo>
                  <a:lnTo>
                    <a:pt x="4" y="87"/>
                  </a:lnTo>
                  <a:lnTo>
                    <a:pt x="10" y="79"/>
                  </a:lnTo>
                  <a:lnTo>
                    <a:pt x="24" y="69"/>
                  </a:lnTo>
                  <a:lnTo>
                    <a:pt x="40" y="59"/>
                  </a:lnTo>
                  <a:lnTo>
                    <a:pt x="64" y="51"/>
                  </a:lnTo>
                  <a:lnTo>
                    <a:pt x="87" y="43"/>
                  </a:lnTo>
                  <a:lnTo>
                    <a:pt x="119" y="35"/>
                  </a:lnTo>
                  <a:lnTo>
                    <a:pt x="153" y="27"/>
                  </a:lnTo>
                  <a:lnTo>
                    <a:pt x="188" y="23"/>
                  </a:lnTo>
                  <a:lnTo>
                    <a:pt x="226" y="17"/>
                  </a:lnTo>
                  <a:lnTo>
                    <a:pt x="272" y="9"/>
                  </a:lnTo>
                  <a:lnTo>
                    <a:pt x="313" y="5"/>
                  </a:lnTo>
                  <a:lnTo>
                    <a:pt x="363" y="3"/>
                  </a:lnTo>
                  <a:lnTo>
                    <a:pt x="410" y="1"/>
                  </a:lnTo>
                  <a:lnTo>
                    <a:pt x="462" y="0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ccc7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737760" y="4924440"/>
              <a:ext cx="273600" cy="355320"/>
            </a:xfrm>
            <a:custGeom>
              <a:avLst/>
              <a:gdLst/>
              <a:ahLst/>
              <a:rect l="l" t="t" r="r" b="b"/>
              <a:pathLst>
                <a:path w="864" h="1121">
                  <a:moveTo>
                    <a:pt x="0" y="1121"/>
                  </a:moveTo>
                  <a:lnTo>
                    <a:pt x="0" y="63"/>
                  </a:lnTo>
                  <a:lnTo>
                    <a:pt x="864" y="0"/>
                  </a:lnTo>
                  <a:lnTo>
                    <a:pt x="864" y="960"/>
                  </a:lnTo>
                  <a:lnTo>
                    <a:pt x="0" y="1121"/>
                  </a:lnTo>
                  <a:close/>
                </a:path>
              </a:pathLst>
            </a:custGeom>
            <a:solidFill>
              <a:srgbClr val="a4a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762240" y="4953960"/>
              <a:ext cx="227880" cy="284760"/>
            </a:xfrm>
            <a:custGeom>
              <a:avLst/>
              <a:gdLst/>
              <a:ahLst/>
              <a:rect l="l" t="t" r="r" b="b"/>
              <a:pathLst>
                <a:path w="717" h="897">
                  <a:moveTo>
                    <a:pt x="0" y="55"/>
                  </a:moveTo>
                  <a:lnTo>
                    <a:pt x="717" y="0"/>
                  </a:lnTo>
                  <a:lnTo>
                    <a:pt x="717" y="780"/>
                  </a:lnTo>
                  <a:lnTo>
                    <a:pt x="0" y="897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971760" y="4952520"/>
              <a:ext cx="18720" cy="248040"/>
            </a:xfrm>
            <a:custGeom>
              <a:avLst/>
              <a:gdLst/>
              <a:ahLst/>
              <a:rect l="l" t="t" r="r" b="b"/>
              <a:pathLst>
                <a:path w="59" h="780">
                  <a:moveTo>
                    <a:pt x="59" y="0"/>
                  </a:moveTo>
                  <a:lnTo>
                    <a:pt x="59" y="780"/>
                  </a:lnTo>
                  <a:lnTo>
                    <a:pt x="0" y="757"/>
                  </a:lnTo>
                  <a:lnTo>
                    <a:pt x="14" y="570"/>
                  </a:lnTo>
                  <a:lnTo>
                    <a:pt x="20" y="382"/>
                  </a:lnTo>
                  <a:lnTo>
                    <a:pt x="14" y="190"/>
                  </a:lnTo>
                  <a:lnTo>
                    <a:pt x="6" y="6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0be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762240" y="5193720"/>
              <a:ext cx="227880" cy="44280"/>
            </a:xfrm>
            <a:custGeom>
              <a:avLst/>
              <a:gdLst/>
              <a:ahLst/>
              <a:rect l="l" t="t" r="r" b="b"/>
              <a:pathLst>
                <a:path w="717" h="141">
                  <a:moveTo>
                    <a:pt x="717" y="24"/>
                  </a:moveTo>
                  <a:lnTo>
                    <a:pt x="660" y="0"/>
                  </a:lnTo>
                  <a:lnTo>
                    <a:pt x="622" y="8"/>
                  </a:lnTo>
                  <a:lnTo>
                    <a:pt x="579" y="18"/>
                  </a:lnTo>
                  <a:lnTo>
                    <a:pt x="539" y="24"/>
                  </a:lnTo>
                  <a:lnTo>
                    <a:pt x="497" y="32"/>
                  </a:lnTo>
                  <a:lnTo>
                    <a:pt x="456" y="40"/>
                  </a:lnTo>
                  <a:lnTo>
                    <a:pt x="414" y="46"/>
                  </a:lnTo>
                  <a:lnTo>
                    <a:pt x="373" y="52"/>
                  </a:lnTo>
                  <a:lnTo>
                    <a:pt x="331" y="58"/>
                  </a:lnTo>
                  <a:lnTo>
                    <a:pt x="289" y="64"/>
                  </a:lnTo>
                  <a:lnTo>
                    <a:pt x="246" y="70"/>
                  </a:lnTo>
                  <a:lnTo>
                    <a:pt x="204" y="74"/>
                  </a:lnTo>
                  <a:lnTo>
                    <a:pt x="163" y="82"/>
                  </a:lnTo>
                  <a:lnTo>
                    <a:pt x="123" y="86"/>
                  </a:lnTo>
                  <a:lnTo>
                    <a:pt x="81" y="90"/>
                  </a:lnTo>
                  <a:lnTo>
                    <a:pt x="42" y="94"/>
                  </a:lnTo>
                  <a:lnTo>
                    <a:pt x="0" y="96"/>
                  </a:lnTo>
                  <a:lnTo>
                    <a:pt x="0" y="141"/>
                  </a:lnTo>
                  <a:lnTo>
                    <a:pt x="717" y="24"/>
                  </a:lnTo>
                  <a:close/>
                </a:path>
              </a:pathLst>
            </a:custGeom>
            <a:solidFill>
              <a:srgbClr val="fdf8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694200" y="4943160"/>
              <a:ext cx="44280" cy="338400"/>
            </a:xfrm>
            <a:custGeom>
              <a:avLst/>
              <a:gdLst/>
              <a:ahLst/>
              <a:rect l="l" t="t" r="r" b="b"/>
              <a:pathLst>
                <a:path w="141" h="1066">
                  <a:moveTo>
                    <a:pt x="141" y="8"/>
                  </a:moveTo>
                  <a:lnTo>
                    <a:pt x="141" y="1066"/>
                  </a:lnTo>
                  <a:lnTo>
                    <a:pt x="0" y="1054"/>
                  </a:lnTo>
                  <a:lnTo>
                    <a:pt x="0" y="0"/>
                  </a:lnTo>
                  <a:lnTo>
                    <a:pt x="141" y="8"/>
                  </a:lnTo>
                  <a:close/>
                </a:path>
              </a:pathLst>
            </a:custGeom>
            <a:solidFill>
              <a:srgbClr val="c0be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93480" y="4920840"/>
              <a:ext cx="318600" cy="24120"/>
            </a:xfrm>
            <a:custGeom>
              <a:avLst/>
              <a:gdLst/>
              <a:ahLst/>
              <a:rect l="l" t="t" r="r" b="b"/>
              <a:pathLst>
                <a:path w="1005" h="77">
                  <a:moveTo>
                    <a:pt x="0" y="69"/>
                  </a:moveTo>
                  <a:lnTo>
                    <a:pt x="141" y="77"/>
                  </a:lnTo>
                  <a:lnTo>
                    <a:pt x="1005" y="14"/>
                  </a:lnTo>
                  <a:lnTo>
                    <a:pt x="846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df8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508440" y="4942440"/>
              <a:ext cx="185400" cy="334440"/>
            </a:xfrm>
            <a:custGeom>
              <a:avLst/>
              <a:gdLst/>
              <a:ahLst/>
              <a:rect l="l" t="t" r="r" b="b"/>
              <a:pathLst>
                <a:path w="584" h="1054">
                  <a:moveTo>
                    <a:pt x="584" y="0"/>
                  </a:moveTo>
                  <a:lnTo>
                    <a:pt x="0" y="180"/>
                  </a:lnTo>
                  <a:lnTo>
                    <a:pt x="0" y="834"/>
                  </a:lnTo>
                  <a:lnTo>
                    <a:pt x="584" y="1054"/>
                  </a:lnTo>
                  <a:lnTo>
                    <a:pt x="584" y="0"/>
                  </a:lnTo>
                  <a:close/>
                </a:path>
              </a:pathLst>
            </a:custGeom>
            <a:solidFill>
              <a:srgbClr val="a4a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507360" y="4919760"/>
              <a:ext cx="504360" cy="360360"/>
            </a:xfrm>
            <a:custGeom>
              <a:avLst/>
              <a:gdLst/>
              <a:ahLst/>
              <a:rect l="l" t="t" r="r" b="b"/>
              <a:pathLst>
                <a:path w="1589" h="1137">
                  <a:moveTo>
                    <a:pt x="0" y="905"/>
                  </a:moveTo>
                  <a:lnTo>
                    <a:pt x="584" y="1125"/>
                  </a:lnTo>
                  <a:lnTo>
                    <a:pt x="727" y="1137"/>
                  </a:lnTo>
                  <a:lnTo>
                    <a:pt x="1589" y="976"/>
                  </a:lnTo>
                  <a:lnTo>
                    <a:pt x="1589" y="16"/>
                  </a:lnTo>
                  <a:lnTo>
                    <a:pt x="1432" y="0"/>
                  </a:lnTo>
                  <a:lnTo>
                    <a:pt x="584" y="71"/>
                  </a:lnTo>
                  <a:lnTo>
                    <a:pt x="0" y="251"/>
                  </a:lnTo>
                  <a:lnTo>
                    <a:pt x="0" y="905"/>
                  </a:lnTo>
                </a:path>
              </a:pathLst>
            </a:custGeom>
            <a:noFill/>
            <a:ln w="19080">
              <a:solidFill>
                <a:srgbClr val="a4a28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365960" y="5520600"/>
              <a:ext cx="205200" cy="88200"/>
            </a:xfrm>
            <a:custGeom>
              <a:avLst/>
              <a:gdLst/>
              <a:ahLst/>
              <a:rect l="l" t="t" r="r" b="b"/>
              <a:pathLst>
                <a:path w="645" h="277">
                  <a:moveTo>
                    <a:pt x="560" y="277"/>
                  </a:moveTo>
                  <a:lnTo>
                    <a:pt x="546" y="277"/>
                  </a:lnTo>
                  <a:lnTo>
                    <a:pt x="536" y="277"/>
                  </a:lnTo>
                  <a:lnTo>
                    <a:pt x="522" y="277"/>
                  </a:lnTo>
                  <a:lnTo>
                    <a:pt x="509" y="277"/>
                  </a:lnTo>
                  <a:lnTo>
                    <a:pt x="495" y="277"/>
                  </a:lnTo>
                  <a:lnTo>
                    <a:pt x="481" y="277"/>
                  </a:lnTo>
                  <a:lnTo>
                    <a:pt x="469" y="277"/>
                  </a:lnTo>
                  <a:lnTo>
                    <a:pt x="455" y="277"/>
                  </a:lnTo>
                  <a:lnTo>
                    <a:pt x="439" y="277"/>
                  </a:lnTo>
                  <a:lnTo>
                    <a:pt x="421" y="277"/>
                  </a:lnTo>
                  <a:lnTo>
                    <a:pt x="404" y="273"/>
                  </a:lnTo>
                  <a:lnTo>
                    <a:pt x="388" y="273"/>
                  </a:lnTo>
                  <a:lnTo>
                    <a:pt x="372" y="273"/>
                  </a:lnTo>
                  <a:lnTo>
                    <a:pt x="356" y="267"/>
                  </a:lnTo>
                  <a:lnTo>
                    <a:pt x="338" y="265"/>
                  </a:lnTo>
                  <a:lnTo>
                    <a:pt x="322" y="263"/>
                  </a:lnTo>
                  <a:lnTo>
                    <a:pt x="310" y="259"/>
                  </a:lnTo>
                  <a:lnTo>
                    <a:pt x="301" y="255"/>
                  </a:lnTo>
                  <a:lnTo>
                    <a:pt x="289" y="251"/>
                  </a:lnTo>
                  <a:lnTo>
                    <a:pt x="281" y="247"/>
                  </a:lnTo>
                  <a:lnTo>
                    <a:pt x="269" y="239"/>
                  </a:lnTo>
                  <a:lnTo>
                    <a:pt x="257" y="234"/>
                  </a:lnTo>
                  <a:lnTo>
                    <a:pt x="247" y="230"/>
                  </a:lnTo>
                  <a:lnTo>
                    <a:pt x="235" y="226"/>
                  </a:lnTo>
                  <a:lnTo>
                    <a:pt x="223" y="222"/>
                  </a:lnTo>
                  <a:lnTo>
                    <a:pt x="215" y="222"/>
                  </a:lnTo>
                  <a:lnTo>
                    <a:pt x="204" y="220"/>
                  </a:lnTo>
                  <a:lnTo>
                    <a:pt x="194" y="218"/>
                  </a:lnTo>
                  <a:lnTo>
                    <a:pt x="182" y="218"/>
                  </a:lnTo>
                  <a:lnTo>
                    <a:pt x="170" y="214"/>
                  </a:lnTo>
                  <a:lnTo>
                    <a:pt x="160" y="214"/>
                  </a:lnTo>
                  <a:lnTo>
                    <a:pt x="150" y="208"/>
                  </a:lnTo>
                  <a:lnTo>
                    <a:pt x="142" y="202"/>
                  </a:lnTo>
                  <a:lnTo>
                    <a:pt x="138" y="194"/>
                  </a:lnTo>
                  <a:lnTo>
                    <a:pt x="138" y="180"/>
                  </a:lnTo>
                  <a:lnTo>
                    <a:pt x="142" y="172"/>
                  </a:lnTo>
                  <a:lnTo>
                    <a:pt x="150" y="168"/>
                  </a:lnTo>
                  <a:lnTo>
                    <a:pt x="160" y="166"/>
                  </a:lnTo>
                  <a:lnTo>
                    <a:pt x="170" y="168"/>
                  </a:lnTo>
                  <a:lnTo>
                    <a:pt x="182" y="168"/>
                  </a:lnTo>
                  <a:lnTo>
                    <a:pt x="190" y="168"/>
                  </a:lnTo>
                  <a:lnTo>
                    <a:pt x="198" y="168"/>
                  </a:lnTo>
                  <a:lnTo>
                    <a:pt x="206" y="170"/>
                  </a:lnTo>
                  <a:lnTo>
                    <a:pt x="215" y="172"/>
                  </a:lnTo>
                  <a:lnTo>
                    <a:pt x="223" y="174"/>
                  </a:lnTo>
                  <a:lnTo>
                    <a:pt x="231" y="176"/>
                  </a:lnTo>
                  <a:lnTo>
                    <a:pt x="237" y="176"/>
                  </a:lnTo>
                  <a:lnTo>
                    <a:pt x="247" y="176"/>
                  </a:lnTo>
                  <a:lnTo>
                    <a:pt x="251" y="176"/>
                  </a:lnTo>
                  <a:lnTo>
                    <a:pt x="257" y="176"/>
                  </a:lnTo>
                  <a:lnTo>
                    <a:pt x="265" y="174"/>
                  </a:lnTo>
                  <a:lnTo>
                    <a:pt x="271" y="172"/>
                  </a:lnTo>
                  <a:lnTo>
                    <a:pt x="277" y="170"/>
                  </a:lnTo>
                  <a:lnTo>
                    <a:pt x="283" y="168"/>
                  </a:lnTo>
                  <a:lnTo>
                    <a:pt x="287" y="164"/>
                  </a:lnTo>
                  <a:lnTo>
                    <a:pt x="289" y="158"/>
                  </a:lnTo>
                  <a:lnTo>
                    <a:pt x="291" y="150"/>
                  </a:lnTo>
                  <a:lnTo>
                    <a:pt x="289" y="140"/>
                  </a:lnTo>
                  <a:lnTo>
                    <a:pt x="285" y="132"/>
                  </a:lnTo>
                  <a:lnTo>
                    <a:pt x="277" y="121"/>
                  </a:lnTo>
                  <a:lnTo>
                    <a:pt x="273" y="117"/>
                  </a:lnTo>
                  <a:lnTo>
                    <a:pt x="265" y="115"/>
                  </a:lnTo>
                  <a:lnTo>
                    <a:pt x="253" y="113"/>
                  </a:lnTo>
                  <a:lnTo>
                    <a:pt x="243" y="111"/>
                  </a:lnTo>
                  <a:lnTo>
                    <a:pt x="233" y="111"/>
                  </a:lnTo>
                  <a:lnTo>
                    <a:pt x="223" y="111"/>
                  </a:lnTo>
                  <a:lnTo>
                    <a:pt x="215" y="109"/>
                  </a:lnTo>
                  <a:lnTo>
                    <a:pt x="206" y="107"/>
                  </a:lnTo>
                  <a:lnTo>
                    <a:pt x="198" y="107"/>
                  </a:lnTo>
                  <a:lnTo>
                    <a:pt x="190" y="107"/>
                  </a:lnTo>
                  <a:lnTo>
                    <a:pt x="182" y="105"/>
                  </a:lnTo>
                  <a:lnTo>
                    <a:pt x="172" y="105"/>
                  </a:lnTo>
                  <a:lnTo>
                    <a:pt x="162" y="107"/>
                  </a:lnTo>
                  <a:lnTo>
                    <a:pt x="152" y="107"/>
                  </a:lnTo>
                  <a:lnTo>
                    <a:pt x="142" y="109"/>
                  </a:lnTo>
                  <a:lnTo>
                    <a:pt x="132" y="111"/>
                  </a:lnTo>
                  <a:lnTo>
                    <a:pt x="122" y="115"/>
                  </a:lnTo>
                  <a:lnTo>
                    <a:pt x="114" y="117"/>
                  </a:lnTo>
                  <a:lnTo>
                    <a:pt x="108" y="119"/>
                  </a:lnTo>
                  <a:lnTo>
                    <a:pt x="99" y="121"/>
                  </a:lnTo>
                  <a:lnTo>
                    <a:pt x="93" y="123"/>
                  </a:lnTo>
                  <a:lnTo>
                    <a:pt x="85" y="125"/>
                  </a:lnTo>
                  <a:lnTo>
                    <a:pt x="81" y="130"/>
                  </a:lnTo>
                  <a:lnTo>
                    <a:pt x="75" y="132"/>
                  </a:lnTo>
                  <a:lnTo>
                    <a:pt x="67" y="136"/>
                  </a:lnTo>
                  <a:lnTo>
                    <a:pt x="63" y="138"/>
                  </a:lnTo>
                  <a:lnTo>
                    <a:pt x="55" y="142"/>
                  </a:lnTo>
                  <a:lnTo>
                    <a:pt x="49" y="146"/>
                  </a:lnTo>
                  <a:lnTo>
                    <a:pt x="45" y="148"/>
                  </a:lnTo>
                  <a:lnTo>
                    <a:pt x="41" y="154"/>
                  </a:lnTo>
                  <a:lnTo>
                    <a:pt x="35" y="158"/>
                  </a:lnTo>
                  <a:lnTo>
                    <a:pt x="29" y="158"/>
                  </a:lnTo>
                  <a:lnTo>
                    <a:pt x="19" y="158"/>
                  </a:lnTo>
                  <a:lnTo>
                    <a:pt x="11" y="158"/>
                  </a:lnTo>
                  <a:lnTo>
                    <a:pt x="5" y="152"/>
                  </a:lnTo>
                  <a:lnTo>
                    <a:pt x="0" y="146"/>
                  </a:lnTo>
                  <a:lnTo>
                    <a:pt x="0" y="138"/>
                  </a:lnTo>
                  <a:lnTo>
                    <a:pt x="2" y="132"/>
                  </a:lnTo>
                  <a:lnTo>
                    <a:pt x="9" y="123"/>
                  </a:lnTo>
                  <a:lnTo>
                    <a:pt x="15" y="119"/>
                  </a:lnTo>
                  <a:lnTo>
                    <a:pt x="19" y="113"/>
                  </a:lnTo>
                  <a:lnTo>
                    <a:pt x="27" y="109"/>
                  </a:lnTo>
                  <a:lnTo>
                    <a:pt x="31" y="105"/>
                  </a:lnTo>
                  <a:lnTo>
                    <a:pt x="41" y="99"/>
                  </a:lnTo>
                  <a:lnTo>
                    <a:pt x="45" y="97"/>
                  </a:lnTo>
                  <a:lnTo>
                    <a:pt x="51" y="93"/>
                  </a:lnTo>
                  <a:lnTo>
                    <a:pt x="59" y="89"/>
                  </a:lnTo>
                  <a:lnTo>
                    <a:pt x="65" y="87"/>
                  </a:lnTo>
                  <a:lnTo>
                    <a:pt x="73" y="83"/>
                  </a:lnTo>
                  <a:lnTo>
                    <a:pt x="81" y="77"/>
                  </a:lnTo>
                  <a:lnTo>
                    <a:pt x="87" y="71"/>
                  </a:lnTo>
                  <a:lnTo>
                    <a:pt x="97" y="67"/>
                  </a:lnTo>
                  <a:lnTo>
                    <a:pt x="103" y="61"/>
                  </a:lnTo>
                  <a:lnTo>
                    <a:pt x="112" y="57"/>
                  </a:lnTo>
                  <a:lnTo>
                    <a:pt x="118" y="53"/>
                  </a:lnTo>
                  <a:lnTo>
                    <a:pt x="128" y="49"/>
                  </a:lnTo>
                  <a:lnTo>
                    <a:pt x="132" y="47"/>
                  </a:lnTo>
                  <a:lnTo>
                    <a:pt x="138" y="43"/>
                  </a:lnTo>
                  <a:lnTo>
                    <a:pt x="146" y="43"/>
                  </a:lnTo>
                  <a:lnTo>
                    <a:pt x="150" y="39"/>
                  </a:lnTo>
                  <a:lnTo>
                    <a:pt x="156" y="37"/>
                  </a:lnTo>
                  <a:lnTo>
                    <a:pt x="164" y="33"/>
                  </a:lnTo>
                  <a:lnTo>
                    <a:pt x="168" y="31"/>
                  </a:lnTo>
                  <a:lnTo>
                    <a:pt x="176" y="27"/>
                  </a:lnTo>
                  <a:lnTo>
                    <a:pt x="182" y="24"/>
                  </a:lnTo>
                  <a:lnTo>
                    <a:pt x="190" y="20"/>
                  </a:lnTo>
                  <a:lnTo>
                    <a:pt x="200" y="16"/>
                  </a:lnTo>
                  <a:lnTo>
                    <a:pt x="206" y="10"/>
                  </a:lnTo>
                  <a:lnTo>
                    <a:pt x="213" y="10"/>
                  </a:lnTo>
                  <a:lnTo>
                    <a:pt x="219" y="6"/>
                  </a:lnTo>
                  <a:lnTo>
                    <a:pt x="223" y="6"/>
                  </a:lnTo>
                  <a:lnTo>
                    <a:pt x="233" y="4"/>
                  </a:lnTo>
                  <a:lnTo>
                    <a:pt x="239" y="2"/>
                  </a:lnTo>
                  <a:lnTo>
                    <a:pt x="247" y="2"/>
                  </a:lnTo>
                  <a:lnTo>
                    <a:pt x="251" y="0"/>
                  </a:lnTo>
                  <a:lnTo>
                    <a:pt x="257" y="0"/>
                  </a:lnTo>
                  <a:lnTo>
                    <a:pt x="267" y="0"/>
                  </a:lnTo>
                  <a:lnTo>
                    <a:pt x="277" y="0"/>
                  </a:lnTo>
                  <a:lnTo>
                    <a:pt x="283" y="2"/>
                  </a:lnTo>
                  <a:lnTo>
                    <a:pt x="291" y="2"/>
                  </a:lnTo>
                  <a:lnTo>
                    <a:pt x="301" y="2"/>
                  </a:lnTo>
                  <a:lnTo>
                    <a:pt x="307" y="4"/>
                  </a:lnTo>
                  <a:lnTo>
                    <a:pt x="316" y="6"/>
                  </a:lnTo>
                  <a:lnTo>
                    <a:pt x="324" y="6"/>
                  </a:lnTo>
                  <a:lnTo>
                    <a:pt x="336" y="10"/>
                  </a:lnTo>
                  <a:lnTo>
                    <a:pt x="346" y="16"/>
                  </a:lnTo>
                  <a:lnTo>
                    <a:pt x="356" y="20"/>
                  </a:lnTo>
                  <a:lnTo>
                    <a:pt x="366" y="25"/>
                  </a:lnTo>
                  <a:lnTo>
                    <a:pt x="372" y="31"/>
                  </a:lnTo>
                  <a:lnTo>
                    <a:pt x="380" y="37"/>
                  </a:lnTo>
                  <a:lnTo>
                    <a:pt x="390" y="39"/>
                  </a:lnTo>
                  <a:lnTo>
                    <a:pt x="400" y="43"/>
                  </a:lnTo>
                  <a:lnTo>
                    <a:pt x="409" y="51"/>
                  </a:lnTo>
                  <a:lnTo>
                    <a:pt x="419" y="55"/>
                  </a:lnTo>
                  <a:lnTo>
                    <a:pt x="429" y="59"/>
                  </a:lnTo>
                  <a:lnTo>
                    <a:pt x="439" y="65"/>
                  </a:lnTo>
                  <a:lnTo>
                    <a:pt x="451" y="71"/>
                  </a:lnTo>
                  <a:lnTo>
                    <a:pt x="459" y="77"/>
                  </a:lnTo>
                  <a:lnTo>
                    <a:pt x="471" y="81"/>
                  </a:lnTo>
                  <a:lnTo>
                    <a:pt x="479" y="87"/>
                  </a:lnTo>
                  <a:lnTo>
                    <a:pt x="487" y="91"/>
                  </a:lnTo>
                  <a:lnTo>
                    <a:pt x="495" y="97"/>
                  </a:lnTo>
                  <a:lnTo>
                    <a:pt x="501" y="103"/>
                  </a:lnTo>
                  <a:lnTo>
                    <a:pt x="509" y="109"/>
                  </a:lnTo>
                  <a:lnTo>
                    <a:pt x="514" y="115"/>
                  </a:lnTo>
                  <a:lnTo>
                    <a:pt x="522" y="119"/>
                  </a:lnTo>
                  <a:lnTo>
                    <a:pt x="528" y="123"/>
                  </a:lnTo>
                  <a:lnTo>
                    <a:pt x="536" y="125"/>
                  </a:lnTo>
                  <a:lnTo>
                    <a:pt x="645" y="146"/>
                  </a:lnTo>
                  <a:lnTo>
                    <a:pt x="637" y="162"/>
                  </a:lnTo>
                  <a:lnTo>
                    <a:pt x="629" y="178"/>
                  </a:lnTo>
                  <a:lnTo>
                    <a:pt x="621" y="194"/>
                  </a:lnTo>
                  <a:lnTo>
                    <a:pt x="610" y="210"/>
                  </a:lnTo>
                  <a:lnTo>
                    <a:pt x="596" y="228"/>
                  </a:lnTo>
                  <a:lnTo>
                    <a:pt x="584" y="245"/>
                  </a:lnTo>
                  <a:lnTo>
                    <a:pt x="572" y="261"/>
                  </a:lnTo>
                  <a:lnTo>
                    <a:pt x="560" y="277"/>
                  </a:lnTo>
                  <a:close/>
                </a:path>
              </a:pathLst>
            </a:custGeom>
            <a:solidFill>
              <a:srgbClr val="ffe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509240" y="5605920"/>
              <a:ext cx="34560" cy="4680"/>
            </a:xfrm>
            <a:custGeom>
              <a:avLst/>
              <a:gdLst/>
              <a:ahLst/>
              <a:rect l="l" t="t" r="r" b="b"/>
              <a:pathLst>
                <a:path w="111" h="16">
                  <a:moveTo>
                    <a:pt x="8" y="16"/>
                  </a:moveTo>
                  <a:lnTo>
                    <a:pt x="20" y="16"/>
                  </a:lnTo>
                  <a:lnTo>
                    <a:pt x="34" y="16"/>
                  </a:lnTo>
                  <a:lnTo>
                    <a:pt x="48" y="16"/>
                  </a:lnTo>
                  <a:lnTo>
                    <a:pt x="62" y="16"/>
                  </a:lnTo>
                  <a:lnTo>
                    <a:pt x="73" y="16"/>
                  </a:lnTo>
                  <a:lnTo>
                    <a:pt x="87" y="16"/>
                  </a:lnTo>
                  <a:lnTo>
                    <a:pt x="99" y="16"/>
                  </a:lnTo>
                  <a:lnTo>
                    <a:pt x="111" y="16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4" y="12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467120" y="5601960"/>
              <a:ext cx="44280" cy="9360"/>
            </a:xfrm>
            <a:custGeom>
              <a:avLst/>
              <a:gdLst/>
              <a:ahLst/>
              <a:rect l="l" t="t" r="r" b="b"/>
              <a:pathLst>
                <a:path w="139" h="30">
                  <a:moveTo>
                    <a:pt x="6" y="14"/>
                  </a:moveTo>
                  <a:lnTo>
                    <a:pt x="24" y="16"/>
                  </a:lnTo>
                  <a:lnTo>
                    <a:pt x="40" y="20"/>
                  </a:lnTo>
                  <a:lnTo>
                    <a:pt x="56" y="22"/>
                  </a:lnTo>
                  <a:lnTo>
                    <a:pt x="70" y="26"/>
                  </a:lnTo>
                  <a:lnTo>
                    <a:pt x="88" y="26"/>
                  </a:lnTo>
                  <a:lnTo>
                    <a:pt x="103" y="28"/>
                  </a:lnTo>
                  <a:lnTo>
                    <a:pt x="123" y="30"/>
                  </a:lnTo>
                  <a:lnTo>
                    <a:pt x="139" y="30"/>
                  </a:lnTo>
                  <a:lnTo>
                    <a:pt x="139" y="14"/>
                  </a:lnTo>
                  <a:lnTo>
                    <a:pt x="123" y="14"/>
                  </a:lnTo>
                  <a:lnTo>
                    <a:pt x="105" y="12"/>
                  </a:lnTo>
                  <a:lnTo>
                    <a:pt x="90" y="12"/>
                  </a:lnTo>
                  <a:lnTo>
                    <a:pt x="74" y="10"/>
                  </a:lnTo>
                  <a:lnTo>
                    <a:pt x="58" y="8"/>
                  </a:lnTo>
                  <a:lnTo>
                    <a:pt x="40" y="6"/>
                  </a:lnTo>
                  <a:lnTo>
                    <a:pt x="26" y="4"/>
                  </a:lnTo>
                  <a:lnTo>
                    <a:pt x="10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439760" y="5590080"/>
              <a:ext cx="29520" cy="16920"/>
            </a:xfrm>
            <a:custGeom>
              <a:avLst/>
              <a:gdLst/>
              <a:ahLst/>
              <a:rect l="l" t="t" r="r" b="b"/>
              <a:pathLst>
                <a:path w="95" h="53">
                  <a:moveTo>
                    <a:pt x="4" y="14"/>
                  </a:moveTo>
                  <a:lnTo>
                    <a:pt x="14" y="16"/>
                  </a:lnTo>
                  <a:lnTo>
                    <a:pt x="26" y="23"/>
                  </a:lnTo>
                  <a:lnTo>
                    <a:pt x="36" y="29"/>
                  </a:lnTo>
                  <a:lnTo>
                    <a:pt x="48" y="33"/>
                  </a:lnTo>
                  <a:lnTo>
                    <a:pt x="58" y="39"/>
                  </a:lnTo>
                  <a:lnTo>
                    <a:pt x="68" y="45"/>
                  </a:lnTo>
                  <a:lnTo>
                    <a:pt x="81" y="51"/>
                  </a:lnTo>
                  <a:lnTo>
                    <a:pt x="91" y="53"/>
                  </a:lnTo>
                  <a:lnTo>
                    <a:pt x="95" y="37"/>
                  </a:lnTo>
                  <a:lnTo>
                    <a:pt x="87" y="35"/>
                  </a:lnTo>
                  <a:lnTo>
                    <a:pt x="74" y="31"/>
                  </a:lnTo>
                  <a:lnTo>
                    <a:pt x="64" y="29"/>
                  </a:lnTo>
                  <a:lnTo>
                    <a:pt x="54" y="23"/>
                  </a:lnTo>
                  <a:lnTo>
                    <a:pt x="44" y="16"/>
                  </a:lnTo>
                  <a:lnTo>
                    <a:pt x="30" y="14"/>
                  </a:lnTo>
                  <a:lnTo>
                    <a:pt x="20" y="6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412400" y="5585040"/>
              <a:ext cx="30240" cy="8640"/>
            </a:xfrm>
            <a:custGeom>
              <a:avLst/>
              <a:gdLst/>
              <a:ahLst/>
              <a:rect l="l" t="t" r="r" b="b"/>
              <a:pathLst>
                <a:path w="95" h="28">
                  <a:moveTo>
                    <a:pt x="4" y="12"/>
                  </a:moveTo>
                  <a:lnTo>
                    <a:pt x="14" y="16"/>
                  </a:lnTo>
                  <a:lnTo>
                    <a:pt x="26" y="18"/>
                  </a:lnTo>
                  <a:lnTo>
                    <a:pt x="38" y="22"/>
                  </a:lnTo>
                  <a:lnTo>
                    <a:pt x="50" y="22"/>
                  </a:lnTo>
                  <a:lnTo>
                    <a:pt x="58" y="22"/>
                  </a:lnTo>
                  <a:lnTo>
                    <a:pt x="69" y="24"/>
                  </a:lnTo>
                  <a:lnTo>
                    <a:pt x="81" y="28"/>
                  </a:lnTo>
                  <a:lnTo>
                    <a:pt x="91" y="28"/>
                  </a:lnTo>
                  <a:lnTo>
                    <a:pt x="95" y="14"/>
                  </a:lnTo>
                  <a:lnTo>
                    <a:pt x="83" y="12"/>
                  </a:lnTo>
                  <a:lnTo>
                    <a:pt x="71" y="12"/>
                  </a:lnTo>
                  <a:lnTo>
                    <a:pt x="63" y="10"/>
                  </a:lnTo>
                  <a:lnTo>
                    <a:pt x="50" y="8"/>
                  </a:lnTo>
                  <a:lnTo>
                    <a:pt x="40" y="8"/>
                  </a:lnTo>
                  <a:lnTo>
                    <a:pt x="30" y="6"/>
                  </a:lnTo>
                  <a:lnTo>
                    <a:pt x="22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408800" y="5573520"/>
              <a:ext cx="6840" cy="1512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4" y="2"/>
                  </a:moveTo>
                  <a:lnTo>
                    <a:pt x="0" y="14"/>
                  </a:lnTo>
                  <a:lnTo>
                    <a:pt x="0" y="28"/>
                  </a:lnTo>
                  <a:lnTo>
                    <a:pt x="4" y="40"/>
                  </a:lnTo>
                  <a:lnTo>
                    <a:pt x="12" y="48"/>
                  </a:lnTo>
                  <a:lnTo>
                    <a:pt x="22" y="36"/>
                  </a:lnTo>
                  <a:lnTo>
                    <a:pt x="18" y="32"/>
                  </a:lnTo>
                  <a:lnTo>
                    <a:pt x="12" y="24"/>
                  </a:lnTo>
                  <a:lnTo>
                    <a:pt x="12" y="16"/>
                  </a:lnTo>
                  <a:lnTo>
                    <a:pt x="14" y="10"/>
                  </a:lnTo>
                  <a:lnTo>
                    <a:pt x="18" y="6"/>
                  </a:lnTo>
                  <a:lnTo>
                    <a:pt x="12" y="2"/>
                  </a:lnTo>
                  <a:lnTo>
                    <a:pt x="8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409880" y="5571720"/>
              <a:ext cx="16920" cy="4680"/>
            </a:xfrm>
            <a:custGeom>
              <a:avLst/>
              <a:gdLst/>
              <a:ahLst/>
              <a:rect l="l" t="t" r="r" b="b"/>
              <a:pathLst>
                <a:path w="54" h="16">
                  <a:moveTo>
                    <a:pt x="44" y="0"/>
                  </a:moveTo>
                  <a:lnTo>
                    <a:pt x="34" y="0"/>
                  </a:lnTo>
                  <a:lnTo>
                    <a:pt x="22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10" y="16"/>
                  </a:lnTo>
                  <a:lnTo>
                    <a:pt x="16" y="14"/>
                  </a:lnTo>
                  <a:lnTo>
                    <a:pt x="22" y="12"/>
                  </a:lnTo>
                  <a:lnTo>
                    <a:pt x="34" y="14"/>
                  </a:lnTo>
                  <a:lnTo>
                    <a:pt x="44" y="14"/>
                  </a:lnTo>
                  <a:lnTo>
                    <a:pt x="48" y="12"/>
                  </a:lnTo>
                  <a:lnTo>
                    <a:pt x="54" y="8"/>
                  </a:lnTo>
                  <a:lnTo>
                    <a:pt x="4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423920" y="5571000"/>
              <a:ext cx="22680" cy="7920"/>
            </a:xfrm>
            <a:custGeom>
              <a:avLst/>
              <a:gdLst/>
              <a:ahLst/>
              <a:rect l="l" t="t" r="r" b="b"/>
              <a:pathLst>
                <a:path w="71" h="26">
                  <a:moveTo>
                    <a:pt x="65" y="10"/>
                  </a:moveTo>
                  <a:lnTo>
                    <a:pt x="59" y="10"/>
                  </a:lnTo>
                  <a:lnTo>
                    <a:pt x="51" y="8"/>
                  </a:lnTo>
                  <a:lnTo>
                    <a:pt x="43" y="8"/>
                  </a:lnTo>
                  <a:lnTo>
                    <a:pt x="33" y="6"/>
                  </a:lnTo>
                  <a:lnTo>
                    <a:pt x="27" y="4"/>
                  </a:lnTo>
                  <a:lnTo>
                    <a:pt x="18" y="2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8" y="14"/>
                  </a:lnTo>
                  <a:lnTo>
                    <a:pt x="16" y="16"/>
                  </a:lnTo>
                  <a:lnTo>
                    <a:pt x="25" y="16"/>
                  </a:lnTo>
                  <a:lnTo>
                    <a:pt x="31" y="20"/>
                  </a:lnTo>
                  <a:lnTo>
                    <a:pt x="41" y="20"/>
                  </a:lnTo>
                  <a:lnTo>
                    <a:pt x="47" y="22"/>
                  </a:lnTo>
                  <a:lnTo>
                    <a:pt x="57" y="26"/>
                  </a:lnTo>
                  <a:lnTo>
                    <a:pt x="65" y="26"/>
                  </a:lnTo>
                  <a:lnTo>
                    <a:pt x="69" y="20"/>
                  </a:lnTo>
                  <a:lnTo>
                    <a:pt x="71" y="16"/>
                  </a:lnTo>
                  <a:lnTo>
                    <a:pt x="69" y="12"/>
                  </a:lnTo>
                  <a:lnTo>
                    <a:pt x="6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444440" y="5568840"/>
              <a:ext cx="15840" cy="10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6" y="4"/>
                  </a:moveTo>
                  <a:lnTo>
                    <a:pt x="38" y="2"/>
                  </a:lnTo>
                  <a:lnTo>
                    <a:pt x="36" y="6"/>
                  </a:lnTo>
                  <a:lnTo>
                    <a:pt x="34" y="10"/>
                  </a:lnTo>
                  <a:lnTo>
                    <a:pt x="28" y="10"/>
                  </a:lnTo>
                  <a:lnTo>
                    <a:pt x="22" y="14"/>
                  </a:lnTo>
                  <a:lnTo>
                    <a:pt x="18" y="16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32"/>
                  </a:lnTo>
                  <a:lnTo>
                    <a:pt x="6" y="32"/>
                  </a:lnTo>
                  <a:lnTo>
                    <a:pt x="14" y="30"/>
                  </a:lnTo>
                  <a:lnTo>
                    <a:pt x="20" y="28"/>
                  </a:lnTo>
                  <a:lnTo>
                    <a:pt x="28" y="28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46" y="16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0" y="10"/>
                  </a:lnTo>
                  <a:lnTo>
                    <a:pt x="52" y="6"/>
                  </a:lnTo>
                  <a:lnTo>
                    <a:pt x="48" y="2"/>
                  </a:lnTo>
                  <a:lnTo>
                    <a:pt x="42" y="0"/>
                  </a:lnTo>
                  <a:lnTo>
                    <a:pt x="38" y="2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454520" y="5556960"/>
              <a:ext cx="7560" cy="1476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10"/>
                  </a:moveTo>
                  <a:lnTo>
                    <a:pt x="8" y="19"/>
                  </a:lnTo>
                  <a:lnTo>
                    <a:pt x="10" y="27"/>
                  </a:lnTo>
                  <a:lnTo>
                    <a:pt x="12" y="35"/>
                  </a:lnTo>
                  <a:lnTo>
                    <a:pt x="10" y="41"/>
                  </a:lnTo>
                  <a:lnTo>
                    <a:pt x="24" y="47"/>
                  </a:lnTo>
                  <a:lnTo>
                    <a:pt x="24" y="35"/>
                  </a:lnTo>
                  <a:lnTo>
                    <a:pt x="24" y="23"/>
                  </a:lnTo>
                  <a:lnTo>
                    <a:pt x="18" y="1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442640" y="5553000"/>
              <a:ext cx="13680" cy="684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4" y="16"/>
                  </a:moveTo>
                  <a:lnTo>
                    <a:pt x="14" y="16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4" y="22"/>
                  </a:lnTo>
                  <a:lnTo>
                    <a:pt x="46" y="12"/>
                  </a:lnTo>
                  <a:lnTo>
                    <a:pt x="38" y="6"/>
                  </a:lnTo>
                  <a:lnTo>
                    <a:pt x="26" y="2"/>
                  </a:lnTo>
                  <a:lnTo>
                    <a:pt x="16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419960" y="5550480"/>
              <a:ext cx="24120" cy="6840"/>
            </a:xfrm>
            <a:custGeom>
              <a:avLst/>
              <a:gdLst/>
              <a:ahLst/>
              <a:rect l="l" t="t" r="r" b="b"/>
              <a:pathLst>
                <a:path w="75" h="22">
                  <a:moveTo>
                    <a:pt x="6" y="12"/>
                  </a:moveTo>
                  <a:lnTo>
                    <a:pt x="16" y="12"/>
                  </a:lnTo>
                  <a:lnTo>
                    <a:pt x="22" y="14"/>
                  </a:lnTo>
                  <a:lnTo>
                    <a:pt x="32" y="18"/>
                  </a:lnTo>
                  <a:lnTo>
                    <a:pt x="39" y="18"/>
                  </a:lnTo>
                  <a:lnTo>
                    <a:pt x="49" y="18"/>
                  </a:lnTo>
                  <a:lnTo>
                    <a:pt x="57" y="18"/>
                  </a:lnTo>
                  <a:lnTo>
                    <a:pt x="67" y="22"/>
                  </a:lnTo>
                  <a:lnTo>
                    <a:pt x="75" y="22"/>
                  </a:lnTo>
                  <a:lnTo>
                    <a:pt x="75" y="6"/>
                  </a:lnTo>
                  <a:lnTo>
                    <a:pt x="67" y="6"/>
                  </a:lnTo>
                  <a:lnTo>
                    <a:pt x="59" y="4"/>
                  </a:lnTo>
                  <a:lnTo>
                    <a:pt x="51" y="4"/>
                  </a:lnTo>
                  <a:lnTo>
                    <a:pt x="39" y="2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395480" y="5551920"/>
              <a:ext cx="25200" cy="8640"/>
            </a:xfrm>
            <a:custGeom>
              <a:avLst/>
              <a:gdLst/>
              <a:ahLst/>
              <a:rect l="l" t="t" r="r" b="b"/>
              <a:pathLst>
                <a:path w="79" h="28">
                  <a:moveTo>
                    <a:pt x="6" y="28"/>
                  </a:moveTo>
                  <a:lnTo>
                    <a:pt x="15" y="28"/>
                  </a:lnTo>
                  <a:lnTo>
                    <a:pt x="23" y="24"/>
                  </a:lnTo>
                  <a:lnTo>
                    <a:pt x="33" y="22"/>
                  </a:lnTo>
                  <a:lnTo>
                    <a:pt x="41" y="20"/>
                  </a:lnTo>
                  <a:lnTo>
                    <a:pt x="49" y="16"/>
                  </a:lnTo>
                  <a:lnTo>
                    <a:pt x="63" y="16"/>
                  </a:lnTo>
                  <a:lnTo>
                    <a:pt x="71" y="14"/>
                  </a:lnTo>
                  <a:lnTo>
                    <a:pt x="79" y="12"/>
                  </a:lnTo>
                  <a:lnTo>
                    <a:pt x="79" y="0"/>
                  </a:lnTo>
                  <a:lnTo>
                    <a:pt x="67" y="0"/>
                  </a:lnTo>
                  <a:lnTo>
                    <a:pt x="57" y="2"/>
                  </a:lnTo>
                  <a:lnTo>
                    <a:pt x="49" y="4"/>
                  </a:lnTo>
                  <a:lnTo>
                    <a:pt x="39" y="6"/>
                  </a:lnTo>
                  <a:lnTo>
                    <a:pt x="31" y="8"/>
                  </a:lnTo>
                  <a:lnTo>
                    <a:pt x="21" y="12"/>
                  </a:lnTo>
                  <a:lnTo>
                    <a:pt x="13" y="14"/>
                  </a:lnTo>
                  <a:lnTo>
                    <a:pt x="4" y="16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382160" y="5557680"/>
              <a:ext cx="16200" cy="1188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8" y="37"/>
                  </a:moveTo>
                  <a:lnTo>
                    <a:pt x="8" y="33"/>
                  </a:lnTo>
                  <a:lnTo>
                    <a:pt x="16" y="31"/>
                  </a:lnTo>
                  <a:lnTo>
                    <a:pt x="22" y="27"/>
                  </a:lnTo>
                  <a:lnTo>
                    <a:pt x="26" y="25"/>
                  </a:lnTo>
                  <a:lnTo>
                    <a:pt x="34" y="21"/>
                  </a:lnTo>
                  <a:lnTo>
                    <a:pt x="40" y="19"/>
                  </a:lnTo>
                  <a:lnTo>
                    <a:pt x="44" y="15"/>
                  </a:lnTo>
                  <a:lnTo>
                    <a:pt x="48" y="13"/>
                  </a:lnTo>
                  <a:lnTo>
                    <a:pt x="54" y="12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36" y="4"/>
                  </a:lnTo>
                  <a:lnTo>
                    <a:pt x="32" y="6"/>
                  </a:lnTo>
                  <a:lnTo>
                    <a:pt x="24" y="12"/>
                  </a:lnTo>
                  <a:lnTo>
                    <a:pt x="18" y="15"/>
                  </a:lnTo>
                  <a:lnTo>
                    <a:pt x="14" y="17"/>
                  </a:lnTo>
                  <a:lnTo>
                    <a:pt x="6" y="21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8" y="33"/>
                  </a:lnTo>
                  <a:lnTo>
                    <a:pt x="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375680" y="5564520"/>
              <a:ext cx="7920" cy="8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4" y="28"/>
                  </a:moveTo>
                  <a:lnTo>
                    <a:pt x="14" y="24"/>
                  </a:lnTo>
                  <a:lnTo>
                    <a:pt x="20" y="20"/>
                  </a:lnTo>
                  <a:lnTo>
                    <a:pt x="24" y="16"/>
                  </a:lnTo>
                  <a:lnTo>
                    <a:pt x="28" y="14"/>
                  </a:lnTo>
                  <a:lnTo>
                    <a:pt x="22" y="0"/>
                  </a:lnTo>
                  <a:lnTo>
                    <a:pt x="14" y="4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364160" y="5564520"/>
              <a:ext cx="11520" cy="864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0" y="10"/>
                  </a:moveTo>
                  <a:lnTo>
                    <a:pt x="0" y="8"/>
                  </a:lnTo>
                  <a:lnTo>
                    <a:pt x="8" y="18"/>
                  </a:lnTo>
                  <a:lnTo>
                    <a:pt x="15" y="24"/>
                  </a:lnTo>
                  <a:lnTo>
                    <a:pt x="27" y="28"/>
                  </a:lnTo>
                  <a:lnTo>
                    <a:pt x="35" y="28"/>
                  </a:lnTo>
                  <a:lnTo>
                    <a:pt x="35" y="14"/>
                  </a:lnTo>
                  <a:lnTo>
                    <a:pt x="29" y="12"/>
                  </a:lnTo>
                  <a:lnTo>
                    <a:pt x="21" y="12"/>
                  </a:lnTo>
                  <a:lnTo>
                    <a:pt x="15" y="10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364880" y="5555880"/>
              <a:ext cx="8640" cy="1116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17" y="2"/>
                  </a:moveTo>
                  <a:lnTo>
                    <a:pt x="9" y="6"/>
                  </a:lnTo>
                  <a:lnTo>
                    <a:pt x="4" y="18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13" y="29"/>
                  </a:lnTo>
                  <a:lnTo>
                    <a:pt x="13" y="27"/>
                  </a:lnTo>
                  <a:lnTo>
                    <a:pt x="15" y="23"/>
                  </a:lnTo>
                  <a:lnTo>
                    <a:pt x="23" y="14"/>
                  </a:lnTo>
                  <a:lnTo>
                    <a:pt x="27" y="10"/>
                  </a:lnTo>
                  <a:lnTo>
                    <a:pt x="27" y="6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370640" y="5545440"/>
              <a:ext cx="19080" cy="1332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50" y="0"/>
                  </a:moveTo>
                  <a:lnTo>
                    <a:pt x="52" y="0"/>
                  </a:lnTo>
                  <a:lnTo>
                    <a:pt x="44" y="4"/>
                  </a:lnTo>
                  <a:lnTo>
                    <a:pt x="38" y="8"/>
                  </a:lnTo>
                  <a:lnTo>
                    <a:pt x="32" y="10"/>
                  </a:lnTo>
                  <a:lnTo>
                    <a:pt x="24" y="12"/>
                  </a:lnTo>
                  <a:lnTo>
                    <a:pt x="16" y="16"/>
                  </a:lnTo>
                  <a:lnTo>
                    <a:pt x="10" y="20"/>
                  </a:lnTo>
                  <a:lnTo>
                    <a:pt x="4" y="26"/>
                  </a:lnTo>
                  <a:lnTo>
                    <a:pt x="0" y="34"/>
                  </a:lnTo>
                  <a:lnTo>
                    <a:pt x="10" y="42"/>
                  </a:lnTo>
                  <a:lnTo>
                    <a:pt x="14" y="36"/>
                  </a:lnTo>
                  <a:lnTo>
                    <a:pt x="20" y="34"/>
                  </a:lnTo>
                  <a:lnTo>
                    <a:pt x="24" y="30"/>
                  </a:lnTo>
                  <a:lnTo>
                    <a:pt x="32" y="26"/>
                  </a:lnTo>
                  <a:lnTo>
                    <a:pt x="38" y="20"/>
                  </a:lnTo>
                  <a:lnTo>
                    <a:pt x="42" y="18"/>
                  </a:lnTo>
                  <a:lnTo>
                    <a:pt x="52" y="14"/>
                  </a:lnTo>
                  <a:lnTo>
                    <a:pt x="56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62" y="8"/>
                  </a:lnTo>
                  <a:lnTo>
                    <a:pt x="62" y="4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385400" y="5535360"/>
              <a:ext cx="22680" cy="14760"/>
            </a:xfrm>
            <a:custGeom>
              <a:avLst/>
              <a:gdLst/>
              <a:ahLst/>
              <a:rect l="l" t="t" r="r" b="b"/>
              <a:pathLst>
                <a:path w="71" h="50">
                  <a:moveTo>
                    <a:pt x="63" y="0"/>
                  </a:moveTo>
                  <a:lnTo>
                    <a:pt x="53" y="4"/>
                  </a:lnTo>
                  <a:lnTo>
                    <a:pt x="47" y="8"/>
                  </a:lnTo>
                  <a:lnTo>
                    <a:pt x="38" y="12"/>
                  </a:lnTo>
                  <a:lnTo>
                    <a:pt x="32" y="18"/>
                  </a:lnTo>
                  <a:lnTo>
                    <a:pt x="24" y="22"/>
                  </a:lnTo>
                  <a:lnTo>
                    <a:pt x="16" y="28"/>
                  </a:lnTo>
                  <a:lnTo>
                    <a:pt x="8" y="32"/>
                  </a:lnTo>
                  <a:lnTo>
                    <a:pt x="0" y="36"/>
                  </a:lnTo>
                  <a:lnTo>
                    <a:pt x="10" y="50"/>
                  </a:lnTo>
                  <a:lnTo>
                    <a:pt x="16" y="44"/>
                  </a:lnTo>
                  <a:lnTo>
                    <a:pt x="26" y="38"/>
                  </a:lnTo>
                  <a:lnTo>
                    <a:pt x="32" y="32"/>
                  </a:lnTo>
                  <a:lnTo>
                    <a:pt x="42" y="28"/>
                  </a:lnTo>
                  <a:lnTo>
                    <a:pt x="47" y="24"/>
                  </a:lnTo>
                  <a:lnTo>
                    <a:pt x="53" y="20"/>
                  </a:lnTo>
                  <a:lnTo>
                    <a:pt x="61" y="16"/>
                  </a:lnTo>
                  <a:lnTo>
                    <a:pt x="69" y="12"/>
                  </a:lnTo>
                  <a:lnTo>
                    <a:pt x="71" y="8"/>
                  </a:lnTo>
                  <a:lnTo>
                    <a:pt x="71" y="2"/>
                  </a:lnTo>
                  <a:lnTo>
                    <a:pt x="67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404840" y="5527800"/>
              <a:ext cx="19080" cy="9720"/>
            </a:xfrm>
            <a:custGeom>
              <a:avLst/>
              <a:gdLst/>
              <a:ahLst/>
              <a:rect l="l" t="t" r="r" b="b"/>
              <a:pathLst>
                <a:path w="60" h="31">
                  <a:moveTo>
                    <a:pt x="48" y="0"/>
                  </a:moveTo>
                  <a:lnTo>
                    <a:pt x="50" y="0"/>
                  </a:lnTo>
                  <a:lnTo>
                    <a:pt x="44" y="2"/>
                  </a:lnTo>
                  <a:lnTo>
                    <a:pt x="38" y="3"/>
                  </a:lnTo>
                  <a:lnTo>
                    <a:pt x="32" y="9"/>
                  </a:lnTo>
                  <a:lnTo>
                    <a:pt x="26" y="9"/>
                  </a:lnTo>
                  <a:lnTo>
                    <a:pt x="20" y="13"/>
                  </a:lnTo>
                  <a:lnTo>
                    <a:pt x="14" y="13"/>
                  </a:lnTo>
                  <a:lnTo>
                    <a:pt x="8" y="15"/>
                  </a:lnTo>
                  <a:lnTo>
                    <a:pt x="0" y="21"/>
                  </a:lnTo>
                  <a:lnTo>
                    <a:pt x="8" y="31"/>
                  </a:lnTo>
                  <a:lnTo>
                    <a:pt x="14" y="29"/>
                  </a:lnTo>
                  <a:lnTo>
                    <a:pt x="20" y="27"/>
                  </a:lnTo>
                  <a:lnTo>
                    <a:pt x="26" y="25"/>
                  </a:lnTo>
                  <a:lnTo>
                    <a:pt x="32" y="21"/>
                  </a:lnTo>
                  <a:lnTo>
                    <a:pt x="38" y="19"/>
                  </a:lnTo>
                  <a:lnTo>
                    <a:pt x="44" y="15"/>
                  </a:lnTo>
                  <a:lnTo>
                    <a:pt x="50" y="13"/>
                  </a:lnTo>
                  <a:lnTo>
                    <a:pt x="54" y="9"/>
                  </a:lnTo>
                  <a:lnTo>
                    <a:pt x="58" y="9"/>
                  </a:lnTo>
                  <a:lnTo>
                    <a:pt x="54" y="9"/>
                  </a:lnTo>
                  <a:lnTo>
                    <a:pt x="60" y="9"/>
                  </a:lnTo>
                  <a:lnTo>
                    <a:pt x="60" y="2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420680" y="5522040"/>
              <a:ext cx="13680" cy="86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34" y="0"/>
                  </a:moveTo>
                  <a:lnTo>
                    <a:pt x="35" y="0"/>
                  </a:lnTo>
                  <a:lnTo>
                    <a:pt x="26" y="4"/>
                  </a:lnTo>
                  <a:lnTo>
                    <a:pt x="16" y="8"/>
                  </a:lnTo>
                  <a:lnTo>
                    <a:pt x="6" y="14"/>
                  </a:lnTo>
                  <a:lnTo>
                    <a:pt x="0" y="18"/>
                  </a:lnTo>
                  <a:lnTo>
                    <a:pt x="10" y="27"/>
                  </a:lnTo>
                  <a:lnTo>
                    <a:pt x="16" y="23"/>
                  </a:lnTo>
                  <a:lnTo>
                    <a:pt x="24" y="18"/>
                  </a:lnTo>
                  <a:lnTo>
                    <a:pt x="32" y="14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37" y="14"/>
                  </a:lnTo>
                  <a:lnTo>
                    <a:pt x="43" y="10"/>
                  </a:lnTo>
                  <a:lnTo>
                    <a:pt x="43" y="6"/>
                  </a:lnTo>
                  <a:lnTo>
                    <a:pt x="39" y="2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431480" y="5518800"/>
              <a:ext cx="18360" cy="792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53" y="0"/>
                  </a:moveTo>
                  <a:lnTo>
                    <a:pt x="47" y="0"/>
                  </a:lnTo>
                  <a:lnTo>
                    <a:pt x="37" y="0"/>
                  </a:lnTo>
                  <a:lnTo>
                    <a:pt x="33" y="2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9" y="6"/>
                  </a:lnTo>
                  <a:lnTo>
                    <a:pt x="5" y="8"/>
                  </a:lnTo>
                  <a:lnTo>
                    <a:pt x="0" y="10"/>
                  </a:lnTo>
                  <a:lnTo>
                    <a:pt x="5" y="26"/>
                  </a:lnTo>
                  <a:lnTo>
                    <a:pt x="9" y="22"/>
                  </a:lnTo>
                  <a:lnTo>
                    <a:pt x="17" y="20"/>
                  </a:lnTo>
                  <a:lnTo>
                    <a:pt x="21" y="18"/>
                  </a:lnTo>
                  <a:lnTo>
                    <a:pt x="29" y="16"/>
                  </a:lnTo>
                  <a:lnTo>
                    <a:pt x="37" y="16"/>
                  </a:lnTo>
                  <a:lnTo>
                    <a:pt x="43" y="14"/>
                  </a:lnTo>
                  <a:lnTo>
                    <a:pt x="49" y="12"/>
                  </a:lnTo>
                  <a:lnTo>
                    <a:pt x="53" y="12"/>
                  </a:lnTo>
                  <a:lnTo>
                    <a:pt x="57" y="10"/>
                  </a:lnTo>
                  <a:lnTo>
                    <a:pt x="59" y="6"/>
                  </a:lnTo>
                  <a:lnTo>
                    <a:pt x="57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448760" y="5518440"/>
              <a:ext cx="23760" cy="6840"/>
            </a:xfrm>
            <a:custGeom>
              <a:avLst/>
              <a:gdLst/>
              <a:ahLst/>
              <a:rect l="l" t="t" r="r" b="b"/>
              <a:pathLst>
                <a:path w="75" h="22">
                  <a:moveTo>
                    <a:pt x="69" y="6"/>
                  </a:moveTo>
                  <a:lnTo>
                    <a:pt x="59" y="4"/>
                  </a:lnTo>
                  <a:lnTo>
                    <a:pt x="51" y="4"/>
                  </a:lnTo>
                  <a:lnTo>
                    <a:pt x="44" y="2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0" y="12"/>
                  </a:lnTo>
                  <a:lnTo>
                    <a:pt x="16" y="12"/>
                  </a:lnTo>
                  <a:lnTo>
                    <a:pt x="24" y="16"/>
                  </a:lnTo>
                  <a:lnTo>
                    <a:pt x="34" y="16"/>
                  </a:lnTo>
                  <a:lnTo>
                    <a:pt x="40" y="18"/>
                  </a:lnTo>
                  <a:lnTo>
                    <a:pt x="49" y="18"/>
                  </a:lnTo>
                  <a:lnTo>
                    <a:pt x="57" y="18"/>
                  </a:lnTo>
                  <a:lnTo>
                    <a:pt x="67" y="22"/>
                  </a:lnTo>
                  <a:lnTo>
                    <a:pt x="71" y="18"/>
                  </a:lnTo>
                  <a:lnTo>
                    <a:pt x="75" y="16"/>
                  </a:lnTo>
                  <a:lnTo>
                    <a:pt x="73" y="8"/>
                  </a:lnTo>
                  <a:lnTo>
                    <a:pt x="6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470360" y="5521320"/>
              <a:ext cx="25200" cy="1692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78" y="39"/>
                  </a:moveTo>
                  <a:lnTo>
                    <a:pt x="78" y="37"/>
                  </a:lnTo>
                  <a:lnTo>
                    <a:pt x="70" y="35"/>
                  </a:lnTo>
                  <a:lnTo>
                    <a:pt x="60" y="31"/>
                  </a:lnTo>
                  <a:lnTo>
                    <a:pt x="50" y="25"/>
                  </a:lnTo>
                  <a:lnTo>
                    <a:pt x="44" y="20"/>
                  </a:lnTo>
                  <a:lnTo>
                    <a:pt x="36" y="14"/>
                  </a:lnTo>
                  <a:lnTo>
                    <a:pt x="24" y="8"/>
                  </a:lnTo>
                  <a:lnTo>
                    <a:pt x="14" y="2"/>
                  </a:lnTo>
                  <a:lnTo>
                    <a:pt x="2" y="0"/>
                  </a:lnTo>
                  <a:lnTo>
                    <a:pt x="0" y="14"/>
                  </a:lnTo>
                  <a:lnTo>
                    <a:pt x="10" y="16"/>
                  </a:lnTo>
                  <a:lnTo>
                    <a:pt x="18" y="20"/>
                  </a:lnTo>
                  <a:lnTo>
                    <a:pt x="26" y="25"/>
                  </a:lnTo>
                  <a:lnTo>
                    <a:pt x="36" y="31"/>
                  </a:lnTo>
                  <a:lnTo>
                    <a:pt x="44" y="35"/>
                  </a:lnTo>
                  <a:lnTo>
                    <a:pt x="50" y="41"/>
                  </a:lnTo>
                  <a:lnTo>
                    <a:pt x="64" y="45"/>
                  </a:lnTo>
                  <a:lnTo>
                    <a:pt x="72" y="53"/>
                  </a:lnTo>
                  <a:lnTo>
                    <a:pt x="72" y="51"/>
                  </a:lnTo>
                  <a:lnTo>
                    <a:pt x="76" y="51"/>
                  </a:lnTo>
                  <a:lnTo>
                    <a:pt x="80" y="45"/>
                  </a:lnTo>
                  <a:lnTo>
                    <a:pt x="80" y="41"/>
                  </a:lnTo>
                  <a:lnTo>
                    <a:pt x="7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492680" y="5532840"/>
              <a:ext cx="27720" cy="16200"/>
            </a:xfrm>
            <a:custGeom>
              <a:avLst/>
              <a:gdLst/>
              <a:ahLst/>
              <a:rect l="l" t="t" r="r" b="b"/>
              <a:pathLst>
                <a:path w="89" h="54">
                  <a:moveTo>
                    <a:pt x="87" y="40"/>
                  </a:moveTo>
                  <a:lnTo>
                    <a:pt x="75" y="36"/>
                  </a:lnTo>
                  <a:lnTo>
                    <a:pt x="65" y="30"/>
                  </a:lnTo>
                  <a:lnTo>
                    <a:pt x="53" y="26"/>
                  </a:lnTo>
                  <a:lnTo>
                    <a:pt x="45" y="20"/>
                  </a:lnTo>
                  <a:lnTo>
                    <a:pt x="35" y="14"/>
                  </a:lnTo>
                  <a:lnTo>
                    <a:pt x="23" y="8"/>
                  </a:lnTo>
                  <a:lnTo>
                    <a:pt x="15" y="4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0" y="14"/>
                  </a:lnTo>
                  <a:lnTo>
                    <a:pt x="19" y="20"/>
                  </a:lnTo>
                  <a:lnTo>
                    <a:pt x="27" y="26"/>
                  </a:lnTo>
                  <a:lnTo>
                    <a:pt x="39" y="32"/>
                  </a:lnTo>
                  <a:lnTo>
                    <a:pt x="49" y="36"/>
                  </a:lnTo>
                  <a:lnTo>
                    <a:pt x="59" y="40"/>
                  </a:lnTo>
                  <a:lnTo>
                    <a:pt x="69" y="46"/>
                  </a:lnTo>
                  <a:lnTo>
                    <a:pt x="77" y="54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89" y="44"/>
                  </a:lnTo>
                  <a:lnTo>
                    <a:pt x="8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516800" y="5545080"/>
              <a:ext cx="21240" cy="16200"/>
            </a:xfrm>
            <a:custGeom>
              <a:avLst/>
              <a:gdLst/>
              <a:ahLst/>
              <a:rect l="l" t="t" r="r" b="b"/>
              <a:pathLst>
                <a:path w="67" h="52">
                  <a:moveTo>
                    <a:pt x="63" y="40"/>
                  </a:moveTo>
                  <a:lnTo>
                    <a:pt x="55" y="36"/>
                  </a:lnTo>
                  <a:lnTo>
                    <a:pt x="51" y="36"/>
                  </a:lnTo>
                  <a:lnTo>
                    <a:pt x="43" y="28"/>
                  </a:lnTo>
                  <a:lnTo>
                    <a:pt x="37" y="22"/>
                  </a:lnTo>
                  <a:lnTo>
                    <a:pt x="30" y="18"/>
                  </a:lnTo>
                  <a:lnTo>
                    <a:pt x="26" y="12"/>
                  </a:lnTo>
                  <a:lnTo>
                    <a:pt x="16" y="6"/>
                  </a:lnTo>
                  <a:lnTo>
                    <a:pt x="10" y="0"/>
                  </a:lnTo>
                  <a:lnTo>
                    <a:pt x="0" y="14"/>
                  </a:lnTo>
                  <a:lnTo>
                    <a:pt x="6" y="18"/>
                  </a:lnTo>
                  <a:lnTo>
                    <a:pt x="16" y="22"/>
                  </a:lnTo>
                  <a:lnTo>
                    <a:pt x="20" y="28"/>
                  </a:lnTo>
                  <a:lnTo>
                    <a:pt x="30" y="36"/>
                  </a:lnTo>
                  <a:lnTo>
                    <a:pt x="36" y="40"/>
                  </a:lnTo>
                  <a:lnTo>
                    <a:pt x="43" y="46"/>
                  </a:lnTo>
                  <a:lnTo>
                    <a:pt x="51" y="50"/>
                  </a:lnTo>
                  <a:lnTo>
                    <a:pt x="59" y="52"/>
                  </a:lnTo>
                  <a:lnTo>
                    <a:pt x="65" y="52"/>
                  </a:lnTo>
                  <a:lnTo>
                    <a:pt x="67" y="48"/>
                  </a:lnTo>
                  <a:lnTo>
                    <a:pt x="67" y="42"/>
                  </a:lnTo>
                  <a:lnTo>
                    <a:pt x="6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536240" y="5558040"/>
              <a:ext cx="36720" cy="10440"/>
            </a:xfrm>
            <a:custGeom>
              <a:avLst/>
              <a:gdLst/>
              <a:ahLst/>
              <a:rect l="l" t="t" r="r" b="b"/>
              <a:pathLst>
                <a:path w="115" h="33">
                  <a:moveTo>
                    <a:pt x="115" y="29"/>
                  </a:moveTo>
                  <a:lnTo>
                    <a:pt x="111" y="17"/>
                  </a:lnTo>
                  <a:lnTo>
                    <a:pt x="2" y="0"/>
                  </a:lnTo>
                  <a:lnTo>
                    <a:pt x="0" y="11"/>
                  </a:lnTo>
                  <a:lnTo>
                    <a:pt x="107" y="33"/>
                  </a:lnTo>
                  <a:lnTo>
                    <a:pt x="103" y="21"/>
                  </a:lnTo>
                  <a:lnTo>
                    <a:pt x="107" y="33"/>
                  </a:lnTo>
                  <a:lnTo>
                    <a:pt x="115" y="29"/>
                  </a:lnTo>
                  <a:lnTo>
                    <a:pt x="115" y="27"/>
                  </a:lnTo>
                  <a:lnTo>
                    <a:pt x="115" y="21"/>
                  </a:lnTo>
                  <a:lnTo>
                    <a:pt x="111" y="17"/>
                  </a:lnTo>
                  <a:lnTo>
                    <a:pt x="11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542000" y="5566680"/>
              <a:ext cx="31680" cy="45000"/>
            </a:xfrm>
            <a:custGeom>
              <a:avLst/>
              <a:gdLst/>
              <a:ahLst/>
              <a:rect l="l" t="t" r="r" b="b"/>
              <a:pathLst>
                <a:path w="99" h="141">
                  <a:moveTo>
                    <a:pt x="8" y="141"/>
                  </a:moveTo>
                  <a:lnTo>
                    <a:pt x="14" y="137"/>
                  </a:lnTo>
                  <a:lnTo>
                    <a:pt x="26" y="121"/>
                  </a:lnTo>
                  <a:lnTo>
                    <a:pt x="40" y="105"/>
                  </a:lnTo>
                  <a:lnTo>
                    <a:pt x="50" y="88"/>
                  </a:lnTo>
                  <a:lnTo>
                    <a:pt x="59" y="70"/>
                  </a:lnTo>
                  <a:lnTo>
                    <a:pt x="71" y="54"/>
                  </a:lnTo>
                  <a:lnTo>
                    <a:pt x="83" y="38"/>
                  </a:lnTo>
                  <a:lnTo>
                    <a:pt x="93" y="20"/>
                  </a:lnTo>
                  <a:lnTo>
                    <a:pt x="99" y="6"/>
                  </a:lnTo>
                  <a:lnTo>
                    <a:pt x="85" y="0"/>
                  </a:lnTo>
                  <a:lnTo>
                    <a:pt x="77" y="16"/>
                  </a:lnTo>
                  <a:lnTo>
                    <a:pt x="71" y="34"/>
                  </a:lnTo>
                  <a:lnTo>
                    <a:pt x="59" y="46"/>
                  </a:lnTo>
                  <a:lnTo>
                    <a:pt x="50" y="62"/>
                  </a:lnTo>
                  <a:lnTo>
                    <a:pt x="40" y="80"/>
                  </a:lnTo>
                  <a:lnTo>
                    <a:pt x="26" y="95"/>
                  </a:lnTo>
                  <a:lnTo>
                    <a:pt x="12" y="113"/>
                  </a:lnTo>
                  <a:lnTo>
                    <a:pt x="2" y="129"/>
                  </a:lnTo>
                  <a:lnTo>
                    <a:pt x="8" y="125"/>
                  </a:lnTo>
                  <a:lnTo>
                    <a:pt x="2" y="129"/>
                  </a:lnTo>
                  <a:lnTo>
                    <a:pt x="0" y="135"/>
                  </a:lnTo>
                  <a:lnTo>
                    <a:pt x="2" y="139"/>
                  </a:lnTo>
                  <a:lnTo>
                    <a:pt x="10" y="141"/>
                  </a:lnTo>
                  <a:lnTo>
                    <a:pt x="14" y="137"/>
                  </a:lnTo>
                  <a:lnTo>
                    <a:pt x="8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542720" y="5559480"/>
              <a:ext cx="43200" cy="6264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37" y="0"/>
                  </a:moveTo>
                  <a:lnTo>
                    <a:pt x="127" y="0"/>
                  </a:lnTo>
                  <a:lnTo>
                    <a:pt x="115" y="0"/>
                  </a:lnTo>
                  <a:lnTo>
                    <a:pt x="105" y="0"/>
                  </a:lnTo>
                  <a:lnTo>
                    <a:pt x="95" y="0"/>
                  </a:lnTo>
                  <a:lnTo>
                    <a:pt x="87" y="4"/>
                  </a:lnTo>
                  <a:lnTo>
                    <a:pt x="79" y="4"/>
                  </a:lnTo>
                  <a:lnTo>
                    <a:pt x="71" y="9"/>
                  </a:lnTo>
                  <a:lnTo>
                    <a:pt x="67" y="11"/>
                  </a:lnTo>
                  <a:lnTo>
                    <a:pt x="57" y="19"/>
                  </a:lnTo>
                  <a:lnTo>
                    <a:pt x="50" y="31"/>
                  </a:lnTo>
                  <a:lnTo>
                    <a:pt x="46" y="41"/>
                  </a:lnTo>
                  <a:lnTo>
                    <a:pt x="36" y="51"/>
                  </a:lnTo>
                  <a:lnTo>
                    <a:pt x="32" y="63"/>
                  </a:lnTo>
                  <a:lnTo>
                    <a:pt x="28" y="73"/>
                  </a:lnTo>
                  <a:lnTo>
                    <a:pt x="22" y="83"/>
                  </a:lnTo>
                  <a:lnTo>
                    <a:pt x="16" y="95"/>
                  </a:lnTo>
                  <a:lnTo>
                    <a:pt x="12" y="107"/>
                  </a:lnTo>
                  <a:lnTo>
                    <a:pt x="8" y="118"/>
                  </a:lnTo>
                  <a:lnTo>
                    <a:pt x="4" y="132"/>
                  </a:lnTo>
                  <a:lnTo>
                    <a:pt x="2" y="146"/>
                  </a:lnTo>
                  <a:lnTo>
                    <a:pt x="0" y="156"/>
                  </a:lnTo>
                  <a:lnTo>
                    <a:pt x="0" y="166"/>
                  </a:lnTo>
                  <a:lnTo>
                    <a:pt x="0" y="178"/>
                  </a:lnTo>
                  <a:lnTo>
                    <a:pt x="4" y="186"/>
                  </a:lnTo>
                  <a:lnTo>
                    <a:pt x="8" y="190"/>
                  </a:lnTo>
                  <a:lnTo>
                    <a:pt x="14" y="194"/>
                  </a:lnTo>
                  <a:lnTo>
                    <a:pt x="22" y="196"/>
                  </a:lnTo>
                  <a:lnTo>
                    <a:pt x="28" y="198"/>
                  </a:lnTo>
                  <a:lnTo>
                    <a:pt x="36" y="198"/>
                  </a:lnTo>
                  <a:lnTo>
                    <a:pt x="46" y="198"/>
                  </a:lnTo>
                  <a:lnTo>
                    <a:pt x="52" y="198"/>
                  </a:lnTo>
                  <a:lnTo>
                    <a:pt x="57" y="198"/>
                  </a:lnTo>
                  <a:lnTo>
                    <a:pt x="67" y="198"/>
                  </a:lnTo>
                  <a:lnTo>
                    <a:pt x="73" y="198"/>
                  </a:lnTo>
                  <a:lnTo>
                    <a:pt x="81" y="198"/>
                  </a:lnTo>
                  <a:lnTo>
                    <a:pt x="91" y="198"/>
                  </a:lnTo>
                  <a:lnTo>
                    <a:pt x="99" y="196"/>
                  </a:lnTo>
                  <a:lnTo>
                    <a:pt x="107" y="196"/>
                  </a:lnTo>
                  <a:lnTo>
                    <a:pt x="115" y="194"/>
                  </a:lnTo>
                  <a:lnTo>
                    <a:pt x="123" y="194"/>
                  </a:lnTo>
                  <a:lnTo>
                    <a:pt x="127" y="146"/>
                  </a:lnTo>
                  <a:lnTo>
                    <a:pt x="131" y="97"/>
                  </a:lnTo>
                  <a:lnTo>
                    <a:pt x="135" y="49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9c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542720" y="5559480"/>
              <a:ext cx="43200" cy="6264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37" y="0"/>
                  </a:moveTo>
                  <a:lnTo>
                    <a:pt x="127" y="0"/>
                  </a:lnTo>
                  <a:lnTo>
                    <a:pt x="115" y="0"/>
                  </a:lnTo>
                  <a:lnTo>
                    <a:pt x="105" y="0"/>
                  </a:lnTo>
                  <a:lnTo>
                    <a:pt x="95" y="0"/>
                  </a:lnTo>
                  <a:lnTo>
                    <a:pt x="87" y="4"/>
                  </a:lnTo>
                  <a:lnTo>
                    <a:pt x="79" y="4"/>
                  </a:lnTo>
                  <a:lnTo>
                    <a:pt x="71" y="9"/>
                  </a:lnTo>
                  <a:lnTo>
                    <a:pt x="67" y="11"/>
                  </a:lnTo>
                  <a:lnTo>
                    <a:pt x="57" y="19"/>
                  </a:lnTo>
                  <a:lnTo>
                    <a:pt x="50" y="31"/>
                  </a:lnTo>
                  <a:lnTo>
                    <a:pt x="46" y="41"/>
                  </a:lnTo>
                  <a:lnTo>
                    <a:pt x="36" y="51"/>
                  </a:lnTo>
                  <a:lnTo>
                    <a:pt x="32" y="63"/>
                  </a:lnTo>
                  <a:lnTo>
                    <a:pt x="28" y="73"/>
                  </a:lnTo>
                  <a:lnTo>
                    <a:pt x="22" y="83"/>
                  </a:lnTo>
                  <a:lnTo>
                    <a:pt x="16" y="95"/>
                  </a:lnTo>
                  <a:lnTo>
                    <a:pt x="12" y="107"/>
                  </a:lnTo>
                  <a:lnTo>
                    <a:pt x="8" y="118"/>
                  </a:lnTo>
                  <a:lnTo>
                    <a:pt x="4" y="132"/>
                  </a:lnTo>
                  <a:lnTo>
                    <a:pt x="2" y="146"/>
                  </a:lnTo>
                  <a:lnTo>
                    <a:pt x="0" y="156"/>
                  </a:lnTo>
                  <a:lnTo>
                    <a:pt x="0" y="166"/>
                  </a:lnTo>
                  <a:lnTo>
                    <a:pt x="0" y="178"/>
                  </a:lnTo>
                  <a:lnTo>
                    <a:pt x="4" y="186"/>
                  </a:lnTo>
                  <a:lnTo>
                    <a:pt x="8" y="190"/>
                  </a:lnTo>
                  <a:lnTo>
                    <a:pt x="14" y="194"/>
                  </a:lnTo>
                  <a:lnTo>
                    <a:pt x="22" y="196"/>
                  </a:lnTo>
                  <a:lnTo>
                    <a:pt x="28" y="198"/>
                  </a:lnTo>
                  <a:lnTo>
                    <a:pt x="36" y="198"/>
                  </a:lnTo>
                  <a:lnTo>
                    <a:pt x="46" y="198"/>
                  </a:lnTo>
                  <a:lnTo>
                    <a:pt x="52" y="198"/>
                  </a:lnTo>
                  <a:lnTo>
                    <a:pt x="57" y="198"/>
                  </a:lnTo>
                  <a:lnTo>
                    <a:pt x="67" y="198"/>
                  </a:lnTo>
                  <a:lnTo>
                    <a:pt x="73" y="198"/>
                  </a:lnTo>
                  <a:lnTo>
                    <a:pt x="81" y="198"/>
                  </a:lnTo>
                  <a:lnTo>
                    <a:pt x="91" y="198"/>
                  </a:lnTo>
                  <a:lnTo>
                    <a:pt x="99" y="196"/>
                  </a:lnTo>
                  <a:lnTo>
                    <a:pt x="107" y="196"/>
                  </a:lnTo>
                  <a:lnTo>
                    <a:pt x="115" y="194"/>
                  </a:lnTo>
                  <a:lnTo>
                    <a:pt x="123" y="194"/>
                  </a:lnTo>
                  <a:lnTo>
                    <a:pt x="127" y="146"/>
                  </a:lnTo>
                  <a:lnTo>
                    <a:pt x="131" y="97"/>
                  </a:lnTo>
                  <a:lnTo>
                    <a:pt x="135" y="49"/>
                  </a:lnTo>
                  <a:lnTo>
                    <a:pt x="137" y="0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599240" y="5105520"/>
              <a:ext cx="109080" cy="196200"/>
            </a:xfrm>
            <a:custGeom>
              <a:avLst/>
              <a:gdLst/>
              <a:ahLst/>
              <a:rect l="l" t="t" r="r" b="b"/>
              <a:pathLst>
                <a:path w="345" h="618">
                  <a:moveTo>
                    <a:pt x="40" y="18"/>
                  </a:moveTo>
                  <a:lnTo>
                    <a:pt x="32" y="46"/>
                  </a:lnTo>
                  <a:lnTo>
                    <a:pt x="22" y="73"/>
                  </a:lnTo>
                  <a:lnTo>
                    <a:pt x="14" y="105"/>
                  </a:lnTo>
                  <a:lnTo>
                    <a:pt x="6" y="135"/>
                  </a:lnTo>
                  <a:lnTo>
                    <a:pt x="4" y="153"/>
                  </a:lnTo>
                  <a:lnTo>
                    <a:pt x="0" y="174"/>
                  </a:lnTo>
                  <a:lnTo>
                    <a:pt x="0" y="194"/>
                  </a:lnTo>
                  <a:lnTo>
                    <a:pt x="0" y="216"/>
                  </a:lnTo>
                  <a:lnTo>
                    <a:pt x="0" y="248"/>
                  </a:lnTo>
                  <a:lnTo>
                    <a:pt x="2" y="281"/>
                  </a:lnTo>
                  <a:lnTo>
                    <a:pt x="4" y="315"/>
                  </a:lnTo>
                  <a:lnTo>
                    <a:pt x="8" y="349"/>
                  </a:lnTo>
                  <a:lnTo>
                    <a:pt x="12" y="373"/>
                  </a:lnTo>
                  <a:lnTo>
                    <a:pt x="14" y="392"/>
                  </a:lnTo>
                  <a:lnTo>
                    <a:pt x="16" y="418"/>
                  </a:lnTo>
                  <a:lnTo>
                    <a:pt x="22" y="440"/>
                  </a:lnTo>
                  <a:lnTo>
                    <a:pt x="26" y="444"/>
                  </a:lnTo>
                  <a:lnTo>
                    <a:pt x="32" y="452"/>
                  </a:lnTo>
                  <a:lnTo>
                    <a:pt x="36" y="456"/>
                  </a:lnTo>
                  <a:lnTo>
                    <a:pt x="42" y="460"/>
                  </a:lnTo>
                  <a:lnTo>
                    <a:pt x="50" y="462"/>
                  </a:lnTo>
                  <a:lnTo>
                    <a:pt x="56" y="466"/>
                  </a:lnTo>
                  <a:lnTo>
                    <a:pt x="62" y="470"/>
                  </a:lnTo>
                  <a:lnTo>
                    <a:pt x="70" y="472"/>
                  </a:lnTo>
                  <a:lnTo>
                    <a:pt x="80" y="474"/>
                  </a:lnTo>
                  <a:lnTo>
                    <a:pt x="87" y="476"/>
                  </a:lnTo>
                  <a:lnTo>
                    <a:pt x="95" y="476"/>
                  </a:lnTo>
                  <a:lnTo>
                    <a:pt x="105" y="480"/>
                  </a:lnTo>
                  <a:lnTo>
                    <a:pt x="115" y="480"/>
                  </a:lnTo>
                  <a:lnTo>
                    <a:pt x="123" y="480"/>
                  </a:lnTo>
                  <a:lnTo>
                    <a:pt x="135" y="480"/>
                  </a:lnTo>
                  <a:lnTo>
                    <a:pt x="143" y="484"/>
                  </a:lnTo>
                  <a:lnTo>
                    <a:pt x="153" y="499"/>
                  </a:lnTo>
                  <a:lnTo>
                    <a:pt x="163" y="517"/>
                  </a:lnTo>
                  <a:lnTo>
                    <a:pt x="175" y="533"/>
                  </a:lnTo>
                  <a:lnTo>
                    <a:pt x="184" y="551"/>
                  </a:lnTo>
                  <a:lnTo>
                    <a:pt x="194" y="567"/>
                  </a:lnTo>
                  <a:lnTo>
                    <a:pt x="204" y="585"/>
                  </a:lnTo>
                  <a:lnTo>
                    <a:pt x="216" y="600"/>
                  </a:lnTo>
                  <a:lnTo>
                    <a:pt x="224" y="618"/>
                  </a:lnTo>
                  <a:lnTo>
                    <a:pt x="232" y="604"/>
                  </a:lnTo>
                  <a:lnTo>
                    <a:pt x="240" y="591"/>
                  </a:lnTo>
                  <a:lnTo>
                    <a:pt x="244" y="579"/>
                  </a:lnTo>
                  <a:lnTo>
                    <a:pt x="254" y="567"/>
                  </a:lnTo>
                  <a:lnTo>
                    <a:pt x="262" y="535"/>
                  </a:lnTo>
                  <a:lnTo>
                    <a:pt x="276" y="503"/>
                  </a:lnTo>
                  <a:lnTo>
                    <a:pt x="285" y="472"/>
                  </a:lnTo>
                  <a:lnTo>
                    <a:pt x="297" y="442"/>
                  </a:lnTo>
                  <a:lnTo>
                    <a:pt x="307" y="410"/>
                  </a:lnTo>
                  <a:lnTo>
                    <a:pt x="319" y="382"/>
                  </a:lnTo>
                  <a:lnTo>
                    <a:pt x="329" y="351"/>
                  </a:lnTo>
                  <a:lnTo>
                    <a:pt x="341" y="319"/>
                  </a:lnTo>
                  <a:lnTo>
                    <a:pt x="341" y="281"/>
                  </a:lnTo>
                  <a:lnTo>
                    <a:pt x="341" y="240"/>
                  </a:lnTo>
                  <a:lnTo>
                    <a:pt x="343" y="204"/>
                  </a:lnTo>
                  <a:lnTo>
                    <a:pt x="345" y="163"/>
                  </a:lnTo>
                  <a:lnTo>
                    <a:pt x="339" y="155"/>
                  </a:lnTo>
                  <a:lnTo>
                    <a:pt x="333" y="147"/>
                  </a:lnTo>
                  <a:lnTo>
                    <a:pt x="327" y="139"/>
                  </a:lnTo>
                  <a:lnTo>
                    <a:pt x="323" y="129"/>
                  </a:lnTo>
                  <a:lnTo>
                    <a:pt x="317" y="121"/>
                  </a:lnTo>
                  <a:lnTo>
                    <a:pt x="311" y="113"/>
                  </a:lnTo>
                  <a:lnTo>
                    <a:pt x="307" y="105"/>
                  </a:lnTo>
                  <a:lnTo>
                    <a:pt x="299" y="97"/>
                  </a:lnTo>
                  <a:lnTo>
                    <a:pt x="125" y="0"/>
                  </a:lnTo>
                  <a:lnTo>
                    <a:pt x="115" y="2"/>
                  </a:lnTo>
                  <a:lnTo>
                    <a:pt x="103" y="4"/>
                  </a:lnTo>
                  <a:lnTo>
                    <a:pt x="91" y="6"/>
                  </a:lnTo>
                  <a:lnTo>
                    <a:pt x="83" y="8"/>
                  </a:lnTo>
                  <a:lnTo>
                    <a:pt x="72" y="10"/>
                  </a:lnTo>
                  <a:lnTo>
                    <a:pt x="62" y="12"/>
                  </a:lnTo>
                  <a:lnTo>
                    <a:pt x="52" y="14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ffe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599240" y="5105520"/>
              <a:ext cx="109080" cy="196200"/>
            </a:xfrm>
            <a:custGeom>
              <a:avLst/>
              <a:gdLst/>
              <a:ahLst/>
              <a:rect l="l" t="t" r="r" b="b"/>
              <a:pathLst>
                <a:path w="345" h="618">
                  <a:moveTo>
                    <a:pt x="40" y="18"/>
                  </a:moveTo>
                  <a:lnTo>
                    <a:pt x="32" y="46"/>
                  </a:lnTo>
                  <a:lnTo>
                    <a:pt x="22" y="73"/>
                  </a:lnTo>
                  <a:lnTo>
                    <a:pt x="14" y="105"/>
                  </a:lnTo>
                  <a:lnTo>
                    <a:pt x="6" y="135"/>
                  </a:lnTo>
                  <a:lnTo>
                    <a:pt x="4" y="153"/>
                  </a:lnTo>
                  <a:lnTo>
                    <a:pt x="0" y="174"/>
                  </a:lnTo>
                  <a:lnTo>
                    <a:pt x="0" y="194"/>
                  </a:lnTo>
                  <a:lnTo>
                    <a:pt x="0" y="216"/>
                  </a:lnTo>
                  <a:lnTo>
                    <a:pt x="0" y="248"/>
                  </a:lnTo>
                  <a:lnTo>
                    <a:pt x="2" y="281"/>
                  </a:lnTo>
                  <a:lnTo>
                    <a:pt x="4" y="315"/>
                  </a:lnTo>
                  <a:lnTo>
                    <a:pt x="8" y="349"/>
                  </a:lnTo>
                  <a:lnTo>
                    <a:pt x="12" y="373"/>
                  </a:lnTo>
                  <a:lnTo>
                    <a:pt x="14" y="392"/>
                  </a:lnTo>
                  <a:lnTo>
                    <a:pt x="16" y="418"/>
                  </a:lnTo>
                  <a:lnTo>
                    <a:pt x="22" y="440"/>
                  </a:lnTo>
                  <a:lnTo>
                    <a:pt x="26" y="444"/>
                  </a:lnTo>
                  <a:lnTo>
                    <a:pt x="32" y="452"/>
                  </a:lnTo>
                  <a:lnTo>
                    <a:pt x="36" y="456"/>
                  </a:lnTo>
                  <a:lnTo>
                    <a:pt x="42" y="460"/>
                  </a:lnTo>
                  <a:lnTo>
                    <a:pt x="50" y="462"/>
                  </a:lnTo>
                  <a:lnTo>
                    <a:pt x="56" y="466"/>
                  </a:lnTo>
                  <a:lnTo>
                    <a:pt x="62" y="470"/>
                  </a:lnTo>
                  <a:lnTo>
                    <a:pt x="70" y="472"/>
                  </a:lnTo>
                  <a:lnTo>
                    <a:pt x="80" y="474"/>
                  </a:lnTo>
                  <a:lnTo>
                    <a:pt x="87" y="476"/>
                  </a:lnTo>
                  <a:lnTo>
                    <a:pt x="95" y="476"/>
                  </a:lnTo>
                  <a:lnTo>
                    <a:pt x="105" y="480"/>
                  </a:lnTo>
                  <a:lnTo>
                    <a:pt x="115" y="480"/>
                  </a:lnTo>
                  <a:lnTo>
                    <a:pt x="123" y="480"/>
                  </a:lnTo>
                  <a:lnTo>
                    <a:pt x="135" y="480"/>
                  </a:lnTo>
                  <a:lnTo>
                    <a:pt x="143" y="484"/>
                  </a:lnTo>
                  <a:lnTo>
                    <a:pt x="153" y="499"/>
                  </a:lnTo>
                  <a:lnTo>
                    <a:pt x="163" y="517"/>
                  </a:lnTo>
                  <a:lnTo>
                    <a:pt x="175" y="533"/>
                  </a:lnTo>
                  <a:lnTo>
                    <a:pt x="184" y="551"/>
                  </a:lnTo>
                  <a:lnTo>
                    <a:pt x="194" y="567"/>
                  </a:lnTo>
                  <a:lnTo>
                    <a:pt x="204" y="585"/>
                  </a:lnTo>
                  <a:lnTo>
                    <a:pt x="216" y="600"/>
                  </a:lnTo>
                  <a:lnTo>
                    <a:pt x="224" y="618"/>
                  </a:lnTo>
                  <a:lnTo>
                    <a:pt x="232" y="604"/>
                  </a:lnTo>
                  <a:lnTo>
                    <a:pt x="240" y="591"/>
                  </a:lnTo>
                  <a:lnTo>
                    <a:pt x="244" y="579"/>
                  </a:lnTo>
                  <a:lnTo>
                    <a:pt x="254" y="567"/>
                  </a:lnTo>
                  <a:lnTo>
                    <a:pt x="262" y="535"/>
                  </a:lnTo>
                  <a:lnTo>
                    <a:pt x="276" y="503"/>
                  </a:lnTo>
                  <a:lnTo>
                    <a:pt x="285" y="472"/>
                  </a:lnTo>
                  <a:lnTo>
                    <a:pt x="297" y="442"/>
                  </a:lnTo>
                  <a:lnTo>
                    <a:pt x="307" y="410"/>
                  </a:lnTo>
                  <a:lnTo>
                    <a:pt x="319" y="382"/>
                  </a:lnTo>
                  <a:lnTo>
                    <a:pt x="329" y="351"/>
                  </a:lnTo>
                  <a:lnTo>
                    <a:pt x="341" y="319"/>
                  </a:lnTo>
                  <a:lnTo>
                    <a:pt x="341" y="281"/>
                  </a:lnTo>
                  <a:lnTo>
                    <a:pt x="341" y="240"/>
                  </a:lnTo>
                  <a:lnTo>
                    <a:pt x="343" y="204"/>
                  </a:lnTo>
                  <a:lnTo>
                    <a:pt x="345" y="163"/>
                  </a:lnTo>
                  <a:lnTo>
                    <a:pt x="339" y="155"/>
                  </a:lnTo>
                  <a:lnTo>
                    <a:pt x="333" y="147"/>
                  </a:lnTo>
                  <a:lnTo>
                    <a:pt x="327" y="139"/>
                  </a:lnTo>
                  <a:lnTo>
                    <a:pt x="323" y="129"/>
                  </a:lnTo>
                  <a:lnTo>
                    <a:pt x="317" y="121"/>
                  </a:lnTo>
                  <a:lnTo>
                    <a:pt x="311" y="113"/>
                  </a:lnTo>
                  <a:lnTo>
                    <a:pt x="307" y="105"/>
                  </a:lnTo>
                  <a:lnTo>
                    <a:pt x="299" y="97"/>
                  </a:lnTo>
                  <a:lnTo>
                    <a:pt x="125" y="0"/>
                  </a:lnTo>
                  <a:lnTo>
                    <a:pt x="115" y="2"/>
                  </a:lnTo>
                  <a:lnTo>
                    <a:pt x="103" y="4"/>
                  </a:lnTo>
                  <a:lnTo>
                    <a:pt x="91" y="6"/>
                  </a:lnTo>
                  <a:lnTo>
                    <a:pt x="83" y="8"/>
                  </a:lnTo>
                  <a:lnTo>
                    <a:pt x="72" y="10"/>
                  </a:lnTo>
                  <a:lnTo>
                    <a:pt x="62" y="12"/>
                  </a:lnTo>
                  <a:lnTo>
                    <a:pt x="52" y="14"/>
                  </a:lnTo>
                  <a:lnTo>
                    <a:pt x="40" y="18"/>
                  </a:lnTo>
                  <a:lnTo>
                    <a:pt x="40" y="1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595280" y="5000760"/>
              <a:ext cx="431280" cy="520560"/>
            </a:xfrm>
            <a:custGeom>
              <a:avLst/>
              <a:gdLst/>
              <a:ahLst/>
              <a:rect l="l" t="t" r="r" b="b"/>
              <a:pathLst>
                <a:path w="1357" h="1641">
                  <a:moveTo>
                    <a:pt x="173" y="601"/>
                  </a:moveTo>
                  <a:lnTo>
                    <a:pt x="165" y="591"/>
                  </a:lnTo>
                  <a:lnTo>
                    <a:pt x="161" y="577"/>
                  </a:lnTo>
                  <a:lnTo>
                    <a:pt x="157" y="563"/>
                  </a:lnTo>
                  <a:lnTo>
                    <a:pt x="151" y="549"/>
                  </a:lnTo>
                  <a:lnTo>
                    <a:pt x="145" y="531"/>
                  </a:lnTo>
                  <a:lnTo>
                    <a:pt x="141" y="515"/>
                  </a:lnTo>
                  <a:lnTo>
                    <a:pt x="133" y="498"/>
                  </a:lnTo>
                  <a:lnTo>
                    <a:pt x="127" y="480"/>
                  </a:lnTo>
                  <a:lnTo>
                    <a:pt x="125" y="466"/>
                  </a:lnTo>
                  <a:lnTo>
                    <a:pt x="123" y="454"/>
                  </a:lnTo>
                  <a:lnTo>
                    <a:pt x="117" y="440"/>
                  </a:lnTo>
                  <a:lnTo>
                    <a:pt x="113" y="428"/>
                  </a:lnTo>
                  <a:lnTo>
                    <a:pt x="105" y="412"/>
                  </a:lnTo>
                  <a:lnTo>
                    <a:pt x="95" y="398"/>
                  </a:lnTo>
                  <a:lnTo>
                    <a:pt x="84" y="383"/>
                  </a:lnTo>
                  <a:lnTo>
                    <a:pt x="74" y="371"/>
                  </a:lnTo>
                  <a:lnTo>
                    <a:pt x="66" y="365"/>
                  </a:lnTo>
                  <a:lnTo>
                    <a:pt x="58" y="355"/>
                  </a:lnTo>
                  <a:lnTo>
                    <a:pt x="50" y="349"/>
                  </a:lnTo>
                  <a:lnTo>
                    <a:pt x="40" y="341"/>
                  </a:lnTo>
                  <a:lnTo>
                    <a:pt x="30" y="333"/>
                  </a:lnTo>
                  <a:lnTo>
                    <a:pt x="26" y="327"/>
                  </a:lnTo>
                  <a:lnTo>
                    <a:pt x="20" y="319"/>
                  </a:lnTo>
                  <a:lnTo>
                    <a:pt x="16" y="313"/>
                  </a:lnTo>
                  <a:lnTo>
                    <a:pt x="4" y="305"/>
                  </a:lnTo>
                  <a:lnTo>
                    <a:pt x="0" y="291"/>
                  </a:lnTo>
                  <a:lnTo>
                    <a:pt x="0" y="278"/>
                  </a:lnTo>
                  <a:lnTo>
                    <a:pt x="4" y="264"/>
                  </a:lnTo>
                  <a:lnTo>
                    <a:pt x="8" y="254"/>
                  </a:lnTo>
                  <a:lnTo>
                    <a:pt x="16" y="244"/>
                  </a:lnTo>
                  <a:lnTo>
                    <a:pt x="26" y="234"/>
                  </a:lnTo>
                  <a:lnTo>
                    <a:pt x="36" y="226"/>
                  </a:lnTo>
                  <a:lnTo>
                    <a:pt x="40" y="222"/>
                  </a:lnTo>
                  <a:lnTo>
                    <a:pt x="46" y="214"/>
                  </a:lnTo>
                  <a:lnTo>
                    <a:pt x="54" y="208"/>
                  </a:lnTo>
                  <a:lnTo>
                    <a:pt x="60" y="202"/>
                  </a:lnTo>
                  <a:lnTo>
                    <a:pt x="66" y="196"/>
                  </a:lnTo>
                  <a:lnTo>
                    <a:pt x="72" y="190"/>
                  </a:lnTo>
                  <a:lnTo>
                    <a:pt x="78" y="183"/>
                  </a:lnTo>
                  <a:lnTo>
                    <a:pt x="84" y="179"/>
                  </a:lnTo>
                  <a:lnTo>
                    <a:pt x="90" y="171"/>
                  </a:lnTo>
                  <a:lnTo>
                    <a:pt x="97" y="159"/>
                  </a:lnTo>
                  <a:lnTo>
                    <a:pt x="105" y="151"/>
                  </a:lnTo>
                  <a:lnTo>
                    <a:pt x="113" y="141"/>
                  </a:lnTo>
                  <a:lnTo>
                    <a:pt x="119" y="131"/>
                  </a:lnTo>
                  <a:lnTo>
                    <a:pt x="127" y="121"/>
                  </a:lnTo>
                  <a:lnTo>
                    <a:pt x="137" y="113"/>
                  </a:lnTo>
                  <a:lnTo>
                    <a:pt x="145" y="103"/>
                  </a:lnTo>
                  <a:lnTo>
                    <a:pt x="153" y="93"/>
                  </a:lnTo>
                  <a:lnTo>
                    <a:pt x="165" y="85"/>
                  </a:lnTo>
                  <a:lnTo>
                    <a:pt x="179" y="76"/>
                  </a:lnTo>
                  <a:lnTo>
                    <a:pt x="191" y="68"/>
                  </a:lnTo>
                  <a:lnTo>
                    <a:pt x="200" y="60"/>
                  </a:lnTo>
                  <a:lnTo>
                    <a:pt x="214" y="52"/>
                  </a:lnTo>
                  <a:lnTo>
                    <a:pt x="226" y="42"/>
                  </a:lnTo>
                  <a:lnTo>
                    <a:pt x="240" y="36"/>
                  </a:lnTo>
                  <a:lnTo>
                    <a:pt x="248" y="32"/>
                  </a:lnTo>
                  <a:lnTo>
                    <a:pt x="258" y="28"/>
                  </a:lnTo>
                  <a:lnTo>
                    <a:pt x="266" y="20"/>
                  </a:lnTo>
                  <a:lnTo>
                    <a:pt x="274" y="18"/>
                  </a:lnTo>
                  <a:lnTo>
                    <a:pt x="286" y="14"/>
                  </a:lnTo>
                  <a:lnTo>
                    <a:pt x="297" y="8"/>
                  </a:lnTo>
                  <a:lnTo>
                    <a:pt x="307" y="6"/>
                  </a:lnTo>
                  <a:lnTo>
                    <a:pt x="317" y="4"/>
                  </a:lnTo>
                  <a:lnTo>
                    <a:pt x="329" y="2"/>
                  </a:lnTo>
                  <a:lnTo>
                    <a:pt x="341" y="0"/>
                  </a:lnTo>
                  <a:lnTo>
                    <a:pt x="351" y="0"/>
                  </a:lnTo>
                  <a:lnTo>
                    <a:pt x="363" y="0"/>
                  </a:lnTo>
                  <a:lnTo>
                    <a:pt x="375" y="0"/>
                  </a:lnTo>
                  <a:lnTo>
                    <a:pt x="387" y="0"/>
                  </a:lnTo>
                  <a:lnTo>
                    <a:pt x="398" y="0"/>
                  </a:lnTo>
                  <a:lnTo>
                    <a:pt x="412" y="0"/>
                  </a:lnTo>
                  <a:lnTo>
                    <a:pt x="422" y="0"/>
                  </a:lnTo>
                  <a:lnTo>
                    <a:pt x="432" y="0"/>
                  </a:lnTo>
                  <a:lnTo>
                    <a:pt x="444" y="0"/>
                  </a:lnTo>
                  <a:lnTo>
                    <a:pt x="454" y="2"/>
                  </a:lnTo>
                  <a:lnTo>
                    <a:pt x="468" y="2"/>
                  </a:lnTo>
                  <a:lnTo>
                    <a:pt x="476" y="4"/>
                  </a:lnTo>
                  <a:lnTo>
                    <a:pt x="490" y="4"/>
                  </a:lnTo>
                  <a:lnTo>
                    <a:pt x="499" y="6"/>
                  </a:lnTo>
                  <a:lnTo>
                    <a:pt x="509" y="8"/>
                  </a:lnTo>
                  <a:lnTo>
                    <a:pt x="521" y="10"/>
                  </a:lnTo>
                  <a:lnTo>
                    <a:pt x="531" y="14"/>
                  </a:lnTo>
                  <a:lnTo>
                    <a:pt x="545" y="18"/>
                  </a:lnTo>
                  <a:lnTo>
                    <a:pt x="557" y="20"/>
                  </a:lnTo>
                  <a:lnTo>
                    <a:pt x="569" y="26"/>
                  </a:lnTo>
                  <a:lnTo>
                    <a:pt x="579" y="30"/>
                  </a:lnTo>
                  <a:lnTo>
                    <a:pt x="591" y="34"/>
                  </a:lnTo>
                  <a:lnTo>
                    <a:pt x="602" y="38"/>
                  </a:lnTo>
                  <a:lnTo>
                    <a:pt x="610" y="42"/>
                  </a:lnTo>
                  <a:lnTo>
                    <a:pt x="622" y="48"/>
                  </a:lnTo>
                  <a:lnTo>
                    <a:pt x="632" y="52"/>
                  </a:lnTo>
                  <a:lnTo>
                    <a:pt x="644" y="56"/>
                  </a:lnTo>
                  <a:lnTo>
                    <a:pt x="656" y="62"/>
                  </a:lnTo>
                  <a:lnTo>
                    <a:pt x="666" y="68"/>
                  </a:lnTo>
                  <a:lnTo>
                    <a:pt x="676" y="74"/>
                  </a:lnTo>
                  <a:lnTo>
                    <a:pt x="690" y="76"/>
                  </a:lnTo>
                  <a:lnTo>
                    <a:pt x="700" y="80"/>
                  </a:lnTo>
                  <a:lnTo>
                    <a:pt x="711" y="83"/>
                  </a:lnTo>
                  <a:lnTo>
                    <a:pt x="723" y="87"/>
                  </a:lnTo>
                  <a:lnTo>
                    <a:pt x="733" y="93"/>
                  </a:lnTo>
                  <a:lnTo>
                    <a:pt x="745" y="97"/>
                  </a:lnTo>
                  <a:lnTo>
                    <a:pt x="757" y="103"/>
                  </a:lnTo>
                  <a:lnTo>
                    <a:pt x="767" y="111"/>
                  </a:lnTo>
                  <a:lnTo>
                    <a:pt x="775" y="117"/>
                  </a:lnTo>
                  <a:lnTo>
                    <a:pt x="787" y="125"/>
                  </a:lnTo>
                  <a:lnTo>
                    <a:pt x="795" y="135"/>
                  </a:lnTo>
                  <a:lnTo>
                    <a:pt x="803" y="143"/>
                  </a:lnTo>
                  <a:lnTo>
                    <a:pt x="810" y="153"/>
                  </a:lnTo>
                  <a:lnTo>
                    <a:pt x="816" y="163"/>
                  </a:lnTo>
                  <a:lnTo>
                    <a:pt x="822" y="173"/>
                  </a:lnTo>
                  <a:lnTo>
                    <a:pt x="826" y="183"/>
                  </a:lnTo>
                  <a:lnTo>
                    <a:pt x="836" y="218"/>
                  </a:lnTo>
                  <a:lnTo>
                    <a:pt x="842" y="258"/>
                  </a:lnTo>
                  <a:lnTo>
                    <a:pt x="846" y="297"/>
                  </a:lnTo>
                  <a:lnTo>
                    <a:pt x="854" y="333"/>
                  </a:lnTo>
                  <a:lnTo>
                    <a:pt x="858" y="357"/>
                  </a:lnTo>
                  <a:lnTo>
                    <a:pt x="864" y="381"/>
                  </a:lnTo>
                  <a:lnTo>
                    <a:pt x="870" y="404"/>
                  </a:lnTo>
                  <a:lnTo>
                    <a:pt x="878" y="428"/>
                  </a:lnTo>
                  <a:lnTo>
                    <a:pt x="882" y="452"/>
                  </a:lnTo>
                  <a:lnTo>
                    <a:pt x="890" y="476"/>
                  </a:lnTo>
                  <a:lnTo>
                    <a:pt x="896" y="502"/>
                  </a:lnTo>
                  <a:lnTo>
                    <a:pt x="900" y="527"/>
                  </a:lnTo>
                  <a:lnTo>
                    <a:pt x="907" y="553"/>
                  </a:lnTo>
                  <a:lnTo>
                    <a:pt x="913" y="577"/>
                  </a:lnTo>
                  <a:lnTo>
                    <a:pt x="923" y="603"/>
                  </a:lnTo>
                  <a:lnTo>
                    <a:pt x="929" y="626"/>
                  </a:lnTo>
                  <a:lnTo>
                    <a:pt x="933" y="644"/>
                  </a:lnTo>
                  <a:lnTo>
                    <a:pt x="943" y="664"/>
                  </a:lnTo>
                  <a:lnTo>
                    <a:pt x="951" y="686"/>
                  </a:lnTo>
                  <a:lnTo>
                    <a:pt x="961" y="706"/>
                  </a:lnTo>
                  <a:lnTo>
                    <a:pt x="969" y="725"/>
                  </a:lnTo>
                  <a:lnTo>
                    <a:pt x="979" y="747"/>
                  </a:lnTo>
                  <a:lnTo>
                    <a:pt x="987" y="767"/>
                  </a:lnTo>
                  <a:lnTo>
                    <a:pt x="999" y="785"/>
                  </a:lnTo>
                  <a:lnTo>
                    <a:pt x="1012" y="813"/>
                  </a:lnTo>
                  <a:lnTo>
                    <a:pt x="1028" y="838"/>
                  </a:lnTo>
                  <a:lnTo>
                    <a:pt x="1044" y="864"/>
                  </a:lnTo>
                  <a:lnTo>
                    <a:pt x="1060" y="892"/>
                  </a:lnTo>
                  <a:lnTo>
                    <a:pt x="1078" y="918"/>
                  </a:lnTo>
                  <a:lnTo>
                    <a:pt x="1094" y="943"/>
                  </a:lnTo>
                  <a:lnTo>
                    <a:pt x="1108" y="969"/>
                  </a:lnTo>
                  <a:lnTo>
                    <a:pt x="1123" y="997"/>
                  </a:lnTo>
                  <a:lnTo>
                    <a:pt x="1137" y="1021"/>
                  </a:lnTo>
                  <a:lnTo>
                    <a:pt x="1153" y="1042"/>
                  </a:lnTo>
                  <a:lnTo>
                    <a:pt x="1167" y="1068"/>
                  </a:lnTo>
                  <a:lnTo>
                    <a:pt x="1181" y="1092"/>
                  </a:lnTo>
                  <a:lnTo>
                    <a:pt x="1195" y="1118"/>
                  </a:lnTo>
                  <a:lnTo>
                    <a:pt x="1209" y="1139"/>
                  </a:lnTo>
                  <a:lnTo>
                    <a:pt x="1222" y="1167"/>
                  </a:lnTo>
                  <a:lnTo>
                    <a:pt x="1236" y="1189"/>
                  </a:lnTo>
                  <a:lnTo>
                    <a:pt x="1250" y="1211"/>
                  </a:lnTo>
                  <a:lnTo>
                    <a:pt x="1262" y="1235"/>
                  </a:lnTo>
                  <a:lnTo>
                    <a:pt x="1272" y="1258"/>
                  </a:lnTo>
                  <a:lnTo>
                    <a:pt x="1284" y="1278"/>
                  </a:lnTo>
                  <a:lnTo>
                    <a:pt x="1296" y="1302"/>
                  </a:lnTo>
                  <a:lnTo>
                    <a:pt x="1308" y="1324"/>
                  </a:lnTo>
                  <a:lnTo>
                    <a:pt x="1319" y="1349"/>
                  </a:lnTo>
                  <a:lnTo>
                    <a:pt x="1327" y="1369"/>
                  </a:lnTo>
                  <a:lnTo>
                    <a:pt x="1339" y="1397"/>
                  </a:lnTo>
                  <a:lnTo>
                    <a:pt x="1345" y="1429"/>
                  </a:lnTo>
                  <a:lnTo>
                    <a:pt x="1353" y="1456"/>
                  </a:lnTo>
                  <a:lnTo>
                    <a:pt x="1355" y="1486"/>
                  </a:lnTo>
                  <a:lnTo>
                    <a:pt x="1357" y="1524"/>
                  </a:lnTo>
                  <a:lnTo>
                    <a:pt x="1357" y="1561"/>
                  </a:lnTo>
                  <a:lnTo>
                    <a:pt x="1355" y="1601"/>
                  </a:lnTo>
                  <a:lnTo>
                    <a:pt x="1355" y="1641"/>
                  </a:lnTo>
                  <a:lnTo>
                    <a:pt x="1315" y="1641"/>
                  </a:lnTo>
                  <a:lnTo>
                    <a:pt x="1274" y="1641"/>
                  </a:lnTo>
                  <a:lnTo>
                    <a:pt x="1232" y="1641"/>
                  </a:lnTo>
                  <a:lnTo>
                    <a:pt x="1191" y="1641"/>
                  </a:lnTo>
                  <a:lnTo>
                    <a:pt x="1151" y="1641"/>
                  </a:lnTo>
                  <a:lnTo>
                    <a:pt x="1111" y="1639"/>
                  </a:lnTo>
                  <a:lnTo>
                    <a:pt x="1070" y="1639"/>
                  </a:lnTo>
                  <a:lnTo>
                    <a:pt x="1028" y="1639"/>
                  </a:lnTo>
                  <a:lnTo>
                    <a:pt x="987" y="1639"/>
                  </a:lnTo>
                  <a:lnTo>
                    <a:pt x="947" y="1639"/>
                  </a:lnTo>
                  <a:lnTo>
                    <a:pt x="907" y="1639"/>
                  </a:lnTo>
                  <a:lnTo>
                    <a:pt x="864" y="1639"/>
                  </a:lnTo>
                  <a:lnTo>
                    <a:pt x="824" y="1639"/>
                  </a:lnTo>
                  <a:lnTo>
                    <a:pt x="783" y="1639"/>
                  </a:lnTo>
                  <a:lnTo>
                    <a:pt x="743" y="1639"/>
                  </a:lnTo>
                  <a:lnTo>
                    <a:pt x="703" y="1639"/>
                  </a:lnTo>
                  <a:lnTo>
                    <a:pt x="660" y="1639"/>
                  </a:lnTo>
                  <a:lnTo>
                    <a:pt x="620" y="1639"/>
                  </a:lnTo>
                  <a:lnTo>
                    <a:pt x="579" y="1639"/>
                  </a:lnTo>
                  <a:lnTo>
                    <a:pt x="537" y="1639"/>
                  </a:lnTo>
                  <a:lnTo>
                    <a:pt x="499" y="1639"/>
                  </a:lnTo>
                  <a:lnTo>
                    <a:pt x="456" y="1639"/>
                  </a:lnTo>
                  <a:lnTo>
                    <a:pt x="416" y="1639"/>
                  </a:lnTo>
                  <a:lnTo>
                    <a:pt x="375" y="1639"/>
                  </a:lnTo>
                  <a:lnTo>
                    <a:pt x="335" y="1639"/>
                  </a:lnTo>
                  <a:lnTo>
                    <a:pt x="294" y="1639"/>
                  </a:lnTo>
                  <a:lnTo>
                    <a:pt x="252" y="1639"/>
                  </a:lnTo>
                  <a:lnTo>
                    <a:pt x="212" y="1639"/>
                  </a:lnTo>
                  <a:lnTo>
                    <a:pt x="171" y="1639"/>
                  </a:lnTo>
                  <a:lnTo>
                    <a:pt x="131" y="1639"/>
                  </a:lnTo>
                  <a:lnTo>
                    <a:pt x="90" y="1639"/>
                  </a:lnTo>
                  <a:lnTo>
                    <a:pt x="50" y="1639"/>
                  </a:lnTo>
                  <a:lnTo>
                    <a:pt x="58" y="1611"/>
                  </a:lnTo>
                  <a:lnTo>
                    <a:pt x="66" y="1583"/>
                  </a:lnTo>
                  <a:lnTo>
                    <a:pt x="74" y="1556"/>
                  </a:lnTo>
                  <a:lnTo>
                    <a:pt x="84" y="1530"/>
                  </a:lnTo>
                  <a:lnTo>
                    <a:pt x="88" y="1512"/>
                  </a:lnTo>
                  <a:lnTo>
                    <a:pt x="95" y="1494"/>
                  </a:lnTo>
                  <a:lnTo>
                    <a:pt x="103" y="1476"/>
                  </a:lnTo>
                  <a:lnTo>
                    <a:pt x="111" y="1458"/>
                  </a:lnTo>
                  <a:lnTo>
                    <a:pt x="117" y="1443"/>
                  </a:lnTo>
                  <a:lnTo>
                    <a:pt x="125" y="1425"/>
                  </a:lnTo>
                  <a:lnTo>
                    <a:pt x="131" y="1407"/>
                  </a:lnTo>
                  <a:lnTo>
                    <a:pt x="137" y="1389"/>
                  </a:lnTo>
                  <a:lnTo>
                    <a:pt x="141" y="1359"/>
                  </a:lnTo>
                  <a:lnTo>
                    <a:pt x="145" y="1328"/>
                  </a:lnTo>
                  <a:lnTo>
                    <a:pt x="147" y="1296"/>
                  </a:lnTo>
                  <a:lnTo>
                    <a:pt x="151" y="1266"/>
                  </a:lnTo>
                  <a:lnTo>
                    <a:pt x="161" y="1223"/>
                  </a:lnTo>
                  <a:lnTo>
                    <a:pt x="171" y="1181"/>
                  </a:lnTo>
                  <a:lnTo>
                    <a:pt x="183" y="1139"/>
                  </a:lnTo>
                  <a:lnTo>
                    <a:pt x="193" y="1096"/>
                  </a:lnTo>
                  <a:lnTo>
                    <a:pt x="196" y="1062"/>
                  </a:lnTo>
                  <a:lnTo>
                    <a:pt x="204" y="1025"/>
                  </a:lnTo>
                  <a:lnTo>
                    <a:pt x="210" y="987"/>
                  </a:lnTo>
                  <a:lnTo>
                    <a:pt x="214" y="953"/>
                  </a:lnTo>
                  <a:lnTo>
                    <a:pt x="218" y="929"/>
                  </a:lnTo>
                  <a:lnTo>
                    <a:pt x="224" y="904"/>
                  </a:lnTo>
                  <a:lnTo>
                    <a:pt x="228" y="882"/>
                  </a:lnTo>
                  <a:lnTo>
                    <a:pt x="232" y="854"/>
                  </a:lnTo>
                  <a:lnTo>
                    <a:pt x="240" y="832"/>
                  </a:lnTo>
                  <a:lnTo>
                    <a:pt x="246" y="809"/>
                  </a:lnTo>
                  <a:lnTo>
                    <a:pt x="252" y="785"/>
                  </a:lnTo>
                  <a:lnTo>
                    <a:pt x="262" y="765"/>
                  </a:lnTo>
                  <a:lnTo>
                    <a:pt x="266" y="747"/>
                  </a:lnTo>
                  <a:lnTo>
                    <a:pt x="274" y="729"/>
                  </a:lnTo>
                  <a:lnTo>
                    <a:pt x="280" y="712"/>
                  </a:lnTo>
                  <a:lnTo>
                    <a:pt x="286" y="696"/>
                  </a:lnTo>
                  <a:lnTo>
                    <a:pt x="294" y="678"/>
                  </a:lnTo>
                  <a:lnTo>
                    <a:pt x="299" y="662"/>
                  </a:lnTo>
                  <a:lnTo>
                    <a:pt x="307" y="646"/>
                  </a:lnTo>
                  <a:lnTo>
                    <a:pt x="311" y="630"/>
                  </a:lnTo>
                  <a:lnTo>
                    <a:pt x="317" y="612"/>
                  </a:lnTo>
                  <a:lnTo>
                    <a:pt x="325" y="597"/>
                  </a:lnTo>
                  <a:lnTo>
                    <a:pt x="329" y="577"/>
                  </a:lnTo>
                  <a:lnTo>
                    <a:pt x="329" y="559"/>
                  </a:lnTo>
                  <a:lnTo>
                    <a:pt x="329" y="543"/>
                  </a:lnTo>
                  <a:lnTo>
                    <a:pt x="329" y="523"/>
                  </a:lnTo>
                  <a:lnTo>
                    <a:pt x="329" y="507"/>
                  </a:lnTo>
                  <a:lnTo>
                    <a:pt x="321" y="492"/>
                  </a:lnTo>
                  <a:lnTo>
                    <a:pt x="319" y="488"/>
                  </a:lnTo>
                  <a:lnTo>
                    <a:pt x="313" y="486"/>
                  </a:lnTo>
                  <a:lnTo>
                    <a:pt x="307" y="484"/>
                  </a:lnTo>
                  <a:lnTo>
                    <a:pt x="301" y="482"/>
                  </a:lnTo>
                  <a:lnTo>
                    <a:pt x="296" y="482"/>
                  </a:lnTo>
                  <a:lnTo>
                    <a:pt x="288" y="482"/>
                  </a:lnTo>
                  <a:lnTo>
                    <a:pt x="284" y="482"/>
                  </a:lnTo>
                  <a:lnTo>
                    <a:pt x="278" y="482"/>
                  </a:lnTo>
                  <a:lnTo>
                    <a:pt x="270" y="486"/>
                  </a:lnTo>
                  <a:lnTo>
                    <a:pt x="262" y="490"/>
                  </a:lnTo>
                  <a:lnTo>
                    <a:pt x="258" y="494"/>
                  </a:lnTo>
                  <a:lnTo>
                    <a:pt x="248" y="498"/>
                  </a:lnTo>
                  <a:lnTo>
                    <a:pt x="244" y="507"/>
                  </a:lnTo>
                  <a:lnTo>
                    <a:pt x="240" y="511"/>
                  </a:lnTo>
                  <a:lnTo>
                    <a:pt x="234" y="515"/>
                  </a:lnTo>
                  <a:lnTo>
                    <a:pt x="230" y="521"/>
                  </a:lnTo>
                  <a:lnTo>
                    <a:pt x="224" y="531"/>
                  </a:lnTo>
                  <a:lnTo>
                    <a:pt x="220" y="543"/>
                  </a:lnTo>
                  <a:lnTo>
                    <a:pt x="218" y="553"/>
                  </a:lnTo>
                  <a:lnTo>
                    <a:pt x="214" y="563"/>
                  </a:lnTo>
                  <a:lnTo>
                    <a:pt x="214" y="573"/>
                  </a:lnTo>
                  <a:lnTo>
                    <a:pt x="212" y="581"/>
                  </a:lnTo>
                  <a:lnTo>
                    <a:pt x="210" y="591"/>
                  </a:lnTo>
                  <a:lnTo>
                    <a:pt x="208" y="601"/>
                  </a:lnTo>
                  <a:lnTo>
                    <a:pt x="198" y="603"/>
                  </a:lnTo>
                  <a:lnTo>
                    <a:pt x="187" y="603"/>
                  </a:lnTo>
                  <a:lnTo>
                    <a:pt x="179" y="603"/>
                  </a:lnTo>
                  <a:lnTo>
                    <a:pt x="173" y="601"/>
                  </a:lnTo>
                  <a:close/>
                </a:path>
              </a:pathLst>
            </a:custGeom>
            <a:solidFill>
              <a:srgbClr val="ff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595280" y="5000760"/>
              <a:ext cx="431280" cy="520560"/>
            </a:xfrm>
            <a:custGeom>
              <a:avLst/>
              <a:gdLst/>
              <a:ahLst/>
              <a:rect l="l" t="t" r="r" b="b"/>
              <a:pathLst>
                <a:path w="1357" h="1641">
                  <a:moveTo>
                    <a:pt x="173" y="601"/>
                  </a:moveTo>
                  <a:lnTo>
                    <a:pt x="165" y="591"/>
                  </a:lnTo>
                  <a:lnTo>
                    <a:pt x="161" y="577"/>
                  </a:lnTo>
                  <a:lnTo>
                    <a:pt x="157" y="563"/>
                  </a:lnTo>
                  <a:lnTo>
                    <a:pt x="151" y="549"/>
                  </a:lnTo>
                  <a:lnTo>
                    <a:pt x="145" y="531"/>
                  </a:lnTo>
                  <a:lnTo>
                    <a:pt x="141" y="515"/>
                  </a:lnTo>
                  <a:lnTo>
                    <a:pt x="133" y="498"/>
                  </a:lnTo>
                  <a:lnTo>
                    <a:pt x="127" y="480"/>
                  </a:lnTo>
                  <a:lnTo>
                    <a:pt x="125" y="466"/>
                  </a:lnTo>
                  <a:lnTo>
                    <a:pt x="123" y="454"/>
                  </a:lnTo>
                  <a:lnTo>
                    <a:pt x="117" y="440"/>
                  </a:lnTo>
                  <a:lnTo>
                    <a:pt x="113" y="428"/>
                  </a:lnTo>
                  <a:lnTo>
                    <a:pt x="105" y="412"/>
                  </a:lnTo>
                  <a:lnTo>
                    <a:pt x="95" y="398"/>
                  </a:lnTo>
                  <a:lnTo>
                    <a:pt x="84" y="383"/>
                  </a:lnTo>
                  <a:lnTo>
                    <a:pt x="74" y="371"/>
                  </a:lnTo>
                  <a:lnTo>
                    <a:pt x="66" y="365"/>
                  </a:lnTo>
                  <a:lnTo>
                    <a:pt x="58" y="355"/>
                  </a:lnTo>
                  <a:lnTo>
                    <a:pt x="50" y="349"/>
                  </a:lnTo>
                  <a:lnTo>
                    <a:pt x="40" y="341"/>
                  </a:lnTo>
                  <a:lnTo>
                    <a:pt x="30" y="333"/>
                  </a:lnTo>
                  <a:lnTo>
                    <a:pt x="26" y="327"/>
                  </a:lnTo>
                  <a:lnTo>
                    <a:pt x="20" y="319"/>
                  </a:lnTo>
                  <a:lnTo>
                    <a:pt x="16" y="313"/>
                  </a:lnTo>
                  <a:lnTo>
                    <a:pt x="4" y="305"/>
                  </a:lnTo>
                  <a:lnTo>
                    <a:pt x="0" y="291"/>
                  </a:lnTo>
                  <a:lnTo>
                    <a:pt x="0" y="278"/>
                  </a:lnTo>
                  <a:lnTo>
                    <a:pt x="4" y="264"/>
                  </a:lnTo>
                  <a:lnTo>
                    <a:pt x="8" y="254"/>
                  </a:lnTo>
                  <a:lnTo>
                    <a:pt x="16" y="244"/>
                  </a:lnTo>
                  <a:lnTo>
                    <a:pt x="26" y="234"/>
                  </a:lnTo>
                  <a:lnTo>
                    <a:pt x="36" y="226"/>
                  </a:lnTo>
                  <a:lnTo>
                    <a:pt x="40" y="222"/>
                  </a:lnTo>
                  <a:lnTo>
                    <a:pt x="46" y="214"/>
                  </a:lnTo>
                  <a:lnTo>
                    <a:pt x="54" y="208"/>
                  </a:lnTo>
                  <a:lnTo>
                    <a:pt x="60" y="202"/>
                  </a:lnTo>
                  <a:lnTo>
                    <a:pt x="66" y="196"/>
                  </a:lnTo>
                  <a:lnTo>
                    <a:pt x="72" y="190"/>
                  </a:lnTo>
                  <a:lnTo>
                    <a:pt x="78" y="183"/>
                  </a:lnTo>
                  <a:lnTo>
                    <a:pt x="84" y="179"/>
                  </a:lnTo>
                  <a:lnTo>
                    <a:pt x="90" y="171"/>
                  </a:lnTo>
                  <a:lnTo>
                    <a:pt x="97" y="159"/>
                  </a:lnTo>
                  <a:lnTo>
                    <a:pt x="105" y="151"/>
                  </a:lnTo>
                  <a:lnTo>
                    <a:pt x="113" y="141"/>
                  </a:lnTo>
                  <a:lnTo>
                    <a:pt x="119" y="131"/>
                  </a:lnTo>
                  <a:lnTo>
                    <a:pt x="127" y="121"/>
                  </a:lnTo>
                  <a:lnTo>
                    <a:pt x="137" y="113"/>
                  </a:lnTo>
                  <a:lnTo>
                    <a:pt x="145" y="103"/>
                  </a:lnTo>
                  <a:lnTo>
                    <a:pt x="153" y="93"/>
                  </a:lnTo>
                  <a:lnTo>
                    <a:pt x="165" y="85"/>
                  </a:lnTo>
                  <a:lnTo>
                    <a:pt x="179" y="76"/>
                  </a:lnTo>
                  <a:lnTo>
                    <a:pt x="191" y="68"/>
                  </a:lnTo>
                  <a:lnTo>
                    <a:pt x="200" y="60"/>
                  </a:lnTo>
                  <a:lnTo>
                    <a:pt x="214" y="52"/>
                  </a:lnTo>
                  <a:lnTo>
                    <a:pt x="226" y="42"/>
                  </a:lnTo>
                  <a:lnTo>
                    <a:pt x="240" y="36"/>
                  </a:lnTo>
                  <a:lnTo>
                    <a:pt x="248" y="32"/>
                  </a:lnTo>
                  <a:lnTo>
                    <a:pt x="258" y="28"/>
                  </a:lnTo>
                  <a:lnTo>
                    <a:pt x="266" y="20"/>
                  </a:lnTo>
                  <a:lnTo>
                    <a:pt x="274" y="18"/>
                  </a:lnTo>
                  <a:lnTo>
                    <a:pt x="286" y="14"/>
                  </a:lnTo>
                  <a:lnTo>
                    <a:pt x="297" y="8"/>
                  </a:lnTo>
                  <a:lnTo>
                    <a:pt x="307" y="6"/>
                  </a:lnTo>
                  <a:lnTo>
                    <a:pt x="317" y="4"/>
                  </a:lnTo>
                  <a:lnTo>
                    <a:pt x="329" y="2"/>
                  </a:lnTo>
                  <a:lnTo>
                    <a:pt x="341" y="0"/>
                  </a:lnTo>
                  <a:lnTo>
                    <a:pt x="351" y="0"/>
                  </a:lnTo>
                  <a:lnTo>
                    <a:pt x="363" y="0"/>
                  </a:lnTo>
                  <a:lnTo>
                    <a:pt x="375" y="0"/>
                  </a:lnTo>
                  <a:lnTo>
                    <a:pt x="387" y="0"/>
                  </a:lnTo>
                  <a:lnTo>
                    <a:pt x="398" y="0"/>
                  </a:lnTo>
                  <a:lnTo>
                    <a:pt x="412" y="0"/>
                  </a:lnTo>
                  <a:lnTo>
                    <a:pt x="422" y="0"/>
                  </a:lnTo>
                  <a:lnTo>
                    <a:pt x="432" y="0"/>
                  </a:lnTo>
                  <a:lnTo>
                    <a:pt x="444" y="0"/>
                  </a:lnTo>
                  <a:lnTo>
                    <a:pt x="454" y="2"/>
                  </a:lnTo>
                  <a:lnTo>
                    <a:pt x="468" y="2"/>
                  </a:lnTo>
                  <a:lnTo>
                    <a:pt x="476" y="4"/>
                  </a:lnTo>
                  <a:lnTo>
                    <a:pt x="490" y="4"/>
                  </a:lnTo>
                  <a:lnTo>
                    <a:pt x="499" y="6"/>
                  </a:lnTo>
                  <a:lnTo>
                    <a:pt x="509" y="8"/>
                  </a:lnTo>
                  <a:lnTo>
                    <a:pt x="521" y="10"/>
                  </a:lnTo>
                  <a:lnTo>
                    <a:pt x="531" y="14"/>
                  </a:lnTo>
                  <a:lnTo>
                    <a:pt x="545" y="18"/>
                  </a:lnTo>
                  <a:lnTo>
                    <a:pt x="557" y="20"/>
                  </a:lnTo>
                  <a:lnTo>
                    <a:pt x="569" y="26"/>
                  </a:lnTo>
                  <a:lnTo>
                    <a:pt x="579" y="30"/>
                  </a:lnTo>
                  <a:lnTo>
                    <a:pt x="591" y="34"/>
                  </a:lnTo>
                  <a:lnTo>
                    <a:pt x="602" y="38"/>
                  </a:lnTo>
                  <a:lnTo>
                    <a:pt x="610" y="42"/>
                  </a:lnTo>
                  <a:lnTo>
                    <a:pt x="622" y="48"/>
                  </a:lnTo>
                  <a:lnTo>
                    <a:pt x="632" y="52"/>
                  </a:lnTo>
                  <a:lnTo>
                    <a:pt x="644" y="56"/>
                  </a:lnTo>
                  <a:lnTo>
                    <a:pt x="656" y="62"/>
                  </a:lnTo>
                  <a:lnTo>
                    <a:pt x="666" y="68"/>
                  </a:lnTo>
                  <a:lnTo>
                    <a:pt x="676" y="74"/>
                  </a:lnTo>
                  <a:lnTo>
                    <a:pt x="690" y="76"/>
                  </a:lnTo>
                  <a:lnTo>
                    <a:pt x="700" y="80"/>
                  </a:lnTo>
                  <a:lnTo>
                    <a:pt x="711" y="83"/>
                  </a:lnTo>
                  <a:lnTo>
                    <a:pt x="723" y="87"/>
                  </a:lnTo>
                  <a:lnTo>
                    <a:pt x="733" y="93"/>
                  </a:lnTo>
                  <a:lnTo>
                    <a:pt x="745" y="97"/>
                  </a:lnTo>
                  <a:lnTo>
                    <a:pt x="757" y="103"/>
                  </a:lnTo>
                  <a:lnTo>
                    <a:pt x="767" y="111"/>
                  </a:lnTo>
                  <a:lnTo>
                    <a:pt x="775" y="117"/>
                  </a:lnTo>
                  <a:lnTo>
                    <a:pt x="787" y="125"/>
                  </a:lnTo>
                  <a:lnTo>
                    <a:pt x="795" y="135"/>
                  </a:lnTo>
                  <a:lnTo>
                    <a:pt x="803" y="143"/>
                  </a:lnTo>
                  <a:lnTo>
                    <a:pt x="810" y="153"/>
                  </a:lnTo>
                  <a:lnTo>
                    <a:pt x="816" y="163"/>
                  </a:lnTo>
                  <a:lnTo>
                    <a:pt x="822" y="173"/>
                  </a:lnTo>
                  <a:lnTo>
                    <a:pt x="826" y="183"/>
                  </a:lnTo>
                  <a:lnTo>
                    <a:pt x="836" y="218"/>
                  </a:lnTo>
                  <a:lnTo>
                    <a:pt x="842" y="258"/>
                  </a:lnTo>
                  <a:lnTo>
                    <a:pt x="846" y="297"/>
                  </a:lnTo>
                  <a:lnTo>
                    <a:pt x="854" y="333"/>
                  </a:lnTo>
                  <a:lnTo>
                    <a:pt x="858" y="357"/>
                  </a:lnTo>
                  <a:lnTo>
                    <a:pt x="864" y="381"/>
                  </a:lnTo>
                  <a:lnTo>
                    <a:pt x="870" y="404"/>
                  </a:lnTo>
                  <a:lnTo>
                    <a:pt x="878" y="428"/>
                  </a:lnTo>
                  <a:lnTo>
                    <a:pt x="882" y="452"/>
                  </a:lnTo>
                  <a:lnTo>
                    <a:pt x="890" y="476"/>
                  </a:lnTo>
                  <a:lnTo>
                    <a:pt x="896" y="502"/>
                  </a:lnTo>
                  <a:lnTo>
                    <a:pt x="900" y="527"/>
                  </a:lnTo>
                  <a:lnTo>
                    <a:pt x="907" y="553"/>
                  </a:lnTo>
                  <a:lnTo>
                    <a:pt x="913" y="577"/>
                  </a:lnTo>
                  <a:lnTo>
                    <a:pt x="923" y="603"/>
                  </a:lnTo>
                  <a:lnTo>
                    <a:pt x="929" y="626"/>
                  </a:lnTo>
                  <a:lnTo>
                    <a:pt x="933" y="644"/>
                  </a:lnTo>
                  <a:lnTo>
                    <a:pt x="943" y="664"/>
                  </a:lnTo>
                  <a:lnTo>
                    <a:pt x="951" y="686"/>
                  </a:lnTo>
                  <a:lnTo>
                    <a:pt x="961" y="706"/>
                  </a:lnTo>
                  <a:lnTo>
                    <a:pt x="969" y="725"/>
                  </a:lnTo>
                  <a:lnTo>
                    <a:pt x="979" y="747"/>
                  </a:lnTo>
                  <a:lnTo>
                    <a:pt x="987" y="767"/>
                  </a:lnTo>
                  <a:lnTo>
                    <a:pt x="999" y="785"/>
                  </a:lnTo>
                  <a:lnTo>
                    <a:pt x="1012" y="813"/>
                  </a:lnTo>
                  <a:lnTo>
                    <a:pt x="1028" y="838"/>
                  </a:lnTo>
                  <a:lnTo>
                    <a:pt x="1044" y="864"/>
                  </a:lnTo>
                  <a:lnTo>
                    <a:pt x="1060" y="892"/>
                  </a:lnTo>
                  <a:lnTo>
                    <a:pt x="1078" y="918"/>
                  </a:lnTo>
                  <a:lnTo>
                    <a:pt x="1094" y="943"/>
                  </a:lnTo>
                  <a:lnTo>
                    <a:pt x="1108" y="969"/>
                  </a:lnTo>
                  <a:lnTo>
                    <a:pt x="1123" y="997"/>
                  </a:lnTo>
                  <a:lnTo>
                    <a:pt x="1137" y="1021"/>
                  </a:lnTo>
                  <a:lnTo>
                    <a:pt x="1153" y="1042"/>
                  </a:lnTo>
                  <a:lnTo>
                    <a:pt x="1167" y="1068"/>
                  </a:lnTo>
                  <a:lnTo>
                    <a:pt x="1181" y="1092"/>
                  </a:lnTo>
                  <a:lnTo>
                    <a:pt x="1195" y="1118"/>
                  </a:lnTo>
                  <a:lnTo>
                    <a:pt x="1209" y="1139"/>
                  </a:lnTo>
                  <a:lnTo>
                    <a:pt x="1222" y="1167"/>
                  </a:lnTo>
                  <a:lnTo>
                    <a:pt x="1236" y="1189"/>
                  </a:lnTo>
                  <a:lnTo>
                    <a:pt x="1250" y="1211"/>
                  </a:lnTo>
                  <a:lnTo>
                    <a:pt x="1262" y="1235"/>
                  </a:lnTo>
                  <a:lnTo>
                    <a:pt x="1272" y="1258"/>
                  </a:lnTo>
                  <a:lnTo>
                    <a:pt x="1284" y="1278"/>
                  </a:lnTo>
                  <a:lnTo>
                    <a:pt x="1296" y="1302"/>
                  </a:lnTo>
                  <a:lnTo>
                    <a:pt x="1308" y="1324"/>
                  </a:lnTo>
                  <a:lnTo>
                    <a:pt x="1319" y="1349"/>
                  </a:lnTo>
                  <a:lnTo>
                    <a:pt x="1327" y="1369"/>
                  </a:lnTo>
                  <a:lnTo>
                    <a:pt x="1339" y="1397"/>
                  </a:lnTo>
                  <a:lnTo>
                    <a:pt x="1345" y="1429"/>
                  </a:lnTo>
                  <a:lnTo>
                    <a:pt x="1353" y="1456"/>
                  </a:lnTo>
                  <a:lnTo>
                    <a:pt x="1355" y="1486"/>
                  </a:lnTo>
                  <a:lnTo>
                    <a:pt x="1357" y="1524"/>
                  </a:lnTo>
                  <a:lnTo>
                    <a:pt x="1357" y="1561"/>
                  </a:lnTo>
                  <a:lnTo>
                    <a:pt x="1355" y="1601"/>
                  </a:lnTo>
                  <a:lnTo>
                    <a:pt x="1355" y="1641"/>
                  </a:lnTo>
                  <a:lnTo>
                    <a:pt x="1315" y="1641"/>
                  </a:lnTo>
                  <a:lnTo>
                    <a:pt x="1274" y="1641"/>
                  </a:lnTo>
                  <a:lnTo>
                    <a:pt x="1232" y="1641"/>
                  </a:lnTo>
                  <a:lnTo>
                    <a:pt x="1191" y="1641"/>
                  </a:lnTo>
                  <a:lnTo>
                    <a:pt x="1151" y="1641"/>
                  </a:lnTo>
                  <a:lnTo>
                    <a:pt x="1111" y="1639"/>
                  </a:lnTo>
                  <a:lnTo>
                    <a:pt x="1070" y="1639"/>
                  </a:lnTo>
                  <a:lnTo>
                    <a:pt x="1028" y="1639"/>
                  </a:lnTo>
                  <a:lnTo>
                    <a:pt x="987" y="1639"/>
                  </a:lnTo>
                  <a:lnTo>
                    <a:pt x="947" y="1639"/>
                  </a:lnTo>
                  <a:lnTo>
                    <a:pt x="907" y="1639"/>
                  </a:lnTo>
                  <a:lnTo>
                    <a:pt x="864" y="1639"/>
                  </a:lnTo>
                  <a:lnTo>
                    <a:pt x="824" y="1639"/>
                  </a:lnTo>
                  <a:lnTo>
                    <a:pt x="783" y="1639"/>
                  </a:lnTo>
                  <a:lnTo>
                    <a:pt x="743" y="1639"/>
                  </a:lnTo>
                  <a:lnTo>
                    <a:pt x="703" y="1639"/>
                  </a:lnTo>
                  <a:lnTo>
                    <a:pt x="660" y="1639"/>
                  </a:lnTo>
                  <a:lnTo>
                    <a:pt x="620" y="1639"/>
                  </a:lnTo>
                  <a:lnTo>
                    <a:pt x="579" y="1639"/>
                  </a:lnTo>
                  <a:lnTo>
                    <a:pt x="537" y="1639"/>
                  </a:lnTo>
                  <a:lnTo>
                    <a:pt x="499" y="1639"/>
                  </a:lnTo>
                  <a:lnTo>
                    <a:pt x="456" y="1639"/>
                  </a:lnTo>
                  <a:lnTo>
                    <a:pt x="416" y="1639"/>
                  </a:lnTo>
                  <a:lnTo>
                    <a:pt x="375" y="1639"/>
                  </a:lnTo>
                  <a:lnTo>
                    <a:pt x="335" y="1639"/>
                  </a:lnTo>
                  <a:lnTo>
                    <a:pt x="294" y="1639"/>
                  </a:lnTo>
                  <a:lnTo>
                    <a:pt x="252" y="1639"/>
                  </a:lnTo>
                  <a:lnTo>
                    <a:pt x="212" y="1639"/>
                  </a:lnTo>
                  <a:lnTo>
                    <a:pt x="171" y="1639"/>
                  </a:lnTo>
                  <a:lnTo>
                    <a:pt x="131" y="1639"/>
                  </a:lnTo>
                  <a:lnTo>
                    <a:pt x="90" y="1639"/>
                  </a:lnTo>
                  <a:lnTo>
                    <a:pt x="50" y="1639"/>
                  </a:lnTo>
                  <a:lnTo>
                    <a:pt x="58" y="1611"/>
                  </a:lnTo>
                  <a:lnTo>
                    <a:pt x="66" y="1583"/>
                  </a:lnTo>
                  <a:lnTo>
                    <a:pt x="74" y="1556"/>
                  </a:lnTo>
                  <a:lnTo>
                    <a:pt x="84" y="1530"/>
                  </a:lnTo>
                  <a:lnTo>
                    <a:pt x="88" y="1512"/>
                  </a:lnTo>
                  <a:lnTo>
                    <a:pt x="95" y="1494"/>
                  </a:lnTo>
                  <a:lnTo>
                    <a:pt x="103" y="1476"/>
                  </a:lnTo>
                  <a:lnTo>
                    <a:pt x="111" y="1458"/>
                  </a:lnTo>
                  <a:lnTo>
                    <a:pt x="117" y="1443"/>
                  </a:lnTo>
                  <a:lnTo>
                    <a:pt x="125" y="1425"/>
                  </a:lnTo>
                  <a:lnTo>
                    <a:pt x="131" y="1407"/>
                  </a:lnTo>
                  <a:lnTo>
                    <a:pt x="137" y="1389"/>
                  </a:lnTo>
                  <a:lnTo>
                    <a:pt x="141" y="1359"/>
                  </a:lnTo>
                  <a:lnTo>
                    <a:pt x="145" y="1328"/>
                  </a:lnTo>
                  <a:lnTo>
                    <a:pt x="147" y="1296"/>
                  </a:lnTo>
                  <a:lnTo>
                    <a:pt x="151" y="1266"/>
                  </a:lnTo>
                  <a:lnTo>
                    <a:pt x="161" y="1223"/>
                  </a:lnTo>
                  <a:lnTo>
                    <a:pt x="171" y="1181"/>
                  </a:lnTo>
                  <a:lnTo>
                    <a:pt x="183" y="1139"/>
                  </a:lnTo>
                  <a:lnTo>
                    <a:pt x="193" y="1096"/>
                  </a:lnTo>
                  <a:lnTo>
                    <a:pt x="196" y="1062"/>
                  </a:lnTo>
                  <a:lnTo>
                    <a:pt x="204" y="1025"/>
                  </a:lnTo>
                  <a:lnTo>
                    <a:pt x="210" y="987"/>
                  </a:lnTo>
                  <a:lnTo>
                    <a:pt x="214" y="953"/>
                  </a:lnTo>
                  <a:lnTo>
                    <a:pt x="218" y="929"/>
                  </a:lnTo>
                  <a:lnTo>
                    <a:pt x="224" y="904"/>
                  </a:lnTo>
                  <a:lnTo>
                    <a:pt x="228" y="882"/>
                  </a:lnTo>
                  <a:lnTo>
                    <a:pt x="232" y="854"/>
                  </a:lnTo>
                  <a:lnTo>
                    <a:pt x="240" y="832"/>
                  </a:lnTo>
                  <a:lnTo>
                    <a:pt x="246" y="809"/>
                  </a:lnTo>
                  <a:lnTo>
                    <a:pt x="252" y="785"/>
                  </a:lnTo>
                  <a:lnTo>
                    <a:pt x="262" y="765"/>
                  </a:lnTo>
                  <a:lnTo>
                    <a:pt x="266" y="747"/>
                  </a:lnTo>
                  <a:lnTo>
                    <a:pt x="274" y="729"/>
                  </a:lnTo>
                  <a:lnTo>
                    <a:pt x="280" y="712"/>
                  </a:lnTo>
                  <a:lnTo>
                    <a:pt x="286" y="696"/>
                  </a:lnTo>
                  <a:lnTo>
                    <a:pt x="294" y="678"/>
                  </a:lnTo>
                  <a:lnTo>
                    <a:pt x="299" y="662"/>
                  </a:lnTo>
                  <a:lnTo>
                    <a:pt x="307" y="646"/>
                  </a:lnTo>
                  <a:lnTo>
                    <a:pt x="311" y="630"/>
                  </a:lnTo>
                  <a:lnTo>
                    <a:pt x="317" y="612"/>
                  </a:lnTo>
                  <a:lnTo>
                    <a:pt x="325" y="597"/>
                  </a:lnTo>
                  <a:lnTo>
                    <a:pt x="329" y="577"/>
                  </a:lnTo>
                  <a:lnTo>
                    <a:pt x="329" y="559"/>
                  </a:lnTo>
                  <a:lnTo>
                    <a:pt x="329" y="543"/>
                  </a:lnTo>
                  <a:lnTo>
                    <a:pt x="329" y="523"/>
                  </a:lnTo>
                  <a:lnTo>
                    <a:pt x="329" y="507"/>
                  </a:lnTo>
                  <a:lnTo>
                    <a:pt x="321" y="492"/>
                  </a:lnTo>
                  <a:lnTo>
                    <a:pt x="319" y="488"/>
                  </a:lnTo>
                  <a:lnTo>
                    <a:pt x="313" y="486"/>
                  </a:lnTo>
                  <a:lnTo>
                    <a:pt x="307" y="484"/>
                  </a:lnTo>
                  <a:lnTo>
                    <a:pt x="301" y="482"/>
                  </a:lnTo>
                  <a:lnTo>
                    <a:pt x="296" y="482"/>
                  </a:lnTo>
                  <a:lnTo>
                    <a:pt x="288" y="482"/>
                  </a:lnTo>
                  <a:lnTo>
                    <a:pt x="284" y="482"/>
                  </a:lnTo>
                  <a:lnTo>
                    <a:pt x="278" y="482"/>
                  </a:lnTo>
                  <a:lnTo>
                    <a:pt x="270" y="486"/>
                  </a:lnTo>
                  <a:lnTo>
                    <a:pt x="262" y="490"/>
                  </a:lnTo>
                  <a:lnTo>
                    <a:pt x="258" y="494"/>
                  </a:lnTo>
                  <a:lnTo>
                    <a:pt x="248" y="498"/>
                  </a:lnTo>
                  <a:lnTo>
                    <a:pt x="244" y="507"/>
                  </a:lnTo>
                  <a:lnTo>
                    <a:pt x="240" y="511"/>
                  </a:lnTo>
                  <a:lnTo>
                    <a:pt x="234" y="515"/>
                  </a:lnTo>
                  <a:lnTo>
                    <a:pt x="230" y="521"/>
                  </a:lnTo>
                  <a:lnTo>
                    <a:pt x="224" y="531"/>
                  </a:lnTo>
                  <a:lnTo>
                    <a:pt x="220" y="543"/>
                  </a:lnTo>
                  <a:lnTo>
                    <a:pt x="218" y="553"/>
                  </a:lnTo>
                  <a:lnTo>
                    <a:pt x="214" y="563"/>
                  </a:lnTo>
                  <a:lnTo>
                    <a:pt x="214" y="573"/>
                  </a:lnTo>
                  <a:lnTo>
                    <a:pt x="212" y="581"/>
                  </a:lnTo>
                  <a:lnTo>
                    <a:pt x="210" y="591"/>
                  </a:lnTo>
                  <a:lnTo>
                    <a:pt x="208" y="601"/>
                  </a:lnTo>
                  <a:lnTo>
                    <a:pt x="198" y="603"/>
                  </a:lnTo>
                  <a:lnTo>
                    <a:pt x="187" y="603"/>
                  </a:lnTo>
                  <a:lnTo>
                    <a:pt x="179" y="603"/>
                  </a:lnTo>
                  <a:lnTo>
                    <a:pt x="173" y="601"/>
                  </a:lnTo>
                  <a:lnTo>
                    <a:pt x="173" y="60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453440" y="5324760"/>
              <a:ext cx="597600" cy="691560"/>
            </a:xfrm>
            <a:custGeom>
              <a:avLst/>
              <a:gdLst/>
              <a:ahLst/>
              <a:rect l="l" t="t" r="r" b="b"/>
              <a:pathLst>
                <a:path w="1881" h="2181">
                  <a:moveTo>
                    <a:pt x="1725" y="2181"/>
                  </a:moveTo>
                  <a:lnTo>
                    <a:pt x="1739" y="2145"/>
                  </a:lnTo>
                  <a:lnTo>
                    <a:pt x="1755" y="2110"/>
                  </a:lnTo>
                  <a:lnTo>
                    <a:pt x="1768" y="2076"/>
                  </a:lnTo>
                  <a:lnTo>
                    <a:pt x="1782" y="2044"/>
                  </a:lnTo>
                  <a:lnTo>
                    <a:pt x="1798" y="2009"/>
                  </a:lnTo>
                  <a:lnTo>
                    <a:pt x="1810" y="1975"/>
                  </a:lnTo>
                  <a:lnTo>
                    <a:pt x="1822" y="1939"/>
                  </a:lnTo>
                  <a:lnTo>
                    <a:pt x="1832" y="1902"/>
                  </a:lnTo>
                  <a:lnTo>
                    <a:pt x="1842" y="1860"/>
                  </a:lnTo>
                  <a:lnTo>
                    <a:pt x="1850" y="1814"/>
                  </a:lnTo>
                  <a:lnTo>
                    <a:pt x="1860" y="1769"/>
                  </a:lnTo>
                  <a:lnTo>
                    <a:pt x="1863" y="1725"/>
                  </a:lnTo>
                  <a:lnTo>
                    <a:pt x="1871" y="1678"/>
                  </a:lnTo>
                  <a:lnTo>
                    <a:pt x="1875" y="1634"/>
                  </a:lnTo>
                  <a:lnTo>
                    <a:pt x="1877" y="1587"/>
                  </a:lnTo>
                  <a:lnTo>
                    <a:pt x="1881" y="1543"/>
                  </a:lnTo>
                  <a:lnTo>
                    <a:pt x="1879" y="1482"/>
                  </a:lnTo>
                  <a:lnTo>
                    <a:pt x="1875" y="1416"/>
                  </a:lnTo>
                  <a:lnTo>
                    <a:pt x="1867" y="1355"/>
                  </a:lnTo>
                  <a:lnTo>
                    <a:pt x="1860" y="1293"/>
                  </a:lnTo>
                  <a:lnTo>
                    <a:pt x="1852" y="1242"/>
                  </a:lnTo>
                  <a:lnTo>
                    <a:pt x="1844" y="1190"/>
                  </a:lnTo>
                  <a:lnTo>
                    <a:pt x="1838" y="1141"/>
                  </a:lnTo>
                  <a:lnTo>
                    <a:pt x="1832" y="1089"/>
                  </a:lnTo>
                  <a:lnTo>
                    <a:pt x="1830" y="1014"/>
                  </a:lnTo>
                  <a:lnTo>
                    <a:pt x="1830" y="939"/>
                  </a:lnTo>
                  <a:lnTo>
                    <a:pt x="1832" y="861"/>
                  </a:lnTo>
                  <a:lnTo>
                    <a:pt x="1832" y="784"/>
                  </a:lnTo>
                  <a:lnTo>
                    <a:pt x="1832" y="735"/>
                  </a:lnTo>
                  <a:lnTo>
                    <a:pt x="1832" y="683"/>
                  </a:lnTo>
                  <a:lnTo>
                    <a:pt x="1830" y="632"/>
                  </a:lnTo>
                  <a:lnTo>
                    <a:pt x="1822" y="582"/>
                  </a:lnTo>
                  <a:lnTo>
                    <a:pt x="1814" y="560"/>
                  </a:lnTo>
                  <a:lnTo>
                    <a:pt x="1804" y="540"/>
                  </a:lnTo>
                  <a:lnTo>
                    <a:pt x="1796" y="521"/>
                  </a:lnTo>
                  <a:lnTo>
                    <a:pt x="1784" y="501"/>
                  </a:lnTo>
                  <a:lnTo>
                    <a:pt x="1772" y="483"/>
                  </a:lnTo>
                  <a:lnTo>
                    <a:pt x="1758" y="463"/>
                  </a:lnTo>
                  <a:lnTo>
                    <a:pt x="1745" y="445"/>
                  </a:lnTo>
                  <a:lnTo>
                    <a:pt x="1735" y="426"/>
                  </a:lnTo>
                  <a:lnTo>
                    <a:pt x="1725" y="410"/>
                  </a:lnTo>
                  <a:lnTo>
                    <a:pt x="1715" y="394"/>
                  </a:lnTo>
                  <a:lnTo>
                    <a:pt x="1705" y="376"/>
                  </a:lnTo>
                  <a:lnTo>
                    <a:pt x="1693" y="362"/>
                  </a:lnTo>
                  <a:lnTo>
                    <a:pt x="1685" y="346"/>
                  </a:lnTo>
                  <a:lnTo>
                    <a:pt x="1671" y="330"/>
                  </a:lnTo>
                  <a:lnTo>
                    <a:pt x="1659" y="319"/>
                  </a:lnTo>
                  <a:lnTo>
                    <a:pt x="1648" y="307"/>
                  </a:lnTo>
                  <a:lnTo>
                    <a:pt x="1634" y="293"/>
                  </a:lnTo>
                  <a:lnTo>
                    <a:pt x="1620" y="281"/>
                  </a:lnTo>
                  <a:lnTo>
                    <a:pt x="1604" y="271"/>
                  </a:lnTo>
                  <a:lnTo>
                    <a:pt x="1588" y="261"/>
                  </a:lnTo>
                  <a:lnTo>
                    <a:pt x="1570" y="251"/>
                  </a:lnTo>
                  <a:lnTo>
                    <a:pt x="1553" y="239"/>
                  </a:lnTo>
                  <a:lnTo>
                    <a:pt x="1537" y="231"/>
                  </a:lnTo>
                  <a:lnTo>
                    <a:pt x="1521" y="223"/>
                  </a:lnTo>
                  <a:lnTo>
                    <a:pt x="1509" y="216"/>
                  </a:lnTo>
                  <a:lnTo>
                    <a:pt x="1499" y="204"/>
                  </a:lnTo>
                  <a:lnTo>
                    <a:pt x="1487" y="194"/>
                  </a:lnTo>
                  <a:lnTo>
                    <a:pt x="1473" y="182"/>
                  </a:lnTo>
                  <a:lnTo>
                    <a:pt x="1463" y="170"/>
                  </a:lnTo>
                  <a:lnTo>
                    <a:pt x="1450" y="156"/>
                  </a:lnTo>
                  <a:lnTo>
                    <a:pt x="1440" y="146"/>
                  </a:lnTo>
                  <a:lnTo>
                    <a:pt x="1426" y="136"/>
                  </a:lnTo>
                  <a:lnTo>
                    <a:pt x="1416" y="126"/>
                  </a:lnTo>
                  <a:lnTo>
                    <a:pt x="1404" y="118"/>
                  </a:lnTo>
                  <a:lnTo>
                    <a:pt x="1392" y="113"/>
                  </a:lnTo>
                  <a:lnTo>
                    <a:pt x="1382" y="107"/>
                  </a:lnTo>
                  <a:lnTo>
                    <a:pt x="1370" y="99"/>
                  </a:lnTo>
                  <a:lnTo>
                    <a:pt x="1362" y="91"/>
                  </a:lnTo>
                  <a:lnTo>
                    <a:pt x="1349" y="83"/>
                  </a:lnTo>
                  <a:lnTo>
                    <a:pt x="1337" y="73"/>
                  </a:lnTo>
                  <a:lnTo>
                    <a:pt x="1327" y="67"/>
                  </a:lnTo>
                  <a:lnTo>
                    <a:pt x="1317" y="59"/>
                  </a:lnTo>
                  <a:lnTo>
                    <a:pt x="1303" y="53"/>
                  </a:lnTo>
                  <a:lnTo>
                    <a:pt x="1293" y="45"/>
                  </a:lnTo>
                  <a:lnTo>
                    <a:pt x="1279" y="43"/>
                  </a:lnTo>
                  <a:lnTo>
                    <a:pt x="1265" y="35"/>
                  </a:lnTo>
                  <a:lnTo>
                    <a:pt x="1251" y="31"/>
                  </a:lnTo>
                  <a:lnTo>
                    <a:pt x="1240" y="27"/>
                  </a:lnTo>
                  <a:lnTo>
                    <a:pt x="1226" y="23"/>
                  </a:lnTo>
                  <a:lnTo>
                    <a:pt x="1208" y="17"/>
                  </a:lnTo>
                  <a:lnTo>
                    <a:pt x="1194" y="11"/>
                  </a:lnTo>
                  <a:lnTo>
                    <a:pt x="1178" y="8"/>
                  </a:lnTo>
                  <a:lnTo>
                    <a:pt x="1162" y="6"/>
                  </a:lnTo>
                  <a:lnTo>
                    <a:pt x="1147" y="2"/>
                  </a:lnTo>
                  <a:lnTo>
                    <a:pt x="1129" y="0"/>
                  </a:lnTo>
                  <a:lnTo>
                    <a:pt x="1113" y="0"/>
                  </a:lnTo>
                  <a:lnTo>
                    <a:pt x="1099" y="2"/>
                  </a:lnTo>
                  <a:lnTo>
                    <a:pt x="1087" y="6"/>
                  </a:lnTo>
                  <a:lnTo>
                    <a:pt x="1075" y="11"/>
                  </a:lnTo>
                  <a:lnTo>
                    <a:pt x="1061" y="21"/>
                  </a:lnTo>
                  <a:lnTo>
                    <a:pt x="1048" y="27"/>
                  </a:lnTo>
                  <a:lnTo>
                    <a:pt x="1036" y="35"/>
                  </a:lnTo>
                  <a:lnTo>
                    <a:pt x="1022" y="39"/>
                  </a:lnTo>
                  <a:lnTo>
                    <a:pt x="1008" y="45"/>
                  </a:lnTo>
                  <a:lnTo>
                    <a:pt x="990" y="51"/>
                  </a:lnTo>
                  <a:lnTo>
                    <a:pt x="972" y="55"/>
                  </a:lnTo>
                  <a:lnTo>
                    <a:pt x="954" y="59"/>
                  </a:lnTo>
                  <a:lnTo>
                    <a:pt x="937" y="61"/>
                  </a:lnTo>
                  <a:lnTo>
                    <a:pt x="917" y="65"/>
                  </a:lnTo>
                  <a:lnTo>
                    <a:pt x="897" y="71"/>
                  </a:lnTo>
                  <a:lnTo>
                    <a:pt x="881" y="77"/>
                  </a:lnTo>
                  <a:lnTo>
                    <a:pt x="861" y="83"/>
                  </a:lnTo>
                  <a:lnTo>
                    <a:pt x="842" y="91"/>
                  </a:lnTo>
                  <a:lnTo>
                    <a:pt x="822" y="99"/>
                  </a:lnTo>
                  <a:lnTo>
                    <a:pt x="800" y="109"/>
                  </a:lnTo>
                  <a:lnTo>
                    <a:pt x="780" y="116"/>
                  </a:lnTo>
                  <a:lnTo>
                    <a:pt x="760" y="126"/>
                  </a:lnTo>
                  <a:lnTo>
                    <a:pt x="744" y="140"/>
                  </a:lnTo>
                  <a:lnTo>
                    <a:pt x="727" y="154"/>
                  </a:lnTo>
                  <a:lnTo>
                    <a:pt x="719" y="166"/>
                  </a:lnTo>
                  <a:lnTo>
                    <a:pt x="711" y="184"/>
                  </a:lnTo>
                  <a:lnTo>
                    <a:pt x="703" y="202"/>
                  </a:lnTo>
                  <a:lnTo>
                    <a:pt x="697" y="221"/>
                  </a:lnTo>
                  <a:lnTo>
                    <a:pt x="693" y="239"/>
                  </a:lnTo>
                  <a:lnTo>
                    <a:pt x="685" y="259"/>
                  </a:lnTo>
                  <a:lnTo>
                    <a:pt x="681" y="275"/>
                  </a:lnTo>
                  <a:lnTo>
                    <a:pt x="677" y="295"/>
                  </a:lnTo>
                  <a:lnTo>
                    <a:pt x="669" y="315"/>
                  </a:lnTo>
                  <a:lnTo>
                    <a:pt x="659" y="340"/>
                  </a:lnTo>
                  <a:lnTo>
                    <a:pt x="647" y="364"/>
                  </a:lnTo>
                  <a:lnTo>
                    <a:pt x="636" y="390"/>
                  </a:lnTo>
                  <a:lnTo>
                    <a:pt x="626" y="414"/>
                  </a:lnTo>
                  <a:lnTo>
                    <a:pt x="614" y="437"/>
                  </a:lnTo>
                  <a:lnTo>
                    <a:pt x="600" y="461"/>
                  </a:lnTo>
                  <a:lnTo>
                    <a:pt x="586" y="485"/>
                  </a:lnTo>
                  <a:lnTo>
                    <a:pt x="572" y="509"/>
                  </a:lnTo>
                  <a:lnTo>
                    <a:pt x="558" y="527"/>
                  </a:lnTo>
                  <a:lnTo>
                    <a:pt x="544" y="546"/>
                  </a:lnTo>
                  <a:lnTo>
                    <a:pt x="527" y="566"/>
                  </a:lnTo>
                  <a:lnTo>
                    <a:pt x="511" y="584"/>
                  </a:lnTo>
                  <a:lnTo>
                    <a:pt x="495" y="602"/>
                  </a:lnTo>
                  <a:lnTo>
                    <a:pt x="477" y="622"/>
                  </a:lnTo>
                  <a:lnTo>
                    <a:pt x="461" y="638"/>
                  </a:lnTo>
                  <a:lnTo>
                    <a:pt x="447" y="657"/>
                  </a:lnTo>
                  <a:lnTo>
                    <a:pt x="439" y="665"/>
                  </a:lnTo>
                  <a:lnTo>
                    <a:pt x="436" y="675"/>
                  </a:lnTo>
                  <a:lnTo>
                    <a:pt x="428" y="689"/>
                  </a:lnTo>
                  <a:lnTo>
                    <a:pt x="422" y="703"/>
                  </a:lnTo>
                  <a:lnTo>
                    <a:pt x="414" y="717"/>
                  </a:lnTo>
                  <a:lnTo>
                    <a:pt x="410" y="731"/>
                  </a:lnTo>
                  <a:lnTo>
                    <a:pt x="406" y="747"/>
                  </a:lnTo>
                  <a:lnTo>
                    <a:pt x="402" y="756"/>
                  </a:lnTo>
                  <a:lnTo>
                    <a:pt x="388" y="796"/>
                  </a:lnTo>
                  <a:lnTo>
                    <a:pt x="378" y="832"/>
                  </a:lnTo>
                  <a:lnTo>
                    <a:pt x="368" y="867"/>
                  </a:lnTo>
                  <a:lnTo>
                    <a:pt x="358" y="903"/>
                  </a:lnTo>
                  <a:lnTo>
                    <a:pt x="356" y="957"/>
                  </a:lnTo>
                  <a:lnTo>
                    <a:pt x="360" y="1048"/>
                  </a:lnTo>
                  <a:lnTo>
                    <a:pt x="364" y="1153"/>
                  </a:lnTo>
                  <a:lnTo>
                    <a:pt x="368" y="1242"/>
                  </a:lnTo>
                  <a:lnTo>
                    <a:pt x="360" y="1242"/>
                  </a:lnTo>
                  <a:lnTo>
                    <a:pt x="352" y="1242"/>
                  </a:lnTo>
                  <a:lnTo>
                    <a:pt x="344" y="1242"/>
                  </a:lnTo>
                  <a:lnTo>
                    <a:pt x="338" y="1242"/>
                  </a:lnTo>
                  <a:lnTo>
                    <a:pt x="333" y="1242"/>
                  </a:lnTo>
                  <a:lnTo>
                    <a:pt x="323" y="1242"/>
                  </a:lnTo>
                  <a:lnTo>
                    <a:pt x="319" y="1242"/>
                  </a:lnTo>
                  <a:lnTo>
                    <a:pt x="311" y="1242"/>
                  </a:lnTo>
                  <a:lnTo>
                    <a:pt x="299" y="1240"/>
                  </a:lnTo>
                  <a:lnTo>
                    <a:pt x="285" y="1238"/>
                  </a:lnTo>
                  <a:lnTo>
                    <a:pt x="273" y="1236"/>
                  </a:lnTo>
                  <a:lnTo>
                    <a:pt x="261" y="1232"/>
                  </a:lnTo>
                  <a:lnTo>
                    <a:pt x="247" y="1232"/>
                  </a:lnTo>
                  <a:lnTo>
                    <a:pt x="234" y="1230"/>
                  </a:lnTo>
                  <a:lnTo>
                    <a:pt x="218" y="1230"/>
                  </a:lnTo>
                  <a:lnTo>
                    <a:pt x="194" y="1232"/>
                  </a:lnTo>
                  <a:lnTo>
                    <a:pt x="186" y="1234"/>
                  </a:lnTo>
                  <a:lnTo>
                    <a:pt x="174" y="1238"/>
                  </a:lnTo>
                  <a:lnTo>
                    <a:pt x="160" y="1246"/>
                  </a:lnTo>
                  <a:lnTo>
                    <a:pt x="144" y="1260"/>
                  </a:lnTo>
                  <a:lnTo>
                    <a:pt x="131" y="1272"/>
                  </a:lnTo>
                  <a:lnTo>
                    <a:pt x="115" y="1285"/>
                  </a:lnTo>
                  <a:lnTo>
                    <a:pt x="99" y="1297"/>
                  </a:lnTo>
                  <a:lnTo>
                    <a:pt x="87" y="1311"/>
                  </a:lnTo>
                  <a:lnTo>
                    <a:pt x="73" y="1327"/>
                  </a:lnTo>
                  <a:lnTo>
                    <a:pt x="61" y="1347"/>
                  </a:lnTo>
                  <a:lnTo>
                    <a:pt x="49" y="1363"/>
                  </a:lnTo>
                  <a:lnTo>
                    <a:pt x="37" y="1380"/>
                  </a:lnTo>
                  <a:lnTo>
                    <a:pt x="28" y="1398"/>
                  </a:lnTo>
                  <a:lnTo>
                    <a:pt x="16" y="1414"/>
                  </a:lnTo>
                  <a:lnTo>
                    <a:pt x="10" y="1432"/>
                  </a:lnTo>
                  <a:lnTo>
                    <a:pt x="2" y="1450"/>
                  </a:lnTo>
                  <a:lnTo>
                    <a:pt x="0" y="1462"/>
                  </a:lnTo>
                  <a:lnTo>
                    <a:pt x="0" y="1476"/>
                  </a:lnTo>
                  <a:lnTo>
                    <a:pt x="2" y="1491"/>
                  </a:lnTo>
                  <a:lnTo>
                    <a:pt x="4" y="1501"/>
                  </a:lnTo>
                  <a:lnTo>
                    <a:pt x="10" y="1517"/>
                  </a:lnTo>
                  <a:lnTo>
                    <a:pt x="10" y="1529"/>
                  </a:lnTo>
                  <a:lnTo>
                    <a:pt x="18" y="1539"/>
                  </a:lnTo>
                  <a:lnTo>
                    <a:pt x="24" y="1551"/>
                  </a:lnTo>
                  <a:lnTo>
                    <a:pt x="33" y="1561"/>
                  </a:lnTo>
                  <a:lnTo>
                    <a:pt x="39" y="1571"/>
                  </a:lnTo>
                  <a:lnTo>
                    <a:pt x="49" y="1579"/>
                  </a:lnTo>
                  <a:lnTo>
                    <a:pt x="55" y="1587"/>
                  </a:lnTo>
                  <a:lnTo>
                    <a:pt x="83" y="1604"/>
                  </a:lnTo>
                  <a:lnTo>
                    <a:pt x="105" y="1620"/>
                  </a:lnTo>
                  <a:lnTo>
                    <a:pt x="127" y="1640"/>
                  </a:lnTo>
                  <a:lnTo>
                    <a:pt x="152" y="1658"/>
                  </a:lnTo>
                  <a:lnTo>
                    <a:pt x="174" y="1678"/>
                  </a:lnTo>
                  <a:lnTo>
                    <a:pt x="194" y="1696"/>
                  </a:lnTo>
                  <a:lnTo>
                    <a:pt x="220" y="1713"/>
                  </a:lnTo>
                  <a:lnTo>
                    <a:pt x="245" y="1727"/>
                  </a:lnTo>
                  <a:lnTo>
                    <a:pt x="265" y="1735"/>
                  </a:lnTo>
                  <a:lnTo>
                    <a:pt x="281" y="1747"/>
                  </a:lnTo>
                  <a:lnTo>
                    <a:pt x="301" y="1757"/>
                  </a:lnTo>
                  <a:lnTo>
                    <a:pt x="321" y="1765"/>
                  </a:lnTo>
                  <a:lnTo>
                    <a:pt x="340" y="1775"/>
                  </a:lnTo>
                  <a:lnTo>
                    <a:pt x="360" y="1781"/>
                  </a:lnTo>
                  <a:lnTo>
                    <a:pt x="380" y="1787"/>
                  </a:lnTo>
                  <a:lnTo>
                    <a:pt x="402" y="1791"/>
                  </a:lnTo>
                  <a:lnTo>
                    <a:pt x="414" y="1795"/>
                  </a:lnTo>
                  <a:lnTo>
                    <a:pt x="432" y="1795"/>
                  </a:lnTo>
                  <a:lnTo>
                    <a:pt x="445" y="1795"/>
                  </a:lnTo>
                  <a:lnTo>
                    <a:pt x="461" y="1795"/>
                  </a:lnTo>
                  <a:lnTo>
                    <a:pt x="477" y="1795"/>
                  </a:lnTo>
                  <a:lnTo>
                    <a:pt x="493" y="1793"/>
                  </a:lnTo>
                  <a:lnTo>
                    <a:pt x="511" y="1791"/>
                  </a:lnTo>
                  <a:lnTo>
                    <a:pt x="527" y="1791"/>
                  </a:lnTo>
                  <a:lnTo>
                    <a:pt x="527" y="1848"/>
                  </a:lnTo>
                  <a:lnTo>
                    <a:pt x="531" y="1904"/>
                  </a:lnTo>
                  <a:lnTo>
                    <a:pt x="531" y="1959"/>
                  </a:lnTo>
                  <a:lnTo>
                    <a:pt x="537" y="2013"/>
                  </a:lnTo>
                  <a:lnTo>
                    <a:pt x="537" y="2054"/>
                  </a:lnTo>
                  <a:lnTo>
                    <a:pt x="544" y="2096"/>
                  </a:lnTo>
                  <a:lnTo>
                    <a:pt x="548" y="2137"/>
                  </a:lnTo>
                  <a:lnTo>
                    <a:pt x="552" y="2181"/>
                  </a:lnTo>
                  <a:lnTo>
                    <a:pt x="592" y="2181"/>
                  </a:lnTo>
                  <a:lnTo>
                    <a:pt x="626" y="2181"/>
                  </a:lnTo>
                  <a:lnTo>
                    <a:pt x="663" y="2181"/>
                  </a:lnTo>
                  <a:lnTo>
                    <a:pt x="701" y="2181"/>
                  </a:lnTo>
                  <a:lnTo>
                    <a:pt x="737" y="2181"/>
                  </a:lnTo>
                  <a:lnTo>
                    <a:pt x="772" y="2181"/>
                  </a:lnTo>
                  <a:lnTo>
                    <a:pt x="810" y="2181"/>
                  </a:lnTo>
                  <a:lnTo>
                    <a:pt x="847" y="2181"/>
                  </a:lnTo>
                  <a:lnTo>
                    <a:pt x="885" y="2181"/>
                  </a:lnTo>
                  <a:lnTo>
                    <a:pt x="921" y="2181"/>
                  </a:lnTo>
                  <a:lnTo>
                    <a:pt x="956" y="2181"/>
                  </a:lnTo>
                  <a:lnTo>
                    <a:pt x="994" y="2181"/>
                  </a:lnTo>
                  <a:lnTo>
                    <a:pt x="1030" y="2181"/>
                  </a:lnTo>
                  <a:lnTo>
                    <a:pt x="1065" y="2181"/>
                  </a:lnTo>
                  <a:lnTo>
                    <a:pt x="1105" y="2181"/>
                  </a:lnTo>
                  <a:lnTo>
                    <a:pt x="1141" y="2181"/>
                  </a:lnTo>
                  <a:lnTo>
                    <a:pt x="1178" y="2181"/>
                  </a:lnTo>
                  <a:lnTo>
                    <a:pt x="1212" y="2181"/>
                  </a:lnTo>
                  <a:lnTo>
                    <a:pt x="1250" y="2181"/>
                  </a:lnTo>
                  <a:lnTo>
                    <a:pt x="1289" y="2181"/>
                  </a:lnTo>
                  <a:lnTo>
                    <a:pt x="1323" y="2181"/>
                  </a:lnTo>
                  <a:lnTo>
                    <a:pt x="1360" y="2181"/>
                  </a:lnTo>
                  <a:lnTo>
                    <a:pt x="1396" y="2181"/>
                  </a:lnTo>
                  <a:lnTo>
                    <a:pt x="1434" y="2181"/>
                  </a:lnTo>
                  <a:lnTo>
                    <a:pt x="1469" y="2181"/>
                  </a:lnTo>
                  <a:lnTo>
                    <a:pt x="1505" y="2181"/>
                  </a:lnTo>
                  <a:lnTo>
                    <a:pt x="1543" y="2181"/>
                  </a:lnTo>
                  <a:lnTo>
                    <a:pt x="1580" y="2181"/>
                  </a:lnTo>
                  <a:lnTo>
                    <a:pt x="1614" y="2181"/>
                  </a:lnTo>
                  <a:lnTo>
                    <a:pt x="1654" y="2181"/>
                  </a:lnTo>
                  <a:lnTo>
                    <a:pt x="1689" y="2181"/>
                  </a:lnTo>
                  <a:lnTo>
                    <a:pt x="1725" y="2181"/>
                  </a:lnTo>
                  <a:close/>
                </a:path>
              </a:pathLst>
            </a:custGeom>
            <a:solidFill>
              <a:srgbClr val="b8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453440" y="5324760"/>
              <a:ext cx="597600" cy="691560"/>
            </a:xfrm>
            <a:custGeom>
              <a:avLst/>
              <a:gdLst/>
              <a:ahLst/>
              <a:rect l="l" t="t" r="r" b="b"/>
              <a:pathLst>
                <a:path w="1881" h="2181">
                  <a:moveTo>
                    <a:pt x="1725" y="2181"/>
                  </a:moveTo>
                  <a:lnTo>
                    <a:pt x="1739" y="2145"/>
                  </a:lnTo>
                  <a:lnTo>
                    <a:pt x="1755" y="2110"/>
                  </a:lnTo>
                  <a:lnTo>
                    <a:pt x="1768" y="2076"/>
                  </a:lnTo>
                  <a:lnTo>
                    <a:pt x="1782" y="2044"/>
                  </a:lnTo>
                  <a:lnTo>
                    <a:pt x="1798" y="2009"/>
                  </a:lnTo>
                  <a:lnTo>
                    <a:pt x="1810" y="1975"/>
                  </a:lnTo>
                  <a:lnTo>
                    <a:pt x="1822" y="1939"/>
                  </a:lnTo>
                  <a:lnTo>
                    <a:pt x="1832" y="1902"/>
                  </a:lnTo>
                  <a:lnTo>
                    <a:pt x="1842" y="1860"/>
                  </a:lnTo>
                  <a:lnTo>
                    <a:pt x="1850" y="1814"/>
                  </a:lnTo>
                  <a:lnTo>
                    <a:pt x="1860" y="1769"/>
                  </a:lnTo>
                  <a:lnTo>
                    <a:pt x="1863" y="1725"/>
                  </a:lnTo>
                  <a:lnTo>
                    <a:pt x="1871" y="1678"/>
                  </a:lnTo>
                  <a:lnTo>
                    <a:pt x="1875" y="1634"/>
                  </a:lnTo>
                  <a:lnTo>
                    <a:pt x="1877" y="1587"/>
                  </a:lnTo>
                  <a:lnTo>
                    <a:pt x="1881" y="1543"/>
                  </a:lnTo>
                  <a:lnTo>
                    <a:pt x="1879" y="1482"/>
                  </a:lnTo>
                  <a:lnTo>
                    <a:pt x="1875" y="1416"/>
                  </a:lnTo>
                  <a:lnTo>
                    <a:pt x="1867" y="1355"/>
                  </a:lnTo>
                  <a:lnTo>
                    <a:pt x="1860" y="1293"/>
                  </a:lnTo>
                  <a:lnTo>
                    <a:pt x="1852" y="1242"/>
                  </a:lnTo>
                  <a:lnTo>
                    <a:pt x="1844" y="1190"/>
                  </a:lnTo>
                  <a:lnTo>
                    <a:pt x="1838" y="1141"/>
                  </a:lnTo>
                  <a:lnTo>
                    <a:pt x="1832" y="1089"/>
                  </a:lnTo>
                  <a:lnTo>
                    <a:pt x="1830" y="1014"/>
                  </a:lnTo>
                  <a:lnTo>
                    <a:pt x="1830" y="939"/>
                  </a:lnTo>
                  <a:lnTo>
                    <a:pt x="1832" y="861"/>
                  </a:lnTo>
                  <a:lnTo>
                    <a:pt x="1832" y="784"/>
                  </a:lnTo>
                  <a:lnTo>
                    <a:pt x="1832" y="735"/>
                  </a:lnTo>
                  <a:lnTo>
                    <a:pt x="1832" y="683"/>
                  </a:lnTo>
                  <a:lnTo>
                    <a:pt x="1830" y="632"/>
                  </a:lnTo>
                  <a:lnTo>
                    <a:pt x="1822" y="582"/>
                  </a:lnTo>
                  <a:lnTo>
                    <a:pt x="1814" y="560"/>
                  </a:lnTo>
                  <a:lnTo>
                    <a:pt x="1804" y="540"/>
                  </a:lnTo>
                  <a:lnTo>
                    <a:pt x="1796" y="521"/>
                  </a:lnTo>
                  <a:lnTo>
                    <a:pt x="1784" y="501"/>
                  </a:lnTo>
                  <a:lnTo>
                    <a:pt x="1772" y="483"/>
                  </a:lnTo>
                  <a:lnTo>
                    <a:pt x="1758" y="463"/>
                  </a:lnTo>
                  <a:lnTo>
                    <a:pt x="1745" y="445"/>
                  </a:lnTo>
                  <a:lnTo>
                    <a:pt x="1735" y="426"/>
                  </a:lnTo>
                  <a:lnTo>
                    <a:pt x="1725" y="410"/>
                  </a:lnTo>
                  <a:lnTo>
                    <a:pt x="1715" y="394"/>
                  </a:lnTo>
                  <a:lnTo>
                    <a:pt x="1705" y="376"/>
                  </a:lnTo>
                  <a:lnTo>
                    <a:pt x="1693" y="362"/>
                  </a:lnTo>
                  <a:lnTo>
                    <a:pt x="1685" y="346"/>
                  </a:lnTo>
                  <a:lnTo>
                    <a:pt x="1671" y="330"/>
                  </a:lnTo>
                  <a:lnTo>
                    <a:pt x="1659" y="319"/>
                  </a:lnTo>
                  <a:lnTo>
                    <a:pt x="1648" y="307"/>
                  </a:lnTo>
                  <a:lnTo>
                    <a:pt x="1634" y="293"/>
                  </a:lnTo>
                  <a:lnTo>
                    <a:pt x="1620" y="281"/>
                  </a:lnTo>
                  <a:lnTo>
                    <a:pt x="1604" y="271"/>
                  </a:lnTo>
                  <a:lnTo>
                    <a:pt x="1588" y="261"/>
                  </a:lnTo>
                  <a:lnTo>
                    <a:pt x="1570" y="251"/>
                  </a:lnTo>
                  <a:lnTo>
                    <a:pt x="1553" y="239"/>
                  </a:lnTo>
                  <a:lnTo>
                    <a:pt x="1537" y="231"/>
                  </a:lnTo>
                  <a:lnTo>
                    <a:pt x="1521" y="223"/>
                  </a:lnTo>
                  <a:lnTo>
                    <a:pt x="1509" y="216"/>
                  </a:lnTo>
                  <a:lnTo>
                    <a:pt x="1499" y="204"/>
                  </a:lnTo>
                  <a:lnTo>
                    <a:pt x="1487" y="194"/>
                  </a:lnTo>
                  <a:lnTo>
                    <a:pt x="1473" y="182"/>
                  </a:lnTo>
                  <a:lnTo>
                    <a:pt x="1463" y="170"/>
                  </a:lnTo>
                  <a:lnTo>
                    <a:pt x="1450" y="156"/>
                  </a:lnTo>
                  <a:lnTo>
                    <a:pt x="1440" y="146"/>
                  </a:lnTo>
                  <a:lnTo>
                    <a:pt x="1426" y="136"/>
                  </a:lnTo>
                  <a:lnTo>
                    <a:pt x="1416" y="126"/>
                  </a:lnTo>
                  <a:lnTo>
                    <a:pt x="1404" y="118"/>
                  </a:lnTo>
                  <a:lnTo>
                    <a:pt x="1392" y="113"/>
                  </a:lnTo>
                  <a:lnTo>
                    <a:pt x="1382" y="107"/>
                  </a:lnTo>
                  <a:lnTo>
                    <a:pt x="1370" y="99"/>
                  </a:lnTo>
                  <a:lnTo>
                    <a:pt x="1362" y="91"/>
                  </a:lnTo>
                  <a:lnTo>
                    <a:pt x="1349" y="83"/>
                  </a:lnTo>
                  <a:lnTo>
                    <a:pt x="1337" y="73"/>
                  </a:lnTo>
                  <a:lnTo>
                    <a:pt x="1327" y="67"/>
                  </a:lnTo>
                  <a:lnTo>
                    <a:pt x="1317" y="59"/>
                  </a:lnTo>
                  <a:lnTo>
                    <a:pt x="1303" y="53"/>
                  </a:lnTo>
                  <a:lnTo>
                    <a:pt x="1293" y="45"/>
                  </a:lnTo>
                  <a:lnTo>
                    <a:pt x="1279" y="43"/>
                  </a:lnTo>
                  <a:lnTo>
                    <a:pt x="1265" y="35"/>
                  </a:lnTo>
                  <a:lnTo>
                    <a:pt x="1251" y="31"/>
                  </a:lnTo>
                  <a:lnTo>
                    <a:pt x="1240" y="27"/>
                  </a:lnTo>
                  <a:lnTo>
                    <a:pt x="1226" y="23"/>
                  </a:lnTo>
                  <a:lnTo>
                    <a:pt x="1208" y="17"/>
                  </a:lnTo>
                  <a:lnTo>
                    <a:pt x="1194" y="11"/>
                  </a:lnTo>
                  <a:lnTo>
                    <a:pt x="1178" y="8"/>
                  </a:lnTo>
                  <a:lnTo>
                    <a:pt x="1162" y="6"/>
                  </a:lnTo>
                  <a:lnTo>
                    <a:pt x="1147" y="2"/>
                  </a:lnTo>
                  <a:lnTo>
                    <a:pt x="1129" y="0"/>
                  </a:lnTo>
                  <a:lnTo>
                    <a:pt x="1113" y="0"/>
                  </a:lnTo>
                  <a:lnTo>
                    <a:pt x="1099" y="2"/>
                  </a:lnTo>
                  <a:lnTo>
                    <a:pt x="1087" y="6"/>
                  </a:lnTo>
                  <a:lnTo>
                    <a:pt x="1075" y="11"/>
                  </a:lnTo>
                  <a:lnTo>
                    <a:pt x="1061" y="21"/>
                  </a:lnTo>
                  <a:lnTo>
                    <a:pt x="1048" y="27"/>
                  </a:lnTo>
                  <a:lnTo>
                    <a:pt x="1036" y="35"/>
                  </a:lnTo>
                  <a:lnTo>
                    <a:pt x="1022" y="39"/>
                  </a:lnTo>
                  <a:lnTo>
                    <a:pt x="1008" y="45"/>
                  </a:lnTo>
                  <a:lnTo>
                    <a:pt x="990" y="51"/>
                  </a:lnTo>
                  <a:lnTo>
                    <a:pt x="972" y="55"/>
                  </a:lnTo>
                  <a:lnTo>
                    <a:pt x="954" y="59"/>
                  </a:lnTo>
                  <a:lnTo>
                    <a:pt x="937" y="61"/>
                  </a:lnTo>
                  <a:lnTo>
                    <a:pt x="917" y="65"/>
                  </a:lnTo>
                  <a:lnTo>
                    <a:pt x="897" y="71"/>
                  </a:lnTo>
                  <a:lnTo>
                    <a:pt x="881" y="77"/>
                  </a:lnTo>
                  <a:lnTo>
                    <a:pt x="861" y="83"/>
                  </a:lnTo>
                  <a:lnTo>
                    <a:pt x="842" y="91"/>
                  </a:lnTo>
                  <a:lnTo>
                    <a:pt x="822" y="99"/>
                  </a:lnTo>
                  <a:lnTo>
                    <a:pt x="800" y="109"/>
                  </a:lnTo>
                  <a:lnTo>
                    <a:pt x="780" y="116"/>
                  </a:lnTo>
                  <a:lnTo>
                    <a:pt x="760" y="126"/>
                  </a:lnTo>
                  <a:lnTo>
                    <a:pt x="744" y="140"/>
                  </a:lnTo>
                  <a:lnTo>
                    <a:pt x="727" y="154"/>
                  </a:lnTo>
                  <a:lnTo>
                    <a:pt x="719" y="166"/>
                  </a:lnTo>
                  <a:lnTo>
                    <a:pt x="711" y="184"/>
                  </a:lnTo>
                  <a:lnTo>
                    <a:pt x="703" y="202"/>
                  </a:lnTo>
                  <a:lnTo>
                    <a:pt x="697" y="221"/>
                  </a:lnTo>
                  <a:lnTo>
                    <a:pt x="693" y="239"/>
                  </a:lnTo>
                  <a:lnTo>
                    <a:pt x="685" y="259"/>
                  </a:lnTo>
                  <a:lnTo>
                    <a:pt x="681" y="275"/>
                  </a:lnTo>
                  <a:lnTo>
                    <a:pt x="677" y="295"/>
                  </a:lnTo>
                  <a:lnTo>
                    <a:pt x="669" y="315"/>
                  </a:lnTo>
                  <a:lnTo>
                    <a:pt x="659" y="340"/>
                  </a:lnTo>
                  <a:lnTo>
                    <a:pt x="647" y="364"/>
                  </a:lnTo>
                  <a:lnTo>
                    <a:pt x="636" y="390"/>
                  </a:lnTo>
                  <a:lnTo>
                    <a:pt x="626" y="414"/>
                  </a:lnTo>
                  <a:lnTo>
                    <a:pt x="614" y="437"/>
                  </a:lnTo>
                  <a:lnTo>
                    <a:pt x="600" y="461"/>
                  </a:lnTo>
                  <a:lnTo>
                    <a:pt x="586" y="485"/>
                  </a:lnTo>
                  <a:lnTo>
                    <a:pt x="572" y="509"/>
                  </a:lnTo>
                  <a:lnTo>
                    <a:pt x="558" y="527"/>
                  </a:lnTo>
                  <a:lnTo>
                    <a:pt x="544" y="546"/>
                  </a:lnTo>
                  <a:lnTo>
                    <a:pt x="527" y="566"/>
                  </a:lnTo>
                  <a:lnTo>
                    <a:pt x="511" y="584"/>
                  </a:lnTo>
                  <a:lnTo>
                    <a:pt x="495" y="602"/>
                  </a:lnTo>
                  <a:lnTo>
                    <a:pt x="477" y="622"/>
                  </a:lnTo>
                  <a:lnTo>
                    <a:pt x="461" y="638"/>
                  </a:lnTo>
                  <a:lnTo>
                    <a:pt x="447" y="657"/>
                  </a:lnTo>
                  <a:lnTo>
                    <a:pt x="439" y="665"/>
                  </a:lnTo>
                  <a:lnTo>
                    <a:pt x="436" y="675"/>
                  </a:lnTo>
                  <a:lnTo>
                    <a:pt x="428" y="689"/>
                  </a:lnTo>
                  <a:lnTo>
                    <a:pt x="422" y="703"/>
                  </a:lnTo>
                  <a:lnTo>
                    <a:pt x="414" y="717"/>
                  </a:lnTo>
                  <a:lnTo>
                    <a:pt x="410" y="731"/>
                  </a:lnTo>
                  <a:lnTo>
                    <a:pt x="406" y="747"/>
                  </a:lnTo>
                  <a:lnTo>
                    <a:pt x="402" y="756"/>
                  </a:lnTo>
                  <a:lnTo>
                    <a:pt x="388" y="796"/>
                  </a:lnTo>
                  <a:lnTo>
                    <a:pt x="378" y="832"/>
                  </a:lnTo>
                  <a:lnTo>
                    <a:pt x="368" y="867"/>
                  </a:lnTo>
                  <a:lnTo>
                    <a:pt x="358" y="903"/>
                  </a:lnTo>
                  <a:lnTo>
                    <a:pt x="356" y="957"/>
                  </a:lnTo>
                  <a:lnTo>
                    <a:pt x="360" y="1048"/>
                  </a:lnTo>
                  <a:lnTo>
                    <a:pt x="364" y="1153"/>
                  </a:lnTo>
                  <a:lnTo>
                    <a:pt x="368" y="1242"/>
                  </a:lnTo>
                  <a:lnTo>
                    <a:pt x="360" y="1242"/>
                  </a:lnTo>
                  <a:lnTo>
                    <a:pt x="352" y="1242"/>
                  </a:lnTo>
                  <a:lnTo>
                    <a:pt x="344" y="1242"/>
                  </a:lnTo>
                  <a:lnTo>
                    <a:pt x="338" y="1242"/>
                  </a:lnTo>
                  <a:lnTo>
                    <a:pt x="333" y="1242"/>
                  </a:lnTo>
                  <a:lnTo>
                    <a:pt x="323" y="1242"/>
                  </a:lnTo>
                  <a:lnTo>
                    <a:pt x="319" y="1242"/>
                  </a:lnTo>
                  <a:lnTo>
                    <a:pt x="311" y="1242"/>
                  </a:lnTo>
                  <a:lnTo>
                    <a:pt x="299" y="1240"/>
                  </a:lnTo>
                  <a:lnTo>
                    <a:pt x="285" y="1238"/>
                  </a:lnTo>
                  <a:lnTo>
                    <a:pt x="273" y="1236"/>
                  </a:lnTo>
                  <a:lnTo>
                    <a:pt x="261" y="1232"/>
                  </a:lnTo>
                  <a:lnTo>
                    <a:pt x="247" y="1232"/>
                  </a:lnTo>
                  <a:lnTo>
                    <a:pt x="234" y="1230"/>
                  </a:lnTo>
                  <a:lnTo>
                    <a:pt x="218" y="1230"/>
                  </a:lnTo>
                  <a:lnTo>
                    <a:pt x="194" y="1232"/>
                  </a:lnTo>
                  <a:lnTo>
                    <a:pt x="186" y="1234"/>
                  </a:lnTo>
                  <a:lnTo>
                    <a:pt x="174" y="1238"/>
                  </a:lnTo>
                  <a:lnTo>
                    <a:pt x="160" y="1246"/>
                  </a:lnTo>
                  <a:lnTo>
                    <a:pt x="144" y="1260"/>
                  </a:lnTo>
                  <a:lnTo>
                    <a:pt x="131" y="1272"/>
                  </a:lnTo>
                  <a:lnTo>
                    <a:pt x="115" y="1285"/>
                  </a:lnTo>
                  <a:lnTo>
                    <a:pt x="99" y="1297"/>
                  </a:lnTo>
                  <a:lnTo>
                    <a:pt x="87" y="1311"/>
                  </a:lnTo>
                  <a:lnTo>
                    <a:pt x="73" y="1327"/>
                  </a:lnTo>
                  <a:lnTo>
                    <a:pt x="61" y="1347"/>
                  </a:lnTo>
                  <a:lnTo>
                    <a:pt x="49" y="1363"/>
                  </a:lnTo>
                  <a:lnTo>
                    <a:pt x="37" y="1380"/>
                  </a:lnTo>
                  <a:lnTo>
                    <a:pt x="28" y="1398"/>
                  </a:lnTo>
                  <a:lnTo>
                    <a:pt x="16" y="1414"/>
                  </a:lnTo>
                  <a:lnTo>
                    <a:pt x="10" y="1432"/>
                  </a:lnTo>
                  <a:lnTo>
                    <a:pt x="2" y="1450"/>
                  </a:lnTo>
                  <a:lnTo>
                    <a:pt x="0" y="1462"/>
                  </a:lnTo>
                  <a:lnTo>
                    <a:pt x="0" y="1476"/>
                  </a:lnTo>
                  <a:lnTo>
                    <a:pt x="2" y="1491"/>
                  </a:lnTo>
                  <a:lnTo>
                    <a:pt x="4" y="1501"/>
                  </a:lnTo>
                  <a:lnTo>
                    <a:pt x="10" y="1517"/>
                  </a:lnTo>
                  <a:lnTo>
                    <a:pt x="10" y="1529"/>
                  </a:lnTo>
                  <a:lnTo>
                    <a:pt x="18" y="1539"/>
                  </a:lnTo>
                  <a:lnTo>
                    <a:pt x="24" y="1551"/>
                  </a:lnTo>
                  <a:lnTo>
                    <a:pt x="33" y="1561"/>
                  </a:lnTo>
                  <a:lnTo>
                    <a:pt x="39" y="1571"/>
                  </a:lnTo>
                  <a:lnTo>
                    <a:pt x="49" y="1579"/>
                  </a:lnTo>
                  <a:lnTo>
                    <a:pt x="55" y="1587"/>
                  </a:lnTo>
                  <a:lnTo>
                    <a:pt x="83" y="1604"/>
                  </a:lnTo>
                  <a:lnTo>
                    <a:pt x="105" y="1620"/>
                  </a:lnTo>
                  <a:lnTo>
                    <a:pt x="127" y="1640"/>
                  </a:lnTo>
                  <a:lnTo>
                    <a:pt x="152" y="1658"/>
                  </a:lnTo>
                  <a:lnTo>
                    <a:pt x="174" y="1678"/>
                  </a:lnTo>
                  <a:lnTo>
                    <a:pt x="194" y="1696"/>
                  </a:lnTo>
                  <a:lnTo>
                    <a:pt x="220" y="1713"/>
                  </a:lnTo>
                  <a:lnTo>
                    <a:pt x="245" y="1727"/>
                  </a:lnTo>
                  <a:lnTo>
                    <a:pt x="265" y="1735"/>
                  </a:lnTo>
                  <a:lnTo>
                    <a:pt x="281" y="1747"/>
                  </a:lnTo>
                  <a:lnTo>
                    <a:pt x="301" y="1757"/>
                  </a:lnTo>
                  <a:lnTo>
                    <a:pt x="321" y="1765"/>
                  </a:lnTo>
                  <a:lnTo>
                    <a:pt x="340" y="1775"/>
                  </a:lnTo>
                  <a:lnTo>
                    <a:pt x="360" y="1781"/>
                  </a:lnTo>
                  <a:lnTo>
                    <a:pt x="380" y="1787"/>
                  </a:lnTo>
                  <a:lnTo>
                    <a:pt x="402" y="1791"/>
                  </a:lnTo>
                  <a:lnTo>
                    <a:pt x="414" y="1795"/>
                  </a:lnTo>
                  <a:lnTo>
                    <a:pt x="432" y="1795"/>
                  </a:lnTo>
                  <a:lnTo>
                    <a:pt x="445" y="1795"/>
                  </a:lnTo>
                  <a:lnTo>
                    <a:pt x="461" y="1795"/>
                  </a:lnTo>
                  <a:lnTo>
                    <a:pt x="477" y="1795"/>
                  </a:lnTo>
                  <a:lnTo>
                    <a:pt x="493" y="1793"/>
                  </a:lnTo>
                  <a:lnTo>
                    <a:pt x="511" y="1791"/>
                  </a:lnTo>
                  <a:lnTo>
                    <a:pt x="527" y="1791"/>
                  </a:lnTo>
                  <a:lnTo>
                    <a:pt x="527" y="1848"/>
                  </a:lnTo>
                  <a:lnTo>
                    <a:pt x="531" y="1904"/>
                  </a:lnTo>
                  <a:lnTo>
                    <a:pt x="531" y="1959"/>
                  </a:lnTo>
                  <a:lnTo>
                    <a:pt x="537" y="2013"/>
                  </a:lnTo>
                  <a:lnTo>
                    <a:pt x="537" y="2054"/>
                  </a:lnTo>
                  <a:lnTo>
                    <a:pt x="544" y="2096"/>
                  </a:lnTo>
                  <a:lnTo>
                    <a:pt x="548" y="2137"/>
                  </a:lnTo>
                  <a:lnTo>
                    <a:pt x="552" y="2181"/>
                  </a:lnTo>
                  <a:lnTo>
                    <a:pt x="592" y="2181"/>
                  </a:lnTo>
                  <a:lnTo>
                    <a:pt x="626" y="2181"/>
                  </a:lnTo>
                  <a:lnTo>
                    <a:pt x="663" y="2181"/>
                  </a:lnTo>
                  <a:lnTo>
                    <a:pt x="701" y="2181"/>
                  </a:lnTo>
                  <a:lnTo>
                    <a:pt x="737" y="2181"/>
                  </a:lnTo>
                  <a:lnTo>
                    <a:pt x="772" y="2181"/>
                  </a:lnTo>
                  <a:lnTo>
                    <a:pt x="810" y="2181"/>
                  </a:lnTo>
                  <a:lnTo>
                    <a:pt x="847" y="2181"/>
                  </a:lnTo>
                  <a:lnTo>
                    <a:pt x="885" y="2181"/>
                  </a:lnTo>
                  <a:lnTo>
                    <a:pt x="921" y="2181"/>
                  </a:lnTo>
                  <a:lnTo>
                    <a:pt x="956" y="2181"/>
                  </a:lnTo>
                  <a:lnTo>
                    <a:pt x="994" y="2181"/>
                  </a:lnTo>
                  <a:lnTo>
                    <a:pt x="1030" y="2181"/>
                  </a:lnTo>
                  <a:lnTo>
                    <a:pt x="1065" y="2181"/>
                  </a:lnTo>
                  <a:lnTo>
                    <a:pt x="1105" y="2181"/>
                  </a:lnTo>
                  <a:lnTo>
                    <a:pt x="1141" y="2181"/>
                  </a:lnTo>
                  <a:lnTo>
                    <a:pt x="1178" y="2181"/>
                  </a:lnTo>
                  <a:lnTo>
                    <a:pt x="1212" y="2181"/>
                  </a:lnTo>
                  <a:lnTo>
                    <a:pt x="1250" y="2181"/>
                  </a:lnTo>
                  <a:lnTo>
                    <a:pt x="1289" y="2181"/>
                  </a:lnTo>
                  <a:lnTo>
                    <a:pt x="1323" y="2181"/>
                  </a:lnTo>
                  <a:lnTo>
                    <a:pt x="1360" y="2181"/>
                  </a:lnTo>
                  <a:lnTo>
                    <a:pt x="1396" y="2181"/>
                  </a:lnTo>
                  <a:lnTo>
                    <a:pt x="1434" y="2181"/>
                  </a:lnTo>
                  <a:lnTo>
                    <a:pt x="1469" y="2181"/>
                  </a:lnTo>
                  <a:lnTo>
                    <a:pt x="1505" y="2181"/>
                  </a:lnTo>
                  <a:lnTo>
                    <a:pt x="1543" y="2181"/>
                  </a:lnTo>
                  <a:lnTo>
                    <a:pt x="1580" y="2181"/>
                  </a:lnTo>
                  <a:lnTo>
                    <a:pt x="1614" y="2181"/>
                  </a:lnTo>
                  <a:lnTo>
                    <a:pt x="1654" y="2181"/>
                  </a:lnTo>
                  <a:lnTo>
                    <a:pt x="1689" y="2181"/>
                  </a:lnTo>
                  <a:lnTo>
                    <a:pt x="1725" y="2181"/>
                  </a:lnTo>
                  <a:lnTo>
                    <a:pt x="1725" y="218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369200" y="5623560"/>
              <a:ext cx="142920" cy="150840"/>
            </a:xfrm>
            <a:custGeom>
              <a:avLst/>
              <a:gdLst/>
              <a:ahLst/>
              <a:rect l="l" t="t" r="r" b="b"/>
              <a:pathLst>
                <a:path w="452" h="475">
                  <a:moveTo>
                    <a:pt x="452" y="299"/>
                  </a:moveTo>
                  <a:lnTo>
                    <a:pt x="450" y="281"/>
                  </a:lnTo>
                  <a:lnTo>
                    <a:pt x="448" y="261"/>
                  </a:lnTo>
                  <a:lnTo>
                    <a:pt x="444" y="241"/>
                  </a:lnTo>
                  <a:lnTo>
                    <a:pt x="436" y="220"/>
                  </a:lnTo>
                  <a:lnTo>
                    <a:pt x="432" y="214"/>
                  </a:lnTo>
                  <a:lnTo>
                    <a:pt x="428" y="206"/>
                  </a:lnTo>
                  <a:lnTo>
                    <a:pt x="422" y="196"/>
                  </a:lnTo>
                  <a:lnTo>
                    <a:pt x="416" y="188"/>
                  </a:lnTo>
                  <a:lnTo>
                    <a:pt x="410" y="180"/>
                  </a:lnTo>
                  <a:lnTo>
                    <a:pt x="406" y="170"/>
                  </a:lnTo>
                  <a:lnTo>
                    <a:pt x="397" y="162"/>
                  </a:lnTo>
                  <a:lnTo>
                    <a:pt x="391" y="154"/>
                  </a:lnTo>
                  <a:lnTo>
                    <a:pt x="385" y="150"/>
                  </a:lnTo>
                  <a:lnTo>
                    <a:pt x="379" y="142"/>
                  </a:lnTo>
                  <a:lnTo>
                    <a:pt x="373" y="136"/>
                  </a:lnTo>
                  <a:lnTo>
                    <a:pt x="367" y="132"/>
                  </a:lnTo>
                  <a:lnTo>
                    <a:pt x="361" y="126"/>
                  </a:lnTo>
                  <a:lnTo>
                    <a:pt x="353" y="122"/>
                  </a:lnTo>
                  <a:lnTo>
                    <a:pt x="347" y="119"/>
                  </a:lnTo>
                  <a:lnTo>
                    <a:pt x="339" y="115"/>
                  </a:lnTo>
                  <a:lnTo>
                    <a:pt x="333" y="107"/>
                  </a:lnTo>
                  <a:lnTo>
                    <a:pt x="325" y="105"/>
                  </a:lnTo>
                  <a:lnTo>
                    <a:pt x="317" y="101"/>
                  </a:lnTo>
                  <a:lnTo>
                    <a:pt x="309" y="101"/>
                  </a:lnTo>
                  <a:lnTo>
                    <a:pt x="303" y="101"/>
                  </a:lnTo>
                  <a:lnTo>
                    <a:pt x="298" y="107"/>
                  </a:lnTo>
                  <a:lnTo>
                    <a:pt x="294" y="111"/>
                  </a:lnTo>
                  <a:lnTo>
                    <a:pt x="286" y="115"/>
                  </a:lnTo>
                  <a:lnTo>
                    <a:pt x="280" y="103"/>
                  </a:lnTo>
                  <a:lnTo>
                    <a:pt x="274" y="91"/>
                  </a:lnTo>
                  <a:lnTo>
                    <a:pt x="264" y="79"/>
                  </a:lnTo>
                  <a:lnTo>
                    <a:pt x="256" y="67"/>
                  </a:lnTo>
                  <a:lnTo>
                    <a:pt x="248" y="59"/>
                  </a:lnTo>
                  <a:lnTo>
                    <a:pt x="240" y="51"/>
                  </a:lnTo>
                  <a:lnTo>
                    <a:pt x="230" y="43"/>
                  </a:lnTo>
                  <a:lnTo>
                    <a:pt x="222" y="35"/>
                  </a:lnTo>
                  <a:lnTo>
                    <a:pt x="214" y="27"/>
                  </a:lnTo>
                  <a:lnTo>
                    <a:pt x="208" y="21"/>
                  </a:lnTo>
                  <a:lnTo>
                    <a:pt x="202" y="17"/>
                  </a:lnTo>
                  <a:lnTo>
                    <a:pt x="195" y="14"/>
                  </a:lnTo>
                  <a:lnTo>
                    <a:pt x="191" y="10"/>
                  </a:lnTo>
                  <a:lnTo>
                    <a:pt x="183" y="6"/>
                  </a:lnTo>
                  <a:lnTo>
                    <a:pt x="175" y="0"/>
                  </a:lnTo>
                  <a:lnTo>
                    <a:pt x="165" y="0"/>
                  </a:lnTo>
                  <a:lnTo>
                    <a:pt x="161" y="0"/>
                  </a:lnTo>
                  <a:lnTo>
                    <a:pt x="155" y="6"/>
                  </a:lnTo>
                  <a:lnTo>
                    <a:pt x="147" y="12"/>
                  </a:lnTo>
                  <a:lnTo>
                    <a:pt x="143" y="17"/>
                  </a:lnTo>
                  <a:lnTo>
                    <a:pt x="143" y="21"/>
                  </a:lnTo>
                  <a:lnTo>
                    <a:pt x="143" y="27"/>
                  </a:lnTo>
                  <a:lnTo>
                    <a:pt x="143" y="35"/>
                  </a:lnTo>
                  <a:lnTo>
                    <a:pt x="143" y="39"/>
                  </a:lnTo>
                  <a:lnTo>
                    <a:pt x="139" y="35"/>
                  </a:lnTo>
                  <a:lnTo>
                    <a:pt x="129" y="27"/>
                  </a:lnTo>
                  <a:lnTo>
                    <a:pt x="123" y="21"/>
                  </a:lnTo>
                  <a:lnTo>
                    <a:pt x="113" y="19"/>
                  </a:lnTo>
                  <a:lnTo>
                    <a:pt x="105" y="21"/>
                  </a:lnTo>
                  <a:lnTo>
                    <a:pt x="94" y="21"/>
                  </a:lnTo>
                  <a:lnTo>
                    <a:pt x="82" y="27"/>
                  </a:lnTo>
                  <a:lnTo>
                    <a:pt x="78" y="35"/>
                  </a:lnTo>
                  <a:lnTo>
                    <a:pt x="76" y="41"/>
                  </a:lnTo>
                  <a:lnTo>
                    <a:pt x="76" y="47"/>
                  </a:lnTo>
                  <a:lnTo>
                    <a:pt x="78" y="55"/>
                  </a:lnTo>
                  <a:lnTo>
                    <a:pt x="78" y="63"/>
                  </a:lnTo>
                  <a:lnTo>
                    <a:pt x="74" y="59"/>
                  </a:lnTo>
                  <a:lnTo>
                    <a:pt x="70" y="55"/>
                  </a:lnTo>
                  <a:lnTo>
                    <a:pt x="60" y="49"/>
                  </a:lnTo>
                  <a:lnTo>
                    <a:pt x="56" y="47"/>
                  </a:lnTo>
                  <a:lnTo>
                    <a:pt x="46" y="51"/>
                  </a:lnTo>
                  <a:lnTo>
                    <a:pt x="38" y="59"/>
                  </a:lnTo>
                  <a:lnTo>
                    <a:pt x="32" y="67"/>
                  </a:lnTo>
                  <a:lnTo>
                    <a:pt x="28" y="75"/>
                  </a:lnTo>
                  <a:lnTo>
                    <a:pt x="32" y="81"/>
                  </a:lnTo>
                  <a:lnTo>
                    <a:pt x="36" y="89"/>
                  </a:lnTo>
                  <a:lnTo>
                    <a:pt x="40" y="95"/>
                  </a:lnTo>
                  <a:lnTo>
                    <a:pt x="42" y="101"/>
                  </a:lnTo>
                  <a:lnTo>
                    <a:pt x="38" y="99"/>
                  </a:lnTo>
                  <a:lnTo>
                    <a:pt x="28" y="95"/>
                  </a:lnTo>
                  <a:lnTo>
                    <a:pt x="24" y="91"/>
                  </a:lnTo>
                  <a:lnTo>
                    <a:pt x="18" y="93"/>
                  </a:lnTo>
                  <a:lnTo>
                    <a:pt x="8" y="97"/>
                  </a:lnTo>
                  <a:lnTo>
                    <a:pt x="4" y="107"/>
                  </a:lnTo>
                  <a:lnTo>
                    <a:pt x="2" y="119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2" y="142"/>
                  </a:lnTo>
                  <a:lnTo>
                    <a:pt x="4" y="150"/>
                  </a:lnTo>
                  <a:lnTo>
                    <a:pt x="6" y="154"/>
                  </a:lnTo>
                  <a:lnTo>
                    <a:pt x="12" y="170"/>
                  </a:lnTo>
                  <a:lnTo>
                    <a:pt x="14" y="186"/>
                  </a:lnTo>
                  <a:lnTo>
                    <a:pt x="20" y="202"/>
                  </a:lnTo>
                  <a:lnTo>
                    <a:pt x="26" y="218"/>
                  </a:lnTo>
                  <a:lnTo>
                    <a:pt x="34" y="231"/>
                  </a:lnTo>
                  <a:lnTo>
                    <a:pt x="42" y="245"/>
                  </a:lnTo>
                  <a:lnTo>
                    <a:pt x="52" y="261"/>
                  </a:lnTo>
                  <a:lnTo>
                    <a:pt x="58" y="275"/>
                  </a:lnTo>
                  <a:lnTo>
                    <a:pt x="68" y="291"/>
                  </a:lnTo>
                  <a:lnTo>
                    <a:pt x="76" y="303"/>
                  </a:lnTo>
                  <a:lnTo>
                    <a:pt x="86" y="319"/>
                  </a:lnTo>
                  <a:lnTo>
                    <a:pt x="94" y="331"/>
                  </a:lnTo>
                  <a:lnTo>
                    <a:pt x="101" y="340"/>
                  </a:lnTo>
                  <a:lnTo>
                    <a:pt x="107" y="350"/>
                  </a:lnTo>
                  <a:lnTo>
                    <a:pt x="115" y="360"/>
                  </a:lnTo>
                  <a:lnTo>
                    <a:pt x="125" y="372"/>
                  </a:lnTo>
                  <a:lnTo>
                    <a:pt x="135" y="380"/>
                  </a:lnTo>
                  <a:lnTo>
                    <a:pt x="143" y="388"/>
                  </a:lnTo>
                  <a:lnTo>
                    <a:pt x="153" y="396"/>
                  </a:lnTo>
                  <a:lnTo>
                    <a:pt x="161" y="404"/>
                  </a:lnTo>
                  <a:lnTo>
                    <a:pt x="175" y="414"/>
                  </a:lnTo>
                  <a:lnTo>
                    <a:pt x="189" y="422"/>
                  </a:lnTo>
                  <a:lnTo>
                    <a:pt x="202" y="434"/>
                  </a:lnTo>
                  <a:lnTo>
                    <a:pt x="216" y="441"/>
                  </a:lnTo>
                  <a:lnTo>
                    <a:pt x="230" y="449"/>
                  </a:lnTo>
                  <a:lnTo>
                    <a:pt x="248" y="459"/>
                  </a:lnTo>
                  <a:lnTo>
                    <a:pt x="262" y="465"/>
                  </a:lnTo>
                  <a:lnTo>
                    <a:pt x="278" y="475"/>
                  </a:lnTo>
                  <a:lnTo>
                    <a:pt x="299" y="455"/>
                  </a:lnTo>
                  <a:lnTo>
                    <a:pt x="323" y="432"/>
                  </a:lnTo>
                  <a:lnTo>
                    <a:pt x="345" y="408"/>
                  </a:lnTo>
                  <a:lnTo>
                    <a:pt x="365" y="386"/>
                  </a:lnTo>
                  <a:lnTo>
                    <a:pt x="387" y="364"/>
                  </a:lnTo>
                  <a:lnTo>
                    <a:pt x="410" y="340"/>
                  </a:lnTo>
                  <a:lnTo>
                    <a:pt x="432" y="321"/>
                  </a:lnTo>
                  <a:lnTo>
                    <a:pt x="452" y="299"/>
                  </a:lnTo>
                  <a:close/>
                </a:path>
              </a:pathLst>
            </a:custGeom>
            <a:solidFill>
              <a:srgbClr val="ffe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505280" y="5691600"/>
              <a:ext cx="10080" cy="26640"/>
            </a:xfrm>
            <a:custGeom>
              <a:avLst/>
              <a:gdLst/>
              <a:ahLst/>
              <a:rect l="l" t="t" r="r" b="b"/>
              <a:pathLst>
                <a:path w="34" h="83">
                  <a:moveTo>
                    <a:pt x="0" y="8"/>
                  </a:moveTo>
                  <a:lnTo>
                    <a:pt x="4" y="15"/>
                  </a:lnTo>
                  <a:lnTo>
                    <a:pt x="6" y="23"/>
                  </a:lnTo>
                  <a:lnTo>
                    <a:pt x="8" y="35"/>
                  </a:lnTo>
                  <a:lnTo>
                    <a:pt x="12" y="45"/>
                  </a:lnTo>
                  <a:lnTo>
                    <a:pt x="14" y="55"/>
                  </a:lnTo>
                  <a:lnTo>
                    <a:pt x="14" y="67"/>
                  </a:lnTo>
                  <a:lnTo>
                    <a:pt x="14" y="75"/>
                  </a:lnTo>
                  <a:lnTo>
                    <a:pt x="16" y="83"/>
                  </a:lnTo>
                  <a:lnTo>
                    <a:pt x="34" y="81"/>
                  </a:lnTo>
                  <a:lnTo>
                    <a:pt x="32" y="71"/>
                  </a:lnTo>
                  <a:lnTo>
                    <a:pt x="32" y="61"/>
                  </a:lnTo>
                  <a:lnTo>
                    <a:pt x="28" y="53"/>
                  </a:lnTo>
                  <a:lnTo>
                    <a:pt x="28" y="41"/>
                  </a:lnTo>
                  <a:lnTo>
                    <a:pt x="26" y="31"/>
                  </a:lnTo>
                  <a:lnTo>
                    <a:pt x="26" y="21"/>
                  </a:lnTo>
                  <a:lnTo>
                    <a:pt x="20" y="12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490160" y="5670720"/>
              <a:ext cx="19440" cy="237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10"/>
                  </a:moveTo>
                  <a:lnTo>
                    <a:pt x="10" y="20"/>
                  </a:lnTo>
                  <a:lnTo>
                    <a:pt x="14" y="28"/>
                  </a:lnTo>
                  <a:lnTo>
                    <a:pt x="19" y="36"/>
                  </a:lnTo>
                  <a:lnTo>
                    <a:pt x="27" y="46"/>
                  </a:lnTo>
                  <a:lnTo>
                    <a:pt x="31" y="54"/>
                  </a:lnTo>
                  <a:lnTo>
                    <a:pt x="35" y="62"/>
                  </a:lnTo>
                  <a:lnTo>
                    <a:pt x="39" y="70"/>
                  </a:lnTo>
                  <a:lnTo>
                    <a:pt x="43" y="78"/>
                  </a:lnTo>
                  <a:lnTo>
                    <a:pt x="61" y="70"/>
                  </a:lnTo>
                  <a:lnTo>
                    <a:pt x="55" y="62"/>
                  </a:lnTo>
                  <a:lnTo>
                    <a:pt x="51" y="54"/>
                  </a:lnTo>
                  <a:lnTo>
                    <a:pt x="47" y="46"/>
                  </a:lnTo>
                  <a:lnTo>
                    <a:pt x="39" y="36"/>
                  </a:lnTo>
                  <a:lnTo>
                    <a:pt x="35" y="28"/>
                  </a:lnTo>
                  <a:lnTo>
                    <a:pt x="29" y="20"/>
                  </a:lnTo>
                  <a:lnTo>
                    <a:pt x="19" y="8"/>
                  </a:lnTo>
                  <a:lnTo>
                    <a:pt x="1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476120" y="5656680"/>
              <a:ext cx="19440" cy="16920"/>
            </a:xfrm>
            <a:custGeom>
              <a:avLst/>
              <a:gdLst/>
              <a:ahLst/>
              <a:rect l="l" t="t" r="r" b="b"/>
              <a:pathLst>
                <a:path w="62" h="53">
                  <a:moveTo>
                    <a:pt x="0" y="14"/>
                  </a:moveTo>
                  <a:lnTo>
                    <a:pt x="0" y="14"/>
                  </a:lnTo>
                  <a:lnTo>
                    <a:pt x="8" y="19"/>
                  </a:lnTo>
                  <a:lnTo>
                    <a:pt x="12" y="21"/>
                  </a:lnTo>
                  <a:lnTo>
                    <a:pt x="18" y="27"/>
                  </a:lnTo>
                  <a:lnTo>
                    <a:pt x="28" y="31"/>
                  </a:lnTo>
                  <a:lnTo>
                    <a:pt x="32" y="37"/>
                  </a:lnTo>
                  <a:lnTo>
                    <a:pt x="38" y="45"/>
                  </a:lnTo>
                  <a:lnTo>
                    <a:pt x="42" y="49"/>
                  </a:lnTo>
                  <a:lnTo>
                    <a:pt x="48" y="53"/>
                  </a:lnTo>
                  <a:lnTo>
                    <a:pt x="62" y="41"/>
                  </a:lnTo>
                  <a:lnTo>
                    <a:pt x="56" y="37"/>
                  </a:lnTo>
                  <a:lnTo>
                    <a:pt x="50" y="31"/>
                  </a:lnTo>
                  <a:lnTo>
                    <a:pt x="42" y="27"/>
                  </a:lnTo>
                  <a:lnTo>
                    <a:pt x="38" y="21"/>
                  </a:lnTo>
                  <a:lnTo>
                    <a:pt x="30" y="18"/>
                  </a:lnTo>
                  <a:lnTo>
                    <a:pt x="22" y="10"/>
                  </a:lnTo>
                  <a:lnTo>
                    <a:pt x="16" y="4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466400" y="5653440"/>
              <a:ext cx="12600" cy="792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6"/>
                  </a:moveTo>
                  <a:lnTo>
                    <a:pt x="8" y="16"/>
                  </a:lnTo>
                  <a:lnTo>
                    <a:pt x="14" y="18"/>
                  </a:lnTo>
                  <a:lnTo>
                    <a:pt x="20" y="20"/>
                  </a:lnTo>
                  <a:lnTo>
                    <a:pt x="28" y="26"/>
                  </a:lnTo>
                  <a:lnTo>
                    <a:pt x="40" y="14"/>
                  </a:lnTo>
                  <a:lnTo>
                    <a:pt x="30" y="8"/>
                  </a:lnTo>
                  <a:lnTo>
                    <a:pt x="20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457760" y="5652720"/>
              <a:ext cx="8640" cy="93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26"/>
                  </a:moveTo>
                  <a:lnTo>
                    <a:pt x="10" y="30"/>
                  </a:lnTo>
                  <a:lnTo>
                    <a:pt x="19" y="26"/>
                  </a:lnTo>
                  <a:lnTo>
                    <a:pt x="23" y="20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7" y="0"/>
                  </a:lnTo>
                  <a:lnTo>
                    <a:pt x="18" y="2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14" y="20"/>
                  </a:lnTo>
                  <a:lnTo>
                    <a:pt x="4" y="16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1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448040" y="5643360"/>
              <a:ext cx="14400" cy="17640"/>
            </a:xfrm>
            <a:custGeom>
              <a:avLst/>
              <a:gdLst/>
              <a:ahLst/>
              <a:rect l="l" t="t" r="r" b="b"/>
              <a:pathLst>
                <a:path w="48" h="56">
                  <a:moveTo>
                    <a:pt x="0" y="10"/>
                  </a:moveTo>
                  <a:lnTo>
                    <a:pt x="4" y="16"/>
                  </a:lnTo>
                  <a:lnTo>
                    <a:pt x="10" y="22"/>
                  </a:lnTo>
                  <a:lnTo>
                    <a:pt x="14" y="26"/>
                  </a:lnTo>
                  <a:lnTo>
                    <a:pt x="18" y="32"/>
                  </a:lnTo>
                  <a:lnTo>
                    <a:pt x="24" y="38"/>
                  </a:lnTo>
                  <a:lnTo>
                    <a:pt x="26" y="44"/>
                  </a:lnTo>
                  <a:lnTo>
                    <a:pt x="30" y="52"/>
                  </a:lnTo>
                  <a:lnTo>
                    <a:pt x="32" y="56"/>
                  </a:lnTo>
                  <a:lnTo>
                    <a:pt x="48" y="52"/>
                  </a:lnTo>
                  <a:lnTo>
                    <a:pt x="44" y="42"/>
                  </a:lnTo>
                  <a:lnTo>
                    <a:pt x="38" y="36"/>
                  </a:lnTo>
                  <a:lnTo>
                    <a:pt x="36" y="30"/>
                  </a:lnTo>
                  <a:lnTo>
                    <a:pt x="32" y="24"/>
                  </a:lnTo>
                  <a:lnTo>
                    <a:pt x="28" y="16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437960" y="5633280"/>
              <a:ext cx="13680" cy="1368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0" y="12"/>
                  </a:moveTo>
                  <a:lnTo>
                    <a:pt x="10" y="20"/>
                  </a:lnTo>
                  <a:lnTo>
                    <a:pt x="20" y="28"/>
                  </a:lnTo>
                  <a:lnTo>
                    <a:pt x="26" y="36"/>
                  </a:lnTo>
                  <a:lnTo>
                    <a:pt x="32" y="44"/>
                  </a:lnTo>
                  <a:lnTo>
                    <a:pt x="46" y="36"/>
                  </a:lnTo>
                  <a:lnTo>
                    <a:pt x="36" y="26"/>
                  </a:lnTo>
                  <a:lnTo>
                    <a:pt x="30" y="18"/>
                  </a:lnTo>
                  <a:lnTo>
                    <a:pt x="22" y="10"/>
                  </a:lnTo>
                  <a:lnTo>
                    <a:pt x="1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428960" y="5625000"/>
              <a:ext cx="11160" cy="1116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" y="15"/>
                  </a:moveTo>
                  <a:lnTo>
                    <a:pt x="0" y="13"/>
                  </a:lnTo>
                  <a:lnTo>
                    <a:pt x="4" y="19"/>
                  </a:lnTo>
                  <a:lnTo>
                    <a:pt x="13" y="23"/>
                  </a:lnTo>
                  <a:lnTo>
                    <a:pt x="17" y="31"/>
                  </a:lnTo>
                  <a:lnTo>
                    <a:pt x="25" y="35"/>
                  </a:lnTo>
                  <a:lnTo>
                    <a:pt x="35" y="23"/>
                  </a:lnTo>
                  <a:lnTo>
                    <a:pt x="31" y="17"/>
                  </a:lnTo>
                  <a:lnTo>
                    <a:pt x="25" y="13"/>
                  </a:lnTo>
                  <a:lnTo>
                    <a:pt x="17" y="10"/>
                  </a:lnTo>
                  <a:lnTo>
                    <a:pt x="11" y="4"/>
                  </a:lnTo>
                  <a:lnTo>
                    <a:pt x="8" y="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422120" y="5621040"/>
              <a:ext cx="10800" cy="864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0" y="18"/>
                  </a:moveTo>
                  <a:lnTo>
                    <a:pt x="4" y="18"/>
                  </a:lnTo>
                  <a:lnTo>
                    <a:pt x="14" y="22"/>
                  </a:lnTo>
                  <a:lnTo>
                    <a:pt x="20" y="25"/>
                  </a:lnTo>
                  <a:lnTo>
                    <a:pt x="26" y="27"/>
                  </a:lnTo>
                  <a:lnTo>
                    <a:pt x="33" y="14"/>
                  </a:lnTo>
                  <a:lnTo>
                    <a:pt x="28" y="12"/>
                  </a:lnTo>
                  <a:lnTo>
                    <a:pt x="22" y="8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412400" y="5621040"/>
              <a:ext cx="8640" cy="93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6" y="27"/>
                  </a:moveTo>
                  <a:lnTo>
                    <a:pt x="16" y="29"/>
                  </a:lnTo>
                  <a:lnTo>
                    <a:pt x="18" y="25"/>
                  </a:lnTo>
                  <a:lnTo>
                    <a:pt x="24" y="20"/>
                  </a:lnTo>
                  <a:lnTo>
                    <a:pt x="28" y="16"/>
                  </a:lnTo>
                  <a:lnTo>
                    <a:pt x="28" y="0"/>
                  </a:lnTo>
                  <a:lnTo>
                    <a:pt x="20" y="2"/>
                  </a:lnTo>
                  <a:lnTo>
                    <a:pt x="12" y="8"/>
                  </a:lnTo>
                  <a:lnTo>
                    <a:pt x="6" y="12"/>
                  </a:lnTo>
                  <a:lnTo>
                    <a:pt x="0" y="20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411320" y="5627520"/>
              <a:ext cx="6120" cy="1044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33"/>
                  </a:moveTo>
                  <a:lnTo>
                    <a:pt x="20" y="25"/>
                  </a:lnTo>
                  <a:lnTo>
                    <a:pt x="20" y="21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0" y="5"/>
                  </a:lnTo>
                  <a:lnTo>
                    <a:pt x="2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14" y="17"/>
                  </a:lnTo>
                  <a:lnTo>
                    <a:pt x="0" y="25"/>
                  </a:lnTo>
                  <a:lnTo>
                    <a:pt x="6" y="31"/>
                  </a:lnTo>
                  <a:lnTo>
                    <a:pt x="10" y="33"/>
                  </a:lnTo>
                  <a:lnTo>
                    <a:pt x="16" y="31"/>
                  </a:lnTo>
                  <a:lnTo>
                    <a:pt x="20" y="25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406280" y="5626800"/>
              <a:ext cx="10800" cy="1116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17"/>
                  </a:moveTo>
                  <a:lnTo>
                    <a:pt x="6" y="19"/>
                  </a:lnTo>
                  <a:lnTo>
                    <a:pt x="10" y="21"/>
                  </a:lnTo>
                  <a:lnTo>
                    <a:pt x="16" y="27"/>
                  </a:lnTo>
                  <a:lnTo>
                    <a:pt x="24" y="35"/>
                  </a:lnTo>
                  <a:lnTo>
                    <a:pt x="34" y="21"/>
                  </a:lnTo>
                  <a:lnTo>
                    <a:pt x="28" y="17"/>
                  </a:lnTo>
                  <a:lnTo>
                    <a:pt x="22" y="11"/>
                  </a:lnTo>
                  <a:lnTo>
                    <a:pt x="10" y="5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390440" y="5626800"/>
              <a:ext cx="13680" cy="86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16" y="27"/>
                  </a:moveTo>
                  <a:lnTo>
                    <a:pt x="16" y="25"/>
                  </a:lnTo>
                  <a:lnTo>
                    <a:pt x="18" y="23"/>
                  </a:lnTo>
                  <a:lnTo>
                    <a:pt x="26" y="19"/>
                  </a:lnTo>
                  <a:lnTo>
                    <a:pt x="35" y="19"/>
                  </a:lnTo>
                  <a:lnTo>
                    <a:pt x="43" y="15"/>
                  </a:lnTo>
                  <a:lnTo>
                    <a:pt x="43" y="0"/>
                  </a:lnTo>
                  <a:lnTo>
                    <a:pt x="33" y="2"/>
                  </a:lnTo>
                  <a:lnTo>
                    <a:pt x="22" y="2"/>
                  </a:lnTo>
                  <a:lnTo>
                    <a:pt x="8" y="7"/>
                  </a:lnTo>
                  <a:lnTo>
                    <a:pt x="0" y="19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390440" y="5633640"/>
              <a:ext cx="6120" cy="12600"/>
            </a:xfrm>
            <a:custGeom>
              <a:avLst/>
              <a:gdLst/>
              <a:ahLst/>
              <a:rect l="l" t="t" r="r" b="b"/>
              <a:pathLst>
                <a:path w="20" h="40">
                  <a:moveTo>
                    <a:pt x="6" y="40"/>
                  </a:moveTo>
                  <a:lnTo>
                    <a:pt x="20" y="32"/>
                  </a:lnTo>
                  <a:lnTo>
                    <a:pt x="20" y="24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8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20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16" y="26"/>
                  </a:lnTo>
                  <a:lnTo>
                    <a:pt x="2" y="32"/>
                  </a:lnTo>
                  <a:lnTo>
                    <a:pt x="6" y="38"/>
                  </a:lnTo>
                  <a:lnTo>
                    <a:pt x="10" y="40"/>
                  </a:lnTo>
                  <a:lnTo>
                    <a:pt x="18" y="38"/>
                  </a:lnTo>
                  <a:lnTo>
                    <a:pt x="20" y="32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385760" y="5635800"/>
              <a:ext cx="8640" cy="1008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" y="16"/>
                  </a:moveTo>
                  <a:lnTo>
                    <a:pt x="8" y="20"/>
                  </a:lnTo>
                  <a:lnTo>
                    <a:pt x="16" y="26"/>
                  </a:lnTo>
                  <a:lnTo>
                    <a:pt x="20" y="32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0" y="8"/>
                  </a:lnTo>
                  <a:lnTo>
                    <a:pt x="12" y="4"/>
                  </a:lnTo>
                  <a:lnTo>
                    <a:pt x="0" y="0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374960" y="5635800"/>
              <a:ext cx="10800" cy="111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36"/>
                  </a:moveTo>
                  <a:lnTo>
                    <a:pt x="18" y="30"/>
                  </a:lnTo>
                  <a:lnTo>
                    <a:pt x="22" y="24"/>
                  </a:lnTo>
                  <a:lnTo>
                    <a:pt x="32" y="20"/>
                  </a:lnTo>
                  <a:lnTo>
                    <a:pt x="36" y="18"/>
                  </a:lnTo>
                  <a:lnTo>
                    <a:pt x="34" y="0"/>
                  </a:lnTo>
                  <a:lnTo>
                    <a:pt x="22" y="6"/>
                  </a:lnTo>
                  <a:lnTo>
                    <a:pt x="12" y="12"/>
                  </a:lnTo>
                  <a:lnTo>
                    <a:pt x="4" y="24"/>
                  </a:lnTo>
                  <a:lnTo>
                    <a:pt x="0" y="36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375680" y="5647320"/>
              <a:ext cx="9360" cy="1116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24" y="36"/>
                  </a:moveTo>
                  <a:lnTo>
                    <a:pt x="32" y="24"/>
                  </a:lnTo>
                  <a:lnTo>
                    <a:pt x="28" y="16"/>
                  </a:lnTo>
                  <a:lnTo>
                    <a:pt x="24" y="10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0" y="0"/>
                  </a:lnTo>
                  <a:lnTo>
                    <a:pt x="6" y="10"/>
                  </a:lnTo>
                  <a:lnTo>
                    <a:pt x="10" y="18"/>
                  </a:lnTo>
                  <a:lnTo>
                    <a:pt x="14" y="24"/>
                  </a:lnTo>
                  <a:lnTo>
                    <a:pt x="16" y="32"/>
                  </a:lnTo>
                  <a:lnTo>
                    <a:pt x="26" y="18"/>
                  </a:lnTo>
                  <a:lnTo>
                    <a:pt x="14" y="28"/>
                  </a:lnTo>
                  <a:lnTo>
                    <a:pt x="18" y="36"/>
                  </a:lnTo>
                  <a:lnTo>
                    <a:pt x="26" y="36"/>
                  </a:lnTo>
                  <a:lnTo>
                    <a:pt x="32" y="32"/>
                  </a:lnTo>
                  <a:lnTo>
                    <a:pt x="32" y="26"/>
                  </a:lnTo>
                  <a:lnTo>
                    <a:pt x="2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373160" y="5649120"/>
              <a:ext cx="10080" cy="864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6" y="18"/>
                  </a:moveTo>
                  <a:lnTo>
                    <a:pt x="10" y="18"/>
                  </a:lnTo>
                  <a:lnTo>
                    <a:pt x="12" y="20"/>
                  </a:lnTo>
                  <a:lnTo>
                    <a:pt x="20" y="24"/>
                  </a:lnTo>
                  <a:lnTo>
                    <a:pt x="30" y="28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20" y="6"/>
                  </a:lnTo>
                  <a:lnTo>
                    <a:pt x="12" y="0"/>
                  </a:lnTo>
                  <a:lnTo>
                    <a:pt x="0" y="2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365600" y="5649480"/>
              <a:ext cx="8640" cy="151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17" y="45"/>
                  </a:moveTo>
                  <a:lnTo>
                    <a:pt x="17" y="47"/>
                  </a:lnTo>
                  <a:lnTo>
                    <a:pt x="19" y="40"/>
                  </a:lnTo>
                  <a:lnTo>
                    <a:pt x="21" y="26"/>
                  </a:lnTo>
                  <a:lnTo>
                    <a:pt x="25" y="18"/>
                  </a:lnTo>
                  <a:lnTo>
                    <a:pt x="27" y="16"/>
                  </a:lnTo>
                  <a:lnTo>
                    <a:pt x="21" y="0"/>
                  </a:lnTo>
                  <a:lnTo>
                    <a:pt x="11" y="10"/>
                  </a:lnTo>
                  <a:lnTo>
                    <a:pt x="4" y="22"/>
                  </a:lnTo>
                  <a:lnTo>
                    <a:pt x="2" y="32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1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365960" y="5664960"/>
              <a:ext cx="7560" cy="86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22"/>
                  </a:moveTo>
                  <a:lnTo>
                    <a:pt x="23" y="20"/>
                  </a:lnTo>
                  <a:lnTo>
                    <a:pt x="23" y="16"/>
                  </a:lnTo>
                  <a:lnTo>
                    <a:pt x="21" y="12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3" y="14"/>
                  </a:lnTo>
                  <a:lnTo>
                    <a:pt x="3" y="22"/>
                  </a:lnTo>
                  <a:lnTo>
                    <a:pt x="9" y="28"/>
                  </a:lnTo>
                  <a:lnTo>
                    <a:pt x="7" y="26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368120" y="5671800"/>
              <a:ext cx="11160" cy="20520"/>
            </a:xfrm>
            <a:custGeom>
              <a:avLst/>
              <a:gdLst/>
              <a:ahLst/>
              <a:rect l="l" t="t" r="r" b="b"/>
              <a:pathLst>
                <a:path w="36" h="68">
                  <a:moveTo>
                    <a:pt x="36" y="62"/>
                  </a:moveTo>
                  <a:lnTo>
                    <a:pt x="34" y="56"/>
                  </a:lnTo>
                  <a:lnTo>
                    <a:pt x="32" y="48"/>
                  </a:lnTo>
                  <a:lnTo>
                    <a:pt x="28" y="40"/>
                  </a:lnTo>
                  <a:lnTo>
                    <a:pt x="28" y="32"/>
                  </a:lnTo>
                  <a:lnTo>
                    <a:pt x="26" y="24"/>
                  </a:lnTo>
                  <a:lnTo>
                    <a:pt x="22" y="16"/>
                  </a:lnTo>
                  <a:lnTo>
                    <a:pt x="20" y="8"/>
                  </a:lnTo>
                  <a:lnTo>
                    <a:pt x="18" y="0"/>
                  </a:lnTo>
                  <a:lnTo>
                    <a:pt x="0" y="2"/>
                  </a:lnTo>
                  <a:lnTo>
                    <a:pt x="2" y="10"/>
                  </a:lnTo>
                  <a:lnTo>
                    <a:pt x="6" y="20"/>
                  </a:lnTo>
                  <a:lnTo>
                    <a:pt x="8" y="28"/>
                  </a:lnTo>
                  <a:lnTo>
                    <a:pt x="10" y="36"/>
                  </a:lnTo>
                  <a:lnTo>
                    <a:pt x="14" y="46"/>
                  </a:lnTo>
                  <a:lnTo>
                    <a:pt x="16" y="54"/>
                  </a:lnTo>
                  <a:lnTo>
                    <a:pt x="20" y="62"/>
                  </a:lnTo>
                  <a:lnTo>
                    <a:pt x="22" y="68"/>
                  </a:lnTo>
                  <a:lnTo>
                    <a:pt x="3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374960" y="5690880"/>
              <a:ext cx="25200" cy="38520"/>
            </a:xfrm>
            <a:custGeom>
              <a:avLst/>
              <a:gdLst/>
              <a:ahLst/>
              <a:rect l="l" t="t" r="r" b="b"/>
              <a:pathLst>
                <a:path w="81" h="120">
                  <a:moveTo>
                    <a:pt x="81" y="113"/>
                  </a:moveTo>
                  <a:lnTo>
                    <a:pt x="72" y="99"/>
                  </a:lnTo>
                  <a:lnTo>
                    <a:pt x="64" y="85"/>
                  </a:lnTo>
                  <a:lnTo>
                    <a:pt x="54" y="71"/>
                  </a:lnTo>
                  <a:lnTo>
                    <a:pt x="46" y="57"/>
                  </a:lnTo>
                  <a:lnTo>
                    <a:pt x="38" y="43"/>
                  </a:lnTo>
                  <a:lnTo>
                    <a:pt x="30" y="27"/>
                  </a:lnTo>
                  <a:lnTo>
                    <a:pt x="24" y="12"/>
                  </a:lnTo>
                  <a:lnTo>
                    <a:pt x="14" y="0"/>
                  </a:lnTo>
                  <a:lnTo>
                    <a:pt x="0" y="6"/>
                  </a:lnTo>
                  <a:lnTo>
                    <a:pt x="8" y="21"/>
                  </a:lnTo>
                  <a:lnTo>
                    <a:pt x="14" y="35"/>
                  </a:lnTo>
                  <a:lnTo>
                    <a:pt x="24" y="51"/>
                  </a:lnTo>
                  <a:lnTo>
                    <a:pt x="32" y="65"/>
                  </a:lnTo>
                  <a:lnTo>
                    <a:pt x="40" y="81"/>
                  </a:lnTo>
                  <a:lnTo>
                    <a:pt x="50" y="93"/>
                  </a:lnTo>
                  <a:lnTo>
                    <a:pt x="58" y="107"/>
                  </a:lnTo>
                  <a:lnTo>
                    <a:pt x="68" y="120"/>
                  </a:lnTo>
                  <a:lnTo>
                    <a:pt x="81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395480" y="5727960"/>
              <a:ext cx="25200" cy="2592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79" y="69"/>
                  </a:moveTo>
                  <a:lnTo>
                    <a:pt x="71" y="63"/>
                  </a:lnTo>
                  <a:lnTo>
                    <a:pt x="61" y="55"/>
                  </a:lnTo>
                  <a:lnTo>
                    <a:pt x="53" y="47"/>
                  </a:lnTo>
                  <a:lnTo>
                    <a:pt x="45" y="37"/>
                  </a:lnTo>
                  <a:lnTo>
                    <a:pt x="37" y="27"/>
                  </a:lnTo>
                  <a:lnTo>
                    <a:pt x="29" y="17"/>
                  </a:lnTo>
                  <a:lnTo>
                    <a:pt x="21" y="9"/>
                  </a:lnTo>
                  <a:lnTo>
                    <a:pt x="13" y="0"/>
                  </a:lnTo>
                  <a:lnTo>
                    <a:pt x="0" y="7"/>
                  </a:lnTo>
                  <a:lnTo>
                    <a:pt x="8" y="17"/>
                  </a:lnTo>
                  <a:lnTo>
                    <a:pt x="13" y="27"/>
                  </a:lnTo>
                  <a:lnTo>
                    <a:pt x="21" y="39"/>
                  </a:lnTo>
                  <a:lnTo>
                    <a:pt x="29" y="47"/>
                  </a:lnTo>
                  <a:lnTo>
                    <a:pt x="41" y="59"/>
                  </a:lnTo>
                  <a:lnTo>
                    <a:pt x="49" y="67"/>
                  </a:lnTo>
                  <a:lnTo>
                    <a:pt x="59" y="77"/>
                  </a:lnTo>
                  <a:lnTo>
                    <a:pt x="67" y="83"/>
                  </a:lnTo>
                  <a:lnTo>
                    <a:pt x="79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418160" y="5748840"/>
              <a:ext cx="40320" cy="27720"/>
            </a:xfrm>
            <a:custGeom>
              <a:avLst/>
              <a:gdLst/>
              <a:ahLst/>
              <a:rect l="l" t="t" r="r" b="b"/>
              <a:pathLst>
                <a:path w="129" h="87">
                  <a:moveTo>
                    <a:pt x="115" y="73"/>
                  </a:moveTo>
                  <a:lnTo>
                    <a:pt x="127" y="73"/>
                  </a:lnTo>
                  <a:lnTo>
                    <a:pt x="111" y="63"/>
                  </a:lnTo>
                  <a:lnTo>
                    <a:pt x="97" y="53"/>
                  </a:lnTo>
                  <a:lnTo>
                    <a:pt x="79" y="45"/>
                  </a:lnTo>
                  <a:lnTo>
                    <a:pt x="65" y="38"/>
                  </a:lnTo>
                  <a:lnTo>
                    <a:pt x="51" y="28"/>
                  </a:lnTo>
                  <a:lnTo>
                    <a:pt x="38" y="20"/>
                  </a:lnTo>
                  <a:lnTo>
                    <a:pt x="24" y="12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6" y="24"/>
                  </a:lnTo>
                  <a:lnTo>
                    <a:pt x="28" y="34"/>
                  </a:lnTo>
                  <a:lnTo>
                    <a:pt x="42" y="43"/>
                  </a:lnTo>
                  <a:lnTo>
                    <a:pt x="57" y="51"/>
                  </a:lnTo>
                  <a:lnTo>
                    <a:pt x="71" y="59"/>
                  </a:lnTo>
                  <a:lnTo>
                    <a:pt x="89" y="69"/>
                  </a:lnTo>
                  <a:lnTo>
                    <a:pt x="101" y="77"/>
                  </a:lnTo>
                  <a:lnTo>
                    <a:pt x="117" y="85"/>
                  </a:lnTo>
                  <a:lnTo>
                    <a:pt x="127" y="85"/>
                  </a:lnTo>
                  <a:lnTo>
                    <a:pt x="117" y="85"/>
                  </a:lnTo>
                  <a:lnTo>
                    <a:pt x="121" y="87"/>
                  </a:lnTo>
                  <a:lnTo>
                    <a:pt x="129" y="83"/>
                  </a:lnTo>
                  <a:lnTo>
                    <a:pt x="129" y="77"/>
                  </a:lnTo>
                  <a:lnTo>
                    <a:pt x="127" y="73"/>
                  </a:lnTo>
                  <a:lnTo>
                    <a:pt x="11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455240" y="5716440"/>
              <a:ext cx="60120" cy="6012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74" y="8"/>
                  </a:moveTo>
                  <a:lnTo>
                    <a:pt x="174" y="2"/>
                  </a:lnTo>
                  <a:lnTo>
                    <a:pt x="154" y="24"/>
                  </a:lnTo>
                  <a:lnTo>
                    <a:pt x="132" y="45"/>
                  </a:lnTo>
                  <a:lnTo>
                    <a:pt x="113" y="67"/>
                  </a:lnTo>
                  <a:lnTo>
                    <a:pt x="91" y="87"/>
                  </a:lnTo>
                  <a:lnTo>
                    <a:pt x="67" y="111"/>
                  </a:lnTo>
                  <a:lnTo>
                    <a:pt x="45" y="133"/>
                  </a:lnTo>
                  <a:lnTo>
                    <a:pt x="24" y="156"/>
                  </a:lnTo>
                  <a:lnTo>
                    <a:pt x="0" y="176"/>
                  </a:lnTo>
                  <a:lnTo>
                    <a:pt x="12" y="190"/>
                  </a:lnTo>
                  <a:lnTo>
                    <a:pt x="33" y="166"/>
                  </a:lnTo>
                  <a:lnTo>
                    <a:pt x="57" y="145"/>
                  </a:lnTo>
                  <a:lnTo>
                    <a:pt x="79" y="123"/>
                  </a:lnTo>
                  <a:lnTo>
                    <a:pt x="101" y="99"/>
                  </a:lnTo>
                  <a:lnTo>
                    <a:pt x="123" y="79"/>
                  </a:lnTo>
                  <a:lnTo>
                    <a:pt x="144" y="55"/>
                  </a:lnTo>
                  <a:lnTo>
                    <a:pt x="166" y="34"/>
                  </a:lnTo>
                  <a:lnTo>
                    <a:pt x="186" y="14"/>
                  </a:lnTo>
                  <a:lnTo>
                    <a:pt x="190" y="8"/>
                  </a:lnTo>
                  <a:lnTo>
                    <a:pt x="186" y="14"/>
                  </a:lnTo>
                  <a:lnTo>
                    <a:pt x="190" y="8"/>
                  </a:lnTo>
                  <a:lnTo>
                    <a:pt x="186" y="2"/>
                  </a:lnTo>
                  <a:lnTo>
                    <a:pt x="182" y="0"/>
                  </a:lnTo>
                  <a:lnTo>
                    <a:pt x="174" y="2"/>
                  </a:lnTo>
                  <a:lnTo>
                    <a:pt x="17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383240" y="5655960"/>
              <a:ext cx="17640" cy="3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395480" y="5645160"/>
              <a:ext cx="20880" cy="30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416360" y="5638320"/>
              <a:ext cx="21600" cy="2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460640" y="5659920"/>
              <a:ext cx="32400" cy="25920"/>
            </a:xfrm>
            <a:custGeom>
              <a:avLst/>
              <a:gdLst/>
              <a:ahLst/>
              <a:rect l="l" t="t" r="r" b="b"/>
              <a:pathLst>
                <a:path w="101" h="83">
                  <a:moveTo>
                    <a:pt x="0" y="0"/>
                  </a:moveTo>
                  <a:lnTo>
                    <a:pt x="61" y="51"/>
                  </a:lnTo>
                  <a:lnTo>
                    <a:pt x="101" y="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9" name=""/>
          <p:cNvGrpSpPr/>
          <p:nvPr/>
        </p:nvGrpSpPr>
        <p:grpSpPr>
          <a:xfrm>
            <a:off x="7907400" y="4643280"/>
            <a:ext cx="755280" cy="1365120"/>
            <a:chOff x="7907400" y="4643280"/>
            <a:chExt cx="755280" cy="1365120"/>
          </a:xfrm>
        </p:grpSpPr>
        <p:sp>
          <p:nvSpPr>
            <p:cNvPr id="1440" name=""/>
            <p:cNvSpPr/>
            <p:nvPr/>
          </p:nvSpPr>
          <p:spPr>
            <a:xfrm>
              <a:off x="8165160" y="5078160"/>
              <a:ext cx="5040" cy="29160"/>
            </a:xfrm>
            <a:custGeom>
              <a:avLst/>
              <a:gdLst/>
              <a:ahLst/>
              <a:rect l="l" t="t" r="r" b="b"/>
              <a:pathLst>
                <a:path w="16" h="91">
                  <a:moveTo>
                    <a:pt x="12" y="91"/>
                  </a:moveTo>
                  <a:lnTo>
                    <a:pt x="16" y="8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87"/>
                  </a:lnTo>
                  <a:lnTo>
                    <a:pt x="6" y="83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8" y="91"/>
                  </a:lnTo>
                  <a:lnTo>
                    <a:pt x="12" y="89"/>
                  </a:lnTo>
                  <a:lnTo>
                    <a:pt x="16" y="87"/>
                  </a:lnTo>
                  <a:lnTo>
                    <a:pt x="12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907400" y="5049000"/>
              <a:ext cx="302760" cy="392400"/>
            </a:xfrm>
            <a:custGeom>
              <a:avLst/>
              <a:gdLst/>
              <a:ahLst/>
              <a:rect l="l" t="t" r="r" b="b"/>
              <a:pathLst>
                <a:path w="955" h="1236">
                  <a:moveTo>
                    <a:pt x="0" y="538"/>
                  </a:moveTo>
                  <a:lnTo>
                    <a:pt x="355" y="0"/>
                  </a:lnTo>
                  <a:lnTo>
                    <a:pt x="590" y="358"/>
                  </a:lnTo>
                  <a:lnTo>
                    <a:pt x="743" y="802"/>
                  </a:lnTo>
                  <a:lnTo>
                    <a:pt x="955" y="1069"/>
                  </a:lnTo>
                  <a:lnTo>
                    <a:pt x="699" y="1204"/>
                  </a:lnTo>
                  <a:lnTo>
                    <a:pt x="410" y="1236"/>
                  </a:lnTo>
                  <a:lnTo>
                    <a:pt x="0" y="53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996320" y="5377320"/>
              <a:ext cx="500760" cy="631080"/>
            </a:xfrm>
            <a:custGeom>
              <a:avLst/>
              <a:gdLst/>
              <a:ahLst/>
              <a:rect l="l" t="t" r="r" b="b"/>
              <a:pathLst>
                <a:path w="1579" h="1989">
                  <a:moveTo>
                    <a:pt x="543" y="0"/>
                  </a:moveTo>
                  <a:lnTo>
                    <a:pt x="537" y="8"/>
                  </a:lnTo>
                  <a:lnTo>
                    <a:pt x="531" y="20"/>
                  </a:lnTo>
                  <a:lnTo>
                    <a:pt x="523" y="28"/>
                  </a:lnTo>
                  <a:lnTo>
                    <a:pt x="517" y="37"/>
                  </a:lnTo>
                  <a:lnTo>
                    <a:pt x="509" y="47"/>
                  </a:lnTo>
                  <a:lnTo>
                    <a:pt x="503" y="55"/>
                  </a:lnTo>
                  <a:lnTo>
                    <a:pt x="498" y="65"/>
                  </a:lnTo>
                  <a:lnTo>
                    <a:pt x="488" y="77"/>
                  </a:lnTo>
                  <a:lnTo>
                    <a:pt x="462" y="77"/>
                  </a:lnTo>
                  <a:lnTo>
                    <a:pt x="436" y="77"/>
                  </a:lnTo>
                  <a:lnTo>
                    <a:pt x="408" y="77"/>
                  </a:lnTo>
                  <a:lnTo>
                    <a:pt x="383" y="79"/>
                  </a:lnTo>
                  <a:lnTo>
                    <a:pt x="355" y="79"/>
                  </a:lnTo>
                  <a:lnTo>
                    <a:pt x="331" y="79"/>
                  </a:lnTo>
                  <a:lnTo>
                    <a:pt x="303" y="83"/>
                  </a:lnTo>
                  <a:lnTo>
                    <a:pt x="280" y="85"/>
                  </a:lnTo>
                  <a:lnTo>
                    <a:pt x="258" y="89"/>
                  </a:lnTo>
                  <a:lnTo>
                    <a:pt x="234" y="95"/>
                  </a:lnTo>
                  <a:lnTo>
                    <a:pt x="212" y="99"/>
                  </a:lnTo>
                  <a:lnTo>
                    <a:pt x="191" y="109"/>
                  </a:lnTo>
                  <a:lnTo>
                    <a:pt x="167" y="117"/>
                  </a:lnTo>
                  <a:lnTo>
                    <a:pt x="145" y="123"/>
                  </a:lnTo>
                  <a:lnTo>
                    <a:pt x="123" y="133"/>
                  </a:lnTo>
                  <a:lnTo>
                    <a:pt x="99" y="138"/>
                  </a:lnTo>
                  <a:lnTo>
                    <a:pt x="97" y="329"/>
                  </a:lnTo>
                  <a:lnTo>
                    <a:pt x="94" y="519"/>
                  </a:lnTo>
                  <a:lnTo>
                    <a:pt x="92" y="709"/>
                  </a:lnTo>
                  <a:lnTo>
                    <a:pt x="90" y="899"/>
                  </a:lnTo>
                  <a:lnTo>
                    <a:pt x="111" y="891"/>
                  </a:lnTo>
                  <a:lnTo>
                    <a:pt x="131" y="885"/>
                  </a:lnTo>
                  <a:lnTo>
                    <a:pt x="155" y="881"/>
                  </a:lnTo>
                  <a:lnTo>
                    <a:pt x="175" y="872"/>
                  </a:lnTo>
                  <a:lnTo>
                    <a:pt x="197" y="866"/>
                  </a:lnTo>
                  <a:lnTo>
                    <a:pt x="218" y="860"/>
                  </a:lnTo>
                  <a:lnTo>
                    <a:pt x="238" y="854"/>
                  </a:lnTo>
                  <a:lnTo>
                    <a:pt x="262" y="846"/>
                  </a:lnTo>
                  <a:lnTo>
                    <a:pt x="282" y="838"/>
                  </a:lnTo>
                  <a:lnTo>
                    <a:pt x="303" y="834"/>
                  </a:lnTo>
                  <a:lnTo>
                    <a:pt x="327" y="826"/>
                  </a:lnTo>
                  <a:lnTo>
                    <a:pt x="347" y="822"/>
                  </a:lnTo>
                  <a:lnTo>
                    <a:pt x="369" y="812"/>
                  </a:lnTo>
                  <a:lnTo>
                    <a:pt x="391" y="806"/>
                  </a:lnTo>
                  <a:lnTo>
                    <a:pt x="414" y="802"/>
                  </a:lnTo>
                  <a:lnTo>
                    <a:pt x="434" y="794"/>
                  </a:lnTo>
                  <a:lnTo>
                    <a:pt x="418" y="818"/>
                  </a:lnTo>
                  <a:lnTo>
                    <a:pt x="404" y="842"/>
                  </a:lnTo>
                  <a:lnTo>
                    <a:pt x="389" y="868"/>
                  </a:lnTo>
                  <a:lnTo>
                    <a:pt x="373" y="893"/>
                  </a:lnTo>
                  <a:lnTo>
                    <a:pt x="359" y="919"/>
                  </a:lnTo>
                  <a:lnTo>
                    <a:pt x="341" y="945"/>
                  </a:lnTo>
                  <a:lnTo>
                    <a:pt x="327" y="971"/>
                  </a:lnTo>
                  <a:lnTo>
                    <a:pt x="313" y="994"/>
                  </a:lnTo>
                  <a:lnTo>
                    <a:pt x="300" y="1026"/>
                  </a:lnTo>
                  <a:lnTo>
                    <a:pt x="292" y="1056"/>
                  </a:lnTo>
                  <a:lnTo>
                    <a:pt x="278" y="1086"/>
                  </a:lnTo>
                  <a:lnTo>
                    <a:pt x="268" y="1117"/>
                  </a:lnTo>
                  <a:lnTo>
                    <a:pt x="254" y="1145"/>
                  </a:lnTo>
                  <a:lnTo>
                    <a:pt x="246" y="1177"/>
                  </a:lnTo>
                  <a:lnTo>
                    <a:pt x="234" y="1206"/>
                  </a:lnTo>
                  <a:lnTo>
                    <a:pt x="220" y="1236"/>
                  </a:lnTo>
                  <a:lnTo>
                    <a:pt x="195" y="1331"/>
                  </a:lnTo>
                  <a:lnTo>
                    <a:pt x="167" y="1426"/>
                  </a:lnTo>
                  <a:lnTo>
                    <a:pt x="137" y="1519"/>
                  </a:lnTo>
                  <a:lnTo>
                    <a:pt x="111" y="1613"/>
                  </a:lnTo>
                  <a:lnTo>
                    <a:pt x="84" y="1706"/>
                  </a:lnTo>
                  <a:lnTo>
                    <a:pt x="56" y="1801"/>
                  </a:lnTo>
                  <a:lnTo>
                    <a:pt x="28" y="1896"/>
                  </a:lnTo>
                  <a:lnTo>
                    <a:pt x="0" y="1989"/>
                  </a:lnTo>
                  <a:lnTo>
                    <a:pt x="40" y="1989"/>
                  </a:lnTo>
                  <a:lnTo>
                    <a:pt x="80" y="1989"/>
                  </a:lnTo>
                  <a:lnTo>
                    <a:pt x="117" y="1989"/>
                  </a:lnTo>
                  <a:lnTo>
                    <a:pt x="159" y="1989"/>
                  </a:lnTo>
                  <a:lnTo>
                    <a:pt x="198" y="1989"/>
                  </a:lnTo>
                  <a:lnTo>
                    <a:pt x="238" y="1989"/>
                  </a:lnTo>
                  <a:lnTo>
                    <a:pt x="278" y="1989"/>
                  </a:lnTo>
                  <a:lnTo>
                    <a:pt x="317" y="1989"/>
                  </a:lnTo>
                  <a:lnTo>
                    <a:pt x="355" y="1989"/>
                  </a:lnTo>
                  <a:lnTo>
                    <a:pt x="397" y="1989"/>
                  </a:lnTo>
                  <a:lnTo>
                    <a:pt x="436" y="1989"/>
                  </a:lnTo>
                  <a:lnTo>
                    <a:pt x="474" y="1989"/>
                  </a:lnTo>
                  <a:lnTo>
                    <a:pt x="515" y="1989"/>
                  </a:lnTo>
                  <a:lnTo>
                    <a:pt x="555" y="1989"/>
                  </a:lnTo>
                  <a:lnTo>
                    <a:pt x="593" y="1989"/>
                  </a:lnTo>
                  <a:lnTo>
                    <a:pt x="632" y="1989"/>
                  </a:lnTo>
                  <a:lnTo>
                    <a:pt x="632" y="1943"/>
                  </a:lnTo>
                  <a:lnTo>
                    <a:pt x="628" y="1898"/>
                  </a:lnTo>
                  <a:lnTo>
                    <a:pt x="626" y="1852"/>
                  </a:lnTo>
                  <a:lnTo>
                    <a:pt x="622" y="1809"/>
                  </a:lnTo>
                  <a:lnTo>
                    <a:pt x="612" y="1775"/>
                  </a:lnTo>
                  <a:lnTo>
                    <a:pt x="603" y="1739"/>
                  </a:lnTo>
                  <a:lnTo>
                    <a:pt x="591" y="1706"/>
                  </a:lnTo>
                  <a:lnTo>
                    <a:pt x="579" y="1672"/>
                  </a:lnTo>
                  <a:lnTo>
                    <a:pt x="591" y="1658"/>
                  </a:lnTo>
                  <a:lnTo>
                    <a:pt x="604" y="1646"/>
                  </a:lnTo>
                  <a:lnTo>
                    <a:pt x="620" y="1632"/>
                  </a:lnTo>
                  <a:lnTo>
                    <a:pt x="636" y="1618"/>
                  </a:lnTo>
                  <a:lnTo>
                    <a:pt x="650" y="1607"/>
                  </a:lnTo>
                  <a:lnTo>
                    <a:pt x="662" y="1593"/>
                  </a:lnTo>
                  <a:lnTo>
                    <a:pt x="676" y="1581"/>
                  </a:lnTo>
                  <a:lnTo>
                    <a:pt x="690" y="1565"/>
                  </a:lnTo>
                  <a:lnTo>
                    <a:pt x="700" y="1551"/>
                  </a:lnTo>
                  <a:lnTo>
                    <a:pt x="713" y="1537"/>
                  </a:lnTo>
                  <a:lnTo>
                    <a:pt x="727" y="1523"/>
                  </a:lnTo>
                  <a:lnTo>
                    <a:pt x="739" y="1506"/>
                  </a:lnTo>
                  <a:lnTo>
                    <a:pt x="749" y="1492"/>
                  </a:lnTo>
                  <a:lnTo>
                    <a:pt x="763" y="1476"/>
                  </a:lnTo>
                  <a:lnTo>
                    <a:pt x="777" y="1464"/>
                  </a:lnTo>
                  <a:lnTo>
                    <a:pt x="791" y="1450"/>
                  </a:lnTo>
                  <a:lnTo>
                    <a:pt x="810" y="1436"/>
                  </a:lnTo>
                  <a:lnTo>
                    <a:pt x="830" y="1418"/>
                  </a:lnTo>
                  <a:lnTo>
                    <a:pt x="854" y="1406"/>
                  </a:lnTo>
                  <a:lnTo>
                    <a:pt x="874" y="1391"/>
                  </a:lnTo>
                  <a:lnTo>
                    <a:pt x="896" y="1377"/>
                  </a:lnTo>
                  <a:lnTo>
                    <a:pt x="917" y="1363"/>
                  </a:lnTo>
                  <a:lnTo>
                    <a:pt x="935" y="1349"/>
                  </a:lnTo>
                  <a:lnTo>
                    <a:pt x="957" y="1331"/>
                  </a:lnTo>
                  <a:lnTo>
                    <a:pt x="981" y="1305"/>
                  </a:lnTo>
                  <a:lnTo>
                    <a:pt x="1009" y="1280"/>
                  </a:lnTo>
                  <a:lnTo>
                    <a:pt x="1032" y="1252"/>
                  </a:lnTo>
                  <a:lnTo>
                    <a:pt x="1058" y="1228"/>
                  </a:lnTo>
                  <a:lnTo>
                    <a:pt x="1082" y="1200"/>
                  </a:lnTo>
                  <a:lnTo>
                    <a:pt x="1106" y="1171"/>
                  </a:lnTo>
                  <a:lnTo>
                    <a:pt x="1131" y="1145"/>
                  </a:lnTo>
                  <a:lnTo>
                    <a:pt x="1155" y="1117"/>
                  </a:lnTo>
                  <a:lnTo>
                    <a:pt x="1181" y="1087"/>
                  </a:lnTo>
                  <a:lnTo>
                    <a:pt x="1205" y="1062"/>
                  </a:lnTo>
                  <a:lnTo>
                    <a:pt x="1228" y="1034"/>
                  </a:lnTo>
                  <a:lnTo>
                    <a:pt x="1254" y="1004"/>
                  </a:lnTo>
                  <a:lnTo>
                    <a:pt x="1278" y="979"/>
                  </a:lnTo>
                  <a:lnTo>
                    <a:pt x="1304" y="951"/>
                  </a:lnTo>
                  <a:lnTo>
                    <a:pt x="1329" y="925"/>
                  </a:lnTo>
                  <a:lnTo>
                    <a:pt x="1355" y="899"/>
                  </a:lnTo>
                  <a:lnTo>
                    <a:pt x="1371" y="887"/>
                  </a:lnTo>
                  <a:lnTo>
                    <a:pt x="1391" y="874"/>
                  </a:lnTo>
                  <a:lnTo>
                    <a:pt x="1411" y="864"/>
                  </a:lnTo>
                  <a:lnTo>
                    <a:pt x="1430" y="856"/>
                  </a:lnTo>
                  <a:lnTo>
                    <a:pt x="1450" y="842"/>
                  </a:lnTo>
                  <a:lnTo>
                    <a:pt x="1470" y="832"/>
                  </a:lnTo>
                  <a:lnTo>
                    <a:pt x="1486" y="818"/>
                  </a:lnTo>
                  <a:lnTo>
                    <a:pt x="1500" y="804"/>
                  </a:lnTo>
                  <a:lnTo>
                    <a:pt x="1516" y="780"/>
                  </a:lnTo>
                  <a:lnTo>
                    <a:pt x="1529" y="755"/>
                  </a:lnTo>
                  <a:lnTo>
                    <a:pt x="1543" y="731"/>
                  </a:lnTo>
                  <a:lnTo>
                    <a:pt x="1553" y="703"/>
                  </a:lnTo>
                  <a:lnTo>
                    <a:pt x="1565" y="675"/>
                  </a:lnTo>
                  <a:lnTo>
                    <a:pt x="1573" y="648"/>
                  </a:lnTo>
                  <a:lnTo>
                    <a:pt x="1577" y="622"/>
                  </a:lnTo>
                  <a:lnTo>
                    <a:pt x="1579" y="594"/>
                  </a:lnTo>
                  <a:lnTo>
                    <a:pt x="1579" y="446"/>
                  </a:lnTo>
                  <a:lnTo>
                    <a:pt x="1579" y="295"/>
                  </a:lnTo>
                  <a:lnTo>
                    <a:pt x="1579" y="148"/>
                  </a:lnTo>
                  <a:lnTo>
                    <a:pt x="1579" y="0"/>
                  </a:lnTo>
                  <a:lnTo>
                    <a:pt x="1545" y="0"/>
                  </a:lnTo>
                  <a:lnTo>
                    <a:pt x="1514" y="0"/>
                  </a:lnTo>
                  <a:lnTo>
                    <a:pt x="1480" y="0"/>
                  </a:lnTo>
                  <a:lnTo>
                    <a:pt x="1450" y="0"/>
                  </a:lnTo>
                  <a:lnTo>
                    <a:pt x="1416" y="0"/>
                  </a:lnTo>
                  <a:lnTo>
                    <a:pt x="1383" y="0"/>
                  </a:lnTo>
                  <a:lnTo>
                    <a:pt x="1353" y="0"/>
                  </a:lnTo>
                  <a:lnTo>
                    <a:pt x="1319" y="0"/>
                  </a:lnTo>
                  <a:lnTo>
                    <a:pt x="1286" y="0"/>
                  </a:lnTo>
                  <a:lnTo>
                    <a:pt x="1256" y="0"/>
                  </a:lnTo>
                  <a:lnTo>
                    <a:pt x="1222" y="0"/>
                  </a:lnTo>
                  <a:lnTo>
                    <a:pt x="1189" y="0"/>
                  </a:lnTo>
                  <a:lnTo>
                    <a:pt x="1157" y="0"/>
                  </a:lnTo>
                  <a:lnTo>
                    <a:pt x="1125" y="0"/>
                  </a:lnTo>
                  <a:lnTo>
                    <a:pt x="1092" y="0"/>
                  </a:lnTo>
                  <a:lnTo>
                    <a:pt x="1062" y="0"/>
                  </a:lnTo>
                  <a:lnTo>
                    <a:pt x="1028" y="0"/>
                  </a:lnTo>
                  <a:lnTo>
                    <a:pt x="997" y="0"/>
                  </a:lnTo>
                  <a:lnTo>
                    <a:pt x="963" y="0"/>
                  </a:lnTo>
                  <a:lnTo>
                    <a:pt x="931" y="0"/>
                  </a:lnTo>
                  <a:lnTo>
                    <a:pt x="900" y="0"/>
                  </a:lnTo>
                  <a:lnTo>
                    <a:pt x="866" y="0"/>
                  </a:lnTo>
                  <a:lnTo>
                    <a:pt x="834" y="0"/>
                  </a:lnTo>
                  <a:lnTo>
                    <a:pt x="801" y="0"/>
                  </a:lnTo>
                  <a:lnTo>
                    <a:pt x="771" y="0"/>
                  </a:lnTo>
                  <a:lnTo>
                    <a:pt x="739" y="0"/>
                  </a:lnTo>
                  <a:lnTo>
                    <a:pt x="705" y="0"/>
                  </a:lnTo>
                  <a:lnTo>
                    <a:pt x="674" y="0"/>
                  </a:lnTo>
                  <a:lnTo>
                    <a:pt x="640" y="0"/>
                  </a:lnTo>
                  <a:lnTo>
                    <a:pt x="608" y="0"/>
                  </a:lnTo>
                  <a:lnTo>
                    <a:pt x="577" y="0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996320" y="5377320"/>
              <a:ext cx="500760" cy="631080"/>
            </a:xfrm>
            <a:custGeom>
              <a:avLst/>
              <a:gdLst/>
              <a:ahLst/>
              <a:rect l="l" t="t" r="r" b="b"/>
              <a:pathLst>
                <a:path w="1579" h="1989">
                  <a:moveTo>
                    <a:pt x="543" y="0"/>
                  </a:moveTo>
                  <a:lnTo>
                    <a:pt x="537" y="8"/>
                  </a:lnTo>
                  <a:lnTo>
                    <a:pt x="531" y="20"/>
                  </a:lnTo>
                  <a:lnTo>
                    <a:pt x="523" y="28"/>
                  </a:lnTo>
                  <a:lnTo>
                    <a:pt x="517" y="37"/>
                  </a:lnTo>
                  <a:lnTo>
                    <a:pt x="509" y="47"/>
                  </a:lnTo>
                  <a:lnTo>
                    <a:pt x="503" y="55"/>
                  </a:lnTo>
                  <a:lnTo>
                    <a:pt x="498" y="65"/>
                  </a:lnTo>
                  <a:lnTo>
                    <a:pt x="488" y="77"/>
                  </a:lnTo>
                  <a:lnTo>
                    <a:pt x="462" y="77"/>
                  </a:lnTo>
                  <a:lnTo>
                    <a:pt x="436" y="77"/>
                  </a:lnTo>
                  <a:lnTo>
                    <a:pt x="408" y="77"/>
                  </a:lnTo>
                  <a:lnTo>
                    <a:pt x="383" y="79"/>
                  </a:lnTo>
                  <a:lnTo>
                    <a:pt x="355" y="79"/>
                  </a:lnTo>
                  <a:lnTo>
                    <a:pt x="331" y="79"/>
                  </a:lnTo>
                  <a:lnTo>
                    <a:pt x="303" y="83"/>
                  </a:lnTo>
                  <a:lnTo>
                    <a:pt x="280" y="85"/>
                  </a:lnTo>
                  <a:lnTo>
                    <a:pt x="258" y="89"/>
                  </a:lnTo>
                  <a:lnTo>
                    <a:pt x="234" y="95"/>
                  </a:lnTo>
                  <a:lnTo>
                    <a:pt x="212" y="99"/>
                  </a:lnTo>
                  <a:lnTo>
                    <a:pt x="191" y="109"/>
                  </a:lnTo>
                  <a:lnTo>
                    <a:pt x="167" y="117"/>
                  </a:lnTo>
                  <a:lnTo>
                    <a:pt x="145" y="123"/>
                  </a:lnTo>
                  <a:lnTo>
                    <a:pt x="123" y="133"/>
                  </a:lnTo>
                  <a:lnTo>
                    <a:pt x="99" y="138"/>
                  </a:lnTo>
                  <a:lnTo>
                    <a:pt x="97" y="329"/>
                  </a:lnTo>
                  <a:lnTo>
                    <a:pt x="94" y="519"/>
                  </a:lnTo>
                  <a:lnTo>
                    <a:pt x="92" y="709"/>
                  </a:lnTo>
                  <a:lnTo>
                    <a:pt x="90" y="899"/>
                  </a:lnTo>
                  <a:lnTo>
                    <a:pt x="111" y="891"/>
                  </a:lnTo>
                  <a:lnTo>
                    <a:pt x="131" y="885"/>
                  </a:lnTo>
                  <a:lnTo>
                    <a:pt x="155" y="881"/>
                  </a:lnTo>
                  <a:lnTo>
                    <a:pt x="175" y="872"/>
                  </a:lnTo>
                  <a:lnTo>
                    <a:pt x="197" y="866"/>
                  </a:lnTo>
                  <a:lnTo>
                    <a:pt x="218" y="860"/>
                  </a:lnTo>
                  <a:lnTo>
                    <a:pt x="238" y="854"/>
                  </a:lnTo>
                  <a:lnTo>
                    <a:pt x="262" y="846"/>
                  </a:lnTo>
                  <a:lnTo>
                    <a:pt x="282" y="838"/>
                  </a:lnTo>
                  <a:lnTo>
                    <a:pt x="303" y="834"/>
                  </a:lnTo>
                  <a:lnTo>
                    <a:pt x="327" y="826"/>
                  </a:lnTo>
                  <a:lnTo>
                    <a:pt x="347" y="822"/>
                  </a:lnTo>
                  <a:lnTo>
                    <a:pt x="369" y="812"/>
                  </a:lnTo>
                  <a:lnTo>
                    <a:pt x="391" y="806"/>
                  </a:lnTo>
                  <a:lnTo>
                    <a:pt x="414" y="802"/>
                  </a:lnTo>
                  <a:lnTo>
                    <a:pt x="434" y="794"/>
                  </a:lnTo>
                  <a:lnTo>
                    <a:pt x="418" y="818"/>
                  </a:lnTo>
                  <a:lnTo>
                    <a:pt x="404" y="842"/>
                  </a:lnTo>
                  <a:lnTo>
                    <a:pt x="389" y="868"/>
                  </a:lnTo>
                  <a:lnTo>
                    <a:pt x="373" y="893"/>
                  </a:lnTo>
                  <a:lnTo>
                    <a:pt x="359" y="919"/>
                  </a:lnTo>
                  <a:lnTo>
                    <a:pt x="341" y="945"/>
                  </a:lnTo>
                  <a:lnTo>
                    <a:pt x="327" y="971"/>
                  </a:lnTo>
                  <a:lnTo>
                    <a:pt x="313" y="994"/>
                  </a:lnTo>
                  <a:lnTo>
                    <a:pt x="300" y="1026"/>
                  </a:lnTo>
                  <a:lnTo>
                    <a:pt x="292" y="1056"/>
                  </a:lnTo>
                  <a:lnTo>
                    <a:pt x="278" y="1086"/>
                  </a:lnTo>
                  <a:lnTo>
                    <a:pt x="268" y="1117"/>
                  </a:lnTo>
                  <a:lnTo>
                    <a:pt x="254" y="1145"/>
                  </a:lnTo>
                  <a:lnTo>
                    <a:pt x="246" y="1177"/>
                  </a:lnTo>
                  <a:lnTo>
                    <a:pt x="234" y="1206"/>
                  </a:lnTo>
                  <a:lnTo>
                    <a:pt x="220" y="1236"/>
                  </a:lnTo>
                  <a:lnTo>
                    <a:pt x="195" y="1331"/>
                  </a:lnTo>
                  <a:lnTo>
                    <a:pt x="167" y="1426"/>
                  </a:lnTo>
                  <a:lnTo>
                    <a:pt x="137" y="1519"/>
                  </a:lnTo>
                  <a:lnTo>
                    <a:pt x="111" y="1613"/>
                  </a:lnTo>
                  <a:lnTo>
                    <a:pt x="84" y="1706"/>
                  </a:lnTo>
                  <a:lnTo>
                    <a:pt x="56" y="1801"/>
                  </a:lnTo>
                  <a:lnTo>
                    <a:pt x="28" y="1896"/>
                  </a:lnTo>
                  <a:lnTo>
                    <a:pt x="0" y="1989"/>
                  </a:lnTo>
                  <a:lnTo>
                    <a:pt x="40" y="1989"/>
                  </a:lnTo>
                  <a:lnTo>
                    <a:pt x="80" y="1989"/>
                  </a:lnTo>
                  <a:lnTo>
                    <a:pt x="117" y="1989"/>
                  </a:lnTo>
                  <a:lnTo>
                    <a:pt x="159" y="1989"/>
                  </a:lnTo>
                  <a:lnTo>
                    <a:pt x="198" y="1989"/>
                  </a:lnTo>
                  <a:lnTo>
                    <a:pt x="238" y="1989"/>
                  </a:lnTo>
                  <a:lnTo>
                    <a:pt x="278" y="1989"/>
                  </a:lnTo>
                  <a:lnTo>
                    <a:pt x="317" y="1989"/>
                  </a:lnTo>
                  <a:lnTo>
                    <a:pt x="355" y="1989"/>
                  </a:lnTo>
                  <a:lnTo>
                    <a:pt x="397" y="1989"/>
                  </a:lnTo>
                  <a:lnTo>
                    <a:pt x="436" y="1989"/>
                  </a:lnTo>
                  <a:lnTo>
                    <a:pt x="474" y="1989"/>
                  </a:lnTo>
                  <a:lnTo>
                    <a:pt x="515" y="1989"/>
                  </a:lnTo>
                  <a:lnTo>
                    <a:pt x="555" y="1989"/>
                  </a:lnTo>
                  <a:lnTo>
                    <a:pt x="593" y="1989"/>
                  </a:lnTo>
                  <a:lnTo>
                    <a:pt x="632" y="1989"/>
                  </a:lnTo>
                  <a:lnTo>
                    <a:pt x="632" y="1943"/>
                  </a:lnTo>
                  <a:lnTo>
                    <a:pt x="628" y="1898"/>
                  </a:lnTo>
                  <a:lnTo>
                    <a:pt x="626" y="1852"/>
                  </a:lnTo>
                  <a:lnTo>
                    <a:pt x="622" y="1809"/>
                  </a:lnTo>
                  <a:lnTo>
                    <a:pt x="612" y="1775"/>
                  </a:lnTo>
                  <a:lnTo>
                    <a:pt x="603" y="1739"/>
                  </a:lnTo>
                  <a:lnTo>
                    <a:pt x="591" y="1706"/>
                  </a:lnTo>
                  <a:lnTo>
                    <a:pt x="579" y="1672"/>
                  </a:lnTo>
                  <a:lnTo>
                    <a:pt x="591" y="1658"/>
                  </a:lnTo>
                  <a:lnTo>
                    <a:pt x="604" y="1646"/>
                  </a:lnTo>
                  <a:lnTo>
                    <a:pt x="620" y="1632"/>
                  </a:lnTo>
                  <a:lnTo>
                    <a:pt x="636" y="1618"/>
                  </a:lnTo>
                  <a:lnTo>
                    <a:pt x="650" y="1607"/>
                  </a:lnTo>
                  <a:lnTo>
                    <a:pt x="662" y="1593"/>
                  </a:lnTo>
                  <a:lnTo>
                    <a:pt x="676" y="1581"/>
                  </a:lnTo>
                  <a:lnTo>
                    <a:pt x="690" y="1565"/>
                  </a:lnTo>
                  <a:lnTo>
                    <a:pt x="700" y="1551"/>
                  </a:lnTo>
                  <a:lnTo>
                    <a:pt x="713" y="1537"/>
                  </a:lnTo>
                  <a:lnTo>
                    <a:pt x="727" y="1523"/>
                  </a:lnTo>
                  <a:lnTo>
                    <a:pt x="739" y="1506"/>
                  </a:lnTo>
                  <a:lnTo>
                    <a:pt x="749" y="1492"/>
                  </a:lnTo>
                  <a:lnTo>
                    <a:pt x="763" y="1476"/>
                  </a:lnTo>
                  <a:lnTo>
                    <a:pt x="777" y="1464"/>
                  </a:lnTo>
                  <a:lnTo>
                    <a:pt x="791" y="1450"/>
                  </a:lnTo>
                  <a:lnTo>
                    <a:pt x="810" y="1436"/>
                  </a:lnTo>
                  <a:lnTo>
                    <a:pt x="830" y="1418"/>
                  </a:lnTo>
                  <a:lnTo>
                    <a:pt x="854" y="1406"/>
                  </a:lnTo>
                  <a:lnTo>
                    <a:pt x="874" y="1391"/>
                  </a:lnTo>
                  <a:lnTo>
                    <a:pt x="896" y="1377"/>
                  </a:lnTo>
                  <a:lnTo>
                    <a:pt x="917" y="1363"/>
                  </a:lnTo>
                  <a:lnTo>
                    <a:pt x="935" y="1349"/>
                  </a:lnTo>
                  <a:lnTo>
                    <a:pt x="957" y="1331"/>
                  </a:lnTo>
                  <a:lnTo>
                    <a:pt x="981" y="1305"/>
                  </a:lnTo>
                  <a:lnTo>
                    <a:pt x="1009" y="1280"/>
                  </a:lnTo>
                  <a:lnTo>
                    <a:pt x="1032" y="1252"/>
                  </a:lnTo>
                  <a:lnTo>
                    <a:pt x="1058" y="1228"/>
                  </a:lnTo>
                  <a:lnTo>
                    <a:pt x="1082" y="1200"/>
                  </a:lnTo>
                  <a:lnTo>
                    <a:pt x="1106" y="1171"/>
                  </a:lnTo>
                  <a:lnTo>
                    <a:pt x="1131" y="1145"/>
                  </a:lnTo>
                  <a:lnTo>
                    <a:pt x="1155" y="1117"/>
                  </a:lnTo>
                  <a:lnTo>
                    <a:pt x="1181" y="1087"/>
                  </a:lnTo>
                  <a:lnTo>
                    <a:pt x="1205" y="1062"/>
                  </a:lnTo>
                  <a:lnTo>
                    <a:pt x="1228" y="1034"/>
                  </a:lnTo>
                  <a:lnTo>
                    <a:pt x="1254" y="1004"/>
                  </a:lnTo>
                  <a:lnTo>
                    <a:pt x="1278" y="979"/>
                  </a:lnTo>
                  <a:lnTo>
                    <a:pt x="1304" y="951"/>
                  </a:lnTo>
                  <a:lnTo>
                    <a:pt x="1329" y="925"/>
                  </a:lnTo>
                  <a:lnTo>
                    <a:pt x="1355" y="899"/>
                  </a:lnTo>
                  <a:lnTo>
                    <a:pt x="1371" y="887"/>
                  </a:lnTo>
                  <a:lnTo>
                    <a:pt x="1391" y="874"/>
                  </a:lnTo>
                  <a:lnTo>
                    <a:pt x="1411" y="864"/>
                  </a:lnTo>
                  <a:lnTo>
                    <a:pt x="1430" y="856"/>
                  </a:lnTo>
                  <a:lnTo>
                    <a:pt x="1450" y="842"/>
                  </a:lnTo>
                  <a:lnTo>
                    <a:pt x="1470" y="832"/>
                  </a:lnTo>
                  <a:lnTo>
                    <a:pt x="1486" y="818"/>
                  </a:lnTo>
                  <a:lnTo>
                    <a:pt x="1500" y="804"/>
                  </a:lnTo>
                  <a:lnTo>
                    <a:pt x="1516" y="780"/>
                  </a:lnTo>
                  <a:lnTo>
                    <a:pt x="1529" y="755"/>
                  </a:lnTo>
                  <a:lnTo>
                    <a:pt x="1543" y="731"/>
                  </a:lnTo>
                  <a:lnTo>
                    <a:pt x="1553" y="703"/>
                  </a:lnTo>
                  <a:lnTo>
                    <a:pt x="1565" y="675"/>
                  </a:lnTo>
                  <a:lnTo>
                    <a:pt x="1573" y="648"/>
                  </a:lnTo>
                  <a:lnTo>
                    <a:pt x="1577" y="622"/>
                  </a:lnTo>
                  <a:lnTo>
                    <a:pt x="1579" y="594"/>
                  </a:lnTo>
                  <a:lnTo>
                    <a:pt x="1579" y="446"/>
                  </a:lnTo>
                  <a:lnTo>
                    <a:pt x="1579" y="295"/>
                  </a:lnTo>
                  <a:lnTo>
                    <a:pt x="1579" y="148"/>
                  </a:lnTo>
                  <a:lnTo>
                    <a:pt x="1579" y="0"/>
                  </a:lnTo>
                  <a:lnTo>
                    <a:pt x="1545" y="0"/>
                  </a:lnTo>
                  <a:lnTo>
                    <a:pt x="1514" y="0"/>
                  </a:lnTo>
                  <a:lnTo>
                    <a:pt x="1480" y="0"/>
                  </a:lnTo>
                  <a:lnTo>
                    <a:pt x="1450" y="0"/>
                  </a:lnTo>
                  <a:lnTo>
                    <a:pt x="1416" y="0"/>
                  </a:lnTo>
                  <a:lnTo>
                    <a:pt x="1383" y="0"/>
                  </a:lnTo>
                  <a:lnTo>
                    <a:pt x="1353" y="0"/>
                  </a:lnTo>
                  <a:lnTo>
                    <a:pt x="1319" y="0"/>
                  </a:lnTo>
                  <a:lnTo>
                    <a:pt x="1286" y="0"/>
                  </a:lnTo>
                  <a:lnTo>
                    <a:pt x="1256" y="0"/>
                  </a:lnTo>
                  <a:lnTo>
                    <a:pt x="1222" y="0"/>
                  </a:lnTo>
                  <a:lnTo>
                    <a:pt x="1189" y="0"/>
                  </a:lnTo>
                  <a:lnTo>
                    <a:pt x="1157" y="0"/>
                  </a:lnTo>
                  <a:lnTo>
                    <a:pt x="1125" y="0"/>
                  </a:lnTo>
                  <a:lnTo>
                    <a:pt x="1092" y="0"/>
                  </a:lnTo>
                  <a:lnTo>
                    <a:pt x="1062" y="0"/>
                  </a:lnTo>
                  <a:lnTo>
                    <a:pt x="1028" y="0"/>
                  </a:lnTo>
                  <a:lnTo>
                    <a:pt x="997" y="0"/>
                  </a:lnTo>
                  <a:lnTo>
                    <a:pt x="963" y="0"/>
                  </a:lnTo>
                  <a:lnTo>
                    <a:pt x="931" y="0"/>
                  </a:lnTo>
                  <a:lnTo>
                    <a:pt x="900" y="0"/>
                  </a:lnTo>
                  <a:lnTo>
                    <a:pt x="866" y="0"/>
                  </a:lnTo>
                  <a:lnTo>
                    <a:pt x="834" y="0"/>
                  </a:lnTo>
                  <a:lnTo>
                    <a:pt x="801" y="0"/>
                  </a:lnTo>
                  <a:lnTo>
                    <a:pt x="771" y="0"/>
                  </a:lnTo>
                  <a:lnTo>
                    <a:pt x="739" y="0"/>
                  </a:lnTo>
                  <a:lnTo>
                    <a:pt x="705" y="0"/>
                  </a:lnTo>
                  <a:lnTo>
                    <a:pt x="674" y="0"/>
                  </a:lnTo>
                  <a:lnTo>
                    <a:pt x="640" y="0"/>
                  </a:lnTo>
                  <a:lnTo>
                    <a:pt x="608" y="0"/>
                  </a:lnTo>
                  <a:lnTo>
                    <a:pt x="577" y="0"/>
                  </a:lnTo>
                  <a:lnTo>
                    <a:pt x="543" y="0"/>
                  </a:lnTo>
                  <a:lnTo>
                    <a:pt x="54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134560" y="5518440"/>
              <a:ext cx="108360" cy="110160"/>
            </a:xfrm>
            <a:custGeom>
              <a:avLst/>
              <a:gdLst/>
              <a:ahLst/>
              <a:rect l="l" t="t" r="r" b="b"/>
              <a:pathLst>
                <a:path w="343" h="348">
                  <a:moveTo>
                    <a:pt x="0" y="348"/>
                  </a:moveTo>
                  <a:lnTo>
                    <a:pt x="14" y="330"/>
                  </a:lnTo>
                  <a:lnTo>
                    <a:pt x="26" y="313"/>
                  </a:lnTo>
                  <a:lnTo>
                    <a:pt x="40" y="293"/>
                  </a:lnTo>
                  <a:lnTo>
                    <a:pt x="56" y="275"/>
                  </a:lnTo>
                  <a:lnTo>
                    <a:pt x="69" y="257"/>
                  </a:lnTo>
                  <a:lnTo>
                    <a:pt x="81" y="239"/>
                  </a:lnTo>
                  <a:lnTo>
                    <a:pt x="95" y="218"/>
                  </a:lnTo>
                  <a:lnTo>
                    <a:pt x="109" y="202"/>
                  </a:lnTo>
                  <a:lnTo>
                    <a:pt x="121" y="190"/>
                  </a:lnTo>
                  <a:lnTo>
                    <a:pt x="135" y="178"/>
                  </a:lnTo>
                  <a:lnTo>
                    <a:pt x="149" y="168"/>
                  </a:lnTo>
                  <a:lnTo>
                    <a:pt x="163" y="156"/>
                  </a:lnTo>
                  <a:lnTo>
                    <a:pt x="178" y="148"/>
                  </a:lnTo>
                  <a:lnTo>
                    <a:pt x="194" y="138"/>
                  </a:lnTo>
                  <a:lnTo>
                    <a:pt x="210" y="126"/>
                  </a:lnTo>
                  <a:lnTo>
                    <a:pt x="224" y="116"/>
                  </a:lnTo>
                  <a:lnTo>
                    <a:pt x="238" y="105"/>
                  </a:lnTo>
                  <a:lnTo>
                    <a:pt x="252" y="87"/>
                  </a:lnTo>
                  <a:lnTo>
                    <a:pt x="266" y="73"/>
                  </a:lnTo>
                  <a:lnTo>
                    <a:pt x="279" y="57"/>
                  </a:lnTo>
                  <a:lnTo>
                    <a:pt x="293" y="41"/>
                  </a:lnTo>
                  <a:lnTo>
                    <a:pt x="307" y="27"/>
                  </a:lnTo>
                  <a:lnTo>
                    <a:pt x="323" y="11"/>
                  </a:lnTo>
                  <a:lnTo>
                    <a:pt x="34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8022960" y="4877640"/>
              <a:ext cx="435600" cy="533520"/>
            </a:xfrm>
            <a:custGeom>
              <a:avLst/>
              <a:gdLst/>
              <a:ahLst/>
              <a:rect l="l" t="t" r="r" b="b"/>
              <a:pathLst>
                <a:path w="1370" h="1680">
                  <a:moveTo>
                    <a:pt x="1291" y="1638"/>
                  </a:moveTo>
                  <a:lnTo>
                    <a:pt x="1275" y="1642"/>
                  </a:lnTo>
                  <a:lnTo>
                    <a:pt x="1261" y="1644"/>
                  </a:lnTo>
                  <a:lnTo>
                    <a:pt x="1245" y="1646"/>
                  </a:lnTo>
                  <a:lnTo>
                    <a:pt x="1229" y="1650"/>
                  </a:lnTo>
                  <a:lnTo>
                    <a:pt x="1214" y="1654"/>
                  </a:lnTo>
                  <a:lnTo>
                    <a:pt x="1200" y="1656"/>
                  </a:lnTo>
                  <a:lnTo>
                    <a:pt x="1184" y="1660"/>
                  </a:lnTo>
                  <a:lnTo>
                    <a:pt x="1168" y="1666"/>
                  </a:lnTo>
                  <a:lnTo>
                    <a:pt x="1152" y="1668"/>
                  </a:lnTo>
                  <a:lnTo>
                    <a:pt x="1136" y="1670"/>
                  </a:lnTo>
                  <a:lnTo>
                    <a:pt x="1121" y="1674"/>
                  </a:lnTo>
                  <a:lnTo>
                    <a:pt x="1105" y="1676"/>
                  </a:lnTo>
                  <a:lnTo>
                    <a:pt x="1091" y="1678"/>
                  </a:lnTo>
                  <a:lnTo>
                    <a:pt x="1073" y="1678"/>
                  </a:lnTo>
                  <a:lnTo>
                    <a:pt x="1059" y="1680"/>
                  </a:lnTo>
                  <a:lnTo>
                    <a:pt x="1043" y="1680"/>
                  </a:lnTo>
                  <a:lnTo>
                    <a:pt x="1022" y="1680"/>
                  </a:lnTo>
                  <a:lnTo>
                    <a:pt x="1000" y="1680"/>
                  </a:lnTo>
                  <a:lnTo>
                    <a:pt x="976" y="1678"/>
                  </a:lnTo>
                  <a:lnTo>
                    <a:pt x="954" y="1678"/>
                  </a:lnTo>
                  <a:lnTo>
                    <a:pt x="932" y="1678"/>
                  </a:lnTo>
                  <a:lnTo>
                    <a:pt x="913" y="1676"/>
                  </a:lnTo>
                  <a:lnTo>
                    <a:pt x="889" y="1674"/>
                  </a:lnTo>
                  <a:lnTo>
                    <a:pt x="867" y="1672"/>
                  </a:lnTo>
                  <a:lnTo>
                    <a:pt x="845" y="1670"/>
                  </a:lnTo>
                  <a:lnTo>
                    <a:pt x="825" y="1666"/>
                  </a:lnTo>
                  <a:lnTo>
                    <a:pt x="802" y="1666"/>
                  </a:lnTo>
                  <a:lnTo>
                    <a:pt x="780" y="1660"/>
                  </a:lnTo>
                  <a:lnTo>
                    <a:pt x="758" y="1660"/>
                  </a:lnTo>
                  <a:lnTo>
                    <a:pt x="734" y="1654"/>
                  </a:lnTo>
                  <a:lnTo>
                    <a:pt x="713" y="1654"/>
                  </a:lnTo>
                  <a:lnTo>
                    <a:pt x="691" y="1650"/>
                  </a:lnTo>
                  <a:lnTo>
                    <a:pt x="673" y="1646"/>
                  </a:lnTo>
                  <a:lnTo>
                    <a:pt x="657" y="1644"/>
                  </a:lnTo>
                  <a:lnTo>
                    <a:pt x="639" y="1640"/>
                  </a:lnTo>
                  <a:lnTo>
                    <a:pt x="623" y="1638"/>
                  </a:lnTo>
                  <a:lnTo>
                    <a:pt x="606" y="1632"/>
                  </a:lnTo>
                  <a:lnTo>
                    <a:pt x="590" y="1628"/>
                  </a:lnTo>
                  <a:lnTo>
                    <a:pt x="574" y="1626"/>
                  </a:lnTo>
                  <a:lnTo>
                    <a:pt x="558" y="1620"/>
                  </a:lnTo>
                  <a:lnTo>
                    <a:pt x="540" y="1616"/>
                  </a:lnTo>
                  <a:lnTo>
                    <a:pt x="524" y="1612"/>
                  </a:lnTo>
                  <a:lnTo>
                    <a:pt x="509" y="1608"/>
                  </a:lnTo>
                  <a:lnTo>
                    <a:pt x="493" y="1605"/>
                  </a:lnTo>
                  <a:lnTo>
                    <a:pt x="475" y="1599"/>
                  </a:lnTo>
                  <a:lnTo>
                    <a:pt x="457" y="1593"/>
                  </a:lnTo>
                  <a:lnTo>
                    <a:pt x="441" y="1589"/>
                  </a:lnTo>
                  <a:lnTo>
                    <a:pt x="423" y="1585"/>
                  </a:lnTo>
                  <a:lnTo>
                    <a:pt x="410" y="1567"/>
                  </a:lnTo>
                  <a:lnTo>
                    <a:pt x="396" y="1549"/>
                  </a:lnTo>
                  <a:lnTo>
                    <a:pt x="382" y="1531"/>
                  </a:lnTo>
                  <a:lnTo>
                    <a:pt x="368" y="1511"/>
                  </a:lnTo>
                  <a:lnTo>
                    <a:pt x="352" y="1496"/>
                  </a:lnTo>
                  <a:lnTo>
                    <a:pt x="338" y="1476"/>
                  </a:lnTo>
                  <a:lnTo>
                    <a:pt x="326" y="1456"/>
                  </a:lnTo>
                  <a:lnTo>
                    <a:pt x="315" y="1438"/>
                  </a:lnTo>
                  <a:lnTo>
                    <a:pt x="301" y="1414"/>
                  </a:lnTo>
                  <a:lnTo>
                    <a:pt x="287" y="1393"/>
                  </a:lnTo>
                  <a:lnTo>
                    <a:pt x="273" y="1369"/>
                  </a:lnTo>
                  <a:lnTo>
                    <a:pt x="259" y="1347"/>
                  </a:lnTo>
                  <a:lnTo>
                    <a:pt x="247" y="1323"/>
                  </a:lnTo>
                  <a:lnTo>
                    <a:pt x="235" y="1297"/>
                  </a:lnTo>
                  <a:lnTo>
                    <a:pt x="225" y="1272"/>
                  </a:lnTo>
                  <a:lnTo>
                    <a:pt x="214" y="1248"/>
                  </a:lnTo>
                  <a:lnTo>
                    <a:pt x="202" y="1214"/>
                  </a:lnTo>
                  <a:lnTo>
                    <a:pt x="192" y="1181"/>
                  </a:lnTo>
                  <a:lnTo>
                    <a:pt x="182" y="1145"/>
                  </a:lnTo>
                  <a:lnTo>
                    <a:pt x="172" y="1111"/>
                  </a:lnTo>
                  <a:lnTo>
                    <a:pt x="164" y="1076"/>
                  </a:lnTo>
                  <a:lnTo>
                    <a:pt x="156" y="1040"/>
                  </a:lnTo>
                  <a:lnTo>
                    <a:pt x="146" y="1006"/>
                  </a:lnTo>
                  <a:lnTo>
                    <a:pt x="134" y="972"/>
                  </a:lnTo>
                  <a:lnTo>
                    <a:pt x="130" y="949"/>
                  </a:lnTo>
                  <a:lnTo>
                    <a:pt x="124" y="927"/>
                  </a:lnTo>
                  <a:lnTo>
                    <a:pt x="116" y="903"/>
                  </a:lnTo>
                  <a:lnTo>
                    <a:pt x="111" y="881"/>
                  </a:lnTo>
                  <a:lnTo>
                    <a:pt x="103" y="858"/>
                  </a:lnTo>
                  <a:lnTo>
                    <a:pt x="97" y="836"/>
                  </a:lnTo>
                  <a:lnTo>
                    <a:pt x="89" y="812"/>
                  </a:lnTo>
                  <a:lnTo>
                    <a:pt x="81" y="792"/>
                  </a:lnTo>
                  <a:lnTo>
                    <a:pt x="71" y="768"/>
                  </a:lnTo>
                  <a:lnTo>
                    <a:pt x="61" y="747"/>
                  </a:lnTo>
                  <a:lnTo>
                    <a:pt x="47" y="723"/>
                  </a:lnTo>
                  <a:lnTo>
                    <a:pt x="33" y="699"/>
                  </a:lnTo>
                  <a:lnTo>
                    <a:pt x="21" y="677"/>
                  </a:lnTo>
                  <a:lnTo>
                    <a:pt x="11" y="655"/>
                  </a:lnTo>
                  <a:lnTo>
                    <a:pt x="6" y="630"/>
                  </a:lnTo>
                  <a:lnTo>
                    <a:pt x="2" y="604"/>
                  </a:lnTo>
                  <a:lnTo>
                    <a:pt x="2" y="568"/>
                  </a:lnTo>
                  <a:lnTo>
                    <a:pt x="0" y="529"/>
                  </a:lnTo>
                  <a:lnTo>
                    <a:pt x="0" y="489"/>
                  </a:lnTo>
                  <a:lnTo>
                    <a:pt x="2" y="447"/>
                  </a:lnTo>
                  <a:lnTo>
                    <a:pt x="8" y="406"/>
                  </a:lnTo>
                  <a:lnTo>
                    <a:pt x="11" y="364"/>
                  </a:lnTo>
                  <a:lnTo>
                    <a:pt x="21" y="325"/>
                  </a:lnTo>
                  <a:lnTo>
                    <a:pt x="35" y="285"/>
                  </a:lnTo>
                  <a:lnTo>
                    <a:pt x="247" y="53"/>
                  </a:lnTo>
                  <a:lnTo>
                    <a:pt x="625" y="0"/>
                  </a:lnTo>
                  <a:lnTo>
                    <a:pt x="869" y="305"/>
                  </a:lnTo>
                  <a:lnTo>
                    <a:pt x="1370" y="1077"/>
                  </a:lnTo>
                  <a:lnTo>
                    <a:pt x="1291" y="163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8022960" y="4877640"/>
              <a:ext cx="435600" cy="533520"/>
            </a:xfrm>
            <a:custGeom>
              <a:avLst/>
              <a:gdLst/>
              <a:ahLst/>
              <a:rect l="l" t="t" r="r" b="b"/>
              <a:pathLst>
                <a:path w="1370" h="1680">
                  <a:moveTo>
                    <a:pt x="1291" y="1638"/>
                  </a:moveTo>
                  <a:lnTo>
                    <a:pt x="1275" y="1642"/>
                  </a:lnTo>
                  <a:lnTo>
                    <a:pt x="1261" y="1644"/>
                  </a:lnTo>
                  <a:lnTo>
                    <a:pt x="1245" y="1646"/>
                  </a:lnTo>
                  <a:lnTo>
                    <a:pt x="1229" y="1650"/>
                  </a:lnTo>
                  <a:lnTo>
                    <a:pt x="1214" y="1654"/>
                  </a:lnTo>
                  <a:lnTo>
                    <a:pt x="1200" y="1656"/>
                  </a:lnTo>
                  <a:lnTo>
                    <a:pt x="1184" y="1660"/>
                  </a:lnTo>
                  <a:lnTo>
                    <a:pt x="1168" y="1666"/>
                  </a:lnTo>
                  <a:lnTo>
                    <a:pt x="1152" y="1668"/>
                  </a:lnTo>
                  <a:lnTo>
                    <a:pt x="1136" y="1670"/>
                  </a:lnTo>
                  <a:lnTo>
                    <a:pt x="1121" y="1674"/>
                  </a:lnTo>
                  <a:lnTo>
                    <a:pt x="1105" y="1676"/>
                  </a:lnTo>
                  <a:lnTo>
                    <a:pt x="1091" y="1678"/>
                  </a:lnTo>
                  <a:lnTo>
                    <a:pt x="1073" y="1678"/>
                  </a:lnTo>
                  <a:lnTo>
                    <a:pt x="1059" y="1680"/>
                  </a:lnTo>
                  <a:lnTo>
                    <a:pt x="1043" y="1680"/>
                  </a:lnTo>
                  <a:lnTo>
                    <a:pt x="1022" y="1680"/>
                  </a:lnTo>
                  <a:lnTo>
                    <a:pt x="1000" y="1680"/>
                  </a:lnTo>
                  <a:lnTo>
                    <a:pt x="976" y="1678"/>
                  </a:lnTo>
                  <a:lnTo>
                    <a:pt x="954" y="1678"/>
                  </a:lnTo>
                  <a:lnTo>
                    <a:pt x="932" y="1678"/>
                  </a:lnTo>
                  <a:lnTo>
                    <a:pt x="913" y="1676"/>
                  </a:lnTo>
                  <a:lnTo>
                    <a:pt x="889" y="1674"/>
                  </a:lnTo>
                  <a:lnTo>
                    <a:pt x="867" y="1672"/>
                  </a:lnTo>
                  <a:lnTo>
                    <a:pt x="845" y="1670"/>
                  </a:lnTo>
                  <a:lnTo>
                    <a:pt x="825" y="1666"/>
                  </a:lnTo>
                  <a:lnTo>
                    <a:pt x="802" y="1666"/>
                  </a:lnTo>
                  <a:lnTo>
                    <a:pt x="780" y="1660"/>
                  </a:lnTo>
                  <a:lnTo>
                    <a:pt x="758" y="1660"/>
                  </a:lnTo>
                  <a:lnTo>
                    <a:pt x="734" y="1654"/>
                  </a:lnTo>
                  <a:lnTo>
                    <a:pt x="713" y="1654"/>
                  </a:lnTo>
                  <a:lnTo>
                    <a:pt x="691" y="1650"/>
                  </a:lnTo>
                  <a:lnTo>
                    <a:pt x="673" y="1646"/>
                  </a:lnTo>
                  <a:lnTo>
                    <a:pt x="657" y="1644"/>
                  </a:lnTo>
                  <a:lnTo>
                    <a:pt x="639" y="1640"/>
                  </a:lnTo>
                  <a:lnTo>
                    <a:pt x="623" y="1638"/>
                  </a:lnTo>
                  <a:lnTo>
                    <a:pt x="606" y="1632"/>
                  </a:lnTo>
                  <a:lnTo>
                    <a:pt x="590" y="1628"/>
                  </a:lnTo>
                  <a:lnTo>
                    <a:pt x="574" y="1626"/>
                  </a:lnTo>
                  <a:lnTo>
                    <a:pt x="558" y="1620"/>
                  </a:lnTo>
                  <a:lnTo>
                    <a:pt x="540" y="1616"/>
                  </a:lnTo>
                  <a:lnTo>
                    <a:pt x="524" y="1612"/>
                  </a:lnTo>
                  <a:lnTo>
                    <a:pt x="509" y="1608"/>
                  </a:lnTo>
                  <a:lnTo>
                    <a:pt x="493" y="1605"/>
                  </a:lnTo>
                  <a:lnTo>
                    <a:pt x="475" y="1599"/>
                  </a:lnTo>
                  <a:lnTo>
                    <a:pt x="457" y="1593"/>
                  </a:lnTo>
                  <a:lnTo>
                    <a:pt x="441" y="1589"/>
                  </a:lnTo>
                  <a:lnTo>
                    <a:pt x="423" y="1585"/>
                  </a:lnTo>
                  <a:lnTo>
                    <a:pt x="410" y="1567"/>
                  </a:lnTo>
                  <a:lnTo>
                    <a:pt x="396" y="1549"/>
                  </a:lnTo>
                  <a:lnTo>
                    <a:pt x="382" y="1531"/>
                  </a:lnTo>
                  <a:lnTo>
                    <a:pt x="368" y="1511"/>
                  </a:lnTo>
                  <a:lnTo>
                    <a:pt x="352" y="1496"/>
                  </a:lnTo>
                  <a:lnTo>
                    <a:pt x="338" y="1476"/>
                  </a:lnTo>
                  <a:lnTo>
                    <a:pt x="326" y="1456"/>
                  </a:lnTo>
                  <a:lnTo>
                    <a:pt x="315" y="1438"/>
                  </a:lnTo>
                  <a:lnTo>
                    <a:pt x="301" y="1414"/>
                  </a:lnTo>
                  <a:lnTo>
                    <a:pt x="287" y="1393"/>
                  </a:lnTo>
                  <a:lnTo>
                    <a:pt x="273" y="1369"/>
                  </a:lnTo>
                  <a:lnTo>
                    <a:pt x="259" y="1347"/>
                  </a:lnTo>
                  <a:lnTo>
                    <a:pt x="247" y="1323"/>
                  </a:lnTo>
                  <a:lnTo>
                    <a:pt x="235" y="1297"/>
                  </a:lnTo>
                  <a:lnTo>
                    <a:pt x="225" y="1272"/>
                  </a:lnTo>
                  <a:lnTo>
                    <a:pt x="214" y="1248"/>
                  </a:lnTo>
                  <a:lnTo>
                    <a:pt x="202" y="1214"/>
                  </a:lnTo>
                  <a:lnTo>
                    <a:pt x="192" y="1181"/>
                  </a:lnTo>
                  <a:lnTo>
                    <a:pt x="182" y="1145"/>
                  </a:lnTo>
                  <a:lnTo>
                    <a:pt x="172" y="1111"/>
                  </a:lnTo>
                  <a:lnTo>
                    <a:pt x="164" y="1076"/>
                  </a:lnTo>
                  <a:lnTo>
                    <a:pt x="156" y="1040"/>
                  </a:lnTo>
                  <a:lnTo>
                    <a:pt x="146" y="1006"/>
                  </a:lnTo>
                  <a:lnTo>
                    <a:pt x="134" y="972"/>
                  </a:lnTo>
                  <a:lnTo>
                    <a:pt x="130" y="949"/>
                  </a:lnTo>
                  <a:lnTo>
                    <a:pt x="124" y="927"/>
                  </a:lnTo>
                  <a:lnTo>
                    <a:pt x="116" y="903"/>
                  </a:lnTo>
                  <a:lnTo>
                    <a:pt x="111" y="881"/>
                  </a:lnTo>
                  <a:lnTo>
                    <a:pt x="103" y="858"/>
                  </a:lnTo>
                  <a:lnTo>
                    <a:pt x="97" y="836"/>
                  </a:lnTo>
                  <a:lnTo>
                    <a:pt x="89" y="812"/>
                  </a:lnTo>
                  <a:lnTo>
                    <a:pt x="81" y="792"/>
                  </a:lnTo>
                  <a:lnTo>
                    <a:pt x="71" y="768"/>
                  </a:lnTo>
                  <a:lnTo>
                    <a:pt x="61" y="747"/>
                  </a:lnTo>
                  <a:lnTo>
                    <a:pt x="47" y="723"/>
                  </a:lnTo>
                  <a:lnTo>
                    <a:pt x="33" y="699"/>
                  </a:lnTo>
                  <a:lnTo>
                    <a:pt x="21" y="677"/>
                  </a:lnTo>
                  <a:lnTo>
                    <a:pt x="11" y="655"/>
                  </a:lnTo>
                  <a:lnTo>
                    <a:pt x="6" y="630"/>
                  </a:lnTo>
                  <a:lnTo>
                    <a:pt x="2" y="604"/>
                  </a:lnTo>
                  <a:lnTo>
                    <a:pt x="2" y="568"/>
                  </a:lnTo>
                  <a:lnTo>
                    <a:pt x="0" y="529"/>
                  </a:lnTo>
                  <a:lnTo>
                    <a:pt x="0" y="489"/>
                  </a:lnTo>
                  <a:lnTo>
                    <a:pt x="2" y="447"/>
                  </a:lnTo>
                  <a:lnTo>
                    <a:pt x="8" y="406"/>
                  </a:lnTo>
                  <a:lnTo>
                    <a:pt x="11" y="364"/>
                  </a:lnTo>
                  <a:lnTo>
                    <a:pt x="21" y="325"/>
                  </a:lnTo>
                  <a:lnTo>
                    <a:pt x="35" y="285"/>
                  </a:lnTo>
                  <a:lnTo>
                    <a:pt x="247" y="53"/>
                  </a:lnTo>
                  <a:lnTo>
                    <a:pt x="625" y="0"/>
                  </a:lnTo>
                  <a:lnTo>
                    <a:pt x="869" y="305"/>
                  </a:lnTo>
                  <a:lnTo>
                    <a:pt x="1370" y="1077"/>
                  </a:lnTo>
                  <a:lnTo>
                    <a:pt x="1291" y="1638"/>
                  </a:lnTo>
                  <a:lnTo>
                    <a:pt x="1291" y="163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8028000" y="5002200"/>
              <a:ext cx="77760" cy="496440"/>
            </a:xfrm>
            <a:custGeom>
              <a:avLst/>
              <a:gdLst/>
              <a:ahLst/>
              <a:rect l="l" t="t" r="r" b="b"/>
              <a:pathLst>
                <a:path w="246" h="1565">
                  <a:moveTo>
                    <a:pt x="145" y="0"/>
                  </a:moveTo>
                  <a:lnTo>
                    <a:pt x="135" y="52"/>
                  </a:lnTo>
                  <a:lnTo>
                    <a:pt x="123" y="107"/>
                  </a:lnTo>
                  <a:lnTo>
                    <a:pt x="115" y="166"/>
                  </a:lnTo>
                  <a:lnTo>
                    <a:pt x="113" y="220"/>
                  </a:lnTo>
                  <a:lnTo>
                    <a:pt x="115" y="289"/>
                  </a:lnTo>
                  <a:lnTo>
                    <a:pt x="119" y="353"/>
                  </a:lnTo>
                  <a:lnTo>
                    <a:pt x="121" y="418"/>
                  </a:lnTo>
                  <a:lnTo>
                    <a:pt x="121" y="483"/>
                  </a:lnTo>
                  <a:lnTo>
                    <a:pt x="117" y="551"/>
                  </a:lnTo>
                  <a:lnTo>
                    <a:pt x="109" y="618"/>
                  </a:lnTo>
                  <a:lnTo>
                    <a:pt x="99" y="684"/>
                  </a:lnTo>
                  <a:lnTo>
                    <a:pt x="90" y="751"/>
                  </a:lnTo>
                  <a:lnTo>
                    <a:pt x="86" y="785"/>
                  </a:lnTo>
                  <a:lnTo>
                    <a:pt x="82" y="816"/>
                  </a:lnTo>
                  <a:lnTo>
                    <a:pt x="76" y="850"/>
                  </a:lnTo>
                  <a:lnTo>
                    <a:pt x="68" y="884"/>
                  </a:lnTo>
                  <a:lnTo>
                    <a:pt x="64" y="917"/>
                  </a:lnTo>
                  <a:lnTo>
                    <a:pt x="56" y="951"/>
                  </a:lnTo>
                  <a:lnTo>
                    <a:pt x="52" y="983"/>
                  </a:lnTo>
                  <a:lnTo>
                    <a:pt x="44" y="1014"/>
                  </a:lnTo>
                  <a:lnTo>
                    <a:pt x="34" y="1060"/>
                  </a:lnTo>
                  <a:lnTo>
                    <a:pt x="26" y="1104"/>
                  </a:lnTo>
                  <a:lnTo>
                    <a:pt x="12" y="1149"/>
                  </a:lnTo>
                  <a:lnTo>
                    <a:pt x="0" y="1193"/>
                  </a:lnTo>
                  <a:lnTo>
                    <a:pt x="22" y="1240"/>
                  </a:lnTo>
                  <a:lnTo>
                    <a:pt x="42" y="1286"/>
                  </a:lnTo>
                  <a:lnTo>
                    <a:pt x="58" y="1333"/>
                  </a:lnTo>
                  <a:lnTo>
                    <a:pt x="80" y="1379"/>
                  </a:lnTo>
                  <a:lnTo>
                    <a:pt x="99" y="1425"/>
                  </a:lnTo>
                  <a:lnTo>
                    <a:pt x="117" y="1472"/>
                  </a:lnTo>
                  <a:lnTo>
                    <a:pt x="137" y="1518"/>
                  </a:lnTo>
                  <a:lnTo>
                    <a:pt x="155" y="1565"/>
                  </a:lnTo>
                  <a:lnTo>
                    <a:pt x="159" y="1500"/>
                  </a:lnTo>
                  <a:lnTo>
                    <a:pt x="167" y="1430"/>
                  </a:lnTo>
                  <a:lnTo>
                    <a:pt x="173" y="1365"/>
                  </a:lnTo>
                  <a:lnTo>
                    <a:pt x="179" y="1300"/>
                  </a:lnTo>
                  <a:lnTo>
                    <a:pt x="187" y="1234"/>
                  </a:lnTo>
                  <a:lnTo>
                    <a:pt x="199" y="1169"/>
                  </a:lnTo>
                  <a:lnTo>
                    <a:pt x="206" y="1104"/>
                  </a:lnTo>
                  <a:lnTo>
                    <a:pt x="218" y="1040"/>
                  </a:lnTo>
                  <a:lnTo>
                    <a:pt x="226" y="977"/>
                  </a:lnTo>
                  <a:lnTo>
                    <a:pt x="234" y="909"/>
                  </a:lnTo>
                  <a:lnTo>
                    <a:pt x="240" y="846"/>
                  </a:lnTo>
                  <a:lnTo>
                    <a:pt x="246" y="781"/>
                  </a:lnTo>
                  <a:lnTo>
                    <a:pt x="246" y="682"/>
                  </a:lnTo>
                  <a:lnTo>
                    <a:pt x="246" y="584"/>
                  </a:lnTo>
                  <a:lnTo>
                    <a:pt x="240" y="487"/>
                  </a:lnTo>
                  <a:lnTo>
                    <a:pt x="234" y="388"/>
                  </a:lnTo>
                  <a:lnTo>
                    <a:pt x="232" y="333"/>
                  </a:lnTo>
                  <a:lnTo>
                    <a:pt x="230" y="281"/>
                  </a:lnTo>
                  <a:lnTo>
                    <a:pt x="222" y="226"/>
                  </a:lnTo>
                  <a:lnTo>
                    <a:pt x="208" y="176"/>
                  </a:lnTo>
                  <a:lnTo>
                    <a:pt x="202" y="153"/>
                  </a:lnTo>
                  <a:lnTo>
                    <a:pt x="197" y="129"/>
                  </a:lnTo>
                  <a:lnTo>
                    <a:pt x="189" y="107"/>
                  </a:lnTo>
                  <a:lnTo>
                    <a:pt x="183" y="83"/>
                  </a:lnTo>
                  <a:lnTo>
                    <a:pt x="173" y="63"/>
                  </a:lnTo>
                  <a:lnTo>
                    <a:pt x="165" y="42"/>
                  </a:lnTo>
                  <a:lnTo>
                    <a:pt x="155" y="2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b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8028000" y="5002200"/>
              <a:ext cx="77760" cy="496440"/>
            </a:xfrm>
            <a:custGeom>
              <a:avLst/>
              <a:gdLst/>
              <a:ahLst/>
              <a:rect l="l" t="t" r="r" b="b"/>
              <a:pathLst>
                <a:path w="246" h="1565">
                  <a:moveTo>
                    <a:pt x="145" y="0"/>
                  </a:moveTo>
                  <a:lnTo>
                    <a:pt x="135" y="52"/>
                  </a:lnTo>
                  <a:lnTo>
                    <a:pt x="123" y="107"/>
                  </a:lnTo>
                  <a:lnTo>
                    <a:pt x="115" y="166"/>
                  </a:lnTo>
                  <a:lnTo>
                    <a:pt x="113" y="220"/>
                  </a:lnTo>
                  <a:lnTo>
                    <a:pt x="115" y="289"/>
                  </a:lnTo>
                  <a:lnTo>
                    <a:pt x="119" y="353"/>
                  </a:lnTo>
                  <a:lnTo>
                    <a:pt x="121" y="418"/>
                  </a:lnTo>
                  <a:lnTo>
                    <a:pt x="121" y="483"/>
                  </a:lnTo>
                  <a:lnTo>
                    <a:pt x="117" y="551"/>
                  </a:lnTo>
                  <a:lnTo>
                    <a:pt x="109" y="618"/>
                  </a:lnTo>
                  <a:lnTo>
                    <a:pt x="99" y="684"/>
                  </a:lnTo>
                  <a:lnTo>
                    <a:pt x="90" y="751"/>
                  </a:lnTo>
                  <a:lnTo>
                    <a:pt x="86" y="785"/>
                  </a:lnTo>
                  <a:lnTo>
                    <a:pt x="82" y="816"/>
                  </a:lnTo>
                  <a:lnTo>
                    <a:pt x="76" y="850"/>
                  </a:lnTo>
                  <a:lnTo>
                    <a:pt x="68" y="884"/>
                  </a:lnTo>
                  <a:lnTo>
                    <a:pt x="64" y="917"/>
                  </a:lnTo>
                  <a:lnTo>
                    <a:pt x="56" y="951"/>
                  </a:lnTo>
                  <a:lnTo>
                    <a:pt x="52" y="983"/>
                  </a:lnTo>
                  <a:lnTo>
                    <a:pt x="44" y="1014"/>
                  </a:lnTo>
                  <a:lnTo>
                    <a:pt x="34" y="1060"/>
                  </a:lnTo>
                  <a:lnTo>
                    <a:pt x="26" y="1104"/>
                  </a:lnTo>
                  <a:lnTo>
                    <a:pt x="12" y="1149"/>
                  </a:lnTo>
                  <a:lnTo>
                    <a:pt x="0" y="1193"/>
                  </a:lnTo>
                  <a:lnTo>
                    <a:pt x="22" y="1240"/>
                  </a:lnTo>
                  <a:lnTo>
                    <a:pt x="42" y="1286"/>
                  </a:lnTo>
                  <a:lnTo>
                    <a:pt x="58" y="1333"/>
                  </a:lnTo>
                  <a:lnTo>
                    <a:pt x="80" y="1379"/>
                  </a:lnTo>
                  <a:lnTo>
                    <a:pt x="99" y="1425"/>
                  </a:lnTo>
                  <a:lnTo>
                    <a:pt x="117" y="1472"/>
                  </a:lnTo>
                  <a:lnTo>
                    <a:pt x="137" y="1518"/>
                  </a:lnTo>
                  <a:lnTo>
                    <a:pt x="155" y="1565"/>
                  </a:lnTo>
                  <a:lnTo>
                    <a:pt x="159" y="1500"/>
                  </a:lnTo>
                  <a:lnTo>
                    <a:pt x="167" y="1430"/>
                  </a:lnTo>
                  <a:lnTo>
                    <a:pt x="173" y="1365"/>
                  </a:lnTo>
                  <a:lnTo>
                    <a:pt x="179" y="1300"/>
                  </a:lnTo>
                  <a:lnTo>
                    <a:pt x="187" y="1234"/>
                  </a:lnTo>
                  <a:lnTo>
                    <a:pt x="199" y="1169"/>
                  </a:lnTo>
                  <a:lnTo>
                    <a:pt x="206" y="1104"/>
                  </a:lnTo>
                  <a:lnTo>
                    <a:pt x="218" y="1040"/>
                  </a:lnTo>
                  <a:lnTo>
                    <a:pt x="226" y="977"/>
                  </a:lnTo>
                  <a:lnTo>
                    <a:pt x="234" y="909"/>
                  </a:lnTo>
                  <a:lnTo>
                    <a:pt x="240" y="846"/>
                  </a:lnTo>
                  <a:lnTo>
                    <a:pt x="246" y="781"/>
                  </a:lnTo>
                  <a:lnTo>
                    <a:pt x="246" y="682"/>
                  </a:lnTo>
                  <a:lnTo>
                    <a:pt x="246" y="584"/>
                  </a:lnTo>
                  <a:lnTo>
                    <a:pt x="240" y="487"/>
                  </a:lnTo>
                  <a:lnTo>
                    <a:pt x="234" y="388"/>
                  </a:lnTo>
                  <a:lnTo>
                    <a:pt x="232" y="333"/>
                  </a:lnTo>
                  <a:lnTo>
                    <a:pt x="230" y="281"/>
                  </a:lnTo>
                  <a:lnTo>
                    <a:pt x="222" y="226"/>
                  </a:lnTo>
                  <a:lnTo>
                    <a:pt x="208" y="176"/>
                  </a:lnTo>
                  <a:lnTo>
                    <a:pt x="202" y="153"/>
                  </a:lnTo>
                  <a:lnTo>
                    <a:pt x="197" y="129"/>
                  </a:lnTo>
                  <a:lnTo>
                    <a:pt x="189" y="107"/>
                  </a:lnTo>
                  <a:lnTo>
                    <a:pt x="183" y="83"/>
                  </a:lnTo>
                  <a:lnTo>
                    <a:pt x="173" y="63"/>
                  </a:lnTo>
                  <a:lnTo>
                    <a:pt x="165" y="42"/>
                  </a:lnTo>
                  <a:lnTo>
                    <a:pt x="155" y="20"/>
                  </a:lnTo>
                  <a:lnTo>
                    <a:pt x="145" y="0"/>
                  </a:lnTo>
                  <a:lnTo>
                    <a:pt x="14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924320" y="4709160"/>
              <a:ext cx="243720" cy="297000"/>
            </a:xfrm>
            <a:custGeom>
              <a:avLst/>
              <a:gdLst/>
              <a:ahLst/>
              <a:rect l="l" t="t" r="r" b="b"/>
              <a:pathLst>
                <a:path w="768" h="937">
                  <a:moveTo>
                    <a:pt x="491" y="937"/>
                  </a:moveTo>
                  <a:lnTo>
                    <a:pt x="483" y="935"/>
                  </a:lnTo>
                  <a:lnTo>
                    <a:pt x="473" y="933"/>
                  </a:lnTo>
                  <a:lnTo>
                    <a:pt x="467" y="931"/>
                  </a:lnTo>
                  <a:lnTo>
                    <a:pt x="457" y="929"/>
                  </a:lnTo>
                  <a:lnTo>
                    <a:pt x="449" y="923"/>
                  </a:lnTo>
                  <a:lnTo>
                    <a:pt x="441" y="919"/>
                  </a:lnTo>
                  <a:lnTo>
                    <a:pt x="433" y="915"/>
                  </a:lnTo>
                  <a:lnTo>
                    <a:pt x="425" y="911"/>
                  </a:lnTo>
                  <a:lnTo>
                    <a:pt x="420" y="907"/>
                  </a:lnTo>
                  <a:lnTo>
                    <a:pt x="410" y="901"/>
                  </a:lnTo>
                  <a:lnTo>
                    <a:pt x="402" y="895"/>
                  </a:lnTo>
                  <a:lnTo>
                    <a:pt x="396" y="889"/>
                  </a:lnTo>
                  <a:lnTo>
                    <a:pt x="388" y="883"/>
                  </a:lnTo>
                  <a:lnTo>
                    <a:pt x="382" y="879"/>
                  </a:lnTo>
                  <a:lnTo>
                    <a:pt x="374" y="873"/>
                  </a:lnTo>
                  <a:lnTo>
                    <a:pt x="368" y="868"/>
                  </a:lnTo>
                  <a:lnTo>
                    <a:pt x="362" y="858"/>
                  </a:lnTo>
                  <a:lnTo>
                    <a:pt x="354" y="846"/>
                  </a:lnTo>
                  <a:lnTo>
                    <a:pt x="350" y="834"/>
                  </a:lnTo>
                  <a:lnTo>
                    <a:pt x="342" y="824"/>
                  </a:lnTo>
                  <a:lnTo>
                    <a:pt x="328" y="826"/>
                  </a:lnTo>
                  <a:lnTo>
                    <a:pt x="319" y="828"/>
                  </a:lnTo>
                  <a:lnTo>
                    <a:pt x="305" y="830"/>
                  </a:lnTo>
                  <a:lnTo>
                    <a:pt x="293" y="832"/>
                  </a:lnTo>
                  <a:lnTo>
                    <a:pt x="279" y="832"/>
                  </a:lnTo>
                  <a:lnTo>
                    <a:pt x="265" y="834"/>
                  </a:lnTo>
                  <a:lnTo>
                    <a:pt x="253" y="836"/>
                  </a:lnTo>
                  <a:lnTo>
                    <a:pt x="239" y="836"/>
                  </a:lnTo>
                  <a:lnTo>
                    <a:pt x="231" y="836"/>
                  </a:lnTo>
                  <a:lnTo>
                    <a:pt x="220" y="836"/>
                  </a:lnTo>
                  <a:lnTo>
                    <a:pt x="212" y="836"/>
                  </a:lnTo>
                  <a:lnTo>
                    <a:pt x="202" y="836"/>
                  </a:lnTo>
                  <a:lnTo>
                    <a:pt x="192" y="834"/>
                  </a:lnTo>
                  <a:lnTo>
                    <a:pt x="180" y="832"/>
                  </a:lnTo>
                  <a:lnTo>
                    <a:pt x="170" y="832"/>
                  </a:lnTo>
                  <a:lnTo>
                    <a:pt x="162" y="828"/>
                  </a:lnTo>
                  <a:lnTo>
                    <a:pt x="152" y="824"/>
                  </a:lnTo>
                  <a:lnTo>
                    <a:pt x="148" y="816"/>
                  </a:lnTo>
                  <a:lnTo>
                    <a:pt x="138" y="804"/>
                  </a:lnTo>
                  <a:lnTo>
                    <a:pt x="130" y="796"/>
                  </a:lnTo>
                  <a:lnTo>
                    <a:pt x="130" y="772"/>
                  </a:lnTo>
                  <a:lnTo>
                    <a:pt x="128" y="753"/>
                  </a:lnTo>
                  <a:lnTo>
                    <a:pt x="126" y="729"/>
                  </a:lnTo>
                  <a:lnTo>
                    <a:pt x="124" y="705"/>
                  </a:lnTo>
                  <a:lnTo>
                    <a:pt x="115" y="701"/>
                  </a:lnTo>
                  <a:lnTo>
                    <a:pt x="105" y="697"/>
                  </a:lnTo>
                  <a:lnTo>
                    <a:pt x="99" y="687"/>
                  </a:lnTo>
                  <a:lnTo>
                    <a:pt x="93" y="681"/>
                  </a:lnTo>
                  <a:lnTo>
                    <a:pt x="91" y="671"/>
                  </a:lnTo>
                  <a:lnTo>
                    <a:pt x="87" y="659"/>
                  </a:lnTo>
                  <a:lnTo>
                    <a:pt x="85" y="650"/>
                  </a:lnTo>
                  <a:lnTo>
                    <a:pt x="75" y="638"/>
                  </a:lnTo>
                  <a:lnTo>
                    <a:pt x="71" y="628"/>
                  </a:lnTo>
                  <a:lnTo>
                    <a:pt x="77" y="608"/>
                  </a:lnTo>
                  <a:lnTo>
                    <a:pt x="83" y="582"/>
                  </a:lnTo>
                  <a:lnTo>
                    <a:pt x="87" y="566"/>
                  </a:lnTo>
                  <a:lnTo>
                    <a:pt x="83" y="564"/>
                  </a:lnTo>
                  <a:lnTo>
                    <a:pt x="79" y="562"/>
                  </a:lnTo>
                  <a:lnTo>
                    <a:pt x="71" y="562"/>
                  </a:lnTo>
                  <a:lnTo>
                    <a:pt x="65" y="562"/>
                  </a:lnTo>
                  <a:lnTo>
                    <a:pt x="59" y="560"/>
                  </a:lnTo>
                  <a:lnTo>
                    <a:pt x="51" y="560"/>
                  </a:lnTo>
                  <a:lnTo>
                    <a:pt x="47" y="558"/>
                  </a:lnTo>
                  <a:lnTo>
                    <a:pt x="43" y="554"/>
                  </a:lnTo>
                  <a:lnTo>
                    <a:pt x="33" y="549"/>
                  </a:lnTo>
                  <a:lnTo>
                    <a:pt x="25" y="543"/>
                  </a:lnTo>
                  <a:lnTo>
                    <a:pt x="16" y="539"/>
                  </a:lnTo>
                  <a:lnTo>
                    <a:pt x="8" y="535"/>
                  </a:lnTo>
                  <a:lnTo>
                    <a:pt x="0" y="525"/>
                  </a:lnTo>
                  <a:lnTo>
                    <a:pt x="0" y="513"/>
                  </a:lnTo>
                  <a:lnTo>
                    <a:pt x="4" y="505"/>
                  </a:lnTo>
                  <a:lnTo>
                    <a:pt x="8" y="493"/>
                  </a:lnTo>
                  <a:lnTo>
                    <a:pt x="10" y="483"/>
                  </a:lnTo>
                  <a:lnTo>
                    <a:pt x="16" y="473"/>
                  </a:lnTo>
                  <a:lnTo>
                    <a:pt x="23" y="465"/>
                  </a:lnTo>
                  <a:lnTo>
                    <a:pt x="29" y="455"/>
                  </a:lnTo>
                  <a:lnTo>
                    <a:pt x="35" y="446"/>
                  </a:lnTo>
                  <a:lnTo>
                    <a:pt x="43" y="434"/>
                  </a:lnTo>
                  <a:lnTo>
                    <a:pt x="47" y="426"/>
                  </a:lnTo>
                  <a:lnTo>
                    <a:pt x="51" y="418"/>
                  </a:lnTo>
                  <a:lnTo>
                    <a:pt x="61" y="400"/>
                  </a:lnTo>
                  <a:lnTo>
                    <a:pt x="65" y="386"/>
                  </a:lnTo>
                  <a:lnTo>
                    <a:pt x="71" y="368"/>
                  </a:lnTo>
                  <a:lnTo>
                    <a:pt x="75" y="354"/>
                  </a:lnTo>
                  <a:lnTo>
                    <a:pt x="75" y="341"/>
                  </a:lnTo>
                  <a:lnTo>
                    <a:pt x="75" y="329"/>
                  </a:lnTo>
                  <a:lnTo>
                    <a:pt x="71" y="315"/>
                  </a:lnTo>
                  <a:lnTo>
                    <a:pt x="71" y="303"/>
                  </a:lnTo>
                  <a:lnTo>
                    <a:pt x="69" y="281"/>
                  </a:lnTo>
                  <a:lnTo>
                    <a:pt x="69" y="255"/>
                  </a:lnTo>
                  <a:lnTo>
                    <a:pt x="67" y="236"/>
                  </a:lnTo>
                  <a:lnTo>
                    <a:pt x="67" y="212"/>
                  </a:lnTo>
                  <a:lnTo>
                    <a:pt x="69" y="194"/>
                  </a:lnTo>
                  <a:lnTo>
                    <a:pt x="71" y="176"/>
                  </a:lnTo>
                  <a:lnTo>
                    <a:pt x="77" y="156"/>
                  </a:lnTo>
                  <a:lnTo>
                    <a:pt x="81" y="136"/>
                  </a:lnTo>
                  <a:lnTo>
                    <a:pt x="103" y="129"/>
                  </a:lnTo>
                  <a:lnTo>
                    <a:pt x="126" y="121"/>
                  </a:lnTo>
                  <a:lnTo>
                    <a:pt x="146" y="111"/>
                  </a:lnTo>
                  <a:lnTo>
                    <a:pt x="168" y="103"/>
                  </a:lnTo>
                  <a:lnTo>
                    <a:pt x="192" y="95"/>
                  </a:lnTo>
                  <a:lnTo>
                    <a:pt x="214" y="85"/>
                  </a:lnTo>
                  <a:lnTo>
                    <a:pt x="233" y="77"/>
                  </a:lnTo>
                  <a:lnTo>
                    <a:pt x="255" y="69"/>
                  </a:lnTo>
                  <a:lnTo>
                    <a:pt x="279" y="61"/>
                  </a:lnTo>
                  <a:lnTo>
                    <a:pt x="299" y="51"/>
                  </a:lnTo>
                  <a:lnTo>
                    <a:pt x="321" y="43"/>
                  </a:lnTo>
                  <a:lnTo>
                    <a:pt x="342" y="33"/>
                  </a:lnTo>
                  <a:lnTo>
                    <a:pt x="366" y="27"/>
                  </a:lnTo>
                  <a:lnTo>
                    <a:pt x="386" y="16"/>
                  </a:lnTo>
                  <a:lnTo>
                    <a:pt x="408" y="6"/>
                  </a:lnTo>
                  <a:lnTo>
                    <a:pt x="429" y="0"/>
                  </a:lnTo>
                  <a:lnTo>
                    <a:pt x="451" y="14"/>
                  </a:lnTo>
                  <a:lnTo>
                    <a:pt x="471" y="27"/>
                  </a:lnTo>
                  <a:lnTo>
                    <a:pt x="493" y="41"/>
                  </a:lnTo>
                  <a:lnTo>
                    <a:pt x="517" y="53"/>
                  </a:lnTo>
                  <a:lnTo>
                    <a:pt x="536" y="69"/>
                  </a:lnTo>
                  <a:lnTo>
                    <a:pt x="556" y="81"/>
                  </a:lnTo>
                  <a:lnTo>
                    <a:pt x="576" y="97"/>
                  </a:lnTo>
                  <a:lnTo>
                    <a:pt x="598" y="109"/>
                  </a:lnTo>
                  <a:lnTo>
                    <a:pt x="620" y="125"/>
                  </a:lnTo>
                  <a:lnTo>
                    <a:pt x="641" y="136"/>
                  </a:lnTo>
                  <a:lnTo>
                    <a:pt x="663" y="148"/>
                  </a:lnTo>
                  <a:lnTo>
                    <a:pt x="683" y="164"/>
                  </a:lnTo>
                  <a:lnTo>
                    <a:pt x="703" y="176"/>
                  </a:lnTo>
                  <a:lnTo>
                    <a:pt x="725" y="192"/>
                  </a:lnTo>
                  <a:lnTo>
                    <a:pt x="746" y="204"/>
                  </a:lnTo>
                  <a:lnTo>
                    <a:pt x="768" y="220"/>
                  </a:lnTo>
                  <a:lnTo>
                    <a:pt x="764" y="319"/>
                  </a:lnTo>
                  <a:lnTo>
                    <a:pt x="762" y="420"/>
                  </a:lnTo>
                  <a:lnTo>
                    <a:pt x="760" y="521"/>
                  </a:lnTo>
                  <a:lnTo>
                    <a:pt x="754" y="622"/>
                  </a:lnTo>
                  <a:lnTo>
                    <a:pt x="754" y="650"/>
                  </a:lnTo>
                  <a:lnTo>
                    <a:pt x="754" y="677"/>
                  </a:lnTo>
                  <a:lnTo>
                    <a:pt x="750" y="705"/>
                  </a:lnTo>
                  <a:lnTo>
                    <a:pt x="746" y="729"/>
                  </a:lnTo>
                  <a:lnTo>
                    <a:pt x="740" y="743"/>
                  </a:lnTo>
                  <a:lnTo>
                    <a:pt x="732" y="759"/>
                  </a:lnTo>
                  <a:lnTo>
                    <a:pt x="725" y="770"/>
                  </a:lnTo>
                  <a:lnTo>
                    <a:pt x="713" y="784"/>
                  </a:lnTo>
                  <a:lnTo>
                    <a:pt x="703" y="796"/>
                  </a:lnTo>
                  <a:lnTo>
                    <a:pt x="691" y="806"/>
                  </a:lnTo>
                  <a:lnTo>
                    <a:pt x="681" y="818"/>
                  </a:lnTo>
                  <a:lnTo>
                    <a:pt x="671" y="828"/>
                  </a:lnTo>
                  <a:lnTo>
                    <a:pt x="659" y="840"/>
                  </a:lnTo>
                  <a:lnTo>
                    <a:pt x="645" y="854"/>
                  </a:lnTo>
                  <a:lnTo>
                    <a:pt x="633" y="868"/>
                  </a:lnTo>
                  <a:lnTo>
                    <a:pt x="620" y="879"/>
                  </a:lnTo>
                  <a:lnTo>
                    <a:pt x="608" y="889"/>
                  </a:lnTo>
                  <a:lnTo>
                    <a:pt x="594" y="903"/>
                  </a:lnTo>
                  <a:lnTo>
                    <a:pt x="578" y="913"/>
                  </a:lnTo>
                  <a:lnTo>
                    <a:pt x="562" y="921"/>
                  </a:lnTo>
                  <a:lnTo>
                    <a:pt x="556" y="927"/>
                  </a:lnTo>
                  <a:lnTo>
                    <a:pt x="546" y="929"/>
                  </a:lnTo>
                  <a:lnTo>
                    <a:pt x="538" y="933"/>
                  </a:lnTo>
                  <a:lnTo>
                    <a:pt x="528" y="935"/>
                  </a:lnTo>
                  <a:lnTo>
                    <a:pt x="521" y="937"/>
                  </a:lnTo>
                  <a:lnTo>
                    <a:pt x="511" y="937"/>
                  </a:lnTo>
                  <a:lnTo>
                    <a:pt x="499" y="937"/>
                  </a:lnTo>
                  <a:lnTo>
                    <a:pt x="491" y="937"/>
                  </a:lnTo>
                  <a:close/>
                </a:path>
              </a:pathLst>
            </a:custGeom>
            <a:solidFill>
              <a:srgbClr val="ffe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924320" y="4709160"/>
              <a:ext cx="243720" cy="297000"/>
            </a:xfrm>
            <a:custGeom>
              <a:avLst/>
              <a:gdLst/>
              <a:ahLst/>
              <a:rect l="l" t="t" r="r" b="b"/>
              <a:pathLst>
                <a:path w="768" h="937">
                  <a:moveTo>
                    <a:pt x="491" y="937"/>
                  </a:moveTo>
                  <a:lnTo>
                    <a:pt x="483" y="935"/>
                  </a:lnTo>
                  <a:lnTo>
                    <a:pt x="473" y="933"/>
                  </a:lnTo>
                  <a:lnTo>
                    <a:pt x="467" y="931"/>
                  </a:lnTo>
                  <a:lnTo>
                    <a:pt x="457" y="929"/>
                  </a:lnTo>
                  <a:lnTo>
                    <a:pt x="449" y="923"/>
                  </a:lnTo>
                  <a:lnTo>
                    <a:pt x="441" y="919"/>
                  </a:lnTo>
                  <a:lnTo>
                    <a:pt x="433" y="915"/>
                  </a:lnTo>
                  <a:lnTo>
                    <a:pt x="425" y="911"/>
                  </a:lnTo>
                  <a:lnTo>
                    <a:pt x="420" y="907"/>
                  </a:lnTo>
                  <a:lnTo>
                    <a:pt x="410" y="901"/>
                  </a:lnTo>
                  <a:lnTo>
                    <a:pt x="402" y="895"/>
                  </a:lnTo>
                  <a:lnTo>
                    <a:pt x="396" y="889"/>
                  </a:lnTo>
                  <a:lnTo>
                    <a:pt x="388" y="883"/>
                  </a:lnTo>
                  <a:lnTo>
                    <a:pt x="382" y="879"/>
                  </a:lnTo>
                  <a:lnTo>
                    <a:pt x="374" y="873"/>
                  </a:lnTo>
                  <a:lnTo>
                    <a:pt x="368" y="868"/>
                  </a:lnTo>
                  <a:lnTo>
                    <a:pt x="362" y="858"/>
                  </a:lnTo>
                  <a:lnTo>
                    <a:pt x="354" y="846"/>
                  </a:lnTo>
                  <a:lnTo>
                    <a:pt x="350" y="834"/>
                  </a:lnTo>
                  <a:lnTo>
                    <a:pt x="342" y="824"/>
                  </a:lnTo>
                  <a:lnTo>
                    <a:pt x="328" y="826"/>
                  </a:lnTo>
                  <a:lnTo>
                    <a:pt x="319" y="828"/>
                  </a:lnTo>
                  <a:lnTo>
                    <a:pt x="305" y="830"/>
                  </a:lnTo>
                  <a:lnTo>
                    <a:pt x="293" y="832"/>
                  </a:lnTo>
                  <a:lnTo>
                    <a:pt x="279" y="832"/>
                  </a:lnTo>
                  <a:lnTo>
                    <a:pt x="265" y="834"/>
                  </a:lnTo>
                  <a:lnTo>
                    <a:pt x="253" y="836"/>
                  </a:lnTo>
                  <a:lnTo>
                    <a:pt x="239" y="836"/>
                  </a:lnTo>
                  <a:lnTo>
                    <a:pt x="231" y="836"/>
                  </a:lnTo>
                  <a:lnTo>
                    <a:pt x="220" y="836"/>
                  </a:lnTo>
                  <a:lnTo>
                    <a:pt x="212" y="836"/>
                  </a:lnTo>
                  <a:lnTo>
                    <a:pt x="202" y="836"/>
                  </a:lnTo>
                  <a:lnTo>
                    <a:pt x="192" y="834"/>
                  </a:lnTo>
                  <a:lnTo>
                    <a:pt x="180" y="832"/>
                  </a:lnTo>
                  <a:lnTo>
                    <a:pt x="170" y="832"/>
                  </a:lnTo>
                  <a:lnTo>
                    <a:pt x="162" y="828"/>
                  </a:lnTo>
                  <a:lnTo>
                    <a:pt x="152" y="824"/>
                  </a:lnTo>
                  <a:lnTo>
                    <a:pt x="148" y="816"/>
                  </a:lnTo>
                  <a:lnTo>
                    <a:pt x="138" y="804"/>
                  </a:lnTo>
                  <a:lnTo>
                    <a:pt x="130" y="796"/>
                  </a:lnTo>
                  <a:lnTo>
                    <a:pt x="130" y="772"/>
                  </a:lnTo>
                  <a:lnTo>
                    <a:pt x="128" y="753"/>
                  </a:lnTo>
                  <a:lnTo>
                    <a:pt x="126" y="729"/>
                  </a:lnTo>
                  <a:lnTo>
                    <a:pt x="124" y="705"/>
                  </a:lnTo>
                  <a:lnTo>
                    <a:pt x="115" y="701"/>
                  </a:lnTo>
                  <a:lnTo>
                    <a:pt x="105" y="697"/>
                  </a:lnTo>
                  <a:lnTo>
                    <a:pt x="99" y="687"/>
                  </a:lnTo>
                  <a:lnTo>
                    <a:pt x="93" y="681"/>
                  </a:lnTo>
                  <a:lnTo>
                    <a:pt x="91" y="671"/>
                  </a:lnTo>
                  <a:lnTo>
                    <a:pt x="87" y="659"/>
                  </a:lnTo>
                  <a:lnTo>
                    <a:pt x="85" y="650"/>
                  </a:lnTo>
                  <a:lnTo>
                    <a:pt x="75" y="638"/>
                  </a:lnTo>
                  <a:lnTo>
                    <a:pt x="71" y="628"/>
                  </a:lnTo>
                  <a:lnTo>
                    <a:pt x="77" y="608"/>
                  </a:lnTo>
                  <a:lnTo>
                    <a:pt x="83" y="582"/>
                  </a:lnTo>
                  <a:lnTo>
                    <a:pt x="87" y="566"/>
                  </a:lnTo>
                  <a:lnTo>
                    <a:pt x="83" y="564"/>
                  </a:lnTo>
                  <a:lnTo>
                    <a:pt x="79" y="562"/>
                  </a:lnTo>
                  <a:lnTo>
                    <a:pt x="71" y="562"/>
                  </a:lnTo>
                  <a:lnTo>
                    <a:pt x="65" y="562"/>
                  </a:lnTo>
                  <a:lnTo>
                    <a:pt x="59" y="560"/>
                  </a:lnTo>
                  <a:lnTo>
                    <a:pt x="51" y="560"/>
                  </a:lnTo>
                  <a:lnTo>
                    <a:pt x="47" y="558"/>
                  </a:lnTo>
                  <a:lnTo>
                    <a:pt x="43" y="554"/>
                  </a:lnTo>
                  <a:lnTo>
                    <a:pt x="33" y="549"/>
                  </a:lnTo>
                  <a:lnTo>
                    <a:pt x="25" y="543"/>
                  </a:lnTo>
                  <a:lnTo>
                    <a:pt x="16" y="539"/>
                  </a:lnTo>
                  <a:lnTo>
                    <a:pt x="8" y="535"/>
                  </a:lnTo>
                  <a:lnTo>
                    <a:pt x="0" y="525"/>
                  </a:lnTo>
                  <a:lnTo>
                    <a:pt x="0" y="513"/>
                  </a:lnTo>
                  <a:lnTo>
                    <a:pt x="4" y="505"/>
                  </a:lnTo>
                  <a:lnTo>
                    <a:pt x="8" y="493"/>
                  </a:lnTo>
                  <a:lnTo>
                    <a:pt x="10" y="483"/>
                  </a:lnTo>
                  <a:lnTo>
                    <a:pt x="16" y="473"/>
                  </a:lnTo>
                  <a:lnTo>
                    <a:pt x="23" y="465"/>
                  </a:lnTo>
                  <a:lnTo>
                    <a:pt x="29" y="455"/>
                  </a:lnTo>
                  <a:lnTo>
                    <a:pt x="35" y="446"/>
                  </a:lnTo>
                  <a:lnTo>
                    <a:pt x="43" y="434"/>
                  </a:lnTo>
                  <a:lnTo>
                    <a:pt x="47" y="426"/>
                  </a:lnTo>
                  <a:lnTo>
                    <a:pt x="51" y="418"/>
                  </a:lnTo>
                  <a:lnTo>
                    <a:pt x="61" y="400"/>
                  </a:lnTo>
                  <a:lnTo>
                    <a:pt x="65" y="386"/>
                  </a:lnTo>
                  <a:lnTo>
                    <a:pt x="71" y="368"/>
                  </a:lnTo>
                  <a:lnTo>
                    <a:pt x="75" y="354"/>
                  </a:lnTo>
                  <a:lnTo>
                    <a:pt x="75" y="341"/>
                  </a:lnTo>
                  <a:lnTo>
                    <a:pt x="75" y="329"/>
                  </a:lnTo>
                  <a:lnTo>
                    <a:pt x="71" y="315"/>
                  </a:lnTo>
                  <a:lnTo>
                    <a:pt x="71" y="303"/>
                  </a:lnTo>
                  <a:lnTo>
                    <a:pt x="69" y="281"/>
                  </a:lnTo>
                  <a:lnTo>
                    <a:pt x="69" y="255"/>
                  </a:lnTo>
                  <a:lnTo>
                    <a:pt x="67" y="236"/>
                  </a:lnTo>
                  <a:lnTo>
                    <a:pt x="67" y="212"/>
                  </a:lnTo>
                  <a:lnTo>
                    <a:pt x="69" y="194"/>
                  </a:lnTo>
                  <a:lnTo>
                    <a:pt x="71" y="176"/>
                  </a:lnTo>
                  <a:lnTo>
                    <a:pt x="77" y="156"/>
                  </a:lnTo>
                  <a:lnTo>
                    <a:pt x="81" y="136"/>
                  </a:lnTo>
                  <a:lnTo>
                    <a:pt x="103" y="129"/>
                  </a:lnTo>
                  <a:lnTo>
                    <a:pt x="126" y="121"/>
                  </a:lnTo>
                  <a:lnTo>
                    <a:pt x="146" y="111"/>
                  </a:lnTo>
                  <a:lnTo>
                    <a:pt x="168" y="103"/>
                  </a:lnTo>
                  <a:lnTo>
                    <a:pt x="192" y="95"/>
                  </a:lnTo>
                  <a:lnTo>
                    <a:pt x="214" y="85"/>
                  </a:lnTo>
                  <a:lnTo>
                    <a:pt x="233" y="77"/>
                  </a:lnTo>
                  <a:lnTo>
                    <a:pt x="255" y="69"/>
                  </a:lnTo>
                  <a:lnTo>
                    <a:pt x="279" y="61"/>
                  </a:lnTo>
                  <a:lnTo>
                    <a:pt x="299" y="51"/>
                  </a:lnTo>
                  <a:lnTo>
                    <a:pt x="321" y="43"/>
                  </a:lnTo>
                  <a:lnTo>
                    <a:pt x="342" y="33"/>
                  </a:lnTo>
                  <a:lnTo>
                    <a:pt x="366" y="27"/>
                  </a:lnTo>
                  <a:lnTo>
                    <a:pt x="386" y="16"/>
                  </a:lnTo>
                  <a:lnTo>
                    <a:pt x="408" y="6"/>
                  </a:lnTo>
                  <a:lnTo>
                    <a:pt x="429" y="0"/>
                  </a:lnTo>
                  <a:lnTo>
                    <a:pt x="451" y="14"/>
                  </a:lnTo>
                  <a:lnTo>
                    <a:pt x="471" y="27"/>
                  </a:lnTo>
                  <a:lnTo>
                    <a:pt x="493" y="41"/>
                  </a:lnTo>
                  <a:lnTo>
                    <a:pt x="517" y="53"/>
                  </a:lnTo>
                  <a:lnTo>
                    <a:pt x="536" y="69"/>
                  </a:lnTo>
                  <a:lnTo>
                    <a:pt x="556" y="81"/>
                  </a:lnTo>
                  <a:lnTo>
                    <a:pt x="576" y="97"/>
                  </a:lnTo>
                  <a:lnTo>
                    <a:pt x="598" y="109"/>
                  </a:lnTo>
                  <a:lnTo>
                    <a:pt x="620" y="125"/>
                  </a:lnTo>
                  <a:lnTo>
                    <a:pt x="641" y="136"/>
                  </a:lnTo>
                  <a:lnTo>
                    <a:pt x="663" y="148"/>
                  </a:lnTo>
                  <a:lnTo>
                    <a:pt x="683" y="164"/>
                  </a:lnTo>
                  <a:lnTo>
                    <a:pt x="703" y="176"/>
                  </a:lnTo>
                  <a:lnTo>
                    <a:pt x="725" y="192"/>
                  </a:lnTo>
                  <a:lnTo>
                    <a:pt x="746" y="204"/>
                  </a:lnTo>
                  <a:lnTo>
                    <a:pt x="768" y="220"/>
                  </a:lnTo>
                  <a:lnTo>
                    <a:pt x="764" y="319"/>
                  </a:lnTo>
                  <a:lnTo>
                    <a:pt x="762" y="420"/>
                  </a:lnTo>
                  <a:lnTo>
                    <a:pt x="760" y="521"/>
                  </a:lnTo>
                  <a:lnTo>
                    <a:pt x="754" y="622"/>
                  </a:lnTo>
                  <a:lnTo>
                    <a:pt x="754" y="650"/>
                  </a:lnTo>
                  <a:lnTo>
                    <a:pt x="754" y="677"/>
                  </a:lnTo>
                  <a:lnTo>
                    <a:pt x="750" y="705"/>
                  </a:lnTo>
                  <a:lnTo>
                    <a:pt x="746" y="729"/>
                  </a:lnTo>
                  <a:lnTo>
                    <a:pt x="740" y="743"/>
                  </a:lnTo>
                  <a:lnTo>
                    <a:pt x="732" y="759"/>
                  </a:lnTo>
                  <a:lnTo>
                    <a:pt x="725" y="770"/>
                  </a:lnTo>
                  <a:lnTo>
                    <a:pt x="713" y="784"/>
                  </a:lnTo>
                  <a:lnTo>
                    <a:pt x="703" y="796"/>
                  </a:lnTo>
                  <a:lnTo>
                    <a:pt x="691" y="806"/>
                  </a:lnTo>
                  <a:lnTo>
                    <a:pt x="681" y="818"/>
                  </a:lnTo>
                  <a:lnTo>
                    <a:pt x="671" y="828"/>
                  </a:lnTo>
                  <a:lnTo>
                    <a:pt x="659" y="840"/>
                  </a:lnTo>
                  <a:lnTo>
                    <a:pt x="645" y="854"/>
                  </a:lnTo>
                  <a:lnTo>
                    <a:pt x="633" y="868"/>
                  </a:lnTo>
                  <a:lnTo>
                    <a:pt x="620" y="879"/>
                  </a:lnTo>
                  <a:lnTo>
                    <a:pt x="608" y="889"/>
                  </a:lnTo>
                  <a:lnTo>
                    <a:pt x="594" y="903"/>
                  </a:lnTo>
                  <a:lnTo>
                    <a:pt x="578" y="913"/>
                  </a:lnTo>
                  <a:lnTo>
                    <a:pt x="562" y="921"/>
                  </a:lnTo>
                  <a:lnTo>
                    <a:pt x="556" y="927"/>
                  </a:lnTo>
                  <a:lnTo>
                    <a:pt x="546" y="929"/>
                  </a:lnTo>
                  <a:lnTo>
                    <a:pt x="538" y="933"/>
                  </a:lnTo>
                  <a:lnTo>
                    <a:pt x="528" y="935"/>
                  </a:lnTo>
                  <a:lnTo>
                    <a:pt x="521" y="937"/>
                  </a:lnTo>
                  <a:lnTo>
                    <a:pt x="511" y="937"/>
                  </a:lnTo>
                  <a:lnTo>
                    <a:pt x="499" y="937"/>
                  </a:lnTo>
                  <a:lnTo>
                    <a:pt x="491" y="937"/>
                  </a:lnTo>
                  <a:lnTo>
                    <a:pt x="491" y="93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073720" y="4904280"/>
              <a:ext cx="98640" cy="150840"/>
            </a:xfrm>
            <a:custGeom>
              <a:avLst/>
              <a:gdLst/>
              <a:ahLst/>
              <a:rect l="l" t="t" r="r" b="b"/>
              <a:pathLst>
                <a:path w="313" h="475">
                  <a:moveTo>
                    <a:pt x="0" y="315"/>
                  </a:moveTo>
                  <a:lnTo>
                    <a:pt x="30" y="305"/>
                  </a:lnTo>
                  <a:lnTo>
                    <a:pt x="56" y="293"/>
                  </a:lnTo>
                  <a:lnTo>
                    <a:pt x="81" y="281"/>
                  </a:lnTo>
                  <a:lnTo>
                    <a:pt x="103" y="267"/>
                  </a:lnTo>
                  <a:lnTo>
                    <a:pt x="125" y="254"/>
                  </a:lnTo>
                  <a:lnTo>
                    <a:pt x="147" y="232"/>
                  </a:lnTo>
                  <a:lnTo>
                    <a:pt x="170" y="210"/>
                  </a:lnTo>
                  <a:lnTo>
                    <a:pt x="190" y="188"/>
                  </a:lnTo>
                  <a:lnTo>
                    <a:pt x="210" y="162"/>
                  </a:lnTo>
                  <a:lnTo>
                    <a:pt x="226" y="139"/>
                  </a:lnTo>
                  <a:lnTo>
                    <a:pt x="242" y="115"/>
                  </a:lnTo>
                  <a:lnTo>
                    <a:pt x="254" y="95"/>
                  </a:lnTo>
                  <a:lnTo>
                    <a:pt x="261" y="75"/>
                  </a:lnTo>
                  <a:lnTo>
                    <a:pt x="271" y="51"/>
                  </a:lnTo>
                  <a:lnTo>
                    <a:pt x="277" y="28"/>
                  </a:lnTo>
                  <a:lnTo>
                    <a:pt x="285" y="0"/>
                  </a:lnTo>
                  <a:lnTo>
                    <a:pt x="295" y="34"/>
                  </a:lnTo>
                  <a:lnTo>
                    <a:pt x="305" y="69"/>
                  </a:lnTo>
                  <a:lnTo>
                    <a:pt x="311" y="109"/>
                  </a:lnTo>
                  <a:lnTo>
                    <a:pt x="313" y="149"/>
                  </a:lnTo>
                  <a:lnTo>
                    <a:pt x="313" y="188"/>
                  </a:lnTo>
                  <a:lnTo>
                    <a:pt x="307" y="224"/>
                  </a:lnTo>
                  <a:lnTo>
                    <a:pt x="295" y="259"/>
                  </a:lnTo>
                  <a:lnTo>
                    <a:pt x="275" y="291"/>
                  </a:lnTo>
                  <a:lnTo>
                    <a:pt x="265" y="305"/>
                  </a:lnTo>
                  <a:lnTo>
                    <a:pt x="254" y="321"/>
                  </a:lnTo>
                  <a:lnTo>
                    <a:pt x="244" y="337"/>
                  </a:lnTo>
                  <a:lnTo>
                    <a:pt x="232" y="351"/>
                  </a:lnTo>
                  <a:lnTo>
                    <a:pt x="218" y="364"/>
                  </a:lnTo>
                  <a:lnTo>
                    <a:pt x="204" y="378"/>
                  </a:lnTo>
                  <a:lnTo>
                    <a:pt x="192" y="394"/>
                  </a:lnTo>
                  <a:lnTo>
                    <a:pt x="178" y="406"/>
                  </a:lnTo>
                  <a:lnTo>
                    <a:pt x="170" y="414"/>
                  </a:lnTo>
                  <a:lnTo>
                    <a:pt x="158" y="424"/>
                  </a:lnTo>
                  <a:lnTo>
                    <a:pt x="147" y="432"/>
                  </a:lnTo>
                  <a:lnTo>
                    <a:pt x="137" y="440"/>
                  </a:lnTo>
                  <a:lnTo>
                    <a:pt x="125" y="448"/>
                  </a:lnTo>
                  <a:lnTo>
                    <a:pt x="115" y="460"/>
                  </a:lnTo>
                  <a:lnTo>
                    <a:pt x="103" y="467"/>
                  </a:lnTo>
                  <a:lnTo>
                    <a:pt x="91" y="475"/>
                  </a:lnTo>
                  <a:lnTo>
                    <a:pt x="81" y="458"/>
                  </a:lnTo>
                  <a:lnTo>
                    <a:pt x="69" y="436"/>
                  </a:lnTo>
                  <a:lnTo>
                    <a:pt x="59" y="414"/>
                  </a:lnTo>
                  <a:lnTo>
                    <a:pt x="52" y="394"/>
                  </a:lnTo>
                  <a:lnTo>
                    <a:pt x="38" y="374"/>
                  </a:lnTo>
                  <a:lnTo>
                    <a:pt x="28" y="353"/>
                  </a:lnTo>
                  <a:lnTo>
                    <a:pt x="14" y="333"/>
                  </a:lnTo>
                  <a:lnTo>
                    <a:pt x="0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073720" y="4904280"/>
              <a:ext cx="98640" cy="150840"/>
            </a:xfrm>
            <a:custGeom>
              <a:avLst/>
              <a:gdLst/>
              <a:ahLst/>
              <a:rect l="l" t="t" r="r" b="b"/>
              <a:pathLst>
                <a:path w="313" h="475">
                  <a:moveTo>
                    <a:pt x="0" y="315"/>
                  </a:moveTo>
                  <a:lnTo>
                    <a:pt x="30" y="305"/>
                  </a:lnTo>
                  <a:lnTo>
                    <a:pt x="56" y="293"/>
                  </a:lnTo>
                  <a:lnTo>
                    <a:pt x="81" y="281"/>
                  </a:lnTo>
                  <a:lnTo>
                    <a:pt x="103" y="267"/>
                  </a:lnTo>
                  <a:lnTo>
                    <a:pt x="125" y="254"/>
                  </a:lnTo>
                  <a:lnTo>
                    <a:pt x="147" y="232"/>
                  </a:lnTo>
                  <a:lnTo>
                    <a:pt x="170" y="210"/>
                  </a:lnTo>
                  <a:lnTo>
                    <a:pt x="190" y="188"/>
                  </a:lnTo>
                  <a:lnTo>
                    <a:pt x="210" y="162"/>
                  </a:lnTo>
                  <a:lnTo>
                    <a:pt x="226" y="139"/>
                  </a:lnTo>
                  <a:lnTo>
                    <a:pt x="242" y="115"/>
                  </a:lnTo>
                  <a:lnTo>
                    <a:pt x="254" y="95"/>
                  </a:lnTo>
                  <a:lnTo>
                    <a:pt x="261" y="75"/>
                  </a:lnTo>
                  <a:lnTo>
                    <a:pt x="271" y="51"/>
                  </a:lnTo>
                  <a:lnTo>
                    <a:pt x="277" y="28"/>
                  </a:lnTo>
                  <a:lnTo>
                    <a:pt x="285" y="0"/>
                  </a:lnTo>
                  <a:lnTo>
                    <a:pt x="295" y="34"/>
                  </a:lnTo>
                  <a:lnTo>
                    <a:pt x="305" y="69"/>
                  </a:lnTo>
                  <a:lnTo>
                    <a:pt x="311" y="109"/>
                  </a:lnTo>
                  <a:lnTo>
                    <a:pt x="313" y="149"/>
                  </a:lnTo>
                  <a:lnTo>
                    <a:pt x="313" y="188"/>
                  </a:lnTo>
                  <a:lnTo>
                    <a:pt x="307" y="224"/>
                  </a:lnTo>
                  <a:lnTo>
                    <a:pt x="295" y="259"/>
                  </a:lnTo>
                  <a:lnTo>
                    <a:pt x="275" y="291"/>
                  </a:lnTo>
                  <a:lnTo>
                    <a:pt x="265" y="305"/>
                  </a:lnTo>
                  <a:lnTo>
                    <a:pt x="254" y="321"/>
                  </a:lnTo>
                  <a:lnTo>
                    <a:pt x="244" y="337"/>
                  </a:lnTo>
                  <a:lnTo>
                    <a:pt x="232" y="351"/>
                  </a:lnTo>
                  <a:lnTo>
                    <a:pt x="218" y="364"/>
                  </a:lnTo>
                  <a:lnTo>
                    <a:pt x="204" y="378"/>
                  </a:lnTo>
                  <a:lnTo>
                    <a:pt x="192" y="394"/>
                  </a:lnTo>
                  <a:lnTo>
                    <a:pt x="178" y="406"/>
                  </a:lnTo>
                  <a:lnTo>
                    <a:pt x="170" y="414"/>
                  </a:lnTo>
                  <a:lnTo>
                    <a:pt x="158" y="424"/>
                  </a:lnTo>
                  <a:lnTo>
                    <a:pt x="147" y="432"/>
                  </a:lnTo>
                  <a:lnTo>
                    <a:pt x="137" y="440"/>
                  </a:lnTo>
                  <a:lnTo>
                    <a:pt x="125" y="448"/>
                  </a:lnTo>
                  <a:lnTo>
                    <a:pt x="115" y="460"/>
                  </a:lnTo>
                  <a:lnTo>
                    <a:pt x="103" y="467"/>
                  </a:lnTo>
                  <a:lnTo>
                    <a:pt x="91" y="475"/>
                  </a:lnTo>
                  <a:lnTo>
                    <a:pt x="81" y="458"/>
                  </a:lnTo>
                  <a:lnTo>
                    <a:pt x="69" y="436"/>
                  </a:lnTo>
                  <a:lnTo>
                    <a:pt x="59" y="414"/>
                  </a:lnTo>
                  <a:lnTo>
                    <a:pt x="52" y="394"/>
                  </a:lnTo>
                  <a:lnTo>
                    <a:pt x="38" y="374"/>
                  </a:lnTo>
                  <a:lnTo>
                    <a:pt x="28" y="353"/>
                  </a:lnTo>
                  <a:lnTo>
                    <a:pt x="14" y="333"/>
                  </a:lnTo>
                  <a:lnTo>
                    <a:pt x="0" y="315"/>
                  </a:lnTo>
                  <a:lnTo>
                    <a:pt x="0" y="3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923960" y="4643280"/>
              <a:ext cx="309600" cy="271800"/>
            </a:xfrm>
            <a:custGeom>
              <a:avLst/>
              <a:gdLst/>
              <a:ahLst/>
              <a:rect l="l" t="t" r="r" b="b"/>
              <a:pathLst>
                <a:path w="976" h="856">
                  <a:moveTo>
                    <a:pt x="39" y="360"/>
                  </a:moveTo>
                  <a:lnTo>
                    <a:pt x="41" y="366"/>
                  </a:lnTo>
                  <a:lnTo>
                    <a:pt x="45" y="374"/>
                  </a:lnTo>
                  <a:lnTo>
                    <a:pt x="53" y="380"/>
                  </a:lnTo>
                  <a:lnTo>
                    <a:pt x="59" y="384"/>
                  </a:lnTo>
                  <a:lnTo>
                    <a:pt x="65" y="388"/>
                  </a:lnTo>
                  <a:lnTo>
                    <a:pt x="73" y="392"/>
                  </a:lnTo>
                  <a:lnTo>
                    <a:pt x="83" y="394"/>
                  </a:lnTo>
                  <a:lnTo>
                    <a:pt x="87" y="396"/>
                  </a:lnTo>
                  <a:lnTo>
                    <a:pt x="89" y="400"/>
                  </a:lnTo>
                  <a:lnTo>
                    <a:pt x="91" y="406"/>
                  </a:lnTo>
                  <a:lnTo>
                    <a:pt x="93" y="408"/>
                  </a:lnTo>
                  <a:lnTo>
                    <a:pt x="95" y="410"/>
                  </a:lnTo>
                  <a:lnTo>
                    <a:pt x="99" y="410"/>
                  </a:lnTo>
                  <a:lnTo>
                    <a:pt x="105" y="410"/>
                  </a:lnTo>
                  <a:lnTo>
                    <a:pt x="111" y="410"/>
                  </a:lnTo>
                  <a:lnTo>
                    <a:pt x="117" y="410"/>
                  </a:lnTo>
                  <a:lnTo>
                    <a:pt x="122" y="410"/>
                  </a:lnTo>
                  <a:lnTo>
                    <a:pt x="128" y="408"/>
                  </a:lnTo>
                  <a:lnTo>
                    <a:pt x="132" y="408"/>
                  </a:lnTo>
                  <a:lnTo>
                    <a:pt x="138" y="408"/>
                  </a:lnTo>
                  <a:lnTo>
                    <a:pt x="142" y="410"/>
                  </a:lnTo>
                  <a:lnTo>
                    <a:pt x="146" y="412"/>
                  </a:lnTo>
                  <a:lnTo>
                    <a:pt x="150" y="414"/>
                  </a:lnTo>
                  <a:lnTo>
                    <a:pt x="156" y="418"/>
                  </a:lnTo>
                  <a:lnTo>
                    <a:pt x="160" y="422"/>
                  </a:lnTo>
                  <a:lnTo>
                    <a:pt x="170" y="422"/>
                  </a:lnTo>
                  <a:lnTo>
                    <a:pt x="174" y="428"/>
                  </a:lnTo>
                  <a:lnTo>
                    <a:pt x="182" y="428"/>
                  </a:lnTo>
                  <a:lnTo>
                    <a:pt x="190" y="430"/>
                  </a:lnTo>
                  <a:lnTo>
                    <a:pt x="196" y="434"/>
                  </a:lnTo>
                  <a:lnTo>
                    <a:pt x="206" y="434"/>
                  </a:lnTo>
                  <a:lnTo>
                    <a:pt x="212" y="434"/>
                  </a:lnTo>
                  <a:lnTo>
                    <a:pt x="216" y="430"/>
                  </a:lnTo>
                  <a:lnTo>
                    <a:pt x="216" y="428"/>
                  </a:lnTo>
                  <a:lnTo>
                    <a:pt x="220" y="422"/>
                  </a:lnTo>
                  <a:lnTo>
                    <a:pt x="225" y="418"/>
                  </a:lnTo>
                  <a:lnTo>
                    <a:pt x="227" y="410"/>
                  </a:lnTo>
                  <a:lnTo>
                    <a:pt x="227" y="402"/>
                  </a:lnTo>
                  <a:lnTo>
                    <a:pt x="229" y="400"/>
                  </a:lnTo>
                  <a:lnTo>
                    <a:pt x="233" y="400"/>
                  </a:lnTo>
                  <a:lnTo>
                    <a:pt x="239" y="400"/>
                  </a:lnTo>
                  <a:lnTo>
                    <a:pt x="243" y="402"/>
                  </a:lnTo>
                  <a:lnTo>
                    <a:pt x="249" y="402"/>
                  </a:lnTo>
                  <a:lnTo>
                    <a:pt x="249" y="406"/>
                  </a:lnTo>
                  <a:lnTo>
                    <a:pt x="251" y="410"/>
                  </a:lnTo>
                  <a:lnTo>
                    <a:pt x="251" y="414"/>
                  </a:lnTo>
                  <a:lnTo>
                    <a:pt x="251" y="416"/>
                  </a:lnTo>
                  <a:lnTo>
                    <a:pt x="265" y="416"/>
                  </a:lnTo>
                  <a:lnTo>
                    <a:pt x="265" y="410"/>
                  </a:lnTo>
                  <a:lnTo>
                    <a:pt x="269" y="400"/>
                  </a:lnTo>
                  <a:lnTo>
                    <a:pt x="273" y="392"/>
                  </a:lnTo>
                  <a:lnTo>
                    <a:pt x="273" y="386"/>
                  </a:lnTo>
                  <a:lnTo>
                    <a:pt x="277" y="386"/>
                  </a:lnTo>
                  <a:lnTo>
                    <a:pt x="279" y="386"/>
                  </a:lnTo>
                  <a:lnTo>
                    <a:pt x="281" y="384"/>
                  </a:lnTo>
                  <a:lnTo>
                    <a:pt x="281" y="382"/>
                  </a:lnTo>
                  <a:lnTo>
                    <a:pt x="285" y="382"/>
                  </a:lnTo>
                  <a:lnTo>
                    <a:pt x="293" y="382"/>
                  </a:lnTo>
                  <a:lnTo>
                    <a:pt x="297" y="380"/>
                  </a:lnTo>
                  <a:lnTo>
                    <a:pt x="299" y="380"/>
                  </a:lnTo>
                  <a:lnTo>
                    <a:pt x="299" y="378"/>
                  </a:lnTo>
                  <a:lnTo>
                    <a:pt x="307" y="372"/>
                  </a:lnTo>
                  <a:lnTo>
                    <a:pt x="317" y="372"/>
                  </a:lnTo>
                  <a:lnTo>
                    <a:pt x="330" y="372"/>
                  </a:lnTo>
                  <a:lnTo>
                    <a:pt x="340" y="374"/>
                  </a:lnTo>
                  <a:lnTo>
                    <a:pt x="344" y="378"/>
                  </a:lnTo>
                  <a:lnTo>
                    <a:pt x="344" y="390"/>
                  </a:lnTo>
                  <a:lnTo>
                    <a:pt x="344" y="400"/>
                  </a:lnTo>
                  <a:lnTo>
                    <a:pt x="348" y="414"/>
                  </a:lnTo>
                  <a:lnTo>
                    <a:pt x="352" y="428"/>
                  </a:lnTo>
                  <a:lnTo>
                    <a:pt x="352" y="430"/>
                  </a:lnTo>
                  <a:lnTo>
                    <a:pt x="348" y="434"/>
                  </a:lnTo>
                  <a:lnTo>
                    <a:pt x="344" y="440"/>
                  </a:lnTo>
                  <a:lnTo>
                    <a:pt x="340" y="440"/>
                  </a:lnTo>
                  <a:lnTo>
                    <a:pt x="340" y="444"/>
                  </a:lnTo>
                  <a:lnTo>
                    <a:pt x="340" y="445"/>
                  </a:lnTo>
                  <a:lnTo>
                    <a:pt x="334" y="445"/>
                  </a:lnTo>
                  <a:lnTo>
                    <a:pt x="334" y="447"/>
                  </a:lnTo>
                  <a:lnTo>
                    <a:pt x="334" y="455"/>
                  </a:lnTo>
                  <a:lnTo>
                    <a:pt x="334" y="457"/>
                  </a:lnTo>
                  <a:lnTo>
                    <a:pt x="336" y="465"/>
                  </a:lnTo>
                  <a:lnTo>
                    <a:pt x="336" y="469"/>
                  </a:lnTo>
                  <a:lnTo>
                    <a:pt x="344" y="471"/>
                  </a:lnTo>
                  <a:lnTo>
                    <a:pt x="348" y="479"/>
                  </a:lnTo>
                  <a:lnTo>
                    <a:pt x="350" y="489"/>
                  </a:lnTo>
                  <a:lnTo>
                    <a:pt x="350" y="493"/>
                  </a:lnTo>
                  <a:lnTo>
                    <a:pt x="344" y="497"/>
                  </a:lnTo>
                  <a:lnTo>
                    <a:pt x="340" y="501"/>
                  </a:lnTo>
                  <a:lnTo>
                    <a:pt x="340" y="505"/>
                  </a:lnTo>
                  <a:lnTo>
                    <a:pt x="336" y="509"/>
                  </a:lnTo>
                  <a:lnTo>
                    <a:pt x="336" y="541"/>
                  </a:lnTo>
                  <a:lnTo>
                    <a:pt x="344" y="554"/>
                  </a:lnTo>
                  <a:lnTo>
                    <a:pt x="352" y="576"/>
                  </a:lnTo>
                  <a:lnTo>
                    <a:pt x="362" y="592"/>
                  </a:lnTo>
                  <a:lnTo>
                    <a:pt x="374" y="596"/>
                  </a:lnTo>
                  <a:lnTo>
                    <a:pt x="374" y="594"/>
                  </a:lnTo>
                  <a:lnTo>
                    <a:pt x="380" y="592"/>
                  </a:lnTo>
                  <a:lnTo>
                    <a:pt x="384" y="592"/>
                  </a:lnTo>
                  <a:lnTo>
                    <a:pt x="388" y="594"/>
                  </a:lnTo>
                  <a:lnTo>
                    <a:pt x="394" y="596"/>
                  </a:lnTo>
                  <a:lnTo>
                    <a:pt x="394" y="604"/>
                  </a:lnTo>
                  <a:lnTo>
                    <a:pt x="390" y="612"/>
                  </a:lnTo>
                  <a:lnTo>
                    <a:pt x="390" y="620"/>
                  </a:lnTo>
                  <a:lnTo>
                    <a:pt x="394" y="626"/>
                  </a:lnTo>
                  <a:lnTo>
                    <a:pt x="396" y="626"/>
                  </a:lnTo>
                  <a:lnTo>
                    <a:pt x="400" y="628"/>
                  </a:lnTo>
                  <a:lnTo>
                    <a:pt x="402" y="632"/>
                  </a:lnTo>
                  <a:lnTo>
                    <a:pt x="408" y="632"/>
                  </a:lnTo>
                  <a:lnTo>
                    <a:pt x="416" y="632"/>
                  </a:lnTo>
                  <a:lnTo>
                    <a:pt x="422" y="632"/>
                  </a:lnTo>
                  <a:lnTo>
                    <a:pt x="431" y="628"/>
                  </a:lnTo>
                  <a:lnTo>
                    <a:pt x="437" y="628"/>
                  </a:lnTo>
                  <a:lnTo>
                    <a:pt x="443" y="628"/>
                  </a:lnTo>
                  <a:lnTo>
                    <a:pt x="453" y="626"/>
                  </a:lnTo>
                  <a:lnTo>
                    <a:pt x="461" y="626"/>
                  </a:lnTo>
                  <a:lnTo>
                    <a:pt x="463" y="636"/>
                  </a:lnTo>
                  <a:lnTo>
                    <a:pt x="469" y="642"/>
                  </a:lnTo>
                  <a:lnTo>
                    <a:pt x="477" y="642"/>
                  </a:lnTo>
                  <a:lnTo>
                    <a:pt x="489" y="642"/>
                  </a:lnTo>
                  <a:lnTo>
                    <a:pt x="501" y="640"/>
                  </a:lnTo>
                  <a:lnTo>
                    <a:pt x="515" y="638"/>
                  </a:lnTo>
                  <a:lnTo>
                    <a:pt x="523" y="632"/>
                  </a:lnTo>
                  <a:lnTo>
                    <a:pt x="528" y="632"/>
                  </a:lnTo>
                  <a:lnTo>
                    <a:pt x="536" y="632"/>
                  </a:lnTo>
                  <a:lnTo>
                    <a:pt x="548" y="632"/>
                  </a:lnTo>
                  <a:lnTo>
                    <a:pt x="556" y="632"/>
                  </a:lnTo>
                  <a:lnTo>
                    <a:pt x="564" y="636"/>
                  </a:lnTo>
                  <a:lnTo>
                    <a:pt x="570" y="640"/>
                  </a:lnTo>
                  <a:lnTo>
                    <a:pt x="582" y="644"/>
                  </a:lnTo>
                  <a:lnTo>
                    <a:pt x="594" y="648"/>
                  </a:lnTo>
                  <a:lnTo>
                    <a:pt x="602" y="656"/>
                  </a:lnTo>
                  <a:lnTo>
                    <a:pt x="604" y="667"/>
                  </a:lnTo>
                  <a:lnTo>
                    <a:pt x="604" y="679"/>
                  </a:lnTo>
                  <a:lnTo>
                    <a:pt x="602" y="695"/>
                  </a:lnTo>
                  <a:lnTo>
                    <a:pt x="602" y="703"/>
                  </a:lnTo>
                  <a:lnTo>
                    <a:pt x="610" y="703"/>
                  </a:lnTo>
                  <a:lnTo>
                    <a:pt x="618" y="703"/>
                  </a:lnTo>
                  <a:lnTo>
                    <a:pt x="624" y="703"/>
                  </a:lnTo>
                  <a:lnTo>
                    <a:pt x="631" y="703"/>
                  </a:lnTo>
                  <a:lnTo>
                    <a:pt x="633" y="707"/>
                  </a:lnTo>
                  <a:lnTo>
                    <a:pt x="633" y="711"/>
                  </a:lnTo>
                  <a:lnTo>
                    <a:pt x="635" y="719"/>
                  </a:lnTo>
                  <a:lnTo>
                    <a:pt x="637" y="723"/>
                  </a:lnTo>
                  <a:lnTo>
                    <a:pt x="641" y="725"/>
                  </a:lnTo>
                  <a:lnTo>
                    <a:pt x="647" y="729"/>
                  </a:lnTo>
                  <a:lnTo>
                    <a:pt x="657" y="733"/>
                  </a:lnTo>
                  <a:lnTo>
                    <a:pt x="661" y="733"/>
                  </a:lnTo>
                  <a:lnTo>
                    <a:pt x="661" y="743"/>
                  </a:lnTo>
                  <a:lnTo>
                    <a:pt x="667" y="753"/>
                  </a:lnTo>
                  <a:lnTo>
                    <a:pt x="671" y="761"/>
                  </a:lnTo>
                  <a:lnTo>
                    <a:pt x="677" y="766"/>
                  </a:lnTo>
                  <a:lnTo>
                    <a:pt x="677" y="768"/>
                  </a:lnTo>
                  <a:lnTo>
                    <a:pt x="679" y="770"/>
                  </a:lnTo>
                  <a:lnTo>
                    <a:pt x="679" y="774"/>
                  </a:lnTo>
                  <a:lnTo>
                    <a:pt x="679" y="774"/>
                  </a:lnTo>
                  <a:lnTo>
                    <a:pt x="685" y="778"/>
                  </a:lnTo>
                  <a:lnTo>
                    <a:pt x="691" y="782"/>
                  </a:lnTo>
                  <a:lnTo>
                    <a:pt x="695" y="786"/>
                  </a:lnTo>
                  <a:lnTo>
                    <a:pt x="701" y="788"/>
                  </a:lnTo>
                  <a:lnTo>
                    <a:pt x="705" y="794"/>
                  </a:lnTo>
                  <a:lnTo>
                    <a:pt x="703" y="798"/>
                  </a:lnTo>
                  <a:lnTo>
                    <a:pt x="707" y="812"/>
                  </a:lnTo>
                  <a:lnTo>
                    <a:pt x="713" y="826"/>
                  </a:lnTo>
                  <a:lnTo>
                    <a:pt x="719" y="834"/>
                  </a:lnTo>
                  <a:lnTo>
                    <a:pt x="725" y="834"/>
                  </a:lnTo>
                  <a:lnTo>
                    <a:pt x="732" y="840"/>
                  </a:lnTo>
                  <a:lnTo>
                    <a:pt x="736" y="844"/>
                  </a:lnTo>
                  <a:lnTo>
                    <a:pt x="744" y="846"/>
                  </a:lnTo>
                  <a:lnTo>
                    <a:pt x="744" y="850"/>
                  </a:lnTo>
                  <a:lnTo>
                    <a:pt x="746" y="852"/>
                  </a:lnTo>
                  <a:lnTo>
                    <a:pt x="748" y="852"/>
                  </a:lnTo>
                  <a:lnTo>
                    <a:pt x="748" y="856"/>
                  </a:lnTo>
                  <a:lnTo>
                    <a:pt x="758" y="856"/>
                  </a:lnTo>
                  <a:lnTo>
                    <a:pt x="768" y="854"/>
                  </a:lnTo>
                  <a:lnTo>
                    <a:pt x="778" y="852"/>
                  </a:lnTo>
                  <a:lnTo>
                    <a:pt x="782" y="846"/>
                  </a:lnTo>
                  <a:lnTo>
                    <a:pt x="839" y="830"/>
                  </a:lnTo>
                  <a:lnTo>
                    <a:pt x="845" y="824"/>
                  </a:lnTo>
                  <a:lnTo>
                    <a:pt x="853" y="816"/>
                  </a:lnTo>
                  <a:lnTo>
                    <a:pt x="859" y="808"/>
                  </a:lnTo>
                  <a:lnTo>
                    <a:pt x="869" y="796"/>
                  </a:lnTo>
                  <a:lnTo>
                    <a:pt x="877" y="786"/>
                  </a:lnTo>
                  <a:lnTo>
                    <a:pt x="883" y="778"/>
                  </a:lnTo>
                  <a:lnTo>
                    <a:pt x="893" y="774"/>
                  </a:lnTo>
                  <a:lnTo>
                    <a:pt x="903" y="768"/>
                  </a:lnTo>
                  <a:lnTo>
                    <a:pt x="903" y="762"/>
                  </a:lnTo>
                  <a:lnTo>
                    <a:pt x="907" y="755"/>
                  </a:lnTo>
                  <a:lnTo>
                    <a:pt x="911" y="747"/>
                  </a:lnTo>
                  <a:lnTo>
                    <a:pt x="913" y="741"/>
                  </a:lnTo>
                  <a:lnTo>
                    <a:pt x="915" y="731"/>
                  </a:lnTo>
                  <a:lnTo>
                    <a:pt x="915" y="719"/>
                  </a:lnTo>
                  <a:lnTo>
                    <a:pt x="913" y="705"/>
                  </a:lnTo>
                  <a:lnTo>
                    <a:pt x="911" y="691"/>
                  </a:lnTo>
                  <a:lnTo>
                    <a:pt x="932" y="640"/>
                  </a:lnTo>
                  <a:lnTo>
                    <a:pt x="936" y="610"/>
                  </a:lnTo>
                  <a:lnTo>
                    <a:pt x="936" y="576"/>
                  </a:lnTo>
                  <a:lnTo>
                    <a:pt x="936" y="541"/>
                  </a:lnTo>
                  <a:lnTo>
                    <a:pt x="936" y="513"/>
                  </a:lnTo>
                  <a:lnTo>
                    <a:pt x="942" y="509"/>
                  </a:lnTo>
                  <a:lnTo>
                    <a:pt x="946" y="505"/>
                  </a:lnTo>
                  <a:lnTo>
                    <a:pt x="948" y="497"/>
                  </a:lnTo>
                  <a:lnTo>
                    <a:pt x="950" y="493"/>
                  </a:lnTo>
                  <a:lnTo>
                    <a:pt x="950" y="485"/>
                  </a:lnTo>
                  <a:lnTo>
                    <a:pt x="956" y="477"/>
                  </a:lnTo>
                  <a:lnTo>
                    <a:pt x="956" y="471"/>
                  </a:lnTo>
                  <a:lnTo>
                    <a:pt x="956" y="461"/>
                  </a:lnTo>
                  <a:lnTo>
                    <a:pt x="962" y="434"/>
                  </a:lnTo>
                  <a:lnTo>
                    <a:pt x="970" y="410"/>
                  </a:lnTo>
                  <a:lnTo>
                    <a:pt x="976" y="384"/>
                  </a:lnTo>
                  <a:lnTo>
                    <a:pt x="970" y="358"/>
                  </a:lnTo>
                  <a:lnTo>
                    <a:pt x="964" y="354"/>
                  </a:lnTo>
                  <a:lnTo>
                    <a:pt x="960" y="346"/>
                  </a:lnTo>
                  <a:lnTo>
                    <a:pt x="958" y="335"/>
                  </a:lnTo>
                  <a:lnTo>
                    <a:pt x="956" y="329"/>
                  </a:lnTo>
                  <a:lnTo>
                    <a:pt x="948" y="305"/>
                  </a:lnTo>
                  <a:lnTo>
                    <a:pt x="936" y="281"/>
                  </a:lnTo>
                  <a:lnTo>
                    <a:pt x="927" y="261"/>
                  </a:lnTo>
                  <a:lnTo>
                    <a:pt x="917" y="239"/>
                  </a:lnTo>
                  <a:lnTo>
                    <a:pt x="911" y="230"/>
                  </a:lnTo>
                  <a:lnTo>
                    <a:pt x="903" y="218"/>
                  </a:lnTo>
                  <a:lnTo>
                    <a:pt x="891" y="210"/>
                  </a:lnTo>
                  <a:lnTo>
                    <a:pt x="875" y="202"/>
                  </a:lnTo>
                  <a:lnTo>
                    <a:pt x="861" y="192"/>
                  </a:lnTo>
                  <a:lnTo>
                    <a:pt x="849" y="182"/>
                  </a:lnTo>
                  <a:lnTo>
                    <a:pt x="841" y="174"/>
                  </a:lnTo>
                  <a:lnTo>
                    <a:pt x="839" y="162"/>
                  </a:lnTo>
                  <a:lnTo>
                    <a:pt x="835" y="162"/>
                  </a:lnTo>
                  <a:lnTo>
                    <a:pt x="831" y="160"/>
                  </a:lnTo>
                  <a:lnTo>
                    <a:pt x="830" y="160"/>
                  </a:lnTo>
                  <a:lnTo>
                    <a:pt x="830" y="156"/>
                  </a:lnTo>
                  <a:lnTo>
                    <a:pt x="830" y="152"/>
                  </a:lnTo>
                  <a:lnTo>
                    <a:pt x="830" y="150"/>
                  </a:lnTo>
                  <a:lnTo>
                    <a:pt x="831" y="148"/>
                  </a:lnTo>
                  <a:lnTo>
                    <a:pt x="831" y="138"/>
                  </a:lnTo>
                  <a:lnTo>
                    <a:pt x="835" y="138"/>
                  </a:lnTo>
                  <a:lnTo>
                    <a:pt x="841" y="136"/>
                  </a:lnTo>
                  <a:lnTo>
                    <a:pt x="841" y="134"/>
                  </a:lnTo>
                  <a:lnTo>
                    <a:pt x="843" y="134"/>
                  </a:lnTo>
                  <a:lnTo>
                    <a:pt x="839" y="123"/>
                  </a:lnTo>
                  <a:lnTo>
                    <a:pt x="828" y="117"/>
                  </a:lnTo>
                  <a:lnTo>
                    <a:pt x="820" y="107"/>
                  </a:lnTo>
                  <a:lnTo>
                    <a:pt x="814" y="99"/>
                  </a:lnTo>
                  <a:lnTo>
                    <a:pt x="808" y="99"/>
                  </a:lnTo>
                  <a:lnTo>
                    <a:pt x="802" y="95"/>
                  </a:lnTo>
                  <a:lnTo>
                    <a:pt x="794" y="91"/>
                  </a:lnTo>
                  <a:lnTo>
                    <a:pt x="786" y="83"/>
                  </a:lnTo>
                  <a:lnTo>
                    <a:pt x="776" y="77"/>
                  </a:lnTo>
                  <a:lnTo>
                    <a:pt x="768" y="73"/>
                  </a:lnTo>
                  <a:lnTo>
                    <a:pt x="760" y="67"/>
                  </a:lnTo>
                  <a:lnTo>
                    <a:pt x="756" y="65"/>
                  </a:lnTo>
                  <a:lnTo>
                    <a:pt x="756" y="59"/>
                  </a:lnTo>
                  <a:lnTo>
                    <a:pt x="748" y="55"/>
                  </a:lnTo>
                  <a:lnTo>
                    <a:pt x="740" y="49"/>
                  </a:lnTo>
                  <a:lnTo>
                    <a:pt x="729" y="47"/>
                  </a:lnTo>
                  <a:lnTo>
                    <a:pt x="721" y="45"/>
                  </a:lnTo>
                  <a:lnTo>
                    <a:pt x="709" y="43"/>
                  </a:lnTo>
                  <a:lnTo>
                    <a:pt x="699" y="43"/>
                  </a:lnTo>
                  <a:lnTo>
                    <a:pt x="689" y="43"/>
                  </a:lnTo>
                  <a:lnTo>
                    <a:pt x="679" y="43"/>
                  </a:lnTo>
                  <a:lnTo>
                    <a:pt x="679" y="39"/>
                  </a:lnTo>
                  <a:lnTo>
                    <a:pt x="677" y="39"/>
                  </a:lnTo>
                  <a:lnTo>
                    <a:pt x="673" y="37"/>
                  </a:lnTo>
                  <a:lnTo>
                    <a:pt x="671" y="35"/>
                  </a:lnTo>
                  <a:lnTo>
                    <a:pt x="673" y="33"/>
                  </a:lnTo>
                  <a:lnTo>
                    <a:pt x="675" y="27"/>
                  </a:lnTo>
                  <a:lnTo>
                    <a:pt x="677" y="27"/>
                  </a:lnTo>
                  <a:lnTo>
                    <a:pt x="677" y="22"/>
                  </a:lnTo>
                  <a:lnTo>
                    <a:pt x="671" y="20"/>
                  </a:lnTo>
                  <a:lnTo>
                    <a:pt x="667" y="18"/>
                  </a:lnTo>
                  <a:lnTo>
                    <a:pt x="657" y="14"/>
                  </a:lnTo>
                  <a:lnTo>
                    <a:pt x="653" y="8"/>
                  </a:lnTo>
                  <a:lnTo>
                    <a:pt x="643" y="4"/>
                  </a:lnTo>
                  <a:lnTo>
                    <a:pt x="637" y="0"/>
                  </a:lnTo>
                  <a:lnTo>
                    <a:pt x="631" y="0"/>
                  </a:lnTo>
                  <a:lnTo>
                    <a:pt x="622" y="0"/>
                  </a:lnTo>
                  <a:lnTo>
                    <a:pt x="616" y="4"/>
                  </a:lnTo>
                  <a:lnTo>
                    <a:pt x="606" y="4"/>
                  </a:lnTo>
                  <a:lnTo>
                    <a:pt x="594" y="6"/>
                  </a:lnTo>
                  <a:lnTo>
                    <a:pt x="584" y="8"/>
                  </a:lnTo>
                  <a:lnTo>
                    <a:pt x="574" y="8"/>
                  </a:lnTo>
                  <a:lnTo>
                    <a:pt x="566" y="10"/>
                  </a:lnTo>
                  <a:lnTo>
                    <a:pt x="556" y="12"/>
                  </a:lnTo>
                  <a:lnTo>
                    <a:pt x="550" y="14"/>
                  </a:lnTo>
                  <a:lnTo>
                    <a:pt x="538" y="16"/>
                  </a:lnTo>
                  <a:lnTo>
                    <a:pt x="523" y="16"/>
                  </a:lnTo>
                  <a:lnTo>
                    <a:pt x="509" y="18"/>
                  </a:lnTo>
                  <a:lnTo>
                    <a:pt x="491" y="18"/>
                  </a:lnTo>
                  <a:lnTo>
                    <a:pt x="475" y="18"/>
                  </a:lnTo>
                  <a:lnTo>
                    <a:pt x="463" y="16"/>
                  </a:lnTo>
                  <a:lnTo>
                    <a:pt x="449" y="16"/>
                  </a:lnTo>
                  <a:lnTo>
                    <a:pt x="435" y="14"/>
                  </a:lnTo>
                  <a:lnTo>
                    <a:pt x="422" y="12"/>
                  </a:lnTo>
                  <a:lnTo>
                    <a:pt x="414" y="16"/>
                  </a:lnTo>
                  <a:lnTo>
                    <a:pt x="408" y="22"/>
                  </a:lnTo>
                  <a:lnTo>
                    <a:pt x="408" y="35"/>
                  </a:lnTo>
                  <a:lnTo>
                    <a:pt x="400" y="35"/>
                  </a:lnTo>
                  <a:lnTo>
                    <a:pt x="396" y="37"/>
                  </a:lnTo>
                  <a:lnTo>
                    <a:pt x="386" y="37"/>
                  </a:lnTo>
                  <a:lnTo>
                    <a:pt x="380" y="39"/>
                  </a:lnTo>
                  <a:lnTo>
                    <a:pt x="370" y="39"/>
                  </a:lnTo>
                  <a:lnTo>
                    <a:pt x="364" y="41"/>
                  </a:lnTo>
                  <a:lnTo>
                    <a:pt x="356" y="43"/>
                  </a:lnTo>
                  <a:lnTo>
                    <a:pt x="350" y="43"/>
                  </a:lnTo>
                  <a:lnTo>
                    <a:pt x="348" y="47"/>
                  </a:lnTo>
                  <a:lnTo>
                    <a:pt x="344" y="55"/>
                  </a:lnTo>
                  <a:lnTo>
                    <a:pt x="334" y="59"/>
                  </a:lnTo>
                  <a:lnTo>
                    <a:pt x="328" y="63"/>
                  </a:lnTo>
                  <a:lnTo>
                    <a:pt x="317" y="65"/>
                  </a:lnTo>
                  <a:lnTo>
                    <a:pt x="311" y="69"/>
                  </a:lnTo>
                  <a:lnTo>
                    <a:pt x="303" y="69"/>
                  </a:lnTo>
                  <a:lnTo>
                    <a:pt x="297" y="69"/>
                  </a:lnTo>
                  <a:lnTo>
                    <a:pt x="293" y="73"/>
                  </a:lnTo>
                  <a:lnTo>
                    <a:pt x="287" y="79"/>
                  </a:lnTo>
                  <a:lnTo>
                    <a:pt x="283" y="83"/>
                  </a:lnTo>
                  <a:lnTo>
                    <a:pt x="277" y="87"/>
                  </a:lnTo>
                  <a:lnTo>
                    <a:pt x="269" y="91"/>
                  </a:lnTo>
                  <a:lnTo>
                    <a:pt x="263" y="93"/>
                  </a:lnTo>
                  <a:lnTo>
                    <a:pt x="257" y="95"/>
                  </a:lnTo>
                  <a:lnTo>
                    <a:pt x="249" y="95"/>
                  </a:lnTo>
                  <a:lnTo>
                    <a:pt x="247" y="99"/>
                  </a:lnTo>
                  <a:lnTo>
                    <a:pt x="243" y="101"/>
                  </a:lnTo>
                  <a:lnTo>
                    <a:pt x="239" y="103"/>
                  </a:lnTo>
                  <a:lnTo>
                    <a:pt x="229" y="103"/>
                  </a:lnTo>
                  <a:lnTo>
                    <a:pt x="220" y="103"/>
                  </a:lnTo>
                  <a:lnTo>
                    <a:pt x="214" y="105"/>
                  </a:lnTo>
                  <a:lnTo>
                    <a:pt x="210" y="105"/>
                  </a:lnTo>
                  <a:lnTo>
                    <a:pt x="206" y="105"/>
                  </a:lnTo>
                  <a:lnTo>
                    <a:pt x="200" y="107"/>
                  </a:lnTo>
                  <a:lnTo>
                    <a:pt x="194" y="111"/>
                  </a:lnTo>
                  <a:lnTo>
                    <a:pt x="186" y="117"/>
                  </a:lnTo>
                  <a:lnTo>
                    <a:pt x="182" y="119"/>
                  </a:lnTo>
                  <a:lnTo>
                    <a:pt x="182" y="127"/>
                  </a:lnTo>
                  <a:lnTo>
                    <a:pt x="180" y="128"/>
                  </a:lnTo>
                  <a:lnTo>
                    <a:pt x="174" y="130"/>
                  </a:lnTo>
                  <a:lnTo>
                    <a:pt x="172" y="130"/>
                  </a:lnTo>
                  <a:lnTo>
                    <a:pt x="170" y="134"/>
                  </a:lnTo>
                  <a:lnTo>
                    <a:pt x="166" y="134"/>
                  </a:lnTo>
                  <a:lnTo>
                    <a:pt x="164" y="148"/>
                  </a:lnTo>
                  <a:lnTo>
                    <a:pt x="156" y="156"/>
                  </a:lnTo>
                  <a:lnTo>
                    <a:pt x="142" y="160"/>
                  </a:lnTo>
                  <a:lnTo>
                    <a:pt x="130" y="164"/>
                  </a:lnTo>
                  <a:lnTo>
                    <a:pt x="117" y="170"/>
                  </a:lnTo>
                  <a:lnTo>
                    <a:pt x="107" y="176"/>
                  </a:lnTo>
                  <a:lnTo>
                    <a:pt x="97" y="184"/>
                  </a:lnTo>
                  <a:lnTo>
                    <a:pt x="95" y="198"/>
                  </a:lnTo>
                  <a:lnTo>
                    <a:pt x="87" y="198"/>
                  </a:lnTo>
                  <a:lnTo>
                    <a:pt x="79" y="198"/>
                  </a:lnTo>
                  <a:lnTo>
                    <a:pt x="73" y="204"/>
                  </a:lnTo>
                  <a:lnTo>
                    <a:pt x="69" y="208"/>
                  </a:lnTo>
                  <a:lnTo>
                    <a:pt x="61" y="212"/>
                  </a:lnTo>
                  <a:lnTo>
                    <a:pt x="55" y="214"/>
                  </a:lnTo>
                  <a:lnTo>
                    <a:pt x="49" y="218"/>
                  </a:lnTo>
                  <a:lnTo>
                    <a:pt x="39" y="218"/>
                  </a:lnTo>
                  <a:lnTo>
                    <a:pt x="39" y="226"/>
                  </a:lnTo>
                  <a:lnTo>
                    <a:pt x="39" y="234"/>
                  </a:lnTo>
                  <a:lnTo>
                    <a:pt x="35" y="241"/>
                  </a:lnTo>
                  <a:lnTo>
                    <a:pt x="35" y="247"/>
                  </a:lnTo>
                  <a:lnTo>
                    <a:pt x="29" y="247"/>
                  </a:lnTo>
                  <a:lnTo>
                    <a:pt x="25" y="257"/>
                  </a:lnTo>
                  <a:lnTo>
                    <a:pt x="16" y="267"/>
                  </a:lnTo>
                  <a:lnTo>
                    <a:pt x="12" y="277"/>
                  </a:lnTo>
                  <a:lnTo>
                    <a:pt x="8" y="285"/>
                  </a:lnTo>
                  <a:lnTo>
                    <a:pt x="8" y="289"/>
                  </a:lnTo>
                  <a:lnTo>
                    <a:pt x="6" y="289"/>
                  </a:lnTo>
                  <a:lnTo>
                    <a:pt x="4" y="291"/>
                  </a:lnTo>
                  <a:lnTo>
                    <a:pt x="0" y="293"/>
                  </a:lnTo>
                  <a:lnTo>
                    <a:pt x="2" y="297"/>
                  </a:lnTo>
                  <a:lnTo>
                    <a:pt x="4" y="303"/>
                  </a:lnTo>
                  <a:lnTo>
                    <a:pt x="4" y="307"/>
                  </a:lnTo>
                  <a:lnTo>
                    <a:pt x="8" y="309"/>
                  </a:lnTo>
                  <a:lnTo>
                    <a:pt x="8" y="319"/>
                  </a:lnTo>
                  <a:lnTo>
                    <a:pt x="8" y="329"/>
                  </a:lnTo>
                  <a:lnTo>
                    <a:pt x="8" y="340"/>
                  </a:lnTo>
                  <a:lnTo>
                    <a:pt x="8" y="346"/>
                  </a:lnTo>
                  <a:lnTo>
                    <a:pt x="16" y="346"/>
                  </a:lnTo>
                  <a:lnTo>
                    <a:pt x="21" y="352"/>
                  </a:lnTo>
                  <a:lnTo>
                    <a:pt x="29" y="356"/>
                  </a:lnTo>
                  <a:lnTo>
                    <a:pt x="39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317440" y="5418720"/>
              <a:ext cx="57600" cy="64080"/>
            </a:xfrm>
            <a:custGeom>
              <a:avLst/>
              <a:gdLst/>
              <a:ahLst/>
              <a:rect l="l" t="t" r="r" b="b"/>
              <a:pathLst>
                <a:path w="183" h="202">
                  <a:moveTo>
                    <a:pt x="0" y="0"/>
                  </a:moveTo>
                  <a:lnTo>
                    <a:pt x="12" y="6"/>
                  </a:lnTo>
                  <a:lnTo>
                    <a:pt x="26" y="15"/>
                  </a:lnTo>
                  <a:lnTo>
                    <a:pt x="40" y="23"/>
                  </a:lnTo>
                  <a:lnTo>
                    <a:pt x="54" y="33"/>
                  </a:lnTo>
                  <a:lnTo>
                    <a:pt x="68" y="41"/>
                  </a:lnTo>
                  <a:lnTo>
                    <a:pt x="80" y="51"/>
                  </a:lnTo>
                  <a:lnTo>
                    <a:pt x="92" y="59"/>
                  </a:lnTo>
                  <a:lnTo>
                    <a:pt x="103" y="73"/>
                  </a:lnTo>
                  <a:lnTo>
                    <a:pt x="109" y="81"/>
                  </a:lnTo>
                  <a:lnTo>
                    <a:pt x="115" y="89"/>
                  </a:lnTo>
                  <a:lnTo>
                    <a:pt x="123" y="101"/>
                  </a:lnTo>
                  <a:lnTo>
                    <a:pt x="127" y="111"/>
                  </a:lnTo>
                  <a:lnTo>
                    <a:pt x="135" y="120"/>
                  </a:lnTo>
                  <a:lnTo>
                    <a:pt x="139" y="130"/>
                  </a:lnTo>
                  <a:lnTo>
                    <a:pt x="145" y="142"/>
                  </a:lnTo>
                  <a:lnTo>
                    <a:pt x="149" y="152"/>
                  </a:lnTo>
                  <a:lnTo>
                    <a:pt x="159" y="164"/>
                  </a:lnTo>
                  <a:lnTo>
                    <a:pt x="169" y="176"/>
                  </a:lnTo>
                  <a:lnTo>
                    <a:pt x="175" y="190"/>
                  </a:lnTo>
                  <a:lnTo>
                    <a:pt x="183" y="20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222040" y="5414760"/>
              <a:ext cx="234360" cy="95040"/>
            </a:xfrm>
            <a:custGeom>
              <a:avLst/>
              <a:gdLst/>
              <a:ahLst/>
              <a:rect l="l" t="t" r="r" b="b"/>
              <a:pathLst>
                <a:path w="737" h="299">
                  <a:moveTo>
                    <a:pt x="0" y="0"/>
                  </a:moveTo>
                  <a:lnTo>
                    <a:pt x="14" y="6"/>
                  </a:lnTo>
                  <a:lnTo>
                    <a:pt x="24" y="12"/>
                  </a:lnTo>
                  <a:lnTo>
                    <a:pt x="36" y="18"/>
                  </a:lnTo>
                  <a:lnTo>
                    <a:pt x="48" y="23"/>
                  </a:lnTo>
                  <a:lnTo>
                    <a:pt x="58" y="33"/>
                  </a:lnTo>
                  <a:lnTo>
                    <a:pt x="70" y="39"/>
                  </a:lnTo>
                  <a:lnTo>
                    <a:pt x="84" y="43"/>
                  </a:lnTo>
                  <a:lnTo>
                    <a:pt x="94" y="49"/>
                  </a:lnTo>
                  <a:lnTo>
                    <a:pt x="111" y="59"/>
                  </a:lnTo>
                  <a:lnTo>
                    <a:pt x="131" y="67"/>
                  </a:lnTo>
                  <a:lnTo>
                    <a:pt x="147" y="75"/>
                  </a:lnTo>
                  <a:lnTo>
                    <a:pt x="167" y="81"/>
                  </a:lnTo>
                  <a:lnTo>
                    <a:pt x="181" y="91"/>
                  </a:lnTo>
                  <a:lnTo>
                    <a:pt x="200" y="99"/>
                  </a:lnTo>
                  <a:lnTo>
                    <a:pt x="218" y="105"/>
                  </a:lnTo>
                  <a:lnTo>
                    <a:pt x="234" y="111"/>
                  </a:lnTo>
                  <a:lnTo>
                    <a:pt x="254" y="121"/>
                  </a:lnTo>
                  <a:lnTo>
                    <a:pt x="272" y="126"/>
                  </a:lnTo>
                  <a:lnTo>
                    <a:pt x="290" y="132"/>
                  </a:lnTo>
                  <a:lnTo>
                    <a:pt x="305" y="138"/>
                  </a:lnTo>
                  <a:lnTo>
                    <a:pt x="323" y="148"/>
                  </a:lnTo>
                  <a:lnTo>
                    <a:pt x="341" y="154"/>
                  </a:lnTo>
                  <a:lnTo>
                    <a:pt x="359" y="160"/>
                  </a:lnTo>
                  <a:lnTo>
                    <a:pt x="377" y="166"/>
                  </a:lnTo>
                  <a:lnTo>
                    <a:pt x="395" y="174"/>
                  </a:lnTo>
                  <a:lnTo>
                    <a:pt x="412" y="182"/>
                  </a:lnTo>
                  <a:lnTo>
                    <a:pt x="432" y="190"/>
                  </a:lnTo>
                  <a:lnTo>
                    <a:pt x="450" y="196"/>
                  </a:lnTo>
                  <a:lnTo>
                    <a:pt x="470" y="206"/>
                  </a:lnTo>
                  <a:lnTo>
                    <a:pt x="490" y="212"/>
                  </a:lnTo>
                  <a:lnTo>
                    <a:pt x="505" y="218"/>
                  </a:lnTo>
                  <a:lnTo>
                    <a:pt x="525" y="226"/>
                  </a:lnTo>
                  <a:lnTo>
                    <a:pt x="537" y="229"/>
                  </a:lnTo>
                  <a:lnTo>
                    <a:pt x="551" y="235"/>
                  </a:lnTo>
                  <a:lnTo>
                    <a:pt x="563" y="241"/>
                  </a:lnTo>
                  <a:lnTo>
                    <a:pt x="577" y="247"/>
                  </a:lnTo>
                  <a:lnTo>
                    <a:pt x="589" y="251"/>
                  </a:lnTo>
                  <a:lnTo>
                    <a:pt x="602" y="257"/>
                  </a:lnTo>
                  <a:lnTo>
                    <a:pt x="616" y="263"/>
                  </a:lnTo>
                  <a:lnTo>
                    <a:pt x="630" y="269"/>
                  </a:lnTo>
                  <a:lnTo>
                    <a:pt x="638" y="273"/>
                  </a:lnTo>
                  <a:lnTo>
                    <a:pt x="646" y="275"/>
                  </a:lnTo>
                  <a:lnTo>
                    <a:pt x="654" y="281"/>
                  </a:lnTo>
                  <a:lnTo>
                    <a:pt x="664" y="283"/>
                  </a:lnTo>
                  <a:lnTo>
                    <a:pt x="672" y="289"/>
                  </a:lnTo>
                  <a:lnTo>
                    <a:pt x="682" y="291"/>
                  </a:lnTo>
                  <a:lnTo>
                    <a:pt x="694" y="297"/>
                  </a:lnTo>
                  <a:lnTo>
                    <a:pt x="702" y="299"/>
                  </a:lnTo>
                  <a:lnTo>
                    <a:pt x="707" y="299"/>
                  </a:lnTo>
                  <a:lnTo>
                    <a:pt x="717" y="297"/>
                  </a:lnTo>
                  <a:lnTo>
                    <a:pt x="727" y="297"/>
                  </a:lnTo>
                  <a:lnTo>
                    <a:pt x="737" y="29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353800" y="5406840"/>
              <a:ext cx="140760" cy="100800"/>
            </a:xfrm>
            <a:custGeom>
              <a:avLst/>
              <a:gdLst/>
              <a:ahLst/>
              <a:rect l="l" t="t" r="r" b="b"/>
              <a:pathLst>
                <a:path w="444" h="317">
                  <a:moveTo>
                    <a:pt x="266" y="317"/>
                  </a:moveTo>
                  <a:lnTo>
                    <a:pt x="262" y="315"/>
                  </a:lnTo>
                  <a:lnTo>
                    <a:pt x="254" y="311"/>
                  </a:lnTo>
                  <a:lnTo>
                    <a:pt x="248" y="309"/>
                  </a:lnTo>
                  <a:lnTo>
                    <a:pt x="244" y="307"/>
                  </a:lnTo>
                  <a:lnTo>
                    <a:pt x="236" y="305"/>
                  </a:lnTo>
                  <a:lnTo>
                    <a:pt x="230" y="301"/>
                  </a:lnTo>
                  <a:lnTo>
                    <a:pt x="224" y="299"/>
                  </a:lnTo>
                  <a:lnTo>
                    <a:pt x="218" y="295"/>
                  </a:lnTo>
                  <a:lnTo>
                    <a:pt x="210" y="291"/>
                  </a:lnTo>
                  <a:lnTo>
                    <a:pt x="204" y="289"/>
                  </a:lnTo>
                  <a:lnTo>
                    <a:pt x="198" y="287"/>
                  </a:lnTo>
                  <a:lnTo>
                    <a:pt x="190" y="283"/>
                  </a:lnTo>
                  <a:lnTo>
                    <a:pt x="183" y="281"/>
                  </a:lnTo>
                  <a:lnTo>
                    <a:pt x="177" y="277"/>
                  </a:lnTo>
                  <a:lnTo>
                    <a:pt x="169" y="275"/>
                  </a:lnTo>
                  <a:lnTo>
                    <a:pt x="161" y="271"/>
                  </a:lnTo>
                  <a:lnTo>
                    <a:pt x="149" y="267"/>
                  </a:lnTo>
                  <a:lnTo>
                    <a:pt x="141" y="261"/>
                  </a:lnTo>
                  <a:lnTo>
                    <a:pt x="127" y="257"/>
                  </a:lnTo>
                  <a:lnTo>
                    <a:pt x="115" y="254"/>
                  </a:lnTo>
                  <a:lnTo>
                    <a:pt x="103" y="252"/>
                  </a:lnTo>
                  <a:lnTo>
                    <a:pt x="93" y="248"/>
                  </a:lnTo>
                  <a:lnTo>
                    <a:pt x="82" y="244"/>
                  </a:lnTo>
                  <a:lnTo>
                    <a:pt x="68" y="240"/>
                  </a:lnTo>
                  <a:lnTo>
                    <a:pt x="62" y="226"/>
                  </a:lnTo>
                  <a:lnTo>
                    <a:pt x="54" y="212"/>
                  </a:lnTo>
                  <a:lnTo>
                    <a:pt x="44" y="198"/>
                  </a:lnTo>
                  <a:lnTo>
                    <a:pt x="36" y="184"/>
                  </a:lnTo>
                  <a:lnTo>
                    <a:pt x="28" y="168"/>
                  </a:lnTo>
                  <a:lnTo>
                    <a:pt x="20" y="152"/>
                  </a:lnTo>
                  <a:lnTo>
                    <a:pt x="10" y="137"/>
                  </a:lnTo>
                  <a:lnTo>
                    <a:pt x="0" y="119"/>
                  </a:lnTo>
                  <a:lnTo>
                    <a:pt x="12" y="115"/>
                  </a:lnTo>
                  <a:lnTo>
                    <a:pt x="24" y="109"/>
                  </a:lnTo>
                  <a:lnTo>
                    <a:pt x="34" y="105"/>
                  </a:lnTo>
                  <a:lnTo>
                    <a:pt x="44" y="97"/>
                  </a:lnTo>
                  <a:lnTo>
                    <a:pt x="54" y="91"/>
                  </a:lnTo>
                  <a:lnTo>
                    <a:pt x="60" y="87"/>
                  </a:lnTo>
                  <a:lnTo>
                    <a:pt x="66" y="79"/>
                  </a:lnTo>
                  <a:lnTo>
                    <a:pt x="74" y="75"/>
                  </a:lnTo>
                  <a:lnTo>
                    <a:pt x="82" y="69"/>
                  </a:lnTo>
                  <a:lnTo>
                    <a:pt x="87" y="63"/>
                  </a:lnTo>
                  <a:lnTo>
                    <a:pt x="95" y="55"/>
                  </a:lnTo>
                  <a:lnTo>
                    <a:pt x="103" y="51"/>
                  </a:lnTo>
                  <a:lnTo>
                    <a:pt x="111" y="49"/>
                  </a:lnTo>
                  <a:lnTo>
                    <a:pt x="119" y="47"/>
                  </a:lnTo>
                  <a:lnTo>
                    <a:pt x="129" y="44"/>
                  </a:lnTo>
                  <a:lnTo>
                    <a:pt x="137" y="42"/>
                  </a:lnTo>
                  <a:lnTo>
                    <a:pt x="145" y="40"/>
                  </a:lnTo>
                  <a:lnTo>
                    <a:pt x="153" y="36"/>
                  </a:lnTo>
                  <a:lnTo>
                    <a:pt x="163" y="32"/>
                  </a:lnTo>
                  <a:lnTo>
                    <a:pt x="169" y="30"/>
                  </a:lnTo>
                  <a:lnTo>
                    <a:pt x="177" y="26"/>
                  </a:lnTo>
                  <a:lnTo>
                    <a:pt x="187" y="22"/>
                  </a:lnTo>
                  <a:lnTo>
                    <a:pt x="196" y="20"/>
                  </a:lnTo>
                  <a:lnTo>
                    <a:pt x="204" y="16"/>
                  </a:lnTo>
                  <a:lnTo>
                    <a:pt x="214" y="14"/>
                  </a:lnTo>
                  <a:lnTo>
                    <a:pt x="222" y="10"/>
                  </a:lnTo>
                  <a:lnTo>
                    <a:pt x="232" y="4"/>
                  </a:lnTo>
                  <a:lnTo>
                    <a:pt x="240" y="0"/>
                  </a:lnTo>
                  <a:lnTo>
                    <a:pt x="248" y="4"/>
                  </a:lnTo>
                  <a:lnTo>
                    <a:pt x="254" y="12"/>
                  </a:lnTo>
                  <a:lnTo>
                    <a:pt x="262" y="18"/>
                  </a:lnTo>
                  <a:lnTo>
                    <a:pt x="268" y="22"/>
                  </a:lnTo>
                  <a:lnTo>
                    <a:pt x="274" y="28"/>
                  </a:lnTo>
                  <a:lnTo>
                    <a:pt x="282" y="32"/>
                  </a:lnTo>
                  <a:lnTo>
                    <a:pt x="288" y="36"/>
                  </a:lnTo>
                  <a:lnTo>
                    <a:pt x="297" y="42"/>
                  </a:lnTo>
                  <a:lnTo>
                    <a:pt x="303" y="44"/>
                  </a:lnTo>
                  <a:lnTo>
                    <a:pt x="311" y="47"/>
                  </a:lnTo>
                  <a:lnTo>
                    <a:pt x="319" y="47"/>
                  </a:lnTo>
                  <a:lnTo>
                    <a:pt x="327" y="49"/>
                  </a:lnTo>
                  <a:lnTo>
                    <a:pt x="339" y="51"/>
                  </a:lnTo>
                  <a:lnTo>
                    <a:pt x="349" y="51"/>
                  </a:lnTo>
                  <a:lnTo>
                    <a:pt x="357" y="53"/>
                  </a:lnTo>
                  <a:lnTo>
                    <a:pt x="367" y="55"/>
                  </a:lnTo>
                  <a:lnTo>
                    <a:pt x="375" y="55"/>
                  </a:lnTo>
                  <a:lnTo>
                    <a:pt x="385" y="57"/>
                  </a:lnTo>
                  <a:lnTo>
                    <a:pt x="392" y="59"/>
                  </a:lnTo>
                  <a:lnTo>
                    <a:pt x="402" y="59"/>
                  </a:lnTo>
                  <a:lnTo>
                    <a:pt x="412" y="59"/>
                  </a:lnTo>
                  <a:lnTo>
                    <a:pt x="422" y="63"/>
                  </a:lnTo>
                  <a:lnTo>
                    <a:pt x="434" y="63"/>
                  </a:lnTo>
                  <a:lnTo>
                    <a:pt x="444" y="63"/>
                  </a:lnTo>
                  <a:lnTo>
                    <a:pt x="440" y="91"/>
                  </a:lnTo>
                  <a:lnTo>
                    <a:pt x="440" y="119"/>
                  </a:lnTo>
                  <a:lnTo>
                    <a:pt x="436" y="145"/>
                  </a:lnTo>
                  <a:lnTo>
                    <a:pt x="432" y="170"/>
                  </a:lnTo>
                  <a:lnTo>
                    <a:pt x="424" y="188"/>
                  </a:lnTo>
                  <a:lnTo>
                    <a:pt x="412" y="206"/>
                  </a:lnTo>
                  <a:lnTo>
                    <a:pt x="400" y="222"/>
                  </a:lnTo>
                  <a:lnTo>
                    <a:pt x="389" y="236"/>
                  </a:lnTo>
                  <a:lnTo>
                    <a:pt x="379" y="248"/>
                  </a:lnTo>
                  <a:lnTo>
                    <a:pt x="369" y="257"/>
                  </a:lnTo>
                  <a:lnTo>
                    <a:pt x="357" y="267"/>
                  </a:lnTo>
                  <a:lnTo>
                    <a:pt x="345" y="275"/>
                  </a:lnTo>
                  <a:lnTo>
                    <a:pt x="335" y="279"/>
                  </a:lnTo>
                  <a:lnTo>
                    <a:pt x="325" y="285"/>
                  </a:lnTo>
                  <a:lnTo>
                    <a:pt x="317" y="291"/>
                  </a:lnTo>
                  <a:lnTo>
                    <a:pt x="305" y="295"/>
                  </a:lnTo>
                  <a:lnTo>
                    <a:pt x="297" y="303"/>
                  </a:lnTo>
                  <a:lnTo>
                    <a:pt x="286" y="309"/>
                  </a:lnTo>
                  <a:lnTo>
                    <a:pt x="278" y="311"/>
                  </a:lnTo>
                  <a:lnTo>
                    <a:pt x="266" y="317"/>
                  </a:lnTo>
                  <a:close/>
                </a:path>
              </a:pathLst>
            </a:custGeom>
            <a:solidFill>
              <a:srgbClr val="ffe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353800" y="5406840"/>
              <a:ext cx="140760" cy="100800"/>
            </a:xfrm>
            <a:custGeom>
              <a:avLst/>
              <a:gdLst/>
              <a:ahLst/>
              <a:rect l="l" t="t" r="r" b="b"/>
              <a:pathLst>
                <a:path w="444" h="317">
                  <a:moveTo>
                    <a:pt x="266" y="317"/>
                  </a:moveTo>
                  <a:lnTo>
                    <a:pt x="262" y="315"/>
                  </a:lnTo>
                  <a:lnTo>
                    <a:pt x="254" y="311"/>
                  </a:lnTo>
                  <a:lnTo>
                    <a:pt x="248" y="309"/>
                  </a:lnTo>
                  <a:lnTo>
                    <a:pt x="244" y="307"/>
                  </a:lnTo>
                  <a:lnTo>
                    <a:pt x="236" y="305"/>
                  </a:lnTo>
                  <a:lnTo>
                    <a:pt x="230" y="301"/>
                  </a:lnTo>
                  <a:lnTo>
                    <a:pt x="224" y="299"/>
                  </a:lnTo>
                  <a:lnTo>
                    <a:pt x="218" y="295"/>
                  </a:lnTo>
                  <a:lnTo>
                    <a:pt x="210" y="291"/>
                  </a:lnTo>
                  <a:lnTo>
                    <a:pt x="204" y="289"/>
                  </a:lnTo>
                  <a:lnTo>
                    <a:pt x="198" y="287"/>
                  </a:lnTo>
                  <a:lnTo>
                    <a:pt x="190" y="283"/>
                  </a:lnTo>
                  <a:lnTo>
                    <a:pt x="183" y="281"/>
                  </a:lnTo>
                  <a:lnTo>
                    <a:pt x="177" y="277"/>
                  </a:lnTo>
                  <a:lnTo>
                    <a:pt x="169" y="275"/>
                  </a:lnTo>
                  <a:lnTo>
                    <a:pt x="161" y="271"/>
                  </a:lnTo>
                  <a:lnTo>
                    <a:pt x="149" y="267"/>
                  </a:lnTo>
                  <a:lnTo>
                    <a:pt x="141" y="261"/>
                  </a:lnTo>
                  <a:lnTo>
                    <a:pt x="127" y="257"/>
                  </a:lnTo>
                  <a:lnTo>
                    <a:pt x="115" y="254"/>
                  </a:lnTo>
                  <a:lnTo>
                    <a:pt x="103" y="252"/>
                  </a:lnTo>
                  <a:lnTo>
                    <a:pt x="93" y="248"/>
                  </a:lnTo>
                  <a:lnTo>
                    <a:pt x="82" y="244"/>
                  </a:lnTo>
                  <a:lnTo>
                    <a:pt x="68" y="240"/>
                  </a:lnTo>
                  <a:lnTo>
                    <a:pt x="62" y="226"/>
                  </a:lnTo>
                  <a:lnTo>
                    <a:pt x="54" y="212"/>
                  </a:lnTo>
                  <a:lnTo>
                    <a:pt x="44" y="198"/>
                  </a:lnTo>
                  <a:lnTo>
                    <a:pt x="36" y="184"/>
                  </a:lnTo>
                  <a:lnTo>
                    <a:pt x="28" y="168"/>
                  </a:lnTo>
                  <a:lnTo>
                    <a:pt x="20" y="152"/>
                  </a:lnTo>
                  <a:lnTo>
                    <a:pt x="10" y="137"/>
                  </a:lnTo>
                  <a:lnTo>
                    <a:pt x="0" y="119"/>
                  </a:lnTo>
                  <a:lnTo>
                    <a:pt x="12" y="115"/>
                  </a:lnTo>
                  <a:lnTo>
                    <a:pt x="24" y="109"/>
                  </a:lnTo>
                  <a:lnTo>
                    <a:pt x="34" y="105"/>
                  </a:lnTo>
                  <a:lnTo>
                    <a:pt x="44" y="97"/>
                  </a:lnTo>
                  <a:lnTo>
                    <a:pt x="54" y="91"/>
                  </a:lnTo>
                  <a:lnTo>
                    <a:pt x="60" y="87"/>
                  </a:lnTo>
                  <a:lnTo>
                    <a:pt x="66" y="79"/>
                  </a:lnTo>
                  <a:lnTo>
                    <a:pt x="74" y="75"/>
                  </a:lnTo>
                  <a:lnTo>
                    <a:pt x="82" y="69"/>
                  </a:lnTo>
                  <a:lnTo>
                    <a:pt x="87" y="63"/>
                  </a:lnTo>
                  <a:lnTo>
                    <a:pt x="95" y="55"/>
                  </a:lnTo>
                  <a:lnTo>
                    <a:pt x="103" y="51"/>
                  </a:lnTo>
                  <a:lnTo>
                    <a:pt x="111" y="49"/>
                  </a:lnTo>
                  <a:lnTo>
                    <a:pt x="119" y="47"/>
                  </a:lnTo>
                  <a:lnTo>
                    <a:pt x="129" y="44"/>
                  </a:lnTo>
                  <a:lnTo>
                    <a:pt x="137" y="42"/>
                  </a:lnTo>
                  <a:lnTo>
                    <a:pt x="145" y="40"/>
                  </a:lnTo>
                  <a:lnTo>
                    <a:pt x="153" y="36"/>
                  </a:lnTo>
                  <a:lnTo>
                    <a:pt x="163" y="32"/>
                  </a:lnTo>
                  <a:lnTo>
                    <a:pt x="169" y="30"/>
                  </a:lnTo>
                  <a:lnTo>
                    <a:pt x="177" y="26"/>
                  </a:lnTo>
                  <a:lnTo>
                    <a:pt x="187" y="22"/>
                  </a:lnTo>
                  <a:lnTo>
                    <a:pt x="196" y="20"/>
                  </a:lnTo>
                  <a:lnTo>
                    <a:pt x="204" y="16"/>
                  </a:lnTo>
                  <a:lnTo>
                    <a:pt x="214" y="14"/>
                  </a:lnTo>
                  <a:lnTo>
                    <a:pt x="222" y="10"/>
                  </a:lnTo>
                  <a:lnTo>
                    <a:pt x="232" y="4"/>
                  </a:lnTo>
                  <a:lnTo>
                    <a:pt x="240" y="0"/>
                  </a:lnTo>
                  <a:lnTo>
                    <a:pt x="248" y="4"/>
                  </a:lnTo>
                  <a:lnTo>
                    <a:pt x="254" y="12"/>
                  </a:lnTo>
                  <a:lnTo>
                    <a:pt x="262" y="18"/>
                  </a:lnTo>
                  <a:lnTo>
                    <a:pt x="268" y="22"/>
                  </a:lnTo>
                  <a:lnTo>
                    <a:pt x="274" y="28"/>
                  </a:lnTo>
                  <a:lnTo>
                    <a:pt x="282" y="32"/>
                  </a:lnTo>
                  <a:lnTo>
                    <a:pt x="288" y="36"/>
                  </a:lnTo>
                  <a:lnTo>
                    <a:pt x="297" y="42"/>
                  </a:lnTo>
                  <a:lnTo>
                    <a:pt x="303" y="44"/>
                  </a:lnTo>
                  <a:lnTo>
                    <a:pt x="311" y="47"/>
                  </a:lnTo>
                  <a:lnTo>
                    <a:pt x="319" y="47"/>
                  </a:lnTo>
                  <a:lnTo>
                    <a:pt x="327" y="49"/>
                  </a:lnTo>
                  <a:lnTo>
                    <a:pt x="339" y="51"/>
                  </a:lnTo>
                  <a:lnTo>
                    <a:pt x="349" y="51"/>
                  </a:lnTo>
                  <a:lnTo>
                    <a:pt x="357" y="53"/>
                  </a:lnTo>
                  <a:lnTo>
                    <a:pt x="367" y="55"/>
                  </a:lnTo>
                  <a:lnTo>
                    <a:pt x="375" y="55"/>
                  </a:lnTo>
                  <a:lnTo>
                    <a:pt x="385" y="57"/>
                  </a:lnTo>
                  <a:lnTo>
                    <a:pt x="392" y="59"/>
                  </a:lnTo>
                  <a:lnTo>
                    <a:pt x="402" y="59"/>
                  </a:lnTo>
                  <a:lnTo>
                    <a:pt x="412" y="59"/>
                  </a:lnTo>
                  <a:lnTo>
                    <a:pt x="422" y="63"/>
                  </a:lnTo>
                  <a:lnTo>
                    <a:pt x="434" y="63"/>
                  </a:lnTo>
                  <a:lnTo>
                    <a:pt x="444" y="63"/>
                  </a:lnTo>
                  <a:lnTo>
                    <a:pt x="440" y="91"/>
                  </a:lnTo>
                  <a:lnTo>
                    <a:pt x="440" y="119"/>
                  </a:lnTo>
                  <a:lnTo>
                    <a:pt x="436" y="145"/>
                  </a:lnTo>
                  <a:lnTo>
                    <a:pt x="432" y="170"/>
                  </a:lnTo>
                  <a:lnTo>
                    <a:pt x="424" y="188"/>
                  </a:lnTo>
                  <a:lnTo>
                    <a:pt x="412" y="206"/>
                  </a:lnTo>
                  <a:lnTo>
                    <a:pt x="400" y="222"/>
                  </a:lnTo>
                  <a:lnTo>
                    <a:pt x="389" y="236"/>
                  </a:lnTo>
                  <a:lnTo>
                    <a:pt x="379" y="248"/>
                  </a:lnTo>
                  <a:lnTo>
                    <a:pt x="369" y="257"/>
                  </a:lnTo>
                  <a:lnTo>
                    <a:pt x="357" y="267"/>
                  </a:lnTo>
                  <a:lnTo>
                    <a:pt x="345" y="275"/>
                  </a:lnTo>
                  <a:lnTo>
                    <a:pt x="335" y="279"/>
                  </a:lnTo>
                  <a:lnTo>
                    <a:pt x="325" y="285"/>
                  </a:lnTo>
                  <a:lnTo>
                    <a:pt x="317" y="291"/>
                  </a:lnTo>
                  <a:lnTo>
                    <a:pt x="305" y="295"/>
                  </a:lnTo>
                  <a:lnTo>
                    <a:pt x="297" y="303"/>
                  </a:lnTo>
                  <a:lnTo>
                    <a:pt x="286" y="309"/>
                  </a:lnTo>
                  <a:lnTo>
                    <a:pt x="278" y="311"/>
                  </a:lnTo>
                  <a:lnTo>
                    <a:pt x="266" y="317"/>
                  </a:lnTo>
                  <a:lnTo>
                    <a:pt x="266" y="3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495280" y="5308920"/>
              <a:ext cx="61200" cy="118080"/>
            </a:xfrm>
            <a:custGeom>
              <a:avLst/>
              <a:gdLst/>
              <a:ahLst/>
              <a:rect l="l" t="t" r="r" b="b"/>
              <a:pathLst>
                <a:path w="194" h="372">
                  <a:moveTo>
                    <a:pt x="0" y="370"/>
                  </a:moveTo>
                  <a:lnTo>
                    <a:pt x="6" y="370"/>
                  </a:lnTo>
                  <a:lnTo>
                    <a:pt x="10" y="370"/>
                  </a:lnTo>
                  <a:lnTo>
                    <a:pt x="16" y="370"/>
                  </a:lnTo>
                  <a:lnTo>
                    <a:pt x="22" y="372"/>
                  </a:lnTo>
                  <a:lnTo>
                    <a:pt x="30" y="372"/>
                  </a:lnTo>
                  <a:lnTo>
                    <a:pt x="34" y="372"/>
                  </a:lnTo>
                  <a:lnTo>
                    <a:pt x="40" y="372"/>
                  </a:lnTo>
                  <a:lnTo>
                    <a:pt x="44" y="372"/>
                  </a:lnTo>
                  <a:lnTo>
                    <a:pt x="49" y="364"/>
                  </a:lnTo>
                  <a:lnTo>
                    <a:pt x="55" y="356"/>
                  </a:lnTo>
                  <a:lnTo>
                    <a:pt x="59" y="349"/>
                  </a:lnTo>
                  <a:lnTo>
                    <a:pt x="63" y="339"/>
                  </a:lnTo>
                  <a:lnTo>
                    <a:pt x="67" y="317"/>
                  </a:lnTo>
                  <a:lnTo>
                    <a:pt x="75" y="301"/>
                  </a:lnTo>
                  <a:lnTo>
                    <a:pt x="85" y="281"/>
                  </a:lnTo>
                  <a:lnTo>
                    <a:pt x="91" y="261"/>
                  </a:lnTo>
                  <a:lnTo>
                    <a:pt x="97" y="240"/>
                  </a:lnTo>
                  <a:lnTo>
                    <a:pt x="105" y="216"/>
                  </a:lnTo>
                  <a:lnTo>
                    <a:pt x="117" y="194"/>
                  </a:lnTo>
                  <a:lnTo>
                    <a:pt x="127" y="172"/>
                  </a:lnTo>
                  <a:lnTo>
                    <a:pt x="137" y="146"/>
                  </a:lnTo>
                  <a:lnTo>
                    <a:pt x="141" y="127"/>
                  </a:lnTo>
                  <a:lnTo>
                    <a:pt x="145" y="103"/>
                  </a:lnTo>
                  <a:lnTo>
                    <a:pt x="154" y="79"/>
                  </a:ln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8427600" y="5205240"/>
              <a:ext cx="110160" cy="133200"/>
            </a:xfrm>
            <a:custGeom>
              <a:avLst/>
              <a:gdLst/>
              <a:ahLst/>
              <a:rect l="l" t="t" r="r" b="b"/>
              <a:pathLst>
                <a:path w="349" h="420">
                  <a:moveTo>
                    <a:pt x="0" y="420"/>
                  </a:moveTo>
                  <a:lnTo>
                    <a:pt x="6" y="400"/>
                  </a:lnTo>
                  <a:lnTo>
                    <a:pt x="12" y="372"/>
                  </a:lnTo>
                  <a:lnTo>
                    <a:pt x="20" y="347"/>
                  </a:lnTo>
                  <a:lnTo>
                    <a:pt x="28" y="327"/>
                  </a:lnTo>
                  <a:lnTo>
                    <a:pt x="38" y="301"/>
                  </a:lnTo>
                  <a:lnTo>
                    <a:pt x="42" y="273"/>
                  </a:lnTo>
                  <a:lnTo>
                    <a:pt x="46" y="246"/>
                  </a:lnTo>
                  <a:lnTo>
                    <a:pt x="56" y="224"/>
                  </a:lnTo>
                  <a:lnTo>
                    <a:pt x="57" y="206"/>
                  </a:lnTo>
                  <a:lnTo>
                    <a:pt x="59" y="186"/>
                  </a:lnTo>
                  <a:lnTo>
                    <a:pt x="61" y="168"/>
                  </a:lnTo>
                  <a:lnTo>
                    <a:pt x="65" y="152"/>
                  </a:lnTo>
                  <a:lnTo>
                    <a:pt x="71" y="143"/>
                  </a:lnTo>
                  <a:lnTo>
                    <a:pt x="77" y="139"/>
                  </a:lnTo>
                  <a:lnTo>
                    <a:pt x="83" y="135"/>
                  </a:lnTo>
                  <a:lnTo>
                    <a:pt x="89" y="133"/>
                  </a:lnTo>
                  <a:lnTo>
                    <a:pt x="97" y="131"/>
                  </a:lnTo>
                  <a:lnTo>
                    <a:pt x="107" y="129"/>
                  </a:lnTo>
                  <a:lnTo>
                    <a:pt x="117" y="127"/>
                  </a:lnTo>
                  <a:lnTo>
                    <a:pt x="125" y="125"/>
                  </a:lnTo>
                  <a:lnTo>
                    <a:pt x="133" y="121"/>
                  </a:lnTo>
                  <a:lnTo>
                    <a:pt x="143" y="111"/>
                  </a:lnTo>
                  <a:lnTo>
                    <a:pt x="153" y="107"/>
                  </a:lnTo>
                  <a:lnTo>
                    <a:pt x="158" y="99"/>
                  </a:lnTo>
                  <a:lnTo>
                    <a:pt x="164" y="93"/>
                  </a:lnTo>
                  <a:lnTo>
                    <a:pt x="172" y="87"/>
                  </a:lnTo>
                  <a:lnTo>
                    <a:pt x="180" y="77"/>
                  </a:lnTo>
                  <a:lnTo>
                    <a:pt x="190" y="73"/>
                  </a:lnTo>
                  <a:lnTo>
                    <a:pt x="198" y="67"/>
                  </a:lnTo>
                  <a:lnTo>
                    <a:pt x="212" y="61"/>
                  </a:lnTo>
                  <a:lnTo>
                    <a:pt x="220" y="51"/>
                  </a:lnTo>
                  <a:lnTo>
                    <a:pt x="232" y="45"/>
                  </a:lnTo>
                  <a:lnTo>
                    <a:pt x="244" y="38"/>
                  </a:lnTo>
                  <a:lnTo>
                    <a:pt x="254" y="34"/>
                  </a:lnTo>
                  <a:lnTo>
                    <a:pt x="263" y="24"/>
                  </a:lnTo>
                  <a:lnTo>
                    <a:pt x="277" y="20"/>
                  </a:lnTo>
                  <a:lnTo>
                    <a:pt x="287" y="18"/>
                  </a:lnTo>
                  <a:lnTo>
                    <a:pt x="295" y="16"/>
                  </a:lnTo>
                  <a:lnTo>
                    <a:pt x="303" y="12"/>
                  </a:lnTo>
                  <a:lnTo>
                    <a:pt x="313" y="12"/>
                  </a:lnTo>
                  <a:lnTo>
                    <a:pt x="321" y="8"/>
                  </a:lnTo>
                  <a:lnTo>
                    <a:pt x="331" y="6"/>
                  </a:lnTo>
                  <a:lnTo>
                    <a:pt x="341" y="4"/>
                  </a:lnTo>
                  <a:lnTo>
                    <a:pt x="34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8452080" y="5245920"/>
              <a:ext cx="5040" cy="180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0" y="0"/>
                  </a:moveTo>
                  <a:lnTo>
                    <a:pt x="6" y="4"/>
                  </a:lnTo>
                  <a:lnTo>
                    <a:pt x="8" y="6"/>
                  </a:lnTo>
                  <a:lnTo>
                    <a:pt x="12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433720" y="5226480"/>
              <a:ext cx="23400" cy="21600"/>
            </a:xfrm>
            <a:custGeom>
              <a:avLst/>
              <a:gdLst/>
              <a:ahLst/>
              <a:rect l="l" t="t" r="r" b="b"/>
              <a:pathLst>
                <a:path w="73" h="68">
                  <a:moveTo>
                    <a:pt x="0" y="8"/>
                  </a:moveTo>
                  <a:lnTo>
                    <a:pt x="6" y="16"/>
                  </a:lnTo>
                  <a:lnTo>
                    <a:pt x="18" y="26"/>
                  </a:lnTo>
                  <a:lnTo>
                    <a:pt x="26" y="32"/>
                  </a:lnTo>
                  <a:lnTo>
                    <a:pt x="36" y="40"/>
                  </a:lnTo>
                  <a:lnTo>
                    <a:pt x="43" y="46"/>
                  </a:lnTo>
                  <a:lnTo>
                    <a:pt x="49" y="54"/>
                  </a:lnTo>
                  <a:lnTo>
                    <a:pt x="57" y="62"/>
                  </a:lnTo>
                  <a:lnTo>
                    <a:pt x="57" y="68"/>
                  </a:lnTo>
                  <a:lnTo>
                    <a:pt x="73" y="66"/>
                  </a:lnTo>
                  <a:lnTo>
                    <a:pt x="69" y="56"/>
                  </a:lnTo>
                  <a:lnTo>
                    <a:pt x="61" y="44"/>
                  </a:lnTo>
                  <a:lnTo>
                    <a:pt x="53" y="38"/>
                  </a:lnTo>
                  <a:lnTo>
                    <a:pt x="43" y="28"/>
                  </a:lnTo>
                  <a:lnTo>
                    <a:pt x="36" y="22"/>
                  </a:lnTo>
                  <a:lnTo>
                    <a:pt x="26" y="16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411040" y="5197680"/>
              <a:ext cx="27360" cy="3024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0" y="8"/>
                  </a:moveTo>
                  <a:lnTo>
                    <a:pt x="11" y="26"/>
                  </a:lnTo>
                  <a:lnTo>
                    <a:pt x="23" y="40"/>
                  </a:lnTo>
                  <a:lnTo>
                    <a:pt x="33" y="48"/>
                  </a:lnTo>
                  <a:lnTo>
                    <a:pt x="41" y="60"/>
                  </a:lnTo>
                  <a:lnTo>
                    <a:pt x="49" y="70"/>
                  </a:lnTo>
                  <a:lnTo>
                    <a:pt x="57" y="77"/>
                  </a:lnTo>
                  <a:lnTo>
                    <a:pt x="63" y="87"/>
                  </a:lnTo>
                  <a:lnTo>
                    <a:pt x="71" y="97"/>
                  </a:lnTo>
                  <a:lnTo>
                    <a:pt x="85" y="89"/>
                  </a:lnTo>
                  <a:lnTo>
                    <a:pt x="75" y="77"/>
                  </a:lnTo>
                  <a:lnTo>
                    <a:pt x="69" y="71"/>
                  </a:lnTo>
                  <a:lnTo>
                    <a:pt x="63" y="62"/>
                  </a:lnTo>
                  <a:lnTo>
                    <a:pt x="53" y="50"/>
                  </a:lnTo>
                  <a:lnTo>
                    <a:pt x="43" y="40"/>
                  </a:lnTo>
                  <a:lnTo>
                    <a:pt x="33" y="30"/>
                  </a:lnTo>
                  <a:lnTo>
                    <a:pt x="25" y="18"/>
                  </a:lnTo>
                  <a:lnTo>
                    <a:pt x="11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382240" y="5177520"/>
              <a:ext cx="31680" cy="21960"/>
            </a:xfrm>
            <a:custGeom>
              <a:avLst/>
              <a:gdLst/>
              <a:ahLst/>
              <a:rect l="l" t="t" r="r" b="b"/>
              <a:pathLst>
                <a:path w="101" h="69">
                  <a:moveTo>
                    <a:pt x="0" y="8"/>
                  </a:moveTo>
                  <a:lnTo>
                    <a:pt x="10" y="16"/>
                  </a:lnTo>
                  <a:lnTo>
                    <a:pt x="22" y="24"/>
                  </a:lnTo>
                  <a:lnTo>
                    <a:pt x="34" y="33"/>
                  </a:lnTo>
                  <a:lnTo>
                    <a:pt x="48" y="41"/>
                  </a:lnTo>
                  <a:lnTo>
                    <a:pt x="60" y="49"/>
                  </a:lnTo>
                  <a:lnTo>
                    <a:pt x="74" y="59"/>
                  </a:lnTo>
                  <a:lnTo>
                    <a:pt x="84" y="65"/>
                  </a:lnTo>
                  <a:lnTo>
                    <a:pt x="90" y="69"/>
                  </a:lnTo>
                  <a:lnTo>
                    <a:pt x="101" y="61"/>
                  </a:lnTo>
                  <a:lnTo>
                    <a:pt x="92" y="55"/>
                  </a:lnTo>
                  <a:lnTo>
                    <a:pt x="84" y="45"/>
                  </a:lnTo>
                  <a:lnTo>
                    <a:pt x="70" y="37"/>
                  </a:lnTo>
                  <a:lnTo>
                    <a:pt x="56" y="28"/>
                  </a:lnTo>
                  <a:lnTo>
                    <a:pt x="44" y="20"/>
                  </a:lnTo>
                  <a:lnTo>
                    <a:pt x="30" y="12"/>
                  </a:lnTo>
                  <a:lnTo>
                    <a:pt x="18" y="4"/>
                  </a:lnTo>
                  <a:lnTo>
                    <a:pt x="1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363880" y="5162040"/>
              <a:ext cx="22680" cy="17640"/>
            </a:xfrm>
            <a:custGeom>
              <a:avLst/>
              <a:gdLst/>
              <a:ahLst/>
              <a:rect l="l" t="t" r="r" b="b"/>
              <a:pathLst>
                <a:path w="71" h="56">
                  <a:moveTo>
                    <a:pt x="0" y="10"/>
                  </a:moveTo>
                  <a:lnTo>
                    <a:pt x="10" y="16"/>
                  </a:lnTo>
                  <a:lnTo>
                    <a:pt x="16" y="24"/>
                  </a:lnTo>
                  <a:lnTo>
                    <a:pt x="26" y="26"/>
                  </a:lnTo>
                  <a:lnTo>
                    <a:pt x="32" y="32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52" y="48"/>
                  </a:lnTo>
                  <a:lnTo>
                    <a:pt x="59" y="56"/>
                  </a:lnTo>
                  <a:lnTo>
                    <a:pt x="71" y="48"/>
                  </a:lnTo>
                  <a:lnTo>
                    <a:pt x="63" y="38"/>
                  </a:lnTo>
                  <a:lnTo>
                    <a:pt x="57" y="30"/>
                  </a:lnTo>
                  <a:lnTo>
                    <a:pt x="50" y="26"/>
                  </a:lnTo>
                  <a:lnTo>
                    <a:pt x="42" y="22"/>
                  </a:lnTo>
                  <a:lnTo>
                    <a:pt x="34" y="16"/>
                  </a:lnTo>
                  <a:lnTo>
                    <a:pt x="26" y="10"/>
                  </a:lnTo>
                  <a:lnTo>
                    <a:pt x="18" y="6"/>
                  </a:lnTo>
                  <a:lnTo>
                    <a:pt x="1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351280" y="5147640"/>
              <a:ext cx="15120" cy="1764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0" y="14"/>
                  </a:moveTo>
                  <a:lnTo>
                    <a:pt x="4" y="17"/>
                  </a:lnTo>
                  <a:lnTo>
                    <a:pt x="8" y="21"/>
                  </a:lnTo>
                  <a:lnTo>
                    <a:pt x="14" y="27"/>
                  </a:lnTo>
                  <a:lnTo>
                    <a:pt x="20" y="33"/>
                  </a:lnTo>
                  <a:lnTo>
                    <a:pt x="24" y="37"/>
                  </a:lnTo>
                  <a:lnTo>
                    <a:pt x="28" y="45"/>
                  </a:lnTo>
                  <a:lnTo>
                    <a:pt x="34" y="51"/>
                  </a:lnTo>
                  <a:lnTo>
                    <a:pt x="40" y="55"/>
                  </a:lnTo>
                  <a:lnTo>
                    <a:pt x="48" y="45"/>
                  </a:lnTo>
                  <a:lnTo>
                    <a:pt x="42" y="41"/>
                  </a:lnTo>
                  <a:lnTo>
                    <a:pt x="40" y="35"/>
                  </a:lnTo>
                  <a:lnTo>
                    <a:pt x="36" y="29"/>
                  </a:lnTo>
                  <a:lnTo>
                    <a:pt x="32" y="25"/>
                  </a:lnTo>
                  <a:lnTo>
                    <a:pt x="24" y="19"/>
                  </a:lnTo>
                  <a:lnTo>
                    <a:pt x="20" y="14"/>
                  </a:lnTo>
                  <a:lnTo>
                    <a:pt x="16" y="10"/>
                  </a:lnTo>
                  <a:lnTo>
                    <a:pt x="8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339040" y="5136120"/>
              <a:ext cx="13680" cy="1656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14"/>
                  </a:moveTo>
                  <a:lnTo>
                    <a:pt x="10" y="18"/>
                  </a:lnTo>
                  <a:lnTo>
                    <a:pt x="16" y="30"/>
                  </a:lnTo>
                  <a:lnTo>
                    <a:pt x="24" y="40"/>
                  </a:lnTo>
                  <a:lnTo>
                    <a:pt x="35" y="54"/>
                  </a:lnTo>
                  <a:lnTo>
                    <a:pt x="43" y="40"/>
                  </a:lnTo>
                  <a:lnTo>
                    <a:pt x="35" y="32"/>
                  </a:lnTo>
                  <a:lnTo>
                    <a:pt x="29" y="22"/>
                  </a:lnTo>
                  <a:lnTo>
                    <a:pt x="18" y="8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8315640" y="5122080"/>
              <a:ext cx="25200" cy="16920"/>
            </a:xfrm>
            <a:custGeom>
              <a:avLst/>
              <a:gdLst/>
              <a:ahLst/>
              <a:rect l="l" t="t" r="r" b="b"/>
              <a:pathLst>
                <a:path w="81" h="56">
                  <a:moveTo>
                    <a:pt x="0" y="4"/>
                  </a:moveTo>
                  <a:lnTo>
                    <a:pt x="5" y="18"/>
                  </a:lnTo>
                  <a:lnTo>
                    <a:pt x="13" y="26"/>
                  </a:lnTo>
                  <a:lnTo>
                    <a:pt x="23" y="34"/>
                  </a:lnTo>
                  <a:lnTo>
                    <a:pt x="33" y="40"/>
                  </a:lnTo>
                  <a:lnTo>
                    <a:pt x="45" y="46"/>
                  </a:lnTo>
                  <a:lnTo>
                    <a:pt x="57" y="50"/>
                  </a:lnTo>
                  <a:lnTo>
                    <a:pt x="67" y="56"/>
                  </a:lnTo>
                  <a:lnTo>
                    <a:pt x="77" y="56"/>
                  </a:lnTo>
                  <a:lnTo>
                    <a:pt x="81" y="42"/>
                  </a:lnTo>
                  <a:lnTo>
                    <a:pt x="71" y="40"/>
                  </a:lnTo>
                  <a:lnTo>
                    <a:pt x="63" y="38"/>
                  </a:lnTo>
                  <a:lnTo>
                    <a:pt x="49" y="34"/>
                  </a:lnTo>
                  <a:lnTo>
                    <a:pt x="39" y="28"/>
                  </a:lnTo>
                  <a:lnTo>
                    <a:pt x="33" y="22"/>
                  </a:lnTo>
                  <a:lnTo>
                    <a:pt x="23" y="18"/>
                  </a:lnTo>
                  <a:lnTo>
                    <a:pt x="15" y="8"/>
                  </a:lnTo>
                  <a:lnTo>
                    <a:pt x="1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337240" y="5136120"/>
              <a:ext cx="4320" cy="18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4" y="6"/>
                  </a:moveTo>
                  <a:lnTo>
                    <a:pt x="10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168760" y="4876920"/>
              <a:ext cx="493920" cy="861840"/>
            </a:xfrm>
            <a:custGeom>
              <a:avLst/>
              <a:gdLst/>
              <a:ahLst/>
              <a:rect l="l" t="t" r="r" b="b"/>
              <a:pathLst>
                <a:path w="1557" h="2712">
                  <a:moveTo>
                    <a:pt x="16" y="31"/>
                  </a:moveTo>
                  <a:lnTo>
                    <a:pt x="81" y="0"/>
                  </a:lnTo>
                  <a:lnTo>
                    <a:pt x="166" y="14"/>
                  </a:lnTo>
                  <a:lnTo>
                    <a:pt x="273" y="59"/>
                  </a:lnTo>
                  <a:lnTo>
                    <a:pt x="406" y="125"/>
                  </a:lnTo>
                  <a:lnTo>
                    <a:pt x="666" y="259"/>
                  </a:lnTo>
                  <a:lnTo>
                    <a:pt x="814" y="364"/>
                  </a:lnTo>
                  <a:lnTo>
                    <a:pt x="945" y="497"/>
                  </a:lnTo>
                  <a:lnTo>
                    <a:pt x="1153" y="711"/>
                  </a:lnTo>
                  <a:lnTo>
                    <a:pt x="1303" y="836"/>
                  </a:lnTo>
                  <a:lnTo>
                    <a:pt x="1420" y="923"/>
                  </a:lnTo>
                  <a:lnTo>
                    <a:pt x="1491" y="1010"/>
                  </a:lnTo>
                  <a:lnTo>
                    <a:pt x="1511" y="1143"/>
                  </a:lnTo>
                  <a:lnTo>
                    <a:pt x="1480" y="1220"/>
                  </a:lnTo>
                  <a:lnTo>
                    <a:pt x="1416" y="1276"/>
                  </a:lnTo>
                  <a:lnTo>
                    <a:pt x="1343" y="1317"/>
                  </a:lnTo>
                  <a:lnTo>
                    <a:pt x="1283" y="1359"/>
                  </a:lnTo>
                  <a:lnTo>
                    <a:pt x="1331" y="1422"/>
                  </a:lnTo>
                  <a:lnTo>
                    <a:pt x="1384" y="1488"/>
                  </a:lnTo>
                  <a:lnTo>
                    <a:pt x="1438" y="1573"/>
                  </a:lnTo>
                  <a:lnTo>
                    <a:pt x="1480" y="1698"/>
                  </a:lnTo>
                  <a:lnTo>
                    <a:pt x="1537" y="1965"/>
                  </a:lnTo>
                  <a:lnTo>
                    <a:pt x="1557" y="2157"/>
                  </a:lnTo>
                  <a:lnTo>
                    <a:pt x="1515" y="2328"/>
                  </a:lnTo>
                  <a:lnTo>
                    <a:pt x="1380" y="2532"/>
                  </a:lnTo>
                  <a:lnTo>
                    <a:pt x="1281" y="2629"/>
                  </a:lnTo>
                  <a:lnTo>
                    <a:pt x="1175" y="2690"/>
                  </a:lnTo>
                  <a:lnTo>
                    <a:pt x="1074" y="2712"/>
                  </a:lnTo>
                  <a:lnTo>
                    <a:pt x="990" y="2686"/>
                  </a:lnTo>
                  <a:lnTo>
                    <a:pt x="982" y="2609"/>
                  </a:lnTo>
                  <a:lnTo>
                    <a:pt x="1004" y="2550"/>
                  </a:lnTo>
                  <a:lnTo>
                    <a:pt x="1022" y="2470"/>
                  </a:lnTo>
                  <a:lnTo>
                    <a:pt x="1056" y="2280"/>
                  </a:lnTo>
                  <a:lnTo>
                    <a:pt x="1091" y="2159"/>
                  </a:lnTo>
                  <a:lnTo>
                    <a:pt x="1101" y="2046"/>
                  </a:lnTo>
                  <a:lnTo>
                    <a:pt x="1056" y="1884"/>
                  </a:lnTo>
                  <a:lnTo>
                    <a:pt x="1010" y="1820"/>
                  </a:lnTo>
                  <a:lnTo>
                    <a:pt x="959" y="1791"/>
                  </a:lnTo>
                  <a:lnTo>
                    <a:pt x="907" y="1761"/>
                  </a:lnTo>
                  <a:lnTo>
                    <a:pt x="862" y="1698"/>
                  </a:lnTo>
                  <a:lnTo>
                    <a:pt x="862" y="1618"/>
                  </a:lnTo>
                  <a:lnTo>
                    <a:pt x="862" y="1543"/>
                  </a:lnTo>
                  <a:lnTo>
                    <a:pt x="794" y="1460"/>
                  </a:lnTo>
                  <a:lnTo>
                    <a:pt x="725" y="1426"/>
                  </a:lnTo>
                  <a:lnTo>
                    <a:pt x="642" y="1396"/>
                  </a:lnTo>
                  <a:lnTo>
                    <a:pt x="537" y="1327"/>
                  </a:lnTo>
                  <a:lnTo>
                    <a:pt x="430" y="1244"/>
                  </a:lnTo>
                  <a:lnTo>
                    <a:pt x="364" y="1190"/>
                  </a:lnTo>
                  <a:lnTo>
                    <a:pt x="244" y="1020"/>
                  </a:lnTo>
                  <a:lnTo>
                    <a:pt x="168" y="887"/>
                  </a:lnTo>
                  <a:lnTo>
                    <a:pt x="131" y="798"/>
                  </a:lnTo>
                  <a:lnTo>
                    <a:pt x="115" y="705"/>
                  </a:lnTo>
                  <a:lnTo>
                    <a:pt x="113" y="556"/>
                  </a:lnTo>
                  <a:lnTo>
                    <a:pt x="129" y="495"/>
                  </a:lnTo>
                  <a:lnTo>
                    <a:pt x="145" y="434"/>
                  </a:lnTo>
                  <a:lnTo>
                    <a:pt x="111" y="287"/>
                  </a:lnTo>
                  <a:lnTo>
                    <a:pt x="48" y="178"/>
                  </a:lnTo>
                  <a:lnTo>
                    <a:pt x="0" y="97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168760" y="4876920"/>
              <a:ext cx="493920" cy="861840"/>
            </a:xfrm>
            <a:custGeom>
              <a:avLst/>
              <a:gdLst/>
              <a:ahLst/>
              <a:rect l="l" t="t" r="r" b="b"/>
              <a:pathLst>
                <a:path w="1557" h="2712">
                  <a:moveTo>
                    <a:pt x="16" y="31"/>
                  </a:moveTo>
                  <a:lnTo>
                    <a:pt x="81" y="0"/>
                  </a:lnTo>
                  <a:lnTo>
                    <a:pt x="166" y="14"/>
                  </a:lnTo>
                  <a:lnTo>
                    <a:pt x="273" y="59"/>
                  </a:lnTo>
                  <a:lnTo>
                    <a:pt x="406" y="125"/>
                  </a:lnTo>
                  <a:lnTo>
                    <a:pt x="666" y="259"/>
                  </a:lnTo>
                  <a:lnTo>
                    <a:pt x="814" y="364"/>
                  </a:lnTo>
                  <a:lnTo>
                    <a:pt x="945" y="497"/>
                  </a:lnTo>
                  <a:lnTo>
                    <a:pt x="1153" y="711"/>
                  </a:lnTo>
                  <a:lnTo>
                    <a:pt x="1303" y="836"/>
                  </a:lnTo>
                  <a:lnTo>
                    <a:pt x="1420" y="923"/>
                  </a:lnTo>
                  <a:lnTo>
                    <a:pt x="1491" y="1010"/>
                  </a:lnTo>
                  <a:lnTo>
                    <a:pt x="1511" y="1143"/>
                  </a:lnTo>
                  <a:lnTo>
                    <a:pt x="1480" y="1220"/>
                  </a:lnTo>
                  <a:lnTo>
                    <a:pt x="1416" y="1276"/>
                  </a:lnTo>
                  <a:lnTo>
                    <a:pt x="1343" y="1317"/>
                  </a:lnTo>
                  <a:lnTo>
                    <a:pt x="1283" y="1359"/>
                  </a:lnTo>
                  <a:lnTo>
                    <a:pt x="1331" y="1422"/>
                  </a:lnTo>
                  <a:lnTo>
                    <a:pt x="1384" y="1488"/>
                  </a:lnTo>
                  <a:lnTo>
                    <a:pt x="1438" y="1573"/>
                  </a:lnTo>
                  <a:lnTo>
                    <a:pt x="1480" y="1698"/>
                  </a:lnTo>
                  <a:lnTo>
                    <a:pt x="1537" y="1965"/>
                  </a:lnTo>
                  <a:lnTo>
                    <a:pt x="1557" y="2157"/>
                  </a:lnTo>
                  <a:lnTo>
                    <a:pt x="1515" y="2328"/>
                  </a:lnTo>
                  <a:lnTo>
                    <a:pt x="1380" y="2532"/>
                  </a:lnTo>
                  <a:lnTo>
                    <a:pt x="1281" y="2629"/>
                  </a:lnTo>
                  <a:lnTo>
                    <a:pt x="1175" y="2690"/>
                  </a:lnTo>
                  <a:lnTo>
                    <a:pt x="1074" y="2712"/>
                  </a:lnTo>
                  <a:lnTo>
                    <a:pt x="990" y="2686"/>
                  </a:lnTo>
                  <a:lnTo>
                    <a:pt x="982" y="2609"/>
                  </a:lnTo>
                  <a:lnTo>
                    <a:pt x="1004" y="2550"/>
                  </a:lnTo>
                  <a:lnTo>
                    <a:pt x="1022" y="2470"/>
                  </a:lnTo>
                  <a:lnTo>
                    <a:pt x="1056" y="2280"/>
                  </a:lnTo>
                  <a:lnTo>
                    <a:pt x="1091" y="2159"/>
                  </a:lnTo>
                  <a:lnTo>
                    <a:pt x="1101" y="2046"/>
                  </a:lnTo>
                  <a:lnTo>
                    <a:pt x="1056" y="1884"/>
                  </a:lnTo>
                  <a:lnTo>
                    <a:pt x="1010" y="1820"/>
                  </a:lnTo>
                  <a:lnTo>
                    <a:pt x="959" y="1791"/>
                  </a:lnTo>
                  <a:lnTo>
                    <a:pt x="907" y="1761"/>
                  </a:lnTo>
                  <a:lnTo>
                    <a:pt x="862" y="1698"/>
                  </a:lnTo>
                  <a:lnTo>
                    <a:pt x="862" y="1618"/>
                  </a:lnTo>
                  <a:lnTo>
                    <a:pt x="862" y="1543"/>
                  </a:lnTo>
                  <a:lnTo>
                    <a:pt x="794" y="1460"/>
                  </a:lnTo>
                  <a:lnTo>
                    <a:pt x="725" y="1426"/>
                  </a:lnTo>
                  <a:lnTo>
                    <a:pt x="642" y="1396"/>
                  </a:lnTo>
                  <a:lnTo>
                    <a:pt x="537" y="1327"/>
                  </a:lnTo>
                  <a:lnTo>
                    <a:pt x="430" y="1244"/>
                  </a:lnTo>
                  <a:lnTo>
                    <a:pt x="364" y="1190"/>
                  </a:lnTo>
                  <a:lnTo>
                    <a:pt x="244" y="1020"/>
                  </a:lnTo>
                  <a:lnTo>
                    <a:pt x="168" y="887"/>
                  </a:lnTo>
                  <a:lnTo>
                    <a:pt x="131" y="798"/>
                  </a:lnTo>
                  <a:lnTo>
                    <a:pt x="115" y="705"/>
                  </a:lnTo>
                  <a:lnTo>
                    <a:pt x="113" y="556"/>
                  </a:lnTo>
                  <a:lnTo>
                    <a:pt x="129" y="495"/>
                  </a:lnTo>
                  <a:lnTo>
                    <a:pt x="145" y="434"/>
                  </a:lnTo>
                  <a:lnTo>
                    <a:pt x="111" y="287"/>
                  </a:lnTo>
                  <a:lnTo>
                    <a:pt x="48" y="178"/>
                  </a:lnTo>
                  <a:lnTo>
                    <a:pt x="0" y="97"/>
                  </a:lnTo>
                  <a:lnTo>
                    <a:pt x="16" y="31"/>
                  </a:lnTo>
                  <a:lnTo>
                    <a:pt x="16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9" dur="indefinite" restart="never" nodeType="tmRoot">
          <p:childTnLst>
            <p:seq>
              <p:cTn id="1950" dur="indefinite" nodeType="mainSeq">
                <p:childTnLst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5" dur="500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8" dur="500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1" dur="500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4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2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7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2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7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8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ystem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1905120"/>
            <a:ext cx="6858000" cy="2590560"/>
          </a:xfrm>
          <a:prstGeom prst="ellipse">
            <a:avLst/>
          </a:prstGeom>
          <a:noFill/>
          <a:ln cap="rnd" w="5724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514600"/>
            <a:ext cx="1447560" cy="685800"/>
          </a:xfrm>
          <a:prstGeom prst="rect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2666880"/>
            <a:ext cx="1447920" cy="685800"/>
          </a:xfrm>
          <a:prstGeom prst="rect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2819520"/>
            <a:ext cx="1447920" cy="685800"/>
          </a:xfrm>
          <a:prstGeom prst="rect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2971800"/>
            <a:ext cx="1447560" cy="685800"/>
          </a:xfrm>
          <a:prstGeom prst="rect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3124080"/>
            <a:ext cx="1447920" cy="685800"/>
          </a:xfrm>
          <a:prstGeom prst="rect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2286000"/>
            <a:ext cx="1371600" cy="685800"/>
          </a:xfrm>
          <a:prstGeom prst="cube">
            <a:avLst>
              <a:gd name="adj" fmla="val 250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2438280"/>
            <a:ext cx="1371600" cy="685800"/>
          </a:xfrm>
          <a:prstGeom prst="cube">
            <a:avLst>
              <a:gd name="adj" fmla="val 250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2590920"/>
            <a:ext cx="1371600" cy="685800"/>
          </a:xfrm>
          <a:prstGeom prst="cube">
            <a:avLst>
              <a:gd name="adj" fmla="val 250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2743200"/>
            <a:ext cx="1371600" cy="685800"/>
          </a:xfrm>
          <a:prstGeom prst="cube">
            <a:avLst>
              <a:gd name="adj" fmla="val 250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895480"/>
            <a:ext cx="1371600" cy="685800"/>
          </a:xfrm>
          <a:prstGeom prst="cube">
            <a:avLst>
              <a:gd name="adj" fmla="val 250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37200" y="1525680"/>
            <a:ext cx="269064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05" y="38924"/>
                </a:moveTo>
                <a:lnTo>
                  <a:pt x="-584" y="5290"/>
                </a:lnTo>
              </a:path>
              <a:path w="21600" h="21600">
                <a:moveTo>
                  <a:pt x="-584" y="0"/>
                </a:moveTo>
                <a:lnTo>
                  <a:pt x="-584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HW (CPU, disk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95240" y="2136960"/>
            <a:ext cx="246528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84" y="17087"/>
                </a:moveTo>
                <a:lnTo>
                  <a:pt x="-646" y="5290"/>
                </a:lnTo>
              </a:path>
              <a:path w="21600" h="21600">
                <a:moveTo>
                  <a:pt x="-646" y="0"/>
                </a:moveTo>
                <a:lnTo>
                  <a:pt x="-64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W (file, lock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74440" y="3431880"/>
            <a:ext cx="1907280" cy="11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623" y="548"/>
                </a:moveTo>
                <a:lnTo>
                  <a:pt x="-850" y="2063"/>
                </a:lnTo>
              </a:path>
              <a:path w="21600" h="21600">
                <a:moveTo>
                  <a:pt x="-850" y="0"/>
                </a:moveTo>
                <a:lnTo>
                  <a:pt x="-8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-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-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1360" y="4798800"/>
            <a:ext cx="814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xecute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RAM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read, write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open, read, write, close, truncate, delete, rename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xternal Misuse </a:t>
            </a:r>
            <a:r>
              <a:rPr b="0" i="1" lang="nl-BE" sz="28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ocial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3" name="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1346040" cy="1942920"/>
          </a:xfrm>
          <a:prstGeom prst="rect">
            <a:avLst/>
          </a:prstGeom>
          <a:ln w="0">
            <a:noFill/>
          </a:ln>
        </p:spPr>
      </p:pic>
      <p:sp>
        <p:nvSpPr>
          <p:cNvPr id="1474" name=""/>
          <p:cNvSpPr/>
          <p:nvPr/>
        </p:nvSpPr>
        <p:spPr>
          <a:xfrm>
            <a:off x="1295280" y="2895480"/>
            <a:ext cx="3733920" cy="1295640"/>
          </a:xfrm>
          <a:prstGeom prst="wedgeRoundRectCallout">
            <a:avLst>
              <a:gd name="adj1" fmla="val -42856"/>
              <a:gd name="adj2" fmla="val 86518"/>
              <a:gd name="adj3" fmla="val 16667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Hi, I’m the technician. I'm in the 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computer room. I have to replace 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defective hard disk. Can you give 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me the root passwor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5486400" y="3428640"/>
            <a:ext cx="2590560" cy="2514600"/>
            <a:chOff x="5486400" y="3428640"/>
            <a:chExt cx="2590560" cy="2514600"/>
          </a:xfrm>
        </p:grpSpPr>
        <p:sp>
          <p:nvSpPr>
            <p:cNvPr id="1476" name=""/>
            <p:cNvSpPr/>
            <p:nvPr/>
          </p:nvSpPr>
          <p:spPr>
            <a:xfrm>
              <a:off x="5618520" y="5546880"/>
              <a:ext cx="225720" cy="335520"/>
            </a:xfrm>
            <a:custGeom>
              <a:avLst/>
              <a:gdLst/>
              <a:ahLst/>
              <a:rect l="l" t="t" r="r" b="b"/>
              <a:pathLst>
                <a:path w="151" h="312">
                  <a:moveTo>
                    <a:pt x="0" y="285"/>
                  </a:moveTo>
                  <a:lnTo>
                    <a:pt x="138" y="0"/>
                  </a:lnTo>
                  <a:lnTo>
                    <a:pt x="151" y="0"/>
                  </a:lnTo>
                  <a:lnTo>
                    <a:pt x="54" y="312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649120" y="5532120"/>
              <a:ext cx="2313360" cy="410760"/>
            </a:xfrm>
            <a:custGeom>
              <a:avLst/>
              <a:gdLst/>
              <a:ahLst/>
              <a:rect l="l" t="t" r="r" b="b"/>
              <a:pathLst>
                <a:path w="1537" h="382">
                  <a:moveTo>
                    <a:pt x="1428" y="0"/>
                  </a:moveTo>
                  <a:lnTo>
                    <a:pt x="1531" y="287"/>
                  </a:lnTo>
                  <a:lnTo>
                    <a:pt x="1537" y="368"/>
                  </a:lnTo>
                  <a:lnTo>
                    <a:pt x="1516" y="382"/>
                  </a:lnTo>
                  <a:lnTo>
                    <a:pt x="0" y="299"/>
                  </a:lnTo>
                  <a:lnTo>
                    <a:pt x="0" y="287"/>
                  </a:lnTo>
                  <a:lnTo>
                    <a:pt x="117" y="35"/>
                  </a:lnTo>
                  <a:lnTo>
                    <a:pt x="1428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618520" y="5839920"/>
              <a:ext cx="2304720" cy="103320"/>
            </a:xfrm>
            <a:custGeom>
              <a:avLst/>
              <a:gdLst/>
              <a:ahLst/>
              <a:rect l="l" t="t" r="r" b="b"/>
              <a:pathLst>
                <a:path w="1531" h="95">
                  <a:moveTo>
                    <a:pt x="0" y="12"/>
                  </a:moveTo>
                  <a:lnTo>
                    <a:pt x="21" y="0"/>
                  </a:lnTo>
                  <a:lnTo>
                    <a:pt x="1518" y="0"/>
                  </a:lnTo>
                  <a:lnTo>
                    <a:pt x="1531" y="95"/>
                  </a:lnTo>
                  <a:lnTo>
                    <a:pt x="14" y="95"/>
                  </a:lnTo>
                  <a:lnTo>
                    <a:pt x="0" y="9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865480" y="5480640"/>
              <a:ext cx="1892520" cy="277560"/>
            </a:xfrm>
            <a:custGeom>
              <a:avLst/>
              <a:gdLst/>
              <a:ahLst/>
              <a:rect l="l" t="t" r="r" b="b"/>
              <a:pathLst>
                <a:path w="1257" h="259">
                  <a:moveTo>
                    <a:pt x="1257" y="130"/>
                  </a:moveTo>
                  <a:lnTo>
                    <a:pt x="1257" y="124"/>
                  </a:lnTo>
                  <a:lnTo>
                    <a:pt x="1255" y="119"/>
                  </a:lnTo>
                  <a:lnTo>
                    <a:pt x="1252" y="113"/>
                  </a:lnTo>
                  <a:lnTo>
                    <a:pt x="1248" y="107"/>
                  </a:lnTo>
                  <a:lnTo>
                    <a:pt x="1243" y="102"/>
                  </a:lnTo>
                  <a:lnTo>
                    <a:pt x="1236" y="97"/>
                  </a:lnTo>
                  <a:lnTo>
                    <a:pt x="1228" y="92"/>
                  </a:lnTo>
                  <a:lnTo>
                    <a:pt x="1219" y="86"/>
                  </a:lnTo>
                  <a:lnTo>
                    <a:pt x="1209" y="81"/>
                  </a:lnTo>
                  <a:lnTo>
                    <a:pt x="1199" y="76"/>
                  </a:lnTo>
                  <a:lnTo>
                    <a:pt x="1186" y="70"/>
                  </a:lnTo>
                  <a:lnTo>
                    <a:pt x="1173" y="66"/>
                  </a:lnTo>
                  <a:lnTo>
                    <a:pt x="1159" y="61"/>
                  </a:lnTo>
                  <a:lnTo>
                    <a:pt x="1145" y="56"/>
                  </a:lnTo>
                  <a:lnTo>
                    <a:pt x="1128" y="52"/>
                  </a:lnTo>
                  <a:lnTo>
                    <a:pt x="1111" y="47"/>
                  </a:lnTo>
                  <a:lnTo>
                    <a:pt x="1093" y="43"/>
                  </a:lnTo>
                  <a:lnTo>
                    <a:pt x="1075" y="39"/>
                  </a:lnTo>
                  <a:lnTo>
                    <a:pt x="1055" y="35"/>
                  </a:lnTo>
                  <a:lnTo>
                    <a:pt x="1034" y="31"/>
                  </a:lnTo>
                  <a:lnTo>
                    <a:pt x="1014" y="27"/>
                  </a:lnTo>
                  <a:lnTo>
                    <a:pt x="992" y="25"/>
                  </a:lnTo>
                  <a:lnTo>
                    <a:pt x="969" y="21"/>
                  </a:lnTo>
                  <a:lnTo>
                    <a:pt x="945" y="18"/>
                  </a:lnTo>
                  <a:lnTo>
                    <a:pt x="922" y="16"/>
                  </a:lnTo>
                  <a:lnTo>
                    <a:pt x="898" y="13"/>
                  </a:lnTo>
                  <a:lnTo>
                    <a:pt x="872" y="11"/>
                  </a:lnTo>
                  <a:lnTo>
                    <a:pt x="846" y="8"/>
                  </a:lnTo>
                  <a:lnTo>
                    <a:pt x="821" y="7"/>
                  </a:lnTo>
                  <a:lnTo>
                    <a:pt x="795" y="5"/>
                  </a:lnTo>
                  <a:lnTo>
                    <a:pt x="768" y="4"/>
                  </a:lnTo>
                  <a:lnTo>
                    <a:pt x="742" y="3"/>
                  </a:lnTo>
                  <a:lnTo>
                    <a:pt x="714" y="2"/>
                  </a:lnTo>
                  <a:lnTo>
                    <a:pt x="688" y="2"/>
                  </a:lnTo>
                  <a:lnTo>
                    <a:pt x="661" y="0"/>
                  </a:lnTo>
                  <a:lnTo>
                    <a:pt x="633" y="0"/>
                  </a:lnTo>
                  <a:lnTo>
                    <a:pt x="606" y="0"/>
                  </a:lnTo>
                  <a:lnTo>
                    <a:pt x="579" y="0"/>
                  </a:lnTo>
                  <a:lnTo>
                    <a:pt x="552" y="2"/>
                  </a:lnTo>
                  <a:lnTo>
                    <a:pt x="524" y="3"/>
                  </a:lnTo>
                  <a:lnTo>
                    <a:pt x="498" y="3"/>
                  </a:lnTo>
                  <a:lnTo>
                    <a:pt x="471" y="4"/>
                  </a:lnTo>
                  <a:lnTo>
                    <a:pt x="445" y="5"/>
                  </a:lnTo>
                  <a:lnTo>
                    <a:pt x="418" y="8"/>
                  </a:lnTo>
                  <a:lnTo>
                    <a:pt x="394" y="11"/>
                  </a:lnTo>
                  <a:lnTo>
                    <a:pt x="368" y="12"/>
                  </a:lnTo>
                  <a:lnTo>
                    <a:pt x="343" y="14"/>
                  </a:lnTo>
                  <a:lnTo>
                    <a:pt x="319" y="17"/>
                  </a:lnTo>
                  <a:lnTo>
                    <a:pt x="296" y="20"/>
                  </a:lnTo>
                  <a:lnTo>
                    <a:pt x="273" y="23"/>
                  </a:lnTo>
                  <a:lnTo>
                    <a:pt x="251" y="26"/>
                  </a:lnTo>
                  <a:lnTo>
                    <a:pt x="229" y="30"/>
                  </a:lnTo>
                  <a:lnTo>
                    <a:pt x="208" y="34"/>
                  </a:lnTo>
                  <a:lnTo>
                    <a:pt x="189" y="38"/>
                  </a:lnTo>
                  <a:lnTo>
                    <a:pt x="170" y="41"/>
                  </a:lnTo>
                  <a:lnTo>
                    <a:pt x="152" y="45"/>
                  </a:lnTo>
                  <a:lnTo>
                    <a:pt x="134" y="50"/>
                  </a:lnTo>
                  <a:lnTo>
                    <a:pt x="117" y="54"/>
                  </a:lnTo>
                  <a:lnTo>
                    <a:pt x="103" y="59"/>
                  </a:lnTo>
                  <a:lnTo>
                    <a:pt x="87" y="63"/>
                  </a:lnTo>
                  <a:lnTo>
                    <a:pt x="75" y="68"/>
                  </a:lnTo>
                  <a:lnTo>
                    <a:pt x="62" y="74"/>
                  </a:lnTo>
                  <a:lnTo>
                    <a:pt x="50" y="79"/>
                  </a:lnTo>
                  <a:lnTo>
                    <a:pt x="40" y="84"/>
                  </a:lnTo>
                  <a:lnTo>
                    <a:pt x="31" y="89"/>
                  </a:lnTo>
                  <a:lnTo>
                    <a:pt x="23" y="94"/>
                  </a:lnTo>
                  <a:lnTo>
                    <a:pt x="17" y="101"/>
                  </a:lnTo>
                  <a:lnTo>
                    <a:pt x="12" y="106"/>
                  </a:lnTo>
                  <a:lnTo>
                    <a:pt x="6" y="111"/>
                  </a:lnTo>
                  <a:lnTo>
                    <a:pt x="3" y="117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1" y="139"/>
                  </a:lnTo>
                  <a:lnTo>
                    <a:pt x="4" y="144"/>
                  </a:lnTo>
                  <a:lnTo>
                    <a:pt x="8" y="151"/>
                  </a:lnTo>
                  <a:lnTo>
                    <a:pt x="13" y="156"/>
                  </a:lnTo>
                  <a:lnTo>
                    <a:pt x="18" y="161"/>
                  </a:lnTo>
                  <a:lnTo>
                    <a:pt x="26" y="166"/>
                  </a:lnTo>
                  <a:lnTo>
                    <a:pt x="33" y="173"/>
                  </a:lnTo>
                  <a:lnTo>
                    <a:pt x="44" y="178"/>
                  </a:lnTo>
                  <a:lnTo>
                    <a:pt x="54" y="183"/>
                  </a:lnTo>
                  <a:lnTo>
                    <a:pt x="66" y="188"/>
                  </a:lnTo>
                  <a:lnTo>
                    <a:pt x="78" y="192"/>
                  </a:lnTo>
                  <a:lnTo>
                    <a:pt x="93" y="197"/>
                  </a:lnTo>
                  <a:lnTo>
                    <a:pt x="107" y="202"/>
                  </a:lnTo>
                  <a:lnTo>
                    <a:pt x="122" y="207"/>
                  </a:lnTo>
                  <a:lnTo>
                    <a:pt x="139" y="211"/>
                  </a:lnTo>
                  <a:lnTo>
                    <a:pt x="157" y="216"/>
                  </a:lnTo>
                  <a:lnTo>
                    <a:pt x="175" y="220"/>
                  </a:lnTo>
                  <a:lnTo>
                    <a:pt x="194" y="224"/>
                  </a:lnTo>
                  <a:lnTo>
                    <a:pt x="215" y="228"/>
                  </a:lnTo>
                  <a:lnTo>
                    <a:pt x="235" y="230"/>
                  </a:lnTo>
                  <a:lnTo>
                    <a:pt x="257" y="234"/>
                  </a:lnTo>
                  <a:lnTo>
                    <a:pt x="279" y="238"/>
                  </a:lnTo>
                  <a:lnTo>
                    <a:pt x="302" y="241"/>
                  </a:lnTo>
                  <a:lnTo>
                    <a:pt x="327" y="243"/>
                  </a:lnTo>
                  <a:lnTo>
                    <a:pt x="351" y="246"/>
                  </a:lnTo>
                  <a:lnTo>
                    <a:pt x="376" y="248"/>
                  </a:lnTo>
                  <a:lnTo>
                    <a:pt x="400" y="250"/>
                  </a:lnTo>
                  <a:lnTo>
                    <a:pt x="426" y="252"/>
                  </a:lnTo>
                  <a:lnTo>
                    <a:pt x="453" y="254"/>
                  </a:lnTo>
                  <a:lnTo>
                    <a:pt x="478" y="256"/>
                  </a:lnTo>
                  <a:lnTo>
                    <a:pt x="505" y="257"/>
                  </a:lnTo>
                  <a:lnTo>
                    <a:pt x="533" y="257"/>
                  </a:lnTo>
                  <a:lnTo>
                    <a:pt x="560" y="259"/>
                  </a:lnTo>
                  <a:lnTo>
                    <a:pt x="587" y="259"/>
                  </a:lnTo>
                  <a:lnTo>
                    <a:pt x="614" y="259"/>
                  </a:lnTo>
                  <a:lnTo>
                    <a:pt x="641" y="259"/>
                  </a:lnTo>
                  <a:lnTo>
                    <a:pt x="669" y="259"/>
                  </a:lnTo>
                  <a:lnTo>
                    <a:pt x="696" y="259"/>
                  </a:lnTo>
                  <a:lnTo>
                    <a:pt x="723" y="257"/>
                  </a:lnTo>
                  <a:lnTo>
                    <a:pt x="750" y="257"/>
                  </a:lnTo>
                  <a:lnTo>
                    <a:pt x="776" y="256"/>
                  </a:lnTo>
                  <a:lnTo>
                    <a:pt x="803" y="254"/>
                  </a:lnTo>
                  <a:lnTo>
                    <a:pt x="828" y="252"/>
                  </a:lnTo>
                  <a:lnTo>
                    <a:pt x="854" y="251"/>
                  </a:lnTo>
                  <a:lnTo>
                    <a:pt x="880" y="248"/>
                  </a:lnTo>
                  <a:lnTo>
                    <a:pt x="904" y="246"/>
                  </a:lnTo>
                  <a:lnTo>
                    <a:pt x="929" y="243"/>
                  </a:lnTo>
                  <a:lnTo>
                    <a:pt x="952" y="241"/>
                  </a:lnTo>
                  <a:lnTo>
                    <a:pt x="975" y="238"/>
                  </a:lnTo>
                  <a:lnTo>
                    <a:pt x="998" y="234"/>
                  </a:lnTo>
                  <a:lnTo>
                    <a:pt x="1019" y="232"/>
                  </a:lnTo>
                  <a:lnTo>
                    <a:pt x="1041" y="228"/>
                  </a:lnTo>
                  <a:lnTo>
                    <a:pt x="1060" y="224"/>
                  </a:lnTo>
                  <a:lnTo>
                    <a:pt x="1080" y="220"/>
                  </a:lnTo>
                  <a:lnTo>
                    <a:pt x="1098" y="216"/>
                  </a:lnTo>
                  <a:lnTo>
                    <a:pt x="1116" y="211"/>
                  </a:lnTo>
                  <a:lnTo>
                    <a:pt x="1133" y="207"/>
                  </a:lnTo>
                  <a:lnTo>
                    <a:pt x="1149" y="202"/>
                  </a:lnTo>
                  <a:lnTo>
                    <a:pt x="1164" y="198"/>
                  </a:lnTo>
                  <a:lnTo>
                    <a:pt x="1178" y="193"/>
                  </a:lnTo>
                  <a:lnTo>
                    <a:pt x="1190" y="188"/>
                  </a:lnTo>
                  <a:lnTo>
                    <a:pt x="1203" y="183"/>
                  </a:lnTo>
                  <a:lnTo>
                    <a:pt x="1213" y="178"/>
                  </a:lnTo>
                  <a:lnTo>
                    <a:pt x="1222" y="173"/>
                  </a:lnTo>
                  <a:lnTo>
                    <a:pt x="1231" y="167"/>
                  </a:lnTo>
                  <a:lnTo>
                    <a:pt x="1237" y="161"/>
                  </a:lnTo>
                  <a:lnTo>
                    <a:pt x="1244" y="156"/>
                  </a:lnTo>
                  <a:lnTo>
                    <a:pt x="1249" y="151"/>
                  </a:lnTo>
                  <a:lnTo>
                    <a:pt x="1253" y="146"/>
                  </a:lnTo>
                  <a:lnTo>
                    <a:pt x="1255" y="139"/>
                  </a:lnTo>
                  <a:lnTo>
                    <a:pt x="1257" y="134"/>
                  </a:lnTo>
                  <a:lnTo>
                    <a:pt x="1257" y="13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142680" y="5525280"/>
              <a:ext cx="53640" cy="140040"/>
            </a:xfrm>
            <a:custGeom>
              <a:avLst/>
              <a:gdLst/>
              <a:ahLst/>
              <a:rect l="l" t="t" r="r" b="b"/>
              <a:pathLst>
                <a:path w="35" h="130">
                  <a:moveTo>
                    <a:pt x="6" y="130"/>
                  </a:moveTo>
                  <a:lnTo>
                    <a:pt x="0" y="21"/>
                  </a:lnTo>
                  <a:lnTo>
                    <a:pt x="20" y="0"/>
                  </a:lnTo>
                  <a:lnTo>
                    <a:pt x="35" y="61"/>
                  </a:lnTo>
                  <a:lnTo>
                    <a:pt x="6" y="13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154200" y="5560200"/>
              <a:ext cx="1305720" cy="105120"/>
            </a:xfrm>
            <a:custGeom>
              <a:avLst/>
              <a:gdLst/>
              <a:ahLst/>
              <a:rect l="l" t="t" r="r" b="b"/>
              <a:pathLst>
                <a:path w="869" h="96">
                  <a:moveTo>
                    <a:pt x="8" y="0"/>
                  </a:moveTo>
                  <a:lnTo>
                    <a:pt x="0" y="96"/>
                  </a:lnTo>
                  <a:lnTo>
                    <a:pt x="869" y="96"/>
                  </a:lnTo>
                  <a:lnTo>
                    <a:pt x="85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649120" y="3429000"/>
              <a:ext cx="2427480" cy="2148120"/>
            </a:xfrm>
            <a:custGeom>
              <a:avLst/>
              <a:gdLst/>
              <a:ahLst/>
              <a:rect l="l" t="t" r="r" b="b"/>
              <a:pathLst>
                <a:path w="1613" h="1995">
                  <a:moveTo>
                    <a:pt x="103" y="1995"/>
                  </a:moveTo>
                  <a:lnTo>
                    <a:pt x="1613" y="1995"/>
                  </a:lnTo>
                  <a:lnTo>
                    <a:pt x="1613" y="0"/>
                  </a:lnTo>
                  <a:lnTo>
                    <a:pt x="1326" y="122"/>
                  </a:lnTo>
                  <a:lnTo>
                    <a:pt x="0" y="1803"/>
                  </a:lnTo>
                  <a:lnTo>
                    <a:pt x="103" y="1995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486400" y="3429000"/>
              <a:ext cx="2590560" cy="2148120"/>
            </a:xfrm>
            <a:custGeom>
              <a:avLst/>
              <a:gdLst/>
              <a:ahLst/>
              <a:rect l="l" t="t" r="r" b="b"/>
              <a:pathLst>
                <a:path w="1722" h="1995">
                  <a:moveTo>
                    <a:pt x="1722" y="0"/>
                  </a:moveTo>
                  <a:lnTo>
                    <a:pt x="0" y="0"/>
                  </a:lnTo>
                  <a:lnTo>
                    <a:pt x="0" y="1803"/>
                  </a:lnTo>
                  <a:lnTo>
                    <a:pt x="212" y="1995"/>
                  </a:lnTo>
                  <a:lnTo>
                    <a:pt x="171" y="1832"/>
                  </a:lnTo>
                  <a:lnTo>
                    <a:pt x="1483" y="223"/>
                  </a:lnTo>
                  <a:lnTo>
                    <a:pt x="1557" y="157"/>
                  </a:lnTo>
                  <a:lnTo>
                    <a:pt x="1722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742000" y="3588480"/>
              <a:ext cx="2088360" cy="1812240"/>
            </a:xfrm>
            <a:custGeom>
              <a:avLst/>
              <a:gdLst/>
              <a:ahLst/>
              <a:rect l="l" t="t" r="r" b="b"/>
              <a:pathLst>
                <a:path w="1386" h="1683">
                  <a:moveTo>
                    <a:pt x="1386" y="0"/>
                  </a:moveTo>
                  <a:lnTo>
                    <a:pt x="0" y="0"/>
                  </a:lnTo>
                  <a:lnTo>
                    <a:pt x="0" y="1683"/>
                  </a:lnTo>
                  <a:lnTo>
                    <a:pt x="88" y="1648"/>
                  </a:lnTo>
                  <a:lnTo>
                    <a:pt x="157" y="1608"/>
                  </a:lnTo>
                  <a:lnTo>
                    <a:pt x="1366" y="55"/>
                  </a:lnTo>
                  <a:lnTo>
                    <a:pt x="1386" y="0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742000" y="3588480"/>
              <a:ext cx="2088360" cy="1812240"/>
            </a:xfrm>
            <a:custGeom>
              <a:avLst/>
              <a:gdLst/>
              <a:ahLst/>
              <a:rect l="l" t="t" r="r" b="b"/>
              <a:pathLst>
                <a:path w="1386" h="1683">
                  <a:moveTo>
                    <a:pt x="1386" y="0"/>
                  </a:moveTo>
                  <a:lnTo>
                    <a:pt x="1386" y="1683"/>
                  </a:lnTo>
                  <a:lnTo>
                    <a:pt x="0" y="1683"/>
                  </a:lnTo>
                  <a:lnTo>
                    <a:pt x="68" y="1621"/>
                  </a:lnTo>
                  <a:lnTo>
                    <a:pt x="1312" y="55"/>
                  </a:lnTo>
                  <a:lnTo>
                    <a:pt x="1386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835600" y="3642120"/>
              <a:ext cx="1892520" cy="16981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842240" y="5401080"/>
              <a:ext cx="234360" cy="176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 flipV="1">
              <a:off x="5486400" y="3428640"/>
              <a:ext cx="255600" cy="159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898960" y="3684960"/>
              <a:ext cx="1777680" cy="16120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898960" y="3684960"/>
              <a:ext cx="1777680" cy="1612080"/>
            </a:xfrm>
            <a:custGeom>
              <a:avLst/>
              <a:gdLst/>
              <a:ahLst/>
              <a:rect l="l" t="t" r="r" b="b"/>
              <a:pathLst>
                <a:path w="1182" h="1499">
                  <a:moveTo>
                    <a:pt x="1182" y="0"/>
                  </a:moveTo>
                  <a:lnTo>
                    <a:pt x="0" y="0"/>
                  </a:lnTo>
                  <a:lnTo>
                    <a:pt x="0" y="1499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898960" y="3684960"/>
              <a:ext cx="1777680" cy="1612080"/>
            </a:xfrm>
            <a:custGeom>
              <a:avLst/>
              <a:gdLst/>
              <a:ahLst/>
              <a:rect l="l" t="t" r="r" b="b"/>
              <a:pathLst>
                <a:path w="1182" h="1499">
                  <a:moveTo>
                    <a:pt x="1182" y="0"/>
                  </a:moveTo>
                  <a:lnTo>
                    <a:pt x="1182" y="1499"/>
                  </a:lnTo>
                  <a:lnTo>
                    <a:pt x="0" y="1499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633640" y="5433120"/>
              <a:ext cx="48240" cy="338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11"/>
                  </a:lnTo>
                  <a:lnTo>
                    <a:pt x="28" y="6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6" y="2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5"/>
                  </a:lnTo>
                  <a:lnTo>
                    <a:pt x="7" y="28"/>
                  </a:lnTo>
                  <a:lnTo>
                    <a:pt x="11" y="29"/>
                  </a:lnTo>
                  <a:lnTo>
                    <a:pt x="16" y="30"/>
                  </a:lnTo>
                  <a:lnTo>
                    <a:pt x="20" y="29"/>
                  </a:lnTo>
                  <a:lnTo>
                    <a:pt x="24" y="28"/>
                  </a:lnTo>
                  <a:lnTo>
                    <a:pt x="27" y="24"/>
                  </a:lnTo>
                  <a:lnTo>
                    <a:pt x="29" y="21"/>
                  </a:lnTo>
                  <a:lnTo>
                    <a:pt x="30" y="16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618520" y="5370840"/>
              <a:ext cx="144360" cy="9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797240" y="5577120"/>
              <a:ext cx="126000" cy="262440"/>
            </a:xfrm>
            <a:custGeom>
              <a:avLst/>
              <a:gdLst/>
              <a:ahLst/>
              <a:rect l="l" t="t" r="r" b="b"/>
              <a:pathLst>
                <a:path w="82" h="246">
                  <a:moveTo>
                    <a:pt x="69" y="246"/>
                  </a:moveTo>
                  <a:lnTo>
                    <a:pt x="82" y="239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5" name=""/>
          <p:cNvSpPr/>
          <p:nvPr/>
        </p:nvSpPr>
        <p:spPr>
          <a:xfrm>
            <a:off x="6172200" y="4191120"/>
            <a:ext cx="137160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ahoma"/>
              </a:rPr>
              <a:t>From: root</a:t>
            </a: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Tahoma"/>
              </a:rPr>
              <a:t>To: users</a:t>
            </a: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Tahoma"/>
              </a:rPr>
              <a:t>Subject: Break-in</a:t>
            </a: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Tahoma"/>
              </a:rPr>
              <a:t>There has been a break-i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486400" y="1828800"/>
            <a:ext cx="3352680" cy="2438280"/>
          </a:xfrm>
          <a:prstGeom prst="wedgeRectCallout">
            <a:avLst>
              <a:gd name="adj1" fmla="val -6675"/>
              <a:gd name="adj2" fmla="val 70898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: ro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Tahoma"/>
              </a:rPr>
              <a:t>To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: users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Tahoma"/>
              </a:rPr>
              <a:t>Subject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: Break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There has been a break-in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in our systems. Please change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your password into Stop until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further not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The System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9" dur="indefinite" restart="never" nodeType="tmRoot">
          <p:childTnLst>
            <p:seq>
              <p:cTn id="2020" dur="indefinite" nodeType="mainSeq">
                <p:childTnLst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5" dur="500"/>
                                        <p:tgtEl>
                                          <p:spTgt spid="1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8" dur="500"/>
                                        <p:tgtEl>
                                          <p:spTgt spid="1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1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6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1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6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HW Mis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"/>
          <p:cNvSpPr/>
          <p:nvPr/>
        </p:nvSpPr>
        <p:spPr>
          <a:xfrm>
            <a:off x="685800" y="3048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1880" indent="-2700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avesdropping on communication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85800" y="5029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1880" indent="-2700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dification of HW, sabo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00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heft (HW, me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85800" y="4038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1880" indent="-2700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lectronic j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85800" y="208116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1880" indent="-2700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iscarded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3" name=""/>
          <p:cNvGrpSpPr/>
          <p:nvPr/>
        </p:nvGrpSpPr>
        <p:grpSpPr>
          <a:xfrm>
            <a:off x="6019920" y="1752480"/>
            <a:ext cx="1294920" cy="1282320"/>
            <a:chOff x="6019920" y="1752480"/>
            <a:chExt cx="1294920" cy="1282320"/>
          </a:xfrm>
        </p:grpSpPr>
        <p:sp>
          <p:nvSpPr>
            <p:cNvPr id="1504" name=""/>
            <p:cNvSpPr/>
            <p:nvPr/>
          </p:nvSpPr>
          <p:spPr>
            <a:xfrm>
              <a:off x="6514920" y="1761840"/>
              <a:ext cx="428040" cy="57096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514920" y="1888920"/>
              <a:ext cx="334800" cy="45360"/>
            </a:xfrm>
            <a:prstGeom prst="rect">
              <a:avLst/>
            </a:prstGeom>
            <a:solidFill>
              <a:srgbClr val="ff0066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514920" y="2169360"/>
              <a:ext cx="334800" cy="46440"/>
            </a:xfrm>
            <a:prstGeom prst="rect">
              <a:avLst/>
            </a:prstGeom>
            <a:solidFill>
              <a:srgbClr val="b3b3b3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536880" y="1752480"/>
              <a:ext cx="618120" cy="681480"/>
            </a:xfrm>
            <a:custGeom>
              <a:avLst/>
              <a:gdLst/>
              <a:ahLst/>
              <a:rect l="l" t="t" r="r" b="b"/>
              <a:pathLst>
                <a:path w="1803" h="2083">
                  <a:moveTo>
                    <a:pt x="640" y="0"/>
                  </a:moveTo>
                  <a:lnTo>
                    <a:pt x="1803" y="458"/>
                  </a:lnTo>
                  <a:lnTo>
                    <a:pt x="1164" y="2083"/>
                  </a:lnTo>
                  <a:lnTo>
                    <a:pt x="0" y="1624"/>
                  </a:lnTo>
                  <a:lnTo>
                    <a:pt x="640" y="0"/>
                  </a:lnTo>
                  <a:close/>
                </a:path>
              </a:pathLst>
            </a:custGeom>
            <a:solidFill>
              <a:srgbClr val="ffffff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89160" y="1871640"/>
              <a:ext cx="331560" cy="159120"/>
            </a:xfrm>
            <a:custGeom>
              <a:avLst/>
              <a:gdLst/>
              <a:ahLst/>
              <a:rect l="l" t="t" r="r" b="b"/>
              <a:pathLst>
                <a:path w="963" h="489">
                  <a:moveTo>
                    <a:pt x="52" y="0"/>
                  </a:moveTo>
                  <a:lnTo>
                    <a:pt x="963" y="358"/>
                  </a:lnTo>
                  <a:lnTo>
                    <a:pt x="912" y="489"/>
                  </a:lnTo>
                  <a:lnTo>
                    <a:pt x="0" y="13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cc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582600" y="2132280"/>
              <a:ext cx="329400" cy="160200"/>
            </a:xfrm>
            <a:custGeom>
              <a:avLst/>
              <a:gdLst/>
              <a:ahLst/>
              <a:rect l="l" t="t" r="r" b="b"/>
              <a:pathLst>
                <a:path w="963" h="490">
                  <a:moveTo>
                    <a:pt x="51" y="0"/>
                  </a:moveTo>
                  <a:lnTo>
                    <a:pt x="963" y="360"/>
                  </a:lnTo>
                  <a:lnTo>
                    <a:pt x="911" y="490"/>
                  </a:lnTo>
                  <a:lnTo>
                    <a:pt x="0" y="13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b3b3b3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600960" y="1847880"/>
              <a:ext cx="713880" cy="700560"/>
            </a:xfrm>
            <a:custGeom>
              <a:avLst/>
              <a:gdLst/>
              <a:ahLst/>
              <a:rect l="l" t="t" r="r" b="b"/>
              <a:pathLst>
                <a:path w="2083" h="2139">
                  <a:moveTo>
                    <a:pt x="1128" y="0"/>
                  </a:moveTo>
                  <a:lnTo>
                    <a:pt x="2083" y="806"/>
                  </a:lnTo>
                  <a:lnTo>
                    <a:pt x="956" y="2139"/>
                  </a:lnTo>
                  <a:lnTo>
                    <a:pt x="0" y="1333"/>
                  </a:lnTo>
                  <a:lnTo>
                    <a:pt x="1128" y="0"/>
                  </a:lnTo>
                  <a:close/>
                </a:path>
              </a:pathLst>
            </a:custGeom>
            <a:solidFill>
              <a:srgbClr val="ffffff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70240" y="1945080"/>
              <a:ext cx="287280" cy="241560"/>
            </a:xfrm>
            <a:custGeom>
              <a:avLst/>
              <a:gdLst/>
              <a:ahLst/>
              <a:rect l="l" t="t" r="r" b="b"/>
              <a:pathLst>
                <a:path w="839" h="739">
                  <a:moveTo>
                    <a:pt x="91" y="0"/>
                  </a:moveTo>
                  <a:lnTo>
                    <a:pt x="839" y="634"/>
                  </a:lnTo>
                  <a:lnTo>
                    <a:pt x="748" y="739"/>
                  </a:lnTo>
                  <a:lnTo>
                    <a:pt x="0" y="107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99ffff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80160" y="2159280"/>
              <a:ext cx="288360" cy="242280"/>
            </a:xfrm>
            <a:custGeom>
              <a:avLst/>
              <a:gdLst/>
              <a:ahLst/>
              <a:rect l="l" t="t" r="r" b="b"/>
              <a:pathLst>
                <a:path w="838" h="739">
                  <a:moveTo>
                    <a:pt x="91" y="0"/>
                  </a:moveTo>
                  <a:lnTo>
                    <a:pt x="838" y="632"/>
                  </a:lnTo>
                  <a:lnTo>
                    <a:pt x="747" y="739"/>
                  </a:lnTo>
                  <a:lnTo>
                    <a:pt x="0" y="107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b3b3b3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338160" y="2634480"/>
              <a:ext cx="560160" cy="371880"/>
            </a:xfrm>
            <a:custGeom>
              <a:avLst/>
              <a:gdLst/>
              <a:ahLst/>
              <a:rect l="l" t="t" r="r" b="b"/>
              <a:pathLst>
                <a:path w="1632" h="1138">
                  <a:moveTo>
                    <a:pt x="0" y="1138"/>
                  </a:moveTo>
                  <a:lnTo>
                    <a:pt x="762" y="1138"/>
                  </a:lnTo>
                  <a:lnTo>
                    <a:pt x="1632" y="0"/>
                  </a:lnTo>
                  <a:lnTo>
                    <a:pt x="124" y="0"/>
                  </a:lnTo>
                  <a:lnTo>
                    <a:pt x="0" y="1138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334560" y="2107800"/>
              <a:ext cx="261000" cy="900360"/>
            </a:xfrm>
            <a:custGeom>
              <a:avLst/>
              <a:gdLst/>
              <a:ahLst/>
              <a:rect l="l" t="t" r="r" b="b"/>
              <a:pathLst>
                <a:path w="762" h="2752">
                  <a:moveTo>
                    <a:pt x="762" y="0"/>
                  </a:moveTo>
                  <a:lnTo>
                    <a:pt x="0" y="762"/>
                  </a:lnTo>
                  <a:lnTo>
                    <a:pt x="0" y="2752"/>
                  </a:lnTo>
                  <a:lnTo>
                    <a:pt x="762" y="1990"/>
                  </a:lnTo>
                  <a:lnTo>
                    <a:pt x="762" y="0"/>
                  </a:lnTo>
                  <a:close/>
                </a:path>
              </a:pathLst>
            </a:custGeom>
            <a:solidFill>
              <a:srgbClr val="e6e6e6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020640" y="2357280"/>
              <a:ext cx="313560" cy="650520"/>
            </a:xfrm>
            <a:prstGeom prst="rect">
              <a:avLst/>
            </a:prstGeom>
            <a:solidFill>
              <a:srgbClr val="cccccc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020640" y="2107800"/>
              <a:ext cx="574920" cy="249480"/>
            </a:xfrm>
            <a:custGeom>
              <a:avLst/>
              <a:gdLst/>
              <a:ahLst/>
              <a:rect l="l" t="t" r="r" b="b"/>
              <a:pathLst>
                <a:path w="1678" h="762">
                  <a:moveTo>
                    <a:pt x="0" y="762"/>
                  </a:moveTo>
                  <a:lnTo>
                    <a:pt x="916" y="762"/>
                  </a:lnTo>
                  <a:lnTo>
                    <a:pt x="1678" y="0"/>
                  </a:lnTo>
                  <a:lnTo>
                    <a:pt x="763" y="0"/>
                  </a:lnTo>
                  <a:lnTo>
                    <a:pt x="0" y="762"/>
                  </a:lnTo>
                  <a:close/>
                </a:path>
              </a:pathLst>
            </a:custGeom>
            <a:solidFill>
              <a:srgbClr val="cccccc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020640" y="2107800"/>
              <a:ext cx="261000" cy="249480"/>
            </a:xfrm>
            <a:custGeom>
              <a:avLst/>
              <a:gdLst/>
              <a:ahLst/>
              <a:rect l="l" t="t" r="r" b="b"/>
              <a:pathLst>
                <a:path w="763" h="762">
                  <a:moveTo>
                    <a:pt x="0" y="762"/>
                  </a:moveTo>
                  <a:lnTo>
                    <a:pt x="761" y="762"/>
                  </a:lnTo>
                  <a:lnTo>
                    <a:pt x="763" y="0"/>
                  </a:lnTo>
                  <a:lnTo>
                    <a:pt x="0" y="762"/>
                  </a:lnTo>
                  <a:close/>
                </a:path>
              </a:pathLst>
            </a:custGeom>
            <a:solidFill>
              <a:srgbClr val="e6e6e6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020640" y="1807560"/>
              <a:ext cx="261000" cy="549720"/>
            </a:xfrm>
            <a:custGeom>
              <a:avLst/>
              <a:gdLst/>
              <a:ahLst/>
              <a:rect l="l" t="t" r="r" b="b"/>
              <a:pathLst>
                <a:path w="763" h="1678">
                  <a:moveTo>
                    <a:pt x="0" y="1678"/>
                  </a:moveTo>
                  <a:lnTo>
                    <a:pt x="0" y="763"/>
                  </a:lnTo>
                  <a:lnTo>
                    <a:pt x="763" y="0"/>
                  </a:lnTo>
                  <a:lnTo>
                    <a:pt x="763" y="916"/>
                  </a:lnTo>
                  <a:lnTo>
                    <a:pt x="0" y="1678"/>
                  </a:lnTo>
                  <a:close/>
                </a:path>
              </a:pathLst>
            </a:custGeom>
            <a:solidFill>
              <a:srgbClr val="e6e6e6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020640" y="2181960"/>
              <a:ext cx="313560" cy="175320"/>
            </a:xfrm>
            <a:custGeom>
              <a:avLst/>
              <a:gdLst/>
              <a:ahLst/>
              <a:rect l="l" t="t" r="r" b="b"/>
              <a:pathLst>
                <a:path w="916" h="535">
                  <a:moveTo>
                    <a:pt x="916" y="535"/>
                  </a:moveTo>
                  <a:lnTo>
                    <a:pt x="0" y="535"/>
                  </a:lnTo>
                  <a:lnTo>
                    <a:pt x="85" y="0"/>
                  </a:lnTo>
                  <a:lnTo>
                    <a:pt x="847" y="0"/>
                  </a:lnTo>
                  <a:lnTo>
                    <a:pt x="916" y="535"/>
                  </a:lnTo>
                  <a:close/>
                </a:path>
              </a:pathLst>
            </a:custGeom>
            <a:solidFill>
              <a:srgbClr val="cccccc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281640" y="1932480"/>
              <a:ext cx="313920" cy="175320"/>
            </a:xfrm>
            <a:custGeom>
              <a:avLst/>
              <a:gdLst/>
              <a:ahLst/>
              <a:rect l="l" t="t" r="r" b="b"/>
              <a:pathLst>
                <a:path w="915" h="536">
                  <a:moveTo>
                    <a:pt x="915" y="536"/>
                  </a:moveTo>
                  <a:lnTo>
                    <a:pt x="0" y="536"/>
                  </a:lnTo>
                  <a:lnTo>
                    <a:pt x="84" y="0"/>
                  </a:lnTo>
                  <a:lnTo>
                    <a:pt x="847" y="0"/>
                  </a:lnTo>
                  <a:lnTo>
                    <a:pt x="915" y="536"/>
                  </a:lnTo>
                  <a:close/>
                </a:path>
              </a:pathLst>
            </a:custGeom>
            <a:solidFill>
              <a:srgbClr val="cccccc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019920" y="1807560"/>
              <a:ext cx="435240" cy="249480"/>
            </a:xfrm>
            <a:custGeom>
              <a:avLst/>
              <a:gdLst/>
              <a:ahLst/>
              <a:rect l="l" t="t" r="r" b="b"/>
              <a:pathLst>
                <a:path w="1266" h="763">
                  <a:moveTo>
                    <a:pt x="0" y="763"/>
                  </a:moveTo>
                  <a:lnTo>
                    <a:pt x="458" y="763"/>
                  </a:lnTo>
                  <a:lnTo>
                    <a:pt x="725" y="655"/>
                  </a:lnTo>
                  <a:lnTo>
                    <a:pt x="1266" y="91"/>
                  </a:lnTo>
                  <a:lnTo>
                    <a:pt x="1220" y="0"/>
                  </a:lnTo>
                  <a:lnTo>
                    <a:pt x="762" y="0"/>
                  </a:lnTo>
                  <a:lnTo>
                    <a:pt x="0" y="763"/>
                  </a:lnTo>
                  <a:close/>
                </a:path>
              </a:pathLst>
            </a:custGeom>
            <a:solidFill>
              <a:srgbClr val="ffffff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102360" y="2494800"/>
              <a:ext cx="12960" cy="46440"/>
            </a:xfrm>
            <a:custGeom>
              <a:avLst/>
              <a:gdLst/>
              <a:ahLst/>
              <a:rect l="l" t="t" r="r" b="b"/>
              <a:pathLst>
                <a:path w="37" h="146">
                  <a:moveTo>
                    <a:pt x="37" y="0"/>
                  </a:moveTo>
                  <a:lnTo>
                    <a:pt x="0" y="0"/>
                  </a:lnTo>
                  <a:lnTo>
                    <a:pt x="0" y="146"/>
                  </a:lnTo>
                  <a:lnTo>
                    <a:pt x="32" y="14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105960" y="2494800"/>
              <a:ext cx="1764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83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11388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123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121800" y="2494800"/>
              <a:ext cx="1800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4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1a2e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12972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4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242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13764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2c2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146280" y="2494800"/>
              <a:ext cx="1656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352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15348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d2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161400" y="2494800"/>
              <a:ext cx="1836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472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170040" y="2494800"/>
              <a:ext cx="17640" cy="46440"/>
            </a:xfrm>
            <a:custGeom>
              <a:avLst/>
              <a:gdLst/>
              <a:ahLst/>
              <a:rect l="l" t="t" r="r" b="b"/>
              <a:pathLst>
                <a:path w="53" h="146">
                  <a:moveTo>
                    <a:pt x="53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4f2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177960" y="2494800"/>
              <a:ext cx="1836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9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18588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3" h="146">
                  <a:moveTo>
                    <a:pt x="53" y="0"/>
                  </a:moveTo>
                  <a:lnTo>
                    <a:pt x="7" y="0"/>
                  </a:lnTo>
                  <a:lnTo>
                    <a:pt x="0" y="146"/>
                  </a:lnTo>
                  <a:lnTo>
                    <a:pt x="48" y="146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12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193800" y="2494800"/>
              <a:ext cx="1764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6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91f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201720" y="2494800"/>
              <a:ext cx="1836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731f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20964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4" h="146">
                  <a:moveTo>
                    <a:pt x="54" y="0"/>
                  </a:moveTo>
                  <a:lnTo>
                    <a:pt x="6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a1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217920" y="2494800"/>
              <a:ext cx="1800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6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21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22548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3" h="146">
                  <a:moveTo>
                    <a:pt x="53" y="0"/>
                  </a:moveTo>
                  <a:lnTo>
                    <a:pt x="7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8c1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233400" y="2494800"/>
              <a:ext cx="1836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941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241320" y="2494800"/>
              <a:ext cx="18000" cy="46440"/>
            </a:xfrm>
            <a:custGeom>
              <a:avLst/>
              <a:gdLst/>
              <a:ahLst/>
              <a:rect l="l" t="t" r="r" b="b"/>
              <a:pathLst>
                <a:path w="54" h="146">
                  <a:moveTo>
                    <a:pt x="54" y="0"/>
                  </a:moveTo>
                  <a:lnTo>
                    <a:pt x="7" y="0"/>
                  </a:lnTo>
                  <a:lnTo>
                    <a:pt x="0" y="146"/>
                  </a:lnTo>
                  <a:lnTo>
                    <a:pt x="48" y="146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e1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249240" y="2494800"/>
              <a:ext cx="1836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61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257880" y="2494800"/>
              <a:ext cx="1764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6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b01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26616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b81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27408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0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281640" y="2494800"/>
              <a:ext cx="17640" cy="46440"/>
            </a:xfrm>
            <a:custGeom>
              <a:avLst/>
              <a:gdLst/>
              <a:ahLst/>
              <a:rect l="l" t="t" r="r" b="b"/>
              <a:pathLst>
                <a:path w="53" h="146">
                  <a:moveTo>
                    <a:pt x="53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8" y="146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90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289920" y="2494800"/>
              <a:ext cx="1836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40b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29784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b0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305400" y="2494800"/>
              <a:ext cx="1836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e30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31332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ed05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321600" y="2494800"/>
              <a:ext cx="12960" cy="46440"/>
            </a:xfrm>
            <a:custGeom>
              <a:avLst/>
              <a:gdLst/>
              <a:ahLst/>
              <a:rect l="l" t="t" r="r" b="b"/>
              <a:pathLst>
                <a:path w="39" h="146">
                  <a:moveTo>
                    <a:pt x="5" y="0"/>
                  </a:moveTo>
                  <a:lnTo>
                    <a:pt x="39" y="0"/>
                  </a:lnTo>
                  <a:lnTo>
                    <a:pt x="39" y="146"/>
                  </a:lnTo>
                  <a:lnTo>
                    <a:pt x="0" y="14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5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330240" y="2494800"/>
              <a:ext cx="4320" cy="46440"/>
            </a:xfrm>
            <a:custGeom>
              <a:avLst/>
              <a:gdLst/>
              <a:ahLst/>
              <a:rect l="l" t="t" r="r" b="b"/>
              <a:pathLst>
                <a:path w="15" h="146">
                  <a:moveTo>
                    <a:pt x="4" y="0"/>
                  </a:moveTo>
                  <a:lnTo>
                    <a:pt x="15" y="0"/>
                  </a:lnTo>
                  <a:lnTo>
                    <a:pt x="15" y="146"/>
                  </a:lnTo>
                  <a:lnTo>
                    <a:pt x="0" y="14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102360" y="2489400"/>
              <a:ext cx="237960" cy="9360"/>
            </a:xfrm>
            <a:custGeom>
              <a:avLst/>
              <a:gdLst/>
              <a:ahLst/>
              <a:rect l="l" t="t" r="r" b="b"/>
              <a:pathLst>
                <a:path w="693" h="31">
                  <a:moveTo>
                    <a:pt x="693" y="16"/>
                  </a:moveTo>
                  <a:lnTo>
                    <a:pt x="677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677" y="31"/>
                  </a:lnTo>
                  <a:lnTo>
                    <a:pt x="662" y="16"/>
                  </a:lnTo>
                  <a:lnTo>
                    <a:pt x="677" y="31"/>
                  </a:lnTo>
                  <a:lnTo>
                    <a:pt x="684" y="30"/>
                  </a:lnTo>
                  <a:lnTo>
                    <a:pt x="689" y="26"/>
                  </a:lnTo>
                  <a:lnTo>
                    <a:pt x="692" y="21"/>
                  </a:lnTo>
                  <a:lnTo>
                    <a:pt x="693" y="16"/>
                  </a:lnTo>
                  <a:lnTo>
                    <a:pt x="692" y="10"/>
                  </a:lnTo>
                  <a:lnTo>
                    <a:pt x="689" y="5"/>
                  </a:lnTo>
                  <a:lnTo>
                    <a:pt x="684" y="1"/>
                  </a:lnTo>
                  <a:lnTo>
                    <a:pt x="677" y="0"/>
                  </a:lnTo>
                  <a:lnTo>
                    <a:pt x="69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330240" y="2494800"/>
              <a:ext cx="10440" cy="51840"/>
            </a:xfrm>
            <a:custGeom>
              <a:avLst/>
              <a:gdLst/>
              <a:ahLst/>
              <a:rect l="l" t="t" r="r" b="b"/>
              <a:pathLst>
                <a:path w="31" h="162">
                  <a:moveTo>
                    <a:pt x="15" y="162"/>
                  </a:moveTo>
                  <a:lnTo>
                    <a:pt x="31" y="146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146"/>
                  </a:lnTo>
                  <a:lnTo>
                    <a:pt x="15" y="130"/>
                  </a:lnTo>
                  <a:lnTo>
                    <a:pt x="0" y="146"/>
                  </a:lnTo>
                  <a:lnTo>
                    <a:pt x="1" y="153"/>
                  </a:lnTo>
                  <a:lnTo>
                    <a:pt x="4" y="157"/>
                  </a:lnTo>
                  <a:lnTo>
                    <a:pt x="10" y="159"/>
                  </a:lnTo>
                  <a:lnTo>
                    <a:pt x="15" y="161"/>
                  </a:lnTo>
                  <a:lnTo>
                    <a:pt x="21" y="159"/>
                  </a:lnTo>
                  <a:lnTo>
                    <a:pt x="26" y="157"/>
                  </a:lnTo>
                  <a:lnTo>
                    <a:pt x="30" y="153"/>
                  </a:lnTo>
                  <a:lnTo>
                    <a:pt x="31" y="146"/>
                  </a:lnTo>
                  <a:lnTo>
                    <a:pt x="15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096960" y="2536920"/>
              <a:ext cx="237240" cy="10080"/>
            </a:xfrm>
            <a:custGeom>
              <a:avLst/>
              <a:gdLst/>
              <a:ahLst/>
              <a:rect l="l" t="t" r="r" b="b"/>
              <a:pathLst>
                <a:path w="693" h="32">
                  <a:moveTo>
                    <a:pt x="0" y="16"/>
                  </a:moveTo>
                  <a:lnTo>
                    <a:pt x="16" y="32"/>
                  </a:lnTo>
                  <a:lnTo>
                    <a:pt x="693" y="32"/>
                  </a:lnTo>
                  <a:lnTo>
                    <a:pt x="693" y="0"/>
                  </a:lnTo>
                  <a:lnTo>
                    <a:pt x="16" y="0"/>
                  </a:lnTo>
                  <a:lnTo>
                    <a:pt x="31" y="1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4" y="27"/>
                  </a:lnTo>
                  <a:lnTo>
                    <a:pt x="9" y="29"/>
                  </a:lnTo>
                  <a:lnTo>
                    <a:pt x="16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096960" y="2489400"/>
              <a:ext cx="11520" cy="51840"/>
            </a:xfrm>
            <a:custGeom>
              <a:avLst/>
              <a:gdLst/>
              <a:ahLst/>
              <a:rect l="l" t="t" r="r" b="b"/>
              <a:pathLst>
                <a:path w="31" h="162">
                  <a:moveTo>
                    <a:pt x="16" y="0"/>
                  </a:moveTo>
                  <a:lnTo>
                    <a:pt x="0" y="16"/>
                  </a:lnTo>
                  <a:lnTo>
                    <a:pt x="0" y="162"/>
                  </a:lnTo>
                  <a:lnTo>
                    <a:pt x="31" y="162"/>
                  </a:lnTo>
                  <a:lnTo>
                    <a:pt x="31" y="16"/>
                  </a:lnTo>
                  <a:lnTo>
                    <a:pt x="16" y="31"/>
                  </a:lnTo>
                  <a:lnTo>
                    <a:pt x="31" y="16"/>
                  </a:lnTo>
                  <a:lnTo>
                    <a:pt x="30" y="9"/>
                  </a:lnTo>
                  <a:lnTo>
                    <a:pt x="27" y="4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552720" y="2273040"/>
              <a:ext cx="14760" cy="50400"/>
            </a:xfrm>
            <a:custGeom>
              <a:avLst/>
              <a:gdLst/>
              <a:ahLst/>
              <a:rect l="l" t="t" r="r" b="b"/>
              <a:pathLst>
                <a:path w="42" h="155">
                  <a:moveTo>
                    <a:pt x="0" y="43"/>
                  </a:moveTo>
                  <a:lnTo>
                    <a:pt x="42" y="0"/>
                  </a:lnTo>
                  <a:lnTo>
                    <a:pt x="42" y="146"/>
                  </a:lnTo>
                  <a:lnTo>
                    <a:pt x="33" y="155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545520" y="2277720"/>
              <a:ext cx="21960" cy="52920"/>
            </a:xfrm>
            <a:custGeom>
              <a:avLst/>
              <a:gdLst/>
              <a:ahLst/>
              <a:rect l="l" t="t" r="r" b="b"/>
              <a:pathLst>
                <a:path w="66" h="160">
                  <a:moveTo>
                    <a:pt x="0" y="48"/>
                  </a:moveTo>
                  <a:lnTo>
                    <a:pt x="49" y="0"/>
                  </a:lnTo>
                  <a:lnTo>
                    <a:pt x="66" y="58"/>
                  </a:lnTo>
                  <a:lnTo>
                    <a:pt x="66" y="128"/>
                  </a:lnTo>
                  <a:lnTo>
                    <a:pt x="34" y="16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83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536880" y="2286360"/>
              <a:ext cx="27000" cy="51840"/>
            </a:xfrm>
            <a:custGeom>
              <a:avLst/>
              <a:gdLst/>
              <a:ahLst/>
              <a:rect l="l" t="t" r="r" b="b"/>
              <a:pathLst>
                <a:path w="81" h="160">
                  <a:moveTo>
                    <a:pt x="0" y="47"/>
                  </a:moveTo>
                  <a:lnTo>
                    <a:pt x="48" y="0"/>
                  </a:lnTo>
                  <a:lnTo>
                    <a:pt x="81" y="112"/>
                  </a:lnTo>
                  <a:lnTo>
                    <a:pt x="34" y="16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23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528960" y="2294280"/>
              <a:ext cx="27000" cy="51840"/>
            </a:xfrm>
            <a:custGeom>
              <a:avLst/>
              <a:gdLst/>
              <a:ahLst/>
              <a:rect l="l" t="t" r="r" b="b"/>
              <a:pathLst>
                <a:path w="81" h="162">
                  <a:moveTo>
                    <a:pt x="0" y="49"/>
                  </a:moveTo>
                  <a:lnTo>
                    <a:pt x="47" y="0"/>
                  </a:lnTo>
                  <a:lnTo>
                    <a:pt x="81" y="112"/>
                  </a:lnTo>
                  <a:lnTo>
                    <a:pt x="32" y="16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a2e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519960" y="2301120"/>
              <a:ext cx="28800" cy="52920"/>
            </a:xfrm>
            <a:custGeom>
              <a:avLst/>
              <a:gdLst/>
              <a:ahLst/>
              <a:rect l="l" t="t" r="r" b="b"/>
              <a:pathLst>
                <a:path w="82" h="162">
                  <a:moveTo>
                    <a:pt x="0" y="48"/>
                  </a:moveTo>
                  <a:lnTo>
                    <a:pt x="48" y="0"/>
                  </a:lnTo>
                  <a:lnTo>
                    <a:pt x="82" y="113"/>
                  </a:lnTo>
                  <a:lnTo>
                    <a:pt x="33" y="16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242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511320" y="2310120"/>
              <a:ext cx="28080" cy="5184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0" y="48"/>
                  </a:moveTo>
                  <a:lnTo>
                    <a:pt x="50" y="0"/>
                  </a:lnTo>
                  <a:lnTo>
                    <a:pt x="82" y="113"/>
                  </a:lnTo>
                  <a:lnTo>
                    <a:pt x="34" y="16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2c2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503400" y="2318040"/>
              <a:ext cx="28080" cy="51840"/>
            </a:xfrm>
            <a:custGeom>
              <a:avLst/>
              <a:gdLst/>
              <a:ahLst/>
              <a:rect l="l" t="t" r="r" b="b"/>
              <a:pathLst>
                <a:path w="82" h="161">
                  <a:moveTo>
                    <a:pt x="0" y="49"/>
                  </a:moveTo>
                  <a:lnTo>
                    <a:pt x="49" y="0"/>
                  </a:lnTo>
                  <a:lnTo>
                    <a:pt x="82" y="114"/>
                  </a:lnTo>
                  <a:lnTo>
                    <a:pt x="34" y="161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352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495480" y="2325600"/>
              <a:ext cx="28080" cy="51840"/>
            </a:xfrm>
            <a:custGeom>
              <a:avLst/>
              <a:gdLst/>
              <a:ahLst/>
              <a:rect l="l" t="t" r="r" b="b"/>
              <a:pathLst>
                <a:path w="81" h="159">
                  <a:moveTo>
                    <a:pt x="0" y="48"/>
                  </a:moveTo>
                  <a:lnTo>
                    <a:pt x="47" y="0"/>
                  </a:lnTo>
                  <a:lnTo>
                    <a:pt x="81" y="112"/>
                  </a:lnTo>
                  <a:lnTo>
                    <a:pt x="33" y="15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3d2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487560" y="2333520"/>
              <a:ext cx="27000" cy="51840"/>
            </a:xfrm>
            <a:custGeom>
              <a:avLst/>
              <a:gdLst/>
              <a:ahLst/>
              <a:rect l="l" t="t" r="r" b="b"/>
              <a:pathLst>
                <a:path w="81" h="160">
                  <a:moveTo>
                    <a:pt x="0" y="47"/>
                  </a:moveTo>
                  <a:lnTo>
                    <a:pt x="47" y="0"/>
                  </a:lnTo>
                  <a:lnTo>
                    <a:pt x="81" y="112"/>
                  </a:lnTo>
                  <a:lnTo>
                    <a:pt x="32" y="16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472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479640" y="2341440"/>
              <a:ext cx="27000" cy="51840"/>
            </a:xfrm>
            <a:custGeom>
              <a:avLst/>
              <a:gdLst/>
              <a:ahLst/>
              <a:rect l="l" t="t" r="r" b="b"/>
              <a:pathLst>
                <a:path w="81" h="160">
                  <a:moveTo>
                    <a:pt x="0" y="47"/>
                  </a:moveTo>
                  <a:lnTo>
                    <a:pt x="48" y="0"/>
                  </a:lnTo>
                  <a:lnTo>
                    <a:pt x="81" y="111"/>
                  </a:lnTo>
                  <a:lnTo>
                    <a:pt x="33" y="16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4f2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471000" y="2349360"/>
              <a:ext cx="28080" cy="51840"/>
            </a:xfrm>
            <a:custGeom>
              <a:avLst/>
              <a:gdLst/>
              <a:ahLst/>
              <a:rect l="l" t="t" r="r" b="b"/>
              <a:pathLst>
                <a:path w="80" h="162">
                  <a:moveTo>
                    <a:pt x="0" y="49"/>
                  </a:moveTo>
                  <a:lnTo>
                    <a:pt x="48" y="0"/>
                  </a:lnTo>
                  <a:lnTo>
                    <a:pt x="80" y="113"/>
                  </a:lnTo>
                  <a:lnTo>
                    <a:pt x="33" y="16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59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462000" y="2356560"/>
              <a:ext cx="28080" cy="52920"/>
            </a:xfrm>
            <a:custGeom>
              <a:avLst/>
              <a:gdLst/>
              <a:ahLst/>
              <a:rect l="l" t="t" r="r" b="b"/>
              <a:pathLst>
                <a:path w="82" h="162">
                  <a:moveTo>
                    <a:pt x="0" y="50"/>
                  </a:moveTo>
                  <a:lnTo>
                    <a:pt x="49" y="0"/>
                  </a:lnTo>
                  <a:lnTo>
                    <a:pt x="82" y="113"/>
                  </a:lnTo>
                  <a:lnTo>
                    <a:pt x="33" y="16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612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454440" y="2365200"/>
              <a:ext cx="28080" cy="5184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0" y="48"/>
                  </a:moveTo>
                  <a:lnTo>
                    <a:pt x="49" y="0"/>
                  </a:lnTo>
                  <a:lnTo>
                    <a:pt x="82" y="113"/>
                  </a:lnTo>
                  <a:lnTo>
                    <a:pt x="34" y="16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91f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445440" y="2372400"/>
              <a:ext cx="28080" cy="53640"/>
            </a:xfrm>
            <a:custGeom>
              <a:avLst/>
              <a:gdLst/>
              <a:ahLst/>
              <a:rect l="l" t="t" r="r" b="b"/>
              <a:pathLst>
                <a:path w="81" h="160">
                  <a:moveTo>
                    <a:pt x="0" y="47"/>
                  </a:moveTo>
                  <a:lnTo>
                    <a:pt x="48" y="0"/>
                  </a:lnTo>
                  <a:lnTo>
                    <a:pt x="81" y="112"/>
                  </a:lnTo>
                  <a:lnTo>
                    <a:pt x="33" y="16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731f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437520" y="2380320"/>
              <a:ext cx="28080" cy="52920"/>
            </a:xfrm>
            <a:custGeom>
              <a:avLst/>
              <a:gdLst/>
              <a:ahLst/>
              <a:rect l="l" t="t" r="r" b="b"/>
              <a:pathLst>
                <a:path w="82" h="161">
                  <a:moveTo>
                    <a:pt x="0" y="49"/>
                  </a:moveTo>
                  <a:lnTo>
                    <a:pt x="48" y="0"/>
                  </a:lnTo>
                  <a:lnTo>
                    <a:pt x="82" y="112"/>
                  </a:lnTo>
                  <a:lnTo>
                    <a:pt x="33" y="161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7a1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429600" y="2388240"/>
              <a:ext cx="27000" cy="52920"/>
            </a:xfrm>
            <a:custGeom>
              <a:avLst/>
              <a:gdLst/>
              <a:ahLst/>
              <a:rect l="l" t="t" r="r" b="b"/>
              <a:pathLst>
                <a:path w="81" h="160">
                  <a:moveTo>
                    <a:pt x="0" y="48"/>
                  </a:moveTo>
                  <a:lnTo>
                    <a:pt x="48" y="0"/>
                  </a:lnTo>
                  <a:lnTo>
                    <a:pt x="81" y="113"/>
                  </a:lnTo>
                  <a:lnTo>
                    <a:pt x="33" y="16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821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420600" y="2396160"/>
              <a:ext cx="28080" cy="52560"/>
            </a:xfrm>
            <a:custGeom>
              <a:avLst/>
              <a:gdLst/>
              <a:ahLst/>
              <a:rect l="l" t="t" r="r" b="b"/>
              <a:pathLst>
                <a:path w="81" h="160">
                  <a:moveTo>
                    <a:pt x="0" y="47"/>
                  </a:moveTo>
                  <a:lnTo>
                    <a:pt x="48" y="0"/>
                  </a:lnTo>
                  <a:lnTo>
                    <a:pt x="81" y="112"/>
                  </a:lnTo>
                  <a:lnTo>
                    <a:pt x="34" y="16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8c1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412680" y="2404080"/>
              <a:ext cx="28080" cy="52560"/>
            </a:xfrm>
            <a:custGeom>
              <a:avLst/>
              <a:gdLst/>
              <a:ahLst/>
              <a:rect l="l" t="t" r="r" b="b"/>
              <a:pathLst>
                <a:path w="82" h="162">
                  <a:moveTo>
                    <a:pt x="0" y="49"/>
                  </a:moveTo>
                  <a:lnTo>
                    <a:pt x="49" y="0"/>
                  </a:lnTo>
                  <a:lnTo>
                    <a:pt x="82" y="112"/>
                  </a:lnTo>
                  <a:lnTo>
                    <a:pt x="34" y="16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941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405120" y="2412000"/>
              <a:ext cx="28080" cy="52560"/>
            </a:xfrm>
            <a:custGeom>
              <a:avLst/>
              <a:gdLst/>
              <a:ahLst/>
              <a:rect l="l" t="t" r="r" b="b"/>
              <a:pathLst>
                <a:path w="82" h="162">
                  <a:moveTo>
                    <a:pt x="0" y="48"/>
                  </a:moveTo>
                  <a:lnTo>
                    <a:pt x="48" y="0"/>
                  </a:lnTo>
                  <a:lnTo>
                    <a:pt x="82" y="113"/>
                  </a:lnTo>
                  <a:lnTo>
                    <a:pt x="33" y="16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9e1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396120" y="2419920"/>
              <a:ext cx="28080" cy="5256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0" y="48"/>
                  </a:moveTo>
                  <a:lnTo>
                    <a:pt x="48" y="0"/>
                  </a:lnTo>
                  <a:lnTo>
                    <a:pt x="82" y="113"/>
                  </a:lnTo>
                  <a:lnTo>
                    <a:pt x="33" y="16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a61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388200" y="2427840"/>
              <a:ext cx="28080" cy="51840"/>
            </a:xfrm>
            <a:custGeom>
              <a:avLst/>
              <a:gdLst/>
              <a:ahLst/>
              <a:rect l="l" t="t" r="r" b="b"/>
              <a:pathLst>
                <a:path w="82" h="161">
                  <a:moveTo>
                    <a:pt x="0" y="49"/>
                  </a:moveTo>
                  <a:lnTo>
                    <a:pt x="49" y="0"/>
                  </a:lnTo>
                  <a:lnTo>
                    <a:pt x="82" y="114"/>
                  </a:lnTo>
                  <a:lnTo>
                    <a:pt x="34" y="161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b01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380280" y="2436120"/>
              <a:ext cx="27000" cy="51120"/>
            </a:xfrm>
            <a:custGeom>
              <a:avLst/>
              <a:gdLst/>
              <a:ahLst/>
              <a:rect l="l" t="t" r="r" b="b"/>
              <a:pathLst>
                <a:path w="80" h="160">
                  <a:moveTo>
                    <a:pt x="0" y="48"/>
                  </a:moveTo>
                  <a:lnTo>
                    <a:pt x="47" y="0"/>
                  </a:lnTo>
                  <a:lnTo>
                    <a:pt x="80" y="112"/>
                  </a:lnTo>
                  <a:lnTo>
                    <a:pt x="33" y="16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81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371640" y="2443320"/>
              <a:ext cx="27000" cy="52920"/>
            </a:xfrm>
            <a:custGeom>
              <a:avLst/>
              <a:gdLst/>
              <a:ahLst/>
              <a:rect l="l" t="t" r="r" b="b"/>
              <a:pathLst>
                <a:path w="81" h="160">
                  <a:moveTo>
                    <a:pt x="0" y="47"/>
                  </a:moveTo>
                  <a:lnTo>
                    <a:pt x="47" y="0"/>
                  </a:lnTo>
                  <a:lnTo>
                    <a:pt x="81" y="112"/>
                  </a:lnTo>
                  <a:lnTo>
                    <a:pt x="32" y="16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20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363720" y="2451240"/>
              <a:ext cx="28080" cy="52920"/>
            </a:xfrm>
            <a:custGeom>
              <a:avLst/>
              <a:gdLst/>
              <a:ahLst/>
              <a:rect l="l" t="t" r="r" b="b"/>
              <a:pathLst>
                <a:path w="82" h="161">
                  <a:moveTo>
                    <a:pt x="0" y="48"/>
                  </a:moveTo>
                  <a:lnTo>
                    <a:pt x="49" y="0"/>
                  </a:lnTo>
                  <a:lnTo>
                    <a:pt x="82" y="112"/>
                  </a:lnTo>
                  <a:lnTo>
                    <a:pt x="34" y="161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c90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355800" y="2459160"/>
              <a:ext cx="27000" cy="52920"/>
            </a:xfrm>
            <a:custGeom>
              <a:avLst/>
              <a:gdLst/>
              <a:ahLst/>
              <a:rect l="l" t="t" r="r" b="b"/>
              <a:pathLst>
                <a:path w="81" h="162">
                  <a:moveTo>
                    <a:pt x="0" y="49"/>
                  </a:moveTo>
                  <a:lnTo>
                    <a:pt x="49" y="0"/>
                  </a:lnTo>
                  <a:lnTo>
                    <a:pt x="81" y="113"/>
                  </a:lnTo>
                  <a:lnTo>
                    <a:pt x="33" y="16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40b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346080" y="2468160"/>
              <a:ext cx="28080" cy="51840"/>
            </a:xfrm>
            <a:custGeom>
              <a:avLst/>
              <a:gdLst/>
              <a:ahLst/>
              <a:rect l="l" t="t" r="r" b="b"/>
              <a:pathLst>
                <a:path w="82" h="161">
                  <a:moveTo>
                    <a:pt x="0" y="49"/>
                  </a:moveTo>
                  <a:lnTo>
                    <a:pt x="48" y="0"/>
                  </a:lnTo>
                  <a:lnTo>
                    <a:pt x="82" y="113"/>
                  </a:lnTo>
                  <a:lnTo>
                    <a:pt x="33" y="161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b0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338160" y="2475000"/>
              <a:ext cx="28080" cy="52560"/>
            </a:xfrm>
            <a:custGeom>
              <a:avLst/>
              <a:gdLst/>
              <a:ahLst/>
              <a:rect l="l" t="t" r="r" b="b"/>
              <a:pathLst>
                <a:path w="81" h="160">
                  <a:moveTo>
                    <a:pt x="0" y="48"/>
                  </a:moveTo>
                  <a:lnTo>
                    <a:pt x="48" y="0"/>
                  </a:lnTo>
                  <a:lnTo>
                    <a:pt x="81" y="113"/>
                  </a:lnTo>
                  <a:lnTo>
                    <a:pt x="33" y="16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e30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334560" y="2483640"/>
              <a:ext cx="23400" cy="51840"/>
            </a:xfrm>
            <a:custGeom>
              <a:avLst/>
              <a:gdLst/>
              <a:ahLst/>
              <a:rect l="l" t="t" r="r" b="b"/>
              <a:pathLst>
                <a:path w="67" h="160">
                  <a:moveTo>
                    <a:pt x="34" y="0"/>
                  </a:moveTo>
                  <a:lnTo>
                    <a:pt x="0" y="33"/>
                  </a:lnTo>
                  <a:lnTo>
                    <a:pt x="0" y="97"/>
                  </a:lnTo>
                  <a:lnTo>
                    <a:pt x="19" y="160"/>
                  </a:lnTo>
                  <a:lnTo>
                    <a:pt x="67" y="1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d05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334560" y="2490840"/>
              <a:ext cx="14760" cy="50400"/>
            </a:xfrm>
            <a:custGeom>
              <a:avLst/>
              <a:gdLst/>
              <a:ahLst/>
              <a:rect l="l" t="t" r="r" b="b"/>
              <a:pathLst>
                <a:path w="43" h="156">
                  <a:moveTo>
                    <a:pt x="10" y="0"/>
                  </a:moveTo>
                  <a:lnTo>
                    <a:pt x="0" y="10"/>
                  </a:lnTo>
                  <a:lnTo>
                    <a:pt x="0" y="156"/>
                  </a:lnTo>
                  <a:lnTo>
                    <a:pt x="43" y="1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5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330240" y="2269080"/>
              <a:ext cx="240840" cy="229680"/>
            </a:xfrm>
            <a:custGeom>
              <a:avLst/>
              <a:gdLst/>
              <a:ahLst/>
              <a:rect l="l" t="t" r="r" b="b"/>
              <a:pathLst>
                <a:path w="704" h="704">
                  <a:moveTo>
                    <a:pt x="31" y="689"/>
                  </a:moveTo>
                  <a:lnTo>
                    <a:pt x="26" y="699"/>
                  </a:lnTo>
                  <a:lnTo>
                    <a:pt x="704" y="23"/>
                  </a:lnTo>
                  <a:lnTo>
                    <a:pt x="682" y="0"/>
                  </a:lnTo>
                  <a:lnTo>
                    <a:pt x="4" y="678"/>
                  </a:lnTo>
                  <a:lnTo>
                    <a:pt x="0" y="689"/>
                  </a:lnTo>
                  <a:lnTo>
                    <a:pt x="4" y="678"/>
                  </a:lnTo>
                  <a:lnTo>
                    <a:pt x="0" y="683"/>
                  </a:lnTo>
                  <a:lnTo>
                    <a:pt x="0" y="689"/>
                  </a:lnTo>
                  <a:lnTo>
                    <a:pt x="1" y="695"/>
                  </a:lnTo>
                  <a:lnTo>
                    <a:pt x="5" y="699"/>
                  </a:lnTo>
                  <a:lnTo>
                    <a:pt x="9" y="703"/>
                  </a:lnTo>
                  <a:lnTo>
                    <a:pt x="15" y="704"/>
                  </a:lnTo>
                  <a:lnTo>
                    <a:pt x="21" y="704"/>
                  </a:lnTo>
                  <a:lnTo>
                    <a:pt x="26" y="699"/>
                  </a:lnTo>
                  <a:lnTo>
                    <a:pt x="31" y="6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330240" y="2494800"/>
              <a:ext cx="10440" cy="51840"/>
            </a:xfrm>
            <a:custGeom>
              <a:avLst/>
              <a:gdLst/>
              <a:ahLst/>
              <a:rect l="l" t="t" r="r" b="b"/>
              <a:pathLst>
                <a:path w="31" h="161">
                  <a:moveTo>
                    <a:pt x="4" y="134"/>
                  </a:moveTo>
                  <a:lnTo>
                    <a:pt x="31" y="146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146"/>
                  </a:lnTo>
                  <a:lnTo>
                    <a:pt x="26" y="157"/>
                  </a:lnTo>
                  <a:lnTo>
                    <a:pt x="0" y="146"/>
                  </a:lnTo>
                  <a:lnTo>
                    <a:pt x="1" y="153"/>
                  </a:lnTo>
                  <a:lnTo>
                    <a:pt x="4" y="157"/>
                  </a:lnTo>
                  <a:lnTo>
                    <a:pt x="10" y="159"/>
                  </a:lnTo>
                  <a:lnTo>
                    <a:pt x="15" y="161"/>
                  </a:lnTo>
                  <a:lnTo>
                    <a:pt x="21" y="159"/>
                  </a:lnTo>
                  <a:lnTo>
                    <a:pt x="26" y="157"/>
                  </a:lnTo>
                  <a:lnTo>
                    <a:pt x="30" y="153"/>
                  </a:lnTo>
                  <a:lnTo>
                    <a:pt x="31" y="146"/>
                  </a:lnTo>
                  <a:lnTo>
                    <a:pt x="4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330960" y="2314800"/>
              <a:ext cx="242640" cy="230400"/>
            </a:xfrm>
            <a:custGeom>
              <a:avLst/>
              <a:gdLst/>
              <a:ahLst/>
              <a:rect l="l" t="t" r="r" b="b"/>
              <a:pathLst>
                <a:path w="705" h="705">
                  <a:moveTo>
                    <a:pt x="673" y="16"/>
                  </a:moveTo>
                  <a:lnTo>
                    <a:pt x="678" y="5"/>
                  </a:lnTo>
                  <a:lnTo>
                    <a:pt x="0" y="682"/>
                  </a:lnTo>
                  <a:lnTo>
                    <a:pt x="22" y="705"/>
                  </a:lnTo>
                  <a:lnTo>
                    <a:pt x="700" y="27"/>
                  </a:lnTo>
                  <a:lnTo>
                    <a:pt x="705" y="16"/>
                  </a:lnTo>
                  <a:lnTo>
                    <a:pt x="700" y="27"/>
                  </a:lnTo>
                  <a:lnTo>
                    <a:pt x="704" y="22"/>
                  </a:lnTo>
                  <a:lnTo>
                    <a:pt x="705" y="16"/>
                  </a:lnTo>
                  <a:lnTo>
                    <a:pt x="704" y="10"/>
                  </a:lnTo>
                  <a:lnTo>
                    <a:pt x="700" y="5"/>
                  </a:lnTo>
                  <a:lnTo>
                    <a:pt x="695" y="2"/>
                  </a:lnTo>
                  <a:lnTo>
                    <a:pt x="690" y="0"/>
                  </a:lnTo>
                  <a:lnTo>
                    <a:pt x="684" y="1"/>
                  </a:lnTo>
                  <a:lnTo>
                    <a:pt x="678" y="5"/>
                  </a:lnTo>
                  <a:lnTo>
                    <a:pt x="67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561720" y="2267280"/>
              <a:ext cx="11880" cy="51840"/>
            </a:xfrm>
            <a:custGeom>
              <a:avLst/>
              <a:gdLst/>
              <a:ahLst/>
              <a:rect l="l" t="t" r="r" b="b"/>
              <a:pathLst>
                <a:path w="32" h="162">
                  <a:moveTo>
                    <a:pt x="27" y="28"/>
                  </a:moveTo>
                  <a:lnTo>
                    <a:pt x="0" y="16"/>
                  </a:lnTo>
                  <a:lnTo>
                    <a:pt x="0" y="162"/>
                  </a:lnTo>
                  <a:lnTo>
                    <a:pt x="32" y="162"/>
                  </a:lnTo>
                  <a:lnTo>
                    <a:pt x="32" y="16"/>
                  </a:lnTo>
                  <a:lnTo>
                    <a:pt x="5" y="5"/>
                  </a:lnTo>
                  <a:lnTo>
                    <a:pt x="32" y="16"/>
                  </a:lnTo>
                  <a:lnTo>
                    <a:pt x="31" y="9"/>
                  </a:lnTo>
                  <a:lnTo>
                    <a:pt x="27" y="4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5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2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102360" y="2926080"/>
              <a:ext cx="88560" cy="2268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102360" y="2912760"/>
              <a:ext cx="88560" cy="25920"/>
            </a:xfrm>
            <a:prstGeom prst="rect">
              <a:avLst/>
            </a:prstGeom>
            <a:solidFill>
              <a:srgbClr val="083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102360" y="2900160"/>
              <a:ext cx="88560" cy="25920"/>
            </a:xfrm>
            <a:prstGeom prst="rect">
              <a:avLst/>
            </a:prstGeom>
            <a:solidFill>
              <a:srgbClr val="123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102360" y="2886480"/>
              <a:ext cx="88560" cy="25920"/>
            </a:xfrm>
            <a:prstGeom prst="rect">
              <a:avLst/>
            </a:prstGeom>
            <a:solidFill>
              <a:srgbClr val="1a2e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102360" y="2873160"/>
              <a:ext cx="88560" cy="26640"/>
            </a:xfrm>
            <a:prstGeom prst="rect">
              <a:avLst/>
            </a:prstGeom>
            <a:solidFill>
              <a:srgbClr val="242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102360" y="2860560"/>
              <a:ext cx="88560" cy="25920"/>
            </a:xfrm>
            <a:prstGeom prst="rect">
              <a:avLst/>
            </a:prstGeom>
            <a:solidFill>
              <a:srgbClr val="2c2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102360" y="2847240"/>
              <a:ext cx="88560" cy="25920"/>
            </a:xfrm>
            <a:prstGeom prst="rect">
              <a:avLst/>
            </a:prstGeom>
            <a:solidFill>
              <a:srgbClr val="352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102360" y="2834640"/>
              <a:ext cx="88560" cy="25920"/>
            </a:xfrm>
            <a:prstGeom prst="rect">
              <a:avLst/>
            </a:prstGeom>
            <a:solidFill>
              <a:srgbClr val="3d2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102360" y="2820240"/>
              <a:ext cx="88560" cy="26640"/>
            </a:xfrm>
            <a:prstGeom prst="rect">
              <a:avLst/>
            </a:prstGeom>
            <a:solidFill>
              <a:srgbClr val="472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102360" y="2807640"/>
              <a:ext cx="88560" cy="26640"/>
            </a:xfrm>
            <a:prstGeom prst="rect">
              <a:avLst/>
            </a:prstGeom>
            <a:solidFill>
              <a:srgbClr val="4f2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102360" y="2795040"/>
              <a:ext cx="88560" cy="25200"/>
            </a:xfrm>
            <a:prstGeom prst="rect">
              <a:avLst/>
            </a:prstGeom>
            <a:solidFill>
              <a:srgbClr val="59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102360" y="2781720"/>
              <a:ext cx="88560" cy="25920"/>
            </a:xfrm>
            <a:prstGeom prst="rect">
              <a:avLst/>
            </a:prstGeom>
            <a:solidFill>
              <a:srgbClr val="612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102360" y="2768400"/>
              <a:ext cx="88560" cy="26640"/>
            </a:xfrm>
            <a:prstGeom prst="rect">
              <a:avLst/>
            </a:prstGeom>
            <a:solidFill>
              <a:srgbClr val="691f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102360" y="2754720"/>
              <a:ext cx="88560" cy="26640"/>
            </a:xfrm>
            <a:prstGeom prst="rect">
              <a:avLst/>
            </a:prstGeom>
            <a:solidFill>
              <a:srgbClr val="731f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102360" y="2742120"/>
              <a:ext cx="88560" cy="25920"/>
            </a:xfrm>
            <a:prstGeom prst="rect">
              <a:avLst/>
            </a:prstGeom>
            <a:solidFill>
              <a:srgbClr val="7a1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102360" y="2728800"/>
              <a:ext cx="88560" cy="25920"/>
            </a:xfrm>
            <a:prstGeom prst="rect">
              <a:avLst/>
            </a:prstGeom>
            <a:solidFill>
              <a:srgbClr val="821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102360" y="2716200"/>
              <a:ext cx="88560" cy="25920"/>
            </a:xfrm>
            <a:prstGeom prst="rect">
              <a:avLst/>
            </a:prstGeom>
            <a:solidFill>
              <a:srgbClr val="8c1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102360" y="2701800"/>
              <a:ext cx="88560" cy="26640"/>
            </a:xfrm>
            <a:prstGeom prst="rect">
              <a:avLst/>
            </a:prstGeom>
            <a:solidFill>
              <a:srgbClr val="941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102360" y="2689200"/>
              <a:ext cx="88560" cy="26640"/>
            </a:xfrm>
            <a:prstGeom prst="rect">
              <a:avLst/>
            </a:prstGeom>
            <a:solidFill>
              <a:srgbClr val="9e1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102360" y="2676600"/>
              <a:ext cx="88560" cy="25200"/>
            </a:xfrm>
            <a:prstGeom prst="rect">
              <a:avLst/>
            </a:prstGeom>
            <a:solidFill>
              <a:srgbClr val="a61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102360" y="2662920"/>
              <a:ext cx="88560" cy="25920"/>
            </a:xfrm>
            <a:prstGeom prst="rect">
              <a:avLst/>
            </a:prstGeom>
            <a:solidFill>
              <a:srgbClr val="b01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102360" y="2650680"/>
              <a:ext cx="88560" cy="25920"/>
            </a:xfrm>
            <a:prstGeom prst="rect">
              <a:avLst/>
            </a:prstGeom>
            <a:solidFill>
              <a:srgbClr val="b81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102360" y="2636280"/>
              <a:ext cx="88560" cy="26640"/>
            </a:xfrm>
            <a:prstGeom prst="rect">
              <a:avLst/>
            </a:prstGeom>
            <a:solidFill>
              <a:srgbClr val="c20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102360" y="2623680"/>
              <a:ext cx="88560" cy="26640"/>
            </a:xfrm>
            <a:prstGeom prst="rect">
              <a:avLst/>
            </a:prstGeom>
            <a:solidFill>
              <a:srgbClr val="c90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102360" y="2610360"/>
              <a:ext cx="88560" cy="25920"/>
            </a:xfrm>
            <a:prstGeom prst="rect">
              <a:avLst/>
            </a:prstGeom>
            <a:solidFill>
              <a:srgbClr val="d40b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102360" y="2597400"/>
              <a:ext cx="88560" cy="25920"/>
            </a:xfrm>
            <a:prstGeom prst="rect">
              <a:avLst/>
            </a:prstGeom>
            <a:solidFill>
              <a:srgbClr val="db0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102360" y="2584080"/>
              <a:ext cx="88560" cy="25920"/>
            </a:xfrm>
            <a:prstGeom prst="rect">
              <a:avLst/>
            </a:prstGeom>
            <a:solidFill>
              <a:srgbClr val="e30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102360" y="2571480"/>
              <a:ext cx="88560" cy="25920"/>
            </a:xfrm>
            <a:prstGeom prst="rect">
              <a:avLst/>
            </a:prstGeom>
            <a:solidFill>
              <a:srgbClr val="ed05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102360" y="2559600"/>
              <a:ext cx="88560" cy="24480"/>
            </a:xfrm>
            <a:prstGeom prst="rect">
              <a:avLst/>
            </a:prstGeom>
            <a:solidFill>
              <a:srgbClr val="f5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102360" y="2559600"/>
              <a:ext cx="88560" cy="11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102360" y="2554920"/>
              <a:ext cx="93960" cy="10080"/>
            </a:xfrm>
            <a:custGeom>
              <a:avLst/>
              <a:gdLst/>
              <a:ahLst/>
              <a:rect l="l" t="t" r="r" b="b"/>
              <a:pathLst>
                <a:path w="273" h="33">
                  <a:moveTo>
                    <a:pt x="273" y="17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258" y="33"/>
                  </a:lnTo>
                  <a:lnTo>
                    <a:pt x="241" y="17"/>
                  </a:lnTo>
                  <a:lnTo>
                    <a:pt x="258" y="33"/>
                  </a:lnTo>
                  <a:lnTo>
                    <a:pt x="264" y="32"/>
                  </a:lnTo>
                  <a:lnTo>
                    <a:pt x="269" y="28"/>
                  </a:lnTo>
                  <a:lnTo>
                    <a:pt x="271" y="23"/>
                  </a:lnTo>
                  <a:lnTo>
                    <a:pt x="273" y="17"/>
                  </a:lnTo>
                  <a:lnTo>
                    <a:pt x="271" y="12"/>
                  </a:lnTo>
                  <a:lnTo>
                    <a:pt x="269" y="5"/>
                  </a:lnTo>
                  <a:lnTo>
                    <a:pt x="264" y="3"/>
                  </a:lnTo>
                  <a:lnTo>
                    <a:pt x="258" y="0"/>
                  </a:lnTo>
                  <a:lnTo>
                    <a:pt x="27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185880" y="2559600"/>
              <a:ext cx="10440" cy="395640"/>
            </a:xfrm>
            <a:custGeom>
              <a:avLst/>
              <a:gdLst/>
              <a:ahLst/>
              <a:rect l="l" t="t" r="r" b="b"/>
              <a:pathLst>
                <a:path w="32" h="1206">
                  <a:moveTo>
                    <a:pt x="17" y="1206"/>
                  </a:moveTo>
                  <a:lnTo>
                    <a:pt x="32" y="119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1190"/>
                  </a:lnTo>
                  <a:lnTo>
                    <a:pt x="17" y="1174"/>
                  </a:lnTo>
                  <a:lnTo>
                    <a:pt x="0" y="1190"/>
                  </a:lnTo>
                  <a:lnTo>
                    <a:pt x="2" y="1197"/>
                  </a:lnTo>
                  <a:lnTo>
                    <a:pt x="5" y="1202"/>
                  </a:lnTo>
                  <a:lnTo>
                    <a:pt x="10" y="1204"/>
                  </a:lnTo>
                  <a:lnTo>
                    <a:pt x="17" y="1205"/>
                  </a:lnTo>
                  <a:lnTo>
                    <a:pt x="22" y="1204"/>
                  </a:lnTo>
                  <a:lnTo>
                    <a:pt x="28" y="1202"/>
                  </a:lnTo>
                  <a:lnTo>
                    <a:pt x="30" y="1197"/>
                  </a:lnTo>
                  <a:lnTo>
                    <a:pt x="32" y="1190"/>
                  </a:lnTo>
                  <a:lnTo>
                    <a:pt x="17" y="1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096960" y="2944440"/>
              <a:ext cx="93960" cy="10800"/>
            </a:xfrm>
            <a:custGeom>
              <a:avLst/>
              <a:gdLst/>
              <a:ahLst/>
              <a:rect l="l" t="t" r="r" b="b"/>
              <a:pathLst>
                <a:path w="274" h="32">
                  <a:moveTo>
                    <a:pt x="0" y="16"/>
                  </a:moveTo>
                  <a:lnTo>
                    <a:pt x="16" y="32"/>
                  </a:lnTo>
                  <a:lnTo>
                    <a:pt x="274" y="32"/>
                  </a:lnTo>
                  <a:lnTo>
                    <a:pt x="274" y="0"/>
                  </a:lnTo>
                  <a:lnTo>
                    <a:pt x="16" y="0"/>
                  </a:lnTo>
                  <a:lnTo>
                    <a:pt x="31" y="1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4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4" y="27"/>
                  </a:lnTo>
                  <a:lnTo>
                    <a:pt x="9" y="30"/>
                  </a:lnTo>
                  <a:lnTo>
                    <a:pt x="16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096960" y="2554920"/>
              <a:ext cx="11520" cy="393840"/>
            </a:xfrm>
            <a:custGeom>
              <a:avLst/>
              <a:gdLst/>
              <a:ahLst/>
              <a:rect l="l" t="t" r="r" b="b"/>
              <a:pathLst>
                <a:path w="31" h="1207">
                  <a:moveTo>
                    <a:pt x="16" y="0"/>
                  </a:moveTo>
                  <a:lnTo>
                    <a:pt x="0" y="17"/>
                  </a:lnTo>
                  <a:lnTo>
                    <a:pt x="0" y="1207"/>
                  </a:lnTo>
                  <a:lnTo>
                    <a:pt x="31" y="1207"/>
                  </a:lnTo>
                  <a:lnTo>
                    <a:pt x="31" y="17"/>
                  </a:lnTo>
                  <a:lnTo>
                    <a:pt x="16" y="33"/>
                  </a:lnTo>
                  <a:lnTo>
                    <a:pt x="31" y="17"/>
                  </a:lnTo>
                  <a:lnTo>
                    <a:pt x="30" y="10"/>
                  </a:lnTo>
                  <a:lnTo>
                    <a:pt x="27" y="5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0" y="3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451560" y="2592000"/>
              <a:ext cx="271440" cy="259920"/>
            </a:xfrm>
            <a:custGeom>
              <a:avLst/>
              <a:gdLst/>
              <a:ahLst/>
              <a:rect l="l" t="t" r="r" b="b"/>
              <a:pathLst>
                <a:path w="793" h="793">
                  <a:moveTo>
                    <a:pt x="0" y="0"/>
                  </a:moveTo>
                  <a:lnTo>
                    <a:pt x="793" y="0"/>
                  </a:lnTo>
                  <a:lnTo>
                    <a:pt x="793" y="793"/>
                  </a:lnTo>
                  <a:lnTo>
                    <a:pt x="64" y="793"/>
                  </a:lnTo>
                  <a:lnTo>
                    <a:pt x="0" y="7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484320" y="2592000"/>
              <a:ext cx="208080" cy="12708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551640" y="2748240"/>
              <a:ext cx="114120" cy="103320"/>
            </a:xfrm>
            <a:custGeom>
              <a:avLst/>
              <a:gdLst/>
              <a:ahLst/>
              <a:rect l="l" t="t" r="r" b="b"/>
              <a:pathLst>
                <a:path w="332" h="316">
                  <a:moveTo>
                    <a:pt x="0" y="275"/>
                  </a:moveTo>
                  <a:lnTo>
                    <a:pt x="0" y="316"/>
                  </a:lnTo>
                  <a:lnTo>
                    <a:pt x="332" y="316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52" y="41"/>
                  </a:lnTo>
                  <a:lnTo>
                    <a:pt x="52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513120" y="2748240"/>
              <a:ext cx="38520" cy="103320"/>
            </a:xfrm>
            <a:custGeom>
              <a:avLst/>
              <a:gdLst/>
              <a:ahLst/>
              <a:rect l="l" t="t" r="r" b="b"/>
              <a:pathLst>
                <a:path w="112" h="316">
                  <a:moveTo>
                    <a:pt x="112" y="41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316"/>
                  </a:lnTo>
                  <a:lnTo>
                    <a:pt x="112" y="316"/>
                  </a:lnTo>
                  <a:lnTo>
                    <a:pt x="112" y="275"/>
                  </a:lnTo>
                  <a:lnTo>
                    <a:pt x="60" y="275"/>
                  </a:lnTo>
                  <a:lnTo>
                    <a:pt x="60" y="41"/>
                  </a:lnTo>
                  <a:lnTo>
                    <a:pt x="112" y="4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513120" y="2748240"/>
              <a:ext cx="152640" cy="103320"/>
            </a:xfrm>
            <a:custGeom>
              <a:avLst/>
              <a:gdLst/>
              <a:ahLst/>
              <a:rect l="l" t="t" r="r" b="b"/>
              <a:pathLst>
                <a:path w="444" h="316">
                  <a:moveTo>
                    <a:pt x="0" y="0"/>
                  </a:moveTo>
                  <a:lnTo>
                    <a:pt x="444" y="0"/>
                  </a:lnTo>
                  <a:lnTo>
                    <a:pt x="444" y="316"/>
                  </a:lnTo>
                  <a:lnTo>
                    <a:pt x="0" y="3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533280" y="2761920"/>
              <a:ext cx="36720" cy="76320"/>
            </a:xfrm>
            <a:custGeom>
              <a:avLst/>
              <a:gdLst/>
              <a:ahLst/>
              <a:rect l="l" t="t" r="r" b="b"/>
              <a:pathLst>
                <a:path w="104" h="234">
                  <a:moveTo>
                    <a:pt x="0" y="0"/>
                  </a:moveTo>
                  <a:lnTo>
                    <a:pt x="104" y="0"/>
                  </a:lnTo>
                  <a:lnTo>
                    <a:pt x="104" y="234"/>
                  </a:lnTo>
                  <a:lnTo>
                    <a:pt x="0" y="23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627240" y="2438640"/>
              <a:ext cx="271800" cy="259920"/>
            </a:xfrm>
            <a:custGeom>
              <a:avLst/>
              <a:gdLst/>
              <a:ahLst/>
              <a:rect l="l" t="t" r="r" b="b"/>
              <a:pathLst>
                <a:path w="794" h="793">
                  <a:moveTo>
                    <a:pt x="0" y="0"/>
                  </a:moveTo>
                  <a:lnTo>
                    <a:pt x="794" y="0"/>
                  </a:lnTo>
                  <a:lnTo>
                    <a:pt x="794" y="793"/>
                  </a:lnTo>
                  <a:lnTo>
                    <a:pt x="65" y="793"/>
                  </a:lnTo>
                  <a:lnTo>
                    <a:pt x="0" y="7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660000" y="2438640"/>
              <a:ext cx="207360" cy="12708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727680" y="2595240"/>
              <a:ext cx="114120" cy="103320"/>
            </a:xfrm>
            <a:custGeom>
              <a:avLst/>
              <a:gdLst/>
              <a:ahLst/>
              <a:rect l="l" t="t" r="r" b="b"/>
              <a:pathLst>
                <a:path w="332" h="315">
                  <a:moveTo>
                    <a:pt x="0" y="274"/>
                  </a:moveTo>
                  <a:lnTo>
                    <a:pt x="0" y="315"/>
                  </a:lnTo>
                  <a:lnTo>
                    <a:pt x="332" y="315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52" y="41"/>
                  </a:lnTo>
                  <a:lnTo>
                    <a:pt x="52" y="274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689160" y="2595240"/>
              <a:ext cx="38520" cy="103320"/>
            </a:xfrm>
            <a:custGeom>
              <a:avLst/>
              <a:gdLst/>
              <a:ahLst/>
              <a:rect l="l" t="t" r="r" b="b"/>
              <a:pathLst>
                <a:path w="112" h="315">
                  <a:moveTo>
                    <a:pt x="112" y="41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315"/>
                  </a:lnTo>
                  <a:lnTo>
                    <a:pt x="112" y="315"/>
                  </a:lnTo>
                  <a:lnTo>
                    <a:pt x="112" y="274"/>
                  </a:lnTo>
                  <a:lnTo>
                    <a:pt x="61" y="274"/>
                  </a:lnTo>
                  <a:lnTo>
                    <a:pt x="61" y="41"/>
                  </a:lnTo>
                  <a:lnTo>
                    <a:pt x="112" y="4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689160" y="2595240"/>
              <a:ext cx="152640" cy="103320"/>
            </a:xfrm>
            <a:custGeom>
              <a:avLst/>
              <a:gdLst/>
              <a:ahLst/>
              <a:rect l="l" t="t" r="r" b="b"/>
              <a:pathLst>
                <a:path w="444" h="315">
                  <a:moveTo>
                    <a:pt x="0" y="0"/>
                  </a:moveTo>
                  <a:lnTo>
                    <a:pt x="444" y="0"/>
                  </a:lnTo>
                  <a:lnTo>
                    <a:pt x="444" y="315"/>
                  </a:lnTo>
                  <a:lnTo>
                    <a:pt x="0" y="3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710040" y="2608560"/>
              <a:ext cx="34920" cy="76320"/>
            </a:xfrm>
            <a:custGeom>
              <a:avLst/>
              <a:gdLst/>
              <a:ahLst/>
              <a:rect l="l" t="t" r="r" b="b"/>
              <a:pathLst>
                <a:path w="103" h="233">
                  <a:moveTo>
                    <a:pt x="0" y="0"/>
                  </a:moveTo>
                  <a:lnTo>
                    <a:pt x="103" y="0"/>
                  </a:lnTo>
                  <a:lnTo>
                    <a:pt x="103" y="233"/>
                  </a:lnTo>
                  <a:lnTo>
                    <a:pt x="0" y="23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680160" y="2683800"/>
              <a:ext cx="272520" cy="259920"/>
            </a:xfrm>
            <a:custGeom>
              <a:avLst/>
              <a:gdLst/>
              <a:ahLst/>
              <a:rect l="l" t="t" r="r" b="b"/>
              <a:pathLst>
                <a:path w="793" h="793">
                  <a:moveTo>
                    <a:pt x="0" y="0"/>
                  </a:moveTo>
                  <a:lnTo>
                    <a:pt x="793" y="0"/>
                  </a:lnTo>
                  <a:lnTo>
                    <a:pt x="793" y="793"/>
                  </a:lnTo>
                  <a:lnTo>
                    <a:pt x="64" y="793"/>
                  </a:lnTo>
                  <a:lnTo>
                    <a:pt x="0" y="7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713640" y="2683800"/>
              <a:ext cx="207360" cy="12708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781320" y="2840040"/>
              <a:ext cx="114120" cy="103320"/>
            </a:xfrm>
            <a:custGeom>
              <a:avLst/>
              <a:gdLst/>
              <a:ahLst/>
              <a:rect l="l" t="t" r="r" b="b"/>
              <a:pathLst>
                <a:path w="332" h="316">
                  <a:moveTo>
                    <a:pt x="0" y="275"/>
                  </a:moveTo>
                  <a:lnTo>
                    <a:pt x="0" y="316"/>
                  </a:lnTo>
                  <a:lnTo>
                    <a:pt x="332" y="316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52" y="40"/>
                  </a:lnTo>
                  <a:lnTo>
                    <a:pt x="52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742800" y="2840040"/>
              <a:ext cx="38520" cy="103320"/>
            </a:xfrm>
            <a:custGeom>
              <a:avLst/>
              <a:gdLst/>
              <a:ahLst/>
              <a:rect l="l" t="t" r="r" b="b"/>
              <a:pathLst>
                <a:path w="112" h="316">
                  <a:moveTo>
                    <a:pt x="112" y="40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316"/>
                  </a:lnTo>
                  <a:lnTo>
                    <a:pt x="112" y="316"/>
                  </a:lnTo>
                  <a:lnTo>
                    <a:pt x="112" y="275"/>
                  </a:lnTo>
                  <a:lnTo>
                    <a:pt x="60" y="275"/>
                  </a:lnTo>
                  <a:lnTo>
                    <a:pt x="60" y="40"/>
                  </a:lnTo>
                  <a:lnTo>
                    <a:pt x="112" y="4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742800" y="2840040"/>
              <a:ext cx="152640" cy="103320"/>
            </a:xfrm>
            <a:custGeom>
              <a:avLst/>
              <a:gdLst/>
              <a:ahLst/>
              <a:rect l="l" t="t" r="r" b="b"/>
              <a:pathLst>
                <a:path w="444" h="316">
                  <a:moveTo>
                    <a:pt x="0" y="0"/>
                  </a:moveTo>
                  <a:lnTo>
                    <a:pt x="444" y="0"/>
                  </a:lnTo>
                  <a:lnTo>
                    <a:pt x="444" y="316"/>
                  </a:lnTo>
                  <a:lnTo>
                    <a:pt x="0" y="3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762960" y="2853360"/>
              <a:ext cx="35640" cy="76320"/>
            </a:xfrm>
            <a:custGeom>
              <a:avLst/>
              <a:gdLst/>
              <a:ahLst/>
              <a:rect l="l" t="t" r="r" b="b"/>
              <a:pathLst>
                <a:path w="104" h="235">
                  <a:moveTo>
                    <a:pt x="0" y="0"/>
                  </a:moveTo>
                  <a:lnTo>
                    <a:pt x="104" y="0"/>
                  </a:lnTo>
                  <a:lnTo>
                    <a:pt x="104" y="235"/>
                  </a:lnTo>
                  <a:lnTo>
                    <a:pt x="0" y="23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878160" y="2545920"/>
              <a:ext cx="272520" cy="259200"/>
            </a:xfrm>
            <a:custGeom>
              <a:avLst/>
              <a:gdLst/>
              <a:ahLst/>
              <a:rect l="l" t="t" r="r" b="b"/>
              <a:pathLst>
                <a:path w="793" h="793">
                  <a:moveTo>
                    <a:pt x="0" y="0"/>
                  </a:moveTo>
                  <a:lnTo>
                    <a:pt x="793" y="0"/>
                  </a:lnTo>
                  <a:lnTo>
                    <a:pt x="793" y="793"/>
                  </a:lnTo>
                  <a:lnTo>
                    <a:pt x="64" y="793"/>
                  </a:lnTo>
                  <a:lnTo>
                    <a:pt x="0" y="7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910560" y="2545920"/>
              <a:ext cx="208080" cy="12708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978240" y="2701800"/>
              <a:ext cx="113400" cy="103320"/>
            </a:xfrm>
            <a:custGeom>
              <a:avLst/>
              <a:gdLst/>
              <a:ahLst/>
              <a:rect l="l" t="t" r="r" b="b"/>
              <a:pathLst>
                <a:path w="332" h="316">
                  <a:moveTo>
                    <a:pt x="0" y="276"/>
                  </a:moveTo>
                  <a:lnTo>
                    <a:pt x="0" y="316"/>
                  </a:lnTo>
                  <a:lnTo>
                    <a:pt x="332" y="316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53" y="41"/>
                  </a:lnTo>
                  <a:lnTo>
                    <a:pt x="53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940440" y="2701800"/>
              <a:ext cx="37800" cy="103320"/>
            </a:xfrm>
            <a:custGeom>
              <a:avLst/>
              <a:gdLst/>
              <a:ahLst/>
              <a:rect l="l" t="t" r="r" b="b"/>
              <a:pathLst>
                <a:path w="111" h="316">
                  <a:moveTo>
                    <a:pt x="111" y="41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316"/>
                  </a:lnTo>
                  <a:lnTo>
                    <a:pt x="111" y="316"/>
                  </a:lnTo>
                  <a:lnTo>
                    <a:pt x="111" y="276"/>
                  </a:lnTo>
                  <a:lnTo>
                    <a:pt x="60" y="276"/>
                  </a:lnTo>
                  <a:lnTo>
                    <a:pt x="60" y="41"/>
                  </a:lnTo>
                  <a:lnTo>
                    <a:pt x="111" y="4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940440" y="2701800"/>
              <a:ext cx="151200" cy="103320"/>
            </a:xfrm>
            <a:custGeom>
              <a:avLst/>
              <a:gdLst/>
              <a:ahLst/>
              <a:rect l="l" t="t" r="r" b="b"/>
              <a:pathLst>
                <a:path w="443" h="316">
                  <a:moveTo>
                    <a:pt x="0" y="0"/>
                  </a:moveTo>
                  <a:lnTo>
                    <a:pt x="443" y="0"/>
                  </a:lnTo>
                  <a:lnTo>
                    <a:pt x="443" y="316"/>
                  </a:lnTo>
                  <a:lnTo>
                    <a:pt x="0" y="3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960960" y="2716200"/>
              <a:ext cx="36000" cy="76320"/>
            </a:xfrm>
            <a:custGeom>
              <a:avLst/>
              <a:gdLst/>
              <a:ahLst/>
              <a:rect l="l" t="t" r="r" b="b"/>
              <a:pathLst>
                <a:path w="104" h="235">
                  <a:moveTo>
                    <a:pt x="0" y="0"/>
                  </a:moveTo>
                  <a:lnTo>
                    <a:pt x="104" y="0"/>
                  </a:lnTo>
                  <a:lnTo>
                    <a:pt x="104" y="235"/>
                  </a:lnTo>
                  <a:lnTo>
                    <a:pt x="0" y="23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819120" y="2775960"/>
              <a:ext cx="272520" cy="258840"/>
            </a:xfrm>
            <a:custGeom>
              <a:avLst/>
              <a:gdLst/>
              <a:ahLst/>
              <a:rect l="l" t="t" r="r" b="b"/>
              <a:pathLst>
                <a:path w="794" h="792">
                  <a:moveTo>
                    <a:pt x="0" y="0"/>
                  </a:moveTo>
                  <a:lnTo>
                    <a:pt x="794" y="0"/>
                  </a:lnTo>
                  <a:lnTo>
                    <a:pt x="794" y="792"/>
                  </a:lnTo>
                  <a:lnTo>
                    <a:pt x="65" y="792"/>
                  </a:lnTo>
                  <a:lnTo>
                    <a:pt x="0" y="7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851880" y="2775960"/>
              <a:ext cx="208080" cy="12708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919200" y="2931480"/>
              <a:ext cx="113400" cy="103320"/>
            </a:xfrm>
            <a:custGeom>
              <a:avLst/>
              <a:gdLst/>
              <a:ahLst/>
              <a:rect l="l" t="t" r="r" b="b"/>
              <a:pathLst>
                <a:path w="332" h="316">
                  <a:moveTo>
                    <a:pt x="0" y="275"/>
                  </a:moveTo>
                  <a:lnTo>
                    <a:pt x="0" y="316"/>
                  </a:lnTo>
                  <a:lnTo>
                    <a:pt x="332" y="316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54" y="41"/>
                  </a:lnTo>
                  <a:lnTo>
                    <a:pt x="54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881760" y="2931480"/>
              <a:ext cx="37440" cy="103320"/>
            </a:xfrm>
            <a:custGeom>
              <a:avLst/>
              <a:gdLst/>
              <a:ahLst/>
              <a:rect l="l" t="t" r="r" b="b"/>
              <a:pathLst>
                <a:path w="111" h="316">
                  <a:moveTo>
                    <a:pt x="111" y="41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316"/>
                  </a:lnTo>
                  <a:lnTo>
                    <a:pt x="111" y="316"/>
                  </a:lnTo>
                  <a:lnTo>
                    <a:pt x="111" y="275"/>
                  </a:lnTo>
                  <a:lnTo>
                    <a:pt x="60" y="275"/>
                  </a:lnTo>
                  <a:lnTo>
                    <a:pt x="60" y="41"/>
                  </a:lnTo>
                  <a:lnTo>
                    <a:pt x="111" y="4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881760" y="2931480"/>
              <a:ext cx="150840" cy="103320"/>
            </a:xfrm>
            <a:custGeom>
              <a:avLst/>
              <a:gdLst/>
              <a:ahLst/>
              <a:rect l="l" t="t" r="r" b="b"/>
              <a:pathLst>
                <a:path w="443" h="316">
                  <a:moveTo>
                    <a:pt x="0" y="0"/>
                  </a:moveTo>
                  <a:lnTo>
                    <a:pt x="443" y="0"/>
                  </a:lnTo>
                  <a:lnTo>
                    <a:pt x="443" y="316"/>
                  </a:lnTo>
                  <a:lnTo>
                    <a:pt x="0" y="3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901920" y="2945160"/>
              <a:ext cx="36000" cy="76320"/>
            </a:xfrm>
            <a:custGeom>
              <a:avLst/>
              <a:gdLst/>
              <a:ahLst/>
              <a:rect l="l" t="t" r="r" b="b"/>
              <a:pathLst>
                <a:path w="105" h="234">
                  <a:moveTo>
                    <a:pt x="0" y="0"/>
                  </a:moveTo>
                  <a:lnTo>
                    <a:pt x="105" y="0"/>
                  </a:lnTo>
                  <a:lnTo>
                    <a:pt x="105" y="234"/>
                  </a:lnTo>
                  <a:lnTo>
                    <a:pt x="0" y="23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3" name=""/>
          <p:cNvSpPr/>
          <p:nvPr/>
        </p:nvSpPr>
        <p:spPr>
          <a:xfrm>
            <a:off x="3048120" y="3809880"/>
            <a:ext cx="4343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4" name=""/>
          <p:cNvGrpSpPr/>
          <p:nvPr/>
        </p:nvGrpSpPr>
        <p:grpSpPr>
          <a:xfrm>
            <a:off x="5181480" y="3657600"/>
            <a:ext cx="569880" cy="304920"/>
            <a:chOff x="5181480" y="3657600"/>
            <a:chExt cx="569880" cy="304920"/>
          </a:xfrm>
        </p:grpSpPr>
        <p:sp>
          <p:nvSpPr>
            <p:cNvPr id="1655" name=""/>
            <p:cNvSpPr/>
            <p:nvPr/>
          </p:nvSpPr>
          <p:spPr>
            <a:xfrm>
              <a:off x="5181480" y="3657600"/>
              <a:ext cx="533520" cy="3049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675400" y="3809880"/>
              <a:ext cx="759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7" name="" descr=""/>
          <p:cNvPicPr/>
          <p:nvPr/>
        </p:nvPicPr>
        <p:blipFill>
          <a:blip r:embed="rId1"/>
          <a:stretch/>
        </p:blipFill>
        <p:spPr>
          <a:xfrm>
            <a:off x="7086600" y="3962520"/>
            <a:ext cx="773280" cy="914400"/>
          </a:xfrm>
          <a:prstGeom prst="rect">
            <a:avLst/>
          </a:prstGeom>
          <a:ln w="0">
            <a:noFill/>
          </a:ln>
        </p:spPr>
      </p:pic>
      <p:cxnSp>
        <p:nvCxnSpPr>
          <p:cNvPr id="1658" name=""/>
          <p:cNvCxnSpPr/>
          <p:nvPr/>
        </p:nvCxnSpPr>
        <p:spPr>
          <a:xfrm flipH="1" rot="16200000">
            <a:off x="6138720" y="3243960"/>
            <a:ext cx="457920" cy="1894680"/>
          </a:xfrm>
          <a:prstGeom prst="bentConnector2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1659" name=""/>
          <p:cNvGrpSpPr/>
          <p:nvPr/>
        </p:nvGrpSpPr>
        <p:grpSpPr>
          <a:xfrm>
            <a:off x="2819520" y="4495680"/>
            <a:ext cx="366480" cy="655920"/>
            <a:chOff x="2819520" y="4495680"/>
            <a:chExt cx="366480" cy="655920"/>
          </a:xfrm>
        </p:grpSpPr>
        <p:sp>
          <p:nvSpPr>
            <p:cNvPr id="1660" name=""/>
            <p:cNvSpPr/>
            <p:nvPr/>
          </p:nvSpPr>
          <p:spPr>
            <a:xfrm>
              <a:off x="2819520" y="4711320"/>
              <a:ext cx="117000" cy="231120"/>
            </a:xfrm>
            <a:custGeom>
              <a:avLst/>
              <a:gdLst/>
              <a:ahLst/>
              <a:rect l="l" t="t" r="r" b="b"/>
              <a:pathLst>
                <a:path w="406" h="764">
                  <a:moveTo>
                    <a:pt x="406" y="764"/>
                  </a:moveTo>
                  <a:lnTo>
                    <a:pt x="0" y="764"/>
                  </a:lnTo>
                  <a:lnTo>
                    <a:pt x="0" y="0"/>
                  </a:lnTo>
                  <a:lnTo>
                    <a:pt x="406" y="0"/>
                  </a:lnTo>
                  <a:lnTo>
                    <a:pt x="406" y="764"/>
                  </a:lnTo>
                  <a:lnTo>
                    <a:pt x="406" y="764"/>
                  </a:lnTo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951280" y="4495680"/>
              <a:ext cx="234720" cy="655920"/>
            </a:xfrm>
            <a:custGeom>
              <a:avLst/>
              <a:gdLst/>
              <a:ahLst/>
              <a:rect l="l" t="t" r="r" b="b"/>
              <a:pathLst>
                <a:path w="811" h="2158">
                  <a:moveTo>
                    <a:pt x="811" y="0"/>
                  </a:moveTo>
                  <a:lnTo>
                    <a:pt x="0" y="743"/>
                  </a:lnTo>
                  <a:lnTo>
                    <a:pt x="0" y="1416"/>
                  </a:lnTo>
                  <a:lnTo>
                    <a:pt x="811" y="2158"/>
                  </a:lnTo>
                  <a:lnTo>
                    <a:pt x="811" y="0"/>
                  </a:lnTo>
                  <a:lnTo>
                    <a:pt x="811" y="0"/>
                  </a:lnTo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2" name=""/>
          <p:cNvGrpSpPr/>
          <p:nvPr/>
        </p:nvGrpSpPr>
        <p:grpSpPr>
          <a:xfrm>
            <a:off x="3240000" y="4508640"/>
            <a:ext cx="188640" cy="644400"/>
            <a:chOff x="3240000" y="4508640"/>
            <a:chExt cx="188640" cy="644400"/>
          </a:xfrm>
        </p:grpSpPr>
        <p:sp>
          <p:nvSpPr>
            <p:cNvPr id="1663" name=""/>
            <p:cNvSpPr/>
            <p:nvPr/>
          </p:nvSpPr>
          <p:spPr>
            <a:xfrm>
              <a:off x="3240000" y="4576680"/>
              <a:ext cx="81000" cy="512640"/>
            </a:xfrm>
            <a:custGeom>
              <a:avLst/>
              <a:gdLst/>
              <a:ahLst/>
              <a:rect l="l" t="t" r="r" b="b"/>
              <a:pathLst>
                <a:path w="248" h="1303">
                  <a:moveTo>
                    <a:pt x="0" y="1303"/>
                  </a:moveTo>
                  <a:lnTo>
                    <a:pt x="55" y="1236"/>
                  </a:lnTo>
                  <a:lnTo>
                    <a:pt x="106" y="1162"/>
                  </a:lnTo>
                  <a:lnTo>
                    <a:pt x="148" y="1085"/>
                  </a:lnTo>
                  <a:lnTo>
                    <a:pt x="184" y="1001"/>
                  </a:lnTo>
                  <a:lnTo>
                    <a:pt x="211" y="915"/>
                  </a:lnTo>
                  <a:lnTo>
                    <a:pt x="230" y="825"/>
                  </a:lnTo>
                  <a:lnTo>
                    <a:pt x="243" y="731"/>
                  </a:lnTo>
                  <a:lnTo>
                    <a:pt x="248" y="635"/>
                  </a:lnTo>
                  <a:lnTo>
                    <a:pt x="243" y="545"/>
                  </a:lnTo>
                  <a:lnTo>
                    <a:pt x="233" y="458"/>
                  </a:lnTo>
                  <a:lnTo>
                    <a:pt x="215" y="373"/>
                  </a:lnTo>
                  <a:lnTo>
                    <a:pt x="188" y="292"/>
                  </a:lnTo>
                  <a:lnTo>
                    <a:pt x="158" y="211"/>
                  </a:lnTo>
                  <a:lnTo>
                    <a:pt x="121" y="136"/>
                  </a:lnTo>
                  <a:lnTo>
                    <a:pt x="77" y="66"/>
                  </a:lnTo>
                  <a:lnTo>
                    <a:pt x="30" y="0"/>
                  </a:lnTo>
                </a:path>
              </a:pathLst>
            </a:custGeom>
            <a:noFill/>
            <a:ln w="2844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281040" y="4547160"/>
              <a:ext cx="90720" cy="567720"/>
            </a:xfrm>
            <a:custGeom>
              <a:avLst/>
              <a:gdLst/>
              <a:ahLst/>
              <a:rect l="l" t="t" r="r" b="b"/>
              <a:pathLst>
                <a:path w="278" h="1448">
                  <a:moveTo>
                    <a:pt x="0" y="1448"/>
                  </a:moveTo>
                  <a:lnTo>
                    <a:pt x="33" y="1409"/>
                  </a:lnTo>
                  <a:lnTo>
                    <a:pt x="63" y="1370"/>
                  </a:lnTo>
                  <a:lnTo>
                    <a:pt x="91" y="1328"/>
                  </a:lnTo>
                  <a:lnTo>
                    <a:pt x="118" y="1286"/>
                  </a:lnTo>
                  <a:lnTo>
                    <a:pt x="144" y="1242"/>
                  </a:lnTo>
                  <a:lnTo>
                    <a:pt x="168" y="1199"/>
                  </a:lnTo>
                  <a:lnTo>
                    <a:pt x="189" y="1154"/>
                  </a:lnTo>
                  <a:lnTo>
                    <a:pt x="208" y="1108"/>
                  </a:lnTo>
                  <a:lnTo>
                    <a:pt x="223" y="1060"/>
                  </a:lnTo>
                  <a:lnTo>
                    <a:pt x="237" y="1015"/>
                  </a:lnTo>
                  <a:lnTo>
                    <a:pt x="251" y="964"/>
                  </a:lnTo>
                  <a:lnTo>
                    <a:pt x="259" y="916"/>
                  </a:lnTo>
                  <a:lnTo>
                    <a:pt x="269" y="866"/>
                  </a:lnTo>
                  <a:lnTo>
                    <a:pt x="274" y="815"/>
                  </a:lnTo>
                  <a:lnTo>
                    <a:pt x="277" y="765"/>
                  </a:lnTo>
                  <a:lnTo>
                    <a:pt x="278" y="714"/>
                  </a:lnTo>
                  <a:lnTo>
                    <a:pt x="274" y="616"/>
                  </a:lnTo>
                  <a:lnTo>
                    <a:pt x="260" y="520"/>
                  </a:lnTo>
                  <a:lnTo>
                    <a:pt x="238" y="424"/>
                  </a:lnTo>
                  <a:lnTo>
                    <a:pt x="210" y="333"/>
                  </a:lnTo>
                  <a:lnTo>
                    <a:pt x="171" y="245"/>
                  </a:lnTo>
                  <a:lnTo>
                    <a:pt x="126" y="159"/>
                  </a:lnTo>
                  <a:lnTo>
                    <a:pt x="74" y="77"/>
                  </a:lnTo>
                  <a:lnTo>
                    <a:pt x="15" y="0"/>
                  </a:lnTo>
                </a:path>
              </a:pathLst>
            </a:custGeom>
            <a:noFill/>
            <a:ln w="2844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334680" y="4508640"/>
              <a:ext cx="93960" cy="644400"/>
            </a:xfrm>
            <a:custGeom>
              <a:avLst/>
              <a:gdLst/>
              <a:ahLst/>
              <a:rect l="l" t="t" r="r" b="b"/>
              <a:pathLst>
                <a:path w="287" h="1642">
                  <a:moveTo>
                    <a:pt x="0" y="1642"/>
                  </a:moveTo>
                  <a:lnTo>
                    <a:pt x="32" y="1598"/>
                  </a:lnTo>
                  <a:lnTo>
                    <a:pt x="63" y="1553"/>
                  </a:lnTo>
                  <a:lnTo>
                    <a:pt x="91" y="1504"/>
                  </a:lnTo>
                  <a:lnTo>
                    <a:pt x="120" y="1457"/>
                  </a:lnTo>
                  <a:lnTo>
                    <a:pt x="144" y="1406"/>
                  </a:lnTo>
                  <a:lnTo>
                    <a:pt x="168" y="1355"/>
                  </a:lnTo>
                  <a:lnTo>
                    <a:pt x="189" y="1301"/>
                  </a:lnTo>
                  <a:lnTo>
                    <a:pt x="210" y="1249"/>
                  </a:lnTo>
                  <a:lnTo>
                    <a:pt x="226" y="1194"/>
                  </a:lnTo>
                  <a:lnTo>
                    <a:pt x="242" y="1138"/>
                  </a:lnTo>
                  <a:lnTo>
                    <a:pt x="256" y="1083"/>
                  </a:lnTo>
                  <a:lnTo>
                    <a:pt x="266" y="1029"/>
                  </a:lnTo>
                  <a:lnTo>
                    <a:pt x="275" y="973"/>
                  </a:lnTo>
                  <a:lnTo>
                    <a:pt x="281" y="916"/>
                  </a:lnTo>
                  <a:lnTo>
                    <a:pt x="286" y="863"/>
                  </a:lnTo>
                  <a:lnTo>
                    <a:pt x="287" y="809"/>
                  </a:lnTo>
                  <a:lnTo>
                    <a:pt x="286" y="753"/>
                  </a:lnTo>
                  <a:lnTo>
                    <a:pt x="281" y="698"/>
                  </a:lnTo>
                  <a:lnTo>
                    <a:pt x="277" y="642"/>
                  </a:lnTo>
                  <a:lnTo>
                    <a:pt x="268" y="590"/>
                  </a:lnTo>
                  <a:lnTo>
                    <a:pt x="257" y="536"/>
                  </a:lnTo>
                  <a:lnTo>
                    <a:pt x="244" y="483"/>
                  </a:lnTo>
                  <a:lnTo>
                    <a:pt x="231" y="431"/>
                  </a:lnTo>
                  <a:lnTo>
                    <a:pt x="213" y="380"/>
                  </a:lnTo>
                  <a:lnTo>
                    <a:pt x="193" y="329"/>
                  </a:lnTo>
                  <a:lnTo>
                    <a:pt x="172" y="278"/>
                  </a:lnTo>
                  <a:lnTo>
                    <a:pt x="150" y="229"/>
                  </a:lnTo>
                  <a:lnTo>
                    <a:pt x="124" y="181"/>
                  </a:lnTo>
                  <a:lnTo>
                    <a:pt x="97" y="134"/>
                  </a:lnTo>
                  <a:lnTo>
                    <a:pt x="71" y="88"/>
                  </a:lnTo>
                  <a:lnTo>
                    <a:pt x="39" y="45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6" name=""/>
          <p:cNvGrpSpPr/>
          <p:nvPr/>
        </p:nvGrpSpPr>
        <p:grpSpPr>
          <a:xfrm>
            <a:off x="6477120" y="4876920"/>
            <a:ext cx="1371240" cy="1226880"/>
            <a:chOff x="6477120" y="4876920"/>
            <a:chExt cx="1371240" cy="1226880"/>
          </a:xfrm>
        </p:grpSpPr>
        <p:sp>
          <p:nvSpPr>
            <p:cNvPr id="1667" name=""/>
            <p:cNvSpPr/>
            <p:nvPr/>
          </p:nvSpPr>
          <p:spPr>
            <a:xfrm>
              <a:off x="6836400" y="4876920"/>
              <a:ext cx="1011960" cy="819000"/>
            </a:xfrm>
            <a:custGeom>
              <a:avLst/>
              <a:gdLst/>
              <a:ahLst/>
              <a:rect l="l" t="t" r="r" b="b"/>
              <a:pathLst>
                <a:path w="1976" h="1442">
                  <a:moveTo>
                    <a:pt x="1785" y="1442"/>
                  </a:moveTo>
                  <a:lnTo>
                    <a:pt x="1835" y="1410"/>
                  </a:lnTo>
                  <a:lnTo>
                    <a:pt x="1976" y="379"/>
                  </a:lnTo>
                  <a:lnTo>
                    <a:pt x="67" y="0"/>
                  </a:lnTo>
                  <a:lnTo>
                    <a:pt x="0" y="0"/>
                  </a:lnTo>
                  <a:lnTo>
                    <a:pt x="6" y="36"/>
                  </a:lnTo>
                  <a:lnTo>
                    <a:pt x="1550" y="1116"/>
                  </a:lnTo>
                  <a:lnTo>
                    <a:pt x="1785" y="144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968880" y="5394600"/>
              <a:ext cx="569520" cy="174600"/>
            </a:xfrm>
            <a:custGeom>
              <a:avLst/>
              <a:gdLst/>
              <a:ahLst/>
              <a:rect l="l" t="t" r="r" b="b"/>
              <a:pathLst>
                <a:path w="1111" h="307">
                  <a:moveTo>
                    <a:pt x="81" y="166"/>
                  </a:moveTo>
                  <a:lnTo>
                    <a:pt x="99" y="80"/>
                  </a:lnTo>
                  <a:lnTo>
                    <a:pt x="1105" y="307"/>
                  </a:lnTo>
                  <a:lnTo>
                    <a:pt x="1111" y="240"/>
                  </a:lnTo>
                  <a:lnTo>
                    <a:pt x="56" y="0"/>
                  </a:lnTo>
                  <a:lnTo>
                    <a:pt x="0" y="130"/>
                  </a:lnTo>
                  <a:lnTo>
                    <a:pt x="26" y="173"/>
                  </a:lnTo>
                  <a:lnTo>
                    <a:pt x="81" y="16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374240" y="5513760"/>
              <a:ext cx="30600" cy="79560"/>
            </a:xfrm>
            <a:custGeom>
              <a:avLst/>
              <a:gdLst/>
              <a:ahLst/>
              <a:rect l="l" t="t" r="r" b="b"/>
              <a:pathLst>
                <a:path w="62" h="141">
                  <a:moveTo>
                    <a:pt x="32" y="0"/>
                  </a:moveTo>
                  <a:lnTo>
                    <a:pt x="62" y="31"/>
                  </a:lnTo>
                  <a:lnTo>
                    <a:pt x="38" y="141"/>
                  </a:lnTo>
                  <a:lnTo>
                    <a:pt x="0" y="13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554880" y="5611680"/>
              <a:ext cx="31320" cy="58680"/>
            </a:xfrm>
            <a:custGeom>
              <a:avLst/>
              <a:gdLst/>
              <a:ahLst/>
              <a:rect l="l" t="t" r="r" b="b"/>
              <a:pathLst>
                <a:path w="60" h="104">
                  <a:moveTo>
                    <a:pt x="0" y="0"/>
                  </a:moveTo>
                  <a:lnTo>
                    <a:pt x="0" y="104"/>
                  </a:lnTo>
                  <a:lnTo>
                    <a:pt x="60" y="68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477120" y="5468760"/>
              <a:ext cx="1273320" cy="635040"/>
            </a:xfrm>
            <a:custGeom>
              <a:avLst/>
              <a:gdLst/>
              <a:ahLst/>
              <a:rect l="l" t="t" r="r" b="b"/>
              <a:pathLst>
                <a:path w="2488" h="1116">
                  <a:moveTo>
                    <a:pt x="5" y="625"/>
                  </a:moveTo>
                  <a:lnTo>
                    <a:pt x="0" y="491"/>
                  </a:lnTo>
                  <a:lnTo>
                    <a:pt x="12" y="453"/>
                  </a:lnTo>
                  <a:lnTo>
                    <a:pt x="184" y="306"/>
                  </a:lnTo>
                  <a:lnTo>
                    <a:pt x="154" y="251"/>
                  </a:lnTo>
                  <a:lnTo>
                    <a:pt x="437" y="24"/>
                  </a:lnTo>
                  <a:lnTo>
                    <a:pt x="469" y="6"/>
                  </a:lnTo>
                  <a:lnTo>
                    <a:pt x="499" y="6"/>
                  </a:lnTo>
                  <a:lnTo>
                    <a:pt x="537" y="0"/>
                  </a:lnTo>
                  <a:lnTo>
                    <a:pt x="573" y="6"/>
                  </a:lnTo>
                  <a:lnTo>
                    <a:pt x="611" y="6"/>
                  </a:lnTo>
                  <a:lnTo>
                    <a:pt x="2488" y="441"/>
                  </a:lnTo>
                  <a:lnTo>
                    <a:pt x="2488" y="607"/>
                  </a:lnTo>
                  <a:lnTo>
                    <a:pt x="1999" y="1110"/>
                  </a:lnTo>
                  <a:lnTo>
                    <a:pt x="1987" y="1116"/>
                  </a:lnTo>
                  <a:lnTo>
                    <a:pt x="1963" y="1116"/>
                  </a:lnTo>
                  <a:lnTo>
                    <a:pt x="12" y="651"/>
                  </a:lnTo>
                  <a:lnTo>
                    <a:pt x="5" y="625"/>
                  </a:lnTo>
                  <a:close/>
                </a:path>
              </a:pathLst>
            </a:custGeom>
            <a:solidFill>
              <a:srgbClr val="7a7a7a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478920" y="5729760"/>
              <a:ext cx="1018080" cy="296280"/>
            </a:xfrm>
            <a:custGeom>
              <a:avLst/>
              <a:gdLst/>
              <a:ahLst/>
              <a:rect l="l" t="t" r="r" b="b"/>
              <a:pathLst>
                <a:path w="1988" h="522">
                  <a:moveTo>
                    <a:pt x="1988" y="492"/>
                  </a:moveTo>
                  <a:lnTo>
                    <a:pt x="13" y="0"/>
                  </a:lnTo>
                  <a:lnTo>
                    <a:pt x="0" y="36"/>
                  </a:lnTo>
                  <a:lnTo>
                    <a:pt x="1958" y="522"/>
                  </a:lnTo>
                  <a:lnTo>
                    <a:pt x="1988" y="49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533280" y="5517720"/>
              <a:ext cx="1150920" cy="464400"/>
            </a:xfrm>
            <a:custGeom>
              <a:avLst/>
              <a:gdLst/>
              <a:ahLst/>
              <a:rect l="l" t="t" r="r" b="b"/>
              <a:pathLst>
                <a:path w="2248" h="817">
                  <a:moveTo>
                    <a:pt x="0" y="356"/>
                  </a:moveTo>
                  <a:lnTo>
                    <a:pt x="439" y="0"/>
                  </a:lnTo>
                  <a:lnTo>
                    <a:pt x="2248" y="418"/>
                  </a:lnTo>
                  <a:lnTo>
                    <a:pt x="1865" y="817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971760" y="5482080"/>
              <a:ext cx="554040" cy="216720"/>
            </a:xfrm>
            <a:custGeom>
              <a:avLst/>
              <a:gdLst/>
              <a:ahLst/>
              <a:rect l="l" t="t" r="r" b="b"/>
              <a:pathLst>
                <a:path w="1081" h="381">
                  <a:moveTo>
                    <a:pt x="0" y="43"/>
                  </a:moveTo>
                  <a:lnTo>
                    <a:pt x="56" y="0"/>
                  </a:lnTo>
                  <a:lnTo>
                    <a:pt x="303" y="55"/>
                  </a:lnTo>
                  <a:lnTo>
                    <a:pt x="303" y="116"/>
                  </a:lnTo>
                  <a:lnTo>
                    <a:pt x="760" y="221"/>
                  </a:lnTo>
                  <a:lnTo>
                    <a:pt x="828" y="165"/>
                  </a:lnTo>
                  <a:lnTo>
                    <a:pt x="1081" y="221"/>
                  </a:lnTo>
                  <a:lnTo>
                    <a:pt x="1081" y="313"/>
                  </a:lnTo>
                  <a:lnTo>
                    <a:pt x="989" y="381"/>
                  </a:lnTo>
                  <a:lnTo>
                    <a:pt x="20" y="12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7a7a7a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953400" y="5507280"/>
              <a:ext cx="540720" cy="195120"/>
            </a:xfrm>
            <a:custGeom>
              <a:avLst/>
              <a:gdLst/>
              <a:ahLst/>
              <a:rect l="l" t="t" r="r" b="b"/>
              <a:pathLst>
                <a:path w="1055" h="344">
                  <a:moveTo>
                    <a:pt x="0" y="110"/>
                  </a:moveTo>
                  <a:lnTo>
                    <a:pt x="36" y="0"/>
                  </a:lnTo>
                  <a:lnTo>
                    <a:pt x="283" y="55"/>
                  </a:lnTo>
                  <a:lnTo>
                    <a:pt x="271" y="110"/>
                  </a:lnTo>
                  <a:lnTo>
                    <a:pt x="790" y="233"/>
                  </a:lnTo>
                  <a:lnTo>
                    <a:pt x="802" y="178"/>
                  </a:lnTo>
                  <a:lnTo>
                    <a:pt x="1055" y="233"/>
                  </a:lnTo>
                  <a:lnTo>
                    <a:pt x="1025" y="344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479000" y="5608080"/>
              <a:ext cx="46800" cy="93960"/>
            </a:xfrm>
            <a:custGeom>
              <a:avLst/>
              <a:gdLst/>
              <a:ahLst/>
              <a:rect l="l" t="t" r="r" b="b"/>
              <a:pathLst>
                <a:path w="92" h="166">
                  <a:moveTo>
                    <a:pt x="0" y="166"/>
                  </a:moveTo>
                  <a:lnTo>
                    <a:pt x="24" y="55"/>
                  </a:lnTo>
                  <a:lnTo>
                    <a:pt x="92" y="0"/>
                  </a:lnTo>
                  <a:lnTo>
                    <a:pt x="92" y="98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089480" y="5513760"/>
              <a:ext cx="37800" cy="55440"/>
            </a:xfrm>
            <a:custGeom>
              <a:avLst/>
              <a:gdLst/>
              <a:ahLst/>
              <a:rect l="l" t="t" r="r" b="b"/>
              <a:pathLst>
                <a:path w="74" h="98">
                  <a:moveTo>
                    <a:pt x="0" y="98"/>
                  </a:moveTo>
                  <a:lnTo>
                    <a:pt x="12" y="43"/>
                  </a:lnTo>
                  <a:lnTo>
                    <a:pt x="74" y="0"/>
                  </a:lnTo>
                  <a:lnTo>
                    <a:pt x="74" y="61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118280" y="5524200"/>
              <a:ext cx="262080" cy="83880"/>
            </a:xfrm>
            <a:custGeom>
              <a:avLst/>
              <a:gdLst/>
              <a:ahLst/>
              <a:rect l="l" t="t" r="r" b="b"/>
              <a:pathLst>
                <a:path w="513" h="147">
                  <a:moveTo>
                    <a:pt x="481" y="147"/>
                  </a:moveTo>
                  <a:lnTo>
                    <a:pt x="6" y="42"/>
                  </a:lnTo>
                  <a:lnTo>
                    <a:pt x="0" y="31"/>
                  </a:lnTo>
                  <a:lnTo>
                    <a:pt x="6" y="12"/>
                  </a:lnTo>
                  <a:lnTo>
                    <a:pt x="18" y="0"/>
                  </a:lnTo>
                  <a:lnTo>
                    <a:pt x="513" y="110"/>
                  </a:lnTo>
                  <a:lnTo>
                    <a:pt x="481" y="14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127640" y="5455080"/>
              <a:ext cx="261720" cy="131760"/>
            </a:xfrm>
            <a:custGeom>
              <a:avLst/>
              <a:gdLst/>
              <a:ahLst/>
              <a:rect l="l" t="t" r="r" b="b"/>
              <a:pathLst>
                <a:path w="513" h="233">
                  <a:moveTo>
                    <a:pt x="0" y="123"/>
                  </a:moveTo>
                  <a:lnTo>
                    <a:pt x="18" y="0"/>
                  </a:lnTo>
                  <a:lnTo>
                    <a:pt x="513" y="104"/>
                  </a:lnTo>
                  <a:lnTo>
                    <a:pt x="501" y="23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7a7a7a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143120" y="5473080"/>
              <a:ext cx="229320" cy="92880"/>
            </a:xfrm>
            <a:custGeom>
              <a:avLst/>
              <a:gdLst/>
              <a:ahLst/>
              <a:rect l="l" t="t" r="r" b="b"/>
              <a:pathLst>
                <a:path w="448" h="164">
                  <a:moveTo>
                    <a:pt x="11" y="0"/>
                  </a:moveTo>
                  <a:lnTo>
                    <a:pt x="448" y="94"/>
                  </a:lnTo>
                  <a:lnTo>
                    <a:pt x="440" y="164"/>
                  </a:lnTo>
                  <a:lnTo>
                    <a:pt x="0" y="6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3d3d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770160" y="4880160"/>
              <a:ext cx="1055880" cy="815400"/>
            </a:xfrm>
            <a:custGeom>
              <a:avLst/>
              <a:gdLst/>
              <a:ahLst/>
              <a:rect l="l" t="t" r="r" b="b"/>
              <a:pathLst>
                <a:path w="2063" h="1436">
                  <a:moveTo>
                    <a:pt x="389" y="1116"/>
                  </a:moveTo>
                  <a:lnTo>
                    <a:pt x="197" y="1073"/>
                  </a:lnTo>
                  <a:lnTo>
                    <a:pt x="0" y="994"/>
                  </a:lnTo>
                  <a:lnTo>
                    <a:pt x="130" y="0"/>
                  </a:lnTo>
                  <a:lnTo>
                    <a:pt x="2063" y="385"/>
                  </a:lnTo>
                  <a:lnTo>
                    <a:pt x="1915" y="1436"/>
                  </a:lnTo>
                  <a:lnTo>
                    <a:pt x="1717" y="1422"/>
                  </a:lnTo>
                  <a:lnTo>
                    <a:pt x="1476" y="1380"/>
                  </a:lnTo>
                  <a:lnTo>
                    <a:pt x="1458" y="1294"/>
                  </a:lnTo>
                  <a:lnTo>
                    <a:pt x="1476" y="1153"/>
                  </a:lnTo>
                  <a:lnTo>
                    <a:pt x="451" y="927"/>
                  </a:lnTo>
                  <a:lnTo>
                    <a:pt x="427" y="1043"/>
                  </a:lnTo>
                  <a:lnTo>
                    <a:pt x="427" y="1080"/>
                  </a:lnTo>
                  <a:lnTo>
                    <a:pt x="395" y="1110"/>
                  </a:lnTo>
                  <a:lnTo>
                    <a:pt x="389" y="1116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09040" y="5377680"/>
              <a:ext cx="188280" cy="93960"/>
            </a:xfrm>
            <a:custGeom>
              <a:avLst/>
              <a:gdLst/>
              <a:ahLst/>
              <a:rect l="l" t="t" r="r" b="b"/>
              <a:pathLst>
                <a:path w="370" h="164">
                  <a:moveTo>
                    <a:pt x="11" y="0"/>
                  </a:moveTo>
                  <a:lnTo>
                    <a:pt x="370" y="75"/>
                  </a:lnTo>
                  <a:lnTo>
                    <a:pt x="353" y="164"/>
                  </a:lnTo>
                  <a:lnTo>
                    <a:pt x="0" y="9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516800" y="5551560"/>
              <a:ext cx="201600" cy="105480"/>
            </a:xfrm>
            <a:custGeom>
              <a:avLst/>
              <a:gdLst/>
              <a:ahLst/>
              <a:rect l="l" t="t" r="r" b="b"/>
              <a:pathLst>
                <a:path w="395" h="185">
                  <a:moveTo>
                    <a:pt x="15" y="0"/>
                  </a:moveTo>
                  <a:lnTo>
                    <a:pt x="395" y="80"/>
                  </a:lnTo>
                  <a:lnTo>
                    <a:pt x="383" y="185"/>
                  </a:lnTo>
                  <a:lnTo>
                    <a:pt x="0" y="10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815160" y="4926600"/>
              <a:ext cx="960480" cy="632520"/>
            </a:xfrm>
            <a:custGeom>
              <a:avLst/>
              <a:gdLst/>
              <a:ahLst/>
              <a:rect l="l" t="t" r="r" b="b"/>
              <a:pathLst>
                <a:path w="1878" h="1115">
                  <a:moveTo>
                    <a:pt x="172" y="345"/>
                  </a:moveTo>
                  <a:lnTo>
                    <a:pt x="204" y="348"/>
                  </a:lnTo>
                  <a:lnTo>
                    <a:pt x="237" y="345"/>
                  </a:lnTo>
                  <a:lnTo>
                    <a:pt x="272" y="338"/>
                  </a:lnTo>
                  <a:lnTo>
                    <a:pt x="300" y="317"/>
                  </a:lnTo>
                  <a:lnTo>
                    <a:pt x="319" y="292"/>
                  </a:lnTo>
                  <a:lnTo>
                    <a:pt x="323" y="274"/>
                  </a:lnTo>
                  <a:lnTo>
                    <a:pt x="329" y="249"/>
                  </a:lnTo>
                  <a:lnTo>
                    <a:pt x="326" y="199"/>
                  </a:lnTo>
                  <a:lnTo>
                    <a:pt x="316" y="163"/>
                  </a:lnTo>
                  <a:lnTo>
                    <a:pt x="297" y="139"/>
                  </a:lnTo>
                  <a:lnTo>
                    <a:pt x="279" y="121"/>
                  </a:lnTo>
                  <a:lnTo>
                    <a:pt x="261" y="110"/>
                  </a:lnTo>
                  <a:lnTo>
                    <a:pt x="240" y="103"/>
                  </a:lnTo>
                  <a:lnTo>
                    <a:pt x="208" y="92"/>
                  </a:lnTo>
                  <a:lnTo>
                    <a:pt x="86" y="68"/>
                  </a:lnTo>
                  <a:lnTo>
                    <a:pt x="94" y="0"/>
                  </a:lnTo>
                  <a:lnTo>
                    <a:pt x="1878" y="354"/>
                  </a:lnTo>
                  <a:lnTo>
                    <a:pt x="1778" y="1115"/>
                  </a:lnTo>
                  <a:lnTo>
                    <a:pt x="0" y="733"/>
                  </a:lnTo>
                  <a:lnTo>
                    <a:pt x="50" y="324"/>
                  </a:lnTo>
                  <a:lnTo>
                    <a:pt x="172" y="345"/>
                  </a:lnTo>
                  <a:close/>
                </a:path>
              </a:pathLst>
            </a:custGeom>
            <a:solidFill>
              <a:srgbClr val="7a7a7a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010640" y="5033520"/>
              <a:ext cx="698400" cy="441720"/>
            </a:xfrm>
            <a:custGeom>
              <a:avLst/>
              <a:gdLst/>
              <a:ahLst/>
              <a:rect l="l" t="t" r="r" b="b"/>
              <a:pathLst>
                <a:path w="1363" h="780">
                  <a:moveTo>
                    <a:pt x="0" y="504"/>
                  </a:moveTo>
                  <a:lnTo>
                    <a:pt x="74" y="0"/>
                  </a:lnTo>
                  <a:lnTo>
                    <a:pt x="1363" y="246"/>
                  </a:lnTo>
                  <a:lnTo>
                    <a:pt x="1289" y="780"/>
                  </a:lnTo>
                  <a:lnTo>
                    <a:pt x="0" y="50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051680" y="5072040"/>
              <a:ext cx="619560" cy="367920"/>
            </a:xfrm>
            <a:custGeom>
              <a:avLst/>
              <a:gdLst/>
              <a:ahLst/>
              <a:rect l="l" t="t" r="r" b="b"/>
              <a:pathLst>
                <a:path w="1209" h="650">
                  <a:moveTo>
                    <a:pt x="56" y="0"/>
                  </a:moveTo>
                  <a:lnTo>
                    <a:pt x="1209" y="220"/>
                  </a:lnTo>
                  <a:lnTo>
                    <a:pt x="1155" y="650"/>
                  </a:lnTo>
                  <a:lnTo>
                    <a:pt x="0" y="40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a08e"/>
            </a:solidFill>
            <a:ln w="1440">
              <a:solidFill>
                <a:srgbClr val="00a08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728040" y="5545800"/>
              <a:ext cx="70560" cy="44280"/>
            </a:xfrm>
            <a:custGeom>
              <a:avLst/>
              <a:gdLst/>
              <a:ahLst/>
              <a:rect l="l" t="t" r="r" b="b"/>
              <a:pathLst>
                <a:path w="137" h="77">
                  <a:moveTo>
                    <a:pt x="0" y="56"/>
                  </a:moveTo>
                  <a:lnTo>
                    <a:pt x="64" y="0"/>
                  </a:lnTo>
                  <a:lnTo>
                    <a:pt x="137" y="15"/>
                  </a:lnTo>
                  <a:lnTo>
                    <a:pt x="81" y="77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690240" y="5583240"/>
              <a:ext cx="84960" cy="47880"/>
            </a:xfrm>
            <a:custGeom>
              <a:avLst/>
              <a:gdLst/>
              <a:ahLst/>
              <a:rect l="l" t="t" r="r" b="b"/>
              <a:pathLst>
                <a:path w="166" h="84">
                  <a:moveTo>
                    <a:pt x="63" y="0"/>
                  </a:moveTo>
                  <a:lnTo>
                    <a:pt x="166" y="24"/>
                  </a:lnTo>
                  <a:lnTo>
                    <a:pt x="115" y="84"/>
                  </a:lnTo>
                  <a:lnTo>
                    <a:pt x="0" y="54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652080" y="5621040"/>
              <a:ext cx="109440" cy="52200"/>
            </a:xfrm>
            <a:custGeom>
              <a:avLst/>
              <a:gdLst/>
              <a:ahLst/>
              <a:rect l="l" t="t" r="r" b="b"/>
              <a:pathLst>
                <a:path w="212" h="94">
                  <a:moveTo>
                    <a:pt x="62" y="0"/>
                  </a:moveTo>
                  <a:lnTo>
                    <a:pt x="212" y="35"/>
                  </a:lnTo>
                  <a:lnTo>
                    <a:pt x="164" y="94"/>
                  </a:lnTo>
                  <a:lnTo>
                    <a:pt x="0" y="55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609240" y="5657040"/>
              <a:ext cx="84960" cy="47520"/>
            </a:xfrm>
            <a:custGeom>
              <a:avLst/>
              <a:gdLst/>
              <a:ahLst/>
              <a:rect l="l" t="t" r="r" b="b"/>
              <a:pathLst>
                <a:path w="166" h="85">
                  <a:moveTo>
                    <a:pt x="71" y="0"/>
                  </a:moveTo>
                  <a:lnTo>
                    <a:pt x="166" y="24"/>
                  </a:lnTo>
                  <a:lnTo>
                    <a:pt x="101" y="85"/>
                  </a:lnTo>
                  <a:lnTo>
                    <a:pt x="0" y="56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567120" y="5692320"/>
              <a:ext cx="81720" cy="44280"/>
            </a:xfrm>
            <a:custGeom>
              <a:avLst/>
              <a:gdLst/>
              <a:ahLst/>
              <a:rect l="l" t="t" r="r" b="b"/>
              <a:pathLst>
                <a:path w="160" h="78">
                  <a:moveTo>
                    <a:pt x="73" y="0"/>
                  </a:moveTo>
                  <a:lnTo>
                    <a:pt x="160" y="23"/>
                  </a:lnTo>
                  <a:lnTo>
                    <a:pt x="91" y="78"/>
                  </a:lnTo>
                  <a:lnTo>
                    <a:pt x="0" y="59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620400" y="5708160"/>
              <a:ext cx="83520" cy="46440"/>
            </a:xfrm>
            <a:custGeom>
              <a:avLst/>
              <a:gdLst/>
              <a:ahLst/>
              <a:rect l="l" t="t" r="r" b="b"/>
              <a:pathLst>
                <a:path w="163" h="83">
                  <a:moveTo>
                    <a:pt x="0" y="56"/>
                  </a:moveTo>
                  <a:lnTo>
                    <a:pt x="71" y="0"/>
                  </a:lnTo>
                  <a:lnTo>
                    <a:pt x="163" y="23"/>
                  </a:lnTo>
                  <a:lnTo>
                    <a:pt x="106" y="8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674760" y="5673240"/>
              <a:ext cx="80640" cy="47520"/>
            </a:xfrm>
            <a:custGeom>
              <a:avLst/>
              <a:gdLst/>
              <a:ahLst/>
              <a:rect l="l" t="t" r="r" b="b"/>
              <a:pathLst>
                <a:path w="160" h="83">
                  <a:moveTo>
                    <a:pt x="57" y="0"/>
                  </a:moveTo>
                  <a:lnTo>
                    <a:pt x="160" y="24"/>
                  </a:lnTo>
                  <a:lnTo>
                    <a:pt x="107" y="83"/>
                  </a:lnTo>
                  <a:lnTo>
                    <a:pt x="0" y="57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685200" y="5723280"/>
              <a:ext cx="82800" cy="47520"/>
            </a:xfrm>
            <a:custGeom>
              <a:avLst/>
              <a:gdLst/>
              <a:ahLst/>
              <a:rect l="l" t="t" r="r" b="b"/>
              <a:pathLst>
                <a:path w="163" h="83">
                  <a:moveTo>
                    <a:pt x="56" y="0"/>
                  </a:moveTo>
                  <a:lnTo>
                    <a:pt x="163" y="27"/>
                  </a:lnTo>
                  <a:lnTo>
                    <a:pt x="104" y="83"/>
                  </a:lnTo>
                  <a:lnTo>
                    <a:pt x="0" y="6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746400" y="5741280"/>
              <a:ext cx="86040" cy="47880"/>
            </a:xfrm>
            <a:custGeom>
              <a:avLst/>
              <a:gdLst/>
              <a:ahLst/>
              <a:rect l="l" t="t" r="r" b="b"/>
              <a:pathLst>
                <a:path w="167" h="84">
                  <a:moveTo>
                    <a:pt x="0" y="59"/>
                  </a:moveTo>
                  <a:lnTo>
                    <a:pt x="66" y="0"/>
                  </a:lnTo>
                  <a:lnTo>
                    <a:pt x="167" y="25"/>
                  </a:lnTo>
                  <a:lnTo>
                    <a:pt x="108" y="8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810120" y="5759640"/>
              <a:ext cx="423000" cy="139320"/>
            </a:xfrm>
            <a:custGeom>
              <a:avLst/>
              <a:gdLst/>
              <a:ahLst/>
              <a:rect l="l" t="t" r="r" b="b"/>
              <a:pathLst>
                <a:path w="825" h="247">
                  <a:moveTo>
                    <a:pt x="825" y="191"/>
                  </a:moveTo>
                  <a:lnTo>
                    <a:pt x="65" y="0"/>
                  </a:lnTo>
                  <a:lnTo>
                    <a:pt x="0" y="57"/>
                  </a:lnTo>
                  <a:lnTo>
                    <a:pt x="777" y="247"/>
                  </a:lnTo>
                  <a:lnTo>
                    <a:pt x="825" y="191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803640" y="5708160"/>
              <a:ext cx="72360" cy="48600"/>
            </a:xfrm>
            <a:custGeom>
              <a:avLst/>
              <a:gdLst/>
              <a:ahLst/>
              <a:rect l="l" t="t" r="r" b="b"/>
              <a:pathLst>
                <a:path w="142" h="86">
                  <a:moveTo>
                    <a:pt x="0" y="58"/>
                  </a:moveTo>
                  <a:lnTo>
                    <a:pt x="52" y="0"/>
                  </a:lnTo>
                  <a:lnTo>
                    <a:pt x="142" y="21"/>
                  </a:lnTo>
                  <a:lnTo>
                    <a:pt x="95" y="86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819120" y="5663880"/>
              <a:ext cx="74520" cy="47880"/>
            </a:xfrm>
            <a:custGeom>
              <a:avLst/>
              <a:gdLst/>
              <a:ahLst/>
              <a:rect l="l" t="t" r="r" b="b"/>
              <a:pathLst>
                <a:path w="145" h="85">
                  <a:moveTo>
                    <a:pt x="0" y="56"/>
                  </a:moveTo>
                  <a:lnTo>
                    <a:pt x="43" y="0"/>
                  </a:lnTo>
                  <a:lnTo>
                    <a:pt x="145" y="24"/>
                  </a:lnTo>
                  <a:lnTo>
                    <a:pt x="104" y="85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834600" y="5621040"/>
              <a:ext cx="75960" cy="46440"/>
            </a:xfrm>
            <a:custGeom>
              <a:avLst/>
              <a:gdLst/>
              <a:ahLst/>
              <a:rect l="l" t="t" r="r" b="b"/>
              <a:pathLst>
                <a:path w="149" h="83">
                  <a:moveTo>
                    <a:pt x="0" y="59"/>
                  </a:moveTo>
                  <a:lnTo>
                    <a:pt x="48" y="0"/>
                  </a:lnTo>
                  <a:lnTo>
                    <a:pt x="149" y="24"/>
                  </a:lnTo>
                  <a:lnTo>
                    <a:pt x="106" y="8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849000" y="5575680"/>
              <a:ext cx="75600" cy="48600"/>
            </a:xfrm>
            <a:custGeom>
              <a:avLst/>
              <a:gdLst/>
              <a:ahLst/>
              <a:rect l="l" t="t" r="r" b="b"/>
              <a:pathLst>
                <a:path w="148" h="84">
                  <a:moveTo>
                    <a:pt x="0" y="63"/>
                  </a:moveTo>
                  <a:lnTo>
                    <a:pt x="50" y="0"/>
                  </a:lnTo>
                  <a:lnTo>
                    <a:pt x="148" y="21"/>
                  </a:lnTo>
                  <a:lnTo>
                    <a:pt x="101" y="84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789240" y="5560560"/>
              <a:ext cx="72360" cy="46440"/>
            </a:xfrm>
            <a:custGeom>
              <a:avLst/>
              <a:gdLst/>
              <a:ahLst/>
              <a:rect l="l" t="t" r="r" b="b"/>
              <a:pathLst>
                <a:path w="141" h="81">
                  <a:moveTo>
                    <a:pt x="0" y="59"/>
                  </a:moveTo>
                  <a:lnTo>
                    <a:pt x="57" y="0"/>
                  </a:lnTo>
                  <a:lnTo>
                    <a:pt x="141" y="22"/>
                  </a:lnTo>
                  <a:lnTo>
                    <a:pt x="92" y="81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771960" y="5603760"/>
              <a:ext cx="74520" cy="45000"/>
            </a:xfrm>
            <a:custGeom>
              <a:avLst/>
              <a:gdLst/>
              <a:ahLst/>
              <a:rect l="l" t="t" r="r" b="b"/>
              <a:pathLst>
                <a:path w="145" h="78">
                  <a:moveTo>
                    <a:pt x="0" y="57"/>
                  </a:moveTo>
                  <a:lnTo>
                    <a:pt x="52" y="0"/>
                  </a:lnTo>
                  <a:lnTo>
                    <a:pt x="145" y="21"/>
                  </a:lnTo>
                  <a:lnTo>
                    <a:pt x="97" y="78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755760" y="5648040"/>
              <a:ext cx="74520" cy="44280"/>
            </a:xfrm>
            <a:custGeom>
              <a:avLst/>
              <a:gdLst/>
              <a:ahLst/>
              <a:rect l="l" t="t" r="r" b="b"/>
              <a:pathLst>
                <a:path w="145" h="78">
                  <a:moveTo>
                    <a:pt x="0" y="57"/>
                  </a:moveTo>
                  <a:lnTo>
                    <a:pt x="51" y="0"/>
                  </a:lnTo>
                  <a:lnTo>
                    <a:pt x="145" y="21"/>
                  </a:lnTo>
                  <a:lnTo>
                    <a:pt x="95" y="78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738120" y="5690160"/>
              <a:ext cx="73440" cy="46440"/>
            </a:xfrm>
            <a:custGeom>
              <a:avLst/>
              <a:gdLst/>
              <a:ahLst/>
              <a:rect l="l" t="t" r="r" b="b"/>
              <a:pathLst>
                <a:path w="145" h="83">
                  <a:moveTo>
                    <a:pt x="0" y="62"/>
                  </a:moveTo>
                  <a:lnTo>
                    <a:pt x="57" y="0"/>
                  </a:lnTo>
                  <a:lnTo>
                    <a:pt x="145" y="25"/>
                  </a:lnTo>
                  <a:lnTo>
                    <a:pt x="88" y="8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865200" y="5725440"/>
              <a:ext cx="74520" cy="48600"/>
            </a:xfrm>
            <a:custGeom>
              <a:avLst/>
              <a:gdLst/>
              <a:ahLst/>
              <a:rect l="l" t="t" r="r" b="b"/>
              <a:pathLst>
                <a:path w="145" h="88">
                  <a:moveTo>
                    <a:pt x="0" y="61"/>
                  </a:moveTo>
                  <a:lnTo>
                    <a:pt x="45" y="0"/>
                  </a:lnTo>
                  <a:lnTo>
                    <a:pt x="145" y="24"/>
                  </a:lnTo>
                  <a:lnTo>
                    <a:pt x="105" y="88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882840" y="5681160"/>
              <a:ext cx="74520" cy="47520"/>
            </a:xfrm>
            <a:custGeom>
              <a:avLst/>
              <a:gdLst/>
              <a:ahLst/>
              <a:rect l="l" t="t" r="r" b="b"/>
              <a:pathLst>
                <a:path w="146" h="83">
                  <a:moveTo>
                    <a:pt x="0" y="61"/>
                  </a:moveTo>
                  <a:lnTo>
                    <a:pt x="48" y="0"/>
                  </a:lnTo>
                  <a:lnTo>
                    <a:pt x="146" y="23"/>
                  </a:lnTo>
                  <a:lnTo>
                    <a:pt x="106" y="83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897960" y="5637960"/>
              <a:ext cx="73440" cy="46440"/>
            </a:xfrm>
            <a:custGeom>
              <a:avLst/>
              <a:gdLst/>
              <a:ahLst/>
              <a:rect l="l" t="t" r="r" b="b"/>
              <a:pathLst>
                <a:path w="145" h="82">
                  <a:moveTo>
                    <a:pt x="0" y="57"/>
                  </a:moveTo>
                  <a:lnTo>
                    <a:pt x="44" y="0"/>
                  </a:lnTo>
                  <a:lnTo>
                    <a:pt x="145" y="22"/>
                  </a:lnTo>
                  <a:lnTo>
                    <a:pt x="106" y="82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913440" y="5592600"/>
              <a:ext cx="72360" cy="47520"/>
            </a:xfrm>
            <a:custGeom>
              <a:avLst/>
              <a:gdLst/>
              <a:ahLst/>
              <a:rect l="l" t="t" r="r" b="b"/>
              <a:pathLst>
                <a:path w="142" h="84">
                  <a:moveTo>
                    <a:pt x="0" y="61"/>
                  </a:moveTo>
                  <a:lnTo>
                    <a:pt x="43" y="0"/>
                  </a:lnTo>
                  <a:lnTo>
                    <a:pt x="142" y="22"/>
                  </a:lnTo>
                  <a:lnTo>
                    <a:pt x="100" y="8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931800" y="5742360"/>
              <a:ext cx="74520" cy="48600"/>
            </a:xfrm>
            <a:custGeom>
              <a:avLst/>
              <a:gdLst/>
              <a:ahLst/>
              <a:rect l="l" t="t" r="r" b="b"/>
              <a:pathLst>
                <a:path w="144" h="88">
                  <a:moveTo>
                    <a:pt x="0" y="62"/>
                  </a:moveTo>
                  <a:lnTo>
                    <a:pt x="48" y="0"/>
                  </a:lnTo>
                  <a:lnTo>
                    <a:pt x="144" y="28"/>
                  </a:lnTo>
                  <a:lnTo>
                    <a:pt x="101" y="88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947280" y="5700600"/>
              <a:ext cx="74520" cy="4608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0" y="58"/>
                  </a:moveTo>
                  <a:lnTo>
                    <a:pt x="55" y="0"/>
                  </a:lnTo>
                  <a:lnTo>
                    <a:pt x="146" y="19"/>
                  </a:lnTo>
                  <a:lnTo>
                    <a:pt x="103" y="82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963480" y="5654880"/>
              <a:ext cx="71640" cy="45360"/>
            </a:xfrm>
            <a:custGeom>
              <a:avLst/>
              <a:gdLst/>
              <a:ahLst/>
              <a:rect l="l" t="t" r="r" b="b"/>
              <a:pathLst>
                <a:path w="141" h="80">
                  <a:moveTo>
                    <a:pt x="0" y="60"/>
                  </a:moveTo>
                  <a:lnTo>
                    <a:pt x="49" y="0"/>
                  </a:lnTo>
                  <a:lnTo>
                    <a:pt x="141" y="22"/>
                  </a:lnTo>
                  <a:lnTo>
                    <a:pt x="92" y="8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976080" y="5607360"/>
              <a:ext cx="74520" cy="52200"/>
            </a:xfrm>
            <a:custGeom>
              <a:avLst/>
              <a:gdLst/>
              <a:ahLst/>
              <a:rect l="l" t="t" r="r" b="b"/>
              <a:pathLst>
                <a:path w="144" h="90">
                  <a:moveTo>
                    <a:pt x="0" y="66"/>
                  </a:moveTo>
                  <a:lnTo>
                    <a:pt x="45" y="0"/>
                  </a:lnTo>
                  <a:lnTo>
                    <a:pt x="144" y="27"/>
                  </a:lnTo>
                  <a:lnTo>
                    <a:pt x="101" y="9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998400" y="5760360"/>
              <a:ext cx="70560" cy="49680"/>
            </a:xfrm>
            <a:custGeom>
              <a:avLst/>
              <a:gdLst/>
              <a:ahLst/>
              <a:rect l="l" t="t" r="r" b="b"/>
              <a:pathLst>
                <a:path w="137" h="87">
                  <a:moveTo>
                    <a:pt x="0" y="63"/>
                  </a:moveTo>
                  <a:lnTo>
                    <a:pt x="42" y="0"/>
                  </a:lnTo>
                  <a:lnTo>
                    <a:pt x="137" y="24"/>
                  </a:lnTo>
                  <a:lnTo>
                    <a:pt x="97" y="87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010640" y="5715000"/>
              <a:ext cx="71640" cy="48600"/>
            </a:xfrm>
            <a:custGeom>
              <a:avLst/>
              <a:gdLst/>
              <a:ahLst/>
              <a:rect l="l" t="t" r="r" b="b"/>
              <a:pathLst>
                <a:path w="141" h="84">
                  <a:moveTo>
                    <a:pt x="0" y="60"/>
                  </a:moveTo>
                  <a:lnTo>
                    <a:pt x="44" y="0"/>
                  </a:lnTo>
                  <a:lnTo>
                    <a:pt x="141" y="22"/>
                  </a:lnTo>
                  <a:lnTo>
                    <a:pt x="100" y="84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026120" y="5670720"/>
              <a:ext cx="68400" cy="46440"/>
            </a:xfrm>
            <a:custGeom>
              <a:avLst/>
              <a:gdLst/>
              <a:ahLst/>
              <a:rect l="l" t="t" r="r" b="b"/>
              <a:pathLst>
                <a:path w="136" h="82">
                  <a:moveTo>
                    <a:pt x="0" y="61"/>
                  </a:moveTo>
                  <a:lnTo>
                    <a:pt x="44" y="0"/>
                  </a:lnTo>
                  <a:lnTo>
                    <a:pt x="136" y="23"/>
                  </a:lnTo>
                  <a:lnTo>
                    <a:pt x="97" y="82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039440" y="5625360"/>
              <a:ext cx="68760" cy="47520"/>
            </a:xfrm>
            <a:custGeom>
              <a:avLst/>
              <a:gdLst/>
              <a:ahLst/>
              <a:rect l="l" t="t" r="r" b="b"/>
              <a:pathLst>
                <a:path w="134" h="85">
                  <a:moveTo>
                    <a:pt x="0" y="64"/>
                  </a:moveTo>
                  <a:lnTo>
                    <a:pt x="50" y="0"/>
                  </a:lnTo>
                  <a:lnTo>
                    <a:pt x="134" y="22"/>
                  </a:lnTo>
                  <a:lnTo>
                    <a:pt x="89" y="85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058880" y="5777640"/>
              <a:ext cx="71640" cy="48600"/>
            </a:xfrm>
            <a:custGeom>
              <a:avLst/>
              <a:gdLst/>
              <a:ahLst/>
              <a:rect l="l" t="t" r="r" b="b"/>
              <a:pathLst>
                <a:path w="140" h="86">
                  <a:moveTo>
                    <a:pt x="0" y="61"/>
                  </a:moveTo>
                  <a:lnTo>
                    <a:pt x="44" y="0"/>
                  </a:lnTo>
                  <a:lnTo>
                    <a:pt x="140" y="24"/>
                  </a:lnTo>
                  <a:lnTo>
                    <a:pt x="99" y="86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072200" y="5732280"/>
              <a:ext cx="72720" cy="47520"/>
            </a:xfrm>
            <a:custGeom>
              <a:avLst/>
              <a:gdLst/>
              <a:ahLst/>
              <a:rect l="l" t="t" r="r" b="b"/>
              <a:pathLst>
                <a:path w="140" h="83">
                  <a:moveTo>
                    <a:pt x="0" y="60"/>
                  </a:moveTo>
                  <a:lnTo>
                    <a:pt x="45" y="0"/>
                  </a:lnTo>
                  <a:lnTo>
                    <a:pt x="140" y="22"/>
                  </a:lnTo>
                  <a:lnTo>
                    <a:pt x="96" y="83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085520" y="5686920"/>
              <a:ext cx="71280" cy="47520"/>
            </a:xfrm>
            <a:custGeom>
              <a:avLst/>
              <a:gdLst/>
              <a:ahLst/>
              <a:rect l="l" t="t" r="r" b="b"/>
              <a:pathLst>
                <a:path w="142" h="83">
                  <a:moveTo>
                    <a:pt x="0" y="62"/>
                  </a:moveTo>
                  <a:lnTo>
                    <a:pt x="44" y="0"/>
                  </a:lnTo>
                  <a:lnTo>
                    <a:pt x="142" y="23"/>
                  </a:lnTo>
                  <a:lnTo>
                    <a:pt x="98" y="8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097760" y="5640120"/>
              <a:ext cx="77760" cy="49680"/>
            </a:xfrm>
            <a:custGeom>
              <a:avLst/>
              <a:gdLst/>
              <a:ahLst/>
              <a:rect l="l" t="t" r="r" b="b"/>
              <a:pathLst>
                <a:path w="151" h="89">
                  <a:moveTo>
                    <a:pt x="0" y="66"/>
                  </a:moveTo>
                  <a:lnTo>
                    <a:pt x="51" y="0"/>
                  </a:lnTo>
                  <a:lnTo>
                    <a:pt x="151" y="24"/>
                  </a:lnTo>
                  <a:lnTo>
                    <a:pt x="104" y="89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122600" y="5795640"/>
              <a:ext cx="73440" cy="48600"/>
            </a:xfrm>
            <a:custGeom>
              <a:avLst/>
              <a:gdLst/>
              <a:ahLst/>
              <a:rect l="l" t="t" r="r" b="b"/>
              <a:pathLst>
                <a:path w="145" h="86">
                  <a:moveTo>
                    <a:pt x="0" y="59"/>
                  </a:moveTo>
                  <a:lnTo>
                    <a:pt x="43" y="0"/>
                  </a:lnTo>
                  <a:lnTo>
                    <a:pt x="145" y="26"/>
                  </a:lnTo>
                  <a:lnTo>
                    <a:pt x="102" y="86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135920" y="5749200"/>
              <a:ext cx="76680" cy="48600"/>
            </a:xfrm>
            <a:custGeom>
              <a:avLst/>
              <a:gdLst/>
              <a:ahLst/>
              <a:rect l="l" t="t" r="r" b="b"/>
              <a:pathLst>
                <a:path w="151" h="84">
                  <a:moveTo>
                    <a:pt x="0" y="59"/>
                  </a:moveTo>
                  <a:lnTo>
                    <a:pt x="44" y="0"/>
                  </a:lnTo>
                  <a:lnTo>
                    <a:pt x="151" y="24"/>
                  </a:lnTo>
                  <a:lnTo>
                    <a:pt x="101" y="8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148160" y="5704920"/>
              <a:ext cx="77760" cy="47520"/>
            </a:xfrm>
            <a:custGeom>
              <a:avLst/>
              <a:gdLst/>
              <a:ahLst/>
              <a:rect l="l" t="t" r="r" b="b"/>
              <a:pathLst>
                <a:path w="153" h="84">
                  <a:moveTo>
                    <a:pt x="0" y="58"/>
                  </a:moveTo>
                  <a:lnTo>
                    <a:pt x="47" y="0"/>
                  </a:lnTo>
                  <a:lnTo>
                    <a:pt x="153" y="21"/>
                  </a:lnTo>
                  <a:lnTo>
                    <a:pt x="106" y="8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163280" y="5659560"/>
              <a:ext cx="74520" cy="48600"/>
            </a:xfrm>
            <a:custGeom>
              <a:avLst/>
              <a:gdLst/>
              <a:ahLst/>
              <a:rect l="l" t="t" r="r" b="b"/>
              <a:pathLst>
                <a:path w="145" h="88">
                  <a:moveTo>
                    <a:pt x="0" y="63"/>
                  </a:moveTo>
                  <a:lnTo>
                    <a:pt x="50" y="0"/>
                  </a:lnTo>
                  <a:lnTo>
                    <a:pt x="145" y="21"/>
                  </a:lnTo>
                  <a:lnTo>
                    <a:pt x="92" y="88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188840" y="5814000"/>
              <a:ext cx="73800" cy="46080"/>
            </a:xfrm>
            <a:custGeom>
              <a:avLst/>
              <a:gdLst/>
              <a:ahLst/>
              <a:rect l="l" t="t" r="r" b="b"/>
              <a:pathLst>
                <a:path w="145" h="83">
                  <a:moveTo>
                    <a:pt x="0" y="59"/>
                  </a:moveTo>
                  <a:lnTo>
                    <a:pt x="47" y="0"/>
                  </a:lnTo>
                  <a:lnTo>
                    <a:pt x="145" y="24"/>
                  </a:lnTo>
                  <a:lnTo>
                    <a:pt x="97" y="8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203240" y="5767560"/>
              <a:ext cx="74520" cy="4860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0" y="60"/>
                  </a:moveTo>
                  <a:lnTo>
                    <a:pt x="42" y="0"/>
                  </a:lnTo>
                  <a:lnTo>
                    <a:pt x="146" y="22"/>
                  </a:lnTo>
                  <a:lnTo>
                    <a:pt x="95" y="84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215480" y="5721840"/>
              <a:ext cx="73440" cy="48600"/>
            </a:xfrm>
            <a:custGeom>
              <a:avLst/>
              <a:gdLst/>
              <a:ahLst/>
              <a:rect l="l" t="t" r="r" b="b"/>
              <a:pathLst>
                <a:path w="145" h="84">
                  <a:moveTo>
                    <a:pt x="0" y="62"/>
                  </a:moveTo>
                  <a:lnTo>
                    <a:pt x="45" y="0"/>
                  </a:lnTo>
                  <a:lnTo>
                    <a:pt x="145" y="21"/>
                  </a:lnTo>
                  <a:lnTo>
                    <a:pt x="99" y="84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228080" y="5674320"/>
              <a:ext cx="75600" cy="511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0" y="68"/>
                  </a:moveTo>
                  <a:lnTo>
                    <a:pt x="53" y="0"/>
                  </a:lnTo>
                  <a:lnTo>
                    <a:pt x="148" y="26"/>
                  </a:lnTo>
                  <a:lnTo>
                    <a:pt x="97" y="91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254360" y="5833440"/>
              <a:ext cx="76680" cy="48600"/>
            </a:xfrm>
            <a:custGeom>
              <a:avLst/>
              <a:gdLst/>
              <a:ahLst/>
              <a:rect l="l" t="t" r="r" b="b"/>
              <a:pathLst>
                <a:path w="149" h="86">
                  <a:moveTo>
                    <a:pt x="0" y="59"/>
                  </a:moveTo>
                  <a:lnTo>
                    <a:pt x="48" y="0"/>
                  </a:lnTo>
                  <a:lnTo>
                    <a:pt x="149" y="26"/>
                  </a:lnTo>
                  <a:lnTo>
                    <a:pt x="105" y="86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225920" y="5871960"/>
              <a:ext cx="78480" cy="46440"/>
            </a:xfrm>
            <a:custGeom>
              <a:avLst/>
              <a:gdLst/>
              <a:ahLst/>
              <a:rect l="l" t="t" r="r" b="b"/>
              <a:pathLst>
                <a:path w="153" h="82">
                  <a:moveTo>
                    <a:pt x="0" y="58"/>
                  </a:moveTo>
                  <a:lnTo>
                    <a:pt x="46" y="0"/>
                  </a:lnTo>
                  <a:lnTo>
                    <a:pt x="153" y="28"/>
                  </a:lnTo>
                  <a:lnTo>
                    <a:pt x="102" y="82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291440" y="5891040"/>
              <a:ext cx="86040" cy="46440"/>
            </a:xfrm>
            <a:custGeom>
              <a:avLst/>
              <a:gdLst/>
              <a:ahLst/>
              <a:rect l="l" t="t" r="r" b="b"/>
              <a:pathLst>
                <a:path w="167" h="83">
                  <a:moveTo>
                    <a:pt x="0" y="58"/>
                  </a:moveTo>
                  <a:lnTo>
                    <a:pt x="52" y="0"/>
                  </a:lnTo>
                  <a:lnTo>
                    <a:pt x="167" y="25"/>
                  </a:lnTo>
                  <a:lnTo>
                    <a:pt x="114" y="8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323120" y="5852880"/>
              <a:ext cx="76680" cy="48600"/>
            </a:xfrm>
            <a:custGeom>
              <a:avLst/>
              <a:gdLst/>
              <a:ahLst/>
              <a:rect l="l" t="t" r="r" b="b"/>
              <a:pathLst>
                <a:path w="150" h="86">
                  <a:moveTo>
                    <a:pt x="0" y="57"/>
                  </a:moveTo>
                  <a:lnTo>
                    <a:pt x="46" y="0"/>
                  </a:lnTo>
                  <a:lnTo>
                    <a:pt x="150" y="22"/>
                  </a:lnTo>
                  <a:lnTo>
                    <a:pt x="107" y="86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266600" y="5785560"/>
              <a:ext cx="76680" cy="49680"/>
            </a:xfrm>
            <a:custGeom>
              <a:avLst/>
              <a:gdLst/>
              <a:ahLst/>
              <a:rect l="l" t="t" r="r" b="b"/>
              <a:pathLst>
                <a:path w="149" h="88">
                  <a:moveTo>
                    <a:pt x="0" y="62"/>
                  </a:moveTo>
                  <a:lnTo>
                    <a:pt x="53" y="0"/>
                  </a:lnTo>
                  <a:lnTo>
                    <a:pt x="149" y="24"/>
                  </a:lnTo>
                  <a:lnTo>
                    <a:pt x="101" y="88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280280" y="5739120"/>
              <a:ext cx="76320" cy="48600"/>
            </a:xfrm>
            <a:custGeom>
              <a:avLst/>
              <a:gdLst/>
              <a:ahLst/>
              <a:rect l="l" t="t" r="r" b="b"/>
              <a:pathLst>
                <a:path w="151" h="86">
                  <a:moveTo>
                    <a:pt x="151" y="24"/>
                  </a:moveTo>
                  <a:lnTo>
                    <a:pt x="95" y="86"/>
                  </a:lnTo>
                  <a:lnTo>
                    <a:pt x="0" y="63"/>
                  </a:lnTo>
                  <a:lnTo>
                    <a:pt x="42" y="0"/>
                  </a:lnTo>
                  <a:lnTo>
                    <a:pt x="151" y="2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293600" y="5692320"/>
              <a:ext cx="77760" cy="52200"/>
            </a:xfrm>
            <a:custGeom>
              <a:avLst/>
              <a:gdLst/>
              <a:ahLst/>
              <a:rect l="l" t="t" r="r" b="b"/>
              <a:pathLst>
                <a:path w="152" h="92">
                  <a:moveTo>
                    <a:pt x="0" y="71"/>
                  </a:moveTo>
                  <a:lnTo>
                    <a:pt x="54" y="0"/>
                  </a:lnTo>
                  <a:lnTo>
                    <a:pt x="152" y="24"/>
                  </a:lnTo>
                  <a:lnTo>
                    <a:pt x="103" y="92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35360" y="5802480"/>
              <a:ext cx="75600" cy="4860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0" y="64"/>
                  </a:moveTo>
                  <a:lnTo>
                    <a:pt x="51" y="0"/>
                  </a:lnTo>
                  <a:lnTo>
                    <a:pt x="147" y="23"/>
                  </a:lnTo>
                  <a:lnTo>
                    <a:pt x="98" y="86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346520" y="5757120"/>
              <a:ext cx="73800" cy="47520"/>
            </a:xfrm>
            <a:custGeom>
              <a:avLst/>
              <a:gdLst/>
              <a:ahLst/>
              <a:rect l="l" t="t" r="r" b="b"/>
              <a:pathLst>
                <a:path w="145" h="82">
                  <a:moveTo>
                    <a:pt x="0" y="60"/>
                  </a:moveTo>
                  <a:lnTo>
                    <a:pt x="53" y="0"/>
                  </a:lnTo>
                  <a:lnTo>
                    <a:pt x="145" y="21"/>
                  </a:lnTo>
                  <a:lnTo>
                    <a:pt x="97" y="82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359120" y="5709600"/>
              <a:ext cx="77760" cy="50760"/>
            </a:xfrm>
            <a:custGeom>
              <a:avLst/>
              <a:gdLst/>
              <a:ahLst/>
              <a:rect l="l" t="t" r="r" b="b"/>
              <a:pathLst>
                <a:path w="151" h="91">
                  <a:moveTo>
                    <a:pt x="0" y="66"/>
                  </a:moveTo>
                  <a:lnTo>
                    <a:pt x="49" y="0"/>
                  </a:lnTo>
                  <a:lnTo>
                    <a:pt x="151" y="27"/>
                  </a:lnTo>
                  <a:lnTo>
                    <a:pt x="104" y="91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358040" y="5909400"/>
              <a:ext cx="81720" cy="46440"/>
            </a:xfrm>
            <a:custGeom>
              <a:avLst/>
              <a:gdLst/>
              <a:ahLst/>
              <a:rect l="l" t="t" r="r" b="b"/>
              <a:pathLst>
                <a:path w="160" h="83">
                  <a:moveTo>
                    <a:pt x="0" y="56"/>
                  </a:moveTo>
                  <a:lnTo>
                    <a:pt x="53" y="0"/>
                  </a:lnTo>
                  <a:lnTo>
                    <a:pt x="160" y="27"/>
                  </a:lnTo>
                  <a:lnTo>
                    <a:pt x="107" y="8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388640" y="5868360"/>
              <a:ext cx="77760" cy="48600"/>
            </a:xfrm>
            <a:custGeom>
              <a:avLst/>
              <a:gdLst/>
              <a:ahLst/>
              <a:rect l="l" t="t" r="r" b="b"/>
              <a:pathLst>
                <a:path w="152" h="86">
                  <a:moveTo>
                    <a:pt x="0" y="59"/>
                  </a:moveTo>
                  <a:lnTo>
                    <a:pt x="51" y="0"/>
                  </a:lnTo>
                  <a:lnTo>
                    <a:pt x="152" y="25"/>
                  </a:lnTo>
                  <a:lnTo>
                    <a:pt x="108" y="86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400880" y="5821920"/>
              <a:ext cx="78840" cy="48600"/>
            </a:xfrm>
            <a:custGeom>
              <a:avLst/>
              <a:gdLst/>
              <a:ahLst/>
              <a:rect l="l" t="t" r="r" b="b"/>
              <a:pathLst>
                <a:path w="154" h="85">
                  <a:moveTo>
                    <a:pt x="0" y="63"/>
                  </a:moveTo>
                  <a:lnTo>
                    <a:pt x="53" y="0"/>
                  </a:lnTo>
                  <a:lnTo>
                    <a:pt x="154" y="22"/>
                  </a:lnTo>
                  <a:lnTo>
                    <a:pt x="99" y="8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412400" y="5775480"/>
              <a:ext cx="71280" cy="45000"/>
            </a:xfrm>
            <a:custGeom>
              <a:avLst/>
              <a:gdLst/>
              <a:ahLst/>
              <a:rect l="l" t="t" r="r" b="b"/>
              <a:pathLst>
                <a:path w="141" h="80">
                  <a:moveTo>
                    <a:pt x="0" y="59"/>
                  </a:moveTo>
                  <a:lnTo>
                    <a:pt x="53" y="0"/>
                  </a:lnTo>
                  <a:lnTo>
                    <a:pt x="141" y="18"/>
                  </a:lnTo>
                  <a:lnTo>
                    <a:pt x="88" y="8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424640" y="5926320"/>
              <a:ext cx="81720" cy="48600"/>
            </a:xfrm>
            <a:custGeom>
              <a:avLst/>
              <a:gdLst/>
              <a:ahLst/>
              <a:rect l="l" t="t" r="r" b="b"/>
              <a:pathLst>
                <a:path w="159" h="86">
                  <a:moveTo>
                    <a:pt x="0" y="57"/>
                  </a:moveTo>
                  <a:lnTo>
                    <a:pt x="49" y="0"/>
                  </a:lnTo>
                  <a:lnTo>
                    <a:pt x="159" y="27"/>
                  </a:lnTo>
                  <a:lnTo>
                    <a:pt x="110" y="86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454160" y="5885640"/>
              <a:ext cx="86040" cy="52200"/>
            </a:xfrm>
            <a:custGeom>
              <a:avLst/>
              <a:gdLst/>
              <a:ahLst/>
              <a:rect l="l" t="t" r="r" b="b"/>
              <a:pathLst>
                <a:path w="169" h="92">
                  <a:moveTo>
                    <a:pt x="0" y="62"/>
                  </a:moveTo>
                  <a:lnTo>
                    <a:pt x="50" y="0"/>
                  </a:lnTo>
                  <a:lnTo>
                    <a:pt x="169" y="33"/>
                  </a:lnTo>
                  <a:lnTo>
                    <a:pt x="119" y="9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468560" y="5791320"/>
              <a:ext cx="71640" cy="44280"/>
            </a:xfrm>
            <a:custGeom>
              <a:avLst/>
              <a:gdLst/>
              <a:ahLst/>
              <a:rect l="l" t="t" r="r" b="b"/>
              <a:pathLst>
                <a:path w="141" h="79">
                  <a:moveTo>
                    <a:pt x="0" y="61"/>
                  </a:moveTo>
                  <a:lnTo>
                    <a:pt x="55" y="0"/>
                  </a:lnTo>
                  <a:lnTo>
                    <a:pt x="141" y="20"/>
                  </a:lnTo>
                  <a:lnTo>
                    <a:pt x="83" y="79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459200" y="5808600"/>
              <a:ext cx="150480" cy="87120"/>
            </a:xfrm>
            <a:custGeom>
              <a:avLst/>
              <a:gdLst/>
              <a:ahLst/>
              <a:rect l="l" t="t" r="r" b="b"/>
              <a:pathLst>
                <a:path w="294" h="156">
                  <a:moveTo>
                    <a:pt x="0" y="116"/>
                  </a:moveTo>
                  <a:lnTo>
                    <a:pt x="58" y="55"/>
                  </a:lnTo>
                  <a:lnTo>
                    <a:pt x="126" y="73"/>
                  </a:lnTo>
                  <a:lnTo>
                    <a:pt x="195" y="0"/>
                  </a:lnTo>
                  <a:lnTo>
                    <a:pt x="294" y="23"/>
                  </a:lnTo>
                  <a:lnTo>
                    <a:pt x="172" y="15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546320" y="5761800"/>
              <a:ext cx="101160" cy="54360"/>
            </a:xfrm>
            <a:custGeom>
              <a:avLst/>
              <a:gdLst/>
              <a:ahLst/>
              <a:rect l="l" t="t" r="r" b="b"/>
              <a:pathLst>
                <a:path w="199" h="95">
                  <a:moveTo>
                    <a:pt x="0" y="63"/>
                  </a:moveTo>
                  <a:lnTo>
                    <a:pt x="56" y="0"/>
                  </a:lnTo>
                  <a:lnTo>
                    <a:pt x="199" y="32"/>
                  </a:lnTo>
                  <a:lnTo>
                    <a:pt x="139" y="9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423560" y="5727600"/>
              <a:ext cx="72360" cy="49680"/>
            </a:xfrm>
            <a:custGeom>
              <a:avLst/>
              <a:gdLst/>
              <a:ahLst/>
              <a:rect l="l" t="t" r="r" b="b"/>
              <a:pathLst>
                <a:path w="141" h="87">
                  <a:moveTo>
                    <a:pt x="0" y="65"/>
                  </a:moveTo>
                  <a:lnTo>
                    <a:pt x="51" y="0"/>
                  </a:lnTo>
                  <a:lnTo>
                    <a:pt x="141" y="24"/>
                  </a:lnTo>
                  <a:lnTo>
                    <a:pt x="88" y="87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484040" y="5744880"/>
              <a:ext cx="71640" cy="46080"/>
            </a:xfrm>
            <a:custGeom>
              <a:avLst/>
              <a:gdLst/>
              <a:ahLst/>
              <a:rect l="l" t="t" r="r" b="b"/>
              <a:pathLst>
                <a:path w="140" h="83">
                  <a:moveTo>
                    <a:pt x="0" y="62"/>
                  </a:moveTo>
                  <a:lnTo>
                    <a:pt x="52" y="0"/>
                  </a:lnTo>
                  <a:lnTo>
                    <a:pt x="140" y="23"/>
                  </a:lnTo>
                  <a:lnTo>
                    <a:pt x="89" y="8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503480" y="5768640"/>
              <a:ext cx="246600" cy="306720"/>
            </a:xfrm>
            <a:custGeom>
              <a:avLst/>
              <a:gdLst/>
              <a:ahLst/>
              <a:rect l="l" t="t" r="r" b="b"/>
              <a:pathLst>
                <a:path w="483" h="540">
                  <a:moveTo>
                    <a:pt x="483" y="0"/>
                  </a:moveTo>
                  <a:lnTo>
                    <a:pt x="62" y="436"/>
                  </a:lnTo>
                  <a:lnTo>
                    <a:pt x="62" y="479"/>
                  </a:lnTo>
                  <a:lnTo>
                    <a:pt x="0" y="54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483240" y="5785560"/>
              <a:ext cx="998640" cy="286200"/>
            </a:xfrm>
            <a:custGeom>
              <a:avLst/>
              <a:gdLst/>
              <a:ahLst/>
              <a:rect l="l" t="t" r="r" b="b"/>
              <a:pathLst>
                <a:path w="1951" h="504">
                  <a:moveTo>
                    <a:pt x="0" y="0"/>
                  </a:moveTo>
                  <a:lnTo>
                    <a:pt x="1932" y="474"/>
                  </a:lnTo>
                  <a:lnTo>
                    <a:pt x="1951" y="474"/>
                  </a:lnTo>
                  <a:lnTo>
                    <a:pt x="1951" y="50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554880" y="5534640"/>
              <a:ext cx="1113120" cy="233640"/>
            </a:xfrm>
            <a:custGeom>
              <a:avLst/>
              <a:gdLst/>
              <a:ahLst/>
              <a:rect l="l" t="t" r="r" b="b"/>
              <a:pathLst>
                <a:path w="2172" h="411">
                  <a:moveTo>
                    <a:pt x="0" y="331"/>
                  </a:moveTo>
                  <a:lnTo>
                    <a:pt x="407" y="0"/>
                  </a:lnTo>
                  <a:lnTo>
                    <a:pt x="2172" y="41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861240" y="4980960"/>
              <a:ext cx="8892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859080" y="4999320"/>
              <a:ext cx="106560" cy="21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55120" y="5020920"/>
              <a:ext cx="119520" cy="22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52960" y="5040360"/>
              <a:ext cx="124920" cy="22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850080" y="5061600"/>
              <a:ext cx="118440" cy="21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847920" y="5078880"/>
              <a:ext cx="10512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845760" y="5096880"/>
              <a:ext cx="80640" cy="16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0" name=""/>
          <p:cNvSpPr/>
          <p:nvPr/>
        </p:nvSpPr>
        <p:spPr>
          <a:xfrm>
            <a:off x="4862160" y="24210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ra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7" dur="indefinite" restart="never" nodeType="tmRoot">
          <p:childTnLst>
            <p:seq>
              <p:cTn id="2058" dur="indefinite" nodeType="mainSeq">
                <p:childTnLst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3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500"/>
                            </p:stCondLst>
                            <p:childTnLst>
                              <p:par>
                                <p:cTn id="20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3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9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4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500"/>
                            </p:stCondLst>
                            <p:childTnLst>
                              <p:par>
                                <p:cTn id="20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3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97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500"/>
                            </p:stCondLst>
                            <p:childTnLst>
                              <p:par>
                                <p:cTn id="2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6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10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5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1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5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5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Masquer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3" name="" descr=""/>
          <p:cNvPicPr/>
          <p:nvPr/>
        </p:nvPicPr>
        <p:blipFill>
          <a:blip r:embed="rId1"/>
          <a:stretch/>
        </p:blipFill>
        <p:spPr>
          <a:xfrm>
            <a:off x="176040" y="2644920"/>
            <a:ext cx="1420920" cy="2823840"/>
          </a:xfrm>
          <a:prstGeom prst="rect">
            <a:avLst/>
          </a:prstGeom>
          <a:ln w="0">
            <a:noFill/>
          </a:ln>
        </p:spPr>
      </p:pic>
      <p:pic>
        <p:nvPicPr>
          <p:cNvPr id="1764" name="" descr=""/>
          <p:cNvPicPr/>
          <p:nvPr/>
        </p:nvPicPr>
        <p:blipFill>
          <a:blip r:embed="rId2"/>
          <a:stretch/>
        </p:blipFill>
        <p:spPr>
          <a:xfrm>
            <a:off x="125280" y="2590920"/>
            <a:ext cx="1246320" cy="1433520"/>
          </a:xfrm>
          <a:prstGeom prst="rect">
            <a:avLst/>
          </a:prstGeom>
          <a:ln w="0">
            <a:noFill/>
          </a:ln>
        </p:spPr>
      </p:pic>
      <p:pic>
        <p:nvPicPr>
          <p:cNvPr id="1765" name="" descr=""/>
          <p:cNvPicPr/>
          <p:nvPr/>
        </p:nvPicPr>
        <p:blipFill>
          <a:blip r:embed="rId3"/>
          <a:stretch/>
        </p:blipFill>
        <p:spPr>
          <a:xfrm>
            <a:off x="1600200" y="4038480"/>
            <a:ext cx="3429000" cy="1914480"/>
          </a:xfrm>
          <a:prstGeom prst="rect">
            <a:avLst/>
          </a:prstGeom>
          <a:ln w="0">
            <a:noFill/>
          </a:ln>
        </p:spPr>
      </p:pic>
      <p:sp>
        <p:nvSpPr>
          <p:cNvPr id="1766" name=""/>
          <p:cNvSpPr/>
          <p:nvPr/>
        </p:nvSpPr>
        <p:spPr>
          <a:xfrm>
            <a:off x="3048120" y="4038480"/>
            <a:ext cx="1143000" cy="83844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trust- 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worth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85800" y="21337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1880" indent="-2700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guessed, captured, broken pass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00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iggy-back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unattended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sert message in message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5257800" y="4343400"/>
            <a:ext cx="3429000" cy="1600200"/>
          </a:xfrm>
          <a:prstGeom prst="bevel">
            <a:avLst>
              <a:gd name="adj" fmla="val 5250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335560" y="4564800"/>
            <a:ext cx="32288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cp confid /t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$ mail john &lt; conf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$ 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1" dur="indefinite" restart="never" nodeType="tmRoot">
          <p:childTnLst>
            <p:seq>
              <p:cTn id="2122" dur="indefinite" nodeType="mainSeq">
                <p:childTnLst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7" dur="500"/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8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3" dur="500"/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8" dur="500"/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1" dur="500"/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4" dur="500"/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500"/>
                            </p:stCondLst>
                            <p:childTnLst>
                              <p:par>
                                <p:cTn id="2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0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5" dur="75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78" dur="1" fill="hold"/>
                                  <p:tgtEl>
                                    <p:spTgt spid="1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0" name="" descr=""/>
          <p:cNvPicPr/>
          <p:nvPr/>
        </p:nvPicPr>
        <p:blipFill>
          <a:blip r:embed="rId1"/>
          <a:stretch/>
        </p:blipFill>
        <p:spPr>
          <a:xfrm>
            <a:off x="4267080" y="4952880"/>
            <a:ext cx="1054080" cy="1141560"/>
          </a:xfrm>
          <a:prstGeom prst="rect">
            <a:avLst/>
          </a:prstGeom>
          <a:ln w="0">
            <a:noFill/>
          </a:ln>
        </p:spPr>
      </p:pic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Masquerading </a:t>
            </a: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play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3" name=""/>
          <p:cNvSpPr/>
          <p:nvPr/>
        </p:nvSpPr>
        <p:spPr>
          <a:xfrm>
            <a:off x="685800" y="3505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poofing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asquerade as another system (misuse tru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3886200" y="2590920"/>
            <a:ext cx="2438280" cy="914400"/>
            <a:chOff x="3886200" y="2590920"/>
            <a:chExt cx="2438280" cy="914400"/>
          </a:xfrm>
        </p:grpSpPr>
        <p:sp>
          <p:nvSpPr>
            <p:cNvPr id="1775" name=""/>
            <p:cNvSpPr/>
            <p:nvPr/>
          </p:nvSpPr>
          <p:spPr>
            <a:xfrm>
              <a:off x="3886200" y="2590920"/>
              <a:ext cx="2438280" cy="914400"/>
            </a:xfrm>
            <a:prstGeom prst="foldedCorner">
              <a:avLst>
                <a:gd name="adj" fmla="val 12500"/>
              </a:avLst>
            </a:prstGeom>
            <a:solidFill>
              <a:srgbClr val="11f2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Transfer $100</a:t>
              </a:r>
              <a:br>
                <a:rPr sz="1800"/>
              </a:b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from XYZ to ZZ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4215240" y="3181320"/>
              <a:ext cx="1790280" cy="266760"/>
              <a:chOff x="4215240" y="3181320"/>
              <a:chExt cx="1790280" cy="266760"/>
            </a:xfrm>
          </p:grpSpPr>
          <p:sp>
            <p:nvSpPr>
              <p:cNvPr id="1777" name=""/>
              <p:cNvSpPr/>
              <p:nvPr/>
            </p:nvSpPr>
            <p:spPr>
              <a:xfrm>
                <a:off x="4215240" y="3181320"/>
                <a:ext cx="1643760" cy="266760"/>
              </a:xfrm>
              <a:custGeom>
                <a:avLst/>
                <a:gdLst/>
                <a:ahLst/>
                <a:rect l="l" t="t" r="r" b="b"/>
                <a:pathLst>
                  <a:path w="1616" h="1184">
                    <a:moveTo>
                      <a:pt x="536" y="768"/>
                    </a:moveTo>
                    <a:cubicBezTo>
                      <a:pt x="356" y="572"/>
                      <a:pt x="176" y="376"/>
                      <a:pt x="152" y="384"/>
                    </a:cubicBezTo>
                    <a:cubicBezTo>
                      <a:pt x="128" y="392"/>
                      <a:pt x="320" y="696"/>
                      <a:pt x="392" y="816"/>
                    </a:cubicBezTo>
                    <a:cubicBezTo>
                      <a:pt x="464" y="936"/>
                      <a:pt x="552" y="1184"/>
                      <a:pt x="584" y="1104"/>
                    </a:cubicBezTo>
                    <a:cubicBezTo>
                      <a:pt x="616" y="1024"/>
                      <a:pt x="640" y="424"/>
                      <a:pt x="584" y="336"/>
                    </a:cubicBezTo>
                    <a:cubicBezTo>
                      <a:pt x="528" y="248"/>
                      <a:pt x="344" y="496"/>
                      <a:pt x="248" y="576"/>
                    </a:cubicBezTo>
                    <a:cubicBezTo>
                      <a:pt x="152" y="656"/>
                      <a:pt x="0" y="752"/>
                      <a:pt x="8" y="816"/>
                    </a:cubicBezTo>
                    <a:cubicBezTo>
                      <a:pt x="16" y="880"/>
                      <a:pt x="112" y="1000"/>
                      <a:pt x="296" y="960"/>
                    </a:cubicBezTo>
                    <a:cubicBezTo>
                      <a:pt x="480" y="920"/>
                      <a:pt x="896" y="712"/>
                      <a:pt x="1112" y="576"/>
                    </a:cubicBezTo>
                    <a:cubicBezTo>
                      <a:pt x="1328" y="440"/>
                      <a:pt x="1568" y="240"/>
                      <a:pt x="1592" y="144"/>
                    </a:cubicBezTo>
                    <a:cubicBezTo>
                      <a:pt x="1616" y="48"/>
                      <a:pt x="1360" y="0"/>
                      <a:pt x="1256" y="0"/>
                    </a:cubicBezTo>
                    <a:cubicBezTo>
                      <a:pt x="1152" y="0"/>
                      <a:pt x="1024" y="72"/>
                      <a:pt x="968" y="144"/>
                    </a:cubicBezTo>
                    <a:cubicBezTo>
                      <a:pt x="912" y="216"/>
                      <a:pt x="928" y="384"/>
                      <a:pt x="920" y="432"/>
                    </a:cubicBezTo>
                  </a:path>
                </a:pathLst>
              </a:custGeom>
              <a:noFill/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4711680" y="3260520"/>
                <a:ext cx="1293840" cy="154800"/>
              </a:xfrm>
              <a:custGeom>
                <a:avLst/>
                <a:gdLst/>
                <a:ahLst/>
                <a:rect l="l" t="t" r="r" b="b"/>
                <a:pathLst>
                  <a:path w="1272" h="688">
                    <a:moveTo>
                      <a:pt x="0" y="656"/>
                    </a:moveTo>
                    <a:cubicBezTo>
                      <a:pt x="12" y="524"/>
                      <a:pt x="24" y="392"/>
                      <a:pt x="48" y="368"/>
                    </a:cubicBezTo>
                    <a:cubicBezTo>
                      <a:pt x="72" y="344"/>
                      <a:pt x="112" y="472"/>
                      <a:pt x="144" y="512"/>
                    </a:cubicBezTo>
                    <a:cubicBezTo>
                      <a:pt x="176" y="552"/>
                      <a:pt x="224" y="688"/>
                      <a:pt x="240" y="608"/>
                    </a:cubicBezTo>
                    <a:cubicBezTo>
                      <a:pt x="256" y="528"/>
                      <a:pt x="232" y="64"/>
                      <a:pt x="240" y="32"/>
                    </a:cubicBezTo>
                    <a:cubicBezTo>
                      <a:pt x="248" y="0"/>
                      <a:pt x="280" y="400"/>
                      <a:pt x="288" y="416"/>
                    </a:cubicBezTo>
                    <a:cubicBezTo>
                      <a:pt x="296" y="432"/>
                      <a:pt x="272" y="152"/>
                      <a:pt x="288" y="128"/>
                    </a:cubicBezTo>
                    <a:cubicBezTo>
                      <a:pt x="304" y="104"/>
                      <a:pt x="352" y="280"/>
                      <a:pt x="384" y="272"/>
                    </a:cubicBezTo>
                    <a:cubicBezTo>
                      <a:pt x="416" y="264"/>
                      <a:pt x="448" y="32"/>
                      <a:pt x="480" y="80"/>
                    </a:cubicBezTo>
                    <a:cubicBezTo>
                      <a:pt x="512" y="128"/>
                      <a:pt x="512" y="504"/>
                      <a:pt x="576" y="560"/>
                    </a:cubicBezTo>
                    <a:cubicBezTo>
                      <a:pt x="640" y="616"/>
                      <a:pt x="832" y="480"/>
                      <a:pt x="864" y="416"/>
                    </a:cubicBezTo>
                    <a:cubicBezTo>
                      <a:pt x="896" y="352"/>
                      <a:pt x="840" y="200"/>
                      <a:pt x="768" y="176"/>
                    </a:cubicBezTo>
                    <a:cubicBezTo>
                      <a:pt x="696" y="152"/>
                      <a:pt x="456" y="280"/>
                      <a:pt x="432" y="272"/>
                    </a:cubicBezTo>
                    <a:cubicBezTo>
                      <a:pt x="408" y="264"/>
                      <a:pt x="512" y="160"/>
                      <a:pt x="624" y="128"/>
                    </a:cubicBezTo>
                    <a:cubicBezTo>
                      <a:pt x="736" y="96"/>
                      <a:pt x="1000" y="64"/>
                      <a:pt x="1104" y="80"/>
                    </a:cubicBezTo>
                    <a:cubicBezTo>
                      <a:pt x="1208" y="96"/>
                      <a:pt x="1232" y="144"/>
                      <a:pt x="1248" y="224"/>
                    </a:cubicBezTo>
                    <a:cubicBezTo>
                      <a:pt x="1264" y="304"/>
                      <a:pt x="1272" y="504"/>
                      <a:pt x="1200" y="560"/>
                    </a:cubicBezTo>
                    <a:cubicBezTo>
                      <a:pt x="1128" y="616"/>
                      <a:pt x="880" y="560"/>
                      <a:pt x="816" y="560"/>
                    </a:cubicBezTo>
                  </a:path>
                </a:pathLst>
              </a:custGeom>
              <a:noFill/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79" name="" descr=""/>
          <p:cNvPicPr/>
          <p:nvPr/>
        </p:nvPicPr>
        <p:blipFill>
          <a:blip r:embed="rId2"/>
          <a:stretch/>
        </p:blipFill>
        <p:spPr>
          <a:xfrm>
            <a:off x="1219320" y="4876920"/>
            <a:ext cx="1054080" cy="1141200"/>
          </a:xfrm>
          <a:prstGeom prst="rect">
            <a:avLst/>
          </a:prstGeom>
          <a:ln w="0">
            <a:noFill/>
          </a:ln>
        </p:spPr>
      </p:pic>
      <p:pic>
        <p:nvPicPr>
          <p:cNvPr id="1780" name="" descr=""/>
          <p:cNvPicPr/>
          <p:nvPr/>
        </p:nvPicPr>
        <p:blipFill>
          <a:blip r:embed="rId3"/>
          <a:stretch/>
        </p:blipFill>
        <p:spPr>
          <a:xfrm>
            <a:off x="4280040" y="4952880"/>
            <a:ext cx="1054080" cy="1141560"/>
          </a:xfrm>
          <a:prstGeom prst="rect">
            <a:avLst/>
          </a:prstGeom>
          <a:ln w="0">
            <a:noFill/>
          </a:ln>
        </p:spPr>
      </p:pic>
      <p:pic>
        <p:nvPicPr>
          <p:cNvPr id="1781" name="" descr=""/>
          <p:cNvPicPr/>
          <p:nvPr/>
        </p:nvPicPr>
        <p:blipFill>
          <a:blip r:embed="rId4"/>
          <a:stretch/>
        </p:blipFill>
        <p:spPr>
          <a:xfrm>
            <a:off x="7086600" y="4952880"/>
            <a:ext cx="1054080" cy="1141560"/>
          </a:xfrm>
          <a:prstGeom prst="rect">
            <a:avLst/>
          </a:prstGeom>
          <a:ln w="0">
            <a:noFill/>
          </a:ln>
        </p:spPr>
      </p:pic>
      <p:sp>
        <p:nvSpPr>
          <p:cNvPr id="1782" name=""/>
          <p:cNvSpPr/>
          <p:nvPr/>
        </p:nvSpPr>
        <p:spPr>
          <a:xfrm>
            <a:off x="2298240" y="563796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5268960" y="563796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8101440" y="563796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5" name=""/>
          <p:cNvCxnSpPr>
            <a:stCxn id="1781" idx="0"/>
            <a:endCxn id="1779" idx="3"/>
          </p:cNvCxnSpPr>
          <p:nvPr/>
        </p:nvCxnSpPr>
        <p:spPr>
          <a:xfrm rot="5400000">
            <a:off x="4695120" y="2530440"/>
            <a:ext cx="496080" cy="5340960"/>
          </a:xfrm>
          <a:prstGeom prst="bentConnector4">
            <a:avLst>
              <a:gd name="adj1" fmla="val -46114"/>
              <a:gd name="adj2" fmla="val 65331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786" name=""/>
          <p:cNvGrpSpPr/>
          <p:nvPr/>
        </p:nvGrpSpPr>
        <p:grpSpPr>
          <a:xfrm>
            <a:off x="5029200" y="4419720"/>
            <a:ext cx="2438280" cy="685800"/>
            <a:chOff x="5029200" y="4419720"/>
            <a:chExt cx="2438280" cy="685800"/>
          </a:xfrm>
        </p:grpSpPr>
        <p:sp>
          <p:nvSpPr>
            <p:cNvPr id="1787" name=""/>
            <p:cNvSpPr/>
            <p:nvPr/>
          </p:nvSpPr>
          <p:spPr>
            <a:xfrm>
              <a:off x="5029200" y="4419720"/>
              <a:ext cx="2438280" cy="685800"/>
            </a:xfrm>
            <a:prstGeom prst="bevel">
              <a:avLst>
                <a:gd name="adj" fmla="val 125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est: A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ender: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514920" y="45630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9" dur="indefinite" restart="never" nodeType="tmRoot">
          <p:childTnLst>
            <p:seq>
              <p:cTn id="2180" dur="indefinite" nodeType="mainSeq">
                <p:childTnLst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5" dur="500"/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8" dur="500"/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3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fill="hold">
                      <p:stCondLst>
                        <p:cond delay="indefinite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8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3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2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7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1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5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9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3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2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23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36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Masquerading </a:t>
            </a:r>
            <a:r>
              <a:rPr b="0" i="1" lang="nl-BE" sz="28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eb spoo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104616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792" name=""/>
          <p:cNvGrpSpPr/>
          <p:nvPr/>
        </p:nvGrpSpPr>
        <p:grpSpPr>
          <a:xfrm>
            <a:off x="7848720" y="3505320"/>
            <a:ext cx="838080" cy="1519200"/>
            <a:chOff x="7848720" y="3505320"/>
            <a:chExt cx="838080" cy="1519200"/>
          </a:xfrm>
        </p:grpSpPr>
        <p:sp>
          <p:nvSpPr>
            <p:cNvPr id="1793" name=""/>
            <p:cNvSpPr/>
            <p:nvPr/>
          </p:nvSpPr>
          <p:spPr>
            <a:xfrm>
              <a:off x="7848720" y="4835880"/>
              <a:ext cx="838080" cy="188640"/>
            </a:xfrm>
            <a:custGeom>
              <a:avLst/>
              <a:gdLst/>
              <a:ahLst/>
              <a:rect l="l" t="t" r="r" b="b"/>
              <a:pathLst>
                <a:path w="1530" h="487">
                  <a:moveTo>
                    <a:pt x="0" y="487"/>
                  </a:moveTo>
                  <a:lnTo>
                    <a:pt x="58" y="112"/>
                  </a:lnTo>
                  <a:lnTo>
                    <a:pt x="182" y="0"/>
                  </a:lnTo>
                  <a:lnTo>
                    <a:pt x="1305" y="35"/>
                  </a:lnTo>
                  <a:lnTo>
                    <a:pt x="1441" y="101"/>
                  </a:lnTo>
                  <a:lnTo>
                    <a:pt x="1530" y="487"/>
                  </a:lnTo>
                  <a:lnTo>
                    <a:pt x="1361" y="396"/>
                  </a:lnTo>
                  <a:lnTo>
                    <a:pt x="159" y="396"/>
                  </a:lnTo>
                  <a:lnTo>
                    <a:pt x="0" y="487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848720" y="4940640"/>
              <a:ext cx="838080" cy="83880"/>
            </a:xfrm>
            <a:custGeom>
              <a:avLst/>
              <a:gdLst/>
              <a:ahLst/>
              <a:rect l="l" t="t" r="r" b="b"/>
              <a:pathLst>
                <a:path w="1530" h="216">
                  <a:moveTo>
                    <a:pt x="0" y="216"/>
                  </a:moveTo>
                  <a:lnTo>
                    <a:pt x="1530" y="216"/>
                  </a:lnTo>
                  <a:lnTo>
                    <a:pt x="1338" y="0"/>
                  </a:lnTo>
                  <a:lnTo>
                    <a:pt x="170" y="0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941600" y="3505320"/>
              <a:ext cx="130320" cy="1426680"/>
            </a:xfrm>
            <a:custGeom>
              <a:avLst/>
              <a:gdLst/>
              <a:ahLst/>
              <a:rect l="l" t="t" r="r" b="b"/>
              <a:pathLst>
                <a:path w="239" h="3670">
                  <a:moveTo>
                    <a:pt x="0" y="3659"/>
                  </a:moveTo>
                  <a:lnTo>
                    <a:pt x="24" y="3670"/>
                  </a:lnTo>
                  <a:lnTo>
                    <a:pt x="239" y="3670"/>
                  </a:lnTo>
                  <a:lnTo>
                    <a:pt x="239" y="0"/>
                  </a:lnTo>
                  <a:lnTo>
                    <a:pt x="24" y="0"/>
                  </a:lnTo>
                  <a:lnTo>
                    <a:pt x="0" y="35"/>
                  </a:lnTo>
                  <a:lnTo>
                    <a:pt x="0" y="36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8493840" y="3505320"/>
              <a:ext cx="81000" cy="1426680"/>
            </a:xfrm>
            <a:custGeom>
              <a:avLst/>
              <a:gdLst/>
              <a:ahLst/>
              <a:rect l="l" t="t" r="r" b="b"/>
              <a:pathLst>
                <a:path w="147" h="3670">
                  <a:moveTo>
                    <a:pt x="0" y="3670"/>
                  </a:moveTo>
                  <a:lnTo>
                    <a:pt x="126" y="3670"/>
                  </a:lnTo>
                  <a:lnTo>
                    <a:pt x="147" y="3647"/>
                  </a:lnTo>
                  <a:lnTo>
                    <a:pt x="147" y="35"/>
                  </a:lnTo>
                  <a:lnTo>
                    <a:pt x="126" y="0"/>
                  </a:lnTo>
                  <a:lnTo>
                    <a:pt x="0" y="0"/>
                  </a:lnTo>
                  <a:lnTo>
                    <a:pt x="0" y="367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954560" y="3505320"/>
              <a:ext cx="608040" cy="142668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972200" y="3505320"/>
              <a:ext cx="565200" cy="864720"/>
            </a:xfrm>
            <a:custGeom>
              <a:avLst/>
              <a:gdLst/>
              <a:ahLst/>
              <a:rect l="l" t="t" r="r" b="b"/>
              <a:pathLst>
                <a:path w="1031" h="2226">
                  <a:moveTo>
                    <a:pt x="0" y="0"/>
                  </a:moveTo>
                  <a:lnTo>
                    <a:pt x="0" y="2179"/>
                  </a:lnTo>
                  <a:lnTo>
                    <a:pt x="58" y="2226"/>
                  </a:lnTo>
                  <a:lnTo>
                    <a:pt x="182" y="2226"/>
                  </a:lnTo>
                  <a:lnTo>
                    <a:pt x="182" y="2102"/>
                  </a:lnTo>
                  <a:lnTo>
                    <a:pt x="215" y="2055"/>
                  </a:lnTo>
                  <a:lnTo>
                    <a:pt x="828" y="2055"/>
                  </a:lnTo>
                  <a:lnTo>
                    <a:pt x="872" y="2102"/>
                  </a:lnTo>
                  <a:lnTo>
                    <a:pt x="872" y="2226"/>
                  </a:lnTo>
                  <a:lnTo>
                    <a:pt x="998" y="2226"/>
                  </a:lnTo>
                  <a:lnTo>
                    <a:pt x="1031" y="2191"/>
                  </a:lnTo>
                  <a:lnTo>
                    <a:pt x="103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8451000" y="4383360"/>
              <a:ext cx="720" cy="54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8071920" y="4383360"/>
              <a:ext cx="1080" cy="54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8128800" y="4317120"/>
              <a:ext cx="11880" cy="605160"/>
            </a:xfrm>
            <a:custGeom>
              <a:avLst/>
              <a:gdLst/>
              <a:ahLst/>
              <a:rect l="l" t="t" r="r" b="b"/>
              <a:pathLst>
                <a:path w="21" h="1557">
                  <a:moveTo>
                    <a:pt x="0" y="1557"/>
                  </a:move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8152920" y="4317120"/>
              <a:ext cx="11880" cy="60516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8177040" y="4317120"/>
              <a:ext cx="12960" cy="6051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8203320" y="4317120"/>
              <a:ext cx="10800" cy="60516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8227440" y="4317120"/>
              <a:ext cx="12960" cy="6051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8253000" y="4317120"/>
              <a:ext cx="11880" cy="605160"/>
            </a:xfrm>
            <a:custGeom>
              <a:avLst/>
              <a:gdLst/>
              <a:ahLst/>
              <a:rect l="l" t="t" r="r" b="b"/>
              <a:pathLst>
                <a:path w="21" h="1557">
                  <a:moveTo>
                    <a:pt x="0" y="1557"/>
                  </a:move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8277840" y="4317120"/>
              <a:ext cx="10800" cy="60516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8301960" y="4317120"/>
              <a:ext cx="12960" cy="6051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8327520" y="4317120"/>
              <a:ext cx="11880" cy="60516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8351640" y="4317120"/>
              <a:ext cx="12960" cy="6051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8376480" y="4317120"/>
              <a:ext cx="11880" cy="6051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V="1">
              <a:off x="8401680" y="4316760"/>
              <a:ext cx="1080" cy="60516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998480" y="4155120"/>
              <a:ext cx="508320" cy="105480"/>
            </a:xfrm>
            <a:custGeom>
              <a:avLst/>
              <a:gdLst/>
              <a:ahLst/>
              <a:rect l="l" t="t" r="r" b="b"/>
              <a:pathLst>
                <a:path w="929" h="272">
                  <a:moveTo>
                    <a:pt x="929" y="0"/>
                  </a:moveTo>
                  <a:lnTo>
                    <a:pt x="0" y="0"/>
                  </a:lnTo>
                  <a:lnTo>
                    <a:pt x="0" y="272"/>
                  </a:lnTo>
                  <a:lnTo>
                    <a:pt x="80" y="272"/>
                  </a:lnTo>
                  <a:lnTo>
                    <a:pt x="80" y="47"/>
                  </a:lnTo>
                  <a:lnTo>
                    <a:pt x="873" y="23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998480" y="4251240"/>
              <a:ext cx="508320" cy="9000"/>
            </a:xfrm>
            <a:custGeom>
              <a:avLst/>
              <a:gdLst/>
              <a:ahLst/>
              <a:rect l="l" t="t" r="r" b="b"/>
              <a:pathLst>
                <a:path w="929" h="24">
                  <a:moveTo>
                    <a:pt x="873" y="0"/>
                  </a:moveTo>
                  <a:lnTo>
                    <a:pt x="80" y="0"/>
                  </a:lnTo>
                  <a:lnTo>
                    <a:pt x="0" y="24"/>
                  </a:lnTo>
                  <a:lnTo>
                    <a:pt x="929" y="24"/>
                  </a:lnTo>
                  <a:lnTo>
                    <a:pt x="873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8035920" y="4168800"/>
              <a:ext cx="446760" cy="7812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8364600" y="4176720"/>
              <a:ext cx="91800" cy="5724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388720" y="4190400"/>
              <a:ext cx="50040" cy="3420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91" y="45"/>
                  </a:moveTo>
                  <a:lnTo>
                    <a:pt x="89" y="35"/>
                  </a:lnTo>
                  <a:lnTo>
                    <a:pt x="87" y="27"/>
                  </a:lnTo>
                  <a:lnTo>
                    <a:pt x="83" y="20"/>
                  </a:lnTo>
                  <a:lnTo>
                    <a:pt x="76" y="12"/>
                  </a:lnTo>
                  <a:lnTo>
                    <a:pt x="70" y="6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3" y="6"/>
                  </a:lnTo>
                  <a:lnTo>
                    <a:pt x="15" y="12"/>
                  </a:lnTo>
                  <a:lnTo>
                    <a:pt x="10" y="18"/>
                  </a:lnTo>
                  <a:lnTo>
                    <a:pt x="6" y="26"/>
                  </a:lnTo>
                  <a:lnTo>
                    <a:pt x="2" y="35"/>
                  </a:lnTo>
                  <a:lnTo>
                    <a:pt x="0" y="45"/>
                  </a:lnTo>
                  <a:lnTo>
                    <a:pt x="2" y="55"/>
                  </a:lnTo>
                  <a:lnTo>
                    <a:pt x="4" y="62"/>
                  </a:lnTo>
                  <a:lnTo>
                    <a:pt x="10" y="72"/>
                  </a:lnTo>
                  <a:lnTo>
                    <a:pt x="15" y="78"/>
                  </a:lnTo>
                  <a:lnTo>
                    <a:pt x="23" y="84"/>
                  </a:lnTo>
                  <a:lnTo>
                    <a:pt x="31" y="88"/>
                  </a:lnTo>
                  <a:lnTo>
                    <a:pt x="41" y="89"/>
                  </a:lnTo>
                  <a:lnTo>
                    <a:pt x="50" y="89"/>
                  </a:lnTo>
                  <a:lnTo>
                    <a:pt x="58" y="88"/>
                  </a:lnTo>
                  <a:lnTo>
                    <a:pt x="68" y="86"/>
                  </a:lnTo>
                  <a:lnTo>
                    <a:pt x="76" y="80"/>
                  </a:lnTo>
                  <a:lnTo>
                    <a:pt x="81" y="72"/>
                  </a:lnTo>
                  <a:lnTo>
                    <a:pt x="87" y="64"/>
                  </a:lnTo>
                  <a:lnTo>
                    <a:pt x="89" y="55"/>
                  </a:lnTo>
                  <a:lnTo>
                    <a:pt x="91" y="47"/>
                  </a:lnTo>
                  <a:lnTo>
                    <a:pt x="91" y="45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8240760" y="4198320"/>
              <a:ext cx="49320" cy="3528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92" y="46"/>
                  </a:moveTo>
                  <a:lnTo>
                    <a:pt x="90" y="36"/>
                  </a:lnTo>
                  <a:lnTo>
                    <a:pt x="88" y="27"/>
                  </a:lnTo>
                  <a:lnTo>
                    <a:pt x="84" y="19"/>
                  </a:lnTo>
                  <a:lnTo>
                    <a:pt x="76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2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4" y="5"/>
                  </a:lnTo>
                  <a:lnTo>
                    <a:pt x="16" y="11"/>
                  </a:lnTo>
                  <a:lnTo>
                    <a:pt x="10" y="19"/>
                  </a:lnTo>
                  <a:lnTo>
                    <a:pt x="6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4"/>
                  </a:lnTo>
                  <a:lnTo>
                    <a:pt x="8" y="71"/>
                  </a:lnTo>
                  <a:lnTo>
                    <a:pt x="16" y="79"/>
                  </a:lnTo>
                  <a:lnTo>
                    <a:pt x="24" y="85"/>
                  </a:lnTo>
                  <a:lnTo>
                    <a:pt x="31" y="89"/>
                  </a:lnTo>
                  <a:lnTo>
                    <a:pt x="41" y="91"/>
                  </a:lnTo>
                  <a:lnTo>
                    <a:pt x="51" y="91"/>
                  </a:lnTo>
                  <a:lnTo>
                    <a:pt x="59" y="89"/>
                  </a:lnTo>
                  <a:lnTo>
                    <a:pt x="68" y="85"/>
                  </a:lnTo>
                  <a:lnTo>
                    <a:pt x="76" y="79"/>
                  </a:lnTo>
                  <a:lnTo>
                    <a:pt x="82" y="73"/>
                  </a:lnTo>
                  <a:lnTo>
                    <a:pt x="88" y="66"/>
                  </a:lnTo>
                  <a:lnTo>
                    <a:pt x="90" y="56"/>
                  </a:lnTo>
                  <a:lnTo>
                    <a:pt x="92" y="46"/>
                  </a:lnTo>
                  <a:lnTo>
                    <a:pt x="92" y="4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8167320" y="4198320"/>
              <a:ext cx="47880" cy="3528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89" y="46"/>
                  </a:moveTo>
                  <a:lnTo>
                    <a:pt x="89" y="36"/>
                  </a:lnTo>
                  <a:lnTo>
                    <a:pt x="85" y="27"/>
                  </a:lnTo>
                  <a:lnTo>
                    <a:pt x="81" y="19"/>
                  </a:lnTo>
                  <a:lnTo>
                    <a:pt x="75" y="11"/>
                  </a:lnTo>
                  <a:lnTo>
                    <a:pt x="67" y="5"/>
                  </a:lnTo>
                  <a:lnTo>
                    <a:pt x="58" y="2"/>
                  </a:lnTo>
                  <a:lnTo>
                    <a:pt x="50" y="2"/>
                  </a:lnTo>
                  <a:lnTo>
                    <a:pt x="40" y="0"/>
                  </a:lnTo>
                  <a:lnTo>
                    <a:pt x="31" y="2"/>
                  </a:lnTo>
                  <a:lnTo>
                    <a:pt x="21" y="5"/>
                  </a:lnTo>
                  <a:lnTo>
                    <a:pt x="15" y="11"/>
                  </a:lnTo>
                  <a:lnTo>
                    <a:pt x="7" y="19"/>
                  </a:lnTo>
                  <a:lnTo>
                    <a:pt x="3" y="27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3" y="64"/>
                  </a:lnTo>
                  <a:lnTo>
                    <a:pt x="7" y="71"/>
                  </a:lnTo>
                  <a:lnTo>
                    <a:pt x="13" y="79"/>
                  </a:lnTo>
                  <a:lnTo>
                    <a:pt x="21" y="85"/>
                  </a:lnTo>
                  <a:lnTo>
                    <a:pt x="31" y="89"/>
                  </a:lnTo>
                  <a:lnTo>
                    <a:pt x="38" y="91"/>
                  </a:lnTo>
                  <a:lnTo>
                    <a:pt x="48" y="91"/>
                  </a:lnTo>
                  <a:lnTo>
                    <a:pt x="58" y="89"/>
                  </a:lnTo>
                  <a:lnTo>
                    <a:pt x="65" y="85"/>
                  </a:lnTo>
                  <a:lnTo>
                    <a:pt x="73" y="79"/>
                  </a:lnTo>
                  <a:lnTo>
                    <a:pt x="81" y="73"/>
                  </a:lnTo>
                  <a:lnTo>
                    <a:pt x="85" y="66"/>
                  </a:lnTo>
                  <a:lnTo>
                    <a:pt x="89" y="56"/>
                  </a:lnTo>
                  <a:lnTo>
                    <a:pt x="89" y="46"/>
                  </a:lnTo>
                  <a:lnTo>
                    <a:pt x="89" y="4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041320" y="4053960"/>
              <a:ext cx="87120" cy="619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8041320" y="4053960"/>
              <a:ext cx="87120" cy="6192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59" y="0"/>
                  </a:moveTo>
                  <a:lnTo>
                    <a:pt x="0" y="0"/>
                  </a:lnTo>
                  <a:lnTo>
                    <a:pt x="0" y="1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992000" y="3527640"/>
              <a:ext cx="528120" cy="47376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V="1">
              <a:off x="7992000" y="3527640"/>
              <a:ext cx="1080" cy="473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7991640" y="3944880"/>
              <a:ext cx="52812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7991640" y="3844080"/>
              <a:ext cx="52812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992000" y="3544920"/>
              <a:ext cx="528120" cy="176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8520120" y="3527640"/>
              <a:ext cx="720" cy="473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7991640" y="3527640"/>
              <a:ext cx="528120" cy="36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992000" y="3562560"/>
              <a:ext cx="528120" cy="1843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8071920" y="3764880"/>
              <a:ext cx="360360" cy="604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8103600" y="3562560"/>
              <a:ext cx="284760" cy="48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8097120" y="3654360"/>
              <a:ext cx="198000" cy="74520"/>
            </a:xfrm>
            <a:custGeom>
              <a:avLst/>
              <a:gdLst/>
              <a:ahLst/>
              <a:rect l="l" t="t" r="r" b="b"/>
              <a:pathLst>
                <a:path w="362" h="192">
                  <a:moveTo>
                    <a:pt x="362" y="0"/>
                  </a:moveTo>
                  <a:lnTo>
                    <a:pt x="0" y="0"/>
                  </a:lnTo>
                  <a:lnTo>
                    <a:pt x="0" y="19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8097120" y="3654360"/>
              <a:ext cx="198000" cy="74520"/>
            </a:xfrm>
            <a:custGeom>
              <a:avLst/>
              <a:gdLst/>
              <a:ahLst/>
              <a:rect l="l" t="t" r="r" b="b"/>
              <a:pathLst>
                <a:path w="362" h="192">
                  <a:moveTo>
                    <a:pt x="0" y="192"/>
                  </a:moveTo>
                  <a:lnTo>
                    <a:pt x="362" y="192"/>
                  </a:lnTo>
                  <a:lnTo>
                    <a:pt x="362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09640" y="3675960"/>
              <a:ext cx="473040" cy="22320"/>
            </a:xfrm>
            <a:custGeom>
              <a:avLst/>
              <a:gdLst/>
              <a:ahLst/>
              <a:rect l="l" t="t" r="r" b="b"/>
              <a:pathLst>
                <a:path w="863" h="56">
                  <a:moveTo>
                    <a:pt x="0" y="56"/>
                  </a:moveTo>
                  <a:lnTo>
                    <a:pt x="159" y="56"/>
                  </a:lnTo>
                  <a:lnTo>
                    <a:pt x="159" y="46"/>
                  </a:lnTo>
                  <a:lnTo>
                    <a:pt x="521" y="46"/>
                  </a:lnTo>
                  <a:lnTo>
                    <a:pt x="521" y="56"/>
                  </a:lnTo>
                  <a:lnTo>
                    <a:pt x="863" y="56"/>
                  </a:lnTo>
                  <a:lnTo>
                    <a:pt x="863" y="0"/>
                  </a:lnTo>
                  <a:lnTo>
                    <a:pt x="533" y="0"/>
                  </a:lnTo>
                  <a:lnTo>
                    <a:pt x="533" y="12"/>
                  </a:lnTo>
                  <a:lnTo>
                    <a:pt x="159" y="12"/>
                  </a:lnTo>
                  <a:lnTo>
                    <a:pt x="159" y="0"/>
                  </a:lnTo>
                  <a:lnTo>
                    <a:pt x="0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214480" y="3659040"/>
              <a:ext cx="26280" cy="65880"/>
            </a:xfrm>
            <a:custGeom>
              <a:avLst/>
              <a:gdLst/>
              <a:ahLst/>
              <a:rect l="l" t="t" r="r" b="b"/>
              <a:pathLst>
                <a:path w="46" h="169">
                  <a:moveTo>
                    <a:pt x="0" y="169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12"/>
                  </a:lnTo>
                  <a:lnTo>
                    <a:pt x="23" y="12"/>
                  </a:lnTo>
                  <a:lnTo>
                    <a:pt x="11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8128800" y="3663720"/>
              <a:ext cx="79920" cy="9000"/>
            </a:xfrm>
            <a:custGeom>
              <a:avLst/>
              <a:gdLst/>
              <a:ahLst/>
              <a:rect l="l" t="t" r="r" b="b"/>
              <a:pathLst>
                <a:path w="145" h="23">
                  <a:moveTo>
                    <a:pt x="0" y="23"/>
                  </a:moveTo>
                  <a:lnTo>
                    <a:pt x="0" y="0"/>
                  </a:lnTo>
                  <a:lnTo>
                    <a:pt x="14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8016120" y="3610800"/>
              <a:ext cx="37080" cy="2160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992000" y="3645720"/>
              <a:ext cx="52812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8097120" y="3777120"/>
              <a:ext cx="304200" cy="35280"/>
            </a:xfrm>
            <a:custGeom>
              <a:avLst/>
              <a:gdLst/>
              <a:ahLst/>
              <a:rect l="l" t="t" r="r" b="b"/>
              <a:pathLst>
                <a:path w="556" h="91">
                  <a:moveTo>
                    <a:pt x="0" y="0"/>
                  </a:moveTo>
                  <a:lnTo>
                    <a:pt x="0" y="35"/>
                  </a:lnTo>
                  <a:lnTo>
                    <a:pt x="170" y="35"/>
                  </a:lnTo>
                  <a:lnTo>
                    <a:pt x="170" y="91"/>
                  </a:lnTo>
                  <a:lnTo>
                    <a:pt x="397" y="91"/>
                  </a:lnTo>
                  <a:lnTo>
                    <a:pt x="397" y="35"/>
                  </a:lnTo>
                  <a:lnTo>
                    <a:pt x="556" y="35"/>
                  </a:lnTo>
                  <a:lnTo>
                    <a:pt x="55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8190360" y="3774240"/>
              <a:ext cx="12492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8146440" y="3803400"/>
              <a:ext cx="1296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8358120" y="3799080"/>
              <a:ext cx="43560" cy="13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8415000" y="3654360"/>
              <a:ext cx="10800" cy="129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2" y="17"/>
                  </a:moveTo>
                  <a:lnTo>
                    <a:pt x="22" y="9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6" y="31"/>
                  </a:lnTo>
                  <a:lnTo>
                    <a:pt x="10" y="33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2" y="23"/>
                  </a:lnTo>
                  <a:lnTo>
                    <a:pt x="22" y="17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4724280" y="2666880"/>
            <a:ext cx="609840" cy="1290600"/>
            <a:chOff x="4724280" y="2666880"/>
            <a:chExt cx="609840" cy="1290600"/>
          </a:xfrm>
        </p:grpSpPr>
        <p:sp>
          <p:nvSpPr>
            <p:cNvPr id="1845" name=""/>
            <p:cNvSpPr/>
            <p:nvPr/>
          </p:nvSpPr>
          <p:spPr>
            <a:xfrm>
              <a:off x="4724280" y="3797280"/>
              <a:ext cx="609840" cy="160200"/>
            </a:xfrm>
            <a:custGeom>
              <a:avLst/>
              <a:gdLst/>
              <a:ahLst/>
              <a:rect l="l" t="t" r="r" b="b"/>
              <a:pathLst>
                <a:path w="1530" h="487">
                  <a:moveTo>
                    <a:pt x="0" y="487"/>
                  </a:moveTo>
                  <a:lnTo>
                    <a:pt x="58" y="112"/>
                  </a:lnTo>
                  <a:lnTo>
                    <a:pt x="182" y="0"/>
                  </a:lnTo>
                  <a:lnTo>
                    <a:pt x="1305" y="35"/>
                  </a:lnTo>
                  <a:lnTo>
                    <a:pt x="1441" y="101"/>
                  </a:lnTo>
                  <a:lnTo>
                    <a:pt x="1530" y="487"/>
                  </a:lnTo>
                  <a:lnTo>
                    <a:pt x="1361" y="396"/>
                  </a:lnTo>
                  <a:lnTo>
                    <a:pt x="159" y="396"/>
                  </a:lnTo>
                  <a:lnTo>
                    <a:pt x="0" y="487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724280" y="3886200"/>
              <a:ext cx="609840" cy="70920"/>
            </a:xfrm>
            <a:custGeom>
              <a:avLst/>
              <a:gdLst/>
              <a:ahLst/>
              <a:rect l="l" t="t" r="r" b="b"/>
              <a:pathLst>
                <a:path w="1530" h="216">
                  <a:moveTo>
                    <a:pt x="0" y="216"/>
                  </a:moveTo>
                  <a:lnTo>
                    <a:pt x="1530" y="216"/>
                  </a:lnTo>
                  <a:lnTo>
                    <a:pt x="1338" y="0"/>
                  </a:lnTo>
                  <a:lnTo>
                    <a:pt x="170" y="0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791600" y="2666880"/>
              <a:ext cx="94680" cy="1212120"/>
            </a:xfrm>
            <a:custGeom>
              <a:avLst/>
              <a:gdLst/>
              <a:ahLst/>
              <a:rect l="l" t="t" r="r" b="b"/>
              <a:pathLst>
                <a:path w="239" h="3670">
                  <a:moveTo>
                    <a:pt x="0" y="3659"/>
                  </a:moveTo>
                  <a:lnTo>
                    <a:pt x="24" y="3670"/>
                  </a:lnTo>
                  <a:lnTo>
                    <a:pt x="239" y="3670"/>
                  </a:lnTo>
                  <a:lnTo>
                    <a:pt x="239" y="0"/>
                  </a:lnTo>
                  <a:lnTo>
                    <a:pt x="24" y="0"/>
                  </a:lnTo>
                  <a:lnTo>
                    <a:pt x="0" y="35"/>
                  </a:lnTo>
                  <a:lnTo>
                    <a:pt x="0" y="36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193720" y="2666880"/>
              <a:ext cx="58680" cy="1212120"/>
            </a:xfrm>
            <a:custGeom>
              <a:avLst/>
              <a:gdLst/>
              <a:ahLst/>
              <a:rect l="l" t="t" r="r" b="b"/>
              <a:pathLst>
                <a:path w="147" h="3670">
                  <a:moveTo>
                    <a:pt x="0" y="3670"/>
                  </a:moveTo>
                  <a:lnTo>
                    <a:pt x="126" y="3670"/>
                  </a:lnTo>
                  <a:lnTo>
                    <a:pt x="147" y="3647"/>
                  </a:lnTo>
                  <a:lnTo>
                    <a:pt x="147" y="35"/>
                  </a:lnTo>
                  <a:lnTo>
                    <a:pt x="126" y="0"/>
                  </a:lnTo>
                  <a:lnTo>
                    <a:pt x="0" y="0"/>
                  </a:lnTo>
                  <a:lnTo>
                    <a:pt x="0" y="367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801320" y="2666880"/>
              <a:ext cx="442440" cy="12121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814280" y="2666880"/>
              <a:ext cx="411120" cy="734760"/>
            </a:xfrm>
            <a:custGeom>
              <a:avLst/>
              <a:gdLst/>
              <a:ahLst/>
              <a:rect l="l" t="t" r="r" b="b"/>
              <a:pathLst>
                <a:path w="1031" h="2226">
                  <a:moveTo>
                    <a:pt x="0" y="0"/>
                  </a:moveTo>
                  <a:lnTo>
                    <a:pt x="0" y="2179"/>
                  </a:lnTo>
                  <a:lnTo>
                    <a:pt x="58" y="2226"/>
                  </a:lnTo>
                  <a:lnTo>
                    <a:pt x="182" y="2226"/>
                  </a:lnTo>
                  <a:lnTo>
                    <a:pt x="182" y="2102"/>
                  </a:lnTo>
                  <a:lnTo>
                    <a:pt x="215" y="2055"/>
                  </a:lnTo>
                  <a:lnTo>
                    <a:pt x="828" y="2055"/>
                  </a:lnTo>
                  <a:lnTo>
                    <a:pt x="872" y="2102"/>
                  </a:lnTo>
                  <a:lnTo>
                    <a:pt x="872" y="2226"/>
                  </a:lnTo>
                  <a:lnTo>
                    <a:pt x="998" y="2226"/>
                  </a:lnTo>
                  <a:lnTo>
                    <a:pt x="1031" y="2191"/>
                  </a:lnTo>
                  <a:lnTo>
                    <a:pt x="103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162760" y="3412800"/>
              <a:ext cx="720" cy="46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886640" y="3412800"/>
              <a:ext cx="720" cy="46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928040" y="3356640"/>
              <a:ext cx="8640" cy="514080"/>
            </a:xfrm>
            <a:custGeom>
              <a:avLst/>
              <a:gdLst/>
              <a:ahLst/>
              <a:rect l="l" t="t" r="r" b="b"/>
              <a:pathLst>
                <a:path w="21" h="1557">
                  <a:moveTo>
                    <a:pt x="0" y="1557"/>
                  </a:move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945680" y="3356640"/>
              <a:ext cx="8640" cy="51408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963320" y="3356640"/>
              <a:ext cx="9360" cy="51408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982400" y="3356640"/>
              <a:ext cx="7920" cy="51408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000040" y="3356640"/>
              <a:ext cx="9360" cy="51408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018400" y="3356640"/>
              <a:ext cx="8640" cy="514080"/>
            </a:xfrm>
            <a:custGeom>
              <a:avLst/>
              <a:gdLst/>
              <a:ahLst/>
              <a:rect l="l" t="t" r="r" b="b"/>
              <a:pathLst>
                <a:path w="21" h="1557">
                  <a:moveTo>
                    <a:pt x="0" y="1557"/>
                  </a:move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036760" y="3356640"/>
              <a:ext cx="7920" cy="51408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054040" y="3356640"/>
              <a:ext cx="9360" cy="51408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072760" y="3356640"/>
              <a:ext cx="8640" cy="51408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090040" y="3356640"/>
              <a:ext cx="9360" cy="51408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108400" y="3356640"/>
              <a:ext cx="8640" cy="51408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5126760" y="3356640"/>
              <a:ext cx="720" cy="51408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833360" y="3218760"/>
              <a:ext cx="369720" cy="89640"/>
            </a:xfrm>
            <a:custGeom>
              <a:avLst/>
              <a:gdLst/>
              <a:ahLst/>
              <a:rect l="l" t="t" r="r" b="b"/>
              <a:pathLst>
                <a:path w="929" h="272">
                  <a:moveTo>
                    <a:pt x="929" y="0"/>
                  </a:moveTo>
                  <a:lnTo>
                    <a:pt x="0" y="0"/>
                  </a:lnTo>
                  <a:lnTo>
                    <a:pt x="0" y="272"/>
                  </a:lnTo>
                  <a:lnTo>
                    <a:pt x="80" y="272"/>
                  </a:lnTo>
                  <a:lnTo>
                    <a:pt x="80" y="47"/>
                  </a:lnTo>
                  <a:lnTo>
                    <a:pt x="873" y="23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833360" y="3300480"/>
              <a:ext cx="369720" cy="7920"/>
            </a:xfrm>
            <a:custGeom>
              <a:avLst/>
              <a:gdLst/>
              <a:ahLst/>
              <a:rect l="l" t="t" r="r" b="b"/>
              <a:pathLst>
                <a:path w="929" h="24">
                  <a:moveTo>
                    <a:pt x="873" y="0"/>
                  </a:moveTo>
                  <a:lnTo>
                    <a:pt x="80" y="0"/>
                  </a:lnTo>
                  <a:lnTo>
                    <a:pt x="0" y="24"/>
                  </a:lnTo>
                  <a:lnTo>
                    <a:pt x="929" y="24"/>
                  </a:lnTo>
                  <a:lnTo>
                    <a:pt x="873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860360" y="3230640"/>
              <a:ext cx="325080" cy="66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099760" y="3237120"/>
              <a:ext cx="66600" cy="486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117400" y="3249000"/>
              <a:ext cx="36360" cy="2916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91" y="45"/>
                  </a:moveTo>
                  <a:lnTo>
                    <a:pt x="89" y="35"/>
                  </a:lnTo>
                  <a:lnTo>
                    <a:pt x="87" y="27"/>
                  </a:lnTo>
                  <a:lnTo>
                    <a:pt x="83" y="20"/>
                  </a:lnTo>
                  <a:lnTo>
                    <a:pt x="76" y="12"/>
                  </a:lnTo>
                  <a:lnTo>
                    <a:pt x="70" y="6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3" y="6"/>
                  </a:lnTo>
                  <a:lnTo>
                    <a:pt x="15" y="12"/>
                  </a:lnTo>
                  <a:lnTo>
                    <a:pt x="10" y="18"/>
                  </a:lnTo>
                  <a:lnTo>
                    <a:pt x="6" y="26"/>
                  </a:lnTo>
                  <a:lnTo>
                    <a:pt x="2" y="35"/>
                  </a:lnTo>
                  <a:lnTo>
                    <a:pt x="0" y="45"/>
                  </a:lnTo>
                  <a:lnTo>
                    <a:pt x="2" y="55"/>
                  </a:lnTo>
                  <a:lnTo>
                    <a:pt x="4" y="62"/>
                  </a:lnTo>
                  <a:lnTo>
                    <a:pt x="10" y="72"/>
                  </a:lnTo>
                  <a:lnTo>
                    <a:pt x="15" y="78"/>
                  </a:lnTo>
                  <a:lnTo>
                    <a:pt x="23" y="84"/>
                  </a:lnTo>
                  <a:lnTo>
                    <a:pt x="31" y="88"/>
                  </a:lnTo>
                  <a:lnTo>
                    <a:pt x="41" y="89"/>
                  </a:lnTo>
                  <a:lnTo>
                    <a:pt x="50" y="89"/>
                  </a:lnTo>
                  <a:lnTo>
                    <a:pt x="58" y="88"/>
                  </a:lnTo>
                  <a:lnTo>
                    <a:pt x="68" y="86"/>
                  </a:lnTo>
                  <a:lnTo>
                    <a:pt x="76" y="80"/>
                  </a:lnTo>
                  <a:lnTo>
                    <a:pt x="81" y="72"/>
                  </a:lnTo>
                  <a:lnTo>
                    <a:pt x="87" y="64"/>
                  </a:lnTo>
                  <a:lnTo>
                    <a:pt x="89" y="55"/>
                  </a:lnTo>
                  <a:lnTo>
                    <a:pt x="91" y="47"/>
                  </a:lnTo>
                  <a:lnTo>
                    <a:pt x="91" y="45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009400" y="3255840"/>
              <a:ext cx="35640" cy="3024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92" y="46"/>
                  </a:moveTo>
                  <a:lnTo>
                    <a:pt x="90" y="36"/>
                  </a:lnTo>
                  <a:lnTo>
                    <a:pt x="88" y="27"/>
                  </a:lnTo>
                  <a:lnTo>
                    <a:pt x="84" y="19"/>
                  </a:lnTo>
                  <a:lnTo>
                    <a:pt x="76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2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4" y="5"/>
                  </a:lnTo>
                  <a:lnTo>
                    <a:pt x="16" y="11"/>
                  </a:lnTo>
                  <a:lnTo>
                    <a:pt x="10" y="19"/>
                  </a:lnTo>
                  <a:lnTo>
                    <a:pt x="6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4"/>
                  </a:lnTo>
                  <a:lnTo>
                    <a:pt x="8" y="71"/>
                  </a:lnTo>
                  <a:lnTo>
                    <a:pt x="16" y="79"/>
                  </a:lnTo>
                  <a:lnTo>
                    <a:pt x="24" y="85"/>
                  </a:lnTo>
                  <a:lnTo>
                    <a:pt x="31" y="89"/>
                  </a:lnTo>
                  <a:lnTo>
                    <a:pt x="41" y="91"/>
                  </a:lnTo>
                  <a:lnTo>
                    <a:pt x="51" y="91"/>
                  </a:lnTo>
                  <a:lnTo>
                    <a:pt x="59" y="89"/>
                  </a:lnTo>
                  <a:lnTo>
                    <a:pt x="68" y="85"/>
                  </a:lnTo>
                  <a:lnTo>
                    <a:pt x="76" y="79"/>
                  </a:lnTo>
                  <a:lnTo>
                    <a:pt x="82" y="73"/>
                  </a:lnTo>
                  <a:lnTo>
                    <a:pt x="88" y="66"/>
                  </a:lnTo>
                  <a:lnTo>
                    <a:pt x="90" y="56"/>
                  </a:lnTo>
                  <a:lnTo>
                    <a:pt x="92" y="46"/>
                  </a:lnTo>
                  <a:lnTo>
                    <a:pt x="92" y="4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956120" y="3255840"/>
              <a:ext cx="34920" cy="3024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89" y="46"/>
                  </a:moveTo>
                  <a:lnTo>
                    <a:pt x="89" y="36"/>
                  </a:lnTo>
                  <a:lnTo>
                    <a:pt x="85" y="27"/>
                  </a:lnTo>
                  <a:lnTo>
                    <a:pt x="81" y="19"/>
                  </a:lnTo>
                  <a:lnTo>
                    <a:pt x="75" y="11"/>
                  </a:lnTo>
                  <a:lnTo>
                    <a:pt x="67" y="5"/>
                  </a:lnTo>
                  <a:lnTo>
                    <a:pt x="58" y="2"/>
                  </a:lnTo>
                  <a:lnTo>
                    <a:pt x="50" y="2"/>
                  </a:lnTo>
                  <a:lnTo>
                    <a:pt x="40" y="0"/>
                  </a:lnTo>
                  <a:lnTo>
                    <a:pt x="31" y="2"/>
                  </a:lnTo>
                  <a:lnTo>
                    <a:pt x="21" y="5"/>
                  </a:lnTo>
                  <a:lnTo>
                    <a:pt x="15" y="11"/>
                  </a:lnTo>
                  <a:lnTo>
                    <a:pt x="7" y="19"/>
                  </a:lnTo>
                  <a:lnTo>
                    <a:pt x="3" y="27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3" y="64"/>
                  </a:lnTo>
                  <a:lnTo>
                    <a:pt x="7" y="71"/>
                  </a:lnTo>
                  <a:lnTo>
                    <a:pt x="13" y="79"/>
                  </a:lnTo>
                  <a:lnTo>
                    <a:pt x="21" y="85"/>
                  </a:lnTo>
                  <a:lnTo>
                    <a:pt x="31" y="89"/>
                  </a:lnTo>
                  <a:lnTo>
                    <a:pt x="38" y="91"/>
                  </a:lnTo>
                  <a:lnTo>
                    <a:pt x="48" y="91"/>
                  </a:lnTo>
                  <a:lnTo>
                    <a:pt x="58" y="89"/>
                  </a:lnTo>
                  <a:lnTo>
                    <a:pt x="65" y="85"/>
                  </a:lnTo>
                  <a:lnTo>
                    <a:pt x="73" y="79"/>
                  </a:lnTo>
                  <a:lnTo>
                    <a:pt x="81" y="73"/>
                  </a:lnTo>
                  <a:lnTo>
                    <a:pt x="85" y="66"/>
                  </a:lnTo>
                  <a:lnTo>
                    <a:pt x="89" y="56"/>
                  </a:lnTo>
                  <a:lnTo>
                    <a:pt x="89" y="46"/>
                  </a:lnTo>
                  <a:lnTo>
                    <a:pt x="89" y="4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864320" y="3132720"/>
              <a:ext cx="63360" cy="525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864320" y="3132720"/>
              <a:ext cx="63360" cy="525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59" y="0"/>
                  </a:moveTo>
                  <a:lnTo>
                    <a:pt x="0" y="0"/>
                  </a:lnTo>
                  <a:lnTo>
                    <a:pt x="0" y="1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828320" y="2685960"/>
              <a:ext cx="384480" cy="40248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4828320" y="2685960"/>
              <a:ext cx="720" cy="402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4828320" y="3040560"/>
              <a:ext cx="38448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4828320" y="2954520"/>
              <a:ext cx="38448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828320" y="2700360"/>
              <a:ext cx="384480" cy="1512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212800" y="2685960"/>
              <a:ext cx="720" cy="402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4828320" y="2685960"/>
              <a:ext cx="384480" cy="36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828320" y="2715480"/>
              <a:ext cx="384480" cy="1566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886640" y="2887200"/>
              <a:ext cx="262080" cy="514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909680" y="2715480"/>
              <a:ext cx="207360" cy="40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905000" y="2793600"/>
              <a:ext cx="144000" cy="63000"/>
            </a:xfrm>
            <a:custGeom>
              <a:avLst/>
              <a:gdLst/>
              <a:ahLst/>
              <a:rect l="l" t="t" r="r" b="b"/>
              <a:pathLst>
                <a:path w="362" h="192">
                  <a:moveTo>
                    <a:pt x="362" y="0"/>
                  </a:moveTo>
                  <a:lnTo>
                    <a:pt x="0" y="0"/>
                  </a:lnTo>
                  <a:lnTo>
                    <a:pt x="0" y="19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905000" y="2793600"/>
              <a:ext cx="144000" cy="63000"/>
            </a:xfrm>
            <a:custGeom>
              <a:avLst/>
              <a:gdLst/>
              <a:ahLst/>
              <a:rect l="l" t="t" r="r" b="b"/>
              <a:pathLst>
                <a:path w="362" h="192">
                  <a:moveTo>
                    <a:pt x="0" y="192"/>
                  </a:moveTo>
                  <a:lnTo>
                    <a:pt x="362" y="192"/>
                  </a:lnTo>
                  <a:lnTo>
                    <a:pt x="362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841280" y="2811960"/>
              <a:ext cx="344520" cy="19080"/>
            </a:xfrm>
            <a:custGeom>
              <a:avLst/>
              <a:gdLst/>
              <a:ahLst/>
              <a:rect l="l" t="t" r="r" b="b"/>
              <a:pathLst>
                <a:path w="863" h="56">
                  <a:moveTo>
                    <a:pt x="0" y="56"/>
                  </a:moveTo>
                  <a:lnTo>
                    <a:pt x="159" y="56"/>
                  </a:lnTo>
                  <a:lnTo>
                    <a:pt x="159" y="46"/>
                  </a:lnTo>
                  <a:lnTo>
                    <a:pt x="521" y="46"/>
                  </a:lnTo>
                  <a:lnTo>
                    <a:pt x="521" y="56"/>
                  </a:lnTo>
                  <a:lnTo>
                    <a:pt x="863" y="56"/>
                  </a:lnTo>
                  <a:lnTo>
                    <a:pt x="863" y="0"/>
                  </a:lnTo>
                  <a:lnTo>
                    <a:pt x="533" y="0"/>
                  </a:lnTo>
                  <a:lnTo>
                    <a:pt x="533" y="12"/>
                  </a:lnTo>
                  <a:lnTo>
                    <a:pt x="159" y="12"/>
                  </a:lnTo>
                  <a:lnTo>
                    <a:pt x="159" y="0"/>
                  </a:lnTo>
                  <a:lnTo>
                    <a:pt x="0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990320" y="2797560"/>
              <a:ext cx="19080" cy="55800"/>
            </a:xfrm>
            <a:custGeom>
              <a:avLst/>
              <a:gdLst/>
              <a:ahLst/>
              <a:rect l="l" t="t" r="r" b="b"/>
              <a:pathLst>
                <a:path w="46" h="169">
                  <a:moveTo>
                    <a:pt x="0" y="169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12"/>
                  </a:lnTo>
                  <a:lnTo>
                    <a:pt x="23" y="12"/>
                  </a:lnTo>
                  <a:lnTo>
                    <a:pt x="11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928040" y="2801520"/>
              <a:ext cx="57960" cy="7920"/>
            </a:xfrm>
            <a:custGeom>
              <a:avLst/>
              <a:gdLst/>
              <a:ahLst/>
              <a:rect l="l" t="t" r="r" b="b"/>
              <a:pathLst>
                <a:path w="145" h="23">
                  <a:moveTo>
                    <a:pt x="0" y="23"/>
                  </a:moveTo>
                  <a:lnTo>
                    <a:pt x="0" y="0"/>
                  </a:lnTo>
                  <a:lnTo>
                    <a:pt x="14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845960" y="2756520"/>
              <a:ext cx="27000" cy="183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828320" y="2786040"/>
              <a:ext cx="38448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905000" y="2898000"/>
              <a:ext cx="221400" cy="30240"/>
            </a:xfrm>
            <a:custGeom>
              <a:avLst/>
              <a:gdLst/>
              <a:ahLst/>
              <a:rect l="l" t="t" r="r" b="b"/>
              <a:pathLst>
                <a:path w="556" h="91">
                  <a:moveTo>
                    <a:pt x="0" y="0"/>
                  </a:moveTo>
                  <a:lnTo>
                    <a:pt x="0" y="35"/>
                  </a:lnTo>
                  <a:lnTo>
                    <a:pt x="170" y="35"/>
                  </a:lnTo>
                  <a:lnTo>
                    <a:pt x="170" y="91"/>
                  </a:lnTo>
                  <a:lnTo>
                    <a:pt x="397" y="91"/>
                  </a:lnTo>
                  <a:lnTo>
                    <a:pt x="397" y="35"/>
                  </a:lnTo>
                  <a:lnTo>
                    <a:pt x="556" y="35"/>
                  </a:lnTo>
                  <a:lnTo>
                    <a:pt x="55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972680" y="2895120"/>
              <a:ext cx="9072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4941000" y="2920320"/>
              <a:ext cx="936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094720" y="2916360"/>
              <a:ext cx="31680" cy="115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136120" y="2793600"/>
              <a:ext cx="7920" cy="111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2" y="17"/>
                  </a:moveTo>
                  <a:lnTo>
                    <a:pt x="22" y="9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6" y="31"/>
                  </a:lnTo>
                  <a:lnTo>
                    <a:pt x="10" y="33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2" y="23"/>
                  </a:lnTo>
                  <a:lnTo>
                    <a:pt x="22" y="17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6" name=""/>
          <p:cNvSpPr/>
          <p:nvPr/>
        </p:nvSpPr>
        <p:spPr>
          <a:xfrm>
            <a:off x="380880" y="51055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Victim’s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3581280" y="39625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ww.attack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553080" y="51055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ww.serv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9" name=""/>
          <p:cNvCxnSpPr>
            <a:stCxn id="1791" idx="0"/>
            <a:endCxn id="1886" idx="0"/>
          </p:cNvCxnSpPr>
          <p:nvPr/>
        </p:nvCxnSpPr>
        <p:spPr>
          <a:xfrm flipH="1" flipV="1" rot="5400000">
            <a:off x="2422440" y="1618560"/>
            <a:ext cx="1207080" cy="3633120"/>
          </a:xfrm>
          <a:prstGeom prst="curvedConnector2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900" name=""/>
          <p:cNvCxnSpPr>
            <a:stCxn id="1874" idx="3"/>
            <a:endCxn id="1834" idx="0"/>
          </p:cNvCxnSpPr>
          <p:nvPr/>
        </p:nvCxnSpPr>
        <p:spPr>
          <a:xfrm>
            <a:off x="5213160" y="2887560"/>
            <a:ext cx="2796120" cy="812160"/>
          </a:xfrm>
          <a:prstGeom prst="curvedConnector5">
            <a:avLst>
              <a:gd name="adj1" fmla="val 78869"/>
              <a:gd name="adj2" fmla="val 49977"/>
              <a:gd name="adj3" fmla="val 78869"/>
            </a:avLst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901" name=""/>
          <p:cNvCxnSpPr>
            <a:stCxn id="1814" idx="0"/>
            <a:endCxn id="1869" idx="0"/>
          </p:cNvCxnSpPr>
          <p:nvPr/>
        </p:nvCxnSpPr>
        <p:spPr>
          <a:xfrm rot="10800000">
            <a:off x="5153760" y="3264840"/>
            <a:ext cx="2845800" cy="996120"/>
          </a:xfrm>
          <a:prstGeom prst="curvedConnector5">
            <a:avLst>
              <a:gd name="adj1" fmla="val 64549"/>
              <a:gd name="adj2" fmla="val 50000"/>
              <a:gd name="adj3" fmla="val 64549"/>
            </a:avLst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902" name=""/>
          <p:cNvCxnSpPr>
            <a:stCxn id="1872" idx="1"/>
            <a:endCxn id="1791" idx="3"/>
          </p:cNvCxnSpPr>
          <p:nvPr/>
        </p:nvCxnSpPr>
        <p:spPr>
          <a:xfrm flipV="1" rot="10800000">
            <a:off x="1731240" y="3160440"/>
            <a:ext cx="3132720" cy="1450080"/>
          </a:xfrm>
          <a:prstGeom prst="curvedConnector5">
            <a:avLst>
              <a:gd name="adj1" fmla="val 35926"/>
              <a:gd name="adj2" fmla="val 49987"/>
              <a:gd name="adj3" fmla="val 35926"/>
            </a:avLst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1903" name=""/>
          <p:cNvSpPr/>
          <p:nvPr/>
        </p:nvSpPr>
        <p:spPr>
          <a:xfrm rot="531000">
            <a:off x="5562360" y="2590560"/>
            <a:ext cx="167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quest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l 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 rot="20050200">
            <a:off x="2439000" y="3885840"/>
            <a:ext cx="16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poofed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rot="52200">
            <a:off x="4647960" y="4495680"/>
            <a:ext cx="167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odify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rot="820200">
            <a:off x="6200280" y="3793680"/>
            <a:ext cx="167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l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rot="20152800">
            <a:off x="1371960" y="2879280"/>
            <a:ext cx="167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quest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poof 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3048120" y="2743200"/>
            <a:ext cx="468360" cy="468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7010280" y="2895480"/>
            <a:ext cx="468360" cy="468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6313320" y="3657600"/>
            <a:ext cx="468360" cy="468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351160" y="4267080"/>
            <a:ext cx="468360" cy="468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4572000" y="4343400"/>
            <a:ext cx="468360" cy="468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505320" y="5638680"/>
            <a:ext cx="4647960" cy="3952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ttp://www.serv.com/pag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4" name=""/>
          <p:cNvGrpSpPr/>
          <p:nvPr/>
        </p:nvGrpSpPr>
        <p:grpSpPr>
          <a:xfrm>
            <a:off x="762120" y="5638680"/>
            <a:ext cx="3047760" cy="395280"/>
            <a:chOff x="762120" y="5638680"/>
            <a:chExt cx="3047760" cy="395280"/>
          </a:xfrm>
        </p:grpSpPr>
        <p:sp>
          <p:nvSpPr>
            <p:cNvPr id="1915" name=""/>
            <p:cNvSpPr/>
            <p:nvPr/>
          </p:nvSpPr>
          <p:spPr>
            <a:xfrm>
              <a:off x="762120" y="5638680"/>
              <a:ext cx="2799000" cy="395280"/>
            </a:xfrm>
            <a:prstGeom prst="rect">
              <a:avLst/>
            </a:prstGeom>
            <a:solidFill>
              <a:srgbClr val="b3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62120" y="5638680"/>
              <a:ext cx="3047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http://www.attack.com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7" dur="indefinite" restart="never" nodeType="tmRoot">
          <p:childTnLst>
            <p:seq>
              <p:cTn id="2238" dur="indefinite" nodeType="mainSeq">
                <p:childTnLst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3" dur="500"/>
                                        <p:tgtEl>
                                          <p:spTgt spid="1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6" dur="500"/>
                                        <p:tgtEl>
                                          <p:spTgt spid="1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1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5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9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3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7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1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6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1" dur="5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5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7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1" dur="5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5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6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1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2" fill="hold">
                            <p:stCondLst>
                              <p:cond delay="500"/>
                            </p:stCondLst>
                            <p:childTnLst>
                              <p:par>
                                <p:cTn id="2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0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5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500"/>
                            </p:stCondLst>
                            <p:childTnLst>
                              <p:par>
                                <p:cTn id="2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9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4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4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39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500"/>
                            </p:stCondLst>
                            <p:childTnLst>
                              <p:par>
                                <p:cTn id="2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3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8" dur="5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est Progra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abbit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unrestricted re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ule (spoof)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imics other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trojan horse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idden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orm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plicates vi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virus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infects other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9" dur="indefinite" restart="never" nodeType="tmRoot">
          <p:childTnLst>
            <p:seq>
              <p:cTn id="2350" dur="indefinite" nodeType="mainSeq">
                <p:childTnLst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5" dur="500"/>
                                        <p:tgtEl>
                                          <p:spTgt spid="1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0" dur="500"/>
                                        <p:tgtEl>
                                          <p:spTgt spid="1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5" dur="500"/>
                                        <p:tgtEl>
                                          <p:spTgt spid="1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0" dur="500"/>
                                        <p:tgtEl>
                                          <p:spTgt spid="1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5" dur="500"/>
                                        <p:tgtEl>
                                          <p:spTgt spid="1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0" dur="500"/>
                                        <p:tgtEl>
                                          <p:spTgt spid="1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est Programs </a:t>
            </a: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Rabbit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1" name="" descr=""/>
          <p:cNvPicPr/>
          <p:nvPr/>
        </p:nvPicPr>
        <p:blipFill>
          <a:blip r:embed="rId1"/>
          <a:stretch/>
        </p:blipFill>
        <p:spPr>
          <a:xfrm>
            <a:off x="2828880" y="2484360"/>
            <a:ext cx="752400" cy="1478160"/>
          </a:xfrm>
          <a:prstGeom prst="rect">
            <a:avLst/>
          </a:prstGeom>
          <a:ln w="0">
            <a:noFill/>
          </a:ln>
        </p:spPr>
      </p:pic>
      <p:pic>
        <p:nvPicPr>
          <p:cNvPr id="1922" name="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752400" cy="1477800"/>
          </a:xfrm>
          <a:prstGeom prst="rect">
            <a:avLst/>
          </a:prstGeom>
          <a:ln w="0">
            <a:noFill/>
          </a:ln>
        </p:spPr>
      </p:pic>
      <p:pic>
        <p:nvPicPr>
          <p:cNvPr id="1923" name="" descr=""/>
          <p:cNvPicPr/>
          <p:nvPr/>
        </p:nvPicPr>
        <p:blipFill>
          <a:blip r:embed="rId3"/>
          <a:stretch/>
        </p:blipFill>
        <p:spPr>
          <a:xfrm>
            <a:off x="4952880" y="2514600"/>
            <a:ext cx="752760" cy="1477800"/>
          </a:xfrm>
          <a:prstGeom prst="rect">
            <a:avLst/>
          </a:prstGeom>
          <a:ln w="0">
            <a:noFill/>
          </a:ln>
        </p:spPr>
      </p:pic>
      <p:pic>
        <p:nvPicPr>
          <p:cNvPr id="1924" name="" descr=""/>
          <p:cNvPicPr/>
          <p:nvPr/>
        </p:nvPicPr>
        <p:blipFill>
          <a:blip r:embed="rId4"/>
          <a:stretch/>
        </p:blipFill>
        <p:spPr>
          <a:xfrm>
            <a:off x="5343480" y="2514600"/>
            <a:ext cx="752400" cy="1477800"/>
          </a:xfrm>
          <a:prstGeom prst="rect">
            <a:avLst/>
          </a:prstGeom>
          <a:ln w="0">
            <a:noFill/>
          </a:ln>
        </p:spPr>
      </p:pic>
      <p:pic>
        <p:nvPicPr>
          <p:cNvPr id="1925" name="" descr=""/>
          <p:cNvPicPr/>
          <p:nvPr/>
        </p:nvPicPr>
        <p:blipFill>
          <a:blip r:embed="rId5"/>
          <a:stretch/>
        </p:blipFill>
        <p:spPr>
          <a:xfrm>
            <a:off x="6019920" y="2362320"/>
            <a:ext cx="752400" cy="1477800"/>
          </a:xfrm>
          <a:prstGeom prst="rect">
            <a:avLst/>
          </a:prstGeom>
          <a:ln w="0">
            <a:noFill/>
          </a:ln>
        </p:spPr>
      </p:pic>
      <p:pic>
        <p:nvPicPr>
          <p:cNvPr id="1926" name="" descr=""/>
          <p:cNvPicPr/>
          <p:nvPr/>
        </p:nvPicPr>
        <p:blipFill>
          <a:blip r:embed="rId6"/>
          <a:stretch/>
        </p:blipFill>
        <p:spPr>
          <a:xfrm>
            <a:off x="6410160" y="2362320"/>
            <a:ext cx="752760" cy="1477800"/>
          </a:xfrm>
          <a:prstGeom prst="rect">
            <a:avLst/>
          </a:prstGeom>
          <a:ln w="0">
            <a:noFill/>
          </a:ln>
        </p:spPr>
      </p:pic>
      <p:pic>
        <p:nvPicPr>
          <p:cNvPr id="1927" name="" descr=""/>
          <p:cNvPicPr/>
          <p:nvPr/>
        </p:nvPicPr>
        <p:blipFill>
          <a:blip r:embed="rId7"/>
          <a:stretch/>
        </p:blipFill>
        <p:spPr>
          <a:xfrm>
            <a:off x="6715080" y="2666880"/>
            <a:ext cx="752400" cy="1478160"/>
          </a:xfrm>
          <a:prstGeom prst="rect">
            <a:avLst/>
          </a:prstGeom>
          <a:ln w="0">
            <a:noFill/>
          </a:ln>
        </p:spPr>
      </p:pic>
      <p:pic>
        <p:nvPicPr>
          <p:cNvPr id="1928" name="" descr=""/>
          <p:cNvPicPr/>
          <p:nvPr/>
        </p:nvPicPr>
        <p:blipFill>
          <a:blip r:embed="rId8"/>
          <a:stretch/>
        </p:blipFill>
        <p:spPr>
          <a:xfrm>
            <a:off x="6477120" y="2819520"/>
            <a:ext cx="752400" cy="1477800"/>
          </a:xfrm>
          <a:prstGeom prst="rect">
            <a:avLst/>
          </a:prstGeom>
          <a:ln w="0">
            <a:noFill/>
          </a:ln>
        </p:spPr>
      </p:pic>
      <p:pic>
        <p:nvPicPr>
          <p:cNvPr id="1929" name="" descr=""/>
          <p:cNvPicPr/>
          <p:nvPr/>
        </p:nvPicPr>
        <p:blipFill>
          <a:blip r:embed="rId9"/>
          <a:stretch/>
        </p:blipFill>
        <p:spPr>
          <a:xfrm>
            <a:off x="5724360" y="2743200"/>
            <a:ext cx="752760" cy="1477800"/>
          </a:xfrm>
          <a:prstGeom prst="rect">
            <a:avLst/>
          </a:prstGeom>
          <a:ln w="0">
            <a:noFill/>
          </a:ln>
        </p:spPr>
      </p:pic>
      <p:sp>
        <p:nvSpPr>
          <p:cNvPr id="1930" name=""/>
          <p:cNvSpPr/>
          <p:nvPr/>
        </p:nvSpPr>
        <p:spPr>
          <a:xfrm>
            <a:off x="685800" y="4038480"/>
            <a:ext cx="8153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Unrestricted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xhaustion of system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PU, disk, network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mpossible to 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 txBox="1"/>
          <p:nvPr/>
        </p:nvSpPr>
        <p:spPr>
          <a:xfrm>
            <a:off x="4952880" y="4876920"/>
            <a:ext cx="3353040" cy="117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nial of servic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1" dur="indefinite" restart="never" nodeType="tmRoot">
          <p:childTnLst>
            <p:seq>
              <p:cTn id="2382" dur="indefinite" nodeType="mainSeq">
                <p:childTnLst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7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8" fill="hold">
                            <p:stCondLst>
                              <p:cond delay="500"/>
                            </p:stCondLst>
                            <p:childTnLst>
                              <p:par>
                                <p:cTn id="238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1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5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9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3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4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7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1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2" fill="hold">
                            <p:stCondLst>
                              <p:cond delay="5500"/>
                            </p:stCondLst>
                            <p:childTnLst>
                              <p:par>
                                <p:cTn id="24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5" dur="5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9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4" dur="500"/>
                                        <p:tgtEl>
                                          <p:spTgt spid="1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9" dur="500"/>
                                        <p:tgtEl>
                                          <p:spTgt spid="1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2" dur="500"/>
                                        <p:tgtEl>
                                          <p:spTgt spid="1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3" fill="hold">
                      <p:stCondLst>
                        <p:cond delay="indefinite"/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7" dur="500"/>
                                        <p:tgtEl>
                                          <p:spTgt spid="1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2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est Programs </a:t>
            </a: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Mule, spoof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4" name=""/>
          <p:cNvSpPr/>
          <p:nvPr/>
        </p:nvSpPr>
        <p:spPr>
          <a:xfrm>
            <a:off x="685800" y="3352680"/>
            <a:ext cx="8153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imics other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.g. logi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5" name="" descr=""/>
          <p:cNvPicPr/>
          <p:nvPr/>
        </p:nvPicPr>
        <p:blipFill>
          <a:blip r:embed="rId1"/>
          <a:stretch/>
        </p:blipFill>
        <p:spPr>
          <a:xfrm>
            <a:off x="4419720" y="2057400"/>
            <a:ext cx="1676160" cy="1380960"/>
          </a:xfrm>
          <a:prstGeom prst="rect">
            <a:avLst/>
          </a:prstGeom>
          <a:ln w="0">
            <a:noFill/>
          </a:ln>
        </p:spPr>
      </p:pic>
      <p:sp>
        <p:nvSpPr>
          <p:cNvPr id="1936" name=""/>
          <p:cNvSpPr/>
          <p:nvPr/>
        </p:nvSpPr>
        <p:spPr>
          <a:xfrm>
            <a:off x="534960" y="4783680"/>
            <a:ext cx="6581520" cy="1313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echo -n ”Login: ”; read login;  stty -echo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echo -n ”Password: ”; read pwd; stty +echo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mail -s ”$login/$pwd” john &lt; /dev/null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echo ”Login incorrect”; lo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248520" y="3048120"/>
            <a:ext cx="2743200" cy="1600200"/>
          </a:xfrm>
          <a:prstGeom prst="bevel">
            <a:avLst>
              <a:gd name="adj" fmla="val 5250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Logi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286760" y="3183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279f"/>
                </a:solidFill>
                <a:latin typeface="Courier New"/>
              </a:rPr>
              <a:t>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7732800" y="3512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279f"/>
                </a:solidFill>
                <a:latin typeface="Courier New"/>
              </a:rPr>
              <a:t>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324480" y="4169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Lo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H="1">
            <a:off x="7923960" y="2057400"/>
            <a:ext cx="838440" cy="914400"/>
          </a:xfrm>
          <a:custGeom>
            <a:avLst/>
            <a:gdLst>
              <a:gd name="textAreaLeft" fmla="*/ -360 w 838440"/>
              <a:gd name="textAreaRight" fmla="*/ 838440 w 8384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623" stAng="10800000" swAng="5400000"/>
                <a:lnTo>
                  <a:pt x="16250" y="4537"/>
                </a:lnTo>
                <a:lnTo>
                  <a:pt x="16250" y="0"/>
                </a:lnTo>
                <a:lnTo>
                  <a:pt x="21600" y="6079"/>
                </a:lnTo>
                <a:lnTo>
                  <a:pt x="16250" y="12158"/>
                </a:lnTo>
                <a:lnTo>
                  <a:pt x="16250" y="7621"/>
                </a:lnTo>
                <a:lnTo>
                  <a:pt x="12427" y="7621"/>
                </a:lnTo>
                <a:arcTo wR="9343" hR="4539" stAng="16200000" swAng="-5400000"/>
                <a:lnTo>
                  <a:pt x="3084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5334120" y="1600200"/>
            <a:ext cx="2590560" cy="838080"/>
          </a:xfrm>
          <a:prstGeom prst="foldedCorner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Tahoma"/>
              </a:rPr>
              <a:t>To: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john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Tahoma"/>
              </a:rPr>
              <a:t>Subject: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mary/hell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334200" y="38329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Login in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6334200" y="35409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Passwor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4" dur="indefinite" restart="never" nodeType="tmRoot">
          <p:childTnLst>
            <p:seq>
              <p:cTn id="2445" dur="indefinite" nodeType="mainSeq">
                <p:childTnLst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0" dur="500"/>
                                        <p:tgtEl>
                                          <p:spTgt spid="1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3" dur="500"/>
                                        <p:tgtEl>
                                          <p:spTgt spid="1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7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8" fill="hold">
                      <p:stCondLst>
                        <p:cond delay="indefinite"/>
                      </p:stCondLst>
                      <p:childTnLst>
                        <p:par>
                          <p:cTn id="2459" fill="hold">
                            <p:stCondLst>
                              <p:cond delay="0"/>
                            </p:stCondLst>
                            <p:childTnLst>
                              <p:par>
                                <p:cTn id="2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2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fill="hold">
                      <p:stCondLst>
                        <p:cond delay="indefinite"/>
                      </p:stCondLst>
                      <p:childTnLst>
                        <p:par>
                          <p:cTn id="2464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7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2" dur="500"/>
                                        <p:tgtEl>
                                          <p:spTgt spid="1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7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2" dur="75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fill="hold">
                      <p:stCondLst>
                        <p:cond delay="indefinite"/>
                      </p:stCondLst>
                      <p:childTnLst>
                        <p:par>
                          <p:cTn id="2484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7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8" fill="hold">
                      <p:stCondLst>
                        <p:cond delay="indefinite"/>
                      </p:stCondLst>
                      <p:childTnLst>
                        <p:par>
                          <p:cTn id="2489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2" dur="75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7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01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2" fill="hold">
                      <p:stCondLst>
                        <p:cond delay="indefinite"/>
                      </p:stCondLst>
                      <p:childTnLst>
                        <p:par>
                          <p:cTn id="2503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6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1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est Programs </a:t>
            </a: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Trojan hor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7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1676160" cy="1447560"/>
          </a:xfrm>
          <a:prstGeom prst="rect">
            <a:avLst/>
          </a:prstGeom>
          <a:ln w="0">
            <a:noFill/>
          </a:ln>
        </p:spPr>
      </p:pic>
      <p:sp>
        <p:nvSpPr>
          <p:cNvPr id="1948" name=""/>
          <p:cNvSpPr/>
          <p:nvPr/>
        </p:nvSpPr>
        <p:spPr>
          <a:xfrm rot="1135800">
            <a:off x="4968720" y="2433600"/>
            <a:ext cx="432000" cy="300240"/>
          </a:xfrm>
          <a:prstGeom prst="flowChartAlternateProcess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9" name="" descr=""/>
          <p:cNvPicPr/>
          <p:nvPr/>
        </p:nvPicPr>
        <p:blipFill>
          <a:blip r:embed="rId2"/>
          <a:stretch/>
        </p:blipFill>
        <p:spPr>
          <a:xfrm>
            <a:off x="6248520" y="4800600"/>
            <a:ext cx="841320" cy="1521000"/>
          </a:xfrm>
          <a:prstGeom prst="rect">
            <a:avLst/>
          </a:prstGeom>
          <a:ln w="0">
            <a:noFill/>
          </a:ln>
        </p:spPr>
      </p:pic>
      <p:pic>
        <p:nvPicPr>
          <p:cNvPr id="1950" name="" descr=""/>
          <p:cNvPicPr/>
          <p:nvPr/>
        </p:nvPicPr>
        <p:blipFill>
          <a:blip r:embed="rId3"/>
          <a:stretch/>
        </p:blipFill>
        <p:spPr>
          <a:xfrm>
            <a:off x="3352680" y="2101680"/>
            <a:ext cx="3810240" cy="3461040"/>
          </a:xfrm>
          <a:prstGeom prst="rect">
            <a:avLst/>
          </a:prstGeom>
          <a:ln w="0">
            <a:noFill/>
          </a:ln>
        </p:spPr>
      </p:pic>
      <p:sp>
        <p:nvSpPr>
          <p:cNvPr id="1951" name=""/>
          <p:cNvSpPr/>
          <p:nvPr/>
        </p:nvSpPr>
        <p:spPr>
          <a:xfrm>
            <a:off x="6781680" y="4343400"/>
            <a:ext cx="2057400" cy="1219320"/>
          </a:xfrm>
          <a:prstGeom prst="flowChartDecision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Condition?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Tim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2" name=""/>
          <p:cNvGrpSpPr/>
          <p:nvPr/>
        </p:nvGrpSpPr>
        <p:grpSpPr>
          <a:xfrm>
            <a:off x="7086600" y="5562720"/>
            <a:ext cx="761760" cy="304560"/>
            <a:chOff x="7086600" y="5562720"/>
            <a:chExt cx="761760" cy="304560"/>
          </a:xfrm>
        </p:grpSpPr>
        <p:sp>
          <p:nvSpPr>
            <p:cNvPr id="1953" name=""/>
            <p:cNvSpPr/>
            <p:nvPr/>
          </p:nvSpPr>
          <p:spPr>
            <a:xfrm>
              <a:off x="7848360" y="5562720"/>
              <a:ext cx="0" cy="30456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H="1">
              <a:off x="7086600" y="5867280"/>
              <a:ext cx="761760" cy="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5" name=""/>
          <p:cNvSpPr/>
          <p:nvPr/>
        </p:nvSpPr>
        <p:spPr>
          <a:xfrm>
            <a:off x="685800" y="3352680"/>
            <a:ext cx="8153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Hidden 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.g. editor that e-mails file on every “sa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isuse of Privile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ometimes, logic or time b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 txBox="1"/>
          <p:nvPr/>
        </p:nvSpPr>
        <p:spPr>
          <a:xfrm>
            <a:off x="1752480" y="5257800"/>
            <a:ext cx="2590920" cy="789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ndecidabl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2" dur="indefinite" restart="never" nodeType="tmRoot">
          <p:childTnLst>
            <p:seq>
              <p:cTn id="2513" dur="indefinite" nodeType="mainSeq">
                <p:childTnLst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8" dur="500"/>
                                        <p:tgtEl>
                                          <p:spTgt spid="1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1" dur="500"/>
                                        <p:tgtEl>
                                          <p:spTgt spid="1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6" dur="5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1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7" dur="500"/>
                                        <p:tgtEl>
                                          <p:spTgt spid="1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0" dur="500"/>
                                        <p:tgtEl>
                                          <p:spTgt spid="1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5" dur="500"/>
                                        <p:tgtEl>
                                          <p:spTgt spid="1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0" dur="500"/>
                                        <p:tgtEl>
                                          <p:spTgt spid="19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5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6" fill="hold">
                      <p:stCondLst>
                        <p:cond delay="indefinite"/>
                      </p:stCondLst>
                      <p:childTnLst>
                        <p:par>
                          <p:cTn id="2557" fill="hold">
                            <p:stCondLst>
                              <p:cond delay="0"/>
                            </p:stCondLst>
                            <p:childTnLst>
                              <p:par>
                                <p:cTn id="255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0" dur="5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5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6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1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6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7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8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est Programs </a:t>
            </a: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W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8" name=""/>
          <p:cNvSpPr/>
          <p:nvPr/>
        </p:nvSpPr>
        <p:spPr>
          <a:xfrm>
            <a:off x="4495680" y="4876920"/>
            <a:ext cx="91440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943600" y="5257800"/>
            <a:ext cx="91440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7010280" y="4419720"/>
            <a:ext cx="91440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124080" y="5181480"/>
            <a:ext cx="91440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"/>
          <p:cNvSpPr/>
          <p:nvPr/>
        </p:nvSpPr>
        <p:spPr>
          <a:xfrm>
            <a:off x="685800" y="2819520"/>
            <a:ext cx="81532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plicates through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.g. The Internet 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ometimes with help of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.g. Christmas Tree in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429000" y="5410080"/>
            <a:ext cx="422280" cy="416160"/>
          </a:xfrm>
          <a:custGeom>
            <a:avLst/>
            <a:gdLst/>
            <a:ahLst/>
            <a:rect l="l" t="t" r="r" b="b"/>
            <a:pathLst>
              <a:path w="266" h="262">
                <a:moveTo>
                  <a:pt x="110" y="262"/>
                </a:moveTo>
                <a:lnTo>
                  <a:pt x="124" y="262"/>
                </a:lnTo>
                <a:lnTo>
                  <a:pt x="137" y="260"/>
                </a:lnTo>
                <a:lnTo>
                  <a:pt x="150" y="255"/>
                </a:lnTo>
                <a:lnTo>
                  <a:pt x="161" y="249"/>
                </a:lnTo>
                <a:lnTo>
                  <a:pt x="170" y="240"/>
                </a:lnTo>
                <a:lnTo>
                  <a:pt x="175" y="229"/>
                </a:lnTo>
                <a:lnTo>
                  <a:pt x="177" y="213"/>
                </a:lnTo>
                <a:lnTo>
                  <a:pt x="175" y="195"/>
                </a:lnTo>
                <a:lnTo>
                  <a:pt x="168" y="173"/>
                </a:lnTo>
                <a:lnTo>
                  <a:pt x="159" y="153"/>
                </a:lnTo>
                <a:lnTo>
                  <a:pt x="146" y="135"/>
                </a:lnTo>
                <a:lnTo>
                  <a:pt x="133" y="118"/>
                </a:lnTo>
                <a:lnTo>
                  <a:pt x="120" y="104"/>
                </a:lnTo>
                <a:lnTo>
                  <a:pt x="110" y="93"/>
                </a:lnTo>
                <a:lnTo>
                  <a:pt x="102" y="86"/>
                </a:lnTo>
                <a:lnTo>
                  <a:pt x="100" y="84"/>
                </a:lnTo>
                <a:lnTo>
                  <a:pt x="100" y="78"/>
                </a:lnTo>
                <a:lnTo>
                  <a:pt x="104" y="69"/>
                </a:lnTo>
                <a:lnTo>
                  <a:pt x="110" y="58"/>
                </a:lnTo>
                <a:lnTo>
                  <a:pt x="119" y="53"/>
                </a:lnTo>
                <a:lnTo>
                  <a:pt x="135" y="55"/>
                </a:lnTo>
                <a:lnTo>
                  <a:pt x="151" y="58"/>
                </a:lnTo>
                <a:lnTo>
                  <a:pt x="166" y="66"/>
                </a:lnTo>
                <a:lnTo>
                  <a:pt x="177" y="75"/>
                </a:lnTo>
                <a:lnTo>
                  <a:pt x="188" y="82"/>
                </a:lnTo>
                <a:lnTo>
                  <a:pt x="195" y="89"/>
                </a:lnTo>
                <a:lnTo>
                  <a:pt x="201" y="95"/>
                </a:lnTo>
                <a:lnTo>
                  <a:pt x="202" y="97"/>
                </a:lnTo>
                <a:lnTo>
                  <a:pt x="215" y="102"/>
                </a:lnTo>
                <a:lnTo>
                  <a:pt x="226" y="106"/>
                </a:lnTo>
                <a:lnTo>
                  <a:pt x="239" y="106"/>
                </a:lnTo>
                <a:lnTo>
                  <a:pt x="248" y="106"/>
                </a:lnTo>
                <a:lnTo>
                  <a:pt x="257" y="102"/>
                </a:lnTo>
                <a:lnTo>
                  <a:pt x="263" y="97"/>
                </a:lnTo>
                <a:lnTo>
                  <a:pt x="266" y="89"/>
                </a:lnTo>
                <a:lnTo>
                  <a:pt x="266" y="82"/>
                </a:lnTo>
                <a:lnTo>
                  <a:pt x="264" y="75"/>
                </a:lnTo>
                <a:lnTo>
                  <a:pt x="259" y="67"/>
                </a:lnTo>
                <a:lnTo>
                  <a:pt x="252" y="62"/>
                </a:lnTo>
                <a:lnTo>
                  <a:pt x="242" y="58"/>
                </a:lnTo>
                <a:lnTo>
                  <a:pt x="233" y="55"/>
                </a:lnTo>
                <a:lnTo>
                  <a:pt x="224" y="51"/>
                </a:lnTo>
                <a:lnTo>
                  <a:pt x="215" y="46"/>
                </a:lnTo>
                <a:lnTo>
                  <a:pt x="210" y="40"/>
                </a:lnTo>
                <a:lnTo>
                  <a:pt x="204" y="33"/>
                </a:lnTo>
                <a:lnTo>
                  <a:pt x="195" y="26"/>
                </a:lnTo>
                <a:lnTo>
                  <a:pt x="182" y="16"/>
                </a:lnTo>
                <a:lnTo>
                  <a:pt x="170" y="9"/>
                </a:lnTo>
                <a:lnTo>
                  <a:pt x="153" y="4"/>
                </a:lnTo>
                <a:lnTo>
                  <a:pt x="135" y="0"/>
                </a:lnTo>
                <a:lnTo>
                  <a:pt x="117" y="0"/>
                </a:lnTo>
                <a:lnTo>
                  <a:pt x="97" y="6"/>
                </a:lnTo>
                <a:lnTo>
                  <a:pt x="79" y="15"/>
                </a:lnTo>
                <a:lnTo>
                  <a:pt x="66" y="27"/>
                </a:lnTo>
                <a:lnTo>
                  <a:pt x="55" y="42"/>
                </a:lnTo>
                <a:lnTo>
                  <a:pt x="49" y="56"/>
                </a:lnTo>
                <a:lnTo>
                  <a:pt x="48" y="73"/>
                </a:lnTo>
                <a:lnTo>
                  <a:pt x="48" y="86"/>
                </a:lnTo>
                <a:lnTo>
                  <a:pt x="51" y="98"/>
                </a:lnTo>
                <a:lnTo>
                  <a:pt x="57" y="106"/>
                </a:lnTo>
                <a:lnTo>
                  <a:pt x="64" y="113"/>
                </a:lnTo>
                <a:lnTo>
                  <a:pt x="71" y="124"/>
                </a:lnTo>
                <a:lnTo>
                  <a:pt x="82" y="137"/>
                </a:lnTo>
                <a:lnTo>
                  <a:pt x="91" y="149"/>
                </a:lnTo>
                <a:lnTo>
                  <a:pt x="100" y="164"/>
                </a:lnTo>
                <a:lnTo>
                  <a:pt x="108" y="175"/>
                </a:lnTo>
                <a:lnTo>
                  <a:pt x="113" y="186"/>
                </a:lnTo>
                <a:lnTo>
                  <a:pt x="115" y="193"/>
                </a:lnTo>
                <a:lnTo>
                  <a:pt x="115" y="202"/>
                </a:lnTo>
                <a:lnTo>
                  <a:pt x="111" y="209"/>
                </a:lnTo>
                <a:lnTo>
                  <a:pt x="102" y="213"/>
                </a:lnTo>
                <a:lnTo>
                  <a:pt x="89" y="209"/>
                </a:lnTo>
                <a:lnTo>
                  <a:pt x="82" y="206"/>
                </a:lnTo>
                <a:lnTo>
                  <a:pt x="73" y="202"/>
                </a:lnTo>
                <a:lnTo>
                  <a:pt x="62" y="199"/>
                </a:lnTo>
                <a:lnTo>
                  <a:pt x="53" y="195"/>
                </a:lnTo>
                <a:lnTo>
                  <a:pt x="42" y="191"/>
                </a:lnTo>
                <a:lnTo>
                  <a:pt x="33" y="189"/>
                </a:lnTo>
                <a:lnTo>
                  <a:pt x="26" y="189"/>
                </a:lnTo>
                <a:lnTo>
                  <a:pt x="18" y="191"/>
                </a:lnTo>
                <a:lnTo>
                  <a:pt x="9" y="202"/>
                </a:lnTo>
                <a:lnTo>
                  <a:pt x="2" y="215"/>
                </a:lnTo>
                <a:lnTo>
                  <a:pt x="0" y="231"/>
                </a:lnTo>
                <a:lnTo>
                  <a:pt x="0" y="244"/>
                </a:lnTo>
                <a:lnTo>
                  <a:pt x="7" y="255"/>
                </a:lnTo>
                <a:lnTo>
                  <a:pt x="17" y="262"/>
                </a:lnTo>
                <a:lnTo>
                  <a:pt x="28" y="262"/>
                </a:lnTo>
                <a:lnTo>
                  <a:pt x="35" y="253"/>
                </a:lnTo>
                <a:lnTo>
                  <a:pt x="38" y="248"/>
                </a:lnTo>
                <a:lnTo>
                  <a:pt x="46" y="246"/>
                </a:lnTo>
                <a:lnTo>
                  <a:pt x="55" y="248"/>
                </a:lnTo>
                <a:lnTo>
                  <a:pt x="64" y="249"/>
                </a:lnTo>
                <a:lnTo>
                  <a:pt x="75" y="253"/>
                </a:lnTo>
                <a:lnTo>
                  <a:pt x="86" y="257"/>
                </a:lnTo>
                <a:lnTo>
                  <a:pt x="99" y="260"/>
                </a:lnTo>
                <a:lnTo>
                  <a:pt x="110" y="262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648320" y="5105520"/>
            <a:ext cx="422280" cy="415800"/>
          </a:xfrm>
          <a:custGeom>
            <a:avLst/>
            <a:gdLst/>
            <a:ahLst/>
            <a:rect l="l" t="t" r="r" b="b"/>
            <a:pathLst>
              <a:path w="266" h="262">
                <a:moveTo>
                  <a:pt x="110" y="262"/>
                </a:moveTo>
                <a:lnTo>
                  <a:pt x="124" y="262"/>
                </a:lnTo>
                <a:lnTo>
                  <a:pt x="137" y="260"/>
                </a:lnTo>
                <a:lnTo>
                  <a:pt x="150" y="255"/>
                </a:lnTo>
                <a:lnTo>
                  <a:pt x="161" y="249"/>
                </a:lnTo>
                <a:lnTo>
                  <a:pt x="170" y="240"/>
                </a:lnTo>
                <a:lnTo>
                  <a:pt x="175" y="229"/>
                </a:lnTo>
                <a:lnTo>
                  <a:pt x="177" y="213"/>
                </a:lnTo>
                <a:lnTo>
                  <a:pt x="175" y="195"/>
                </a:lnTo>
                <a:lnTo>
                  <a:pt x="168" y="173"/>
                </a:lnTo>
                <a:lnTo>
                  <a:pt x="159" y="153"/>
                </a:lnTo>
                <a:lnTo>
                  <a:pt x="146" y="135"/>
                </a:lnTo>
                <a:lnTo>
                  <a:pt x="133" y="118"/>
                </a:lnTo>
                <a:lnTo>
                  <a:pt x="120" y="104"/>
                </a:lnTo>
                <a:lnTo>
                  <a:pt x="110" y="93"/>
                </a:lnTo>
                <a:lnTo>
                  <a:pt x="102" y="86"/>
                </a:lnTo>
                <a:lnTo>
                  <a:pt x="100" y="84"/>
                </a:lnTo>
                <a:lnTo>
                  <a:pt x="100" y="78"/>
                </a:lnTo>
                <a:lnTo>
                  <a:pt x="104" y="69"/>
                </a:lnTo>
                <a:lnTo>
                  <a:pt x="110" y="58"/>
                </a:lnTo>
                <a:lnTo>
                  <a:pt x="119" y="53"/>
                </a:lnTo>
                <a:lnTo>
                  <a:pt x="135" y="55"/>
                </a:lnTo>
                <a:lnTo>
                  <a:pt x="151" y="58"/>
                </a:lnTo>
                <a:lnTo>
                  <a:pt x="166" y="66"/>
                </a:lnTo>
                <a:lnTo>
                  <a:pt x="177" y="75"/>
                </a:lnTo>
                <a:lnTo>
                  <a:pt x="188" y="82"/>
                </a:lnTo>
                <a:lnTo>
                  <a:pt x="195" y="89"/>
                </a:lnTo>
                <a:lnTo>
                  <a:pt x="201" y="95"/>
                </a:lnTo>
                <a:lnTo>
                  <a:pt x="202" y="97"/>
                </a:lnTo>
                <a:lnTo>
                  <a:pt x="215" y="102"/>
                </a:lnTo>
                <a:lnTo>
                  <a:pt x="226" y="106"/>
                </a:lnTo>
                <a:lnTo>
                  <a:pt x="239" y="106"/>
                </a:lnTo>
                <a:lnTo>
                  <a:pt x="248" y="106"/>
                </a:lnTo>
                <a:lnTo>
                  <a:pt x="257" y="102"/>
                </a:lnTo>
                <a:lnTo>
                  <a:pt x="263" y="97"/>
                </a:lnTo>
                <a:lnTo>
                  <a:pt x="266" y="89"/>
                </a:lnTo>
                <a:lnTo>
                  <a:pt x="266" y="82"/>
                </a:lnTo>
                <a:lnTo>
                  <a:pt x="264" y="75"/>
                </a:lnTo>
                <a:lnTo>
                  <a:pt x="259" y="67"/>
                </a:lnTo>
                <a:lnTo>
                  <a:pt x="252" y="62"/>
                </a:lnTo>
                <a:lnTo>
                  <a:pt x="242" y="58"/>
                </a:lnTo>
                <a:lnTo>
                  <a:pt x="233" y="55"/>
                </a:lnTo>
                <a:lnTo>
                  <a:pt x="224" y="51"/>
                </a:lnTo>
                <a:lnTo>
                  <a:pt x="215" y="46"/>
                </a:lnTo>
                <a:lnTo>
                  <a:pt x="210" y="40"/>
                </a:lnTo>
                <a:lnTo>
                  <a:pt x="204" y="33"/>
                </a:lnTo>
                <a:lnTo>
                  <a:pt x="195" y="26"/>
                </a:lnTo>
                <a:lnTo>
                  <a:pt x="182" y="16"/>
                </a:lnTo>
                <a:lnTo>
                  <a:pt x="170" y="9"/>
                </a:lnTo>
                <a:lnTo>
                  <a:pt x="153" y="4"/>
                </a:lnTo>
                <a:lnTo>
                  <a:pt x="135" y="0"/>
                </a:lnTo>
                <a:lnTo>
                  <a:pt x="117" y="0"/>
                </a:lnTo>
                <a:lnTo>
                  <a:pt x="97" y="6"/>
                </a:lnTo>
                <a:lnTo>
                  <a:pt x="79" y="15"/>
                </a:lnTo>
                <a:lnTo>
                  <a:pt x="66" y="27"/>
                </a:lnTo>
                <a:lnTo>
                  <a:pt x="55" y="42"/>
                </a:lnTo>
                <a:lnTo>
                  <a:pt x="49" y="56"/>
                </a:lnTo>
                <a:lnTo>
                  <a:pt x="48" y="73"/>
                </a:lnTo>
                <a:lnTo>
                  <a:pt x="48" y="86"/>
                </a:lnTo>
                <a:lnTo>
                  <a:pt x="51" y="98"/>
                </a:lnTo>
                <a:lnTo>
                  <a:pt x="57" y="106"/>
                </a:lnTo>
                <a:lnTo>
                  <a:pt x="64" y="113"/>
                </a:lnTo>
                <a:lnTo>
                  <a:pt x="71" y="124"/>
                </a:lnTo>
                <a:lnTo>
                  <a:pt x="82" y="137"/>
                </a:lnTo>
                <a:lnTo>
                  <a:pt x="91" y="149"/>
                </a:lnTo>
                <a:lnTo>
                  <a:pt x="100" y="164"/>
                </a:lnTo>
                <a:lnTo>
                  <a:pt x="108" y="175"/>
                </a:lnTo>
                <a:lnTo>
                  <a:pt x="113" y="186"/>
                </a:lnTo>
                <a:lnTo>
                  <a:pt x="115" y="193"/>
                </a:lnTo>
                <a:lnTo>
                  <a:pt x="115" y="202"/>
                </a:lnTo>
                <a:lnTo>
                  <a:pt x="111" y="209"/>
                </a:lnTo>
                <a:lnTo>
                  <a:pt x="102" y="213"/>
                </a:lnTo>
                <a:lnTo>
                  <a:pt x="89" y="209"/>
                </a:lnTo>
                <a:lnTo>
                  <a:pt x="82" y="206"/>
                </a:lnTo>
                <a:lnTo>
                  <a:pt x="73" y="202"/>
                </a:lnTo>
                <a:lnTo>
                  <a:pt x="62" y="199"/>
                </a:lnTo>
                <a:lnTo>
                  <a:pt x="53" y="195"/>
                </a:lnTo>
                <a:lnTo>
                  <a:pt x="42" y="191"/>
                </a:lnTo>
                <a:lnTo>
                  <a:pt x="33" y="189"/>
                </a:lnTo>
                <a:lnTo>
                  <a:pt x="26" y="189"/>
                </a:lnTo>
                <a:lnTo>
                  <a:pt x="18" y="191"/>
                </a:lnTo>
                <a:lnTo>
                  <a:pt x="9" y="202"/>
                </a:lnTo>
                <a:lnTo>
                  <a:pt x="2" y="215"/>
                </a:lnTo>
                <a:lnTo>
                  <a:pt x="0" y="231"/>
                </a:lnTo>
                <a:lnTo>
                  <a:pt x="0" y="244"/>
                </a:lnTo>
                <a:lnTo>
                  <a:pt x="7" y="255"/>
                </a:lnTo>
                <a:lnTo>
                  <a:pt x="17" y="262"/>
                </a:lnTo>
                <a:lnTo>
                  <a:pt x="28" y="262"/>
                </a:lnTo>
                <a:lnTo>
                  <a:pt x="35" y="253"/>
                </a:lnTo>
                <a:lnTo>
                  <a:pt x="38" y="248"/>
                </a:lnTo>
                <a:lnTo>
                  <a:pt x="46" y="246"/>
                </a:lnTo>
                <a:lnTo>
                  <a:pt x="55" y="248"/>
                </a:lnTo>
                <a:lnTo>
                  <a:pt x="64" y="249"/>
                </a:lnTo>
                <a:lnTo>
                  <a:pt x="75" y="253"/>
                </a:lnTo>
                <a:lnTo>
                  <a:pt x="86" y="257"/>
                </a:lnTo>
                <a:lnTo>
                  <a:pt x="99" y="260"/>
                </a:lnTo>
                <a:lnTo>
                  <a:pt x="110" y="262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6172200" y="5410080"/>
            <a:ext cx="422280" cy="416160"/>
          </a:xfrm>
          <a:custGeom>
            <a:avLst/>
            <a:gdLst/>
            <a:ahLst/>
            <a:rect l="l" t="t" r="r" b="b"/>
            <a:pathLst>
              <a:path w="266" h="262">
                <a:moveTo>
                  <a:pt x="110" y="262"/>
                </a:moveTo>
                <a:lnTo>
                  <a:pt x="124" y="262"/>
                </a:lnTo>
                <a:lnTo>
                  <a:pt x="137" y="260"/>
                </a:lnTo>
                <a:lnTo>
                  <a:pt x="150" y="255"/>
                </a:lnTo>
                <a:lnTo>
                  <a:pt x="161" y="249"/>
                </a:lnTo>
                <a:lnTo>
                  <a:pt x="170" y="240"/>
                </a:lnTo>
                <a:lnTo>
                  <a:pt x="175" y="229"/>
                </a:lnTo>
                <a:lnTo>
                  <a:pt x="177" y="213"/>
                </a:lnTo>
                <a:lnTo>
                  <a:pt x="175" y="195"/>
                </a:lnTo>
                <a:lnTo>
                  <a:pt x="168" y="173"/>
                </a:lnTo>
                <a:lnTo>
                  <a:pt x="159" y="153"/>
                </a:lnTo>
                <a:lnTo>
                  <a:pt x="146" y="135"/>
                </a:lnTo>
                <a:lnTo>
                  <a:pt x="133" y="118"/>
                </a:lnTo>
                <a:lnTo>
                  <a:pt x="120" y="104"/>
                </a:lnTo>
                <a:lnTo>
                  <a:pt x="110" y="93"/>
                </a:lnTo>
                <a:lnTo>
                  <a:pt x="102" y="86"/>
                </a:lnTo>
                <a:lnTo>
                  <a:pt x="100" y="84"/>
                </a:lnTo>
                <a:lnTo>
                  <a:pt x="100" y="78"/>
                </a:lnTo>
                <a:lnTo>
                  <a:pt x="104" y="69"/>
                </a:lnTo>
                <a:lnTo>
                  <a:pt x="110" y="58"/>
                </a:lnTo>
                <a:lnTo>
                  <a:pt x="119" y="53"/>
                </a:lnTo>
                <a:lnTo>
                  <a:pt x="135" y="55"/>
                </a:lnTo>
                <a:lnTo>
                  <a:pt x="151" y="58"/>
                </a:lnTo>
                <a:lnTo>
                  <a:pt x="166" y="66"/>
                </a:lnTo>
                <a:lnTo>
                  <a:pt x="177" y="75"/>
                </a:lnTo>
                <a:lnTo>
                  <a:pt x="188" y="82"/>
                </a:lnTo>
                <a:lnTo>
                  <a:pt x="195" y="89"/>
                </a:lnTo>
                <a:lnTo>
                  <a:pt x="201" y="95"/>
                </a:lnTo>
                <a:lnTo>
                  <a:pt x="202" y="97"/>
                </a:lnTo>
                <a:lnTo>
                  <a:pt x="215" y="102"/>
                </a:lnTo>
                <a:lnTo>
                  <a:pt x="226" y="106"/>
                </a:lnTo>
                <a:lnTo>
                  <a:pt x="239" y="106"/>
                </a:lnTo>
                <a:lnTo>
                  <a:pt x="248" y="106"/>
                </a:lnTo>
                <a:lnTo>
                  <a:pt x="257" y="102"/>
                </a:lnTo>
                <a:lnTo>
                  <a:pt x="263" y="97"/>
                </a:lnTo>
                <a:lnTo>
                  <a:pt x="266" y="89"/>
                </a:lnTo>
                <a:lnTo>
                  <a:pt x="266" y="82"/>
                </a:lnTo>
                <a:lnTo>
                  <a:pt x="264" y="75"/>
                </a:lnTo>
                <a:lnTo>
                  <a:pt x="259" y="67"/>
                </a:lnTo>
                <a:lnTo>
                  <a:pt x="252" y="62"/>
                </a:lnTo>
                <a:lnTo>
                  <a:pt x="242" y="58"/>
                </a:lnTo>
                <a:lnTo>
                  <a:pt x="233" y="55"/>
                </a:lnTo>
                <a:lnTo>
                  <a:pt x="224" y="51"/>
                </a:lnTo>
                <a:lnTo>
                  <a:pt x="215" y="46"/>
                </a:lnTo>
                <a:lnTo>
                  <a:pt x="210" y="40"/>
                </a:lnTo>
                <a:lnTo>
                  <a:pt x="204" y="33"/>
                </a:lnTo>
                <a:lnTo>
                  <a:pt x="195" y="26"/>
                </a:lnTo>
                <a:lnTo>
                  <a:pt x="182" y="16"/>
                </a:lnTo>
                <a:lnTo>
                  <a:pt x="170" y="9"/>
                </a:lnTo>
                <a:lnTo>
                  <a:pt x="153" y="4"/>
                </a:lnTo>
                <a:lnTo>
                  <a:pt x="135" y="0"/>
                </a:lnTo>
                <a:lnTo>
                  <a:pt x="117" y="0"/>
                </a:lnTo>
                <a:lnTo>
                  <a:pt x="97" y="6"/>
                </a:lnTo>
                <a:lnTo>
                  <a:pt x="79" y="15"/>
                </a:lnTo>
                <a:lnTo>
                  <a:pt x="66" y="27"/>
                </a:lnTo>
                <a:lnTo>
                  <a:pt x="55" y="42"/>
                </a:lnTo>
                <a:lnTo>
                  <a:pt x="49" y="56"/>
                </a:lnTo>
                <a:lnTo>
                  <a:pt x="48" y="73"/>
                </a:lnTo>
                <a:lnTo>
                  <a:pt x="48" y="86"/>
                </a:lnTo>
                <a:lnTo>
                  <a:pt x="51" y="98"/>
                </a:lnTo>
                <a:lnTo>
                  <a:pt x="57" y="106"/>
                </a:lnTo>
                <a:lnTo>
                  <a:pt x="64" y="113"/>
                </a:lnTo>
                <a:lnTo>
                  <a:pt x="71" y="124"/>
                </a:lnTo>
                <a:lnTo>
                  <a:pt x="82" y="137"/>
                </a:lnTo>
                <a:lnTo>
                  <a:pt x="91" y="149"/>
                </a:lnTo>
                <a:lnTo>
                  <a:pt x="100" y="164"/>
                </a:lnTo>
                <a:lnTo>
                  <a:pt x="108" y="175"/>
                </a:lnTo>
                <a:lnTo>
                  <a:pt x="113" y="186"/>
                </a:lnTo>
                <a:lnTo>
                  <a:pt x="115" y="193"/>
                </a:lnTo>
                <a:lnTo>
                  <a:pt x="115" y="202"/>
                </a:lnTo>
                <a:lnTo>
                  <a:pt x="111" y="209"/>
                </a:lnTo>
                <a:lnTo>
                  <a:pt x="102" y="213"/>
                </a:lnTo>
                <a:lnTo>
                  <a:pt x="89" y="209"/>
                </a:lnTo>
                <a:lnTo>
                  <a:pt x="82" y="206"/>
                </a:lnTo>
                <a:lnTo>
                  <a:pt x="73" y="202"/>
                </a:lnTo>
                <a:lnTo>
                  <a:pt x="62" y="199"/>
                </a:lnTo>
                <a:lnTo>
                  <a:pt x="53" y="195"/>
                </a:lnTo>
                <a:lnTo>
                  <a:pt x="42" y="191"/>
                </a:lnTo>
                <a:lnTo>
                  <a:pt x="33" y="189"/>
                </a:lnTo>
                <a:lnTo>
                  <a:pt x="26" y="189"/>
                </a:lnTo>
                <a:lnTo>
                  <a:pt x="18" y="191"/>
                </a:lnTo>
                <a:lnTo>
                  <a:pt x="9" y="202"/>
                </a:lnTo>
                <a:lnTo>
                  <a:pt x="2" y="215"/>
                </a:lnTo>
                <a:lnTo>
                  <a:pt x="0" y="231"/>
                </a:lnTo>
                <a:lnTo>
                  <a:pt x="0" y="244"/>
                </a:lnTo>
                <a:lnTo>
                  <a:pt x="7" y="255"/>
                </a:lnTo>
                <a:lnTo>
                  <a:pt x="17" y="262"/>
                </a:lnTo>
                <a:lnTo>
                  <a:pt x="28" y="262"/>
                </a:lnTo>
                <a:lnTo>
                  <a:pt x="35" y="253"/>
                </a:lnTo>
                <a:lnTo>
                  <a:pt x="38" y="248"/>
                </a:lnTo>
                <a:lnTo>
                  <a:pt x="46" y="246"/>
                </a:lnTo>
                <a:lnTo>
                  <a:pt x="55" y="248"/>
                </a:lnTo>
                <a:lnTo>
                  <a:pt x="64" y="249"/>
                </a:lnTo>
                <a:lnTo>
                  <a:pt x="75" y="253"/>
                </a:lnTo>
                <a:lnTo>
                  <a:pt x="86" y="257"/>
                </a:lnTo>
                <a:lnTo>
                  <a:pt x="99" y="260"/>
                </a:lnTo>
                <a:lnTo>
                  <a:pt x="110" y="262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7391520" y="4648320"/>
            <a:ext cx="422280" cy="415800"/>
          </a:xfrm>
          <a:custGeom>
            <a:avLst/>
            <a:gdLst/>
            <a:ahLst/>
            <a:rect l="l" t="t" r="r" b="b"/>
            <a:pathLst>
              <a:path w="266" h="262">
                <a:moveTo>
                  <a:pt x="110" y="262"/>
                </a:moveTo>
                <a:lnTo>
                  <a:pt x="124" y="262"/>
                </a:lnTo>
                <a:lnTo>
                  <a:pt x="137" y="260"/>
                </a:lnTo>
                <a:lnTo>
                  <a:pt x="150" y="255"/>
                </a:lnTo>
                <a:lnTo>
                  <a:pt x="161" y="249"/>
                </a:lnTo>
                <a:lnTo>
                  <a:pt x="170" y="240"/>
                </a:lnTo>
                <a:lnTo>
                  <a:pt x="175" y="229"/>
                </a:lnTo>
                <a:lnTo>
                  <a:pt x="177" y="213"/>
                </a:lnTo>
                <a:lnTo>
                  <a:pt x="175" y="195"/>
                </a:lnTo>
                <a:lnTo>
                  <a:pt x="168" y="173"/>
                </a:lnTo>
                <a:lnTo>
                  <a:pt x="159" y="153"/>
                </a:lnTo>
                <a:lnTo>
                  <a:pt x="146" y="135"/>
                </a:lnTo>
                <a:lnTo>
                  <a:pt x="133" y="118"/>
                </a:lnTo>
                <a:lnTo>
                  <a:pt x="120" y="104"/>
                </a:lnTo>
                <a:lnTo>
                  <a:pt x="110" y="93"/>
                </a:lnTo>
                <a:lnTo>
                  <a:pt x="102" y="86"/>
                </a:lnTo>
                <a:lnTo>
                  <a:pt x="100" y="84"/>
                </a:lnTo>
                <a:lnTo>
                  <a:pt x="100" y="78"/>
                </a:lnTo>
                <a:lnTo>
                  <a:pt x="104" y="69"/>
                </a:lnTo>
                <a:lnTo>
                  <a:pt x="110" y="58"/>
                </a:lnTo>
                <a:lnTo>
                  <a:pt x="119" y="53"/>
                </a:lnTo>
                <a:lnTo>
                  <a:pt x="135" y="55"/>
                </a:lnTo>
                <a:lnTo>
                  <a:pt x="151" y="58"/>
                </a:lnTo>
                <a:lnTo>
                  <a:pt x="166" y="66"/>
                </a:lnTo>
                <a:lnTo>
                  <a:pt x="177" y="75"/>
                </a:lnTo>
                <a:lnTo>
                  <a:pt x="188" y="82"/>
                </a:lnTo>
                <a:lnTo>
                  <a:pt x="195" y="89"/>
                </a:lnTo>
                <a:lnTo>
                  <a:pt x="201" y="95"/>
                </a:lnTo>
                <a:lnTo>
                  <a:pt x="202" y="97"/>
                </a:lnTo>
                <a:lnTo>
                  <a:pt x="215" y="102"/>
                </a:lnTo>
                <a:lnTo>
                  <a:pt x="226" y="106"/>
                </a:lnTo>
                <a:lnTo>
                  <a:pt x="239" y="106"/>
                </a:lnTo>
                <a:lnTo>
                  <a:pt x="248" y="106"/>
                </a:lnTo>
                <a:lnTo>
                  <a:pt x="257" y="102"/>
                </a:lnTo>
                <a:lnTo>
                  <a:pt x="263" y="97"/>
                </a:lnTo>
                <a:lnTo>
                  <a:pt x="266" y="89"/>
                </a:lnTo>
                <a:lnTo>
                  <a:pt x="266" y="82"/>
                </a:lnTo>
                <a:lnTo>
                  <a:pt x="264" y="75"/>
                </a:lnTo>
                <a:lnTo>
                  <a:pt x="259" y="67"/>
                </a:lnTo>
                <a:lnTo>
                  <a:pt x="252" y="62"/>
                </a:lnTo>
                <a:lnTo>
                  <a:pt x="242" y="58"/>
                </a:lnTo>
                <a:lnTo>
                  <a:pt x="233" y="55"/>
                </a:lnTo>
                <a:lnTo>
                  <a:pt x="224" y="51"/>
                </a:lnTo>
                <a:lnTo>
                  <a:pt x="215" y="46"/>
                </a:lnTo>
                <a:lnTo>
                  <a:pt x="210" y="40"/>
                </a:lnTo>
                <a:lnTo>
                  <a:pt x="204" y="33"/>
                </a:lnTo>
                <a:lnTo>
                  <a:pt x="195" y="26"/>
                </a:lnTo>
                <a:lnTo>
                  <a:pt x="182" y="16"/>
                </a:lnTo>
                <a:lnTo>
                  <a:pt x="170" y="9"/>
                </a:lnTo>
                <a:lnTo>
                  <a:pt x="153" y="4"/>
                </a:lnTo>
                <a:lnTo>
                  <a:pt x="135" y="0"/>
                </a:lnTo>
                <a:lnTo>
                  <a:pt x="117" y="0"/>
                </a:lnTo>
                <a:lnTo>
                  <a:pt x="97" y="6"/>
                </a:lnTo>
                <a:lnTo>
                  <a:pt x="79" y="15"/>
                </a:lnTo>
                <a:lnTo>
                  <a:pt x="66" y="27"/>
                </a:lnTo>
                <a:lnTo>
                  <a:pt x="55" y="42"/>
                </a:lnTo>
                <a:lnTo>
                  <a:pt x="49" y="56"/>
                </a:lnTo>
                <a:lnTo>
                  <a:pt x="48" y="73"/>
                </a:lnTo>
                <a:lnTo>
                  <a:pt x="48" y="86"/>
                </a:lnTo>
                <a:lnTo>
                  <a:pt x="51" y="98"/>
                </a:lnTo>
                <a:lnTo>
                  <a:pt x="57" y="106"/>
                </a:lnTo>
                <a:lnTo>
                  <a:pt x="64" y="113"/>
                </a:lnTo>
                <a:lnTo>
                  <a:pt x="71" y="124"/>
                </a:lnTo>
                <a:lnTo>
                  <a:pt x="82" y="137"/>
                </a:lnTo>
                <a:lnTo>
                  <a:pt x="91" y="149"/>
                </a:lnTo>
                <a:lnTo>
                  <a:pt x="100" y="164"/>
                </a:lnTo>
                <a:lnTo>
                  <a:pt x="108" y="175"/>
                </a:lnTo>
                <a:lnTo>
                  <a:pt x="113" y="186"/>
                </a:lnTo>
                <a:lnTo>
                  <a:pt x="115" y="193"/>
                </a:lnTo>
                <a:lnTo>
                  <a:pt x="115" y="202"/>
                </a:lnTo>
                <a:lnTo>
                  <a:pt x="111" y="209"/>
                </a:lnTo>
                <a:lnTo>
                  <a:pt x="102" y="213"/>
                </a:lnTo>
                <a:lnTo>
                  <a:pt x="89" y="209"/>
                </a:lnTo>
                <a:lnTo>
                  <a:pt x="82" y="206"/>
                </a:lnTo>
                <a:lnTo>
                  <a:pt x="73" y="202"/>
                </a:lnTo>
                <a:lnTo>
                  <a:pt x="62" y="199"/>
                </a:lnTo>
                <a:lnTo>
                  <a:pt x="53" y="195"/>
                </a:lnTo>
                <a:lnTo>
                  <a:pt x="42" y="191"/>
                </a:lnTo>
                <a:lnTo>
                  <a:pt x="33" y="189"/>
                </a:lnTo>
                <a:lnTo>
                  <a:pt x="26" y="189"/>
                </a:lnTo>
                <a:lnTo>
                  <a:pt x="18" y="191"/>
                </a:lnTo>
                <a:lnTo>
                  <a:pt x="9" y="202"/>
                </a:lnTo>
                <a:lnTo>
                  <a:pt x="2" y="215"/>
                </a:lnTo>
                <a:lnTo>
                  <a:pt x="0" y="231"/>
                </a:lnTo>
                <a:lnTo>
                  <a:pt x="0" y="244"/>
                </a:lnTo>
                <a:lnTo>
                  <a:pt x="7" y="255"/>
                </a:lnTo>
                <a:lnTo>
                  <a:pt x="17" y="262"/>
                </a:lnTo>
                <a:lnTo>
                  <a:pt x="28" y="262"/>
                </a:lnTo>
                <a:lnTo>
                  <a:pt x="35" y="253"/>
                </a:lnTo>
                <a:lnTo>
                  <a:pt x="38" y="248"/>
                </a:lnTo>
                <a:lnTo>
                  <a:pt x="46" y="246"/>
                </a:lnTo>
                <a:lnTo>
                  <a:pt x="55" y="248"/>
                </a:lnTo>
                <a:lnTo>
                  <a:pt x="64" y="249"/>
                </a:lnTo>
                <a:lnTo>
                  <a:pt x="75" y="253"/>
                </a:lnTo>
                <a:lnTo>
                  <a:pt x="86" y="257"/>
                </a:lnTo>
                <a:lnTo>
                  <a:pt x="99" y="260"/>
                </a:lnTo>
                <a:lnTo>
                  <a:pt x="110" y="262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8" name=""/>
          <p:cNvCxnSpPr>
            <a:stCxn id="1961" idx="3"/>
            <a:endCxn id="1958" idx="1"/>
          </p:cNvCxnSpPr>
          <p:nvPr/>
        </p:nvCxnSpPr>
        <p:spPr>
          <a:xfrm flipV="1">
            <a:off x="4038480" y="5295240"/>
            <a:ext cx="457920" cy="30564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969" name=""/>
          <p:cNvCxnSpPr>
            <a:stCxn id="1958" idx="3"/>
            <a:endCxn id="1959" idx="1"/>
          </p:cNvCxnSpPr>
          <p:nvPr/>
        </p:nvCxnSpPr>
        <p:spPr>
          <a:xfrm>
            <a:off x="5410080" y="5295960"/>
            <a:ext cx="534240" cy="381600"/>
          </a:xfrm>
          <a:prstGeom prst="curvedConnector5">
            <a:avLst>
              <a:gd name="adj1" fmla="val 49966"/>
              <a:gd name="adj2" fmla="val 49952"/>
              <a:gd name="adj3" fmla="val 49966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970" name=""/>
          <p:cNvCxnSpPr>
            <a:stCxn id="1958" idx="3"/>
            <a:endCxn id="1960" idx="1"/>
          </p:cNvCxnSpPr>
          <p:nvPr/>
        </p:nvCxnSpPr>
        <p:spPr>
          <a:xfrm flipV="1">
            <a:off x="5409720" y="4838400"/>
            <a:ext cx="1600920" cy="457920"/>
          </a:xfrm>
          <a:prstGeom prst="curvedConnector5">
            <a:avLst>
              <a:gd name="adj1" fmla="val 19523"/>
              <a:gd name="adj2" fmla="val 49960"/>
              <a:gd name="adj3" fmla="val 19523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1971" name=""/>
          <p:cNvSpPr/>
          <p:nvPr/>
        </p:nvSpPr>
        <p:spPr>
          <a:xfrm>
            <a:off x="3276720" y="2209680"/>
            <a:ext cx="533160" cy="568440"/>
          </a:xfrm>
          <a:custGeom>
            <a:avLst/>
            <a:gdLst/>
            <a:ahLst/>
            <a:rect l="l" t="t" r="r" b="b"/>
            <a:pathLst>
              <a:path w="266" h="262">
                <a:moveTo>
                  <a:pt x="110" y="262"/>
                </a:moveTo>
                <a:lnTo>
                  <a:pt x="124" y="262"/>
                </a:lnTo>
                <a:lnTo>
                  <a:pt x="137" y="260"/>
                </a:lnTo>
                <a:lnTo>
                  <a:pt x="150" y="255"/>
                </a:lnTo>
                <a:lnTo>
                  <a:pt x="161" y="249"/>
                </a:lnTo>
                <a:lnTo>
                  <a:pt x="170" y="240"/>
                </a:lnTo>
                <a:lnTo>
                  <a:pt x="175" y="229"/>
                </a:lnTo>
                <a:lnTo>
                  <a:pt x="177" y="213"/>
                </a:lnTo>
                <a:lnTo>
                  <a:pt x="175" y="195"/>
                </a:lnTo>
                <a:lnTo>
                  <a:pt x="168" y="173"/>
                </a:lnTo>
                <a:lnTo>
                  <a:pt x="159" y="153"/>
                </a:lnTo>
                <a:lnTo>
                  <a:pt x="146" y="135"/>
                </a:lnTo>
                <a:lnTo>
                  <a:pt x="133" y="118"/>
                </a:lnTo>
                <a:lnTo>
                  <a:pt x="120" y="104"/>
                </a:lnTo>
                <a:lnTo>
                  <a:pt x="110" y="93"/>
                </a:lnTo>
                <a:lnTo>
                  <a:pt x="102" y="86"/>
                </a:lnTo>
                <a:lnTo>
                  <a:pt x="100" y="84"/>
                </a:lnTo>
                <a:lnTo>
                  <a:pt x="100" y="78"/>
                </a:lnTo>
                <a:lnTo>
                  <a:pt x="104" y="69"/>
                </a:lnTo>
                <a:lnTo>
                  <a:pt x="110" y="58"/>
                </a:lnTo>
                <a:lnTo>
                  <a:pt x="119" y="53"/>
                </a:lnTo>
                <a:lnTo>
                  <a:pt x="135" y="55"/>
                </a:lnTo>
                <a:lnTo>
                  <a:pt x="151" y="58"/>
                </a:lnTo>
                <a:lnTo>
                  <a:pt x="166" y="66"/>
                </a:lnTo>
                <a:lnTo>
                  <a:pt x="177" y="75"/>
                </a:lnTo>
                <a:lnTo>
                  <a:pt x="188" y="82"/>
                </a:lnTo>
                <a:lnTo>
                  <a:pt x="195" y="89"/>
                </a:lnTo>
                <a:lnTo>
                  <a:pt x="201" y="95"/>
                </a:lnTo>
                <a:lnTo>
                  <a:pt x="202" y="97"/>
                </a:lnTo>
                <a:lnTo>
                  <a:pt x="215" y="102"/>
                </a:lnTo>
                <a:lnTo>
                  <a:pt x="226" y="106"/>
                </a:lnTo>
                <a:lnTo>
                  <a:pt x="239" y="106"/>
                </a:lnTo>
                <a:lnTo>
                  <a:pt x="248" y="106"/>
                </a:lnTo>
                <a:lnTo>
                  <a:pt x="257" y="102"/>
                </a:lnTo>
                <a:lnTo>
                  <a:pt x="263" y="97"/>
                </a:lnTo>
                <a:lnTo>
                  <a:pt x="266" y="89"/>
                </a:lnTo>
                <a:lnTo>
                  <a:pt x="266" y="82"/>
                </a:lnTo>
                <a:lnTo>
                  <a:pt x="264" y="75"/>
                </a:lnTo>
                <a:lnTo>
                  <a:pt x="259" y="67"/>
                </a:lnTo>
                <a:lnTo>
                  <a:pt x="252" y="62"/>
                </a:lnTo>
                <a:lnTo>
                  <a:pt x="242" y="58"/>
                </a:lnTo>
                <a:lnTo>
                  <a:pt x="233" y="55"/>
                </a:lnTo>
                <a:lnTo>
                  <a:pt x="224" y="51"/>
                </a:lnTo>
                <a:lnTo>
                  <a:pt x="215" y="46"/>
                </a:lnTo>
                <a:lnTo>
                  <a:pt x="210" y="40"/>
                </a:lnTo>
                <a:lnTo>
                  <a:pt x="204" y="33"/>
                </a:lnTo>
                <a:lnTo>
                  <a:pt x="195" y="26"/>
                </a:lnTo>
                <a:lnTo>
                  <a:pt x="182" y="16"/>
                </a:lnTo>
                <a:lnTo>
                  <a:pt x="170" y="9"/>
                </a:lnTo>
                <a:lnTo>
                  <a:pt x="153" y="4"/>
                </a:lnTo>
                <a:lnTo>
                  <a:pt x="135" y="0"/>
                </a:lnTo>
                <a:lnTo>
                  <a:pt x="117" y="0"/>
                </a:lnTo>
                <a:lnTo>
                  <a:pt x="97" y="6"/>
                </a:lnTo>
                <a:lnTo>
                  <a:pt x="79" y="15"/>
                </a:lnTo>
                <a:lnTo>
                  <a:pt x="66" y="27"/>
                </a:lnTo>
                <a:lnTo>
                  <a:pt x="55" y="42"/>
                </a:lnTo>
                <a:lnTo>
                  <a:pt x="49" y="56"/>
                </a:lnTo>
                <a:lnTo>
                  <a:pt x="48" y="73"/>
                </a:lnTo>
                <a:lnTo>
                  <a:pt x="48" y="86"/>
                </a:lnTo>
                <a:lnTo>
                  <a:pt x="51" y="98"/>
                </a:lnTo>
                <a:lnTo>
                  <a:pt x="57" y="106"/>
                </a:lnTo>
                <a:lnTo>
                  <a:pt x="64" y="113"/>
                </a:lnTo>
                <a:lnTo>
                  <a:pt x="71" y="124"/>
                </a:lnTo>
                <a:lnTo>
                  <a:pt x="82" y="137"/>
                </a:lnTo>
                <a:lnTo>
                  <a:pt x="91" y="149"/>
                </a:lnTo>
                <a:lnTo>
                  <a:pt x="100" y="164"/>
                </a:lnTo>
                <a:lnTo>
                  <a:pt x="108" y="175"/>
                </a:lnTo>
                <a:lnTo>
                  <a:pt x="113" y="186"/>
                </a:lnTo>
                <a:lnTo>
                  <a:pt x="115" y="193"/>
                </a:lnTo>
                <a:lnTo>
                  <a:pt x="115" y="202"/>
                </a:lnTo>
                <a:lnTo>
                  <a:pt x="111" y="209"/>
                </a:lnTo>
                <a:lnTo>
                  <a:pt x="102" y="213"/>
                </a:lnTo>
                <a:lnTo>
                  <a:pt x="89" y="209"/>
                </a:lnTo>
                <a:lnTo>
                  <a:pt x="82" y="206"/>
                </a:lnTo>
                <a:lnTo>
                  <a:pt x="73" y="202"/>
                </a:lnTo>
                <a:lnTo>
                  <a:pt x="62" y="199"/>
                </a:lnTo>
                <a:lnTo>
                  <a:pt x="53" y="195"/>
                </a:lnTo>
                <a:lnTo>
                  <a:pt x="42" y="191"/>
                </a:lnTo>
                <a:lnTo>
                  <a:pt x="33" y="189"/>
                </a:lnTo>
                <a:lnTo>
                  <a:pt x="26" y="189"/>
                </a:lnTo>
                <a:lnTo>
                  <a:pt x="18" y="191"/>
                </a:lnTo>
                <a:lnTo>
                  <a:pt x="9" y="202"/>
                </a:lnTo>
                <a:lnTo>
                  <a:pt x="2" y="215"/>
                </a:lnTo>
                <a:lnTo>
                  <a:pt x="0" y="231"/>
                </a:lnTo>
                <a:lnTo>
                  <a:pt x="0" y="244"/>
                </a:lnTo>
                <a:lnTo>
                  <a:pt x="7" y="255"/>
                </a:lnTo>
                <a:lnTo>
                  <a:pt x="17" y="262"/>
                </a:lnTo>
                <a:lnTo>
                  <a:pt x="28" y="262"/>
                </a:lnTo>
                <a:lnTo>
                  <a:pt x="35" y="253"/>
                </a:lnTo>
                <a:lnTo>
                  <a:pt x="38" y="248"/>
                </a:lnTo>
                <a:lnTo>
                  <a:pt x="46" y="246"/>
                </a:lnTo>
                <a:lnTo>
                  <a:pt x="55" y="248"/>
                </a:lnTo>
                <a:lnTo>
                  <a:pt x="64" y="249"/>
                </a:lnTo>
                <a:lnTo>
                  <a:pt x="75" y="253"/>
                </a:lnTo>
                <a:lnTo>
                  <a:pt x="86" y="257"/>
                </a:lnTo>
                <a:lnTo>
                  <a:pt x="99" y="260"/>
                </a:lnTo>
                <a:lnTo>
                  <a:pt x="110" y="262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0" dur="indefinite" restart="never" nodeType="tmRoot">
          <p:childTnLst>
            <p:seq>
              <p:cTn id="2581" dur="indefinite" nodeType="mainSeq">
                <p:childTnLst>
                  <p:par>
                    <p:cTn id="2582" fill="hold">
                      <p:stCondLst>
                        <p:cond delay="indefinite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6" dur="500"/>
                                        <p:tgtEl>
                                          <p:spTgt spid="1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9" dur="500"/>
                                        <p:tgtEl>
                                          <p:spTgt spid="1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4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9" dur="500"/>
                                        <p:tgtEl>
                                          <p:spTgt spid="1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2" dur="500"/>
                                        <p:tgtEl>
                                          <p:spTgt spid="1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7" dur="500"/>
                                        <p:tgtEl>
                                          <p:spTgt spid="1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0" dur="500"/>
                                        <p:tgtEl>
                                          <p:spTgt spid="1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5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6" fill="hold">
                            <p:stCondLst>
                              <p:cond delay="500"/>
                            </p:stCondLst>
                            <p:childTnLst>
                              <p:par>
                                <p:cTn id="2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9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3" dur="5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7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1" dur="5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5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9" dur="5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fill="hold">
                      <p:stCondLst>
                        <p:cond delay="indefinite"/>
                      </p:stCondLst>
                      <p:childTnLst>
                        <p:par>
                          <p:cTn id="2641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4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0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2" fill="hold">
                      <p:stCondLst>
                        <p:cond delay="indefinite"/>
                      </p:stCondLst>
                      <p:childTnLst>
                        <p:par>
                          <p:cTn id="2653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6" dur="5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5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8" fill="hold">
                      <p:stCondLst>
                        <p:cond delay="indefinite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2" dur="5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5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Need-to-Know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rocess  </a:t>
            </a:r>
            <a:r>
              <a:rPr b="0" i="1" lang="nl-BE" sz="3200" spc="-1" strike="noStrike">
                <a:solidFill>
                  <a:srgbClr val="00279f"/>
                </a:solidFill>
                <a:latin typeface="Wingdings"/>
                <a:ea typeface="Wingdings"/>
              </a:rPr>
              <a:t></a:t>
            </a:r>
            <a:r>
              <a:rPr b="0" i="1" lang="nl-BE" sz="3200" spc="-1" strike="noStrike">
                <a:solidFill>
                  <a:srgbClr val="00279f"/>
                </a:solidFill>
                <a:latin typeface="Tahoma"/>
              </a:rPr>
              <a:t>Operation</a:t>
            </a:r>
            <a:r>
              <a:rPr b="0" i="1" lang="nl-BE" sz="3200" spc="-1" strike="noStrike">
                <a:solidFill>
                  <a:srgbClr val="00279f"/>
                </a:solidFill>
                <a:latin typeface="Wingdings"/>
                <a:ea typeface="Wingdings"/>
              </a:rPr>
              <a:t>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hat is author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hat is needed  (need-to-kno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4038480"/>
            <a:ext cx="1752480" cy="838440"/>
          </a:xfrm>
          <a:prstGeom prst="rect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c prog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3505320"/>
            <a:ext cx="1676520" cy="914400"/>
          </a:xfrm>
          <a:prstGeom prst="rect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(compi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8" idx="3"/>
            <a:endCxn id="119" idx="1"/>
          </p:cNvCxnSpPr>
          <p:nvPr/>
        </p:nvCxnSpPr>
        <p:spPr>
          <a:xfrm flipV="1">
            <a:off x="2437920" y="3962160"/>
            <a:ext cx="1600920" cy="496080"/>
          </a:xfrm>
          <a:prstGeom prst="bentConnector3">
            <a:avLst>
              <a:gd name="adj1" fmla="val 50000"/>
            </a:avLst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086600" y="3505320"/>
            <a:ext cx="1295280" cy="83808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ai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4648320"/>
            <a:ext cx="1295640" cy="83808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4724280"/>
            <a:ext cx="1295280" cy="83844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g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5334120"/>
            <a:ext cx="1295280" cy="83808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g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3" idx="0"/>
            <a:endCxn id="119" idx="2"/>
          </p:cNvCxnSpPr>
          <p:nvPr/>
        </p:nvCxnSpPr>
        <p:spPr>
          <a:xfrm flipV="1">
            <a:off x="3695400" y="4419360"/>
            <a:ext cx="1181880" cy="305280"/>
          </a:xfrm>
          <a:prstGeom prst="straightConnector1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9" idx="2"/>
            <a:endCxn id="124" idx="0"/>
          </p:cNvCxnSpPr>
          <p:nvPr/>
        </p:nvCxnSpPr>
        <p:spPr>
          <a:xfrm>
            <a:off x="4876920" y="4419720"/>
            <a:ext cx="419760" cy="915120"/>
          </a:xfrm>
          <a:prstGeom prst="straightConnector1">
            <a:avLst/>
          </a:prstGeom>
          <a:ln w="5724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7" name=""/>
          <p:cNvCxnSpPr>
            <a:stCxn id="119" idx="3"/>
            <a:endCxn id="122" idx="0"/>
          </p:cNvCxnSpPr>
          <p:nvPr/>
        </p:nvCxnSpPr>
        <p:spPr>
          <a:xfrm>
            <a:off x="5715000" y="3962160"/>
            <a:ext cx="1029600" cy="686520"/>
          </a:xfrm>
          <a:prstGeom prst="straightConnector1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1" idx="1"/>
            <a:endCxn id="119" idx="3"/>
          </p:cNvCxnSpPr>
          <p:nvPr/>
        </p:nvCxnSpPr>
        <p:spPr>
          <a:xfrm flipH="1">
            <a:off x="5714640" y="3924360"/>
            <a:ext cx="1372320" cy="38880"/>
          </a:xfrm>
          <a:prstGeom prst="straightConnector1">
            <a:avLst/>
          </a:prstGeom>
          <a:ln w="57240">
            <a:solidFill>
              <a:srgbClr val="618ffd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4" idx="1"/>
            <a:endCxn id="118" idx="2"/>
          </p:cNvCxnSpPr>
          <p:nvPr/>
        </p:nvCxnSpPr>
        <p:spPr>
          <a:xfrm rot="10800000">
            <a:off x="1561320" y="4876200"/>
            <a:ext cx="3087000" cy="876960"/>
          </a:xfrm>
          <a:prstGeom prst="bentConnector2">
            <a:avLst/>
          </a:prstGeom>
          <a:ln w="57240">
            <a:solidFill>
              <a:srgbClr val="618ffd"/>
            </a:solidFill>
            <a:miter/>
            <a:tailEnd len="med" type="triangle" w="med"/>
          </a:ln>
        </p:spPr>
      </p:cxnSp>
      <p:grpSp>
        <p:nvGrpSpPr>
          <p:cNvPr id="130" name=""/>
          <p:cNvGrpSpPr/>
          <p:nvPr/>
        </p:nvGrpSpPr>
        <p:grpSpPr>
          <a:xfrm>
            <a:off x="6095520" y="3657600"/>
            <a:ext cx="686160" cy="482400"/>
            <a:chOff x="6095520" y="3657600"/>
            <a:chExt cx="686160" cy="482400"/>
          </a:xfrm>
        </p:grpSpPr>
        <p:sp>
          <p:nvSpPr>
            <p:cNvPr id="131" name=""/>
            <p:cNvSpPr/>
            <p:nvPr/>
          </p:nvSpPr>
          <p:spPr>
            <a:xfrm>
              <a:off x="6095880" y="3709080"/>
              <a:ext cx="685800" cy="430920"/>
            </a:xfrm>
            <a:custGeom>
              <a:avLst/>
              <a:gdLst/>
              <a:ahLst/>
              <a:rect l="l" t="t" r="r" b="b"/>
              <a:pathLst>
                <a:path w="624" h="400">
                  <a:moveTo>
                    <a:pt x="0" y="400"/>
                  </a:moveTo>
                  <a:cubicBezTo>
                    <a:pt x="116" y="264"/>
                    <a:pt x="232" y="128"/>
                    <a:pt x="336" y="64"/>
                  </a:cubicBezTo>
                  <a:cubicBezTo>
                    <a:pt x="440" y="0"/>
                    <a:pt x="532" y="8"/>
                    <a:pt x="624" y="16"/>
                  </a:cubicBezTo>
                </a:path>
              </a:pathLst>
            </a:custGeom>
            <a:noFill/>
            <a:ln w="1522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6095160" y="3657600"/>
              <a:ext cx="685800" cy="430920"/>
            </a:xfrm>
            <a:custGeom>
              <a:avLst/>
              <a:gdLst/>
              <a:ahLst/>
              <a:rect l="l" t="t" r="r" b="b"/>
              <a:pathLst>
                <a:path w="624" h="400">
                  <a:moveTo>
                    <a:pt x="0" y="400"/>
                  </a:moveTo>
                  <a:cubicBezTo>
                    <a:pt x="116" y="264"/>
                    <a:pt x="232" y="128"/>
                    <a:pt x="336" y="64"/>
                  </a:cubicBezTo>
                  <a:cubicBezTo>
                    <a:pt x="440" y="0"/>
                    <a:pt x="532" y="8"/>
                    <a:pt x="624" y="16"/>
                  </a:cubicBezTo>
                </a:path>
              </a:pathLst>
            </a:custGeom>
            <a:noFill/>
            <a:ln w="1522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904760" y="5562720"/>
            <a:ext cx="686160" cy="482040"/>
            <a:chOff x="1904760" y="5562720"/>
            <a:chExt cx="686160" cy="482040"/>
          </a:xfrm>
        </p:grpSpPr>
        <p:sp>
          <p:nvSpPr>
            <p:cNvPr id="134" name=""/>
            <p:cNvSpPr/>
            <p:nvPr/>
          </p:nvSpPr>
          <p:spPr>
            <a:xfrm>
              <a:off x="1905120" y="5614200"/>
              <a:ext cx="685800" cy="430560"/>
            </a:xfrm>
            <a:custGeom>
              <a:avLst/>
              <a:gdLst/>
              <a:ahLst/>
              <a:rect l="l" t="t" r="r" b="b"/>
              <a:pathLst>
                <a:path w="624" h="400">
                  <a:moveTo>
                    <a:pt x="0" y="400"/>
                  </a:moveTo>
                  <a:cubicBezTo>
                    <a:pt x="116" y="264"/>
                    <a:pt x="232" y="128"/>
                    <a:pt x="336" y="64"/>
                  </a:cubicBezTo>
                  <a:cubicBezTo>
                    <a:pt x="440" y="0"/>
                    <a:pt x="532" y="8"/>
                    <a:pt x="624" y="16"/>
                  </a:cubicBezTo>
                </a:path>
              </a:pathLst>
            </a:custGeom>
            <a:noFill/>
            <a:ln w="1522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904400" y="5562720"/>
              <a:ext cx="685800" cy="430560"/>
            </a:xfrm>
            <a:custGeom>
              <a:avLst/>
              <a:gdLst/>
              <a:ahLst/>
              <a:rect l="l" t="t" r="r" b="b"/>
              <a:pathLst>
                <a:path w="624" h="400">
                  <a:moveTo>
                    <a:pt x="0" y="400"/>
                  </a:moveTo>
                  <a:cubicBezTo>
                    <a:pt x="116" y="264"/>
                    <a:pt x="232" y="128"/>
                    <a:pt x="336" y="64"/>
                  </a:cubicBezTo>
                  <a:cubicBezTo>
                    <a:pt x="440" y="0"/>
                    <a:pt x="532" y="8"/>
                    <a:pt x="624" y="16"/>
                  </a:cubicBezTo>
                </a:path>
              </a:pathLst>
            </a:custGeom>
            <a:noFill/>
            <a:ln w="1522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est Programs </a:t>
            </a: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Vir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4" name=""/>
          <p:cNvSpPr/>
          <p:nvPr/>
        </p:nvSpPr>
        <p:spPr>
          <a:xfrm>
            <a:off x="685800" y="3429000"/>
            <a:ext cx="81532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Not a complet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fects Host-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971800" y="2286000"/>
            <a:ext cx="609480" cy="53352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48" y="240"/>
                </a:moveTo>
                <a:lnTo>
                  <a:pt x="0" y="48"/>
                </a:lnTo>
                <a:lnTo>
                  <a:pt x="192" y="0"/>
                </a:lnTo>
                <a:lnTo>
                  <a:pt x="384" y="96"/>
                </a:lnTo>
                <a:lnTo>
                  <a:pt x="336" y="336"/>
                </a:lnTo>
                <a:lnTo>
                  <a:pt x="192" y="24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4114800" y="2133720"/>
            <a:ext cx="1447920" cy="1143000"/>
            <a:chOff x="4114800" y="2133720"/>
            <a:chExt cx="1447920" cy="1143000"/>
          </a:xfrm>
        </p:grpSpPr>
        <p:sp>
          <p:nvSpPr>
            <p:cNvPr id="1977" name=""/>
            <p:cNvSpPr/>
            <p:nvPr/>
          </p:nvSpPr>
          <p:spPr>
            <a:xfrm>
              <a:off x="4114800" y="2133720"/>
              <a:ext cx="1447920" cy="11430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Infec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343400" y="2362320"/>
              <a:ext cx="609480" cy="533160"/>
            </a:xfrm>
            <a:custGeom>
              <a:avLst/>
              <a:gdLst/>
              <a:ahLst/>
              <a:rect l="l" t="t" r="r" b="b"/>
              <a:pathLst>
                <a:path w="384" h="336">
                  <a:moveTo>
                    <a:pt x="48" y="240"/>
                  </a:moveTo>
                  <a:lnTo>
                    <a:pt x="0" y="48"/>
                  </a:lnTo>
                  <a:lnTo>
                    <a:pt x="192" y="0"/>
                  </a:lnTo>
                  <a:lnTo>
                    <a:pt x="384" y="96"/>
                  </a:lnTo>
                  <a:lnTo>
                    <a:pt x="336" y="336"/>
                  </a:lnTo>
                  <a:lnTo>
                    <a:pt x="192" y="240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9" name=""/>
          <p:cNvSpPr/>
          <p:nvPr/>
        </p:nvSpPr>
        <p:spPr>
          <a:xfrm>
            <a:off x="5943600" y="2666880"/>
            <a:ext cx="1447920" cy="99072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477120" y="2819520"/>
            <a:ext cx="609480" cy="53316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48" y="240"/>
                </a:moveTo>
                <a:lnTo>
                  <a:pt x="0" y="48"/>
                </a:lnTo>
                <a:lnTo>
                  <a:pt x="192" y="0"/>
                </a:lnTo>
                <a:lnTo>
                  <a:pt x="384" y="96"/>
                </a:lnTo>
                <a:lnTo>
                  <a:pt x="336" y="336"/>
                </a:lnTo>
                <a:lnTo>
                  <a:pt x="192" y="24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781680" y="1523880"/>
            <a:ext cx="1447920" cy="990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rogra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7086600" y="1676520"/>
            <a:ext cx="609480" cy="53316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48" y="240"/>
                </a:moveTo>
                <a:lnTo>
                  <a:pt x="0" y="48"/>
                </a:lnTo>
                <a:lnTo>
                  <a:pt x="192" y="0"/>
                </a:lnTo>
                <a:lnTo>
                  <a:pt x="384" y="96"/>
                </a:lnTo>
                <a:lnTo>
                  <a:pt x="336" y="336"/>
                </a:lnTo>
                <a:lnTo>
                  <a:pt x="192" y="24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685800" y="449568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Usually Time/Logic B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ophisticated Camouflage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ven in Data-Files (Mac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4" dur="indefinite" restart="never" nodeType="tmRoot">
          <p:childTnLst>
            <p:seq>
              <p:cTn id="2665" dur="indefinite" nodeType="mainSeq">
                <p:childTnLst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0" dur="500"/>
                                        <p:tgtEl>
                                          <p:spTgt spid="1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3" dur="500"/>
                                        <p:tgtEl>
                                          <p:spTgt spid="19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8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9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4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9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5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6" fill="hold">
                            <p:stCondLst>
                              <p:cond delay="500"/>
                            </p:stCondLst>
                            <p:childTnLst>
                              <p:par>
                                <p:cTn id="2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764 -0.05585 C -0.1948 -0.05839 -0.18177 -0.06071 -0.16719 -0.06256 C -0.15261 -0.06442 -0.13438 -0.07183 -0.12032 -0.06766 C -0.10625 -0.06349 -0.09896 -0.04866 -0.0823 -0.03731 C -0.06563 -0.02596 -0.03403 -0.00626 -0.02032 -5.90361E-006 C -0.0066 0.00625 -0.0033 0.00301 5.55556E-007 -5.90361E-006 E">
                                      <p:cBhvr>
                                        <p:cTn id="2701" dur="2000" fill="hold"/>
                                        <p:tgtEl>
                                          <p:spTgt spid="19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2" fill="hold">
                      <p:stCondLst>
                        <p:cond delay="indefinite"/>
                      </p:stCondLst>
                      <p:childTnLst>
                        <p:par>
                          <p:cTn id="2703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6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7" fill="hold">
                            <p:stCondLst>
                              <p:cond delay="500"/>
                            </p:stCondLst>
                            <p:childTnLst>
                              <p:par>
                                <p:cTn id="2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229 0.09453 C -0.26476 0.09106 -0.24722 0.08781 -0.22899 0.076 C -0.21076 0.06418 -0.19115 0.03823 -0.17344 0.02363 C -0.15573 0.00904 -0.14132 -0.00533 -0.12274 -0.01182 C -0.10417 -0.0183 -0.08247 -0.01738 -0.06198 -0.01529 C -0.04149 -0.01321 -0.02083 -0.00672 3.88889E-006 -4.38369E-006 E">
                                      <p:cBhvr>
                                        <p:cTn id="2712" dur="2000" fill="hold"/>
                                        <p:tgtEl>
                                          <p:spTgt spid="19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fill="hold">
                      <p:stCondLst>
                        <p:cond delay="indefinite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7" dur="500"/>
                                        <p:tgtEl>
                                          <p:spTgt spid="1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2" dur="500"/>
                                        <p:tgtEl>
                                          <p:spTgt spid="1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7" dur="500"/>
                                        <p:tgtEl>
                                          <p:spTgt spid="1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Bypass of Intended Contr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Trapdo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.g. Login with “sesame”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no passw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6" name=""/>
          <p:cNvSpPr/>
          <p:nvPr/>
        </p:nvSpPr>
        <p:spPr>
          <a:xfrm>
            <a:off x="762120" y="3124080"/>
            <a:ext cx="77724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679320" indent="-34596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xploit SW bu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 indent="-231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expected input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execute arbitrary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5183280" y="4419720"/>
            <a:ext cx="1979640" cy="1676160"/>
            <a:chOff x="5183280" y="4419720"/>
            <a:chExt cx="1979640" cy="1676160"/>
          </a:xfrm>
        </p:grpSpPr>
        <p:sp>
          <p:nvSpPr>
            <p:cNvPr id="1988" name=""/>
            <p:cNvSpPr/>
            <p:nvPr/>
          </p:nvSpPr>
          <p:spPr>
            <a:xfrm>
              <a:off x="5183280" y="4419720"/>
              <a:ext cx="1979640" cy="1676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183280" y="5257800"/>
              <a:ext cx="1979640" cy="39672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Return add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183280" y="4572000"/>
              <a:ext cx="1979640" cy="609480"/>
            </a:xfrm>
            <a:prstGeom prst="rect">
              <a:avLst/>
            </a:prstGeom>
            <a:solidFill>
              <a:srgbClr val="11f2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Buffer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5181480" y="4572000"/>
            <a:ext cx="1979640" cy="106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181480" y="5257800"/>
            <a:ext cx="1979640" cy="3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turn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181480" y="4572000"/>
            <a:ext cx="1979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Buffe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4" name=""/>
          <p:cNvGrpSpPr/>
          <p:nvPr/>
        </p:nvGrpSpPr>
        <p:grpSpPr>
          <a:xfrm>
            <a:off x="685800" y="3962520"/>
            <a:ext cx="914400" cy="1904400"/>
            <a:chOff x="685800" y="3962520"/>
            <a:chExt cx="914400" cy="1904400"/>
          </a:xfrm>
        </p:grpSpPr>
        <p:sp>
          <p:nvSpPr>
            <p:cNvPr id="1995" name=""/>
            <p:cNvSpPr/>
            <p:nvPr/>
          </p:nvSpPr>
          <p:spPr>
            <a:xfrm>
              <a:off x="685800" y="3962520"/>
              <a:ext cx="914400" cy="68544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85800" y="4647960"/>
              <a:ext cx="914400" cy="53316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85800" y="5181480"/>
              <a:ext cx="914400" cy="685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8" name=""/>
          <p:cNvGrpSpPr/>
          <p:nvPr/>
        </p:nvGrpSpPr>
        <p:grpSpPr>
          <a:xfrm>
            <a:off x="2209680" y="4267080"/>
            <a:ext cx="2133720" cy="1828800"/>
            <a:chOff x="2209680" y="4267080"/>
            <a:chExt cx="2133720" cy="1828800"/>
          </a:xfrm>
        </p:grpSpPr>
        <p:sp>
          <p:nvSpPr>
            <p:cNvPr id="1999" name=""/>
            <p:cNvSpPr/>
            <p:nvPr/>
          </p:nvSpPr>
          <p:spPr>
            <a:xfrm flipV="1">
              <a:off x="2209680" y="4267080"/>
              <a:ext cx="2133720" cy="1828800"/>
            </a:xfrm>
            <a:prstGeom prst="wedgeRectCallout">
              <a:avLst>
                <a:gd name="adj1" fmla="val -86907"/>
                <a:gd name="adj2" fmla="val -25870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0" name=""/>
            <p:cNvGrpSpPr/>
            <p:nvPr/>
          </p:nvGrpSpPr>
          <p:grpSpPr>
            <a:xfrm>
              <a:off x="2286000" y="4343400"/>
              <a:ext cx="1979640" cy="1676160"/>
              <a:chOff x="2286000" y="4343400"/>
              <a:chExt cx="1979640" cy="1676160"/>
            </a:xfrm>
          </p:grpSpPr>
          <p:sp>
            <p:nvSpPr>
              <p:cNvPr id="2001" name=""/>
              <p:cNvSpPr/>
              <p:nvPr/>
            </p:nvSpPr>
            <p:spPr>
              <a:xfrm>
                <a:off x="2286000" y="4343400"/>
                <a:ext cx="1979640" cy="16761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Stac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286000" y="5181480"/>
                <a:ext cx="1979640" cy="396720"/>
              </a:xfrm>
              <a:prstGeom prst="rect">
                <a:avLst/>
              </a:prstGeom>
              <a:solidFill>
                <a:srgbClr val="faf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Return addres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286000" y="4495680"/>
                <a:ext cx="1979640" cy="609480"/>
              </a:xfrm>
              <a:prstGeom prst="rect">
                <a:avLst/>
              </a:prstGeom>
              <a:solidFill>
                <a:srgbClr val="11f2e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Buffer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004" name=""/>
          <p:cNvCxnSpPr>
            <a:stCxn id="2002" idx="1"/>
            <a:endCxn id="1995" idx="3"/>
          </p:cNvCxnSpPr>
          <p:nvPr/>
        </p:nvCxnSpPr>
        <p:spPr>
          <a:xfrm rot="10800000">
            <a:off x="1599480" y="4304520"/>
            <a:ext cx="686520" cy="1075680"/>
          </a:xfrm>
          <a:prstGeom prst="bentConnector3">
            <a:avLst>
              <a:gd name="adj1" fmla="val 50000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005" name=""/>
          <p:cNvCxnSpPr>
            <a:stCxn id="1992" idx="3"/>
            <a:endCxn id="1993" idx="3"/>
          </p:cNvCxnSpPr>
          <p:nvPr/>
        </p:nvCxnSpPr>
        <p:spPr>
          <a:xfrm flipV="1">
            <a:off x="7160760" y="4876200"/>
            <a:ext cx="2520" cy="579960"/>
          </a:xfrm>
          <a:prstGeom prst="bentConnector3">
            <a:avLst>
              <a:gd name="adj1" fmla="val 31800000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8" dur="indefinite" restart="never" nodeType="tmRoot">
          <p:childTnLst>
            <p:seq>
              <p:cTn id="2729" dur="indefinite" nodeType="mainSeq">
                <p:childTnLst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4" dur="500"/>
                                        <p:tgtEl>
                                          <p:spTgt spid="1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9" dur="500"/>
                                        <p:tgtEl>
                                          <p:spTgt spid="1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2" dur="500"/>
                                        <p:tgtEl>
                                          <p:spTgt spid="1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7" dur="500"/>
                                        <p:tgtEl>
                                          <p:spTgt spid="1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0" dur="500"/>
                                        <p:tgtEl>
                                          <p:spTgt spid="1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5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fill="hold">
                      <p:stCondLst>
                        <p:cond delay="indefinite"/>
                      </p:stCondLst>
                      <p:childTnLst>
                        <p:par>
                          <p:cTn id="2757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60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1" fill="hold">
                            <p:stCondLst>
                              <p:cond delay="500"/>
                            </p:stCondLst>
                            <p:childTnLst>
                              <p:par>
                                <p:cTn id="27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4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5" fill="hold">
                      <p:stCondLst>
                        <p:cond delay="indefinite"/>
                      </p:stCondLst>
                      <p:childTnLst>
                        <p:par>
                          <p:cTn id="2766" fill="hold">
                            <p:stCondLst>
                              <p:cond delay="0"/>
                            </p:stCondLst>
                            <p:childTnLst>
                              <p:par>
                                <p:cTn id="2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0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500"/>
                            </p:stCondLst>
                            <p:childTnLst>
                              <p:par>
                                <p:cTn id="27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4" dur="5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ctive Mis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Unauthorized creation, deletion, modification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ctiveX, JavaScript, Java, downloadable plug-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signed to allow for dynamic Web-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enying / delaying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aturate communication line / server /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8" name=""/>
          <p:cNvGrpSpPr/>
          <p:nvPr/>
        </p:nvGrpSpPr>
        <p:grpSpPr>
          <a:xfrm>
            <a:off x="1752480" y="5257800"/>
            <a:ext cx="1064880" cy="1007640"/>
            <a:chOff x="1752480" y="5257800"/>
            <a:chExt cx="1064880" cy="1007640"/>
          </a:xfrm>
        </p:grpSpPr>
        <p:sp>
          <p:nvSpPr>
            <p:cNvPr id="2009" name=""/>
            <p:cNvSpPr/>
            <p:nvPr/>
          </p:nvSpPr>
          <p:spPr>
            <a:xfrm>
              <a:off x="2611440" y="5787000"/>
              <a:ext cx="205920" cy="302760"/>
            </a:xfrm>
            <a:custGeom>
              <a:avLst/>
              <a:gdLst/>
              <a:ahLst/>
              <a:rect l="l" t="t" r="r" b="b"/>
              <a:pathLst>
                <a:path w="539" h="938">
                  <a:moveTo>
                    <a:pt x="0" y="938"/>
                  </a:moveTo>
                  <a:lnTo>
                    <a:pt x="69" y="878"/>
                  </a:lnTo>
                  <a:lnTo>
                    <a:pt x="122" y="828"/>
                  </a:lnTo>
                  <a:lnTo>
                    <a:pt x="155" y="791"/>
                  </a:lnTo>
                  <a:lnTo>
                    <a:pt x="176" y="771"/>
                  </a:lnTo>
                  <a:lnTo>
                    <a:pt x="244" y="702"/>
                  </a:lnTo>
                  <a:lnTo>
                    <a:pt x="283" y="653"/>
                  </a:lnTo>
                  <a:lnTo>
                    <a:pt x="333" y="587"/>
                  </a:lnTo>
                  <a:lnTo>
                    <a:pt x="418" y="475"/>
                  </a:lnTo>
                  <a:lnTo>
                    <a:pt x="484" y="358"/>
                  </a:lnTo>
                  <a:lnTo>
                    <a:pt x="535" y="244"/>
                  </a:lnTo>
                  <a:lnTo>
                    <a:pt x="539" y="180"/>
                  </a:lnTo>
                  <a:lnTo>
                    <a:pt x="535" y="132"/>
                  </a:lnTo>
                  <a:lnTo>
                    <a:pt x="508" y="66"/>
                  </a:lnTo>
                  <a:lnTo>
                    <a:pt x="484" y="33"/>
                  </a:lnTo>
                  <a:lnTo>
                    <a:pt x="418" y="0"/>
                  </a:lnTo>
                </a:path>
              </a:pathLst>
            </a:custGeom>
            <a:noFill/>
            <a:ln w="3240">
              <a:solidFill>
                <a:srgbClr val="dbd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752480" y="5991840"/>
              <a:ext cx="921600" cy="273600"/>
            </a:xfrm>
            <a:custGeom>
              <a:avLst/>
              <a:gdLst/>
              <a:ahLst/>
              <a:rect l="l" t="t" r="r" b="b"/>
              <a:pathLst>
                <a:path w="2412" h="849">
                  <a:moveTo>
                    <a:pt x="0" y="44"/>
                  </a:moveTo>
                  <a:lnTo>
                    <a:pt x="0" y="0"/>
                  </a:lnTo>
                  <a:lnTo>
                    <a:pt x="2412" y="306"/>
                  </a:lnTo>
                  <a:lnTo>
                    <a:pt x="2412" y="352"/>
                  </a:lnTo>
                  <a:lnTo>
                    <a:pt x="1968" y="849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919191"/>
            </a:solidFill>
            <a:ln w="14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752480" y="5991840"/>
              <a:ext cx="921600" cy="273600"/>
            </a:xfrm>
            <a:custGeom>
              <a:avLst/>
              <a:gdLst/>
              <a:ahLst/>
              <a:rect l="l" t="t" r="r" b="b"/>
              <a:pathLst>
                <a:path w="2412" h="849">
                  <a:moveTo>
                    <a:pt x="1970" y="800"/>
                  </a:moveTo>
                  <a:lnTo>
                    <a:pt x="2412" y="304"/>
                  </a:lnTo>
                  <a:lnTo>
                    <a:pt x="2412" y="352"/>
                  </a:lnTo>
                  <a:lnTo>
                    <a:pt x="1968" y="849"/>
                  </a:lnTo>
                  <a:lnTo>
                    <a:pt x="0" y="44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752480" y="5853600"/>
              <a:ext cx="921600" cy="396720"/>
            </a:xfrm>
            <a:custGeom>
              <a:avLst/>
              <a:gdLst/>
              <a:ahLst/>
              <a:rect l="l" t="t" r="r" b="b"/>
              <a:pathLst>
                <a:path w="2412" h="1231">
                  <a:moveTo>
                    <a:pt x="0" y="431"/>
                  </a:moveTo>
                  <a:lnTo>
                    <a:pt x="535" y="0"/>
                  </a:lnTo>
                  <a:lnTo>
                    <a:pt x="2412" y="737"/>
                  </a:lnTo>
                  <a:lnTo>
                    <a:pt x="1968" y="1231"/>
                  </a:lnTo>
                  <a:lnTo>
                    <a:pt x="0" y="431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495520" y="6065280"/>
              <a:ext cx="128160" cy="56520"/>
            </a:xfrm>
            <a:custGeom>
              <a:avLst/>
              <a:gdLst/>
              <a:ahLst/>
              <a:rect l="l" t="t" r="r" b="b"/>
              <a:pathLst>
                <a:path w="336" h="177">
                  <a:moveTo>
                    <a:pt x="60" y="0"/>
                  </a:moveTo>
                  <a:lnTo>
                    <a:pt x="336" y="115"/>
                  </a:lnTo>
                  <a:lnTo>
                    <a:pt x="279" y="177"/>
                  </a:lnTo>
                  <a:lnTo>
                    <a:pt x="0" y="6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495520" y="6065280"/>
              <a:ext cx="128160" cy="56520"/>
            </a:xfrm>
            <a:custGeom>
              <a:avLst/>
              <a:gdLst/>
              <a:ahLst/>
              <a:rect l="l" t="t" r="r" b="b"/>
              <a:pathLst>
                <a:path w="336" h="177">
                  <a:moveTo>
                    <a:pt x="60" y="0"/>
                  </a:moveTo>
                  <a:lnTo>
                    <a:pt x="336" y="115"/>
                  </a:lnTo>
                  <a:lnTo>
                    <a:pt x="279" y="177"/>
                  </a:lnTo>
                  <a:lnTo>
                    <a:pt x="0" y="64"/>
                  </a:lnTo>
                  <a:lnTo>
                    <a:pt x="6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381760" y="6099480"/>
              <a:ext cx="202320" cy="126000"/>
            </a:xfrm>
            <a:custGeom>
              <a:avLst/>
              <a:gdLst/>
              <a:ahLst/>
              <a:rect l="l" t="t" r="r" b="b"/>
              <a:pathLst>
                <a:path w="532" h="392">
                  <a:moveTo>
                    <a:pt x="256" y="0"/>
                  </a:moveTo>
                  <a:lnTo>
                    <a:pt x="532" y="111"/>
                  </a:lnTo>
                  <a:lnTo>
                    <a:pt x="295" y="392"/>
                  </a:lnTo>
                  <a:lnTo>
                    <a:pt x="0" y="273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381760" y="6099480"/>
              <a:ext cx="202320" cy="126000"/>
            </a:xfrm>
            <a:custGeom>
              <a:avLst/>
              <a:gdLst/>
              <a:ahLst/>
              <a:rect l="l" t="t" r="r" b="b"/>
              <a:pathLst>
                <a:path w="532" h="392">
                  <a:moveTo>
                    <a:pt x="256" y="0"/>
                  </a:moveTo>
                  <a:lnTo>
                    <a:pt x="532" y="111"/>
                  </a:lnTo>
                  <a:lnTo>
                    <a:pt x="295" y="392"/>
                  </a:lnTo>
                  <a:lnTo>
                    <a:pt x="0" y="273"/>
                  </a:lnTo>
                  <a:lnTo>
                    <a:pt x="25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798920" y="5907600"/>
              <a:ext cx="639000" cy="263880"/>
            </a:xfrm>
            <a:custGeom>
              <a:avLst/>
              <a:gdLst/>
              <a:ahLst/>
              <a:rect l="l" t="t" r="r" b="b"/>
              <a:pathLst>
                <a:path w="1676" h="820">
                  <a:moveTo>
                    <a:pt x="1676" y="539"/>
                  </a:moveTo>
                  <a:lnTo>
                    <a:pt x="307" y="0"/>
                  </a:lnTo>
                  <a:lnTo>
                    <a:pt x="0" y="246"/>
                  </a:lnTo>
                  <a:lnTo>
                    <a:pt x="1412" y="820"/>
                  </a:lnTo>
                  <a:lnTo>
                    <a:pt x="1676" y="539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943280" y="5875200"/>
              <a:ext cx="532800" cy="192600"/>
            </a:xfrm>
            <a:custGeom>
              <a:avLst/>
              <a:gdLst/>
              <a:ahLst/>
              <a:rect l="l" t="t" r="r" b="b"/>
              <a:pathLst>
                <a:path w="1397" h="597">
                  <a:moveTo>
                    <a:pt x="72" y="0"/>
                  </a:moveTo>
                  <a:lnTo>
                    <a:pt x="0" y="56"/>
                  </a:lnTo>
                  <a:lnTo>
                    <a:pt x="1337" y="597"/>
                  </a:lnTo>
                  <a:lnTo>
                    <a:pt x="1397" y="525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798920" y="5907600"/>
              <a:ext cx="639000" cy="263880"/>
            </a:xfrm>
            <a:custGeom>
              <a:avLst/>
              <a:gdLst/>
              <a:ahLst/>
              <a:rect l="l" t="t" r="r" b="b"/>
              <a:pathLst>
                <a:path w="1676" h="820">
                  <a:moveTo>
                    <a:pt x="1676" y="539"/>
                  </a:moveTo>
                  <a:lnTo>
                    <a:pt x="307" y="0"/>
                  </a:lnTo>
                  <a:lnTo>
                    <a:pt x="0" y="246"/>
                  </a:lnTo>
                  <a:lnTo>
                    <a:pt x="1412" y="820"/>
                  </a:lnTo>
                  <a:lnTo>
                    <a:pt x="1676" y="53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943280" y="5875200"/>
              <a:ext cx="532800" cy="192600"/>
            </a:xfrm>
            <a:custGeom>
              <a:avLst/>
              <a:gdLst/>
              <a:ahLst/>
              <a:rect l="l" t="t" r="r" b="b"/>
              <a:pathLst>
                <a:path w="1397" h="597">
                  <a:moveTo>
                    <a:pt x="72" y="0"/>
                  </a:moveTo>
                  <a:lnTo>
                    <a:pt x="0" y="56"/>
                  </a:lnTo>
                  <a:lnTo>
                    <a:pt x="1337" y="597"/>
                  </a:lnTo>
                  <a:lnTo>
                    <a:pt x="1397" y="525"/>
                  </a:lnTo>
                  <a:lnTo>
                    <a:pt x="7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 flipV="1">
              <a:off x="1894320" y="5923080"/>
              <a:ext cx="522000" cy="17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H="1" flipV="1">
              <a:off x="1870920" y="5938200"/>
              <a:ext cx="496440" cy="167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H="1" flipV="1">
              <a:off x="1847160" y="5954760"/>
              <a:ext cx="530640" cy="180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 flipV="1">
              <a:off x="1822320" y="5970240"/>
              <a:ext cx="534600" cy="183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2255040" y="6126120"/>
              <a:ext cx="1512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H="1">
              <a:off x="2224440" y="6114960"/>
              <a:ext cx="1656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193480" y="6105240"/>
              <a:ext cx="1764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2163960" y="6094440"/>
              <a:ext cx="1656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H="1">
              <a:off x="2130480" y="6083640"/>
              <a:ext cx="1656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>
              <a:off x="2097720" y="6071400"/>
              <a:ext cx="1656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H="1">
              <a:off x="2063880" y="6060240"/>
              <a:ext cx="158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flipH="1">
              <a:off x="2030400" y="6049440"/>
              <a:ext cx="1728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H="1">
              <a:off x="1999080" y="6039000"/>
              <a:ext cx="1656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1966320" y="6026760"/>
              <a:ext cx="158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H="1">
              <a:off x="1933560" y="6015960"/>
              <a:ext cx="158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H="1">
              <a:off x="1899360" y="6004800"/>
              <a:ext cx="1692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H="1">
              <a:off x="1866960" y="5993280"/>
              <a:ext cx="1656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1834920" y="5982480"/>
              <a:ext cx="1800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2281680" y="6135840"/>
              <a:ext cx="1656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H="1">
              <a:off x="2310120" y="6145200"/>
              <a:ext cx="1800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H="1">
              <a:off x="2286360" y="6111000"/>
              <a:ext cx="1800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H="1">
              <a:off x="2255040" y="6100200"/>
              <a:ext cx="1800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H="1">
              <a:off x="2225520" y="6090480"/>
              <a:ext cx="1908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>
              <a:off x="2194560" y="6080400"/>
              <a:ext cx="1872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H="1">
              <a:off x="2160000" y="6068160"/>
              <a:ext cx="1800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H="1">
              <a:off x="2129760" y="6057720"/>
              <a:ext cx="1800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>
              <a:off x="2096640" y="6046560"/>
              <a:ext cx="1872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 flipH="1">
              <a:off x="2062440" y="6034320"/>
              <a:ext cx="1800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H="1">
              <a:off x="2030400" y="6023520"/>
              <a:ext cx="1728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H="1">
              <a:off x="1999080" y="6013440"/>
              <a:ext cx="1728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>
              <a:off x="1965600" y="6001560"/>
              <a:ext cx="1728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 flipH="1">
              <a:off x="1930680" y="5989320"/>
              <a:ext cx="1908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>
              <a:off x="1897200" y="5978520"/>
              <a:ext cx="2052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flipH="1">
              <a:off x="1864440" y="5967720"/>
              <a:ext cx="2052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 flipH="1">
              <a:off x="2286720" y="6085440"/>
              <a:ext cx="1980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 flipH="1">
              <a:off x="2257920" y="6075000"/>
              <a:ext cx="18720" cy="19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H="1">
              <a:off x="2226600" y="6065280"/>
              <a:ext cx="1872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 flipH="1">
              <a:off x="2194920" y="6054480"/>
              <a:ext cx="1980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 flipH="1">
              <a:off x="2163960" y="6045480"/>
              <a:ext cx="1656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H="1">
              <a:off x="2129760" y="6032520"/>
              <a:ext cx="18720" cy="18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H="1">
              <a:off x="2096280" y="6021000"/>
              <a:ext cx="1980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H="1">
              <a:off x="2063160" y="6009480"/>
              <a:ext cx="1872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>
              <a:off x="2031120" y="5999040"/>
              <a:ext cx="1872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H="1">
              <a:off x="1999080" y="5988240"/>
              <a:ext cx="1872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H="1">
              <a:off x="1965600" y="5976720"/>
              <a:ext cx="172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H="1">
              <a:off x="1930680" y="5965560"/>
              <a:ext cx="190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H="1">
              <a:off x="1898280" y="5954760"/>
              <a:ext cx="194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 flipH="1">
              <a:off x="1868040" y="5945760"/>
              <a:ext cx="2196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H="1">
              <a:off x="2314800" y="6094440"/>
              <a:ext cx="1980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H="1">
              <a:off x="2323800" y="6073920"/>
              <a:ext cx="14400" cy="1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H="1">
              <a:off x="2293920" y="6064200"/>
              <a:ext cx="1728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flipH="1">
              <a:off x="2262600" y="6052680"/>
              <a:ext cx="1584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H="1">
              <a:off x="2229120" y="6042240"/>
              <a:ext cx="1692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H="1">
              <a:off x="2196000" y="6030720"/>
              <a:ext cx="1800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flipH="1">
              <a:off x="2164680" y="6022800"/>
              <a:ext cx="15840" cy="13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flipH="1">
              <a:off x="2131920" y="6009480"/>
              <a:ext cx="1656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H="1">
              <a:off x="2096280" y="5998320"/>
              <a:ext cx="17640" cy="1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2064600" y="5986080"/>
              <a:ext cx="1656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2032560" y="5976000"/>
              <a:ext cx="1512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1996920" y="5964840"/>
              <a:ext cx="1728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H="1">
              <a:off x="1967040" y="5953320"/>
              <a:ext cx="1656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>
              <a:off x="1934280" y="5943600"/>
              <a:ext cx="180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H="1">
              <a:off x="1900080" y="5932080"/>
              <a:ext cx="21240" cy="1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>
              <a:off x="2367000" y="6089400"/>
              <a:ext cx="1800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>
              <a:off x="2323800" y="6049800"/>
              <a:ext cx="1872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H="1">
              <a:off x="2296080" y="6040440"/>
              <a:ext cx="1656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H="1">
              <a:off x="2264040" y="6030000"/>
              <a:ext cx="1800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H="1">
              <a:off x="2234160" y="6020280"/>
              <a:ext cx="1584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>
              <a:off x="2201400" y="6008760"/>
              <a:ext cx="158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H="1">
              <a:off x="2167560" y="5998320"/>
              <a:ext cx="1764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>
              <a:off x="2133720" y="5987520"/>
              <a:ext cx="1764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H="1">
              <a:off x="2100600" y="5976000"/>
              <a:ext cx="1800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2070000" y="5964840"/>
              <a:ext cx="1584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H="1">
              <a:off x="2035800" y="5954040"/>
              <a:ext cx="1656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2003040" y="5942880"/>
              <a:ext cx="1656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1969920" y="5932080"/>
              <a:ext cx="16560" cy="1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1933920" y="5920560"/>
              <a:ext cx="198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>
              <a:off x="2351160" y="6059520"/>
              <a:ext cx="18720" cy="18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H="1">
              <a:off x="2379600" y="6069240"/>
              <a:ext cx="1764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>
              <a:off x="2419200" y="6110640"/>
              <a:ext cx="93600" cy="89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H="1">
              <a:off x="2457360" y="6123960"/>
              <a:ext cx="91440" cy="88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H="1" flipV="1">
              <a:off x="2403360" y="6167520"/>
              <a:ext cx="109080" cy="3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H="1" flipV="1">
              <a:off x="2427120" y="6146280"/>
              <a:ext cx="109080" cy="36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 flipV="1">
              <a:off x="2451960" y="6124680"/>
              <a:ext cx="107280" cy="35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>
              <a:off x="2424600" y="6035760"/>
              <a:ext cx="23400" cy="21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2393640" y="6025680"/>
              <a:ext cx="23400" cy="21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H="1">
              <a:off x="2361240" y="6014520"/>
              <a:ext cx="24120" cy="20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H="1">
              <a:off x="2333160" y="6004800"/>
              <a:ext cx="23400" cy="20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2302560" y="5994720"/>
              <a:ext cx="2340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>
              <a:off x="2269800" y="5983560"/>
              <a:ext cx="226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>
              <a:off x="2239920" y="5973120"/>
              <a:ext cx="2340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2211120" y="5963760"/>
              <a:ext cx="2268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2178720" y="5952600"/>
              <a:ext cx="2268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2147760" y="5942880"/>
              <a:ext cx="22680" cy="19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2116440" y="5932080"/>
              <a:ext cx="22680" cy="19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>
              <a:off x="2086560" y="5922000"/>
              <a:ext cx="2268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H="1">
              <a:off x="2055240" y="5911560"/>
              <a:ext cx="22680" cy="19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2022120" y="5901120"/>
              <a:ext cx="2196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>
              <a:off x="1984320" y="5887800"/>
              <a:ext cx="22680" cy="19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H="1">
              <a:off x="2526480" y="6076440"/>
              <a:ext cx="2196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2563920" y="6089400"/>
              <a:ext cx="2124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2612880" y="5804640"/>
              <a:ext cx="149400" cy="154440"/>
            </a:xfrm>
            <a:custGeom>
              <a:avLst/>
              <a:gdLst/>
              <a:ahLst/>
              <a:rect l="l" t="t" r="r" b="b"/>
              <a:pathLst>
                <a:path w="392" h="481">
                  <a:moveTo>
                    <a:pt x="392" y="0"/>
                  </a:moveTo>
                  <a:lnTo>
                    <a:pt x="390" y="145"/>
                  </a:lnTo>
                  <a:lnTo>
                    <a:pt x="0" y="481"/>
                  </a:lnTo>
                  <a:lnTo>
                    <a:pt x="216" y="192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106720" y="5635800"/>
              <a:ext cx="667440" cy="374760"/>
            </a:xfrm>
            <a:custGeom>
              <a:avLst/>
              <a:gdLst/>
              <a:ahLst/>
              <a:rect l="l" t="t" r="r" b="b"/>
              <a:pathLst>
                <a:path w="1747" h="1165">
                  <a:moveTo>
                    <a:pt x="1571" y="190"/>
                  </a:moveTo>
                  <a:lnTo>
                    <a:pt x="1747" y="238"/>
                  </a:lnTo>
                  <a:lnTo>
                    <a:pt x="1747" y="525"/>
                  </a:lnTo>
                  <a:lnTo>
                    <a:pt x="1187" y="1165"/>
                  </a:lnTo>
                  <a:lnTo>
                    <a:pt x="0" y="719"/>
                  </a:lnTo>
                  <a:lnTo>
                    <a:pt x="0" y="473"/>
                  </a:lnTo>
                  <a:lnTo>
                    <a:pt x="163" y="323"/>
                  </a:lnTo>
                  <a:lnTo>
                    <a:pt x="811" y="0"/>
                  </a:lnTo>
                  <a:lnTo>
                    <a:pt x="1571" y="19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106720" y="5713200"/>
              <a:ext cx="667440" cy="210600"/>
            </a:xfrm>
            <a:custGeom>
              <a:avLst/>
              <a:gdLst/>
              <a:ahLst/>
              <a:rect l="l" t="t" r="r" b="b"/>
              <a:pathLst>
                <a:path w="1747" h="653">
                  <a:moveTo>
                    <a:pt x="0" y="233"/>
                  </a:moveTo>
                  <a:lnTo>
                    <a:pt x="1185" y="653"/>
                  </a:lnTo>
                  <a:lnTo>
                    <a:pt x="1747" y="0"/>
                  </a:lnTo>
                </a:path>
              </a:pathLst>
            </a:custGeom>
            <a:noFill/>
            <a:ln w="14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558880" y="5923800"/>
              <a:ext cx="360" cy="86040"/>
            </a:xfrm>
            <a:prstGeom prst="line">
              <a:avLst/>
            </a:prstGeom>
            <a:ln w="14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2106720" y="5634360"/>
              <a:ext cx="667440" cy="375840"/>
            </a:xfrm>
            <a:custGeom>
              <a:avLst/>
              <a:gdLst/>
              <a:ahLst/>
              <a:rect l="l" t="t" r="r" b="b"/>
              <a:pathLst>
                <a:path w="1747" h="1169">
                  <a:moveTo>
                    <a:pt x="1573" y="194"/>
                  </a:moveTo>
                  <a:lnTo>
                    <a:pt x="1747" y="242"/>
                  </a:lnTo>
                  <a:lnTo>
                    <a:pt x="1747" y="527"/>
                  </a:lnTo>
                  <a:lnTo>
                    <a:pt x="1185" y="1169"/>
                  </a:lnTo>
                  <a:lnTo>
                    <a:pt x="0" y="723"/>
                  </a:lnTo>
                  <a:lnTo>
                    <a:pt x="0" y="477"/>
                  </a:lnTo>
                  <a:lnTo>
                    <a:pt x="165" y="327"/>
                  </a:lnTo>
                  <a:lnTo>
                    <a:pt x="813" y="0"/>
                  </a:lnTo>
                  <a:lnTo>
                    <a:pt x="1573" y="194"/>
                  </a:lnTo>
                </a:path>
              </a:pathLst>
            </a:custGeom>
            <a:noFill/>
            <a:ln w="14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2301480" y="5265360"/>
              <a:ext cx="495360" cy="470880"/>
            </a:xfrm>
            <a:custGeom>
              <a:avLst/>
              <a:gdLst/>
              <a:ahLst/>
              <a:rect l="l" t="t" r="r" b="b"/>
              <a:pathLst>
                <a:path w="1297" h="1462">
                  <a:moveTo>
                    <a:pt x="0" y="43"/>
                  </a:moveTo>
                  <a:lnTo>
                    <a:pt x="70" y="0"/>
                  </a:lnTo>
                  <a:lnTo>
                    <a:pt x="1297" y="287"/>
                  </a:lnTo>
                  <a:lnTo>
                    <a:pt x="1295" y="1055"/>
                  </a:lnTo>
                  <a:lnTo>
                    <a:pt x="1148" y="1150"/>
                  </a:lnTo>
                  <a:lnTo>
                    <a:pt x="1034" y="146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106720" y="5257800"/>
              <a:ext cx="589320" cy="593280"/>
            </a:xfrm>
            <a:custGeom>
              <a:avLst/>
              <a:gdLst/>
              <a:ahLst/>
              <a:rect l="l" t="t" r="r" b="b"/>
              <a:pathLst>
                <a:path w="1544" h="1841">
                  <a:moveTo>
                    <a:pt x="1542" y="312"/>
                  </a:moveTo>
                  <a:lnTo>
                    <a:pt x="279" y="0"/>
                  </a:lnTo>
                  <a:lnTo>
                    <a:pt x="0" y="199"/>
                  </a:lnTo>
                  <a:lnTo>
                    <a:pt x="0" y="1425"/>
                  </a:lnTo>
                  <a:lnTo>
                    <a:pt x="1251" y="1841"/>
                  </a:lnTo>
                  <a:lnTo>
                    <a:pt x="1544" y="1473"/>
                  </a:lnTo>
                  <a:lnTo>
                    <a:pt x="1542" y="312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696400" y="5357520"/>
              <a:ext cx="43200" cy="277920"/>
            </a:xfrm>
            <a:custGeom>
              <a:avLst/>
              <a:gdLst/>
              <a:ahLst/>
              <a:rect l="l" t="t" r="r" b="b"/>
              <a:pathLst>
                <a:path w="114" h="863">
                  <a:moveTo>
                    <a:pt x="0" y="0"/>
                  </a:moveTo>
                  <a:lnTo>
                    <a:pt x="114" y="97"/>
                  </a:lnTo>
                  <a:lnTo>
                    <a:pt x="114" y="863"/>
                  </a:lnTo>
                </a:path>
              </a:pathLst>
            </a:custGeom>
            <a:noFill/>
            <a:ln w="14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V="1">
              <a:off x="2739960" y="5357160"/>
              <a:ext cx="57240" cy="31320"/>
            </a:xfrm>
            <a:prstGeom prst="line">
              <a:avLst/>
            </a:prstGeom>
            <a:ln w="14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2585520" y="5357520"/>
              <a:ext cx="110520" cy="493920"/>
            </a:xfrm>
            <a:custGeom>
              <a:avLst/>
              <a:gdLst/>
              <a:ahLst/>
              <a:rect l="l" t="t" r="r" b="b"/>
              <a:pathLst>
                <a:path w="289" h="1533">
                  <a:moveTo>
                    <a:pt x="289" y="0"/>
                  </a:moveTo>
                  <a:lnTo>
                    <a:pt x="0" y="211"/>
                  </a:lnTo>
                  <a:lnTo>
                    <a:pt x="0" y="1533"/>
                  </a:lnTo>
                </a:path>
              </a:pathLst>
            </a:custGeom>
            <a:noFill/>
            <a:ln w="14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 flipH="1" flipV="1">
              <a:off x="2106360" y="5321880"/>
              <a:ext cx="478440" cy="103680"/>
            </a:xfrm>
            <a:prstGeom prst="line">
              <a:avLst/>
            </a:prstGeom>
            <a:ln w="14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106720" y="5257800"/>
              <a:ext cx="589320" cy="593640"/>
            </a:xfrm>
            <a:custGeom>
              <a:avLst/>
              <a:gdLst/>
              <a:ahLst/>
              <a:rect l="l" t="t" r="r" b="b"/>
              <a:pathLst>
                <a:path w="1544" h="1843">
                  <a:moveTo>
                    <a:pt x="1544" y="310"/>
                  </a:moveTo>
                  <a:lnTo>
                    <a:pt x="279" y="0"/>
                  </a:lnTo>
                  <a:lnTo>
                    <a:pt x="0" y="199"/>
                  </a:lnTo>
                  <a:lnTo>
                    <a:pt x="0" y="1425"/>
                  </a:lnTo>
                  <a:lnTo>
                    <a:pt x="1255" y="1843"/>
                  </a:lnTo>
                  <a:lnTo>
                    <a:pt x="1544" y="1485"/>
                  </a:lnTo>
                </a:path>
              </a:pathLst>
            </a:custGeom>
            <a:noFill/>
            <a:ln w="14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305440" y="5265360"/>
              <a:ext cx="491760" cy="470880"/>
            </a:xfrm>
            <a:custGeom>
              <a:avLst/>
              <a:gdLst/>
              <a:ahLst/>
              <a:rect l="l" t="t" r="r" b="b"/>
              <a:pathLst>
                <a:path w="1287" h="1462">
                  <a:moveTo>
                    <a:pt x="0" y="37"/>
                  </a:moveTo>
                  <a:lnTo>
                    <a:pt x="60" y="0"/>
                  </a:lnTo>
                  <a:lnTo>
                    <a:pt x="1287" y="287"/>
                  </a:lnTo>
                  <a:lnTo>
                    <a:pt x="1285" y="1055"/>
                  </a:lnTo>
                  <a:lnTo>
                    <a:pt x="1138" y="1150"/>
                  </a:lnTo>
                  <a:lnTo>
                    <a:pt x="1024" y="1462"/>
                  </a:lnTo>
                  <a:lnTo>
                    <a:pt x="1024" y="287"/>
                  </a:lnTo>
                </a:path>
              </a:pathLst>
            </a:custGeom>
            <a:noFill/>
            <a:ln w="14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120400" y="5348520"/>
              <a:ext cx="452520" cy="479160"/>
            </a:xfrm>
            <a:custGeom>
              <a:avLst/>
              <a:gdLst/>
              <a:ahLst/>
              <a:rect l="l" t="t" r="r" b="b"/>
              <a:pathLst>
                <a:path w="1185" h="1489">
                  <a:moveTo>
                    <a:pt x="0" y="0"/>
                  </a:moveTo>
                  <a:lnTo>
                    <a:pt x="0" y="1120"/>
                  </a:lnTo>
                  <a:lnTo>
                    <a:pt x="1185" y="1489"/>
                  </a:lnTo>
                  <a:lnTo>
                    <a:pt x="1185" y="2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14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2120400" y="5348520"/>
              <a:ext cx="452520" cy="479160"/>
            </a:xfrm>
            <a:custGeom>
              <a:avLst/>
              <a:gdLst/>
              <a:ahLst/>
              <a:rect l="l" t="t" r="r" b="b"/>
              <a:pathLst>
                <a:path w="1185" h="1489">
                  <a:moveTo>
                    <a:pt x="0" y="0"/>
                  </a:moveTo>
                  <a:lnTo>
                    <a:pt x="0" y="1120"/>
                  </a:lnTo>
                  <a:lnTo>
                    <a:pt x="1185" y="1489"/>
                  </a:lnTo>
                  <a:lnTo>
                    <a:pt x="1185" y="285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752480" y="5853600"/>
              <a:ext cx="921600" cy="396720"/>
            </a:xfrm>
            <a:custGeom>
              <a:avLst/>
              <a:gdLst/>
              <a:ahLst/>
              <a:rect l="l" t="t" r="r" b="b"/>
              <a:pathLst>
                <a:path w="2412" h="1231">
                  <a:moveTo>
                    <a:pt x="0" y="431"/>
                  </a:moveTo>
                  <a:lnTo>
                    <a:pt x="535" y="0"/>
                  </a:lnTo>
                  <a:lnTo>
                    <a:pt x="2412" y="737"/>
                  </a:lnTo>
                  <a:lnTo>
                    <a:pt x="1968" y="1231"/>
                  </a:lnTo>
                  <a:lnTo>
                    <a:pt x="0" y="43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120400" y="5349240"/>
              <a:ext cx="62280" cy="45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V="1">
              <a:off x="2120400" y="5679000"/>
              <a:ext cx="62280" cy="29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527560" y="5759280"/>
              <a:ext cx="45720" cy="68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2532960" y="5440680"/>
              <a:ext cx="40320" cy="46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145600" y="5388480"/>
              <a:ext cx="419040" cy="388440"/>
            </a:xfrm>
            <a:custGeom>
              <a:avLst/>
              <a:gdLst/>
              <a:ahLst/>
              <a:rect l="l" t="t" r="r" b="b"/>
              <a:pathLst>
                <a:path w="1097" h="1206">
                  <a:moveTo>
                    <a:pt x="1028" y="289"/>
                  </a:moveTo>
                  <a:lnTo>
                    <a:pt x="1028" y="295"/>
                  </a:lnTo>
                  <a:lnTo>
                    <a:pt x="1043" y="345"/>
                  </a:lnTo>
                  <a:lnTo>
                    <a:pt x="1055" y="393"/>
                  </a:lnTo>
                  <a:lnTo>
                    <a:pt x="1066" y="444"/>
                  </a:lnTo>
                  <a:lnTo>
                    <a:pt x="1076" y="494"/>
                  </a:lnTo>
                  <a:lnTo>
                    <a:pt x="1084" y="547"/>
                  </a:lnTo>
                  <a:lnTo>
                    <a:pt x="1090" y="597"/>
                  </a:lnTo>
                  <a:lnTo>
                    <a:pt x="1095" y="647"/>
                  </a:lnTo>
                  <a:lnTo>
                    <a:pt x="1097" y="700"/>
                  </a:lnTo>
                  <a:lnTo>
                    <a:pt x="1097" y="750"/>
                  </a:lnTo>
                  <a:lnTo>
                    <a:pt x="1097" y="802"/>
                  </a:lnTo>
                  <a:lnTo>
                    <a:pt x="1094" y="853"/>
                  </a:lnTo>
                  <a:lnTo>
                    <a:pt x="1090" y="905"/>
                  </a:lnTo>
                  <a:lnTo>
                    <a:pt x="1084" y="958"/>
                  </a:lnTo>
                  <a:lnTo>
                    <a:pt x="1076" y="1006"/>
                  </a:lnTo>
                  <a:lnTo>
                    <a:pt x="1066" y="1056"/>
                  </a:lnTo>
                  <a:lnTo>
                    <a:pt x="1055" y="1107"/>
                  </a:lnTo>
                  <a:lnTo>
                    <a:pt x="1041" y="1157"/>
                  </a:lnTo>
                  <a:lnTo>
                    <a:pt x="1030" y="1196"/>
                  </a:lnTo>
                  <a:lnTo>
                    <a:pt x="1000" y="1202"/>
                  </a:lnTo>
                  <a:lnTo>
                    <a:pt x="969" y="1204"/>
                  </a:lnTo>
                  <a:lnTo>
                    <a:pt x="925" y="1206"/>
                  </a:lnTo>
                  <a:lnTo>
                    <a:pt x="880" y="1206"/>
                  </a:lnTo>
                  <a:lnTo>
                    <a:pt x="836" y="1204"/>
                  </a:lnTo>
                  <a:lnTo>
                    <a:pt x="793" y="1202"/>
                  </a:lnTo>
                  <a:lnTo>
                    <a:pt x="748" y="1198"/>
                  </a:lnTo>
                  <a:lnTo>
                    <a:pt x="706" y="1192"/>
                  </a:lnTo>
                  <a:lnTo>
                    <a:pt x="663" y="1186"/>
                  </a:lnTo>
                  <a:lnTo>
                    <a:pt x="620" y="1177"/>
                  </a:lnTo>
                  <a:lnTo>
                    <a:pt x="578" y="1169"/>
                  </a:lnTo>
                  <a:lnTo>
                    <a:pt x="535" y="1159"/>
                  </a:lnTo>
                  <a:lnTo>
                    <a:pt x="494" y="1148"/>
                  </a:lnTo>
                  <a:lnTo>
                    <a:pt x="454" y="1136"/>
                  </a:lnTo>
                  <a:lnTo>
                    <a:pt x="417" y="1122"/>
                  </a:lnTo>
                  <a:lnTo>
                    <a:pt x="376" y="1107"/>
                  </a:lnTo>
                  <a:lnTo>
                    <a:pt x="339" y="1091"/>
                  </a:lnTo>
                  <a:lnTo>
                    <a:pt x="302" y="1074"/>
                  </a:lnTo>
                  <a:lnTo>
                    <a:pt x="265" y="1055"/>
                  </a:lnTo>
                  <a:lnTo>
                    <a:pt x="229" y="1035"/>
                  </a:lnTo>
                  <a:lnTo>
                    <a:pt x="196" y="1016"/>
                  </a:lnTo>
                  <a:lnTo>
                    <a:pt x="163" y="994"/>
                  </a:lnTo>
                  <a:lnTo>
                    <a:pt x="132" y="973"/>
                  </a:lnTo>
                  <a:lnTo>
                    <a:pt x="102" y="950"/>
                  </a:lnTo>
                  <a:lnTo>
                    <a:pt x="87" y="936"/>
                  </a:lnTo>
                  <a:lnTo>
                    <a:pt x="71" y="921"/>
                  </a:lnTo>
                  <a:lnTo>
                    <a:pt x="71" y="915"/>
                  </a:lnTo>
                  <a:lnTo>
                    <a:pt x="56" y="865"/>
                  </a:lnTo>
                  <a:lnTo>
                    <a:pt x="42" y="816"/>
                  </a:lnTo>
                  <a:lnTo>
                    <a:pt x="31" y="766"/>
                  </a:lnTo>
                  <a:lnTo>
                    <a:pt x="21" y="715"/>
                  </a:lnTo>
                  <a:lnTo>
                    <a:pt x="13" y="665"/>
                  </a:lnTo>
                  <a:lnTo>
                    <a:pt x="7" y="613"/>
                  </a:lnTo>
                  <a:lnTo>
                    <a:pt x="4" y="562"/>
                  </a:lnTo>
                  <a:lnTo>
                    <a:pt x="0" y="512"/>
                  </a:lnTo>
                  <a:lnTo>
                    <a:pt x="0" y="459"/>
                  </a:lnTo>
                  <a:lnTo>
                    <a:pt x="2" y="409"/>
                  </a:lnTo>
                  <a:lnTo>
                    <a:pt x="6" y="357"/>
                  </a:lnTo>
                  <a:lnTo>
                    <a:pt x="7" y="304"/>
                  </a:lnTo>
                  <a:lnTo>
                    <a:pt x="15" y="256"/>
                  </a:lnTo>
                  <a:lnTo>
                    <a:pt x="23" y="203"/>
                  </a:lnTo>
                  <a:lnTo>
                    <a:pt x="31" y="155"/>
                  </a:lnTo>
                  <a:lnTo>
                    <a:pt x="42" y="103"/>
                  </a:lnTo>
                  <a:lnTo>
                    <a:pt x="56" y="54"/>
                  </a:lnTo>
                  <a:lnTo>
                    <a:pt x="64" y="23"/>
                  </a:lnTo>
                  <a:lnTo>
                    <a:pt x="71" y="2"/>
                  </a:lnTo>
                  <a:lnTo>
                    <a:pt x="77" y="2"/>
                  </a:lnTo>
                  <a:lnTo>
                    <a:pt x="120" y="0"/>
                  </a:lnTo>
                  <a:lnTo>
                    <a:pt x="163" y="0"/>
                  </a:lnTo>
                  <a:lnTo>
                    <a:pt x="207" y="0"/>
                  </a:lnTo>
                  <a:lnTo>
                    <a:pt x="252" y="0"/>
                  </a:lnTo>
                  <a:lnTo>
                    <a:pt x="294" y="4"/>
                  </a:lnTo>
                  <a:lnTo>
                    <a:pt x="341" y="8"/>
                  </a:lnTo>
                  <a:lnTo>
                    <a:pt x="382" y="12"/>
                  </a:lnTo>
                  <a:lnTo>
                    <a:pt x="426" y="17"/>
                  </a:lnTo>
                  <a:lnTo>
                    <a:pt x="467" y="25"/>
                  </a:lnTo>
                  <a:lnTo>
                    <a:pt x="510" y="33"/>
                  </a:lnTo>
                  <a:lnTo>
                    <a:pt x="552" y="46"/>
                  </a:lnTo>
                  <a:lnTo>
                    <a:pt x="593" y="58"/>
                  </a:lnTo>
                  <a:lnTo>
                    <a:pt x="634" y="70"/>
                  </a:lnTo>
                  <a:lnTo>
                    <a:pt x="673" y="83"/>
                  </a:lnTo>
                  <a:lnTo>
                    <a:pt x="711" y="99"/>
                  </a:lnTo>
                  <a:lnTo>
                    <a:pt x="750" y="116"/>
                  </a:lnTo>
                  <a:lnTo>
                    <a:pt x="789" y="132"/>
                  </a:lnTo>
                  <a:lnTo>
                    <a:pt x="824" y="149"/>
                  </a:lnTo>
                  <a:lnTo>
                    <a:pt x="857" y="167"/>
                  </a:lnTo>
                  <a:lnTo>
                    <a:pt x="892" y="188"/>
                  </a:lnTo>
                  <a:lnTo>
                    <a:pt x="925" y="209"/>
                  </a:lnTo>
                  <a:lnTo>
                    <a:pt x="956" y="231"/>
                  </a:lnTo>
                  <a:lnTo>
                    <a:pt x="989" y="254"/>
                  </a:lnTo>
                  <a:lnTo>
                    <a:pt x="1018" y="279"/>
                  </a:lnTo>
                  <a:lnTo>
                    <a:pt x="1028" y="28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167200" y="5416200"/>
              <a:ext cx="25920" cy="248400"/>
            </a:xfrm>
            <a:custGeom>
              <a:avLst/>
              <a:gdLst/>
              <a:ahLst/>
              <a:rect l="l" t="t" r="r" b="b"/>
              <a:pathLst>
                <a:path w="70" h="774">
                  <a:moveTo>
                    <a:pt x="70" y="774"/>
                  </a:moveTo>
                  <a:lnTo>
                    <a:pt x="60" y="731"/>
                  </a:lnTo>
                  <a:lnTo>
                    <a:pt x="52" y="686"/>
                  </a:lnTo>
                  <a:lnTo>
                    <a:pt x="45" y="642"/>
                  </a:lnTo>
                  <a:lnTo>
                    <a:pt x="37" y="595"/>
                  </a:lnTo>
                  <a:lnTo>
                    <a:pt x="33" y="549"/>
                  </a:lnTo>
                  <a:lnTo>
                    <a:pt x="31" y="502"/>
                  </a:lnTo>
                  <a:lnTo>
                    <a:pt x="27" y="456"/>
                  </a:lnTo>
                  <a:lnTo>
                    <a:pt x="25" y="411"/>
                  </a:lnTo>
                  <a:lnTo>
                    <a:pt x="25" y="365"/>
                  </a:lnTo>
                  <a:lnTo>
                    <a:pt x="25" y="318"/>
                  </a:lnTo>
                  <a:lnTo>
                    <a:pt x="29" y="274"/>
                  </a:lnTo>
                  <a:lnTo>
                    <a:pt x="33" y="229"/>
                  </a:lnTo>
                  <a:lnTo>
                    <a:pt x="37" y="182"/>
                  </a:lnTo>
                  <a:lnTo>
                    <a:pt x="45" y="136"/>
                  </a:lnTo>
                  <a:lnTo>
                    <a:pt x="52" y="91"/>
                  </a:lnTo>
                  <a:lnTo>
                    <a:pt x="58" y="47"/>
                  </a:lnTo>
                  <a:lnTo>
                    <a:pt x="70" y="0"/>
                  </a:lnTo>
                  <a:lnTo>
                    <a:pt x="45" y="0"/>
                  </a:lnTo>
                  <a:lnTo>
                    <a:pt x="35" y="47"/>
                  </a:lnTo>
                  <a:lnTo>
                    <a:pt x="25" y="91"/>
                  </a:lnTo>
                  <a:lnTo>
                    <a:pt x="17" y="136"/>
                  </a:lnTo>
                  <a:lnTo>
                    <a:pt x="12" y="182"/>
                  </a:lnTo>
                  <a:lnTo>
                    <a:pt x="6" y="229"/>
                  </a:lnTo>
                  <a:lnTo>
                    <a:pt x="4" y="274"/>
                  </a:lnTo>
                  <a:lnTo>
                    <a:pt x="2" y="318"/>
                  </a:lnTo>
                  <a:lnTo>
                    <a:pt x="0" y="365"/>
                  </a:lnTo>
                  <a:lnTo>
                    <a:pt x="0" y="411"/>
                  </a:lnTo>
                  <a:lnTo>
                    <a:pt x="2" y="456"/>
                  </a:lnTo>
                  <a:lnTo>
                    <a:pt x="4" y="502"/>
                  </a:lnTo>
                  <a:lnTo>
                    <a:pt x="8" y="549"/>
                  </a:lnTo>
                  <a:lnTo>
                    <a:pt x="14" y="595"/>
                  </a:lnTo>
                  <a:lnTo>
                    <a:pt x="19" y="642"/>
                  </a:lnTo>
                  <a:lnTo>
                    <a:pt x="25" y="686"/>
                  </a:lnTo>
                  <a:lnTo>
                    <a:pt x="35" y="731"/>
                  </a:lnTo>
                  <a:lnTo>
                    <a:pt x="45" y="774"/>
                  </a:lnTo>
                  <a:lnTo>
                    <a:pt x="70" y="774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4" name=""/>
          <p:cNvGrpSpPr/>
          <p:nvPr/>
        </p:nvGrpSpPr>
        <p:grpSpPr>
          <a:xfrm>
            <a:off x="5334120" y="5257800"/>
            <a:ext cx="533160" cy="909720"/>
            <a:chOff x="5334120" y="5257800"/>
            <a:chExt cx="533160" cy="909720"/>
          </a:xfrm>
        </p:grpSpPr>
        <p:sp>
          <p:nvSpPr>
            <p:cNvPr id="2145" name=""/>
            <p:cNvSpPr/>
            <p:nvPr/>
          </p:nvSpPr>
          <p:spPr>
            <a:xfrm>
              <a:off x="5334120" y="6054480"/>
              <a:ext cx="533160" cy="113040"/>
            </a:xfrm>
            <a:custGeom>
              <a:avLst/>
              <a:gdLst/>
              <a:ahLst/>
              <a:rect l="l" t="t" r="r" b="b"/>
              <a:pathLst>
                <a:path w="1530" h="487">
                  <a:moveTo>
                    <a:pt x="0" y="487"/>
                  </a:moveTo>
                  <a:lnTo>
                    <a:pt x="58" y="112"/>
                  </a:lnTo>
                  <a:lnTo>
                    <a:pt x="182" y="0"/>
                  </a:lnTo>
                  <a:lnTo>
                    <a:pt x="1305" y="35"/>
                  </a:lnTo>
                  <a:lnTo>
                    <a:pt x="1441" y="101"/>
                  </a:lnTo>
                  <a:lnTo>
                    <a:pt x="1530" y="487"/>
                  </a:lnTo>
                  <a:lnTo>
                    <a:pt x="1361" y="396"/>
                  </a:lnTo>
                  <a:lnTo>
                    <a:pt x="159" y="396"/>
                  </a:lnTo>
                  <a:lnTo>
                    <a:pt x="0" y="487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334120" y="6117480"/>
              <a:ext cx="533160" cy="50040"/>
            </a:xfrm>
            <a:custGeom>
              <a:avLst/>
              <a:gdLst/>
              <a:ahLst/>
              <a:rect l="l" t="t" r="r" b="b"/>
              <a:pathLst>
                <a:path w="1530" h="216">
                  <a:moveTo>
                    <a:pt x="0" y="216"/>
                  </a:moveTo>
                  <a:lnTo>
                    <a:pt x="1530" y="216"/>
                  </a:lnTo>
                  <a:lnTo>
                    <a:pt x="1338" y="0"/>
                  </a:lnTo>
                  <a:lnTo>
                    <a:pt x="170" y="0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393160" y="5257800"/>
              <a:ext cx="82800" cy="854280"/>
            </a:xfrm>
            <a:custGeom>
              <a:avLst/>
              <a:gdLst/>
              <a:ahLst/>
              <a:rect l="l" t="t" r="r" b="b"/>
              <a:pathLst>
                <a:path w="239" h="3670">
                  <a:moveTo>
                    <a:pt x="0" y="3659"/>
                  </a:moveTo>
                  <a:lnTo>
                    <a:pt x="24" y="3670"/>
                  </a:lnTo>
                  <a:lnTo>
                    <a:pt x="239" y="3670"/>
                  </a:lnTo>
                  <a:lnTo>
                    <a:pt x="239" y="0"/>
                  </a:lnTo>
                  <a:lnTo>
                    <a:pt x="24" y="0"/>
                  </a:lnTo>
                  <a:lnTo>
                    <a:pt x="0" y="35"/>
                  </a:lnTo>
                  <a:lnTo>
                    <a:pt x="0" y="36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744520" y="5257800"/>
              <a:ext cx="51480" cy="854280"/>
            </a:xfrm>
            <a:custGeom>
              <a:avLst/>
              <a:gdLst/>
              <a:ahLst/>
              <a:rect l="l" t="t" r="r" b="b"/>
              <a:pathLst>
                <a:path w="147" h="3670">
                  <a:moveTo>
                    <a:pt x="0" y="3670"/>
                  </a:moveTo>
                  <a:lnTo>
                    <a:pt x="126" y="3670"/>
                  </a:lnTo>
                  <a:lnTo>
                    <a:pt x="147" y="3647"/>
                  </a:lnTo>
                  <a:lnTo>
                    <a:pt x="147" y="35"/>
                  </a:lnTo>
                  <a:lnTo>
                    <a:pt x="126" y="0"/>
                  </a:lnTo>
                  <a:lnTo>
                    <a:pt x="0" y="0"/>
                  </a:lnTo>
                  <a:lnTo>
                    <a:pt x="0" y="367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401440" y="5257800"/>
              <a:ext cx="387000" cy="85428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412600" y="5257800"/>
              <a:ext cx="359640" cy="518040"/>
            </a:xfrm>
            <a:custGeom>
              <a:avLst/>
              <a:gdLst/>
              <a:ahLst/>
              <a:rect l="l" t="t" r="r" b="b"/>
              <a:pathLst>
                <a:path w="1031" h="2226">
                  <a:moveTo>
                    <a:pt x="0" y="0"/>
                  </a:moveTo>
                  <a:lnTo>
                    <a:pt x="0" y="2179"/>
                  </a:lnTo>
                  <a:lnTo>
                    <a:pt x="58" y="2226"/>
                  </a:lnTo>
                  <a:lnTo>
                    <a:pt x="182" y="2226"/>
                  </a:lnTo>
                  <a:lnTo>
                    <a:pt x="182" y="2102"/>
                  </a:lnTo>
                  <a:lnTo>
                    <a:pt x="215" y="2055"/>
                  </a:lnTo>
                  <a:lnTo>
                    <a:pt x="828" y="2055"/>
                  </a:lnTo>
                  <a:lnTo>
                    <a:pt x="872" y="2102"/>
                  </a:lnTo>
                  <a:lnTo>
                    <a:pt x="872" y="2226"/>
                  </a:lnTo>
                  <a:lnTo>
                    <a:pt x="998" y="2226"/>
                  </a:lnTo>
                  <a:lnTo>
                    <a:pt x="1031" y="2191"/>
                  </a:lnTo>
                  <a:lnTo>
                    <a:pt x="103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717520" y="5783760"/>
              <a:ext cx="360" cy="328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475960" y="5783760"/>
              <a:ext cx="720" cy="328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512320" y="5744160"/>
              <a:ext cx="7560" cy="362520"/>
            </a:xfrm>
            <a:custGeom>
              <a:avLst/>
              <a:gdLst/>
              <a:ahLst/>
              <a:rect l="l" t="t" r="r" b="b"/>
              <a:pathLst>
                <a:path w="21" h="1557">
                  <a:moveTo>
                    <a:pt x="0" y="1557"/>
                  </a:move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527800" y="5744160"/>
              <a:ext cx="7560" cy="36252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542920" y="5744160"/>
              <a:ext cx="8280" cy="36252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559840" y="5744160"/>
              <a:ext cx="6840" cy="36252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574960" y="5744160"/>
              <a:ext cx="8280" cy="36252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591160" y="5744160"/>
              <a:ext cx="7560" cy="362520"/>
            </a:xfrm>
            <a:custGeom>
              <a:avLst/>
              <a:gdLst/>
              <a:ahLst/>
              <a:rect l="l" t="t" r="r" b="b"/>
              <a:pathLst>
                <a:path w="21" h="1557">
                  <a:moveTo>
                    <a:pt x="0" y="1557"/>
                  </a:move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607360" y="5744160"/>
              <a:ext cx="6840" cy="36252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622480" y="5744160"/>
              <a:ext cx="8280" cy="36252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638680" y="5744160"/>
              <a:ext cx="7560" cy="36252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654160" y="5744160"/>
              <a:ext cx="8280" cy="36252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670000" y="5744160"/>
              <a:ext cx="7560" cy="36252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V="1">
              <a:off x="5685840" y="5743800"/>
              <a:ext cx="720" cy="36252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429520" y="5646960"/>
              <a:ext cx="323280" cy="63000"/>
            </a:xfrm>
            <a:custGeom>
              <a:avLst/>
              <a:gdLst/>
              <a:ahLst/>
              <a:rect l="l" t="t" r="r" b="b"/>
              <a:pathLst>
                <a:path w="929" h="272">
                  <a:moveTo>
                    <a:pt x="929" y="0"/>
                  </a:moveTo>
                  <a:lnTo>
                    <a:pt x="0" y="0"/>
                  </a:lnTo>
                  <a:lnTo>
                    <a:pt x="0" y="272"/>
                  </a:lnTo>
                  <a:lnTo>
                    <a:pt x="80" y="272"/>
                  </a:lnTo>
                  <a:lnTo>
                    <a:pt x="80" y="47"/>
                  </a:lnTo>
                  <a:lnTo>
                    <a:pt x="873" y="23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429520" y="5704560"/>
              <a:ext cx="323280" cy="5400"/>
            </a:xfrm>
            <a:custGeom>
              <a:avLst/>
              <a:gdLst/>
              <a:ahLst/>
              <a:rect l="l" t="t" r="r" b="b"/>
              <a:pathLst>
                <a:path w="929" h="24">
                  <a:moveTo>
                    <a:pt x="873" y="0"/>
                  </a:moveTo>
                  <a:lnTo>
                    <a:pt x="80" y="0"/>
                  </a:lnTo>
                  <a:lnTo>
                    <a:pt x="0" y="24"/>
                  </a:lnTo>
                  <a:lnTo>
                    <a:pt x="929" y="24"/>
                  </a:lnTo>
                  <a:lnTo>
                    <a:pt x="873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453280" y="5655240"/>
              <a:ext cx="284400" cy="468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662440" y="5659920"/>
              <a:ext cx="58320" cy="342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677560" y="5668200"/>
              <a:ext cx="31680" cy="2052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91" y="45"/>
                  </a:moveTo>
                  <a:lnTo>
                    <a:pt x="89" y="35"/>
                  </a:lnTo>
                  <a:lnTo>
                    <a:pt x="87" y="27"/>
                  </a:lnTo>
                  <a:lnTo>
                    <a:pt x="83" y="20"/>
                  </a:lnTo>
                  <a:lnTo>
                    <a:pt x="76" y="12"/>
                  </a:lnTo>
                  <a:lnTo>
                    <a:pt x="70" y="6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3" y="6"/>
                  </a:lnTo>
                  <a:lnTo>
                    <a:pt x="15" y="12"/>
                  </a:lnTo>
                  <a:lnTo>
                    <a:pt x="10" y="18"/>
                  </a:lnTo>
                  <a:lnTo>
                    <a:pt x="6" y="26"/>
                  </a:lnTo>
                  <a:lnTo>
                    <a:pt x="2" y="35"/>
                  </a:lnTo>
                  <a:lnTo>
                    <a:pt x="0" y="45"/>
                  </a:lnTo>
                  <a:lnTo>
                    <a:pt x="2" y="55"/>
                  </a:lnTo>
                  <a:lnTo>
                    <a:pt x="4" y="62"/>
                  </a:lnTo>
                  <a:lnTo>
                    <a:pt x="10" y="72"/>
                  </a:lnTo>
                  <a:lnTo>
                    <a:pt x="15" y="78"/>
                  </a:lnTo>
                  <a:lnTo>
                    <a:pt x="23" y="84"/>
                  </a:lnTo>
                  <a:lnTo>
                    <a:pt x="31" y="88"/>
                  </a:lnTo>
                  <a:lnTo>
                    <a:pt x="41" y="89"/>
                  </a:lnTo>
                  <a:lnTo>
                    <a:pt x="50" y="89"/>
                  </a:lnTo>
                  <a:lnTo>
                    <a:pt x="58" y="88"/>
                  </a:lnTo>
                  <a:lnTo>
                    <a:pt x="68" y="86"/>
                  </a:lnTo>
                  <a:lnTo>
                    <a:pt x="76" y="80"/>
                  </a:lnTo>
                  <a:lnTo>
                    <a:pt x="81" y="72"/>
                  </a:lnTo>
                  <a:lnTo>
                    <a:pt x="87" y="64"/>
                  </a:lnTo>
                  <a:lnTo>
                    <a:pt x="89" y="55"/>
                  </a:lnTo>
                  <a:lnTo>
                    <a:pt x="91" y="47"/>
                  </a:lnTo>
                  <a:lnTo>
                    <a:pt x="91" y="45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583600" y="5672880"/>
              <a:ext cx="31320" cy="2124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92" y="46"/>
                  </a:moveTo>
                  <a:lnTo>
                    <a:pt x="90" y="36"/>
                  </a:lnTo>
                  <a:lnTo>
                    <a:pt x="88" y="27"/>
                  </a:lnTo>
                  <a:lnTo>
                    <a:pt x="84" y="19"/>
                  </a:lnTo>
                  <a:lnTo>
                    <a:pt x="76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2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4" y="5"/>
                  </a:lnTo>
                  <a:lnTo>
                    <a:pt x="16" y="11"/>
                  </a:lnTo>
                  <a:lnTo>
                    <a:pt x="10" y="19"/>
                  </a:lnTo>
                  <a:lnTo>
                    <a:pt x="6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4"/>
                  </a:lnTo>
                  <a:lnTo>
                    <a:pt x="8" y="71"/>
                  </a:lnTo>
                  <a:lnTo>
                    <a:pt x="16" y="79"/>
                  </a:lnTo>
                  <a:lnTo>
                    <a:pt x="24" y="85"/>
                  </a:lnTo>
                  <a:lnTo>
                    <a:pt x="31" y="89"/>
                  </a:lnTo>
                  <a:lnTo>
                    <a:pt x="41" y="91"/>
                  </a:lnTo>
                  <a:lnTo>
                    <a:pt x="51" y="91"/>
                  </a:lnTo>
                  <a:lnTo>
                    <a:pt x="59" y="89"/>
                  </a:lnTo>
                  <a:lnTo>
                    <a:pt x="68" y="85"/>
                  </a:lnTo>
                  <a:lnTo>
                    <a:pt x="76" y="79"/>
                  </a:lnTo>
                  <a:lnTo>
                    <a:pt x="82" y="73"/>
                  </a:lnTo>
                  <a:lnTo>
                    <a:pt x="88" y="66"/>
                  </a:lnTo>
                  <a:lnTo>
                    <a:pt x="90" y="56"/>
                  </a:lnTo>
                  <a:lnTo>
                    <a:pt x="92" y="46"/>
                  </a:lnTo>
                  <a:lnTo>
                    <a:pt x="92" y="4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536800" y="5672880"/>
              <a:ext cx="30600" cy="2124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89" y="46"/>
                  </a:moveTo>
                  <a:lnTo>
                    <a:pt x="89" y="36"/>
                  </a:lnTo>
                  <a:lnTo>
                    <a:pt x="85" y="27"/>
                  </a:lnTo>
                  <a:lnTo>
                    <a:pt x="81" y="19"/>
                  </a:lnTo>
                  <a:lnTo>
                    <a:pt x="75" y="11"/>
                  </a:lnTo>
                  <a:lnTo>
                    <a:pt x="67" y="5"/>
                  </a:lnTo>
                  <a:lnTo>
                    <a:pt x="58" y="2"/>
                  </a:lnTo>
                  <a:lnTo>
                    <a:pt x="50" y="2"/>
                  </a:lnTo>
                  <a:lnTo>
                    <a:pt x="40" y="0"/>
                  </a:lnTo>
                  <a:lnTo>
                    <a:pt x="31" y="2"/>
                  </a:lnTo>
                  <a:lnTo>
                    <a:pt x="21" y="5"/>
                  </a:lnTo>
                  <a:lnTo>
                    <a:pt x="15" y="11"/>
                  </a:lnTo>
                  <a:lnTo>
                    <a:pt x="7" y="19"/>
                  </a:lnTo>
                  <a:lnTo>
                    <a:pt x="3" y="27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3" y="64"/>
                  </a:lnTo>
                  <a:lnTo>
                    <a:pt x="7" y="71"/>
                  </a:lnTo>
                  <a:lnTo>
                    <a:pt x="13" y="79"/>
                  </a:lnTo>
                  <a:lnTo>
                    <a:pt x="21" y="85"/>
                  </a:lnTo>
                  <a:lnTo>
                    <a:pt x="31" y="89"/>
                  </a:lnTo>
                  <a:lnTo>
                    <a:pt x="38" y="91"/>
                  </a:lnTo>
                  <a:lnTo>
                    <a:pt x="48" y="91"/>
                  </a:lnTo>
                  <a:lnTo>
                    <a:pt x="58" y="89"/>
                  </a:lnTo>
                  <a:lnTo>
                    <a:pt x="65" y="85"/>
                  </a:lnTo>
                  <a:lnTo>
                    <a:pt x="73" y="79"/>
                  </a:lnTo>
                  <a:lnTo>
                    <a:pt x="81" y="73"/>
                  </a:lnTo>
                  <a:lnTo>
                    <a:pt x="85" y="66"/>
                  </a:lnTo>
                  <a:lnTo>
                    <a:pt x="89" y="56"/>
                  </a:lnTo>
                  <a:lnTo>
                    <a:pt x="89" y="46"/>
                  </a:lnTo>
                  <a:lnTo>
                    <a:pt x="89" y="4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456520" y="5586120"/>
              <a:ext cx="55440" cy="370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456520" y="5586120"/>
              <a:ext cx="55440" cy="3708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59" y="0"/>
                  </a:moveTo>
                  <a:lnTo>
                    <a:pt x="0" y="0"/>
                  </a:lnTo>
                  <a:lnTo>
                    <a:pt x="0" y="1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425200" y="5271120"/>
              <a:ext cx="335880" cy="28368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5425200" y="5271120"/>
              <a:ext cx="720" cy="283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>
              <a:off x="5424840" y="5520960"/>
              <a:ext cx="33588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H="1">
              <a:off x="5424840" y="5460480"/>
              <a:ext cx="33588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425200" y="5281200"/>
              <a:ext cx="335880" cy="10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761440" y="5271120"/>
              <a:ext cx="360" cy="283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H="1">
              <a:off x="5424840" y="5271120"/>
              <a:ext cx="335880" cy="36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425200" y="5292000"/>
              <a:ext cx="335880" cy="1101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475960" y="5412960"/>
              <a:ext cx="229320" cy="360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496480" y="5292000"/>
              <a:ext cx="181080" cy="288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492160" y="5347080"/>
              <a:ext cx="126000" cy="44640"/>
            </a:xfrm>
            <a:custGeom>
              <a:avLst/>
              <a:gdLst/>
              <a:ahLst/>
              <a:rect l="l" t="t" r="r" b="b"/>
              <a:pathLst>
                <a:path w="362" h="192">
                  <a:moveTo>
                    <a:pt x="362" y="0"/>
                  </a:moveTo>
                  <a:lnTo>
                    <a:pt x="0" y="0"/>
                  </a:lnTo>
                  <a:lnTo>
                    <a:pt x="0" y="19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492160" y="5347080"/>
              <a:ext cx="126000" cy="44640"/>
            </a:xfrm>
            <a:custGeom>
              <a:avLst/>
              <a:gdLst/>
              <a:ahLst/>
              <a:rect l="l" t="t" r="r" b="b"/>
              <a:pathLst>
                <a:path w="362" h="192">
                  <a:moveTo>
                    <a:pt x="0" y="192"/>
                  </a:moveTo>
                  <a:lnTo>
                    <a:pt x="362" y="192"/>
                  </a:lnTo>
                  <a:lnTo>
                    <a:pt x="362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436360" y="5360040"/>
              <a:ext cx="300960" cy="13320"/>
            </a:xfrm>
            <a:custGeom>
              <a:avLst/>
              <a:gdLst/>
              <a:ahLst/>
              <a:rect l="l" t="t" r="r" b="b"/>
              <a:pathLst>
                <a:path w="863" h="56">
                  <a:moveTo>
                    <a:pt x="0" y="56"/>
                  </a:moveTo>
                  <a:lnTo>
                    <a:pt x="159" y="56"/>
                  </a:lnTo>
                  <a:lnTo>
                    <a:pt x="159" y="46"/>
                  </a:lnTo>
                  <a:lnTo>
                    <a:pt x="521" y="46"/>
                  </a:lnTo>
                  <a:lnTo>
                    <a:pt x="521" y="56"/>
                  </a:lnTo>
                  <a:lnTo>
                    <a:pt x="863" y="56"/>
                  </a:lnTo>
                  <a:lnTo>
                    <a:pt x="863" y="0"/>
                  </a:lnTo>
                  <a:lnTo>
                    <a:pt x="533" y="0"/>
                  </a:lnTo>
                  <a:lnTo>
                    <a:pt x="533" y="12"/>
                  </a:lnTo>
                  <a:lnTo>
                    <a:pt x="159" y="12"/>
                  </a:lnTo>
                  <a:lnTo>
                    <a:pt x="159" y="0"/>
                  </a:lnTo>
                  <a:lnTo>
                    <a:pt x="0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566680" y="5349600"/>
              <a:ext cx="16560" cy="39240"/>
            </a:xfrm>
            <a:custGeom>
              <a:avLst/>
              <a:gdLst/>
              <a:ahLst/>
              <a:rect l="l" t="t" r="r" b="b"/>
              <a:pathLst>
                <a:path w="46" h="169">
                  <a:moveTo>
                    <a:pt x="0" y="169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12"/>
                  </a:lnTo>
                  <a:lnTo>
                    <a:pt x="23" y="12"/>
                  </a:lnTo>
                  <a:lnTo>
                    <a:pt x="11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512320" y="5352480"/>
              <a:ext cx="50760" cy="5400"/>
            </a:xfrm>
            <a:custGeom>
              <a:avLst/>
              <a:gdLst/>
              <a:ahLst/>
              <a:rect l="l" t="t" r="r" b="b"/>
              <a:pathLst>
                <a:path w="145" h="23">
                  <a:moveTo>
                    <a:pt x="0" y="23"/>
                  </a:moveTo>
                  <a:lnTo>
                    <a:pt x="0" y="0"/>
                  </a:lnTo>
                  <a:lnTo>
                    <a:pt x="14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440680" y="5320800"/>
              <a:ext cx="23400" cy="129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425200" y="5341680"/>
              <a:ext cx="33588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492160" y="5420520"/>
              <a:ext cx="193680" cy="21240"/>
            </a:xfrm>
            <a:custGeom>
              <a:avLst/>
              <a:gdLst/>
              <a:ahLst/>
              <a:rect l="l" t="t" r="r" b="b"/>
              <a:pathLst>
                <a:path w="556" h="91">
                  <a:moveTo>
                    <a:pt x="0" y="0"/>
                  </a:moveTo>
                  <a:lnTo>
                    <a:pt x="0" y="35"/>
                  </a:lnTo>
                  <a:lnTo>
                    <a:pt x="170" y="35"/>
                  </a:lnTo>
                  <a:lnTo>
                    <a:pt x="170" y="91"/>
                  </a:lnTo>
                  <a:lnTo>
                    <a:pt x="397" y="91"/>
                  </a:lnTo>
                  <a:lnTo>
                    <a:pt x="397" y="35"/>
                  </a:lnTo>
                  <a:lnTo>
                    <a:pt x="556" y="35"/>
                  </a:lnTo>
                  <a:lnTo>
                    <a:pt x="55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551200" y="5418720"/>
              <a:ext cx="7920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H="1">
              <a:off x="5523120" y="5436360"/>
              <a:ext cx="828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658120" y="5433480"/>
              <a:ext cx="27720" cy="8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694480" y="5347080"/>
              <a:ext cx="6840" cy="7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2" y="17"/>
                  </a:moveTo>
                  <a:lnTo>
                    <a:pt x="22" y="9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6" y="31"/>
                  </a:lnTo>
                  <a:lnTo>
                    <a:pt x="10" y="33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2" y="23"/>
                  </a:lnTo>
                  <a:lnTo>
                    <a:pt x="22" y="17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96" name=""/>
          <p:cNvCxnSpPr>
            <a:stCxn id="2134" idx="0"/>
            <a:endCxn id="2172" idx="2"/>
          </p:cNvCxnSpPr>
          <p:nvPr/>
        </p:nvCxnSpPr>
        <p:spPr>
          <a:xfrm>
            <a:off x="2797200" y="5605560"/>
            <a:ext cx="2688480" cy="18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7" name=""/>
          <p:cNvSpPr/>
          <p:nvPr/>
        </p:nvSpPr>
        <p:spPr>
          <a:xfrm>
            <a:off x="4186080" y="5257800"/>
            <a:ext cx="457200" cy="609480"/>
          </a:xfrm>
          <a:prstGeom prst="foldedCorner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3851280" y="5257800"/>
            <a:ext cx="457200" cy="609480"/>
          </a:xfrm>
          <a:prstGeom prst="foldedCorner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3564000" y="5257800"/>
            <a:ext cx="457200" cy="609480"/>
          </a:xfrm>
          <a:prstGeom prst="foldedCorner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276720" y="5257800"/>
            <a:ext cx="457200" cy="609480"/>
          </a:xfrm>
          <a:prstGeom prst="foldedCorner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2987640" y="5257800"/>
            <a:ext cx="457200" cy="609480"/>
          </a:xfrm>
          <a:prstGeom prst="foldedCorner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5" dur="indefinite" restart="never" nodeType="tmRoot">
          <p:childTnLst>
            <p:seq>
              <p:cTn id="2786" dur="indefinite" nodeType="mainSeq">
                <p:childTnLst>
                  <p:par>
                    <p:cTn id="2787" fill="hold">
                      <p:stCondLst>
                        <p:cond delay="indefinite"/>
                      </p:stCondLst>
                      <p:childTnLst>
                        <p:par>
                          <p:cTn id="2788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1" dur="500"/>
                                        <p:tgtEl>
                                          <p:spTgt spid="2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2" fill="hold">
                      <p:stCondLst>
                        <p:cond delay="indefinite"/>
                      </p:stCondLst>
                      <p:childTnLst>
                        <p:par>
                          <p:cTn id="2793" fill="hold">
                            <p:stCondLst>
                              <p:cond delay="0"/>
                            </p:stCondLst>
                            <p:childTnLst>
                              <p:par>
                                <p:cTn id="27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6" dur="500"/>
                                        <p:tgtEl>
                                          <p:spTgt spid="2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9" dur="500"/>
                                        <p:tgtEl>
                                          <p:spTgt spid="2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2" dur="500"/>
                                        <p:tgtEl>
                                          <p:spTgt spid="2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7" dur="500"/>
                                        <p:tgtEl>
                                          <p:spTgt spid="2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0" dur="500"/>
                                        <p:tgtEl>
                                          <p:spTgt spid="20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5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6" fill="hold">
                            <p:stCondLst>
                              <p:cond delay="500"/>
                            </p:stCondLst>
                            <p:childTnLst>
                              <p:par>
                                <p:cTn id="28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9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3" dur="500"/>
                                        <p:tgtEl>
                                          <p:spTgt spid="2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8" fill="hold">
                            <p:stCondLst>
                              <p:cond delay="0"/>
                            </p:stCondLst>
                            <p:childTnLst>
                              <p:par>
                                <p:cTn id="28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75 0.00394 L 0.11163 0.00394 E">
                                      <p:cBhvr>
                                        <p:cTn id="2830" dur="2000" fill="hold"/>
                                        <p:tgtEl>
                                          <p:spTgt spid="2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087 0.00394 L 0.14045 0.00394 E">
                                      <p:cBhvr>
                                        <p:cTn id="2836" dur="2000" fill="hold"/>
                                        <p:tgtEl>
                                          <p:spTgt spid="2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945 0.00394 L 0.17187 0.00394 E">
                                      <p:cBhvr>
                                        <p:cTn id="2842" dur="1000" fill="hold"/>
                                        <p:tgtEl>
                                          <p:spTgt spid="2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02 0.00394 L 0.2033 0.00394 E">
                                      <p:cBhvr>
                                        <p:cTn id="2848" dur="500" fill="hold"/>
                                        <p:tgtEl>
                                          <p:spTgt spid="2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9" fill="hold">
                            <p:stCondLst>
                              <p:cond delay="5500"/>
                            </p:stCondLst>
                            <p:childTnLst>
                              <p:par>
                                <p:cTn id="28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8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43 0.00394 L 0.23489 0.00394 E">
                                      <p:cBhvr>
                                        <p:cTn id="2854" dur="500" fill="hold"/>
                                        <p:tgtEl>
                                          <p:spTgt spid="2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ctive Misuse </a:t>
            </a: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alami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"/>
          <p:cNvSpPr/>
          <p:nvPr/>
        </p:nvSpPr>
        <p:spPr>
          <a:xfrm>
            <a:off x="1066680" y="3886200"/>
            <a:ext cx="18288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oun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6172200" y="3886200"/>
            <a:ext cx="18288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oun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733920" y="5410080"/>
            <a:ext cx="18288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oun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7" name=""/>
          <p:cNvCxnSpPr>
            <a:stCxn id="2204" idx="3"/>
            <a:endCxn id="2205" idx="1"/>
          </p:cNvCxnSpPr>
          <p:nvPr/>
        </p:nvCxnSpPr>
        <p:spPr>
          <a:xfrm>
            <a:off x="2895480" y="4114440"/>
            <a:ext cx="327744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8" name=""/>
          <p:cNvSpPr/>
          <p:nvPr/>
        </p:nvSpPr>
        <p:spPr>
          <a:xfrm>
            <a:off x="3860640" y="370260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$234.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4851360" y="444852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$234.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895480" y="4191120"/>
            <a:ext cx="3276720" cy="393480"/>
          </a:xfrm>
          <a:custGeom>
            <a:avLst/>
            <a:gdLst/>
            <a:ahLst/>
            <a:rect l="l" t="t" r="r" b="b"/>
            <a:pathLst>
              <a:path w="2064" h="248">
                <a:moveTo>
                  <a:pt x="0" y="0"/>
                </a:moveTo>
                <a:cubicBezTo>
                  <a:pt x="308" y="116"/>
                  <a:pt x="616" y="232"/>
                  <a:pt x="960" y="240"/>
                </a:cubicBezTo>
                <a:cubicBezTo>
                  <a:pt x="1304" y="248"/>
                  <a:pt x="1684" y="148"/>
                  <a:pt x="2064" y="48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4114800" y="4572000"/>
            <a:ext cx="533520" cy="8380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96" y="28"/>
                  <a:pt x="192" y="56"/>
                  <a:pt x="240" y="96"/>
                </a:cubicBezTo>
                <a:cubicBezTo>
                  <a:pt x="288" y="136"/>
                  <a:pt x="288" y="188"/>
                  <a:pt x="288" y="240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2489040" y="437256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$234.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3607200" y="475344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$0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 txBox="1"/>
          <p:nvPr/>
        </p:nvSpPr>
        <p:spPr>
          <a:xfrm>
            <a:off x="5867280" y="4572000"/>
            <a:ext cx="2210040" cy="808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8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 10.000.0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215" name=""/>
          <p:cNvSpPr/>
          <p:nvPr/>
        </p:nvSpPr>
        <p:spPr>
          <a:xfrm>
            <a:off x="4191120" y="3200400"/>
            <a:ext cx="1143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4267080" y="3124080"/>
            <a:ext cx="1143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3048120"/>
            <a:ext cx="114300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343400" y="2971800"/>
            <a:ext cx="1143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267080" y="2895480"/>
            <a:ext cx="1143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343400" y="2819520"/>
            <a:ext cx="114300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267080" y="2743200"/>
            <a:ext cx="1143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4114800" y="2666880"/>
            <a:ext cx="1143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4343400" y="2590920"/>
            <a:ext cx="114300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rot="20496600">
            <a:off x="3995280" y="3860280"/>
            <a:ext cx="1081080" cy="217800"/>
          </a:xfrm>
          <a:prstGeom prst="rect">
            <a:avLst/>
          </a:prstGeom>
          <a:solidFill>
            <a:srgbClr val="fc0128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5" dur="indefinite" restart="never" nodeType="tmRoot">
          <p:childTnLst>
            <p:seq>
              <p:cTn id="2856" dur="indefinite" nodeType="mainSeq">
                <p:childTnLst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1" dur="500"/>
                                        <p:tgtEl>
                                          <p:spTgt spid="2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4" dur="500"/>
                                        <p:tgtEl>
                                          <p:spTgt spid="2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9" dur="500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0" dur="500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1" fill="hold">
                            <p:stCondLst>
                              <p:cond delay="500"/>
                            </p:stCondLst>
                            <p:childTnLst>
                              <p:par>
                                <p:cTn id="28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4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5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0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9" dur="500" fill="hold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4" dur="500" fill="hold"/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5" dur="500" fill="hold"/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9" dur="500" fill="hold"/>
                                        <p:tgtEl>
                                          <p:spTgt spid="2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0" dur="500" fill="hold"/>
                                        <p:tgtEl>
                                          <p:spTgt spid="2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9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9" dur="500" fill="hold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0" dur="500" fill="hold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1" fill="hold">
                      <p:stCondLst>
                        <p:cond delay="indefinite"/>
                      </p:stCondLst>
                      <p:childTnLst>
                        <p:par>
                          <p:cTn id="2912" fill="hold">
                            <p:stCondLst>
                              <p:cond delay="0"/>
                            </p:stCondLst>
                            <p:childTnLst>
                              <p:par>
                                <p:cTn id="2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5" dur="5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6" fill="hold">
                            <p:stCondLst>
                              <p:cond delay="500"/>
                            </p:stCondLst>
                            <p:childTnLst>
                              <p:par>
                                <p:cTn id="2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9" dur="500"/>
                                        <p:tgtEl>
                                          <p:spTgt spid="2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2" dur="5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6" dur="500"/>
                                        <p:tgtEl>
                                          <p:spTgt spid="2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1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fill="hold">
                      <p:stCondLst>
                        <p:cond delay="indefinite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6" dur="5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7" dur="5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0" dur="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1" fill="hold">
                      <p:stCondLst>
                        <p:cond delay="indefinite"/>
                      </p:stCondLst>
                      <p:childTnLst>
                        <p:par>
                          <p:cTn id="2942" fill="hold">
                            <p:stCondLst>
                              <p:cond delay="0"/>
                            </p:stCondLst>
                            <p:childTnLst>
                              <p:par>
                                <p:cTn id="2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5" dur="5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8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3" dur="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56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1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2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3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4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assive Mis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andom browsing, Selective sear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eduction of information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(databases, traffic analysis, 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"/>
          <p:cNvSpPr/>
          <p:nvPr/>
        </p:nvSpPr>
        <p:spPr>
          <a:xfrm>
            <a:off x="1905120" y="4572000"/>
            <a:ext cx="2057400" cy="106668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181480" y="4495680"/>
            <a:ext cx="2057400" cy="106704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7086600" y="4419720"/>
            <a:ext cx="762120" cy="685800"/>
          </a:xfrm>
          <a:prstGeom prst="ellipse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1828800" y="4191120"/>
            <a:ext cx="762120" cy="685800"/>
          </a:xfrm>
          <a:prstGeom prst="ellipse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447920" y="5334120"/>
            <a:ext cx="761760" cy="685800"/>
          </a:xfrm>
          <a:prstGeom prst="ellipse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2" name=""/>
          <p:cNvCxnSpPr>
            <a:stCxn id="2227" idx="3"/>
            <a:endCxn id="2228" idx="1"/>
          </p:cNvCxnSpPr>
          <p:nvPr/>
        </p:nvCxnSpPr>
        <p:spPr>
          <a:xfrm>
            <a:off x="3962520" y="4900680"/>
            <a:ext cx="1219680" cy="232560"/>
          </a:xfrm>
          <a:prstGeom prst="curvedConnector5">
            <a:avLst>
              <a:gd name="adj1" fmla="val 49985"/>
              <a:gd name="adj2" fmla="val 49922"/>
              <a:gd name="adj3" fmla="val 49985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2233" name=""/>
          <p:cNvSpPr/>
          <p:nvPr/>
        </p:nvSpPr>
        <p:spPr>
          <a:xfrm>
            <a:off x="3809880" y="4648320"/>
            <a:ext cx="381240" cy="15228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4343400" y="4724280"/>
            <a:ext cx="380880" cy="15264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4038480" y="5029200"/>
            <a:ext cx="381240" cy="15228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4876920" y="5257800"/>
            <a:ext cx="380880" cy="15228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7" name=""/>
          <p:cNvGrpSpPr/>
          <p:nvPr/>
        </p:nvGrpSpPr>
        <p:grpSpPr>
          <a:xfrm>
            <a:off x="4800600" y="3657600"/>
            <a:ext cx="2209680" cy="914400"/>
            <a:chOff x="4800600" y="3657600"/>
            <a:chExt cx="2209680" cy="914400"/>
          </a:xfrm>
        </p:grpSpPr>
        <p:sp>
          <p:nvSpPr>
            <p:cNvPr id="2238" name=""/>
            <p:cNvSpPr/>
            <p:nvPr/>
          </p:nvSpPr>
          <p:spPr>
            <a:xfrm>
              <a:off x="4800600" y="3657600"/>
              <a:ext cx="2209680" cy="914400"/>
            </a:xfrm>
            <a:prstGeom prst="wedgeRectCallout">
              <a:avLst>
                <a:gd name="adj1" fmla="val -57828"/>
                <a:gd name="adj2" fmla="val 75175"/>
              </a:avLst>
            </a:prstGeom>
            <a:solidFill>
              <a:srgbClr val="eaec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9" name=""/>
            <p:cNvGrpSpPr/>
            <p:nvPr/>
          </p:nvGrpSpPr>
          <p:grpSpPr>
            <a:xfrm>
              <a:off x="4876920" y="3719520"/>
              <a:ext cx="2057400" cy="792000"/>
              <a:chOff x="4876920" y="3719520"/>
              <a:chExt cx="2057400" cy="792000"/>
            </a:xfrm>
          </p:grpSpPr>
          <p:sp>
            <p:nvSpPr>
              <p:cNvPr id="2240" name=""/>
              <p:cNvSpPr/>
              <p:nvPr/>
            </p:nvSpPr>
            <p:spPr>
              <a:xfrm>
                <a:off x="4876920" y="3719520"/>
                <a:ext cx="2057400" cy="792000"/>
              </a:xfrm>
              <a:prstGeom prst="foldedCorner">
                <a:avLst>
                  <a:gd name="adj" fmla="val 12500"/>
                </a:avLst>
              </a:prstGeom>
              <a:solidFill>
                <a:srgbClr val="cece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To: </a:t>
                </a: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br>
                  <a:rPr sz="2000"/>
                </a:b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From: </a:t>
                </a: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4953240" y="3763800"/>
                <a:ext cx="838080" cy="7185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Ms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42" name=""/>
          <p:cNvGrpSpPr/>
          <p:nvPr/>
        </p:nvGrpSpPr>
        <p:grpSpPr>
          <a:xfrm>
            <a:off x="2514600" y="5257800"/>
            <a:ext cx="2209680" cy="914400"/>
            <a:chOff x="2514600" y="5257800"/>
            <a:chExt cx="2209680" cy="914400"/>
          </a:xfrm>
        </p:grpSpPr>
        <p:sp>
          <p:nvSpPr>
            <p:cNvPr id="2243" name=""/>
            <p:cNvSpPr/>
            <p:nvPr/>
          </p:nvSpPr>
          <p:spPr>
            <a:xfrm>
              <a:off x="2514600" y="5257800"/>
              <a:ext cx="2209680" cy="914400"/>
            </a:xfrm>
            <a:prstGeom prst="wedgeRectCallout">
              <a:avLst>
                <a:gd name="adj1" fmla="val 27800"/>
                <a:gd name="adj2" fmla="val -61111"/>
              </a:avLst>
            </a:prstGeom>
            <a:solidFill>
              <a:srgbClr val="eaec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4" name=""/>
            <p:cNvGrpSpPr/>
            <p:nvPr/>
          </p:nvGrpSpPr>
          <p:grpSpPr>
            <a:xfrm>
              <a:off x="2590920" y="5319720"/>
              <a:ext cx="2057400" cy="792000"/>
              <a:chOff x="2590920" y="5319720"/>
              <a:chExt cx="2057400" cy="792000"/>
            </a:xfrm>
          </p:grpSpPr>
          <p:sp>
            <p:nvSpPr>
              <p:cNvPr id="2245" name=""/>
              <p:cNvSpPr/>
              <p:nvPr/>
            </p:nvSpPr>
            <p:spPr>
              <a:xfrm>
                <a:off x="2590920" y="5319720"/>
                <a:ext cx="2057400" cy="792000"/>
              </a:xfrm>
              <a:prstGeom prst="foldedCorner">
                <a:avLst>
                  <a:gd name="adj" fmla="val 12500"/>
                </a:avLst>
              </a:prstGeom>
              <a:solidFill>
                <a:srgbClr val="cece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To: </a:t>
                </a: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br>
                  <a:rPr sz="2000"/>
                </a:b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From: </a:t>
                </a: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2667240" y="5364000"/>
                <a:ext cx="838080" cy="718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Ms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5" dur="indefinite" restart="never" nodeType="tmRoot">
          <p:childTnLst>
            <p:seq>
              <p:cTn id="2966" dur="indefinite" nodeType="mainSeq">
                <p:childTnLst>
                  <p:par>
                    <p:cTn id="2967" fill="hold">
                      <p:stCondLst>
                        <p:cond delay="indefinite"/>
                      </p:stCondLst>
                      <p:childTnLst>
                        <p:par>
                          <p:cTn id="2968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1" dur="500"/>
                                        <p:tgtEl>
                                          <p:spTgt spid="2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2" fill="hold">
                      <p:stCondLst>
                        <p:cond delay="indefinite"/>
                      </p:stCondLst>
                      <p:childTnLst>
                        <p:par>
                          <p:cTn id="2973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6" dur="500"/>
                                        <p:tgtEl>
                                          <p:spTgt spid="2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7" fill="hold">
                      <p:stCondLst>
                        <p:cond delay="indefinite"/>
                      </p:stCondLst>
                      <p:childTnLst>
                        <p:par>
                          <p:cTn id="2978" fill="hold">
                            <p:stCondLst>
                              <p:cond delay="0"/>
                            </p:stCondLst>
                            <p:childTnLst>
                              <p:par>
                                <p:cTn id="29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1" dur="500"/>
                                        <p:tgtEl>
                                          <p:spTgt spid="2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2" fill="hold">
                      <p:stCondLst>
                        <p:cond delay="indefinite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6" dur="5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7" dur="5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500"/>
                            </p:stCondLst>
                            <p:childTnLst>
                              <p:par>
                                <p:cTn id="29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91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5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9" dur="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3" dur="5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4" dur="5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08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12" dur="5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3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16" dur="500"/>
                                        <p:tgtEl>
                                          <p:spTgt spid="2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7" fill="hold">
                      <p:stCondLst>
                        <p:cond delay="indefinite"/>
                      </p:stCondLst>
                      <p:childTnLst>
                        <p:par>
                          <p:cTn id="3018" fill="hold">
                            <p:stCondLst>
                              <p:cond delay="0"/>
                            </p:stCondLst>
                            <p:childTnLst>
                              <p:par>
                                <p:cTn id="30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1" dur="5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2" fill="hold">
                            <p:stCondLst>
                              <p:cond delay="500"/>
                            </p:stCondLst>
                            <p:childTnLst>
                              <p:par>
                                <p:cTn id="302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25" dur="5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29" dur="500"/>
                                        <p:tgtEl>
                                          <p:spTgt spid="2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34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assive Misuse 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vert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eak information via unusual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9" name=""/>
          <p:cNvSpPr/>
          <p:nvPr/>
        </p:nvSpPr>
        <p:spPr>
          <a:xfrm>
            <a:off x="762120" y="3222720"/>
            <a:ext cx="1800000" cy="718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onfid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886200" y="3200400"/>
            <a:ext cx="1371600" cy="7621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6581880" y="3222720"/>
            <a:ext cx="1800000" cy="718920"/>
          </a:xfrm>
          <a:prstGeom prst="rect">
            <a:avLst/>
          </a:prstGeom>
          <a:solidFill>
            <a:srgbClr val="eae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2" name=""/>
          <p:cNvCxnSpPr>
            <a:stCxn id="2249" idx="3"/>
            <a:endCxn id="2250" idx="2"/>
          </p:cNvCxnSpPr>
          <p:nvPr/>
        </p:nvCxnSpPr>
        <p:spPr>
          <a:xfrm flipV="1">
            <a:off x="2562120" y="3580560"/>
            <a:ext cx="1324800" cy="2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3" name=""/>
          <p:cNvCxnSpPr>
            <a:stCxn id="2250" idx="6"/>
            <a:endCxn id="2251" idx="1"/>
          </p:cNvCxnSpPr>
          <p:nvPr/>
        </p:nvCxnSpPr>
        <p:spPr>
          <a:xfrm>
            <a:off x="5257800" y="3580920"/>
            <a:ext cx="1324800" cy="2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54" name=""/>
          <p:cNvGrpSpPr/>
          <p:nvPr/>
        </p:nvGrpSpPr>
        <p:grpSpPr>
          <a:xfrm>
            <a:off x="5486400" y="3336840"/>
            <a:ext cx="609120" cy="482400"/>
            <a:chOff x="5486400" y="3336840"/>
            <a:chExt cx="609120" cy="482400"/>
          </a:xfrm>
        </p:grpSpPr>
        <p:sp>
          <p:nvSpPr>
            <p:cNvPr id="2255" name=""/>
            <p:cNvSpPr/>
            <p:nvPr/>
          </p:nvSpPr>
          <p:spPr>
            <a:xfrm>
              <a:off x="5608080" y="3336840"/>
              <a:ext cx="487440" cy="430920"/>
            </a:xfrm>
            <a:custGeom>
              <a:avLst/>
              <a:gdLst/>
              <a:ahLst/>
              <a:rect l="l" t="t" r="r" b="b"/>
              <a:pathLst>
                <a:path w="384" h="400">
                  <a:moveTo>
                    <a:pt x="0" y="400"/>
                  </a:moveTo>
                  <a:cubicBezTo>
                    <a:pt x="40" y="264"/>
                    <a:pt x="80" y="128"/>
                    <a:pt x="144" y="64"/>
                  </a:cubicBezTo>
                  <a:cubicBezTo>
                    <a:pt x="208" y="0"/>
                    <a:pt x="344" y="24"/>
                    <a:pt x="384" y="16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5486400" y="3388320"/>
              <a:ext cx="487440" cy="430920"/>
            </a:xfrm>
            <a:custGeom>
              <a:avLst/>
              <a:gdLst/>
              <a:ahLst/>
              <a:rect l="l" t="t" r="r" b="b"/>
              <a:pathLst>
                <a:path w="384" h="400">
                  <a:moveTo>
                    <a:pt x="0" y="400"/>
                  </a:moveTo>
                  <a:cubicBezTo>
                    <a:pt x="40" y="264"/>
                    <a:pt x="80" y="128"/>
                    <a:pt x="144" y="64"/>
                  </a:cubicBezTo>
                  <a:cubicBezTo>
                    <a:pt x="208" y="0"/>
                    <a:pt x="344" y="24"/>
                    <a:pt x="384" y="16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7" name=""/>
          <p:cNvSpPr/>
          <p:nvPr/>
        </p:nvSpPr>
        <p:spPr>
          <a:xfrm>
            <a:off x="685800" y="41148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andatory Access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ariations in CPU-load (high = 1,   low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reation of File (present = 1, absent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5" dur="indefinite" restart="never" nodeType="tmRoot">
          <p:childTnLst>
            <p:seq>
              <p:cTn id="3036" dur="indefinite" nodeType="mainSeq">
                <p:childTnLst>
                  <p:par>
                    <p:cTn id="3037" fill="hold">
                      <p:stCondLst>
                        <p:cond delay="indefinite"/>
                      </p:stCondLst>
                      <p:childTnLst>
                        <p:par>
                          <p:cTn id="3038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1" dur="500"/>
                                        <p:tgtEl>
                                          <p:spTgt spid="2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4" dur="500"/>
                                        <p:tgtEl>
                                          <p:spTgt spid="2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7" dur="500"/>
                                        <p:tgtEl>
                                          <p:spTgt spid="2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8" fill="hold">
                      <p:stCondLst>
                        <p:cond delay="indefinite"/>
                      </p:stCondLst>
                      <p:childTnLst>
                        <p:par>
                          <p:cTn id="3049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2" dur="5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3" fill="hold">
                            <p:stCondLst>
                              <p:cond delay="500"/>
                            </p:stCondLst>
                            <p:childTnLst>
                              <p:par>
                                <p:cTn id="30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6" dur="500"/>
                                        <p:tgtEl>
                                          <p:spTgt spid="2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0" dur="500"/>
                                        <p:tgtEl>
                                          <p:spTgt spid="2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4" dur="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8" dur="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9" fill="hold">
                      <p:stCondLst>
                        <p:cond delay="indefinite"/>
                      </p:stCondLst>
                      <p:childTnLst>
                        <p:par>
                          <p:cTn id="3070" fill="hold">
                            <p:stCondLst>
                              <p:cond delay="0"/>
                            </p:stCondLst>
                            <p:childTnLst>
                              <p:par>
                                <p:cTn id="30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3" dur="500" fill="hold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4" dur="500" fill="hold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5" fill="hold">
                      <p:stCondLst>
                        <p:cond delay="indefinite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9" dur="500"/>
                                        <p:tgtEl>
                                          <p:spTgt spid="2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4" dur="500"/>
                                        <p:tgtEl>
                                          <p:spTgt spid="2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5" fill="hold">
                      <p:stCondLst>
                        <p:cond delay="indefinite"/>
                      </p:stCondLst>
                      <p:childTnLst>
                        <p:par>
                          <p:cTn id="3086" fill="hold">
                            <p:stCondLst>
                              <p:cond delay="0"/>
                            </p:stCondLst>
                            <p:childTnLst>
                              <p:par>
                                <p:cTn id="30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9" dur="500"/>
                                        <p:tgtEl>
                                          <p:spTgt spid="2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fill="hold">
                      <p:stCondLst>
                        <p:cond delay="indefinite"/>
                      </p:stCondLst>
                      <p:childTnLst>
                        <p:par>
                          <p:cTn id="3091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4" dur="500"/>
                                        <p:tgtEl>
                                          <p:spTgt spid="2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active Misuse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sider does not perform a ta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o/partial back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ccounts not removed/disab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iscarded media not er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Logs not check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9" name="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1263600" cy="2514600"/>
          </a:xfrm>
          <a:prstGeom prst="rect">
            <a:avLst/>
          </a:prstGeom>
          <a:ln w="0">
            <a:noFill/>
          </a:ln>
        </p:spPr>
      </p:pic>
      <p:sp>
        <p:nvSpPr>
          <p:cNvPr id="2260" name="PlaceHolder 2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1" name=""/>
          <p:cNvGrpSpPr/>
          <p:nvPr/>
        </p:nvGrpSpPr>
        <p:grpSpPr>
          <a:xfrm>
            <a:off x="6500880" y="4025880"/>
            <a:ext cx="762840" cy="1078920"/>
            <a:chOff x="6500880" y="4025880"/>
            <a:chExt cx="762840" cy="1078920"/>
          </a:xfrm>
        </p:grpSpPr>
        <p:sp>
          <p:nvSpPr>
            <p:cNvPr id="2262" name=""/>
            <p:cNvSpPr/>
            <p:nvPr/>
          </p:nvSpPr>
          <p:spPr>
            <a:xfrm>
              <a:off x="6500880" y="4025880"/>
              <a:ext cx="520920" cy="509400"/>
            </a:xfrm>
            <a:custGeom>
              <a:avLst/>
              <a:gdLst/>
              <a:ahLst/>
              <a:rect l="l" t="t" r="r" b="b"/>
              <a:pathLst>
                <a:path w="448" h="540">
                  <a:moveTo>
                    <a:pt x="0" y="290"/>
                  </a:moveTo>
                  <a:lnTo>
                    <a:pt x="26" y="158"/>
                  </a:lnTo>
                  <a:lnTo>
                    <a:pt x="105" y="66"/>
                  </a:lnTo>
                  <a:lnTo>
                    <a:pt x="190" y="13"/>
                  </a:lnTo>
                  <a:lnTo>
                    <a:pt x="296" y="0"/>
                  </a:lnTo>
                  <a:lnTo>
                    <a:pt x="401" y="73"/>
                  </a:lnTo>
                  <a:lnTo>
                    <a:pt x="448" y="145"/>
                  </a:lnTo>
                  <a:lnTo>
                    <a:pt x="448" y="197"/>
                  </a:lnTo>
                  <a:lnTo>
                    <a:pt x="420" y="231"/>
                  </a:lnTo>
                  <a:lnTo>
                    <a:pt x="296" y="263"/>
                  </a:lnTo>
                  <a:lnTo>
                    <a:pt x="257" y="270"/>
                  </a:lnTo>
                  <a:lnTo>
                    <a:pt x="283" y="375"/>
                  </a:lnTo>
                  <a:lnTo>
                    <a:pt x="375" y="415"/>
                  </a:lnTo>
                  <a:lnTo>
                    <a:pt x="414" y="480"/>
                  </a:lnTo>
                  <a:lnTo>
                    <a:pt x="368" y="533"/>
                  </a:lnTo>
                  <a:lnTo>
                    <a:pt x="184" y="540"/>
                  </a:lnTo>
                  <a:lnTo>
                    <a:pt x="98" y="474"/>
                  </a:lnTo>
                  <a:lnTo>
                    <a:pt x="26" y="356"/>
                  </a:lnTo>
                  <a:lnTo>
                    <a:pt x="13" y="257"/>
                  </a:lnTo>
                  <a:lnTo>
                    <a:pt x="13" y="237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3" name=""/>
            <p:cNvGrpSpPr/>
            <p:nvPr/>
          </p:nvGrpSpPr>
          <p:grpSpPr>
            <a:xfrm>
              <a:off x="6693840" y="4448880"/>
              <a:ext cx="569880" cy="655920"/>
              <a:chOff x="6693840" y="4448880"/>
              <a:chExt cx="569880" cy="655920"/>
            </a:xfrm>
          </p:grpSpPr>
          <p:sp>
            <p:nvSpPr>
              <p:cNvPr id="2264" name=""/>
              <p:cNvSpPr/>
              <p:nvPr/>
            </p:nvSpPr>
            <p:spPr>
              <a:xfrm>
                <a:off x="6889320" y="4448880"/>
                <a:ext cx="374400" cy="578880"/>
              </a:xfrm>
              <a:custGeom>
                <a:avLst/>
                <a:gdLst/>
                <a:ahLst/>
                <a:rect l="l" t="t" r="r" b="b"/>
                <a:pathLst>
                  <a:path w="323" h="616">
                    <a:moveTo>
                      <a:pt x="108" y="24"/>
                    </a:moveTo>
                    <a:lnTo>
                      <a:pt x="70" y="0"/>
                    </a:lnTo>
                    <a:lnTo>
                      <a:pt x="19" y="0"/>
                    </a:lnTo>
                    <a:lnTo>
                      <a:pt x="0" y="33"/>
                    </a:lnTo>
                    <a:lnTo>
                      <a:pt x="9" y="83"/>
                    </a:lnTo>
                    <a:lnTo>
                      <a:pt x="53" y="133"/>
                    </a:lnTo>
                    <a:lnTo>
                      <a:pt x="144" y="176"/>
                    </a:lnTo>
                    <a:lnTo>
                      <a:pt x="249" y="273"/>
                    </a:lnTo>
                    <a:lnTo>
                      <a:pt x="266" y="315"/>
                    </a:lnTo>
                    <a:lnTo>
                      <a:pt x="257" y="334"/>
                    </a:lnTo>
                    <a:lnTo>
                      <a:pt x="177" y="397"/>
                    </a:lnTo>
                    <a:lnTo>
                      <a:pt x="83" y="472"/>
                    </a:lnTo>
                    <a:lnTo>
                      <a:pt x="61" y="505"/>
                    </a:lnTo>
                    <a:lnTo>
                      <a:pt x="61" y="538"/>
                    </a:lnTo>
                    <a:lnTo>
                      <a:pt x="133" y="574"/>
                    </a:lnTo>
                    <a:lnTo>
                      <a:pt x="243" y="616"/>
                    </a:lnTo>
                    <a:lnTo>
                      <a:pt x="282" y="616"/>
                    </a:lnTo>
                    <a:lnTo>
                      <a:pt x="323" y="588"/>
                    </a:lnTo>
                    <a:lnTo>
                      <a:pt x="323" y="566"/>
                    </a:lnTo>
                    <a:lnTo>
                      <a:pt x="293" y="555"/>
                    </a:lnTo>
                    <a:lnTo>
                      <a:pt x="152" y="538"/>
                    </a:lnTo>
                    <a:lnTo>
                      <a:pt x="99" y="524"/>
                    </a:lnTo>
                    <a:lnTo>
                      <a:pt x="95" y="500"/>
                    </a:lnTo>
                    <a:lnTo>
                      <a:pt x="185" y="431"/>
                    </a:lnTo>
                    <a:lnTo>
                      <a:pt x="285" y="364"/>
                    </a:lnTo>
                    <a:lnTo>
                      <a:pt x="306" y="340"/>
                    </a:lnTo>
                    <a:lnTo>
                      <a:pt x="315" y="306"/>
                    </a:lnTo>
                    <a:lnTo>
                      <a:pt x="306" y="260"/>
                    </a:lnTo>
                    <a:lnTo>
                      <a:pt x="276" y="224"/>
                    </a:lnTo>
                    <a:lnTo>
                      <a:pt x="177" y="102"/>
                    </a:lnTo>
                    <a:lnTo>
                      <a:pt x="10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693840" y="4525920"/>
                <a:ext cx="372240" cy="578880"/>
              </a:xfrm>
              <a:custGeom>
                <a:avLst/>
                <a:gdLst/>
                <a:ahLst/>
                <a:rect l="l" t="t" r="r" b="b"/>
                <a:pathLst>
                  <a:path w="320" h="615">
                    <a:moveTo>
                      <a:pt x="106" y="24"/>
                    </a:moveTo>
                    <a:lnTo>
                      <a:pt x="68" y="0"/>
                    </a:lnTo>
                    <a:lnTo>
                      <a:pt x="19" y="0"/>
                    </a:lnTo>
                    <a:lnTo>
                      <a:pt x="0" y="32"/>
                    </a:lnTo>
                    <a:lnTo>
                      <a:pt x="8" y="82"/>
                    </a:lnTo>
                    <a:lnTo>
                      <a:pt x="52" y="132"/>
                    </a:lnTo>
                    <a:lnTo>
                      <a:pt x="142" y="175"/>
                    </a:lnTo>
                    <a:lnTo>
                      <a:pt x="246" y="272"/>
                    </a:lnTo>
                    <a:lnTo>
                      <a:pt x="263" y="314"/>
                    </a:lnTo>
                    <a:lnTo>
                      <a:pt x="254" y="333"/>
                    </a:lnTo>
                    <a:lnTo>
                      <a:pt x="175" y="397"/>
                    </a:lnTo>
                    <a:lnTo>
                      <a:pt x="82" y="472"/>
                    </a:lnTo>
                    <a:lnTo>
                      <a:pt x="61" y="504"/>
                    </a:lnTo>
                    <a:lnTo>
                      <a:pt x="61" y="538"/>
                    </a:lnTo>
                    <a:lnTo>
                      <a:pt x="131" y="573"/>
                    </a:lnTo>
                    <a:lnTo>
                      <a:pt x="241" y="615"/>
                    </a:lnTo>
                    <a:lnTo>
                      <a:pt x="279" y="615"/>
                    </a:lnTo>
                    <a:lnTo>
                      <a:pt x="320" y="588"/>
                    </a:lnTo>
                    <a:lnTo>
                      <a:pt x="320" y="565"/>
                    </a:lnTo>
                    <a:lnTo>
                      <a:pt x="290" y="554"/>
                    </a:lnTo>
                    <a:lnTo>
                      <a:pt x="150" y="538"/>
                    </a:lnTo>
                    <a:lnTo>
                      <a:pt x="99" y="523"/>
                    </a:lnTo>
                    <a:lnTo>
                      <a:pt x="93" y="499"/>
                    </a:lnTo>
                    <a:lnTo>
                      <a:pt x="184" y="430"/>
                    </a:lnTo>
                    <a:lnTo>
                      <a:pt x="282" y="363"/>
                    </a:lnTo>
                    <a:lnTo>
                      <a:pt x="303" y="339"/>
                    </a:lnTo>
                    <a:lnTo>
                      <a:pt x="312" y="306"/>
                    </a:lnTo>
                    <a:lnTo>
                      <a:pt x="303" y="259"/>
                    </a:lnTo>
                    <a:lnTo>
                      <a:pt x="273" y="223"/>
                    </a:lnTo>
                    <a:lnTo>
                      <a:pt x="175" y="101"/>
                    </a:lnTo>
                    <a:lnTo>
                      <a:pt x="10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6" name=""/>
          <p:cNvGrpSpPr/>
          <p:nvPr/>
        </p:nvGrpSpPr>
        <p:grpSpPr>
          <a:xfrm>
            <a:off x="5791320" y="3886200"/>
            <a:ext cx="3095640" cy="2041560"/>
            <a:chOff x="5791320" y="3886200"/>
            <a:chExt cx="3095640" cy="2041560"/>
          </a:xfrm>
        </p:grpSpPr>
        <p:sp>
          <p:nvSpPr>
            <p:cNvPr id="2267" name=""/>
            <p:cNvSpPr/>
            <p:nvPr/>
          </p:nvSpPr>
          <p:spPr>
            <a:xfrm>
              <a:off x="5791320" y="3886200"/>
              <a:ext cx="3079800" cy="2041560"/>
            </a:xfrm>
            <a:custGeom>
              <a:avLst/>
              <a:gdLst/>
              <a:ahLst/>
              <a:rect l="l" t="t" r="r" b="b"/>
              <a:pathLst>
                <a:path w="2644" h="2173">
                  <a:moveTo>
                    <a:pt x="21" y="1535"/>
                  </a:moveTo>
                  <a:lnTo>
                    <a:pt x="14" y="1380"/>
                  </a:lnTo>
                  <a:lnTo>
                    <a:pt x="36" y="1248"/>
                  </a:lnTo>
                  <a:lnTo>
                    <a:pt x="36" y="1121"/>
                  </a:lnTo>
                  <a:lnTo>
                    <a:pt x="7" y="967"/>
                  </a:lnTo>
                  <a:lnTo>
                    <a:pt x="0" y="849"/>
                  </a:lnTo>
                  <a:lnTo>
                    <a:pt x="7" y="722"/>
                  </a:lnTo>
                  <a:lnTo>
                    <a:pt x="36" y="645"/>
                  </a:lnTo>
                  <a:lnTo>
                    <a:pt x="113" y="589"/>
                  </a:lnTo>
                  <a:lnTo>
                    <a:pt x="211" y="519"/>
                  </a:lnTo>
                  <a:lnTo>
                    <a:pt x="443" y="441"/>
                  </a:lnTo>
                  <a:lnTo>
                    <a:pt x="675" y="386"/>
                  </a:lnTo>
                  <a:lnTo>
                    <a:pt x="880" y="350"/>
                  </a:lnTo>
                  <a:lnTo>
                    <a:pt x="1048" y="343"/>
                  </a:lnTo>
                  <a:lnTo>
                    <a:pt x="1209" y="294"/>
                  </a:lnTo>
                  <a:lnTo>
                    <a:pt x="1351" y="259"/>
                  </a:lnTo>
                  <a:lnTo>
                    <a:pt x="1420" y="232"/>
                  </a:lnTo>
                  <a:lnTo>
                    <a:pt x="1532" y="196"/>
                  </a:lnTo>
                  <a:lnTo>
                    <a:pt x="1631" y="147"/>
                  </a:lnTo>
                  <a:lnTo>
                    <a:pt x="1722" y="63"/>
                  </a:lnTo>
                  <a:lnTo>
                    <a:pt x="1827" y="35"/>
                  </a:lnTo>
                  <a:lnTo>
                    <a:pt x="1961" y="0"/>
                  </a:lnTo>
                  <a:lnTo>
                    <a:pt x="2025" y="7"/>
                  </a:lnTo>
                  <a:lnTo>
                    <a:pt x="2081" y="56"/>
                  </a:lnTo>
                  <a:lnTo>
                    <a:pt x="2249" y="196"/>
                  </a:lnTo>
                  <a:lnTo>
                    <a:pt x="2447" y="392"/>
                  </a:lnTo>
                  <a:lnTo>
                    <a:pt x="2580" y="512"/>
                  </a:lnTo>
                  <a:lnTo>
                    <a:pt x="2644" y="595"/>
                  </a:lnTo>
                  <a:lnTo>
                    <a:pt x="2644" y="651"/>
                  </a:lnTo>
                  <a:lnTo>
                    <a:pt x="2615" y="700"/>
                  </a:lnTo>
                  <a:lnTo>
                    <a:pt x="2586" y="792"/>
                  </a:lnTo>
                  <a:lnTo>
                    <a:pt x="2586" y="1023"/>
                  </a:lnTo>
                  <a:lnTo>
                    <a:pt x="2573" y="1206"/>
                  </a:lnTo>
                  <a:lnTo>
                    <a:pt x="2552" y="1339"/>
                  </a:lnTo>
                  <a:lnTo>
                    <a:pt x="2517" y="1437"/>
                  </a:lnTo>
                  <a:lnTo>
                    <a:pt x="2454" y="1458"/>
                  </a:lnTo>
                  <a:lnTo>
                    <a:pt x="2425" y="1429"/>
                  </a:lnTo>
                  <a:lnTo>
                    <a:pt x="2439" y="1380"/>
                  </a:lnTo>
                  <a:lnTo>
                    <a:pt x="2447" y="1262"/>
                  </a:lnTo>
                  <a:lnTo>
                    <a:pt x="2291" y="1331"/>
                  </a:lnTo>
                  <a:lnTo>
                    <a:pt x="2200" y="1380"/>
                  </a:lnTo>
                  <a:lnTo>
                    <a:pt x="2081" y="1409"/>
                  </a:lnTo>
                  <a:lnTo>
                    <a:pt x="1990" y="1451"/>
                  </a:lnTo>
                  <a:lnTo>
                    <a:pt x="1878" y="1527"/>
                  </a:lnTo>
                  <a:lnTo>
                    <a:pt x="1771" y="1584"/>
                  </a:lnTo>
                  <a:lnTo>
                    <a:pt x="1610" y="1661"/>
                  </a:lnTo>
                  <a:lnTo>
                    <a:pt x="1505" y="1696"/>
                  </a:lnTo>
                  <a:lnTo>
                    <a:pt x="1351" y="1766"/>
                  </a:lnTo>
                  <a:lnTo>
                    <a:pt x="1175" y="1801"/>
                  </a:lnTo>
                  <a:lnTo>
                    <a:pt x="1048" y="1837"/>
                  </a:lnTo>
                  <a:lnTo>
                    <a:pt x="907" y="1872"/>
                  </a:lnTo>
                  <a:lnTo>
                    <a:pt x="837" y="1906"/>
                  </a:lnTo>
                  <a:lnTo>
                    <a:pt x="809" y="1977"/>
                  </a:lnTo>
                  <a:lnTo>
                    <a:pt x="802" y="2082"/>
                  </a:lnTo>
                  <a:lnTo>
                    <a:pt x="780" y="2138"/>
                  </a:lnTo>
                  <a:lnTo>
                    <a:pt x="717" y="2173"/>
                  </a:lnTo>
                  <a:lnTo>
                    <a:pt x="619" y="2117"/>
                  </a:lnTo>
                  <a:lnTo>
                    <a:pt x="590" y="2033"/>
                  </a:lnTo>
                  <a:lnTo>
                    <a:pt x="626" y="1962"/>
                  </a:lnTo>
                  <a:lnTo>
                    <a:pt x="605" y="1921"/>
                  </a:lnTo>
                  <a:lnTo>
                    <a:pt x="471" y="1774"/>
                  </a:lnTo>
                  <a:lnTo>
                    <a:pt x="282" y="1598"/>
                  </a:lnTo>
                  <a:lnTo>
                    <a:pt x="162" y="1486"/>
                  </a:lnTo>
                  <a:lnTo>
                    <a:pt x="113" y="1458"/>
                  </a:lnTo>
                  <a:lnTo>
                    <a:pt x="92" y="1507"/>
                  </a:lnTo>
                  <a:lnTo>
                    <a:pt x="113" y="1598"/>
                  </a:lnTo>
                  <a:lnTo>
                    <a:pt x="21" y="1535"/>
                  </a:lnTo>
                  <a:close/>
                </a:path>
              </a:pathLst>
            </a:custGeom>
            <a:solidFill>
              <a:srgbClr val="9966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867640" y="4478400"/>
              <a:ext cx="3019320" cy="1443240"/>
            </a:xfrm>
            <a:custGeom>
              <a:avLst/>
              <a:gdLst/>
              <a:ahLst/>
              <a:rect l="l" t="t" r="r" b="b"/>
              <a:pathLst>
                <a:path w="2594" h="1536">
                  <a:moveTo>
                    <a:pt x="661" y="1508"/>
                  </a:moveTo>
                  <a:lnTo>
                    <a:pt x="668" y="1361"/>
                  </a:lnTo>
                  <a:lnTo>
                    <a:pt x="661" y="1038"/>
                  </a:lnTo>
                  <a:lnTo>
                    <a:pt x="661" y="799"/>
                  </a:lnTo>
                  <a:lnTo>
                    <a:pt x="625" y="737"/>
                  </a:lnTo>
                  <a:lnTo>
                    <a:pt x="366" y="464"/>
                  </a:lnTo>
                  <a:lnTo>
                    <a:pt x="197" y="295"/>
                  </a:lnTo>
                  <a:lnTo>
                    <a:pt x="56" y="176"/>
                  </a:lnTo>
                  <a:lnTo>
                    <a:pt x="0" y="112"/>
                  </a:lnTo>
                  <a:lnTo>
                    <a:pt x="14" y="78"/>
                  </a:lnTo>
                  <a:lnTo>
                    <a:pt x="35" y="78"/>
                  </a:lnTo>
                  <a:lnTo>
                    <a:pt x="134" y="183"/>
                  </a:lnTo>
                  <a:lnTo>
                    <a:pt x="267" y="288"/>
                  </a:lnTo>
                  <a:lnTo>
                    <a:pt x="393" y="456"/>
                  </a:lnTo>
                  <a:lnTo>
                    <a:pt x="513" y="582"/>
                  </a:lnTo>
                  <a:lnTo>
                    <a:pt x="625" y="667"/>
                  </a:lnTo>
                  <a:lnTo>
                    <a:pt x="696" y="730"/>
                  </a:lnTo>
                  <a:lnTo>
                    <a:pt x="745" y="716"/>
                  </a:lnTo>
                  <a:lnTo>
                    <a:pt x="795" y="681"/>
                  </a:lnTo>
                  <a:lnTo>
                    <a:pt x="949" y="645"/>
                  </a:lnTo>
                  <a:lnTo>
                    <a:pt x="1230" y="569"/>
                  </a:lnTo>
                  <a:lnTo>
                    <a:pt x="1399" y="477"/>
                  </a:lnTo>
                  <a:lnTo>
                    <a:pt x="1596" y="393"/>
                  </a:lnTo>
                  <a:lnTo>
                    <a:pt x="1799" y="317"/>
                  </a:lnTo>
                  <a:lnTo>
                    <a:pt x="2011" y="225"/>
                  </a:lnTo>
                  <a:lnTo>
                    <a:pt x="2158" y="176"/>
                  </a:lnTo>
                  <a:lnTo>
                    <a:pt x="2333" y="99"/>
                  </a:lnTo>
                  <a:lnTo>
                    <a:pt x="2474" y="63"/>
                  </a:lnTo>
                  <a:lnTo>
                    <a:pt x="2594" y="0"/>
                  </a:lnTo>
                  <a:lnTo>
                    <a:pt x="2552" y="112"/>
                  </a:lnTo>
                  <a:lnTo>
                    <a:pt x="2481" y="112"/>
                  </a:lnTo>
                  <a:lnTo>
                    <a:pt x="2389" y="134"/>
                  </a:lnTo>
                  <a:lnTo>
                    <a:pt x="2228" y="183"/>
                  </a:lnTo>
                  <a:lnTo>
                    <a:pt x="2109" y="232"/>
                  </a:lnTo>
                  <a:lnTo>
                    <a:pt x="1962" y="281"/>
                  </a:lnTo>
                  <a:lnTo>
                    <a:pt x="1862" y="330"/>
                  </a:lnTo>
                  <a:lnTo>
                    <a:pt x="1701" y="393"/>
                  </a:lnTo>
                  <a:lnTo>
                    <a:pt x="1596" y="393"/>
                  </a:lnTo>
                  <a:lnTo>
                    <a:pt x="1442" y="505"/>
                  </a:lnTo>
                  <a:lnTo>
                    <a:pt x="1335" y="554"/>
                  </a:lnTo>
                  <a:lnTo>
                    <a:pt x="1203" y="603"/>
                  </a:lnTo>
                  <a:lnTo>
                    <a:pt x="1033" y="660"/>
                  </a:lnTo>
                  <a:lnTo>
                    <a:pt x="900" y="694"/>
                  </a:lnTo>
                  <a:lnTo>
                    <a:pt x="808" y="737"/>
                  </a:lnTo>
                  <a:lnTo>
                    <a:pt x="724" y="779"/>
                  </a:lnTo>
                  <a:lnTo>
                    <a:pt x="703" y="891"/>
                  </a:lnTo>
                  <a:lnTo>
                    <a:pt x="703" y="1158"/>
                  </a:lnTo>
                  <a:lnTo>
                    <a:pt x="703" y="1340"/>
                  </a:lnTo>
                  <a:lnTo>
                    <a:pt x="717" y="1494"/>
                  </a:lnTo>
                  <a:lnTo>
                    <a:pt x="675" y="1536"/>
                  </a:lnTo>
                  <a:lnTo>
                    <a:pt x="661" y="15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9" name=""/>
          <p:cNvGrpSpPr/>
          <p:nvPr/>
        </p:nvGrpSpPr>
        <p:grpSpPr>
          <a:xfrm>
            <a:off x="6477120" y="4114800"/>
            <a:ext cx="1650600" cy="823680"/>
            <a:chOff x="6477120" y="4114800"/>
            <a:chExt cx="1650600" cy="823680"/>
          </a:xfrm>
        </p:grpSpPr>
        <p:sp>
          <p:nvSpPr>
            <p:cNvPr id="2270" name=""/>
            <p:cNvSpPr/>
            <p:nvPr/>
          </p:nvSpPr>
          <p:spPr>
            <a:xfrm>
              <a:off x="6477120" y="4171320"/>
              <a:ext cx="374760" cy="767160"/>
            </a:xfrm>
            <a:custGeom>
              <a:avLst/>
              <a:gdLst/>
              <a:ahLst/>
              <a:rect l="l" t="t" r="r" b="b"/>
              <a:pathLst>
                <a:path w="323" h="818">
                  <a:moveTo>
                    <a:pt x="26" y="165"/>
                  </a:moveTo>
                  <a:lnTo>
                    <a:pt x="86" y="92"/>
                  </a:lnTo>
                  <a:lnTo>
                    <a:pt x="184" y="0"/>
                  </a:lnTo>
                  <a:lnTo>
                    <a:pt x="263" y="0"/>
                  </a:lnTo>
                  <a:lnTo>
                    <a:pt x="289" y="53"/>
                  </a:lnTo>
                  <a:lnTo>
                    <a:pt x="244" y="119"/>
                  </a:lnTo>
                  <a:lnTo>
                    <a:pt x="165" y="145"/>
                  </a:lnTo>
                  <a:lnTo>
                    <a:pt x="79" y="231"/>
                  </a:lnTo>
                  <a:lnTo>
                    <a:pt x="46" y="330"/>
                  </a:lnTo>
                  <a:lnTo>
                    <a:pt x="39" y="416"/>
                  </a:lnTo>
                  <a:lnTo>
                    <a:pt x="46" y="514"/>
                  </a:lnTo>
                  <a:lnTo>
                    <a:pt x="99" y="600"/>
                  </a:lnTo>
                  <a:lnTo>
                    <a:pt x="152" y="640"/>
                  </a:lnTo>
                  <a:lnTo>
                    <a:pt x="323" y="653"/>
                  </a:lnTo>
                  <a:lnTo>
                    <a:pt x="315" y="686"/>
                  </a:lnTo>
                  <a:lnTo>
                    <a:pt x="204" y="679"/>
                  </a:lnTo>
                  <a:lnTo>
                    <a:pt x="184" y="699"/>
                  </a:lnTo>
                  <a:lnTo>
                    <a:pt x="263" y="765"/>
                  </a:lnTo>
                  <a:lnTo>
                    <a:pt x="250" y="784"/>
                  </a:lnTo>
                  <a:lnTo>
                    <a:pt x="223" y="784"/>
                  </a:lnTo>
                  <a:lnTo>
                    <a:pt x="165" y="726"/>
                  </a:lnTo>
                  <a:lnTo>
                    <a:pt x="138" y="719"/>
                  </a:lnTo>
                  <a:lnTo>
                    <a:pt x="138" y="805"/>
                  </a:lnTo>
                  <a:lnTo>
                    <a:pt x="118" y="818"/>
                  </a:lnTo>
                  <a:lnTo>
                    <a:pt x="99" y="805"/>
                  </a:lnTo>
                  <a:lnTo>
                    <a:pt x="99" y="719"/>
                  </a:lnTo>
                  <a:lnTo>
                    <a:pt x="79" y="726"/>
                  </a:lnTo>
                  <a:lnTo>
                    <a:pt x="33" y="791"/>
                  </a:lnTo>
                  <a:lnTo>
                    <a:pt x="13" y="778"/>
                  </a:lnTo>
                  <a:lnTo>
                    <a:pt x="7" y="758"/>
                  </a:lnTo>
                  <a:lnTo>
                    <a:pt x="60" y="692"/>
                  </a:lnTo>
                  <a:lnTo>
                    <a:pt x="66" y="640"/>
                  </a:lnTo>
                  <a:lnTo>
                    <a:pt x="26" y="593"/>
                  </a:lnTo>
                  <a:lnTo>
                    <a:pt x="13" y="521"/>
                  </a:lnTo>
                  <a:lnTo>
                    <a:pt x="0" y="448"/>
                  </a:lnTo>
                  <a:lnTo>
                    <a:pt x="0" y="349"/>
                  </a:lnTo>
                  <a:lnTo>
                    <a:pt x="26" y="251"/>
                  </a:lnTo>
                  <a:lnTo>
                    <a:pt x="26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961320" y="4114800"/>
              <a:ext cx="1166400" cy="329040"/>
            </a:xfrm>
            <a:custGeom>
              <a:avLst/>
              <a:gdLst/>
              <a:ahLst/>
              <a:rect l="l" t="t" r="r" b="b"/>
              <a:pathLst>
                <a:path w="1001" h="349">
                  <a:moveTo>
                    <a:pt x="0" y="0"/>
                  </a:moveTo>
                  <a:lnTo>
                    <a:pt x="144" y="0"/>
                  </a:lnTo>
                  <a:lnTo>
                    <a:pt x="395" y="46"/>
                  </a:lnTo>
                  <a:lnTo>
                    <a:pt x="600" y="99"/>
                  </a:lnTo>
                  <a:lnTo>
                    <a:pt x="711" y="165"/>
                  </a:lnTo>
                  <a:lnTo>
                    <a:pt x="830" y="197"/>
                  </a:lnTo>
                  <a:lnTo>
                    <a:pt x="928" y="151"/>
                  </a:lnTo>
                  <a:lnTo>
                    <a:pt x="962" y="151"/>
                  </a:lnTo>
                  <a:lnTo>
                    <a:pt x="962" y="171"/>
                  </a:lnTo>
                  <a:lnTo>
                    <a:pt x="883" y="217"/>
                  </a:lnTo>
                  <a:lnTo>
                    <a:pt x="889" y="236"/>
                  </a:lnTo>
                  <a:lnTo>
                    <a:pt x="994" y="230"/>
                  </a:lnTo>
                  <a:lnTo>
                    <a:pt x="1001" y="243"/>
                  </a:lnTo>
                  <a:lnTo>
                    <a:pt x="994" y="263"/>
                  </a:lnTo>
                  <a:lnTo>
                    <a:pt x="896" y="257"/>
                  </a:lnTo>
                  <a:lnTo>
                    <a:pt x="889" y="276"/>
                  </a:lnTo>
                  <a:lnTo>
                    <a:pt x="928" y="322"/>
                  </a:lnTo>
                  <a:lnTo>
                    <a:pt x="923" y="336"/>
                  </a:lnTo>
                  <a:lnTo>
                    <a:pt x="896" y="336"/>
                  </a:lnTo>
                  <a:lnTo>
                    <a:pt x="863" y="270"/>
                  </a:lnTo>
                  <a:lnTo>
                    <a:pt x="850" y="270"/>
                  </a:lnTo>
                  <a:lnTo>
                    <a:pt x="844" y="336"/>
                  </a:lnTo>
                  <a:lnTo>
                    <a:pt x="817" y="349"/>
                  </a:lnTo>
                  <a:lnTo>
                    <a:pt x="810" y="336"/>
                  </a:lnTo>
                  <a:lnTo>
                    <a:pt x="817" y="263"/>
                  </a:lnTo>
                  <a:lnTo>
                    <a:pt x="784" y="236"/>
                  </a:lnTo>
                  <a:lnTo>
                    <a:pt x="679" y="191"/>
                  </a:lnTo>
                  <a:lnTo>
                    <a:pt x="566" y="131"/>
                  </a:lnTo>
                  <a:lnTo>
                    <a:pt x="441" y="105"/>
                  </a:lnTo>
                  <a:lnTo>
                    <a:pt x="309" y="73"/>
                  </a:lnTo>
                  <a:lnTo>
                    <a:pt x="178" y="59"/>
                  </a:lnTo>
                  <a:lnTo>
                    <a:pt x="52" y="59"/>
                  </a:lnTo>
                  <a:lnTo>
                    <a:pt x="7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898320" y="4214520"/>
              <a:ext cx="507240" cy="302760"/>
            </a:xfrm>
            <a:custGeom>
              <a:avLst/>
              <a:gdLst/>
              <a:ahLst/>
              <a:rect l="l" t="t" r="r" b="b"/>
              <a:pathLst>
                <a:path w="435" h="323">
                  <a:moveTo>
                    <a:pt x="290" y="323"/>
                  </a:moveTo>
                  <a:lnTo>
                    <a:pt x="396" y="309"/>
                  </a:lnTo>
                  <a:lnTo>
                    <a:pt x="435" y="250"/>
                  </a:lnTo>
                  <a:lnTo>
                    <a:pt x="415" y="165"/>
                  </a:lnTo>
                  <a:lnTo>
                    <a:pt x="375" y="105"/>
                  </a:lnTo>
                  <a:lnTo>
                    <a:pt x="310" y="60"/>
                  </a:lnTo>
                  <a:lnTo>
                    <a:pt x="251" y="33"/>
                  </a:lnTo>
                  <a:lnTo>
                    <a:pt x="171" y="0"/>
                  </a:lnTo>
                  <a:lnTo>
                    <a:pt x="105" y="7"/>
                  </a:lnTo>
                  <a:lnTo>
                    <a:pt x="26" y="33"/>
                  </a:lnTo>
                  <a:lnTo>
                    <a:pt x="0" y="105"/>
                  </a:lnTo>
                  <a:lnTo>
                    <a:pt x="26" y="197"/>
                  </a:lnTo>
                  <a:lnTo>
                    <a:pt x="118" y="257"/>
                  </a:lnTo>
                  <a:lnTo>
                    <a:pt x="33" y="296"/>
                  </a:lnTo>
                  <a:lnTo>
                    <a:pt x="47" y="323"/>
                  </a:lnTo>
                  <a:lnTo>
                    <a:pt x="158" y="283"/>
                  </a:lnTo>
                  <a:lnTo>
                    <a:pt x="290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5" dur="indefinite" restart="never" nodeType="tmRoot">
          <p:childTnLst>
            <p:seq>
              <p:cTn id="3096" dur="indefinite" nodeType="mainSeq">
                <p:childTnLst>
                  <p:par>
                    <p:cTn id="3097" fill="hold">
                      <p:stCondLst>
                        <p:cond delay="indefinite"/>
                      </p:stCondLst>
                      <p:childTnLst>
                        <p:par>
                          <p:cTn id="3098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1" dur="500"/>
                                        <p:tgtEl>
                                          <p:spTgt spid="2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2" fill="hold">
                      <p:stCondLst>
                        <p:cond delay="indefinite"/>
                      </p:stCondLst>
                      <p:childTnLst>
                        <p:par>
                          <p:cTn id="3103" fill="hold">
                            <p:stCondLst>
                              <p:cond delay="0"/>
                            </p:stCondLst>
                            <p:childTnLst>
                              <p:par>
                                <p:cTn id="3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6" dur="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7" fill="hold">
                            <p:stCondLst>
                              <p:cond delay="500"/>
                            </p:stCondLst>
                            <p:childTnLst>
                              <p:par>
                                <p:cTn id="3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0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11" dur="1" fill="hold">
                                    <p:stCondLst>
                                      <p:cond evt="end">
                                        <p:tn val="3108"/>
                                      </p:cond>
                                    </p:stCondLst>
                                  </p:cTn>
                                  <p:tgtEl>
                                    <p:spTgt spid="2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0" dur="500"/>
                                        <p:tgtEl>
                                          <p:spTgt spid="2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3" dur="500"/>
                                        <p:tgtEl>
                                          <p:spTgt spid="2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6" dur="500"/>
                                        <p:tgtEl>
                                          <p:spTgt spid="2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9" dur="500"/>
                                        <p:tgtEl>
                                          <p:spTgt spid="2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2" dur="500"/>
                                        <p:tgtEl>
                                          <p:spTgt spid="2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direct Misuse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= Preparations for later misuse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e-encrypting data  (break ciph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rack passwords (dictionary attac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canning telephon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3" dur="indefinite" restart="never" nodeType="tmRoot">
          <p:childTnLst>
            <p:seq>
              <p:cTn id="3134" dur="indefinite" nodeType="mainSeq">
                <p:childTnLst>
                  <p:par>
                    <p:cTn id="3135" fill="hold">
                      <p:stCondLst>
                        <p:cond delay="indefinite"/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9" dur="500"/>
                                        <p:tgtEl>
                                          <p:spTgt spid="2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2" dur="500"/>
                                        <p:tgtEl>
                                          <p:spTgt spid="2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5" dur="500"/>
                                        <p:tgtEl>
                                          <p:spTgt spid="2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8" dur="500"/>
                                        <p:tgtEl>
                                          <p:spTgt spid="2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1" dur="500"/>
                                        <p:tgtEl>
                                          <p:spTgt spid="2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5" name=""/>
          <p:cNvGrpSpPr/>
          <p:nvPr/>
        </p:nvGrpSpPr>
        <p:grpSpPr>
          <a:xfrm>
            <a:off x="4663800" y="3755520"/>
            <a:ext cx="1495440" cy="2013120"/>
            <a:chOff x="4663800" y="3755520"/>
            <a:chExt cx="1495440" cy="2013120"/>
          </a:xfrm>
        </p:grpSpPr>
        <p:sp>
          <p:nvSpPr>
            <p:cNvPr id="2276" name=""/>
            <p:cNvSpPr/>
            <p:nvPr/>
          </p:nvSpPr>
          <p:spPr>
            <a:xfrm>
              <a:off x="4663800" y="3755520"/>
              <a:ext cx="1495440" cy="201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663800" y="4088520"/>
              <a:ext cx="1424160" cy="1680120"/>
            </a:xfrm>
            <a:custGeom>
              <a:avLst/>
              <a:gdLst/>
              <a:ahLst/>
              <a:rect l="l" t="t" r="r" b="b"/>
              <a:pathLst>
                <a:path w="3593" h="4239">
                  <a:moveTo>
                    <a:pt x="972" y="46"/>
                  </a:moveTo>
                  <a:lnTo>
                    <a:pt x="1052" y="33"/>
                  </a:lnTo>
                  <a:lnTo>
                    <a:pt x="1131" y="23"/>
                  </a:lnTo>
                  <a:lnTo>
                    <a:pt x="1211" y="12"/>
                  </a:lnTo>
                  <a:lnTo>
                    <a:pt x="1291" y="7"/>
                  </a:lnTo>
                  <a:lnTo>
                    <a:pt x="1372" y="2"/>
                  </a:lnTo>
                  <a:lnTo>
                    <a:pt x="1452" y="0"/>
                  </a:lnTo>
                  <a:lnTo>
                    <a:pt x="1532" y="0"/>
                  </a:lnTo>
                  <a:lnTo>
                    <a:pt x="1614" y="0"/>
                  </a:lnTo>
                  <a:lnTo>
                    <a:pt x="1694" y="5"/>
                  </a:lnTo>
                  <a:lnTo>
                    <a:pt x="1775" y="10"/>
                  </a:lnTo>
                  <a:lnTo>
                    <a:pt x="1855" y="17"/>
                  </a:lnTo>
                  <a:lnTo>
                    <a:pt x="1935" y="28"/>
                  </a:lnTo>
                  <a:lnTo>
                    <a:pt x="2013" y="39"/>
                  </a:lnTo>
                  <a:lnTo>
                    <a:pt x="2094" y="54"/>
                  </a:lnTo>
                  <a:lnTo>
                    <a:pt x="2175" y="70"/>
                  </a:lnTo>
                  <a:lnTo>
                    <a:pt x="2255" y="87"/>
                  </a:lnTo>
                  <a:lnTo>
                    <a:pt x="2333" y="106"/>
                  </a:lnTo>
                  <a:lnTo>
                    <a:pt x="2411" y="126"/>
                  </a:lnTo>
                  <a:lnTo>
                    <a:pt x="2488" y="150"/>
                  </a:lnTo>
                  <a:lnTo>
                    <a:pt x="2566" y="177"/>
                  </a:lnTo>
                  <a:lnTo>
                    <a:pt x="2645" y="202"/>
                  </a:lnTo>
                  <a:lnTo>
                    <a:pt x="2723" y="230"/>
                  </a:lnTo>
                  <a:lnTo>
                    <a:pt x="2798" y="262"/>
                  </a:lnTo>
                  <a:lnTo>
                    <a:pt x="2874" y="293"/>
                  </a:lnTo>
                  <a:lnTo>
                    <a:pt x="2949" y="330"/>
                  </a:lnTo>
                  <a:lnTo>
                    <a:pt x="3022" y="363"/>
                  </a:lnTo>
                  <a:lnTo>
                    <a:pt x="3097" y="402"/>
                  </a:lnTo>
                  <a:lnTo>
                    <a:pt x="3170" y="441"/>
                  </a:lnTo>
                  <a:lnTo>
                    <a:pt x="3240" y="480"/>
                  </a:lnTo>
                  <a:lnTo>
                    <a:pt x="3313" y="524"/>
                  </a:lnTo>
                  <a:lnTo>
                    <a:pt x="3379" y="565"/>
                  </a:lnTo>
                  <a:lnTo>
                    <a:pt x="3450" y="613"/>
                  </a:lnTo>
                  <a:lnTo>
                    <a:pt x="3418" y="714"/>
                  </a:lnTo>
                  <a:lnTo>
                    <a:pt x="3374" y="808"/>
                  </a:lnTo>
                  <a:lnTo>
                    <a:pt x="3325" y="903"/>
                  </a:lnTo>
                  <a:lnTo>
                    <a:pt x="3276" y="1007"/>
                  </a:lnTo>
                  <a:lnTo>
                    <a:pt x="3234" y="1130"/>
                  </a:lnTo>
                  <a:lnTo>
                    <a:pt x="3209" y="1274"/>
                  </a:lnTo>
                  <a:lnTo>
                    <a:pt x="3201" y="1454"/>
                  </a:lnTo>
                  <a:lnTo>
                    <a:pt x="3219" y="1675"/>
                  </a:lnTo>
                  <a:lnTo>
                    <a:pt x="3279" y="1682"/>
                  </a:lnTo>
                  <a:lnTo>
                    <a:pt x="3338" y="1688"/>
                  </a:lnTo>
                  <a:lnTo>
                    <a:pt x="3396" y="1693"/>
                  </a:lnTo>
                  <a:lnTo>
                    <a:pt x="3450" y="1701"/>
                  </a:lnTo>
                  <a:lnTo>
                    <a:pt x="3497" y="1711"/>
                  </a:lnTo>
                  <a:lnTo>
                    <a:pt x="3536" y="1732"/>
                  </a:lnTo>
                  <a:lnTo>
                    <a:pt x="3564" y="1761"/>
                  </a:lnTo>
                  <a:lnTo>
                    <a:pt x="3580" y="1803"/>
                  </a:lnTo>
                  <a:lnTo>
                    <a:pt x="3593" y="1883"/>
                  </a:lnTo>
                  <a:lnTo>
                    <a:pt x="3590" y="1980"/>
                  </a:lnTo>
                  <a:lnTo>
                    <a:pt x="3575" y="2082"/>
                  </a:lnTo>
                  <a:lnTo>
                    <a:pt x="3549" y="2192"/>
                  </a:lnTo>
                  <a:lnTo>
                    <a:pt x="3515" y="2306"/>
                  </a:lnTo>
                  <a:lnTo>
                    <a:pt x="3476" y="2417"/>
                  </a:lnTo>
                  <a:lnTo>
                    <a:pt x="3435" y="2524"/>
                  </a:lnTo>
                  <a:lnTo>
                    <a:pt x="3393" y="2621"/>
                  </a:lnTo>
                  <a:lnTo>
                    <a:pt x="3374" y="2631"/>
                  </a:lnTo>
                  <a:lnTo>
                    <a:pt x="3354" y="2641"/>
                  </a:lnTo>
                  <a:lnTo>
                    <a:pt x="3328" y="2650"/>
                  </a:lnTo>
                  <a:lnTo>
                    <a:pt x="3299" y="2657"/>
                  </a:lnTo>
                  <a:lnTo>
                    <a:pt x="3270" y="2662"/>
                  </a:lnTo>
                  <a:lnTo>
                    <a:pt x="3238" y="2667"/>
                  </a:lnTo>
                  <a:lnTo>
                    <a:pt x="3204" y="2672"/>
                  </a:lnTo>
                  <a:lnTo>
                    <a:pt x="3167" y="2675"/>
                  </a:lnTo>
                  <a:lnTo>
                    <a:pt x="3133" y="2677"/>
                  </a:lnTo>
                  <a:lnTo>
                    <a:pt x="3097" y="2680"/>
                  </a:lnTo>
                  <a:lnTo>
                    <a:pt x="3063" y="2680"/>
                  </a:lnTo>
                  <a:lnTo>
                    <a:pt x="3032" y="2680"/>
                  </a:lnTo>
                  <a:lnTo>
                    <a:pt x="3000" y="2677"/>
                  </a:lnTo>
                  <a:lnTo>
                    <a:pt x="2972" y="2677"/>
                  </a:lnTo>
                  <a:lnTo>
                    <a:pt x="2946" y="2675"/>
                  </a:lnTo>
                  <a:lnTo>
                    <a:pt x="2925" y="2672"/>
                  </a:lnTo>
                  <a:lnTo>
                    <a:pt x="2905" y="2820"/>
                  </a:lnTo>
                  <a:lnTo>
                    <a:pt x="2889" y="2961"/>
                  </a:lnTo>
                  <a:lnTo>
                    <a:pt x="2871" y="3094"/>
                  </a:lnTo>
                  <a:lnTo>
                    <a:pt x="2855" y="3220"/>
                  </a:lnTo>
                  <a:lnTo>
                    <a:pt x="2837" y="3342"/>
                  </a:lnTo>
                  <a:lnTo>
                    <a:pt x="2821" y="3458"/>
                  </a:lnTo>
                  <a:lnTo>
                    <a:pt x="2803" y="3569"/>
                  </a:lnTo>
                  <a:lnTo>
                    <a:pt x="2782" y="3677"/>
                  </a:lnTo>
                  <a:lnTo>
                    <a:pt x="2762" y="3774"/>
                  </a:lnTo>
                  <a:lnTo>
                    <a:pt x="2738" y="3862"/>
                  </a:lnTo>
                  <a:lnTo>
                    <a:pt x="2712" y="3938"/>
                  </a:lnTo>
                  <a:lnTo>
                    <a:pt x="2687" y="4005"/>
                  </a:lnTo>
                  <a:lnTo>
                    <a:pt x="2660" y="4060"/>
                  </a:lnTo>
                  <a:lnTo>
                    <a:pt x="2632" y="4104"/>
                  </a:lnTo>
                  <a:lnTo>
                    <a:pt x="2609" y="4135"/>
                  </a:lnTo>
                  <a:lnTo>
                    <a:pt x="2588" y="4153"/>
                  </a:lnTo>
                  <a:lnTo>
                    <a:pt x="2564" y="4172"/>
                  </a:lnTo>
                  <a:lnTo>
                    <a:pt x="2532" y="4189"/>
                  </a:lnTo>
                  <a:lnTo>
                    <a:pt x="2493" y="4203"/>
                  </a:lnTo>
                  <a:lnTo>
                    <a:pt x="2450" y="4215"/>
                  </a:lnTo>
                  <a:lnTo>
                    <a:pt x="2401" y="4223"/>
                  </a:lnTo>
                  <a:lnTo>
                    <a:pt x="2345" y="4230"/>
                  </a:lnTo>
                  <a:lnTo>
                    <a:pt x="2284" y="4237"/>
                  </a:lnTo>
                  <a:lnTo>
                    <a:pt x="2216" y="4239"/>
                  </a:lnTo>
                  <a:lnTo>
                    <a:pt x="2146" y="4239"/>
                  </a:lnTo>
                  <a:lnTo>
                    <a:pt x="2071" y="4237"/>
                  </a:lnTo>
                  <a:lnTo>
                    <a:pt x="1993" y="4230"/>
                  </a:lnTo>
                  <a:lnTo>
                    <a:pt x="1910" y="4225"/>
                  </a:lnTo>
                  <a:lnTo>
                    <a:pt x="1826" y="4215"/>
                  </a:lnTo>
                  <a:lnTo>
                    <a:pt x="1738" y="4205"/>
                  </a:lnTo>
                  <a:lnTo>
                    <a:pt x="1648" y="4194"/>
                  </a:lnTo>
                  <a:lnTo>
                    <a:pt x="1554" y="4179"/>
                  </a:lnTo>
                  <a:lnTo>
                    <a:pt x="1460" y="4164"/>
                  </a:lnTo>
                  <a:lnTo>
                    <a:pt x="1367" y="4145"/>
                  </a:lnTo>
                  <a:lnTo>
                    <a:pt x="1270" y="4128"/>
                  </a:lnTo>
                  <a:lnTo>
                    <a:pt x="1175" y="4106"/>
                  </a:lnTo>
                  <a:lnTo>
                    <a:pt x="1078" y="4082"/>
                  </a:lnTo>
                  <a:lnTo>
                    <a:pt x="983" y="4060"/>
                  </a:lnTo>
                  <a:lnTo>
                    <a:pt x="886" y="4034"/>
                  </a:lnTo>
                  <a:lnTo>
                    <a:pt x="792" y="4007"/>
                  </a:lnTo>
                  <a:lnTo>
                    <a:pt x="699" y="3980"/>
                  </a:lnTo>
                  <a:lnTo>
                    <a:pt x="608" y="3948"/>
                  </a:lnTo>
                  <a:lnTo>
                    <a:pt x="520" y="3919"/>
                  </a:lnTo>
                  <a:lnTo>
                    <a:pt x="435" y="3885"/>
                  </a:lnTo>
                  <a:lnTo>
                    <a:pt x="350" y="3854"/>
                  </a:lnTo>
                  <a:lnTo>
                    <a:pt x="270" y="3818"/>
                  </a:lnTo>
                  <a:lnTo>
                    <a:pt x="195" y="3784"/>
                  </a:lnTo>
                  <a:lnTo>
                    <a:pt x="122" y="3747"/>
                  </a:lnTo>
                  <a:lnTo>
                    <a:pt x="76" y="3725"/>
                  </a:lnTo>
                  <a:lnTo>
                    <a:pt x="42" y="3688"/>
                  </a:lnTo>
                  <a:lnTo>
                    <a:pt x="20" y="3636"/>
                  </a:lnTo>
                  <a:lnTo>
                    <a:pt x="10" y="3572"/>
                  </a:lnTo>
                  <a:lnTo>
                    <a:pt x="10" y="3490"/>
                  </a:lnTo>
                  <a:lnTo>
                    <a:pt x="18" y="3400"/>
                  </a:lnTo>
                  <a:lnTo>
                    <a:pt x="37" y="3298"/>
                  </a:lnTo>
                  <a:lnTo>
                    <a:pt x="61" y="3187"/>
                  </a:lnTo>
                  <a:lnTo>
                    <a:pt x="91" y="3065"/>
                  </a:lnTo>
                  <a:lnTo>
                    <a:pt x="130" y="2934"/>
                  </a:lnTo>
                  <a:lnTo>
                    <a:pt x="172" y="2798"/>
                  </a:lnTo>
                  <a:lnTo>
                    <a:pt x="219" y="2652"/>
                  </a:lnTo>
                  <a:lnTo>
                    <a:pt x="268" y="2502"/>
                  </a:lnTo>
                  <a:lnTo>
                    <a:pt x="320" y="2345"/>
                  </a:lnTo>
                  <a:lnTo>
                    <a:pt x="372" y="2187"/>
                  </a:lnTo>
                  <a:lnTo>
                    <a:pt x="426" y="2023"/>
                  </a:lnTo>
                  <a:lnTo>
                    <a:pt x="398" y="2010"/>
                  </a:lnTo>
                  <a:lnTo>
                    <a:pt x="369" y="1997"/>
                  </a:lnTo>
                  <a:lnTo>
                    <a:pt x="338" y="1987"/>
                  </a:lnTo>
                  <a:lnTo>
                    <a:pt x="307" y="1976"/>
                  </a:lnTo>
                  <a:lnTo>
                    <a:pt x="275" y="1966"/>
                  </a:lnTo>
                  <a:lnTo>
                    <a:pt x="241" y="1958"/>
                  </a:lnTo>
                  <a:lnTo>
                    <a:pt x="211" y="1948"/>
                  </a:lnTo>
                  <a:lnTo>
                    <a:pt x="182" y="1939"/>
                  </a:lnTo>
                  <a:lnTo>
                    <a:pt x="151" y="1929"/>
                  </a:lnTo>
                  <a:lnTo>
                    <a:pt x="125" y="1917"/>
                  </a:lnTo>
                  <a:lnTo>
                    <a:pt x="100" y="1907"/>
                  </a:lnTo>
                  <a:lnTo>
                    <a:pt x="73" y="1893"/>
                  </a:lnTo>
                  <a:lnTo>
                    <a:pt x="52" y="1878"/>
                  </a:lnTo>
                  <a:lnTo>
                    <a:pt x="32" y="1859"/>
                  </a:lnTo>
                  <a:lnTo>
                    <a:pt x="15" y="1839"/>
                  </a:lnTo>
                  <a:lnTo>
                    <a:pt x="3" y="1818"/>
                  </a:lnTo>
                  <a:lnTo>
                    <a:pt x="0" y="1719"/>
                  </a:lnTo>
                  <a:lnTo>
                    <a:pt x="18" y="1589"/>
                  </a:lnTo>
                  <a:lnTo>
                    <a:pt x="49" y="1441"/>
                  </a:lnTo>
                  <a:lnTo>
                    <a:pt x="91" y="1286"/>
                  </a:lnTo>
                  <a:lnTo>
                    <a:pt x="136" y="1135"/>
                  </a:lnTo>
                  <a:lnTo>
                    <a:pt x="182" y="1000"/>
                  </a:lnTo>
                  <a:lnTo>
                    <a:pt x="226" y="895"/>
                  </a:lnTo>
                  <a:lnTo>
                    <a:pt x="263" y="828"/>
                  </a:lnTo>
                  <a:lnTo>
                    <a:pt x="286" y="820"/>
                  </a:lnTo>
                  <a:lnTo>
                    <a:pt x="309" y="813"/>
                  </a:lnTo>
                  <a:lnTo>
                    <a:pt x="333" y="810"/>
                  </a:lnTo>
                  <a:lnTo>
                    <a:pt x="359" y="808"/>
                  </a:lnTo>
                  <a:lnTo>
                    <a:pt x="384" y="810"/>
                  </a:lnTo>
                  <a:lnTo>
                    <a:pt x="413" y="813"/>
                  </a:lnTo>
                  <a:lnTo>
                    <a:pt x="442" y="815"/>
                  </a:lnTo>
                  <a:lnTo>
                    <a:pt x="471" y="823"/>
                  </a:lnTo>
                  <a:lnTo>
                    <a:pt x="499" y="828"/>
                  </a:lnTo>
                  <a:lnTo>
                    <a:pt x="530" y="839"/>
                  </a:lnTo>
                  <a:lnTo>
                    <a:pt x="561" y="847"/>
                  </a:lnTo>
                  <a:lnTo>
                    <a:pt x="593" y="857"/>
                  </a:lnTo>
                  <a:lnTo>
                    <a:pt x="624" y="869"/>
                  </a:lnTo>
                  <a:lnTo>
                    <a:pt x="658" y="880"/>
                  </a:lnTo>
                  <a:lnTo>
                    <a:pt x="692" y="890"/>
                  </a:lnTo>
                  <a:lnTo>
                    <a:pt x="726" y="903"/>
                  </a:lnTo>
                  <a:lnTo>
                    <a:pt x="762" y="789"/>
                  </a:lnTo>
                  <a:lnTo>
                    <a:pt x="798" y="675"/>
                  </a:lnTo>
                  <a:lnTo>
                    <a:pt x="831" y="563"/>
                  </a:lnTo>
                  <a:lnTo>
                    <a:pt x="865" y="451"/>
                  </a:lnTo>
                  <a:lnTo>
                    <a:pt x="894" y="345"/>
                  </a:lnTo>
                  <a:lnTo>
                    <a:pt x="923" y="241"/>
                  </a:lnTo>
                  <a:lnTo>
                    <a:pt x="949" y="143"/>
                  </a:lnTo>
                  <a:lnTo>
                    <a:pt x="972" y="46"/>
                  </a:lnTo>
                  <a:close/>
                </a:path>
              </a:pathLst>
            </a:custGeom>
            <a:solidFill>
              <a:srgbClr val="ffe9b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199840" y="4843080"/>
              <a:ext cx="284040" cy="187200"/>
            </a:xfrm>
            <a:custGeom>
              <a:avLst/>
              <a:gdLst/>
              <a:ahLst/>
              <a:rect l="l" t="t" r="r" b="b"/>
              <a:pathLst>
                <a:path w="716" h="469">
                  <a:moveTo>
                    <a:pt x="711" y="469"/>
                  </a:moveTo>
                  <a:lnTo>
                    <a:pt x="716" y="420"/>
                  </a:lnTo>
                  <a:lnTo>
                    <a:pt x="716" y="369"/>
                  </a:lnTo>
                  <a:lnTo>
                    <a:pt x="708" y="313"/>
                  </a:lnTo>
                  <a:lnTo>
                    <a:pt x="697" y="259"/>
                  </a:lnTo>
                  <a:lnTo>
                    <a:pt x="682" y="209"/>
                  </a:lnTo>
                  <a:lnTo>
                    <a:pt x="663" y="163"/>
                  </a:lnTo>
                  <a:lnTo>
                    <a:pt x="643" y="129"/>
                  </a:lnTo>
                  <a:lnTo>
                    <a:pt x="619" y="103"/>
                  </a:lnTo>
                  <a:lnTo>
                    <a:pt x="568" y="66"/>
                  </a:lnTo>
                  <a:lnTo>
                    <a:pt x="515" y="39"/>
                  </a:lnTo>
                  <a:lnTo>
                    <a:pt x="463" y="17"/>
                  </a:lnTo>
                  <a:lnTo>
                    <a:pt x="415" y="5"/>
                  </a:lnTo>
                  <a:lnTo>
                    <a:pt x="367" y="0"/>
                  </a:lnTo>
                  <a:lnTo>
                    <a:pt x="320" y="2"/>
                  </a:lnTo>
                  <a:lnTo>
                    <a:pt x="276" y="10"/>
                  </a:lnTo>
                  <a:lnTo>
                    <a:pt x="233" y="22"/>
                  </a:lnTo>
                  <a:lnTo>
                    <a:pt x="194" y="44"/>
                  </a:lnTo>
                  <a:lnTo>
                    <a:pt x="157" y="66"/>
                  </a:lnTo>
                  <a:lnTo>
                    <a:pt x="123" y="95"/>
                  </a:lnTo>
                  <a:lnTo>
                    <a:pt x="92" y="129"/>
                  </a:lnTo>
                  <a:lnTo>
                    <a:pt x="63" y="165"/>
                  </a:lnTo>
                  <a:lnTo>
                    <a:pt x="37" y="204"/>
                  </a:lnTo>
                  <a:lnTo>
                    <a:pt x="17" y="248"/>
                  </a:lnTo>
                  <a:lnTo>
                    <a:pt x="0" y="2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017680" y="5232960"/>
              <a:ext cx="486720" cy="215640"/>
            </a:xfrm>
            <a:custGeom>
              <a:avLst/>
              <a:gdLst/>
              <a:ahLst/>
              <a:rect l="l" t="t" r="r" b="b"/>
              <a:pathLst>
                <a:path w="1226" h="541">
                  <a:moveTo>
                    <a:pt x="0" y="0"/>
                  </a:moveTo>
                  <a:lnTo>
                    <a:pt x="13" y="58"/>
                  </a:lnTo>
                  <a:lnTo>
                    <a:pt x="27" y="107"/>
                  </a:lnTo>
                  <a:lnTo>
                    <a:pt x="42" y="156"/>
                  </a:lnTo>
                  <a:lnTo>
                    <a:pt x="65" y="211"/>
                  </a:lnTo>
                  <a:lnTo>
                    <a:pt x="73" y="226"/>
                  </a:lnTo>
                  <a:lnTo>
                    <a:pt x="83" y="245"/>
                  </a:lnTo>
                  <a:lnTo>
                    <a:pt x="97" y="265"/>
                  </a:lnTo>
                  <a:lnTo>
                    <a:pt x="112" y="287"/>
                  </a:lnTo>
                  <a:lnTo>
                    <a:pt x="127" y="310"/>
                  </a:lnTo>
                  <a:lnTo>
                    <a:pt x="146" y="333"/>
                  </a:lnTo>
                  <a:lnTo>
                    <a:pt x="167" y="354"/>
                  </a:lnTo>
                  <a:lnTo>
                    <a:pt x="187" y="372"/>
                  </a:lnTo>
                  <a:lnTo>
                    <a:pt x="224" y="398"/>
                  </a:lnTo>
                  <a:lnTo>
                    <a:pt x="262" y="422"/>
                  </a:lnTo>
                  <a:lnTo>
                    <a:pt x="304" y="445"/>
                  </a:lnTo>
                  <a:lnTo>
                    <a:pt x="348" y="463"/>
                  </a:lnTo>
                  <a:lnTo>
                    <a:pt x="395" y="481"/>
                  </a:lnTo>
                  <a:lnTo>
                    <a:pt x="442" y="497"/>
                  </a:lnTo>
                  <a:lnTo>
                    <a:pt x="488" y="512"/>
                  </a:lnTo>
                  <a:lnTo>
                    <a:pt x="539" y="522"/>
                  </a:lnTo>
                  <a:lnTo>
                    <a:pt x="587" y="531"/>
                  </a:lnTo>
                  <a:lnTo>
                    <a:pt x="636" y="536"/>
                  </a:lnTo>
                  <a:lnTo>
                    <a:pt x="687" y="541"/>
                  </a:lnTo>
                  <a:lnTo>
                    <a:pt x="735" y="541"/>
                  </a:lnTo>
                  <a:lnTo>
                    <a:pt x="784" y="539"/>
                  </a:lnTo>
                  <a:lnTo>
                    <a:pt x="832" y="534"/>
                  </a:lnTo>
                  <a:lnTo>
                    <a:pt x="879" y="522"/>
                  </a:lnTo>
                  <a:lnTo>
                    <a:pt x="925" y="512"/>
                  </a:lnTo>
                  <a:lnTo>
                    <a:pt x="932" y="510"/>
                  </a:lnTo>
                  <a:lnTo>
                    <a:pt x="951" y="500"/>
                  </a:lnTo>
                  <a:lnTo>
                    <a:pt x="980" y="481"/>
                  </a:lnTo>
                  <a:lnTo>
                    <a:pt x="1019" y="458"/>
                  </a:lnTo>
                  <a:lnTo>
                    <a:pt x="1065" y="430"/>
                  </a:lnTo>
                  <a:lnTo>
                    <a:pt x="1114" y="393"/>
                  </a:lnTo>
                  <a:lnTo>
                    <a:pt x="1170" y="354"/>
                  </a:lnTo>
                  <a:lnTo>
                    <a:pt x="1226" y="31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890600" y="5109120"/>
              <a:ext cx="212400" cy="187200"/>
            </a:xfrm>
            <a:custGeom>
              <a:avLst/>
              <a:gdLst/>
              <a:ahLst/>
              <a:rect l="l" t="t" r="r" b="b"/>
              <a:pathLst>
                <a:path w="536" h="472">
                  <a:moveTo>
                    <a:pt x="536" y="0"/>
                  </a:moveTo>
                  <a:lnTo>
                    <a:pt x="523" y="22"/>
                  </a:lnTo>
                  <a:lnTo>
                    <a:pt x="507" y="51"/>
                  </a:lnTo>
                  <a:lnTo>
                    <a:pt x="490" y="83"/>
                  </a:lnTo>
                  <a:lnTo>
                    <a:pt x="471" y="116"/>
                  </a:lnTo>
                  <a:lnTo>
                    <a:pt x="451" y="153"/>
                  </a:lnTo>
                  <a:lnTo>
                    <a:pt x="427" y="189"/>
                  </a:lnTo>
                  <a:lnTo>
                    <a:pt x="401" y="226"/>
                  </a:lnTo>
                  <a:lnTo>
                    <a:pt x="372" y="265"/>
                  </a:lnTo>
                  <a:lnTo>
                    <a:pt x="339" y="301"/>
                  </a:lnTo>
                  <a:lnTo>
                    <a:pt x="305" y="335"/>
                  </a:lnTo>
                  <a:lnTo>
                    <a:pt x="266" y="369"/>
                  </a:lnTo>
                  <a:lnTo>
                    <a:pt x="221" y="396"/>
                  </a:lnTo>
                  <a:lnTo>
                    <a:pt x="172" y="423"/>
                  </a:lnTo>
                  <a:lnTo>
                    <a:pt x="121" y="446"/>
                  </a:lnTo>
                  <a:lnTo>
                    <a:pt x="63" y="462"/>
                  </a:lnTo>
                  <a:lnTo>
                    <a:pt x="0" y="47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486760" y="5252040"/>
              <a:ext cx="90360" cy="187200"/>
            </a:xfrm>
            <a:custGeom>
              <a:avLst/>
              <a:gdLst/>
              <a:ahLst/>
              <a:rect l="l" t="t" r="r" b="b"/>
              <a:pathLst>
                <a:path w="229" h="470">
                  <a:moveTo>
                    <a:pt x="0" y="0"/>
                  </a:moveTo>
                  <a:lnTo>
                    <a:pt x="3" y="65"/>
                  </a:lnTo>
                  <a:lnTo>
                    <a:pt x="13" y="133"/>
                  </a:lnTo>
                  <a:lnTo>
                    <a:pt x="29" y="201"/>
                  </a:lnTo>
                  <a:lnTo>
                    <a:pt x="52" y="263"/>
                  </a:lnTo>
                  <a:lnTo>
                    <a:pt x="80" y="325"/>
                  </a:lnTo>
                  <a:lnTo>
                    <a:pt x="122" y="380"/>
                  </a:lnTo>
                  <a:lnTo>
                    <a:pt x="170" y="429"/>
                  </a:lnTo>
                  <a:lnTo>
                    <a:pt x="229" y="4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536080" y="4643280"/>
              <a:ext cx="23400" cy="161640"/>
            </a:xfrm>
            <a:custGeom>
              <a:avLst/>
              <a:gdLst/>
              <a:ahLst/>
              <a:rect l="l" t="t" r="r" b="b"/>
              <a:pathLst>
                <a:path w="63" h="408">
                  <a:moveTo>
                    <a:pt x="0" y="0"/>
                  </a:moveTo>
                  <a:lnTo>
                    <a:pt x="22" y="93"/>
                  </a:lnTo>
                  <a:lnTo>
                    <a:pt x="37" y="200"/>
                  </a:lnTo>
                  <a:lnTo>
                    <a:pt x="53" y="307"/>
                  </a:lnTo>
                  <a:lnTo>
                    <a:pt x="63" y="40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268240" y="4594320"/>
              <a:ext cx="85320" cy="107640"/>
            </a:xfrm>
            <a:custGeom>
              <a:avLst/>
              <a:gdLst/>
              <a:ahLst/>
              <a:rect l="l" t="t" r="r" b="b"/>
              <a:pathLst>
                <a:path w="219" h="270">
                  <a:moveTo>
                    <a:pt x="219" y="0"/>
                  </a:moveTo>
                  <a:lnTo>
                    <a:pt x="192" y="33"/>
                  </a:lnTo>
                  <a:lnTo>
                    <a:pt x="167" y="67"/>
                  </a:lnTo>
                  <a:lnTo>
                    <a:pt x="138" y="101"/>
                  </a:lnTo>
                  <a:lnTo>
                    <a:pt x="110" y="134"/>
                  </a:lnTo>
                  <a:lnTo>
                    <a:pt x="81" y="168"/>
                  </a:lnTo>
                  <a:lnTo>
                    <a:pt x="53" y="202"/>
                  </a:lnTo>
                  <a:lnTo>
                    <a:pt x="27" y="236"/>
                  </a:lnTo>
                  <a:lnTo>
                    <a:pt x="0" y="2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800240" y="3755520"/>
              <a:ext cx="1359000" cy="1182240"/>
            </a:xfrm>
            <a:custGeom>
              <a:avLst/>
              <a:gdLst/>
              <a:ahLst/>
              <a:rect l="l" t="t" r="r" b="b"/>
              <a:pathLst>
                <a:path w="3427" h="2982">
                  <a:moveTo>
                    <a:pt x="1905" y="1203"/>
                  </a:moveTo>
                  <a:lnTo>
                    <a:pt x="1886" y="1247"/>
                  </a:lnTo>
                  <a:lnTo>
                    <a:pt x="1871" y="1291"/>
                  </a:lnTo>
                  <a:lnTo>
                    <a:pt x="1852" y="1335"/>
                  </a:lnTo>
                  <a:lnTo>
                    <a:pt x="1829" y="1374"/>
                  </a:lnTo>
                  <a:lnTo>
                    <a:pt x="1788" y="1416"/>
                  </a:lnTo>
                  <a:lnTo>
                    <a:pt x="1740" y="1458"/>
                  </a:lnTo>
                  <a:lnTo>
                    <a:pt x="1691" y="1499"/>
                  </a:lnTo>
                  <a:lnTo>
                    <a:pt x="1642" y="1538"/>
                  </a:lnTo>
                  <a:lnTo>
                    <a:pt x="1590" y="1574"/>
                  </a:lnTo>
                  <a:lnTo>
                    <a:pt x="1538" y="1611"/>
                  </a:lnTo>
                  <a:lnTo>
                    <a:pt x="1492" y="1645"/>
                  </a:lnTo>
                  <a:lnTo>
                    <a:pt x="1444" y="1679"/>
                  </a:lnTo>
                  <a:lnTo>
                    <a:pt x="1408" y="1701"/>
                  </a:lnTo>
                  <a:lnTo>
                    <a:pt x="1374" y="1715"/>
                  </a:lnTo>
                  <a:lnTo>
                    <a:pt x="1344" y="1722"/>
                  </a:lnTo>
                  <a:lnTo>
                    <a:pt x="1317" y="1720"/>
                  </a:lnTo>
                  <a:lnTo>
                    <a:pt x="1291" y="1712"/>
                  </a:lnTo>
                  <a:lnTo>
                    <a:pt x="1265" y="1696"/>
                  </a:lnTo>
                  <a:lnTo>
                    <a:pt x="1237" y="1676"/>
                  </a:lnTo>
                  <a:lnTo>
                    <a:pt x="1208" y="1647"/>
                  </a:lnTo>
                  <a:lnTo>
                    <a:pt x="1167" y="1662"/>
                  </a:lnTo>
                  <a:lnTo>
                    <a:pt x="1133" y="1679"/>
                  </a:lnTo>
                  <a:lnTo>
                    <a:pt x="1104" y="1694"/>
                  </a:lnTo>
                  <a:lnTo>
                    <a:pt x="1078" y="1712"/>
                  </a:lnTo>
                  <a:lnTo>
                    <a:pt x="1055" y="1730"/>
                  </a:lnTo>
                  <a:lnTo>
                    <a:pt x="1036" y="1751"/>
                  </a:lnTo>
                  <a:lnTo>
                    <a:pt x="1019" y="1769"/>
                  </a:lnTo>
                  <a:lnTo>
                    <a:pt x="1000" y="1793"/>
                  </a:lnTo>
                  <a:lnTo>
                    <a:pt x="982" y="1813"/>
                  </a:lnTo>
                  <a:lnTo>
                    <a:pt x="964" y="1837"/>
                  </a:lnTo>
                  <a:lnTo>
                    <a:pt x="946" y="1863"/>
                  </a:lnTo>
                  <a:lnTo>
                    <a:pt x="922" y="1886"/>
                  </a:lnTo>
                  <a:lnTo>
                    <a:pt x="896" y="1914"/>
                  </a:lnTo>
                  <a:lnTo>
                    <a:pt x="866" y="1941"/>
                  </a:lnTo>
                  <a:lnTo>
                    <a:pt x="832" y="1970"/>
                  </a:lnTo>
                  <a:lnTo>
                    <a:pt x="790" y="2000"/>
                  </a:lnTo>
                  <a:lnTo>
                    <a:pt x="769" y="1953"/>
                  </a:lnTo>
                  <a:lnTo>
                    <a:pt x="757" y="1902"/>
                  </a:lnTo>
                  <a:lnTo>
                    <a:pt x="743" y="1849"/>
                  </a:lnTo>
                  <a:lnTo>
                    <a:pt x="725" y="1810"/>
                  </a:lnTo>
                  <a:lnTo>
                    <a:pt x="699" y="1852"/>
                  </a:lnTo>
                  <a:lnTo>
                    <a:pt x="675" y="1894"/>
                  </a:lnTo>
                  <a:lnTo>
                    <a:pt x="652" y="1933"/>
                  </a:lnTo>
                  <a:lnTo>
                    <a:pt x="629" y="1970"/>
                  </a:lnTo>
                  <a:lnTo>
                    <a:pt x="606" y="2006"/>
                  </a:lnTo>
                  <a:lnTo>
                    <a:pt x="580" y="2036"/>
                  </a:lnTo>
                  <a:lnTo>
                    <a:pt x="556" y="2070"/>
                  </a:lnTo>
                  <a:lnTo>
                    <a:pt x="531" y="2099"/>
                  </a:lnTo>
                  <a:lnTo>
                    <a:pt x="502" y="2128"/>
                  </a:lnTo>
                  <a:lnTo>
                    <a:pt x="473" y="2157"/>
                  </a:lnTo>
                  <a:lnTo>
                    <a:pt x="442" y="2182"/>
                  </a:lnTo>
                  <a:lnTo>
                    <a:pt x="405" y="2208"/>
                  </a:lnTo>
                  <a:lnTo>
                    <a:pt x="369" y="2232"/>
                  </a:lnTo>
                  <a:lnTo>
                    <a:pt x="327" y="2252"/>
                  </a:lnTo>
                  <a:lnTo>
                    <a:pt x="281" y="2273"/>
                  </a:lnTo>
                  <a:lnTo>
                    <a:pt x="231" y="2293"/>
                  </a:lnTo>
                  <a:lnTo>
                    <a:pt x="240" y="2221"/>
                  </a:lnTo>
                  <a:lnTo>
                    <a:pt x="245" y="2154"/>
                  </a:lnTo>
                  <a:lnTo>
                    <a:pt x="250" y="2086"/>
                  </a:lnTo>
                  <a:lnTo>
                    <a:pt x="257" y="2021"/>
                  </a:lnTo>
                  <a:lnTo>
                    <a:pt x="265" y="1956"/>
                  </a:lnTo>
                  <a:lnTo>
                    <a:pt x="278" y="1888"/>
                  </a:lnTo>
                  <a:lnTo>
                    <a:pt x="294" y="1822"/>
                  </a:lnTo>
                  <a:lnTo>
                    <a:pt x="315" y="1746"/>
                  </a:lnTo>
                  <a:lnTo>
                    <a:pt x="289" y="1743"/>
                  </a:lnTo>
                  <a:lnTo>
                    <a:pt x="257" y="1737"/>
                  </a:lnTo>
                  <a:lnTo>
                    <a:pt x="218" y="1735"/>
                  </a:lnTo>
                  <a:lnTo>
                    <a:pt x="179" y="1727"/>
                  </a:lnTo>
                  <a:lnTo>
                    <a:pt x="138" y="1717"/>
                  </a:lnTo>
                  <a:lnTo>
                    <a:pt x="102" y="1699"/>
                  </a:lnTo>
                  <a:lnTo>
                    <a:pt x="68" y="1676"/>
                  </a:lnTo>
                  <a:lnTo>
                    <a:pt x="39" y="1640"/>
                  </a:lnTo>
                  <a:lnTo>
                    <a:pt x="21" y="1574"/>
                  </a:lnTo>
                  <a:lnTo>
                    <a:pt x="7" y="1507"/>
                  </a:lnTo>
                  <a:lnTo>
                    <a:pt x="2" y="1439"/>
                  </a:lnTo>
                  <a:lnTo>
                    <a:pt x="0" y="1371"/>
                  </a:lnTo>
                  <a:lnTo>
                    <a:pt x="5" y="1307"/>
                  </a:lnTo>
                  <a:lnTo>
                    <a:pt x="21" y="1244"/>
                  </a:lnTo>
                  <a:lnTo>
                    <a:pt x="41" y="1187"/>
                  </a:lnTo>
                  <a:lnTo>
                    <a:pt x="73" y="1138"/>
                  </a:lnTo>
                  <a:lnTo>
                    <a:pt x="89" y="1128"/>
                  </a:lnTo>
                  <a:lnTo>
                    <a:pt x="109" y="1118"/>
                  </a:lnTo>
                  <a:lnTo>
                    <a:pt x="133" y="1106"/>
                  </a:lnTo>
                  <a:lnTo>
                    <a:pt x="143" y="1094"/>
                  </a:lnTo>
                  <a:lnTo>
                    <a:pt x="172" y="1034"/>
                  </a:lnTo>
                  <a:lnTo>
                    <a:pt x="192" y="970"/>
                  </a:lnTo>
                  <a:lnTo>
                    <a:pt x="211" y="902"/>
                  </a:lnTo>
                  <a:lnTo>
                    <a:pt x="226" y="834"/>
                  </a:lnTo>
                  <a:lnTo>
                    <a:pt x="242" y="764"/>
                  </a:lnTo>
                  <a:lnTo>
                    <a:pt x="262" y="696"/>
                  </a:lnTo>
                  <a:lnTo>
                    <a:pt x="289" y="631"/>
                  </a:lnTo>
                  <a:lnTo>
                    <a:pt x="322" y="569"/>
                  </a:lnTo>
                  <a:lnTo>
                    <a:pt x="354" y="528"/>
                  </a:lnTo>
                  <a:lnTo>
                    <a:pt x="388" y="489"/>
                  </a:lnTo>
                  <a:lnTo>
                    <a:pt x="427" y="453"/>
                  </a:lnTo>
                  <a:lnTo>
                    <a:pt x="468" y="419"/>
                  </a:lnTo>
                  <a:lnTo>
                    <a:pt x="512" y="387"/>
                  </a:lnTo>
                  <a:lnTo>
                    <a:pt x="558" y="359"/>
                  </a:lnTo>
                  <a:lnTo>
                    <a:pt x="608" y="332"/>
                  </a:lnTo>
                  <a:lnTo>
                    <a:pt x="660" y="312"/>
                  </a:lnTo>
                  <a:lnTo>
                    <a:pt x="711" y="291"/>
                  </a:lnTo>
                  <a:lnTo>
                    <a:pt x="764" y="276"/>
                  </a:lnTo>
                  <a:lnTo>
                    <a:pt x="815" y="264"/>
                  </a:lnTo>
                  <a:lnTo>
                    <a:pt x="871" y="257"/>
                  </a:lnTo>
                  <a:lnTo>
                    <a:pt x="922" y="252"/>
                  </a:lnTo>
                  <a:lnTo>
                    <a:pt x="975" y="252"/>
                  </a:lnTo>
                  <a:lnTo>
                    <a:pt x="1024" y="257"/>
                  </a:lnTo>
                  <a:lnTo>
                    <a:pt x="1073" y="264"/>
                  </a:lnTo>
                  <a:lnTo>
                    <a:pt x="1078" y="252"/>
                  </a:lnTo>
                  <a:lnTo>
                    <a:pt x="1087" y="234"/>
                  </a:lnTo>
                  <a:lnTo>
                    <a:pt x="1094" y="213"/>
                  </a:lnTo>
                  <a:lnTo>
                    <a:pt x="1107" y="189"/>
                  </a:lnTo>
                  <a:lnTo>
                    <a:pt x="1120" y="167"/>
                  </a:lnTo>
                  <a:lnTo>
                    <a:pt x="1133" y="148"/>
                  </a:lnTo>
                  <a:lnTo>
                    <a:pt x="1145" y="133"/>
                  </a:lnTo>
                  <a:lnTo>
                    <a:pt x="1159" y="123"/>
                  </a:lnTo>
                  <a:lnTo>
                    <a:pt x="1169" y="123"/>
                  </a:lnTo>
                  <a:lnTo>
                    <a:pt x="1187" y="125"/>
                  </a:lnTo>
                  <a:lnTo>
                    <a:pt x="1211" y="128"/>
                  </a:lnTo>
                  <a:lnTo>
                    <a:pt x="1240" y="133"/>
                  </a:lnTo>
                  <a:lnTo>
                    <a:pt x="1273" y="138"/>
                  </a:lnTo>
                  <a:lnTo>
                    <a:pt x="1307" y="143"/>
                  </a:lnTo>
                  <a:lnTo>
                    <a:pt x="1344" y="150"/>
                  </a:lnTo>
                  <a:lnTo>
                    <a:pt x="1383" y="159"/>
                  </a:lnTo>
                  <a:lnTo>
                    <a:pt x="1419" y="167"/>
                  </a:lnTo>
                  <a:lnTo>
                    <a:pt x="1455" y="172"/>
                  </a:lnTo>
                  <a:lnTo>
                    <a:pt x="1489" y="179"/>
                  </a:lnTo>
                  <a:lnTo>
                    <a:pt x="1519" y="184"/>
                  </a:lnTo>
                  <a:lnTo>
                    <a:pt x="1546" y="187"/>
                  </a:lnTo>
                  <a:lnTo>
                    <a:pt x="1567" y="192"/>
                  </a:lnTo>
                  <a:lnTo>
                    <a:pt x="1582" y="192"/>
                  </a:lnTo>
                  <a:lnTo>
                    <a:pt x="1590" y="192"/>
                  </a:lnTo>
                  <a:lnTo>
                    <a:pt x="1592" y="162"/>
                  </a:lnTo>
                  <a:lnTo>
                    <a:pt x="1595" y="120"/>
                  </a:lnTo>
                  <a:lnTo>
                    <a:pt x="1595" y="65"/>
                  </a:lnTo>
                  <a:lnTo>
                    <a:pt x="1585" y="0"/>
                  </a:lnTo>
                  <a:lnTo>
                    <a:pt x="1618" y="7"/>
                  </a:lnTo>
                  <a:lnTo>
                    <a:pt x="1652" y="21"/>
                  </a:lnTo>
                  <a:lnTo>
                    <a:pt x="1689" y="34"/>
                  </a:lnTo>
                  <a:lnTo>
                    <a:pt x="1725" y="52"/>
                  </a:lnTo>
                  <a:lnTo>
                    <a:pt x="1762" y="70"/>
                  </a:lnTo>
                  <a:lnTo>
                    <a:pt x="1798" y="91"/>
                  </a:lnTo>
                  <a:lnTo>
                    <a:pt x="1834" y="114"/>
                  </a:lnTo>
                  <a:lnTo>
                    <a:pt x="1871" y="138"/>
                  </a:lnTo>
                  <a:lnTo>
                    <a:pt x="1905" y="164"/>
                  </a:lnTo>
                  <a:lnTo>
                    <a:pt x="1938" y="189"/>
                  </a:lnTo>
                  <a:lnTo>
                    <a:pt x="1970" y="218"/>
                  </a:lnTo>
                  <a:lnTo>
                    <a:pt x="2000" y="247"/>
                  </a:lnTo>
                  <a:lnTo>
                    <a:pt x="2026" y="276"/>
                  </a:lnTo>
                  <a:lnTo>
                    <a:pt x="2053" y="305"/>
                  </a:lnTo>
                  <a:lnTo>
                    <a:pt x="2075" y="332"/>
                  </a:lnTo>
                  <a:lnTo>
                    <a:pt x="2094" y="361"/>
                  </a:lnTo>
                  <a:lnTo>
                    <a:pt x="2133" y="349"/>
                  </a:lnTo>
                  <a:lnTo>
                    <a:pt x="2169" y="337"/>
                  </a:lnTo>
                  <a:lnTo>
                    <a:pt x="2208" y="327"/>
                  </a:lnTo>
                  <a:lnTo>
                    <a:pt x="2245" y="317"/>
                  </a:lnTo>
                  <a:lnTo>
                    <a:pt x="2281" y="310"/>
                  </a:lnTo>
                  <a:lnTo>
                    <a:pt x="2315" y="301"/>
                  </a:lnTo>
                  <a:lnTo>
                    <a:pt x="2351" y="296"/>
                  </a:lnTo>
                  <a:lnTo>
                    <a:pt x="2388" y="291"/>
                  </a:lnTo>
                  <a:lnTo>
                    <a:pt x="2424" y="288"/>
                  </a:lnTo>
                  <a:lnTo>
                    <a:pt x="2460" y="288"/>
                  </a:lnTo>
                  <a:lnTo>
                    <a:pt x="2499" y="288"/>
                  </a:lnTo>
                  <a:lnTo>
                    <a:pt x="2536" y="291"/>
                  </a:lnTo>
                  <a:lnTo>
                    <a:pt x="2575" y="296"/>
                  </a:lnTo>
                  <a:lnTo>
                    <a:pt x="2616" y="305"/>
                  </a:lnTo>
                  <a:lnTo>
                    <a:pt x="2657" y="312"/>
                  </a:lnTo>
                  <a:lnTo>
                    <a:pt x="2699" y="325"/>
                  </a:lnTo>
                  <a:lnTo>
                    <a:pt x="2694" y="335"/>
                  </a:lnTo>
                  <a:lnTo>
                    <a:pt x="2686" y="349"/>
                  </a:lnTo>
                  <a:lnTo>
                    <a:pt x="2674" y="359"/>
                  </a:lnTo>
                  <a:lnTo>
                    <a:pt x="2660" y="371"/>
                  </a:lnTo>
                  <a:lnTo>
                    <a:pt x="2645" y="385"/>
                  </a:lnTo>
                  <a:lnTo>
                    <a:pt x="2631" y="397"/>
                  </a:lnTo>
                  <a:lnTo>
                    <a:pt x="2618" y="410"/>
                  </a:lnTo>
                  <a:lnTo>
                    <a:pt x="2608" y="426"/>
                  </a:lnTo>
                  <a:lnTo>
                    <a:pt x="2635" y="431"/>
                  </a:lnTo>
                  <a:lnTo>
                    <a:pt x="2667" y="439"/>
                  </a:lnTo>
                  <a:lnTo>
                    <a:pt x="2706" y="446"/>
                  </a:lnTo>
                  <a:lnTo>
                    <a:pt x="2751" y="455"/>
                  </a:lnTo>
                  <a:lnTo>
                    <a:pt x="2795" y="465"/>
                  </a:lnTo>
                  <a:lnTo>
                    <a:pt x="2839" y="475"/>
                  </a:lnTo>
                  <a:lnTo>
                    <a:pt x="2876" y="489"/>
                  </a:lnTo>
                  <a:lnTo>
                    <a:pt x="2907" y="499"/>
                  </a:lnTo>
                  <a:lnTo>
                    <a:pt x="2964" y="528"/>
                  </a:lnTo>
                  <a:lnTo>
                    <a:pt x="3011" y="553"/>
                  </a:lnTo>
                  <a:lnTo>
                    <a:pt x="3048" y="579"/>
                  </a:lnTo>
                  <a:lnTo>
                    <a:pt x="3075" y="606"/>
                  </a:lnTo>
                  <a:lnTo>
                    <a:pt x="3097" y="640"/>
                  </a:lnTo>
                  <a:lnTo>
                    <a:pt x="3118" y="681"/>
                  </a:lnTo>
                  <a:lnTo>
                    <a:pt x="3138" y="735"/>
                  </a:lnTo>
                  <a:lnTo>
                    <a:pt x="3159" y="803"/>
                  </a:lnTo>
                  <a:lnTo>
                    <a:pt x="3174" y="827"/>
                  </a:lnTo>
                  <a:lnTo>
                    <a:pt x="3201" y="852"/>
                  </a:lnTo>
                  <a:lnTo>
                    <a:pt x="3240" y="883"/>
                  </a:lnTo>
                  <a:lnTo>
                    <a:pt x="3281" y="914"/>
                  </a:lnTo>
                  <a:lnTo>
                    <a:pt x="3322" y="951"/>
                  </a:lnTo>
                  <a:lnTo>
                    <a:pt x="3359" y="990"/>
                  </a:lnTo>
                  <a:lnTo>
                    <a:pt x="3385" y="1031"/>
                  </a:lnTo>
                  <a:lnTo>
                    <a:pt x="3398" y="1072"/>
                  </a:lnTo>
                  <a:lnTo>
                    <a:pt x="3398" y="1114"/>
                  </a:lnTo>
                  <a:lnTo>
                    <a:pt x="3393" y="1154"/>
                  </a:lnTo>
                  <a:lnTo>
                    <a:pt x="3385" y="1193"/>
                  </a:lnTo>
                  <a:lnTo>
                    <a:pt x="3371" y="1226"/>
                  </a:lnTo>
                  <a:lnTo>
                    <a:pt x="3359" y="1262"/>
                  </a:lnTo>
                  <a:lnTo>
                    <a:pt x="3344" y="1296"/>
                  </a:lnTo>
                  <a:lnTo>
                    <a:pt x="3330" y="1332"/>
                  </a:lnTo>
                  <a:lnTo>
                    <a:pt x="3320" y="1371"/>
                  </a:lnTo>
                  <a:lnTo>
                    <a:pt x="3335" y="1380"/>
                  </a:lnTo>
                  <a:lnTo>
                    <a:pt x="3354" y="1397"/>
                  </a:lnTo>
                  <a:lnTo>
                    <a:pt x="3366" y="1419"/>
                  </a:lnTo>
                  <a:lnTo>
                    <a:pt x="3375" y="1434"/>
                  </a:lnTo>
                  <a:lnTo>
                    <a:pt x="3408" y="1541"/>
                  </a:lnTo>
                  <a:lnTo>
                    <a:pt x="3427" y="1660"/>
                  </a:lnTo>
                  <a:lnTo>
                    <a:pt x="3427" y="1785"/>
                  </a:lnTo>
                  <a:lnTo>
                    <a:pt x="3416" y="1914"/>
                  </a:lnTo>
                  <a:lnTo>
                    <a:pt x="3395" y="2042"/>
                  </a:lnTo>
                  <a:lnTo>
                    <a:pt x="3361" y="2167"/>
                  </a:lnTo>
                  <a:lnTo>
                    <a:pt x="3322" y="2283"/>
                  </a:lnTo>
                  <a:lnTo>
                    <a:pt x="3276" y="2390"/>
                  </a:lnTo>
                  <a:lnTo>
                    <a:pt x="3260" y="2421"/>
                  </a:lnTo>
                  <a:lnTo>
                    <a:pt x="3250" y="2450"/>
                  </a:lnTo>
                  <a:lnTo>
                    <a:pt x="3237" y="2470"/>
                  </a:lnTo>
                  <a:lnTo>
                    <a:pt x="3230" y="2492"/>
                  </a:lnTo>
                  <a:lnTo>
                    <a:pt x="3216" y="2507"/>
                  </a:lnTo>
                  <a:lnTo>
                    <a:pt x="3206" y="2523"/>
                  </a:lnTo>
                  <a:lnTo>
                    <a:pt x="3191" y="2535"/>
                  </a:lnTo>
                  <a:lnTo>
                    <a:pt x="3172" y="2546"/>
                  </a:lnTo>
                  <a:lnTo>
                    <a:pt x="3159" y="2546"/>
                  </a:lnTo>
                  <a:lnTo>
                    <a:pt x="3143" y="2546"/>
                  </a:lnTo>
                  <a:lnTo>
                    <a:pt x="3128" y="2543"/>
                  </a:lnTo>
                  <a:lnTo>
                    <a:pt x="3112" y="2541"/>
                  </a:lnTo>
                  <a:lnTo>
                    <a:pt x="3097" y="2535"/>
                  </a:lnTo>
                  <a:lnTo>
                    <a:pt x="3081" y="2533"/>
                  </a:lnTo>
                  <a:lnTo>
                    <a:pt x="3068" y="2530"/>
                  </a:lnTo>
                  <a:lnTo>
                    <a:pt x="3055" y="2528"/>
                  </a:lnTo>
                  <a:lnTo>
                    <a:pt x="3014" y="2528"/>
                  </a:lnTo>
                  <a:lnTo>
                    <a:pt x="2975" y="2535"/>
                  </a:lnTo>
                  <a:lnTo>
                    <a:pt x="2938" y="2551"/>
                  </a:lnTo>
                  <a:lnTo>
                    <a:pt x="2905" y="2572"/>
                  </a:lnTo>
                  <a:lnTo>
                    <a:pt x="2873" y="2598"/>
                  </a:lnTo>
                  <a:lnTo>
                    <a:pt x="2844" y="2628"/>
                  </a:lnTo>
                  <a:lnTo>
                    <a:pt x="2815" y="2660"/>
                  </a:lnTo>
                  <a:lnTo>
                    <a:pt x="2790" y="2696"/>
                  </a:lnTo>
                  <a:lnTo>
                    <a:pt x="2767" y="2735"/>
                  </a:lnTo>
                  <a:lnTo>
                    <a:pt x="2743" y="2774"/>
                  </a:lnTo>
                  <a:lnTo>
                    <a:pt x="2720" y="2813"/>
                  </a:lnTo>
                  <a:lnTo>
                    <a:pt x="2696" y="2852"/>
                  </a:lnTo>
                  <a:lnTo>
                    <a:pt x="2674" y="2888"/>
                  </a:lnTo>
                  <a:lnTo>
                    <a:pt x="2650" y="2922"/>
                  </a:lnTo>
                  <a:lnTo>
                    <a:pt x="2626" y="2953"/>
                  </a:lnTo>
                  <a:lnTo>
                    <a:pt x="2601" y="2982"/>
                  </a:lnTo>
                  <a:lnTo>
                    <a:pt x="2590" y="2938"/>
                  </a:lnTo>
                  <a:lnTo>
                    <a:pt x="2580" y="2897"/>
                  </a:lnTo>
                  <a:lnTo>
                    <a:pt x="2572" y="2852"/>
                  </a:lnTo>
                  <a:lnTo>
                    <a:pt x="2570" y="2810"/>
                  </a:lnTo>
                  <a:lnTo>
                    <a:pt x="2580" y="2699"/>
                  </a:lnTo>
                  <a:lnTo>
                    <a:pt x="2585" y="2601"/>
                  </a:lnTo>
                  <a:lnTo>
                    <a:pt x="2585" y="2507"/>
                  </a:lnTo>
                  <a:lnTo>
                    <a:pt x="2580" y="2424"/>
                  </a:lnTo>
                  <a:lnTo>
                    <a:pt x="2565" y="2346"/>
                  </a:lnTo>
                  <a:lnTo>
                    <a:pt x="2538" y="2276"/>
                  </a:lnTo>
                  <a:lnTo>
                    <a:pt x="2504" y="2211"/>
                  </a:lnTo>
                  <a:lnTo>
                    <a:pt x="2455" y="2148"/>
                  </a:lnTo>
                  <a:lnTo>
                    <a:pt x="2424" y="2115"/>
                  </a:lnTo>
                  <a:lnTo>
                    <a:pt x="2393" y="2081"/>
                  </a:lnTo>
                  <a:lnTo>
                    <a:pt x="2361" y="2047"/>
                  </a:lnTo>
                  <a:lnTo>
                    <a:pt x="2332" y="2019"/>
                  </a:lnTo>
                  <a:lnTo>
                    <a:pt x="2302" y="1992"/>
                  </a:lnTo>
                  <a:lnTo>
                    <a:pt x="2268" y="1972"/>
                  </a:lnTo>
                  <a:lnTo>
                    <a:pt x="2235" y="1958"/>
                  </a:lnTo>
                  <a:lnTo>
                    <a:pt x="2198" y="1956"/>
                  </a:lnTo>
                  <a:lnTo>
                    <a:pt x="2169" y="1951"/>
                  </a:lnTo>
                  <a:lnTo>
                    <a:pt x="2138" y="1933"/>
                  </a:lnTo>
                  <a:lnTo>
                    <a:pt x="2112" y="1904"/>
                  </a:lnTo>
                  <a:lnTo>
                    <a:pt x="2089" y="1868"/>
                  </a:lnTo>
                  <a:lnTo>
                    <a:pt x="2073" y="1829"/>
                  </a:lnTo>
                  <a:lnTo>
                    <a:pt x="2063" y="1783"/>
                  </a:lnTo>
                  <a:lnTo>
                    <a:pt x="2063" y="1735"/>
                  </a:lnTo>
                  <a:lnTo>
                    <a:pt x="2073" y="1689"/>
                  </a:lnTo>
                  <a:lnTo>
                    <a:pt x="2055" y="1689"/>
                  </a:lnTo>
                  <a:lnTo>
                    <a:pt x="2041" y="1689"/>
                  </a:lnTo>
                  <a:lnTo>
                    <a:pt x="2026" y="1689"/>
                  </a:lnTo>
                  <a:lnTo>
                    <a:pt x="2014" y="1686"/>
                  </a:lnTo>
                  <a:lnTo>
                    <a:pt x="1997" y="1686"/>
                  </a:lnTo>
                  <a:lnTo>
                    <a:pt x="1980" y="1686"/>
                  </a:lnTo>
                  <a:lnTo>
                    <a:pt x="1956" y="1684"/>
                  </a:lnTo>
                  <a:lnTo>
                    <a:pt x="1930" y="1684"/>
                  </a:lnTo>
                  <a:lnTo>
                    <a:pt x="1910" y="1592"/>
                  </a:lnTo>
                  <a:lnTo>
                    <a:pt x="1891" y="1473"/>
                  </a:lnTo>
                  <a:lnTo>
                    <a:pt x="1886" y="1341"/>
                  </a:lnTo>
                  <a:lnTo>
                    <a:pt x="1905" y="1203"/>
                  </a:lnTo>
                  <a:close/>
                </a:path>
              </a:pathLst>
            </a:custGeom>
            <a:solidFill>
              <a:srgbClr val="f5b14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962520" cy="2992320"/>
          </a:xfrm>
          <a:prstGeom prst="rect">
            <a:avLst/>
          </a:prstGeom>
          <a:ln w="0">
            <a:noFill/>
          </a:ln>
        </p:spPr>
      </p:pic>
      <p:sp>
        <p:nvSpPr>
          <p:cNvPr id="2287" name=""/>
          <p:cNvSpPr/>
          <p:nvPr/>
        </p:nvSpPr>
        <p:spPr>
          <a:xfrm>
            <a:off x="5867280" y="3276720"/>
            <a:ext cx="2743200" cy="685800"/>
          </a:xfrm>
          <a:prstGeom prst="wedgeRoundRectCallout">
            <a:avLst>
              <a:gd name="adj1" fmla="val -41606"/>
              <a:gd name="adj2" fmla="val 134953"/>
              <a:gd name="adj3" fmla="val 16667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i, I'm John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2743200" y="1752480"/>
            <a:ext cx="3429000" cy="1371600"/>
          </a:xfrm>
          <a:prstGeom prst="cloudCallout">
            <a:avLst>
              <a:gd name="adj1" fmla="val -27777"/>
              <a:gd name="adj2" fmla="val 67824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Is it really Joh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 flipH="1" flipV="1">
            <a:off x="3352320" y="3962160"/>
            <a:ext cx="129564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2" dur="indefinite" restart="never" nodeType="tmRoot">
          <p:childTnLst>
            <p:seq>
              <p:cTn id="3153" dur="indefinite" nodeType="mainSeq">
                <p:childTnLst>
                  <p:par>
                    <p:cTn id="3154" fill="hold">
                      <p:stCondLst>
                        <p:cond delay="indefinite"/>
                      </p:stCondLst>
                      <p:childTnLst>
                        <p:par>
                          <p:cTn id="3155" fill="hold">
                            <p:stCondLst>
                              <p:cond delay="0"/>
                            </p:stCondLst>
                            <p:childTnLst>
                              <p:par>
                                <p:cTn id="3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8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9" fill="hold">
                            <p:stCondLst>
                              <p:cond delay="500"/>
                            </p:stCondLst>
                            <p:childTnLst>
                              <p:par>
                                <p:cTn id="3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2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6" dur="5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0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1" fill="hold">
                      <p:stCondLst>
                        <p:cond delay="indefinite"/>
                      </p:stCondLst>
                      <p:childTnLst>
                        <p:par>
                          <p:cTn id="3172" fill="hold">
                            <p:stCondLst>
                              <p:cond delay="0"/>
                            </p:stCondLst>
                            <p:childTnLst>
                              <p:par>
                                <p:cTn id="3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5" dur="5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rove that the ID is authen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ssword, PIN-code, function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oss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Key, Card, Token Device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ttribu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tina pattern, iris scan, fingerprint,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and geometry, signa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6" dur="indefinite" restart="never" nodeType="tmRoot">
          <p:childTnLst>
            <p:seq>
              <p:cTn id="3177" dur="indefinite" nodeType="mainSeq">
                <p:childTnLst>
                  <p:par>
                    <p:cTn id="3178" fill="hold">
                      <p:stCondLst>
                        <p:cond delay="indefinite"/>
                      </p:stCondLst>
                      <p:childTnLst>
                        <p:par>
                          <p:cTn id="3179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2" dur="500"/>
                                        <p:tgtEl>
                                          <p:spTgt spid="2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fill="hold">
                      <p:stCondLst>
                        <p:cond delay="indefinite"/>
                      </p:stCondLst>
                      <p:childTnLst>
                        <p:par>
                          <p:cTn id="3184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7" dur="500"/>
                                        <p:tgtEl>
                                          <p:spTgt spid="2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8" fill="hold">
                      <p:stCondLst>
                        <p:cond delay="indefinite"/>
                      </p:stCondLst>
                      <p:childTnLst>
                        <p:par>
                          <p:cTn id="3189" fill="hold">
                            <p:stCondLst>
                              <p:cond delay="0"/>
                            </p:stCondLst>
                            <p:childTnLst>
                              <p:par>
                                <p:cTn id="31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2" dur="500"/>
                                        <p:tgtEl>
                                          <p:spTgt spid="2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3" fill="hold">
                      <p:stCondLst>
                        <p:cond delay="indefinite"/>
                      </p:stCondLst>
                      <p:childTnLst>
                        <p:par>
                          <p:cTn id="3194" fill="hold">
                            <p:stCondLst>
                              <p:cond delay="0"/>
                            </p:stCondLst>
                            <p:childTnLst>
                              <p:par>
                                <p:cTn id="31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7" dur="500"/>
                                        <p:tgtEl>
                                          <p:spTgt spid="2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8" fill="hold">
                      <p:stCondLst>
                        <p:cond delay="indefinite"/>
                      </p:stCondLst>
                      <p:childTnLst>
                        <p:par>
                          <p:cTn id="3199" fill="hold">
                            <p:stCondLst>
                              <p:cond delay="0"/>
                            </p:stCondLst>
                            <p:childTnLst>
                              <p:par>
                                <p:cTn id="32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2" dur="500"/>
                                        <p:tgtEl>
                                          <p:spTgt spid="2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fill="hold">
                      <p:stCondLst>
                        <p:cond delay="indefinite"/>
                      </p:stCondLst>
                      <p:childTnLst>
                        <p:par>
                          <p:cTn id="3204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7" dur="500"/>
                                        <p:tgtEl>
                                          <p:spTgt spid="2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2" dur="500"/>
                                        <p:tgtEl>
                                          <p:spTgt spid="2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rotection Doma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tection domain = { access rights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ccess right = &lt;object, authorized operations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1905120"/>
            <a:ext cx="5410440" cy="2590560"/>
          </a:xfrm>
          <a:prstGeom prst="ellipse">
            <a:avLst/>
          </a:prstGeom>
          <a:solidFill>
            <a:srgbClr val="cecec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tection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2514600"/>
            <a:ext cx="1447920" cy="685800"/>
          </a:xfrm>
          <a:prstGeom prst="rect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2514600"/>
            <a:ext cx="1295280" cy="762120"/>
          </a:xfrm>
          <a:prstGeom prst="plus">
            <a:avLst>
              <a:gd name="adj" fmla="val 1895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es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2666880"/>
            <a:ext cx="1295280" cy="762120"/>
          </a:xfrm>
          <a:prstGeom prst="plus">
            <a:avLst>
              <a:gd name="adj" fmla="val 1895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es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819520"/>
            <a:ext cx="1295640" cy="761760"/>
          </a:xfrm>
          <a:prstGeom prst="plus">
            <a:avLst>
              <a:gd name="adj" fmla="val 1895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es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2" name=""/>
          <p:cNvGrpSpPr/>
          <p:nvPr/>
        </p:nvGrpSpPr>
        <p:grpSpPr>
          <a:xfrm>
            <a:off x="6748200" y="2010960"/>
            <a:ext cx="1495440" cy="2013120"/>
            <a:chOff x="6748200" y="2010960"/>
            <a:chExt cx="1495440" cy="2013120"/>
          </a:xfrm>
        </p:grpSpPr>
        <p:sp>
          <p:nvSpPr>
            <p:cNvPr id="2293" name=""/>
            <p:cNvSpPr/>
            <p:nvPr/>
          </p:nvSpPr>
          <p:spPr>
            <a:xfrm>
              <a:off x="6748200" y="2010960"/>
              <a:ext cx="1495440" cy="201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748200" y="2343960"/>
              <a:ext cx="1424160" cy="1680120"/>
            </a:xfrm>
            <a:custGeom>
              <a:avLst/>
              <a:gdLst/>
              <a:ahLst/>
              <a:rect l="l" t="t" r="r" b="b"/>
              <a:pathLst>
                <a:path w="3593" h="4239">
                  <a:moveTo>
                    <a:pt x="972" y="46"/>
                  </a:moveTo>
                  <a:lnTo>
                    <a:pt x="1052" y="33"/>
                  </a:lnTo>
                  <a:lnTo>
                    <a:pt x="1131" y="23"/>
                  </a:lnTo>
                  <a:lnTo>
                    <a:pt x="1211" y="12"/>
                  </a:lnTo>
                  <a:lnTo>
                    <a:pt x="1291" y="7"/>
                  </a:lnTo>
                  <a:lnTo>
                    <a:pt x="1372" y="2"/>
                  </a:lnTo>
                  <a:lnTo>
                    <a:pt x="1452" y="0"/>
                  </a:lnTo>
                  <a:lnTo>
                    <a:pt x="1532" y="0"/>
                  </a:lnTo>
                  <a:lnTo>
                    <a:pt x="1614" y="0"/>
                  </a:lnTo>
                  <a:lnTo>
                    <a:pt x="1694" y="5"/>
                  </a:lnTo>
                  <a:lnTo>
                    <a:pt x="1775" y="10"/>
                  </a:lnTo>
                  <a:lnTo>
                    <a:pt x="1855" y="17"/>
                  </a:lnTo>
                  <a:lnTo>
                    <a:pt x="1935" y="28"/>
                  </a:lnTo>
                  <a:lnTo>
                    <a:pt x="2013" y="39"/>
                  </a:lnTo>
                  <a:lnTo>
                    <a:pt x="2094" y="54"/>
                  </a:lnTo>
                  <a:lnTo>
                    <a:pt x="2175" y="70"/>
                  </a:lnTo>
                  <a:lnTo>
                    <a:pt x="2255" y="87"/>
                  </a:lnTo>
                  <a:lnTo>
                    <a:pt x="2333" y="106"/>
                  </a:lnTo>
                  <a:lnTo>
                    <a:pt x="2411" y="126"/>
                  </a:lnTo>
                  <a:lnTo>
                    <a:pt x="2488" y="150"/>
                  </a:lnTo>
                  <a:lnTo>
                    <a:pt x="2566" y="177"/>
                  </a:lnTo>
                  <a:lnTo>
                    <a:pt x="2645" y="202"/>
                  </a:lnTo>
                  <a:lnTo>
                    <a:pt x="2723" y="230"/>
                  </a:lnTo>
                  <a:lnTo>
                    <a:pt x="2798" y="262"/>
                  </a:lnTo>
                  <a:lnTo>
                    <a:pt x="2874" y="293"/>
                  </a:lnTo>
                  <a:lnTo>
                    <a:pt x="2949" y="330"/>
                  </a:lnTo>
                  <a:lnTo>
                    <a:pt x="3022" y="363"/>
                  </a:lnTo>
                  <a:lnTo>
                    <a:pt x="3097" y="402"/>
                  </a:lnTo>
                  <a:lnTo>
                    <a:pt x="3170" y="441"/>
                  </a:lnTo>
                  <a:lnTo>
                    <a:pt x="3240" y="480"/>
                  </a:lnTo>
                  <a:lnTo>
                    <a:pt x="3313" y="524"/>
                  </a:lnTo>
                  <a:lnTo>
                    <a:pt x="3379" y="565"/>
                  </a:lnTo>
                  <a:lnTo>
                    <a:pt x="3450" y="613"/>
                  </a:lnTo>
                  <a:lnTo>
                    <a:pt x="3418" y="714"/>
                  </a:lnTo>
                  <a:lnTo>
                    <a:pt x="3374" y="808"/>
                  </a:lnTo>
                  <a:lnTo>
                    <a:pt x="3325" y="903"/>
                  </a:lnTo>
                  <a:lnTo>
                    <a:pt x="3276" y="1007"/>
                  </a:lnTo>
                  <a:lnTo>
                    <a:pt x="3234" y="1130"/>
                  </a:lnTo>
                  <a:lnTo>
                    <a:pt x="3209" y="1274"/>
                  </a:lnTo>
                  <a:lnTo>
                    <a:pt x="3201" y="1454"/>
                  </a:lnTo>
                  <a:lnTo>
                    <a:pt x="3219" y="1675"/>
                  </a:lnTo>
                  <a:lnTo>
                    <a:pt x="3279" y="1682"/>
                  </a:lnTo>
                  <a:lnTo>
                    <a:pt x="3338" y="1688"/>
                  </a:lnTo>
                  <a:lnTo>
                    <a:pt x="3396" y="1693"/>
                  </a:lnTo>
                  <a:lnTo>
                    <a:pt x="3450" y="1701"/>
                  </a:lnTo>
                  <a:lnTo>
                    <a:pt x="3497" y="1711"/>
                  </a:lnTo>
                  <a:lnTo>
                    <a:pt x="3536" y="1732"/>
                  </a:lnTo>
                  <a:lnTo>
                    <a:pt x="3564" y="1761"/>
                  </a:lnTo>
                  <a:lnTo>
                    <a:pt x="3580" y="1803"/>
                  </a:lnTo>
                  <a:lnTo>
                    <a:pt x="3593" y="1883"/>
                  </a:lnTo>
                  <a:lnTo>
                    <a:pt x="3590" y="1980"/>
                  </a:lnTo>
                  <a:lnTo>
                    <a:pt x="3575" y="2082"/>
                  </a:lnTo>
                  <a:lnTo>
                    <a:pt x="3549" y="2192"/>
                  </a:lnTo>
                  <a:lnTo>
                    <a:pt x="3515" y="2306"/>
                  </a:lnTo>
                  <a:lnTo>
                    <a:pt x="3476" y="2417"/>
                  </a:lnTo>
                  <a:lnTo>
                    <a:pt x="3435" y="2524"/>
                  </a:lnTo>
                  <a:lnTo>
                    <a:pt x="3393" y="2621"/>
                  </a:lnTo>
                  <a:lnTo>
                    <a:pt x="3374" y="2631"/>
                  </a:lnTo>
                  <a:lnTo>
                    <a:pt x="3354" y="2641"/>
                  </a:lnTo>
                  <a:lnTo>
                    <a:pt x="3328" y="2650"/>
                  </a:lnTo>
                  <a:lnTo>
                    <a:pt x="3299" y="2657"/>
                  </a:lnTo>
                  <a:lnTo>
                    <a:pt x="3270" y="2662"/>
                  </a:lnTo>
                  <a:lnTo>
                    <a:pt x="3238" y="2667"/>
                  </a:lnTo>
                  <a:lnTo>
                    <a:pt x="3204" y="2672"/>
                  </a:lnTo>
                  <a:lnTo>
                    <a:pt x="3167" y="2675"/>
                  </a:lnTo>
                  <a:lnTo>
                    <a:pt x="3133" y="2677"/>
                  </a:lnTo>
                  <a:lnTo>
                    <a:pt x="3097" y="2680"/>
                  </a:lnTo>
                  <a:lnTo>
                    <a:pt x="3063" y="2680"/>
                  </a:lnTo>
                  <a:lnTo>
                    <a:pt x="3032" y="2680"/>
                  </a:lnTo>
                  <a:lnTo>
                    <a:pt x="3000" y="2677"/>
                  </a:lnTo>
                  <a:lnTo>
                    <a:pt x="2972" y="2677"/>
                  </a:lnTo>
                  <a:lnTo>
                    <a:pt x="2946" y="2675"/>
                  </a:lnTo>
                  <a:lnTo>
                    <a:pt x="2925" y="2672"/>
                  </a:lnTo>
                  <a:lnTo>
                    <a:pt x="2905" y="2820"/>
                  </a:lnTo>
                  <a:lnTo>
                    <a:pt x="2889" y="2961"/>
                  </a:lnTo>
                  <a:lnTo>
                    <a:pt x="2871" y="3094"/>
                  </a:lnTo>
                  <a:lnTo>
                    <a:pt x="2855" y="3220"/>
                  </a:lnTo>
                  <a:lnTo>
                    <a:pt x="2837" y="3342"/>
                  </a:lnTo>
                  <a:lnTo>
                    <a:pt x="2821" y="3458"/>
                  </a:lnTo>
                  <a:lnTo>
                    <a:pt x="2803" y="3569"/>
                  </a:lnTo>
                  <a:lnTo>
                    <a:pt x="2782" y="3677"/>
                  </a:lnTo>
                  <a:lnTo>
                    <a:pt x="2762" y="3774"/>
                  </a:lnTo>
                  <a:lnTo>
                    <a:pt x="2738" y="3862"/>
                  </a:lnTo>
                  <a:lnTo>
                    <a:pt x="2712" y="3938"/>
                  </a:lnTo>
                  <a:lnTo>
                    <a:pt x="2687" y="4005"/>
                  </a:lnTo>
                  <a:lnTo>
                    <a:pt x="2660" y="4060"/>
                  </a:lnTo>
                  <a:lnTo>
                    <a:pt x="2632" y="4104"/>
                  </a:lnTo>
                  <a:lnTo>
                    <a:pt x="2609" y="4135"/>
                  </a:lnTo>
                  <a:lnTo>
                    <a:pt x="2588" y="4153"/>
                  </a:lnTo>
                  <a:lnTo>
                    <a:pt x="2564" y="4172"/>
                  </a:lnTo>
                  <a:lnTo>
                    <a:pt x="2532" y="4189"/>
                  </a:lnTo>
                  <a:lnTo>
                    <a:pt x="2493" y="4203"/>
                  </a:lnTo>
                  <a:lnTo>
                    <a:pt x="2450" y="4215"/>
                  </a:lnTo>
                  <a:lnTo>
                    <a:pt x="2401" y="4223"/>
                  </a:lnTo>
                  <a:lnTo>
                    <a:pt x="2345" y="4230"/>
                  </a:lnTo>
                  <a:lnTo>
                    <a:pt x="2284" y="4237"/>
                  </a:lnTo>
                  <a:lnTo>
                    <a:pt x="2216" y="4239"/>
                  </a:lnTo>
                  <a:lnTo>
                    <a:pt x="2146" y="4239"/>
                  </a:lnTo>
                  <a:lnTo>
                    <a:pt x="2071" y="4237"/>
                  </a:lnTo>
                  <a:lnTo>
                    <a:pt x="1993" y="4230"/>
                  </a:lnTo>
                  <a:lnTo>
                    <a:pt x="1910" y="4225"/>
                  </a:lnTo>
                  <a:lnTo>
                    <a:pt x="1826" y="4215"/>
                  </a:lnTo>
                  <a:lnTo>
                    <a:pt x="1738" y="4205"/>
                  </a:lnTo>
                  <a:lnTo>
                    <a:pt x="1648" y="4194"/>
                  </a:lnTo>
                  <a:lnTo>
                    <a:pt x="1554" y="4179"/>
                  </a:lnTo>
                  <a:lnTo>
                    <a:pt x="1460" y="4164"/>
                  </a:lnTo>
                  <a:lnTo>
                    <a:pt x="1367" y="4145"/>
                  </a:lnTo>
                  <a:lnTo>
                    <a:pt x="1270" y="4128"/>
                  </a:lnTo>
                  <a:lnTo>
                    <a:pt x="1175" y="4106"/>
                  </a:lnTo>
                  <a:lnTo>
                    <a:pt x="1078" y="4082"/>
                  </a:lnTo>
                  <a:lnTo>
                    <a:pt x="983" y="4060"/>
                  </a:lnTo>
                  <a:lnTo>
                    <a:pt x="886" y="4034"/>
                  </a:lnTo>
                  <a:lnTo>
                    <a:pt x="792" y="4007"/>
                  </a:lnTo>
                  <a:lnTo>
                    <a:pt x="699" y="3980"/>
                  </a:lnTo>
                  <a:lnTo>
                    <a:pt x="608" y="3948"/>
                  </a:lnTo>
                  <a:lnTo>
                    <a:pt x="520" y="3919"/>
                  </a:lnTo>
                  <a:lnTo>
                    <a:pt x="435" y="3885"/>
                  </a:lnTo>
                  <a:lnTo>
                    <a:pt x="350" y="3854"/>
                  </a:lnTo>
                  <a:lnTo>
                    <a:pt x="270" y="3818"/>
                  </a:lnTo>
                  <a:lnTo>
                    <a:pt x="195" y="3784"/>
                  </a:lnTo>
                  <a:lnTo>
                    <a:pt x="122" y="3747"/>
                  </a:lnTo>
                  <a:lnTo>
                    <a:pt x="76" y="3725"/>
                  </a:lnTo>
                  <a:lnTo>
                    <a:pt x="42" y="3688"/>
                  </a:lnTo>
                  <a:lnTo>
                    <a:pt x="20" y="3636"/>
                  </a:lnTo>
                  <a:lnTo>
                    <a:pt x="10" y="3572"/>
                  </a:lnTo>
                  <a:lnTo>
                    <a:pt x="10" y="3490"/>
                  </a:lnTo>
                  <a:lnTo>
                    <a:pt x="18" y="3400"/>
                  </a:lnTo>
                  <a:lnTo>
                    <a:pt x="37" y="3298"/>
                  </a:lnTo>
                  <a:lnTo>
                    <a:pt x="61" y="3187"/>
                  </a:lnTo>
                  <a:lnTo>
                    <a:pt x="91" y="3065"/>
                  </a:lnTo>
                  <a:lnTo>
                    <a:pt x="130" y="2934"/>
                  </a:lnTo>
                  <a:lnTo>
                    <a:pt x="172" y="2798"/>
                  </a:lnTo>
                  <a:lnTo>
                    <a:pt x="219" y="2652"/>
                  </a:lnTo>
                  <a:lnTo>
                    <a:pt x="268" y="2502"/>
                  </a:lnTo>
                  <a:lnTo>
                    <a:pt x="320" y="2345"/>
                  </a:lnTo>
                  <a:lnTo>
                    <a:pt x="372" y="2187"/>
                  </a:lnTo>
                  <a:lnTo>
                    <a:pt x="426" y="2023"/>
                  </a:lnTo>
                  <a:lnTo>
                    <a:pt x="398" y="2010"/>
                  </a:lnTo>
                  <a:lnTo>
                    <a:pt x="369" y="1997"/>
                  </a:lnTo>
                  <a:lnTo>
                    <a:pt x="338" y="1987"/>
                  </a:lnTo>
                  <a:lnTo>
                    <a:pt x="307" y="1976"/>
                  </a:lnTo>
                  <a:lnTo>
                    <a:pt x="275" y="1966"/>
                  </a:lnTo>
                  <a:lnTo>
                    <a:pt x="241" y="1958"/>
                  </a:lnTo>
                  <a:lnTo>
                    <a:pt x="211" y="1948"/>
                  </a:lnTo>
                  <a:lnTo>
                    <a:pt x="182" y="1939"/>
                  </a:lnTo>
                  <a:lnTo>
                    <a:pt x="151" y="1929"/>
                  </a:lnTo>
                  <a:lnTo>
                    <a:pt x="125" y="1917"/>
                  </a:lnTo>
                  <a:lnTo>
                    <a:pt x="100" y="1907"/>
                  </a:lnTo>
                  <a:lnTo>
                    <a:pt x="73" y="1893"/>
                  </a:lnTo>
                  <a:lnTo>
                    <a:pt x="52" y="1878"/>
                  </a:lnTo>
                  <a:lnTo>
                    <a:pt x="32" y="1859"/>
                  </a:lnTo>
                  <a:lnTo>
                    <a:pt x="15" y="1839"/>
                  </a:lnTo>
                  <a:lnTo>
                    <a:pt x="3" y="1818"/>
                  </a:lnTo>
                  <a:lnTo>
                    <a:pt x="0" y="1719"/>
                  </a:lnTo>
                  <a:lnTo>
                    <a:pt x="18" y="1589"/>
                  </a:lnTo>
                  <a:lnTo>
                    <a:pt x="49" y="1441"/>
                  </a:lnTo>
                  <a:lnTo>
                    <a:pt x="91" y="1286"/>
                  </a:lnTo>
                  <a:lnTo>
                    <a:pt x="136" y="1135"/>
                  </a:lnTo>
                  <a:lnTo>
                    <a:pt x="182" y="1000"/>
                  </a:lnTo>
                  <a:lnTo>
                    <a:pt x="226" y="895"/>
                  </a:lnTo>
                  <a:lnTo>
                    <a:pt x="263" y="828"/>
                  </a:lnTo>
                  <a:lnTo>
                    <a:pt x="286" y="820"/>
                  </a:lnTo>
                  <a:lnTo>
                    <a:pt x="309" y="813"/>
                  </a:lnTo>
                  <a:lnTo>
                    <a:pt x="333" y="810"/>
                  </a:lnTo>
                  <a:lnTo>
                    <a:pt x="359" y="808"/>
                  </a:lnTo>
                  <a:lnTo>
                    <a:pt x="384" y="810"/>
                  </a:lnTo>
                  <a:lnTo>
                    <a:pt x="413" y="813"/>
                  </a:lnTo>
                  <a:lnTo>
                    <a:pt x="442" y="815"/>
                  </a:lnTo>
                  <a:lnTo>
                    <a:pt x="471" y="823"/>
                  </a:lnTo>
                  <a:lnTo>
                    <a:pt x="499" y="828"/>
                  </a:lnTo>
                  <a:lnTo>
                    <a:pt x="530" y="839"/>
                  </a:lnTo>
                  <a:lnTo>
                    <a:pt x="561" y="847"/>
                  </a:lnTo>
                  <a:lnTo>
                    <a:pt x="593" y="857"/>
                  </a:lnTo>
                  <a:lnTo>
                    <a:pt x="624" y="869"/>
                  </a:lnTo>
                  <a:lnTo>
                    <a:pt x="658" y="880"/>
                  </a:lnTo>
                  <a:lnTo>
                    <a:pt x="692" y="890"/>
                  </a:lnTo>
                  <a:lnTo>
                    <a:pt x="726" y="903"/>
                  </a:lnTo>
                  <a:lnTo>
                    <a:pt x="762" y="789"/>
                  </a:lnTo>
                  <a:lnTo>
                    <a:pt x="798" y="675"/>
                  </a:lnTo>
                  <a:lnTo>
                    <a:pt x="831" y="563"/>
                  </a:lnTo>
                  <a:lnTo>
                    <a:pt x="865" y="451"/>
                  </a:lnTo>
                  <a:lnTo>
                    <a:pt x="894" y="345"/>
                  </a:lnTo>
                  <a:lnTo>
                    <a:pt x="923" y="241"/>
                  </a:lnTo>
                  <a:lnTo>
                    <a:pt x="949" y="143"/>
                  </a:lnTo>
                  <a:lnTo>
                    <a:pt x="972" y="46"/>
                  </a:lnTo>
                  <a:close/>
                </a:path>
              </a:pathLst>
            </a:custGeom>
            <a:solidFill>
              <a:srgbClr val="ffe9b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7284240" y="3098520"/>
              <a:ext cx="284040" cy="187200"/>
            </a:xfrm>
            <a:custGeom>
              <a:avLst/>
              <a:gdLst/>
              <a:ahLst/>
              <a:rect l="l" t="t" r="r" b="b"/>
              <a:pathLst>
                <a:path w="716" h="469">
                  <a:moveTo>
                    <a:pt x="711" y="469"/>
                  </a:moveTo>
                  <a:lnTo>
                    <a:pt x="716" y="420"/>
                  </a:lnTo>
                  <a:lnTo>
                    <a:pt x="716" y="369"/>
                  </a:lnTo>
                  <a:lnTo>
                    <a:pt x="708" y="313"/>
                  </a:lnTo>
                  <a:lnTo>
                    <a:pt x="697" y="259"/>
                  </a:lnTo>
                  <a:lnTo>
                    <a:pt x="682" y="209"/>
                  </a:lnTo>
                  <a:lnTo>
                    <a:pt x="663" y="163"/>
                  </a:lnTo>
                  <a:lnTo>
                    <a:pt x="643" y="129"/>
                  </a:lnTo>
                  <a:lnTo>
                    <a:pt x="619" y="103"/>
                  </a:lnTo>
                  <a:lnTo>
                    <a:pt x="568" y="66"/>
                  </a:lnTo>
                  <a:lnTo>
                    <a:pt x="515" y="39"/>
                  </a:lnTo>
                  <a:lnTo>
                    <a:pt x="463" y="17"/>
                  </a:lnTo>
                  <a:lnTo>
                    <a:pt x="415" y="5"/>
                  </a:lnTo>
                  <a:lnTo>
                    <a:pt x="367" y="0"/>
                  </a:lnTo>
                  <a:lnTo>
                    <a:pt x="320" y="2"/>
                  </a:lnTo>
                  <a:lnTo>
                    <a:pt x="276" y="10"/>
                  </a:lnTo>
                  <a:lnTo>
                    <a:pt x="233" y="22"/>
                  </a:lnTo>
                  <a:lnTo>
                    <a:pt x="194" y="44"/>
                  </a:lnTo>
                  <a:lnTo>
                    <a:pt x="157" y="66"/>
                  </a:lnTo>
                  <a:lnTo>
                    <a:pt x="123" y="95"/>
                  </a:lnTo>
                  <a:lnTo>
                    <a:pt x="92" y="129"/>
                  </a:lnTo>
                  <a:lnTo>
                    <a:pt x="63" y="165"/>
                  </a:lnTo>
                  <a:lnTo>
                    <a:pt x="37" y="204"/>
                  </a:lnTo>
                  <a:lnTo>
                    <a:pt x="17" y="248"/>
                  </a:lnTo>
                  <a:lnTo>
                    <a:pt x="0" y="2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7102080" y="3488760"/>
              <a:ext cx="486720" cy="215640"/>
            </a:xfrm>
            <a:custGeom>
              <a:avLst/>
              <a:gdLst/>
              <a:ahLst/>
              <a:rect l="l" t="t" r="r" b="b"/>
              <a:pathLst>
                <a:path w="1226" h="541">
                  <a:moveTo>
                    <a:pt x="0" y="0"/>
                  </a:moveTo>
                  <a:lnTo>
                    <a:pt x="13" y="58"/>
                  </a:lnTo>
                  <a:lnTo>
                    <a:pt x="27" y="107"/>
                  </a:lnTo>
                  <a:lnTo>
                    <a:pt x="42" y="156"/>
                  </a:lnTo>
                  <a:lnTo>
                    <a:pt x="65" y="211"/>
                  </a:lnTo>
                  <a:lnTo>
                    <a:pt x="73" y="226"/>
                  </a:lnTo>
                  <a:lnTo>
                    <a:pt x="83" y="245"/>
                  </a:lnTo>
                  <a:lnTo>
                    <a:pt x="97" y="265"/>
                  </a:lnTo>
                  <a:lnTo>
                    <a:pt x="112" y="287"/>
                  </a:lnTo>
                  <a:lnTo>
                    <a:pt x="127" y="310"/>
                  </a:lnTo>
                  <a:lnTo>
                    <a:pt x="146" y="333"/>
                  </a:lnTo>
                  <a:lnTo>
                    <a:pt x="167" y="354"/>
                  </a:lnTo>
                  <a:lnTo>
                    <a:pt x="187" y="372"/>
                  </a:lnTo>
                  <a:lnTo>
                    <a:pt x="224" y="398"/>
                  </a:lnTo>
                  <a:lnTo>
                    <a:pt x="262" y="422"/>
                  </a:lnTo>
                  <a:lnTo>
                    <a:pt x="304" y="445"/>
                  </a:lnTo>
                  <a:lnTo>
                    <a:pt x="348" y="463"/>
                  </a:lnTo>
                  <a:lnTo>
                    <a:pt x="395" y="481"/>
                  </a:lnTo>
                  <a:lnTo>
                    <a:pt x="442" y="497"/>
                  </a:lnTo>
                  <a:lnTo>
                    <a:pt x="488" y="512"/>
                  </a:lnTo>
                  <a:lnTo>
                    <a:pt x="539" y="522"/>
                  </a:lnTo>
                  <a:lnTo>
                    <a:pt x="587" y="531"/>
                  </a:lnTo>
                  <a:lnTo>
                    <a:pt x="636" y="536"/>
                  </a:lnTo>
                  <a:lnTo>
                    <a:pt x="687" y="541"/>
                  </a:lnTo>
                  <a:lnTo>
                    <a:pt x="735" y="541"/>
                  </a:lnTo>
                  <a:lnTo>
                    <a:pt x="784" y="539"/>
                  </a:lnTo>
                  <a:lnTo>
                    <a:pt x="832" y="534"/>
                  </a:lnTo>
                  <a:lnTo>
                    <a:pt x="879" y="522"/>
                  </a:lnTo>
                  <a:lnTo>
                    <a:pt x="925" y="512"/>
                  </a:lnTo>
                  <a:lnTo>
                    <a:pt x="932" y="510"/>
                  </a:lnTo>
                  <a:lnTo>
                    <a:pt x="951" y="500"/>
                  </a:lnTo>
                  <a:lnTo>
                    <a:pt x="980" y="481"/>
                  </a:lnTo>
                  <a:lnTo>
                    <a:pt x="1019" y="458"/>
                  </a:lnTo>
                  <a:lnTo>
                    <a:pt x="1065" y="430"/>
                  </a:lnTo>
                  <a:lnTo>
                    <a:pt x="1114" y="393"/>
                  </a:lnTo>
                  <a:lnTo>
                    <a:pt x="1170" y="354"/>
                  </a:lnTo>
                  <a:lnTo>
                    <a:pt x="1226" y="31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975000" y="3364920"/>
              <a:ext cx="212400" cy="186840"/>
            </a:xfrm>
            <a:custGeom>
              <a:avLst/>
              <a:gdLst/>
              <a:ahLst/>
              <a:rect l="l" t="t" r="r" b="b"/>
              <a:pathLst>
                <a:path w="536" h="472">
                  <a:moveTo>
                    <a:pt x="536" y="0"/>
                  </a:moveTo>
                  <a:lnTo>
                    <a:pt x="523" y="22"/>
                  </a:lnTo>
                  <a:lnTo>
                    <a:pt x="507" y="51"/>
                  </a:lnTo>
                  <a:lnTo>
                    <a:pt x="490" y="83"/>
                  </a:lnTo>
                  <a:lnTo>
                    <a:pt x="471" y="116"/>
                  </a:lnTo>
                  <a:lnTo>
                    <a:pt x="451" y="153"/>
                  </a:lnTo>
                  <a:lnTo>
                    <a:pt x="427" y="189"/>
                  </a:lnTo>
                  <a:lnTo>
                    <a:pt x="401" y="226"/>
                  </a:lnTo>
                  <a:lnTo>
                    <a:pt x="372" y="265"/>
                  </a:lnTo>
                  <a:lnTo>
                    <a:pt x="339" y="301"/>
                  </a:lnTo>
                  <a:lnTo>
                    <a:pt x="305" y="335"/>
                  </a:lnTo>
                  <a:lnTo>
                    <a:pt x="266" y="369"/>
                  </a:lnTo>
                  <a:lnTo>
                    <a:pt x="221" y="396"/>
                  </a:lnTo>
                  <a:lnTo>
                    <a:pt x="172" y="423"/>
                  </a:lnTo>
                  <a:lnTo>
                    <a:pt x="121" y="446"/>
                  </a:lnTo>
                  <a:lnTo>
                    <a:pt x="63" y="462"/>
                  </a:lnTo>
                  <a:lnTo>
                    <a:pt x="0" y="47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7571160" y="3507840"/>
              <a:ext cx="90360" cy="186840"/>
            </a:xfrm>
            <a:custGeom>
              <a:avLst/>
              <a:gdLst/>
              <a:ahLst/>
              <a:rect l="l" t="t" r="r" b="b"/>
              <a:pathLst>
                <a:path w="229" h="470">
                  <a:moveTo>
                    <a:pt x="0" y="0"/>
                  </a:moveTo>
                  <a:lnTo>
                    <a:pt x="3" y="65"/>
                  </a:lnTo>
                  <a:lnTo>
                    <a:pt x="13" y="133"/>
                  </a:lnTo>
                  <a:lnTo>
                    <a:pt x="29" y="201"/>
                  </a:lnTo>
                  <a:lnTo>
                    <a:pt x="52" y="263"/>
                  </a:lnTo>
                  <a:lnTo>
                    <a:pt x="80" y="325"/>
                  </a:lnTo>
                  <a:lnTo>
                    <a:pt x="122" y="380"/>
                  </a:lnTo>
                  <a:lnTo>
                    <a:pt x="170" y="429"/>
                  </a:lnTo>
                  <a:lnTo>
                    <a:pt x="229" y="4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7620480" y="2899080"/>
              <a:ext cx="23400" cy="161280"/>
            </a:xfrm>
            <a:custGeom>
              <a:avLst/>
              <a:gdLst/>
              <a:ahLst/>
              <a:rect l="l" t="t" r="r" b="b"/>
              <a:pathLst>
                <a:path w="63" h="408">
                  <a:moveTo>
                    <a:pt x="0" y="0"/>
                  </a:moveTo>
                  <a:lnTo>
                    <a:pt x="22" y="93"/>
                  </a:lnTo>
                  <a:lnTo>
                    <a:pt x="37" y="200"/>
                  </a:lnTo>
                  <a:lnTo>
                    <a:pt x="53" y="307"/>
                  </a:lnTo>
                  <a:lnTo>
                    <a:pt x="63" y="40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352640" y="2849760"/>
              <a:ext cx="85320" cy="107640"/>
            </a:xfrm>
            <a:custGeom>
              <a:avLst/>
              <a:gdLst/>
              <a:ahLst/>
              <a:rect l="l" t="t" r="r" b="b"/>
              <a:pathLst>
                <a:path w="219" h="270">
                  <a:moveTo>
                    <a:pt x="219" y="0"/>
                  </a:moveTo>
                  <a:lnTo>
                    <a:pt x="192" y="33"/>
                  </a:lnTo>
                  <a:lnTo>
                    <a:pt x="167" y="67"/>
                  </a:lnTo>
                  <a:lnTo>
                    <a:pt x="138" y="101"/>
                  </a:lnTo>
                  <a:lnTo>
                    <a:pt x="110" y="134"/>
                  </a:lnTo>
                  <a:lnTo>
                    <a:pt x="81" y="168"/>
                  </a:lnTo>
                  <a:lnTo>
                    <a:pt x="53" y="202"/>
                  </a:lnTo>
                  <a:lnTo>
                    <a:pt x="27" y="236"/>
                  </a:lnTo>
                  <a:lnTo>
                    <a:pt x="0" y="2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884640" y="2010960"/>
              <a:ext cx="1359000" cy="1182600"/>
            </a:xfrm>
            <a:custGeom>
              <a:avLst/>
              <a:gdLst/>
              <a:ahLst/>
              <a:rect l="l" t="t" r="r" b="b"/>
              <a:pathLst>
                <a:path w="3427" h="2982">
                  <a:moveTo>
                    <a:pt x="1905" y="1203"/>
                  </a:moveTo>
                  <a:lnTo>
                    <a:pt x="1886" y="1247"/>
                  </a:lnTo>
                  <a:lnTo>
                    <a:pt x="1871" y="1291"/>
                  </a:lnTo>
                  <a:lnTo>
                    <a:pt x="1852" y="1335"/>
                  </a:lnTo>
                  <a:lnTo>
                    <a:pt x="1829" y="1374"/>
                  </a:lnTo>
                  <a:lnTo>
                    <a:pt x="1788" y="1416"/>
                  </a:lnTo>
                  <a:lnTo>
                    <a:pt x="1740" y="1458"/>
                  </a:lnTo>
                  <a:lnTo>
                    <a:pt x="1691" y="1499"/>
                  </a:lnTo>
                  <a:lnTo>
                    <a:pt x="1642" y="1538"/>
                  </a:lnTo>
                  <a:lnTo>
                    <a:pt x="1590" y="1574"/>
                  </a:lnTo>
                  <a:lnTo>
                    <a:pt x="1538" y="1611"/>
                  </a:lnTo>
                  <a:lnTo>
                    <a:pt x="1492" y="1645"/>
                  </a:lnTo>
                  <a:lnTo>
                    <a:pt x="1444" y="1679"/>
                  </a:lnTo>
                  <a:lnTo>
                    <a:pt x="1408" y="1701"/>
                  </a:lnTo>
                  <a:lnTo>
                    <a:pt x="1374" y="1715"/>
                  </a:lnTo>
                  <a:lnTo>
                    <a:pt x="1344" y="1722"/>
                  </a:lnTo>
                  <a:lnTo>
                    <a:pt x="1317" y="1720"/>
                  </a:lnTo>
                  <a:lnTo>
                    <a:pt x="1291" y="1712"/>
                  </a:lnTo>
                  <a:lnTo>
                    <a:pt x="1265" y="1696"/>
                  </a:lnTo>
                  <a:lnTo>
                    <a:pt x="1237" y="1676"/>
                  </a:lnTo>
                  <a:lnTo>
                    <a:pt x="1208" y="1647"/>
                  </a:lnTo>
                  <a:lnTo>
                    <a:pt x="1167" y="1662"/>
                  </a:lnTo>
                  <a:lnTo>
                    <a:pt x="1133" y="1679"/>
                  </a:lnTo>
                  <a:lnTo>
                    <a:pt x="1104" y="1694"/>
                  </a:lnTo>
                  <a:lnTo>
                    <a:pt x="1078" y="1712"/>
                  </a:lnTo>
                  <a:lnTo>
                    <a:pt x="1055" y="1730"/>
                  </a:lnTo>
                  <a:lnTo>
                    <a:pt x="1036" y="1751"/>
                  </a:lnTo>
                  <a:lnTo>
                    <a:pt x="1019" y="1769"/>
                  </a:lnTo>
                  <a:lnTo>
                    <a:pt x="1000" y="1793"/>
                  </a:lnTo>
                  <a:lnTo>
                    <a:pt x="982" y="1813"/>
                  </a:lnTo>
                  <a:lnTo>
                    <a:pt x="964" y="1837"/>
                  </a:lnTo>
                  <a:lnTo>
                    <a:pt x="946" y="1863"/>
                  </a:lnTo>
                  <a:lnTo>
                    <a:pt x="922" y="1886"/>
                  </a:lnTo>
                  <a:lnTo>
                    <a:pt x="896" y="1914"/>
                  </a:lnTo>
                  <a:lnTo>
                    <a:pt x="866" y="1941"/>
                  </a:lnTo>
                  <a:lnTo>
                    <a:pt x="832" y="1970"/>
                  </a:lnTo>
                  <a:lnTo>
                    <a:pt x="790" y="2000"/>
                  </a:lnTo>
                  <a:lnTo>
                    <a:pt x="769" y="1953"/>
                  </a:lnTo>
                  <a:lnTo>
                    <a:pt x="757" y="1902"/>
                  </a:lnTo>
                  <a:lnTo>
                    <a:pt x="743" y="1849"/>
                  </a:lnTo>
                  <a:lnTo>
                    <a:pt x="725" y="1810"/>
                  </a:lnTo>
                  <a:lnTo>
                    <a:pt x="699" y="1852"/>
                  </a:lnTo>
                  <a:lnTo>
                    <a:pt x="675" y="1894"/>
                  </a:lnTo>
                  <a:lnTo>
                    <a:pt x="652" y="1933"/>
                  </a:lnTo>
                  <a:lnTo>
                    <a:pt x="629" y="1970"/>
                  </a:lnTo>
                  <a:lnTo>
                    <a:pt x="606" y="2006"/>
                  </a:lnTo>
                  <a:lnTo>
                    <a:pt x="580" y="2036"/>
                  </a:lnTo>
                  <a:lnTo>
                    <a:pt x="556" y="2070"/>
                  </a:lnTo>
                  <a:lnTo>
                    <a:pt x="531" y="2099"/>
                  </a:lnTo>
                  <a:lnTo>
                    <a:pt x="502" y="2128"/>
                  </a:lnTo>
                  <a:lnTo>
                    <a:pt x="473" y="2157"/>
                  </a:lnTo>
                  <a:lnTo>
                    <a:pt x="442" y="2182"/>
                  </a:lnTo>
                  <a:lnTo>
                    <a:pt x="405" y="2208"/>
                  </a:lnTo>
                  <a:lnTo>
                    <a:pt x="369" y="2232"/>
                  </a:lnTo>
                  <a:lnTo>
                    <a:pt x="327" y="2252"/>
                  </a:lnTo>
                  <a:lnTo>
                    <a:pt x="281" y="2273"/>
                  </a:lnTo>
                  <a:lnTo>
                    <a:pt x="231" y="2293"/>
                  </a:lnTo>
                  <a:lnTo>
                    <a:pt x="240" y="2221"/>
                  </a:lnTo>
                  <a:lnTo>
                    <a:pt x="245" y="2154"/>
                  </a:lnTo>
                  <a:lnTo>
                    <a:pt x="250" y="2086"/>
                  </a:lnTo>
                  <a:lnTo>
                    <a:pt x="257" y="2021"/>
                  </a:lnTo>
                  <a:lnTo>
                    <a:pt x="265" y="1956"/>
                  </a:lnTo>
                  <a:lnTo>
                    <a:pt x="278" y="1888"/>
                  </a:lnTo>
                  <a:lnTo>
                    <a:pt x="294" y="1822"/>
                  </a:lnTo>
                  <a:lnTo>
                    <a:pt x="315" y="1746"/>
                  </a:lnTo>
                  <a:lnTo>
                    <a:pt x="289" y="1743"/>
                  </a:lnTo>
                  <a:lnTo>
                    <a:pt x="257" y="1737"/>
                  </a:lnTo>
                  <a:lnTo>
                    <a:pt x="218" y="1735"/>
                  </a:lnTo>
                  <a:lnTo>
                    <a:pt x="179" y="1727"/>
                  </a:lnTo>
                  <a:lnTo>
                    <a:pt x="138" y="1717"/>
                  </a:lnTo>
                  <a:lnTo>
                    <a:pt x="102" y="1699"/>
                  </a:lnTo>
                  <a:lnTo>
                    <a:pt x="68" y="1676"/>
                  </a:lnTo>
                  <a:lnTo>
                    <a:pt x="39" y="1640"/>
                  </a:lnTo>
                  <a:lnTo>
                    <a:pt x="21" y="1574"/>
                  </a:lnTo>
                  <a:lnTo>
                    <a:pt x="7" y="1507"/>
                  </a:lnTo>
                  <a:lnTo>
                    <a:pt x="2" y="1439"/>
                  </a:lnTo>
                  <a:lnTo>
                    <a:pt x="0" y="1371"/>
                  </a:lnTo>
                  <a:lnTo>
                    <a:pt x="5" y="1307"/>
                  </a:lnTo>
                  <a:lnTo>
                    <a:pt x="21" y="1244"/>
                  </a:lnTo>
                  <a:lnTo>
                    <a:pt x="41" y="1187"/>
                  </a:lnTo>
                  <a:lnTo>
                    <a:pt x="73" y="1138"/>
                  </a:lnTo>
                  <a:lnTo>
                    <a:pt x="89" y="1128"/>
                  </a:lnTo>
                  <a:lnTo>
                    <a:pt x="109" y="1118"/>
                  </a:lnTo>
                  <a:lnTo>
                    <a:pt x="133" y="1106"/>
                  </a:lnTo>
                  <a:lnTo>
                    <a:pt x="143" y="1094"/>
                  </a:lnTo>
                  <a:lnTo>
                    <a:pt x="172" y="1034"/>
                  </a:lnTo>
                  <a:lnTo>
                    <a:pt x="192" y="970"/>
                  </a:lnTo>
                  <a:lnTo>
                    <a:pt x="211" y="902"/>
                  </a:lnTo>
                  <a:lnTo>
                    <a:pt x="226" y="834"/>
                  </a:lnTo>
                  <a:lnTo>
                    <a:pt x="242" y="764"/>
                  </a:lnTo>
                  <a:lnTo>
                    <a:pt x="262" y="696"/>
                  </a:lnTo>
                  <a:lnTo>
                    <a:pt x="289" y="631"/>
                  </a:lnTo>
                  <a:lnTo>
                    <a:pt x="322" y="569"/>
                  </a:lnTo>
                  <a:lnTo>
                    <a:pt x="354" y="528"/>
                  </a:lnTo>
                  <a:lnTo>
                    <a:pt x="388" y="489"/>
                  </a:lnTo>
                  <a:lnTo>
                    <a:pt x="427" y="453"/>
                  </a:lnTo>
                  <a:lnTo>
                    <a:pt x="468" y="419"/>
                  </a:lnTo>
                  <a:lnTo>
                    <a:pt x="512" y="387"/>
                  </a:lnTo>
                  <a:lnTo>
                    <a:pt x="558" y="359"/>
                  </a:lnTo>
                  <a:lnTo>
                    <a:pt x="608" y="332"/>
                  </a:lnTo>
                  <a:lnTo>
                    <a:pt x="660" y="312"/>
                  </a:lnTo>
                  <a:lnTo>
                    <a:pt x="711" y="291"/>
                  </a:lnTo>
                  <a:lnTo>
                    <a:pt x="764" y="276"/>
                  </a:lnTo>
                  <a:lnTo>
                    <a:pt x="815" y="264"/>
                  </a:lnTo>
                  <a:lnTo>
                    <a:pt x="871" y="257"/>
                  </a:lnTo>
                  <a:lnTo>
                    <a:pt x="922" y="252"/>
                  </a:lnTo>
                  <a:lnTo>
                    <a:pt x="975" y="252"/>
                  </a:lnTo>
                  <a:lnTo>
                    <a:pt x="1024" y="257"/>
                  </a:lnTo>
                  <a:lnTo>
                    <a:pt x="1073" y="264"/>
                  </a:lnTo>
                  <a:lnTo>
                    <a:pt x="1078" y="252"/>
                  </a:lnTo>
                  <a:lnTo>
                    <a:pt x="1087" y="234"/>
                  </a:lnTo>
                  <a:lnTo>
                    <a:pt x="1094" y="213"/>
                  </a:lnTo>
                  <a:lnTo>
                    <a:pt x="1107" y="189"/>
                  </a:lnTo>
                  <a:lnTo>
                    <a:pt x="1120" y="167"/>
                  </a:lnTo>
                  <a:lnTo>
                    <a:pt x="1133" y="148"/>
                  </a:lnTo>
                  <a:lnTo>
                    <a:pt x="1145" y="133"/>
                  </a:lnTo>
                  <a:lnTo>
                    <a:pt x="1159" y="123"/>
                  </a:lnTo>
                  <a:lnTo>
                    <a:pt x="1169" y="123"/>
                  </a:lnTo>
                  <a:lnTo>
                    <a:pt x="1187" y="125"/>
                  </a:lnTo>
                  <a:lnTo>
                    <a:pt x="1211" y="128"/>
                  </a:lnTo>
                  <a:lnTo>
                    <a:pt x="1240" y="133"/>
                  </a:lnTo>
                  <a:lnTo>
                    <a:pt x="1273" y="138"/>
                  </a:lnTo>
                  <a:lnTo>
                    <a:pt x="1307" y="143"/>
                  </a:lnTo>
                  <a:lnTo>
                    <a:pt x="1344" y="150"/>
                  </a:lnTo>
                  <a:lnTo>
                    <a:pt x="1383" y="159"/>
                  </a:lnTo>
                  <a:lnTo>
                    <a:pt x="1419" y="167"/>
                  </a:lnTo>
                  <a:lnTo>
                    <a:pt x="1455" y="172"/>
                  </a:lnTo>
                  <a:lnTo>
                    <a:pt x="1489" y="179"/>
                  </a:lnTo>
                  <a:lnTo>
                    <a:pt x="1519" y="184"/>
                  </a:lnTo>
                  <a:lnTo>
                    <a:pt x="1546" y="187"/>
                  </a:lnTo>
                  <a:lnTo>
                    <a:pt x="1567" y="192"/>
                  </a:lnTo>
                  <a:lnTo>
                    <a:pt x="1582" y="192"/>
                  </a:lnTo>
                  <a:lnTo>
                    <a:pt x="1590" y="192"/>
                  </a:lnTo>
                  <a:lnTo>
                    <a:pt x="1592" y="162"/>
                  </a:lnTo>
                  <a:lnTo>
                    <a:pt x="1595" y="120"/>
                  </a:lnTo>
                  <a:lnTo>
                    <a:pt x="1595" y="65"/>
                  </a:lnTo>
                  <a:lnTo>
                    <a:pt x="1585" y="0"/>
                  </a:lnTo>
                  <a:lnTo>
                    <a:pt x="1618" y="7"/>
                  </a:lnTo>
                  <a:lnTo>
                    <a:pt x="1652" y="21"/>
                  </a:lnTo>
                  <a:lnTo>
                    <a:pt x="1689" y="34"/>
                  </a:lnTo>
                  <a:lnTo>
                    <a:pt x="1725" y="52"/>
                  </a:lnTo>
                  <a:lnTo>
                    <a:pt x="1762" y="70"/>
                  </a:lnTo>
                  <a:lnTo>
                    <a:pt x="1798" y="91"/>
                  </a:lnTo>
                  <a:lnTo>
                    <a:pt x="1834" y="114"/>
                  </a:lnTo>
                  <a:lnTo>
                    <a:pt x="1871" y="138"/>
                  </a:lnTo>
                  <a:lnTo>
                    <a:pt x="1905" y="164"/>
                  </a:lnTo>
                  <a:lnTo>
                    <a:pt x="1938" y="189"/>
                  </a:lnTo>
                  <a:lnTo>
                    <a:pt x="1970" y="218"/>
                  </a:lnTo>
                  <a:lnTo>
                    <a:pt x="2000" y="247"/>
                  </a:lnTo>
                  <a:lnTo>
                    <a:pt x="2026" y="276"/>
                  </a:lnTo>
                  <a:lnTo>
                    <a:pt x="2053" y="305"/>
                  </a:lnTo>
                  <a:lnTo>
                    <a:pt x="2075" y="332"/>
                  </a:lnTo>
                  <a:lnTo>
                    <a:pt x="2094" y="361"/>
                  </a:lnTo>
                  <a:lnTo>
                    <a:pt x="2133" y="349"/>
                  </a:lnTo>
                  <a:lnTo>
                    <a:pt x="2169" y="337"/>
                  </a:lnTo>
                  <a:lnTo>
                    <a:pt x="2208" y="327"/>
                  </a:lnTo>
                  <a:lnTo>
                    <a:pt x="2245" y="317"/>
                  </a:lnTo>
                  <a:lnTo>
                    <a:pt x="2281" y="310"/>
                  </a:lnTo>
                  <a:lnTo>
                    <a:pt x="2315" y="301"/>
                  </a:lnTo>
                  <a:lnTo>
                    <a:pt x="2351" y="296"/>
                  </a:lnTo>
                  <a:lnTo>
                    <a:pt x="2388" y="291"/>
                  </a:lnTo>
                  <a:lnTo>
                    <a:pt x="2424" y="288"/>
                  </a:lnTo>
                  <a:lnTo>
                    <a:pt x="2460" y="288"/>
                  </a:lnTo>
                  <a:lnTo>
                    <a:pt x="2499" y="288"/>
                  </a:lnTo>
                  <a:lnTo>
                    <a:pt x="2536" y="291"/>
                  </a:lnTo>
                  <a:lnTo>
                    <a:pt x="2575" y="296"/>
                  </a:lnTo>
                  <a:lnTo>
                    <a:pt x="2616" y="305"/>
                  </a:lnTo>
                  <a:lnTo>
                    <a:pt x="2657" y="312"/>
                  </a:lnTo>
                  <a:lnTo>
                    <a:pt x="2699" y="325"/>
                  </a:lnTo>
                  <a:lnTo>
                    <a:pt x="2694" y="335"/>
                  </a:lnTo>
                  <a:lnTo>
                    <a:pt x="2686" y="349"/>
                  </a:lnTo>
                  <a:lnTo>
                    <a:pt x="2674" y="359"/>
                  </a:lnTo>
                  <a:lnTo>
                    <a:pt x="2660" y="371"/>
                  </a:lnTo>
                  <a:lnTo>
                    <a:pt x="2645" y="385"/>
                  </a:lnTo>
                  <a:lnTo>
                    <a:pt x="2631" y="397"/>
                  </a:lnTo>
                  <a:lnTo>
                    <a:pt x="2618" y="410"/>
                  </a:lnTo>
                  <a:lnTo>
                    <a:pt x="2608" y="426"/>
                  </a:lnTo>
                  <a:lnTo>
                    <a:pt x="2635" y="431"/>
                  </a:lnTo>
                  <a:lnTo>
                    <a:pt x="2667" y="439"/>
                  </a:lnTo>
                  <a:lnTo>
                    <a:pt x="2706" y="446"/>
                  </a:lnTo>
                  <a:lnTo>
                    <a:pt x="2751" y="455"/>
                  </a:lnTo>
                  <a:lnTo>
                    <a:pt x="2795" y="465"/>
                  </a:lnTo>
                  <a:lnTo>
                    <a:pt x="2839" y="475"/>
                  </a:lnTo>
                  <a:lnTo>
                    <a:pt x="2876" y="489"/>
                  </a:lnTo>
                  <a:lnTo>
                    <a:pt x="2907" y="499"/>
                  </a:lnTo>
                  <a:lnTo>
                    <a:pt x="2964" y="528"/>
                  </a:lnTo>
                  <a:lnTo>
                    <a:pt x="3011" y="553"/>
                  </a:lnTo>
                  <a:lnTo>
                    <a:pt x="3048" y="579"/>
                  </a:lnTo>
                  <a:lnTo>
                    <a:pt x="3075" y="606"/>
                  </a:lnTo>
                  <a:lnTo>
                    <a:pt x="3097" y="640"/>
                  </a:lnTo>
                  <a:lnTo>
                    <a:pt x="3118" y="681"/>
                  </a:lnTo>
                  <a:lnTo>
                    <a:pt x="3138" y="735"/>
                  </a:lnTo>
                  <a:lnTo>
                    <a:pt x="3159" y="803"/>
                  </a:lnTo>
                  <a:lnTo>
                    <a:pt x="3174" y="827"/>
                  </a:lnTo>
                  <a:lnTo>
                    <a:pt x="3201" y="852"/>
                  </a:lnTo>
                  <a:lnTo>
                    <a:pt x="3240" y="883"/>
                  </a:lnTo>
                  <a:lnTo>
                    <a:pt x="3281" y="914"/>
                  </a:lnTo>
                  <a:lnTo>
                    <a:pt x="3322" y="951"/>
                  </a:lnTo>
                  <a:lnTo>
                    <a:pt x="3359" y="990"/>
                  </a:lnTo>
                  <a:lnTo>
                    <a:pt x="3385" y="1031"/>
                  </a:lnTo>
                  <a:lnTo>
                    <a:pt x="3398" y="1072"/>
                  </a:lnTo>
                  <a:lnTo>
                    <a:pt x="3398" y="1114"/>
                  </a:lnTo>
                  <a:lnTo>
                    <a:pt x="3393" y="1154"/>
                  </a:lnTo>
                  <a:lnTo>
                    <a:pt x="3385" y="1193"/>
                  </a:lnTo>
                  <a:lnTo>
                    <a:pt x="3371" y="1226"/>
                  </a:lnTo>
                  <a:lnTo>
                    <a:pt x="3359" y="1262"/>
                  </a:lnTo>
                  <a:lnTo>
                    <a:pt x="3344" y="1296"/>
                  </a:lnTo>
                  <a:lnTo>
                    <a:pt x="3330" y="1332"/>
                  </a:lnTo>
                  <a:lnTo>
                    <a:pt x="3320" y="1371"/>
                  </a:lnTo>
                  <a:lnTo>
                    <a:pt x="3335" y="1380"/>
                  </a:lnTo>
                  <a:lnTo>
                    <a:pt x="3354" y="1397"/>
                  </a:lnTo>
                  <a:lnTo>
                    <a:pt x="3366" y="1419"/>
                  </a:lnTo>
                  <a:lnTo>
                    <a:pt x="3375" y="1434"/>
                  </a:lnTo>
                  <a:lnTo>
                    <a:pt x="3408" y="1541"/>
                  </a:lnTo>
                  <a:lnTo>
                    <a:pt x="3427" y="1660"/>
                  </a:lnTo>
                  <a:lnTo>
                    <a:pt x="3427" y="1785"/>
                  </a:lnTo>
                  <a:lnTo>
                    <a:pt x="3416" y="1914"/>
                  </a:lnTo>
                  <a:lnTo>
                    <a:pt x="3395" y="2042"/>
                  </a:lnTo>
                  <a:lnTo>
                    <a:pt x="3361" y="2167"/>
                  </a:lnTo>
                  <a:lnTo>
                    <a:pt x="3322" y="2283"/>
                  </a:lnTo>
                  <a:lnTo>
                    <a:pt x="3276" y="2390"/>
                  </a:lnTo>
                  <a:lnTo>
                    <a:pt x="3260" y="2421"/>
                  </a:lnTo>
                  <a:lnTo>
                    <a:pt x="3250" y="2450"/>
                  </a:lnTo>
                  <a:lnTo>
                    <a:pt x="3237" y="2470"/>
                  </a:lnTo>
                  <a:lnTo>
                    <a:pt x="3230" y="2492"/>
                  </a:lnTo>
                  <a:lnTo>
                    <a:pt x="3216" y="2507"/>
                  </a:lnTo>
                  <a:lnTo>
                    <a:pt x="3206" y="2523"/>
                  </a:lnTo>
                  <a:lnTo>
                    <a:pt x="3191" y="2535"/>
                  </a:lnTo>
                  <a:lnTo>
                    <a:pt x="3172" y="2546"/>
                  </a:lnTo>
                  <a:lnTo>
                    <a:pt x="3159" y="2546"/>
                  </a:lnTo>
                  <a:lnTo>
                    <a:pt x="3143" y="2546"/>
                  </a:lnTo>
                  <a:lnTo>
                    <a:pt x="3128" y="2543"/>
                  </a:lnTo>
                  <a:lnTo>
                    <a:pt x="3112" y="2541"/>
                  </a:lnTo>
                  <a:lnTo>
                    <a:pt x="3097" y="2535"/>
                  </a:lnTo>
                  <a:lnTo>
                    <a:pt x="3081" y="2533"/>
                  </a:lnTo>
                  <a:lnTo>
                    <a:pt x="3068" y="2530"/>
                  </a:lnTo>
                  <a:lnTo>
                    <a:pt x="3055" y="2528"/>
                  </a:lnTo>
                  <a:lnTo>
                    <a:pt x="3014" y="2528"/>
                  </a:lnTo>
                  <a:lnTo>
                    <a:pt x="2975" y="2535"/>
                  </a:lnTo>
                  <a:lnTo>
                    <a:pt x="2938" y="2551"/>
                  </a:lnTo>
                  <a:lnTo>
                    <a:pt x="2905" y="2572"/>
                  </a:lnTo>
                  <a:lnTo>
                    <a:pt x="2873" y="2598"/>
                  </a:lnTo>
                  <a:lnTo>
                    <a:pt x="2844" y="2628"/>
                  </a:lnTo>
                  <a:lnTo>
                    <a:pt x="2815" y="2660"/>
                  </a:lnTo>
                  <a:lnTo>
                    <a:pt x="2790" y="2696"/>
                  </a:lnTo>
                  <a:lnTo>
                    <a:pt x="2767" y="2735"/>
                  </a:lnTo>
                  <a:lnTo>
                    <a:pt x="2743" y="2774"/>
                  </a:lnTo>
                  <a:lnTo>
                    <a:pt x="2720" y="2813"/>
                  </a:lnTo>
                  <a:lnTo>
                    <a:pt x="2696" y="2852"/>
                  </a:lnTo>
                  <a:lnTo>
                    <a:pt x="2674" y="2888"/>
                  </a:lnTo>
                  <a:lnTo>
                    <a:pt x="2650" y="2922"/>
                  </a:lnTo>
                  <a:lnTo>
                    <a:pt x="2626" y="2953"/>
                  </a:lnTo>
                  <a:lnTo>
                    <a:pt x="2601" y="2982"/>
                  </a:lnTo>
                  <a:lnTo>
                    <a:pt x="2590" y="2938"/>
                  </a:lnTo>
                  <a:lnTo>
                    <a:pt x="2580" y="2897"/>
                  </a:lnTo>
                  <a:lnTo>
                    <a:pt x="2572" y="2852"/>
                  </a:lnTo>
                  <a:lnTo>
                    <a:pt x="2570" y="2810"/>
                  </a:lnTo>
                  <a:lnTo>
                    <a:pt x="2580" y="2699"/>
                  </a:lnTo>
                  <a:lnTo>
                    <a:pt x="2585" y="2601"/>
                  </a:lnTo>
                  <a:lnTo>
                    <a:pt x="2585" y="2507"/>
                  </a:lnTo>
                  <a:lnTo>
                    <a:pt x="2580" y="2424"/>
                  </a:lnTo>
                  <a:lnTo>
                    <a:pt x="2565" y="2346"/>
                  </a:lnTo>
                  <a:lnTo>
                    <a:pt x="2538" y="2276"/>
                  </a:lnTo>
                  <a:lnTo>
                    <a:pt x="2504" y="2211"/>
                  </a:lnTo>
                  <a:lnTo>
                    <a:pt x="2455" y="2148"/>
                  </a:lnTo>
                  <a:lnTo>
                    <a:pt x="2424" y="2115"/>
                  </a:lnTo>
                  <a:lnTo>
                    <a:pt x="2393" y="2081"/>
                  </a:lnTo>
                  <a:lnTo>
                    <a:pt x="2361" y="2047"/>
                  </a:lnTo>
                  <a:lnTo>
                    <a:pt x="2332" y="2019"/>
                  </a:lnTo>
                  <a:lnTo>
                    <a:pt x="2302" y="1992"/>
                  </a:lnTo>
                  <a:lnTo>
                    <a:pt x="2268" y="1972"/>
                  </a:lnTo>
                  <a:lnTo>
                    <a:pt x="2235" y="1958"/>
                  </a:lnTo>
                  <a:lnTo>
                    <a:pt x="2198" y="1956"/>
                  </a:lnTo>
                  <a:lnTo>
                    <a:pt x="2169" y="1951"/>
                  </a:lnTo>
                  <a:lnTo>
                    <a:pt x="2138" y="1933"/>
                  </a:lnTo>
                  <a:lnTo>
                    <a:pt x="2112" y="1904"/>
                  </a:lnTo>
                  <a:lnTo>
                    <a:pt x="2089" y="1868"/>
                  </a:lnTo>
                  <a:lnTo>
                    <a:pt x="2073" y="1829"/>
                  </a:lnTo>
                  <a:lnTo>
                    <a:pt x="2063" y="1783"/>
                  </a:lnTo>
                  <a:lnTo>
                    <a:pt x="2063" y="1735"/>
                  </a:lnTo>
                  <a:lnTo>
                    <a:pt x="2073" y="1689"/>
                  </a:lnTo>
                  <a:lnTo>
                    <a:pt x="2055" y="1689"/>
                  </a:lnTo>
                  <a:lnTo>
                    <a:pt x="2041" y="1689"/>
                  </a:lnTo>
                  <a:lnTo>
                    <a:pt x="2026" y="1689"/>
                  </a:lnTo>
                  <a:lnTo>
                    <a:pt x="2014" y="1686"/>
                  </a:lnTo>
                  <a:lnTo>
                    <a:pt x="1997" y="1686"/>
                  </a:lnTo>
                  <a:lnTo>
                    <a:pt x="1980" y="1686"/>
                  </a:lnTo>
                  <a:lnTo>
                    <a:pt x="1956" y="1684"/>
                  </a:lnTo>
                  <a:lnTo>
                    <a:pt x="1930" y="1684"/>
                  </a:lnTo>
                  <a:lnTo>
                    <a:pt x="1910" y="1592"/>
                  </a:lnTo>
                  <a:lnTo>
                    <a:pt x="1891" y="1473"/>
                  </a:lnTo>
                  <a:lnTo>
                    <a:pt x="1886" y="1341"/>
                  </a:lnTo>
                  <a:lnTo>
                    <a:pt x="1905" y="1203"/>
                  </a:lnTo>
                  <a:close/>
                </a:path>
              </a:pathLst>
            </a:custGeom>
            <a:solidFill>
              <a:srgbClr val="f5b14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sswor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03" name=""/>
          <p:cNvGrpSpPr/>
          <p:nvPr/>
        </p:nvGrpSpPr>
        <p:grpSpPr>
          <a:xfrm>
            <a:off x="1936800" y="1906560"/>
            <a:ext cx="1030320" cy="2630520"/>
            <a:chOff x="1936800" y="1906560"/>
            <a:chExt cx="1030320" cy="2630520"/>
          </a:xfrm>
        </p:grpSpPr>
        <p:sp>
          <p:nvSpPr>
            <p:cNvPr id="2304" name=""/>
            <p:cNvSpPr/>
            <p:nvPr/>
          </p:nvSpPr>
          <p:spPr>
            <a:xfrm>
              <a:off x="1936800" y="4210200"/>
              <a:ext cx="1030320" cy="326880"/>
            </a:xfrm>
            <a:custGeom>
              <a:avLst/>
              <a:gdLst/>
              <a:ahLst/>
              <a:rect l="l" t="t" r="r" b="b"/>
              <a:pathLst>
                <a:path w="1297" h="413">
                  <a:moveTo>
                    <a:pt x="0" y="413"/>
                  </a:moveTo>
                  <a:lnTo>
                    <a:pt x="49" y="95"/>
                  </a:lnTo>
                  <a:lnTo>
                    <a:pt x="154" y="0"/>
                  </a:lnTo>
                  <a:lnTo>
                    <a:pt x="1107" y="29"/>
                  </a:lnTo>
                  <a:lnTo>
                    <a:pt x="1222" y="85"/>
                  </a:lnTo>
                  <a:lnTo>
                    <a:pt x="1297" y="413"/>
                  </a:lnTo>
                  <a:lnTo>
                    <a:pt x="1154" y="335"/>
                  </a:lnTo>
                  <a:lnTo>
                    <a:pt x="134" y="335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936800" y="4392720"/>
              <a:ext cx="1030320" cy="144360"/>
            </a:xfrm>
            <a:custGeom>
              <a:avLst/>
              <a:gdLst/>
              <a:ahLst/>
              <a:rect l="l" t="t" r="r" b="b"/>
              <a:pathLst>
                <a:path w="1297" h="183">
                  <a:moveTo>
                    <a:pt x="0" y="183"/>
                  </a:moveTo>
                  <a:lnTo>
                    <a:pt x="1297" y="183"/>
                  </a:lnTo>
                  <a:lnTo>
                    <a:pt x="1135" y="0"/>
                  </a:lnTo>
                  <a:lnTo>
                    <a:pt x="144" y="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052720" y="1906560"/>
              <a:ext cx="160200" cy="2470320"/>
            </a:xfrm>
            <a:custGeom>
              <a:avLst/>
              <a:gdLst/>
              <a:ahLst/>
              <a:rect l="l" t="t" r="r" b="b"/>
              <a:pathLst>
                <a:path w="203" h="3112">
                  <a:moveTo>
                    <a:pt x="0" y="3102"/>
                  </a:moveTo>
                  <a:lnTo>
                    <a:pt x="20" y="3112"/>
                  </a:lnTo>
                  <a:lnTo>
                    <a:pt x="203" y="3112"/>
                  </a:lnTo>
                  <a:lnTo>
                    <a:pt x="203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0" y="310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730600" y="1906560"/>
              <a:ext cx="100080" cy="2470320"/>
            </a:xfrm>
            <a:custGeom>
              <a:avLst/>
              <a:gdLst/>
              <a:ahLst/>
              <a:rect l="l" t="t" r="r" b="b"/>
              <a:pathLst>
                <a:path w="125" h="3112">
                  <a:moveTo>
                    <a:pt x="0" y="3112"/>
                  </a:moveTo>
                  <a:lnTo>
                    <a:pt x="107" y="3112"/>
                  </a:lnTo>
                  <a:lnTo>
                    <a:pt x="125" y="3093"/>
                  </a:lnTo>
                  <a:lnTo>
                    <a:pt x="125" y="30"/>
                  </a:lnTo>
                  <a:lnTo>
                    <a:pt x="107" y="0"/>
                  </a:lnTo>
                  <a:lnTo>
                    <a:pt x="0" y="0"/>
                  </a:lnTo>
                  <a:lnTo>
                    <a:pt x="0" y="311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2068560" y="1906560"/>
              <a:ext cx="747720" cy="24703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090880" y="1906560"/>
              <a:ext cx="693720" cy="1498680"/>
            </a:xfrm>
            <a:custGeom>
              <a:avLst/>
              <a:gdLst/>
              <a:ahLst/>
              <a:rect l="l" t="t" r="r" b="b"/>
              <a:pathLst>
                <a:path w="875" h="1887">
                  <a:moveTo>
                    <a:pt x="0" y="0"/>
                  </a:moveTo>
                  <a:lnTo>
                    <a:pt x="0" y="1848"/>
                  </a:lnTo>
                  <a:lnTo>
                    <a:pt x="49" y="1887"/>
                  </a:lnTo>
                  <a:lnTo>
                    <a:pt x="155" y="1887"/>
                  </a:lnTo>
                  <a:lnTo>
                    <a:pt x="155" y="1782"/>
                  </a:lnTo>
                  <a:lnTo>
                    <a:pt x="183" y="1743"/>
                  </a:lnTo>
                  <a:lnTo>
                    <a:pt x="702" y="1743"/>
                  </a:lnTo>
                  <a:lnTo>
                    <a:pt x="740" y="1782"/>
                  </a:lnTo>
                  <a:lnTo>
                    <a:pt x="740" y="1887"/>
                  </a:lnTo>
                  <a:lnTo>
                    <a:pt x="847" y="1887"/>
                  </a:lnTo>
                  <a:lnTo>
                    <a:pt x="875" y="1858"/>
                  </a:lnTo>
                  <a:lnTo>
                    <a:pt x="87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678040" y="3427560"/>
              <a:ext cx="1800" cy="9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212920" y="3427560"/>
              <a:ext cx="1800" cy="9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28132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31156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34144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19" h="1321">
                  <a:moveTo>
                    <a:pt x="0" y="1321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37348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40336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43540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465280" y="3313080"/>
              <a:ext cx="1440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49408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525760" y="3313080"/>
              <a:ext cx="14400" cy="1047960"/>
            </a:xfrm>
            <a:custGeom>
              <a:avLst/>
              <a:gdLst/>
              <a:ahLst/>
              <a:rect l="l" t="t" r="r" b="b"/>
              <a:pathLst>
                <a:path w="19" h="1321">
                  <a:moveTo>
                    <a:pt x="0" y="1321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55600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585880" y="3313080"/>
              <a:ext cx="1620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V="1">
              <a:off x="2617920" y="3312720"/>
              <a:ext cx="1440" cy="104796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120760" y="3032280"/>
              <a:ext cx="625680" cy="182520"/>
            </a:xfrm>
            <a:custGeom>
              <a:avLst/>
              <a:gdLst/>
              <a:ahLst/>
              <a:rect l="l" t="t" r="r" b="b"/>
              <a:pathLst>
                <a:path w="787" h="230">
                  <a:moveTo>
                    <a:pt x="787" y="0"/>
                  </a:moveTo>
                  <a:lnTo>
                    <a:pt x="0" y="0"/>
                  </a:lnTo>
                  <a:lnTo>
                    <a:pt x="0" y="230"/>
                  </a:lnTo>
                  <a:lnTo>
                    <a:pt x="67" y="230"/>
                  </a:lnTo>
                  <a:lnTo>
                    <a:pt x="67" y="40"/>
                  </a:lnTo>
                  <a:lnTo>
                    <a:pt x="740" y="20"/>
                  </a:lnTo>
                  <a:lnTo>
                    <a:pt x="787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120760" y="3198960"/>
              <a:ext cx="625680" cy="15840"/>
            </a:xfrm>
            <a:custGeom>
              <a:avLst/>
              <a:gdLst/>
              <a:ahLst/>
              <a:rect l="l" t="t" r="r" b="b"/>
              <a:pathLst>
                <a:path w="787" h="19">
                  <a:moveTo>
                    <a:pt x="740" y="0"/>
                  </a:moveTo>
                  <a:lnTo>
                    <a:pt x="67" y="0"/>
                  </a:lnTo>
                  <a:lnTo>
                    <a:pt x="0" y="19"/>
                  </a:lnTo>
                  <a:lnTo>
                    <a:pt x="787" y="19"/>
                  </a:lnTo>
                  <a:lnTo>
                    <a:pt x="740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166840" y="3054240"/>
              <a:ext cx="549360" cy="138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571840" y="3068640"/>
              <a:ext cx="114120" cy="1000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602080" y="3092400"/>
              <a:ext cx="61920" cy="60480"/>
            </a:xfrm>
            <a:custGeom>
              <a:avLst/>
              <a:gdLst/>
              <a:ahLst/>
              <a:rect l="l" t="t" r="r" b="b"/>
              <a:pathLst>
                <a:path w="77" h="75">
                  <a:moveTo>
                    <a:pt x="77" y="37"/>
                  </a:moveTo>
                  <a:lnTo>
                    <a:pt x="75" y="29"/>
                  </a:lnTo>
                  <a:lnTo>
                    <a:pt x="74" y="23"/>
                  </a:lnTo>
                  <a:lnTo>
                    <a:pt x="71" y="16"/>
                  </a:lnTo>
                  <a:lnTo>
                    <a:pt x="64" y="9"/>
                  </a:lnTo>
                  <a:lnTo>
                    <a:pt x="59" y="4"/>
                  </a:lnTo>
                  <a:lnTo>
                    <a:pt x="51" y="1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0" y="4"/>
                  </a:lnTo>
                  <a:lnTo>
                    <a:pt x="13" y="9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1" y="29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3" y="52"/>
                  </a:lnTo>
                  <a:lnTo>
                    <a:pt x="8" y="60"/>
                  </a:lnTo>
                  <a:lnTo>
                    <a:pt x="13" y="65"/>
                  </a:lnTo>
                  <a:lnTo>
                    <a:pt x="20" y="70"/>
                  </a:lnTo>
                  <a:lnTo>
                    <a:pt x="26" y="74"/>
                  </a:lnTo>
                  <a:lnTo>
                    <a:pt x="34" y="75"/>
                  </a:lnTo>
                  <a:lnTo>
                    <a:pt x="43" y="75"/>
                  </a:lnTo>
                  <a:lnTo>
                    <a:pt x="49" y="74"/>
                  </a:lnTo>
                  <a:lnTo>
                    <a:pt x="57" y="72"/>
                  </a:lnTo>
                  <a:lnTo>
                    <a:pt x="64" y="67"/>
                  </a:lnTo>
                  <a:lnTo>
                    <a:pt x="69" y="60"/>
                  </a:lnTo>
                  <a:lnTo>
                    <a:pt x="74" y="54"/>
                  </a:lnTo>
                  <a:lnTo>
                    <a:pt x="75" y="46"/>
                  </a:lnTo>
                  <a:lnTo>
                    <a:pt x="77" y="39"/>
                  </a:lnTo>
                  <a:lnTo>
                    <a:pt x="77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419200" y="3106800"/>
              <a:ext cx="60480" cy="6192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39"/>
                  </a:moveTo>
                  <a:lnTo>
                    <a:pt x="75" y="31"/>
                  </a:lnTo>
                  <a:lnTo>
                    <a:pt x="74" y="23"/>
                  </a:lnTo>
                  <a:lnTo>
                    <a:pt x="70" y="16"/>
                  </a:lnTo>
                  <a:lnTo>
                    <a:pt x="64" y="9"/>
                  </a:lnTo>
                  <a:lnTo>
                    <a:pt x="59" y="5"/>
                  </a:lnTo>
                  <a:lnTo>
                    <a:pt x="51" y="1"/>
                  </a:lnTo>
                  <a:lnTo>
                    <a:pt x="42" y="1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19" y="5"/>
                  </a:lnTo>
                  <a:lnTo>
                    <a:pt x="13" y="9"/>
                  </a:lnTo>
                  <a:lnTo>
                    <a:pt x="8" y="16"/>
                  </a:lnTo>
                  <a:lnTo>
                    <a:pt x="4" y="23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3" y="54"/>
                  </a:lnTo>
                  <a:lnTo>
                    <a:pt x="6" y="60"/>
                  </a:lnTo>
                  <a:lnTo>
                    <a:pt x="13" y="67"/>
                  </a:lnTo>
                  <a:lnTo>
                    <a:pt x="19" y="72"/>
                  </a:lnTo>
                  <a:lnTo>
                    <a:pt x="26" y="75"/>
                  </a:lnTo>
                  <a:lnTo>
                    <a:pt x="34" y="77"/>
                  </a:lnTo>
                  <a:lnTo>
                    <a:pt x="42" y="77"/>
                  </a:lnTo>
                  <a:lnTo>
                    <a:pt x="49" y="75"/>
                  </a:lnTo>
                  <a:lnTo>
                    <a:pt x="57" y="72"/>
                  </a:lnTo>
                  <a:lnTo>
                    <a:pt x="64" y="67"/>
                  </a:lnTo>
                  <a:lnTo>
                    <a:pt x="69" y="62"/>
                  </a:lnTo>
                  <a:lnTo>
                    <a:pt x="74" y="56"/>
                  </a:lnTo>
                  <a:lnTo>
                    <a:pt x="75" y="47"/>
                  </a:lnTo>
                  <a:lnTo>
                    <a:pt x="77" y="39"/>
                  </a:lnTo>
                  <a:lnTo>
                    <a:pt x="77" y="3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328840" y="3106800"/>
              <a:ext cx="60480" cy="6192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39"/>
                  </a:moveTo>
                  <a:lnTo>
                    <a:pt x="76" y="31"/>
                  </a:lnTo>
                  <a:lnTo>
                    <a:pt x="72" y="23"/>
                  </a:lnTo>
                  <a:lnTo>
                    <a:pt x="69" y="16"/>
                  </a:lnTo>
                  <a:lnTo>
                    <a:pt x="64" y="9"/>
                  </a:lnTo>
                  <a:lnTo>
                    <a:pt x="58" y="5"/>
                  </a:lnTo>
                  <a:lnTo>
                    <a:pt x="49" y="1"/>
                  </a:lnTo>
                  <a:lnTo>
                    <a:pt x="43" y="1"/>
                  </a:lnTo>
                  <a:lnTo>
                    <a:pt x="35" y="0"/>
                  </a:lnTo>
                  <a:lnTo>
                    <a:pt x="26" y="1"/>
                  </a:lnTo>
                  <a:lnTo>
                    <a:pt x="18" y="5"/>
                  </a:lnTo>
                  <a:lnTo>
                    <a:pt x="13" y="9"/>
                  </a:lnTo>
                  <a:lnTo>
                    <a:pt x="7" y="16"/>
                  </a:lnTo>
                  <a:lnTo>
                    <a:pt x="3" y="23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3" y="54"/>
                  </a:lnTo>
                  <a:lnTo>
                    <a:pt x="7" y="60"/>
                  </a:lnTo>
                  <a:lnTo>
                    <a:pt x="12" y="67"/>
                  </a:lnTo>
                  <a:lnTo>
                    <a:pt x="18" y="72"/>
                  </a:lnTo>
                  <a:lnTo>
                    <a:pt x="26" y="75"/>
                  </a:lnTo>
                  <a:lnTo>
                    <a:pt x="33" y="77"/>
                  </a:lnTo>
                  <a:lnTo>
                    <a:pt x="41" y="77"/>
                  </a:lnTo>
                  <a:lnTo>
                    <a:pt x="49" y="75"/>
                  </a:lnTo>
                  <a:lnTo>
                    <a:pt x="56" y="72"/>
                  </a:lnTo>
                  <a:lnTo>
                    <a:pt x="63" y="67"/>
                  </a:lnTo>
                  <a:lnTo>
                    <a:pt x="69" y="62"/>
                  </a:lnTo>
                  <a:lnTo>
                    <a:pt x="72" y="56"/>
                  </a:lnTo>
                  <a:lnTo>
                    <a:pt x="76" y="47"/>
                  </a:lnTo>
                  <a:lnTo>
                    <a:pt x="76" y="39"/>
                  </a:lnTo>
                  <a:lnTo>
                    <a:pt x="76" y="3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174760" y="2855880"/>
              <a:ext cx="106560" cy="1080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174760" y="2855880"/>
              <a:ext cx="106560" cy="1080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0"/>
                  </a:moveTo>
                  <a:lnTo>
                    <a:pt x="0" y="0"/>
                  </a:lnTo>
                  <a:lnTo>
                    <a:pt x="0" y="1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112840" y="1944720"/>
              <a:ext cx="649440" cy="82224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 flipV="1">
              <a:off x="2112840" y="1944720"/>
              <a:ext cx="1800" cy="82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H="1">
              <a:off x="2112840" y="2666880"/>
              <a:ext cx="649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 flipH="1">
              <a:off x="2112840" y="2492280"/>
              <a:ext cx="649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112840" y="1974960"/>
              <a:ext cx="649440" cy="298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762280" y="1944720"/>
              <a:ext cx="1440" cy="82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 flipH="1">
              <a:off x="2112840" y="1944720"/>
              <a:ext cx="649440" cy="144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112840" y="2004840"/>
              <a:ext cx="649440" cy="3193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212920" y="2355840"/>
              <a:ext cx="442800" cy="1047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251080" y="2004840"/>
              <a:ext cx="351000" cy="84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243160" y="2165400"/>
              <a:ext cx="244440" cy="128520"/>
            </a:xfrm>
            <a:custGeom>
              <a:avLst/>
              <a:gdLst/>
              <a:ahLst/>
              <a:rect l="l" t="t" r="r" b="b"/>
              <a:pathLst>
                <a:path w="308" h="162">
                  <a:moveTo>
                    <a:pt x="308" y="0"/>
                  </a:moveTo>
                  <a:lnTo>
                    <a:pt x="0" y="0"/>
                  </a:lnTo>
                  <a:lnTo>
                    <a:pt x="0" y="16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243160" y="2165400"/>
              <a:ext cx="244440" cy="128520"/>
            </a:xfrm>
            <a:custGeom>
              <a:avLst/>
              <a:gdLst/>
              <a:ahLst/>
              <a:rect l="l" t="t" r="r" b="b"/>
              <a:pathLst>
                <a:path w="308" h="162">
                  <a:moveTo>
                    <a:pt x="0" y="162"/>
                  </a:moveTo>
                  <a:lnTo>
                    <a:pt x="308" y="162"/>
                  </a:lnTo>
                  <a:lnTo>
                    <a:pt x="308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135160" y="2203560"/>
              <a:ext cx="581040" cy="36360"/>
            </a:xfrm>
            <a:custGeom>
              <a:avLst/>
              <a:gdLst/>
              <a:ahLst/>
              <a:rect l="l" t="t" r="r" b="b"/>
              <a:pathLst>
                <a:path w="732" h="48">
                  <a:moveTo>
                    <a:pt x="0" y="48"/>
                  </a:moveTo>
                  <a:lnTo>
                    <a:pt x="134" y="48"/>
                  </a:lnTo>
                  <a:lnTo>
                    <a:pt x="134" y="40"/>
                  </a:lnTo>
                  <a:lnTo>
                    <a:pt x="442" y="40"/>
                  </a:lnTo>
                  <a:lnTo>
                    <a:pt x="442" y="48"/>
                  </a:lnTo>
                  <a:lnTo>
                    <a:pt x="732" y="48"/>
                  </a:lnTo>
                  <a:lnTo>
                    <a:pt x="732" y="0"/>
                  </a:lnTo>
                  <a:lnTo>
                    <a:pt x="452" y="0"/>
                  </a:lnTo>
                  <a:lnTo>
                    <a:pt x="452" y="10"/>
                  </a:lnTo>
                  <a:lnTo>
                    <a:pt x="134" y="10"/>
                  </a:lnTo>
                  <a:lnTo>
                    <a:pt x="134" y="0"/>
                  </a:lnTo>
                  <a:lnTo>
                    <a:pt x="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387520" y="2173320"/>
              <a:ext cx="31680" cy="112680"/>
            </a:xfrm>
            <a:custGeom>
              <a:avLst/>
              <a:gdLst/>
              <a:ahLst/>
              <a:rect l="l" t="t" r="r" b="b"/>
              <a:pathLst>
                <a:path w="40" h="143">
                  <a:moveTo>
                    <a:pt x="0" y="143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40" y="10"/>
                  </a:lnTo>
                  <a:lnTo>
                    <a:pt x="20" y="10"/>
                  </a:lnTo>
                  <a:lnTo>
                    <a:pt x="1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281320" y="2181240"/>
              <a:ext cx="98280" cy="15840"/>
            </a:xfrm>
            <a:custGeom>
              <a:avLst/>
              <a:gdLst/>
              <a:ahLst/>
              <a:rect l="l" t="t" r="r" b="b"/>
              <a:pathLst>
                <a:path w="123" h="20">
                  <a:moveTo>
                    <a:pt x="0" y="20"/>
                  </a:moveTo>
                  <a:lnTo>
                    <a:pt x="0" y="0"/>
                  </a:lnTo>
                  <a:lnTo>
                    <a:pt x="12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143080" y="2089080"/>
              <a:ext cx="46080" cy="381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2112840" y="2149560"/>
              <a:ext cx="649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243160" y="2378160"/>
              <a:ext cx="374760" cy="60120"/>
            </a:xfrm>
            <a:custGeom>
              <a:avLst/>
              <a:gdLst/>
              <a:ahLst/>
              <a:rect l="l" t="t" r="r" b="b"/>
              <a:pathLst>
                <a:path w="473" h="77">
                  <a:moveTo>
                    <a:pt x="0" y="0"/>
                  </a:moveTo>
                  <a:lnTo>
                    <a:pt x="0" y="29"/>
                  </a:lnTo>
                  <a:lnTo>
                    <a:pt x="145" y="29"/>
                  </a:lnTo>
                  <a:lnTo>
                    <a:pt x="145" y="77"/>
                  </a:lnTo>
                  <a:lnTo>
                    <a:pt x="338" y="77"/>
                  </a:lnTo>
                  <a:lnTo>
                    <a:pt x="338" y="29"/>
                  </a:lnTo>
                  <a:lnTo>
                    <a:pt x="473" y="29"/>
                  </a:lnTo>
                  <a:lnTo>
                    <a:pt x="47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357280" y="2371680"/>
              <a:ext cx="1526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H="1">
              <a:off x="2303640" y="2424240"/>
              <a:ext cx="15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63920" y="2416320"/>
              <a:ext cx="54000" cy="219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633760" y="2165400"/>
              <a:ext cx="14040" cy="223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4"/>
                  </a:moveTo>
                  <a:lnTo>
                    <a:pt x="18" y="8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5" y="26"/>
                  </a:lnTo>
                  <a:lnTo>
                    <a:pt x="9" y="27"/>
                  </a:lnTo>
                  <a:lnTo>
                    <a:pt x="13" y="27"/>
                  </a:lnTo>
                  <a:lnTo>
                    <a:pt x="15" y="24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5" name=""/>
          <p:cNvSpPr/>
          <p:nvPr/>
        </p:nvSpPr>
        <p:spPr>
          <a:xfrm>
            <a:off x="3200400" y="2438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4193640" y="1980000"/>
            <a:ext cx="10630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 flipH="1">
            <a:off x="3200040" y="31240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4273560" y="2665800"/>
            <a:ext cx="82224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3200400" y="38098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3902760" y="3351600"/>
            <a:ext cx="164844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sswor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3200040" y="448776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057200" y="4013640"/>
            <a:ext cx="12628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m;e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3291120" y="5037840"/>
            <a:ext cx="1093680" cy="520560"/>
          </a:xfrm>
          <a:prstGeom prst="borderCallout1">
            <a:avLst>
              <a:gd name="adj1" fmla="val 18750"/>
              <a:gd name="adj2" fmla="val -8333"/>
              <a:gd name="adj3" fmla="val -119833"/>
              <a:gd name="adj4" fmla="val 12783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57200" y="1600200"/>
            <a:ext cx="2819520" cy="1523880"/>
          </a:xfrm>
          <a:prstGeom prst="cloudCallout">
            <a:avLst>
              <a:gd name="adj1" fmla="val 20550"/>
              <a:gd name="adj2" fmla="val 85106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: om;e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ary: io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6858000" y="1219320"/>
            <a:ext cx="1523880" cy="1066680"/>
          </a:xfrm>
          <a:prstGeom prst="cloudCallout">
            <a:avLst>
              <a:gd name="adj1" fmla="val -21458"/>
              <a:gd name="adj2" fmla="val 80652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m;e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3" dur="indefinite" restart="never" nodeType="tmRoot">
          <p:childTnLst>
            <p:seq>
              <p:cTn id="3214" dur="indefinite" nodeType="mainSeq">
                <p:childTnLst>
                  <p:par>
                    <p:cTn id="3215" fill="hold">
                      <p:stCondLst>
                        <p:cond delay="indefinite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9" dur="5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3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4" fill="hold">
                      <p:stCondLst>
                        <p:cond delay="indefinite"/>
                      </p:stCondLst>
                      <p:childTnLst>
                        <p:par>
                          <p:cTn id="3225" fill="hold">
                            <p:stCondLst>
                              <p:cond delay="0"/>
                            </p:stCondLst>
                            <p:childTnLst>
                              <p:par>
                                <p:cTn id="3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8" dur="500"/>
                                        <p:tgtEl>
                                          <p:spTgt spid="2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9" fill="hold">
                            <p:stCondLst>
                              <p:cond delay="500"/>
                            </p:stCondLst>
                            <p:childTnLst>
                              <p:par>
                                <p:cTn id="3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2" dur="5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3" fill="hold">
                      <p:stCondLst>
                        <p:cond delay="indefinite"/>
                      </p:stCondLst>
                      <p:childTnLst>
                        <p:par>
                          <p:cTn id="3234" fill="hold">
                            <p:stCondLst>
                              <p:cond delay="0"/>
                            </p:stCondLst>
                            <p:childTnLst>
                              <p:par>
                                <p:cTn id="3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7" dur="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8" fill="hold">
                            <p:stCondLst>
                              <p:cond delay="500"/>
                            </p:stCondLst>
                            <p:childTnLst>
                              <p:par>
                                <p:cTn id="32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41" dur="500"/>
                                        <p:tgtEl>
                                          <p:spTgt spid="2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2" fill="hold">
                      <p:stCondLst>
                        <p:cond delay="indefinite"/>
                      </p:stCondLst>
                      <p:childTnLst>
                        <p:par>
                          <p:cTn id="3243" fill="hold">
                            <p:stCondLst>
                              <p:cond delay="0"/>
                            </p:stCondLst>
                            <p:childTnLst>
                              <p:par>
                                <p:cTn id="32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6" dur="5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7" fill="hold">
                            <p:stCondLst>
                              <p:cond delay="500"/>
                            </p:stCondLst>
                            <p:childTnLst>
                              <p:par>
                                <p:cTn id="324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50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1" fill="hold">
                      <p:stCondLst>
                        <p:cond delay="indefinite"/>
                      </p:stCondLst>
                      <p:childTnLst>
                        <p:par>
                          <p:cTn id="3252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5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6" fill="hold">
                            <p:stCondLst>
                              <p:cond delay="500"/>
                            </p:stCondLst>
                            <p:childTnLst>
                              <p:par>
                                <p:cTn id="32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59" dur="500"/>
                                        <p:tgtEl>
                                          <p:spTgt spid="2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0" fill="hold">
                      <p:stCondLst>
                        <p:cond delay="indefinite"/>
                      </p:stCondLst>
                      <p:childTnLst>
                        <p:par>
                          <p:cTn id="3261" fill="hold">
                            <p:stCondLst>
                              <p:cond delay="0"/>
                            </p:stCondLst>
                            <p:childTnLst>
                              <p:par>
                                <p:cTn id="32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64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68" dur="500"/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2" dur="500"/>
                                        <p:tgtEl>
                                          <p:spTgt spid="2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sswor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Vulner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Being gues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bad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xpos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written down, look over shoulder, 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Unauthorized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ccount sh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torage in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3" dur="indefinite" restart="never" nodeType="tmRoot">
          <p:childTnLst>
            <p:seq>
              <p:cTn id="3274" dur="indefinite" nodeType="mainSeq">
                <p:childTnLst>
                  <p:par>
                    <p:cTn id="3275" fill="hold">
                      <p:stCondLst>
                        <p:cond delay="indefinite"/>
                      </p:stCondLst>
                      <p:childTnLst>
                        <p:par>
                          <p:cTn id="3276" fill="hold">
                            <p:stCondLst>
                              <p:cond delay="0"/>
                            </p:stCondLst>
                            <p:childTnLst>
                              <p:par>
                                <p:cTn id="32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9" dur="500"/>
                                        <p:tgtEl>
                                          <p:spTgt spid="2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0" fill="hold">
                      <p:stCondLst>
                        <p:cond delay="indefinite"/>
                      </p:stCondLst>
                      <p:childTnLst>
                        <p:par>
                          <p:cTn id="3281" fill="hold">
                            <p:stCondLst>
                              <p:cond delay="0"/>
                            </p:stCondLst>
                            <p:childTnLst>
                              <p:par>
                                <p:cTn id="32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4" dur="500"/>
                                        <p:tgtEl>
                                          <p:spTgt spid="2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5" fill="hold">
                      <p:stCondLst>
                        <p:cond delay="indefinite"/>
                      </p:stCondLst>
                      <p:childTnLst>
                        <p:par>
                          <p:cTn id="3286" fill="hold">
                            <p:stCondLst>
                              <p:cond delay="0"/>
                            </p:stCondLst>
                            <p:childTnLst>
                              <p:par>
                                <p:cTn id="3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9" dur="500"/>
                                        <p:tgtEl>
                                          <p:spTgt spid="2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0" fill="hold">
                      <p:stCondLst>
                        <p:cond delay="indefinite"/>
                      </p:stCondLst>
                      <p:childTnLst>
                        <p:par>
                          <p:cTn id="3291" fill="hold">
                            <p:stCondLst>
                              <p:cond delay="0"/>
                            </p:stCondLst>
                            <p:childTnLst>
                              <p:par>
                                <p:cTn id="32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4" dur="500"/>
                                        <p:tgtEl>
                                          <p:spTgt spid="2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5" fill="hold">
                      <p:stCondLst>
                        <p:cond delay="indefinite"/>
                      </p:stCondLst>
                      <p:childTnLst>
                        <p:par>
                          <p:cTn id="3296" fill="hold">
                            <p:stCondLst>
                              <p:cond delay="0"/>
                            </p:stCondLst>
                            <p:childTnLst>
                              <p:par>
                                <p:cTn id="32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9" dur="500"/>
                                        <p:tgtEl>
                                          <p:spTgt spid="2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0" fill="hold">
                      <p:stCondLst>
                        <p:cond delay="indefinite"/>
                      </p:stCondLst>
                      <p:childTnLst>
                        <p:par>
                          <p:cTn id="3301" fill="hold">
                            <p:stCondLst>
                              <p:cond delay="0"/>
                            </p:stCondLst>
                            <p:childTnLst>
                              <p:par>
                                <p:cTn id="33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4" dur="500"/>
                                        <p:tgtEl>
                                          <p:spTgt spid="2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9" dur="500"/>
                                        <p:tgtEl>
                                          <p:spTgt spid="2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0" fill="hold">
                      <p:stCondLst>
                        <p:cond delay="indefinite"/>
                      </p:stCondLst>
                      <p:childTnLst>
                        <p:par>
                          <p:cTn id="3311" fill="hold">
                            <p:stCondLst>
                              <p:cond delay="0"/>
                            </p:stCondLst>
                            <p:childTnLst>
                              <p:par>
                                <p:cTn id="33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4" dur="500"/>
                                        <p:tgtEl>
                                          <p:spTgt spid="2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sswor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ictionary At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0" name="" descr=""/>
          <p:cNvPicPr/>
          <p:nvPr/>
        </p:nvPicPr>
        <p:blipFill>
          <a:blip r:embed="rId1"/>
          <a:stretch/>
        </p:blipFill>
        <p:spPr>
          <a:xfrm>
            <a:off x="609480" y="3386160"/>
            <a:ext cx="2743200" cy="1338120"/>
          </a:xfrm>
          <a:prstGeom prst="rect">
            <a:avLst/>
          </a:prstGeom>
          <a:ln w="0">
            <a:noFill/>
          </a:ln>
        </p:spPr>
      </p:pic>
      <p:sp>
        <p:nvSpPr>
          <p:cNvPr id="2371" name=""/>
          <p:cNvSpPr/>
          <p:nvPr/>
        </p:nvSpPr>
        <p:spPr>
          <a:xfrm>
            <a:off x="1752480" y="2362320"/>
            <a:ext cx="1752840" cy="1828800"/>
          </a:xfrm>
          <a:prstGeom prst="wedgeRectCallout">
            <a:avLst>
              <a:gd name="adj1" fmla="val -69564"/>
              <a:gd name="adj2" fmla="val 4557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er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ces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cess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5105520" y="2362320"/>
            <a:ext cx="3429000" cy="182880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ohn:92siuIUHH76rF: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ary:8hvFRe65TreWf: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4267080" y="4495680"/>
            <a:ext cx="1676520" cy="914400"/>
          </a:xfrm>
          <a:prstGeom prst="parallelogram">
            <a:avLst>
              <a:gd name="adj" fmla="val 45837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-Way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4" name=""/>
          <p:cNvGrpSpPr/>
          <p:nvPr/>
        </p:nvGrpSpPr>
        <p:grpSpPr>
          <a:xfrm>
            <a:off x="3124080" y="2819520"/>
            <a:ext cx="1352520" cy="2133360"/>
            <a:chOff x="3124080" y="2819520"/>
            <a:chExt cx="1352520" cy="2133360"/>
          </a:xfrm>
        </p:grpSpPr>
        <p:cxnSp>
          <p:nvCxnSpPr>
            <p:cNvPr id="2375" name=""/>
            <p:cNvCxnSpPr>
              <a:stCxn id="2376" idx="0"/>
              <a:endCxn id="2373" idx="5"/>
            </p:cNvCxnSpPr>
            <p:nvPr/>
          </p:nvCxnSpPr>
          <p:spPr>
            <a:xfrm flipH="1" rot="16200000">
              <a:off x="3074400" y="3550680"/>
              <a:ext cx="2105640" cy="6991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77" name=""/>
            <p:cNvSpPr/>
            <p:nvPr/>
          </p:nvSpPr>
          <p:spPr>
            <a:xfrm>
              <a:off x="3124080" y="2819520"/>
              <a:ext cx="653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8" name=""/>
          <p:cNvSpPr/>
          <p:nvPr/>
        </p:nvSpPr>
        <p:spPr>
          <a:xfrm>
            <a:off x="6349680" y="4759920"/>
            <a:ext cx="189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92suIVHH76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9" name=""/>
          <p:cNvCxnSpPr>
            <a:stCxn id="2373" idx="2"/>
            <a:endCxn id="2378" idx="1"/>
          </p:cNvCxnSpPr>
          <p:nvPr/>
        </p:nvCxnSpPr>
        <p:spPr>
          <a:xfrm>
            <a:off x="5733720" y="4952880"/>
            <a:ext cx="664200" cy="7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0" name=""/>
          <p:cNvSpPr/>
          <p:nvPr/>
        </p:nvSpPr>
        <p:spPr>
          <a:xfrm flipV="1">
            <a:off x="8305920" y="2513880"/>
            <a:ext cx="457200" cy="2590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6324480" y="1447920"/>
            <a:ext cx="1371600" cy="609480"/>
          </a:xfrm>
          <a:prstGeom prst="parallelogram">
            <a:avLst>
              <a:gd name="adj" fmla="val 56261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1-Way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Fu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5031720" y="152316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m;e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3" name=""/>
          <p:cNvCxnSpPr>
            <a:stCxn id="2382" idx="3"/>
            <a:endCxn id="2381" idx="5"/>
          </p:cNvCxnSpPr>
          <p:nvPr/>
        </p:nvCxnSpPr>
        <p:spPr>
          <a:xfrm>
            <a:off x="6089400" y="1722240"/>
            <a:ext cx="407160" cy="30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4" name=""/>
          <p:cNvSpPr/>
          <p:nvPr/>
        </p:nvSpPr>
        <p:spPr>
          <a:xfrm>
            <a:off x="6858000" y="20574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646560" y="5104440"/>
            <a:ext cx="295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-way function: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   easy:  x </a:t>
            </a:r>
            <a:r>
              <a:rPr b="0" lang="nl-B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f(x)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   impossible:   f(x) </a:t>
            </a:r>
            <a:r>
              <a:rPr b="0" lang="nl-B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5" dur="indefinite" restart="never" nodeType="tmRoot">
          <p:childTnLst>
            <p:seq>
              <p:cTn id="3316" dur="indefinite" nodeType="mainSeq">
                <p:childTnLst>
                  <p:par>
                    <p:cTn id="3317" fill="hold">
                      <p:stCondLst>
                        <p:cond delay="indefinite"/>
                      </p:stCondLst>
                      <p:childTnLst>
                        <p:par>
                          <p:cTn id="3318" fill="hold">
                            <p:stCondLst>
                              <p:cond delay="0"/>
                            </p:stCondLst>
                            <p:childTnLst>
                              <p:par>
                                <p:cTn id="3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1" dur="500"/>
                                        <p:tgtEl>
                                          <p:spTgt spid="2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2" fill="hold">
                      <p:stCondLst>
                        <p:cond delay="indefinite"/>
                      </p:stCondLst>
                      <p:childTnLst>
                        <p:par>
                          <p:cTn id="3323" fill="hold">
                            <p:stCondLst>
                              <p:cond delay="0"/>
                            </p:stCondLst>
                            <p:childTnLst>
                              <p:par>
                                <p:cTn id="33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6" dur="500"/>
                                        <p:tgtEl>
                                          <p:spTgt spid="2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7" fill="hold">
                      <p:stCondLst>
                        <p:cond delay="indefinite"/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31" dur="5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5" dur="500"/>
                                        <p:tgtEl>
                                          <p:spTgt spid="2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9" dur="5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3" dur="500"/>
                                        <p:tgtEl>
                                          <p:spTgt spid="2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fill="hold">
                      <p:stCondLst>
                        <p:cond delay="indefinite"/>
                      </p:stCondLst>
                      <p:childTnLst>
                        <p:par>
                          <p:cTn id="3345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8" dur="1000" fill="hold"/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9" dur="1000" fill="hold"/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0" dur="1000" fill="hold"/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1" dur="1000" fill="hold"/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2" fill="hold">
                      <p:stCondLst>
                        <p:cond delay="indefinite"/>
                      </p:stCondLst>
                      <p:childTnLst>
                        <p:par>
                          <p:cTn id="3353" fill="hold">
                            <p:stCondLst>
                              <p:cond delay="0"/>
                            </p:stCondLst>
                            <p:childTnLst>
                              <p:par>
                                <p:cTn id="3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6" dur="500"/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1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5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9" dur="500"/>
                                        <p:tgtEl>
                                          <p:spTgt spid="2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3" dur="500"/>
                                        <p:tgtEl>
                                          <p:spTgt spid="2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4" fill="hold">
                      <p:stCondLst>
                        <p:cond delay="indefinite"/>
                      </p:stCondLst>
                      <p:childTnLst>
                        <p:par>
                          <p:cTn id="3375" fill="hold">
                            <p:stCondLst>
                              <p:cond delay="0"/>
                            </p:stCondLst>
                            <p:childTnLst>
                              <p:par>
                                <p:cTn id="3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8" dur="500"/>
                                        <p:tgtEl>
                                          <p:spTgt spid="2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sswor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Generated by User vs by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ssword A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orce to choose new pass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ew password each 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arly discovery of security bre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9" dur="indefinite" restart="never" nodeType="tmRoot">
          <p:childTnLst>
            <p:seq>
              <p:cTn id="3380" dur="indefinite" nodeType="mainSeq">
                <p:childTnLst>
                  <p:par>
                    <p:cTn id="3381" fill="hold">
                      <p:stCondLst>
                        <p:cond delay="indefinite"/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5" dur="500"/>
                                        <p:tgtEl>
                                          <p:spTgt spid="2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6" fill="hold">
                      <p:stCondLst>
                        <p:cond delay="indefinite"/>
                      </p:stCondLst>
                      <p:childTnLst>
                        <p:par>
                          <p:cTn id="3387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0" dur="500"/>
                                        <p:tgtEl>
                                          <p:spTgt spid="2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1" fill="hold">
                      <p:stCondLst>
                        <p:cond delay="indefinite"/>
                      </p:stCondLst>
                      <p:childTnLst>
                        <p:par>
                          <p:cTn id="3392" fill="hold">
                            <p:stCondLst>
                              <p:cond delay="0"/>
                            </p:stCondLst>
                            <p:childTnLst>
                              <p:par>
                                <p:cTn id="33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5" dur="500"/>
                                        <p:tgtEl>
                                          <p:spTgt spid="2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8" dur="500"/>
                                        <p:tgtEl>
                                          <p:spTgt spid="2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1" dur="500"/>
                                        <p:tgtEl>
                                          <p:spTgt spid="2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2" fill="hold">
                      <p:stCondLst>
                        <p:cond delay="indefinite"/>
                      </p:stCondLst>
                      <p:childTnLst>
                        <p:par>
                          <p:cTn id="3403" fill="hold">
                            <p:stCondLst>
                              <p:cond delay="0"/>
                            </p:stCondLst>
                            <p:childTnLst>
                              <p:par>
                                <p:cTn id="34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6" dur="500"/>
                                        <p:tgtEl>
                                          <p:spTgt spid="2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fill="hold">
                      <p:stCondLst>
                        <p:cond delay="indefinite"/>
                      </p:stCondLst>
                      <p:childTnLst>
                        <p:par>
                          <p:cTn id="3408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11" dur="500"/>
                                        <p:tgtEl>
                                          <p:spTgt spid="2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end secr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avesdropping, 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Use secr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hallenge -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xplicit  (non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mplicit (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ften in token device or smart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9900"/>
                </a:solidFill>
                <a:latin typeface="Wingdings"/>
                <a:ea typeface="Wingdings"/>
              </a:rPr>
              <a:t>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avesdropping, replay useles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sponse = function (secret, challen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2" dur="indefinite" restart="never" nodeType="tmRoot">
          <p:childTnLst>
            <p:seq>
              <p:cTn id="3413" dur="indefinite" nodeType="mainSeq">
                <p:childTnLst>
                  <p:par>
                    <p:cTn id="3414" fill="hold">
                      <p:stCondLst>
                        <p:cond delay="indefinite"/>
                      </p:stCondLst>
                      <p:childTnLst>
                        <p:par>
                          <p:cTn id="3415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18" dur="500"/>
                                        <p:tgtEl>
                                          <p:spTgt spid="2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1" dur="500"/>
                                        <p:tgtEl>
                                          <p:spTgt spid="2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2" fill="hold">
                      <p:stCondLst>
                        <p:cond delay="indefinite"/>
                      </p:stCondLst>
                      <p:childTnLst>
                        <p:par>
                          <p:cTn id="3423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6" dur="500"/>
                                        <p:tgtEl>
                                          <p:spTgt spid="2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fill="hold">
                      <p:stCondLst>
                        <p:cond delay="indefinite"/>
                      </p:stCondLst>
                      <p:childTnLst>
                        <p:par>
                          <p:cTn id="3428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1" dur="500"/>
                                        <p:tgtEl>
                                          <p:spTgt spid="2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4" dur="500"/>
                                        <p:tgtEl>
                                          <p:spTgt spid="2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7" dur="500"/>
                                        <p:tgtEl>
                                          <p:spTgt spid="2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8" fill="hold">
                      <p:stCondLst>
                        <p:cond delay="indefinite"/>
                      </p:stCondLst>
                      <p:childTnLst>
                        <p:par>
                          <p:cTn id="3439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2" dur="500"/>
                                        <p:tgtEl>
                                          <p:spTgt spid="2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3" fill="hold">
                      <p:stCondLst>
                        <p:cond delay="indefinite"/>
                      </p:stCondLst>
                      <p:childTnLst>
                        <p:par>
                          <p:cTn id="3444" fill="hold">
                            <p:stCondLst>
                              <p:cond delay="0"/>
                            </p:stCondLst>
                            <p:childTnLst>
                              <p:par>
                                <p:cTn id="34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7" dur="500"/>
                                        <p:tgtEl>
                                          <p:spTgt spid="2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0" dur="500"/>
                                        <p:tgtEl>
                                          <p:spTgt spid="2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0" name=""/>
          <p:cNvGrpSpPr/>
          <p:nvPr/>
        </p:nvGrpSpPr>
        <p:grpSpPr>
          <a:xfrm>
            <a:off x="7329240" y="2457000"/>
            <a:ext cx="1269720" cy="1711440"/>
            <a:chOff x="7329240" y="2457000"/>
            <a:chExt cx="1269720" cy="1711440"/>
          </a:xfrm>
        </p:grpSpPr>
        <p:sp>
          <p:nvSpPr>
            <p:cNvPr id="2391" name=""/>
            <p:cNvSpPr/>
            <p:nvPr/>
          </p:nvSpPr>
          <p:spPr>
            <a:xfrm>
              <a:off x="7329240" y="2457000"/>
              <a:ext cx="1269720" cy="171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7329240" y="2739600"/>
              <a:ext cx="1209240" cy="1428840"/>
            </a:xfrm>
            <a:custGeom>
              <a:avLst/>
              <a:gdLst/>
              <a:ahLst/>
              <a:rect l="l" t="t" r="r" b="b"/>
              <a:pathLst>
                <a:path w="3053" h="3604">
                  <a:moveTo>
                    <a:pt x="825" y="39"/>
                  </a:moveTo>
                  <a:lnTo>
                    <a:pt x="894" y="28"/>
                  </a:lnTo>
                  <a:lnTo>
                    <a:pt x="961" y="20"/>
                  </a:lnTo>
                  <a:lnTo>
                    <a:pt x="1029" y="10"/>
                  </a:lnTo>
                  <a:lnTo>
                    <a:pt x="1097" y="6"/>
                  </a:lnTo>
                  <a:lnTo>
                    <a:pt x="1166" y="2"/>
                  </a:lnTo>
                  <a:lnTo>
                    <a:pt x="1234" y="0"/>
                  </a:lnTo>
                  <a:lnTo>
                    <a:pt x="1302" y="0"/>
                  </a:lnTo>
                  <a:lnTo>
                    <a:pt x="1371" y="0"/>
                  </a:lnTo>
                  <a:lnTo>
                    <a:pt x="1440" y="4"/>
                  </a:lnTo>
                  <a:lnTo>
                    <a:pt x="1508" y="8"/>
                  </a:lnTo>
                  <a:lnTo>
                    <a:pt x="1576" y="15"/>
                  </a:lnTo>
                  <a:lnTo>
                    <a:pt x="1644" y="24"/>
                  </a:lnTo>
                  <a:lnTo>
                    <a:pt x="1710" y="33"/>
                  </a:lnTo>
                  <a:lnTo>
                    <a:pt x="1780" y="45"/>
                  </a:lnTo>
                  <a:lnTo>
                    <a:pt x="1848" y="59"/>
                  </a:lnTo>
                  <a:lnTo>
                    <a:pt x="1916" y="74"/>
                  </a:lnTo>
                  <a:lnTo>
                    <a:pt x="1982" y="90"/>
                  </a:lnTo>
                  <a:lnTo>
                    <a:pt x="2048" y="107"/>
                  </a:lnTo>
                  <a:lnTo>
                    <a:pt x="2115" y="128"/>
                  </a:lnTo>
                  <a:lnTo>
                    <a:pt x="2181" y="150"/>
                  </a:lnTo>
                  <a:lnTo>
                    <a:pt x="2248" y="171"/>
                  </a:lnTo>
                  <a:lnTo>
                    <a:pt x="2314" y="196"/>
                  </a:lnTo>
                  <a:lnTo>
                    <a:pt x="2378" y="223"/>
                  </a:lnTo>
                  <a:lnTo>
                    <a:pt x="2442" y="249"/>
                  </a:lnTo>
                  <a:lnTo>
                    <a:pt x="2506" y="280"/>
                  </a:lnTo>
                  <a:lnTo>
                    <a:pt x="2568" y="309"/>
                  </a:lnTo>
                  <a:lnTo>
                    <a:pt x="2632" y="342"/>
                  </a:lnTo>
                  <a:lnTo>
                    <a:pt x="2693" y="375"/>
                  </a:lnTo>
                  <a:lnTo>
                    <a:pt x="2753" y="408"/>
                  </a:lnTo>
                  <a:lnTo>
                    <a:pt x="2815" y="446"/>
                  </a:lnTo>
                  <a:lnTo>
                    <a:pt x="2872" y="481"/>
                  </a:lnTo>
                  <a:lnTo>
                    <a:pt x="2931" y="521"/>
                  </a:lnTo>
                  <a:lnTo>
                    <a:pt x="2905" y="607"/>
                  </a:lnTo>
                  <a:lnTo>
                    <a:pt x="2867" y="687"/>
                  </a:lnTo>
                  <a:lnTo>
                    <a:pt x="2826" y="768"/>
                  </a:lnTo>
                  <a:lnTo>
                    <a:pt x="2784" y="856"/>
                  </a:lnTo>
                  <a:lnTo>
                    <a:pt x="2748" y="961"/>
                  </a:lnTo>
                  <a:lnTo>
                    <a:pt x="2727" y="1083"/>
                  </a:lnTo>
                  <a:lnTo>
                    <a:pt x="2720" y="1236"/>
                  </a:lnTo>
                  <a:lnTo>
                    <a:pt x="2735" y="1424"/>
                  </a:lnTo>
                  <a:lnTo>
                    <a:pt x="2786" y="1430"/>
                  </a:lnTo>
                  <a:lnTo>
                    <a:pt x="2836" y="1436"/>
                  </a:lnTo>
                  <a:lnTo>
                    <a:pt x="2885" y="1440"/>
                  </a:lnTo>
                  <a:lnTo>
                    <a:pt x="2931" y="1446"/>
                  </a:lnTo>
                  <a:lnTo>
                    <a:pt x="2972" y="1455"/>
                  </a:lnTo>
                  <a:lnTo>
                    <a:pt x="3005" y="1473"/>
                  </a:lnTo>
                  <a:lnTo>
                    <a:pt x="3028" y="1497"/>
                  </a:lnTo>
                  <a:lnTo>
                    <a:pt x="3042" y="1533"/>
                  </a:lnTo>
                  <a:lnTo>
                    <a:pt x="3053" y="1601"/>
                  </a:lnTo>
                  <a:lnTo>
                    <a:pt x="3051" y="1683"/>
                  </a:lnTo>
                  <a:lnTo>
                    <a:pt x="3038" y="1771"/>
                  </a:lnTo>
                  <a:lnTo>
                    <a:pt x="3015" y="1863"/>
                  </a:lnTo>
                  <a:lnTo>
                    <a:pt x="2987" y="1960"/>
                  </a:lnTo>
                  <a:lnTo>
                    <a:pt x="2954" y="2055"/>
                  </a:lnTo>
                  <a:lnTo>
                    <a:pt x="2918" y="2146"/>
                  </a:lnTo>
                  <a:lnTo>
                    <a:pt x="2883" y="2228"/>
                  </a:lnTo>
                  <a:lnTo>
                    <a:pt x="2867" y="2237"/>
                  </a:lnTo>
                  <a:lnTo>
                    <a:pt x="2850" y="2245"/>
                  </a:lnTo>
                  <a:lnTo>
                    <a:pt x="2828" y="2253"/>
                  </a:lnTo>
                  <a:lnTo>
                    <a:pt x="2803" y="2259"/>
                  </a:lnTo>
                  <a:lnTo>
                    <a:pt x="2779" y="2263"/>
                  </a:lnTo>
                  <a:lnTo>
                    <a:pt x="2751" y="2268"/>
                  </a:lnTo>
                  <a:lnTo>
                    <a:pt x="2722" y="2272"/>
                  </a:lnTo>
                  <a:lnTo>
                    <a:pt x="2691" y="2274"/>
                  </a:lnTo>
                  <a:lnTo>
                    <a:pt x="2663" y="2276"/>
                  </a:lnTo>
                  <a:lnTo>
                    <a:pt x="2632" y="2278"/>
                  </a:lnTo>
                  <a:lnTo>
                    <a:pt x="2603" y="2278"/>
                  </a:lnTo>
                  <a:lnTo>
                    <a:pt x="2576" y="2278"/>
                  </a:lnTo>
                  <a:lnTo>
                    <a:pt x="2550" y="2276"/>
                  </a:lnTo>
                  <a:lnTo>
                    <a:pt x="2525" y="2276"/>
                  </a:lnTo>
                  <a:lnTo>
                    <a:pt x="2504" y="2274"/>
                  </a:lnTo>
                  <a:lnTo>
                    <a:pt x="2486" y="2272"/>
                  </a:lnTo>
                  <a:lnTo>
                    <a:pt x="2469" y="2398"/>
                  </a:lnTo>
                  <a:lnTo>
                    <a:pt x="2455" y="2517"/>
                  </a:lnTo>
                  <a:lnTo>
                    <a:pt x="2440" y="2630"/>
                  </a:lnTo>
                  <a:lnTo>
                    <a:pt x="2426" y="2738"/>
                  </a:lnTo>
                  <a:lnTo>
                    <a:pt x="2411" y="2842"/>
                  </a:lnTo>
                  <a:lnTo>
                    <a:pt x="2397" y="2940"/>
                  </a:lnTo>
                  <a:lnTo>
                    <a:pt x="2382" y="3035"/>
                  </a:lnTo>
                  <a:lnTo>
                    <a:pt x="2364" y="3126"/>
                  </a:lnTo>
                  <a:lnTo>
                    <a:pt x="2347" y="3209"/>
                  </a:lnTo>
                  <a:lnTo>
                    <a:pt x="2327" y="3283"/>
                  </a:lnTo>
                  <a:lnTo>
                    <a:pt x="2304" y="3348"/>
                  </a:lnTo>
                  <a:lnTo>
                    <a:pt x="2283" y="3405"/>
                  </a:lnTo>
                  <a:lnTo>
                    <a:pt x="2261" y="3452"/>
                  </a:lnTo>
                  <a:lnTo>
                    <a:pt x="2236" y="3489"/>
                  </a:lnTo>
                  <a:lnTo>
                    <a:pt x="2217" y="3516"/>
                  </a:lnTo>
                  <a:lnTo>
                    <a:pt x="2199" y="3531"/>
                  </a:lnTo>
                  <a:lnTo>
                    <a:pt x="2178" y="3547"/>
                  </a:lnTo>
                  <a:lnTo>
                    <a:pt x="2152" y="3562"/>
                  </a:lnTo>
                  <a:lnTo>
                    <a:pt x="2119" y="3573"/>
                  </a:lnTo>
                  <a:lnTo>
                    <a:pt x="2081" y="3584"/>
                  </a:lnTo>
                  <a:lnTo>
                    <a:pt x="2040" y="3590"/>
                  </a:lnTo>
                  <a:lnTo>
                    <a:pt x="1993" y="3597"/>
                  </a:lnTo>
                  <a:lnTo>
                    <a:pt x="1941" y="3602"/>
                  </a:lnTo>
                  <a:lnTo>
                    <a:pt x="1883" y="3604"/>
                  </a:lnTo>
                  <a:lnTo>
                    <a:pt x="1823" y="3604"/>
                  </a:lnTo>
                  <a:lnTo>
                    <a:pt x="1759" y="3602"/>
                  </a:lnTo>
                  <a:lnTo>
                    <a:pt x="1693" y="3597"/>
                  </a:lnTo>
                  <a:lnTo>
                    <a:pt x="1623" y="3593"/>
                  </a:lnTo>
                  <a:lnTo>
                    <a:pt x="1552" y="3584"/>
                  </a:lnTo>
                  <a:lnTo>
                    <a:pt x="1477" y="3576"/>
                  </a:lnTo>
                  <a:lnTo>
                    <a:pt x="1400" y="3566"/>
                  </a:lnTo>
                  <a:lnTo>
                    <a:pt x="1320" y="3553"/>
                  </a:lnTo>
                  <a:lnTo>
                    <a:pt x="1240" y="3540"/>
                  </a:lnTo>
                  <a:lnTo>
                    <a:pt x="1161" y="3524"/>
                  </a:lnTo>
                  <a:lnTo>
                    <a:pt x="1079" y="3509"/>
                  </a:lnTo>
                  <a:lnTo>
                    <a:pt x="998" y="3491"/>
                  </a:lnTo>
                  <a:lnTo>
                    <a:pt x="916" y="3471"/>
                  </a:lnTo>
                  <a:lnTo>
                    <a:pt x="835" y="3452"/>
                  </a:lnTo>
                  <a:lnTo>
                    <a:pt x="753" y="3429"/>
                  </a:lnTo>
                  <a:lnTo>
                    <a:pt x="673" y="3407"/>
                  </a:lnTo>
                  <a:lnTo>
                    <a:pt x="594" y="3384"/>
                  </a:lnTo>
                  <a:lnTo>
                    <a:pt x="516" y="3357"/>
                  </a:lnTo>
                  <a:lnTo>
                    <a:pt x="442" y="3332"/>
                  </a:lnTo>
                  <a:lnTo>
                    <a:pt x="369" y="3303"/>
                  </a:lnTo>
                  <a:lnTo>
                    <a:pt x="298" y="3277"/>
                  </a:lnTo>
                  <a:lnTo>
                    <a:pt x="229" y="3246"/>
                  </a:lnTo>
                  <a:lnTo>
                    <a:pt x="165" y="3217"/>
                  </a:lnTo>
                  <a:lnTo>
                    <a:pt x="104" y="3186"/>
                  </a:lnTo>
                  <a:lnTo>
                    <a:pt x="64" y="3167"/>
                  </a:lnTo>
                  <a:lnTo>
                    <a:pt x="35" y="3136"/>
                  </a:lnTo>
                  <a:lnTo>
                    <a:pt x="17" y="3091"/>
                  </a:lnTo>
                  <a:lnTo>
                    <a:pt x="9" y="3037"/>
                  </a:lnTo>
                  <a:lnTo>
                    <a:pt x="9" y="2967"/>
                  </a:lnTo>
                  <a:lnTo>
                    <a:pt x="15" y="2891"/>
                  </a:lnTo>
                  <a:lnTo>
                    <a:pt x="31" y="2804"/>
                  </a:lnTo>
                  <a:lnTo>
                    <a:pt x="51" y="2709"/>
                  </a:lnTo>
                  <a:lnTo>
                    <a:pt x="77" y="2606"/>
                  </a:lnTo>
                  <a:lnTo>
                    <a:pt x="110" y="2495"/>
                  </a:lnTo>
                  <a:lnTo>
                    <a:pt x="146" y="2379"/>
                  </a:lnTo>
                  <a:lnTo>
                    <a:pt x="186" y="2255"/>
                  </a:lnTo>
                  <a:lnTo>
                    <a:pt x="227" y="2127"/>
                  </a:lnTo>
                  <a:lnTo>
                    <a:pt x="272" y="1993"/>
                  </a:lnTo>
                  <a:lnTo>
                    <a:pt x="316" y="1859"/>
                  </a:lnTo>
                  <a:lnTo>
                    <a:pt x="362" y="1720"/>
                  </a:lnTo>
                  <a:lnTo>
                    <a:pt x="338" y="1709"/>
                  </a:lnTo>
                  <a:lnTo>
                    <a:pt x="314" y="1698"/>
                  </a:lnTo>
                  <a:lnTo>
                    <a:pt x="287" y="1689"/>
                  </a:lnTo>
                  <a:lnTo>
                    <a:pt x="260" y="1680"/>
                  </a:lnTo>
                  <a:lnTo>
                    <a:pt x="234" y="1671"/>
                  </a:lnTo>
                  <a:lnTo>
                    <a:pt x="205" y="1665"/>
                  </a:lnTo>
                  <a:lnTo>
                    <a:pt x="179" y="1656"/>
                  </a:lnTo>
                  <a:lnTo>
                    <a:pt x="155" y="1649"/>
                  </a:lnTo>
                  <a:lnTo>
                    <a:pt x="128" y="1640"/>
                  </a:lnTo>
                  <a:lnTo>
                    <a:pt x="106" y="1630"/>
                  </a:lnTo>
                  <a:lnTo>
                    <a:pt x="84" y="1621"/>
                  </a:lnTo>
                  <a:lnTo>
                    <a:pt x="62" y="1609"/>
                  </a:lnTo>
                  <a:lnTo>
                    <a:pt x="44" y="1597"/>
                  </a:lnTo>
                  <a:lnTo>
                    <a:pt x="27" y="1581"/>
                  </a:lnTo>
                  <a:lnTo>
                    <a:pt x="13" y="1564"/>
                  </a:lnTo>
                  <a:lnTo>
                    <a:pt x="2" y="1545"/>
                  </a:lnTo>
                  <a:lnTo>
                    <a:pt x="0" y="1461"/>
                  </a:lnTo>
                  <a:lnTo>
                    <a:pt x="15" y="1351"/>
                  </a:lnTo>
                  <a:lnTo>
                    <a:pt x="42" y="1225"/>
                  </a:lnTo>
                  <a:lnTo>
                    <a:pt x="77" y="1093"/>
                  </a:lnTo>
                  <a:lnTo>
                    <a:pt x="115" y="965"/>
                  </a:lnTo>
                  <a:lnTo>
                    <a:pt x="155" y="850"/>
                  </a:lnTo>
                  <a:lnTo>
                    <a:pt x="192" y="761"/>
                  </a:lnTo>
                  <a:lnTo>
                    <a:pt x="223" y="704"/>
                  </a:lnTo>
                  <a:lnTo>
                    <a:pt x="243" y="697"/>
                  </a:lnTo>
                  <a:lnTo>
                    <a:pt x="262" y="691"/>
                  </a:lnTo>
                  <a:lnTo>
                    <a:pt x="283" y="689"/>
                  </a:lnTo>
                  <a:lnTo>
                    <a:pt x="305" y="687"/>
                  </a:lnTo>
                  <a:lnTo>
                    <a:pt x="326" y="689"/>
                  </a:lnTo>
                  <a:lnTo>
                    <a:pt x="351" y="691"/>
                  </a:lnTo>
                  <a:lnTo>
                    <a:pt x="375" y="693"/>
                  </a:lnTo>
                  <a:lnTo>
                    <a:pt x="400" y="699"/>
                  </a:lnTo>
                  <a:lnTo>
                    <a:pt x="423" y="704"/>
                  </a:lnTo>
                  <a:lnTo>
                    <a:pt x="450" y="713"/>
                  </a:lnTo>
                  <a:lnTo>
                    <a:pt x="477" y="720"/>
                  </a:lnTo>
                  <a:lnTo>
                    <a:pt x="503" y="728"/>
                  </a:lnTo>
                  <a:lnTo>
                    <a:pt x="530" y="739"/>
                  </a:lnTo>
                  <a:lnTo>
                    <a:pt x="559" y="749"/>
                  </a:lnTo>
                  <a:lnTo>
                    <a:pt x="588" y="757"/>
                  </a:lnTo>
                  <a:lnTo>
                    <a:pt x="616" y="768"/>
                  </a:lnTo>
                  <a:lnTo>
                    <a:pt x="647" y="671"/>
                  </a:lnTo>
                  <a:lnTo>
                    <a:pt x="678" y="574"/>
                  </a:lnTo>
                  <a:lnTo>
                    <a:pt x="706" y="479"/>
                  </a:lnTo>
                  <a:lnTo>
                    <a:pt x="735" y="384"/>
                  </a:lnTo>
                  <a:lnTo>
                    <a:pt x="759" y="293"/>
                  </a:lnTo>
                  <a:lnTo>
                    <a:pt x="784" y="204"/>
                  </a:lnTo>
                  <a:lnTo>
                    <a:pt x="806" y="121"/>
                  </a:lnTo>
                  <a:lnTo>
                    <a:pt x="825" y="39"/>
                  </a:lnTo>
                  <a:close/>
                </a:path>
              </a:pathLst>
            </a:custGeom>
            <a:solidFill>
              <a:srgbClr val="ffe9b3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784280" y="3383640"/>
              <a:ext cx="241200" cy="156600"/>
            </a:xfrm>
            <a:custGeom>
              <a:avLst/>
              <a:gdLst/>
              <a:ahLst/>
              <a:rect l="l" t="t" r="r" b="b"/>
              <a:pathLst>
                <a:path w="608" h="399">
                  <a:moveTo>
                    <a:pt x="604" y="399"/>
                  </a:moveTo>
                  <a:lnTo>
                    <a:pt x="608" y="358"/>
                  </a:lnTo>
                  <a:lnTo>
                    <a:pt x="608" y="314"/>
                  </a:lnTo>
                  <a:lnTo>
                    <a:pt x="602" y="267"/>
                  </a:lnTo>
                  <a:lnTo>
                    <a:pt x="592" y="221"/>
                  </a:lnTo>
                  <a:lnTo>
                    <a:pt x="579" y="178"/>
                  </a:lnTo>
                  <a:lnTo>
                    <a:pt x="563" y="139"/>
                  </a:lnTo>
                  <a:lnTo>
                    <a:pt x="546" y="110"/>
                  </a:lnTo>
                  <a:lnTo>
                    <a:pt x="526" y="88"/>
                  </a:lnTo>
                  <a:lnTo>
                    <a:pt x="482" y="57"/>
                  </a:lnTo>
                  <a:lnTo>
                    <a:pt x="438" y="33"/>
                  </a:lnTo>
                  <a:lnTo>
                    <a:pt x="394" y="15"/>
                  </a:lnTo>
                  <a:lnTo>
                    <a:pt x="352" y="4"/>
                  </a:lnTo>
                  <a:lnTo>
                    <a:pt x="312" y="0"/>
                  </a:lnTo>
                  <a:lnTo>
                    <a:pt x="272" y="2"/>
                  </a:lnTo>
                  <a:lnTo>
                    <a:pt x="235" y="9"/>
                  </a:lnTo>
                  <a:lnTo>
                    <a:pt x="198" y="19"/>
                  </a:lnTo>
                  <a:lnTo>
                    <a:pt x="165" y="37"/>
                  </a:lnTo>
                  <a:lnTo>
                    <a:pt x="134" y="57"/>
                  </a:lnTo>
                  <a:lnTo>
                    <a:pt x="105" y="81"/>
                  </a:lnTo>
                  <a:lnTo>
                    <a:pt x="78" y="110"/>
                  </a:lnTo>
                  <a:lnTo>
                    <a:pt x="54" y="141"/>
                  </a:lnTo>
                  <a:lnTo>
                    <a:pt x="31" y="174"/>
                  </a:lnTo>
                  <a:lnTo>
                    <a:pt x="14" y="211"/>
                  </a:lnTo>
                  <a:lnTo>
                    <a:pt x="0" y="249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628760" y="3715200"/>
              <a:ext cx="412200" cy="182160"/>
            </a:xfrm>
            <a:custGeom>
              <a:avLst/>
              <a:gdLst/>
              <a:ahLst/>
              <a:rect l="l" t="t" r="r" b="b"/>
              <a:pathLst>
                <a:path w="1042" h="459">
                  <a:moveTo>
                    <a:pt x="0" y="0"/>
                  </a:moveTo>
                  <a:lnTo>
                    <a:pt x="11" y="49"/>
                  </a:lnTo>
                  <a:lnTo>
                    <a:pt x="23" y="90"/>
                  </a:lnTo>
                  <a:lnTo>
                    <a:pt x="35" y="132"/>
                  </a:lnTo>
                  <a:lnTo>
                    <a:pt x="56" y="179"/>
                  </a:lnTo>
                  <a:lnTo>
                    <a:pt x="62" y="192"/>
                  </a:lnTo>
                  <a:lnTo>
                    <a:pt x="71" y="208"/>
                  </a:lnTo>
                  <a:lnTo>
                    <a:pt x="82" y="225"/>
                  </a:lnTo>
                  <a:lnTo>
                    <a:pt x="95" y="243"/>
                  </a:lnTo>
                  <a:lnTo>
                    <a:pt x="108" y="263"/>
                  </a:lnTo>
                  <a:lnTo>
                    <a:pt x="124" y="282"/>
                  </a:lnTo>
                  <a:lnTo>
                    <a:pt x="142" y="300"/>
                  </a:lnTo>
                  <a:lnTo>
                    <a:pt x="159" y="315"/>
                  </a:lnTo>
                  <a:lnTo>
                    <a:pt x="190" y="338"/>
                  </a:lnTo>
                  <a:lnTo>
                    <a:pt x="223" y="358"/>
                  </a:lnTo>
                  <a:lnTo>
                    <a:pt x="258" y="377"/>
                  </a:lnTo>
                  <a:lnTo>
                    <a:pt x="296" y="393"/>
                  </a:lnTo>
                  <a:lnTo>
                    <a:pt x="336" y="408"/>
                  </a:lnTo>
                  <a:lnTo>
                    <a:pt x="376" y="422"/>
                  </a:lnTo>
                  <a:lnTo>
                    <a:pt x="415" y="435"/>
                  </a:lnTo>
                  <a:lnTo>
                    <a:pt x="458" y="443"/>
                  </a:lnTo>
                  <a:lnTo>
                    <a:pt x="499" y="451"/>
                  </a:lnTo>
                  <a:lnTo>
                    <a:pt x="541" y="455"/>
                  </a:lnTo>
                  <a:lnTo>
                    <a:pt x="583" y="459"/>
                  </a:lnTo>
                  <a:lnTo>
                    <a:pt x="625" y="459"/>
                  </a:lnTo>
                  <a:lnTo>
                    <a:pt x="667" y="457"/>
                  </a:lnTo>
                  <a:lnTo>
                    <a:pt x="707" y="453"/>
                  </a:lnTo>
                  <a:lnTo>
                    <a:pt x="747" y="443"/>
                  </a:lnTo>
                  <a:lnTo>
                    <a:pt x="786" y="435"/>
                  </a:lnTo>
                  <a:lnTo>
                    <a:pt x="792" y="433"/>
                  </a:lnTo>
                  <a:lnTo>
                    <a:pt x="808" y="424"/>
                  </a:lnTo>
                  <a:lnTo>
                    <a:pt x="833" y="408"/>
                  </a:lnTo>
                  <a:lnTo>
                    <a:pt x="866" y="389"/>
                  </a:lnTo>
                  <a:lnTo>
                    <a:pt x="905" y="364"/>
                  </a:lnTo>
                  <a:lnTo>
                    <a:pt x="947" y="333"/>
                  </a:lnTo>
                  <a:lnTo>
                    <a:pt x="994" y="300"/>
                  </a:lnTo>
                  <a:lnTo>
                    <a:pt x="1042" y="263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7521120" y="3609000"/>
              <a:ext cx="180720" cy="158400"/>
            </a:xfrm>
            <a:custGeom>
              <a:avLst/>
              <a:gdLst/>
              <a:ahLst/>
              <a:rect l="l" t="t" r="r" b="b"/>
              <a:pathLst>
                <a:path w="456" h="401">
                  <a:moveTo>
                    <a:pt x="456" y="0"/>
                  </a:moveTo>
                  <a:lnTo>
                    <a:pt x="445" y="19"/>
                  </a:lnTo>
                  <a:lnTo>
                    <a:pt x="431" y="44"/>
                  </a:lnTo>
                  <a:lnTo>
                    <a:pt x="416" y="70"/>
                  </a:lnTo>
                  <a:lnTo>
                    <a:pt x="400" y="99"/>
                  </a:lnTo>
                  <a:lnTo>
                    <a:pt x="383" y="130"/>
                  </a:lnTo>
                  <a:lnTo>
                    <a:pt x="363" y="161"/>
                  </a:lnTo>
                  <a:lnTo>
                    <a:pt x="340" y="192"/>
                  </a:lnTo>
                  <a:lnTo>
                    <a:pt x="316" y="225"/>
                  </a:lnTo>
                  <a:lnTo>
                    <a:pt x="288" y="256"/>
                  </a:lnTo>
                  <a:lnTo>
                    <a:pt x="259" y="285"/>
                  </a:lnTo>
                  <a:lnTo>
                    <a:pt x="226" y="313"/>
                  </a:lnTo>
                  <a:lnTo>
                    <a:pt x="188" y="337"/>
                  </a:lnTo>
                  <a:lnTo>
                    <a:pt x="146" y="359"/>
                  </a:lnTo>
                  <a:lnTo>
                    <a:pt x="103" y="380"/>
                  </a:lnTo>
                  <a:lnTo>
                    <a:pt x="54" y="392"/>
                  </a:lnTo>
                  <a:lnTo>
                    <a:pt x="0" y="401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026920" y="3729600"/>
              <a:ext cx="77400" cy="159840"/>
            </a:xfrm>
            <a:custGeom>
              <a:avLst/>
              <a:gdLst/>
              <a:ahLst/>
              <a:rect l="l" t="t" r="r" b="b"/>
              <a:pathLst>
                <a:path w="194" h="400">
                  <a:moveTo>
                    <a:pt x="0" y="0"/>
                  </a:moveTo>
                  <a:lnTo>
                    <a:pt x="2" y="55"/>
                  </a:lnTo>
                  <a:lnTo>
                    <a:pt x="10" y="113"/>
                  </a:lnTo>
                  <a:lnTo>
                    <a:pt x="24" y="171"/>
                  </a:lnTo>
                  <a:lnTo>
                    <a:pt x="43" y="224"/>
                  </a:lnTo>
                  <a:lnTo>
                    <a:pt x="68" y="276"/>
                  </a:lnTo>
                  <a:lnTo>
                    <a:pt x="103" y="323"/>
                  </a:lnTo>
                  <a:lnTo>
                    <a:pt x="144" y="365"/>
                  </a:lnTo>
                  <a:lnTo>
                    <a:pt x="194" y="40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069760" y="3212280"/>
              <a:ext cx="20160" cy="137880"/>
            </a:xfrm>
            <a:custGeom>
              <a:avLst/>
              <a:gdLst/>
              <a:ahLst/>
              <a:rect l="l" t="t" r="r" b="b"/>
              <a:pathLst>
                <a:path w="53" h="347">
                  <a:moveTo>
                    <a:pt x="0" y="0"/>
                  </a:moveTo>
                  <a:lnTo>
                    <a:pt x="18" y="79"/>
                  </a:lnTo>
                  <a:lnTo>
                    <a:pt x="31" y="170"/>
                  </a:lnTo>
                  <a:lnTo>
                    <a:pt x="45" y="261"/>
                  </a:lnTo>
                  <a:lnTo>
                    <a:pt x="53" y="347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7841160" y="3171240"/>
              <a:ext cx="74160" cy="90000"/>
            </a:xfrm>
            <a:custGeom>
              <a:avLst/>
              <a:gdLst/>
              <a:ahLst/>
              <a:rect l="l" t="t" r="r" b="b"/>
              <a:pathLst>
                <a:path w="185" h="229">
                  <a:moveTo>
                    <a:pt x="185" y="0"/>
                  </a:moveTo>
                  <a:lnTo>
                    <a:pt x="163" y="27"/>
                  </a:lnTo>
                  <a:lnTo>
                    <a:pt x="141" y="56"/>
                  </a:lnTo>
                  <a:lnTo>
                    <a:pt x="117" y="85"/>
                  </a:lnTo>
                  <a:lnTo>
                    <a:pt x="92" y="114"/>
                  </a:lnTo>
                  <a:lnTo>
                    <a:pt x="68" y="143"/>
                  </a:lnTo>
                  <a:lnTo>
                    <a:pt x="44" y="171"/>
                  </a:lnTo>
                  <a:lnTo>
                    <a:pt x="22" y="200"/>
                  </a:lnTo>
                  <a:lnTo>
                    <a:pt x="0" y="229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445160" y="2457000"/>
              <a:ext cx="1153800" cy="1005480"/>
            </a:xfrm>
            <a:custGeom>
              <a:avLst/>
              <a:gdLst/>
              <a:ahLst/>
              <a:rect l="l" t="t" r="r" b="b"/>
              <a:pathLst>
                <a:path w="2912" h="2536">
                  <a:moveTo>
                    <a:pt x="1619" y="1023"/>
                  </a:moveTo>
                  <a:lnTo>
                    <a:pt x="1603" y="1060"/>
                  </a:lnTo>
                  <a:lnTo>
                    <a:pt x="1590" y="1098"/>
                  </a:lnTo>
                  <a:lnTo>
                    <a:pt x="1574" y="1135"/>
                  </a:lnTo>
                  <a:lnTo>
                    <a:pt x="1555" y="1168"/>
                  </a:lnTo>
                  <a:lnTo>
                    <a:pt x="1520" y="1204"/>
                  </a:lnTo>
                  <a:lnTo>
                    <a:pt x="1479" y="1240"/>
                  </a:lnTo>
                  <a:lnTo>
                    <a:pt x="1438" y="1275"/>
                  </a:lnTo>
                  <a:lnTo>
                    <a:pt x="1396" y="1308"/>
                  </a:lnTo>
                  <a:lnTo>
                    <a:pt x="1351" y="1339"/>
                  </a:lnTo>
                  <a:lnTo>
                    <a:pt x="1307" y="1370"/>
                  </a:lnTo>
                  <a:lnTo>
                    <a:pt x="1268" y="1399"/>
                  </a:lnTo>
                  <a:lnTo>
                    <a:pt x="1227" y="1427"/>
                  </a:lnTo>
                  <a:lnTo>
                    <a:pt x="1197" y="1447"/>
                  </a:lnTo>
                  <a:lnTo>
                    <a:pt x="1168" y="1458"/>
                  </a:lnTo>
                  <a:lnTo>
                    <a:pt x="1142" y="1465"/>
                  </a:lnTo>
                  <a:lnTo>
                    <a:pt x="1120" y="1463"/>
                  </a:lnTo>
                  <a:lnTo>
                    <a:pt x="1097" y="1456"/>
                  </a:lnTo>
                  <a:lnTo>
                    <a:pt x="1075" y="1442"/>
                  </a:lnTo>
                  <a:lnTo>
                    <a:pt x="1052" y="1425"/>
                  </a:lnTo>
                  <a:lnTo>
                    <a:pt x="1027" y="1401"/>
                  </a:lnTo>
                  <a:lnTo>
                    <a:pt x="992" y="1414"/>
                  </a:lnTo>
                  <a:lnTo>
                    <a:pt x="963" y="1427"/>
                  </a:lnTo>
                  <a:lnTo>
                    <a:pt x="939" y="1440"/>
                  </a:lnTo>
                  <a:lnTo>
                    <a:pt x="916" y="1456"/>
                  </a:lnTo>
                  <a:lnTo>
                    <a:pt x="897" y="1471"/>
                  </a:lnTo>
                  <a:lnTo>
                    <a:pt x="881" y="1489"/>
                  </a:lnTo>
                  <a:lnTo>
                    <a:pt x="866" y="1504"/>
                  </a:lnTo>
                  <a:lnTo>
                    <a:pt x="850" y="1525"/>
                  </a:lnTo>
                  <a:lnTo>
                    <a:pt x="835" y="1542"/>
                  </a:lnTo>
                  <a:lnTo>
                    <a:pt x="819" y="1562"/>
                  </a:lnTo>
                  <a:lnTo>
                    <a:pt x="804" y="1584"/>
                  </a:lnTo>
                  <a:lnTo>
                    <a:pt x="784" y="1603"/>
                  </a:lnTo>
                  <a:lnTo>
                    <a:pt x="762" y="1628"/>
                  </a:lnTo>
                  <a:lnTo>
                    <a:pt x="736" y="1650"/>
                  </a:lnTo>
                  <a:lnTo>
                    <a:pt x="707" y="1675"/>
                  </a:lnTo>
                  <a:lnTo>
                    <a:pt x="672" y="1701"/>
                  </a:lnTo>
                  <a:lnTo>
                    <a:pt x="654" y="1661"/>
                  </a:lnTo>
                  <a:lnTo>
                    <a:pt x="643" y="1617"/>
                  </a:lnTo>
                  <a:lnTo>
                    <a:pt x="631" y="1573"/>
                  </a:lnTo>
                  <a:lnTo>
                    <a:pt x="617" y="1539"/>
                  </a:lnTo>
                  <a:lnTo>
                    <a:pt x="594" y="1575"/>
                  </a:lnTo>
                  <a:lnTo>
                    <a:pt x="574" y="1611"/>
                  </a:lnTo>
                  <a:lnTo>
                    <a:pt x="555" y="1644"/>
                  </a:lnTo>
                  <a:lnTo>
                    <a:pt x="534" y="1675"/>
                  </a:lnTo>
                  <a:lnTo>
                    <a:pt x="515" y="1706"/>
                  </a:lnTo>
                  <a:lnTo>
                    <a:pt x="493" y="1731"/>
                  </a:lnTo>
                  <a:lnTo>
                    <a:pt x="473" y="1760"/>
                  </a:lnTo>
                  <a:lnTo>
                    <a:pt x="451" y="1785"/>
                  </a:lnTo>
                  <a:lnTo>
                    <a:pt x="427" y="1809"/>
                  </a:lnTo>
                  <a:lnTo>
                    <a:pt x="402" y="1834"/>
                  </a:lnTo>
                  <a:lnTo>
                    <a:pt x="376" y="1855"/>
                  </a:lnTo>
                  <a:lnTo>
                    <a:pt x="345" y="1878"/>
                  </a:lnTo>
                  <a:lnTo>
                    <a:pt x="314" y="1898"/>
                  </a:lnTo>
                  <a:lnTo>
                    <a:pt x="279" y="1915"/>
                  </a:lnTo>
                  <a:lnTo>
                    <a:pt x="239" y="1933"/>
                  </a:lnTo>
                  <a:lnTo>
                    <a:pt x="196" y="1950"/>
                  </a:lnTo>
                  <a:lnTo>
                    <a:pt x="204" y="1888"/>
                  </a:lnTo>
                  <a:lnTo>
                    <a:pt x="208" y="1832"/>
                  </a:lnTo>
                  <a:lnTo>
                    <a:pt x="212" y="1774"/>
                  </a:lnTo>
                  <a:lnTo>
                    <a:pt x="219" y="1719"/>
                  </a:lnTo>
                  <a:lnTo>
                    <a:pt x="225" y="1663"/>
                  </a:lnTo>
                  <a:lnTo>
                    <a:pt x="237" y="1606"/>
                  </a:lnTo>
                  <a:lnTo>
                    <a:pt x="250" y="1549"/>
                  </a:lnTo>
                  <a:lnTo>
                    <a:pt x="268" y="1485"/>
                  </a:lnTo>
                  <a:lnTo>
                    <a:pt x="245" y="1482"/>
                  </a:lnTo>
                  <a:lnTo>
                    <a:pt x="219" y="1478"/>
                  </a:lnTo>
                  <a:lnTo>
                    <a:pt x="186" y="1475"/>
                  </a:lnTo>
                  <a:lnTo>
                    <a:pt x="153" y="1469"/>
                  </a:lnTo>
                  <a:lnTo>
                    <a:pt x="118" y="1461"/>
                  </a:lnTo>
                  <a:lnTo>
                    <a:pt x="87" y="1445"/>
                  </a:lnTo>
                  <a:lnTo>
                    <a:pt x="58" y="1425"/>
                  </a:lnTo>
                  <a:lnTo>
                    <a:pt x="33" y="1394"/>
                  </a:lnTo>
                  <a:lnTo>
                    <a:pt x="18" y="1339"/>
                  </a:lnTo>
                  <a:lnTo>
                    <a:pt x="7" y="1281"/>
                  </a:lnTo>
                  <a:lnTo>
                    <a:pt x="2" y="1224"/>
                  </a:lnTo>
                  <a:lnTo>
                    <a:pt x="0" y="1166"/>
                  </a:lnTo>
                  <a:lnTo>
                    <a:pt x="5" y="1112"/>
                  </a:lnTo>
                  <a:lnTo>
                    <a:pt x="18" y="1058"/>
                  </a:lnTo>
                  <a:lnTo>
                    <a:pt x="35" y="1009"/>
                  </a:lnTo>
                  <a:lnTo>
                    <a:pt x="62" y="968"/>
                  </a:lnTo>
                  <a:lnTo>
                    <a:pt x="76" y="959"/>
                  </a:lnTo>
                  <a:lnTo>
                    <a:pt x="93" y="951"/>
                  </a:lnTo>
                  <a:lnTo>
                    <a:pt x="113" y="941"/>
                  </a:lnTo>
                  <a:lnTo>
                    <a:pt x="122" y="930"/>
                  </a:lnTo>
                  <a:lnTo>
                    <a:pt x="146" y="879"/>
                  </a:lnTo>
                  <a:lnTo>
                    <a:pt x="163" y="825"/>
                  </a:lnTo>
                  <a:lnTo>
                    <a:pt x="179" y="767"/>
                  </a:lnTo>
                  <a:lnTo>
                    <a:pt x="192" y="709"/>
                  </a:lnTo>
                  <a:lnTo>
                    <a:pt x="206" y="650"/>
                  </a:lnTo>
                  <a:lnTo>
                    <a:pt x="223" y="592"/>
                  </a:lnTo>
                  <a:lnTo>
                    <a:pt x="245" y="537"/>
                  </a:lnTo>
                  <a:lnTo>
                    <a:pt x="274" y="484"/>
                  </a:lnTo>
                  <a:lnTo>
                    <a:pt x="301" y="449"/>
                  </a:lnTo>
                  <a:lnTo>
                    <a:pt x="330" y="416"/>
                  </a:lnTo>
                  <a:lnTo>
                    <a:pt x="363" y="385"/>
                  </a:lnTo>
                  <a:lnTo>
                    <a:pt x="398" y="356"/>
                  </a:lnTo>
                  <a:lnTo>
                    <a:pt x="435" y="330"/>
                  </a:lnTo>
                  <a:lnTo>
                    <a:pt x="475" y="305"/>
                  </a:lnTo>
                  <a:lnTo>
                    <a:pt x="517" y="283"/>
                  </a:lnTo>
                  <a:lnTo>
                    <a:pt x="561" y="266"/>
                  </a:lnTo>
                  <a:lnTo>
                    <a:pt x="605" y="248"/>
                  </a:lnTo>
                  <a:lnTo>
                    <a:pt x="650" y="235"/>
                  </a:lnTo>
                  <a:lnTo>
                    <a:pt x="693" y="225"/>
                  </a:lnTo>
                  <a:lnTo>
                    <a:pt x="740" y="219"/>
                  </a:lnTo>
                  <a:lnTo>
                    <a:pt x="784" y="214"/>
                  </a:lnTo>
                  <a:lnTo>
                    <a:pt x="829" y="214"/>
                  </a:lnTo>
                  <a:lnTo>
                    <a:pt x="870" y="219"/>
                  </a:lnTo>
                  <a:lnTo>
                    <a:pt x="912" y="225"/>
                  </a:lnTo>
                  <a:lnTo>
                    <a:pt x="916" y="214"/>
                  </a:lnTo>
                  <a:lnTo>
                    <a:pt x="924" y="200"/>
                  </a:lnTo>
                  <a:lnTo>
                    <a:pt x="930" y="181"/>
                  </a:lnTo>
                  <a:lnTo>
                    <a:pt x="941" y="161"/>
                  </a:lnTo>
                  <a:lnTo>
                    <a:pt x="952" y="142"/>
                  </a:lnTo>
                  <a:lnTo>
                    <a:pt x="963" y="126"/>
                  </a:lnTo>
                  <a:lnTo>
                    <a:pt x="974" y="113"/>
                  </a:lnTo>
                  <a:lnTo>
                    <a:pt x="985" y="105"/>
                  </a:lnTo>
                  <a:lnTo>
                    <a:pt x="994" y="105"/>
                  </a:lnTo>
                  <a:lnTo>
                    <a:pt x="1009" y="107"/>
                  </a:lnTo>
                  <a:lnTo>
                    <a:pt x="1029" y="109"/>
                  </a:lnTo>
                  <a:lnTo>
                    <a:pt x="1054" y="113"/>
                  </a:lnTo>
                  <a:lnTo>
                    <a:pt x="1082" y="117"/>
                  </a:lnTo>
                  <a:lnTo>
                    <a:pt x="1111" y="122"/>
                  </a:lnTo>
                  <a:lnTo>
                    <a:pt x="1142" y="128"/>
                  </a:lnTo>
                  <a:lnTo>
                    <a:pt x="1175" y="136"/>
                  </a:lnTo>
                  <a:lnTo>
                    <a:pt x="1206" y="142"/>
                  </a:lnTo>
                  <a:lnTo>
                    <a:pt x="1237" y="146"/>
                  </a:lnTo>
                  <a:lnTo>
                    <a:pt x="1266" y="153"/>
                  </a:lnTo>
                  <a:lnTo>
                    <a:pt x="1291" y="157"/>
                  </a:lnTo>
                  <a:lnTo>
                    <a:pt x="1314" y="159"/>
                  </a:lnTo>
                  <a:lnTo>
                    <a:pt x="1332" y="163"/>
                  </a:lnTo>
                  <a:lnTo>
                    <a:pt x="1345" y="163"/>
                  </a:lnTo>
                  <a:lnTo>
                    <a:pt x="1351" y="163"/>
                  </a:lnTo>
                  <a:lnTo>
                    <a:pt x="1353" y="138"/>
                  </a:lnTo>
                  <a:lnTo>
                    <a:pt x="1355" y="102"/>
                  </a:lnTo>
                  <a:lnTo>
                    <a:pt x="1355" y="56"/>
                  </a:lnTo>
                  <a:lnTo>
                    <a:pt x="1347" y="0"/>
                  </a:lnTo>
                  <a:lnTo>
                    <a:pt x="1376" y="6"/>
                  </a:lnTo>
                  <a:lnTo>
                    <a:pt x="1404" y="18"/>
                  </a:lnTo>
                  <a:lnTo>
                    <a:pt x="1435" y="29"/>
                  </a:lnTo>
                  <a:lnTo>
                    <a:pt x="1466" y="45"/>
                  </a:lnTo>
                  <a:lnTo>
                    <a:pt x="1497" y="60"/>
                  </a:lnTo>
                  <a:lnTo>
                    <a:pt x="1528" y="78"/>
                  </a:lnTo>
                  <a:lnTo>
                    <a:pt x="1559" y="97"/>
                  </a:lnTo>
                  <a:lnTo>
                    <a:pt x="1590" y="117"/>
                  </a:lnTo>
                  <a:lnTo>
                    <a:pt x="1619" y="140"/>
                  </a:lnTo>
                  <a:lnTo>
                    <a:pt x="1648" y="161"/>
                  </a:lnTo>
                  <a:lnTo>
                    <a:pt x="1674" y="186"/>
                  </a:lnTo>
                  <a:lnTo>
                    <a:pt x="1700" y="210"/>
                  </a:lnTo>
                  <a:lnTo>
                    <a:pt x="1722" y="235"/>
                  </a:lnTo>
                  <a:lnTo>
                    <a:pt x="1745" y="259"/>
                  </a:lnTo>
                  <a:lnTo>
                    <a:pt x="1764" y="283"/>
                  </a:lnTo>
                  <a:lnTo>
                    <a:pt x="1780" y="307"/>
                  </a:lnTo>
                  <a:lnTo>
                    <a:pt x="1813" y="297"/>
                  </a:lnTo>
                  <a:lnTo>
                    <a:pt x="1844" y="287"/>
                  </a:lnTo>
                  <a:lnTo>
                    <a:pt x="1877" y="279"/>
                  </a:lnTo>
                  <a:lnTo>
                    <a:pt x="1908" y="270"/>
                  </a:lnTo>
                  <a:lnTo>
                    <a:pt x="1939" y="264"/>
                  </a:lnTo>
                  <a:lnTo>
                    <a:pt x="1967" y="256"/>
                  </a:lnTo>
                  <a:lnTo>
                    <a:pt x="1998" y="252"/>
                  </a:lnTo>
                  <a:lnTo>
                    <a:pt x="2029" y="248"/>
                  </a:lnTo>
                  <a:lnTo>
                    <a:pt x="2060" y="245"/>
                  </a:lnTo>
                  <a:lnTo>
                    <a:pt x="2091" y="245"/>
                  </a:lnTo>
                  <a:lnTo>
                    <a:pt x="2124" y="245"/>
                  </a:lnTo>
                  <a:lnTo>
                    <a:pt x="2155" y="248"/>
                  </a:lnTo>
                  <a:lnTo>
                    <a:pt x="2188" y="252"/>
                  </a:lnTo>
                  <a:lnTo>
                    <a:pt x="2223" y="259"/>
                  </a:lnTo>
                  <a:lnTo>
                    <a:pt x="2259" y="266"/>
                  </a:lnTo>
                  <a:lnTo>
                    <a:pt x="2294" y="276"/>
                  </a:lnTo>
                  <a:lnTo>
                    <a:pt x="2289" y="285"/>
                  </a:lnTo>
                  <a:lnTo>
                    <a:pt x="2283" y="297"/>
                  </a:lnTo>
                  <a:lnTo>
                    <a:pt x="2272" y="305"/>
                  </a:lnTo>
                  <a:lnTo>
                    <a:pt x="2261" y="316"/>
                  </a:lnTo>
                  <a:lnTo>
                    <a:pt x="2248" y="328"/>
                  </a:lnTo>
                  <a:lnTo>
                    <a:pt x="2236" y="338"/>
                  </a:lnTo>
                  <a:lnTo>
                    <a:pt x="2225" y="349"/>
                  </a:lnTo>
                  <a:lnTo>
                    <a:pt x="2217" y="363"/>
                  </a:lnTo>
                  <a:lnTo>
                    <a:pt x="2239" y="367"/>
                  </a:lnTo>
                  <a:lnTo>
                    <a:pt x="2267" y="373"/>
                  </a:lnTo>
                  <a:lnTo>
                    <a:pt x="2300" y="380"/>
                  </a:lnTo>
                  <a:lnTo>
                    <a:pt x="2339" y="387"/>
                  </a:lnTo>
                  <a:lnTo>
                    <a:pt x="2376" y="396"/>
                  </a:lnTo>
                  <a:lnTo>
                    <a:pt x="2413" y="404"/>
                  </a:lnTo>
                  <a:lnTo>
                    <a:pt x="2444" y="416"/>
                  </a:lnTo>
                  <a:lnTo>
                    <a:pt x="2471" y="425"/>
                  </a:lnTo>
                  <a:lnTo>
                    <a:pt x="2519" y="449"/>
                  </a:lnTo>
                  <a:lnTo>
                    <a:pt x="2559" y="471"/>
                  </a:lnTo>
                  <a:lnTo>
                    <a:pt x="2590" y="493"/>
                  </a:lnTo>
                  <a:lnTo>
                    <a:pt x="2614" y="515"/>
                  </a:lnTo>
                  <a:lnTo>
                    <a:pt x="2632" y="544"/>
                  </a:lnTo>
                  <a:lnTo>
                    <a:pt x="2650" y="579"/>
                  </a:lnTo>
                  <a:lnTo>
                    <a:pt x="2667" y="625"/>
                  </a:lnTo>
                  <a:lnTo>
                    <a:pt x="2685" y="683"/>
                  </a:lnTo>
                  <a:lnTo>
                    <a:pt x="2698" y="703"/>
                  </a:lnTo>
                  <a:lnTo>
                    <a:pt x="2720" y="724"/>
                  </a:lnTo>
                  <a:lnTo>
                    <a:pt x="2753" y="751"/>
                  </a:lnTo>
                  <a:lnTo>
                    <a:pt x="2788" y="778"/>
                  </a:lnTo>
                  <a:lnTo>
                    <a:pt x="2824" y="809"/>
                  </a:lnTo>
                  <a:lnTo>
                    <a:pt x="2855" y="842"/>
                  </a:lnTo>
                  <a:lnTo>
                    <a:pt x="2877" y="877"/>
                  </a:lnTo>
                  <a:lnTo>
                    <a:pt x="2888" y="912"/>
                  </a:lnTo>
                  <a:lnTo>
                    <a:pt x="2888" y="947"/>
                  </a:lnTo>
                  <a:lnTo>
                    <a:pt x="2883" y="982"/>
                  </a:lnTo>
                  <a:lnTo>
                    <a:pt x="2877" y="1015"/>
                  </a:lnTo>
                  <a:lnTo>
                    <a:pt x="2865" y="1042"/>
                  </a:lnTo>
                  <a:lnTo>
                    <a:pt x="2855" y="1073"/>
                  </a:lnTo>
                  <a:lnTo>
                    <a:pt x="2842" y="1102"/>
                  </a:lnTo>
                  <a:lnTo>
                    <a:pt x="2830" y="1133"/>
                  </a:lnTo>
                  <a:lnTo>
                    <a:pt x="2822" y="1166"/>
                  </a:lnTo>
                  <a:lnTo>
                    <a:pt x="2834" y="1174"/>
                  </a:lnTo>
                  <a:lnTo>
                    <a:pt x="2850" y="1188"/>
                  </a:lnTo>
                  <a:lnTo>
                    <a:pt x="2861" y="1207"/>
                  </a:lnTo>
                  <a:lnTo>
                    <a:pt x="2868" y="1219"/>
                  </a:lnTo>
                  <a:lnTo>
                    <a:pt x="2896" y="1310"/>
                  </a:lnTo>
                  <a:lnTo>
                    <a:pt x="2912" y="1411"/>
                  </a:lnTo>
                  <a:lnTo>
                    <a:pt x="2912" y="1518"/>
                  </a:lnTo>
                  <a:lnTo>
                    <a:pt x="2904" y="1628"/>
                  </a:lnTo>
                  <a:lnTo>
                    <a:pt x="2885" y="1737"/>
                  </a:lnTo>
                  <a:lnTo>
                    <a:pt x="2857" y="1842"/>
                  </a:lnTo>
                  <a:lnTo>
                    <a:pt x="2824" y="1942"/>
                  </a:lnTo>
                  <a:lnTo>
                    <a:pt x="2784" y="2032"/>
                  </a:lnTo>
                  <a:lnTo>
                    <a:pt x="2770" y="2059"/>
                  </a:lnTo>
                  <a:lnTo>
                    <a:pt x="2762" y="2084"/>
                  </a:lnTo>
                  <a:lnTo>
                    <a:pt x="2751" y="2101"/>
                  </a:lnTo>
                  <a:lnTo>
                    <a:pt x="2745" y="2119"/>
                  </a:lnTo>
                  <a:lnTo>
                    <a:pt x="2733" y="2132"/>
                  </a:lnTo>
                  <a:lnTo>
                    <a:pt x="2724" y="2145"/>
                  </a:lnTo>
                  <a:lnTo>
                    <a:pt x="2712" y="2156"/>
                  </a:lnTo>
                  <a:lnTo>
                    <a:pt x="2696" y="2165"/>
                  </a:lnTo>
                  <a:lnTo>
                    <a:pt x="2685" y="2165"/>
                  </a:lnTo>
                  <a:lnTo>
                    <a:pt x="2671" y="2165"/>
                  </a:lnTo>
                  <a:lnTo>
                    <a:pt x="2658" y="2162"/>
                  </a:lnTo>
                  <a:lnTo>
                    <a:pt x="2645" y="2160"/>
                  </a:lnTo>
                  <a:lnTo>
                    <a:pt x="2632" y="2156"/>
                  </a:lnTo>
                  <a:lnTo>
                    <a:pt x="2619" y="2154"/>
                  </a:lnTo>
                  <a:lnTo>
                    <a:pt x="2607" y="2152"/>
                  </a:lnTo>
                  <a:lnTo>
                    <a:pt x="2597" y="2150"/>
                  </a:lnTo>
                  <a:lnTo>
                    <a:pt x="2561" y="2150"/>
                  </a:lnTo>
                  <a:lnTo>
                    <a:pt x="2528" y="2156"/>
                  </a:lnTo>
                  <a:lnTo>
                    <a:pt x="2497" y="2169"/>
                  </a:lnTo>
                  <a:lnTo>
                    <a:pt x="2469" y="2187"/>
                  </a:lnTo>
                  <a:lnTo>
                    <a:pt x="2442" y="2209"/>
                  </a:lnTo>
                  <a:lnTo>
                    <a:pt x="2417" y="2235"/>
                  </a:lnTo>
                  <a:lnTo>
                    <a:pt x="2393" y="2262"/>
                  </a:lnTo>
                  <a:lnTo>
                    <a:pt x="2372" y="2293"/>
                  </a:lnTo>
                  <a:lnTo>
                    <a:pt x="2351" y="2326"/>
                  </a:lnTo>
                  <a:lnTo>
                    <a:pt x="2331" y="2359"/>
                  </a:lnTo>
                  <a:lnTo>
                    <a:pt x="2312" y="2392"/>
                  </a:lnTo>
                  <a:lnTo>
                    <a:pt x="2292" y="2425"/>
                  </a:lnTo>
                  <a:lnTo>
                    <a:pt x="2272" y="2456"/>
                  </a:lnTo>
                  <a:lnTo>
                    <a:pt x="2252" y="2485"/>
                  </a:lnTo>
                  <a:lnTo>
                    <a:pt x="2232" y="2511"/>
                  </a:lnTo>
                  <a:lnTo>
                    <a:pt x="2211" y="2536"/>
                  </a:lnTo>
                  <a:lnTo>
                    <a:pt x="2201" y="2499"/>
                  </a:lnTo>
                  <a:lnTo>
                    <a:pt x="2192" y="2463"/>
                  </a:lnTo>
                  <a:lnTo>
                    <a:pt x="2186" y="2425"/>
                  </a:lnTo>
                  <a:lnTo>
                    <a:pt x="2184" y="2390"/>
                  </a:lnTo>
                  <a:lnTo>
                    <a:pt x="2192" y="2295"/>
                  </a:lnTo>
                  <a:lnTo>
                    <a:pt x="2197" y="2212"/>
                  </a:lnTo>
                  <a:lnTo>
                    <a:pt x="2197" y="2132"/>
                  </a:lnTo>
                  <a:lnTo>
                    <a:pt x="2192" y="2061"/>
                  </a:lnTo>
                  <a:lnTo>
                    <a:pt x="2180" y="1995"/>
                  </a:lnTo>
                  <a:lnTo>
                    <a:pt x="2157" y="1935"/>
                  </a:lnTo>
                  <a:lnTo>
                    <a:pt x="2128" y="1880"/>
                  </a:lnTo>
                  <a:lnTo>
                    <a:pt x="2087" y="1826"/>
                  </a:lnTo>
                  <a:lnTo>
                    <a:pt x="2060" y="1799"/>
                  </a:lnTo>
                  <a:lnTo>
                    <a:pt x="2034" y="1770"/>
                  </a:lnTo>
                  <a:lnTo>
                    <a:pt x="2007" y="1741"/>
                  </a:lnTo>
                  <a:lnTo>
                    <a:pt x="1982" y="1717"/>
                  </a:lnTo>
                  <a:lnTo>
                    <a:pt x="1957" y="1694"/>
                  </a:lnTo>
                  <a:lnTo>
                    <a:pt x="1928" y="1677"/>
                  </a:lnTo>
                  <a:lnTo>
                    <a:pt x="1899" y="1665"/>
                  </a:lnTo>
                  <a:lnTo>
                    <a:pt x="1868" y="1663"/>
                  </a:lnTo>
                  <a:lnTo>
                    <a:pt x="1844" y="1659"/>
                  </a:lnTo>
                  <a:lnTo>
                    <a:pt x="1817" y="1644"/>
                  </a:lnTo>
                  <a:lnTo>
                    <a:pt x="1795" y="1619"/>
                  </a:lnTo>
                  <a:lnTo>
                    <a:pt x="1776" y="1589"/>
                  </a:lnTo>
                  <a:lnTo>
                    <a:pt x="1762" y="1555"/>
                  </a:lnTo>
                  <a:lnTo>
                    <a:pt x="1753" y="1516"/>
                  </a:lnTo>
                  <a:lnTo>
                    <a:pt x="1753" y="1475"/>
                  </a:lnTo>
                  <a:lnTo>
                    <a:pt x="1762" y="1436"/>
                  </a:lnTo>
                  <a:lnTo>
                    <a:pt x="1747" y="1436"/>
                  </a:lnTo>
                  <a:lnTo>
                    <a:pt x="1735" y="1436"/>
                  </a:lnTo>
                  <a:lnTo>
                    <a:pt x="1722" y="1436"/>
                  </a:lnTo>
                  <a:lnTo>
                    <a:pt x="1712" y="1434"/>
                  </a:lnTo>
                  <a:lnTo>
                    <a:pt x="1698" y="1434"/>
                  </a:lnTo>
                  <a:lnTo>
                    <a:pt x="1683" y="1434"/>
                  </a:lnTo>
                  <a:lnTo>
                    <a:pt x="1663" y="1432"/>
                  </a:lnTo>
                  <a:lnTo>
                    <a:pt x="1640" y="1432"/>
                  </a:lnTo>
                  <a:lnTo>
                    <a:pt x="1623" y="1354"/>
                  </a:lnTo>
                  <a:lnTo>
                    <a:pt x="1607" y="1252"/>
                  </a:lnTo>
                  <a:lnTo>
                    <a:pt x="1603" y="1140"/>
                  </a:lnTo>
                  <a:lnTo>
                    <a:pt x="1619" y="1023"/>
                  </a:lnTo>
                  <a:close/>
                </a:path>
              </a:pathLst>
            </a:custGeom>
            <a:solidFill>
              <a:srgbClr val="f5b14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One-Time Passwor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1" name=""/>
          <p:cNvGrpSpPr/>
          <p:nvPr/>
        </p:nvGrpSpPr>
        <p:grpSpPr>
          <a:xfrm>
            <a:off x="3230640" y="1906560"/>
            <a:ext cx="1030320" cy="2630520"/>
            <a:chOff x="3230640" y="1906560"/>
            <a:chExt cx="1030320" cy="2630520"/>
          </a:xfrm>
        </p:grpSpPr>
        <p:sp>
          <p:nvSpPr>
            <p:cNvPr id="2402" name=""/>
            <p:cNvSpPr/>
            <p:nvPr/>
          </p:nvSpPr>
          <p:spPr>
            <a:xfrm>
              <a:off x="3230640" y="4210200"/>
              <a:ext cx="1030320" cy="326880"/>
            </a:xfrm>
            <a:custGeom>
              <a:avLst/>
              <a:gdLst/>
              <a:ahLst/>
              <a:rect l="l" t="t" r="r" b="b"/>
              <a:pathLst>
                <a:path w="1297" h="413">
                  <a:moveTo>
                    <a:pt x="0" y="413"/>
                  </a:moveTo>
                  <a:lnTo>
                    <a:pt x="49" y="95"/>
                  </a:lnTo>
                  <a:lnTo>
                    <a:pt x="154" y="0"/>
                  </a:lnTo>
                  <a:lnTo>
                    <a:pt x="1107" y="29"/>
                  </a:lnTo>
                  <a:lnTo>
                    <a:pt x="1222" y="85"/>
                  </a:lnTo>
                  <a:lnTo>
                    <a:pt x="1297" y="413"/>
                  </a:lnTo>
                  <a:lnTo>
                    <a:pt x="1154" y="335"/>
                  </a:lnTo>
                  <a:lnTo>
                    <a:pt x="134" y="335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3230640" y="4392720"/>
              <a:ext cx="1030320" cy="144360"/>
            </a:xfrm>
            <a:custGeom>
              <a:avLst/>
              <a:gdLst/>
              <a:ahLst/>
              <a:rect l="l" t="t" r="r" b="b"/>
              <a:pathLst>
                <a:path w="1297" h="183">
                  <a:moveTo>
                    <a:pt x="0" y="183"/>
                  </a:moveTo>
                  <a:lnTo>
                    <a:pt x="1297" y="183"/>
                  </a:lnTo>
                  <a:lnTo>
                    <a:pt x="1135" y="0"/>
                  </a:lnTo>
                  <a:lnTo>
                    <a:pt x="144" y="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3346560" y="1906560"/>
              <a:ext cx="160200" cy="2470320"/>
            </a:xfrm>
            <a:custGeom>
              <a:avLst/>
              <a:gdLst/>
              <a:ahLst/>
              <a:rect l="l" t="t" r="r" b="b"/>
              <a:pathLst>
                <a:path w="203" h="3112">
                  <a:moveTo>
                    <a:pt x="0" y="3102"/>
                  </a:moveTo>
                  <a:lnTo>
                    <a:pt x="20" y="3112"/>
                  </a:lnTo>
                  <a:lnTo>
                    <a:pt x="203" y="3112"/>
                  </a:lnTo>
                  <a:lnTo>
                    <a:pt x="203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0" y="310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4024440" y="1906560"/>
              <a:ext cx="100080" cy="2470320"/>
            </a:xfrm>
            <a:custGeom>
              <a:avLst/>
              <a:gdLst/>
              <a:ahLst/>
              <a:rect l="l" t="t" r="r" b="b"/>
              <a:pathLst>
                <a:path w="125" h="3112">
                  <a:moveTo>
                    <a:pt x="0" y="3112"/>
                  </a:moveTo>
                  <a:lnTo>
                    <a:pt x="107" y="3112"/>
                  </a:lnTo>
                  <a:lnTo>
                    <a:pt x="125" y="3093"/>
                  </a:lnTo>
                  <a:lnTo>
                    <a:pt x="125" y="30"/>
                  </a:lnTo>
                  <a:lnTo>
                    <a:pt x="107" y="0"/>
                  </a:lnTo>
                  <a:lnTo>
                    <a:pt x="0" y="0"/>
                  </a:lnTo>
                  <a:lnTo>
                    <a:pt x="0" y="311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362400" y="1906560"/>
              <a:ext cx="747720" cy="24703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384720" y="1906560"/>
              <a:ext cx="693720" cy="1498680"/>
            </a:xfrm>
            <a:custGeom>
              <a:avLst/>
              <a:gdLst/>
              <a:ahLst/>
              <a:rect l="l" t="t" r="r" b="b"/>
              <a:pathLst>
                <a:path w="875" h="1887">
                  <a:moveTo>
                    <a:pt x="0" y="0"/>
                  </a:moveTo>
                  <a:lnTo>
                    <a:pt x="0" y="1848"/>
                  </a:lnTo>
                  <a:lnTo>
                    <a:pt x="49" y="1887"/>
                  </a:lnTo>
                  <a:lnTo>
                    <a:pt x="155" y="1887"/>
                  </a:lnTo>
                  <a:lnTo>
                    <a:pt x="155" y="1782"/>
                  </a:lnTo>
                  <a:lnTo>
                    <a:pt x="183" y="1743"/>
                  </a:lnTo>
                  <a:lnTo>
                    <a:pt x="702" y="1743"/>
                  </a:lnTo>
                  <a:lnTo>
                    <a:pt x="740" y="1782"/>
                  </a:lnTo>
                  <a:lnTo>
                    <a:pt x="740" y="1887"/>
                  </a:lnTo>
                  <a:lnTo>
                    <a:pt x="847" y="1887"/>
                  </a:lnTo>
                  <a:lnTo>
                    <a:pt x="875" y="1858"/>
                  </a:lnTo>
                  <a:lnTo>
                    <a:pt x="87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3971880" y="3427560"/>
              <a:ext cx="1800" cy="9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506760" y="3427560"/>
              <a:ext cx="1800" cy="9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57516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60540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63528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19" h="1321">
                  <a:moveTo>
                    <a:pt x="0" y="1321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66732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369720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372924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3759120" y="3313080"/>
              <a:ext cx="1440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378792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3819600" y="3313080"/>
              <a:ext cx="14400" cy="1047960"/>
            </a:xfrm>
            <a:custGeom>
              <a:avLst/>
              <a:gdLst/>
              <a:ahLst/>
              <a:rect l="l" t="t" r="r" b="b"/>
              <a:pathLst>
                <a:path w="19" h="1321">
                  <a:moveTo>
                    <a:pt x="0" y="1321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384984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3879720" y="3313080"/>
              <a:ext cx="1620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V="1">
              <a:off x="3911760" y="3312720"/>
              <a:ext cx="1440" cy="104796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414600" y="3032280"/>
              <a:ext cx="625680" cy="182520"/>
            </a:xfrm>
            <a:custGeom>
              <a:avLst/>
              <a:gdLst/>
              <a:ahLst/>
              <a:rect l="l" t="t" r="r" b="b"/>
              <a:pathLst>
                <a:path w="787" h="230">
                  <a:moveTo>
                    <a:pt x="787" y="0"/>
                  </a:moveTo>
                  <a:lnTo>
                    <a:pt x="0" y="0"/>
                  </a:lnTo>
                  <a:lnTo>
                    <a:pt x="0" y="230"/>
                  </a:lnTo>
                  <a:lnTo>
                    <a:pt x="67" y="230"/>
                  </a:lnTo>
                  <a:lnTo>
                    <a:pt x="67" y="40"/>
                  </a:lnTo>
                  <a:lnTo>
                    <a:pt x="740" y="20"/>
                  </a:lnTo>
                  <a:lnTo>
                    <a:pt x="787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3414600" y="3198960"/>
              <a:ext cx="625680" cy="15840"/>
            </a:xfrm>
            <a:custGeom>
              <a:avLst/>
              <a:gdLst/>
              <a:ahLst/>
              <a:rect l="l" t="t" r="r" b="b"/>
              <a:pathLst>
                <a:path w="787" h="19">
                  <a:moveTo>
                    <a:pt x="740" y="0"/>
                  </a:moveTo>
                  <a:lnTo>
                    <a:pt x="67" y="0"/>
                  </a:lnTo>
                  <a:lnTo>
                    <a:pt x="0" y="19"/>
                  </a:lnTo>
                  <a:lnTo>
                    <a:pt x="787" y="19"/>
                  </a:lnTo>
                  <a:lnTo>
                    <a:pt x="740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460680" y="3054240"/>
              <a:ext cx="549360" cy="138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3865680" y="3068640"/>
              <a:ext cx="114120" cy="1000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3895920" y="3092400"/>
              <a:ext cx="61920" cy="60480"/>
            </a:xfrm>
            <a:custGeom>
              <a:avLst/>
              <a:gdLst/>
              <a:ahLst/>
              <a:rect l="l" t="t" r="r" b="b"/>
              <a:pathLst>
                <a:path w="77" h="75">
                  <a:moveTo>
                    <a:pt x="77" y="37"/>
                  </a:moveTo>
                  <a:lnTo>
                    <a:pt x="75" y="29"/>
                  </a:lnTo>
                  <a:lnTo>
                    <a:pt x="74" y="23"/>
                  </a:lnTo>
                  <a:lnTo>
                    <a:pt x="71" y="16"/>
                  </a:lnTo>
                  <a:lnTo>
                    <a:pt x="64" y="9"/>
                  </a:lnTo>
                  <a:lnTo>
                    <a:pt x="59" y="4"/>
                  </a:lnTo>
                  <a:lnTo>
                    <a:pt x="51" y="1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0" y="4"/>
                  </a:lnTo>
                  <a:lnTo>
                    <a:pt x="13" y="9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1" y="29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3" y="52"/>
                  </a:lnTo>
                  <a:lnTo>
                    <a:pt x="8" y="60"/>
                  </a:lnTo>
                  <a:lnTo>
                    <a:pt x="13" y="65"/>
                  </a:lnTo>
                  <a:lnTo>
                    <a:pt x="20" y="70"/>
                  </a:lnTo>
                  <a:lnTo>
                    <a:pt x="26" y="74"/>
                  </a:lnTo>
                  <a:lnTo>
                    <a:pt x="34" y="75"/>
                  </a:lnTo>
                  <a:lnTo>
                    <a:pt x="43" y="75"/>
                  </a:lnTo>
                  <a:lnTo>
                    <a:pt x="49" y="74"/>
                  </a:lnTo>
                  <a:lnTo>
                    <a:pt x="57" y="72"/>
                  </a:lnTo>
                  <a:lnTo>
                    <a:pt x="64" y="67"/>
                  </a:lnTo>
                  <a:lnTo>
                    <a:pt x="69" y="60"/>
                  </a:lnTo>
                  <a:lnTo>
                    <a:pt x="74" y="54"/>
                  </a:lnTo>
                  <a:lnTo>
                    <a:pt x="75" y="46"/>
                  </a:lnTo>
                  <a:lnTo>
                    <a:pt x="77" y="39"/>
                  </a:lnTo>
                  <a:lnTo>
                    <a:pt x="77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3713040" y="3106800"/>
              <a:ext cx="60480" cy="6192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39"/>
                  </a:moveTo>
                  <a:lnTo>
                    <a:pt x="75" y="31"/>
                  </a:lnTo>
                  <a:lnTo>
                    <a:pt x="74" y="23"/>
                  </a:lnTo>
                  <a:lnTo>
                    <a:pt x="70" y="16"/>
                  </a:lnTo>
                  <a:lnTo>
                    <a:pt x="64" y="9"/>
                  </a:lnTo>
                  <a:lnTo>
                    <a:pt x="59" y="5"/>
                  </a:lnTo>
                  <a:lnTo>
                    <a:pt x="51" y="1"/>
                  </a:lnTo>
                  <a:lnTo>
                    <a:pt x="42" y="1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19" y="5"/>
                  </a:lnTo>
                  <a:lnTo>
                    <a:pt x="13" y="9"/>
                  </a:lnTo>
                  <a:lnTo>
                    <a:pt x="8" y="16"/>
                  </a:lnTo>
                  <a:lnTo>
                    <a:pt x="4" y="23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3" y="54"/>
                  </a:lnTo>
                  <a:lnTo>
                    <a:pt x="6" y="60"/>
                  </a:lnTo>
                  <a:lnTo>
                    <a:pt x="13" y="67"/>
                  </a:lnTo>
                  <a:lnTo>
                    <a:pt x="19" y="72"/>
                  </a:lnTo>
                  <a:lnTo>
                    <a:pt x="26" y="75"/>
                  </a:lnTo>
                  <a:lnTo>
                    <a:pt x="34" y="77"/>
                  </a:lnTo>
                  <a:lnTo>
                    <a:pt x="42" y="77"/>
                  </a:lnTo>
                  <a:lnTo>
                    <a:pt x="49" y="75"/>
                  </a:lnTo>
                  <a:lnTo>
                    <a:pt x="57" y="72"/>
                  </a:lnTo>
                  <a:lnTo>
                    <a:pt x="64" y="67"/>
                  </a:lnTo>
                  <a:lnTo>
                    <a:pt x="69" y="62"/>
                  </a:lnTo>
                  <a:lnTo>
                    <a:pt x="74" y="56"/>
                  </a:lnTo>
                  <a:lnTo>
                    <a:pt x="75" y="47"/>
                  </a:lnTo>
                  <a:lnTo>
                    <a:pt x="77" y="39"/>
                  </a:lnTo>
                  <a:lnTo>
                    <a:pt x="77" y="3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3622680" y="3106800"/>
              <a:ext cx="60480" cy="6192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39"/>
                  </a:moveTo>
                  <a:lnTo>
                    <a:pt x="76" y="31"/>
                  </a:lnTo>
                  <a:lnTo>
                    <a:pt x="72" y="23"/>
                  </a:lnTo>
                  <a:lnTo>
                    <a:pt x="69" y="16"/>
                  </a:lnTo>
                  <a:lnTo>
                    <a:pt x="64" y="9"/>
                  </a:lnTo>
                  <a:lnTo>
                    <a:pt x="58" y="5"/>
                  </a:lnTo>
                  <a:lnTo>
                    <a:pt x="49" y="1"/>
                  </a:lnTo>
                  <a:lnTo>
                    <a:pt x="43" y="1"/>
                  </a:lnTo>
                  <a:lnTo>
                    <a:pt x="35" y="0"/>
                  </a:lnTo>
                  <a:lnTo>
                    <a:pt x="26" y="1"/>
                  </a:lnTo>
                  <a:lnTo>
                    <a:pt x="18" y="5"/>
                  </a:lnTo>
                  <a:lnTo>
                    <a:pt x="13" y="9"/>
                  </a:lnTo>
                  <a:lnTo>
                    <a:pt x="7" y="16"/>
                  </a:lnTo>
                  <a:lnTo>
                    <a:pt x="3" y="23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3" y="54"/>
                  </a:lnTo>
                  <a:lnTo>
                    <a:pt x="7" y="60"/>
                  </a:lnTo>
                  <a:lnTo>
                    <a:pt x="12" y="67"/>
                  </a:lnTo>
                  <a:lnTo>
                    <a:pt x="18" y="72"/>
                  </a:lnTo>
                  <a:lnTo>
                    <a:pt x="26" y="75"/>
                  </a:lnTo>
                  <a:lnTo>
                    <a:pt x="33" y="77"/>
                  </a:lnTo>
                  <a:lnTo>
                    <a:pt x="41" y="77"/>
                  </a:lnTo>
                  <a:lnTo>
                    <a:pt x="49" y="75"/>
                  </a:lnTo>
                  <a:lnTo>
                    <a:pt x="56" y="72"/>
                  </a:lnTo>
                  <a:lnTo>
                    <a:pt x="63" y="67"/>
                  </a:lnTo>
                  <a:lnTo>
                    <a:pt x="69" y="62"/>
                  </a:lnTo>
                  <a:lnTo>
                    <a:pt x="72" y="56"/>
                  </a:lnTo>
                  <a:lnTo>
                    <a:pt x="76" y="47"/>
                  </a:lnTo>
                  <a:lnTo>
                    <a:pt x="76" y="39"/>
                  </a:lnTo>
                  <a:lnTo>
                    <a:pt x="76" y="3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3468600" y="2855880"/>
              <a:ext cx="106560" cy="1080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468600" y="2855880"/>
              <a:ext cx="106560" cy="1080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0"/>
                  </a:moveTo>
                  <a:lnTo>
                    <a:pt x="0" y="0"/>
                  </a:lnTo>
                  <a:lnTo>
                    <a:pt x="0" y="1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406680" y="1944720"/>
              <a:ext cx="649440" cy="82224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V="1">
              <a:off x="3406680" y="1944720"/>
              <a:ext cx="1800" cy="82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flipH="1">
              <a:off x="3406680" y="2666880"/>
              <a:ext cx="649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H="1">
              <a:off x="3406680" y="2492280"/>
              <a:ext cx="649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406680" y="1974960"/>
              <a:ext cx="649440" cy="298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056120" y="1944720"/>
              <a:ext cx="1440" cy="82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H="1">
              <a:off x="3406680" y="1944720"/>
              <a:ext cx="649440" cy="144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3406680" y="2004840"/>
              <a:ext cx="649440" cy="3193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506760" y="2355840"/>
              <a:ext cx="442800" cy="1047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544920" y="2004840"/>
              <a:ext cx="351000" cy="84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3537000" y="2165400"/>
              <a:ext cx="244440" cy="128520"/>
            </a:xfrm>
            <a:custGeom>
              <a:avLst/>
              <a:gdLst/>
              <a:ahLst/>
              <a:rect l="l" t="t" r="r" b="b"/>
              <a:pathLst>
                <a:path w="308" h="162">
                  <a:moveTo>
                    <a:pt x="308" y="0"/>
                  </a:moveTo>
                  <a:lnTo>
                    <a:pt x="0" y="0"/>
                  </a:lnTo>
                  <a:lnTo>
                    <a:pt x="0" y="16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537000" y="2165400"/>
              <a:ext cx="244440" cy="128520"/>
            </a:xfrm>
            <a:custGeom>
              <a:avLst/>
              <a:gdLst/>
              <a:ahLst/>
              <a:rect l="l" t="t" r="r" b="b"/>
              <a:pathLst>
                <a:path w="308" h="162">
                  <a:moveTo>
                    <a:pt x="0" y="162"/>
                  </a:moveTo>
                  <a:lnTo>
                    <a:pt x="308" y="162"/>
                  </a:lnTo>
                  <a:lnTo>
                    <a:pt x="308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429000" y="2203560"/>
              <a:ext cx="581040" cy="36360"/>
            </a:xfrm>
            <a:custGeom>
              <a:avLst/>
              <a:gdLst/>
              <a:ahLst/>
              <a:rect l="l" t="t" r="r" b="b"/>
              <a:pathLst>
                <a:path w="732" h="48">
                  <a:moveTo>
                    <a:pt x="0" y="48"/>
                  </a:moveTo>
                  <a:lnTo>
                    <a:pt x="134" y="48"/>
                  </a:lnTo>
                  <a:lnTo>
                    <a:pt x="134" y="40"/>
                  </a:lnTo>
                  <a:lnTo>
                    <a:pt x="442" y="40"/>
                  </a:lnTo>
                  <a:lnTo>
                    <a:pt x="442" y="48"/>
                  </a:lnTo>
                  <a:lnTo>
                    <a:pt x="732" y="48"/>
                  </a:lnTo>
                  <a:lnTo>
                    <a:pt x="732" y="0"/>
                  </a:lnTo>
                  <a:lnTo>
                    <a:pt x="452" y="0"/>
                  </a:lnTo>
                  <a:lnTo>
                    <a:pt x="452" y="10"/>
                  </a:lnTo>
                  <a:lnTo>
                    <a:pt x="134" y="10"/>
                  </a:lnTo>
                  <a:lnTo>
                    <a:pt x="134" y="0"/>
                  </a:lnTo>
                  <a:lnTo>
                    <a:pt x="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681360" y="2173320"/>
              <a:ext cx="31680" cy="112680"/>
            </a:xfrm>
            <a:custGeom>
              <a:avLst/>
              <a:gdLst/>
              <a:ahLst/>
              <a:rect l="l" t="t" r="r" b="b"/>
              <a:pathLst>
                <a:path w="40" h="143">
                  <a:moveTo>
                    <a:pt x="0" y="143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40" y="10"/>
                  </a:lnTo>
                  <a:lnTo>
                    <a:pt x="20" y="10"/>
                  </a:lnTo>
                  <a:lnTo>
                    <a:pt x="1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3575160" y="2181240"/>
              <a:ext cx="98280" cy="15840"/>
            </a:xfrm>
            <a:custGeom>
              <a:avLst/>
              <a:gdLst/>
              <a:ahLst/>
              <a:rect l="l" t="t" r="r" b="b"/>
              <a:pathLst>
                <a:path w="123" h="20">
                  <a:moveTo>
                    <a:pt x="0" y="20"/>
                  </a:moveTo>
                  <a:lnTo>
                    <a:pt x="0" y="0"/>
                  </a:lnTo>
                  <a:lnTo>
                    <a:pt x="12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436920" y="2089080"/>
              <a:ext cx="46080" cy="381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406680" y="2149560"/>
              <a:ext cx="649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537000" y="2378160"/>
              <a:ext cx="374760" cy="60120"/>
            </a:xfrm>
            <a:custGeom>
              <a:avLst/>
              <a:gdLst/>
              <a:ahLst/>
              <a:rect l="l" t="t" r="r" b="b"/>
              <a:pathLst>
                <a:path w="473" h="77">
                  <a:moveTo>
                    <a:pt x="0" y="0"/>
                  </a:moveTo>
                  <a:lnTo>
                    <a:pt x="0" y="29"/>
                  </a:lnTo>
                  <a:lnTo>
                    <a:pt x="145" y="29"/>
                  </a:lnTo>
                  <a:lnTo>
                    <a:pt x="145" y="77"/>
                  </a:lnTo>
                  <a:lnTo>
                    <a:pt x="338" y="77"/>
                  </a:lnTo>
                  <a:lnTo>
                    <a:pt x="338" y="29"/>
                  </a:lnTo>
                  <a:lnTo>
                    <a:pt x="473" y="29"/>
                  </a:lnTo>
                  <a:lnTo>
                    <a:pt x="47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651120" y="2371680"/>
              <a:ext cx="1526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 flipH="1">
              <a:off x="3597480" y="2424240"/>
              <a:ext cx="15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857760" y="2416320"/>
              <a:ext cx="54000" cy="219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927600" y="2165400"/>
              <a:ext cx="14040" cy="223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4"/>
                  </a:moveTo>
                  <a:lnTo>
                    <a:pt x="18" y="8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5" y="26"/>
                  </a:lnTo>
                  <a:lnTo>
                    <a:pt x="9" y="27"/>
                  </a:lnTo>
                  <a:lnTo>
                    <a:pt x="13" y="27"/>
                  </a:lnTo>
                  <a:lnTo>
                    <a:pt x="15" y="24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3" name=""/>
          <p:cNvSpPr/>
          <p:nvPr/>
        </p:nvSpPr>
        <p:spPr>
          <a:xfrm>
            <a:off x="5304960" y="1980000"/>
            <a:ext cx="10630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5384880" y="2665800"/>
            <a:ext cx="82224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5578200" y="3351600"/>
            <a:ext cx="52812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4956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 flipH="1">
            <a:off x="4495320" y="31240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495680" y="38098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 flipH="1">
            <a:off x="4495320" y="448776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5540040" y="4013640"/>
            <a:ext cx="52812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3751920" y="3356280"/>
            <a:ext cx="1374120" cy="398880"/>
          </a:xfrm>
          <a:prstGeom prst="borderCallout1">
            <a:avLst>
              <a:gd name="adj1" fmla="val 18750"/>
              <a:gd name="adj2" fmla="val -8333"/>
              <a:gd name="adj3" fmla="val 51935"/>
              <a:gd name="adj4" fmla="val 125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4074120" y="4727880"/>
            <a:ext cx="1337400" cy="398880"/>
          </a:xfrm>
          <a:prstGeom prst="borderCallout1">
            <a:avLst>
              <a:gd name="adj1" fmla="val 18750"/>
              <a:gd name="adj2" fmla="val -8333"/>
              <a:gd name="adj3" fmla="val -89717"/>
              <a:gd name="adj4" fmla="val 12725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689040" y="304704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o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525240" y="37328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1534680" y="5409000"/>
            <a:ext cx="52812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219320" y="4267080"/>
            <a:ext cx="1371600" cy="6098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nl-BE" sz="20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mod 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1219320" y="3429000"/>
            <a:ext cx="533160" cy="8380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1752480" y="4876920"/>
            <a:ext cx="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9" name=""/>
          <p:cNvCxnSpPr>
            <a:stCxn id="2464" idx="2"/>
            <a:endCxn id="2466" idx="1"/>
          </p:cNvCxnSpPr>
          <p:nvPr/>
        </p:nvCxnSpPr>
        <p:spPr>
          <a:xfrm flipH="1" rot="16200000">
            <a:off x="770040" y="4122360"/>
            <a:ext cx="442080" cy="457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0" name=""/>
          <p:cNvSpPr/>
          <p:nvPr/>
        </p:nvSpPr>
        <p:spPr>
          <a:xfrm>
            <a:off x="380880" y="1219320"/>
            <a:ext cx="3657600" cy="1904760"/>
          </a:xfrm>
          <a:prstGeom prst="cloudCallout">
            <a:avLst>
              <a:gd name="adj1" fmla="val 40930"/>
              <a:gd name="adj2" fmla="val 80833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: 3</a:t>
            </a:r>
            <a:r>
              <a:rPr b="0" lang="nl-BE" sz="24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mod 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ary: 5</a:t>
            </a:r>
            <a:r>
              <a:rPr b="0" lang="nl-BE" sz="24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mod 1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1" name=""/>
          <p:cNvGrpSpPr/>
          <p:nvPr/>
        </p:nvGrpSpPr>
        <p:grpSpPr>
          <a:xfrm>
            <a:off x="7269120" y="4218120"/>
            <a:ext cx="1265040" cy="1801800"/>
            <a:chOff x="7269120" y="4218120"/>
            <a:chExt cx="1265040" cy="1801800"/>
          </a:xfrm>
        </p:grpSpPr>
        <p:pic>
          <p:nvPicPr>
            <p:cNvPr id="2472" name="" descr=""/>
            <p:cNvPicPr/>
            <p:nvPr/>
          </p:nvPicPr>
          <p:blipFill>
            <a:blip r:embed="rId1"/>
            <a:stretch/>
          </p:blipFill>
          <p:spPr>
            <a:xfrm>
              <a:off x="7269120" y="4218120"/>
              <a:ext cx="1265040" cy="18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3" name=""/>
            <p:cNvSpPr/>
            <p:nvPr/>
          </p:nvSpPr>
          <p:spPr>
            <a:xfrm>
              <a:off x="7385040" y="4370760"/>
              <a:ext cx="1008000" cy="3045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4" name=""/>
          <p:cNvSpPr/>
          <p:nvPr/>
        </p:nvSpPr>
        <p:spPr>
          <a:xfrm>
            <a:off x="7391520" y="4370400"/>
            <a:ext cx="10080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7391520" y="4370400"/>
            <a:ext cx="10080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6629400" y="990720"/>
            <a:ext cx="2133720" cy="1371600"/>
          </a:xfrm>
          <a:prstGeom prst="cloudCallout">
            <a:avLst>
              <a:gd name="adj1" fmla="val 19194"/>
              <a:gd name="adj2" fmla="val 81365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nl-BE" sz="24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mod 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1" dur="indefinite" restart="never" nodeType="tmRoot">
          <p:childTnLst>
            <p:seq>
              <p:cTn id="3452" dur="indefinite" nodeType="mainSeq">
                <p:childTnLst>
                  <p:par>
                    <p:cTn id="3453" fill="hold">
                      <p:stCondLst>
                        <p:cond delay="indefinite"/>
                      </p:stCondLst>
                      <p:childTnLst>
                        <p:par>
                          <p:cTn id="3454" fill="hold">
                            <p:stCondLst>
                              <p:cond delay="0"/>
                            </p:stCondLst>
                            <p:childTnLst>
                              <p:par>
                                <p:cTn id="34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7" dur="500"/>
                                        <p:tgtEl>
                                          <p:spTgt spid="2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fill="hold">
                            <p:stCondLst>
                              <p:cond delay="500"/>
                            </p:stCondLst>
                            <p:childTnLst>
                              <p:par>
                                <p:cTn id="34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1" dur="500"/>
                                        <p:tgtEl>
                                          <p:spTgt spid="2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2" fill="hold">
                      <p:stCondLst>
                        <p:cond delay="indefinite"/>
                      </p:stCondLst>
                      <p:childTnLst>
                        <p:par>
                          <p:cTn id="3463" fill="hold">
                            <p:stCondLst>
                              <p:cond delay="0"/>
                            </p:stCondLst>
                            <p:childTnLst>
                              <p:par>
                                <p:cTn id="3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6" dur="500"/>
                                        <p:tgtEl>
                                          <p:spTgt spid="2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7" fill="hold">
                            <p:stCondLst>
                              <p:cond delay="500"/>
                            </p:stCondLst>
                            <p:childTnLst>
                              <p:par>
                                <p:cTn id="3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0" dur="500"/>
                                        <p:tgtEl>
                                          <p:spTgt spid="2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1" fill="hold">
                      <p:stCondLst>
                        <p:cond delay="indefinite"/>
                      </p:stCondLst>
                      <p:childTnLst>
                        <p:par>
                          <p:cTn id="3472" fill="hold">
                            <p:stCondLst>
                              <p:cond delay="0"/>
                            </p:stCondLst>
                            <p:childTnLst>
                              <p:par>
                                <p:cTn id="3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5" dur="500"/>
                                        <p:tgtEl>
                                          <p:spTgt spid="2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79" dur="500"/>
                                        <p:tgtEl>
                                          <p:spTgt spid="2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0" fill="hold">
                      <p:stCondLst>
                        <p:cond delay="indefinite"/>
                      </p:stCondLst>
                      <p:childTnLst>
                        <p:par>
                          <p:cTn id="3481" fill="hold">
                            <p:stCondLst>
                              <p:cond delay="0"/>
                            </p:stCondLst>
                            <p:childTnLst>
                              <p:par>
                                <p:cTn id="34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4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5" fill="hold">
                            <p:stCondLst>
                              <p:cond delay="500"/>
                            </p:stCondLst>
                            <p:childTnLst>
                              <p:par>
                                <p:cTn id="348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88" dur="500"/>
                                        <p:tgtEl>
                                          <p:spTgt spid="2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fill="hold">
                      <p:stCondLst>
                        <p:cond delay="indefinite"/>
                      </p:stCondLst>
                      <p:childTnLst>
                        <p:par>
                          <p:cTn id="3490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3" dur="500"/>
                                        <p:tgtEl>
                                          <p:spTgt spid="2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4" fill="hold">
                            <p:stCondLst>
                              <p:cond delay="500"/>
                            </p:stCondLst>
                            <p:childTnLst>
                              <p:par>
                                <p:cTn id="34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97" dur="500"/>
                                        <p:tgtEl>
                                          <p:spTgt spid="2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01" dur="500"/>
                                        <p:tgtEl>
                                          <p:spTgt spid="2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fill="hold">
                      <p:stCondLst>
                        <p:cond delay="indefinite"/>
                      </p:stCondLst>
                      <p:childTnLst>
                        <p:par>
                          <p:cTn id="3503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6" dur="500" fill="hold"/>
                                        <p:tgtEl>
                                          <p:spTgt spid="2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7" dur="500" fill="hold"/>
                                        <p:tgtEl>
                                          <p:spTgt spid="2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8" fill="hold">
                      <p:stCondLst>
                        <p:cond delay="indefinite"/>
                      </p:stCondLst>
                      <p:childTnLst>
                        <p:par>
                          <p:cTn id="3509" fill="hold">
                            <p:stCondLst>
                              <p:cond delay="0"/>
                            </p:stCondLst>
                            <p:childTnLst>
                              <p:par>
                                <p:cTn id="35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12" dur="75"/>
                                        <p:tgtEl>
                                          <p:spTgt spid="2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3" fill="hold">
                      <p:stCondLst>
                        <p:cond delay="indefinite"/>
                      </p:stCondLst>
                      <p:childTnLst>
                        <p:par>
                          <p:cTn id="3514" fill="hold">
                            <p:stCondLst>
                              <p:cond delay="0"/>
                            </p:stCondLst>
                            <p:childTnLst>
                              <p:par>
                                <p:cTn id="35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17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8" fill="hold">
                      <p:stCondLst>
                        <p:cond delay="indefinite"/>
                      </p:stCondLst>
                      <p:childTnLst>
                        <p:par>
                          <p:cTn id="3519" fill="hold">
                            <p:stCondLst>
                              <p:cond delay="0"/>
                            </p:stCondLst>
                            <p:childTnLst>
                              <p:par>
                                <p:cTn id="35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2" dur="500"/>
                                        <p:tgtEl>
                                          <p:spTgt spid="2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3" fill="hold">
                            <p:stCondLst>
                              <p:cond delay="500"/>
                            </p:stCondLst>
                            <p:childTnLst>
                              <p:par>
                                <p:cTn id="35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26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7" fill="hold">
                      <p:stCondLst>
                        <p:cond delay="indefinite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1" dur="500"/>
                                        <p:tgtEl>
                                          <p:spTgt spid="2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fill="hold">
                      <p:stCondLst>
                        <p:cond delay="indefinite"/>
                      </p:stCondLst>
                      <p:childTnLst>
                        <p:par>
                          <p:cTn id="3533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6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7" fill="hold">
                            <p:stCondLst>
                              <p:cond delay="500"/>
                            </p:stCondLst>
                            <p:childTnLst>
                              <p:par>
                                <p:cTn id="3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0" dur="500"/>
                                        <p:tgtEl>
                                          <p:spTgt spid="2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4" dur="500"/>
                                        <p:tgtEl>
                                          <p:spTgt spid="2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5" fill="hold">
                      <p:stCondLst>
                        <p:cond delay="indefinite"/>
                      </p:stCondLst>
                      <p:childTnLst>
                        <p:par>
                          <p:cTn id="3546" fill="hold">
                            <p:stCondLst>
                              <p:cond delay="0"/>
                            </p:stCondLst>
                            <p:childTnLst>
                              <p:par>
                                <p:cTn id="3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9" dur="500"/>
                                        <p:tgtEl>
                                          <p:spTgt spid="2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3" dur="500"/>
                                        <p:tgtEl>
                                          <p:spTgt spid="2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7" dur="500"/>
                                        <p:tgtEl>
                                          <p:spTgt spid="2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1" dur="500"/>
                                        <p:tgtEl>
                                          <p:spTgt spid="2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oken Devi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78" name=""/>
          <p:cNvGrpSpPr/>
          <p:nvPr/>
        </p:nvGrpSpPr>
        <p:grpSpPr>
          <a:xfrm>
            <a:off x="3230640" y="1906560"/>
            <a:ext cx="1030320" cy="2630520"/>
            <a:chOff x="3230640" y="1906560"/>
            <a:chExt cx="1030320" cy="2630520"/>
          </a:xfrm>
        </p:grpSpPr>
        <p:sp>
          <p:nvSpPr>
            <p:cNvPr id="2479" name=""/>
            <p:cNvSpPr/>
            <p:nvPr/>
          </p:nvSpPr>
          <p:spPr>
            <a:xfrm>
              <a:off x="3230640" y="4210200"/>
              <a:ext cx="1030320" cy="326880"/>
            </a:xfrm>
            <a:custGeom>
              <a:avLst/>
              <a:gdLst/>
              <a:ahLst/>
              <a:rect l="l" t="t" r="r" b="b"/>
              <a:pathLst>
                <a:path w="1297" h="413">
                  <a:moveTo>
                    <a:pt x="0" y="413"/>
                  </a:moveTo>
                  <a:lnTo>
                    <a:pt x="49" y="95"/>
                  </a:lnTo>
                  <a:lnTo>
                    <a:pt x="154" y="0"/>
                  </a:lnTo>
                  <a:lnTo>
                    <a:pt x="1107" y="29"/>
                  </a:lnTo>
                  <a:lnTo>
                    <a:pt x="1222" y="85"/>
                  </a:lnTo>
                  <a:lnTo>
                    <a:pt x="1297" y="413"/>
                  </a:lnTo>
                  <a:lnTo>
                    <a:pt x="1154" y="335"/>
                  </a:lnTo>
                  <a:lnTo>
                    <a:pt x="134" y="335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230640" y="4392720"/>
              <a:ext cx="1030320" cy="144360"/>
            </a:xfrm>
            <a:custGeom>
              <a:avLst/>
              <a:gdLst/>
              <a:ahLst/>
              <a:rect l="l" t="t" r="r" b="b"/>
              <a:pathLst>
                <a:path w="1297" h="183">
                  <a:moveTo>
                    <a:pt x="0" y="183"/>
                  </a:moveTo>
                  <a:lnTo>
                    <a:pt x="1297" y="183"/>
                  </a:lnTo>
                  <a:lnTo>
                    <a:pt x="1135" y="0"/>
                  </a:lnTo>
                  <a:lnTo>
                    <a:pt x="144" y="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346560" y="1906560"/>
              <a:ext cx="160200" cy="2470320"/>
            </a:xfrm>
            <a:custGeom>
              <a:avLst/>
              <a:gdLst/>
              <a:ahLst/>
              <a:rect l="l" t="t" r="r" b="b"/>
              <a:pathLst>
                <a:path w="203" h="3112">
                  <a:moveTo>
                    <a:pt x="0" y="3102"/>
                  </a:moveTo>
                  <a:lnTo>
                    <a:pt x="20" y="3112"/>
                  </a:lnTo>
                  <a:lnTo>
                    <a:pt x="203" y="3112"/>
                  </a:lnTo>
                  <a:lnTo>
                    <a:pt x="203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0" y="310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4024440" y="1906560"/>
              <a:ext cx="100080" cy="2470320"/>
            </a:xfrm>
            <a:custGeom>
              <a:avLst/>
              <a:gdLst/>
              <a:ahLst/>
              <a:rect l="l" t="t" r="r" b="b"/>
              <a:pathLst>
                <a:path w="125" h="3112">
                  <a:moveTo>
                    <a:pt x="0" y="3112"/>
                  </a:moveTo>
                  <a:lnTo>
                    <a:pt x="107" y="3112"/>
                  </a:lnTo>
                  <a:lnTo>
                    <a:pt x="125" y="3093"/>
                  </a:lnTo>
                  <a:lnTo>
                    <a:pt x="125" y="30"/>
                  </a:lnTo>
                  <a:lnTo>
                    <a:pt x="107" y="0"/>
                  </a:lnTo>
                  <a:lnTo>
                    <a:pt x="0" y="0"/>
                  </a:lnTo>
                  <a:lnTo>
                    <a:pt x="0" y="311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3362400" y="1906560"/>
              <a:ext cx="747720" cy="24703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3384720" y="1906560"/>
              <a:ext cx="693720" cy="1498680"/>
            </a:xfrm>
            <a:custGeom>
              <a:avLst/>
              <a:gdLst/>
              <a:ahLst/>
              <a:rect l="l" t="t" r="r" b="b"/>
              <a:pathLst>
                <a:path w="875" h="1887">
                  <a:moveTo>
                    <a:pt x="0" y="0"/>
                  </a:moveTo>
                  <a:lnTo>
                    <a:pt x="0" y="1848"/>
                  </a:lnTo>
                  <a:lnTo>
                    <a:pt x="49" y="1887"/>
                  </a:lnTo>
                  <a:lnTo>
                    <a:pt x="155" y="1887"/>
                  </a:lnTo>
                  <a:lnTo>
                    <a:pt x="155" y="1782"/>
                  </a:lnTo>
                  <a:lnTo>
                    <a:pt x="183" y="1743"/>
                  </a:lnTo>
                  <a:lnTo>
                    <a:pt x="702" y="1743"/>
                  </a:lnTo>
                  <a:lnTo>
                    <a:pt x="740" y="1782"/>
                  </a:lnTo>
                  <a:lnTo>
                    <a:pt x="740" y="1887"/>
                  </a:lnTo>
                  <a:lnTo>
                    <a:pt x="847" y="1887"/>
                  </a:lnTo>
                  <a:lnTo>
                    <a:pt x="875" y="1858"/>
                  </a:lnTo>
                  <a:lnTo>
                    <a:pt x="87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3971880" y="3427560"/>
              <a:ext cx="1800" cy="9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506760" y="3427560"/>
              <a:ext cx="1800" cy="9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357516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360540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63528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19" h="1321">
                  <a:moveTo>
                    <a:pt x="0" y="1321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366732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369720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372924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759120" y="3313080"/>
              <a:ext cx="1440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378792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819600" y="3313080"/>
              <a:ext cx="14400" cy="1047960"/>
            </a:xfrm>
            <a:custGeom>
              <a:avLst/>
              <a:gdLst/>
              <a:ahLst/>
              <a:rect l="l" t="t" r="r" b="b"/>
              <a:pathLst>
                <a:path w="19" h="1321">
                  <a:moveTo>
                    <a:pt x="0" y="1321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384984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3879720" y="3313080"/>
              <a:ext cx="1620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flipV="1">
              <a:off x="3911760" y="3312720"/>
              <a:ext cx="1440" cy="104796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3414600" y="3032280"/>
              <a:ext cx="625680" cy="182520"/>
            </a:xfrm>
            <a:custGeom>
              <a:avLst/>
              <a:gdLst/>
              <a:ahLst/>
              <a:rect l="l" t="t" r="r" b="b"/>
              <a:pathLst>
                <a:path w="787" h="230">
                  <a:moveTo>
                    <a:pt x="787" y="0"/>
                  </a:moveTo>
                  <a:lnTo>
                    <a:pt x="0" y="0"/>
                  </a:lnTo>
                  <a:lnTo>
                    <a:pt x="0" y="230"/>
                  </a:lnTo>
                  <a:lnTo>
                    <a:pt x="67" y="230"/>
                  </a:lnTo>
                  <a:lnTo>
                    <a:pt x="67" y="40"/>
                  </a:lnTo>
                  <a:lnTo>
                    <a:pt x="740" y="20"/>
                  </a:lnTo>
                  <a:lnTo>
                    <a:pt x="787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3414600" y="3198960"/>
              <a:ext cx="625680" cy="15840"/>
            </a:xfrm>
            <a:custGeom>
              <a:avLst/>
              <a:gdLst/>
              <a:ahLst/>
              <a:rect l="l" t="t" r="r" b="b"/>
              <a:pathLst>
                <a:path w="787" h="19">
                  <a:moveTo>
                    <a:pt x="740" y="0"/>
                  </a:moveTo>
                  <a:lnTo>
                    <a:pt x="67" y="0"/>
                  </a:lnTo>
                  <a:lnTo>
                    <a:pt x="0" y="19"/>
                  </a:lnTo>
                  <a:lnTo>
                    <a:pt x="787" y="19"/>
                  </a:lnTo>
                  <a:lnTo>
                    <a:pt x="740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460680" y="3054240"/>
              <a:ext cx="549360" cy="138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3865680" y="3068640"/>
              <a:ext cx="114120" cy="1000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895920" y="3092400"/>
              <a:ext cx="61920" cy="60480"/>
            </a:xfrm>
            <a:custGeom>
              <a:avLst/>
              <a:gdLst/>
              <a:ahLst/>
              <a:rect l="l" t="t" r="r" b="b"/>
              <a:pathLst>
                <a:path w="77" h="75">
                  <a:moveTo>
                    <a:pt x="77" y="37"/>
                  </a:moveTo>
                  <a:lnTo>
                    <a:pt x="75" y="29"/>
                  </a:lnTo>
                  <a:lnTo>
                    <a:pt x="74" y="23"/>
                  </a:lnTo>
                  <a:lnTo>
                    <a:pt x="71" y="16"/>
                  </a:lnTo>
                  <a:lnTo>
                    <a:pt x="64" y="9"/>
                  </a:lnTo>
                  <a:lnTo>
                    <a:pt x="59" y="4"/>
                  </a:lnTo>
                  <a:lnTo>
                    <a:pt x="51" y="1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0" y="4"/>
                  </a:lnTo>
                  <a:lnTo>
                    <a:pt x="13" y="9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1" y="29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3" y="52"/>
                  </a:lnTo>
                  <a:lnTo>
                    <a:pt x="8" y="60"/>
                  </a:lnTo>
                  <a:lnTo>
                    <a:pt x="13" y="65"/>
                  </a:lnTo>
                  <a:lnTo>
                    <a:pt x="20" y="70"/>
                  </a:lnTo>
                  <a:lnTo>
                    <a:pt x="26" y="74"/>
                  </a:lnTo>
                  <a:lnTo>
                    <a:pt x="34" y="75"/>
                  </a:lnTo>
                  <a:lnTo>
                    <a:pt x="43" y="75"/>
                  </a:lnTo>
                  <a:lnTo>
                    <a:pt x="49" y="74"/>
                  </a:lnTo>
                  <a:lnTo>
                    <a:pt x="57" y="72"/>
                  </a:lnTo>
                  <a:lnTo>
                    <a:pt x="64" y="67"/>
                  </a:lnTo>
                  <a:lnTo>
                    <a:pt x="69" y="60"/>
                  </a:lnTo>
                  <a:lnTo>
                    <a:pt x="74" y="54"/>
                  </a:lnTo>
                  <a:lnTo>
                    <a:pt x="75" y="46"/>
                  </a:lnTo>
                  <a:lnTo>
                    <a:pt x="77" y="39"/>
                  </a:lnTo>
                  <a:lnTo>
                    <a:pt x="77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713040" y="3106800"/>
              <a:ext cx="60480" cy="6192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39"/>
                  </a:moveTo>
                  <a:lnTo>
                    <a:pt x="75" y="31"/>
                  </a:lnTo>
                  <a:lnTo>
                    <a:pt x="74" y="23"/>
                  </a:lnTo>
                  <a:lnTo>
                    <a:pt x="70" y="16"/>
                  </a:lnTo>
                  <a:lnTo>
                    <a:pt x="64" y="9"/>
                  </a:lnTo>
                  <a:lnTo>
                    <a:pt x="59" y="5"/>
                  </a:lnTo>
                  <a:lnTo>
                    <a:pt x="51" y="1"/>
                  </a:lnTo>
                  <a:lnTo>
                    <a:pt x="42" y="1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19" y="5"/>
                  </a:lnTo>
                  <a:lnTo>
                    <a:pt x="13" y="9"/>
                  </a:lnTo>
                  <a:lnTo>
                    <a:pt x="8" y="16"/>
                  </a:lnTo>
                  <a:lnTo>
                    <a:pt x="4" y="23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3" y="54"/>
                  </a:lnTo>
                  <a:lnTo>
                    <a:pt x="6" y="60"/>
                  </a:lnTo>
                  <a:lnTo>
                    <a:pt x="13" y="67"/>
                  </a:lnTo>
                  <a:lnTo>
                    <a:pt x="19" y="72"/>
                  </a:lnTo>
                  <a:lnTo>
                    <a:pt x="26" y="75"/>
                  </a:lnTo>
                  <a:lnTo>
                    <a:pt x="34" y="77"/>
                  </a:lnTo>
                  <a:lnTo>
                    <a:pt x="42" y="77"/>
                  </a:lnTo>
                  <a:lnTo>
                    <a:pt x="49" y="75"/>
                  </a:lnTo>
                  <a:lnTo>
                    <a:pt x="57" y="72"/>
                  </a:lnTo>
                  <a:lnTo>
                    <a:pt x="64" y="67"/>
                  </a:lnTo>
                  <a:lnTo>
                    <a:pt x="69" y="62"/>
                  </a:lnTo>
                  <a:lnTo>
                    <a:pt x="74" y="56"/>
                  </a:lnTo>
                  <a:lnTo>
                    <a:pt x="75" y="47"/>
                  </a:lnTo>
                  <a:lnTo>
                    <a:pt x="77" y="39"/>
                  </a:lnTo>
                  <a:lnTo>
                    <a:pt x="77" y="3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622680" y="3106800"/>
              <a:ext cx="60480" cy="6192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39"/>
                  </a:moveTo>
                  <a:lnTo>
                    <a:pt x="76" y="31"/>
                  </a:lnTo>
                  <a:lnTo>
                    <a:pt x="72" y="23"/>
                  </a:lnTo>
                  <a:lnTo>
                    <a:pt x="69" y="16"/>
                  </a:lnTo>
                  <a:lnTo>
                    <a:pt x="64" y="9"/>
                  </a:lnTo>
                  <a:lnTo>
                    <a:pt x="58" y="5"/>
                  </a:lnTo>
                  <a:lnTo>
                    <a:pt x="49" y="1"/>
                  </a:lnTo>
                  <a:lnTo>
                    <a:pt x="43" y="1"/>
                  </a:lnTo>
                  <a:lnTo>
                    <a:pt x="35" y="0"/>
                  </a:lnTo>
                  <a:lnTo>
                    <a:pt x="26" y="1"/>
                  </a:lnTo>
                  <a:lnTo>
                    <a:pt x="18" y="5"/>
                  </a:lnTo>
                  <a:lnTo>
                    <a:pt x="13" y="9"/>
                  </a:lnTo>
                  <a:lnTo>
                    <a:pt x="7" y="16"/>
                  </a:lnTo>
                  <a:lnTo>
                    <a:pt x="3" y="23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3" y="54"/>
                  </a:lnTo>
                  <a:lnTo>
                    <a:pt x="7" y="60"/>
                  </a:lnTo>
                  <a:lnTo>
                    <a:pt x="12" y="67"/>
                  </a:lnTo>
                  <a:lnTo>
                    <a:pt x="18" y="72"/>
                  </a:lnTo>
                  <a:lnTo>
                    <a:pt x="26" y="75"/>
                  </a:lnTo>
                  <a:lnTo>
                    <a:pt x="33" y="77"/>
                  </a:lnTo>
                  <a:lnTo>
                    <a:pt x="41" y="77"/>
                  </a:lnTo>
                  <a:lnTo>
                    <a:pt x="49" y="75"/>
                  </a:lnTo>
                  <a:lnTo>
                    <a:pt x="56" y="72"/>
                  </a:lnTo>
                  <a:lnTo>
                    <a:pt x="63" y="67"/>
                  </a:lnTo>
                  <a:lnTo>
                    <a:pt x="69" y="62"/>
                  </a:lnTo>
                  <a:lnTo>
                    <a:pt x="72" y="56"/>
                  </a:lnTo>
                  <a:lnTo>
                    <a:pt x="76" y="47"/>
                  </a:lnTo>
                  <a:lnTo>
                    <a:pt x="76" y="39"/>
                  </a:lnTo>
                  <a:lnTo>
                    <a:pt x="76" y="3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3468600" y="2855880"/>
              <a:ext cx="106560" cy="1080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468600" y="2855880"/>
              <a:ext cx="106560" cy="1080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0"/>
                  </a:moveTo>
                  <a:lnTo>
                    <a:pt x="0" y="0"/>
                  </a:lnTo>
                  <a:lnTo>
                    <a:pt x="0" y="1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406680" y="1944720"/>
              <a:ext cx="649440" cy="82224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V="1">
              <a:off x="3406680" y="1944720"/>
              <a:ext cx="1800" cy="82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H="1">
              <a:off x="3406680" y="2666880"/>
              <a:ext cx="649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H="1">
              <a:off x="3406680" y="2492280"/>
              <a:ext cx="649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406680" y="1974960"/>
              <a:ext cx="649440" cy="298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056120" y="1944720"/>
              <a:ext cx="1440" cy="82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 flipH="1">
              <a:off x="3406680" y="1944720"/>
              <a:ext cx="649440" cy="144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3406680" y="2004840"/>
              <a:ext cx="649440" cy="3193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3506760" y="2355840"/>
              <a:ext cx="442800" cy="1047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3544920" y="2004840"/>
              <a:ext cx="351000" cy="84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537000" y="2165400"/>
              <a:ext cx="244440" cy="128520"/>
            </a:xfrm>
            <a:custGeom>
              <a:avLst/>
              <a:gdLst/>
              <a:ahLst/>
              <a:rect l="l" t="t" r="r" b="b"/>
              <a:pathLst>
                <a:path w="308" h="162">
                  <a:moveTo>
                    <a:pt x="308" y="0"/>
                  </a:moveTo>
                  <a:lnTo>
                    <a:pt x="0" y="0"/>
                  </a:lnTo>
                  <a:lnTo>
                    <a:pt x="0" y="16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3537000" y="2165400"/>
              <a:ext cx="244440" cy="128520"/>
            </a:xfrm>
            <a:custGeom>
              <a:avLst/>
              <a:gdLst/>
              <a:ahLst/>
              <a:rect l="l" t="t" r="r" b="b"/>
              <a:pathLst>
                <a:path w="308" h="162">
                  <a:moveTo>
                    <a:pt x="0" y="162"/>
                  </a:moveTo>
                  <a:lnTo>
                    <a:pt x="308" y="162"/>
                  </a:lnTo>
                  <a:lnTo>
                    <a:pt x="308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3429000" y="2203560"/>
              <a:ext cx="581040" cy="36360"/>
            </a:xfrm>
            <a:custGeom>
              <a:avLst/>
              <a:gdLst/>
              <a:ahLst/>
              <a:rect l="l" t="t" r="r" b="b"/>
              <a:pathLst>
                <a:path w="732" h="48">
                  <a:moveTo>
                    <a:pt x="0" y="48"/>
                  </a:moveTo>
                  <a:lnTo>
                    <a:pt x="134" y="48"/>
                  </a:lnTo>
                  <a:lnTo>
                    <a:pt x="134" y="40"/>
                  </a:lnTo>
                  <a:lnTo>
                    <a:pt x="442" y="40"/>
                  </a:lnTo>
                  <a:lnTo>
                    <a:pt x="442" y="48"/>
                  </a:lnTo>
                  <a:lnTo>
                    <a:pt x="732" y="48"/>
                  </a:lnTo>
                  <a:lnTo>
                    <a:pt x="732" y="0"/>
                  </a:lnTo>
                  <a:lnTo>
                    <a:pt x="452" y="0"/>
                  </a:lnTo>
                  <a:lnTo>
                    <a:pt x="452" y="10"/>
                  </a:lnTo>
                  <a:lnTo>
                    <a:pt x="134" y="10"/>
                  </a:lnTo>
                  <a:lnTo>
                    <a:pt x="134" y="0"/>
                  </a:lnTo>
                  <a:lnTo>
                    <a:pt x="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681360" y="2173320"/>
              <a:ext cx="31680" cy="112680"/>
            </a:xfrm>
            <a:custGeom>
              <a:avLst/>
              <a:gdLst/>
              <a:ahLst/>
              <a:rect l="l" t="t" r="r" b="b"/>
              <a:pathLst>
                <a:path w="40" h="143">
                  <a:moveTo>
                    <a:pt x="0" y="143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40" y="10"/>
                  </a:lnTo>
                  <a:lnTo>
                    <a:pt x="20" y="10"/>
                  </a:lnTo>
                  <a:lnTo>
                    <a:pt x="1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3575160" y="2181240"/>
              <a:ext cx="98280" cy="15840"/>
            </a:xfrm>
            <a:custGeom>
              <a:avLst/>
              <a:gdLst/>
              <a:ahLst/>
              <a:rect l="l" t="t" r="r" b="b"/>
              <a:pathLst>
                <a:path w="123" h="20">
                  <a:moveTo>
                    <a:pt x="0" y="20"/>
                  </a:moveTo>
                  <a:lnTo>
                    <a:pt x="0" y="0"/>
                  </a:lnTo>
                  <a:lnTo>
                    <a:pt x="12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3436920" y="2089080"/>
              <a:ext cx="46080" cy="381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3406680" y="2149560"/>
              <a:ext cx="649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3537000" y="2378160"/>
              <a:ext cx="374760" cy="60120"/>
            </a:xfrm>
            <a:custGeom>
              <a:avLst/>
              <a:gdLst/>
              <a:ahLst/>
              <a:rect l="l" t="t" r="r" b="b"/>
              <a:pathLst>
                <a:path w="473" h="77">
                  <a:moveTo>
                    <a:pt x="0" y="0"/>
                  </a:moveTo>
                  <a:lnTo>
                    <a:pt x="0" y="29"/>
                  </a:lnTo>
                  <a:lnTo>
                    <a:pt x="145" y="29"/>
                  </a:lnTo>
                  <a:lnTo>
                    <a:pt x="145" y="77"/>
                  </a:lnTo>
                  <a:lnTo>
                    <a:pt x="338" y="77"/>
                  </a:lnTo>
                  <a:lnTo>
                    <a:pt x="338" y="29"/>
                  </a:lnTo>
                  <a:lnTo>
                    <a:pt x="473" y="29"/>
                  </a:lnTo>
                  <a:lnTo>
                    <a:pt x="47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3651120" y="2371680"/>
              <a:ext cx="1526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H="1">
              <a:off x="3597480" y="2424240"/>
              <a:ext cx="15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3857760" y="2416320"/>
              <a:ext cx="54000" cy="219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3927600" y="2165400"/>
              <a:ext cx="14040" cy="223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4"/>
                  </a:moveTo>
                  <a:lnTo>
                    <a:pt x="18" y="8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5" y="26"/>
                  </a:lnTo>
                  <a:lnTo>
                    <a:pt x="9" y="27"/>
                  </a:lnTo>
                  <a:lnTo>
                    <a:pt x="13" y="27"/>
                  </a:lnTo>
                  <a:lnTo>
                    <a:pt x="15" y="24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0" name=""/>
          <p:cNvSpPr/>
          <p:nvPr/>
        </p:nvSpPr>
        <p:spPr>
          <a:xfrm>
            <a:off x="5304960" y="1980000"/>
            <a:ext cx="10630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386320" y="2665800"/>
            <a:ext cx="82224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5339520" y="3351600"/>
            <a:ext cx="9990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4956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 flipH="1">
            <a:off x="4495320" y="31240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4495680" y="38098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 flipH="1">
            <a:off x="4495320" y="448776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5192280" y="4013640"/>
            <a:ext cx="12232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44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3232800" y="4575600"/>
            <a:ext cx="1337400" cy="398880"/>
          </a:xfrm>
          <a:prstGeom prst="borderCallout1">
            <a:avLst>
              <a:gd name="adj1" fmla="val 18750"/>
              <a:gd name="adj2" fmla="val -8333"/>
              <a:gd name="adj3" fmla="val -55453"/>
              <a:gd name="adj4" fmla="val 13511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9" name=""/>
          <p:cNvGrpSpPr/>
          <p:nvPr/>
        </p:nvGrpSpPr>
        <p:grpSpPr>
          <a:xfrm>
            <a:off x="6629400" y="4648320"/>
            <a:ext cx="2133720" cy="1295280"/>
            <a:chOff x="6629400" y="4648320"/>
            <a:chExt cx="2133720" cy="1295280"/>
          </a:xfrm>
        </p:grpSpPr>
        <p:sp>
          <p:nvSpPr>
            <p:cNvPr id="2540" name=""/>
            <p:cNvSpPr/>
            <p:nvPr/>
          </p:nvSpPr>
          <p:spPr>
            <a:xfrm>
              <a:off x="6629400" y="4648320"/>
              <a:ext cx="2133720" cy="1295280"/>
            </a:xfrm>
            <a:prstGeom prst="roundRect">
              <a:avLst>
                <a:gd name="adj" fmla="val 16667"/>
              </a:avLst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467480" y="4876920"/>
              <a:ext cx="1219320" cy="3808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98727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2" name=""/>
          <p:cNvSpPr/>
          <p:nvPr/>
        </p:nvSpPr>
        <p:spPr>
          <a:xfrm>
            <a:off x="758880" y="258984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o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700560" y="335196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231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337680" y="5261040"/>
            <a:ext cx="1223280" cy="459720"/>
          </a:xfrm>
          <a:prstGeom prst="rect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44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914400" y="4343400"/>
            <a:ext cx="1676520" cy="609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-Way fu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1089000" y="29034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7" name="" descr=""/>
          <p:cNvPicPr/>
          <p:nvPr/>
        </p:nvPicPr>
        <p:blipFill>
          <a:blip r:embed="rId1"/>
          <a:stretch/>
        </p:blipFill>
        <p:spPr>
          <a:xfrm>
            <a:off x="2133720" y="275112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2548" name=""/>
          <p:cNvSpPr/>
          <p:nvPr/>
        </p:nvSpPr>
        <p:spPr>
          <a:xfrm>
            <a:off x="1219320" y="3657600"/>
            <a:ext cx="4572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 flipH="1">
            <a:off x="1904760" y="3505320"/>
            <a:ext cx="53316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1752480" y="495288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7467480" y="4876920"/>
            <a:ext cx="12193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44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1143000" y="1066680"/>
            <a:ext cx="2819520" cy="1600200"/>
          </a:xfrm>
          <a:prstGeom prst="cloudCallout">
            <a:avLst>
              <a:gd name="adj1" fmla="val 37333"/>
              <a:gd name="adj2" fmla="val 48115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: 231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ary: 22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3" name=""/>
          <p:cNvGrpSpPr/>
          <p:nvPr/>
        </p:nvGrpSpPr>
        <p:grpSpPr>
          <a:xfrm>
            <a:off x="4572000" y="4724280"/>
            <a:ext cx="2514600" cy="990360"/>
            <a:chOff x="4572000" y="4724280"/>
            <a:chExt cx="2514600" cy="990360"/>
          </a:xfrm>
        </p:grpSpPr>
        <p:sp>
          <p:nvSpPr>
            <p:cNvPr id="2554" name=""/>
            <p:cNvSpPr/>
            <p:nvPr/>
          </p:nvSpPr>
          <p:spPr>
            <a:xfrm>
              <a:off x="4572000" y="4724280"/>
              <a:ext cx="2514600" cy="990360"/>
            </a:xfrm>
            <a:prstGeom prst="cloudCallout">
              <a:avLst>
                <a:gd name="adj1" fmla="val 55995"/>
                <a:gd name="adj2" fmla="val 25962"/>
              </a:avLst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31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55" name="" descr=""/>
            <p:cNvPicPr/>
            <p:nvPr/>
          </p:nvPicPr>
          <p:blipFill>
            <a:blip r:embed="rId2"/>
            <a:stretch/>
          </p:blipFill>
          <p:spPr>
            <a:xfrm>
              <a:off x="6019920" y="480024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6" name=""/>
          <p:cNvSpPr/>
          <p:nvPr/>
        </p:nvSpPr>
        <p:spPr>
          <a:xfrm>
            <a:off x="4808880" y="5593320"/>
            <a:ext cx="1374120" cy="703800"/>
          </a:xfrm>
          <a:prstGeom prst="borderCallout1">
            <a:avLst>
              <a:gd name="adj1" fmla="val 18750"/>
              <a:gd name="adj2" fmla="val -8333"/>
              <a:gd name="adj3" fmla="val -44884"/>
              <a:gd name="adj4" fmla="val 1095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Implici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1981080" y="5334120"/>
            <a:ext cx="1219320" cy="3808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9872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1066680" y="5791320"/>
            <a:ext cx="1219320" cy="380880"/>
          </a:xfrm>
          <a:prstGeom prst="rect">
            <a:avLst/>
          </a:prstGeom>
          <a:solidFill>
            <a:srgbClr val="eae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37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439040" y="4876920"/>
            <a:ext cx="12193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37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1905120" y="3488400"/>
            <a:ext cx="939600" cy="398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+ dr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1" name=""/>
          <p:cNvGrpSpPr/>
          <p:nvPr/>
        </p:nvGrpSpPr>
        <p:grpSpPr>
          <a:xfrm>
            <a:off x="7329240" y="2457000"/>
            <a:ext cx="1269720" cy="1711440"/>
            <a:chOff x="7329240" y="2457000"/>
            <a:chExt cx="1269720" cy="1711440"/>
          </a:xfrm>
        </p:grpSpPr>
        <p:sp>
          <p:nvSpPr>
            <p:cNvPr id="2562" name=""/>
            <p:cNvSpPr/>
            <p:nvPr/>
          </p:nvSpPr>
          <p:spPr>
            <a:xfrm>
              <a:off x="7329240" y="2457000"/>
              <a:ext cx="1269720" cy="171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329240" y="2739600"/>
              <a:ext cx="1209240" cy="1428840"/>
            </a:xfrm>
            <a:custGeom>
              <a:avLst/>
              <a:gdLst/>
              <a:ahLst/>
              <a:rect l="l" t="t" r="r" b="b"/>
              <a:pathLst>
                <a:path w="3053" h="3604">
                  <a:moveTo>
                    <a:pt x="825" y="39"/>
                  </a:moveTo>
                  <a:lnTo>
                    <a:pt x="894" y="28"/>
                  </a:lnTo>
                  <a:lnTo>
                    <a:pt x="961" y="20"/>
                  </a:lnTo>
                  <a:lnTo>
                    <a:pt x="1029" y="10"/>
                  </a:lnTo>
                  <a:lnTo>
                    <a:pt x="1097" y="6"/>
                  </a:lnTo>
                  <a:lnTo>
                    <a:pt x="1166" y="2"/>
                  </a:lnTo>
                  <a:lnTo>
                    <a:pt x="1234" y="0"/>
                  </a:lnTo>
                  <a:lnTo>
                    <a:pt x="1302" y="0"/>
                  </a:lnTo>
                  <a:lnTo>
                    <a:pt x="1371" y="0"/>
                  </a:lnTo>
                  <a:lnTo>
                    <a:pt x="1440" y="4"/>
                  </a:lnTo>
                  <a:lnTo>
                    <a:pt x="1508" y="8"/>
                  </a:lnTo>
                  <a:lnTo>
                    <a:pt x="1576" y="15"/>
                  </a:lnTo>
                  <a:lnTo>
                    <a:pt x="1644" y="24"/>
                  </a:lnTo>
                  <a:lnTo>
                    <a:pt x="1710" y="33"/>
                  </a:lnTo>
                  <a:lnTo>
                    <a:pt x="1780" y="45"/>
                  </a:lnTo>
                  <a:lnTo>
                    <a:pt x="1848" y="59"/>
                  </a:lnTo>
                  <a:lnTo>
                    <a:pt x="1916" y="74"/>
                  </a:lnTo>
                  <a:lnTo>
                    <a:pt x="1982" y="90"/>
                  </a:lnTo>
                  <a:lnTo>
                    <a:pt x="2048" y="107"/>
                  </a:lnTo>
                  <a:lnTo>
                    <a:pt x="2115" y="128"/>
                  </a:lnTo>
                  <a:lnTo>
                    <a:pt x="2181" y="150"/>
                  </a:lnTo>
                  <a:lnTo>
                    <a:pt x="2248" y="171"/>
                  </a:lnTo>
                  <a:lnTo>
                    <a:pt x="2314" y="196"/>
                  </a:lnTo>
                  <a:lnTo>
                    <a:pt x="2378" y="223"/>
                  </a:lnTo>
                  <a:lnTo>
                    <a:pt x="2442" y="249"/>
                  </a:lnTo>
                  <a:lnTo>
                    <a:pt x="2506" y="280"/>
                  </a:lnTo>
                  <a:lnTo>
                    <a:pt x="2568" y="309"/>
                  </a:lnTo>
                  <a:lnTo>
                    <a:pt x="2632" y="342"/>
                  </a:lnTo>
                  <a:lnTo>
                    <a:pt x="2693" y="375"/>
                  </a:lnTo>
                  <a:lnTo>
                    <a:pt x="2753" y="408"/>
                  </a:lnTo>
                  <a:lnTo>
                    <a:pt x="2815" y="446"/>
                  </a:lnTo>
                  <a:lnTo>
                    <a:pt x="2872" y="481"/>
                  </a:lnTo>
                  <a:lnTo>
                    <a:pt x="2931" y="521"/>
                  </a:lnTo>
                  <a:lnTo>
                    <a:pt x="2905" y="607"/>
                  </a:lnTo>
                  <a:lnTo>
                    <a:pt x="2867" y="687"/>
                  </a:lnTo>
                  <a:lnTo>
                    <a:pt x="2826" y="768"/>
                  </a:lnTo>
                  <a:lnTo>
                    <a:pt x="2784" y="856"/>
                  </a:lnTo>
                  <a:lnTo>
                    <a:pt x="2748" y="961"/>
                  </a:lnTo>
                  <a:lnTo>
                    <a:pt x="2727" y="1083"/>
                  </a:lnTo>
                  <a:lnTo>
                    <a:pt x="2720" y="1236"/>
                  </a:lnTo>
                  <a:lnTo>
                    <a:pt x="2735" y="1424"/>
                  </a:lnTo>
                  <a:lnTo>
                    <a:pt x="2786" y="1430"/>
                  </a:lnTo>
                  <a:lnTo>
                    <a:pt x="2836" y="1436"/>
                  </a:lnTo>
                  <a:lnTo>
                    <a:pt x="2885" y="1440"/>
                  </a:lnTo>
                  <a:lnTo>
                    <a:pt x="2931" y="1446"/>
                  </a:lnTo>
                  <a:lnTo>
                    <a:pt x="2972" y="1455"/>
                  </a:lnTo>
                  <a:lnTo>
                    <a:pt x="3005" y="1473"/>
                  </a:lnTo>
                  <a:lnTo>
                    <a:pt x="3028" y="1497"/>
                  </a:lnTo>
                  <a:lnTo>
                    <a:pt x="3042" y="1533"/>
                  </a:lnTo>
                  <a:lnTo>
                    <a:pt x="3053" y="1601"/>
                  </a:lnTo>
                  <a:lnTo>
                    <a:pt x="3051" y="1683"/>
                  </a:lnTo>
                  <a:lnTo>
                    <a:pt x="3038" y="1771"/>
                  </a:lnTo>
                  <a:lnTo>
                    <a:pt x="3015" y="1863"/>
                  </a:lnTo>
                  <a:lnTo>
                    <a:pt x="2987" y="1960"/>
                  </a:lnTo>
                  <a:lnTo>
                    <a:pt x="2954" y="2055"/>
                  </a:lnTo>
                  <a:lnTo>
                    <a:pt x="2918" y="2146"/>
                  </a:lnTo>
                  <a:lnTo>
                    <a:pt x="2883" y="2228"/>
                  </a:lnTo>
                  <a:lnTo>
                    <a:pt x="2867" y="2237"/>
                  </a:lnTo>
                  <a:lnTo>
                    <a:pt x="2850" y="2245"/>
                  </a:lnTo>
                  <a:lnTo>
                    <a:pt x="2828" y="2253"/>
                  </a:lnTo>
                  <a:lnTo>
                    <a:pt x="2803" y="2259"/>
                  </a:lnTo>
                  <a:lnTo>
                    <a:pt x="2779" y="2263"/>
                  </a:lnTo>
                  <a:lnTo>
                    <a:pt x="2751" y="2268"/>
                  </a:lnTo>
                  <a:lnTo>
                    <a:pt x="2722" y="2272"/>
                  </a:lnTo>
                  <a:lnTo>
                    <a:pt x="2691" y="2274"/>
                  </a:lnTo>
                  <a:lnTo>
                    <a:pt x="2663" y="2276"/>
                  </a:lnTo>
                  <a:lnTo>
                    <a:pt x="2632" y="2278"/>
                  </a:lnTo>
                  <a:lnTo>
                    <a:pt x="2603" y="2278"/>
                  </a:lnTo>
                  <a:lnTo>
                    <a:pt x="2576" y="2278"/>
                  </a:lnTo>
                  <a:lnTo>
                    <a:pt x="2550" y="2276"/>
                  </a:lnTo>
                  <a:lnTo>
                    <a:pt x="2525" y="2276"/>
                  </a:lnTo>
                  <a:lnTo>
                    <a:pt x="2504" y="2274"/>
                  </a:lnTo>
                  <a:lnTo>
                    <a:pt x="2486" y="2272"/>
                  </a:lnTo>
                  <a:lnTo>
                    <a:pt x="2469" y="2398"/>
                  </a:lnTo>
                  <a:lnTo>
                    <a:pt x="2455" y="2517"/>
                  </a:lnTo>
                  <a:lnTo>
                    <a:pt x="2440" y="2630"/>
                  </a:lnTo>
                  <a:lnTo>
                    <a:pt x="2426" y="2738"/>
                  </a:lnTo>
                  <a:lnTo>
                    <a:pt x="2411" y="2842"/>
                  </a:lnTo>
                  <a:lnTo>
                    <a:pt x="2397" y="2940"/>
                  </a:lnTo>
                  <a:lnTo>
                    <a:pt x="2382" y="3035"/>
                  </a:lnTo>
                  <a:lnTo>
                    <a:pt x="2364" y="3126"/>
                  </a:lnTo>
                  <a:lnTo>
                    <a:pt x="2347" y="3209"/>
                  </a:lnTo>
                  <a:lnTo>
                    <a:pt x="2327" y="3283"/>
                  </a:lnTo>
                  <a:lnTo>
                    <a:pt x="2304" y="3348"/>
                  </a:lnTo>
                  <a:lnTo>
                    <a:pt x="2283" y="3405"/>
                  </a:lnTo>
                  <a:lnTo>
                    <a:pt x="2261" y="3452"/>
                  </a:lnTo>
                  <a:lnTo>
                    <a:pt x="2236" y="3489"/>
                  </a:lnTo>
                  <a:lnTo>
                    <a:pt x="2217" y="3516"/>
                  </a:lnTo>
                  <a:lnTo>
                    <a:pt x="2199" y="3531"/>
                  </a:lnTo>
                  <a:lnTo>
                    <a:pt x="2178" y="3547"/>
                  </a:lnTo>
                  <a:lnTo>
                    <a:pt x="2152" y="3562"/>
                  </a:lnTo>
                  <a:lnTo>
                    <a:pt x="2119" y="3573"/>
                  </a:lnTo>
                  <a:lnTo>
                    <a:pt x="2081" y="3584"/>
                  </a:lnTo>
                  <a:lnTo>
                    <a:pt x="2040" y="3590"/>
                  </a:lnTo>
                  <a:lnTo>
                    <a:pt x="1993" y="3597"/>
                  </a:lnTo>
                  <a:lnTo>
                    <a:pt x="1941" y="3602"/>
                  </a:lnTo>
                  <a:lnTo>
                    <a:pt x="1883" y="3604"/>
                  </a:lnTo>
                  <a:lnTo>
                    <a:pt x="1823" y="3604"/>
                  </a:lnTo>
                  <a:lnTo>
                    <a:pt x="1759" y="3602"/>
                  </a:lnTo>
                  <a:lnTo>
                    <a:pt x="1693" y="3597"/>
                  </a:lnTo>
                  <a:lnTo>
                    <a:pt x="1623" y="3593"/>
                  </a:lnTo>
                  <a:lnTo>
                    <a:pt x="1552" y="3584"/>
                  </a:lnTo>
                  <a:lnTo>
                    <a:pt x="1477" y="3576"/>
                  </a:lnTo>
                  <a:lnTo>
                    <a:pt x="1400" y="3566"/>
                  </a:lnTo>
                  <a:lnTo>
                    <a:pt x="1320" y="3553"/>
                  </a:lnTo>
                  <a:lnTo>
                    <a:pt x="1240" y="3540"/>
                  </a:lnTo>
                  <a:lnTo>
                    <a:pt x="1161" y="3524"/>
                  </a:lnTo>
                  <a:lnTo>
                    <a:pt x="1079" y="3509"/>
                  </a:lnTo>
                  <a:lnTo>
                    <a:pt x="998" y="3491"/>
                  </a:lnTo>
                  <a:lnTo>
                    <a:pt x="916" y="3471"/>
                  </a:lnTo>
                  <a:lnTo>
                    <a:pt x="835" y="3452"/>
                  </a:lnTo>
                  <a:lnTo>
                    <a:pt x="753" y="3429"/>
                  </a:lnTo>
                  <a:lnTo>
                    <a:pt x="673" y="3407"/>
                  </a:lnTo>
                  <a:lnTo>
                    <a:pt x="594" y="3384"/>
                  </a:lnTo>
                  <a:lnTo>
                    <a:pt x="516" y="3357"/>
                  </a:lnTo>
                  <a:lnTo>
                    <a:pt x="442" y="3332"/>
                  </a:lnTo>
                  <a:lnTo>
                    <a:pt x="369" y="3303"/>
                  </a:lnTo>
                  <a:lnTo>
                    <a:pt x="298" y="3277"/>
                  </a:lnTo>
                  <a:lnTo>
                    <a:pt x="229" y="3246"/>
                  </a:lnTo>
                  <a:lnTo>
                    <a:pt x="165" y="3217"/>
                  </a:lnTo>
                  <a:lnTo>
                    <a:pt x="104" y="3186"/>
                  </a:lnTo>
                  <a:lnTo>
                    <a:pt x="64" y="3167"/>
                  </a:lnTo>
                  <a:lnTo>
                    <a:pt x="35" y="3136"/>
                  </a:lnTo>
                  <a:lnTo>
                    <a:pt x="17" y="3091"/>
                  </a:lnTo>
                  <a:lnTo>
                    <a:pt x="9" y="3037"/>
                  </a:lnTo>
                  <a:lnTo>
                    <a:pt x="9" y="2967"/>
                  </a:lnTo>
                  <a:lnTo>
                    <a:pt x="15" y="2891"/>
                  </a:lnTo>
                  <a:lnTo>
                    <a:pt x="31" y="2804"/>
                  </a:lnTo>
                  <a:lnTo>
                    <a:pt x="51" y="2709"/>
                  </a:lnTo>
                  <a:lnTo>
                    <a:pt x="77" y="2606"/>
                  </a:lnTo>
                  <a:lnTo>
                    <a:pt x="110" y="2495"/>
                  </a:lnTo>
                  <a:lnTo>
                    <a:pt x="146" y="2379"/>
                  </a:lnTo>
                  <a:lnTo>
                    <a:pt x="186" y="2255"/>
                  </a:lnTo>
                  <a:lnTo>
                    <a:pt x="227" y="2127"/>
                  </a:lnTo>
                  <a:lnTo>
                    <a:pt x="272" y="1993"/>
                  </a:lnTo>
                  <a:lnTo>
                    <a:pt x="316" y="1859"/>
                  </a:lnTo>
                  <a:lnTo>
                    <a:pt x="362" y="1720"/>
                  </a:lnTo>
                  <a:lnTo>
                    <a:pt x="338" y="1709"/>
                  </a:lnTo>
                  <a:lnTo>
                    <a:pt x="314" y="1698"/>
                  </a:lnTo>
                  <a:lnTo>
                    <a:pt x="287" y="1689"/>
                  </a:lnTo>
                  <a:lnTo>
                    <a:pt x="260" y="1680"/>
                  </a:lnTo>
                  <a:lnTo>
                    <a:pt x="234" y="1671"/>
                  </a:lnTo>
                  <a:lnTo>
                    <a:pt x="205" y="1665"/>
                  </a:lnTo>
                  <a:lnTo>
                    <a:pt x="179" y="1656"/>
                  </a:lnTo>
                  <a:lnTo>
                    <a:pt x="155" y="1649"/>
                  </a:lnTo>
                  <a:lnTo>
                    <a:pt x="128" y="1640"/>
                  </a:lnTo>
                  <a:lnTo>
                    <a:pt x="106" y="1630"/>
                  </a:lnTo>
                  <a:lnTo>
                    <a:pt x="84" y="1621"/>
                  </a:lnTo>
                  <a:lnTo>
                    <a:pt x="62" y="1609"/>
                  </a:lnTo>
                  <a:lnTo>
                    <a:pt x="44" y="1597"/>
                  </a:lnTo>
                  <a:lnTo>
                    <a:pt x="27" y="1581"/>
                  </a:lnTo>
                  <a:lnTo>
                    <a:pt x="13" y="1564"/>
                  </a:lnTo>
                  <a:lnTo>
                    <a:pt x="2" y="1545"/>
                  </a:lnTo>
                  <a:lnTo>
                    <a:pt x="0" y="1461"/>
                  </a:lnTo>
                  <a:lnTo>
                    <a:pt x="15" y="1351"/>
                  </a:lnTo>
                  <a:lnTo>
                    <a:pt x="42" y="1225"/>
                  </a:lnTo>
                  <a:lnTo>
                    <a:pt x="77" y="1093"/>
                  </a:lnTo>
                  <a:lnTo>
                    <a:pt x="115" y="965"/>
                  </a:lnTo>
                  <a:lnTo>
                    <a:pt x="155" y="850"/>
                  </a:lnTo>
                  <a:lnTo>
                    <a:pt x="192" y="761"/>
                  </a:lnTo>
                  <a:lnTo>
                    <a:pt x="223" y="704"/>
                  </a:lnTo>
                  <a:lnTo>
                    <a:pt x="243" y="697"/>
                  </a:lnTo>
                  <a:lnTo>
                    <a:pt x="262" y="691"/>
                  </a:lnTo>
                  <a:lnTo>
                    <a:pt x="283" y="689"/>
                  </a:lnTo>
                  <a:lnTo>
                    <a:pt x="305" y="687"/>
                  </a:lnTo>
                  <a:lnTo>
                    <a:pt x="326" y="689"/>
                  </a:lnTo>
                  <a:lnTo>
                    <a:pt x="351" y="691"/>
                  </a:lnTo>
                  <a:lnTo>
                    <a:pt x="375" y="693"/>
                  </a:lnTo>
                  <a:lnTo>
                    <a:pt x="400" y="699"/>
                  </a:lnTo>
                  <a:lnTo>
                    <a:pt x="423" y="704"/>
                  </a:lnTo>
                  <a:lnTo>
                    <a:pt x="450" y="713"/>
                  </a:lnTo>
                  <a:lnTo>
                    <a:pt x="477" y="720"/>
                  </a:lnTo>
                  <a:lnTo>
                    <a:pt x="503" y="728"/>
                  </a:lnTo>
                  <a:lnTo>
                    <a:pt x="530" y="739"/>
                  </a:lnTo>
                  <a:lnTo>
                    <a:pt x="559" y="749"/>
                  </a:lnTo>
                  <a:lnTo>
                    <a:pt x="588" y="757"/>
                  </a:lnTo>
                  <a:lnTo>
                    <a:pt x="616" y="768"/>
                  </a:lnTo>
                  <a:lnTo>
                    <a:pt x="647" y="671"/>
                  </a:lnTo>
                  <a:lnTo>
                    <a:pt x="678" y="574"/>
                  </a:lnTo>
                  <a:lnTo>
                    <a:pt x="706" y="479"/>
                  </a:lnTo>
                  <a:lnTo>
                    <a:pt x="735" y="384"/>
                  </a:lnTo>
                  <a:lnTo>
                    <a:pt x="759" y="293"/>
                  </a:lnTo>
                  <a:lnTo>
                    <a:pt x="784" y="204"/>
                  </a:lnTo>
                  <a:lnTo>
                    <a:pt x="806" y="121"/>
                  </a:lnTo>
                  <a:lnTo>
                    <a:pt x="825" y="39"/>
                  </a:lnTo>
                  <a:close/>
                </a:path>
              </a:pathLst>
            </a:custGeom>
            <a:solidFill>
              <a:srgbClr val="ffe9b3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784280" y="3383640"/>
              <a:ext cx="241200" cy="156600"/>
            </a:xfrm>
            <a:custGeom>
              <a:avLst/>
              <a:gdLst/>
              <a:ahLst/>
              <a:rect l="l" t="t" r="r" b="b"/>
              <a:pathLst>
                <a:path w="608" h="399">
                  <a:moveTo>
                    <a:pt x="604" y="399"/>
                  </a:moveTo>
                  <a:lnTo>
                    <a:pt x="608" y="358"/>
                  </a:lnTo>
                  <a:lnTo>
                    <a:pt x="608" y="314"/>
                  </a:lnTo>
                  <a:lnTo>
                    <a:pt x="602" y="267"/>
                  </a:lnTo>
                  <a:lnTo>
                    <a:pt x="592" y="221"/>
                  </a:lnTo>
                  <a:lnTo>
                    <a:pt x="579" y="178"/>
                  </a:lnTo>
                  <a:lnTo>
                    <a:pt x="563" y="139"/>
                  </a:lnTo>
                  <a:lnTo>
                    <a:pt x="546" y="110"/>
                  </a:lnTo>
                  <a:lnTo>
                    <a:pt x="526" y="88"/>
                  </a:lnTo>
                  <a:lnTo>
                    <a:pt x="482" y="57"/>
                  </a:lnTo>
                  <a:lnTo>
                    <a:pt x="438" y="33"/>
                  </a:lnTo>
                  <a:lnTo>
                    <a:pt x="394" y="15"/>
                  </a:lnTo>
                  <a:lnTo>
                    <a:pt x="352" y="4"/>
                  </a:lnTo>
                  <a:lnTo>
                    <a:pt x="312" y="0"/>
                  </a:lnTo>
                  <a:lnTo>
                    <a:pt x="272" y="2"/>
                  </a:lnTo>
                  <a:lnTo>
                    <a:pt x="235" y="9"/>
                  </a:lnTo>
                  <a:lnTo>
                    <a:pt x="198" y="19"/>
                  </a:lnTo>
                  <a:lnTo>
                    <a:pt x="165" y="37"/>
                  </a:lnTo>
                  <a:lnTo>
                    <a:pt x="134" y="57"/>
                  </a:lnTo>
                  <a:lnTo>
                    <a:pt x="105" y="81"/>
                  </a:lnTo>
                  <a:lnTo>
                    <a:pt x="78" y="110"/>
                  </a:lnTo>
                  <a:lnTo>
                    <a:pt x="54" y="141"/>
                  </a:lnTo>
                  <a:lnTo>
                    <a:pt x="31" y="174"/>
                  </a:lnTo>
                  <a:lnTo>
                    <a:pt x="14" y="211"/>
                  </a:lnTo>
                  <a:lnTo>
                    <a:pt x="0" y="249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628760" y="3715200"/>
              <a:ext cx="412200" cy="182160"/>
            </a:xfrm>
            <a:custGeom>
              <a:avLst/>
              <a:gdLst/>
              <a:ahLst/>
              <a:rect l="l" t="t" r="r" b="b"/>
              <a:pathLst>
                <a:path w="1042" h="459">
                  <a:moveTo>
                    <a:pt x="0" y="0"/>
                  </a:moveTo>
                  <a:lnTo>
                    <a:pt x="11" y="49"/>
                  </a:lnTo>
                  <a:lnTo>
                    <a:pt x="23" y="90"/>
                  </a:lnTo>
                  <a:lnTo>
                    <a:pt x="35" y="132"/>
                  </a:lnTo>
                  <a:lnTo>
                    <a:pt x="56" y="179"/>
                  </a:lnTo>
                  <a:lnTo>
                    <a:pt x="62" y="192"/>
                  </a:lnTo>
                  <a:lnTo>
                    <a:pt x="71" y="208"/>
                  </a:lnTo>
                  <a:lnTo>
                    <a:pt x="82" y="225"/>
                  </a:lnTo>
                  <a:lnTo>
                    <a:pt x="95" y="243"/>
                  </a:lnTo>
                  <a:lnTo>
                    <a:pt x="108" y="263"/>
                  </a:lnTo>
                  <a:lnTo>
                    <a:pt x="124" y="282"/>
                  </a:lnTo>
                  <a:lnTo>
                    <a:pt x="142" y="300"/>
                  </a:lnTo>
                  <a:lnTo>
                    <a:pt x="159" y="315"/>
                  </a:lnTo>
                  <a:lnTo>
                    <a:pt x="190" y="338"/>
                  </a:lnTo>
                  <a:lnTo>
                    <a:pt x="223" y="358"/>
                  </a:lnTo>
                  <a:lnTo>
                    <a:pt x="258" y="377"/>
                  </a:lnTo>
                  <a:lnTo>
                    <a:pt x="296" y="393"/>
                  </a:lnTo>
                  <a:lnTo>
                    <a:pt x="336" y="408"/>
                  </a:lnTo>
                  <a:lnTo>
                    <a:pt x="376" y="422"/>
                  </a:lnTo>
                  <a:lnTo>
                    <a:pt x="415" y="435"/>
                  </a:lnTo>
                  <a:lnTo>
                    <a:pt x="458" y="443"/>
                  </a:lnTo>
                  <a:lnTo>
                    <a:pt x="499" y="451"/>
                  </a:lnTo>
                  <a:lnTo>
                    <a:pt x="541" y="455"/>
                  </a:lnTo>
                  <a:lnTo>
                    <a:pt x="583" y="459"/>
                  </a:lnTo>
                  <a:lnTo>
                    <a:pt x="625" y="459"/>
                  </a:lnTo>
                  <a:lnTo>
                    <a:pt x="667" y="457"/>
                  </a:lnTo>
                  <a:lnTo>
                    <a:pt x="707" y="453"/>
                  </a:lnTo>
                  <a:lnTo>
                    <a:pt x="747" y="443"/>
                  </a:lnTo>
                  <a:lnTo>
                    <a:pt x="786" y="435"/>
                  </a:lnTo>
                  <a:lnTo>
                    <a:pt x="792" y="433"/>
                  </a:lnTo>
                  <a:lnTo>
                    <a:pt x="808" y="424"/>
                  </a:lnTo>
                  <a:lnTo>
                    <a:pt x="833" y="408"/>
                  </a:lnTo>
                  <a:lnTo>
                    <a:pt x="866" y="389"/>
                  </a:lnTo>
                  <a:lnTo>
                    <a:pt x="905" y="364"/>
                  </a:lnTo>
                  <a:lnTo>
                    <a:pt x="947" y="333"/>
                  </a:lnTo>
                  <a:lnTo>
                    <a:pt x="994" y="300"/>
                  </a:lnTo>
                  <a:lnTo>
                    <a:pt x="1042" y="263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521120" y="3609000"/>
              <a:ext cx="180720" cy="158400"/>
            </a:xfrm>
            <a:custGeom>
              <a:avLst/>
              <a:gdLst/>
              <a:ahLst/>
              <a:rect l="l" t="t" r="r" b="b"/>
              <a:pathLst>
                <a:path w="456" h="401">
                  <a:moveTo>
                    <a:pt x="456" y="0"/>
                  </a:moveTo>
                  <a:lnTo>
                    <a:pt x="445" y="19"/>
                  </a:lnTo>
                  <a:lnTo>
                    <a:pt x="431" y="44"/>
                  </a:lnTo>
                  <a:lnTo>
                    <a:pt x="416" y="70"/>
                  </a:lnTo>
                  <a:lnTo>
                    <a:pt x="400" y="99"/>
                  </a:lnTo>
                  <a:lnTo>
                    <a:pt x="383" y="130"/>
                  </a:lnTo>
                  <a:lnTo>
                    <a:pt x="363" y="161"/>
                  </a:lnTo>
                  <a:lnTo>
                    <a:pt x="340" y="192"/>
                  </a:lnTo>
                  <a:lnTo>
                    <a:pt x="316" y="225"/>
                  </a:lnTo>
                  <a:lnTo>
                    <a:pt x="288" y="256"/>
                  </a:lnTo>
                  <a:lnTo>
                    <a:pt x="259" y="285"/>
                  </a:lnTo>
                  <a:lnTo>
                    <a:pt x="226" y="313"/>
                  </a:lnTo>
                  <a:lnTo>
                    <a:pt x="188" y="337"/>
                  </a:lnTo>
                  <a:lnTo>
                    <a:pt x="146" y="359"/>
                  </a:lnTo>
                  <a:lnTo>
                    <a:pt x="103" y="380"/>
                  </a:lnTo>
                  <a:lnTo>
                    <a:pt x="54" y="392"/>
                  </a:lnTo>
                  <a:lnTo>
                    <a:pt x="0" y="401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8026920" y="3729600"/>
              <a:ext cx="77400" cy="159840"/>
            </a:xfrm>
            <a:custGeom>
              <a:avLst/>
              <a:gdLst/>
              <a:ahLst/>
              <a:rect l="l" t="t" r="r" b="b"/>
              <a:pathLst>
                <a:path w="194" h="400">
                  <a:moveTo>
                    <a:pt x="0" y="0"/>
                  </a:moveTo>
                  <a:lnTo>
                    <a:pt x="2" y="55"/>
                  </a:lnTo>
                  <a:lnTo>
                    <a:pt x="10" y="113"/>
                  </a:lnTo>
                  <a:lnTo>
                    <a:pt x="24" y="171"/>
                  </a:lnTo>
                  <a:lnTo>
                    <a:pt x="43" y="224"/>
                  </a:lnTo>
                  <a:lnTo>
                    <a:pt x="68" y="276"/>
                  </a:lnTo>
                  <a:lnTo>
                    <a:pt x="103" y="323"/>
                  </a:lnTo>
                  <a:lnTo>
                    <a:pt x="144" y="365"/>
                  </a:lnTo>
                  <a:lnTo>
                    <a:pt x="194" y="40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8069760" y="3212280"/>
              <a:ext cx="20160" cy="137880"/>
            </a:xfrm>
            <a:custGeom>
              <a:avLst/>
              <a:gdLst/>
              <a:ahLst/>
              <a:rect l="l" t="t" r="r" b="b"/>
              <a:pathLst>
                <a:path w="53" h="347">
                  <a:moveTo>
                    <a:pt x="0" y="0"/>
                  </a:moveTo>
                  <a:lnTo>
                    <a:pt x="18" y="79"/>
                  </a:lnTo>
                  <a:lnTo>
                    <a:pt x="31" y="170"/>
                  </a:lnTo>
                  <a:lnTo>
                    <a:pt x="45" y="261"/>
                  </a:lnTo>
                  <a:lnTo>
                    <a:pt x="53" y="347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7841160" y="3171240"/>
              <a:ext cx="74160" cy="90000"/>
            </a:xfrm>
            <a:custGeom>
              <a:avLst/>
              <a:gdLst/>
              <a:ahLst/>
              <a:rect l="l" t="t" r="r" b="b"/>
              <a:pathLst>
                <a:path w="185" h="229">
                  <a:moveTo>
                    <a:pt x="185" y="0"/>
                  </a:moveTo>
                  <a:lnTo>
                    <a:pt x="163" y="27"/>
                  </a:lnTo>
                  <a:lnTo>
                    <a:pt x="141" y="56"/>
                  </a:lnTo>
                  <a:lnTo>
                    <a:pt x="117" y="85"/>
                  </a:lnTo>
                  <a:lnTo>
                    <a:pt x="92" y="114"/>
                  </a:lnTo>
                  <a:lnTo>
                    <a:pt x="68" y="143"/>
                  </a:lnTo>
                  <a:lnTo>
                    <a:pt x="44" y="171"/>
                  </a:lnTo>
                  <a:lnTo>
                    <a:pt x="22" y="200"/>
                  </a:lnTo>
                  <a:lnTo>
                    <a:pt x="0" y="229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7445160" y="2457000"/>
              <a:ext cx="1153800" cy="1005480"/>
            </a:xfrm>
            <a:custGeom>
              <a:avLst/>
              <a:gdLst/>
              <a:ahLst/>
              <a:rect l="l" t="t" r="r" b="b"/>
              <a:pathLst>
                <a:path w="2912" h="2536">
                  <a:moveTo>
                    <a:pt x="1619" y="1023"/>
                  </a:moveTo>
                  <a:lnTo>
                    <a:pt x="1603" y="1060"/>
                  </a:lnTo>
                  <a:lnTo>
                    <a:pt x="1590" y="1098"/>
                  </a:lnTo>
                  <a:lnTo>
                    <a:pt x="1574" y="1135"/>
                  </a:lnTo>
                  <a:lnTo>
                    <a:pt x="1555" y="1168"/>
                  </a:lnTo>
                  <a:lnTo>
                    <a:pt x="1520" y="1204"/>
                  </a:lnTo>
                  <a:lnTo>
                    <a:pt x="1479" y="1240"/>
                  </a:lnTo>
                  <a:lnTo>
                    <a:pt x="1438" y="1275"/>
                  </a:lnTo>
                  <a:lnTo>
                    <a:pt x="1396" y="1308"/>
                  </a:lnTo>
                  <a:lnTo>
                    <a:pt x="1351" y="1339"/>
                  </a:lnTo>
                  <a:lnTo>
                    <a:pt x="1307" y="1370"/>
                  </a:lnTo>
                  <a:lnTo>
                    <a:pt x="1268" y="1399"/>
                  </a:lnTo>
                  <a:lnTo>
                    <a:pt x="1227" y="1427"/>
                  </a:lnTo>
                  <a:lnTo>
                    <a:pt x="1197" y="1447"/>
                  </a:lnTo>
                  <a:lnTo>
                    <a:pt x="1168" y="1458"/>
                  </a:lnTo>
                  <a:lnTo>
                    <a:pt x="1142" y="1465"/>
                  </a:lnTo>
                  <a:lnTo>
                    <a:pt x="1120" y="1463"/>
                  </a:lnTo>
                  <a:lnTo>
                    <a:pt x="1097" y="1456"/>
                  </a:lnTo>
                  <a:lnTo>
                    <a:pt x="1075" y="1442"/>
                  </a:lnTo>
                  <a:lnTo>
                    <a:pt x="1052" y="1425"/>
                  </a:lnTo>
                  <a:lnTo>
                    <a:pt x="1027" y="1401"/>
                  </a:lnTo>
                  <a:lnTo>
                    <a:pt x="992" y="1414"/>
                  </a:lnTo>
                  <a:lnTo>
                    <a:pt x="963" y="1427"/>
                  </a:lnTo>
                  <a:lnTo>
                    <a:pt x="939" y="1440"/>
                  </a:lnTo>
                  <a:lnTo>
                    <a:pt x="916" y="1456"/>
                  </a:lnTo>
                  <a:lnTo>
                    <a:pt x="897" y="1471"/>
                  </a:lnTo>
                  <a:lnTo>
                    <a:pt x="881" y="1489"/>
                  </a:lnTo>
                  <a:lnTo>
                    <a:pt x="866" y="1504"/>
                  </a:lnTo>
                  <a:lnTo>
                    <a:pt x="850" y="1525"/>
                  </a:lnTo>
                  <a:lnTo>
                    <a:pt x="835" y="1542"/>
                  </a:lnTo>
                  <a:lnTo>
                    <a:pt x="819" y="1562"/>
                  </a:lnTo>
                  <a:lnTo>
                    <a:pt x="804" y="1584"/>
                  </a:lnTo>
                  <a:lnTo>
                    <a:pt x="784" y="1603"/>
                  </a:lnTo>
                  <a:lnTo>
                    <a:pt x="762" y="1628"/>
                  </a:lnTo>
                  <a:lnTo>
                    <a:pt x="736" y="1650"/>
                  </a:lnTo>
                  <a:lnTo>
                    <a:pt x="707" y="1675"/>
                  </a:lnTo>
                  <a:lnTo>
                    <a:pt x="672" y="1701"/>
                  </a:lnTo>
                  <a:lnTo>
                    <a:pt x="654" y="1661"/>
                  </a:lnTo>
                  <a:lnTo>
                    <a:pt x="643" y="1617"/>
                  </a:lnTo>
                  <a:lnTo>
                    <a:pt x="631" y="1573"/>
                  </a:lnTo>
                  <a:lnTo>
                    <a:pt x="617" y="1539"/>
                  </a:lnTo>
                  <a:lnTo>
                    <a:pt x="594" y="1575"/>
                  </a:lnTo>
                  <a:lnTo>
                    <a:pt x="574" y="1611"/>
                  </a:lnTo>
                  <a:lnTo>
                    <a:pt x="555" y="1644"/>
                  </a:lnTo>
                  <a:lnTo>
                    <a:pt x="534" y="1675"/>
                  </a:lnTo>
                  <a:lnTo>
                    <a:pt x="515" y="1706"/>
                  </a:lnTo>
                  <a:lnTo>
                    <a:pt x="493" y="1731"/>
                  </a:lnTo>
                  <a:lnTo>
                    <a:pt x="473" y="1760"/>
                  </a:lnTo>
                  <a:lnTo>
                    <a:pt x="451" y="1785"/>
                  </a:lnTo>
                  <a:lnTo>
                    <a:pt x="427" y="1809"/>
                  </a:lnTo>
                  <a:lnTo>
                    <a:pt x="402" y="1834"/>
                  </a:lnTo>
                  <a:lnTo>
                    <a:pt x="376" y="1855"/>
                  </a:lnTo>
                  <a:lnTo>
                    <a:pt x="345" y="1878"/>
                  </a:lnTo>
                  <a:lnTo>
                    <a:pt x="314" y="1898"/>
                  </a:lnTo>
                  <a:lnTo>
                    <a:pt x="279" y="1915"/>
                  </a:lnTo>
                  <a:lnTo>
                    <a:pt x="239" y="1933"/>
                  </a:lnTo>
                  <a:lnTo>
                    <a:pt x="196" y="1950"/>
                  </a:lnTo>
                  <a:lnTo>
                    <a:pt x="204" y="1888"/>
                  </a:lnTo>
                  <a:lnTo>
                    <a:pt x="208" y="1832"/>
                  </a:lnTo>
                  <a:lnTo>
                    <a:pt x="212" y="1774"/>
                  </a:lnTo>
                  <a:lnTo>
                    <a:pt x="219" y="1719"/>
                  </a:lnTo>
                  <a:lnTo>
                    <a:pt x="225" y="1663"/>
                  </a:lnTo>
                  <a:lnTo>
                    <a:pt x="237" y="1606"/>
                  </a:lnTo>
                  <a:lnTo>
                    <a:pt x="250" y="1549"/>
                  </a:lnTo>
                  <a:lnTo>
                    <a:pt x="268" y="1485"/>
                  </a:lnTo>
                  <a:lnTo>
                    <a:pt x="245" y="1482"/>
                  </a:lnTo>
                  <a:lnTo>
                    <a:pt x="219" y="1478"/>
                  </a:lnTo>
                  <a:lnTo>
                    <a:pt x="186" y="1475"/>
                  </a:lnTo>
                  <a:lnTo>
                    <a:pt x="153" y="1469"/>
                  </a:lnTo>
                  <a:lnTo>
                    <a:pt x="118" y="1461"/>
                  </a:lnTo>
                  <a:lnTo>
                    <a:pt x="87" y="1445"/>
                  </a:lnTo>
                  <a:lnTo>
                    <a:pt x="58" y="1425"/>
                  </a:lnTo>
                  <a:lnTo>
                    <a:pt x="33" y="1394"/>
                  </a:lnTo>
                  <a:lnTo>
                    <a:pt x="18" y="1339"/>
                  </a:lnTo>
                  <a:lnTo>
                    <a:pt x="7" y="1281"/>
                  </a:lnTo>
                  <a:lnTo>
                    <a:pt x="2" y="1224"/>
                  </a:lnTo>
                  <a:lnTo>
                    <a:pt x="0" y="1166"/>
                  </a:lnTo>
                  <a:lnTo>
                    <a:pt x="5" y="1112"/>
                  </a:lnTo>
                  <a:lnTo>
                    <a:pt x="18" y="1058"/>
                  </a:lnTo>
                  <a:lnTo>
                    <a:pt x="35" y="1009"/>
                  </a:lnTo>
                  <a:lnTo>
                    <a:pt x="62" y="968"/>
                  </a:lnTo>
                  <a:lnTo>
                    <a:pt x="76" y="959"/>
                  </a:lnTo>
                  <a:lnTo>
                    <a:pt x="93" y="951"/>
                  </a:lnTo>
                  <a:lnTo>
                    <a:pt x="113" y="941"/>
                  </a:lnTo>
                  <a:lnTo>
                    <a:pt x="122" y="930"/>
                  </a:lnTo>
                  <a:lnTo>
                    <a:pt x="146" y="879"/>
                  </a:lnTo>
                  <a:lnTo>
                    <a:pt x="163" y="825"/>
                  </a:lnTo>
                  <a:lnTo>
                    <a:pt x="179" y="767"/>
                  </a:lnTo>
                  <a:lnTo>
                    <a:pt x="192" y="709"/>
                  </a:lnTo>
                  <a:lnTo>
                    <a:pt x="206" y="650"/>
                  </a:lnTo>
                  <a:lnTo>
                    <a:pt x="223" y="592"/>
                  </a:lnTo>
                  <a:lnTo>
                    <a:pt x="245" y="537"/>
                  </a:lnTo>
                  <a:lnTo>
                    <a:pt x="274" y="484"/>
                  </a:lnTo>
                  <a:lnTo>
                    <a:pt x="301" y="449"/>
                  </a:lnTo>
                  <a:lnTo>
                    <a:pt x="330" y="416"/>
                  </a:lnTo>
                  <a:lnTo>
                    <a:pt x="363" y="385"/>
                  </a:lnTo>
                  <a:lnTo>
                    <a:pt x="398" y="356"/>
                  </a:lnTo>
                  <a:lnTo>
                    <a:pt x="435" y="330"/>
                  </a:lnTo>
                  <a:lnTo>
                    <a:pt x="475" y="305"/>
                  </a:lnTo>
                  <a:lnTo>
                    <a:pt x="517" y="283"/>
                  </a:lnTo>
                  <a:lnTo>
                    <a:pt x="561" y="266"/>
                  </a:lnTo>
                  <a:lnTo>
                    <a:pt x="605" y="248"/>
                  </a:lnTo>
                  <a:lnTo>
                    <a:pt x="650" y="235"/>
                  </a:lnTo>
                  <a:lnTo>
                    <a:pt x="693" y="225"/>
                  </a:lnTo>
                  <a:lnTo>
                    <a:pt x="740" y="219"/>
                  </a:lnTo>
                  <a:lnTo>
                    <a:pt x="784" y="214"/>
                  </a:lnTo>
                  <a:lnTo>
                    <a:pt x="829" y="214"/>
                  </a:lnTo>
                  <a:lnTo>
                    <a:pt x="870" y="219"/>
                  </a:lnTo>
                  <a:lnTo>
                    <a:pt x="912" y="225"/>
                  </a:lnTo>
                  <a:lnTo>
                    <a:pt x="916" y="214"/>
                  </a:lnTo>
                  <a:lnTo>
                    <a:pt x="924" y="200"/>
                  </a:lnTo>
                  <a:lnTo>
                    <a:pt x="930" y="181"/>
                  </a:lnTo>
                  <a:lnTo>
                    <a:pt x="941" y="161"/>
                  </a:lnTo>
                  <a:lnTo>
                    <a:pt x="952" y="142"/>
                  </a:lnTo>
                  <a:lnTo>
                    <a:pt x="963" y="126"/>
                  </a:lnTo>
                  <a:lnTo>
                    <a:pt x="974" y="113"/>
                  </a:lnTo>
                  <a:lnTo>
                    <a:pt x="985" y="105"/>
                  </a:lnTo>
                  <a:lnTo>
                    <a:pt x="994" y="105"/>
                  </a:lnTo>
                  <a:lnTo>
                    <a:pt x="1009" y="107"/>
                  </a:lnTo>
                  <a:lnTo>
                    <a:pt x="1029" y="109"/>
                  </a:lnTo>
                  <a:lnTo>
                    <a:pt x="1054" y="113"/>
                  </a:lnTo>
                  <a:lnTo>
                    <a:pt x="1082" y="117"/>
                  </a:lnTo>
                  <a:lnTo>
                    <a:pt x="1111" y="122"/>
                  </a:lnTo>
                  <a:lnTo>
                    <a:pt x="1142" y="128"/>
                  </a:lnTo>
                  <a:lnTo>
                    <a:pt x="1175" y="136"/>
                  </a:lnTo>
                  <a:lnTo>
                    <a:pt x="1206" y="142"/>
                  </a:lnTo>
                  <a:lnTo>
                    <a:pt x="1237" y="146"/>
                  </a:lnTo>
                  <a:lnTo>
                    <a:pt x="1266" y="153"/>
                  </a:lnTo>
                  <a:lnTo>
                    <a:pt x="1291" y="157"/>
                  </a:lnTo>
                  <a:lnTo>
                    <a:pt x="1314" y="159"/>
                  </a:lnTo>
                  <a:lnTo>
                    <a:pt x="1332" y="163"/>
                  </a:lnTo>
                  <a:lnTo>
                    <a:pt x="1345" y="163"/>
                  </a:lnTo>
                  <a:lnTo>
                    <a:pt x="1351" y="163"/>
                  </a:lnTo>
                  <a:lnTo>
                    <a:pt x="1353" y="138"/>
                  </a:lnTo>
                  <a:lnTo>
                    <a:pt x="1355" y="102"/>
                  </a:lnTo>
                  <a:lnTo>
                    <a:pt x="1355" y="56"/>
                  </a:lnTo>
                  <a:lnTo>
                    <a:pt x="1347" y="0"/>
                  </a:lnTo>
                  <a:lnTo>
                    <a:pt x="1376" y="6"/>
                  </a:lnTo>
                  <a:lnTo>
                    <a:pt x="1404" y="18"/>
                  </a:lnTo>
                  <a:lnTo>
                    <a:pt x="1435" y="29"/>
                  </a:lnTo>
                  <a:lnTo>
                    <a:pt x="1466" y="45"/>
                  </a:lnTo>
                  <a:lnTo>
                    <a:pt x="1497" y="60"/>
                  </a:lnTo>
                  <a:lnTo>
                    <a:pt x="1528" y="78"/>
                  </a:lnTo>
                  <a:lnTo>
                    <a:pt x="1559" y="97"/>
                  </a:lnTo>
                  <a:lnTo>
                    <a:pt x="1590" y="117"/>
                  </a:lnTo>
                  <a:lnTo>
                    <a:pt x="1619" y="140"/>
                  </a:lnTo>
                  <a:lnTo>
                    <a:pt x="1648" y="161"/>
                  </a:lnTo>
                  <a:lnTo>
                    <a:pt x="1674" y="186"/>
                  </a:lnTo>
                  <a:lnTo>
                    <a:pt x="1700" y="210"/>
                  </a:lnTo>
                  <a:lnTo>
                    <a:pt x="1722" y="235"/>
                  </a:lnTo>
                  <a:lnTo>
                    <a:pt x="1745" y="259"/>
                  </a:lnTo>
                  <a:lnTo>
                    <a:pt x="1764" y="283"/>
                  </a:lnTo>
                  <a:lnTo>
                    <a:pt x="1780" y="307"/>
                  </a:lnTo>
                  <a:lnTo>
                    <a:pt x="1813" y="297"/>
                  </a:lnTo>
                  <a:lnTo>
                    <a:pt x="1844" y="287"/>
                  </a:lnTo>
                  <a:lnTo>
                    <a:pt x="1877" y="279"/>
                  </a:lnTo>
                  <a:lnTo>
                    <a:pt x="1908" y="270"/>
                  </a:lnTo>
                  <a:lnTo>
                    <a:pt x="1939" y="264"/>
                  </a:lnTo>
                  <a:lnTo>
                    <a:pt x="1967" y="256"/>
                  </a:lnTo>
                  <a:lnTo>
                    <a:pt x="1998" y="252"/>
                  </a:lnTo>
                  <a:lnTo>
                    <a:pt x="2029" y="248"/>
                  </a:lnTo>
                  <a:lnTo>
                    <a:pt x="2060" y="245"/>
                  </a:lnTo>
                  <a:lnTo>
                    <a:pt x="2091" y="245"/>
                  </a:lnTo>
                  <a:lnTo>
                    <a:pt x="2124" y="245"/>
                  </a:lnTo>
                  <a:lnTo>
                    <a:pt x="2155" y="248"/>
                  </a:lnTo>
                  <a:lnTo>
                    <a:pt x="2188" y="252"/>
                  </a:lnTo>
                  <a:lnTo>
                    <a:pt x="2223" y="259"/>
                  </a:lnTo>
                  <a:lnTo>
                    <a:pt x="2259" y="266"/>
                  </a:lnTo>
                  <a:lnTo>
                    <a:pt x="2294" y="276"/>
                  </a:lnTo>
                  <a:lnTo>
                    <a:pt x="2289" y="285"/>
                  </a:lnTo>
                  <a:lnTo>
                    <a:pt x="2283" y="297"/>
                  </a:lnTo>
                  <a:lnTo>
                    <a:pt x="2272" y="305"/>
                  </a:lnTo>
                  <a:lnTo>
                    <a:pt x="2261" y="316"/>
                  </a:lnTo>
                  <a:lnTo>
                    <a:pt x="2248" y="328"/>
                  </a:lnTo>
                  <a:lnTo>
                    <a:pt x="2236" y="338"/>
                  </a:lnTo>
                  <a:lnTo>
                    <a:pt x="2225" y="349"/>
                  </a:lnTo>
                  <a:lnTo>
                    <a:pt x="2217" y="363"/>
                  </a:lnTo>
                  <a:lnTo>
                    <a:pt x="2239" y="367"/>
                  </a:lnTo>
                  <a:lnTo>
                    <a:pt x="2267" y="373"/>
                  </a:lnTo>
                  <a:lnTo>
                    <a:pt x="2300" y="380"/>
                  </a:lnTo>
                  <a:lnTo>
                    <a:pt x="2339" y="387"/>
                  </a:lnTo>
                  <a:lnTo>
                    <a:pt x="2376" y="396"/>
                  </a:lnTo>
                  <a:lnTo>
                    <a:pt x="2413" y="404"/>
                  </a:lnTo>
                  <a:lnTo>
                    <a:pt x="2444" y="416"/>
                  </a:lnTo>
                  <a:lnTo>
                    <a:pt x="2471" y="425"/>
                  </a:lnTo>
                  <a:lnTo>
                    <a:pt x="2519" y="449"/>
                  </a:lnTo>
                  <a:lnTo>
                    <a:pt x="2559" y="471"/>
                  </a:lnTo>
                  <a:lnTo>
                    <a:pt x="2590" y="493"/>
                  </a:lnTo>
                  <a:lnTo>
                    <a:pt x="2614" y="515"/>
                  </a:lnTo>
                  <a:lnTo>
                    <a:pt x="2632" y="544"/>
                  </a:lnTo>
                  <a:lnTo>
                    <a:pt x="2650" y="579"/>
                  </a:lnTo>
                  <a:lnTo>
                    <a:pt x="2667" y="625"/>
                  </a:lnTo>
                  <a:lnTo>
                    <a:pt x="2685" y="683"/>
                  </a:lnTo>
                  <a:lnTo>
                    <a:pt x="2698" y="703"/>
                  </a:lnTo>
                  <a:lnTo>
                    <a:pt x="2720" y="724"/>
                  </a:lnTo>
                  <a:lnTo>
                    <a:pt x="2753" y="751"/>
                  </a:lnTo>
                  <a:lnTo>
                    <a:pt x="2788" y="778"/>
                  </a:lnTo>
                  <a:lnTo>
                    <a:pt x="2824" y="809"/>
                  </a:lnTo>
                  <a:lnTo>
                    <a:pt x="2855" y="842"/>
                  </a:lnTo>
                  <a:lnTo>
                    <a:pt x="2877" y="877"/>
                  </a:lnTo>
                  <a:lnTo>
                    <a:pt x="2888" y="912"/>
                  </a:lnTo>
                  <a:lnTo>
                    <a:pt x="2888" y="947"/>
                  </a:lnTo>
                  <a:lnTo>
                    <a:pt x="2883" y="982"/>
                  </a:lnTo>
                  <a:lnTo>
                    <a:pt x="2877" y="1015"/>
                  </a:lnTo>
                  <a:lnTo>
                    <a:pt x="2865" y="1042"/>
                  </a:lnTo>
                  <a:lnTo>
                    <a:pt x="2855" y="1073"/>
                  </a:lnTo>
                  <a:lnTo>
                    <a:pt x="2842" y="1102"/>
                  </a:lnTo>
                  <a:lnTo>
                    <a:pt x="2830" y="1133"/>
                  </a:lnTo>
                  <a:lnTo>
                    <a:pt x="2822" y="1166"/>
                  </a:lnTo>
                  <a:lnTo>
                    <a:pt x="2834" y="1174"/>
                  </a:lnTo>
                  <a:lnTo>
                    <a:pt x="2850" y="1188"/>
                  </a:lnTo>
                  <a:lnTo>
                    <a:pt x="2861" y="1207"/>
                  </a:lnTo>
                  <a:lnTo>
                    <a:pt x="2868" y="1219"/>
                  </a:lnTo>
                  <a:lnTo>
                    <a:pt x="2896" y="1310"/>
                  </a:lnTo>
                  <a:lnTo>
                    <a:pt x="2912" y="1411"/>
                  </a:lnTo>
                  <a:lnTo>
                    <a:pt x="2912" y="1518"/>
                  </a:lnTo>
                  <a:lnTo>
                    <a:pt x="2904" y="1628"/>
                  </a:lnTo>
                  <a:lnTo>
                    <a:pt x="2885" y="1737"/>
                  </a:lnTo>
                  <a:lnTo>
                    <a:pt x="2857" y="1842"/>
                  </a:lnTo>
                  <a:lnTo>
                    <a:pt x="2824" y="1942"/>
                  </a:lnTo>
                  <a:lnTo>
                    <a:pt x="2784" y="2032"/>
                  </a:lnTo>
                  <a:lnTo>
                    <a:pt x="2770" y="2059"/>
                  </a:lnTo>
                  <a:lnTo>
                    <a:pt x="2762" y="2084"/>
                  </a:lnTo>
                  <a:lnTo>
                    <a:pt x="2751" y="2101"/>
                  </a:lnTo>
                  <a:lnTo>
                    <a:pt x="2745" y="2119"/>
                  </a:lnTo>
                  <a:lnTo>
                    <a:pt x="2733" y="2132"/>
                  </a:lnTo>
                  <a:lnTo>
                    <a:pt x="2724" y="2145"/>
                  </a:lnTo>
                  <a:lnTo>
                    <a:pt x="2712" y="2156"/>
                  </a:lnTo>
                  <a:lnTo>
                    <a:pt x="2696" y="2165"/>
                  </a:lnTo>
                  <a:lnTo>
                    <a:pt x="2685" y="2165"/>
                  </a:lnTo>
                  <a:lnTo>
                    <a:pt x="2671" y="2165"/>
                  </a:lnTo>
                  <a:lnTo>
                    <a:pt x="2658" y="2162"/>
                  </a:lnTo>
                  <a:lnTo>
                    <a:pt x="2645" y="2160"/>
                  </a:lnTo>
                  <a:lnTo>
                    <a:pt x="2632" y="2156"/>
                  </a:lnTo>
                  <a:lnTo>
                    <a:pt x="2619" y="2154"/>
                  </a:lnTo>
                  <a:lnTo>
                    <a:pt x="2607" y="2152"/>
                  </a:lnTo>
                  <a:lnTo>
                    <a:pt x="2597" y="2150"/>
                  </a:lnTo>
                  <a:lnTo>
                    <a:pt x="2561" y="2150"/>
                  </a:lnTo>
                  <a:lnTo>
                    <a:pt x="2528" y="2156"/>
                  </a:lnTo>
                  <a:lnTo>
                    <a:pt x="2497" y="2169"/>
                  </a:lnTo>
                  <a:lnTo>
                    <a:pt x="2469" y="2187"/>
                  </a:lnTo>
                  <a:lnTo>
                    <a:pt x="2442" y="2209"/>
                  </a:lnTo>
                  <a:lnTo>
                    <a:pt x="2417" y="2235"/>
                  </a:lnTo>
                  <a:lnTo>
                    <a:pt x="2393" y="2262"/>
                  </a:lnTo>
                  <a:lnTo>
                    <a:pt x="2372" y="2293"/>
                  </a:lnTo>
                  <a:lnTo>
                    <a:pt x="2351" y="2326"/>
                  </a:lnTo>
                  <a:lnTo>
                    <a:pt x="2331" y="2359"/>
                  </a:lnTo>
                  <a:lnTo>
                    <a:pt x="2312" y="2392"/>
                  </a:lnTo>
                  <a:lnTo>
                    <a:pt x="2292" y="2425"/>
                  </a:lnTo>
                  <a:lnTo>
                    <a:pt x="2272" y="2456"/>
                  </a:lnTo>
                  <a:lnTo>
                    <a:pt x="2252" y="2485"/>
                  </a:lnTo>
                  <a:lnTo>
                    <a:pt x="2232" y="2511"/>
                  </a:lnTo>
                  <a:lnTo>
                    <a:pt x="2211" y="2536"/>
                  </a:lnTo>
                  <a:lnTo>
                    <a:pt x="2201" y="2499"/>
                  </a:lnTo>
                  <a:lnTo>
                    <a:pt x="2192" y="2463"/>
                  </a:lnTo>
                  <a:lnTo>
                    <a:pt x="2186" y="2425"/>
                  </a:lnTo>
                  <a:lnTo>
                    <a:pt x="2184" y="2390"/>
                  </a:lnTo>
                  <a:lnTo>
                    <a:pt x="2192" y="2295"/>
                  </a:lnTo>
                  <a:lnTo>
                    <a:pt x="2197" y="2212"/>
                  </a:lnTo>
                  <a:lnTo>
                    <a:pt x="2197" y="2132"/>
                  </a:lnTo>
                  <a:lnTo>
                    <a:pt x="2192" y="2061"/>
                  </a:lnTo>
                  <a:lnTo>
                    <a:pt x="2180" y="1995"/>
                  </a:lnTo>
                  <a:lnTo>
                    <a:pt x="2157" y="1935"/>
                  </a:lnTo>
                  <a:lnTo>
                    <a:pt x="2128" y="1880"/>
                  </a:lnTo>
                  <a:lnTo>
                    <a:pt x="2087" y="1826"/>
                  </a:lnTo>
                  <a:lnTo>
                    <a:pt x="2060" y="1799"/>
                  </a:lnTo>
                  <a:lnTo>
                    <a:pt x="2034" y="1770"/>
                  </a:lnTo>
                  <a:lnTo>
                    <a:pt x="2007" y="1741"/>
                  </a:lnTo>
                  <a:lnTo>
                    <a:pt x="1982" y="1717"/>
                  </a:lnTo>
                  <a:lnTo>
                    <a:pt x="1957" y="1694"/>
                  </a:lnTo>
                  <a:lnTo>
                    <a:pt x="1928" y="1677"/>
                  </a:lnTo>
                  <a:lnTo>
                    <a:pt x="1899" y="1665"/>
                  </a:lnTo>
                  <a:lnTo>
                    <a:pt x="1868" y="1663"/>
                  </a:lnTo>
                  <a:lnTo>
                    <a:pt x="1844" y="1659"/>
                  </a:lnTo>
                  <a:lnTo>
                    <a:pt x="1817" y="1644"/>
                  </a:lnTo>
                  <a:lnTo>
                    <a:pt x="1795" y="1619"/>
                  </a:lnTo>
                  <a:lnTo>
                    <a:pt x="1776" y="1589"/>
                  </a:lnTo>
                  <a:lnTo>
                    <a:pt x="1762" y="1555"/>
                  </a:lnTo>
                  <a:lnTo>
                    <a:pt x="1753" y="1516"/>
                  </a:lnTo>
                  <a:lnTo>
                    <a:pt x="1753" y="1475"/>
                  </a:lnTo>
                  <a:lnTo>
                    <a:pt x="1762" y="1436"/>
                  </a:lnTo>
                  <a:lnTo>
                    <a:pt x="1747" y="1436"/>
                  </a:lnTo>
                  <a:lnTo>
                    <a:pt x="1735" y="1436"/>
                  </a:lnTo>
                  <a:lnTo>
                    <a:pt x="1722" y="1436"/>
                  </a:lnTo>
                  <a:lnTo>
                    <a:pt x="1712" y="1434"/>
                  </a:lnTo>
                  <a:lnTo>
                    <a:pt x="1698" y="1434"/>
                  </a:lnTo>
                  <a:lnTo>
                    <a:pt x="1683" y="1434"/>
                  </a:lnTo>
                  <a:lnTo>
                    <a:pt x="1663" y="1432"/>
                  </a:lnTo>
                  <a:lnTo>
                    <a:pt x="1640" y="1432"/>
                  </a:lnTo>
                  <a:lnTo>
                    <a:pt x="1623" y="1354"/>
                  </a:lnTo>
                  <a:lnTo>
                    <a:pt x="1607" y="1252"/>
                  </a:lnTo>
                  <a:lnTo>
                    <a:pt x="1603" y="1140"/>
                  </a:lnTo>
                  <a:lnTo>
                    <a:pt x="1619" y="1023"/>
                  </a:lnTo>
                  <a:close/>
                </a:path>
              </a:pathLst>
            </a:custGeom>
            <a:solidFill>
              <a:srgbClr val="f5b14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1" name=""/>
          <p:cNvSpPr/>
          <p:nvPr/>
        </p:nvSpPr>
        <p:spPr>
          <a:xfrm>
            <a:off x="3475440" y="5520240"/>
            <a:ext cx="1174320" cy="703800"/>
          </a:xfrm>
          <a:prstGeom prst="borderCallout1">
            <a:avLst>
              <a:gd name="adj1" fmla="val 18750"/>
              <a:gd name="adj2" fmla="val -8333"/>
              <a:gd name="adj3" fmla="val -21879"/>
              <a:gd name="adj4" fmla="val 128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ecre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6572160" y="5808960"/>
            <a:ext cx="819360" cy="398880"/>
          </a:xfrm>
          <a:prstGeom prst="borderCallout1">
            <a:avLst>
              <a:gd name="adj1" fmla="val 18750"/>
              <a:gd name="adj2" fmla="val -8333"/>
              <a:gd name="adj3" fmla="val -137870"/>
              <a:gd name="adj4" fmla="val -1743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2" dur="indefinite" restart="never" nodeType="tmRoot">
          <p:childTnLst>
            <p:seq>
              <p:cTn id="3563" dur="indefinite" nodeType="mainSeq">
                <p:childTnLst>
                  <p:par>
                    <p:cTn id="3564" fill="hold">
                      <p:stCondLst>
                        <p:cond delay="indefinite"/>
                      </p:stCondLst>
                      <p:childTnLst>
                        <p:par>
                          <p:cTn id="3565" fill="hold">
                            <p:stCondLst>
                              <p:cond delay="0"/>
                            </p:stCondLst>
                            <p:childTnLst>
                              <p:par>
                                <p:cTn id="35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8" dur="500"/>
                                        <p:tgtEl>
                                          <p:spTgt spid="2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9" fill="hold">
                            <p:stCondLst>
                              <p:cond delay="500"/>
                            </p:stCondLst>
                            <p:childTnLst>
                              <p:par>
                                <p:cTn id="35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2" dur="500"/>
                                        <p:tgtEl>
                                          <p:spTgt spid="2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3" fill="hold">
                      <p:stCondLst>
                        <p:cond delay="indefinite"/>
                      </p:stCondLst>
                      <p:childTnLst>
                        <p:par>
                          <p:cTn id="3574" fill="hold">
                            <p:stCondLst>
                              <p:cond delay="0"/>
                            </p:stCondLst>
                            <p:childTnLst>
                              <p:par>
                                <p:cTn id="3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7" dur="500" fill="hold"/>
                                        <p:tgtEl>
                                          <p:spTgt spid="2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8" dur="500" fill="hold"/>
                                        <p:tgtEl>
                                          <p:spTgt spid="2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9" fill="hold">
                      <p:stCondLst>
                        <p:cond delay="indefinite"/>
                      </p:stCondLst>
                      <p:childTnLst>
                        <p:par>
                          <p:cTn id="3580" fill="hold">
                            <p:stCondLst>
                              <p:cond delay="0"/>
                            </p:stCondLst>
                            <p:childTnLst>
                              <p:par>
                                <p:cTn id="35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83" dur="500"/>
                                        <p:tgtEl>
                                          <p:spTgt spid="2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4" fill="hold">
                            <p:stCondLst>
                              <p:cond delay="500"/>
                            </p:stCondLst>
                            <p:childTnLst>
                              <p:par>
                                <p:cTn id="35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7" dur="500"/>
                                        <p:tgtEl>
                                          <p:spTgt spid="2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1" dur="500"/>
                                        <p:tgtEl>
                                          <p:spTgt spid="2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6" dur="500"/>
                                        <p:tgtEl>
                                          <p:spTgt spid="2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7" fill="hold">
                      <p:stCondLst>
                        <p:cond delay="indefinite"/>
                      </p:stCondLst>
                      <p:childTnLst>
                        <p:par>
                          <p:cTn id="3598" fill="hold">
                            <p:stCondLst>
                              <p:cond delay="0"/>
                            </p:stCondLst>
                            <p:childTnLst>
                              <p:par>
                                <p:cTn id="3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1" dur="500"/>
                                        <p:tgtEl>
                                          <p:spTgt spid="2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2" fill="hold">
                            <p:stCondLst>
                              <p:cond delay="500"/>
                            </p:stCondLst>
                            <p:childTnLst>
                              <p:par>
                                <p:cTn id="36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5" dur="500"/>
                                        <p:tgtEl>
                                          <p:spTgt spid="2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0" dur="500"/>
                                        <p:tgtEl>
                                          <p:spTgt spid="2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1" fill="hold">
                            <p:stCondLst>
                              <p:cond delay="500"/>
                            </p:stCondLst>
                            <p:childTnLst>
                              <p:par>
                                <p:cTn id="36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14" dur="500"/>
                                        <p:tgtEl>
                                          <p:spTgt spid="2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5" fill="hold">
                      <p:stCondLst>
                        <p:cond delay="indefinite"/>
                      </p:stCondLst>
                      <p:childTnLst>
                        <p:par>
                          <p:cTn id="3616" fill="hold">
                            <p:stCondLst>
                              <p:cond delay="0"/>
                            </p:stCondLst>
                            <p:childTnLst>
                              <p:par>
                                <p:cTn id="3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9" dur="500"/>
                                        <p:tgtEl>
                                          <p:spTgt spid="2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0" fill="hold">
                            <p:stCondLst>
                              <p:cond delay="500"/>
                            </p:stCondLst>
                            <p:childTnLst>
                              <p:par>
                                <p:cTn id="36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23" dur="500"/>
                                        <p:tgtEl>
                                          <p:spTgt spid="2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4" fill="hold">
                      <p:stCondLst>
                        <p:cond delay="indefinite"/>
                      </p:stCondLst>
                      <p:childTnLst>
                        <p:par>
                          <p:cTn id="3625" fill="hold">
                            <p:stCondLst>
                              <p:cond delay="0"/>
                            </p:stCondLst>
                            <p:childTnLst>
                              <p:par>
                                <p:cTn id="36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8" dur="500"/>
                                        <p:tgtEl>
                                          <p:spTgt spid="2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9" fill="hold">
                            <p:stCondLst>
                              <p:cond delay="500"/>
                            </p:stCondLst>
                            <p:childTnLst>
                              <p:par>
                                <p:cTn id="36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2" dur="500"/>
                                        <p:tgtEl>
                                          <p:spTgt spid="2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3" fill="hold">
                      <p:stCondLst>
                        <p:cond delay="indefinite"/>
                      </p:stCondLst>
                      <p:childTnLst>
                        <p:par>
                          <p:cTn id="3634" fill="hold">
                            <p:stCondLst>
                              <p:cond delay="0"/>
                            </p:stCondLst>
                            <p:childTnLst>
                              <p:par>
                                <p:cTn id="36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7" dur="500"/>
                                        <p:tgtEl>
                                          <p:spTgt spid="2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8" fill="hold">
                            <p:stCondLst>
                              <p:cond delay="500"/>
                            </p:stCondLst>
                            <p:childTnLst>
                              <p:par>
                                <p:cTn id="363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41" dur="500"/>
                                        <p:tgtEl>
                                          <p:spTgt spid="2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45" dur="5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6" fill="hold">
                      <p:stCondLst>
                        <p:cond delay="indefinite"/>
                      </p:stCondLst>
                      <p:childTnLst>
                        <p:par>
                          <p:cTn id="3647" fill="hold">
                            <p:stCondLst>
                              <p:cond delay="0"/>
                            </p:stCondLst>
                            <p:childTnLst>
                              <p:par>
                                <p:cTn id="3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0" dur="500"/>
                                        <p:tgtEl>
                                          <p:spTgt spid="2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1" fill="hold">
                            <p:stCondLst>
                              <p:cond delay="500"/>
                            </p:stCondLst>
                            <p:childTnLst>
                              <p:par>
                                <p:cTn id="3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4" dur="500"/>
                                        <p:tgtEl>
                                          <p:spTgt spid="2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8" dur="500"/>
                                        <p:tgtEl>
                                          <p:spTgt spid="2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2" dur="500"/>
                                        <p:tgtEl>
                                          <p:spTgt spid="2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3" fill="hold">
                      <p:stCondLst>
                        <p:cond delay="indefinite"/>
                      </p:stCondLst>
                      <p:childTnLst>
                        <p:par>
                          <p:cTn id="3664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7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8" fill="hold">
                      <p:stCondLst>
                        <p:cond delay="indefinite"/>
                      </p:stCondLst>
                      <p:childTnLst>
                        <p:par>
                          <p:cTn id="3669" fill="hold">
                            <p:stCondLst>
                              <p:cond delay="0"/>
                            </p:stCondLst>
                            <p:childTnLst>
                              <p:par>
                                <p:cTn id="3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2" dur="500"/>
                                        <p:tgtEl>
                                          <p:spTgt spid="2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3" fill="hold">
                            <p:stCondLst>
                              <p:cond delay="500"/>
                            </p:stCondLst>
                            <p:childTnLst>
                              <p:par>
                                <p:cTn id="36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6" dur="500"/>
                                        <p:tgtEl>
                                          <p:spTgt spid="2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0" dur="500"/>
                                        <p:tgtEl>
                                          <p:spTgt spid="2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4" dur="500"/>
                                        <p:tgtEl>
                                          <p:spTgt spid="2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8" dur="500"/>
                                        <p:tgtEl>
                                          <p:spTgt spid="2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3" dur="500"/>
                                        <p:tgtEl>
                                          <p:spTgt spid="2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4" fill="hold">
                            <p:stCondLst>
                              <p:cond delay="500"/>
                            </p:stCondLst>
                            <p:childTnLst>
                              <p:par>
                                <p:cTn id="3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7" dur="500"/>
                                        <p:tgtEl>
                                          <p:spTgt spid="2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01" dur="500"/>
                                        <p:tgtEl>
                                          <p:spTgt spid="2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martCar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4" name=""/>
          <p:cNvGrpSpPr/>
          <p:nvPr/>
        </p:nvGrpSpPr>
        <p:grpSpPr>
          <a:xfrm>
            <a:off x="7329600" y="1009800"/>
            <a:ext cx="1271520" cy="1712880"/>
            <a:chOff x="7329600" y="1009800"/>
            <a:chExt cx="1271520" cy="1712880"/>
          </a:xfrm>
        </p:grpSpPr>
        <p:sp>
          <p:nvSpPr>
            <p:cNvPr id="2575" name=""/>
            <p:cNvSpPr/>
            <p:nvPr/>
          </p:nvSpPr>
          <p:spPr>
            <a:xfrm>
              <a:off x="7329600" y="1292400"/>
              <a:ext cx="1211040" cy="1430280"/>
            </a:xfrm>
            <a:custGeom>
              <a:avLst/>
              <a:gdLst/>
              <a:ahLst/>
              <a:rect l="l" t="t" r="r" b="b"/>
              <a:pathLst>
                <a:path w="3053" h="3604">
                  <a:moveTo>
                    <a:pt x="825" y="39"/>
                  </a:moveTo>
                  <a:lnTo>
                    <a:pt x="894" y="28"/>
                  </a:lnTo>
                  <a:lnTo>
                    <a:pt x="961" y="20"/>
                  </a:lnTo>
                  <a:lnTo>
                    <a:pt x="1029" y="10"/>
                  </a:lnTo>
                  <a:lnTo>
                    <a:pt x="1097" y="6"/>
                  </a:lnTo>
                  <a:lnTo>
                    <a:pt x="1166" y="2"/>
                  </a:lnTo>
                  <a:lnTo>
                    <a:pt x="1234" y="0"/>
                  </a:lnTo>
                  <a:lnTo>
                    <a:pt x="1302" y="0"/>
                  </a:lnTo>
                  <a:lnTo>
                    <a:pt x="1371" y="0"/>
                  </a:lnTo>
                  <a:lnTo>
                    <a:pt x="1440" y="4"/>
                  </a:lnTo>
                  <a:lnTo>
                    <a:pt x="1508" y="8"/>
                  </a:lnTo>
                  <a:lnTo>
                    <a:pt x="1576" y="15"/>
                  </a:lnTo>
                  <a:lnTo>
                    <a:pt x="1644" y="24"/>
                  </a:lnTo>
                  <a:lnTo>
                    <a:pt x="1710" y="33"/>
                  </a:lnTo>
                  <a:lnTo>
                    <a:pt x="1780" y="45"/>
                  </a:lnTo>
                  <a:lnTo>
                    <a:pt x="1848" y="59"/>
                  </a:lnTo>
                  <a:lnTo>
                    <a:pt x="1916" y="74"/>
                  </a:lnTo>
                  <a:lnTo>
                    <a:pt x="1982" y="90"/>
                  </a:lnTo>
                  <a:lnTo>
                    <a:pt x="2048" y="107"/>
                  </a:lnTo>
                  <a:lnTo>
                    <a:pt x="2115" y="128"/>
                  </a:lnTo>
                  <a:lnTo>
                    <a:pt x="2181" y="150"/>
                  </a:lnTo>
                  <a:lnTo>
                    <a:pt x="2248" y="171"/>
                  </a:lnTo>
                  <a:lnTo>
                    <a:pt x="2314" y="196"/>
                  </a:lnTo>
                  <a:lnTo>
                    <a:pt x="2378" y="223"/>
                  </a:lnTo>
                  <a:lnTo>
                    <a:pt x="2442" y="249"/>
                  </a:lnTo>
                  <a:lnTo>
                    <a:pt x="2506" y="280"/>
                  </a:lnTo>
                  <a:lnTo>
                    <a:pt x="2568" y="309"/>
                  </a:lnTo>
                  <a:lnTo>
                    <a:pt x="2632" y="342"/>
                  </a:lnTo>
                  <a:lnTo>
                    <a:pt x="2693" y="375"/>
                  </a:lnTo>
                  <a:lnTo>
                    <a:pt x="2753" y="408"/>
                  </a:lnTo>
                  <a:lnTo>
                    <a:pt x="2815" y="446"/>
                  </a:lnTo>
                  <a:lnTo>
                    <a:pt x="2872" y="481"/>
                  </a:lnTo>
                  <a:lnTo>
                    <a:pt x="2931" y="521"/>
                  </a:lnTo>
                  <a:lnTo>
                    <a:pt x="2905" y="607"/>
                  </a:lnTo>
                  <a:lnTo>
                    <a:pt x="2867" y="687"/>
                  </a:lnTo>
                  <a:lnTo>
                    <a:pt x="2826" y="768"/>
                  </a:lnTo>
                  <a:lnTo>
                    <a:pt x="2784" y="856"/>
                  </a:lnTo>
                  <a:lnTo>
                    <a:pt x="2748" y="961"/>
                  </a:lnTo>
                  <a:lnTo>
                    <a:pt x="2727" y="1083"/>
                  </a:lnTo>
                  <a:lnTo>
                    <a:pt x="2720" y="1236"/>
                  </a:lnTo>
                  <a:lnTo>
                    <a:pt x="2735" y="1424"/>
                  </a:lnTo>
                  <a:lnTo>
                    <a:pt x="2786" y="1430"/>
                  </a:lnTo>
                  <a:lnTo>
                    <a:pt x="2836" y="1436"/>
                  </a:lnTo>
                  <a:lnTo>
                    <a:pt x="2885" y="1440"/>
                  </a:lnTo>
                  <a:lnTo>
                    <a:pt x="2931" y="1446"/>
                  </a:lnTo>
                  <a:lnTo>
                    <a:pt x="2972" y="1455"/>
                  </a:lnTo>
                  <a:lnTo>
                    <a:pt x="3005" y="1473"/>
                  </a:lnTo>
                  <a:lnTo>
                    <a:pt x="3028" y="1497"/>
                  </a:lnTo>
                  <a:lnTo>
                    <a:pt x="3042" y="1533"/>
                  </a:lnTo>
                  <a:lnTo>
                    <a:pt x="3053" y="1601"/>
                  </a:lnTo>
                  <a:lnTo>
                    <a:pt x="3051" y="1683"/>
                  </a:lnTo>
                  <a:lnTo>
                    <a:pt x="3038" y="1771"/>
                  </a:lnTo>
                  <a:lnTo>
                    <a:pt x="3015" y="1863"/>
                  </a:lnTo>
                  <a:lnTo>
                    <a:pt x="2987" y="1960"/>
                  </a:lnTo>
                  <a:lnTo>
                    <a:pt x="2954" y="2055"/>
                  </a:lnTo>
                  <a:lnTo>
                    <a:pt x="2918" y="2146"/>
                  </a:lnTo>
                  <a:lnTo>
                    <a:pt x="2883" y="2228"/>
                  </a:lnTo>
                  <a:lnTo>
                    <a:pt x="2867" y="2237"/>
                  </a:lnTo>
                  <a:lnTo>
                    <a:pt x="2850" y="2245"/>
                  </a:lnTo>
                  <a:lnTo>
                    <a:pt x="2828" y="2253"/>
                  </a:lnTo>
                  <a:lnTo>
                    <a:pt x="2803" y="2259"/>
                  </a:lnTo>
                  <a:lnTo>
                    <a:pt x="2779" y="2263"/>
                  </a:lnTo>
                  <a:lnTo>
                    <a:pt x="2751" y="2268"/>
                  </a:lnTo>
                  <a:lnTo>
                    <a:pt x="2722" y="2272"/>
                  </a:lnTo>
                  <a:lnTo>
                    <a:pt x="2691" y="2274"/>
                  </a:lnTo>
                  <a:lnTo>
                    <a:pt x="2663" y="2276"/>
                  </a:lnTo>
                  <a:lnTo>
                    <a:pt x="2632" y="2278"/>
                  </a:lnTo>
                  <a:lnTo>
                    <a:pt x="2603" y="2278"/>
                  </a:lnTo>
                  <a:lnTo>
                    <a:pt x="2576" y="2278"/>
                  </a:lnTo>
                  <a:lnTo>
                    <a:pt x="2550" y="2276"/>
                  </a:lnTo>
                  <a:lnTo>
                    <a:pt x="2525" y="2276"/>
                  </a:lnTo>
                  <a:lnTo>
                    <a:pt x="2504" y="2274"/>
                  </a:lnTo>
                  <a:lnTo>
                    <a:pt x="2486" y="2272"/>
                  </a:lnTo>
                  <a:lnTo>
                    <a:pt x="2469" y="2398"/>
                  </a:lnTo>
                  <a:lnTo>
                    <a:pt x="2455" y="2517"/>
                  </a:lnTo>
                  <a:lnTo>
                    <a:pt x="2440" y="2630"/>
                  </a:lnTo>
                  <a:lnTo>
                    <a:pt x="2426" y="2738"/>
                  </a:lnTo>
                  <a:lnTo>
                    <a:pt x="2411" y="2842"/>
                  </a:lnTo>
                  <a:lnTo>
                    <a:pt x="2397" y="2940"/>
                  </a:lnTo>
                  <a:lnTo>
                    <a:pt x="2382" y="3035"/>
                  </a:lnTo>
                  <a:lnTo>
                    <a:pt x="2364" y="3126"/>
                  </a:lnTo>
                  <a:lnTo>
                    <a:pt x="2347" y="3209"/>
                  </a:lnTo>
                  <a:lnTo>
                    <a:pt x="2327" y="3283"/>
                  </a:lnTo>
                  <a:lnTo>
                    <a:pt x="2304" y="3348"/>
                  </a:lnTo>
                  <a:lnTo>
                    <a:pt x="2283" y="3405"/>
                  </a:lnTo>
                  <a:lnTo>
                    <a:pt x="2261" y="3452"/>
                  </a:lnTo>
                  <a:lnTo>
                    <a:pt x="2236" y="3489"/>
                  </a:lnTo>
                  <a:lnTo>
                    <a:pt x="2217" y="3516"/>
                  </a:lnTo>
                  <a:lnTo>
                    <a:pt x="2199" y="3531"/>
                  </a:lnTo>
                  <a:lnTo>
                    <a:pt x="2178" y="3547"/>
                  </a:lnTo>
                  <a:lnTo>
                    <a:pt x="2152" y="3562"/>
                  </a:lnTo>
                  <a:lnTo>
                    <a:pt x="2119" y="3573"/>
                  </a:lnTo>
                  <a:lnTo>
                    <a:pt x="2081" y="3584"/>
                  </a:lnTo>
                  <a:lnTo>
                    <a:pt x="2040" y="3590"/>
                  </a:lnTo>
                  <a:lnTo>
                    <a:pt x="1993" y="3597"/>
                  </a:lnTo>
                  <a:lnTo>
                    <a:pt x="1941" y="3602"/>
                  </a:lnTo>
                  <a:lnTo>
                    <a:pt x="1883" y="3604"/>
                  </a:lnTo>
                  <a:lnTo>
                    <a:pt x="1823" y="3604"/>
                  </a:lnTo>
                  <a:lnTo>
                    <a:pt x="1759" y="3602"/>
                  </a:lnTo>
                  <a:lnTo>
                    <a:pt x="1693" y="3597"/>
                  </a:lnTo>
                  <a:lnTo>
                    <a:pt x="1623" y="3593"/>
                  </a:lnTo>
                  <a:lnTo>
                    <a:pt x="1552" y="3584"/>
                  </a:lnTo>
                  <a:lnTo>
                    <a:pt x="1477" y="3576"/>
                  </a:lnTo>
                  <a:lnTo>
                    <a:pt x="1400" y="3566"/>
                  </a:lnTo>
                  <a:lnTo>
                    <a:pt x="1320" y="3553"/>
                  </a:lnTo>
                  <a:lnTo>
                    <a:pt x="1240" y="3540"/>
                  </a:lnTo>
                  <a:lnTo>
                    <a:pt x="1161" y="3524"/>
                  </a:lnTo>
                  <a:lnTo>
                    <a:pt x="1079" y="3509"/>
                  </a:lnTo>
                  <a:lnTo>
                    <a:pt x="998" y="3491"/>
                  </a:lnTo>
                  <a:lnTo>
                    <a:pt x="916" y="3471"/>
                  </a:lnTo>
                  <a:lnTo>
                    <a:pt x="835" y="3452"/>
                  </a:lnTo>
                  <a:lnTo>
                    <a:pt x="753" y="3429"/>
                  </a:lnTo>
                  <a:lnTo>
                    <a:pt x="673" y="3407"/>
                  </a:lnTo>
                  <a:lnTo>
                    <a:pt x="594" y="3384"/>
                  </a:lnTo>
                  <a:lnTo>
                    <a:pt x="516" y="3357"/>
                  </a:lnTo>
                  <a:lnTo>
                    <a:pt x="442" y="3332"/>
                  </a:lnTo>
                  <a:lnTo>
                    <a:pt x="369" y="3303"/>
                  </a:lnTo>
                  <a:lnTo>
                    <a:pt x="298" y="3277"/>
                  </a:lnTo>
                  <a:lnTo>
                    <a:pt x="229" y="3246"/>
                  </a:lnTo>
                  <a:lnTo>
                    <a:pt x="165" y="3217"/>
                  </a:lnTo>
                  <a:lnTo>
                    <a:pt x="104" y="3186"/>
                  </a:lnTo>
                  <a:lnTo>
                    <a:pt x="64" y="3167"/>
                  </a:lnTo>
                  <a:lnTo>
                    <a:pt x="35" y="3136"/>
                  </a:lnTo>
                  <a:lnTo>
                    <a:pt x="17" y="3091"/>
                  </a:lnTo>
                  <a:lnTo>
                    <a:pt x="9" y="3037"/>
                  </a:lnTo>
                  <a:lnTo>
                    <a:pt x="9" y="2967"/>
                  </a:lnTo>
                  <a:lnTo>
                    <a:pt x="15" y="2891"/>
                  </a:lnTo>
                  <a:lnTo>
                    <a:pt x="31" y="2804"/>
                  </a:lnTo>
                  <a:lnTo>
                    <a:pt x="51" y="2709"/>
                  </a:lnTo>
                  <a:lnTo>
                    <a:pt x="77" y="2606"/>
                  </a:lnTo>
                  <a:lnTo>
                    <a:pt x="110" y="2495"/>
                  </a:lnTo>
                  <a:lnTo>
                    <a:pt x="146" y="2379"/>
                  </a:lnTo>
                  <a:lnTo>
                    <a:pt x="186" y="2255"/>
                  </a:lnTo>
                  <a:lnTo>
                    <a:pt x="227" y="2127"/>
                  </a:lnTo>
                  <a:lnTo>
                    <a:pt x="272" y="1993"/>
                  </a:lnTo>
                  <a:lnTo>
                    <a:pt x="316" y="1859"/>
                  </a:lnTo>
                  <a:lnTo>
                    <a:pt x="362" y="1720"/>
                  </a:lnTo>
                  <a:lnTo>
                    <a:pt x="338" y="1709"/>
                  </a:lnTo>
                  <a:lnTo>
                    <a:pt x="314" y="1698"/>
                  </a:lnTo>
                  <a:lnTo>
                    <a:pt x="287" y="1689"/>
                  </a:lnTo>
                  <a:lnTo>
                    <a:pt x="260" y="1680"/>
                  </a:lnTo>
                  <a:lnTo>
                    <a:pt x="234" y="1671"/>
                  </a:lnTo>
                  <a:lnTo>
                    <a:pt x="205" y="1665"/>
                  </a:lnTo>
                  <a:lnTo>
                    <a:pt x="179" y="1656"/>
                  </a:lnTo>
                  <a:lnTo>
                    <a:pt x="155" y="1649"/>
                  </a:lnTo>
                  <a:lnTo>
                    <a:pt x="128" y="1640"/>
                  </a:lnTo>
                  <a:lnTo>
                    <a:pt x="106" y="1630"/>
                  </a:lnTo>
                  <a:lnTo>
                    <a:pt x="84" y="1621"/>
                  </a:lnTo>
                  <a:lnTo>
                    <a:pt x="62" y="1609"/>
                  </a:lnTo>
                  <a:lnTo>
                    <a:pt x="44" y="1597"/>
                  </a:lnTo>
                  <a:lnTo>
                    <a:pt x="27" y="1581"/>
                  </a:lnTo>
                  <a:lnTo>
                    <a:pt x="13" y="1564"/>
                  </a:lnTo>
                  <a:lnTo>
                    <a:pt x="2" y="1545"/>
                  </a:lnTo>
                  <a:lnTo>
                    <a:pt x="0" y="1461"/>
                  </a:lnTo>
                  <a:lnTo>
                    <a:pt x="15" y="1351"/>
                  </a:lnTo>
                  <a:lnTo>
                    <a:pt x="42" y="1225"/>
                  </a:lnTo>
                  <a:lnTo>
                    <a:pt x="77" y="1093"/>
                  </a:lnTo>
                  <a:lnTo>
                    <a:pt x="115" y="965"/>
                  </a:lnTo>
                  <a:lnTo>
                    <a:pt x="155" y="850"/>
                  </a:lnTo>
                  <a:lnTo>
                    <a:pt x="192" y="761"/>
                  </a:lnTo>
                  <a:lnTo>
                    <a:pt x="223" y="704"/>
                  </a:lnTo>
                  <a:lnTo>
                    <a:pt x="243" y="697"/>
                  </a:lnTo>
                  <a:lnTo>
                    <a:pt x="262" y="691"/>
                  </a:lnTo>
                  <a:lnTo>
                    <a:pt x="283" y="689"/>
                  </a:lnTo>
                  <a:lnTo>
                    <a:pt x="305" y="687"/>
                  </a:lnTo>
                  <a:lnTo>
                    <a:pt x="326" y="689"/>
                  </a:lnTo>
                  <a:lnTo>
                    <a:pt x="351" y="691"/>
                  </a:lnTo>
                  <a:lnTo>
                    <a:pt x="375" y="693"/>
                  </a:lnTo>
                  <a:lnTo>
                    <a:pt x="400" y="699"/>
                  </a:lnTo>
                  <a:lnTo>
                    <a:pt x="423" y="704"/>
                  </a:lnTo>
                  <a:lnTo>
                    <a:pt x="450" y="713"/>
                  </a:lnTo>
                  <a:lnTo>
                    <a:pt x="477" y="720"/>
                  </a:lnTo>
                  <a:lnTo>
                    <a:pt x="503" y="728"/>
                  </a:lnTo>
                  <a:lnTo>
                    <a:pt x="530" y="739"/>
                  </a:lnTo>
                  <a:lnTo>
                    <a:pt x="559" y="749"/>
                  </a:lnTo>
                  <a:lnTo>
                    <a:pt x="588" y="757"/>
                  </a:lnTo>
                  <a:lnTo>
                    <a:pt x="616" y="768"/>
                  </a:lnTo>
                  <a:lnTo>
                    <a:pt x="647" y="671"/>
                  </a:lnTo>
                  <a:lnTo>
                    <a:pt x="678" y="574"/>
                  </a:lnTo>
                  <a:lnTo>
                    <a:pt x="706" y="479"/>
                  </a:lnTo>
                  <a:lnTo>
                    <a:pt x="735" y="384"/>
                  </a:lnTo>
                  <a:lnTo>
                    <a:pt x="759" y="293"/>
                  </a:lnTo>
                  <a:lnTo>
                    <a:pt x="784" y="204"/>
                  </a:lnTo>
                  <a:lnTo>
                    <a:pt x="806" y="121"/>
                  </a:lnTo>
                  <a:lnTo>
                    <a:pt x="825" y="39"/>
                  </a:lnTo>
                  <a:close/>
                </a:path>
              </a:pathLst>
            </a:custGeom>
            <a:solidFill>
              <a:srgbClr val="ffe9b3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7785000" y="1936800"/>
              <a:ext cx="241560" cy="156960"/>
            </a:xfrm>
            <a:custGeom>
              <a:avLst/>
              <a:gdLst/>
              <a:ahLst/>
              <a:rect l="l" t="t" r="r" b="b"/>
              <a:pathLst>
                <a:path w="608" h="399">
                  <a:moveTo>
                    <a:pt x="604" y="399"/>
                  </a:moveTo>
                  <a:lnTo>
                    <a:pt x="608" y="358"/>
                  </a:lnTo>
                  <a:lnTo>
                    <a:pt x="608" y="314"/>
                  </a:lnTo>
                  <a:lnTo>
                    <a:pt x="602" y="267"/>
                  </a:lnTo>
                  <a:lnTo>
                    <a:pt x="592" y="221"/>
                  </a:lnTo>
                  <a:lnTo>
                    <a:pt x="579" y="178"/>
                  </a:lnTo>
                  <a:lnTo>
                    <a:pt x="563" y="139"/>
                  </a:lnTo>
                  <a:lnTo>
                    <a:pt x="546" y="110"/>
                  </a:lnTo>
                  <a:lnTo>
                    <a:pt x="526" y="88"/>
                  </a:lnTo>
                  <a:lnTo>
                    <a:pt x="482" y="57"/>
                  </a:lnTo>
                  <a:lnTo>
                    <a:pt x="438" y="33"/>
                  </a:lnTo>
                  <a:lnTo>
                    <a:pt x="394" y="15"/>
                  </a:lnTo>
                  <a:lnTo>
                    <a:pt x="352" y="4"/>
                  </a:lnTo>
                  <a:lnTo>
                    <a:pt x="312" y="0"/>
                  </a:lnTo>
                  <a:lnTo>
                    <a:pt x="272" y="2"/>
                  </a:lnTo>
                  <a:lnTo>
                    <a:pt x="235" y="9"/>
                  </a:lnTo>
                  <a:lnTo>
                    <a:pt x="198" y="19"/>
                  </a:lnTo>
                  <a:lnTo>
                    <a:pt x="165" y="37"/>
                  </a:lnTo>
                  <a:lnTo>
                    <a:pt x="134" y="57"/>
                  </a:lnTo>
                  <a:lnTo>
                    <a:pt x="105" y="81"/>
                  </a:lnTo>
                  <a:lnTo>
                    <a:pt x="78" y="110"/>
                  </a:lnTo>
                  <a:lnTo>
                    <a:pt x="54" y="141"/>
                  </a:lnTo>
                  <a:lnTo>
                    <a:pt x="31" y="174"/>
                  </a:lnTo>
                  <a:lnTo>
                    <a:pt x="14" y="211"/>
                  </a:lnTo>
                  <a:lnTo>
                    <a:pt x="0" y="249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629480" y="2268360"/>
              <a:ext cx="412920" cy="182880"/>
            </a:xfrm>
            <a:custGeom>
              <a:avLst/>
              <a:gdLst/>
              <a:ahLst/>
              <a:rect l="l" t="t" r="r" b="b"/>
              <a:pathLst>
                <a:path w="1042" h="459">
                  <a:moveTo>
                    <a:pt x="0" y="0"/>
                  </a:moveTo>
                  <a:lnTo>
                    <a:pt x="11" y="49"/>
                  </a:lnTo>
                  <a:lnTo>
                    <a:pt x="23" y="90"/>
                  </a:lnTo>
                  <a:lnTo>
                    <a:pt x="35" y="132"/>
                  </a:lnTo>
                  <a:lnTo>
                    <a:pt x="56" y="179"/>
                  </a:lnTo>
                  <a:lnTo>
                    <a:pt x="62" y="192"/>
                  </a:lnTo>
                  <a:lnTo>
                    <a:pt x="71" y="208"/>
                  </a:lnTo>
                  <a:lnTo>
                    <a:pt x="82" y="225"/>
                  </a:lnTo>
                  <a:lnTo>
                    <a:pt x="95" y="243"/>
                  </a:lnTo>
                  <a:lnTo>
                    <a:pt x="108" y="263"/>
                  </a:lnTo>
                  <a:lnTo>
                    <a:pt x="124" y="282"/>
                  </a:lnTo>
                  <a:lnTo>
                    <a:pt x="142" y="300"/>
                  </a:lnTo>
                  <a:lnTo>
                    <a:pt x="159" y="315"/>
                  </a:lnTo>
                  <a:lnTo>
                    <a:pt x="190" y="338"/>
                  </a:lnTo>
                  <a:lnTo>
                    <a:pt x="223" y="358"/>
                  </a:lnTo>
                  <a:lnTo>
                    <a:pt x="258" y="377"/>
                  </a:lnTo>
                  <a:lnTo>
                    <a:pt x="296" y="393"/>
                  </a:lnTo>
                  <a:lnTo>
                    <a:pt x="336" y="408"/>
                  </a:lnTo>
                  <a:lnTo>
                    <a:pt x="376" y="422"/>
                  </a:lnTo>
                  <a:lnTo>
                    <a:pt x="415" y="435"/>
                  </a:lnTo>
                  <a:lnTo>
                    <a:pt x="458" y="443"/>
                  </a:lnTo>
                  <a:lnTo>
                    <a:pt x="499" y="451"/>
                  </a:lnTo>
                  <a:lnTo>
                    <a:pt x="541" y="455"/>
                  </a:lnTo>
                  <a:lnTo>
                    <a:pt x="583" y="459"/>
                  </a:lnTo>
                  <a:lnTo>
                    <a:pt x="625" y="459"/>
                  </a:lnTo>
                  <a:lnTo>
                    <a:pt x="667" y="457"/>
                  </a:lnTo>
                  <a:lnTo>
                    <a:pt x="707" y="453"/>
                  </a:lnTo>
                  <a:lnTo>
                    <a:pt x="747" y="443"/>
                  </a:lnTo>
                  <a:lnTo>
                    <a:pt x="786" y="435"/>
                  </a:lnTo>
                  <a:lnTo>
                    <a:pt x="792" y="433"/>
                  </a:lnTo>
                  <a:lnTo>
                    <a:pt x="808" y="424"/>
                  </a:lnTo>
                  <a:lnTo>
                    <a:pt x="833" y="408"/>
                  </a:lnTo>
                  <a:lnTo>
                    <a:pt x="866" y="389"/>
                  </a:lnTo>
                  <a:lnTo>
                    <a:pt x="905" y="364"/>
                  </a:lnTo>
                  <a:lnTo>
                    <a:pt x="947" y="333"/>
                  </a:lnTo>
                  <a:lnTo>
                    <a:pt x="994" y="300"/>
                  </a:lnTo>
                  <a:lnTo>
                    <a:pt x="1042" y="263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521480" y="2162160"/>
              <a:ext cx="181080" cy="158760"/>
            </a:xfrm>
            <a:custGeom>
              <a:avLst/>
              <a:gdLst/>
              <a:ahLst/>
              <a:rect l="l" t="t" r="r" b="b"/>
              <a:pathLst>
                <a:path w="456" h="401">
                  <a:moveTo>
                    <a:pt x="456" y="0"/>
                  </a:moveTo>
                  <a:lnTo>
                    <a:pt x="445" y="19"/>
                  </a:lnTo>
                  <a:lnTo>
                    <a:pt x="431" y="44"/>
                  </a:lnTo>
                  <a:lnTo>
                    <a:pt x="416" y="70"/>
                  </a:lnTo>
                  <a:lnTo>
                    <a:pt x="400" y="99"/>
                  </a:lnTo>
                  <a:lnTo>
                    <a:pt x="383" y="130"/>
                  </a:lnTo>
                  <a:lnTo>
                    <a:pt x="363" y="161"/>
                  </a:lnTo>
                  <a:lnTo>
                    <a:pt x="340" y="192"/>
                  </a:lnTo>
                  <a:lnTo>
                    <a:pt x="316" y="225"/>
                  </a:lnTo>
                  <a:lnTo>
                    <a:pt x="288" y="256"/>
                  </a:lnTo>
                  <a:lnTo>
                    <a:pt x="259" y="285"/>
                  </a:lnTo>
                  <a:lnTo>
                    <a:pt x="226" y="313"/>
                  </a:lnTo>
                  <a:lnTo>
                    <a:pt x="188" y="337"/>
                  </a:lnTo>
                  <a:lnTo>
                    <a:pt x="146" y="359"/>
                  </a:lnTo>
                  <a:lnTo>
                    <a:pt x="103" y="380"/>
                  </a:lnTo>
                  <a:lnTo>
                    <a:pt x="54" y="392"/>
                  </a:lnTo>
                  <a:lnTo>
                    <a:pt x="0" y="401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8028000" y="2282760"/>
              <a:ext cx="77760" cy="160560"/>
            </a:xfrm>
            <a:custGeom>
              <a:avLst/>
              <a:gdLst/>
              <a:ahLst/>
              <a:rect l="l" t="t" r="r" b="b"/>
              <a:pathLst>
                <a:path w="194" h="400">
                  <a:moveTo>
                    <a:pt x="0" y="0"/>
                  </a:moveTo>
                  <a:lnTo>
                    <a:pt x="2" y="55"/>
                  </a:lnTo>
                  <a:lnTo>
                    <a:pt x="10" y="113"/>
                  </a:lnTo>
                  <a:lnTo>
                    <a:pt x="24" y="171"/>
                  </a:lnTo>
                  <a:lnTo>
                    <a:pt x="43" y="224"/>
                  </a:lnTo>
                  <a:lnTo>
                    <a:pt x="68" y="276"/>
                  </a:lnTo>
                  <a:lnTo>
                    <a:pt x="103" y="323"/>
                  </a:lnTo>
                  <a:lnTo>
                    <a:pt x="144" y="365"/>
                  </a:lnTo>
                  <a:lnTo>
                    <a:pt x="194" y="40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8070840" y="1765440"/>
              <a:ext cx="20520" cy="137880"/>
            </a:xfrm>
            <a:custGeom>
              <a:avLst/>
              <a:gdLst/>
              <a:ahLst/>
              <a:rect l="l" t="t" r="r" b="b"/>
              <a:pathLst>
                <a:path w="53" h="347">
                  <a:moveTo>
                    <a:pt x="0" y="0"/>
                  </a:moveTo>
                  <a:lnTo>
                    <a:pt x="18" y="79"/>
                  </a:lnTo>
                  <a:lnTo>
                    <a:pt x="31" y="170"/>
                  </a:lnTo>
                  <a:lnTo>
                    <a:pt x="45" y="261"/>
                  </a:lnTo>
                  <a:lnTo>
                    <a:pt x="53" y="347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7842240" y="1724040"/>
              <a:ext cx="74520" cy="90360"/>
            </a:xfrm>
            <a:custGeom>
              <a:avLst/>
              <a:gdLst/>
              <a:ahLst/>
              <a:rect l="l" t="t" r="r" b="b"/>
              <a:pathLst>
                <a:path w="185" h="229">
                  <a:moveTo>
                    <a:pt x="185" y="0"/>
                  </a:moveTo>
                  <a:lnTo>
                    <a:pt x="163" y="27"/>
                  </a:lnTo>
                  <a:lnTo>
                    <a:pt x="141" y="56"/>
                  </a:lnTo>
                  <a:lnTo>
                    <a:pt x="117" y="85"/>
                  </a:lnTo>
                  <a:lnTo>
                    <a:pt x="92" y="114"/>
                  </a:lnTo>
                  <a:lnTo>
                    <a:pt x="68" y="143"/>
                  </a:lnTo>
                  <a:lnTo>
                    <a:pt x="44" y="171"/>
                  </a:lnTo>
                  <a:lnTo>
                    <a:pt x="22" y="200"/>
                  </a:lnTo>
                  <a:lnTo>
                    <a:pt x="0" y="229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7445520" y="1009800"/>
              <a:ext cx="1155600" cy="1006200"/>
            </a:xfrm>
            <a:custGeom>
              <a:avLst/>
              <a:gdLst/>
              <a:ahLst/>
              <a:rect l="l" t="t" r="r" b="b"/>
              <a:pathLst>
                <a:path w="2912" h="2536">
                  <a:moveTo>
                    <a:pt x="1619" y="1023"/>
                  </a:moveTo>
                  <a:lnTo>
                    <a:pt x="1603" y="1060"/>
                  </a:lnTo>
                  <a:lnTo>
                    <a:pt x="1590" y="1098"/>
                  </a:lnTo>
                  <a:lnTo>
                    <a:pt x="1574" y="1135"/>
                  </a:lnTo>
                  <a:lnTo>
                    <a:pt x="1555" y="1168"/>
                  </a:lnTo>
                  <a:lnTo>
                    <a:pt x="1520" y="1204"/>
                  </a:lnTo>
                  <a:lnTo>
                    <a:pt x="1479" y="1240"/>
                  </a:lnTo>
                  <a:lnTo>
                    <a:pt x="1438" y="1275"/>
                  </a:lnTo>
                  <a:lnTo>
                    <a:pt x="1396" y="1308"/>
                  </a:lnTo>
                  <a:lnTo>
                    <a:pt x="1351" y="1339"/>
                  </a:lnTo>
                  <a:lnTo>
                    <a:pt x="1307" y="1370"/>
                  </a:lnTo>
                  <a:lnTo>
                    <a:pt x="1268" y="1399"/>
                  </a:lnTo>
                  <a:lnTo>
                    <a:pt x="1227" y="1427"/>
                  </a:lnTo>
                  <a:lnTo>
                    <a:pt x="1197" y="1447"/>
                  </a:lnTo>
                  <a:lnTo>
                    <a:pt x="1168" y="1458"/>
                  </a:lnTo>
                  <a:lnTo>
                    <a:pt x="1142" y="1465"/>
                  </a:lnTo>
                  <a:lnTo>
                    <a:pt x="1120" y="1463"/>
                  </a:lnTo>
                  <a:lnTo>
                    <a:pt x="1097" y="1456"/>
                  </a:lnTo>
                  <a:lnTo>
                    <a:pt x="1075" y="1442"/>
                  </a:lnTo>
                  <a:lnTo>
                    <a:pt x="1052" y="1425"/>
                  </a:lnTo>
                  <a:lnTo>
                    <a:pt x="1027" y="1401"/>
                  </a:lnTo>
                  <a:lnTo>
                    <a:pt x="992" y="1414"/>
                  </a:lnTo>
                  <a:lnTo>
                    <a:pt x="963" y="1427"/>
                  </a:lnTo>
                  <a:lnTo>
                    <a:pt x="939" y="1440"/>
                  </a:lnTo>
                  <a:lnTo>
                    <a:pt x="916" y="1456"/>
                  </a:lnTo>
                  <a:lnTo>
                    <a:pt x="897" y="1471"/>
                  </a:lnTo>
                  <a:lnTo>
                    <a:pt x="881" y="1489"/>
                  </a:lnTo>
                  <a:lnTo>
                    <a:pt x="866" y="1504"/>
                  </a:lnTo>
                  <a:lnTo>
                    <a:pt x="850" y="1525"/>
                  </a:lnTo>
                  <a:lnTo>
                    <a:pt x="835" y="1542"/>
                  </a:lnTo>
                  <a:lnTo>
                    <a:pt x="819" y="1562"/>
                  </a:lnTo>
                  <a:lnTo>
                    <a:pt x="804" y="1584"/>
                  </a:lnTo>
                  <a:lnTo>
                    <a:pt x="784" y="1603"/>
                  </a:lnTo>
                  <a:lnTo>
                    <a:pt x="762" y="1628"/>
                  </a:lnTo>
                  <a:lnTo>
                    <a:pt x="736" y="1650"/>
                  </a:lnTo>
                  <a:lnTo>
                    <a:pt x="707" y="1675"/>
                  </a:lnTo>
                  <a:lnTo>
                    <a:pt x="672" y="1701"/>
                  </a:lnTo>
                  <a:lnTo>
                    <a:pt x="654" y="1661"/>
                  </a:lnTo>
                  <a:lnTo>
                    <a:pt x="643" y="1617"/>
                  </a:lnTo>
                  <a:lnTo>
                    <a:pt x="631" y="1573"/>
                  </a:lnTo>
                  <a:lnTo>
                    <a:pt x="617" y="1539"/>
                  </a:lnTo>
                  <a:lnTo>
                    <a:pt x="594" y="1575"/>
                  </a:lnTo>
                  <a:lnTo>
                    <a:pt x="574" y="1611"/>
                  </a:lnTo>
                  <a:lnTo>
                    <a:pt x="555" y="1644"/>
                  </a:lnTo>
                  <a:lnTo>
                    <a:pt x="534" y="1675"/>
                  </a:lnTo>
                  <a:lnTo>
                    <a:pt x="515" y="1706"/>
                  </a:lnTo>
                  <a:lnTo>
                    <a:pt x="493" y="1731"/>
                  </a:lnTo>
                  <a:lnTo>
                    <a:pt x="473" y="1760"/>
                  </a:lnTo>
                  <a:lnTo>
                    <a:pt x="451" y="1785"/>
                  </a:lnTo>
                  <a:lnTo>
                    <a:pt x="427" y="1809"/>
                  </a:lnTo>
                  <a:lnTo>
                    <a:pt x="402" y="1834"/>
                  </a:lnTo>
                  <a:lnTo>
                    <a:pt x="376" y="1855"/>
                  </a:lnTo>
                  <a:lnTo>
                    <a:pt x="345" y="1878"/>
                  </a:lnTo>
                  <a:lnTo>
                    <a:pt x="314" y="1898"/>
                  </a:lnTo>
                  <a:lnTo>
                    <a:pt x="279" y="1915"/>
                  </a:lnTo>
                  <a:lnTo>
                    <a:pt x="239" y="1933"/>
                  </a:lnTo>
                  <a:lnTo>
                    <a:pt x="196" y="1950"/>
                  </a:lnTo>
                  <a:lnTo>
                    <a:pt x="204" y="1888"/>
                  </a:lnTo>
                  <a:lnTo>
                    <a:pt x="208" y="1832"/>
                  </a:lnTo>
                  <a:lnTo>
                    <a:pt x="212" y="1774"/>
                  </a:lnTo>
                  <a:lnTo>
                    <a:pt x="219" y="1719"/>
                  </a:lnTo>
                  <a:lnTo>
                    <a:pt x="225" y="1663"/>
                  </a:lnTo>
                  <a:lnTo>
                    <a:pt x="237" y="1606"/>
                  </a:lnTo>
                  <a:lnTo>
                    <a:pt x="250" y="1549"/>
                  </a:lnTo>
                  <a:lnTo>
                    <a:pt x="268" y="1485"/>
                  </a:lnTo>
                  <a:lnTo>
                    <a:pt x="245" y="1482"/>
                  </a:lnTo>
                  <a:lnTo>
                    <a:pt x="219" y="1478"/>
                  </a:lnTo>
                  <a:lnTo>
                    <a:pt x="186" y="1475"/>
                  </a:lnTo>
                  <a:lnTo>
                    <a:pt x="153" y="1469"/>
                  </a:lnTo>
                  <a:lnTo>
                    <a:pt x="118" y="1461"/>
                  </a:lnTo>
                  <a:lnTo>
                    <a:pt x="87" y="1445"/>
                  </a:lnTo>
                  <a:lnTo>
                    <a:pt x="58" y="1425"/>
                  </a:lnTo>
                  <a:lnTo>
                    <a:pt x="33" y="1394"/>
                  </a:lnTo>
                  <a:lnTo>
                    <a:pt x="18" y="1339"/>
                  </a:lnTo>
                  <a:lnTo>
                    <a:pt x="7" y="1281"/>
                  </a:lnTo>
                  <a:lnTo>
                    <a:pt x="2" y="1224"/>
                  </a:lnTo>
                  <a:lnTo>
                    <a:pt x="0" y="1166"/>
                  </a:lnTo>
                  <a:lnTo>
                    <a:pt x="5" y="1112"/>
                  </a:lnTo>
                  <a:lnTo>
                    <a:pt x="18" y="1058"/>
                  </a:lnTo>
                  <a:lnTo>
                    <a:pt x="35" y="1009"/>
                  </a:lnTo>
                  <a:lnTo>
                    <a:pt x="62" y="968"/>
                  </a:lnTo>
                  <a:lnTo>
                    <a:pt x="76" y="959"/>
                  </a:lnTo>
                  <a:lnTo>
                    <a:pt x="93" y="951"/>
                  </a:lnTo>
                  <a:lnTo>
                    <a:pt x="113" y="941"/>
                  </a:lnTo>
                  <a:lnTo>
                    <a:pt x="122" y="930"/>
                  </a:lnTo>
                  <a:lnTo>
                    <a:pt x="146" y="879"/>
                  </a:lnTo>
                  <a:lnTo>
                    <a:pt x="163" y="825"/>
                  </a:lnTo>
                  <a:lnTo>
                    <a:pt x="179" y="767"/>
                  </a:lnTo>
                  <a:lnTo>
                    <a:pt x="192" y="709"/>
                  </a:lnTo>
                  <a:lnTo>
                    <a:pt x="206" y="650"/>
                  </a:lnTo>
                  <a:lnTo>
                    <a:pt x="223" y="592"/>
                  </a:lnTo>
                  <a:lnTo>
                    <a:pt x="245" y="537"/>
                  </a:lnTo>
                  <a:lnTo>
                    <a:pt x="274" y="484"/>
                  </a:lnTo>
                  <a:lnTo>
                    <a:pt x="301" y="449"/>
                  </a:lnTo>
                  <a:lnTo>
                    <a:pt x="330" y="416"/>
                  </a:lnTo>
                  <a:lnTo>
                    <a:pt x="363" y="385"/>
                  </a:lnTo>
                  <a:lnTo>
                    <a:pt x="398" y="356"/>
                  </a:lnTo>
                  <a:lnTo>
                    <a:pt x="435" y="330"/>
                  </a:lnTo>
                  <a:lnTo>
                    <a:pt x="475" y="305"/>
                  </a:lnTo>
                  <a:lnTo>
                    <a:pt x="517" y="283"/>
                  </a:lnTo>
                  <a:lnTo>
                    <a:pt x="561" y="266"/>
                  </a:lnTo>
                  <a:lnTo>
                    <a:pt x="605" y="248"/>
                  </a:lnTo>
                  <a:lnTo>
                    <a:pt x="650" y="235"/>
                  </a:lnTo>
                  <a:lnTo>
                    <a:pt x="693" y="225"/>
                  </a:lnTo>
                  <a:lnTo>
                    <a:pt x="740" y="219"/>
                  </a:lnTo>
                  <a:lnTo>
                    <a:pt x="784" y="214"/>
                  </a:lnTo>
                  <a:lnTo>
                    <a:pt x="829" y="214"/>
                  </a:lnTo>
                  <a:lnTo>
                    <a:pt x="870" y="219"/>
                  </a:lnTo>
                  <a:lnTo>
                    <a:pt x="912" y="225"/>
                  </a:lnTo>
                  <a:lnTo>
                    <a:pt x="916" y="214"/>
                  </a:lnTo>
                  <a:lnTo>
                    <a:pt x="924" y="200"/>
                  </a:lnTo>
                  <a:lnTo>
                    <a:pt x="930" y="181"/>
                  </a:lnTo>
                  <a:lnTo>
                    <a:pt x="941" y="161"/>
                  </a:lnTo>
                  <a:lnTo>
                    <a:pt x="952" y="142"/>
                  </a:lnTo>
                  <a:lnTo>
                    <a:pt x="963" y="126"/>
                  </a:lnTo>
                  <a:lnTo>
                    <a:pt x="974" y="113"/>
                  </a:lnTo>
                  <a:lnTo>
                    <a:pt x="985" y="105"/>
                  </a:lnTo>
                  <a:lnTo>
                    <a:pt x="994" y="105"/>
                  </a:lnTo>
                  <a:lnTo>
                    <a:pt x="1009" y="107"/>
                  </a:lnTo>
                  <a:lnTo>
                    <a:pt x="1029" y="109"/>
                  </a:lnTo>
                  <a:lnTo>
                    <a:pt x="1054" y="113"/>
                  </a:lnTo>
                  <a:lnTo>
                    <a:pt x="1082" y="117"/>
                  </a:lnTo>
                  <a:lnTo>
                    <a:pt x="1111" y="122"/>
                  </a:lnTo>
                  <a:lnTo>
                    <a:pt x="1142" y="128"/>
                  </a:lnTo>
                  <a:lnTo>
                    <a:pt x="1175" y="136"/>
                  </a:lnTo>
                  <a:lnTo>
                    <a:pt x="1206" y="142"/>
                  </a:lnTo>
                  <a:lnTo>
                    <a:pt x="1237" y="146"/>
                  </a:lnTo>
                  <a:lnTo>
                    <a:pt x="1266" y="153"/>
                  </a:lnTo>
                  <a:lnTo>
                    <a:pt x="1291" y="157"/>
                  </a:lnTo>
                  <a:lnTo>
                    <a:pt x="1314" y="159"/>
                  </a:lnTo>
                  <a:lnTo>
                    <a:pt x="1332" y="163"/>
                  </a:lnTo>
                  <a:lnTo>
                    <a:pt x="1345" y="163"/>
                  </a:lnTo>
                  <a:lnTo>
                    <a:pt x="1351" y="163"/>
                  </a:lnTo>
                  <a:lnTo>
                    <a:pt x="1353" y="138"/>
                  </a:lnTo>
                  <a:lnTo>
                    <a:pt x="1355" y="102"/>
                  </a:lnTo>
                  <a:lnTo>
                    <a:pt x="1355" y="56"/>
                  </a:lnTo>
                  <a:lnTo>
                    <a:pt x="1347" y="0"/>
                  </a:lnTo>
                  <a:lnTo>
                    <a:pt x="1376" y="6"/>
                  </a:lnTo>
                  <a:lnTo>
                    <a:pt x="1404" y="18"/>
                  </a:lnTo>
                  <a:lnTo>
                    <a:pt x="1435" y="29"/>
                  </a:lnTo>
                  <a:lnTo>
                    <a:pt x="1466" y="45"/>
                  </a:lnTo>
                  <a:lnTo>
                    <a:pt x="1497" y="60"/>
                  </a:lnTo>
                  <a:lnTo>
                    <a:pt x="1528" y="78"/>
                  </a:lnTo>
                  <a:lnTo>
                    <a:pt x="1559" y="97"/>
                  </a:lnTo>
                  <a:lnTo>
                    <a:pt x="1590" y="117"/>
                  </a:lnTo>
                  <a:lnTo>
                    <a:pt x="1619" y="140"/>
                  </a:lnTo>
                  <a:lnTo>
                    <a:pt x="1648" y="161"/>
                  </a:lnTo>
                  <a:lnTo>
                    <a:pt x="1674" y="186"/>
                  </a:lnTo>
                  <a:lnTo>
                    <a:pt x="1700" y="210"/>
                  </a:lnTo>
                  <a:lnTo>
                    <a:pt x="1722" y="235"/>
                  </a:lnTo>
                  <a:lnTo>
                    <a:pt x="1745" y="259"/>
                  </a:lnTo>
                  <a:lnTo>
                    <a:pt x="1764" y="283"/>
                  </a:lnTo>
                  <a:lnTo>
                    <a:pt x="1780" y="307"/>
                  </a:lnTo>
                  <a:lnTo>
                    <a:pt x="1813" y="297"/>
                  </a:lnTo>
                  <a:lnTo>
                    <a:pt x="1844" y="287"/>
                  </a:lnTo>
                  <a:lnTo>
                    <a:pt x="1877" y="279"/>
                  </a:lnTo>
                  <a:lnTo>
                    <a:pt x="1908" y="270"/>
                  </a:lnTo>
                  <a:lnTo>
                    <a:pt x="1939" y="264"/>
                  </a:lnTo>
                  <a:lnTo>
                    <a:pt x="1967" y="256"/>
                  </a:lnTo>
                  <a:lnTo>
                    <a:pt x="1998" y="252"/>
                  </a:lnTo>
                  <a:lnTo>
                    <a:pt x="2029" y="248"/>
                  </a:lnTo>
                  <a:lnTo>
                    <a:pt x="2060" y="245"/>
                  </a:lnTo>
                  <a:lnTo>
                    <a:pt x="2091" y="245"/>
                  </a:lnTo>
                  <a:lnTo>
                    <a:pt x="2124" y="245"/>
                  </a:lnTo>
                  <a:lnTo>
                    <a:pt x="2155" y="248"/>
                  </a:lnTo>
                  <a:lnTo>
                    <a:pt x="2188" y="252"/>
                  </a:lnTo>
                  <a:lnTo>
                    <a:pt x="2223" y="259"/>
                  </a:lnTo>
                  <a:lnTo>
                    <a:pt x="2259" y="266"/>
                  </a:lnTo>
                  <a:lnTo>
                    <a:pt x="2294" y="276"/>
                  </a:lnTo>
                  <a:lnTo>
                    <a:pt x="2289" y="285"/>
                  </a:lnTo>
                  <a:lnTo>
                    <a:pt x="2283" y="297"/>
                  </a:lnTo>
                  <a:lnTo>
                    <a:pt x="2272" y="305"/>
                  </a:lnTo>
                  <a:lnTo>
                    <a:pt x="2261" y="316"/>
                  </a:lnTo>
                  <a:lnTo>
                    <a:pt x="2248" y="328"/>
                  </a:lnTo>
                  <a:lnTo>
                    <a:pt x="2236" y="338"/>
                  </a:lnTo>
                  <a:lnTo>
                    <a:pt x="2225" y="349"/>
                  </a:lnTo>
                  <a:lnTo>
                    <a:pt x="2217" y="363"/>
                  </a:lnTo>
                  <a:lnTo>
                    <a:pt x="2239" y="367"/>
                  </a:lnTo>
                  <a:lnTo>
                    <a:pt x="2267" y="373"/>
                  </a:lnTo>
                  <a:lnTo>
                    <a:pt x="2300" y="380"/>
                  </a:lnTo>
                  <a:lnTo>
                    <a:pt x="2339" y="387"/>
                  </a:lnTo>
                  <a:lnTo>
                    <a:pt x="2376" y="396"/>
                  </a:lnTo>
                  <a:lnTo>
                    <a:pt x="2413" y="404"/>
                  </a:lnTo>
                  <a:lnTo>
                    <a:pt x="2444" y="416"/>
                  </a:lnTo>
                  <a:lnTo>
                    <a:pt x="2471" y="425"/>
                  </a:lnTo>
                  <a:lnTo>
                    <a:pt x="2519" y="449"/>
                  </a:lnTo>
                  <a:lnTo>
                    <a:pt x="2559" y="471"/>
                  </a:lnTo>
                  <a:lnTo>
                    <a:pt x="2590" y="493"/>
                  </a:lnTo>
                  <a:lnTo>
                    <a:pt x="2614" y="515"/>
                  </a:lnTo>
                  <a:lnTo>
                    <a:pt x="2632" y="544"/>
                  </a:lnTo>
                  <a:lnTo>
                    <a:pt x="2650" y="579"/>
                  </a:lnTo>
                  <a:lnTo>
                    <a:pt x="2667" y="625"/>
                  </a:lnTo>
                  <a:lnTo>
                    <a:pt x="2685" y="683"/>
                  </a:lnTo>
                  <a:lnTo>
                    <a:pt x="2698" y="703"/>
                  </a:lnTo>
                  <a:lnTo>
                    <a:pt x="2720" y="724"/>
                  </a:lnTo>
                  <a:lnTo>
                    <a:pt x="2753" y="751"/>
                  </a:lnTo>
                  <a:lnTo>
                    <a:pt x="2788" y="778"/>
                  </a:lnTo>
                  <a:lnTo>
                    <a:pt x="2824" y="809"/>
                  </a:lnTo>
                  <a:lnTo>
                    <a:pt x="2855" y="842"/>
                  </a:lnTo>
                  <a:lnTo>
                    <a:pt x="2877" y="877"/>
                  </a:lnTo>
                  <a:lnTo>
                    <a:pt x="2888" y="912"/>
                  </a:lnTo>
                  <a:lnTo>
                    <a:pt x="2888" y="947"/>
                  </a:lnTo>
                  <a:lnTo>
                    <a:pt x="2883" y="982"/>
                  </a:lnTo>
                  <a:lnTo>
                    <a:pt x="2877" y="1015"/>
                  </a:lnTo>
                  <a:lnTo>
                    <a:pt x="2865" y="1042"/>
                  </a:lnTo>
                  <a:lnTo>
                    <a:pt x="2855" y="1073"/>
                  </a:lnTo>
                  <a:lnTo>
                    <a:pt x="2842" y="1102"/>
                  </a:lnTo>
                  <a:lnTo>
                    <a:pt x="2830" y="1133"/>
                  </a:lnTo>
                  <a:lnTo>
                    <a:pt x="2822" y="1166"/>
                  </a:lnTo>
                  <a:lnTo>
                    <a:pt x="2834" y="1174"/>
                  </a:lnTo>
                  <a:lnTo>
                    <a:pt x="2850" y="1188"/>
                  </a:lnTo>
                  <a:lnTo>
                    <a:pt x="2861" y="1207"/>
                  </a:lnTo>
                  <a:lnTo>
                    <a:pt x="2868" y="1219"/>
                  </a:lnTo>
                  <a:lnTo>
                    <a:pt x="2896" y="1310"/>
                  </a:lnTo>
                  <a:lnTo>
                    <a:pt x="2912" y="1411"/>
                  </a:lnTo>
                  <a:lnTo>
                    <a:pt x="2912" y="1518"/>
                  </a:lnTo>
                  <a:lnTo>
                    <a:pt x="2904" y="1628"/>
                  </a:lnTo>
                  <a:lnTo>
                    <a:pt x="2885" y="1737"/>
                  </a:lnTo>
                  <a:lnTo>
                    <a:pt x="2857" y="1842"/>
                  </a:lnTo>
                  <a:lnTo>
                    <a:pt x="2824" y="1942"/>
                  </a:lnTo>
                  <a:lnTo>
                    <a:pt x="2784" y="2032"/>
                  </a:lnTo>
                  <a:lnTo>
                    <a:pt x="2770" y="2059"/>
                  </a:lnTo>
                  <a:lnTo>
                    <a:pt x="2762" y="2084"/>
                  </a:lnTo>
                  <a:lnTo>
                    <a:pt x="2751" y="2101"/>
                  </a:lnTo>
                  <a:lnTo>
                    <a:pt x="2745" y="2119"/>
                  </a:lnTo>
                  <a:lnTo>
                    <a:pt x="2733" y="2132"/>
                  </a:lnTo>
                  <a:lnTo>
                    <a:pt x="2724" y="2145"/>
                  </a:lnTo>
                  <a:lnTo>
                    <a:pt x="2712" y="2156"/>
                  </a:lnTo>
                  <a:lnTo>
                    <a:pt x="2696" y="2165"/>
                  </a:lnTo>
                  <a:lnTo>
                    <a:pt x="2685" y="2165"/>
                  </a:lnTo>
                  <a:lnTo>
                    <a:pt x="2671" y="2165"/>
                  </a:lnTo>
                  <a:lnTo>
                    <a:pt x="2658" y="2162"/>
                  </a:lnTo>
                  <a:lnTo>
                    <a:pt x="2645" y="2160"/>
                  </a:lnTo>
                  <a:lnTo>
                    <a:pt x="2632" y="2156"/>
                  </a:lnTo>
                  <a:lnTo>
                    <a:pt x="2619" y="2154"/>
                  </a:lnTo>
                  <a:lnTo>
                    <a:pt x="2607" y="2152"/>
                  </a:lnTo>
                  <a:lnTo>
                    <a:pt x="2597" y="2150"/>
                  </a:lnTo>
                  <a:lnTo>
                    <a:pt x="2561" y="2150"/>
                  </a:lnTo>
                  <a:lnTo>
                    <a:pt x="2528" y="2156"/>
                  </a:lnTo>
                  <a:lnTo>
                    <a:pt x="2497" y="2169"/>
                  </a:lnTo>
                  <a:lnTo>
                    <a:pt x="2469" y="2187"/>
                  </a:lnTo>
                  <a:lnTo>
                    <a:pt x="2442" y="2209"/>
                  </a:lnTo>
                  <a:lnTo>
                    <a:pt x="2417" y="2235"/>
                  </a:lnTo>
                  <a:lnTo>
                    <a:pt x="2393" y="2262"/>
                  </a:lnTo>
                  <a:lnTo>
                    <a:pt x="2372" y="2293"/>
                  </a:lnTo>
                  <a:lnTo>
                    <a:pt x="2351" y="2326"/>
                  </a:lnTo>
                  <a:lnTo>
                    <a:pt x="2331" y="2359"/>
                  </a:lnTo>
                  <a:lnTo>
                    <a:pt x="2312" y="2392"/>
                  </a:lnTo>
                  <a:lnTo>
                    <a:pt x="2292" y="2425"/>
                  </a:lnTo>
                  <a:lnTo>
                    <a:pt x="2272" y="2456"/>
                  </a:lnTo>
                  <a:lnTo>
                    <a:pt x="2252" y="2485"/>
                  </a:lnTo>
                  <a:lnTo>
                    <a:pt x="2232" y="2511"/>
                  </a:lnTo>
                  <a:lnTo>
                    <a:pt x="2211" y="2536"/>
                  </a:lnTo>
                  <a:lnTo>
                    <a:pt x="2201" y="2499"/>
                  </a:lnTo>
                  <a:lnTo>
                    <a:pt x="2192" y="2463"/>
                  </a:lnTo>
                  <a:lnTo>
                    <a:pt x="2186" y="2425"/>
                  </a:lnTo>
                  <a:lnTo>
                    <a:pt x="2184" y="2390"/>
                  </a:lnTo>
                  <a:lnTo>
                    <a:pt x="2192" y="2295"/>
                  </a:lnTo>
                  <a:lnTo>
                    <a:pt x="2197" y="2212"/>
                  </a:lnTo>
                  <a:lnTo>
                    <a:pt x="2197" y="2132"/>
                  </a:lnTo>
                  <a:lnTo>
                    <a:pt x="2192" y="2061"/>
                  </a:lnTo>
                  <a:lnTo>
                    <a:pt x="2180" y="1995"/>
                  </a:lnTo>
                  <a:lnTo>
                    <a:pt x="2157" y="1935"/>
                  </a:lnTo>
                  <a:lnTo>
                    <a:pt x="2128" y="1880"/>
                  </a:lnTo>
                  <a:lnTo>
                    <a:pt x="2087" y="1826"/>
                  </a:lnTo>
                  <a:lnTo>
                    <a:pt x="2060" y="1799"/>
                  </a:lnTo>
                  <a:lnTo>
                    <a:pt x="2034" y="1770"/>
                  </a:lnTo>
                  <a:lnTo>
                    <a:pt x="2007" y="1741"/>
                  </a:lnTo>
                  <a:lnTo>
                    <a:pt x="1982" y="1717"/>
                  </a:lnTo>
                  <a:lnTo>
                    <a:pt x="1957" y="1694"/>
                  </a:lnTo>
                  <a:lnTo>
                    <a:pt x="1928" y="1677"/>
                  </a:lnTo>
                  <a:lnTo>
                    <a:pt x="1899" y="1665"/>
                  </a:lnTo>
                  <a:lnTo>
                    <a:pt x="1868" y="1663"/>
                  </a:lnTo>
                  <a:lnTo>
                    <a:pt x="1844" y="1659"/>
                  </a:lnTo>
                  <a:lnTo>
                    <a:pt x="1817" y="1644"/>
                  </a:lnTo>
                  <a:lnTo>
                    <a:pt x="1795" y="1619"/>
                  </a:lnTo>
                  <a:lnTo>
                    <a:pt x="1776" y="1589"/>
                  </a:lnTo>
                  <a:lnTo>
                    <a:pt x="1762" y="1555"/>
                  </a:lnTo>
                  <a:lnTo>
                    <a:pt x="1753" y="1516"/>
                  </a:lnTo>
                  <a:lnTo>
                    <a:pt x="1753" y="1475"/>
                  </a:lnTo>
                  <a:lnTo>
                    <a:pt x="1762" y="1436"/>
                  </a:lnTo>
                  <a:lnTo>
                    <a:pt x="1747" y="1436"/>
                  </a:lnTo>
                  <a:lnTo>
                    <a:pt x="1735" y="1436"/>
                  </a:lnTo>
                  <a:lnTo>
                    <a:pt x="1722" y="1436"/>
                  </a:lnTo>
                  <a:lnTo>
                    <a:pt x="1712" y="1434"/>
                  </a:lnTo>
                  <a:lnTo>
                    <a:pt x="1698" y="1434"/>
                  </a:lnTo>
                  <a:lnTo>
                    <a:pt x="1683" y="1434"/>
                  </a:lnTo>
                  <a:lnTo>
                    <a:pt x="1663" y="1432"/>
                  </a:lnTo>
                  <a:lnTo>
                    <a:pt x="1640" y="1432"/>
                  </a:lnTo>
                  <a:lnTo>
                    <a:pt x="1623" y="1354"/>
                  </a:lnTo>
                  <a:lnTo>
                    <a:pt x="1607" y="1252"/>
                  </a:lnTo>
                  <a:lnTo>
                    <a:pt x="1603" y="1140"/>
                  </a:lnTo>
                  <a:lnTo>
                    <a:pt x="1619" y="1023"/>
                  </a:lnTo>
                  <a:close/>
                </a:path>
              </a:pathLst>
            </a:custGeom>
            <a:solidFill>
              <a:srgbClr val="f5b14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3" name=""/>
          <p:cNvGrpSpPr/>
          <p:nvPr/>
        </p:nvGrpSpPr>
        <p:grpSpPr>
          <a:xfrm>
            <a:off x="3230640" y="1906560"/>
            <a:ext cx="1030320" cy="2630520"/>
            <a:chOff x="3230640" y="1906560"/>
            <a:chExt cx="1030320" cy="2630520"/>
          </a:xfrm>
        </p:grpSpPr>
        <p:sp>
          <p:nvSpPr>
            <p:cNvPr id="2584" name=""/>
            <p:cNvSpPr/>
            <p:nvPr/>
          </p:nvSpPr>
          <p:spPr>
            <a:xfrm>
              <a:off x="3230640" y="4210200"/>
              <a:ext cx="1030320" cy="326880"/>
            </a:xfrm>
            <a:custGeom>
              <a:avLst/>
              <a:gdLst/>
              <a:ahLst/>
              <a:rect l="l" t="t" r="r" b="b"/>
              <a:pathLst>
                <a:path w="1297" h="413">
                  <a:moveTo>
                    <a:pt x="0" y="413"/>
                  </a:moveTo>
                  <a:lnTo>
                    <a:pt x="49" y="95"/>
                  </a:lnTo>
                  <a:lnTo>
                    <a:pt x="154" y="0"/>
                  </a:lnTo>
                  <a:lnTo>
                    <a:pt x="1107" y="29"/>
                  </a:lnTo>
                  <a:lnTo>
                    <a:pt x="1222" y="85"/>
                  </a:lnTo>
                  <a:lnTo>
                    <a:pt x="1297" y="413"/>
                  </a:lnTo>
                  <a:lnTo>
                    <a:pt x="1154" y="335"/>
                  </a:lnTo>
                  <a:lnTo>
                    <a:pt x="134" y="335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230640" y="4392720"/>
              <a:ext cx="1030320" cy="144360"/>
            </a:xfrm>
            <a:custGeom>
              <a:avLst/>
              <a:gdLst/>
              <a:ahLst/>
              <a:rect l="l" t="t" r="r" b="b"/>
              <a:pathLst>
                <a:path w="1297" h="183">
                  <a:moveTo>
                    <a:pt x="0" y="183"/>
                  </a:moveTo>
                  <a:lnTo>
                    <a:pt x="1297" y="183"/>
                  </a:lnTo>
                  <a:lnTo>
                    <a:pt x="1135" y="0"/>
                  </a:lnTo>
                  <a:lnTo>
                    <a:pt x="144" y="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3346560" y="1906560"/>
              <a:ext cx="160200" cy="2470320"/>
            </a:xfrm>
            <a:custGeom>
              <a:avLst/>
              <a:gdLst/>
              <a:ahLst/>
              <a:rect l="l" t="t" r="r" b="b"/>
              <a:pathLst>
                <a:path w="203" h="3112">
                  <a:moveTo>
                    <a:pt x="0" y="3102"/>
                  </a:moveTo>
                  <a:lnTo>
                    <a:pt x="20" y="3112"/>
                  </a:lnTo>
                  <a:lnTo>
                    <a:pt x="203" y="3112"/>
                  </a:lnTo>
                  <a:lnTo>
                    <a:pt x="203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0" y="310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024440" y="1906560"/>
              <a:ext cx="100080" cy="2470320"/>
            </a:xfrm>
            <a:custGeom>
              <a:avLst/>
              <a:gdLst/>
              <a:ahLst/>
              <a:rect l="l" t="t" r="r" b="b"/>
              <a:pathLst>
                <a:path w="125" h="3112">
                  <a:moveTo>
                    <a:pt x="0" y="3112"/>
                  </a:moveTo>
                  <a:lnTo>
                    <a:pt x="107" y="3112"/>
                  </a:lnTo>
                  <a:lnTo>
                    <a:pt x="125" y="3093"/>
                  </a:lnTo>
                  <a:lnTo>
                    <a:pt x="125" y="30"/>
                  </a:lnTo>
                  <a:lnTo>
                    <a:pt x="107" y="0"/>
                  </a:lnTo>
                  <a:lnTo>
                    <a:pt x="0" y="0"/>
                  </a:lnTo>
                  <a:lnTo>
                    <a:pt x="0" y="311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362400" y="1906560"/>
              <a:ext cx="747720" cy="24703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3384720" y="1906560"/>
              <a:ext cx="693720" cy="1498680"/>
            </a:xfrm>
            <a:custGeom>
              <a:avLst/>
              <a:gdLst/>
              <a:ahLst/>
              <a:rect l="l" t="t" r="r" b="b"/>
              <a:pathLst>
                <a:path w="875" h="1887">
                  <a:moveTo>
                    <a:pt x="0" y="0"/>
                  </a:moveTo>
                  <a:lnTo>
                    <a:pt x="0" y="1848"/>
                  </a:lnTo>
                  <a:lnTo>
                    <a:pt x="49" y="1887"/>
                  </a:lnTo>
                  <a:lnTo>
                    <a:pt x="155" y="1887"/>
                  </a:lnTo>
                  <a:lnTo>
                    <a:pt x="155" y="1782"/>
                  </a:lnTo>
                  <a:lnTo>
                    <a:pt x="183" y="1743"/>
                  </a:lnTo>
                  <a:lnTo>
                    <a:pt x="702" y="1743"/>
                  </a:lnTo>
                  <a:lnTo>
                    <a:pt x="740" y="1782"/>
                  </a:lnTo>
                  <a:lnTo>
                    <a:pt x="740" y="1887"/>
                  </a:lnTo>
                  <a:lnTo>
                    <a:pt x="847" y="1887"/>
                  </a:lnTo>
                  <a:lnTo>
                    <a:pt x="875" y="1858"/>
                  </a:lnTo>
                  <a:lnTo>
                    <a:pt x="87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3971880" y="3427560"/>
              <a:ext cx="1800" cy="9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506760" y="3427560"/>
              <a:ext cx="1800" cy="9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357516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60540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63528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19" h="1321">
                  <a:moveTo>
                    <a:pt x="0" y="1321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366732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369720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372924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3759120" y="3313080"/>
              <a:ext cx="1440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378792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3819600" y="3313080"/>
              <a:ext cx="14400" cy="1047960"/>
            </a:xfrm>
            <a:custGeom>
              <a:avLst/>
              <a:gdLst/>
              <a:ahLst/>
              <a:rect l="l" t="t" r="r" b="b"/>
              <a:pathLst>
                <a:path w="19" h="1321">
                  <a:moveTo>
                    <a:pt x="0" y="1321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384984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3879720" y="3313080"/>
              <a:ext cx="1620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V="1">
              <a:off x="3911760" y="3312720"/>
              <a:ext cx="1440" cy="104796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3414600" y="3032280"/>
              <a:ext cx="625680" cy="182520"/>
            </a:xfrm>
            <a:custGeom>
              <a:avLst/>
              <a:gdLst/>
              <a:ahLst/>
              <a:rect l="l" t="t" r="r" b="b"/>
              <a:pathLst>
                <a:path w="787" h="230">
                  <a:moveTo>
                    <a:pt x="787" y="0"/>
                  </a:moveTo>
                  <a:lnTo>
                    <a:pt x="0" y="0"/>
                  </a:lnTo>
                  <a:lnTo>
                    <a:pt x="0" y="230"/>
                  </a:lnTo>
                  <a:lnTo>
                    <a:pt x="67" y="230"/>
                  </a:lnTo>
                  <a:lnTo>
                    <a:pt x="67" y="40"/>
                  </a:lnTo>
                  <a:lnTo>
                    <a:pt x="740" y="20"/>
                  </a:lnTo>
                  <a:lnTo>
                    <a:pt x="787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3414600" y="3198960"/>
              <a:ext cx="625680" cy="15840"/>
            </a:xfrm>
            <a:custGeom>
              <a:avLst/>
              <a:gdLst/>
              <a:ahLst/>
              <a:rect l="l" t="t" r="r" b="b"/>
              <a:pathLst>
                <a:path w="787" h="19">
                  <a:moveTo>
                    <a:pt x="740" y="0"/>
                  </a:moveTo>
                  <a:lnTo>
                    <a:pt x="67" y="0"/>
                  </a:lnTo>
                  <a:lnTo>
                    <a:pt x="0" y="19"/>
                  </a:lnTo>
                  <a:lnTo>
                    <a:pt x="787" y="19"/>
                  </a:lnTo>
                  <a:lnTo>
                    <a:pt x="740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3460680" y="3054240"/>
              <a:ext cx="549360" cy="138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3865680" y="3068640"/>
              <a:ext cx="114120" cy="1000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3895920" y="3092400"/>
              <a:ext cx="61920" cy="60480"/>
            </a:xfrm>
            <a:custGeom>
              <a:avLst/>
              <a:gdLst/>
              <a:ahLst/>
              <a:rect l="l" t="t" r="r" b="b"/>
              <a:pathLst>
                <a:path w="77" h="75">
                  <a:moveTo>
                    <a:pt x="77" y="37"/>
                  </a:moveTo>
                  <a:lnTo>
                    <a:pt x="75" y="29"/>
                  </a:lnTo>
                  <a:lnTo>
                    <a:pt x="74" y="23"/>
                  </a:lnTo>
                  <a:lnTo>
                    <a:pt x="71" y="16"/>
                  </a:lnTo>
                  <a:lnTo>
                    <a:pt x="64" y="9"/>
                  </a:lnTo>
                  <a:lnTo>
                    <a:pt x="59" y="4"/>
                  </a:lnTo>
                  <a:lnTo>
                    <a:pt x="51" y="1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0" y="4"/>
                  </a:lnTo>
                  <a:lnTo>
                    <a:pt x="13" y="9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1" y="29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3" y="52"/>
                  </a:lnTo>
                  <a:lnTo>
                    <a:pt x="8" y="60"/>
                  </a:lnTo>
                  <a:lnTo>
                    <a:pt x="13" y="65"/>
                  </a:lnTo>
                  <a:lnTo>
                    <a:pt x="20" y="70"/>
                  </a:lnTo>
                  <a:lnTo>
                    <a:pt x="26" y="74"/>
                  </a:lnTo>
                  <a:lnTo>
                    <a:pt x="34" y="75"/>
                  </a:lnTo>
                  <a:lnTo>
                    <a:pt x="43" y="75"/>
                  </a:lnTo>
                  <a:lnTo>
                    <a:pt x="49" y="74"/>
                  </a:lnTo>
                  <a:lnTo>
                    <a:pt x="57" y="72"/>
                  </a:lnTo>
                  <a:lnTo>
                    <a:pt x="64" y="67"/>
                  </a:lnTo>
                  <a:lnTo>
                    <a:pt x="69" y="60"/>
                  </a:lnTo>
                  <a:lnTo>
                    <a:pt x="74" y="54"/>
                  </a:lnTo>
                  <a:lnTo>
                    <a:pt x="75" y="46"/>
                  </a:lnTo>
                  <a:lnTo>
                    <a:pt x="77" y="39"/>
                  </a:lnTo>
                  <a:lnTo>
                    <a:pt x="77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3713040" y="3106800"/>
              <a:ext cx="60480" cy="6192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39"/>
                  </a:moveTo>
                  <a:lnTo>
                    <a:pt x="75" y="31"/>
                  </a:lnTo>
                  <a:lnTo>
                    <a:pt x="74" y="23"/>
                  </a:lnTo>
                  <a:lnTo>
                    <a:pt x="70" y="16"/>
                  </a:lnTo>
                  <a:lnTo>
                    <a:pt x="64" y="9"/>
                  </a:lnTo>
                  <a:lnTo>
                    <a:pt x="59" y="5"/>
                  </a:lnTo>
                  <a:lnTo>
                    <a:pt x="51" y="1"/>
                  </a:lnTo>
                  <a:lnTo>
                    <a:pt x="42" y="1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19" y="5"/>
                  </a:lnTo>
                  <a:lnTo>
                    <a:pt x="13" y="9"/>
                  </a:lnTo>
                  <a:lnTo>
                    <a:pt x="8" y="16"/>
                  </a:lnTo>
                  <a:lnTo>
                    <a:pt x="4" y="23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3" y="54"/>
                  </a:lnTo>
                  <a:lnTo>
                    <a:pt x="6" y="60"/>
                  </a:lnTo>
                  <a:lnTo>
                    <a:pt x="13" y="67"/>
                  </a:lnTo>
                  <a:lnTo>
                    <a:pt x="19" y="72"/>
                  </a:lnTo>
                  <a:lnTo>
                    <a:pt x="26" y="75"/>
                  </a:lnTo>
                  <a:lnTo>
                    <a:pt x="34" y="77"/>
                  </a:lnTo>
                  <a:lnTo>
                    <a:pt x="42" y="77"/>
                  </a:lnTo>
                  <a:lnTo>
                    <a:pt x="49" y="75"/>
                  </a:lnTo>
                  <a:lnTo>
                    <a:pt x="57" y="72"/>
                  </a:lnTo>
                  <a:lnTo>
                    <a:pt x="64" y="67"/>
                  </a:lnTo>
                  <a:lnTo>
                    <a:pt x="69" y="62"/>
                  </a:lnTo>
                  <a:lnTo>
                    <a:pt x="74" y="56"/>
                  </a:lnTo>
                  <a:lnTo>
                    <a:pt x="75" y="47"/>
                  </a:lnTo>
                  <a:lnTo>
                    <a:pt x="77" y="39"/>
                  </a:lnTo>
                  <a:lnTo>
                    <a:pt x="77" y="3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622680" y="3106800"/>
              <a:ext cx="60480" cy="6192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39"/>
                  </a:moveTo>
                  <a:lnTo>
                    <a:pt x="76" y="31"/>
                  </a:lnTo>
                  <a:lnTo>
                    <a:pt x="72" y="23"/>
                  </a:lnTo>
                  <a:lnTo>
                    <a:pt x="69" y="16"/>
                  </a:lnTo>
                  <a:lnTo>
                    <a:pt x="64" y="9"/>
                  </a:lnTo>
                  <a:lnTo>
                    <a:pt x="58" y="5"/>
                  </a:lnTo>
                  <a:lnTo>
                    <a:pt x="49" y="1"/>
                  </a:lnTo>
                  <a:lnTo>
                    <a:pt x="43" y="1"/>
                  </a:lnTo>
                  <a:lnTo>
                    <a:pt x="35" y="0"/>
                  </a:lnTo>
                  <a:lnTo>
                    <a:pt x="26" y="1"/>
                  </a:lnTo>
                  <a:lnTo>
                    <a:pt x="18" y="5"/>
                  </a:lnTo>
                  <a:lnTo>
                    <a:pt x="13" y="9"/>
                  </a:lnTo>
                  <a:lnTo>
                    <a:pt x="7" y="16"/>
                  </a:lnTo>
                  <a:lnTo>
                    <a:pt x="3" y="23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3" y="54"/>
                  </a:lnTo>
                  <a:lnTo>
                    <a:pt x="7" y="60"/>
                  </a:lnTo>
                  <a:lnTo>
                    <a:pt x="12" y="67"/>
                  </a:lnTo>
                  <a:lnTo>
                    <a:pt x="18" y="72"/>
                  </a:lnTo>
                  <a:lnTo>
                    <a:pt x="26" y="75"/>
                  </a:lnTo>
                  <a:lnTo>
                    <a:pt x="33" y="77"/>
                  </a:lnTo>
                  <a:lnTo>
                    <a:pt x="41" y="77"/>
                  </a:lnTo>
                  <a:lnTo>
                    <a:pt x="49" y="75"/>
                  </a:lnTo>
                  <a:lnTo>
                    <a:pt x="56" y="72"/>
                  </a:lnTo>
                  <a:lnTo>
                    <a:pt x="63" y="67"/>
                  </a:lnTo>
                  <a:lnTo>
                    <a:pt x="69" y="62"/>
                  </a:lnTo>
                  <a:lnTo>
                    <a:pt x="72" y="56"/>
                  </a:lnTo>
                  <a:lnTo>
                    <a:pt x="76" y="47"/>
                  </a:lnTo>
                  <a:lnTo>
                    <a:pt x="76" y="39"/>
                  </a:lnTo>
                  <a:lnTo>
                    <a:pt x="76" y="3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3468600" y="2855880"/>
              <a:ext cx="106560" cy="1080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3468600" y="2855880"/>
              <a:ext cx="106560" cy="1080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0"/>
                  </a:moveTo>
                  <a:lnTo>
                    <a:pt x="0" y="0"/>
                  </a:lnTo>
                  <a:lnTo>
                    <a:pt x="0" y="1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406680" y="1944720"/>
              <a:ext cx="649440" cy="82224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 flipV="1">
              <a:off x="3406680" y="1944720"/>
              <a:ext cx="1800" cy="82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 flipH="1">
              <a:off x="3406680" y="2666880"/>
              <a:ext cx="649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 flipH="1">
              <a:off x="3406680" y="2492280"/>
              <a:ext cx="649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406680" y="1974960"/>
              <a:ext cx="649440" cy="298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056120" y="1944720"/>
              <a:ext cx="1440" cy="82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 flipH="1">
              <a:off x="3406680" y="1944720"/>
              <a:ext cx="649440" cy="144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3406680" y="2004840"/>
              <a:ext cx="649440" cy="3193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506760" y="2355840"/>
              <a:ext cx="442800" cy="1047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3544920" y="2004840"/>
              <a:ext cx="351000" cy="84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537000" y="2165400"/>
              <a:ext cx="244440" cy="128520"/>
            </a:xfrm>
            <a:custGeom>
              <a:avLst/>
              <a:gdLst/>
              <a:ahLst/>
              <a:rect l="l" t="t" r="r" b="b"/>
              <a:pathLst>
                <a:path w="308" h="162">
                  <a:moveTo>
                    <a:pt x="308" y="0"/>
                  </a:moveTo>
                  <a:lnTo>
                    <a:pt x="0" y="0"/>
                  </a:lnTo>
                  <a:lnTo>
                    <a:pt x="0" y="16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537000" y="2165400"/>
              <a:ext cx="244440" cy="128520"/>
            </a:xfrm>
            <a:custGeom>
              <a:avLst/>
              <a:gdLst/>
              <a:ahLst/>
              <a:rect l="l" t="t" r="r" b="b"/>
              <a:pathLst>
                <a:path w="308" h="162">
                  <a:moveTo>
                    <a:pt x="0" y="162"/>
                  </a:moveTo>
                  <a:lnTo>
                    <a:pt x="308" y="162"/>
                  </a:lnTo>
                  <a:lnTo>
                    <a:pt x="308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429000" y="2203560"/>
              <a:ext cx="581040" cy="36360"/>
            </a:xfrm>
            <a:custGeom>
              <a:avLst/>
              <a:gdLst/>
              <a:ahLst/>
              <a:rect l="l" t="t" r="r" b="b"/>
              <a:pathLst>
                <a:path w="732" h="48">
                  <a:moveTo>
                    <a:pt x="0" y="48"/>
                  </a:moveTo>
                  <a:lnTo>
                    <a:pt x="134" y="48"/>
                  </a:lnTo>
                  <a:lnTo>
                    <a:pt x="134" y="40"/>
                  </a:lnTo>
                  <a:lnTo>
                    <a:pt x="442" y="40"/>
                  </a:lnTo>
                  <a:lnTo>
                    <a:pt x="442" y="48"/>
                  </a:lnTo>
                  <a:lnTo>
                    <a:pt x="732" y="48"/>
                  </a:lnTo>
                  <a:lnTo>
                    <a:pt x="732" y="0"/>
                  </a:lnTo>
                  <a:lnTo>
                    <a:pt x="452" y="0"/>
                  </a:lnTo>
                  <a:lnTo>
                    <a:pt x="452" y="10"/>
                  </a:lnTo>
                  <a:lnTo>
                    <a:pt x="134" y="10"/>
                  </a:lnTo>
                  <a:lnTo>
                    <a:pt x="134" y="0"/>
                  </a:lnTo>
                  <a:lnTo>
                    <a:pt x="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681360" y="2173320"/>
              <a:ext cx="31680" cy="112680"/>
            </a:xfrm>
            <a:custGeom>
              <a:avLst/>
              <a:gdLst/>
              <a:ahLst/>
              <a:rect l="l" t="t" r="r" b="b"/>
              <a:pathLst>
                <a:path w="40" h="143">
                  <a:moveTo>
                    <a:pt x="0" y="143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40" y="10"/>
                  </a:lnTo>
                  <a:lnTo>
                    <a:pt x="20" y="10"/>
                  </a:lnTo>
                  <a:lnTo>
                    <a:pt x="1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575160" y="2181240"/>
              <a:ext cx="98280" cy="15840"/>
            </a:xfrm>
            <a:custGeom>
              <a:avLst/>
              <a:gdLst/>
              <a:ahLst/>
              <a:rect l="l" t="t" r="r" b="b"/>
              <a:pathLst>
                <a:path w="123" h="20">
                  <a:moveTo>
                    <a:pt x="0" y="20"/>
                  </a:moveTo>
                  <a:lnTo>
                    <a:pt x="0" y="0"/>
                  </a:lnTo>
                  <a:lnTo>
                    <a:pt x="12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436920" y="2089080"/>
              <a:ext cx="46080" cy="381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3406680" y="2149560"/>
              <a:ext cx="649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537000" y="2378160"/>
              <a:ext cx="374760" cy="60120"/>
            </a:xfrm>
            <a:custGeom>
              <a:avLst/>
              <a:gdLst/>
              <a:ahLst/>
              <a:rect l="l" t="t" r="r" b="b"/>
              <a:pathLst>
                <a:path w="473" h="77">
                  <a:moveTo>
                    <a:pt x="0" y="0"/>
                  </a:moveTo>
                  <a:lnTo>
                    <a:pt x="0" y="29"/>
                  </a:lnTo>
                  <a:lnTo>
                    <a:pt x="145" y="29"/>
                  </a:lnTo>
                  <a:lnTo>
                    <a:pt x="145" y="77"/>
                  </a:lnTo>
                  <a:lnTo>
                    <a:pt x="338" y="77"/>
                  </a:lnTo>
                  <a:lnTo>
                    <a:pt x="338" y="29"/>
                  </a:lnTo>
                  <a:lnTo>
                    <a:pt x="473" y="29"/>
                  </a:lnTo>
                  <a:lnTo>
                    <a:pt x="47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651120" y="2371680"/>
              <a:ext cx="1526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 flipH="1">
              <a:off x="3597480" y="2424240"/>
              <a:ext cx="15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857760" y="2416320"/>
              <a:ext cx="54000" cy="219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927600" y="2165400"/>
              <a:ext cx="14040" cy="223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4"/>
                  </a:moveTo>
                  <a:lnTo>
                    <a:pt x="18" y="8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5" y="26"/>
                  </a:lnTo>
                  <a:lnTo>
                    <a:pt x="9" y="27"/>
                  </a:lnTo>
                  <a:lnTo>
                    <a:pt x="13" y="27"/>
                  </a:lnTo>
                  <a:lnTo>
                    <a:pt x="15" y="24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5" name=""/>
          <p:cNvSpPr/>
          <p:nvPr/>
        </p:nvSpPr>
        <p:spPr>
          <a:xfrm>
            <a:off x="5304960" y="1980000"/>
            <a:ext cx="10630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5384880" y="2665800"/>
            <a:ext cx="82224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5490360" y="3351600"/>
            <a:ext cx="7020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44956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 flipH="1">
            <a:off x="4495320" y="31240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4495680" y="38098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 flipH="1">
            <a:off x="4495320" y="448776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5192280" y="4013640"/>
            <a:ext cx="12232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44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3232800" y="4575600"/>
            <a:ext cx="1337400" cy="398880"/>
          </a:xfrm>
          <a:prstGeom prst="borderCallout1">
            <a:avLst>
              <a:gd name="adj1" fmla="val 18750"/>
              <a:gd name="adj2" fmla="val -8333"/>
              <a:gd name="adj3" fmla="val -55453"/>
              <a:gd name="adj4" fmla="val 13511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758880" y="258984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o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700560" y="335196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231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186920" y="5485320"/>
            <a:ext cx="12232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44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914400" y="4343400"/>
            <a:ext cx="1676520" cy="609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-Way fu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1089000" y="29034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1219320" y="3657600"/>
            <a:ext cx="4572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 flipH="1">
            <a:off x="1904760" y="3505320"/>
            <a:ext cx="53316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1752480" y="49528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1143000" y="1066680"/>
            <a:ext cx="2819520" cy="1600200"/>
          </a:xfrm>
          <a:prstGeom prst="cloudCallout">
            <a:avLst>
              <a:gd name="adj1" fmla="val 37333"/>
              <a:gd name="adj2" fmla="val 48115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: 231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ary: 22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3447000" y="3002400"/>
            <a:ext cx="1374120" cy="398880"/>
          </a:xfrm>
          <a:prstGeom prst="borderCallout1">
            <a:avLst>
              <a:gd name="adj1" fmla="val 18750"/>
              <a:gd name="adj2" fmla="val -8333"/>
              <a:gd name="adj3" fmla="val 129935"/>
              <a:gd name="adj4" fmla="val 14206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2129400" y="3199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5" name=""/>
          <p:cNvGrpSpPr/>
          <p:nvPr/>
        </p:nvGrpSpPr>
        <p:grpSpPr>
          <a:xfrm>
            <a:off x="7238880" y="3200400"/>
            <a:ext cx="1447920" cy="914400"/>
            <a:chOff x="7238880" y="3200400"/>
            <a:chExt cx="1447920" cy="914400"/>
          </a:xfrm>
        </p:grpSpPr>
        <p:sp>
          <p:nvSpPr>
            <p:cNvPr id="2656" name=""/>
            <p:cNvSpPr/>
            <p:nvPr/>
          </p:nvSpPr>
          <p:spPr>
            <a:xfrm>
              <a:off x="7238880" y="3200400"/>
              <a:ext cx="1447920" cy="914400"/>
            </a:xfrm>
            <a:prstGeom prst="roundRect">
              <a:avLst>
                <a:gd name="adj" fmla="val 16667"/>
              </a:avLst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354800" y="3396240"/>
              <a:ext cx="405000" cy="326520"/>
            </a:xfrm>
            <a:prstGeom prst="ellipse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8" name=""/>
          <p:cNvSpPr/>
          <p:nvPr/>
        </p:nvSpPr>
        <p:spPr>
          <a:xfrm>
            <a:off x="6781680" y="4191120"/>
            <a:ext cx="1752840" cy="1371600"/>
          </a:xfrm>
          <a:prstGeom prst="cloudCallout">
            <a:avLst>
              <a:gd name="adj1" fmla="val -13856"/>
              <a:gd name="adj2" fmla="val -82638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31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2" dur="indefinite" restart="never" nodeType="tmRoot">
          <p:childTnLst>
            <p:seq>
              <p:cTn id="3703" dur="indefinite" nodeType="mainSeq">
                <p:childTnLst>
                  <p:par>
                    <p:cTn id="3704" fill="hold">
                      <p:stCondLst>
                        <p:cond delay="indefinite"/>
                      </p:stCondLst>
                      <p:childTnLst>
                        <p:par>
                          <p:cTn id="3705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8" dur="500"/>
                                        <p:tgtEl>
                                          <p:spTgt spid="2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3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4" fill="hold">
                            <p:stCondLst>
                              <p:cond delay="500"/>
                            </p:stCondLst>
                            <p:childTnLst>
                              <p:par>
                                <p:cTn id="371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7" dur="500" fill="hold"/>
                                        <p:tgtEl>
                                          <p:spTgt spid="2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8" dur="500" fill="hold"/>
                                        <p:tgtEl>
                                          <p:spTgt spid="2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2" dur="500"/>
                                        <p:tgtEl>
                                          <p:spTgt spid="2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3" fill="hold">
                      <p:stCondLst>
                        <p:cond delay="indefinite"/>
                      </p:stCondLst>
                      <p:childTnLst>
                        <p:par>
                          <p:cTn id="3724" fill="hold">
                            <p:stCondLst>
                              <p:cond delay="0"/>
                            </p:stCondLst>
                            <p:childTnLst>
                              <p:par>
                                <p:cTn id="37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7" dur="500"/>
                                        <p:tgtEl>
                                          <p:spTgt spid="2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8" fill="hold">
                      <p:stCondLst>
                        <p:cond delay="indefinite"/>
                      </p:stCondLst>
                      <p:childTnLst>
                        <p:par>
                          <p:cTn id="3729" fill="hold">
                            <p:stCondLst>
                              <p:cond delay="0"/>
                            </p:stCondLst>
                            <p:childTnLst>
                              <p:par>
                                <p:cTn id="3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2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3" fill="hold">
                            <p:stCondLst>
                              <p:cond delay="500"/>
                            </p:stCondLst>
                            <p:childTnLst>
                              <p:par>
                                <p:cTn id="37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36" dur="500"/>
                                        <p:tgtEl>
                                          <p:spTgt spid="2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7" fill="hold">
                      <p:stCondLst>
                        <p:cond delay="indefinite"/>
                      </p:stCondLst>
                      <p:childTnLst>
                        <p:par>
                          <p:cTn id="3738" fill="hold">
                            <p:stCondLst>
                              <p:cond delay="0"/>
                            </p:stCondLst>
                            <p:childTnLst>
                              <p:par>
                                <p:cTn id="37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1" dur="500"/>
                                        <p:tgtEl>
                                          <p:spTgt spid="2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2" fill="hold">
                            <p:stCondLst>
                              <p:cond delay="500"/>
                            </p:stCondLst>
                            <p:childTnLst>
                              <p:par>
                                <p:cTn id="374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45" dur="500"/>
                                        <p:tgtEl>
                                          <p:spTgt spid="2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fill="hold">
                      <p:stCondLst>
                        <p:cond delay="indefinite"/>
                      </p:stCondLst>
                      <p:childTnLst>
                        <p:par>
                          <p:cTn id="3747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0" dur="500"/>
                                        <p:tgtEl>
                                          <p:spTgt spid="2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1" fill="hold">
                            <p:stCondLst>
                              <p:cond delay="500"/>
                            </p:stCondLst>
                            <p:childTnLst>
                              <p:par>
                                <p:cTn id="37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54" dur="500"/>
                                        <p:tgtEl>
                                          <p:spTgt spid="2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8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9" fill="hold">
                      <p:stCondLst>
                        <p:cond delay="indefinite"/>
                      </p:stCondLst>
                      <p:childTnLst>
                        <p:par>
                          <p:cTn id="3760" fill="hold">
                            <p:stCondLst>
                              <p:cond delay="0"/>
                            </p:stCondLst>
                            <p:childTnLst>
                              <p:par>
                                <p:cTn id="37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63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4" fill="hold">
                            <p:stCondLst>
                              <p:cond delay="500"/>
                            </p:stCondLst>
                            <p:childTnLst>
                              <p:par>
                                <p:cTn id="376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67" dur="500"/>
                                        <p:tgtEl>
                                          <p:spTgt spid="2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1" dur="500"/>
                                        <p:tgtEl>
                                          <p:spTgt spid="2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2" fill="hold">
                      <p:stCondLst>
                        <p:cond delay="indefinite"/>
                      </p:stCondLst>
                      <p:childTnLst>
                        <p:par>
                          <p:cTn id="3773" fill="hold">
                            <p:stCondLst>
                              <p:cond delay="0"/>
                            </p:stCondLst>
                            <p:childTnLst>
                              <p:par>
                                <p:cTn id="3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6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0" dur="500"/>
                                        <p:tgtEl>
                                          <p:spTgt spid="2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4" dur="5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8" dur="5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9" fill="hold">
                      <p:stCondLst>
                        <p:cond delay="indefinite"/>
                      </p:stCondLst>
                      <p:childTnLst>
                        <p:par>
                          <p:cTn id="3790" fill="hold">
                            <p:stCondLst>
                              <p:cond delay="0"/>
                            </p:stCondLst>
                            <p:childTnLst>
                              <p:par>
                                <p:cTn id="37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3" dur="500"/>
                                        <p:tgtEl>
                                          <p:spTgt spid="2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4" fill="hold">
                            <p:stCondLst>
                              <p:cond delay="500"/>
                            </p:stCondLst>
                            <p:childTnLst>
                              <p:par>
                                <p:cTn id="3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7" dur="5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1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5" dur="500"/>
                                        <p:tgtEl>
                                          <p:spTgt spid="2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9" dur="500"/>
                                        <p:tgtEl>
                                          <p:spTgt spid="2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uring Syste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n the system periodically for ho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y to guess pass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uthorized privileged programs (setuid pro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expected long-running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t lo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, user, and type of all accesses to an ob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ful for recovery from a vio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irewa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ru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0" dur="indefinite" restart="never" nodeType="tmRoot">
          <p:childTnLst>
            <p:seq>
              <p:cTn id="3811" dur="indefinite" nodeType="mainSeq">
                <p:childTnLst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16" dur="500"/>
                                        <p:tgtEl>
                                          <p:spTgt spid="2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7" fill="hold">
                            <p:stCondLst>
                              <p:cond delay="500"/>
                            </p:stCondLst>
                            <p:childTnLst>
                              <p:par>
                                <p:cTn id="38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0" dur="500"/>
                                        <p:tgtEl>
                                          <p:spTgt spid="2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4" dur="500"/>
                                        <p:tgtEl>
                                          <p:spTgt spid="2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8" dur="500"/>
                                        <p:tgtEl>
                                          <p:spTgt spid="2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1" dur="500"/>
                                        <p:tgtEl>
                                          <p:spTgt spid="2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2" fill="hold">
                      <p:stCondLst>
                        <p:cond delay="indefinite"/>
                      </p:stCondLst>
                      <p:childTnLst>
                        <p:par>
                          <p:cTn id="3833" fill="hold">
                            <p:stCondLst>
                              <p:cond delay="0"/>
                            </p:stCondLst>
                            <p:childTnLst>
                              <p:par>
                                <p:cTn id="38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6" dur="500"/>
                                        <p:tgtEl>
                                          <p:spTgt spid="2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0" dur="500"/>
                                        <p:tgtEl>
                                          <p:spTgt spid="2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4" dur="500"/>
                                        <p:tgtEl>
                                          <p:spTgt spid="26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5" fill="hold">
                      <p:stCondLst>
                        <p:cond delay="indefinite"/>
                      </p:stCondLst>
                      <p:childTnLst>
                        <p:par>
                          <p:cTn id="3846" fill="hold">
                            <p:stCondLst>
                              <p:cond delay="0"/>
                            </p:stCondLst>
                            <p:childTnLst>
                              <p:par>
                                <p:cTn id="38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9" dur="500"/>
                                        <p:tgtEl>
                                          <p:spTgt spid="26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4" dur="500"/>
                                        <p:tgtEl>
                                          <p:spTgt spid="26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5" fill="hold">
                      <p:stCondLst>
                        <p:cond delay="indefinite"/>
                      </p:stCondLst>
                      <p:childTnLst>
                        <p:par>
                          <p:cTn id="3856" fill="hold">
                            <p:stCondLst>
                              <p:cond delay="0"/>
                            </p:stCondLst>
                            <p:childTnLst>
                              <p:par>
                                <p:cTn id="38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9" dur="500"/>
                                        <p:tgtEl>
                                          <p:spTgt spid="26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"/>
          <p:cNvSpPr/>
          <p:nvPr/>
        </p:nvSpPr>
        <p:spPr>
          <a:xfrm>
            <a:off x="304920" y="2876400"/>
            <a:ext cx="3041640" cy="2044080"/>
          </a:xfrm>
          <a:prstGeom prst="irregularSeal2">
            <a:avLst/>
          </a:prstGeom>
          <a:solidFill>
            <a:srgbClr val="ff9999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 flipH="1">
            <a:off x="2438280" y="3809880"/>
            <a:ext cx="3810240" cy="0"/>
          </a:xfrm>
          <a:prstGeom prst="line">
            <a:avLst/>
          </a:prstGeom>
          <a:ln w="76320">
            <a:solidFill>
              <a:srgbClr val="00ae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rewal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e trusted and untru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5" name=""/>
          <p:cNvSpPr/>
          <p:nvPr/>
        </p:nvSpPr>
        <p:spPr>
          <a:xfrm>
            <a:off x="5715000" y="3329280"/>
            <a:ext cx="3041640" cy="1138320"/>
          </a:xfrm>
          <a:prstGeom prst="irregularSeal2">
            <a:avLst/>
          </a:prstGeom>
          <a:solidFill>
            <a:srgbClr val="99ff99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3051000" y="5005800"/>
            <a:ext cx="3042000" cy="1138320"/>
          </a:xfrm>
          <a:prstGeom prst="irregularSeal2">
            <a:avLst/>
          </a:prstGeom>
          <a:solidFill>
            <a:srgbClr val="11f2ed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DM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3838680" y="3422520"/>
            <a:ext cx="1447560" cy="9972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e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2362320" y="4191120"/>
            <a:ext cx="25146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9" name=""/>
          <p:cNvGrpSpPr/>
          <p:nvPr/>
        </p:nvGrpSpPr>
        <p:grpSpPr>
          <a:xfrm>
            <a:off x="4876920" y="3886200"/>
            <a:ext cx="533160" cy="1066320"/>
            <a:chOff x="4876920" y="3886200"/>
            <a:chExt cx="533160" cy="1066320"/>
          </a:xfrm>
        </p:grpSpPr>
        <p:sp>
          <p:nvSpPr>
            <p:cNvPr id="2670" name=""/>
            <p:cNvSpPr/>
            <p:nvPr/>
          </p:nvSpPr>
          <p:spPr>
            <a:xfrm>
              <a:off x="5105880" y="4330440"/>
              <a:ext cx="75600" cy="62208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1" name=""/>
            <p:cNvGrpSpPr/>
            <p:nvPr/>
          </p:nvGrpSpPr>
          <p:grpSpPr>
            <a:xfrm>
              <a:off x="4876920" y="3886200"/>
              <a:ext cx="533160" cy="488880"/>
              <a:chOff x="4876920" y="3886200"/>
              <a:chExt cx="533160" cy="488880"/>
            </a:xfrm>
          </p:grpSpPr>
          <p:sp>
            <p:nvSpPr>
              <p:cNvPr id="2672" name=""/>
              <p:cNvSpPr/>
              <p:nvPr/>
            </p:nvSpPr>
            <p:spPr>
              <a:xfrm>
                <a:off x="4876920" y="3886200"/>
                <a:ext cx="533160" cy="488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4973760" y="4086000"/>
                <a:ext cx="339480" cy="88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4" name=""/>
          <p:cNvSpPr/>
          <p:nvPr/>
        </p:nvSpPr>
        <p:spPr>
          <a:xfrm>
            <a:off x="4267080" y="2133720"/>
            <a:ext cx="3962520" cy="1447560"/>
          </a:xfrm>
          <a:prstGeom prst="cloudCallout">
            <a:avLst>
              <a:gd name="adj1" fmla="val -43148"/>
              <a:gd name="adj2" fmla="val 69958"/>
            </a:avLst>
          </a:prstGeom>
          <a:solidFill>
            <a:srgbClr val="cecece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ternet : 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ne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N:  HAL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ne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MZ:  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5" name=""/>
          <p:cNvGrpSpPr/>
          <p:nvPr/>
        </p:nvGrpSpPr>
        <p:grpSpPr>
          <a:xfrm>
            <a:off x="2438280" y="4038480"/>
            <a:ext cx="1524240" cy="1295640"/>
            <a:chOff x="2438280" y="4038480"/>
            <a:chExt cx="1524240" cy="1295640"/>
          </a:xfrm>
        </p:grpSpPr>
        <p:sp>
          <p:nvSpPr>
            <p:cNvPr id="2676" name=""/>
            <p:cNvSpPr/>
            <p:nvPr/>
          </p:nvSpPr>
          <p:spPr>
            <a:xfrm>
              <a:off x="2438280" y="4038480"/>
              <a:ext cx="1524240" cy="0"/>
            </a:xfrm>
            <a:prstGeom prst="line">
              <a:avLst/>
            </a:prstGeom>
            <a:ln w="76320">
              <a:solidFill>
                <a:srgbClr val="00279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962520" y="4038480"/>
              <a:ext cx="0" cy="1295640"/>
            </a:xfrm>
            <a:prstGeom prst="line">
              <a:avLst/>
            </a:prstGeom>
            <a:ln w="76320">
              <a:solidFill>
                <a:srgbClr val="00279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8" name=""/>
          <p:cNvGrpSpPr/>
          <p:nvPr/>
        </p:nvGrpSpPr>
        <p:grpSpPr>
          <a:xfrm>
            <a:off x="2819520" y="4952880"/>
            <a:ext cx="457200" cy="1121040"/>
            <a:chOff x="2819520" y="4952880"/>
            <a:chExt cx="457200" cy="1121040"/>
          </a:xfrm>
        </p:grpSpPr>
        <p:sp>
          <p:nvSpPr>
            <p:cNvPr id="2679" name=""/>
            <p:cNvSpPr/>
            <p:nvPr/>
          </p:nvSpPr>
          <p:spPr>
            <a:xfrm>
              <a:off x="2819520" y="5934240"/>
              <a:ext cx="457200" cy="139680"/>
            </a:xfrm>
            <a:custGeom>
              <a:avLst/>
              <a:gdLst/>
              <a:ahLst/>
              <a:rect l="l" t="t" r="r" b="b"/>
              <a:pathLst>
                <a:path w="998" h="318">
                  <a:moveTo>
                    <a:pt x="0" y="318"/>
                  </a:moveTo>
                  <a:lnTo>
                    <a:pt x="38" y="74"/>
                  </a:lnTo>
                  <a:lnTo>
                    <a:pt x="119" y="0"/>
                  </a:lnTo>
                  <a:lnTo>
                    <a:pt x="852" y="23"/>
                  </a:lnTo>
                  <a:lnTo>
                    <a:pt x="940" y="66"/>
                  </a:lnTo>
                  <a:lnTo>
                    <a:pt x="998" y="318"/>
                  </a:lnTo>
                  <a:lnTo>
                    <a:pt x="888" y="258"/>
                  </a:lnTo>
                  <a:lnTo>
                    <a:pt x="104" y="25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819520" y="6012000"/>
              <a:ext cx="457200" cy="61560"/>
            </a:xfrm>
            <a:custGeom>
              <a:avLst/>
              <a:gdLst/>
              <a:ahLst/>
              <a:rect l="l" t="t" r="r" b="b"/>
              <a:pathLst>
                <a:path w="998" h="141">
                  <a:moveTo>
                    <a:pt x="0" y="141"/>
                  </a:moveTo>
                  <a:lnTo>
                    <a:pt x="998" y="141"/>
                  </a:lnTo>
                  <a:lnTo>
                    <a:pt x="873" y="0"/>
                  </a:lnTo>
                  <a:lnTo>
                    <a:pt x="11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870280" y="4952880"/>
              <a:ext cx="71640" cy="1052280"/>
            </a:xfrm>
            <a:custGeom>
              <a:avLst/>
              <a:gdLst/>
              <a:ahLst/>
              <a:rect l="l" t="t" r="r" b="b"/>
              <a:pathLst>
                <a:path w="155" h="2395">
                  <a:moveTo>
                    <a:pt x="0" y="2388"/>
                  </a:moveTo>
                  <a:lnTo>
                    <a:pt x="15" y="2395"/>
                  </a:lnTo>
                  <a:lnTo>
                    <a:pt x="155" y="2395"/>
                  </a:lnTo>
                  <a:lnTo>
                    <a:pt x="15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88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3171960" y="4952880"/>
              <a:ext cx="43920" cy="1052280"/>
            </a:xfrm>
            <a:custGeom>
              <a:avLst/>
              <a:gdLst/>
              <a:ahLst/>
              <a:rect l="l" t="t" r="r" b="b"/>
              <a:pathLst>
                <a:path w="97" h="2395">
                  <a:moveTo>
                    <a:pt x="0" y="2395"/>
                  </a:moveTo>
                  <a:lnTo>
                    <a:pt x="83" y="2395"/>
                  </a:lnTo>
                  <a:lnTo>
                    <a:pt x="97" y="2380"/>
                  </a:lnTo>
                  <a:lnTo>
                    <a:pt x="97" y="23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239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877120" y="4952880"/>
              <a:ext cx="333000" cy="105228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2886840" y="4952880"/>
              <a:ext cx="308520" cy="638280"/>
            </a:xfrm>
            <a:custGeom>
              <a:avLst/>
              <a:gdLst/>
              <a:ahLst/>
              <a:rect l="l" t="t" r="r" b="b"/>
              <a:pathLst>
                <a:path w="673" h="1453">
                  <a:moveTo>
                    <a:pt x="0" y="0"/>
                  </a:moveTo>
                  <a:lnTo>
                    <a:pt x="0" y="1422"/>
                  </a:lnTo>
                  <a:lnTo>
                    <a:pt x="38" y="1453"/>
                  </a:lnTo>
                  <a:lnTo>
                    <a:pt x="119" y="1453"/>
                  </a:lnTo>
                  <a:lnTo>
                    <a:pt x="119" y="1372"/>
                  </a:lnTo>
                  <a:lnTo>
                    <a:pt x="141" y="1341"/>
                  </a:lnTo>
                  <a:lnTo>
                    <a:pt x="540" y="1341"/>
                  </a:lnTo>
                  <a:lnTo>
                    <a:pt x="570" y="1372"/>
                  </a:lnTo>
                  <a:lnTo>
                    <a:pt x="570" y="1453"/>
                  </a:lnTo>
                  <a:lnTo>
                    <a:pt x="652" y="1453"/>
                  </a:lnTo>
                  <a:lnTo>
                    <a:pt x="673" y="1430"/>
                  </a:lnTo>
                  <a:lnTo>
                    <a:pt x="67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3148560" y="5600160"/>
              <a:ext cx="1080" cy="40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941920" y="5600160"/>
              <a:ext cx="1080" cy="40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972520" y="5551560"/>
              <a:ext cx="68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986200" y="5551560"/>
              <a:ext cx="50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998440" y="5551560"/>
              <a:ext cx="8280" cy="447120"/>
            </a:xfrm>
            <a:custGeom>
              <a:avLst/>
              <a:gdLst/>
              <a:ahLst/>
              <a:rect l="l" t="t" r="r" b="b"/>
              <a:pathLst>
                <a:path w="16" h="1016">
                  <a:moveTo>
                    <a:pt x="0" y="1016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013560" y="5551560"/>
              <a:ext cx="540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026160" y="5551560"/>
              <a:ext cx="6840" cy="447120"/>
            </a:xfrm>
            <a:custGeom>
              <a:avLst/>
              <a:gdLst/>
              <a:ahLst/>
              <a:rect l="l" t="t" r="r" b="b"/>
              <a:pathLst>
                <a:path w="15" h="1016">
                  <a:moveTo>
                    <a:pt x="0" y="1016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039840" y="5551560"/>
              <a:ext cx="68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053520" y="5551560"/>
              <a:ext cx="68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067200" y="5551560"/>
              <a:ext cx="6840" cy="447120"/>
            </a:xfrm>
            <a:custGeom>
              <a:avLst/>
              <a:gdLst/>
              <a:ahLst/>
              <a:rect l="l" t="t" r="r" b="b"/>
              <a:pathLst>
                <a:path w="16" h="1016">
                  <a:moveTo>
                    <a:pt x="0" y="1016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081240" y="5551560"/>
              <a:ext cx="68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094920" y="5551560"/>
              <a:ext cx="6840" cy="447120"/>
            </a:xfrm>
            <a:custGeom>
              <a:avLst/>
              <a:gdLst/>
              <a:ahLst/>
              <a:rect l="l" t="t" r="r" b="b"/>
              <a:pathLst>
                <a:path w="15" h="1016">
                  <a:moveTo>
                    <a:pt x="0" y="1016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107160" y="5551560"/>
              <a:ext cx="6840" cy="447120"/>
            </a:xfrm>
            <a:custGeom>
              <a:avLst/>
              <a:gdLst/>
              <a:ahLst/>
              <a:rect l="l" t="t" r="r" b="b"/>
              <a:pathLst>
                <a:path w="15" h="1016">
                  <a:moveTo>
                    <a:pt x="0" y="1016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V="1">
              <a:off x="3121200" y="5551560"/>
              <a:ext cx="1080" cy="4471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2900520" y="5431680"/>
              <a:ext cx="278280" cy="77760"/>
            </a:xfrm>
            <a:custGeom>
              <a:avLst/>
              <a:gdLst/>
              <a:ahLst/>
              <a:rect l="l" t="t" r="r" b="b"/>
              <a:pathLst>
                <a:path w="606" h="177">
                  <a:moveTo>
                    <a:pt x="606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51" y="177"/>
                  </a:lnTo>
                  <a:lnTo>
                    <a:pt x="51" y="30"/>
                  </a:lnTo>
                  <a:lnTo>
                    <a:pt x="569" y="15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900520" y="5502960"/>
              <a:ext cx="278280" cy="6480"/>
            </a:xfrm>
            <a:custGeom>
              <a:avLst/>
              <a:gdLst/>
              <a:ahLst/>
              <a:rect l="l" t="t" r="r" b="b"/>
              <a:pathLst>
                <a:path w="606" h="15">
                  <a:moveTo>
                    <a:pt x="569" y="0"/>
                  </a:moveTo>
                  <a:lnTo>
                    <a:pt x="51" y="0"/>
                  </a:lnTo>
                  <a:lnTo>
                    <a:pt x="0" y="15"/>
                  </a:lnTo>
                  <a:lnTo>
                    <a:pt x="606" y="15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2921040" y="5442120"/>
              <a:ext cx="245160" cy="57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3101760" y="5448600"/>
              <a:ext cx="49320" cy="4212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114000" y="5457960"/>
              <a:ext cx="27360" cy="2628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60" y="29"/>
                  </a:moveTo>
                  <a:lnTo>
                    <a:pt x="58" y="23"/>
                  </a:lnTo>
                  <a:lnTo>
                    <a:pt x="57" y="18"/>
                  </a:lnTo>
                  <a:lnTo>
                    <a:pt x="55" y="13"/>
                  </a:lnTo>
                  <a:lnTo>
                    <a:pt x="50" y="8"/>
                  </a:lnTo>
                  <a:lnTo>
                    <a:pt x="46" y="4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1" y="36"/>
                  </a:lnTo>
                  <a:lnTo>
                    <a:pt x="3" y="41"/>
                  </a:lnTo>
                  <a:lnTo>
                    <a:pt x="6" y="47"/>
                  </a:lnTo>
                  <a:lnTo>
                    <a:pt x="10" y="51"/>
                  </a:lnTo>
                  <a:lnTo>
                    <a:pt x="15" y="55"/>
                  </a:lnTo>
                  <a:lnTo>
                    <a:pt x="20" y="57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8" y="57"/>
                  </a:lnTo>
                  <a:lnTo>
                    <a:pt x="44" y="56"/>
                  </a:lnTo>
                  <a:lnTo>
                    <a:pt x="50" y="52"/>
                  </a:lnTo>
                  <a:lnTo>
                    <a:pt x="53" y="47"/>
                  </a:lnTo>
                  <a:lnTo>
                    <a:pt x="57" y="42"/>
                  </a:lnTo>
                  <a:lnTo>
                    <a:pt x="58" y="36"/>
                  </a:lnTo>
                  <a:lnTo>
                    <a:pt x="60" y="31"/>
                  </a:lnTo>
                  <a:lnTo>
                    <a:pt x="60" y="29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3033000" y="5464440"/>
              <a:ext cx="27360" cy="262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1"/>
                  </a:moveTo>
                  <a:lnTo>
                    <a:pt x="58" y="24"/>
                  </a:lnTo>
                  <a:lnTo>
                    <a:pt x="57" y="18"/>
                  </a:lnTo>
                  <a:lnTo>
                    <a:pt x="54" y="13"/>
                  </a:lnTo>
                  <a:lnTo>
                    <a:pt x="49" y="8"/>
                  </a:lnTo>
                  <a:lnTo>
                    <a:pt x="46" y="4"/>
                  </a:lnTo>
                  <a:lnTo>
                    <a:pt x="39" y="1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4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1" y="36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2"/>
                  </a:lnTo>
                  <a:lnTo>
                    <a:pt x="15" y="56"/>
                  </a:lnTo>
                  <a:lnTo>
                    <a:pt x="20" y="58"/>
                  </a:lnTo>
                  <a:lnTo>
                    <a:pt x="27" y="60"/>
                  </a:lnTo>
                  <a:lnTo>
                    <a:pt x="33" y="60"/>
                  </a:lnTo>
                  <a:lnTo>
                    <a:pt x="38" y="58"/>
                  </a:lnTo>
                  <a:lnTo>
                    <a:pt x="44" y="56"/>
                  </a:lnTo>
                  <a:lnTo>
                    <a:pt x="49" y="52"/>
                  </a:lnTo>
                  <a:lnTo>
                    <a:pt x="53" y="48"/>
                  </a:lnTo>
                  <a:lnTo>
                    <a:pt x="57" y="43"/>
                  </a:lnTo>
                  <a:lnTo>
                    <a:pt x="58" y="37"/>
                  </a:lnTo>
                  <a:lnTo>
                    <a:pt x="60" y="31"/>
                  </a:lnTo>
                  <a:lnTo>
                    <a:pt x="60" y="31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993040" y="5464440"/>
              <a:ext cx="27360" cy="2628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58" y="31"/>
                  </a:moveTo>
                  <a:lnTo>
                    <a:pt x="58" y="24"/>
                  </a:lnTo>
                  <a:lnTo>
                    <a:pt x="55" y="18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3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5" y="47"/>
                  </a:lnTo>
                  <a:lnTo>
                    <a:pt x="9" y="52"/>
                  </a:lnTo>
                  <a:lnTo>
                    <a:pt x="14" y="56"/>
                  </a:lnTo>
                  <a:lnTo>
                    <a:pt x="20" y="58"/>
                  </a:lnTo>
                  <a:lnTo>
                    <a:pt x="25" y="60"/>
                  </a:lnTo>
                  <a:lnTo>
                    <a:pt x="31" y="60"/>
                  </a:lnTo>
                  <a:lnTo>
                    <a:pt x="38" y="58"/>
                  </a:lnTo>
                  <a:lnTo>
                    <a:pt x="43" y="56"/>
                  </a:lnTo>
                  <a:lnTo>
                    <a:pt x="48" y="52"/>
                  </a:lnTo>
                  <a:lnTo>
                    <a:pt x="53" y="48"/>
                  </a:lnTo>
                  <a:lnTo>
                    <a:pt x="55" y="43"/>
                  </a:lnTo>
                  <a:lnTo>
                    <a:pt x="58" y="37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2923920" y="5357880"/>
              <a:ext cx="48240" cy="4464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2923920" y="5357880"/>
              <a:ext cx="48240" cy="446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0"/>
                  </a:moveTo>
                  <a:lnTo>
                    <a:pt x="0" y="0"/>
                  </a:lnTo>
                  <a:lnTo>
                    <a:pt x="0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2897640" y="4968720"/>
              <a:ext cx="287640" cy="350640"/>
            </a:xfrm>
            <a:prstGeom prst="rect">
              <a:avLst/>
            </a:pr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 flipV="1">
              <a:off x="2897640" y="4968720"/>
              <a:ext cx="1440" cy="35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>
              <a:off x="2897280" y="5277240"/>
              <a:ext cx="28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 flipH="1">
              <a:off x="2897280" y="5202000"/>
              <a:ext cx="28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2897640" y="4981680"/>
              <a:ext cx="287640" cy="12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3185640" y="4968720"/>
              <a:ext cx="1080" cy="35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 flipH="1">
              <a:off x="2897280" y="4968720"/>
              <a:ext cx="287640" cy="1080"/>
            </a:xfrm>
            <a:prstGeom prst="line">
              <a:avLst/>
            </a:prstGeom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2897640" y="4995000"/>
              <a:ext cx="287640" cy="13572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941920" y="5144040"/>
              <a:ext cx="196560" cy="4428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2958480" y="4995000"/>
              <a:ext cx="155520" cy="35280"/>
            </a:xfrm>
            <a:custGeom>
              <a:avLst/>
              <a:gdLst/>
              <a:ahLst/>
              <a:rect l="l" t="t" r="r" b="b"/>
              <a:pathLst>
                <a:path w="340" h="81">
                  <a:moveTo>
                    <a:pt x="0" y="0"/>
                  </a:moveTo>
                  <a:lnTo>
                    <a:pt x="0" y="81"/>
                  </a:lnTo>
                  <a:lnTo>
                    <a:pt x="340" y="81"/>
                  </a:lnTo>
                  <a:lnTo>
                    <a:pt x="3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2954160" y="5062320"/>
              <a:ext cx="108720" cy="55080"/>
            </a:xfrm>
            <a:custGeom>
              <a:avLst/>
              <a:gdLst/>
              <a:ahLst/>
              <a:rect l="l" t="t" r="r" b="b"/>
              <a:pathLst>
                <a:path w="237" h="125">
                  <a:moveTo>
                    <a:pt x="237" y="0"/>
                  </a:moveTo>
                  <a:lnTo>
                    <a:pt x="0" y="0"/>
                  </a:lnTo>
                  <a:lnTo>
                    <a:pt x="0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2954160" y="5062320"/>
              <a:ext cx="108720" cy="55080"/>
            </a:xfrm>
            <a:custGeom>
              <a:avLst/>
              <a:gdLst/>
              <a:ahLst/>
              <a:rect l="l" t="t" r="r" b="b"/>
              <a:pathLst>
                <a:path w="237" h="125">
                  <a:moveTo>
                    <a:pt x="0" y="125"/>
                  </a:moveTo>
                  <a:lnTo>
                    <a:pt x="237" y="125"/>
                  </a:lnTo>
                  <a:lnTo>
                    <a:pt x="237" y="0"/>
                  </a:lnTo>
                </a:path>
              </a:pathLst>
            </a:custGeom>
            <a:noFill/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2907360" y="5078160"/>
              <a:ext cx="258840" cy="16920"/>
            </a:xfrm>
            <a:custGeom>
              <a:avLst/>
              <a:gdLst/>
              <a:ahLst/>
              <a:rect l="l" t="t" r="r" b="b"/>
              <a:pathLst>
                <a:path w="564" h="37">
                  <a:moveTo>
                    <a:pt x="0" y="37"/>
                  </a:moveTo>
                  <a:lnTo>
                    <a:pt x="104" y="37"/>
                  </a:lnTo>
                  <a:lnTo>
                    <a:pt x="104" y="31"/>
                  </a:lnTo>
                  <a:lnTo>
                    <a:pt x="341" y="31"/>
                  </a:lnTo>
                  <a:lnTo>
                    <a:pt x="341" y="37"/>
                  </a:lnTo>
                  <a:lnTo>
                    <a:pt x="564" y="37"/>
                  </a:lnTo>
                  <a:lnTo>
                    <a:pt x="564" y="0"/>
                  </a:lnTo>
                  <a:lnTo>
                    <a:pt x="348" y="0"/>
                  </a:lnTo>
                  <a:lnTo>
                    <a:pt x="348" y="8"/>
                  </a:lnTo>
                  <a:lnTo>
                    <a:pt x="104" y="8"/>
                  </a:lnTo>
                  <a:lnTo>
                    <a:pt x="104" y="0"/>
                  </a:lnTo>
                  <a:lnTo>
                    <a:pt x="0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019320" y="5065920"/>
              <a:ext cx="13680" cy="47520"/>
            </a:xfrm>
            <a:custGeom>
              <a:avLst/>
              <a:gdLst/>
              <a:ahLst/>
              <a:rect l="l" t="t" r="r" b="b"/>
              <a:pathLst>
                <a:path w="30" h="110">
                  <a:moveTo>
                    <a:pt x="0" y="110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8"/>
                  </a:lnTo>
                  <a:lnTo>
                    <a:pt x="15" y="8"/>
                  </a:lnTo>
                  <a:lnTo>
                    <a:pt x="7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2972520" y="5068800"/>
              <a:ext cx="43920" cy="648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0" y="15"/>
                  </a:moveTo>
                  <a:lnTo>
                    <a:pt x="0" y="0"/>
                  </a:lnTo>
                  <a:lnTo>
                    <a:pt x="9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910240" y="5030640"/>
              <a:ext cx="20520" cy="1584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897640" y="5055480"/>
              <a:ext cx="28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954160" y="5153040"/>
              <a:ext cx="166680" cy="26280"/>
            </a:xfrm>
            <a:custGeom>
              <a:avLst/>
              <a:gdLst/>
              <a:ahLst/>
              <a:rect l="l" t="t" r="r" b="b"/>
              <a:pathLst>
                <a:path w="363" h="59">
                  <a:moveTo>
                    <a:pt x="0" y="0"/>
                  </a:moveTo>
                  <a:lnTo>
                    <a:pt x="0" y="23"/>
                  </a:lnTo>
                  <a:lnTo>
                    <a:pt x="112" y="23"/>
                  </a:lnTo>
                  <a:lnTo>
                    <a:pt x="112" y="59"/>
                  </a:lnTo>
                  <a:lnTo>
                    <a:pt x="260" y="59"/>
                  </a:lnTo>
                  <a:lnTo>
                    <a:pt x="260" y="23"/>
                  </a:lnTo>
                  <a:lnTo>
                    <a:pt x="363" y="23"/>
                  </a:lnTo>
                  <a:lnTo>
                    <a:pt x="3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006720" y="5150880"/>
              <a:ext cx="673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 flipH="1">
              <a:off x="2981520" y="5173200"/>
              <a:ext cx="6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3097800" y="5168880"/>
              <a:ext cx="23400" cy="10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3129120" y="5062320"/>
              <a:ext cx="5400" cy="900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11"/>
                  </a:moveTo>
                  <a:lnTo>
                    <a:pt x="13" y="6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6" y="21"/>
                  </a:lnTo>
                  <a:lnTo>
                    <a:pt x="10" y="21"/>
                  </a:lnTo>
                  <a:lnTo>
                    <a:pt x="11" y="19"/>
                  </a:lnTo>
                  <a:lnTo>
                    <a:pt x="13" y="15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eaff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0" name=""/>
          <p:cNvSpPr/>
          <p:nvPr/>
        </p:nvSpPr>
        <p:spPr>
          <a:xfrm>
            <a:off x="926640" y="548172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-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1" name=""/>
          <p:cNvGrpSpPr/>
          <p:nvPr/>
        </p:nvGrpSpPr>
        <p:grpSpPr>
          <a:xfrm>
            <a:off x="7524720" y="3860640"/>
            <a:ext cx="457200" cy="1121040"/>
            <a:chOff x="7524720" y="3860640"/>
            <a:chExt cx="457200" cy="1121040"/>
          </a:xfrm>
        </p:grpSpPr>
        <p:sp>
          <p:nvSpPr>
            <p:cNvPr id="2732" name=""/>
            <p:cNvSpPr/>
            <p:nvPr/>
          </p:nvSpPr>
          <p:spPr>
            <a:xfrm>
              <a:off x="7524720" y="4842000"/>
              <a:ext cx="457200" cy="139680"/>
            </a:xfrm>
            <a:custGeom>
              <a:avLst/>
              <a:gdLst/>
              <a:ahLst/>
              <a:rect l="l" t="t" r="r" b="b"/>
              <a:pathLst>
                <a:path w="998" h="318">
                  <a:moveTo>
                    <a:pt x="0" y="318"/>
                  </a:moveTo>
                  <a:lnTo>
                    <a:pt x="38" y="74"/>
                  </a:lnTo>
                  <a:lnTo>
                    <a:pt x="119" y="0"/>
                  </a:lnTo>
                  <a:lnTo>
                    <a:pt x="852" y="23"/>
                  </a:lnTo>
                  <a:lnTo>
                    <a:pt x="940" y="66"/>
                  </a:lnTo>
                  <a:lnTo>
                    <a:pt x="998" y="318"/>
                  </a:lnTo>
                  <a:lnTo>
                    <a:pt x="888" y="258"/>
                  </a:lnTo>
                  <a:lnTo>
                    <a:pt x="104" y="25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524720" y="4919760"/>
              <a:ext cx="457200" cy="61560"/>
            </a:xfrm>
            <a:custGeom>
              <a:avLst/>
              <a:gdLst/>
              <a:ahLst/>
              <a:rect l="l" t="t" r="r" b="b"/>
              <a:pathLst>
                <a:path w="998" h="141">
                  <a:moveTo>
                    <a:pt x="0" y="141"/>
                  </a:moveTo>
                  <a:lnTo>
                    <a:pt x="998" y="141"/>
                  </a:lnTo>
                  <a:lnTo>
                    <a:pt x="873" y="0"/>
                  </a:lnTo>
                  <a:lnTo>
                    <a:pt x="11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7575480" y="3860640"/>
              <a:ext cx="71640" cy="1052280"/>
            </a:xfrm>
            <a:custGeom>
              <a:avLst/>
              <a:gdLst/>
              <a:ahLst/>
              <a:rect l="l" t="t" r="r" b="b"/>
              <a:pathLst>
                <a:path w="155" h="2395">
                  <a:moveTo>
                    <a:pt x="0" y="2388"/>
                  </a:moveTo>
                  <a:lnTo>
                    <a:pt x="15" y="2395"/>
                  </a:lnTo>
                  <a:lnTo>
                    <a:pt x="155" y="2395"/>
                  </a:lnTo>
                  <a:lnTo>
                    <a:pt x="15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88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7877160" y="3860640"/>
              <a:ext cx="43920" cy="1052280"/>
            </a:xfrm>
            <a:custGeom>
              <a:avLst/>
              <a:gdLst/>
              <a:ahLst/>
              <a:rect l="l" t="t" r="r" b="b"/>
              <a:pathLst>
                <a:path w="97" h="2395">
                  <a:moveTo>
                    <a:pt x="0" y="2395"/>
                  </a:moveTo>
                  <a:lnTo>
                    <a:pt x="83" y="2395"/>
                  </a:lnTo>
                  <a:lnTo>
                    <a:pt x="97" y="2380"/>
                  </a:lnTo>
                  <a:lnTo>
                    <a:pt x="97" y="23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239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582320" y="3860640"/>
              <a:ext cx="333000" cy="105228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7592040" y="3860640"/>
              <a:ext cx="308520" cy="638280"/>
            </a:xfrm>
            <a:custGeom>
              <a:avLst/>
              <a:gdLst/>
              <a:ahLst/>
              <a:rect l="l" t="t" r="r" b="b"/>
              <a:pathLst>
                <a:path w="673" h="1453">
                  <a:moveTo>
                    <a:pt x="0" y="0"/>
                  </a:moveTo>
                  <a:lnTo>
                    <a:pt x="0" y="1422"/>
                  </a:lnTo>
                  <a:lnTo>
                    <a:pt x="38" y="1453"/>
                  </a:lnTo>
                  <a:lnTo>
                    <a:pt x="119" y="1453"/>
                  </a:lnTo>
                  <a:lnTo>
                    <a:pt x="119" y="1372"/>
                  </a:lnTo>
                  <a:lnTo>
                    <a:pt x="141" y="1341"/>
                  </a:lnTo>
                  <a:lnTo>
                    <a:pt x="540" y="1341"/>
                  </a:lnTo>
                  <a:lnTo>
                    <a:pt x="570" y="1372"/>
                  </a:lnTo>
                  <a:lnTo>
                    <a:pt x="570" y="1453"/>
                  </a:lnTo>
                  <a:lnTo>
                    <a:pt x="652" y="1453"/>
                  </a:lnTo>
                  <a:lnTo>
                    <a:pt x="673" y="1430"/>
                  </a:lnTo>
                  <a:lnTo>
                    <a:pt x="67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7853760" y="4507920"/>
              <a:ext cx="1080" cy="40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647120" y="4507920"/>
              <a:ext cx="1080" cy="40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7677720" y="4459320"/>
              <a:ext cx="68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7691400" y="4459320"/>
              <a:ext cx="50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703640" y="4459320"/>
              <a:ext cx="8280" cy="447120"/>
            </a:xfrm>
            <a:custGeom>
              <a:avLst/>
              <a:gdLst/>
              <a:ahLst/>
              <a:rect l="l" t="t" r="r" b="b"/>
              <a:pathLst>
                <a:path w="16" h="1016">
                  <a:moveTo>
                    <a:pt x="0" y="1016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718760" y="4459320"/>
              <a:ext cx="540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731360" y="4459320"/>
              <a:ext cx="6840" cy="447120"/>
            </a:xfrm>
            <a:custGeom>
              <a:avLst/>
              <a:gdLst/>
              <a:ahLst/>
              <a:rect l="l" t="t" r="r" b="b"/>
              <a:pathLst>
                <a:path w="15" h="1016">
                  <a:moveTo>
                    <a:pt x="0" y="1016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745040" y="4459320"/>
              <a:ext cx="68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758720" y="4459320"/>
              <a:ext cx="68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772400" y="4459320"/>
              <a:ext cx="6840" cy="447120"/>
            </a:xfrm>
            <a:custGeom>
              <a:avLst/>
              <a:gdLst/>
              <a:ahLst/>
              <a:rect l="l" t="t" r="r" b="b"/>
              <a:pathLst>
                <a:path w="16" h="1016">
                  <a:moveTo>
                    <a:pt x="0" y="1016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786440" y="4459320"/>
              <a:ext cx="68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800120" y="4459320"/>
              <a:ext cx="6840" cy="447120"/>
            </a:xfrm>
            <a:custGeom>
              <a:avLst/>
              <a:gdLst/>
              <a:ahLst/>
              <a:rect l="l" t="t" r="r" b="b"/>
              <a:pathLst>
                <a:path w="15" h="1016">
                  <a:moveTo>
                    <a:pt x="0" y="1016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812360" y="4459320"/>
              <a:ext cx="6840" cy="447120"/>
            </a:xfrm>
            <a:custGeom>
              <a:avLst/>
              <a:gdLst/>
              <a:ahLst/>
              <a:rect l="l" t="t" r="r" b="b"/>
              <a:pathLst>
                <a:path w="15" h="1016">
                  <a:moveTo>
                    <a:pt x="0" y="1016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 flipV="1">
              <a:off x="7826400" y="4459320"/>
              <a:ext cx="1080" cy="4471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7605720" y="4339440"/>
              <a:ext cx="278280" cy="77760"/>
            </a:xfrm>
            <a:custGeom>
              <a:avLst/>
              <a:gdLst/>
              <a:ahLst/>
              <a:rect l="l" t="t" r="r" b="b"/>
              <a:pathLst>
                <a:path w="606" h="177">
                  <a:moveTo>
                    <a:pt x="606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51" y="177"/>
                  </a:lnTo>
                  <a:lnTo>
                    <a:pt x="51" y="30"/>
                  </a:lnTo>
                  <a:lnTo>
                    <a:pt x="569" y="15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605720" y="4410720"/>
              <a:ext cx="278280" cy="6480"/>
            </a:xfrm>
            <a:custGeom>
              <a:avLst/>
              <a:gdLst/>
              <a:ahLst/>
              <a:rect l="l" t="t" r="r" b="b"/>
              <a:pathLst>
                <a:path w="606" h="15">
                  <a:moveTo>
                    <a:pt x="569" y="0"/>
                  </a:moveTo>
                  <a:lnTo>
                    <a:pt x="51" y="0"/>
                  </a:lnTo>
                  <a:lnTo>
                    <a:pt x="0" y="15"/>
                  </a:lnTo>
                  <a:lnTo>
                    <a:pt x="606" y="15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626240" y="4349880"/>
              <a:ext cx="245160" cy="57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806960" y="4356360"/>
              <a:ext cx="49320" cy="4212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7819200" y="4365720"/>
              <a:ext cx="27360" cy="2628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60" y="29"/>
                  </a:moveTo>
                  <a:lnTo>
                    <a:pt x="58" y="23"/>
                  </a:lnTo>
                  <a:lnTo>
                    <a:pt x="57" y="18"/>
                  </a:lnTo>
                  <a:lnTo>
                    <a:pt x="55" y="13"/>
                  </a:lnTo>
                  <a:lnTo>
                    <a:pt x="50" y="8"/>
                  </a:lnTo>
                  <a:lnTo>
                    <a:pt x="46" y="4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1" y="36"/>
                  </a:lnTo>
                  <a:lnTo>
                    <a:pt x="3" y="41"/>
                  </a:lnTo>
                  <a:lnTo>
                    <a:pt x="6" y="47"/>
                  </a:lnTo>
                  <a:lnTo>
                    <a:pt x="10" y="51"/>
                  </a:lnTo>
                  <a:lnTo>
                    <a:pt x="15" y="55"/>
                  </a:lnTo>
                  <a:lnTo>
                    <a:pt x="20" y="57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8" y="57"/>
                  </a:lnTo>
                  <a:lnTo>
                    <a:pt x="44" y="56"/>
                  </a:lnTo>
                  <a:lnTo>
                    <a:pt x="50" y="52"/>
                  </a:lnTo>
                  <a:lnTo>
                    <a:pt x="53" y="47"/>
                  </a:lnTo>
                  <a:lnTo>
                    <a:pt x="57" y="42"/>
                  </a:lnTo>
                  <a:lnTo>
                    <a:pt x="58" y="36"/>
                  </a:lnTo>
                  <a:lnTo>
                    <a:pt x="60" y="31"/>
                  </a:lnTo>
                  <a:lnTo>
                    <a:pt x="60" y="29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738200" y="4372200"/>
              <a:ext cx="27360" cy="262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1"/>
                  </a:moveTo>
                  <a:lnTo>
                    <a:pt x="58" y="24"/>
                  </a:lnTo>
                  <a:lnTo>
                    <a:pt x="57" y="18"/>
                  </a:lnTo>
                  <a:lnTo>
                    <a:pt x="54" y="13"/>
                  </a:lnTo>
                  <a:lnTo>
                    <a:pt x="49" y="8"/>
                  </a:lnTo>
                  <a:lnTo>
                    <a:pt x="46" y="4"/>
                  </a:lnTo>
                  <a:lnTo>
                    <a:pt x="39" y="1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4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1" y="36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2"/>
                  </a:lnTo>
                  <a:lnTo>
                    <a:pt x="15" y="56"/>
                  </a:lnTo>
                  <a:lnTo>
                    <a:pt x="20" y="58"/>
                  </a:lnTo>
                  <a:lnTo>
                    <a:pt x="27" y="60"/>
                  </a:lnTo>
                  <a:lnTo>
                    <a:pt x="33" y="60"/>
                  </a:lnTo>
                  <a:lnTo>
                    <a:pt x="38" y="58"/>
                  </a:lnTo>
                  <a:lnTo>
                    <a:pt x="44" y="56"/>
                  </a:lnTo>
                  <a:lnTo>
                    <a:pt x="49" y="52"/>
                  </a:lnTo>
                  <a:lnTo>
                    <a:pt x="53" y="48"/>
                  </a:lnTo>
                  <a:lnTo>
                    <a:pt x="57" y="43"/>
                  </a:lnTo>
                  <a:lnTo>
                    <a:pt x="58" y="37"/>
                  </a:lnTo>
                  <a:lnTo>
                    <a:pt x="60" y="31"/>
                  </a:lnTo>
                  <a:lnTo>
                    <a:pt x="60" y="31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7698240" y="4372200"/>
              <a:ext cx="27360" cy="2628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58" y="31"/>
                  </a:moveTo>
                  <a:lnTo>
                    <a:pt x="58" y="24"/>
                  </a:lnTo>
                  <a:lnTo>
                    <a:pt x="55" y="18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3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5" y="47"/>
                  </a:lnTo>
                  <a:lnTo>
                    <a:pt x="9" y="52"/>
                  </a:lnTo>
                  <a:lnTo>
                    <a:pt x="14" y="56"/>
                  </a:lnTo>
                  <a:lnTo>
                    <a:pt x="20" y="58"/>
                  </a:lnTo>
                  <a:lnTo>
                    <a:pt x="25" y="60"/>
                  </a:lnTo>
                  <a:lnTo>
                    <a:pt x="31" y="60"/>
                  </a:lnTo>
                  <a:lnTo>
                    <a:pt x="38" y="58"/>
                  </a:lnTo>
                  <a:lnTo>
                    <a:pt x="43" y="56"/>
                  </a:lnTo>
                  <a:lnTo>
                    <a:pt x="48" y="52"/>
                  </a:lnTo>
                  <a:lnTo>
                    <a:pt x="53" y="48"/>
                  </a:lnTo>
                  <a:lnTo>
                    <a:pt x="55" y="43"/>
                  </a:lnTo>
                  <a:lnTo>
                    <a:pt x="58" y="37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7629120" y="4265640"/>
              <a:ext cx="48240" cy="4464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629120" y="4265640"/>
              <a:ext cx="48240" cy="446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0"/>
                  </a:moveTo>
                  <a:lnTo>
                    <a:pt x="0" y="0"/>
                  </a:lnTo>
                  <a:lnTo>
                    <a:pt x="0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7602840" y="3876480"/>
              <a:ext cx="287640" cy="350640"/>
            </a:xfrm>
            <a:prstGeom prst="rect">
              <a:avLst/>
            </a:pr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 flipV="1">
              <a:off x="7602840" y="3876480"/>
              <a:ext cx="1440" cy="35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 flipH="1">
              <a:off x="7602480" y="4185000"/>
              <a:ext cx="28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 flipH="1">
              <a:off x="7602480" y="4109760"/>
              <a:ext cx="28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7602840" y="3889440"/>
              <a:ext cx="287640" cy="12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890840" y="3876480"/>
              <a:ext cx="1080" cy="35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 flipH="1">
              <a:off x="7602480" y="3876480"/>
              <a:ext cx="287640" cy="1080"/>
            </a:xfrm>
            <a:prstGeom prst="line">
              <a:avLst/>
            </a:prstGeom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602840" y="3902760"/>
              <a:ext cx="287640" cy="13572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647120" y="4051800"/>
              <a:ext cx="196560" cy="4428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7663680" y="3902760"/>
              <a:ext cx="155520" cy="35280"/>
            </a:xfrm>
            <a:custGeom>
              <a:avLst/>
              <a:gdLst/>
              <a:ahLst/>
              <a:rect l="l" t="t" r="r" b="b"/>
              <a:pathLst>
                <a:path w="340" h="81">
                  <a:moveTo>
                    <a:pt x="0" y="0"/>
                  </a:moveTo>
                  <a:lnTo>
                    <a:pt x="0" y="81"/>
                  </a:lnTo>
                  <a:lnTo>
                    <a:pt x="340" y="81"/>
                  </a:lnTo>
                  <a:lnTo>
                    <a:pt x="3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7659360" y="3970080"/>
              <a:ext cx="108720" cy="55080"/>
            </a:xfrm>
            <a:custGeom>
              <a:avLst/>
              <a:gdLst/>
              <a:ahLst/>
              <a:rect l="l" t="t" r="r" b="b"/>
              <a:pathLst>
                <a:path w="237" h="125">
                  <a:moveTo>
                    <a:pt x="237" y="0"/>
                  </a:moveTo>
                  <a:lnTo>
                    <a:pt x="0" y="0"/>
                  </a:lnTo>
                  <a:lnTo>
                    <a:pt x="0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659360" y="3970080"/>
              <a:ext cx="108720" cy="55080"/>
            </a:xfrm>
            <a:custGeom>
              <a:avLst/>
              <a:gdLst/>
              <a:ahLst/>
              <a:rect l="l" t="t" r="r" b="b"/>
              <a:pathLst>
                <a:path w="237" h="125">
                  <a:moveTo>
                    <a:pt x="0" y="125"/>
                  </a:moveTo>
                  <a:lnTo>
                    <a:pt x="237" y="125"/>
                  </a:lnTo>
                  <a:lnTo>
                    <a:pt x="237" y="0"/>
                  </a:lnTo>
                </a:path>
              </a:pathLst>
            </a:custGeom>
            <a:noFill/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612560" y="3985920"/>
              <a:ext cx="258840" cy="16920"/>
            </a:xfrm>
            <a:custGeom>
              <a:avLst/>
              <a:gdLst/>
              <a:ahLst/>
              <a:rect l="l" t="t" r="r" b="b"/>
              <a:pathLst>
                <a:path w="564" h="37">
                  <a:moveTo>
                    <a:pt x="0" y="37"/>
                  </a:moveTo>
                  <a:lnTo>
                    <a:pt x="104" y="37"/>
                  </a:lnTo>
                  <a:lnTo>
                    <a:pt x="104" y="31"/>
                  </a:lnTo>
                  <a:lnTo>
                    <a:pt x="341" y="31"/>
                  </a:lnTo>
                  <a:lnTo>
                    <a:pt x="341" y="37"/>
                  </a:lnTo>
                  <a:lnTo>
                    <a:pt x="564" y="37"/>
                  </a:lnTo>
                  <a:lnTo>
                    <a:pt x="564" y="0"/>
                  </a:lnTo>
                  <a:lnTo>
                    <a:pt x="348" y="0"/>
                  </a:lnTo>
                  <a:lnTo>
                    <a:pt x="348" y="8"/>
                  </a:lnTo>
                  <a:lnTo>
                    <a:pt x="104" y="8"/>
                  </a:lnTo>
                  <a:lnTo>
                    <a:pt x="104" y="0"/>
                  </a:lnTo>
                  <a:lnTo>
                    <a:pt x="0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724520" y="3973680"/>
              <a:ext cx="13680" cy="47520"/>
            </a:xfrm>
            <a:custGeom>
              <a:avLst/>
              <a:gdLst/>
              <a:ahLst/>
              <a:rect l="l" t="t" r="r" b="b"/>
              <a:pathLst>
                <a:path w="30" h="110">
                  <a:moveTo>
                    <a:pt x="0" y="110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8"/>
                  </a:lnTo>
                  <a:lnTo>
                    <a:pt x="15" y="8"/>
                  </a:lnTo>
                  <a:lnTo>
                    <a:pt x="7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677720" y="3976560"/>
              <a:ext cx="43920" cy="648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0" y="15"/>
                  </a:moveTo>
                  <a:lnTo>
                    <a:pt x="0" y="0"/>
                  </a:lnTo>
                  <a:lnTo>
                    <a:pt x="9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615440" y="3938400"/>
              <a:ext cx="20520" cy="1584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7602840" y="3963240"/>
              <a:ext cx="28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659360" y="4060800"/>
              <a:ext cx="166680" cy="26280"/>
            </a:xfrm>
            <a:custGeom>
              <a:avLst/>
              <a:gdLst/>
              <a:ahLst/>
              <a:rect l="l" t="t" r="r" b="b"/>
              <a:pathLst>
                <a:path w="363" h="59">
                  <a:moveTo>
                    <a:pt x="0" y="0"/>
                  </a:moveTo>
                  <a:lnTo>
                    <a:pt x="0" y="23"/>
                  </a:lnTo>
                  <a:lnTo>
                    <a:pt x="112" y="23"/>
                  </a:lnTo>
                  <a:lnTo>
                    <a:pt x="112" y="59"/>
                  </a:lnTo>
                  <a:lnTo>
                    <a:pt x="260" y="59"/>
                  </a:lnTo>
                  <a:lnTo>
                    <a:pt x="260" y="23"/>
                  </a:lnTo>
                  <a:lnTo>
                    <a:pt x="363" y="23"/>
                  </a:lnTo>
                  <a:lnTo>
                    <a:pt x="3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711920" y="4058640"/>
              <a:ext cx="673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 flipH="1">
              <a:off x="7686720" y="4080960"/>
              <a:ext cx="6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7803000" y="4076640"/>
              <a:ext cx="23400" cy="10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834320" y="3970080"/>
              <a:ext cx="5400" cy="900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11"/>
                  </a:moveTo>
                  <a:lnTo>
                    <a:pt x="13" y="6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6" y="21"/>
                  </a:lnTo>
                  <a:lnTo>
                    <a:pt x="10" y="21"/>
                  </a:lnTo>
                  <a:lnTo>
                    <a:pt x="11" y="19"/>
                  </a:lnTo>
                  <a:lnTo>
                    <a:pt x="13" y="15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eaff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3" name=""/>
          <p:cNvGrpSpPr/>
          <p:nvPr/>
        </p:nvGrpSpPr>
        <p:grpSpPr>
          <a:xfrm>
            <a:off x="8172360" y="3068640"/>
            <a:ext cx="457200" cy="1120320"/>
            <a:chOff x="8172360" y="3068640"/>
            <a:chExt cx="457200" cy="1120320"/>
          </a:xfrm>
        </p:grpSpPr>
        <p:sp>
          <p:nvSpPr>
            <p:cNvPr id="2784" name=""/>
            <p:cNvSpPr/>
            <p:nvPr/>
          </p:nvSpPr>
          <p:spPr>
            <a:xfrm>
              <a:off x="8172360" y="4049640"/>
              <a:ext cx="457200" cy="139320"/>
            </a:xfrm>
            <a:custGeom>
              <a:avLst/>
              <a:gdLst/>
              <a:ahLst/>
              <a:rect l="l" t="t" r="r" b="b"/>
              <a:pathLst>
                <a:path w="998" h="318">
                  <a:moveTo>
                    <a:pt x="0" y="318"/>
                  </a:moveTo>
                  <a:lnTo>
                    <a:pt x="38" y="74"/>
                  </a:lnTo>
                  <a:lnTo>
                    <a:pt x="119" y="0"/>
                  </a:lnTo>
                  <a:lnTo>
                    <a:pt x="852" y="23"/>
                  </a:lnTo>
                  <a:lnTo>
                    <a:pt x="940" y="66"/>
                  </a:lnTo>
                  <a:lnTo>
                    <a:pt x="998" y="318"/>
                  </a:lnTo>
                  <a:lnTo>
                    <a:pt x="888" y="258"/>
                  </a:lnTo>
                  <a:lnTo>
                    <a:pt x="104" y="25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8172360" y="4127400"/>
              <a:ext cx="457200" cy="61560"/>
            </a:xfrm>
            <a:custGeom>
              <a:avLst/>
              <a:gdLst/>
              <a:ahLst/>
              <a:rect l="l" t="t" r="r" b="b"/>
              <a:pathLst>
                <a:path w="998" h="141">
                  <a:moveTo>
                    <a:pt x="0" y="141"/>
                  </a:moveTo>
                  <a:lnTo>
                    <a:pt x="998" y="141"/>
                  </a:lnTo>
                  <a:lnTo>
                    <a:pt x="873" y="0"/>
                  </a:lnTo>
                  <a:lnTo>
                    <a:pt x="11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8223120" y="3068640"/>
              <a:ext cx="71640" cy="1051920"/>
            </a:xfrm>
            <a:custGeom>
              <a:avLst/>
              <a:gdLst/>
              <a:ahLst/>
              <a:rect l="l" t="t" r="r" b="b"/>
              <a:pathLst>
                <a:path w="155" h="2395">
                  <a:moveTo>
                    <a:pt x="0" y="2388"/>
                  </a:moveTo>
                  <a:lnTo>
                    <a:pt x="15" y="2395"/>
                  </a:lnTo>
                  <a:lnTo>
                    <a:pt x="155" y="2395"/>
                  </a:lnTo>
                  <a:lnTo>
                    <a:pt x="15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88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8524800" y="3068640"/>
              <a:ext cx="43920" cy="1051920"/>
            </a:xfrm>
            <a:custGeom>
              <a:avLst/>
              <a:gdLst/>
              <a:ahLst/>
              <a:rect l="l" t="t" r="r" b="b"/>
              <a:pathLst>
                <a:path w="97" h="2395">
                  <a:moveTo>
                    <a:pt x="0" y="2395"/>
                  </a:moveTo>
                  <a:lnTo>
                    <a:pt x="83" y="2395"/>
                  </a:lnTo>
                  <a:lnTo>
                    <a:pt x="97" y="2380"/>
                  </a:lnTo>
                  <a:lnTo>
                    <a:pt x="97" y="23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239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8229960" y="3068640"/>
              <a:ext cx="333000" cy="105192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8239680" y="3068640"/>
              <a:ext cx="308520" cy="637920"/>
            </a:xfrm>
            <a:custGeom>
              <a:avLst/>
              <a:gdLst/>
              <a:ahLst/>
              <a:rect l="l" t="t" r="r" b="b"/>
              <a:pathLst>
                <a:path w="673" h="1453">
                  <a:moveTo>
                    <a:pt x="0" y="0"/>
                  </a:moveTo>
                  <a:lnTo>
                    <a:pt x="0" y="1422"/>
                  </a:lnTo>
                  <a:lnTo>
                    <a:pt x="38" y="1453"/>
                  </a:lnTo>
                  <a:lnTo>
                    <a:pt x="119" y="1453"/>
                  </a:lnTo>
                  <a:lnTo>
                    <a:pt x="119" y="1372"/>
                  </a:lnTo>
                  <a:lnTo>
                    <a:pt x="141" y="1341"/>
                  </a:lnTo>
                  <a:lnTo>
                    <a:pt x="540" y="1341"/>
                  </a:lnTo>
                  <a:lnTo>
                    <a:pt x="570" y="1372"/>
                  </a:lnTo>
                  <a:lnTo>
                    <a:pt x="570" y="1453"/>
                  </a:lnTo>
                  <a:lnTo>
                    <a:pt x="652" y="1453"/>
                  </a:lnTo>
                  <a:lnTo>
                    <a:pt x="673" y="1430"/>
                  </a:lnTo>
                  <a:lnTo>
                    <a:pt x="67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8501400" y="3715920"/>
              <a:ext cx="1080" cy="40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8294760" y="3715920"/>
              <a:ext cx="1080" cy="40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8325360" y="3666960"/>
              <a:ext cx="6840" cy="44676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8339040" y="3666960"/>
              <a:ext cx="5040" cy="44676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8351280" y="3666960"/>
              <a:ext cx="8280" cy="446760"/>
            </a:xfrm>
            <a:custGeom>
              <a:avLst/>
              <a:gdLst/>
              <a:ahLst/>
              <a:rect l="l" t="t" r="r" b="b"/>
              <a:pathLst>
                <a:path w="16" h="1016">
                  <a:moveTo>
                    <a:pt x="0" y="1016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8366400" y="3666960"/>
              <a:ext cx="5400" cy="44676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8379000" y="3666960"/>
              <a:ext cx="6840" cy="446760"/>
            </a:xfrm>
            <a:custGeom>
              <a:avLst/>
              <a:gdLst/>
              <a:ahLst/>
              <a:rect l="l" t="t" r="r" b="b"/>
              <a:pathLst>
                <a:path w="15" h="1016">
                  <a:moveTo>
                    <a:pt x="0" y="1016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8392680" y="3666960"/>
              <a:ext cx="6840" cy="44676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8406360" y="3666960"/>
              <a:ext cx="6840" cy="44676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8420040" y="3666960"/>
              <a:ext cx="6840" cy="446760"/>
            </a:xfrm>
            <a:custGeom>
              <a:avLst/>
              <a:gdLst/>
              <a:ahLst/>
              <a:rect l="l" t="t" r="r" b="b"/>
              <a:pathLst>
                <a:path w="16" h="1016">
                  <a:moveTo>
                    <a:pt x="0" y="1016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8434080" y="3666960"/>
              <a:ext cx="6840" cy="44676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8447760" y="3666960"/>
              <a:ext cx="6840" cy="446760"/>
            </a:xfrm>
            <a:custGeom>
              <a:avLst/>
              <a:gdLst/>
              <a:ahLst/>
              <a:rect l="l" t="t" r="r" b="b"/>
              <a:pathLst>
                <a:path w="15" h="1016">
                  <a:moveTo>
                    <a:pt x="0" y="1016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8460000" y="3666960"/>
              <a:ext cx="6840" cy="446760"/>
            </a:xfrm>
            <a:custGeom>
              <a:avLst/>
              <a:gdLst/>
              <a:ahLst/>
              <a:rect l="l" t="t" r="r" b="b"/>
              <a:pathLst>
                <a:path w="15" h="1016">
                  <a:moveTo>
                    <a:pt x="0" y="1016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V="1">
              <a:off x="8474040" y="3666600"/>
              <a:ext cx="1080" cy="44676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8253360" y="3547080"/>
              <a:ext cx="278280" cy="77400"/>
            </a:xfrm>
            <a:custGeom>
              <a:avLst/>
              <a:gdLst/>
              <a:ahLst/>
              <a:rect l="l" t="t" r="r" b="b"/>
              <a:pathLst>
                <a:path w="606" h="177">
                  <a:moveTo>
                    <a:pt x="606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51" y="177"/>
                  </a:lnTo>
                  <a:lnTo>
                    <a:pt x="51" y="30"/>
                  </a:lnTo>
                  <a:lnTo>
                    <a:pt x="569" y="15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253360" y="3618360"/>
              <a:ext cx="278280" cy="6480"/>
            </a:xfrm>
            <a:custGeom>
              <a:avLst/>
              <a:gdLst/>
              <a:ahLst/>
              <a:rect l="l" t="t" r="r" b="b"/>
              <a:pathLst>
                <a:path w="606" h="15">
                  <a:moveTo>
                    <a:pt x="569" y="0"/>
                  </a:moveTo>
                  <a:lnTo>
                    <a:pt x="51" y="0"/>
                  </a:lnTo>
                  <a:lnTo>
                    <a:pt x="0" y="15"/>
                  </a:lnTo>
                  <a:lnTo>
                    <a:pt x="606" y="15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273880" y="3557520"/>
              <a:ext cx="245160" cy="57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8454600" y="3564360"/>
              <a:ext cx="49320" cy="4212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8466840" y="3573360"/>
              <a:ext cx="27360" cy="2628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60" y="29"/>
                  </a:moveTo>
                  <a:lnTo>
                    <a:pt x="58" y="23"/>
                  </a:lnTo>
                  <a:lnTo>
                    <a:pt x="57" y="18"/>
                  </a:lnTo>
                  <a:lnTo>
                    <a:pt x="55" y="13"/>
                  </a:lnTo>
                  <a:lnTo>
                    <a:pt x="50" y="8"/>
                  </a:lnTo>
                  <a:lnTo>
                    <a:pt x="46" y="4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1" y="36"/>
                  </a:lnTo>
                  <a:lnTo>
                    <a:pt x="3" y="41"/>
                  </a:lnTo>
                  <a:lnTo>
                    <a:pt x="6" y="47"/>
                  </a:lnTo>
                  <a:lnTo>
                    <a:pt x="10" y="51"/>
                  </a:lnTo>
                  <a:lnTo>
                    <a:pt x="15" y="55"/>
                  </a:lnTo>
                  <a:lnTo>
                    <a:pt x="20" y="57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8" y="57"/>
                  </a:lnTo>
                  <a:lnTo>
                    <a:pt x="44" y="56"/>
                  </a:lnTo>
                  <a:lnTo>
                    <a:pt x="50" y="52"/>
                  </a:lnTo>
                  <a:lnTo>
                    <a:pt x="53" y="47"/>
                  </a:lnTo>
                  <a:lnTo>
                    <a:pt x="57" y="42"/>
                  </a:lnTo>
                  <a:lnTo>
                    <a:pt x="58" y="36"/>
                  </a:lnTo>
                  <a:lnTo>
                    <a:pt x="60" y="31"/>
                  </a:lnTo>
                  <a:lnTo>
                    <a:pt x="60" y="29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8385840" y="3580200"/>
              <a:ext cx="27360" cy="262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1"/>
                  </a:moveTo>
                  <a:lnTo>
                    <a:pt x="58" y="24"/>
                  </a:lnTo>
                  <a:lnTo>
                    <a:pt x="57" y="18"/>
                  </a:lnTo>
                  <a:lnTo>
                    <a:pt x="54" y="13"/>
                  </a:lnTo>
                  <a:lnTo>
                    <a:pt x="49" y="8"/>
                  </a:lnTo>
                  <a:lnTo>
                    <a:pt x="46" y="4"/>
                  </a:lnTo>
                  <a:lnTo>
                    <a:pt x="39" y="1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4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1" y="36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2"/>
                  </a:lnTo>
                  <a:lnTo>
                    <a:pt x="15" y="56"/>
                  </a:lnTo>
                  <a:lnTo>
                    <a:pt x="20" y="58"/>
                  </a:lnTo>
                  <a:lnTo>
                    <a:pt x="27" y="60"/>
                  </a:lnTo>
                  <a:lnTo>
                    <a:pt x="33" y="60"/>
                  </a:lnTo>
                  <a:lnTo>
                    <a:pt x="38" y="58"/>
                  </a:lnTo>
                  <a:lnTo>
                    <a:pt x="44" y="56"/>
                  </a:lnTo>
                  <a:lnTo>
                    <a:pt x="49" y="52"/>
                  </a:lnTo>
                  <a:lnTo>
                    <a:pt x="53" y="48"/>
                  </a:lnTo>
                  <a:lnTo>
                    <a:pt x="57" y="43"/>
                  </a:lnTo>
                  <a:lnTo>
                    <a:pt x="58" y="37"/>
                  </a:lnTo>
                  <a:lnTo>
                    <a:pt x="60" y="31"/>
                  </a:lnTo>
                  <a:lnTo>
                    <a:pt x="60" y="31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8345880" y="3580200"/>
              <a:ext cx="27360" cy="2628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58" y="31"/>
                  </a:moveTo>
                  <a:lnTo>
                    <a:pt x="58" y="24"/>
                  </a:lnTo>
                  <a:lnTo>
                    <a:pt x="55" y="18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3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5" y="47"/>
                  </a:lnTo>
                  <a:lnTo>
                    <a:pt x="9" y="52"/>
                  </a:lnTo>
                  <a:lnTo>
                    <a:pt x="14" y="56"/>
                  </a:lnTo>
                  <a:lnTo>
                    <a:pt x="20" y="58"/>
                  </a:lnTo>
                  <a:lnTo>
                    <a:pt x="25" y="60"/>
                  </a:lnTo>
                  <a:lnTo>
                    <a:pt x="31" y="60"/>
                  </a:lnTo>
                  <a:lnTo>
                    <a:pt x="38" y="58"/>
                  </a:lnTo>
                  <a:lnTo>
                    <a:pt x="43" y="56"/>
                  </a:lnTo>
                  <a:lnTo>
                    <a:pt x="48" y="52"/>
                  </a:lnTo>
                  <a:lnTo>
                    <a:pt x="53" y="48"/>
                  </a:lnTo>
                  <a:lnTo>
                    <a:pt x="55" y="43"/>
                  </a:lnTo>
                  <a:lnTo>
                    <a:pt x="58" y="37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8276760" y="3473280"/>
              <a:ext cx="48240" cy="4464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8276760" y="3473280"/>
              <a:ext cx="48240" cy="446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0"/>
                  </a:moveTo>
                  <a:lnTo>
                    <a:pt x="0" y="0"/>
                  </a:lnTo>
                  <a:lnTo>
                    <a:pt x="0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8250480" y="3084480"/>
              <a:ext cx="287640" cy="350640"/>
            </a:xfrm>
            <a:prstGeom prst="rect">
              <a:avLst/>
            </a:pr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 flipV="1">
              <a:off x="8250480" y="3084480"/>
              <a:ext cx="1440" cy="35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H="1">
              <a:off x="8250120" y="3393000"/>
              <a:ext cx="28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 flipH="1">
              <a:off x="8250120" y="3317760"/>
              <a:ext cx="28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250480" y="3097440"/>
              <a:ext cx="287640" cy="12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538480" y="3084480"/>
              <a:ext cx="1080" cy="35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 flipH="1">
              <a:off x="8250120" y="3084480"/>
              <a:ext cx="287640" cy="1080"/>
            </a:xfrm>
            <a:prstGeom prst="line">
              <a:avLst/>
            </a:prstGeom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250480" y="3110760"/>
              <a:ext cx="287640" cy="13572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294760" y="3259800"/>
              <a:ext cx="196560" cy="4428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311320" y="3110760"/>
              <a:ext cx="155520" cy="35280"/>
            </a:xfrm>
            <a:custGeom>
              <a:avLst/>
              <a:gdLst/>
              <a:ahLst/>
              <a:rect l="l" t="t" r="r" b="b"/>
              <a:pathLst>
                <a:path w="340" h="81">
                  <a:moveTo>
                    <a:pt x="0" y="0"/>
                  </a:moveTo>
                  <a:lnTo>
                    <a:pt x="0" y="81"/>
                  </a:lnTo>
                  <a:lnTo>
                    <a:pt x="340" y="81"/>
                  </a:lnTo>
                  <a:lnTo>
                    <a:pt x="3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307000" y="3178080"/>
              <a:ext cx="108720" cy="55080"/>
            </a:xfrm>
            <a:custGeom>
              <a:avLst/>
              <a:gdLst/>
              <a:ahLst/>
              <a:rect l="l" t="t" r="r" b="b"/>
              <a:pathLst>
                <a:path w="237" h="125">
                  <a:moveTo>
                    <a:pt x="237" y="0"/>
                  </a:moveTo>
                  <a:lnTo>
                    <a:pt x="0" y="0"/>
                  </a:lnTo>
                  <a:lnTo>
                    <a:pt x="0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307000" y="3178080"/>
              <a:ext cx="108720" cy="55080"/>
            </a:xfrm>
            <a:custGeom>
              <a:avLst/>
              <a:gdLst/>
              <a:ahLst/>
              <a:rect l="l" t="t" r="r" b="b"/>
              <a:pathLst>
                <a:path w="237" h="125">
                  <a:moveTo>
                    <a:pt x="0" y="125"/>
                  </a:moveTo>
                  <a:lnTo>
                    <a:pt x="237" y="125"/>
                  </a:lnTo>
                  <a:lnTo>
                    <a:pt x="237" y="0"/>
                  </a:lnTo>
                </a:path>
              </a:pathLst>
            </a:custGeom>
            <a:noFill/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260200" y="3193920"/>
              <a:ext cx="258840" cy="16920"/>
            </a:xfrm>
            <a:custGeom>
              <a:avLst/>
              <a:gdLst/>
              <a:ahLst/>
              <a:rect l="l" t="t" r="r" b="b"/>
              <a:pathLst>
                <a:path w="564" h="37">
                  <a:moveTo>
                    <a:pt x="0" y="37"/>
                  </a:moveTo>
                  <a:lnTo>
                    <a:pt x="104" y="37"/>
                  </a:lnTo>
                  <a:lnTo>
                    <a:pt x="104" y="31"/>
                  </a:lnTo>
                  <a:lnTo>
                    <a:pt x="341" y="31"/>
                  </a:lnTo>
                  <a:lnTo>
                    <a:pt x="341" y="37"/>
                  </a:lnTo>
                  <a:lnTo>
                    <a:pt x="564" y="37"/>
                  </a:lnTo>
                  <a:lnTo>
                    <a:pt x="564" y="0"/>
                  </a:lnTo>
                  <a:lnTo>
                    <a:pt x="348" y="0"/>
                  </a:lnTo>
                  <a:lnTo>
                    <a:pt x="348" y="8"/>
                  </a:lnTo>
                  <a:lnTo>
                    <a:pt x="104" y="8"/>
                  </a:lnTo>
                  <a:lnTo>
                    <a:pt x="104" y="0"/>
                  </a:lnTo>
                  <a:lnTo>
                    <a:pt x="0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8372160" y="3181680"/>
              <a:ext cx="13680" cy="47520"/>
            </a:xfrm>
            <a:custGeom>
              <a:avLst/>
              <a:gdLst/>
              <a:ahLst/>
              <a:rect l="l" t="t" r="r" b="b"/>
              <a:pathLst>
                <a:path w="30" h="110">
                  <a:moveTo>
                    <a:pt x="0" y="110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8"/>
                  </a:lnTo>
                  <a:lnTo>
                    <a:pt x="15" y="8"/>
                  </a:lnTo>
                  <a:lnTo>
                    <a:pt x="7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325360" y="3184560"/>
              <a:ext cx="43920" cy="648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0" y="15"/>
                  </a:moveTo>
                  <a:lnTo>
                    <a:pt x="0" y="0"/>
                  </a:lnTo>
                  <a:lnTo>
                    <a:pt x="9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263080" y="3146040"/>
              <a:ext cx="20520" cy="1584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8250480" y="3171240"/>
              <a:ext cx="28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307000" y="3268800"/>
              <a:ext cx="166680" cy="26280"/>
            </a:xfrm>
            <a:custGeom>
              <a:avLst/>
              <a:gdLst/>
              <a:ahLst/>
              <a:rect l="l" t="t" r="r" b="b"/>
              <a:pathLst>
                <a:path w="363" h="59">
                  <a:moveTo>
                    <a:pt x="0" y="0"/>
                  </a:moveTo>
                  <a:lnTo>
                    <a:pt x="0" y="23"/>
                  </a:lnTo>
                  <a:lnTo>
                    <a:pt x="112" y="23"/>
                  </a:lnTo>
                  <a:lnTo>
                    <a:pt x="112" y="59"/>
                  </a:lnTo>
                  <a:lnTo>
                    <a:pt x="260" y="59"/>
                  </a:lnTo>
                  <a:lnTo>
                    <a:pt x="260" y="23"/>
                  </a:lnTo>
                  <a:lnTo>
                    <a:pt x="363" y="23"/>
                  </a:lnTo>
                  <a:lnTo>
                    <a:pt x="3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359560" y="3266280"/>
              <a:ext cx="673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 flipH="1">
              <a:off x="8334360" y="3288960"/>
              <a:ext cx="6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50640" y="3284640"/>
              <a:ext cx="23400" cy="10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481960" y="3178080"/>
              <a:ext cx="5400" cy="900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11"/>
                  </a:moveTo>
                  <a:lnTo>
                    <a:pt x="13" y="6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6" y="21"/>
                  </a:lnTo>
                  <a:lnTo>
                    <a:pt x="10" y="21"/>
                  </a:lnTo>
                  <a:lnTo>
                    <a:pt x="11" y="19"/>
                  </a:lnTo>
                  <a:lnTo>
                    <a:pt x="13" y="15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eaff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0" dur="indefinite" restart="never" nodeType="tmRoot">
          <p:childTnLst>
            <p:seq>
              <p:cTn id="3861" dur="indefinite" nodeType="mainSeq">
                <p:childTnLst>
                  <p:par>
                    <p:cTn id="3862" fill="hold">
                      <p:stCondLst>
                        <p:cond delay="indefinite"/>
                      </p:stCondLst>
                      <p:childTnLst>
                        <p:par>
                          <p:cTn id="3863" fill="hold">
                            <p:stCondLst>
                              <p:cond delay="0"/>
                            </p:stCondLst>
                            <p:childTnLst>
                              <p:par>
                                <p:cTn id="38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66" dur="500"/>
                                        <p:tgtEl>
                                          <p:spTgt spid="2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7" fill="hold">
                      <p:stCondLst>
                        <p:cond delay="indefinite"/>
                      </p:stCondLst>
                      <p:childTnLst>
                        <p:par>
                          <p:cTn id="3868" fill="hold">
                            <p:stCondLst>
                              <p:cond delay="0"/>
                            </p:stCondLst>
                            <p:childTnLst>
                              <p:par>
                                <p:cTn id="38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1" dur="500" fill="hold"/>
                                        <p:tgtEl>
                                          <p:spTgt spid="2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2" dur="500" fill="hold"/>
                                        <p:tgtEl>
                                          <p:spTgt spid="2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3" fill="hold">
                      <p:stCondLst>
                        <p:cond delay="indefinite"/>
                      </p:stCondLst>
                      <p:childTnLst>
                        <p:par>
                          <p:cTn id="3874" fill="hold">
                            <p:stCondLst>
                              <p:cond delay="0"/>
                            </p:stCondLst>
                            <p:childTnLst>
                              <p:par>
                                <p:cTn id="38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7" dur="500" fill="hold"/>
                                        <p:tgtEl>
                                          <p:spTgt spid="2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8" dur="500" fill="hold"/>
                                        <p:tgtEl>
                                          <p:spTgt spid="2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2" dur="5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6" dur="500"/>
                                        <p:tgtEl>
                                          <p:spTgt spid="2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7" fill="hold">
                      <p:stCondLst>
                        <p:cond delay="indefinite"/>
                      </p:stCondLst>
                      <p:childTnLst>
                        <p:par>
                          <p:cTn id="3888" fill="hold">
                            <p:stCondLst>
                              <p:cond delay="0"/>
                            </p:stCondLst>
                            <p:childTnLst>
                              <p:par>
                                <p:cTn id="38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1" dur="500" fill="hold"/>
                                        <p:tgtEl>
                                          <p:spTgt spid="2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2" dur="500" fill="hold"/>
                                        <p:tgtEl>
                                          <p:spTgt spid="2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3" fill="hold">
                            <p:stCondLst>
                              <p:cond delay="500"/>
                            </p:stCondLst>
                            <p:childTnLst>
                              <p:par>
                                <p:cTn id="389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96" dur="500"/>
                                        <p:tgtEl>
                                          <p:spTgt spid="2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7" fill="hold">
                      <p:stCondLst>
                        <p:cond delay="indefinite"/>
                      </p:stCondLst>
                      <p:childTnLst>
                        <p:par>
                          <p:cTn id="3898" fill="hold">
                            <p:stCondLst>
                              <p:cond delay="0"/>
                            </p:stCondLst>
                            <p:childTnLst>
                              <p:par>
                                <p:cTn id="38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1" dur="500"/>
                                        <p:tgtEl>
                                          <p:spTgt spid="2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2" fill="hold">
                      <p:stCondLst>
                        <p:cond delay="indefinite"/>
                      </p:stCondLst>
                      <p:childTnLst>
                        <p:par>
                          <p:cTn id="3903" fill="hold">
                            <p:stCondLst>
                              <p:cond delay="0"/>
                            </p:stCondLst>
                            <p:childTnLst>
                              <p:par>
                                <p:cTn id="39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6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7" fill="hold">
                      <p:stCondLst>
                        <p:cond delay="indefinite"/>
                      </p:stCondLst>
                      <p:childTnLst>
                        <p:par>
                          <p:cTn id="3908" fill="hold">
                            <p:stCondLst>
                              <p:cond delay="0"/>
                            </p:stCondLst>
                            <p:childTnLst>
                              <p:par>
                                <p:cTn id="39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11" dur="500"/>
                                        <p:tgtEl>
                                          <p:spTgt spid="2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2" fill="hold">
                      <p:stCondLst>
                        <p:cond delay="indefinite"/>
                      </p:stCondLst>
                      <p:childTnLst>
                        <p:par>
                          <p:cTn id="3913" fill="hold">
                            <p:stCondLst>
                              <p:cond delay="0"/>
                            </p:stCondLst>
                            <p:childTnLst>
                              <p:par>
                                <p:cTn id="39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16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7" fill="hold">
                            <p:stCondLst>
                              <p:cond delay="500"/>
                            </p:stCondLst>
                            <p:childTnLst>
                              <p:par>
                                <p:cTn id="39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0" dur="500"/>
                                        <p:tgtEl>
                                          <p:spTgt spid="2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4" dur="500"/>
                                        <p:tgtEl>
                                          <p:spTgt spid="2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5" fill="hold">
                      <p:stCondLst>
                        <p:cond delay="indefinite"/>
                      </p:stCondLst>
                      <p:childTnLst>
                        <p:par>
                          <p:cTn id="3926" fill="hold">
                            <p:stCondLst>
                              <p:cond delay="0"/>
                            </p:stCondLst>
                            <p:childTnLst>
                              <p:par>
                                <p:cTn id="39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9" dur="500"/>
                                        <p:tgtEl>
                                          <p:spTgt spid="2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rotection Doma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1905120"/>
            <a:ext cx="5943600" cy="2590560"/>
          </a:xfrm>
          <a:prstGeom prst="ellipse">
            <a:avLst/>
          </a:prstGeom>
          <a:solidFill>
            <a:srgbClr val="cecec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2590920"/>
            <a:ext cx="1600200" cy="761760"/>
          </a:xfrm>
          <a:prstGeom prst="plus">
            <a:avLst>
              <a:gd name="adj" fmla="val 1895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ile2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, 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2133720"/>
            <a:ext cx="1295280" cy="761760"/>
          </a:xfrm>
          <a:prstGeom prst="plus">
            <a:avLst>
              <a:gd name="adj" fmla="val 1895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er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2514600"/>
            <a:ext cx="1295280" cy="762120"/>
          </a:xfrm>
          <a:prstGeom prst="plus">
            <a:avLst>
              <a:gd name="adj" fmla="val 1895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ile1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3124080"/>
            <a:ext cx="1981080" cy="762120"/>
          </a:xfrm>
          <a:prstGeom prst="plus">
            <a:avLst>
              <a:gd name="adj" fmla="val 1895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AM 100..500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oad,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4114800"/>
            <a:ext cx="3505320" cy="914400"/>
          </a:xfrm>
          <a:prstGeom prst="ellipse">
            <a:avLst/>
          </a:prstGeom>
          <a:solidFill>
            <a:srgbClr val="cecec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4800600"/>
            <a:ext cx="3505320" cy="914400"/>
          </a:xfrm>
          <a:prstGeom prst="ellipse">
            <a:avLst/>
          </a:prstGeom>
          <a:solidFill>
            <a:srgbClr val="cecec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4267080"/>
            <a:ext cx="304920" cy="228600"/>
          </a:xfrm>
          <a:prstGeom prst="plus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4267080"/>
            <a:ext cx="304920" cy="228600"/>
          </a:xfrm>
          <a:prstGeom prst="plus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3080" y="4267080"/>
            <a:ext cx="304920" cy="228600"/>
          </a:xfrm>
          <a:prstGeom prst="plus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5105520"/>
            <a:ext cx="304920" cy="228600"/>
          </a:xfrm>
          <a:prstGeom prst="plus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4952880"/>
            <a:ext cx="304920" cy="228600"/>
          </a:xfrm>
          <a:prstGeom prst="plus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4952880"/>
            <a:ext cx="304920" cy="228600"/>
          </a:xfrm>
          <a:prstGeom prst="plus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rusion Det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 attempted/successful intru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: real-time vs after-the-f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s examined (cmds, syscalls, packets, 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e: alert, halt, trap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279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Signature-based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Known patterns of intru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rus detection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279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Tahoma"/>
              </a:rPr>
              <a:t>Anomaly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ystem call behaviour of daem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er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rusion Det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alse Alarms &amp; Failures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alse positives &amp; false nega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tection Metho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 and L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curity related event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Log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Analy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rip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utes fingerprints of files/direc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tects modif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stem Call Monito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tects attacks that take over a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0" dur="indefinite" restart="never" nodeType="tmRoot">
          <p:childTnLst>
            <p:seq>
              <p:cTn id="3931" dur="indefinite" nodeType="mainSeq">
                <p:childTnLst>
                  <p:par>
                    <p:cTn id="3932" fill="hold">
                      <p:stCondLst>
                        <p:cond delay="indefinite"/>
                      </p:stCondLst>
                      <p:childTnLst>
                        <p:par>
                          <p:cTn id="3933" fill="hold">
                            <p:stCondLst>
                              <p:cond delay="0"/>
                            </p:stCondLst>
                            <p:childTnLst>
                              <p:par>
                                <p:cTn id="39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36" dur="500"/>
                                        <p:tgtEl>
                                          <p:spTgt spid="2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39" dur="500"/>
                                        <p:tgtEl>
                                          <p:spTgt spid="2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0" fill="hold">
                      <p:stCondLst>
                        <p:cond delay="indefinite"/>
                      </p:stCondLst>
                      <p:childTnLst>
                        <p:par>
                          <p:cTn id="3941" fill="hold">
                            <p:stCondLst>
                              <p:cond delay="0"/>
                            </p:stCondLst>
                            <p:childTnLst>
                              <p:par>
                                <p:cTn id="39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4" dur="500"/>
                                        <p:tgtEl>
                                          <p:spTgt spid="2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5" fill="hold">
                      <p:stCondLst>
                        <p:cond delay="indefinite"/>
                      </p:stCondLst>
                      <p:childTnLst>
                        <p:par>
                          <p:cTn id="3946" fill="hold">
                            <p:stCondLst>
                              <p:cond delay="0"/>
                            </p:stCondLst>
                            <p:childTnLst>
                              <p:par>
                                <p:cTn id="39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9" dur="500"/>
                                        <p:tgtEl>
                                          <p:spTgt spid="2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0" fill="hold">
                            <p:stCondLst>
                              <p:cond delay="500"/>
                            </p:stCondLst>
                            <p:childTnLst>
                              <p:par>
                                <p:cTn id="39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3" dur="500"/>
                                        <p:tgtEl>
                                          <p:spTgt spid="2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4" fill="hold">
                      <p:stCondLst>
                        <p:cond delay="indefinite"/>
                      </p:stCondLst>
                      <p:childTnLst>
                        <p:par>
                          <p:cTn id="3955" fill="hold">
                            <p:stCondLst>
                              <p:cond delay="0"/>
                            </p:stCondLst>
                            <p:childTnLst>
                              <p:par>
                                <p:cTn id="39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8" dur="500"/>
                                        <p:tgtEl>
                                          <p:spTgt spid="2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9" fill="hold">
                            <p:stCondLst>
                              <p:cond delay="500"/>
                            </p:stCondLst>
                            <p:childTnLst>
                              <p:par>
                                <p:cTn id="39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62" dur="500"/>
                                        <p:tgtEl>
                                          <p:spTgt spid="2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66" dur="500"/>
                                        <p:tgtEl>
                                          <p:spTgt spid="28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7" fill="hold">
                      <p:stCondLst>
                        <p:cond delay="indefinite"/>
                      </p:stCondLst>
                      <p:childTnLst>
                        <p:par>
                          <p:cTn id="3968" fill="hold">
                            <p:stCondLst>
                              <p:cond delay="0"/>
                            </p:stCondLst>
                            <p:childTnLst>
                              <p:par>
                                <p:cTn id="39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1" dur="500"/>
                                        <p:tgtEl>
                                          <p:spTgt spid="28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2" fill="hold">
                            <p:stCondLst>
                              <p:cond delay="500"/>
                            </p:stCondLst>
                            <p:childTnLst>
                              <p:par>
                                <p:cTn id="39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5" dur="500"/>
                                        <p:tgtEl>
                                          <p:spTgt spid="28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.  Cryptograph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onventional Cryptograp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ublic Key Cryptograp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U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 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 Integrity/Authent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igital Signa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6" dur="indefinite" restart="never" nodeType="tmRoot">
          <p:childTnLst>
            <p:seq>
              <p:cTn id="3977" dur="indefinite" nodeType="mainSeq">
                <p:childTnLst>
                  <p:par>
                    <p:cTn id="3978" fill="hold">
                      <p:stCondLst>
                        <p:cond delay="indefinite"/>
                      </p:stCondLst>
                      <p:childTnLst>
                        <p:par>
                          <p:cTn id="3979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82" dur="500"/>
                                        <p:tgtEl>
                                          <p:spTgt spid="2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87" dur="500"/>
                                        <p:tgtEl>
                                          <p:spTgt spid="2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8" fill="hold">
                      <p:stCondLst>
                        <p:cond delay="indefinite"/>
                      </p:stCondLst>
                      <p:childTnLst>
                        <p:par>
                          <p:cTn id="3989" fill="hold">
                            <p:stCondLst>
                              <p:cond delay="0"/>
                            </p:stCondLst>
                            <p:childTnLst>
                              <p:par>
                                <p:cTn id="39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92" dur="500"/>
                                        <p:tgtEl>
                                          <p:spTgt spid="2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3" fill="hold">
                      <p:stCondLst>
                        <p:cond delay="indefinite"/>
                      </p:stCondLst>
                      <p:childTnLst>
                        <p:par>
                          <p:cTn id="3994" fill="hold">
                            <p:stCondLst>
                              <p:cond delay="0"/>
                            </p:stCondLst>
                            <p:childTnLst>
                              <p:par>
                                <p:cTn id="39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97" dur="500"/>
                                        <p:tgtEl>
                                          <p:spTgt spid="2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8" fill="hold">
                      <p:stCondLst>
                        <p:cond delay="indefinite"/>
                      </p:stCondLst>
                      <p:childTnLst>
                        <p:par>
                          <p:cTn id="3999" fill="hold">
                            <p:stCondLst>
                              <p:cond delay="0"/>
                            </p:stCondLst>
                            <p:childTnLst>
                              <p:par>
                                <p:cTn id="40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2" dur="500"/>
                                        <p:tgtEl>
                                          <p:spTgt spid="2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3" fill="hold">
                      <p:stCondLst>
                        <p:cond delay="indefinite"/>
                      </p:stCondLst>
                      <p:childTnLst>
                        <p:par>
                          <p:cTn id="4004" fill="hold">
                            <p:stCondLst>
                              <p:cond delay="0"/>
                            </p:stCondLst>
                            <p:childTnLst>
                              <p:par>
                                <p:cTn id="40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7" dur="500"/>
                                        <p:tgtEl>
                                          <p:spTgt spid="28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nventional Cryptograph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hared Secret K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ES, IDEA, RC5, AES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3" name=""/>
          <p:cNvSpPr/>
          <p:nvPr/>
        </p:nvSpPr>
        <p:spPr>
          <a:xfrm>
            <a:off x="2286000" y="3232080"/>
            <a:ext cx="1219320" cy="83844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ncry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609480" y="3111480"/>
            <a:ext cx="1219320" cy="107964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 a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962520" y="3111480"/>
            <a:ext cx="1218960" cy="10796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65Ytusg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khfuGyw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Hfh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1828800" y="349884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3505320" y="349884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5638680" y="4984920"/>
            <a:ext cx="1219320" cy="8380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cry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7308720" y="4869000"/>
            <a:ext cx="1219320" cy="107928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 a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5181480" y="52513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6858000" y="52513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3995640" y="4869000"/>
            <a:ext cx="1219320" cy="107928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65Ytusg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khfuGyw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Hfh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3" name=""/>
          <p:cNvCxnSpPr>
            <a:stCxn id="2845" idx="3"/>
            <a:endCxn id="2852" idx="1"/>
          </p:cNvCxnSpPr>
          <p:nvPr/>
        </p:nvCxnSpPr>
        <p:spPr>
          <a:xfrm flipH="1">
            <a:off x="3995280" y="3651120"/>
            <a:ext cx="1186560" cy="1758240"/>
          </a:xfrm>
          <a:prstGeom prst="curvedConnector5">
            <a:avLst>
              <a:gd name="adj1" fmla="val -19271"/>
              <a:gd name="adj2" fmla="val 24964"/>
              <a:gd name="adj3" fmla="val -19271"/>
            </a:avLst>
          </a:prstGeom>
          <a:ln w="7632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grpSp>
        <p:nvGrpSpPr>
          <p:cNvPr id="2854" name=""/>
          <p:cNvGrpSpPr/>
          <p:nvPr/>
        </p:nvGrpSpPr>
        <p:grpSpPr>
          <a:xfrm>
            <a:off x="2428560" y="2507040"/>
            <a:ext cx="1041480" cy="487800"/>
            <a:chOff x="2428560" y="2507040"/>
            <a:chExt cx="1041480" cy="487800"/>
          </a:xfrm>
        </p:grpSpPr>
        <p:sp>
          <p:nvSpPr>
            <p:cNvPr id="2855" name=""/>
            <p:cNvSpPr/>
            <p:nvPr/>
          </p:nvSpPr>
          <p:spPr>
            <a:xfrm rot="16357800">
              <a:off x="2728440" y="2239560"/>
              <a:ext cx="441360" cy="10224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6" name=""/>
            <p:cNvGrpSpPr/>
            <p:nvPr/>
          </p:nvGrpSpPr>
          <p:grpSpPr>
            <a:xfrm>
              <a:off x="2595600" y="2558160"/>
              <a:ext cx="131040" cy="341640"/>
              <a:chOff x="2595600" y="2558160"/>
              <a:chExt cx="131040" cy="341640"/>
            </a:xfrm>
          </p:grpSpPr>
          <p:sp>
            <p:nvSpPr>
              <p:cNvPr id="2857" name=""/>
              <p:cNvSpPr/>
              <p:nvPr/>
            </p:nvSpPr>
            <p:spPr>
              <a:xfrm rot="16357800">
                <a:off x="2505240" y="2682720"/>
                <a:ext cx="311400" cy="11700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 rot="16357800">
                <a:off x="2504880" y="2658240"/>
                <a:ext cx="312480" cy="11664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9" name=""/>
            <p:cNvGrpSpPr/>
            <p:nvPr/>
          </p:nvGrpSpPr>
          <p:grpSpPr>
            <a:xfrm>
              <a:off x="2727000" y="2551320"/>
              <a:ext cx="733320" cy="377280"/>
              <a:chOff x="2727000" y="2551320"/>
              <a:chExt cx="733320" cy="377280"/>
            </a:xfrm>
          </p:grpSpPr>
          <p:sp>
            <p:nvSpPr>
              <p:cNvPr id="2860" name=""/>
              <p:cNvSpPr/>
              <p:nvPr/>
            </p:nvSpPr>
            <p:spPr>
              <a:xfrm rot="16357800">
                <a:off x="3150000" y="2492280"/>
                <a:ext cx="9360" cy="5580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 rot="16357800">
                <a:off x="3160800" y="2445480"/>
                <a:ext cx="8640" cy="54432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62" name=""/>
              <p:cNvGrpSpPr/>
              <p:nvPr/>
            </p:nvGrpSpPr>
            <p:grpSpPr>
              <a:xfrm>
                <a:off x="2727000" y="2551320"/>
                <a:ext cx="733320" cy="377280"/>
                <a:chOff x="2727000" y="2551320"/>
                <a:chExt cx="733320" cy="377280"/>
              </a:xfrm>
            </p:grpSpPr>
            <p:sp>
              <p:nvSpPr>
                <p:cNvPr id="2863" name=""/>
                <p:cNvSpPr/>
                <p:nvPr/>
              </p:nvSpPr>
              <p:spPr>
                <a:xfrm rot="16357800">
                  <a:off x="2553840" y="2732760"/>
                  <a:ext cx="376920" cy="1368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 rot="16357800">
                  <a:off x="2693520" y="2732760"/>
                  <a:ext cx="230760" cy="1260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 rot="16357800">
                  <a:off x="3162600" y="2447640"/>
                  <a:ext cx="28800" cy="56592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 rot="16357800">
                  <a:off x="2814120" y="2700000"/>
                  <a:ext cx="200520" cy="8460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 rot="16357800">
                  <a:off x="2620440" y="2732400"/>
                  <a:ext cx="297000" cy="1152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68" name=""/>
          <p:cNvGrpSpPr/>
          <p:nvPr/>
        </p:nvGrpSpPr>
        <p:grpSpPr>
          <a:xfrm>
            <a:off x="5781600" y="4324680"/>
            <a:ext cx="1041480" cy="487800"/>
            <a:chOff x="5781600" y="4324680"/>
            <a:chExt cx="1041480" cy="487800"/>
          </a:xfrm>
        </p:grpSpPr>
        <p:sp>
          <p:nvSpPr>
            <p:cNvPr id="2869" name=""/>
            <p:cNvSpPr/>
            <p:nvPr/>
          </p:nvSpPr>
          <p:spPr>
            <a:xfrm rot="16357800">
              <a:off x="6081480" y="4057200"/>
              <a:ext cx="441360" cy="10224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0" name=""/>
            <p:cNvGrpSpPr/>
            <p:nvPr/>
          </p:nvGrpSpPr>
          <p:grpSpPr>
            <a:xfrm>
              <a:off x="5948640" y="4375800"/>
              <a:ext cx="131040" cy="341640"/>
              <a:chOff x="5948640" y="4375800"/>
              <a:chExt cx="131040" cy="341640"/>
            </a:xfrm>
          </p:grpSpPr>
          <p:sp>
            <p:nvSpPr>
              <p:cNvPr id="2871" name=""/>
              <p:cNvSpPr/>
              <p:nvPr/>
            </p:nvSpPr>
            <p:spPr>
              <a:xfrm rot="16357800">
                <a:off x="5858280" y="4500360"/>
                <a:ext cx="311400" cy="11700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 rot="16357800">
                <a:off x="5857920" y="4475880"/>
                <a:ext cx="312480" cy="11664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3" name=""/>
            <p:cNvGrpSpPr/>
            <p:nvPr/>
          </p:nvGrpSpPr>
          <p:grpSpPr>
            <a:xfrm>
              <a:off x="6080040" y="4368960"/>
              <a:ext cx="733320" cy="377280"/>
              <a:chOff x="6080040" y="4368960"/>
              <a:chExt cx="733320" cy="377280"/>
            </a:xfrm>
          </p:grpSpPr>
          <p:sp>
            <p:nvSpPr>
              <p:cNvPr id="2874" name=""/>
              <p:cNvSpPr/>
              <p:nvPr/>
            </p:nvSpPr>
            <p:spPr>
              <a:xfrm rot="16357800">
                <a:off x="6503040" y="4309920"/>
                <a:ext cx="9360" cy="5580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rot="16357800">
                <a:off x="6513840" y="4263120"/>
                <a:ext cx="8640" cy="54432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6" name=""/>
              <p:cNvGrpSpPr/>
              <p:nvPr/>
            </p:nvGrpSpPr>
            <p:grpSpPr>
              <a:xfrm>
                <a:off x="6080040" y="4368960"/>
                <a:ext cx="733320" cy="377280"/>
                <a:chOff x="6080040" y="4368960"/>
                <a:chExt cx="733320" cy="377280"/>
              </a:xfrm>
            </p:grpSpPr>
            <p:sp>
              <p:nvSpPr>
                <p:cNvPr id="2877" name=""/>
                <p:cNvSpPr/>
                <p:nvPr/>
              </p:nvSpPr>
              <p:spPr>
                <a:xfrm rot="16357800">
                  <a:off x="5906880" y="4550400"/>
                  <a:ext cx="376920" cy="1368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 rot="16357800">
                  <a:off x="6046560" y="4550400"/>
                  <a:ext cx="230760" cy="1260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 rot="16357800">
                  <a:off x="6515640" y="4265280"/>
                  <a:ext cx="28800" cy="56592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 rot="16357800">
                  <a:off x="6167160" y="4517640"/>
                  <a:ext cx="200520" cy="8460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 rot="16357800">
                  <a:off x="5973480" y="4550040"/>
                  <a:ext cx="297000" cy="1152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82" name=""/>
          <p:cNvSpPr/>
          <p:nvPr/>
        </p:nvSpPr>
        <p:spPr>
          <a:xfrm>
            <a:off x="2895480" y="28195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6248520" y="462456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3995640" y="4869000"/>
            <a:ext cx="1219320" cy="107928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65Ytusg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nl-BE" sz="2000" spc="-1" strike="noStrike">
                <a:solidFill>
                  <a:srgbClr val="ff3300"/>
                </a:solidFill>
                <a:latin typeface="Tahoma"/>
              </a:rPr>
              <a:t>J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uGyw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Hfh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7308720" y="4869000"/>
            <a:ext cx="1219320" cy="1079280"/>
          </a:xfrm>
          <a:prstGeom prst="foldedCorner">
            <a:avLst>
              <a:gd name="adj" fmla="val 12500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jojs nvk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ksd js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kjn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8" dur="indefinite" restart="never" nodeType="tmRoot">
          <p:childTnLst>
            <p:seq>
              <p:cTn id="4009" dur="indefinite" nodeType="mainSeq">
                <p:childTnLst>
                  <p:par>
                    <p:cTn id="4010" fill="hold">
                      <p:stCondLst>
                        <p:cond delay="indefinite"/>
                      </p:stCondLst>
                      <p:childTnLst>
                        <p:par>
                          <p:cTn id="4011" fill="hold">
                            <p:stCondLst>
                              <p:cond delay="0"/>
                            </p:stCondLst>
                            <p:childTnLst>
                              <p:par>
                                <p:cTn id="4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4" dur="5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5" fill="hold">
                            <p:stCondLst>
                              <p:cond delay="500"/>
                            </p:stCondLst>
                            <p:childTnLst>
                              <p:par>
                                <p:cTn id="4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8" dur="500"/>
                                        <p:tgtEl>
                                          <p:spTgt spid="2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2" dur="500"/>
                                        <p:tgtEl>
                                          <p:spTgt spid="2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6" dur="500" fill="hold"/>
                                        <p:tgtEl>
                                          <p:spTgt spid="2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7" dur="500" fill="hold"/>
                                        <p:tgtEl>
                                          <p:spTgt spid="2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1" dur="5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5" dur="500"/>
                                        <p:tgtEl>
                                          <p:spTgt spid="2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9" dur="5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0" fill="hold">
                      <p:stCondLst>
                        <p:cond delay="indefinite"/>
                      </p:stCondLst>
                      <p:childTnLst>
                        <p:par>
                          <p:cTn id="4041" fill="hold">
                            <p:stCondLst>
                              <p:cond delay="0"/>
                            </p:stCondLst>
                            <p:childTnLst>
                              <p:par>
                                <p:cTn id="40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4" dur="500"/>
                                        <p:tgtEl>
                                          <p:spTgt spid="2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5" fill="hold">
                            <p:stCondLst>
                              <p:cond delay="500"/>
                            </p:stCondLst>
                            <p:childTnLst>
                              <p:par>
                                <p:cTn id="40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8" dur="5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9" fill="hold">
                      <p:stCondLst>
                        <p:cond delay="indefinite"/>
                      </p:stCondLst>
                      <p:childTnLst>
                        <p:par>
                          <p:cTn id="4050" fill="hold">
                            <p:stCondLst>
                              <p:cond delay="0"/>
                            </p:stCondLst>
                            <p:childTnLst>
                              <p:par>
                                <p:cTn id="4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3" dur="500"/>
                                        <p:tgtEl>
                                          <p:spTgt spid="2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7" dur="500"/>
                                        <p:tgtEl>
                                          <p:spTgt spid="2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1" dur="500" fill="hold"/>
                                        <p:tgtEl>
                                          <p:spTgt spid="2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2" dur="500" fill="hold"/>
                                        <p:tgtEl>
                                          <p:spTgt spid="2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6" dur="500"/>
                                        <p:tgtEl>
                                          <p:spTgt spid="2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0" dur="500"/>
                                        <p:tgtEl>
                                          <p:spTgt spid="2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1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4" dur="500"/>
                                        <p:tgtEl>
                                          <p:spTgt spid="2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5" fill="hold">
                      <p:stCondLst>
                        <p:cond delay="indefinite"/>
                      </p:stCondLst>
                      <p:childTnLst>
                        <p:par>
                          <p:cTn id="4076" fill="hold">
                            <p:stCondLst>
                              <p:cond delay="0"/>
                            </p:stCondLst>
                            <p:childTnLst>
                              <p:par>
                                <p:cTn id="40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79" dur="500"/>
                                        <p:tgtEl>
                                          <p:spTgt spid="2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0" fill="hold">
                      <p:stCondLst>
                        <p:cond delay="indefinite"/>
                      </p:stCondLst>
                      <p:childTnLst>
                        <p:par>
                          <p:cTn id="4081" fill="hold">
                            <p:stCondLst>
                              <p:cond delay="0"/>
                            </p:stCondLst>
                            <p:childTnLst>
                              <p:par>
                                <p:cTn id="40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84" dur="500"/>
                                        <p:tgtEl>
                                          <p:spTgt spid="2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N - n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½ n x (n-1) pre-installed key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ecure Chan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8" name=""/>
          <p:cNvSpPr/>
          <p:nvPr/>
        </p:nvSpPr>
        <p:spPr>
          <a:xfrm>
            <a:off x="3200400" y="3733920"/>
            <a:ext cx="9144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6400800" y="3657600"/>
            <a:ext cx="9144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3809880" y="5410080"/>
            <a:ext cx="9144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4800600" y="2666880"/>
            <a:ext cx="9144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5715000" y="5410080"/>
            <a:ext cx="9144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3" name=""/>
          <p:cNvCxnSpPr>
            <a:stCxn id="2888" idx="7"/>
            <a:endCxn id="2891" idx="3"/>
          </p:cNvCxnSpPr>
          <p:nvPr/>
        </p:nvCxnSpPr>
        <p:spPr>
          <a:xfrm flipV="1">
            <a:off x="3981240" y="3252240"/>
            <a:ext cx="952920" cy="58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4" name=""/>
          <p:cNvCxnSpPr>
            <a:stCxn id="2888" idx="6"/>
            <a:endCxn id="2889" idx="2"/>
          </p:cNvCxnSpPr>
          <p:nvPr/>
        </p:nvCxnSpPr>
        <p:spPr>
          <a:xfrm flipV="1">
            <a:off x="4114800" y="3999960"/>
            <a:ext cx="22867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5" name=""/>
          <p:cNvCxnSpPr>
            <a:stCxn id="2888" idx="5"/>
            <a:endCxn id="2892" idx="1"/>
          </p:cNvCxnSpPr>
          <p:nvPr/>
        </p:nvCxnSpPr>
        <p:spPr>
          <a:xfrm>
            <a:off x="3981240" y="4319280"/>
            <a:ext cx="1867320" cy="119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6" name=""/>
          <p:cNvCxnSpPr>
            <a:stCxn id="2888" idx="4"/>
            <a:endCxn id="2890" idx="1"/>
          </p:cNvCxnSpPr>
          <p:nvPr/>
        </p:nvCxnSpPr>
        <p:spPr>
          <a:xfrm>
            <a:off x="3657600" y="4419360"/>
            <a:ext cx="286560" cy="1091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97" name=""/>
          <p:cNvGrpSpPr/>
          <p:nvPr/>
        </p:nvGrpSpPr>
        <p:grpSpPr>
          <a:xfrm>
            <a:off x="4487400" y="3032280"/>
            <a:ext cx="702000" cy="400680"/>
            <a:chOff x="4487400" y="3032280"/>
            <a:chExt cx="702000" cy="400680"/>
          </a:xfrm>
        </p:grpSpPr>
        <p:sp>
          <p:nvSpPr>
            <p:cNvPr id="2898" name=""/>
            <p:cNvSpPr/>
            <p:nvPr/>
          </p:nvSpPr>
          <p:spPr>
            <a:xfrm rot="16357800">
              <a:off x="4653360" y="288972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eaec5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9" name=""/>
            <p:cNvGrpSpPr/>
            <p:nvPr/>
          </p:nvGrpSpPr>
          <p:grpSpPr>
            <a:xfrm>
              <a:off x="4600080" y="3074040"/>
              <a:ext cx="90720" cy="285120"/>
              <a:chOff x="4600080" y="3074040"/>
              <a:chExt cx="90720" cy="285120"/>
            </a:xfrm>
          </p:grpSpPr>
          <p:sp>
            <p:nvSpPr>
              <p:cNvPr id="2900" name=""/>
              <p:cNvSpPr/>
              <p:nvPr/>
            </p:nvSpPr>
            <p:spPr>
              <a:xfrm rot="16357800">
                <a:off x="4514760" y="318744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eaec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rot="16357800">
                <a:off x="4514760" y="316692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eaec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2" name=""/>
            <p:cNvGrpSpPr/>
            <p:nvPr/>
          </p:nvGrpSpPr>
          <p:grpSpPr>
            <a:xfrm>
              <a:off x="4687920" y="3066840"/>
              <a:ext cx="493920" cy="315720"/>
              <a:chOff x="4687920" y="3066840"/>
              <a:chExt cx="493920" cy="315720"/>
            </a:xfrm>
          </p:grpSpPr>
          <p:sp>
            <p:nvSpPr>
              <p:cNvPr id="2903" name=""/>
              <p:cNvSpPr/>
              <p:nvPr/>
            </p:nvSpPr>
            <p:spPr>
              <a:xfrm rot="16357800">
                <a:off x="4971960" y="306036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aec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rot="16357800">
                <a:off x="4979520" y="302040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aec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5" name=""/>
              <p:cNvGrpSpPr/>
              <p:nvPr/>
            </p:nvGrpSpPr>
            <p:grpSpPr>
              <a:xfrm>
                <a:off x="4687920" y="3066840"/>
                <a:ext cx="493920" cy="315720"/>
                <a:chOff x="4687920" y="3066840"/>
                <a:chExt cx="493920" cy="315720"/>
              </a:xfrm>
            </p:grpSpPr>
            <p:sp>
              <p:nvSpPr>
                <p:cNvPr id="2906" name=""/>
                <p:cNvSpPr/>
                <p:nvPr/>
              </p:nvSpPr>
              <p:spPr>
                <a:xfrm rot="16357800">
                  <a:off x="4541760" y="3220200"/>
                  <a:ext cx="315720" cy="9000"/>
                </a:xfrm>
                <a:prstGeom prst="rect">
                  <a:avLst/>
                </a:prstGeom>
                <a:solidFill>
                  <a:srgbClr val="eaec5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 rot="16357800">
                  <a:off x="4647600" y="3219120"/>
                  <a:ext cx="193320" cy="8280"/>
                </a:xfrm>
                <a:prstGeom prst="rect">
                  <a:avLst/>
                </a:prstGeom>
                <a:solidFill>
                  <a:srgbClr val="eaec5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 rot="16357800">
                  <a:off x="4979160" y="302364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 rot="16357800">
                  <a:off x="4730760" y="319752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 rot="16357800">
                  <a:off x="4592520" y="321948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11" name=""/>
          <p:cNvGrpSpPr/>
          <p:nvPr/>
        </p:nvGrpSpPr>
        <p:grpSpPr>
          <a:xfrm>
            <a:off x="3725640" y="3500640"/>
            <a:ext cx="702000" cy="400680"/>
            <a:chOff x="3725640" y="3500640"/>
            <a:chExt cx="702000" cy="400680"/>
          </a:xfrm>
        </p:grpSpPr>
        <p:sp>
          <p:nvSpPr>
            <p:cNvPr id="2912" name=""/>
            <p:cNvSpPr/>
            <p:nvPr/>
          </p:nvSpPr>
          <p:spPr>
            <a:xfrm rot="16357800">
              <a:off x="3891600" y="335808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eaec5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3" name=""/>
            <p:cNvGrpSpPr/>
            <p:nvPr/>
          </p:nvGrpSpPr>
          <p:grpSpPr>
            <a:xfrm>
              <a:off x="3838320" y="3542400"/>
              <a:ext cx="90720" cy="285120"/>
              <a:chOff x="3838320" y="3542400"/>
              <a:chExt cx="90720" cy="285120"/>
            </a:xfrm>
          </p:grpSpPr>
          <p:sp>
            <p:nvSpPr>
              <p:cNvPr id="2914" name=""/>
              <p:cNvSpPr/>
              <p:nvPr/>
            </p:nvSpPr>
            <p:spPr>
              <a:xfrm rot="16357800">
                <a:off x="3753000" y="365580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eaec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rot="16357800">
                <a:off x="3753000" y="363528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eaec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6" name=""/>
            <p:cNvGrpSpPr/>
            <p:nvPr/>
          </p:nvGrpSpPr>
          <p:grpSpPr>
            <a:xfrm>
              <a:off x="3926160" y="3535200"/>
              <a:ext cx="493920" cy="315720"/>
              <a:chOff x="3926160" y="3535200"/>
              <a:chExt cx="493920" cy="315720"/>
            </a:xfrm>
          </p:grpSpPr>
          <p:sp>
            <p:nvSpPr>
              <p:cNvPr id="2917" name=""/>
              <p:cNvSpPr/>
              <p:nvPr/>
            </p:nvSpPr>
            <p:spPr>
              <a:xfrm rot="16357800">
                <a:off x="4210200" y="352872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aec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rot="16357800">
                <a:off x="4217760" y="348876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aec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19" name=""/>
              <p:cNvGrpSpPr/>
              <p:nvPr/>
            </p:nvGrpSpPr>
            <p:grpSpPr>
              <a:xfrm>
                <a:off x="3926160" y="3535200"/>
                <a:ext cx="493920" cy="315720"/>
                <a:chOff x="3926160" y="3535200"/>
                <a:chExt cx="493920" cy="315720"/>
              </a:xfrm>
            </p:grpSpPr>
            <p:sp>
              <p:nvSpPr>
                <p:cNvPr id="2920" name=""/>
                <p:cNvSpPr/>
                <p:nvPr/>
              </p:nvSpPr>
              <p:spPr>
                <a:xfrm rot="16357800">
                  <a:off x="3780000" y="3688560"/>
                  <a:ext cx="315720" cy="9000"/>
                </a:xfrm>
                <a:prstGeom prst="rect">
                  <a:avLst/>
                </a:prstGeom>
                <a:solidFill>
                  <a:srgbClr val="eaec5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 rot="16357800">
                  <a:off x="3885840" y="3687480"/>
                  <a:ext cx="193320" cy="8280"/>
                </a:xfrm>
                <a:prstGeom prst="rect">
                  <a:avLst/>
                </a:prstGeom>
                <a:solidFill>
                  <a:srgbClr val="eaec5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 rot="16357800">
                  <a:off x="4217400" y="349200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 rot="16357800">
                  <a:off x="3969000" y="366588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 rot="16357800">
                  <a:off x="3830760" y="368784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25" name=""/>
          <p:cNvGrpSpPr/>
          <p:nvPr/>
        </p:nvGrpSpPr>
        <p:grpSpPr>
          <a:xfrm>
            <a:off x="4106520" y="3870360"/>
            <a:ext cx="702000" cy="400680"/>
            <a:chOff x="4106520" y="3870360"/>
            <a:chExt cx="702000" cy="400680"/>
          </a:xfrm>
        </p:grpSpPr>
        <p:sp>
          <p:nvSpPr>
            <p:cNvPr id="2926" name=""/>
            <p:cNvSpPr/>
            <p:nvPr/>
          </p:nvSpPr>
          <p:spPr>
            <a:xfrm rot="16357800">
              <a:off x="4272480" y="372780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00279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7" name=""/>
            <p:cNvGrpSpPr/>
            <p:nvPr/>
          </p:nvGrpSpPr>
          <p:grpSpPr>
            <a:xfrm>
              <a:off x="4219200" y="3912120"/>
              <a:ext cx="90720" cy="285120"/>
              <a:chOff x="4219200" y="3912120"/>
              <a:chExt cx="90720" cy="285120"/>
            </a:xfrm>
          </p:grpSpPr>
          <p:sp>
            <p:nvSpPr>
              <p:cNvPr id="2928" name=""/>
              <p:cNvSpPr/>
              <p:nvPr/>
            </p:nvSpPr>
            <p:spPr>
              <a:xfrm rot="16357800">
                <a:off x="4133880" y="402552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rot="16357800">
                <a:off x="4133880" y="400500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0" name=""/>
            <p:cNvGrpSpPr/>
            <p:nvPr/>
          </p:nvGrpSpPr>
          <p:grpSpPr>
            <a:xfrm>
              <a:off x="4307040" y="3904920"/>
              <a:ext cx="493920" cy="315720"/>
              <a:chOff x="4307040" y="3904920"/>
              <a:chExt cx="493920" cy="315720"/>
            </a:xfrm>
          </p:grpSpPr>
          <p:sp>
            <p:nvSpPr>
              <p:cNvPr id="2931" name=""/>
              <p:cNvSpPr/>
              <p:nvPr/>
            </p:nvSpPr>
            <p:spPr>
              <a:xfrm rot="16357800">
                <a:off x="4591080" y="389844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rot="16357800">
                <a:off x="4598640" y="385848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3" name=""/>
              <p:cNvGrpSpPr/>
              <p:nvPr/>
            </p:nvGrpSpPr>
            <p:grpSpPr>
              <a:xfrm>
                <a:off x="4307040" y="3904920"/>
                <a:ext cx="493920" cy="315720"/>
                <a:chOff x="4307040" y="3904920"/>
                <a:chExt cx="493920" cy="315720"/>
              </a:xfrm>
            </p:grpSpPr>
            <p:sp>
              <p:nvSpPr>
                <p:cNvPr id="2934" name=""/>
                <p:cNvSpPr/>
                <p:nvPr/>
              </p:nvSpPr>
              <p:spPr>
                <a:xfrm rot="16357800">
                  <a:off x="4160880" y="4058280"/>
                  <a:ext cx="315720" cy="9000"/>
                </a:xfrm>
                <a:prstGeom prst="rect">
                  <a:avLst/>
                </a:prstGeom>
                <a:solidFill>
                  <a:srgbClr val="0027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 rot="16357800">
                  <a:off x="4266720" y="4057200"/>
                  <a:ext cx="193320" cy="8280"/>
                </a:xfrm>
                <a:prstGeom prst="rect">
                  <a:avLst/>
                </a:prstGeom>
                <a:solidFill>
                  <a:srgbClr val="0027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 rot="16357800">
                  <a:off x="4598280" y="386172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 rot="16357800">
                  <a:off x="4349880" y="403560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 rot="16357800">
                  <a:off x="4211640" y="405756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39" name=""/>
          <p:cNvGrpSpPr/>
          <p:nvPr/>
        </p:nvGrpSpPr>
        <p:grpSpPr>
          <a:xfrm>
            <a:off x="5935320" y="3870360"/>
            <a:ext cx="702000" cy="400680"/>
            <a:chOff x="5935320" y="3870360"/>
            <a:chExt cx="702000" cy="400680"/>
          </a:xfrm>
        </p:grpSpPr>
        <p:sp>
          <p:nvSpPr>
            <p:cNvPr id="2940" name=""/>
            <p:cNvSpPr/>
            <p:nvPr/>
          </p:nvSpPr>
          <p:spPr>
            <a:xfrm rot="16357800">
              <a:off x="6101280" y="372780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00279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1" name=""/>
            <p:cNvGrpSpPr/>
            <p:nvPr/>
          </p:nvGrpSpPr>
          <p:grpSpPr>
            <a:xfrm>
              <a:off x="6048000" y="3912120"/>
              <a:ext cx="90720" cy="285120"/>
              <a:chOff x="6048000" y="3912120"/>
              <a:chExt cx="90720" cy="285120"/>
            </a:xfrm>
          </p:grpSpPr>
          <p:sp>
            <p:nvSpPr>
              <p:cNvPr id="2942" name=""/>
              <p:cNvSpPr/>
              <p:nvPr/>
            </p:nvSpPr>
            <p:spPr>
              <a:xfrm rot="16357800">
                <a:off x="5962680" y="402552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rot="16357800">
                <a:off x="5962680" y="400500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4" name=""/>
            <p:cNvGrpSpPr/>
            <p:nvPr/>
          </p:nvGrpSpPr>
          <p:grpSpPr>
            <a:xfrm>
              <a:off x="6135840" y="3904920"/>
              <a:ext cx="493920" cy="315720"/>
              <a:chOff x="6135840" y="3904920"/>
              <a:chExt cx="493920" cy="315720"/>
            </a:xfrm>
          </p:grpSpPr>
          <p:sp>
            <p:nvSpPr>
              <p:cNvPr id="2945" name=""/>
              <p:cNvSpPr/>
              <p:nvPr/>
            </p:nvSpPr>
            <p:spPr>
              <a:xfrm rot="16357800">
                <a:off x="6419880" y="389844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rot="16357800">
                <a:off x="6427440" y="385848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7" name=""/>
              <p:cNvGrpSpPr/>
              <p:nvPr/>
            </p:nvGrpSpPr>
            <p:grpSpPr>
              <a:xfrm>
                <a:off x="6135840" y="3904920"/>
                <a:ext cx="493920" cy="315720"/>
                <a:chOff x="6135840" y="3904920"/>
                <a:chExt cx="493920" cy="315720"/>
              </a:xfrm>
            </p:grpSpPr>
            <p:sp>
              <p:nvSpPr>
                <p:cNvPr id="2948" name=""/>
                <p:cNvSpPr/>
                <p:nvPr/>
              </p:nvSpPr>
              <p:spPr>
                <a:xfrm rot="16357800">
                  <a:off x="5989680" y="4058280"/>
                  <a:ext cx="315720" cy="9000"/>
                </a:xfrm>
                <a:prstGeom prst="rect">
                  <a:avLst/>
                </a:prstGeom>
                <a:solidFill>
                  <a:srgbClr val="0027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 rot="16357800">
                  <a:off x="6095520" y="4057200"/>
                  <a:ext cx="193320" cy="8280"/>
                </a:xfrm>
                <a:prstGeom prst="rect">
                  <a:avLst/>
                </a:prstGeom>
                <a:solidFill>
                  <a:srgbClr val="0027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 rot="16357800">
                  <a:off x="6427080" y="386172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 rot="16357800">
                  <a:off x="6178680" y="403560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 rot="16357800">
                  <a:off x="6040440" y="405756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53" name=""/>
          <p:cNvGrpSpPr/>
          <p:nvPr/>
        </p:nvGrpSpPr>
        <p:grpSpPr>
          <a:xfrm>
            <a:off x="3877920" y="4186440"/>
            <a:ext cx="702000" cy="400680"/>
            <a:chOff x="3877920" y="4186440"/>
            <a:chExt cx="702000" cy="400680"/>
          </a:xfrm>
        </p:grpSpPr>
        <p:sp>
          <p:nvSpPr>
            <p:cNvPr id="2954" name=""/>
            <p:cNvSpPr/>
            <p:nvPr/>
          </p:nvSpPr>
          <p:spPr>
            <a:xfrm rot="16357800">
              <a:off x="4043880" y="404388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5" name=""/>
            <p:cNvGrpSpPr/>
            <p:nvPr/>
          </p:nvGrpSpPr>
          <p:grpSpPr>
            <a:xfrm>
              <a:off x="3990600" y="4228200"/>
              <a:ext cx="90720" cy="285120"/>
              <a:chOff x="3990600" y="4228200"/>
              <a:chExt cx="90720" cy="285120"/>
            </a:xfrm>
          </p:grpSpPr>
          <p:sp>
            <p:nvSpPr>
              <p:cNvPr id="2956" name=""/>
              <p:cNvSpPr/>
              <p:nvPr/>
            </p:nvSpPr>
            <p:spPr>
              <a:xfrm rot="16357800">
                <a:off x="3905280" y="434160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rot="16357800">
                <a:off x="3905280" y="432108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8" name=""/>
            <p:cNvGrpSpPr/>
            <p:nvPr/>
          </p:nvGrpSpPr>
          <p:grpSpPr>
            <a:xfrm>
              <a:off x="4078440" y="4221000"/>
              <a:ext cx="493920" cy="315720"/>
              <a:chOff x="4078440" y="4221000"/>
              <a:chExt cx="493920" cy="315720"/>
            </a:xfrm>
          </p:grpSpPr>
          <p:sp>
            <p:nvSpPr>
              <p:cNvPr id="2959" name=""/>
              <p:cNvSpPr/>
              <p:nvPr/>
            </p:nvSpPr>
            <p:spPr>
              <a:xfrm rot="16357800">
                <a:off x="4362480" y="421452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rot="16357800">
                <a:off x="4370040" y="417456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1" name=""/>
              <p:cNvGrpSpPr/>
              <p:nvPr/>
            </p:nvGrpSpPr>
            <p:grpSpPr>
              <a:xfrm>
                <a:off x="4078440" y="4221000"/>
                <a:ext cx="493920" cy="315720"/>
                <a:chOff x="4078440" y="4221000"/>
                <a:chExt cx="493920" cy="315720"/>
              </a:xfrm>
            </p:grpSpPr>
            <p:sp>
              <p:nvSpPr>
                <p:cNvPr id="2962" name=""/>
                <p:cNvSpPr/>
                <p:nvPr/>
              </p:nvSpPr>
              <p:spPr>
                <a:xfrm rot="16357800">
                  <a:off x="3932280" y="4374360"/>
                  <a:ext cx="315720" cy="9000"/>
                </a:xfrm>
                <a:prstGeom prst="rect">
                  <a:avLst/>
                </a:prstGeom>
                <a:solidFill>
                  <a:srgbClr val="fc012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 rot="16357800">
                  <a:off x="4038120" y="4373280"/>
                  <a:ext cx="193320" cy="8280"/>
                </a:xfrm>
                <a:prstGeom prst="rect">
                  <a:avLst/>
                </a:prstGeom>
                <a:solidFill>
                  <a:srgbClr val="fc012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 rot="16357800">
                  <a:off x="4369680" y="417780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 rot="16357800">
                  <a:off x="4121280" y="435168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 rot="16357800">
                  <a:off x="3983040" y="437364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67" name=""/>
          <p:cNvGrpSpPr/>
          <p:nvPr/>
        </p:nvGrpSpPr>
        <p:grpSpPr>
          <a:xfrm>
            <a:off x="5401800" y="5329440"/>
            <a:ext cx="702000" cy="400680"/>
            <a:chOff x="5401800" y="5329440"/>
            <a:chExt cx="702000" cy="400680"/>
          </a:xfrm>
        </p:grpSpPr>
        <p:sp>
          <p:nvSpPr>
            <p:cNvPr id="2968" name=""/>
            <p:cNvSpPr/>
            <p:nvPr/>
          </p:nvSpPr>
          <p:spPr>
            <a:xfrm rot="16357800">
              <a:off x="5567760" y="518688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9" name=""/>
            <p:cNvGrpSpPr/>
            <p:nvPr/>
          </p:nvGrpSpPr>
          <p:grpSpPr>
            <a:xfrm>
              <a:off x="5514480" y="5371200"/>
              <a:ext cx="90720" cy="285120"/>
              <a:chOff x="5514480" y="5371200"/>
              <a:chExt cx="90720" cy="285120"/>
            </a:xfrm>
          </p:grpSpPr>
          <p:sp>
            <p:nvSpPr>
              <p:cNvPr id="2970" name=""/>
              <p:cNvSpPr/>
              <p:nvPr/>
            </p:nvSpPr>
            <p:spPr>
              <a:xfrm rot="16357800">
                <a:off x="5429160" y="548460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rot="16357800">
                <a:off x="5429160" y="546408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2" name=""/>
            <p:cNvGrpSpPr/>
            <p:nvPr/>
          </p:nvGrpSpPr>
          <p:grpSpPr>
            <a:xfrm>
              <a:off x="5602320" y="5364000"/>
              <a:ext cx="493920" cy="315720"/>
              <a:chOff x="5602320" y="5364000"/>
              <a:chExt cx="493920" cy="315720"/>
            </a:xfrm>
          </p:grpSpPr>
          <p:sp>
            <p:nvSpPr>
              <p:cNvPr id="2973" name=""/>
              <p:cNvSpPr/>
              <p:nvPr/>
            </p:nvSpPr>
            <p:spPr>
              <a:xfrm rot="16357800">
                <a:off x="5886360" y="535752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rot="16357800">
                <a:off x="5893920" y="531756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5" name=""/>
              <p:cNvGrpSpPr/>
              <p:nvPr/>
            </p:nvGrpSpPr>
            <p:grpSpPr>
              <a:xfrm>
                <a:off x="5602320" y="5364000"/>
                <a:ext cx="493920" cy="315720"/>
                <a:chOff x="5602320" y="5364000"/>
                <a:chExt cx="493920" cy="315720"/>
              </a:xfrm>
            </p:grpSpPr>
            <p:sp>
              <p:nvSpPr>
                <p:cNvPr id="2976" name=""/>
                <p:cNvSpPr/>
                <p:nvPr/>
              </p:nvSpPr>
              <p:spPr>
                <a:xfrm rot="16357800">
                  <a:off x="5456160" y="5517360"/>
                  <a:ext cx="315720" cy="9000"/>
                </a:xfrm>
                <a:prstGeom prst="rect">
                  <a:avLst/>
                </a:prstGeom>
                <a:solidFill>
                  <a:srgbClr val="fc012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 rot="16357800">
                  <a:off x="5562000" y="5516280"/>
                  <a:ext cx="193320" cy="8280"/>
                </a:xfrm>
                <a:prstGeom prst="rect">
                  <a:avLst/>
                </a:prstGeom>
                <a:solidFill>
                  <a:srgbClr val="fc012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 rot="16357800">
                  <a:off x="5893560" y="532080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 rot="16357800">
                  <a:off x="5645160" y="549468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 rot="16357800">
                  <a:off x="5506920" y="551664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81" name=""/>
          <p:cNvGrpSpPr/>
          <p:nvPr/>
        </p:nvGrpSpPr>
        <p:grpSpPr>
          <a:xfrm>
            <a:off x="3192120" y="4251600"/>
            <a:ext cx="702000" cy="401040"/>
            <a:chOff x="3192120" y="4251600"/>
            <a:chExt cx="702000" cy="401040"/>
          </a:xfrm>
        </p:grpSpPr>
        <p:sp>
          <p:nvSpPr>
            <p:cNvPr id="2982" name=""/>
            <p:cNvSpPr/>
            <p:nvPr/>
          </p:nvSpPr>
          <p:spPr>
            <a:xfrm rot="16357800">
              <a:off x="3358080" y="4109040"/>
              <a:ext cx="37008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3" name=""/>
            <p:cNvGrpSpPr/>
            <p:nvPr/>
          </p:nvGrpSpPr>
          <p:grpSpPr>
            <a:xfrm>
              <a:off x="3304800" y="4293000"/>
              <a:ext cx="90720" cy="285480"/>
              <a:chOff x="3304800" y="4293000"/>
              <a:chExt cx="90720" cy="285480"/>
            </a:xfrm>
          </p:grpSpPr>
          <p:sp>
            <p:nvSpPr>
              <p:cNvPr id="2984" name=""/>
              <p:cNvSpPr/>
              <p:nvPr/>
            </p:nvSpPr>
            <p:spPr>
              <a:xfrm rot="16357800">
                <a:off x="3219120" y="4406760"/>
                <a:ext cx="26136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rot="16357800">
                <a:off x="3219120" y="4386240"/>
                <a:ext cx="26208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6" name=""/>
            <p:cNvGrpSpPr/>
            <p:nvPr/>
          </p:nvGrpSpPr>
          <p:grpSpPr>
            <a:xfrm>
              <a:off x="3392280" y="4286160"/>
              <a:ext cx="494280" cy="316080"/>
              <a:chOff x="3392280" y="4286160"/>
              <a:chExt cx="494280" cy="316080"/>
            </a:xfrm>
          </p:grpSpPr>
          <p:sp>
            <p:nvSpPr>
              <p:cNvPr id="2987" name=""/>
              <p:cNvSpPr/>
              <p:nvPr/>
            </p:nvSpPr>
            <p:spPr>
              <a:xfrm rot="16357800">
                <a:off x="3676320" y="428004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 rot="16357800">
                <a:off x="3684240" y="423972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9" name=""/>
              <p:cNvGrpSpPr/>
              <p:nvPr/>
            </p:nvGrpSpPr>
            <p:grpSpPr>
              <a:xfrm>
                <a:off x="3392280" y="4286160"/>
                <a:ext cx="494280" cy="316080"/>
                <a:chOff x="3392280" y="4286160"/>
                <a:chExt cx="494280" cy="316080"/>
              </a:xfrm>
            </p:grpSpPr>
            <p:sp>
              <p:nvSpPr>
                <p:cNvPr id="2990" name=""/>
                <p:cNvSpPr/>
                <p:nvPr/>
              </p:nvSpPr>
              <p:spPr>
                <a:xfrm rot="16357800">
                  <a:off x="3245760" y="4439520"/>
                  <a:ext cx="316080" cy="900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 rot="16357800">
                  <a:off x="3352320" y="4438800"/>
                  <a:ext cx="193320" cy="828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 rot="16357800">
                  <a:off x="3683880" y="424296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 rot="16357800">
                  <a:off x="3435120" y="4416480"/>
                  <a:ext cx="16812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 rot="16357800">
                  <a:off x="3297240" y="4439160"/>
                  <a:ext cx="24912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95" name=""/>
          <p:cNvGrpSpPr/>
          <p:nvPr/>
        </p:nvGrpSpPr>
        <p:grpSpPr>
          <a:xfrm>
            <a:off x="3725640" y="5253120"/>
            <a:ext cx="702000" cy="400680"/>
            <a:chOff x="3725640" y="5253120"/>
            <a:chExt cx="702000" cy="400680"/>
          </a:xfrm>
        </p:grpSpPr>
        <p:sp>
          <p:nvSpPr>
            <p:cNvPr id="2996" name=""/>
            <p:cNvSpPr/>
            <p:nvPr/>
          </p:nvSpPr>
          <p:spPr>
            <a:xfrm rot="16357800">
              <a:off x="3891600" y="511056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7" name=""/>
            <p:cNvGrpSpPr/>
            <p:nvPr/>
          </p:nvGrpSpPr>
          <p:grpSpPr>
            <a:xfrm>
              <a:off x="3838320" y="5294880"/>
              <a:ext cx="90720" cy="285120"/>
              <a:chOff x="3838320" y="5294880"/>
              <a:chExt cx="90720" cy="285120"/>
            </a:xfrm>
          </p:grpSpPr>
          <p:sp>
            <p:nvSpPr>
              <p:cNvPr id="2998" name=""/>
              <p:cNvSpPr/>
              <p:nvPr/>
            </p:nvSpPr>
            <p:spPr>
              <a:xfrm rot="16357800">
                <a:off x="3753000" y="540828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rot="16357800">
                <a:off x="3753000" y="538776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0" name=""/>
            <p:cNvGrpSpPr/>
            <p:nvPr/>
          </p:nvGrpSpPr>
          <p:grpSpPr>
            <a:xfrm>
              <a:off x="3926160" y="5287680"/>
              <a:ext cx="493920" cy="315720"/>
              <a:chOff x="3926160" y="5287680"/>
              <a:chExt cx="493920" cy="315720"/>
            </a:xfrm>
          </p:grpSpPr>
          <p:sp>
            <p:nvSpPr>
              <p:cNvPr id="3001" name=""/>
              <p:cNvSpPr/>
              <p:nvPr/>
            </p:nvSpPr>
            <p:spPr>
              <a:xfrm rot="16357800">
                <a:off x="4210200" y="528120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rot="16357800">
                <a:off x="4217760" y="524124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3" name=""/>
              <p:cNvGrpSpPr/>
              <p:nvPr/>
            </p:nvGrpSpPr>
            <p:grpSpPr>
              <a:xfrm>
                <a:off x="3926160" y="5287680"/>
                <a:ext cx="493920" cy="315720"/>
                <a:chOff x="3926160" y="5287680"/>
                <a:chExt cx="493920" cy="315720"/>
              </a:xfrm>
            </p:grpSpPr>
            <p:sp>
              <p:nvSpPr>
                <p:cNvPr id="3004" name=""/>
                <p:cNvSpPr/>
                <p:nvPr/>
              </p:nvSpPr>
              <p:spPr>
                <a:xfrm rot="16357800">
                  <a:off x="3780000" y="5441040"/>
                  <a:ext cx="315720" cy="900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 rot="16357800">
                  <a:off x="3885840" y="5439960"/>
                  <a:ext cx="193320" cy="828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 rot="16357800">
                  <a:off x="4217400" y="524448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 rot="16357800">
                  <a:off x="3969000" y="541836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 rot="16357800">
                  <a:off x="3830760" y="544032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cxnSp>
        <p:nvCxnSpPr>
          <p:cNvPr id="3009" name=""/>
          <p:cNvCxnSpPr>
            <a:stCxn id="2891" idx="5"/>
            <a:endCxn id="2889" idx="1"/>
          </p:cNvCxnSpPr>
          <p:nvPr/>
        </p:nvCxnSpPr>
        <p:spPr>
          <a:xfrm>
            <a:off x="5581440" y="3252960"/>
            <a:ext cx="95292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0" name=""/>
          <p:cNvCxnSpPr>
            <a:stCxn id="2889" idx="4"/>
            <a:endCxn id="2892" idx="7"/>
          </p:cNvCxnSpPr>
          <p:nvPr/>
        </p:nvCxnSpPr>
        <p:spPr>
          <a:xfrm flipH="1">
            <a:off x="6495480" y="4343040"/>
            <a:ext cx="362520" cy="1167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1" name=""/>
          <p:cNvCxnSpPr>
            <a:stCxn id="2892" idx="3"/>
            <a:endCxn id="2890" idx="5"/>
          </p:cNvCxnSpPr>
          <p:nvPr/>
        </p:nvCxnSpPr>
        <p:spPr>
          <a:xfrm flipH="1">
            <a:off x="4590720" y="5995800"/>
            <a:ext cx="1257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2" name=""/>
          <p:cNvCxnSpPr>
            <a:stCxn id="2890" idx="7"/>
            <a:endCxn id="2889" idx="3"/>
          </p:cNvCxnSpPr>
          <p:nvPr/>
        </p:nvCxnSpPr>
        <p:spPr>
          <a:xfrm flipV="1">
            <a:off x="4590720" y="4242600"/>
            <a:ext cx="1943640" cy="126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3" name=""/>
          <p:cNvCxnSpPr>
            <a:stCxn id="3006" idx="0"/>
            <a:endCxn id="2891" idx="4"/>
          </p:cNvCxnSpPr>
          <p:nvPr/>
        </p:nvCxnSpPr>
        <p:spPr>
          <a:xfrm flipV="1">
            <a:off x="4409640" y="3351960"/>
            <a:ext cx="848520" cy="2094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4" name=""/>
          <p:cNvCxnSpPr>
            <a:stCxn id="2892" idx="0"/>
            <a:endCxn id="3015" idx="0"/>
          </p:cNvCxnSpPr>
          <p:nvPr/>
        </p:nvCxnSpPr>
        <p:spPr>
          <a:xfrm flipH="1" flipV="1">
            <a:off x="5230080" y="3452040"/>
            <a:ext cx="942120" cy="1958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016" name=""/>
          <p:cNvGrpSpPr/>
          <p:nvPr/>
        </p:nvGrpSpPr>
        <p:grpSpPr>
          <a:xfrm>
            <a:off x="5478120" y="3108600"/>
            <a:ext cx="702000" cy="401040"/>
            <a:chOff x="5478120" y="3108600"/>
            <a:chExt cx="702000" cy="401040"/>
          </a:xfrm>
        </p:grpSpPr>
        <p:sp>
          <p:nvSpPr>
            <p:cNvPr id="3017" name=""/>
            <p:cNvSpPr/>
            <p:nvPr/>
          </p:nvSpPr>
          <p:spPr>
            <a:xfrm rot="16357800">
              <a:off x="5644080" y="2966040"/>
              <a:ext cx="37008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8" name=""/>
            <p:cNvGrpSpPr/>
            <p:nvPr/>
          </p:nvGrpSpPr>
          <p:grpSpPr>
            <a:xfrm>
              <a:off x="5590800" y="3150000"/>
              <a:ext cx="90720" cy="285480"/>
              <a:chOff x="5590800" y="3150000"/>
              <a:chExt cx="90720" cy="285480"/>
            </a:xfrm>
          </p:grpSpPr>
          <p:sp>
            <p:nvSpPr>
              <p:cNvPr id="3019" name=""/>
              <p:cNvSpPr/>
              <p:nvPr/>
            </p:nvSpPr>
            <p:spPr>
              <a:xfrm rot="16357800">
                <a:off x="5505120" y="3263760"/>
                <a:ext cx="26136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rot="16357800">
                <a:off x="5505120" y="3243240"/>
                <a:ext cx="26208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1" name=""/>
            <p:cNvGrpSpPr/>
            <p:nvPr/>
          </p:nvGrpSpPr>
          <p:grpSpPr>
            <a:xfrm>
              <a:off x="5678280" y="3143160"/>
              <a:ext cx="494280" cy="316080"/>
              <a:chOff x="5678280" y="3143160"/>
              <a:chExt cx="494280" cy="316080"/>
            </a:xfrm>
          </p:grpSpPr>
          <p:sp>
            <p:nvSpPr>
              <p:cNvPr id="3022" name=""/>
              <p:cNvSpPr/>
              <p:nvPr/>
            </p:nvSpPr>
            <p:spPr>
              <a:xfrm rot="16357800">
                <a:off x="5962320" y="313704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rot="16357800">
                <a:off x="5970240" y="309672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24" name=""/>
              <p:cNvGrpSpPr/>
              <p:nvPr/>
            </p:nvGrpSpPr>
            <p:grpSpPr>
              <a:xfrm>
                <a:off x="5678280" y="3143160"/>
                <a:ext cx="494280" cy="316080"/>
                <a:chOff x="5678280" y="3143160"/>
                <a:chExt cx="494280" cy="316080"/>
              </a:xfrm>
            </p:grpSpPr>
            <p:sp>
              <p:nvSpPr>
                <p:cNvPr id="3025" name=""/>
                <p:cNvSpPr/>
                <p:nvPr/>
              </p:nvSpPr>
              <p:spPr>
                <a:xfrm rot="16357800">
                  <a:off x="5531760" y="3296520"/>
                  <a:ext cx="316080" cy="9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 rot="16357800">
                  <a:off x="5638320" y="3295800"/>
                  <a:ext cx="193320" cy="8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 rot="16357800">
                  <a:off x="5969880" y="309996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 rot="16357800">
                  <a:off x="5721120" y="3273480"/>
                  <a:ext cx="16812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 rot="16357800">
                  <a:off x="5583240" y="3296160"/>
                  <a:ext cx="24912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30" name=""/>
          <p:cNvGrpSpPr/>
          <p:nvPr/>
        </p:nvGrpSpPr>
        <p:grpSpPr>
          <a:xfrm>
            <a:off x="6240240" y="3565800"/>
            <a:ext cx="702000" cy="401040"/>
            <a:chOff x="6240240" y="3565800"/>
            <a:chExt cx="702000" cy="401040"/>
          </a:xfrm>
        </p:grpSpPr>
        <p:sp>
          <p:nvSpPr>
            <p:cNvPr id="3031" name=""/>
            <p:cNvSpPr/>
            <p:nvPr/>
          </p:nvSpPr>
          <p:spPr>
            <a:xfrm rot="16357800">
              <a:off x="6406200" y="3423240"/>
              <a:ext cx="37008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2" name=""/>
            <p:cNvGrpSpPr/>
            <p:nvPr/>
          </p:nvGrpSpPr>
          <p:grpSpPr>
            <a:xfrm>
              <a:off x="6352920" y="3607200"/>
              <a:ext cx="90720" cy="285480"/>
              <a:chOff x="6352920" y="3607200"/>
              <a:chExt cx="90720" cy="285480"/>
            </a:xfrm>
          </p:grpSpPr>
          <p:sp>
            <p:nvSpPr>
              <p:cNvPr id="3033" name=""/>
              <p:cNvSpPr/>
              <p:nvPr/>
            </p:nvSpPr>
            <p:spPr>
              <a:xfrm rot="16357800">
                <a:off x="6267240" y="3720960"/>
                <a:ext cx="26136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rot="16357800">
                <a:off x="6267240" y="3700440"/>
                <a:ext cx="26208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5" name=""/>
            <p:cNvGrpSpPr/>
            <p:nvPr/>
          </p:nvGrpSpPr>
          <p:grpSpPr>
            <a:xfrm>
              <a:off x="6440400" y="3600360"/>
              <a:ext cx="494280" cy="316080"/>
              <a:chOff x="6440400" y="3600360"/>
              <a:chExt cx="494280" cy="316080"/>
            </a:xfrm>
          </p:grpSpPr>
          <p:sp>
            <p:nvSpPr>
              <p:cNvPr id="3036" name=""/>
              <p:cNvSpPr/>
              <p:nvPr/>
            </p:nvSpPr>
            <p:spPr>
              <a:xfrm rot="16357800">
                <a:off x="6724440" y="359424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rot="16357800">
                <a:off x="6732360" y="355392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38" name=""/>
              <p:cNvGrpSpPr/>
              <p:nvPr/>
            </p:nvGrpSpPr>
            <p:grpSpPr>
              <a:xfrm>
                <a:off x="6440400" y="3600360"/>
                <a:ext cx="494280" cy="316080"/>
                <a:chOff x="6440400" y="3600360"/>
                <a:chExt cx="494280" cy="316080"/>
              </a:xfrm>
            </p:grpSpPr>
            <p:sp>
              <p:nvSpPr>
                <p:cNvPr id="3039" name=""/>
                <p:cNvSpPr/>
                <p:nvPr/>
              </p:nvSpPr>
              <p:spPr>
                <a:xfrm rot="16357800">
                  <a:off x="6293880" y="3753720"/>
                  <a:ext cx="316080" cy="9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 rot="16357800">
                  <a:off x="6400440" y="3753000"/>
                  <a:ext cx="193320" cy="8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 rot="16357800">
                  <a:off x="6732000" y="355716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 rot="16357800">
                  <a:off x="6483240" y="3730680"/>
                  <a:ext cx="16812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 rot="16357800">
                  <a:off x="6345360" y="3753360"/>
                  <a:ext cx="24912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44" name=""/>
          <p:cNvGrpSpPr/>
          <p:nvPr/>
        </p:nvGrpSpPr>
        <p:grpSpPr>
          <a:xfrm>
            <a:off x="6544800" y="4251600"/>
            <a:ext cx="702000" cy="401040"/>
            <a:chOff x="6544800" y="4251600"/>
            <a:chExt cx="702000" cy="401040"/>
          </a:xfrm>
        </p:grpSpPr>
        <p:sp>
          <p:nvSpPr>
            <p:cNvPr id="3045" name=""/>
            <p:cNvSpPr/>
            <p:nvPr/>
          </p:nvSpPr>
          <p:spPr>
            <a:xfrm rot="16357800">
              <a:off x="6710760" y="4109040"/>
              <a:ext cx="37008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11f2e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6" name=""/>
            <p:cNvGrpSpPr/>
            <p:nvPr/>
          </p:nvGrpSpPr>
          <p:grpSpPr>
            <a:xfrm>
              <a:off x="6657480" y="4293000"/>
              <a:ext cx="90720" cy="285480"/>
              <a:chOff x="6657480" y="4293000"/>
              <a:chExt cx="90720" cy="285480"/>
            </a:xfrm>
          </p:grpSpPr>
          <p:sp>
            <p:nvSpPr>
              <p:cNvPr id="3047" name=""/>
              <p:cNvSpPr/>
              <p:nvPr/>
            </p:nvSpPr>
            <p:spPr>
              <a:xfrm rot="16357800">
                <a:off x="6571800" y="4406760"/>
                <a:ext cx="26136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11f2e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rot="16357800">
                <a:off x="6571800" y="4386240"/>
                <a:ext cx="26208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11f2e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9" name=""/>
            <p:cNvGrpSpPr/>
            <p:nvPr/>
          </p:nvGrpSpPr>
          <p:grpSpPr>
            <a:xfrm>
              <a:off x="6744960" y="4286160"/>
              <a:ext cx="494280" cy="316080"/>
              <a:chOff x="6744960" y="4286160"/>
              <a:chExt cx="494280" cy="316080"/>
            </a:xfrm>
          </p:grpSpPr>
          <p:sp>
            <p:nvSpPr>
              <p:cNvPr id="3050" name=""/>
              <p:cNvSpPr/>
              <p:nvPr/>
            </p:nvSpPr>
            <p:spPr>
              <a:xfrm rot="16357800">
                <a:off x="7029000" y="428004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11f2e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rot="16357800">
                <a:off x="7036920" y="423972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1f2e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2" name=""/>
              <p:cNvGrpSpPr/>
              <p:nvPr/>
            </p:nvGrpSpPr>
            <p:grpSpPr>
              <a:xfrm>
                <a:off x="6744960" y="4286160"/>
                <a:ext cx="494280" cy="316080"/>
                <a:chOff x="6744960" y="4286160"/>
                <a:chExt cx="494280" cy="316080"/>
              </a:xfrm>
            </p:grpSpPr>
            <p:sp>
              <p:nvSpPr>
                <p:cNvPr id="3053" name=""/>
                <p:cNvSpPr/>
                <p:nvPr/>
              </p:nvSpPr>
              <p:spPr>
                <a:xfrm rot="16357800">
                  <a:off x="6598440" y="4439520"/>
                  <a:ext cx="316080" cy="9000"/>
                </a:xfrm>
                <a:prstGeom prst="rect">
                  <a:avLst/>
                </a:prstGeom>
                <a:solidFill>
                  <a:srgbClr val="11f2e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 rot="16357800">
                  <a:off x="6705000" y="4438800"/>
                  <a:ext cx="193320" cy="8280"/>
                </a:xfrm>
                <a:prstGeom prst="rect">
                  <a:avLst/>
                </a:prstGeom>
                <a:solidFill>
                  <a:srgbClr val="11f2e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 rot="16357800">
                  <a:off x="7036560" y="424296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11f2e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 rot="16357800">
                  <a:off x="6787800" y="4416480"/>
                  <a:ext cx="16812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11f2e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 rot="16357800">
                  <a:off x="6649920" y="4439160"/>
                  <a:ext cx="24912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11f2e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58" name=""/>
          <p:cNvGrpSpPr/>
          <p:nvPr/>
        </p:nvGrpSpPr>
        <p:grpSpPr>
          <a:xfrm>
            <a:off x="6316200" y="5318280"/>
            <a:ext cx="702000" cy="400680"/>
            <a:chOff x="6316200" y="5318280"/>
            <a:chExt cx="702000" cy="400680"/>
          </a:xfrm>
        </p:grpSpPr>
        <p:sp>
          <p:nvSpPr>
            <p:cNvPr id="3059" name=""/>
            <p:cNvSpPr/>
            <p:nvPr/>
          </p:nvSpPr>
          <p:spPr>
            <a:xfrm rot="16357800">
              <a:off x="6482160" y="517572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11f2e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0" name=""/>
            <p:cNvGrpSpPr/>
            <p:nvPr/>
          </p:nvGrpSpPr>
          <p:grpSpPr>
            <a:xfrm>
              <a:off x="6428880" y="5360040"/>
              <a:ext cx="90720" cy="285120"/>
              <a:chOff x="6428880" y="5360040"/>
              <a:chExt cx="90720" cy="285120"/>
            </a:xfrm>
          </p:grpSpPr>
          <p:sp>
            <p:nvSpPr>
              <p:cNvPr id="3061" name=""/>
              <p:cNvSpPr/>
              <p:nvPr/>
            </p:nvSpPr>
            <p:spPr>
              <a:xfrm rot="16357800">
                <a:off x="6343560" y="547344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11f2e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rot="16357800">
                <a:off x="6343560" y="545292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11f2e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3" name=""/>
            <p:cNvGrpSpPr/>
            <p:nvPr/>
          </p:nvGrpSpPr>
          <p:grpSpPr>
            <a:xfrm>
              <a:off x="6516720" y="5352840"/>
              <a:ext cx="493920" cy="315720"/>
              <a:chOff x="6516720" y="5352840"/>
              <a:chExt cx="493920" cy="315720"/>
            </a:xfrm>
          </p:grpSpPr>
          <p:sp>
            <p:nvSpPr>
              <p:cNvPr id="3064" name=""/>
              <p:cNvSpPr/>
              <p:nvPr/>
            </p:nvSpPr>
            <p:spPr>
              <a:xfrm rot="16357800">
                <a:off x="6800760" y="534636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11f2e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rot="16357800">
                <a:off x="6808320" y="530640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1f2e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66" name=""/>
              <p:cNvGrpSpPr/>
              <p:nvPr/>
            </p:nvGrpSpPr>
            <p:grpSpPr>
              <a:xfrm>
                <a:off x="6516720" y="5352840"/>
                <a:ext cx="493920" cy="315720"/>
                <a:chOff x="6516720" y="5352840"/>
                <a:chExt cx="493920" cy="315720"/>
              </a:xfrm>
            </p:grpSpPr>
            <p:sp>
              <p:nvSpPr>
                <p:cNvPr id="3067" name=""/>
                <p:cNvSpPr/>
                <p:nvPr/>
              </p:nvSpPr>
              <p:spPr>
                <a:xfrm rot="16357800">
                  <a:off x="6370560" y="5506200"/>
                  <a:ext cx="315720" cy="9000"/>
                </a:xfrm>
                <a:prstGeom prst="rect">
                  <a:avLst/>
                </a:prstGeom>
                <a:solidFill>
                  <a:srgbClr val="11f2e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 rot="16357800">
                  <a:off x="6476400" y="5505120"/>
                  <a:ext cx="193320" cy="8280"/>
                </a:xfrm>
                <a:prstGeom prst="rect">
                  <a:avLst/>
                </a:prstGeom>
                <a:solidFill>
                  <a:srgbClr val="11f2e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 rot="16357800">
                  <a:off x="6807960" y="530964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11f2e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 rot="16357800">
                  <a:off x="6559560" y="548352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11f2e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 rot="16357800">
                  <a:off x="6421320" y="550548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11f2e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72" name=""/>
          <p:cNvGrpSpPr/>
          <p:nvPr/>
        </p:nvGrpSpPr>
        <p:grpSpPr>
          <a:xfrm>
            <a:off x="5859000" y="5089680"/>
            <a:ext cx="702000" cy="400680"/>
            <a:chOff x="5859000" y="5089680"/>
            <a:chExt cx="702000" cy="400680"/>
          </a:xfrm>
        </p:grpSpPr>
        <p:sp>
          <p:nvSpPr>
            <p:cNvPr id="3073" name=""/>
            <p:cNvSpPr/>
            <p:nvPr/>
          </p:nvSpPr>
          <p:spPr>
            <a:xfrm rot="16357800">
              <a:off x="6024960" y="494712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b3b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4" name=""/>
            <p:cNvGrpSpPr/>
            <p:nvPr/>
          </p:nvGrpSpPr>
          <p:grpSpPr>
            <a:xfrm>
              <a:off x="5971680" y="5131440"/>
              <a:ext cx="90720" cy="285120"/>
              <a:chOff x="5971680" y="5131440"/>
              <a:chExt cx="90720" cy="285120"/>
            </a:xfrm>
          </p:grpSpPr>
          <p:sp>
            <p:nvSpPr>
              <p:cNvPr id="3075" name=""/>
              <p:cNvSpPr/>
              <p:nvPr/>
            </p:nvSpPr>
            <p:spPr>
              <a:xfrm rot="16357800">
                <a:off x="5886360" y="524484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b3b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 rot="16357800">
                <a:off x="5886360" y="522432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b3b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7" name=""/>
            <p:cNvGrpSpPr/>
            <p:nvPr/>
          </p:nvGrpSpPr>
          <p:grpSpPr>
            <a:xfrm>
              <a:off x="6059520" y="5124240"/>
              <a:ext cx="493920" cy="315720"/>
              <a:chOff x="6059520" y="5124240"/>
              <a:chExt cx="493920" cy="315720"/>
            </a:xfrm>
          </p:grpSpPr>
          <p:sp>
            <p:nvSpPr>
              <p:cNvPr id="3078" name=""/>
              <p:cNvSpPr/>
              <p:nvPr/>
            </p:nvSpPr>
            <p:spPr>
              <a:xfrm rot="16357800">
                <a:off x="6343560" y="511776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3b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 rot="16357800">
                <a:off x="6351120" y="507780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b3b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0" name=""/>
              <p:cNvGrpSpPr/>
              <p:nvPr/>
            </p:nvGrpSpPr>
            <p:grpSpPr>
              <a:xfrm>
                <a:off x="6059520" y="5124240"/>
                <a:ext cx="493920" cy="315720"/>
                <a:chOff x="6059520" y="5124240"/>
                <a:chExt cx="493920" cy="315720"/>
              </a:xfrm>
            </p:grpSpPr>
            <p:sp>
              <p:nvSpPr>
                <p:cNvPr id="3081" name=""/>
                <p:cNvSpPr/>
                <p:nvPr/>
              </p:nvSpPr>
              <p:spPr>
                <a:xfrm rot="16357800">
                  <a:off x="5913360" y="5277600"/>
                  <a:ext cx="315720" cy="9000"/>
                </a:xfrm>
                <a:prstGeom prst="rect">
                  <a:avLst/>
                </a:prstGeom>
                <a:solidFill>
                  <a:srgbClr val="b3b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 rot="16357800">
                  <a:off x="6019200" y="5276520"/>
                  <a:ext cx="193320" cy="8280"/>
                </a:xfrm>
                <a:prstGeom prst="rect">
                  <a:avLst/>
                </a:prstGeom>
                <a:solidFill>
                  <a:srgbClr val="b3b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 rot="16357800">
                  <a:off x="6350760" y="508104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b3b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 rot="16357800">
                  <a:off x="6102360" y="525492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b3b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 rot="16357800">
                  <a:off x="5964120" y="527688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b3b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86" name=""/>
          <p:cNvGrpSpPr/>
          <p:nvPr/>
        </p:nvGrpSpPr>
        <p:grpSpPr>
          <a:xfrm>
            <a:off x="5173200" y="3260880"/>
            <a:ext cx="702000" cy="400680"/>
            <a:chOff x="5173200" y="3260880"/>
            <a:chExt cx="702000" cy="400680"/>
          </a:xfrm>
        </p:grpSpPr>
        <p:sp>
          <p:nvSpPr>
            <p:cNvPr id="3087" name=""/>
            <p:cNvSpPr/>
            <p:nvPr/>
          </p:nvSpPr>
          <p:spPr>
            <a:xfrm rot="16357800">
              <a:off x="5339160" y="311832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b3b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8" name=""/>
            <p:cNvGrpSpPr/>
            <p:nvPr/>
          </p:nvGrpSpPr>
          <p:grpSpPr>
            <a:xfrm>
              <a:off x="5285880" y="3302640"/>
              <a:ext cx="90720" cy="285120"/>
              <a:chOff x="5285880" y="3302640"/>
              <a:chExt cx="90720" cy="285120"/>
            </a:xfrm>
          </p:grpSpPr>
          <p:sp>
            <p:nvSpPr>
              <p:cNvPr id="3089" name=""/>
              <p:cNvSpPr/>
              <p:nvPr/>
            </p:nvSpPr>
            <p:spPr>
              <a:xfrm rot="16357800">
                <a:off x="5200560" y="341604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b3b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rot="16357800">
                <a:off x="5200560" y="339552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b3b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1" name=""/>
            <p:cNvGrpSpPr/>
            <p:nvPr/>
          </p:nvGrpSpPr>
          <p:grpSpPr>
            <a:xfrm>
              <a:off x="5373720" y="3295440"/>
              <a:ext cx="493920" cy="315720"/>
              <a:chOff x="5373720" y="3295440"/>
              <a:chExt cx="493920" cy="315720"/>
            </a:xfrm>
          </p:grpSpPr>
          <p:sp>
            <p:nvSpPr>
              <p:cNvPr id="3092" name=""/>
              <p:cNvSpPr/>
              <p:nvPr/>
            </p:nvSpPr>
            <p:spPr>
              <a:xfrm rot="16357800">
                <a:off x="5657760" y="328896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3b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 rot="16357800">
                <a:off x="5665320" y="324900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b3b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4" name=""/>
              <p:cNvGrpSpPr/>
              <p:nvPr/>
            </p:nvGrpSpPr>
            <p:grpSpPr>
              <a:xfrm>
                <a:off x="5373720" y="3295440"/>
                <a:ext cx="493920" cy="315720"/>
                <a:chOff x="5373720" y="3295440"/>
                <a:chExt cx="493920" cy="315720"/>
              </a:xfrm>
            </p:grpSpPr>
            <p:sp>
              <p:nvSpPr>
                <p:cNvPr id="3095" name=""/>
                <p:cNvSpPr/>
                <p:nvPr/>
              </p:nvSpPr>
              <p:spPr>
                <a:xfrm rot="16357800">
                  <a:off x="5227560" y="3448800"/>
                  <a:ext cx="315720" cy="9000"/>
                </a:xfrm>
                <a:prstGeom prst="rect">
                  <a:avLst/>
                </a:prstGeom>
                <a:solidFill>
                  <a:srgbClr val="b3b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 rot="16357800">
                  <a:off x="5333400" y="3447720"/>
                  <a:ext cx="193320" cy="8280"/>
                </a:xfrm>
                <a:prstGeom prst="rect">
                  <a:avLst/>
                </a:prstGeom>
                <a:solidFill>
                  <a:srgbClr val="b3b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 rot="16357800">
                  <a:off x="5664960" y="325224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b3b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 rot="16357800">
                  <a:off x="5416560" y="342612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b3b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 rot="16357800">
                  <a:off x="5278320" y="344808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b3b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00" name=""/>
          <p:cNvGrpSpPr/>
          <p:nvPr/>
        </p:nvGrpSpPr>
        <p:grpSpPr>
          <a:xfrm>
            <a:off x="6163920" y="4098960"/>
            <a:ext cx="702000" cy="400680"/>
            <a:chOff x="6163920" y="4098960"/>
            <a:chExt cx="702000" cy="400680"/>
          </a:xfrm>
        </p:grpSpPr>
        <p:sp>
          <p:nvSpPr>
            <p:cNvPr id="3101" name=""/>
            <p:cNvSpPr/>
            <p:nvPr/>
          </p:nvSpPr>
          <p:spPr>
            <a:xfrm rot="16357800">
              <a:off x="6329880" y="395640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2" name=""/>
            <p:cNvGrpSpPr/>
            <p:nvPr/>
          </p:nvGrpSpPr>
          <p:grpSpPr>
            <a:xfrm>
              <a:off x="6276600" y="4140720"/>
              <a:ext cx="90720" cy="285120"/>
              <a:chOff x="6276600" y="4140720"/>
              <a:chExt cx="90720" cy="285120"/>
            </a:xfrm>
          </p:grpSpPr>
          <p:sp>
            <p:nvSpPr>
              <p:cNvPr id="3103" name=""/>
              <p:cNvSpPr/>
              <p:nvPr/>
            </p:nvSpPr>
            <p:spPr>
              <a:xfrm rot="16357800">
                <a:off x="6191280" y="425412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 rot="16357800">
                <a:off x="6191280" y="423360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5" name=""/>
            <p:cNvGrpSpPr/>
            <p:nvPr/>
          </p:nvGrpSpPr>
          <p:grpSpPr>
            <a:xfrm>
              <a:off x="6364440" y="4133520"/>
              <a:ext cx="493920" cy="315720"/>
              <a:chOff x="6364440" y="4133520"/>
              <a:chExt cx="493920" cy="315720"/>
            </a:xfrm>
          </p:grpSpPr>
          <p:sp>
            <p:nvSpPr>
              <p:cNvPr id="3106" name=""/>
              <p:cNvSpPr/>
              <p:nvPr/>
            </p:nvSpPr>
            <p:spPr>
              <a:xfrm rot="16357800">
                <a:off x="6648480" y="412704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 rot="16357800">
                <a:off x="6656040" y="408708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08" name=""/>
              <p:cNvGrpSpPr/>
              <p:nvPr/>
            </p:nvGrpSpPr>
            <p:grpSpPr>
              <a:xfrm>
                <a:off x="6364440" y="4133520"/>
                <a:ext cx="493920" cy="315720"/>
                <a:chOff x="6364440" y="4133520"/>
                <a:chExt cx="493920" cy="315720"/>
              </a:xfrm>
            </p:grpSpPr>
            <p:sp>
              <p:nvSpPr>
                <p:cNvPr id="3109" name=""/>
                <p:cNvSpPr/>
                <p:nvPr/>
              </p:nvSpPr>
              <p:spPr>
                <a:xfrm rot="16357800">
                  <a:off x="6218280" y="4286880"/>
                  <a:ext cx="315720" cy="900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 rot="16357800">
                  <a:off x="6324120" y="4285800"/>
                  <a:ext cx="193320" cy="828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 rot="16357800">
                  <a:off x="6655680" y="409032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 rot="16357800">
                  <a:off x="6407280" y="426420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 rot="16357800">
                  <a:off x="6269040" y="428616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14" name=""/>
          <p:cNvGrpSpPr/>
          <p:nvPr/>
        </p:nvGrpSpPr>
        <p:grpSpPr>
          <a:xfrm>
            <a:off x="4487400" y="5318280"/>
            <a:ext cx="702000" cy="400680"/>
            <a:chOff x="4487400" y="5318280"/>
            <a:chExt cx="702000" cy="400680"/>
          </a:xfrm>
        </p:grpSpPr>
        <p:sp>
          <p:nvSpPr>
            <p:cNvPr id="3115" name=""/>
            <p:cNvSpPr/>
            <p:nvPr/>
          </p:nvSpPr>
          <p:spPr>
            <a:xfrm rot="16357800">
              <a:off x="4653360" y="517572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6" name=""/>
            <p:cNvGrpSpPr/>
            <p:nvPr/>
          </p:nvGrpSpPr>
          <p:grpSpPr>
            <a:xfrm>
              <a:off x="4600080" y="5360040"/>
              <a:ext cx="90720" cy="285120"/>
              <a:chOff x="4600080" y="5360040"/>
              <a:chExt cx="90720" cy="285120"/>
            </a:xfrm>
          </p:grpSpPr>
          <p:sp>
            <p:nvSpPr>
              <p:cNvPr id="3117" name=""/>
              <p:cNvSpPr/>
              <p:nvPr/>
            </p:nvSpPr>
            <p:spPr>
              <a:xfrm rot="16357800">
                <a:off x="4514760" y="547344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 rot="16357800">
                <a:off x="4514760" y="545292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9" name=""/>
            <p:cNvGrpSpPr/>
            <p:nvPr/>
          </p:nvGrpSpPr>
          <p:grpSpPr>
            <a:xfrm>
              <a:off x="4687920" y="5352840"/>
              <a:ext cx="493920" cy="315720"/>
              <a:chOff x="4687920" y="5352840"/>
              <a:chExt cx="493920" cy="315720"/>
            </a:xfrm>
          </p:grpSpPr>
          <p:sp>
            <p:nvSpPr>
              <p:cNvPr id="3120" name=""/>
              <p:cNvSpPr/>
              <p:nvPr/>
            </p:nvSpPr>
            <p:spPr>
              <a:xfrm rot="16357800">
                <a:off x="4971960" y="534636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 rot="16357800">
                <a:off x="4979520" y="530640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2" name=""/>
              <p:cNvGrpSpPr/>
              <p:nvPr/>
            </p:nvGrpSpPr>
            <p:grpSpPr>
              <a:xfrm>
                <a:off x="4687920" y="5352840"/>
                <a:ext cx="493920" cy="315720"/>
                <a:chOff x="4687920" y="5352840"/>
                <a:chExt cx="493920" cy="315720"/>
              </a:xfrm>
            </p:grpSpPr>
            <p:sp>
              <p:nvSpPr>
                <p:cNvPr id="3123" name=""/>
                <p:cNvSpPr/>
                <p:nvPr/>
              </p:nvSpPr>
              <p:spPr>
                <a:xfrm rot="16357800">
                  <a:off x="4541760" y="5506200"/>
                  <a:ext cx="315720" cy="900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 rot="16357800">
                  <a:off x="4647600" y="5505120"/>
                  <a:ext cx="193320" cy="828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 rot="16357800">
                  <a:off x="4979160" y="530964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 rot="16357800">
                  <a:off x="4730760" y="548352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 rot="16357800">
                  <a:off x="4592520" y="550548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28" name=""/>
          <p:cNvGrpSpPr/>
          <p:nvPr/>
        </p:nvGrpSpPr>
        <p:grpSpPr>
          <a:xfrm>
            <a:off x="4563720" y="5775480"/>
            <a:ext cx="702000" cy="400680"/>
            <a:chOff x="4563720" y="5775480"/>
            <a:chExt cx="702000" cy="400680"/>
          </a:xfrm>
        </p:grpSpPr>
        <p:sp>
          <p:nvSpPr>
            <p:cNvPr id="3129" name=""/>
            <p:cNvSpPr/>
            <p:nvPr/>
          </p:nvSpPr>
          <p:spPr>
            <a:xfrm rot="16357800">
              <a:off x="4729680" y="563292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0" name=""/>
            <p:cNvGrpSpPr/>
            <p:nvPr/>
          </p:nvGrpSpPr>
          <p:grpSpPr>
            <a:xfrm>
              <a:off x="4676400" y="5817240"/>
              <a:ext cx="90720" cy="285120"/>
              <a:chOff x="4676400" y="5817240"/>
              <a:chExt cx="90720" cy="285120"/>
            </a:xfrm>
          </p:grpSpPr>
          <p:sp>
            <p:nvSpPr>
              <p:cNvPr id="3131" name=""/>
              <p:cNvSpPr/>
              <p:nvPr/>
            </p:nvSpPr>
            <p:spPr>
              <a:xfrm rot="16357800">
                <a:off x="4591080" y="593064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rot="16357800">
                <a:off x="4591080" y="591012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3" name=""/>
            <p:cNvGrpSpPr/>
            <p:nvPr/>
          </p:nvGrpSpPr>
          <p:grpSpPr>
            <a:xfrm>
              <a:off x="4764240" y="5810040"/>
              <a:ext cx="493920" cy="315720"/>
              <a:chOff x="4764240" y="5810040"/>
              <a:chExt cx="493920" cy="315720"/>
            </a:xfrm>
          </p:grpSpPr>
          <p:sp>
            <p:nvSpPr>
              <p:cNvPr id="3134" name=""/>
              <p:cNvSpPr/>
              <p:nvPr/>
            </p:nvSpPr>
            <p:spPr>
              <a:xfrm rot="16357800">
                <a:off x="5048280" y="580356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rot="16357800">
                <a:off x="5055840" y="576360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36" name=""/>
              <p:cNvGrpSpPr/>
              <p:nvPr/>
            </p:nvGrpSpPr>
            <p:grpSpPr>
              <a:xfrm>
                <a:off x="4764240" y="5810040"/>
                <a:ext cx="493920" cy="315720"/>
                <a:chOff x="4764240" y="5810040"/>
                <a:chExt cx="493920" cy="315720"/>
              </a:xfrm>
            </p:grpSpPr>
            <p:sp>
              <p:nvSpPr>
                <p:cNvPr id="3137" name=""/>
                <p:cNvSpPr/>
                <p:nvPr/>
              </p:nvSpPr>
              <p:spPr>
                <a:xfrm rot="16357800">
                  <a:off x="4618080" y="5963400"/>
                  <a:ext cx="315720" cy="900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 rot="16357800">
                  <a:off x="4723920" y="5962320"/>
                  <a:ext cx="193320" cy="828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 rot="16357800">
                  <a:off x="5055480" y="576684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 rot="16357800">
                  <a:off x="4807080" y="594072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 rot="16357800">
                  <a:off x="4668840" y="596268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42" name=""/>
          <p:cNvGrpSpPr/>
          <p:nvPr/>
        </p:nvGrpSpPr>
        <p:grpSpPr>
          <a:xfrm>
            <a:off x="5478120" y="5775480"/>
            <a:ext cx="702000" cy="400680"/>
            <a:chOff x="5478120" y="5775480"/>
            <a:chExt cx="702000" cy="400680"/>
          </a:xfrm>
        </p:grpSpPr>
        <p:sp>
          <p:nvSpPr>
            <p:cNvPr id="3143" name=""/>
            <p:cNvSpPr/>
            <p:nvPr/>
          </p:nvSpPr>
          <p:spPr>
            <a:xfrm rot="16357800">
              <a:off x="5644080" y="563292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4" name=""/>
            <p:cNvGrpSpPr/>
            <p:nvPr/>
          </p:nvGrpSpPr>
          <p:grpSpPr>
            <a:xfrm>
              <a:off x="5590800" y="5817240"/>
              <a:ext cx="90720" cy="285120"/>
              <a:chOff x="5590800" y="5817240"/>
              <a:chExt cx="90720" cy="285120"/>
            </a:xfrm>
          </p:grpSpPr>
          <p:sp>
            <p:nvSpPr>
              <p:cNvPr id="3145" name=""/>
              <p:cNvSpPr/>
              <p:nvPr/>
            </p:nvSpPr>
            <p:spPr>
              <a:xfrm rot="16357800">
                <a:off x="5505480" y="593064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 rot="16357800">
                <a:off x="5505480" y="591012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7" name=""/>
            <p:cNvGrpSpPr/>
            <p:nvPr/>
          </p:nvGrpSpPr>
          <p:grpSpPr>
            <a:xfrm>
              <a:off x="5678640" y="5810040"/>
              <a:ext cx="493920" cy="315720"/>
              <a:chOff x="5678640" y="5810040"/>
              <a:chExt cx="493920" cy="315720"/>
            </a:xfrm>
          </p:grpSpPr>
          <p:sp>
            <p:nvSpPr>
              <p:cNvPr id="3148" name=""/>
              <p:cNvSpPr/>
              <p:nvPr/>
            </p:nvSpPr>
            <p:spPr>
              <a:xfrm rot="16357800">
                <a:off x="5962680" y="580356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 rot="16357800">
                <a:off x="5970240" y="576360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50" name=""/>
              <p:cNvGrpSpPr/>
              <p:nvPr/>
            </p:nvGrpSpPr>
            <p:grpSpPr>
              <a:xfrm>
                <a:off x="5678640" y="5810040"/>
                <a:ext cx="493920" cy="315720"/>
                <a:chOff x="5678640" y="5810040"/>
                <a:chExt cx="493920" cy="315720"/>
              </a:xfrm>
            </p:grpSpPr>
            <p:sp>
              <p:nvSpPr>
                <p:cNvPr id="3151" name=""/>
                <p:cNvSpPr/>
                <p:nvPr/>
              </p:nvSpPr>
              <p:spPr>
                <a:xfrm rot="16357800">
                  <a:off x="5532480" y="5963400"/>
                  <a:ext cx="315720" cy="900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 rot="16357800">
                  <a:off x="5638320" y="5962320"/>
                  <a:ext cx="193320" cy="828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 rot="16357800">
                  <a:off x="5969880" y="576684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 rot="16357800">
                  <a:off x="5721480" y="594072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 rot="16357800">
                  <a:off x="5583240" y="596268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56" name=""/>
          <p:cNvGrpSpPr/>
          <p:nvPr/>
        </p:nvGrpSpPr>
        <p:grpSpPr>
          <a:xfrm>
            <a:off x="4258800" y="5013360"/>
            <a:ext cx="702000" cy="400680"/>
            <a:chOff x="4258800" y="5013360"/>
            <a:chExt cx="702000" cy="400680"/>
          </a:xfrm>
        </p:grpSpPr>
        <p:sp>
          <p:nvSpPr>
            <p:cNvPr id="3157" name=""/>
            <p:cNvSpPr/>
            <p:nvPr/>
          </p:nvSpPr>
          <p:spPr>
            <a:xfrm rot="16357800">
              <a:off x="4424760" y="487080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cecec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8" name=""/>
            <p:cNvGrpSpPr/>
            <p:nvPr/>
          </p:nvGrpSpPr>
          <p:grpSpPr>
            <a:xfrm>
              <a:off x="4371480" y="5055120"/>
              <a:ext cx="90720" cy="285120"/>
              <a:chOff x="4371480" y="5055120"/>
              <a:chExt cx="90720" cy="285120"/>
            </a:xfrm>
          </p:grpSpPr>
          <p:sp>
            <p:nvSpPr>
              <p:cNvPr id="3159" name=""/>
              <p:cNvSpPr/>
              <p:nvPr/>
            </p:nvSpPr>
            <p:spPr>
              <a:xfrm rot="16357800">
                <a:off x="4286160" y="516852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cece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 rot="16357800">
                <a:off x="4286160" y="514800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cece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1" name=""/>
            <p:cNvGrpSpPr/>
            <p:nvPr/>
          </p:nvGrpSpPr>
          <p:grpSpPr>
            <a:xfrm>
              <a:off x="4459320" y="5047920"/>
              <a:ext cx="493920" cy="315720"/>
              <a:chOff x="4459320" y="5047920"/>
              <a:chExt cx="493920" cy="315720"/>
            </a:xfrm>
          </p:grpSpPr>
          <p:sp>
            <p:nvSpPr>
              <p:cNvPr id="3162" name=""/>
              <p:cNvSpPr/>
              <p:nvPr/>
            </p:nvSpPr>
            <p:spPr>
              <a:xfrm rot="16357800">
                <a:off x="4743360" y="504144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ece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 rot="16357800">
                <a:off x="4750920" y="500148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ece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64" name=""/>
              <p:cNvGrpSpPr/>
              <p:nvPr/>
            </p:nvGrpSpPr>
            <p:grpSpPr>
              <a:xfrm>
                <a:off x="4459320" y="5047920"/>
                <a:ext cx="493920" cy="315720"/>
                <a:chOff x="4459320" y="5047920"/>
                <a:chExt cx="493920" cy="315720"/>
              </a:xfrm>
            </p:grpSpPr>
            <p:sp>
              <p:nvSpPr>
                <p:cNvPr id="3165" name=""/>
                <p:cNvSpPr/>
                <p:nvPr/>
              </p:nvSpPr>
              <p:spPr>
                <a:xfrm rot="16357800">
                  <a:off x="4313160" y="5201280"/>
                  <a:ext cx="315720" cy="9000"/>
                </a:xfrm>
                <a:prstGeom prst="rect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 rot="16357800">
                  <a:off x="4419000" y="5200200"/>
                  <a:ext cx="193320" cy="8280"/>
                </a:xfrm>
                <a:prstGeom prst="rect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 rot="16357800">
                  <a:off x="4750560" y="500472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 rot="16357800">
                  <a:off x="4502160" y="517860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9" name=""/>
                <p:cNvSpPr/>
                <p:nvPr/>
              </p:nvSpPr>
              <p:spPr>
                <a:xfrm rot="16357800">
                  <a:off x="4363920" y="520056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70" name=""/>
          <p:cNvGrpSpPr/>
          <p:nvPr/>
        </p:nvGrpSpPr>
        <p:grpSpPr>
          <a:xfrm>
            <a:off x="4868640" y="3337200"/>
            <a:ext cx="702000" cy="401040"/>
            <a:chOff x="4868640" y="3337200"/>
            <a:chExt cx="702000" cy="401040"/>
          </a:xfrm>
        </p:grpSpPr>
        <p:sp>
          <p:nvSpPr>
            <p:cNvPr id="3015" name=""/>
            <p:cNvSpPr/>
            <p:nvPr/>
          </p:nvSpPr>
          <p:spPr>
            <a:xfrm rot="16357800">
              <a:off x="5034600" y="3194640"/>
              <a:ext cx="37008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cecec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1" name=""/>
            <p:cNvGrpSpPr/>
            <p:nvPr/>
          </p:nvGrpSpPr>
          <p:grpSpPr>
            <a:xfrm>
              <a:off x="4981320" y="3378600"/>
              <a:ext cx="90720" cy="285480"/>
              <a:chOff x="4981320" y="3378600"/>
              <a:chExt cx="90720" cy="285480"/>
            </a:xfrm>
          </p:grpSpPr>
          <p:sp>
            <p:nvSpPr>
              <p:cNvPr id="3172" name=""/>
              <p:cNvSpPr/>
              <p:nvPr/>
            </p:nvSpPr>
            <p:spPr>
              <a:xfrm rot="16357800">
                <a:off x="4895640" y="3492360"/>
                <a:ext cx="26136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cece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 rot="16357800">
                <a:off x="4895640" y="3471840"/>
                <a:ext cx="26208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cece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4" name=""/>
            <p:cNvGrpSpPr/>
            <p:nvPr/>
          </p:nvGrpSpPr>
          <p:grpSpPr>
            <a:xfrm>
              <a:off x="5068800" y="3371760"/>
              <a:ext cx="494280" cy="316080"/>
              <a:chOff x="5068800" y="3371760"/>
              <a:chExt cx="494280" cy="316080"/>
            </a:xfrm>
          </p:grpSpPr>
          <p:sp>
            <p:nvSpPr>
              <p:cNvPr id="3175" name=""/>
              <p:cNvSpPr/>
              <p:nvPr/>
            </p:nvSpPr>
            <p:spPr>
              <a:xfrm rot="16357800">
                <a:off x="5352840" y="336564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ece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 rot="16357800">
                <a:off x="5360760" y="332532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ece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77" name=""/>
              <p:cNvGrpSpPr/>
              <p:nvPr/>
            </p:nvGrpSpPr>
            <p:grpSpPr>
              <a:xfrm>
                <a:off x="5068800" y="3371760"/>
                <a:ext cx="494280" cy="316080"/>
                <a:chOff x="5068800" y="3371760"/>
                <a:chExt cx="494280" cy="316080"/>
              </a:xfrm>
            </p:grpSpPr>
            <p:sp>
              <p:nvSpPr>
                <p:cNvPr id="3178" name=""/>
                <p:cNvSpPr/>
                <p:nvPr/>
              </p:nvSpPr>
              <p:spPr>
                <a:xfrm rot="16357800">
                  <a:off x="4922280" y="3525120"/>
                  <a:ext cx="316080" cy="9000"/>
                </a:xfrm>
                <a:prstGeom prst="rect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9" name=""/>
                <p:cNvSpPr/>
                <p:nvPr/>
              </p:nvSpPr>
              <p:spPr>
                <a:xfrm rot="16357800">
                  <a:off x="5028840" y="3524400"/>
                  <a:ext cx="193320" cy="8280"/>
                </a:xfrm>
                <a:prstGeom prst="rect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0" name=""/>
                <p:cNvSpPr/>
                <p:nvPr/>
              </p:nvSpPr>
              <p:spPr>
                <a:xfrm rot="16357800">
                  <a:off x="5360400" y="332856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1" name=""/>
                <p:cNvSpPr/>
                <p:nvPr/>
              </p:nvSpPr>
              <p:spPr>
                <a:xfrm rot="16357800">
                  <a:off x="5111640" y="3502080"/>
                  <a:ext cx="16812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 rot="16357800">
                  <a:off x="4973760" y="3524760"/>
                  <a:ext cx="24912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5" dur="indefinite" restart="never" nodeType="tmRoot">
          <p:childTnLst>
            <p:seq>
              <p:cTn id="4086" dur="indefinite" nodeType="mainSeq">
                <p:childTnLst>
                  <p:par>
                    <p:cTn id="4087" fill="hold">
                      <p:stCondLst>
                        <p:cond delay="indefinite"/>
                      </p:stCondLst>
                      <p:childTnLst>
                        <p:par>
                          <p:cTn id="4088" fill="hold">
                            <p:stCondLst>
                              <p:cond delay="0"/>
                            </p:stCondLst>
                            <p:childTnLst>
                              <p:par>
                                <p:cTn id="40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1" dur="500"/>
                                        <p:tgtEl>
                                          <p:spTgt spid="2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2" fill="hold">
                            <p:stCondLst>
                              <p:cond delay="500"/>
                            </p:stCondLst>
                            <p:childTnLst>
                              <p:par>
                                <p:cTn id="40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5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9" dur="5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3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7" dur="5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8" fill="hold">
                      <p:stCondLst>
                        <p:cond delay="indefinite"/>
                      </p:stCondLst>
                      <p:childTnLst>
                        <p:par>
                          <p:cTn id="4109" fill="hold">
                            <p:stCondLst>
                              <p:cond delay="0"/>
                            </p:stCondLst>
                            <p:childTnLst>
                              <p:par>
                                <p:cTn id="4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2" dur="500"/>
                                        <p:tgtEl>
                                          <p:spTgt spid="2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6" dur="500" fill="hold"/>
                                        <p:tgtEl>
                                          <p:spTgt spid="2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7" dur="500" fill="hold"/>
                                        <p:tgtEl>
                                          <p:spTgt spid="2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1" dur="5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2" dur="5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3" fill="hold">
                      <p:stCondLst>
                        <p:cond delay="indefinite"/>
                      </p:stCondLst>
                      <p:childTnLst>
                        <p:par>
                          <p:cTn id="4124" fill="hold">
                            <p:stCondLst>
                              <p:cond delay="0"/>
                            </p:stCondLst>
                            <p:childTnLst>
                              <p:par>
                                <p:cTn id="4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7" dur="5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8" fill="hold">
                            <p:stCondLst>
                              <p:cond delay="500"/>
                            </p:stCondLst>
                            <p:childTnLst>
                              <p:par>
                                <p:cTn id="4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1" dur="500" fill="hold"/>
                                        <p:tgtEl>
                                          <p:spTgt spid="2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2" dur="500" fill="hold"/>
                                        <p:tgtEl>
                                          <p:spTgt spid="2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6" dur="5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7" dur="5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8" fill="hold">
                      <p:stCondLst>
                        <p:cond delay="indefinite"/>
                      </p:stCondLst>
                      <p:childTnLst>
                        <p:par>
                          <p:cTn id="4139" fill="hold">
                            <p:stCondLst>
                              <p:cond delay="0"/>
                            </p:stCondLst>
                            <p:childTnLst>
                              <p:par>
                                <p:cTn id="4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2" dur="5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6" dur="500" fill="hold"/>
                                        <p:tgtEl>
                                          <p:spTgt spid="2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7" dur="500" fill="hold"/>
                                        <p:tgtEl>
                                          <p:spTgt spid="2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1" dur="5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2" dur="5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3" fill="hold">
                      <p:stCondLst>
                        <p:cond delay="indefinite"/>
                      </p:stCondLst>
                      <p:childTnLst>
                        <p:par>
                          <p:cTn id="4154" fill="hold">
                            <p:stCondLst>
                              <p:cond delay="0"/>
                            </p:stCondLst>
                            <p:childTnLst>
                              <p:par>
                                <p:cTn id="4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7" dur="500"/>
                                        <p:tgtEl>
                                          <p:spTgt spid="2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8" fill="hold">
                            <p:stCondLst>
                              <p:cond delay="500"/>
                            </p:stCondLst>
                            <p:childTnLst>
                              <p:par>
                                <p:cTn id="4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1" dur="50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2" dur="50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6" dur="50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7" dur="50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8" fill="hold">
                      <p:stCondLst>
                        <p:cond delay="indefinite"/>
                      </p:stCondLst>
                      <p:childTnLst>
                        <p:par>
                          <p:cTn id="4169" fill="hold">
                            <p:stCondLst>
                              <p:cond delay="0"/>
                            </p:stCondLst>
                            <p:childTnLst>
                              <p:par>
                                <p:cTn id="4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2" dur="500"/>
                                        <p:tgtEl>
                                          <p:spTgt spid="3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3" fill="hold">
                            <p:stCondLst>
                              <p:cond delay="500"/>
                            </p:stCondLst>
                            <p:childTnLst>
                              <p:par>
                                <p:cTn id="4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6" dur="500" fill="hold"/>
                                        <p:tgtEl>
                                          <p:spTgt spid="3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7" dur="500" fill="hold"/>
                                        <p:tgtEl>
                                          <p:spTgt spid="3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1" dur="500" fill="hold"/>
                                        <p:tgtEl>
                                          <p:spTgt spid="3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2" dur="500" fill="hold"/>
                                        <p:tgtEl>
                                          <p:spTgt spid="3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3" fill="hold">
                      <p:stCondLst>
                        <p:cond delay="indefinite"/>
                      </p:stCondLst>
                      <p:childTnLst>
                        <p:par>
                          <p:cTn id="4184" fill="hold">
                            <p:stCondLst>
                              <p:cond delay="0"/>
                            </p:stCondLst>
                            <p:childTnLst>
                              <p:par>
                                <p:cTn id="4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7" dur="500"/>
                                        <p:tgtEl>
                                          <p:spTgt spid="3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8" fill="hold">
                            <p:stCondLst>
                              <p:cond delay="500"/>
                            </p:stCondLst>
                            <p:childTnLst>
                              <p:par>
                                <p:cTn id="4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1" dur="500" fill="hold"/>
                                        <p:tgtEl>
                                          <p:spTgt spid="3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2" dur="500" fill="hold"/>
                                        <p:tgtEl>
                                          <p:spTgt spid="3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6" dur="500" fill="hold"/>
                                        <p:tgtEl>
                                          <p:spTgt spid="3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7" dur="500" fill="hold"/>
                                        <p:tgtEl>
                                          <p:spTgt spid="3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8" fill="hold">
                      <p:stCondLst>
                        <p:cond delay="indefinite"/>
                      </p:stCondLst>
                      <p:childTnLst>
                        <p:par>
                          <p:cTn id="4199" fill="hold">
                            <p:stCondLst>
                              <p:cond delay="0"/>
                            </p:stCondLst>
                            <p:childTnLst>
                              <p:par>
                                <p:cTn id="4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2" dur="500"/>
                                        <p:tgtEl>
                                          <p:spTgt spid="3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3" fill="hold">
                            <p:stCondLst>
                              <p:cond delay="500"/>
                            </p:stCondLst>
                            <p:childTnLst>
                              <p:par>
                                <p:cTn id="4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6" dur="5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7" dur="5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1" dur="500" fill="hold"/>
                                        <p:tgtEl>
                                          <p:spTgt spid="3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2" dur="500" fill="hold"/>
                                        <p:tgtEl>
                                          <p:spTgt spid="3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3" fill="hold">
                      <p:stCondLst>
                        <p:cond delay="indefinite"/>
                      </p:stCondLst>
                      <p:childTnLst>
                        <p:par>
                          <p:cTn id="4214" fill="hold">
                            <p:stCondLst>
                              <p:cond delay="0"/>
                            </p:stCondLst>
                            <p:childTnLst>
                              <p:par>
                                <p:cTn id="4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7" dur="500"/>
                                        <p:tgtEl>
                                          <p:spTgt spid="3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8" fill="hold">
                            <p:stCondLst>
                              <p:cond delay="500"/>
                            </p:stCondLst>
                            <p:childTnLst>
                              <p:par>
                                <p:cTn id="4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1" dur="500" fill="hold"/>
                                        <p:tgtEl>
                                          <p:spTgt spid="3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2" dur="500" fill="hold"/>
                                        <p:tgtEl>
                                          <p:spTgt spid="3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6" dur="5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7" dur="5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8" fill="hold">
                      <p:stCondLst>
                        <p:cond delay="indefinite"/>
                      </p:stCondLst>
                      <p:childTnLst>
                        <p:par>
                          <p:cTn id="4229" fill="hold">
                            <p:stCondLst>
                              <p:cond delay="0"/>
                            </p:stCondLst>
                            <p:childTnLst>
                              <p:par>
                                <p:cTn id="4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2" dur="500"/>
                                        <p:tgtEl>
                                          <p:spTgt spid="3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3" fill="hold">
                            <p:stCondLst>
                              <p:cond delay="500"/>
                            </p:stCondLst>
                            <p:childTnLst>
                              <p:par>
                                <p:cTn id="4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6" dur="500" fill="hold"/>
                                        <p:tgtEl>
                                          <p:spTgt spid="3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7" dur="500" fill="hold"/>
                                        <p:tgtEl>
                                          <p:spTgt spid="3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1" dur="500" fill="hold"/>
                                        <p:tgtEl>
                                          <p:spTgt spid="3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2" dur="500" fill="hold"/>
                                        <p:tgtEl>
                                          <p:spTgt spid="3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3" fill="hold">
                      <p:stCondLst>
                        <p:cond delay="indefinite"/>
                      </p:stCondLst>
                      <p:childTnLst>
                        <p:par>
                          <p:cTn id="4244" fill="hold">
                            <p:stCondLst>
                              <p:cond delay="0"/>
                            </p:stCondLst>
                            <p:childTnLst>
                              <p:par>
                                <p:cTn id="4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7" dur="500"/>
                                        <p:tgtEl>
                                          <p:spTgt spid="3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8" fill="hold">
                            <p:stCondLst>
                              <p:cond delay="500"/>
                            </p:stCondLst>
                            <p:childTnLst>
                              <p:par>
                                <p:cTn id="4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1" dur="500" fill="hold"/>
                                        <p:tgtEl>
                                          <p:spTgt spid="3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2" dur="500" fill="hold"/>
                                        <p:tgtEl>
                                          <p:spTgt spid="3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6" dur="500" fill="hold"/>
                                        <p:tgtEl>
                                          <p:spTgt spid="3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7" dur="500" fill="hold"/>
                                        <p:tgtEl>
                                          <p:spTgt spid="3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nv. Cryptography: Usag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 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 Integrity/Authent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5" name=""/>
          <p:cNvSpPr/>
          <p:nvPr/>
        </p:nvSpPr>
        <p:spPr>
          <a:xfrm>
            <a:off x="2017800" y="3962520"/>
            <a:ext cx="1218960" cy="8380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ncry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1560600" y="422928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3236760" y="422928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5370480" y="4984920"/>
            <a:ext cx="1219320" cy="8380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cry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4913280" y="52513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6589800" y="52513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1" name=""/>
          <p:cNvCxnSpPr>
            <a:stCxn id="3192" idx="3"/>
            <a:endCxn id="3193" idx="1"/>
          </p:cNvCxnSpPr>
          <p:nvPr/>
        </p:nvCxnSpPr>
        <p:spPr>
          <a:xfrm flipH="1">
            <a:off x="4150440" y="4349880"/>
            <a:ext cx="229320" cy="1023120"/>
          </a:xfrm>
          <a:prstGeom prst="curvedConnector5">
            <a:avLst>
              <a:gd name="adj1" fmla="val -340880"/>
              <a:gd name="adj2" fmla="val 24991"/>
              <a:gd name="adj3" fmla="val -340880"/>
            </a:avLst>
          </a:prstGeom>
          <a:ln w="7632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grpSp>
        <p:nvGrpSpPr>
          <p:cNvPr id="3194" name=""/>
          <p:cNvGrpSpPr/>
          <p:nvPr/>
        </p:nvGrpSpPr>
        <p:grpSpPr>
          <a:xfrm>
            <a:off x="2160360" y="3253320"/>
            <a:ext cx="1041480" cy="487800"/>
            <a:chOff x="2160360" y="3253320"/>
            <a:chExt cx="1041480" cy="487800"/>
          </a:xfrm>
        </p:grpSpPr>
        <p:sp>
          <p:nvSpPr>
            <p:cNvPr id="3195" name=""/>
            <p:cNvSpPr/>
            <p:nvPr/>
          </p:nvSpPr>
          <p:spPr>
            <a:xfrm rot="16357800">
              <a:off x="2460240" y="2985840"/>
              <a:ext cx="441360" cy="10224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6" name=""/>
            <p:cNvGrpSpPr/>
            <p:nvPr/>
          </p:nvGrpSpPr>
          <p:grpSpPr>
            <a:xfrm>
              <a:off x="2327400" y="3304440"/>
              <a:ext cx="131040" cy="341640"/>
              <a:chOff x="2327400" y="3304440"/>
              <a:chExt cx="131040" cy="341640"/>
            </a:xfrm>
          </p:grpSpPr>
          <p:sp>
            <p:nvSpPr>
              <p:cNvPr id="3197" name=""/>
              <p:cNvSpPr/>
              <p:nvPr/>
            </p:nvSpPr>
            <p:spPr>
              <a:xfrm rot="16357800">
                <a:off x="2237040" y="3429000"/>
                <a:ext cx="311400" cy="11700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 rot="16357800">
                <a:off x="2236680" y="3404520"/>
                <a:ext cx="312480" cy="11664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9" name=""/>
            <p:cNvGrpSpPr/>
            <p:nvPr/>
          </p:nvGrpSpPr>
          <p:grpSpPr>
            <a:xfrm>
              <a:off x="2458800" y="3297600"/>
              <a:ext cx="733320" cy="377280"/>
              <a:chOff x="2458800" y="3297600"/>
              <a:chExt cx="733320" cy="377280"/>
            </a:xfrm>
          </p:grpSpPr>
          <p:sp>
            <p:nvSpPr>
              <p:cNvPr id="3200" name=""/>
              <p:cNvSpPr/>
              <p:nvPr/>
            </p:nvSpPr>
            <p:spPr>
              <a:xfrm rot="16357800">
                <a:off x="2881800" y="3238560"/>
                <a:ext cx="9360" cy="5580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 rot="16357800">
                <a:off x="2892600" y="3191760"/>
                <a:ext cx="8640" cy="54432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02" name=""/>
              <p:cNvGrpSpPr/>
              <p:nvPr/>
            </p:nvGrpSpPr>
            <p:grpSpPr>
              <a:xfrm>
                <a:off x="2458800" y="3297600"/>
                <a:ext cx="733320" cy="377280"/>
                <a:chOff x="2458800" y="3297600"/>
                <a:chExt cx="733320" cy="377280"/>
              </a:xfrm>
            </p:grpSpPr>
            <p:sp>
              <p:nvSpPr>
                <p:cNvPr id="3203" name=""/>
                <p:cNvSpPr/>
                <p:nvPr/>
              </p:nvSpPr>
              <p:spPr>
                <a:xfrm rot="16357800">
                  <a:off x="2285640" y="3479040"/>
                  <a:ext cx="376920" cy="1368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4" name=""/>
                <p:cNvSpPr/>
                <p:nvPr/>
              </p:nvSpPr>
              <p:spPr>
                <a:xfrm rot="16357800">
                  <a:off x="2425320" y="3479040"/>
                  <a:ext cx="230760" cy="1260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5" name=""/>
                <p:cNvSpPr/>
                <p:nvPr/>
              </p:nvSpPr>
              <p:spPr>
                <a:xfrm rot="16357800">
                  <a:off x="2894400" y="3193920"/>
                  <a:ext cx="28800" cy="56592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 rot="16357800">
                  <a:off x="2545920" y="3446280"/>
                  <a:ext cx="200520" cy="8460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 rot="16357800">
                  <a:off x="2352240" y="3478680"/>
                  <a:ext cx="297000" cy="1152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08" name=""/>
          <p:cNvGrpSpPr/>
          <p:nvPr/>
        </p:nvGrpSpPr>
        <p:grpSpPr>
          <a:xfrm>
            <a:off x="5513040" y="4243680"/>
            <a:ext cx="1041480" cy="487800"/>
            <a:chOff x="5513040" y="4243680"/>
            <a:chExt cx="1041480" cy="487800"/>
          </a:xfrm>
        </p:grpSpPr>
        <p:sp>
          <p:nvSpPr>
            <p:cNvPr id="3209" name=""/>
            <p:cNvSpPr/>
            <p:nvPr/>
          </p:nvSpPr>
          <p:spPr>
            <a:xfrm rot="16357800">
              <a:off x="5812920" y="3976200"/>
              <a:ext cx="441360" cy="10224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0" name=""/>
            <p:cNvGrpSpPr/>
            <p:nvPr/>
          </p:nvGrpSpPr>
          <p:grpSpPr>
            <a:xfrm>
              <a:off x="5680080" y="4294800"/>
              <a:ext cx="131040" cy="341640"/>
              <a:chOff x="5680080" y="4294800"/>
              <a:chExt cx="131040" cy="341640"/>
            </a:xfrm>
          </p:grpSpPr>
          <p:sp>
            <p:nvSpPr>
              <p:cNvPr id="3211" name=""/>
              <p:cNvSpPr/>
              <p:nvPr/>
            </p:nvSpPr>
            <p:spPr>
              <a:xfrm rot="16357800">
                <a:off x="5589720" y="4419360"/>
                <a:ext cx="311400" cy="11700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 rot="16357800">
                <a:off x="5589360" y="4394880"/>
                <a:ext cx="312480" cy="11664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3" name=""/>
            <p:cNvGrpSpPr/>
            <p:nvPr/>
          </p:nvGrpSpPr>
          <p:grpSpPr>
            <a:xfrm>
              <a:off x="5811480" y="4287960"/>
              <a:ext cx="733320" cy="377280"/>
              <a:chOff x="5811480" y="4287960"/>
              <a:chExt cx="733320" cy="377280"/>
            </a:xfrm>
          </p:grpSpPr>
          <p:sp>
            <p:nvSpPr>
              <p:cNvPr id="3214" name=""/>
              <p:cNvSpPr/>
              <p:nvPr/>
            </p:nvSpPr>
            <p:spPr>
              <a:xfrm rot="16357800">
                <a:off x="6234480" y="4228920"/>
                <a:ext cx="9360" cy="5580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 rot="16357800">
                <a:off x="6245280" y="4182120"/>
                <a:ext cx="8640" cy="54432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6" name=""/>
              <p:cNvGrpSpPr/>
              <p:nvPr/>
            </p:nvGrpSpPr>
            <p:grpSpPr>
              <a:xfrm>
                <a:off x="5811480" y="4287960"/>
                <a:ext cx="733320" cy="377280"/>
                <a:chOff x="5811480" y="4287960"/>
                <a:chExt cx="733320" cy="377280"/>
              </a:xfrm>
            </p:grpSpPr>
            <p:sp>
              <p:nvSpPr>
                <p:cNvPr id="3217" name=""/>
                <p:cNvSpPr/>
                <p:nvPr/>
              </p:nvSpPr>
              <p:spPr>
                <a:xfrm rot="16357800">
                  <a:off x="5638320" y="4469400"/>
                  <a:ext cx="376920" cy="1368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 rot="16357800">
                  <a:off x="5778000" y="4469400"/>
                  <a:ext cx="230760" cy="1260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9" name=""/>
                <p:cNvSpPr/>
                <p:nvPr/>
              </p:nvSpPr>
              <p:spPr>
                <a:xfrm rot="16357800">
                  <a:off x="6247080" y="4184280"/>
                  <a:ext cx="28800" cy="56592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0" name=""/>
                <p:cNvSpPr/>
                <p:nvPr/>
              </p:nvSpPr>
              <p:spPr>
                <a:xfrm rot="16357800">
                  <a:off x="5898600" y="4436640"/>
                  <a:ext cx="200520" cy="8460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1" name=""/>
                <p:cNvSpPr/>
                <p:nvPr/>
              </p:nvSpPr>
              <p:spPr>
                <a:xfrm rot="16357800">
                  <a:off x="5704920" y="4469040"/>
                  <a:ext cx="297000" cy="1152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22" name=""/>
          <p:cNvSpPr/>
          <p:nvPr/>
        </p:nvSpPr>
        <p:spPr>
          <a:xfrm>
            <a:off x="836640" y="4159080"/>
            <a:ext cx="685800" cy="38124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3693960" y="4159080"/>
            <a:ext cx="685800" cy="3812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y6g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4151160" y="5181480"/>
            <a:ext cx="685800" cy="38124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y6g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7047000" y="5181480"/>
            <a:ext cx="685800" cy="38124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6818400" y="3187800"/>
            <a:ext cx="1218960" cy="77472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6818400" y="4038480"/>
            <a:ext cx="1218960" cy="457200"/>
          </a:xfrm>
          <a:custGeom>
            <a:avLst/>
            <a:gdLst>
              <a:gd name="textAreaLeft" fmla="*/ 228960 w 1218960"/>
              <a:gd name="textAreaRight" fmla="*/ 990000 w 1218960"/>
              <a:gd name="textAreaTop" fmla="*/ 86040 h 457200"/>
              <a:gd name="textAreaBottom" fmla="*/ 371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38" y="21600"/>
                </a:lnTo>
                <a:lnTo>
                  <a:pt x="4162" y="21600"/>
                </a:lnTo>
                <a:close/>
              </a:path>
            </a:pathLst>
          </a:cu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7085160" y="4572000"/>
            <a:ext cx="685800" cy="38088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569880" y="2806560"/>
            <a:ext cx="1219320" cy="77472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569880" y="3657600"/>
            <a:ext cx="1219320" cy="457200"/>
          </a:xfrm>
          <a:custGeom>
            <a:avLst/>
            <a:gdLst>
              <a:gd name="textAreaLeft" fmla="*/ 229320 w 1219320"/>
              <a:gd name="textAreaRight" fmla="*/ 990000 w 1219320"/>
              <a:gd name="textAreaTop" fmla="*/ 86040 h 457200"/>
              <a:gd name="textAreaBottom" fmla="*/ 371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38" y="21600"/>
                </a:lnTo>
                <a:lnTo>
                  <a:pt x="4162" y="21600"/>
                </a:lnTo>
                <a:close/>
              </a:path>
            </a:pathLst>
          </a:cu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9" name=""/>
          <p:cNvCxnSpPr>
            <a:stCxn id="3227" idx="3"/>
            <a:endCxn id="3224" idx="1"/>
          </p:cNvCxnSpPr>
          <p:nvPr/>
        </p:nvCxnSpPr>
        <p:spPr>
          <a:xfrm>
            <a:off x="1789200" y="3193560"/>
            <a:ext cx="5029920" cy="381960"/>
          </a:xfrm>
          <a:prstGeom prst="curvedConnector5">
            <a:avLst>
              <a:gd name="adj1" fmla="val 49996"/>
              <a:gd name="adj2" fmla="val 50000"/>
              <a:gd name="adj3" fmla="val 49996"/>
            </a:avLst>
          </a:prstGeom>
          <a:ln w="7632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cxnSp>
        <p:nvCxnSpPr>
          <p:cNvPr id="3230" name=""/>
          <p:cNvCxnSpPr>
            <a:stCxn id="3226" idx="3"/>
            <a:endCxn id="3223" idx="3"/>
          </p:cNvCxnSpPr>
          <p:nvPr/>
        </p:nvCxnSpPr>
        <p:spPr>
          <a:xfrm flipH="1">
            <a:off x="7732440" y="4762440"/>
            <a:ext cx="38880" cy="610560"/>
          </a:xfrm>
          <a:prstGeom prst="curvedConnector5">
            <a:avLst>
              <a:gd name="adj1" fmla="val -1324299"/>
              <a:gd name="adj2" fmla="val 49970"/>
              <a:gd name="adj3" fmla="val -1324299"/>
            </a:avLst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231" name=""/>
          <p:cNvSpPr/>
          <p:nvPr/>
        </p:nvSpPr>
        <p:spPr>
          <a:xfrm>
            <a:off x="8266320" y="47379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=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2590920" y="35812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6095880" y="45720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6810480" y="3200400"/>
            <a:ext cx="1218960" cy="774720"/>
          </a:xfrm>
          <a:prstGeom prst="foldedCorner">
            <a:avLst>
              <a:gd name="adj" fmla="val 12500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at i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7086600" y="4572000"/>
            <a:ext cx="685800" cy="380880"/>
          </a:xfrm>
          <a:prstGeom prst="foldedCorner">
            <a:avLst>
              <a:gd name="adj" fmla="val 12500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1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7696080" y="4572000"/>
            <a:ext cx="914400" cy="99072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8" dur="indefinite" restart="never" nodeType="tmRoot">
          <p:childTnLst>
            <p:seq>
              <p:cTn id="4259" dur="indefinite" nodeType="mainSeq">
                <p:childTnLst>
                  <p:par>
                    <p:cTn id="4260" fill="hold">
                      <p:stCondLst>
                        <p:cond delay="0"/>
                      </p:stCondLst>
                      <p:childTnLst>
                        <p:par>
                          <p:cTn id="4261" fill="hold">
                            <p:stCondLst>
                              <p:cond delay="0"/>
                            </p:stCondLst>
                            <p:childTnLst>
                              <p:par>
                                <p:cTn id="4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4" dur="500"/>
                                        <p:tgtEl>
                                          <p:spTgt spid="3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5" fill="hold">
                      <p:stCondLst>
                        <p:cond delay="indefinite"/>
                      </p:stCondLst>
                      <p:childTnLst>
                        <p:par>
                          <p:cTn id="4266" fill="hold">
                            <p:stCondLst>
                              <p:cond delay="0"/>
                            </p:stCondLst>
                            <p:childTnLst>
                              <p:par>
                                <p:cTn id="4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9" dur="500"/>
                                        <p:tgtEl>
                                          <p:spTgt spid="3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0" fill="hold">
                            <p:stCondLst>
                              <p:cond delay="500"/>
                            </p:stCondLst>
                            <p:childTnLst>
                              <p:par>
                                <p:cTn id="4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3" dur="500"/>
                                        <p:tgtEl>
                                          <p:spTgt spid="3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4" fill="hold">
                      <p:stCondLst>
                        <p:cond delay="indefinite"/>
                      </p:stCondLst>
                      <p:childTnLst>
                        <p:par>
                          <p:cTn id="4275" fill="hold">
                            <p:stCondLst>
                              <p:cond delay="0"/>
                            </p:stCondLst>
                            <p:childTnLst>
                              <p:par>
                                <p:cTn id="4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8" dur="5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9" fill="hold">
                            <p:stCondLst>
                              <p:cond delay="500"/>
                            </p:stCondLst>
                            <p:childTnLst>
                              <p:par>
                                <p:cTn id="4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2" dur="500"/>
                                        <p:tgtEl>
                                          <p:spTgt spid="3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6" dur="500" fill="hold"/>
                                        <p:tgtEl>
                                          <p:spTgt spid="3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7" dur="500" fill="hold"/>
                                        <p:tgtEl>
                                          <p:spTgt spid="3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1" dur="500"/>
                                        <p:tgtEl>
                                          <p:spTgt spid="3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5" dur="500"/>
                                        <p:tgtEl>
                                          <p:spTgt spid="3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9" dur="500"/>
                                        <p:tgtEl>
                                          <p:spTgt spid="3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0" fill="hold">
                      <p:stCondLst>
                        <p:cond delay="indefinite"/>
                      </p:stCondLst>
                      <p:childTnLst>
                        <p:par>
                          <p:cTn id="4301" fill="hold">
                            <p:stCondLst>
                              <p:cond delay="0"/>
                            </p:stCondLst>
                            <p:childTnLst>
                              <p:par>
                                <p:cTn id="4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4" dur="500"/>
                                        <p:tgtEl>
                                          <p:spTgt spid="3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5" fill="hold">
                            <p:stCondLst>
                              <p:cond delay="500"/>
                            </p:stCondLst>
                            <p:childTnLst>
                              <p:par>
                                <p:cTn id="4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8" dur="500"/>
                                        <p:tgtEl>
                                          <p:spTgt spid="3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2" dur="500"/>
                                        <p:tgtEl>
                                          <p:spTgt spid="3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6" dur="500"/>
                                        <p:tgtEl>
                                          <p:spTgt spid="3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7" fill="hold">
                      <p:stCondLst>
                        <p:cond delay="indefinite"/>
                      </p:stCondLst>
                      <p:childTnLst>
                        <p:par>
                          <p:cTn id="4318" fill="hold">
                            <p:stCondLst>
                              <p:cond delay="0"/>
                            </p:stCondLst>
                            <p:childTnLst>
                              <p:par>
                                <p:cTn id="4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1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2" fill="hold">
                            <p:stCondLst>
                              <p:cond delay="500"/>
                            </p:stCondLst>
                            <p:childTnLst>
                              <p:par>
                                <p:cTn id="4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5" dur="500"/>
                                        <p:tgtEl>
                                          <p:spTgt spid="3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9" dur="500" fill="hold"/>
                                        <p:tgtEl>
                                          <p:spTgt spid="3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0" dur="500" fill="hold"/>
                                        <p:tgtEl>
                                          <p:spTgt spid="3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4" dur="500"/>
                                        <p:tgtEl>
                                          <p:spTgt spid="3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8" dur="500"/>
                                        <p:tgtEl>
                                          <p:spTgt spid="3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2" dur="500"/>
                                        <p:tgtEl>
                                          <p:spTgt spid="3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3" fill="hold">
                      <p:stCondLst>
                        <p:cond delay="indefinite"/>
                      </p:stCondLst>
                      <p:childTnLst>
                        <p:par>
                          <p:cTn id="4344" fill="hold">
                            <p:stCondLst>
                              <p:cond delay="0"/>
                            </p:stCondLst>
                            <p:childTnLst>
                              <p:par>
                                <p:cTn id="4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7" dur="500"/>
                                        <p:tgtEl>
                                          <p:spTgt spid="3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8" fill="hold">
                            <p:stCondLst>
                              <p:cond delay="500"/>
                            </p:stCondLst>
                            <p:childTnLst>
                              <p:par>
                                <p:cTn id="4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1" dur="500"/>
                                        <p:tgtEl>
                                          <p:spTgt spid="3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2" fill="hold">
                      <p:stCondLst>
                        <p:cond delay="indefinite"/>
                      </p:stCondLst>
                      <p:childTnLst>
                        <p:par>
                          <p:cTn id="4353" fill="hold">
                            <p:stCondLst>
                              <p:cond delay="0"/>
                            </p:stCondLst>
                            <p:childTnLst>
                              <p:par>
                                <p:cTn id="43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56" dur="500"/>
                                        <p:tgtEl>
                                          <p:spTgt spid="3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7" fill="hold">
                            <p:stCondLst>
                              <p:cond delay="500"/>
                            </p:stCondLst>
                            <p:childTnLst>
                              <p:par>
                                <p:cTn id="43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0" dur="500"/>
                                        <p:tgtEl>
                                          <p:spTgt spid="3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1" fill="hold">
                      <p:stCondLst>
                        <p:cond delay="indefinite"/>
                      </p:stCondLst>
                      <p:childTnLst>
                        <p:par>
                          <p:cTn id="4362" fill="hold">
                            <p:stCondLst>
                              <p:cond delay="0"/>
                            </p:stCondLst>
                            <p:childTnLst>
                              <p:par>
                                <p:cTn id="43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5" dur="500"/>
                                        <p:tgtEl>
                                          <p:spTgt spid="3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6" fill="hold">
                      <p:stCondLst>
                        <p:cond delay="indefinite"/>
                      </p:stCondLst>
                      <p:childTnLst>
                        <p:par>
                          <p:cTn id="4367" fill="hold">
                            <p:stCondLst>
                              <p:cond delay="0"/>
                            </p:stCondLst>
                            <p:childTnLst>
                              <p:par>
                                <p:cTn id="43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70" dur="500"/>
                                        <p:tgtEl>
                                          <p:spTgt spid="3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1" fill="hold">
                      <p:stCondLst>
                        <p:cond delay="indefinite"/>
                      </p:stCondLst>
                      <p:childTnLst>
                        <p:par>
                          <p:cTn id="4372" fill="hold">
                            <p:stCondLst>
                              <p:cond delay="0"/>
                            </p:stCondLst>
                            <p:childTnLst>
                              <p:par>
                                <p:cTn id="437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5" dur="500" fill="hold"/>
                                        <p:tgtEl>
                                          <p:spTgt spid="3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6" dur="500" fill="hold"/>
                                        <p:tgtEl>
                                          <p:spTgt spid="3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7" dur="500" fill="hold"/>
                                        <p:tgtEl>
                                          <p:spTgt spid="3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8" dur="500" fill="hold"/>
                                        <p:tgtEl>
                                          <p:spTgt spid="3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nv. Cryptography: Usag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 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 Integrity/Authent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239" name=""/>
          <p:cNvCxnSpPr>
            <a:stCxn id="3240" idx="3"/>
            <a:endCxn id="3241" idx="1"/>
          </p:cNvCxnSpPr>
          <p:nvPr/>
        </p:nvCxnSpPr>
        <p:spPr>
          <a:xfrm>
            <a:off x="2233080" y="4771800"/>
            <a:ext cx="4814280" cy="1059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grpSp>
        <p:nvGrpSpPr>
          <p:cNvPr id="3242" name=""/>
          <p:cNvGrpSpPr/>
          <p:nvPr/>
        </p:nvGrpSpPr>
        <p:grpSpPr>
          <a:xfrm>
            <a:off x="2160360" y="3253320"/>
            <a:ext cx="1041480" cy="487800"/>
            <a:chOff x="2160360" y="3253320"/>
            <a:chExt cx="1041480" cy="487800"/>
          </a:xfrm>
        </p:grpSpPr>
        <p:sp>
          <p:nvSpPr>
            <p:cNvPr id="3243" name=""/>
            <p:cNvSpPr/>
            <p:nvPr/>
          </p:nvSpPr>
          <p:spPr>
            <a:xfrm rot="16357800">
              <a:off x="2460240" y="2985840"/>
              <a:ext cx="441360" cy="10224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4" name=""/>
            <p:cNvGrpSpPr/>
            <p:nvPr/>
          </p:nvGrpSpPr>
          <p:grpSpPr>
            <a:xfrm>
              <a:off x="2327400" y="3304440"/>
              <a:ext cx="131040" cy="341640"/>
              <a:chOff x="2327400" y="3304440"/>
              <a:chExt cx="131040" cy="341640"/>
            </a:xfrm>
          </p:grpSpPr>
          <p:sp>
            <p:nvSpPr>
              <p:cNvPr id="3245" name=""/>
              <p:cNvSpPr/>
              <p:nvPr/>
            </p:nvSpPr>
            <p:spPr>
              <a:xfrm rot="16357800">
                <a:off x="2237040" y="3429000"/>
                <a:ext cx="311400" cy="11700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 rot="16357800">
                <a:off x="2236680" y="3404520"/>
                <a:ext cx="312480" cy="11664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7" name=""/>
            <p:cNvGrpSpPr/>
            <p:nvPr/>
          </p:nvGrpSpPr>
          <p:grpSpPr>
            <a:xfrm>
              <a:off x="2458800" y="3297600"/>
              <a:ext cx="733320" cy="377280"/>
              <a:chOff x="2458800" y="3297600"/>
              <a:chExt cx="733320" cy="377280"/>
            </a:xfrm>
          </p:grpSpPr>
          <p:sp>
            <p:nvSpPr>
              <p:cNvPr id="3248" name=""/>
              <p:cNvSpPr/>
              <p:nvPr/>
            </p:nvSpPr>
            <p:spPr>
              <a:xfrm rot="16357800">
                <a:off x="2881800" y="3238560"/>
                <a:ext cx="9360" cy="5580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 rot="16357800">
                <a:off x="2892600" y="3191760"/>
                <a:ext cx="8640" cy="54432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50" name=""/>
              <p:cNvGrpSpPr/>
              <p:nvPr/>
            </p:nvGrpSpPr>
            <p:grpSpPr>
              <a:xfrm>
                <a:off x="2458800" y="3297600"/>
                <a:ext cx="733320" cy="377280"/>
                <a:chOff x="2458800" y="3297600"/>
                <a:chExt cx="733320" cy="377280"/>
              </a:xfrm>
            </p:grpSpPr>
            <p:sp>
              <p:nvSpPr>
                <p:cNvPr id="3251" name=""/>
                <p:cNvSpPr/>
                <p:nvPr/>
              </p:nvSpPr>
              <p:spPr>
                <a:xfrm rot="16357800">
                  <a:off x="2285640" y="3479040"/>
                  <a:ext cx="376920" cy="1368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 rot="16357800">
                  <a:off x="2425320" y="3479040"/>
                  <a:ext cx="230760" cy="1260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 rot="16357800">
                  <a:off x="2894400" y="3193920"/>
                  <a:ext cx="28800" cy="56592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4" name=""/>
                <p:cNvSpPr/>
                <p:nvPr/>
              </p:nvSpPr>
              <p:spPr>
                <a:xfrm rot="16357800">
                  <a:off x="2545920" y="3446280"/>
                  <a:ext cx="200520" cy="8460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 rot="16357800">
                  <a:off x="2352240" y="3478680"/>
                  <a:ext cx="297000" cy="1152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56" name=""/>
          <p:cNvGrpSpPr/>
          <p:nvPr/>
        </p:nvGrpSpPr>
        <p:grpSpPr>
          <a:xfrm>
            <a:off x="7154640" y="3765960"/>
            <a:ext cx="1041480" cy="487800"/>
            <a:chOff x="7154640" y="3765960"/>
            <a:chExt cx="1041480" cy="487800"/>
          </a:xfrm>
        </p:grpSpPr>
        <p:sp>
          <p:nvSpPr>
            <p:cNvPr id="3257" name=""/>
            <p:cNvSpPr/>
            <p:nvPr/>
          </p:nvSpPr>
          <p:spPr>
            <a:xfrm rot="16357800">
              <a:off x="7454520" y="3498480"/>
              <a:ext cx="441360" cy="10224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8" name=""/>
            <p:cNvGrpSpPr/>
            <p:nvPr/>
          </p:nvGrpSpPr>
          <p:grpSpPr>
            <a:xfrm>
              <a:off x="7321680" y="3817080"/>
              <a:ext cx="131040" cy="341640"/>
              <a:chOff x="7321680" y="3817080"/>
              <a:chExt cx="131040" cy="341640"/>
            </a:xfrm>
          </p:grpSpPr>
          <p:sp>
            <p:nvSpPr>
              <p:cNvPr id="3259" name=""/>
              <p:cNvSpPr/>
              <p:nvPr/>
            </p:nvSpPr>
            <p:spPr>
              <a:xfrm rot="16357800">
                <a:off x="7231320" y="3941640"/>
                <a:ext cx="311400" cy="11700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 rot="16357800">
                <a:off x="7230960" y="3917160"/>
                <a:ext cx="312480" cy="11664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1" name=""/>
            <p:cNvGrpSpPr/>
            <p:nvPr/>
          </p:nvGrpSpPr>
          <p:grpSpPr>
            <a:xfrm>
              <a:off x="7453080" y="3810240"/>
              <a:ext cx="733320" cy="377280"/>
              <a:chOff x="7453080" y="3810240"/>
              <a:chExt cx="733320" cy="377280"/>
            </a:xfrm>
          </p:grpSpPr>
          <p:sp>
            <p:nvSpPr>
              <p:cNvPr id="3262" name=""/>
              <p:cNvSpPr/>
              <p:nvPr/>
            </p:nvSpPr>
            <p:spPr>
              <a:xfrm rot="16357800">
                <a:off x="7876080" y="3751200"/>
                <a:ext cx="9360" cy="5580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 rot="16357800">
                <a:off x="7886880" y="3704400"/>
                <a:ext cx="8640" cy="54432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4" name=""/>
              <p:cNvGrpSpPr/>
              <p:nvPr/>
            </p:nvGrpSpPr>
            <p:grpSpPr>
              <a:xfrm>
                <a:off x="7453080" y="3810240"/>
                <a:ext cx="733320" cy="377280"/>
                <a:chOff x="7453080" y="3810240"/>
                <a:chExt cx="733320" cy="377280"/>
              </a:xfrm>
            </p:grpSpPr>
            <p:sp>
              <p:nvSpPr>
                <p:cNvPr id="3265" name=""/>
                <p:cNvSpPr/>
                <p:nvPr/>
              </p:nvSpPr>
              <p:spPr>
                <a:xfrm rot="16357800">
                  <a:off x="7279920" y="3991680"/>
                  <a:ext cx="376920" cy="1368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6" name=""/>
                <p:cNvSpPr/>
                <p:nvPr/>
              </p:nvSpPr>
              <p:spPr>
                <a:xfrm rot="16357800">
                  <a:off x="7419600" y="3991680"/>
                  <a:ext cx="230760" cy="1260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 rot="16357800">
                  <a:off x="7888680" y="3706560"/>
                  <a:ext cx="28800" cy="56592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8" name=""/>
                <p:cNvSpPr/>
                <p:nvPr/>
              </p:nvSpPr>
              <p:spPr>
                <a:xfrm rot="16357800">
                  <a:off x="7540200" y="3958920"/>
                  <a:ext cx="200520" cy="8460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9" name=""/>
                <p:cNvSpPr/>
                <p:nvPr/>
              </p:nvSpPr>
              <p:spPr>
                <a:xfrm rot="16357800">
                  <a:off x="7346520" y="3991320"/>
                  <a:ext cx="297000" cy="1152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40" name=""/>
          <p:cNvSpPr/>
          <p:nvPr/>
        </p:nvSpPr>
        <p:spPr>
          <a:xfrm>
            <a:off x="1547640" y="4581360"/>
            <a:ext cx="685800" cy="38124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7047000" y="5640480"/>
            <a:ext cx="685800" cy="38088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5796000" y="3187800"/>
            <a:ext cx="1219320" cy="77472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5724360" y="4484520"/>
            <a:ext cx="2457720" cy="457200"/>
          </a:xfrm>
          <a:custGeom>
            <a:avLst/>
            <a:gdLst>
              <a:gd name="textAreaLeft" fmla="*/ 462240 w 2457720"/>
              <a:gd name="textAreaRight" fmla="*/ 1995480 w 2457720"/>
              <a:gd name="textAreaTop" fmla="*/ 86040 h 457200"/>
              <a:gd name="textAreaBottom" fmla="*/ 371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38" y="21600"/>
                </a:lnTo>
                <a:lnTo>
                  <a:pt x="4162" y="21600"/>
                </a:lnTo>
                <a:close/>
              </a:path>
            </a:pathLst>
          </a:cu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569880" y="2806560"/>
            <a:ext cx="1219320" cy="77472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569880" y="4005360"/>
            <a:ext cx="2633760" cy="457200"/>
          </a:xfrm>
          <a:custGeom>
            <a:avLst/>
            <a:gdLst>
              <a:gd name="textAreaLeft" fmla="*/ 495360 w 2633760"/>
              <a:gd name="textAreaRight" fmla="*/ 2138400 w 2633760"/>
              <a:gd name="textAreaTop" fmla="*/ 86040 h 457200"/>
              <a:gd name="textAreaBottom" fmla="*/ 371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38" y="21600"/>
                </a:lnTo>
                <a:lnTo>
                  <a:pt x="4162" y="21600"/>
                </a:lnTo>
                <a:close/>
              </a:path>
            </a:pathLst>
          </a:cu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74" name=""/>
          <p:cNvCxnSpPr>
            <a:stCxn id="3272" idx="3"/>
            <a:endCxn id="3270" idx="1"/>
          </p:cNvCxnSpPr>
          <p:nvPr/>
        </p:nvCxnSpPr>
        <p:spPr>
          <a:xfrm>
            <a:off x="1789200" y="3193560"/>
            <a:ext cx="4007520" cy="381960"/>
          </a:xfrm>
          <a:prstGeom prst="curvedConnector5">
            <a:avLst>
              <a:gd name="adj1" fmla="val 49995"/>
              <a:gd name="adj2" fmla="val 50000"/>
              <a:gd name="adj3" fmla="val 49995"/>
            </a:avLst>
          </a:prstGeom>
          <a:ln w="7632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cxnSp>
        <p:nvCxnSpPr>
          <p:cNvPr id="3275" name=""/>
          <p:cNvCxnSpPr>
            <a:stCxn id="3276" idx="3"/>
            <a:endCxn id="3241" idx="3"/>
          </p:cNvCxnSpPr>
          <p:nvPr/>
        </p:nvCxnSpPr>
        <p:spPr>
          <a:xfrm>
            <a:off x="7345440" y="5203800"/>
            <a:ext cx="388080" cy="627840"/>
          </a:xfrm>
          <a:prstGeom prst="curvedConnector5">
            <a:avLst>
              <a:gd name="adj1" fmla="val 158960"/>
              <a:gd name="adj2" fmla="val 49971"/>
              <a:gd name="adj3" fmla="val 158960"/>
            </a:avLst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277" name=""/>
          <p:cNvSpPr/>
          <p:nvPr/>
        </p:nvSpPr>
        <p:spPr>
          <a:xfrm>
            <a:off x="8064720" y="5083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=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2590920" y="35812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7737480" y="409428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6659640" y="5013360"/>
            <a:ext cx="685800" cy="38088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9" dur="indefinite" restart="never" nodeType="tmRoot">
          <p:childTnLst>
            <p:seq>
              <p:cTn id="4380" dur="indefinite" nodeType="mainSeq">
                <p:childTnLst>
                  <p:par>
                    <p:cTn id="4381" fill="hold">
                      <p:stCondLst>
                        <p:cond delay="0"/>
                      </p:stCondLst>
                      <p:childTnLst>
                        <p:par>
                          <p:cTn id="4382" fill="hold">
                            <p:stCondLst>
                              <p:cond delay="0"/>
                            </p:stCondLst>
                            <p:childTnLst>
                              <p:par>
                                <p:cTn id="4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5" dur="500"/>
                                        <p:tgtEl>
                                          <p:spTgt spid="3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6" fill="hold">
                      <p:stCondLst>
                        <p:cond delay="indefinite"/>
                      </p:stCondLst>
                      <p:childTnLst>
                        <p:par>
                          <p:cTn id="4387" fill="hold">
                            <p:stCondLst>
                              <p:cond delay="0"/>
                            </p:stCondLst>
                            <p:childTnLst>
                              <p:par>
                                <p:cTn id="4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0" dur="500" fill="hold"/>
                                        <p:tgtEl>
                                          <p:spTgt spid="3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1" dur="500" fill="hold"/>
                                        <p:tgtEl>
                                          <p:spTgt spid="3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2" fill="hold">
                            <p:stCondLst>
                              <p:cond delay="500"/>
                            </p:stCondLst>
                            <p:childTnLst>
                              <p:par>
                                <p:cTn id="4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5" dur="500"/>
                                        <p:tgtEl>
                                          <p:spTgt spid="3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9" dur="500"/>
                                        <p:tgtEl>
                                          <p:spTgt spid="3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3" dur="500"/>
                                        <p:tgtEl>
                                          <p:spTgt spid="3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4" fill="hold">
                      <p:stCondLst>
                        <p:cond delay="indefinite"/>
                      </p:stCondLst>
                      <p:childTnLst>
                        <p:par>
                          <p:cTn id="4405" fill="hold">
                            <p:stCondLst>
                              <p:cond delay="0"/>
                            </p:stCondLst>
                            <p:childTnLst>
                              <p:par>
                                <p:cTn id="4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8" dur="500"/>
                                        <p:tgtEl>
                                          <p:spTgt spid="3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2" dur="500"/>
                                        <p:tgtEl>
                                          <p:spTgt spid="3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6" dur="500"/>
                                        <p:tgtEl>
                                          <p:spTgt spid="3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0" dur="500"/>
                                        <p:tgtEl>
                                          <p:spTgt spid="3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1" fill="hold">
                      <p:stCondLst>
                        <p:cond delay="indefinite"/>
                      </p:stCondLst>
                      <p:childTnLst>
                        <p:par>
                          <p:cTn id="4422" fill="hold">
                            <p:stCondLst>
                              <p:cond delay="0"/>
                            </p:stCondLst>
                            <p:childTnLst>
                              <p:par>
                                <p:cTn id="4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5" dur="500" fill="hold"/>
                                        <p:tgtEl>
                                          <p:spTgt spid="3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6" dur="500" fill="hold"/>
                                        <p:tgtEl>
                                          <p:spTgt spid="3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0" dur="500"/>
                                        <p:tgtEl>
                                          <p:spTgt spid="3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4" dur="500"/>
                                        <p:tgtEl>
                                          <p:spTgt spid="3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8" dur="500"/>
                                        <p:tgtEl>
                                          <p:spTgt spid="3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9" fill="hold">
                      <p:stCondLst>
                        <p:cond delay="indefinite"/>
                      </p:stCondLst>
                      <p:childTnLst>
                        <p:par>
                          <p:cTn id="4440" fill="hold">
                            <p:stCondLst>
                              <p:cond delay="0"/>
                            </p:stCondLst>
                            <p:childTnLst>
                              <p:par>
                                <p:cTn id="44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43" dur="500"/>
                                        <p:tgtEl>
                                          <p:spTgt spid="3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47" dur="500"/>
                                        <p:tgtEl>
                                          <p:spTgt spid="3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ublic Key Cryptograph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ublic Key and Private (Secret) K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2" name=""/>
          <p:cNvSpPr/>
          <p:nvPr/>
        </p:nvSpPr>
        <p:spPr>
          <a:xfrm>
            <a:off x="2286000" y="3232080"/>
            <a:ext cx="1219320" cy="83844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ncry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609480" y="3111480"/>
            <a:ext cx="1219320" cy="107964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 a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3962520" y="3111480"/>
            <a:ext cx="1218960" cy="10796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65Ytusg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khfuGyw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Hfh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1828800" y="349884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3505320" y="349884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5638680" y="4984920"/>
            <a:ext cx="1219320" cy="8380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cry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7315200" y="4863960"/>
            <a:ext cx="1219320" cy="107964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 a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5181480" y="52513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6858000" y="52513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3962520" y="4863960"/>
            <a:ext cx="1218960" cy="107964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65Ytusg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khfuGyw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Hfh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2" name=""/>
          <p:cNvCxnSpPr>
            <a:stCxn id="3284" idx="3"/>
            <a:endCxn id="3291" idx="1"/>
          </p:cNvCxnSpPr>
          <p:nvPr/>
        </p:nvCxnSpPr>
        <p:spPr>
          <a:xfrm flipH="1">
            <a:off x="3962160" y="3650760"/>
            <a:ext cx="1219680" cy="1753560"/>
          </a:xfrm>
          <a:prstGeom prst="curvedConnector5">
            <a:avLst>
              <a:gd name="adj1" fmla="val -209890"/>
              <a:gd name="adj2" fmla="val 19014"/>
              <a:gd name="adj3" fmla="val -209890"/>
            </a:avLst>
          </a:prstGeom>
          <a:ln w="7632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sp>
        <p:nvSpPr>
          <p:cNvPr id="3293" name=""/>
          <p:cNvSpPr/>
          <p:nvPr/>
        </p:nvSpPr>
        <p:spPr>
          <a:xfrm>
            <a:off x="2895480" y="28195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6248520" y="462456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5" name="" descr=""/>
          <p:cNvPicPr/>
          <p:nvPr/>
        </p:nvPicPr>
        <p:blipFill>
          <a:blip r:embed="rId3"/>
          <a:stretch/>
        </p:blipFill>
        <p:spPr>
          <a:xfrm>
            <a:off x="2514600" y="2549520"/>
            <a:ext cx="914400" cy="422280"/>
          </a:xfrm>
          <a:prstGeom prst="rect">
            <a:avLst/>
          </a:prstGeom>
          <a:ln w="0">
            <a:noFill/>
          </a:ln>
        </p:spPr>
      </p:pic>
      <p:grpSp>
        <p:nvGrpSpPr>
          <p:cNvPr id="3296" name=""/>
          <p:cNvGrpSpPr/>
          <p:nvPr/>
        </p:nvGrpSpPr>
        <p:grpSpPr>
          <a:xfrm>
            <a:off x="5486400" y="1981080"/>
            <a:ext cx="3048120" cy="1524240"/>
            <a:chOff x="5486400" y="1981080"/>
            <a:chExt cx="3048120" cy="1524240"/>
          </a:xfrm>
        </p:grpSpPr>
        <p:sp>
          <p:nvSpPr>
            <p:cNvPr id="3297" name=""/>
            <p:cNvSpPr/>
            <p:nvPr/>
          </p:nvSpPr>
          <p:spPr>
            <a:xfrm>
              <a:off x="5486400" y="1981080"/>
              <a:ext cx="3048120" cy="1524240"/>
            </a:xfrm>
            <a:prstGeom prst="horizontalScroll">
              <a:avLst>
                <a:gd name="adj" fmla="val 12500"/>
              </a:avLst>
            </a:prstGeom>
            <a:solidFill>
              <a:srgbClr val="11f2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John’s Public key i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98" name="" descr=""/>
            <p:cNvPicPr/>
            <p:nvPr/>
          </p:nvPicPr>
          <p:blipFill>
            <a:blip r:embed="rId4"/>
            <a:stretch/>
          </p:blipFill>
          <p:spPr>
            <a:xfrm>
              <a:off x="6629400" y="2854440"/>
              <a:ext cx="91440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99" name=""/>
          <p:cNvGrpSpPr/>
          <p:nvPr/>
        </p:nvGrpSpPr>
        <p:grpSpPr>
          <a:xfrm>
            <a:off x="5638680" y="4317840"/>
            <a:ext cx="1295280" cy="558360"/>
            <a:chOff x="5638680" y="4317840"/>
            <a:chExt cx="1295280" cy="558360"/>
          </a:xfrm>
        </p:grpSpPr>
        <p:sp>
          <p:nvSpPr>
            <p:cNvPr id="3300" name=""/>
            <p:cNvSpPr/>
            <p:nvPr/>
          </p:nvSpPr>
          <p:spPr>
            <a:xfrm>
              <a:off x="6551640" y="4620960"/>
              <a:ext cx="272880" cy="233280"/>
            </a:xfrm>
            <a:custGeom>
              <a:avLst/>
              <a:gdLst/>
              <a:ahLst/>
              <a:rect l="l" t="t" r="r" b="b"/>
              <a:pathLst>
                <a:path w="350" h="260">
                  <a:moveTo>
                    <a:pt x="0" y="0"/>
                  </a:moveTo>
                  <a:lnTo>
                    <a:pt x="0" y="260"/>
                  </a:lnTo>
                  <a:lnTo>
                    <a:pt x="61" y="260"/>
                  </a:lnTo>
                  <a:lnTo>
                    <a:pt x="61" y="208"/>
                  </a:lnTo>
                  <a:lnTo>
                    <a:pt x="92" y="208"/>
                  </a:lnTo>
                  <a:lnTo>
                    <a:pt x="92" y="182"/>
                  </a:lnTo>
                  <a:lnTo>
                    <a:pt x="129" y="182"/>
                  </a:lnTo>
                  <a:lnTo>
                    <a:pt x="129" y="212"/>
                  </a:lnTo>
                  <a:lnTo>
                    <a:pt x="182" y="212"/>
                  </a:lnTo>
                  <a:lnTo>
                    <a:pt x="182" y="122"/>
                  </a:lnTo>
                  <a:lnTo>
                    <a:pt x="221" y="122"/>
                  </a:lnTo>
                  <a:lnTo>
                    <a:pt x="221" y="185"/>
                  </a:lnTo>
                  <a:lnTo>
                    <a:pt x="247" y="194"/>
                  </a:lnTo>
                  <a:lnTo>
                    <a:pt x="247" y="238"/>
                  </a:lnTo>
                  <a:lnTo>
                    <a:pt x="350" y="238"/>
                  </a:lnTo>
                  <a:lnTo>
                    <a:pt x="350" y="186"/>
                  </a:lnTo>
                  <a:lnTo>
                    <a:pt x="323" y="186"/>
                  </a:lnTo>
                  <a:lnTo>
                    <a:pt x="32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1" name=""/>
            <p:cNvGrpSpPr/>
            <p:nvPr/>
          </p:nvGrpSpPr>
          <p:grpSpPr>
            <a:xfrm>
              <a:off x="5638680" y="4317840"/>
              <a:ext cx="456840" cy="558360"/>
              <a:chOff x="5638680" y="4317840"/>
              <a:chExt cx="456840" cy="558360"/>
            </a:xfrm>
          </p:grpSpPr>
          <p:sp>
            <p:nvSpPr>
              <p:cNvPr id="3302" name=""/>
              <p:cNvSpPr/>
              <p:nvPr/>
            </p:nvSpPr>
            <p:spPr>
              <a:xfrm>
                <a:off x="5638680" y="4457160"/>
                <a:ext cx="237600" cy="279360"/>
              </a:xfrm>
              <a:prstGeom prst="ellipse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5843520" y="4594320"/>
                <a:ext cx="242280" cy="281880"/>
              </a:xfrm>
              <a:prstGeom prst="ellipse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5851080" y="4317840"/>
                <a:ext cx="244440" cy="279360"/>
              </a:xfrm>
              <a:prstGeom prst="ellipse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5" name=""/>
            <p:cNvGrpSpPr/>
            <p:nvPr/>
          </p:nvGrpSpPr>
          <p:grpSpPr>
            <a:xfrm>
              <a:off x="5996160" y="4566960"/>
              <a:ext cx="937800" cy="68040"/>
              <a:chOff x="5996160" y="4566960"/>
              <a:chExt cx="937800" cy="68040"/>
            </a:xfrm>
          </p:grpSpPr>
          <p:sp>
            <p:nvSpPr>
              <p:cNvPr id="3306" name=""/>
              <p:cNvSpPr/>
              <p:nvPr/>
            </p:nvSpPr>
            <p:spPr>
              <a:xfrm>
                <a:off x="5996160" y="4566960"/>
                <a:ext cx="937800" cy="68040"/>
              </a:xfrm>
              <a:prstGeom prst="roundRect">
                <a:avLst>
                  <a:gd name="adj" fmla="val 38681"/>
                </a:avLst>
              </a:prstGeom>
              <a:solidFill>
                <a:srgbClr val="919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6082200" y="4583520"/>
                <a:ext cx="80928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08" name=""/>
          <p:cNvSpPr/>
          <p:nvPr/>
        </p:nvSpPr>
        <p:spPr>
          <a:xfrm>
            <a:off x="6662160" y="3966120"/>
            <a:ext cx="150804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784" y="35370"/>
                </a:moveTo>
                <a:lnTo>
                  <a:pt x="-1044" y="6075"/>
                </a:lnTo>
              </a:path>
              <a:path w="21600" h="21600">
                <a:moveTo>
                  <a:pt x="-1044" y="0"/>
                </a:moveTo>
                <a:lnTo>
                  <a:pt x="-1044" y="21600"/>
                </a:lnTo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8" dur="indefinite" restart="never" nodeType="tmRoot">
          <p:childTnLst>
            <p:seq>
              <p:cTn id="4449" dur="indefinite" nodeType="mainSeq">
                <p:childTnLst>
                  <p:par>
                    <p:cTn id="4450" fill="hold">
                      <p:stCondLst>
                        <p:cond delay="indefinite"/>
                      </p:stCondLst>
                      <p:childTnLst>
                        <p:par>
                          <p:cTn id="4451" fill="hold">
                            <p:stCondLst>
                              <p:cond delay="0"/>
                            </p:stCondLst>
                            <p:childTnLst>
                              <p:par>
                                <p:cTn id="4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4" dur="500"/>
                                        <p:tgtEl>
                                          <p:spTgt spid="3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8" dur="500"/>
                                        <p:tgtEl>
                                          <p:spTgt spid="3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9" fill="hold">
                      <p:stCondLst>
                        <p:cond delay="indefinite"/>
                      </p:stCondLst>
                      <p:childTnLst>
                        <p:par>
                          <p:cTn id="4460" fill="hold">
                            <p:stCondLst>
                              <p:cond delay="0"/>
                            </p:stCondLst>
                            <p:childTnLst>
                              <p:par>
                                <p:cTn id="4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3" dur="500"/>
                                        <p:tgtEl>
                                          <p:spTgt spid="3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7" dur="500"/>
                                        <p:tgtEl>
                                          <p:spTgt spid="3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1" dur="500" fill="hold"/>
                                        <p:tgtEl>
                                          <p:spTgt spid="3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2" dur="500" fill="hold"/>
                                        <p:tgtEl>
                                          <p:spTgt spid="3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6" dur="500"/>
                                        <p:tgtEl>
                                          <p:spTgt spid="3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7" fill="hold">
                      <p:stCondLst>
                        <p:cond delay="indefinite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1" dur="500"/>
                                        <p:tgtEl>
                                          <p:spTgt spid="3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5" dur="500"/>
                                        <p:tgtEl>
                                          <p:spTgt spid="3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6" fill="hold">
                      <p:stCondLst>
                        <p:cond delay="indefinite"/>
                      </p:stCondLst>
                      <p:childTnLst>
                        <p:par>
                          <p:cTn id="4487" fill="hold">
                            <p:stCondLst>
                              <p:cond delay="0"/>
                            </p:stCondLst>
                            <p:childTnLst>
                              <p:par>
                                <p:cTn id="4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0" dur="500"/>
                                        <p:tgtEl>
                                          <p:spTgt spid="3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4" dur="500"/>
                                        <p:tgtEl>
                                          <p:spTgt spid="3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5" fill="hold">
                      <p:stCondLst>
                        <p:cond delay="indefinite"/>
                      </p:stCondLst>
                      <p:childTnLst>
                        <p:par>
                          <p:cTn id="4496" fill="hold">
                            <p:stCondLst>
                              <p:cond delay="0"/>
                            </p:stCondLst>
                            <p:childTnLst>
                              <p:par>
                                <p:cTn id="4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9" dur="500"/>
                                        <p:tgtEl>
                                          <p:spTgt spid="3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0" fill="hold">
                            <p:stCondLst>
                              <p:cond delay="500"/>
                            </p:stCondLst>
                            <p:childTnLst>
                              <p:par>
                                <p:cTn id="4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3" dur="500"/>
                                        <p:tgtEl>
                                          <p:spTgt spid="3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7" dur="500" fill="hold"/>
                                        <p:tgtEl>
                                          <p:spTgt spid="3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8" dur="500" fill="hold"/>
                                        <p:tgtEl>
                                          <p:spTgt spid="3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12" dur="500"/>
                                        <p:tgtEl>
                                          <p:spTgt spid="3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6" dur="500"/>
                                        <p:tgtEl>
                                          <p:spTgt spid="3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7" fill="hold">
                      <p:stCondLst>
                        <p:cond delay="indefinite"/>
                      </p:stCondLst>
                      <p:childTnLst>
                        <p:par>
                          <p:cTn id="4518" fill="hold">
                            <p:stCondLst>
                              <p:cond delay="0"/>
                            </p:stCondLst>
                            <p:childTnLst>
                              <p:par>
                                <p:cTn id="4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1" dur="500"/>
                                        <p:tgtEl>
                                          <p:spTgt spid="3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2" fill="hold">
                            <p:stCondLst>
                              <p:cond delay="500"/>
                            </p:stCondLst>
                            <p:childTnLst>
                              <p:par>
                                <p:cTn id="4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5" dur="500"/>
                                        <p:tgtEl>
                                          <p:spTgt spid="3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ublic Key Crypt.: Usag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rotect Confidenti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nly small items  (e.g. ke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erforman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igital Sign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ign (Encrypt) with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Verify (Decrypt) with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1" name=""/>
          <p:cNvSpPr/>
          <p:nvPr/>
        </p:nvSpPr>
        <p:spPr>
          <a:xfrm rot="79800">
            <a:off x="2771280" y="5084280"/>
            <a:ext cx="1482840" cy="709560"/>
          </a:xfrm>
          <a:custGeom>
            <a:avLst/>
            <a:gdLst/>
            <a:ahLst/>
            <a:rect l="l" t="t" r="r" b="b"/>
            <a:pathLst>
              <a:path w="2600" h="912">
                <a:moveTo>
                  <a:pt x="144" y="912"/>
                </a:moveTo>
                <a:cubicBezTo>
                  <a:pt x="112" y="840"/>
                  <a:pt x="80" y="768"/>
                  <a:pt x="96" y="672"/>
                </a:cubicBezTo>
                <a:cubicBezTo>
                  <a:pt x="112" y="576"/>
                  <a:pt x="216" y="344"/>
                  <a:pt x="240" y="336"/>
                </a:cubicBezTo>
                <a:cubicBezTo>
                  <a:pt x="264" y="328"/>
                  <a:pt x="272" y="568"/>
                  <a:pt x="240" y="624"/>
                </a:cubicBezTo>
                <a:cubicBezTo>
                  <a:pt x="208" y="680"/>
                  <a:pt x="80" y="688"/>
                  <a:pt x="48" y="672"/>
                </a:cubicBezTo>
                <a:cubicBezTo>
                  <a:pt x="16" y="656"/>
                  <a:pt x="8" y="544"/>
                  <a:pt x="48" y="528"/>
                </a:cubicBezTo>
                <a:cubicBezTo>
                  <a:pt x="88" y="512"/>
                  <a:pt x="224" y="544"/>
                  <a:pt x="288" y="576"/>
                </a:cubicBezTo>
                <a:cubicBezTo>
                  <a:pt x="352" y="608"/>
                  <a:pt x="392" y="744"/>
                  <a:pt x="432" y="720"/>
                </a:cubicBezTo>
                <a:cubicBezTo>
                  <a:pt x="472" y="696"/>
                  <a:pt x="488" y="440"/>
                  <a:pt x="528" y="432"/>
                </a:cubicBezTo>
                <a:cubicBezTo>
                  <a:pt x="568" y="424"/>
                  <a:pt x="632" y="672"/>
                  <a:pt x="672" y="672"/>
                </a:cubicBezTo>
                <a:cubicBezTo>
                  <a:pt x="712" y="672"/>
                  <a:pt x="704" y="456"/>
                  <a:pt x="768" y="432"/>
                </a:cubicBezTo>
                <a:cubicBezTo>
                  <a:pt x="832" y="408"/>
                  <a:pt x="984" y="576"/>
                  <a:pt x="1056" y="528"/>
                </a:cubicBezTo>
                <a:cubicBezTo>
                  <a:pt x="1128" y="480"/>
                  <a:pt x="976" y="216"/>
                  <a:pt x="1200" y="144"/>
                </a:cubicBezTo>
                <a:cubicBezTo>
                  <a:pt x="1424" y="72"/>
                  <a:pt x="2600" y="0"/>
                  <a:pt x="2400" y="96"/>
                </a:cubicBezTo>
                <a:cubicBezTo>
                  <a:pt x="2200" y="192"/>
                  <a:pt x="400" y="616"/>
                  <a:pt x="0" y="72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7093080" y="3284640"/>
            <a:ext cx="1582560" cy="2160360"/>
          </a:xfrm>
          <a:prstGeom prst="foldedCorner">
            <a:avLst>
              <a:gd name="adj" fmla="val 12500"/>
            </a:avLst>
          </a:prstGeom>
          <a:solidFill>
            <a:srgbClr val="11f2ed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3" name=""/>
          <p:cNvGrpSpPr/>
          <p:nvPr/>
        </p:nvGrpSpPr>
        <p:grpSpPr>
          <a:xfrm>
            <a:off x="7093080" y="5413680"/>
            <a:ext cx="1582560" cy="752040"/>
            <a:chOff x="7093080" y="5413680"/>
            <a:chExt cx="1582560" cy="752040"/>
          </a:xfrm>
        </p:grpSpPr>
        <p:sp>
          <p:nvSpPr>
            <p:cNvPr id="3314" name=""/>
            <p:cNvSpPr/>
            <p:nvPr/>
          </p:nvSpPr>
          <p:spPr>
            <a:xfrm>
              <a:off x="7093080" y="5445000"/>
              <a:ext cx="1582560" cy="720720"/>
            </a:xfrm>
            <a:prstGeom prst="rect">
              <a:avLst/>
            </a:prstGeom>
            <a:solidFill>
              <a:srgbClr val="fafd00"/>
            </a:solidFill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 rot="79800">
              <a:off x="7164000" y="5430600"/>
              <a:ext cx="1482840" cy="709560"/>
            </a:xfrm>
            <a:custGeom>
              <a:avLst/>
              <a:gdLst/>
              <a:ahLst/>
              <a:rect l="l" t="t" r="r" b="b"/>
              <a:pathLst>
                <a:path w="2600" h="912">
                  <a:moveTo>
                    <a:pt x="144" y="912"/>
                  </a:moveTo>
                  <a:cubicBezTo>
                    <a:pt x="112" y="840"/>
                    <a:pt x="80" y="768"/>
                    <a:pt x="96" y="672"/>
                  </a:cubicBezTo>
                  <a:cubicBezTo>
                    <a:pt x="112" y="576"/>
                    <a:pt x="216" y="344"/>
                    <a:pt x="240" y="336"/>
                  </a:cubicBezTo>
                  <a:cubicBezTo>
                    <a:pt x="264" y="328"/>
                    <a:pt x="272" y="568"/>
                    <a:pt x="240" y="624"/>
                  </a:cubicBezTo>
                  <a:cubicBezTo>
                    <a:pt x="208" y="680"/>
                    <a:pt x="80" y="688"/>
                    <a:pt x="48" y="672"/>
                  </a:cubicBezTo>
                  <a:cubicBezTo>
                    <a:pt x="16" y="656"/>
                    <a:pt x="8" y="544"/>
                    <a:pt x="48" y="528"/>
                  </a:cubicBezTo>
                  <a:cubicBezTo>
                    <a:pt x="88" y="512"/>
                    <a:pt x="224" y="544"/>
                    <a:pt x="288" y="576"/>
                  </a:cubicBezTo>
                  <a:cubicBezTo>
                    <a:pt x="352" y="608"/>
                    <a:pt x="392" y="744"/>
                    <a:pt x="432" y="720"/>
                  </a:cubicBezTo>
                  <a:cubicBezTo>
                    <a:pt x="472" y="696"/>
                    <a:pt x="488" y="440"/>
                    <a:pt x="528" y="432"/>
                  </a:cubicBezTo>
                  <a:cubicBezTo>
                    <a:pt x="568" y="424"/>
                    <a:pt x="632" y="672"/>
                    <a:pt x="672" y="672"/>
                  </a:cubicBezTo>
                  <a:cubicBezTo>
                    <a:pt x="712" y="672"/>
                    <a:pt x="704" y="456"/>
                    <a:pt x="768" y="432"/>
                  </a:cubicBezTo>
                  <a:cubicBezTo>
                    <a:pt x="832" y="408"/>
                    <a:pt x="984" y="576"/>
                    <a:pt x="1056" y="528"/>
                  </a:cubicBezTo>
                  <a:cubicBezTo>
                    <a:pt x="1128" y="480"/>
                    <a:pt x="976" y="216"/>
                    <a:pt x="1200" y="144"/>
                  </a:cubicBezTo>
                  <a:cubicBezTo>
                    <a:pt x="1424" y="72"/>
                    <a:pt x="2600" y="0"/>
                    <a:pt x="2400" y="96"/>
                  </a:cubicBezTo>
                  <a:cubicBezTo>
                    <a:pt x="2200" y="192"/>
                    <a:pt x="400" y="616"/>
                    <a:pt x="0" y="72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6" dur="indefinite" restart="never" nodeType="tmRoot">
          <p:childTnLst>
            <p:seq>
              <p:cTn id="4527" dur="indefinite" nodeType="mainSeq">
                <p:childTnLst>
                  <p:par>
                    <p:cTn id="4528" fill="hold">
                      <p:stCondLst>
                        <p:cond delay="indefinite"/>
                      </p:stCondLst>
                      <p:childTnLst>
                        <p:par>
                          <p:cTn id="4529" fill="hold">
                            <p:stCondLst>
                              <p:cond delay="0"/>
                            </p:stCondLst>
                            <p:childTnLst>
                              <p:par>
                                <p:cTn id="45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2" dur="500"/>
                                        <p:tgtEl>
                                          <p:spTgt spid="3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5" dur="500"/>
                                        <p:tgtEl>
                                          <p:spTgt spid="3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8" dur="500"/>
                                        <p:tgtEl>
                                          <p:spTgt spid="3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9" fill="hold">
                      <p:stCondLst>
                        <p:cond delay="indefinite"/>
                      </p:stCondLst>
                      <p:childTnLst>
                        <p:par>
                          <p:cTn id="4540" fill="hold">
                            <p:stCondLst>
                              <p:cond delay="0"/>
                            </p:stCondLst>
                            <p:childTnLst>
                              <p:par>
                                <p:cTn id="45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43" dur="500"/>
                                        <p:tgtEl>
                                          <p:spTgt spid="3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4" fill="hold">
                      <p:stCondLst>
                        <p:cond delay="indefinite"/>
                      </p:stCondLst>
                      <p:childTnLst>
                        <p:par>
                          <p:cTn id="4545" fill="hold">
                            <p:stCondLst>
                              <p:cond delay="0"/>
                            </p:stCondLst>
                            <p:childTnLst>
                              <p:par>
                                <p:cTn id="4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8" dur="500"/>
                                        <p:tgtEl>
                                          <p:spTgt spid="3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9" fill="hold">
                      <p:stCondLst>
                        <p:cond delay="indefinite"/>
                      </p:stCondLst>
                      <p:childTnLst>
                        <p:par>
                          <p:cTn id="4550" fill="hold">
                            <p:stCondLst>
                              <p:cond delay="0"/>
                            </p:stCondLst>
                            <p:childTnLst>
                              <p:par>
                                <p:cTn id="45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3" dur="500" fill="hold"/>
                                        <p:tgtEl>
                                          <p:spTgt spid="3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4" dur="500" fill="hold"/>
                                        <p:tgtEl>
                                          <p:spTgt spid="3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5" fill="hold">
                      <p:stCondLst>
                        <p:cond delay="indefinite"/>
                      </p:stCondLst>
                      <p:childTnLst>
                        <p:par>
                          <p:cTn id="4556" fill="hold">
                            <p:stCondLst>
                              <p:cond delay="0"/>
                            </p:stCondLst>
                            <p:childTnLst>
                              <p:par>
                                <p:cTn id="4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9" dur="500" fill="hold"/>
                                        <p:tgtEl>
                                          <p:spTgt spid="3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0" dur="500" fill="hold"/>
                                        <p:tgtEl>
                                          <p:spTgt spid="3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1" fill="hold">
                      <p:stCondLst>
                        <p:cond delay="indefinite"/>
                      </p:stCondLst>
                      <p:childTnLst>
                        <p:par>
                          <p:cTn id="4562" fill="hold">
                            <p:stCondLst>
                              <p:cond delay="0"/>
                            </p:stCondLst>
                            <p:childTnLst>
                              <p:par>
                                <p:cTn id="45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5" dur="500"/>
                                        <p:tgtEl>
                                          <p:spTgt spid="3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8" dur="500"/>
                                        <p:tgtEl>
                                          <p:spTgt spid="3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unction of conten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s integrity + authent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annot be forg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8" name=""/>
          <p:cNvSpPr/>
          <p:nvPr/>
        </p:nvSpPr>
        <p:spPr>
          <a:xfrm>
            <a:off x="2017800" y="4311720"/>
            <a:ext cx="1218960" cy="8380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1560600" y="457848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3236760" y="457848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5370480" y="5334120"/>
            <a:ext cx="1219320" cy="8380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Ver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4913280" y="560088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6589800" y="560088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4" name=""/>
          <p:cNvCxnSpPr>
            <a:stCxn id="3325" idx="3"/>
            <a:endCxn id="3326" idx="1"/>
          </p:cNvCxnSpPr>
          <p:nvPr/>
        </p:nvCxnSpPr>
        <p:spPr>
          <a:xfrm flipH="1">
            <a:off x="4150440" y="4699080"/>
            <a:ext cx="229320" cy="1023120"/>
          </a:xfrm>
          <a:prstGeom prst="curvedConnector5">
            <a:avLst>
              <a:gd name="adj1" fmla="val -340880"/>
              <a:gd name="adj2" fmla="val 24991"/>
              <a:gd name="adj3" fmla="val -340880"/>
            </a:avLst>
          </a:prstGeom>
          <a:ln w="7632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sp>
        <p:nvSpPr>
          <p:cNvPr id="3327" name=""/>
          <p:cNvSpPr/>
          <p:nvPr/>
        </p:nvSpPr>
        <p:spPr>
          <a:xfrm>
            <a:off x="836640" y="4508640"/>
            <a:ext cx="685800" cy="38088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3693960" y="4508640"/>
            <a:ext cx="685800" cy="38088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y6g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4151160" y="5530680"/>
            <a:ext cx="685800" cy="38124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y6g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7047000" y="5530680"/>
            <a:ext cx="685800" cy="38124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6818400" y="3537000"/>
            <a:ext cx="1218960" cy="77472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6818400" y="4387680"/>
            <a:ext cx="1218960" cy="457200"/>
          </a:xfrm>
          <a:custGeom>
            <a:avLst/>
            <a:gdLst>
              <a:gd name="textAreaLeft" fmla="*/ 228960 w 1218960"/>
              <a:gd name="textAreaRight" fmla="*/ 990000 w 1218960"/>
              <a:gd name="textAreaTop" fmla="*/ 86040 h 457200"/>
              <a:gd name="textAreaBottom" fmla="*/ 371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38" y="21600"/>
                </a:lnTo>
                <a:lnTo>
                  <a:pt x="4162" y="21600"/>
                </a:lnTo>
                <a:close/>
              </a:path>
            </a:pathLst>
          </a:cu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7085160" y="4921200"/>
            <a:ext cx="685800" cy="38088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569880" y="3156120"/>
            <a:ext cx="1219320" cy="77436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569880" y="4006800"/>
            <a:ext cx="1219320" cy="457200"/>
          </a:xfrm>
          <a:custGeom>
            <a:avLst/>
            <a:gdLst>
              <a:gd name="textAreaLeft" fmla="*/ 229320 w 1219320"/>
              <a:gd name="textAreaRight" fmla="*/ 990000 w 1219320"/>
              <a:gd name="textAreaTop" fmla="*/ 86040 h 457200"/>
              <a:gd name="textAreaBottom" fmla="*/ 371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38" y="21600"/>
                </a:lnTo>
                <a:lnTo>
                  <a:pt x="4162" y="21600"/>
                </a:lnTo>
                <a:close/>
              </a:path>
            </a:pathLst>
          </a:cu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4" name=""/>
          <p:cNvCxnSpPr>
            <a:stCxn id="3332" idx="3"/>
            <a:endCxn id="3329" idx="1"/>
          </p:cNvCxnSpPr>
          <p:nvPr/>
        </p:nvCxnSpPr>
        <p:spPr>
          <a:xfrm>
            <a:off x="1789200" y="3543480"/>
            <a:ext cx="5029920" cy="381600"/>
          </a:xfrm>
          <a:prstGeom prst="curvedConnector5">
            <a:avLst>
              <a:gd name="adj1" fmla="val 49996"/>
              <a:gd name="adj2" fmla="val 49952"/>
              <a:gd name="adj3" fmla="val 49996"/>
            </a:avLst>
          </a:prstGeom>
          <a:ln w="7632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cxnSp>
        <p:nvCxnSpPr>
          <p:cNvPr id="3335" name=""/>
          <p:cNvCxnSpPr>
            <a:stCxn id="3331" idx="3"/>
            <a:endCxn id="3328" idx="3"/>
          </p:cNvCxnSpPr>
          <p:nvPr/>
        </p:nvCxnSpPr>
        <p:spPr>
          <a:xfrm flipH="1">
            <a:off x="7732440" y="5111640"/>
            <a:ext cx="38880" cy="610560"/>
          </a:xfrm>
          <a:prstGeom prst="curvedConnector5">
            <a:avLst>
              <a:gd name="adj1" fmla="val -1324299"/>
              <a:gd name="adj2" fmla="val 49970"/>
              <a:gd name="adj3" fmla="val -1324299"/>
            </a:avLst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36" name=""/>
          <p:cNvSpPr/>
          <p:nvPr/>
        </p:nvSpPr>
        <p:spPr>
          <a:xfrm>
            <a:off x="8266320" y="50871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=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2590920" y="39304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6095880" y="49212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9" name="" descr=""/>
          <p:cNvPicPr/>
          <p:nvPr/>
        </p:nvPicPr>
        <p:blipFill>
          <a:blip r:embed="rId3"/>
          <a:stretch/>
        </p:blipFill>
        <p:spPr>
          <a:xfrm>
            <a:off x="5715000" y="4651200"/>
            <a:ext cx="914400" cy="422280"/>
          </a:xfrm>
          <a:prstGeom prst="rect">
            <a:avLst/>
          </a:prstGeom>
          <a:ln w="0">
            <a:noFill/>
          </a:ln>
        </p:spPr>
      </p:pic>
      <p:grpSp>
        <p:nvGrpSpPr>
          <p:cNvPr id="3340" name=""/>
          <p:cNvGrpSpPr/>
          <p:nvPr/>
        </p:nvGrpSpPr>
        <p:grpSpPr>
          <a:xfrm>
            <a:off x="2133720" y="3625920"/>
            <a:ext cx="1294560" cy="558360"/>
            <a:chOff x="2133720" y="3625920"/>
            <a:chExt cx="1294560" cy="558360"/>
          </a:xfrm>
        </p:grpSpPr>
        <p:sp>
          <p:nvSpPr>
            <p:cNvPr id="3341" name=""/>
            <p:cNvSpPr/>
            <p:nvPr/>
          </p:nvSpPr>
          <p:spPr>
            <a:xfrm>
              <a:off x="3046320" y="3929040"/>
              <a:ext cx="272520" cy="233280"/>
            </a:xfrm>
            <a:custGeom>
              <a:avLst/>
              <a:gdLst/>
              <a:ahLst/>
              <a:rect l="l" t="t" r="r" b="b"/>
              <a:pathLst>
                <a:path w="350" h="260">
                  <a:moveTo>
                    <a:pt x="0" y="0"/>
                  </a:moveTo>
                  <a:lnTo>
                    <a:pt x="0" y="260"/>
                  </a:lnTo>
                  <a:lnTo>
                    <a:pt x="61" y="260"/>
                  </a:lnTo>
                  <a:lnTo>
                    <a:pt x="61" y="208"/>
                  </a:lnTo>
                  <a:lnTo>
                    <a:pt x="92" y="208"/>
                  </a:lnTo>
                  <a:lnTo>
                    <a:pt x="92" y="182"/>
                  </a:lnTo>
                  <a:lnTo>
                    <a:pt x="129" y="182"/>
                  </a:lnTo>
                  <a:lnTo>
                    <a:pt x="129" y="212"/>
                  </a:lnTo>
                  <a:lnTo>
                    <a:pt x="182" y="212"/>
                  </a:lnTo>
                  <a:lnTo>
                    <a:pt x="182" y="122"/>
                  </a:lnTo>
                  <a:lnTo>
                    <a:pt x="221" y="122"/>
                  </a:lnTo>
                  <a:lnTo>
                    <a:pt x="221" y="185"/>
                  </a:lnTo>
                  <a:lnTo>
                    <a:pt x="247" y="194"/>
                  </a:lnTo>
                  <a:lnTo>
                    <a:pt x="247" y="238"/>
                  </a:lnTo>
                  <a:lnTo>
                    <a:pt x="350" y="238"/>
                  </a:lnTo>
                  <a:lnTo>
                    <a:pt x="350" y="186"/>
                  </a:lnTo>
                  <a:lnTo>
                    <a:pt x="323" y="186"/>
                  </a:lnTo>
                  <a:lnTo>
                    <a:pt x="32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2" name=""/>
            <p:cNvGrpSpPr/>
            <p:nvPr/>
          </p:nvGrpSpPr>
          <p:grpSpPr>
            <a:xfrm>
              <a:off x="2133720" y="3625920"/>
              <a:ext cx="456120" cy="558360"/>
              <a:chOff x="2133720" y="3625920"/>
              <a:chExt cx="456120" cy="558360"/>
            </a:xfrm>
          </p:grpSpPr>
          <p:sp>
            <p:nvSpPr>
              <p:cNvPr id="3343" name=""/>
              <p:cNvSpPr/>
              <p:nvPr/>
            </p:nvSpPr>
            <p:spPr>
              <a:xfrm>
                <a:off x="2133720" y="3765240"/>
                <a:ext cx="237240" cy="279360"/>
              </a:xfrm>
              <a:prstGeom prst="ellipse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2338560" y="3902400"/>
                <a:ext cx="242280" cy="281880"/>
              </a:xfrm>
              <a:prstGeom prst="ellipse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2345760" y="3625920"/>
                <a:ext cx="244080" cy="279360"/>
              </a:xfrm>
              <a:prstGeom prst="ellipse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6" name=""/>
            <p:cNvGrpSpPr/>
            <p:nvPr/>
          </p:nvGrpSpPr>
          <p:grpSpPr>
            <a:xfrm>
              <a:off x="2490840" y="3875040"/>
              <a:ext cx="937440" cy="68040"/>
              <a:chOff x="2490840" y="3875040"/>
              <a:chExt cx="937440" cy="68040"/>
            </a:xfrm>
          </p:grpSpPr>
          <p:sp>
            <p:nvSpPr>
              <p:cNvPr id="3347" name=""/>
              <p:cNvSpPr/>
              <p:nvPr/>
            </p:nvSpPr>
            <p:spPr>
              <a:xfrm>
                <a:off x="2490840" y="3875040"/>
                <a:ext cx="937440" cy="68040"/>
              </a:xfrm>
              <a:prstGeom prst="roundRect">
                <a:avLst>
                  <a:gd name="adj" fmla="val 38681"/>
                </a:avLst>
              </a:prstGeom>
              <a:solidFill>
                <a:srgbClr val="919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2576880" y="3891600"/>
                <a:ext cx="80892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9" name=""/>
          <p:cNvGrpSpPr/>
          <p:nvPr/>
        </p:nvGrpSpPr>
        <p:grpSpPr>
          <a:xfrm>
            <a:off x="6172200" y="2362320"/>
            <a:ext cx="2590920" cy="1218960"/>
            <a:chOff x="6172200" y="2362320"/>
            <a:chExt cx="2590920" cy="1218960"/>
          </a:xfrm>
        </p:grpSpPr>
        <p:sp>
          <p:nvSpPr>
            <p:cNvPr id="3350" name=""/>
            <p:cNvSpPr/>
            <p:nvPr/>
          </p:nvSpPr>
          <p:spPr>
            <a:xfrm>
              <a:off x="6172200" y="2362320"/>
              <a:ext cx="2590920" cy="1218960"/>
            </a:xfrm>
            <a:prstGeom prst="horizontalScroll">
              <a:avLst>
                <a:gd name="adj" fmla="val 12500"/>
              </a:avLst>
            </a:prstGeom>
            <a:solidFill>
              <a:srgbClr val="11f2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John’s Public key i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51" name=""/>
            <p:cNvGraphicFramePr/>
            <p:nvPr/>
          </p:nvGraphicFramePr>
          <p:xfrm>
            <a:off x="7143480" y="3060720"/>
            <a:ext cx="777240" cy="337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35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43480" y="3060720"/>
                      <a:ext cx="777240" cy="33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353" name=""/>
          <p:cNvSpPr/>
          <p:nvPr/>
        </p:nvSpPr>
        <p:spPr>
          <a:xfrm>
            <a:off x="3421800" y="3207240"/>
            <a:ext cx="150804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35" y="38039"/>
                </a:moveTo>
                <a:lnTo>
                  <a:pt x="-1044" y="6075"/>
                </a:lnTo>
              </a:path>
              <a:path w="21600" h="21600">
                <a:moveTo>
                  <a:pt x="-1044" y="0"/>
                </a:moveTo>
                <a:lnTo>
                  <a:pt x="-1044" y="21600"/>
                </a:lnTo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9" dur="indefinite" restart="never" nodeType="tmRoot">
          <p:childTnLst>
            <p:seq>
              <p:cTn id="4570" dur="indefinite" nodeType="mainSeq">
                <p:childTnLst>
                  <p:par>
                    <p:cTn id="4571" fill="hold">
                      <p:stCondLst>
                        <p:cond delay="indefinite"/>
                      </p:stCondLst>
                      <p:childTnLst>
                        <p:par>
                          <p:cTn id="4572" fill="hold">
                            <p:stCondLst>
                              <p:cond delay="0"/>
                            </p:stCondLst>
                            <p:childTnLst>
                              <p:par>
                                <p:cTn id="4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5" dur="500"/>
                                        <p:tgtEl>
                                          <p:spTgt spid="3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6" fill="hold">
                      <p:stCondLst>
                        <p:cond delay="indefinite"/>
                      </p:stCondLst>
                      <p:childTnLst>
                        <p:par>
                          <p:cTn id="4577" fill="hold">
                            <p:stCondLst>
                              <p:cond delay="0"/>
                            </p:stCondLst>
                            <p:childTnLst>
                              <p:par>
                                <p:cTn id="4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0" dur="5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1" fill="hold">
                            <p:stCondLst>
                              <p:cond delay="500"/>
                            </p:stCondLst>
                            <p:childTnLst>
                              <p:par>
                                <p:cTn id="4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4" dur="500"/>
                                        <p:tgtEl>
                                          <p:spTgt spid="3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5" fill="hold">
                      <p:stCondLst>
                        <p:cond delay="indefinite"/>
                      </p:stCondLst>
                      <p:childTnLst>
                        <p:par>
                          <p:cTn id="4586" fill="hold">
                            <p:stCondLst>
                              <p:cond delay="0"/>
                            </p:stCondLst>
                            <p:childTnLst>
                              <p:par>
                                <p:cTn id="4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9" dur="500"/>
                                        <p:tgtEl>
                                          <p:spTgt spid="3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0" fill="hold">
                            <p:stCondLst>
                              <p:cond delay="500"/>
                            </p:stCondLst>
                            <p:childTnLst>
                              <p:par>
                                <p:cTn id="4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3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7" dur="500" fill="hold"/>
                                        <p:tgtEl>
                                          <p:spTgt spid="3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8" dur="500" fill="hold"/>
                                        <p:tgtEl>
                                          <p:spTgt spid="3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02" dur="500"/>
                                        <p:tgtEl>
                                          <p:spTgt spid="3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6" dur="500"/>
                                        <p:tgtEl>
                                          <p:spTgt spid="3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7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0" dur="500"/>
                                        <p:tgtEl>
                                          <p:spTgt spid="3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4" dur="500"/>
                                        <p:tgtEl>
                                          <p:spTgt spid="3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5" fill="hold">
                      <p:stCondLst>
                        <p:cond delay="indefinite"/>
                      </p:stCondLst>
                      <p:childTnLst>
                        <p:par>
                          <p:cTn id="4616" fill="hold">
                            <p:stCondLst>
                              <p:cond delay="0"/>
                            </p:stCondLst>
                            <p:childTnLst>
                              <p:par>
                                <p:cTn id="4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9" dur="500"/>
                                        <p:tgtEl>
                                          <p:spTgt spid="3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0" fill="hold">
                            <p:stCondLst>
                              <p:cond delay="500"/>
                            </p:stCondLst>
                            <p:childTnLst>
                              <p:par>
                                <p:cTn id="4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3" dur="500"/>
                                        <p:tgtEl>
                                          <p:spTgt spid="3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7" dur="500"/>
                                        <p:tgtEl>
                                          <p:spTgt spid="3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1" dur="500"/>
                                        <p:tgtEl>
                                          <p:spTgt spid="3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2" fill="hold">
                      <p:stCondLst>
                        <p:cond delay="indefinite"/>
                      </p:stCondLst>
                      <p:childTnLst>
                        <p:par>
                          <p:cTn id="4633" fill="hold">
                            <p:stCondLst>
                              <p:cond delay="0"/>
                            </p:stCondLst>
                            <p:childTnLst>
                              <p:par>
                                <p:cTn id="4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6" dur="500"/>
                                        <p:tgtEl>
                                          <p:spTgt spid="3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7" fill="hold">
                      <p:stCondLst>
                        <p:cond delay="indefinite"/>
                      </p:stCondLst>
                      <p:childTnLst>
                        <p:par>
                          <p:cTn id="4638" fill="hold">
                            <p:stCondLst>
                              <p:cond delay="0"/>
                            </p:stCondLst>
                            <p:childTnLst>
                              <p:par>
                                <p:cTn id="4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1" dur="500"/>
                                        <p:tgtEl>
                                          <p:spTgt spid="3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2" fill="hold">
                            <p:stCondLst>
                              <p:cond delay="500"/>
                            </p:stCondLst>
                            <p:childTnLst>
                              <p:par>
                                <p:cTn id="464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5" dur="500" fill="hold"/>
                                        <p:tgtEl>
                                          <p:spTgt spid="3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6" dur="500" fill="hold"/>
                                        <p:tgtEl>
                                          <p:spTgt spid="3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7" dur="500" fill="hold"/>
                                        <p:tgtEl>
                                          <p:spTgt spid="3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8" dur="500" fill="hold"/>
                                        <p:tgtEl>
                                          <p:spTgt spid="3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2" dur="500"/>
                                        <p:tgtEl>
                                          <p:spTgt spid="3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6" dur="500"/>
                                        <p:tgtEl>
                                          <p:spTgt spid="3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0" dur="500"/>
                                        <p:tgtEl>
                                          <p:spTgt spid="3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1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4" dur="500"/>
                                        <p:tgtEl>
                                          <p:spTgt spid="3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5" fill="hold">
                      <p:stCondLst>
                        <p:cond delay="indefinite"/>
                      </p:stCondLst>
                      <p:childTnLst>
                        <p:par>
                          <p:cTn id="4666" fill="hold">
                            <p:stCondLst>
                              <p:cond delay="0"/>
                            </p:stCondLst>
                            <p:childTnLst>
                              <p:par>
                                <p:cTn id="4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9" dur="500"/>
                                        <p:tgtEl>
                                          <p:spTgt spid="3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0" fill="hold">
                            <p:stCondLst>
                              <p:cond delay="500"/>
                            </p:stCondLst>
                            <p:childTnLst>
                              <p:par>
                                <p:cTn id="46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3" dur="500"/>
                                        <p:tgtEl>
                                          <p:spTgt spid="3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77" dur="500"/>
                                        <p:tgtEl>
                                          <p:spTgt spid="3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81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rotection Doma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cess </a:t>
            </a: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Protection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atic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dify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witch to other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al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gout - 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end -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dure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all proced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1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6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1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ertificat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ssued &amp; Signed by trusted Pa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onfirms User’s Public K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6" name=""/>
          <p:cNvSpPr/>
          <p:nvPr/>
        </p:nvSpPr>
        <p:spPr>
          <a:xfrm>
            <a:off x="1143000" y="2743200"/>
            <a:ext cx="4800600" cy="3200400"/>
          </a:xfrm>
          <a:prstGeom prst="horizontalScroll">
            <a:avLst>
              <a:gd name="adj" fmla="val 12500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’s Public key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7" name="" descr=""/>
          <p:cNvPicPr/>
          <p:nvPr/>
        </p:nvPicPr>
        <p:blipFill>
          <a:blip r:embed="rId1"/>
          <a:stretch/>
        </p:blipFill>
        <p:spPr>
          <a:xfrm>
            <a:off x="2895480" y="4471920"/>
            <a:ext cx="1257480" cy="633600"/>
          </a:xfrm>
          <a:prstGeom prst="rect">
            <a:avLst/>
          </a:prstGeom>
          <a:ln w="0">
            <a:noFill/>
          </a:ln>
        </p:spPr>
      </p:pic>
      <p:sp>
        <p:nvSpPr>
          <p:cNvPr id="3358" name=""/>
          <p:cNvSpPr/>
          <p:nvPr/>
        </p:nvSpPr>
        <p:spPr>
          <a:xfrm rot="803400">
            <a:off x="3124080" y="4952520"/>
            <a:ext cx="2743200" cy="914400"/>
          </a:xfrm>
          <a:custGeom>
            <a:avLst/>
            <a:gdLst/>
            <a:ahLst/>
            <a:rect l="l" t="t" r="r" b="b"/>
            <a:pathLst>
              <a:path w="2600" h="912">
                <a:moveTo>
                  <a:pt x="144" y="912"/>
                </a:moveTo>
                <a:cubicBezTo>
                  <a:pt x="112" y="840"/>
                  <a:pt x="80" y="768"/>
                  <a:pt x="96" y="672"/>
                </a:cubicBezTo>
                <a:cubicBezTo>
                  <a:pt x="112" y="576"/>
                  <a:pt x="216" y="344"/>
                  <a:pt x="240" y="336"/>
                </a:cubicBezTo>
                <a:cubicBezTo>
                  <a:pt x="264" y="328"/>
                  <a:pt x="272" y="568"/>
                  <a:pt x="240" y="624"/>
                </a:cubicBezTo>
                <a:cubicBezTo>
                  <a:pt x="208" y="680"/>
                  <a:pt x="80" y="688"/>
                  <a:pt x="48" y="672"/>
                </a:cubicBezTo>
                <a:cubicBezTo>
                  <a:pt x="16" y="656"/>
                  <a:pt x="8" y="544"/>
                  <a:pt x="48" y="528"/>
                </a:cubicBezTo>
                <a:cubicBezTo>
                  <a:pt x="88" y="512"/>
                  <a:pt x="224" y="544"/>
                  <a:pt x="288" y="576"/>
                </a:cubicBezTo>
                <a:cubicBezTo>
                  <a:pt x="352" y="608"/>
                  <a:pt x="392" y="744"/>
                  <a:pt x="432" y="720"/>
                </a:cubicBezTo>
                <a:cubicBezTo>
                  <a:pt x="472" y="696"/>
                  <a:pt x="488" y="440"/>
                  <a:pt x="528" y="432"/>
                </a:cubicBezTo>
                <a:cubicBezTo>
                  <a:pt x="568" y="424"/>
                  <a:pt x="632" y="672"/>
                  <a:pt x="672" y="672"/>
                </a:cubicBezTo>
                <a:cubicBezTo>
                  <a:pt x="712" y="672"/>
                  <a:pt x="704" y="456"/>
                  <a:pt x="768" y="432"/>
                </a:cubicBezTo>
                <a:cubicBezTo>
                  <a:pt x="832" y="408"/>
                  <a:pt x="984" y="576"/>
                  <a:pt x="1056" y="528"/>
                </a:cubicBezTo>
                <a:cubicBezTo>
                  <a:pt x="1128" y="480"/>
                  <a:pt x="976" y="216"/>
                  <a:pt x="1200" y="144"/>
                </a:cubicBezTo>
                <a:cubicBezTo>
                  <a:pt x="1424" y="72"/>
                  <a:pt x="2600" y="0"/>
                  <a:pt x="2400" y="96"/>
                </a:cubicBezTo>
                <a:cubicBezTo>
                  <a:pt x="2200" y="192"/>
                  <a:pt x="400" y="616"/>
                  <a:pt x="0" y="72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9" name=""/>
          <p:cNvGrpSpPr/>
          <p:nvPr/>
        </p:nvGrpSpPr>
        <p:grpSpPr>
          <a:xfrm>
            <a:off x="7390800" y="3848040"/>
            <a:ext cx="558720" cy="1295280"/>
            <a:chOff x="7390800" y="3848040"/>
            <a:chExt cx="558720" cy="1295280"/>
          </a:xfrm>
        </p:grpSpPr>
        <p:sp>
          <p:nvSpPr>
            <p:cNvPr id="3360" name=""/>
            <p:cNvSpPr/>
            <p:nvPr/>
          </p:nvSpPr>
          <p:spPr>
            <a:xfrm rot="16206600">
              <a:off x="7675200" y="3977280"/>
              <a:ext cx="272880" cy="233280"/>
            </a:xfrm>
            <a:custGeom>
              <a:avLst/>
              <a:gdLst/>
              <a:ahLst/>
              <a:rect l="l" t="t" r="r" b="b"/>
              <a:pathLst>
                <a:path w="350" h="260">
                  <a:moveTo>
                    <a:pt x="0" y="0"/>
                  </a:moveTo>
                  <a:lnTo>
                    <a:pt x="0" y="260"/>
                  </a:lnTo>
                  <a:lnTo>
                    <a:pt x="61" y="260"/>
                  </a:lnTo>
                  <a:lnTo>
                    <a:pt x="61" y="208"/>
                  </a:lnTo>
                  <a:lnTo>
                    <a:pt x="92" y="208"/>
                  </a:lnTo>
                  <a:lnTo>
                    <a:pt x="92" y="182"/>
                  </a:lnTo>
                  <a:lnTo>
                    <a:pt x="129" y="182"/>
                  </a:lnTo>
                  <a:lnTo>
                    <a:pt x="129" y="212"/>
                  </a:lnTo>
                  <a:lnTo>
                    <a:pt x="182" y="212"/>
                  </a:lnTo>
                  <a:lnTo>
                    <a:pt x="182" y="122"/>
                  </a:lnTo>
                  <a:lnTo>
                    <a:pt x="221" y="122"/>
                  </a:lnTo>
                  <a:lnTo>
                    <a:pt x="221" y="185"/>
                  </a:lnTo>
                  <a:lnTo>
                    <a:pt x="247" y="194"/>
                  </a:lnTo>
                  <a:lnTo>
                    <a:pt x="247" y="238"/>
                  </a:lnTo>
                  <a:lnTo>
                    <a:pt x="350" y="238"/>
                  </a:lnTo>
                  <a:lnTo>
                    <a:pt x="350" y="186"/>
                  </a:lnTo>
                  <a:lnTo>
                    <a:pt x="323" y="186"/>
                  </a:lnTo>
                  <a:lnTo>
                    <a:pt x="32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1" name=""/>
            <p:cNvGrpSpPr/>
            <p:nvPr/>
          </p:nvGrpSpPr>
          <p:grpSpPr>
            <a:xfrm>
              <a:off x="7390800" y="4686120"/>
              <a:ext cx="558720" cy="457200"/>
              <a:chOff x="7390800" y="4686120"/>
              <a:chExt cx="558720" cy="457200"/>
            </a:xfrm>
          </p:grpSpPr>
          <p:sp>
            <p:nvSpPr>
              <p:cNvPr id="3362" name=""/>
              <p:cNvSpPr/>
              <p:nvPr/>
            </p:nvSpPr>
            <p:spPr>
              <a:xfrm rot="16206600">
                <a:off x="7550640" y="4884480"/>
                <a:ext cx="237600" cy="279360"/>
              </a:xfrm>
              <a:prstGeom prst="ellipse">
                <a:avLst/>
              </a:prstGeom>
              <a:solidFill>
                <a:srgbClr val="ff7c80"/>
              </a:solidFill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 rot="16206600">
                <a:off x="7687080" y="4676400"/>
                <a:ext cx="242280" cy="281880"/>
              </a:xfrm>
              <a:prstGeom prst="ellipse">
                <a:avLst/>
              </a:prstGeom>
              <a:solidFill>
                <a:srgbClr val="ff7c80"/>
              </a:solidFill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 rot="16206600">
                <a:off x="7408440" y="4668840"/>
                <a:ext cx="244440" cy="279360"/>
              </a:xfrm>
              <a:prstGeom prst="ellipse">
                <a:avLst/>
              </a:prstGeom>
              <a:solidFill>
                <a:srgbClr val="ff7c80"/>
              </a:solidFill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5" name=""/>
            <p:cNvGrpSpPr/>
            <p:nvPr/>
          </p:nvGrpSpPr>
          <p:grpSpPr>
            <a:xfrm>
              <a:off x="7639920" y="3848040"/>
              <a:ext cx="69840" cy="937800"/>
              <a:chOff x="7639920" y="3848040"/>
              <a:chExt cx="69840" cy="937800"/>
            </a:xfrm>
          </p:grpSpPr>
          <p:sp>
            <p:nvSpPr>
              <p:cNvPr id="3366" name=""/>
              <p:cNvSpPr/>
              <p:nvPr/>
            </p:nvSpPr>
            <p:spPr>
              <a:xfrm rot="16206600">
                <a:off x="7205760" y="4282920"/>
                <a:ext cx="937800" cy="68040"/>
              </a:xfrm>
              <a:prstGeom prst="roundRect">
                <a:avLst>
                  <a:gd name="adj" fmla="val 38681"/>
                </a:avLst>
              </a:pr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 flipV="1">
                <a:off x="7656840" y="3890520"/>
                <a:ext cx="3600" cy="809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8" name=""/>
          <p:cNvSpPr/>
          <p:nvPr/>
        </p:nvSpPr>
        <p:spPr>
          <a:xfrm>
            <a:off x="6744960" y="2916360"/>
            <a:ext cx="2025000" cy="792360"/>
          </a:xfrm>
          <a:custGeom>
            <a:avLst/>
            <a:gdLst>
              <a:gd name="textAreaLeft" fmla="*/ 0 w 2025000"/>
              <a:gd name="textAreaRight" fmla="*/ 2025360 w 2025000"/>
              <a:gd name="textAreaTop" fmla="*/ 102600 h 792360"/>
              <a:gd name="textAreaBottom" fmla="*/ 6897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ublic Ke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 Trusted Pa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2" dur="indefinite" restart="never" nodeType="tmRoot">
          <p:childTnLst>
            <p:seq>
              <p:cTn id="4683" dur="indefinite" nodeType="mainSeq">
                <p:childTnLst>
                  <p:par>
                    <p:cTn id="4684" fill="hold">
                      <p:stCondLst>
                        <p:cond delay="indefinite"/>
                      </p:stCondLst>
                      <p:childTnLst>
                        <p:par>
                          <p:cTn id="4685" fill="hold">
                            <p:stCondLst>
                              <p:cond delay="0"/>
                            </p:stCondLst>
                            <p:childTnLst>
                              <p:par>
                                <p:cTn id="4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8" dur="500"/>
                                        <p:tgtEl>
                                          <p:spTgt spid="3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9" fill="hold">
                            <p:stCondLst>
                              <p:cond delay="500"/>
                            </p:stCondLst>
                            <p:childTnLst>
                              <p:par>
                                <p:cTn id="46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2" dur="500" fill="hold"/>
                                        <p:tgtEl>
                                          <p:spTgt spid="3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3" dur="500" fill="hold"/>
                                        <p:tgtEl>
                                          <p:spTgt spid="3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4" fill="hold">
                      <p:stCondLst>
                        <p:cond delay="indefinite"/>
                      </p:stCondLst>
                      <p:childTnLst>
                        <p:par>
                          <p:cTn id="4695" fill="hold">
                            <p:stCondLst>
                              <p:cond delay="0"/>
                            </p:stCondLst>
                            <p:childTnLst>
                              <p:par>
                                <p:cTn id="4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8" dur="500"/>
                                        <p:tgtEl>
                                          <p:spTgt spid="3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9" fill="hold">
                      <p:stCondLst>
                        <p:cond delay="indefinite"/>
                      </p:stCondLst>
                      <p:childTnLst>
                        <p:par>
                          <p:cTn id="4700" fill="hold">
                            <p:stCondLst>
                              <p:cond delay="0"/>
                            </p:stCondLst>
                            <p:childTnLst>
                              <p:par>
                                <p:cTn id="47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3" dur="500"/>
                                        <p:tgtEl>
                                          <p:spTgt spid="3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4" fill="hold">
                            <p:stCondLst>
                              <p:cond delay="500"/>
                            </p:stCondLst>
                            <p:childTnLst>
                              <p:par>
                                <p:cTn id="47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7" dur="500" fill="hold"/>
                                        <p:tgtEl>
                                          <p:spTgt spid="3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8" dur="500" fill="hold"/>
                                        <p:tgtEl>
                                          <p:spTgt spid="3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8T16:23:00Z</dcterms:created>
  <dc:creator>Prof. B. De Decker</dc:creator>
  <dc:description/>
  <cp:keywords/>
  <dc:language>en-US</dc:language>
  <cp:lastModifiedBy>Bart De Decker</cp:lastModifiedBy>
  <cp:lastPrinted>1998-10-14T15:17:13Z</cp:lastPrinted>
  <dcterms:modified xsi:type="dcterms:W3CDTF">2005-12-02T07:39:22Z</dcterms:modified>
  <cp:revision>227</cp:revision>
  <dc:subject>Lecture 5</dc:subject>
  <dc:title>IT - Module B1</dc:title>
</cp:coreProperties>
</file>