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0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653213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107C411E-BB9E-4934-B051-421FC0368DA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3400" y="295200"/>
            <a:ext cx="1656000" cy="1296360"/>
            <a:chOff x="23400" y="295200"/>
            <a:chExt cx="1656000" cy="1296360"/>
          </a:xfrm>
        </p:grpSpPr>
        <p:sp>
          <p:nvSpPr>
            <p:cNvPr id="5" name=""/>
            <p:cNvSpPr/>
            <p:nvPr/>
          </p:nvSpPr>
          <p:spPr>
            <a:xfrm>
              <a:off x="310680" y="504720"/>
              <a:ext cx="1066680" cy="91440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400" y="295200"/>
              <a:ext cx="16560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BC85FB77-9738-4414-8B74-202B5F18A28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4240" y="131760"/>
            <a:ext cx="2537640" cy="2028600"/>
            <a:chOff x="804240" y="131760"/>
            <a:chExt cx="2537640" cy="2028600"/>
          </a:xfrm>
        </p:grpSpPr>
        <p:sp>
          <p:nvSpPr>
            <p:cNvPr id="47" name=""/>
            <p:cNvSpPr/>
            <p:nvPr/>
          </p:nvSpPr>
          <p:spPr>
            <a:xfrm>
              <a:off x="1255680" y="376920"/>
              <a:ext cx="1605600" cy="159876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4240" y="131760"/>
              <a:ext cx="2537640" cy="20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hyperlink" Target="file:///04_ipc.ppt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acterization of Deadlo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s for Handling Deadlo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oid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ion &amp; Recov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bined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 3: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sumable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295280" y="2590920"/>
            <a:ext cx="3353040" cy="3352680"/>
            <a:chOff x="1295280" y="2590920"/>
            <a:chExt cx="3353040" cy="3352680"/>
          </a:xfrm>
        </p:grpSpPr>
        <p:sp>
          <p:nvSpPr>
            <p:cNvPr id="375" name=""/>
            <p:cNvSpPr/>
            <p:nvPr/>
          </p:nvSpPr>
          <p:spPr>
            <a:xfrm>
              <a:off x="1295280" y="259092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 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987640" y="2590920"/>
              <a:ext cx="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95280" y="297180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440640" y="3352680"/>
            <a:ext cx="399960" cy="2514600"/>
            <a:chOff x="440640" y="3352680"/>
            <a:chExt cx="399960" cy="2514600"/>
          </a:xfrm>
        </p:grpSpPr>
        <p:sp>
          <p:nvSpPr>
            <p:cNvPr id="379" name=""/>
            <p:cNvSpPr/>
            <p:nvPr/>
          </p:nvSpPr>
          <p:spPr>
            <a:xfrm>
              <a:off x="762120" y="3352680"/>
              <a:ext cx="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6205400">
              <a:off x="259560" y="444816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19400" y="3138480"/>
            <a:ext cx="22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sg = receive (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752480" y="4114800"/>
          <a:ext cx="53352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11480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3733920" y="3505320"/>
          <a:ext cx="53316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50532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6781680" y="3962520"/>
            <a:ext cx="1905120" cy="18288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7467480" y="4876920"/>
            <a:ext cx="533520" cy="802080"/>
            <a:chOff x="7467480" y="4876920"/>
            <a:chExt cx="533520" cy="802080"/>
          </a:xfrm>
        </p:grpSpPr>
        <p:graphicFrame>
          <p:nvGraphicFramePr>
            <p:cNvPr id="388" name=""/>
            <p:cNvGraphicFramePr/>
            <p:nvPr/>
          </p:nvGraphicFramePr>
          <p:xfrm>
            <a:off x="7467480" y="4876920"/>
            <a:ext cx="533520" cy="523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67480" y="4876920"/>
                      <a:ext cx="53352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0" name=""/>
            <p:cNvSpPr/>
            <p:nvPr/>
          </p:nvSpPr>
          <p:spPr>
            <a:xfrm>
              <a:off x="7480080" y="5280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7620120" y="4114800"/>
            <a:ext cx="533160" cy="802080"/>
            <a:chOff x="7620120" y="4114800"/>
            <a:chExt cx="533160" cy="802080"/>
          </a:xfrm>
        </p:grpSpPr>
        <p:graphicFrame>
          <p:nvGraphicFramePr>
            <p:cNvPr id="392" name=""/>
            <p:cNvGraphicFramePr/>
            <p:nvPr/>
          </p:nvGraphicFramePr>
          <p:xfrm>
            <a:off x="7620120" y="4114800"/>
            <a:ext cx="533160" cy="523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20120" y="4114800"/>
                      <a:ext cx="533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4" name=""/>
            <p:cNvSpPr/>
            <p:nvPr/>
          </p:nvSpPr>
          <p:spPr>
            <a:xfrm>
              <a:off x="7632360" y="4518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 txBox="1"/>
          <p:nvPr/>
        </p:nvSpPr>
        <p:spPr>
          <a:xfrm>
            <a:off x="4876920" y="3657600"/>
            <a:ext cx="16002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6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sg = receive (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end(B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19400" y="4815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end(A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05120" y="5029200"/>
            <a:ext cx="1676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581280" y="4191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0" y="556272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15238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066680" y="5029200"/>
            <a:ext cx="6782040" cy="398880"/>
            <a:chOff x="1066680" y="5029200"/>
            <a:chExt cx="6782040" cy="398880"/>
          </a:xfrm>
        </p:grpSpPr>
        <p:sp>
          <p:nvSpPr>
            <p:cNvPr id="405" name=""/>
            <p:cNvSpPr/>
            <p:nvPr/>
          </p:nvSpPr>
          <p:spPr>
            <a:xfrm>
              <a:off x="1066680" y="5029200"/>
              <a:ext cx="678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85400" y="5029200"/>
              <a:ext cx="10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508040" y="1676520"/>
            <a:ext cx="398880" cy="4038480"/>
            <a:chOff x="1508040" y="1676520"/>
            <a:chExt cx="398880" cy="4038480"/>
          </a:xfrm>
        </p:grpSpPr>
        <p:sp>
          <p:nvSpPr>
            <p:cNvPr id="408" name=""/>
            <p:cNvSpPr/>
            <p:nvPr/>
          </p:nvSpPr>
          <p:spPr>
            <a:xfrm flipV="1">
              <a:off x="1905120" y="1676520"/>
              <a:ext cx="0" cy="403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6200000">
              <a:off x="1172160" y="2477880"/>
              <a:ext cx="10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3581280" y="419112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5257800" y="2666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257800" y="266688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934320" y="18288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18288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4030560"/>
            <a:ext cx="0" cy="99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4030560"/>
            <a:ext cx="1104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619440" y="2217600"/>
            <a:ext cx="0" cy="18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619440" y="2209680"/>
            <a:ext cx="4381560" cy="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800100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09960" y="4325760"/>
            <a:ext cx="26575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1" y="-6174"/>
                </a:moveTo>
                <a:lnTo>
                  <a:pt x="-619" y="602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905120" y="4495680"/>
            <a:ext cx="1218960" cy="533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124080" y="3428640"/>
            <a:ext cx="0" cy="10666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124080" y="2438280"/>
            <a:ext cx="213372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257800" y="2438280"/>
            <a:ext cx="160020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781680" y="1904760"/>
            <a:ext cx="114300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19920" y="2590920"/>
            <a:ext cx="26575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1" y="-6194"/>
                </a:moveTo>
                <a:lnTo>
                  <a:pt x="-619" y="602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3809880"/>
            <a:ext cx="533520" cy="5335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685800" y="4419720"/>
            <a:ext cx="4572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914040" y="4876920"/>
            <a:ext cx="60948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4267080"/>
            <a:ext cx="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" y="33526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Impossi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05120" y="5029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66680" y="5029200"/>
            <a:ext cx="6782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1905120" y="167652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362320" y="510552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.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.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.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.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920" y="1752480"/>
            <a:ext cx="1523880" cy="27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905120" y="1752480"/>
            <a:ext cx="5867280" cy="3276720"/>
            <a:chOff x="1905120" y="1752480"/>
            <a:chExt cx="5867280" cy="3276720"/>
          </a:xfrm>
        </p:grpSpPr>
        <p:grpSp>
          <p:nvGrpSpPr>
            <p:cNvPr id="439" name=""/>
            <p:cNvGrpSpPr/>
            <p:nvPr/>
          </p:nvGrpSpPr>
          <p:grpSpPr>
            <a:xfrm>
              <a:off x="1905120" y="2133720"/>
              <a:ext cx="5867280" cy="2133360"/>
              <a:chOff x="1905120" y="2133720"/>
              <a:chExt cx="5867280" cy="2133360"/>
            </a:xfrm>
          </p:grpSpPr>
          <p:sp>
            <p:nvSpPr>
              <p:cNvPr id="440" name=""/>
              <p:cNvSpPr/>
              <p:nvPr/>
            </p:nvSpPr>
            <p:spPr>
              <a:xfrm>
                <a:off x="1905120" y="4267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05120" y="3556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905120" y="2844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905120" y="2133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819520" y="1752480"/>
              <a:ext cx="4343400" cy="3276720"/>
              <a:chOff x="2819520" y="1752480"/>
              <a:chExt cx="4343400" cy="3276720"/>
            </a:xfrm>
          </p:grpSpPr>
          <p:sp>
            <p:nvSpPr>
              <p:cNvPr id="445" name=""/>
              <p:cNvSpPr/>
              <p:nvPr/>
            </p:nvSpPr>
            <p:spPr>
              <a:xfrm flipV="1">
                <a:off x="28195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426708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571500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71629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2819520" y="3581280"/>
            <a:ext cx="1447560" cy="68580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void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67080" y="2819520"/>
            <a:ext cx="2895840" cy="1447560"/>
          </a:xfrm>
          <a:prstGeom prst="rect">
            <a:avLst/>
          </a:prstGeom>
          <a:solidFill>
            <a:srgbClr val="00cc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and Q us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2133720"/>
            <a:ext cx="2895480" cy="1447560"/>
          </a:xfrm>
          <a:prstGeom prst="rect">
            <a:avLst/>
          </a:prstGeom>
          <a:solidFill>
            <a:srgbClr val="00ae00">
              <a:alpha val="50000"/>
            </a:srgbClr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and Q us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905120" y="5029200"/>
            <a:ext cx="1676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581280" y="4191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438280" y="388584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14600" y="38862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24080" y="464832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464832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800600" y="426672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00600" y="4267080"/>
            <a:ext cx="2362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286000" y="312408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19520" y="1905120"/>
            <a:ext cx="4419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819520" y="19051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335200" y="556272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4920" y="15238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905120" y="5029200"/>
            <a:ext cx="1218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05120" y="5029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05120" y="50292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7162920" y="1904760"/>
            <a:ext cx="0" cy="2361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3637080" y="2749680"/>
            <a:ext cx="574560" cy="825120"/>
            <a:chOff x="3637080" y="2749680"/>
            <a:chExt cx="574560" cy="825120"/>
          </a:xfrm>
        </p:grpSpPr>
        <p:sp>
          <p:nvSpPr>
            <p:cNvPr id="471" name=""/>
            <p:cNvSpPr/>
            <p:nvPr/>
          </p:nvSpPr>
          <p:spPr>
            <a:xfrm>
              <a:off x="3637080" y="274968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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51280" y="3213000"/>
              <a:ext cx="360360" cy="3603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79280" y="544500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Wingdings"/>
                <a:ea typeface="Wingdings"/>
              </a:rPr>
              <a:t>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= dead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500"/>
                            </p:stCondLst>
                            <p:childTnLst>
                              <p:par>
                                <p:cTn id="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04920" y="1752480"/>
            <a:ext cx="1523880" cy="27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066680" y="5029200"/>
            <a:ext cx="6782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905120" y="167652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62320" y="510552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.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.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.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.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905120" y="1752480"/>
            <a:ext cx="5867280" cy="3276720"/>
            <a:chOff x="1905120" y="1752480"/>
            <a:chExt cx="5867280" cy="3276720"/>
          </a:xfrm>
        </p:grpSpPr>
        <p:grpSp>
          <p:nvGrpSpPr>
            <p:cNvPr id="480" name=""/>
            <p:cNvGrpSpPr/>
            <p:nvPr/>
          </p:nvGrpSpPr>
          <p:grpSpPr>
            <a:xfrm>
              <a:off x="1905120" y="2133720"/>
              <a:ext cx="5867280" cy="2133360"/>
              <a:chOff x="1905120" y="2133720"/>
              <a:chExt cx="5867280" cy="2133360"/>
            </a:xfrm>
          </p:grpSpPr>
          <p:sp>
            <p:nvSpPr>
              <p:cNvPr id="481" name=""/>
              <p:cNvSpPr/>
              <p:nvPr/>
            </p:nvSpPr>
            <p:spPr>
              <a:xfrm>
                <a:off x="1905120" y="4267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905120" y="3556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905120" y="2844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905120" y="2133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2819520" y="1752480"/>
              <a:ext cx="4343400" cy="3276720"/>
              <a:chOff x="2819520" y="1752480"/>
              <a:chExt cx="4343400" cy="3276720"/>
            </a:xfrm>
          </p:grpSpPr>
          <p:sp>
            <p:nvSpPr>
              <p:cNvPr id="486" name=""/>
              <p:cNvSpPr/>
              <p:nvPr/>
            </p:nvSpPr>
            <p:spPr>
              <a:xfrm flipV="1">
                <a:off x="28195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426708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571500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71629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"/>
          <p:cNvSpPr/>
          <p:nvPr/>
        </p:nvSpPr>
        <p:spPr>
          <a:xfrm>
            <a:off x="5638680" y="2819520"/>
            <a:ext cx="1524240" cy="1447560"/>
          </a:xfrm>
          <a:prstGeom prst="rect">
            <a:avLst/>
          </a:prstGeom>
          <a:solidFill>
            <a:srgbClr val="00cc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and Q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2133720"/>
            <a:ext cx="1447560" cy="1447560"/>
          </a:xfrm>
          <a:prstGeom prst="rect">
            <a:avLst/>
          </a:prstGeom>
          <a:solidFill>
            <a:srgbClr val="00ae00">
              <a:alpha val="50000"/>
            </a:srgbClr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and Q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05120" y="5029200"/>
            <a:ext cx="1676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58128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2590920" y="388584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3886200"/>
            <a:ext cx="21333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124080" y="464832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464832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4800600" y="426672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00600" y="426708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2286000" y="312408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752480"/>
            <a:ext cx="4495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819520" y="17524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0" y="556272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920" y="15238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724280" y="198108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03848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5257800" y="2590560"/>
            <a:ext cx="0" cy="14475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57800" y="259092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198108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05120" y="5029200"/>
            <a:ext cx="1218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05120" y="50292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7315200" y="16765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7315200" y="175212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705720" y="3352680"/>
            <a:ext cx="19047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ver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500"/>
                            </p:stCondLst>
                            <p:childTnLst>
                              <p:par>
                                <p:cTn id="9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500"/>
                            </p:stCondLst>
                            <p:childTnLst>
                              <p:par>
                                <p:cTn id="9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00"/>
                            </p:stCondLst>
                            <p:childTnLst>
                              <p:par>
                                <p:cTn id="9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200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2500"/>
                            </p:stCondLst>
                            <p:childTnLst>
                              <p:par>
                                <p:cTn id="9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Character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cessary Cond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al re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cessary Cond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Mutual Ex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resource held in nonsharable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Hold and Wa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process holdi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 res., waiting to acquire anot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No Preem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can only be released voluntari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Circular Wa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of waiting pro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aits for resource held by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(i+1) % 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04840" y="5410080"/>
            <a:ext cx="7480440" cy="457200"/>
          </a:xfrm>
          <a:custGeom>
            <a:avLst/>
            <a:gdLst/>
            <a:ahLst/>
            <a:rect l="l" t="t" r="r" b="b"/>
            <a:pathLst>
              <a:path w="4712" h="432">
                <a:moveTo>
                  <a:pt x="4440" y="24"/>
                </a:moveTo>
                <a:cubicBezTo>
                  <a:pt x="4492" y="12"/>
                  <a:pt x="4544" y="0"/>
                  <a:pt x="4584" y="24"/>
                </a:cubicBezTo>
                <a:cubicBezTo>
                  <a:pt x="4624" y="48"/>
                  <a:pt x="4688" y="112"/>
                  <a:pt x="4680" y="168"/>
                </a:cubicBezTo>
                <a:cubicBezTo>
                  <a:pt x="4672" y="224"/>
                  <a:pt x="4712" y="320"/>
                  <a:pt x="4536" y="360"/>
                </a:cubicBezTo>
                <a:cubicBezTo>
                  <a:pt x="4360" y="400"/>
                  <a:pt x="4248" y="400"/>
                  <a:pt x="3624" y="408"/>
                </a:cubicBezTo>
                <a:cubicBezTo>
                  <a:pt x="3000" y="416"/>
                  <a:pt x="1376" y="432"/>
                  <a:pt x="792" y="408"/>
                </a:cubicBezTo>
                <a:cubicBezTo>
                  <a:pt x="208" y="384"/>
                  <a:pt x="240" y="320"/>
                  <a:pt x="120" y="264"/>
                </a:cubicBezTo>
                <a:cubicBezTo>
                  <a:pt x="0" y="208"/>
                  <a:pt x="56" y="112"/>
                  <a:pt x="72" y="72"/>
                </a:cubicBezTo>
                <a:cubicBezTo>
                  <a:pt x="88" y="32"/>
                  <a:pt x="152" y="28"/>
                  <a:pt x="216" y="2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553080" y="1600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  </a:t>
            </a:r>
            <a:r>
              <a:rPr b="1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 b  </a:t>
            </a:r>
            <a:r>
              <a:rPr b="1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533520" y="33973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12920" y="33973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505320" y="1828800"/>
            <a:ext cx="761760" cy="990720"/>
            <a:chOff x="3505320" y="1828800"/>
            <a:chExt cx="761760" cy="990720"/>
          </a:xfrm>
        </p:grpSpPr>
        <p:sp>
          <p:nvSpPr>
            <p:cNvPr id="527" name=""/>
            <p:cNvSpPr/>
            <p:nvPr/>
          </p:nvSpPr>
          <p:spPr>
            <a:xfrm>
              <a:off x="3505320" y="220968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60840" y="18288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809880" y="24382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1143000" y="4495680"/>
            <a:ext cx="762120" cy="1368000"/>
            <a:chOff x="1143000" y="4495680"/>
            <a:chExt cx="762120" cy="1368000"/>
          </a:xfrm>
        </p:grpSpPr>
        <p:sp>
          <p:nvSpPr>
            <p:cNvPr id="531" name=""/>
            <p:cNvSpPr/>
            <p:nvPr/>
          </p:nvSpPr>
          <p:spPr>
            <a:xfrm>
              <a:off x="1143000" y="4495680"/>
              <a:ext cx="762120" cy="91440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98520" y="54230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1447920" y="4686480"/>
              <a:ext cx="152280" cy="533160"/>
              <a:chOff x="1447920" y="4686480"/>
              <a:chExt cx="152280" cy="533160"/>
            </a:xfrm>
          </p:grpSpPr>
          <p:sp>
            <p:nvSpPr>
              <p:cNvPr id="534" name=""/>
              <p:cNvSpPr/>
              <p:nvPr/>
            </p:nvSpPr>
            <p:spPr>
              <a:xfrm>
                <a:off x="1447920" y="4686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447920" y="50673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6" name=""/>
          <p:cNvGrpSpPr/>
          <p:nvPr/>
        </p:nvGrpSpPr>
        <p:grpSpPr>
          <a:xfrm>
            <a:off x="2971800" y="4343400"/>
            <a:ext cx="761760" cy="1596240"/>
            <a:chOff x="2971800" y="4343400"/>
            <a:chExt cx="761760" cy="1596240"/>
          </a:xfrm>
        </p:grpSpPr>
        <p:grpSp>
          <p:nvGrpSpPr>
            <p:cNvPr id="537" name=""/>
            <p:cNvGrpSpPr/>
            <p:nvPr/>
          </p:nvGrpSpPr>
          <p:grpSpPr>
            <a:xfrm>
              <a:off x="2971800" y="4343400"/>
              <a:ext cx="761760" cy="1596240"/>
              <a:chOff x="2971800" y="4343400"/>
              <a:chExt cx="761760" cy="1596240"/>
            </a:xfrm>
          </p:grpSpPr>
          <p:sp>
            <p:nvSpPr>
              <p:cNvPr id="538" name=""/>
              <p:cNvSpPr/>
              <p:nvPr/>
            </p:nvSpPr>
            <p:spPr>
              <a:xfrm>
                <a:off x="2971800" y="4343400"/>
                <a:ext cx="761760" cy="114300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27320" y="549900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3276720" y="4495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76720" y="5181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276720" y="4838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3886200" y="339084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45" idx="7"/>
            <a:endCxn id="546" idx="2"/>
          </p:cNvCxnSpPr>
          <p:nvPr/>
        </p:nvCxnSpPr>
        <p:spPr>
          <a:xfrm flipV="1">
            <a:off x="1118880" y="2837880"/>
            <a:ext cx="633960" cy="641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48" idx="7"/>
            <a:endCxn id="527" idx="1"/>
          </p:cNvCxnSpPr>
          <p:nvPr/>
        </p:nvCxnSpPr>
        <p:spPr>
          <a:xfrm flipV="1">
            <a:off x="2795760" y="2513880"/>
            <a:ext cx="691200" cy="965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549" name=""/>
          <p:cNvCxnSpPr>
            <a:stCxn id="529" idx="4"/>
            <a:endCxn id="543" idx="0"/>
          </p:cNvCxnSpPr>
          <p:nvPr/>
        </p:nvCxnSpPr>
        <p:spPr>
          <a:xfrm>
            <a:off x="3885840" y="2590920"/>
            <a:ext cx="343800" cy="8006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550" name=""/>
          <p:cNvGrpSpPr/>
          <p:nvPr/>
        </p:nvGrpSpPr>
        <p:grpSpPr>
          <a:xfrm>
            <a:off x="1371600" y="1828800"/>
            <a:ext cx="762120" cy="990720"/>
            <a:chOff x="1371600" y="1828800"/>
            <a:chExt cx="762120" cy="990720"/>
          </a:xfrm>
        </p:grpSpPr>
        <p:sp>
          <p:nvSpPr>
            <p:cNvPr id="546" name=""/>
            <p:cNvSpPr/>
            <p:nvPr/>
          </p:nvSpPr>
          <p:spPr>
            <a:xfrm>
              <a:off x="1371600" y="220968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27120" y="18288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676520" y="2438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3" name=""/>
          <p:cNvCxnSpPr>
            <a:stCxn id="552" idx="6"/>
            <a:endCxn id="548" idx="1"/>
          </p:cNvCxnSpPr>
          <p:nvPr/>
        </p:nvCxnSpPr>
        <p:spPr>
          <a:xfrm>
            <a:off x="1828800" y="2514240"/>
            <a:ext cx="481680" cy="9658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554" name=""/>
          <p:cNvCxnSpPr>
            <a:stCxn id="534" idx="1"/>
            <a:endCxn id="545" idx="4"/>
          </p:cNvCxnSpPr>
          <p:nvPr/>
        </p:nvCxnSpPr>
        <p:spPr>
          <a:xfrm flipH="1" flipV="1">
            <a:off x="875520" y="4000320"/>
            <a:ext cx="594360" cy="7084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555" name=""/>
          <p:cNvCxnSpPr>
            <a:stCxn id="535" idx="0"/>
            <a:endCxn id="548" idx="4"/>
          </p:cNvCxnSpPr>
          <p:nvPr/>
        </p:nvCxnSpPr>
        <p:spPr>
          <a:xfrm flipV="1">
            <a:off x="1523880" y="3999960"/>
            <a:ext cx="1029600" cy="106740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556" name=""/>
          <p:cNvGrpSpPr/>
          <p:nvPr/>
        </p:nvGrpSpPr>
        <p:grpSpPr>
          <a:xfrm>
            <a:off x="5562720" y="2057400"/>
            <a:ext cx="2738160" cy="398880"/>
            <a:chOff x="5562720" y="2057400"/>
            <a:chExt cx="2738160" cy="398880"/>
          </a:xfrm>
        </p:grpSpPr>
        <p:sp>
          <p:nvSpPr>
            <p:cNvPr id="557" name=""/>
            <p:cNvSpPr/>
            <p:nvPr/>
          </p:nvSpPr>
          <p:spPr>
            <a:xfrm>
              <a:off x="5562720" y="2286000"/>
              <a:ext cx="1066680" cy="0"/>
            </a:xfrm>
            <a:prstGeom prst="line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705720" y="205740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assig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562720" y="2438280"/>
            <a:ext cx="2244240" cy="398880"/>
            <a:chOff x="5562720" y="2438280"/>
            <a:chExt cx="2244240" cy="398880"/>
          </a:xfrm>
        </p:grpSpPr>
        <p:sp>
          <p:nvSpPr>
            <p:cNvPr id="560" name=""/>
            <p:cNvSpPr/>
            <p:nvPr/>
          </p:nvSpPr>
          <p:spPr>
            <a:xfrm>
              <a:off x="5562720" y="2666880"/>
              <a:ext cx="106668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05720" y="2438280"/>
              <a:ext cx="110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4724640" y="3973680"/>
            <a:ext cx="2780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 = (Nodes, Ed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s = {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}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{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533520" y="3390840"/>
            <a:ext cx="936360" cy="614520"/>
            <a:chOff x="533520" y="3390840"/>
            <a:chExt cx="936360" cy="614520"/>
          </a:xfrm>
        </p:grpSpPr>
        <p:sp>
          <p:nvSpPr>
            <p:cNvPr id="545" name=""/>
            <p:cNvSpPr/>
            <p:nvPr/>
          </p:nvSpPr>
          <p:spPr>
            <a:xfrm>
              <a:off x="533520" y="339084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4" name=""/>
            <p:cNvGraphicFramePr/>
            <p:nvPr/>
          </p:nvGraphicFramePr>
          <p:xfrm>
            <a:off x="1089000" y="3630600"/>
            <a:ext cx="38088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89000" y="363060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66" name=""/>
          <p:cNvGrpSpPr/>
          <p:nvPr/>
        </p:nvGrpSpPr>
        <p:grpSpPr>
          <a:xfrm>
            <a:off x="2209680" y="3390840"/>
            <a:ext cx="925560" cy="609840"/>
            <a:chOff x="2209680" y="3390840"/>
            <a:chExt cx="925560" cy="609840"/>
          </a:xfrm>
        </p:grpSpPr>
        <p:sp>
          <p:nvSpPr>
            <p:cNvPr id="548" name=""/>
            <p:cNvSpPr/>
            <p:nvPr/>
          </p:nvSpPr>
          <p:spPr>
            <a:xfrm>
              <a:off x="2209680" y="339084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2754360" y="3624120"/>
            <a:ext cx="380880" cy="37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4360" y="362412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9" name=""/>
          <p:cNvSpPr/>
          <p:nvPr/>
        </p:nvSpPr>
        <p:spPr>
          <a:xfrm>
            <a:off x="4724280" y="4703760"/>
            <a:ext cx="4292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s = {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as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}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Assign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{ (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|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assig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724280" y="5418000"/>
            <a:ext cx="42926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{ (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|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983120" y="3352680"/>
            <a:ext cx="371484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yc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Dead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dlock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1 Instance/Typ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d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533520" y="1828800"/>
            <a:ext cx="4038480" cy="4110840"/>
            <a:chOff x="533520" y="1828800"/>
            <a:chExt cx="4038480" cy="4110840"/>
          </a:xfrm>
        </p:grpSpPr>
        <p:grpSp>
          <p:nvGrpSpPr>
            <p:cNvPr id="574" name=""/>
            <p:cNvGrpSpPr/>
            <p:nvPr/>
          </p:nvGrpSpPr>
          <p:grpSpPr>
            <a:xfrm>
              <a:off x="3505320" y="1828800"/>
              <a:ext cx="761760" cy="990720"/>
              <a:chOff x="3505320" y="1828800"/>
              <a:chExt cx="761760" cy="990720"/>
            </a:xfrm>
          </p:grpSpPr>
          <p:sp>
            <p:nvSpPr>
              <p:cNvPr id="575" name=""/>
              <p:cNvSpPr/>
              <p:nvPr/>
            </p:nvSpPr>
            <p:spPr>
              <a:xfrm>
                <a:off x="3505320" y="220968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660840" y="182880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809880" y="24382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1143000" y="4495680"/>
              <a:ext cx="762120" cy="1368000"/>
              <a:chOff x="1143000" y="4495680"/>
              <a:chExt cx="762120" cy="1368000"/>
            </a:xfrm>
          </p:grpSpPr>
          <p:sp>
            <p:nvSpPr>
              <p:cNvPr id="579" name=""/>
              <p:cNvSpPr/>
              <p:nvPr/>
            </p:nvSpPr>
            <p:spPr>
              <a:xfrm>
                <a:off x="1143000" y="4495680"/>
                <a:ext cx="762120" cy="91440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298520" y="542304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1" name=""/>
              <p:cNvGrpSpPr/>
              <p:nvPr/>
            </p:nvGrpSpPr>
            <p:grpSpPr>
              <a:xfrm>
                <a:off x="1447920" y="4686480"/>
                <a:ext cx="152280" cy="533160"/>
                <a:chOff x="1447920" y="4686480"/>
                <a:chExt cx="152280" cy="533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1447920" y="468648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447920" y="506736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4" name=""/>
            <p:cNvGrpSpPr/>
            <p:nvPr/>
          </p:nvGrpSpPr>
          <p:grpSpPr>
            <a:xfrm>
              <a:off x="2971800" y="4343400"/>
              <a:ext cx="761760" cy="1596240"/>
              <a:chOff x="2971800" y="4343400"/>
              <a:chExt cx="761760" cy="1596240"/>
            </a:xfrm>
          </p:grpSpPr>
          <p:grpSp>
            <p:nvGrpSpPr>
              <p:cNvPr id="585" name=""/>
              <p:cNvGrpSpPr/>
              <p:nvPr/>
            </p:nvGrpSpPr>
            <p:grpSpPr>
              <a:xfrm>
                <a:off x="2971800" y="4343400"/>
                <a:ext cx="761760" cy="1596240"/>
                <a:chOff x="2971800" y="4343400"/>
                <a:chExt cx="761760" cy="159624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2971800" y="4343400"/>
                  <a:ext cx="761760" cy="1143000"/>
                </a:xfrm>
                <a:prstGeom prst="rect">
                  <a:avLst/>
                </a:prstGeom>
                <a:solidFill>
                  <a:srgbClr val="cecece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127320" y="549900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3276720" y="44956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276720" y="51814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276720" y="48387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3886200" y="3390840"/>
              <a:ext cx="685800" cy="60984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>
              <a:stCxn id="593" idx="7"/>
              <a:endCxn id="594" idx="2"/>
            </p:cNvCxnSpPr>
            <p:nvPr/>
          </p:nvCxnSpPr>
          <p:spPr>
            <a:xfrm flipV="1">
              <a:off x="1118880" y="2837880"/>
              <a:ext cx="633960" cy="6418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595" name=""/>
            <p:cNvCxnSpPr>
              <a:stCxn id="596" idx="7"/>
              <a:endCxn id="575" idx="1"/>
            </p:cNvCxnSpPr>
            <p:nvPr/>
          </p:nvCxnSpPr>
          <p:spPr>
            <a:xfrm flipV="1">
              <a:off x="2795760" y="2513880"/>
              <a:ext cx="691200" cy="9658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597" name=""/>
            <p:cNvCxnSpPr>
              <a:stCxn id="577" idx="4"/>
              <a:endCxn id="591" idx="0"/>
            </p:cNvCxnSpPr>
            <p:nvPr/>
          </p:nvCxnSpPr>
          <p:spPr>
            <a:xfrm>
              <a:off x="3885840" y="2590920"/>
              <a:ext cx="343800" cy="80064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grpSp>
          <p:nvGrpSpPr>
            <p:cNvPr id="598" name=""/>
            <p:cNvGrpSpPr/>
            <p:nvPr/>
          </p:nvGrpSpPr>
          <p:grpSpPr>
            <a:xfrm>
              <a:off x="1371600" y="1828800"/>
              <a:ext cx="762120" cy="990720"/>
              <a:chOff x="1371600" y="1828800"/>
              <a:chExt cx="762120" cy="990720"/>
            </a:xfrm>
          </p:grpSpPr>
          <p:sp>
            <p:nvSpPr>
              <p:cNvPr id="594" name=""/>
              <p:cNvSpPr/>
              <p:nvPr/>
            </p:nvSpPr>
            <p:spPr>
              <a:xfrm>
                <a:off x="1371600" y="2209680"/>
                <a:ext cx="76212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527120" y="182880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676520" y="24382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1" name=""/>
            <p:cNvCxnSpPr>
              <a:stCxn id="600" idx="6"/>
              <a:endCxn id="596" idx="1"/>
            </p:cNvCxnSpPr>
            <p:nvPr/>
          </p:nvCxnSpPr>
          <p:spPr>
            <a:xfrm>
              <a:off x="1828800" y="2514240"/>
              <a:ext cx="481680" cy="96588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cxnSp>
          <p:nvCxnSpPr>
            <p:cNvPr id="602" name=""/>
            <p:cNvCxnSpPr>
              <a:stCxn id="582" idx="1"/>
              <a:endCxn id="593" idx="4"/>
            </p:cNvCxnSpPr>
            <p:nvPr/>
          </p:nvCxnSpPr>
          <p:spPr>
            <a:xfrm flipH="1" flipV="1">
              <a:off x="875520" y="4000320"/>
              <a:ext cx="594360" cy="70848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cxnSp>
          <p:nvCxnSpPr>
            <p:cNvPr id="603" name=""/>
            <p:cNvCxnSpPr>
              <a:stCxn id="583" idx="0"/>
              <a:endCxn id="596" idx="4"/>
            </p:cNvCxnSpPr>
            <p:nvPr/>
          </p:nvCxnSpPr>
          <p:spPr>
            <a:xfrm flipV="1">
              <a:off x="1523880" y="3999960"/>
              <a:ext cx="1029600" cy="106740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grpSp>
          <p:nvGrpSpPr>
            <p:cNvPr id="604" name=""/>
            <p:cNvGrpSpPr/>
            <p:nvPr/>
          </p:nvGrpSpPr>
          <p:grpSpPr>
            <a:xfrm>
              <a:off x="533520" y="3390840"/>
              <a:ext cx="936360" cy="614520"/>
              <a:chOff x="533520" y="3390840"/>
              <a:chExt cx="936360" cy="614520"/>
            </a:xfrm>
          </p:grpSpPr>
          <p:sp>
            <p:nvSpPr>
              <p:cNvPr id="593" name=""/>
              <p:cNvSpPr/>
              <p:nvPr/>
            </p:nvSpPr>
            <p:spPr>
              <a:xfrm>
                <a:off x="533520" y="3390840"/>
                <a:ext cx="685800" cy="60984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05" name=""/>
              <p:cNvGraphicFramePr/>
              <p:nvPr/>
            </p:nvGraphicFramePr>
            <p:xfrm>
              <a:off x="1089000" y="3630600"/>
              <a:ext cx="380880" cy="374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0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089000" y="3630600"/>
                        <a:ext cx="380880" cy="37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607" name=""/>
            <p:cNvGrpSpPr/>
            <p:nvPr/>
          </p:nvGrpSpPr>
          <p:grpSpPr>
            <a:xfrm>
              <a:off x="2209680" y="3390840"/>
              <a:ext cx="925560" cy="609840"/>
              <a:chOff x="2209680" y="3390840"/>
              <a:chExt cx="925560" cy="609840"/>
            </a:xfrm>
          </p:grpSpPr>
          <p:sp>
            <p:nvSpPr>
              <p:cNvPr id="596" name=""/>
              <p:cNvSpPr/>
              <p:nvPr/>
            </p:nvSpPr>
            <p:spPr>
              <a:xfrm>
                <a:off x="2209680" y="3390840"/>
                <a:ext cx="685800" cy="60984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08" name=""/>
              <p:cNvGraphicFramePr/>
              <p:nvPr/>
            </p:nvGraphicFramePr>
            <p:xfrm>
              <a:off x="2754360" y="3624120"/>
              <a:ext cx="380880" cy="374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0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754360" y="3624120"/>
                        <a:ext cx="380880" cy="37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608280" y="4848120"/>
            <a:ext cx="762120" cy="1368000"/>
            <a:chOff x="3608280" y="4848120"/>
            <a:chExt cx="762120" cy="1368000"/>
          </a:xfrm>
        </p:grpSpPr>
        <p:sp>
          <p:nvSpPr>
            <p:cNvPr id="612" name=""/>
            <p:cNvSpPr/>
            <p:nvPr/>
          </p:nvSpPr>
          <p:spPr>
            <a:xfrm>
              <a:off x="3608280" y="4848120"/>
              <a:ext cx="762120" cy="91440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763800" y="5775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3913200" y="5038920"/>
              <a:ext cx="152280" cy="533160"/>
              <a:chOff x="3913200" y="5038920"/>
              <a:chExt cx="152280" cy="533160"/>
            </a:xfrm>
          </p:grpSpPr>
          <p:sp>
            <p:nvSpPr>
              <p:cNvPr id="615" name=""/>
              <p:cNvSpPr/>
              <p:nvPr/>
            </p:nvSpPr>
            <p:spPr>
              <a:xfrm>
                <a:off x="3913200" y="5038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913200" y="54198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17" name=""/>
          <p:cNvCxnSpPr>
            <a:stCxn id="618" idx="7"/>
            <a:endCxn id="619" idx="2"/>
          </p:cNvCxnSpPr>
          <p:nvPr/>
        </p:nvCxnSpPr>
        <p:spPr>
          <a:xfrm flipV="1">
            <a:off x="3252960" y="2837880"/>
            <a:ext cx="737280" cy="641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620" name=""/>
          <p:cNvGrpSpPr/>
          <p:nvPr/>
        </p:nvGrpSpPr>
        <p:grpSpPr>
          <a:xfrm>
            <a:off x="3608280" y="1828800"/>
            <a:ext cx="762120" cy="990720"/>
            <a:chOff x="3608280" y="1828800"/>
            <a:chExt cx="762120" cy="990720"/>
          </a:xfrm>
        </p:grpSpPr>
        <p:sp>
          <p:nvSpPr>
            <p:cNvPr id="619" name=""/>
            <p:cNvSpPr/>
            <p:nvPr/>
          </p:nvSpPr>
          <p:spPr>
            <a:xfrm>
              <a:off x="3608280" y="220968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63800" y="18288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13200" y="2438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3" name=""/>
          <p:cNvCxnSpPr>
            <a:stCxn id="622" idx="5"/>
            <a:endCxn id="624" idx="1"/>
          </p:cNvCxnSpPr>
          <p:nvPr/>
        </p:nvCxnSpPr>
        <p:spPr>
          <a:xfrm>
            <a:off x="4043520" y="2568240"/>
            <a:ext cx="846720" cy="9118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15" idx="1"/>
            <a:endCxn id="618" idx="4"/>
          </p:cNvCxnSpPr>
          <p:nvPr/>
        </p:nvCxnSpPr>
        <p:spPr>
          <a:xfrm flipH="1" flipV="1">
            <a:off x="3009240" y="3999960"/>
            <a:ext cx="926280" cy="10609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626" name=""/>
          <p:cNvGrpSpPr/>
          <p:nvPr/>
        </p:nvGrpSpPr>
        <p:grpSpPr>
          <a:xfrm>
            <a:off x="2666880" y="3390840"/>
            <a:ext cx="936360" cy="614520"/>
            <a:chOff x="2666880" y="3390840"/>
            <a:chExt cx="936360" cy="614520"/>
          </a:xfrm>
        </p:grpSpPr>
        <p:sp>
          <p:nvSpPr>
            <p:cNvPr id="618" name=""/>
            <p:cNvSpPr/>
            <p:nvPr/>
          </p:nvSpPr>
          <p:spPr>
            <a:xfrm>
              <a:off x="2666880" y="339084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7" name=""/>
            <p:cNvGraphicFramePr/>
            <p:nvPr/>
          </p:nvGraphicFramePr>
          <p:xfrm>
            <a:off x="3222360" y="3630600"/>
            <a:ext cx="38088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22360" y="363060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29" name=""/>
          <p:cNvGrpSpPr/>
          <p:nvPr/>
        </p:nvGrpSpPr>
        <p:grpSpPr>
          <a:xfrm>
            <a:off x="4789440" y="3390840"/>
            <a:ext cx="925560" cy="609840"/>
            <a:chOff x="4789440" y="3390840"/>
            <a:chExt cx="925560" cy="609840"/>
          </a:xfrm>
        </p:grpSpPr>
        <p:sp>
          <p:nvSpPr>
            <p:cNvPr id="624" name=""/>
            <p:cNvSpPr/>
            <p:nvPr/>
          </p:nvSpPr>
          <p:spPr>
            <a:xfrm>
              <a:off x="4789440" y="339084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0" name=""/>
            <p:cNvGraphicFramePr/>
            <p:nvPr/>
          </p:nvGraphicFramePr>
          <p:xfrm>
            <a:off x="5334120" y="3624120"/>
            <a:ext cx="380880" cy="37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362412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2" name=""/>
          <p:cNvSpPr/>
          <p:nvPr/>
        </p:nvSpPr>
        <p:spPr>
          <a:xfrm>
            <a:off x="5181480" y="449568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3" name=""/>
          <p:cNvCxnSpPr>
            <a:stCxn id="616" idx="6"/>
            <a:endCxn id="632" idx="2"/>
          </p:cNvCxnSpPr>
          <p:nvPr/>
        </p:nvCxnSpPr>
        <p:spPr>
          <a:xfrm flipV="1">
            <a:off x="4065480" y="4800240"/>
            <a:ext cx="1116720" cy="6955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634" name=""/>
          <p:cNvCxnSpPr>
            <a:stCxn id="624" idx="3"/>
            <a:endCxn id="612" idx="0"/>
          </p:cNvCxnSpPr>
          <p:nvPr/>
        </p:nvCxnSpPr>
        <p:spPr>
          <a:xfrm flipH="1">
            <a:off x="3989160" y="3911760"/>
            <a:ext cx="900720" cy="9180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635" name=""/>
          <p:cNvSpPr/>
          <p:nvPr/>
        </p:nvSpPr>
        <p:spPr>
          <a:xfrm>
            <a:off x="3657600" y="3187800"/>
            <a:ext cx="1054080" cy="1282680"/>
          </a:xfrm>
          <a:custGeom>
            <a:avLst/>
            <a:gdLst/>
            <a:ahLst/>
            <a:rect l="l" t="t" r="r" b="b"/>
            <a:pathLst>
              <a:path w="664" h="808">
                <a:moveTo>
                  <a:pt x="96" y="152"/>
                </a:moveTo>
                <a:cubicBezTo>
                  <a:pt x="132" y="76"/>
                  <a:pt x="168" y="0"/>
                  <a:pt x="240" y="8"/>
                </a:cubicBezTo>
                <a:cubicBezTo>
                  <a:pt x="312" y="16"/>
                  <a:pt x="464" y="120"/>
                  <a:pt x="528" y="200"/>
                </a:cubicBezTo>
                <a:cubicBezTo>
                  <a:pt x="592" y="280"/>
                  <a:pt x="664" y="400"/>
                  <a:pt x="624" y="488"/>
                </a:cubicBezTo>
                <a:cubicBezTo>
                  <a:pt x="584" y="576"/>
                  <a:pt x="384" y="680"/>
                  <a:pt x="288" y="728"/>
                </a:cubicBezTo>
                <a:cubicBezTo>
                  <a:pt x="192" y="776"/>
                  <a:pt x="96" y="808"/>
                  <a:pt x="48" y="776"/>
                </a:cubicBezTo>
                <a:cubicBezTo>
                  <a:pt x="0" y="744"/>
                  <a:pt x="0" y="632"/>
                  <a:pt x="0" y="536"/>
                </a:cubicBezTo>
                <a:cubicBezTo>
                  <a:pt x="0" y="440"/>
                  <a:pt x="24" y="320"/>
                  <a:pt x="48" y="200"/>
                </a:cubicBezTo>
              </a:path>
            </a:pathLst>
          </a:custGeom>
          <a:noFill/>
          <a:ln w="57240">
            <a:solidFill>
              <a:srgbClr val="ff95a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0" y="2362320"/>
            <a:ext cx="198108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ae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No Deadlock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ae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cxnSp>
        <p:nvCxnSpPr>
          <p:cNvPr id="637" name=""/>
          <p:cNvCxnSpPr>
            <a:stCxn id="616" idx="6"/>
            <a:endCxn id="632" idx="2"/>
          </p:cNvCxnSpPr>
          <p:nvPr/>
        </p:nvCxnSpPr>
        <p:spPr>
          <a:xfrm flipV="1">
            <a:off x="4065480" y="4800240"/>
            <a:ext cx="1116720" cy="69552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638" name=""/>
          <p:cNvGrpSpPr/>
          <p:nvPr/>
        </p:nvGrpSpPr>
        <p:grpSpPr>
          <a:xfrm>
            <a:off x="3619440" y="4838760"/>
            <a:ext cx="762120" cy="1368000"/>
            <a:chOff x="3619440" y="4838760"/>
            <a:chExt cx="762120" cy="1368000"/>
          </a:xfrm>
        </p:grpSpPr>
        <p:sp>
          <p:nvSpPr>
            <p:cNvPr id="639" name=""/>
            <p:cNvSpPr/>
            <p:nvPr/>
          </p:nvSpPr>
          <p:spPr>
            <a:xfrm>
              <a:off x="3619440" y="4838760"/>
              <a:ext cx="762120" cy="91440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74960" y="57661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3924360" y="5029560"/>
              <a:ext cx="152280" cy="533160"/>
              <a:chOff x="3924360" y="5029560"/>
              <a:chExt cx="152280" cy="533160"/>
            </a:xfrm>
          </p:grpSpPr>
          <p:sp>
            <p:nvSpPr>
              <p:cNvPr id="642" name=""/>
              <p:cNvSpPr/>
              <p:nvPr/>
            </p:nvSpPr>
            <p:spPr>
              <a:xfrm>
                <a:off x="3924360" y="50295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924360" y="5410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44" name=""/>
          <p:cNvCxnSpPr>
            <a:stCxn id="642" idx="1"/>
            <a:endCxn id="618" idx="4"/>
          </p:cNvCxnSpPr>
          <p:nvPr/>
        </p:nvCxnSpPr>
        <p:spPr>
          <a:xfrm flipH="1" flipV="1">
            <a:off x="3009600" y="3999960"/>
            <a:ext cx="937440" cy="105156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645" name=""/>
          <p:cNvCxnSpPr>
            <a:stCxn id="624" idx="3"/>
            <a:endCxn id="639" idx="0"/>
          </p:cNvCxnSpPr>
          <p:nvPr/>
        </p:nvCxnSpPr>
        <p:spPr>
          <a:xfrm flipH="1">
            <a:off x="3999960" y="3911760"/>
            <a:ext cx="889560" cy="90864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46" name=""/>
          <p:cNvCxnSpPr>
            <a:stCxn id="643" idx="7"/>
            <a:endCxn id="624" idx="4"/>
          </p:cNvCxnSpPr>
          <p:nvPr/>
        </p:nvCxnSpPr>
        <p:spPr>
          <a:xfrm flipV="1">
            <a:off x="4053960" y="3999960"/>
            <a:ext cx="1078560" cy="1432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647" name=""/>
          <p:cNvGrpSpPr/>
          <p:nvPr/>
        </p:nvGrpSpPr>
        <p:grpSpPr>
          <a:xfrm>
            <a:off x="4786200" y="3386160"/>
            <a:ext cx="1266840" cy="923760"/>
            <a:chOff x="4786200" y="3386160"/>
            <a:chExt cx="1266840" cy="923760"/>
          </a:xfrm>
        </p:grpSpPr>
        <p:sp>
          <p:nvSpPr>
            <p:cNvPr id="648" name=""/>
            <p:cNvSpPr/>
            <p:nvPr/>
          </p:nvSpPr>
          <p:spPr>
            <a:xfrm>
              <a:off x="5214960" y="3548160"/>
              <a:ext cx="838080" cy="76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786200" y="338616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0" name="" descr=""/>
          <p:cNvPicPr/>
          <p:nvPr/>
        </p:nvPicPr>
        <p:blipFill>
          <a:blip r:embed="rId5"/>
          <a:stretch/>
        </p:blipFill>
        <p:spPr>
          <a:xfrm>
            <a:off x="5105520" y="4467240"/>
            <a:ext cx="838080" cy="638280"/>
          </a:xfrm>
          <a:prstGeom prst="rect">
            <a:avLst/>
          </a:prstGeom>
          <a:ln w="0">
            <a:noFill/>
          </a:ln>
        </p:spPr>
      </p:pic>
      <p:cxnSp>
        <p:nvCxnSpPr>
          <p:cNvPr id="651" name=""/>
          <p:cNvCxnSpPr/>
          <p:nvPr/>
        </p:nvCxnSpPr>
        <p:spPr>
          <a:xfrm flipV="1">
            <a:off x="4054320" y="4004640"/>
            <a:ext cx="1075680" cy="14374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2" name=""/>
          <p:cNvCxnSpPr>
            <a:stCxn id="622" idx="5"/>
            <a:endCxn id="649" idx="1"/>
          </p:cNvCxnSpPr>
          <p:nvPr/>
        </p:nvCxnSpPr>
        <p:spPr>
          <a:xfrm>
            <a:off x="4043160" y="2568600"/>
            <a:ext cx="843480" cy="90720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18" idx="7"/>
            <a:endCxn id="619" idx="2"/>
          </p:cNvCxnSpPr>
          <p:nvPr/>
        </p:nvCxnSpPr>
        <p:spPr>
          <a:xfrm flipV="1">
            <a:off x="3252960" y="2837880"/>
            <a:ext cx="737280" cy="641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654" name=""/>
          <p:cNvGrpSpPr/>
          <p:nvPr/>
        </p:nvGrpSpPr>
        <p:grpSpPr>
          <a:xfrm>
            <a:off x="2666880" y="3386160"/>
            <a:ext cx="838080" cy="652320"/>
            <a:chOff x="2666880" y="3386160"/>
            <a:chExt cx="838080" cy="652320"/>
          </a:xfrm>
        </p:grpSpPr>
        <p:sp>
          <p:nvSpPr>
            <p:cNvPr id="655" name=""/>
            <p:cNvSpPr/>
            <p:nvPr/>
          </p:nvSpPr>
          <p:spPr>
            <a:xfrm>
              <a:off x="3200400" y="3429000"/>
              <a:ext cx="30456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66880" y="338616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3600360" y="1828800"/>
            <a:ext cx="762120" cy="990720"/>
            <a:chOff x="3600360" y="1828800"/>
            <a:chExt cx="762120" cy="990720"/>
          </a:xfrm>
        </p:grpSpPr>
        <p:sp>
          <p:nvSpPr>
            <p:cNvPr id="658" name=""/>
            <p:cNvSpPr/>
            <p:nvPr/>
          </p:nvSpPr>
          <p:spPr>
            <a:xfrm>
              <a:off x="3600360" y="220968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755880" y="18288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05280" y="2438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004920" y="4009320"/>
            <a:ext cx="1371960" cy="2206800"/>
            <a:chOff x="3004920" y="4009320"/>
            <a:chExt cx="1371960" cy="2206800"/>
          </a:xfrm>
        </p:grpSpPr>
        <p:grpSp>
          <p:nvGrpSpPr>
            <p:cNvPr id="662" name=""/>
            <p:cNvGrpSpPr/>
            <p:nvPr/>
          </p:nvGrpSpPr>
          <p:grpSpPr>
            <a:xfrm>
              <a:off x="3614760" y="4848120"/>
              <a:ext cx="762120" cy="1368000"/>
              <a:chOff x="3614760" y="4848120"/>
              <a:chExt cx="762120" cy="1368000"/>
            </a:xfrm>
          </p:grpSpPr>
          <p:sp>
            <p:nvSpPr>
              <p:cNvPr id="663" name=""/>
              <p:cNvSpPr/>
              <p:nvPr/>
            </p:nvSpPr>
            <p:spPr>
              <a:xfrm>
                <a:off x="3614760" y="4848120"/>
                <a:ext cx="762120" cy="91440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770280" y="577548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5" name=""/>
              <p:cNvGrpSpPr/>
              <p:nvPr/>
            </p:nvGrpSpPr>
            <p:grpSpPr>
              <a:xfrm>
                <a:off x="3919680" y="5038920"/>
                <a:ext cx="152280" cy="533160"/>
                <a:chOff x="3919680" y="5038920"/>
                <a:chExt cx="152280" cy="53316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919680" y="503892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3919680" y="54198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668" name=""/>
            <p:cNvCxnSpPr>
              <a:stCxn id="666" idx="1"/>
            </p:cNvCxnSpPr>
            <p:nvPr/>
          </p:nvCxnSpPr>
          <p:spPr>
            <a:xfrm flipH="1" flipV="1">
              <a:off x="3004920" y="4009320"/>
              <a:ext cx="937440" cy="105156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</p:grpSp>
      <p:cxnSp>
        <p:nvCxnSpPr>
          <p:cNvPr id="669" name=""/>
          <p:cNvCxnSpPr>
            <a:stCxn id="660" idx="2"/>
            <a:endCxn id="656" idx="0"/>
          </p:cNvCxnSpPr>
          <p:nvPr/>
        </p:nvCxnSpPr>
        <p:spPr>
          <a:xfrm flipH="1">
            <a:off x="3009240" y="2514240"/>
            <a:ext cx="896040" cy="8722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4724280" y="3352680"/>
            <a:ext cx="83844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4343400" y="4848120"/>
            <a:ext cx="762120" cy="1368000"/>
            <a:chOff x="4343400" y="4848120"/>
            <a:chExt cx="762120" cy="1368000"/>
          </a:xfrm>
        </p:grpSpPr>
        <p:sp>
          <p:nvSpPr>
            <p:cNvPr id="673" name=""/>
            <p:cNvSpPr/>
            <p:nvPr/>
          </p:nvSpPr>
          <p:spPr>
            <a:xfrm>
              <a:off x="4343400" y="4848120"/>
              <a:ext cx="762120" cy="91440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98920" y="5775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4648320" y="5038920"/>
              <a:ext cx="152280" cy="533160"/>
              <a:chOff x="4648320" y="5038920"/>
              <a:chExt cx="152280" cy="533160"/>
            </a:xfrm>
          </p:grpSpPr>
          <p:sp>
            <p:nvSpPr>
              <p:cNvPr id="676" name=""/>
              <p:cNvSpPr/>
              <p:nvPr/>
            </p:nvSpPr>
            <p:spPr>
              <a:xfrm>
                <a:off x="4648320" y="5038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648320" y="54198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7"/>
            <a:endCxn id="680" idx="2"/>
          </p:cNvCxnSpPr>
          <p:nvPr/>
        </p:nvCxnSpPr>
        <p:spPr>
          <a:xfrm flipV="1">
            <a:off x="3328920" y="2837880"/>
            <a:ext cx="889920" cy="641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681" name=""/>
          <p:cNvGrpSpPr/>
          <p:nvPr/>
        </p:nvGrpSpPr>
        <p:grpSpPr>
          <a:xfrm>
            <a:off x="3836880" y="1828800"/>
            <a:ext cx="762120" cy="990720"/>
            <a:chOff x="3836880" y="1828800"/>
            <a:chExt cx="762120" cy="990720"/>
          </a:xfrm>
        </p:grpSpPr>
        <p:sp>
          <p:nvSpPr>
            <p:cNvPr id="680" name=""/>
            <p:cNvSpPr/>
            <p:nvPr/>
          </p:nvSpPr>
          <p:spPr>
            <a:xfrm>
              <a:off x="3836880" y="220968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92400" y="18288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41800" y="2438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4" name=""/>
          <p:cNvCxnSpPr>
            <a:stCxn id="683" idx="6"/>
            <a:endCxn id="685" idx="1"/>
          </p:cNvCxnSpPr>
          <p:nvPr/>
        </p:nvCxnSpPr>
        <p:spPr>
          <a:xfrm>
            <a:off x="4293720" y="2514240"/>
            <a:ext cx="824760" cy="9658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76" idx="1"/>
            <a:endCxn id="685" idx="4"/>
          </p:cNvCxnSpPr>
          <p:nvPr/>
        </p:nvCxnSpPr>
        <p:spPr>
          <a:xfrm flipV="1">
            <a:off x="4669920" y="3999960"/>
            <a:ext cx="691560" cy="10609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687" name=""/>
          <p:cNvGrpSpPr/>
          <p:nvPr/>
        </p:nvGrpSpPr>
        <p:grpSpPr>
          <a:xfrm>
            <a:off x="2743200" y="3390840"/>
            <a:ext cx="936360" cy="614520"/>
            <a:chOff x="2743200" y="3390840"/>
            <a:chExt cx="936360" cy="614520"/>
          </a:xfrm>
        </p:grpSpPr>
        <p:sp>
          <p:nvSpPr>
            <p:cNvPr id="679" name=""/>
            <p:cNvSpPr/>
            <p:nvPr/>
          </p:nvSpPr>
          <p:spPr>
            <a:xfrm>
              <a:off x="2743200" y="339084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8" name=""/>
            <p:cNvGraphicFramePr/>
            <p:nvPr/>
          </p:nvGraphicFramePr>
          <p:xfrm>
            <a:off x="3298680" y="3630600"/>
            <a:ext cx="38088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98680" y="363060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0" name=""/>
          <p:cNvGrpSpPr/>
          <p:nvPr/>
        </p:nvGrpSpPr>
        <p:grpSpPr>
          <a:xfrm>
            <a:off x="5018040" y="3390840"/>
            <a:ext cx="925560" cy="609840"/>
            <a:chOff x="5018040" y="3390840"/>
            <a:chExt cx="925560" cy="609840"/>
          </a:xfrm>
        </p:grpSpPr>
        <p:sp>
          <p:nvSpPr>
            <p:cNvPr id="685" name=""/>
            <p:cNvSpPr/>
            <p:nvPr/>
          </p:nvSpPr>
          <p:spPr>
            <a:xfrm>
              <a:off x="5018040" y="339084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1" name=""/>
            <p:cNvGraphicFramePr/>
            <p:nvPr/>
          </p:nvGraphicFramePr>
          <p:xfrm>
            <a:off x="5562720" y="3624120"/>
            <a:ext cx="380880" cy="37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362412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93" name=""/>
          <p:cNvSpPr/>
          <p:nvPr/>
        </p:nvSpPr>
        <p:spPr>
          <a:xfrm>
            <a:off x="5867280" y="449568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77" idx="6"/>
            <a:endCxn id="693" idx="2"/>
          </p:cNvCxnSpPr>
          <p:nvPr/>
        </p:nvCxnSpPr>
        <p:spPr>
          <a:xfrm flipV="1">
            <a:off x="4800240" y="4800240"/>
            <a:ext cx="1067400" cy="6955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695" name=""/>
          <p:cNvGrpSpPr/>
          <p:nvPr/>
        </p:nvGrpSpPr>
        <p:grpSpPr>
          <a:xfrm>
            <a:off x="3124080" y="4848120"/>
            <a:ext cx="761760" cy="1072440"/>
            <a:chOff x="3124080" y="4848120"/>
            <a:chExt cx="761760" cy="1072440"/>
          </a:xfrm>
        </p:grpSpPr>
        <p:grpSp>
          <p:nvGrpSpPr>
            <p:cNvPr id="696" name=""/>
            <p:cNvGrpSpPr/>
            <p:nvPr/>
          </p:nvGrpSpPr>
          <p:grpSpPr>
            <a:xfrm>
              <a:off x="3124080" y="4848120"/>
              <a:ext cx="761760" cy="1072440"/>
              <a:chOff x="3124080" y="4848120"/>
              <a:chExt cx="761760" cy="1072440"/>
            </a:xfrm>
          </p:grpSpPr>
          <p:sp>
            <p:nvSpPr>
              <p:cNvPr id="697" name=""/>
              <p:cNvSpPr/>
              <p:nvPr/>
            </p:nvSpPr>
            <p:spPr>
              <a:xfrm>
                <a:off x="3124080" y="484812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279600" y="54799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3428640" y="507672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0" name=""/>
          <p:cNvCxnSpPr>
            <a:stCxn id="685" idx="3"/>
            <a:endCxn id="697" idx="0"/>
          </p:cNvCxnSpPr>
          <p:nvPr/>
        </p:nvCxnSpPr>
        <p:spPr>
          <a:xfrm flipH="1">
            <a:off x="3504960" y="3911760"/>
            <a:ext cx="1613520" cy="9180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99" idx="2"/>
            <a:endCxn id="679" idx="4"/>
          </p:cNvCxnSpPr>
          <p:nvPr/>
        </p:nvCxnSpPr>
        <p:spPr>
          <a:xfrm flipH="1" flipV="1">
            <a:off x="3085920" y="4000320"/>
            <a:ext cx="343440" cy="11527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702" name=""/>
          <p:cNvSpPr/>
          <p:nvPr/>
        </p:nvSpPr>
        <p:spPr>
          <a:xfrm>
            <a:off x="3581280" y="3162240"/>
            <a:ext cx="1371600" cy="1270080"/>
          </a:xfrm>
          <a:custGeom>
            <a:avLst/>
            <a:gdLst/>
            <a:ahLst/>
            <a:rect l="l" t="t" r="r" b="b"/>
            <a:pathLst>
              <a:path w="928" h="800">
                <a:moveTo>
                  <a:pt x="208" y="216"/>
                </a:moveTo>
                <a:cubicBezTo>
                  <a:pt x="264" y="132"/>
                  <a:pt x="320" y="48"/>
                  <a:pt x="400" y="24"/>
                </a:cubicBezTo>
                <a:cubicBezTo>
                  <a:pt x="480" y="0"/>
                  <a:pt x="608" y="8"/>
                  <a:pt x="688" y="72"/>
                </a:cubicBezTo>
                <a:cubicBezTo>
                  <a:pt x="768" y="136"/>
                  <a:pt x="928" y="304"/>
                  <a:pt x="880" y="408"/>
                </a:cubicBezTo>
                <a:cubicBezTo>
                  <a:pt x="832" y="512"/>
                  <a:pt x="536" y="632"/>
                  <a:pt x="400" y="696"/>
                </a:cubicBezTo>
                <a:cubicBezTo>
                  <a:pt x="264" y="760"/>
                  <a:pt x="128" y="800"/>
                  <a:pt x="64" y="792"/>
                </a:cubicBezTo>
                <a:cubicBezTo>
                  <a:pt x="0" y="784"/>
                  <a:pt x="0" y="736"/>
                  <a:pt x="16" y="648"/>
                </a:cubicBezTo>
                <a:cubicBezTo>
                  <a:pt x="32" y="560"/>
                  <a:pt x="96" y="412"/>
                  <a:pt x="160" y="264"/>
                </a:cubicBezTo>
              </a:path>
            </a:pathLst>
          </a:custGeom>
          <a:noFill/>
          <a:ln w="57240">
            <a:solidFill>
              <a:srgbClr val="ff95a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4876920" y="2362320"/>
            <a:ext cx="175248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7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c0128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eadlock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c0128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4" name=""/>
          <p:cNvSpPr/>
          <p:nvPr/>
        </p:nvSpPr>
        <p:spPr>
          <a:xfrm>
            <a:off x="5029200" y="1608120"/>
            <a:ext cx="137160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097" y="39538"/>
                </a:moveTo>
                <a:lnTo>
                  <a:pt x="-1200" y="6028"/>
                </a:lnTo>
              </a:path>
              <a:path w="21600" h="21600">
                <a:moveTo>
                  <a:pt x="-1200" y="0"/>
                </a:moveTo>
                <a:lnTo>
                  <a:pt x="-1200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1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371600" y="5562720"/>
            <a:ext cx="14479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392" y="-18717"/>
                </a:moveTo>
                <a:lnTo>
                  <a:pt x="22737" y="3456"/>
                </a:lnTo>
              </a:path>
              <a:path w="21600" h="21600">
                <a:moveTo>
                  <a:pt x="22737" y="0"/>
                </a:moveTo>
                <a:lnTo>
                  <a:pt x="22737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1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500"/>
                            </p:stCondLst>
                            <p:childTnLst>
                              <p:par>
                                <p:cTn id="1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1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225440" y="1914480"/>
            <a:ext cx="2467080" cy="1565280"/>
            <a:chOff x="1225440" y="1914480"/>
            <a:chExt cx="2467080" cy="1565280"/>
          </a:xfrm>
        </p:grpSpPr>
        <p:sp>
          <p:nvSpPr>
            <p:cNvPr id="89" name=""/>
            <p:cNvSpPr/>
            <p:nvPr/>
          </p:nvSpPr>
          <p:spPr>
            <a:xfrm>
              <a:off x="2851200" y="2046240"/>
              <a:ext cx="199800" cy="69840"/>
            </a:xfrm>
            <a:custGeom>
              <a:avLst/>
              <a:gdLst/>
              <a:ahLst/>
              <a:rect l="l" t="t" r="r" b="b"/>
              <a:pathLst>
                <a:path w="504" h="175">
                  <a:moveTo>
                    <a:pt x="0" y="175"/>
                  </a:moveTo>
                  <a:lnTo>
                    <a:pt x="504" y="175"/>
                  </a:lnTo>
                  <a:lnTo>
                    <a:pt x="504" y="110"/>
                  </a:lnTo>
                  <a:lnTo>
                    <a:pt x="501" y="102"/>
                  </a:lnTo>
                  <a:lnTo>
                    <a:pt x="494" y="90"/>
                  </a:lnTo>
                  <a:lnTo>
                    <a:pt x="485" y="81"/>
                  </a:lnTo>
                  <a:lnTo>
                    <a:pt x="476" y="68"/>
                  </a:lnTo>
                  <a:lnTo>
                    <a:pt x="464" y="62"/>
                  </a:lnTo>
                  <a:lnTo>
                    <a:pt x="446" y="53"/>
                  </a:lnTo>
                  <a:lnTo>
                    <a:pt x="430" y="45"/>
                  </a:lnTo>
                  <a:lnTo>
                    <a:pt x="413" y="36"/>
                  </a:lnTo>
                  <a:lnTo>
                    <a:pt x="390" y="28"/>
                  </a:lnTo>
                  <a:lnTo>
                    <a:pt x="373" y="20"/>
                  </a:lnTo>
                  <a:lnTo>
                    <a:pt x="350" y="16"/>
                  </a:lnTo>
                  <a:lnTo>
                    <a:pt x="330" y="8"/>
                  </a:lnTo>
                  <a:lnTo>
                    <a:pt x="311" y="3"/>
                  </a:lnTo>
                  <a:lnTo>
                    <a:pt x="289" y="0"/>
                  </a:lnTo>
                  <a:lnTo>
                    <a:pt x="272" y="0"/>
                  </a:lnTo>
                  <a:lnTo>
                    <a:pt x="256" y="0"/>
                  </a:lnTo>
                  <a:lnTo>
                    <a:pt x="238" y="0"/>
                  </a:lnTo>
                  <a:lnTo>
                    <a:pt x="221" y="0"/>
                  </a:lnTo>
                  <a:lnTo>
                    <a:pt x="198" y="3"/>
                  </a:lnTo>
                  <a:lnTo>
                    <a:pt x="177" y="11"/>
                  </a:lnTo>
                  <a:lnTo>
                    <a:pt x="156" y="16"/>
                  </a:lnTo>
                  <a:lnTo>
                    <a:pt x="135" y="23"/>
                  </a:lnTo>
                  <a:lnTo>
                    <a:pt x="112" y="28"/>
                  </a:lnTo>
                  <a:lnTo>
                    <a:pt x="96" y="36"/>
                  </a:lnTo>
                  <a:lnTo>
                    <a:pt x="73" y="45"/>
                  </a:lnTo>
                  <a:lnTo>
                    <a:pt x="55" y="57"/>
                  </a:lnTo>
                  <a:lnTo>
                    <a:pt x="40" y="65"/>
                  </a:lnTo>
                  <a:lnTo>
                    <a:pt x="28" y="73"/>
                  </a:lnTo>
                  <a:lnTo>
                    <a:pt x="16" y="81"/>
                  </a:lnTo>
                  <a:lnTo>
                    <a:pt x="7" y="93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25440" y="2577960"/>
              <a:ext cx="203400" cy="104760"/>
            </a:xfrm>
            <a:custGeom>
              <a:avLst/>
              <a:gdLst/>
              <a:ahLst/>
              <a:rect l="l" t="t" r="r" b="b"/>
              <a:pathLst>
                <a:path w="509" h="262">
                  <a:moveTo>
                    <a:pt x="509" y="0"/>
                  </a:moveTo>
                  <a:lnTo>
                    <a:pt x="142" y="133"/>
                  </a:lnTo>
                  <a:lnTo>
                    <a:pt x="128" y="137"/>
                  </a:lnTo>
                  <a:lnTo>
                    <a:pt x="118" y="142"/>
                  </a:lnTo>
                  <a:lnTo>
                    <a:pt x="107" y="145"/>
                  </a:lnTo>
                  <a:lnTo>
                    <a:pt x="97" y="154"/>
                  </a:lnTo>
                  <a:lnTo>
                    <a:pt x="88" y="158"/>
                  </a:lnTo>
                  <a:lnTo>
                    <a:pt x="79" y="167"/>
                  </a:lnTo>
                  <a:lnTo>
                    <a:pt x="73" y="170"/>
                  </a:lnTo>
                  <a:lnTo>
                    <a:pt x="67" y="176"/>
                  </a:lnTo>
                  <a:lnTo>
                    <a:pt x="57" y="188"/>
                  </a:lnTo>
                  <a:lnTo>
                    <a:pt x="45" y="195"/>
                  </a:lnTo>
                  <a:lnTo>
                    <a:pt x="36" y="207"/>
                  </a:lnTo>
                  <a:lnTo>
                    <a:pt x="23" y="220"/>
                  </a:lnTo>
                  <a:lnTo>
                    <a:pt x="17" y="232"/>
                  </a:lnTo>
                  <a:lnTo>
                    <a:pt x="9" y="242"/>
                  </a:lnTo>
                  <a:lnTo>
                    <a:pt x="2" y="253"/>
                  </a:lnTo>
                  <a:lnTo>
                    <a:pt x="0" y="262"/>
                  </a:lnTo>
                  <a:lnTo>
                    <a:pt x="307" y="190"/>
                  </a:lnTo>
                  <a:lnTo>
                    <a:pt x="442" y="6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25440" y="2654280"/>
              <a:ext cx="122400" cy="168120"/>
            </a:xfrm>
            <a:custGeom>
              <a:avLst/>
              <a:gdLst/>
              <a:ahLst/>
              <a:rect l="l" t="t" r="r" b="b"/>
              <a:pathLst>
                <a:path w="306" h="425">
                  <a:moveTo>
                    <a:pt x="306" y="0"/>
                  </a:moveTo>
                  <a:lnTo>
                    <a:pt x="306" y="404"/>
                  </a:lnTo>
                  <a:lnTo>
                    <a:pt x="0" y="425"/>
                  </a:lnTo>
                  <a:lnTo>
                    <a:pt x="0" y="72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25440" y="2814480"/>
              <a:ext cx="122400" cy="68400"/>
            </a:xfrm>
            <a:custGeom>
              <a:avLst/>
              <a:gdLst/>
              <a:ahLst/>
              <a:rect l="l" t="t" r="r" b="b"/>
              <a:pathLst>
                <a:path w="306" h="174">
                  <a:moveTo>
                    <a:pt x="306" y="0"/>
                  </a:moveTo>
                  <a:lnTo>
                    <a:pt x="0" y="26"/>
                  </a:lnTo>
                  <a:lnTo>
                    <a:pt x="0" y="174"/>
                  </a:lnTo>
                  <a:lnTo>
                    <a:pt x="306" y="164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25440" y="2879640"/>
              <a:ext cx="130320" cy="20880"/>
            </a:xfrm>
            <a:custGeom>
              <a:avLst/>
              <a:gdLst/>
              <a:ahLst/>
              <a:rect l="l" t="t" r="r" b="b"/>
              <a:pathLst>
                <a:path w="326" h="54">
                  <a:moveTo>
                    <a:pt x="326" y="54"/>
                  </a:moveTo>
                  <a:lnTo>
                    <a:pt x="311" y="0"/>
                  </a:lnTo>
                  <a:lnTo>
                    <a:pt x="0" y="9"/>
                  </a:lnTo>
                  <a:lnTo>
                    <a:pt x="3" y="22"/>
                  </a:lnTo>
                  <a:lnTo>
                    <a:pt x="6" y="34"/>
                  </a:lnTo>
                  <a:lnTo>
                    <a:pt x="12" y="42"/>
                  </a:lnTo>
                  <a:lnTo>
                    <a:pt x="21" y="47"/>
                  </a:lnTo>
                  <a:lnTo>
                    <a:pt x="326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49280" y="2570040"/>
              <a:ext cx="200160" cy="330480"/>
            </a:xfrm>
            <a:custGeom>
              <a:avLst/>
              <a:gdLst/>
              <a:ahLst/>
              <a:rect l="l" t="t" r="r" b="b"/>
              <a:pathLst>
                <a:path w="506" h="834">
                  <a:moveTo>
                    <a:pt x="15" y="834"/>
                  </a:moveTo>
                  <a:lnTo>
                    <a:pt x="9" y="830"/>
                  </a:lnTo>
                  <a:lnTo>
                    <a:pt x="2" y="822"/>
                  </a:lnTo>
                  <a:lnTo>
                    <a:pt x="0" y="805"/>
                  </a:lnTo>
                  <a:lnTo>
                    <a:pt x="0" y="779"/>
                  </a:lnTo>
                  <a:lnTo>
                    <a:pt x="0" y="614"/>
                  </a:lnTo>
                  <a:lnTo>
                    <a:pt x="0" y="211"/>
                  </a:lnTo>
                  <a:lnTo>
                    <a:pt x="0" y="188"/>
                  </a:lnTo>
                  <a:lnTo>
                    <a:pt x="7" y="163"/>
                  </a:lnTo>
                  <a:lnTo>
                    <a:pt x="15" y="141"/>
                  </a:lnTo>
                  <a:lnTo>
                    <a:pt x="30" y="120"/>
                  </a:lnTo>
                  <a:lnTo>
                    <a:pt x="46" y="103"/>
                  </a:lnTo>
                  <a:lnTo>
                    <a:pt x="63" y="88"/>
                  </a:lnTo>
                  <a:lnTo>
                    <a:pt x="82" y="71"/>
                  </a:lnTo>
                  <a:lnTo>
                    <a:pt x="103" y="57"/>
                  </a:lnTo>
                  <a:lnTo>
                    <a:pt x="128" y="46"/>
                  </a:lnTo>
                  <a:lnTo>
                    <a:pt x="148" y="37"/>
                  </a:lnTo>
                  <a:lnTo>
                    <a:pt x="173" y="28"/>
                  </a:lnTo>
                  <a:lnTo>
                    <a:pt x="198" y="20"/>
                  </a:lnTo>
                  <a:lnTo>
                    <a:pt x="222" y="12"/>
                  </a:lnTo>
                  <a:lnTo>
                    <a:pt x="247" y="8"/>
                  </a:lnTo>
                  <a:lnTo>
                    <a:pt x="268" y="3"/>
                  </a:lnTo>
                  <a:lnTo>
                    <a:pt x="290" y="0"/>
                  </a:lnTo>
                  <a:lnTo>
                    <a:pt x="305" y="0"/>
                  </a:lnTo>
                  <a:lnTo>
                    <a:pt x="319" y="0"/>
                  </a:lnTo>
                  <a:lnTo>
                    <a:pt x="335" y="0"/>
                  </a:lnTo>
                  <a:lnTo>
                    <a:pt x="353" y="3"/>
                  </a:lnTo>
                  <a:lnTo>
                    <a:pt x="372" y="8"/>
                  </a:lnTo>
                  <a:lnTo>
                    <a:pt x="391" y="16"/>
                  </a:lnTo>
                  <a:lnTo>
                    <a:pt x="409" y="25"/>
                  </a:lnTo>
                  <a:lnTo>
                    <a:pt x="424" y="34"/>
                  </a:lnTo>
                  <a:lnTo>
                    <a:pt x="443" y="43"/>
                  </a:lnTo>
                  <a:lnTo>
                    <a:pt x="457" y="54"/>
                  </a:lnTo>
                  <a:lnTo>
                    <a:pt x="469" y="66"/>
                  </a:lnTo>
                  <a:lnTo>
                    <a:pt x="482" y="79"/>
                  </a:lnTo>
                  <a:lnTo>
                    <a:pt x="493" y="96"/>
                  </a:lnTo>
                  <a:lnTo>
                    <a:pt x="499" y="111"/>
                  </a:lnTo>
                  <a:lnTo>
                    <a:pt x="504" y="128"/>
                  </a:lnTo>
                  <a:lnTo>
                    <a:pt x="506" y="145"/>
                  </a:lnTo>
                  <a:lnTo>
                    <a:pt x="506" y="834"/>
                  </a:lnTo>
                  <a:lnTo>
                    <a:pt x="15" y="8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60440" y="2484360"/>
              <a:ext cx="325440" cy="157320"/>
            </a:xfrm>
            <a:custGeom>
              <a:avLst/>
              <a:gdLst/>
              <a:ahLst/>
              <a:rect l="l" t="t" r="r" b="b"/>
              <a:pathLst>
                <a:path w="823" h="394">
                  <a:moveTo>
                    <a:pt x="823" y="0"/>
                  </a:moveTo>
                  <a:lnTo>
                    <a:pt x="185" y="228"/>
                  </a:lnTo>
                  <a:lnTo>
                    <a:pt x="171" y="233"/>
                  </a:lnTo>
                  <a:lnTo>
                    <a:pt x="152" y="241"/>
                  </a:lnTo>
                  <a:lnTo>
                    <a:pt x="140" y="249"/>
                  </a:lnTo>
                  <a:lnTo>
                    <a:pt x="127" y="253"/>
                  </a:lnTo>
                  <a:lnTo>
                    <a:pt x="115" y="261"/>
                  </a:lnTo>
                  <a:lnTo>
                    <a:pt x="107" y="269"/>
                  </a:lnTo>
                  <a:lnTo>
                    <a:pt x="97" y="273"/>
                  </a:lnTo>
                  <a:lnTo>
                    <a:pt x="88" y="281"/>
                  </a:lnTo>
                  <a:lnTo>
                    <a:pt x="75" y="294"/>
                  </a:lnTo>
                  <a:lnTo>
                    <a:pt x="61" y="312"/>
                  </a:lnTo>
                  <a:lnTo>
                    <a:pt x="45" y="324"/>
                  </a:lnTo>
                  <a:lnTo>
                    <a:pt x="33" y="341"/>
                  </a:lnTo>
                  <a:lnTo>
                    <a:pt x="21" y="357"/>
                  </a:lnTo>
                  <a:lnTo>
                    <a:pt x="12" y="369"/>
                  </a:lnTo>
                  <a:lnTo>
                    <a:pt x="6" y="381"/>
                  </a:lnTo>
                  <a:lnTo>
                    <a:pt x="0" y="394"/>
                  </a:lnTo>
                  <a:lnTo>
                    <a:pt x="563" y="253"/>
                  </a:lnTo>
                  <a:lnTo>
                    <a:pt x="738" y="73"/>
                  </a:lnTo>
                  <a:lnTo>
                    <a:pt x="8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60440" y="2584440"/>
              <a:ext cx="223920" cy="219240"/>
            </a:xfrm>
            <a:custGeom>
              <a:avLst/>
              <a:gdLst/>
              <a:ahLst/>
              <a:rect l="l" t="t" r="r" b="b"/>
              <a:pathLst>
                <a:path w="564" h="552">
                  <a:moveTo>
                    <a:pt x="564" y="0"/>
                  </a:moveTo>
                  <a:lnTo>
                    <a:pt x="564" y="528"/>
                  </a:lnTo>
                  <a:lnTo>
                    <a:pt x="0" y="552"/>
                  </a:lnTo>
                  <a:lnTo>
                    <a:pt x="0" y="142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60440" y="2793960"/>
              <a:ext cx="223920" cy="88920"/>
            </a:xfrm>
            <a:custGeom>
              <a:avLst/>
              <a:gdLst/>
              <a:ahLst/>
              <a:rect l="l" t="t" r="r" b="b"/>
              <a:pathLst>
                <a:path w="564" h="223">
                  <a:moveTo>
                    <a:pt x="564" y="0"/>
                  </a:moveTo>
                  <a:lnTo>
                    <a:pt x="0" y="30"/>
                  </a:lnTo>
                  <a:lnTo>
                    <a:pt x="0" y="223"/>
                  </a:lnTo>
                  <a:lnTo>
                    <a:pt x="564" y="209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60440" y="2878200"/>
              <a:ext cx="231840" cy="28440"/>
            </a:xfrm>
            <a:custGeom>
              <a:avLst/>
              <a:gdLst/>
              <a:ahLst/>
              <a:rect l="l" t="t" r="r" b="b"/>
              <a:pathLst>
                <a:path w="585" h="73">
                  <a:moveTo>
                    <a:pt x="585" y="73"/>
                  </a:moveTo>
                  <a:lnTo>
                    <a:pt x="563" y="0"/>
                  </a:lnTo>
                  <a:lnTo>
                    <a:pt x="0" y="12"/>
                  </a:lnTo>
                  <a:lnTo>
                    <a:pt x="3" y="28"/>
                  </a:lnTo>
                  <a:lnTo>
                    <a:pt x="9" y="45"/>
                  </a:lnTo>
                  <a:lnTo>
                    <a:pt x="19" y="53"/>
                  </a:lnTo>
                  <a:lnTo>
                    <a:pt x="28" y="57"/>
                  </a:lnTo>
                  <a:lnTo>
                    <a:pt x="58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84360" y="2475000"/>
              <a:ext cx="263520" cy="433440"/>
            </a:xfrm>
            <a:custGeom>
              <a:avLst/>
              <a:gdLst/>
              <a:ahLst/>
              <a:rect l="l" t="t" r="r" b="b"/>
              <a:pathLst>
                <a:path w="665" h="1092">
                  <a:moveTo>
                    <a:pt x="21" y="1092"/>
                  </a:moveTo>
                  <a:lnTo>
                    <a:pt x="12" y="1083"/>
                  </a:lnTo>
                  <a:lnTo>
                    <a:pt x="4" y="1071"/>
                  </a:lnTo>
                  <a:lnTo>
                    <a:pt x="0" y="1051"/>
                  </a:lnTo>
                  <a:lnTo>
                    <a:pt x="0" y="1018"/>
                  </a:lnTo>
                  <a:lnTo>
                    <a:pt x="0" y="806"/>
                  </a:lnTo>
                  <a:lnTo>
                    <a:pt x="0" y="279"/>
                  </a:lnTo>
                  <a:lnTo>
                    <a:pt x="4" y="241"/>
                  </a:lnTo>
                  <a:lnTo>
                    <a:pt x="10" y="213"/>
                  </a:lnTo>
                  <a:lnTo>
                    <a:pt x="21" y="184"/>
                  </a:lnTo>
                  <a:lnTo>
                    <a:pt x="40" y="153"/>
                  </a:lnTo>
                  <a:lnTo>
                    <a:pt x="59" y="133"/>
                  </a:lnTo>
                  <a:lnTo>
                    <a:pt x="82" y="113"/>
                  </a:lnTo>
                  <a:lnTo>
                    <a:pt x="110" y="91"/>
                  </a:lnTo>
                  <a:lnTo>
                    <a:pt x="137" y="76"/>
                  </a:lnTo>
                  <a:lnTo>
                    <a:pt x="168" y="59"/>
                  </a:lnTo>
                  <a:lnTo>
                    <a:pt x="198" y="46"/>
                  </a:lnTo>
                  <a:lnTo>
                    <a:pt x="232" y="34"/>
                  </a:lnTo>
                  <a:lnTo>
                    <a:pt x="263" y="26"/>
                  </a:lnTo>
                  <a:lnTo>
                    <a:pt x="294" y="17"/>
                  </a:lnTo>
                  <a:lnTo>
                    <a:pt x="327" y="8"/>
                  </a:lnTo>
                  <a:lnTo>
                    <a:pt x="354" y="5"/>
                  </a:lnTo>
                  <a:lnTo>
                    <a:pt x="382" y="0"/>
                  </a:lnTo>
                  <a:lnTo>
                    <a:pt x="400" y="0"/>
                  </a:lnTo>
                  <a:lnTo>
                    <a:pt x="421" y="0"/>
                  </a:lnTo>
                  <a:lnTo>
                    <a:pt x="442" y="0"/>
                  </a:lnTo>
                  <a:lnTo>
                    <a:pt x="464" y="5"/>
                  </a:lnTo>
                  <a:lnTo>
                    <a:pt x="488" y="14"/>
                  </a:lnTo>
                  <a:lnTo>
                    <a:pt x="512" y="22"/>
                  </a:lnTo>
                  <a:lnTo>
                    <a:pt x="534" y="31"/>
                  </a:lnTo>
                  <a:lnTo>
                    <a:pt x="559" y="43"/>
                  </a:lnTo>
                  <a:lnTo>
                    <a:pt x="580" y="55"/>
                  </a:lnTo>
                  <a:lnTo>
                    <a:pt x="600" y="71"/>
                  </a:lnTo>
                  <a:lnTo>
                    <a:pt x="619" y="88"/>
                  </a:lnTo>
                  <a:lnTo>
                    <a:pt x="634" y="104"/>
                  </a:lnTo>
                  <a:lnTo>
                    <a:pt x="647" y="121"/>
                  </a:lnTo>
                  <a:lnTo>
                    <a:pt x="656" y="142"/>
                  </a:lnTo>
                  <a:lnTo>
                    <a:pt x="661" y="167"/>
                  </a:lnTo>
                  <a:lnTo>
                    <a:pt x="665" y="188"/>
                  </a:lnTo>
                  <a:lnTo>
                    <a:pt x="665" y="1088"/>
                  </a:lnTo>
                  <a:lnTo>
                    <a:pt x="21" y="10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6960" y="2330280"/>
              <a:ext cx="539640" cy="238320"/>
            </a:xfrm>
            <a:custGeom>
              <a:avLst/>
              <a:gdLst/>
              <a:ahLst/>
              <a:rect l="l" t="t" r="r" b="b"/>
              <a:pathLst>
                <a:path w="1359" h="602">
                  <a:moveTo>
                    <a:pt x="1359" y="0"/>
                  </a:moveTo>
                  <a:lnTo>
                    <a:pt x="260" y="370"/>
                  </a:lnTo>
                  <a:lnTo>
                    <a:pt x="235" y="378"/>
                  </a:lnTo>
                  <a:lnTo>
                    <a:pt x="213" y="386"/>
                  </a:lnTo>
                  <a:lnTo>
                    <a:pt x="194" y="398"/>
                  </a:lnTo>
                  <a:lnTo>
                    <a:pt x="177" y="406"/>
                  </a:lnTo>
                  <a:lnTo>
                    <a:pt x="161" y="418"/>
                  </a:lnTo>
                  <a:lnTo>
                    <a:pt x="147" y="428"/>
                  </a:lnTo>
                  <a:lnTo>
                    <a:pt x="134" y="436"/>
                  </a:lnTo>
                  <a:lnTo>
                    <a:pt x="124" y="444"/>
                  </a:lnTo>
                  <a:lnTo>
                    <a:pt x="103" y="465"/>
                  </a:lnTo>
                  <a:lnTo>
                    <a:pt x="85" y="486"/>
                  </a:lnTo>
                  <a:lnTo>
                    <a:pt x="67" y="506"/>
                  </a:lnTo>
                  <a:lnTo>
                    <a:pt x="48" y="526"/>
                  </a:lnTo>
                  <a:lnTo>
                    <a:pt x="33" y="549"/>
                  </a:lnTo>
                  <a:lnTo>
                    <a:pt x="17" y="569"/>
                  </a:lnTo>
                  <a:lnTo>
                    <a:pt x="9" y="586"/>
                  </a:lnTo>
                  <a:lnTo>
                    <a:pt x="0" y="602"/>
                  </a:lnTo>
                  <a:lnTo>
                    <a:pt x="1000" y="348"/>
                  </a:lnTo>
                  <a:lnTo>
                    <a:pt x="1243" y="100"/>
                  </a:lnTo>
                  <a:lnTo>
                    <a:pt x="13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96960" y="2467080"/>
              <a:ext cx="397080" cy="322200"/>
            </a:xfrm>
            <a:custGeom>
              <a:avLst/>
              <a:gdLst/>
              <a:ahLst/>
              <a:rect l="l" t="t" r="r" b="b"/>
              <a:pathLst>
                <a:path w="1000" h="810">
                  <a:moveTo>
                    <a:pt x="1000" y="0"/>
                  </a:moveTo>
                  <a:lnTo>
                    <a:pt x="1000" y="731"/>
                  </a:lnTo>
                  <a:lnTo>
                    <a:pt x="0" y="810"/>
                  </a:lnTo>
                  <a:lnTo>
                    <a:pt x="0" y="255"/>
                  </a:lnTo>
                  <a:lnTo>
                    <a:pt x="10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96960" y="2757600"/>
              <a:ext cx="397080" cy="122040"/>
            </a:xfrm>
            <a:custGeom>
              <a:avLst/>
              <a:gdLst/>
              <a:ahLst/>
              <a:rect l="l" t="t" r="r" b="b"/>
              <a:pathLst>
                <a:path w="1000" h="305">
                  <a:moveTo>
                    <a:pt x="1000" y="0"/>
                  </a:moveTo>
                  <a:lnTo>
                    <a:pt x="0" y="79"/>
                  </a:lnTo>
                  <a:lnTo>
                    <a:pt x="0" y="305"/>
                  </a:lnTo>
                  <a:lnTo>
                    <a:pt x="1000" y="293"/>
                  </a:lnTo>
                  <a:lnTo>
                    <a:pt x="10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96960" y="2874960"/>
              <a:ext cx="409680" cy="41400"/>
            </a:xfrm>
            <a:custGeom>
              <a:avLst/>
              <a:gdLst/>
              <a:ahLst/>
              <a:rect l="l" t="t" r="r" b="b"/>
              <a:pathLst>
                <a:path w="1031" h="105">
                  <a:moveTo>
                    <a:pt x="1031" y="105"/>
                  </a:moveTo>
                  <a:lnTo>
                    <a:pt x="1001" y="0"/>
                  </a:lnTo>
                  <a:lnTo>
                    <a:pt x="0" y="13"/>
                  </a:lnTo>
                  <a:lnTo>
                    <a:pt x="3" y="27"/>
                  </a:lnTo>
                  <a:lnTo>
                    <a:pt x="7" y="38"/>
                  </a:lnTo>
                  <a:lnTo>
                    <a:pt x="10" y="51"/>
                  </a:lnTo>
                  <a:lnTo>
                    <a:pt x="16" y="60"/>
                  </a:lnTo>
                  <a:lnTo>
                    <a:pt x="22" y="66"/>
                  </a:lnTo>
                  <a:lnTo>
                    <a:pt x="28" y="70"/>
                  </a:lnTo>
                  <a:lnTo>
                    <a:pt x="33" y="74"/>
                  </a:lnTo>
                  <a:lnTo>
                    <a:pt x="40" y="80"/>
                  </a:lnTo>
                  <a:lnTo>
                    <a:pt x="1031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94040" y="2314440"/>
              <a:ext cx="365040" cy="601920"/>
            </a:xfrm>
            <a:custGeom>
              <a:avLst/>
              <a:gdLst/>
              <a:ahLst/>
              <a:rect l="l" t="t" r="r" b="b"/>
              <a:pathLst>
                <a:path w="920" h="1516">
                  <a:moveTo>
                    <a:pt x="29" y="1516"/>
                  </a:moveTo>
                  <a:lnTo>
                    <a:pt x="25" y="1511"/>
                  </a:lnTo>
                  <a:lnTo>
                    <a:pt x="19" y="1508"/>
                  </a:lnTo>
                  <a:lnTo>
                    <a:pt x="13" y="1499"/>
                  </a:lnTo>
                  <a:lnTo>
                    <a:pt x="6" y="1485"/>
                  </a:lnTo>
                  <a:lnTo>
                    <a:pt x="2" y="1473"/>
                  </a:lnTo>
                  <a:lnTo>
                    <a:pt x="0" y="1457"/>
                  </a:lnTo>
                  <a:lnTo>
                    <a:pt x="0" y="1436"/>
                  </a:lnTo>
                  <a:lnTo>
                    <a:pt x="0" y="1411"/>
                  </a:lnTo>
                  <a:lnTo>
                    <a:pt x="0" y="1116"/>
                  </a:lnTo>
                  <a:lnTo>
                    <a:pt x="0" y="385"/>
                  </a:lnTo>
                  <a:lnTo>
                    <a:pt x="2" y="336"/>
                  </a:lnTo>
                  <a:lnTo>
                    <a:pt x="15" y="294"/>
                  </a:lnTo>
                  <a:lnTo>
                    <a:pt x="29" y="253"/>
                  </a:lnTo>
                  <a:lnTo>
                    <a:pt x="54" y="216"/>
                  </a:lnTo>
                  <a:lnTo>
                    <a:pt x="82" y="183"/>
                  </a:lnTo>
                  <a:lnTo>
                    <a:pt x="115" y="153"/>
                  </a:lnTo>
                  <a:lnTo>
                    <a:pt x="152" y="129"/>
                  </a:lnTo>
                  <a:lnTo>
                    <a:pt x="192" y="104"/>
                  </a:lnTo>
                  <a:lnTo>
                    <a:pt x="231" y="83"/>
                  </a:lnTo>
                  <a:lnTo>
                    <a:pt x="278" y="63"/>
                  </a:lnTo>
                  <a:lnTo>
                    <a:pt x="319" y="49"/>
                  </a:lnTo>
                  <a:lnTo>
                    <a:pt x="363" y="32"/>
                  </a:lnTo>
                  <a:lnTo>
                    <a:pt x="408" y="20"/>
                  </a:lnTo>
                  <a:lnTo>
                    <a:pt x="449" y="12"/>
                  </a:lnTo>
                  <a:lnTo>
                    <a:pt x="490" y="9"/>
                  </a:lnTo>
                  <a:lnTo>
                    <a:pt x="527" y="0"/>
                  </a:lnTo>
                  <a:lnTo>
                    <a:pt x="555" y="0"/>
                  </a:lnTo>
                  <a:lnTo>
                    <a:pt x="582" y="0"/>
                  </a:lnTo>
                  <a:lnTo>
                    <a:pt x="613" y="4"/>
                  </a:lnTo>
                  <a:lnTo>
                    <a:pt x="642" y="9"/>
                  </a:lnTo>
                  <a:lnTo>
                    <a:pt x="676" y="17"/>
                  </a:lnTo>
                  <a:lnTo>
                    <a:pt x="710" y="29"/>
                  </a:lnTo>
                  <a:lnTo>
                    <a:pt x="741" y="41"/>
                  </a:lnTo>
                  <a:lnTo>
                    <a:pt x="774" y="58"/>
                  </a:lnTo>
                  <a:lnTo>
                    <a:pt x="805" y="79"/>
                  </a:lnTo>
                  <a:lnTo>
                    <a:pt x="833" y="100"/>
                  </a:lnTo>
                  <a:lnTo>
                    <a:pt x="857" y="120"/>
                  </a:lnTo>
                  <a:lnTo>
                    <a:pt x="878" y="145"/>
                  </a:lnTo>
                  <a:lnTo>
                    <a:pt x="897" y="171"/>
                  </a:lnTo>
                  <a:lnTo>
                    <a:pt x="907" y="200"/>
                  </a:lnTo>
                  <a:lnTo>
                    <a:pt x="918" y="228"/>
                  </a:lnTo>
                  <a:lnTo>
                    <a:pt x="920" y="262"/>
                  </a:lnTo>
                  <a:lnTo>
                    <a:pt x="920" y="1511"/>
                  </a:lnTo>
                  <a:lnTo>
                    <a:pt x="29" y="1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13240" y="3090960"/>
              <a:ext cx="153720" cy="166680"/>
            </a:xfrm>
            <a:custGeom>
              <a:avLst/>
              <a:gdLst/>
              <a:ahLst/>
              <a:rect l="l" t="t" r="r" b="b"/>
              <a:pathLst>
                <a:path w="388" h="421">
                  <a:moveTo>
                    <a:pt x="0" y="71"/>
                  </a:moveTo>
                  <a:lnTo>
                    <a:pt x="189" y="253"/>
                  </a:lnTo>
                  <a:lnTo>
                    <a:pt x="189" y="378"/>
                  </a:lnTo>
                  <a:lnTo>
                    <a:pt x="228" y="421"/>
                  </a:lnTo>
                  <a:lnTo>
                    <a:pt x="388" y="421"/>
                  </a:lnTo>
                  <a:lnTo>
                    <a:pt x="388" y="391"/>
                  </a:lnTo>
                  <a:lnTo>
                    <a:pt x="360" y="370"/>
                  </a:lnTo>
                  <a:lnTo>
                    <a:pt x="272" y="370"/>
                  </a:lnTo>
                  <a:lnTo>
                    <a:pt x="272" y="0"/>
                  </a:lnTo>
                  <a:lnTo>
                    <a:pt x="189" y="0"/>
                  </a:lnTo>
                  <a:lnTo>
                    <a:pt x="189" y="184"/>
                  </a:lnTo>
                  <a:lnTo>
                    <a:pt x="0" y="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65400" y="1914480"/>
              <a:ext cx="235080" cy="203400"/>
            </a:xfrm>
            <a:custGeom>
              <a:avLst/>
              <a:gdLst/>
              <a:ahLst/>
              <a:rect l="l" t="t" r="r" b="b"/>
              <a:pathLst>
                <a:path w="594" h="514">
                  <a:moveTo>
                    <a:pt x="294" y="514"/>
                  </a:moveTo>
                  <a:lnTo>
                    <a:pt x="594" y="514"/>
                  </a:lnTo>
                  <a:lnTo>
                    <a:pt x="571" y="497"/>
                  </a:lnTo>
                  <a:lnTo>
                    <a:pt x="551" y="477"/>
                  </a:lnTo>
                  <a:lnTo>
                    <a:pt x="530" y="456"/>
                  </a:lnTo>
                  <a:lnTo>
                    <a:pt x="511" y="440"/>
                  </a:lnTo>
                  <a:lnTo>
                    <a:pt x="496" y="415"/>
                  </a:lnTo>
                  <a:lnTo>
                    <a:pt x="483" y="389"/>
                  </a:lnTo>
                  <a:lnTo>
                    <a:pt x="477" y="361"/>
                  </a:lnTo>
                  <a:lnTo>
                    <a:pt x="475" y="336"/>
                  </a:lnTo>
                  <a:lnTo>
                    <a:pt x="475" y="171"/>
                  </a:lnTo>
                  <a:lnTo>
                    <a:pt x="475" y="161"/>
                  </a:lnTo>
                  <a:lnTo>
                    <a:pt x="481" y="153"/>
                  </a:lnTo>
                  <a:lnTo>
                    <a:pt x="488" y="148"/>
                  </a:lnTo>
                  <a:lnTo>
                    <a:pt x="496" y="141"/>
                  </a:lnTo>
                  <a:lnTo>
                    <a:pt x="502" y="136"/>
                  </a:lnTo>
                  <a:lnTo>
                    <a:pt x="508" y="133"/>
                  </a:lnTo>
                  <a:lnTo>
                    <a:pt x="514" y="124"/>
                  </a:lnTo>
                  <a:lnTo>
                    <a:pt x="514" y="116"/>
                  </a:lnTo>
                  <a:lnTo>
                    <a:pt x="514" y="108"/>
                  </a:lnTo>
                  <a:lnTo>
                    <a:pt x="511" y="99"/>
                  </a:lnTo>
                  <a:lnTo>
                    <a:pt x="505" y="95"/>
                  </a:lnTo>
                  <a:lnTo>
                    <a:pt x="502" y="91"/>
                  </a:lnTo>
                  <a:lnTo>
                    <a:pt x="496" y="87"/>
                  </a:lnTo>
                  <a:lnTo>
                    <a:pt x="490" y="83"/>
                  </a:lnTo>
                  <a:lnTo>
                    <a:pt x="483" y="79"/>
                  </a:lnTo>
                  <a:lnTo>
                    <a:pt x="477" y="71"/>
                  </a:lnTo>
                  <a:lnTo>
                    <a:pt x="475" y="57"/>
                  </a:lnTo>
                  <a:lnTo>
                    <a:pt x="469" y="48"/>
                  </a:lnTo>
                  <a:lnTo>
                    <a:pt x="463" y="40"/>
                  </a:lnTo>
                  <a:lnTo>
                    <a:pt x="452" y="34"/>
                  </a:lnTo>
                  <a:lnTo>
                    <a:pt x="444" y="25"/>
                  </a:lnTo>
                  <a:lnTo>
                    <a:pt x="432" y="20"/>
                  </a:lnTo>
                  <a:lnTo>
                    <a:pt x="423" y="16"/>
                  </a:lnTo>
                  <a:lnTo>
                    <a:pt x="408" y="11"/>
                  </a:lnTo>
                  <a:lnTo>
                    <a:pt x="395" y="8"/>
                  </a:lnTo>
                  <a:lnTo>
                    <a:pt x="383" y="8"/>
                  </a:lnTo>
                  <a:lnTo>
                    <a:pt x="368" y="3"/>
                  </a:lnTo>
                  <a:lnTo>
                    <a:pt x="353" y="3"/>
                  </a:lnTo>
                  <a:lnTo>
                    <a:pt x="337" y="3"/>
                  </a:lnTo>
                  <a:lnTo>
                    <a:pt x="325" y="3"/>
                  </a:lnTo>
                  <a:lnTo>
                    <a:pt x="310" y="0"/>
                  </a:lnTo>
                  <a:lnTo>
                    <a:pt x="298" y="0"/>
                  </a:lnTo>
                  <a:lnTo>
                    <a:pt x="284" y="0"/>
                  </a:lnTo>
                  <a:lnTo>
                    <a:pt x="267" y="3"/>
                  </a:lnTo>
                  <a:lnTo>
                    <a:pt x="255" y="3"/>
                  </a:lnTo>
                  <a:lnTo>
                    <a:pt x="240" y="3"/>
                  </a:lnTo>
                  <a:lnTo>
                    <a:pt x="225" y="3"/>
                  </a:lnTo>
                  <a:lnTo>
                    <a:pt x="210" y="8"/>
                  </a:lnTo>
                  <a:lnTo>
                    <a:pt x="198" y="8"/>
                  </a:lnTo>
                  <a:lnTo>
                    <a:pt x="185" y="11"/>
                  </a:lnTo>
                  <a:lnTo>
                    <a:pt x="171" y="16"/>
                  </a:lnTo>
                  <a:lnTo>
                    <a:pt x="160" y="20"/>
                  </a:lnTo>
                  <a:lnTo>
                    <a:pt x="148" y="25"/>
                  </a:lnTo>
                  <a:lnTo>
                    <a:pt x="140" y="34"/>
                  </a:lnTo>
                  <a:lnTo>
                    <a:pt x="130" y="40"/>
                  </a:lnTo>
                  <a:lnTo>
                    <a:pt x="124" y="48"/>
                  </a:lnTo>
                  <a:lnTo>
                    <a:pt x="119" y="57"/>
                  </a:lnTo>
                  <a:lnTo>
                    <a:pt x="115" y="71"/>
                  </a:lnTo>
                  <a:lnTo>
                    <a:pt x="109" y="79"/>
                  </a:lnTo>
                  <a:lnTo>
                    <a:pt x="102" y="83"/>
                  </a:lnTo>
                  <a:lnTo>
                    <a:pt x="96" y="87"/>
                  </a:lnTo>
                  <a:lnTo>
                    <a:pt x="90" y="91"/>
                  </a:lnTo>
                  <a:lnTo>
                    <a:pt x="88" y="95"/>
                  </a:lnTo>
                  <a:lnTo>
                    <a:pt x="82" y="99"/>
                  </a:lnTo>
                  <a:lnTo>
                    <a:pt x="79" y="108"/>
                  </a:lnTo>
                  <a:lnTo>
                    <a:pt x="79" y="116"/>
                  </a:lnTo>
                  <a:lnTo>
                    <a:pt x="79" y="124"/>
                  </a:lnTo>
                  <a:lnTo>
                    <a:pt x="85" y="133"/>
                  </a:lnTo>
                  <a:lnTo>
                    <a:pt x="90" y="136"/>
                  </a:lnTo>
                  <a:lnTo>
                    <a:pt x="100" y="141"/>
                  </a:lnTo>
                  <a:lnTo>
                    <a:pt x="105" y="148"/>
                  </a:lnTo>
                  <a:lnTo>
                    <a:pt x="113" y="153"/>
                  </a:lnTo>
                  <a:lnTo>
                    <a:pt x="119" y="161"/>
                  </a:lnTo>
                  <a:lnTo>
                    <a:pt x="119" y="171"/>
                  </a:lnTo>
                  <a:lnTo>
                    <a:pt x="119" y="336"/>
                  </a:lnTo>
                  <a:lnTo>
                    <a:pt x="115" y="361"/>
                  </a:lnTo>
                  <a:lnTo>
                    <a:pt x="109" y="389"/>
                  </a:lnTo>
                  <a:lnTo>
                    <a:pt x="96" y="415"/>
                  </a:lnTo>
                  <a:lnTo>
                    <a:pt x="82" y="440"/>
                  </a:lnTo>
                  <a:lnTo>
                    <a:pt x="63" y="456"/>
                  </a:lnTo>
                  <a:lnTo>
                    <a:pt x="41" y="477"/>
                  </a:lnTo>
                  <a:lnTo>
                    <a:pt x="21" y="497"/>
                  </a:lnTo>
                  <a:lnTo>
                    <a:pt x="0" y="514"/>
                  </a:lnTo>
                  <a:lnTo>
                    <a:pt x="294" y="5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31920" y="2670120"/>
              <a:ext cx="2316240" cy="809640"/>
            </a:xfrm>
            <a:custGeom>
              <a:avLst/>
              <a:gdLst/>
              <a:ahLst/>
              <a:rect l="l" t="t" r="r" b="b"/>
              <a:pathLst>
                <a:path w="5838" h="2041">
                  <a:moveTo>
                    <a:pt x="0" y="564"/>
                  </a:moveTo>
                  <a:lnTo>
                    <a:pt x="1951" y="619"/>
                  </a:lnTo>
                  <a:lnTo>
                    <a:pt x="2115" y="478"/>
                  </a:lnTo>
                  <a:lnTo>
                    <a:pt x="2707" y="489"/>
                  </a:lnTo>
                  <a:lnTo>
                    <a:pt x="2926" y="33"/>
                  </a:lnTo>
                  <a:lnTo>
                    <a:pt x="5391" y="0"/>
                  </a:lnTo>
                  <a:lnTo>
                    <a:pt x="5838" y="0"/>
                  </a:lnTo>
                  <a:lnTo>
                    <a:pt x="5838" y="1074"/>
                  </a:lnTo>
                  <a:lnTo>
                    <a:pt x="5759" y="1074"/>
                  </a:lnTo>
                  <a:lnTo>
                    <a:pt x="5775" y="1104"/>
                  </a:lnTo>
                  <a:lnTo>
                    <a:pt x="5790" y="1145"/>
                  </a:lnTo>
                  <a:lnTo>
                    <a:pt x="5804" y="1200"/>
                  </a:lnTo>
                  <a:lnTo>
                    <a:pt x="5814" y="1257"/>
                  </a:lnTo>
                  <a:lnTo>
                    <a:pt x="5823" y="1324"/>
                  </a:lnTo>
                  <a:lnTo>
                    <a:pt x="5829" y="1395"/>
                  </a:lnTo>
                  <a:lnTo>
                    <a:pt x="5832" y="1469"/>
                  </a:lnTo>
                  <a:lnTo>
                    <a:pt x="5832" y="1543"/>
                  </a:lnTo>
                  <a:lnTo>
                    <a:pt x="5829" y="1614"/>
                  </a:lnTo>
                  <a:lnTo>
                    <a:pt x="5823" y="1686"/>
                  </a:lnTo>
                  <a:lnTo>
                    <a:pt x="5814" y="1751"/>
                  </a:lnTo>
                  <a:lnTo>
                    <a:pt x="5802" y="1810"/>
                  </a:lnTo>
                  <a:lnTo>
                    <a:pt x="5783" y="1859"/>
                  </a:lnTo>
                  <a:lnTo>
                    <a:pt x="5765" y="1901"/>
                  </a:lnTo>
                  <a:lnTo>
                    <a:pt x="5741" y="1927"/>
                  </a:lnTo>
                  <a:lnTo>
                    <a:pt x="5713" y="1939"/>
                  </a:lnTo>
                  <a:lnTo>
                    <a:pt x="5664" y="2029"/>
                  </a:lnTo>
                  <a:lnTo>
                    <a:pt x="5027" y="2041"/>
                  </a:lnTo>
                  <a:lnTo>
                    <a:pt x="4681" y="1996"/>
                  </a:lnTo>
                  <a:lnTo>
                    <a:pt x="42" y="847"/>
                  </a:lnTo>
                  <a:lnTo>
                    <a:pt x="27" y="839"/>
                  </a:lnTo>
                  <a:lnTo>
                    <a:pt x="18" y="813"/>
                  </a:lnTo>
                  <a:lnTo>
                    <a:pt x="12" y="784"/>
                  </a:lnTo>
                  <a:lnTo>
                    <a:pt x="8" y="751"/>
                  </a:lnTo>
                  <a:lnTo>
                    <a:pt x="8" y="719"/>
                  </a:lnTo>
                  <a:lnTo>
                    <a:pt x="12" y="688"/>
                  </a:lnTo>
                  <a:lnTo>
                    <a:pt x="14" y="668"/>
                  </a:lnTo>
                  <a:lnTo>
                    <a:pt x="18" y="656"/>
                  </a:lnTo>
                  <a:lnTo>
                    <a:pt x="0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8080" y="2135160"/>
              <a:ext cx="385920" cy="208080"/>
            </a:xfrm>
            <a:custGeom>
              <a:avLst/>
              <a:gdLst/>
              <a:ahLst/>
              <a:rect l="l" t="t" r="r" b="b"/>
              <a:pathLst>
                <a:path w="974" h="521">
                  <a:moveTo>
                    <a:pt x="0" y="521"/>
                  </a:moveTo>
                  <a:lnTo>
                    <a:pt x="303" y="444"/>
                  </a:lnTo>
                  <a:lnTo>
                    <a:pt x="321" y="430"/>
                  </a:lnTo>
                  <a:lnTo>
                    <a:pt x="342" y="419"/>
                  </a:lnTo>
                  <a:lnTo>
                    <a:pt x="363" y="401"/>
                  </a:lnTo>
                  <a:lnTo>
                    <a:pt x="381" y="389"/>
                  </a:lnTo>
                  <a:lnTo>
                    <a:pt x="403" y="376"/>
                  </a:lnTo>
                  <a:lnTo>
                    <a:pt x="425" y="361"/>
                  </a:lnTo>
                  <a:lnTo>
                    <a:pt x="447" y="348"/>
                  </a:lnTo>
                  <a:lnTo>
                    <a:pt x="467" y="331"/>
                  </a:lnTo>
                  <a:lnTo>
                    <a:pt x="488" y="319"/>
                  </a:lnTo>
                  <a:lnTo>
                    <a:pt x="511" y="307"/>
                  </a:lnTo>
                  <a:lnTo>
                    <a:pt x="532" y="293"/>
                  </a:lnTo>
                  <a:lnTo>
                    <a:pt x="552" y="277"/>
                  </a:lnTo>
                  <a:lnTo>
                    <a:pt x="574" y="265"/>
                  </a:lnTo>
                  <a:lnTo>
                    <a:pt x="595" y="253"/>
                  </a:lnTo>
                  <a:lnTo>
                    <a:pt x="616" y="236"/>
                  </a:lnTo>
                  <a:lnTo>
                    <a:pt x="638" y="223"/>
                  </a:lnTo>
                  <a:lnTo>
                    <a:pt x="659" y="211"/>
                  </a:lnTo>
                  <a:lnTo>
                    <a:pt x="681" y="195"/>
                  </a:lnTo>
                  <a:lnTo>
                    <a:pt x="702" y="183"/>
                  </a:lnTo>
                  <a:lnTo>
                    <a:pt x="723" y="169"/>
                  </a:lnTo>
                  <a:lnTo>
                    <a:pt x="745" y="154"/>
                  </a:lnTo>
                  <a:lnTo>
                    <a:pt x="766" y="140"/>
                  </a:lnTo>
                  <a:lnTo>
                    <a:pt x="788" y="123"/>
                  </a:lnTo>
                  <a:lnTo>
                    <a:pt x="809" y="112"/>
                  </a:lnTo>
                  <a:lnTo>
                    <a:pt x="830" y="100"/>
                  </a:lnTo>
                  <a:lnTo>
                    <a:pt x="852" y="83"/>
                  </a:lnTo>
                  <a:lnTo>
                    <a:pt x="873" y="69"/>
                  </a:lnTo>
                  <a:lnTo>
                    <a:pt x="891" y="58"/>
                  </a:lnTo>
                  <a:lnTo>
                    <a:pt x="913" y="40"/>
                  </a:lnTo>
                  <a:lnTo>
                    <a:pt x="934" y="28"/>
                  </a:lnTo>
                  <a:lnTo>
                    <a:pt x="955" y="15"/>
                  </a:lnTo>
                  <a:lnTo>
                    <a:pt x="974" y="0"/>
                  </a:lnTo>
                  <a:lnTo>
                    <a:pt x="947" y="0"/>
                  </a:lnTo>
                  <a:lnTo>
                    <a:pt x="918" y="3"/>
                  </a:lnTo>
                  <a:lnTo>
                    <a:pt x="888" y="3"/>
                  </a:lnTo>
                  <a:lnTo>
                    <a:pt x="858" y="7"/>
                  </a:lnTo>
                  <a:lnTo>
                    <a:pt x="824" y="7"/>
                  </a:lnTo>
                  <a:lnTo>
                    <a:pt x="790" y="12"/>
                  </a:lnTo>
                  <a:lnTo>
                    <a:pt x="757" y="15"/>
                  </a:lnTo>
                  <a:lnTo>
                    <a:pt x="723" y="20"/>
                  </a:lnTo>
                  <a:lnTo>
                    <a:pt x="687" y="28"/>
                  </a:lnTo>
                  <a:lnTo>
                    <a:pt x="653" y="38"/>
                  </a:lnTo>
                  <a:lnTo>
                    <a:pt x="616" y="46"/>
                  </a:lnTo>
                  <a:lnTo>
                    <a:pt x="583" y="52"/>
                  </a:lnTo>
                  <a:lnTo>
                    <a:pt x="546" y="66"/>
                  </a:lnTo>
                  <a:lnTo>
                    <a:pt x="511" y="75"/>
                  </a:lnTo>
                  <a:lnTo>
                    <a:pt x="476" y="87"/>
                  </a:lnTo>
                  <a:lnTo>
                    <a:pt x="439" y="103"/>
                  </a:lnTo>
                  <a:lnTo>
                    <a:pt x="406" y="115"/>
                  </a:lnTo>
                  <a:lnTo>
                    <a:pt x="369" y="132"/>
                  </a:lnTo>
                  <a:lnTo>
                    <a:pt x="336" y="154"/>
                  </a:lnTo>
                  <a:lnTo>
                    <a:pt x="306" y="169"/>
                  </a:lnTo>
                  <a:lnTo>
                    <a:pt x="273" y="191"/>
                  </a:lnTo>
                  <a:lnTo>
                    <a:pt x="242" y="211"/>
                  </a:lnTo>
                  <a:lnTo>
                    <a:pt x="211" y="236"/>
                  </a:lnTo>
                  <a:lnTo>
                    <a:pt x="180" y="261"/>
                  </a:lnTo>
                  <a:lnTo>
                    <a:pt x="153" y="285"/>
                  </a:lnTo>
                  <a:lnTo>
                    <a:pt x="126" y="319"/>
                  </a:lnTo>
                  <a:lnTo>
                    <a:pt x="102" y="348"/>
                  </a:lnTo>
                  <a:lnTo>
                    <a:pt x="77" y="376"/>
                  </a:lnTo>
                  <a:lnTo>
                    <a:pt x="56" y="416"/>
                  </a:lnTo>
                  <a:lnTo>
                    <a:pt x="33" y="448"/>
                  </a:lnTo>
                  <a:lnTo>
                    <a:pt x="19" y="484"/>
                  </a:lnTo>
                  <a:lnTo>
                    <a:pt x="0" y="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92200" y="2136600"/>
              <a:ext cx="466920" cy="606600"/>
            </a:xfrm>
            <a:custGeom>
              <a:avLst/>
              <a:gdLst/>
              <a:ahLst/>
              <a:rect l="l" t="t" r="r" b="b"/>
              <a:pathLst>
                <a:path w="1174" h="1530">
                  <a:moveTo>
                    <a:pt x="1174" y="364"/>
                  </a:moveTo>
                  <a:lnTo>
                    <a:pt x="1168" y="318"/>
                  </a:lnTo>
                  <a:lnTo>
                    <a:pt x="1159" y="277"/>
                  </a:lnTo>
                  <a:lnTo>
                    <a:pt x="1140" y="239"/>
                  </a:lnTo>
                  <a:lnTo>
                    <a:pt x="1115" y="198"/>
                  </a:lnTo>
                  <a:lnTo>
                    <a:pt x="1088" y="165"/>
                  </a:lnTo>
                  <a:lnTo>
                    <a:pt x="1055" y="137"/>
                  </a:lnTo>
                  <a:lnTo>
                    <a:pt x="1019" y="106"/>
                  </a:lnTo>
                  <a:lnTo>
                    <a:pt x="982" y="82"/>
                  </a:lnTo>
                  <a:lnTo>
                    <a:pt x="940" y="61"/>
                  </a:lnTo>
                  <a:lnTo>
                    <a:pt x="897" y="40"/>
                  </a:lnTo>
                  <a:lnTo>
                    <a:pt x="854" y="23"/>
                  </a:lnTo>
                  <a:lnTo>
                    <a:pt x="811" y="11"/>
                  </a:lnTo>
                  <a:lnTo>
                    <a:pt x="765" y="2"/>
                  </a:lnTo>
                  <a:lnTo>
                    <a:pt x="726" y="0"/>
                  </a:lnTo>
                  <a:lnTo>
                    <a:pt x="685" y="0"/>
                  </a:lnTo>
                  <a:lnTo>
                    <a:pt x="650" y="0"/>
                  </a:lnTo>
                  <a:lnTo>
                    <a:pt x="627" y="2"/>
                  </a:lnTo>
                  <a:lnTo>
                    <a:pt x="605" y="6"/>
                  </a:lnTo>
                  <a:lnTo>
                    <a:pt x="580" y="11"/>
                  </a:lnTo>
                  <a:lnTo>
                    <a:pt x="552" y="14"/>
                  </a:lnTo>
                  <a:lnTo>
                    <a:pt x="527" y="20"/>
                  </a:lnTo>
                  <a:lnTo>
                    <a:pt x="500" y="29"/>
                  </a:lnTo>
                  <a:lnTo>
                    <a:pt x="475" y="37"/>
                  </a:lnTo>
                  <a:lnTo>
                    <a:pt x="448" y="45"/>
                  </a:lnTo>
                  <a:lnTo>
                    <a:pt x="420" y="52"/>
                  </a:lnTo>
                  <a:lnTo>
                    <a:pt x="393" y="61"/>
                  </a:lnTo>
                  <a:lnTo>
                    <a:pt x="366" y="69"/>
                  </a:lnTo>
                  <a:lnTo>
                    <a:pt x="339" y="82"/>
                  </a:lnTo>
                  <a:lnTo>
                    <a:pt x="315" y="94"/>
                  </a:lnTo>
                  <a:lnTo>
                    <a:pt x="287" y="106"/>
                  </a:lnTo>
                  <a:lnTo>
                    <a:pt x="260" y="119"/>
                  </a:lnTo>
                  <a:lnTo>
                    <a:pt x="235" y="137"/>
                  </a:lnTo>
                  <a:lnTo>
                    <a:pt x="210" y="149"/>
                  </a:lnTo>
                  <a:lnTo>
                    <a:pt x="189" y="165"/>
                  </a:lnTo>
                  <a:lnTo>
                    <a:pt x="164" y="182"/>
                  </a:lnTo>
                  <a:lnTo>
                    <a:pt x="144" y="198"/>
                  </a:lnTo>
                  <a:lnTo>
                    <a:pt x="122" y="219"/>
                  </a:lnTo>
                  <a:lnTo>
                    <a:pt x="103" y="239"/>
                  </a:lnTo>
                  <a:lnTo>
                    <a:pt x="85" y="261"/>
                  </a:lnTo>
                  <a:lnTo>
                    <a:pt x="66" y="282"/>
                  </a:lnTo>
                  <a:lnTo>
                    <a:pt x="56" y="302"/>
                  </a:lnTo>
                  <a:lnTo>
                    <a:pt x="39" y="327"/>
                  </a:lnTo>
                  <a:lnTo>
                    <a:pt x="27" y="352"/>
                  </a:lnTo>
                  <a:lnTo>
                    <a:pt x="18" y="375"/>
                  </a:lnTo>
                  <a:lnTo>
                    <a:pt x="12" y="406"/>
                  </a:lnTo>
                  <a:lnTo>
                    <a:pt x="6" y="430"/>
                  </a:lnTo>
                  <a:lnTo>
                    <a:pt x="0" y="463"/>
                  </a:lnTo>
                  <a:lnTo>
                    <a:pt x="0" y="492"/>
                  </a:lnTo>
                  <a:lnTo>
                    <a:pt x="0" y="1530"/>
                  </a:lnTo>
                  <a:lnTo>
                    <a:pt x="1162" y="1530"/>
                  </a:lnTo>
                  <a:lnTo>
                    <a:pt x="1174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71760" y="2065320"/>
              <a:ext cx="792000" cy="681120"/>
            </a:xfrm>
            <a:custGeom>
              <a:avLst/>
              <a:gdLst/>
              <a:ahLst/>
              <a:rect l="l" t="t" r="r" b="b"/>
              <a:pathLst>
                <a:path w="1993" h="1715">
                  <a:moveTo>
                    <a:pt x="1960" y="0"/>
                  </a:moveTo>
                  <a:lnTo>
                    <a:pt x="418" y="444"/>
                  </a:lnTo>
                  <a:lnTo>
                    <a:pt x="378" y="461"/>
                  </a:lnTo>
                  <a:lnTo>
                    <a:pt x="340" y="478"/>
                  </a:lnTo>
                  <a:lnTo>
                    <a:pt x="301" y="504"/>
                  </a:lnTo>
                  <a:lnTo>
                    <a:pt x="264" y="532"/>
                  </a:lnTo>
                  <a:lnTo>
                    <a:pt x="229" y="565"/>
                  </a:lnTo>
                  <a:lnTo>
                    <a:pt x="194" y="603"/>
                  </a:lnTo>
                  <a:lnTo>
                    <a:pt x="161" y="640"/>
                  </a:lnTo>
                  <a:lnTo>
                    <a:pt x="130" y="685"/>
                  </a:lnTo>
                  <a:lnTo>
                    <a:pt x="103" y="731"/>
                  </a:lnTo>
                  <a:lnTo>
                    <a:pt x="76" y="777"/>
                  </a:lnTo>
                  <a:lnTo>
                    <a:pt x="55" y="830"/>
                  </a:lnTo>
                  <a:lnTo>
                    <a:pt x="36" y="881"/>
                  </a:lnTo>
                  <a:lnTo>
                    <a:pt x="22" y="935"/>
                  </a:lnTo>
                  <a:lnTo>
                    <a:pt x="9" y="990"/>
                  </a:lnTo>
                  <a:lnTo>
                    <a:pt x="0" y="1043"/>
                  </a:lnTo>
                  <a:lnTo>
                    <a:pt x="0" y="1098"/>
                  </a:lnTo>
                  <a:lnTo>
                    <a:pt x="0" y="1146"/>
                  </a:lnTo>
                  <a:lnTo>
                    <a:pt x="5" y="1200"/>
                  </a:lnTo>
                  <a:lnTo>
                    <a:pt x="11" y="1254"/>
                  </a:lnTo>
                  <a:lnTo>
                    <a:pt x="24" y="1304"/>
                  </a:lnTo>
                  <a:lnTo>
                    <a:pt x="36" y="1359"/>
                  </a:lnTo>
                  <a:lnTo>
                    <a:pt x="52" y="1412"/>
                  </a:lnTo>
                  <a:lnTo>
                    <a:pt x="70" y="1462"/>
                  </a:lnTo>
                  <a:lnTo>
                    <a:pt x="91" y="1507"/>
                  </a:lnTo>
                  <a:lnTo>
                    <a:pt x="112" y="1549"/>
                  </a:lnTo>
                  <a:lnTo>
                    <a:pt x="136" y="1589"/>
                  </a:lnTo>
                  <a:lnTo>
                    <a:pt x="163" y="1624"/>
                  </a:lnTo>
                  <a:lnTo>
                    <a:pt x="188" y="1657"/>
                  </a:lnTo>
                  <a:lnTo>
                    <a:pt x="219" y="1683"/>
                  </a:lnTo>
                  <a:lnTo>
                    <a:pt x="249" y="1697"/>
                  </a:lnTo>
                  <a:lnTo>
                    <a:pt x="280" y="1712"/>
                  </a:lnTo>
                  <a:lnTo>
                    <a:pt x="314" y="1715"/>
                  </a:lnTo>
                  <a:lnTo>
                    <a:pt x="1993" y="1683"/>
                  </a:lnTo>
                  <a:lnTo>
                    <a:pt x="19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16080" y="2065320"/>
              <a:ext cx="482760" cy="665280"/>
            </a:xfrm>
            <a:custGeom>
              <a:avLst/>
              <a:gdLst/>
              <a:ahLst/>
              <a:rect l="l" t="t" r="r" b="b"/>
              <a:pathLst>
                <a:path w="1219" h="1675">
                  <a:moveTo>
                    <a:pt x="609" y="0"/>
                  </a:moveTo>
                  <a:lnTo>
                    <a:pt x="670" y="6"/>
                  </a:lnTo>
                  <a:lnTo>
                    <a:pt x="732" y="18"/>
                  </a:lnTo>
                  <a:lnTo>
                    <a:pt x="789" y="38"/>
                  </a:lnTo>
                  <a:lnTo>
                    <a:pt x="847" y="68"/>
                  </a:lnTo>
                  <a:lnTo>
                    <a:pt x="899" y="100"/>
                  </a:lnTo>
                  <a:lnTo>
                    <a:pt x="948" y="146"/>
                  </a:lnTo>
                  <a:lnTo>
                    <a:pt x="997" y="191"/>
                  </a:lnTo>
                  <a:lnTo>
                    <a:pt x="1039" y="245"/>
                  </a:lnTo>
                  <a:lnTo>
                    <a:pt x="1079" y="304"/>
                  </a:lnTo>
                  <a:lnTo>
                    <a:pt x="1112" y="370"/>
                  </a:lnTo>
                  <a:lnTo>
                    <a:pt x="1145" y="441"/>
                  </a:lnTo>
                  <a:lnTo>
                    <a:pt x="1170" y="512"/>
                  </a:lnTo>
                  <a:lnTo>
                    <a:pt x="1192" y="591"/>
                  </a:lnTo>
                  <a:lnTo>
                    <a:pt x="1208" y="669"/>
                  </a:lnTo>
                  <a:lnTo>
                    <a:pt x="1216" y="752"/>
                  </a:lnTo>
                  <a:lnTo>
                    <a:pt x="1219" y="836"/>
                  </a:lnTo>
                  <a:lnTo>
                    <a:pt x="1216" y="922"/>
                  </a:lnTo>
                  <a:lnTo>
                    <a:pt x="1208" y="1006"/>
                  </a:lnTo>
                  <a:lnTo>
                    <a:pt x="1192" y="1083"/>
                  </a:lnTo>
                  <a:lnTo>
                    <a:pt x="1170" y="1163"/>
                  </a:lnTo>
                  <a:lnTo>
                    <a:pt x="1145" y="1234"/>
                  </a:lnTo>
                  <a:lnTo>
                    <a:pt x="1112" y="1304"/>
                  </a:lnTo>
                  <a:lnTo>
                    <a:pt x="1079" y="1367"/>
                  </a:lnTo>
                  <a:lnTo>
                    <a:pt x="1039" y="1428"/>
                  </a:lnTo>
                  <a:lnTo>
                    <a:pt x="997" y="1482"/>
                  </a:lnTo>
                  <a:lnTo>
                    <a:pt x="948" y="1527"/>
                  </a:lnTo>
                  <a:lnTo>
                    <a:pt x="899" y="1569"/>
                  </a:lnTo>
                  <a:lnTo>
                    <a:pt x="847" y="1607"/>
                  </a:lnTo>
                  <a:lnTo>
                    <a:pt x="789" y="1636"/>
                  </a:lnTo>
                  <a:lnTo>
                    <a:pt x="732" y="1657"/>
                  </a:lnTo>
                  <a:lnTo>
                    <a:pt x="670" y="1669"/>
                  </a:lnTo>
                  <a:lnTo>
                    <a:pt x="609" y="1675"/>
                  </a:lnTo>
                  <a:lnTo>
                    <a:pt x="545" y="1669"/>
                  </a:lnTo>
                  <a:lnTo>
                    <a:pt x="485" y="1657"/>
                  </a:lnTo>
                  <a:lnTo>
                    <a:pt x="426" y="1636"/>
                  </a:lnTo>
                  <a:lnTo>
                    <a:pt x="372" y="1607"/>
                  </a:lnTo>
                  <a:lnTo>
                    <a:pt x="317" y="1569"/>
                  </a:lnTo>
                  <a:lnTo>
                    <a:pt x="267" y="1527"/>
                  </a:lnTo>
                  <a:lnTo>
                    <a:pt x="222" y="1482"/>
                  </a:lnTo>
                  <a:lnTo>
                    <a:pt x="176" y="1428"/>
                  </a:lnTo>
                  <a:lnTo>
                    <a:pt x="137" y="1367"/>
                  </a:lnTo>
                  <a:lnTo>
                    <a:pt x="103" y="1304"/>
                  </a:lnTo>
                  <a:lnTo>
                    <a:pt x="74" y="1234"/>
                  </a:lnTo>
                  <a:lnTo>
                    <a:pt x="46" y="1163"/>
                  </a:lnTo>
                  <a:lnTo>
                    <a:pt x="27" y="1083"/>
                  </a:lnTo>
                  <a:lnTo>
                    <a:pt x="12" y="1006"/>
                  </a:lnTo>
                  <a:lnTo>
                    <a:pt x="0" y="922"/>
                  </a:lnTo>
                  <a:lnTo>
                    <a:pt x="0" y="836"/>
                  </a:lnTo>
                  <a:lnTo>
                    <a:pt x="0" y="752"/>
                  </a:lnTo>
                  <a:lnTo>
                    <a:pt x="12" y="669"/>
                  </a:lnTo>
                  <a:lnTo>
                    <a:pt x="27" y="591"/>
                  </a:lnTo>
                  <a:lnTo>
                    <a:pt x="46" y="512"/>
                  </a:lnTo>
                  <a:lnTo>
                    <a:pt x="74" y="441"/>
                  </a:lnTo>
                  <a:lnTo>
                    <a:pt x="103" y="370"/>
                  </a:lnTo>
                  <a:lnTo>
                    <a:pt x="137" y="304"/>
                  </a:lnTo>
                  <a:lnTo>
                    <a:pt x="176" y="245"/>
                  </a:lnTo>
                  <a:lnTo>
                    <a:pt x="222" y="191"/>
                  </a:lnTo>
                  <a:lnTo>
                    <a:pt x="267" y="146"/>
                  </a:lnTo>
                  <a:lnTo>
                    <a:pt x="317" y="100"/>
                  </a:lnTo>
                  <a:lnTo>
                    <a:pt x="372" y="68"/>
                  </a:lnTo>
                  <a:lnTo>
                    <a:pt x="426" y="38"/>
                  </a:lnTo>
                  <a:lnTo>
                    <a:pt x="485" y="18"/>
                  </a:lnTo>
                  <a:lnTo>
                    <a:pt x="545" y="6"/>
                  </a:lnTo>
                  <a:lnTo>
                    <a:pt x="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98720" y="2658960"/>
              <a:ext cx="727200" cy="273240"/>
            </a:xfrm>
            <a:custGeom>
              <a:avLst/>
              <a:gdLst/>
              <a:ahLst/>
              <a:rect l="l" t="t" r="r" b="b"/>
              <a:pathLst>
                <a:path w="1832" h="689">
                  <a:moveTo>
                    <a:pt x="3" y="12"/>
                  </a:moveTo>
                  <a:lnTo>
                    <a:pt x="374" y="29"/>
                  </a:lnTo>
                  <a:lnTo>
                    <a:pt x="379" y="75"/>
                  </a:lnTo>
                  <a:lnTo>
                    <a:pt x="385" y="120"/>
                  </a:lnTo>
                  <a:lnTo>
                    <a:pt x="389" y="163"/>
                  </a:lnTo>
                  <a:lnTo>
                    <a:pt x="401" y="203"/>
                  </a:lnTo>
                  <a:lnTo>
                    <a:pt x="414" y="245"/>
                  </a:lnTo>
                  <a:lnTo>
                    <a:pt x="426" y="288"/>
                  </a:lnTo>
                  <a:lnTo>
                    <a:pt x="445" y="328"/>
                  </a:lnTo>
                  <a:lnTo>
                    <a:pt x="457" y="370"/>
                  </a:lnTo>
                  <a:lnTo>
                    <a:pt x="1362" y="353"/>
                  </a:lnTo>
                  <a:lnTo>
                    <a:pt x="1345" y="312"/>
                  </a:lnTo>
                  <a:lnTo>
                    <a:pt x="1329" y="271"/>
                  </a:lnTo>
                  <a:lnTo>
                    <a:pt x="1314" y="225"/>
                  </a:lnTo>
                  <a:lnTo>
                    <a:pt x="1304" y="183"/>
                  </a:lnTo>
                  <a:lnTo>
                    <a:pt x="1296" y="137"/>
                  </a:lnTo>
                  <a:lnTo>
                    <a:pt x="1290" y="92"/>
                  </a:lnTo>
                  <a:lnTo>
                    <a:pt x="1286" y="47"/>
                  </a:lnTo>
                  <a:lnTo>
                    <a:pt x="1286" y="0"/>
                  </a:lnTo>
                  <a:lnTo>
                    <a:pt x="1655" y="0"/>
                  </a:lnTo>
                  <a:lnTo>
                    <a:pt x="1659" y="59"/>
                  </a:lnTo>
                  <a:lnTo>
                    <a:pt x="1665" y="112"/>
                  </a:lnTo>
                  <a:lnTo>
                    <a:pt x="1668" y="163"/>
                  </a:lnTo>
                  <a:lnTo>
                    <a:pt x="1670" y="208"/>
                  </a:lnTo>
                  <a:lnTo>
                    <a:pt x="1676" y="253"/>
                  </a:lnTo>
                  <a:lnTo>
                    <a:pt x="1685" y="300"/>
                  </a:lnTo>
                  <a:lnTo>
                    <a:pt x="1693" y="341"/>
                  </a:lnTo>
                  <a:lnTo>
                    <a:pt x="1701" y="378"/>
                  </a:lnTo>
                  <a:lnTo>
                    <a:pt x="1713" y="416"/>
                  </a:lnTo>
                  <a:lnTo>
                    <a:pt x="1722" y="453"/>
                  </a:lnTo>
                  <a:lnTo>
                    <a:pt x="1738" y="486"/>
                  </a:lnTo>
                  <a:lnTo>
                    <a:pt x="1753" y="518"/>
                  </a:lnTo>
                  <a:lnTo>
                    <a:pt x="1767" y="553"/>
                  </a:lnTo>
                  <a:lnTo>
                    <a:pt x="1786" y="586"/>
                  </a:lnTo>
                  <a:lnTo>
                    <a:pt x="1808" y="618"/>
                  </a:lnTo>
                  <a:lnTo>
                    <a:pt x="1832" y="652"/>
                  </a:lnTo>
                  <a:lnTo>
                    <a:pt x="109" y="689"/>
                  </a:lnTo>
                  <a:lnTo>
                    <a:pt x="68" y="618"/>
                  </a:lnTo>
                  <a:lnTo>
                    <a:pt x="39" y="541"/>
                  </a:lnTo>
                  <a:lnTo>
                    <a:pt x="18" y="461"/>
                  </a:lnTo>
                  <a:lnTo>
                    <a:pt x="6" y="373"/>
                  </a:lnTo>
                  <a:lnTo>
                    <a:pt x="0" y="282"/>
                  </a:lnTo>
                  <a:lnTo>
                    <a:pt x="0" y="195"/>
                  </a:lnTo>
                  <a:lnTo>
                    <a:pt x="0" y="104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17880" y="2914560"/>
              <a:ext cx="654120" cy="193680"/>
            </a:xfrm>
            <a:custGeom>
              <a:avLst/>
              <a:gdLst/>
              <a:ahLst/>
              <a:rect l="l" t="t" r="r" b="b"/>
              <a:pathLst>
                <a:path w="1649" h="490">
                  <a:moveTo>
                    <a:pt x="0" y="25"/>
                  </a:moveTo>
                  <a:lnTo>
                    <a:pt x="1649" y="0"/>
                  </a:lnTo>
                  <a:lnTo>
                    <a:pt x="1649" y="92"/>
                  </a:lnTo>
                  <a:lnTo>
                    <a:pt x="1566" y="160"/>
                  </a:lnTo>
                  <a:lnTo>
                    <a:pt x="1566" y="449"/>
                  </a:lnTo>
                  <a:lnTo>
                    <a:pt x="136" y="490"/>
                  </a:lnTo>
                  <a:lnTo>
                    <a:pt x="130" y="180"/>
                  </a:lnTo>
                  <a:lnTo>
                    <a:pt x="6" y="12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83080" y="2944800"/>
              <a:ext cx="109440" cy="168120"/>
            </a:xfrm>
            <a:custGeom>
              <a:avLst/>
              <a:gdLst/>
              <a:ahLst/>
              <a:rect l="l" t="t" r="r" b="b"/>
              <a:pathLst>
                <a:path w="278" h="424">
                  <a:moveTo>
                    <a:pt x="141" y="424"/>
                  </a:moveTo>
                  <a:lnTo>
                    <a:pt x="113" y="419"/>
                  </a:lnTo>
                  <a:lnTo>
                    <a:pt x="86" y="411"/>
                  </a:lnTo>
                  <a:lnTo>
                    <a:pt x="62" y="390"/>
                  </a:lnTo>
                  <a:lnTo>
                    <a:pt x="44" y="364"/>
                  </a:lnTo>
                  <a:lnTo>
                    <a:pt x="25" y="332"/>
                  </a:lnTo>
                  <a:lnTo>
                    <a:pt x="13" y="295"/>
                  </a:lnTo>
                  <a:lnTo>
                    <a:pt x="4" y="256"/>
                  </a:lnTo>
                  <a:lnTo>
                    <a:pt x="0" y="211"/>
                  </a:lnTo>
                  <a:lnTo>
                    <a:pt x="4" y="171"/>
                  </a:lnTo>
                  <a:lnTo>
                    <a:pt x="13" y="134"/>
                  </a:lnTo>
                  <a:lnTo>
                    <a:pt x="25" y="95"/>
                  </a:lnTo>
                  <a:lnTo>
                    <a:pt x="44" y="62"/>
                  </a:lnTo>
                  <a:lnTo>
                    <a:pt x="62" y="38"/>
                  </a:lnTo>
                  <a:lnTo>
                    <a:pt x="86" y="17"/>
                  </a:lnTo>
                  <a:lnTo>
                    <a:pt x="113" y="3"/>
                  </a:lnTo>
                  <a:lnTo>
                    <a:pt x="141" y="0"/>
                  </a:lnTo>
                  <a:lnTo>
                    <a:pt x="169" y="3"/>
                  </a:lnTo>
                  <a:lnTo>
                    <a:pt x="196" y="17"/>
                  </a:lnTo>
                  <a:lnTo>
                    <a:pt x="217" y="38"/>
                  </a:lnTo>
                  <a:lnTo>
                    <a:pt x="238" y="62"/>
                  </a:lnTo>
                  <a:lnTo>
                    <a:pt x="257" y="95"/>
                  </a:lnTo>
                  <a:lnTo>
                    <a:pt x="269" y="134"/>
                  </a:lnTo>
                  <a:lnTo>
                    <a:pt x="276" y="171"/>
                  </a:lnTo>
                  <a:lnTo>
                    <a:pt x="278" y="211"/>
                  </a:lnTo>
                  <a:lnTo>
                    <a:pt x="276" y="256"/>
                  </a:lnTo>
                  <a:lnTo>
                    <a:pt x="269" y="295"/>
                  </a:lnTo>
                  <a:lnTo>
                    <a:pt x="257" y="332"/>
                  </a:lnTo>
                  <a:lnTo>
                    <a:pt x="238" y="364"/>
                  </a:lnTo>
                  <a:lnTo>
                    <a:pt x="217" y="390"/>
                  </a:lnTo>
                  <a:lnTo>
                    <a:pt x="196" y="411"/>
                  </a:lnTo>
                  <a:lnTo>
                    <a:pt x="169" y="419"/>
                  </a:lnTo>
                  <a:lnTo>
                    <a:pt x="141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51200" y="2106720"/>
              <a:ext cx="201600" cy="98280"/>
            </a:xfrm>
            <a:custGeom>
              <a:avLst/>
              <a:gdLst/>
              <a:ahLst/>
              <a:rect l="l" t="t" r="r" b="b"/>
              <a:pathLst>
                <a:path w="507" h="247">
                  <a:moveTo>
                    <a:pt x="0" y="226"/>
                  </a:moveTo>
                  <a:lnTo>
                    <a:pt x="0" y="23"/>
                  </a:lnTo>
                  <a:lnTo>
                    <a:pt x="31" y="17"/>
                  </a:lnTo>
                  <a:lnTo>
                    <a:pt x="62" y="13"/>
                  </a:lnTo>
                  <a:lnTo>
                    <a:pt x="91" y="8"/>
                  </a:lnTo>
                  <a:lnTo>
                    <a:pt x="126" y="3"/>
                  </a:lnTo>
                  <a:lnTo>
                    <a:pt x="157" y="3"/>
                  </a:lnTo>
                  <a:lnTo>
                    <a:pt x="188" y="0"/>
                  </a:lnTo>
                  <a:lnTo>
                    <a:pt x="217" y="0"/>
                  </a:lnTo>
                  <a:lnTo>
                    <a:pt x="250" y="0"/>
                  </a:lnTo>
                  <a:lnTo>
                    <a:pt x="281" y="0"/>
                  </a:lnTo>
                  <a:lnTo>
                    <a:pt x="315" y="0"/>
                  </a:lnTo>
                  <a:lnTo>
                    <a:pt x="345" y="0"/>
                  </a:lnTo>
                  <a:lnTo>
                    <a:pt x="375" y="3"/>
                  </a:lnTo>
                  <a:lnTo>
                    <a:pt x="408" y="8"/>
                  </a:lnTo>
                  <a:lnTo>
                    <a:pt x="439" y="13"/>
                  </a:lnTo>
                  <a:lnTo>
                    <a:pt x="469" y="17"/>
                  </a:lnTo>
                  <a:lnTo>
                    <a:pt x="505" y="23"/>
                  </a:lnTo>
                  <a:lnTo>
                    <a:pt x="507" y="54"/>
                  </a:lnTo>
                  <a:lnTo>
                    <a:pt x="464" y="66"/>
                  </a:lnTo>
                  <a:lnTo>
                    <a:pt x="427" y="78"/>
                  </a:lnTo>
                  <a:lnTo>
                    <a:pt x="391" y="91"/>
                  </a:lnTo>
                  <a:lnTo>
                    <a:pt x="361" y="103"/>
                  </a:lnTo>
                  <a:lnTo>
                    <a:pt x="334" y="117"/>
                  </a:lnTo>
                  <a:lnTo>
                    <a:pt x="309" y="122"/>
                  </a:lnTo>
                  <a:lnTo>
                    <a:pt x="284" y="136"/>
                  </a:lnTo>
                  <a:lnTo>
                    <a:pt x="260" y="147"/>
                  </a:lnTo>
                  <a:lnTo>
                    <a:pt x="242" y="155"/>
                  </a:lnTo>
                  <a:lnTo>
                    <a:pt x="221" y="169"/>
                  </a:lnTo>
                  <a:lnTo>
                    <a:pt x="198" y="180"/>
                  </a:lnTo>
                  <a:lnTo>
                    <a:pt x="182" y="190"/>
                  </a:lnTo>
                  <a:lnTo>
                    <a:pt x="159" y="202"/>
                  </a:lnTo>
                  <a:lnTo>
                    <a:pt x="138" y="215"/>
                  </a:lnTo>
                  <a:lnTo>
                    <a:pt x="113" y="226"/>
                  </a:lnTo>
                  <a:lnTo>
                    <a:pt x="89" y="243"/>
                  </a:lnTo>
                  <a:lnTo>
                    <a:pt x="77" y="243"/>
                  </a:lnTo>
                  <a:lnTo>
                    <a:pt x="62" y="243"/>
                  </a:lnTo>
                  <a:lnTo>
                    <a:pt x="46" y="247"/>
                  </a:lnTo>
                  <a:lnTo>
                    <a:pt x="33" y="247"/>
                  </a:lnTo>
                  <a:lnTo>
                    <a:pt x="19" y="247"/>
                  </a:lnTo>
                  <a:lnTo>
                    <a:pt x="11" y="247"/>
                  </a:lnTo>
                  <a:lnTo>
                    <a:pt x="3" y="238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53040" y="1916280"/>
            <a:ext cx="2467080" cy="1566720"/>
            <a:chOff x="5153040" y="1916280"/>
            <a:chExt cx="2467080" cy="1566720"/>
          </a:xfrm>
        </p:grpSpPr>
        <p:sp>
          <p:nvSpPr>
            <p:cNvPr id="117" name=""/>
            <p:cNvSpPr/>
            <p:nvPr/>
          </p:nvSpPr>
          <p:spPr>
            <a:xfrm>
              <a:off x="5794200" y="2049480"/>
              <a:ext cx="200160" cy="69840"/>
            </a:xfrm>
            <a:custGeom>
              <a:avLst/>
              <a:gdLst/>
              <a:ahLst/>
              <a:rect l="l" t="t" r="r" b="b"/>
              <a:pathLst>
                <a:path w="504" h="176">
                  <a:moveTo>
                    <a:pt x="504" y="176"/>
                  </a:moveTo>
                  <a:lnTo>
                    <a:pt x="0" y="176"/>
                  </a:lnTo>
                  <a:lnTo>
                    <a:pt x="0" y="111"/>
                  </a:lnTo>
                  <a:lnTo>
                    <a:pt x="3" y="102"/>
                  </a:lnTo>
                  <a:lnTo>
                    <a:pt x="10" y="91"/>
                  </a:lnTo>
                  <a:lnTo>
                    <a:pt x="19" y="82"/>
                  </a:lnTo>
                  <a:lnTo>
                    <a:pt x="28" y="69"/>
                  </a:lnTo>
                  <a:lnTo>
                    <a:pt x="40" y="63"/>
                  </a:lnTo>
                  <a:lnTo>
                    <a:pt x="58" y="54"/>
                  </a:lnTo>
                  <a:lnTo>
                    <a:pt x="74" y="45"/>
                  </a:lnTo>
                  <a:lnTo>
                    <a:pt x="91" y="37"/>
                  </a:lnTo>
                  <a:lnTo>
                    <a:pt x="114" y="29"/>
                  </a:lnTo>
                  <a:lnTo>
                    <a:pt x="131" y="20"/>
                  </a:lnTo>
                  <a:lnTo>
                    <a:pt x="154" y="17"/>
                  </a:lnTo>
                  <a:lnTo>
                    <a:pt x="174" y="9"/>
                  </a:lnTo>
                  <a:lnTo>
                    <a:pt x="193" y="4"/>
                  </a:lnTo>
                  <a:lnTo>
                    <a:pt x="215" y="0"/>
                  </a:lnTo>
                  <a:lnTo>
                    <a:pt x="232" y="0"/>
                  </a:lnTo>
                  <a:lnTo>
                    <a:pt x="248" y="0"/>
                  </a:lnTo>
                  <a:lnTo>
                    <a:pt x="266" y="0"/>
                  </a:lnTo>
                  <a:lnTo>
                    <a:pt x="283" y="0"/>
                  </a:lnTo>
                  <a:lnTo>
                    <a:pt x="306" y="4"/>
                  </a:lnTo>
                  <a:lnTo>
                    <a:pt x="327" y="12"/>
                  </a:lnTo>
                  <a:lnTo>
                    <a:pt x="348" y="17"/>
                  </a:lnTo>
                  <a:lnTo>
                    <a:pt x="369" y="24"/>
                  </a:lnTo>
                  <a:lnTo>
                    <a:pt x="392" y="29"/>
                  </a:lnTo>
                  <a:lnTo>
                    <a:pt x="408" y="37"/>
                  </a:lnTo>
                  <a:lnTo>
                    <a:pt x="431" y="45"/>
                  </a:lnTo>
                  <a:lnTo>
                    <a:pt x="449" y="57"/>
                  </a:lnTo>
                  <a:lnTo>
                    <a:pt x="464" y="66"/>
                  </a:lnTo>
                  <a:lnTo>
                    <a:pt x="476" y="74"/>
                  </a:lnTo>
                  <a:lnTo>
                    <a:pt x="488" y="82"/>
                  </a:lnTo>
                  <a:lnTo>
                    <a:pt x="497" y="94"/>
                  </a:lnTo>
                  <a:lnTo>
                    <a:pt x="504" y="102"/>
                  </a:lnTo>
                  <a:lnTo>
                    <a:pt x="504" y="111"/>
                  </a:lnTo>
                  <a:lnTo>
                    <a:pt x="504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16720" y="2579760"/>
              <a:ext cx="203400" cy="104760"/>
            </a:xfrm>
            <a:custGeom>
              <a:avLst/>
              <a:gdLst/>
              <a:ahLst/>
              <a:rect l="l" t="t" r="r" b="b"/>
              <a:pathLst>
                <a:path w="509" h="261">
                  <a:moveTo>
                    <a:pt x="0" y="0"/>
                  </a:moveTo>
                  <a:lnTo>
                    <a:pt x="367" y="133"/>
                  </a:lnTo>
                  <a:lnTo>
                    <a:pt x="381" y="137"/>
                  </a:lnTo>
                  <a:lnTo>
                    <a:pt x="391" y="141"/>
                  </a:lnTo>
                  <a:lnTo>
                    <a:pt x="402" y="145"/>
                  </a:lnTo>
                  <a:lnTo>
                    <a:pt x="412" y="153"/>
                  </a:lnTo>
                  <a:lnTo>
                    <a:pt x="421" y="158"/>
                  </a:lnTo>
                  <a:lnTo>
                    <a:pt x="430" y="166"/>
                  </a:lnTo>
                  <a:lnTo>
                    <a:pt x="436" y="170"/>
                  </a:lnTo>
                  <a:lnTo>
                    <a:pt x="442" y="176"/>
                  </a:lnTo>
                  <a:lnTo>
                    <a:pt x="452" y="188"/>
                  </a:lnTo>
                  <a:lnTo>
                    <a:pt x="464" y="195"/>
                  </a:lnTo>
                  <a:lnTo>
                    <a:pt x="473" y="207"/>
                  </a:lnTo>
                  <a:lnTo>
                    <a:pt x="486" y="220"/>
                  </a:lnTo>
                  <a:lnTo>
                    <a:pt x="492" y="232"/>
                  </a:lnTo>
                  <a:lnTo>
                    <a:pt x="500" y="241"/>
                  </a:lnTo>
                  <a:lnTo>
                    <a:pt x="507" y="253"/>
                  </a:lnTo>
                  <a:lnTo>
                    <a:pt x="509" y="261"/>
                  </a:lnTo>
                  <a:lnTo>
                    <a:pt x="202" y="190"/>
                  </a:lnTo>
                  <a:lnTo>
                    <a:pt x="67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97720" y="2655720"/>
              <a:ext cx="122400" cy="168480"/>
            </a:xfrm>
            <a:custGeom>
              <a:avLst/>
              <a:gdLst/>
              <a:ahLst/>
              <a:rect l="l" t="t" r="r" b="b"/>
              <a:pathLst>
                <a:path w="306" h="424">
                  <a:moveTo>
                    <a:pt x="0" y="0"/>
                  </a:moveTo>
                  <a:lnTo>
                    <a:pt x="0" y="404"/>
                  </a:lnTo>
                  <a:lnTo>
                    <a:pt x="306" y="424"/>
                  </a:lnTo>
                  <a:lnTo>
                    <a:pt x="30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97720" y="2816280"/>
              <a:ext cx="122400" cy="68040"/>
            </a:xfrm>
            <a:custGeom>
              <a:avLst/>
              <a:gdLst/>
              <a:ahLst/>
              <a:rect l="l" t="t" r="r" b="b"/>
              <a:pathLst>
                <a:path w="306" h="174">
                  <a:moveTo>
                    <a:pt x="0" y="0"/>
                  </a:moveTo>
                  <a:lnTo>
                    <a:pt x="306" y="26"/>
                  </a:lnTo>
                  <a:lnTo>
                    <a:pt x="306" y="174"/>
                  </a:lnTo>
                  <a:lnTo>
                    <a:pt x="0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89800" y="2881440"/>
              <a:ext cx="130320" cy="20520"/>
            </a:xfrm>
            <a:custGeom>
              <a:avLst/>
              <a:gdLst/>
              <a:ahLst/>
              <a:rect l="l" t="t" r="r" b="b"/>
              <a:pathLst>
                <a:path w="326" h="53">
                  <a:moveTo>
                    <a:pt x="0" y="53"/>
                  </a:moveTo>
                  <a:lnTo>
                    <a:pt x="15" y="0"/>
                  </a:lnTo>
                  <a:lnTo>
                    <a:pt x="326" y="8"/>
                  </a:lnTo>
                  <a:lnTo>
                    <a:pt x="323" y="21"/>
                  </a:lnTo>
                  <a:lnTo>
                    <a:pt x="320" y="33"/>
                  </a:lnTo>
                  <a:lnTo>
                    <a:pt x="314" y="42"/>
                  </a:lnTo>
                  <a:lnTo>
                    <a:pt x="305" y="46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96120" y="2571840"/>
              <a:ext cx="200160" cy="331560"/>
            </a:xfrm>
            <a:custGeom>
              <a:avLst/>
              <a:gdLst/>
              <a:ahLst/>
              <a:rect l="l" t="t" r="r" b="b"/>
              <a:pathLst>
                <a:path w="506" h="834">
                  <a:moveTo>
                    <a:pt x="491" y="834"/>
                  </a:moveTo>
                  <a:lnTo>
                    <a:pt x="497" y="830"/>
                  </a:lnTo>
                  <a:lnTo>
                    <a:pt x="504" y="822"/>
                  </a:lnTo>
                  <a:lnTo>
                    <a:pt x="506" y="805"/>
                  </a:lnTo>
                  <a:lnTo>
                    <a:pt x="506" y="779"/>
                  </a:lnTo>
                  <a:lnTo>
                    <a:pt x="506" y="614"/>
                  </a:lnTo>
                  <a:lnTo>
                    <a:pt x="506" y="211"/>
                  </a:lnTo>
                  <a:lnTo>
                    <a:pt x="506" y="188"/>
                  </a:lnTo>
                  <a:lnTo>
                    <a:pt x="499" y="163"/>
                  </a:lnTo>
                  <a:lnTo>
                    <a:pt x="491" y="141"/>
                  </a:lnTo>
                  <a:lnTo>
                    <a:pt x="476" y="120"/>
                  </a:lnTo>
                  <a:lnTo>
                    <a:pt x="460" y="103"/>
                  </a:lnTo>
                  <a:lnTo>
                    <a:pt x="443" y="88"/>
                  </a:lnTo>
                  <a:lnTo>
                    <a:pt x="424" y="71"/>
                  </a:lnTo>
                  <a:lnTo>
                    <a:pt x="403" y="57"/>
                  </a:lnTo>
                  <a:lnTo>
                    <a:pt x="378" y="46"/>
                  </a:lnTo>
                  <a:lnTo>
                    <a:pt x="358" y="37"/>
                  </a:lnTo>
                  <a:lnTo>
                    <a:pt x="333" y="28"/>
                  </a:lnTo>
                  <a:lnTo>
                    <a:pt x="308" y="20"/>
                  </a:lnTo>
                  <a:lnTo>
                    <a:pt x="284" y="12"/>
                  </a:lnTo>
                  <a:lnTo>
                    <a:pt x="259" y="8"/>
                  </a:lnTo>
                  <a:lnTo>
                    <a:pt x="238" y="4"/>
                  </a:lnTo>
                  <a:lnTo>
                    <a:pt x="216" y="0"/>
                  </a:lnTo>
                  <a:lnTo>
                    <a:pt x="201" y="0"/>
                  </a:lnTo>
                  <a:lnTo>
                    <a:pt x="187" y="0"/>
                  </a:lnTo>
                  <a:lnTo>
                    <a:pt x="171" y="0"/>
                  </a:lnTo>
                  <a:lnTo>
                    <a:pt x="153" y="4"/>
                  </a:lnTo>
                  <a:lnTo>
                    <a:pt x="134" y="8"/>
                  </a:lnTo>
                  <a:lnTo>
                    <a:pt x="115" y="17"/>
                  </a:lnTo>
                  <a:lnTo>
                    <a:pt x="97" y="25"/>
                  </a:lnTo>
                  <a:lnTo>
                    <a:pt x="82" y="34"/>
                  </a:lnTo>
                  <a:lnTo>
                    <a:pt x="63" y="43"/>
                  </a:lnTo>
                  <a:lnTo>
                    <a:pt x="49" y="55"/>
                  </a:lnTo>
                  <a:lnTo>
                    <a:pt x="37" y="66"/>
                  </a:lnTo>
                  <a:lnTo>
                    <a:pt x="24" y="80"/>
                  </a:lnTo>
                  <a:lnTo>
                    <a:pt x="13" y="96"/>
                  </a:lnTo>
                  <a:lnTo>
                    <a:pt x="7" y="112"/>
                  </a:lnTo>
                  <a:lnTo>
                    <a:pt x="2" y="128"/>
                  </a:lnTo>
                  <a:lnTo>
                    <a:pt x="0" y="145"/>
                  </a:lnTo>
                  <a:lnTo>
                    <a:pt x="0" y="834"/>
                  </a:lnTo>
                  <a:lnTo>
                    <a:pt x="491" y="8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59680" y="2486160"/>
              <a:ext cx="325440" cy="156960"/>
            </a:xfrm>
            <a:custGeom>
              <a:avLst/>
              <a:gdLst/>
              <a:ahLst/>
              <a:rect l="l" t="t" r="r" b="b"/>
              <a:pathLst>
                <a:path w="823" h="394">
                  <a:moveTo>
                    <a:pt x="0" y="0"/>
                  </a:moveTo>
                  <a:lnTo>
                    <a:pt x="638" y="228"/>
                  </a:lnTo>
                  <a:lnTo>
                    <a:pt x="652" y="232"/>
                  </a:lnTo>
                  <a:lnTo>
                    <a:pt x="671" y="241"/>
                  </a:lnTo>
                  <a:lnTo>
                    <a:pt x="683" y="249"/>
                  </a:lnTo>
                  <a:lnTo>
                    <a:pt x="696" y="253"/>
                  </a:lnTo>
                  <a:lnTo>
                    <a:pt x="708" y="261"/>
                  </a:lnTo>
                  <a:lnTo>
                    <a:pt x="716" y="269"/>
                  </a:lnTo>
                  <a:lnTo>
                    <a:pt x="726" y="273"/>
                  </a:lnTo>
                  <a:lnTo>
                    <a:pt x="735" y="281"/>
                  </a:lnTo>
                  <a:lnTo>
                    <a:pt x="748" y="294"/>
                  </a:lnTo>
                  <a:lnTo>
                    <a:pt x="762" y="312"/>
                  </a:lnTo>
                  <a:lnTo>
                    <a:pt x="778" y="324"/>
                  </a:lnTo>
                  <a:lnTo>
                    <a:pt x="790" y="341"/>
                  </a:lnTo>
                  <a:lnTo>
                    <a:pt x="802" y="357"/>
                  </a:lnTo>
                  <a:lnTo>
                    <a:pt x="811" y="369"/>
                  </a:lnTo>
                  <a:lnTo>
                    <a:pt x="817" y="381"/>
                  </a:lnTo>
                  <a:lnTo>
                    <a:pt x="823" y="394"/>
                  </a:lnTo>
                  <a:lnTo>
                    <a:pt x="260" y="253"/>
                  </a:lnTo>
                  <a:lnTo>
                    <a:pt x="85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61200" y="2585880"/>
              <a:ext cx="223920" cy="219240"/>
            </a:xfrm>
            <a:custGeom>
              <a:avLst/>
              <a:gdLst/>
              <a:ahLst/>
              <a:rect l="l" t="t" r="r" b="b"/>
              <a:pathLst>
                <a:path w="564" h="552">
                  <a:moveTo>
                    <a:pt x="0" y="0"/>
                  </a:moveTo>
                  <a:lnTo>
                    <a:pt x="0" y="528"/>
                  </a:lnTo>
                  <a:lnTo>
                    <a:pt x="564" y="552"/>
                  </a:lnTo>
                  <a:lnTo>
                    <a:pt x="564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61200" y="2797200"/>
              <a:ext cx="223920" cy="87120"/>
            </a:xfrm>
            <a:custGeom>
              <a:avLst/>
              <a:gdLst/>
              <a:ahLst/>
              <a:rect l="l" t="t" r="r" b="b"/>
              <a:pathLst>
                <a:path w="564" h="223">
                  <a:moveTo>
                    <a:pt x="0" y="0"/>
                  </a:moveTo>
                  <a:lnTo>
                    <a:pt x="564" y="30"/>
                  </a:lnTo>
                  <a:lnTo>
                    <a:pt x="564" y="223"/>
                  </a:lnTo>
                  <a:lnTo>
                    <a:pt x="0" y="2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53280" y="2881440"/>
              <a:ext cx="231840" cy="28440"/>
            </a:xfrm>
            <a:custGeom>
              <a:avLst/>
              <a:gdLst/>
              <a:ahLst/>
              <a:rect l="l" t="t" r="r" b="b"/>
              <a:pathLst>
                <a:path w="585" h="73">
                  <a:moveTo>
                    <a:pt x="0" y="73"/>
                  </a:moveTo>
                  <a:lnTo>
                    <a:pt x="22" y="0"/>
                  </a:lnTo>
                  <a:lnTo>
                    <a:pt x="585" y="12"/>
                  </a:lnTo>
                  <a:lnTo>
                    <a:pt x="582" y="28"/>
                  </a:lnTo>
                  <a:lnTo>
                    <a:pt x="576" y="45"/>
                  </a:lnTo>
                  <a:lnTo>
                    <a:pt x="566" y="53"/>
                  </a:lnTo>
                  <a:lnTo>
                    <a:pt x="557" y="57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97680" y="2476440"/>
              <a:ext cx="263520" cy="433440"/>
            </a:xfrm>
            <a:custGeom>
              <a:avLst/>
              <a:gdLst/>
              <a:ahLst/>
              <a:rect l="l" t="t" r="r" b="b"/>
              <a:pathLst>
                <a:path w="665" h="1091">
                  <a:moveTo>
                    <a:pt x="644" y="1091"/>
                  </a:moveTo>
                  <a:lnTo>
                    <a:pt x="653" y="1083"/>
                  </a:lnTo>
                  <a:lnTo>
                    <a:pt x="661" y="1071"/>
                  </a:lnTo>
                  <a:lnTo>
                    <a:pt x="665" y="1051"/>
                  </a:lnTo>
                  <a:lnTo>
                    <a:pt x="665" y="1018"/>
                  </a:lnTo>
                  <a:lnTo>
                    <a:pt x="665" y="806"/>
                  </a:lnTo>
                  <a:lnTo>
                    <a:pt x="665" y="279"/>
                  </a:lnTo>
                  <a:lnTo>
                    <a:pt x="661" y="241"/>
                  </a:lnTo>
                  <a:lnTo>
                    <a:pt x="655" y="212"/>
                  </a:lnTo>
                  <a:lnTo>
                    <a:pt x="644" y="184"/>
                  </a:lnTo>
                  <a:lnTo>
                    <a:pt x="625" y="153"/>
                  </a:lnTo>
                  <a:lnTo>
                    <a:pt x="606" y="133"/>
                  </a:lnTo>
                  <a:lnTo>
                    <a:pt x="583" y="112"/>
                  </a:lnTo>
                  <a:lnTo>
                    <a:pt x="555" y="91"/>
                  </a:lnTo>
                  <a:lnTo>
                    <a:pt x="528" y="76"/>
                  </a:lnTo>
                  <a:lnTo>
                    <a:pt x="497" y="59"/>
                  </a:lnTo>
                  <a:lnTo>
                    <a:pt x="467" y="46"/>
                  </a:lnTo>
                  <a:lnTo>
                    <a:pt x="433" y="34"/>
                  </a:lnTo>
                  <a:lnTo>
                    <a:pt x="402" y="26"/>
                  </a:lnTo>
                  <a:lnTo>
                    <a:pt x="371" y="16"/>
                  </a:lnTo>
                  <a:lnTo>
                    <a:pt x="338" y="8"/>
                  </a:lnTo>
                  <a:lnTo>
                    <a:pt x="311" y="4"/>
                  </a:lnTo>
                  <a:lnTo>
                    <a:pt x="283" y="0"/>
                  </a:lnTo>
                  <a:lnTo>
                    <a:pt x="265" y="0"/>
                  </a:lnTo>
                  <a:lnTo>
                    <a:pt x="244" y="0"/>
                  </a:lnTo>
                  <a:lnTo>
                    <a:pt x="223" y="0"/>
                  </a:lnTo>
                  <a:lnTo>
                    <a:pt x="201" y="4"/>
                  </a:lnTo>
                  <a:lnTo>
                    <a:pt x="177" y="14"/>
                  </a:lnTo>
                  <a:lnTo>
                    <a:pt x="153" y="22"/>
                  </a:lnTo>
                  <a:lnTo>
                    <a:pt x="131" y="31"/>
                  </a:lnTo>
                  <a:lnTo>
                    <a:pt x="106" y="42"/>
                  </a:lnTo>
                  <a:lnTo>
                    <a:pt x="85" y="54"/>
                  </a:lnTo>
                  <a:lnTo>
                    <a:pt x="65" y="71"/>
                  </a:lnTo>
                  <a:lnTo>
                    <a:pt x="46" y="88"/>
                  </a:lnTo>
                  <a:lnTo>
                    <a:pt x="31" y="104"/>
                  </a:lnTo>
                  <a:lnTo>
                    <a:pt x="18" y="121"/>
                  </a:lnTo>
                  <a:lnTo>
                    <a:pt x="9" y="142"/>
                  </a:lnTo>
                  <a:lnTo>
                    <a:pt x="4" y="167"/>
                  </a:lnTo>
                  <a:lnTo>
                    <a:pt x="0" y="187"/>
                  </a:lnTo>
                  <a:lnTo>
                    <a:pt x="0" y="1088"/>
                  </a:lnTo>
                  <a:lnTo>
                    <a:pt x="644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08600" y="2330280"/>
              <a:ext cx="540000" cy="239760"/>
            </a:xfrm>
            <a:custGeom>
              <a:avLst/>
              <a:gdLst/>
              <a:ahLst/>
              <a:rect l="l" t="t" r="r" b="b"/>
              <a:pathLst>
                <a:path w="1359" h="602">
                  <a:moveTo>
                    <a:pt x="0" y="0"/>
                  </a:moveTo>
                  <a:lnTo>
                    <a:pt x="1099" y="369"/>
                  </a:lnTo>
                  <a:lnTo>
                    <a:pt x="1124" y="378"/>
                  </a:lnTo>
                  <a:lnTo>
                    <a:pt x="1146" y="386"/>
                  </a:lnTo>
                  <a:lnTo>
                    <a:pt x="1165" y="398"/>
                  </a:lnTo>
                  <a:lnTo>
                    <a:pt x="1182" y="406"/>
                  </a:lnTo>
                  <a:lnTo>
                    <a:pt x="1198" y="418"/>
                  </a:lnTo>
                  <a:lnTo>
                    <a:pt x="1212" y="427"/>
                  </a:lnTo>
                  <a:lnTo>
                    <a:pt x="1225" y="436"/>
                  </a:lnTo>
                  <a:lnTo>
                    <a:pt x="1235" y="444"/>
                  </a:lnTo>
                  <a:lnTo>
                    <a:pt x="1256" y="464"/>
                  </a:lnTo>
                  <a:lnTo>
                    <a:pt x="1274" y="486"/>
                  </a:lnTo>
                  <a:lnTo>
                    <a:pt x="1292" y="506"/>
                  </a:lnTo>
                  <a:lnTo>
                    <a:pt x="1311" y="526"/>
                  </a:lnTo>
                  <a:lnTo>
                    <a:pt x="1326" y="549"/>
                  </a:lnTo>
                  <a:lnTo>
                    <a:pt x="1342" y="569"/>
                  </a:lnTo>
                  <a:lnTo>
                    <a:pt x="1350" y="585"/>
                  </a:lnTo>
                  <a:lnTo>
                    <a:pt x="1359" y="602"/>
                  </a:lnTo>
                  <a:lnTo>
                    <a:pt x="359" y="348"/>
                  </a:lnTo>
                  <a:lnTo>
                    <a:pt x="116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1520" y="2470320"/>
              <a:ext cx="397080" cy="320400"/>
            </a:xfrm>
            <a:custGeom>
              <a:avLst/>
              <a:gdLst/>
              <a:ahLst/>
              <a:rect l="l" t="t" r="r" b="b"/>
              <a:pathLst>
                <a:path w="1000" h="810">
                  <a:moveTo>
                    <a:pt x="0" y="0"/>
                  </a:moveTo>
                  <a:lnTo>
                    <a:pt x="0" y="731"/>
                  </a:lnTo>
                  <a:lnTo>
                    <a:pt x="1000" y="810"/>
                  </a:lnTo>
                  <a:lnTo>
                    <a:pt x="1000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51520" y="2760840"/>
              <a:ext cx="397080" cy="120600"/>
            </a:xfrm>
            <a:custGeom>
              <a:avLst/>
              <a:gdLst/>
              <a:ahLst/>
              <a:rect l="l" t="t" r="r" b="b"/>
              <a:pathLst>
                <a:path w="1000" h="305">
                  <a:moveTo>
                    <a:pt x="0" y="0"/>
                  </a:moveTo>
                  <a:lnTo>
                    <a:pt x="1000" y="79"/>
                  </a:lnTo>
                  <a:lnTo>
                    <a:pt x="1000" y="305"/>
                  </a:lnTo>
                  <a:lnTo>
                    <a:pt x="0" y="2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38920" y="2876400"/>
              <a:ext cx="409680" cy="41400"/>
            </a:xfrm>
            <a:custGeom>
              <a:avLst/>
              <a:gdLst/>
              <a:ahLst/>
              <a:rect l="l" t="t" r="r" b="b"/>
              <a:pathLst>
                <a:path w="1031" h="105">
                  <a:moveTo>
                    <a:pt x="0" y="105"/>
                  </a:moveTo>
                  <a:lnTo>
                    <a:pt x="30" y="0"/>
                  </a:lnTo>
                  <a:lnTo>
                    <a:pt x="1031" y="13"/>
                  </a:lnTo>
                  <a:lnTo>
                    <a:pt x="1028" y="26"/>
                  </a:lnTo>
                  <a:lnTo>
                    <a:pt x="1024" y="38"/>
                  </a:lnTo>
                  <a:lnTo>
                    <a:pt x="1021" y="51"/>
                  </a:lnTo>
                  <a:lnTo>
                    <a:pt x="1015" y="60"/>
                  </a:lnTo>
                  <a:lnTo>
                    <a:pt x="1009" y="66"/>
                  </a:lnTo>
                  <a:lnTo>
                    <a:pt x="1003" y="70"/>
                  </a:lnTo>
                  <a:lnTo>
                    <a:pt x="998" y="74"/>
                  </a:lnTo>
                  <a:lnTo>
                    <a:pt x="991" y="80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86480" y="2316240"/>
              <a:ext cx="365040" cy="601560"/>
            </a:xfrm>
            <a:custGeom>
              <a:avLst/>
              <a:gdLst/>
              <a:ahLst/>
              <a:rect l="l" t="t" r="r" b="b"/>
              <a:pathLst>
                <a:path w="920" h="1516">
                  <a:moveTo>
                    <a:pt x="891" y="1516"/>
                  </a:moveTo>
                  <a:lnTo>
                    <a:pt x="895" y="1511"/>
                  </a:lnTo>
                  <a:lnTo>
                    <a:pt x="901" y="1507"/>
                  </a:lnTo>
                  <a:lnTo>
                    <a:pt x="907" y="1499"/>
                  </a:lnTo>
                  <a:lnTo>
                    <a:pt x="914" y="1485"/>
                  </a:lnTo>
                  <a:lnTo>
                    <a:pt x="918" y="1473"/>
                  </a:lnTo>
                  <a:lnTo>
                    <a:pt x="920" y="1456"/>
                  </a:lnTo>
                  <a:lnTo>
                    <a:pt x="920" y="1436"/>
                  </a:lnTo>
                  <a:lnTo>
                    <a:pt x="920" y="1411"/>
                  </a:lnTo>
                  <a:lnTo>
                    <a:pt x="920" y="1115"/>
                  </a:lnTo>
                  <a:lnTo>
                    <a:pt x="920" y="385"/>
                  </a:lnTo>
                  <a:lnTo>
                    <a:pt x="918" y="336"/>
                  </a:lnTo>
                  <a:lnTo>
                    <a:pt x="905" y="293"/>
                  </a:lnTo>
                  <a:lnTo>
                    <a:pt x="891" y="253"/>
                  </a:lnTo>
                  <a:lnTo>
                    <a:pt x="866" y="216"/>
                  </a:lnTo>
                  <a:lnTo>
                    <a:pt x="838" y="183"/>
                  </a:lnTo>
                  <a:lnTo>
                    <a:pt x="805" y="153"/>
                  </a:lnTo>
                  <a:lnTo>
                    <a:pt x="768" y="128"/>
                  </a:lnTo>
                  <a:lnTo>
                    <a:pt x="728" y="103"/>
                  </a:lnTo>
                  <a:lnTo>
                    <a:pt x="689" y="83"/>
                  </a:lnTo>
                  <a:lnTo>
                    <a:pt x="642" y="63"/>
                  </a:lnTo>
                  <a:lnTo>
                    <a:pt x="601" y="49"/>
                  </a:lnTo>
                  <a:lnTo>
                    <a:pt x="557" y="32"/>
                  </a:lnTo>
                  <a:lnTo>
                    <a:pt x="512" y="20"/>
                  </a:lnTo>
                  <a:lnTo>
                    <a:pt x="471" y="12"/>
                  </a:lnTo>
                  <a:lnTo>
                    <a:pt x="430" y="8"/>
                  </a:lnTo>
                  <a:lnTo>
                    <a:pt x="393" y="0"/>
                  </a:lnTo>
                  <a:lnTo>
                    <a:pt x="365" y="0"/>
                  </a:lnTo>
                  <a:lnTo>
                    <a:pt x="338" y="0"/>
                  </a:lnTo>
                  <a:lnTo>
                    <a:pt x="307" y="4"/>
                  </a:lnTo>
                  <a:lnTo>
                    <a:pt x="278" y="8"/>
                  </a:lnTo>
                  <a:lnTo>
                    <a:pt x="244" y="17"/>
                  </a:lnTo>
                  <a:lnTo>
                    <a:pt x="210" y="28"/>
                  </a:lnTo>
                  <a:lnTo>
                    <a:pt x="179" y="40"/>
                  </a:lnTo>
                  <a:lnTo>
                    <a:pt x="146" y="58"/>
                  </a:lnTo>
                  <a:lnTo>
                    <a:pt x="115" y="78"/>
                  </a:lnTo>
                  <a:lnTo>
                    <a:pt x="87" y="100"/>
                  </a:lnTo>
                  <a:lnTo>
                    <a:pt x="63" y="120"/>
                  </a:lnTo>
                  <a:lnTo>
                    <a:pt x="42" y="145"/>
                  </a:lnTo>
                  <a:lnTo>
                    <a:pt x="23" y="171"/>
                  </a:lnTo>
                  <a:lnTo>
                    <a:pt x="13" y="200"/>
                  </a:lnTo>
                  <a:lnTo>
                    <a:pt x="2" y="228"/>
                  </a:lnTo>
                  <a:lnTo>
                    <a:pt x="0" y="261"/>
                  </a:lnTo>
                  <a:lnTo>
                    <a:pt x="0" y="1511"/>
                  </a:lnTo>
                  <a:lnTo>
                    <a:pt x="891" y="1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78600" y="3092400"/>
              <a:ext cx="153720" cy="166680"/>
            </a:xfrm>
            <a:custGeom>
              <a:avLst/>
              <a:gdLst/>
              <a:ahLst/>
              <a:rect l="l" t="t" r="r" b="b"/>
              <a:pathLst>
                <a:path w="388" h="420">
                  <a:moveTo>
                    <a:pt x="388" y="71"/>
                  </a:moveTo>
                  <a:lnTo>
                    <a:pt x="199" y="253"/>
                  </a:lnTo>
                  <a:lnTo>
                    <a:pt x="199" y="378"/>
                  </a:lnTo>
                  <a:lnTo>
                    <a:pt x="160" y="420"/>
                  </a:lnTo>
                  <a:lnTo>
                    <a:pt x="0" y="420"/>
                  </a:lnTo>
                  <a:lnTo>
                    <a:pt x="0" y="391"/>
                  </a:lnTo>
                  <a:lnTo>
                    <a:pt x="28" y="369"/>
                  </a:lnTo>
                  <a:lnTo>
                    <a:pt x="116" y="369"/>
                  </a:lnTo>
                  <a:lnTo>
                    <a:pt x="116" y="0"/>
                  </a:lnTo>
                  <a:lnTo>
                    <a:pt x="199" y="0"/>
                  </a:lnTo>
                  <a:lnTo>
                    <a:pt x="199" y="184"/>
                  </a:lnTo>
                  <a:lnTo>
                    <a:pt x="388" y="8"/>
                  </a:lnTo>
                  <a:lnTo>
                    <a:pt x="38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45080" y="1916280"/>
              <a:ext cx="235080" cy="204480"/>
            </a:xfrm>
            <a:custGeom>
              <a:avLst/>
              <a:gdLst/>
              <a:ahLst/>
              <a:rect l="l" t="t" r="r" b="b"/>
              <a:pathLst>
                <a:path w="594" h="514">
                  <a:moveTo>
                    <a:pt x="300" y="514"/>
                  </a:moveTo>
                  <a:lnTo>
                    <a:pt x="0" y="514"/>
                  </a:lnTo>
                  <a:lnTo>
                    <a:pt x="23" y="497"/>
                  </a:lnTo>
                  <a:lnTo>
                    <a:pt x="43" y="477"/>
                  </a:lnTo>
                  <a:lnTo>
                    <a:pt x="64" y="456"/>
                  </a:lnTo>
                  <a:lnTo>
                    <a:pt x="83" y="440"/>
                  </a:lnTo>
                  <a:lnTo>
                    <a:pt x="98" y="415"/>
                  </a:lnTo>
                  <a:lnTo>
                    <a:pt x="111" y="389"/>
                  </a:lnTo>
                  <a:lnTo>
                    <a:pt x="117" y="361"/>
                  </a:lnTo>
                  <a:lnTo>
                    <a:pt x="119" y="336"/>
                  </a:lnTo>
                  <a:lnTo>
                    <a:pt x="119" y="171"/>
                  </a:lnTo>
                  <a:lnTo>
                    <a:pt x="119" y="161"/>
                  </a:lnTo>
                  <a:lnTo>
                    <a:pt x="113" y="153"/>
                  </a:lnTo>
                  <a:lnTo>
                    <a:pt x="106" y="148"/>
                  </a:lnTo>
                  <a:lnTo>
                    <a:pt x="98" y="141"/>
                  </a:lnTo>
                  <a:lnTo>
                    <a:pt x="92" y="136"/>
                  </a:lnTo>
                  <a:lnTo>
                    <a:pt x="86" y="133"/>
                  </a:lnTo>
                  <a:lnTo>
                    <a:pt x="80" y="124"/>
                  </a:lnTo>
                  <a:lnTo>
                    <a:pt x="80" y="116"/>
                  </a:lnTo>
                  <a:lnTo>
                    <a:pt x="80" y="108"/>
                  </a:lnTo>
                  <a:lnTo>
                    <a:pt x="83" y="99"/>
                  </a:lnTo>
                  <a:lnTo>
                    <a:pt x="89" y="95"/>
                  </a:lnTo>
                  <a:lnTo>
                    <a:pt x="92" y="91"/>
                  </a:lnTo>
                  <a:lnTo>
                    <a:pt x="98" y="88"/>
                  </a:lnTo>
                  <a:lnTo>
                    <a:pt x="104" y="83"/>
                  </a:lnTo>
                  <a:lnTo>
                    <a:pt x="111" y="79"/>
                  </a:lnTo>
                  <a:lnTo>
                    <a:pt x="117" y="71"/>
                  </a:lnTo>
                  <a:lnTo>
                    <a:pt x="119" y="57"/>
                  </a:lnTo>
                  <a:lnTo>
                    <a:pt x="125" y="48"/>
                  </a:lnTo>
                  <a:lnTo>
                    <a:pt x="131" y="40"/>
                  </a:lnTo>
                  <a:lnTo>
                    <a:pt x="142" y="34"/>
                  </a:lnTo>
                  <a:lnTo>
                    <a:pt x="150" y="25"/>
                  </a:lnTo>
                  <a:lnTo>
                    <a:pt x="162" y="20"/>
                  </a:lnTo>
                  <a:lnTo>
                    <a:pt x="171" y="16"/>
                  </a:lnTo>
                  <a:lnTo>
                    <a:pt x="186" y="12"/>
                  </a:lnTo>
                  <a:lnTo>
                    <a:pt x="199" y="8"/>
                  </a:lnTo>
                  <a:lnTo>
                    <a:pt x="211" y="8"/>
                  </a:lnTo>
                  <a:lnTo>
                    <a:pt x="226" y="3"/>
                  </a:lnTo>
                  <a:lnTo>
                    <a:pt x="241" y="3"/>
                  </a:lnTo>
                  <a:lnTo>
                    <a:pt x="257" y="3"/>
                  </a:lnTo>
                  <a:lnTo>
                    <a:pt x="269" y="3"/>
                  </a:lnTo>
                  <a:lnTo>
                    <a:pt x="284" y="0"/>
                  </a:lnTo>
                  <a:lnTo>
                    <a:pt x="296" y="0"/>
                  </a:lnTo>
                  <a:lnTo>
                    <a:pt x="310" y="0"/>
                  </a:lnTo>
                  <a:lnTo>
                    <a:pt x="327" y="3"/>
                  </a:lnTo>
                  <a:lnTo>
                    <a:pt x="339" y="3"/>
                  </a:lnTo>
                  <a:lnTo>
                    <a:pt x="354" y="3"/>
                  </a:lnTo>
                  <a:lnTo>
                    <a:pt x="369" y="3"/>
                  </a:lnTo>
                  <a:lnTo>
                    <a:pt x="384" y="8"/>
                  </a:lnTo>
                  <a:lnTo>
                    <a:pt x="396" y="8"/>
                  </a:lnTo>
                  <a:lnTo>
                    <a:pt x="409" y="12"/>
                  </a:lnTo>
                  <a:lnTo>
                    <a:pt x="423" y="16"/>
                  </a:lnTo>
                  <a:lnTo>
                    <a:pt x="434" y="20"/>
                  </a:lnTo>
                  <a:lnTo>
                    <a:pt x="446" y="25"/>
                  </a:lnTo>
                  <a:lnTo>
                    <a:pt x="454" y="34"/>
                  </a:lnTo>
                  <a:lnTo>
                    <a:pt x="464" y="40"/>
                  </a:lnTo>
                  <a:lnTo>
                    <a:pt x="470" y="48"/>
                  </a:lnTo>
                  <a:lnTo>
                    <a:pt x="475" y="57"/>
                  </a:lnTo>
                  <a:lnTo>
                    <a:pt x="479" y="71"/>
                  </a:lnTo>
                  <a:lnTo>
                    <a:pt x="485" y="79"/>
                  </a:lnTo>
                  <a:lnTo>
                    <a:pt x="492" y="83"/>
                  </a:lnTo>
                  <a:lnTo>
                    <a:pt x="498" y="88"/>
                  </a:lnTo>
                  <a:lnTo>
                    <a:pt x="504" y="91"/>
                  </a:lnTo>
                  <a:lnTo>
                    <a:pt x="506" y="95"/>
                  </a:lnTo>
                  <a:lnTo>
                    <a:pt x="512" y="99"/>
                  </a:lnTo>
                  <a:lnTo>
                    <a:pt x="515" y="108"/>
                  </a:lnTo>
                  <a:lnTo>
                    <a:pt x="515" y="116"/>
                  </a:lnTo>
                  <a:lnTo>
                    <a:pt x="515" y="124"/>
                  </a:lnTo>
                  <a:lnTo>
                    <a:pt x="509" y="133"/>
                  </a:lnTo>
                  <a:lnTo>
                    <a:pt x="504" y="136"/>
                  </a:lnTo>
                  <a:lnTo>
                    <a:pt x="494" y="141"/>
                  </a:lnTo>
                  <a:lnTo>
                    <a:pt x="489" y="148"/>
                  </a:lnTo>
                  <a:lnTo>
                    <a:pt x="481" y="153"/>
                  </a:lnTo>
                  <a:lnTo>
                    <a:pt x="475" y="161"/>
                  </a:lnTo>
                  <a:lnTo>
                    <a:pt x="475" y="171"/>
                  </a:lnTo>
                  <a:lnTo>
                    <a:pt x="475" y="336"/>
                  </a:lnTo>
                  <a:lnTo>
                    <a:pt x="479" y="361"/>
                  </a:lnTo>
                  <a:lnTo>
                    <a:pt x="485" y="389"/>
                  </a:lnTo>
                  <a:lnTo>
                    <a:pt x="498" y="415"/>
                  </a:lnTo>
                  <a:lnTo>
                    <a:pt x="512" y="440"/>
                  </a:lnTo>
                  <a:lnTo>
                    <a:pt x="531" y="456"/>
                  </a:lnTo>
                  <a:lnTo>
                    <a:pt x="553" y="477"/>
                  </a:lnTo>
                  <a:lnTo>
                    <a:pt x="573" y="497"/>
                  </a:lnTo>
                  <a:lnTo>
                    <a:pt x="594" y="514"/>
                  </a:lnTo>
                  <a:lnTo>
                    <a:pt x="300" y="5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97400" y="2673360"/>
              <a:ext cx="2316240" cy="809640"/>
            </a:xfrm>
            <a:custGeom>
              <a:avLst/>
              <a:gdLst/>
              <a:ahLst/>
              <a:rect l="l" t="t" r="r" b="b"/>
              <a:pathLst>
                <a:path w="5838" h="2041">
                  <a:moveTo>
                    <a:pt x="5838" y="564"/>
                  </a:moveTo>
                  <a:lnTo>
                    <a:pt x="3887" y="619"/>
                  </a:lnTo>
                  <a:lnTo>
                    <a:pt x="3723" y="477"/>
                  </a:lnTo>
                  <a:lnTo>
                    <a:pt x="3131" y="489"/>
                  </a:lnTo>
                  <a:lnTo>
                    <a:pt x="2912" y="33"/>
                  </a:lnTo>
                  <a:lnTo>
                    <a:pt x="447" y="0"/>
                  </a:lnTo>
                  <a:lnTo>
                    <a:pt x="0" y="0"/>
                  </a:lnTo>
                  <a:lnTo>
                    <a:pt x="0" y="1074"/>
                  </a:lnTo>
                  <a:lnTo>
                    <a:pt x="79" y="1074"/>
                  </a:lnTo>
                  <a:lnTo>
                    <a:pt x="63" y="1103"/>
                  </a:lnTo>
                  <a:lnTo>
                    <a:pt x="48" y="1145"/>
                  </a:lnTo>
                  <a:lnTo>
                    <a:pt x="34" y="1200"/>
                  </a:lnTo>
                  <a:lnTo>
                    <a:pt x="24" y="1257"/>
                  </a:lnTo>
                  <a:lnTo>
                    <a:pt x="15" y="1324"/>
                  </a:lnTo>
                  <a:lnTo>
                    <a:pt x="9" y="1394"/>
                  </a:lnTo>
                  <a:lnTo>
                    <a:pt x="6" y="1469"/>
                  </a:lnTo>
                  <a:lnTo>
                    <a:pt x="6" y="1543"/>
                  </a:lnTo>
                  <a:lnTo>
                    <a:pt x="9" y="1614"/>
                  </a:lnTo>
                  <a:lnTo>
                    <a:pt x="15" y="1686"/>
                  </a:lnTo>
                  <a:lnTo>
                    <a:pt x="24" y="1751"/>
                  </a:lnTo>
                  <a:lnTo>
                    <a:pt x="36" y="1810"/>
                  </a:lnTo>
                  <a:lnTo>
                    <a:pt x="55" y="1859"/>
                  </a:lnTo>
                  <a:lnTo>
                    <a:pt x="73" y="1901"/>
                  </a:lnTo>
                  <a:lnTo>
                    <a:pt x="97" y="1927"/>
                  </a:lnTo>
                  <a:lnTo>
                    <a:pt x="125" y="1939"/>
                  </a:lnTo>
                  <a:lnTo>
                    <a:pt x="174" y="2029"/>
                  </a:lnTo>
                  <a:lnTo>
                    <a:pt x="811" y="2041"/>
                  </a:lnTo>
                  <a:lnTo>
                    <a:pt x="1157" y="1996"/>
                  </a:lnTo>
                  <a:lnTo>
                    <a:pt x="5796" y="847"/>
                  </a:lnTo>
                  <a:lnTo>
                    <a:pt x="5811" y="839"/>
                  </a:lnTo>
                  <a:lnTo>
                    <a:pt x="5820" y="812"/>
                  </a:lnTo>
                  <a:lnTo>
                    <a:pt x="5826" y="784"/>
                  </a:lnTo>
                  <a:lnTo>
                    <a:pt x="5830" y="751"/>
                  </a:lnTo>
                  <a:lnTo>
                    <a:pt x="5830" y="719"/>
                  </a:lnTo>
                  <a:lnTo>
                    <a:pt x="5826" y="688"/>
                  </a:lnTo>
                  <a:lnTo>
                    <a:pt x="5824" y="668"/>
                  </a:lnTo>
                  <a:lnTo>
                    <a:pt x="5820" y="656"/>
                  </a:lnTo>
                  <a:lnTo>
                    <a:pt x="5838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81560" y="2136600"/>
              <a:ext cx="385920" cy="208080"/>
            </a:xfrm>
            <a:custGeom>
              <a:avLst/>
              <a:gdLst/>
              <a:ahLst/>
              <a:rect l="l" t="t" r="r" b="b"/>
              <a:pathLst>
                <a:path w="974" h="521">
                  <a:moveTo>
                    <a:pt x="974" y="521"/>
                  </a:moveTo>
                  <a:lnTo>
                    <a:pt x="671" y="444"/>
                  </a:lnTo>
                  <a:lnTo>
                    <a:pt x="653" y="430"/>
                  </a:lnTo>
                  <a:lnTo>
                    <a:pt x="632" y="419"/>
                  </a:lnTo>
                  <a:lnTo>
                    <a:pt x="611" y="401"/>
                  </a:lnTo>
                  <a:lnTo>
                    <a:pt x="593" y="389"/>
                  </a:lnTo>
                  <a:lnTo>
                    <a:pt x="571" y="376"/>
                  </a:lnTo>
                  <a:lnTo>
                    <a:pt x="549" y="361"/>
                  </a:lnTo>
                  <a:lnTo>
                    <a:pt x="527" y="348"/>
                  </a:lnTo>
                  <a:lnTo>
                    <a:pt x="507" y="331"/>
                  </a:lnTo>
                  <a:lnTo>
                    <a:pt x="486" y="319"/>
                  </a:lnTo>
                  <a:lnTo>
                    <a:pt x="463" y="307"/>
                  </a:lnTo>
                  <a:lnTo>
                    <a:pt x="442" y="293"/>
                  </a:lnTo>
                  <a:lnTo>
                    <a:pt x="422" y="276"/>
                  </a:lnTo>
                  <a:lnTo>
                    <a:pt x="400" y="264"/>
                  </a:lnTo>
                  <a:lnTo>
                    <a:pt x="379" y="253"/>
                  </a:lnTo>
                  <a:lnTo>
                    <a:pt x="358" y="236"/>
                  </a:lnTo>
                  <a:lnTo>
                    <a:pt x="336" y="223"/>
                  </a:lnTo>
                  <a:lnTo>
                    <a:pt x="315" y="211"/>
                  </a:lnTo>
                  <a:lnTo>
                    <a:pt x="293" y="194"/>
                  </a:lnTo>
                  <a:lnTo>
                    <a:pt x="272" y="183"/>
                  </a:lnTo>
                  <a:lnTo>
                    <a:pt x="251" y="168"/>
                  </a:lnTo>
                  <a:lnTo>
                    <a:pt x="229" y="154"/>
                  </a:lnTo>
                  <a:lnTo>
                    <a:pt x="208" y="140"/>
                  </a:lnTo>
                  <a:lnTo>
                    <a:pt x="186" y="123"/>
                  </a:lnTo>
                  <a:lnTo>
                    <a:pt x="165" y="111"/>
                  </a:lnTo>
                  <a:lnTo>
                    <a:pt x="144" y="99"/>
                  </a:lnTo>
                  <a:lnTo>
                    <a:pt x="122" y="83"/>
                  </a:lnTo>
                  <a:lnTo>
                    <a:pt x="101" y="68"/>
                  </a:lnTo>
                  <a:lnTo>
                    <a:pt x="83" y="58"/>
                  </a:lnTo>
                  <a:lnTo>
                    <a:pt x="61" y="40"/>
                  </a:lnTo>
                  <a:lnTo>
                    <a:pt x="40" y="28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27" y="0"/>
                  </a:lnTo>
                  <a:lnTo>
                    <a:pt x="56" y="3"/>
                  </a:lnTo>
                  <a:lnTo>
                    <a:pt x="86" y="3"/>
                  </a:lnTo>
                  <a:lnTo>
                    <a:pt x="116" y="7"/>
                  </a:lnTo>
                  <a:lnTo>
                    <a:pt x="150" y="7"/>
                  </a:lnTo>
                  <a:lnTo>
                    <a:pt x="184" y="11"/>
                  </a:lnTo>
                  <a:lnTo>
                    <a:pt x="217" y="15"/>
                  </a:lnTo>
                  <a:lnTo>
                    <a:pt x="251" y="20"/>
                  </a:lnTo>
                  <a:lnTo>
                    <a:pt x="287" y="28"/>
                  </a:lnTo>
                  <a:lnTo>
                    <a:pt x="321" y="38"/>
                  </a:lnTo>
                  <a:lnTo>
                    <a:pt x="358" y="46"/>
                  </a:lnTo>
                  <a:lnTo>
                    <a:pt x="391" y="52"/>
                  </a:lnTo>
                  <a:lnTo>
                    <a:pt x="428" y="66"/>
                  </a:lnTo>
                  <a:lnTo>
                    <a:pt x="463" y="74"/>
                  </a:lnTo>
                  <a:lnTo>
                    <a:pt x="498" y="86"/>
                  </a:lnTo>
                  <a:lnTo>
                    <a:pt x="535" y="103"/>
                  </a:lnTo>
                  <a:lnTo>
                    <a:pt x="568" y="115"/>
                  </a:lnTo>
                  <a:lnTo>
                    <a:pt x="605" y="131"/>
                  </a:lnTo>
                  <a:lnTo>
                    <a:pt x="638" y="154"/>
                  </a:lnTo>
                  <a:lnTo>
                    <a:pt x="668" y="168"/>
                  </a:lnTo>
                  <a:lnTo>
                    <a:pt x="701" y="191"/>
                  </a:lnTo>
                  <a:lnTo>
                    <a:pt x="732" y="211"/>
                  </a:lnTo>
                  <a:lnTo>
                    <a:pt x="763" y="236"/>
                  </a:lnTo>
                  <a:lnTo>
                    <a:pt x="794" y="261"/>
                  </a:lnTo>
                  <a:lnTo>
                    <a:pt x="821" y="285"/>
                  </a:lnTo>
                  <a:lnTo>
                    <a:pt x="848" y="319"/>
                  </a:lnTo>
                  <a:lnTo>
                    <a:pt x="872" y="348"/>
                  </a:lnTo>
                  <a:lnTo>
                    <a:pt x="897" y="376"/>
                  </a:lnTo>
                  <a:lnTo>
                    <a:pt x="918" y="415"/>
                  </a:lnTo>
                  <a:lnTo>
                    <a:pt x="941" y="447"/>
                  </a:lnTo>
                  <a:lnTo>
                    <a:pt x="955" y="484"/>
                  </a:lnTo>
                  <a:lnTo>
                    <a:pt x="974" y="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86440" y="2136600"/>
              <a:ext cx="466920" cy="608040"/>
            </a:xfrm>
            <a:custGeom>
              <a:avLst/>
              <a:gdLst/>
              <a:ahLst/>
              <a:rect l="l" t="t" r="r" b="b"/>
              <a:pathLst>
                <a:path w="1174" h="1530">
                  <a:moveTo>
                    <a:pt x="0" y="363"/>
                  </a:moveTo>
                  <a:lnTo>
                    <a:pt x="6" y="318"/>
                  </a:lnTo>
                  <a:lnTo>
                    <a:pt x="15" y="276"/>
                  </a:lnTo>
                  <a:lnTo>
                    <a:pt x="34" y="238"/>
                  </a:lnTo>
                  <a:lnTo>
                    <a:pt x="59" y="198"/>
                  </a:lnTo>
                  <a:lnTo>
                    <a:pt x="86" y="165"/>
                  </a:lnTo>
                  <a:lnTo>
                    <a:pt x="119" y="136"/>
                  </a:lnTo>
                  <a:lnTo>
                    <a:pt x="155" y="105"/>
                  </a:lnTo>
                  <a:lnTo>
                    <a:pt x="192" y="82"/>
                  </a:lnTo>
                  <a:lnTo>
                    <a:pt x="234" y="60"/>
                  </a:lnTo>
                  <a:lnTo>
                    <a:pt x="277" y="40"/>
                  </a:lnTo>
                  <a:lnTo>
                    <a:pt x="320" y="22"/>
                  </a:lnTo>
                  <a:lnTo>
                    <a:pt x="363" y="10"/>
                  </a:lnTo>
                  <a:lnTo>
                    <a:pt x="409" y="2"/>
                  </a:lnTo>
                  <a:lnTo>
                    <a:pt x="448" y="0"/>
                  </a:lnTo>
                  <a:lnTo>
                    <a:pt x="489" y="0"/>
                  </a:lnTo>
                  <a:lnTo>
                    <a:pt x="524" y="0"/>
                  </a:lnTo>
                  <a:lnTo>
                    <a:pt x="547" y="2"/>
                  </a:lnTo>
                  <a:lnTo>
                    <a:pt x="569" y="6"/>
                  </a:lnTo>
                  <a:lnTo>
                    <a:pt x="594" y="10"/>
                  </a:lnTo>
                  <a:lnTo>
                    <a:pt x="622" y="14"/>
                  </a:lnTo>
                  <a:lnTo>
                    <a:pt x="647" y="20"/>
                  </a:lnTo>
                  <a:lnTo>
                    <a:pt x="674" y="28"/>
                  </a:lnTo>
                  <a:lnTo>
                    <a:pt x="699" y="36"/>
                  </a:lnTo>
                  <a:lnTo>
                    <a:pt x="726" y="45"/>
                  </a:lnTo>
                  <a:lnTo>
                    <a:pt x="754" y="52"/>
                  </a:lnTo>
                  <a:lnTo>
                    <a:pt x="781" y="60"/>
                  </a:lnTo>
                  <a:lnTo>
                    <a:pt x="808" y="68"/>
                  </a:lnTo>
                  <a:lnTo>
                    <a:pt x="835" y="82"/>
                  </a:lnTo>
                  <a:lnTo>
                    <a:pt x="859" y="93"/>
                  </a:lnTo>
                  <a:lnTo>
                    <a:pt x="887" y="105"/>
                  </a:lnTo>
                  <a:lnTo>
                    <a:pt x="914" y="118"/>
                  </a:lnTo>
                  <a:lnTo>
                    <a:pt x="939" y="136"/>
                  </a:lnTo>
                  <a:lnTo>
                    <a:pt x="964" y="148"/>
                  </a:lnTo>
                  <a:lnTo>
                    <a:pt x="985" y="165"/>
                  </a:lnTo>
                  <a:lnTo>
                    <a:pt x="1010" y="181"/>
                  </a:lnTo>
                  <a:lnTo>
                    <a:pt x="1030" y="198"/>
                  </a:lnTo>
                  <a:lnTo>
                    <a:pt x="1052" y="218"/>
                  </a:lnTo>
                  <a:lnTo>
                    <a:pt x="1071" y="238"/>
                  </a:lnTo>
                  <a:lnTo>
                    <a:pt x="1089" y="261"/>
                  </a:lnTo>
                  <a:lnTo>
                    <a:pt x="1108" y="281"/>
                  </a:lnTo>
                  <a:lnTo>
                    <a:pt x="1118" y="301"/>
                  </a:lnTo>
                  <a:lnTo>
                    <a:pt x="1135" y="326"/>
                  </a:lnTo>
                  <a:lnTo>
                    <a:pt x="1147" y="351"/>
                  </a:lnTo>
                  <a:lnTo>
                    <a:pt x="1156" y="375"/>
                  </a:lnTo>
                  <a:lnTo>
                    <a:pt x="1162" y="406"/>
                  </a:lnTo>
                  <a:lnTo>
                    <a:pt x="1168" y="430"/>
                  </a:lnTo>
                  <a:lnTo>
                    <a:pt x="1174" y="463"/>
                  </a:lnTo>
                  <a:lnTo>
                    <a:pt x="1174" y="491"/>
                  </a:lnTo>
                  <a:lnTo>
                    <a:pt x="1174" y="1530"/>
                  </a:lnTo>
                  <a:lnTo>
                    <a:pt x="12" y="1530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81800" y="2066760"/>
              <a:ext cx="792000" cy="681120"/>
            </a:xfrm>
            <a:custGeom>
              <a:avLst/>
              <a:gdLst/>
              <a:ahLst/>
              <a:rect l="l" t="t" r="r" b="b"/>
              <a:pathLst>
                <a:path w="1993" h="1715">
                  <a:moveTo>
                    <a:pt x="33" y="0"/>
                  </a:moveTo>
                  <a:lnTo>
                    <a:pt x="1575" y="444"/>
                  </a:lnTo>
                  <a:lnTo>
                    <a:pt x="1615" y="461"/>
                  </a:lnTo>
                  <a:lnTo>
                    <a:pt x="1653" y="477"/>
                  </a:lnTo>
                  <a:lnTo>
                    <a:pt x="1692" y="503"/>
                  </a:lnTo>
                  <a:lnTo>
                    <a:pt x="1729" y="532"/>
                  </a:lnTo>
                  <a:lnTo>
                    <a:pt x="1764" y="565"/>
                  </a:lnTo>
                  <a:lnTo>
                    <a:pt x="1799" y="603"/>
                  </a:lnTo>
                  <a:lnTo>
                    <a:pt x="1832" y="640"/>
                  </a:lnTo>
                  <a:lnTo>
                    <a:pt x="1863" y="685"/>
                  </a:lnTo>
                  <a:lnTo>
                    <a:pt x="1890" y="730"/>
                  </a:lnTo>
                  <a:lnTo>
                    <a:pt x="1917" y="777"/>
                  </a:lnTo>
                  <a:lnTo>
                    <a:pt x="1938" y="830"/>
                  </a:lnTo>
                  <a:lnTo>
                    <a:pt x="1957" y="881"/>
                  </a:lnTo>
                  <a:lnTo>
                    <a:pt x="1971" y="935"/>
                  </a:lnTo>
                  <a:lnTo>
                    <a:pt x="1984" y="989"/>
                  </a:lnTo>
                  <a:lnTo>
                    <a:pt x="1993" y="1043"/>
                  </a:lnTo>
                  <a:lnTo>
                    <a:pt x="1993" y="1097"/>
                  </a:lnTo>
                  <a:lnTo>
                    <a:pt x="1993" y="1146"/>
                  </a:lnTo>
                  <a:lnTo>
                    <a:pt x="1988" y="1200"/>
                  </a:lnTo>
                  <a:lnTo>
                    <a:pt x="1982" y="1254"/>
                  </a:lnTo>
                  <a:lnTo>
                    <a:pt x="1969" y="1304"/>
                  </a:lnTo>
                  <a:lnTo>
                    <a:pt x="1957" y="1359"/>
                  </a:lnTo>
                  <a:lnTo>
                    <a:pt x="1941" y="1412"/>
                  </a:lnTo>
                  <a:lnTo>
                    <a:pt x="1923" y="1462"/>
                  </a:lnTo>
                  <a:lnTo>
                    <a:pt x="1902" y="1507"/>
                  </a:lnTo>
                  <a:lnTo>
                    <a:pt x="1881" y="1549"/>
                  </a:lnTo>
                  <a:lnTo>
                    <a:pt x="1857" y="1589"/>
                  </a:lnTo>
                  <a:lnTo>
                    <a:pt x="1830" y="1624"/>
                  </a:lnTo>
                  <a:lnTo>
                    <a:pt x="1805" y="1657"/>
                  </a:lnTo>
                  <a:lnTo>
                    <a:pt x="1774" y="1683"/>
                  </a:lnTo>
                  <a:lnTo>
                    <a:pt x="1744" y="1697"/>
                  </a:lnTo>
                  <a:lnTo>
                    <a:pt x="1713" y="1711"/>
                  </a:lnTo>
                  <a:lnTo>
                    <a:pt x="1679" y="1715"/>
                  </a:lnTo>
                  <a:lnTo>
                    <a:pt x="0" y="168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46720" y="2068560"/>
              <a:ext cx="482760" cy="663480"/>
            </a:xfrm>
            <a:custGeom>
              <a:avLst/>
              <a:gdLst/>
              <a:ahLst/>
              <a:rect l="l" t="t" r="r" b="b"/>
              <a:pathLst>
                <a:path w="1219" h="1675">
                  <a:moveTo>
                    <a:pt x="610" y="0"/>
                  </a:moveTo>
                  <a:lnTo>
                    <a:pt x="549" y="6"/>
                  </a:lnTo>
                  <a:lnTo>
                    <a:pt x="487" y="18"/>
                  </a:lnTo>
                  <a:lnTo>
                    <a:pt x="430" y="38"/>
                  </a:lnTo>
                  <a:lnTo>
                    <a:pt x="372" y="68"/>
                  </a:lnTo>
                  <a:lnTo>
                    <a:pt x="320" y="100"/>
                  </a:lnTo>
                  <a:lnTo>
                    <a:pt x="271" y="146"/>
                  </a:lnTo>
                  <a:lnTo>
                    <a:pt x="222" y="191"/>
                  </a:lnTo>
                  <a:lnTo>
                    <a:pt x="180" y="245"/>
                  </a:lnTo>
                  <a:lnTo>
                    <a:pt x="140" y="304"/>
                  </a:lnTo>
                  <a:lnTo>
                    <a:pt x="107" y="371"/>
                  </a:lnTo>
                  <a:lnTo>
                    <a:pt x="74" y="441"/>
                  </a:lnTo>
                  <a:lnTo>
                    <a:pt x="49" y="512"/>
                  </a:lnTo>
                  <a:lnTo>
                    <a:pt x="27" y="592"/>
                  </a:lnTo>
                  <a:lnTo>
                    <a:pt x="11" y="669"/>
                  </a:lnTo>
                  <a:lnTo>
                    <a:pt x="3" y="752"/>
                  </a:lnTo>
                  <a:lnTo>
                    <a:pt x="0" y="836"/>
                  </a:lnTo>
                  <a:lnTo>
                    <a:pt x="3" y="922"/>
                  </a:lnTo>
                  <a:lnTo>
                    <a:pt x="11" y="1006"/>
                  </a:lnTo>
                  <a:lnTo>
                    <a:pt x="27" y="1083"/>
                  </a:lnTo>
                  <a:lnTo>
                    <a:pt x="49" y="1163"/>
                  </a:lnTo>
                  <a:lnTo>
                    <a:pt x="74" y="1234"/>
                  </a:lnTo>
                  <a:lnTo>
                    <a:pt x="107" y="1304"/>
                  </a:lnTo>
                  <a:lnTo>
                    <a:pt x="140" y="1367"/>
                  </a:lnTo>
                  <a:lnTo>
                    <a:pt x="180" y="1428"/>
                  </a:lnTo>
                  <a:lnTo>
                    <a:pt x="222" y="1482"/>
                  </a:lnTo>
                  <a:lnTo>
                    <a:pt x="271" y="1528"/>
                  </a:lnTo>
                  <a:lnTo>
                    <a:pt x="320" y="1569"/>
                  </a:lnTo>
                  <a:lnTo>
                    <a:pt x="372" y="1607"/>
                  </a:lnTo>
                  <a:lnTo>
                    <a:pt x="430" y="1636"/>
                  </a:lnTo>
                  <a:lnTo>
                    <a:pt x="487" y="1657"/>
                  </a:lnTo>
                  <a:lnTo>
                    <a:pt x="549" y="1669"/>
                  </a:lnTo>
                  <a:lnTo>
                    <a:pt x="610" y="1675"/>
                  </a:lnTo>
                  <a:lnTo>
                    <a:pt x="674" y="1669"/>
                  </a:lnTo>
                  <a:lnTo>
                    <a:pt x="734" y="1657"/>
                  </a:lnTo>
                  <a:lnTo>
                    <a:pt x="793" y="1636"/>
                  </a:lnTo>
                  <a:lnTo>
                    <a:pt x="847" y="1607"/>
                  </a:lnTo>
                  <a:lnTo>
                    <a:pt x="902" y="1569"/>
                  </a:lnTo>
                  <a:lnTo>
                    <a:pt x="952" y="1528"/>
                  </a:lnTo>
                  <a:lnTo>
                    <a:pt x="997" y="1482"/>
                  </a:lnTo>
                  <a:lnTo>
                    <a:pt x="1043" y="1428"/>
                  </a:lnTo>
                  <a:lnTo>
                    <a:pt x="1082" y="1367"/>
                  </a:lnTo>
                  <a:lnTo>
                    <a:pt x="1116" y="1304"/>
                  </a:lnTo>
                  <a:lnTo>
                    <a:pt x="1145" y="1234"/>
                  </a:lnTo>
                  <a:lnTo>
                    <a:pt x="1173" y="1163"/>
                  </a:lnTo>
                  <a:lnTo>
                    <a:pt x="1192" y="1083"/>
                  </a:lnTo>
                  <a:lnTo>
                    <a:pt x="1207" y="1006"/>
                  </a:lnTo>
                  <a:lnTo>
                    <a:pt x="1219" y="922"/>
                  </a:lnTo>
                  <a:lnTo>
                    <a:pt x="1219" y="836"/>
                  </a:lnTo>
                  <a:lnTo>
                    <a:pt x="1219" y="752"/>
                  </a:lnTo>
                  <a:lnTo>
                    <a:pt x="1207" y="669"/>
                  </a:lnTo>
                  <a:lnTo>
                    <a:pt x="1192" y="592"/>
                  </a:lnTo>
                  <a:lnTo>
                    <a:pt x="1173" y="512"/>
                  </a:lnTo>
                  <a:lnTo>
                    <a:pt x="1145" y="441"/>
                  </a:lnTo>
                  <a:lnTo>
                    <a:pt x="1116" y="371"/>
                  </a:lnTo>
                  <a:lnTo>
                    <a:pt x="1082" y="304"/>
                  </a:lnTo>
                  <a:lnTo>
                    <a:pt x="1043" y="245"/>
                  </a:lnTo>
                  <a:lnTo>
                    <a:pt x="997" y="191"/>
                  </a:lnTo>
                  <a:lnTo>
                    <a:pt x="952" y="146"/>
                  </a:lnTo>
                  <a:lnTo>
                    <a:pt x="902" y="100"/>
                  </a:lnTo>
                  <a:lnTo>
                    <a:pt x="847" y="68"/>
                  </a:lnTo>
                  <a:lnTo>
                    <a:pt x="793" y="38"/>
                  </a:lnTo>
                  <a:lnTo>
                    <a:pt x="734" y="18"/>
                  </a:lnTo>
                  <a:lnTo>
                    <a:pt x="674" y="6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19640" y="2662200"/>
              <a:ext cx="727200" cy="273240"/>
            </a:xfrm>
            <a:custGeom>
              <a:avLst/>
              <a:gdLst/>
              <a:ahLst/>
              <a:rect l="l" t="t" r="r" b="b"/>
              <a:pathLst>
                <a:path w="1832" h="689">
                  <a:moveTo>
                    <a:pt x="1829" y="12"/>
                  </a:moveTo>
                  <a:lnTo>
                    <a:pt x="1458" y="29"/>
                  </a:lnTo>
                  <a:lnTo>
                    <a:pt x="1453" y="75"/>
                  </a:lnTo>
                  <a:lnTo>
                    <a:pt x="1447" y="120"/>
                  </a:lnTo>
                  <a:lnTo>
                    <a:pt x="1443" y="163"/>
                  </a:lnTo>
                  <a:lnTo>
                    <a:pt x="1431" y="204"/>
                  </a:lnTo>
                  <a:lnTo>
                    <a:pt x="1418" y="245"/>
                  </a:lnTo>
                  <a:lnTo>
                    <a:pt x="1406" y="288"/>
                  </a:lnTo>
                  <a:lnTo>
                    <a:pt x="1387" y="328"/>
                  </a:lnTo>
                  <a:lnTo>
                    <a:pt x="1375" y="370"/>
                  </a:lnTo>
                  <a:lnTo>
                    <a:pt x="470" y="353"/>
                  </a:lnTo>
                  <a:lnTo>
                    <a:pt x="487" y="312"/>
                  </a:lnTo>
                  <a:lnTo>
                    <a:pt x="503" y="271"/>
                  </a:lnTo>
                  <a:lnTo>
                    <a:pt x="518" y="225"/>
                  </a:lnTo>
                  <a:lnTo>
                    <a:pt x="528" y="183"/>
                  </a:lnTo>
                  <a:lnTo>
                    <a:pt x="536" y="137"/>
                  </a:lnTo>
                  <a:lnTo>
                    <a:pt x="542" y="92"/>
                  </a:lnTo>
                  <a:lnTo>
                    <a:pt x="546" y="47"/>
                  </a:lnTo>
                  <a:lnTo>
                    <a:pt x="546" y="0"/>
                  </a:lnTo>
                  <a:lnTo>
                    <a:pt x="177" y="0"/>
                  </a:lnTo>
                  <a:lnTo>
                    <a:pt x="173" y="59"/>
                  </a:lnTo>
                  <a:lnTo>
                    <a:pt x="167" y="112"/>
                  </a:lnTo>
                  <a:lnTo>
                    <a:pt x="164" y="163"/>
                  </a:lnTo>
                  <a:lnTo>
                    <a:pt x="162" y="208"/>
                  </a:lnTo>
                  <a:lnTo>
                    <a:pt x="156" y="253"/>
                  </a:lnTo>
                  <a:lnTo>
                    <a:pt x="147" y="300"/>
                  </a:lnTo>
                  <a:lnTo>
                    <a:pt x="139" y="341"/>
                  </a:lnTo>
                  <a:lnTo>
                    <a:pt x="131" y="378"/>
                  </a:lnTo>
                  <a:lnTo>
                    <a:pt x="119" y="416"/>
                  </a:lnTo>
                  <a:lnTo>
                    <a:pt x="110" y="453"/>
                  </a:lnTo>
                  <a:lnTo>
                    <a:pt x="94" y="486"/>
                  </a:lnTo>
                  <a:lnTo>
                    <a:pt x="79" y="518"/>
                  </a:lnTo>
                  <a:lnTo>
                    <a:pt x="65" y="553"/>
                  </a:lnTo>
                  <a:lnTo>
                    <a:pt x="46" y="586"/>
                  </a:lnTo>
                  <a:lnTo>
                    <a:pt x="24" y="618"/>
                  </a:lnTo>
                  <a:lnTo>
                    <a:pt x="0" y="653"/>
                  </a:lnTo>
                  <a:lnTo>
                    <a:pt x="1723" y="689"/>
                  </a:lnTo>
                  <a:lnTo>
                    <a:pt x="1764" y="618"/>
                  </a:lnTo>
                  <a:lnTo>
                    <a:pt x="1793" y="541"/>
                  </a:lnTo>
                  <a:lnTo>
                    <a:pt x="1814" y="461"/>
                  </a:lnTo>
                  <a:lnTo>
                    <a:pt x="1826" y="373"/>
                  </a:lnTo>
                  <a:lnTo>
                    <a:pt x="1832" y="282"/>
                  </a:lnTo>
                  <a:lnTo>
                    <a:pt x="1832" y="195"/>
                  </a:lnTo>
                  <a:lnTo>
                    <a:pt x="1832" y="104"/>
                  </a:lnTo>
                  <a:lnTo>
                    <a:pt x="18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73560" y="2916360"/>
              <a:ext cx="654120" cy="193680"/>
            </a:xfrm>
            <a:custGeom>
              <a:avLst/>
              <a:gdLst/>
              <a:ahLst/>
              <a:rect l="l" t="t" r="r" b="b"/>
              <a:pathLst>
                <a:path w="1649" h="489">
                  <a:moveTo>
                    <a:pt x="1649" y="25"/>
                  </a:moveTo>
                  <a:lnTo>
                    <a:pt x="0" y="0"/>
                  </a:lnTo>
                  <a:lnTo>
                    <a:pt x="0" y="91"/>
                  </a:lnTo>
                  <a:lnTo>
                    <a:pt x="83" y="159"/>
                  </a:lnTo>
                  <a:lnTo>
                    <a:pt x="83" y="449"/>
                  </a:lnTo>
                  <a:lnTo>
                    <a:pt x="1513" y="489"/>
                  </a:lnTo>
                  <a:lnTo>
                    <a:pt x="1519" y="179"/>
                  </a:lnTo>
                  <a:lnTo>
                    <a:pt x="1643" y="128"/>
                  </a:lnTo>
                  <a:lnTo>
                    <a:pt x="164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53040" y="2948040"/>
              <a:ext cx="109440" cy="168120"/>
            </a:xfrm>
            <a:custGeom>
              <a:avLst/>
              <a:gdLst/>
              <a:ahLst/>
              <a:rect l="l" t="t" r="r" b="b"/>
              <a:pathLst>
                <a:path w="278" h="425">
                  <a:moveTo>
                    <a:pt x="137" y="425"/>
                  </a:moveTo>
                  <a:lnTo>
                    <a:pt x="165" y="420"/>
                  </a:lnTo>
                  <a:lnTo>
                    <a:pt x="192" y="411"/>
                  </a:lnTo>
                  <a:lnTo>
                    <a:pt x="216" y="391"/>
                  </a:lnTo>
                  <a:lnTo>
                    <a:pt x="234" y="365"/>
                  </a:lnTo>
                  <a:lnTo>
                    <a:pt x="253" y="333"/>
                  </a:lnTo>
                  <a:lnTo>
                    <a:pt x="265" y="296"/>
                  </a:lnTo>
                  <a:lnTo>
                    <a:pt x="274" y="257"/>
                  </a:lnTo>
                  <a:lnTo>
                    <a:pt x="278" y="212"/>
                  </a:lnTo>
                  <a:lnTo>
                    <a:pt x="274" y="172"/>
                  </a:lnTo>
                  <a:lnTo>
                    <a:pt x="265" y="135"/>
                  </a:lnTo>
                  <a:lnTo>
                    <a:pt x="253" y="96"/>
                  </a:lnTo>
                  <a:lnTo>
                    <a:pt x="234" y="63"/>
                  </a:lnTo>
                  <a:lnTo>
                    <a:pt x="216" y="38"/>
                  </a:lnTo>
                  <a:lnTo>
                    <a:pt x="192" y="18"/>
                  </a:lnTo>
                  <a:lnTo>
                    <a:pt x="165" y="4"/>
                  </a:lnTo>
                  <a:lnTo>
                    <a:pt x="137" y="0"/>
                  </a:lnTo>
                  <a:lnTo>
                    <a:pt x="109" y="4"/>
                  </a:lnTo>
                  <a:lnTo>
                    <a:pt x="82" y="18"/>
                  </a:lnTo>
                  <a:lnTo>
                    <a:pt x="61" y="38"/>
                  </a:lnTo>
                  <a:lnTo>
                    <a:pt x="40" y="63"/>
                  </a:lnTo>
                  <a:lnTo>
                    <a:pt x="21" y="96"/>
                  </a:lnTo>
                  <a:lnTo>
                    <a:pt x="9" y="135"/>
                  </a:lnTo>
                  <a:lnTo>
                    <a:pt x="2" y="172"/>
                  </a:lnTo>
                  <a:lnTo>
                    <a:pt x="0" y="212"/>
                  </a:lnTo>
                  <a:lnTo>
                    <a:pt x="2" y="257"/>
                  </a:lnTo>
                  <a:lnTo>
                    <a:pt x="9" y="296"/>
                  </a:lnTo>
                  <a:lnTo>
                    <a:pt x="21" y="333"/>
                  </a:lnTo>
                  <a:lnTo>
                    <a:pt x="40" y="365"/>
                  </a:lnTo>
                  <a:lnTo>
                    <a:pt x="61" y="391"/>
                  </a:lnTo>
                  <a:lnTo>
                    <a:pt x="82" y="411"/>
                  </a:lnTo>
                  <a:lnTo>
                    <a:pt x="109" y="420"/>
                  </a:lnTo>
                  <a:lnTo>
                    <a:pt x="137" y="4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2760" y="2109960"/>
              <a:ext cx="201600" cy="98280"/>
            </a:xfrm>
            <a:custGeom>
              <a:avLst/>
              <a:gdLst/>
              <a:ahLst/>
              <a:rect l="l" t="t" r="r" b="b"/>
              <a:pathLst>
                <a:path w="507" h="247">
                  <a:moveTo>
                    <a:pt x="507" y="226"/>
                  </a:moveTo>
                  <a:lnTo>
                    <a:pt x="507" y="23"/>
                  </a:lnTo>
                  <a:lnTo>
                    <a:pt x="476" y="17"/>
                  </a:lnTo>
                  <a:lnTo>
                    <a:pt x="445" y="13"/>
                  </a:lnTo>
                  <a:lnTo>
                    <a:pt x="416" y="8"/>
                  </a:lnTo>
                  <a:lnTo>
                    <a:pt x="381" y="3"/>
                  </a:lnTo>
                  <a:lnTo>
                    <a:pt x="350" y="3"/>
                  </a:lnTo>
                  <a:lnTo>
                    <a:pt x="319" y="0"/>
                  </a:lnTo>
                  <a:lnTo>
                    <a:pt x="290" y="0"/>
                  </a:lnTo>
                  <a:lnTo>
                    <a:pt x="257" y="0"/>
                  </a:lnTo>
                  <a:lnTo>
                    <a:pt x="226" y="0"/>
                  </a:lnTo>
                  <a:lnTo>
                    <a:pt x="192" y="0"/>
                  </a:lnTo>
                  <a:lnTo>
                    <a:pt x="162" y="0"/>
                  </a:lnTo>
                  <a:lnTo>
                    <a:pt x="132" y="3"/>
                  </a:lnTo>
                  <a:lnTo>
                    <a:pt x="99" y="8"/>
                  </a:lnTo>
                  <a:lnTo>
                    <a:pt x="68" y="13"/>
                  </a:lnTo>
                  <a:lnTo>
                    <a:pt x="38" y="17"/>
                  </a:lnTo>
                  <a:lnTo>
                    <a:pt x="2" y="23"/>
                  </a:lnTo>
                  <a:lnTo>
                    <a:pt x="0" y="54"/>
                  </a:lnTo>
                  <a:lnTo>
                    <a:pt x="43" y="66"/>
                  </a:lnTo>
                  <a:lnTo>
                    <a:pt x="80" y="78"/>
                  </a:lnTo>
                  <a:lnTo>
                    <a:pt x="116" y="91"/>
                  </a:lnTo>
                  <a:lnTo>
                    <a:pt x="146" y="103"/>
                  </a:lnTo>
                  <a:lnTo>
                    <a:pt x="173" y="117"/>
                  </a:lnTo>
                  <a:lnTo>
                    <a:pt x="198" y="122"/>
                  </a:lnTo>
                  <a:lnTo>
                    <a:pt x="223" y="136"/>
                  </a:lnTo>
                  <a:lnTo>
                    <a:pt x="247" y="147"/>
                  </a:lnTo>
                  <a:lnTo>
                    <a:pt x="265" y="155"/>
                  </a:lnTo>
                  <a:lnTo>
                    <a:pt x="286" y="169"/>
                  </a:lnTo>
                  <a:lnTo>
                    <a:pt x="309" y="180"/>
                  </a:lnTo>
                  <a:lnTo>
                    <a:pt x="325" y="190"/>
                  </a:lnTo>
                  <a:lnTo>
                    <a:pt x="348" y="201"/>
                  </a:lnTo>
                  <a:lnTo>
                    <a:pt x="369" y="215"/>
                  </a:lnTo>
                  <a:lnTo>
                    <a:pt x="394" y="226"/>
                  </a:lnTo>
                  <a:lnTo>
                    <a:pt x="418" y="243"/>
                  </a:lnTo>
                  <a:lnTo>
                    <a:pt x="430" y="243"/>
                  </a:lnTo>
                  <a:lnTo>
                    <a:pt x="445" y="243"/>
                  </a:lnTo>
                  <a:lnTo>
                    <a:pt x="461" y="247"/>
                  </a:lnTo>
                  <a:lnTo>
                    <a:pt x="474" y="247"/>
                  </a:lnTo>
                  <a:lnTo>
                    <a:pt x="488" y="247"/>
                  </a:lnTo>
                  <a:lnTo>
                    <a:pt x="496" y="247"/>
                  </a:lnTo>
                  <a:lnTo>
                    <a:pt x="504" y="238"/>
                  </a:lnTo>
                  <a:lnTo>
                    <a:pt x="507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219320" y="2971800"/>
            <a:ext cx="6400800" cy="1301760"/>
            <a:chOff x="1219320" y="2971800"/>
            <a:chExt cx="6400800" cy="1301760"/>
          </a:xfrm>
        </p:grpSpPr>
        <p:sp>
          <p:nvSpPr>
            <p:cNvPr id="145" name=""/>
            <p:cNvSpPr/>
            <p:nvPr/>
          </p:nvSpPr>
          <p:spPr>
            <a:xfrm>
              <a:off x="1305000" y="2995560"/>
              <a:ext cx="5383080" cy="976320"/>
            </a:xfrm>
            <a:custGeom>
              <a:avLst/>
              <a:gdLst/>
              <a:ahLst/>
              <a:rect l="l" t="t" r="r" b="b"/>
              <a:pathLst>
                <a:path w="13564" h="2456">
                  <a:moveTo>
                    <a:pt x="0" y="0"/>
                  </a:moveTo>
                  <a:lnTo>
                    <a:pt x="13564" y="2347"/>
                  </a:lnTo>
                  <a:lnTo>
                    <a:pt x="13148" y="24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219320" y="2971800"/>
              <a:ext cx="6400800" cy="1301760"/>
              <a:chOff x="1219320" y="2971800"/>
              <a:chExt cx="6400800" cy="1301760"/>
            </a:xfrm>
          </p:grpSpPr>
          <p:sp>
            <p:nvSpPr>
              <p:cNvPr id="147" name=""/>
              <p:cNvSpPr/>
              <p:nvPr/>
            </p:nvSpPr>
            <p:spPr>
              <a:xfrm>
                <a:off x="2478240" y="3003480"/>
                <a:ext cx="5141880" cy="1270080"/>
              </a:xfrm>
              <a:custGeom>
                <a:avLst/>
                <a:gdLst/>
                <a:ahLst/>
                <a:rect l="l" t="t" r="r" b="b"/>
                <a:pathLst>
                  <a:path w="12956" h="3197">
                    <a:moveTo>
                      <a:pt x="12956" y="0"/>
                    </a:moveTo>
                    <a:lnTo>
                      <a:pt x="0" y="3080"/>
                    </a:lnTo>
                    <a:lnTo>
                      <a:pt x="450" y="3197"/>
                    </a:lnTo>
                    <a:lnTo>
                      <a:pt x="129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219320" y="2971800"/>
                <a:ext cx="6306480" cy="1300320"/>
                <a:chOff x="1219320" y="2971800"/>
                <a:chExt cx="6306480" cy="13003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219320" y="3002040"/>
                  <a:ext cx="5141520" cy="1270080"/>
                </a:xfrm>
                <a:custGeom>
                  <a:avLst/>
                  <a:gdLst/>
                  <a:ahLst/>
                  <a:rect l="l" t="t" r="r" b="b"/>
                  <a:pathLst>
                    <a:path w="12956" h="3198">
                      <a:moveTo>
                        <a:pt x="0" y="0"/>
                      </a:moveTo>
                      <a:lnTo>
                        <a:pt x="12956" y="3080"/>
                      </a:lnTo>
                      <a:lnTo>
                        <a:pt x="12506" y="31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142720" y="2971800"/>
                  <a:ext cx="5383080" cy="974880"/>
                </a:xfrm>
                <a:custGeom>
                  <a:avLst/>
                  <a:gdLst/>
                  <a:ahLst/>
                  <a:rect l="l" t="t" r="r" b="b"/>
                  <a:pathLst>
                    <a:path w="13563" h="2456">
                      <a:moveTo>
                        <a:pt x="13563" y="0"/>
                      </a:moveTo>
                      <a:lnTo>
                        <a:pt x="0" y="2347"/>
                      </a:lnTo>
                      <a:lnTo>
                        <a:pt x="415" y="2456"/>
                      </a:lnTo>
                      <a:lnTo>
                        <a:pt x="135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1" name=""/>
          <p:cNvGrpSpPr/>
          <p:nvPr/>
        </p:nvGrpSpPr>
        <p:grpSpPr>
          <a:xfrm>
            <a:off x="3886200" y="1905120"/>
            <a:ext cx="990360" cy="2286000"/>
            <a:chOff x="3886200" y="1905120"/>
            <a:chExt cx="990360" cy="2286000"/>
          </a:xfrm>
        </p:grpSpPr>
        <p:sp>
          <p:nvSpPr>
            <p:cNvPr id="152" name=""/>
            <p:cNvSpPr/>
            <p:nvPr/>
          </p:nvSpPr>
          <p:spPr>
            <a:xfrm>
              <a:off x="3886200" y="1905120"/>
              <a:ext cx="990360" cy="838080"/>
            </a:xfrm>
            <a:prstGeom prst="hexagon">
              <a:avLst>
                <a:gd name="adj" fmla="val 29543"/>
                <a:gd name="vf" fmla="val 115470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43400" y="2743200"/>
              <a:ext cx="75960" cy="1447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295280" y="2438280"/>
            <a:ext cx="1067040" cy="803160"/>
            <a:chOff x="1295280" y="2438280"/>
            <a:chExt cx="1067040" cy="803160"/>
          </a:xfrm>
        </p:grpSpPr>
        <p:sp>
          <p:nvSpPr>
            <p:cNvPr id="155" name=""/>
            <p:cNvSpPr/>
            <p:nvPr/>
          </p:nvSpPr>
          <p:spPr>
            <a:xfrm>
              <a:off x="1998360" y="2505600"/>
              <a:ext cx="86400" cy="35640"/>
            </a:xfrm>
            <a:custGeom>
              <a:avLst/>
              <a:gdLst/>
              <a:ahLst/>
              <a:rect l="l" t="t" r="r" b="b"/>
              <a:pathLst>
                <a:path w="504" h="175">
                  <a:moveTo>
                    <a:pt x="0" y="175"/>
                  </a:moveTo>
                  <a:lnTo>
                    <a:pt x="504" y="175"/>
                  </a:lnTo>
                  <a:lnTo>
                    <a:pt x="504" y="110"/>
                  </a:lnTo>
                  <a:lnTo>
                    <a:pt x="501" y="102"/>
                  </a:lnTo>
                  <a:lnTo>
                    <a:pt x="494" y="90"/>
                  </a:lnTo>
                  <a:lnTo>
                    <a:pt x="485" y="81"/>
                  </a:lnTo>
                  <a:lnTo>
                    <a:pt x="476" y="68"/>
                  </a:lnTo>
                  <a:lnTo>
                    <a:pt x="464" y="62"/>
                  </a:lnTo>
                  <a:lnTo>
                    <a:pt x="446" y="53"/>
                  </a:lnTo>
                  <a:lnTo>
                    <a:pt x="430" y="45"/>
                  </a:lnTo>
                  <a:lnTo>
                    <a:pt x="413" y="36"/>
                  </a:lnTo>
                  <a:lnTo>
                    <a:pt x="390" y="28"/>
                  </a:lnTo>
                  <a:lnTo>
                    <a:pt x="373" y="20"/>
                  </a:lnTo>
                  <a:lnTo>
                    <a:pt x="350" y="16"/>
                  </a:lnTo>
                  <a:lnTo>
                    <a:pt x="330" y="8"/>
                  </a:lnTo>
                  <a:lnTo>
                    <a:pt x="311" y="3"/>
                  </a:lnTo>
                  <a:lnTo>
                    <a:pt x="289" y="0"/>
                  </a:lnTo>
                  <a:lnTo>
                    <a:pt x="272" y="0"/>
                  </a:lnTo>
                  <a:lnTo>
                    <a:pt x="256" y="0"/>
                  </a:lnTo>
                  <a:lnTo>
                    <a:pt x="238" y="0"/>
                  </a:lnTo>
                  <a:lnTo>
                    <a:pt x="221" y="0"/>
                  </a:lnTo>
                  <a:lnTo>
                    <a:pt x="198" y="3"/>
                  </a:lnTo>
                  <a:lnTo>
                    <a:pt x="177" y="11"/>
                  </a:lnTo>
                  <a:lnTo>
                    <a:pt x="156" y="16"/>
                  </a:lnTo>
                  <a:lnTo>
                    <a:pt x="135" y="23"/>
                  </a:lnTo>
                  <a:lnTo>
                    <a:pt x="112" y="28"/>
                  </a:lnTo>
                  <a:lnTo>
                    <a:pt x="96" y="36"/>
                  </a:lnTo>
                  <a:lnTo>
                    <a:pt x="73" y="45"/>
                  </a:lnTo>
                  <a:lnTo>
                    <a:pt x="55" y="57"/>
                  </a:lnTo>
                  <a:lnTo>
                    <a:pt x="40" y="65"/>
                  </a:lnTo>
                  <a:lnTo>
                    <a:pt x="28" y="73"/>
                  </a:lnTo>
                  <a:lnTo>
                    <a:pt x="16" y="81"/>
                  </a:lnTo>
                  <a:lnTo>
                    <a:pt x="7" y="93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95280" y="2778840"/>
              <a:ext cx="87840" cy="53640"/>
            </a:xfrm>
            <a:custGeom>
              <a:avLst/>
              <a:gdLst/>
              <a:ahLst/>
              <a:rect l="l" t="t" r="r" b="b"/>
              <a:pathLst>
                <a:path w="509" h="262">
                  <a:moveTo>
                    <a:pt x="509" y="0"/>
                  </a:moveTo>
                  <a:lnTo>
                    <a:pt x="142" y="133"/>
                  </a:lnTo>
                  <a:lnTo>
                    <a:pt x="128" y="137"/>
                  </a:lnTo>
                  <a:lnTo>
                    <a:pt x="118" y="142"/>
                  </a:lnTo>
                  <a:lnTo>
                    <a:pt x="107" y="145"/>
                  </a:lnTo>
                  <a:lnTo>
                    <a:pt x="97" y="154"/>
                  </a:lnTo>
                  <a:lnTo>
                    <a:pt x="88" y="158"/>
                  </a:lnTo>
                  <a:lnTo>
                    <a:pt x="79" y="167"/>
                  </a:lnTo>
                  <a:lnTo>
                    <a:pt x="73" y="170"/>
                  </a:lnTo>
                  <a:lnTo>
                    <a:pt x="67" y="176"/>
                  </a:lnTo>
                  <a:lnTo>
                    <a:pt x="57" y="188"/>
                  </a:lnTo>
                  <a:lnTo>
                    <a:pt x="45" y="195"/>
                  </a:lnTo>
                  <a:lnTo>
                    <a:pt x="36" y="207"/>
                  </a:lnTo>
                  <a:lnTo>
                    <a:pt x="23" y="220"/>
                  </a:lnTo>
                  <a:lnTo>
                    <a:pt x="17" y="232"/>
                  </a:lnTo>
                  <a:lnTo>
                    <a:pt x="9" y="242"/>
                  </a:lnTo>
                  <a:lnTo>
                    <a:pt x="2" y="253"/>
                  </a:lnTo>
                  <a:lnTo>
                    <a:pt x="0" y="262"/>
                  </a:lnTo>
                  <a:lnTo>
                    <a:pt x="307" y="190"/>
                  </a:lnTo>
                  <a:lnTo>
                    <a:pt x="442" y="6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95280" y="2818080"/>
              <a:ext cx="52920" cy="86040"/>
            </a:xfrm>
            <a:custGeom>
              <a:avLst/>
              <a:gdLst/>
              <a:ahLst/>
              <a:rect l="l" t="t" r="r" b="b"/>
              <a:pathLst>
                <a:path w="306" h="425">
                  <a:moveTo>
                    <a:pt x="306" y="0"/>
                  </a:moveTo>
                  <a:lnTo>
                    <a:pt x="306" y="404"/>
                  </a:lnTo>
                  <a:lnTo>
                    <a:pt x="0" y="425"/>
                  </a:lnTo>
                  <a:lnTo>
                    <a:pt x="0" y="72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95280" y="2900160"/>
              <a:ext cx="52920" cy="34920"/>
            </a:xfrm>
            <a:custGeom>
              <a:avLst/>
              <a:gdLst/>
              <a:ahLst/>
              <a:rect l="l" t="t" r="r" b="b"/>
              <a:pathLst>
                <a:path w="306" h="174">
                  <a:moveTo>
                    <a:pt x="306" y="0"/>
                  </a:moveTo>
                  <a:lnTo>
                    <a:pt x="0" y="26"/>
                  </a:lnTo>
                  <a:lnTo>
                    <a:pt x="0" y="174"/>
                  </a:lnTo>
                  <a:lnTo>
                    <a:pt x="306" y="164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95280" y="2933640"/>
              <a:ext cx="56160" cy="10440"/>
            </a:xfrm>
            <a:custGeom>
              <a:avLst/>
              <a:gdLst/>
              <a:ahLst/>
              <a:rect l="l" t="t" r="r" b="b"/>
              <a:pathLst>
                <a:path w="326" h="54">
                  <a:moveTo>
                    <a:pt x="326" y="54"/>
                  </a:moveTo>
                  <a:lnTo>
                    <a:pt x="311" y="0"/>
                  </a:lnTo>
                  <a:lnTo>
                    <a:pt x="0" y="9"/>
                  </a:lnTo>
                  <a:lnTo>
                    <a:pt x="3" y="22"/>
                  </a:lnTo>
                  <a:lnTo>
                    <a:pt x="6" y="34"/>
                  </a:lnTo>
                  <a:lnTo>
                    <a:pt x="12" y="42"/>
                  </a:lnTo>
                  <a:lnTo>
                    <a:pt x="21" y="47"/>
                  </a:lnTo>
                  <a:lnTo>
                    <a:pt x="326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48560" y="2774520"/>
              <a:ext cx="86400" cy="169560"/>
            </a:xfrm>
            <a:custGeom>
              <a:avLst/>
              <a:gdLst/>
              <a:ahLst/>
              <a:rect l="l" t="t" r="r" b="b"/>
              <a:pathLst>
                <a:path w="506" h="834">
                  <a:moveTo>
                    <a:pt x="15" y="834"/>
                  </a:moveTo>
                  <a:lnTo>
                    <a:pt x="9" y="830"/>
                  </a:lnTo>
                  <a:lnTo>
                    <a:pt x="2" y="822"/>
                  </a:lnTo>
                  <a:lnTo>
                    <a:pt x="0" y="805"/>
                  </a:lnTo>
                  <a:lnTo>
                    <a:pt x="0" y="779"/>
                  </a:lnTo>
                  <a:lnTo>
                    <a:pt x="0" y="614"/>
                  </a:lnTo>
                  <a:lnTo>
                    <a:pt x="0" y="211"/>
                  </a:lnTo>
                  <a:lnTo>
                    <a:pt x="0" y="188"/>
                  </a:lnTo>
                  <a:lnTo>
                    <a:pt x="7" y="163"/>
                  </a:lnTo>
                  <a:lnTo>
                    <a:pt x="15" y="141"/>
                  </a:lnTo>
                  <a:lnTo>
                    <a:pt x="30" y="120"/>
                  </a:lnTo>
                  <a:lnTo>
                    <a:pt x="46" y="103"/>
                  </a:lnTo>
                  <a:lnTo>
                    <a:pt x="63" y="88"/>
                  </a:lnTo>
                  <a:lnTo>
                    <a:pt x="82" y="71"/>
                  </a:lnTo>
                  <a:lnTo>
                    <a:pt x="103" y="57"/>
                  </a:lnTo>
                  <a:lnTo>
                    <a:pt x="128" y="46"/>
                  </a:lnTo>
                  <a:lnTo>
                    <a:pt x="148" y="37"/>
                  </a:lnTo>
                  <a:lnTo>
                    <a:pt x="173" y="28"/>
                  </a:lnTo>
                  <a:lnTo>
                    <a:pt x="198" y="20"/>
                  </a:lnTo>
                  <a:lnTo>
                    <a:pt x="222" y="12"/>
                  </a:lnTo>
                  <a:lnTo>
                    <a:pt x="247" y="8"/>
                  </a:lnTo>
                  <a:lnTo>
                    <a:pt x="268" y="3"/>
                  </a:lnTo>
                  <a:lnTo>
                    <a:pt x="290" y="0"/>
                  </a:lnTo>
                  <a:lnTo>
                    <a:pt x="305" y="0"/>
                  </a:lnTo>
                  <a:lnTo>
                    <a:pt x="319" y="0"/>
                  </a:lnTo>
                  <a:lnTo>
                    <a:pt x="335" y="0"/>
                  </a:lnTo>
                  <a:lnTo>
                    <a:pt x="353" y="3"/>
                  </a:lnTo>
                  <a:lnTo>
                    <a:pt x="372" y="8"/>
                  </a:lnTo>
                  <a:lnTo>
                    <a:pt x="391" y="16"/>
                  </a:lnTo>
                  <a:lnTo>
                    <a:pt x="409" y="25"/>
                  </a:lnTo>
                  <a:lnTo>
                    <a:pt x="424" y="34"/>
                  </a:lnTo>
                  <a:lnTo>
                    <a:pt x="443" y="43"/>
                  </a:lnTo>
                  <a:lnTo>
                    <a:pt x="457" y="54"/>
                  </a:lnTo>
                  <a:lnTo>
                    <a:pt x="469" y="66"/>
                  </a:lnTo>
                  <a:lnTo>
                    <a:pt x="482" y="79"/>
                  </a:lnTo>
                  <a:lnTo>
                    <a:pt x="493" y="96"/>
                  </a:lnTo>
                  <a:lnTo>
                    <a:pt x="499" y="111"/>
                  </a:lnTo>
                  <a:lnTo>
                    <a:pt x="504" y="128"/>
                  </a:lnTo>
                  <a:lnTo>
                    <a:pt x="506" y="145"/>
                  </a:lnTo>
                  <a:lnTo>
                    <a:pt x="506" y="834"/>
                  </a:lnTo>
                  <a:lnTo>
                    <a:pt x="15" y="8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53600" y="2730600"/>
              <a:ext cx="140760" cy="80640"/>
            </a:xfrm>
            <a:custGeom>
              <a:avLst/>
              <a:gdLst/>
              <a:ahLst/>
              <a:rect l="l" t="t" r="r" b="b"/>
              <a:pathLst>
                <a:path w="823" h="394">
                  <a:moveTo>
                    <a:pt x="823" y="0"/>
                  </a:moveTo>
                  <a:lnTo>
                    <a:pt x="185" y="228"/>
                  </a:lnTo>
                  <a:lnTo>
                    <a:pt x="171" y="233"/>
                  </a:lnTo>
                  <a:lnTo>
                    <a:pt x="152" y="241"/>
                  </a:lnTo>
                  <a:lnTo>
                    <a:pt x="140" y="249"/>
                  </a:lnTo>
                  <a:lnTo>
                    <a:pt x="127" y="253"/>
                  </a:lnTo>
                  <a:lnTo>
                    <a:pt x="115" y="261"/>
                  </a:lnTo>
                  <a:lnTo>
                    <a:pt x="107" y="269"/>
                  </a:lnTo>
                  <a:lnTo>
                    <a:pt x="97" y="273"/>
                  </a:lnTo>
                  <a:lnTo>
                    <a:pt x="88" y="281"/>
                  </a:lnTo>
                  <a:lnTo>
                    <a:pt x="75" y="294"/>
                  </a:lnTo>
                  <a:lnTo>
                    <a:pt x="61" y="312"/>
                  </a:lnTo>
                  <a:lnTo>
                    <a:pt x="45" y="324"/>
                  </a:lnTo>
                  <a:lnTo>
                    <a:pt x="33" y="341"/>
                  </a:lnTo>
                  <a:lnTo>
                    <a:pt x="21" y="357"/>
                  </a:lnTo>
                  <a:lnTo>
                    <a:pt x="12" y="369"/>
                  </a:lnTo>
                  <a:lnTo>
                    <a:pt x="6" y="381"/>
                  </a:lnTo>
                  <a:lnTo>
                    <a:pt x="0" y="394"/>
                  </a:lnTo>
                  <a:lnTo>
                    <a:pt x="563" y="253"/>
                  </a:lnTo>
                  <a:lnTo>
                    <a:pt x="738" y="73"/>
                  </a:lnTo>
                  <a:lnTo>
                    <a:pt x="8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53600" y="2782080"/>
              <a:ext cx="96840" cy="112320"/>
            </a:xfrm>
            <a:custGeom>
              <a:avLst/>
              <a:gdLst/>
              <a:ahLst/>
              <a:rect l="l" t="t" r="r" b="b"/>
              <a:pathLst>
                <a:path w="564" h="552">
                  <a:moveTo>
                    <a:pt x="564" y="0"/>
                  </a:moveTo>
                  <a:lnTo>
                    <a:pt x="564" y="528"/>
                  </a:lnTo>
                  <a:lnTo>
                    <a:pt x="0" y="552"/>
                  </a:lnTo>
                  <a:lnTo>
                    <a:pt x="0" y="142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53600" y="2889720"/>
              <a:ext cx="96840" cy="45360"/>
            </a:xfrm>
            <a:custGeom>
              <a:avLst/>
              <a:gdLst/>
              <a:ahLst/>
              <a:rect l="l" t="t" r="r" b="b"/>
              <a:pathLst>
                <a:path w="564" h="223">
                  <a:moveTo>
                    <a:pt x="564" y="0"/>
                  </a:moveTo>
                  <a:lnTo>
                    <a:pt x="0" y="30"/>
                  </a:lnTo>
                  <a:lnTo>
                    <a:pt x="0" y="223"/>
                  </a:lnTo>
                  <a:lnTo>
                    <a:pt x="564" y="209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53600" y="2932920"/>
              <a:ext cx="100080" cy="14400"/>
            </a:xfrm>
            <a:custGeom>
              <a:avLst/>
              <a:gdLst/>
              <a:ahLst/>
              <a:rect l="l" t="t" r="r" b="b"/>
              <a:pathLst>
                <a:path w="585" h="73">
                  <a:moveTo>
                    <a:pt x="585" y="73"/>
                  </a:moveTo>
                  <a:lnTo>
                    <a:pt x="563" y="0"/>
                  </a:lnTo>
                  <a:lnTo>
                    <a:pt x="0" y="12"/>
                  </a:lnTo>
                  <a:lnTo>
                    <a:pt x="3" y="28"/>
                  </a:lnTo>
                  <a:lnTo>
                    <a:pt x="9" y="45"/>
                  </a:lnTo>
                  <a:lnTo>
                    <a:pt x="19" y="53"/>
                  </a:lnTo>
                  <a:lnTo>
                    <a:pt x="28" y="57"/>
                  </a:lnTo>
                  <a:lnTo>
                    <a:pt x="58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50440" y="2725920"/>
              <a:ext cx="113760" cy="222480"/>
            </a:xfrm>
            <a:custGeom>
              <a:avLst/>
              <a:gdLst/>
              <a:ahLst/>
              <a:rect l="l" t="t" r="r" b="b"/>
              <a:pathLst>
                <a:path w="665" h="1092">
                  <a:moveTo>
                    <a:pt x="21" y="1092"/>
                  </a:moveTo>
                  <a:lnTo>
                    <a:pt x="12" y="1083"/>
                  </a:lnTo>
                  <a:lnTo>
                    <a:pt x="4" y="1071"/>
                  </a:lnTo>
                  <a:lnTo>
                    <a:pt x="0" y="1051"/>
                  </a:lnTo>
                  <a:lnTo>
                    <a:pt x="0" y="1018"/>
                  </a:lnTo>
                  <a:lnTo>
                    <a:pt x="0" y="806"/>
                  </a:lnTo>
                  <a:lnTo>
                    <a:pt x="0" y="279"/>
                  </a:lnTo>
                  <a:lnTo>
                    <a:pt x="4" y="241"/>
                  </a:lnTo>
                  <a:lnTo>
                    <a:pt x="10" y="213"/>
                  </a:lnTo>
                  <a:lnTo>
                    <a:pt x="21" y="184"/>
                  </a:lnTo>
                  <a:lnTo>
                    <a:pt x="40" y="153"/>
                  </a:lnTo>
                  <a:lnTo>
                    <a:pt x="59" y="133"/>
                  </a:lnTo>
                  <a:lnTo>
                    <a:pt x="82" y="113"/>
                  </a:lnTo>
                  <a:lnTo>
                    <a:pt x="110" y="91"/>
                  </a:lnTo>
                  <a:lnTo>
                    <a:pt x="137" y="76"/>
                  </a:lnTo>
                  <a:lnTo>
                    <a:pt x="168" y="59"/>
                  </a:lnTo>
                  <a:lnTo>
                    <a:pt x="198" y="46"/>
                  </a:lnTo>
                  <a:lnTo>
                    <a:pt x="232" y="34"/>
                  </a:lnTo>
                  <a:lnTo>
                    <a:pt x="263" y="26"/>
                  </a:lnTo>
                  <a:lnTo>
                    <a:pt x="294" y="17"/>
                  </a:lnTo>
                  <a:lnTo>
                    <a:pt x="327" y="8"/>
                  </a:lnTo>
                  <a:lnTo>
                    <a:pt x="354" y="5"/>
                  </a:lnTo>
                  <a:lnTo>
                    <a:pt x="382" y="0"/>
                  </a:lnTo>
                  <a:lnTo>
                    <a:pt x="400" y="0"/>
                  </a:lnTo>
                  <a:lnTo>
                    <a:pt x="421" y="0"/>
                  </a:lnTo>
                  <a:lnTo>
                    <a:pt x="442" y="0"/>
                  </a:lnTo>
                  <a:lnTo>
                    <a:pt x="464" y="5"/>
                  </a:lnTo>
                  <a:lnTo>
                    <a:pt x="488" y="14"/>
                  </a:lnTo>
                  <a:lnTo>
                    <a:pt x="512" y="22"/>
                  </a:lnTo>
                  <a:lnTo>
                    <a:pt x="534" y="31"/>
                  </a:lnTo>
                  <a:lnTo>
                    <a:pt x="559" y="43"/>
                  </a:lnTo>
                  <a:lnTo>
                    <a:pt x="580" y="55"/>
                  </a:lnTo>
                  <a:lnTo>
                    <a:pt x="600" y="71"/>
                  </a:lnTo>
                  <a:lnTo>
                    <a:pt x="619" y="88"/>
                  </a:lnTo>
                  <a:lnTo>
                    <a:pt x="634" y="104"/>
                  </a:lnTo>
                  <a:lnTo>
                    <a:pt x="647" y="121"/>
                  </a:lnTo>
                  <a:lnTo>
                    <a:pt x="656" y="142"/>
                  </a:lnTo>
                  <a:lnTo>
                    <a:pt x="661" y="167"/>
                  </a:lnTo>
                  <a:lnTo>
                    <a:pt x="665" y="188"/>
                  </a:lnTo>
                  <a:lnTo>
                    <a:pt x="665" y="1088"/>
                  </a:lnTo>
                  <a:lnTo>
                    <a:pt x="21" y="10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55840" y="2651760"/>
              <a:ext cx="233280" cy="122040"/>
            </a:xfrm>
            <a:custGeom>
              <a:avLst/>
              <a:gdLst/>
              <a:ahLst/>
              <a:rect l="l" t="t" r="r" b="b"/>
              <a:pathLst>
                <a:path w="1359" h="602">
                  <a:moveTo>
                    <a:pt x="1359" y="0"/>
                  </a:moveTo>
                  <a:lnTo>
                    <a:pt x="260" y="370"/>
                  </a:lnTo>
                  <a:lnTo>
                    <a:pt x="235" y="378"/>
                  </a:lnTo>
                  <a:lnTo>
                    <a:pt x="213" y="386"/>
                  </a:lnTo>
                  <a:lnTo>
                    <a:pt x="194" y="398"/>
                  </a:lnTo>
                  <a:lnTo>
                    <a:pt x="177" y="406"/>
                  </a:lnTo>
                  <a:lnTo>
                    <a:pt x="161" y="418"/>
                  </a:lnTo>
                  <a:lnTo>
                    <a:pt x="147" y="428"/>
                  </a:lnTo>
                  <a:lnTo>
                    <a:pt x="134" y="436"/>
                  </a:lnTo>
                  <a:lnTo>
                    <a:pt x="124" y="444"/>
                  </a:lnTo>
                  <a:lnTo>
                    <a:pt x="103" y="465"/>
                  </a:lnTo>
                  <a:lnTo>
                    <a:pt x="85" y="486"/>
                  </a:lnTo>
                  <a:lnTo>
                    <a:pt x="67" y="506"/>
                  </a:lnTo>
                  <a:lnTo>
                    <a:pt x="48" y="526"/>
                  </a:lnTo>
                  <a:lnTo>
                    <a:pt x="33" y="549"/>
                  </a:lnTo>
                  <a:lnTo>
                    <a:pt x="17" y="569"/>
                  </a:lnTo>
                  <a:lnTo>
                    <a:pt x="9" y="586"/>
                  </a:lnTo>
                  <a:lnTo>
                    <a:pt x="0" y="602"/>
                  </a:lnTo>
                  <a:lnTo>
                    <a:pt x="1000" y="348"/>
                  </a:lnTo>
                  <a:lnTo>
                    <a:pt x="1243" y="100"/>
                  </a:lnTo>
                  <a:lnTo>
                    <a:pt x="13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55840" y="2721960"/>
              <a:ext cx="171720" cy="165240"/>
            </a:xfrm>
            <a:custGeom>
              <a:avLst/>
              <a:gdLst/>
              <a:ahLst/>
              <a:rect l="l" t="t" r="r" b="b"/>
              <a:pathLst>
                <a:path w="1000" h="810">
                  <a:moveTo>
                    <a:pt x="1000" y="0"/>
                  </a:moveTo>
                  <a:lnTo>
                    <a:pt x="1000" y="731"/>
                  </a:lnTo>
                  <a:lnTo>
                    <a:pt x="0" y="810"/>
                  </a:lnTo>
                  <a:lnTo>
                    <a:pt x="0" y="255"/>
                  </a:lnTo>
                  <a:lnTo>
                    <a:pt x="10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55840" y="2871000"/>
              <a:ext cx="171720" cy="62640"/>
            </a:xfrm>
            <a:custGeom>
              <a:avLst/>
              <a:gdLst/>
              <a:ahLst/>
              <a:rect l="l" t="t" r="r" b="b"/>
              <a:pathLst>
                <a:path w="1000" h="305">
                  <a:moveTo>
                    <a:pt x="1000" y="0"/>
                  </a:moveTo>
                  <a:lnTo>
                    <a:pt x="0" y="79"/>
                  </a:lnTo>
                  <a:lnTo>
                    <a:pt x="0" y="305"/>
                  </a:lnTo>
                  <a:lnTo>
                    <a:pt x="1000" y="293"/>
                  </a:lnTo>
                  <a:lnTo>
                    <a:pt x="10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55840" y="2931120"/>
              <a:ext cx="177120" cy="21240"/>
            </a:xfrm>
            <a:custGeom>
              <a:avLst/>
              <a:gdLst/>
              <a:ahLst/>
              <a:rect l="l" t="t" r="r" b="b"/>
              <a:pathLst>
                <a:path w="1031" h="105">
                  <a:moveTo>
                    <a:pt x="1031" y="105"/>
                  </a:moveTo>
                  <a:lnTo>
                    <a:pt x="1001" y="0"/>
                  </a:lnTo>
                  <a:lnTo>
                    <a:pt x="0" y="13"/>
                  </a:lnTo>
                  <a:lnTo>
                    <a:pt x="3" y="27"/>
                  </a:lnTo>
                  <a:lnTo>
                    <a:pt x="7" y="38"/>
                  </a:lnTo>
                  <a:lnTo>
                    <a:pt x="10" y="51"/>
                  </a:lnTo>
                  <a:lnTo>
                    <a:pt x="16" y="60"/>
                  </a:lnTo>
                  <a:lnTo>
                    <a:pt x="22" y="66"/>
                  </a:lnTo>
                  <a:lnTo>
                    <a:pt x="28" y="70"/>
                  </a:lnTo>
                  <a:lnTo>
                    <a:pt x="33" y="74"/>
                  </a:lnTo>
                  <a:lnTo>
                    <a:pt x="40" y="80"/>
                  </a:lnTo>
                  <a:lnTo>
                    <a:pt x="1031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27560" y="2643480"/>
              <a:ext cx="157680" cy="308880"/>
            </a:xfrm>
            <a:custGeom>
              <a:avLst/>
              <a:gdLst/>
              <a:ahLst/>
              <a:rect l="l" t="t" r="r" b="b"/>
              <a:pathLst>
                <a:path w="920" h="1516">
                  <a:moveTo>
                    <a:pt x="29" y="1516"/>
                  </a:moveTo>
                  <a:lnTo>
                    <a:pt x="25" y="1511"/>
                  </a:lnTo>
                  <a:lnTo>
                    <a:pt x="19" y="1508"/>
                  </a:lnTo>
                  <a:lnTo>
                    <a:pt x="13" y="1499"/>
                  </a:lnTo>
                  <a:lnTo>
                    <a:pt x="6" y="1485"/>
                  </a:lnTo>
                  <a:lnTo>
                    <a:pt x="2" y="1473"/>
                  </a:lnTo>
                  <a:lnTo>
                    <a:pt x="0" y="1457"/>
                  </a:lnTo>
                  <a:lnTo>
                    <a:pt x="0" y="1436"/>
                  </a:lnTo>
                  <a:lnTo>
                    <a:pt x="0" y="1411"/>
                  </a:lnTo>
                  <a:lnTo>
                    <a:pt x="0" y="1116"/>
                  </a:lnTo>
                  <a:lnTo>
                    <a:pt x="0" y="385"/>
                  </a:lnTo>
                  <a:lnTo>
                    <a:pt x="2" y="336"/>
                  </a:lnTo>
                  <a:lnTo>
                    <a:pt x="15" y="294"/>
                  </a:lnTo>
                  <a:lnTo>
                    <a:pt x="29" y="253"/>
                  </a:lnTo>
                  <a:lnTo>
                    <a:pt x="54" y="216"/>
                  </a:lnTo>
                  <a:lnTo>
                    <a:pt x="82" y="183"/>
                  </a:lnTo>
                  <a:lnTo>
                    <a:pt x="115" y="153"/>
                  </a:lnTo>
                  <a:lnTo>
                    <a:pt x="152" y="129"/>
                  </a:lnTo>
                  <a:lnTo>
                    <a:pt x="192" y="104"/>
                  </a:lnTo>
                  <a:lnTo>
                    <a:pt x="231" y="83"/>
                  </a:lnTo>
                  <a:lnTo>
                    <a:pt x="278" y="63"/>
                  </a:lnTo>
                  <a:lnTo>
                    <a:pt x="319" y="49"/>
                  </a:lnTo>
                  <a:lnTo>
                    <a:pt x="363" y="32"/>
                  </a:lnTo>
                  <a:lnTo>
                    <a:pt x="408" y="20"/>
                  </a:lnTo>
                  <a:lnTo>
                    <a:pt x="449" y="12"/>
                  </a:lnTo>
                  <a:lnTo>
                    <a:pt x="490" y="9"/>
                  </a:lnTo>
                  <a:lnTo>
                    <a:pt x="527" y="0"/>
                  </a:lnTo>
                  <a:lnTo>
                    <a:pt x="555" y="0"/>
                  </a:lnTo>
                  <a:lnTo>
                    <a:pt x="582" y="0"/>
                  </a:lnTo>
                  <a:lnTo>
                    <a:pt x="613" y="4"/>
                  </a:lnTo>
                  <a:lnTo>
                    <a:pt x="642" y="9"/>
                  </a:lnTo>
                  <a:lnTo>
                    <a:pt x="676" y="17"/>
                  </a:lnTo>
                  <a:lnTo>
                    <a:pt x="710" y="29"/>
                  </a:lnTo>
                  <a:lnTo>
                    <a:pt x="741" y="41"/>
                  </a:lnTo>
                  <a:lnTo>
                    <a:pt x="774" y="58"/>
                  </a:lnTo>
                  <a:lnTo>
                    <a:pt x="805" y="79"/>
                  </a:lnTo>
                  <a:lnTo>
                    <a:pt x="833" y="100"/>
                  </a:lnTo>
                  <a:lnTo>
                    <a:pt x="857" y="120"/>
                  </a:lnTo>
                  <a:lnTo>
                    <a:pt x="878" y="145"/>
                  </a:lnTo>
                  <a:lnTo>
                    <a:pt x="897" y="171"/>
                  </a:lnTo>
                  <a:lnTo>
                    <a:pt x="907" y="200"/>
                  </a:lnTo>
                  <a:lnTo>
                    <a:pt x="918" y="228"/>
                  </a:lnTo>
                  <a:lnTo>
                    <a:pt x="920" y="262"/>
                  </a:lnTo>
                  <a:lnTo>
                    <a:pt x="920" y="1511"/>
                  </a:lnTo>
                  <a:lnTo>
                    <a:pt x="29" y="1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4920" y="3042000"/>
              <a:ext cx="66240" cy="85320"/>
            </a:xfrm>
            <a:custGeom>
              <a:avLst/>
              <a:gdLst/>
              <a:ahLst/>
              <a:rect l="l" t="t" r="r" b="b"/>
              <a:pathLst>
                <a:path w="388" h="421">
                  <a:moveTo>
                    <a:pt x="0" y="71"/>
                  </a:moveTo>
                  <a:lnTo>
                    <a:pt x="189" y="253"/>
                  </a:lnTo>
                  <a:lnTo>
                    <a:pt x="189" y="378"/>
                  </a:lnTo>
                  <a:lnTo>
                    <a:pt x="228" y="421"/>
                  </a:lnTo>
                  <a:lnTo>
                    <a:pt x="388" y="421"/>
                  </a:lnTo>
                  <a:lnTo>
                    <a:pt x="388" y="391"/>
                  </a:lnTo>
                  <a:lnTo>
                    <a:pt x="360" y="370"/>
                  </a:lnTo>
                  <a:lnTo>
                    <a:pt x="272" y="370"/>
                  </a:lnTo>
                  <a:lnTo>
                    <a:pt x="272" y="0"/>
                  </a:lnTo>
                  <a:lnTo>
                    <a:pt x="189" y="0"/>
                  </a:lnTo>
                  <a:lnTo>
                    <a:pt x="189" y="184"/>
                  </a:lnTo>
                  <a:lnTo>
                    <a:pt x="0" y="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90880" y="2438280"/>
              <a:ext cx="101520" cy="104400"/>
            </a:xfrm>
            <a:custGeom>
              <a:avLst/>
              <a:gdLst/>
              <a:ahLst/>
              <a:rect l="l" t="t" r="r" b="b"/>
              <a:pathLst>
                <a:path w="594" h="514">
                  <a:moveTo>
                    <a:pt x="294" y="514"/>
                  </a:moveTo>
                  <a:lnTo>
                    <a:pt x="594" y="514"/>
                  </a:lnTo>
                  <a:lnTo>
                    <a:pt x="571" y="497"/>
                  </a:lnTo>
                  <a:lnTo>
                    <a:pt x="551" y="477"/>
                  </a:lnTo>
                  <a:lnTo>
                    <a:pt x="530" y="456"/>
                  </a:lnTo>
                  <a:lnTo>
                    <a:pt x="511" y="440"/>
                  </a:lnTo>
                  <a:lnTo>
                    <a:pt x="496" y="415"/>
                  </a:lnTo>
                  <a:lnTo>
                    <a:pt x="483" y="389"/>
                  </a:lnTo>
                  <a:lnTo>
                    <a:pt x="477" y="361"/>
                  </a:lnTo>
                  <a:lnTo>
                    <a:pt x="475" y="336"/>
                  </a:lnTo>
                  <a:lnTo>
                    <a:pt x="475" y="171"/>
                  </a:lnTo>
                  <a:lnTo>
                    <a:pt x="475" y="161"/>
                  </a:lnTo>
                  <a:lnTo>
                    <a:pt x="481" y="153"/>
                  </a:lnTo>
                  <a:lnTo>
                    <a:pt x="488" y="148"/>
                  </a:lnTo>
                  <a:lnTo>
                    <a:pt x="496" y="141"/>
                  </a:lnTo>
                  <a:lnTo>
                    <a:pt x="502" y="136"/>
                  </a:lnTo>
                  <a:lnTo>
                    <a:pt x="508" y="133"/>
                  </a:lnTo>
                  <a:lnTo>
                    <a:pt x="514" y="124"/>
                  </a:lnTo>
                  <a:lnTo>
                    <a:pt x="514" y="116"/>
                  </a:lnTo>
                  <a:lnTo>
                    <a:pt x="514" y="108"/>
                  </a:lnTo>
                  <a:lnTo>
                    <a:pt x="511" y="99"/>
                  </a:lnTo>
                  <a:lnTo>
                    <a:pt x="505" y="95"/>
                  </a:lnTo>
                  <a:lnTo>
                    <a:pt x="502" y="91"/>
                  </a:lnTo>
                  <a:lnTo>
                    <a:pt x="496" y="87"/>
                  </a:lnTo>
                  <a:lnTo>
                    <a:pt x="490" y="83"/>
                  </a:lnTo>
                  <a:lnTo>
                    <a:pt x="483" y="79"/>
                  </a:lnTo>
                  <a:lnTo>
                    <a:pt x="477" y="71"/>
                  </a:lnTo>
                  <a:lnTo>
                    <a:pt x="475" y="57"/>
                  </a:lnTo>
                  <a:lnTo>
                    <a:pt x="469" y="48"/>
                  </a:lnTo>
                  <a:lnTo>
                    <a:pt x="463" y="40"/>
                  </a:lnTo>
                  <a:lnTo>
                    <a:pt x="452" y="34"/>
                  </a:lnTo>
                  <a:lnTo>
                    <a:pt x="444" y="25"/>
                  </a:lnTo>
                  <a:lnTo>
                    <a:pt x="432" y="20"/>
                  </a:lnTo>
                  <a:lnTo>
                    <a:pt x="423" y="16"/>
                  </a:lnTo>
                  <a:lnTo>
                    <a:pt x="408" y="11"/>
                  </a:lnTo>
                  <a:lnTo>
                    <a:pt x="395" y="8"/>
                  </a:lnTo>
                  <a:lnTo>
                    <a:pt x="383" y="8"/>
                  </a:lnTo>
                  <a:lnTo>
                    <a:pt x="368" y="3"/>
                  </a:lnTo>
                  <a:lnTo>
                    <a:pt x="353" y="3"/>
                  </a:lnTo>
                  <a:lnTo>
                    <a:pt x="337" y="3"/>
                  </a:lnTo>
                  <a:lnTo>
                    <a:pt x="325" y="3"/>
                  </a:lnTo>
                  <a:lnTo>
                    <a:pt x="310" y="0"/>
                  </a:lnTo>
                  <a:lnTo>
                    <a:pt x="298" y="0"/>
                  </a:lnTo>
                  <a:lnTo>
                    <a:pt x="284" y="0"/>
                  </a:lnTo>
                  <a:lnTo>
                    <a:pt x="267" y="3"/>
                  </a:lnTo>
                  <a:lnTo>
                    <a:pt x="255" y="3"/>
                  </a:lnTo>
                  <a:lnTo>
                    <a:pt x="240" y="3"/>
                  </a:lnTo>
                  <a:lnTo>
                    <a:pt x="225" y="3"/>
                  </a:lnTo>
                  <a:lnTo>
                    <a:pt x="210" y="8"/>
                  </a:lnTo>
                  <a:lnTo>
                    <a:pt x="198" y="8"/>
                  </a:lnTo>
                  <a:lnTo>
                    <a:pt x="185" y="11"/>
                  </a:lnTo>
                  <a:lnTo>
                    <a:pt x="171" y="16"/>
                  </a:lnTo>
                  <a:lnTo>
                    <a:pt x="160" y="20"/>
                  </a:lnTo>
                  <a:lnTo>
                    <a:pt x="148" y="25"/>
                  </a:lnTo>
                  <a:lnTo>
                    <a:pt x="140" y="34"/>
                  </a:lnTo>
                  <a:lnTo>
                    <a:pt x="130" y="40"/>
                  </a:lnTo>
                  <a:lnTo>
                    <a:pt x="124" y="48"/>
                  </a:lnTo>
                  <a:lnTo>
                    <a:pt x="119" y="57"/>
                  </a:lnTo>
                  <a:lnTo>
                    <a:pt x="115" y="71"/>
                  </a:lnTo>
                  <a:lnTo>
                    <a:pt x="109" y="79"/>
                  </a:lnTo>
                  <a:lnTo>
                    <a:pt x="102" y="83"/>
                  </a:lnTo>
                  <a:lnTo>
                    <a:pt x="96" y="87"/>
                  </a:lnTo>
                  <a:lnTo>
                    <a:pt x="90" y="91"/>
                  </a:lnTo>
                  <a:lnTo>
                    <a:pt x="88" y="95"/>
                  </a:lnTo>
                  <a:lnTo>
                    <a:pt x="82" y="99"/>
                  </a:lnTo>
                  <a:lnTo>
                    <a:pt x="79" y="108"/>
                  </a:lnTo>
                  <a:lnTo>
                    <a:pt x="79" y="116"/>
                  </a:lnTo>
                  <a:lnTo>
                    <a:pt x="79" y="124"/>
                  </a:lnTo>
                  <a:lnTo>
                    <a:pt x="85" y="133"/>
                  </a:lnTo>
                  <a:lnTo>
                    <a:pt x="90" y="136"/>
                  </a:lnTo>
                  <a:lnTo>
                    <a:pt x="100" y="141"/>
                  </a:lnTo>
                  <a:lnTo>
                    <a:pt x="105" y="148"/>
                  </a:lnTo>
                  <a:lnTo>
                    <a:pt x="113" y="153"/>
                  </a:lnTo>
                  <a:lnTo>
                    <a:pt x="119" y="161"/>
                  </a:lnTo>
                  <a:lnTo>
                    <a:pt x="119" y="171"/>
                  </a:lnTo>
                  <a:lnTo>
                    <a:pt x="119" y="336"/>
                  </a:lnTo>
                  <a:lnTo>
                    <a:pt x="115" y="361"/>
                  </a:lnTo>
                  <a:lnTo>
                    <a:pt x="109" y="389"/>
                  </a:lnTo>
                  <a:lnTo>
                    <a:pt x="96" y="415"/>
                  </a:lnTo>
                  <a:lnTo>
                    <a:pt x="82" y="440"/>
                  </a:lnTo>
                  <a:lnTo>
                    <a:pt x="63" y="456"/>
                  </a:lnTo>
                  <a:lnTo>
                    <a:pt x="41" y="477"/>
                  </a:lnTo>
                  <a:lnTo>
                    <a:pt x="21" y="497"/>
                  </a:lnTo>
                  <a:lnTo>
                    <a:pt x="0" y="514"/>
                  </a:lnTo>
                  <a:lnTo>
                    <a:pt x="294" y="5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97800" y="2826000"/>
              <a:ext cx="1001880" cy="415440"/>
            </a:xfrm>
            <a:custGeom>
              <a:avLst/>
              <a:gdLst/>
              <a:ahLst/>
              <a:rect l="l" t="t" r="r" b="b"/>
              <a:pathLst>
                <a:path w="5838" h="2041">
                  <a:moveTo>
                    <a:pt x="0" y="564"/>
                  </a:moveTo>
                  <a:lnTo>
                    <a:pt x="1951" y="619"/>
                  </a:lnTo>
                  <a:lnTo>
                    <a:pt x="2115" y="478"/>
                  </a:lnTo>
                  <a:lnTo>
                    <a:pt x="2707" y="489"/>
                  </a:lnTo>
                  <a:lnTo>
                    <a:pt x="2926" y="33"/>
                  </a:lnTo>
                  <a:lnTo>
                    <a:pt x="5391" y="0"/>
                  </a:lnTo>
                  <a:lnTo>
                    <a:pt x="5838" y="0"/>
                  </a:lnTo>
                  <a:lnTo>
                    <a:pt x="5838" y="1074"/>
                  </a:lnTo>
                  <a:lnTo>
                    <a:pt x="5759" y="1074"/>
                  </a:lnTo>
                  <a:lnTo>
                    <a:pt x="5775" y="1104"/>
                  </a:lnTo>
                  <a:lnTo>
                    <a:pt x="5790" y="1145"/>
                  </a:lnTo>
                  <a:lnTo>
                    <a:pt x="5804" y="1200"/>
                  </a:lnTo>
                  <a:lnTo>
                    <a:pt x="5814" y="1257"/>
                  </a:lnTo>
                  <a:lnTo>
                    <a:pt x="5823" y="1324"/>
                  </a:lnTo>
                  <a:lnTo>
                    <a:pt x="5829" y="1395"/>
                  </a:lnTo>
                  <a:lnTo>
                    <a:pt x="5832" y="1469"/>
                  </a:lnTo>
                  <a:lnTo>
                    <a:pt x="5832" y="1543"/>
                  </a:lnTo>
                  <a:lnTo>
                    <a:pt x="5829" y="1614"/>
                  </a:lnTo>
                  <a:lnTo>
                    <a:pt x="5823" y="1686"/>
                  </a:lnTo>
                  <a:lnTo>
                    <a:pt x="5814" y="1751"/>
                  </a:lnTo>
                  <a:lnTo>
                    <a:pt x="5802" y="1810"/>
                  </a:lnTo>
                  <a:lnTo>
                    <a:pt x="5783" y="1859"/>
                  </a:lnTo>
                  <a:lnTo>
                    <a:pt x="5765" y="1901"/>
                  </a:lnTo>
                  <a:lnTo>
                    <a:pt x="5741" y="1927"/>
                  </a:lnTo>
                  <a:lnTo>
                    <a:pt x="5713" y="1939"/>
                  </a:lnTo>
                  <a:lnTo>
                    <a:pt x="5664" y="2029"/>
                  </a:lnTo>
                  <a:lnTo>
                    <a:pt x="5027" y="2041"/>
                  </a:lnTo>
                  <a:lnTo>
                    <a:pt x="4681" y="1996"/>
                  </a:lnTo>
                  <a:lnTo>
                    <a:pt x="42" y="847"/>
                  </a:lnTo>
                  <a:lnTo>
                    <a:pt x="27" y="839"/>
                  </a:lnTo>
                  <a:lnTo>
                    <a:pt x="18" y="813"/>
                  </a:lnTo>
                  <a:lnTo>
                    <a:pt x="12" y="784"/>
                  </a:lnTo>
                  <a:lnTo>
                    <a:pt x="8" y="751"/>
                  </a:lnTo>
                  <a:lnTo>
                    <a:pt x="8" y="719"/>
                  </a:lnTo>
                  <a:lnTo>
                    <a:pt x="12" y="688"/>
                  </a:lnTo>
                  <a:lnTo>
                    <a:pt x="14" y="668"/>
                  </a:lnTo>
                  <a:lnTo>
                    <a:pt x="18" y="656"/>
                  </a:lnTo>
                  <a:lnTo>
                    <a:pt x="0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50320" y="2551320"/>
              <a:ext cx="166680" cy="106560"/>
            </a:xfrm>
            <a:custGeom>
              <a:avLst/>
              <a:gdLst/>
              <a:ahLst/>
              <a:rect l="l" t="t" r="r" b="b"/>
              <a:pathLst>
                <a:path w="974" h="521">
                  <a:moveTo>
                    <a:pt x="0" y="521"/>
                  </a:moveTo>
                  <a:lnTo>
                    <a:pt x="303" y="444"/>
                  </a:lnTo>
                  <a:lnTo>
                    <a:pt x="321" y="430"/>
                  </a:lnTo>
                  <a:lnTo>
                    <a:pt x="342" y="419"/>
                  </a:lnTo>
                  <a:lnTo>
                    <a:pt x="363" y="401"/>
                  </a:lnTo>
                  <a:lnTo>
                    <a:pt x="381" y="389"/>
                  </a:lnTo>
                  <a:lnTo>
                    <a:pt x="403" y="376"/>
                  </a:lnTo>
                  <a:lnTo>
                    <a:pt x="425" y="361"/>
                  </a:lnTo>
                  <a:lnTo>
                    <a:pt x="447" y="348"/>
                  </a:lnTo>
                  <a:lnTo>
                    <a:pt x="467" y="331"/>
                  </a:lnTo>
                  <a:lnTo>
                    <a:pt x="488" y="319"/>
                  </a:lnTo>
                  <a:lnTo>
                    <a:pt x="511" y="307"/>
                  </a:lnTo>
                  <a:lnTo>
                    <a:pt x="532" y="293"/>
                  </a:lnTo>
                  <a:lnTo>
                    <a:pt x="552" y="277"/>
                  </a:lnTo>
                  <a:lnTo>
                    <a:pt x="574" y="265"/>
                  </a:lnTo>
                  <a:lnTo>
                    <a:pt x="595" y="253"/>
                  </a:lnTo>
                  <a:lnTo>
                    <a:pt x="616" y="236"/>
                  </a:lnTo>
                  <a:lnTo>
                    <a:pt x="638" y="223"/>
                  </a:lnTo>
                  <a:lnTo>
                    <a:pt x="659" y="211"/>
                  </a:lnTo>
                  <a:lnTo>
                    <a:pt x="681" y="195"/>
                  </a:lnTo>
                  <a:lnTo>
                    <a:pt x="702" y="183"/>
                  </a:lnTo>
                  <a:lnTo>
                    <a:pt x="723" y="169"/>
                  </a:lnTo>
                  <a:lnTo>
                    <a:pt x="745" y="154"/>
                  </a:lnTo>
                  <a:lnTo>
                    <a:pt x="766" y="140"/>
                  </a:lnTo>
                  <a:lnTo>
                    <a:pt x="788" y="123"/>
                  </a:lnTo>
                  <a:lnTo>
                    <a:pt x="809" y="112"/>
                  </a:lnTo>
                  <a:lnTo>
                    <a:pt x="830" y="100"/>
                  </a:lnTo>
                  <a:lnTo>
                    <a:pt x="852" y="83"/>
                  </a:lnTo>
                  <a:lnTo>
                    <a:pt x="873" y="69"/>
                  </a:lnTo>
                  <a:lnTo>
                    <a:pt x="891" y="58"/>
                  </a:lnTo>
                  <a:lnTo>
                    <a:pt x="913" y="40"/>
                  </a:lnTo>
                  <a:lnTo>
                    <a:pt x="934" y="28"/>
                  </a:lnTo>
                  <a:lnTo>
                    <a:pt x="955" y="15"/>
                  </a:lnTo>
                  <a:lnTo>
                    <a:pt x="974" y="0"/>
                  </a:lnTo>
                  <a:lnTo>
                    <a:pt x="947" y="0"/>
                  </a:lnTo>
                  <a:lnTo>
                    <a:pt x="918" y="3"/>
                  </a:lnTo>
                  <a:lnTo>
                    <a:pt x="888" y="3"/>
                  </a:lnTo>
                  <a:lnTo>
                    <a:pt x="858" y="7"/>
                  </a:lnTo>
                  <a:lnTo>
                    <a:pt x="824" y="7"/>
                  </a:lnTo>
                  <a:lnTo>
                    <a:pt x="790" y="12"/>
                  </a:lnTo>
                  <a:lnTo>
                    <a:pt x="757" y="15"/>
                  </a:lnTo>
                  <a:lnTo>
                    <a:pt x="723" y="20"/>
                  </a:lnTo>
                  <a:lnTo>
                    <a:pt x="687" y="28"/>
                  </a:lnTo>
                  <a:lnTo>
                    <a:pt x="653" y="38"/>
                  </a:lnTo>
                  <a:lnTo>
                    <a:pt x="616" y="46"/>
                  </a:lnTo>
                  <a:lnTo>
                    <a:pt x="583" y="52"/>
                  </a:lnTo>
                  <a:lnTo>
                    <a:pt x="546" y="66"/>
                  </a:lnTo>
                  <a:lnTo>
                    <a:pt x="511" y="75"/>
                  </a:lnTo>
                  <a:lnTo>
                    <a:pt x="476" y="87"/>
                  </a:lnTo>
                  <a:lnTo>
                    <a:pt x="439" y="103"/>
                  </a:lnTo>
                  <a:lnTo>
                    <a:pt x="406" y="115"/>
                  </a:lnTo>
                  <a:lnTo>
                    <a:pt x="369" y="132"/>
                  </a:lnTo>
                  <a:lnTo>
                    <a:pt x="336" y="154"/>
                  </a:lnTo>
                  <a:lnTo>
                    <a:pt x="306" y="169"/>
                  </a:lnTo>
                  <a:lnTo>
                    <a:pt x="273" y="191"/>
                  </a:lnTo>
                  <a:lnTo>
                    <a:pt x="242" y="211"/>
                  </a:lnTo>
                  <a:lnTo>
                    <a:pt x="211" y="236"/>
                  </a:lnTo>
                  <a:lnTo>
                    <a:pt x="180" y="261"/>
                  </a:lnTo>
                  <a:lnTo>
                    <a:pt x="153" y="285"/>
                  </a:lnTo>
                  <a:lnTo>
                    <a:pt x="126" y="319"/>
                  </a:lnTo>
                  <a:lnTo>
                    <a:pt x="102" y="348"/>
                  </a:lnTo>
                  <a:lnTo>
                    <a:pt x="77" y="376"/>
                  </a:lnTo>
                  <a:lnTo>
                    <a:pt x="56" y="416"/>
                  </a:lnTo>
                  <a:lnTo>
                    <a:pt x="33" y="448"/>
                  </a:lnTo>
                  <a:lnTo>
                    <a:pt x="19" y="484"/>
                  </a:lnTo>
                  <a:lnTo>
                    <a:pt x="0" y="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0000" y="2552040"/>
              <a:ext cx="201960" cy="311400"/>
            </a:xfrm>
            <a:custGeom>
              <a:avLst/>
              <a:gdLst/>
              <a:ahLst/>
              <a:rect l="l" t="t" r="r" b="b"/>
              <a:pathLst>
                <a:path w="1174" h="1530">
                  <a:moveTo>
                    <a:pt x="1174" y="364"/>
                  </a:moveTo>
                  <a:lnTo>
                    <a:pt x="1168" y="318"/>
                  </a:lnTo>
                  <a:lnTo>
                    <a:pt x="1159" y="277"/>
                  </a:lnTo>
                  <a:lnTo>
                    <a:pt x="1140" y="239"/>
                  </a:lnTo>
                  <a:lnTo>
                    <a:pt x="1115" y="198"/>
                  </a:lnTo>
                  <a:lnTo>
                    <a:pt x="1088" y="165"/>
                  </a:lnTo>
                  <a:lnTo>
                    <a:pt x="1055" y="137"/>
                  </a:lnTo>
                  <a:lnTo>
                    <a:pt x="1019" y="106"/>
                  </a:lnTo>
                  <a:lnTo>
                    <a:pt x="982" y="82"/>
                  </a:lnTo>
                  <a:lnTo>
                    <a:pt x="940" y="61"/>
                  </a:lnTo>
                  <a:lnTo>
                    <a:pt x="897" y="40"/>
                  </a:lnTo>
                  <a:lnTo>
                    <a:pt x="854" y="23"/>
                  </a:lnTo>
                  <a:lnTo>
                    <a:pt x="811" y="11"/>
                  </a:lnTo>
                  <a:lnTo>
                    <a:pt x="765" y="2"/>
                  </a:lnTo>
                  <a:lnTo>
                    <a:pt x="726" y="0"/>
                  </a:lnTo>
                  <a:lnTo>
                    <a:pt x="685" y="0"/>
                  </a:lnTo>
                  <a:lnTo>
                    <a:pt x="650" y="0"/>
                  </a:lnTo>
                  <a:lnTo>
                    <a:pt x="627" y="2"/>
                  </a:lnTo>
                  <a:lnTo>
                    <a:pt x="605" y="6"/>
                  </a:lnTo>
                  <a:lnTo>
                    <a:pt x="580" y="11"/>
                  </a:lnTo>
                  <a:lnTo>
                    <a:pt x="552" y="14"/>
                  </a:lnTo>
                  <a:lnTo>
                    <a:pt x="527" y="20"/>
                  </a:lnTo>
                  <a:lnTo>
                    <a:pt x="500" y="29"/>
                  </a:lnTo>
                  <a:lnTo>
                    <a:pt x="475" y="37"/>
                  </a:lnTo>
                  <a:lnTo>
                    <a:pt x="448" y="45"/>
                  </a:lnTo>
                  <a:lnTo>
                    <a:pt x="420" y="52"/>
                  </a:lnTo>
                  <a:lnTo>
                    <a:pt x="393" y="61"/>
                  </a:lnTo>
                  <a:lnTo>
                    <a:pt x="366" y="69"/>
                  </a:lnTo>
                  <a:lnTo>
                    <a:pt x="339" y="82"/>
                  </a:lnTo>
                  <a:lnTo>
                    <a:pt x="315" y="94"/>
                  </a:lnTo>
                  <a:lnTo>
                    <a:pt x="287" y="106"/>
                  </a:lnTo>
                  <a:lnTo>
                    <a:pt x="260" y="119"/>
                  </a:lnTo>
                  <a:lnTo>
                    <a:pt x="235" y="137"/>
                  </a:lnTo>
                  <a:lnTo>
                    <a:pt x="210" y="149"/>
                  </a:lnTo>
                  <a:lnTo>
                    <a:pt x="189" y="165"/>
                  </a:lnTo>
                  <a:lnTo>
                    <a:pt x="164" y="182"/>
                  </a:lnTo>
                  <a:lnTo>
                    <a:pt x="144" y="198"/>
                  </a:lnTo>
                  <a:lnTo>
                    <a:pt x="122" y="219"/>
                  </a:lnTo>
                  <a:lnTo>
                    <a:pt x="103" y="239"/>
                  </a:lnTo>
                  <a:lnTo>
                    <a:pt x="85" y="261"/>
                  </a:lnTo>
                  <a:lnTo>
                    <a:pt x="66" y="282"/>
                  </a:lnTo>
                  <a:lnTo>
                    <a:pt x="56" y="302"/>
                  </a:lnTo>
                  <a:lnTo>
                    <a:pt x="39" y="327"/>
                  </a:lnTo>
                  <a:lnTo>
                    <a:pt x="27" y="352"/>
                  </a:lnTo>
                  <a:lnTo>
                    <a:pt x="18" y="375"/>
                  </a:lnTo>
                  <a:lnTo>
                    <a:pt x="12" y="406"/>
                  </a:lnTo>
                  <a:lnTo>
                    <a:pt x="6" y="430"/>
                  </a:lnTo>
                  <a:lnTo>
                    <a:pt x="0" y="463"/>
                  </a:lnTo>
                  <a:lnTo>
                    <a:pt x="0" y="492"/>
                  </a:lnTo>
                  <a:lnTo>
                    <a:pt x="0" y="1530"/>
                  </a:lnTo>
                  <a:lnTo>
                    <a:pt x="1162" y="1530"/>
                  </a:lnTo>
                  <a:lnTo>
                    <a:pt x="1174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34200" y="2515680"/>
              <a:ext cx="342360" cy="349560"/>
            </a:xfrm>
            <a:custGeom>
              <a:avLst/>
              <a:gdLst/>
              <a:ahLst/>
              <a:rect l="l" t="t" r="r" b="b"/>
              <a:pathLst>
                <a:path w="1993" h="1715">
                  <a:moveTo>
                    <a:pt x="1960" y="0"/>
                  </a:moveTo>
                  <a:lnTo>
                    <a:pt x="418" y="444"/>
                  </a:lnTo>
                  <a:lnTo>
                    <a:pt x="378" y="461"/>
                  </a:lnTo>
                  <a:lnTo>
                    <a:pt x="340" y="478"/>
                  </a:lnTo>
                  <a:lnTo>
                    <a:pt x="301" y="504"/>
                  </a:lnTo>
                  <a:lnTo>
                    <a:pt x="264" y="532"/>
                  </a:lnTo>
                  <a:lnTo>
                    <a:pt x="229" y="565"/>
                  </a:lnTo>
                  <a:lnTo>
                    <a:pt x="194" y="603"/>
                  </a:lnTo>
                  <a:lnTo>
                    <a:pt x="161" y="640"/>
                  </a:lnTo>
                  <a:lnTo>
                    <a:pt x="130" y="685"/>
                  </a:lnTo>
                  <a:lnTo>
                    <a:pt x="103" y="731"/>
                  </a:lnTo>
                  <a:lnTo>
                    <a:pt x="76" y="777"/>
                  </a:lnTo>
                  <a:lnTo>
                    <a:pt x="55" y="830"/>
                  </a:lnTo>
                  <a:lnTo>
                    <a:pt x="36" y="881"/>
                  </a:lnTo>
                  <a:lnTo>
                    <a:pt x="22" y="935"/>
                  </a:lnTo>
                  <a:lnTo>
                    <a:pt x="9" y="990"/>
                  </a:lnTo>
                  <a:lnTo>
                    <a:pt x="0" y="1043"/>
                  </a:lnTo>
                  <a:lnTo>
                    <a:pt x="0" y="1098"/>
                  </a:lnTo>
                  <a:lnTo>
                    <a:pt x="0" y="1146"/>
                  </a:lnTo>
                  <a:lnTo>
                    <a:pt x="5" y="1200"/>
                  </a:lnTo>
                  <a:lnTo>
                    <a:pt x="11" y="1254"/>
                  </a:lnTo>
                  <a:lnTo>
                    <a:pt x="24" y="1304"/>
                  </a:lnTo>
                  <a:lnTo>
                    <a:pt x="36" y="1359"/>
                  </a:lnTo>
                  <a:lnTo>
                    <a:pt x="52" y="1412"/>
                  </a:lnTo>
                  <a:lnTo>
                    <a:pt x="70" y="1462"/>
                  </a:lnTo>
                  <a:lnTo>
                    <a:pt x="91" y="1507"/>
                  </a:lnTo>
                  <a:lnTo>
                    <a:pt x="112" y="1549"/>
                  </a:lnTo>
                  <a:lnTo>
                    <a:pt x="136" y="1589"/>
                  </a:lnTo>
                  <a:lnTo>
                    <a:pt x="163" y="1624"/>
                  </a:lnTo>
                  <a:lnTo>
                    <a:pt x="188" y="1657"/>
                  </a:lnTo>
                  <a:lnTo>
                    <a:pt x="219" y="1683"/>
                  </a:lnTo>
                  <a:lnTo>
                    <a:pt x="249" y="1697"/>
                  </a:lnTo>
                  <a:lnTo>
                    <a:pt x="280" y="1712"/>
                  </a:lnTo>
                  <a:lnTo>
                    <a:pt x="314" y="1715"/>
                  </a:lnTo>
                  <a:lnTo>
                    <a:pt x="1993" y="1683"/>
                  </a:lnTo>
                  <a:lnTo>
                    <a:pt x="19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69640" y="2515680"/>
              <a:ext cx="208800" cy="341280"/>
            </a:xfrm>
            <a:custGeom>
              <a:avLst/>
              <a:gdLst/>
              <a:ahLst/>
              <a:rect l="l" t="t" r="r" b="b"/>
              <a:pathLst>
                <a:path w="1219" h="1675">
                  <a:moveTo>
                    <a:pt x="609" y="0"/>
                  </a:moveTo>
                  <a:lnTo>
                    <a:pt x="670" y="6"/>
                  </a:lnTo>
                  <a:lnTo>
                    <a:pt x="732" y="18"/>
                  </a:lnTo>
                  <a:lnTo>
                    <a:pt x="789" y="38"/>
                  </a:lnTo>
                  <a:lnTo>
                    <a:pt x="847" y="68"/>
                  </a:lnTo>
                  <a:lnTo>
                    <a:pt x="899" y="100"/>
                  </a:lnTo>
                  <a:lnTo>
                    <a:pt x="948" y="146"/>
                  </a:lnTo>
                  <a:lnTo>
                    <a:pt x="997" y="191"/>
                  </a:lnTo>
                  <a:lnTo>
                    <a:pt x="1039" y="245"/>
                  </a:lnTo>
                  <a:lnTo>
                    <a:pt x="1079" y="304"/>
                  </a:lnTo>
                  <a:lnTo>
                    <a:pt x="1112" y="370"/>
                  </a:lnTo>
                  <a:lnTo>
                    <a:pt x="1145" y="441"/>
                  </a:lnTo>
                  <a:lnTo>
                    <a:pt x="1170" y="512"/>
                  </a:lnTo>
                  <a:lnTo>
                    <a:pt x="1192" y="591"/>
                  </a:lnTo>
                  <a:lnTo>
                    <a:pt x="1208" y="669"/>
                  </a:lnTo>
                  <a:lnTo>
                    <a:pt x="1216" y="752"/>
                  </a:lnTo>
                  <a:lnTo>
                    <a:pt x="1219" y="836"/>
                  </a:lnTo>
                  <a:lnTo>
                    <a:pt x="1216" y="922"/>
                  </a:lnTo>
                  <a:lnTo>
                    <a:pt x="1208" y="1006"/>
                  </a:lnTo>
                  <a:lnTo>
                    <a:pt x="1192" y="1083"/>
                  </a:lnTo>
                  <a:lnTo>
                    <a:pt x="1170" y="1163"/>
                  </a:lnTo>
                  <a:lnTo>
                    <a:pt x="1145" y="1234"/>
                  </a:lnTo>
                  <a:lnTo>
                    <a:pt x="1112" y="1304"/>
                  </a:lnTo>
                  <a:lnTo>
                    <a:pt x="1079" y="1367"/>
                  </a:lnTo>
                  <a:lnTo>
                    <a:pt x="1039" y="1428"/>
                  </a:lnTo>
                  <a:lnTo>
                    <a:pt x="997" y="1482"/>
                  </a:lnTo>
                  <a:lnTo>
                    <a:pt x="948" y="1527"/>
                  </a:lnTo>
                  <a:lnTo>
                    <a:pt x="899" y="1569"/>
                  </a:lnTo>
                  <a:lnTo>
                    <a:pt x="847" y="1607"/>
                  </a:lnTo>
                  <a:lnTo>
                    <a:pt x="789" y="1636"/>
                  </a:lnTo>
                  <a:lnTo>
                    <a:pt x="732" y="1657"/>
                  </a:lnTo>
                  <a:lnTo>
                    <a:pt x="670" y="1669"/>
                  </a:lnTo>
                  <a:lnTo>
                    <a:pt x="609" y="1675"/>
                  </a:lnTo>
                  <a:lnTo>
                    <a:pt x="545" y="1669"/>
                  </a:lnTo>
                  <a:lnTo>
                    <a:pt x="485" y="1657"/>
                  </a:lnTo>
                  <a:lnTo>
                    <a:pt x="426" y="1636"/>
                  </a:lnTo>
                  <a:lnTo>
                    <a:pt x="372" y="1607"/>
                  </a:lnTo>
                  <a:lnTo>
                    <a:pt x="317" y="1569"/>
                  </a:lnTo>
                  <a:lnTo>
                    <a:pt x="267" y="1527"/>
                  </a:lnTo>
                  <a:lnTo>
                    <a:pt x="222" y="1482"/>
                  </a:lnTo>
                  <a:lnTo>
                    <a:pt x="176" y="1428"/>
                  </a:lnTo>
                  <a:lnTo>
                    <a:pt x="137" y="1367"/>
                  </a:lnTo>
                  <a:lnTo>
                    <a:pt x="103" y="1304"/>
                  </a:lnTo>
                  <a:lnTo>
                    <a:pt x="74" y="1234"/>
                  </a:lnTo>
                  <a:lnTo>
                    <a:pt x="46" y="1163"/>
                  </a:lnTo>
                  <a:lnTo>
                    <a:pt x="27" y="1083"/>
                  </a:lnTo>
                  <a:lnTo>
                    <a:pt x="12" y="1006"/>
                  </a:lnTo>
                  <a:lnTo>
                    <a:pt x="0" y="922"/>
                  </a:lnTo>
                  <a:lnTo>
                    <a:pt x="0" y="836"/>
                  </a:lnTo>
                  <a:lnTo>
                    <a:pt x="0" y="752"/>
                  </a:lnTo>
                  <a:lnTo>
                    <a:pt x="12" y="669"/>
                  </a:lnTo>
                  <a:lnTo>
                    <a:pt x="27" y="591"/>
                  </a:lnTo>
                  <a:lnTo>
                    <a:pt x="46" y="512"/>
                  </a:lnTo>
                  <a:lnTo>
                    <a:pt x="74" y="441"/>
                  </a:lnTo>
                  <a:lnTo>
                    <a:pt x="103" y="370"/>
                  </a:lnTo>
                  <a:lnTo>
                    <a:pt x="137" y="304"/>
                  </a:lnTo>
                  <a:lnTo>
                    <a:pt x="176" y="245"/>
                  </a:lnTo>
                  <a:lnTo>
                    <a:pt x="222" y="191"/>
                  </a:lnTo>
                  <a:lnTo>
                    <a:pt x="267" y="146"/>
                  </a:lnTo>
                  <a:lnTo>
                    <a:pt x="317" y="100"/>
                  </a:lnTo>
                  <a:lnTo>
                    <a:pt x="372" y="68"/>
                  </a:lnTo>
                  <a:lnTo>
                    <a:pt x="426" y="38"/>
                  </a:lnTo>
                  <a:lnTo>
                    <a:pt x="485" y="18"/>
                  </a:lnTo>
                  <a:lnTo>
                    <a:pt x="545" y="6"/>
                  </a:lnTo>
                  <a:lnTo>
                    <a:pt x="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8880" y="2820240"/>
              <a:ext cx="314280" cy="140040"/>
            </a:xfrm>
            <a:custGeom>
              <a:avLst/>
              <a:gdLst/>
              <a:ahLst/>
              <a:rect l="l" t="t" r="r" b="b"/>
              <a:pathLst>
                <a:path w="1832" h="689">
                  <a:moveTo>
                    <a:pt x="3" y="12"/>
                  </a:moveTo>
                  <a:lnTo>
                    <a:pt x="374" y="29"/>
                  </a:lnTo>
                  <a:lnTo>
                    <a:pt x="379" y="75"/>
                  </a:lnTo>
                  <a:lnTo>
                    <a:pt x="385" y="120"/>
                  </a:lnTo>
                  <a:lnTo>
                    <a:pt x="389" y="163"/>
                  </a:lnTo>
                  <a:lnTo>
                    <a:pt x="401" y="203"/>
                  </a:lnTo>
                  <a:lnTo>
                    <a:pt x="414" y="245"/>
                  </a:lnTo>
                  <a:lnTo>
                    <a:pt x="426" y="288"/>
                  </a:lnTo>
                  <a:lnTo>
                    <a:pt x="445" y="328"/>
                  </a:lnTo>
                  <a:lnTo>
                    <a:pt x="457" y="370"/>
                  </a:lnTo>
                  <a:lnTo>
                    <a:pt x="1362" y="353"/>
                  </a:lnTo>
                  <a:lnTo>
                    <a:pt x="1345" y="312"/>
                  </a:lnTo>
                  <a:lnTo>
                    <a:pt x="1329" y="271"/>
                  </a:lnTo>
                  <a:lnTo>
                    <a:pt x="1314" y="225"/>
                  </a:lnTo>
                  <a:lnTo>
                    <a:pt x="1304" y="183"/>
                  </a:lnTo>
                  <a:lnTo>
                    <a:pt x="1296" y="137"/>
                  </a:lnTo>
                  <a:lnTo>
                    <a:pt x="1290" y="92"/>
                  </a:lnTo>
                  <a:lnTo>
                    <a:pt x="1286" y="47"/>
                  </a:lnTo>
                  <a:lnTo>
                    <a:pt x="1286" y="0"/>
                  </a:lnTo>
                  <a:lnTo>
                    <a:pt x="1655" y="0"/>
                  </a:lnTo>
                  <a:lnTo>
                    <a:pt x="1659" y="59"/>
                  </a:lnTo>
                  <a:lnTo>
                    <a:pt x="1665" y="112"/>
                  </a:lnTo>
                  <a:lnTo>
                    <a:pt x="1668" y="163"/>
                  </a:lnTo>
                  <a:lnTo>
                    <a:pt x="1670" y="208"/>
                  </a:lnTo>
                  <a:lnTo>
                    <a:pt x="1676" y="253"/>
                  </a:lnTo>
                  <a:lnTo>
                    <a:pt x="1685" y="300"/>
                  </a:lnTo>
                  <a:lnTo>
                    <a:pt x="1693" y="341"/>
                  </a:lnTo>
                  <a:lnTo>
                    <a:pt x="1701" y="378"/>
                  </a:lnTo>
                  <a:lnTo>
                    <a:pt x="1713" y="416"/>
                  </a:lnTo>
                  <a:lnTo>
                    <a:pt x="1722" y="453"/>
                  </a:lnTo>
                  <a:lnTo>
                    <a:pt x="1738" y="486"/>
                  </a:lnTo>
                  <a:lnTo>
                    <a:pt x="1753" y="518"/>
                  </a:lnTo>
                  <a:lnTo>
                    <a:pt x="1767" y="553"/>
                  </a:lnTo>
                  <a:lnTo>
                    <a:pt x="1786" y="586"/>
                  </a:lnTo>
                  <a:lnTo>
                    <a:pt x="1808" y="618"/>
                  </a:lnTo>
                  <a:lnTo>
                    <a:pt x="1832" y="652"/>
                  </a:lnTo>
                  <a:lnTo>
                    <a:pt x="109" y="689"/>
                  </a:lnTo>
                  <a:lnTo>
                    <a:pt x="68" y="618"/>
                  </a:lnTo>
                  <a:lnTo>
                    <a:pt x="39" y="541"/>
                  </a:lnTo>
                  <a:lnTo>
                    <a:pt x="18" y="461"/>
                  </a:lnTo>
                  <a:lnTo>
                    <a:pt x="6" y="373"/>
                  </a:lnTo>
                  <a:lnTo>
                    <a:pt x="0" y="282"/>
                  </a:lnTo>
                  <a:lnTo>
                    <a:pt x="0" y="195"/>
                  </a:lnTo>
                  <a:lnTo>
                    <a:pt x="0" y="104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70360" y="2951640"/>
              <a:ext cx="282960" cy="99360"/>
            </a:xfrm>
            <a:custGeom>
              <a:avLst/>
              <a:gdLst/>
              <a:ahLst/>
              <a:rect l="l" t="t" r="r" b="b"/>
              <a:pathLst>
                <a:path w="1649" h="490">
                  <a:moveTo>
                    <a:pt x="0" y="25"/>
                  </a:moveTo>
                  <a:lnTo>
                    <a:pt x="1649" y="0"/>
                  </a:lnTo>
                  <a:lnTo>
                    <a:pt x="1649" y="92"/>
                  </a:lnTo>
                  <a:lnTo>
                    <a:pt x="1566" y="160"/>
                  </a:lnTo>
                  <a:lnTo>
                    <a:pt x="1566" y="449"/>
                  </a:lnTo>
                  <a:lnTo>
                    <a:pt x="136" y="490"/>
                  </a:lnTo>
                  <a:lnTo>
                    <a:pt x="130" y="180"/>
                  </a:lnTo>
                  <a:lnTo>
                    <a:pt x="6" y="12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15160" y="2967120"/>
              <a:ext cx="47160" cy="86040"/>
            </a:xfrm>
            <a:custGeom>
              <a:avLst/>
              <a:gdLst/>
              <a:ahLst/>
              <a:rect l="l" t="t" r="r" b="b"/>
              <a:pathLst>
                <a:path w="278" h="424">
                  <a:moveTo>
                    <a:pt x="141" y="424"/>
                  </a:moveTo>
                  <a:lnTo>
                    <a:pt x="113" y="419"/>
                  </a:lnTo>
                  <a:lnTo>
                    <a:pt x="86" y="411"/>
                  </a:lnTo>
                  <a:lnTo>
                    <a:pt x="62" y="390"/>
                  </a:lnTo>
                  <a:lnTo>
                    <a:pt x="44" y="364"/>
                  </a:lnTo>
                  <a:lnTo>
                    <a:pt x="25" y="332"/>
                  </a:lnTo>
                  <a:lnTo>
                    <a:pt x="13" y="295"/>
                  </a:lnTo>
                  <a:lnTo>
                    <a:pt x="4" y="256"/>
                  </a:lnTo>
                  <a:lnTo>
                    <a:pt x="0" y="211"/>
                  </a:lnTo>
                  <a:lnTo>
                    <a:pt x="4" y="171"/>
                  </a:lnTo>
                  <a:lnTo>
                    <a:pt x="13" y="134"/>
                  </a:lnTo>
                  <a:lnTo>
                    <a:pt x="25" y="95"/>
                  </a:lnTo>
                  <a:lnTo>
                    <a:pt x="44" y="62"/>
                  </a:lnTo>
                  <a:lnTo>
                    <a:pt x="62" y="38"/>
                  </a:lnTo>
                  <a:lnTo>
                    <a:pt x="86" y="17"/>
                  </a:lnTo>
                  <a:lnTo>
                    <a:pt x="113" y="3"/>
                  </a:lnTo>
                  <a:lnTo>
                    <a:pt x="141" y="0"/>
                  </a:lnTo>
                  <a:lnTo>
                    <a:pt x="169" y="3"/>
                  </a:lnTo>
                  <a:lnTo>
                    <a:pt x="196" y="17"/>
                  </a:lnTo>
                  <a:lnTo>
                    <a:pt x="217" y="38"/>
                  </a:lnTo>
                  <a:lnTo>
                    <a:pt x="238" y="62"/>
                  </a:lnTo>
                  <a:lnTo>
                    <a:pt x="257" y="95"/>
                  </a:lnTo>
                  <a:lnTo>
                    <a:pt x="269" y="134"/>
                  </a:lnTo>
                  <a:lnTo>
                    <a:pt x="276" y="171"/>
                  </a:lnTo>
                  <a:lnTo>
                    <a:pt x="278" y="211"/>
                  </a:lnTo>
                  <a:lnTo>
                    <a:pt x="276" y="256"/>
                  </a:lnTo>
                  <a:lnTo>
                    <a:pt x="269" y="295"/>
                  </a:lnTo>
                  <a:lnTo>
                    <a:pt x="257" y="332"/>
                  </a:lnTo>
                  <a:lnTo>
                    <a:pt x="238" y="364"/>
                  </a:lnTo>
                  <a:lnTo>
                    <a:pt x="217" y="390"/>
                  </a:lnTo>
                  <a:lnTo>
                    <a:pt x="196" y="411"/>
                  </a:lnTo>
                  <a:lnTo>
                    <a:pt x="169" y="419"/>
                  </a:lnTo>
                  <a:lnTo>
                    <a:pt x="141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98360" y="2536920"/>
              <a:ext cx="87120" cy="50400"/>
            </a:xfrm>
            <a:custGeom>
              <a:avLst/>
              <a:gdLst/>
              <a:ahLst/>
              <a:rect l="l" t="t" r="r" b="b"/>
              <a:pathLst>
                <a:path w="507" h="247">
                  <a:moveTo>
                    <a:pt x="0" y="226"/>
                  </a:moveTo>
                  <a:lnTo>
                    <a:pt x="0" y="23"/>
                  </a:lnTo>
                  <a:lnTo>
                    <a:pt x="31" y="17"/>
                  </a:lnTo>
                  <a:lnTo>
                    <a:pt x="62" y="13"/>
                  </a:lnTo>
                  <a:lnTo>
                    <a:pt x="91" y="8"/>
                  </a:lnTo>
                  <a:lnTo>
                    <a:pt x="126" y="3"/>
                  </a:lnTo>
                  <a:lnTo>
                    <a:pt x="157" y="3"/>
                  </a:lnTo>
                  <a:lnTo>
                    <a:pt x="188" y="0"/>
                  </a:lnTo>
                  <a:lnTo>
                    <a:pt x="217" y="0"/>
                  </a:lnTo>
                  <a:lnTo>
                    <a:pt x="250" y="0"/>
                  </a:lnTo>
                  <a:lnTo>
                    <a:pt x="281" y="0"/>
                  </a:lnTo>
                  <a:lnTo>
                    <a:pt x="315" y="0"/>
                  </a:lnTo>
                  <a:lnTo>
                    <a:pt x="345" y="0"/>
                  </a:lnTo>
                  <a:lnTo>
                    <a:pt x="375" y="3"/>
                  </a:lnTo>
                  <a:lnTo>
                    <a:pt x="408" y="8"/>
                  </a:lnTo>
                  <a:lnTo>
                    <a:pt x="439" y="13"/>
                  </a:lnTo>
                  <a:lnTo>
                    <a:pt x="469" y="17"/>
                  </a:lnTo>
                  <a:lnTo>
                    <a:pt x="505" y="23"/>
                  </a:lnTo>
                  <a:lnTo>
                    <a:pt x="507" y="54"/>
                  </a:lnTo>
                  <a:lnTo>
                    <a:pt x="464" y="66"/>
                  </a:lnTo>
                  <a:lnTo>
                    <a:pt x="427" y="78"/>
                  </a:lnTo>
                  <a:lnTo>
                    <a:pt x="391" y="91"/>
                  </a:lnTo>
                  <a:lnTo>
                    <a:pt x="361" y="103"/>
                  </a:lnTo>
                  <a:lnTo>
                    <a:pt x="334" y="117"/>
                  </a:lnTo>
                  <a:lnTo>
                    <a:pt x="309" y="122"/>
                  </a:lnTo>
                  <a:lnTo>
                    <a:pt x="284" y="136"/>
                  </a:lnTo>
                  <a:lnTo>
                    <a:pt x="260" y="147"/>
                  </a:lnTo>
                  <a:lnTo>
                    <a:pt x="242" y="155"/>
                  </a:lnTo>
                  <a:lnTo>
                    <a:pt x="221" y="169"/>
                  </a:lnTo>
                  <a:lnTo>
                    <a:pt x="198" y="180"/>
                  </a:lnTo>
                  <a:lnTo>
                    <a:pt x="182" y="190"/>
                  </a:lnTo>
                  <a:lnTo>
                    <a:pt x="159" y="202"/>
                  </a:lnTo>
                  <a:lnTo>
                    <a:pt x="138" y="215"/>
                  </a:lnTo>
                  <a:lnTo>
                    <a:pt x="113" y="226"/>
                  </a:lnTo>
                  <a:lnTo>
                    <a:pt x="89" y="243"/>
                  </a:lnTo>
                  <a:lnTo>
                    <a:pt x="77" y="243"/>
                  </a:lnTo>
                  <a:lnTo>
                    <a:pt x="62" y="243"/>
                  </a:lnTo>
                  <a:lnTo>
                    <a:pt x="46" y="247"/>
                  </a:lnTo>
                  <a:lnTo>
                    <a:pt x="33" y="247"/>
                  </a:lnTo>
                  <a:lnTo>
                    <a:pt x="19" y="247"/>
                  </a:lnTo>
                  <a:lnTo>
                    <a:pt x="11" y="247"/>
                  </a:lnTo>
                  <a:lnTo>
                    <a:pt x="3" y="238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914400" y="3962520"/>
            <a:ext cx="7010280" cy="1600200"/>
          </a:xfrm>
          <a:prstGeom prst="horizontalScroll">
            <a:avLst>
              <a:gd name="adj" fmla="val 125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2 trains approach each other at a cross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shall come to a full stop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495288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neither shall start up again until the other has g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877080" y="5361120"/>
            <a:ext cx="2084400" cy="1307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72000" y="5589720"/>
            <a:ext cx="1508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5683" y="12769"/>
                </a:moveTo>
                <a:lnTo>
                  <a:pt x="22691" y="4000"/>
                </a:lnTo>
              </a:path>
              <a:path w="21600" h="21600">
                <a:moveTo>
                  <a:pt x="22691" y="0"/>
                </a:moveTo>
                <a:lnTo>
                  <a:pt x="22691" y="21600"/>
                </a:lnTo>
              </a:path>
            </a:pathLst>
          </a:custGeom>
          <a:noFill/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n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962520" y="33210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3200400" y="4648320"/>
            <a:ext cx="762120" cy="1367640"/>
            <a:chOff x="3200400" y="4648320"/>
            <a:chExt cx="762120" cy="1367640"/>
          </a:xfrm>
        </p:grpSpPr>
        <p:sp>
          <p:nvSpPr>
            <p:cNvPr id="709" name=""/>
            <p:cNvSpPr/>
            <p:nvPr/>
          </p:nvSpPr>
          <p:spPr>
            <a:xfrm>
              <a:off x="3200400" y="4648320"/>
              <a:ext cx="762120" cy="9140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55920" y="55753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3505320" y="4838760"/>
              <a:ext cx="152280" cy="532440"/>
              <a:chOff x="3505320" y="4838760"/>
              <a:chExt cx="152280" cy="532440"/>
            </a:xfrm>
          </p:grpSpPr>
          <p:sp>
            <p:nvSpPr>
              <p:cNvPr id="712" name=""/>
              <p:cNvSpPr/>
              <p:nvPr/>
            </p:nvSpPr>
            <p:spPr>
              <a:xfrm>
                <a:off x="3505320" y="483876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505320" y="52192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14" name=""/>
          <p:cNvCxnSpPr>
            <a:stCxn id="715" idx="7"/>
            <a:endCxn id="716" idx="2"/>
          </p:cNvCxnSpPr>
          <p:nvPr/>
        </p:nvCxnSpPr>
        <p:spPr>
          <a:xfrm flipV="1">
            <a:off x="2109600" y="2761560"/>
            <a:ext cx="1765800" cy="641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717" name=""/>
          <p:cNvGrpSpPr/>
          <p:nvPr/>
        </p:nvGrpSpPr>
        <p:grpSpPr>
          <a:xfrm>
            <a:off x="3494160" y="1752480"/>
            <a:ext cx="761760" cy="990720"/>
            <a:chOff x="3494160" y="1752480"/>
            <a:chExt cx="761760" cy="990720"/>
          </a:xfrm>
        </p:grpSpPr>
        <p:sp>
          <p:nvSpPr>
            <p:cNvPr id="716" name=""/>
            <p:cNvSpPr/>
            <p:nvPr/>
          </p:nvSpPr>
          <p:spPr>
            <a:xfrm>
              <a:off x="3494160" y="213336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49320" y="1752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98720" y="236196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0" name=""/>
          <p:cNvCxnSpPr>
            <a:stCxn id="719" idx="6"/>
            <a:endCxn id="721" idx="1"/>
          </p:cNvCxnSpPr>
          <p:nvPr/>
        </p:nvCxnSpPr>
        <p:spPr>
          <a:xfrm>
            <a:off x="3951360" y="2437920"/>
            <a:ext cx="111600" cy="9658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722" name=""/>
          <p:cNvCxnSpPr>
            <a:stCxn id="712" idx="1"/>
            <a:endCxn id="721" idx="4"/>
          </p:cNvCxnSpPr>
          <p:nvPr/>
        </p:nvCxnSpPr>
        <p:spPr>
          <a:xfrm flipV="1">
            <a:off x="3526920" y="3924000"/>
            <a:ext cx="778680" cy="937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723" name=""/>
          <p:cNvGrpSpPr/>
          <p:nvPr/>
        </p:nvGrpSpPr>
        <p:grpSpPr>
          <a:xfrm>
            <a:off x="1523880" y="3314880"/>
            <a:ext cx="936360" cy="613800"/>
            <a:chOff x="1523880" y="3314880"/>
            <a:chExt cx="936360" cy="613800"/>
          </a:xfrm>
        </p:grpSpPr>
        <p:sp>
          <p:nvSpPr>
            <p:cNvPr id="715" name=""/>
            <p:cNvSpPr/>
            <p:nvPr/>
          </p:nvSpPr>
          <p:spPr>
            <a:xfrm>
              <a:off x="1523880" y="331488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4" name=""/>
            <p:cNvGraphicFramePr/>
            <p:nvPr/>
          </p:nvGraphicFramePr>
          <p:xfrm>
            <a:off x="2079360" y="3554280"/>
            <a:ext cx="380880" cy="37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79360" y="355428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6" name=""/>
          <p:cNvGrpSpPr/>
          <p:nvPr/>
        </p:nvGrpSpPr>
        <p:grpSpPr>
          <a:xfrm>
            <a:off x="3962520" y="3314880"/>
            <a:ext cx="925560" cy="609480"/>
            <a:chOff x="3962520" y="3314880"/>
            <a:chExt cx="925560" cy="609480"/>
          </a:xfrm>
        </p:grpSpPr>
        <p:sp>
          <p:nvSpPr>
            <p:cNvPr id="721" name=""/>
            <p:cNvSpPr/>
            <p:nvPr/>
          </p:nvSpPr>
          <p:spPr>
            <a:xfrm>
              <a:off x="3962520" y="331488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7" name=""/>
            <p:cNvGraphicFramePr/>
            <p:nvPr/>
          </p:nvGraphicFramePr>
          <p:xfrm>
            <a:off x="4507200" y="3547800"/>
            <a:ext cx="380880" cy="37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07200" y="354780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cxnSp>
        <p:nvCxnSpPr>
          <p:cNvPr id="729" name=""/>
          <p:cNvCxnSpPr>
            <a:stCxn id="730" idx="4"/>
            <a:endCxn id="709" idx="3"/>
          </p:cNvCxnSpPr>
          <p:nvPr/>
        </p:nvCxnSpPr>
        <p:spPr>
          <a:xfrm flipH="1">
            <a:off x="3981240" y="3962160"/>
            <a:ext cx="2751840" cy="11437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731" name=""/>
          <p:cNvCxnSpPr>
            <a:stCxn id="713" idx="2"/>
            <a:endCxn id="715" idx="4"/>
          </p:cNvCxnSpPr>
          <p:nvPr/>
        </p:nvCxnSpPr>
        <p:spPr>
          <a:xfrm flipH="1" flipV="1">
            <a:off x="1866240" y="3924000"/>
            <a:ext cx="1639080" cy="13723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732" name=""/>
          <p:cNvCxnSpPr>
            <a:stCxn id="721" idx="7"/>
            <a:endCxn id="733" idx="2"/>
          </p:cNvCxnSpPr>
          <p:nvPr/>
        </p:nvCxnSpPr>
        <p:spPr>
          <a:xfrm flipV="1">
            <a:off x="4547880" y="2761560"/>
            <a:ext cx="786600" cy="641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734" name=""/>
          <p:cNvGrpSpPr/>
          <p:nvPr/>
        </p:nvGrpSpPr>
        <p:grpSpPr>
          <a:xfrm>
            <a:off x="6389640" y="3352680"/>
            <a:ext cx="925560" cy="609840"/>
            <a:chOff x="6389640" y="3352680"/>
            <a:chExt cx="925560" cy="609840"/>
          </a:xfrm>
        </p:grpSpPr>
        <p:sp>
          <p:nvSpPr>
            <p:cNvPr id="730" name=""/>
            <p:cNvSpPr/>
            <p:nvPr/>
          </p:nvSpPr>
          <p:spPr>
            <a:xfrm>
              <a:off x="6389640" y="335268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5" name=""/>
            <p:cNvGraphicFramePr/>
            <p:nvPr/>
          </p:nvGraphicFramePr>
          <p:xfrm>
            <a:off x="6934320" y="3585960"/>
            <a:ext cx="380880" cy="374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34320" y="35859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7" name=""/>
          <p:cNvGrpSpPr/>
          <p:nvPr/>
        </p:nvGrpSpPr>
        <p:grpSpPr>
          <a:xfrm>
            <a:off x="4952880" y="1752480"/>
            <a:ext cx="762120" cy="990720"/>
            <a:chOff x="4952880" y="1752480"/>
            <a:chExt cx="762120" cy="990720"/>
          </a:xfrm>
        </p:grpSpPr>
        <p:sp>
          <p:nvSpPr>
            <p:cNvPr id="733" name=""/>
            <p:cNvSpPr/>
            <p:nvPr/>
          </p:nvSpPr>
          <p:spPr>
            <a:xfrm>
              <a:off x="4952880" y="21333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108400" y="1752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257800" y="23619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0" name=""/>
          <p:cNvCxnSpPr>
            <a:stCxn id="739" idx="6"/>
            <a:endCxn id="730" idx="1"/>
          </p:cNvCxnSpPr>
          <p:nvPr/>
        </p:nvCxnSpPr>
        <p:spPr>
          <a:xfrm>
            <a:off x="5409720" y="2437920"/>
            <a:ext cx="1080360" cy="10036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741" name=""/>
          <p:cNvSpPr/>
          <p:nvPr/>
        </p:nvSpPr>
        <p:spPr>
          <a:xfrm>
            <a:off x="4089240" y="3073320"/>
            <a:ext cx="2235240" cy="1752840"/>
          </a:xfrm>
          <a:custGeom>
            <a:avLst/>
            <a:gdLst/>
            <a:ahLst/>
            <a:rect l="l" t="t" r="r" b="b"/>
            <a:pathLst>
              <a:path w="1408" h="1104">
                <a:moveTo>
                  <a:pt x="688" y="176"/>
                </a:moveTo>
                <a:cubicBezTo>
                  <a:pt x="736" y="88"/>
                  <a:pt x="784" y="0"/>
                  <a:pt x="880" y="32"/>
                </a:cubicBezTo>
                <a:cubicBezTo>
                  <a:pt x="976" y="64"/>
                  <a:pt x="1200" y="272"/>
                  <a:pt x="1264" y="368"/>
                </a:cubicBezTo>
                <a:cubicBezTo>
                  <a:pt x="1328" y="464"/>
                  <a:pt x="1408" y="504"/>
                  <a:pt x="1264" y="608"/>
                </a:cubicBezTo>
                <a:cubicBezTo>
                  <a:pt x="1120" y="712"/>
                  <a:pt x="592" y="912"/>
                  <a:pt x="400" y="992"/>
                </a:cubicBezTo>
                <a:cubicBezTo>
                  <a:pt x="208" y="1072"/>
                  <a:pt x="176" y="1104"/>
                  <a:pt x="112" y="1088"/>
                </a:cubicBezTo>
                <a:cubicBezTo>
                  <a:pt x="48" y="1072"/>
                  <a:pt x="0" y="960"/>
                  <a:pt x="16" y="896"/>
                </a:cubicBezTo>
                <a:cubicBezTo>
                  <a:pt x="32" y="832"/>
                  <a:pt x="120" y="752"/>
                  <a:pt x="208" y="704"/>
                </a:cubicBezTo>
                <a:cubicBezTo>
                  <a:pt x="296" y="656"/>
                  <a:pt x="480" y="664"/>
                  <a:pt x="544" y="608"/>
                </a:cubicBezTo>
                <a:cubicBezTo>
                  <a:pt x="608" y="552"/>
                  <a:pt x="568" y="432"/>
                  <a:pt x="592" y="368"/>
                </a:cubicBezTo>
                <a:cubicBezTo>
                  <a:pt x="616" y="304"/>
                  <a:pt x="652" y="264"/>
                  <a:pt x="688" y="224"/>
                </a:cubicBezTo>
              </a:path>
            </a:pathLst>
          </a:custGeom>
          <a:noFill/>
          <a:ln w="57240">
            <a:solidFill>
              <a:srgbClr val="ff95a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5791320" y="5181480"/>
            <a:ext cx="17524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7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c0128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eadlock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c0128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3" name=""/>
          <p:cNvSpPr/>
          <p:nvPr/>
        </p:nvSpPr>
        <p:spPr>
          <a:xfrm>
            <a:off x="1104840" y="1511280"/>
            <a:ext cx="6375600" cy="4559400"/>
          </a:xfrm>
          <a:custGeom>
            <a:avLst/>
            <a:gdLst/>
            <a:ahLst/>
            <a:rect l="l" t="t" r="r" b="b"/>
            <a:pathLst>
              <a:path w="4016" h="2872">
                <a:moveTo>
                  <a:pt x="1176" y="2408"/>
                </a:moveTo>
                <a:cubicBezTo>
                  <a:pt x="756" y="2036"/>
                  <a:pt x="336" y="1664"/>
                  <a:pt x="168" y="1448"/>
                </a:cubicBezTo>
                <a:cubicBezTo>
                  <a:pt x="0" y="1232"/>
                  <a:pt x="56" y="1200"/>
                  <a:pt x="168" y="1112"/>
                </a:cubicBezTo>
                <a:cubicBezTo>
                  <a:pt x="280" y="1024"/>
                  <a:pt x="656" y="1000"/>
                  <a:pt x="840" y="920"/>
                </a:cubicBezTo>
                <a:cubicBezTo>
                  <a:pt x="1024" y="840"/>
                  <a:pt x="1160" y="760"/>
                  <a:pt x="1272" y="632"/>
                </a:cubicBezTo>
                <a:cubicBezTo>
                  <a:pt x="1384" y="504"/>
                  <a:pt x="1384" y="232"/>
                  <a:pt x="1512" y="152"/>
                </a:cubicBezTo>
                <a:cubicBezTo>
                  <a:pt x="1640" y="72"/>
                  <a:pt x="1944" y="40"/>
                  <a:pt x="2040" y="152"/>
                </a:cubicBezTo>
                <a:cubicBezTo>
                  <a:pt x="2136" y="264"/>
                  <a:pt x="2064" y="696"/>
                  <a:pt x="2088" y="824"/>
                </a:cubicBezTo>
                <a:cubicBezTo>
                  <a:pt x="2112" y="952"/>
                  <a:pt x="2160" y="936"/>
                  <a:pt x="2184" y="920"/>
                </a:cubicBezTo>
                <a:cubicBezTo>
                  <a:pt x="2208" y="904"/>
                  <a:pt x="2208" y="856"/>
                  <a:pt x="2232" y="728"/>
                </a:cubicBezTo>
                <a:cubicBezTo>
                  <a:pt x="2256" y="600"/>
                  <a:pt x="2256" y="264"/>
                  <a:pt x="2328" y="152"/>
                </a:cubicBezTo>
                <a:cubicBezTo>
                  <a:pt x="2400" y="40"/>
                  <a:pt x="2496" y="0"/>
                  <a:pt x="2664" y="56"/>
                </a:cubicBezTo>
                <a:cubicBezTo>
                  <a:pt x="2832" y="112"/>
                  <a:pt x="3160" y="328"/>
                  <a:pt x="3336" y="488"/>
                </a:cubicBezTo>
                <a:cubicBezTo>
                  <a:pt x="3512" y="648"/>
                  <a:pt x="3608" y="848"/>
                  <a:pt x="3720" y="1016"/>
                </a:cubicBezTo>
                <a:cubicBezTo>
                  <a:pt x="3832" y="1184"/>
                  <a:pt x="4016" y="1360"/>
                  <a:pt x="4008" y="1496"/>
                </a:cubicBezTo>
                <a:cubicBezTo>
                  <a:pt x="4000" y="1632"/>
                  <a:pt x="3896" y="1704"/>
                  <a:pt x="3672" y="1832"/>
                </a:cubicBezTo>
                <a:cubicBezTo>
                  <a:pt x="3448" y="1960"/>
                  <a:pt x="2920" y="2168"/>
                  <a:pt x="2664" y="2264"/>
                </a:cubicBezTo>
                <a:cubicBezTo>
                  <a:pt x="2408" y="2360"/>
                  <a:pt x="2264" y="2336"/>
                  <a:pt x="2136" y="2408"/>
                </a:cubicBezTo>
                <a:cubicBezTo>
                  <a:pt x="2008" y="2480"/>
                  <a:pt x="2016" y="2624"/>
                  <a:pt x="1896" y="2696"/>
                </a:cubicBezTo>
                <a:cubicBezTo>
                  <a:pt x="1776" y="2768"/>
                  <a:pt x="1536" y="2872"/>
                  <a:pt x="1416" y="2840"/>
                </a:cubicBezTo>
                <a:cubicBezTo>
                  <a:pt x="1296" y="2808"/>
                  <a:pt x="1236" y="2656"/>
                  <a:pt x="1176" y="2504"/>
                </a:cubicBezTo>
              </a:path>
            </a:pathLst>
          </a:custGeom>
          <a:noFill/>
          <a:ln w="57240">
            <a:solidFill>
              <a:srgbClr val="ff95a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3733920" y="4772160"/>
            <a:ext cx="761760" cy="1367640"/>
            <a:chOff x="3733920" y="4772160"/>
            <a:chExt cx="761760" cy="1367640"/>
          </a:xfrm>
        </p:grpSpPr>
        <p:sp>
          <p:nvSpPr>
            <p:cNvPr id="746" name=""/>
            <p:cNvSpPr/>
            <p:nvPr/>
          </p:nvSpPr>
          <p:spPr>
            <a:xfrm>
              <a:off x="3733920" y="4772160"/>
              <a:ext cx="761760" cy="9140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89080" y="56991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4038480" y="4962600"/>
              <a:ext cx="151920" cy="532440"/>
              <a:chOff x="4038480" y="4962600"/>
              <a:chExt cx="151920" cy="532440"/>
            </a:xfrm>
          </p:grpSpPr>
          <p:sp>
            <p:nvSpPr>
              <p:cNvPr id="749" name=""/>
              <p:cNvSpPr/>
              <p:nvPr/>
            </p:nvSpPr>
            <p:spPr>
              <a:xfrm>
                <a:off x="4038480" y="496260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038480" y="534312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51" name=""/>
          <p:cNvCxnSpPr>
            <a:stCxn id="752" idx="7"/>
            <a:endCxn id="753" idx="2"/>
          </p:cNvCxnSpPr>
          <p:nvPr/>
        </p:nvCxnSpPr>
        <p:spPr>
          <a:xfrm flipV="1">
            <a:off x="1728720" y="2761560"/>
            <a:ext cx="889920" cy="641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754" name=""/>
          <p:cNvGrpSpPr/>
          <p:nvPr/>
        </p:nvGrpSpPr>
        <p:grpSpPr>
          <a:xfrm>
            <a:off x="2236680" y="1752480"/>
            <a:ext cx="762120" cy="990720"/>
            <a:chOff x="2236680" y="1752480"/>
            <a:chExt cx="762120" cy="990720"/>
          </a:xfrm>
        </p:grpSpPr>
        <p:sp>
          <p:nvSpPr>
            <p:cNvPr id="753" name=""/>
            <p:cNvSpPr/>
            <p:nvPr/>
          </p:nvSpPr>
          <p:spPr>
            <a:xfrm>
              <a:off x="2236680" y="21333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392200" y="1752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541600" y="23619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7" name=""/>
          <p:cNvCxnSpPr>
            <a:stCxn id="756" idx="6"/>
            <a:endCxn id="758" idx="1"/>
          </p:cNvCxnSpPr>
          <p:nvPr/>
        </p:nvCxnSpPr>
        <p:spPr>
          <a:xfrm>
            <a:off x="2693880" y="2437920"/>
            <a:ext cx="378720" cy="9658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759" name=""/>
          <p:cNvCxnSpPr>
            <a:stCxn id="749" idx="1"/>
            <a:endCxn id="758" idx="4"/>
          </p:cNvCxnSpPr>
          <p:nvPr/>
        </p:nvCxnSpPr>
        <p:spPr>
          <a:xfrm flipH="1" flipV="1">
            <a:off x="3314520" y="3924000"/>
            <a:ext cx="746640" cy="10612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760" name=""/>
          <p:cNvGrpSpPr/>
          <p:nvPr/>
        </p:nvGrpSpPr>
        <p:grpSpPr>
          <a:xfrm>
            <a:off x="1143000" y="3314880"/>
            <a:ext cx="936360" cy="613800"/>
            <a:chOff x="1143000" y="3314880"/>
            <a:chExt cx="936360" cy="613800"/>
          </a:xfrm>
        </p:grpSpPr>
        <p:sp>
          <p:nvSpPr>
            <p:cNvPr id="752" name=""/>
            <p:cNvSpPr/>
            <p:nvPr/>
          </p:nvSpPr>
          <p:spPr>
            <a:xfrm>
              <a:off x="1143000" y="331488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1" name=""/>
            <p:cNvGraphicFramePr/>
            <p:nvPr/>
          </p:nvGraphicFramePr>
          <p:xfrm>
            <a:off x="1698480" y="3554280"/>
            <a:ext cx="380880" cy="37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98480" y="355428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63" name=""/>
          <p:cNvGrpSpPr/>
          <p:nvPr/>
        </p:nvGrpSpPr>
        <p:grpSpPr>
          <a:xfrm>
            <a:off x="2971800" y="3314880"/>
            <a:ext cx="925560" cy="609480"/>
            <a:chOff x="2971800" y="3314880"/>
            <a:chExt cx="925560" cy="609480"/>
          </a:xfrm>
        </p:grpSpPr>
        <p:sp>
          <p:nvSpPr>
            <p:cNvPr id="758" name=""/>
            <p:cNvSpPr/>
            <p:nvPr/>
          </p:nvSpPr>
          <p:spPr>
            <a:xfrm>
              <a:off x="2971800" y="331488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4" name=""/>
            <p:cNvGraphicFramePr/>
            <p:nvPr/>
          </p:nvGraphicFramePr>
          <p:xfrm>
            <a:off x="3516480" y="3547800"/>
            <a:ext cx="380880" cy="37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16480" y="354780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cxnSp>
        <p:nvCxnSpPr>
          <p:cNvPr id="766" name=""/>
          <p:cNvCxnSpPr>
            <a:stCxn id="750" idx="6"/>
            <a:endCxn id="767" idx="4"/>
          </p:cNvCxnSpPr>
          <p:nvPr/>
        </p:nvCxnSpPr>
        <p:spPr>
          <a:xfrm flipV="1">
            <a:off x="4191120" y="3962160"/>
            <a:ext cx="713520" cy="145800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768" name=""/>
          <p:cNvGrpSpPr/>
          <p:nvPr/>
        </p:nvGrpSpPr>
        <p:grpSpPr>
          <a:xfrm>
            <a:off x="1523880" y="4772160"/>
            <a:ext cx="761760" cy="1072080"/>
            <a:chOff x="1523880" y="4772160"/>
            <a:chExt cx="761760" cy="1072080"/>
          </a:xfrm>
        </p:grpSpPr>
        <p:grpSp>
          <p:nvGrpSpPr>
            <p:cNvPr id="769" name=""/>
            <p:cNvGrpSpPr/>
            <p:nvPr/>
          </p:nvGrpSpPr>
          <p:grpSpPr>
            <a:xfrm>
              <a:off x="1523880" y="4772160"/>
              <a:ext cx="761760" cy="1072080"/>
              <a:chOff x="1523880" y="4772160"/>
              <a:chExt cx="761760" cy="1072080"/>
            </a:xfrm>
          </p:grpSpPr>
          <p:sp>
            <p:nvSpPr>
              <p:cNvPr id="770" name=""/>
              <p:cNvSpPr/>
              <p:nvPr/>
            </p:nvSpPr>
            <p:spPr>
              <a:xfrm>
                <a:off x="1523880" y="4772160"/>
                <a:ext cx="76176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679400" y="540360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1828440" y="5000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73" name=""/>
          <p:cNvCxnSpPr>
            <a:stCxn id="758" idx="3"/>
            <a:endCxn id="770" idx="0"/>
          </p:cNvCxnSpPr>
          <p:nvPr/>
        </p:nvCxnSpPr>
        <p:spPr>
          <a:xfrm flipH="1">
            <a:off x="1904400" y="3835080"/>
            <a:ext cx="1167480" cy="91836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774" name=""/>
          <p:cNvCxnSpPr>
            <a:stCxn id="772" idx="2"/>
            <a:endCxn id="752" idx="4"/>
          </p:cNvCxnSpPr>
          <p:nvPr/>
        </p:nvCxnSpPr>
        <p:spPr>
          <a:xfrm flipH="1" flipV="1">
            <a:off x="1485720" y="3924000"/>
            <a:ext cx="343440" cy="11527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1981080" y="3086280"/>
            <a:ext cx="838440" cy="1269720"/>
          </a:xfrm>
          <a:custGeom>
            <a:avLst/>
            <a:gdLst/>
            <a:ahLst/>
            <a:rect l="l" t="t" r="r" b="b"/>
            <a:pathLst>
              <a:path w="928" h="800">
                <a:moveTo>
                  <a:pt x="208" y="216"/>
                </a:moveTo>
                <a:cubicBezTo>
                  <a:pt x="264" y="132"/>
                  <a:pt x="320" y="48"/>
                  <a:pt x="400" y="24"/>
                </a:cubicBezTo>
                <a:cubicBezTo>
                  <a:pt x="480" y="0"/>
                  <a:pt x="608" y="8"/>
                  <a:pt x="688" y="72"/>
                </a:cubicBezTo>
                <a:cubicBezTo>
                  <a:pt x="768" y="136"/>
                  <a:pt x="928" y="304"/>
                  <a:pt x="880" y="408"/>
                </a:cubicBezTo>
                <a:cubicBezTo>
                  <a:pt x="832" y="512"/>
                  <a:pt x="536" y="632"/>
                  <a:pt x="400" y="696"/>
                </a:cubicBezTo>
                <a:cubicBezTo>
                  <a:pt x="264" y="760"/>
                  <a:pt x="128" y="800"/>
                  <a:pt x="64" y="792"/>
                </a:cubicBezTo>
                <a:cubicBezTo>
                  <a:pt x="0" y="784"/>
                  <a:pt x="0" y="736"/>
                  <a:pt x="16" y="648"/>
                </a:cubicBezTo>
                <a:cubicBezTo>
                  <a:pt x="32" y="560"/>
                  <a:pt x="96" y="412"/>
                  <a:pt x="160" y="264"/>
                </a:cubicBezTo>
              </a:path>
            </a:pathLst>
          </a:custGeom>
          <a:noFill/>
          <a:ln w="57240">
            <a:solidFill>
              <a:srgbClr val="ff95a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67" idx="1"/>
            <a:endCxn id="753" idx="3"/>
          </p:cNvCxnSpPr>
          <p:nvPr/>
        </p:nvCxnSpPr>
        <p:spPr>
          <a:xfrm flipH="1" flipV="1">
            <a:off x="3017520" y="2437920"/>
            <a:ext cx="1643760" cy="10036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777" name=""/>
          <p:cNvGrpSpPr/>
          <p:nvPr/>
        </p:nvGrpSpPr>
        <p:grpSpPr>
          <a:xfrm>
            <a:off x="4560840" y="3352680"/>
            <a:ext cx="925560" cy="609840"/>
            <a:chOff x="4560840" y="3352680"/>
            <a:chExt cx="925560" cy="609840"/>
          </a:xfrm>
        </p:grpSpPr>
        <p:sp>
          <p:nvSpPr>
            <p:cNvPr id="767" name=""/>
            <p:cNvSpPr/>
            <p:nvPr/>
          </p:nvSpPr>
          <p:spPr>
            <a:xfrm>
              <a:off x="4560840" y="335268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78" name=""/>
            <p:cNvGraphicFramePr/>
            <p:nvPr/>
          </p:nvGraphicFramePr>
          <p:xfrm>
            <a:off x="5105520" y="3585960"/>
            <a:ext cx="380880" cy="374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05520" y="35859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80" name=""/>
          <p:cNvSpPr txBox="1"/>
          <p:nvPr/>
        </p:nvSpPr>
        <p:spPr>
          <a:xfrm>
            <a:off x="4152960" y="2057400"/>
            <a:ext cx="17524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7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c0128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eadlock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c0128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1" name=""/>
          <p:cNvSpPr/>
          <p:nvPr/>
        </p:nvSpPr>
        <p:spPr>
          <a:xfrm>
            <a:off x="6248520" y="4114800"/>
            <a:ext cx="1828800" cy="11430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lo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86600" y="4191120"/>
            <a:ext cx="30492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629400" y="4876920"/>
            <a:ext cx="30492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38880" y="4876920"/>
            <a:ext cx="30492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010280" y="3657600"/>
            <a:ext cx="30492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153280" y="4952880"/>
            <a:ext cx="30492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19920" y="3429000"/>
            <a:ext cx="2743200" cy="26668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Wa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500"/>
                            </p:stCondLst>
                            <p:childTnLst>
                              <p:par>
                                <p:cTn id="1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500"/>
                            </p:stCondLst>
                            <p:childTnLst>
                              <p:par>
                                <p:cTn id="1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ling Dead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s impossi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 dead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oid dead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s allow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 &amp; Reco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gno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rot="564000">
            <a:off x="5181120" y="3886200"/>
            <a:ext cx="3203640" cy="1523880"/>
          </a:xfrm>
          <a:custGeom>
            <a:avLst/>
            <a:gdLst/>
            <a:ahLst/>
            <a:rect l="l" t="t" r="r" b="b"/>
            <a:pathLst>
              <a:path w="1776" h="1104">
                <a:moveTo>
                  <a:pt x="240" y="0"/>
                </a:moveTo>
                <a:lnTo>
                  <a:pt x="528" y="48"/>
                </a:lnTo>
                <a:lnTo>
                  <a:pt x="720" y="384"/>
                </a:lnTo>
                <a:lnTo>
                  <a:pt x="1008" y="480"/>
                </a:lnTo>
                <a:lnTo>
                  <a:pt x="1248" y="720"/>
                </a:lnTo>
                <a:lnTo>
                  <a:pt x="1536" y="816"/>
                </a:lnTo>
                <a:lnTo>
                  <a:pt x="1776" y="1056"/>
                </a:lnTo>
                <a:lnTo>
                  <a:pt x="1392" y="1104"/>
                </a:lnTo>
                <a:lnTo>
                  <a:pt x="1392" y="1008"/>
                </a:lnTo>
                <a:lnTo>
                  <a:pt x="1200" y="864"/>
                </a:lnTo>
                <a:lnTo>
                  <a:pt x="960" y="768"/>
                </a:lnTo>
                <a:lnTo>
                  <a:pt x="912" y="624"/>
                </a:lnTo>
                <a:lnTo>
                  <a:pt x="576" y="480"/>
                </a:lnTo>
                <a:lnTo>
                  <a:pt x="432" y="288"/>
                </a:lnTo>
                <a:lnTo>
                  <a:pt x="192" y="96"/>
                </a:lnTo>
                <a:lnTo>
                  <a:pt x="0" y="96"/>
                </a:lnTo>
              </a:path>
            </a:pathLst>
          </a:custGeom>
          <a:solidFill>
            <a:srgbClr val="00ccff"/>
          </a:solidFill>
          <a:ln w="1260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5029200" y="4148280"/>
            <a:ext cx="609480" cy="263160"/>
            <a:chOff x="5029200" y="4148280"/>
            <a:chExt cx="609480" cy="263160"/>
          </a:xfrm>
        </p:grpSpPr>
        <p:sp>
          <p:nvSpPr>
            <p:cNvPr id="792" name=""/>
            <p:cNvSpPr/>
            <p:nvPr/>
          </p:nvSpPr>
          <p:spPr>
            <a:xfrm>
              <a:off x="5034960" y="4242240"/>
              <a:ext cx="23760" cy="5796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034960" y="4242240"/>
              <a:ext cx="23760" cy="5796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581800" y="4281480"/>
              <a:ext cx="49680" cy="338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581800" y="4281480"/>
              <a:ext cx="49680" cy="338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581800" y="4277880"/>
              <a:ext cx="36720" cy="3384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81800" y="4277880"/>
              <a:ext cx="36720" cy="3384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059800" y="4159800"/>
              <a:ext cx="414360" cy="8820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059800" y="4159800"/>
              <a:ext cx="414360" cy="8820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073120" y="4272480"/>
              <a:ext cx="518400" cy="13896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073120" y="4272480"/>
              <a:ext cx="518400" cy="13896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34960" y="4148280"/>
              <a:ext cx="587520" cy="22752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034960" y="4148280"/>
              <a:ext cx="587520" cy="22752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562000" y="4308120"/>
              <a:ext cx="76680" cy="6372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562000" y="4308120"/>
              <a:ext cx="76680" cy="6372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5577120" y="4367520"/>
              <a:ext cx="529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5566680" y="4315320"/>
              <a:ext cx="709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5574240" y="4332960"/>
              <a:ext cx="637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029200" y="4290840"/>
              <a:ext cx="87480" cy="6624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29200" y="4290840"/>
              <a:ext cx="87480" cy="6624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037840" y="4343400"/>
              <a:ext cx="48240" cy="792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29200" y="4321080"/>
              <a:ext cx="6228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029200" y="4299120"/>
              <a:ext cx="7884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500080" y="4322880"/>
              <a:ext cx="50040" cy="676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500080" y="4322880"/>
              <a:ext cx="50040" cy="676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119560" y="4327200"/>
              <a:ext cx="47880" cy="630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119560" y="4327200"/>
              <a:ext cx="47880" cy="630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051520" y="4261680"/>
              <a:ext cx="548640" cy="1836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53320" y="4268880"/>
              <a:ext cx="532800" cy="1296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55560" y="4154040"/>
              <a:ext cx="314640" cy="20700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187600" y="4302000"/>
              <a:ext cx="293760" cy="57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194800" y="4315320"/>
              <a:ext cx="280800" cy="432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447520" y="4243680"/>
              <a:ext cx="8640" cy="13176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284800" y="4155480"/>
              <a:ext cx="15840" cy="20376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463000" y="4298400"/>
              <a:ext cx="5760" cy="5760"/>
            </a:xfrm>
            <a:prstGeom prst="rect">
              <a:avLst/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463000" y="4298400"/>
              <a:ext cx="5760" cy="57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12160" y="4265280"/>
              <a:ext cx="237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12160" y="4265280"/>
              <a:ext cx="23760" cy="1080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312160" y="4265280"/>
              <a:ext cx="23760" cy="720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12160" y="4265280"/>
              <a:ext cx="23760" cy="720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167800" y="4259520"/>
              <a:ext cx="2412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167800" y="4259520"/>
              <a:ext cx="24120" cy="1080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167800" y="4259520"/>
              <a:ext cx="24120" cy="720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167800" y="4259520"/>
              <a:ext cx="24120" cy="720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93440" y="4164480"/>
              <a:ext cx="126720" cy="817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293440" y="4164480"/>
              <a:ext cx="126720" cy="817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84720" y="4163400"/>
              <a:ext cx="99720" cy="8028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84720" y="4163400"/>
              <a:ext cx="99720" cy="8028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411160" y="4215960"/>
              <a:ext cx="30600" cy="3024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411160" y="4215960"/>
              <a:ext cx="30600" cy="3024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166000" y="4204800"/>
              <a:ext cx="23040" cy="352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66000" y="4204800"/>
              <a:ext cx="23040" cy="352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467680" y="4242240"/>
              <a:ext cx="136800" cy="3384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44320" y="4232880"/>
              <a:ext cx="397440" cy="1656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41800" y="4155480"/>
              <a:ext cx="133560" cy="7344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037840" y="4259520"/>
              <a:ext cx="136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034960" y="426888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034960" y="42836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087520" y="4163400"/>
              <a:ext cx="105840" cy="7272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153760" y="4160520"/>
              <a:ext cx="3600" cy="122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01200" y="4171680"/>
              <a:ext cx="81720" cy="5868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101200" y="4171680"/>
              <a:ext cx="81720" cy="5868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405760" y="4216680"/>
              <a:ext cx="16920" cy="29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05760" y="4216680"/>
              <a:ext cx="16920" cy="29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7924680" y="4191120"/>
            <a:ext cx="533520" cy="232920"/>
            <a:chOff x="7924680" y="4191120"/>
            <a:chExt cx="533520" cy="232920"/>
          </a:xfrm>
        </p:grpSpPr>
        <p:sp>
          <p:nvSpPr>
            <p:cNvPr id="856" name=""/>
            <p:cNvSpPr/>
            <p:nvPr/>
          </p:nvSpPr>
          <p:spPr>
            <a:xfrm>
              <a:off x="8326440" y="4265280"/>
              <a:ext cx="13680" cy="1656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0"/>
                  </a:moveTo>
                  <a:lnTo>
                    <a:pt x="136" y="68"/>
                  </a:lnTo>
                  <a:lnTo>
                    <a:pt x="0" y="136"/>
                  </a:lnTo>
                  <a:lnTo>
                    <a:pt x="4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068320" y="4204080"/>
              <a:ext cx="95400" cy="7092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068320" y="4204080"/>
              <a:ext cx="95400" cy="7092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lnTo>
                    <a:pt x="57" y="5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415000" y="4267800"/>
              <a:ext cx="34560" cy="4500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415000" y="4267800"/>
              <a:ext cx="34560" cy="4500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lnTo>
                    <a:pt x="2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8430840" y="428832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8434440" y="4298400"/>
              <a:ext cx="15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931520" y="4301280"/>
              <a:ext cx="32040" cy="2412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931520" y="4301280"/>
              <a:ext cx="32040" cy="2412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lnTo>
                    <a:pt x="187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3120" y="4303800"/>
              <a:ext cx="481320" cy="1202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953120" y="4303800"/>
              <a:ext cx="481320" cy="1202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lnTo>
                    <a:pt x="3768" y="5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29000" y="4191120"/>
              <a:ext cx="521640" cy="19692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close/>
                </a:path>
              </a:pathLst>
            </a:cu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929000" y="4191120"/>
              <a:ext cx="521640" cy="19692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lnTo>
                    <a:pt x="386" y="15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991280" y="4344480"/>
              <a:ext cx="51840" cy="6336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991280" y="4344480"/>
              <a:ext cx="51840" cy="6336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351640" y="4344480"/>
              <a:ext cx="51840" cy="6336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51640" y="4344480"/>
              <a:ext cx="51840" cy="6336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097840" y="4200840"/>
              <a:ext cx="140400" cy="7668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097840" y="4200840"/>
              <a:ext cx="140400" cy="7668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246880" y="4200120"/>
              <a:ext cx="114840" cy="7488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246880" y="4200120"/>
              <a:ext cx="114840" cy="7488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lnTo>
                    <a:pt x="8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123760" y="4203000"/>
              <a:ext cx="113400" cy="7164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123760" y="4203000"/>
              <a:ext cx="113400" cy="7164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lnTo>
                    <a:pt x="423" y="9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249040" y="4202280"/>
              <a:ext cx="109800" cy="7092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249040" y="4202280"/>
              <a:ext cx="109800" cy="7092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lnTo>
                    <a:pt x="1038" y="54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924680" y="4325760"/>
              <a:ext cx="69120" cy="291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924680" y="4325760"/>
              <a:ext cx="69120" cy="291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lnTo>
                    <a:pt x="68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925040" y="4336920"/>
              <a:ext cx="568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395560" y="4315680"/>
              <a:ext cx="62640" cy="3276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395560" y="4315680"/>
              <a:ext cx="62640" cy="3276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8402400" y="4321440"/>
              <a:ext cx="5220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8411040" y="4330080"/>
              <a:ext cx="435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116920" y="4249080"/>
              <a:ext cx="16200" cy="2124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116920" y="4249080"/>
              <a:ext cx="16200" cy="2124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197920" y="4285080"/>
              <a:ext cx="20160" cy="1152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197920" y="4285080"/>
              <a:ext cx="20160" cy="1152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197920" y="4285080"/>
              <a:ext cx="20160" cy="72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197920" y="4285080"/>
              <a:ext cx="20160" cy="72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097120" y="4272120"/>
              <a:ext cx="324360" cy="7200"/>
            </a:xfrm>
            <a:custGeom>
              <a:avLst/>
              <a:gdLst/>
              <a:ahLst/>
              <a:rect l="l" t="t" r="r" b="b"/>
              <a:pathLst>
                <a:path w="3184" h="61">
                  <a:moveTo>
                    <a:pt x="0" y="50"/>
                  </a:moveTo>
                  <a:lnTo>
                    <a:pt x="0" y="61"/>
                  </a:lnTo>
                  <a:lnTo>
                    <a:pt x="31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087040" y="4195440"/>
              <a:ext cx="334800" cy="178200"/>
            </a:xfrm>
            <a:custGeom>
              <a:avLst/>
              <a:gdLst/>
              <a:ahLst/>
              <a:rect l="l" t="t" r="r" b="b"/>
              <a:pathLst>
                <a:path w="3291" h="1428">
                  <a:moveTo>
                    <a:pt x="81" y="1428"/>
                  </a:moveTo>
                  <a:lnTo>
                    <a:pt x="59" y="1361"/>
                  </a:lnTo>
                  <a:lnTo>
                    <a:pt x="25" y="1226"/>
                  </a:lnTo>
                  <a:lnTo>
                    <a:pt x="0" y="1090"/>
                  </a:lnTo>
                  <a:lnTo>
                    <a:pt x="9" y="870"/>
                  </a:lnTo>
                  <a:lnTo>
                    <a:pt x="34" y="660"/>
                  </a:lnTo>
                  <a:lnTo>
                    <a:pt x="36" y="639"/>
                  </a:lnTo>
                  <a:lnTo>
                    <a:pt x="52" y="601"/>
                  </a:lnTo>
                  <a:lnTo>
                    <a:pt x="74" y="569"/>
                  </a:lnTo>
                  <a:lnTo>
                    <a:pt x="103" y="544"/>
                  </a:lnTo>
                  <a:lnTo>
                    <a:pt x="720" y="115"/>
                  </a:lnTo>
                  <a:lnTo>
                    <a:pt x="758" y="97"/>
                  </a:lnTo>
                  <a:lnTo>
                    <a:pt x="846" y="61"/>
                  </a:lnTo>
                  <a:lnTo>
                    <a:pt x="940" y="34"/>
                  </a:lnTo>
                  <a:lnTo>
                    <a:pt x="1650" y="0"/>
                  </a:lnTo>
                  <a:lnTo>
                    <a:pt x="2547" y="21"/>
                  </a:lnTo>
                  <a:lnTo>
                    <a:pt x="2640" y="80"/>
                  </a:lnTo>
                  <a:lnTo>
                    <a:pt x="3069" y="441"/>
                  </a:lnTo>
                  <a:lnTo>
                    <a:pt x="3291" y="6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067240" y="4374000"/>
              <a:ext cx="2581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937640" y="4367520"/>
              <a:ext cx="306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954560" y="4295880"/>
              <a:ext cx="479520" cy="11160"/>
            </a:xfrm>
            <a:custGeom>
              <a:avLst/>
              <a:gdLst/>
              <a:ahLst/>
              <a:rect l="l" t="t" r="r" b="b"/>
              <a:pathLst>
                <a:path w="4710" h="91">
                  <a:moveTo>
                    <a:pt x="0" y="91"/>
                  </a:moveTo>
                  <a:lnTo>
                    <a:pt x="3070" y="34"/>
                  </a:lnTo>
                  <a:lnTo>
                    <a:pt x="47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234280" y="4197240"/>
              <a:ext cx="14040" cy="176400"/>
            </a:xfrm>
            <a:custGeom>
              <a:avLst/>
              <a:gdLst/>
              <a:ahLst/>
              <a:rect l="l" t="t" r="r" b="b"/>
              <a:pathLst>
                <a:path w="140" h="1417">
                  <a:moveTo>
                    <a:pt x="22" y="1417"/>
                  </a:moveTo>
                  <a:lnTo>
                    <a:pt x="17" y="1355"/>
                  </a:lnTo>
                  <a:lnTo>
                    <a:pt x="5" y="1178"/>
                  </a:lnTo>
                  <a:lnTo>
                    <a:pt x="0" y="997"/>
                  </a:lnTo>
                  <a:lnTo>
                    <a:pt x="7" y="817"/>
                  </a:lnTo>
                  <a:lnTo>
                    <a:pt x="25" y="639"/>
                  </a:lnTo>
                  <a:lnTo>
                    <a:pt x="34" y="639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977600" y="4304520"/>
              <a:ext cx="93960" cy="64800"/>
            </a:xfrm>
            <a:custGeom>
              <a:avLst/>
              <a:gdLst/>
              <a:ahLst/>
              <a:rect l="l" t="t" r="r" b="b"/>
              <a:pathLst>
                <a:path w="924" h="518">
                  <a:moveTo>
                    <a:pt x="924" y="518"/>
                  </a:moveTo>
                  <a:lnTo>
                    <a:pt x="914" y="444"/>
                  </a:lnTo>
                  <a:lnTo>
                    <a:pt x="897" y="373"/>
                  </a:lnTo>
                  <a:lnTo>
                    <a:pt x="872" y="304"/>
                  </a:lnTo>
                  <a:lnTo>
                    <a:pt x="835" y="239"/>
                  </a:lnTo>
                  <a:lnTo>
                    <a:pt x="791" y="183"/>
                  </a:lnTo>
                  <a:lnTo>
                    <a:pt x="739" y="131"/>
                  </a:lnTo>
                  <a:lnTo>
                    <a:pt x="680" y="87"/>
                  </a:lnTo>
                  <a:lnTo>
                    <a:pt x="615" y="52"/>
                  </a:lnTo>
                  <a:lnTo>
                    <a:pt x="546" y="24"/>
                  </a:lnTo>
                  <a:lnTo>
                    <a:pt x="477" y="7"/>
                  </a:lnTo>
                  <a:lnTo>
                    <a:pt x="405" y="0"/>
                  </a:lnTo>
                  <a:lnTo>
                    <a:pt x="331" y="4"/>
                  </a:lnTo>
                  <a:lnTo>
                    <a:pt x="260" y="18"/>
                  </a:lnTo>
                  <a:lnTo>
                    <a:pt x="189" y="39"/>
                  </a:lnTo>
                  <a:lnTo>
                    <a:pt x="124" y="72"/>
                  </a:lnTo>
                  <a:lnTo>
                    <a:pt x="63" y="114"/>
                  </a:lnTo>
                  <a:lnTo>
                    <a:pt x="8" y="163"/>
                  </a:lnTo>
                  <a:lnTo>
                    <a:pt x="0" y="1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320320" y="4302720"/>
              <a:ext cx="86400" cy="68040"/>
            </a:xfrm>
            <a:custGeom>
              <a:avLst/>
              <a:gdLst/>
              <a:ahLst/>
              <a:rect l="l" t="t" r="r" b="b"/>
              <a:pathLst>
                <a:path w="850" h="544">
                  <a:moveTo>
                    <a:pt x="850" y="128"/>
                  </a:moveTo>
                  <a:lnTo>
                    <a:pt x="792" y="84"/>
                  </a:lnTo>
                  <a:lnTo>
                    <a:pt x="731" y="48"/>
                  </a:lnTo>
                  <a:lnTo>
                    <a:pt x="664" y="21"/>
                  </a:lnTo>
                  <a:lnTo>
                    <a:pt x="593" y="8"/>
                  </a:lnTo>
                  <a:lnTo>
                    <a:pt x="524" y="0"/>
                  </a:lnTo>
                  <a:lnTo>
                    <a:pt x="452" y="4"/>
                  </a:lnTo>
                  <a:lnTo>
                    <a:pt x="380" y="17"/>
                  </a:lnTo>
                  <a:lnTo>
                    <a:pt x="311" y="42"/>
                  </a:lnTo>
                  <a:lnTo>
                    <a:pt x="248" y="73"/>
                  </a:lnTo>
                  <a:lnTo>
                    <a:pt x="188" y="115"/>
                  </a:lnTo>
                  <a:lnTo>
                    <a:pt x="135" y="164"/>
                  </a:lnTo>
                  <a:lnTo>
                    <a:pt x="92" y="222"/>
                  </a:lnTo>
                  <a:lnTo>
                    <a:pt x="55" y="283"/>
                  </a:lnTo>
                  <a:lnTo>
                    <a:pt x="24" y="350"/>
                  </a:lnTo>
                  <a:lnTo>
                    <a:pt x="7" y="419"/>
                  </a:lnTo>
                  <a:lnTo>
                    <a:pt x="0" y="491"/>
                  </a:lnTo>
                  <a:lnTo>
                    <a:pt x="3" y="5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27520" y="4198320"/>
              <a:ext cx="46080" cy="107280"/>
            </a:xfrm>
            <a:custGeom>
              <a:avLst/>
              <a:gdLst/>
              <a:ahLst/>
              <a:rect l="l" t="t" r="r" b="b"/>
              <a:pathLst>
                <a:path w="454" h="858">
                  <a:moveTo>
                    <a:pt x="326" y="858"/>
                  </a:moveTo>
                  <a:lnTo>
                    <a:pt x="454" y="649"/>
                  </a:lnTo>
                  <a:lnTo>
                    <a:pt x="446" y="599"/>
                  </a:lnTo>
                  <a:lnTo>
                    <a:pt x="432" y="554"/>
                  </a:lnTo>
                  <a:lnTo>
                    <a:pt x="407" y="5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328960" y="4282560"/>
              <a:ext cx="19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328960" y="4282560"/>
              <a:ext cx="19800" cy="11160"/>
            </a:xfrm>
            <a:custGeom>
              <a:avLst/>
              <a:gdLst/>
              <a:ahLst/>
              <a:rect l="l" t="t" r="r" b="b"/>
              <a:pathLst>
                <a:path w="197" h="93">
                  <a:moveTo>
                    <a:pt x="0" y="93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328960" y="4282560"/>
              <a:ext cx="19800" cy="684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328960" y="4282560"/>
              <a:ext cx="19800" cy="684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072640" y="4317120"/>
              <a:ext cx="6120" cy="612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072640" y="4317120"/>
              <a:ext cx="6120" cy="612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063640" y="4333320"/>
              <a:ext cx="2646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060040" y="4329000"/>
              <a:ext cx="2700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4952880" y="3276720"/>
            <a:ext cx="3657240" cy="1447200"/>
            <a:chOff x="4952880" y="3276720"/>
            <a:chExt cx="3657240" cy="1447200"/>
          </a:xfrm>
        </p:grpSpPr>
        <p:sp>
          <p:nvSpPr>
            <p:cNvPr id="912" name=""/>
            <p:cNvSpPr/>
            <p:nvPr/>
          </p:nvSpPr>
          <p:spPr>
            <a:xfrm>
              <a:off x="4952880" y="3276720"/>
              <a:ext cx="3657240" cy="1447200"/>
            </a:xfrm>
            <a:custGeom>
              <a:avLst/>
              <a:gdLst/>
              <a:ahLst/>
              <a:rect l="l" t="t" r="r" b="b"/>
              <a:pathLst>
                <a:path w="2127" h="626">
                  <a:moveTo>
                    <a:pt x="863" y="232"/>
                  </a:moveTo>
                  <a:lnTo>
                    <a:pt x="1263" y="232"/>
                  </a:lnTo>
                  <a:lnTo>
                    <a:pt x="1279" y="243"/>
                  </a:lnTo>
                  <a:lnTo>
                    <a:pt x="1279" y="253"/>
                  </a:lnTo>
                  <a:lnTo>
                    <a:pt x="1279" y="626"/>
                  </a:lnTo>
                  <a:lnTo>
                    <a:pt x="1518" y="626"/>
                  </a:lnTo>
                  <a:lnTo>
                    <a:pt x="1518" y="271"/>
                  </a:lnTo>
                  <a:lnTo>
                    <a:pt x="1531" y="280"/>
                  </a:lnTo>
                  <a:lnTo>
                    <a:pt x="1556" y="294"/>
                  </a:lnTo>
                  <a:lnTo>
                    <a:pt x="1600" y="320"/>
                  </a:lnTo>
                  <a:lnTo>
                    <a:pt x="1600" y="490"/>
                  </a:lnTo>
                  <a:lnTo>
                    <a:pt x="1628" y="490"/>
                  </a:lnTo>
                  <a:lnTo>
                    <a:pt x="1628" y="333"/>
                  </a:lnTo>
                  <a:lnTo>
                    <a:pt x="1671" y="354"/>
                  </a:lnTo>
                  <a:lnTo>
                    <a:pt x="1722" y="378"/>
                  </a:lnTo>
                  <a:lnTo>
                    <a:pt x="1722" y="490"/>
                  </a:lnTo>
                  <a:lnTo>
                    <a:pt x="1752" y="490"/>
                  </a:lnTo>
                  <a:lnTo>
                    <a:pt x="1752" y="391"/>
                  </a:lnTo>
                  <a:lnTo>
                    <a:pt x="1793" y="408"/>
                  </a:lnTo>
                  <a:lnTo>
                    <a:pt x="1837" y="427"/>
                  </a:lnTo>
                  <a:lnTo>
                    <a:pt x="1837" y="490"/>
                  </a:lnTo>
                  <a:lnTo>
                    <a:pt x="1867" y="490"/>
                  </a:lnTo>
                  <a:lnTo>
                    <a:pt x="1867" y="437"/>
                  </a:lnTo>
                  <a:lnTo>
                    <a:pt x="1880" y="442"/>
                  </a:lnTo>
                  <a:lnTo>
                    <a:pt x="1900" y="449"/>
                  </a:lnTo>
                  <a:lnTo>
                    <a:pt x="1926" y="457"/>
                  </a:lnTo>
                  <a:lnTo>
                    <a:pt x="1954" y="465"/>
                  </a:lnTo>
                  <a:lnTo>
                    <a:pt x="1984" y="473"/>
                  </a:lnTo>
                  <a:lnTo>
                    <a:pt x="2012" y="481"/>
                  </a:lnTo>
                  <a:lnTo>
                    <a:pt x="2038" y="486"/>
                  </a:lnTo>
                  <a:lnTo>
                    <a:pt x="2050" y="489"/>
                  </a:lnTo>
                  <a:lnTo>
                    <a:pt x="2061" y="490"/>
                  </a:lnTo>
                  <a:lnTo>
                    <a:pt x="1518" y="490"/>
                  </a:lnTo>
                  <a:lnTo>
                    <a:pt x="1518" y="509"/>
                  </a:lnTo>
                  <a:lnTo>
                    <a:pt x="2127" y="509"/>
                  </a:lnTo>
                  <a:lnTo>
                    <a:pt x="2127" y="491"/>
                  </a:lnTo>
                  <a:lnTo>
                    <a:pt x="2107" y="488"/>
                  </a:lnTo>
                  <a:lnTo>
                    <a:pt x="2086" y="484"/>
                  </a:lnTo>
                  <a:lnTo>
                    <a:pt x="2066" y="480"/>
                  </a:lnTo>
                  <a:lnTo>
                    <a:pt x="2043" y="475"/>
                  </a:lnTo>
                  <a:lnTo>
                    <a:pt x="2000" y="463"/>
                  </a:lnTo>
                  <a:lnTo>
                    <a:pt x="1954" y="450"/>
                  </a:lnTo>
                  <a:lnTo>
                    <a:pt x="1905" y="435"/>
                  </a:lnTo>
                  <a:lnTo>
                    <a:pt x="1862" y="419"/>
                  </a:lnTo>
                  <a:lnTo>
                    <a:pt x="1839" y="410"/>
                  </a:lnTo>
                  <a:lnTo>
                    <a:pt x="1816" y="401"/>
                  </a:lnTo>
                  <a:lnTo>
                    <a:pt x="1773" y="383"/>
                  </a:lnTo>
                  <a:lnTo>
                    <a:pt x="1730" y="365"/>
                  </a:lnTo>
                  <a:lnTo>
                    <a:pt x="1689" y="346"/>
                  </a:lnTo>
                  <a:lnTo>
                    <a:pt x="1651" y="327"/>
                  </a:lnTo>
                  <a:lnTo>
                    <a:pt x="1612" y="308"/>
                  </a:lnTo>
                  <a:lnTo>
                    <a:pt x="1579" y="290"/>
                  </a:lnTo>
                  <a:lnTo>
                    <a:pt x="1551" y="273"/>
                  </a:lnTo>
                  <a:lnTo>
                    <a:pt x="1526" y="257"/>
                  </a:lnTo>
                  <a:lnTo>
                    <a:pt x="1505" y="243"/>
                  </a:lnTo>
                  <a:lnTo>
                    <a:pt x="1518" y="232"/>
                  </a:lnTo>
                  <a:lnTo>
                    <a:pt x="1518" y="86"/>
                  </a:lnTo>
                  <a:lnTo>
                    <a:pt x="1500" y="70"/>
                  </a:lnTo>
                  <a:lnTo>
                    <a:pt x="1480" y="86"/>
                  </a:lnTo>
                  <a:lnTo>
                    <a:pt x="1477" y="85"/>
                  </a:lnTo>
                  <a:lnTo>
                    <a:pt x="1467" y="81"/>
                  </a:lnTo>
                  <a:lnTo>
                    <a:pt x="1454" y="74"/>
                  </a:lnTo>
                  <a:lnTo>
                    <a:pt x="1439" y="64"/>
                  </a:lnTo>
                  <a:lnTo>
                    <a:pt x="1424" y="52"/>
                  </a:lnTo>
                  <a:lnTo>
                    <a:pt x="1416" y="45"/>
                  </a:lnTo>
                  <a:lnTo>
                    <a:pt x="1411" y="37"/>
                  </a:lnTo>
                  <a:lnTo>
                    <a:pt x="1406" y="29"/>
                  </a:lnTo>
                  <a:lnTo>
                    <a:pt x="1401" y="20"/>
                  </a:lnTo>
                  <a:lnTo>
                    <a:pt x="1398" y="11"/>
                  </a:lnTo>
                  <a:lnTo>
                    <a:pt x="1398" y="0"/>
                  </a:lnTo>
                  <a:lnTo>
                    <a:pt x="1398" y="11"/>
                  </a:lnTo>
                  <a:lnTo>
                    <a:pt x="1396" y="20"/>
                  </a:lnTo>
                  <a:lnTo>
                    <a:pt x="1393" y="25"/>
                  </a:lnTo>
                  <a:lnTo>
                    <a:pt x="1391" y="29"/>
                  </a:lnTo>
                  <a:lnTo>
                    <a:pt x="1386" y="37"/>
                  </a:lnTo>
                  <a:lnTo>
                    <a:pt x="1378" y="45"/>
                  </a:lnTo>
                  <a:lnTo>
                    <a:pt x="1373" y="52"/>
                  </a:lnTo>
                  <a:lnTo>
                    <a:pt x="1358" y="64"/>
                  </a:lnTo>
                  <a:lnTo>
                    <a:pt x="1342" y="74"/>
                  </a:lnTo>
                  <a:lnTo>
                    <a:pt x="1330" y="81"/>
                  </a:lnTo>
                  <a:lnTo>
                    <a:pt x="1319" y="85"/>
                  </a:lnTo>
                  <a:lnTo>
                    <a:pt x="1317" y="86"/>
                  </a:lnTo>
                  <a:lnTo>
                    <a:pt x="1297" y="70"/>
                  </a:lnTo>
                  <a:lnTo>
                    <a:pt x="1279" y="86"/>
                  </a:lnTo>
                  <a:lnTo>
                    <a:pt x="1279" y="194"/>
                  </a:lnTo>
                  <a:lnTo>
                    <a:pt x="848" y="194"/>
                  </a:lnTo>
                  <a:lnTo>
                    <a:pt x="848" y="86"/>
                  </a:lnTo>
                  <a:lnTo>
                    <a:pt x="830" y="70"/>
                  </a:lnTo>
                  <a:lnTo>
                    <a:pt x="810" y="86"/>
                  </a:lnTo>
                  <a:lnTo>
                    <a:pt x="807" y="85"/>
                  </a:lnTo>
                  <a:lnTo>
                    <a:pt x="797" y="81"/>
                  </a:lnTo>
                  <a:lnTo>
                    <a:pt x="785" y="74"/>
                  </a:lnTo>
                  <a:lnTo>
                    <a:pt x="769" y="64"/>
                  </a:lnTo>
                  <a:lnTo>
                    <a:pt x="754" y="52"/>
                  </a:lnTo>
                  <a:lnTo>
                    <a:pt x="746" y="45"/>
                  </a:lnTo>
                  <a:lnTo>
                    <a:pt x="741" y="37"/>
                  </a:lnTo>
                  <a:lnTo>
                    <a:pt x="736" y="29"/>
                  </a:lnTo>
                  <a:lnTo>
                    <a:pt x="731" y="20"/>
                  </a:lnTo>
                  <a:lnTo>
                    <a:pt x="728" y="11"/>
                  </a:lnTo>
                  <a:lnTo>
                    <a:pt x="728" y="0"/>
                  </a:lnTo>
                  <a:lnTo>
                    <a:pt x="728" y="11"/>
                  </a:lnTo>
                  <a:lnTo>
                    <a:pt x="723" y="20"/>
                  </a:lnTo>
                  <a:lnTo>
                    <a:pt x="723" y="25"/>
                  </a:lnTo>
                  <a:lnTo>
                    <a:pt x="721" y="29"/>
                  </a:lnTo>
                  <a:lnTo>
                    <a:pt x="716" y="37"/>
                  </a:lnTo>
                  <a:lnTo>
                    <a:pt x="708" y="45"/>
                  </a:lnTo>
                  <a:lnTo>
                    <a:pt x="703" y="52"/>
                  </a:lnTo>
                  <a:lnTo>
                    <a:pt x="688" y="64"/>
                  </a:lnTo>
                  <a:lnTo>
                    <a:pt x="672" y="74"/>
                  </a:lnTo>
                  <a:lnTo>
                    <a:pt x="660" y="81"/>
                  </a:lnTo>
                  <a:lnTo>
                    <a:pt x="650" y="85"/>
                  </a:lnTo>
                  <a:lnTo>
                    <a:pt x="647" y="86"/>
                  </a:lnTo>
                  <a:lnTo>
                    <a:pt x="627" y="70"/>
                  </a:lnTo>
                  <a:lnTo>
                    <a:pt x="609" y="86"/>
                  </a:lnTo>
                  <a:lnTo>
                    <a:pt x="609" y="232"/>
                  </a:lnTo>
                  <a:lnTo>
                    <a:pt x="622" y="243"/>
                  </a:lnTo>
                  <a:lnTo>
                    <a:pt x="601" y="257"/>
                  </a:lnTo>
                  <a:lnTo>
                    <a:pt x="576" y="273"/>
                  </a:lnTo>
                  <a:lnTo>
                    <a:pt x="545" y="290"/>
                  </a:lnTo>
                  <a:lnTo>
                    <a:pt x="512" y="308"/>
                  </a:lnTo>
                  <a:lnTo>
                    <a:pt x="476" y="327"/>
                  </a:lnTo>
                  <a:lnTo>
                    <a:pt x="438" y="346"/>
                  </a:lnTo>
                  <a:lnTo>
                    <a:pt x="397" y="365"/>
                  </a:lnTo>
                  <a:lnTo>
                    <a:pt x="352" y="383"/>
                  </a:lnTo>
                  <a:lnTo>
                    <a:pt x="308" y="401"/>
                  </a:lnTo>
                  <a:lnTo>
                    <a:pt x="262" y="419"/>
                  </a:lnTo>
                  <a:lnTo>
                    <a:pt x="217" y="435"/>
                  </a:lnTo>
                  <a:lnTo>
                    <a:pt x="173" y="450"/>
                  </a:lnTo>
                  <a:lnTo>
                    <a:pt x="150" y="457"/>
                  </a:lnTo>
                  <a:lnTo>
                    <a:pt x="127" y="463"/>
                  </a:lnTo>
                  <a:lnTo>
                    <a:pt x="84" y="475"/>
                  </a:lnTo>
                  <a:lnTo>
                    <a:pt x="61" y="480"/>
                  </a:lnTo>
                  <a:lnTo>
                    <a:pt x="41" y="484"/>
                  </a:lnTo>
                  <a:lnTo>
                    <a:pt x="20" y="488"/>
                  </a:lnTo>
                  <a:lnTo>
                    <a:pt x="0" y="491"/>
                  </a:lnTo>
                  <a:lnTo>
                    <a:pt x="0" y="509"/>
                  </a:lnTo>
                  <a:lnTo>
                    <a:pt x="609" y="509"/>
                  </a:lnTo>
                  <a:lnTo>
                    <a:pt x="609" y="490"/>
                  </a:lnTo>
                  <a:lnTo>
                    <a:pt x="64" y="490"/>
                  </a:lnTo>
                  <a:lnTo>
                    <a:pt x="76" y="489"/>
                  </a:lnTo>
                  <a:lnTo>
                    <a:pt x="87" y="486"/>
                  </a:lnTo>
                  <a:lnTo>
                    <a:pt x="115" y="481"/>
                  </a:lnTo>
                  <a:lnTo>
                    <a:pt x="127" y="477"/>
                  </a:lnTo>
                  <a:lnTo>
                    <a:pt x="143" y="473"/>
                  </a:lnTo>
                  <a:lnTo>
                    <a:pt x="171" y="465"/>
                  </a:lnTo>
                  <a:lnTo>
                    <a:pt x="199" y="457"/>
                  </a:lnTo>
                  <a:lnTo>
                    <a:pt x="224" y="449"/>
                  </a:lnTo>
                  <a:lnTo>
                    <a:pt x="245" y="442"/>
                  </a:lnTo>
                  <a:lnTo>
                    <a:pt x="257" y="437"/>
                  </a:lnTo>
                  <a:lnTo>
                    <a:pt x="257" y="490"/>
                  </a:lnTo>
                  <a:lnTo>
                    <a:pt x="288" y="490"/>
                  </a:lnTo>
                  <a:lnTo>
                    <a:pt x="288" y="427"/>
                  </a:lnTo>
                  <a:lnTo>
                    <a:pt x="331" y="408"/>
                  </a:lnTo>
                  <a:lnTo>
                    <a:pt x="372" y="391"/>
                  </a:lnTo>
                  <a:lnTo>
                    <a:pt x="372" y="490"/>
                  </a:lnTo>
                  <a:lnTo>
                    <a:pt x="405" y="490"/>
                  </a:lnTo>
                  <a:lnTo>
                    <a:pt x="405" y="378"/>
                  </a:lnTo>
                  <a:lnTo>
                    <a:pt x="456" y="354"/>
                  </a:lnTo>
                  <a:lnTo>
                    <a:pt x="499" y="333"/>
                  </a:lnTo>
                  <a:lnTo>
                    <a:pt x="499" y="490"/>
                  </a:lnTo>
                  <a:lnTo>
                    <a:pt x="527" y="490"/>
                  </a:lnTo>
                  <a:lnTo>
                    <a:pt x="527" y="320"/>
                  </a:lnTo>
                  <a:lnTo>
                    <a:pt x="571" y="294"/>
                  </a:lnTo>
                  <a:lnTo>
                    <a:pt x="593" y="280"/>
                  </a:lnTo>
                  <a:lnTo>
                    <a:pt x="609" y="271"/>
                  </a:lnTo>
                  <a:lnTo>
                    <a:pt x="609" y="626"/>
                  </a:lnTo>
                  <a:lnTo>
                    <a:pt x="848" y="626"/>
                  </a:lnTo>
                  <a:lnTo>
                    <a:pt x="848" y="253"/>
                  </a:lnTo>
                  <a:lnTo>
                    <a:pt x="848" y="243"/>
                  </a:lnTo>
                  <a:lnTo>
                    <a:pt x="863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410880" y="4409280"/>
              <a:ext cx="74124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152120" y="3838680"/>
              <a:ext cx="385200" cy="230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87840" y="3471120"/>
              <a:ext cx="139320" cy="113040"/>
            </a:xfrm>
            <a:custGeom>
              <a:avLst/>
              <a:gdLst/>
              <a:ahLst/>
              <a:rect l="l" t="t" r="r" b="b"/>
              <a:pathLst>
                <a:path w="81" h="49">
                  <a:moveTo>
                    <a:pt x="0" y="49"/>
                  </a:moveTo>
                  <a:lnTo>
                    <a:pt x="81" y="49"/>
                  </a:lnTo>
                  <a:lnTo>
                    <a:pt x="81" y="26"/>
                  </a:lnTo>
                  <a:lnTo>
                    <a:pt x="76" y="25"/>
                  </a:lnTo>
                  <a:lnTo>
                    <a:pt x="68" y="24"/>
                  </a:lnTo>
                  <a:lnTo>
                    <a:pt x="63" y="22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45" y="11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38" y="6"/>
                  </a:lnTo>
                  <a:lnTo>
                    <a:pt x="35" y="11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27800" y="3641760"/>
              <a:ext cx="59760" cy="806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243560" y="3641760"/>
              <a:ext cx="61920" cy="806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409880" y="3641760"/>
              <a:ext cx="61920" cy="806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274160" y="4291560"/>
              <a:ext cx="161640" cy="1224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152120" y="4000680"/>
              <a:ext cx="410760" cy="230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52120" y="4187520"/>
              <a:ext cx="410760" cy="230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152120" y="3900960"/>
              <a:ext cx="410760" cy="7164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71" y="22"/>
                  </a:moveTo>
                  <a:lnTo>
                    <a:pt x="0" y="22"/>
                  </a:lnTo>
                  <a:lnTo>
                    <a:pt x="0" y="31"/>
                  </a:lnTo>
                  <a:lnTo>
                    <a:pt x="239" y="31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52120" y="4083480"/>
              <a:ext cx="410760" cy="741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71" y="22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239" y="32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022440" y="3838680"/>
              <a:ext cx="388080" cy="230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135840" y="3471120"/>
              <a:ext cx="135360" cy="11304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9" y="49"/>
                  </a:moveTo>
                  <a:lnTo>
                    <a:pt x="0" y="49"/>
                  </a:lnTo>
                  <a:lnTo>
                    <a:pt x="0" y="26"/>
                  </a:lnTo>
                  <a:lnTo>
                    <a:pt x="5" y="25"/>
                  </a:lnTo>
                  <a:lnTo>
                    <a:pt x="10" y="24"/>
                  </a:lnTo>
                  <a:lnTo>
                    <a:pt x="18" y="22"/>
                  </a:lnTo>
                  <a:lnTo>
                    <a:pt x="25" y="19"/>
                  </a:lnTo>
                  <a:lnTo>
                    <a:pt x="30" y="16"/>
                  </a:lnTo>
                  <a:lnTo>
                    <a:pt x="35" y="11"/>
                  </a:lnTo>
                  <a:lnTo>
                    <a:pt x="38" y="6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46" y="11"/>
                  </a:lnTo>
                  <a:lnTo>
                    <a:pt x="51" y="16"/>
                  </a:lnTo>
                  <a:lnTo>
                    <a:pt x="56" y="19"/>
                  </a:lnTo>
                  <a:lnTo>
                    <a:pt x="63" y="22"/>
                  </a:lnTo>
                  <a:lnTo>
                    <a:pt x="69" y="24"/>
                  </a:lnTo>
                  <a:lnTo>
                    <a:pt x="76" y="25"/>
                  </a:lnTo>
                  <a:lnTo>
                    <a:pt x="79" y="26"/>
                  </a:lnTo>
                  <a:lnTo>
                    <a:pt x="79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75440" y="3641760"/>
              <a:ext cx="60120" cy="806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257880" y="3641760"/>
              <a:ext cx="61920" cy="806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087600" y="3641760"/>
              <a:ext cx="65160" cy="806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122160" y="4291560"/>
              <a:ext cx="161280" cy="1224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000120" y="4000680"/>
              <a:ext cx="410400" cy="230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000120" y="4187520"/>
              <a:ext cx="410400" cy="230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000120" y="3900960"/>
              <a:ext cx="410400" cy="7164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168" y="22"/>
                  </a:moveTo>
                  <a:lnTo>
                    <a:pt x="239" y="22"/>
                  </a:lnTo>
                  <a:lnTo>
                    <a:pt x="239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000120" y="4083480"/>
              <a:ext cx="410400" cy="741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168" y="22"/>
                  </a:moveTo>
                  <a:lnTo>
                    <a:pt x="239" y="22"/>
                  </a:lnTo>
                  <a:lnTo>
                    <a:pt x="239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436800" y="3785400"/>
              <a:ext cx="692640" cy="1332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4648320" y="4800600"/>
            <a:ext cx="1752480" cy="1066680"/>
          </a:xfrm>
          <a:prstGeom prst="wedgeEllipseCallout">
            <a:avLst>
              <a:gd name="adj1" fmla="val 73550"/>
              <a:gd name="adj2" fmla="val -86902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4067280" y="5224320"/>
            <a:ext cx="533160" cy="228600"/>
            <a:chOff x="4067280" y="5224320"/>
            <a:chExt cx="533160" cy="228600"/>
          </a:xfrm>
        </p:grpSpPr>
        <p:sp>
          <p:nvSpPr>
            <p:cNvPr id="937" name=""/>
            <p:cNvSpPr/>
            <p:nvPr/>
          </p:nvSpPr>
          <p:spPr>
            <a:xfrm>
              <a:off x="4067280" y="5224320"/>
              <a:ext cx="533160" cy="228600"/>
            </a:xfrm>
            <a:prstGeom prst="roundRect">
              <a:avLst>
                <a:gd name="adj" fmla="val 9977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67280" y="5224320"/>
              <a:ext cx="533160" cy="22860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373640" y="5239440"/>
              <a:ext cx="80280" cy="198000"/>
            </a:xfrm>
            <a:custGeom>
              <a:avLst/>
              <a:gdLst>
                <a:gd name="textAreaLeft" fmla="*/ 2160 w 80280"/>
                <a:gd name="textAreaRight" fmla="*/ 78120 w 80280"/>
                <a:gd name="textAreaTop" fmla="*/ 2160 h 198000"/>
                <a:gd name="textAreaBottom" fmla="*/ 195840 h 198000"/>
              </a:gdLst>
              <a:ahLst/>
              <a:rect l="textAreaLeft" t="textAreaTop" r="textAreaRight" b="textAreaBottom"/>
              <a:pathLst>
                <a:path w="21600" h="53132">
                  <a:moveTo>
                    <a:pt x="2139" y="0"/>
                  </a:moveTo>
                  <a:arcTo wR="2139" hR="2139" stAng="16200000" swAng="-5400000"/>
                  <a:lnTo>
                    <a:pt x="0" y="50993"/>
                  </a:lnTo>
                  <a:arcTo wR="2139" hR="2139" stAng="10800000" swAng="-5400000"/>
                  <a:lnTo>
                    <a:pt x="19461" y="53132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105800" y="5241600"/>
              <a:ext cx="72000" cy="195120"/>
            </a:xfrm>
            <a:custGeom>
              <a:avLst/>
              <a:gdLst>
                <a:gd name="textAreaLeft" fmla="*/ 1800 w 72000"/>
                <a:gd name="textAreaRight" fmla="*/ 70200 w 72000"/>
                <a:gd name="textAreaTop" fmla="*/ 1800 h 195120"/>
                <a:gd name="textAreaBottom" fmla="*/ 193320 h 195120"/>
              </a:gdLst>
              <a:ahLst/>
              <a:rect l="textAreaLeft" t="textAreaTop" r="textAreaRight" b="textAreaBottom"/>
              <a:pathLst>
                <a:path w="21600" h="58352">
                  <a:moveTo>
                    <a:pt x="2143" y="0"/>
                  </a:moveTo>
                  <a:arcTo wR="2143" hR="2143" stAng="16200000" swAng="-5400000"/>
                  <a:lnTo>
                    <a:pt x="0" y="56209"/>
                  </a:lnTo>
                  <a:arcTo wR="2143" hR="2143" stAng="10800000" swAng="-5400000"/>
                  <a:lnTo>
                    <a:pt x="19457" y="58352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6346800" y="5224320"/>
            <a:ext cx="457200" cy="228600"/>
            <a:chOff x="6346800" y="5224320"/>
            <a:chExt cx="457200" cy="228600"/>
          </a:xfrm>
        </p:grpSpPr>
        <p:sp>
          <p:nvSpPr>
            <p:cNvPr id="942" name=""/>
            <p:cNvSpPr/>
            <p:nvPr/>
          </p:nvSpPr>
          <p:spPr>
            <a:xfrm>
              <a:off x="6346800" y="5224320"/>
              <a:ext cx="457200" cy="228600"/>
            </a:xfrm>
            <a:prstGeom prst="roundRect">
              <a:avLst>
                <a:gd name="adj" fmla="val 9977"/>
              </a:avLst>
            </a:pr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46800" y="5224320"/>
              <a:ext cx="457200" cy="22860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57680" y="5240160"/>
              <a:ext cx="89640" cy="196560"/>
            </a:xfrm>
            <a:custGeom>
              <a:avLst/>
              <a:gdLst>
                <a:gd name="textAreaLeft" fmla="*/ 2520 w 89640"/>
                <a:gd name="textAreaRight" fmla="*/ 87120 w 89640"/>
                <a:gd name="textAreaTop" fmla="*/ 2520 h 196560"/>
                <a:gd name="textAreaBottom" fmla="*/ 194040 h 196560"/>
              </a:gdLst>
              <a:ahLst/>
              <a:rect l="textAreaLeft" t="textAreaTop" r="textAreaRight" b="textAreaBottom"/>
              <a:pathLst>
                <a:path w="21600" h="47261">
                  <a:moveTo>
                    <a:pt x="2143" y="0"/>
                  </a:moveTo>
                  <a:arcTo wR="2143" hR="2143" stAng="16200000" swAng="-5400000"/>
                  <a:lnTo>
                    <a:pt x="0" y="45118"/>
                  </a:lnTo>
                  <a:arcTo wR="2143" hR="2143" stAng="10800000" swAng="-5400000"/>
                  <a:lnTo>
                    <a:pt x="19457" y="47261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718680" y="5241240"/>
              <a:ext cx="63720" cy="194760"/>
            </a:xfrm>
            <a:custGeom>
              <a:avLst/>
              <a:gdLst>
                <a:gd name="textAreaLeft" fmla="*/ 1800 w 63720"/>
                <a:gd name="textAreaRight" fmla="*/ 61920 w 63720"/>
                <a:gd name="textAreaTop" fmla="*/ 1800 h 194760"/>
                <a:gd name="textAreaBottom" fmla="*/ 192960 h 194760"/>
              </a:gdLst>
              <a:ahLst/>
              <a:rect l="textAreaLeft" t="textAreaTop" r="textAreaRight" b="textAreaBottom"/>
              <a:pathLst>
                <a:path w="21600" h="65771">
                  <a:moveTo>
                    <a:pt x="2150" y="0"/>
                  </a:moveTo>
                  <a:arcTo wR="2150" hR="2150" stAng="16200000" swAng="-5400000"/>
                  <a:lnTo>
                    <a:pt x="0" y="63621"/>
                  </a:lnTo>
                  <a:arcTo wR="2150" hR="2150" stAng="10800000" swAng="-5400000"/>
                  <a:lnTo>
                    <a:pt x="19450" y="65771"/>
                  </a:lnTo>
                  <a:arcTo wR="2150" hR="2150" stAng="5400000" swAng="-5400000"/>
                  <a:lnTo>
                    <a:pt x="21600" y="2150"/>
                  </a:lnTo>
                  <a:arcTo wR="2150" hR="2150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757760" y="5181480"/>
            <a:ext cx="1490760" cy="325440"/>
            <a:chOff x="4757760" y="5181480"/>
            <a:chExt cx="1490760" cy="325440"/>
          </a:xfrm>
        </p:grpSpPr>
        <p:sp>
          <p:nvSpPr>
            <p:cNvPr id="947" name=""/>
            <p:cNvSpPr/>
            <p:nvPr/>
          </p:nvSpPr>
          <p:spPr>
            <a:xfrm>
              <a:off x="4757760" y="5181480"/>
              <a:ext cx="149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757760" y="5506920"/>
              <a:ext cx="149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3" dur="5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2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23774E-006 L 0.12934 3.23774E-006 E">
                                      <p:cBhvr>
                                        <p:cTn id="1573" dur="20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69288E-006 L -0.11232 1.69288E-006 E">
                                      <p:cBhvr>
                                        <p:cTn id="1575" dur="2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16281E-007 L -0.09445 4.16281E-007 E">
                                      <p:cBhvr>
                                        <p:cTn id="1577" dur="2000" fill="hold"/>
                                        <p:tgtEl>
                                          <p:spTgt spid="9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11841E-006 L 0.08663 2.11841E-006 E">
                                      <p:cBhvr>
                                        <p:cTn id="1579" dur="2000" fill="hold"/>
                                        <p:tgtEl>
                                          <p:spTgt spid="9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ling Dead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6172200" y="4267080"/>
            <a:ext cx="837720" cy="288720"/>
            <a:chOff x="6172200" y="4267080"/>
            <a:chExt cx="837720" cy="288720"/>
          </a:xfrm>
        </p:grpSpPr>
        <p:sp>
          <p:nvSpPr>
            <p:cNvPr id="951" name=""/>
            <p:cNvSpPr/>
            <p:nvPr/>
          </p:nvSpPr>
          <p:spPr>
            <a:xfrm>
              <a:off x="6803280" y="4358880"/>
              <a:ext cx="21240" cy="2052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0"/>
                  </a:moveTo>
                  <a:lnTo>
                    <a:pt x="136" y="68"/>
                  </a:lnTo>
                  <a:lnTo>
                    <a:pt x="0" y="136"/>
                  </a:lnTo>
                  <a:lnTo>
                    <a:pt x="4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39756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39756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lnTo>
                    <a:pt x="57" y="5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94224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94224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lnTo>
                    <a:pt x="2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6966720" y="43876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6972840" y="439992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18336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18336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lnTo>
                    <a:pt x="187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216840" y="4406760"/>
              <a:ext cx="75564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216840" y="4406760"/>
              <a:ext cx="75564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lnTo>
                    <a:pt x="3768" y="5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179400" y="4267080"/>
              <a:ext cx="81972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close/>
                </a:path>
              </a:pathLst>
            </a:cu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179400" y="4267080"/>
              <a:ext cx="81972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lnTo>
                    <a:pt x="386" y="15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7696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27696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8432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8432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44400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4400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67836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67836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lnTo>
                    <a:pt x="8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48504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48504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lnTo>
                    <a:pt x="423" y="9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68160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68160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lnTo>
                    <a:pt x="1038" y="54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17220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17220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lnTo>
                    <a:pt x="68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172920" y="4447800"/>
              <a:ext cx="89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91164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91164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6923160" y="4428360"/>
              <a:ext cx="8208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6936480" y="4439160"/>
              <a:ext cx="6840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47424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47424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0132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60132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60132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60132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443280" y="4367520"/>
              <a:ext cx="509400" cy="9000"/>
            </a:xfrm>
            <a:custGeom>
              <a:avLst/>
              <a:gdLst/>
              <a:ahLst/>
              <a:rect l="l" t="t" r="r" b="b"/>
              <a:pathLst>
                <a:path w="3184" h="61">
                  <a:moveTo>
                    <a:pt x="0" y="50"/>
                  </a:moveTo>
                  <a:lnTo>
                    <a:pt x="0" y="61"/>
                  </a:lnTo>
                  <a:lnTo>
                    <a:pt x="31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427080" y="4272480"/>
              <a:ext cx="525960" cy="221040"/>
            </a:xfrm>
            <a:custGeom>
              <a:avLst/>
              <a:gdLst/>
              <a:ahLst/>
              <a:rect l="l" t="t" r="r" b="b"/>
              <a:pathLst>
                <a:path w="3291" h="1428">
                  <a:moveTo>
                    <a:pt x="81" y="1428"/>
                  </a:moveTo>
                  <a:lnTo>
                    <a:pt x="59" y="1361"/>
                  </a:lnTo>
                  <a:lnTo>
                    <a:pt x="25" y="1226"/>
                  </a:lnTo>
                  <a:lnTo>
                    <a:pt x="0" y="1090"/>
                  </a:lnTo>
                  <a:lnTo>
                    <a:pt x="9" y="870"/>
                  </a:lnTo>
                  <a:lnTo>
                    <a:pt x="34" y="660"/>
                  </a:lnTo>
                  <a:lnTo>
                    <a:pt x="36" y="639"/>
                  </a:lnTo>
                  <a:lnTo>
                    <a:pt x="52" y="601"/>
                  </a:lnTo>
                  <a:lnTo>
                    <a:pt x="74" y="569"/>
                  </a:lnTo>
                  <a:lnTo>
                    <a:pt x="103" y="544"/>
                  </a:lnTo>
                  <a:lnTo>
                    <a:pt x="720" y="115"/>
                  </a:lnTo>
                  <a:lnTo>
                    <a:pt x="758" y="97"/>
                  </a:lnTo>
                  <a:lnTo>
                    <a:pt x="846" y="61"/>
                  </a:lnTo>
                  <a:lnTo>
                    <a:pt x="940" y="34"/>
                  </a:lnTo>
                  <a:lnTo>
                    <a:pt x="1650" y="0"/>
                  </a:lnTo>
                  <a:lnTo>
                    <a:pt x="2547" y="21"/>
                  </a:lnTo>
                  <a:lnTo>
                    <a:pt x="2640" y="80"/>
                  </a:lnTo>
                  <a:lnTo>
                    <a:pt x="3069" y="441"/>
                  </a:lnTo>
                  <a:lnTo>
                    <a:pt x="3291" y="6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396120" y="4493520"/>
              <a:ext cx="4053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192720" y="4485960"/>
              <a:ext cx="478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219360" y="4397040"/>
              <a:ext cx="753120" cy="13680"/>
            </a:xfrm>
            <a:custGeom>
              <a:avLst/>
              <a:gdLst/>
              <a:ahLst/>
              <a:rect l="l" t="t" r="r" b="b"/>
              <a:pathLst>
                <a:path w="4710" h="91">
                  <a:moveTo>
                    <a:pt x="0" y="91"/>
                  </a:moveTo>
                  <a:lnTo>
                    <a:pt x="3070" y="34"/>
                  </a:lnTo>
                  <a:lnTo>
                    <a:pt x="47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658560" y="4274640"/>
              <a:ext cx="21960" cy="218880"/>
            </a:xfrm>
            <a:custGeom>
              <a:avLst/>
              <a:gdLst/>
              <a:ahLst/>
              <a:rect l="l" t="t" r="r" b="b"/>
              <a:pathLst>
                <a:path w="140" h="1417">
                  <a:moveTo>
                    <a:pt x="22" y="1417"/>
                  </a:moveTo>
                  <a:lnTo>
                    <a:pt x="17" y="1355"/>
                  </a:lnTo>
                  <a:lnTo>
                    <a:pt x="5" y="1178"/>
                  </a:lnTo>
                  <a:lnTo>
                    <a:pt x="0" y="997"/>
                  </a:lnTo>
                  <a:lnTo>
                    <a:pt x="7" y="817"/>
                  </a:lnTo>
                  <a:lnTo>
                    <a:pt x="25" y="639"/>
                  </a:lnTo>
                  <a:lnTo>
                    <a:pt x="34" y="639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255360" y="4407480"/>
              <a:ext cx="147960" cy="80280"/>
            </a:xfrm>
            <a:custGeom>
              <a:avLst/>
              <a:gdLst/>
              <a:ahLst/>
              <a:rect l="l" t="t" r="r" b="b"/>
              <a:pathLst>
                <a:path w="924" h="518">
                  <a:moveTo>
                    <a:pt x="924" y="518"/>
                  </a:moveTo>
                  <a:lnTo>
                    <a:pt x="914" y="444"/>
                  </a:lnTo>
                  <a:lnTo>
                    <a:pt x="897" y="373"/>
                  </a:lnTo>
                  <a:lnTo>
                    <a:pt x="872" y="304"/>
                  </a:lnTo>
                  <a:lnTo>
                    <a:pt x="835" y="239"/>
                  </a:lnTo>
                  <a:lnTo>
                    <a:pt x="791" y="183"/>
                  </a:lnTo>
                  <a:lnTo>
                    <a:pt x="739" y="131"/>
                  </a:lnTo>
                  <a:lnTo>
                    <a:pt x="680" y="87"/>
                  </a:lnTo>
                  <a:lnTo>
                    <a:pt x="615" y="52"/>
                  </a:lnTo>
                  <a:lnTo>
                    <a:pt x="546" y="24"/>
                  </a:lnTo>
                  <a:lnTo>
                    <a:pt x="477" y="7"/>
                  </a:lnTo>
                  <a:lnTo>
                    <a:pt x="405" y="0"/>
                  </a:lnTo>
                  <a:lnTo>
                    <a:pt x="331" y="4"/>
                  </a:lnTo>
                  <a:lnTo>
                    <a:pt x="260" y="18"/>
                  </a:lnTo>
                  <a:lnTo>
                    <a:pt x="189" y="39"/>
                  </a:lnTo>
                  <a:lnTo>
                    <a:pt x="124" y="72"/>
                  </a:lnTo>
                  <a:lnTo>
                    <a:pt x="63" y="114"/>
                  </a:lnTo>
                  <a:lnTo>
                    <a:pt x="8" y="163"/>
                  </a:lnTo>
                  <a:lnTo>
                    <a:pt x="0" y="1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793560" y="4405320"/>
              <a:ext cx="135720" cy="84240"/>
            </a:xfrm>
            <a:custGeom>
              <a:avLst/>
              <a:gdLst/>
              <a:ahLst/>
              <a:rect l="l" t="t" r="r" b="b"/>
              <a:pathLst>
                <a:path w="850" h="544">
                  <a:moveTo>
                    <a:pt x="850" y="128"/>
                  </a:moveTo>
                  <a:lnTo>
                    <a:pt x="792" y="84"/>
                  </a:lnTo>
                  <a:lnTo>
                    <a:pt x="731" y="48"/>
                  </a:lnTo>
                  <a:lnTo>
                    <a:pt x="664" y="21"/>
                  </a:lnTo>
                  <a:lnTo>
                    <a:pt x="593" y="8"/>
                  </a:lnTo>
                  <a:lnTo>
                    <a:pt x="524" y="0"/>
                  </a:lnTo>
                  <a:lnTo>
                    <a:pt x="452" y="4"/>
                  </a:lnTo>
                  <a:lnTo>
                    <a:pt x="380" y="17"/>
                  </a:lnTo>
                  <a:lnTo>
                    <a:pt x="311" y="42"/>
                  </a:lnTo>
                  <a:lnTo>
                    <a:pt x="248" y="73"/>
                  </a:lnTo>
                  <a:lnTo>
                    <a:pt x="188" y="115"/>
                  </a:lnTo>
                  <a:lnTo>
                    <a:pt x="135" y="164"/>
                  </a:lnTo>
                  <a:lnTo>
                    <a:pt x="92" y="222"/>
                  </a:lnTo>
                  <a:lnTo>
                    <a:pt x="55" y="283"/>
                  </a:lnTo>
                  <a:lnTo>
                    <a:pt x="24" y="350"/>
                  </a:lnTo>
                  <a:lnTo>
                    <a:pt x="7" y="419"/>
                  </a:lnTo>
                  <a:lnTo>
                    <a:pt x="0" y="491"/>
                  </a:lnTo>
                  <a:lnTo>
                    <a:pt x="3" y="5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804720" y="4276080"/>
              <a:ext cx="72720" cy="132840"/>
            </a:xfrm>
            <a:custGeom>
              <a:avLst/>
              <a:gdLst/>
              <a:ahLst/>
              <a:rect l="l" t="t" r="r" b="b"/>
              <a:pathLst>
                <a:path w="454" h="858">
                  <a:moveTo>
                    <a:pt x="326" y="858"/>
                  </a:moveTo>
                  <a:lnTo>
                    <a:pt x="454" y="649"/>
                  </a:lnTo>
                  <a:lnTo>
                    <a:pt x="446" y="599"/>
                  </a:lnTo>
                  <a:lnTo>
                    <a:pt x="432" y="554"/>
                  </a:lnTo>
                  <a:lnTo>
                    <a:pt x="407" y="5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807240" y="4380480"/>
              <a:ext cx="3096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807240" y="4380480"/>
              <a:ext cx="30960" cy="13680"/>
            </a:xfrm>
            <a:custGeom>
              <a:avLst/>
              <a:gdLst/>
              <a:ahLst/>
              <a:rect l="l" t="t" r="r" b="b"/>
              <a:pathLst>
                <a:path w="197" h="93">
                  <a:moveTo>
                    <a:pt x="0" y="93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0724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80724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40476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40476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390360" y="4443120"/>
              <a:ext cx="415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384600" y="4437720"/>
              <a:ext cx="423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 rot="564000">
            <a:off x="1752480" y="3659040"/>
            <a:ext cx="4727520" cy="2057400"/>
          </a:xfrm>
          <a:custGeom>
            <a:avLst/>
            <a:gdLst/>
            <a:ahLst/>
            <a:rect l="l" t="t" r="r" b="b"/>
            <a:pathLst>
              <a:path w="1776" h="1104">
                <a:moveTo>
                  <a:pt x="240" y="0"/>
                </a:moveTo>
                <a:lnTo>
                  <a:pt x="528" y="48"/>
                </a:lnTo>
                <a:lnTo>
                  <a:pt x="720" y="384"/>
                </a:lnTo>
                <a:lnTo>
                  <a:pt x="1008" y="480"/>
                </a:lnTo>
                <a:lnTo>
                  <a:pt x="1248" y="720"/>
                </a:lnTo>
                <a:lnTo>
                  <a:pt x="1536" y="816"/>
                </a:lnTo>
                <a:lnTo>
                  <a:pt x="1776" y="1056"/>
                </a:lnTo>
                <a:lnTo>
                  <a:pt x="1392" y="1104"/>
                </a:lnTo>
                <a:lnTo>
                  <a:pt x="1392" y="1008"/>
                </a:lnTo>
                <a:lnTo>
                  <a:pt x="1200" y="864"/>
                </a:lnTo>
                <a:lnTo>
                  <a:pt x="960" y="768"/>
                </a:lnTo>
                <a:lnTo>
                  <a:pt x="912" y="624"/>
                </a:lnTo>
                <a:lnTo>
                  <a:pt x="576" y="480"/>
                </a:lnTo>
                <a:lnTo>
                  <a:pt x="432" y="288"/>
                </a:lnTo>
                <a:lnTo>
                  <a:pt x="192" y="96"/>
                </a:lnTo>
                <a:lnTo>
                  <a:pt x="0" y="96"/>
                </a:lnTo>
              </a:path>
            </a:pathLst>
          </a:custGeom>
          <a:solidFill>
            <a:srgbClr val="00ccff"/>
          </a:solidFill>
          <a:ln w="1260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5715000" y="3124080"/>
            <a:ext cx="685800" cy="1523880"/>
            <a:chOff x="5715000" y="3124080"/>
            <a:chExt cx="685800" cy="1523880"/>
          </a:xfrm>
        </p:grpSpPr>
        <p:sp>
          <p:nvSpPr>
            <p:cNvPr id="1008" name=""/>
            <p:cNvSpPr/>
            <p:nvPr/>
          </p:nvSpPr>
          <p:spPr>
            <a:xfrm>
              <a:off x="6009840" y="3759120"/>
              <a:ext cx="97200" cy="88884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5715000" y="3124080"/>
              <a:ext cx="685800" cy="698400"/>
              <a:chOff x="5715000" y="3124080"/>
              <a:chExt cx="685800" cy="698400"/>
            </a:xfrm>
          </p:grpSpPr>
          <p:sp>
            <p:nvSpPr>
              <p:cNvPr id="1010" name=""/>
              <p:cNvSpPr/>
              <p:nvPr/>
            </p:nvSpPr>
            <p:spPr>
              <a:xfrm>
                <a:off x="5715000" y="3124080"/>
                <a:ext cx="685800" cy="69840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839560" y="3409560"/>
                <a:ext cx="436320" cy="127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2" name=""/>
          <p:cNvSpPr/>
          <p:nvPr/>
        </p:nvSpPr>
        <p:spPr>
          <a:xfrm>
            <a:off x="4300560" y="2351160"/>
            <a:ext cx="762120" cy="271440"/>
          </a:xfrm>
          <a:prstGeom prst="rightArrow">
            <a:avLst>
              <a:gd name="adj1" fmla="val 50000"/>
              <a:gd name="adj2" fmla="val 70192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993960" y="1676520"/>
            <a:ext cx="20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972720" y="5089680"/>
            <a:ext cx="513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S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ver deadlo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U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user friendl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utilization may be l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6176880" y="4264200"/>
            <a:ext cx="838080" cy="288720"/>
            <a:chOff x="6176880" y="4264200"/>
            <a:chExt cx="838080" cy="288720"/>
          </a:xfrm>
        </p:grpSpPr>
        <p:sp>
          <p:nvSpPr>
            <p:cNvPr id="1016" name=""/>
            <p:cNvSpPr/>
            <p:nvPr/>
          </p:nvSpPr>
          <p:spPr>
            <a:xfrm>
              <a:off x="6807960" y="4356000"/>
              <a:ext cx="21240" cy="2052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0"/>
                  </a:moveTo>
                  <a:lnTo>
                    <a:pt x="136" y="68"/>
                  </a:lnTo>
                  <a:lnTo>
                    <a:pt x="0" y="136"/>
                  </a:lnTo>
                  <a:lnTo>
                    <a:pt x="4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02240" y="4280040"/>
              <a:ext cx="150120" cy="8784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402240" y="4280040"/>
              <a:ext cx="150120" cy="8784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lnTo>
                    <a:pt x="57" y="571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947280" y="435888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947280" y="435888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lnTo>
                    <a:pt x="211" y="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6971760" y="4384440"/>
              <a:ext cx="2700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6977880" y="4396680"/>
              <a:ext cx="2376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188040" y="440064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188040" y="440064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lnTo>
                    <a:pt x="187" y="198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21520" y="440388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221520" y="440388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lnTo>
                    <a:pt x="3768" y="592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184080" y="4264200"/>
              <a:ext cx="820080" cy="24372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184080" y="4264200"/>
              <a:ext cx="820080" cy="24372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lnTo>
                    <a:pt x="386" y="1555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281640" y="445428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281640" y="445428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847920" y="445428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847920" y="445428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449040" y="427644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449040" y="427644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683400" y="427572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683400" y="427572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lnTo>
                    <a:pt x="80" y="5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89720" y="4278600"/>
              <a:ext cx="178200" cy="8856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489720" y="4278600"/>
              <a:ext cx="178200" cy="8856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lnTo>
                    <a:pt x="423" y="92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686280" y="4277880"/>
              <a:ext cx="172800" cy="8784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686280" y="4277880"/>
              <a:ext cx="172800" cy="8784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lnTo>
                    <a:pt x="1038" y="54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76880" y="443088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76880" y="443088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lnTo>
                    <a:pt x="682" y="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177600" y="4444920"/>
              <a:ext cx="89280" cy="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916680" y="441864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916680" y="441864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6928200" y="4425480"/>
              <a:ext cx="82080" cy="36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6941160" y="4436280"/>
              <a:ext cx="68760" cy="36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79280" y="433584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479280" y="433584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606360" y="438084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606360" y="438084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606360" y="438084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606360" y="438084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lnTo>
                    <a:pt x="0" y="59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447960" y="4364280"/>
              <a:ext cx="509400" cy="9000"/>
            </a:xfrm>
            <a:custGeom>
              <a:avLst/>
              <a:gdLst/>
              <a:ahLst/>
              <a:rect l="l" t="t" r="r" b="b"/>
              <a:pathLst>
                <a:path w="3184" h="61">
                  <a:moveTo>
                    <a:pt x="0" y="50"/>
                  </a:moveTo>
                  <a:lnTo>
                    <a:pt x="0" y="61"/>
                  </a:lnTo>
                  <a:lnTo>
                    <a:pt x="3184" y="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432120" y="4269600"/>
              <a:ext cx="526320" cy="220680"/>
            </a:xfrm>
            <a:custGeom>
              <a:avLst/>
              <a:gdLst/>
              <a:ahLst/>
              <a:rect l="l" t="t" r="r" b="b"/>
              <a:pathLst>
                <a:path w="3291" h="1428">
                  <a:moveTo>
                    <a:pt x="81" y="1428"/>
                  </a:moveTo>
                  <a:lnTo>
                    <a:pt x="59" y="1361"/>
                  </a:lnTo>
                  <a:lnTo>
                    <a:pt x="25" y="1226"/>
                  </a:lnTo>
                  <a:lnTo>
                    <a:pt x="0" y="1090"/>
                  </a:lnTo>
                  <a:lnTo>
                    <a:pt x="9" y="870"/>
                  </a:lnTo>
                  <a:lnTo>
                    <a:pt x="34" y="660"/>
                  </a:lnTo>
                  <a:lnTo>
                    <a:pt x="36" y="639"/>
                  </a:lnTo>
                  <a:lnTo>
                    <a:pt x="52" y="601"/>
                  </a:lnTo>
                  <a:lnTo>
                    <a:pt x="74" y="569"/>
                  </a:lnTo>
                  <a:lnTo>
                    <a:pt x="103" y="544"/>
                  </a:lnTo>
                  <a:lnTo>
                    <a:pt x="720" y="115"/>
                  </a:lnTo>
                  <a:lnTo>
                    <a:pt x="758" y="97"/>
                  </a:lnTo>
                  <a:lnTo>
                    <a:pt x="846" y="61"/>
                  </a:lnTo>
                  <a:lnTo>
                    <a:pt x="940" y="34"/>
                  </a:lnTo>
                  <a:lnTo>
                    <a:pt x="1650" y="0"/>
                  </a:lnTo>
                  <a:lnTo>
                    <a:pt x="2547" y="21"/>
                  </a:lnTo>
                  <a:lnTo>
                    <a:pt x="2640" y="80"/>
                  </a:lnTo>
                  <a:lnTo>
                    <a:pt x="3069" y="441"/>
                  </a:lnTo>
                  <a:lnTo>
                    <a:pt x="3291" y="614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00800" y="4490280"/>
              <a:ext cx="405360" cy="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97400" y="4482720"/>
              <a:ext cx="47880" cy="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224040" y="4393800"/>
              <a:ext cx="753480" cy="13680"/>
            </a:xfrm>
            <a:custGeom>
              <a:avLst/>
              <a:gdLst/>
              <a:ahLst/>
              <a:rect l="l" t="t" r="r" b="b"/>
              <a:pathLst>
                <a:path w="4710" h="91">
                  <a:moveTo>
                    <a:pt x="0" y="91"/>
                  </a:moveTo>
                  <a:lnTo>
                    <a:pt x="3070" y="34"/>
                  </a:lnTo>
                  <a:lnTo>
                    <a:pt x="4710" y="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63240" y="4271760"/>
              <a:ext cx="21960" cy="218520"/>
            </a:xfrm>
            <a:custGeom>
              <a:avLst/>
              <a:gdLst/>
              <a:ahLst/>
              <a:rect l="l" t="t" r="r" b="b"/>
              <a:pathLst>
                <a:path w="140" h="1417">
                  <a:moveTo>
                    <a:pt x="22" y="1417"/>
                  </a:moveTo>
                  <a:lnTo>
                    <a:pt x="17" y="1355"/>
                  </a:lnTo>
                  <a:lnTo>
                    <a:pt x="5" y="1178"/>
                  </a:lnTo>
                  <a:lnTo>
                    <a:pt x="0" y="997"/>
                  </a:lnTo>
                  <a:lnTo>
                    <a:pt x="7" y="817"/>
                  </a:lnTo>
                  <a:lnTo>
                    <a:pt x="25" y="639"/>
                  </a:lnTo>
                  <a:lnTo>
                    <a:pt x="34" y="639"/>
                  </a:lnTo>
                  <a:lnTo>
                    <a:pt x="140" y="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260040" y="4404600"/>
              <a:ext cx="147960" cy="80280"/>
            </a:xfrm>
            <a:custGeom>
              <a:avLst/>
              <a:gdLst/>
              <a:ahLst/>
              <a:rect l="l" t="t" r="r" b="b"/>
              <a:pathLst>
                <a:path w="924" h="518">
                  <a:moveTo>
                    <a:pt x="924" y="518"/>
                  </a:moveTo>
                  <a:lnTo>
                    <a:pt x="914" y="444"/>
                  </a:lnTo>
                  <a:lnTo>
                    <a:pt x="897" y="373"/>
                  </a:lnTo>
                  <a:lnTo>
                    <a:pt x="872" y="304"/>
                  </a:lnTo>
                  <a:lnTo>
                    <a:pt x="835" y="239"/>
                  </a:lnTo>
                  <a:lnTo>
                    <a:pt x="791" y="183"/>
                  </a:lnTo>
                  <a:lnTo>
                    <a:pt x="739" y="131"/>
                  </a:lnTo>
                  <a:lnTo>
                    <a:pt x="680" y="87"/>
                  </a:lnTo>
                  <a:lnTo>
                    <a:pt x="615" y="52"/>
                  </a:lnTo>
                  <a:lnTo>
                    <a:pt x="546" y="24"/>
                  </a:lnTo>
                  <a:lnTo>
                    <a:pt x="477" y="7"/>
                  </a:lnTo>
                  <a:lnTo>
                    <a:pt x="405" y="0"/>
                  </a:lnTo>
                  <a:lnTo>
                    <a:pt x="331" y="4"/>
                  </a:lnTo>
                  <a:lnTo>
                    <a:pt x="260" y="18"/>
                  </a:lnTo>
                  <a:lnTo>
                    <a:pt x="189" y="39"/>
                  </a:lnTo>
                  <a:lnTo>
                    <a:pt x="124" y="72"/>
                  </a:lnTo>
                  <a:lnTo>
                    <a:pt x="63" y="114"/>
                  </a:lnTo>
                  <a:lnTo>
                    <a:pt x="8" y="163"/>
                  </a:lnTo>
                  <a:lnTo>
                    <a:pt x="0" y="167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798600" y="4402080"/>
              <a:ext cx="135720" cy="84240"/>
            </a:xfrm>
            <a:custGeom>
              <a:avLst/>
              <a:gdLst/>
              <a:ahLst/>
              <a:rect l="l" t="t" r="r" b="b"/>
              <a:pathLst>
                <a:path w="850" h="544">
                  <a:moveTo>
                    <a:pt x="850" y="128"/>
                  </a:moveTo>
                  <a:lnTo>
                    <a:pt x="792" y="84"/>
                  </a:lnTo>
                  <a:lnTo>
                    <a:pt x="731" y="48"/>
                  </a:lnTo>
                  <a:lnTo>
                    <a:pt x="664" y="21"/>
                  </a:lnTo>
                  <a:lnTo>
                    <a:pt x="593" y="8"/>
                  </a:lnTo>
                  <a:lnTo>
                    <a:pt x="524" y="0"/>
                  </a:lnTo>
                  <a:lnTo>
                    <a:pt x="452" y="4"/>
                  </a:lnTo>
                  <a:lnTo>
                    <a:pt x="380" y="17"/>
                  </a:lnTo>
                  <a:lnTo>
                    <a:pt x="311" y="42"/>
                  </a:lnTo>
                  <a:lnTo>
                    <a:pt x="248" y="73"/>
                  </a:lnTo>
                  <a:lnTo>
                    <a:pt x="188" y="115"/>
                  </a:lnTo>
                  <a:lnTo>
                    <a:pt x="135" y="164"/>
                  </a:lnTo>
                  <a:lnTo>
                    <a:pt x="92" y="222"/>
                  </a:lnTo>
                  <a:lnTo>
                    <a:pt x="55" y="283"/>
                  </a:lnTo>
                  <a:lnTo>
                    <a:pt x="24" y="350"/>
                  </a:lnTo>
                  <a:lnTo>
                    <a:pt x="7" y="419"/>
                  </a:lnTo>
                  <a:lnTo>
                    <a:pt x="0" y="491"/>
                  </a:lnTo>
                  <a:lnTo>
                    <a:pt x="3" y="544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809760" y="4273200"/>
              <a:ext cx="72720" cy="132480"/>
            </a:xfrm>
            <a:custGeom>
              <a:avLst/>
              <a:gdLst/>
              <a:ahLst/>
              <a:rect l="l" t="t" r="r" b="b"/>
              <a:pathLst>
                <a:path w="454" h="858">
                  <a:moveTo>
                    <a:pt x="326" y="858"/>
                  </a:moveTo>
                  <a:lnTo>
                    <a:pt x="454" y="649"/>
                  </a:lnTo>
                  <a:lnTo>
                    <a:pt x="446" y="599"/>
                  </a:lnTo>
                  <a:lnTo>
                    <a:pt x="432" y="554"/>
                  </a:lnTo>
                  <a:lnTo>
                    <a:pt x="407" y="51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812280" y="4377600"/>
              <a:ext cx="30960" cy="136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812280" y="4377600"/>
              <a:ext cx="30960" cy="13680"/>
            </a:xfrm>
            <a:custGeom>
              <a:avLst/>
              <a:gdLst/>
              <a:ahLst/>
              <a:rect l="l" t="t" r="r" b="b"/>
              <a:pathLst>
                <a:path w="197" h="93">
                  <a:moveTo>
                    <a:pt x="0" y="93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812280" y="437760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812280" y="437760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lnTo>
                    <a:pt x="0" y="56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09800" y="442008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09800" y="442008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395040" y="4440240"/>
              <a:ext cx="41580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389640" y="4434840"/>
              <a:ext cx="42408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2438280" y="3200400"/>
            <a:ext cx="609840" cy="1447560"/>
            <a:chOff x="2438280" y="3200400"/>
            <a:chExt cx="609840" cy="1447560"/>
          </a:xfrm>
        </p:grpSpPr>
        <p:sp>
          <p:nvSpPr>
            <p:cNvPr id="1072" name=""/>
            <p:cNvSpPr/>
            <p:nvPr/>
          </p:nvSpPr>
          <p:spPr>
            <a:xfrm>
              <a:off x="2699280" y="3803400"/>
              <a:ext cx="86400" cy="84456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3" name=""/>
            <p:cNvGrpSpPr/>
            <p:nvPr/>
          </p:nvGrpSpPr>
          <p:grpSpPr>
            <a:xfrm>
              <a:off x="2438280" y="3200400"/>
              <a:ext cx="609840" cy="723960"/>
              <a:chOff x="2438280" y="3200400"/>
              <a:chExt cx="609840" cy="723960"/>
            </a:xfrm>
          </p:grpSpPr>
          <p:sp>
            <p:nvSpPr>
              <p:cNvPr id="1074" name=""/>
              <p:cNvSpPr/>
              <p:nvPr/>
            </p:nvSpPr>
            <p:spPr>
              <a:xfrm>
                <a:off x="2438280" y="3200400"/>
                <a:ext cx="609840" cy="723960"/>
              </a:xfrm>
              <a:prstGeom prst="rect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576880" y="3320640"/>
                <a:ext cx="332280" cy="482400"/>
              </a:xfrm>
              <a:prstGeom prst="upArrow">
                <a:avLst>
                  <a:gd name="adj1" fmla="val 35417"/>
                  <a:gd name="adj2" fmla="val 6351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6" name=""/>
          <p:cNvGrpSpPr/>
          <p:nvPr/>
        </p:nvGrpSpPr>
        <p:grpSpPr>
          <a:xfrm>
            <a:off x="3048120" y="2232000"/>
            <a:ext cx="2438280" cy="488880"/>
            <a:chOff x="3048120" y="2232000"/>
            <a:chExt cx="2438280" cy="488880"/>
          </a:xfrm>
        </p:grpSpPr>
        <p:sp>
          <p:nvSpPr>
            <p:cNvPr id="1077" name=""/>
            <p:cNvSpPr/>
            <p:nvPr/>
          </p:nvSpPr>
          <p:spPr>
            <a:xfrm>
              <a:off x="3048120" y="22320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048120" y="272088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2819520" y="2286000"/>
            <a:ext cx="838080" cy="380880"/>
            <a:chOff x="2819520" y="2286000"/>
            <a:chExt cx="838080" cy="380880"/>
          </a:xfrm>
        </p:grpSpPr>
        <p:sp>
          <p:nvSpPr>
            <p:cNvPr id="1080" name=""/>
            <p:cNvSpPr/>
            <p:nvPr/>
          </p:nvSpPr>
          <p:spPr>
            <a:xfrm>
              <a:off x="2819520" y="2286000"/>
              <a:ext cx="838080" cy="380880"/>
            </a:xfrm>
            <a:prstGeom prst="roundRect">
              <a:avLst>
                <a:gd name="adj" fmla="val 9977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819520" y="2286000"/>
              <a:ext cx="838080" cy="38088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01200" y="2311200"/>
              <a:ext cx="126360" cy="329760"/>
            </a:xfrm>
            <a:custGeom>
              <a:avLst/>
              <a:gdLst>
                <a:gd name="textAreaLeft" fmla="*/ 3600 w 126360"/>
                <a:gd name="textAreaRight" fmla="*/ 122760 w 126360"/>
                <a:gd name="textAreaTop" fmla="*/ 3600 h 329760"/>
                <a:gd name="textAreaBottom" fmla="*/ 326160 h 329760"/>
              </a:gdLst>
              <a:ahLst/>
              <a:rect l="textAreaLeft" t="textAreaTop" r="textAreaRight" b="textAreaBottom"/>
              <a:pathLst>
                <a:path w="21600" h="56270">
                  <a:moveTo>
                    <a:pt x="2139" y="0"/>
                  </a:moveTo>
                  <a:arcTo wR="2139" hR="2139" stAng="16200000" swAng="-5400000"/>
                  <a:lnTo>
                    <a:pt x="0" y="54131"/>
                  </a:lnTo>
                  <a:arcTo wR="2139" hR="2139" stAng="10800000" swAng="-5400000"/>
                  <a:lnTo>
                    <a:pt x="19461" y="56270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80360" y="2314440"/>
              <a:ext cx="113400" cy="325080"/>
            </a:xfrm>
            <a:custGeom>
              <a:avLst/>
              <a:gdLst>
                <a:gd name="textAreaLeft" fmla="*/ 3240 w 113400"/>
                <a:gd name="textAreaRight" fmla="*/ 110160 w 113400"/>
                <a:gd name="textAreaTop" fmla="*/ 3240 h 325080"/>
                <a:gd name="textAreaBottom" fmla="*/ 321840 h 325080"/>
              </a:gdLst>
              <a:ahLst/>
              <a:rect l="textAreaLeft" t="textAreaTop" r="textAreaRight" b="textAreaBottom"/>
              <a:pathLst>
                <a:path w="21600" h="61792">
                  <a:moveTo>
                    <a:pt x="2143" y="0"/>
                  </a:moveTo>
                  <a:arcTo wR="2143" hR="2143" stAng="16200000" swAng="-5400000"/>
                  <a:lnTo>
                    <a:pt x="0" y="59649"/>
                  </a:lnTo>
                  <a:arcTo wR="2143" hR="2143" stAng="10800000" swAng="-5400000"/>
                  <a:lnTo>
                    <a:pt x="19457" y="61792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6116760" y="2286000"/>
            <a:ext cx="817200" cy="380520"/>
            <a:chOff x="6116760" y="2286000"/>
            <a:chExt cx="817200" cy="380520"/>
          </a:xfrm>
        </p:grpSpPr>
        <p:sp>
          <p:nvSpPr>
            <p:cNvPr id="1085" name=""/>
            <p:cNvSpPr/>
            <p:nvPr/>
          </p:nvSpPr>
          <p:spPr>
            <a:xfrm>
              <a:off x="6116760" y="2286000"/>
              <a:ext cx="817200" cy="380520"/>
            </a:xfrm>
            <a:prstGeom prst="roundRect">
              <a:avLst>
                <a:gd name="adj" fmla="val 9977"/>
              </a:avLst>
            </a:pr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116760" y="2286000"/>
              <a:ext cx="817200" cy="38052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315480" y="2312280"/>
              <a:ext cx="160200" cy="327600"/>
            </a:xfrm>
            <a:custGeom>
              <a:avLst/>
              <a:gdLst>
                <a:gd name="textAreaLeft" fmla="*/ 4320 w 160200"/>
                <a:gd name="textAreaRight" fmla="*/ 155880 w 160200"/>
                <a:gd name="textAreaTop" fmla="*/ 4320 h 327600"/>
                <a:gd name="textAreaBottom" fmla="*/ 323280 h 327600"/>
              </a:gdLst>
              <a:ahLst/>
              <a:rect l="textAreaLeft" t="textAreaTop" r="textAreaRight" b="textAreaBottom"/>
              <a:pathLst>
                <a:path w="21600" h="44120">
                  <a:moveTo>
                    <a:pt x="2143" y="0"/>
                  </a:moveTo>
                  <a:arcTo wR="2143" hR="2143" stAng="16200000" swAng="-5400000"/>
                  <a:lnTo>
                    <a:pt x="0" y="41977"/>
                  </a:lnTo>
                  <a:arcTo wR="2143" hR="2143" stAng="10800000" swAng="-5400000"/>
                  <a:lnTo>
                    <a:pt x="19457" y="44120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781680" y="2314080"/>
              <a:ext cx="114120" cy="324360"/>
            </a:xfrm>
            <a:custGeom>
              <a:avLst/>
              <a:gdLst>
                <a:gd name="textAreaLeft" fmla="*/ 3240 w 114120"/>
                <a:gd name="textAreaRight" fmla="*/ 110880 w 114120"/>
                <a:gd name="textAreaTop" fmla="*/ 3240 h 324360"/>
                <a:gd name="textAreaBottom" fmla="*/ 321120 h 324360"/>
              </a:gdLst>
              <a:ahLst/>
              <a:rect l="textAreaLeft" t="textAreaTop" r="textAreaRight" b="textAreaBottom"/>
              <a:pathLst>
                <a:path w="21600" h="61268">
                  <a:moveTo>
                    <a:pt x="2150" y="0"/>
                  </a:moveTo>
                  <a:arcTo wR="2150" hR="2150" stAng="16200000" swAng="-5400000"/>
                  <a:lnTo>
                    <a:pt x="0" y="59118"/>
                  </a:lnTo>
                  <a:arcTo wR="2150" hR="2150" stAng="10800000" swAng="-5400000"/>
                  <a:lnTo>
                    <a:pt x="19450" y="61268"/>
                  </a:lnTo>
                  <a:arcTo wR="2150" hR="2150" stAng="5400000" swAng="-5400000"/>
                  <a:lnTo>
                    <a:pt x="21600" y="2150"/>
                  </a:lnTo>
                  <a:arcTo wR="2150" hR="2150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6019920" y="2133720"/>
            <a:ext cx="990360" cy="838080"/>
            <a:chOff x="6019920" y="2133720"/>
            <a:chExt cx="990360" cy="838080"/>
          </a:xfrm>
        </p:grpSpPr>
        <p:sp>
          <p:nvSpPr>
            <p:cNvPr id="1090" name=""/>
            <p:cNvSpPr/>
            <p:nvPr/>
          </p:nvSpPr>
          <p:spPr>
            <a:xfrm>
              <a:off x="6019920" y="2273400"/>
              <a:ext cx="990360" cy="698400"/>
            </a:xfrm>
            <a:custGeom>
              <a:avLst/>
              <a:gdLst/>
              <a:ahLst/>
              <a:rect l="l" t="t" r="r" b="b"/>
              <a:pathLst>
                <a:path w="624" h="560">
                  <a:moveTo>
                    <a:pt x="0" y="80"/>
                  </a:moveTo>
                  <a:cubicBezTo>
                    <a:pt x="12" y="80"/>
                    <a:pt x="24" y="80"/>
                    <a:pt x="96" y="80"/>
                  </a:cubicBezTo>
                  <a:cubicBezTo>
                    <a:pt x="168" y="80"/>
                    <a:pt x="344" y="0"/>
                    <a:pt x="432" y="80"/>
                  </a:cubicBezTo>
                  <a:cubicBezTo>
                    <a:pt x="520" y="160"/>
                    <a:pt x="572" y="360"/>
                    <a:pt x="624" y="560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502320" y="2133720"/>
              <a:ext cx="354960" cy="777960"/>
            </a:xfrm>
            <a:custGeom>
              <a:avLst/>
              <a:gdLst/>
              <a:ahLst/>
              <a:rect l="l" t="t" r="r" b="b"/>
              <a:pathLst>
                <a:path w="224" h="624">
                  <a:moveTo>
                    <a:pt x="224" y="0"/>
                  </a:moveTo>
                  <a:cubicBezTo>
                    <a:pt x="144" y="68"/>
                    <a:pt x="64" y="136"/>
                    <a:pt x="32" y="240"/>
                  </a:cubicBezTo>
                  <a:cubicBezTo>
                    <a:pt x="0" y="344"/>
                    <a:pt x="16" y="484"/>
                    <a:pt x="32" y="624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2743200" y="4232160"/>
            <a:ext cx="838080" cy="339480"/>
            <a:chOff x="2743200" y="4232160"/>
            <a:chExt cx="838080" cy="339480"/>
          </a:xfrm>
        </p:grpSpPr>
        <p:sp>
          <p:nvSpPr>
            <p:cNvPr id="1093" name=""/>
            <p:cNvSpPr/>
            <p:nvPr/>
          </p:nvSpPr>
          <p:spPr>
            <a:xfrm>
              <a:off x="275112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75112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0316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50316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50316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0316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785680" y="4246920"/>
              <a:ext cx="56988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785680" y="4246920"/>
              <a:ext cx="56988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803680" y="4392360"/>
              <a:ext cx="71280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803680" y="4392360"/>
              <a:ext cx="71280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751120" y="4232160"/>
              <a:ext cx="80784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751120" y="4232160"/>
              <a:ext cx="80784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7580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7580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3497040" y="4515120"/>
              <a:ext cx="72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3482640" y="4447800"/>
              <a:ext cx="97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3493440" y="4470480"/>
              <a:ext cx="87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74320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74320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755080" y="4483800"/>
              <a:ext cx="66600" cy="1044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743200" y="4455360"/>
              <a:ext cx="8568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743200" y="4426920"/>
              <a:ext cx="10836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39084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39084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86740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86740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774160" y="4378320"/>
              <a:ext cx="754560" cy="2340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76320" y="4387680"/>
              <a:ext cx="732600" cy="1692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917080" y="4239360"/>
              <a:ext cx="43272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961000" y="4430520"/>
              <a:ext cx="403920" cy="75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970720" y="4447800"/>
              <a:ext cx="386280" cy="540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318480" y="4355280"/>
              <a:ext cx="1188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094560" y="4241520"/>
              <a:ext cx="21960" cy="26280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339720" y="4425840"/>
              <a:ext cx="7920" cy="7560"/>
            </a:xfrm>
            <a:prstGeom prst="rect">
              <a:avLst/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339720" y="4425840"/>
              <a:ext cx="7920" cy="7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132360" y="4383000"/>
              <a:ext cx="32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132360" y="4383000"/>
              <a:ext cx="32400" cy="1404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132360" y="4383000"/>
              <a:ext cx="3240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132360" y="4383000"/>
              <a:ext cx="3240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933640" y="4375440"/>
              <a:ext cx="331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933640" y="4375440"/>
              <a:ext cx="33120" cy="1404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933640" y="4375440"/>
              <a:ext cx="3312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933640" y="4375440"/>
              <a:ext cx="3312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10680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10680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95704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95704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26844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26844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31120" y="4304880"/>
              <a:ext cx="3168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931120" y="4304880"/>
              <a:ext cx="3168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345840" y="4353480"/>
              <a:ext cx="188280" cy="4356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764080" y="4341240"/>
              <a:ext cx="546480" cy="2160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760480" y="4241520"/>
              <a:ext cx="183600" cy="9468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755080" y="4375440"/>
              <a:ext cx="19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751120" y="4387680"/>
              <a:ext cx="2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751120" y="4406760"/>
              <a:ext cx="2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823480" y="4251960"/>
              <a:ext cx="14580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914560" y="4248000"/>
              <a:ext cx="504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84220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84220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26088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26088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1828800" y="3124080"/>
            <a:ext cx="5028840" cy="1828440"/>
            <a:chOff x="1828800" y="3124080"/>
            <a:chExt cx="5028840" cy="1828440"/>
          </a:xfrm>
        </p:grpSpPr>
        <p:sp>
          <p:nvSpPr>
            <p:cNvPr id="1157" name=""/>
            <p:cNvSpPr/>
            <p:nvPr/>
          </p:nvSpPr>
          <p:spPr>
            <a:xfrm>
              <a:off x="1828800" y="3124080"/>
              <a:ext cx="5028840" cy="1828440"/>
            </a:xfrm>
            <a:custGeom>
              <a:avLst/>
              <a:gdLst/>
              <a:ahLst/>
              <a:rect l="l" t="t" r="r" b="b"/>
              <a:pathLst>
                <a:path w="2127" h="626">
                  <a:moveTo>
                    <a:pt x="863" y="232"/>
                  </a:moveTo>
                  <a:lnTo>
                    <a:pt x="1263" y="232"/>
                  </a:lnTo>
                  <a:lnTo>
                    <a:pt x="1279" y="243"/>
                  </a:lnTo>
                  <a:lnTo>
                    <a:pt x="1279" y="253"/>
                  </a:lnTo>
                  <a:lnTo>
                    <a:pt x="1279" y="626"/>
                  </a:lnTo>
                  <a:lnTo>
                    <a:pt x="1518" y="626"/>
                  </a:lnTo>
                  <a:lnTo>
                    <a:pt x="1518" y="271"/>
                  </a:lnTo>
                  <a:lnTo>
                    <a:pt x="1531" y="280"/>
                  </a:lnTo>
                  <a:lnTo>
                    <a:pt x="1556" y="294"/>
                  </a:lnTo>
                  <a:lnTo>
                    <a:pt x="1600" y="320"/>
                  </a:lnTo>
                  <a:lnTo>
                    <a:pt x="1600" y="490"/>
                  </a:lnTo>
                  <a:lnTo>
                    <a:pt x="1628" y="490"/>
                  </a:lnTo>
                  <a:lnTo>
                    <a:pt x="1628" y="333"/>
                  </a:lnTo>
                  <a:lnTo>
                    <a:pt x="1671" y="354"/>
                  </a:lnTo>
                  <a:lnTo>
                    <a:pt x="1722" y="378"/>
                  </a:lnTo>
                  <a:lnTo>
                    <a:pt x="1722" y="490"/>
                  </a:lnTo>
                  <a:lnTo>
                    <a:pt x="1752" y="490"/>
                  </a:lnTo>
                  <a:lnTo>
                    <a:pt x="1752" y="391"/>
                  </a:lnTo>
                  <a:lnTo>
                    <a:pt x="1793" y="408"/>
                  </a:lnTo>
                  <a:lnTo>
                    <a:pt x="1837" y="427"/>
                  </a:lnTo>
                  <a:lnTo>
                    <a:pt x="1837" y="490"/>
                  </a:lnTo>
                  <a:lnTo>
                    <a:pt x="1867" y="490"/>
                  </a:lnTo>
                  <a:lnTo>
                    <a:pt x="1867" y="437"/>
                  </a:lnTo>
                  <a:lnTo>
                    <a:pt x="1880" y="442"/>
                  </a:lnTo>
                  <a:lnTo>
                    <a:pt x="1900" y="449"/>
                  </a:lnTo>
                  <a:lnTo>
                    <a:pt x="1926" y="457"/>
                  </a:lnTo>
                  <a:lnTo>
                    <a:pt x="1954" y="465"/>
                  </a:lnTo>
                  <a:lnTo>
                    <a:pt x="1984" y="473"/>
                  </a:lnTo>
                  <a:lnTo>
                    <a:pt x="2012" y="481"/>
                  </a:lnTo>
                  <a:lnTo>
                    <a:pt x="2038" y="486"/>
                  </a:lnTo>
                  <a:lnTo>
                    <a:pt x="2050" y="489"/>
                  </a:lnTo>
                  <a:lnTo>
                    <a:pt x="2061" y="490"/>
                  </a:lnTo>
                  <a:lnTo>
                    <a:pt x="1518" y="490"/>
                  </a:lnTo>
                  <a:lnTo>
                    <a:pt x="1518" y="509"/>
                  </a:lnTo>
                  <a:lnTo>
                    <a:pt x="2127" y="509"/>
                  </a:lnTo>
                  <a:lnTo>
                    <a:pt x="2127" y="491"/>
                  </a:lnTo>
                  <a:lnTo>
                    <a:pt x="2107" y="488"/>
                  </a:lnTo>
                  <a:lnTo>
                    <a:pt x="2086" y="484"/>
                  </a:lnTo>
                  <a:lnTo>
                    <a:pt x="2066" y="480"/>
                  </a:lnTo>
                  <a:lnTo>
                    <a:pt x="2043" y="475"/>
                  </a:lnTo>
                  <a:lnTo>
                    <a:pt x="2000" y="463"/>
                  </a:lnTo>
                  <a:lnTo>
                    <a:pt x="1954" y="450"/>
                  </a:lnTo>
                  <a:lnTo>
                    <a:pt x="1905" y="435"/>
                  </a:lnTo>
                  <a:lnTo>
                    <a:pt x="1862" y="419"/>
                  </a:lnTo>
                  <a:lnTo>
                    <a:pt x="1839" y="410"/>
                  </a:lnTo>
                  <a:lnTo>
                    <a:pt x="1816" y="401"/>
                  </a:lnTo>
                  <a:lnTo>
                    <a:pt x="1773" y="383"/>
                  </a:lnTo>
                  <a:lnTo>
                    <a:pt x="1730" y="365"/>
                  </a:lnTo>
                  <a:lnTo>
                    <a:pt x="1689" y="346"/>
                  </a:lnTo>
                  <a:lnTo>
                    <a:pt x="1651" y="327"/>
                  </a:lnTo>
                  <a:lnTo>
                    <a:pt x="1612" y="308"/>
                  </a:lnTo>
                  <a:lnTo>
                    <a:pt x="1579" y="290"/>
                  </a:lnTo>
                  <a:lnTo>
                    <a:pt x="1551" y="273"/>
                  </a:lnTo>
                  <a:lnTo>
                    <a:pt x="1526" y="257"/>
                  </a:lnTo>
                  <a:lnTo>
                    <a:pt x="1505" y="243"/>
                  </a:lnTo>
                  <a:lnTo>
                    <a:pt x="1518" y="232"/>
                  </a:lnTo>
                  <a:lnTo>
                    <a:pt x="1518" y="86"/>
                  </a:lnTo>
                  <a:lnTo>
                    <a:pt x="1500" y="70"/>
                  </a:lnTo>
                  <a:lnTo>
                    <a:pt x="1480" y="86"/>
                  </a:lnTo>
                  <a:lnTo>
                    <a:pt x="1477" y="85"/>
                  </a:lnTo>
                  <a:lnTo>
                    <a:pt x="1467" y="81"/>
                  </a:lnTo>
                  <a:lnTo>
                    <a:pt x="1454" y="74"/>
                  </a:lnTo>
                  <a:lnTo>
                    <a:pt x="1439" y="64"/>
                  </a:lnTo>
                  <a:lnTo>
                    <a:pt x="1424" y="52"/>
                  </a:lnTo>
                  <a:lnTo>
                    <a:pt x="1416" y="45"/>
                  </a:lnTo>
                  <a:lnTo>
                    <a:pt x="1411" y="37"/>
                  </a:lnTo>
                  <a:lnTo>
                    <a:pt x="1406" y="29"/>
                  </a:lnTo>
                  <a:lnTo>
                    <a:pt x="1401" y="20"/>
                  </a:lnTo>
                  <a:lnTo>
                    <a:pt x="1398" y="11"/>
                  </a:lnTo>
                  <a:lnTo>
                    <a:pt x="1398" y="0"/>
                  </a:lnTo>
                  <a:lnTo>
                    <a:pt x="1398" y="11"/>
                  </a:lnTo>
                  <a:lnTo>
                    <a:pt x="1396" y="20"/>
                  </a:lnTo>
                  <a:lnTo>
                    <a:pt x="1393" y="25"/>
                  </a:lnTo>
                  <a:lnTo>
                    <a:pt x="1391" y="29"/>
                  </a:lnTo>
                  <a:lnTo>
                    <a:pt x="1386" y="37"/>
                  </a:lnTo>
                  <a:lnTo>
                    <a:pt x="1378" y="45"/>
                  </a:lnTo>
                  <a:lnTo>
                    <a:pt x="1373" y="52"/>
                  </a:lnTo>
                  <a:lnTo>
                    <a:pt x="1358" y="64"/>
                  </a:lnTo>
                  <a:lnTo>
                    <a:pt x="1342" y="74"/>
                  </a:lnTo>
                  <a:lnTo>
                    <a:pt x="1330" y="81"/>
                  </a:lnTo>
                  <a:lnTo>
                    <a:pt x="1319" y="85"/>
                  </a:lnTo>
                  <a:lnTo>
                    <a:pt x="1317" y="86"/>
                  </a:lnTo>
                  <a:lnTo>
                    <a:pt x="1297" y="70"/>
                  </a:lnTo>
                  <a:lnTo>
                    <a:pt x="1279" y="86"/>
                  </a:lnTo>
                  <a:lnTo>
                    <a:pt x="1279" y="194"/>
                  </a:lnTo>
                  <a:lnTo>
                    <a:pt x="848" y="194"/>
                  </a:lnTo>
                  <a:lnTo>
                    <a:pt x="848" y="86"/>
                  </a:lnTo>
                  <a:lnTo>
                    <a:pt x="830" y="70"/>
                  </a:lnTo>
                  <a:lnTo>
                    <a:pt x="810" y="86"/>
                  </a:lnTo>
                  <a:lnTo>
                    <a:pt x="807" y="85"/>
                  </a:lnTo>
                  <a:lnTo>
                    <a:pt x="797" y="81"/>
                  </a:lnTo>
                  <a:lnTo>
                    <a:pt x="785" y="74"/>
                  </a:lnTo>
                  <a:lnTo>
                    <a:pt x="769" y="64"/>
                  </a:lnTo>
                  <a:lnTo>
                    <a:pt x="754" y="52"/>
                  </a:lnTo>
                  <a:lnTo>
                    <a:pt x="746" y="45"/>
                  </a:lnTo>
                  <a:lnTo>
                    <a:pt x="741" y="37"/>
                  </a:lnTo>
                  <a:lnTo>
                    <a:pt x="736" y="29"/>
                  </a:lnTo>
                  <a:lnTo>
                    <a:pt x="731" y="20"/>
                  </a:lnTo>
                  <a:lnTo>
                    <a:pt x="728" y="11"/>
                  </a:lnTo>
                  <a:lnTo>
                    <a:pt x="728" y="0"/>
                  </a:lnTo>
                  <a:lnTo>
                    <a:pt x="728" y="11"/>
                  </a:lnTo>
                  <a:lnTo>
                    <a:pt x="723" y="20"/>
                  </a:lnTo>
                  <a:lnTo>
                    <a:pt x="723" y="25"/>
                  </a:lnTo>
                  <a:lnTo>
                    <a:pt x="721" y="29"/>
                  </a:lnTo>
                  <a:lnTo>
                    <a:pt x="716" y="37"/>
                  </a:lnTo>
                  <a:lnTo>
                    <a:pt x="708" y="45"/>
                  </a:lnTo>
                  <a:lnTo>
                    <a:pt x="703" y="52"/>
                  </a:lnTo>
                  <a:lnTo>
                    <a:pt x="688" y="64"/>
                  </a:lnTo>
                  <a:lnTo>
                    <a:pt x="672" y="74"/>
                  </a:lnTo>
                  <a:lnTo>
                    <a:pt x="660" y="81"/>
                  </a:lnTo>
                  <a:lnTo>
                    <a:pt x="650" y="85"/>
                  </a:lnTo>
                  <a:lnTo>
                    <a:pt x="647" y="86"/>
                  </a:lnTo>
                  <a:lnTo>
                    <a:pt x="627" y="70"/>
                  </a:lnTo>
                  <a:lnTo>
                    <a:pt x="609" y="86"/>
                  </a:lnTo>
                  <a:lnTo>
                    <a:pt x="609" y="232"/>
                  </a:lnTo>
                  <a:lnTo>
                    <a:pt x="622" y="243"/>
                  </a:lnTo>
                  <a:lnTo>
                    <a:pt x="601" y="257"/>
                  </a:lnTo>
                  <a:lnTo>
                    <a:pt x="576" y="273"/>
                  </a:lnTo>
                  <a:lnTo>
                    <a:pt x="545" y="290"/>
                  </a:lnTo>
                  <a:lnTo>
                    <a:pt x="512" y="308"/>
                  </a:lnTo>
                  <a:lnTo>
                    <a:pt x="476" y="327"/>
                  </a:lnTo>
                  <a:lnTo>
                    <a:pt x="438" y="346"/>
                  </a:lnTo>
                  <a:lnTo>
                    <a:pt x="397" y="365"/>
                  </a:lnTo>
                  <a:lnTo>
                    <a:pt x="352" y="383"/>
                  </a:lnTo>
                  <a:lnTo>
                    <a:pt x="308" y="401"/>
                  </a:lnTo>
                  <a:lnTo>
                    <a:pt x="262" y="419"/>
                  </a:lnTo>
                  <a:lnTo>
                    <a:pt x="217" y="435"/>
                  </a:lnTo>
                  <a:lnTo>
                    <a:pt x="173" y="450"/>
                  </a:lnTo>
                  <a:lnTo>
                    <a:pt x="150" y="457"/>
                  </a:lnTo>
                  <a:lnTo>
                    <a:pt x="127" y="463"/>
                  </a:lnTo>
                  <a:lnTo>
                    <a:pt x="84" y="475"/>
                  </a:lnTo>
                  <a:lnTo>
                    <a:pt x="61" y="480"/>
                  </a:lnTo>
                  <a:lnTo>
                    <a:pt x="41" y="484"/>
                  </a:lnTo>
                  <a:lnTo>
                    <a:pt x="20" y="488"/>
                  </a:lnTo>
                  <a:lnTo>
                    <a:pt x="0" y="491"/>
                  </a:lnTo>
                  <a:lnTo>
                    <a:pt x="0" y="509"/>
                  </a:lnTo>
                  <a:lnTo>
                    <a:pt x="609" y="509"/>
                  </a:lnTo>
                  <a:lnTo>
                    <a:pt x="609" y="490"/>
                  </a:lnTo>
                  <a:lnTo>
                    <a:pt x="64" y="490"/>
                  </a:lnTo>
                  <a:lnTo>
                    <a:pt x="76" y="489"/>
                  </a:lnTo>
                  <a:lnTo>
                    <a:pt x="87" y="486"/>
                  </a:lnTo>
                  <a:lnTo>
                    <a:pt x="115" y="481"/>
                  </a:lnTo>
                  <a:lnTo>
                    <a:pt x="127" y="477"/>
                  </a:lnTo>
                  <a:lnTo>
                    <a:pt x="143" y="473"/>
                  </a:lnTo>
                  <a:lnTo>
                    <a:pt x="171" y="465"/>
                  </a:lnTo>
                  <a:lnTo>
                    <a:pt x="199" y="457"/>
                  </a:lnTo>
                  <a:lnTo>
                    <a:pt x="224" y="449"/>
                  </a:lnTo>
                  <a:lnTo>
                    <a:pt x="245" y="442"/>
                  </a:lnTo>
                  <a:lnTo>
                    <a:pt x="257" y="437"/>
                  </a:lnTo>
                  <a:lnTo>
                    <a:pt x="257" y="490"/>
                  </a:lnTo>
                  <a:lnTo>
                    <a:pt x="288" y="490"/>
                  </a:lnTo>
                  <a:lnTo>
                    <a:pt x="288" y="427"/>
                  </a:lnTo>
                  <a:lnTo>
                    <a:pt x="331" y="408"/>
                  </a:lnTo>
                  <a:lnTo>
                    <a:pt x="372" y="391"/>
                  </a:lnTo>
                  <a:lnTo>
                    <a:pt x="372" y="490"/>
                  </a:lnTo>
                  <a:lnTo>
                    <a:pt x="405" y="490"/>
                  </a:lnTo>
                  <a:lnTo>
                    <a:pt x="405" y="378"/>
                  </a:lnTo>
                  <a:lnTo>
                    <a:pt x="456" y="354"/>
                  </a:lnTo>
                  <a:lnTo>
                    <a:pt x="499" y="333"/>
                  </a:lnTo>
                  <a:lnTo>
                    <a:pt x="499" y="490"/>
                  </a:lnTo>
                  <a:lnTo>
                    <a:pt x="527" y="490"/>
                  </a:lnTo>
                  <a:lnTo>
                    <a:pt x="527" y="320"/>
                  </a:lnTo>
                  <a:lnTo>
                    <a:pt x="571" y="294"/>
                  </a:lnTo>
                  <a:lnTo>
                    <a:pt x="593" y="280"/>
                  </a:lnTo>
                  <a:lnTo>
                    <a:pt x="609" y="271"/>
                  </a:lnTo>
                  <a:lnTo>
                    <a:pt x="609" y="626"/>
                  </a:lnTo>
                  <a:lnTo>
                    <a:pt x="848" y="626"/>
                  </a:lnTo>
                  <a:lnTo>
                    <a:pt x="848" y="253"/>
                  </a:lnTo>
                  <a:lnTo>
                    <a:pt x="848" y="243"/>
                  </a:lnTo>
                  <a:lnTo>
                    <a:pt x="863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33640" y="4555080"/>
              <a:ext cx="101916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852800" y="3834000"/>
              <a:ext cx="52956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39280" y="3369600"/>
              <a:ext cx="191880" cy="142920"/>
            </a:xfrm>
            <a:custGeom>
              <a:avLst/>
              <a:gdLst/>
              <a:ahLst/>
              <a:rect l="l" t="t" r="r" b="b"/>
              <a:pathLst>
                <a:path w="81" h="49">
                  <a:moveTo>
                    <a:pt x="0" y="49"/>
                  </a:moveTo>
                  <a:lnTo>
                    <a:pt x="81" y="49"/>
                  </a:lnTo>
                  <a:lnTo>
                    <a:pt x="81" y="26"/>
                  </a:lnTo>
                  <a:lnTo>
                    <a:pt x="76" y="25"/>
                  </a:lnTo>
                  <a:lnTo>
                    <a:pt x="68" y="24"/>
                  </a:lnTo>
                  <a:lnTo>
                    <a:pt x="63" y="22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45" y="11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38" y="6"/>
                  </a:lnTo>
                  <a:lnTo>
                    <a:pt x="35" y="11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094000" y="3585600"/>
              <a:ext cx="8244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9784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2070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020560" y="4406040"/>
              <a:ext cx="22248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852800" y="403848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852800" y="427500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52800" y="3912480"/>
              <a:ext cx="56484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71" y="22"/>
                  </a:moveTo>
                  <a:lnTo>
                    <a:pt x="0" y="22"/>
                  </a:lnTo>
                  <a:lnTo>
                    <a:pt x="0" y="31"/>
                  </a:lnTo>
                  <a:lnTo>
                    <a:pt x="239" y="31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52800" y="4143240"/>
              <a:ext cx="56484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71" y="22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239" y="32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299400" y="3834000"/>
              <a:ext cx="5338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455280" y="3369600"/>
              <a:ext cx="186480" cy="14292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9" y="49"/>
                  </a:moveTo>
                  <a:lnTo>
                    <a:pt x="0" y="49"/>
                  </a:lnTo>
                  <a:lnTo>
                    <a:pt x="0" y="26"/>
                  </a:lnTo>
                  <a:lnTo>
                    <a:pt x="5" y="25"/>
                  </a:lnTo>
                  <a:lnTo>
                    <a:pt x="10" y="24"/>
                  </a:lnTo>
                  <a:lnTo>
                    <a:pt x="18" y="22"/>
                  </a:lnTo>
                  <a:lnTo>
                    <a:pt x="25" y="19"/>
                  </a:lnTo>
                  <a:lnTo>
                    <a:pt x="30" y="16"/>
                  </a:lnTo>
                  <a:lnTo>
                    <a:pt x="35" y="11"/>
                  </a:lnTo>
                  <a:lnTo>
                    <a:pt x="38" y="6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46" y="11"/>
                  </a:lnTo>
                  <a:lnTo>
                    <a:pt x="51" y="16"/>
                  </a:lnTo>
                  <a:lnTo>
                    <a:pt x="56" y="19"/>
                  </a:lnTo>
                  <a:lnTo>
                    <a:pt x="63" y="22"/>
                  </a:lnTo>
                  <a:lnTo>
                    <a:pt x="69" y="24"/>
                  </a:lnTo>
                  <a:lnTo>
                    <a:pt x="76" y="25"/>
                  </a:lnTo>
                  <a:lnTo>
                    <a:pt x="79" y="26"/>
                  </a:lnTo>
                  <a:lnTo>
                    <a:pt x="79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509640" y="3585600"/>
              <a:ext cx="828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62340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389040" y="3585600"/>
              <a:ext cx="900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436560" y="4406040"/>
              <a:ext cx="22176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268800" y="403848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268800" y="427500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268800" y="3912480"/>
              <a:ext cx="56448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168" y="22"/>
                  </a:moveTo>
                  <a:lnTo>
                    <a:pt x="239" y="22"/>
                  </a:lnTo>
                  <a:lnTo>
                    <a:pt x="239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268800" y="4143240"/>
              <a:ext cx="56448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168" y="22"/>
                  </a:moveTo>
                  <a:lnTo>
                    <a:pt x="239" y="22"/>
                  </a:lnTo>
                  <a:lnTo>
                    <a:pt x="239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869280" y="3767040"/>
              <a:ext cx="952560" cy="1692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0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5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3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500"/>
                            </p:stCondLst>
                            <p:childTnLst>
                              <p:par>
                                <p:cTn id="162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1645" dur="2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1647" dur="2000" fill="hold"/>
                                        <p:tgtEl>
                                          <p:spTgt spid="10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"/>
          <p:cNvGrpSpPr/>
          <p:nvPr/>
        </p:nvGrpSpPr>
        <p:grpSpPr>
          <a:xfrm>
            <a:off x="5738760" y="2286000"/>
            <a:ext cx="817200" cy="380520"/>
            <a:chOff x="5738760" y="2286000"/>
            <a:chExt cx="817200" cy="380520"/>
          </a:xfrm>
        </p:grpSpPr>
        <p:sp>
          <p:nvSpPr>
            <p:cNvPr id="1181" name=""/>
            <p:cNvSpPr/>
            <p:nvPr/>
          </p:nvSpPr>
          <p:spPr>
            <a:xfrm>
              <a:off x="5738760" y="2286000"/>
              <a:ext cx="817200" cy="380520"/>
            </a:xfrm>
            <a:prstGeom prst="roundRect">
              <a:avLst>
                <a:gd name="adj" fmla="val 9977"/>
              </a:avLst>
            </a:pr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738760" y="2286000"/>
              <a:ext cx="817200" cy="38052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937480" y="2312280"/>
              <a:ext cx="160200" cy="327600"/>
            </a:xfrm>
            <a:custGeom>
              <a:avLst/>
              <a:gdLst>
                <a:gd name="textAreaLeft" fmla="*/ 4320 w 160200"/>
                <a:gd name="textAreaRight" fmla="*/ 155880 w 160200"/>
                <a:gd name="textAreaTop" fmla="*/ 4320 h 327600"/>
                <a:gd name="textAreaBottom" fmla="*/ 323280 h 327600"/>
              </a:gdLst>
              <a:ahLst/>
              <a:rect l="textAreaLeft" t="textAreaTop" r="textAreaRight" b="textAreaBottom"/>
              <a:pathLst>
                <a:path w="21600" h="44120">
                  <a:moveTo>
                    <a:pt x="2143" y="0"/>
                  </a:moveTo>
                  <a:arcTo wR="2143" hR="2143" stAng="16200000" swAng="-5400000"/>
                  <a:lnTo>
                    <a:pt x="0" y="41977"/>
                  </a:lnTo>
                  <a:arcTo wR="2143" hR="2143" stAng="10800000" swAng="-5400000"/>
                  <a:lnTo>
                    <a:pt x="19457" y="44120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403680" y="2314080"/>
              <a:ext cx="114120" cy="324360"/>
            </a:xfrm>
            <a:custGeom>
              <a:avLst/>
              <a:gdLst>
                <a:gd name="textAreaLeft" fmla="*/ 3240 w 114120"/>
                <a:gd name="textAreaRight" fmla="*/ 110880 w 114120"/>
                <a:gd name="textAreaTop" fmla="*/ 3240 h 324360"/>
                <a:gd name="textAreaBottom" fmla="*/ 321120 h 324360"/>
              </a:gdLst>
              <a:ahLst/>
              <a:rect l="textAreaLeft" t="textAreaTop" r="textAreaRight" b="textAreaBottom"/>
              <a:pathLst>
                <a:path w="21600" h="61268">
                  <a:moveTo>
                    <a:pt x="2150" y="0"/>
                  </a:moveTo>
                  <a:arcTo wR="2150" hR="2150" stAng="16200000" swAng="-5400000"/>
                  <a:lnTo>
                    <a:pt x="0" y="59118"/>
                  </a:lnTo>
                  <a:arcTo wR="2150" hR="2150" stAng="10800000" swAng="-5400000"/>
                  <a:lnTo>
                    <a:pt x="19450" y="61268"/>
                  </a:lnTo>
                  <a:arcTo wR="2150" hR="2150" stAng="5400000" swAng="-5400000"/>
                  <a:lnTo>
                    <a:pt x="21600" y="2150"/>
                  </a:lnTo>
                  <a:arcTo wR="2150" hR="2150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ling Dead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5715000" y="4267080"/>
            <a:ext cx="837720" cy="288720"/>
            <a:chOff x="5715000" y="4267080"/>
            <a:chExt cx="837720" cy="288720"/>
          </a:xfrm>
        </p:grpSpPr>
        <p:sp>
          <p:nvSpPr>
            <p:cNvPr id="1187" name=""/>
            <p:cNvSpPr/>
            <p:nvPr/>
          </p:nvSpPr>
          <p:spPr>
            <a:xfrm>
              <a:off x="6346080" y="4358880"/>
              <a:ext cx="21240" cy="2052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0"/>
                  </a:moveTo>
                  <a:lnTo>
                    <a:pt x="136" y="68"/>
                  </a:lnTo>
                  <a:lnTo>
                    <a:pt x="0" y="136"/>
                  </a:lnTo>
                  <a:lnTo>
                    <a:pt x="4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94036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94036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lnTo>
                    <a:pt x="57" y="5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48504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48504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lnTo>
                    <a:pt x="2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6509520" y="43876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6515640" y="439992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72616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72616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lnTo>
                    <a:pt x="187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759640" y="4406760"/>
              <a:ext cx="75564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759640" y="4406760"/>
              <a:ext cx="75564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lnTo>
                    <a:pt x="3768" y="5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722200" y="4267080"/>
              <a:ext cx="81972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close/>
                </a:path>
              </a:pathLst>
            </a:cu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722200" y="4267080"/>
              <a:ext cx="81972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lnTo>
                    <a:pt x="386" y="15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81976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81976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3860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3860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98680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98680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22116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22116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lnTo>
                    <a:pt x="8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2784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02784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lnTo>
                    <a:pt x="423" y="9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22440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22440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lnTo>
                    <a:pt x="1038" y="54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71500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71500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lnTo>
                    <a:pt x="68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715720" y="4447800"/>
              <a:ext cx="89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45444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45444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6465960" y="4428360"/>
              <a:ext cx="8208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6479280" y="4439160"/>
              <a:ext cx="6840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01704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1704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14412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4412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14412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14412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986080" y="4367520"/>
              <a:ext cx="509400" cy="9000"/>
            </a:xfrm>
            <a:custGeom>
              <a:avLst/>
              <a:gdLst/>
              <a:ahLst/>
              <a:rect l="l" t="t" r="r" b="b"/>
              <a:pathLst>
                <a:path w="3184" h="61">
                  <a:moveTo>
                    <a:pt x="0" y="50"/>
                  </a:moveTo>
                  <a:lnTo>
                    <a:pt x="0" y="61"/>
                  </a:lnTo>
                  <a:lnTo>
                    <a:pt x="31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969880" y="4272480"/>
              <a:ext cx="525960" cy="221040"/>
            </a:xfrm>
            <a:custGeom>
              <a:avLst/>
              <a:gdLst/>
              <a:ahLst/>
              <a:rect l="l" t="t" r="r" b="b"/>
              <a:pathLst>
                <a:path w="3291" h="1428">
                  <a:moveTo>
                    <a:pt x="81" y="1428"/>
                  </a:moveTo>
                  <a:lnTo>
                    <a:pt x="59" y="1361"/>
                  </a:lnTo>
                  <a:lnTo>
                    <a:pt x="25" y="1226"/>
                  </a:lnTo>
                  <a:lnTo>
                    <a:pt x="0" y="1090"/>
                  </a:lnTo>
                  <a:lnTo>
                    <a:pt x="9" y="870"/>
                  </a:lnTo>
                  <a:lnTo>
                    <a:pt x="34" y="660"/>
                  </a:lnTo>
                  <a:lnTo>
                    <a:pt x="36" y="639"/>
                  </a:lnTo>
                  <a:lnTo>
                    <a:pt x="52" y="601"/>
                  </a:lnTo>
                  <a:lnTo>
                    <a:pt x="74" y="569"/>
                  </a:lnTo>
                  <a:lnTo>
                    <a:pt x="103" y="544"/>
                  </a:lnTo>
                  <a:lnTo>
                    <a:pt x="720" y="115"/>
                  </a:lnTo>
                  <a:lnTo>
                    <a:pt x="758" y="97"/>
                  </a:lnTo>
                  <a:lnTo>
                    <a:pt x="846" y="61"/>
                  </a:lnTo>
                  <a:lnTo>
                    <a:pt x="940" y="34"/>
                  </a:lnTo>
                  <a:lnTo>
                    <a:pt x="1650" y="0"/>
                  </a:lnTo>
                  <a:lnTo>
                    <a:pt x="2547" y="21"/>
                  </a:lnTo>
                  <a:lnTo>
                    <a:pt x="2640" y="80"/>
                  </a:lnTo>
                  <a:lnTo>
                    <a:pt x="3069" y="441"/>
                  </a:lnTo>
                  <a:lnTo>
                    <a:pt x="3291" y="6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938920" y="4493520"/>
              <a:ext cx="4053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735520" y="4485960"/>
              <a:ext cx="478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762160" y="4397040"/>
              <a:ext cx="753120" cy="13680"/>
            </a:xfrm>
            <a:custGeom>
              <a:avLst/>
              <a:gdLst/>
              <a:ahLst/>
              <a:rect l="l" t="t" r="r" b="b"/>
              <a:pathLst>
                <a:path w="4710" h="91">
                  <a:moveTo>
                    <a:pt x="0" y="91"/>
                  </a:moveTo>
                  <a:lnTo>
                    <a:pt x="3070" y="34"/>
                  </a:lnTo>
                  <a:lnTo>
                    <a:pt x="47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201360" y="4274640"/>
              <a:ext cx="21960" cy="218880"/>
            </a:xfrm>
            <a:custGeom>
              <a:avLst/>
              <a:gdLst/>
              <a:ahLst/>
              <a:rect l="l" t="t" r="r" b="b"/>
              <a:pathLst>
                <a:path w="140" h="1417">
                  <a:moveTo>
                    <a:pt x="22" y="1417"/>
                  </a:moveTo>
                  <a:lnTo>
                    <a:pt x="17" y="1355"/>
                  </a:lnTo>
                  <a:lnTo>
                    <a:pt x="5" y="1178"/>
                  </a:lnTo>
                  <a:lnTo>
                    <a:pt x="0" y="997"/>
                  </a:lnTo>
                  <a:lnTo>
                    <a:pt x="7" y="817"/>
                  </a:lnTo>
                  <a:lnTo>
                    <a:pt x="25" y="639"/>
                  </a:lnTo>
                  <a:lnTo>
                    <a:pt x="34" y="639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798160" y="4407480"/>
              <a:ext cx="147960" cy="80280"/>
            </a:xfrm>
            <a:custGeom>
              <a:avLst/>
              <a:gdLst/>
              <a:ahLst/>
              <a:rect l="l" t="t" r="r" b="b"/>
              <a:pathLst>
                <a:path w="924" h="518">
                  <a:moveTo>
                    <a:pt x="924" y="518"/>
                  </a:moveTo>
                  <a:lnTo>
                    <a:pt x="914" y="444"/>
                  </a:lnTo>
                  <a:lnTo>
                    <a:pt x="897" y="373"/>
                  </a:lnTo>
                  <a:lnTo>
                    <a:pt x="872" y="304"/>
                  </a:lnTo>
                  <a:lnTo>
                    <a:pt x="835" y="239"/>
                  </a:lnTo>
                  <a:lnTo>
                    <a:pt x="791" y="183"/>
                  </a:lnTo>
                  <a:lnTo>
                    <a:pt x="739" y="131"/>
                  </a:lnTo>
                  <a:lnTo>
                    <a:pt x="680" y="87"/>
                  </a:lnTo>
                  <a:lnTo>
                    <a:pt x="615" y="52"/>
                  </a:lnTo>
                  <a:lnTo>
                    <a:pt x="546" y="24"/>
                  </a:lnTo>
                  <a:lnTo>
                    <a:pt x="477" y="7"/>
                  </a:lnTo>
                  <a:lnTo>
                    <a:pt x="405" y="0"/>
                  </a:lnTo>
                  <a:lnTo>
                    <a:pt x="331" y="4"/>
                  </a:lnTo>
                  <a:lnTo>
                    <a:pt x="260" y="18"/>
                  </a:lnTo>
                  <a:lnTo>
                    <a:pt x="189" y="39"/>
                  </a:lnTo>
                  <a:lnTo>
                    <a:pt x="124" y="72"/>
                  </a:lnTo>
                  <a:lnTo>
                    <a:pt x="63" y="114"/>
                  </a:lnTo>
                  <a:lnTo>
                    <a:pt x="8" y="163"/>
                  </a:lnTo>
                  <a:lnTo>
                    <a:pt x="0" y="1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336360" y="4405320"/>
              <a:ext cx="135720" cy="84240"/>
            </a:xfrm>
            <a:custGeom>
              <a:avLst/>
              <a:gdLst/>
              <a:ahLst/>
              <a:rect l="l" t="t" r="r" b="b"/>
              <a:pathLst>
                <a:path w="850" h="544">
                  <a:moveTo>
                    <a:pt x="850" y="128"/>
                  </a:moveTo>
                  <a:lnTo>
                    <a:pt x="792" y="84"/>
                  </a:lnTo>
                  <a:lnTo>
                    <a:pt x="731" y="48"/>
                  </a:lnTo>
                  <a:lnTo>
                    <a:pt x="664" y="21"/>
                  </a:lnTo>
                  <a:lnTo>
                    <a:pt x="593" y="8"/>
                  </a:lnTo>
                  <a:lnTo>
                    <a:pt x="524" y="0"/>
                  </a:lnTo>
                  <a:lnTo>
                    <a:pt x="452" y="4"/>
                  </a:lnTo>
                  <a:lnTo>
                    <a:pt x="380" y="17"/>
                  </a:lnTo>
                  <a:lnTo>
                    <a:pt x="311" y="42"/>
                  </a:lnTo>
                  <a:lnTo>
                    <a:pt x="248" y="73"/>
                  </a:lnTo>
                  <a:lnTo>
                    <a:pt x="188" y="115"/>
                  </a:lnTo>
                  <a:lnTo>
                    <a:pt x="135" y="164"/>
                  </a:lnTo>
                  <a:lnTo>
                    <a:pt x="92" y="222"/>
                  </a:lnTo>
                  <a:lnTo>
                    <a:pt x="55" y="283"/>
                  </a:lnTo>
                  <a:lnTo>
                    <a:pt x="24" y="350"/>
                  </a:lnTo>
                  <a:lnTo>
                    <a:pt x="7" y="419"/>
                  </a:lnTo>
                  <a:lnTo>
                    <a:pt x="0" y="491"/>
                  </a:lnTo>
                  <a:lnTo>
                    <a:pt x="3" y="5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347520" y="4276080"/>
              <a:ext cx="72720" cy="132840"/>
            </a:xfrm>
            <a:custGeom>
              <a:avLst/>
              <a:gdLst/>
              <a:ahLst/>
              <a:rect l="l" t="t" r="r" b="b"/>
              <a:pathLst>
                <a:path w="454" h="858">
                  <a:moveTo>
                    <a:pt x="326" y="858"/>
                  </a:moveTo>
                  <a:lnTo>
                    <a:pt x="454" y="649"/>
                  </a:lnTo>
                  <a:lnTo>
                    <a:pt x="446" y="599"/>
                  </a:lnTo>
                  <a:lnTo>
                    <a:pt x="432" y="554"/>
                  </a:lnTo>
                  <a:lnTo>
                    <a:pt x="407" y="5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350040" y="4380480"/>
              <a:ext cx="3096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350040" y="4380480"/>
              <a:ext cx="30960" cy="13680"/>
            </a:xfrm>
            <a:custGeom>
              <a:avLst/>
              <a:gdLst/>
              <a:ahLst/>
              <a:rect l="l" t="t" r="r" b="b"/>
              <a:pathLst>
                <a:path w="197" h="93">
                  <a:moveTo>
                    <a:pt x="0" y="93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5004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35004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94756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94756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933160" y="4443120"/>
              <a:ext cx="415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927400" y="4437720"/>
              <a:ext cx="423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 rot="564000">
            <a:off x="1752480" y="3659040"/>
            <a:ext cx="4727520" cy="2057400"/>
          </a:xfrm>
          <a:custGeom>
            <a:avLst/>
            <a:gdLst/>
            <a:ahLst/>
            <a:rect l="l" t="t" r="r" b="b"/>
            <a:pathLst>
              <a:path w="1776" h="1104">
                <a:moveTo>
                  <a:pt x="240" y="0"/>
                </a:moveTo>
                <a:lnTo>
                  <a:pt x="528" y="48"/>
                </a:lnTo>
                <a:lnTo>
                  <a:pt x="720" y="384"/>
                </a:lnTo>
                <a:lnTo>
                  <a:pt x="1008" y="480"/>
                </a:lnTo>
                <a:lnTo>
                  <a:pt x="1248" y="720"/>
                </a:lnTo>
                <a:lnTo>
                  <a:pt x="1536" y="816"/>
                </a:lnTo>
                <a:lnTo>
                  <a:pt x="1776" y="1056"/>
                </a:lnTo>
                <a:lnTo>
                  <a:pt x="1392" y="1104"/>
                </a:lnTo>
                <a:lnTo>
                  <a:pt x="1392" y="1008"/>
                </a:lnTo>
                <a:lnTo>
                  <a:pt x="1200" y="864"/>
                </a:lnTo>
                <a:lnTo>
                  <a:pt x="960" y="768"/>
                </a:lnTo>
                <a:lnTo>
                  <a:pt x="912" y="624"/>
                </a:lnTo>
                <a:lnTo>
                  <a:pt x="576" y="480"/>
                </a:lnTo>
                <a:lnTo>
                  <a:pt x="432" y="288"/>
                </a:lnTo>
                <a:lnTo>
                  <a:pt x="192" y="96"/>
                </a:lnTo>
                <a:lnTo>
                  <a:pt x="0" y="96"/>
                </a:lnTo>
              </a:path>
            </a:pathLst>
          </a:custGeom>
          <a:solidFill>
            <a:srgbClr val="00ccff"/>
          </a:solidFill>
          <a:ln w="1260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2916360" y="3124080"/>
            <a:ext cx="360360" cy="1676520"/>
            <a:chOff x="2916360" y="3124080"/>
            <a:chExt cx="360360" cy="1676520"/>
          </a:xfrm>
        </p:grpSpPr>
        <p:grpSp>
          <p:nvGrpSpPr>
            <p:cNvPr id="1244" name=""/>
            <p:cNvGrpSpPr/>
            <p:nvPr/>
          </p:nvGrpSpPr>
          <p:grpSpPr>
            <a:xfrm>
              <a:off x="2916360" y="3124080"/>
              <a:ext cx="360360" cy="1676520"/>
              <a:chOff x="2916360" y="3124080"/>
              <a:chExt cx="360360" cy="1676520"/>
            </a:xfrm>
          </p:grpSpPr>
          <p:grpSp>
            <p:nvGrpSpPr>
              <p:cNvPr id="1245" name=""/>
              <p:cNvGrpSpPr/>
              <p:nvPr/>
            </p:nvGrpSpPr>
            <p:grpSpPr>
              <a:xfrm>
                <a:off x="2916360" y="3124080"/>
                <a:ext cx="360360" cy="907920"/>
                <a:chOff x="2916360" y="3124080"/>
                <a:chExt cx="360360" cy="90792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2916360" y="3124080"/>
                  <a:ext cx="360360" cy="907920"/>
                </a:xfrm>
                <a:prstGeom prst="rect">
                  <a:avLst/>
                </a:prstGeom>
                <a:solidFill>
                  <a:srgbClr val="ff8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2970720" y="3146760"/>
                  <a:ext cx="249480" cy="239760"/>
                </a:xfrm>
                <a:custGeom>
                  <a:avLst/>
                  <a:gdLst/>
                  <a:ahLst/>
                  <a:rect l="l" t="t" r="r" b="b"/>
                  <a:pathLst>
                    <a:path w="547" h="496">
                      <a:moveTo>
                        <a:pt x="0" y="171"/>
                      </a:moveTo>
                      <a:lnTo>
                        <a:pt x="1" y="155"/>
                      </a:lnTo>
                      <a:lnTo>
                        <a:pt x="5" y="139"/>
                      </a:lnTo>
                      <a:lnTo>
                        <a:pt x="12" y="124"/>
                      </a:lnTo>
                      <a:lnTo>
                        <a:pt x="21" y="110"/>
                      </a:lnTo>
                      <a:lnTo>
                        <a:pt x="28" y="99"/>
                      </a:lnTo>
                      <a:lnTo>
                        <a:pt x="37" y="88"/>
                      </a:lnTo>
                      <a:lnTo>
                        <a:pt x="48" y="76"/>
                      </a:lnTo>
                      <a:lnTo>
                        <a:pt x="63" y="63"/>
                      </a:lnTo>
                      <a:lnTo>
                        <a:pt x="80" y="52"/>
                      </a:lnTo>
                      <a:lnTo>
                        <a:pt x="102" y="40"/>
                      </a:lnTo>
                      <a:lnTo>
                        <a:pt x="123" y="30"/>
                      </a:lnTo>
                      <a:lnTo>
                        <a:pt x="149" y="21"/>
                      </a:lnTo>
                      <a:lnTo>
                        <a:pt x="172" y="14"/>
                      </a:lnTo>
                      <a:lnTo>
                        <a:pt x="200" y="8"/>
                      </a:lnTo>
                      <a:lnTo>
                        <a:pt x="224" y="4"/>
                      </a:lnTo>
                      <a:lnTo>
                        <a:pt x="244" y="3"/>
                      </a:lnTo>
                      <a:lnTo>
                        <a:pt x="267" y="0"/>
                      </a:lnTo>
                      <a:lnTo>
                        <a:pt x="292" y="0"/>
                      </a:lnTo>
                      <a:lnTo>
                        <a:pt x="310" y="3"/>
                      </a:lnTo>
                      <a:lnTo>
                        <a:pt x="330" y="5"/>
                      </a:lnTo>
                      <a:lnTo>
                        <a:pt x="352" y="9"/>
                      </a:lnTo>
                      <a:lnTo>
                        <a:pt x="372" y="14"/>
                      </a:lnTo>
                      <a:lnTo>
                        <a:pt x="393" y="20"/>
                      </a:lnTo>
                      <a:lnTo>
                        <a:pt x="412" y="27"/>
                      </a:lnTo>
                      <a:lnTo>
                        <a:pt x="432" y="36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1" y="58"/>
                      </a:lnTo>
                      <a:lnTo>
                        <a:pt x="484" y="67"/>
                      </a:lnTo>
                      <a:lnTo>
                        <a:pt x="496" y="77"/>
                      </a:lnTo>
                      <a:lnTo>
                        <a:pt x="508" y="90"/>
                      </a:lnTo>
                      <a:lnTo>
                        <a:pt x="518" y="102"/>
                      </a:lnTo>
                      <a:lnTo>
                        <a:pt x="526" y="113"/>
                      </a:lnTo>
                      <a:lnTo>
                        <a:pt x="533" y="123"/>
                      </a:lnTo>
                      <a:lnTo>
                        <a:pt x="538" y="134"/>
                      </a:lnTo>
                      <a:lnTo>
                        <a:pt x="543" y="145"/>
                      </a:lnTo>
                      <a:lnTo>
                        <a:pt x="547" y="160"/>
                      </a:lnTo>
                      <a:lnTo>
                        <a:pt x="547" y="496"/>
                      </a:lnTo>
                      <a:lnTo>
                        <a:pt x="1" y="494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970720" y="3159720"/>
                  <a:ext cx="249480" cy="239400"/>
                </a:xfrm>
                <a:custGeom>
                  <a:avLst/>
                  <a:gdLst/>
                  <a:ahLst/>
                  <a:rect l="l" t="t" r="r" b="b"/>
                  <a:pathLst>
                    <a:path w="547" h="495">
                      <a:moveTo>
                        <a:pt x="0" y="169"/>
                      </a:moveTo>
                      <a:lnTo>
                        <a:pt x="1" y="155"/>
                      </a:lnTo>
                      <a:lnTo>
                        <a:pt x="5" y="138"/>
                      </a:lnTo>
                      <a:lnTo>
                        <a:pt x="12" y="124"/>
                      </a:lnTo>
                      <a:lnTo>
                        <a:pt x="21" y="109"/>
                      </a:lnTo>
                      <a:lnTo>
                        <a:pt x="28" y="98"/>
                      </a:lnTo>
                      <a:lnTo>
                        <a:pt x="37" y="87"/>
                      </a:lnTo>
                      <a:lnTo>
                        <a:pt x="48" y="75"/>
                      </a:lnTo>
                      <a:lnTo>
                        <a:pt x="63" y="63"/>
                      </a:lnTo>
                      <a:lnTo>
                        <a:pt x="80" y="52"/>
                      </a:lnTo>
                      <a:lnTo>
                        <a:pt x="102" y="40"/>
                      </a:lnTo>
                      <a:lnTo>
                        <a:pt x="123" y="30"/>
                      </a:lnTo>
                      <a:lnTo>
                        <a:pt x="149" y="21"/>
                      </a:lnTo>
                      <a:lnTo>
                        <a:pt x="172" y="13"/>
                      </a:lnTo>
                      <a:lnTo>
                        <a:pt x="200" y="8"/>
                      </a:lnTo>
                      <a:lnTo>
                        <a:pt x="224" y="3"/>
                      </a:lnTo>
                      <a:lnTo>
                        <a:pt x="244" y="2"/>
                      </a:lnTo>
                      <a:lnTo>
                        <a:pt x="267" y="0"/>
                      </a:lnTo>
                      <a:lnTo>
                        <a:pt x="292" y="0"/>
                      </a:lnTo>
                      <a:lnTo>
                        <a:pt x="310" y="2"/>
                      </a:lnTo>
                      <a:lnTo>
                        <a:pt x="330" y="4"/>
                      </a:lnTo>
                      <a:lnTo>
                        <a:pt x="352" y="9"/>
                      </a:lnTo>
                      <a:lnTo>
                        <a:pt x="372" y="13"/>
                      </a:lnTo>
                      <a:lnTo>
                        <a:pt x="393" y="20"/>
                      </a:lnTo>
                      <a:lnTo>
                        <a:pt x="412" y="26"/>
                      </a:lnTo>
                      <a:lnTo>
                        <a:pt x="432" y="35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1" y="57"/>
                      </a:lnTo>
                      <a:lnTo>
                        <a:pt x="484" y="66"/>
                      </a:lnTo>
                      <a:lnTo>
                        <a:pt x="496" y="76"/>
                      </a:lnTo>
                      <a:lnTo>
                        <a:pt x="508" y="89"/>
                      </a:lnTo>
                      <a:lnTo>
                        <a:pt x="518" y="102"/>
                      </a:lnTo>
                      <a:lnTo>
                        <a:pt x="526" y="113"/>
                      </a:lnTo>
                      <a:lnTo>
                        <a:pt x="533" y="123"/>
                      </a:lnTo>
                      <a:lnTo>
                        <a:pt x="538" y="134"/>
                      </a:lnTo>
                      <a:lnTo>
                        <a:pt x="543" y="145"/>
                      </a:lnTo>
                      <a:lnTo>
                        <a:pt x="547" y="158"/>
                      </a:lnTo>
                      <a:lnTo>
                        <a:pt x="547" y="495"/>
                      </a:lnTo>
                      <a:lnTo>
                        <a:pt x="1" y="493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e07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2987280" y="3170160"/>
                  <a:ext cx="212760" cy="226080"/>
                </a:xfrm>
                <a:prstGeom prst="ellipse">
                  <a:avLst/>
                </a:prstGeom>
                <a:solidFill>
                  <a:srgbClr val="ff404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0" name=""/>
                <p:cNvGrpSpPr/>
                <p:nvPr/>
              </p:nvGrpSpPr>
              <p:grpSpPr>
                <a:xfrm>
                  <a:off x="3107520" y="3192480"/>
                  <a:ext cx="37800" cy="36000"/>
                  <a:chOff x="3107520" y="3192480"/>
                  <a:chExt cx="37800" cy="36000"/>
                </a:xfrm>
              </p:grpSpPr>
              <p:sp>
                <p:nvSpPr>
                  <p:cNvPr id="1251" name=""/>
                  <p:cNvSpPr/>
                  <p:nvPr/>
                </p:nvSpPr>
                <p:spPr>
                  <a:xfrm>
                    <a:off x="3107520" y="3192480"/>
                    <a:ext cx="24480" cy="25920"/>
                  </a:xfrm>
                  <a:prstGeom prst="ellipse">
                    <a:avLst/>
                  </a:prstGeom>
                  <a:solidFill>
                    <a:srgbClr val="ff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3126240" y="3207600"/>
                    <a:ext cx="19080" cy="20880"/>
                  </a:xfrm>
                  <a:prstGeom prst="ellipse">
                    <a:avLst/>
                  </a:prstGeom>
                  <a:solidFill>
                    <a:srgbClr val="ff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3" name=""/>
                <p:cNvSpPr/>
                <p:nvPr/>
              </p:nvSpPr>
              <p:spPr>
                <a:xfrm>
                  <a:off x="2964240" y="3450600"/>
                  <a:ext cx="249480" cy="238680"/>
                </a:xfrm>
                <a:custGeom>
                  <a:avLst/>
                  <a:gdLst/>
                  <a:ahLst/>
                  <a:rect l="l" t="t" r="r" b="b"/>
                  <a:pathLst>
                    <a:path w="548" h="496">
                      <a:moveTo>
                        <a:pt x="0" y="171"/>
                      </a:moveTo>
                      <a:lnTo>
                        <a:pt x="1" y="155"/>
                      </a:lnTo>
                      <a:lnTo>
                        <a:pt x="6" y="139"/>
                      </a:lnTo>
                      <a:lnTo>
                        <a:pt x="12" y="124"/>
                      </a:lnTo>
                      <a:lnTo>
                        <a:pt x="21" y="110"/>
                      </a:lnTo>
                      <a:lnTo>
                        <a:pt x="29" y="99"/>
                      </a:lnTo>
                      <a:lnTo>
                        <a:pt x="38" y="88"/>
                      </a:lnTo>
                      <a:lnTo>
                        <a:pt x="49" y="75"/>
                      </a:lnTo>
                      <a:lnTo>
                        <a:pt x="63" y="63"/>
                      </a:lnTo>
                      <a:lnTo>
                        <a:pt x="81" y="52"/>
                      </a:lnTo>
                      <a:lnTo>
                        <a:pt x="103" y="40"/>
                      </a:lnTo>
                      <a:lnTo>
                        <a:pt x="124" y="30"/>
                      </a:lnTo>
                      <a:lnTo>
                        <a:pt x="150" y="21"/>
                      </a:lnTo>
                      <a:lnTo>
                        <a:pt x="174" y="14"/>
                      </a:lnTo>
                      <a:lnTo>
                        <a:pt x="200" y="8"/>
                      </a:lnTo>
                      <a:lnTo>
                        <a:pt x="225" y="4"/>
                      </a:lnTo>
                      <a:lnTo>
                        <a:pt x="245" y="3"/>
                      </a:lnTo>
                      <a:lnTo>
                        <a:pt x="268" y="0"/>
                      </a:lnTo>
                      <a:lnTo>
                        <a:pt x="292" y="0"/>
                      </a:lnTo>
                      <a:lnTo>
                        <a:pt x="311" y="3"/>
                      </a:lnTo>
                      <a:lnTo>
                        <a:pt x="331" y="5"/>
                      </a:lnTo>
                      <a:lnTo>
                        <a:pt x="353" y="9"/>
                      </a:lnTo>
                      <a:lnTo>
                        <a:pt x="373" y="14"/>
                      </a:lnTo>
                      <a:lnTo>
                        <a:pt x="394" y="20"/>
                      </a:lnTo>
                      <a:lnTo>
                        <a:pt x="413" y="27"/>
                      </a:lnTo>
                      <a:lnTo>
                        <a:pt x="433" y="36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1" y="58"/>
                      </a:lnTo>
                      <a:lnTo>
                        <a:pt x="485" y="67"/>
                      </a:lnTo>
                      <a:lnTo>
                        <a:pt x="497" y="77"/>
                      </a:lnTo>
                      <a:lnTo>
                        <a:pt x="509" y="90"/>
                      </a:lnTo>
                      <a:lnTo>
                        <a:pt x="519" y="102"/>
                      </a:lnTo>
                      <a:lnTo>
                        <a:pt x="527" y="113"/>
                      </a:lnTo>
                      <a:lnTo>
                        <a:pt x="533" y="123"/>
                      </a:lnTo>
                      <a:lnTo>
                        <a:pt x="539" y="134"/>
                      </a:lnTo>
                      <a:lnTo>
                        <a:pt x="543" y="145"/>
                      </a:lnTo>
                      <a:lnTo>
                        <a:pt x="548" y="160"/>
                      </a:lnTo>
                      <a:lnTo>
                        <a:pt x="548" y="496"/>
                      </a:lnTo>
                      <a:lnTo>
                        <a:pt x="1" y="493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965320" y="3460320"/>
                  <a:ext cx="248400" cy="239760"/>
                </a:xfrm>
                <a:custGeom>
                  <a:avLst/>
                  <a:gdLst/>
                  <a:ahLst/>
                  <a:rect l="l" t="t" r="r" b="b"/>
                  <a:pathLst>
                    <a:path w="548" h="496">
                      <a:moveTo>
                        <a:pt x="0" y="171"/>
                      </a:moveTo>
                      <a:lnTo>
                        <a:pt x="1" y="155"/>
                      </a:lnTo>
                      <a:lnTo>
                        <a:pt x="6" y="139"/>
                      </a:lnTo>
                      <a:lnTo>
                        <a:pt x="12" y="124"/>
                      </a:lnTo>
                      <a:lnTo>
                        <a:pt x="21" y="110"/>
                      </a:lnTo>
                      <a:lnTo>
                        <a:pt x="29" y="99"/>
                      </a:lnTo>
                      <a:lnTo>
                        <a:pt x="38" y="88"/>
                      </a:lnTo>
                      <a:lnTo>
                        <a:pt x="49" y="75"/>
                      </a:lnTo>
                      <a:lnTo>
                        <a:pt x="63" y="63"/>
                      </a:lnTo>
                      <a:lnTo>
                        <a:pt x="81" y="52"/>
                      </a:lnTo>
                      <a:lnTo>
                        <a:pt x="103" y="40"/>
                      </a:lnTo>
                      <a:lnTo>
                        <a:pt x="124" y="30"/>
                      </a:lnTo>
                      <a:lnTo>
                        <a:pt x="150" y="21"/>
                      </a:lnTo>
                      <a:lnTo>
                        <a:pt x="174" y="14"/>
                      </a:lnTo>
                      <a:lnTo>
                        <a:pt x="201" y="8"/>
                      </a:lnTo>
                      <a:lnTo>
                        <a:pt x="225" y="4"/>
                      </a:lnTo>
                      <a:lnTo>
                        <a:pt x="245" y="3"/>
                      </a:lnTo>
                      <a:lnTo>
                        <a:pt x="268" y="0"/>
                      </a:lnTo>
                      <a:lnTo>
                        <a:pt x="292" y="0"/>
                      </a:lnTo>
                      <a:lnTo>
                        <a:pt x="311" y="3"/>
                      </a:lnTo>
                      <a:lnTo>
                        <a:pt x="331" y="5"/>
                      </a:lnTo>
                      <a:lnTo>
                        <a:pt x="353" y="9"/>
                      </a:lnTo>
                      <a:lnTo>
                        <a:pt x="373" y="14"/>
                      </a:lnTo>
                      <a:lnTo>
                        <a:pt x="394" y="20"/>
                      </a:lnTo>
                      <a:lnTo>
                        <a:pt x="413" y="27"/>
                      </a:lnTo>
                      <a:lnTo>
                        <a:pt x="433" y="36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2" y="58"/>
                      </a:lnTo>
                      <a:lnTo>
                        <a:pt x="485" y="67"/>
                      </a:lnTo>
                      <a:lnTo>
                        <a:pt x="497" y="77"/>
                      </a:lnTo>
                      <a:lnTo>
                        <a:pt x="509" y="90"/>
                      </a:lnTo>
                      <a:lnTo>
                        <a:pt x="519" y="102"/>
                      </a:lnTo>
                      <a:lnTo>
                        <a:pt x="527" y="113"/>
                      </a:lnTo>
                      <a:lnTo>
                        <a:pt x="534" y="123"/>
                      </a:lnTo>
                      <a:lnTo>
                        <a:pt x="539" y="134"/>
                      </a:lnTo>
                      <a:lnTo>
                        <a:pt x="543" y="145"/>
                      </a:lnTo>
                      <a:lnTo>
                        <a:pt x="548" y="160"/>
                      </a:lnTo>
                      <a:lnTo>
                        <a:pt x="548" y="496"/>
                      </a:lnTo>
                      <a:lnTo>
                        <a:pt x="1" y="493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e07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981520" y="3470040"/>
                  <a:ext cx="212760" cy="227160"/>
                </a:xfrm>
                <a:prstGeom prst="ellipse">
                  <a:avLst/>
                </a:prstGeom>
                <a:solidFill>
                  <a:srgbClr val="e0e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6" name=""/>
                <p:cNvGrpSpPr/>
                <p:nvPr/>
              </p:nvGrpSpPr>
              <p:grpSpPr>
                <a:xfrm>
                  <a:off x="3101760" y="3492360"/>
                  <a:ext cx="37800" cy="36000"/>
                  <a:chOff x="3101760" y="3492360"/>
                  <a:chExt cx="37800" cy="36000"/>
                </a:xfrm>
              </p:grpSpPr>
              <p:sp>
                <p:nvSpPr>
                  <p:cNvPr id="1257" name=""/>
                  <p:cNvSpPr/>
                  <p:nvPr/>
                </p:nvSpPr>
                <p:spPr>
                  <a:xfrm>
                    <a:off x="3101760" y="3492360"/>
                    <a:ext cx="24480" cy="25920"/>
                  </a:xfrm>
                  <a:prstGeom prst="ellipse">
                    <a:avLst/>
                  </a:prstGeom>
                  <a:solidFill>
                    <a:srgbClr val="ffff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3120840" y="3508560"/>
                    <a:ext cx="18720" cy="19800"/>
                  </a:xfrm>
                  <a:prstGeom prst="ellipse">
                    <a:avLst/>
                  </a:prstGeom>
                  <a:solidFill>
                    <a:srgbClr val="ffff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9" name=""/>
                <p:cNvGrpSpPr/>
                <p:nvPr/>
              </p:nvGrpSpPr>
              <p:grpSpPr>
                <a:xfrm>
                  <a:off x="2970720" y="3736800"/>
                  <a:ext cx="249480" cy="247320"/>
                  <a:chOff x="2970720" y="3736800"/>
                  <a:chExt cx="249480" cy="247320"/>
                </a:xfrm>
              </p:grpSpPr>
              <p:sp>
                <p:nvSpPr>
                  <p:cNvPr id="1260" name=""/>
                  <p:cNvSpPr/>
                  <p:nvPr/>
                </p:nvSpPr>
                <p:spPr>
                  <a:xfrm>
                    <a:off x="2970720" y="3736800"/>
                    <a:ext cx="24948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8" h="494">
                        <a:moveTo>
                          <a:pt x="0" y="169"/>
                        </a:moveTo>
                        <a:lnTo>
                          <a:pt x="2" y="154"/>
                        </a:lnTo>
                        <a:lnTo>
                          <a:pt x="6" y="137"/>
                        </a:lnTo>
                        <a:lnTo>
                          <a:pt x="13" y="123"/>
                        </a:lnTo>
                        <a:lnTo>
                          <a:pt x="21" y="108"/>
                        </a:lnTo>
                        <a:lnTo>
                          <a:pt x="29" y="97"/>
                        </a:lnTo>
                        <a:lnTo>
                          <a:pt x="38" y="86"/>
                        </a:lnTo>
                        <a:lnTo>
                          <a:pt x="49" y="74"/>
                        </a:lnTo>
                        <a:lnTo>
                          <a:pt x="63" y="63"/>
                        </a:lnTo>
                        <a:lnTo>
                          <a:pt x="81" y="52"/>
                        </a:lnTo>
                        <a:lnTo>
                          <a:pt x="103" y="40"/>
                        </a:lnTo>
                        <a:lnTo>
                          <a:pt x="124" y="30"/>
                        </a:lnTo>
                        <a:lnTo>
                          <a:pt x="150" y="21"/>
                        </a:lnTo>
                        <a:lnTo>
                          <a:pt x="174" y="13"/>
                        </a:lnTo>
                        <a:lnTo>
                          <a:pt x="201" y="8"/>
                        </a:lnTo>
                        <a:lnTo>
                          <a:pt x="225" y="3"/>
                        </a:lnTo>
                        <a:lnTo>
                          <a:pt x="245" y="2"/>
                        </a:lnTo>
                        <a:lnTo>
                          <a:pt x="268" y="0"/>
                        </a:lnTo>
                        <a:lnTo>
                          <a:pt x="293" y="0"/>
                        </a:lnTo>
                        <a:lnTo>
                          <a:pt x="311" y="2"/>
                        </a:lnTo>
                        <a:lnTo>
                          <a:pt x="331" y="4"/>
                        </a:lnTo>
                        <a:lnTo>
                          <a:pt x="353" y="9"/>
                        </a:lnTo>
                        <a:lnTo>
                          <a:pt x="373" y="13"/>
                        </a:lnTo>
                        <a:lnTo>
                          <a:pt x="394" y="20"/>
                        </a:lnTo>
                        <a:lnTo>
                          <a:pt x="413" y="26"/>
                        </a:lnTo>
                        <a:lnTo>
                          <a:pt x="433" y="35"/>
                        </a:lnTo>
                        <a:lnTo>
                          <a:pt x="447" y="42"/>
                        </a:lnTo>
                        <a:lnTo>
                          <a:pt x="460" y="50"/>
                        </a:lnTo>
                        <a:lnTo>
                          <a:pt x="472" y="57"/>
                        </a:lnTo>
                        <a:lnTo>
                          <a:pt x="485" y="66"/>
                        </a:lnTo>
                        <a:lnTo>
                          <a:pt x="497" y="75"/>
                        </a:lnTo>
                        <a:lnTo>
                          <a:pt x="509" y="88"/>
                        </a:lnTo>
                        <a:lnTo>
                          <a:pt x="519" y="101"/>
                        </a:lnTo>
                        <a:lnTo>
                          <a:pt x="527" y="112"/>
                        </a:lnTo>
                        <a:lnTo>
                          <a:pt x="534" y="122"/>
                        </a:lnTo>
                        <a:lnTo>
                          <a:pt x="539" y="133"/>
                        </a:lnTo>
                        <a:lnTo>
                          <a:pt x="544" y="144"/>
                        </a:lnTo>
                        <a:lnTo>
                          <a:pt x="548" y="158"/>
                        </a:lnTo>
                        <a:lnTo>
                          <a:pt x="548" y="494"/>
                        </a:lnTo>
                        <a:lnTo>
                          <a:pt x="2" y="492"/>
                        </a:lnTo>
                        <a:lnTo>
                          <a:pt x="0" y="169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61" name=""/>
                  <p:cNvGrpSpPr/>
                  <p:nvPr/>
                </p:nvGrpSpPr>
                <p:grpSpPr>
                  <a:xfrm>
                    <a:off x="2970720" y="3745440"/>
                    <a:ext cx="249480" cy="238680"/>
                    <a:chOff x="2970720" y="3745440"/>
                    <a:chExt cx="249480" cy="238680"/>
                  </a:xfrm>
                </p:grpSpPr>
                <p:sp>
                  <p:nvSpPr>
                    <p:cNvPr id="1262" name=""/>
                    <p:cNvSpPr/>
                    <p:nvPr/>
                  </p:nvSpPr>
                  <p:spPr>
                    <a:xfrm>
                      <a:off x="2970720" y="3745440"/>
                      <a:ext cx="249480" cy="23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7" h="494">
                          <a:moveTo>
                            <a:pt x="0" y="169"/>
                          </a:moveTo>
                          <a:lnTo>
                            <a:pt x="1" y="153"/>
                          </a:lnTo>
                          <a:lnTo>
                            <a:pt x="5" y="137"/>
                          </a:lnTo>
                          <a:lnTo>
                            <a:pt x="12" y="122"/>
                          </a:lnTo>
                          <a:lnTo>
                            <a:pt x="21" y="108"/>
                          </a:lnTo>
                          <a:lnTo>
                            <a:pt x="28" y="97"/>
                          </a:lnTo>
                          <a:lnTo>
                            <a:pt x="37" y="86"/>
                          </a:lnTo>
                          <a:lnTo>
                            <a:pt x="48" y="74"/>
                          </a:lnTo>
                          <a:lnTo>
                            <a:pt x="63" y="62"/>
                          </a:lnTo>
                          <a:lnTo>
                            <a:pt x="80" y="50"/>
                          </a:lnTo>
                          <a:lnTo>
                            <a:pt x="102" y="39"/>
                          </a:lnTo>
                          <a:lnTo>
                            <a:pt x="123" y="29"/>
                          </a:lnTo>
                          <a:lnTo>
                            <a:pt x="149" y="21"/>
                          </a:lnTo>
                          <a:lnTo>
                            <a:pt x="172" y="13"/>
                          </a:lnTo>
                          <a:lnTo>
                            <a:pt x="200" y="7"/>
                          </a:lnTo>
                          <a:lnTo>
                            <a:pt x="224" y="3"/>
                          </a:lnTo>
                          <a:lnTo>
                            <a:pt x="244" y="2"/>
                          </a:lnTo>
                          <a:lnTo>
                            <a:pt x="267" y="0"/>
                          </a:lnTo>
                          <a:lnTo>
                            <a:pt x="292" y="0"/>
                          </a:lnTo>
                          <a:lnTo>
                            <a:pt x="310" y="2"/>
                          </a:lnTo>
                          <a:lnTo>
                            <a:pt x="330" y="4"/>
                          </a:lnTo>
                          <a:lnTo>
                            <a:pt x="352" y="8"/>
                          </a:lnTo>
                          <a:lnTo>
                            <a:pt x="372" y="13"/>
                          </a:lnTo>
                          <a:lnTo>
                            <a:pt x="393" y="20"/>
                          </a:lnTo>
                          <a:lnTo>
                            <a:pt x="412" y="26"/>
                          </a:lnTo>
                          <a:lnTo>
                            <a:pt x="432" y="35"/>
                          </a:lnTo>
                          <a:lnTo>
                            <a:pt x="447" y="42"/>
                          </a:lnTo>
                          <a:lnTo>
                            <a:pt x="459" y="49"/>
                          </a:lnTo>
                          <a:lnTo>
                            <a:pt x="471" y="56"/>
                          </a:lnTo>
                          <a:lnTo>
                            <a:pt x="484" y="65"/>
                          </a:lnTo>
                          <a:lnTo>
                            <a:pt x="496" y="75"/>
                          </a:lnTo>
                          <a:lnTo>
                            <a:pt x="508" y="88"/>
                          </a:lnTo>
                          <a:lnTo>
                            <a:pt x="518" y="100"/>
                          </a:lnTo>
                          <a:lnTo>
                            <a:pt x="526" y="111"/>
                          </a:lnTo>
                          <a:lnTo>
                            <a:pt x="533" y="121"/>
                          </a:lnTo>
                          <a:lnTo>
                            <a:pt x="538" y="132"/>
                          </a:lnTo>
                          <a:lnTo>
                            <a:pt x="543" y="143"/>
                          </a:lnTo>
                          <a:lnTo>
                            <a:pt x="547" y="158"/>
                          </a:lnTo>
                          <a:lnTo>
                            <a:pt x="547" y="494"/>
                          </a:lnTo>
                          <a:lnTo>
                            <a:pt x="1" y="492"/>
                          </a:lnTo>
                          <a:lnTo>
                            <a:pt x="0" y="169"/>
                          </a:lnTo>
                          <a:close/>
                        </a:path>
                      </a:pathLst>
                    </a:cu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3" name=""/>
                    <p:cNvSpPr/>
                    <p:nvPr/>
                  </p:nvSpPr>
                  <p:spPr>
                    <a:xfrm>
                      <a:off x="2986920" y="3754800"/>
                      <a:ext cx="212760" cy="22608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64" name=""/>
                    <p:cNvGrpSpPr/>
                    <p:nvPr/>
                  </p:nvGrpSpPr>
                  <p:grpSpPr>
                    <a:xfrm>
                      <a:off x="3107160" y="3776040"/>
                      <a:ext cx="37800" cy="37080"/>
                      <a:chOff x="3107160" y="3776040"/>
                      <a:chExt cx="37800" cy="37080"/>
                    </a:xfrm>
                  </p:grpSpPr>
                  <p:sp>
                    <p:nvSpPr>
                      <p:cNvPr id="1265" name=""/>
                      <p:cNvSpPr/>
                      <p:nvPr/>
                    </p:nvSpPr>
                    <p:spPr>
                      <a:xfrm>
                        <a:off x="3107160" y="3776040"/>
                        <a:ext cx="24480" cy="27000"/>
                      </a:xfrm>
                      <a:prstGeom prst="ellipse">
                        <a:avLst/>
                      </a:prstGeom>
                      <a:solidFill>
                        <a:srgbClr val="80f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6" name=""/>
                      <p:cNvSpPr/>
                      <p:nvPr/>
                    </p:nvSpPr>
                    <p:spPr>
                      <a:xfrm>
                        <a:off x="3125880" y="3792240"/>
                        <a:ext cx="19080" cy="20880"/>
                      </a:xfrm>
                      <a:prstGeom prst="ellipse">
                        <a:avLst/>
                      </a:prstGeom>
                      <a:solidFill>
                        <a:srgbClr val="80f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267" name=""/>
              <p:cNvSpPr/>
              <p:nvPr/>
            </p:nvSpPr>
            <p:spPr>
              <a:xfrm>
                <a:off x="3057840" y="4038480"/>
                <a:ext cx="74520" cy="762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>
              <a:off x="2986200" y="31654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975040" y="34624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5410080" y="3124080"/>
            <a:ext cx="360360" cy="1676520"/>
            <a:chOff x="5410080" y="3124080"/>
            <a:chExt cx="360360" cy="1676520"/>
          </a:xfrm>
        </p:grpSpPr>
        <p:grpSp>
          <p:nvGrpSpPr>
            <p:cNvPr id="1271" name=""/>
            <p:cNvGrpSpPr/>
            <p:nvPr/>
          </p:nvGrpSpPr>
          <p:grpSpPr>
            <a:xfrm>
              <a:off x="5410080" y="3124080"/>
              <a:ext cx="360360" cy="1676520"/>
              <a:chOff x="5410080" y="3124080"/>
              <a:chExt cx="360360" cy="1676520"/>
            </a:xfrm>
          </p:grpSpPr>
          <p:grpSp>
            <p:nvGrpSpPr>
              <p:cNvPr id="1272" name=""/>
              <p:cNvGrpSpPr/>
              <p:nvPr/>
            </p:nvGrpSpPr>
            <p:grpSpPr>
              <a:xfrm>
                <a:off x="5410080" y="3124080"/>
                <a:ext cx="360360" cy="907920"/>
                <a:chOff x="5410080" y="3124080"/>
                <a:chExt cx="360360" cy="90792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5410080" y="3124080"/>
                  <a:ext cx="360360" cy="907920"/>
                </a:xfrm>
                <a:prstGeom prst="rect">
                  <a:avLst/>
                </a:prstGeom>
                <a:solidFill>
                  <a:srgbClr val="ff8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464440" y="3146760"/>
                  <a:ext cx="249480" cy="239760"/>
                </a:xfrm>
                <a:custGeom>
                  <a:avLst/>
                  <a:gdLst/>
                  <a:ahLst/>
                  <a:rect l="l" t="t" r="r" b="b"/>
                  <a:pathLst>
                    <a:path w="547" h="496">
                      <a:moveTo>
                        <a:pt x="0" y="171"/>
                      </a:moveTo>
                      <a:lnTo>
                        <a:pt x="1" y="155"/>
                      </a:lnTo>
                      <a:lnTo>
                        <a:pt x="5" y="139"/>
                      </a:lnTo>
                      <a:lnTo>
                        <a:pt x="12" y="124"/>
                      </a:lnTo>
                      <a:lnTo>
                        <a:pt x="21" y="110"/>
                      </a:lnTo>
                      <a:lnTo>
                        <a:pt x="28" y="99"/>
                      </a:lnTo>
                      <a:lnTo>
                        <a:pt x="37" y="88"/>
                      </a:lnTo>
                      <a:lnTo>
                        <a:pt x="48" y="76"/>
                      </a:lnTo>
                      <a:lnTo>
                        <a:pt x="63" y="63"/>
                      </a:lnTo>
                      <a:lnTo>
                        <a:pt x="80" y="52"/>
                      </a:lnTo>
                      <a:lnTo>
                        <a:pt x="102" y="40"/>
                      </a:lnTo>
                      <a:lnTo>
                        <a:pt x="123" y="30"/>
                      </a:lnTo>
                      <a:lnTo>
                        <a:pt x="149" y="21"/>
                      </a:lnTo>
                      <a:lnTo>
                        <a:pt x="172" y="14"/>
                      </a:lnTo>
                      <a:lnTo>
                        <a:pt x="200" y="8"/>
                      </a:lnTo>
                      <a:lnTo>
                        <a:pt x="224" y="4"/>
                      </a:lnTo>
                      <a:lnTo>
                        <a:pt x="244" y="3"/>
                      </a:lnTo>
                      <a:lnTo>
                        <a:pt x="267" y="0"/>
                      </a:lnTo>
                      <a:lnTo>
                        <a:pt x="292" y="0"/>
                      </a:lnTo>
                      <a:lnTo>
                        <a:pt x="310" y="3"/>
                      </a:lnTo>
                      <a:lnTo>
                        <a:pt x="330" y="5"/>
                      </a:lnTo>
                      <a:lnTo>
                        <a:pt x="352" y="9"/>
                      </a:lnTo>
                      <a:lnTo>
                        <a:pt x="372" y="14"/>
                      </a:lnTo>
                      <a:lnTo>
                        <a:pt x="393" y="20"/>
                      </a:lnTo>
                      <a:lnTo>
                        <a:pt x="412" y="27"/>
                      </a:lnTo>
                      <a:lnTo>
                        <a:pt x="432" y="36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1" y="58"/>
                      </a:lnTo>
                      <a:lnTo>
                        <a:pt x="484" y="67"/>
                      </a:lnTo>
                      <a:lnTo>
                        <a:pt x="496" y="77"/>
                      </a:lnTo>
                      <a:lnTo>
                        <a:pt x="508" y="90"/>
                      </a:lnTo>
                      <a:lnTo>
                        <a:pt x="518" y="102"/>
                      </a:lnTo>
                      <a:lnTo>
                        <a:pt x="526" y="113"/>
                      </a:lnTo>
                      <a:lnTo>
                        <a:pt x="533" y="123"/>
                      </a:lnTo>
                      <a:lnTo>
                        <a:pt x="538" y="134"/>
                      </a:lnTo>
                      <a:lnTo>
                        <a:pt x="543" y="145"/>
                      </a:lnTo>
                      <a:lnTo>
                        <a:pt x="547" y="160"/>
                      </a:lnTo>
                      <a:lnTo>
                        <a:pt x="547" y="496"/>
                      </a:lnTo>
                      <a:lnTo>
                        <a:pt x="1" y="494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464440" y="3159720"/>
                  <a:ext cx="249480" cy="239400"/>
                </a:xfrm>
                <a:custGeom>
                  <a:avLst/>
                  <a:gdLst/>
                  <a:ahLst/>
                  <a:rect l="l" t="t" r="r" b="b"/>
                  <a:pathLst>
                    <a:path w="547" h="495">
                      <a:moveTo>
                        <a:pt x="0" y="169"/>
                      </a:moveTo>
                      <a:lnTo>
                        <a:pt x="1" y="155"/>
                      </a:lnTo>
                      <a:lnTo>
                        <a:pt x="5" y="138"/>
                      </a:lnTo>
                      <a:lnTo>
                        <a:pt x="12" y="124"/>
                      </a:lnTo>
                      <a:lnTo>
                        <a:pt x="21" y="109"/>
                      </a:lnTo>
                      <a:lnTo>
                        <a:pt x="28" y="98"/>
                      </a:lnTo>
                      <a:lnTo>
                        <a:pt x="37" y="87"/>
                      </a:lnTo>
                      <a:lnTo>
                        <a:pt x="48" y="75"/>
                      </a:lnTo>
                      <a:lnTo>
                        <a:pt x="63" y="63"/>
                      </a:lnTo>
                      <a:lnTo>
                        <a:pt x="80" y="52"/>
                      </a:lnTo>
                      <a:lnTo>
                        <a:pt x="102" y="40"/>
                      </a:lnTo>
                      <a:lnTo>
                        <a:pt x="123" y="30"/>
                      </a:lnTo>
                      <a:lnTo>
                        <a:pt x="149" y="21"/>
                      </a:lnTo>
                      <a:lnTo>
                        <a:pt x="172" y="13"/>
                      </a:lnTo>
                      <a:lnTo>
                        <a:pt x="200" y="8"/>
                      </a:lnTo>
                      <a:lnTo>
                        <a:pt x="224" y="3"/>
                      </a:lnTo>
                      <a:lnTo>
                        <a:pt x="244" y="2"/>
                      </a:lnTo>
                      <a:lnTo>
                        <a:pt x="267" y="0"/>
                      </a:lnTo>
                      <a:lnTo>
                        <a:pt x="292" y="0"/>
                      </a:lnTo>
                      <a:lnTo>
                        <a:pt x="310" y="2"/>
                      </a:lnTo>
                      <a:lnTo>
                        <a:pt x="330" y="4"/>
                      </a:lnTo>
                      <a:lnTo>
                        <a:pt x="352" y="9"/>
                      </a:lnTo>
                      <a:lnTo>
                        <a:pt x="372" y="13"/>
                      </a:lnTo>
                      <a:lnTo>
                        <a:pt x="393" y="20"/>
                      </a:lnTo>
                      <a:lnTo>
                        <a:pt x="412" y="26"/>
                      </a:lnTo>
                      <a:lnTo>
                        <a:pt x="432" y="35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1" y="57"/>
                      </a:lnTo>
                      <a:lnTo>
                        <a:pt x="484" y="66"/>
                      </a:lnTo>
                      <a:lnTo>
                        <a:pt x="496" y="76"/>
                      </a:lnTo>
                      <a:lnTo>
                        <a:pt x="508" y="89"/>
                      </a:lnTo>
                      <a:lnTo>
                        <a:pt x="518" y="102"/>
                      </a:lnTo>
                      <a:lnTo>
                        <a:pt x="526" y="113"/>
                      </a:lnTo>
                      <a:lnTo>
                        <a:pt x="533" y="123"/>
                      </a:lnTo>
                      <a:lnTo>
                        <a:pt x="538" y="134"/>
                      </a:lnTo>
                      <a:lnTo>
                        <a:pt x="543" y="145"/>
                      </a:lnTo>
                      <a:lnTo>
                        <a:pt x="547" y="158"/>
                      </a:lnTo>
                      <a:lnTo>
                        <a:pt x="547" y="495"/>
                      </a:lnTo>
                      <a:lnTo>
                        <a:pt x="1" y="493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e07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481000" y="3170160"/>
                  <a:ext cx="212760" cy="226080"/>
                </a:xfrm>
                <a:prstGeom prst="ellipse">
                  <a:avLst/>
                </a:prstGeom>
                <a:solidFill>
                  <a:srgbClr val="ff404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7" name=""/>
                <p:cNvGrpSpPr/>
                <p:nvPr/>
              </p:nvGrpSpPr>
              <p:grpSpPr>
                <a:xfrm>
                  <a:off x="5601240" y="3192480"/>
                  <a:ext cx="37800" cy="36000"/>
                  <a:chOff x="5601240" y="3192480"/>
                  <a:chExt cx="37800" cy="36000"/>
                </a:xfrm>
              </p:grpSpPr>
              <p:sp>
                <p:nvSpPr>
                  <p:cNvPr id="1278" name=""/>
                  <p:cNvSpPr/>
                  <p:nvPr/>
                </p:nvSpPr>
                <p:spPr>
                  <a:xfrm>
                    <a:off x="5601240" y="3192480"/>
                    <a:ext cx="24480" cy="25920"/>
                  </a:xfrm>
                  <a:prstGeom prst="ellipse">
                    <a:avLst/>
                  </a:prstGeom>
                  <a:solidFill>
                    <a:srgbClr val="ff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5619960" y="3207600"/>
                    <a:ext cx="19080" cy="20880"/>
                  </a:xfrm>
                  <a:prstGeom prst="ellipse">
                    <a:avLst/>
                  </a:prstGeom>
                  <a:solidFill>
                    <a:srgbClr val="ff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0" name=""/>
                <p:cNvSpPr/>
                <p:nvPr/>
              </p:nvSpPr>
              <p:spPr>
                <a:xfrm>
                  <a:off x="5457960" y="3450600"/>
                  <a:ext cx="249480" cy="238680"/>
                </a:xfrm>
                <a:custGeom>
                  <a:avLst/>
                  <a:gdLst/>
                  <a:ahLst/>
                  <a:rect l="l" t="t" r="r" b="b"/>
                  <a:pathLst>
                    <a:path w="548" h="496">
                      <a:moveTo>
                        <a:pt x="0" y="171"/>
                      </a:moveTo>
                      <a:lnTo>
                        <a:pt x="1" y="155"/>
                      </a:lnTo>
                      <a:lnTo>
                        <a:pt x="6" y="139"/>
                      </a:lnTo>
                      <a:lnTo>
                        <a:pt x="12" y="124"/>
                      </a:lnTo>
                      <a:lnTo>
                        <a:pt x="21" y="110"/>
                      </a:lnTo>
                      <a:lnTo>
                        <a:pt x="29" y="99"/>
                      </a:lnTo>
                      <a:lnTo>
                        <a:pt x="38" y="88"/>
                      </a:lnTo>
                      <a:lnTo>
                        <a:pt x="49" y="75"/>
                      </a:lnTo>
                      <a:lnTo>
                        <a:pt x="63" y="63"/>
                      </a:lnTo>
                      <a:lnTo>
                        <a:pt x="81" y="52"/>
                      </a:lnTo>
                      <a:lnTo>
                        <a:pt x="103" y="40"/>
                      </a:lnTo>
                      <a:lnTo>
                        <a:pt x="124" y="30"/>
                      </a:lnTo>
                      <a:lnTo>
                        <a:pt x="150" y="21"/>
                      </a:lnTo>
                      <a:lnTo>
                        <a:pt x="174" y="14"/>
                      </a:lnTo>
                      <a:lnTo>
                        <a:pt x="200" y="8"/>
                      </a:lnTo>
                      <a:lnTo>
                        <a:pt x="225" y="4"/>
                      </a:lnTo>
                      <a:lnTo>
                        <a:pt x="245" y="3"/>
                      </a:lnTo>
                      <a:lnTo>
                        <a:pt x="268" y="0"/>
                      </a:lnTo>
                      <a:lnTo>
                        <a:pt x="292" y="0"/>
                      </a:lnTo>
                      <a:lnTo>
                        <a:pt x="311" y="3"/>
                      </a:lnTo>
                      <a:lnTo>
                        <a:pt x="331" y="5"/>
                      </a:lnTo>
                      <a:lnTo>
                        <a:pt x="353" y="9"/>
                      </a:lnTo>
                      <a:lnTo>
                        <a:pt x="373" y="14"/>
                      </a:lnTo>
                      <a:lnTo>
                        <a:pt x="394" y="20"/>
                      </a:lnTo>
                      <a:lnTo>
                        <a:pt x="413" y="27"/>
                      </a:lnTo>
                      <a:lnTo>
                        <a:pt x="433" y="36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1" y="58"/>
                      </a:lnTo>
                      <a:lnTo>
                        <a:pt x="485" y="67"/>
                      </a:lnTo>
                      <a:lnTo>
                        <a:pt x="497" y="77"/>
                      </a:lnTo>
                      <a:lnTo>
                        <a:pt x="509" y="90"/>
                      </a:lnTo>
                      <a:lnTo>
                        <a:pt x="519" y="102"/>
                      </a:lnTo>
                      <a:lnTo>
                        <a:pt x="527" y="113"/>
                      </a:lnTo>
                      <a:lnTo>
                        <a:pt x="533" y="123"/>
                      </a:lnTo>
                      <a:lnTo>
                        <a:pt x="539" y="134"/>
                      </a:lnTo>
                      <a:lnTo>
                        <a:pt x="543" y="145"/>
                      </a:lnTo>
                      <a:lnTo>
                        <a:pt x="548" y="160"/>
                      </a:lnTo>
                      <a:lnTo>
                        <a:pt x="548" y="496"/>
                      </a:lnTo>
                      <a:lnTo>
                        <a:pt x="1" y="493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459040" y="3460320"/>
                  <a:ext cx="248400" cy="239760"/>
                </a:xfrm>
                <a:custGeom>
                  <a:avLst/>
                  <a:gdLst/>
                  <a:ahLst/>
                  <a:rect l="l" t="t" r="r" b="b"/>
                  <a:pathLst>
                    <a:path w="548" h="496">
                      <a:moveTo>
                        <a:pt x="0" y="171"/>
                      </a:moveTo>
                      <a:lnTo>
                        <a:pt x="1" y="155"/>
                      </a:lnTo>
                      <a:lnTo>
                        <a:pt x="6" y="139"/>
                      </a:lnTo>
                      <a:lnTo>
                        <a:pt x="12" y="124"/>
                      </a:lnTo>
                      <a:lnTo>
                        <a:pt x="21" y="110"/>
                      </a:lnTo>
                      <a:lnTo>
                        <a:pt x="29" y="99"/>
                      </a:lnTo>
                      <a:lnTo>
                        <a:pt x="38" y="88"/>
                      </a:lnTo>
                      <a:lnTo>
                        <a:pt x="49" y="75"/>
                      </a:lnTo>
                      <a:lnTo>
                        <a:pt x="63" y="63"/>
                      </a:lnTo>
                      <a:lnTo>
                        <a:pt x="81" y="52"/>
                      </a:lnTo>
                      <a:lnTo>
                        <a:pt x="103" y="40"/>
                      </a:lnTo>
                      <a:lnTo>
                        <a:pt x="124" y="30"/>
                      </a:lnTo>
                      <a:lnTo>
                        <a:pt x="150" y="21"/>
                      </a:lnTo>
                      <a:lnTo>
                        <a:pt x="174" y="14"/>
                      </a:lnTo>
                      <a:lnTo>
                        <a:pt x="201" y="8"/>
                      </a:lnTo>
                      <a:lnTo>
                        <a:pt x="225" y="4"/>
                      </a:lnTo>
                      <a:lnTo>
                        <a:pt x="245" y="3"/>
                      </a:lnTo>
                      <a:lnTo>
                        <a:pt x="268" y="0"/>
                      </a:lnTo>
                      <a:lnTo>
                        <a:pt x="292" y="0"/>
                      </a:lnTo>
                      <a:lnTo>
                        <a:pt x="311" y="3"/>
                      </a:lnTo>
                      <a:lnTo>
                        <a:pt x="331" y="5"/>
                      </a:lnTo>
                      <a:lnTo>
                        <a:pt x="353" y="9"/>
                      </a:lnTo>
                      <a:lnTo>
                        <a:pt x="373" y="14"/>
                      </a:lnTo>
                      <a:lnTo>
                        <a:pt x="394" y="20"/>
                      </a:lnTo>
                      <a:lnTo>
                        <a:pt x="413" y="27"/>
                      </a:lnTo>
                      <a:lnTo>
                        <a:pt x="433" y="36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2" y="58"/>
                      </a:lnTo>
                      <a:lnTo>
                        <a:pt x="485" y="67"/>
                      </a:lnTo>
                      <a:lnTo>
                        <a:pt x="497" y="77"/>
                      </a:lnTo>
                      <a:lnTo>
                        <a:pt x="509" y="90"/>
                      </a:lnTo>
                      <a:lnTo>
                        <a:pt x="519" y="102"/>
                      </a:lnTo>
                      <a:lnTo>
                        <a:pt x="527" y="113"/>
                      </a:lnTo>
                      <a:lnTo>
                        <a:pt x="534" y="123"/>
                      </a:lnTo>
                      <a:lnTo>
                        <a:pt x="539" y="134"/>
                      </a:lnTo>
                      <a:lnTo>
                        <a:pt x="543" y="145"/>
                      </a:lnTo>
                      <a:lnTo>
                        <a:pt x="548" y="160"/>
                      </a:lnTo>
                      <a:lnTo>
                        <a:pt x="548" y="496"/>
                      </a:lnTo>
                      <a:lnTo>
                        <a:pt x="1" y="493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e07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475240" y="3470040"/>
                  <a:ext cx="212760" cy="227160"/>
                </a:xfrm>
                <a:prstGeom prst="ellipse">
                  <a:avLst/>
                </a:prstGeom>
                <a:solidFill>
                  <a:srgbClr val="e0e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3" name=""/>
                <p:cNvGrpSpPr/>
                <p:nvPr/>
              </p:nvGrpSpPr>
              <p:grpSpPr>
                <a:xfrm>
                  <a:off x="5595480" y="3492360"/>
                  <a:ext cx="37800" cy="36000"/>
                  <a:chOff x="5595480" y="3492360"/>
                  <a:chExt cx="37800" cy="3600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>
                    <a:off x="5595480" y="3492360"/>
                    <a:ext cx="24480" cy="25920"/>
                  </a:xfrm>
                  <a:prstGeom prst="ellipse">
                    <a:avLst/>
                  </a:prstGeom>
                  <a:solidFill>
                    <a:srgbClr val="ffff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5614560" y="3508560"/>
                    <a:ext cx="18720" cy="19800"/>
                  </a:xfrm>
                  <a:prstGeom prst="ellipse">
                    <a:avLst/>
                  </a:prstGeom>
                  <a:solidFill>
                    <a:srgbClr val="ffff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6" name=""/>
                <p:cNvGrpSpPr/>
                <p:nvPr/>
              </p:nvGrpSpPr>
              <p:grpSpPr>
                <a:xfrm>
                  <a:off x="5464440" y="3736800"/>
                  <a:ext cx="249480" cy="247320"/>
                  <a:chOff x="5464440" y="3736800"/>
                  <a:chExt cx="249480" cy="247320"/>
                </a:xfrm>
              </p:grpSpPr>
              <p:sp>
                <p:nvSpPr>
                  <p:cNvPr id="1287" name=""/>
                  <p:cNvSpPr/>
                  <p:nvPr/>
                </p:nvSpPr>
                <p:spPr>
                  <a:xfrm>
                    <a:off x="5464440" y="3736800"/>
                    <a:ext cx="24948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8" h="494">
                        <a:moveTo>
                          <a:pt x="0" y="169"/>
                        </a:moveTo>
                        <a:lnTo>
                          <a:pt x="2" y="154"/>
                        </a:lnTo>
                        <a:lnTo>
                          <a:pt x="6" y="137"/>
                        </a:lnTo>
                        <a:lnTo>
                          <a:pt x="13" y="123"/>
                        </a:lnTo>
                        <a:lnTo>
                          <a:pt x="21" y="108"/>
                        </a:lnTo>
                        <a:lnTo>
                          <a:pt x="29" y="97"/>
                        </a:lnTo>
                        <a:lnTo>
                          <a:pt x="38" y="86"/>
                        </a:lnTo>
                        <a:lnTo>
                          <a:pt x="49" y="74"/>
                        </a:lnTo>
                        <a:lnTo>
                          <a:pt x="63" y="63"/>
                        </a:lnTo>
                        <a:lnTo>
                          <a:pt x="81" y="52"/>
                        </a:lnTo>
                        <a:lnTo>
                          <a:pt x="103" y="40"/>
                        </a:lnTo>
                        <a:lnTo>
                          <a:pt x="124" y="30"/>
                        </a:lnTo>
                        <a:lnTo>
                          <a:pt x="150" y="21"/>
                        </a:lnTo>
                        <a:lnTo>
                          <a:pt x="174" y="13"/>
                        </a:lnTo>
                        <a:lnTo>
                          <a:pt x="201" y="8"/>
                        </a:lnTo>
                        <a:lnTo>
                          <a:pt x="225" y="3"/>
                        </a:lnTo>
                        <a:lnTo>
                          <a:pt x="245" y="2"/>
                        </a:lnTo>
                        <a:lnTo>
                          <a:pt x="268" y="0"/>
                        </a:lnTo>
                        <a:lnTo>
                          <a:pt x="293" y="0"/>
                        </a:lnTo>
                        <a:lnTo>
                          <a:pt x="311" y="2"/>
                        </a:lnTo>
                        <a:lnTo>
                          <a:pt x="331" y="4"/>
                        </a:lnTo>
                        <a:lnTo>
                          <a:pt x="353" y="9"/>
                        </a:lnTo>
                        <a:lnTo>
                          <a:pt x="373" y="13"/>
                        </a:lnTo>
                        <a:lnTo>
                          <a:pt x="394" y="20"/>
                        </a:lnTo>
                        <a:lnTo>
                          <a:pt x="413" y="26"/>
                        </a:lnTo>
                        <a:lnTo>
                          <a:pt x="433" y="35"/>
                        </a:lnTo>
                        <a:lnTo>
                          <a:pt x="447" y="42"/>
                        </a:lnTo>
                        <a:lnTo>
                          <a:pt x="460" y="50"/>
                        </a:lnTo>
                        <a:lnTo>
                          <a:pt x="472" y="57"/>
                        </a:lnTo>
                        <a:lnTo>
                          <a:pt x="485" y="66"/>
                        </a:lnTo>
                        <a:lnTo>
                          <a:pt x="497" y="75"/>
                        </a:lnTo>
                        <a:lnTo>
                          <a:pt x="509" y="88"/>
                        </a:lnTo>
                        <a:lnTo>
                          <a:pt x="519" y="101"/>
                        </a:lnTo>
                        <a:lnTo>
                          <a:pt x="527" y="112"/>
                        </a:lnTo>
                        <a:lnTo>
                          <a:pt x="534" y="122"/>
                        </a:lnTo>
                        <a:lnTo>
                          <a:pt x="539" y="133"/>
                        </a:lnTo>
                        <a:lnTo>
                          <a:pt x="544" y="144"/>
                        </a:lnTo>
                        <a:lnTo>
                          <a:pt x="548" y="158"/>
                        </a:lnTo>
                        <a:lnTo>
                          <a:pt x="548" y="494"/>
                        </a:lnTo>
                        <a:lnTo>
                          <a:pt x="2" y="492"/>
                        </a:lnTo>
                        <a:lnTo>
                          <a:pt x="0" y="169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88" name=""/>
                  <p:cNvGrpSpPr/>
                  <p:nvPr/>
                </p:nvGrpSpPr>
                <p:grpSpPr>
                  <a:xfrm>
                    <a:off x="5464440" y="3745440"/>
                    <a:ext cx="249480" cy="238680"/>
                    <a:chOff x="5464440" y="3745440"/>
                    <a:chExt cx="249480" cy="238680"/>
                  </a:xfrm>
                </p:grpSpPr>
                <p:sp>
                  <p:nvSpPr>
                    <p:cNvPr id="1289" name=""/>
                    <p:cNvSpPr/>
                    <p:nvPr/>
                  </p:nvSpPr>
                  <p:spPr>
                    <a:xfrm>
                      <a:off x="5464440" y="3745440"/>
                      <a:ext cx="249480" cy="23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7" h="494">
                          <a:moveTo>
                            <a:pt x="0" y="169"/>
                          </a:moveTo>
                          <a:lnTo>
                            <a:pt x="1" y="153"/>
                          </a:lnTo>
                          <a:lnTo>
                            <a:pt x="5" y="137"/>
                          </a:lnTo>
                          <a:lnTo>
                            <a:pt x="12" y="122"/>
                          </a:lnTo>
                          <a:lnTo>
                            <a:pt x="21" y="108"/>
                          </a:lnTo>
                          <a:lnTo>
                            <a:pt x="28" y="97"/>
                          </a:lnTo>
                          <a:lnTo>
                            <a:pt x="37" y="86"/>
                          </a:lnTo>
                          <a:lnTo>
                            <a:pt x="48" y="74"/>
                          </a:lnTo>
                          <a:lnTo>
                            <a:pt x="63" y="62"/>
                          </a:lnTo>
                          <a:lnTo>
                            <a:pt x="80" y="50"/>
                          </a:lnTo>
                          <a:lnTo>
                            <a:pt x="102" y="39"/>
                          </a:lnTo>
                          <a:lnTo>
                            <a:pt x="123" y="29"/>
                          </a:lnTo>
                          <a:lnTo>
                            <a:pt x="149" y="21"/>
                          </a:lnTo>
                          <a:lnTo>
                            <a:pt x="172" y="13"/>
                          </a:lnTo>
                          <a:lnTo>
                            <a:pt x="200" y="7"/>
                          </a:lnTo>
                          <a:lnTo>
                            <a:pt x="224" y="3"/>
                          </a:lnTo>
                          <a:lnTo>
                            <a:pt x="244" y="2"/>
                          </a:lnTo>
                          <a:lnTo>
                            <a:pt x="267" y="0"/>
                          </a:lnTo>
                          <a:lnTo>
                            <a:pt x="292" y="0"/>
                          </a:lnTo>
                          <a:lnTo>
                            <a:pt x="310" y="2"/>
                          </a:lnTo>
                          <a:lnTo>
                            <a:pt x="330" y="4"/>
                          </a:lnTo>
                          <a:lnTo>
                            <a:pt x="352" y="8"/>
                          </a:lnTo>
                          <a:lnTo>
                            <a:pt x="372" y="13"/>
                          </a:lnTo>
                          <a:lnTo>
                            <a:pt x="393" y="20"/>
                          </a:lnTo>
                          <a:lnTo>
                            <a:pt x="412" y="26"/>
                          </a:lnTo>
                          <a:lnTo>
                            <a:pt x="432" y="35"/>
                          </a:lnTo>
                          <a:lnTo>
                            <a:pt x="447" y="42"/>
                          </a:lnTo>
                          <a:lnTo>
                            <a:pt x="459" y="49"/>
                          </a:lnTo>
                          <a:lnTo>
                            <a:pt x="471" y="56"/>
                          </a:lnTo>
                          <a:lnTo>
                            <a:pt x="484" y="65"/>
                          </a:lnTo>
                          <a:lnTo>
                            <a:pt x="496" y="75"/>
                          </a:lnTo>
                          <a:lnTo>
                            <a:pt x="508" y="88"/>
                          </a:lnTo>
                          <a:lnTo>
                            <a:pt x="518" y="100"/>
                          </a:lnTo>
                          <a:lnTo>
                            <a:pt x="526" y="111"/>
                          </a:lnTo>
                          <a:lnTo>
                            <a:pt x="533" y="121"/>
                          </a:lnTo>
                          <a:lnTo>
                            <a:pt x="538" y="132"/>
                          </a:lnTo>
                          <a:lnTo>
                            <a:pt x="543" y="143"/>
                          </a:lnTo>
                          <a:lnTo>
                            <a:pt x="547" y="158"/>
                          </a:lnTo>
                          <a:lnTo>
                            <a:pt x="547" y="494"/>
                          </a:lnTo>
                          <a:lnTo>
                            <a:pt x="1" y="492"/>
                          </a:lnTo>
                          <a:lnTo>
                            <a:pt x="0" y="169"/>
                          </a:lnTo>
                          <a:close/>
                        </a:path>
                      </a:pathLst>
                    </a:cu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0" name=""/>
                    <p:cNvSpPr/>
                    <p:nvPr/>
                  </p:nvSpPr>
                  <p:spPr>
                    <a:xfrm>
                      <a:off x="5480640" y="3754800"/>
                      <a:ext cx="212760" cy="22608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91" name=""/>
                    <p:cNvGrpSpPr/>
                    <p:nvPr/>
                  </p:nvGrpSpPr>
                  <p:grpSpPr>
                    <a:xfrm>
                      <a:off x="5600880" y="3776040"/>
                      <a:ext cx="37800" cy="37080"/>
                      <a:chOff x="5600880" y="3776040"/>
                      <a:chExt cx="37800" cy="37080"/>
                    </a:xfrm>
                  </p:grpSpPr>
                  <p:sp>
                    <p:nvSpPr>
                      <p:cNvPr id="1292" name=""/>
                      <p:cNvSpPr/>
                      <p:nvPr/>
                    </p:nvSpPr>
                    <p:spPr>
                      <a:xfrm>
                        <a:off x="5600880" y="3776040"/>
                        <a:ext cx="24480" cy="27000"/>
                      </a:xfrm>
                      <a:prstGeom prst="ellipse">
                        <a:avLst/>
                      </a:prstGeom>
                      <a:solidFill>
                        <a:srgbClr val="80f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3" name=""/>
                      <p:cNvSpPr/>
                      <p:nvPr/>
                    </p:nvSpPr>
                    <p:spPr>
                      <a:xfrm>
                        <a:off x="5619600" y="3792240"/>
                        <a:ext cx="19080" cy="20880"/>
                      </a:xfrm>
                      <a:prstGeom prst="ellipse">
                        <a:avLst/>
                      </a:prstGeom>
                      <a:solidFill>
                        <a:srgbClr val="80f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294" name=""/>
              <p:cNvSpPr/>
              <p:nvPr/>
            </p:nvSpPr>
            <p:spPr>
              <a:xfrm>
                <a:off x="5551560" y="4038480"/>
                <a:ext cx="74520" cy="762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5" name=""/>
            <p:cNvSpPr/>
            <p:nvPr/>
          </p:nvSpPr>
          <p:spPr>
            <a:xfrm>
              <a:off x="5483160" y="3754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476680" y="3467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3276720" y="23623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4876200" y="23623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4680" y="1676520"/>
            <a:ext cx="19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oi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967320" y="5089680"/>
            <a:ext cx="551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S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ver deadlo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U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+ Need extra informa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utilization may be l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580000" y="1557360"/>
            <a:ext cx="1600200" cy="1371600"/>
          </a:xfrm>
          <a:prstGeom prst="wedgeEllipseCallout">
            <a:avLst>
              <a:gd name="adj1" fmla="val -67560"/>
              <a:gd name="adj2" fmla="val 7500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888160" y="1839960"/>
            <a:ext cx="609480" cy="762120"/>
          </a:xfrm>
          <a:prstGeom prst="rect">
            <a:avLst/>
          </a:prstGeom>
          <a:solidFill>
            <a:srgbClr val="618ff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6019920" y="1981080"/>
            <a:ext cx="457200" cy="612360"/>
            <a:chOff x="6019920" y="1981080"/>
            <a:chExt cx="457200" cy="612360"/>
          </a:xfrm>
        </p:grpSpPr>
        <p:sp>
          <p:nvSpPr>
            <p:cNvPr id="1304" name=""/>
            <p:cNvSpPr/>
            <p:nvPr/>
          </p:nvSpPr>
          <p:spPr>
            <a:xfrm>
              <a:off x="6120720" y="2364840"/>
              <a:ext cx="356040" cy="226080"/>
            </a:xfrm>
            <a:custGeom>
              <a:avLst/>
              <a:gdLst/>
              <a:ahLst/>
              <a:rect l="l" t="t" r="r" b="b"/>
              <a:pathLst>
                <a:path w="1108" h="714">
                  <a:moveTo>
                    <a:pt x="0" y="708"/>
                  </a:moveTo>
                  <a:lnTo>
                    <a:pt x="88" y="600"/>
                  </a:lnTo>
                  <a:lnTo>
                    <a:pt x="326" y="413"/>
                  </a:lnTo>
                  <a:lnTo>
                    <a:pt x="721" y="181"/>
                  </a:lnTo>
                  <a:lnTo>
                    <a:pt x="1014" y="39"/>
                  </a:lnTo>
                  <a:lnTo>
                    <a:pt x="1108" y="0"/>
                  </a:lnTo>
                  <a:lnTo>
                    <a:pt x="1108" y="714"/>
                  </a:lnTo>
                  <a:lnTo>
                    <a:pt x="0" y="708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129720" y="2505600"/>
              <a:ext cx="106200" cy="87840"/>
            </a:xfrm>
            <a:custGeom>
              <a:avLst/>
              <a:gdLst/>
              <a:ahLst/>
              <a:rect l="l" t="t" r="r" b="b"/>
              <a:pathLst>
                <a:path w="330" h="274">
                  <a:moveTo>
                    <a:pt x="284" y="0"/>
                  </a:moveTo>
                  <a:lnTo>
                    <a:pt x="282" y="2"/>
                  </a:lnTo>
                  <a:lnTo>
                    <a:pt x="274" y="6"/>
                  </a:lnTo>
                  <a:lnTo>
                    <a:pt x="263" y="14"/>
                  </a:lnTo>
                  <a:lnTo>
                    <a:pt x="247" y="25"/>
                  </a:lnTo>
                  <a:lnTo>
                    <a:pt x="229" y="39"/>
                  </a:lnTo>
                  <a:lnTo>
                    <a:pt x="208" y="55"/>
                  </a:lnTo>
                  <a:lnTo>
                    <a:pt x="186" y="72"/>
                  </a:lnTo>
                  <a:lnTo>
                    <a:pt x="163" y="91"/>
                  </a:lnTo>
                  <a:lnTo>
                    <a:pt x="138" y="111"/>
                  </a:lnTo>
                  <a:lnTo>
                    <a:pt x="114" y="132"/>
                  </a:lnTo>
                  <a:lnTo>
                    <a:pt x="90" y="154"/>
                  </a:lnTo>
                  <a:lnTo>
                    <a:pt x="67" y="177"/>
                  </a:lnTo>
                  <a:lnTo>
                    <a:pt x="47" y="200"/>
                  </a:lnTo>
                  <a:lnTo>
                    <a:pt x="28" y="222"/>
                  </a:lnTo>
                  <a:lnTo>
                    <a:pt x="12" y="246"/>
                  </a:lnTo>
                  <a:lnTo>
                    <a:pt x="0" y="267"/>
                  </a:lnTo>
                  <a:lnTo>
                    <a:pt x="67" y="274"/>
                  </a:lnTo>
                  <a:lnTo>
                    <a:pt x="330" y="58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019920" y="1981080"/>
              <a:ext cx="457200" cy="611280"/>
            </a:xfrm>
            <a:custGeom>
              <a:avLst/>
              <a:gdLst/>
              <a:ahLst/>
              <a:rect l="l" t="t" r="r" b="b"/>
              <a:pathLst>
                <a:path w="1425" h="1925">
                  <a:moveTo>
                    <a:pt x="530" y="13"/>
                  </a:moveTo>
                  <a:lnTo>
                    <a:pt x="543" y="12"/>
                  </a:lnTo>
                  <a:lnTo>
                    <a:pt x="557" y="11"/>
                  </a:lnTo>
                  <a:lnTo>
                    <a:pt x="570" y="9"/>
                  </a:lnTo>
                  <a:lnTo>
                    <a:pt x="584" y="8"/>
                  </a:lnTo>
                  <a:lnTo>
                    <a:pt x="597" y="6"/>
                  </a:lnTo>
                  <a:lnTo>
                    <a:pt x="611" y="5"/>
                  </a:lnTo>
                  <a:lnTo>
                    <a:pt x="625" y="4"/>
                  </a:lnTo>
                  <a:lnTo>
                    <a:pt x="638" y="3"/>
                  </a:lnTo>
                  <a:lnTo>
                    <a:pt x="652" y="2"/>
                  </a:lnTo>
                  <a:lnTo>
                    <a:pt x="666" y="2"/>
                  </a:lnTo>
                  <a:lnTo>
                    <a:pt x="680" y="2"/>
                  </a:lnTo>
                  <a:lnTo>
                    <a:pt x="693" y="3"/>
                  </a:lnTo>
                  <a:lnTo>
                    <a:pt x="706" y="5"/>
                  </a:lnTo>
                  <a:lnTo>
                    <a:pt x="719" y="7"/>
                  </a:lnTo>
                  <a:lnTo>
                    <a:pt x="732" y="11"/>
                  </a:lnTo>
                  <a:lnTo>
                    <a:pt x="745" y="16"/>
                  </a:lnTo>
                  <a:lnTo>
                    <a:pt x="763" y="25"/>
                  </a:lnTo>
                  <a:lnTo>
                    <a:pt x="781" y="36"/>
                  </a:lnTo>
                  <a:lnTo>
                    <a:pt x="798" y="48"/>
                  </a:lnTo>
                  <a:lnTo>
                    <a:pt x="814" y="62"/>
                  </a:lnTo>
                  <a:lnTo>
                    <a:pt x="830" y="77"/>
                  </a:lnTo>
                  <a:lnTo>
                    <a:pt x="844" y="93"/>
                  </a:lnTo>
                  <a:lnTo>
                    <a:pt x="859" y="110"/>
                  </a:lnTo>
                  <a:lnTo>
                    <a:pt x="874" y="126"/>
                  </a:lnTo>
                  <a:lnTo>
                    <a:pt x="889" y="142"/>
                  </a:lnTo>
                  <a:lnTo>
                    <a:pt x="905" y="157"/>
                  </a:lnTo>
                  <a:lnTo>
                    <a:pt x="922" y="172"/>
                  </a:lnTo>
                  <a:lnTo>
                    <a:pt x="939" y="185"/>
                  </a:lnTo>
                  <a:lnTo>
                    <a:pt x="956" y="200"/>
                  </a:lnTo>
                  <a:lnTo>
                    <a:pt x="972" y="216"/>
                  </a:lnTo>
                  <a:lnTo>
                    <a:pt x="987" y="232"/>
                  </a:lnTo>
                  <a:lnTo>
                    <a:pt x="999" y="249"/>
                  </a:lnTo>
                  <a:lnTo>
                    <a:pt x="1009" y="265"/>
                  </a:lnTo>
                  <a:lnTo>
                    <a:pt x="1019" y="282"/>
                  </a:lnTo>
                  <a:lnTo>
                    <a:pt x="1026" y="299"/>
                  </a:lnTo>
                  <a:lnTo>
                    <a:pt x="1033" y="317"/>
                  </a:lnTo>
                  <a:lnTo>
                    <a:pt x="1041" y="335"/>
                  </a:lnTo>
                  <a:lnTo>
                    <a:pt x="1047" y="353"/>
                  </a:lnTo>
                  <a:lnTo>
                    <a:pt x="1052" y="371"/>
                  </a:lnTo>
                  <a:lnTo>
                    <a:pt x="1059" y="389"/>
                  </a:lnTo>
                  <a:lnTo>
                    <a:pt x="1066" y="413"/>
                  </a:lnTo>
                  <a:lnTo>
                    <a:pt x="1074" y="438"/>
                  </a:lnTo>
                  <a:lnTo>
                    <a:pt x="1079" y="463"/>
                  </a:lnTo>
                  <a:lnTo>
                    <a:pt x="1083" y="490"/>
                  </a:lnTo>
                  <a:lnTo>
                    <a:pt x="1085" y="515"/>
                  </a:lnTo>
                  <a:lnTo>
                    <a:pt x="1086" y="543"/>
                  </a:lnTo>
                  <a:lnTo>
                    <a:pt x="1085" y="569"/>
                  </a:lnTo>
                  <a:lnTo>
                    <a:pt x="1081" y="597"/>
                  </a:lnTo>
                  <a:lnTo>
                    <a:pt x="1093" y="602"/>
                  </a:lnTo>
                  <a:lnTo>
                    <a:pt x="1106" y="608"/>
                  </a:lnTo>
                  <a:lnTo>
                    <a:pt x="1119" y="613"/>
                  </a:lnTo>
                  <a:lnTo>
                    <a:pt x="1132" y="619"/>
                  </a:lnTo>
                  <a:lnTo>
                    <a:pt x="1144" y="627"/>
                  </a:lnTo>
                  <a:lnTo>
                    <a:pt x="1153" y="636"/>
                  </a:lnTo>
                  <a:lnTo>
                    <a:pt x="1161" y="648"/>
                  </a:lnTo>
                  <a:lnTo>
                    <a:pt x="1164" y="664"/>
                  </a:lnTo>
                  <a:lnTo>
                    <a:pt x="1163" y="708"/>
                  </a:lnTo>
                  <a:lnTo>
                    <a:pt x="1155" y="751"/>
                  </a:lnTo>
                  <a:lnTo>
                    <a:pt x="1149" y="792"/>
                  </a:lnTo>
                  <a:lnTo>
                    <a:pt x="1151" y="835"/>
                  </a:lnTo>
                  <a:lnTo>
                    <a:pt x="1154" y="845"/>
                  </a:lnTo>
                  <a:lnTo>
                    <a:pt x="1160" y="855"/>
                  </a:lnTo>
                  <a:lnTo>
                    <a:pt x="1165" y="864"/>
                  </a:lnTo>
                  <a:lnTo>
                    <a:pt x="1171" y="874"/>
                  </a:lnTo>
                  <a:lnTo>
                    <a:pt x="1176" y="883"/>
                  </a:lnTo>
                  <a:lnTo>
                    <a:pt x="1179" y="894"/>
                  </a:lnTo>
                  <a:lnTo>
                    <a:pt x="1180" y="905"/>
                  </a:lnTo>
                  <a:lnTo>
                    <a:pt x="1178" y="915"/>
                  </a:lnTo>
                  <a:lnTo>
                    <a:pt x="1175" y="923"/>
                  </a:lnTo>
                  <a:lnTo>
                    <a:pt x="1170" y="930"/>
                  </a:lnTo>
                  <a:lnTo>
                    <a:pt x="1165" y="937"/>
                  </a:lnTo>
                  <a:lnTo>
                    <a:pt x="1160" y="945"/>
                  </a:lnTo>
                  <a:lnTo>
                    <a:pt x="1153" y="951"/>
                  </a:lnTo>
                  <a:lnTo>
                    <a:pt x="1146" y="958"/>
                  </a:lnTo>
                  <a:lnTo>
                    <a:pt x="1140" y="964"/>
                  </a:lnTo>
                  <a:lnTo>
                    <a:pt x="1132" y="969"/>
                  </a:lnTo>
                  <a:lnTo>
                    <a:pt x="1149" y="997"/>
                  </a:lnTo>
                  <a:lnTo>
                    <a:pt x="1166" y="1026"/>
                  </a:lnTo>
                  <a:lnTo>
                    <a:pt x="1183" y="1054"/>
                  </a:lnTo>
                  <a:lnTo>
                    <a:pt x="1200" y="1082"/>
                  </a:lnTo>
                  <a:lnTo>
                    <a:pt x="1217" y="1110"/>
                  </a:lnTo>
                  <a:lnTo>
                    <a:pt x="1235" y="1138"/>
                  </a:lnTo>
                  <a:lnTo>
                    <a:pt x="1254" y="1165"/>
                  </a:lnTo>
                  <a:lnTo>
                    <a:pt x="1274" y="1191"/>
                  </a:lnTo>
                  <a:lnTo>
                    <a:pt x="1283" y="1200"/>
                  </a:lnTo>
                  <a:lnTo>
                    <a:pt x="1292" y="1206"/>
                  </a:lnTo>
                  <a:lnTo>
                    <a:pt x="1303" y="1209"/>
                  </a:lnTo>
                  <a:lnTo>
                    <a:pt x="1314" y="1211"/>
                  </a:lnTo>
                  <a:lnTo>
                    <a:pt x="1326" y="1213"/>
                  </a:lnTo>
                  <a:lnTo>
                    <a:pt x="1338" y="1213"/>
                  </a:lnTo>
                  <a:lnTo>
                    <a:pt x="1351" y="1213"/>
                  </a:lnTo>
                  <a:lnTo>
                    <a:pt x="1363" y="1213"/>
                  </a:lnTo>
                  <a:lnTo>
                    <a:pt x="1425" y="1208"/>
                  </a:lnTo>
                  <a:lnTo>
                    <a:pt x="1425" y="1251"/>
                  </a:lnTo>
                  <a:lnTo>
                    <a:pt x="1366" y="1258"/>
                  </a:lnTo>
                  <a:lnTo>
                    <a:pt x="1356" y="1287"/>
                  </a:lnTo>
                  <a:lnTo>
                    <a:pt x="1348" y="1316"/>
                  </a:lnTo>
                  <a:lnTo>
                    <a:pt x="1339" y="1346"/>
                  </a:lnTo>
                  <a:lnTo>
                    <a:pt x="1334" y="1377"/>
                  </a:lnTo>
                  <a:lnTo>
                    <a:pt x="1329" y="1407"/>
                  </a:lnTo>
                  <a:lnTo>
                    <a:pt x="1325" y="1439"/>
                  </a:lnTo>
                  <a:lnTo>
                    <a:pt x="1325" y="1471"/>
                  </a:lnTo>
                  <a:lnTo>
                    <a:pt x="1326" y="1504"/>
                  </a:lnTo>
                  <a:lnTo>
                    <a:pt x="1329" y="1518"/>
                  </a:lnTo>
                  <a:lnTo>
                    <a:pt x="1332" y="1532"/>
                  </a:lnTo>
                  <a:lnTo>
                    <a:pt x="1334" y="1545"/>
                  </a:lnTo>
                  <a:lnTo>
                    <a:pt x="1334" y="1559"/>
                  </a:lnTo>
                  <a:lnTo>
                    <a:pt x="1320" y="1557"/>
                  </a:lnTo>
                  <a:lnTo>
                    <a:pt x="1305" y="1555"/>
                  </a:lnTo>
                  <a:lnTo>
                    <a:pt x="1291" y="1553"/>
                  </a:lnTo>
                  <a:lnTo>
                    <a:pt x="1277" y="1552"/>
                  </a:lnTo>
                  <a:lnTo>
                    <a:pt x="1262" y="1550"/>
                  </a:lnTo>
                  <a:lnTo>
                    <a:pt x="1248" y="1549"/>
                  </a:lnTo>
                  <a:lnTo>
                    <a:pt x="1233" y="1547"/>
                  </a:lnTo>
                  <a:lnTo>
                    <a:pt x="1218" y="1547"/>
                  </a:lnTo>
                  <a:lnTo>
                    <a:pt x="1203" y="1546"/>
                  </a:lnTo>
                  <a:lnTo>
                    <a:pt x="1188" y="1546"/>
                  </a:lnTo>
                  <a:lnTo>
                    <a:pt x="1174" y="1546"/>
                  </a:lnTo>
                  <a:lnTo>
                    <a:pt x="1159" y="1546"/>
                  </a:lnTo>
                  <a:lnTo>
                    <a:pt x="1144" y="1546"/>
                  </a:lnTo>
                  <a:lnTo>
                    <a:pt x="1129" y="1547"/>
                  </a:lnTo>
                  <a:lnTo>
                    <a:pt x="1114" y="1547"/>
                  </a:lnTo>
                  <a:lnTo>
                    <a:pt x="1099" y="1549"/>
                  </a:lnTo>
                  <a:lnTo>
                    <a:pt x="1078" y="1551"/>
                  </a:lnTo>
                  <a:lnTo>
                    <a:pt x="1058" y="1552"/>
                  </a:lnTo>
                  <a:lnTo>
                    <a:pt x="1038" y="1554"/>
                  </a:lnTo>
                  <a:lnTo>
                    <a:pt x="1017" y="1555"/>
                  </a:lnTo>
                  <a:lnTo>
                    <a:pt x="997" y="1557"/>
                  </a:lnTo>
                  <a:lnTo>
                    <a:pt x="977" y="1558"/>
                  </a:lnTo>
                  <a:lnTo>
                    <a:pt x="957" y="1560"/>
                  </a:lnTo>
                  <a:lnTo>
                    <a:pt x="937" y="1561"/>
                  </a:lnTo>
                  <a:lnTo>
                    <a:pt x="939" y="1573"/>
                  </a:lnTo>
                  <a:lnTo>
                    <a:pt x="942" y="1585"/>
                  </a:lnTo>
                  <a:lnTo>
                    <a:pt x="945" y="1595"/>
                  </a:lnTo>
                  <a:lnTo>
                    <a:pt x="948" y="1607"/>
                  </a:lnTo>
                  <a:lnTo>
                    <a:pt x="953" y="1619"/>
                  </a:lnTo>
                  <a:lnTo>
                    <a:pt x="958" y="1628"/>
                  </a:lnTo>
                  <a:lnTo>
                    <a:pt x="965" y="1639"/>
                  </a:lnTo>
                  <a:lnTo>
                    <a:pt x="975" y="1647"/>
                  </a:lnTo>
                  <a:lnTo>
                    <a:pt x="992" y="1661"/>
                  </a:lnTo>
                  <a:lnTo>
                    <a:pt x="1009" y="1674"/>
                  </a:lnTo>
                  <a:lnTo>
                    <a:pt x="1027" y="1686"/>
                  </a:lnTo>
                  <a:lnTo>
                    <a:pt x="1045" y="1699"/>
                  </a:lnTo>
                  <a:lnTo>
                    <a:pt x="1062" y="1712"/>
                  </a:lnTo>
                  <a:lnTo>
                    <a:pt x="1079" y="1726"/>
                  </a:lnTo>
                  <a:lnTo>
                    <a:pt x="1094" y="1741"/>
                  </a:lnTo>
                  <a:lnTo>
                    <a:pt x="1108" y="1756"/>
                  </a:lnTo>
                  <a:lnTo>
                    <a:pt x="1117" y="1775"/>
                  </a:lnTo>
                  <a:lnTo>
                    <a:pt x="1120" y="1795"/>
                  </a:lnTo>
                  <a:lnTo>
                    <a:pt x="1120" y="1815"/>
                  </a:lnTo>
                  <a:lnTo>
                    <a:pt x="1117" y="1837"/>
                  </a:lnTo>
                  <a:lnTo>
                    <a:pt x="1113" y="1859"/>
                  </a:lnTo>
                  <a:lnTo>
                    <a:pt x="1109" y="1882"/>
                  </a:lnTo>
                  <a:lnTo>
                    <a:pt x="1106" y="1904"/>
                  </a:lnTo>
                  <a:lnTo>
                    <a:pt x="1106" y="1925"/>
                  </a:lnTo>
                  <a:lnTo>
                    <a:pt x="860" y="1925"/>
                  </a:lnTo>
                  <a:lnTo>
                    <a:pt x="857" y="1865"/>
                  </a:lnTo>
                  <a:lnTo>
                    <a:pt x="854" y="1804"/>
                  </a:lnTo>
                  <a:lnTo>
                    <a:pt x="852" y="1744"/>
                  </a:lnTo>
                  <a:lnTo>
                    <a:pt x="850" y="1684"/>
                  </a:lnTo>
                  <a:lnTo>
                    <a:pt x="849" y="1676"/>
                  </a:lnTo>
                  <a:lnTo>
                    <a:pt x="846" y="1668"/>
                  </a:lnTo>
                  <a:lnTo>
                    <a:pt x="842" y="1661"/>
                  </a:lnTo>
                  <a:lnTo>
                    <a:pt x="838" y="1655"/>
                  </a:lnTo>
                  <a:lnTo>
                    <a:pt x="833" y="1647"/>
                  </a:lnTo>
                  <a:lnTo>
                    <a:pt x="826" y="1641"/>
                  </a:lnTo>
                  <a:lnTo>
                    <a:pt x="820" y="1634"/>
                  </a:lnTo>
                  <a:lnTo>
                    <a:pt x="815" y="1628"/>
                  </a:lnTo>
                  <a:lnTo>
                    <a:pt x="800" y="1656"/>
                  </a:lnTo>
                  <a:lnTo>
                    <a:pt x="786" y="1684"/>
                  </a:lnTo>
                  <a:lnTo>
                    <a:pt x="772" y="1712"/>
                  </a:lnTo>
                  <a:lnTo>
                    <a:pt x="758" y="1741"/>
                  </a:lnTo>
                  <a:lnTo>
                    <a:pt x="746" y="1769"/>
                  </a:lnTo>
                  <a:lnTo>
                    <a:pt x="732" y="1798"/>
                  </a:lnTo>
                  <a:lnTo>
                    <a:pt x="719" y="1826"/>
                  </a:lnTo>
                  <a:lnTo>
                    <a:pt x="706" y="1855"/>
                  </a:lnTo>
                  <a:lnTo>
                    <a:pt x="699" y="1832"/>
                  </a:lnTo>
                  <a:lnTo>
                    <a:pt x="691" y="1808"/>
                  </a:lnTo>
                  <a:lnTo>
                    <a:pt x="684" y="1786"/>
                  </a:lnTo>
                  <a:lnTo>
                    <a:pt x="676" y="1763"/>
                  </a:lnTo>
                  <a:lnTo>
                    <a:pt x="666" y="1742"/>
                  </a:lnTo>
                  <a:lnTo>
                    <a:pt x="655" y="1719"/>
                  </a:lnTo>
                  <a:lnTo>
                    <a:pt x="643" y="1698"/>
                  </a:lnTo>
                  <a:lnTo>
                    <a:pt x="629" y="1678"/>
                  </a:lnTo>
                  <a:lnTo>
                    <a:pt x="615" y="1684"/>
                  </a:lnTo>
                  <a:lnTo>
                    <a:pt x="602" y="1692"/>
                  </a:lnTo>
                  <a:lnTo>
                    <a:pt x="588" y="1699"/>
                  </a:lnTo>
                  <a:lnTo>
                    <a:pt x="575" y="1707"/>
                  </a:lnTo>
                  <a:lnTo>
                    <a:pt x="562" y="1714"/>
                  </a:lnTo>
                  <a:lnTo>
                    <a:pt x="548" y="1723"/>
                  </a:lnTo>
                  <a:lnTo>
                    <a:pt x="535" y="1731"/>
                  </a:lnTo>
                  <a:lnTo>
                    <a:pt x="523" y="1741"/>
                  </a:lnTo>
                  <a:lnTo>
                    <a:pt x="510" y="1750"/>
                  </a:lnTo>
                  <a:lnTo>
                    <a:pt x="497" y="1760"/>
                  </a:lnTo>
                  <a:lnTo>
                    <a:pt x="484" y="1769"/>
                  </a:lnTo>
                  <a:lnTo>
                    <a:pt x="472" y="1780"/>
                  </a:lnTo>
                  <a:lnTo>
                    <a:pt x="460" y="1790"/>
                  </a:lnTo>
                  <a:lnTo>
                    <a:pt x="448" y="1801"/>
                  </a:lnTo>
                  <a:lnTo>
                    <a:pt x="437" y="1812"/>
                  </a:lnTo>
                  <a:lnTo>
                    <a:pt x="426" y="1823"/>
                  </a:lnTo>
                  <a:lnTo>
                    <a:pt x="415" y="1836"/>
                  </a:lnTo>
                  <a:lnTo>
                    <a:pt x="406" y="1851"/>
                  </a:lnTo>
                  <a:lnTo>
                    <a:pt x="396" y="1866"/>
                  </a:lnTo>
                  <a:lnTo>
                    <a:pt x="386" y="1881"/>
                  </a:lnTo>
                  <a:lnTo>
                    <a:pt x="375" y="1895"/>
                  </a:lnTo>
                  <a:lnTo>
                    <a:pt x="363" y="1907"/>
                  </a:lnTo>
                  <a:lnTo>
                    <a:pt x="350" y="1918"/>
                  </a:lnTo>
                  <a:lnTo>
                    <a:pt x="334" y="1925"/>
                  </a:lnTo>
                  <a:lnTo>
                    <a:pt x="285" y="1925"/>
                  </a:lnTo>
                  <a:lnTo>
                    <a:pt x="306" y="1905"/>
                  </a:lnTo>
                  <a:lnTo>
                    <a:pt x="324" y="1883"/>
                  </a:lnTo>
                  <a:lnTo>
                    <a:pt x="340" y="1859"/>
                  </a:lnTo>
                  <a:lnTo>
                    <a:pt x="355" y="1836"/>
                  </a:lnTo>
                  <a:lnTo>
                    <a:pt x="369" y="1813"/>
                  </a:lnTo>
                  <a:lnTo>
                    <a:pt x="385" y="1789"/>
                  </a:lnTo>
                  <a:lnTo>
                    <a:pt x="404" y="1768"/>
                  </a:lnTo>
                  <a:lnTo>
                    <a:pt x="425" y="1748"/>
                  </a:lnTo>
                  <a:lnTo>
                    <a:pt x="436" y="1739"/>
                  </a:lnTo>
                  <a:lnTo>
                    <a:pt x="447" y="1730"/>
                  </a:lnTo>
                  <a:lnTo>
                    <a:pt x="458" y="1721"/>
                  </a:lnTo>
                  <a:lnTo>
                    <a:pt x="470" y="1712"/>
                  </a:lnTo>
                  <a:lnTo>
                    <a:pt x="480" y="1702"/>
                  </a:lnTo>
                  <a:lnTo>
                    <a:pt x="491" y="1694"/>
                  </a:lnTo>
                  <a:lnTo>
                    <a:pt x="501" y="1683"/>
                  </a:lnTo>
                  <a:lnTo>
                    <a:pt x="513" y="1674"/>
                  </a:lnTo>
                  <a:lnTo>
                    <a:pt x="524" y="1664"/>
                  </a:lnTo>
                  <a:lnTo>
                    <a:pt x="534" y="1655"/>
                  </a:lnTo>
                  <a:lnTo>
                    <a:pt x="545" y="1645"/>
                  </a:lnTo>
                  <a:lnTo>
                    <a:pt x="556" y="1636"/>
                  </a:lnTo>
                  <a:lnTo>
                    <a:pt x="566" y="1625"/>
                  </a:lnTo>
                  <a:lnTo>
                    <a:pt x="577" y="1615"/>
                  </a:lnTo>
                  <a:lnTo>
                    <a:pt x="587" y="1606"/>
                  </a:lnTo>
                  <a:lnTo>
                    <a:pt x="598" y="1596"/>
                  </a:lnTo>
                  <a:lnTo>
                    <a:pt x="591" y="1580"/>
                  </a:lnTo>
                  <a:lnTo>
                    <a:pt x="586" y="1564"/>
                  </a:lnTo>
                  <a:lnTo>
                    <a:pt x="583" y="1547"/>
                  </a:lnTo>
                  <a:lnTo>
                    <a:pt x="582" y="1529"/>
                  </a:lnTo>
                  <a:lnTo>
                    <a:pt x="581" y="1512"/>
                  </a:lnTo>
                  <a:lnTo>
                    <a:pt x="578" y="1497"/>
                  </a:lnTo>
                  <a:lnTo>
                    <a:pt x="571" y="1482"/>
                  </a:lnTo>
                  <a:lnTo>
                    <a:pt x="562" y="1468"/>
                  </a:lnTo>
                  <a:lnTo>
                    <a:pt x="554" y="1460"/>
                  </a:lnTo>
                  <a:lnTo>
                    <a:pt x="547" y="1454"/>
                  </a:lnTo>
                  <a:lnTo>
                    <a:pt x="539" y="1447"/>
                  </a:lnTo>
                  <a:lnTo>
                    <a:pt x="530" y="1440"/>
                  </a:lnTo>
                  <a:lnTo>
                    <a:pt x="523" y="1433"/>
                  </a:lnTo>
                  <a:lnTo>
                    <a:pt x="514" y="1427"/>
                  </a:lnTo>
                  <a:lnTo>
                    <a:pt x="506" y="1420"/>
                  </a:lnTo>
                  <a:lnTo>
                    <a:pt x="498" y="1414"/>
                  </a:lnTo>
                  <a:lnTo>
                    <a:pt x="487" y="1404"/>
                  </a:lnTo>
                  <a:lnTo>
                    <a:pt x="474" y="1395"/>
                  </a:lnTo>
                  <a:lnTo>
                    <a:pt x="461" y="1385"/>
                  </a:lnTo>
                  <a:lnTo>
                    <a:pt x="448" y="1376"/>
                  </a:lnTo>
                  <a:lnTo>
                    <a:pt x="436" y="1366"/>
                  </a:lnTo>
                  <a:lnTo>
                    <a:pt x="423" y="1357"/>
                  </a:lnTo>
                  <a:lnTo>
                    <a:pt x="411" y="1347"/>
                  </a:lnTo>
                  <a:lnTo>
                    <a:pt x="398" y="1336"/>
                  </a:lnTo>
                  <a:lnTo>
                    <a:pt x="387" y="1326"/>
                  </a:lnTo>
                  <a:lnTo>
                    <a:pt x="376" y="1315"/>
                  </a:lnTo>
                  <a:lnTo>
                    <a:pt x="365" y="1303"/>
                  </a:lnTo>
                  <a:lnTo>
                    <a:pt x="356" y="1291"/>
                  </a:lnTo>
                  <a:lnTo>
                    <a:pt x="347" y="1279"/>
                  </a:lnTo>
                  <a:lnTo>
                    <a:pt x="339" y="1265"/>
                  </a:lnTo>
                  <a:lnTo>
                    <a:pt x="333" y="1251"/>
                  </a:lnTo>
                  <a:lnTo>
                    <a:pt x="327" y="1237"/>
                  </a:lnTo>
                  <a:lnTo>
                    <a:pt x="324" y="1227"/>
                  </a:lnTo>
                  <a:lnTo>
                    <a:pt x="322" y="1218"/>
                  </a:lnTo>
                  <a:lnTo>
                    <a:pt x="320" y="1208"/>
                  </a:lnTo>
                  <a:lnTo>
                    <a:pt x="317" y="1197"/>
                  </a:lnTo>
                  <a:lnTo>
                    <a:pt x="312" y="1189"/>
                  </a:lnTo>
                  <a:lnTo>
                    <a:pt x="307" y="1180"/>
                  </a:lnTo>
                  <a:lnTo>
                    <a:pt x="300" y="1174"/>
                  </a:lnTo>
                  <a:lnTo>
                    <a:pt x="290" y="1169"/>
                  </a:lnTo>
                  <a:lnTo>
                    <a:pt x="281" y="1166"/>
                  </a:lnTo>
                  <a:lnTo>
                    <a:pt x="271" y="1163"/>
                  </a:lnTo>
                  <a:lnTo>
                    <a:pt x="261" y="1160"/>
                  </a:lnTo>
                  <a:lnTo>
                    <a:pt x="253" y="1157"/>
                  </a:lnTo>
                  <a:lnTo>
                    <a:pt x="243" y="1154"/>
                  </a:lnTo>
                  <a:lnTo>
                    <a:pt x="236" y="1149"/>
                  </a:lnTo>
                  <a:lnTo>
                    <a:pt x="230" y="1142"/>
                  </a:lnTo>
                  <a:lnTo>
                    <a:pt x="224" y="1134"/>
                  </a:lnTo>
                  <a:lnTo>
                    <a:pt x="218" y="1108"/>
                  </a:lnTo>
                  <a:lnTo>
                    <a:pt x="214" y="1083"/>
                  </a:lnTo>
                  <a:lnTo>
                    <a:pt x="207" y="1057"/>
                  </a:lnTo>
                  <a:lnTo>
                    <a:pt x="193" y="1035"/>
                  </a:lnTo>
                  <a:lnTo>
                    <a:pt x="181" y="1022"/>
                  </a:lnTo>
                  <a:lnTo>
                    <a:pt x="168" y="1010"/>
                  </a:lnTo>
                  <a:lnTo>
                    <a:pt x="155" y="997"/>
                  </a:lnTo>
                  <a:lnTo>
                    <a:pt x="145" y="982"/>
                  </a:lnTo>
                  <a:lnTo>
                    <a:pt x="136" y="968"/>
                  </a:lnTo>
                  <a:lnTo>
                    <a:pt x="130" y="952"/>
                  </a:lnTo>
                  <a:lnTo>
                    <a:pt x="128" y="935"/>
                  </a:lnTo>
                  <a:lnTo>
                    <a:pt x="130" y="917"/>
                  </a:lnTo>
                  <a:lnTo>
                    <a:pt x="135" y="905"/>
                  </a:lnTo>
                  <a:lnTo>
                    <a:pt x="141" y="893"/>
                  </a:lnTo>
                  <a:lnTo>
                    <a:pt x="146" y="881"/>
                  </a:lnTo>
                  <a:lnTo>
                    <a:pt x="142" y="869"/>
                  </a:lnTo>
                  <a:lnTo>
                    <a:pt x="131" y="850"/>
                  </a:lnTo>
                  <a:lnTo>
                    <a:pt x="117" y="832"/>
                  </a:lnTo>
                  <a:lnTo>
                    <a:pt x="104" y="814"/>
                  </a:lnTo>
                  <a:lnTo>
                    <a:pt x="90" y="796"/>
                  </a:lnTo>
                  <a:lnTo>
                    <a:pt x="78" y="778"/>
                  </a:lnTo>
                  <a:lnTo>
                    <a:pt x="66" y="760"/>
                  </a:lnTo>
                  <a:lnTo>
                    <a:pt x="56" y="741"/>
                  </a:lnTo>
                  <a:lnTo>
                    <a:pt x="48" y="721"/>
                  </a:lnTo>
                  <a:lnTo>
                    <a:pt x="39" y="696"/>
                  </a:lnTo>
                  <a:lnTo>
                    <a:pt x="31" y="670"/>
                  </a:lnTo>
                  <a:lnTo>
                    <a:pt x="23" y="644"/>
                  </a:lnTo>
                  <a:lnTo>
                    <a:pt x="16" y="617"/>
                  </a:lnTo>
                  <a:lnTo>
                    <a:pt x="10" y="591"/>
                  </a:lnTo>
                  <a:lnTo>
                    <a:pt x="4" y="563"/>
                  </a:lnTo>
                  <a:lnTo>
                    <a:pt x="1" y="534"/>
                  </a:lnTo>
                  <a:lnTo>
                    <a:pt x="0" y="506"/>
                  </a:lnTo>
                  <a:lnTo>
                    <a:pt x="3" y="477"/>
                  </a:lnTo>
                  <a:lnTo>
                    <a:pt x="13" y="451"/>
                  </a:lnTo>
                  <a:lnTo>
                    <a:pt x="25" y="425"/>
                  </a:lnTo>
                  <a:lnTo>
                    <a:pt x="37" y="400"/>
                  </a:lnTo>
                  <a:lnTo>
                    <a:pt x="48" y="374"/>
                  </a:lnTo>
                  <a:lnTo>
                    <a:pt x="54" y="348"/>
                  </a:lnTo>
                  <a:lnTo>
                    <a:pt x="54" y="320"/>
                  </a:lnTo>
                  <a:lnTo>
                    <a:pt x="45" y="290"/>
                  </a:lnTo>
                  <a:lnTo>
                    <a:pt x="37" y="267"/>
                  </a:lnTo>
                  <a:lnTo>
                    <a:pt x="36" y="245"/>
                  </a:lnTo>
                  <a:lnTo>
                    <a:pt x="41" y="224"/>
                  </a:lnTo>
                  <a:lnTo>
                    <a:pt x="49" y="203"/>
                  </a:lnTo>
                  <a:lnTo>
                    <a:pt x="60" y="183"/>
                  </a:lnTo>
                  <a:lnTo>
                    <a:pt x="72" y="164"/>
                  </a:lnTo>
                  <a:lnTo>
                    <a:pt x="86" y="146"/>
                  </a:lnTo>
                  <a:lnTo>
                    <a:pt x="100" y="129"/>
                  </a:lnTo>
                  <a:lnTo>
                    <a:pt x="116" y="109"/>
                  </a:lnTo>
                  <a:lnTo>
                    <a:pt x="134" y="91"/>
                  </a:lnTo>
                  <a:lnTo>
                    <a:pt x="152" y="75"/>
                  </a:lnTo>
                  <a:lnTo>
                    <a:pt x="171" y="61"/>
                  </a:lnTo>
                  <a:lnTo>
                    <a:pt x="192" y="48"/>
                  </a:lnTo>
                  <a:lnTo>
                    <a:pt x="213" y="38"/>
                  </a:lnTo>
                  <a:lnTo>
                    <a:pt x="235" y="28"/>
                  </a:lnTo>
                  <a:lnTo>
                    <a:pt x="257" y="21"/>
                  </a:lnTo>
                  <a:lnTo>
                    <a:pt x="281" y="15"/>
                  </a:lnTo>
                  <a:lnTo>
                    <a:pt x="305" y="9"/>
                  </a:lnTo>
                  <a:lnTo>
                    <a:pt x="329" y="5"/>
                  </a:lnTo>
                  <a:lnTo>
                    <a:pt x="354" y="3"/>
                  </a:lnTo>
                  <a:lnTo>
                    <a:pt x="379" y="1"/>
                  </a:lnTo>
                  <a:lnTo>
                    <a:pt x="405" y="0"/>
                  </a:lnTo>
                  <a:lnTo>
                    <a:pt x="430" y="0"/>
                  </a:lnTo>
                  <a:lnTo>
                    <a:pt x="456" y="1"/>
                  </a:lnTo>
                  <a:lnTo>
                    <a:pt x="465" y="2"/>
                  </a:lnTo>
                  <a:lnTo>
                    <a:pt x="475" y="4"/>
                  </a:lnTo>
                  <a:lnTo>
                    <a:pt x="484" y="6"/>
                  </a:lnTo>
                  <a:lnTo>
                    <a:pt x="493" y="8"/>
                  </a:lnTo>
                  <a:lnTo>
                    <a:pt x="501" y="10"/>
                  </a:lnTo>
                  <a:lnTo>
                    <a:pt x="511" y="12"/>
                  </a:lnTo>
                  <a:lnTo>
                    <a:pt x="521" y="13"/>
                  </a:lnTo>
                  <a:lnTo>
                    <a:pt x="53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059160" y="2039400"/>
              <a:ext cx="358560" cy="403920"/>
            </a:xfrm>
            <a:custGeom>
              <a:avLst/>
              <a:gdLst/>
              <a:ahLst/>
              <a:rect l="l" t="t" r="r" b="b"/>
              <a:pathLst>
                <a:path w="1121" h="1270">
                  <a:moveTo>
                    <a:pt x="628" y="18"/>
                  </a:moveTo>
                  <a:lnTo>
                    <a:pt x="634" y="38"/>
                  </a:lnTo>
                  <a:lnTo>
                    <a:pt x="637" y="61"/>
                  </a:lnTo>
                  <a:lnTo>
                    <a:pt x="639" y="83"/>
                  </a:lnTo>
                  <a:lnTo>
                    <a:pt x="639" y="105"/>
                  </a:lnTo>
                  <a:lnTo>
                    <a:pt x="640" y="129"/>
                  </a:lnTo>
                  <a:lnTo>
                    <a:pt x="643" y="150"/>
                  </a:lnTo>
                  <a:lnTo>
                    <a:pt x="650" y="170"/>
                  </a:lnTo>
                  <a:lnTo>
                    <a:pt x="662" y="189"/>
                  </a:lnTo>
                  <a:lnTo>
                    <a:pt x="671" y="200"/>
                  </a:lnTo>
                  <a:lnTo>
                    <a:pt x="681" y="210"/>
                  </a:lnTo>
                  <a:lnTo>
                    <a:pt x="691" y="221"/>
                  </a:lnTo>
                  <a:lnTo>
                    <a:pt x="699" y="233"/>
                  </a:lnTo>
                  <a:lnTo>
                    <a:pt x="708" y="243"/>
                  </a:lnTo>
                  <a:lnTo>
                    <a:pt x="714" y="256"/>
                  </a:lnTo>
                  <a:lnTo>
                    <a:pt x="718" y="269"/>
                  </a:lnTo>
                  <a:lnTo>
                    <a:pt x="721" y="282"/>
                  </a:lnTo>
                  <a:lnTo>
                    <a:pt x="725" y="302"/>
                  </a:lnTo>
                  <a:lnTo>
                    <a:pt x="729" y="321"/>
                  </a:lnTo>
                  <a:lnTo>
                    <a:pt x="736" y="339"/>
                  </a:lnTo>
                  <a:lnTo>
                    <a:pt x="746" y="355"/>
                  </a:lnTo>
                  <a:lnTo>
                    <a:pt x="761" y="372"/>
                  </a:lnTo>
                  <a:lnTo>
                    <a:pt x="777" y="386"/>
                  </a:lnTo>
                  <a:lnTo>
                    <a:pt x="794" y="402"/>
                  </a:lnTo>
                  <a:lnTo>
                    <a:pt x="810" y="418"/>
                  </a:lnTo>
                  <a:lnTo>
                    <a:pt x="822" y="435"/>
                  </a:lnTo>
                  <a:lnTo>
                    <a:pt x="832" y="454"/>
                  </a:lnTo>
                  <a:lnTo>
                    <a:pt x="835" y="476"/>
                  </a:lnTo>
                  <a:lnTo>
                    <a:pt x="832" y="499"/>
                  </a:lnTo>
                  <a:lnTo>
                    <a:pt x="831" y="514"/>
                  </a:lnTo>
                  <a:lnTo>
                    <a:pt x="835" y="525"/>
                  </a:lnTo>
                  <a:lnTo>
                    <a:pt x="842" y="536"/>
                  </a:lnTo>
                  <a:lnTo>
                    <a:pt x="853" y="546"/>
                  </a:lnTo>
                  <a:lnTo>
                    <a:pt x="866" y="554"/>
                  </a:lnTo>
                  <a:lnTo>
                    <a:pt x="880" y="561"/>
                  </a:lnTo>
                  <a:lnTo>
                    <a:pt x="892" y="569"/>
                  </a:lnTo>
                  <a:lnTo>
                    <a:pt x="903" y="575"/>
                  </a:lnTo>
                  <a:lnTo>
                    <a:pt x="913" y="575"/>
                  </a:lnTo>
                  <a:lnTo>
                    <a:pt x="916" y="546"/>
                  </a:lnTo>
                  <a:lnTo>
                    <a:pt x="918" y="515"/>
                  </a:lnTo>
                  <a:lnTo>
                    <a:pt x="921" y="485"/>
                  </a:lnTo>
                  <a:lnTo>
                    <a:pt x="925" y="456"/>
                  </a:lnTo>
                  <a:lnTo>
                    <a:pt x="933" y="454"/>
                  </a:lnTo>
                  <a:lnTo>
                    <a:pt x="941" y="452"/>
                  </a:lnTo>
                  <a:lnTo>
                    <a:pt x="950" y="451"/>
                  </a:lnTo>
                  <a:lnTo>
                    <a:pt x="959" y="450"/>
                  </a:lnTo>
                  <a:lnTo>
                    <a:pt x="968" y="450"/>
                  </a:lnTo>
                  <a:lnTo>
                    <a:pt x="976" y="452"/>
                  </a:lnTo>
                  <a:lnTo>
                    <a:pt x="983" y="455"/>
                  </a:lnTo>
                  <a:lnTo>
                    <a:pt x="989" y="462"/>
                  </a:lnTo>
                  <a:lnTo>
                    <a:pt x="1000" y="483"/>
                  </a:lnTo>
                  <a:lnTo>
                    <a:pt x="1003" y="504"/>
                  </a:lnTo>
                  <a:lnTo>
                    <a:pt x="1002" y="526"/>
                  </a:lnTo>
                  <a:lnTo>
                    <a:pt x="996" y="549"/>
                  </a:lnTo>
                  <a:lnTo>
                    <a:pt x="990" y="571"/>
                  </a:lnTo>
                  <a:lnTo>
                    <a:pt x="985" y="593"/>
                  </a:lnTo>
                  <a:lnTo>
                    <a:pt x="983" y="616"/>
                  </a:lnTo>
                  <a:lnTo>
                    <a:pt x="986" y="638"/>
                  </a:lnTo>
                  <a:lnTo>
                    <a:pt x="993" y="658"/>
                  </a:lnTo>
                  <a:lnTo>
                    <a:pt x="1003" y="678"/>
                  </a:lnTo>
                  <a:lnTo>
                    <a:pt x="1007" y="699"/>
                  </a:lnTo>
                  <a:lnTo>
                    <a:pt x="1004" y="721"/>
                  </a:lnTo>
                  <a:lnTo>
                    <a:pt x="999" y="729"/>
                  </a:lnTo>
                  <a:lnTo>
                    <a:pt x="991" y="734"/>
                  </a:lnTo>
                  <a:lnTo>
                    <a:pt x="982" y="735"/>
                  </a:lnTo>
                  <a:lnTo>
                    <a:pt x="972" y="734"/>
                  </a:lnTo>
                  <a:lnTo>
                    <a:pt x="961" y="732"/>
                  </a:lnTo>
                  <a:lnTo>
                    <a:pt x="951" y="730"/>
                  </a:lnTo>
                  <a:lnTo>
                    <a:pt x="939" y="729"/>
                  </a:lnTo>
                  <a:lnTo>
                    <a:pt x="929" y="730"/>
                  </a:lnTo>
                  <a:lnTo>
                    <a:pt x="944" y="748"/>
                  </a:lnTo>
                  <a:lnTo>
                    <a:pt x="957" y="766"/>
                  </a:lnTo>
                  <a:lnTo>
                    <a:pt x="971" y="785"/>
                  </a:lnTo>
                  <a:lnTo>
                    <a:pt x="983" y="804"/>
                  </a:lnTo>
                  <a:lnTo>
                    <a:pt x="995" y="823"/>
                  </a:lnTo>
                  <a:lnTo>
                    <a:pt x="1007" y="843"/>
                  </a:lnTo>
                  <a:lnTo>
                    <a:pt x="1018" y="863"/>
                  </a:lnTo>
                  <a:lnTo>
                    <a:pt x="1029" y="882"/>
                  </a:lnTo>
                  <a:lnTo>
                    <a:pt x="1040" y="902"/>
                  </a:lnTo>
                  <a:lnTo>
                    <a:pt x="1051" y="922"/>
                  </a:lnTo>
                  <a:lnTo>
                    <a:pt x="1062" y="942"/>
                  </a:lnTo>
                  <a:lnTo>
                    <a:pt x="1073" y="961"/>
                  </a:lnTo>
                  <a:lnTo>
                    <a:pt x="1085" y="982"/>
                  </a:lnTo>
                  <a:lnTo>
                    <a:pt x="1096" y="1002"/>
                  </a:lnTo>
                  <a:lnTo>
                    <a:pt x="1108" y="1021"/>
                  </a:lnTo>
                  <a:lnTo>
                    <a:pt x="1121" y="1040"/>
                  </a:lnTo>
                  <a:lnTo>
                    <a:pt x="1107" y="1053"/>
                  </a:lnTo>
                  <a:lnTo>
                    <a:pt x="1093" y="1065"/>
                  </a:lnTo>
                  <a:lnTo>
                    <a:pt x="1079" y="1079"/>
                  </a:lnTo>
                  <a:lnTo>
                    <a:pt x="1065" y="1093"/>
                  </a:lnTo>
                  <a:lnTo>
                    <a:pt x="1052" y="1107"/>
                  </a:lnTo>
                  <a:lnTo>
                    <a:pt x="1038" y="1122"/>
                  </a:lnTo>
                  <a:lnTo>
                    <a:pt x="1023" y="1135"/>
                  </a:lnTo>
                  <a:lnTo>
                    <a:pt x="1009" y="1148"/>
                  </a:lnTo>
                  <a:lnTo>
                    <a:pt x="994" y="1162"/>
                  </a:lnTo>
                  <a:lnTo>
                    <a:pt x="979" y="1174"/>
                  </a:lnTo>
                  <a:lnTo>
                    <a:pt x="965" y="1185"/>
                  </a:lnTo>
                  <a:lnTo>
                    <a:pt x="950" y="1196"/>
                  </a:lnTo>
                  <a:lnTo>
                    <a:pt x="933" y="1205"/>
                  </a:lnTo>
                  <a:lnTo>
                    <a:pt x="917" y="1214"/>
                  </a:lnTo>
                  <a:lnTo>
                    <a:pt x="900" y="1220"/>
                  </a:lnTo>
                  <a:lnTo>
                    <a:pt x="882" y="1226"/>
                  </a:lnTo>
                  <a:lnTo>
                    <a:pt x="877" y="1188"/>
                  </a:lnTo>
                  <a:lnTo>
                    <a:pt x="884" y="1154"/>
                  </a:lnTo>
                  <a:lnTo>
                    <a:pt x="898" y="1123"/>
                  </a:lnTo>
                  <a:lnTo>
                    <a:pt x="914" y="1092"/>
                  </a:lnTo>
                  <a:lnTo>
                    <a:pt x="929" y="1062"/>
                  </a:lnTo>
                  <a:lnTo>
                    <a:pt x="942" y="1030"/>
                  </a:lnTo>
                  <a:lnTo>
                    <a:pt x="949" y="997"/>
                  </a:lnTo>
                  <a:lnTo>
                    <a:pt x="943" y="961"/>
                  </a:lnTo>
                  <a:lnTo>
                    <a:pt x="937" y="927"/>
                  </a:lnTo>
                  <a:lnTo>
                    <a:pt x="933" y="892"/>
                  </a:lnTo>
                  <a:lnTo>
                    <a:pt x="931" y="857"/>
                  </a:lnTo>
                  <a:lnTo>
                    <a:pt x="925" y="822"/>
                  </a:lnTo>
                  <a:lnTo>
                    <a:pt x="913" y="859"/>
                  </a:lnTo>
                  <a:lnTo>
                    <a:pt x="908" y="899"/>
                  </a:lnTo>
                  <a:lnTo>
                    <a:pt x="907" y="939"/>
                  </a:lnTo>
                  <a:lnTo>
                    <a:pt x="907" y="979"/>
                  </a:lnTo>
                  <a:lnTo>
                    <a:pt x="905" y="995"/>
                  </a:lnTo>
                  <a:lnTo>
                    <a:pt x="900" y="1010"/>
                  </a:lnTo>
                  <a:lnTo>
                    <a:pt x="891" y="1024"/>
                  </a:lnTo>
                  <a:lnTo>
                    <a:pt x="881" y="1037"/>
                  </a:lnTo>
                  <a:lnTo>
                    <a:pt x="869" y="1049"/>
                  </a:lnTo>
                  <a:lnTo>
                    <a:pt x="857" y="1062"/>
                  </a:lnTo>
                  <a:lnTo>
                    <a:pt x="848" y="1075"/>
                  </a:lnTo>
                  <a:lnTo>
                    <a:pt x="839" y="1089"/>
                  </a:lnTo>
                  <a:lnTo>
                    <a:pt x="833" y="1103"/>
                  </a:lnTo>
                  <a:lnTo>
                    <a:pt x="826" y="1118"/>
                  </a:lnTo>
                  <a:lnTo>
                    <a:pt x="819" y="1133"/>
                  </a:lnTo>
                  <a:lnTo>
                    <a:pt x="811" y="1148"/>
                  </a:lnTo>
                  <a:lnTo>
                    <a:pt x="801" y="1161"/>
                  </a:lnTo>
                  <a:lnTo>
                    <a:pt x="789" y="1173"/>
                  </a:lnTo>
                  <a:lnTo>
                    <a:pt x="774" y="1180"/>
                  </a:lnTo>
                  <a:lnTo>
                    <a:pt x="757" y="1184"/>
                  </a:lnTo>
                  <a:lnTo>
                    <a:pt x="739" y="1186"/>
                  </a:lnTo>
                  <a:lnTo>
                    <a:pt x="722" y="1189"/>
                  </a:lnTo>
                  <a:lnTo>
                    <a:pt x="705" y="1193"/>
                  </a:lnTo>
                  <a:lnTo>
                    <a:pt x="688" y="1197"/>
                  </a:lnTo>
                  <a:lnTo>
                    <a:pt x="671" y="1201"/>
                  </a:lnTo>
                  <a:lnTo>
                    <a:pt x="656" y="1206"/>
                  </a:lnTo>
                  <a:lnTo>
                    <a:pt x="639" y="1212"/>
                  </a:lnTo>
                  <a:lnTo>
                    <a:pt x="623" y="1217"/>
                  </a:lnTo>
                  <a:lnTo>
                    <a:pt x="607" y="1223"/>
                  </a:lnTo>
                  <a:lnTo>
                    <a:pt x="591" y="1230"/>
                  </a:lnTo>
                  <a:lnTo>
                    <a:pt x="575" y="1236"/>
                  </a:lnTo>
                  <a:lnTo>
                    <a:pt x="559" y="1243"/>
                  </a:lnTo>
                  <a:lnTo>
                    <a:pt x="543" y="1249"/>
                  </a:lnTo>
                  <a:lnTo>
                    <a:pt x="527" y="1255"/>
                  </a:lnTo>
                  <a:lnTo>
                    <a:pt x="511" y="1263"/>
                  </a:lnTo>
                  <a:lnTo>
                    <a:pt x="495" y="1269"/>
                  </a:lnTo>
                  <a:lnTo>
                    <a:pt x="489" y="1270"/>
                  </a:lnTo>
                  <a:lnTo>
                    <a:pt x="484" y="1270"/>
                  </a:lnTo>
                  <a:lnTo>
                    <a:pt x="478" y="1268"/>
                  </a:lnTo>
                  <a:lnTo>
                    <a:pt x="473" y="1266"/>
                  </a:lnTo>
                  <a:lnTo>
                    <a:pt x="468" y="1262"/>
                  </a:lnTo>
                  <a:lnTo>
                    <a:pt x="462" y="1257"/>
                  </a:lnTo>
                  <a:lnTo>
                    <a:pt x="458" y="1254"/>
                  </a:lnTo>
                  <a:lnTo>
                    <a:pt x="453" y="1250"/>
                  </a:lnTo>
                  <a:lnTo>
                    <a:pt x="440" y="1239"/>
                  </a:lnTo>
                  <a:lnTo>
                    <a:pt x="427" y="1230"/>
                  </a:lnTo>
                  <a:lnTo>
                    <a:pt x="414" y="1219"/>
                  </a:lnTo>
                  <a:lnTo>
                    <a:pt x="402" y="1210"/>
                  </a:lnTo>
                  <a:lnTo>
                    <a:pt x="388" y="1199"/>
                  </a:lnTo>
                  <a:lnTo>
                    <a:pt x="375" y="1188"/>
                  </a:lnTo>
                  <a:lnTo>
                    <a:pt x="362" y="1178"/>
                  </a:lnTo>
                  <a:lnTo>
                    <a:pt x="350" y="1167"/>
                  </a:lnTo>
                  <a:lnTo>
                    <a:pt x="338" y="1157"/>
                  </a:lnTo>
                  <a:lnTo>
                    <a:pt x="325" y="1145"/>
                  </a:lnTo>
                  <a:lnTo>
                    <a:pt x="314" y="1134"/>
                  </a:lnTo>
                  <a:lnTo>
                    <a:pt x="301" y="1123"/>
                  </a:lnTo>
                  <a:lnTo>
                    <a:pt x="289" y="1111"/>
                  </a:lnTo>
                  <a:lnTo>
                    <a:pt x="279" y="1098"/>
                  </a:lnTo>
                  <a:lnTo>
                    <a:pt x="267" y="1087"/>
                  </a:lnTo>
                  <a:lnTo>
                    <a:pt x="256" y="1074"/>
                  </a:lnTo>
                  <a:lnTo>
                    <a:pt x="236" y="1045"/>
                  </a:lnTo>
                  <a:lnTo>
                    <a:pt x="219" y="1016"/>
                  </a:lnTo>
                  <a:lnTo>
                    <a:pt x="203" y="985"/>
                  </a:lnTo>
                  <a:lnTo>
                    <a:pt x="187" y="953"/>
                  </a:lnTo>
                  <a:lnTo>
                    <a:pt x="171" y="921"/>
                  </a:lnTo>
                  <a:lnTo>
                    <a:pt x="154" y="891"/>
                  </a:lnTo>
                  <a:lnTo>
                    <a:pt x="134" y="863"/>
                  </a:lnTo>
                  <a:lnTo>
                    <a:pt x="111" y="836"/>
                  </a:lnTo>
                  <a:lnTo>
                    <a:pt x="117" y="850"/>
                  </a:lnTo>
                  <a:lnTo>
                    <a:pt x="124" y="863"/>
                  </a:lnTo>
                  <a:lnTo>
                    <a:pt x="130" y="877"/>
                  </a:lnTo>
                  <a:lnTo>
                    <a:pt x="136" y="890"/>
                  </a:lnTo>
                  <a:lnTo>
                    <a:pt x="143" y="904"/>
                  </a:lnTo>
                  <a:lnTo>
                    <a:pt x="149" y="917"/>
                  </a:lnTo>
                  <a:lnTo>
                    <a:pt x="155" y="931"/>
                  </a:lnTo>
                  <a:lnTo>
                    <a:pt x="161" y="944"/>
                  </a:lnTo>
                  <a:lnTo>
                    <a:pt x="126" y="921"/>
                  </a:lnTo>
                  <a:lnTo>
                    <a:pt x="121" y="903"/>
                  </a:lnTo>
                  <a:lnTo>
                    <a:pt x="115" y="887"/>
                  </a:lnTo>
                  <a:lnTo>
                    <a:pt x="108" y="870"/>
                  </a:lnTo>
                  <a:lnTo>
                    <a:pt x="99" y="855"/>
                  </a:lnTo>
                  <a:lnTo>
                    <a:pt x="89" y="839"/>
                  </a:lnTo>
                  <a:lnTo>
                    <a:pt x="78" y="825"/>
                  </a:lnTo>
                  <a:lnTo>
                    <a:pt x="66" y="811"/>
                  </a:lnTo>
                  <a:lnTo>
                    <a:pt x="53" y="796"/>
                  </a:lnTo>
                  <a:lnTo>
                    <a:pt x="47" y="782"/>
                  </a:lnTo>
                  <a:lnTo>
                    <a:pt x="46" y="767"/>
                  </a:lnTo>
                  <a:lnTo>
                    <a:pt x="46" y="751"/>
                  </a:lnTo>
                  <a:lnTo>
                    <a:pt x="45" y="737"/>
                  </a:lnTo>
                  <a:lnTo>
                    <a:pt x="58" y="745"/>
                  </a:lnTo>
                  <a:lnTo>
                    <a:pt x="67" y="755"/>
                  </a:lnTo>
                  <a:lnTo>
                    <a:pt x="76" y="765"/>
                  </a:lnTo>
                  <a:lnTo>
                    <a:pt x="84" y="777"/>
                  </a:lnTo>
                  <a:lnTo>
                    <a:pt x="91" y="788"/>
                  </a:lnTo>
                  <a:lnTo>
                    <a:pt x="98" y="800"/>
                  </a:lnTo>
                  <a:lnTo>
                    <a:pt x="107" y="812"/>
                  </a:lnTo>
                  <a:lnTo>
                    <a:pt x="116" y="821"/>
                  </a:lnTo>
                  <a:lnTo>
                    <a:pt x="113" y="807"/>
                  </a:lnTo>
                  <a:lnTo>
                    <a:pt x="110" y="793"/>
                  </a:lnTo>
                  <a:lnTo>
                    <a:pt x="106" y="778"/>
                  </a:lnTo>
                  <a:lnTo>
                    <a:pt x="101" y="763"/>
                  </a:lnTo>
                  <a:lnTo>
                    <a:pt x="96" y="749"/>
                  </a:lnTo>
                  <a:lnTo>
                    <a:pt x="92" y="734"/>
                  </a:lnTo>
                  <a:lnTo>
                    <a:pt x="87" y="721"/>
                  </a:lnTo>
                  <a:lnTo>
                    <a:pt x="83" y="706"/>
                  </a:lnTo>
                  <a:lnTo>
                    <a:pt x="78" y="686"/>
                  </a:lnTo>
                  <a:lnTo>
                    <a:pt x="73" y="665"/>
                  </a:lnTo>
                  <a:lnTo>
                    <a:pt x="66" y="645"/>
                  </a:lnTo>
                  <a:lnTo>
                    <a:pt x="60" y="626"/>
                  </a:lnTo>
                  <a:lnTo>
                    <a:pt x="51" y="607"/>
                  </a:lnTo>
                  <a:lnTo>
                    <a:pt x="44" y="588"/>
                  </a:lnTo>
                  <a:lnTo>
                    <a:pt x="35" y="569"/>
                  </a:lnTo>
                  <a:lnTo>
                    <a:pt x="26" y="550"/>
                  </a:lnTo>
                  <a:lnTo>
                    <a:pt x="19" y="531"/>
                  </a:lnTo>
                  <a:lnTo>
                    <a:pt x="17" y="512"/>
                  </a:lnTo>
                  <a:lnTo>
                    <a:pt x="18" y="490"/>
                  </a:lnTo>
                  <a:lnTo>
                    <a:pt x="21" y="470"/>
                  </a:lnTo>
                  <a:lnTo>
                    <a:pt x="22" y="449"/>
                  </a:lnTo>
                  <a:lnTo>
                    <a:pt x="22" y="429"/>
                  </a:lnTo>
                  <a:lnTo>
                    <a:pt x="19" y="409"/>
                  </a:lnTo>
                  <a:lnTo>
                    <a:pt x="12" y="391"/>
                  </a:lnTo>
                  <a:lnTo>
                    <a:pt x="4" y="371"/>
                  </a:lnTo>
                  <a:lnTo>
                    <a:pt x="0" y="350"/>
                  </a:lnTo>
                  <a:lnTo>
                    <a:pt x="1" y="331"/>
                  </a:lnTo>
                  <a:lnTo>
                    <a:pt x="6" y="311"/>
                  </a:lnTo>
                  <a:lnTo>
                    <a:pt x="12" y="292"/>
                  </a:lnTo>
                  <a:lnTo>
                    <a:pt x="21" y="274"/>
                  </a:lnTo>
                  <a:lnTo>
                    <a:pt x="29" y="256"/>
                  </a:lnTo>
                  <a:lnTo>
                    <a:pt x="38" y="238"/>
                  </a:lnTo>
                  <a:lnTo>
                    <a:pt x="48" y="232"/>
                  </a:lnTo>
                  <a:lnTo>
                    <a:pt x="49" y="212"/>
                  </a:lnTo>
                  <a:lnTo>
                    <a:pt x="48" y="192"/>
                  </a:lnTo>
                  <a:lnTo>
                    <a:pt x="46" y="173"/>
                  </a:lnTo>
                  <a:lnTo>
                    <a:pt x="45" y="154"/>
                  </a:lnTo>
                  <a:lnTo>
                    <a:pt x="57" y="157"/>
                  </a:lnTo>
                  <a:lnTo>
                    <a:pt x="68" y="160"/>
                  </a:lnTo>
                  <a:lnTo>
                    <a:pt x="80" y="165"/>
                  </a:lnTo>
                  <a:lnTo>
                    <a:pt x="92" y="168"/>
                  </a:lnTo>
                  <a:lnTo>
                    <a:pt x="103" y="172"/>
                  </a:lnTo>
                  <a:lnTo>
                    <a:pt x="115" y="176"/>
                  </a:lnTo>
                  <a:lnTo>
                    <a:pt x="128" y="180"/>
                  </a:lnTo>
                  <a:lnTo>
                    <a:pt x="139" y="184"/>
                  </a:lnTo>
                  <a:lnTo>
                    <a:pt x="151" y="187"/>
                  </a:lnTo>
                  <a:lnTo>
                    <a:pt x="164" y="190"/>
                  </a:lnTo>
                  <a:lnTo>
                    <a:pt x="177" y="192"/>
                  </a:lnTo>
                  <a:lnTo>
                    <a:pt x="188" y="193"/>
                  </a:lnTo>
                  <a:lnTo>
                    <a:pt x="201" y="194"/>
                  </a:lnTo>
                  <a:lnTo>
                    <a:pt x="214" y="194"/>
                  </a:lnTo>
                  <a:lnTo>
                    <a:pt x="228" y="194"/>
                  </a:lnTo>
                  <a:lnTo>
                    <a:pt x="240" y="192"/>
                  </a:lnTo>
                  <a:lnTo>
                    <a:pt x="258" y="189"/>
                  </a:lnTo>
                  <a:lnTo>
                    <a:pt x="275" y="185"/>
                  </a:lnTo>
                  <a:lnTo>
                    <a:pt x="293" y="180"/>
                  </a:lnTo>
                  <a:lnTo>
                    <a:pt x="310" y="174"/>
                  </a:lnTo>
                  <a:lnTo>
                    <a:pt x="327" y="168"/>
                  </a:lnTo>
                  <a:lnTo>
                    <a:pt x="343" y="159"/>
                  </a:lnTo>
                  <a:lnTo>
                    <a:pt x="360" y="150"/>
                  </a:lnTo>
                  <a:lnTo>
                    <a:pt x="376" y="138"/>
                  </a:lnTo>
                  <a:lnTo>
                    <a:pt x="392" y="125"/>
                  </a:lnTo>
                  <a:lnTo>
                    <a:pt x="406" y="111"/>
                  </a:lnTo>
                  <a:lnTo>
                    <a:pt x="420" y="96"/>
                  </a:lnTo>
                  <a:lnTo>
                    <a:pt x="433" y="81"/>
                  </a:lnTo>
                  <a:lnTo>
                    <a:pt x="444" y="65"/>
                  </a:lnTo>
                  <a:lnTo>
                    <a:pt x="457" y="50"/>
                  </a:lnTo>
                  <a:lnTo>
                    <a:pt x="470" y="34"/>
                  </a:lnTo>
                  <a:lnTo>
                    <a:pt x="484" y="19"/>
                  </a:lnTo>
                  <a:lnTo>
                    <a:pt x="497" y="9"/>
                  </a:lnTo>
                  <a:lnTo>
                    <a:pt x="513" y="2"/>
                  </a:lnTo>
                  <a:lnTo>
                    <a:pt x="530" y="0"/>
                  </a:lnTo>
                  <a:lnTo>
                    <a:pt x="548" y="0"/>
                  </a:lnTo>
                  <a:lnTo>
                    <a:pt x="566" y="2"/>
                  </a:lnTo>
                  <a:lnTo>
                    <a:pt x="584" y="6"/>
                  </a:lnTo>
                  <a:lnTo>
                    <a:pt x="602" y="10"/>
                  </a:lnTo>
                  <a:lnTo>
                    <a:pt x="618" y="13"/>
                  </a:lnTo>
                  <a:lnTo>
                    <a:pt x="628" y="18"/>
                  </a:lnTo>
                  <a:close/>
                </a:path>
              </a:pathLst>
            </a:cu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059160" y="2089080"/>
              <a:ext cx="166320" cy="354240"/>
            </a:xfrm>
            <a:custGeom>
              <a:avLst/>
              <a:gdLst/>
              <a:ahLst/>
              <a:rect l="l" t="t" r="r" b="b"/>
              <a:pathLst>
                <a:path w="519" h="1116">
                  <a:moveTo>
                    <a:pt x="48" y="78"/>
                  </a:moveTo>
                  <a:lnTo>
                    <a:pt x="38" y="84"/>
                  </a:lnTo>
                  <a:lnTo>
                    <a:pt x="29" y="102"/>
                  </a:lnTo>
                  <a:lnTo>
                    <a:pt x="21" y="120"/>
                  </a:lnTo>
                  <a:lnTo>
                    <a:pt x="12" y="138"/>
                  </a:lnTo>
                  <a:lnTo>
                    <a:pt x="6" y="157"/>
                  </a:lnTo>
                  <a:lnTo>
                    <a:pt x="1" y="177"/>
                  </a:lnTo>
                  <a:lnTo>
                    <a:pt x="0" y="196"/>
                  </a:lnTo>
                  <a:lnTo>
                    <a:pt x="4" y="217"/>
                  </a:lnTo>
                  <a:lnTo>
                    <a:pt x="12" y="237"/>
                  </a:lnTo>
                  <a:lnTo>
                    <a:pt x="19" y="255"/>
                  </a:lnTo>
                  <a:lnTo>
                    <a:pt x="22" y="275"/>
                  </a:lnTo>
                  <a:lnTo>
                    <a:pt x="22" y="295"/>
                  </a:lnTo>
                  <a:lnTo>
                    <a:pt x="21" y="316"/>
                  </a:lnTo>
                  <a:lnTo>
                    <a:pt x="18" y="336"/>
                  </a:lnTo>
                  <a:lnTo>
                    <a:pt x="17" y="358"/>
                  </a:lnTo>
                  <a:lnTo>
                    <a:pt x="19" y="377"/>
                  </a:lnTo>
                  <a:lnTo>
                    <a:pt x="26" y="396"/>
                  </a:lnTo>
                  <a:lnTo>
                    <a:pt x="35" y="415"/>
                  </a:lnTo>
                  <a:lnTo>
                    <a:pt x="44" y="434"/>
                  </a:lnTo>
                  <a:lnTo>
                    <a:pt x="51" y="453"/>
                  </a:lnTo>
                  <a:lnTo>
                    <a:pt x="60" y="472"/>
                  </a:lnTo>
                  <a:lnTo>
                    <a:pt x="66" y="491"/>
                  </a:lnTo>
                  <a:lnTo>
                    <a:pt x="73" y="511"/>
                  </a:lnTo>
                  <a:lnTo>
                    <a:pt x="78" y="532"/>
                  </a:lnTo>
                  <a:lnTo>
                    <a:pt x="83" y="552"/>
                  </a:lnTo>
                  <a:lnTo>
                    <a:pt x="87" y="567"/>
                  </a:lnTo>
                  <a:lnTo>
                    <a:pt x="92" y="580"/>
                  </a:lnTo>
                  <a:lnTo>
                    <a:pt x="96" y="595"/>
                  </a:lnTo>
                  <a:lnTo>
                    <a:pt x="101" y="609"/>
                  </a:lnTo>
                  <a:lnTo>
                    <a:pt x="106" y="624"/>
                  </a:lnTo>
                  <a:lnTo>
                    <a:pt x="110" y="639"/>
                  </a:lnTo>
                  <a:lnTo>
                    <a:pt x="113" y="653"/>
                  </a:lnTo>
                  <a:lnTo>
                    <a:pt x="116" y="667"/>
                  </a:lnTo>
                  <a:lnTo>
                    <a:pt x="107" y="658"/>
                  </a:lnTo>
                  <a:lnTo>
                    <a:pt x="98" y="646"/>
                  </a:lnTo>
                  <a:lnTo>
                    <a:pt x="91" y="634"/>
                  </a:lnTo>
                  <a:lnTo>
                    <a:pt x="84" y="623"/>
                  </a:lnTo>
                  <a:lnTo>
                    <a:pt x="76" y="611"/>
                  </a:lnTo>
                  <a:lnTo>
                    <a:pt x="67" y="601"/>
                  </a:lnTo>
                  <a:lnTo>
                    <a:pt x="58" y="591"/>
                  </a:lnTo>
                  <a:lnTo>
                    <a:pt x="45" y="583"/>
                  </a:lnTo>
                  <a:lnTo>
                    <a:pt x="46" y="597"/>
                  </a:lnTo>
                  <a:lnTo>
                    <a:pt x="46" y="613"/>
                  </a:lnTo>
                  <a:lnTo>
                    <a:pt x="47" y="628"/>
                  </a:lnTo>
                  <a:lnTo>
                    <a:pt x="53" y="642"/>
                  </a:lnTo>
                  <a:lnTo>
                    <a:pt x="66" y="657"/>
                  </a:lnTo>
                  <a:lnTo>
                    <a:pt x="78" y="671"/>
                  </a:lnTo>
                  <a:lnTo>
                    <a:pt x="89" y="685"/>
                  </a:lnTo>
                  <a:lnTo>
                    <a:pt x="99" y="701"/>
                  </a:lnTo>
                  <a:lnTo>
                    <a:pt x="108" y="716"/>
                  </a:lnTo>
                  <a:lnTo>
                    <a:pt x="115" y="733"/>
                  </a:lnTo>
                  <a:lnTo>
                    <a:pt x="121" y="749"/>
                  </a:lnTo>
                  <a:lnTo>
                    <a:pt x="126" y="767"/>
                  </a:lnTo>
                  <a:lnTo>
                    <a:pt x="161" y="790"/>
                  </a:lnTo>
                  <a:lnTo>
                    <a:pt x="155" y="777"/>
                  </a:lnTo>
                  <a:lnTo>
                    <a:pt x="149" y="763"/>
                  </a:lnTo>
                  <a:lnTo>
                    <a:pt x="143" y="750"/>
                  </a:lnTo>
                  <a:lnTo>
                    <a:pt x="136" y="736"/>
                  </a:lnTo>
                  <a:lnTo>
                    <a:pt x="130" y="723"/>
                  </a:lnTo>
                  <a:lnTo>
                    <a:pt x="124" y="709"/>
                  </a:lnTo>
                  <a:lnTo>
                    <a:pt x="117" y="696"/>
                  </a:lnTo>
                  <a:lnTo>
                    <a:pt x="111" y="682"/>
                  </a:lnTo>
                  <a:lnTo>
                    <a:pt x="134" y="709"/>
                  </a:lnTo>
                  <a:lnTo>
                    <a:pt x="154" y="737"/>
                  </a:lnTo>
                  <a:lnTo>
                    <a:pt x="171" y="767"/>
                  </a:lnTo>
                  <a:lnTo>
                    <a:pt x="187" y="799"/>
                  </a:lnTo>
                  <a:lnTo>
                    <a:pt x="203" y="831"/>
                  </a:lnTo>
                  <a:lnTo>
                    <a:pt x="219" y="862"/>
                  </a:lnTo>
                  <a:lnTo>
                    <a:pt x="236" y="891"/>
                  </a:lnTo>
                  <a:lnTo>
                    <a:pt x="256" y="920"/>
                  </a:lnTo>
                  <a:lnTo>
                    <a:pt x="267" y="933"/>
                  </a:lnTo>
                  <a:lnTo>
                    <a:pt x="279" y="944"/>
                  </a:lnTo>
                  <a:lnTo>
                    <a:pt x="289" y="957"/>
                  </a:lnTo>
                  <a:lnTo>
                    <a:pt x="301" y="969"/>
                  </a:lnTo>
                  <a:lnTo>
                    <a:pt x="314" y="980"/>
                  </a:lnTo>
                  <a:lnTo>
                    <a:pt x="325" y="991"/>
                  </a:lnTo>
                  <a:lnTo>
                    <a:pt x="338" y="1003"/>
                  </a:lnTo>
                  <a:lnTo>
                    <a:pt x="350" y="1013"/>
                  </a:lnTo>
                  <a:lnTo>
                    <a:pt x="362" y="1024"/>
                  </a:lnTo>
                  <a:lnTo>
                    <a:pt x="375" y="1034"/>
                  </a:lnTo>
                  <a:lnTo>
                    <a:pt x="388" y="1045"/>
                  </a:lnTo>
                  <a:lnTo>
                    <a:pt x="402" y="1056"/>
                  </a:lnTo>
                  <a:lnTo>
                    <a:pt x="414" y="1065"/>
                  </a:lnTo>
                  <a:lnTo>
                    <a:pt x="427" y="1076"/>
                  </a:lnTo>
                  <a:lnTo>
                    <a:pt x="440" y="1085"/>
                  </a:lnTo>
                  <a:lnTo>
                    <a:pt x="453" y="1096"/>
                  </a:lnTo>
                  <a:lnTo>
                    <a:pt x="458" y="1100"/>
                  </a:lnTo>
                  <a:lnTo>
                    <a:pt x="462" y="1103"/>
                  </a:lnTo>
                  <a:lnTo>
                    <a:pt x="468" y="1108"/>
                  </a:lnTo>
                  <a:lnTo>
                    <a:pt x="473" y="1112"/>
                  </a:lnTo>
                  <a:lnTo>
                    <a:pt x="478" y="1114"/>
                  </a:lnTo>
                  <a:lnTo>
                    <a:pt x="484" y="1116"/>
                  </a:lnTo>
                  <a:lnTo>
                    <a:pt x="489" y="1116"/>
                  </a:lnTo>
                  <a:lnTo>
                    <a:pt x="495" y="1115"/>
                  </a:lnTo>
                  <a:lnTo>
                    <a:pt x="501" y="1113"/>
                  </a:lnTo>
                  <a:lnTo>
                    <a:pt x="507" y="1110"/>
                  </a:lnTo>
                  <a:lnTo>
                    <a:pt x="513" y="1108"/>
                  </a:lnTo>
                  <a:lnTo>
                    <a:pt x="519" y="1106"/>
                  </a:lnTo>
                  <a:lnTo>
                    <a:pt x="513" y="1099"/>
                  </a:lnTo>
                  <a:lnTo>
                    <a:pt x="509" y="1093"/>
                  </a:lnTo>
                  <a:lnTo>
                    <a:pt x="504" y="1086"/>
                  </a:lnTo>
                  <a:lnTo>
                    <a:pt x="498" y="1080"/>
                  </a:lnTo>
                  <a:lnTo>
                    <a:pt x="494" y="1075"/>
                  </a:lnTo>
                  <a:lnTo>
                    <a:pt x="489" y="1068"/>
                  </a:lnTo>
                  <a:lnTo>
                    <a:pt x="485" y="1062"/>
                  </a:lnTo>
                  <a:lnTo>
                    <a:pt x="480" y="1056"/>
                  </a:lnTo>
                  <a:lnTo>
                    <a:pt x="463" y="1035"/>
                  </a:lnTo>
                  <a:lnTo>
                    <a:pt x="445" y="1019"/>
                  </a:lnTo>
                  <a:lnTo>
                    <a:pt x="425" y="1004"/>
                  </a:lnTo>
                  <a:lnTo>
                    <a:pt x="404" y="991"/>
                  </a:lnTo>
                  <a:lnTo>
                    <a:pt x="382" y="980"/>
                  </a:lnTo>
                  <a:lnTo>
                    <a:pt x="359" y="972"/>
                  </a:lnTo>
                  <a:lnTo>
                    <a:pt x="336" y="963"/>
                  </a:lnTo>
                  <a:lnTo>
                    <a:pt x="313" y="955"/>
                  </a:lnTo>
                  <a:lnTo>
                    <a:pt x="304" y="951"/>
                  </a:lnTo>
                  <a:lnTo>
                    <a:pt x="296" y="943"/>
                  </a:lnTo>
                  <a:lnTo>
                    <a:pt x="290" y="936"/>
                  </a:lnTo>
                  <a:lnTo>
                    <a:pt x="288" y="926"/>
                  </a:lnTo>
                  <a:lnTo>
                    <a:pt x="283" y="906"/>
                  </a:lnTo>
                  <a:lnTo>
                    <a:pt x="279" y="887"/>
                  </a:lnTo>
                  <a:lnTo>
                    <a:pt x="273" y="868"/>
                  </a:lnTo>
                  <a:lnTo>
                    <a:pt x="268" y="850"/>
                  </a:lnTo>
                  <a:lnTo>
                    <a:pt x="262" y="832"/>
                  </a:lnTo>
                  <a:lnTo>
                    <a:pt x="255" y="815"/>
                  </a:lnTo>
                  <a:lnTo>
                    <a:pt x="248" y="797"/>
                  </a:lnTo>
                  <a:lnTo>
                    <a:pt x="240" y="780"/>
                  </a:lnTo>
                  <a:lnTo>
                    <a:pt x="238" y="777"/>
                  </a:lnTo>
                  <a:lnTo>
                    <a:pt x="234" y="773"/>
                  </a:lnTo>
                  <a:lnTo>
                    <a:pt x="230" y="770"/>
                  </a:lnTo>
                  <a:lnTo>
                    <a:pt x="225" y="767"/>
                  </a:lnTo>
                  <a:lnTo>
                    <a:pt x="211" y="732"/>
                  </a:lnTo>
                  <a:lnTo>
                    <a:pt x="194" y="697"/>
                  </a:lnTo>
                  <a:lnTo>
                    <a:pt x="176" y="663"/>
                  </a:lnTo>
                  <a:lnTo>
                    <a:pt x="158" y="630"/>
                  </a:lnTo>
                  <a:lnTo>
                    <a:pt x="139" y="597"/>
                  </a:lnTo>
                  <a:lnTo>
                    <a:pt x="120" y="563"/>
                  </a:lnTo>
                  <a:lnTo>
                    <a:pt x="103" y="529"/>
                  </a:lnTo>
                  <a:lnTo>
                    <a:pt x="86" y="496"/>
                  </a:lnTo>
                  <a:lnTo>
                    <a:pt x="84" y="484"/>
                  </a:lnTo>
                  <a:lnTo>
                    <a:pt x="81" y="471"/>
                  </a:lnTo>
                  <a:lnTo>
                    <a:pt x="80" y="458"/>
                  </a:lnTo>
                  <a:lnTo>
                    <a:pt x="79" y="447"/>
                  </a:lnTo>
                  <a:lnTo>
                    <a:pt x="82" y="381"/>
                  </a:lnTo>
                  <a:lnTo>
                    <a:pt x="78" y="314"/>
                  </a:lnTo>
                  <a:lnTo>
                    <a:pt x="76" y="248"/>
                  </a:lnTo>
                  <a:lnTo>
                    <a:pt x="83" y="183"/>
                  </a:lnTo>
                  <a:lnTo>
                    <a:pt x="89" y="152"/>
                  </a:lnTo>
                  <a:lnTo>
                    <a:pt x="91" y="123"/>
                  </a:lnTo>
                  <a:lnTo>
                    <a:pt x="90" y="95"/>
                  </a:lnTo>
                  <a:lnTo>
                    <a:pt x="87" y="66"/>
                  </a:lnTo>
                  <a:lnTo>
                    <a:pt x="86" y="51"/>
                  </a:lnTo>
                  <a:lnTo>
                    <a:pt x="82" y="37"/>
                  </a:lnTo>
                  <a:lnTo>
                    <a:pt x="79" y="22"/>
                  </a:lnTo>
                  <a:lnTo>
                    <a:pt x="77" y="9"/>
                  </a:lnTo>
                  <a:lnTo>
                    <a:pt x="73" y="8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6" y="19"/>
                  </a:lnTo>
                  <a:lnTo>
                    <a:pt x="48" y="38"/>
                  </a:lnTo>
                  <a:lnTo>
                    <a:pt x="49" y="58"/>
                  </a:lnTo>
                  <a:lnTo>
                    <a:pt x="48" y="78"/>
                  </a:lnTo>
                  <a:close/>
                </a:path>
              </a:pathLst>
            </a:custGeom>
            <a:solidFill>
              <a:srgbClr val="ddb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179760" y="2141280"/>
              <a:ext cx="106200" cy="3168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333" y="31"/>
                  </a:moveTo>
                  <a:lnTo>
                    <a:pt x="313" y="29"/>
                  </a:lnTo>
                  <a:lnTo>
                    <a:pt x="292" y="27"/>
                  </a:lnTo>
                  <a:lnTo>
                    <a:pt x="272" y="25"/>
                  </a:lnTo>
                  <a:lnTo>
                    <a:pt x="252" y="25"/>
                  </a:lnTo>
                  <a:lnTo>
                    <a:pt x="232" y="27"/>
                  </a:lnTo>
                  <a:lnTo>
                    <a:pt x="213" y="31"/>
                  </a:lnTo>
                  <a:lnTo>
                    <a:pt x="195" y="38"/>
                  </a:lnTo>
                  <a:lnTo>
                    <a:pt x="178" y="48"/>
                  </a:lnTo>
                  <a:lnTo>
                    <a:pt x="168" y="55"/>
                  </a:lnTo>
                  <a:lnTo>
                    <a:pt x="159" y="62"/>
                  </a:lnTo>
                  <a:lnTo>
                    <a:pt x="148" y="67"/>
                  </a:lnTo>
                  <a:lnTo>
                    <a:pt x="138" y="74"/>
                  </a:lnTo>
                  <a:lnTo>
                    <a:pt x="128" y="79"/>
                  </a:lnTo>
                  <a:lnTo>
                    <a:pt x="117" y="83"/>
                  </a:lnTo>
                  <a:lnTo>
                    <a:pt x="105" y="88"/>
                  </a:lnTo>
                  <a:lnTo>
                    <a:pt x="95" y="92"/>
                  </a:lnTo>
                  <a:lnTo>
                    <a:pt x="83" y="95"/>
                  </a:lnTo>
                  <a:lnTo>
                    <a:pt x="71" y="97"/>
                  </a:lnTo>
                  <a:lnTo>
                    <a:pt x="60" y="98"/>
                  </a:lnTo>
                  <a:lnTo>
                    <a:pt x="48" y="99"/>
                  </a:lnTo>
                  <a:lnTo>
                    <a:pt x="36" y="99"/>
                  </a:lnTo>
                  <a:lnTo>
                    <a:pt x="25" y="98"/>
                  </a:lnTo>
                  <a:lnTo>
                    <a:pt x="12" y="96"/>
                  </a:lnTo>
                  <a:lnTo>
                    <a:pt x="0" y="93"/>
                  </a:lnTo>
                  <a:lnTo>
                    <a:pt x="16" y="89"/>
                  </a:lnTo>
                  <a:lnTo>
                    <a:pt x="31" y="83"/>
                  </a:lnTo>
                  <a:lnTo>
                    <a:pt x="46" y="77"/>
                  </a:lnTo>
                  <a:lnTo>
                    <a:pt x="61" y="69"/>
                  </a:lnTo>
                  <a:lnTo>
                    <a:pt x="76" y="61"/>
                  </a:lnTo>
                  <a:lnTo>
                    <a:pt x="91" y="52"/>
                  </a:lnTo>
                  <a:lnTo>
                    <a:pt x="104" y="43"/>
                  </a:lnTo>
                  <a:lnTo>
                    <a:pt x="119" y="35"/>
                  </a:lnTo>
                  <a:lnTo>
                    <a:pt x="134" y="26"/>
                  </a:lnTo>
                  <a:lnTo>
                    <a:pt x="149" y="19"/>
                  </a:lnTo>
                  <a:lnTo>
                    <a:pt x="164" y="11"/>
                  </a:lnTo>
                  <a:lnTo>
                    <a:pt x="180" y="6"/>
                  </a:lnTo>
                  <a:lnTo>
                    <a:pt x="196" y="2"/>
                  </a:lnTo>
                  <a:lnTo>
                    <a:pt x="213" y="0"/>
                  </a:lnTo>
                  <a:lnTo>
                    <a:pt x="230" y="0"/>
                  </a:lnTo>
                  <a:lnTo>
                    <a:pt x="248" y="2"/>
                  </a:lnTo>
                  <a:lnTo>
                    <a:pt x="258" y="4"/>
                  </a:lnTo>
                  <a:lnTo>
                    <a:pt x="270" y="6"/>
                  </a:lnTo>
                  <a:lnTo>
                    <a:pt x="281" y="9"/>
                  </a:lnTo>
                  <a:lnTo>
                    <a:pt x="292" y="11"/>
                  </a:lnTo>
                  <a:lnTo>
                    <a:pt x="303" y="15"/>
                  </a:lnTo>
                  <a:lnTo>
                    <a:pt x="313" y="20"/>
                  </a:lnTo>
                  <a:lnTo>
                    <a:pt x="323" y="25"/>
                  </a:lnTo>
                  <a:lnTo>
                    <a:pt x="33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197400" y="2169000"/>
              <a:ext cx="65160" cy="20160"/>
            </a:xfrm>
            <a:custGeom>
              <a:avLst/>
              <a:gdLst/>
              <a:ahLst/>
              <a:rect l="l" t="t" r="r" b="b"/>
              <a:pathLst>
                <a:path w="203" h="62">
                  <a:moveTo>
                    <a:pt x="0" y="62"/>
                  </a:moveTo>
                  <a:lnTo>
                    <a:pt x="35" y="24"/>
                  </a:lnTo>
                  <a:lnTo>
                    <a:pt x="41" y="22"/>
                  </a:lnTo>
                  <a:lnTo>
                    <a:pt x="56" y="19"/>
                  </a:lnTo>
                  <a:lnTo>
                    <a:pt x="79" y="12"/>
                  </a:lnTo>
                  <a:lnTo>
                    <a:pt x="107" y="7"/>
                  </a:lnTo>
                  <a:lnTo>
                    <a:pt x="135" y="3"/>
                  </a:lnTo>
                  <a:lnTo>
                    <a:pt x="163" y="0"/>
                  </a:lnTo>
                  <a:lnTo>
                    <a:pt x="186" y="1"/>
                  </a:lnTo>
                  <a:lnTo>
                    <a:pt x="203" y="6"/>
                  </a:lnTo>
                  <a:lnTo>
                    <a:pt x="203" y="7"/>
                  </a:lnTo>
                  <a:lnTo>
                    <a:pt x="202" y="8"/>
                  </a:lnTo>
                  <a:lnTo>
                    <a:pt x="200" y="11"/>
                  </a:lnTo>
                  <a:lnTo>
                    <a:pt x="197" y="15"/>
                  </a:lnTo>
                  <a:lnTo>
                    <a:pt x="192" y="19"/>
                  </a:lnTo>
                  <a:lnTo>
                    <a:pt x="186" y="23"/>
                  </a:lnTo>
                  <a:lnTo>
                    <a:pt x="178" y="28"/>
                  </a:lnTo>
                  <a:lnTo>
                    <a:pt x="168" y="34"/>
                  </a:lnTo>
                  <a:lnTo>
                    <a:pt x="157" y="39"/>
                  </a:lnTo>
                  <a:lnTo>
                    <a:pt x="143" y="43"/>
                  </a:lnTo>
                  <a:lnTo>
                    <a:pt x="126" y="48"/>
                  </a:lnTo>
                  <a:lnTo>
                    <a:pt x="107" y="53"/>
                  </a:lnTo>
                  <a:lnTo>
                    <a:pt x="84" y="56"/>
                  </a:lnTo>
                  <a:lnTo>
                    <a:pt x="59" y="59"/>
                  </a:lnTo>
                  <a:lnTo>
                    <a:pt x="31" y="6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188760" y="2166480"/>
              <a:ext cx="90720" cy="27720"/>
            </a:xfrm>
            <a:custGeom>
              <a:avLst/>
              <a:gdLst/>
              <a:ahLst/>
              <a:rect l="l" t="t" r="r" b="b"/>
              <a:pathLst>
                <a:path w="283" h="89">
                  <a:moveTo>
                    <a:pt x="283" y="4"/>
                  </a:moveTo>
                  <a:lnTo>
                    <a:pt x="275" y="14"/>
                  </a:lnTo>
                  <a:lnTo>
                    <a:pt x="265" y="21"/>
                  </a:lnTo>
                  <a:lnTo>
                    <a:pt x="255" y="28"/>
                  </a:lnTo>
                  <a:lnTo>
                    <a:pt x="244" y="33"/>
                  </a:lnTo>
                  <a:lnTo>
                    <a:pt x="232" y="36"/>
                  </a:lnTo>
                  <a:lnTo>
                    <a:pt x="221" y="39"/>
                  </a:lnTo>
                  <a:lnTo>
                    <a:pt x="209" y="41"/>
                  </a:lnTo>
                  <a:lnTo>
                    <a:pt x="197" y="43"/>
                  </a:lnTo>
                  <a:lnTo>
                    <a:pt x="216" y="23"/>
                  </a:lnTo>
                  <a:lnTo>
                    <a:pt x="211" y="20"/>
                  </a:lnTo>
                  <a:lnTo>
                    <a:pt x="205" y="19"/>
                  </a:lnTo>
                  <a:lnTo>
                    <a:pt x="198" y="20"/>
                  </a:lnTo>
                  <a:lnTo>
                    <a:pt x="192" y="20"/>
                  </a:lnTo>
                  <a:lnTo>
                    <a:pt x="190" y="28"/>
                  </a:lnTo>
                  <a:lnTo>
                    <a:pt x="189" y="35"/>
                  </a:lnTo>
                  <a:lnTo>
                    <a:pt x="187" y="41"/>
                  </a:lnTo>
                  <a:lnTo>
                    <a:pt x="181" y="48"/>
                  </a:lnTo>
                  <a:lnTo>
                    <a:pt x="160" y="56"/>
                  </a:lnTo>
                  <a:lnTo>
                    <a:pt x="167" y="56"/>
                  </a:lnTo>
                  <a:lnTo>
                    <a:pt x="174" y="56"/>
                  </a:lnTo>
                  <a:lnTo>
                    <a:pt x="181" y="56"/>
                  </a:lnTo>
                  <a:lnTo>
                    <a:pt x="189" y="56"/>
                  </a:lnTo>
                  <a:lnTo>
                    <a:pt x="195" y="55"/>
                  </a:lnTo>
                  <a:lnTo>
                    <a:pt x="203" y="55"/>
                  </a:lnTo>
                  <a:lnTo>
                    <a:pt x="210" y="54"/>
                  </a:lnTo>
                  <a:lnTo>
                    <a:pt x="216" y="54"/>
                  </a:lnTo>
                  <a:lnTo>
                    <a:pt x="214" y="58"/>
                  </a:lnTo>
                  <a:lnTo>
                    <a:pt x="211" y="61"/>
                  </a:lnTo>
                  <a:lnTo>
                    <a:pt x="207" y="64"/>
                  </a:lnTo>
                  <a:lnTo>
                    <a:pt x="202" y="65"/>
                  </a:lnTo>
                  <a:lnTo>
                    <a:pt x="186" y="68"/>
                  </a:lnTo>
                  <a:lnTo>
                    <a:pt x="170" y="72"/>
                  </a:lnTo>
                  <a:lnTo>
                    <a:pt x="155" y="79"/>
                  </a:lnTo>
                  <a:lnTo>
                    <a:pt x="139" y="83"/>
                  </a:lnTo>
                  <a:lnTo>
                    <a:pt x="123" y="87"/>
                  </a:lnTo>
                  <a:lnTo>
                    <a:pt x="107" y="89"/>
                  </a:lnTo>
                  <a:lnTo>
                    <a:pt x="90" y="88"/>
                  </a:lnTo>
                  <a:lnTo>
                    <a:pt x="73" y="83"/>
                  </a:lnTo>
                  <a:lnTo>
                    <a:pt x="83" y="78"/>
                  </a:lnTo>
                  <a:lnTo>
                    <a:pt x="92" y="72"/>
                  </a:lnTo>
                  <a:lnTo>
                    <a:pt x="102" y="68"/>
                  </a:lnTo>
                  <a:lnTo>
                    <a:pt x="112" y="66"/>
                  </a:lnTo>
                  <a:lnTo>
                    <a:pt x="123" y="63"/>
                  </a:lnTo>
                  <a:lnTo>
                    <a:pt x="134" y="62"/>
                  </a:lnTo>
                  <a:lnTo>
                    <a:pt x="145" y="59"/>
                  </a:lnTo>
                  <a:lnTo>
                    <a:pt x="156" y="58"/>
                  </a:lnTo>
                  <a:lnTo>
                    <a:pt x="148" y="58"/>
                  </a:lnTo>
                  <a:lnTo>
                    <a:pt x="140" y="57"/>
                  </a:lnTo>
                  <a:lnTo>
                    <a:pt x="133" y="56"/>
                  </a:lnTo>
                  <a:lnTo>
                    <a:pt x="125" y="54"/>
                  </a:lnTo>
                  <a:lnTo>
                    <a:pt x="119" y="50"/>
                  </a:lnTo>
                  <a:lnTo>
                    <a:pt x="113" y="45"/>
                  </a:lnTo>
                  <a:lnTo>
                    <a:pt x="108" y="38"/>
                  </a:lnTo>
                  <a:lnTo>
                    <a:pt x="104" y="29"/>
                  </a:lnTo>
                  <a:lnTo>
                    <a:pt x="90" y="34"/>
                  </a:lnTo>
                  <a:lnTo>
                    <a:pt x="77" y="44"/>
                  </a:lnTo>
                  <a:lnTo>
                    <a:pt x="67" y="55"/>
                  </a:lnTo>
                  <a:lnTo>
                    <a:pt x="55" y="67"/>
                  </a:lnTo>
                  <a:lnTo>
                    <a:pt x="44" y="78"/>
                  </a:lnTo>
                  <a:lnTo>
                    <a:pt x="32" y="85"/>
                  </a:lnTo>
                  <a:lnTo>
                    <a:pt x="17" y="88"/>
                  </a:lnTo>
                  <a:lnTo>
                    <a:pt x="0" y="85"/>
                  </a:lnTo>
                  <a:lnTo>
                    <a:pt x="7" y="79"/>
                  </a:lnTo>
                  <a:lnTo>
                    <a:pt x="15" y="71"/>
                  </a:lnTo>
                  <a:lnTo>
                    <a:pt x="21" y="64"/>
                  </a:lnTo>
                  <a:lnTo>
                    <a:pt x="27" y="56"/>
                  </a:lnTo>
                  <a:lnTo>
                    <a:pt x="34" y="50"/>
                  </a:lnTo>
                  <a:lnTo>
                    <a:pt x="41" y="44"/>
                  </a:lnTo>
                  <a:lnTo>
                    <a:pt x="49" y="37"/>
                  </a:lnTo>
                  <a:lnTo>
                    <a:pt x="58" y="33"/>
                  </a:lnTo>
                  <a:lnTo>
                    <a:pt x="71" y="28"/>
                  </a:lnTo>
                  <a:lnTo>
                    <a:pt x="85" y="23"/>
                  </a:lnTo>
                  <a:lnTo>
                    <a:pt x="98" y="19"/>
                  </a:lnTo>
                  <a:lnTo>
                    <a:pt x="111" y="16"/>
                  </a:lnTo>
                  <a:lnTo>
                    <a:pt x="125" y="12"/>
                  </a:lnTo>
                  <a:lnTo>
                    <a:pt x="139" y="10"/>
                  </a:lnTo>
                  <a:lnTo>
                    <a:pt x="153" y="6"/>
                  </a:lnTo>
                  <a:lnTo>
                    <a:pt x="167" y="4"/>
                  </a:lnTo>
                  <a:lnTo>
                    <a:pt x="180" y="2"/>
                  </a:lnTo>
                  <a:lnTo>
                    <a:pt x="195" y="1"/>
                  </a:lnTo>
                  <a:lnTo>
                    <a:pt x="209" y="0"/>
                  </a:lnTo>
                  <a:lnTo>
                    <a:pt x="224" y="0"/>
                  </a:lnTo>
                  <a:lnTo>
                    <a:pt x="239" y="0"/>
                  </a:lnTo>
                  <a:lnTo>
                    <a:pt x="254" y="1"/>
                  </a:lnTo>
                  <a:lnTo>
                    <a:pt x="268" y="2"/>
                  </a:lnTo>
                  <a:lnTo>
                    <a:pt x="28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354000" y="2185560"/>
              <a:ext cx="19440" cy="70920"/>
            </a:xfrm>
            <a:custGeom>
              <a:avLst/>
              <a:gdLst/>
              <a:ahLst/>
              <a:rect l="l" t="t" r="r" b="b"/>
              <a:pathLst>
                <a:path w="62" h="224">
                  <a:moveTo>
                    <a:pt x="60" y="71"/>
                  </a:moveTo>
                  <a:lnTo>
                    <a:pt x="57" y="80"/>
                  </a:lnTo>
                  <a:lnTo>
                    <a:pt x="53" y="89"/>
                  </a:lnTo>
                  <a:lnTo>
                    <a:pt x="48" y="97"/>
                  </a:lnTo>
                  <a:lnTo>
                    <a:pt x="46" y="107"/>
                  </a:lnTo>
                  <a:lnTo>
                    <a:pt x="48" y="134"/>
                  </a:lnTo>
                  <a:lnTo>
                    <a:pt x="51" y="162"/>
                  </a:lnTo>
                  <a:lnTo>
                    <a:pt x="51" y="190"/>
                  </a:lnTo>
                  <a:lnTo>
                    <a:pt x="43" y="216"/>
                  </a:lnTo>
                  <a:lnTo>
                    <a:pt x="38" y="201"/>
                  </a:lnTo>
                  <a:lnTo>
                    <a:pt x="36" y="185"/>
                  </a:lnTo>
                  <a:lnTo>
                    <a:pt x="33" y="169"/>
                  </a:lnTo>
                  <a:lnTo>
                    <a:pt x="29" y="154"/>
                  </a:lnTo>
                  <a:lnTo>
                    <a:pt x="22" y="170"/>
                  </a:lnTo>
                  <a:lnTo>
                    <a:pt x="16" y="187"/>
                  </a:lnTo>
                  <a:lnTo>
                    <a:pt x="12" y="205"/>
                  </a:lnTo>
                  <a:lnTo>
                    <a:pt x="8" y="224"/>
                  </a:lnTo>
                  <a:lnTo>
                    <a:pt x="1" y="195"/>
                  </a:lnTo>
                  <a:lnTo>
                    <a:pt x="0" y="166"/>
                  </a:lnTo>
                  <a:lnTo>
                    <a:pt x="4" y="138"/>
                  </a:lnTo>
                  <a:lnTo>
                    <a:pt x="12" y="110"/>
                  </a:lnTo>
                  <a:lnTo>
                    <a:pt x="21" y="82"/>
                  </a:lnTo>
                  <a:lnTo>
                    <a:pt x="31" y="56"/>
                  </a:lnTo>
                  <a:lnTo>
                    <a:pt x="37" y="27"/>
                  </a:lnTo>
                  <a:lnTo>
                    <a:pt x="40" y="0"/>
                  </a:lnTo>
                  <a:lnTo>
                    <a:pt x="53" y="15"/>
                  </a:lnTo>
                  <a:lnTo>
                    <a:pt x="59" y="33"/>
                  </a:lnTo>
                  <a:lnTo>
                    <a:pt x="62" y="52"/>
                  </a:lnTo>
                  <a:lnTo>
                    <a:pt x="6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089040" y="2200680"/>
              <a:ext cx="60120" cy="24120"/>
            </a:xfrm>
            <a:custGeom>
              <a:avLst/>
              <a:gdLst/>
              <a:ahLst/>
              <a:rect l="l" t="t" r="r" b="b"/>
              <a:pathLst>
                <a:path w="188" h="76">
                  <a:moveTo>
                    <a:pt x="0" y="74"/>
                  </a:moveTo>
                  <a:lnTo>
                    <a:pt x="18" y="35"/>
                  </a:lnTo>
                  <a:lnTo>
                    <a:pt x="22" y="33"/>
                  </a:lnTo>
                  <a:lnTo>
                    <a:pt x="35" y="27"/>
                  </a:lnTo>
                  <a:lnTo>
                    <a:pt x="53" y="20"/>
                  </a:lnTo>
                  <a:lnTo>
                    <a:pt x="74" y="11"/>
                  </a:lnTo>
                  <a:lnTo>
                    <a:pt x="99" y="4"/>
                  </a:lnTo>
                  <a:lnTo>
                    <a:pt x="124" y="0"/>
                  </a:lnTo>
                  <a:lnTo>
                    <a:pt x="147" y="0"/>
                  </a:lnTo>
                  <a:lnTo>
                    <a:pt x="169" y="8"/>
                  </a:lnTo>
                  <a:lnTo>
                    <a:pt x="188" y="26"/>
                  </a:lnTo>
                  <a:lnTo>
                    <a:pt x="186" y="27"/>
                  </a:lnTo>
                  <a:lnTo>
                    <a:pt x="181" y="29"/>
                  </a:lnTo>
                  <a:lnTo>
                    <a:pt x="174" y="31"/>
                  </a:lnTo>
                  <a:lnTo>
                    <a:pt x="165" y="35"/>
                  </a:lnTo>
                  <a:lnTo>
                    <a:pt x="154" y="40"/>
                  </a:lnTo>
                  <a:lnTo>
                    <a:pt x="141" y="45"/>
                  </a:lnTo>
                  <a:lnTo>
                    <a:pt x="126" y="50"/>
                  </a:lnTo>
                  <a:lnTo>
                    <a:pt x="111" y="56"/>
                  </a:lnTo>
                  <a:lnTo>
                    <a:pt x="95" y="61"/>
                  </a:lnTo>
                  <a:lnTo>
                    <a:pt x="79" y="65"/>
                  </a:lnTo>
                  <a:lnTo>
                    <a:pt x="65" y="69"/>
                  </a:lnTo>
                  <a:lnTo>
                    <a:pt x="49" y="73"/>
                  </a:lnTo>
                  <a:lnTo>
                    <a:pt x="35" y="75"/>
                  </a:lnTo>
                  <a:lnTo>
                    <a:pt x="21" y="76"/>
                  </a:lnTo>
                  <a:lnTo>
                    <a:pt x="9" y="76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073560" y="2187000"/>
              <a:ext cx="91800" cy="75960"/>
            </a:xfrm>
            <a:custGeom>
              <a:avLst/>
              <a:gdLst/>
              <a:ahLst/>
              <a:rect l="l" t="t" r="r" b="b"/>
              <a:pathLst>
                <a:path w="288" h="243">
                  <a:moveTo>
                    <a:pt x="269" y="54"/>
                  </a:moveTo>
                  <a:lnTo>
                    <a:pt x="272" y="101"/>
                  </a:lnTo>
                  <a:lnTo>
                    <a:pt x="279" y="148"/>
                  </a:lnTo>
                  <a:lnTo>
                    <a:pt x="287" y="195"/>
                  </a:lnTo>
                  <a:lnTo>
                    <a:pt x="288" y="243"/>
                  </a:lnTo>
                  <a:lnTo>
                    <a:pt x="276" y="227"/>
                  </a:lnTo>
                  <a:lnTo>
                    <a:pt x="269" y="209"/>
                  </a:lnTo>
                  <a:lnTo>
                    <a:pt x="263" y="190"/>
                  </a:lnTo>
                  <a:lnTo>
                    <a:pt x="260" y="171"/>
                  </a:lnTo>
                  <a:lnTo>
                    <a:pt x="258" y="150"/>
                  </a:lnTo>
                  <a:lnTo>
                    <a:pt x="255" y="131"/>
                  </a:lnTo>
                  <a:lnTo>
                    <a:pt x="250" y="112"/>
                  </a:lnTo>
                  <a:lnTo>
                    <a:pt x="242" y="94"/>
                  </a:lnTo>
                  <a:lnTo>
                    <a:pt x="201" y="56"/>
                  </a:lnTo>
                  <a:lnTo>
                    <a:pt x="165" y="67"/>
                  </a:lnTo>
                  <a:lnTo>
                    <a:pt x="166" y="73"/>
                  </a:lnTo>
                  <a:lnTo>
                    <a:pt x="167" y="80"/>
                  </a:lnTo>
                  <a:lnTo>
                    <a:pt x="167" y="88"/>
                  </a:lnTo>
                  <a:lnTo>
                    <a:pt x="162" y="94"/>
                  </a:lnTo>
                  <a:lnTo>
                    <a:pt x="155" y="98"/>
                  </a:lnTo>
                  <a:lnTo>
                    <a:pt x="148" y="103"/>
                  </a:lnTo>
                  <a:lnTo>
                    <a:pt x="140" y="106"/>
                  </a:lnTo>
                  <a:lnTo>
                    <a:pt x="133" y="108"/>
                  </a:lnTo>
                  <a:lnTo>
                    <a:pt x="124" y="110"/>
                  </a:lnTo>
                  <a:lnTo>
                    <a:pt x="116" y="110"/>
                  </a:lnTo>
                  <a:lnTo>
                    <a:pt x="108" y="110"/>
                  </a:lnTo>
                  <a:lnTo>
                    <a:pt x="100" y="108"/>
                  </a:lnTo>
                  <a:lnTo>
                    <a:pt x="93" y="102"/>
                  </a:lnTo>
                  <a:lnTo>
                    <a:pt x="89" y="91"/>
                  </a:lnTo>
                  <a:lnTo>
                    <a:pt x="85" y="85"/>
                  </a:lnTo>
                  <a:lnTo>
                    <a:pt x="76" y="88"/>
                  </a:lnTo>
                  <a:lnTo>
                    <a:pt x="69" y="101"/>
                  </a:lnTo>
                  <a:lnTo>
                    <a:pt x="66" y="115"/>
                  </a:lnTo>
                  <a:lnTo>
                    <a:pt x="62" y="129"/>
                  </a:lnTo>
                  <a:lnTo>
                    <a:pt x="49" y="137"/>
                  </a:lnTo>
                  <a:lnTo>
                    <a:pt x="34" y="138"/>
                  </a:lnTo>
                  <a:lnTo>
                    <a:pt x="37" y="127"/>
                  </a:lnTo>
                  <a:lnTo>
                    <a:pt x="41" y="118"/>
                  </a:lnTo>
                  <a:lnTo>
                    <a:pt x="46" y="107"/>
                  </a:lnTo>
                  <a:lnTo>
                    <a:pt x="52" y="96"/>
                  </a:lnTo>
                  <a:lnTo>
                    <a:pt x="57" y="87"/>
                  </a:lnTo>
                  <a:lnTo>
                    <a:pt x="66" y="79"/>
                  </a:lnTo>
                  <a:lnTo>
                    <a:pt x="74" y="72"/>
                  </a:lnTo>
                  <a:lnTo>
                    <a:pt x="85" y="67"/>
                  </a:lnTo>
                  <a:lnTo>
                    <a:pt x="94" y="63"/>
                  </a:lnTo>
                  <a:lnTo>
                    <a:pt x="105" y="60"/>
                  </a:lnTo>
                  <a:lnTo>
                    <a:pt x="115" y="57"/>
                  </a:lnTo>
                  <a:lnTo>
                    <a:pt x="125" y="54"/>
                  </a:lnTo>
                  <a:lnTo>
                    <a:pt x="136" y="52"/>
                  </a:lnTo>
                  <a:lnTo>
                    <a:pt x="145" y="50"/>
                  </a:lnTo>
                  <a:lnTo>
                    <a:pt x="156" y="48"/>
                  </a:lnTo>
                  <a:lnTo>
                    <a:pt x="166" y="45"/>
                  </a:lnTo>
                  <a:lnTo>
                    <a:pt x="150" y="43"/>
                  </a:lnTo>
                  <a:lnTo>
                    <a:pt x="135" y="40"/>
                  </a:lnTo>
                  <a:lnTo>
                    <a:pt x="118" y="38"/>
                  </a:lnTo>
                  <a:lnTo>
                    <a:pt x="102" y="35"/>
                  </a:lnTo>
                  <a:lnTo>
                    <a:pt x="86" y="34"/>
                  </a:lnTo>
                  <a:lnTo>
                    <a:pt x="69" y="34"/>
                  </a:lnTo>
                  <a:lnTo>
                    <a:pt x="54" y="36"/>
                  </a:lnTo>
                  <a:lnTo>
                    <a:pt x="38" y="40"/>
                  </a:lnTo>
                  <a:lnTo>
                    <a:pt x="32" y="44"/>
                  </a:lnTo>
                  <a:lnTo>
                    <a:pt x="25" y="49"/>
                  </a:lnTo>
                  <a:lnTo>
                    <a:pt x="21" y="55"/>
                  </a:lnTo>
                  <a:lnTo>
                    <a:pt x="18" y="61"/>
                  </a:lnTo>
                  <a:lnTo>
                    <a:pt x="14" y="68"/>
                  </a:lnTo>
                  <a:lnTo>
                    <a:pt x="10" y="74"/>
                  </a:lnTo>
                  <a:lnTo>
                    <a:pt x="5" y="80"/>
                  </a:lnTo>
                  <a:lnTo>
                    <a:pt x="0" y="86"/>
                  </a:lnTo>
                  <a:lnTo>
                    <a:pt x="2" y="76"/>
                  </a:lnTo>
                  <a:lnTo>
                    <a:pt x="4" y="67"/>
                  </a:lnTo>
                  <a:lnTo>
                    <a:pt x="6" y="55"/>
                  </a:lnTo>
                  <a:lnTo>
                    <a:pt x="10" y="44"/>
                  </a:lnTo>
                  <a:lnTo>
                    <a:pt x="14" y="35"/>
                  </a:lnTo>
                  <a:lnTo>
                    <a:pt x="20" y="26"/>
                  </a:lnTo>
                  <a:lnTo>
                    <a:pt x="28" y="21"/>
                  </a:lnTo>
                  <a:lnTo>
                    <a:pt x="38" y="18"/>
                  </a:lnTo>
                  <a:lnTo>
                    <a:pt x="57" y="15"/>
                  </a:lnTo>
                  <a:lnTo>
                    <a:pt x="77" y="11"/>
                  </a:lnTo>
                  <a:lnTo>
                    <a:pt x="97" y="7"/>
                  </a:lnTo>
                  <a:lnTo>
                    <a:pt x="116" y="4"/>
                  </a:lnTo>
                  <a:lnTo>
                    <a:pt x="135" y="1"/>
                  </a:lnTo>
                  <a:lnTo>
                    <a:pt x="154" y="0"/>
                  </a:lnTo>
                  <a:lnTo>
                    <a:pt x="174" y="1"/>
                  </a:lnTo>
                  <a:lnTo>
                    <a:pt x="193" y="4"/>
                  </a:lnTo>
                  <a:lnTo>
                    <a:pt x="204" y="7"/>
                  </a:lnTo>
                  <a:lnTo>
                    <a:pt x="214" y="11"/>
                  </a:lnTo>
                  <a:lnTo>
                    <a:pt x="224" y="17"/>
                  </a:lnTo>
                  <a:lnTo>
                    <a:pt x="234" y="23"/>
                  </a:lnTo>
                  <a:lnTo>
                    <a:pt x="243" y="30"/>
                  </a:lnTo>
                  <a:lnTo>
                    <a:pt x="252" y="37"/>
                  </a:lnTo>
                  <a:lnTo>
                    <a:pt x="260" y="45"/>
                  </a:lnTo>
                  <a:lnTo>
                    <a:pt x="26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298920" y="2192040"/>
              <a:ext cx="20160" cy="91440"/>
            </a:xfrm>
            <a:custGeom>
              <a:avLst/>
              <a:gdLst/>
              <a:ahLst/>
              <a:rect l="l" t="t" r="r" b="b"/>
              <a:pathLst>
                <a:path w="65" h="286">
                  <a:moveTo>
                    <a:pt x="54" y="144"/>
                  </a:moveTo>
                  <a:lnTo>
                    <a:pt x="44" y="160"/>
                  </a:lnTo>
                  <a:lnTo>
                    <a:pt x="36" y="177"/>
                  </a:lnTo>
                  <a:lnTo>
                    <a:pt x="29" y="194"/>
                  </a:lnTo>
                  <a:lnTo>
                    <a:pt x="22" y="212"/>
                  </a:lnTo>
                  <a:lnTo>
                    <a:pt x="17" y="230"/>
                  </a:lnTo>
                  <a:lnTo>
                    <a:pt x="14" y="248"/>
                  </a:lnTo>
                  <a:lnTo>
                    <a:pt x="10" y="267"/>
                  </a:lnTo>
                  <a:lnTo>
                    <a:pt x="9" y="286"/>
                  </a:lnTo>
                  <a:lnTo>
                    <a:pt x="3" y="260"/>
                  </a:lnTo>
                  <a:lnTo>
                    <a:pt x="0" y="233"/>
                  </a:lnTo>
                  <a:lnTo>
                    <a:pt x="0" y="207"/>
                  </a:lnTo>
                  <a:lnTo>
                    <a:pt x="4" y="179"/>
                  </a:lnTo>
                  <a:lnTo>
                    <a:pt x="9" y="153"/>
                  </a:lnTo>
                  <a:lnTo>
                    <a:pt x="16" y="127"/>
                  </a:lnTo>
                  <a:lnTo>
                    <a:pt x="23" y="102"/>
                  </a:lnTo>
                  <a:lnTo>
                    <a:pt x="31" y="76"/>
                  </a:lnTo>
                  <a:lnTo>
                    <a:pt x="33" y="57"/>
                  </a:lnTo>
                  <a:lnTo>
                    <a:pt x="30" y="38"/>
                  </a:lnTo>
                  <a:lnTo>
                    <a:pt x="24" y="19"/>
                  </a:lnTo>
                  <a:lnTo>
                    <a:pt x="21" y="0"/>
                  </a:lnTo>
                  <a:lnTo>
                    <a:pt x="25" y="18"/>
                  </a:lnTo>
                  <a:lnTo>
                    <a:pt x="34" y="36"/>
                  </a:lnTo>
                  <a:lnTo>
                    <a:pt x="43" y="53"/>
                  </a:lnTo>
                  <a:lnTo>
                    <a:pt x="54" y="70"/>
                  </a:lnTo>
                  <a:lnTo>
                    <a:pt x="61" y="88"/>
                  </a:lnTo>
                  <a:lnTo>
                    <a:pt x="65" y="106"/>
                  </a:lnTo>
                  <a:lnTo>
                    <a:pt x="64" y="124"/>
                  </a:lnTo>
                  <a:lnTo>
                    <a:pt x="5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104160" y="2217240"/>
              <a:ext cx="32760" cy="1296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42"/>
                  </a:moveTo>
                  <a:lnTo>
                    <a:pt x="10" y="32"/>
                  </a:lnTo>
                  <a:lnTo>
                    <a:pt x="22" y="25"/>
                  </a:lnTo>
                  <a:lnTo>
                    <a:pt x="35" y="18"/>
                  </a:lnTo>
                  <a:lnTo>
                    <a:pt x="48" y="14"/>
                  </a:lnTo>
                  <a:lnTo>
                    <a:pt x="62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3" y="0"/>
                  </a:lnTo>
                  <a:lnTo>
                    <a:pt x="94" y="12"/>
                  </a:lnTo>
                  <a:lnTo>
                    <a:pt x="84" y="22"/>
                  </a:lnTo>
                  <a:lnTo>
                    <a:pt x="73" y="29"/>
                  </a:lnTo>
                  <a:lnTo>
                    <a:pt x="59" y="34"/>
                  </a:lnTo>
                  <a:lnTo>
                    <a:pt x="44" y="39"/>
                  </a:lnTo>
                  <a:lnTo>
                    <a:pt x="29" y="41"/>
                  </a:lnTo>
                  <a:lnTo>
                    <a:pt x="1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204240" y="2245320"/>
              <a:ext cx="26640" cy="26640"/>
            </a:xfrm>
            <a:custGeom>
              <a:avLst/>
              <a:gdLst/>
              <a:ahLst/>
              <a:rect l="l" t="t" r="r" b="b"/>
              <a:pathLst>
                <a:path w="85" h="83">
                  <a:moveTo>
                    <a:pt x="78" y="23"/>
                  </a:moveTo>
                  <a:lnTo>
                    <a:pt x="82" y="27"/>
                  </a:lnTo>
                  <a:lnTo>
                    <a:pt x="85" y="33"/>
                  </a:lnTo>
                  <a:lnTo>
                    <a:pt x="83" y="41"/>
                  </a:lnTo>
                  <a:lnTo>
                    <a:pt x="81" y="47"/>
                  </a:lnTo>
                  <a:lnTo>
                    <a:pt x="77" y="52"/>
                  </a:lnTo>
                  <a:lnTo>
                    <a:pt x="73" y="59"/>
                  </a:lnTo>
                  <a:lnTo>
                    <a:pt x="68" y="63"/>
                  </a:lnTo>
                  <a:lnTo>
                    <a:pt x="62" y="68"/>
                  </a:lnTo>
                  <a:lnTo>
                    <a:pt x="57" y="73"/>
                  </a:lnTo>
                  <a:lnTo>
                    <a:pt x="52" y="76"/>
                  </a:lnTo>
                  <a:lnTo>
                    <a:pt x="45" y="80"/>
                  </a:lnTo>
                  <a:lnTo>
                    <a:pt x="40" y="83"/>
                  </a:lnTo>
                  <a:lnTo>
                    <a:pt x="38" y="69"/>
                  </a:lnTo>
                  <a:lnTo>
                    <a:pt x="41" y="55"/>
                  </a:lnTo>
                  <a:lnTo>
                    <a:pt x="44" y="40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8"/>
                  </a:lnTo>
                  <a:lnTo>
                    <a:pt x="24" y="16"/>
                  </a:lnTo>
                  <a:lnTo>
                    <a:pt x="19" y="14"/>
                  </a:lnTo>
                  <a:lnTo>
                    <a:pt x="12" y="12"/>
                  </a:lnTo>
                  <a:lnTo>
                    <a:pt x="7" y="9"/>
                  </a:lnTo>
                  <a:lnTo>
                    <a:pt x="3" y="6"/>
                  </a:lnTo>
                  <a:lnTo>
                    <a:pt x="0" y="0"/>
                  </a:lnTo>
                  <a:lnTo>
                    <a:pt x="9" y="3"/>
                  </a:lnTo>
                  <a:lnTo>
                    <a:pt x="20" y="5"/>
                  </a:lnTo>
                  <a:lnTo>
                    <a:pt x="30" y="6"/>
                  </a:lnTo>
                  <a:lnTo>
                    <a:pt x="40" y="8"/>
                  </a:lnTo>
                  <a:lnTo>
                    <a:pt x="51" y="11"/>
                  </a:lnTo>
                  <a:lnTo>
                    <a:pt x="60" y="14"/>
                  </a:lnTo>
                  <a:lnTo>
                    <a:pt x="70" y="18"/>
                  </a:lnTo>
                  <a:lnTo>
                    <a:pt x="7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192720" y="2260440"/>
              <a:ext cx="15120" cy="115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5" y="6"/>
                  </a:moveTo>
                  <a:lnTo>
                    <a:pt x="46" y="11"/>
                  </a:lnTo>
                  <a:lnTo>
                    <a:pt x="44" y="16"/>
                  </a:lnTo>
                  <a:lnTo>
                    <a:pt x="41" y="20"/>
                  </a:lnTo>
                  <a:lnTo>
                    <a:pt x="36" y="23"/>
                  </a:lnTo>
                  <a:lnTo>
                    <a:pt x="30" y="24"/>
                  </a:lnTo>
                  <a:lnTo>
                    <a:pt x="25" y="26"/>
                  </a:lnTo>
                  <a:lnTo>
                    <a:pt x="21" y="28"/>
                  </a:lnTo>
                  <a:lnTo>
                    <a:pt x="15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5"/>
                  </a:lnTo>
                  <a:lnTo>
                    <a:pt x="0" y="36"/>
                  </a:lnTo>
                  <a:lnTo>
                    <a:pt x="2" y="30"/>
                  </a:lnTo>
                  <a:lnTo>
                    <a:pt x="6" y="24"/>
                  </a:lnTo>
                  <a:lnTo>
                    <a:pt x="10" y="17"/>
                  </a:lnTo>
                  <a:lnTo>
                    <a:pt x="17" y="12"/>
                  </a:lnTo>
                  <a:lnTo>
                    <a:pt x="22" y="8"/>
                  </a:lnTo>
                  <a:lnTo>
                    <a:pt x="28" y="4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147720" y="2261880"/>
              <a:ext cx="37080" cy="37800"/>
            </a:xfrm>
            <a:custGeom>
              <a:avLst/>
              <a:gdLst/>
              <a:ahLst/>
              <a:rect l="l" t="t" r="r" b="b"/>
              <a:pathLst>
                <a:path w="114" h="122">
                  <a:moveTo>
                    <a:pt x="20" y="53"/>
                  </a:moveTo>
                  <a:lnTo>
                    <a:pt x="23" y="55"/>
                  </a:lnTo>
                  <a:lnTo>
                    <a:pt x="27" y="58"/>
                  </a:lnTo>
                  <a:lnTo>
                    <a:pt x="31" y="58"/>
                  </a:lnTo>
                  <a:lnTo>
                    <a:pt x="35" y="58"/>
                  </a:lnTo>
                  <a:lnTo>
                    <a:pt x="41" y="57"/>
                  </a:lnTo>
                  <a:lnTo>
                    <a:pt x="45" y="55"/>
                  </a:lnTo>
                  <a:lnTo>
                    <a:pt x="49" y="54"/>
                  </a:lnTo>
                  <a:lnTo>
                    <a:pt x="54" y="52"/>
                  </a:lnTo>
                  <a:lnTo>
                    <a:pt x="40" y="41"/>
                  </a:lnTo>
                  <a:lnTo>
                    <a:pt x="49" y="43"/>
                  </a:lnTo>
                  <a:lnTo>
                    <a:pt x="59" y="44"/>
                  </a:lnTo>
                  <a:lnTo>
                    <a:pt x="68" y="46"/>
                  </a:lnTo>
                  <a:lnTo>
                    <a:pt x="79" y="49"/>
                  </a:lnTo>
                  <a:lnTo>
                    <a:pt x="89" y="52"/>
                  </a:lnTo>
                  <a:lnTo>
                    <a:pt x="97" y="57"/>
                  </a:lnTo>
                  <a:lnTo>
                    <a:pt x="106" y="63"/>
                  </a:lnTo>
                  <a:lnTo>
                    <a:pt x="114" y="69"/>
                  </a:lnTo>
                  <a:lnTo>
                    <a:pt x="108" y="71"/>
                  </a:lnTo>
                  <a:lnTo>
                    <a:pt x="101" y="71"/>
                  </a:lnTo>
                  <a:lnTo>
                    <a:pt x="95" y="71"/>
                  </a:lnTo>
                  <a:lnTo>
                    <a:pt x="89" y="70"/>
                  </a:lnTo>
                  <a:lnTo>
                    <a:pt x="84" y="79"/>
                  </a:lnTo>
                  <a:lnTo>
                    <a:pt x="80" y="87"/>
                  </a:lnTo>
                  <a:lnTo>
                    <a:pt x="75" y="96"/>
                  </a:lnTo>
                  <a:lnTo>
                    <a:pt x="69" y="104"/>
                  </a:lnTo>
                  <a:lnTo>
                    <a:pt x="64" y="112"/>
                  </a:lnTo>
                  <a:lnTo>
                    <a:pt x="57" y="118"/>
                  </a:lnTo>
                  <a:lnTo>
                    <a:pt x="48" y="121"/>
                  </a:lnTo>
                  <a:lnTo>
                    <a:pt x="38" y="122"/>
                  </a:lnTo>
                  <a:lnTo>
                    <a:pt x="29" y="121"/>
                  </a:lnTo>
                  <a:lnTo>
                    <a:pt x="20" y="119"/>
                  </a:lnTo>
                  <a:lnTo>
                    <a:pt x="12" y="114"/>
                  </a:lnTo>
                  <a:lnTo>
                    <a:pt x="9" y="106"/>
                  </a:lnTo>
                  <a:lnTo>
                    <a:pt x="7" y="93"/>
                  </a:lnTo>
                  <a:lnTo>
                    <a:pt x="4" y="78"/>
                  </a:lnTo>
                  <a:lnTo>
                    <a:pt x="2" y="63"/>
                  </a:lnTo>
                  <a:lnTo>
                    <a:pt x="0" y="48"/>
                  </a:lnTo>
                  <a:lnTo>
                    <a:pt x="2" y="34"/>
                  </a:lnTo>
                  <a:lnTo>
                    <a:pt x="5" y="22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20" y="13"/>
                  </a:lnTo>
                  <a:lnTo>
                    <a:pt x="15" y="27"/>
                  </a:lnTo>
                  <a:lnTo>
                    <a:pt x="14" y="41"/>
                  </a:lnTo>
                  <a:lnTo>
                    <a:pt x="2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188760" y="2287440"/>
              <a:ext cx="10080" cy="1620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32" y="13"/>
                  </a:moveTo>
                  <a:lnTo>
                    <a:pt x="26" y="23"/>
                  </a:lnTo>
                  <a:lnTo>
                    <a:pt x="22" y="34"/>
                  </a:lnTo>
                  <a:lnTo>
                    <a:pt x="16" y="45"/>
                  </a:lnTo>
                  <a:lnTo>
                    <a:pt x="7" y="53"/>
                  </a:lnTo>
                  <a:lnTo>
                    <a:pt x="4" y="40"/>
                  </a:lnTo>
                  <a:lnTo>
                    <a:pt x="3" y="27"/>
                  </a:lnTo>
                  <a:lnTo>
                    <a:pt x="2" y="13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20" y="6"/>
                  </a:lnTo>
                  <a:lnTo>
                    <a:pt x="24" y="8"/>
                  </a:lnTo>
                  <a:lnTo>
                    <a:pt x="27" y="11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159240" y="2302560"/>
              <a:ext cx="112680" cy="37800"/>
            </a:xfrm>
            <a:custGeom>
              <a:avLst/>
              <a:gdLst/>
              <a:ahLst/>
              <a:rect l="l" t="t" r="r" b="b"/>
              <a:pathLst>
                <a:path w="351" h="120">
                  <a:moveTo>
                    <a:pt x="351" y="19"/>
                  </a:moveTo>
                  <a:lnTo>
                    <a:pt x="335" y="25"/>
                  </a:lnTo>
                  <a:lnTo>
                    <a:pt x="319" y="34"/>
                  </a:lnTo>
                  <a:lnTo>
                    <a:pt x="304" y="44"/>
                  </a:lnTo>
                  <a:lnTo>
                    <a:pt x="291" y="55"/>
                  </a:lnTo>
                  <a:lnTo>
                    <a:pt x="277" y="65"/>
                  </a:lnTo>
                  <a:lnTo>
                    <a:pt x="262" y="74"/>
                  </a:lnTo>
                  <a:lnTo>
                    <a:pt x="246" y="82"/>
                  </a:lnTo>
                  <a:lnTo>
                    <a:pt x="230" y="86"/>
                  </a:lnTo>
                  <a:lnTo>
                    <a:pt x="213" y="89"/>
                  </a:lnTo>
                  <a:lnTo>
                    <a:pt x="197" y="92"/>
                  </a:lnTo>
                  <a:lnTo>
                    <a:pt x="181" y="96"/>
                  </a:lnTo>
                  <a:lnTo>
                    <a:pt x="166" y="100"/>
                  </a:lnTo>
                  <a:lnTo>
                    <a:pt x="151" y="104"/>
                  </a:lnTo>
                  <a:lnTo>
                    <a:pt x="137" y="108"/>
                  </a:lnTo>
                  <a:lnTo>
                    <a:pt x="122" y="112"/>
                  </a:lnTo>
                  <a:lnTo>
                    <a:pt x="107" y="117"/>
                  </a:lnTo>
                  <a:lnTo>
                    <a:pt x="94" y="119"/>
                  </a:lnTo>
                  <a:lnTo>
                    <a:pt x="80" y="120"/>
                  </a:lnTo>
                  <a:lnTo>
                    <a:pt x="67" y="120"/>
                  </a:lnTo>
                  <a:lnTo>
                    <a:pt x="54" y="119"/>
                  </a:lnTo>
                  <a:lnTo>
                    <a:pt x="40" y="119"/>
                  </a:lnTo>
                  <a:lnTo>
                    <a:pt x="26" y="118"/>
                  </a:lnTo>
                  <a:lnTo>
                    <a:pt x="12" y="118"/>
                  </a:lnTo>
                  <a:lnTo>
                    <a:pt x="0" y="118"/>
                  </a:lnTo>
                  <a:lnTo>
                    <a:pt x="3" y="110"/>
                  </a:lnTo>
                  <a:lnTo>
                    <a:pt x="6" y="103"/>
                  </a:lnTo>
                  <a:lnTo>
                    <a:pt x="10" y="96"/>
                  </a:lnTo>
                  <a:lnTo>
                    <a:pt x="14" y="89"/>
                  </a:lnTo>
                  <a:lnTo>
                    <a:pt x="20" y="82"/>
                  </a:lnTo>
                  <a:lnTo>
                    <a:pt x="25" y="74"/>
                  </a:lnTo>
                  <a:lnTo>
                    <a:pt x="29" y="68"/>
                  </a:lnTo>
                  <a:lnTo>
                    <a:pt x="35" y="60"/>
                  </a:lnTo>
                  <a:lnTo>
                    <a:pt x="46" y="58"/>
                  </a:lnTo>
                  <a:lnTo>
                    <a:pt x="59" y="55"/>
                  </a:lnTo>
                  <a:lnTo>
                    <a:pt x="71" y="51"/>
                  </a:lnTo>
                  <a:lnTo>
                    <a:pt x="82" y="45"/>
                  </a:lnTo>
                  <a:lnTo>
                    <a:pt x="93" y="40"/>
                  </a:lnTo>
                  <a:lnTo>
                    <a:pt x="105" y="34"/>
                  </a:lnTo>
                  <a:lnTo>
                    <a:pt x="116" y="29"/>
                  </a:lnTo>
                  <a:lnTo>
                    <a:pt x="128" y="22"/>
                  </a:lnTo>
                  <a:lnTo>
                    <a:pt x="140" y="17"/>
                  </a:lnTo>
                  <a:lnTo>
                    <a:pt x="151" y="12"/>
                  </a:lnTo>
                  <a:lnTo>
                    <a:pt x="163" y="7"/>
                  </a:lnTo>
                  <a:lnTo>
                    <a:pt x="176" y="3"/>
                  </a:lnTo>
                  <a:lnTo>
                    <a:pt x="189" y="1"/>
                  </a:lnTo>
                  <a:lnTo>
                    <a:pt x="202" y="0"/>
                  </a:lnTo>
                  <a:lnTo>
                    <a:pt x="216" y="1"/>
                  </a:lnTo>
                  <a:lnTo>
                    <a:pt x="230" y="3"/>
                  </a:lnTo>
                  <a:lnTo>
                    <a:pt x="245" y="7"/>
                  </a:lnTo>
                  <a:lnTo>
                    <a:pt x="260" y="10"/>
                  </a:lnTo>
                  <a:lnTo>
                    <a:pt x="275" y="14"/>
                  </a:lnTo>
                  <a:lnTo>
                    <a:pt x="290" y="17"/>
                  </a:lnTo>
                  <a:lnTo>
                    <a:pt x="304" y="19"/>
                  </a:lnTo>
                  <a:lnTo>
                    <a:pt x="319" y="20"/>
                  </a:lnTo>
                  <a:lnTo>
                    <a:pt x="335" y="20"/>
                  </a:lnTo>
                  <a:lnTo>
                    <a:pt x="35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175800" y="2310120"/>
              <a:ext cx="66600" cy="25560"/>
            </a:xfrm>
            <a:custGeom>
              <a:avLst/>
              <a:gdLst/>
              <a:ahLst/>
              <a:rect l="l" t="t" r="r" b="b"/>
              <a:pathLst>
                <a:path w="208" h="81">
                  <a:moveTo>
                    <a:pt x="196" y="7"/>
                  </a:moveTo>
                  <a:lnTo>
                    <a:pt x="198" y="11"/>
                  </a:lnTo>
                  <a:lnTo>
                    <a:pt x="200" y="15"/>
                  </a:lnTo>
                  <a:lnTo>
                    <a:pt x="204" y="19"/>
                  </a:lnTo>
                  <a:lnTo>
                    <a:pt x="208" y="22"/>
                  </a:lnTo>
                  <a:lnTo>
                    <a:pt x="195" y="27"/>
                  </a:lnTo>
                  <a:lnTo>
                    <a:pt x="183" y="32"/>
                  </a:lnTo>
                  <a:lnTo>
                    <a:pt x="171" y="36"/>
                  </a:lnTo>
                  <a:lnTo>
                    <a:pt x="158" y="41"/>
                  </a:lnTo>
                  <a:lnTo>
                    <a:pt x="145" y="45"/>
                  </a:lnTo>
                  <a:lnTo>
                    <a:pt x="132" y="49"/>
                  </a:lnTo>
                  <a:lnTo>
                    <a:pt x="120" y="53"/>
                  </a:lnTo>
                  <a:lnTo>
                    <a:pt x="107" y="57"/>
                  </a:lnTo>
                  <a:lnTo>
                    <a:pt x="94" y="61"/>
                  </a:lnTo>
                  <a:lnTo>
                    <a:pt x="81" y="65"/>
                  </a:lnTo>
                  <a:lnTo>
                    <a:pt x="69" y="68"/>
                  </a:lnTo>
                  <a:lnTo>
                    <a:pt x="55" y="71"/>
                  </a:lnTo>
                  <a:lnTo>
                    <a:pt x="42" y="73"/>
                  </a:lnTo>
                  <a:lnTo>
                    <a:pt x="28" y="77"/>
                  </a:lnTo>
                  <a:lnTo>
                    <a:pt x="16" y="79"/>
                  </a:lnTo>
                  <a:lnTo>
                    <a:pt x="2" y="81"/>
                  </a:lnTo>
                  <a:lnTo>
                    <a:pt x="1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59"/>
                  </a:lnTo>
                  <a:lnTo>
                    <a:pt x="15" y="47"/>
                  </a:lnTo>
                  <a:lnTo>
                    <a:pt x="29" y="38"/>
                  </a:lnTo>
                  <a:lnTo>
                    <a:pt x="45" y="32"/>
                  </a:lnTo>
                  <a:lnTo>
                    <a:pt x="61" y="28"/>
                  </a:lnTo>
                  <a:lnTo>
                    <a:pt x="77" y="25"/>
                  </a:lnTo>
                  <a:lnTo>
                    <a:pt x="94" y="20"/>
                  </a:lnTo>
                  <a:lnTo>
                    <a:pt x="110" y="15"/>
                  </a:lnTo>
                  <a:lnTo>
                    <a:pt x="126" y="7"/>
                  </a:lnTo>
                  <a:lnTo>
                    <a:pt x="133" y="3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60" y="0"/>
                  </a:lnTo>
                  <a:lnTo>
                    <a:pt x="170" y="1"/>
                  </a:lnTo>
                  <a:lnTo>
                    <a:pt x="179" y="2"/>
                  </a:lnTo>
                  <a:lnTo>
                    <a:pt x="188" y="4"/>
                  </a:lnTo>
                  <a:lnTo>
                    <a:pt x="196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182280" y="2333160"/>
              <a:ext cx="88200" cy="38880"/>
            </a:xfrm>
            <a:custGeom>
              <a:avLst/>
              <a:gdLst/>
              <a:ahLst/>
              <a:rect l="l" t="t" r="r" b="b"/>
              <a:pathLst>
                <a:path w="279" h="127">
                  <a:moveTo>
                    <a:pt x="158" y="119"/>
                  </a:moveTo>
                  <a:lnTo>
                    <a:pt x="139" y="123"/>
                  </a:lnTo>
                  <a:lnTo>
                    <a:pt x="118" y="126"/>
                  </a:lnTo>
                  <a:lnTo>
                    <a:pt x="97" y="127"/>
                  </a:lnTo>
                  <a:lnTo>
                    <a:pt x="76" y="126"/>
                  </a:lnTo>
                  <a:lnTo>
                    <a:pt x="56" y="122"/>
                  </a:lnTo>
                  <a:lnTo>
                    <a:pt x="38" y="116"/>
                  </a:lnTo>
                  <a:lnTo>
                    <a:pt x="20" y="107"/>
                  </a:lnTo>
                  <a:lnTo>
                    <a:pt x="4" y="95"/>
                  </a:lnTo>
                  <a:lnTo>
                    <a:pt x="0" y="85"/>
                  </a:lnTo>
                  <a:lnTo>
                    <a:pt x="16" y="77"/>
                  </a:lnTo>
                  <a:lnTo>
                    <a:pt x="33" y="70"/>
                  </a:lnTo>
                  <a:lnTo>
                    <a:pt x="51" y="65"/>
                  </a:lnTo>
                  <a:lnTo>
                    <a:pt x="69" y="62"/>
                  </a:lnTo>
                  <a:lnTo>
                    <a:pt x="87" y="59"/>
                  </a:lnTo>
                  <a:lnTo>
                    <a:pt x="105" y="56"/>
                  </a:lnTo>
                  <a:lnTo>
                    <a:pt x="124" y="55"/>
                  </a:lnTo>
                  <a:lnTo>
                    <a:pt x="142" y="53"/>
                  </a:lnTo>
                  <a:lnTo>
                    <a:pt x="161" y="51"/>
                  </a:lnTo>
                  <a:lnTo>
                    <a:pt x="179" y="49"/>
                  </a:lnTo>
                  <a:lnTo>
                    <a:pt x="197" y="45"/>
                  </a:lnTo>
                  <a:lnTo>
                    <a:pt x="214" y="39"/>
                  </a:lnTo>
                  <a:lnTo>
                    <a:pt x="231" y="33"/>
                  </a:lnTo>
                  <a:lnTo>
                    <a:pt x="248" y="25"/>
                  </a:lnTo>
                  <a:lnTo>
                    <a:pt x="264" y="14"/>
                  </a:lnTo>
                  <a:lnTo>
                    <a:pt x="279" y="0"/>
                  </a:lnTo>
                  <a:lnTo>
                    <a:pt x="271" y="20"/>
                  </a:lnTo>
                  <a:lnTo>
                    <a:pt x="261" y="38"/>
                  </a:lnTo>
                  <a:lnTo>
                    <a:pt x="248" y="56"/>
                  </a:lnTo>
                  <a:lnTo>
                    <a:pt x="232" y="73"/>
                  </a:lnTo>
                  <a:lnTo>
                    <a:pt x="215" y="88"/>
                  </a:lnTo>
                  <a:lnTo>
                    <a:pt x="197" y="101"/>
                  </a:lnTo>
                  <a:lnTo>
                    <a:pt x="177" y="112"/>
                  </a:lnTo>
                  <a:lnTo>
                    <a:pt x="158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09000" y="2376360"/>
              <a:ext cx="136800" cy="88560"/>
            </a:xfrm>
            <a:custGeom>
              <a:avLst/>
              <a:gdLst/>
              <a:ahLst/>
              <a:rect l="l" t="t" r="r" b="b"/>
              <a:pathLst>
                <a:path w="428" h="281">
                  <a:moveTo>
                    <a:pt x="428" y="4"/>
                  </a:moveTo>
                  <a:lnTo>
                    <a:pt x="414" y="37"/>
                  </a:lnTo>
                  <a:lnTo>
                    <a:pt x="404" y="71"/>
                  </a:lnTo>
                  <a:lnTo>
                    <a:pt x="398" y="105"/>
                  </a:lnTo>
                  <a:lnTo>
                    <a:pt x="393" y="140"/>
                  </a:lnTo>
                  <a:lnTo>
                    <a:pt x="389" y="176"/>
                  </a:lnTo>
                  <a:lnTo>
                    <a:pt x="385" y="211"/>
                  </a:lnTo>
                  <a:lnTo>
                    <a:pt x="380" y="246"/>
                  </a:lnTo>
                  <a:lnTo>
                    <a:pt x="374" y="281"/>
                  </a:lnTo>
                  <a:lnTo>
                    <a:pt x="350" y="280"/>
                  </a:lnTo>
                  <a:lnTo>
                    <a:pt x="326" y="279"/>
                  </a:lnTo>
                  <a:lnTo>
                    <a:pt x="302" y="277"/>
                  </a:lnTo>
                  <a:lnTo>
                    <a:pt x="280" y="274"/>
                  </a:lnTo>
                  <a:lnTo>
                    <a:pt x="257" y="271"/>
                  </a:lnTo>
                  <a:lnTo>
                    <a:pt x="233" y="267"/>
                  </a:lnTo>
                  <a:lnTo>
                    <a:pt x="211" y="264"/>
                  </a:lnTo>
                  <a:lnTo>
                    <a:pt x="188" y="261"/>
                  </a:lnTo>
                  <a:lnTo>
                    <a:pt x="164" y="258"/>
                  </a:lnTo>
                  <a:lnTo>
                    <a:pt x="142" y="255"/>
                  </a:lnTo>
                  <a:lnTo>
                    <a:pt x="119" y="252"/>
                  </a:lnTo>
                  <a:lnTo>
                    <a:pt x="95" y="251"/>
                  </a:lnTo>
                  <a:lnTo>
                    <a:pt x="72" y="250"/>
                  </a:lnTo>
                  <a:lnTo>
                    <a:pt x="49" y="251"/>
                  </a:lnTo>
                  <a:lnTo>
                    <a:pt x="24" y="252"/>
                  </a:lnTo>
                  <a:lnTo>
                    <a:pt x="0" y="256"/>
                  </a:lnTo>
                  <a:lnTo>
                    <a:pt x="17" y="243"/>
                  </a:lnTo>
                  <a:lnTo>
                    <a:pt x="35" y="231"/>
                  </a:lnTo>
                  <a:lnTo>
                    <a:pt x="54" y="221"/>
                  </a:lnTo>
                  <a:lnTo>
                    <a:pt x="73" y="211"/>
                  </a:lnTo>
                  <a:lnTo>
                    <a:pt x="93" y="203"/>
                  </a:lnTo>
                  <a:lnTo>
                    <a:pt x="113" y="195"/>
                  </a:lnTo>
                  <a:lnTo>
                    <a:pt x="134" y="188"/>
                  </a:lnTo>
                  <a:lnTo>
                    <a:pt x="154" y="179"/>
                  </a:lnTo>
                  <a:lnTo>
                    <a:pt x="174" y="172"/>
                  </a:lnTo>
                  <a:lnTo>
                    <a:pt x="193" y="163"/>
                  </a:lnTo>
                  <a:lnTo>
                    <a:pt x="212" y="154"/>
                  </a:lnTo>
                  <a:lnTo>
                    <a:pt x="231" y="143"/>
                  </a:lnTo>
                  <a:lnTo>
                    <a:pt x="248" y="132"/>
                  </a:lnTo>
                  <a:lnTo>
                    <a:pt x="265" y="118"/>
                  </a:lnTo>
                  <a:lnTo>
                    <a:pt x="281" y="103"/>
                  </a:lnTo>
                  <a:lnTo>
                    <a:pt x="295" y="85"/>
                  </a:lnTo>
                  <a:lnTo>
                    <a:pt x="305" y="73"/>
                  </a:lnTo>
                  <a:lnTo>
                    <a:pt x="314" y="62"/>
                  </a:lnTo>
                  <a:lnTo>
                    <a:pt x="325" y="51"/>
                  </a:lnTo>
                  <a:lnTo>
                    <a:pt x="335" y="40"/>
                  </a:lnTo>
                  <a:lnTo>
                    <a:pt x="346" y="30"/>
                  </a:lnTo>
                  <a:lnTo>
                    <a:pt x="358" y="19"/>
                  </a:lnTo>
                  <a:lnTo>
                    <a:pt x="368" y="10"/>
                  </a:lnTo>
                  <a:lnTo>
                    <a:pt x="380" y="0"/>
                  </a:lnTo>
                  <a:lnTo>
                    <a:pt x="428" y="4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223320" y="2476800"/>
              <a:ext cx="43560" cy="56880"/>
            </a:xfrm>
            <a:custGeom>
              <a:avLst/>
              <a:gdLst/>
              <a:ahLst/>
              <a:rect l="l" t="t" r="r" b="b"/>
              <a:pathLst>
                <a:path w="134" h="182">
                  <a:moveTo>
                    <a:pt x="134" y="0"/>
                  </a:moveTo>
                  <a:lnTo>
                    <a:pt x="127" y="22"/>
                  </a:lnTo>
                  <a:lnTo>
                    <a:pt x="118" y="45"/>
                  </a:lnTo>
                  <a:lnTo>
                    <a:pt x="111" y="66"/>
                  </a:lnTo>
                  <a:lnTo>
                    <a:pt x="103" y="88"/>
                  </a:lnTo>
                  <a:lnTo>
                    <a:pt x="97" y="110"/>
                  </a:lnTo>
                  <a:lnTo>
                    <a:pt x="92" y="134"/>
                  </a:lnTo>
                  <a:lnTo>
                    <a:pt x="87" y="157"/>
                  </a:lnTo>
                  <a:lnTo>
                    <a:pt x="85" y="182"/>
                  </a:lnTo>
                  <a:lnTo>
                    <a:pt x="75" y="161"/>
                  </a:lnTo>
                  <a:lnTo>
                    <a:pt x="62" y="142"/>
                  </a:lnTo>
                  <a:lnTo>
                    <a:pt x="49" y="123"/>
                  </a:lnTo>
                  <a:lnTo>
                    <a:pt x="35" y="104"/>
                  </a:lnTo>
                  <a:lnTo>
                    <a:pt x="24" y="84"/>
                  </a:lnTo>
                  <a:lnTo>
                    <a:pt x="13" y="64"/>
                  </a:lnTo>
                  <a:lnTo>
                    <a:pt x="4" y="43"/>
                  </a:lnTo>
                  <a:lnTo>
                    <a:pt x="0" y="20"/>
                  </a:lnTo>
                  <a:lnTo>
                    <a:pt x="16" y="16"/>
                  </a:lnTo>
                  <a:lnTo>
                    <a:pt x="32" y="14"/>
                  </a:lnTo>
                  <a:lnTo>
                    <a:pt x="49" y="13"/>
                  </a:lnTo>
                  <a:lnTo>
                    <a:pt x="66" y="12"/>
                  </a:lnTo>
                  <a:lnTo>
                    <a:pt x="83" y="11"/>
                  </a:lnTo>
                  <a:lnTo>
                    <a:pt x="101" y="10"/>
                  </a:lnTo>
                  <a:lnTo>
                    <a:pt x="117" y="5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104160" y="2207160"/>
              <a:ext cx="17640" cy="1152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27" y="35"/>
                  </a:moveTo>
                  <a:lnTo>
                    <a:pt x="38" y="34"/>
                  </a:lnTo>
                  <a:lnTo>
                    <a:pt x="47" y="29"/>
                  </a:lnTo>
                  <a:lnTo>
                    <a:pt x="53" y="24"/>
                  </a:lnTo>
                  <a:lnTo>
                    <a:pt x="55" y="18"/>
                  </a:lnTo>
                  <a:lnTo>
                    <a:pt x="53" y="10"/>
                  </a:lnTo>
                  <a:lnTo>
                    <a:pt x="47" y="5"/>
                  </a:lnTo>
                  <a:lnTo>
                    <a:pt x="38" y="1"/>
                  </a:lnTo>
                  <a:lnTo>
                    <a:pt x="27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29"/>
                  </a:lnTo>
                  <a:lnTo>
                    <a:pt x="17" y="34"/>
                  </a:lnTo>
                  <a:lnTo>
                    <a:pt x="27" y="35"/>
                  </a:lnTo>
                  <a:close/>
                </a:path>
              </a:pathLst>
            </a:custGeom>
            <a:solidFill>
              <a:srgbClr val="00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104160" y="2204640"/>
              <a:ext cx="17640" cy="1152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29" y="35"/>
                  </a:moveTo>
                  <a:lnTo>
                    <a:pt x="41" y="32"/>
                  </a:lnTo>
                  <a:lnTo>
                    <a:pt x="49" y="28"/>
                  </a:lnTo>
                  <a:lnTo>
                    <a:pt x="55" y="21"/>
                  </a:lnTo>
                  <a:lnTo>
                    <a:pt x="57" y="14"/>
                  </a:lnTo>
                  <a:lnTo>
                    <a:pt x="54" y="8"/>
                  </a:lnTo>
                  <a:lnTo>
                    <a:pt x="47" y="2"/>
                  </a:lnTo>
                  <a:lnTo>
                    <a:pt x="38" y="0"/>
                  </a:lnTo>
                  <a:lnTo>
                    <a:pt x="26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3" y="27"/>
                  </a:lnTo>
                  <a:lnTo>
                    <a:pt x="9" y="32"/>
                  </a:lnTo>
                  <a:lnTo>
                    <a:pt x="18" y="34"/>
                  </a:lnTo>
                  <a:lnTo>
                    <a:pt x="2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119280" y="2209680"/>
              <a:ext cx="3960" cy="36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7" y="11"/>
                  </a:moveTo>
                  <a:lnTo>
                    <a:pt x="9" y="11"/>
                  </a:lnTo>
                  <a:lnTo>
                    <a:pt x="11" y="10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227280" y="2171880"/>
              <a:ext cx="18000" cy="1008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28" y="35"/>
                  </a:moveTo>
                  <a:lnTo>
                    <a:pt x="38" y="34"/>
                  </a:lnTo>
                  <a:lnTo>
                    <a:pt x="47" y="30"/>
                  </a:lnTo>
                  <a:lnTo>
                    <a:pt x="53" y="24"/>
                  </a:lnTo>
                  <a:lnTo>
                    <a:pt x="55" y="17"/>
                  </a:lnTo>
                  <a:lnTo>
                    <a:pt x="53" y="11"/>
                  </a:lnTo>
                  <a:lnTo>
                    <a:pt x="47" y="5"/>
                  </a:lnTo>
                  <a:lnTo>
                    <a:pt x="38" y="1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7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7" y="30"/>
                  </a:lnTo>
                  <a:lnTo>
                    <a:pt x="17" y="34"/>
                  </a:lnTo>
                  <a:lnTo>
                    <a:pt x="28" y="35"/>
                  </a:lnTo>
                  <a:close/>
                </a:path>
              </a:pathLst>
            </a:custGeom>
            <a:solidFill>
              <a:srgbClr val="00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227280" y="2167560"/>
              <a:ext cx="18000" cy="1152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31" y="36"/>
                  </a:moveTo>
                  <a:lnTo>
                    <a:pt x="41" y="32"/>
                  </a:lnTo>
                  <a:lnTo>
                    <a:pt x="51" y="28"/>
                  </a:lnTo>
                  <a:lnTo>
                    <a:pt x="56" y="22"/>
                  </a:lnTo>
                  <a:lnTo>
                    <a:pt x="57" y="14"/>
                  </a:lnTo>
                  <a:lnTo>
                    <a:pt x="54" y="8"/>
                  </a:lnTo>
                  <a:lnTo>
                    <a:pt x="48" y="3"/>
                  </a:lnTo>
                  <a:lnTo>
                    <a:pt x="38" y="0"/>
                  </a:lnTo>
                  <a:lnTo>
                    <a:pt x="26" y="0"/>
                  </a:lnTo>
                  <a:lnTo>
                    <a:pt x="16" y="3"/>
                  </a:lnTo>
                  <a:lnTo>
                    <a:pt x="7" y="7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3" y="27"/>
                  </a:lnTo>
                  <a:lnTo>
                    <a:pt x="9" y="32"/>
                  </a:lnTo>
                  <a:lnTo>
                    <a:pt x="19" y="35"/>
                  </a:lnTo>
                  <a:lnTo>
                    <a:pt x="3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242400" y="2174400"/>
              <a:ext cx="3600" cy="21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8" y="11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83440" y="2470320"/>
              <a:ext cx="70200" cy="114120"/>
            </a:xfrm>
            <a:custGeom>
              <a:avLst/>
              <a:gdLst/>
              <a:ahLst/>
              <a:rect l="l" t="t" r="r" b="b"/>
              <a:pathLst>
                <a:path w="218" h="359">
                  <a:moveTo>
                    <a:pt x="4" y="0"/>
                  </a:moveTo>
                  <a:lnTo>
                    <a:pt x="0" y="50"/>
                  </a:lnTo>
                  <a:lnTo>
                    <a:pt x="63" y="129"/>
                  </a:lnTo>
                  <a:lnTo>
                    <a:pt x="63" y="350"/>
                  </a:lnTo>
                  <a:lnTo>
                    <a:pt x="218" y="359"/>
                  </a:lnTo>
                  <a:lnTo>
                    <a:pt x="214" y="354"/>
                  </a:lnTo>
                  <a:lnTo>
                    <a:pt x="201" y="343"/>
                  </a:lnTo>
                  <a:lnTo>
                    <a:pt x="184" y="327"/>
                  </a:lnTo>
                  <a:lnTo>
                    <a:pt x="165" y="309"/>
                  </a:lnTo>
                  <a:lnTo>
                    <a:pt x="147" y="291"/>
                  </a:lnTo>
                  <a:lnTo>
                    <a:pt x="132" y="276"/>
                  </a:lnTo>
                  <a:lnTo>
                    <a:pt x="122" y="265"/>
                  </a:lnTo>
                  <a:lnTo>
                    <a:pt x="121" y="262"/>
                  </a:lnTo>
                  <a:lnTo>
                    <a:pt x="128" y="264"/>
                  </a:lnTo>
                  <a:lnTo>
                    <a:pt x="136" y="267"/>
                  </a:lnTo>
                  <a:lnTo>
                    <a:pt x="147" y="272"/>
                  </a:lnTo>
                  <a:lnTo>
                    <a:pt x="157" y="276"/>
                  </a:lnTo>
                  <a:lnTo>
                    <a:pt x="167" y="280"/>
                  </a:lnTo>
                  <a:lnTo>
                    <a:pt x="175" y="284"/>
                  </a:lnTo>
                  <a:lnTo>
                    <a:pt x="182" y="286"/>
                  </a:lnTo>
                  <a:lnTo>
                    <a:pt x="184" y="288"/>
                  </a:lnTo>
                  <a:lnTo>
                    <a:pt x="88" y="129"/>
                  </a:lnTo>
                  <a:lnTo>
                    <a:pt x="43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068160" y="2031840"/>
              <a:ext cx="127800" cy="37800"/>
            </a:xfrm>
            <a:custGeom>
              <a:avLst/>
              <a:gdLst/>
              <a:ahLst/>
              <a:rect l="l" t="t" r="r" b="b"/>
              <a:pathLst>
                <a:path w="397" h="119">
                  <a:moveTo>
                    <a:pt x="4" y="67"/>
                  </a:moveTo>
                  <a:lnTo>
                    <a:pt x="6" y="69"/>
                  </a:lnTo>
                  <a:lnTo>
                    <a:pt x="13" y="73"/>
                  </a:lnTo>
                  <a:lnTo>
                    <a:pt x="23" y="80"/>
                  </a:lnTo>
                  <a:lnTo>
                    <a:pt x="37" y="87"/>
                  </a:lnTo>
                  <a:lnTo>
                    <a:pt x="54" y="95"/>
                  </a:lnTo>
                  <a:lnTo>
                    <a:pt x="74" y="104"/>
                  </a:lnTo>
                  <a:lnTo>
                    <a:pt x="98" y="111"/>
                  </a:lnTo>
                  <a:lnTo>
                    <a:pt x="124" y="116"/>
                  </a:lnTo>
                  <a:lnTo>
                    <a:pt x="152" y="119"/>
                  </a:lnTo>
                  <a:lnTo>
                    <a:pt x="183" y="118"/>
                  </a:lnTo>
                  <a:lnTo>
                    <a:pt x="216" y="113"/>
                  </a:lnTo>
                  <a:lnTo>
                    <a:pt x="250" y="104"/>
                  </a:lnTo>
                  <a:lnTo>
                    <a:pt x="285" y="88"/>
                  </a:lnTo>
                  <a:lnTo>
                    <a:pt x="322" y="66"/>
                  </a:lnTo>
                  <a:lnTo>
                    <a:pt x="359" y="37"/>
                  </a:lnTo>
                  <a:lnTo>
                    <a:pt x="397" y="0"/>
                  </a:lnTo>
                  <a:lnTo>
                    <a:pt x="395" y="2"/>
                  </a:lnTo>
                  <a:lnTo>
                    <a:pt x="389" y="6"/>
                  </a:lnTo>
                  <a:lnTo>
                    <a:pt x="377" y="14"/>
                  </a:lnTo>
                  <a:lnTo>
                    <a:pt x="363" y="22"/>
                  </a:lnTo>
                  <a:lnTo>
                    <a:pt x="345" y="33"/>
                  </a:lnTo>
                  <a:lnTo>
                    <a:pt x="323" y="43"/>
                  </a:lnTo>
                  <a:lnTo>
                    <a:pt x="299" y="54"/>
                  </a:lnTo>
                  <a:lnTo>
                    <a:pt x="272" y="65"/>
                  </a:lnTo>
                  <a:lnTo>
                    <a:pt x="243" y="73"/>
                  </a:lnTo>
                  <a:lnTo>
                    <a:pt x="212" y="81"/>
                  </a:lnTo>
                  <a:lnTo>
                    <a:pt x="180" y="85"/>
                  </a:lnTo>
                  <a:lnTo>
                    <a:pt x="144" y="86"/>
                  </a:lnTo>
                  <a:lnTo>
                    <a:pt x="109" y="84"/>
                  </a:lnTo>
                  <a:lnTo>
                    <a:pt x="73" y="77"/>
                  </a:lnTo>
                  <a:lnTo>
                    <a:pt x="37" y="67"/>
                  </a:lnTo>
                  <a:lnTo>
                    <a:pt x="0" y="50"/>
                  </a:lnTo>
                  <a:lnTo>
                    <a:pt x="4" y="67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082560" y="2026800"/>
              <a:ext cx="88200" cy="18720"/>
            </a:xfrm>
            <a:custGeom>
              <a:avLst/>
              <a:gdLst/>
              <a:ahLst/>
              <a:rect l="l" t="t" r="r" b="b"/>
              <a:pathLst>
                <a:path w="277" h="59">
                  <a:moveTo>
                    <a:pt x="0" y="25"/>
                  </a:moveTo>
                  <a:lnTo>
                    <a:pt x="2" y="27"/>
                  </a:lnTo>
                  <a:lnTo>
                    <a:pt x="6" y="29"/>
                  </a:lnTo>
                  <a:lnTo>
                    <a:pt x="12" y="33"/>
                  </a:lnTo>
                  <a:lnTo>
                    <a:pt x="22" y="38"/>
                  </a:lnTo>
                  <a:lnTo>
                    <a:pt x="32" y="44"/>
                  </a:lnTo>
                  <a:lnTo>
                    <a:pt x="46" y="48"/>
                  </a:lnTo>
                  <a:lnTo>
                    <a:pt x="61" y="53"/>
                  </a:lnTo>
                  <a:lnTo>
                    <a:pt x="79" y="56"/>
                  </a:lnTo>
                  <a:lnTo>
                    <a:pt x="98" y="58"/>
                  </a:lnTo>
                  <a:lnTo>
                    <a:pt x="119" y="59"/>
                  </a:lnTo>
                  <a:lnTo>
                    <a:pt x="142" y="57"/>
                  </a:lnTo>
                  <a:lnTo>
                    <a:pt x="166" y="53"/>
                  </a:lnTo>
                  <a:lnTo>
                    <a:pt x="192" y="46"/>
                  </a:lnTo>
                  <a:lnTo>
                    <a:pt x="219" y="35"/>
                  </a:lnTo>
                  <a:lnTo>
                    <a:pt x="247" y="19"/>
                  </a:lnTo>
                  <a:lnTo>
                    <a:pt x="277" y="0"/>
                  </a:lnTo>
                  <a:lnTo>
                    <a:pt x="274" y="1"/>
                  </a:lnTo>
                  <a:lnTo>
                    <a:pt x="269" y="3"/>
                  </a:lnTo>
                  <a:lnTo>
                    <a:pt x="260" y="6"/>
                  </a:lnTo>
                  <a:lnTo>
                    <a:pt x="247" y="11"/>
                  </a:lnTo>
                  <a:lnTo>
                    <a:pt x="232" y="16"/>
                  </a:lnTo>
                  <a:lnTo>
                    <a:pt x="215" y="21"/>
                  </a:lnTo>
                  <a:lnTo>
                    <a:pt x="196" y="27"/>
                  </a:lnTo>
                  <a:lnTo>
                    <a:pt x="175" y="32"/>
                  </a:lnTo>
                  <a:lnTo>
                    <a:pt x="153" y="36"/>
                  </a:lnTo>
                  <a:lnTo>
                    <a:pt x="130" y="39"/>
                  </a:lnTo>
                  <a:lnTo>
                    <a:pt x="108" y="41"/>
                  </a:lnTo>
                  <a:lnTo>
                    <a:pt x="84" y="42"/>
                  </a:lnTo>
                  <a:lnTo>
                    <a:pt x="62" y="41"/>
                  </a:lnTo>
                  <a:lnTo>
                    <a:pt x="40" y="38"/>
                  </a:lnTo>
                  <a:lnTo>
                    <a:pt x="20" y="3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293520" y="2085120"/>
              <a:ext cx="52560" cy="72000"/>
            </a:xfrm>
            <a:custGeom>
              <a:avLst/>
              <a:gdLst/>
              <a:ahLst/>
              <a:rect l="l" t="t" r="r" b="b"/>
              <a:pathLst>
                <a:path w="167" h="226">
                  <a:moveTo>
                    <a:pt x="0" y="0"/>
                  </a:moveTo>
                  <a:lnTo>
                    <a:pt x="7" y="4"/>
                  </a:lnTo>
                  <a:lnTo>
                    <a:pt x="25" y="15"/>
                  </a:lnTo>
                  <a:lnTo>
                    <a:pt x="52" y="35"/>
                  </a:lnTo>
                  <a:lnTo>
                    <a:pt x="82" y="61"/>
                  </a:lnTo>
                  <a:lnTo>
                    <a:pt x="110" y="93"/>
                  </a:lnTo>
                  <a:lnTo>
                    <a:pt x="134" y="132"/>
                  </a:lnTo>
                  <a:lnTo>
                    <a:pt x="149" y="177"/>
                  </a:lnTo>
                  <a:lnTo>
                    <a:pt x="151" y="226"/>
                  </a:lnTo>
                  <a:lnTo>
                    <a:pt x="152" y="223"/>
                  </a:lnTo>
                  <a:lnTo>
                    <a:pt x="154" y="218"/>
                  </a:lnTo>
                  <a:lnTo>
                    <a:pt x="157" y="210"/>
                  </a:lnTo>
                  <a:lnTo>
                    <a:pt x="160" y="199"/>
                  </a:lnTo>
                  <a:lnTo>
                    <a:pt x="163" y="185"/>
                  </a:lnTo>
                  <a:lnTo>
                    <a:pt x="166" y="170"/>
                  </a:lnTo>
                  <a:lnTo>
                    <a:pt x="167" y="153"/>
                  </a:lnTo>
                  <a:lnTo>
                    <a:pt x="165" y="136"/>
                  </a:lnTo>
                  <a:lnTo>
                    <a:pt x="160" y="117"/>
                  </a:lnTo>
                  <a:lnTo>
                    <a:pt x="152" y="98"/>
                  </a:lnTo>
                  <a:lnTo>
                    <a:pt x="140" y="80"/>
                  </a:lnTo>
                  <a:lnTo>
                    <a:pt x="124" y="61"/>
                  </a:lnTo>
                  <a:lnTo>
                    <a:pt x="102" y="44"/>
                  </a:lnTo>
                  <a:lnTo>
                    <a:pt x="74" y="27"/>
                  </a:lnTo>
                  <a:lnTo>
                    <a:pt x="4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6" name=""/>
          <p:cNvGrpSpPr/>
          <p:nvPr/>
        </p:nvGrpSpPr>
        <p:grpSpPr>
          <a:xfrm>
            <a:off x="3048120" y="2232000"/>
            <a:ext cx="2438280" cy="488880"/>
            <a:chOff x="3048120" y="2232000"/>
            <a:chExt cx="2438280" cy="488880"/>
          </a:xfrm>
        </p:grpSpPr>
        <p:sp>
          <p:nvSpPr>
            <p:cNvPr id="1337" name=""/>
            <p:cNvSpPr/>
            <p:nvPr/>
          </p:nvSpPr>
          <p:spPr>
            <a:xfrm>
              <a:off x="3048120" y="22320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048120" y="272088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9" name=""/>
          <p:cNvSpPr/>
          <p:nvPr/>
        </p:nvSpPr>
        <p:spPr>
          <a:xfrm>
            <a:off x="6443640" y="1125360"/>
            <a:ext cx="2521080" cy="935280"/>
          </a:xfrm>
          <a:prstGeom prst="cloudCallout">
            <a:avLst>
              <a:gd name="adj1" fmla="val -48300"/>
              <a:gd name="adj2" fmla="val 4966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 to chan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4876200" y="23623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2209680" y="4232160"/>
            <a:ext cx="838440" cy="339480"/>
            <a:chOff x="2209680" y="4232160"/>
            <a:chExt cx="838440" cy="339480"/>
          </a:xfrm>
        </p:grpSpPr>
        <p:sp>
          <p:nvSpPr>
            <p:cNvPr id="1342" name=""/>
            <p:cNvSpPr/>
            <p:nvPr/>
          </p:nvSpPr>
          <p:spPr>
            <a:xfrm>
              <a:off x="221760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1760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97000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97000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97000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97000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52160" y="424692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252160" y="424692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270160" y="439236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270160" y="439236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217600" y="423216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217600" y="423216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94264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94264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2963880" y="4515120"/>
              <a:ext cx="72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2949480" y="4447800"/>
              <a:ext cx="97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2959920" y="4470480"/>
              <a:ext cx="87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20968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20968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221560" y="4483800"/>
              <a:ext cx="66600" cy="1044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209680" y="4455360"/>
              <a:ext cx="8568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209680" y="4426920"/>
              <a:ext cx="10836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85732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5732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33388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33388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240640" y="4378320"/>
              <a:ext cx="754920" cy="2340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242800" y="4387680"/>
              <a:ext cx="732960" cy="1692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383560" y="4239360"/>
              <a:ext cx="43272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427480" y="4430520"/>
              <a:ext cx="403920" cy="75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437560" y="4447800"/>
              <a:ext cx="386280" cy="540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785320" y="4355280"/>
              <a:ext cx="1188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561040" y="4241520"/>
              <a:ext cx="21960" cy="26280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806560" y="4425840"/>
              <a:ext cx="7920" cy="7560"/>
            </a:xfrm>
            <a:prstGeom prst="rect">
              <a:avLst/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806560" y="4425840"/>
              <a:ext cx="7920" cy="7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99200" y="4383000"/>
              <a:ext cx="32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599200" y="4383000"/>
              <a:ext cx="32400" cy="1404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599200" y="4383000"/>
              <a:ext cx="3240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599200" y="4383000"/>
              <a:ext cx="3240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00120" y="4375440"/>
              <a:ext cx="331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400120" y="4375440"/>
              <a:ext cx="33120" cy="1404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400120" y="4375440"/>
              <a:ext cx="3312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00120" y="4375440"/>
              <a:ext cx="3312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7328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7328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2352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42352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528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3528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397960" y="430488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397960" y="430488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812680" y="4353480"/>
              <a:ext cx="188280" cy="4356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230560" y="4341240"/>
              <a:ext cx="546840" cy="2160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226960" y="4241520"/>
              <a:ext cx="183600" cy="9468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221560" y="4375440"/>
              <a:ext cx="19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217600" y="4387680"/>
              <a:ext cx="2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217600" y="4406760"/>
              <a:ext cx="2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289960" y="4251960"/>
              <a:ext cx="14580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381040" y="4248000"/>
              <a:ext cx="504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30904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30904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72736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72736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2268360" y="2276640"/>
            <a:ext cx="838440" cy="380880"/>
            <a:chOff x="2268360" y="2276640"/>
            <a:chExt cx="838440" cy="380880"/>
          </a:xfrm>
        </p:grpSpPr>
        <p:sp>
          <p:nvSpPr>
            <p:cNvPr id="1406" name=""/>
            <p:cNvSpPr/>
            <p:nvPr/>
          </p:nvSpPr>
          <p:spPr>
            <a:xfrm>
              <a:off x="2268360" y="2276640"/>
              <a:ext cx="838440" cy="380880"/>
            </a:xfrm>
            <a:prstGeom prst="roundRect">
              <a:avLst>
                <a:gd name="adj" fmla="val 9977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268360" y="2276640"/>
              <a:ext cx="838440" cy="38088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750040" y="2301840"/>
              <a:ext cx="126360" cy="329760"/>
            </a:xfrm>
            <a:custGeom>
              <a:avLst/>
              <a:gdLst>
                <a:gd name="textAreaLeft" fmla="*/ 3600 w 126360"/>
                <a:gd name="textAreaRight" fmla="*/ 122760 w 126360"/>
                <a:gd name="textAreaTop" fmla="*/ 3600 h 329760"/>
                <a:gd name="textAreaBottom" fmla="*/ 326160 h 329760"/>
              </a:gdLst>
              <a:ahLst/>
              <a:rect l="textAreaLeft" t="textAreaTop" r="textAreaRight" b="textAreaBottom"/>
              <a:pathLst>
                <a:path w="21600" h="56270">
                  <a:moveTo>
                    <a:pt x="2139" y="0"/>
                  </a:moveTo>
                  <a:arcTo wR="2139" hR="2139" stAng="16200000" swAng="-5400000"/>
                  <a:lnTo>
                    <a:pt x="0" y="54131"/>
                  </a:lnTo>
                  <a:arcTo wR="2139" hR="2139" stAng="10800000" swAng="-5400000"/>
                  <a:lnTo>
                    <a:pt x="19461" y="56270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329200" y="2305080"/>
              <a:ext cx="113400" cy="325080"/>
            </a:xfrm>
            <a:custGeom>
              <a:avLst/>
              <a:gdLst>
                <a:gd name="textAreaLeft" fmla="*/ 3240 w 113400"/>
                <a:gd name="textAreaRight" fmla="*/ 110160 w 113400"/>
                <a:gd name="textAreaTop" fmla="*/ 3240 h 325080"/>
                <a:gd name="textAreaBottom" fmla="*/ 321840 h 325080"/>
              </a:gdLst>
              <a:ahLst/>
              <a:rect l="textAreaLeft" t="textAreaTop" r="textAreaRight" b="textAreaBottom"/>
              <a:pathLst>
                <a:path w="21600" h="61792">
                  <a:moveTo>
                    <a:pt x="2143" y="0"/>
                  </a:moveTo>
                  <a:arcTo wR="2143" hR="2143" stAng="16200000" swAng="-5400000"/>
                  <a:lnTo>
                    <a:pt x="0" y="59649"/>
                  </a:lnTo>
                  <a:arcTo wR="2143" hR="2143" stAng="10800000" swAng="-5400000"/>
                  <a:lnTo>
                    <a:pt x="19457" y="61792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1828800" y="3124080"/>
            <a:ext cx="5028840" cy="1828440"/>
            <a:chOff x="1828800" y="3124080"/>
            <a:chExt cx="5028840" cy="1828440"/>
          </a:xfrm>
        </p:grpSpPr>
        <p:sp>
          <p:nvSpPr>
            <p:cNvPr id="1411" name=""/>
            <p:cNvSpPr/>
            <p:nvPr/>
          </p:nvSpPr>
          <p:spPr>
            <a:xfrm>
              <a:off x="1828800" y="3124080"/>
              <a:ext cx="5028840" cy="1828440"/>
            </a:xfrm>
            <a:custGeom>
              <a:avLst/>
              <a:gdLst/>
              <a:ahLst/>
              <a:rect l="l" t="t" r="r" b="b"/>
              <a:pathLst>
                <a:path w="2127" h="626">
                  <a:moveTo>
                    <a:pt x="863" y="232"/>
                  </a:moveTo>
                  <a:lnTo>
                    <a:pt x="1263" y="232"/>
                  </a:lnTo>
                  <a:lnTo>
                    <a:pt x="1279" y="243"/>
                  </a:lnTo>
                  <a:lnTo>
                    <a:pt x="1279" y="253"/>
                  </a:lnTo>
                  <a:lnTo>
                    <a:pt x="1279" y="626"/>
                  </a:lnTo>
                  <a:lnTo>
                    <a:pt x="1518" y="626"/>
                  </a:lnTo>
                  <a:lnTo>
                    <a:pt x="1518" y="271"/>
                  </a:lnTo>
                  <a:lnTo>
                    <a:pt x="1531" y="280"/>
                  </a:lnTo>
                  <a:lnTo>
                    <a:pt x="1556" y="294"/>
                  </a:lnTo>
                  <a:lnTo>
                    <a:pt x="1600" y="320"/>
                  </a:lnTo>
                  <a:lnTo>
                    <a:pt x="1600" y="490"/>
                  </a:lnTo>
                  <a:lnTo>
                    <a:pt x="1628" y="490"/>
                  </a:lnTo>
                  <a:lnTo>
                    <a:pt x="1628" y="333"/>
                  </a:lnTo>
                  <a:lnTo>
                    <a:pt x="1671" y="354"/>
                  </a:lnTo>
                  <a:lnTo>
                    <a:pt x="1722" y="378"/>
                  </a:lnTo>
                  <a:lnTo>
                    <a:pt x="1722" y="490"/>
                  </a:lnTo>
                  <a:lnTo>
                    <a:pt x="1752" y="490"/>
                  </a:lnTo>
                  <a:lnTo>
                    <a:pt x="1752" y="391"/>
                  </a:lnTo>
                  <a:lnTo>
                    <a:pt x="1793" y="408"/>
                  </a:lnTo>
                  <a:lnTo>
                    <a:pt x="1837" y="427"/>
                  </a:lnTo>
                  <a:lnTo>
                    <a:pt x="1837" y="490"/>
                  </a:lnTo>
                  <a:lnTo>
                    <a:pt x="1867" y="490"/>
                  </a:lnTo>
                  <a:lnTo>
                    <a:pt x="1867" y="437"/>
                  </a:lnTo>
                  <a:lnTo>
                    <a:pt x="1880" y="442"/>
                  </a:lnTo>
                  <a:lnTo>
                    <a:pt x="1900" y="449"/>
                  </a:lnTo>
                  <a:lnTo>
                    <a:pt x="1926" y="457"/>
                  </a:lnTo>
                  <a:lnTo>
                    <a:pt x="1954" y="465"/>
                  </a:lnTo>
                  <a:lnTo>
                    <a:pt x="1984" y="473"/>
                  </a:lnTo>
                  <a:lnTo>
                    <a:pt x="2012" y="481"/>
                  </a:lnTo>
                  <a:lnTo>
                    <a:pt x="2038" y="486"/>
                  </a:lnTo>
                  <a:lnTo>
                    <a:pt x="2050" y="489"/>
                  </a:lnTo>
                  <a:lnTo>
                    <a:pt x="2061" y="490"/>
                  </a:lnTo>
                  <a:lnTo>
                    <a:pt x="1518" y="490"/>
                  </a:lnTo>
                  <a:lnTo>
                    <a:pt x="1518" y="509"/>
                  </a:lnTo>
                  <a:lnTo>
                    <a:pt x="2127" y="509"/>
                  </a:lnTo>
                  <a:lnTo>
                    <a:pt x="2127" y="491"/>
                  </a:lnTo>
                  <a:lnTo>
                    <a:pt x="2107" y="488"/>
                  </a:lnTo>
                  <a:lnTo>
                    <a:pt x="2086" y="484"/>
                  </a:lnTo>
                  <a:lnTo>
                    <a:pt x="2066" y="480"/>
                  </a:lnTo>
                  <a:lnTo>
                    <a:pt x="2043" y="475"/>
                  </a:lnTo>
                  <a:lnTo>
                    <a:pt x="2000" y="463"/>
                  </a:lnTo>
                  <a:lnTo>
                    <a:pt x="1954" y="450"/>
                  </a:lnTo>
                  <a:lnTo>
                    <a:pt x="1905" y="435"/>
                  </a:lnTo>
                  <a:lnTo>
                    <a:pt x="1862" y="419"/>
                  </a:lnTo>
                  <a:lnTo>
                    <a:pt x="1839" y="410"/>
                  </a:lnTo>
                  <a:lnTo>
                    <a:pt x="1816" y="401"/>
                  </a:lnTo>
                  <a:lnTo>
                    <a:pt x="1773" y="383"/>
                  </a:lnTo>
                  <a:lnTo>
                    <a:pt x="1730" y="365"/>
                  </a:lnTo>
                  <a:lnTo>
                    <a:pt x="1689" y="346"/>
                  </a:lnTo>
                  <a:lnTo>
                    <a:pt x="1651" y="327"/>
                  </a:lnTo>
                  <a:lnTo>
                    <a:pt x="1612" y="308"/>
                  </a:lnTo>
                  <a:lnTo>
                    <a:pt x="1579" y="290"/>
                  </a:lnTo>
                  <a:lnTo>
                    <a:pt x="1551" y="273"/>
                  </a:lnTo>
                  <a:lnTo>
                    <a:pt x="1526" y="257"/>
                  </a:lnTo>
                  <a:lnTo>
                    <a:pt x="1505" y="243"/>
                  </a:lnTo>
                  <a:lnTo>
                    <a:pt x="1518" y="232"/>
                  </a:lnTo>
                  <a:lnTo>
                    <a:pt x="1518" y="86"/>
                  </a:lnTo>
                  <a:lnTo>
                    <a:pt x="1500" y="70"/>
                  </a:lnTo>
                  <a:lnTo>
                    <a:pt x="1480" y="86"/>
                  </a:lnTo>
                  <a:lnTo>
                    <a:pt x="1477" y="85"/>
                  </a:lnTo>
                  <a:lnTo>
                    <a:pt x="1467" y="81"/>
                  </a:lnTo>
                  <a:lnTo>
                    <a:pt x="1454" y="74"/>
                  </a:lnTo>
                  <a:lnTo>
                    <a:pt x="1439" y="64"/>
                  </a:lnTo>
                  <a:lnTo>
                    <a:pt x="1424" y="52"/>
                  </a:lnTo>
                  <a:lnTo>
                    <a:pt x="1416" y="45"/>
                  </a:lnTo>
                  <a:lnTo>
                    <a:pt x="1411" y="37"/>
                  </a:lnTo>
                  <a:lnTo>
                    <a:pt x="1406" y="29"/>
                  </a:lnTo>
                  <a:lnTo>
                    <a:pt x="1401" y="20"/>
                  </a:lnTo>
                  <a:lnTo>
                    <a:pt x="1398" y="11"/>
                  </a:lnTo>
                  <a:lnTo>
                    <a:pt x="1398" y="0"/>
                  </a:lnTo>
                  <a:lnTo>
                    <a:pt x="1398" y="11"/>
                  </a:lnTo>
                  <a:lnTo>
                    <a:pt x="1396" y="20"/>
                  </a:lnTo>
                  <a:lnTo>
                    <a:pt x="1393" y="25"/>
                  </a:lnTo>
                  <a:lnTo>
                    <a:pt x="1391" y="29"/>
                  </a:lnTo>
                  <a:lnTo>
                    <a:pt x="1386" y="37"/>
                  </a:lnTo>
                  <a:lnTo>
                    <a:pt x="1378" y="45"/>
                  </a:lnTo>
                  <a:lnTo>
                    <a:pt x="1373" y="52"/>
                  </a:lnTo>
                  <a:lnTo>
                    <a:pt x="1358" y="64"/>
                  </a:lnTo>
                  <a:lnTo>
                    <a:pt x="1342" y="74"/>
                  </a:lnTo>
                  <a:lnTo>
                    <a:pt x="1330" y="81"/>
                  </a:lnTo>
                  <a:lnTo>
                    <a:pt x="1319" y="85"/>
                  </a:lnTo>
                  <a:lnTo>
                    <a:pt x="1317" y="86"/>
                  </a:lnTo>
                  <a:lnTo>
                    <a:pt x="1297" y="70"/>
                  </a:lnTo>
                  <a:lnTo>
                    <a:pt x="1279" y="86"/>
                  </a:lnTo>
                  <a:lnTo>
                    <a:pt x="1279" y="194"/>
                  </a:lnTo>
                  <a:lnTo>
                    <a:pt x="848" y="194"/>
                  </a:lnTo>
                  <a:lnTo>
                    <a:pt x="848" y="86"/>
                  </a:lnTo>
                  <a:lnTo>
                    <a:pt x="830" y="70"/>
                  </a:lnTo>
                  <a:lnTo>
                    <a:pt x="810" y="86"/>
                  </a:lnTo>
                  <a:lnTo>
                    <a:pt x="807" y="85"/>
                  </a:lnTo>
                  <a:lnTo>
                    <a:pt x="797" y="81"/>
                  </a:lnTo>
                  <a:lnTo>
                    <a:pt x="785" y="74"/>
                  </a:lnTo>
                  <a:lnTo>
                    <a:pt x="769" y="64"/>
                  </a:lnTo>
                  <a:lnTo>
                    <a:pt x="754" y="52"/>
                  </a:lnTo>
                  <a:lnTo>
                    <a:pt x="746" y="45"/>
                  </a:lnTo>
                  <a:lnTo>
                    <a:pt x="741" y="37"/>
                  </a:lnTo>
                  <a:lnTo>
                    <a:pt x="736" y="29"/>
                  </a:lnTo>
                  <a:lnTo>
                    <a:pt x="731" y="20"/>
                  </a:lnTo>
                  <a:lnTo>
                    <a:pt x="728" y="11"/>
                  </a:lnTo>
                  <a:lnTo>
                    <a:pt x="728" y="0"/>
                  </a:lnTo>
                  <a:lnTo>
                    <a:pt x="728" y="11"/>
                  </a:lnTo>
                  <a:lnTo>
                    <a:pt x="723" y="20"/>
                  </a:lnTo>
                  <a:lnTo>
                    <a:pt x="723" y="25"/>
                  </a:lnTo>
                  <a:lnTo>
                    <a:pt x="721" y="29"/>
                  </a:lnTo>
                  <a:lnTo>
                    <a:pt x="716" y="37"/>
                  </a:lnTo>
                  <a:lnTo>
                    <a:pt x="708" y="45"/>
                  </a:lnTo>
                  <a:lnTo>
                    <a:pt x="703" y="52"/>
                  </a:lnTo>
                  <a:lnTo>
                    <a:pt x="688" y="64"/>
                  </a:lnTo>
                  <a:lnTo>
                    <a:pt x="672" y="74"/>
                  </a:lnTo>
                  <a:lnTo>
                    <a:pt x="660" y="81"/>
                  </a:lnTo>
                  <a:lnTo>
                    <a:pt x="650" y="85"/>
                  </a:lnTo>
                  <a:lnTo>
                    <a:pt x="647" y="86"/>
                  </a:lnTo>
                  <a:lnTo>
                    <a:pt x="627" y="70"/>
                  </a:lnTo>
                  <a:lnTo>
                    <a:pt x="609" y="86"/>
                  </a:lnTo>
                  <a:lnTo>
                    <a:pt x="609" y="232"/>
                  </a:lnTo>
                  <a:lnTo>
                    <a:pt x="622" y="243"/>
                  </a:lnTo>
                  <a:lnTo>
                    <a:pt x="601" y="257"/>
                  </a:lnTo>
                  <a:lnTo>
                    <a:pt x="576" y="273"/>
                  </a:lnTo>
                  <a:lnTo>
                    <a:pt x="545" y="290"/>
                  </a:lnTo>
                  <a:lnTo>
                    <a:pt x="512" y="308"/>
                  </a:lnTo>
                  <a:lnTo>
                    <a:pt x="476" y="327"/>
                  </a:lnTo>
                  <a:lnTo>
                    <a:pt x="438" y="346"/>
                  </a:lnTo>
                  <a:lnTo>
                    <a:pt x="397" y="365"/>
                  </a:lnTo>
                  <a:lnTo>
                    <a:pt x="352" y="383"/>
                  </a:lnTo>
                  <a:lnTo>
                    <a:pt x="308" y="401"/>
                  </a:lnTo>
                  <a:lnTo>
                    <a:pt x="262" y="419"/>
                  </a:lnTo>
                  <a:lnTo>
                    <a:pt x="217" y="435"/>
                  </a:lnTo>
                  <a:lnTo>
                    <a:pt x="173" y="450"/>
                  </a:lnTo>
                  <a:lnTo>
                    <a:pt x="150" y="457"/>
                  </a:lnTo>
                  <a:lnTo>
                    <a:pt x="127" y="463"/>
                  </a:lnTo>
                  <a:lnTo>
                    <a:pt x="84" y="475"/>
                  </a:lnTo>
                  <a:lnTo>
                    <a:pt x="61" y="480"/>
                  </a:lnTo>
                  <a:lnTo>
                    <a:pt x="41" y="484"/>
                  </a:lnTo>
                  <a:lnTo>
                    <a:pt x="20" y="488"/>
                  </a:lnTo>
                  <a:lnTo>
                    <a:pt x="0" y="491"/>
                  </a:lnTo>
                  <a:lnTo>
                    <a:pt x="0" y="509"/>
                  </a:lnTo>
                  <a:lnTo>
                    <a:pt x="609" y="509"/>
                  </a:lnTo>
                  <a:lnTo>
                    <a:pt x="609" y="490"/>
                  </a:lnTo>
                  <a:lnTo>
                    <a:pt x="64" y="490"/>
                  </a:lnTo>
                  <a:lnTo>
                    <a:pt x="76" y="489"/>
                  </a:lnTo>
                  <a:lnTo>
                    <a:pt x="87" y="486"/>
                  </a:lnTo>
                  <a:lnTo>
                    <a:pt x="115" y="481"/>
                  </a:lnTo>
                  <a:lnTo>
                    <a:pt x="127" y="477"/>
                  </a:lnTo>
                  <a:lnTo>
                    <a:pt x="143" y="473"/>
                  </a:lnTo>
                  <a:lnTo>
                    <a:pt x="171" y="465"/>
                  </a:lnTo>
                  <a:lnTo>
                    <a:pt x="199" y="457"/>
                  </a:lnTo>
                  <a:lnTo>
                    <a:pt x="224" y="449"/>
                  </a:lnTo>
                  <a:lnTo>
                    <a:pt x="245" y="442"/>
                  </a:lnTo>
                  <a:lnTo>
                    <a:pt x="257" y="437"/>
                  </a:lnTo>
                  <a:lnTo>
                    <a:pt x="257" y="490"/>
                  </a:lnTo>
                  <a:lnTo>
                    <a:pt x="288" y="490"/>
                  </a:lnTo>
                  <a:lnTo>
                    <a:pt x="288" y="427"/>
                  </a:lnTo>
                  <a:lnTo>
                    <a:pt x="331" y="408"/>
                  </a:lnTo>
                  <a:lnTo>
                    <a:pt x="372" y="391"/>
                  </a:lnTo>
                  <a:lnTo>
                    <a:pt x="372" y="490"/>
                  </a:lnTo>
                  <a:lnTo>
                    <a:pt x="405" y="490"/>
                  </a:lnTo>
                  <a:lnTo>
                    <a:pt x="405" y="378"/>
                  </a:lnTo>
                  <a:lnTo>
                    <a:pt x="456" y="354"/>
                  </a:lnTo>
                  <a:lnTo>
                    <a:pt x="499" y="333"/>
                  </a:lnTo>
                  <a:lnTo>
                    <a:pt x="499" y="490"/>
                  </a:lnTo>
                  <a:lnTo>
                    <a:pt x="527" y="490"/>
                  </a:lnTo>
                  <a:lnTo>
                    <a:pt x="527" y="320"/>
                  </a:lnTo>
                  <a:lnTo>
                    <a:pt x="571" y="294"/>
                  </a:lnTo>
                  <a:lnTo>
                    <a:pt x="593" y="280"/>
                  </a:lnTo>
                  <a:lnTo>
                    <a:pt x="609" y="271"/>
                  </a:lnTo>
                  <a:lnTo>
                    <a:pt x="609" y="626"/>
                  </a:lnTo>
                  <a:lnTo>
                    <a:pt x="848" y="626"/>
                  </a:lnTo>
                  <a:lnTo>
                    <a:pt x="848" y="253"/>
                  </a:lnTo>
                  <a:lnTo>
                    <a:pt x="848" y="243"/>
                  </a:lnTo>
                  <a:lnTo>
                    <a:pt x="863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833640" y="4555080"/>
              <a:ext cx="101916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852800" y="3834000"/>
              <a:ext cx="52956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039280" y="3369600"/>
              <a:ext cx="191880" cy="142920"/>
            </a:xfrm>
            <a:custGeom>
              <a:avLst/>
              <a:gdLst/>
              <a:ahLst/>
              <a:rect l="l" t="t" r="r" b="b"/>
              <a:pathLst>
                <a:path w="81" h="49">
                  <a:moveTo>
                    <a:pt x="0" y="49"/>
                  </a:moveTo>
                  <a:lnTo>
                    <a:pt x="81" y="49"/>
                  </a:lnTo>
                  <a:lnTo>
                    <a:pt x="81" y="26"/>
                  </a:lnTo>
                  <a:lnTo>
                    <a:pt x="76" y="25"/>
                  </a:lnTo>
                  <a:lnTo>
                    <a:pt x="68" y="24"/>
                  </a:lnTo>
                  <a:lnTo>
                    <a:pt x="63" y="22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45" y="11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38" y="6"/>
                  </a:lnTo>
                  <a:lnTo>
                    <a:pt x="35" y="11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094000" y="3585600"/>
              <a:ext cx="8244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9784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2070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020560" y="4406040"/>
              <a:ext cx="22248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852800" y="403848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852800" y="427500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852800" y="3912480"/>
              <a:ext cx="56484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71" y="22"/>
                  </a:moveTo>
                  <a:lnTo>
                    <a:pt x="0" y="22"/>
                  </a:lnTo>
                  <a:lnTo>
                    <a:pt x="0" y="31"/>
                  </a:lnTo>
                  <a:lnTo>
                    <a:pt x="239" y="31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852800" y="4143240"/>
              <a:ext cx="56484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71" y="22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239" y="32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299400" y="3834000"/>
              <a:ext cx="5338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455280" y="3369600"/>
              <a:ext cx="186480" cy="14292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9" y="49"/>
                  </a:moveTo>
                  <a:lnTo>
                    <a:pt x="0" y="49"/>
                  </a:lnTo>
                  <a:lnTo>
                    <a:pt x="0" y="26"/>
                  </a:lnTo>
                  <a:lnTo>
                    <a:pt x="5" y="25"/>
                  </a:lnTo>
                  <a:lnTo>
                    <a:pt x="10" y="24"/>
                  </a:lnTo>
                  <a:lnTo>
                    <a:pt x="18" y="22"/>
                  </a:lnTo>
                  <a:lnTo>
                    <a:pt x="25" y="19"/>
                  </a:lnTo>
                  <a:lnTo>
                    <a:pt x="30" y="16"/>
                  </a:lnTo>
                  <a:lnTo>
                    <a:pt x="35" y="11"/>
                  </a:lnTo>
                  <a:lnTo>
                    <a:pt x="38" y="6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46" y="11"/>
                  </a:lnTo>
                  <a:lnTo>
                    <a:pt x="51" y="16"/>
                  </a:lnTo>
                  <a:lnTo>
                    <a:pt x="56" y="19"/>
                  </a:lnTo>
                  <a:lnTo>
                    <a:pt x="63" y="22"/>
                  </a:lnTo>
                  <a:lnTo>
                    <a:pt x="69" y="24"/>
                  </a:lnTo>
                  <a:lnTo>
                    <a:pt x="76" y="25"/>
                  </a:lnTo>
                  <a:lnTo>
                    <a:pt x="79" y="26"/>
                  </a:lnTo>
                  <a:lnTo>
                    <a:pt x="79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509640" y="3585600"/>
              <a:ext cx="828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62340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389040" y="3585600"/>
              <a:ext cx="900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436560" y="4406040"/>
              <a:ext cx="22176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68800" y="403848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268800" y="427500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268800" y="3912480"/>
              <a:ext cx="56448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168" y="22"/>
                  </a:moveTo>
                  <a:lnTo>
                    <a:pt x="239" y="22"/>
                  </a:lnTo>
                  <a:lnTo>
                    <a:pt x="239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268800" y="4143240"/>
              <a:ext cx="56448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168" y="22"/>
                  </a:moveTo>
                  <a:lnTo>
                    <a:pt x="239" y="22"/>
                  </a:lnTo>
                  <a:lnTo>
                    <a:pt x="239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869280" y="3767040"/>
              <a:ext cx="952560" cy="1692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8" dur="indefinite" restart="never" nodeType="tmRoot">
          <p:childTnLst>
            <p:seq>
              <p:cTn id="1649" dur="indefinite" nodeType="mainSeq">
                <p:childTnLst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4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74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7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2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7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0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5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500"/>
                            </p:stCondLst>
                            <p:childTnLst>
                              <p:par>
                                <p:cTn id="1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3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6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500"/>
                            </p:stCondLst>
                            <p:childTnLst>
                              <p:par>
                                <p:cTn id="17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5.45791E-007 L 0.20608 0.0037 E">
                                      <p:cBhvr>
                                        <p:cTn id="1709" dur="2000" fill="hold"/>
                                        <p:tgtEl>
                                          <p:spTgt spid="1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14894E-006 L 0.20469 9.14894E-006 E">
                                      <p:cBhvr>
                                        <p:cTn id="1711" dur="2000" fill="hold"/>
                                        <p:tgtEl>
                                          <p:spTgt spid="1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500"/>
                            </p:stCondLst>
                            <p:childTnLst>
                              <p:par>
                                <p:cTn id="17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500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4" name=""/>
          <p:cNvGrpSpPr/>
          <p:nvPr/>
        </p:nvGrpSpPr>
        <p:grpSpPr>
          <a:xfrm>
            <a:off x="3505320" y="2819520"/>
            <a:ext cx="1360440" cy="1599840"/>
            <a:chOff x="3505320" y="2819520"/>
            <a:chExt cx="1360440" cy="1599840"/>
          </a:xfrm>
        </p:grpSpPr>
        <p:sp>
          <p:nvSpPr>
            <p:cNvPr id="1435" name=""/>
            <p:cNvSpPr/>
            <p:nvPr/>
          </p:nvSpPr>
          <p:spPr>
            <a:xfrm flipV="1">
              <a:off x="3505320" y="3020760"/>
              <a:ext cx="385560" cy="139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 flipV="1">
              <a:off x="4095720" y="3051360"/>
              <a:ext cx="17136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V="1">
              <a:off x="3633840" y="3657600"/>
              <a:ext cx="527040" cy="2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 flipV="1">
              <a:off x="3722400" y="3657600"/>
              <a:ext cx="463320" cy="27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V="1">
              <a:off x="3762360" y="3284640"/>
              <a:ext cx="358920" cy="20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 flipV="1">
              <a:off x="3825720" y="3222720"/>
              <a:ext cx="30960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556080" y="2990880"/>
              <a:ext cx="1170000" cy="15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581280" y="2819520"/>
              <a:ext cx="115740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594240" y="2819520"/>
              <a:ext cx="128520" cy="18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3594240" y="2849760"/>
              <a:ext cx="153720" cy="14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825720" y="2865600"/>
              <a:ext cx="10332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3838680" y="2911680"/>
              <a:ext cx="115920" cy="12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044960" y="2928960"/>
              <a:ext cx="9036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V="1">
              <a:off x="4006800" y="2928960"/>
              <a:ext cx="141480" cy="1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4237200" y="2973600"/>
              <a:ext cx="90360" cy="1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237200" y="2959200"/>
              <a:ext cx="77760" cy="1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443480" y="3005280"/>
              <a:ext cx="77760" cy="10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V="1">
              <a:off x="4456080" y="3020760"/>
              <a:ext cx="77760" cy="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738680" y="3051360"/>
              <a:ext cx="1440" cy="65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518000" y="3657600"/>
              <a:ext cx="347760" cy="381240"/>
            </a:xfrm>
            <a:custGeom>
              <a:avLst/>
              <a:gdLst/>
              <a:ahLst/>
              <a:rect l="l" t="t" r="r" b="b"/>
              <a:pathLst>
                <a:path w="1498" h="1984">
                  <a:moveTo>
                    <a:pt x="932" y="0"/>
                  </a:moveTo>
                  <a:lnTo>
                    <a:pt x="0" y="1984"/>
                  </a:lnTo>
                  <a:lnTo>
                    <a:pt x="324" y="1984"/>
                  </a:lnTo>
                  <a:lnTo>
                    <a:pt x="932" y="0"/>
                  </a:lnTo>
                  <a:lnTo>
                    <a:pt x="1133" y="1984"/>
                  </a:lnTo>
                  <a:lnTo>
                    <a:pt x="1498" y="1944"/>
                  </a:lnTo>
                  <a:lnTo>
                    <a:pt x="932" y="12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 rot="564000">
            <a:off x="1752480" y="3659040"/>
            <a:ext cx="4727520" cy="2057400"/>
          </a:xfrm>
          <a:custGeom>
            <a:avLst/>
            <a:gdLst/>
            <a:ahLst/>
            <a:rect l="l" t="t" r="r" b="b"/>
            <a:pathLst>
              <a:path w="1776" h="1104">
                <a:moveTo>
                  <a:pt x="240" y="0"/>
                </a:moveTo>
                <a:lnTo>
                  <a:pt x="528" y="48"/>
                </a:lnTo>
                <a:lnTo>
                  <a:pt x="720" y="384"/>
                </a:lnTo>
                <a:lnTo>
                  <a:pt x="1008" y="480"/>
                </a:lnTo>
                <a:lnTo>
                  <a:pt x="1248" y="720"/>
                </a:lnTo>
                <a:lnTo>
                  <a:pt x="1536" y="816"/>
                </a:lnTo>
                <a:lnTo>
                  <a:pt x="1776" y="1056"/>
                </a:lnTo>
                <a:lnTo>
                  <a:pt x="1392" y="1104"/>
                </a:lnTo>
                <a:lnTo>
                  <a:pt x="1392" y="1008"/>
                </a:lnTo>
                <a:lnTo>
                  <a:pt x="1200" y="864"/>
                </a:lnTo>
                <a:lnTo>
                  <a:pt x="960" y="768"/>
                </a:lnTo>
                <a:lnTo>
                  <a:pt x="912" y="624"/>
                </a:lnTo>
                <a:lnTo>
                  <a:pt x="576" y="480"/>
                </a:lnTo>
                <a:lnTo>
                  <a:pt x="432" y="288"/>
                </a:lnTo>
                <a:lnTo>
                  <a:pt x="192" y="96"/>
                </a:lnTo>
                <a:lnTo>
                  <a:pt x="0" y="96"/>
                </a:lnTo>
              </a:path>
            </a:pathLst>
          </a:custGeom>
          <a:solidFill>
            <a:srgbClr val="00ccff"/>
          </a:solidFill>
          <a:ln w="1260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ling Dead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4267080" y="4267080"/>
            <a:ext cx="838080" cy="288720"/>
            <a:chOff x="4267080" y="4267080"/>
            <a:chExt cx="838080" cy="288720"/>
          </a:xfrm>
        </p:grpSpPr>
        <p:sp>
          <p:nvSpPr>
            <p:cNvPr id="1458" name=""/>
            <p:cNvSpPr/>
            <p:nvPr/>
          </p:nvSpPr>
          <p:spPr>
            <a:xfrm>
              <a:off x="4898160" y="4358880"/>
              <a:ext cx="21240" cy="2052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0"/>
                  </a:moveTo>
                  <a:lnTo>
                    <a:pt x="136" y="68"/>
                  </a:lnTo>
                  <a:lnTo>
                    <a:pt x="0" y="136"/>
                  </a:lnTo>
                  <a:lnTo>
                    <a:pt x="4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49244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49244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lnTo>
                    <a:pt x="57" y="5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03748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03748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lnTo>
                    <a:pt x="2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5061960" y="43876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5068080" y="439992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7824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27824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lnTo>
                    <a:pt x="187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311720" y="440676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311720" y="440676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lnTo>
                    <a:pt x="3768" y="5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274280" y="4267080"/>
              <a:ext cx="82008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close/>
                </a:path>
              </a:pathLst>
            </a:cu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274280" y="4267080"/>
              <a:ext cx="82008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lnTo>
                    <a:pt x="386" y="15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3718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3718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93812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93812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53924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53924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77360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77360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lnTo>
                    <a:pt x="8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57992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57992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lnTo>
                    <a:pt x="423" y="9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77648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77648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lnTo>
                    <a:pt x="1038" y="54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26708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26708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lnTo>
                    <a:pt x="68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267800" y="4447800"/>
              <a:ext cx="89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00688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00688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5018400" y="4428360"/>
              <a:ext cx="8208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5031360" y="4439160"/>
              <a:ext cx="6876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56948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56948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69656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69656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69656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69656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538160" y="4367520"/>
              <a:ext cx="509400" cy="9000"/>
            </a:xfrm>
            <a:custGeom>
              <a:avLst/>
              <a:gdLst/>
              <a:ahLst/>
              <a:rect l="l" t="t" r="r" b="b"/>
              <a:pathLst>
                <a:path w="3184" h="61">
                  <a:moveTo>
                    <a:pt x="0" y="50"/>
                  </a:moveTo>
                  <a:lnTo>
                    <a:pt x="0" y="61"/>
                  </a:lnTo>
                  <a:lnTo>
                    <a:pt x="31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522320" y="4272480"/>
              <a:ext cx="526320" cy="221040"/>
            </a:xfrm>
            <a:custGeom>
              <a:avLst/>
              <a:gdLst/>
              <a:ahLst/>
              <a:rect l="l" t="t" r="r" b="b"/>
              <a:pathLst>
                <a:path w="3291" h="1428">
                  <a:moveTo>
                    <a:pt x="81" y="1428"/>
                  </a:moveTo>
                  <a:lnTo>
                    <a:pt x="59" y="1361"/>
                  </a:lnTo>
                  <a:lnTo>
                    <a:pt x="25" y="1226"/>
                  </a:lnTo>
                  <a:lnTo>
                    <a:pt x="0" y="1090"/>
                  </a:lnTo>
                  <a:lnTo>
                    <a:pt x="9" y="870"/>
                  </a:lnTo>
                  <a:lnTo>
                    <a:pt x="34" y="660"/>
                  </a:lnTo>
                  <a:lnTo>
                    <a:pt x="36" y="639"/>
                  </a:lnTo>
                  <a:lnTo>
                    <a:pt x="52" y="601"/>
                  </a:lnTo>
                  <a:lnTo>
                    <a:pt x="74" y="569"/>
                  </a:lnTo>
                  <a:lnTo>
                    <a:pt x="103" y="544"/>
                  </a:lnTo>
                  <a:lnTo>
                    <a:pt x="720" y="115"/>
                  </a:lnTo>
                  <a:lnTo>
                    <a:pt x="758" y="97"/>
                  </a:lnTo>
                  <a:lnTo>
                    <a:pt x="846" y="61"/>
                  </a:lnTo>
                  <a:lnTo>
                    <a:pt x="940" y="34"/>
                  </a:lnTo>
                  <a:lnTo>
                    <a:pt x="1650" y="0"/>
                  </a:lnTo>
                  <a:lnTo>
                    <a:pt x="2547" y="21"/>
                  </a:lnTo>
                  <a:lnTo>
                    <a:pt x="2640" y="80"/>
                  </a:lnTo>
                  <a:lnTo>
                    <a:pt x="3069" y="441"/>
                  </a:lnTo>
                  <a:lnTo>
                    <a:pt x="3291" y="6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491000" y="4493520"/>
              <a:ext cx="4053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287600" y="4485960"/>
              <a:ext cx="478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314240" y="4397040"/>
              <a:ext cx="753480" cy="13680"/>
            </a:xfrm>
            <a:custGeom>
              <a:avLst/>
              <a:gdLst/>
              <a:ahLst/>
              <a:rect l="l" t="t" r="r" b="b"/>
              <a:pathLst>
                <a:path w="4710" h="91">
                  <a:moveTo>
                    <a:pt x="0" y="91"/>
                  </a:moveTo>
                  <a:lnTo>
                    <a:pt x="3070" y="34"/>
                  </a:lnTo>
                  <a:lnTo>
                    <a:pt x="47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753440" y="4274640"/>
              <a:ext cx="21960" cy="218880"/>
            </a:xfrm>
            <a:custGeom>
              <a:avLst/>
              <a:gdLst/>
              <a:ahLst/>
              <a:rect l="l" t="t" r="r" b="b"/>
              <a:pathLst>
                <a:path w="140" h="1417">
                  <a:moveTo>
                    <a:pt x="22" y="1417"/>
                  </a:moveTo>
                  <a:lnTo>
                    <a:pt x="17" y="1355"/>
                  </a:lnTo>
                  <a:lnTo>
                    <a:pt x="5" y="1178"/>
                  </a:lnTo>
                  <a:lnTo>
                    <a:pt x="0" y="997"/>
                  </a:lnTo>
                  <a:lnTo>
                    <a:pt x="7" y="817"/>
                  </a:lnTo>
                  <a:lnTo>
                    <a:pt x="25" y="639"/>
                  </a:lnTo>
                  <a:lnTo>
                    <a:pt x="34" y="639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350240" y="4407480"/>
              <a:ext cx="147960" cy="80280"/>
            </a:xfrm>
            <a:custGeom>
              <a:avLst/>
              <a:gdLst/>
              <a:ahLst/>
              <a:rect l="l" t="t" r="r" b="b"/>
              <a:pathLst>
                <a:path w="924" h="518">
                  <a:moveTo>
                    <a:pt x="924" y="518"/>
                  </a:moveTo>
                  <a:lnTo>
                    <a:pt x="914" y="444"/>
                  </a:lnTo>
                  <a:lnTo>
                    <a:pt x="897" y="373"/>
                  </a:lnTo>
                  <a:lnTo>
                    <a:pt x="872" y="304"/>
                  </a:lnTo>
                  <a:lnTo>
                    <a:pt x="835" y="239"/>
                  </a:lnTo>
                  <a:lnTo>
                    <a:pt x="791" y="183"/>
                  </a:lnTo>
                  <a:lnTo>
                    <a:pt x="739" y="131"/>
                  </a:lnTo>
                  <a:lnTo>
                    <a:pt x="680" y="87"/>
                  </a:lnTo>
                  <a:lnTo>
                    <a:pt x="615" y="52"/>
                  </a:lnTo>
                  <a:lnTo>
                    <a:pt x="546" y="24"/>
                  </a:lnTo>
                  <a:lnTo>
                    <a:pt x="477" y="7"/>
                  </a:lnTo>
                  <a:lnTo>
                    <a:pt x="405" y="0"/>
                  </a:lnTo>
                  <a:lnTo>
                    <a:pt x="331" y="4"/>
                  </a:lnTo>
                  <a:lnTo>
                    <a:pt x="260" y="18"/>
                  </a:lnTo>
                  <a:lnTo>
                    <a:pt x="189" y="39"/>
                  </a:lnTo>
                  <a:lnTo>
                    <a:pt x="124" y="72"/>
                  </a:lnTo>
                  <a:lnTo>
                    <a:pt x="63" y="114"/>
                  </a:lnTo>
                  <a:lnTo>
                    <a:pt x="8" y="163"/>
                  </a:lnTo>
                  <a:lnTo>
                    <a:pt x="0" y="1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888800" y="4405320"/>
              <a:ext cx="135720" cy="84240"/>
            </a:xfrm>
            <a:custGeom>
              <a:avLst/>
              <a:gdLst/>
              <a:ahLst/>
              <a:rect l="l" t="t" r="r" b="b"/>
              <a:pathLst>
                <a:path w="850" h="544">
                  <a:moveTo>
                    <a:pt x="850" y="128"/>
                  </a:moveTo>
                  <a:lnTo>
                    <a:pt x="792" y="84"/>
                  </a:lnTo>
                  <a:lnTo>
                    <a:pt x="731" y="48"/>
                  </a:lnTo>
                  <a:lnTo>
                    <a:pt x="664" y="21"/>
                  </a:lnTo>
                  <a:lnTo>
                    <a:pt x="593" y="8"/>
                  </a:lnTo>
                  <a:lnTo>
                    <a:pt x="524" y="0"/>
                  </a:lnTo>
                  <a:lnTo>
                    <a:pt x="452" y="4"/>
                  </a:lnTo>
                  <a:lnTo>
                    <a:pt x="380" y="17"/>
                  </a:lnTo>
                  <a:lnTo>
                    <a:pt x="311" y="42"/>
                  </a:lnTo>
                  <a:lnTo>
                    <a:pt x="248" y="73"/>
                  </a:lnTo>
                  <a:lnTo>
                    <a:pt x="188" y="115"/>
                  </a:lnTo>
                  <a:lnTo>
                    <a:pt x="135" y="164"/>
                  </a:lnTo>
                  <a:lnTo>
                    <a:pt x="92" y="222"/>
                  </a:lnTo>
                  <a:lnTo>
                    <a:pt x="55" y="283"/>
                  </a:lnTo>
                  <a:lnTo>
                    <a:pt x="24" y="350"/>
                  </a:lnTo>
                  <a:lnTo>
                    <a:pt x="7" y="419"/>
                  </a:lnTo>
                  <a:lnTo>
                    <a:pt x="0" y="491"/>
                  </a:lnTo>
                  <a:lnTo>
                    <a:pt x="3" y="5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899960" y="4276080"/>
              <a:ext cx="72720" cy="132840"/>
            </a:xfrm>
            <a:custGeom>
              <a:avLst/>
              <a:gdLst/>
              <a:ahLst/>
              <a:rect l="l" t="t" r="r" b="b"/>
              <a:pathLst>
                <a:path w="454" h="858">
                  <a:moveTo>
                    <a:pt x="326" y="858"/>
                  </a:moveTo>
                  <a:lnTo>
                    <a:pt x="454" y="649"/>
                  </a:lnTo>
                  <a:lnTo>
                    <a:pt x="446" y="599"/>
                  </a:lnTo>
                  <a:lnTo>
                    <a:pt x="432" y="554"/>
                  </a:lnTo>
                  <a:lnTo>
                    <a:pt x="407" y="5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902480" y="4380480"/>
              <a:ext cx="3096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902480" y="4380480"/>
              <a:ext cx="30960" cy="13680"/>
            </a:xfrm>
            <a:custGeom>
              <a:avLst/>
              <a:gdLst/>
              <a:ahLst/>
              <a:rect l="l" t="t" r="r" b="b"/>
              <a:pathLst>
                <a:path w="197" h="93">
                  <a:moveTo>
                    <a:pt x="0" y="93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90248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90248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50000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50000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485240" y="4443120"/>
              <a:ext cx="415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479840" y="4437720"/>
              <a:ext cx="424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3" name=""/>
          <p:cNvGrpSpPr/>
          <p:nvPr/>
        </p:nvGrpSpPr>
        <p:grpSpPr>
          <a:xfrm>
            <a:off x="3352680" y="4232160"/>
            <a:ext cx="838440" cy="339480"/>
            <a:chOff x="3352680" y="4232160"/>
            <a:chExt cx="838440" cy="339480"/>
          </a:xfrm>
        </p:grpSpPr>
        <p:sp>
          <p:nvSpPr>
            <p:cNvPr id="1514" name=""/>
            <p:cNvSpPr/>
            <p:nvPr/>
          </p:nvSpPr>
          <p:spPr>
            <a:xfrm>
              <a:off x="336060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36060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11300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11300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11300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11300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395160" y="424692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395160" y="424692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413160" y="439236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413160" y="439236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360600" y="423216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360600" y="423216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08564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08564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4106880" y="4515120"/>
              <a:ext cx="72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4092480" y="4447800"/>
              <a:ext cx="97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4102920" y="4470480"/>
              <a:ext cx="87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35268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35268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364560" y="4483800"/>
              <a:ext cx="66600" cy="1044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352680" y="4455360"/>
              <a:ext cx="8568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352680" y="4426920"/>
              <a:ext cx="10836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00032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00032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47688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47688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383640" y="4378320"/>
              <a:ext cx="754920" cy="2340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385800" y="4387680"/>
              <a:ext cx="732960" cy="1692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526560" y="4239360"/>
              <a:ext cx="43272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570480" y="4430520"/>
              <a:ext cx="403920" cy="75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580560" y="4447800"/>
              <a:ext cx="386280" cy="540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928320" y="4355280"/>
              <a:ext cx="1188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04040" y="4241520"/>
              <a:ext cx="21960" cy="26280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949560" y="4425840"/>
              <a:ext cx="7920" cy="7560"/>
            </a:xfrm>
            <a:prstGeom prst="rect">
              <a:avLst/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949560" y="4425840"/>
              <a:ext cx="7920" cy="7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742200" y="4383000"/>
              <a:ext cx="32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742200" y="4383000"/>
              <a:ext cx="32400" cy="1404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42200" y="4383000"/>
              <a:ext cx="3240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42200" y="4383000"/>
              <a:ext cx="3240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543120" y="4375440"/>
              <a:ext cx="331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543120" y="4375440"/>
              <a:ext cx="33120" cy="1404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43120" y="4375440"/>
              <a:ext cx="3312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543120" y="4375440"/>
              <a:ext cx="3312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1628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71628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56652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6652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7828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87828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540960" y="430488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540960" y="430488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955680" y="4353480"/>
              <a:ext cx="188280" cy="4356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373560" y="4341240"/>
              <a:ext cx="546840" cy="2160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369960" y="4241520"/>
              <a:ext cx="183600" cy="9468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364560" y="4375440"/>
              <a:ext cx="19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360600" y="4387680"/>
              <a:ext cx="2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360600" y="4406760"/>
              <a:ext cx="2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432960" y="4251960"/>
              <a:ext cx="14580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24040" y="4248000"/>
              <a:ext cx="504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45204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45204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87036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87036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1828800" y="3124080"/>
            <a:ext cx="5028840" cy="1828440"/>
            <a:chOff x="1828800" y="3124080"/>
            <a:chExt cx="5028840" cy="1828440"/>
          </a:xfrm>
        </p:grpSpPr>
        <p:sp>
          <p:nvSpPr>
            <p:cNvPr id="1578" name=""/>
            <p:cNvSpPr/>
            <p:nvPr/>
          </p:nvSpPr>
          <p:spPr>
            <a:xfrm>
              <a:off x="1828800" y="3124080"/>
              <a:ext cx="5028840" cy="1828440"/>
            </a:xfrm>
            <a:custGeom>
              <a:avLst/>
              <a:gdLst/>
              <a:ahLst/>
              <a:rect l="l" t="t" r="r" b="b"/>
              <a:pathLst>
                <a:path w="2127" h="626">
                  <a:moveTo>
                    <a:pt x="863" y="232"/>
                  </a:moveTo>
                  <a:lnTo>
                    <a:pt x="1263" y="232"/>
                  </a:lnTo>
                  <a:lnTo>
                    <a:pt x="1279" y="243"/>
                  </a:lnTo>
                  <a:lnTo>
                    <a:pt x="1279" y="253"/>
                  </a:lnTo>
                  <a:lnTo>
                    <a:pt x="1279" y="626"/>
                  </a:lnTo>
                  <a:lnTo>
                    <a:pt x="1518" y="626"/>
                  </a:lnTo>
                  <a:lnTo>
                    <a:pt x="1518" y="271"/>
                  </a:lnTo>
                  <a:lnTo>
                    <a:pt x="1531" y="280"/>
                  </a:lnTo>
                  <a:lnTo>
                    <a:pt x="1556" y="294"/>
                  </a:lnTo>
                  <a:lnTo>
                    <a:pt x="1600" y="320"/>
                  </a:lnTo>
                  <a:lnTo>
                    <a:pt x="1600" y="490"/>
                  </a:lnTo>
                  <a:lnTo>
                    <a:pt x="1628" y="490"/>
                  </a:lnTo>
                  <a:lnTo>
                    <a:pt x="1628" y="333"/>
                  </a:lnTo>
                  <a:lnTo>
                    <a:pt x="1671" y="354"/>
                  </a:lnTo>
                  <a:lnTo>
                    <a:pt x="1722" y="378"/>
                  </a:lnTo>
                  <a:lnTo>
                    <a:pt x="1722" y="490"/>
                  </a:lnTo>
                  <a:lnTo>
                    <a:pt x="1752" y="490"/>
                  </a:lnTo>
                  <a:lnTo>
                    <a:pt x="1752" y="391"/>
                  </a:lnTo>
                  <a:lnTo>
                    <a:pt x="1793" y="408"/>
                  </a:lnTo>
                  <a:lnTo>
                    <a:pt x="1837" y="427"/>
                  </a:lnTo>
                  <a:lnTo>
                    <a:pt x="1837" y="490"/>
                  </a:lnTo>
                  <a:lnTo>
                    <a:pt x="1867" y="490"/>
                  </a:lnTo>
                  <a:lnTo>
                    <a:pt x="1867" y="437"/>
                  </a:lnTo>
                  <a:lnTo>
                    <a:pt x="1880" y="442"/>
                  </a:lnTo>
                  <a:lnTo>
                    <a:pt x="1900" y="449"/>
                  </a:lnTo>
                  <a:lnTo>
                    <a:pt x="1926" y="457"/>
                  </a:lnTo>
                  <a:lnTo>
                    <a:pt x="1954" y="465"/>
                  </a:lnTo>
                  <a:lnTo>
                    <a:pt x="1984" y="473"/>
                  </a:lnTo>
                  <a:lnTo>
                    <a:pt x="2012" y="481"/>
                  </a:lnTo>
                  <a:lnTo>
                    <a:pt x="2038" y="486"/>
                  </a:lnTo>
                  <a:lnTo>
                    <a:pt x="2050" y="489"/>
                  </a:lnTo>
                  <a:lnTo>
                    <a:pt x="2061" y="490"/>
                  </a:lnTo>
                  <a:lnTo>
                    <a:pt x="1518" y="490"/>
                  </a:lnTo>
                  <a:lnTo>
                    <a:pt x="1518" y="509"/>
                  </a:lnTo>
                  <a:lnTo>
                    <a:pt x="2127" y="509"/>
                  </a:lnTo>
                  <a:lnTo>
                    <a:pt x="2127" y="491"/>
                  </a:lnTo>
                  <a:lnTo>
                    <a:pt x="2107" y="488"/>
                  </a:lnTo>
                  <a:lnTo>
                    <a:pt x="2086" y="484"/>
                  </a:lnTo>
                  <a:lnTo>
                    <a:pt x="2066" y="480"/>
                  </a:lnTo>
                  <a:lnTo>
                    <a:pt x="2043" y="475"/>
                  </a:lnTo>
                  <a:lnTo>
                    <a:pt x="2000" y="463"/>
                  </a:lnTo>
                  <a:lnTo>
                    <a:pt x="1954" y="450"/>
                  </a:lnTo>
                  <a:lnTo>
                    <a:pt x="1905" y="435"/>
                  </a:lnTo>
                  <a:lnTo>
                    <a:pt x="1862" y="419"/>
                  </a:lnTo>
                  <a:lnTo>
                    <a:pt x="1839" y="410"/>
                  </a:lnTo>
                  <a:lnTo>
                    <a:pt x="1816" y="401"/>
                  </a:lnTo>
                  <a:lnTo>
                    <a:pt x="1773" y="383"/>
                  </a:lnTo>
                  <a:lnTo>
                    <a:pt x="1730" y="365"/>
                  </a:lnTo>
                  <a:lnTo>
                    <a:pt x="1689" y="346"/>
                  </a:lnTo>
                  <a:lnTo>
                    <a:pt x="1651" y="327"/>
                  </a:lnTo>
                  <a:lnTo>
                    <a:pt x="1612" y="308"/>
                  </a:lnTo>
                  <a:lnTo>
                    <a:pt x="1579" y="290"/>
                  </a:lnTo>
                  <a:lnTo>
                    <a:pt x="1551" y="273"/>
                  </a:lnTo>
                  <a:lnTo>
                    <a:pt x="1526" y="257"/>
                  </a:lnTo>
                  <a:lnTo>
                    <a:pt x="1505" y="243"/>
                  </a:lnTo>
                  <a:lnTo>
                    <a:pt x="1518" y="232"/>
                  </a:lnTo>
                  <a:lnTo>
                    <a:pt x="1518" y="86"/>
                  </a:lnTo>
                  <a:lnTo>
                    <a:pt x="1500" y="70"/>
                  </a:lnTo>
                  <a:lnTo>
                    <a:pt x="1480" y="86"/>
                  </a:lnTo>
                  <a:lnTo>
                    <a:pt x="1477" y="85"/>
                  </a:lnTo>
                  <a:lnTo>
                    <a:pt x="1467" y="81"/>
                  </a:lnTo>
                  <a:lnTo>
                    <a:pt x="1454" y="74"/>
                  </a:lnTo>
                  <a:lnTo>
                    <a:pt x="1439" y="64"/>
                  </a:lnTo>
                  <a:lnTo>
                    <a:pt x="1424" y="52"/>
                  </a:lnTo>
                  <a:lnTo>
                    <a:pt x="1416" y="45"/>
                  </a:lnTo>
                  <a:lnTo>
                    <a:pt x="1411" y="37"/>
                  </a:lnTo>
                  <a:lnTo>
                    <a:pt x="1406" y="29"/>
                  </a:lnTo>
                  <a:lnTo>
                    <a:pt x="1401" y="20"/>
                  </a:lnTo>
                  <a:lnTo>
                    <a:pt x="1398" y="11"/>
                  </a:lnTo>
                  <a:lnTo>
                    <a:pt x="1398" y="0"/>
                  </a:lnTo>
                  <a:lnTo>
                    <a:pt x="1398" y="11"/>
                  </a:lnTo>
                  <a:lnTo>
                    <a:pt x="1396" y="20"/>
                  </a:lnTo>
                  <a:lnTo>
                    <a:pt x="1393" y="25"/>
                  </a:lnTo>
                  <a:lnTo>
                    <a:pt x="1391" y="29"/>
                  </a:lnTo>
                  <a:lnTo>
                    <a:pt x="1386" y="37"/>
                  </a:lnTo>
                  <a:lnTo>
                    <a:pt x="1378" y="45"/>
                  </a:lnTo>
                  <a:lnTo>
                    <a:pt x="1373" y="52"/>
                  </a:lnTo>
                  <a:lnTo>
                    <a:pt x="1358" y="64"/>
                  </a:lnTo>
                  <a:lnTo>
                    <a:pt x="1342" y="74"/>
                  </a:lnTo>
                  <a:lnTo>
                    <a:pt x="1330" y="81"/>
                  </a:lnTo>
                  <a:lnTo>
                    <a:pt x="1319" y="85"/>
                  </a:lnTo>
                  <a:lnTo>
                    <a:pt x="1317" y="86"/>
                  </a:lnTo>
                  <a:lnTo>
                    <a:pt x="1297" y="70"/>
                  </a:lnTo>
                  <a:lnTo>
                    <a:pt x="1279" y="86"/>
                  </a:lnTo>
                  <a:lnTo>
                    <a:pt x="1279" y="194"/>
                  </a:lnTo>
                  <a:lnTo>
                    <a:pt x="848" y="194"/>
                  </a:lnTo>
                  <a:lnTo>
                    <a:pt x="848" y="86"/>
                  </a:lnTo>
                  <a:lnTo>
                    <a:pt x="830" y="70"/>
                  </a:lnTo>
                  <a:lnTo>
                    <a:pt x="810" y="86"/>
                  </a:lnTo>
                  <a:lnTo>
                    <a:pt x="807" y="85"/>
                  </a:lnTo>
                  <a:lnTo>
                    <a:pt x="797" y="81"/>
                  </a:lnTo>
                  <a:lnTo>
                    <a:pt x="785" y="74"/>
                  </a:lnTo>
                  <a:lnTo>
                    <a:pt x="769" y="64"/>
                  </a:lnTo>
                  <a:lnTo>
                    <a:pt x="754" y="52"/>
                  </a:lnTo>
                  <a:lnTo>
                    <a:pt x="746" y="45"/>
                  </a:lnTo>
                  <a:lnTo>
                    <a:pt x="741" y="37"/>
                  </a:lnTo>
                  <a:lnTo>
                    <a:pt x="736" y="29"/>
                  </a:lnTo>
                  <a:lnTo>
                    <a:pt x="731" y="20"/>
                  </a:lnTo>
                  <a:lnTo>
                    <a:pt x="728" y="11"/>
                  </a:lnTo>
                  <a:lnTo>
                    <a:pt x="728" y="0"/>
                  </a:lnTo>
                  <a:lnTo>
                    <a:pt x="728" y="11"/>
                  </a:lnTo>
                  <a:lnTo>
                    <a:pt x="723" y="20"/>
                  </a:lnTo>
                  <a:lnTo>
                    <a:pt x="723" y="25"/>
                  </a:lnTo>
                  <a:lnTo>
                    <a:pt x="721" y="29"/>
                  </a:lnTo>
                  <a:lnTo>
                    <a:pt x="716" y="37"/>
                  </a:lnTo>
                  <a:lnTo>
                    <a:pt x="708" y="45"/>
                  </a:lnTo>
                  <a:lnTo>
                    <a:pt x="703" y="52"/>
                  </a:lnTo>
                  <a:lnTo>
                    <a:pt x="688" y="64"/>
                  </a:lnTo>
                  <a:lnTo>
                    <a:pt x="672" y="74"/>
                  </a:lnTo>
                  <a:lnTo>
                    <a:pt x="660" y="81"/>
                  </a:lnTo>
                  <a:lnTo>
                    <a:pt x="650" y="85"/>
                  </a:lnTo>
                  <a:lnTo>
                    <a:pt x="647" y="86"/>
                  </a:lnTo>
                  <a:lnTo>
                    <a:pt x="627" y="70"/>
                  </a:lnTo>
                  <a:lnTo>
                    <a:pt x="609" y="86"/>
                  </a:lnTo>
                  <a:lnTo>
                    <a:pt x="609" y="232"/>
                  </a:lnTo>
                  <a:lnTo>
                    <a:pt x="622" y="243"/>
                  </a:lnTo>
                  <a:lnTo>
                    <a:pt x="601" y="257"/>
                  </a:lnTo>
                  <a:lnTo>
                    <a:pt x="576" y="273"/>
                  </a:lnTo>
                  <a:lnTo>
                    <a:pt x="545" y="290"/>
                  </a:lnTo>
                  <a:lnTo>
                    <a:pt x="512" y="308"/>
                  </a:lnTo>
                  <a:lnTo>
                    <a:pt x="476" y="327"/>
                  </a:lnTo>
                  <a:lnTo>
                    <a:pt x="438" y="346"/>
                  </a:lnTo>
                  <a:lnTo>
                    <a:pt x="397" y="365"/>
                  </a:lnTo>
                  <a:lnTo>
                    <a:pt x="352" y="383"/>
                  </a:lnTo>
                  <a:lnTo>
                    <a:pt x="308" y="401"/>
                  </a:lnTo>
                  <a:lnTo>
                    <a:pt x="262" y="419"/>
                  </a:lnTo>
                  <a:lnTo>
                    <a:pt x="217" y="435"/>
                  </a:lnTo>
                  <a:lnTo>
                    <a:pt x="173" y="450"/>
                  </a:lnTo>
                  <a:lnTo>
                    <a:pt x="150" y="457"/>
                  </a:lnTo>
                  <a:lnTo>
                    <a:pt x="127" y="463"/>
                  </a:lnTo>
                  <a:lnTo>
                    <a:pt x="84" y="475"/>
                  </a:lnTo>
                  <a:lnTo>
                    <a:pt x="61" y="480"/>
                  </a:lnTo>
                  <a:lnTo>
                    <a:pt x="41" y="484"/>
                  </a:lnTo>
                  <a:lnTo>
                    <a:pt x="20" y="488"/>
                  </a:lnTo>
                  <a:lnTo>
                    <a:pt x="0" y="491"/>
                  </a:lnTo>
                  <a:lnTo>
                    <a:pt x="0" y="509"/>
                  </a:lnTo>
                  <a:lnTo>
                    <a:pt x="609" y="509"/>
                  </a:lnTo>
                  <a:lnTo>
                    <a:pt x="609" y="490"/>
                  </a:lnTo>
                  <a:lnTo>
                    <a:pt x="64" y="490"/>
                  </a:lnTo>
                  <a:lnTo>
                    <a:pt x="76" y="489"/>
                  </a:lnTo>
                  <a:lnTo>
                    <a:pt x="87" y="486"/>
                  </a:lnTo>
                  <a:lnTo>
                    <a:pt x="115" y="481"/>
                  </a:lnTo>
                  <a:lnTo>
                    <a:pt x="127" y="477"/>
                  </a:lnTo>
                  <a:lnTo>
                    <a:pt x="143" y="473"/>
                  </a:lnTo>
                  <a:lnTo>
                    <a:pt x="171" y="465"/>
                  </a:lnTo>
                  <a:lnTo>
                    <a:pt x="199" y="457"/>
                  </a:lnTo>
                  <a:lnTo>
                    <a:pt x="224" y="449"/>
                  </a:lnTo>
                  <a:lnTo>
                    <a:pt x="245" y="442"/>
                  </a:lnTo>
                  <a:lnTo>
                    <a:pt x="257" y="437"/>
                  </a:lnTo>
                  <a:lnTo>
                    <a:pt x="257" y="490"/>
                  </a:lnTo>
                  <a:lnTo>
                    <a:pt x="288" y="490"/>
                  </a:lnTo>
                  <a:lnTo>
                    <a:pt x="288" y="427"/>
                  </a:lnTo>
                  <a:lnTo>
                    <a:pt x="331" y="408"/>
                  </a:lnTo>
                  <a:lnTo>
                    <a:pt x="372" y="391"/>
                  </a:lnTo>
                  <a:lnTo>
                    <a:pt x="372" y="490"/>
                  </a:lnTo>
                  <a:lnTo>
                    <a:pt x="405" y="490"/>
                  </a:lnTo>
                  <a:lnTo>
                    <a:pt x="405" y="378"/>
                  </a:lnTo>
                  <a:lnTo>
                    <a:pt x="456" y="354"/>
                  </a:lnTo>
                  <a:lnTo>
                    <a:pt x="499" y="333"/>
                  </a:lnTo>
                  <a:lnTo>
                    <a:pt x="499" y="490"/>
                  </a:lnTo>
                  <a:lnTo>
                    <a:pt x="527" y="490"/>
                  </a:lnTo>
                  <a:lnTo>
                    <a:pt x="527" y="320"/>
                  </a:lnTo>
                  <a:lnTo>
                    <a:pt x="571" y="294"/>
                  </a:lnTo>
                  <a:lnTo>
                    <a:pt x="593" y="280"/>
                  </a:lnTo>
                  <a:lnTo>
                    <a:pt x="609" y="271"/>
                  </a:lnTo>
                  <a:lnTo>
                    <a:pt x="609" y="626"/>
                  </a:lnTo>
                  <a:lnTo>
                    <a:pt x="848" y="626"/>
                  </a:lnTo>
                  <a:lnTo>
                    <a:pt x="848" y="253"/>
                  </a:lnTo>
                  <a:lnTo>
                    <a:pt x="848" y="243"/>
                  </a:lnTo>
                  <a:lnTo>
                    <a:pt x="863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833640" y="4555080"/>
              <a:ext cx="101916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852800" y="3834000"/>
              <a:ext cx="52956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039280" y="3369600"/>
              <a:ext cx="191880" cy="142920"/>
            </a:xfrm>
            <a:custGeom>
              <a:avLst/>
              <a:gdLst/>
              <a:ahLst/>
              <a:rect l="l" t="t" r="r" b="b"/>
              <a:pathLst>
                <a:path w="81" h="49">
                  <a:moveTo>
                    <a:pt x="0" y="49"/>
                  </a:moveTo>
                  <a:lnTo>
                    <a:pt x="81" y="49"/>
                  </a:lnTo>
                  <a:lnTo>
                    <a:pt x="81" y="26"/>
                  </a:lnTo>
                  <a:lnTo>
                    <a:pt x="76" y="25"/>
                  </a:lnTo>
                  <a:lnTo>
                    <a:pt x="68" y="24"/>
                  </a:lnTo>
                  <a:lnTo>
                    <a:pt x="63" y="22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45" y="11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38" y="6"/>
                  </a:lnTo>
                  <a:lnTo>
                    <a:pt x="35" y="11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94000" y="3585600"/>
              <a:ext cx="8244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9784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2070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020560" y="4406040"/>
              <a:ext cx="22248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852800" y="403848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852800" y="427500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852800" y="3912480"/>
              <a:ext cx="56484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71" y="22"/>
                  </a:moveTo>
                  <a:lnTo>
                    <a:pt x="0" y="22"/>
                  </a:lnTo>
                  <a:lnTo>
                    <a:pt x="0" y="31"/>
                  </a:lnTo>
                  <a:lnTo>
                    <a:pt x="239" y="31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852800" y="4143240"/>
              <a:ext cx="56484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71" y="22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239" y="32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299400" y="3834000"/>
              <a:ext cx="5338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455280" y="3369600"/>
              <a:ext cx="186480" cy="14292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9" y="49"/>
                  </a:moveTo>
                  <a:lnTo>
                    <a:pt x="0" y="49"/>
                  </a:lnTo>
                  <a:lnTo>
                    <a:pt x="0" y="26"/>
                  </a:lnTo>
                  <a:lnTo>
                    <a:pt x="5" y="25"/>
                  </a:lnTo>
                  <a:lnTo>
                    <a:pt x="10" y="24"/>
                  </a:lnTo>
                  <a:lnTo>
                    <a:pt x="18" y="22"/>
                  </a:lnTo>
                  <a:lnTo>
                    <a:pt x="25" y="19"/>
                  </a:lnTo>
                  <a:lnTo>
                    <a:pt x="30" y="16"/>
                  </a:lnTo>
                  <a:lnTo>
                    <a:pt x="35" y="11"/>
                  </a:lnTo>
                  <a:lnTo>
                    <a:pt x="38" y="6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46" y="11"/>
                  </a:lnTo>
                  <a:lnTo>
                    <a:pt x="51" y="16"/>
                  </a:lnTo>
                  <a:lnTo>
                    <a:pt x="56" y="19"/>
                  </a:lnTo>
                  <a:lnTo>
                    <a:pt x="63" y="22"/>
                  </a:lnTo>
                  <a:lnTo>
                    <a:pt x="69" y="24"/>
                  </a:lnTo>
                  <a:lnTo>
                    <a:pt x="76" y="25"/>
                  </a:lnTo>
                  <a:lnTo>
                    <a:pt x="79" y="26"/>
                  </a:lnTo>
                  <a:lnTo>
                    <a:pt x="79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509640" y="3585600"/>
              <a:ext cx="828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62340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389040" y="3585600"/>
              <a:ext cx="900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436560" y="4406040"/>
              <a:ext cx="22176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268800" y="403848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268800" y="427500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268800" y="3912480"/>
              <a:ext cx="56448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168" y="22"/>
                  </a:moveTo>
                  <a:lnTo>
                    <a:pt x="239" y="22"/>
                  </a:lnTo>
                  <a:lnTo>
                    <a:pt x="239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268800" y="4143240"/>
              <a:ext cx="56448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168" y="22"/>
                  </a:moveTo>
                  <a:lnTo>
                    <a:pt x="239" y="22"/>
                  </a:lnTo>
                  <a:lnTo>
                    <a:pt x="239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869280" y="3767040"/>
              <a:ext cx="952560" cy="1692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840600" y="167652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ion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955400" y="2743200"/>
            <a:ext cx="29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963720" y="5089680"/>
            <a:ext cx="59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S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nstrai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U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ction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very Overhead + Possible Da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348080" y="2286000"/>
            <a:ext cx="817200" cy="380520"/>
            <a:chOff x="4348080" y="2286000"/>
            <a:chExt cx="817200" cy="380520"/>
          </a:xfrm>
        </p:grpSpPr>
        <p:sp>
          <p:nvSpPr>
            <p:cNvPr id="1605" name=""/>
            <p:cNvSpPr/>
            <p:nvPr/>
          </p:nvSpPr>
          <p:spPr>
            <a:xfrm>
              <a:off x="4348080" y="2286000"/>
              <a:ext cx="817200" cy="380520"/>
            </a:xfrm>
            <a:prstGeom prst="roundRect">
              <a:avLst>
                <a:gd name="adj" fmla="val 9977"/>
              </a:avLst>
            </a:pr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348080" y="2286000"/>
              <a:ext cx="817200" cy="38052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546800" y="2312280"/>
              <a:ext cx="160200" cy="327600"/>
            </a:xfrm>
            <a:custGeom>
              <a:avLst/>
              <a:gdLst>
                <a:gd name="textAreaLeft" fmla="*/ 4320 w 160200"/>
                <a:gd name="textAreaRight" fmla="*/ 155880 w 160200"/>
                <a:gd name="textAreaTop" fmla="*/ 4320 h 327600"/>
                <a:gd name="textAreaBottom" fmla="*/ 323280 h 327600"/>
              </a:gdLst>
              <a:ahLst/>
              <a:rect l="textAreaLeft" t="textAreaTop" r="textAreaRight" b="textAreaBottom"/>
              <a:pathLst>
                <a:path w="21600" h="44120">
                  <a:moveTo>
                    <a:pt x="2143" y="0"/>
                  </a:moveTo>
                  <a:arcTo wR="2143" hR="2143" stAng="16200000" swAng="-5400000"/>
                  <a:lnTo>
                    <a:pt x="0" y="41977"/>
                  </a:lnTo>
                  <a:arcTo wR="2143" hR="2143" stAng="10800000" swAng="-5400000"/>
                  <a:lnTo>
                    <a:pt x="19457" y="44120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013000" y="2314080"/>
              <a:ext cx="114120" cy="324360"/>
            </a:xfrm>
            <a:custGeom>
              <a:avLst/>
              <a:gdLst>
                <a:gd name="textAreaLeft" fmla="*/ 3240 w 114120"/>
                <a:gd name="textAreaRight" fmla="*/ 110880 w 114120"/>
                <a:gd name="textAreaTop" fmla="*/ 3240 h 324360"/>
                <a:gd name="textAreaBottom" fmla="*/ 321120 h 324360"/>
              </a:gdLst>
              <a:ahLst/>
              <a:rect l="textAreaLeft" t="textAreaTop" r="textAreaRight" b="textAreaBottom"/>
              <a:pathLst>
                <a:path w="21600" h="61268">
                  <a:moveTo>
                    <a:pt x="2150" y="0"/>
                  </a:moveTo>
                  <a:arcTo wR="2150" hR="2150" stAng="16200000" swAng="-5400000"/>
                  <a:lnTo>
                    <a:pt x="0" y="59118"/>
                  </a:lnTo>
                  <a:arcTo wR="2150" hR="2150" stAng="10800000" swAng="-5400000"/>
                  <a:lnTo>
                    <a:pt x="19450" y="61268"/>
                  </a:lnTo>
                  <a:arcTo wR="2150" hR="2150" stAng="5400000" swAng="-5400000"/>
                  <a:lnTo>
                    <a:pt x="21600" y="2150"/>
                  </a:lnTo>
                  <a:arcTo wR="2150" hR="2150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3352680" y="2286000"/>
            <a:ext cx="838440" cy="380880"/>
            <a:chOff x="3352680" y="2286000"/>
            <a:chExt cx="838440" cy="380880"/>
          </a:xfrm>
        </p:grpSpPr>
        <p:sp>
          <p:nvSpPr>
            <p:cNvPr id="1610" name=""/>
            <p:cNvSpPr/>
            <p:nvPr/>
          </p:nvSpPr>
          <p:spPr>
            <a:xfrm>
              <a:off x="3352680" y="2286000"/>
              <a:ext cx="838440" cy="380880"/>
            </a:xfrm>
            <a:prstGeom prst="roundRect">
              <a:avLst>
                <a:gd name="adj" fmla="val 9977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352680" y="2286000"/>
              <a:ext cx="838440" cy="38088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834360" y="2311200"/>
              <a:ext cx="126360" cy="329760"/>
            </a:xfrm>
            <a:custGeom>
              <a:avLst/>
              <a:gdLst>
                <a:gd name="textAreaLeft" fmla="*/ 3600 w 126360"/>
                <a:gd name="textAreaRight" fmla="*/ 122760 w 126360"/>
                <a:gd name="textAreaTop" fmla="*/ 3600 h 329760"/>
                <a:gd name="textAreaBottom" fmla="*/ 326160 h 329760"/>
              </a:gdLst>
              <a:ahLst/>
              <a:rect l="textAreaLeft" t="textAreaTop" r="textAreaRight" b="textAreaBottom"/>
              <a:pathLst>
                <a:path w="21600" h="56270">
                  <a:moveTo>
                    <a:pt x="2139" y="0"/>
                  </a:moveTo>
                  <a:arcTo wR="2139" hR="2139" stAng="16200000" swAng="-5400000"/>
                  <a:lnTo>
                    <a:pt x="0" y="54131"/>
                  </a:lnTo>
                  <a:arcTo wR="2139" hR="2139" stAng="10800000" swAng="-5400000"/>
                  <a:lnTo>
                    <a:pt x="19461" y="56270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413520" y="2314440"/>
              <a:ext cx="113400" cy="325080"/>
            </a:xfrm>
            <a:custGeom>
              <a:avLst/>
              <a:gdLst>
                <a:gd name="textAreaLeft" fmla="*/ 3240 w 113400"/>
                <a:gd name="textAreaRight" fmla="*/ 110160 w 113400"/>
                <a:gd name="textAreaTop" fmla="*/ 3240 h 325080"/>
                <a:gd name="textAreaBottom" fmla="*/ 321840 h 325080"/>
              </a:gdLst>
              <a:ahLst/>
              <a:rect l="textAreaLeft" t="textAreaTop" r="textAreaRight" b="textAreaBottom"/>
              <a:pathLst>
                <a:path w="21600" h="61792">
                  <a:moveTo>
                    <a:pt x="2143" y="0"/>
                  </a:moveTo>
                  <a:arcTo wR="2143" hR="2143" stAng="16200000" swAng="-5400000"/>
                  <a:lnTo>
                    <a:pt x="0" y="59649"/>
                  </a:lnTo>
                  <a:arcTo wR="2143" hR="2143" stAng="10800000" swAng="-5400000"/>
                  <a:lnTo>
                    <a:pt x="19457" y="61792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4" name=""/>
          <p:cNvGrpSpPr/>
          <p:nvPr/>
        </p:nvGrpSpPr>
        <p:grpSpPr>
          <a:xfrm>
            <a:off x="3048120" y="2232000"/>
            <a:ext cx="2438280" cy="488880"/>
            <a:chOff x="3048120" y="2232000"/>
            <a:chExt cx="2438280" cy="488880"/>
          </a:xfrm>
        </p:grpSpPr>
        <p:sp>
          <p:nvSpPr>
            <p:cNvPr id="1615" name=""/>
            <p:cNvSpPr/>
            <p:nvPr/>
          </p:nvSpPr>
          <p:spPr>
            <a:xfrm>
              <a:off x="3048120" y="22320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048120" y="272088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7" name=""/>
          <p:cNvGrpSpPr/>
          <p:nvPr/>
        </p:nvGrpSpPr>
        <p:grpSpPr>
          <a:xfrm>
            <a:off x="4349880" y="2286000"/>
            <a:ext cx="817200" cy="380520"/>
            <a:chOff x="4349880" y="2286000"/>
            <a:chExt cx="817200" cy="380520"/>
          </a:xfrm>
        </p:grpSpPr>
        <p:sp>
          <p:nvSpPr>
            <p:cNvPr id="1618" name=""/>
            <p:cNvSpPr/>
            <p:nvPr/>
          </p:nvSpPr>
          <p:spPr>
            <a:xfrm>
              <a:off x="4349880" y="2286000"/>
              <a:ext cx="817200" cy="380520"/>
            </a:xfrm>
            <a:prstGeom prst="roundRect">
              <a:avLst>
                <a:gd name="adj" fmla="val 997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349880" y="2286000"/>
              <a:ext cx="817200" cy="380520"/>
            </a:xfrm>
            <a:prstGeom prst="roundRect">
              <a:avLst>
                <a:gd name="adj" fmla="val 9977"/>
              </a:avLst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548600" y="2312280"/>
              <a:ext cx="160200" cy="327600"/>
            </a:xfrm>
            <a:custGeom>
              <a:avLst/>
              <a:gdLst>
                <a:gd name="textAreaLeft" fmla="*/ 4320 w 160200"/>
                <a:gd name="textAreaRight" fmla="*/ 155880 w 160200"/>
                <a:gd name="textAreaTop" fmla="*/ 4320 h 327600"/>
                <a:gd name="textAreaBottom" fmla="*/ 323280 h 327600"/>
              </a:gdLst>
              <a:ahLst/>
              <a:rect l="textAreaLeft" t="textAreaTop" r="textAreaRight" b="textAreaBottom"/>
              <a:pathLst>
                <a:path w="21600" h="44120">
                  <a:moveTo>
                    <a:pt x="2143" y="0"/>
                  </a:moveTo>
                  <a:arcTo wR="2143" hR="2143" stAng="16200000" swAng="-5400000"/>
                  <a:lnTo>
                    <a:pt x="0" y="41977"/>
                  </a:lnTo>
                  <a:arcTo wR="2143" hR="2143" stAng="10800000" swAng="-5400000"/>
                  <a:lnTo>
                    <a:pt x="19457" y="44120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014800" y="2314080"/>
              <a:ext cx="114120" cy="324360"/>
            </a:xfrm>
            <a:custGeom>
              <a:avLst/>
              <a:gdLst>
                <a:gd name="textAreaLeft" fmla="*/ 3240 w 114120"/>
                <a:gd name="textAreaRight" fmla="*/ 110880 w 114120"/>
                <a:gd name="textAreaTop" fmla="*/ 3240 h 324360"/>
                <a:gd name="textAreaBottom" fmla="*/ 321120 h 324360"/>
              </a:gdLst>
              <a:ahLst/>
              <a:rect l="textAreaLeft" t="textAreaTop" r="textAreaRight" b="textAreaBottom"/>
              <a:pathLst>
                <a:path w="21600" h="61268">
                  <a:moveTo>
                    <a:pt x="2150" y="0"/>
                  </a:moveTo>
                  <a:arcTo wR="2150" hR="2150" stAng="16200000" swAng="-5400000"/>
                  <a:lnTo>
                    <a:pt x="0" y="59118"/>
                  </a:lnTo>
                  <a:arcTo wR="2150" hR="2150" stAng="10800000" swAng="-5400000"/>
                  <a:lnTo>
                    <a:pt x="19450" y="61268"/>
                  </a:lnTo>
                  <a:arcTo wR="2150" hR="2150" stAng="5400000" swAng="-5400000"/>
                  <a:lnTo>
                    <a:pt x="21600" y="2150"/>
                  </a:lnTo>
                  <a:arcTo wR="2150" hR="2150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6" dur="indefinite" restart="never" nodeType="tmRoot">
          <p:childTnLst>
            <p:seq>
              <p:cTn id="1737" dur="indefinite" nodeType="mainSeq">
                <p:childTnLst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2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fill="hold">
                            <p:stCondLst>
                              <p:cond delay="500"/>
                            </p:stCondLst>
                            <p:childTnLst>
                              <p:par>
                                <p:cTn id="17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1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1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69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2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7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2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-1.9519E-006 L -1.11022E-016 -0.0592 E">
                                      <p:cBhvr>
                                        <p:cTn id="1786" dur="1000" fill="hold"/>
                                        <p:tgtEl>
                                          <p:spTgt spid="1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3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"/>
          <p:cNvSpPr/>
          <p:nvPr/>
        </p:nvSpPr>
        <p:spPr>
          <a:xfrm rot="564000">
            <a:off x="1752480" y="3659040"/>
            <a:ext cx="4727520" cy="2057400"/>
          </a:xfrm>
          <a:custGeom>
            <a:avLst/>
            <a:gdLst/>
            <a:ahLst/>
            <a:rect l="l" t="t" r="r" b="b"/>
            <a:pathLst>
              <a:path w="1776" h="1104">
                <a:moveTo>
                  <a:pt x="240" y="0"/>
                </a:moveTo>
                <a:lnTo>
                  <a:pt x="528" y="48"/>
                </a:lnTo>
                <a:lnTo>
                  <a:pt x="720" y="384"/>
                </a:lnTo>
                <a:lnTo>
                  <a:pt x="1008" y="480"/>
                </a:lnTo>
                <a:lnTo>
                  <a:pt x="1248" y="720"/>
                </a:lnTo>
                <a:lnTo>
                  <a:pt x="1536" y="816"/>
                </a:lnTo>
                <a:lnTo>
                  <a:pt x="1776" y="1056"/>
                </a:lnTo>
                <a:lnTo>
                  <a:pt x="1392" y="1104"/>
                </a:lnTo>
                <a:lnTo>
                  <a:pt x="1392" y="1008"/>
                </a:lnTo>
                <a:lnTo>
                  <a:pt x="1200" y="864"/>
                </a:lnTo>
                <a:lnTo>
                  <a:pt x="960" y="768"/>
                </a:lnTo>
                <a:lnTo>
                  <a:pt x="912" y="624"/>
                </a:lnTo>
                <a:lnTo>
                  <a:pt x="576" y="480"/>
                </a:lnTo>
                <a:lnTo>
                  <a:pt x="432" y="288"/>
                </a:lnTo>
                <a:lnTo>
                  <a:pt x="192" y="96"/>
                </a:lnTo>
                <a:lnTo>
                  <a:pt x="0" y="96"/>
                </a:lnTo>
              </a:path>
            </a:pathLst>
          </a:custGeom>
          <a:solidFill>
            <a:srgbClr val="00ccff"/>
          </a:solidFill>
          <a:ln w="1260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ling Dead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4495680" y="4267080"/>
            <a:ext cx="838080" cy="288720"/>
            <a:chOff x="4495680" y="4267080"/>
            <a:chExt cx="838080" cy="288720"/>
          </a:xfrm>
        </p:grpSpPr>
        <p:sp>
          <p:nvSpPr>
            <p:cNvPr id="1625" name=""/>
            <p:cNvSpPr/>
            <p:nvPr/>
          </p:nvSpPr>
          <p:spPr>
            <a:xfrm>
              <a:off x="5126760" y="4358880"/>
              <a:ext cx="21240" cy="2052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0"/>
                  </a:moveTo>
                  <a:lnTo>
                    <a:pt x="136" y="68"/>
                  </a:lnTo>
                  <a:lnTo>
                    <a:pt x="0" y="136"/>
                  </a:lnTo>
                  <a:lnTo>
                    <a:pt x="4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72104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72104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lnTo>
                    <a:pt x="57" y="5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26608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26608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lnTo>
                    <a:pt x="2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5290560" y="43876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5296680" y="439992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50684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50684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lnTo>
                    <a:pt x="187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540320" y="440676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540320" y="440676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lnTo>
                    <a:pt x="3768" y="5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502880" y="4267080"/>
              <a:ext cx="82008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close/>
                </a:path>
              </a:pathLst>
            </a:cu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502880" y="4267080"/>
              <a:ext cx="82008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lnTo>
                    <a:pt x="386" y="15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6004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6004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16672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16672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76784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76784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00220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00220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lnTo>
                    <a:pt x="8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0852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0852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lnTo>
                    <a:pt x="423" y="9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00508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00508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lnTo>
                    <a:pt x="1038" y="54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49568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49568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lnTo>
                    <a:pt x="68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496400" y="4447800"/>
              <a:ext cx="89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23548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23548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5247000" y="4428360"/>
              <a:ext cx="8208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5259960" y="4439160"/>
              <a:ext cx="6876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79808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79808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92516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92516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92516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92516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766760" y="4367520"/>
              <a:ext cx="509400" cy="9000"/>
            </a:xfrm>
            <a:custGeom>
              <a:avLst/>
              <a:gdLst/>
              <a:ahLst/>
              <a:rect l="l" t="t" r="r" b="b"/>
              <a:pathLst>
                <a:path w="3184" h="61">
                  <a:moveTo>
                    <a:pt x="0" y="50"/>
                  </a:moveTo>
                  <a:lnTo>
                    <a:pt x="0" y="61"/>
                  </a:lnTo>
                  <a:lnTo>
                    <a:pt x="31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750920" y="4272480"/>
              <a:ext cx="526320" cy="221040"/>
            </a:xfrm>
            <a:custGeom>
              <a:avLst/>
              <a:gdLst/>
              <a:ahLst/>
              <a:rect l="l" t="t" r="r" b="b"/>
              <a:pathLst>
                <a:path w="3291" h="1428">
                  <a:moveTo>
                    <a:pt x="81" y="1428"/>
                  </a:moveTo>
                  <a:lnTo>
                    <a:pt x="59" y="1361"/>
                  </a:lnTo>
                  <a:lnTo>
                    <a:pt x="25" y="1226"/>
                  </a:lnTo>
                  <a:lnTo>
                    <a:pt x="0" y="1090"/>
                  </a:lnTo>
                  <a:lnTo>
                    <a:pt x="9" y="870"/>
                  </a:lnTo>
                  <a:lnTo>
                    <a:pt x="34" y="660"/>
                  </a:lnTo>
                  <a:lnTo>
                    <a:pt x="36" y="639"/>
                  </a:lnTo>
                  <a:lnTo>
                    <a:pt x="52" y="601"/>
                  </a:lnTo>
                  <a:lnTo>
                    <a:pt x="74" y="569"/>
                  </a:lnTo>
                  <a:lnTo>
                    <a:pt x="103" y="544"/>
                  </a:lnTo>
                  <a:lnTo>
                    <a:pt x="720" y="115"/>
                  </a:lnTo>
                  <a:lnTo>
                    <a:pt x="758" y="97"/>
                  </a:lnTo>
                  <a:lnTo>
                    <a:pt x="846" y="61"/>
                  </a:lnTo>
                  <a:lnTo>
                    <a:pt x="940" y="34"/>
                  </a:lnTo>
                  <a:lnTo>
                    <a:pt x="1650" y="0"/>
                  </a:lnTo>
                  <a:lnTo>
                    <a:pt x="2547" y="21"/>
                  </a:lnTo>
                  <a:lnTo>
                    <a:pt x="2640" y="80"/>
                  </a:lnTo>
                  <a:lnTo>
                    <a:pt x="3069" y="441"/>
                  </a:lnTo>
                  <a:lnTo>
                    <a:pt x="3291" y="6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719600" y="4493520"/>
              <a:ext cx="4053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516200" y="4485960"/>
              <a:ext cx="478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542840" y="4397040"/>
              <a:ext cx="753480" cy="13680"/>
            </a:xfrm>
            <a:custGeom>
              <a:avLst/>
              <a:gdLst/>
              <a:ahLst/>
              <a:rect l="l" t="t" r="r" b="b"/>
              <a:pathLst>
                <a:path w="4710" h="91">
                  <a:moveTo>
                    <a:pt x="0" y="91"/>
                  </a:moveTo>
                  <a:lnTo>
                    <a:pt x="3070" y="34"/>
                  </a:lnTo>
                  <a:lnTo>
                    <a:pt x="47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982040" y="4274640"/>
              <a:ext cx="21960" cy="218880"/>
            </a:xfrm>
            <a:custGeom>
              <a:avLst/>
              <a:gdLst/>
              <a:ahLst/>
              <a:rect l="l" t="t" r="r" b="b"/>
              <a:pathLst>
                <a:path w="140" h="1417">
                  <a:moveTo>
                    <a:pt x="22" y="1417"/>
                  </a:moveTo>
                  <a:lnTo>
                    <a:pt x="17" y="1355"/>
                  </a:lnTo>
                  <a:lnTo>
                    <a:pt x="5" y="1178"/>
                  </a:lnTo>
                  <a:lnTo>
                    <a:pt x="0" y="997"/>
                  </a:lnTo>
                  <a:lnTo>
                    <a:pt x="7" y="817"/>
                  </a:lnTo>
                  <a:lnTo>
                    <a:pt x="25" y="639"/>
                  </a:lnTo>
                  <a:lnTo>
                    <a:pt x="34" y="639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578840" y="4407480"/>
              <a:ext cx="147960" cy="80280"/>
            </a:xfrm>
            <a:custGeom>
              <a:avLst/>
              <a:gdLst/>
              <a:ahLst/>
              <a:rect l="l" t="t" r="r" b="b"/>
              <a:pathLst>
                <a:path w="924" h="518">
                  <a:moveTo>
                    <a:pt x="924" y="518"/>
                  </a:moveTo>
                  <a:lnTo>
                    <a:pt x="914" y="444"/>
                  </a:lnTo>
                  <a:lnTo>
                    <a:pt x="897" y="373"/>
                  </a:lnTo>
                  <a:lnTo>
                    <a:pt x="872" y="304"/>
                  </a:lnTo>
                  <a:lnTo>
                    <a:pt x="835" y="239"/>
                  </a:lnTo>
                  <a:lnTo>
                    <a:pt x="791" y="183"/>
                  </a:lnTo>
                  <a:lnTo>
                    <a:pt x="739" y="131"/>
                  </a:lnTo>
                  <a:lnTo>
                    <a:pt x="680" y="87"/>
                  </a:lnTo>
                  <a:lnTo>
                    <a:pt x="615" y="52"/>
                  </a:lnTo>
                  <a:lnTo>
                    <a:pt x="546" y="24"/>
                  </a:lnTo>
                  <a:lnTo>
                    <a:pt x="477" y="7"/>
                  </a:lnTo>
                  <a:lnTo>
                    <a:pt x="405" y="0"/>
                  </a:lnTo>
                  <a:lnTo>
                    <a:pt x="331" y="4"/>
                  </a:lnTo>
                  <a:lnTo>
                    <a:pt x="260" y="18"/>
                  </a:lnTo>
                  <a:lnTo>
                    <a:pt x="189" y="39"/>
                  </a:lnTo>
                  <a:lnTo>
                    <a:pt x="124" y="72"/>
                  </a:lnTo>
                  <a:lnTo>
                    <a:pt x="63" y="114"/>
                  </a:lnTo>
                  <a:lnTo>
                    <a:pt x="8" y="163"/>
                  </a:lnTo>
                  <a:lnTo>
                    <a:pt x="0" y="1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117400" y="4405320"/>
              <a:ext cx="135720" cy="84240"/>
            </a:xfrm>
            <a:custGeom>
              <a:avLst/>
              <a:gdLst/>
              <a:ahLst/>
              <a:rect l="l" t="t" r="r" b="b"/>
              <a:pathLst>
                <a:path w="850" h="544">
                  <a:moveTo>
                    <a:pt x="850" y="128"/>
                  </a:moveTo>
                  <a:lnTo>
                    <a:pt x="792" y="84"/>
                  </a:lnTo>
                  <a:lnTo>
                    <a:pt x="731" y="48"/>
                  </a:lnTo>
                  <a:lnTo>
                    <a:pt x="664" y="21"/>
                  </a:lnTo>
                  <a:lnTo>
                    <a:pt x="593" y="8"/>
                  </a:lnTo>
                  <a:lnTo>
                    <a:pt x="524" y="0"/>
                  </a:lnTo>
                  <a:lnTo>
                    <a:pt x="452" y="4"/>
                  </a:lnTo>
                  <a:lnTo>
                    <a:pt x="380" y="17"/>
                  </a:lnTo>
                  <a:lnTo>
                    <a:pt x="311" y="42"/>
                  </a:lnTo>
                  <a:lnTo>
                    <a:pt x="248" y="73"/>
                  </a:lnTo>
                  <a:lnTo>
                    <a:pt x="188" y="115"/>
                  </a:lnTo>
                  <a:lnTo>
                    <a:pt x="135" y="164"/>
                  </a:lnTo>
                  <a:lnTo>
                    <a:pt x="92" y="222"/>
                  </a:lnTo>
                  <a:lnTo>
                    <a:pt x="55" y="283"/>
                  </a:lnTo>
                  <a:lnTo>
                    <a:pt x="24" y="350"/>
                  </a:lnTo>
                  <a:lnTo>
                    <a:pt x="7" y="419"/>
                  </a:lnTo>
                  <a:lnTo>
                    <a:pt x="0" y="491"/>
                  </a:lnTo>
                  <a:lnTo>
                    <a:pt x="3" y="5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128560" y="4276080"/>
              <a:ext cx="72720" cy="132840"/>
            </a:xfrm>
            <a:custGeom>
              <a:avLst/>
              <a:gdLst/>
              <a:ahLst/>
              <a:rect l="l" t="t" r="r" b="b"/>
              <a:pathLst>
                <a:path w="454" h="858">
                  <a:moveTo>
                    <a:pt x="326" y="858"/>
                  </a:moveTo>
                  <a:lnTo>
                    <a:pt x="454" y="649"/>
                  </a:lnTo>
                  <a:lnTo>
                    <a:pt x="446" y="599"/>
                  </a:lnTo>
                  <a:lnTo>
                    <a:pt x="432" y="554"/>
                  </a:lnTo>
                  <a:lnTo>
                    <a:pt x="407" y="5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131080" y="4380480"/>
              <a:ext cx="3096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131080" y="4380480"/>
              <a:ext cx="30960" cy="13680"/>
            </a:xfrm>
            <a:custGeom>
              <a:avLst/>
              <a:gdLst/>
              <a:ahLst/>
              <a:rect l="l" t="t" r="r" b="b"/>
              <a:pathLst>
                <a:path w="197" h="93">
                  <a:moveTo>
                    <a:pt x="0" y="93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13108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13108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72860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72860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713840" y="4443120"/>
              <a:ext cx="415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708440" y="4437720"/>
              <a:ext cx="424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3581280" y="4232160"/>
            <a:ext cx="838440" cy="339480"/>
            <a:chOff x="3581280" y="4232160"/>
            <a:chExt cx="838440" cy="339480"/>
          </a:xfrm>
        </p:grpSpPr>
        <p:sp>
          <p:nvSpPr>
            <p:cNvPr id="1681" name=""/>
            <p:cNvSpPr/>
            <p:nvPr/>
          </p:nvSpPr>
          <p:spPr>
            <a:xfrm>
              <a:off x="358920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58920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34160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34160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34160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4160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623760" y="424692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623760" y="424692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41760" y="439236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641760" y="439236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589200" y="423216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589200" y="423216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31424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31424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4335480" y="4515120"/>
              <a:ext cx="72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4321080" y="4447800"/>
              <a:ext cx="97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4331520" y="4470480"/>
              <a:ext cx="87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58128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58128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593160" y="4483800"/>
              <a:ext cx="66600" cy="1044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581280" y="4455360"/>
              <a:ext cx="8568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581280" y="4426920"/>
              <a:ext cx="10836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22892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22892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70548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70548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612240" y="4378320"/>
              <a:ext cx="754920" cy="2340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614400" y="4387680"/>
              <a:ext cx="732960" cy="1692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755160" y="4239360"/>
              <a:ext cx="43272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799080" y="4430520"/>
              <a:ext cx="403920" cy="75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809160" y="4447800"/>
              <a:ext cx="386280" cy="540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156920" y="4355280"/>
              <a:ext cx="1188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932640" y="4241520"/>
              <a:ext cx="21960" cy="26280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178160" y="4425840"/>
              <a:ext cx="7920" cy="7560"/>
            </a:xfrm>
            <a:prstGeom prst="rect">
              <a:avLst/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178160" y="4425840"/>
              <a:ext cx="7920" cy="7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970800" y="4383000"/>
              <a:ext cx="32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970800" y="4383000"/>
              <a:ext cx="32400" cy="1404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970800" y="4383000"/>
              <a:ext cx="3240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970800" y="4383000"/>
              <a:ext cx="3240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771720" y="4375440"/>
              <a:ext cx="331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771720" y="4375440"/>
              <a:ext cx="33120" cy="1404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771720" y="4375440"/>
              <a:ext cx="3312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771720" y="4375440"/>
              <a:ext cx="3312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94488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94488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79512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79512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10688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10688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769560" y="430488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769560" y="430488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184280" y="4353480"/>
              <a:ext cx="188280" cy="4356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602160" y="4341240"/>
              <a:ext cx="546840" cy="2160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598560" y="4241520"/>
              <a:ext cx="183600" cy="9468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593160" y="4375440"/>
              <a:ext cx="19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589200" y="4387680"/>
              <a:ext cx="2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589200" y="4406760"/>
              <a:ext cx="2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661560" y="4251960"/>
              <a:ext cx="14580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752640" y="4248000"/>
              <a:ext cx="504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68064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68064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9896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09896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4516560" y="2286000"/>
            <a:ext cx="817200" cy="380520"/>
            <a:chOff x="4516560" y="2286000"/>
            <a:chExt cx="817200" cy="380520"/>
          </a:xfrm>
        </p:grpSpPr>
        <p:sp>
          <p:nvSpPr>
            <p:cNvPr id="1745" name=""/>
            <p:cNvSpPr/>
            <p:nvPr/>
          </p:nvSpPr>
          <p:spPr>
            <a:xfrm>
              <a:off x="4516560" y="2286000"/>
              <a:ext cx="817200" cy="380520"/>
            </a:xfrm>
            <a:prstGeom prst="roundRect">
              <a:avLst>
                <a:gd name="adj" fmla="val 9977"/>
              </a:avLst>
            </a:pr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516560" y="2286000"/>
              <a:ext cx="817200" cy="38052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715280" y="2312280"/>
              <a:ext cx="160200" cy="327600"/>
            </a:xfrm>
            <a:custGeom>
              <a:avLst/>
              <a:gdLst>
                <a:gd name="textAreaLeft" fmla="*/ 4320 w 160200"/>
                <a:gd name="textAreaRight" fmla="*/ 155880 w 160200"/>
                <a:gd name="textAreaTop" fmla="*/ 4320 h 327600"/>
                <a:gd name="textAreaBottom" fmla="*/ 323280 h 327600"/>
              </a:gdLst>
              <a:ahLst/>
              <a:rect l="textAreaLeft" t="textAreaTop" r="textAreaRight" b="textAreaBottom"/>
              <a:pathLst>
                <a:path w="21600" h="44120">
                  <a:moveTo>
                    <a:pt x="2143" y="0"/>
                  </a:moveTo>
                  <a:arcTo wR="2143" hR="2143" stAng="16200000" swAng="-5400000"/>
                  <a:lnTo>
                    <a:pt x="0" y="41977"/>
                  </a:lnTo>
                  <a:arcTo wR="2143" hR="2143" stAng="10800000" swAng="-5400000"/>
                  <a:lnTo>
                    <a:pt x="19457" y="44120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181480" y="2314080"/>
              <a:ext cx="114120" cy="324360"/>
            </a:xfrm>
            <a:custGeom>
              <a:avLst/>
              <a:gdLst>
                <a:gd name="textAreaLeft" fmla="*/ 3240 w 114120"/>
                <a:gd name="textAreaRight" fmla="*/ 110880 w 114120"/>
                <a:gd name="textAreaTop" fmla="*/ 3240 h 324360"/>
                <a:gd name="textAreaBottom" fmla="*/ 321120 h 324360"/>
              </a:gdLst>
              <a:ahLst/>
              <a:rect l="textAreaLeft" t="textAreaTop" r="textAreaRight" b="textAreaBottom"/>
              <a:pathLst>
                <a:path w="21600" h="61268">
                  <a:moveTo>
                    <a:pt x="2150" y="0"/>
                  </a:moveTo>
                  <a:arcTo wR="2150" hR="2150" stAng="16200000" swAng="-5400000"/>
                  <a:lnTo>
                    <a:pt x="0" y="59118"/>
                  </a:lnTo>
                  <a:arcTo wR="2150" hR="2150" stAng="10800000" swAng="-5400000"/>
                  <a:lnTo>
                    <a:pt x="19450" y="61268"/>
                  </a:lnTo>
                  <a:arcTo wR="2150" hR="2150" stAng="5400000" swAng="-5400000"/>
                  <a:lnTo>
                    <a:pt x="21600" y="2150"/>
                  </a:lnTo>
                  <a:arcTo wR="2150" hR="2150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9" name=""/>
          <p:cNvSpPr/>
          <p:nvPr/>
        </p:nvSpPr>
        <p:spPr>
          <a:xfrm>
            <a:off x="993600" y="16765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gn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965160" y="508968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S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nstrai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U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ioration of Performance (resources kept for e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will eventually stop working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1" name=""/>
          <p:cNvGrpSpPr/>
          <p:nvPr/>
        </p:nvGrpSpPr>
        <p:grpSpPr>
          <a:xfrm>
            <a:off x="2666880" y="4232160"/>
            <a:ext cx="838080" cy="339840"/>
            <a:chOff x="2666880" y="4232160"/>
            <a:chExt cx="838080" cy="339840"/>
          </a:xfrm>
        </p:grpSpPr>
        <p:sp>
          <p:nvSpPr>
            <p:cNvPr id="1752" name=""/>
            <p:cNvSpPr/>
            <p:nvPr/>
          </p:nvSpPr>
          <p:spPr>
            <a:xfrm>
              <a:off x="2674800" y="4354560"/>
              <a:ext cx="33120" cy="7452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674800" y="4354560"/>
              <a:ext cx="33120" cy="7452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427200" y="4403520"/>
              <a:ext cx="68400" cy="446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427200" y="4403520"/>
              <a:ext cx="68400" cy="446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427200" y="4398840"/>
              <a:ext cx="50760" cy="4428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427200" y="4398840"/>
              <a:ext cx="50760" cy="4428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709720" y="4248000"/>
              <a:ext cx="569880" cy="11268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709720" y="4248000"/>
              <a:ext cx="569880" cy="11268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727000" y="4392360"/>
              <a:ext cx="712800" cy="17964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727000" y="4392360"/>
              <a:ext cx="712800" cy="17964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674800" y="4232160"/>
              <a:ext cx="807840" cy="29376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674800" y="4232160"/>
              <a:ext cx="807840" cy="29376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400200" y="4438440"/>
              <a:ext cx="104760" cy="8280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400200" y="4438440"/>
              <a:ext cx="104760" cy="8280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3420360" y="4514760"/>
              <a:ext cx="73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406320" y="4448160"/>
              <a:ext cx="98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3417120" y="4470120"/>
              <a:ext cx="8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666880" y="4416480"/>
              <a:ext cx="120600" cy="8568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666880" y="4416480"/>
              <a:ext cx="120600" cy="8568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679480" y="4483080"/>
              <a:ext cx="66600" cy="1116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666880" y="4454280"/>
              <a:ext cx="8568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666880" y="4427280"/>
              <a:ext cx="1080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314520" y="4457520"/>
              <a:ext cx="68040" cy="874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314520" y="4457520"/>
              <a:ext cx="68040" cy="874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790720" y="4462200"/>
              <a:ext cx="66600" cy="828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790720" y="4462200"/>
              <a:ext cx="66600" cy="828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698560" y="4378320"/>
              <a:ext cx="753840" cy="2376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700000" y="4387680"/>
              <a:ext cx="733680" cy="1764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841480" y="4240080"/>
              <a:ext cx="43164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884320" y="4430520"/>
              <a:ext cx="404640" cy="792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893680" y="4448160"/>
              <a:ext cx="387360" cy="468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242880" y="4356000"/>
              <a:ext cx="1116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017520" y="4241520"/>
              <a:ext cx="22320" cy="26352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263760" y="4425840"/>
              <a:ext cx="7920" cy="792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055680" y="4383000"/>
              <a:ext cx="33480" cy="14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055680" y="4383000"/>
              <a:ext cx="33480" cy="1440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055680" y="4383000"/>
              <a:ext cx="3348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857320" y="4375080"/>
              <a:ext cx="33120" cy="14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857320" y="4375080"/>
              <a:ext cx="33120" cy="1440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857320" y="4375080"/>
              <a:ext cx="33120" cy="9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857320" y="4375080"/>
              <a:ext cx="3312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030120" y="4252680"/>
              <a:ext cx="174960" cy="10656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030120" y="4252680"/>
              <a:ext cx="174960" cy="10656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881080" y="4252680"/>
              <a:ext cx="13644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881080" y="4252680"/>
              <a:ext cx="13644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192120" y="4319640"/>
              <a:ext cx="42840" cy="3960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192120" y="4319640"/>
              <a:ext cx="42840" cy="3960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855520" y="4305240"/>
              <a:ext cx="32040" cy="460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855520" y="4305240"/>
              <a:ext cx="32040" cy="460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269880" y="4354560"/>
              <a:ext cx="187560" cy="4284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687400" y="4341600"/>
              <a:ext cx="547560" cy="2088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684160" y="4241520"/>
              <a:ext cx="184320" cy="9540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679480" y="43750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674800" y="4387680"/>
              <a:ext cx="25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674800" y="440676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747880" y="4252680"/>
              <a:ext cx="14580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838240" y="4248000"/>
              <a:ext cx="468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766600" y="4262400"/>
              <a:ext cx="11124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766600" y="4262400"/>
              <a:ext cx="11124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184200" y="4321080"/>
              <a:ext cx="23760" cy="38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184200" y="4321080"/>
              <a:ext cx="23760" cy="38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5410080" y="4245120"/>
            <a:ext cx="838080" cy="339120"/>
            <a:chOff x="5410080" y="4245120"/>
            <a:chExt cx="838080" cy="339120"/>
          </a:xfrm>
        </p:grpSpPr>
        <p:sp>
          <p:nvSpPr>
            <p:cNvPr id="1814" name=""/>
            <p:cNvSpPr/>
            <p:nvPr/>
          </p:nvSpPr>
          <p:spPr>
            <a:xfrm flipH="1">
              <a:off x="6206400" y="4367160"/>
              <a:ext cx="33480" cy="7416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>
              <a:off x="6206400" y="4367160"/>
              <a:ext cx="33480" cy="7416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5419440" y="4416120"/>
              <a:ext cx="68400" cy="4428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>
              <a:off x="5419440" y="4416120"/>
              <a:ext cx="68400" cy="4428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5436720" y="4411440"/>
              <a:ext cx="50760" cy="4392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>
              <a:off x="5436720" y="4411440"/>
              <a:ext cx="50760" cy="4392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5635080" y="4260600"/>
              <a:ext cx="569880" cy="11232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5635080" y="4260600"/>
              <a:ext cx="569880" cy="11232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5474880" y="4404960"/>
              <a:ext cx="71280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>
              <a:off x="5474880" y="4404960"/>
              <a:ext cx="71280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5431680" y="424512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5431680" y="424512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5409720" y="4451040"/>
              <a:ext cx="10476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5409720" y="4451040"/>
              <a:ext cx="10476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421240" y="4527360"/>
              <a:ext cx="72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410440" y="4460760"/>
              <a:ext cx="98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410080" y="4482720"/>
              <a:ext cx="87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6127200" y="442908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6127200" y="442908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6168600" y="4495680"/>
              <a:ext cx="66600" cy="1080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6162480" y="4466880"/>
              <a:ext cx="8568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6140160" y="4439880"/>
              <a:ext cx="1080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>
              <a:off x="5532120" y="4470120"/>
              <a:ext cx="6840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5532120" y="4470120"/>
              <a:ext cx="6840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6057360" y="4474800"/>
              <a:ext cx="66600" cy="8244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H="1">
              <a:off x="6057360" y="4474800"/>
              <a:ext cx="66600" cy="8244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5461920" y="4390920"/>
              <a:ext cx="754200" cy="2340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5481000" y="4400280"/>
              <a:ext cx="733320" cy="1728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>
              <a:off x="5641560" y="4252680"/>
              <a:ext cx="432000" cy="26640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5625360" y="4443120"/>
              <a:ext cx="405000" cy="75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H="1">
              <a:off x="5633640" y="4460760"/>
              <a:ext cx="387360" cy="432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5660280" y="4368600"/>
              <a:ext cx="11160" cy="16956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>
              <a:off x="5874840" y="4254120"/>
              <a:ext cx="21960" cy="26316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>
              <a:off x="5643360" y="4438440"/>
              <a:ext cx="7920" cy="7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H="1">
              <a:off x="5825520" y="4395600"/>
              <a:ext cx="33480" cy="1404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>
              <a:off x="5825520" y="4395600"/>
              <a:ext cx="33480" cy="1404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825520" y="4395600"/>
              <a:ext cx="33480" cy="900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6023880" y="4387680"/>
              <a:ext cx="33480" cy="1404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>
              <a:off x="6023880" y="4387680"/>
              <a:ext cx="33480" cy="1404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6023880" y="4387680"/>
              <a:ext cx="33480" cy="900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6023880" y="4387680"/>
              <a:ext cx="33480" cy="900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5709600" y="4265280"/>
              <a:ext cx="174600" cy="10620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5709600" y="4265280"/>
              <a:ext cx="174600" cy="10620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5897160" y="4265280"/>
              <a:ext cx="136800" cy="10296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5897160" y="4265280"/>
              <a:ext cx="136800" cy="10296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>
              <a:off x="5679360" y="4332240"/>
              <a:ext cx="42840" cy="3924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5679360" y="4332240"/>
              <a:ext cx="42840" cy="3924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6027480" y="4317840"/>
              <a:ext cx="31680" cy="4572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6027480" y="4317840"/>
              <a:ext cx="31680" cy="4572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5457600" y="4367160"/>
              <a:ext cx="187200" cy="4248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5679720" y="4354200"/>
              <a:ext cx="547920" cy="2052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6046200" y="4254120"/>
              <a:ext cx="183960" cy="9504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6216480" y="4387680"/>
              <a:ext cx="19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>
              <a:off x="6214680" y="440028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6213240" y="4419360"/>
              <a:ext cx="27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6021000" y="4265280"/>
              <a:ext cx="146160" cy="9360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6071760" y="4260600"/>
              <a:ext cx="4680" cy="1548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>
              <a:off x="6037200" y="4275000"/>
              <a:ext cx="110880" cy="7560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6037200" y="4275000"/>
              <a:ext cx="110880" cy="7560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H="1">
              <a:off x="5706720" y="4333680"/>
              <a:ext cx="2376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5706720" y="4333680"/>
              <a:ext cx="2376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6324480" y="4267080"/>
            <a:ext cx="838080" cy="288720"/>
            <a:chOff x="6324480" y="4267080"/>
            <a:chExt cx="838080" cy="288720"/>
          </a:xfrm>
        </p:grpSpPr>
        <p:sp>
          <p:nvSpPr>
            <p:cNvPr id="1876" name=""/>
            <p:cNvSpPr/>
            <p:nvPr/>
          </p:nvSpPr>
          <p:spPr>
            <a:xfrm>
              <a:off x="6955560" y="4358880"/>
              <a:ext cx="21240" cy="2052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0"/>
                  </a:moveTo>
                  <a:lnTo>
                    <a:pt x="136" y="68"/>
                  </a:lnTo>
                  <a:lnTo>
                    <a:pt x="0" y="136"/>
                  </a:lnTo>
                  <a:lnTo>
                    <a:pt x="4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54984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54984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lnTo>
                    <a:pt x="57" y="5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09488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09488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lnTo>
                    <a:pt x="2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119360" y="43876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7125480" y="439992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33564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33564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lnTo>
                    <a:pt x="187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369120" y="440676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369120" y="440676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lnTo>
                    <a:pt x="3768" y="5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331680" y="4267080"/>
              <a:ext cx="82008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close/>
                </a:path>
              </a:pathLst>
            </a:cu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331680" y="4267080"/>
              <a:ext cx="82008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lnTo>
                    <a:pt x="386" y="15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4292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292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99552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99552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59664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59664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83100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83100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lnTo>
                    <a:pt x="8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63732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63732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lnTo>
                    <a:pt x="423" y="9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83388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83388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lnTo>
                    <a:pt x="1038" y="54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32448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32448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lnTo>
                    <a:pt x="68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325200" y="4447800"/>
              <a:ext cx="89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06428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06428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7075800" y="4428360"/>
              <a:ext cx="8208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H="1">
              <a:off x="7088760" y="4439160"/>
              <a:ext cx="6876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62688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62688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75396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75396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75396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75396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595560" y="4367520"/>
              <a:ext cx="509400" cy="9000"/>
            </a:xfrm>
            <a:custGeom>
              <a:avLst/>
              <a:gdLst/>
              <a:ahLst/>
              <a:rect l="l" t="t" r="r" b="b"/>
              <a:pathLst>
                <a:path w="3184" h="61">
                  <a:moveTo>
                    <a:pt x="0" y="50"/>
                  </a:moveTo>
                  <a:lnTo>
                    <a:pt x="0" y="61"/>
                  </a:lnTo>
                  <a:lnTo>
                    <a:pt x="31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579720" y="4272480"/>
              <a:ext cx="526320" cy="221040"/>
            </a:xfrm>
            <a:custGeom>
              <a:avLst/>
              <a:gdLst/>
              <a:ahLst/>
              <a:rect l="l" t="t" r="r" b="b"/>
              <a:pathLst>
                <a:path w="3291" h="1428">
                  <a:moveTo>
                    <a:pt x="81" y="1428"/>
                  </a:moveTo>
                  <a:lnTo>
                    <a:pt x="59" y="1361"/>
                  </a:lnTo>
                  <a:lnTo>
                    <a:pt x="25" y="1226"/>
                  </a:lnTo>
                  <a:lnTo>
                    <a:pt x="0" y="1090"/>
                  </a:lnTo>
                  <a:lnTo>
                    <a:pt x="9" y="870"/>
                  </a:lnTo>
                  <a:lnTo>
                    <a:pt x="34" y="660"/>
                  </a:lnTo>
                  <a:lnTo>
                    <a:pt x="36" y="639"/>
                  </a:lnTo>
                  <a:lnTo>
                    <a:pt x="52" y="601"/>
                  </a:lnTo>
                  <a:lnTo>
                    <a:pt x="74" y="569"/>
                  </a:lnTo>
                  <a:lnTo>
                    <a:pt x="103" y="544"/>
                  </a:lnTo>
                  <a:lnTo>
                    <a:pt x="720" y="115"/>
                  </a:lnTo>
                  <a:lnTo>
                    <a:pt x="758" y="97"/>
                  </a:lnTo>
                  <a:lnTo>
                    <a:pt x="846" y="61"/>
                  </a:lnTo>
                  <a:lnTo>
                    <a:pt x="940" y="34"/>
                  </a:lnTo>
                  <a:lnTo>
                    <a:pt x="1650" y="0"/>
                  </a:lnTo>
                  <a:lnTo>
                    <a:pt x="2547" y="21"/>
                  </a:lnTo>
                  <a:lnTo>
                    <a:pt x="2640" y="80"/>
                  </a:lnTo>
                  <a:lnTo>
                    <a:pt x="3069" y="441"/>
                  </a:lnTo>
                  <a:lnTo>
                    <a:pt x="3291" y="6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548400" y="4493520"/>
              <a:ext cx="4053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345000" y="4485960"/>
              <a:ext cx="478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371640" y="4397040"/>
              <a:ext cx="753480" cy="13680"/>
            </a:xfrm>
            <a:custGeom>
              <a:avLst/>
              <a:gdLst/>
              <a:ahLst/>
              <a:rect l="l" t="t" r="r" b="b"/>
              <a:pathLst>
                <a:path w="4710" h="91">
                  <a:moveTo>
                    <a:pt x="0" y="91"/>
                  </a:moveTo>
                  <a:lnTo>
                    <a:pt x="3070" y="34"/>
                  </a:lnTo>
                  <a:lnTo>
                    <a:pt x="47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810840" y="4274640"/>
              <a:ext cx="21960" cy="218880"/>
            </a:xfrm>
            <a:custGeom>
              <a:avLst/>
              <a:gdLst/>
              <a:ahLst/>
              <a:rect l="l" t="t" r="r" b="b"/>
              <a:pathLst>
                <a:path w="140" h="1417">
                  <a:moveTo>
                    <a:pt x="22" y="1417"/>
                  </a:moveTo>
                  <a:lnTo>
                    <a:pt x="17" y="1355"/>
                  </a:lnTo>
                  <a:lnTo>
                    <a:pt x="5" y="1178"/>
                  </a:lnTo>
                  <a:lnTo>
                    <a:pt x="0" y="997"/>
                  </a:lnTo>
                  <a:lnTo>
                    <a:pt x="7" y="817"/>
                  </a:lnTo>
                  <a:lnTo>
                    <a:pt x="25" y="639"/>
                  </a:lnTo>
                  <a:lnTo>
                    <a:pt x="34" y="639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407640" y="4407480"/>
              <a:ext cx="147960" cy="80280"/>
            </a:xfrm>
            <a:custGeom>
              <a:avLst/>
              <a:gdLst/>
              <a:ahLst/>
              <a:rect l="l" t="t" r="r" b="b"/>
              <a:pathLst>
                <a:path w="924" h="518">
                  <a:moveTo>
                    <a:pt x="924" y="518"/>
                  </a:moveTo>
                  <a:lnTo>
                    <a:pt x="914" y="444"/>
                  </a:lnTo>
                  <a:lnTo>
                    <a:pt x="897" y="373"/>
                  </a:lnTo>
                  <a:lnTo>
                    <a:pt x="872" y="304"/>
                  </a:lnTo>
                  <a:lnTo>
                    <a:pt x="835" y="239"/>
                  </a:lnTo>
                  <a:lnTo>
                    <a:pt x="791" y="183"/>
                  </a:lnTo>
                  <a:lnTo>
                    <a:pt x="739" y="131"/>
                  </a:lnTo>
                  <a:lnTo>
                    <a:pt x="680" y="87"/>
                  </a:lnTo>
                  <a:lnTo>
                    <a:pt x="615" y="52"/>
                  </a:lnTo>
                  <a:lnTo>
                    <a:pt x="546" y="24"/>
                  </a:lnTo>
                  <a:lnTo>
                    <a:pt x="477" y="7"/>
                  </a:lnTo>
                  <a:lnTo>
                    <a:pt x="405" y="0"/>
                  </a:lnTo>
                  <a:lnTo>
                    <a:pt x="331" y="4"/>
                  </a:lnTo>
                  <a:lnTo>
                    <a:pt x="260" y="18"/>
                  </a:lnTo>
                  <a:lnTo>
                    <a:pt x="189" y="39"/>
                  </a:lnTo>
                  <a:lnTo>
                    <a:pt x="124" y="72"/>
                  </a:lnTo>
                  <a:lnTo>
                    <a:pt x="63" y="114"/>
                  </a:lnTo>
                  <a:lnTo>
                    <a:pt x="8" y="163"/>
                  </a:lnTo>
                  <a:lnTo>
                    <a:pt x="0" y="1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946200" y="4405320"/>
              <a:ext cx="135720" cy="84240"/>
            </a:xfrm>
            <a:custGeom>
              <a:avLst/>
              <a:gdLst/>
              <a:ahLst/>
              <a:rect l="l" t="t" r="r" b="b"/>
              <a:pathLst>
                <a:path w="850" h="544">
                  <a:moveTo>
                    <a:pt x="850" y="128"/>
                  </a:moveTo>
                  <a:lnTo>
                    <a:pt x="792" y="84"/>
                  </a:lnTo>
                  <a:lnTo>
                    <a:pt x="731" y="48"/>
                  </a:lnTo>
                  <a:lnTo>
                    <a:pt x="664" y="21"/>
                  </a:lnTo>
                  <a:lnTo>
                    <a:pt x="593" y="8"/>
                  </a:lnTo>
                  <a:lnTo>
                    <a:pt x="524" y="0"/>
                  </a:lnTo>
                  <a:lnTo>
                    <a:pt x="452" y="4"/>
                  </a:lnTo>
                  <a:lnTo>
                    <a:pt x="380" y="17"/>
                  </a:lnTo>
                  <a:lnTo>
                    <a:pt x="311" y="42"/>
                  </a:lnTo>
                  <a:lnTo>
                    <a:pt x="248" y="73"/>
                  </a:lnTo>
                  <a:lnTo>
                    <a:pt x="188" y="115"/>
                  </a:lnTo>
                  <a:lnTo>
                    <a:pt x="135" y="164"/>
                  </a:lnTo>
                  <a:lnTo>
                    <a:pt x="92" y="222"/>
                  </a:lnTo>
                  <a:lnTo>
                    <a:pt x="55" y="283"/>
                  </a:lnTo>
                  <a:lnTo>
                    <a:pt x="24" y="350"/>
                  </a:lnTo>
                  <a:lnTo>
                    <a:pt x="7" y="419"/>
                  </a:lnTo>
                  <a:lnTo>
                    <a:pt x="0" y="491"/>
                  </a:lnTo>
                  <a:lnTo>
                    <a:pt x="3" y="5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57360" y="4276080"/>
              <a:ext cx="72720" cy="132840"/>
            </a:xfrm>
            <a:custGeom>
              <a:avLst/>
              <a:gdLst/>
              <a:ahLst/>
              <a:rect l="l" t="t" r="r" b="b"/>
              <a:pathLst>
                <a:path w="454" h="858">
                  <a:moveTo>
                    <a:pt x="326" y="858"/>
                  </a:moveTo>
                  <a:lnTo>
                    <a:pt x="454" y="649"/>
                  </a:lnTo>
                  <a:lnTo>
                    <a:pt x="446" y="599"/>
                  </a:lnTo>
                  <a:lnTo>
                    <a:pt x="432" y="554"/>
                  </a:lnTo>
                  <a:lnTo>
                    <a:pt x="407" y="5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959880" y="4380480"/>
              <a:ext cx="3096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959880" y="4380480"/>
              <a:ext cx="30960" cy="13680"/>
            </a:xfrm>
            <a:custGeom>
              <a:avLst/>
              <a:gdLst/>
              <a:ahLst/>
              <a:rect l="l" t="t" r="r" b="b"/>
              <a:pathLst>
                <a:path w="197" h="93">
                  <a:moveTo>
                    <a:pt x="0" y="93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95988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95988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55740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55740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542640" y="4443120"/>
              <a:ext cx="415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537240" y="4437720"/>
              <a:ext cx="424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1" name=""/>
          <p:cNvGrpSpPr/>
          <p:nvPr/>
        </p:nvGrpSpPr>
        <p:grpSpPr>
          <a:xfrm>
            <a:off x="1752480" y="4213080"/>
            <a:ext cx="838440" cy="339480"/>
            <a:chOff x="1752480" y="4213080"/>
            <a:chExt cx="838440" cy="339480"/>
          </a:xfrm>
        </p:grpSpPr>
        <p:sp>
          <p:nvSpPr>
            <p:cNvPr id="1932" name=""/>
            <p:cNvSpPr/>
            <p:nvPr/>
          </p:nvSpPr>
          <p:spPr>
            <a:xfrm>
              <a:off x="1760400" y="433440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760400" y="433440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512800" y="438480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512800" y="438480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512800" y="438012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512800" y="438012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794960" y="422784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794960" y="422784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812960" y="437328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812960" y="437328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760400" y="421308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760400" y="421308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485440" y="441900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485440" y="441900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2506680" y="4496040"/>
              <a:ext cx="72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H="1">
              <a:off x="2492280" y="4428720"/>
              <a:ext cx="97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H="1">
              <a:off x="2502720" y="4451400"/>
              <a:ext cx="87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752480" y="439704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752480" y="439704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764360" y="4464720"/>
              <a:ext cx="66600" cy="1044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752480" y="4436280"/>
              <a:ext cx="8568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752480" y="4407840"/>
              <a:ext cx="10836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400120" y="443808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400120" y="443808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876680" y="444348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876680" y="444348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783440" y="4359240"/>
              <a:ext cx="754920" cy="2340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785600" y="4368600"/>
              <a:ext cx="732960" cy="1692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926360" y="4220280"/>
              <a:ext cx="43272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970280" y="4411440"/>
              <a:ext cx="403920" cy="75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980360" y="4428720"/>
              <a:ext cx="386280" cy="540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328120" y="4336200"/>
              <a:ext cx="1188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103840" y="4222440"/>
              <a:ext cx="21960" cy="26280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349360" y="4406760"/>
              <a:ext cx="7920" cy="7560"/>
            </a:xfrm>
            <a:prstGeom prst="rect">
              <a:avLst/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349360" y="4406760"/>
              <a:ext cx="7920" cy="7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2142000" y="4363920"/>
              <a:ext cx="32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2142000" y="4363920"/>
              <a:ext cx="32400" cy="1404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142000" y="4363920"/>
              <a:ext cx="3240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142000" y="4363920"/>
              <a:ext cx="3240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942920" y="4356360"/>
              <a:ext cx="331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942920" y="4356360"/>
              <a:ext cx="33120" cy="1404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942920" y="4356360"/>
              <a:ext cx="3312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942920" y="4356360"/>
              <a:ext cx="3312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116080" y="423396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116080" y="423396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966320" y="423288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966320" y="423288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278080" y="430020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278080" y="430020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940760" y="428580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940760" y="428580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355480" y="4334400"/>
              <a:ext cx="188280" cy="4356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773360" y="4322160"/>
              <a:ext cx="546840" cy="2160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769760" y="4222440"/>
              <a:ext cx="183600" cy="9468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764360" y="4356360"/>
              <a:ext cx="19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760400" y="4368600"/>
              <a:ext cx="2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760400" y="4387680"/>
              <a:ext cx="2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832760" y="4232880"/>
              <a:ext cx="14580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923840" y="4228920"/>
              <a:ext cx="504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851840" y="424332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851840" y="424332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270160" y="430128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270160" y="430128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5" name=""/>
          <p:cNvGrpSpPr/>
          <p:nvPr/>
        </p:nvGrpSpPr>
        <p:grpSpPr>
          <a:xfrm>
            <a:off x="838080" y="4224240"/>
            <a:ext cx="838080" cy="339840"/>
            <a:chOff x="838080" y="4224240"/>
            <a:chExt cx="838080" cy="339840"/>
          </a:xfrm>
        </p:grpSpPr>
        <p:sp>
          <p:nvSpPr>
            <p:cNvPr id="1996" name=""/>
            <p:cNvSpPr/>
            <p:nvPr/>
          </p:nvSpPr>
          <p:spPr>
            <a:xfrm>
              <a:off x="846000" y="4346640"/>
              <a:ext cx="33480" cy="7452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46000" y="4346640"/>
              <a:ext cx="33480" cy="7452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598400" y="4395600"/>
              <a:ext cx="68400" cy="446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598400" y="4395600"/>
              <a:ext cx="68400" cy="446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598400" y="4390920"/>
              <a:ext cx="50760" cy="4428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598400" y="4390920"/>
              <a:ext cx="50760" cy="4428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880920" y="4240080"/>
              <a:ext cx="569880" cy="11268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80920" y="4240080"/>
              <a:ext cx="569880" cy="11268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898560" y="4384440"/>
              <a:ext cx="712800" cy="17964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898560" y="4384440"/>
              <a:ext cx="712800" cy="17964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46000" y="4224240"/>
              <a:ext cx="808200" cy="29376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46000" y="4224240"/>
              <a:ext cx="808200" cy="29376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571400" y="4430520"/>
              <a:ext cx="104760" cy="8280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571400" y="4430520"/>
              <a:ext cx="104760" cy="8280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1592280" y="4506840"/>
              <a:ext cx="7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H="1">
              <a:off x="1577520" y="4440240"/>
              <a:ext cx="98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H="1">
              <a:off x="1589040" y="4462200"/>
              <a:ext cx="87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838080" y="4408560"/>
              <a:ext cx="120600" cy="8568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838080" y="4408560"/>
              <a:ext cx="120600" cy="8568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850680" y="4475160"/>
              <a:ext cx="66600" cy="1116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38080" y="4446360"/>
              <a:ext cx="8568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838080" y="4419360"/>
              <a:ext cx="1080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485720" y="4449600"/>
              <a:ext cx="68400" cy="874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485720" y="4449600"/>
              <a:ext cx="68400" cy="874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961920" y="4454280"/>
              <a:ext cx="66600" cy="828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961920" y="4454280"/>
              <a:ext cx="66600" cy="828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69760" y="4370400"/>
              <a:ext cx="754200" cy="2376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71560" y="4379760"/>
              <a:ext cx="733320" cy="1764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012680" y="4232160"/>
              <a:ext cx="43200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055520" y="4422600"/>
              <a:ext cx="405000" cy="792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065240" y="4440240"/>
              <a:ext cx="387360" cy="468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414440" y="4348080"/>
              <a:ext cx="1116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189080" y="4233600"/>
              <a:ext cx="21960" cy="26352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434960" y="4417920"/>
              <a:ext cx="7920" cy="792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226880" y="4375080"/>
              <a:ext cx="33480" cy="1440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226880" y="4375080"/>
              <a:ext cx="33480" cy="1440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226880" y="4375080"/>
              <a:ext cx="3348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028520" y="4367160"/>
              <a:ext cx="33480" cy="1440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028520" y="4367160"/>
              <a:ext cx="33480" cy="1440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028520" y="4367160"/>
              <a:ext cx="33480" cy="936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028520" y="4367160"/>
              <a:ext cx="3348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201680" y="4244760"/>
              <a:ext cx="174600" cy="10656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201680" y="4244760"/>
              <a:ext cx="174600" cy="10656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052280" y="4244760"/>
              <a:ext cx="13680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052280" y="4244760"/>
              <a:ext cx="13680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363680" y="4311720"/>
              <a:ext cx="42840" cy="3960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363680" y="4311720"/>
              <a:ext cx="42840" cy="3960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027080" y="4297320"/>
              <a:ext cx="31680" cy="460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027080" y="4297320"/>
              <a:ext cx="31680" cy="460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441440" y="4346640"/>
              <a:ext cx="187200" cy="4284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858600" y="4333680"/>
              <a:ext cx="547920" cy="2088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855720" y="4233600"/>
              <a:ext cx="183960" cy="9540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850680" y="43671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846000" y="437976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846000" y="43988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919080" y="4244760"/>
              <a:ext cx="14616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009440" y="4240080"/>
              <a:ext cx="468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938160" y="4254480"/>
              <a:ext cx="11088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938160" y="4254480"/>
              <a:ext cx="11088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355760" y="4313160"/>
              <a:ext cx="23760" cy="38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355760" y="4313160"/>
              <a:ext cx="23760" cy="38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7" name=""/>
          <p:cNvSpPr/>
          <p:nvPr/>
        </p:nvSpPr>
        <p:spPr>
          <a:xfrm flipH="1">
            <a:off x="761760" y="4572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H="1">
            <a:off x="6781320" y="45720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9" name=""/>
          <p:cNvGrpSpPr/>
          <p:nvPr/>
        </p:nvGrpSpPr>
        <p:grpSpPr>
          <a:xfrm>
            <a:off x="7227360" y="4213080"/>
            <a:ext cx="838440" cy="339480"/>
            <a:chOff x="7227360" y="4213080"/>
            <a:chExt cx="838440" cy="339480"/>
          </a:xfrm>
        </p:grpSpPr>
        <p:sp>
          <p:nvSpPr>
            <p:cNvPr id="2060" name=""/>
            <p:cNvSpPr/>
            <p:nvPr/>
          </p:nvSpPr>
          <p:spPr>
            <a:xfrm flipH="1">
              <a:off x="8025480" y="433440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H="1">
              <a:off x="8025480" y="433440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>
              <a:off x="7237080" y="438480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7237080" y="438480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>
              <a:off x="7254360" y="438012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H="1">
              <a:off x="7254360" y="438012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H="1">
              <a:off x="7453080" y="422784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>
              <a:off x="7453080" y="422784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H="1">
              <a:off x="7291800" y="437328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H="1">
              <a:off x="7291800" y="437328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>
              <a:off x="7249320" y="421308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H="1">
              <a:off x="7249320" y="421308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H="1">
              <a:off x="7227000" y="441900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H="1">
              <a:off x="7227000" y="441900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238880" y="4496040"/>
              <a:ext cx="72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228080" y="4428720"/>
              <a:ext cx="97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227720" y="4451400"/>
              <a:ext cx="87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H="1">
              <a:off x="7944840" y="439704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7944840" y="439704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7986960" y="4464720"/>
              <a:ext cx="66600" cy="1044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7980120" y="4436280"/>
              <a:ext cx="8568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H="1">
              <a:off x="7957440" y="4407840"/>
              <a:ext cx="10836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7349040" y="443808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H="1">
              <a:off x="7349040" y="443808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7875360" y="444348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7875360" y="444348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H="1">
              <a:off x="7279560" y="4359240"/>
              <a:ext cx="754920" cy="2340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H="1">
              <a:off x="7299720" y="4368600"/>
              <a:ext cx="732960" cy="1692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H="1">
              <a:off x="7459200" y="4220280"/>
              <a:ext cx="43272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>
              <a:off x="7444080" y="4411440"/>
              <a:ext cx="403920" cy="75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>
              <a:off x="7451280" y="4428720"/>
              <a:ext cx="386280" cy="540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7477920" y="4336200"/>
              <a:ext cx="1188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H="1">
              <a:off x="7692120" y="4222440"/>
              <a:ext cx="21960" cy="26280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7461000" y="4406760"/>
              <a:ext cx="7920" cy="7560"/>
            </a:xfrm>
            <a:prstGeom prst="rect">
              <a:avLst/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H="1">
              <a:off x="7461000" y="4406760"/>
              <a:ext cx="7920" cy="7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7643880" y="4363920"/>
              <a:ext cx="32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7643880" y="4363920"/>
              <a:ext cx="32400" cy="1404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7643880" y="4363920"/>
              <a:ext cx="3240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7643880" y="4363920"/>
              <a:ext cx="3240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>
              <a:off x="7842240" y="4356360"/>
              <a:ext cx="331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7842240" y="4356360"/>
              <a:ext cx="33120" cy="1404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H="1">
              <a:off x="7842240" y="4356360"/>
              <a:ext cx="3312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H="1">
              <a:off x="7842240" y="4356360"/>
              <a:ext cx="3312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>
              <a:off x="7527240" y="423396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>
              <a:off x="7527240" y="423396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7714440" y="423288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7714440" y="423288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7497720" y="430020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H="1">
              <a:off x="7497720" y="430020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7845120" y="428580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7845120" y="428580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7274160" y="4334400"/>
              <a:ext cx="188280" cy="4356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7497720" y="4322160"/>
              <a:ext cx="546840" cy="2160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7864920" y="4222440"/>
              <a:ext cx="183600" cy="9468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8034840" y="4356360"/>
              <a:ext cx="19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8033760" y="4368600"/>
              <a:ext cx="2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>
              <a:off x="8031240" y="4387680"/>
              <a:ext cx="2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H="1">
              <a:off x="7839360" y="4232880"/>
              <a:ext cx="14580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7889400" y="4228920"/>
              <a:ext cx="504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7854120" y="424332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>
              <a:off x="7854120" y="424332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7524360" y="430128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H="1">
              <a:off x="7524360" y="430128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762120" y="2252520"/>
            <a:ext cx="7314840" cy="468360"/>
            <a:chOff x="762120" y="2252520"/>
            <a:chExt cx="7314840" cy="468360"/>
          </a:xfrm>
        </p:grpSpPr>
        <p:sp>
          <p:nvSpPr>
            <p:cNvPr id="2124" name=""/>
            <p:cNvSpPr/>
            <p:nvPr/>
          </p:nvSpPr>
          <p:spPr>
            <a:xfrm>
              <a:off x="762120" y="225252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62120" y="2720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838080" y="2286000"/>
            <a:ext cx="838080" cy="380520"/>
            <a:chOff x="838080" y="2286000"/>
            <a:chExt cx="838080" cy="380520"/>
          </a:xfrm>
        </p:grpSpPr>
        <p:sp>
          <p:nvSpPr>
            <p:cNvPr id="2127" name=""/>
            <p:cNvSpPr/>
            <p:nvPr/>
          </p:nvSpPr>
          <p:spPr>
            <a:xfrm>
              <a:off x="838080" y="2286000"/>
              <a:ext cx="838080" cy="380520"/>
            </a:xfrm>
            <a:prstGeom prst="roundRect">
              <a:avLst>
                <a:gd name="adj" fmla="val 9977"/>
              </a:avLst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838080" y="2286000"/>
              <a:ext cx="838080" cy="38052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319760" y="2311560"/>
              <a:ext cx="126720" cy="329040"/>
            </a:xfrm>
            <a:custGeom>
              <a:avLst/>
              <a:gdLst>
                <a:gd name="textAreaLeft" fmla="*/ 3600 w 126720"/>
                <a:gd name="textAreaRight" fmla="*/ 123120 w 126720"/>
                <a:gd name="textAreaTop" fmla="*/ 3600 h 329040"/>
                <a:gd name="textAreaBottom" fmla="*/ 325440 h 329040"/>
              </a:gdLst>
              <a:ahLst/>
              <a:rect l="textAreaLeft" t="textAreaTop" r="textAreaRight" b="textAreaBottom"/>
              <a:pathLst>
                <a:path w="21600" h="55989">
                  <a:moveTo>
                    <a:pt x="2139" y="0"/>
                  </a:moveTo>
                  <a:arcTo wR="2139" hR="2139" stAng="16200000" swAng="-5400000"/>
                  <a:lnTo>
                    <a:pt x="0" y="53850"/>
                  </a:lnTo>
                  <a:arcTo wR="2139" hR="2139" stAng="10800000" swAng="-5400000"/>
                  <a:lnTo>
                    <a:pt x="19461" y="55989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99640" y="2313720"/>
              <a:ext cx="112320" cy="324720"/>
            </a:xfrm>
            <a:custGeom>
              <a:avLst/>
              <a:gdLst>
                <a:gd name="textAreaLeft" fmla="*/ 3240 w 112320"/>
                <a:gd name="textAreaRight" fmla="*/ 109080 w 112320"/>
                <a:gd name="textAreaTop" fmla="*/ 3240 h 324720"/>
                <a:gd name="textAreaBottom" fmla="*/ 321480 h 324720"/>
              </a:gdLst>
              <a:ahLst/>
              <a:rect l="textAreaLeft" t="textAreaTop" r="textAreaRight" b="textAreaBottom"/>
              <a:pathLst>
                <a:path w="21600" h="62316">
                  <a:moveTo>
                    <a:pt x="2143" y="0"/>
                  </a:moveTo>
                  <a:arcTo wR="2143" hR="2143" stAng="16200000" swAng="-5400000"/>
                  <a:lnTo>
                    <a:pt x="0" y="60173"/>
                  </a:lnTo>
                  <a:arcTo wR="2143" hR="2143" stAng="10800000" swAng="-5400000"/>
                  <a:lnTo>
                    <a:pt x="19457" y="62316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2666880" y="2286000"/>
            <a:ext cx="838440" cy="380880"/>
            <a:chOff x="2666880" y="2286000"/>
            <a:chExt cx="838440" cy="380880"/>
          </a:xfrm>
        </p:grpSpPr>
        <p:sp>
          <p:nvSpPr>
            <p:cNvPr id="2132" name=""/>
            <p:cNvSpPr/>
            <p:nvPr/>
          </p:nvSpPr>
          <p:spPr>
            <a:xfrm>
              <a:off x="2666880" y="2286000"/>
              <a:ext cx="838440" cy="380880"/>
            </a:xfrm>
            <a:prstGeom prst="roundRect">
              <a:avLst>
                <a:gd name="adj" fmla="val 9977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666880" y="2286000"/>
              <a:ext cx="838440" cy="38088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148200" y="2311560"/>
              <a:ext cx="126720" cy="330120"/>
            </a:xfrm>
            <a:custGeom>
              <a:avLst/>
              <a:gdLst>
                <a:gd name="textAreaLeft" fmla="*/ 3600 w 126720"/>
                <a:gd name="textAreaRight" fmla="*/ 123120 w 126720"/>
                <a:gd name="textAreaTop" fmla="*/ 3600 h 330120"/>
                <a:gd name="textAreaBottom" fmla="*/ 326520 h 330120"/>
              </a:gdLst>
              <a:ahLst/>
              <a:rect l="textAreaLeft" t="textAreaTop" r="textAreaRight" b="textAreaBottom"/>
              <a:pathLst>
                <a:path w="21600" h="56172">
                  <a:moveTo>
                    <a:pt x="2139" y="0"/>
                  </a:moveTo>
                  <a:arcTo wR="2139" hR="2139" stAng="16200000" swAng="-5400000"/>
                  <a:lnTo>
                    <a:pt x="0" y="54033"/>
                  </a:lnTo>
                  <a:arcTo wR="2139" hR="2139" stAng="10800000" swAng="-5400000"/>
                  <a:lnTo>
                    <a:pt x="19461" y="56172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727720" y="2314440"/>
              <a:ext cx="113400" cy="325440"/>
            </a:xfrm>
            <a:custGeom>
              <a:avLst/>
              <a:gdLst>
                <a:gd name="textAreaLeft" fmla="*/ 3240 w 113400"/>
                <a:gd name="textAreaRight" fmla="*/ 110160 w 113400"/>
                <a:gd name="textAreaTop" fmla="*/ 3240 h 325440"/>
                <a:gd name="textAreaBottom" fmla="*/ 322200 h 325440"/>
              </a:gdLst>
              <a:ahLst/>
              <a:rect l="textAreaLeft" t="textAreaTop" r="textAreaRight" b="textAreaBottom"/>
              <a:pathLst>
                <a:path w="21600" h="61861">
                  <a:moveTo>
                    <a:pt x="2143" y="0"/>
                  </a:moveTo>
                  <a:arcTo wR="2143" hR="2143" stAng="16200000" swAng="-5400000"/>
                  <a:lnTo>
                    <a:pt x="0" y="59718"/>
                  </a:lnTo>
                  <a:arcTo wR="2143" hR="2143" stAng="10800000" swAng="-5400000"/>
                  <a:lnTo>
                    <a:pt x="19457" y="61861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6" name=""/>
          <p:cNvGrpSpPr/>
          <p:nvPr/>
        </p:nvGrpSpPr>
        <p:grpSpPr>
          <a:xfrm>
            <a:off x="1752480" y="2286000"/>
            <a:ext cx="838440" cy="380880"/>
            <a:chOff x="1752480" y="2286000"/>
            <a:chExt cx="838440" cy="380880"/>
          </a:xfrm>
        </p:grpSpPr>
        <p:sp>
          <p:nvSpPr>
            <p:cNvPr id="2137" name=""/>
            <p:cNvSpPr/>
            <p:nvPr/>
          </p:nvSpPr>
          <p:spPr>
            <a:xfrm>
              <a:off x="1752480" y="2286000"/>
              <a:ext cx="838440" cy="380880"/>
            </a:xfrm>
            <a:prstGeom prst="roundRect">
              <a:avLst>
                <a:gd name="adj" fmla="val 9977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752480" y="2286000"/>
              <a:ext cx="838440" cy="38088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234160" y="2311200"/>
              <a:ext cx="126360" cy="329760"/>
            </a:xfrm>
            <a:custGeom>
              <a:avLst/>
              <a:gdLst>
                <a:gd name="textAreaLeft" fmla="*/ 3600 w 126360"/>
                <a:gd name="textAreaRight" fmla="*/ 122760 w 126360"/>
                <a:gd name="textAreaTop" fmla="*/ 3600 h 329760"/>
                <a:gd name="textAreaBottom" fmla="*/ 326160 h 329760"/>
              </a:gdLst>
              <a:ahLst/>
              <a:rect l="textAreaLeft" t="textAreaTop" r="textAreaRight" b="textAreaBottom"/>
              <a:pathLst>
                <a:path w="21600" h="56270">
                  <a:moveTo>
                    <a:pt x="2139" y="0"/>
                  </a:moveTo>
                  <a:arcTo wR="2139" hR="2139" stAng="16200000" swAng="-5400000"/>
                  <a:lnTo>
                    <a:pt x="0" y="54131"/>
                  </a:lnTo>
                  <a:arcTo wR="2139" hR="2139" stAng="10800000" swAng="-5400000"/>
                  <a:lnTo>
                    <a:pt x="19461" y="56270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813320" y="2314440"/>
              <a:ext cx="113400" cy="325080"/>
            </a:xfrm>
            <a:custGeom>
              <a:avLst/>
              <a:gdLst>
                <a:gd name="textAreaLeft" fmla="*/ 3240 w 113400"/>
                <a:gd name="textAreaRight" fmla="*/ 110160 w 113400"/>
                <a:gd name="textAreaTop" fmla="*/ 3240 h 325080"/>
                <a:gd name="textAreaBottom" fmla="*/ 321840 h 325080"/>
              </a:gdLst>
              <a:ahLst/>
              <a:rect l="textAreaLeft" t="textAreaTop" r="textAreaRight" b="textAreaBottom"/>
              <a:pathLst>
                <a:path w="21600" h="61792">
                  <a:moveTo>
                    <a:pt x="2143" y="0"/>
                  </a:moveTo>
                  <a:arcTo wR="2143" hR="2143" stAng="16200000" swAng="-5400000"/>
                  <a:lnTo>
                    <a:pt x="0" y="59649"/>
                  </a:lnTo>
                  <a:arcTo wR="2143" hR="2143" stAng="10800000" swAng="-5400000"/>
                  <a:lnTo>
                    <a:pt x="19457" y="61792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1" name=""/>
          <p:cNvGrpSpPr/>
          <p:nvPr/>
        </p:nvGrpSpPr>
        <p:grpSpPr>
          <a:xfrm>
            <a:off x="3581280" y="2286000"/>
            <a:ext cx="838440" cy="380880"/>
            <a:chOff x="3581280" y="2286000"/>
            <a:chExt cx="838440" cy="380880"/>
          </a:xfrm>
        </p:grpSpPr>
        <p:sp>
          <p:nvSpPr>
            <p:cNvPr id="2142" name=""/>
            <p:cNvSpPr/>
            <p:nvPr/>
          </p:nvSpPr>
          <p:spPr>
            <a:xfrm>
              <a:off x="3581280" y="2286000"/>
              <a:ext cx="838440" cy="380880"/>
            </a:xfrm>
            <a:prstGeom prst="roundRect">
              <a:avLst>
                <a:gd name="adj" fmla="val 9977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581280" y="2286000"/>
              <a:ext cx="838440" cy="38088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062960" y="2311200"/>
              <a:ext cx="126360" cy="329760"/>
            </a:xfrm>
            <a:custGeom>
              <a:avLst/>
              <a:gdLst>
                <a:gd name="textAreaLeft" fmla="*/ 3600 w 126360"/>
                <a:gd name="textAreaRight" fmla="*/ 122760 w 126360"/>
                <a:gd name="textAreaTop" fmla="*/ 3600 h 329760"/>
                <a:gd name="textAreaBottom" fmla="*/ 326160 h 329760"/>
              </a:gdLst>
              <a:ahLst/>
              <a:rect l="textAreaLeft" t="textAreaTop" r="textAreaRight" b="textAreaBottom"/>
              <a:pathLst>
                <a:path w="21600" h="56270">
                  <a:moveTo>
                    <a:pt x="2139" y="0"/>
                  </a:moveTo>
                  <a:arcTo wR="2139" hR="2139" stAng="16200000" swAng="-5400000"/>
                  <a:lnTo>
                    <a:pt x="0" y="54131"/>
                  </a:lnTo>
                  <a:arcTo wR="2139" hR="2139" stAng="10800000" swAng="-5400000"/>
                  <a:lnTo>
                    <a:pt x="19461" y="56270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642120" y="2314440"/>
              <a:ext cx="113400" cy="325080"/>
            </a:xfrm>
            <a:custGeom>
              <a:avLst/>
              <a:gdLst>
                <a:gd name="textAreaLeft" fmla="*/ 3240 w 113400"/>
                <a:gd name="textAreaRight" fmla="*/ 110160 w 113400"/>
                <a:gd name="textAreaTop" fmla="*/ 3240 h 325080"/>
                <a:gd name="textAreaBottom" fmla="*/ 321840 h 325080"/>
              </a:gdLst>
              <a:ahLst/>
              <a:rect l="textAreaLeft" t="textAreaTop" r="textAreaRight" b="textAreaBottom"/>
              <a:pathLst>
                <a:path w="21600" h="61792">
                  <a:moveTo>
                    <a:pt x="2143" y="0"/>
                  </a:moveTo>
                  <a:arcTo wR="2143" hR="2143" stAng="16200000" swAng="-5400000"/>
                  <a:lnTo>
                    <a:pt x="0" y="59649"/>
                  </a:lnTo>
                  <a:arcTo wR="2143" hR="2143" stAng="10800000" swAng="-5400000"/>
                  <a:lnTo>
                    <a:pt x="19457" y="61792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264440" y="2286000"/>
            <a:ext cx="812880" cy="380880"/>
            <a:chOff x="7264440" y="2286000"/>
            <a:chExt cx="812880" cy="380880"/>
          </a:xfrm>
        </p:grpSpPr>
        <p:sp>
          <p:nvSpPr>
            <p:cNvPr id="2147" name=""/>
            <p:cNvSpPr/>
            <p:nvPr/>
          </p:nvSpPr>
          <p:spPr>
            <a:xfrm flipH="1">
              <a:off x="7264440" y="2286000"/>
              <a:ext cx="812880" cy="380880"/>
            </a:xfrm>
            <a:prstGeom prst="roundRect">
              <a:avLst>
                <a:gd name="adj" fmla="val 9977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7264440" y="2286000"/>
              <a:ext cx="812880" cy="38088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>
              <a:off x="7488000" y="2311200"/>
              <a:ext cx="122400" cy="329760"/>
            </a:xfrm>
            <a:custGeom>
              <a:avLst/>
              <a:gdLst>
                <a:gd name="textAreaLeft" fmla="*/ 3240 w 122400"/>
                <a:gd name="textAreaRight" fmla="*/ 119160 w 122400"/>
                <a:gd name="textAreaTop" fmla="*/ 3240 h 329760"/>
                <a:gd name="textAreaBottom" fmla="*/ 326520 h 329760"/>
              </a:gdLst>
              <a:ahLst/>
              <a:rect l="textAreaLeft" t="textAreaTop" r="textAreaRight" b="textAreaBottom"/>
              <a:pathLst>
                <a:path w="21600" h="58086">
                  <a:moveTo>
                    <a:pt x="2139" y="0"/>
                  </a:moveTo>
                  <a:arcTo wR="2139" hR="2139" stAng="16200000" swAng="-5400000"/>
                  <a:lnTo>
                    <a:pt x="0" y="55947"/>
                  </a:lnTo>
                  <a:arcTo wR="2139" hR="2139" stAng="10800000" swAng="-5400000"/>
                  <a:lnTo>
                    <a:pt x="19461" y="58086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>
              <a:off x="7908120" y="2314440"/>
              <a:ext cx="109800" cy="325080"/>
            </a:xfrm>
            <a:custGeom>
              <a:avLst/>
              <a:gdLst>
                <a:gd name="textAreaLeft" fmla="*/ 2880 w 109800"/>
                <a:gd name="textAreaRight" fmla="*/ 106920 w 109800"/>
                <a:gd name="textAreaTop" fmla="*/ 2880 h 325080"/>
                <a:gd name="textAreaBottom" fmla="*/ 322200 h 325080"/>
              </a:gdLst>
              <a:ahLst/>
              <a:rect l="textAreaLeft" t="textAreaTop" r="textAreaRight" b="textAreaBottom"/>
              <a:pathLst>
                <a:path w="21600" h="63812">
                  <a:moveTo>
                    <a:pt x="2143" y="0"/>
                  </a:moveTo>
                  <a:arcTo wR="2143" hR="2143" stAng="16200000" swAng="-5400000"/>
                  <a:lnTo>
                    <a:pt x="0" y="61669"/>
                  </a:lnTo>
                  <a:arcTo wR="2143" hR="2143" stAng="10800000" swAng="-5400000"/>
                  <a:lnTo>
                    <a:pt x="19457" y="63812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1" name=""/>
          <p:cNvGrpSpPr/>
          <p:nvPr/>
        </p:nvGrpSpPr>
        <p:grpSpPr>
          <a:xfrm>
            <a:off x="6345360" y="2286000"/>
            <a:ext cx="817200" cy="380520"/>
            <a:chOff x="6345360" y="2286000"/>
            <a:chExt cx="817200" cy="380520"/>
          </a:xfrm>
        </p:grpSpPr>
        <p:sp>
          <p:nvSpPr>
            <p:cNvPr id="2152" name=""/>
            <p:cNvSpPr/>
            <p:nvPr/>
          </p:nvSpPr>
          <p:spPr>
            <a:xfrm>
              <a:off x="6345360" y="2286000"/>
              <a:ext cx="817200" cy="380520"/>
            </a:xfrm>
            <a:prstGeom prst="roundRect">
              <a:avLst>
                <a:gd name="adj" fmla="val 9977"/>
              </a:avLst>
            </a:pr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345360" y="2286000"/>
              <a:ext cx="817200" cy="38052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544080" y="2312280"/>
              <a:ext cx="160200" cy="327600"/>
            </a:xfrm>
            <a:custGeom>
              <a:avLst/>
              <a:gdLst>
                <a:gd name="textAreaLeft" fmla="*/ 4320 w 160200"/>
                <a:gd name="textAreaRight" fmla="*/ 155880 w 160200"/>
                <a:gd name="textAreaTop" fmla="*/ 4320 h 327600"/>
                <a:gd name="textAreaBottom" fmla="*/ 323280 h 327600"/>
              </a:gdLst>
              <a:ahLst/>
              <a:rect l="textAreaLeft" t="textAreaTop" r="textAreaRight" b="textAreaBottom"/>
              <a:pathLst>
                <a:path w="21600" h="44120">
                  <a:moveTo>
                    <a:pt x="2143" y="0"/>
                  </a:moveTo>
                  <a:arcTo wR="2143" hR="2143" stAng="16200000" swAng="-5400000"/>
                  <a:lnTo>
                    <a:pt x="0" y="41977"/>
                  </a:lnTo>
                  <a:arcTo wR="2143" hR="2143" stAng="10800000" swAng="-5400000"/>
                  <a:lnTo>
                    <a:pt x="19457" y="44120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010280" y="2314080"/>
              <a:ext cx="114120" cy="324360"/>
            </a:xfrm>
            <a:custGeom>
              <a:avLst/>
              <a:gdLst>
                <a:gd name="textAreaLeft" fmla="*/ 3240 w 114120"/>
                <a:gd name="textAreaRight" fmla="*/ 110880 w 114120"/>
                <a:gd name="textAreaTop" fmla="*/ 3240 h 324360"/>
                <a:gd name="textAreaBottom" fmla="*/ 321120 h 324360"/>
              </a:gdLst>
              <a:ahLst/>
              <a:rect l="textAreaLeft" t="textAreaTop" r="textAreaRight" b="textAreaBottom"/>
              <a:pathLst>
                <a:path w="21600" h="61268">
                  <a:moveTo>
                    <a:pt x="2150" y="0"/>
                  </a:moveTo>
                  <a:arcTo wR="2150" hR="2150" stAng="16200000" swAng="-5400000"/>
                  <a:lnTo>
                    <a:pt x="0" y="59118"/>
                  </a:lnTo>
                  <a:arcTo wR="2150" hR="2150" stAng="10800000" swAng="-5400000"/>
                  <a:lnTo>
                    <a:pt x="19450" y="61268"/>
                  </a:lnTo>
                  <a:arcTo wR="2150" hR="2150" stAng="5400000" swAng="-5400000"/>
                  <a:lnTo>
                    <a:pt x="21600" y="2150"/>
                  </a:lnTo>
                  <a:arcTo wR="2150" hR="2150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5410080" y="2286000"/>
            <a:ext cx="838080" cy="380520"/>
            <a:chOff x="5410080" y="2286000"/>
            <a:chExt cx="838080" cy="380520"/>
          </a:xfrm>
        </p:grpSpPr>
        <p:sp>
          <p:nvSpPr>
            <p:cNvPr id="2157" name=""/>
            <p:cNvSpPr/>
            <p:nvPr/>
          </p:nvSpPr>
          <p:spPr>
            <a:xfrm flipH="1">
              <a:off x="5410080" y="2286000"/>
              <a:ext cx="838080" cy="380520"/>
            </a:xfrm>
            <a:prstGeom prst="roundRect">
              <a:avLst>
                <a:gd name="adj" fmla="val 9977"/>
              </a:avLst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>
              <a:off x="5410080" y="2286000"/>
              <a:ext cx="838080" cy="38052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5639760" y="2311560"/>
              <a:ext cx="126720" cy="329040"/>
            </a:xfrm>
            <a:custGeom>
              <a:avLst/>
              <a:gdLst>
                <a:gd name="textAreaLeft" fmla="*/ 3600 w 126720"/>
                <a:gd name="textAreaRight" fmla="*/ 123120 w 126720"/>
                <a:gd name="textAreaTop" fmla="*/ 3600 h 329040"/>
                <a:gd name="textAreaBottom" fmla="*/ 325440 h 329040"/>
              </a:gdLst>
              <a:ahLst/>
              <a:rect l="textAreaLeft" t="textAreaTop" r="textAreaRight" b="textAreaBottom"/>
              <a:pathLst>
                <a:path w="21600" h="55989">
                  <a:moveTo>
                    <a:pt x="2139" y="0"/>
                  </a:moveTo>
                  <a:arcTo wR="2139" hR="2139" stAng="16200000" swAng="-5400000"/>
                  <a:lnTo>
                    <a:pt x="0" y="53850"/>
                  </a:lnTo>
                  <a:arcTo wR="2139" hR="2139" stAng="10800000" swAng="-5400000"/>
                  <a:lnTo>
                    <a:pt x="19461" y="55989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>
              <a:off x="6074280" y="2313720"/>
              <a:ext cx="112320" cy="324720"/>
            </a:xfrm>
            <a:custGeom>
              <a:avLst/>
              <a:gdLst>
                <a:gd name="textAreaLeft" fmla="*/ 3240 w 112320"/>
                <a:gd name="textAreaRight" fmla="*/ 109080 w 112320"/>
                <a:gd name="textAreaTop" fmla="*/ 3240 h 324720"/>
                <a:gd name="textAreaBottom" fmla="*/ 321480 h 324720"/>
              </a:gdLst>
              <a:ahLst/>
              <a:rect l="textAreaLeft" t="textAreaTop" r="textAreaRight" b="textAreaBottom"/>
              <a:pathLst>
                <a:path w="21600" h="62316">
                  <a:moveTo>
                    <a:pt x="2143" y="0"/>
                  </a:moveTo>
                  <a:arcTo wR="2143" hR="2143" stAng="16200000" swAng="-5400000"/>
                  <a:lnTo>
                    <a:pt x="0" y="60173"/>
                  </a:lnTo>
                  <a:arcTo wR="2143" hR="2143" stAng="10800000" swAng="-5400000"/>
                  <a:lnTo>
                    <a:pt x="19457" y="62316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1" name=""/>
          <p:cNvGrpSpPr/>
          <p:nvPr/>
        </p:nvGrpSpPr>
        <p:grpSpPr>
          <a:xfrm>
            <a:off x="1828800" y="3124080"/>
            <a:ext cx="5028840" cy="1828440"/>
            <a:chOff x="1828800" y="3124080"/>
            <a:chExt cx="5028840" cy="1828440"/>
          </a:xfrm>
        </p:grpSpPr>
        <p:sp>
          <p:nvSpPr>
            <p:cNvPr id="2162" name=""/>
            <p:cNvSpPr/>
            <p:nvPr/>
          </p:nvSpPr>
          <p:spPr>
            <a:xfrm>
              <a:off x="1828800" y="3124080"/>
              <a:ext cx="5028840" cy="1828440"/>
            </a:xfrm>
            <a:custGeom>
              <a:avLst/>
              <a:gdLst/>
              <a:ahLst/>
              <a:rect l="l" t="t" r="r" b="b"/>
              <a:pathLst>
                <a:path w="2127" h="626">
                  <a:moveTo>
                    <a:pt x="863" y="232"/>
                  </a:moveTo>
                  <a:lnTo>
                    <a:pt x="1263" y="232"/>
                  </a:lnTo>
                  <a:lnTo>
                    <a:pt x="1279" y="243"/>
                  </a:lnTo>
                  <a:lnTo>
                    <a:pt x="1279" y="253"/>
                  </a:lnTo>
                  <a:lnTo>
                    <a:pt x="1279" y="626"/>
                  </a:lnTo>
                  <a:lnTo>
                    <a:pt x="1518" y="626"/>
                  </a:lnTo>
                  <a:lnTo>
                    <a:pt x="1518" y="271"/>
                  </a:lnTo>
                  <a:lnTo>
                    <a:pt x="1531" y="280"/>
                  </a:lnTo>
                  <a:lnTo>
                    <a:pt x="1556" y="294"/>
                  </a:lnTo>
                  <a:lnTo>
                    <a:pt x="1600" y="320"/>
                  </a:lnTo>
                  <a:lnTo>
                    <a:pt x="1600" y="490"/>
                  </a:lnTo>
                  <a:lnTo>
                    <a:pt x="1628" y="490"/>
                  </a:lnTo>
                  <a:lnTo>
                    <a:pt x="1628" y="333"/>
                  </a:lnTo>
                  <a:lnTo>
                    <a:pt x="1671" y="354"/>
                  </a:lnTo>
                  <a:lnTo>
                    <a:pt x="1722" y="378"/>
                  </a:lnTo>
                  <a:lnTo>
                    <a:pt x="1722" y="490"/>
                  </a:lnTo>
                  <a:lnTo>
                    <a:pt x="1752" y="490"/>
                  </a:lnTo>
                  <a:lnTo>
                    <a:pt x="1752" y="391"/>
                  </a:lnTo>
                  <a:lnTo>
                    <a:pt x="1793" y="408"/>
                  </a:lnTo>
                  <a:lnTo>
                    <a:pt x="1837" y="427"/>
                  </a:lnTo>
                  <a:lnTo>
                    <a:pt x="1837" y="490"/>
                  </a:lnTo>
                  <a:lnTo>
                    <a:pt x="1867" y="490"/>
                  </a:lnTo>
                  <a:lnTo>
                    <a:pt x="1867" y="437"/>
                  </a:lnTo>
                  <a:lnTo>
                    <a:pt x="1880" y="442"/>
                  </a:lnTo>
                  <a:lnTo>
                    <a:pt x="1900" y="449"/>
                  </a:lnTo>
                  <a:lnTo>
                    <a:pt x="1926" y="457"/>
                  </a:lnTo>
                  <a:lnTo>
                    <a:pt x="1954" y="465"/>
                  </a:lnTo>
                  <a:lnTo>
                    <a:pt x="1984" y="473"/>
                  </a:lnTo>
                  <a:lnTo>
                    <a:pt x="2012" y="481"/>
                  </a:lnTo>
                  <a:lnTo>
                    <a:pt x="2038" y="486"/>
                  </a:lnTo>
                  <a:lnTo>
                    <a:pt x="2050" y="489"/>
                  </a:lnTo>
                  <a:lnTo>
                    <a:pt x="2061" y="490"/>
                  </a:lnTo>
                  <a:lnTo>
                    <a:pt x="1518" y="490"/>
                  </a:lnTo>
                  <a:lnTo>
                    <a:pt x="1518" y="509"/>
                  </a:lnTo>
                  <a:lnTo>
                    <a:pt x="2127" y="509"/>
                  </a:lnTo>
                  <a:lnTo>
                    <a:pt x="2127" y="491"/>
                  </a:lnTo>
                  <a:lnTo>
                    <a:pt x="2107" y="488"/>
                  </a:lnTo>
                  <a:lnTo>
                    <a:pt x="2086" y="484"/>
                  </a:lnTo>
                  <a:lnTo>
                    <a:pt x="2066" y="480"/>
                  </a:lnTo>
                  <a:lnTo>
                    <a:pt x="2043" y="475"/>
                  </a:lnTo>
                  <a:lnTo>
                    <a:pt x="2000" y="463"/>
                  </a:lnTo>
                  <a:lnTo>
                    <a:pt x="1954" y="450"/>
                  </a:lnTo>
                  <a:lnTo>
                    <a:pt x="1905" y="435"/>
                  </a:lnTo>
                  <a:lnTo>
                    <a:pt x="1862" y="419"/>
                  </a:lnTo>
                  <a:lnTo>
                    <a:pt x="1839" y="410"/>
                  </a:lnTo>
                  <a:lnTo>
                    <a:pt x="1816" y="401"/>
                  </a:lnTo>
                  <a:lnTo>
                    <a:pt x="1773" y="383"/>
                  </a:lnTo>
                  <a:lnTo>
                    <a:pt x="1730" y="365"/>
                  </a:lnTo>
                  <a:lnTo>
                    <a:pt x="1689" y="346"/>
                  </a:lnTo>
                  <a:lnTo>
                    <a:pt x="1651" y="327"/>
                  </a:lnTo>
                  <a:lnTo>
                    <a:pt x="1612" y="308"/>
                  </a:lnTo>
                  <a:lnTo>
                    <a:pt x="1579" y="290"/>
                  </a:lnTo>
                  <a:lnTo>
                    <a:pt x="1551" y="273"/>
                  </a:lnTo>
                  <a:lnTo>
                    <a:pt x="1526" y="257"/>
                  </a:lnTo>
                  <a:lnTo>
                    <a:pt x="1505" y="243"/>
                  </a:lnTo>
                  <a:lnTo>
                    <a:pt x="1518" y="232"/>
                  </a:lnTo>
                  <a:lnTo>
                    <a:pt x="1518" y="86"/>
                  </a:lnTo>
                  <a:lnTo>
                    <a:pt x="1500" y="70"/>
                  </a:lnTo>
                  <a:lnTo>
                    <a:pt x="1480" y="86"/>
                  </a:lnTo>
                  <a:lnTo>
                    <a:pt x="1477" y="85"/>
                  </a:lnTo>
                  <a:lnTo>
                    <a:pt x="1467" y="81"/>
                  </a:lnTo>
                  <a:lnTo>
                    <a:pt x="1454" y="74"/>
                  </a:lnTo>
                  <a:lnTo>
                    <a:pt x="1439" y="64"/>
                  </a:lnTo>
                  <a:lnTo>
                    <a:pt x="1424" y="52"/>
                  </a:lnTo>
                  <a:lnTo>
                    <a:pt x="1416" y="45"/>
                  </a:lnTo>
                  <a:lnTo>
                    <a:pt x="1411" y="37"/>
                  </a:lnTo>
                  <a:lnTo>
                    <a:pt x="1406" y="29"/>
                  </a:lnTo>
                  <a:lnTo>
                    <a:pt x="1401" y="20"/>
                  </a:lnTo>
                  <a:lnTo>
                    <a:pt x="1398" y="11"/>
                  </a:lnTo>
                  <a:lnTo>
                    <a:pt x="1398" y="0"/>
                  </a:lnTo>
                  <a:lnTo>
                    <a:pt x="1398" y="11"/>
                  </a:lnTo>
                  <a:lnTo>
                    <a:pt x="1396" y="20"/>
                  </a:lnTo>
                  <a:lnTo>
                    <a:pt x="1393" y="25"/>
                  </a:lnTo>
                  <a:lnTo>
                    <a:pt x="1391" y="29"/>
                  </a:lnTo>
                  <a:lnTo>
                    <a:pt x="1386" y="37"/>
                  </a:lnTo>
                  <a:lnTo>
                    <a:pt x="1378" y="45"/>
                  </a:lnTo>
                  <a:lnTo>
                    <a:pt x="1373" y="52"/>
                  </a:lnTo>
                  <a:lnTo>
                    <a:pt x="1358" y="64"/>
                  </a:lnTo>
                  <a:lnTo>
                    <a:pt x="1342" y="74"/>
                  </a:lnTo>
                  <a:lnTo>
                    <a:pt x="1330" y="81"/>
                  </a:lnTo>
                  <a:lnTo>
                    <a:pt x="1319" y="85"/>
                  </a:lnTo>
                  <a:lnTo>
                    <a:pt x="1317" y="86"/>
                  </a:lnTo>
                  <a:lnTo>
                    <a:pt x="1297" y="70"/>
                  </a:lnTo>
                  <a:lnTo>
                    <a:pt x="1279" y="86"/>
                  </a:lnTo>
                  <a:lnTo>
                    <a:pt x="1279" y="194"/>
                  </a:lnTo>
                  <a:lnTo>
                    <a:pt x="848" y="194"/>
                  </a:lnTo>
                  <a:lnTo>
                    <a:pt x="848" y="86"/>
                  </a:lnTo>
                  <a:lnTo>
                    <a:pt x="830" y="70"/>
                  </a:lnTo>
                  <a:lnTo>
                    <a:pt x="810" y="86"/>
                  </a:lnTo>
                  <a:lnTo>
                    <a:pt x="807" y="85"/>
                  </a:lnTo>
                  <a:lnTo>
                    <a:pt x="797" y="81"/>
                  </a:lnTo>
                  <a:lnTo>
                    <a:pt x="785" y="74"/>
                  </a:lnTo>
                  <a:lnTo>
                    <a:pt x="769" y="64"/>
                  </a:lnTo>
                  <a:lnTo>
                    <a:pt x="754" y="52"/>
                  </a:lnTo>
                  <a:lnTo>
                    <a:pt x="746" y="45"/>
                  </a:lnTo>
                  <a:lnTo>
                    <a:pt x="741" y="37"/>
                  </a:lnTo>
                  <a:lnTo>
                    <a:pt x="736" y="29"/>
                  </a:lnTo>
                  <a:lnTo>
                    <a:pt x="731" y="20"/>
                  </a:lnTo>
                  <a:lnTo>
                    <a:pt x="728" y="11"/>
                  </a:lnTo>
                  <a:lnTo>
                    <a:pt x="728" y="0"/>
                  </a:lnTo>
                  <a:lnTo>
                    <a:pt x="728" y="11"/>
                  </a:lnTo>
                  <a:lnTo>
                    <a:pt x="723" y="20"/>
                  </a:lnTo>
                  <a:lnTo>
                    <a:pt x="723" y="25"/>
                  </a:lnTo>
                  <a:lnTo>
                    <a:pt x="721" y="29"/>
                  </a:lnTo>
                  <a:lnTo>
                    <a:pt x="716" y="37"/>
                  </a:lnTo>
                  <a:lnTo>
                    <a:pt x="708" y="45"/>
                  </a:lnTo>
                  <a:lnTo>
                    <a:pt x="703" y="52"/>
                  </a:lnTo>
                  <a:lnTo>
                    <a:pt x="688" y="64"/>
                  </a:lnTo>
                  <a:lnTo>
                    <a:pt x="672" y="74"/>
                  </a:lnTo>
                  <a:lnTo>
                    <a:pt x="660" y="81"/>
                  </a:lnTo>
                  <a:lnTo>
                    <a:pt x="650" y="85"/>
                  </a:lnTo>
                  <a:lnTo>
                    <a:pt x="647" y="86"/>
                  </a:lnTo>
                  <a:lnTo>
                    <a:pt x="627" y="70"/>
                  </a:lnTo>
                  <a:lnTo>
                    <a:pt x="609" y="86"/>
                  </a:lnTo>
                  <a:lnTo>
                    <a:pt x="609" y="232"/>
                  </a:lnTo>
                  <a:lnTo>
                    <a:pt x="622" y="243"/>
                  </a:lnTo>
                  <a:lnTo>
                    <a:pt x="601" y="257"/>
                  </a:lnTo>
                  <a:lnTo>
                    <a:pt x="576" y="273"/>
                  </a:lnTo>
                  <a:lnTo>
                    <a:pt x="545" y="290"/>
                  </a:lnTo>
                  <a:lnTo>
                    <a:pt x="512" y="308"/>
                  </a:lnTo>
                  <a:lnTo>
                    <a:pt x="476" y="327"/>
                  </a:lnTo>
                  <a:lnTo>
                    <a:pt x="438" y="346"/>
                  </a:lnTo>
                  <a:lnTo>
                    <a:pt x="397" y="365"/>
                  </a:lnTo>
                  <a:lnTo>
                    <a:pt x="352" y="383"/>
                  </a:lnTo>
                  <a:lnTo>
                    <a:pt x="308" y="401"/>
                  </a:lnTo>
                  <a:lnTo>
                    <a:pt x="262" y="419"/>
                  </a:lnTo>
                  <a:lnTo>
                    <a:pt x="217" y="435"/>
                  </a:lnTo>
                  <a:lnTo>
                    <a:pt x="173" y="450"/>
                  </a:lnTo>
                  <a:lnTo>
                    <a:pt x="150" y="457"/>
                  </a:lnTo>
                  <a:lnTo>
                    <a:pt x="127" y="463"/>
                  </a:lnTo>
                  <a:lnTo>
                    <a:pt x="84" y="475"/>
                  </a:lnTo>
                  <a:lnTo>
                    <a:pt x="61" y="480"/>
                  </a:lnTo>
                  <a:lnTo>
                    <a:pt x="41" y="484"/>
                  </a:lnTo>
                  <a:lnTo>
                    <a:pt x="20" y="488"/>
                  </a:lnTo>
                  <a:lnTo>
                    <a:pt x="0" y="491"/>
                  </a:lnTo>
                  <a:lnTo>
                    <a:pt x="0" y="509"/>
                  </a:lnTo>
                  <a:lnTo>
                    <a:pt x="609" y="509"/>
                  </a:lnTo>
                  <a:lnTo>
                    <a:pt x="609" y="490"/>
                  </a:lnTo>
                  <a:lnTo>
                    <a:pt x="64" y="490"/>
                  </a:lnTo>
                  <a:lnTo>
                    <a:pt x="76" y="489"/>
                  </a:lnTo>
                  <a:lnTo>
                    <a:pt x="87" y="486"/>
                  </a:lnTo>
                  <a:lnTo>
                    <a:pt x="115" y="481"/>
                  </a:lnTo>
                  <a:lnTo>
                    <a:pt x="127" y="477"/>
                  </a:lnTo>
                  <a:lnTo>
                    <a:pt x="143" y="473"/>
                  </a:lnTo>
                  <a:lnTo>
                    <a:pt x="171" y="465"/>
                  </a:lnTo>
                  <a:lnTo>
                    <a:pt x="199" y="457"/>
                  </a:lnTo>
                  <a:lnTo>
                    <a:pt x="224" y="449"/>
                  </a:lnTo>
                  <a:lnTo>
                    <a:pt x="245" y="442"/>
                  </a:lnTo>
                  <a:lnTo>
                    <a:pt x="257" y="437"/>
                  </a:lnTo>
                  <a:lnTo>
                    <a:pt x="257" y="490"/>
                  </a:lnTo>
                  <a:lnTo>
                    <a:pt x="288" y="490"/>
                  </a:lnTo>
                  <a:lnTo>
                    <a:pt x="288" y="427"/>
                  </a:lnTo>
                  <a:lnTo>
                    <a:pt x="331" y="408"/>
                  </a:lnTo>
                  <a:lnTo>
                    <a:pt x="372" y="391"/>
                  </a:lnTo>
                  <a:lnTo>
                    <a:pt x="372" y="490"/>
                  </a:lnTo>
                  <a:lnTo>
                    <a:pt x="405" y="490"/>
                  </a:lnTo>
                  <a:lnTo>
                    <a:pt x="405" y="378"/>
                  </a:lnTo>
                  <a:lnTo>
                    <a:pt x="456" y="354"/>
                  </a:lnTo>
                  <a:lnTo>
                    <a:pt x="499" y="333"/>
                  </a:lnTo>
                  <a:lnTo>
                    <a:pt x="499" y="490"/>
                  </a:lnTo>
                  <a:lnTo>
                    <a:pt x="527" y="490"/>
                  </a:lnTo>
                  <a:lnTo>
                    <a:pt x="527" y="320"/>
                  </a:lnTo>
                  <a:lnTo>
                    <a:pt x="571" y="294"/>
                  </a:lnTo>
                  <a:lnTo>
                    <a:pt x="593" y="280"/>
                  </a:lnTo>
                  <a:lnTo>
                    <a:pt x="609" y="271"/>
                  </a:lnTo>
                  <a:lnTo>
                    <a:pt x="609" y="626"/>
                  </a:lnTo>
                  <a:lnTo>
                    <a:pt x="848" y="626"/>
                  </a:lnTo>
                  <a:lnTo>
                    <a:pt x="848" y="253"/>
                  </a:lnTo>
                  <a:lnTo>
                    <a:pt x="848" y="243"/>
                  </a:lnTo>
                  <a:lnTo>
                    <a:pt x="863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833640" y="4555080"/>
              <a:ext cx="101916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852800" y="3834000"/>
              <a:ext cx="52956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039280" y="3369600"/>
              <a:ext cx="191880" cy="142920"/>
            </a:xfrm>
            <a:custGeom>
              <a:avLst/>
              <a:gdLst/>
              <a:ahLst/>
              <a:rect l="l" t="t" r="r" b="b"/>
              <a:pathLst>
                <a:path w="81" h="49">
                  <a:moveTo>
                    <a:pt x="0" y="49"/>
                  </a:moveTo>
                  <a:lnTo>
                    <a:pt x="81" y="49"/>
                  </a:lnTo>
                  <a:lnTo>
                    <a:pt x="81" y="26"/>
                  </a:lnTo>
                  <a:lnTo>
                    <a:pt x="76" y="25"/>
                  </a:lnTo>
                  <a:lnTo>
                    <a:pt x="68" y="24"/>
                  </a:lnTo>
                  <a:lnTo>
                    <a:pt x="63" y="22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45" y="11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38" y="6"/>
                  </a:lnTo>
                  <a:lnTo>
                    <a:pt x="35" y="11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094000" y="3585600"/>
              <a:ext cx="8244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9784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2070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020560" y="4406040"/>
              <a:ext cx="22248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852800" y="403848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852800" y="427500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852800" y="3912480"/>
              <a:ext cx="56484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71" y="22"/>
                  </a:moveTo>
                  <a:lnTo>
                    <a:pt x="0" y="22"/>
                  </a:lnTo>
                  <a:lnTo>
                    <a:pt x="0" y="31"/>
                  </a:lnTo>
                  <a:lnTo>
                    <a:pt x="239" y="31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852800" y="4143240"/>
              <a:ext cx="56484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71" y="22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239" y="32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299400" y="3834000"/>
              <a:ext cx="5338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455280" y="3369600"/>
              <a:ext cx="186480" cy="14292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9" y="49"/>
                  </a:moveTo>
                  <a:lnTo>
                    <a:pt x="0" y="49"/>
                  </a:lnTo>
                  <a:lnTo>
                    <a:pt x="0" y="26"/>
                  </a:lnTo>
                  <a:lnTo>
                    <a:pt x="5" y="25"/>
                  </a:lnTo>
                  <a:lnTo>
                    <a:pt x="10" y="24"/>
                  </a:lnTo>
                  <a:lnTo>
                    <a:pt x="18" y="22"/>
                  </a:lnTo>
                  <a:lnTo>
                    <a:pt x="25" y="19"/>
                  </a:lnTo>
                  <a:lnTo>
                    <a:pt x="30" y="16"/>
                  </a:lnTo>
                  <a:lnTo>
                    <a:pt x="35" y="11"/>
                  </a:lnTo>
                  <a:lnTo>
                    <a:pt x="38" y="6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46" y="11"/>
                  </a:lnTo>
                  <a:lnTo>
                    <a:pt x="51" y="16"/>
                  </a:lnTo>
                  <a:lnTo>
                    <a:pt x="56" y="19"/>
                  </a:lnTo>
                  <a:lnTo>
                    <a:pt x="63" y="22"/>
                  </a:lnTo>
                  <a:lnTo>
                    <a:pt x="69" y="24"/>
                  </a:lnTo>
                  <a:lnTo>
                    <a:pt x="76" y="25"/>
                  </a:lnTo>
                  <a:lnTo>
                    <a:pt x="79" y="26"/>
                  </a:lnTo>
                  <a:lnTo>
                    <a:pt x="79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509640" y="3585600"/>
              <a:ext cx="828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62340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89040" y="3585600"/>
              <a:ext cx="900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36560" y="4406040"/>
              <a:ext cx="22176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68800" y="403848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268800" y="427500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268800" y="3912480"/>
              <a:ext cx="56448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168" y="22"/>
                  </a:moveTo>
                  <a:lnTo>
                    <a:pt x="239" y="22"/>
                  </a:lnTo>
                  <a:lnTo>
                    <a:pt x="239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268800" y="4143240"/>
              <a:ext cx="56448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168" y="22"/>
                  </a:moveTo>
                  <a:lnTo>
                    <a:pt x="239" y="22"/>
                  </a:lnTo>
                  <a:lnTo>
                    <a:pt x="239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869280" y="3767040"/>
              <a:ext cx="952560" cy="1692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4" dur="indefinite" restart="never" nodeType="tmRoot">
          <p:childTnLst>
            <p:seq>
              <p:cTn id="1795" dur="indefinite" nodeType="mainSeq">
                <p:childTnLst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0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5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8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500"/>
                            </p:stCondLst>
                            <p:childTnLst>
                              <p:par>
                                <p:cTn id="18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2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15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23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26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9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2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7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0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500"/>
                            </p:stCondLst>
                            <p:childTnLst>
                              <p:par>
                                <p:cTn id="18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44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47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1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4" dur="5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8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1" dur="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5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8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72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75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0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Preven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necessary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d &amp; Wa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Preem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lar Wa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su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 condition cannot h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7696080" y="3505320"/>
            <a:ext cx="685800" cy="1523880"/>
            <a:chOff x="7696080" y="3505320"/>
            <a:chExt cx="685800" cy="1523880"/>
          </a:xfrm>
        </p:grpSpPr>
        <p:sp>
          <p:nvSpPr>
            <p:cNvPr id="2188" name=""/>
            <p:cNvSpPr/>
            <p:nvPr/>
          </p:nvSpPr>
          <p:spPr>
            <a:xfrm>
              <a:off x="7990920" y="4140360"/>
              <a:ext cx="97200" cy="88884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9" name=""/>
            <p:cNvGrpSpPr/>
            <p:nvPr/>
          </p:nvGrpSpPr>
          <p:grpSpPr>
            <a:xfrm>
              <a:off x="7696080" y="3505320"/>
              <a:ext cx="685800" cy="698040"/>
              <a:chOff x="7696080" y="3505320"/>
              <a:chExt cx="685800" cy="698040"/>
            </a:xfrm>
          </p:grpSpPr>
          <p:sp>
            <p:nvSpPr>
              <p:cNvPr id="2190" name=""/>
              <p:cNvSpPr/>
              <p:nvPr/>
            </p:nvSpPr>
            <p:spPr>
              <a:xfrm>
                <a:off x="7696080" y="3505320"/>
                <a:ext cx="685800" cy="6980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7820640" y="3790440"/>
                <a:ext cx="436320" cy="127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2" name=""/>
          <p:cNvGrpSpPr/>
          <p:nvPr/>
        </p:nvGrpSpPr>
        <p:grpSpPr>
          <a:xfrm>
            <a:off x="7315200" y="3886200"/>
            <a:ext cx="609480" cy="1447560"/>
            <a:chOff x="7315200" y="3886200"/>
            <a:chExt cx="609480" cy="1447560"/>
          </a:xfrm>
        </p:grpSpPr>
        <p:sp>
          <p:nvSpPr>
            <p:cNvPr id="2193" name=""/>
            <p:cNvSpPr/>
            <p:nvPr/>
          </p:nvSpPr>
          <p:spPr>
            <a:xfrm>
              <a:off x="7576200" y="4489200"/>
              <a:ext cx="86400" cy="84456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4" name=""/>
            <p:cNvGrpSpPr/>
            <p:nvPr/>
          </p:nvGrpSpPr>
          <p:grpSpPr>
            <a:xfrm>
              <a:off x="7315200" y="3886200"/>
              <a:ext cx="609480" cy="723960"/>
              <a:chOff x="7315200" y="3886200"/>
              <a:chExt cx="609480" cy="723960"/>
            </a:xfrm>
          </p:grpSpPr>
          <p:sp>
            <p:nvSpPr>
              <p:cNvPr id="2195" name=""/>
              <p:cNvSpPr/>
              <p:nvPr/>
            </p:nvSpPr>
            <p:spPr>
              <a:xfrm>
                <a:off x="7315200" y="3886200"/>
                <a:ext cx="609480" cy="723960"/>
              </a:xfrm>
              <a:prstGeom prst="rect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7453800" y="4006440"/>
                <a:ext cx="332280" cy="482400"/>
              </a:xfrm>
              <a:prstGeom prst="upArrow">
                <a:avLst>
                  <a:gd name="adj1" fmla="val 35417"/>
                  <a:gd name="adj2" fmla="val 6351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500"/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2" dur="500"/>
                                        <p:tgtEl>
                                          <p:spTgt spid="2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5" dur="500"/>
                                        <p:tgtEl>
                                          <p:spTgt spid="2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8" dur="500"/>
                                        <p:tgtEl>
                                          <p:spTgt spid="2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1" dur="500"/>
                                        <p:tgtEl>
                                          <p:spTgt spid="2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4" dur="500"/>
                                        <p:tgtEl>
                                          <p:spTgt spid="2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9" dur="500"/>
                                        <p:tgtEl>
                                          <p:spTgt spid="2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4" dur="500"/>
                                        <p:tgtEl>
                                          <p:spTgt spid="2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9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500"/>
                            </p:stCondLst>
                            <p:childTnLst>
                              <p:par>
                                <p:cTn id="19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3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able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wait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RO-files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resources are non-sharable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9" name=""/>
          <p:cNvGraphicFramePr/>
          <p:nvPr/>
        </p:nvGraphicFramePr>
        <p:xfrm>
          <a:off x="6934320" y="3200400"/>
          <a:ext cx="91440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200400"/>
                    <a:ext cx="914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1" name=""/>
          <p:cNvSpPr/>
          <p:nvPr/>
        </p:nvSpPr>
        <p:spPr>
          <a:xfrm>
            <a:off x="685800" y="4038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harable RS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arable 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 Prin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sk (Spoo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2" name=""/>
          <p:cNvGraphicFramePr/>
          <p:nvPr/>
        </p:nvGraphicFramePr>
        <p:xfrm>
          <a:off x="2057400" y="5105520"/>
          <a:ext cx="914400" cy="68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5105520"/>
                    <a:ext cx="91440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4" name=""/>
          <p:cNvSpPr/>
          <p:nvPr/>
        </p:nvSpPr>
        <p:spPr>
          <a:xfrm>
            <a:off x="3886200" y="5105520"/>
            <a:ext cx="838080" cy="68580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4038480" y="5410080"/>
            <a:ext cx="22860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4419720" y="5334120"/>
            <a:ext cx="228600" cy="22860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5880" y="4343400"/>
            <a:ext cx="2667240" cy="1676520"/>
          </a:xfrm>
          <a:prstGeom prst="irregularSeal2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way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4" dur="indefinite" restart="never" nodeType="tmRoot">
          <p:childTnLst>
            <p:seq>
              <p:cTn id="1925" dur="indefinite" nodeType="mainSeq">
                <p:childTnLst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6" dur="500"/>
                                        <p:tgtEl>
                                          <p:spTgt spid="2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9" dur="500"/>
                                        <p:tgtEl>
                                          <p:spTgt spid="2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5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0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500"/>
                            </p:stCondLst>
                            <p:childTnLst>
                              <p:par>
                                <p:cTn id="19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ld &amp; Wa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Reques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t hold 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quest everything at o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lease before Requ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4735440" y="3166920"/>
            <a:ext cx="838440" cy="76212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888080" y="3471840"/>
            <a:ext cx="5331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2" name=""/>
          <p:cNvGrpSpPr/>
          <p:nvPr/>
        </p:nvGrpSpPr>
        <p:grpSpPr>
          <a:xfrm>
            <a:off x="2971800" y="4572000"/>
            <a:ext cx="914400" cy="916560"/>
            <a:chOff x="2971800" y="4572000"/>
            <a:chExt cx="914400" cy="916560"/>
          </a:xfrm>
        </p:grpSpPr>
        <p:graphicFrame>
          <p:nvGraphicFramePr>
            <p:cNvPr id="2213" name=""/>
            <p:cNvGraphicFramePr/>
            <p:nvPr/>
          </p:nvGraphicFramePr>
          <p:xfrm>
            <a:off x="2971800" y="4572000"/>
            <a:ext cx="914400" cy="689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71800" y="4572000"/>
                      <a:ext cx="91440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5" name=""/>
            <p:cNvSpPr/>
            <p:nvPr/>
          </p:nvSpPr>
          <p:spPr>
            <a:xfrm>
              <a:off x="3000600" y="5089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1066680" y="3397320"/>
            <a:ext cx="990720" cy="1008360"/>
            <a:chOff x="1066680" y="3397320"/>
            <a:chExt cx="990720" cy="1008360"/>
          </a:xfrm>
        </p:grpSpPr>
        <p:grpSp>
          <p:nvGrpSpPr>
            <p:cNvPr id="2217" name=""/>
            <p:cNvGrpSpPr/>
            <p:nvPr/>
          </p:nvGrpSpPr>
          <p:grpSpPr>
            <a:xfrm>
              <a:off x="1066680" y="3397320"/>
              <a:ext cx="990720" cy="533160"/>
              <a:chOff x="1066680" y="3397320"/>
              <a:chExt cx="990720" cy="533160"/>
            </a:xfrm>
          </p:grpSpPr>
          <p:sp>
            <p:nvSpPr>
              <p:cNvPr id="2218" name=""/>
              <p:cNvSpPr/>
              <p:nvPr/>
            </p:nvSpPr>
            <p:spPr>
              <a:xfrm>
                <a:off x="1066680" y="3397320"/>
                <a:ext cx="990720" cy="53316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9" name=""/>
              <p:cNvGrpSpPr/>
              <p:nvPr/>
            </p:nvGrpSpPr>
            <p:grpSpPr>
              <a:xfrm>
                <a:off x="1184760" y="3479040"/>
                <a:ext cx="754560" cy="245880"/>
                <a:chOff x="1184760" y="3479040"/>
                <a:chExt cx="754560" cy="245880"/>
              </a:xfrm>
            </p:grpSpPr>
            <p:sp>
              <p:nvSpPr>
                <p:cNvPr id="2220" name=""/>
                <p:cNvSpPr/>
                <p:nvPr/>
              </p:nvSpPr>
              <p:spPr>
                <a:xfrm>
                  <a:off x="1184760" y="3479040"/>
                  <a:ext cx="282960" cy="24588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1656360" y="3479040"/>
                  <a:ext cx="282960" cy="24588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2" name=""/>
              <p:cNvSpPr/>
              <p:nvPr/>
            </p:nvSpPr>
            <p:spPr>
              <a:xfrm>
                <a:off x="1349640" y="3766320"/>
                <a:ext cx="424440" cy="122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221840" y="3684240"/>
                <a:ext cx="141480" cy="12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H="1">
                <a:off x="1760400" y="3684240"/>
                <a:ext cx="141480" cy="12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5" name=""/>
            <p:cNvSpPr/>
            <p:nvPr/>
          </p:nvSpPr>
          <p:spPr>
            <a:xfrm>
              <a:off x="1220760" y="4006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6" name=""/>
          <p:cNvSpPr/>
          <p:nvPr/>
        </p:nvSpPr>
        <p:spPr>
          <a:xfrm>
            <a:off x="2895480" y="3276720"/>
            <a:ext cx="1067040" cy="7617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7" name=""/>
          <p:cNvCxnSpPr>
            <a:stCxn id="2218" idx="3"/>
            <a:endCxn id="2226" idx="2"/>
          </p:cNvCxnSpPr>
          <p:nvPr/>
        </p:nvCxnSpPr>
        <p:spPr>
          <a:xfrm flipV="1">
            <a:off x="2057400" y="3657240"/>
            <a:ext cx="838800" cy="72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228" name=""/>
          <p:cNvCxnSpPr>
            <a:stCxn id="2226" idx="6"/>
            <a:endCxn id="2211" idx="1"/>
          </p:cNvCxnSpPr>
          <p:nvPr/>
        </p:nvCxnSpPr>
        <p:spPr>
          <a:xfrm>
            <a:off x="3962160" y="3657240"/>
            <a:ext cx="926280" cy="54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29" name=""/>
          <p:cNvCxnSpPr>
            <a:stCxn id="2226" idx="4"/>
          </p:cNvCxnSpPr>
          <p:nvPr/>
        </p:nvCxnSpPr>
        <p:spPr>
          <a:xfrm>
            <a:off x="3428640" y="4038480"/>
            <a:ext cx="1080" cy="5342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230" name=""/>
          <p:cNvSpPr/>
          <p:nvPr/>
        </p:nvSpPr>
        <p:spPr>
          <a:xfrm>
            <a:off x="5824800" y="3429000"/>
            <a:ext cx="27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, F, P)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2210040" y="32608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4191120" y="3276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2971800" y="40384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840640" y="4162320"/>
            <a:ext cx="249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, F)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, 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F, P)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1064880" y="5410080"/>
            <a:ext cx="518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U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Utilization may be Lo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vation Possi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3" dur="500"/>
                                        <p:tgtEl>
                                          <p:spTgt spid="2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500"/>
                                        <p:tgtEl>
                                          <p:spTgt spid="2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3" dur="500"/>
                                        <p:tgtEl>
                                          <p:spTgt spid="2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88" dur="5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8" dur="5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2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6" dur="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0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500"/>
                            </p:stCondLst>
                            <p:childTnLst>
                              <p:par>
                                <p:cTn id="20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0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4" dur="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4" dur="500"/>
                                        <p:tgtEl>
                                          <p:spTgt spid="2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9" dur="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1828800"/>
            <a:ext cx="6858000" cy="4038480"/>
          </a:xfrm>
          <a:prstGeom prst="ellipse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2590920"/>
            <a:ext cx="3809880" cy="28191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us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2514600"/>
            <a:ext cx="2286000" cy="2514600"/>
          </a:xfrm>
          <a:prstGeom prst="ellipse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p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su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unlimi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3200400"/>
            <a:ext cx="1828800" cy="1676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2680" y="3200400"/>
            <a:ext cx="1752840" cy="1676520"/>
          </a:xfrm>
          <a:prstGeom prst="ellipse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5181480"/>
            <a:ext cx="4343400" cy="703800"/>
          </a:xfrm>
          <a:prstGeom prst="borderCallout1">
            <a:avLst>
              <a:gd name="adj1" fmla="val 18750"/>
              <a:gd name="adj2" fmla="val -8333"/>
              <a:gd name="adj3" fmla="val -87268"/>
              <a:gd name="adj4" fmla="val -459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, RAM, Printer, Tape Unit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W-file, Semaphore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5334120"/>
            <a:ext cx="1676520" cy="703800"/>
          </a:xfrm>
          <a:prstGeom prst="borderCallout1">
            <a:avLst>
              <a:gd name="adj1" fmla="val 18750"/>
              <a:gd name="adj2" fmla="val -8333"/>
              <a:gd name="adj3" fmla="val -119884"/>
              <a:gd name="adj4" fmla="val 129236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-file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1752480"/>
            <a:ext cx="2314440" cy="703800"/>
          </a:xfrm>
          <a:prstGeom prst="borderCallout1">
            <a:avLst>
              <a:gd name="adj1" fmla="val 18750"/>
              <a:gd name="adj2" fmla="val -8333"/>
              <a:gd name="adj3" fmla="val 151837"/>
              <a:gd name="adj4" fmla="val -1275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, Msg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Preem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may preempt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from processes waiting for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empt + Increase requ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f resource´s state can be saved + resto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 (registers, …), RAM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6019920" y="4419720"/>
            <a:ext cx="2666880" cy="1676160"/>
          </a:xfrm>
          <a:prstGeom prst="irregularSeal2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way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1905120" y="4343400"/>
            <a:ext cx="1676160" cy="762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2971800" y="4724280"/>
            <a:ext cx="457200" cy="304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4724280" y="4267080"/>
            <a:ext cx="1143000" cy="838440"/>
          </a:xfrm>
          <a:prstGeom prst="can">
            <a:avLst>
              <a:gd name="adj" fmla="val 25000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5029200" y="4648320"/>
            <a:ext cx="457200" cy="304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1295280" y="551484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>
              <a:lnSpc>
                <a:spcPct val="8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er ??? Tape Unit 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048120" y="4419720"/>
            <a:ext cx="2514600" cy="380880"/>
          </a:xfrm>
          <a:custGeom>
            <a:avLst/>
            <a:gdLst>
              <a:gd name="textAreaLeft" fmla="*/ 491040 w 2514600"/>
              <a:gd name="textAreaRight" fmla="*/ 1772280 w 2514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36" hR="21600" stAng="10800000" swAng="5400000"/>
                <a:lnTo>
                  <a:pt x="11004" y="0"/>
                </a:lnTo>
                <a:arcTo wR="8436" hR="21600" stAng="-5400000" swAng="2870807"/>
                <a:lnTo>
                  <a:pt x="21118" y="14400"/>
                </a:lnTo>
                <a:lnTo>
                  <a:pt x="18156" y="21600"/>
                </a:lnTo>
                <a:lnTo>
                  <a:pt x="14230" y="14400"/>
                </a:lnTo>
                <a:lnTo>
                  <a:pt x="16390" y="14400"/>
                </a:lnTo>
                <a:arcTo wR="8436" hR="21600" stAng="-2529193" swAng="-2664292"/>
                <a:lnTo>
                  <a:pt x="9720" y="252"/>
                </a:lnTo>
                <a:arcTo wR="8436" hR="21600" stAng="-5606515" swAng="-5193485"/>
                <a:close/>
              </a:path>
              <a:path fill="darkenLess" w="21600" h="21600">
                <a:moveTo>
                  <a:pt x="0" y="21600"/>
                </a:moveTo>
                <a:arcTo wR="8436" hR="21600" stAng="10800000" swAng="5400000"/>
                <a:lnTo>
                  <a:pt x="8436" y="0"/>
                </a:lnTo>
                <a:arcTo wR="8436" hR="21600" stAng="-5400000" swAng="206515"/>
                <a:lnTo>
                  <a:pt x="9720" y="252"/>
                </a:lnTo>
                <a:arcTo wR="8436" hR="21600" stAng="-5606515" swAng="-5193485"/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 flipH="1" flipV="1">
            <a:off x="2818800" y="4952160"/>
            <a:ext cx="2514600" cy="381240"/>
          </a:xfrm>
          <a:custGeom>
            <a:avLst/>
            <a:gdLst>
              <a:gd name="textAreaLeft" fmla="*/ 491040 w 2514600"/>
              <a:gd name="textAreaRight" fmla="*/ 1772280 w 25146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36" hR="21600" stAng="10800000" swAng="5400000"/>
                <a:lnTo>
                  <a:pt x="11004" y="0"/>
                </a:lnTo>
                <a:arcTo wR="8436" hR="21600" stAng="-5400000" swAng="2870807"/>
                <a:lnTo>
                  <a:pt x="21118" y="14400"/>
                </a:lnTo>
                <a:lnTo>
                  <a:pt x="18156" y="21600"/>
                </a:lnTo>
                <a:lnTo>
                  <a:pt x="14230" y="14400"/>
                </a:lnTo>
                <a:lnTo>
                  <a:pt x="16390" y="14400"/>
                </a:lnTo>
                <a:arcTo wR="8436" hR="21600" stAng="-2529193" swAng="-2664292"/>
                <a:lnTo>
                  <a:pt x="9720" y="252"/>
                </a:lnTo>
                <a:arcTo wR="8436" hR="21600" stAng="-5606515" swAng="-5193485"/>
                <a:close/>
              </a:path>
              <a:path fill="darkenLess" w="21600" h="21600">
                <a:moveTo>
                  <a:pt x="0" y="21600"/>
                </a:moveTo>
                <a:arcTo wR="8436" hR="21600" stAng="10800000" swAng="5400000"/>
                <a:lnTo>
                  <a:pt x="8436" y="0"/>
                </a:lnTo>
                <a:arcTo wR="8436" hR="21600" stAng="-5400000" swAng="206515"/>
                <a:lnTo>
                  <a:pt x="9720" y="252"/>
                </a:lnTo>
                <a:arcTo wR="8436" hR="21600" stAng="-5606515" swAng="-5193485"/>
                <a:close/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0" dur="indefinite" restart="never" nodeType="tmRoot">
          <p:childTnLst>
            <p:seq>
              <p:cTn id="2051" dur="indefinite" nodeType="mainSeq">
                <p:childTnLst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6" dur="500"/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1" dur="500"/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4" dur="500"/>
                                        <p:tgtEl>
                                          <p:spTgt spid="2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9" dur="500"/>
                                        <p:tgtEl>
                                          <p:spTgt spid="2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2" dur="500"/>
                                        <p:tgtEl>
                                          <p:spTgt spid="2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7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500"/>
                            </p:stCondLst>
                            <p:childTnLst>
                              <p:par>
                                <p:cTn id="2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7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2" dur="5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500"/>
                            </p:stCondLst>
                            <p:childTnLst>
                              <p:par>
                                <p:cTn id="20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2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6" name=""/>
          <p:cNvGrpSpPr/>
          <p:nvPr/>
        </p:nvGrpSpPr>
        <p:grpSpPr>
          <a:xfrm>
            <a:off x="5029200" y="2819520"/>
            <a:ext cx="3657600" cy="3391560"/>
            <a:chOff x="5029200" y="2819520"/>
            <a:chExt cx="3657600" cy="3391560"/>
          </a:xfrm>
        </p:grpSpPr>
        <p:sp>
          <p:nvSpPr>
            <p:cNvPr id="2247" name=""/>
            <p:cNvSpPr/>
            <p:nvPr/>
          </p:nvSpPr>
          <p:spPr>
            <a:xfrm>
              <a:off x="6019920" y="430056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8" name=""/>
            <p:cNvGrpSpPr/>
            <p:nvPr/>
          </p:nvGrpSpPr>
          <p:grpSpPr>
            <a:xfrm>
              <a:off x="7761240" y="4300560"/>
              <a:ext cx="925560" cy="609480"/>
              <a:chOff x="7761240" y="4300560"/>
              <a:chExt cx="925560" cy="609480"/>
            </a:xfrm>
          </p:grpSpPr>
          <p:sp>
            <p:nvSpPr>
              <p:cNvPr id="2249" name=""/>
              <p:cNvSpPr/>
              <p:nvPr/>
            </p:nvSpPr>
            <p:spPr>
              <a:xfrm>
                <a:off x="7761240" y="4300560"/>
                <a:ext cx="685800" cy="6094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250" name=""/>
              <p:cNvGraphicFramePr/>
              <p:nvPr/>
            </p:nvGraphicFramePr>
            <p:xfrm>
              <a:off x="8305920" y="4533480"/>
              <a:ext cx="380880" cy="37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25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305920" y="4533480"/>
                        <a:ext cx="380880" cy="37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252" name=""/>
            <p:cNvGrpSpPr/>
            <p:nvPr/>
          </p:nvGrpSpPr>
          <p:grpSpPr>
            <a:xfrm>
              <a:off x="6858000" y="5138640"/>
              <a:ext cx="761760" cy="1072440"/>
              <a:chOff x="6858000" y="5138640"/>
              <a:chExt cx="761760" cy="1072440"/>
            </a:xfrm>
          </p:grpSpPr>
          <p:grpSp>
            <p:nvGrpSpPr>
              <p:cNvPr id="2253" name=""/>
              <p:cNvGrpSpPr/>
              <p:nvPr/>
            </p:nvGrpSpPr>
            <p:grpSpPr>
              <a:xfrm>
                <a:off x="6858000" y="5138640"/>
                <a:ext cx="761760" cy="1072440"/>
                <a:chOff x="6858000" y="5138640"/>
                <a:chExt cx="761760" cy="1072440"/>
              </a:xfrm>
            </p:grpSpPr>
            <p:sp>
              <p:nvSpPr>
                <p:cNvPr id="2254" name=""/>
                <p:cNvSpPr/>
                <p:nvPr/>
              </p:nvSpPr>
              <p:spPr>
                <a:xfrm>
                  <a:off x="6858000" y="5138640"/>
                  <a:ext cx="761760" cy="609840"/>
                </a:xfrm>
                <a:prstGeom prst="rect">
                  <a:avLst/>
                </a:prstGeom>
                <a:solidFill>
                  <a:srgbClr val="cecece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7013520" y="577044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6" name=""/>
              <p:cNvSpPr/>
              <p:nvPr/>
            </p:nvSpPr>
            <p:spPr>
              <a:xfrm>
                <a:off x="7162560" y="53672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57" name=""/>
            <p:cNvCxnSpPr>
              <a:stCxn id="2249" idx="3"/>
              <a:endCxn id="2254" idx="0"/>
            </p:cNvCxnSpPr>
            <p:nvPr/>
          </p:nvCxnSpPr>
          <p:spPr>
            <a:xfrm flipH="1">
              <a:off x="7238160" y="4820760"/>
              <a:ext cx="623160" cy="29916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grpSp>
          <p:nvGrpSpPr>
            <p:cNvPr id="2258" name=""/>
            <p:cNvGrpSpPr/>
            <p:nvPr/>
          </p:nvGrpSpPr>
          <p:grpSpPr>
            <a:xfrm>
              <a:off x="5029200" y="3141720"/>
              <a:ext cx="762120" cy="1311120"/>
              <a:chOff x="5029200" y="3141720"/>
              <a:chExt cx="762120" cy="1311120"/>
            </a:xfrm>
          </p:grpSpPr>
          <p:grpSp>
            <p:nvGrpSpPr>
              <p:cNvPr id="2259" name=""/>
              <p:cNvGrpSpPr/>
              <p:nvPr/>
            </p:nvGrpSpPr>
            <p:grpSpPr>
              <a:xfrm>
                <a:off x="5029200" y="3141720"/>
                <a:ext cx="762120" cy="1311120"/>
                <a:chOff x="5029200" y="3141720"/>
                <a:chExt cx="762120" cy="1311120"/>
              </a:xfrm>
            </p:grpSpPr>
            <p:sp>
              <p:nvSpPr>
                <p:cNvPr id="2260" name=""/>
                <p:cNvSpPr/>
                <p:nvPr/>
              </p:nvSpPr>
              <p:spPr>
                <a:xfrm>
                  <a:off x="5029200" y="3538440"/>
                  <a:ext cx="762120" cy="914400"/>
                </a:xfrm>
                <a:prstGeom prst="rect">
                  <a:avLst/>
                </a:prstGeom>
                <a:solidFill>
                  <a:srgbClr val="cecece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5184720" y="314172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2" name=""/>
              <p:cNvGrpSpPr/>
              <p:nvPr/>
            </p:nvGrpSpPr>
            <p:grpSpPr>
              <a:xfrm>
                <a:off x="5334120" y="3729240"/>
                <a:ext cx="152280" cy="533160"/>
                <a:chOff x="5334120" y="3729240"/>
                <a:chExt cx="152280" cy="533160"/>
              </a:xfrm>
            </p:grpSpPr>
            <p:sp>
              <p:nvSpPr>
                <p:cNvPr id="2263" name=""/>
                <p:cNvSpPr/>
                <p:nvPr/>
              </p:nvSpPr>
              <p:spPr>
                <a:xfrm>
                  <a:off x="5334120" y="372924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5334120" y="411012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65" name=""/>
            <p:cNvGrpSpPr/>
            <p:nvPr/>
          </p:nvGrpSpPr>
          <p:grpSpPr>
            <a:xfrm>
              <a:off x="6846840" y="3081240"/>
              <a:ext cx="762120" cy="990720"/>
              <a:chOff x="6846840" y="3081240"/>
              <a:chExt cx="762120" cy="990720"/>
            </a:xfrm>
          </p:grpSpPr>
          <p:sp>
            <p:nvSpPr>
              <p:cNvPr id="2266" name=""/>
              <p:cNvSpPr/>
              <p:nvPr/>
            </p:nvSpPr>
            <p:spPr>
              <a:xfrm>
                <a:off x="6846840" y="3462120"/>
                <a:ext cx="76212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002360" y="308124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151760" y="369072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69" name=""/>
            <p:cNvCxnSpPr>
              <a:stCxn id="2268" idx="5"/>
              <a:endCxn id="2270" idx="3"/>
            </p:cNvCxnSpPr>
            <p:nvPr/>
          </p:nvCxnSpPr>
          <p:spPr>
            <a:xfrm flipV="1">
              <a:off x="7281720" y="3339720"/>
              <a:ext cx="667440" cy="48168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sp>
          <p:nvSpPr>
            <p:cNvPr id="2270" name=""/>
            <p:cNvSpPr/>
            <p:nvPr/>
          </p:nvSpPr>
          <p:spPr>
            <a:xfrm>
              <a:off x="7848720" y="281952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71" name=""/>
            <p:cNvCxnSpPr>
              <a:stCxn id="2256" idx="1"/>
              <a:endCxn id="2247" idx="5"/>
            </p:cNvCxnSpPr>
            <p:nvPr/>
          </p:nvCxnSpPr>
          <p:spPr>
            <a:xfrm flipH="1" flipV="1">
              <a:off x="6604920" y="4820760"/>
              <a:ext cx="579960" cy="56880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cxnSp>
          <p:nvCxnSpPr>
            <p:cNvPr id="2272" name=""/>
            <p:cNvCxnSpPr>
              <a:stCxn id="2264" idx="6"/>
              <a:endCxn id="2247" idx="2"/>
            </p:cNvCxnSpPr>
            <p:nvPr/>
          </p:nvCxnSpPr>
          <p:spPr>
            <a:xfrm>
              <a:off x="5486400" y="4185720"/>
              <a:ext cx="534240" cy="42012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</p:grpSp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Preem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C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+ Not Available:  Preempt Allocated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5" name=""/>
          <p:cNvGrpSpPr/>
          <p:nvPr/>
        </p:nvGrpSpPr>
        <p:grpSpPr>
          <a:xfrm>
            <a:off x="2732040" y="3124080"/>
            <a:ext cx="762120" cy="990720"/>
            <a:chOff x="2732040" y="3124080"/>
            <a:chExt cx="762120" cy="990720"/>
          </a:xfrm>
        </p:grpSpPr>
        <p:sp>
          <p:nvSpPr>
            <p:cNvPr id="2276" name=""/>
            <p:cNvSpPr/>
            <p:nvPr/>
          </p:nvSpPr>
          <p:spPr>
            <a:xfrm>
              <a:off x="2732040" y="35049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887560" y="31240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036960" y="3733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9" name=""/>
          <p:cNvSpPr/>
          <p:nvPr/>
        </p:nvSpPr>
        <p:spPr>
          <a:xfrm>
            <a:off x="1969920" y="43434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0" name=""/>
          <p:cNvGrpSpPr/>
          <p:nvPr/>
        </p:nvGrpSpPr>
        <p:grpSpPr>
          <a:xfrm>
            <a:off x="3646440" y="4343400"/>
            <a:ext cx="925560" cy="609480"/>
            <a:chOff x="3646440" y="4343400"/>
            <a:chExt cx="925560" cy="609480"/>
          </a:xfrm>
        </p:grpSpPr>
        <p:sp>
          <p:nvSpPr>
            <p:cNvPr id="2281" name=""/>
            <p:cNvSpPr/>
            <p:nvPr/>
          </p:nvSpPr>
          <p:spPr>
            <a:xfrm>
              <a:off x="3646440" y="434340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82" name=""/>
            <p:cNvGraphicFramePr/>
            <p:nvPr/>
          </p:nvGraphicFramePr>
          <p:xfrm>
            <a:off x="4191120" y="4576320"/>
            <a:ext cx="380880" cy="37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91120" y="457632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84" name=""/>
          <p:cNvGrpSpPr/>
          <p:nvPr/>
        </p:nvGrpSpPr>
        <p:grpSpPr>
          <a:xfrm>
            <a:off x="2735280" y="5153040"/>
            <a:ext cx="761760" cy="1072080"/>
            <a:chOff x="2735280" y="5153040"/>
            <a:chExt cx="761760" cy="1072080"/>
          </a:xfrm>
        </p:grpSpPr>
        <p:grpSp>
          <p:nvGrpSpPr>
            <p:cNvPr id="2285" name=""/>
            <p:cNvGrpSpPr/>
            <p:nvPr/>
          </p:nvGrpSpPr>
          <p:grpSpPr>
            <a:xfrm>
              <a:off x="2735280" y="5153040"/>
              <a:ext cx="761760" cy="1072080"/>
              <a:chOff x="2735280" y="5153040"/>
              <a:chExt cx="761760" cy="1072080"/>
            </a:xfrm>
          </p:grpSpPr>
          <p:sp>
            <p:nvSpPr>
              <p:cNvPr id="2286" name=""/>
              <p:cNvSpPr/>
              <p:nvPr/>
            </p:nvSpPr>
            <p:spPr>
              <a:xfrm>
                <a:off x="2735280" y="5153040"/>
                <a:ext cx="76176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2890800" y="578448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8" name=""/>
            <p:cNvSpPr/>
            <p:nvPr/>
          </p:nvSpPr>
          <p:spPr>
            <a:xfrm>
              <a:off x="3039840" y="53812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89" name=""/>
          <p:cNvCxnSpPr>
            <a:stCxn id="2281" idx="3"/>
            <a:endCxn id="2286" idx="0"/>
          </p:cNvCxnSpPr>
          <p:nvPr/>
        </p:nvCxnSpPr>
        <p:spPr>
          <a:xfrm flipH="1">
            <a:off x="3115440" y="4863960"/>
            <a:ext cx="631080" cy="2707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290" name=""/>
          <p:cNvCxnSpPr>
            <a:stCxn id="2278" idx="7"/>
            <a:endCxn id="2291" idx="3"/>
          </p:cNvCxnSpPr>
          <p:nvPr/>
        </p:nvCxnSpPr>
        <p:spPr>
          <a:xfrm flipV="1">
            <a:off x="3166920" y="3339360"/>
            <a:ext cx="667440" cy="4165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2292" name=""/>
          <p:cNvCxnSpPr>
            <a:stCxn id="2288" idx="1"/>
            <a:endCxn id="2279" idx="5"/>
          </p:cNvCxnSpPr>
          <p:nvPr/>
        </p:nvCxnSpPr>
        <p:spPr>
          <a:xfrm flipH="1" flipV="1">
            <a:off x="2555640" y="4863600"/>
            <a:ext cx="506880" cy="5407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2293" name=""/>
          <p:cNvSpPr/>
          <p:nvPr/>
        </p:nvSpPr>
        <p:spPr>
          <a:xfrm>
            <a:off x="2198520" y="35053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4" name=""/>
          <p:cNvGrpSpPr/>
          <p:nvPr/>
        </p:nvGrpSpPr>
        <p:grpSpPr>
          <a:xfrm>
            <a:off x="914400" y="3184560"/>
            <a:ext cx="762120" cy="1311120"/>
            <a:chOff x="914400" y="3184560"/>
            <a:chExt cx="762120" cy="1311120"/>
          </a:xfrm>
        </p:grpSpPr>
        <p:grpSp>
          <p:nvGrpSpPr>
            <p:cNvPr id="2295" name=""/>
            <p:cNvGrpSpPr/>
            <p:nvPr/>
          </p:nvGrpSpPr>
          <p:grpSpPr>
            <a:xfrm>
              <a:off x="914400" y="3184560"/>
              <a:ext cx="762120" cy="1311120"/>
              <a:chOff x="914400" y="3184560"/>
              <a:chExt cx="762120" cy="1311120"/>
            </a:xfrm>
          </p:grpSpPr>
          <p:sp>
            <p:nvSpPr>
              <p:cNvPr id="2296" name=""/>
              <p:cNvSpPr/>
              <p:nvPr/>
            </p:nvSpPr>
            <p:spPr>
              <a:xfrm>
                <a:off x="914400" y="3581280"/>
                <a:ext cx="762120" cy="91440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1069920" y="318456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8" name=""/>
            <p:cNvGrpSpPr/>
            <p:nvPr/>
          </p:nvGrpSpPr>
          <p:grpSpPr>
            <a:xfrm>
              <a:off x="1219320" y="3772080"/>
              <a:ext cx="152280" cy="533160"/>
              <a:chOff x="1219320" y="3772080"/>
              <a:chExt cx="152280" cy="533160"/>
            </a:xfrm>
          </p:grpSpPr>
          <p:sp>
            <p:nvSpPr>
              <p:cNvPr id="2299" name=""/>
              <p:cNvSpPr/>
              <p:nvPr/>
            </p:nvSpPr>
            <p:spPr>
              <a:xfrm>
                <a:off x="1219320" y="3772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1219320" y="41529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301" name=""/>
          <p:cNvCxnSpPr>
            <a:stCxn id="2300" idx="5"/>
            <a:endCxn id="2279" idx="2"/>
          </p:cNvCxnSpPr>
          <p:nvPr/>
        </p:nvCxnSpPr>
        <p:spPr>
          <a:xfrm>
            <a:off x="1349280" y="4282560"/>
            <a:ext cx="621000" cy="3661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2302" name=""/>
          <p:cNvGrpSpPr/>
          <p:nvPr/>
        </p:nvGrpSpPr>
        <p:grpSpPr>
          <a:xfrm>
            <a:off x="1219320" y="4419720"/>
            <a:ext cx="1222200" cy="1465560"/>
            <a:chOff x="1219320" y="4419720"/>
            <a:chExt cx="1222200" cy="1465560"/>
          </a:xfrm>
        </p:grpSpPr>
        <p:sp>
          <p:nvSpPr>
            <p:cNvPr id="2303" name=""/>
            <p:cNvSpPr/>
            <p:nvPr/>
          </p:nvSpPr>
          <p:spPr>
            <a:xfrm>
              <a:off x="1219320" y="5486400"/>
              <a:ext cx="1222200" cy="39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7293" y="-16672"/>
                  </a:moveTo>
                  <a:lnTo>
                    <a:pt x="22946" y="6028"/>
                  </a:lnTo>
                </a:path>
                <a:path w="21600" h="21600">
                  <a:moveTo>
                    <a:pt x="22946" y="0"/>
                  </a:moveTo>
                  <a:lnTo>
                    <a:pt x="22946" y="21600"/>
                  </a:lnTo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eem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4" name=""/>
            <p:cNvGrpSpPr/>
            <p:nvPr/>
          </p:nvGrpSpPr>
          <p:grpSpPr>
            <a:xfrm>
              <a:off x="1219320" y="4419720"/>
              <a:ext cx="1218960" cy="946080"/>
              <a:chOff x="1219320" y="4419720"/>
              <a:chExt cx="1218960" cy="946080"/>
            </a:xfrm>
          </p:grpSpPr>
          <p:sp>
            <p:nvSpPr>
              <p:cNvPr id="2305" name=""/>
              <p:cNvSpPr/>
              <p:nvPr/>
            </p:nvSpPr>
            <p:spPr>
              <a:xfrm>
                <a:off x="1219320" y="53658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H="1">
                <a:off x="1371240" y="4419720"/>
                <a:ext cx="152280" cy="9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307" name=""/>
          <p:cNvCxnSpPr>
            <a:stCxn id="2308" idx="4"/>
            <a:endCxn id="2309" idx="1"/>
          </p:cNvCxnSpPr>
          <p:nvPr/>
        </p:nvCxnSpPr>
        <p:spPr>
          <a:xfrm>
            <a:off x="6362280" y="4910040"/>
            <a:ext cx="477000" cy="53424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310" name=""/>
          <p:cNvCxnSpPr>
            <a:stCxn id="2308" idx="1"/>
            <a:endCxn id="2311" idx="3"/>
          </p:cNvCxnSpPr>
          <p:nvPr/>
        </p:nvCxnSpPr>
        <p:spPr>
          <a:xfrm flipH="1" flipV="1">
            <a:off x="5809680" y="3995280"/>
            <a:ext cx="309960" cy="39456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312" name=""/>
          <p:cNvCxnSpPr>
            <a:stCxn id="2308" idx="0"/>
          </p:cNvCxnSpPr>
          <p:nvPr/>
        </p:nvCxnSpPr>
        <p:spPr>
          <a:xfrm flipV="1">
            <a:off x="6362640" y="3766680"/>
            <a:ext cx="465840" cy="53424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313" name=""/>
          <p:cNvCxnSpPr>
            <a:endCxn id="2308" idx="2"/>
          </p:cNvCxnSpPr>
          <p:nvPr/>
        </p:nvCxnSpPr>
        <p:spPr>
          <a:xfrm>
            <a:off x="5486400" y="4185720"/>
            <a:ext cx="534240" cy="42012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4" name=""/>
          <p:cNvCxnSpPr/>
          <p:nvPr/>
        </p:nvCxnSpPr>
        <p:spPr>
          <a:xfrm flipH="1" flipV="1">
            <a:off x="6604920" y="4820760"/>
            <a:ext cx="579960" cy="56880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315" name=""/>
          <p:cNvGrpSpPr/>
          <p:nvPr/>
        </p:nvGrpSpPr>
        <p:grpSpPr>
          <a:xfrm>
            <a:off x="5029200" y="3141720"/>
            <a:ext cx="762120" cy="1311120"/>
            <a:chOff x="5029200" y="3141720"/>
            <a:chExt cx="762120" cy="1311120"/>
          </a:xfrm>
        </p:grpSpPr>
        <p:grpSp>
          <p:nvGrpSpPr>
            <p:cNvPr id="2316" name=""/>
            <p:cNvGrpSpPr/>
            <p:nvPr/>
          </p:nvGrpSpPr>
          <p:grpSpPr>
            <a:xfrm>
              <a:off x="5029200" y="3141720"/>
              <a:ext cx="762120" cy="1311120"/>
              <a:chOff x="5029200" y="3141720"/>
              <a:chExt cx="762120" cy="1311120"/>
            </a:xfrm>
          </p:grpSpPr>
          <p:sp>
            <p:nvSpPr>
              <p:cNvPr id="2311" name=""/>
              <p:cNvSpPr/>
              <p:nvPr/>
            </p:nvSpPr>
            <p:spPr>
              <a:xfrm>
                <a:off x="5029200" y="3538440"/>
                <a:ext cx="762120" cy="91440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5184720" y="31417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8" name=""/>
            <p:cNvGrpSpPr/>
            <p:nvPr/>
          </p:nvGrpSpPr>
          <p:grpSpPr>
            <a:xfrm>
              <a:off x="5334120" y="3729240"/>
              <a:ext cx="152280" cy="533160"/>
              <a:chOff x="5334120" y="3729240"/>
              <a:chExt cx="152280" cy="533160"/>
            </a:xfrm>
          </p:grpSpPr>
          <p:sp>
            <p:nvSpPr>
              <p:cNvPr id="2319" name=""/>
              <p:cNvSpPr/>
              <p:nvPr/>
            </p:nvSpPr>
            <p:spPr>
              <a:xfrm>
                <a:off x="5334120" y="3729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5334120" y="4110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1" name=""/>
          <p:cNvGrpSpPr/>
          <p:nvPr/>
        </p:nvGrpSpPr>
        <p:grpSpPr>
          <a:xfrm>
            <a:off x="6858000" y="5138640"/>
            <a:ext cx="761760" cy="1072440"/>
            <a:chOff x="6858000" y="5138640"/>
            <a:chExt cx="761760" cy="1072440"/>
          </a:xfrm>
        </p:grpSpPr>
        <p:grpSp>
          <p:nvGrpSpPr>
            <p:cNvPr id="2322" name=""/>
            <p:cNvGrpSpPr/>
            <p:nvPr/>
          </p:nvGrpSpPr>
          <p:grpSpPr>
            <a:xfrm>
              <a:off x="6858000" y="5138640"/>
              <a:ext cx="761760" cy="1072440"/>
              <a:chOff x="6858000" y="5138640"/>
              <a:chExt cx="761760" cy="1072440"/>
            </a:xfrm>
          </p:grpSpPr>
          <p:sp>
            <p:nvSpPr>
              <p:cNvPr id="2309" name=""/>
              <p:cNvSpPr/>
              <p:nvPr/>
            </p:nvSpPr>
            <p:spPr>
              <a:xfrm>
                <a:off x="6858000" y="513864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013520" y="577044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4" name=""/>
            <p:cNvSpPr/>
            <p:nvPr/>
          </p:nvSpPr>
          <p:spPr>
            <a:xfrm>
              <a:off x="7162560" y="53672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25" name=""/>
          <p:cNvCxnSpPr>
            <a:endCxn id="2309" idx="0"/>
          </p:cNvCxnSpPr>
          <p:nvPr/>
        </p:nvCxnSpPr>
        <p:spPr>
          <a:xfrm flipH="1">
            <a:off x="7238160" y="4820760"/>
            <a:ext cx="623160" cy="299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326" name=""/>
          <p:cNvGrpSpPr/>
          <p:nvPr/>
        </p:nvGrpSpPr>
        <p:grpSpPr>
          <a:xfrm>
            <a:off x="6858000" y="5143680"/>
            <a:ext cx="761760" cy="1072080"/>
            <a:chOff x="6858000" y="5143680"/>
            <a:chExt cx="761760" cy="1072080"/>
          </a:xfrm>
        </p:grpSpPr>
        <p:grpSp>
          <p:nvGrpSpPr>
            <p:cNvPr id="2327" name=""/>
            <p:cNvGrpSpPr/>
            <p:nvPr/>
          </p:nvGrpSpPr>
          <p:grpSpPr>
            <a:xfrm>
              <a:off x="6858000" y="5143680"/>
              <a:ext cx="761760" cy="1072080"/>
              <a:chOff x="6858000" y="5143680"/>
              <a:chExt cx="761760" cy="1072080"/>
            </a:xfrm>
          </p:grpSpPr>
          <p:sp>
            <p:nvSpPr>
              <p:cNvPr id="2328" name=""/>
              <p:cNvSpPr/>
              <p:nvPr/>
            </p:nvSpPr>
            <p:spPr>
              <a:xfrm>
                <a:off x="6858000" y="5143680"/>
                <a:ext cx="76176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013520" y="57751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0" name=""/>
            <p:cNvSpPr/>
            <p:nvPr/>
          </p:nvSpPr>
          <p:spPr>
            <a:xfrm>
              <a:off x="7162560" y="53719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1" name=""/>
          <p:cNvGrpSpPr/>
          <p:nvPr/>
        </p:nvGrpSpPr>
        <p:grpSpPr>
          <a:xfrm>
            <a:off x="7761240" y="4300560"/>
            <a:ext cx="849240" cy="728280"/>
            <a:chOff x="7761240" y="4300560"/>
            <a:chExt cx="849240" cy="728280"/>
          </a:xfrm>
        </p:grpSpPr>
        <p:sp>
          <p:nvSpPr>
            <p:cNvPr id="2332" name=""/>
            <p:cNvSpPr/>
            <p:nvPr/>
          </p:nvSpPr>
          <p:spPr>
            <a:xfrm>
              <a:off x="7761240" y="4300560"/>
              <a:ext cx="685800" cy="680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153280" y="4518360"/>
              <a:ext cx="457200" cy="51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34" name=""/>
          <p:cNvCxnSpPr>
            <a:stCxn id="2330" idx="6"/>
          </p:cNvCxnSpPr>
          <p:nvPr/>
        </p:nvCxnSpPr>
        <p:spPr>
          <a:xfrm flipV="1">
            <a:off x="7315200" y="4909320"/>
            <a:ext cx="789840" cy="5389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2291" name=""/>
          <p:cNvSpPr/>
          <p:nvPr/>
        </p:nvSpPr>
        <p:spPr>
          <a:xfrm>
            <a:off x="3733920" y="28195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7761240" y="42991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19920" y="4300560"/>
            <a:ext cx="925560" cy="609480"/>
            <a:chOff x="6019920" y="4300560"/>
            <a:chExt cx="925560" cy="609480"/>
          </a:xfrm>
        </p:grpSpPr>
        <p:sp>
          <p:nvSpPr>
            <p:cNvPr id="2308" name=""/>
            <p:cNvSpPr/>
            <p:nvPr/>
          </p:nvSpPr>
          <p:spPr>
            <a:xfrm>
              <a:off x="6019920" y="430056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7" name=""/>
            <p:cNvGraphicFramePr/>
            <p:nvPr/>
          </p:nvGraphicFramePr>
          <p:xfrm>
            <a:off x="6564600" y="4533480"/>
            <a:ext cx="380880" cy="37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64600" y="453348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4" dur="indefinite" restart="never" nodeType="tmRoot">
          <p:childTnLst>
            <p:seq>
              <p:cTn id="2115" dur="indefinite" nodeType="mainSeq">
                <p:childTnLst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0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4" dur="5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8" dur="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500"/>
                                        <p:tgtEl>
                                          <p:spTgt spid="2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6" dur="5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0" dur="5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4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8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2" dur="5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6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1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6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1" dur="5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0" dur="5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500"/>
                            </p:stCondLst>
                            <p:childTnLst>
                              <p:par>
                                <p:cTn id="2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1" dur="500"/>
                                        <p:tgtEl>
                                          <p:spTgt spid="2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6" fill="hold">
                            <p:stCondLst>
                              <p:cond delay="500"/>
                            </p:stCondLst>
                            <p:childTnLst>
                              <p:par>
                                <p:cTn id="2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2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3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9" name=""/>
          <p:cNvGrpSpPr/>
          <p:nvPr/>
        </p:nvGrpSpPr>
        <p:grpSpPr>
          <a:xfrm>
            <a:off x="5043600" y="3124080"/>
            <a:ext cx="2601000" cy="3101040"/>
            <a:chOff x="5043600" y="3124080"/>
            <a:chExt cx="2601000" cy="3101040"/>
          </a:xfrm>
        </p:grpSpPr>
        <p:grpSp>
          <p:nvGrpSpPr>
            <p:cNvPr id="2340" name=""/>
            <p:cNvGrpSpPr/>
            <p:nvPr/>
          </p:nvGrpSpPr>
          <p:grpSpPr>
            <a:xfrm>
              <a:off x="5805360" y="3124080"/>
              <a:ext cx="761400" cy="990720"/>
              <a:chOff x="5805360" y="3124080"/>
              <a:chExt cx="761400" cy="990720"/>
            </a:xfrm>
          </p:grpSpPr>
          <p:sp>
            <p:nvSpPr>
              <p:cNvPr id="2341" name=""/>
              <p:cNvSpPr/>
              <p:nvPr/>
            </p:nvSpPr>
            <p:spPr>
              <a:xfrm>
                <a:off x="5805360" y="3504960"/>
                <a:ext cx="76140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5960160" y="312408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6109920" y="373356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5043600" y="4343400"/>
              <a:ext cx="68544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5" name=""/>
            <p:cNvGrpSpPr/>
            <p:nvPr/>
          </p:nvGrpSpPr>
          <p:grpSpPr>
            <a:xfrm>
              <a:off x="6719760" y="4343400"/>
              <a:ext cx="924840" cy="609480"/>
              <a:chOff x="6719760" y="4343400"/>
              <a:chExt cx="924840" cy="609480"/>
            </a:xfrm>
          </p:grpSpPr>
          <p:sp>
            <p:nvSpPr>
              <p:cNvPr id="2346" name=""/>
              <p:cNvSpPr/>
              <p:nvPr/>
            </p:nvSpPr>
            <p:spPr>
              <a:xfrm>
                <a:off x="6719760" y="4343400"/>
                <a:ext cx="685440" cy="6094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347" name=""/>
              <p:cNvGraphicFramePr/>
              <p:nvPr/>
            </p:nvGraphicFramePr>
            <p:xfrm>
              <a:off x="7264080" y="4576320"/>
              <a:ext cx="380520" cy="37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4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264080" y="4576320"/>
                        <a:ext cx="380520" cy="37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349" name=""/>
            <p:cNvGrpSpPr/>
            <p:nvPr/>
          </p:nvGrpSpPr>
          <p:grpSpPr>
            <a:xfrm>
              <a:off x="5805360" y="5153040"/>
              <a:ext cx="761400" cy="1072080"/>
              <a:chOff x="5805360" y="5153040"/>
              <a:chExt cx="761400" cy="1072080"/>
            </a:xfrm>
          </p:grpSpPr>
          <p:grpSp>
            <p:nvGrpSpPr>
              <p:cNvPr id="2350" name=""/>
              <p:cNvGrpSpPr/>
              <p:nvPr/>
            </p:nvGrpSpPr>
            <p:grpSpPr>
              <a:xfrm>
                <a:off x="5805360" y="5153040"/>
                <a:ext cx="761400" cy="1072080"/>
                <a:chOff x="5805360" y="5153040"/>
                <a:chExt cx="761400" cy="1072080"/>
              </a:xfrm>
            </p:grpSpPr>
            <p:sp>
              <p:nvSpPr>
                <p:cNvPr id="2351" name=""/>
                <p:cNvSpPr/>
                <p:nvPr/>
              </p:nvSpPr>
              <p:spPr>
                <a:xfrm>
                  <a:off x="5805360" y="5153040"/>
                  <a:ext cx="761400" cy="609480"/>
                </a:xfrm>
                <a:prstGeom prst="rect">
                  <a:avLst/>
                </a:prstGeom>
                <a:solidFill>
                  <a:srgbClr val="cecece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5960160" y="578448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3" name=""/>
              <p:cNvSpPr/>
              <p:nvPr/>
            </p:nvSpPr>
            <p:spPr>
              <a:xfrm>
                <a:off x="6109560" y="53812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54" name=""/>
            <p:cNvCxnSpPr>
              <a:stCxn id="2346" idx="3"/>
              <a:endCxn id="2351" idx="0"/>
            </p:cNvCxnSpPr>
            <p:nvPr/>
          </p:nvCxnSpPr>
          <p:spPr>
            <a:xfrm flipH="1">
              <a:off x="6186240" y="4863960"/>
              <a:ext cx="633240" cy="27072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2355" name=""/>
            <p:cNvCxnSpPr>
              <a:stCxn id="2353" idx="1"/>
              <a:endCxn id="2344" idx="4"/>
            </p:cNvCxnSpPr>
            <p:nvPr/>
          </p:nvCxnSpPr>
          <p:spPr>
            <a:xfrm flipH="1" flipV="1">
              <a:off x="5385600" y="4952160"/>
              <a:ext cx="746280" cy="45180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cxnSp>
          <p:nvCxnSpPr>
            <p:cNvPr id="2356" name=""/>
            <p:cNvCxnSpPr>
              <a:stCxn id="2343" idx="5"/>
              <a:endCxn id="2346" idx="1"/>
            </p:cNvCxnSpPr>
            <p:nvPr/>
          </p:nvCxnSpPr>
          <p:spPr>
            <a:xfrm>
              <a:off x="6240240" y="3863520"/>
              <a:ext cx="579600" cy="56880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</p:grpSp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Preem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+ Not Available: Allocated to Waiting Process?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emp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9" name=""/>
          <p:cNvGrpSpPr/>
          <p:nvPr/>
        </p:nvGrpSpPr>
        <p:grpSpPr>
          <a:xfrm>
            <a:off x="1828800" y="3114720"/>
            <a:ext cx="762120" cy="990720"/>
            <a:chOff x="1828800" y="3114720"/>
            <a:chExt cx="762120" cy="990720"/>
          </a:xfrm>
        </p:grpSpPr>
        <p:sp>
          <p:nvSpPr>
            <p:cNvPr id="2360" name=""/>
            <p:cNvSpPr/>
            <p:nvPr/>
          </p:nvSpPr>
          <p:spPr>
            <a:xfrm>
              <a:off x="1828800" y="349560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1984320" y="31147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133720" y="37242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3" name=""/>
          <p:cNvSpPr/>
          <p:nvPr/>
        </p:nvSpPr>
        <p:spPr>
          <a:xfrm>
            <a:off x="1066680" y="433404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4" name=""/>
          <p:cNvGrpSpPr/>
          <p:nvPr/>
        </p:nvGrpSpPr>
        <p:grpSpPr>
          <a:xfrm>
            <a:off x="2743200" y="4334040"/>
            <a:ext cx="925560" cy="609480"/>
            <a:chOff x="2743200" y="4334040"/>
            <a:chExt cx="925560" cy="609480"/>
          </a:xfrm>
        </p:grpSpPr>
        <p:sp>
          <p:nvSpPr>
            <p:cNvPr id="2365" name=""/>
            <p:cNvSpPr/>
            <p:nvPr/>
          </p:nvSpPr>
          <p:spPr>
            <a:xfrm>
              <a:off x="2743200" y="433404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66" name=""/>
            <p:cNvGraphicFramePr/>
            <p:nvPr/>
          </p:nvGraphicFramePr>
          <p:xfrm>
            <a:off x="3287880" y="4566960"/>
            <a:ext cx="380880" cy="37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87880" y="456696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68" name=""/>
          <p:cNvGrpSpPr/>
          <p:nvPr/>
        </p:nvGrpSpPr>
        <p:grpSpPr>
          <a:xfrm>
            <a:off x="1832040" y="5143680"/>
            <a:ext cx="761760" cy="1072080"/>
            <a:chOff x="1832040" y="5143680"/>
            <a:chExt cx="761760" cy="1072080"/>
          </a:xfrm>
        </p:grpSpPr>
        <p:grpSp>
          <p:nvGrpSpPr>
            <p:cNvPr id="2369" name=""/>
            <p:cNvGrpSpPr/>
            <p:nvPr/>
          </p:nvGrpSpPr>
          <p:grpSpPr>
            <a:xfrm>
              <a:off x="1832040" y="5143680"/>
              <a:ext cx="761760" cy="1072080"/>
              <a:chOff x="1832040" y="5143680"/>
              <a:chExt cx="761760" cy="1072080"/>
            </a:xfrm>
          </p:grpSpPr>
          <p:sp>
            <p:nvSpPr>
              <p:cNvPr id="2370" name=""/>
              <p:cNvSpPr/>
              <p:nvPr/>
            </p:nvSpPr>
            <p:spPr>
              <a:xfrm>
                <a:off x="1832040" y="5143680"/>
                <a:ext cx="76176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1987560" y="57751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2" name=""/>
            <p:cNvSpPr/>
            <p:nvPr/>
          </p:nvSpPr>
          <p:spPr>
            <a:xfrm>
              <a:off x="2136600" y="53719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73" name=""/>
          <p:cNvCxnSpPr>
            <a:stCxn id="2365" idx="3"/>
            <a:endCxn id="2370" idx="0"/>
          </p:cNvCxnSpPr>
          <p:nvPr/>
        </p:nvCxnSpPr>
        <p:spPr>
          <a:xfrm flipH="1">
            <a:off x="2212200" y="4854600"/>
            <a:ext cx="631080" cy="2707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374" name=""/>
          <p:cNvCxnSpPr>
            <a:stCxn id="2362" idx="5"/>
            <a:endCxn id="2365" idx="1"/>
          </p:cNvCxnSpPr>
          <p:nvPr/>
        </p:nvCxnSpPr>
        <p:spPr>
          <a:xfrm>
            <a:off x="2263680" y="3854520"/>
            <a:ext cx="580320" cy="56880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2375" name=""/>
          <p:cNvCxnSpPr>
            <a:stCxn id="2372" idx="1"/>
            <a:endCxn id="2363" idx="4"/>
          </p:cNvCxnSpPr>
          <p:nvPr/>
        </p:nvCxnSpPr>
        <p:spPr>
          <a:xfrm flipH="1" flipV="1">
            <a:off x="1409040" y="4943160"/>
            <a:ext cx="749880" cy="451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2376" name=""/>
          <p:cNvSpPr/>
          <p:nvPr/>
        </p:nvSpPr>
        <p:spPr>
          <a:xfrm>
            <a:off x="1295280" y="3581280"/>
            <a:ext cx="685800" cy="762120"/>
          </a:xfrm>
          <a:custGeom>
            <a:avLst/>
            <a:gdLst>
              <a:gd name="textAreaLeft" fmla="*/ 0 w 685800"/>
              <a:gd name="textAreaRight" fmla="*/ 686160 w 685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971800" y="3657600"/>
            <a:ext cx="122220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58" y="22691"/>
                </a:moveTo>
                <a:lnTo>
                  <a:pt x="-1346" y="6028"/>
                </a:lnTo>
              </a:path>
              <a:path w="21600" h="21600">
                <a:moveTo>
                  <a:pt x="-1346" y="0"/>
                </a:moveTo>
                <a:lnTo>
                  <a:pt x="-1346" y="216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8" name=""/>
          <p:cNvCxnSpPr>
            <a:stCxn id="2379" idx="5"/>
          </p:cNvCxnSpPr>
          <p:nvPr/>
        </p:nvCxnSpPr>
        <p:spPr>
          <a:xfrm>
            <a:off x="6240240" y="3863520"/>
            <a:ext cx="579960" cy="56880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80" name=""/>
          <p:cNvCxnSpPr>
            <a:endCxn id="2381" idx="3"/>
          </p:cNvCxnSpPr>
          <p:nvPr/>
        </p:nvCxnSpPr>
        <p:spPr>
          <a:xfrm flipH="1" flipV="1">
            <a:off x="6586200" y="3809520"/>
            <a:ext cx="348480" cy="5464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382" name=""/>
          <p:cNvGrpSpPr/>
          <p:nvPr/>
        </p:nvGrpSpPr>
        <p:grpSpPr>
          <a:xfrm>
            <a:off x="5805360" y="3124080"/>
            <a:ext cx="762120" cy="990720"/>
            <a:chOff x="5805360" y="3124080"/>
            <a:chExt cx="762120" cy="990720"/>
          </a:xfrm>
        </p:grpSpPr>
        <p:sp>
          <p:nvSpPr>
            <p:cNvPr id="2381" name=""/>
            <p:cNvSpPr/>
            <p:nvPr/>
          </p:nvSpPr>
          <p:spPr>
            <a:xfrm>
              <a:off x="5805360" y="35049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960880" y="31240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110280" y="3733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4" name=""/>
          <p:cNvSpPr/>
          <p:nvPr/>
        </p:nvSpPr>
        <p:spPr>
          <a:xfrm flipH="1">
            <a:off x="5562360" y="3809880"/>
            <a:ext cx="609480" cy="609840"/>
          </a:xfrm>
          <a:prstGeom prst="line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0" dur="indefinite" restart="never" nodeType="tmRoot">
          <p:childTnLst>
            <p:seq>
              <p:cTn id="2221" dur="indefinite" nodeType="mainSeq">
                <p:childTnLst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6" dur="500"/>
                                        <p:tgtEl>
                                          <p:spTgt spid="2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9" dur="500"/>
                                        <p:tgtEl>
                                          <p:spTgt spid="2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2" dur="500"/>
                                        <p:tgtEl>
                                          <p:spTgt spid="2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5" dur="500"/>
                                        <p:tgtEl>
                                          <p:spTgt spid="2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0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4" dur="5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8" dur="500"/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2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6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0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4" dur="5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9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4" dur="500"/>
                                        <p:tgtEl>
                                          <p:spTgt spid="2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9" dur="5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0" dur="5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5" dur="500"/>
                                        <p:tgtEl>
                                          <p:spTgt spid="2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rcular Wa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se total order on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{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: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 :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choice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4495680" y="3124080"/>
            <a:ext cx="838440" cy="76212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8" name=""/>
          <p:cNvGraphicFramePr/>
          <p:nvPr/>
        </p:nvGraphicFramePr>
        <p:xfrm>
          <a:off x="3276720" y="3124080"/>
          <a:ext cx="91440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24080"/>
                    <a:ext cx="914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90" name=""/>
          <p:cNvGrpSpPr/>
          <p:nvPr/>
        </p:nvGrpSpPr>
        <p:grpSpPr>
          <a:xfrm>
            <a:off x="1981080" y="3124080"/>
            <a:ext cx="990720" cy="533520"/>
            <a:chOff x="1981080" y="3124080"/>
            <a:chExt cx="990720" cy="533520"/>
          </a:xfrm>
        </p:grpSpPr>
        <p:sp>
          <p:nvSpPr>
            <p:cNvPr id="2391" name=""/>
            <p:cNvSpPr/>
            <p:nvPr/>
          </p:nvSpPr>
          <p:spPr>
            <a:xfrm>
              <a:off x="1981080" y="3124080"/>
              <a:ext cx="990720" cy="5335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2" name=""/>
            <p:cNvGrpSpPr/>
            <p:nvPr/>
          </p:nvGrpSpPr>
          <p:grpSpPr>
            <a:xfrm>
              <a:off x="2099160" y="3205800"/>
              <a:ext cx="754560" cy="246240"/>
              <a:chOff x="2099160" y="3205800"/>
              <a:chExt cx="754560" cy="246240"/>
            </a:xfrm>
          </p:grpSpPr>
          <p:sp>
            <p:nvSpPr>
              <p:cNvPr id="2393" name=""/>
              <p:cNvSpPr/>
              <p:nvPr/>
            </p:nvSpPr>
            <p:spPr>
              <a:xfrm>
                <a:off x="2099160" y="3205800"/>
                <a:ext cx="28296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2570760" y="3205800"/>
                <a:ext cx="28296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5" name=""/>
            <p:cNvSpPr/>
            <p:nvPr/>
          </p:nvSpPr>
          <p:spPr>
            <a:xfrm>
              <a:off x="2264040" y="3493440"/>
              <a:ext cx="424440" cy="123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136240" y="34113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2674800" y="34113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8" name=""/>
          <p:cNvSpPr/>
          <p:nvPr/>
        </p:nvSpPr>
        <p:spPr>
          <a:xfrm>
            <a:off x="2286000" y="3733920"/>
            <a:ext cx="609480" cy="457200"/>
          </a:xfrm>
          <a:custGeom>
            <a:avLst/>
            <a:gdLst>
              <a:gd name="textAreaLeft" fmla="*/ 138960 w 609480"/>
              <a:gd name="textAreaRight" fmla="*/ 470520 w 6094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505320" y="3733920"/>
            <a:ext cx="609480" cy="457200"/>
          </a:xfrm>
          <a:custGeom>
            <a:avLst/>
            <a:gdLst>
              <a:gd name="textAreaLeft" fmla="*/ 138960 w 609480"/>
              <a:gd name="textAreaRight" fmla="*/ 470520 w 6094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4572000" y="3733920"/>
            <a:ext cx="609480" cy="457200"/>
          </a:xfrm>
          <a:custGeom>
            <a:avLst/>
            <a:gdLst>
              <a:gd name="textAreaLeft" fmla="*/ 138960 w 609480"/>
              <a:gd name="textAreaRight" fmla="*/ 470520 w 6094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85800" y="426708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resources in ascending ord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many instances of 1 type: 1 single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   Request (Tape), …, Request (Disk), …, Request (Pri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6" dur="indefinite" restart="never" nodeType="tmRoot">
          <p:childTnLst>
            <p:seq>
              <p:cTn id="2297" dur="indefinite" nodeType="mainSeq">
                <p:childTnLst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2" dur="500"/>
                                        <p:tgtEl>
                                          <p:spTgt spid="2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7" dur="500"/>
                                        <p:tgtEl>
                                          <p:spTgt spid="2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2" dur="500"/>
                                        <p:tgtEl>
                                          <p:spTgt spid="2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7" dur="500" fill="hold"/>
                                        <p:tgtEl>
                                          <p:spTgt spid="2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500" fill="hold"/>
                                        <p:tgtEl>
                                          <p:spTgt spid="2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500" fill="hold"/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500" fill="hold"/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2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2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5" dur="500" fill="hold"/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500" fill="hold"/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1" dur="500" fill="hold"/>
                                        <p:tgtEl>
                                          <p:spTgt spid="2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500" fill="hold"/>
                                        <p:tgtEl>
                                          <p:spTgt spid="2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500" fill="hold"/>
                                        <p:tgtEl>
                                          <p:spTgt spid="2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500" fill="hold"/>
                                        <p:tgtEl>
                                          <p:spTgt spid="2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3" dur="500"/>
                                        <p:tgtEl>
                                          <p:spTgt spid="2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8" dur="500"/>
                                        <p:tgtEl>
                                          <p:spTgt spid="2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3" dur="500"/>
                                        <p:tgtEl>
                                          <p:spTgt spid="2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rcular Wa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685800" y="426708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resource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f(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(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: release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ape), …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nter), …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nter)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isk), …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495680" y="3124080"/>
            <a:ext cx="838440" cy="76212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5" name=""/>
          <p:cNvGraphicFramePr/>
          <p:nvPr/>
        </p:nvGraphicFramePr>
        <p:xfrm>
          <a:off x="3276720" y="3124080"/>
          <a:ext cx="91440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24080"/>
                    <a:ext cx="914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7" name=""/>
          <p:cNvGrpSpPr/>
          <p:nvPr/>
        </p:nvGrpSpPr>
        <p:grpSpPr>
          <a:xfrm>
            <a:off x="1981080" y="3124080"/>
            <a:ext cx="990720" cy="533520"/>
            <a:chOff x="1981080" y="3124080"/>
            <a:chExt cx="990720" cy="533520"/>
          </a:xfrm>
        </p:grpSpPr>
        <p:sp>
          <p:nvSpPr>
            <p:cNvPr id="2408" name=""/>
            <p:cNvSpPr/>
            <p:nvPr/>
          </p:nvSpPr>
          <p:spPr>
            <a:xfrm>
              <a:off x="1981080" y="3124080"/>
              <a:ext cx="990720" cy="5335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9" name=""/>
            <p:cNvGrpSpPr/>
            <p:nvPr/>
          </p:nvGrpSpPr>
          <p:grpSpPr>
            <a:xfrm>
              <a:off x="2099160" y="3205800"/>
              <a:ext cx="754560" cy="246240"/>
              <a:chOff x="2099160" y="3205800"/>
              <a:chExt cx="754560" cy="246240"/>
            </a:xfrm>
          </p:grpSpPr>
          <p:sp>
            <p:nvSpPr>
              <p:cNvPr id="2410" name=""/>
              <p:cNvSpPr/>
              <p:nvPr/>
            </p:nvSpPr>
            <p:spPr>
              <a:xfrm>
                <a:off x="2099160" y="3205800"/>
                <a:ext cx="28296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2570760" y="3205800"/>
                <a:ext cx="28296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2" name=""/>
            <p:cNvSpPr/>
            <p:nvPr/>
          </p:nvSpPr>
          <p:spPr>
            <a:xfrm>
              <a:off x="2264040" y="3493440"/>
              <a:ext cx="424440" cy="123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136240" y="34113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H="1">
              <a:off x="2674800" y="34113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2286000" y="3733920"/>
            <a:ext cx="609480" cy="457200"/>
          </a:xfrm>
          <a:custGeom>
            <a:avLst/>
            <a:gdLst>
              <a:gd name="textAreaLeft" fmla="*/ 138960 w 609480"/>
              <a:gd name="textAreaRight" fmla="*/ 470520 w 6094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505320" y="3733920"/>
            <a:ext cx="609480" cy="457200"/>
          </a:xfrm>
          <a:custGeom>
            <a:avLst/>
            <a:gdLst>
              <a:gd name="textAreaLeft" fmla="*/ 138960 w 609480"/>
              <a:gd name="textAreaRight" fmla="*/ 470520 w 6094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572000" y="3733920"/>
            <a:ext cx="609480" cy="457200"/>
          </a:xfrm>
          <a:custGeom>
            <a:avLst/>
            <a:gdLst>
              <a:gd name="textAreaLeft" fmla="*/ 138960 w 609480"/>
              <a:gd name="textAreaRight" fmla="*/ 470520 w 6094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4" dur="indefinite" restart="never" nodeType="tmRoot">
          <p:childTnLst>
            <p:seq>
              <p:cTn id="2365" dur="indefinite" nodeType="mainSeq">
                <p:childTnLst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0" dur="500"/>
                                        <p:tgtEl>
                                          <p:spTgt spid="2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5" dur="500"/>
                                        <p:tgtEl>
                                          <p:spTgt spid="2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0" dur="500"/>
                                        <p:tgtEl>
                                          <p:spTgt spid="2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lar Wa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of of “No Circular Wai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 “Circular Wai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of waiting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its for resource hel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i+1) % 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1143000" y="3733920"/>
            <a:ext cx="7480440" cy="457200"/>
          </a:xfrm>
          <a:custGeom>
            <a:avLst/>
            <a:gdLst/>
            <a:ahLst/>
            <a:rect l="l" t="t" r="r" b="b"/>
            <a:pathLst>
              <a:path w="4712" h="432">
                <a:moveTo>
                  <a:pt x="4440" y="24"/>
                </a:moveTo>
                <a:cubicBezTo>
                  <a:pt x="4492" y="12"/>
                  <a:pt x="4544" y="0"/>
                  <a:pt x="4584" y="24"/>
                </a:cubicBezTo>
                <a:cubicBezTo>
                  <a:pt x="4624" y="48"/>
                  <a:pt x="4688" y="112"/>
                  <a:pt x="4680" y="168"/>
                </a:cubicBezTo>
                <a:cubicBezTo>
                  <a:pt x="4672" y="224"/>
                  <a:pt x="4712" y="320"/>
                  <a:pt x="4536" y="360"/>
                </a:cubicBezTo>
                <a:cubicBezTo>
                  <a:pt x="4360" y="400"/>
                  <a:pt x="4248" y="400"/>
                  <a:pt x="3624" y="408"/>
                </a:cubicBezTo>
                <a:cubicBezTo>
                  <a:pt x="3000" y="416"/>
                  <a:pt x="1376" y="432"/>
                  <a:pt x="792" y="408"/>
                </a:cubicBezTo>
                <a:cubicBezTo>
                  <a:pt x="208" y="384"/>
                  <a:pt x="240" y="320"/>
                  <a:pt x="120" y="264"/>
                </a:cubicBezTo>
                <a:cubicBezTo>
                  <a:pt x="0" y="208"/>
                  <a:pt x="56" y="112"/>
                  <a:pt x="72" y="72"/>
                </a:cubicBezTo>
                <a:cubicBezTo>
                  <a:pt x="88" y="32"/>
                  <a:pt x="152" y="28"/>
                  <a:pt x="216" y="2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685800" y="43434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lds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waits for (requested)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i+1)%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,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&lt;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i+1)%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           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 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&lt;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&lt;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&lt; … &lt;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&lt;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adi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1" dur="indefinite" restart="never" nodeType="tmRoot">
          <p:childTnLst>
            <p:seq>
              <p:cTn id="2382" dur="indefinite" nodeType="mainSeq">
                <p:childTnLst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7" dur="500"/>
                                        <p:tgtEl>
                                          <p:spTgt spid="2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2" dur="500"/>
                                        <p:tgtEl>
                                          <p:spTgt spid="2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7" dur="500"/>
                                        <p:tgtEl>
                                          <p:spTgt spid="2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2" dur="500"/>
                                        <p:tgtEl>
                                          <p:spTgt spid="2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7" dur="500"/>
                                        <p:tgtEl>
                                          <p:spTgt spid="2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500"/>
                            </p:stCondLst>
                            <p:childTnLst>
                              <p:par>
                                <p:cTn id="24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1" dur="500"/>
                                        <p:tgtEl>
                                          <p:spTgt spid="2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6" dur="500"/>
                                        <p:tgtEl>
                                          <p:spTgt spid="2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1" dur="500"/>
                                        <p:tgtEl>
                                          <p:spTgt spid="2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6" dur="500"/>
                                        <p:tgtEl>
                                          <p:spTgt spid="2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1" dur="500"/>
                                        <p:tgtEl>
                                          <p:spTgt spid="2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6" dur="500"/>
                                        <p:tgtEl>
                                          <p:spTgt spid="2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on: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5334120" y="2209680"/>
            <a:ext cx="2743200" cy="1371600"/>
          </a:xfrm>
          <a:prstGeom prst="horizontalScroll">
            <a:avLst>
              <a:gd name="adj" fmla="val 12500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aints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How” to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4" name=""/>
          <p:cNvGrpSpPr/>
          <p:nvPr/>
        </p:nvGrpSpPr>
        <p:grpSpPr>
          <a:xfrm>
            <a:off x="681120" y="1600200"/>
            <a:ext cx="6019560" cy="2438280"/>
            <a:chOff x="681120" y="1600200"/>
            <a:chExt cx="6019560" cy="2438280"/>
          </a:xfrm>
        </p:grpSpPr>
        <p:grpSp>
          <p:nvGrpSpPr>
            <p:cNvPr id="2425" name=""/>
            <p:cNvGrpSpPr/>
            <p:nvPr/>
          </p:nvGrpSpPr>
          <p:grpSpPr>
            <a:xfrm>
              <a:off x="685800" y="1604880"/>
              <a:ext cx="5105520" cy="2362320"/>
              <a:chOff x="685800" y="1604880"/>
              <a:chExt cx="5105520" cy="2362320"/>
            </a:xfrm>
          </p:grpSpPr>
          <p:sp>
            <p:nvSpPr>
              <p:cNvPr id="2426" name=""/>
              <p:cNvSpPr/>
              <p:nvPr/>
            </p:nvSpPr>
            <p:spPr>
              <a:xfrm>
                <a:off x="685800" y="2062080"/>
                <a:ext cx="5105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3505320" y="1604880"/>
                <a:ext cx="0" cy="236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8" name=""/>
            <p:cNvSpPr/>
            <p:nvPr/>
          </p:nvSpPr>
          <p:spPr>
            <a:xfrm>
              <a:off x="681120" y="1600200"/>
              <a:ext cx="601956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pplicabl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utual Exclusi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ld &amp; Wai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 Preemp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ircular Wai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Utilization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User 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ystem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4343400" y="2286000"/>
            <a:ext cx="5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343400" y="2666880"/>
            <a:ext cx="5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4343400" y="3048120"/>
            <a:ext cx="5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343400" y="1905120"/>
            <a:ext cx="5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3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8" dur="500" fill="hold"/>
                                        <p:tgtEl>
                                          <p:spTgt spid="2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500" fill="hold"/>
                                        <p:tgtEl>
                                          <p:spTgt spid="2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4" dur="500" fill="hold"/>
                                        <p:tgtEl>
                                          <p:spTgt spid="2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" fill="hold"/>
                                        <p:tgtEl>
                                          <p:spTgt spid="2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2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500" fill="hold"/>
                                        <p:tgtEl>
                                          <p:spTgt spid="2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6" dur="500" fill="hold"/>
                                        <p:tgtEl>
                                          <p:spTgt spid="2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500" fill="hold"/>
                                        <p:tgtEl>
                                          <p:spTgt spid="2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2" dur="500" fill="hold"/>
                                        <p:tgtEl>
                                          <p:spTgt spid="2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500" fill="hold"/>
                                        <p:tgtEl>
                                          <p:spTgt spid="2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8" dur="500"/>
                                        <p:tgtEl>
                                          <p:spTgt spid="2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Hand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Preven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1 of 4 cond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&amp; WA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ORD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St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nstance /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instances /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ion &amp; Recove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nstance /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instances /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ed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9" dur="indefinite" restart="never" nodeType="tmRoot">
          <p:childTnLst>
            <p:seq>
              <p:cTn id="2480" dur="indefinite" nodeType="mainSeq">
                <p:childTnLst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5" dur="5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8" dur="500"/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1" dur="500"/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4" dur="500"/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9" dur="500"/>
                                        <p:tgtEl>
                                          <p:spTgt spid="2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2" dur="500"/>
                                        <p:tgtEl>
                                          <p:spTgt spid="2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5" dur="500"/>
                                        <p:tgtEl>
                                          <p:spTgt spid="2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8" dur="500"/>
                                        <p:tgtEl>
                                          <p:spTgt spid="2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3" dur="500"/>
                                        <p:tgtEl>
                                          <p:spTgt spid="2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6" dur="500"/>
                                        <p:tgtEl>
                                          <p:spTgt spid="2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9" dur="500"/>
                                        <p:tgtEl>
                                          <p:spTgt spid="2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2" dur="500"/>
                                        <p:tgtEl>
                                          <p:spTgt spid="2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7" dur="500"/>
                                        <p:tgtEl>
                                          <p:spTgt spid="2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"/>
          <p:cNvSpPr/>
          <p:nvPr/>
        </p:nvSpPr>
        <p:spPr>
          <a:xfrm rot="10836600">
            <a:off x="5181120" y="3198960"/>
            <a:ext cx="533520" cy="992160"/>
          </a:xfrm>
          <a:custGeom>
            <a:avLst/>
            <a:gdLst>
              <a:gd name="textAreaLeft" fmla="*/ 0 w 533520"/>
              <a:gd name="textAreaRight" fmla="*/ 533880 w 53352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169" stAng="10800000" swAng="5400000"/>
                <a:lnTo>
                  <a:pt x="15107" y="4991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167"/>
                </a:lnTo>
                <a:lnTo>
                  <a:pt x="12427" y="7167"/>
                </a:lnTo>
                <a:arcTo wR="10251" hR="4993" stAng="16200000" swAng="-5400000"/>
                <a:lnTo>
                  <a:pt x="2176" y="21600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information about requests/rele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685800" y="2895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…,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2057400" y="373392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-11541"/>
              <a:gd name="adj4" fmla="val -32462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2073240" y="251136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136518"/>
              <a:gd name="adj4" fmla="val -17097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685800" y="474516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…,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2057400" y="434988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142287"/>
              <a:gd name="adj4" fmla="val -1918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2057400" y="568656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-44180"/>
              <a:gd name="adj4" fmla="val -19064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2340000" y="2895480"/>
            <a:ext cx="619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2362320" y="480060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3200400" y="371808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llocate P to 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1447920" y="51055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1447920" y="3200400"/>
            <a:ext cx="14475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4495680" y="2819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760680" y="2057400"/>
            <a:ext cx="3573000" cy="398880"/>
          </a:xfrm>
          <a:prstGeom prst="rect">
            <a:avLst/>
          </a:prstGeom>
          <a:solidFill>
            <a:srgbClr val="cece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ape Unit (T) &amp; 1 Printer 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8" dur="indefinite" restart="never" nodeType="tmRoot">
          <p:childTnLst>
            <p:seq>
              <p:cTn id="2529" dur="indefinite" nodeType="mainSeq">
                <p:childTnLst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4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9" dur="500"/>
                                        <p:tgtEl>
                                          <p:spTgt spid="2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500"/>
                            </p:stCondLst>
                            <p:childTnLst>
                              <p:par>
                                <p:cTn id="2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3" dur="500"/>
                                        <p:tgtEl>
                                          <p:spTgt spid="2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8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2" dur="500"/>
                                        <p:tgtEl>
                                          <p:spTgt spid="2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2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500" fill="hold"/>
                                        <p:tgtEl>
                                          <p:spTgt spid="2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9" fill="hold">
                            <p:stCondLst>
                              <p:cond delay="500"/>
                            </p:stCondLst>
                            <p:childTnLst>
                              <p:par>
                                <p:cTn id="25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2" dur="500" fill="hold"/>
                                        <p:tgtEl>
                                          <p:spTgt spid="2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2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8" dur="500"/>
                                        <p:tgtEl>
                                          <p:spTgt spid="2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3" dur="5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4" fill="hold">
                            <p:stCondLst>
                              <p:cond delay="500"/>
                            </p:stCondLst>
                            <p:childTnLst>
                              <p:par>
                                <p:cTn id="2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7" dur="500"/>
                                        <p:tgtEl>
                                          <p:spTgt spid="2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2" dur="500"/>
                                        <p:tgtEl>
                                          <p:spTgt spid="2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7" dur="5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fill="hold">
                      <p:stCondLst>
                        <p:cond delay="indefinite"/>
                      </p:stCondLst>
                      <p:childTnLst>
                        <p:par>
                          <p:cTn id="2589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2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2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500"/>
                            </p:stCondLst>
                            <p:childTnLst>
                              <p:par>
                                <p:cTn id="25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7" dur="500"/>
                                        <p:tgtEl>
                                          <p:spTgt spid="2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01" dur="500"/>
                                        <p:tgtEl>
                                          <p:spTgt spid="2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"/>
          <p:cNvSpPr/>
          <p:nvPr/>
        </p:nvSpPr>
        <p:spPr>
          <a:xfrm>
            <a:off x="2057400" y="280836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-6310"/>
              <a:gd name="adj4" fmla="val -1764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7750080" y="45720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533520" y="207648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)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…,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) 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2057400" y="279072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-10277"/>
              <a:gd name="adj4" fmla="val -32462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157176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138500"/>
              <a:gd name="adj4" fmla="val -16004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9" name=""/>
          <p:cNvGrpSpPr/>
          <p:nvPr/>
        </p:nvGrpSpPr>
        <p:grpSpPr>
          <a:xfrm>
            <a:off x="1905120" y="3505320"/>
            <a:ext cx="761760" cy="990000"/>
            <a:chOff x="1905120" y="3505320"/>
            <a:chExt cx="761760" cy="990000"/>
          </a:xfrm>
        </p:grpSpPr>
        <p:sp>
          <p:nvSpPr>
            <p:cNvPr id="2460" name=""/>
            <p:cNvSpPr/>
            <p:nvPr/>
          </p:nvSpPr>
          <p:spPr>
            <a:xfrm>
              <a:off x="1905120" y="3885840"/>
              <a:ext cx="761760" cy="60948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2055600" y="35053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209680" y="4114440"/>
              <a:ext cx="15192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3" name=""/>
          <p:cNvSpPr/>
          <p:nvPr/>
        </p:nvSpPr>
        <p:spPr>
          <a:xfrm>
            <a:off x="3200400" y="45720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4" name=""/>
          <p:cNvGrpSpPr/>
          <p:nvPr/>
        </p:nvGrpSpPr>
        <p:grpSpPr>
          <a:xfrm>
            <a:off x="1905120" y="4952880"/>
            <a:ext cx="761760" cy="990720"/>
            <a:chOff x="1905120" y="4952880"/>
            <a:chExt cx="761760" cy="990720"/>
          </a:xfrm>
        </p:grpSpPr>
        <p:sp>
          <p:nvSpPr>
            <p:cNvPr id="2465" name=""/>
            <p:cNvSpPr/>
            <p:nvPr/>
          </p:nvSpPr>
          <p:spPr>
            <a:xfrm>
              <a:off x="1905120" y="533376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055960" y="49528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209680" y="556236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7750080" y="4572000"/>
            <a:ext cx="936360" cy="614520"/>
            <a:chOff x="7750080" y="4572000"/>
            <a:chExt cx="936360" cy="614520"/>
          </a:xfrm>
        </p:grpSpPr>
        <p:sp>
          <p:nvSpPr>
            <p:cNvPr id="2469" name=""/>
            <p:cNvSpPr/>
            <p:nvPr/>
          </p:nvSpPr>
          <p:spPr>
            <a:xfrm>
              <a:off x="7750080" y="457200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70" name=""/>
            <p:cNvGraphicFramePr/>
            <p:nvPr/>
          </p:nvGraphicFramePr>
          <p:xfrm>
            <a:off x="8305560" y="4811760"/>
            <a:ext cx="38088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05560" y="48117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72" name=""/>
          <p:cNvGrpSpPr/>
          <p:nvPr/>
        </p:nvGrpSpPr>
        <p:grpSpPr>
          <a:xfrm>
            <a:off x="6324480" y="3505320"/>
            <a:ext cx="762120" cy="990000"/>
            <a:chOff x="6324480" y="3505320"/>
            <a:chExt cx="762120" cy="990000"/>
          </a:xfrm>
        </p:grpSpPr>
        <p:sp>
          <p:nvSpPr>
            <p:cNvPr id="2473" name=""/>
            <p:cNvSpPr/>
            <p:nvPr/>
          </p:nvSpPr>
          <p:spPr>
            <a:xfrm>
              <a:off x="6324480" y="3885840"/>
              <a:ext cx="762120" cy="60948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475320" y="35053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629400" y="4114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6" name=""/>
          <p:cNvSpPr/>
          <p:nvPr/>
        </p:nvSpPr>
        <p:spPr>
          <a:xfrm>
            <a:off x="5105520" y="45720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7" name=""/>
          <p:cNvGrpSpPr/>
          <p:nvPr/>
        </p:nvGrpSpPr>
        <p:grpSpPr>
          <a:xfrm>
            <a:off x="6324480" y="4952880"/>
            <a:ext cx="762120" cy="990720"/>
            <a:chOff x="6324480" y="4952880"/>
            <a:chExt cx="762120" cy="990720"/>
          </a:xfrm>
        </p:grpSpPr>
        <p:sp>
          <p:nvSpPr>
            <p:cNvPr id="2478" name=""/>
            <p:cNvSpPr/>
            <p:nvPr/>
          </p:nvSpPr>
          <p:spPr>
            <a:xfrm>
              <a:off x="6324480" y="53337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475680" y="49528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629400" y="55623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1" name=""/>
          <p:cNvSpPr/>
          <p:nvPr/>
        </p:nvSpPr>
        <p:spPr>
          <a:xfrm>
            <a:off x="628560" y="45720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2" name=""/>
          <p:cNvCxnSpPr>
            <a:stCxn id="2462" idx="3"/>
            <a:endCxn id="2481" idx="7"/>
          </p:cNvCxnSpPr>
          <p:nvPr/>
        </p:nvCxnSpPr>
        <p:spPr>
          <a:xfrm flipH="1">
            <a:off x="1213560" y="4244760"/>
            <a:ext cx="1018440" cy="4165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2483" name=""/>
          <p:cNvCxnSpPr>
            <a:stCxn id="2475" idx="3"/>
            <a:endCxn id="2476" idx="7"/>
          </p:cNvCxnSpPr>
          <p:nvPr/>
        </p:nvCxnSpPr>
        <p:spPr>
          <a:xfrm flipH="1">
            <a:off x="5690880" y="4244760"/>
            <a:ext cx="961200" cy="4165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2484" name=""/>
          <p:cNvCxnSpPr>
            <a:stCxn id="2467" idx="6"/>
            <a:endCxn id="2463" idx="3"/>
          </p:cNvCxnSpPr>
          <p:nvPr/>
        </p:nvCxnSpPr>
        <p:spPr>
          <a:xfrm flipV="1">
            <a:off x="2362320" y="5092200"/>
            <a:ext cx="938880" cy="5464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2485" name=""/>
          <p:cNvCxnSpPr>
            <a:stCxn id="2481" idx="5"/>
            <a:endCxn id="2465" idx="1"/>
          </p:cNvCxnSpPr>
          <p:nvPr/>
        </p:nvCxnSpPr>
        <p:spPr>
          <a:xfrm>
            <a:off x="1214280" y="5092200"/>
            <a:ext cx="672480" cy="5464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486" name=""/>
          <p:cNvCxnSpPr>
            <a:stCxn id="2463" idx="1"/>
            <a:endCxn id="2460" idx="3"/>
          </p:cNvCxnSpPr>
          <p:nvPr/>
        </p:nvCxnSpPr>
        <p:spPr>
          <a:xfrm flipH="1" flipV="1">
            <a:off x="2685240" y="4190400"/>
            <a:ext cx="615240" cy="4705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487" name=""/>
          <p:cNvCxnSpPr>
            <a:stCxn id="2469" idx="3"/>
            <a:endCxn id="2478" idx="3"/>
          </p:cNvCxnSpPr>
          <p:nvPr/>
        </p:nvCxnSpPr>
        <p:spPr>
          <a:xfrm flipH="1">
            <a:off x="7105320" y="5092200"/>
            <a:ext cx="745200" cy="5464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488" name=""/>
          <p:cNvGrpSpPr/>
          <p:nvPr/>
        </p:nvGrpSpPr>
        <p:grpSpPr>
          <a:xfrm>
            <a:off x="3200400" y="4572000"/>
            <a:ext cx="936360" cy="614520"/>
            <a:chOff x="3200400" y="4572000"/>
            <a:chExt cx="936360" cy="614520"/>
          </a:xfrm>
        </p:grpSpPr>
        <p:sp>
          <p:nvSpPr>
            <p:cNvPr id="2489" name=""/>
            <p:cNvSpPr/>
            <p:nvPr/>
          </p:nvSpPr>
          <p:spPr>
            <a:xfrm>
              <a:off x="3200400" y="457200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90" name=""/>
            <p:cNvGraphicFramePr/>
            <p:nvPr/>
          </p:nvGraphicFramePr>
          <p:xfrm>
            <a:off x="3755880" y="4811760"/>
            <a:ext cx="380880" cy="37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55880" y="48117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92" name=""/>
          <p:cNvGrpSpPr/>
          <p:nvPr/>
        </p:nvGrpSpPr>
        <p:grpSpPr>
          <a:xfrm>
            <a:off x="628560" y="4572000"/>
            <a:ext cx="936360" cy="614520"/>
            <a:chOff x="628560" y="4572000"/>
            <a:chExt cx="936360" cy="614520"/>
          </a:xfrm>
        </p:grpSpPr>
        <p:sp>
          <p:nvSpPr>
            <p:cNvPr id="2493" name=""/>
            <p:cNvSpPr/>
            <p:nvPr/>
          </p:nvSpPr>
          <p:spPr>
            <a:xfrm>
              <a:off x="628560" y="457200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94" name=""/>
            <p:cNvGraphicFramePr/>
            <p:nvPr/>
          </p:nvGraphicFramePr>
          <p:xfrm>
            <a:off x="1184040" y="4811760"/>
            <a:ext cx="380880" cy="374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9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84040" y="48117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96" name=""/>
          <p:cNvSpPr/>
          <p:nvPr/>
        </p:nvSpPr>
        <p:spPr>
          <a:xfrm>
            <a:off x="914400" y="205740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1295280" y="243828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590920" y="2057400"/>
            <a:ext cx="144756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124080" y="243828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 txBox="1"/>
          <p:nvPr/>
        </p:nvSpPr>
        <p:spPr>
          <a:xfrm>
            <a:off x="3048120" y="3429000"/>
            <a:ext cx="17604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01" name=""/>
          <p:cNvSpPr txBox="1"/>
          <p:nvPr/>
        </p:nvSpPr>
        <p:spPr>
          <a:xfrm>
            <a:off x="6934320" y="3200400"/>
            <a:ext cx="1760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vo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02" name=""/>
          <p:cNvSpPr/>
          <p:nvPr/>
        </p:nvSpPr>
        <p:spPr>
          <a:xfrm>
            <a:off x="914400" y="205740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2590920" y="2057400"/>
            <a:ext cx="144756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295280" y="243828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4343400" y="205740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6" name=""/>
          <p:cNvCxnSpPr>
            <a:stCxn id="2480" idx="2"/>
            <a:endCxn id="2476" idx="5"/>
          </p:cNvCxnSpPr>
          <p:nvPr/>
        </p:nvCxnSpPr>
        <p:spPr>
          <a:xfrm flipH="1" flipV="1">
            <a:off x="5690880" y="5092200"/>
            <a:ext cx="938880" cy="5464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2507" name=""/>
          <p:cNvSpPr/>
          <p:nvPr/>
        </p:nvSpPr>
        <p:spPr>
          <a:xfrm>
            <a:off x="2057400" y="157788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138680"/>
              <a:gd name="adj4" fmla="val -16004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733920" y="1566720"/>
            <a:ext cx="1447560" cy="398880"/>
          </a:xfrm>
          <a:prstGeom prst="borderCallout1">
            <a:avLst>
              <a:gd name="adj1" fmla="val 18750"/>
              <a:gd name="adj2" fmla="val -8333"/>
              <a:gd name="adj3" fmla="val 138680"/>
              <a:gd name="adj4" fmla="val -15986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5690880" y="4952880"/>
            <a:ext cx="1395720" cy="990720"/>
            <a:chOff x="5690880" y="4952880"/>
            <a:chExt cx="1395720" cy="990720"/>
          </a:xfrm>
        </p:grpSpPr>
        <p:cxnSp>
          <p:nvCxnSpPr>
            <p:cNvPr id="2510" name=""/>
            <p:cNvCxnSpPr>
              <a:stCxn id="2480" idx="2"/>
              <a:endCxn id="2476" idx="5"/>
            </p:cNvCxnSpPr>
            <p:nvPr/>
          </p:nvCxnSpPr>
          <p:spPr>
            <a:xfrm flipH="1" flipV="1">
              <a:off x="5690880" y="5092200"/>
              <a:ext cx="938880" cy="5464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2511" name=""/>
            <p:cNvGrpSpPr/>
            <p:nvPr/>
          </p:nvGrpSpPr>
          <p:grpSpPr>
            <a:xfrm>
              <a:off x="6324480" y="4952880"/>
              <a:ext cx="762120" cy="990720"/>
              <a:chOff x="6324480" y="4952880"/>
              <a:chExt cx="762120" cy="990720"/>
            </a:xfrm>
          </p:grpSpPr>
          <p:sp>
            <p:nvSpPr>
              <p:cNvPr id="2512" name=""/>
              <p:cNvSpPr/>
              <p:nvPr/>
            </p:nvSpPr>
            <p:spPr>
              <a:xfrm>
                <a:off x="6324480" y="5333760"/>
                <a:ext cx="76212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6475680" y="49528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6629400" y="55623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5" name=""/>
          <p:cNvGrpSpPr/>
          <p:nvPr/>
        </p:nvGrpSpPr>
        <p:grpSpPr>
          <a:xfrm>
            <a:off x="7105320" y="4572000"/>
            <a:ext cx="1733760" cy="1066320"/>
            <a:chOff x="7105320" y="4572000"/>
            <a:chExt cx="1733760" cy="1066320"/>
          </a:xfrm>
        </p:grpSpPr>
        <p:sp>
          <p:nvSpPr>
            <p:cNvPr id="2516" name=""/>
            <p:cNvSpPr/>
            <p:nvPr/>
          </p:nvSpPr>
          <p:spPr>
            <a:xfrm>
              <a:off x="8229600" y="4724280"/>
              <a:ext cx="60948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7" name=""/>
            <p:cNvGrpSpPr/>
            <p:nvPr/>
          </p:nvGrpSpPr>
          <p:grpSpPr>
            <a:xfrm>
              <a:off x="7105320" y="4572000"/>
              <a:ext cx="1330560" cy="1066320"/>
              <a:chOff x="7105320" y="4572000"/>
              <a:chExt cx="1330560" cy="1066320"/>
            </a:xfrm>
          </p:grpSpPr>
          <p:sp>
            <p:nvSpPr>
              <p:cNvPr id="2518" name=""/>
              <p:cNvSpPr/>
              <p:nvPr/>
            </p:nvSpPr>
            <p:spPr>
              <a:xfrm>
                <a:off x="7750080" y="4572000"/>
                <a:ext cx="685800" cy="60948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19" name=""/>
              <p:cNvCxnSpPr>
                <a:stCxn id="2518" idx="3"/>
                <a:endCxn id="2478" idx="3"/>
              </p:cNvCxnSpPr>
              <p:nvPr/>
            </p:nvCxnSpPr>
            <p:spPr>
              <a:xfrm flipH="1">
                <a:off x="7105320" y="5092200"/>
                <a:ext cx="745200" cy="546480"/>
              </a:xfrm>
              <a:prstGeom prst="straightConnector1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</p:grpSp>
      <p:cxnSp>
        <p:nvCxnSpPr>
          <p:cNvPr id="2520" name=""/>
          <p:cNvCxnSpPr>
            <a:stCxn id="2514" idx="6"/>
            <a:endCxn id="2518" idx="3"/>
          </p:cNvCxnSpPr>
          <p:nvPr/>
        </p:nvCxnSpPr>
        <p:spPr>
          <a:xfrm flipV="1">
            <a:off x="6781680" y="5092200"/>
            <a:ext cx="1069200" cy="5464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2" dur="indefinite" restart="never" nodeType="tmRoot">
          <p:childTnLst>
            <p:seq>
              <p:cTn id="2603" dur="indefinite" nodeType="mainSeq">
                <p:childTnLst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8" dur="500"/>
                                        <p:tgtEl>
                                          <p:spTgt spid="2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3" dur="500"/>
                                        <p:tgtEl>
                                          <p:spTgt spid="2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fill="hold">
                            <p:stCondLst>
                              <p:cond delay="500"/>
                            </p:stCondLst>
                            <p:childTnLst>
                              <p:par>
                                <p:cTn id="2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7" dur="500"/>
                                        <p:tgtEl>
                                          <p:spTgt spid="2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1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5" dur="5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0" dur="500" fill="hold"/>
                                        <p:tgtEl>
                                          <p:spTgt spid="2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500" fill="hold"/>
                                        <p:tgtEl>
                                          <p:spTgt spid="2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6" dur="500"/>
                                        <p:tgtEl>
                                          <p:spTgt spid="2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500"/>
                            </p:stCondLst>
                            <p:childTnLst>
                              <p:par>
                                <p:cTn id="26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1" dur="500"/>
                                        <p:tgtEl>
                                          <p:spTgt spid="2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7" dur="500" fill="hold"/>
                                        <p:tgtEl>
                                          <p:spTgt spid="2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500" fill="hold"/>
                                        <p:tgtEl>
                                          <p:spTgt spid="2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3" dur="500"/>
                                        <p:tgtEl>
                                          <p:spTgt spid="2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55" fill="hold">
                            <p:stCondLst>
                              <p:cond delay="500"/>
                            </p:stCondLst>
                            <p:childTnLst>
                              <p:par>
                                <p:cTn id="2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8" dur="5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4" dur="500" fill="hold"/>
                                        <p:tgtEl>
                                          <p:spTgt spid="2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5" dur="500" fill="hold"/>
                                        <p:tgtEl>
                                          <p:spTgt spid="2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0" dur="5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2" fill="hold">
                            <p:stCondLst>
                              <p:cond delay="500"/>
                            </p:stCondLst>
                            <p:childTnLst>
                              <p:par>
                                <p:cTn id="2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9" dur="500" fill="hold"/>
                                        <p:tgtEl>
                                          <p:spTgt spid="2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500" fill="hold"/>
                                        <p:tgtEl>
                                          <p:spTgt spid="2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5" dur="500"/>
                                        <p:tgtEl>
                                          <p:spTgt spid="2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0" fill="hold">
                      <p:stCondLst>
                        <p:cond delay="indefinite"/>
                      </p:stCondLst>
                      <p:childTnLst>
                        <p:par>
                          <p:cTn id="2691" fill="hold">
                            <p:stCondLst>
                              <p:cond delay="0"/>
                            </p:stCondLst>
                            <p:childTnLst>
                              <p:par>
                                <p:cTn id="26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4" dur="1000" fill="hold"/>
                                        <p:tgtEl>
                                          <p:spTgt spid="2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1000" fill="hold"/>
                                        <p:tgtEl>
                                          <p:spTgt spid="2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1000" fill="hold"/>
                                        <p:tgtEl>
                                          <p:spTgt spid="2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1000" fill="hold"/>
                                        <p:tgtEl>
                                          <p:spTgt spid="2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2" dur="5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3" fill="hold">
                            <p:stCondLst>
                              <p:cond delay="500"/>
                            </p:stCondLst>
                            <p:childTnLst>
                              <p:par>
                                <p:cTn id="27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6" dur="500"/>
                                        <p:tgtEl>
                                          <p:spTgt spid="2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0" dur="500"/>
                                        <p:tgtEl>
                                          <p:spTgt spid="2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4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9" dur="500" fill="hold"/>
                                        <p:tgtEl>
                                          <p:spTgt spid="2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2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5" dur="500"/>
                                        <p:tgtEl>
                                          <p:spTgt spid="2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7" fill="hold">
                            <p:stCondLst>
                              <p:cond delay="500"/>
                            </p:stCondLst>
                            <p:childTnLst>
                              <p:par>
                                <p:cTn id="27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0" dur="500"/>
                                        <p:tgtEl>
                                          <p:spTgt spid="2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2" fill="hold">
                      <p:stCondLst>
                        <p:cond delay="indefinite"/>
                      </p:stCondLst>
                      <p:childTnLst>
                        <p:par>
                          <p:cTn id="2733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6" dur="500" fill="hold"/>
                                        <p:tgtEl>
                                          <p:spTgt spid="2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500" fill="hold"/>
                                        <p:tgtEl>
                                          <p:spTgt spid="2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2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44" fill="hold">
                            <p:stCondLst>
                              <p:cond delay="500"/>
                            </p:stCondLst>
                            <p:childTnLst>
                              <p:par>
                                <p:cTn id="2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7" dur="500"/>
                                        <p:tgtEl>
                                          <p:spTgt spid="2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5" dur="10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10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10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2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500" fill="hold"/>
                                        <p:tgtEl>
                                          <p:spTgt spid="2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5" fill="hold">
                      <p:stCondLst>
                        <p:cond delay="indefinite"/>
                      </p:stCondLst>
                      <p:childTnLst>
                        <p:par>
                          <p:cTn id="2766" fill="hold">
                            <p:stCondLst>
                              <p:cond delay="0"/>
                            </p:stCondLst>
                            <p:childTnLst>
                              <p:par>
                                <p:cTn id="27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9" dur="500"/>
                                        <p:tgtEl>
                                          <p:spTgt spid="2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4" dur="5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2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500" fill="hold"/>
                                        <p:tgtEl>
                                          <p:spTgt spid="2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2" fill="hold">
                            <p:stCondLst>
                              <p:cond delay="500"/>
                            </p:stCondLst>
                            <p:childTnLst>
                              <p:par>
                                <p:cTn id="27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86" fill="hold">
                      <p:stCondLst>
                        <p:cond delay="indefinite"/>
                      </p:stCondLst>
                      <p:childTnLst>
                        <p:par>
                          <p:cTn id="2787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0" fill="hold">
                            <p:stCondLst>
                              <p:cond delay="500"/>
                            </p:stCondLst>
                            <p:childTnLst>
                              <p:par>
                                <p:cTn id="2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3" dur="500"/>
                                        <p:tgtEl>
                                          <p:spTgt spid="2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-usable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#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lusive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identical instance(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5108400"/>
          <a:ext cx="1143000" cy="86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108400"/>
                    <a:ext cx="1143000" cy="8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981080" y="5105520"/>
          <a:ext cx="114300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5105520"/>
                    <a:ext cx="11430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114800" y="5105520"/>
          <a:ext cx="1143000" cy="76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105520"/>
                    <a:ext cx="114300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 flipH="1">
            <a:off x="3505320" y="4876920"/>
            <a:ext cx="304560" cy="114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mable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imited #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ilable after p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"/>
          <p:cNvSpPr/>
          <p:nvPr/>
        </p:nvSpPr>
        <p:spPr>
          <a:xfrm>
            <a:off x="2057400" y="280836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-6310"/>
              <a:gd name="adj4" fmla="val -1764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533520" y="207648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)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…,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) 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057400" y="157176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138500"/>
              <a:gd name="adj4" fmla="val -16004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914400" y="205740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1295280" y="243828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2590920" y="2057400"/>
            <a:ext cx="144756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3124080" y="243828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343400" y="205740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800600" y="243828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19920" y="2057400"/>
            <a:ext cx="144756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2" name=""/>
          <p:cNvGrpSpPr/>
          <p:nvPr/>
        </p:nvGrpSpPr>
        <p:grpSpPr>
          <a:xfrm>
            <a:off x="1905120" y="3505320"/>
            <a:ext cx="761760" cy="990000"/>
            <a:chOff x="1905120" y="3505320"/>
            <a:chExt cx="761760" cy="990000"/>
          </a:xfrm>
        </p:grpSpPr>
        <p:sp>
          <p:nvSpPr>
            <p:cNvPr id="2533" name=""/>
            <p:cNvSpPr/>
            <p:nvPr/>
          </p:nvSpPr>
          <p:spPr>
            <a:xfrm>
              <a:off x="1905120" y="3885840"/>
              <a:ext cx="761760" cy="60948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055600" y="35053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209680" y="4114440"/>
              <a:ext cx="15192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6" name=""/>
          <p:cNvSpPr/>
          <p:nvPr/>
        </p:nvSpPr>
        <p:spPr>
          <a:xfrm>
            <a:off x="3276720" y="45720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1905120" y="4952880"/>
            <a:ext cx="761760" cy="990720"/>
            <a:chOff x="1905120" y="4952880"/>
            <a:chExt cx="761760" cy="990720"/>
          </a:xfrm>
        </p:grpSpPr>
        <p:sp>
          <p:nvSpPr>
            <p:cNvPr id="2538" name=""/>
            <p:cNvSpPr/>
            <p:nvPr/>
          </p:nvSpPr>
          <p:spPr>
            <a:xfrm>
              <a:off x="1905120" y="533376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055960" y="49528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209680" y="556236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1" name=""/>
          <p:cNvSpPr/>
          <p:nvPr/>
        </p:nvSpPr>
        <p:spPr>
          <a:xfrm>
            <a:off x="609480" y="45720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2" name=""/>
          <p:cNvCxnSpPr>
            <a:stCxn id="2535" idx="3"/>
            <a:endCxn id="2541" idx="7"/>
          </p:cNvCxnSpPr>
          <p:nvPr/>
        </p:nvCxnSpPr>
        <p:spPr>
          <a:xfrm flipH="1">
            <a:off x="1194840" y="4244760"/>
            <a:ext cx="1037160" cy="4165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2543" name=""/>
          <p:cNvCxnSpPr>
            <a:stCxn id="2540" idx="6"/>
            <a:endCxn id="2536" idx="3"/>
          </p:cNvCxnSpPr>
          <p:nvPr/>
        </p:nvCxnSpPr>
        <p:spPr>
          <a:xfrm flipV="1">
            <a:off x="2361960" y="5092200"/>
            <a:ext cx="1014840" cy="5464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2544" name=""/>
          <p:cNvCxnSpPr>
            <a:stCxn id="2541" idx="5"/>
            <a:endCxn id="2538" idx="1"/>
          </p:cNvCxnSpPr>
          <p:nvPr/>
        </p:nvCxnSpPr>
        <p:spPr>
          <a:xfrm>
            <a:off x="1195560" y="5092200"/>
            <a:ext cx="691200" cy="5464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545" name=""/>
          <p:cNvGrpSpPr/>
          <p:nvPr/>
        </p:nvGrpSpPr>
        <p:grpSpPr>
          <a:xfrm>
            <a:off x="1905120" y="4952880"/>
            <a:ext cx="1471320" cy="990720"/>
            <a:chOff x="1905120" y="4952880"/>
            <a:chExt cx="1471320" cy="990720"/>
          </a:xfrm>
        </p:grpSpPr>
        <p:cxnSp>
          <p:nvCxnSpPr>
            <p:cNvPr id="2546" name=""/>
            <p:cNvCxnSpPr>
              <a:stCxn id="2540" idx="6"/>
              <a:endCxn id="2536" idx="3"/>
            </p:cNvCxnSpPr>
            <p:nvPr/>
          </p:nvCxnSpPr>
          <p:spPr>
            <a:xfrm flipV="1">
              <a:off x="2361960" y="5092200"/>
              <a:ext cx="1014840" cy="5464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2547" name=""/>
            <p:cNvGrpSpPr/>
            <p:nvPr/>
          </p:nvGrpSpPr>
          <p:grpSpPr>
            <a:xfrm>
              <a:off x="1905120" y="4952880"/>
              <a:ext cx="761760" cy="990720"/>
              <a:chOff x="1905120" y="4952880"/>
              <a:chExt cx="761760" cy="990720"/>
            </a:xfrm>
          </p:grpSpPr>
          <p:sp>
            <p:nvSpPr>
              <p:cNvPr id="2548" name=""/>
              <p:cNvSpPr/>
              <p:nvPr/>
            </p:nvSpPr>
            <p:spPr>
              <a:xfrm>
                <a:off x="1905120" y="533376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2055960" y="49528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2209680" y="556236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51" name=""/>
          <p:cNvGrpSpPr/>
          <p:nvPr/>
        </p:nvGrpSpPr>
        <p:grpSpPr>
          <a:xfrm>
            <a:off x="609480" y="4567320"/>
            <a:ext cx="936360" cy="613800"/>
            <a:chOff x="609480" y="4567320"/>
            <a:chExt cx="936360" cy="613800"/>
          </a:xfrm>
        </p:grpSpPr>
        <p:sp>
          <p:nvSpPr>
            <p:cNvPr id="2552" name=""/>
            <p:cNvSpPr/>
            <p:nvPr/>
          </p:nvSpPr>
          <p:spPr>
            <a:xfrm>
              <a:off x="609480" y="456732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53" name=""/>
            <p:cNvGraphicFramePr/>
            <p:nvPr/>
          </p:nvGraphicFramePr>
          <p:xfrm>
            <a:off x="1164960" y="4806720"/>
            <a:ext cx="380880" cy="37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64960" y="480672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55" name=""/>
          <p:cNvGrpSpPr/>
          <p:nvPr/>
        </p:nvGrpSpPr>
        <p:grpSpPr>
          <a:xfrm>
            <a:off x="609480" y="4572000"/>
            <a:ext cx="1276920" cy="1066320"/>
            <a:chOff x="609480" y="4572000"/>
            <a:chExt cx="1276920" cy="1066320"/>
          </a:xfrm>
        </p:grpSpPr>
        <p:cxnSp>
          <p:nvCxnSpPr>
            <p:cNvPr id="2556" name=""/>
            <p:cNvCxnSpPr>
              <a:stCxn id="2541" idx="5"/>
              <a:endCxn id="2548" idx="1"/>
            </p:cNvCxnSpPr>
            <p:nvPr/>
          </p:nvCxnSpPr>
          <p:spPr>
            <a:xfrm>
              <a:off x="1195560" y="5092200"/>
              <a:ext cx="691200" cy="5464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2557" name=""/>
            <p:cNvGrpSpPr/>
            <p:nvPr/>
          </p:nvGrpSpPr>
          <p:grpSpPr>
            <a:xfrm>
              <a:off x="609480" y="4572000"/>
              <a:ext cx="1067040" cy="838080"/>
              <a:chOff x="609480" y="4572000"/>
              <a:chExt cx="1067040" cy="838080"/>
            </a:xfrm>
          </p:grpSpPr>
          <p:sp>
            <p:nvSpPr>
              <p:cNvPr id="2558" name=""/>
              <p:cNvSpPr/>
              <p:nvPr/>
            </p:nvSpPr>
            <p:spPr>
              <a:xfrm>
                <a:off x="1066680" y="480060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09480" y="4572000"/>
                <a:ext cx="685800" cy="60948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560" name=""/>
          <p:cNvCxnSpPr>
            <a:stCxn id="2550" idx="2"/>
            <a:endCxn id="2559" idx="5"/>
          </p:cNvCxnSpPr>
          <p:nvPr/>
        </p:nvCxnSpPr>
        <p:spPr>
          <a:xfrm flipH="1" flipV="1">
            <a:off x="1194840" y="5092200"/>
            <a:ext cx="1014840" cy="5464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2561" name=""/>
          <p:cNvGrpSpPr/>
          <p:nvPr/>
        </p:nvGrpSpPr>
        <p:grpSpPr>
          <a:xfrm>
            <a:off x="1194840" y="4952880"/>
            <a:ext cx="1472040" cy="990720"/>
            <a:chOff x="1194840" y="4952880"/>
            <a:chExt cx="1472040" cy="990720"/>
          </a:xfrm>
        </p:grpSpPr>
        <p:cxnSp>
          <p:nvCxnSpPr>
            <p:cNvPr id="2562" name=""/>
            <p:cNvCxnSpPr>
              <a:stCxn id="2550" idx="2"/>
              <a:endCxn id="2559" idx="5"/>
            </p:cNvCxnSpPr>
            <p:nvPr/>
          </p:nvCxnSpPr>
          <p:spPr>
            <a:xfrm flipH="1" flipV="1">
              <a:off x="1194840" y="5092200"/>
              <a:ext cx="1014840" cy="5464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2563" name=""/>
            <p:cNvGrpSpPr/>
            <p:nvPr/>
          </p:nvGrpSpPr>
          <p:grpSpPr>
            <a:xfrm>
              <a:off x="1905120" y="4952880"/>
              <a:ext cx="761760" cy="990720"/>
              <a:chOff x="1905120" y="4952880"/>
              <a:chExt cx="761760" cy="990720"/>
            </a:xfrm>
          </p:grpSpPr>
          <p:sp>
            <p:nvSpPr>
              <p:cNvPr id="2564" name=""/>
              <p:cNvSpPr/>
              <p:nvPr/>
            </p:nvSpPr>
            <p:spPr>
              <a:xfrm>
                <a:off x="1905120" y="533376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055960" y="49528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2209680" y="556236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567" name=""/>
          <p:cNvCxnSpPr>
            <a:stCxn id="2536" idx="1"/>
            <a:endCxn id="2533" idx="3"/>
          </p:cNvCxnSpPr>
          <p:nvPr/>
        </p:nvCxnSpPr>
        <p:spPr>
          <a:xfrm flipH="1" flipV="1">
            <a:off x="2685600" y="4190400"/>
            <a:ext cx="691200" cy="4705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568" name=""/>
          <p:cNvGrpSpPr/>
          <p:nvPr/>
        </p:nvGrpSpPr>
        <p:grpSpPr>
          <a:xfrm>
            <a:off x="3276720" y="4572000"/>
            <a:ext cx="936360" cy="614520"/>
            <a:chOff x="3276720" y="4572000"/>
            <a:chExt cx="936360" cy="614520"/>
          </a:xfrm>
        </p:grpSpPr>
        <p:sp>
          <p:nvSpPr>
            <p:cNvPr id="2569" name=""/>
            <p:cNvSpPr/>
            <p:nvPr/>
          </p:nvSpPr>
          <p:spPr>
            <a:xfrm>
              <a:off x="3276720" y="457200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70" name=""/>
            <p:cNvGraphicFramePr/>
            <p:nvPr/>
          </p:nvGraphicFramePr>
          <p:xfrm>
            <a:off x="3832200" y="4811760"/>
            <a:ext cx="380880" cy="37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32200" y="48117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72" name=""/>
          <p:cNvGrpSpPr/>
          <p:nvPr/>
        </p:nvGrpSpPr>
        <p:grpSpPr>
          <a:xfrm>
            <a:off x="1194840" y="3505320"/>
            <a:ext cx="1472040" cy="1155600"/>
            <a:chOff x="1194840" y="3505320"/>
            <a:chExt cx="1472040" cy="1155600"/>
          </a:xfrm>
        </p:grpSpPr>
        <p:cxnSp>
          <p:nvCxnSpPr>
            <p:cNvPr id="2573" name=""/>
            <p:cNvCxnSpPr>
              <a:stCxn id="2535" idx="3"/>
              <a:endCxn id="2559" idx="7"/>
            </p:cNvCxnSpPr>
            <p:nvPr/>
          </p:nvCxnSpPr>
          <p:spPr>
            <a:xfrm flipH="1">
              <a:off x="1194840" y="4244760"/>
              <a:ext cx="1037160" cy="41652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2574" name=""/>
            <p:cNvGrpSpPr/>
            <p:nvPr/>
          </p:nvGrpSpPr>
          <p:grpSpPr>
            <a:xfrm>
              <a:off x="1905120" y="3505320"/>
              <a:ext cx="761760" cy="990000"/>
              <a:chOff x="1905120" y="3505320"/>
              <a:chExt cx="761760" cy="990000"/>
            </a:xfrm>
          </p:grpSpPr>
          <p:sp>
            <p:nvSpPr>
              <p:cNvPr id="2575" name=""/>
              <p:cNvSpPr/>
              <p:nvPr/>
            </p:nvSpPr>
            <p:spPr>
              <a:xfrm>
                <a:off x="1905120" y="3885840"/>
                <a:ext cx="76176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2055600" y="350532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2209680" y="411444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8" name=""/>
          <p:cNvGrpSpPr/>
          <p:nvPr/>
        </p:nvGrpSpPr>
        <p:grpSpPr>
          <a:xfrm>
            <a:off x="2685600" y="4190400"/>
            <a:ext cx="1657800" cy="1219680"/>
            <a:chOff x="2685600" y="4190400"/>
            <a:chExt cx="1657800" cy="1219680"/>
          </a:xfrm>
        </p:grpSpPr>
        <p:cxnSp>
          <p:nvCxnSpPr>
            <p:cNvPr id="2579" name=""/>
            <p:cNvCxnSpPr>
              <a:stCxn id="2580" idx="1"/>
              <a:endCxn id="2575" idx="3"/>
            </p:cNvCxnSpPr>
            <p:nvPr/>
          </p:nvCxnSpPr>
          <p:spPr>
            <a:xfrm flipH="1" flipV="1">
              <a:off x="2685600" y="4190400"/>
              <a:ext cx="691200" cy="47052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1" name=""/>
            <p:cNvSpPr/>
            <p:nvPr/>
          </p:nvSpPr>
          <p:spPr>
            <a:xfrm>
              <a:off x="3809880" y="4800600"/>
              <a:ext cx="53352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3276720" y="457200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82" name=""/>
          <p:cNvCxnSpPr>
            <a:stCxn id="2577" idx="6"/>
            <a:endCxn id="2580" idx="1"/>
          </p:cNvCxnSpPr>
          <p:nvPr/>
        </p:nvCxnSpPr>
        <p:spPr>
          <a:xfrm>
            <a:off x="2361960" y="4190760"/>
            <a:ext cx="1014840" cy="4705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4" dur="indefinite" restart="never" nodeType="tmRoot">
          <p:childTnLst>
            <p:seq>
              <p:cTn id="2795" dur="indefinite" nodeType="mainSeq">
                <p:childTnLst>
                  <p:par>
                    <p:cTn id="2796" fill="hold">
                      <p:stCondLst>
                        <p:cond delay="indefinite"/>
                      </p:stCondLst>
                      <p:childTnLst>
                        <p:par>
                          <p:cTn id="2797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0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5" dur="500"/>
                                        <p:tgtEl>
                                          <p:spTgt spid="2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6" fill="hold">
                            <p:stCondLst>
                              <p:cond delay="500"/>
                            </p:stCondLst>
                            <p:childTnLst>
                              <p:par>
                                <p:cTn id="2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9" dur="5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3" dur="500"/>
                                        <p:tgtEl>
                                          <p:spTgt spid="2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7" dur="500"/>
                                        <p:tgtEl>
                                          <p:spTgt spid="2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2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3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8" dur="500"/>
                                        <p:tgtEl>
                                          <p:spTgt spid="2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30" fill="hold">
                            <p:stCondLst>
                              <p:cond delay="500"/>
                            </p:stCondLst>
                            <p:childTnLst>
                              <p:par>
                                <p:cTn id="28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3" dur="500"/>
                                        <p:tgtEl>
                                          <p:spTgt spid="2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5" dur="500"/>
                                        <p:tgtEl>
                                          <p:spTgt spid="2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500"/>
                            </p:stCondLst>
                            <p:childTnLst>
                              <p:par>
                                <p:cTn id="2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0" dur="500"/>
                                        <p:tgtEl>
                                          <p:spTgt spid="2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6" dur="5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7" dur="5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8" fill="hold">
                      <p:stCondLst>
                        <p:cond delay="indefinite"/>
                      </p:stCondLst>
                      <p:childTnLst>
                        <p:par>
                          <p:cTn id="2859" fill="hold">
                            <p:stCondLst>
                              <p:cond delay="0"/>
                            </p:stCondLst>
                            <p:childTnLst>
                              <p:par>
                                <p:cTn id="2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63" fill="hold">
                            <p:stCondLst>
                              <p:cond delay="500"/>
                            </p:stCondLst>
                            <p:childTnLst>
                              <p:par>
                                <p:cTn id="2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6" dur="500"/>
                                        <p:tgtEl>
                                          <p:spTgt spid="2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7" fill="hold">
                      <p:stCondLst>
                        <p:cond delay="indefinite"/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1" dur="5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5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78" fill="hold">
                      <p:stCondLst>
                        <p:cond delay="indefinite"/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5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0" dur="500" fill="hold"/>
                                        <p:tgtEl>
                                          <p:spTgt spid="2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500" fill="hold"/>
                                        <p:tgtEl>
                                          <p:spTgt spid="2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1" dur="500" fill="hold"/>
                                        <p:tgtEl>
                                          <p:spTgt spid="2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500" fill="hold"/>
                                        <p:tgtEl>
                                          <p:spTgt spid="2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08" fill="hold">
                            <p:stCondLst>
                              <p:cond delay="500"/>
                            </p:stCondLst>
                            <p:childTnLst>
                              <p:par>
                                <p:cTn id="29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1" dur="500"/>
                                        <p:tgtEl>
                                          <p:spTgt spid="2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6" dur="500" fill="hold"/>
                                        <p:tgtEl>
                                          <p:spTgt spid="2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7" dur="500" fill="hold"/>
                                        <p:tgtEl>
                                          <p:spTgt spid="2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23" fill="hold">
                      <p:stCondLst>
                        <p:cond delay="indefinite"/>
                      </p:stCondLst>
                      <p:childTnLst>
                        <p:par>
                          <p:cTn id="2924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7" fill="hold">
                            <p:stCondLst>
                              <p:cond delay="500"/>
                            </p:stCondLst>
                            <p:childTnLst>
                              <p:par>
                                <p:cTn id="2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0" dur="500"/>
                                        <p:tgtEl>
                                          <p:spTgt spid="2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"/>
          <p:cNvSpPr/>
          <p:nvPr/>
        </p:nvSpPr>
        <p:spPr>
          <a:xfrm>
            <a:off x="1905120" y="2819520"/>
            <a:ext cx="5790960" cy="761760"/>
          </a:xfrm>
          <a:prstGeom prst="rect">
            <a:avLst/>
          </a:prstGeom>
          <a:solidFill>
            <a:srgbClr val="00ae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2819520" y="1523880"/>
            <a:ext cx="4343400" cy="3505320"/>
          </a:xfrm>
          <a:prstGeom prst="rect">
            <a:avLst/>
          </a:prstGeom>
          <a:solidFill>
            <a:srgbClr val="66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1905120" y="2133720"/>
            <a:ext cx="5790960" cy="213336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267080" y="1523880"/>
            <a:ext cx="1447920" cy="3505320"/>
          </a:xfrm>
          <a:prstGeom prst="rect">
            <a:avLst/>
          </a:prstGeom>
          <a:solidFill>
            <a:srgbClr val="66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304920" y="1752480"/>
            <a:ext cx="15238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066680" y="5029200"/>
            <a:ext cx="6782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flipV="1">
            <a:off x="1905120" y="1676520"/>
            <a:ext cx="0" cy="4038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209680" y="51055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2" name=""/>
          <p:cNvGrpSpPr/>
          <p:nvPr/>
        </p:nvGrpSpPr>
        <p:grpSpPr>
          <a:xfrm>
            <a:off x="1905120" y="1752480"/>
            <a:ext cx="5867280" cy="3276720"/>
            <a:chOff x="1905120" y="1752480"/>
            <a:chExt cx="5867280" cy="3276720"/>
          </a:xfrm>
        </p:grpSpPr>
        <p:grpSp>
          <p:nvGrpSpPr>
            <p:cNvPr id="2593" name=""/>
            <p:cNvGrpSpPr/>
            <p:nvPr/>
          </p:nvGrpSpPr>
          <p:grpSpPr>
            <a:xfrm>
              <a:off x="1905120" y="2133720"/>
              <a:ext cx="5867280" cy="2133360"/>
              <a:chOff x="1905120" y="2133720"/>
              <a:chExt cx="5867280" cy="2133360"/>
            </a:xfrm>
          </p:grpSpPr>
          <p:sp>
            <p:nvSpPr>
              <p:cNvPr id="2594" name=""/>
              <p:cNvSpPr/>
              <p:nvPr/>
            </p:nvSpPr>
            <p:spPr>
              <a:xfrm>
                <a:off x="1905120" y="4267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1905120" y="3556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1905120" y="2844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1905120" y="2133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8" name=""/>
            <p:cNvGrpSpPr/>
            <p:nvPr/>
          </p:nvGrpSpPr>
          <p:grpSpPr>
            <a:xfrm>
              <a:off x="2819520" y="1752480"/>
              <a:ext cx="4343400" cy="3276720"/>
              <a:chOff x="2819520" y="1752480"/>
              <a:chExt cx="4343400" cy="3276720"/>
            </a:xfrm>
          </p:grpSpPr>
          <p:sp>
            <p:nvSpPr>
              <p:cNvPr id="2599" name=""/>
              <p:cNvSpPr/>
              <p:nvPr/>
            </p:nvSpPr>
            <p:spPr>
              <a:xfrm flipV="1">
                <a:off x="28195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flipV="1">
                <a:off x="426708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V="1">
                <a:off x="571500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 flipV="1">
                <a:off x="71629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3" name=""/>
          <p:cNvSpPr/>
          <p:nvPr/>
        </p:nvSpPr>
        <p:spPr>
          <a:xfrm>
            <a:off x="4267080" y="2133720"/>
            <a:ext cx="1447920" cy="2133360"/>
          </a:xfrm>
          <a:prstGeom prst="rect">
            <a:avLst/>
          </a:prstGeom>
          <a:solidFill>
            <a:srgbClr val="00cc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2819520" y="2819520"/>
            <a:ext cx="4343400" cy="761760"/>
          </a:xfrm>
          <a:prstGeom prst="rect">
            <a:avLst/>
          </a:prstGeom>
          <a:solidFill>
            <a:srgbClr val="00ae00">
              <a:alpha val="50000"/>
            </a:srgbClr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wan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1905120" y="5029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2438280" y="39844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 flipV="1">
            <a:off x="2438280" y="426672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5339880" y="5562720"/>
            <a:ext cx="149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310680" y="1523880"/>
            <a:ext cx="149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2797200" y="3581280"/>
            <a:ext cx="1447920" cy="68580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void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3429000" y="4495680"/>
            <a:ext cx="1143000" cy="398880"/>
          </a:xfrm>
          <a:prstGeom prst="borderCallout1">
            <a:avLst>
              <a:gd name="adj1" fmla="val 18750"/>
              <a:gd name="adj2" fmla="val -8333"/>
              <a:gd name="adj3" fmla="val -127768"/>
              <a:gd name="adj4" fmla="val -51791"/>
            </a:avLst>
          </a:prstGeom>
          <a:solidFill>
            <a:srgbClr val="ff95a7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 flipV="1">
            <a:off x="2819520" y="358092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1981080" y="2971800"/>
            <a:ext cx="609840" cy="398880"/>
          </a:xfrm>
          <a:prstGeom prst="borderCallout1">
            <a:avLst>
              <a:gd name="adj1" fmla="val 18750"/>
              <a:gd name="adj2" fmla="val -8333"/>
              <a:gd name="adj3" fmla="val 150856"/>
              <a:gd name="adj4" fmla="val 133800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2819520" y="243828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5" name=""/>
          <p:cNvGraphicFramePr/>
          <p:nvPr/>
        </p:nvGraphicFramePr>
        <p:xfrm>
          <a:off x="7315200" y="1581120"/>
          <a:ext cx="609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1581120"/>
                    <a:ext cx="609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17" name=""/>
          <p:cNvGrpSpPr/>
          <p:nvPr/>
        </p:nvGrpSpPr>
        <p:grpSpPr>
          <a:xfrm>
            <a:off x="6324480" y="1600200"/>
            <a:ext cx="685800" cy="380880"/>
            <a:chOff x="6324480" y="1600200"/>
            <a:chExt cx="685800" cy="380880"/>
          </a:xfrm>
        </p:grpSpPr>
        <p:sp>
          <p:nvSpPr>
            <p:cNvPr id="2618" name=""/>
            <p:cNvSpPr/>
            <p:nvPr/>
          </p:nvSpPr>
          <p:spPr>
            <a:xfrm>
              <a:off x="6324480" y="1600200"/>
              <a:ext cx="685800" cy="3808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9" name=""/>
            <p:cNvGrpSpPr/>
            <p:nvPr/>
          </p:nvGrpSpPr>
          <p:grpSpPr>
            <a:xfrm>
              <a:off x="6406200" y="1658520"/>
              <a:ext cx="522360" cy="175680"/>
              <a:chOff x="6406200" y="1658520"/>
              <a:chExt cx="522360" cy="175680"/>
            </a:xfrm>
          </p:grpSpPr>
          <p:sp>
            <p:nvSpPr>
              <p:cNvPr id="2620" name=""/>
              <p:cNvSpPr/>
              <p:nvPr/>
            </p:nvSpPr>
            <p:spPr>
              <a:xfrm>
                <a:off x="6406200" y="165852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732720" y="165852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2" name=""/>
            <p:cNvSpPr/>
            <p:nvPr/>
          </p:nvSpPr>
          <p:spPr>
            <a:xfrm>
              <a:off x="6520320" y="1863720"/>
              <a:ext cx="293760" cy="87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431760" y="180540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H="1">
              <a:off x="6804720" y="180540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5" name=""/>
          <p:cNvGrpSpPr/>
          <p:nvPr/>
        </p:nvGrpSpPr>
        <p:grpSpPr>
          <a:xfrm>
            <a:off x="762120" y="4419720"/>
            <a:ext cx="685800" cy="380880"/>
            <a:chOff x="762120" y="4419720"/>
            <a:chExt cx="685800" cy="380880"/>
          </a:xfrm>
        </p:grpSpPr>
        <p:sp>
          <p:nvSpPr>
            <p:cNvPr id="2626" name=""/>
            <p:cNvSpPr/>
            <p:nvPr/>
          </p:nvSpPr>
          <p:spPr>
            <a:xfrm>
              <a:off x="762120" y="4419720"/>
              <a:ext cx="685800" cy="3808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7" name=""/>
            <p:cNvGrpSpPr/>
            <p:nvPr/>
          </p:nvGrpSpPr>
          <p:grpSpPr>
            <a:xfrm>
              <a:off x="843840" y="4478040"/>
              <a:ext cx="522360" cy="175680"/>
              <a:chOff x="843840" y="4478040"/>
              <a:chExt cx="522360" cy="175680"/>
            </a:xfrm>
          </p:grpSpPr>
          <p:sp>
            <p:nvSpPr>
              <p:cNvPr id="2628" name=""/>
              <p:cNvSpPr/>
              <p:nvPr/>
            </p:nvSpPr>
            <p:spPr>
              <a:xfrm>
                <a:off x="843840" y="447804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1170360" y="447804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0" name=""/>
            <p:cNvSpPr/>
            <p:nvPr/>
          </p:nvSpPr>
          <p:spPr>
            <a:xfrm>
              <a:off x="957960" y="4683240"/>
              <a:ext cx="293760" cy="87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869400" y="462492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H="1">
              <a:off x="1242360" y="462492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33" name=""/>
          <p:cNvGraphicFramePr/>
          <p:nvPr/>
        </p:nvGraphicFramePr>
        <p:xfrm>
          <a:off x="838080" y="3657600"/>
          <a:ext cx="60984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657600"/>
                    <a:ext cx="6098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5" name=""/>
          <p:cNvGraphicFramePr/>
          <p:nvPr/>
        </p:nvGraphicFramePr>
        <p:xfrm>
          <a:off x="2590920" y="5638680"/>
          <a:ext cx="60948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5638680"/>
                    <a:ext cx="609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7" name=""/>
          <p:cNvSpPr/>
          <p:nvPr/>
        </p:nvSpPr>
        <p:spPr>
          <a:xfrm>
            <a:off x="6095880" y="14479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7238880" y="14479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762120" y="36576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0" name=""/>
          <p:cNvGraphicFramePr/>
          <p:nvPr/>
        </p:nvGraphicFramePr>
        <p:xfrm>
          <a:off x="7315200" y="1581120"/>
          <a:ext cx="60948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5200" y="1581120"/>
                    <a:ext cx="609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2" name=""/>
          <p:cNvSpPr/>
          <p:nvPr/>
        </p:nvSpPr>
        <p:spPr>
          <a:xfrm>
            <a:off x="7238880" y="14479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 flipV="1">
            <a:off x="2438280" y="39625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2590920" y="4495680"/>
            <a:ext cx="609480" cy="398880"/>
          </a:xfrm>
          <a:prstGeom prst="borderCallout1">
            <a:avLst>
              <a:gd name="adj1" fmla="val 18750"/>
              <a:gd name="adj2" fmla="val -8333"/>
              <a:gd name="adj3" fmla="val -68439"/>
              <a:gd name="adj4" fmla="val -26268"/>
            </a:avLst>
          </a:prstGeom>
          <a:solidFill>
            <a:srgbClr val="00ae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 flipV="1">
            <a:off x="2819520" y="2819520"/>
            <a:ext cx="0" cy="730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3048120" y="1905120"/>
            <a:ext cx="1066680" cy="440640"/>
          </a:xfrm>
          <a:prstGeom prst="borderCallout1">
            <a:avLst>
              <a:gd name="adj1" fmla="val 18750"/>
              <a:gd name="adj2" fmla="val -8333"/>
              <a:gd name="adj3" fmla="val 201791"/>
              <a:gd name="adj4" fmla="val -19768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: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 flipV="1">
            <a:off x="2819520" y="2438280"/>
            <a:ext cx="0" cy="34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2209680" y="5105520"/>
            <a:ext cx="1295640" cy="38088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533520" y="4038480"/>
            <a:ext cx="1295280" cy="38124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533520" y="3352680"/>
            <a:ext cx="1295280" cy="38124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533520" y="2666880"/>
            <a:ext cx="1295280" cy="38124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1" dur="indefinite" restart="never" nodeType="tmRoot">
          <p:childTnLst>
            <p:seq>
              <p:cTn id="2932" dur="indefinite" nodeType="mainSeq">
                <p:childTnLst>
                  <p:par>
                    <p:cTn id="2933" fill="hold">
                      <p:stCondLst>
                        <p:cond delay="indefinite"/>
                      </p:stCondLst>
                      <p:childTnLst>
                        <p:par>
                          <p:cTn id="2934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7" dur="500" fill="hold"/>
                                        <p:tgtEl>
                                          <p:spTgt spid="2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500" fill="hold"/>
                                        <p:tgtEl>
                                          <p:spTgt spid="2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500"/>
                            </p:stCondLst>
                            <p:childTnLst>
                              <p:par>
                                <p:cTn id="29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2" dur="500" fill="hold"/>
                                        <p:tgtEl>
                                          <p:spTgt spid="2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500" fill="hold"/>
                                        <p:tgtEl>
                                          <p:spTgt spid="2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8" dur="500"/>
                                        <p:tgtEl>
                                          <p:spTgt spid="2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9" fill="hold">
                            <p:stCondLst>
                              <p:cond delay="500"/>
                            </p:stCondLst>
                            <p:childTnLst>
                              <p:par>
                                <p:cTn id="29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2" dur="500" fill="hold"/>
                                        <p:tgtEl>
                                          <p:spTgt spid="2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500" fill="hold"/>
                                        <p:tgtEl>
                                          <p:spTgt spid="2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7" dur="500"/>
                                        <p:tgtEl>
                                          <p:spTgt spid="2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2" dur="500"/>
                                        <p:tgtEl>
                                          <p:spTgt spid="2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3" fill="hold">
                            <p:stCondLst>
                              <p:cond delay="500"/>
                            </p:stCondLst>
                            <p:childTnLst>
                              <p:par>
                                <p:cTn id="29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6" dur="500" fill="hold"/>
                                        <p:tgtEl>
                                          <p:spTgt spid="2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500" fill="hold"/>
                                        <p:tgtEl>
                                          <p:spTgt spid="2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1" dur="500"/>
                                        <p:tgtEl>
                                          <p:spTgt spid="2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fill="hold">
                      <p:stCondLst>
                        <p:cond delay="indefinite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6" dur="500"/>
                                        <p:tgtEl>
                                          <p:spTgt spid="2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7" fill="hold">
                      <p:stCondLst>
                        <p:cond delay="indefinite"/>
                      </p:stCondLst>
                      <p:childTnLst>
                        <p:par>
                          <p:cTn id="2978" fill="hold">
                            <p:stCondLst>
                              <p:cond delay="0"/>
                            </p:stCondLst>
                            <p:childTnLst>
                              <p:par>
                                <p:cTn id="2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1" dur="500"/>
                                        <p:tgtEl>
                                          <p:spTgt spid="2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2" fill="hold">
                            <p:stCondLst>
                              <p:cond delay="500"/>
                            </p:stCondLst>
                            <p:childTnLst>
                              <p:par>
                                <p:cTn id="29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5" dur="500"/>
                                        <p:tgtEl>
                                          <p:spTgt spid="2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1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4" fill="hold">
                      <p:stCondLst>
                        <p:cond delay="indefinite"/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8" dur="500"/>
                                        <p:tgtEl>
                                          <p:spTgt spid="2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2" dur="5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5" dur="5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6" dur="5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7" fill="hold">
                      <p:stCondLst>
                        <p:cond delay="indefinite"/>
                      </p:stCondLst>
                      <p:childTnLst>
                        <p:par>
                          <p:cTn id="3018" fill="hold">
                            <p:stCondLst>
                              <p:cond delay="0"/>
                            </p:stCondLst>
                            <p:childTnLst>
                              <p:par>
                                <p:cTn id="3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1" dur="5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fill="hold">
                      <p:stCondLst>
                        <p:cond delay="indefinite"/>
                      </p:stCondLst>
                      <p:childTnLst>
                        <p:par>
                          <p:cTn id="3023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6" dur="500"/>
                                        <p:tgtEl>
                                          <p:spTgt spid="2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7" fill="hold">
                            <p:stCondLst>
                              <p:cond delay="500"/>
                            </p:stCondLst>
                            <p:childTnLst>
                              <p:par>
                                <p:cTn id="30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0" dur="500" fill="hold"/>
                                        <p:tgtEl>
                                          <p:spTgt spid="2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1" dur="500" fill="hold"/>
                                        <p:tgtEl>
                                          <p:spTgt spid="2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2" fill="hold">
                      <p:stCondLst>
                        <p:cond delay="indefinite"/>
                      </p:stCondLst>
                      <p:childTnLst>
                        <p:par>
                          <p:cTn id="3033" fill="hold">
                            <p:stCondLst>
                              <p:cond delay="0"/>
                            </p:stCondLst>
                            <p:childTnLst>
                              <p:par>
                                <p:cTn id="30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36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38" fill="hold">
                      <p:stCondLst>
                        <p:cond delay="indefinite"/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2" fill="hold">
                            <p:stCondLst>
                              <p:cond delay="500"/>
                            </p:stCondLst>
                            <p:childTnLst>
                              <p:par>
                                <p:cTn id="30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5" dur="500" fill="hold"/>
                                        <p:tgtEl>
                                          <p:spTgt spid="2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2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1" dur="500"/>
                                        <p:tgtEl>
                                          <p:spTgt spid="2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2" fill="hold">
                      <p:stCondLst>
                        <p:cond delay="indefinite"/>
                      </p:stCondLst>
                      <p:childTnLst>
                        <p:par>
                          <p:cTn id="3053" fill="hold">
                            <p:stCondLst>
                              <p:cond delay="0"/>
                            </p:stCondLst>
                            <p:childTnLst>
                              <p:par>
                                <p:cTn id="3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6" dur="500"/>
                                        <p:tgtEl>
                                          <p:spTgt spid="2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500"/>
                            </p:stCondLst>
                            <p:childTnLst>
                              <p:par>
                                <p:cTn id="30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0" dur="500" fill="hold"/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500" fill="hold"/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fill="hold">
                      <p:stCondLst>
                        <p:cond delay="indefinite"/>
                      </p:stCondLst>
                      <p:childTnLst>
                        <p:par>
                          <p:cTn id="3063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6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2" dur="5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fill="hold">
                            <p:stCondLst>
                              <p:cond delay="500"/>
                            </p:stCondLst>
                            <p:childTnLst>
                              <p:par>
                                <p:cTn id="30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6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7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8" fill="hold">
                      <p:stCondLst>
                        <p:cond delay="indefinite"/>
                      </p:stCondLst>
                      <p:childTnLst>
                        <p:par>
                          <p:cTn id="3079" fill="hold">
                            <p:stCondLst>
                              <p:cond delay="0"/>
                            </p:stCondLst>
                            <p:childTnLst>
                              <p:par>
                                <p:cTn id="30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82" dur="500"/>
                                        <p:tgtEl>
                                          <p:spTgt spid="2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84" fill="hold">
                      <p:stCondLst>
                        <p:cond delay="indefinite"/>
                      </p:stCondLst>
                      <p:childTnLst>
                        <p:par>
                          <p:cTn id="3085" fill="hold">
                            <p:stCondLst>
                              <p:cond delay="0"/>
                            </p:stCondLst>
                            <p:childTnLst>
                              <p:par>
                                <p:cTn id="3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8" fill="hold">
                            <p:stCondLst>
                              <p:cond delay="500"/>
                            </p:stCondLst>
                            <p:childTnLst>
                              <p:par>
                                <p:cTn id="30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1" dur="500" fill="hold"/>
                                        <p:tgtEl>
                                          <p:spTgt spid="2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2" dur="500" fill="hold"/>
                                        <p:tgtEl>
                                          <p:spTgt spid="2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3" fill="hold">
                      <p:stCondLst>
                        <p:cond delay="indefinite"/>
                      </p:stCondLst>
                      <p:childTnLst>
                        <p:par>
                          <p:cTn id="3094" fill="hold">
                            <p:stCondLst>
                              <p:cond delay="0"/>
                            </p:stCondLst>
                            <p:childTnLst>
                              <p:par>
                                <p:cTn id="30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7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1" dur="500" fill="hold"/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/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500"/>
                            </p:stCondLst>
                            <p:childTnLst>
                              <p:par>
                                <p:cTn id="3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/>
                                        <p:tgtEl>
                                          <p:spTgt spid="2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/>
                                        <p:tgtEl>
                                          <p:spTgt spid="2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7" dur="500"/>
                                        <p:tgtEl>
                                          <p:spTgt spid="2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8" fill="hold">
                      <p:stCondLst>
                        <p:cond delay="indefinite"/>
                      </p:stCondLst>
                      <p:childTnLst>
                        <p:par>
                          <p:cTn id="3119" fill="hold">
                            <p:stCondLst>
                              <p:cond delay="0"/>
                            </p:stCondLst>
                            <p:childTnLst>
                              <p:par>
                                <p:cTn id="3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2" fill="hold">
                            <p:stCondLst>
                              <p:cond delay="500"/>
                            </p:stCondLst>
                            <p:childTnLst>
                              <p:par>
                                <p:cTn id="3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5" dur="500" fill="hold"/>
                                        <p:tgtEl>
                                          <p:spTgt spid="2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500" fill="hold"/>
                                        <p:tgtEl>
                                          <p:spTgt spid="2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fill="hold">
                      <p:stCondLst>
                        <p:cond delay="indefinite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1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2" fill="hold">
                      <p:stCondLst>
                        <p:cond delay="indefinite"/>
                      </p:stCondLst>
                      <p:childTnLst>
                        <p:par>
                          <p:cTn id="3133" fill="hold">
                            <p:stCondLst>
                              <p:cond delay="0"/>
                            </p:stCondLst>
                            <p:childTnLst>
                              <p:par>
                                <p:cTn id="3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6" dur="5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"/>
          <p:cNvSpPr/>
          <p:nvPr/>
        </p:nvSpPr>
        <p:spPr>
          <a:xfrm>
            <a:off x="1905120" y="2819520"/>
            <a:ext cx="5790960" cy="761760"/>
          </a:xfrm>
          <a:prstGeom prst="rect">
            <a:avLst/>
          </a:prstGeom>
          <a:solidFill>
            <a:srgbClr val="00ae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2819520" y="1523880"/>
            <a:ext cx="1447560" cy="3505320"/>
          </a:xfrm>
          <a:prstGeom prst="rect">
            <a:avLst/>
          </a:prstGeom>
          <a:solidFill>
            <a:srgbClr val="66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1905120" y="2133720"/>
            <a:ext cx="5790960" cy="213336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5715000" y="1523880"/>
            <a:ext cx="1447920" cy="3505320"/>
          </a:xfrm>
          <a:prstGeom prst="rect">
            <a:avLst/>
          </a:prstGeom>
          <a:solidFill>
            <a:srgbClr val="66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04920" y="1752480"/>
            <a:ext cx="15238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1066680" y="5029200"/>
            <a:ext cx="6782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V="1">
            <a:off x="1905120" y="1676520"/>
            <a:ext cx="0" cy="4038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0" name=""/>
          <p:cNvGrpSpPr/>
          <p:nvPr/>
        </p:nvGrpSpPr>
        <p:grpSpPr>
          <a:xfrm>
            <a:off x="1905120" y="1752480"/>
            <a:ext cx="5867280" cy="3276720"/>
            <a:chOff x="1905120" y="1752480"/>
            <a:chExt cx="5867280" cy="3276720"/>
          </a:xfrm>
        </p:grpSpPr>
        <p:grpSp>
          <p:nvGrpSpPr>
            <p:cNvPr id="2661" name=""/>
            <p:cNvGrpSpPr/>
            <p:nvPr/>
          </p:nvGrpSpPr>
          <p:grpSpPr>
            <a:xfrm>
              <a:off x="1905120" y="2133720"/>
              <a:ext cx="5867280" cy="2133360"/>
              <a:chOff x="1905120" y="2133720"/>
              <a:chExt cx="5867280" cy="2133360"/>
            </a:xfrm>
          </p:grpSpPr>
          <p:sp>
            <p:nvSpPr>
              <p:cNvPr id="2662" name=""/>
              <p:cNvSpPr/>
              <p:nvPr/>
            </p:nvSpPr>
            <p:spPr>
              <a:xfrm>
                <a:off x="1905120" y="4267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1905120" y="3556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1905120" y="2844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1905120" y="2133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6" name=""/>
            <p:cNvGrpSpPr/>
            <p:nvPr/>
          </p:nvGrpSpPr>
          <p:grpSpPr>
            <a:xfrm>
              <a:off x="2819520" y="1752480"/>
              <a:ext cx="4343400" cy="3276720"/>
              <a:chOff x="2819520" y="1752480"/>
              <a:chExt cx="4343400" cy="3276720"/>
            </a:xfrm>
          </p:grpSpPr>
          <p:sp>
            <p:nvSpPr>
              <p:cNvPr id="2667" name=""/>
              <p:cNvSpPr/>
              <p:nvPr/>
            </p:nvSpPr>
            <p:spPr>
              <a:xfrm flipV="1">
                <a:off x="28195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 flipV="1">
                <a:off x="426708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>
                <a:off x="571500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1629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1" name=""/>
          <p:cNvSpPr/>
          <p:nvPr/>
        </p:nvSpPr>
        <p:spPr>
          <a:xfrm>
            <a:off x="5715000" y="2133720"/>
            <a:ext cx="1447920" cy="2133360"/>
          </a:xfrm>
          <a:prstGeom prst="rect">
            <a:avLst/>
          </a:prstGeom>
          <a:solidFill>
            <a:srgbClr val="00cc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2819520" y="2819520"/>
            <a:ext cx="1447560" cy="761760"/>
          </a:xfrm>
          <a:prstGeom prst="rect">
            <a:avLst/>
          </a:prstGeom>
          <a:solidFill>
            <a:srgbClr val="00ae00">
              <a:alpha val="50000"/>
            </a:srgbClr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wan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1905120" y="5029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2438280" y="39844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 flipV="1">
            <a:off x="2438280" y="426672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5339880" y="5562720"/>
            <a:ext cx="149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310680" y="1523880"/>
            <a:ext cx="149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3352680" y="4495680"/>
            <a:ext cx="609840" cy="398880"/>
          </a:xfrm>
          <a:prstGeom prst="borderCallout1">
            <a:avLst>
              <a:gd name="adj1" fmla="val 18750"/>
              <a:gd name="adj2" fmla="val -8333"/>
              <a:gd name="adj3" fmla="val -127768"/>
              <a:gd name="adj4" fmla="val -97106"/>
            </a:avLst>
          </a:prstGeom>
          <a:solidFill>
            <a:srgbClr val="00ae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4419720" y="406548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-111810"/>
              <a:gd name="adj4" fmla="val -88861"/>
            </a:avLst>
          </a:prstGeom>
          <a:solidFill>
            <a:srgbClr val="ff95a7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2819520" y="398448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2209680" y="5105520"/>
            <a:ext cx="1295640" cy="38088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2" name=""/>
          <p:cNvGraphicFramePr/>
          <p:nvPr/>
        </p:nvGraphicFramePr>
        <p:xfrm>
          <a:off x="7315200" y="1581120"/>
          <a:ext cx="609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1581120"/>
                    <a:ext cx="609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84" name=""/>
          <p:cNvGrpSpPr/>
          <p:nvPr/>
        </p:nvGrpSpPr>
        <p:grpSpPr>
          <a:xfrm>
            <a:off x="6324480" y="1600200"/>
            <a:ext cx="685800" cy="380880"/>
            <a:chOff x="6324480" y="1600200"/>
            <a:chExt cx="685800" cy="380880"/>
          </a:xfrm>
        </p:grpSpPr>
        <p:sp>
          <p:nvSpPr>
            <p:cNvPr id="2685" name=""/>
            <p:cNvSpPr/>
            <p:nvPr/>
          </p:nvSpPr>
          <p:spPr>
            <a:xfrm>
              <a:off x="6324480" y="1600200"/>
              <a:ext cx="685800" cy="3808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6" name=""/>
            <p:cNvGrpSpPr/>
            <p:nvPr/>
          </p:nvGrpSpPr>
          <p:grpSpPr>
            <a:xfrm>
              <a:off x="6406200" y="1658520"/>
              <a:ext cx="522360" cy="175680"/>
              <a:chOff x="6406200" y="1658520"/>
              <a:chExt cx="522360" cy="175680"/>
            </a:xfrm>
          </p:grpSpPr>
          <p:sp>
            <p:nvSpPr>
              <p:cNvPr id="2687" name=""/>
              <p:cNvSpPr/>
              <p:nvPr/>
            </p:nvSpPr>
            <p:spPr>
              <a:xfrm>
                <a:off x="6406200" y="165852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6732720" y="165852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9" name=""/>
            <p:cNvSpPr/>
            <p:nvPr/>
          </p:nvSpPr>
          <p:spPr>
            <a:xfrm>
              <a:off x="6520320" y="1863720"/>
              <a:ext cx="293760" cy="87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431760" y="180540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flipH="1">
              <a:off x="6804720" y="180540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2" name=""/>
          <p:cNvGrpSpPr/>
          <p:nvPr/>
        </p:nvGrpSpPr>
        <p:grpSpPr>
          <a:xfrm>
            <a:off x="762120" y="4419720"/>
            <a:ext cx="685800" cy="380880"/>
            <a:chOff x="762120" y="4419720"/>
            <a:chExt cx="685800" cy="380880"/>
          </a:xfrm>
        </p:grpSpPr>
        <p:sp>
          <p:nvSpPr>
            <p:cNvPr id="2693" name=""/>
            <p:cNvSpPr/>
            <p:nvPr/>
          </p:nvSpPr>
          <p:spPr>
            <a:xfrm>
              <a:off x="762120" y="4419720"/>
              <a:ext cx="685800" cy="3808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4" name=""/>
            <p:cNvGrpSpPr/>
            <p:nvPr/>
          </p:nvGrpSpPr>
          <p:grpSpPr>
            <a:xfrm>
              <a:off x="843840" y="4478040"/>
              <a:ext cx="522360" cy="175680"/>
              <a:chOff x="843840" y="4478040"/>
              <a:chExt cx="522360" cy="175680"/>
            </a:xfrm>
          </p:grpSpPr>
          <p:sp>
            <p:nvSpPr>
              <p:cNvPr id="2695" name=""/>
              <p:cNvSpPr/>
              <p:nvPr/>
            </p:nvSpPr>
            <p:spPr>
              <a:xfrm>
                <a:off x="843840" y="447804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1170360" y="447804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7" name=""/>
            <p:cNvSpPr/>
            <p:nvPr/>
          </p:nvSpPr>
          <p:spPr>
            <a:xfrm>
              <a:off x="957960" y="4683240"/>
              <a:ext cx="293760" cy="87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869400" y="462492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H="1">
              <a:off x="1242360" y="462492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00" name=""/>
          <p:cNvGraphicFramePr/>
          <p:nvPr/>
        </p:nvGraphicFramePr>
        <p:xfrm>
          <a:off x="838080" y="3657600"/>
          <a:ext cx="60984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657600"/>
                    <a:ext cx="6098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2" name=""/>
          <p:cNvGraphicFramePr/>
          <p:nvPr/>
        </p:nvGraphicFramePr>
        <p:xfrm>
          <a:off x="2590920" y="5638680"/>
          <a:ext cx="60948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5638680"/>
                    <a:ext cx="609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4" name=""/>
          <p:cNvSpPr/>
          <p:nvPr/>
        </p:nvSpPr>
        <p:spPr>
          <a:xfrm>
            <a:off x="6095880" y="14479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7238880" y="14479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2514600" y="563868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7" name=""/>
          <p:cNvGraphicFramePr/>
          <p:nvPr/>
        </p:nvGraphicFramePr>
        <p:xfrm>
          <a:off x="7315200" y="1581120"/>
          <a:ext cx="60948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5200" y="1581120"/>
                    <a:ext cx="609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9" name=""/>
          <p:cNvSpPr/>
          <p:nvPr/>
        </p:nvSpPr>
        <p:spPr>
          <a:xfrm>
            <a:off x="7238880" y="14479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 flipV="1">
            <a:off x="2438280" y="39625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2590920" y="4495680"/>
            <a:ext cx="609480" cy="398880"/>
          </a:xfrm>
          <a:prstGeom prst="borderCallout1">
            <a:avLst>
              <a:gd name="adj1" fmla="val 18750"/>
              <a:gd name="adj2" fmla="val -8333"/>
              <a:gd name="adj3" fmla="val -68439"/>
              <a:gd name="adj4" fmla="val -26268"/>
            </a:avLst>
          </a:prstGeom>
          <a:solidFill>
            <a:srgbClr val="00ae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 flipV="1">
            <a:off x="3581280" y="3581280"/>
            <a:ext cx="0" cy="42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2895480" y="2209680"/>
            <a:ext cx="1067040" cy="440640"/>
          </a:xfrm>
          <a:prstGeom prst="borderCallout1">
            <a:avLst>
              <a:gd name="adj1" fmla="val 18750"/>
              <a:gd name="adj2" fmla="val -8333"/>
              <a:gd name="adj3" fmla="val 301629"/>
              <a:gd name="adj4" fmla="val 130486"/>
            </a:avLst>
          </a:prstGeom>
          <a:solidFill>
            <a:srgbClr val="00ae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: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2209680" y="51055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3581280" y="35812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4343400" y="35812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 flipV="1">
            <a:off x="5105520" y="2971440"/>
            <a:ext cx="0" cy="577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3733920" y="5105520"/>
            <a:ext cx="1295280" cy="38088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533520" y="4038480"/>
            <a:ext cx="1295280" cy="38124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533520" y="3352680"/>
            <a:ext cx="1295280" cy="38124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7" dur="indefinite" restart="never" nodeType="tmRoot">
          <p:childTnLst>
            <p:seq>
              <p:cTn id="3138" dur="indefinite" nodeType="mainSeq">
                <p:childTnLst>
                  <p:par>
                    <p:cTn id="3139" fill="hold">
                      <p:stCondLst>
                        <p:cond delay="indefinite"/>
                      </p:stCondLst>
                      <p:childTnLst>
                        <p:par>
                          <p:cTn id="3140" fill="hold">
                            <p:stCondLst>
                              <p:cond delay="0"/>
                            </p:stCondLst>
                            <p:childTnLst>
                              <p:par>
                                <p:cTn id="3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3" dur="5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4" dur="5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5" fill="hold">
                            <p:stCondLst>
                              <p:cond delay="500"/>
                            </p:stCondLst>
                            <p:childTnLst>
                              <p:par>
                                <p:cTn id="3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8" dur="500" fill="hold"/>
                                        <p:tgtEl>
                                          <p:spTgt spid="2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9" dur="500" fill="hold"/>
                                        <p:tgtEl>
                                          <p:spTgt spid="2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fill="hold">
                      <p:stCondLst>
                        <p:cond delay="indefinite"/>
                      </p:stCondLst>
                      <p:childTnLst>
                        <p:par>
                          <p:cTn id="3151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54" dur="500"/>
                                        <p:tgtEl>
                                          <p:spTgt spid="2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5" fill="hold">
                            <p:stCondLst>
                              <p:cond delay="500"/>
                            </p:stCondLst>
                            <p:childTnLst>
                              <p:par>
                                <p:cTn id="3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8" dur="5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5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3" dur="500"/>
                                        <p:tgtEl>
                                          <p:spTgt spid="2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8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9" fill="hold">
                            <p:stCondLst>
                              <p:cond delay="500"/>
                            </p:stCondLst>
                            <p:childTnLst>
                              <p:par>
                                <p:cTn id="3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2" dur="500" fill="hold"/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3" dur="500" fill="hold"/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7" dur="500"/>
                                        <p:tgtEl>
                                          <p:spTgt spid="2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2" dur="500"/>
                                        <p:tgtEl>
                                          <p:spTgt spid="2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fill="hold">
                      <p:stCondLst>
                        <p:cond delay="indefinite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7" dur="5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8" fill="hold">
                            <p:stCondLst>
                              <p:cond delay="500"/>
                            </p:stCondLst>
                            <p:childTnLst>
                              <p:par>
                                <p:cTn id="3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1" dur="500"/>
                                        <p:tgtEl>
                                          <p:spTgt spid="2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3" fill="hold">
                      <p:stCondLst>
                        <p:cond delay="indefinite"/>
                      </p:stCondLst>
                      <p:childTnLst>
                        <p:par>
                          <p:cTn id="3194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7" dur="500" fill="hold"/>
                                        <p:tgtEl>
                                          <p:spTgt spid="2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8" dur="500" fill="hold"/>
                                        <p:tgtEl>
                                          <p:spTgt spid="2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4" dur="500"/>
                                        <p:tgtEl>
                                          <p:spTgt spid="2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5" fill="hold">
                            <p:stCondLst>
                              <p:cond delay="500"/>
                            </p:stCondLst>
                            <p:childTnLst>
                              <p:par>
                                <p:cTn id="3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8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10" fill="hold">
                      <p:stCondLst>
                        <p:cond delay="indefinite"/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4" dur="500" fill="hold"/>
                                        <p:tgtEl>
                                          <p:spTgt spid="2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5" dur="500" fill="hold"/>
                                        <p:tgtEl>
                                          <p:spTgt spid="2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17" fill="hold">
                      <p:stCondLst>
                        <p:cond delay="indefinite"/>
                      </p:stCondLst>
                      <p:childTnLst>
                        <p:par>
                          <p:cTn id="3218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1" dur="500"/>
                                        <p:tgtEl>
                                          <p:spTgt spid="2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2" fill="hold">
                      <p:stCondLst>
                        <p:cond delay="indefinite"/>
                      </p:stCondLst>
                      <p:childTnLst>
                        <p:par>
                          <p:cTn id="3223" fill="hold">
                            <p:stCondLst>
                              <p:cond delay="0"/>
                            </p:stCondLst>
                            <p:childTnLst>
                              <p:par>
                                <p:cTn id="3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6" dur="5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0" dur="500" fill="hold"/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500" fill="hold"/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6" dur="500"/>
                                        <p:tgtEl>
                                          <p:spTgt spid="2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2" fill="hold">
                            <p:stCondLst>
                              <p:cond delay="500"/>
                            </p:stCondLst>
                            <p:childTnLst>
                              <p:par>
                                <p:cTn id="3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5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6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1" dur="5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2" fill="hold">
                      <p:stCondLst>
                        <p:cond delay="indefinite"/>
                      </p:stCondLst>
                      <p:childTnLst>
                        <p:par>
                          <p:cTn id="3253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6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7" fill="hold">
                            <p:stCondLst>
                              <p:cond delay="500"/>
                            </p:stCondLst>
                            <p:childTnLst>
                              <p:par>
                                <p:cTn id="3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0" dur="500" fill="hold"/>
                                        <p:tgtEl>
                                          <p:spTgt spid="2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1" dur="500" fill="hold"/>
                                        <p:tgtEl>
                                          <p:spTgt spid="2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6" dur="5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2" fill="hold">
                            <p:stCondLst>
                              <p:cond delay="500"/>
                            </p:stCondLst>
                            <p:childTnLst>
                              <p:par>
                                <p:cTn id="3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5" dur="500" fill="hold"/>
                                        <p:tgtEl>
                                          <p:spTgt spid="2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2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1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2" fill="hold">
                      <p:stCondLst>
                        <p:cond delay="indefinite"/>
                      </p:stCondLst>
                      <p:childTnLst>
                        <p:par>
                          <p:cTn id="3283" fill="hold">
                            <p:stCondLst>
                              <p:cond delay="0"/>
                            </p:stCondLst>
                            <p:childTnLst>
                              <p:par>
                                <p:cTn id="3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6" dur="500"/>
                                        <p:tgtEl>
                                          <p:spTgt spid="2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0" dur="500" fill="hold"/>
                                        <p:tgtEl>
                                          <p:spTgt spid="2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1" dur="500" fill="hold"/>
                                        <p:tgtEl>
                                          <p:spTgt spid="2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6" dur="500"/>
                                        <p:tgtEl>
                                          <p:spTgt spid="2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2" dur="500"/>
                                        <p:tgtEl>
                                          <p:spTgt spid="2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2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500" fill="hold"/>
                                        <p:tgtEl>
                                          <p:spTgt spid="2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8" fill="hold">
                      <p:stCondLst>
                        <p:cond delay="indefinite"/>
                      </p:stCondLst>
                      <p:childTnLst>
                        <p:par>
                          <p:cTn id="3309" fill="hold">
                            <p:stCondLst>
                              <p:cond delay="0"/>
                            </p:stCondLst>
                            <p:childTnLst>
                              <p:par>
                                <p:cTn id="3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6" dur="500" fill="hold"/>
                                        <p:tgtEl>
                                          <p:spTgt spid="2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7" dur="500" fill="hold"/>
                                        <p:tgtEl>
                                          <p:spTgt spid="2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2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fill="hold">
                      <p:stCondLst>
                        <p:cond delay="indefinite"/>
                      </p:stCondLst>
                      <p:childTnLst>
                        <p:par>
                          <p:cTn id="3324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3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0" dur="500" fill="hold"/>
                                        <p:tgtEl>
                                          <p:spTgt spid="2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1" dur="500" fill="hold"/>
                                        <p:tgtEl>
                                          <p:spTgt spid="2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2" fill="hold">
                      <p:stCondLst>
                        <p:cond delay="indefinite"/>
                      </p:stCondLst>
                      <p:childTnLst>
                        <p:par>
                          <p:cTn id="3333" fill="hold">
                            <p:stCondLst>
                              <p:cond delay="0"/>
                            </p:stCondLst>
                            <p:childTnLst>
                              <p:par>
                                <p:cTn id="3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6" dur="500"/>
                                        <p:tgtEl>
                                          <p:spTgt spid="2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1" dur="500"/>
                                        <p:tgtEl>
                                          <p:spTgt spid="2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rocess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number of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fe St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 safe stat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fe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nstance/typ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tended Allocation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nstances/typ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nker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2" dur="indefinite" restart="never" nodeType="tmRoot">
          <p:childTnLst>
            <p:seq>
              <p:cTn id="3343" dur="indefinite" nodeType="mainSeq">
                <p:childTnLst>
                  <p:par>
                    <p:cTn id="3344" fill="hold">
                      <p:stCondLst>
                        <p:cond delay="indefinite"/>
                      </p:stCondLst>
                      <p:childTnLst>
                        <p:par>
                          <p:cTn id="3345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8" dur="500"/>
                                        <p:tgtEl>
                                          <p:spTgt spid="2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1" dur="500"/>
                                        <p:tgtEl>
                                          <p:spTgt spid="2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fill="hold">
                      <p:stCondLst>
                        <p:cond delay="indefinite"/>
                      </p:stCondLst>
                      <p:childTnLst>
                        <p:par>
                          <p:cTn id="3353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6" dur="500"/>
                                        <p:tgtEl>
                                          <p:spTgt spid="2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9" dur="500"/>
                                        <p:tgtEl>
                                          <p:spTgt spid="2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4" dur="500"/>
                                        <p:tgtEl>
                                          <p:spTgt spid="2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7" dur="500"/>
                                        <p:tgtEl>
                                          <p:spTgt spid="2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0" dur="500"/>
                                        <p:tgtEl>
                                          <p:spTgt spid="2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f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get up to its maxim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me or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out deadloc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 rot="1981200">
            <a:off x="6477120" y="2590560"/>
            <a:ext cx="2057400" cy="1828800"/>
          </a:xfrm>
          <a:prstGeom prst="irregularSeal2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A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685800" y="342900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fe Sequence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ch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´s requests can be satisfied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VAILABLE + Allocated(P</a:t>
            </a:r>
            <a:r>
              <a:rPr b="1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k &lt;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: wait until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k&lt;i)  fin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1" dur="indefinite" restart="never" nodeType="tmRoot">
          <p:childTnLst>
            <p:seq>
              <p:cTn id="3372" dur="indefinite" nodeType="mainSeq">
                <p:childTnLst>
                  <p:par>
                    <p:cTn id="3373" fill="hold">
                      <p:stCondLst>
                        <p:cond delay="indefinite"/>
                      </p:stCondLst>
                      <p:childTnLst>
                        <p:par>
                          <p:cTn id="3374" fill="hold">
                            <p:stCondLst>
                              <p:cond delay="0"/>
                            </p:stCondLst>
                            <p:childTnLst>
                              <p:par>
                                <p:cTn id="3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7" dur="500"/>
                                        <p:tgtEl>
                                          <p:spTgt spid="2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2" dur="500"/>
                                        <p:tgtEl>
                                          <p:spTgt spid="2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3" fill="hold">
                      <p:stCondLst>
                        <p:cond delay="indefinite"/>
                      </p:stCondLst>
                      <p:childTnLst>
                        <p:par>
                          <p:cTn id="3384" fill="hold">
                            <p:stCondLst>
                              <p:cond delay="0"/>
                            </p:stCondLst>
                            <p:childTnLst>
                              <p:par>
                                <p:cTn id="3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7" dur="500"/>
                                        <p:tgtEl>
                                          <p:spTgt spid="2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8" fill="hold">
                      <p:stCondLst>
                        <p:cond delay="indefinite"/>
                      </p:stCondLst>
                      <p:childTnLst>
                        <p:par>
                          <p:cTn id="3389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2" dur="500"/>
                                        <p:tgtEl>
                                          <p:spTgt spid="2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fill="hold">
                      <p:stCondLst>
                        <p:cond delay="indefinite"/>
                      </p:stCondLst>
                      <p:childTnLst>
                        <p:par>
                          <p:cTn id="3394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7" dur="500"/>
                                        <p:tgtEl>
                                          <p:spTgt spid="2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fill="hold">
                      <p:stCondLst>
                        <p:cond delay="indefinite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2" dur="500"/>
                                        <p:tgtEl>
                                          <p:spTgt spid="2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3" fill="hold">
                            <p:stCondLst>
                              <p:cond delay="500"/>
                            </p:stCondLst>
                            <p:childTnLst>
                              <p:par>
                                <p:cTn id="340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6" dur="500" fill="hold"/>
                                        <p:tgtEl>
                                          <p:spTgt spid="2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7" dur="500" fill="hold"/>
                                        <p:tgtEl>
                                          <p:spTgt spid="2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7" name=""/>
          <p:cNvGrpSpPr/>
          <p:nvPr/>
        </p:nvGrpSpPr>
        <p:grpSpPr>
          <a:xfrm>
            <a:off x="4648320" y="3505320"/>
            <a:ext cx="3886200" cy="1447560"/>
            <a:chOff x="4648320" y="3505320"/>
            <a:chExt cx="3886200" cy="1447560"/>
          </a:xfrm>
        </p:grpSpPr>
        <p:sp>
          <p:nvSpPr>
            <p:cNvPr id="2728" name=""/>
            <p:cNvSpPr/>
            <p:nvPr/>
          </p:nvSpPr>
          <p:spPr>
            <a:xfrm>
              <a:off x="4648320" y="3505320"/>
              <a:ext cx="3886200" cy="1447560"/>
            </a:xfrm>
            <a:custGeom>
              <a:avLst/>
              <a:gdLst/>
              <a:ahLst/>
              <a:rect l="l" t="t" r="r" b="b"/>
              <a:pathLst>
                <a:path w="2448" h="912">
                  <a:moveTo>
                    <a:pt x="0" y="912"/>
                  </a:moveTo>
                  <a:lnTo>
                    <a:pt x="2448" y="288"/>
                  </a:lnTo>
                  <a:lnTo>
                    <a:pt x="2448" y="0"/>
                  </a:lnTo>
                  <a:lnTo>
                    <a:pt x="0" y="0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695480" y="3594240"/>
              <a:ext cx="155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fe St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0" name=""/>
          <p:cNvGrpSpPr/>
          <p:nvPr/>
        </p:nvGrpSpPr>
        <p:grpSpPr>
          <a:xfrm>
            <a:off x="4648320" y="3962520"/>
            <a:ext cx="3886200" cy="1752480"/>
            <a:chOff x="4648320" y="3962520"/>
            <a:chExt cx="3886200" cy="1752480"/>
          </a:xfrm>
        </p:grpSpPr>
        <p:sp>
          <p:nvSpPr>
            <p:cNvPr id="2731" name=""/>
            <p:cNvSpPr/>
            <p:nvPr/>
          </p:nvSpPr>
          <p:spPr>
            <a:xfrm>
              <a:off x="4648320" y="3962520"/>
              <a:ext cx="3886200" cy="1752480"/>
            </a:xfrm>
            <a:custGeom>
              <a:avLst/>
              <a:gdLst/>
              <a:ahLst/>
              <a:rect l="l" t="t" r="r" b="b"/>
              <a:pathLst>
                <a:path w="2448" h="1104">
                  <a:moveTo>
                    <a:pt x="0" y="624"/>
                  </a:moveTo>
                  <a:lnTo>
                    <a:pt x="2448" y="0"/>
                  </a:lnTo>
                  <a:lnTo>
                    <a:pt x="2448" y="1104"/>
                  </a:lnTo>
                  <a:lnTo>
                    <a:pt x="0" y="110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95a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593400" y="5257800"/>
              <a:ext cx="186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safe St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 st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Dead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lo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  Unsafe st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afe st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adlock Possi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4876920" y="5029200"/>
            <a:ext cx="1600200" cy="6094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5105520" y="4191120"/>
            <a:ext cx="152280" cy="15228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5943600" y="4343400"/>
            <a:ext cx="152280" cy="15228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8" name=""/>
          <p:cNvCxnSpPr>
            <a:stCxn id="2736" idx="6"/>
            <a:endCxn id="2737" idx="2"/>
          </p:cNvCxnSpPr>
          <p:nvPr/>
        </p:nvCxnSpPr>
        <p:spPr>
          <a:xfrm>
            <a:off x="5257440" y="4267080"/>
            <a:ext cx="686520" cy="153360"/>
          </a:xfrm>
          <a:prstGeom prst="curvedConnector5">
            <a:avLst>
              <a:gd name="adj1" fmla="val 50000"/>
              <a:gd name="adj2" fmla="val 49882"/>
              <a:gd name="adj3" fmla="val 5000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39" name=""/>
          <p:cNvSpPr/>
          <p:nvPr/>
        </p:nvSpPr>
        <p:spPr>
          <a:xfrm>
            <a:off x="7010280" y="449568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6553080" y="495288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1" name=""/>
          <p:cNvCxnSpPr>
            <a:stCxn id="2739" idx="5"/>
            <a:endCxn id="2740" idx="6"/>
          </p:cNvCxnSpPr>
          <p:nvPr/>
        </p:nvCxnSpPr>
        <p:spPr>
          <a:xfrm rot="5400000">
            <a:off x="6720840" y="4610160"/>
            <a:ext cx="403920" cy="435600"/>
          </a:xfrm>
          <a:prstGeom prst="curvedConnector2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742" name=""/>
          <p:cNvCxnSpPr>
            <a:stCxn id="2737" idx="6"/>
            <a:endCxn id="2739" idx="2"/>
          </p:cNvCxnSpPr>
          <p:nvPr/>
        </p:nvCxnSpPr>
        <p:spPr>
          <a:xfrm>
            <a:off x="6095880" y="4419360"/>
            <a:ext cx="915120" cy="15300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743" name=""/>
          <p:cNvGrpSpPr/>
          <p:nvPr/>
        </p:nvGrpSpPr>
        <p:grpSpPr>
          <a:xfrm>
            <a:off x="6375240" y="4267080"/>
            <a:ext cx="330480" cy="457200"/>
            <a:chOff x="6375240" y="4267080"/>
            <a:chExt cx="330480" cy="457200"/>
          </a:xfrm>
        </p:grpSpPr>
        <p:sp>
          <p:nvSpPr>
            <p:cNvPr id="2744" name=""/>
            <p:cNvSpPr/>
            <p:nvPr/>
          </p:nvSpPr>
          <p:spPr>
            <a:xfrm>
              <a:off x="6375240" y="4267080"/>
              <a:ext cx="203400" cy="45720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400800" y="441936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6" name=""/>
          <p:cNvSpPr/>
          <p:nvPr/>
        </p:nvSpPr>
        <p:spPr>
          <a:xfrm>
            <a:off x="6095880" y="533412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7" name=""/>
          <p:cNvCxnSpPr>
            <a:stCxn id="2740" idx="3"/>
            <a:endCxn id="2746" idx="0"/>
          </p:cNvCxnSpPr>
          <p:nvPr/>
        </p:nvCxnSpPr>
        <p:spPr>
          <a:xfrm rot="5400000">
            <a:off x="6247800" y="5006880"/>
            <a:ext cx="251640" cy="403920"/>
          </a:xfrm>
          <a:prstGeom prst="curvedConnector5">
            <a:avLst>
              <a:gd name="adj1" fmla="val 54297"/>
              <a:gd name="adj2" fmla="val 49955"/>
              <a:gd name="adj3" fmla="val 54297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2748" name=""/>
          <p:cNvSpPr/>
          <p:nvPr/>
        </p:nvSpPr>
        <p:spPr>
          <a:xfrm>
            <a:off x="914400" y="393696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a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914400" y="53341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Unsa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ead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1982520" y="36576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1933560" y="4952880"/>
            <a:ext cx="10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roc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6400800" y="3809880"/>
            <a:ext cx="152280" cy="15264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3" name=""/>
          <p:cNvCxnSpPr>
            <a:stCxn id="2737" idx="7"/>
            <a:endCxn id="2752" idx="3"/>
          </p:cNvCxnSpPr>
          <p:nvPr/>
        </p:nvCxnSpPr>
        <p:spPr>
          <a:xfrm flipH="1" flipV="1" rot="5400000">
            <a:off x="6035400" y="3978000"/>
            <a:ext cx="426240" cy="349920"/>
          </a:xfrm>
          <a:prstGeom prst="curvedConnector5">
            <a:avLst>
              <a:gd name="adj1" fmla="val 49957"/>
              <a:gd name="adj2" fmla="val 49948"/>
              <a:gd name="adj3" fmla="val 49957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54" name=""/>
          <p:cNvSpPr/>
          <p:nvPr/>
        </p:nvSpPr>
        <p:spPr>
          <a:xfrm>
            <a:off x="7696080" y="464832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8077320" y="50292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7391520" y="50292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6858000" y="3809880"/>
            <a:ext cx="152280" cy="15264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9" name=""/>
          <p:cNvCxnSpPr>
            <a:stCxn id="2739" idx="6"/>
            <a:endCxn id="2758" idx="4"/>
          </p:cNvCxnSpPr>
          <p:nvPr/>
        </p:nvCxnSpPr>
        <p:spPr>
          <a:xfrm flipV="1">
            <a:off x="7162920" y="4114440"/>
            <a:ext cx="381600" cy="457920"/>
          </a:xfrm>
          <a:prstGeom prst="curvedConnector2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2760" name=""/>
          <p:cNvSpPr/>
          <p:nvPr/>
        </p:nvSpPr>
        <p:spPr>
          <a:xfrm>
            <a:off x="2209680" y="4460760"/>
            <a:ext cx="2170080" cy="398880"/>
          </a:xfrm>
          <a:prstGeom prst="borderCallout1">
            <a:avLst>
              <a:gd name="adj1" fmla="val 18750"/>
              <a:gd name="adj2" fmla="val -8333"/>
              <a:gd name="adj3" fmla="val 9467"/>
              <a:gd name="adj4" fmla="val 195023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o not Allocat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8" dur="indefinite" restart="never" nodeType="tmRoot">
          <p:childTnLst>
            <p:seq>
              <p:cTn id="3409" dur="indefinite" nodeType="mainSeq">
                <p:childTnLst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4" dur="500"/>
                                        <p:tgtEl>
                                          <p:spTgt spid="2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5" fill="hold">
                      <p:stCondLst>
                        <p:cond delay="indefinite"/>
                      </p:stCondLst>
                      <p:childTnLst>
                        <p:par>
                          <p:cTn id="3416" fill="hold">
                            <p:stCondLst>
                              <p:cond delay="0"/>
                            </p:stCondLst>
                            <p:childTnLst>
                              <p:par>
                                <p:cTn id="3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9" dur="500"/>
                                        <p:tgtEl>
                                          <p:spTgt spid="2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0" fill="hold">
                      <p:stCondLst>
                        <p:cond delay="indefinite"/>
                      </p:stCondLst>
                      <p:childTnLst>
                        <p:par>
                          <p:cTn id="3421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4" dur="500"/>
                                        <p:tgtEl>
                                          <p:spTgt spid="2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5" fill="hold">
                      <p:stCondLst>
                        <p:cond delay="indefinite"/>
                      </p:stCondLst>
                      <p:childTnLst>
                        <p:par>
                          <p:cTn id="3426" fill="hold">
                            <p:stCondLst>
                              <p:cond delay="0"/>
                            </p:stCondLst>
                            <p:childTnLst>
                              <p:par>
                                <p:cTn id="34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9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0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1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2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6" dur="500" fill="hold"/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7" dur="500" fill="hold"/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8" dur="500" fill="hold"/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500" fill="hold"/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44" dur="500"/>
                                        <p:tgtEl>
                                          <p:spTgt spid="2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fill="hold">
                      <p:stCondLst>
                        <p:cond delay="indefinite"/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9" dur="500" fill="hold"/>
                                        <p:tgtEl>
                                          <p:spTgt spid="2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0" dur="500" fill="hold"/>
                                        <p:tgtEl>
                                          <p:spTgt spid="2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1" fill="hold">
                            <p:stCondLst>
                              <p:cond delay="500"/>
                            </p:stCondLst>
                            <p:childTnLst>
                              <p:par>
                                <p:cTn id="34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4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5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8" dur="500" fill="hold"/>
                                        <p:tgtEl>
                                          <p:spTgt spid="2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500" fill="hold"/>
                                        <p:tgtEl>
                                          <p:spTgt spid="2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3" dur="500" fill="hold"/>
                                        <p:tgtEl>
                                          <p:spTgt spid="2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4" dur="500" fill="hold"/>
                                        <p:tgtEl>
                                          <p:spTgt spid="2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8" dur="500" fill="hold"/>
                                        <p:tgtEl>
                                          <p:spTgt spid="2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9" dur="500" fill="hold"/>
                                        <p:tgtEl>
                                          <p:spTgt spid="2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3" dur="5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4" fill="hold">
                            <p:stCondLst>
                              <p:cond delay="500"/>
                            </p:stCondLst>
                            <p:childTnLst>
                              <p:par>
                                <p:cTn id="3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7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8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2" dur="5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3" fill="hold">
                      <p:stCondLst>
                        <p:cond delay="indefinite"/>
                      </p:stCondLst>
                      <p:childTnLst>
                        <p:par>
                          <p:cTn id="3504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7" dur="500"/>
                                        <p:tgtEl>
                                          <p:spTgt spid="2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8" fill="hold">
                            <p:stCondLst>
                              <p:cond delay="500"/>
                            </p:stCondLst>
                            <p:childTnLst>
                              <p:par>
                                <p:cTn id="350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1" dur="500" fill="hold"/>
                                        <p:tgtEl>
                                          <p:spTgt spid="2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500" fill="hold"/>
                                        <p:tgtEl>
                                          <p:spTgt spid="2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16" dur="5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7" fill="hold">
                      <p:stCondLst>
                        <p:cond delay="indefinite"/>
                      </p:stCondLst>
                      <p:childTnLst>
                        <p:par>
                          <p:cTn id="3518" fill="hold">
                            <p:stCondLst>
                              <p:cond delay="0"/>
                            </p:stCondLst>
                            <p:childTnLst>
                              <p:par>
                                <p:cTn id="3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1" dur="5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23" fill="hold">
                      <p:stCondLst>
                        <p:cond delay="indefinite"/>
                      </p:stCondLst>
                      <p:childTnLst>
                        <p:par>
                          <p:cTn id="3524" fill="hold">
                            <p:stCondLst>
                              <p:cond delay="0"/>
                            </p:stCondLst>
                            <p:childTnLst>
                              <p:par>
                                <p:cTn id="3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7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8" fill="hold">
                            <p:stCondLst>
                              <p:cond delay="500"/>
                            </p:stCondLst>
                            <p:childTnLst>
                              <p:par>
                                <p:cTn id="35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1" dur="5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2" dur="5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fill="hold">
                      <p:stCondLst>
                        <p:cond delay="indefinite"/>
                      </p:stCondLst>
                      <p:childTnLst>
                        <p:par>
                          <p:cTn id="3534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7" dur="500"/>
                                        <p:tgtEl>
                                          <p:spTgt spid="2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42" dur="500"/>
                                        <p:tgtEl>
                                          <p:spTgt spid="2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3" fill="hold">
                      <p:stCondLst>
                        <p:cond delay="indefinite"/>
                      </p:stCondLst>
                      <p:childTnLst>
                        <p:par>
                          <p:cTn id="3544" fill="hold">
                            <p:stCondLst>
                              <p:cond delay="0"/>
                            </p:stCondLst>
                            <p:childTnLst>
                              <p:par>
                                <p:cTn id="3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7" dur="500"/>
                                        <p:tgtEl>
                                          <p:spTgt spid="2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: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3081240" y="4038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685800" y="43434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1752480" y="49528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            ,               ,              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1600200" y="5410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2666880" y="54100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5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3809880" y="5410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0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2209680" y="495288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3200400" y="495288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4343400" y="495288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4876920" y="5410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2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 txBox="1"/>
          <p:nvPr/>
        </p:nvSpPr>
        <p:spPr>
          <a:xfrm>
            <a:off x="6095880" y="4648320"/>
            <a:ext cx="8305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af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773" name=""/>
          <p:cNvGrpSpPr/>
          <p:nvPr/>
        </p:nvGrpSpPr>
        <p:grpSpPr>
          <a:xfrm>
            <a:off x="609480" y="1752480"/>
            <a:ext cx="5943600" cy="2220120"/>
            <a:chOff x="609480" y="1752480"/>
            <a:chExt cx="5943600" cy="2220120"/>
          </a:xfrm>
        </p:grpSpPr>
        <p:sp>
          <p:nvSpPr>
            <p:cNvPr id="2774" name=""/>
            <p:cNvSpPr/>
            <p:nvPr/>
          </p:nvSpPr>
          <p:spPr>
            <a:xfrm>
              <a:off x="685800" y="1752480"/>
              <a:ext cx="5867280" cy="22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ximum Need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urrent Needs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i.e. Allocat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9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09480" y="2514600"/>
              <a:ext cx="586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447920" y="182880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191120" y="182880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477120" y="182880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09480" y="3962520"/>
              <a:ext cx="586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0" name=""/>
          <p:cNvGrpSpPr/>
          <p:nvPr/>
        </p:nvGrpSpPr>
        <p:grpSpPr>
          <a:xfrm>
            <a:off x="6477120" y="2057400"/>
            <a:ext cx="1904760" cy="1905120"/>
            <a:chOff x="6477120" y="2057400"/>
            <a:chExt cx="1904760" cy="1905120"/>
          </a:xfrm>
        </p:grpSpPr>
        <p:sp>
          <p:nvSpPr>
            <p:cNvPr id="2781" name=""/>
            <p:cNvSpPr/>
            <p:nvPr/>
          </p:nvSpPr>
          <p:spPr>
            <a:xfrm>
              <a:off x="6553080" y="2057400"/>
              <a:ext cx="1828800" cy="17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May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+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+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477120" y="251460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477120" y="39625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4" name=""/>
          <p:cNvSpPr/>
          <p:nvPr/>
        </p:nvSpPr>
        <p:spPr>
          <a:xfrm>
            <a:off x="457200" y="1812960"/>
            <a:ext cx="914400" cy="3988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 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6477120" y="2971800"/>
            <a:ext cx="685800" cy="380880"/>
          </a:xfrm>
          <a:prstGeom prst="ellipse">
            <a:avLst/>
          </a:prstGeom>
          <a:noFill/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6477120" y="2514600"/>
            <a:ext cx="685800" cy="380880"/>
          </a:xfrm>
          <a:prstGeom prst="ellipse">
            <a:avLst/>
          </a:prstGeom>
          <a:noFill/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6477120" y="3429000"/>
            <a:ext cx="685800" cy="380880"/>
          </a:xfrm>
          <a:prstGeom prst="ellipse">
            <a:avLst/>
          </a:prstGeom>
          <a:noFill/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4724280" y="304812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4724280" y="259092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4724280" y="350532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8" dur="indefinite" restart="never" nodeType="tmRoot">
          <p:childTnLst>
            <p:seq>
              <p:cTn id="3549" dur="indefinite" nodeType="mainSeq">
                <p:childTnLst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4" dur="500" fill="hold"/>
                                        <p:tgtEl>
                                          <p:spTgt spid="2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5" dur="500" fill="hold"/>
                                        <p:tgtEl>
                                          <p:spTgt spid="2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60" dur="500"/>
                                        <p:tgtEl>
                                          <p:spTgt spid="2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fill="hold">
                      <p:stCondLst>
                        <p:cond delay="indefinite"/>
                      </p:stCondLst>
                      <p:childTnLst>
                        <p:par>
                          <p:cTn id="3562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5" dur="500"/>
                                        <p:tgtEl>
                                          <p:spTgt spid="2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6" fill="hold">
                      <p:stCondLst>
                        <p:cond delay="indefinite"/>
                      </p:stCondLst>
                      <p:childTnLst>
                        <p:par>
                          <p:cTn id="3567" fill="hold">
                            <p:stCondLst>
                              <p:cond delay="0"/>
                            </p:stCondLst>
                            <p:childTnLst>
                              <p:par>
                                <p:cTn id="3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0" dur="500"/>
                                        <p:tgtEl>
                                          <p:spTgt spid="2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1" fill="hold">
                      <p:stCondLst>
                        <p:cond delay="indefinite"/>
                      </p:stCondLst>
                      <p:childTnLst>
                        <p:par>
                          <p:cTn id="3572" fill="hold">
                            <p:stCondLst>
                              <p:cond delay="0"/>
                            </p:stCondLst>
                            <p:childTnLst>
                              <p:par>
                                <p:cTn id="35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5" dur="500" fill="hold"/>
                                        <p:tgtEl>
                                          <p:spTgt spid="2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6" dur="500" fill="hold"/>
                                        <p:tgtEl>
                                          <p:spTgt spid="2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7" fill="hold">
                      <p:stCondLst>
                        <p:cond delay="indefinite"/>
                      </p:stCondLst>
                      <p:childTnLst>
                        <p:par>
                          <p:cTn id="3578" fill="hold">
                            <p:stCondLst>
                              <p:cond delay="0"/>
                            </p:stCondLst>
                            <p:childTnLst>
                              <p:par>
                                <p:cTn id="3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1" dur="5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2" fill="hold">
                      <p:stCondLst>
                        <p:cond delay="indefinite"/>
                      </p:stCondLst>
                      <p:childTnLst>
                        <p:par>
                          <p:cTn id="3583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500" fill="hold"/>
                                        <p:tgtEl>
                                          <p:spTgt spid="2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500" fill="hold"/>
                                        <p:tgtEl>
                                          <p:spTgt spid="2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fill="hold">
                      <p:stCondLst>
                        <p:cond delay="indefinite"/>
                      </p:stCondLst>
                      <p:childTnLst>
                        <p:par>
                          <p:cTn id="3589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2" dur="500" fill="hold"/>
                                        <p:tgtEl>
                                          <p:spTgt spid="2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3" dur="500" fill="hold"/>
                                        <p:tgtEl>
                                          <p:spTgt spid="2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4" fill="hold">
                      <p:stCondLst>
                        <p:cond delay="indefinite"/>
                      </p:stCondLst>
                      <p:childTnLst>
                        <p:par>
                          <p:cTn id="3595" fill="hold">
                            <p:stCondLst>
                              <p:cond delay="0"/>
                            </p:stCondLst>
                            <p:childTnLst>
                              <p:par>
                                <p:cTn id="3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8" dur="5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9" dur="5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1" fill="hold">
                      <p:stCondLst>
                        <p:cond delay="indefinite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05" dur="500"/>
                                        <p:tgtEl>
                                          <p:spTgt spid="2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500"/>
                            </p:stCondLst>
                            <p:childTnLst>
                              <p:par>
                                <p:cTn id="36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9" dur="500" fill="hold"/>
                                        <p:tgtEl>
                                          <p:spTgt spid="2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/>
                                        <p:tgtEl>
                                          <p:spTgt spid="2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12" fill="hold">
                      <p:stCondLst>
                        <p:cond delay="indefinite"/>
                      </p:stCondLst>
                      <p:childTnLst>
                        <p:par>
                          <p:cTn id="3613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6" dur="500" fill="hold"/>
                                        <p:tgtEl>
                                          <p:spTgt spid="2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7" dur="500" fill="hold"/>
                                        <p:tgtEl>
                                          <p:spTgt spid="2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2" dur="500" fill="hold"/>
                                        <p:tgtEl>
                                          <p:spTgt spid="2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3" dur="500" fill="hold"/>
                                        <p:tgtEl>
                                          <p:spTgt spid="2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25" fill="hold">
                      <p:stCondLst>
                        <p:cond delay="indefinite"/>
                      </p:stCondLst>
                      <p:childTnLst>
                        <p:par>
                          <p:cTn id="3626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29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0" fill="hold">
                            <p:stCondLst>
                              <p:cond delay="500"/>
                            </p:stCondLst>
                            <p:childTnLst>
                              <p:par>
                                <p:cTn id="36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3" dur="500" fill="hold"/>
                                        <p:tgtEl>
                                          <p:spTgt spid="2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4" dur="500" fill="hold"/>
                                        <p:tgtEl>
                                          <p:spTgt spid="2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36" fill="hold">
                      <p:stCondLst>
                        <p:cond delay="indefinite"/>
                      </p:stCondLst>
                      <p:childTnLst>
                        <p:par>
                          <p:cTn id="3637" fill="hold">
                            <p:stCondLst>
                              <p:cond delay="0"/>
                            </p:stCondLst>
                            <p:childTnLst>
                              <p:par>
                                <p:cTn id="36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0" dur="5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1" dur="5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2" fill="hold">
                      <p:stCondLst>
                        <p:cond delay="indefinite"/>
                      </p:stCondLst>
                      <p:childTnLst>
                        <p:par>
                          <p:cTn id="3643" fill="hold">
                            <p:stCondLst>
                              <p:cond delay="0"/>
                            </p:stCondLst>
                            <p:childTnLst>
                              <p:par>
                                <p:cTn id="3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6" dur="500" fill="hold"/>
                                        <p:tgtEl>
                                          <p:spTgt spid="2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7" dur="500" fill="hold"/>
                                        <p:tgtEl>
                                          <p:spTgt spid="2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49" fill="hold">
                      <p:stCondLst>
                        <p:cond delay="indefinite"/>
                      </p:stCondLst>
                      <p:childTnLst>
                        <p:par>
                          <p:cTn id="3650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53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7" dur="500" fill="hold"/>
                                        <p:tgtEl>
                                          <p:spTgt spid="2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8" dur="500" fill="hold"/>
                                        <p:tgtEl>
                                          <p:spTgt spid="2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60" fill="hold">
                      <p:stCondLst>
                        <p:cond delay="indefinite"/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4" dur="1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5" dur="1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6" dur="1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7" dur="1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: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685800" y="432756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1752480" y="49528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            ,               ,              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600200" y="5410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2666880" y="54100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2209680" y="495288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 flipV="1">
            <a:off x="4343400" y="3504960"/>
            <a:ext cx="304920" cy="2286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46483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 flipV="1">
            <a:off x="6629400" y="3504960"/>
            <a:ext cx="304920" cy="2286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7086600" y="3429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+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 flipV="1">
            <a:off x="4343400" y="4114440"/>
            <a:ext cx="304920" cy="2286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4648320" y="4038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 txBox="1"/>
          <p:nvPr/>
        </p:nvSpPr>
        <p:spPr>
          <a:xfrm>
            <a:off x="6095880" y="4648320"/>
            <a:ext cx="12193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nsaf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804" name=""/>
          <p:cNvGrpSpPr/>
          <p:nvPr/>
        </p:nvGrpSpPr>
        <p:grpSpPr>
          <a:xfrm>
            <a:off x="457200" y="1752480"/>
            <a:ext cx="7924680" cy="2684880"/>
            <a:chOff x="457200" y="1752480"/>
            <a:chExt cx="7924680" cy="2684880"/>
          </a:xfrm>
        </p:grpSpPr>
        <p:sp>
          <p:nvSpPr>
            <p:cNvPr id="2805" name=""/>
            <p:cNvSpPr/>
            <p:nvPr/>
          </p:nvSpPr>
          <p:spPr>
            <a:xfrm>
              <a:off x="3081240" y="4038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vailable: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6" name=""/>
            <p:cNvGrpSpPr/>
            <p:nvPr/>
          </p:nvGrpSpPr>
          <p:grpSpPr>
            <a:xfrm>
              <a:off x="609480" y="1752480"/>
              <a:ext cx="5943600" cy="2220120"/>
              <a:chOff x="609480" y="1752480"/>
              <a:chExt cx="5943600" cy="2220120"/>
            </a:xfrm>
          </p:grpSpPr>
          <p:sp>
            <p:nvSpPr>
              <p:cNvPr id="2807" name=""/>
              <p:cNvSpPr/>
              <p:nvPr/>
            </p:nvSpPr>
            <p:spPr>
              <a:xfrm>
                <a:off x="685800" y="1752480"/>
                <a:ext cx="5867280" cy="222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aximum Needs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urrent Need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i.e. Allocated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9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09480" y="2514600"/>
                <a:ext cx="5867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1447920" y="18288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191120" y="18288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477120" y="18288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09480" y="3962520"/>
                <a:ext cx="5867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3" name=""/>
            <p:cNvGrpSpPr/>
            <p:nvPr/>
          </p:nvGrpSpPr>
          <p:grpSpPr>
            <a:xfrm>
              <a:off x="6477120" y="2057400"/>
              <a:ext cx="1904760" cy="1905120"/>
              <a:chOff x="6477120" y="2057400"/>
              <a:chExt cx="1904760" cy="1905120"/>
            </a:xfrm>
          </p:grpSpPr>
          <p:sp>
            <p:nvSpPr>
              <p:cNvPr id="2814" name=""/>
              <p:cNvSpPr/>
              <p:nvPr/>
            </p:nvSpPr>
            <p:spPr>
              <a:xfrm>
                <a:off x="6553080" y="2057400"/>
                <a:ext cx="1828800" cy="178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May Reques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+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+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+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6477120" y="251460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6477120" y="396252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7" name=""/>
            <p:cNvSpPr/>
            <p:nvPr/>
          </p:nvSpPr>
          <p:spPr>
            <a:xfrm>
              <a:off x="457200" y="1812960"/>
              <a:ext cx="914400" cy="39888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12 T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8" name=""/>
          <p:cNvSpPr/>
          <p:nvPr/>
        </p:nvSpPr>
        <p:spPr>
          <a:xfrm>
            <a:off x="1447920" y="3809880"/>
            <a:ext cx="1589040" cy="398880"/>
          </a:xfrm>
          <a:prstGeom prst="borderCallout1">
            <a:avLst>
              <a:gd name="adj1" fmla="val 18750"/>
              <a:gd name="adj2" fmla="val -8333"/>
              <a:gd name="adj3" fmla="val -28222"/>
              <a:gd name="adj4" fmla="val -19273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quest 1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6477120" y="2971800"/>
            <a:ext cx="685800" cy="380880"/>
          </a:xfrm>
          <a:prstGeom prst="ellipse">
            <a:avLst/>
          </a:prstGeom>
          <a:noFill/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4724280" y="304812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6477120" y="2514600"/>
            <a:ext cx="685800" cy="38088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7146720" y="25304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N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7010280" y="3429000"/>
            <a:ext cx="685800" cy="38088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7695720" y="342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N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8" dur="indefinite" restart="never" nodeType="tmRoot">
          <p:childTnLst>
            <p:seq>
              <p:cTn id="3669" dur="indefinite" nodeType="mainSeq">
                <p:childTnLst>
                  <p:par>
                    <p:cTn id="3670" fill="hold">
                      <p:stCondLst>
                        <p:cond delay="indefinite"/>
                      </p:stCondLst>
                      <p:childTnLst>
                        <p:par>
                          <p:cTn id="3671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4" dur="5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fill="hold">
                      <p:stCondLst>
                        <p:cond delay="indefinite"/>
                      </p:stCondLst>
                      <p:childTnLst>
                        <p:par>
                          <p:cTn id="3676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9" dur="500"/>
                                        <p:tgtEl>
                                          <p:spTgt spid="2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0" fill="hold">
                      <p:stCondLst>
                        <p:cond delay="indefinite"/>
                      </p:stCondLst>
                      <p:childTnLst>
                        <p:par>
                          <p:cTn id="3681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4" dur="500"/>
                                        <p:tgtEl>
                                          <p:spTgt spid="2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5" fill="hold">
                            <p:stCondLst>
                              <p:cond delay="500"/>
                            </p:stCondLst>
                            <p:childTnLst>
                              <p:par>
                                <p:cTn id="36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88" dur="500"/>
                                        <p:tgtEl>
                                          <p:spTgt spid="2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3" dur="500"/>
                                        <p:tgtEl>
                                          <p:spTgt spid="2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4" fill="hold">
                            <p:stCondLst>
                              <p:cond delay="500"/>
                            </p:stCondLst>
                            <p:childTnLst>
                              <p:par>
                                <p:cTn id="36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97" dur="500"/>
                                        <p:tgtEl>
                                          <p:spTgt spid="2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8" fill="hold">
                      <p:stCondLst>
                        <p:cond delay="indefinite"/>
                      </p:stCondLst>
                      <p:childTnLst>
                        <p:par>
                          <p:cTn id="3699" fill="hold">
                            <p:stCondLst>
                              <p:cond delay="0"/>
                            </p:stCondLst>
                            <p:childTnLst>
                              <p:par>
                                <p:cTn id="37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2" dur="500"/>
                                        <p:tgtEl>
                                          <p:spTgt spid="2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3" fill="hold">
                            <p:stCondLst>
                              <p:cond delay="500"/>
                            </p:stCondLst>
                            <p:childTnLst>
                              <p:par>
                                <p:cTn id="37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6" dur="500"/>
                                        <p:tgtEl>
                                          <p:spTgt spid="2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7" fill="hold">
                      <p:stCondLst>
                        <p:cond delay="indefinite"/>
                      </p:stCondLst>
                      <p:childTnLst>
                        <p:par>
                          <p:cTn id="3708" fill="hold">
                            <p:stCondLst>
                              <p:cond delay="0"/>
                            </p:stCondLst>
                            <p:childTnLst>
                              <p:par>
                                <p:cTn id="37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1" dur="500" fill="hold"/>
                                        <p:tgtEl>
                                          <p:spTgt spid="2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2" dur="500" fill="hold"/>
                                        <p:tgtEl>
                                          <p:spTgt spid="2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3" fill="hold">
                      <p:stCondLst>
                        <p:cond delay="indefinite"/>
                      </p:stCondLst>
                      <p:childTnLst>
                        <p:par>
                          <p:cTn id="3714" fill="hold">
                            <p:stCondLst>
                              <p:cond delay="0"/>
                            </p:stCondLst>
                            <p:childTnLst>
                              <p:par>
                                <p:cTn id="3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7" dur="5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8" fill="hold">
                      <p:stCondLst>
                        <p:cond delay="indefinite"/>
                      </p:stCondLst>
                      <p:childTnLst>
                        <p:par>
                          <p:cTn id="3719" fill="hold">
                            <p:stCondLst>
                              <p:cond delay="0"/>
                            </p:stCondLst>
                            <p:childTnLst>
                              <p:par>
                                <p:cTn id="37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2" dur="500" fill="hold"/>
                                        <p:tgtEl>
                                          <p:spTgt spid="2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500" fill="hold"/>
                                        <p:tgtEl>
                                          <p:spTgt spid="2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4" fill="hold">
                      <p:stCondLst>
                        <p:cond delay="indefinite"/>
                      </p:stCondLst>
                      <p:childTnLst>
                        <p:par>
                          <p:cTn id="3725" fill="hold">
                            <p:stCondLst>
                              <p:cond delay="0"/>
                            </p:stCondLst>
                            <p:childTnLst>
                              <p:par>
                                <p:cTn id="37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8" dur="500" fill="hold"/>
                                        <p:tgtEl>
                                          <p:spTgt spid="2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9" dur="500" fill="hold"/>
                                        <p:tgtEl>
                                          <p:spTgt spid="2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0" fill="hold">
                      <p:stCondLst>
                        <p:cond delay="indefinite"/>
                      </p:stCondLst>
                      <p:childTnLst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4" dur="500" fill="hold"/>
                                        <p:tgtEl>
                                          <p:spTgt spid="2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5" dur="500" fill="hold"/>
                                        <p:tgtEl>
                                          <p:spTgt spid="2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37" fill="hold">
                      <p:stCondLst>
                        <p:cond delay="indefinite"/>
                      </p:stCondLst>
                      <p:childTnLst>
                        <p:par>
                          <p:cTn id="3738" fill="hold">
                            <p:stCondLst>
                              <p:cond delay="0"/>
                            </p:stCondLst>
                            <p:childTnLst>
                              <p:par>
                                <p:cTn id="37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41" dur="500"/>
                                        <p:tgtEl>
                                          <p:spTgt spid="2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500"/>
                            </p:stCondLst>
                            <p:childTnLst>
                              <p:par>
                                <p:cTn id="3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5" dur="5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8" fill="hold">
                      <p:stCondLst>
                        <p:cond delay="indefinite"/>
                      </p:stCondLst>
                      <p:childTnLst>
                        <p:par>
                          <p:cTn id="3749" fill="hold">
                            <p:stCondLst>
                              <p:cond delay="0"/>
                            </p:stCondLst>
                            <p:childTnLst>
                              <p:par>
                                <p:cTn id="37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2" dur="500" fill="hold"/>
                                        <p:tgtEl>
                                          <p:spTgt spid="2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3" dur="500" fill="hold"/>
                                        <p:tgtEl>
                                          <p:spTgt spid="2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57" dur="500"/>
                                        <p:tgtEl>
                                          <p:spTgt spid="2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59" fill="hold">
                      <p:stCondLst>
                        <p:cond delay="indefinite"/>
                      </p:stCondLst>
                      <p:childTnLst>
                        <p:par>
                          <p:cTn id="3760" fill="hold">
                            <p:stCondLst>
                              <p:cond delay="0"/>
                            </p:stCondLst>
                            <p:childTnLst>
                              <p:par>
                                <p:cTn id="3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3" dur="500" fill="hold"/>
                                        <p:tgtEl>
                                          <p:spTgt spid="2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4" dur="500" fill="hold"/>
                                        <p:tgtEl>
                                          <p:spTgt spid="2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66" fill="hold">
                            <p:stCondLst>
                              <p:cond delay="500"/>
                            </p:stCondLst>
                            <p:childTnLst>
                              <p:par>
                                <p:cTn id="37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69" dur="500"/>
                                        <p:tgtEl>
                                          <p:spTgt spid="2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71" fill="hold">
                      <p:stCondLst>
                        <p:cond delay="indefinite"/>
                      </p:stCondLst>
                      <p:childTnLst>
                        <p:par>
                          <p:cTn id="3772" fill="hold">
                            <p:stCondLst>
                              <p:cond delay="0"/>
                            </p:stCondLst>
                            <p:childTnLst>
                              <p:par>
                                <p:cTn id="37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5" dur="10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6" dur="10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7" dur="10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: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6" name=""/>
          <p:cNvGrpSpPr/>
          <p:nvPr/>
        </p:nvGrpSpPr>
        <p:grpSpPr>
          <a:xfrm>
            <a:off x="609480" y="1752480"/>
            <a:ext cx="5943600" cy="2220120"/>
            <a:chOff x="609480" y="1752480"/>
            <a:chExt cx="5943600" cy="2220120"/>
          </a:xfrm>
        </p:grpSpPr>
        <p:sp>
          <p:nvSpPr>
            <p:cNvPr id="2827" name=""/>
            <p:cNvSpPr/>
            <p:nvPr/>
          </p:nvSpPr>
          <p:spPr>
            <a:xfrm>
              <a:off x="685800" y="1752480"/>
              <a:ext cx="5867280" cy="22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ximum Need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urrent Needs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i.e. Allocat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9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609480" y="2514600"/>
              <a:ext cx="586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1447920" y="182880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191120" y="182880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6477120" y="182880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609480" y="3962520"/>
              <a:ext cx="586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3" name=""/>
          <p:cNvSpPr/>
          <p:nvPr/>
        </p:nvSpPr>
        <p:spPr>
          <a:xfrm flipV="1">
            <a:off x="4343400" y="3504960"/>
            <a:ext cx="304920" cy="2286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46483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 flipV="1">
            <a:off x="6629400" y="3504960"/>
            <a:ext cx="304920" cy="2286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7086600" y="3429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+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 flipV="1">
            <a:off x="4343400" y="4114440"/>
            <a:ext cx="304920" cy="2286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3081240" y="4038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4648320" y="4038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990720" y="434340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:  request 5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990720" y="487692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:  request 6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3317760" y="4595760"/>
            <a:ext cx="949320" cy="398880"/>
          </a:xfrm>
          <a:prstGeom prst="borderCallout1">
            <a:avLst>
              <a:gd name="adj1" fmla="val 18750"/>
              <a:gd name="adj2" fmla="val -8333"/>
              <a:gd name="adj3" fmla="val 11629"/>
              <a:gd name="adj4" fmla="val -55495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3352680" y="5116680"/>
            <a:ext cx="949320" cy="398880"/>
          </a:xfrm>
          <a:prstGeom prst="borderCallout1">
            <a:avLst>
              <a:gd name="adj1" fmla="val 18750"/>
              <a:gd name="adj2" fmla="val -8333"/>
              <a:gd name="adj3" fmla="val 11449"/>
              <a:gd name="adj4" fmla="val -55495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4648320" y="4800600"/>
            <a:ext cx="1676160" cy="398880"/>
          </a:xfrm>
          <a:prstGeom prst="borderCallout1">
            <a:avLst>
              <a:gd name="adj1" fmla="val -4577"/>
              <a:gd name="adj2" fmla="val 26819"/>
              <a:gd name="adj3" fmla="val 20127"/>
              <a:gd name="adj4" fmla="val 26128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AD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990720" y="542592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: 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438280" y="5594400"/>
            <a:ext cx="1828800" cy="398880"/>
          </a:xfrm>
          <a:prstGeom prst="borderCallout1">
            <a:avLst>
              <a:gd name="adj1" fmla="val 18750"/>
              <a:gd name="adj2" fmla="val -8333"/>
              <a:gd name="adj3" fmla="val 8745"/>
              <a:gd name="adj4" fmla="val -22472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: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457200" y="1812960"/>
            <a:ext cx="914400" cy="3988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 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8" name=""/>
          <p:cNvGrpSpPr/>
          <p:nvPr/>
        </p:nvGrpSpPr>
        <p:grpSpPr>
          <a:xfrm>
            <a:off x="457200" y="4419720"/>
            <a:ext cx="398880" cy="1600200"/>
            <a:chOff x="457200" y="4419720"/>
            <a:chExt cx="398880" cy="1600200"/>
          </a:xfrm>
        </p:grpSpPr>
        <p:sp>
          <p:nvSpPr>
            <p:cNvPr id="2849" name=""/>
            <p:cNvSpPr/>
            <p:nvPr/>
          </p:nvSpPr>
          <p:spPr>
            <a:xfrm>
              <a:off x="838080" y="441972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6200000">
              <a:off x="326160" y="503244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1" name=""/>
          <p:cNvSpPr/>
          <p:nvPr/>
        </p:nvSpPr>
        <p:spPr>
          <a:xfrm>
            <a:off x="7010280" y="4343400"/>
            <a:ext cx="114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: 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7010280" y="487692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: 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7010280" y="542592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: 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4" name=""/>
          <p:cNvGrpSpPr/>
          <p:nvPr/>
        </p:nvGrpSpPr>
        <p:grpSpPr>
          <a:xfrm>
            <a:off x="8287920" y="4419720"/>
            <a:ext cx="398880" cy="1600200"/>
            <a:chOff x="8287920" y="4419720"/>
            <a:chExt cx="398880" cy="1600200"/>
          </a:xfrm>
        </p:grpSpPr>
        <p:sp>
          <p:nvSpPr>
            <p:cNvPr id="2855" name=""/>
            <p:cNvSpPr/>
            <p:nvPr/>
          </p:nvSpPr>
          <p:spPr>
            <a:xfrm>
              <a:off x="8305920" y="441972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 flipH="1" rot="5400000">
              <a:off x="8156880" y="503244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7" name=""/>
          <p:cNvGrpSpPr/>
          <p:nvPr/>
        </p:nvGrpSpPr>
        <p:grpSpPr>
          <a:xfrm>
            <a:off x="6477120" y="2057400"/>
            <a:ext cx="1904760" cy="1905120"/>
            <a:chOff x="6477120" y="2057400"/>
            <a:chExt cx="1904760" cy="1905120"/>
          </a:xfrm>
        </p:grpSpPr>
        <p:sp>
          <p:nvSpPr>
            <p:cNvPr id="2858" name=""/>
            <p:cNvSpPr/>
            <p:nvPr/>
          </p:nvSpPr>
          <p:spPr>
            <a:xfrm>
              <a:off x="6553080" y="2057400"/>
              <a:ext cx="1828800" cy="17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May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+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+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6477120" y="251460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477120" y="39625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1" name=""/>
          <p:cNvSpPr/>
          <p:nvPr/>
        </p:nvSpPr>
        <p:spPr>
          <a:xfrm>
            <a:off x="4724280" y="304812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0" dur="indefinite" restart="never" nodeType="tmRoot">
          <p:childTnLst>
            <p:seq>
              <p:cTn id="3781" dur="indefinite" nodeType="mainSeq">
                <p:childTnLst>
                  <p:par>
                    <p:cTn id="3782" fill="hold">
                      <p:stCondLst>
                        <p:cond delay="indefinite"/>
                      </p:stCondLst>
                      <p:childTnLst>
                        <p:par>
                          <p:cTn id="3783" fill="hold">
                            <p:stCondLst>
                              <p:cond delay="0"/>
                            </p:stCondLst>
                            <p:childTnLst>
                              <p:par>
                                <p:cTn id="37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6" dur="5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7" fill="hold">
                      <p:stCondLst>
                        <p:cond delay="indefinite"/>
                      </p:stCondLst>
                      <p:childTnLst>
                        <p:par>
                          <p:cTn id="3788" fill="hold">
                            <p:stCondLst>
                              <p:cond delay="0"/>
                            </p:stCondLst>
                            <p:childTnLst>
                              <p:par>
                                <p:cTn id="3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1" dur="5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96" dur="5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7" fill="hold">
                      <p:stCondLst>
                        <p:cond delay="indefinite"/>
                      </p:stCondLst>
                      <p:childTnLst>
                        <p:par>
                          <p:cTn id="3798" fill="hold">
                            <p:stCondLst>
                              <p:cond delay="0"/>
                            </p:stCondLst>
                            <p:childTnLst>
                              <p:par>
                                <p:cTn id="3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1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2" fill="hold">
                      <p:stCondLst>
                        <p:cond delay="indefinite"/>
                      </p:stCondLst>
                      <p:childTnLst>
                        <p:par>
                          <p:cTn id="3803" fill="hold">
                            <p:stCondLst>
                              <p:cond delay="0"/>
                            </p:stCondLst>
                            <p:childTnLst>
                              <p:par>
                                <p:cTn id="38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06" dur="5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7" fill="hold">
                      <p:stCondLst>
                        <p:cond delay="indefinite"/>
                      </p:stCondLst>
                      <p:childTnLst>
                        <p:par>
                          <p:cTn id="3808" fill="hold">
                            <p:stCondLst>
                              <p:cond delay="0"/>
                            </p:stCondLst>
                            <p:childTnLst>
                              <p:par>
                                <p:cTn id="38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11" dur="5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6" dur="5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7" fill="hold">
                      <p:stCondLst>
                        <p:cond delay="indefinite"/>
                      </p:stCondLst>
                      <p:childTnLst>
                        <p:par>
                          <p:cTn id="3818" fill="hold">
                            <p:stCondLst>
                              <p:cond delay="0"/>
                            </p:stCondLst>
                            <p:childTnLst>
                              <p:par>
                                <p:cTn id="38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1" dur="500"/>
                                        <p:tgtEl>
                                          <p:spTgt spid="2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2" fill="hold">
                      <p:stCondLst>
                        <p:cond delay="indefinite"/>
                      </p:stCondLst>
                      <p:childTnLst>
                        <p:par>
                          <p:cTn id="3823" fill="hold">
                            <p:stCondLst>
                              <p:cond delay="0"/>
                            </p:stCondLst>
                            <p:childTnLst>
                              <p:par>
                                <p:cTn id="38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6" dur="5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8" fill="hold">
                      <p:stCondLst>
                        <p:cond delay="indefinite"/>
                      </p:stCondLst>
                      <p:childTnLst>
                        <p:par>
                          <p:cTn id="3829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32" dur="5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3" fill="hold">
                      <p:stCondLst>
                        <p:cond delay="indefinite"/>
                      </p:stCondLst>
                      <p:childTnLst>
                        <p:par>
                          <p:cTn id="3834" fill="hold">
                            <p:stCondLst>
                              <p:cond delay="0"/>
                            </p:stCondLst>
                            <p:childTnLst>
                              <p:par>
                                <p:cTn id="38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7" dur="500"/>
                                        <p:tgtEl>
                                          <p:spTgt spid="2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8" fill="hold">
                      <p:stCondLst>
                        <p:cond delay="indefinite"/>
                      </p:stCondLst>
                      <p:childTnLst>
                        <p:par>
                          <p:cTn id="3839" fill="hold">
                            <p:stCondLst>
                              <p:cond delay="0"/>
                            </p:stCondLst>
                            <p:childTnLst>
                              <p:par>
                                <p:cTn id="38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2" dur="5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fill="hold">
                      <p:stCondLst>
                        <p:cond delay="indefinite"/>
                      </p:stCondLst>
                      <p:childTnLst>
                        <p:par>
                          <p:cTn id="3844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7" dur="500"/>
                                        <p:tgtEl>
                                          <p:spTgt spid="2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: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3" name=""/>
          <p:cNvGrpSpPr/>
          <p:nvPr/>
        </p:nvGrpSpPr>
        <p:grpSpPr>
          <a:xfrm>
            <a:off x="5715000" y="4495680"/>
            <a:ext cx="2057400" cy="1371600"/>
            <a:chOff x="5715000" y="4495680"/>
            <a:chExt cx="2057400" cy="1371600"/>
          </a:xfrm>
        </p:grpSpPr>
        <p:sp>
          <p:nvSpPr>
            <p:cNvPr id="2864" name=""/>
            <p:cNvSpPr/>
            <p:nvPr/>
          </p:nvSpPr>
          <p:spPr>
            <a:xfrm>
              <a:off x="5715000" y="4495680"/>
              <a:ext cx="2057400" cy="1371600"/>
            </a:xfrm>
            <a:prstGeom prst="rect">
              <a:avLst/>
            </a:prstGeom>
            <a:solidFill>
              <a:srgbClr val="ff95a7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 txBox="1"/>
            <p:nvPr/>
          </p:nvSpPr>
          <p:spPr>
            <a:xfrm>
              <a:off x="6095880" y="4648320"/>
              <a:ext cx="1219320" cy="87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6025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Saf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2866" name=""/>
          <p:cNvSpPr/>
          <p:nvPr/>
        </p:nvSpPr>
        <p:spPr>
          <a:xfrm>
            <a:off x="2438280" y="4599000"/>
            <a:ext cx="949320" cy="398880"/>
          </a:xfrm>
          <a:prstGeom prst="borderCallout1">
            <a:avLst>
              <a:gd name="adj1" fmla="val 18750"/>
              <a:gd name="adj2" fmla="val -8333"/>
              <a:gd name="adj3" fmla="val -96300"/>
              <a:gd name="adj4" fmla="val -38282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7" name=""/>
          <p:cNvGrpSpPr/>
          <p:nvPr/>
        </p:nvGrpSpPr>
        <p:grpSpPr>
          <a:xfrm>
            <a:off x="457200" y="1752480"/>
            <a:ext cx="7924680" cy="2684880"/>
            <a:chOff x="457200" y="1752480"/>
            <a:chExt cx="7924680" cy="2684880"/>
          </a:xfrm>
        </p:grpSpPr>
        <p:sp>
          <p:nvSpPr>
            <p:cNvPr id="2868" name=""/>
            <p:cNvSpPr/>
            <p:nvPr/>
          </p:nvSpPr>
          <p:spPr>
            <a:xfrm>
              <a:off x="3081240" y="4038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vailable: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57200" y="1812960"/>
              <a:ext cx="914400" cy="39888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12 T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0" name=""/>
            <p:cNvGrpSpPr/>
            <p:nvPr/>
          </p:nvGrpSpPr>
          <p:grpSpPr>
            <a:xfrm>
              <a:off x="609480" y="1752480"/>
              <a:ext cx="5943600" cy="2220120"/>
              <a:chOff x="609480" y="1752480"/>
              <a:chExt cx="5943600" cy="2220120"/>
            </a:xfrm>
          </p:grpSpPr>
          <p:sp>
            <p:nvSpPr>
              <p:cNvPr id="2871" name=""/>
              <p:cNvSpPr/>
              <p:nvPr/>
            </p:nvSpPr>
            <p:spPr>
              <a:xfrm>
                <a:off x="685800" y="1752480"/>
                <a:ext cx="5867280" cy="222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aximum Needs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urrent Need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i.e. Allocated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9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609480" y="2514600"/>
                <a:ext cx="5867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447920" y="18288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4191120" y="18288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6477120" y="18288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609480" y="3962520"/>
                <a:ext cx="5867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7" name=""/>
            <p:cNvGrpSpPr/>
            <p:nvPr/>
          </p:nvGrpSpPr>
          <p:grpSpPr>
            <a:xfrm>
              <a:off x="6477120" y="2057400"/>
              <a:ext cx="1904760" cy="1905120"/>
              <a:chOff x="6477120" y="2057400"/>
              <a:chExt cx="1904760" cy="1905120"/>
            </a:xfrm>
          </p:grpSpPr>
          <p:sp>
            <p:nvSpPr>
              <p:cNvPr id="2878" name=""/>
              <p:cNvSpPr/>
              <p:nvPr/>
            </p:nvSpPr>
            <p:spPr>
              <a:xfrm>
                <a:off x="6553080" y="2057400"/>
                <a:ext cx="1828800" cy="178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May Reques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+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+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+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6477120" y="251460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6477120" y="396252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81" name=""/>
          <p:cNvSpPr/>
          <p:nvPr/>
        </p:nvSpPr>
        <p:spPr>
          <a:xfrm>
            <a:off x="1447920" y="3809880"/>
            <a:ext cx="1589040" cy="398880"/>
          </a:xfrm>
          <a:prstGeom prst="borderCallout1">
            <a:avLst>
              <a:gd name="adj1" fmla="val 18750"/>
              <a:gd name="adj2" fmla="val -8333"/>
              <a:gd name="adj3" fmla="val -28222"/>
              <a:gd name="adj4" fmla="val -19273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quest 1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8" dur="indefinite" restart="never" nodeType="tmRoot">
          <p:childTnLst>
            <p:seq>
              <p:cTn id="3849" dur="indefinite" nodeType="mainSeq">
                <p:childTnLst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4" dur="5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5" fill="hold">
                      <p:stCondLst>
                        <p:cond delay="indefinite"/>
                      </p:stCondLst>
                      <p:childTnLst>
                        <p:par>
                          <p:cTn id="3856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59" dur="500"/>
                                        <p:tgtEl>
                                          <p:spTgt spid="2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0" fill="hold">
                      <p:stCondLst>
                        <p:cond delay="indefinite"/>
                      </p:stCondLst>
                      <p:childTnLst>
                        <p:par>
                          <p:cTn id="3861" fill="hold">
                            <p:stCondLst>
                              <p:cond delay="0"/>
                            </p:stCondLst>
                            <p:childTnLst>
                              <p:par>
                                <p:cTn id="38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4" dur="500"/>
                                        <p:tgtEl>
                                          <p:spTgt spid="2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5" fill="hold">
                      <p:stCondLst>
                        <p:cond delay="indefinite"/>
                      </p:stCondLst>
                      <p:childTnLst>
                        <p:par>
                          <p:cTn id="3866" fill="hold">
                            <p:stCondLst>
                              <p:cond delay="0"/>
                            </p:stCondLst>
                            <p:childTnLst>
                              <p:par>
                                <p:cTn id="3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9" dur="5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0" dur="5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 resourc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tal # available)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if not available: 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 resource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8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 resou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(&amp;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(&amp;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VC op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VC clo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VC request-dev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VC release-de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5880" y="2362320"/>
            <a:ext cx="20034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us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sour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f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Reques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c0128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unavai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WA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vai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remai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LLO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: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3809880" y="4572000"/>
            <a:ext cx="1143000" cy="457200"/>
          </a:xfrm>
          <a:prstGeom prst="ellipse">
            <a:avLst/>
          </a:prstGeom>
          <a:noFill/>
          <a:ln w="57240">
            <a:solidFill>
              <a:srgbClr val="00279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1828800" y="3657600"/>
            <a:ext cx="1676520" cy="533520"/>
          </a:xfrm>
          <a:prstGeom prst="ellipse">
            <a:avLst/>
          </a:prstGeom>
          <a:noFill/>
          <a:ln w="57240">
            <a:solidFill>
              <a:srgbClr val="00279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687240" y="5348160"/>
            <a:ext cx="74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nce, resource utilization may be low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1" dur="indefinite" restart="never" nodeType="tmRoot">
          <p:childTnLst>
            <p:seq>
              <p:cTn id="3872" dur="indefinite" nodeType="mainSeq">
                <p:childTnLst>
                  <p:par>
                    <p:cTn id="3873" fill="hold">
                      <p:stCondLst>
                        <p:cond delay="indefinite"/>
                      </p:stCondLst>
                      <p:childTnLst>
                        <p:par>
                          <p:cTn id="3874" fill="hold">
                            <p:stCondLst>
                              <p:cond delay="0"/>
                            </p:stCondLst>
                            <p:childTnLst>
                              <p:par>
                                <p:cTn id="3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7" dur="500"/>
                                        <p:tgtEl>
                                          <p:spTgt spid="2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8" fill="hold">
                      <p:stCondLst>
                        <p:cond delay="indefinite"/>
                      </p:stCondLst>
                      <p:childTnLst>
                        <p:par>
                          <p:cTn id="3879" fill="hold">
                            <p:stCondLst>
                              <p:cond delay="0"/>
                            </p:stCondLst>
                            <p:childTnLst>
                              <p:par>
                                <p:cTn id="38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2" dur="500"/>
                                        <p:tgtEl>
                                          <p:spTgt spid="2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3" fill="hold">
                      <p:stCondLst>
                        <p:cond delay="indefinite"/>
                      </p:stCondLst>
                      <p:childTnLst>
                        <p:par>
                          <p:cTn id="3884" fill="hold">
                            <p:stCondLst>
                              <p:cond delay="0"/>
                            </p:stCondLst>
                            <p:childTnLst>
                              <p:par>
                                <p:cTn id="3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7" dur="500"/>
                                        <p:tgtEl>
                                          <p:spTgt spid="2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fill="hold">
                      <p:stCondLst>
                        <p:cond delay="indefinite"/>
                      </p:stCondLst>
                      <p:childTnLst>
                        <p:par>
                          <p:cTn id="3889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2" dur="500"/>
                                        <p:tgtEl>
                                          <p:spTgt spid="2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7" dur="500"/>
                                        <p:tgtEl>
                                          <p:spTgt spid="2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8" fill="hold">
                      <p:stCondLst>
                        <p:cond delay="indefinite"/>
                      </p:stCondLst>
                      <p:childTnLst>
                        <p:par>
                          <p:cTn id="3899" fill="hold">
                            <p:stCondLst>
                              <p:cond delay="0"/>
                            </p:stCondLst>
                            <p:childTnLst>
                              <p:par>
                                <p:cTn id="39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2" dur="500"/>
                                        <p:tgtEl>
                                          <p:spTgt spid="2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3" fill="hold">
                      <p:stCondLst>
                        <p:cond delay="indefinite"/>
                      </p:stCondLst>
                      <p:childTnLst>
                        <p:par>
                          <p:cTn id="3904" fill="hold">
                            <p:stCondLst>
                              <p:cond delay="0"/>
                            </p:stCondLst>
                            <p:childTnLst>
                              <p:par>
                                <p:cTn id="39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7" dur="500"/>
                                        <p:tgtEl>
                                          <p:spTgt spid="2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8" fill="hold">
                      <p:stCondLst>
                        <p:cond delay="indefinite"/>
                      </p:stCondLst>
                      <p:childTnLst>
                        <p:par>
                          <p:cTn id="3909" fill="hold">
                            <p:stCondLst>
                              <p:cond delay="0"/>
                            </p:stCondLst>
                            <p:childTnLst>
                              <p:par>
                                <p:cTn id="39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2" dur="500" fill="hold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3" dur="500" fill="hold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4" fill="hold">
                            <p:stCondLst>
                              <p:cond delay="500"/>
                            </p:stCondLst>
                            <p:childTnLst>
                              <p:par>
                                <p:cTn id="39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7" dur="5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5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9" fill="hold">
                      <p:stCondLst>
                        <p:cond delay="indefinite"/>
                      </p:stCondLst>
                      <p:childTnLst>
                        <p:par>
                          <p:cTn id="3920" fill="hold">
                            <p:stCondLst>
                              <p:cond delay="0"/>
                            </p:stCondLst>
                            <p:childTnLst>
                              <p:par>
                                <p:cTn id="3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3" dur="500"/>
                                        <p:tgtEl>
                                          <p:spTgt spid="2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ssimistic view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can always request up to its maxim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9" name=""/>
          <p:cNvGrpSpPr/>
          <p:nvPr/>
        </p:nvGrpSpPr>
        <p:grpSpPr>
          <a:xfrm>
            <a:off x="793080" y="2971800"/>
            <a:ext cx="578520" cy="2743200"/>
            <a:chOff x="793080" y="2971800"/>
            <a:chExt cx="578520" cy="2743200"/>
          </a:xfrm>
        </p:grpSpPr>
        <p:sp>
          <p:nvSpPr>
            <p:cNvPr id="2890" name=""/>
            <p:cNvSpPr/>
            <p:nvPr/>
          </p:nvSpPr>
          <p:spPr>
            <a:xfrm flipV="1">
              <a:off x="1371600" y="297180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793080" y="31240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# 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2" name=""/>
          <p:cNvSpPr/>
          <p:nvPr/>
        </p:nvSpPr>
        <p:spPr>
          <a:xfrm>
            <a:off x="1752480" y="3505320"/>
            <a:ext cx="5334120" cy="2057400"/>
          </a:xfrm>
          <a:custGeom>
            <a:avLst/>
            <a:gdLst/>
            <a:ahLst/>
            <a:rect l="l" t="t" r="r" b="b"/>
            <a:pathLst>
              <a:path w="3408" h="1024">
                <a:moveTo>
                  <a:pt x="0" y="1024"/>
                </a:moveTo>
                <a:cubicBezTo>
                  <a:pt x="48" y="1012"/>
                  <a:pt x="96" y="1000"/>
                  <a:pt x="144" y="976"/>
                </a:cubicBezTo>
                <a:cubicBezTo>
                  <a:pt x="192" y="952"/>
                  <a:pt x="240" y="920"/>
                  <a:pt x="288" y="880"/>
                </a:cubicBezTo>
                <a:cubicBezTo>
                  <a:pt x="336" y="840"/>
                  <a:pt x="368" y="800"/>
                  <a:pt x="432" y="736"/>
                </a:cubicBezTo>
                <a:cubicBezTo>
                  <a:pt x="496" y="672"/>
                  <a:pt x="616" y="584"/>
                  <a:pt x="672" y="496"/>
                </a:cubicBezTo>
                <a:cubicBezTo>
                  <a:pt x="728" y="408"/>
                  <a:pt x="704" y="248"/>
                  <a:pt x="768" y="208"/>
                </a:cubicBezTo>
                <a:cubicBezTo>
                  <a:pt x="832" y="168"/>
                  <a:pt x="968" y="216"/>
                  <a:pt x="1056" y="256"/>
                </a:cubicBezTo>
                <a:cubicBezTo>
                  <a:pt x="1144" y="296"/>
                  <a:pt x="1200" y="464"/>
                  <a:pt x="1296" y="448"/>
                </a:cubicBezTo>
                <a:cubicBezTo>
                  <a:pt x="1392" y="432"/>
                  <a:pt x="1536" y="232"/>
                  <a:pt x="1632" y="160"/>
                </a:cubicBezTo>
                <a:cubicBezTo>
                  <a:pt x="1728" y="88"/>
                  <a:pt x="1800" y="0"/>
                  <a:pt x="1872" y="16"/>
                </a:cubicBezTo>
                <a:cubicBezTo>
                  <a:pt x="1944" y="32"/>
                  <a:pt x="1976" y="160"/>
                  <a:pt x="2064" y="256"/>
                </a:cubicBezTo>
                <a:cubicBezTo>
                  <a:pt x="2152" y="352"/>
                  <a:pt x="2264" y="512"/>
                  <a:pt x="2400" y="592"/>
                </a:cubicBezTo>
                <a:cubicBezTo>
                  <a:pt x="2536" y="672"/>
                  <a:pt x="2760" y="680"/>
                  <a:pt x="2880" y="736"/>
                </a:cubicBezTo>
                <a:cubicBezTo>
                  <a:pt x="3000" y="792"/>
                  <a:pt x="3032" y="880"/>
                  <a:pt x="3120" y="928"/>
                </a:cubicBezTo>
                <a:cubicBezTo>
                  <a:pt x="3208" y="976"/>
                  <a:pt x="3308" y="1000"/>
                  <a:pt x="3408" y="1024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1371600" y="3124080"/>
            <a:ext cx="6248520" cy="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6271200" y="28195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AX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2209680" y="5105520"/>
            <a:ext cx="15264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6357960" y="5105520"/>
            <a:ext cx="15228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1371600" y="3494160"/>
            <a:ext cx="6248520" cy="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1371600" y="5181480"/>
            <a:ext cx="6248520" cy="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9" name=""/>
          <p:cNvGrpSpPr/>
          <p:nvPr/>
        </p:nvGrpSpPr>
        <p:grpSpPr>
          <a:xfrm>
            <a:off x="1946880" y="3505320"/>
            <a:ext cx="395280" cy="1681560"/>
            <a:chOff x="1946880" y="3505320"/>
            <a:chExt cx="395280" cy="1681560"/>
          </a:xfrm>
        </p:grpSpPr>
        <p:sp>
          <p:nvSpPr>
            <p:cNvPr id="2900" name=""/>
            <p:cNvSpPr/>
            <p:nvPr/>
          </p:nvSpPr>
          <p:spPr>
            <a:xfrm flipV="1">
              <a:off x="2286000" y="3505320"/>
              <a:ext cx="0" cy="167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 rot="16132800">
              <a:off x="1458360" y="431280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extra nee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2421360" y="3124080"/>
            <a:ext cx="390240" cy="2057040"/>
            <a:chOff x="2421360" y="3124080"/>
            <a:chExt cx="390240" cy="2057040"/>
          </a:xfrm>
        </p:grpSpPr>
        <p:sp>
          <p:nvSpPr>
            <p:cNvPr id="2903" name=""/>
            <p:cNvSpPr/>
            <p:nvPr/>
          </p:nvSpPr>
          <p:spPr>
            <a:xfrm flipV="1">
              <a:off x="2743200" y="3124080"/>
              <a:ext cx="0" cy="20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 rot="16132800">
              <a:off x="2057400" y="38984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algorith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5" name=""/>
          <p:cNvGrpSpPr/>
          <p:nvPr/>
        </p:nvGrpSpPr>
        <p:grpSpPr>
          <a:xfrm>
            <a:off x="6098040" y="3124080"/>
            <a:ext cx="390240" cy="2057040"/>
            <a:chOff x="6098040" y="3124080"/>
            <a:chExt cx="390240" cy="2057040"/>
          </a:xfrm>
        </p:grpSpPr>
        <p:sp>
          <p:nvSpPr>
            <p:cNvPr id="2906" name=""/>
            <p:cNvSpPr/>
            <p:nvPr/>
          </p:nvSpPr>
          <p:spPr>
            <a:xfrm flipV="1">
              <a:off x="6419880" y="3124080"/>
              <a:ext cx="0" cy="20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rot="16132800">
              <a:off x="5734080" y="38984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algorith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1295280" y="5546880"/>
            <a:ext cx="6477120" cy="398880"/>
            <a:chOff x="1295280" y="5546880"/>
            <a:chExt cx="6477120" cy="398880"/>
          </a:xfrm>
        </p:grpSpPr>
        <p:sp>
          <p:nvSpPr>
            <p:cNvPr id="2909" name=""/>
            <p:cNvSpPr/>
            <p:nvPr/>
          </p:nvSpPr>
          <p:spPr>
            <a:xfrm>
              <a:off x="1295280" y="5562720"/>
              <a:ext cx="647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6991920" y="55468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1" name=""/>
          <p:cNvSpPr/>
          <p:nvPr/>
        </p:nvSpPr>
        <p:spPr>
          <a:xfrm>
            <a:off x="6636600" y="318456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AL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4" dur="indefinite" restart="never" nodeType="tmRoot">
          <p:childTnLst>
            <p:seq>
              <p:cTn id="3925" dur="indefinite" nodeType="mainSeq">
                <p:childTnLst>
                  <p:par>
                    <p:cTn id="3926" fill="hold">
                      <p:stCondLst>
                        <p:cond delay="indefinite"/>
                      </p:stCondLst>
                      <p:childTnLst>
                        <p:par>
                          <p:cTn id="3927" fill="hold">
                            <p:stCondLst>
                              <p:cond delay="0"/>
                            </p:stCondLst>
                            <p:childTnLst>
                              <p:par>
                                <p:cTn id="39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0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1" fill="hold">
                      <p:stCondLst>
                        <p:cond delay="indefinite"/>
                      </p:stCondLst>
                      <p:childTnLst>
                        <p:par>
                          <p:cTn id="3932" fill="hold">
                            <p:stCondLst>
                              <p:cond delay="0"/>
                            </p:stCondLst>
                            <p:childTnLst>
                              <p:par>
                                <p:cTn id="39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35" dur="500"/>
                                        <p:tgtEl>
                                          <p:spTgt spid="2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6" fill="hold">
                      <p:stCondLst>
                        <p:cond delay="indefinite"/>
                      </p:stCondLst>
                      <p:childTnLst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0" dur="5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1" fill="hold">
                            <p:stCondLst>
                              <p:cond delay="500"/>
                            </p:stCondLst>
                            <p:childTnLst>
                              <p:par>
                                <p:cTn id="39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4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5" fill="hold">
                      <p:stCondLst>
                        <p:cond delay="indefinite"/>
                      </p:stCondLst>
                      <p:childTnLst>
                        <p:par>
                          <p:cTn id="3946" fill="hold">
                            <p:stCondLst>
                              <p:cond delay="0"/>
                            </p:stCondLst>
                            <p:childTnLst>
                              <p:par>
                                <p:cTn id="3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9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0" fill="hold">
                      <p:stCondLst>
                        <p:cond delay="indefinite"/>
                      </p:stCondLst>
                      <p:childTnLst>
                        <p:par>
                          <p:cTn id="3951" fill="hold">
                            <p:stCondLst>
                              <p:cond delay="0"/>
                            </p:stCondLst>
                            <p:childTnLst>
                              <p:par>
                                <p:cTn id="3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4" dur="500"/>
                                        <p:tgtEl>
                                          <p:spTgt spid="2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5" fill="hold">
                            <p:stCondLst>
                              <p:cond delay="500"/>
                            </p:stCondLst>
                            <p:childTnLst>
                              <p:par>
                                <p:cTn id="39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8" dur="5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9" fill="hold">
                      <p:stCondLst>
                        <p:cond delay="indefinite"/>
                      </p:stCondLst>
                      <p:childTnLst>
                        <p:par>
                          <p:cTn id="3960" fill="hold">
                            <p:stCondLst>
                              <p:cond delay="0"/>
                            </p:stCondLst>
                            <p:childTnLst>
                              <p:par>
                                <p:cTn id="3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3" dur="500"/>
                                        <p:tgtEl>
                                          <p:spTgt spid="2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4" fill="hold">
                            <p:stCondLst>
                              <p:cond delay="500"/>
                            </p:stCondLst>
                            <p:childTnLst>
                              <p:par>
                                <p:cTn id="39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7" dur="5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8" dur="5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9" fill="hold">
                      <p:stCondLst>
                        <p:cond delay="indefinite"/>
                      </p:stCondLst>
                      <p:childTnLst>
                        <p:par>
                          <p:cTn id="3970" fill="hold">
                            <p:stCondLst>
                              <p:cond delay="0"/>
                            </p:stCondLst>
                            <p:childTnLst>
                              <p:par>
                                <p:cTn id="39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3" dur="5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4" fill="hold">
                      <p:stCondLst>
                        <p:cond delay="indefinite"/>
                      </p:stCondLst>
                      <p:childTnLst>
                        <p:par>
                          <p:cTn id="3975" fill="hold">
                            <p:stCondLst>
                              <p:cond delay="0"/>
                            </p:stCondLst>
                            <p:childTnLst>
                              <p:par>
                                <p:cTn id="39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8" dur="500"/>
                                        <p:tgtEl>
                                          <p:spTgt spid="2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3" dur="500" fill="hold"/>
                                        <p:tgtEl>
                                          <p:spTgt spid="2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4" dur="500" fill="hold"/>
                                        <p:tgtEl>
                                          <p:spTgt spid="2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5" fill="hold">
                            <p:stCondLst>
                              <p:cond delay="500"/>
                            </p:stCondLst>
                            <p:childTnLst>
                              <p:par>
                                <p:cTn id="39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8" dur="500"/>
                                        <p:tgtEl>
                                          <p:spTgt spid="2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instance /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-allocation graph + claim ed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4" name=""/>
          <p:cNvGrpSpPr/>
          <p:nvPr/>
        </p:nvGrpSpPr>
        <p:grpSpPr>
          <a:xfrm>
            <a:off x="1676520" y="2666880"/>
            <a:ext cx="761760" cy="990720"/>
            <a:chOff x="1676520" y="2666880"/>
            <a:chExt cx="761760" cy="990720"/>
          </a:xfrm>
        </p:grpSpPr>
        <p:sp>
          <p:nvSpPr>
            <p:cNvPr id="2915" name=""/>
            <p:cNvSpPr/>
            <p:nvPr/>
          </p:nvSpPr>
          <p:spPr>
            <a:xfrm>
              <a:off x="1676520" y="304776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1831680" y="26668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1981080" y="327636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8" name=""/>
          <p:cNvSpPr/>
          <p:nvPr/>
        </p:nvSpPr>
        <p:spPr>
          <a:xfrm>
            <a:off x="4267080" y="30481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9" name=""/>
          <p:cNvCxnSpPr>
            <a:stCxn id="2915" idx="3"/>
            <a:endCxn id="2918" idx="2"/>
          </p:cNvCxnSpPr>
          <p:nvPr/>
        </p:nvCxnSpPr>
        <p:spPr>
          <a:xfrm>
            <a:off x="2457000" y="3352320"/>
            <a:ext cx="1810440" cy="108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grpSp>
        <p:nvGrpSpPr>
          <p:cNvPr id="2920" name=""/>
          <p:cNvGrpSpPr/>
          <p:nvPr/>
        </p:nvGrpSpPr>
        <p:grpSpPr>
          <a:xfrm>
            <a:off x="1676520" y="3668760"/>
            <a:ext cx="761760" cy="990720"/>
            <a:chOff x="1676520" y="3668760"/>
            <a:chExt cx="761760" cy="990720"/>
          </a:xfrm>
        </p:grpSpPr>
        <p:sp>
          <p:nvSpPr>
            <p:cNvPr id="2921" name=""/>
            <p:cNvSpPr/>
            <p:nvPr/>
          </p:nvSpPr>
          <p:spPr>
            <a:xfrm>
              <a:off x="1676520" y="404964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1831680" y="36687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1981080" y="427824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4" name=""/>
          <p:cNvSpPr/>
          <p:nvPr/>
        </p:nvSpPr>
        <p:spPr>
          <a:xfrm>
            <a:off x="4267080" y="404496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5" name=""/>
          <p:cNvCxnSpPr>
            <a:stCxn id="2921" idx="3"/>
            <a:endCxn id="2924" idx="2"/>
          </p:cNvCxnSpPr>
          <p:nvPr/>
        </p:nvCxnSpPr>
        <p:spPr>
          <a:xfrm flipV="1">
            <a:off x="2457000" y="4349160"/>
            <a:ext cx="1810440" cy="54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headEnd len="med" type="triangle" w="med"/>
          </a:ln>
        </p:spPr>
      </p:cxnSp>
      <p:grpSp>
        <p:nvGrpSpPr>
          <p:cNvPr id="2926" name=""/>
          <p:cNvGrpSpPr/>
          <p:nvPr/>
        </p:nvGrpSpPr>
        <p:grpSpPr>
          <a:xfrm>
            <a:off x="1676520" y="4735440"/>
            <a:ext cx="761760" cy="990720"/>
            <a:chOff x="1676520" y="4735440"/>
            <a:chExt cx="761760" cy="990720"/>
          </a:xfrm>
        </p:grpSpPr>
        <p:sp>
          <p:nvSpPr>
            <p:cNvPr id="2927" name=""/>
            <p:cNvSpPr/>
            <p:nvPr/>
          </p:nvSpPr>
          <p:spPr>
            <a:xfrm>
              <a:off x="1676520" y="511632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1831680" y="47354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1981080" y="534492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0" name=""/>
          <p:cNvSpPr/>
          <p:nvPr/>
        </p:nvSpPr>
        <p:spPr>
          <a:xfrm>
            <a:off x="4267080" y="518148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1" name=""/>
          <p:cNvCxnSpPr>
            <a:stCxn id="2929" idx="5"/>
            <a:endCxn id="2930" idx="2"/>
          </p:cNvCxnSpPr>
          <p:nvPr/>
        </p:nvCxnSpPr>
        <p:spPr>
          <a:xfrm>
            <a:off x="2111400" y="5474880"/>
            <a:ext cx="2156400" cy="118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2932" name=""/>
          <p:cNvSpPr/>
          <p:nvPr/>
        </p:nvSpPr>
        <p:spPr>
          <a:xfrm rot="5478000">
            <a:off x="4609440" y="3619440"/>
            <a:ext cx="1447920" cy="60948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 rot="5478000">
            <a:off x="4991040" y="4838400"/>
            <a:ext cx="1447560" cy="609840"/>
          </a:xfrm>
          <a:custGeom>
            <a:avLst/>
            <a:gdLst>
              <a:gd name="textAreaLeft" fmla="*/ 253080 w 1447560"/>
              <a:gd name="textAreaRight" fmla="*/ 1049400 w 144756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 flipV="1" rot="16122000">
            <a:off x="6172200" y="4038480"/>
            <a:ext cx="2743200" cy="609480"/>
          </a:xfrm>
          <a:custGeom>
            <a:avLst/>
            <a:gdLst>
              <a:gd name="textAreaLeft" fmla="*/ 479880 w 2743200"/>
              <a:gd name="textAreaRight" fmla="*/ 1989000 w 27432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5671080" y="35812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2935440" y="297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la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2815200" y="39765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2592720" y="511956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assig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6095880" y="4876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7820280" y="403848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9" dur="indefinite" restart="never" nodeType="tmRoot">
          <p:childTnLst>
            <p:seq>
              <p:cTn id="3990" dur="indefinite" nodeType="mainSeq">
                <p:childTnLst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5" dur="500"/>
                                        <p:tgtEl>
                                          <p:spTgt spid="2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9" dur="5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3" dur="500"/>
                                        <p:tgtEl>
                                          <p:spTgt spid="2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7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1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5" dur="5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6" fill="hold">
                      <p:stCondLst>
                        <p:cond delay="indefinite"/>
                      </p:stCondLst>
                      <p:childTnLst>
                        <p:par>
                          <p:cTn id="4017" fill="hold">
                            <p:stCondLst>
                              <p:cond delay="0"/>
                            </p:stCondLst>
                            <p:childTnLst>
                              <p:par>
                                <p:cTn id="40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0" dur="500"/>
                                        <p:tgtEl>
                                          <p:spTgt spid="2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4" dur="5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fill="hold">
                      <p:stCondLst>
                        <p:cond delay="indefinite"/>
                      </p:stCondLst>
                      <p:childTnLst>
                        <p:par>
                          <p:cTn id="4026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9" dur="500"/>
                                        <p:tgtEl>
                                          <p:spTgt spid="2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0" fill="hold">
                            <p:stCondLst>
                              <p:cond delay="500"/>
                            </p:stCondLst>
                            <p:childTnLst>
                              <p:par>
                                <p:cTn id="40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33" dur="500"/>
                                        <p:tgtEl>
                                          <p:spTgt spid="2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7" dur="500"/>
                                        <p:tgtEl>
                                          <p:spTgt spid="2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41" dur="500"/>
                                        <p:tgtEl>
                                          <p:spTgt spid="2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fill="hold">
                      <p:stCondLst>
                        <p:cond delay="indefinite"/>
                      </p:stCondLst>
                      <p:childTnLst>
                        <p:par>
                          <p:cTn id="4043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6" dur="5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7" fill="hold">
                            <p:stCondLst>
                              <p:cond delay="500"/>
                            </p:stCondLst>
                            <p:childTnLst>
                              <p:par>
                                <p:cTn id="40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0" dur="5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4" dur="500"/>
                                        <p:tgtEl>
                                          <p:spTgt spid="2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8" dur="500"/>
                                        <p:tgtEl>
                                          <p:spTgt spid="2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9" fill="hold">
                      <p:stCondLst>
                        <p:cond delay="indefinite"/>
                      </p:stCondLst>
                      <p:childTnLst>
                        <p:par>
                          <p:cTn id="4060" fill="hold">
                            <p:stCondLst>
                              <p:cond delay="0"/>
                            </p:stCondLst>
                            <p:childTnLst>
                              <p:par>
                                <p:cTn id="40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3" dur="5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4" fill="hold">
                            <p:stCondLst>
                              <p:cond delay="500"/>
                            </p:stCondLst>
                            <p:childTnLst>
                              <p:par>
                                <p:cTn id="40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67" dur="500"/>
                                        <p:tgtEl>
                                          <p:spTgt spid="2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im edg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all resources a process MAY requ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start of a proces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when process has only claim ed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3" name=""/>
          <p:cNvGrpSpPr/>
          <p:nvPr/>
        </p:nvGrpSpPr>
        <p:grpSpPr>
          <a:xfrm>
            <a:off x="1676520" y="4648320"/>
            <a:ext cx="761760" cy="990000"/>
            <a:chOff x="1676520" y="4648320"/>
            <a:chExt cx="761760" cy="990000"/>
          </a:xfrm>
        </p:grpSpPr>
        <p:sp>
          <p:nvSpPr>
            <p:cNvPr id="2944" name=""/>
            <p:cNvSpPr/>
            <p:nvPr/>
          </p:nvSpPr>
          <p:spPr>
            <a:xfrm>
              <a:off x="1676520" y="5028840"/>
              <a:ext cx="761760" cy="60948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1831680" y="46483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1981080" y="5257440"/>
              <a:ext cx="15192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7" name=""/>
          <p:cNvSpPr/>
          <p:nvPr/>
        </p:nvSpPr>
        <p:spPr>
          <a:xfrm>
            <a:off x="3429000" y="50292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8" name=""/>
          <p:cNvCxnSpPr>
            <a:stCxn id="2944" idx="3"/>
            <a:endCxn id="2947" idx="2"/>
          </p:cNvCxnSpPr>
          <p:nvPr/>
        </p:nvCxnSpPr>
        <p:spPr>
          <a:xfrm>
            <a:off x="2457000" y="5333760"/>
            <a:ext cx="972360" cy="108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grpSp>
        <p:nvGrpSpPr>
          <p:cNvPr id="2949" name=""/>
          <p:cNvGrpSpPr/>
          <p:nvPr/>
        </p:nvGrpSpPr>
        <p:grpSpPr>
          <a:xfrm>
            <a:off x="4952880" y="4648320"/>
            <a:ext cx="762120" cy="990000"/>
            <a:chOff x="4952880" y="4648320"/>
            <a:chExt cx="762120" cy="990000"/>
          </a:xfrm>
        </p:grpSpPr>
        <p:sp>
          <p:nvSpPr>
            <p:cNvPr id="2950" name=""/>
            <p:cNvSpPr/>
            <p:nvPr/>
          </p:nvSpPr>
          <p:spPr>
            <a:xfrm>
              <a:off x="4952880" y="5028840"/>
              <a:ext cx="762120" cy="60948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5108400" y="46483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5257800" y="5257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3" name=""/>
          <p:cNvGrpSpPr/>
          <p:nvPr/>
        </p:nvGrpSpPr>
        <p:grpSpPr>
          <a:xfrm>
            <a:off x="2666880" y="3429000"/>
            <a:ext cx="762120" cy="990720"/>
            <a:chOff x="2666880" y="3429000"/>
            <a:chExt cx="762120" cy="990720"/>
          </a:xfrm>
        </p:grpSpPr>
        <p:sp>
          <p:nvSpPr>
            <p:cNvPr id="2954" name=""/>
            <p:cNvSpPr/>
            <p:nvPr/>
          </p:nvSpPr>
          <p:spPr>
            <a:xfrm>
              <a:off x="2666880" y="380988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2822400" y="34290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2971800" y="4038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7" name=""/>
          <p:cNvGrpSpPr/>
          <p:nvPr/>
        </p:nvGrpSpPr>
        <p:grpSpPr>
          <a:xfrm>
            <a:off x="4114800" y="3429000"/>
            <a:ext cx="762120" cy="990720"/>
            <a:chOff x="4114800" y="3429000"/>
            <a:chExt cx="762120" cy="990720"/>
          </a:xfrm>
        </p:grpSpPr>
        <p:sp>
          <p:nvSpPr>
            <p:cNvPr id="2958" name=""/>
            <p:cNvSpPr/>
            <p:nvPr/>
          </p:nvSpPr>
          <p:spPr>
            <a:xfrm>
              <a:off x="4114800" y="380988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270320" y="34290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419720" y="4038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61" name=""/>
          <p:cNvCxnSpPr>
            <a:stCxn id="2958" idx="2"/>
            <a:endCxn id="2947" idx="7"/>
          </p:cNvCxnSpPr>
          <p:nvPr/>
        </p:nvCxnSpPr>
        <p:spPr>
          <a:xfrm flipH="1">
            <a:off x="4014360" y="4438440"/>
            <a:ext cx="481680" cy="68004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2962" name=""/>
          <p:cNvCxnSpPr>
            <a:stCxn id="2950" idx="1"/>
            <a:endCxn id="2947" idx="6"/>
          </p:cNvCxnSpPr>
          <p:nvPr/>
        </p:nvCxnSpPr>
        <p:spPr>
          <a:xfrm flipH="1">
            <a:off x="4114080" y="5333760"/>
            <a:ext cx="819720" cy="108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8" dur="indefinite" restart="never" nodeType="tmRoot">
          <p:childTnLst>
            <p:seq>
              <p:cTn id="4069" dur="indefinite" nodeType="mainSeq">
                <p:childTnLst>
                  <p:par>
                    <p:cTn id="4070" fill="hold">
                      <p:stCondLst>
                        <p:cond delay="indefinite"/>
                      </p:stCondLst>
                      <p:childTnLst>
                        <p:par>
                          <p:cTn id="4071" fill="hold">
                            <p:stCondLst>
                              <p:cond delay="0"/>
                            </p:stCondLst>
                            <p:childTnLst>
                              <p:par>
                                <p:cTn id="40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4" dur="500"/>
                                        <p:tgtEl>
                                          <p:spTgt spid="2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5" fill="hold">
                      <p:stCondLst>
                        <p:cond delay="indefinite"/>
                      </p:stCondLst>
                      <p:childTnLst>
                        <p:par>
                          <p:cTn id="4076" fill="hold">
                            <p:stCondLst>
                              <p:cond delay="0"/>
                            </p:stCondLst>
                            <p:childTnLst>
                              <p:par>
                                <p:cTn id="40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9" dur="500"/>
                                        <p:tgtEl>
                                          <p:spTgt spid="2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0" fill="hold">
                      <p:stCondLst>
                        <p:cond delay="indefinite"/>
                      </p:stCondLst>
                      <p:childTnLst>
                        <p:par>
                          <p:cTn id="4081" fill="hold">
                            <p:stCondLst>
                              <p:cond delay="0"/>
                            </p:stCondLst>
                            <p:childTnLst>
                              <p:par>
                                <p:cTn id="40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4" dur="500"/>
                                        <p:tgtEl>
                                          <p:spTgt spid="2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5" fill="hold">
                      <p:stCondLst>
                        <p:cond delay="indefinite"/>
                      </p:stCondLst>
                      <p:childTnLst>
                        <p:par>
                          <p:cTn id="4086" fill="hold">
                            <p:stCondLst>
                              <p:cond delay="0"/>
                            </p:stCondLst>
                            <p:childTnLst>
                              <p:par>
                                <p:cTn id="40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9" dur="500"/>
                                        <p:tgtEl>
                                          <p:spTgt spid="2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0" fill="hold">
                            <p:stCondLst>
                              <p:cond delay="500"/>
                            </p:stCondLst>
                            <p:childTnLst>
                              <p:par>
                                <p:cTn id="40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3" dur="500"/>
                                        <p:tgtEl>
                                          <p:spTgt spid="2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7" dur="500"/>
                                        <p:tgtEl>
                                          <p:spTgt spid="2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1" dur="500"/>
                                        <p:tgtEl>
                                          <p:spTgt spid="2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5" dur="500"/>
                                        <p:tgtEl>
                                          <p:spTgt spid="2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6" fill="hold">
                      <p:stCondLst>
                        <p:cond delay="indefinite"/>
                      </p:stCondLst>
                      <p:childTnLst>
                        <p:par>
                          <p:cTn id="4107" fill="hold">
                            <p:stCondLst>
                              <p:cond delay="0"/>
                            </p:stCondLst>
                            <p:childTnLst>
                              <p:par>
                                <p:cTn id="4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0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4" dur="500"/>
                                        <p:tgtEl>
                                          <p:spTgt spid="2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8" dur="500"/>
                                        <p:tgtEl>
                                          <p:spTgt spid="2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gorithm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cate if saf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5" name=""/>
          <p:cNvGrpSpPr/>
          <p:nvPr/>
        </p:nvGrpSpPr>
        <p:grpSpPr>
          <a:xfrm>
            <a:off x="1676520" y="2514600"/>
            <a:ext cx="761760" cy="990720"/>
            <a:chOff x="1676520" y="2514600"/>
            <a:chExt cx="761760" cy="990720"/>
          </a:xfrm>
        </p:grpSpPr>
        <p:sp>
          <p:nvSpPr>
            <p:cNvPr id="2966" name=""/>
            <p:cNvSpPr/>
            <p:nvPr/>
          </p:nvSpPr>
          <p:spPr>
            <a:xfrm>
              <a:off x="1676520" y="289548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1831680" y="25146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1981080" y="312408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9" name=""/>
          <p:cNvSpPr/>
          <p:nvPr/>
        </p:nvSpPr>
        <p:spPr>
          <a:xfrm>
            <a:off x="4267080" y="288432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0" name=""/>
          <p:cNvGrpSpPr/>
          <p:nvPr/>
        </p:nvGrpSpPr>
        <p:grpSpPr>
          <a:xfrm>
            <a:off x="1676520" y="3581280"/>
            <a:ext cx="761760" cy="990720"/>
            <a:chOff x="1676520" y="3581280"/>
            <a:chExt cx="761760" cy="990720"/>
          </a:xfrm>
        </p:grpSpPr>
        <p:sp>
          <p:nvSpPr>
            <p:cNvPr id="2971" name=""/>
            <p:cNvSpPr/>
            <p:nvPr/>
          </p:nvSpPr>
          <p:spPr>
            <a:xfrm>
              <a:off x="1676520" y="396216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1831680" y="3581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1981080" y="419076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4" name=""/>
          <p:cNvSpPr/>
          <p:nvPr/>
        </p:nvSpPr>
        <p:spPr>
          <a:xfrm>
            <a:off x="4267080" y="402732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5" name=""/>
          <p:cNvGrpSpPr/>
          <p:nvPr/>
        </p:nvGrpSpPr>
        <p:grpSpPr>
          <a:xfrm>
            <a:off x="2457000" y="2822400"/>
            <a:ext cx="1810080" cy="377640"/>
            <a:chOff x="2457000" y="2822400"/>
            <a:chExt cx="1810080" cy="377640"/>
          </a:xfrm>
        </p:grpSpPr>
        <p:cxnSp>
          <p:nvCxnSpPr>
            <p:cNvPr id="2976" name=""/>
            <p:cNvCxnSpPr>
              <a:stCxn id="2966" idx="3"/>
              <a:endCxn id="2969" idx="2"/>
            </p:cNvCxnSpPr>
            <p:nvPr/>
          </p:nvCxnSpPr>
          <p:spPr>
            <a:xfrm flipV="1">
              <a:off x="2457000" y="3188520"/>
              <a:ext cx="1810440" cy="118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headEnd len="med" type="triangle" w="med"/>
            </a:ln>
          </p:spPr>
        </p:cxnSp>
        <p:sp>
          <p:nvSpPr>
            <p:cNvPr id="2977" name=""/>
            <p:cNvSpPr/>
            <p:nvPr/>
          </p:nvSpPr>
          <p:spPr>
            <a:xfrm>
              <a:off x="2815200" y="282240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8" name=""/>
          <p:cNvGrpSpPr/>
          <p:nvPr/>
        </p:nvGrpSpPr>
        <p:grpSpPr>
          <a:xfrm>
            <a:off x="2111400" y="3965400"/>
            <a:ext cx="2156040" cy="368280"/>
            <a:chOff x="2111400" y="3965400"/>
            <a:chExt cx="2156040" cy="368280"/>
          </a:xfrm>
        </p:grpSpPr>
        <p:cxnSp>
          <p:nvCxnSpPr>
            <p:cNvPr id="2979" name=""/>
            <p:cNvCxnSpPr>
              <a:stCxn id="2973" idx="5"/>
              <a:endCxn id="2974" idx="2"/>
            </p:cNvCxnSpPr>
            <p:nvPr/>
          </p:nvCxnSpPr>
          <p:spPr>
            <a:xfrm>
              <a:off x="2111400" y="4320720"/>
              <a:ext cx="2156400" cy="1188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sp>
          <p:nvSpPr>
            <p:cNvPr id="2980" name=""/>
            <p:cNvSpPr/>
            <p:nvPr/>
          </p:nvSpPr>
          <p:spPr>
            <a:xfrm>
              <a:off x="2592720" y="3965400"/>
              <a:ext cx="145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assig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1" name=""/>
          <p:cNvSpPr/>
          <p:nvPr/>
        </p:nvSpPr>
        <p:spPr>
          <a:xfrm>
            <a:off x="3124080" y="342900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1677960" y="487692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cycle in grap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1692000" y="5486400"/>
            <a:ext cx="55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operations, i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9" dur="indefinite" restart="never" nodeType="tmRoot">
          <p:childTnLst>
            <p:seq>
              <p:cTn id="4120" dur="indefinite" nodeType="mainSeq">
                <p:childTnLst>
                  <p:par>
                    <p:cTn id="4121" fill="hold">
                      <p:stCondLst>
                        <p:cond delay="indefinite"/>
                      </p:stCondLst>
                      <p:childTnLst>
                        <p:par>
                          <p:cTn id="4122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5" dur="500"/>
                                        <p:tgtEl>
                                          <p:spTgt spid="2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6" fill="hold">
                            <p:stCondLst>
                              <p:cond delay="500"/>
                            </p:stCondLst>
                            <p:childTnLst>
                              <p:par>
                                <p:cTn id="4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9" dur="5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33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4" fill="hold">
                      <p:stCondLst>
                        <p:cond delay="indefinite"/>
                      </p:stCondLst>
                      <p:childTnLst>
                        <p:par>
                          <p:cTn id="4135" fill="hold">
                            <p:stCondLst>
                              <p:cond delay="0"/>
                            </p:stCondLst>
                            <p:childTnLst>
                              <p:par>
                                <p:cTn id="4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8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9" fill="hold">
                            <p:stCondLst>
                              <p:cond delay="500"/>
                            </p:stCondLst>
                            <p:childTnLst>
                              <p:par>
                                <p:cTn id="4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2" dur="500"/>
                                        <p:tgtEl>
                                          <p:spTgt spid="2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6" dur="500"/>
                                        <p:tgtEl>
                                          <p:spTgt spid="2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50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5" dur="50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6" dur="50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7" fill="hold">
                      <p:stCondLst>
                        <p:cond delay="indefinite"/>
                      </p:stCondLst>
                      <p:childTnLst>
                        <p:par>
                          <p:cTn id="4158" fill="hold">
                            <p:stCondLst>
                              <p:cond delay="0"/>
                            </p:stCondLst>
                            <p:childTnLst>
                              <p:par>
                                <p:cTn id="4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1" dur="500"/>
                                        <p:tgtEl>
                                          <p:spTgt spid="2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5" name=""/>
          <p:cNvGrpSpPr/>
          <p:nvPr/>
        </p:nvGrpSpPr>
        <p:grpSpPr>
          <a:xfrm>
            <a:off x="1752480" y="2133720"/>
            <a:ext cx="762120" cy="990000"/>
            <a:chOff x="1752480" y="2133720"/>
            <a:chExt cx="762120" cy="990000"/>
          </a:xfrm>
        </p:grpSpPr>
        <p:sp>
          <p:nvSpPr>
            <p:cNvPr id="2986" name=""/>
            <p:cNvSpPr/>
            <p:nvPr/>
          </p:nvSpPr>
          <p:spPr>
            <a:xfrm>
              <a:off x="1752480" y="2514240"/>
              <a:ext cx="762120" cy="60948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1908000" y="21337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057400" y="2742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9" name=""/>
          <p:cNvSpPr/>
          <p:nvPr/>
        </p:nvSpPr>
        <p:spPr>
          <a:xfrm>
            <a:off x="838080" y="35053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0" name=""/>
          <p:cNvGrpSpPr/>
          <p:nvPr/>
        </p:nvGrpSpPr>
        <p:grpSpPr>
          <a:xfrm>
            <a:off x="1752480" y="4191120"/>
            <a:ext cx="762120" cy="990000"/>
            <a:chOff x="1752480" y="4191120"/>
            <a:chExt cx="762120" cy="990000"/>
          </a:xfrm>
        </p:grpSpPr>
        <p:sp>
          <p:nvSpPr>
            <p:cNvPr id="2991" name=""/>
            <p:cNvSpPr/>
            <p:nvPr/>
          </p:nvSpPr>
          <p:spPr>
            <a:xfrm>
              <a:off x="1752480" y="4571640"/>
              <a:ext cx="762120" cy="60948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1908000" y="41911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2057400" y="4800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4" name=""/>
          <p:cNvSpPr/>
          <p:nvPr/>
        </p:nvSpPr>
        <p:spPr>
          <a:xfrm>
            <a:off x="2743200" y="358128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5" name=""/>
          <p:cNvCxnSpPr>
            <a:stCxn id="2991" idx="1"/>
            <a:endCxn id="2989" idx="4"/>
          </p:cNvCxnSpPr>
          <p:nvPr/>
        </p:nvCxnSpPr>
        <p:spPr>
          <a:xfrm flipH="1" flipV="1">
            <a:off x="1180800" y="4114080"/>
            <a:ext cx="552960" cy="76284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2996" name=""/>
          <p:cNvCxnSpPr>
            <a:stCxn id="2986" idx="3"/>
            <a:endCxn id="2994" idx="0"/>
          </p:cNvCxnSpPr>
          <p:nvPr/>
        </p:nvCxnSpPr>
        <p:spPr>
          <a:xfrm>
            <a:off x="2533320" y="2819520"/>
            <a:ext cx="553320" cy="76248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2997" name=""/>
          <p:cNvCxnSpPr>
            <a:stCxn id="2991" idx="3"/>
            <a:endCxn id="2994" idx="4"/>
          </p:cNvCxnSpPr>
          <p:nvPr/>
        </p:nvCxnSpPr>
        <p:spPr>
          <a:xfrm flipV="1">
            <a:off x="2533320" y="4190400"/>
            <a:ext cx="553320" cy="68652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2998" name=""/>
          <p:cNvCxnSpPr>
            <a:stCxn id="2989" idx="0"/>
            <a:endCxn id="2986" idx="1"/>
          </p:cNvCxnSpPr>
          <p:nvPr/>
        </p:nvCxnSpPr>
        <p:spPr>
          <a:xfrm flipV="1">
            <a:off x="1181160" y="2818800"/>
            <a:ext cx="552960" cy="68652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tailEnd len="med" type="triangle" w="med"/>
          </a:ln>
        </p:spPr>
      </p:cxnSp>
      <p:sp>
        <p:nvSpPr>
          <p:cNvPr id="2999" name=""/>
          <p:cNvSpPr/>
          <p:nvPr/>
        </p:nvSpPr>
        <p:spPr>
          <a:xfrm>
            <a:off x="1411200" y="5486400"/>
            <a:ext cx="1639800" cy="440640"/>
          </a:xfrm>
          <a:prstGeom prst="borderCallout2">
            <a:avLst>
              <a:gd name="adj1" fmla="val 18750"/>
              <a:gd name="adj2" fmla="val -8333"/>
              <a:gd name="adj3" fmla="val 27907"/>
              <a:gd name="adj4" fmla="val -9194"/>
              <a:gd name="adj5" fmla="val -322856"/>
              <a:gd name="adj6" fmla="val -14111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3962520" y="2209680"/>
            <a:ext cx="2590200" cy="3048120"/>
            <a:chOff x="3962520" y="2209680"/>
            <a:chExt cx="2590200" cy="3048120"/>
          </a:xfrm>
        </p:grpSpPr>
        <p:grpSp>
          <p:nvGrpSpPr>
            <p:cNvPr id="3001" name=""/>
            <p:cNvGrpSpPr/>
            <p:nvPr/>
          </p:nvGrpSpPr>
          <p:grpSpPr>
            <a:xfrm>
              <a:off x="4876560" y="2209680"/>
              <a:ext cx="761760" cy="990720"/>
              <a:chOff x="4876560" y="2209680"/>
              <a:chExt cx="761760" cy="990720"/>
            </a:xfrm>
          </p:grpSpPr>
          <p:sp>
            <p:nvSpPr>
              <p:cNvPr id="3002" name=""/>
              <p:cNvSpPr/>
              <p:nvPr/>
            </p:nvSpPr>
            <p:spPr>
              <a:xfrm>
                <a:off x="4876560" y="259056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031720" y="220968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181120" y="281916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5" name=""/>
            <p:cNvSpPr/>
            <p:nvPr/>
          </p:nvSpPr>
          <p:spPr>
            <a:xfrm>
              <a:off x="3962520" y="3581280"/>
              <a:ext cx="685440" cy="60984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6" name=""/>
            <p:cNvGrpSpPr/>
            <p:nvPr/>
          </p:nvGrpSpPr>
          <p:grpSpPr>
            <a:xfrm>
              <a:off x="4876560" y="4267080"/>
              <a:ext cx="761760" cy="990720"/>
              <a:chOff x="4876560" y="4267080"/>
              <a:chExt cx="761760" cy="990720"/>
            </a:xfrm>
          </p:grpSpPr>
          <p:sp>
            <p:nvSpPr>
              <p:cNvPr id="3007" name=""/>
              <p:cNvSpPr/>
              <p:nvPr/>
            </p:nvSpPr>
            <p:spPr>
              <a:xfrm>
                <a:off x="4876560" y="464796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031720" y="426708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181120" y="487656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0" name=""/>
            <p:cNvSpPr/>
            <p:nvPr/>
          </p:nvSpPr>
          <p:spPr>
            <a:xfrm>
              <a:off x="5867280" y="3657600"/>
              <a:ext cx="68544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11" name=""/>
            <p:cNvCxnSpPr>
              <a:stCxn id="3007" idx="1"/>
              <a:endCxn id="3005" idx="4"/>
            </p:cNvCxnSpPr>
            <p:nvPr/>
          </p:nvCxnSpPr>
          <p:spPr>
            <a:xfrm flipH="1" flipV="1">
              <a:off x="4304520" y="4190760"/>
              <a:ext cx="552600" cy="76248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3012" name=""/>
            <p:cNvCxnSpPr>
              <a:stCxn id="3002" idx="3"/>
              <a:endCxn id="3010" idx="0"/>
            </p:cNvCxnSpPr>
            <p:nvPr/>
          </p:nvCxnSpPr>
          <p:spPr>
            <a:xfrm>
              <a:off x="5657400" y="2895120"/>
              <a:ext cx="552600" cy="76284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3013" name=""/>
            <p:cNvCxnSpPr>
              <a:stCxn id="3010" idx="4"/>
              <a:endCxn id="3007" idx="3"/>
            </p:cNvCxnSpPr>
            <p:nvPr/>
          </p:nvCxnSpPr>
          <p:spPr>
            <a:xfrm flipH="1">
              <a:off x="5657040" y="4266720"/>
              <a:ext cx="552600" cy="68652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014" name=""/>
            <p:cNvCxnSpPr>
              <a:stCxn id="3005" idx="0"/>
              <a:endCxn id="3002" idx="1"/>
            </p:cNvCxnSpPr>
            <p:nvPr/>
          </p:nvCxnSpPr>
          <p:spPr>
            <a:xfrm flipV="1">
              <a:off x="4304880" y="2894760"/>
              <a:ext cx="552600" cy="68652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tailEnd len="med" type="triangle" w="med"/>
            </a:ln>
          </p:spPr>
        </p:cxnSp>
      </p:grpSp>
      <p:cxnSp>
        <p:nvCxnSpPr>
          <p:cNvPr id="3015" name=""/>
          <p:cNvCxnSpPr/>
          <p:nvPr/>
        </p:nvCxnSpPr>
        <p:spPr>
          <a:xfrm flipV="1">
            <a:off x="4304880" y="2894760"/>
            <a:ext cx="553320" cy="686520"/>
          </a:xfrm>
          <a:prstGeom prst="straightConnector1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3016" name=""/>
          <p:cNvCxnSpPr>
            <a:stCxn id="3005" idx="7"/>
            <a:endCxn id="3004" idx="3"/>
          </p:cNvCxnSpPr>
          <p:nvPr/>
        </p:nvCxnSpPr>
        <p:spPr>
          <a:xfrm flipV="1">
            <a:off x="4547880" y="2949120"/>
            <a:ext cx="656280" cy="721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</p:cxnSp>
      <p:sp>
        <p:nvSpPr>
          <p:cNvPr id="3017" name=""/>
          <p:cNvSpPr/>
          <p:nvPr/>
        </p:nvSpPr>
        <p:spPr>
          <a:xfrm>
            <a:off x="6708240" y="31240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6248160" y="47242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cation: O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7238880" y="3733920"/>
            <a:ext cx="533520" cy="914400"/>
          </a:xfrm>
          <a:prstGeom prst="downArrow">
            <a:avLst>
              <a:gd name="adj1" fmla="val 50000"/>
              <a:gd name="adj2" fmla="val 42848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2" dur="indefinite" restart="never" nodeType="tmRoot">
          <p:childTnLst>
            <p:seq>
              <p:cTn id="4163" dur="indefinite" nodeType="mainSeq">
                <p:childTnLst>
                  <p:par>
                    <p:cTn id="4164" fill="hold">
                      <p:stCondLst>
                        <p:cond delay="indefinite"/>
                      </p:stCondLst>
                      <p:childTnLst>
                        <p:par>
                          <p:cTn id="4165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8" dur="500"/>
                                        <p:tgtEl>
                                          <p:spTgt spid="2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9" fill="hold">
                            <p:stCondLst>
                              <p:cond delay="500"/>
                            </p:stCondLst>
                            <p:childTnLst>
                              <p:par>
                                <p:cTn id="4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2" dur="500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6" dur="500"/>
                                        <p:tgtEl>
                                          <p:spTgt spid="2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0" dur="500"/>
                                        <p:tgtEl>
                                          <p:spTgt spid="2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1" fill="hold">
                      <p:stCondLst>
                        <p:cond delay="indefinite"/>
                      </p:stCondLst>
                      <p:childTnLst>
                        <p:par>
                          <p:cTn id="4182" fill="hold">
                            <p:stCondLst>
                              <p:cond delay="0"/>
                            </p:stCondLst>
                            <p:childTnLst>
                              <p:par>
                                <p:cTn id="4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5" dur="500"/>
                                        <p:tgtEl>
                                          <p:spTgt spid="2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6" fill="hold">
                            <p:stCondLst>
                              <p:cond delay="500"/>
                            </p:stCondLst>
                            <p:childTnLst>
                              <p:par>
                                <p:cTn id="4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9" dur="500"/>
                                        <p:tgtEl>
                                          <p:spTgt spid="2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0" fill="hold">
                      <p:stCondLst>
                        <p:cond delay="indefinite"/>
                      </p:stCondLst>
                      <p:childTnLst>
                        <p:par>
                          <p:cTn id="4191" fill="hold">
                            <p:stCondLst>
                              <p:cond delay="0"/>
                            </p:stCondLst>
                            <p:childTnLst>
                              <p:par>
                                <p:cTn id="4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4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5" fill="hold">
                            <p:stCondLst>
                              <p:cond delay="500"/>
                            </p:stCondLst>
                            <p:childTnLst>
                              <p:par>
                                <p:cTn id="41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8" dur="500"/>
                                        <p:tgtEl>
                                          <p:spTgt spid="2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9" fill="hold">
                      <p:stCondLst>
                        <p:cond delay="indefinite"/>
                      </p:stCondLst>
                      <p:childTnLst>
                        <p:par>
                          <p:cTn id="4200" fill="hold">
                            <p:stCondLst>
                              <p:cond delay="0"/>
                            </p:stCondLst>
                            <p:childTnLst>
                              <p:par>
                                <p:cTn id="42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03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4" fill="hold">
                      <p:stCondLst>
                        <p:cond delay="indefinite"/>
                      </p:stCondLst>
                      <p:childTnLst>
                        <p:par>
                          <p:cTn id="4205" fill="hold">
                            <p:stCondLst>
                              <p:cond delay="0"/>
                            </p:stCondLst>
                            <p:childTnLst>
                              <p:par>
                                <p:cTn id="4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8" dur="500"/>
                                        <p:tgtEl>
                                          <p:spTgt spid="3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9" fill="hold">
                      <p:stCondLst>
                        <p:cond delay="indefinite"/>
                      </p:stCondLst>
                      <p:childTnLst>
                        <p:par>
                          <p:cTn id="4210" fill="hold">
                            <p:stCondLst>
                              <p:cond delay="0"/>
                            </p:stCondLst>
                            <p:childTnLst>
                              <p:par>
                                <p:cTn id="4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3" fill="hold">
                            <p:stCondLst>
                              <p:cond delay="500"/>
                            </p:stCondLst>
                            <p:childTnLst>
                              <p:par>
                                <p:cTn id="42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6" dur="500"/>
                                        <p:tgtEl>
                                          <p:spTgt spid="3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7" fill="hold">
                      <p:stCondLst>
                        <p:cond delay="indefinite"/>
                      </p:stCondLst>
                      <p:childTnLst>
                        <p:par>
                          <p:cTn id="4218" fill="hold">
                            <p:stCondLst>
                              <p:cond delay="0"/>
                            </p:stCondLst>
                            <p:childTnLst>
                              <p:par>
                                <p:cTn id="421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1" dur="5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2" dur="5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3" fill="hold">
                      <p:stCondLst>
                        <p:cond delay="indefinite"/>
                      </p:stCondLst>
                      <p:childTnLst>
                        <p:par>
                          <p:cTn id="4224" fill="hold">
                            <p:stCondLst>
                              <p:cond delay="0"/>
                            </p:stCondLst>
                            <p:childTnLst>
                              <p:par>
                                <p:cTn id="4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7" dur="500"/>
                                        <p:tgtEl>
                                          <p:spTgt spid="3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2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1" dur="500" fill="hold"/>
                                        <p:tgtEl>
                                          <p:spTgt spid="3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2" dur="500" fill="hold"/>
                                        <p:tgtEl>
                                          <p:spTgt spid="3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1" name=""/>
          <p:cNvGrpSpPr/>
          <p:nvPr/>
        </p:nvGrpSpPr>
        <p:grpSpPr>
          <a:xfrm>
            <a:off x="1066680" y="2133720"/>
            <a:ext cx="2590920" cy="3047400"/>
            <a:chOff x="1066680" y="2133720"/>
            <a:chExt cx="2590920" cy="3047400"/>
          </a:xfrm>
        </p:grpSpPr>
        <p:grpSp>
          <p:nvGrpSpPr>
            <p:cNvPr id="3022" name=""/>
            <p:cNvGrpSpPr/>
            <p:nvPr/>
          </p:nvGrpSpPr>
          <p:grpSpPr>
            <a:xfrm>
              <a:off x="1981080" y="2133720"/>
              <a:ext cx="762120" cy="990000"/>
              <a:chOff x="1981080" y="2133720"/>
              <a:chExt cx="762120" cy="990000"/>
            </a:xfrm>
          </p:grpSpPr>
          <p:sp>
            <p:nvSpPr>
              <p:cNvPr id="3023" name=""/>
              <p:cNvSpPr/>
              <p:nvPr/>
            </p:nvSpPr>
            <p:spPr>
              <a:xfrm>
                <a:off x="1981080" y="2514240"/>
                <a:ext cx="76212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2136600" y="21337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2286000" y="2742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6" name=""/>
            <p:cNvSpPr/>
            <p:nvPr/>
          </p:nvSpPr>
          <p:spPr>
            <a:xfrm>
              <a:off x="1066680" y="350532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7" name=""/>
            <p:cNvGrpSpPr/>
            <p:nvPr/>
          </p:nvGrpSpPr>
          <p:grpSpPr>
            <a:xfrm>
              <a:off x="1981080" y="4191120"/>
              <a:ext cx="762120" cy="990000"/>
              <a:chOff x="1981080" y="4191120"/>
              <a:chExt cx="762120" cy="990000"/>
            </a:xfrm>
          </p:grpSpPr>
          <p:sp>
            <p:nvSpPr>
              <p:cNvPr id="3028" name=""/>
              <p:cNvSpPr/>
              <p:nvPr/>
            </p:nvSpPr>
            <p:spPr>
              <a:xfrm>
                <a:off x="1981080" y="4571640"/>
                <a:ext cx="76212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2136600" y="41911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2286000" y="4800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1" name=""/>
            <p:cNvSpPr/>
            <p:nvPr/>
          </p:nvSpPr>
          <p:spPr>
            <a:xfrm>
              <a:off x="2971800" y="3581280"/>
              <a:ext cx="685800" cy="60984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32" name=""/>
            <p:cNvCxnSpPr>
              <a:stCxn id="3028" idx="1"/>
              <a:endCxn id="3026" idx="4"/>
            </p:cNvCxnSpPr>
            <p:nvPr/>
          </p:nvCxnSpPr>
          <p:spPr>
            <a:xfrm flipH="1" flipV="1">
              <a:off x="1409400" y="4114080"/>
              <a:ext cx="552960" cy="76284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3033" name=""/>
            <p:cNvCxnSpPr>
              <a:stCxn id="3023" idx="3"/>
              <a:endCxn id="3031" idx="0"/>
            </p:cNvCxnSpPr>
            <p:nvPr/>
          </p:nvCxnSpPr>
          <p:spPr>
            <a:xfrm>
              <a:off x="2761920" y="2819520"/>
              <a:ext cx="553320" cy="76248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3034" name=""/>
            <p:cNvCxnSpPr>
              <a:stCxn id="3028" idx="3"/>
              <a:endCxn id="3031" idx="4"/>
            </p:cNvCxnSpPr>
            <p:nvPr/>
          </p:nvCxnSpPr>
          <p:spPr>
            <a:xfrm flipV="1">
              <a:off x="2761920" y="4190400"/>
              <a:ext cx="553320" cy="68652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3035" name=""/>
            <p:cNvCxnSpPr>
              <a:stCxn id="3026" idx="7"/>
              <a:endCxn id="3025" idx="3"/>
            </p:cNvCxnSpPr>
            <p:nvPr/>
          </p:nvCxnSpPr>
          <p:spPr>
            <a:xfrm flipV="1">
              <a:off x="1652400" y="2873160"/>
              <a:ext cx="656280" cy="72144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</p:cxnSp>
      </p:grpSp>
      <p:sp>
        <p:nvSpPr>
          <p:cNvPr id="3036" name=""/>
          <p:cNvSpPr/>
          <p:nvPr/>
        </p:nvSpPr>
        <p:spPr>
          <a:xfrm>
            <a:off x="5105520" y="3340080"/>
            <a:ext cx="1015920" cy="952560"/>
          </a:xfrm>
          <a:custGeom>
            <a:avLst/>
            <a:gdLst/>
            <a:ahLst/>
            <a:rect l="l" t="t" r="r" b="b"/>
            <a:pathLst>
              <a:path w="640" h="600">
                <a:moveTo>
                  <a:pt x="192" y="584"/>
                </a:moveTo>
                <a:cubicBezTo>
                  <a:pt x="324" y="592"/>
                  <a:pt x="456" y="600"/>
                  <a:pt x="528" y="536"/>
                </a:cubicBezTo>
                <a:cubicBezTo>
                  <a:pt x="600" y="472"/>
                  <a:pt x="640" y="288"/>
                  <a:pt x="624" y="200"/>
                </a:cubicBezTo>
                <a:cubicBezTo>
                  <a:pt x="608" y="112"/>
                  <a:pt x="528" y="0"/>
                  <a:pt x="432" y="8"/>
                </a:cubicBezTo>
                <a:cubicBezTo>
                  <a:pt x="336" y="16"/>
                  <a:pt x="96" y="152"/>
                  <a:pt x="48" y="248"/>
                </a:cubicBezTo>
                <a:cubicBezTo>
                  <a:pt x="0" y="344"/>
                  <a:pt x="72" y="464"/>
                  <a:pt x="144" y="584"/>
                </a:cubicBezTo>
              </a:path>
            </a:pathLst>
          </a:custGeom>
          <a:noFill/>
          <a:ln w="57240">
            <a:solidFill>
              <a:srgbClr val="ff95a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3429000" y="4952880"/>
            <a:ext cx="1639800" cy="440640"/>
          </a:xfrm>
          <a:prstGeom prst="borderCallout2">
            <a:avLst>
              <a:gd name="adj1" fmla="val 18750"/>
              <a:gd name="adj2" fmla="val -8333"/>
              <a:gd name="adj3" fmla="val 27907"/>
              <a:gd name="adj4" fmla="val -6777"/>
              <a:gd name="adj5" fmla="val -201060"/>
              <a:gd name="adj6" fmla="val -9171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 txBox="1"/>
          <p:nvPr/>
        </p:nvSpPr>
        <p:spPr>
          <a:xfrm>
            <a:off x="6400800" y="4343400"/>
            <a:ext cx="12952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nsaf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039" name=""/>
          <p:cNvGrpSpPr/>
          <p:nvPr/>
        </p:nvGrpSpPr>
        <p:grpSpPr>
          <a:xfrm>
            <a:off x="4343400" y="2209680"/>
            <a:ext cx="2590920" cy="3048120"/>
            <a:chOff x="4343400" y="2209680"/>
            <a:chExt cx="2590920" cy="3048120"/>
          </a:xfrm>
        </p:grpSpPr>
        <p:grpSp>
          <p:nvGrpSpPr>
            <p:cNvPr id="3040" name=""/>
            <p:cNvGrpSpPr/>
            <p:nvPr/>
          </p:nvGrpSpPr>
          <p:grpSpPr>
            <a:xfrm>
              <a:off x="5257800" y="2209680"/>
              <a:ext cx="762120" cy="990720"/>
              <a:chOff x="5257800" y="2209680"/>
              <a:chExt cx="762120" cy="990720"/>
            </a:xfrm>
          </p:grpSpPr>
          <p:sp>
            <p:nvSpPr>
              <p:cNvPr id="3041" name=""/>
              <p:cNvSpPr/>
              <p:nvPr/>
            </p:nvSpPr>
            <p:spPr>
              <a:xfrm>
                <a:off x="5257800" y="2590560"/>
                <a:ext cx="76212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5413320" y="220968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562720" y="28191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4" name=""/>
            <p:cNvSpPr/>
            <p:nvPr/>
          </p:nvSpPr>
          <p:spPr>
            <a:xfrm>
              <a:off x="4343400" y="3581280"/>
              <a:ext cx="685800" cy="60984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5" name=""/>
            <p:cNvGrpSpPr/>
            <p:nvPr/>
          </p:nvGrpSpPr>
          <p:grpSpPr>
            <a:xfrm>
              <a:off x="5257800" y="4267080"/>
              <a:ext cx="762120" cy="990720"/>
              <a:chOff x="5257800" y="4267080"/>
              <a:chExt cx="762120" cy="990720"/>
            </a:xfrm>
          </p:grpSpPr>
          <p:sp>
            <p:nvSpPr>
              <p:cNvPr id="3046" name=""/>
              <p:cNvSpPr/>
              <p:nvPr/>
            </p:nvSpPr>
            <p:spPr>
              <a:xfrm>
                <a:off x="5257800" y="4647960"/>
                <a:ext cx="76212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5413320" y="426708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5562720" y="48765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9" name=""/>
            <p:cNvSpPr/>
            <p:nvPr/>
          </p:nvSpPr>
          <p:spPr>
            <a:xfrm>
              <a:off x="6248520" y="365760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50" name=""/>
            <p:cNvCxnSpPr>
              <a:stCxn id="3046" idx="1"/>
              <a:endCxn id="3044" idx="4"/>
            </p:cNvCxnSpPr>
            <p:nvPr/>
          </p:nvCxnSpPr>
          <p:spPr>
            <a:xfrm flipH="1" flipV="1">
              <a:off x="4686120" y="4190760"/>
              <a:ext cx="552960" cy="76248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3051" name=""/>
            <p:cNvCxnSpPr>
              <a:stCxn id="3041" idx="3"/>
              <a:endCxn id="3049" idx="0"/>
            </p:cNvCxnSpPr>
            <p:nvPr/>
          </p:nvCxnSpPr>
          <p:spPr>
            <a:xfrm>
              <a:off x="6039000" y="2895120"/>
              <a:ext cx="552960" cy="76284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3052" name=""/>
            <p:cNvCxnSpPr>
              <a:stCxn id="3044" idx="7"/>
              <a:endCxn id="3043" idx="3"/>
            </p:cNvCxnSpPr>
            <p:nvPr/>
          </p:nvCxnSpPr>
          <p:spPr>
            <a:xfrm flipV="1">
              <a:off x="4928760" y="2949120"/>
              <a:ext cx="656280" cy="72144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</p:cxnSp>
        <p:cxnSp>
          <p:nvCxnSpPr>
            <p:cNvPr id="3053" name=""/>
            <p:cNvCxnSpPr>
              <a:stCxn id="3046" idx="3"/>
              <a:endCxn id="3049" idx="4"/>
            </p:cNvCxnSpPr>
            <p:nvPr/>
          </p:nvCxnSpPr>
          <p:spPr>
            <a:xfrm flipV="1">
              <a:off x="6039000" y="4266360"/>
              <a:ext cx="552960" cy="68652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</p:grpSp>
      <p:cxnSp>
        <p:nvCxnSpPr>
          <p:cNvPr id="3054" name=""/>
          <p:cNvCxnSpPr>
            <a:stCxn id="3046" idx="3"/>
            <a:endCxn id="3049" idx="4"/>
          </p:cNvCxnSpPr>
          <p:nvPr/>
        </p:nvCxnSpPr>
        <p:spPr>
          <a:xfrm flipV="1">
            <a:off x="6039000" y="4266360"/>
            <a:ext cx="552960" cy="686520"/>
          </a:xfrm>
          <a:prstGeom prst="straightConnector1">
            <a:avLst/>
          </a:prstGeom>
          <a:ln w="572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cxnSp>
        <p:nvCxnSpPr>
          <p:cNvPr id="3055" name=""/>
          <p:cNvCxnSpPr>
            <a:stCxn id="3049" idx="3"/>
            <a:endCxn id="3048" idx="7"/>
          </p:cNvCxnSpPr>
          <p:nvPr/>
        </p:nvCxnSpPr>
        <p:spPr>
          <a:xfrm flipH="1">
            <a:off x="5691960" y="4178160"/>
            <a:ext cx="656280" cy="721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</p:cxnSp>
      <p:grpSp>
        <p:nvGrpSpPr>
          <p:cNvPr id="3056" name=""/>
          <p:cNvGrpSpPr/>
          <p:nvPr/>
        </p:nvGrpSpPr>
        <p:grpSpPr>
          <a:xfrm>
            <a:off x="5925960" y="4191840"/>
            <a:ext cx="464760" cy="489960"/>
            <a:chOff x="5925960" y="4191840"/>
            <a:chExt cx="464760" cy="489960"/>
          </a:xfrm>
        </p:grpSpPr>
        <p:sp>
          <p:nvSpPr>
            <p:cNvPr id="3057" name=""/>
            <p:cNvSpPr/>
            <p:nvPr/>
          </p:nvSpPr>
          <p:spPr>
            <a:xfrm rot="1672200">
              <a:off x="5990760" y="423036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 rot="1672200">
              <a:off x="5984640" y="438048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3" dur="indefinite" restart="never" nodeType="tmRoot">
          <p:childTnLst>
            <p:seq>
              <p:cTn id="4234" dur="indefinite" nodeType="mainSeq">
                <p:childTnLst>
                  <p:par>
                    <p:cTn id="4235" fill="hold">
                      <p:stCondLst>
                        <p:cond delay="indefinite"/>
                      </p:stCondLst>
                      <p:childTnLst>
                        <p:par>
                          <p:cTn id="4236" fill="hold">
                            <p:stCondLst>
                              <p:cond delay="0"/>
                            </p:stCondLst>
                            <p:childTnLst>
                              <p:par>
                                <p:cTn id="42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9" dur="500"/>
                                        <p:tgtEl>
                                          <p:spTgt spid="3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0" fill="hold">
                      <p:stCondLst>
                        <p:cond delay="indefinite"/>
                      </p:stCondLst>
                      <p:childTnLst>
                        <p:par>
                          <p:cTn id="4241" fill="hold">
                            <p:stCondLst>
                              <p:cond delay="0"/>
                            </p:stCondLst>
                            <p:childTnLst>
                              <p:par>
                                <p:cTn id="42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4" dur="500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5" fill="hold">
                      <p:stCondLst>
                        <p:cond delay="indefinite"/>
                      </p:stCondLst>
                      <p:childTnLst>
                        <p:par>
                          <p:cTn id="4246" fill="hold">
                            <p:stCondLst>
                              <p:cond delay="0"/>
                            </p:stCondLst>
                            <p:childTnLst>
                              <p:par>
                                <p:cTn id="42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9" dur="500"/>
                                        <p:tgtEl>
                                          <p:spTgt spid="3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0" fill="hold">
                      <p:stCondLst>
                        <p:cond delay="indefinite"/>
                      </p:stCondLst>
                      <p:childTnLst>
                        <p:par>
                          <p:cTn id="4251" fill="hold">
                            <p:stCondLst>
                              <p:cond delay="0"/>
                            </p:stCondLst>
                            <p:childTnLst>
                              <p:par>
                                <p:cTn id="4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7" dur="500"/>
                                        <p:tgtEl>
                                          <p:spTgt spid="3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8" fill="hold">
                      <p:stCondLst>
                        <p:cond delay="indefinite"/>
                      </p:stCondLst>
                      <p:childTnLst>
                        <p:par>
                          <p:cTn id="4259" fill="hold">
                            <p:stCondLst>
                              <p:cond delay="0"/>
                            </p:stCondLst>
                            <p:childTnLst>
                              <p:par>
                                <p:cTn id="426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2" dur="500" fill="hold"/>
                                        <p:tgtEl>
                                          <p:spTgt spid="3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3" dur="500" fill="hold"/>
                                        <p:tgtEl>
                                          <p:spTgt spid="3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4" fill="hold">
                      <p:stCondLst>
                        <p:cond delay="indefinite"/>
                      </p:stCondLst>
                      <p:childTnLst>
                        <p:par>
                          <p:cTn id="4265" fill="hold">
                            <p:stCondLst>
                              <p:cond delay="0"/>
                            </p:stCondLst>
                            <p:childTnLst>
                              <p:par>
                                <p:cTn id="4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8" dur="1000" fill="hold"/>
                                        <p:tgtEl>
                                          <p:spTgt spid="3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9" dur="1000" fill="hold"/>
                                        <p:tgtEl>
                                          <p:spTgt spid="3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0" dur="1000" fill="hold"/>
                                        <p:tgtEl>
                                          <p:spTgt spid="3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1" dur="1000" fill="hold"/>
                                        <p:tgtEl>
                                          <p:spTgt spid="3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2" fill="hold">
                      <p:stCondLst>
                        <p:cond delay="indefinite"/>
                      </p:stCondLst>
                      <p:childTnLst>
                        <p:par>
                          <p:cTn id="4273" fill="hold">
                            <p:stCondLst>
                              <p:cond delay="0"/>
                            </p:stCondLst>
                            <p:childTnLst>
                              <p:par>
                                <p:cTn id="427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6" dur="500" fill="hold"/>
                                        <p:tgtEl>
                                          <p:spTgt spid="3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7" dur="500" fill="hold"/>
                                        <p:tgtEl>
                                          <p:spTgt spid="3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0" name=""/>
          <p:cNvGrpSpPr/>
          <p:nvPr/>
        </p:nvGrpSpPr>
        <p:grpSpPr>
          <a:xfrm>
            <a:off x="5257800" y="2209680"/>
            <a:ext cx="762120" cy="990720"/>
            <a:chOff x="5257800" y="2209680"/>
            <a:chExt cx="762120" cy="990720"/>
          </a:xfrm>
        </p:grpSpPr>
        <p:sp>
          <p:nvSpPr>
            <p:cNvPr id="3061" name=""/>
            <p:cNvSpPr/>
            <p:nvPr/>
          </p:nvSpPr>
          <p:spPr>
            <a:xfrm>
              <a:off x="5257800" y="25905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413320" y="22096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5562720" y="28191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4" name=""/>
          <p:cNvSpPr/>
          <p:nvPr/>
        </p:nvSpPr>
        <p:spPr>
          <a:xfrm>
            <a:off x="4343400" y="358128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5" name=""/>
          <p:cNvGrpSpPr/>
          <p:nvPr/>
        </p:nvGrpSpPr>
        <p:grpSpPr>
          <a:xfrm>
            <a:off x="5257800" y="4267080"/>
            <a:ext cx="762120" cy="990720"/>
            <a:chOff x="5257800" y="4267080"/>
            <a:chExt cx="762120" cy="990720"/>
          </a:xfrm>
        </p:grpSpPr>
        <p:sp>
          <p:nvSpPr>
            <p:cNvPr id="3066" name=""/>
            <p:cNvSpPr/>
            <p:nvPr/>
          </p:nvSpPr>
          <p:spPr>
            <a:xfrm>
              <a:off x="5257800" y="46479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5413320" y="42670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5562720" y="4876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9" name=""/>
          <p:cNvSpPr/>
          <p:nvPr/>
        </p:nvSpPr>
        <p:spPr>
          <a:xfrm>
            <a:off x="6248520" y="36576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0" name=""/>
          <p:cNvCxnSpPr>
            <a:stCxn id="3066" idx="1"/>
            <a:endCxn id="3064" idx="4"/>
          </p:cNvCxnSpPr>
          <p:nvPr/>
        </p:nvCxnSpPr>
        <p:spPr>
          <a:xfrm flipH="1" flipV="1">
            <a:off x="4686120" y="4190760"/>
            <a:ext cx="552960" cy="76248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3071" name=""/>
          <p:cNvCxnSpPr>
            <a:stCxn id="3061" idx="3"/>
            <a:endCxn id="3069" idx="0"/>
          </p:cNvCxnSpPr>
          <p:nvPr/>
        </p:nvCxnSpPr>
        <p:spPr>
          <a:xfrm>
            <a:off x="6039000" y="2895120"/>
            <a:ext cx="552960" cy="76284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3072" name=""/>
          <p:cNvCxnSpPr>
            <a:stCxn id="3064" idx="7"/>
            <a:endCxn id="3063" idx="3"/>
          </p:cNvCxnSpPr>
          <p:nvPr/>
        </p:nvCxnSpPr>
        <p:spPr>
          <a:xfrm flipV="1">
            <a:off x="4928760" y="2949120"/>
            <a:ext cx="656280" cy="721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</p:cxnSp>
      <p:cxnSp>
        <p:nvCxnSpPr>
          <p:cNvPr id="3073" name=""/>
          <p:cNvCxnSpPr>
            <a:stCxn id="3069" idx="4"/>
            <a:endCxn id="3066" idx="3"/>
          </p:cNvCxnSpPr>
          <p:nvPr/>
        </p:nvCxnSpPr>
        <p:spPr>
          <a:xfrm flipH="1">
            <a:off x="6038640" y="4266720"/>
            <a:ext cx="552960" cy="6865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3074" name=""/>
          <p:cNvSpPr/>
          <p:nvPr/>
        </p:nvSpPr>
        <p:spPr>
          <a:xfrm>
            <a:off x="619200" y="1854360"/>
            <a:ext cx="324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ce: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to 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5" name=""/>
          <p:cNvGrpSpPr/>
          <p:nvPr/>
        </p:nvGrpSpPr>
        <p:grpSpPr>
          <a:xfrm>
            <a:off x="6248520" y="3657600"/>
            <a:ext cx="936360" cy="614520"/>
            <a:chOff x="6248520" y="3657600"/>
            <a:chExt cx="936360" cy="614520"/>
          </a:xfrm>
        </p:grpSpPr>
        <p:sp>
          <p:nvSpPr>
            <p:cNvPr id="3076" name=""/>
            <p:cNvSpPr/>
            <p:nvPr/>
          </p:nvSpPr>
          <p:spPr>
            <a:xfrm>
              <a:off x="6248520" y="365760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77" name=""/>
            <p:cNvGraphicFramePr/>
            <p:nvPr/>
          </p:nvGraphicFramePr>
          <p:xfrm>
            <a:off x="6804000" y="3897360"/>
            <a:ext cx="38088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04000" y="38973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8" dur="indefinite" restart="never" nodeType="tmRoot">
          <p:childTnLst>
            <p:seq>
              <p:cTn id="4279" dur="indefinite" nodeType="mainSeq">
                <p:childTnLst>
                  <p:par>
                    <p:cTn id="4280" fill="hold">
                      <p:stCondLst>
                        <p:cond delay="0"/>
                      </p:stCondLst>
                      <p:childTnLst>
                        <p:par>
                          <p:cTn id="4281" fill="hold">
                            <p:stCondLst>
                              <p:cond delay="0"/>
                            </p:stCondLst>
                            <p:childTnLst>
                              <p:par>
                                <p:cTn id="428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4" dur="5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0" name=""/>
          <p:cNvGrpSpPr/>
          <p:nvPr/>
        </p:nvGrpSpPr>
        <p:grpSpPr>
          <a:xfrm>
            <a:off x="5257800" y="2209680"/>
            <a:ext cx="762120" cy="990720"/>
            <a:chOff x="5257800" y="2209680"/>
            <a:chExt cx="762120" cy="990720"/>
          </a:xfrm>
        </p:grpSpPr>
        <p:sp>
          <p:nvSpPr>
            <p:cNvPr id="3081" name=""/>
            <p:cNvSpPr/>
            <p:nvPr/>
          </p:nvSpPr>
          <p:spPr>
            <a:xfrm>
              <a:off x="5257800" y="25905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413320" y="22096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5562720" y="28191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4" name=""/>
          <p:cNvSpPr/>
          <p:nvPr/>
        </p:nvSpPr>
        <p:spPr>
          <a:xfrm>
            <a:off x="4343400" y="358128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5" name=""/>
          <p:cNvGrpSpPr/>
          <p:nvPr/>
        </p:nvGrpSpPr>
        <p:grpSpPr>
          <a:xfrm>
            <a:off x="5257800" y="4267080"/>
            <a:ext cx="762120" cy="990720"/>
            <a:chOff x="5257800" y="4267080"/>
            <a:chExt cx="762120" cy="990720"/>
          </a:xfrm>
        </p:grpSpPr>
        <p:sp>
          <p:nvSpPr>
            <p:cNvPr id="3086" name=""/>
            <p:cNvSpPr/>
            <p:nvPr/>
          </p:nvSpPr>
          <p:spPr>
            <a:xfrm>
              <a:off x="5257800" y="46479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5413320" y="42670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562720" y="4876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9" name=""/>
          <p:cNvSpPr/>
          <p:nvPr/>
        </p:nvSpPr>
        <p:spPr>
          <a:xfrm>
            <a:off x="6248520" y="36576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0" name=""/>
          <p:cNvCxnSpPr>
            <a:stCxn id="3086" idx="1"/>
            <a:endCxn id="3084" idx="4"/>
          </p:cNvCxnSpPr>
          <p:nvPr/>
        </p:nvCxnSpPr>
        <p:spPr>
          <a:xfrm flipH="1" flipV="1">
            <a:off x="4686120" y="4190760"/>
            <a:ext cx="552960" cy="76248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3091" name=""/>
          <p:cNvCxnSpPr>
            <a:stCxn id="3081" idx="3"/>
            <a:endCxn id="3089" idx="0"/>
          </p:cNvCxnSpPr>
          <p:nvPr/>
        </p:nvCxnSpPr>
        <p:spPr>
          <a:xfrm>
            <a:off x="6039000" y="2895120"/>
            <a:ext cx="552960" cy="76284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3092" name=""/>
          <p:cNvCxnSpPr>
            <a:stCxn id="3084" idx="7"/>
            <a:endCxn id="3083" idx="3"/>
          </p:cNvCxnSpPr>
          <p:nvPr/>
        </p:nvCxnSpPr>
        <p:spPr>
          <a:xfrm flipV="1">
            <a:off x="4928760" y="2949120"/>
            <a:ext cx="656280" cy="721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</p:cxnSp>
      <p:cxnSp>
        <p:nvCxnSpPr>
          <p:cNvPr id="3093" name=""/>
          <p:cNvCxnSpPr>
            <a:stCxn id="3089" idx="3"/>
            <a:endCxn id="3088" idx="7"/>
          </p:cNvCxnSpPr>
          <p:nvPr/>
        </p:nvCxnSpPr>
        <p:spPr>
          <a:xfrm flipH="1">
            <a:off x="5691960" y="4178160"/>
            <a:ext cx="656280" cy="721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</p:cxnSp>
      <p:sp>
        <p:nvSpPr>
          <p:cNvPr id="3094" name=""/>
          <p:cNvSpPr/>
          <p:nvPr/>
        </p:nvSpPr>
        <p:spPr>
          <a:xfrm>
            <a:off x="5149800" y="3340080"/>
            <a:ext cx="1015920" cy="952560"/>
          </a:xfrm>
          <a:custGeom>
            <a:avLst/>
            <a:gdLst/>
            <a:ahLst/>
            <a:rect l="l" t="t" r="r" b="b"/>
            <a:pathLst>
              <a:path w="640" h="600">
                <a:moveTo>
                  <a:pt x="192" y="584"/>
                </a:moveTo>
                <a:cubicBezTo>
                  <a:pt x="324" y="592"/>
                  <a:pt x="456" y="600"/>
                  <a:pt x="528" y="536"/>
                </a:cubicBezTo>
                <a:cubicBezTo>
                  <a:pt x="600" y="472"/>
                  <a:pt x="640" y="288"/>
                  <a:pt x="624" y="200"/>
                </a:cubicBezTo>
                <a:cubicBezTo>
                  <a:pt x="608" y="112"/>
                  <a:pt x="528" y="0"/>
                  <a:pt x="432" y="8"/>
                </a:cubicBezTo>
                <a:cubicBezTo>
                  <a:pt x="336" y="16"/>
                  <a:pt x="96" y="152"/>
                  <a:pt x="48" y="248"/>
                </a:cubicBezTo>
                <a:cubicBezTo>
                  <a:pt x="0" y="344"/>
                  <a:pt x="72" y="464"/>
                  <a:pt x="144" y="584"/>
                </a:cubicBezTo>
              </a:path>
            </a:pathLst>
          </a:custGeom>
          <a:noFill/>
          <a:ln w="57240">
            <a:solidFill>
              <a:srgbClr val="ff95a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2514600" y="4800600"/>
            <a:ext cx="1639800" cy="440640"/>
          </a:xfrm>
          <a:prstGeom prst="borderCallout2">
            <a:avLst>
              <a:gd name="adj1" fmla="val 18750"/>
              <a:gd name="adj2" fmla="val -8333"/>
              <a:gd name="adj3" fmla="val 27907"/>
              <a:gd name="adj4" fmla="val 113069"/>
              <a:gd name="adj5" fmla="val -163916"/>
              <a:gd name="adj6" fmla="val 122541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610560" y="1854360"/>
            <a:ext cx="52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Unsafe MAY lead to dead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6934320" y="5029200"/>
            <a:ext cx="1639800" cy="440640"/>
          </a:xfrm>
          <a:prstGeom prst="borderCallout2">
            <a:avLst>
              <a:gd name="adj1" fmla="val 18750"/>
              <a:gd name="adj2" fmla="val -8333"/>
              <a:gd name="adj3" fmla="val 27907"/>
              <a:gd name="adj4" fmla="val -13069"/>
              <a:gd name="adj5" fmla="val -180893"/>
              <a:gd name="adj6" fmla="val -22453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8" name=""/>
          <p:cNvCxnSpPr>
            <a:stCxn id="3086" idx="1"/>
            <a:endCxn id="3084" idx="4"/>
          </p:cNvCxnSpPr>
          <p:nvPr/>
        </p:nvCxnSpPr>
        <p:spPr>
          <a:xfrm flipH="1" flipV="1">
            <a:off x="4686120" y="4190760"/>
            <a:ext cx="552960" cy="7624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headEnd len="med" type="triangle" w="med"/>
          </a:ln>
        </p:spPr>
      </p:cxnSp>
      <p:cxnSp>
        <p:nvCxnSpPr>
          <p:cNvPr id="3099" name=""/>
          <p:cNvCxnSpPr>
            <a:stCxn id="3081" idx="3"/>
            <a:endCxn id="3089" idx="0"/>
          </p:cNvCxnSpPr>
          <p:nvPr/>
        </p:nvCxnSpPr>
        <p:spPr>
          <a:xfrm>
            <a:off x="6039000" y="2895120"/>
            <a:ext cx="552960" cy="762840"/>
          </a:xfrm>
          <a:prstGeom prst="straightConnector1">
            <a:avLst/>
          </a:prstGeom>
          <a:ln w="57240">
            <a:solidFill>
              <a:srgbClr val="fc0128"/>
            </a:solidFill>
            <a:miter/>
            <a:headEnd len="med" type="triangle" w="med"/>
          </a:ln>
        </p:spPr>
      </p:cxnSp>
      <p:sp>
        <p:nvSpPr>
          <p:cNvPr id="3100" name=""/>
          <p:cNvSpPr txBox="1"/>
          <p:nvPr/>
        </p:nvSpPr>
        <p:spPr>
          <a:xfrm>
            <a:off x="6629400" y="2590920"/>
            <a:ext cx="15238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101" name=""/>
          <p:cNvGrpSpPr/>
          <p:nvPr/>
        </p:nvGrpSpPr>
        <p:grpSpPr>
          <a:xfrm>
            <a:off x="6248520" y="3657600"/>
            <a:ext cx="936360" cy="614520"/>
            <a:chOff x="6248520" y="3657600"/>
            <a:chExt cx="936360" cy="614520"/>
          </a:xfrm>
        </p:grpSpPr>
        <p:sp>
          <p:nvSpPr>
            <p:cNvPr id="3102" name=""/>
            <p:cNvSpPr/>
            <p:nvPr/>
          </p:nvSpPr>
          <p:spPr>
            <a:xfrm>
              <a:off x="6248520" y="365760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03" name=""/>
            <p:cNvGraphicFramePr/>
            <p:nvPr/>
          </p:nvGraphicFramePr>
          <p:xfrm>
            <a:off x="6804000" y="3897360"/>
            <a:ext cx="38088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04000" y="38973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05" name=""/>
          <p:cNvGrpSpPr/>
          <p:nvPr/>
        </p:nvGrpSpPr>
        <p:grpSpPr>
          <a:xfrm>
            <a:off x="4343400" y="3581280"/>
            <a:ext cx="936360" cy="614520"/>
            <a:chOff x="4343400" y="3581280"/>
            <a:chExt cx="936360" cy="614520"/>
          </a:xfrm>
        </p:grpSpPr>
        <p:sp>
          <p:nvSpPr>
            <p:cNvPr id="3106" name=""/>
            <p:cNvSpPr/>
            <p:nvPr/>
          </p:nvSpPr>
          <p:spPr>
            <a:xfrm>
              <a:off x="4343400" y="358128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07" name=""/>
            <p:cNvGraphicFramePr/>
            <p:nvPr/>
          </p:nvGraphicFramePr>
          <p:xfrm>
            <a:off x="4898880" y="3821040"/>
            <a:ext cx="380880" cy="37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98880" y="382104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5" dur="indefinite" restart="never" nodeType="tmRoot">
          <p:childTnLst>
            <p:seq>
              <p:cTn id="4286" dur="indefinite" nodeType="mainSeq">
                <p:childTnLst>
                  <p:par>
                    <p:cTn id="4287" fill="hold">
                      <p:stCondLst>
                        <p:cond delay="indefinite"/>
                      </p:stCondLst>
                      <p:childTnLst>
                        <p:par>
                          <p:cTn id="4288" fill="hold">
                            <p:stCondLst>
                              <p:cond delay="0"/>
                            </p:stCondLst>
                            <p:childTnLst>
                              <p:par>
                                <p:cTn id="4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1" dur="500"/>
                                        <p:tgtEl>
                                          <p:spTgt spid="3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2" fill="hold">
                      <p:stCondLst>
                        <p:cond delay="indefinite"/>
                      </p:stCondLst>
                      <p:childTnLst>
                        <p:par>
                          <p:cTn id="4293" fill="hold">
                            <p:stCondLst>
                              <p:cond delay="0"/>
                            </p:stCondLst>
                            <p:childTnLst>
                              <p:par>
                                <p:cTn id="4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6" dur="500"/>
                                        <p:tgtEl>
                                          <p:spTgt spid="3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7" fill="hold">
                            <p:stCondLst>
                              <p:cond delay="500"/>
                            </p:stCondLst>
                            <p:childTnLst>
                              <p:par>
                                <p:cTn id="4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0" dur="500"/>
                                        <p:tgtEl>
                                          <p:spTgt spid="3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4" dur="500"/>
                                        <p:tgtEl>
                                          <p:spTgt spid="3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8" dur="500"/>
                                        <p:tgtEl>
                                          <p:spTgt spid="3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9" fill="hold">
                      <p:stCondLst>
                        <p:cond delay="indefinite"/>
                      </p:stCondLst>
                      <p:childTnLst>
                        <p:par>
                          <p:cTn id="4310" fill="hold">
                            <p:stCondLst>
                              <p:cond delay="0"/>
                            </p:stCondLst>
                            <p:childTnLst>
                              <p:par>
                                <p:cTn id="4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3" dur="500"/>
                                        <p:tgtEl>
                                          <p:spTgt spid="3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4" fill="hold">
                            <p:stCondLst>
                              <p:cond delay="500"/>
                            </p:stCondLst>
                            <p:childTnLst>
                              <p:par>
                                <p:cTn id="43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7" dur="500"/>
                                        <p:tgtEl>
                                          <p:spTgt spid="3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1" dur="500"/>
                                        <p:tgtEl>
                                          <p:spTgt spid="3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5" dur="500"/>
                                        <p:tgtEl>
                                          <p:spTgt spid="3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6" fill="hold">
                      <p:stCondLst>
                        <p:cond delay="indefinite"/>
                      </p:stCondLst>
                      <p:childTnLst>
                        <p:par>
                          <p:cTn id="4327" fill="hold">
                            <p:stCondLst>
                              <p:cond delay="0"/>
                            </p:stCondLst>
                            <p:childTnLst>
                              <p:par>
                                <p:cTn id="43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0" dur="500"/>
                                        <p:tgtEl>
                                          <p:spTgt spid="3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1" fill="hold">
                      <p:stCondLst>
                        <p:cond delay="indefinite"/>
                      </p:stCondLst>
                      <p:childTnLst>
                        <p:par>
                          <p:cTn id="4332" fill="hold">
                            <p:stCondLst>
                              <p:cond delay="0"/>
                            </p:stCondLst>
                            <p:childTnLst>
                              <p:par>
                                <p:cTn id="4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8" dur="500"/>
                                        <p:tgtEl>
                                          <p:spTgt spid="3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9" fill="hold">
                      <p:stCondLst>
                        <p:cond delay="indefinite"/>
                      </p:stCondLst>
                      <p:childTnLst>
                        <p:par>
                          <p:cTn id="4340" fill="hold">
                            <p:stCondLst>
                              <p:cond delay="0"/>
                            </p:stCondLst>
                            <p:childTnLst>
                              <p:par>
                                <p:cTn id="43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3" dur="500"/>
                                        <p:tgtEl>
                                          <p:spTgt spid="3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4" fill="hold">
                      <p:stCondLst>
                        <p:cond delay="indefinite"/>
                      </p:stCondLst>
                      <p:childTnLst>
                        <p:par>
                          <p:cTn id="4345" fill="hold">
                            <p:stCondLst>
                              <p:cond delay="0"/>
                            </p:stCondLst>
                            <p:childTnLst>
                              <p:par>
                                <p:cTn id="4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8" fill="hold">
                            <p:stCondLst>
                              <p:cond delay="500"/>
                            </p:stCondLst>
                            <p:childTnLst>
                              <p:par>
                                <p:cTn id="4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1" dur="500"/>
                                        <p:tgtEl>
                                          <p:spTgt spid="3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2" fill="hold">
                      <p:stCondLst>
                        <p:cond delay="indefinite"/>
                      </p:stCondLst>
                      <p:childTnLst>
                        <p:par>
                          <p:cTn id="4353" fill="hold">
                            <p:stCondLst>
                              <p:cond delay="0"/>
                            </p:stCondLst>
                            <p:childTnLst>
                              <p:par>
                                <p:cTn id="435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6" dur="500" fill="hold"/>
                                        <p:tgtEl>
                                          <p:spTgt spid="3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500" fill="hold"/>
                                        <p:tgtEl>
                                          <p:spTgt spid="3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8" fill="hold">
                      <p:stCondLst>
                        <p:cond delay="indefinite"/>
                      </p:stCondLst>
                      <p:childTnLst>
                        <p:par>
                          <p:cTn id="4359" fill="hold">
                            <p:stCondLst>
                              <p:cond delay="0"/>
                            </p:stCondLst>
                            <p:childTnLst>
                              <p:par>
                                <p:cTn id="4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2" dur="10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3" dur="10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4" dur="10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5" dur="10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´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instance /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1" name=""/>
          <p:cNvGrpSpPr/>
          <p:nvPr/>
        </p:nvGrpSpPr>
        <p:grpSpPr>
          <a:xfrm>
            <a:off x="838080" y="3352680"/>
            <a:ext cx="1101960" cy="1638360"/>
            <a:chOff x="838080" y="3352680"/>
            <a:chExt cx="1101960" cy="1638360"/>
          </a:xfrm>
        </p:grpSpPr>
        <p:sp>
          <p:nvSpPr>
            <p:cNvPr id="3112" name=""/>
            <p:cNvSpPr/>
            <p:nvPr/>
          </p:nvSpPr>
          <p:spPr>
            <a:xfrm>
              <a:off x="838080" y="3352680"/>
              <a:ext cx="1101960" cy="163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838080" y="3352680"/>
              <a:ext cx="1079640" cy="1085760"/>
            </a:xfrm>
            <a:custGeom>
              <a:avLst/>
              <a:gdLst/>
              <a:ahLst/>
              <a:rect l="l" t="t" r="r" b="b"/>
              <a:pathLst>
                <a:path w="3400" h="3424">
                  <a:moveTo>
                    <a:pt x="3106" y="1579"/>
                  </a:moveTo>
                  <a:lnTo>
                    <a:pt x="3150" y="1561"/>
                  </a:lnTo>
                  <a:lnTo>
                    <a:pt x="3185" y="1540"/>
                  </a:lnTo>
                  <a:lnTo>
                    <a:pt x="3215" y="1515"/>
                  </a:lnTo>
                  <a:lnTo>
                    <a:pt x="3243" y="1488"/>
                  </a:lnTo>
                  <a:lnTo>
                    <a:pt x="3265" y="1458"/>
                  </a:lnTo>
                  <a:lnTo>
                    <a:pt x="3287" y="1428"/>
                  </a:lnTo>
                  <a:lnTo>
                    <a:pt x="3303" y="1396"/>
                  </a:lnTo>
                  <a:lnTo>
                    <a:pt x="3321" y="1365"/>
                  </a:lnTo>
                  <a:lnTo>
                    <a:pt x="3362" y="1289"/>
                  </a:lnTo>
                  <a:lnTo>
                    <a:pt x="3390" y="1209"/>
                  </a:lnTo>
                  <a:lnTo>
                    <a:pt x="3400" y="1122"/>
                  </a:lnTo>
                  <a:lnTo>
                    <a:pt x="3398" y="1032"/>
                  </a:lnTo>
                  <a:lnTo>
                    <a:pt x="3387" y="942"/>
                  </a:lnTo>
                  <a:lnTo>
                    <a:pt x="3365" y="850"/>
                  </a:lnTo>
                  <a:lnTo>
                    <a:pt x="3335" y="756"/>
                  </a:lnTo>
                  <a:lnTo>
                    <a:pt x="3303" y="669"/>
                  </a:lnTo>
                  <a:lnTo>
                    <a:pt x="3253" y="617"/>
                  </a:lnTo>
                  <a:lnTo>
                    <a:pt x="3201" y="570"/>
                  </a:lnTo>
                  <a:lnTo>
                    <a:pt x="3150" y="524"/>
                  </a:lnTo>
                  <a:lnTo>
                    <a:pt x="3095" y="480"/>
                  </a:lnTo>
                  <a:lnTo>
                    <a:pt x="3037" y="437"/>
                  </a:lnTo>
                  <a:lnTo>
                    <a:pt x="2983" y="399"/>
                  </a:lnTo>
                  <a:lnTo>
                    <a:pt x="2925" y="363"/>
                  </a:lnTo>
                  <a:lnTo>
                    <a:pt x="2866" y="327"/>
                  </a:lnTo>
                  <a:lnTo>
                    <a:pt x="2806" y="294"/>
                  </a:lnTo>
                  <a:lnTo>
                    <a:pt x="2745" y="264"/>
                  </a:lnTo>
                  <a:lnTo>
                    <a:pt x="2683" y="234"/>
                  </a:lnTo>
                  <a:lnTo>
                    <a:pt x="2620" y="207"/>
                  </a:lnTo>
                  <a:lnTo>
                    <a:pt x="2554" y="183"/>
                  </a:lnTo>
                  <a:lnTo>
                    <a:pt x="2489" y="161"/>
                  </a:lnTo>
                  <a:lnTo>
                    <a:pt x="2423" y="139"/>
                  </a:lnTo>
                  <a:lnTo>
                    <a:pt x="2357" y="119"/>
                  </a:lnTo>
                  <a:lnTo>
                    <a:pt x="2290" y="101"/>
                  </a:lnTo>
                  <a:lnTo>
                    <a:pt x="2224" y="85"/>
                  </a:lnTo>
                  <a:lnTo>
                    <a:pt x="2155" y="71"/>
                  </a:lnTo>
                  <a:lnTo>
                    <a:pt x="2085" y="57"/>
                  </a:lnTo>
                  <a:lnTo>
                    <a:pt x="2016" y="46"/>
                  </a:lnTo>
                  <a:lnTo>
                    <a:pt x="1945" y="35"/>
                  </a:lnTo>
                  <a:lnTo>
                    <a:pt x="1874" y="27"/>
                  </a:lnTo>
                  <a:lnTo>
                    <a:pt x="1805" y="19"/>
                  </a:lnTo>
                  <a:lnTo>
                    <a:pt x="1735" y="14"/>
                  </a:lnTo>
                  <a:lnTo>
                    <a:pt x="1661" y="8"/>
                  </a:lnTo>
                  <a:lnTo>
                    <a:pt x="1590" y="2"/>
                  </a:lnTo>
                  <a:lnTo>
                    <a:pt x="1519" y="0"/>
                  </a:lnTo>
                  <a:lnTo>
                    <a:pt x="1448" y="0"/>
                  </a:lnTo>
                  <a:lnTo>
                    <a:pt x="1377" y="0"/>
                  </a:lnTo>
                  <a:lnTo>
                    <a:pt x="1303" y="0"/>
                  </a:lnTo>
                  <a:lnTo>
                    <a:pt x="1233" y="0"/>
                  </a:lnTo>
                  <a:lnTo>
                    <a:pt x="1189" y="16"/>
                  </a:lnTo>
                  <a:lnTo>
                    <a:pt x="1148" y="32"/>
                  </a:lnTo>
                  <a:lnTo>
                    <a:pt x="1106" y="51"/>
                  </a:lnTo>
                  <a:lnTo>
                    <a:pt x="1068" y="71"/>
                  </a:lnTo>
                  <a:lnTo>
                    <a:pt x="1030" y="89"/>
                  </a:lnTo>
                  <a:lnTo>
                    <a:pt x="992" y="111"/>
                  </a:lnTo>
                  <a:lnTo>
                    <a:pt x="953" y="133"/>
                  </a:lnTo>
                  <a:lnTo>
                    <a:pt x="918" y="155"/>
                  </a:lnTo>
                  <a:lnTo>
                    <a:pt x="883" y="180"/>
                  </a:lnTo>
                  <a:lnTo>
                    <a:pt x="848" y="204"/>
                  </a:lnTo>
                  <a:lnTo>
                    <a:pt x="812" y="229"/>
                  </a:lnTo>
                  <a:lnTo>
                    <a:pt x="779" y="256"/>
                  </a:lnTo>
                  <a:lnTo>
                    <a:pt x="743" y="281"/>
                  </a:lnTo>
                  <a:lnTo>
                    <a:pt x="711" y="308"/>
                  </a:lnTo>
                  <a:lnTo>
                    <a:pt x="677" y="336"/>
                  </a:lnTo>
                  <a:lnTo>
                    <a:pt x="645" y="363"/>
                  </a:lnTo>
                  <a:lnTo>
                    <a:pt x="610" y="395"/>
                  </a:lnTo>
                  <a:lnTo>
                    <a:pt x="574" y="425"/>
                  </a:lnTo>
                  <a:lnTo>
                    <a:pt x="542" y="456"/>
                  </a:lnTo>
                  <a:lnTo>
                    <a:pt x="506" y="483"/>
                  </a:lnTo>
                  <a:lnTo>
                    <a:pt x="470" y="510"/>
                  </a:lnTo>
                  <a:lnTo>
                    <a:pt x="437" y="538"/>
                  </a:lnTo>
                  <a:lnTo>
                    <a:pt x="403" y="566"/>
                  </a:lnTo>
                  <a:lnTo>
                    <a:pt x="367" y="590"/>
                  </a:lnTo>
                  <a:lnTo>
                    <a:pt x="331" y="617"/>
                  </a:lnTo>
                  <a:lnTo>
                    <a:pt x="296" y="644"/>
                  </a:lnTo>
                  <a:lnTo>
                    <a:pt x="260" y="671"/>
                  </a:lnTo>
                  <a:lnTo>
                    <a:pt x="224" y="699"/>
                  </a:lnTo>
                  <a:lnTo>
                    <a:pt x="186" y="727"/>
                  </a:lnTo>
                  <a:lnTo>
                    <a:pt x="148" y="756"/>
                  </a:lnTo>
                  <a:lnTo>
                    <a:pt x="109" y="786"/>
                  </a:lnTo>
                  <a:lnTo>
                    <a:pt x="71" y="818"/>
                  </a:lnTo>
                  <a:lnTo>
                    <a:pt x="63" y="836"/>
                  </a:lnTo>
                  <a:lnTo>
                    <a:pt x="44" y="871"/>
                  </a:lnTo>
                  <a:lnTo>
                    <a:pt x="28" y="915"/>
                  </a:lnTo>
                  <a:lnTo>
                    <a:pt x="17" y="942"/>
                  </a:lnTo>
                  <a:lnTo>
                    <a:pt x="9" y="1070"/>
                  </a:lnTo>
                  <a:lnTo>
                    <a:pt x="0" y="1207"/>
                  </a:lnTo>
                  <a:lnTo>
                    <a:pt x="0" y="1346"/>
                  </a:lnTo>
                  <a:lnTo>
                    <a:pt x="17" y="1488"/>
                  </a:lnTo>
                  <a:lnTo>
                    <a:pt x="28" y="1723"/>
                  </a:lnTo>
                  <a:lnTo>
                    <a:pt x="31" y="1964"/>
                  </a:lnTo>
                  <a:lnTo>
                    <a:pt x="31" y="2206"/>
                  </a:lnTo>
                  <a:lnTo>
                    <a:pt x="36" y="2449"/>
                  </a:lnTo>
                  <a:lnTo>
                    <a:pt x="58" y="2685"/>
                  </a:lnTo>
                  <a:lnTo>
                    <a:pt x="107" y="2911"/>
                  </a:lnTo>
                  <a:lnTo>
                    <a:pt x="186" y="3124"/>
                  </a:lnTo>
                  <a:lnTo>
                    <a:pt x="309" y="3321"/>
                  </a:lnTo>
                  <a:lnTo>
                    <a:pt x="350" y="3335"/>
                  </a:lnTo>
                  <a:lnTo>
                    <a:pt x="391" y="3348"/>
                  </a:lnTo>
                  <a:lnTo>
                    <a:pt x="432" y="3364"/>
                  </a:lnTo>
                  <a:lnTo>
                    <a:pt x="473" y="3381"/>
                  </a:lnTo>
                  <a:lnTo>
                    <a:pt x="514" y="3394"/>
                  </a:lnTo>
                  <a:lnTo>
                    <a:pt x="558" y="3408"/>
                  </a:lnTo>
                  <a:lnTo>
                    <a:pt x="604" y="3418"/>
                  </a:lnTo>
                  <a:lnTo>
                    <a:pt x="656" y="3424"/>
                  </a:lnTo>
                  <a:lnTo>
                    <a:pt x="691" y="3389"/>
                  </a:lnTo>
                  <a:lnTo>
                    <a:pt x="727" y="3353"/>
                  </a:lnTo>
                  <a:lnTo>
                    <a:pt x="762" y="3321"/>
                  </a:lnTo>
                  <a:lnTo>
                    <a:pt x="798" y="3285"/>
                  </a:lnTo>
                  <a:lnTo>
                    <a:pt x="834" y="3249"/>
                  </a:lnTo>
                  <a:lnTo>
                    <a:pt x="869" y="3214"/>
                  </a:lnTo>
                  <a:lnTo>
                    <a:pt x="905" y="3182"/>
                  </a:lnTo>
                  <a:lnTo>
                    <a:pt x="940" y="3146"/>
                  </a:lnTo>
                  <a:lnTo>
                    <a:pt x="869" y="3069"/>
                  </a:lnTo>
                  <a:lnTo>
                    <a:pt x="814" y="2985"/>
                  </a:lnTo>
                  <a:lnTo>
                    <a:pt x="776" y="2892"/>
                  </a:lnTo>
                  <a:lnTo>
                    <a:pt x="752" y="2791"/>
                  </a:lnTo>
                  <a:lnTo>
                    <a:pt x="741" y="2687"/>
                  </a:lnTo>
                  <a:lnTo>
                    <a:pt x="738" y="2580"/>
                  </a:lnTo>
                  <a:lnTo>
                    <a:pt x="743" y="2471"/>
                  </a:lnTo>
                  <a:lnTo>
                    <a:pt x="754" y="2365"/>
                  </a:lnTo>
                  <a:lnTo>
                    <a:pt x="765" y="2346"/>
                  </a:lnTo>
                  <a:lnTo>
                    <a:pt x="782" y="2324"/>
                  </a:lnTo>
                  <a:lnTo>
                    <a:pt x="804" y="2304"/>
                  </a:lnTo>
                  <a:lnTo>
                    <a:pt x="834" y="2294"/>
                  </a:lnTo>
                  <a:lnTo>
                    <a:pt x="874" y="2286"/>
                  </a:lnTo>
                  <a:lnTo>
                    <a:pt x="915" y="2280"/>
                  </a:lnTo>
                  <a:lnTo>
                    <a:pt x="959" y="2278"/>
                  </a:lnTo>
                  <a:lnTo>
                    <a:pt x="1003" y="2280"/>
                  </a:lnTo>
                  <a:lnTo>
                    <a:pt x="1044" y="2286"/>
                  </a:lnTo>
                  <a:lnTo>
                    <a:pt x="1084" y="2296"/>
                  </a:lnTo>
                  <a:lnTo>
                    <a:pt x="1126" y="2310"/>
                  </a:lnTo>
                  <a:lnTo>
                    <a:pt x="1162" y="2326"/>
                  </a:lnTo>
                  <a:lnTo>
                    <a:pt x="1263" y="2548"/>
                  </a:lnTo>
                  <a:lnTo>
                    <a:pt x="1289" y="2578"/>
                  </a:lnTo>
                  <a:lnTo>
                    <a:pt x="1325" y="2602"/>
                  </a:lnTo>
                  <a:lnTo>
                    <a:pt x="1364" y="2619"/>
                  </a:lnTo>
                  <a:lnTo>
                    <a:pt x="1410" y="2630"/>
                  </a:lnTo>
                  <a:lnTo>
                    <a:pt x="1456" y="2635"/>
                  </a:lnTo>
                  <a:lnTo>
                    <a:pt x="1505" y="2635"/>
                  </a:lnTo>
                  <a:lnTo>
                    <a:pt x="1551" y="2632"/>
                  </a:lnTo>
                  <a:lnTo>
                    <a:pt x="1595" y="2627"/>
                  </a:lnTo>
                  <a:lnTo>
                    <a:pt x="1648" y="2578"/>
                  </a:lnTo>
                  <a:lnTo>
                    <a:pt x="1686" y="2515"/>
                  </a:lnTo>
                  <a:lnTo>
                    <a:pt x="1718" y="2447"/>
                  </a:lnTo>
                  <a:lnTo>
                    <a:pt x="1746" y="2370"/>
                  </a:lnTo>
                  <a:lnTo>
                    <a:pt x="1770" y="2294"/>
                  </a:lnTo>
                  <a:lnTo>
                    <a:pt x="1797" y="2220"/>
                  </a:lnTo>
                  <a:lnTo>
                    <a:pt x="1827" y="2147"/>
                  </a:lnTo>
                  <a:lnTo>
                    <a:pt x="1869" y="2081"/>
                  </a:lnTo>
                  <a:lnTo>
                    <a:pt x="1940" y="2062"/>
                  </a:lnTo>
                  <a:lnTo>
                    <a:pt x="2010" y="2037"/>
                  </a:lnTo>
                  <a:lnTo>
                    <a:pt x="2076" y="2010"/>
                  </a:lnTo>
                  <a:lnTo>
                    <a:pt x="2141" y="1982"/>
                  </a:lnTo>
                  <a:lnTo>
                    <a:pt x="2204" y="1952"/>
                  </a:lnTo>
                  <a:lnTo>
                    <a:pt x="2268" y="1920"/>
                  </a:lnTo>
                  <a:lnTo>
                    <a:pt x="2330" y="1887"/>
                  </a:lnTo>
                  <a:lnTo>
                    <a:pt x="2391" y="1855"/>
                  </a:lnTo>
                  <a:lnTo>
                    <a:pt x="2453" y="1821"/>
                  </a:lnTo>
                  <a:lnTo>
                    <a:pt x="2516" y="1791"/>
                  </a:lnTo>
                  <a:lnTo>
                    <a:pt x="2582" y="1761"/>
                  </a:lnTo>
                  <a:lnTo>
                    <a:pt x="2647" y="1734"/>
                  </a:lnTo>
                  <a:lnTo>
                    <a:pt x="2719" y="1706"/>
                  </a:lnTo>
                  <a:lnTo>
                    <a:pt x="2789" y="1684"/>
                  </a:lnTo>
                  <a:lnTo>
                    <a:pt x="2862" y="1666"/>
                  </a:lnTo>
                  <a:lnTo>
                    <a:pt x="2942" y="1649"/>
                  </a:lnTo>
                  <a:lnTo>
                    <a:pt x="2963" y="1638"/>
                  </a:lnTo>
                  <a:lnTo>
                    <a:pt x="2985" y="1627"/>
                  </a:lnTo>
                  <a:lnTo>
                    <a:pt x="3005" y="1619"/>
                  </a:lnTo>
                  <a:lnTo>
                    <a:pt x="3027" y="1611"/>
                  </a:lnTo>
                  <a:lnTo>
                    <a:pt x="3046" y="1603"/>
                  </a:lnTo>
                  <a:lnTo>
                    <a:pt x="3068" y="1595"/>
                  </a:lnTo>
                  <a:lnTo>
                    <a:pt x="3086" y="1587"/>
                  </a:lnTo>
                  <a:lnTo>
                    <a:pt x="3106" y="1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1334880" y="4610160"/>
              <a:ext cx="270000" cy="237960"/>
            </a:xfrm>
            <a:custGeom>
              <a:avLst/>
              <a:gdLst/>
              <a:ahLst/>
              <a:rect l="l" t="t" r="r" b="b"/>
              <a:pathLst>
                <a:path w="852" h="751">
                  <a:moveTo>
                    <a:pt x="288" y="751"/>
                  </a:moveTo>
                  <a:lnTo>
                    <a:pt x="302" y="715"/>
                  </a:lnTo>
                  <a:lnTo>
                    <a:pt x="318" y="682"/>
                  </a:lnTo>
                  <a:lnTo>
                    <a:pt x="338" y="650"/>
                  </a:lnTo>
                  <a:lnTo>
                    <a:pt x="357" y="622"/>
                  </a:lnTo>
                  <a:lnTo>
                    <a:pt x="379" y="595"/>
                  </a:lnTo>
                  <a:lnTo>
                    <a:pt x="405" y="568"/>
                  </a:lnTo>
                  <a:lnTo>
                    <a:pt x="437" y="543"/>
                  </a:lnTo>
                  <a:lnTo>
                    <a:pt x="469" y="521"/>
                  </a:lnTo>
                  <a:lnTo>
                    <a:pt x="477" y="519"/>
                  </a:lnTo>
                  <a:lnTo>
                    <a:pt x="485" y="516"/>
                  </a:lnTo>
                  <a:lnTo>
                    <a:pt x="493" y="516"/>
                  </a:lnTo>
                  <a:lnTo>
                    <a:pt x="504" y="516"/>
                  </a:lnTo>
                  <a:lnTo>
                    <a:pt x="568" y="527"/>
                  </a:lnTo>
                  <a:lnTo>
                    <a:pt x="619" y="538"/>
                  </a:lnTo>
                  <a:lnTo>
                    <a:pt x="663" y="551"/>
                  </a:lnTo>
                  <a:lnTo>
                    <a:pt x="701" y="568"/>
                  </a:lnTo>
                  <a:lnTo>
                    <a:pt x="737" y="587"/>
                  </a:lnTo>
                  <a:lnTo>
                    <a:pt x="769" y="614"/>
                  </a:lnTo>
                  <a:lnTo>
                    <a:pt x="804" y="644"/>
                  </a:lnTo>
                  <a:lnTo>
                    <a:pt x="848" y="685"/>
                  </a:lnTo>
                  <a:lnTo>
                    <a:pt x="852" y="620"/>
                  </a:lnTo>
                  <a:lnTo>
                    <a:pt x="834" y="529"/>
                  </a:lnTo>
                  <a:lnTo>
                    <a:pt x="804" y="429"/>
                  </a:lnTo>
                  <a:lnTo>
                    <a:pt x="769" y="322"/>
                  </a:lnTo>
                  <a:lnTo>
                    <a:pt x="729" y="219"/>
                  </a:lnTo>
                  <a:lnTo>
                    <a:pt x="687" y="123"/>
                  </a:lnTo>
                  <a:lnTo>
                    <a:pt x="652" y="48"/>
                  </a:lnTo>
                  <a:lnTo>
                    <a:pt x="627" y="0"/>
                  </a:lnTo>
                  <a:lnTo>
                    <a:pt x="580" y="10"/>
                  </a:lnTo>
                  <a:lnTo>
                    <a:pt x="537" y="24"/>
                  </a:lnTo>
                  <a:lnTo>
                    <a:pt x="491" y="44"/>
                  </a:lnTo>
                  <a:lnTo>
                    <a:pt x="445" y="68"/>
                  </a:lnTo>
                  <a:lnTo>
                    <a:pt x="401" y="96"/>
                  </a:lnTo>
                  <a:lnTo>
                    <a:pt x="354" y="125"/>
                  </a:lnTo>
                  <a:lnTo>
                    <a:pt x="310" y="158"/>
                  </a:lnTo>
                  <a:lnTo>
                    <a:pt x="270" y="193"/>
                  </a:lnTo>
                  <a:lnTo>
                    <a:pt x="226" y="232"/>
                  </a:lnTo>
                  <a:lnTo>
                    <a:pt x="187" y="270"/>
                  </a:lnTo>
                  <a:lnTo>
                    <a:pt x="149" y="311"/>
                  </a:lnTo>
                  <a:lnTo>
                    <a:pt x="113" y="350"/>
                  </a:lnTo>
                  <a:lnTo>
                    <a:pt x="81" y="390"/>
                  </a:lnTo>
                  <a:lnTo>
                    <a:pt x="51" y="429"/>
                  </a:lnTo>
                  <a:lnTo>
                    <a:pt x="24" y="467"/>
                  </a:lnTo>
                  <a:lnTo>
                    <a:pt x="0" y="503"/>
                  </a:lnTo>
                  <a:lnTo>
                    <a:pt x="288" y="7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1039680" y="3844800"/>
              <a:ext cx="871560" cy="930240"/>
            </a:xfrm>
            <a:custGeom>
              <a:avLst/>
              <a:gdLst/>
              <a:ahLst/>
              <a:rect l="l" t="t" r="r" b="b"/>
              <a:pathLst>
                <a:path w="2745" h="2928">
                  <a:moveTo>
                    <a:pt x="2541" y="489"/>
                  </a:moveTo>
                  <a:lnTo>
                    <a:pt x="2503" y="550"/>
                  </a:lnTo>
                  <a:lnTo>
                    <a:pt x="2493" y="612"/>
                  </a:lnTo>
                  <a:lnTo>
                    <a:pt x="2505" y="681"/>
                  </a:lnTo>
                  <a:lnTo>
                    <a:pt x="2533" y="743"/>
                  </a:lnTo>
                  <a:lnTo>
                    <a:pt x="2559" y="814"/>
                  </a:lnTo>
                  <a:lnTo>
                    <a:pt x="2590" y="880"/>
                  </a:lnTo>
                  <a:lnTo>
                    <a:pt x="2622" y="940"/>
                  </a:lnTo>
                  <a:lnTo>
                    <a:pt x="2658" y="1003"/>
                  </a:lnTo>
                  <a:lnTo>
                    <a:pt x="2688" y="1063"/>
                  </a:lnTo>
                  <a:lnTo>
                    <a:pt x="2715" y="1128"/>
                  </a:lnTo>
                  <a:lnTo>
                    <a:pt x="2734" y="1194"/>
                  </a:lnTo>
                  <a:lnTo>
                    <a:pt x="2745" y="1268"/>
                  </a:lnTo>
                  <a:lnTo>
                    <a:pt x="2745" y="1287"/>
                  </a:lnTo>
                  <a:lnTo>
                    <a:pt x="2731" y="1301"/>
                  </a:lnTo>
                  <a:lnTo>
                    <a:pt x="2710" y="1307"/>
                  </a:lnTo>
                  <a:lnTo>
                    <a:pt x="2680" y="1311"/>
                  </a:lnTo>
                  <a:lnTo>
                    <a:pt x="2646" y="1311"/>
                  </a:lnTo>
                  <a:lnTo>
                    <a:pt x="2612" y="1311"/>
                  </a:lnTo>
                  <a:lnTo>
                    <a:pt x="2579" y="1311"/>
                  </a:lnTo>
                  <a:lnTo>
                    <a:pt x="2551" y="1315"/>
                  </a:lnTo>
                  <a:lnTo>
                    <a:pt x="2541" y="1404"/>
                  </a:lnTo>
                  <a:lnTo>
                    <a:pt x="2529" y="1476"/>
                  </a:lnTo>
                  <a:lnTo>
                    <a:pt x="2521" y="1527"/>
                  </a:lnTo>
                  <a:lnTo>
                    <a:pt x="2524" y="1560"/>
                  </a:lnTo>
                  <a:lnTo>
                    <a:pt x="2524" y="1591"/>
                  </a:lnTo>
                  <a:lnTo>
                    <a:pt x="2505" y="1621"/>
                  </a:lnTo>
                  <a:lnTo>
                    <a:pt x="2485" y="1653"/>
                  </a:lnTo>
                  <a:lnTo>
                    <a:pt x="2469" y="1694"/>
                  </a:lnTo>
                  <a:lnTo>
                    <a:pt x="2483" y="1716"/>
                  </a:lnTo>
                  <a:lnTo>
                    <a:pt x="2503" y="1740"/>
                  </a:lnTo>
                  <a:lnTo>
                    <a:pt x="2519" y="1765"/>
                  </a:lnTo>
                  <a:lnTo>
                    <a:pt x="2519" y="1790"/>
                  </a:lnTo>
                  <a:lnTo>
                    <a:pt x="2505" y="1817"/>
                  </a:lnTo>
                  <a:lnTo>
                    <a:pt x="2485" y="1869"/>
                  </a:lnTo>
                  <a:lnTo>
                    <a:pt x="2477" y="1937"/>
                  </a:lnTo>
                  <a:lnTo>
                    <a:pt x="2491" y="2008"/>
                  </a:lnTo>
                  <a:lnTo>
                    <a:pt x="2507" y="2058"/>
                  </a:lnTo>
                  <a:lnTo>
                    <a:pt x="2513" y="2101"/>
                  </a:lnTo>
                  <a:lnTo>
                    <a:pt x="2507" y="2141"/>
                  </a:lnTo>
                  <a:lnTo>
                    <a:pt x="2493" y="2177"/>
                  </a:lnTo>
                  <a:lnTo>
                    <a:pt x="2472" y="2207"/>
                  </a:lnTo>
                  <a:lnTo>
                    <a:pt x="2442" y="2229"/>
                  </a:lnTo>
                  <a:lnTo>
                    <a:pt x="2404" y="2240"/>
                  </a:lnTo>
                  <a:lnTo>
                    <a:pt x="2362" y="2243"/>
                  </a:lnTo>
                  <a:lnTo>
                    <a:pt x="2311" y="2240"/>
                  </a:lnTo>
                  <a:lnTo>
                    <a:pt x="2262" y="2240"/>
                  </a:lnTo>
                  <a:lnTo>
                    <a:pt x="2213" y="2237"/>
                  </a:lnTo>
                  <a:lnTo>
                    <a:pt x="2166" y="2237"/>
                  </a:lnTo>
                  <a:lnTo>
                    <a:pt x="2122" y="2240"/>
                  </a:lnTo>
                  <a:lnTo>
                    <a:pt x="2078" y="2240"/>
                  </a:lnTo>
                  <a:lnTo>
                    <a:pt x="2035" y="2246"/>
                  </a:lnTo>
                  <a:lnTo>
                    <a:pt x="1991" y="2251"/>
                  </a:lnTo>
                  <a:lnTo>
                    <a:pt x="1951" y="2256"/>
                  </a:lnTo>
                  <a:lnTo>
                    <a:pt x="1907" y="2268"/>
                  </a:lnTo>
                  <a:lnTo>
                    <a:pt x="1863" y="2278"/>
                  </a:lnTo>
                  <a:lnTo>
                    <a:pt x="1822" y="2292"/>
                  </a:lnTo>
                  <a:lnTo>
                    <a:pt x="1778" y="2312"/>
                  </a:lnTo>
                  <a:lnTo>
                    <a:pt x="1732" y="2330"/>
                  </a:lnTo>
                  <a:lnTo>
                    <a:pt x="1685" y="2355"/>
                  </a:lnTo>
                  <a:lnTo>
                    <a:pt x="1639" y="2382"/>
                  </a:lnTo>
                  <a:lnTo>
                    <a:pt x="1587" y="2407"/>
                  </a:lnTo>
                  <a:lnTo>
                    <a:pt x="1538" y="2431"/>
                  </a:lnTo>
                  <a:lnTo>
                    <a:pt x="1486" y="2455"/>
                  </a:lnTo>
                  <a:lnTo>
                    <a:pt x="1434" y="2483"/>
                  </a:lnTo>
                  <a:lnTo>
                    <a:pt x="1385" y="2511"/>
                  </a:lnTo>
                  <a:lnTo>
                    <a:pt x="1335" y="2538"/>
                  </a:lnTo>
                  <a:lnTo>
                    <a:pt x="1287" y="2565"/>
                  </a:lnTo>
                  <a:lnTo>
                    <a:pt x="1240" y="2596"/>
                  </a:lnTo>
                  <a:lnTo>
                    <a:pt x="1196" y="2628"/>
                  </a:lnTo>
                  <a:lnTo>
                    <a:pt x="1153" y="2664"/>
                  </a:lnTo>
                  <a:lnTo>
                    <a:pt x="1112" y="2699"/>
                  </a:lnTo>
                  <a:lnTo>
                    <a:pt x="1077" y="2737"/>
                  </a:lnTo>
                  <a:lnTo>
                    <a:pt x="1043" y="2781"/>
                  </a:lnTo>
                  <a:lnTo>
                    <a:pt x="1013" y="2827"/>
                  </a:lnTo>
                  <a:lnTo>
                    <a:pt x="986" y="2876"/>
                  </a:lnTo>
                  <a:lnTo>
                    <a:pt x="964" y="2928"/>
                  </a:lnTo>
                  <a:lnTo>
                    <a:pt x="924" y="2902"/>
                  </a:lnTo>
                  <a:lnTo>
                    <a:pt x="882" y="2871"/>
                  </a:lnTo>
                  <a:lnTo>
                    <a:pt x="842" y="2838"/>
                  </a:lnTo>
                  <a:lnTo>
                    <a:pt x="803" y="2805"/>
                  </a:lnTo>
                  <a:lnTo>
                    <a:pt x="765" y="2770"/>
                  </a:lnTo>
                  <a:lnTo>
                    <a:pt x="727" y="2735"/>
                  </a:lnTo>
                  <a:lnTo>
                    <a:pt x="689" y="2696"/>
                  </a:lnTo>
                  <a:lnTo>
                    <a:pt x="650" y="2658"/>
                  </a:lnTo>
                  <a:lnTo>
                    <a:pt x="612" y="2620"/>
                  </a:lnTo>
                  <a:lnTo>
                    <a:pt x="571" y="2582"/>
                  </a:lnTo>
                  <a:lnTo>
                    <a:pt x="533" y="2541"/>
                  </a:lnTo>
                  <a:lnTo>
                    <a:pt x="495" y="2503"/>
                  </a:lnTo>
                  <a:lnTo>
                    <a:pt x="453" y="2461"/>
                  </a:lnTo>
                  <a:lnTo>
                    <a:pt x="413" y="2423"/>
                  </a:lnTo>
                  <a:lnTo>
                    <a:pt x="372" y="2388"/>
                  </a:lnTo>
                  <a:lnTo>
                    <a:pt x="328" y="2350"/>
                  </a:lnTo>
                  <a:lnTo>
                    <a:pt x="284" y="2290"/>
                  </a:lnTo>
                  <a:lnTo>
                    <a:pt x="235" y="2232"/>
                  </a:lnTo>
                  <a:lnTo>
                    <a:pt x="183" y="2175"/>
                  </a:lnTo>
                  <a:lnTo>
                    <a:pt x="131" y="2120"/>
                  </a:lnTo>
                  <a:lnTo>
                    <a:pt x="85" y="2062"/>
                  </a:lnTo>
                  <a:lnTo>
                    <a:pt x="46" y="2006"/>
                  </a:lnTo>
                  <a:lnTo>
                    <a:pt x="16" y="1945"/>
                  </a:lnTo>
                  <a:lnTo>
                    <a:pt x="0" y="1879"/>
                  </a:lnTo>
                  <a:lnTo>
                    <a:pt x="257" y="1631"/>
                  </a:lnTo>
                  <a:lnTo>
                    <a:pt x="276" y="1565"/>
                  </a:lnTo>
                  <a:lnTo>
                    <a:pt x="205" y="1489"/>
                  </a:lnTo>
                  <a:lnTo>
                    <a:pt x="153" y="1404"/>
                  </a:lnTo>
                  <a:lnTo>
                    <a:pt x="118" y="1311"/>
                  </a:lnTo>
                  <a:lnTo>
                    <a:pt x="96" y="1210"/>
                  </a:lnTo>
                  <a:lnTo>
                    <a:pt x="85" y="1107"/>
                  </a:lnTo>
                  <a:lnTo>
                    <a:pt x="85" y="997"/>
                  </a:lnTo>
                  <a:lnTo>
                    <a:pt x="90" y="888"/>
                  </a:lnTo>
                  <a:lnTo>
                    <a:pt x="104" y="782"/>
                  </a:lnTo>
                  <a:lnTo>
                    <a:pt x="115" y="763"/>
                  </a:lnTo>
                  <a:lnTo>
                    <a:pt x="131" y="741"/>
                  </a:lnTo>
                  <a:lnTo>
                    <a:pt x="153" y="721"/>
                  </a:lnTo>
                  <a:lnTo>
                    <a:pt x="183" y="711"/>
                  </a:lnTo>
                  <a:lnTo>
                    <a:pt x="225" y="703"/>
                  </a:lnTo>
                  <a:lnTo>
                    <a:pt x="265" y="697"/>
                  </a:lnTo>
                  <a:lnTo>
                    <a:pt x="309" y="695"/>
                  </a:lnTo>
                  <a:lnTo>
                    <a:pt x="352" y="697"/>
                  </a:lnTo>
                  <a:lnTo>
                    <a:pt x="394" y="703"/>
                  </a:lnTo>
                  <a:lnTo>
                    <a:pt x="435" y="713"/>
                  </a:lnTo>
                  <a:lnTo>
                    <a:pt x="475" y="727"/>
                  </a:lnTo>
                  <a:lnTo>
                    <a:pt x="511" y="743"/>
                  </a:lnTo>
                  <a:lnTo>
                    <a:pt x="612" y="965"/>
                  </a:lnTo>
                  <a:lnTo>
                    <a:pt x="640" y="995"/>
                  </a:lnTo>
                  <a:lnTo>
                    <a:pt x="675" y="1019"/>
                  </a:lnTo>
                  <a:lnTo>
                    <a:pt x="713" y="1035"/>
                  </a:lnTo>
                  <a:lnTo>
                    <a:pt x="759" y="1047"/>
                  </a:lnTo>
                  <a:lnTo>
                    <a:pt x="806" y="1052"/>
                  </a:lnTo>
                  <a:lnTo>
                    <a:pt x="855" y="1052"/>
                  </a:lnTo>
                  <a:lnTo>
                    <a:pt x="902" y="1049"/>
                  </a:lnTo>
                  <a:lnTo>
                    <a:pt x="946" y="1044"/>
                  </a:lnTo>
                  <a:lnTo>
                    <a:pt x="997" y="995"/>
                  </a:lnTo>
                  <a:lnTo>
                    <a:pt x="1035" y="932"/>
                  </a:lnTo>
                  <a:lnTo>
                    <a:pt x="1069" y="864"/>
                  </a:lnTo>
                  <a:lnTo>
                    <a:pt x="1095" y="787"/>
                  </a:lnTo>
                  <a:lnTo>
                    <a:pt x="1120" y="711"/>
                  </a:lnTo>
                  <a:lnTo>
                    <a:pt x="1148" y="637"/>
                  </a:lnTo>
                  <a:lnTo>
                    <a:pt x="1178" y="564"/>
                  </a:lnTo>
                  <a:lnTo>
                    <a:pt x="1218" y="498"/>
                  </a:lnTo>
                  <a:lnTo>
                    <a:pt x="1289" y="479"/>
                  </a:lnTo>
                  <a:lnTo>
                    <a:pt x="1361" y="455"/>
                  </a:lnTo>
                  <a:lnTo>
                    <a:pt x="1426" y="427"/>
                  </a:lnTo>
                  <a:lnTo>
                    <a:pt x="1492" y="399"/>
                  </a:lnTo>
                  <a:lnTo>
                    <a:pt x="1554" y="369"/>
                  </a:lnTo>
                  <a:lnTo>
                    <a:pt x="1617" y="336"/>
                  </a:lnTo>
                  <a:lnTo>
                    <a:pt x="1680" y="304"/>
                  </a:lnTo>
                  <a:lnTo>
                    <a:pt x="1740" y="271"/>
                  </a:lnTo>
                  <a:lnTo>
                    <a:pt x="1803" y="238"/>
                  </a:lnTo>
                  <a:lnTo>
                    <a:pt x="1866" y="208"/>
                  </a:lnTo>
                  <a:lnTo>
                    <a:pt x="1931" y="179"/>
                  </a:lnTo>
                  <a:lnTo>
                    <a:pt x="1997" y="151"/>
                  </a:lnTo>
                  <a:lnTo>
                    <a:pt x="2068" y="123"/>
                  </a:lnTo>
                  <a:lnTo>
                    <a:pt x="2139" y="101"/>
                  </a:lnTo>
                  <a:lnTo>
                    <a:pt x="2213" y="83"/>
                  </a:lnTo>
                  <a:lnTo>
                    <a:pt x="2292" y="66"/>
                  </a:lnTo>
                  <a:lnTo>
                    <a:pt x="2314" y="56"/>
                  </a:lnTo>
                  <a:lnTo>
                    <a:pt x="2336" y="44"/>
                  </a:lnTo>
                  <a:lnTo>
                    <a:pt x="2354" y="36"/>
                  </a:lnTo>
                  <a:lnTo>
                    <a:pt x="2374" y="28"/>
                  </a:lnTo>
                  <a:lnTo>
                    <a:pt x="2393" y="20"/>
                  </a:lnTo>
                  <a:lnTo>
                    <a:pt x="2412" y="14"/>
                  </a:lnTo>
                  <a:lnTo>
                    <a:pt x="2428" y="6"/>
                  </a:lnTo>
                  <a:lnTo>
                    <a:pt x="2445" y="0"/>
                  </a:lnTo>
                  <a:lnTo>
                    <a:pt x="2472" y="47"/>
                  </a:lnTo>
                  <a:lnTo>
                    <a:pt x="2499" y="113"/>
                  </a:lnTo>
                  <a:lnTo>
                    <a:pt x="2521" y="187"/>
                  </a:lnTo>
                  <a:lnTo>
                    <a:pt x="2537" y="266"/>
                  </a:lnTo>
                  <a:lnTo>
                    <a:pt x="2549" y="342"/>
                  </a:lnTo>
                  <a:lnTo>
                    <a:pt x="2554" y="407"/>
                  </a:lnTo>
                  <a:lnTo>
                    <a:pt x="2551" y="459"/>
                  </a:lnTo>
                  <a:lnTo>
                    <a:pt x="2541" y="489"/>
                  </a:lnTo>
                  <a:close/>
                </a:path>
              </a:pathLst>
            </a:custGeom>
            <a:solidFill>
              <a:srgbClr val="fac5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1703520" y="4027320"/>
              <a:ext cx="101520" cy="65160"/>
            </a:xfrm>
            <a:custGeom>
              <a:avLst/>
              <a:gdLst/>
              <a:ahLst/>
              <a:rect l="l" t="t" r="r" b="b"/>
              <a:pathLst>
                <a:path w="322" h="205">
                  <a:moveTo>
                    <a:pt x="322" y="0"/>
                  </a:moveTo>
                  <a:lnTo>
                    <a:pt x="284" y="14"/>
                  </a:lnTo>
                  <a:lnTo>
                    <a:pt x="240" y="30"/>
                  </a:lnTo>
                  <a:lnTo>
                    <a:pt x="194" y="50"/>
                  </a:lnTo>
                  <a:lnTo>
                    <a:pt x="150" y="68"/>
                  </a:lnTo>
                  <a:lnTo>
                    <a:pt x="107" y="88"/>
                  </a:lnTo>
                  <a:lnTo>
                    <a:pt x="65" y="109"/>
                  </a:lnTo>
                  <a:lnTo>
                    <a:pt x="30" y="134"/>
                  </a:lnTo>
                  <a:lnTo>
                    <a:pt x="0" y="159"/>
                  </a:lnTo>
                  <a:lnTo>
                    <a:pt x="30" y="159"/>
                  </a:lnTo>
                  <a:lnTo>
                    <a:pt x="60" y="161"/>
                  </a:lnTo>
                  <a:lnTo>
                    <a:pt x="87" y="165"/>
                  </a:lnTo>
                  <a:lnTo>
                    <a:pt x="115" y="169"/>
                  </a:lnTo>
                  <a:lnTo>
                    <a:pt x="141" y="175"/>
                  </a:lnTo>
                  <a:lnTo>
                    <a:pt x="167" y="183"/>
                  </a:lnTo>
                  <a:lnTo>
                    <a:pt x="194" y="194"/>
                  </a:lnTo>
                  <a:lnTo>
                    <a:pt x="218" y="205"/>
                  </a:lnTo>
                  <a:lnTo>
                    <a:pt x="232" y="189"/>
                  </a:lnTo>
                  <a:lnTo>
                    <a:pt x="232" y="60"/>
                  </a:lnTo>
                  <a:lnTo>
                    <a:pt x="238" y="55"/>
                  </a:lnTo>
                  <a:lnTo>
                    <a:pt x="246" y="50"/>
                  </a:lnTo>
                  <a:lnTo>
                    <a:pt x="256" y="44"/>
                  </a:lnTo>
                  <a:lnTo>
                    <a:pt x="268" y="36"/>
                  </a:lnTo>
                  <a:lnTo>
                    <a:pt x="278" y="28"/>
                  </a:lnTo>
                  <a:lnTo>
                    <a:pt x="292" y="20"/>
                  </a:lnTo>
                  <a:lnTo>
                    <a:pt x="306" y="12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966600" y="4438440"/>
              <a:ext cx="460440" cy="552600"/>
            </a:xfrm>
            <a:custGeom>
              <a:avLst/>
              <a:gdLst/>
              <a:ahLst/>
              <a:rect l="l" t="t" r="r" b="b"/>
              <a:pathLst>
                <a:path w="1450" h="1742">
                  <a:moveTo>
                    <a:pt x="1450" y="1470"/>
                  </a:moveTo>
                  <a:lnTo>
                    <a:pt x="1448" y="1305"/>
                  </a:lnTo>
                  <a:lnTo>
                    <a:pt x="240" y="68"/>
                  </a:lnTo>
                  <a:lnTo>
                    <a:pt x="238" y="0"/>
                  </a:lnTo>
                  <a:lnTo>
                    <a:pt x="199" y="6"/>
                  </a:lnTo>
                  <a:lnTo>
                    <a:pt x="161" y="24"/>
                  </a:lnTo>
                  <a:lnTo>
                    <a:pt x="123" y="49"/>
                  </a:lnTo>
                  <a:lnTo>
                    <a:pt x="87" y="82"/>
                  </a:lnTo>
                  <a:lnTo>
                    <a:pt x="54" y="115"/>
                  </a:lnTo>
                  <a:lnTo>
                    <a:pt x="30" y="149"/>
                  </a:lnTo>
                  <a:lnTo>
                    <a:pt x="10" y="183"/>
                  </a:lnTo>
                  <a:lnTo>
                    <a:pt x="0" y="213"/>
                  </a:lnTo>
                  <a:lnTo>
                    <a:pt x="2" y="248"/>
                  </a:lnTo>
                  <a:lnTo>
                    <a:pt x="8" y="308"/>
                  </a:lnTo>
                  <a:lnTo>
                    <a:pt x="22" y="387"/>
                  </a:lnTo>
                  <a:lnTo>
                    <a:pt x="38" y="486"/>
                  </a:lnTo>
                  <a:lnTo>
                    <a:pt x="60" y="598"/>
                  </a:lnTo>
                  <a:lnTo>
                    <a:pt x="87" y="721"/>
                  </a:lnTo>
                  <a:lnTo>
                    <a:pt x="119" y="852"/>
                  </a:lnTo>
                  <a:lnTo>
                    <a:pt x="159" y="985"/>
                  </a:lnTo>
                  <a:lnTo>
                    <a:pt x="197" y="1117"/>
                  </a:lnTo>
                  <a:lnTo>
                    <a:pt x="242" y="1248"/>
                  </a:lnTo>
                  <a:lnTo>
                    <a:pt x="290" y="1368"/>
                  </a:lnTo>
                  <a:lnTo>
                    <a:pt x="341" y="1480"/>
                  </a:lnTo>
                  <a:lnTo>
                    <a:pt x="395" y="1575"/>
                  </a:lnTo>
                  <a:lnTo>
                    <a:pt x="453" y="1655"/>
                  </a:lnTo>
                  <a:lnTo>
                    <a:pt x="513" y="1710"/>
                  </a:lnTo>
                  <a:lnTo>
                    <a:pt x="576" y="1742"/>
                  </a:lnTo>
                  <a:lnTo>
                    <a:pt x="1226" y="1305"/>
                  </a:lnTo>
                  <a:lnTo>
                    <a:pt x="1319" y="1317"/>
                  </a:lnTo>
                  <a:lnTo>
                    <a:pt x="1450" y="147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8" name=""/>
          <p:cNvGrpSpPr/>
          <p:nvPr/>
        </p:nvGrpSpPr>
        <p:grpSpPr>
          <a:xfrm>
            <a:off x="3200400" y="3352680"/>
            <a:ext cx="1330200" cy="1846080"/>
            <a:chOff x="3200400" y="3352680"/>
            <a:chExt cx="1330200" cy="1846080"/>
          </a:xfrm>
        </p:grpSpPr>
        <p:sp>
          <p:nvSpPr>
            <p:cNvPr id="3119" name=""/>
            <p:cNvSpPr/>
            <p:nvPr/>
          </p:nvSpPr>
          <p:spPr>
            <a:xfrm>
              <a:off x="3200400" y="3352680"/>
              <a:ext cx="1330200" cy="18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4062240" y="3876480"/>
              <a:ext cx="345600" cy="563400"/>
            </a:xfrm>
            <a:custGeom>
              <a:avLst/>
              <a:gdLst/>
              <a:ahLst/>
              <a:rect l="l" t="t" r="r" b="b"/>
              <a:pathLst>
                <a:path w="870" h="1418">
                  <a:moveTo>
                    <a:pt x="643" y="0"/>
                  </a:moveTo>
                  <a:lnTo>
                    <a:pt x="645" y="0"/>
                  </a:lnTo>
                  <a:lnTo>
                    <a:pt x="646" y="0"/>
                  </a:lnTo>
                  <a:lnTo>
                    <a:pt x="649" y="1"/>
                  </a:lnTo>
                  <a:lnTo>
                    <a:pt x="650" y="1"/>
                  </a:lnTo>
                  <a:lnTo>
                    <a:pt x="640" y="48"/>
                  </a:lnTo>
                  <a:lnTo>
                    <a:pt x="638" y="94"/>
                  </a:lnTo>
                  <a:lnTo>
                    <a:pt x="645" y="139"/>
                  </a:lnTo>
                  <a:lnTo>
                    <a:pt x="657" y="183"/>
                  </a:lnTo>
                  <a:lnTo>
                    <a:pt x="673" y="226"/>
                  </a:lnTo>
                  <a:lnTo>
                    <a:pt x="692" y="269"/>
                  </a:lnTo>
                  <a:lnTo>
                    <a:pt x="713" y="310"/>
                  </a:lnTo>
                  <a:lnTo>
                    <a:pt x="734" y="349"/>
                  </a:lnTo>
                  <a:lnTo>
                    <a:pt x="747" y="370"/>
                  </a:lnTo>
                  <a:lnTo>
                    <a:pt x="761" y="386"/>
                  </a:lnTo>
                  <a:lnTo>
                    <a:pt x="773" y="399"/>
                  </a:lnTo>
                  <a:lnTo>
                    <a:pt x="789" y="412"/>
                  </a:lnTo>
                  <a:lnTo>
                    <a:pt x="802" y="426"/>
                  </a:lnTo>
                  <a:lnTo>
                    <a:pt x="817" y="437"/>
                  </a:lnTo>
                  <a:lnTo>
                    <a:pt x="831" y="449"/>
                  </a:lnTo>
                  <a:lnTo>
                    <a:pt x="845" y="460"/>
                  </a:lnTo>
                  <a:lnTo>
                    <a:pt x="859" y="472"/>
                  </a:lnTo>
                  <a:lnTo>
                    <a:pt x="867" y="486"/>
                  </a:lnTo>
                  <a:lnTo>
                    <a:pt x="870" y="502"/>
                  </a:lnTo>
                  <a:lnTo>
                    <a:pt x="869" y="518"/>
                  </a:lnTo>
                  <a:lnTo>
                    <a:pt x="864" y="531"/>
                  </a:lnTo>
                  <a:lnTo>
                    <a:pt x="856" y="544"/>
                  </a:lnTo>
                  <a:lnTo>
                    <a:pt x="846" y="552"/>
                  </a:lnTo>
                  <a:lnTo>
                    <a:pt x="834" y="556"/>
                  </a:lnTo>
                  <a:lnTo>
                    <a:pt x="820" y="565"/>
                  </a:lnTo>
                  <a:lnTo>
                    <a:pt x="804" y="572"/>
                  </a:lnTo>
                  <a:lnTo>
                    <a:pt x="790" y="582"/>
                  </a:lnTo>
                  <a:lnTo>
                    <a:pt x="775" y="593"/>
                  </a:lnTo>
                  <a:lnTo>
                    <a:pt x="762" y="605"/>
                  </a:lnTo>
                  <a:lnTo>
                    <a:pt x="752" y="621"/>
                  </a:lnTo>
                  <a:lnTo>
                    <a:pt x="744" y="639"/>
                  </a:lnTo>
                  <a:lnTo>
                    <a:pt x="740" y="660"/>
                  </a:lnTo>
                  <a:lnTo>
                    <a:pt x="740" y="684"/>
                  </a:lnTo>
                  <a:lnTo>
                    <a:pt x="743" y="705"/>
                  </a:lnTo>
                  <a:lnTo>
                    <a:pt x="745" y="724"/>
                  </a:lnTo>
                  <a:lnTo>
                    <a:pt x="752" y="746"/>
                  </a:lnTo>
                  <a:lnTo>
                    <a:pt x="745" y="777"/>
                  </a:lnTo>
                  <a:lnTo>
                    <a:pt x="734" y="795"/>
                  </a:lnTo>
                  <a:lnTo>
                    <a:pt x="719" y="809"/>
                  </a:lnTo>
                  <a:lnTo>
                    <a:pt x="706" y="824"/>
                  </a:lnTo>
                  <a:lnTo>
                    <a:pt x="712" y="833"/>
                  </a:lnTo>
                  <a:lnTo>
                    <a:pt x="720" y="842"/>
                  </a:lnTo>
                  <a:lnTo>
                    <a:pt x="726" y="852"/>
                  </a:lnTo>
                  <a:lnTo>
                    <a:pt x="726" y="868"/>
                  </a:lnTo>
                  <a:lnTo>
                    <a:pt x="712" y="905"/>
                  </a:lnTo>
                  <a:lnTo>
                    <a:pt x="708" y="952"/>
                  </a:lnTo>
                  <a:lnTo>
                    <a:pt x="708" y="1001"/>
                  </a:lnTo>
                  <a:lnTo>
                    <a:pt x="712" y="1054"/>
                  </a:lnTo>
                  <a:lnTo>
                    <a:pt x="716" y="1109"/>
                  </a:lnTo>
                  <a:lnTo>
                    <a:pt x="717" y="1163"/>
                  </a:lnTo>
                  <a:lnTo>
                    <a:pt x="712" y="1214"/>
                  </a:lnTo>
                  <a:lnTo>
                    <a:pt x="699" y="1264"/>
                  </a:lnTo>
                  <a:lnTo>
                    <a:pt x="681" y="1287"/>
                  </a:lnTo>
                  <a:lnTo>
                    <a:pt x="657" y="1303"/>
                  </a:lnTo>
                  <a:lnTo>
                    <a:pt x="628" y="1315"/>
                  </a:lnTo>
                  <a:lnTo>
                    <a:pt x="597" y="1323"/>
                  </a:lnTo>
                  <a:lnTo>
                    <a:pt x="563" y="1330"/>
                  </a:lnTo>
                  <a:lnTo>
                    <a:pt x="531" y="1333"/>
                  </a:lnTo>
                  <a:lnTo>
                    <a:pt x="498" y="1336"/>
                  </a:lnTo>
                  <a:lnTo>
                    <a:pt x="468" y="1340"/>
                  </a:lnTo>
                  <a:lnTo>
                    <a:pt x="441" y="1334"/>
                  </a:lnTo>
                  <a:lnTo>
                    <a:pt x="413" y="1331"/>
                  </a:lnTo>
                  <a:lnTo>
                    <a:pt x="384" y="1330"/>
                  </a:lnTo>
                  <a:lnTo>
                    <a:pt x="354" y="1327"/>
                  </a:lnTo>
                  <a:lnTo>
                    <a:pt x="325" y="1330"/>
                  </a:lnTo>
                  <a:lnTo>
                    <a:pt x="295" y="1331"/>
                  </a:lnTo>
                  <a:lnTo>
                    <a:pt x="265" y="1334"/>
                  </a:lnTo>
                  <a:lnTo>
                    <a:pt x="234" y="1338"/>
                  </a:lnTo>
                  <a:lnTo>
                    <a:pt x="204" y="1344"/>
                  </a:lnTo>
                  <a:lnTo>
                    <a:pt x="175" y="1351"/>
                  </a:lnTo>
                  <a:lnTo>
                    <a:pt x="147" y="1359"/>
                  </a:lnTo>
                  <a:lnTo>
                    <a:pt x="119" y="1368"/>
                  </a:lnTo>
                  <a:lnTo>
                    <a:pt x="91" y="1379"/>
                  </a:lnTo>
                  <a:lnTo>
                    <a:pt x="66" y="1390"/>
                  </a:lnTo>
                  <a:lnTo>
                    <a:pt x="41" y="1404"/>
                  </a:lnTo>
                  <a:lnTo>
                    <a:pt x="18" y="1418"/>
                  </a:lnTo>
                  <a:lnTo>
                    <a:pt x="7" y="1390"/>
                  </a:lnTo>
                  <a:lnTo>
                    <a:pt x="0" y="1353"/>
                  </a:lnTo>
                  <a:lnTo>
                    <a:pt x="0" y="1310"/>
                  </a:lnTo>
                  <a:lnTo>
                    <a:pt x="7" y="1264"/>
                  </a:lnTo>
                  <a:lnTo>
                    <a:pt x="14" y="1215"/>
                  </a:lnTo>
                  <a:lnTo>
                    <a:pt x="28" y="1172"/>
                  </a:lnTo>
                  <a:lnTo>
                    <a:pt x="42" y="1128"/>
                  </a:lnTo>
                  <a:lnTo>
                    <a:pt x="59" y="1092"/>
                  </a:lnTo>
                  <a:lnTo>
                    <a:pt x="73" y="1075"/>
                  </a:lnTo>
                  <a:lnTo>
                    <a:pt x="82" y="1064"/>
                  </a:lnTo>
                  <a:lnTo>
                    <a:pt x="88" y="1055"/>
                  </a:lnTo>
                  <a:lnTo>
                    <a:pt x="94" y="1044"/>
                  </a:lnTo>
                  <a:lnTo>
                    <a:pt x="69" y="977"/>
                  </a:lnTo>
                  <a:lnTo>
                    <a:pt x="59" y="908"/>
                  </a:lnTo>
                  <a:lnTo>
                    <a:pt x="60" y="840"/>
                  </a:lnTo>
                  <a:lnTo>
                    <a:pt x="76" y="768"/>
                  </a:lnTo>
                  <a:lnTo>
                    <a:pt x="113" y="743"/>
                  </a:lnTo>
                  <a:lnTo>
                    <a:pt x="92" y="678"/>
                  </a:lnTo>
                  <a:lnTo>
                    <a:pt x="85" y="614"/>
                  </a:lnTo>
                  <a:lnTo>
                    <a:pt x="91" y="548"/>
                  </a:lnTo>
                  <a:lnTo>
                    <a:pt x="104" y="483"/>
                  </a:lnTo>
                  <a:lnTo>
                    <a:pt x="120" y="418"/>
                  </a:lnTo>
                  <a:lnTo>
                    <a:pt x="140" y="352"/>
                  </a:lnTo>
                  <a:lnTo>
                    <a:pt x="157" y="286"/>
                  </a:lnTo>
                  <a:lnTo>
                    <a:pt x="169" y="220"/>
                  </a:lnTo>
                  <a:lnTo>
                    <a:pt x="204" y="185"/>
                  </a:lnTo>
                  <a:lnTo>
                    <a:pt x="234" y="185"/>
                  </a:lnTo>
                  <a:lnTo>
                    <a:pt x="260" y="181"/>
                  </a:lnTo>
                  <a:lnTo>
                    <a:pt x="286" y="175"/>
                  </a:lnTo>
                  <a:lnTo>
                    <a:pt x="310" y="165"/>
                  </a:lnTo>
                  <a:lnTo>
                    <a:pt x="333" y="153"/>
                  </a:lnTo>
                  <a:lnTo>
                    <a:pt x="354" y="139"/>
                  </a:lnTo>
                  <a:lnTo>
                    <a:pt x="376" y="123"/>
                  </a:lnTo>
                  <a:lnTo>
                    <a:pt x="398" y="109"/>
                  </a:lnTo>
                  <a:lnTo>
                    <a:pt x="419" y="94"/>
                  </a:lnTo>
                  <a:lnTo>
                    <a:pt x="440" y="80"/>
                  </a:lnTo>
                  <a:lnTo>
                    <a:pt x="461" y="64"/>
                  </a:lnTo>
                  <a:lnTo>
                    <a:pt x="483" y="52"/>
                  </a:lnTo>
                  <a:lnTo>
                    <a:pt x="506" y="41"/>
                  </a:lnTo>
                  <a:lnTo>
                    <a:pt x="531" y="31"/>
                  </a:lnTo>
                  <a:lnTo>
                    <a:pt x="556" y="27"/>
                  </a:lnTo>
                  <a:lnTo>
                    <a:pt x="584" y="25"/>
                  </a:lnTo>
                  <a:lnTo>
                    <a:pt x="594" y="21"/>
                  </a:lnTo>
                  <a:lnTo>
                    <a:pt x="601" y="18"/>
                  </a:lnTo>
                  <a:lnTo>
                    <a:pt x="610" y="13"/>
                  </a:lnTo>
                  <a:lnTo>
                    <a:pt x="617" y="10"/>
                  </a:lnTo>
                  <a:lnTo>
                    <a:pt x="623" y="7"/>
                  </a:lnTo>
                  <a:lnTo>
                    <a:pt x="628" y="3"/>
                  </a:lnTo>
                  <a:lnTo>
                    <a:pt x="635" y="0"/>
                  </a:lnTo>
                  <a:lnTo>
                    <a:pt x="643" y="0"/>
                  </a:lnTo>
                  <a:close/>
                </a:path>
              </a:pathLst>
            </a:custGeom>
            <a:solidFill>
              <a:srgbClr val="ffe9c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3200400" y="3352680"/>
              <a:ext cx="1263240" cy="1582560"/>
            </a:xfrm>
            <a:custGeom>
              <a:avLst/>
              <a:gdLst/>
              <a:ahLst/>
              <a:rect l="l" t="t" r="r" b="b"/>
              <a:pathLst>
                <a:path w="3185" h="3989">
                  <a:moveTo>
                    <a:pt x="2206" y="2768"/>
                  </a:moveTo>
                  <a:lnTo>
                    <a:pt x="2190" y="2719"/>
                  </a:lnTo>
                  <a:lnTo>
                    <a:pt x="2185" y="2670"/>
                  </a:lnTo>
                  <a:lnTo>
                    <a:pt x="2189" y="2620"/>
                  </a:lnTo>
                  <a:lnTo>
                    <a:pt x="2197" y="2572"/>
                  </a:lnTo>
                  <a:lnTo>
                    <a:pt x="2209" y="2527"/>
                  </a:lnTo>
                  <a:lnTo>
                    <a:pt x="2219" y="2487"/>
                  </a:lnTo>
                  <a:lnTo>
                    <a:pt x="2228" y="2450"/>
                  </a:lnTo>
                  <a:lnTo>
                    <a:pt x="2231" y="2421"/>
                  </a:lnTo>
                  <a:lnTo>
                    <a:pt x="2258" y="2428"/>
                  </a:lnTo>
                  <a:lnTo>
                    <a:pt x="2275" y="2431"/>
                  </a:lnTo>
                  <a:lnTo>
                    <a:pt x="2284" y="2428"/>
                  </a:lnTo>
                  <a:lnTo>
                    <a:pt x="2286" y="2421"/>
                  </a:lnTo>
                  <a:lnTo>
                    <a:pt x="2284" y="2411"/>
                  </a:lnTo>
                  <a:lnTo>
                    <a:pt x="2280" y="2400"/>
                  </a:lnTo>
                  <a:lnTo>
                    <a:pt x="2273" y="2387"/>
                  </a:lnTo>
                  <a:lnTo>
                    <a:pt x="2266" y="2375"/>
                  </a:lnTo>
                  <a:lnTo>
                    <a:pt x="2241" y="2307"/>
                  </a:lnTo>
                  <a:lnTo>
                    <a:pt x="2231" y="2239"/>
                  </a:lnTo>
                  <a:lnTo>
                    <a:pt x="2234" y="2170"/>
                  </a:lnTo>
                  <a:lnTo>
                    <a:pt x="2248" y="2099"/>
                  </a:lnTo>
                  <a:lnTo>
                    <a:pt x="2284" y="2065"/>
                  </a:lnTo>
                  <a:lnTo>
                    <a:pt x="2263" y="2000"/>
                  </a:lnTo>
                  <a:lnTo>
                    <a:pt x="2258" y="1936"/>
                  </a:lnTo>
                  <a:lnTo>
                    <a:pt x="2262" y="1873"/>
                  </a:lnTo>
                  <a:lnTo>
                    <a:pt x="2275" y="1808"/>
                  </a:lnTo>
                  <a:lnTo>
                    <a:pt x="2293" y="1744"/>
                  </a:lnTo>
                  <a:lnTo>
                    <a:pt x="2312" y="1680"/>
                  </a:lnTo>
                  <a:lnTo>
                    <a:pt x="2329" y="1615"/>
                  </a:lnTo>
                  <a:lnTo>
                    <a:pt x="2342" y="1549"/>
                  </a:lnTo>
                  <a:lnTo>
                    <a:pt x="2377" y="1515"/>
                  </a:lnTo>
                  <a:lnTo>
                    <a:pt x="2406" y="1515"/>
                  </a:lnTo>
                  <a:lnTo>
                    <a:pt x="2433" y="1511"/>
                  </a:lnTo>
                  <a:lnTo>
                    <a:pt x="2458" y="1505"/>
                  </a:lnTo>
                  <a:lnTo>
                    <a:pt x="2482" y="1496"/>
                  </a:lnTo>
                  <a:lnTo>
                    <a:pt x="2506" y="1483"/>
                  </a:lnTo>
                  <a:lnTo>
                    <a:pt x="2527" y="1469"/>
                  </a:lnTo>
                  <a:lnTo>
                    <a:pt x="2548" y="1454"/>
                  </a:lnTo>
                  <a:lnTo>
                    <a:pt x="2570" y="1440"/>
                  </a:lnTo>
                  <a:lnTo>
                    <a:pt x="2591" y="1424"/>
                  </a:lnTo>
                  <a:lnTo>
                    <a:pt x="2612" y="1409"/>
                  </a:lnTo>
                  <a:lnTo>
                    <a:pt x="2635" y="1395"/>
                  </a:lnTo>
                  <a:lnTo>
                    <a:pt x="2656" y="1381"/>
                  </a:lnTo>
                  <a:lnTo>
                    <a:pt x="2678" y="1371"/>
                  </a:lnTo>
                  <a:lnTo>
                    <a:pt x="2703" y="1361"/>
                  </a:lnTo>
                  <a:lnTo>
                    <a:pt x="2729" y="1357"/>
                  </a:lnTo>
                  <a:lnTo>
                    <a:pt x="2757" y="1354"/>
                  </a:lnTo>
                  <a:lnTo>
                    <a:pt x="2769" y="1349"/>
                  </a:lnTo>
                  <a:lnTo>
                    <a:pt x="2781" y="1342"/>
                  </a:lnTo>
                  <a:lnTo>
                    <a:pt x="2794" y="1335"/>
                  </a:lnTo>
                  <a:lnTo>
                    <a:pt x="2806" y="1329"/>
                  </a:lnTo>
                  <a:lnTo>
                    <a:pt x="2820" y="1322"/>
                  </a:lnTo>
                  <a:lnTo>
                    <a:pt x="2831" y="1315"/>
                  </a:lnTo>
                  <a:lnTo>
                    <a:pt x="2844" y="1309"/>
                  </a:lnTo>
                  <a:lnTo>
                    <a:pt x="2855" y="1302"/>
                  </a:lnTo>
                  <a:lnTo>
                    <a:pt x="2870" y="1297"/>
                  </a:lnTo>
                  <a:lnTo>
                    <a:pt x="2883" y="1294"/>
                  </a:lnTo>
                  <a:lnTo>
                    <a:pt x="2898" y="1291"/>
                  </a:lnTo>
                  <a:lnTo>
                    <a:pt x="2911" y="1289"/>
                  </a:lnTo>
                  <a:lnTo>
                    <a:pt x="2925" y="1284"/>
                  </a:lnTo>
                  <a:lnTo>
                    <a:pt x="2939" y="1277"/>
                  </a:lnTo>
                  <a:lnTo>
                    <a:pt x="2953" y="1266"/>
                  </a:lnTo>
                  <a:lnTo>
                    <a:pt x="2967" y="1249"/>
                  </a:lnTo>
                  <a:lnTo>
                    <a:pt x="2977" y="1246"/>
                  </a:lnTo>
                  <a:lnTo>
                    <a:pt x="2988" y="1246"/>
                  </a:lnTo>
                  <a:lnTo>
                    <a:pt x="2995" y="1253"/>
                  </a:lnTo>
                  <a:lnTo>
                    <a:pt x="3001" y="1264"/>
                  </a:lnTo>
                  <a:lnTo>
                    <a:pt x="3012" y="1263"/>
                  </a:lnTo>
                  <a:lnTo>
                    <a:pt x="3023" y="1259"/>
                  </a:lnTo>
                  <a:lnTo>
                    <a:pt x="3033" y="1255"/>
                  </a:lnTo>
                  <a:lnTo>
                    <a:pt x="3041" y="1248"/>
                  </a:lnTo>
                  <a:lnTo>
                    <a:pt x="3051" y="1241"/>
                  </a:lnTo>
                  <a:lnTo>
                    <a:pt x="3060" y="1232"/>
                  </a:lnTo>
                  <a:lnTo>
                    <a:pt x="3068" y="1227"/>
                  </a:lnTo>
                  <a:lnTo>
                    <a:pt x="3078" y="1220"/>
                  </a:lnTo>
                  <a:lnTo>
                    <a:pt x="3092" y="1218"/>
                  </a:lnTo>
                  <a:lnTo>
                    <a:pt x="3103" y="1218"/>
                  </a:lnTo>
                  <a:lnTo>
                    <a:pt x="3113" y="1220"/>
                  </a:lnTo>
                  <a:lnTo>
                    <a:pt x="3123" y="1223"/>
                  </a:lnTo>
                  <a:lnTo>
                    <a:pt x="3132" y="1227"/>
                  </a:lnTo>
                  <a:lnTo>
                    <a:pt x="3141" y="1230"/>
                  </a:lnTo>
                  <a:lnTo>
                    <a:pt x="3151" y="1232"/>
                  </a:lnTo>
                  <a:lnTo>
                    <a:pt x="3160" y="1236"/>
                  </a:lnTo>
                  <a:lnTo>
                    <a:pt x="3159" y="1199"/>
                  </a:lnTo>
                  <a:lnTo>
                    <a:pt x="3152" y="1169"/>
                  </a:lnTo>
                  <a:lnTo>
                    <a:pt x="3144" y="1144"/>
                  </a:lnTo>
                  <a:lnTo>
                    <a:pt x="3134" y="1120"/>
                  </a:lnTo>
                  <a:lnTo>
                    <a:pt x="3128" y="1098"/>
                  </a:lnTo>
                  <a:lnTo>
                    <a:pt x="3125" y="1071"/>
                  </a:lnTo>
                  <a:lnTo>
                    <a:pt x="3131" y="1040"/>
                  </a:lnTo>
                  <a:lnTo>
                    <a:pt x="3148" y="1000"/>
                  </a:lnTo>
                  <a:lnTo>
                    <a:pt x="3167" y="969"/>
                  </a:lnTo>
                  <a:lnTo>
                    <a:pt x="3179" y="931"/>
                  </a:lnTo>
                  <a:lnTo>
                    <a:pt x="3185" y="890"/>
                  </a:lnTo>
                  <a:lnTo>
                    <a:pt x="3184" y="847"/>
                  </a:lnTo>
                  <a:lnTo>
                    <a:pt x="3174" y="804"/>
                  </a:lnTo>
                  <a:lnTo>
                    <a:pt x="3160" y="764"/>
                  </a:lnTo>
                  <a:lnTo>
                    <a:pt x="3144" y="728"/>
                  </a:lnTo>
                  <a:lnTo>
                    <a:pt x="3124" y="691"/>
                  </a:lnTo>
                  <a:lnTo>
                    <a:pt x="3103" y="659"/>
                  </a:lnTo>
                  <a:lnTo>
                    <a:pt x="3078" y="627"/>
                  </a:lnTo>
                  <a:lnTo>
                    <a:pt x="3050" y="597"/>
                  </a:lnTo>
                  <a:lnTo>
                    <a:pt x="3022" y="568"/>
                  </a:lnTo>
                  <a:lnTo>
                    <a:pt x="2991" y="541"/>
                  </a:lnTo>
                  <a:lnTo>
                    <a:pt x="2960" y="517"/>
                  </a:lnTo>
                  <a:lnTo>
                    <a:pt x="2926" y="494"/>
                  </a:lnTo>
                  <a:lnTo>
                    <a:pt x="2893" y="473"/>
                  </a:lnTo>
                  <a:lnTo>
                    <a:pt x="2859" y="450"/>
                  </a:lnTo>
                  <a:lnTo>
                    <a:pt x="2825" y="431"/>
                  </a:lnTo>
                  <a:lnTo>
                    <a:pt x="2793" y="413"/>
                  </a:lnTo>
                  <a:lnTo>
                    <a:pt x="2760" y="394"/>
                  </a:lnTo>
                  <a:lnTo>
                    <a:pt x="2753" y="387"/>
                  </a:lnTo>
                  <a:lnTo>
                    <a:pt x="2747" y="377"/>
                  </a:lnTo>
                  <a:lnTo>
                    <a:pt x="2741" y="369"/>
                  </a:lnTo>
                  <a:lnTo>
                    <a:pt x="2737" y="360"/>
                  </a:lnTo>
                  <a:lnTo>
                    <a:pt x="2725" y="351"/>
                  </a:lnTo>
                  <a:lnTo>
                    <a:pt x="2713" y="344"/>
                  </a:lnTo>
                  <a:lnTo>
                    <a:pt x="2699" y="338"/>
                  </a:lnTo>
                  <a:lnTo>
                    <a:pt x="2684" y="334"/>
                  </a:lnTo>
                  <a:lnTo>
                    <a:pt x="2667" y="331"/>
                  </a:lnTo>
                  <a:lnTo>
                    <a:pt x="2654" y="324"/>
                  </a:lnTo>
                  <a:lnTo>
                    <a:pt x="2643" y="317"/>
                  </a:lnTo>
                  <a:lnTo>
                    <a:pt x="2635" y="306"/>
                  </a:lnTo>
                  <a:lnTo>
                    <a:pt x="2677" y="281"/>
                  </a:lnTo>
                  <a:lnTo>
                    <a:pt x="2682" y="272"/>
                  </a:lnTo>
                  <a:lnTo>
                    <a:pt x="2682" y="264"/>
                  </a:lnTo>
                  <a:lnTo>
                    <a:pt x="2681" y="258"/>
                  </a:lnTo>
                  <a:lnTo>
                    <a:pt x="2677" y="251"/>
                  </a:lnTo>
                  <a:lnTo>
                    <a:pt x="2472" y="206"/>
                  </a:lnTo>
                  <a:lnTo>
                    <a:pt x="2291" y="0"/>
                  </a:lnTo>
                  <a:lnTo>
                    <a:pt x="2293" y="7"/>
                  </a:lnTo>
                  <a:lnTo>
                    <a:pt x="2300" y="23"/>
                  </a:lnTo>
                  <a:lnTo>
                    <a:pt x="2308" y="45"/>
                  </a:lnTo>
                  <a:lnTo>
                    <a:pt x="2318" y="72"/>
                  </a:lnTo>
                  <a:lnTo>
                    <a:pt x="2325" y="98"/>
                  </a:lnTo>
                  <a:lnTo>
                    <a:pt x="2334" y="121"/>
                  </a:lnTo>
                  <a:lnTo>
                    <a:pt x="2340" y="136"/>
                  </a:lnTo>
                  <a:lnTo>
                    <a:pt x="2342" y="142"/>
                  </a:lnTo>
                  <a:lnTo>
                    <a:pt x="2332" y="146"/>
                  </a:lnTo>
                  <a:lnTo>
                    <a:pt x="2319" y="143"/>
                  </a:lnTo>
                  <a:lnTo>
                    <a:pt x="2304" y="138"/>
                  </a:lnTo>
                  <a:lnTo>
                    <a:pt x="2290" y="131"/>
                  </a:lnTo>
                  <a:lnTo>
                    <a:pt x="2273" y="122"/>
                  </a:lnTo>
                  <a:lnTo>
                    <a:pt x="2258" y="114"/>
                  </a:lnTo>
                  <a:lnTo>
                    <a:pt x="2244" y="110"/>
                  </a:lnTo>
                  <a:lnTo>
                    <a:pt x="2231" y="110"/>
                  </a:lnTo>
                  <a:lnTo>
                    <a:pt x="2206" y="104"/>
                  </a:lnTo>
                  <a:lnTo>
                    <a:pt x="2179" y="100"/>
                  </a:lnTo>
                  <a:lnTo>
                    <a:pt x="2151" y="94"/>
                  </a:lnTo>
                  <a:lnTo>
                    <a:pt x="2125" y="90"/>
                  </a:lnTo>
                  <a:lnTo>
                    <a:pt x="2097" y="86"/>
                  </a:lnTo>
                  <a:lnTo>
                    <a:pt x="2069" y="82"/>
                  </a:lnTo>
                  <a:lnTo>
                    <a:pt x="2042" y="80"/>
                  </a:lnTo>
                  <a:lnTo>
                    <a:pt x="2014" y="76"/>
                  </a:lnTo>
                  <a:lnTo>
                    <a:pt x="1987" y="75"/>
                  </a:lnTo>
                  <a:lnTo>
                    <a:pt x="1961" y="75"/>
                  </a:lnTo>
                  <a:lnTo>
                    <a:pt x="1935" y="75"/>
                  </a:lnTo>
                  <a:lnTo>
                    <a:pt x="1910" y="75"/>
                  </a:lnTo>
                  <a:lnTo>
                    <a:pt x="1884" y="76"/>
                  </a:lnTo>
                  <a:lnTo>
                    <a:pt x="1861" y="79"/>
                  </a:lnTo>
                  <a:lnTo>
                    <a:pt x="1837" y="82"/>
                  </a:lnTo>
                  <a:lnTo>
                    <a:pt x="1815" y="86"/>
                  </a:lnTo>
                  <a:lnTo>
                    <a:pt x="1793" y="98"/>
                  </a:lnTo>
                  <a:lnTo>
                    <a:pt x="1771" y="108"/>
                  </a:lnTo>
                  <a:lnTo>
                    <a:pt x="1750" y="115"/>
                  </a:lnTo>
                  <a:lnTo>
                    <a:pt x="1727" y="122"/>
                  </a:lnTo>
                  <a:lnTo>
                    <a:pt x="1703" y="128"/>
                  </a:lnTo>
                  <a:lnTo>
                    <a:pt x="1677" y="132"/>
                  </a:lnTo>
                  <a:lnTo>
                    <a:pt x="1652" y="136"/>
                  </a:lnTo>
                  <a:lnTo>
                    <a:pt x="1628" y="138"/>
                  </a:lnTo>
                  <a:lnTo>
                    <a:pt x="1603" y="139"/>
                  </a:lnTo>
                  <a:lnTo>
                    <a:pt x="1577" y="141"/>
                  </a:lnTo>
                  <a:lnTo>
                    <a:pt x="1550" y="141"/>
                  </a:lnTo>
                  <a:lnTo>
                    <a:pt x="1524" y="141"/>
                  </a:lnTo>
                  <a:lnTo>
                    <a:pt x="1498" y="141"/>
                  </a:lnTo>
                  <a:lnTo>
                    <a:pt x="1471" y="141"/>
                  </a:lnTo>
                  <a:lnTo>
                    <a:pt x="1445" y="141"/>
                  </a:lnTo>
                  <a:lnTo>
                    <a:pt x="1418" y="141"/>
                  </a:lnTo>
                  <a:lnTo>
                    <a:pt x="1358" y="154"/>
                  </a:lnTo>
                  <a:lnTo>
                    <a:pt x="1298" y="173"/>
                  </a:lnTo>
                  <a:lnTo>
                    <a:pt x="1242" y="192"/>
                  </a:lnTo>
                  <a:lnTo>
                    <a:pt x="1190" y="213"/>
                  </a:lnTo>
                  <a:lnTo>
                    <a:pt x="1138" y="240"/>
                  </a:lnTo>
                  <a:lnTo>
                    <a:pt x="1089" y="266"/>
                  </a:lnTo>
                  <a:lnTo>
                    <a:pt x="1041" y="296"/>
                  </a:lnTo>
                  <a:lnTo>
                    <a:pt x="996" y="328"/>
                  </a:lnTo>
                  <a:lnTo>
                    <a:pt x="952" y="362"/>
                  </a:lnTo>
                  <a:lnTo>
                    <a:pt x="908" y="397"/>
                  </a:lnTo>
                  <a:lnTo>
                    <a:pt x="866" y="435"/>
                  </a:lnTo>
                  <a:lnTo>
                    <a:pt x="824" y="473"/>
                  </a:lnTo>
                  <a:lnTo>
                    <a:pt x="783" y="512"/>
                  </a:lnTo>
                  <a:lnTo>
                    <a:pt x="741" y="551"/>
                  </a:lnTo>
                  <a:lnTo>
                    <a:pt x="701" y="593"/>
                  </a:lnTo>
                  <a:lnTo>
                    <a:pt x="660" y="635"/>
                  </a:lnTo>
                  <a:lnTo>
                    <a:pt x="681" y="635"/>
                  </a:lnTo>
                  <a:lnTo>
                    <a:pt x="692" y="641"/>
                  </a:lnTo>
                  <a:lnTo>
                    <a:pt x="694" y="649"/>
                  </a:lnTo>
                  <a:lnTo>
                    <a:pt x="692" y="662"/>
                  </a:lnTo>
                  <a:lnTo>
                    <a:pt x="653" y="715"/>
                  </a:lnTo>
                  <a:lnTo>
                    <a:pt x="623" y="773"/>
                  </a:lnTo>
                  <a:lnTo>
                    <a:pt x="600" y="836"/>
                  </a:lnTo>
                  <a:lnTo>
                    <a:pt x="580" y="901"/>
                  </a:lnTo>
                  <a:lnTo>
                    <a:pt x="563" y="967"/>
                  </a:lnTo>
                  <a:lnTo>
                    <a:pt x="548" y="1033"/>
                  </a:lnTo>
                  <a:lnTo>
                    <a:pt x="527" y="1096"/>
                  </a:lnTo>
                  <a:lnTo>
                    <a:pt x="503" y="1154"/>
                  </a:lnTo>
                  <a:lnTo>
                    <a:pt x="496" y="1223"/>
                  </a:lnTo>
                  <a:lnTo>
                    <a:pt x="485" y="1291"/>
                  </a:lnTo>
                  <a:lnTo>
                    <a:pt x="471" y="1357"/>
                  </a:lnTo>
                  <a:lnTo>
                    <a:pt x="457" y="1421"/>
                  </a:lnTo>
                  <a:lnTo>
                    <a:pt x="439" y="1486"/>
                  </a:lnTo>
                  <a:lnTo>
                    <a:pt x="419" y="1548"/>
                  </a:lnTo>
                  <a:lnTo>
                    <a:pt x="398" y="1612"/>
                  </a:lnTo>
                  <a:lnTo>
                    <a:pt x="374" y="1678"/>
                  </a:lnTo>
                  <a:lnTo>
                    <a:pt x="380" y="1742"/>
                  </a:lnTo>
                  <a:lnTo>
                    <a:pt x="376" y="1803"/>
                  </a:lnTo>
                  <a:lnTo>
                    <a:pt x="367" y="1860"/>
                  </a:lnTo>
                  <a:lnTo>
                    <a:pt x="353" y="1915"/>
                  </a:lnTo>
                  <a:lnTo>
                    <a:pt x="333" y="1967"/>
                  </a:lnTo>
                  <a:lnTo>
                    <a:pt x="310" y="2018"/>
                  </a:lnTo>
                  <a:lnTo>
                    <a:pt x="283" y="2068"/>
                  </a:lnTo>
                  <a:lnTo>
                    <a:pt x="257" y="2117"/>
                  </a:lnTo>
                  <a:lnTo>
                    <a:pt x="227" y="2164"/>
                  </a:lnTo>
                  <a:lnTo>
                    <a:pt x="199" y="2215"/>
                  </a:lnTo>
                  <a:lnTo>
                    <a:pt x="171" y="2265"/>
                  </a:lnTo>
                  <a:lnTo>
                    <a:pt x="144" y="2318"/>
                  </a:lnTo>
                  <a:lnTo>
                    <a:pt x="123" y="2372"/>
                  </a:lnTo>
                  <a:lnTo>
                    <a:pt x="104" y="2429"/>
                  </a:lnTo>
                  <a:lnTo>
                    <a:pt x="88" y="2488"/>
                  </a:lnTo>
                  <a:lnTo>
                    <a:pt x="80" y="2551"/>
                  </a:lnTo>
                  <a:lnTo>
                    <a:pt x="85" y="2556"/>
                  </a:lnTo>
                  <a:lnTo>
                    <a:pt x="88" y="2561"/>
                  </a:lnTo>
                  <a:lnTo>
                    <a:pt x="92" y="2568"/>
                  </a:lnTo>
                  <a:lnTo>
                    <a:pt x="94" y="2572"/>
                  </a:lnTo>
                  <a:lnTo>
                    <a:pt x="88" y="2600"/>
                  </a:lnTo>
                  <a:lnTo>
                    <a:pt x="84" y="2630"/>
                  </a:lnTo>
                  <a:lnTo>
                    <a:pt x="77" y="2662"/>
                  </a:lnTo>
                  <a:lnTo>
                    <a:pt x="69" y="2693"/>
                  </a:lnTo>
                  <a:lnTo>
                    <a:pt x="54" y="2810"/>
                  </a:lnTo>
                  <a:lnTo>
                    <a:pt x="45" y="2927"/>
                  </a:lnTo>
                  <a:lnTo>
                    <a:pt x="38" y="3046"/>
                  </a:lnTo>
                  <a:lnTo>
                    <a:pt x="32" y="3163"/>
                  </a:lnTo>
                  <a:lnTo>
                    <a:pt x="29" y="3281"/>
                  </a:lnTo>
                  <a:lnTo>
                    <a:pt x="22" y="3401"/>
                  </a:lnTo>
                  <a:lnTo>
                    <a:pt x="13" y="3521"/>
                  </a:lnTo>
                  <a:lnTo>
                    <a:pt x="0" y="3640"/>
                  </a:lnTo>
                  <a:lnTo>
                    <a:pt x="0" y="3664"/>
                  </a:lnTo>
                  <a:lnTo>
                    <a:pt x="1" y="3691"/>
                  </a:lnTo>
                  <a:lnTo>
                    <a:pt x="3" y="3717"/>
                  </a:lnTo>
                  <a:lnTo>
                    <a:pt x="7" y="3744"/>
                  </a:lnTo>
                  <a:lnTo>
                    <a:pt x="13" y="3772"/>
                  </a:lnTo>
                  <a:lnTo>
                    <a:pt x="22" y="3797"/>
                  </a:lnTo>
                  <a:lnTo>
                    <a:pt x="39" y="3823"/>
                  </a:lnTo>
                  <a:lnTo>
                    <a:pt x="63" y="3848"/>
                  </a:lnTo>
                  <a:lnTo>
                    <a:pt x="73" y="3860"/>
                  </a:lnTo>
                  <a:lnTo>
                    <a:pt x="82" y="3874"/>
                  </a:lnTo>
                  <a:lnTo>
                    <a:pt x="91" y="3887"/>
                  </a:lnTo>
                  <a:lnTo>
                    <a:pt x="97" y="3902"/>
                  </a:lnTo>
                  <a:lnTo>
                    <a:pt x="104" y="3919"/>
                  </a:lnTo>
                  <a:lnTo>
                    <a:pt x="107" y="3939"/>
                  </a:lnTo>
                  <a:lnTo>
                    <a:pt x="108" y="3961"/>
                  </a:lnTo>
                  <a:lnTo>
                    <a:pt x="108" y="3988"/>
                  </a:lnTo>
                  <a:lnTo>
                    <a:pt x="113" y="3989"/>
                  </a:lnTo>
                  <a:lnTo>
                    <a:pt x="122" y="3989"/>
                  </a:lnTo>
                  <a:lnTo>
                    <a:pt x="130" y="3986"/>
                  </a:lnTo>
                  <a:lnTo>
                    <a:pt x="141" y="3981"/>
                  </a:lnTo>
                  <a:lnTo>
                    <a:pt x="151" y="3976"/>
                  </a:lnTo>
                  <a:lnTo>
                    <a:pt x="161" y="3971"/>
                  </a:lnTo>
                  <a:lnTo>
                    <a:pt x="169" y="3970"/>
                  </a:lnTo>
                  <a:lnTo>
                    <a:pt x="176" y="3970"/>
                  </a:lnTo>
                  <a:lnTo>
                    <a:pt x="293" y="3807"/>
                  </a:lnTo>
                  <a:lnTo>
                    <a:pt x="307" y="3835"/>
                  </a:lnTo>
                  <a:lnTo>
                    <a:pt x="318" y="3857"/>
                  </a:lnTo>
                  <a:lnTo>
                    <a:pt x="329" y="3877"/>
                  </a:lnTo>
                  <a:lnTo>
                    <a:pt x="341" y="3892"/>
                  </a:lnTo>
                  <a:lnTo>
                    <a:pt x="359" y="3867"/>
                  </a:lnTo>
                  <a:lnTo>
                    <a:pt x="384" y="3836"/>
                  </a:lnTo>
                  <a:lnTo>
                    <a:pt x="413" y="3800"/>
                  </a:lnTo>
                  <a:lnTo>
                    <a:pt x="445" y="3758"/>
                  </a:lnTo>
                  <a:lnTo>
                    <a:pt x="482" y="3713"/>
                  </a:lnTo>
                  <a:lnTo>
                    <a:pt x="520" y="3663"/>
                  </a:lnTo>
                  <a:lnTo>
                    <a:pt x="558" y="3613"/>
                  </a:lnTo>
                  <a:lnTo>
                    <a:pt x="597" y="3562"/>
                  </a:lnTo>
                  <a:lnTo>
                    <a:pt x="636" y="3511"/>
                  </a:lnTo>
                  <a:lnTo>
                    <a:pt x="673" y="3462"/>
                  </a:lnTo>
                  <a:lnTo>
                    <a:pt x="709" y="3413"/>
                  </a:lnTo>
                  <a:lnTo>
                    <a:pt x="741" y="3370"/>
                  </a:lnTo>
                  <a:lnTo>
                    <a:pt x="771" y="3328"/>
                  </a:lnTo>
                  <a:lnTo>
                    <a:pt x="793" y="3294"/>
                  </a:lnTo>
                  <a:lnTo>
                    <a:pt x="813" y="3266"/>
                  </a:lnTo>
                  <a:lnTo>
                    <a:pt x="824" y="3244"/>
                  </a:lnTo>
                  <a:lnTo>
                    <a:pt x="851" y="3216"/>
                  </a:lnTo>
                  <a:lnTo>
                    <a:pt x="880" y="3188"/>
                  </a:lnTo>
                  <a:lnTo>
                    <a:pt x="912" y="3163"/>
                  </a:lnTo>
                  <a:lnTo>
                    <a:pt x="945" y="3138"/>
                  </a:lnTo>
                  <a:lnTo>
                    <a:pt x="981" y="3113"/>
                  </a:lnTo>
                  <a:lnTo>
                    <a:pt x="1017" y="3092"/>
                  </a:lnTo>
                  <a:lnTo>
                    <a:pt x="1057" y="3071"/>
                  </a:lnTo>
                  <a:lnTo>
                    <a:pt x="1097" y="3050"/>
                  </a:lnTo>
                  <a:lnTo>
                    <a:pt x="1136" y="3033"/>
                  </a:lnTo>
                  <a:lnTo>
                    <a:pt x="1176" y="3015"/>
                  </a:lnTo>
                  <a:lnTo>
                    <a:pt x="1215" y="2998"/>
                  </a:lnTo>
                  <a:lnTo>
                    <a:pt x="1255" y="2983"/>
                  </a:lnTo>
                  <a:lnTo>
                    <a:pt x="1293" y="2970"/>
                  </a:lnTo>
                  <a:lnTo>
                    <a:pt x="1331" y="2959"/>
                  </a:lnTo>
                  <a:lnTo>
                    <a:pt x="1368" y="2947"/>
                  </a:lnTo>
                  <a:lnTo>
                    <a:pt x="1402" y="2937"/>
                  </a:lnTo>
                  <a:lnTo>
                    <a:pt x="1435" y="2931"/>
                  </a:lnTo>
                  <a:lnTo>
                    <a:pt x="1467" y="2924"/>
                  </a:lnTo>
                  <a:lnTo>
                    <a:pt x="1502" y="2919"/>
                  </a:lnTo>
                  <a:lnTo>
                    <a:pt x="1539" y="2914"/>
                  </a:lnTo>
                  <a:lnTo>
                    <a:pt x="1575" y="2909"/>
                  </a:lnTo>
                  <a:lnTo>
                    <a:pt x="1612" y="2906"/>
                  </a:lnTo>
                  <a:lnTo>
                    <a:pt x="1648" y="2904"/>
                  </a:lnTo>
                  <a:lnTo>
                    <a:pt x="1686" y="2903"/>
                  </a:lnTo>
                  <a:lnTo>
                    <a:pt x="1722" y="2903"/>
                  </a:lnTo>
                  <a:lnTo>
                    <a:pt x="1760" y="2904"/>
                  </a:lnTo>
                  <a:lnTo>
                    <a:pt x="1797" y="2907"/>
                  </a:lnTo>
                  <a:lnTo>
                    <a:pt x="1833" y="2913"/>
                  </a:lnTo>
                  <a:lnTo>
                    <a:pt x="1867" y="2917"/>
                  </a:lnTo>
                  <a:lnTo>
                    <a:pt x="1902" y="2925"/>
                  </a:lnTo>
                  <a:lnTo>
                    <a:pt x="1935" y="2934"/>
                  </a:lnTo>
                  <a:lnTo>
                    <a:pt x="1968" y="2945"/>
                  </a:lnTo>
                  <a:lnTo>
                    <a:pt x="1999" y="2969"/>
                  </a:lnTo>
                  <a:lnTo>
                    <a:pt x="2029" y="2994"/>
                  </a:lnTo>
                  <a:lnTo>
                    <a:pt x="2059" y="3021"/>
                  </a:lnTo>
                  <a:lnTo>
                    <a:pt x="2087" y="3049"/>
                  </a:lnTo>
                  <a:lnTo>
                    <a:pt x="2113" y="3078"/>
                  </a:lnTo>
                  <a:lnTo>
                    <a:pt x="2137" y="3110"/>
                  </a:lnTo>
                  <a:lnTo>
                    <a:pt x="2162" y="3143"/>
                  </a:lnTo>
                  <a:lnTo>
                    <a:pt x="2185" y="3176"/>
                  </a:lnTo>
                  <a:lnTo>
                    <a:pt x="2196" y="3169"/>
                  </a:lnTo>
                  <a:lnTo>
                    <a:pt x="2206" y="3163"/>
                  </a:lnTo>
                  <a:lnTo>
                    <a:pt x="2213" y="3158"/>
                  </a:lnTo>
                  <a:lnTo>
                    <a:pt x="2224" y="3154"/>
                  </a:lnTo>
                  <a:lnTo>
                    <a:pt x="2234" y="3147"/>
                  </a:lnTo>
                  <a:lnTo>
                    <a:pt x="2241" y="3138"/>
                  </a:lnTo>
                  <a:lnTo>
                    <a:pt x="2252" y="3127"/>
                  </a:lnTo>
                  <a:lnTo>
                    <a:pt x="2262" y="3110"/>
                  </a:lnTo>
                  <a:lnTo>
                    <a:pt x="2269" y="3046"/>
                  </a:lnTo>
                  <a:lnTo>
                    <a:pt x="2273" y="2993"/>
                  </a:lnTo>
                  <a:lnTo>
                    <a:pt x="2272" y="2947"/>
                  </a:lnTo>
                  <a:lnTo>
                    <a:pt x="2265" y="2907"/>
                  </a:lnTo>
                  <a:lnTo>
                    <a:pt x="2255" y="2872"/>
                  </a:lnTo>
                  <a:lnTo>
                    <a:pt x="2241" y="2838"/>
                  </a:lnTo>
                  <a:lnTo>
                    <a:pt x="2225" y="2805"/>
                  </a:lnTo>
                  <a:lnTo>
                    <a:pt x="2206" y="27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481200" y="4538520"/>
              <a:ext cx="618480" cy="660240"/>
            </a:xfrm>
            <a:custGeom>
              <a:avLst/>
              <a:gdLst/>
              <a:ahLst/>
              <a:rect l="l" t="t" r="r" b="b"/>
              <a:pathLst>
                <a:path w="1562" h="1665">
                  <a:moveTo>
                    <a:pt x="0" y="1204"/>
                  </a:moveTo>
                  <a:lnTo>
                    <a:pt x="49" y="1248"/>
                  </a:lnTo>
                  <a:lnTo>
                    <a:pt x="97" y="1287"/>
                  </a:lnTo>
                  <a:lnTo>
                    <a:pt x="146" y="1325"/>
                  </a:lnTo>
                  <a:lnTo>
                    <a:pt x="195" y="1361"/>
                  </a:lnTo>
                  <a:lnTo>
                    <a:pt x="244" y="1396"/>
                  </a:lnTo>
                  <a:lnTo>
                    <a:pt x="293" y="1427"/>
                  </a:lnTo>
                  <a:lnTo>
                    <a:pt x="341" y="1459"/>
                  </a:lnTo>
                  <a:lnTo>
                    <a:pt x="391" y="1487"/>
                  </a:lnTo>
                  <a:lnTo>
                    <a:pt x="440" y="1514"/>
                  </a:lnTo>
                  <a:lnTo>
                    <a:pt x="488" y="1536"/>
                  </a:lnTo>
                  <a:lnTo>
                    <a:pt x="537" y="1559"/>
                  </a:lnTo>
                  <a:lnTo>
                    <a:pt x="585" y="1580"/>
                  </a:lnTo>
                  <a:lnTo>
                    <a:pt x="635" y="1598"/>
                  </a:lnTo>
                  <a:lnTo>
                    <a:pt x="684" y="1614"/>
                  </a:lnTo>
                  <a:lnTo>
                    <a:pt x="732" y="1627"/>
                  </a:lnTo>
                  <a:lnTo>
                    <a:pt x="782" y="1639"/>
                  </a:lnTo>
                  <a:lnTo>
                    <a:pt x="830" y="1648"/>
                  </a:lnTo>
                  <a:lnTo>
                    <a:pt x="879" y="1655"/>
                  </a:lnTo>
                  <a:lnTo>
                    <a:pt x="928" y="1661"/>
                  </a:lnTo>
                  <a:lnTo>
                    <a:pt x="976" y="1665"/>
                  </a:lnTo>
                  <a:lnTo>
                    <a:pt x="1026" y="1665"/>
                  </a:lnTo>
                  <a:lnTo>
                    <a:pt x="1074" y="1665"/>
                  </a:lnTo>
                  <a:lnTo>
                    <a:pt x="1123" y="1661"/>
                  </a:lnTo>
                  <a:lnTo>
                    <a:pt x="1172" y="1655"/>
                  </a:lnTo>
                  <a:lnTo>
                    <a:pt x="1221" y="1648"/>
                  </a:lnTo>
                  <a:lnTo>
                    <a:pt x="1270" y="1639"/>
                  </a:lnTo>
                  <a:lnTo>
                    <a:pt x="1318" y="1627"/>
                  </a:lnTo>
                  <a:lnTo>
                    <a:pt x="1367" y="1612"/>
                  </a:lnTo>
                  <a:lnTo>
                    <a:pt x="1416" y="1595"/>
                  </a:lnTo>
                  <a:lnTo>
                    <a:pt x="1465" y="1577"/>
                  </a:lnTo>
                  <a:lnTo>
                    <a:pt x="1513" y="1556"/>
                  </a:lnTo>
                  <a:lnTo>
                    <a:pt x="1562" y="1533"/>
                  </a:lnTo>
                  <a:lnTo>
                    <a:pt x="1550" y="1455"/>
                  </a:lnTo>
                  <a:lnTo>
                    <a:pt x="1541" y="1368"/>
                  </a:lnTo>
                  <a:lnTo>
                    <a:pt x="1531" y="1273"/>
                  </a:lnTo>
                  <a:lnTo>
                    <a:pt x="1522" y="1172"/>
                  </a:lnTo>
                  <a:lnTo>
                    <a:pt x="1513" y="1064"/>
                  </a:lnTo>
                  <a:lnTo>
                    <a:pt x="1501" y="956"/>
                  </a:lnTo>
                  <a:lnTo>
                    <a:pt x="1490" y="844"/>
                  </a:lnTo>
                  <a:lnTo>
                    <a:pt x="1475" y="733"/>
                  </a:lnTo>
                  <a:lnTo>
                    <a:pt x="1456" y="624"/>
                  </a:lnTo>
                  <a:lnTo>
                    <a:pt x="1437" y="519"/>
                  </a:lnTo>
                  <a:lnTo>
                    <a:pt x="1412" y="419"/>
                  </a:lnTo>
                  <a:lnTo>
                    <a:pt x="1382" y="327"/>
                  </a:lnTo>
                  <a:lnTo>
                    <a:pt x="1347" y="243"/>
                  </a:lnTo>
                  <a:lnTo>
                    <a:pt x="1308" y="169"/>
                  </a:lnTo>
                  <a:lnTo>
                    <a:pt x="1260" y="107"/>
                  </a:lnTo>
                  <a:lnTo>
                    <a:pt x="1207" y="58"/>
                  </a:lnTo>
                  <a:lnTo>
                    <a:pt x="1171" y="44"/>
                  </a:lnTo>
                  <a:lnTo>
                    <a:pt x="1134" y="31"/>
                  </a:lnTo>
                  <a:lnTo>
                    <a:pt x="1100" y="21"/>
                  </a:lnTo>
                  <a:lnTo>
                    <a:pt x="1067" y="14"/>
                  </a:lnTo>
                  <a:lnTo>
                    <a:pt x="1034" y="9"/>
                  </a:lnTo>
                  <a:lnTo>
                    <a:pt x="1001" y="3"/>
                  </a:lnTo>
                  <a:lnTo>
                    <a:pt x="970" y="0"/>
                  </a:lnTo>
                  <a:lnTo>
                    <a:pt x="941" y="0"/>
                  </a:lnTo>
                  <a:lnTo>
                    <a:pt x="910" y="2"/>
                  </a:lnTo>
                  <a:lnTo>
                    <a:pt x="880" y="3"/>
                  </a:lnTo>
                  <a:lnTo>
                    <a:pt x="852" y="9"/>
                  </a:lnTo>
                  <a:lnTo>
                    <a:pt x="824" y="14"/>
                  </a:lnTo>
                  <a:lnTo>
                    <a:pt x="798" y="21"/>
                  </a:lnTo>
                  <a:lnTo>
                    <a:pt x="771" y="30"/>
                  </a:lnTo>
                  <a:lnTo>
                    <a:pt x="746" y="40"/>
                  </a:lnTo>
                  <a:lnTo>
                    <a:pt x="721" y="52"/>
                  </a:lnTo>
                  <a:lnTo>
                    <a:pt x="648" y="108"/>
                  </a:lnTo>
                  <a:lnTo>
                    <a:pt x="578" y="164"/>
                  </a:lnTo>
                  <a:lnTo>
                    <a:pt x="512" y="223"/>
                  </a:lnTo>
                  <a:lnTo>
                    <a:pt x="450" y="285"/>
                  </a:lnTo>
                  <a:lnTo>
                    <a:pt x="391" y="347"/>
                  </a:lnTo>
                  <a:lnTo>
                    <a:pt x="335" y="412"/>
                  </a:lnTo>
                  <a:lnTo>
                    <a:pt x="283" y="481"/>
                  </a:lnTo>
                  <a:lnTo>
                    <a:pt x="237" y="550"/>
                  </a:lnTo>
                  <a:lnTo>
                    <a:pt x="192" y="622"/>
                  </a:lnTo>
                  <a:lnTo>
                    <a:pt x="153" y="697"/>
                  </a:lnTo>
                  <a:lnTo>
                    <a:pt x="117" y="774"/>
                  </a:lnTo>
                  <a:lnTo>
                    <a:pt x="86" y="855"/>
                  </a:lnTo>
                  <a:lnTo>
                    <a:pt x="58" y="938"/>
                  </a:lnTo>
                  <a:lnTo>
                    <a:pt x="34" y="1023"/>
                  </a:lnTo>
                  <a:lnTo>
                    <a:pt x="14" y="1112"/>
                  </a:lnTo>
                  <a:lnTo>
                    <a:pt x="0" y="1204"/>
                  </a:lnTo>
                  <a:close/>
                </a:path>
              </a:pathLst>
            </a:custGeom>
            <a:solidFill>
              <a:srgbClr val="ffe9c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4200120" y="3936600"/>
              <a:ext cx="93240" cy="68400"/>
            </a:xfrm>
            <a:custGeom>
              <a:avLst/>
              <a:gdLst/>
              <a:ahLst/>
              <a:rect l="l" t="t" r="r" b="b"/>
              <a:pathLst>
                <a:path w="234" h="173">
                  <a:moveTo>
                    <a:pt x="232" y="16"/>
                  </a:moveTo>
                  <a:lnTo>
                    <a:pt x="218" y="23"/>
                  </a:lnTo>
                  <a:lnTo>
                    <a:pt x="204" y="30"/>
                  </a:lnTo>
                  <a:lnTo>
                    <a:pt x="196" y="38"/>
                  </a:lnTo>
                  <a:lnTo>
                    <a:pt x="194" y="45"/>
                  </a:lnTo>
                  <a:lnTo>
                    <a:pt x="204" y="72"/>
                  </a:lnTo>
                  <a:lnTo>
                    <a:pt x="214" y="93"/>
                  </a:lnTo>
                  <a:lnTo>
                    <a:pt x="224" y="122"/>
                  </a:lnTo>
                  <a:lnTo>
                    <a:pt x="234" y="173"/>
                  </a:lnTo>
                  <a:lnTo>
                    <a:pt x="194" y="170"/>
                  </a:lnTo>
                  <a:lnTo>
                    <a:pt x="162" y="166"/>
                  </a:lnTo>
                  <a:lnTo>
                    <a:pt x="135" y="159"/>
                  </a:lnTo>
                  <a:lnTo>
                    <a:pt x="112" y="153"/>
                  </a:lnTo>
                  <a:lnTo>
                    <a:pt x="92" y="148"/>
                  </a:lnTo>
                  <a:lnTo>
                    <a:pt x="71" y="142"/>
                  </a:lnTo>
                  <a:lnTo>
                    <a:pt x="50" y="141"/>
                  </a:lnTo>
                  <a:lnTo>
                    <a:pt x="25" y="145"/>
                  </a:lnTo>
                  <a:lnTo>
                    <a:pt x="19" y="141"/>
                  </a:lnTo>
                  <a:lnTo>
                    <a:pt x="13" y="138"/>
                  </a:lnTo>
                  <a:lnTo>
                    <a:pt x="5" y="135"/>
                  </a:lnTo>
                  <a:lnTo>
                    <a:pt x="0" y="128"/>
                  </a:lnTo>
                  <a:lnTo>
                    <a:pt x="41" y="114"/>
                  </a:lnTo>
                  <a:lnTo>
                    <a:pt x="74" y="100"/>
                  </a:lnTo>
                  <a:lnTo>
                    <a:pt x="99" y="83"/>
                  </a:lnTo>
                  <a:lnTo>
                    <a:pt x="119" y="66"/>
                  </a:lnTo>
                  <a:lnTo>
                    <a:pt x="135" y="51"/>
                  </a:lnTo>
                  <a:lnTo>
                    <a:pt x="152" y="34"/>
                  </a:lnTo>
                  <a:lnTo>
                    <a:pt x="169" y="17"/>
                  </a:lnTo>
                  <a:lnTo>
                    <a:pt x="193" y="0"/>
                  </a:lnTo>
                  <a:lnTo>
                    <a:pt x="200" y="2"/>
                  </a:lnTo>
                  <a:lnTo>
                    <a:pt x="213" y="7"/>
                  </a:lnTo>
                  <a:lnTo>
                    <a:pt x="225" y="14"/>
                  </a:lnTo>
                  <a:lnTo>
                    <a:pt x="2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24" name=""/>
          <p:cNvGraphicFramePr/>
          <p:nvPr/>
        </p:nvGraphicFramePr>
        <p:xfrm>
          <a:off x="4800600" y="3276720"/>
          <a:ext cx="340344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276720"/>
                    <a:ext cx="340344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6" name=""/>
          <p:cNvSpPr/>
          <p:nvPr/>
        </p:nvSpPr>
        <p:spPr>
          <a:xfrm>
            <a:off x="1752480" y="2057400"/>
            <a:ext cx="1981440" cy="1066680"/>
          </a:xfrm>
          <a:prstGeom prst="cloudCallout">
            <a:avLst>
              <a:gd name="adj1" fmla="val -50800"/>
              <a:gd name="adj2" fmla="val 82291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7" name=""/>
          <p:cNvGrpSpPr/>
          <p:nvPr/>
        </p:nvGrpSpPr>
        <p:grpSpPr>
          <a:xfrm>
            <a:off x="2133720" y="2403360"/>
            <a:ext cx="1066320" cy="339840"/>
            <a:chOff x="2133720" y="2403360"/>
            <a:chExt cx="1066320" cy="339840"/>
          </a:xfrm>
        </p:grpSpPr>
        <p:sp>
          <p:nvSpPr>
            <p:cNvPr id="3128" name=""/>
            <p:cNvSpPr/>
            <p:nvPr/>
          </p:nvSpPr>
          <p:spPr>
            <a:xfrm>
              <a:off x="2143440" y="2525760"/>
              <a:ext cx="42480" cy="7452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143440" y="2525760"/>
              <a:ext cx="42480" cy="7452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3101040" y="2574720"/>
              <a:ext cx="86760" cy="446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101040" y="2574720"/>
              <a:ext cx="86760" cy="446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3101040" y="2570040"/>
              <a:ext cx="64440" cy="4428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3101040" y="2570040"/>
              <a:ext cx="64440" cy="4428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188080" y="2419200"/>
              <a:ext cx="725040" cy="11268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188080" y="2419200"/>
              <a:ext cx="725040" cy="11268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210400" y="2563560"/>
              <a:ext cx="906840" cy="17964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210400" y="2563560"/>
              <a:ext cx="906840" cy="17964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143440" y="2403360"/>
              <a:ext cx="1028520" cy="29376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143440" y="2403360"/>
              <a:ext cx="1028520" cy="29376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3066840" y="2609640"/>
              <a:ext cx="133200" cy="8280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3066840" y="2609640"/>
              <a:ext cx="133200" cy="8280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 flipH="1">
              <a:off x="3093120" y="2685960"/>
              <a:ext cx="9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H="1">
              <a:off x="3074760" y="2619360"/>
              <a:ext cx="12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H="1">
              <a:off x="3088800" y="2641320"/>
              <a:ext cx="11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133720" y="2587680"/>
              <a:ext cx="153360" cy="8568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133720" y="2587680"/>
              <a:ext cx="153360" cy="8568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149560" y="2654280"/>
              <a:ext cx="84600" cy="1116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133720" y="2625480"/>
              <a:ext cx="1087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133720" y="2598480"/>
              <a:ext cx="13716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57760" y="2628720"/>
              <a:ext cx="86760" cy="874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57760" y="2628720"/>
              <a:ext cx="86760" cy="874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291040" y="2633400"/>
              <a:ext cx="84600" cy="828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291040" y="2633400"/>
              <a:ext cx="84600" cy="828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173680" y="2549520"/>
              <a:ext cx="959760" cy="2376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176200" y="2558880"/>
              <a:ext cx="933120" cy="1764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355840" y="2411280"/>
              <a:ext cx="54972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410200" y="2601720"/>
              <a:ext cx="515160" cy="792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422800" y="2619360"/>
              <a:ext cx="492840" cy="468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867040" y="2527200"/>
              <a:ext cx="1404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580120" y="2412720"/>
              <a:ext cx="27720" cy="26352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3320" y="2597040"/>
              <a:ext cx="9720" cy="792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628360" y="2554200"/>
              <a:ext cx="42480" cy="1440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628360" y="2554200"/>
              <a:ext cx="42480" cy="1440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628360" y="2554200"/>
              <a:ext cx="4248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376000" y="2546280"/>
              <a:ext cx="42480" cy="1440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376000" y="2546280"/>
              <a:ext cx="42480" cy="1440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376000" y="2546280"/>
              <a:ext cx="42480" cy="936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376000" y="2546280"/>
              <a:ext cx="4248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596320" y="2423880"/>
              <a:ext cx="222120" cy="10656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596320" y="2423880"/>
              <a:ext cx="222120" cy="10656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406240" y="2423880"/>
              <a:ext cx="17388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406240" y="2423880"/>
              <a:ext cx="17388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02600" y="2490840"/>
              <a:ext cx="54360" cy="3960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802600" y="2490840"/>
              <a:ext cx="54360" cy="3960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374200" y="2476440"/>
              <a:ext cx="39960" cy="460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374200" y="2476440"/>
              <a:ext cx="39960" cy="460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901240" y="2525760"/>
              <a:ext cx="237960" cy="4284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159640" y="2512800"/>
              <a:ext cx="696960" cy="2088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156040" y="2412720"/>
              <a:ext cx="234000" cy="9540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149560" y="2546280"/>
              <a:ext cx="24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2143440" y="2558880"/>
              <a:ext cx="32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143440" y="2577960"/>
              <a:ext cx="34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2236680" y="2423880"/>
              <a:ext cx="18576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2351520" y="2419200"/>
              <a:ext cx="576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260800" y="2433600"/>
              <a:ext cx="14076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260800" y="2433600"/>
              <a:ext cx="14076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792520" y="2492280"/>
              <a:ext cx="29880" cy="38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792520" y="2492280"/>
              <a:ext cx="29880" cy="38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9" name=""/>
          <p:cNvSpPr/>
          <p:nvPr/>
        </p:nvSpPr>
        <p:spPr>
          <a:xfrm>
            <a:off x="4038480" y="1981080"/>
            <a:ext cx="1981440" cy="1067040"/>
          </a:xfrm>
          <a:prstGeom prst="cloudCallout">
            <a:avLst>
              <a:gd name="adj1" fmla="val -50800"/>
              <a:gd name="adj2" fmla="val 82291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0" name="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990720" cy="561960"/>
          </a:xfrm>
          <a:prstGeom prst="rect">
            <a:avLst/>
          </a:prstGeom>
          <a:ln w="0">
            <a:noFill/>
          </a:ln>
        </p:spPr>
      </p:pic>
      <p:sp>
        <p:nvSpPr>
          <p:cNvPr id="3191" name=""/>
          <p:cNvSpPr/>
          <p:nvPr/>
        </p:nvSpPr>
        <p:spPr>
          <a:xfrm>
            <a:off x="6248520" y="1905120"/>
            <a:ext cx="1981080" cy="1066680"/>
          </a:xfrm>
          <a:prstGeom prst="cloudCallout">
            <a:avLst>
              <a:gd name="adj1" fmla="val -21074"/>
              <a:gd name="adj2" fmla="val 90773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2" name="" descr=""/>
          <p:cNvPicPr/>
          <p:nvPr/>
        </p:nvPicPr>
        <p:blipFill>
          <a:blip r:embed="rId4"/>
          <a:stretch/>
        </p:blipFill>
        <p:spPr>
          <a:xfrm>
            <a:off x="6781680" y="2133720"/>
            <a:ext cx="990720" cy="485640"/>
          </a:xfrm>
          <a:prstGeom prst="rect">
            <a:avLst/>
          </a:prstGeom>
          <a:ln w="0">
            <a:noFill/>
          </a:ln>
        </p:spPr>
      </p:pic>
      <p:sp>
        <p:nvSpPr>
          <p:cNvPr id="3193" name=""/>
          <p:cNvSpPr/>
          <p:nvPr/>
        </p:nvSpPr>
        <p:spPr>
          <a:xfrm>
            <a:off x="2133720" y="26668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7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4343400" y="257508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32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6688440" y="2514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6" name="" descr=""/>
          <p:cNvPicPr/>
          <p:nvPr/>
        </p:nvPicPr>
        <p:blipFill>
          <a:blip r:embed="rId5"/>
          <a:stretch/>
        </p:blipFill>
        <p:spPr>
          <a:xfrm>
            <a:off x="1219320" y="4876920"/>
            <a:ext cx="3352680" cy="1245960"/>
          </a:xfrm>
          <a:prstGeom prst="rect">
            <a:avLst/>
          </a:prstGeom>
          <a:ln w="0">
            <a:noFill/>
          </a:ln>
        </p:spPr>
      </p:pic>
      <p:sp>
        <p:nvSpPr>
          <p:cNvPr id="3197" name=""/>
          <p:cNvSpPr/>
          <p:nvPr/>
        </p:nvSpPr>
        <p:spPr>
          <a:xfrm>
            <a:off x="4652280" y="55119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6" dur="indefinite" restart="never" nodeType="tmRoot">
          <p:childTnLst>
            <p:seq>
              <p:cTn id="4367" dur="indefinite" nodeType="mainSeq">
                <p:childTnLst>
                  <p:par>
                    <p:cTn id="4368" fill="hold">
                      <p:stCondLst>
                        <p:cond delay="indefinite"/>
                      </p:stCondLst>
                      <p:childTnLst>
                        <p:par>
                          <p:cTn id="4369" fill="hold">
                            <p:stCondLst>
                              <p:cond delay="0"/>
                            </p:stCondLst>
                            <p:childTnLst>
                              <p:par>
                                <p:cTn id="4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2" dur="500"/>
                                        <p:tgtEl>
                                          <p:spTgt spid="3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3" fill="hold">
                            <p:stCondLst>
                              <p:cond delay="500"/>
                            </p:stCondLst>
                            <p:childTnLst>
                              <p:par>
                                <p:cTn id="43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6" dur="500"/>
                                        <p:tgtEl>
                                          <p:spTgt spid="3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0" dur="500"/>
                                        <p:tgtEl>
                                          <p:spTgt spid="3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1" fill="hold">
                      <p:stCondLst>
                        <p:cond delay="indefinite"/>
                      </p:stCondLst>
                      <p:childTnLst>
                        <p:par>
                          <p:cTn id="4382" fill="hold">
                            <p:stCondLst>
                              <p:cond delay="0"/>
                            </p:stCondLst>
                            <p:childTnLst>
                              <p:par>
                                <p:cTn id="4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5" dur="500"/>
                                        <p:tgtEl>
                                          <p:spTgt spid="3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6" fill="hold">
                            <p:stCondLst>
                              <p:cond delay="500"/>
                            </p:stCondLst>
                            <p:childTnLst>
                              <p:par>
                                <p:cTn id="4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9" dur="500" fill="hold"/>
                                        <p:tgtEl>
                                          <p:spTgt spid="3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0" dur="500" fill="hold"/>
                                        <p:tgtEl>
                                          <p:spTgt spid="3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4" dur="500"/>
                                        <p:tgtEl>
                                          <p:spTgt spid="3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5" fill="hold">
                      <p:stCondLst>
                        <p:cond delay="indefinite"/>
                      </p:stCondLst>
                      <p:childTnLst>
                        <p:par>
                          <p:cTn id="4396" fill="hold">
                            <p:stCondLst>
                              <p:cond delay="0"/>
                            </p:stCondLst>
                            <p:childTnLst>
                              <p:par>
                                <p:cTn id="4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9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3" dur="500" fill="hold"/>
                                        <p:tgtEl>
                                          <p:spTgt spid="3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4" dur="500" fill="hold"/>
                                        <p:tgtEl>
                                          <p:spTgt spid="3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8" dur="500"/>
                                        <p:tgtEl>
                                          <p:spTgt spid="3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9" fill="hold">
                      <p:stCondLst>
                        <p:cond delay="indefinite"/>
                      </p:stCondLst>
                      <p:childTnLst>
                        <p:par>
                          <p:cTn id="4410" fill="hold">
                            <p:stCondLst>
                              <p:cond delay="0"/>
                            </p:stCondLst>
                            <p:childTnLst>
                              <p:par>
                                <p:cTn id="4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3" dur="500"/>
                                        <p:tgtEl>
                                          <p:spTgt spid="3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4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7" dur="500" fill="hold"/>
                                        <p:tgtEl>
                                          <p:spTgt spid="3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8" dur="500" fill="hold"/>
                                        <p:tgtEl>
                                          <p:spTgt spid="3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2" dur="500"/>
                                        <p:tgtEl>
                                          <p:spTgt spid="3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3" fill="hold">
                      <p:stCondLst>
                        <p:cond delay="indefinite"/>
                      </p:stCondLst>
                      <p:childTnLst>
                        <p:par>
                          <p:cTn id="4424" fill="hold">
                            <p:stCondLst>
                              <p:cond delay="0"/>
                            </p:stCondLst>
                            <p:childTnLst>
                              <p:par>
                                <p:cTn id="44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7" dur="500" fill="hold"/>
                                        <p:tgtEl>
                                          <p:spTgt spid="3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8" dur="500" fill="hold"/>
                                        <p:tgtEl>
                                          <p:spTgt spid="3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9" fill="hold">
                      <p:stCondLst>
                        <p:cond delay="indefinite"/>
                      </p:stCondLst>
                      <p:childTnLst>
                        <p:par>
                          <p:cTn id="4430" fill="hold">
                            <p:stCondLst>
                              <p:cond delay="0"/>
                            </p:stCondLst>
                            <p:childTnLst>
                              <p:par>
                                <p:cTn id="44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33" dur="500"/>
                                        <p:tgtEl>
                                          <p:spTgt spid="3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lds/produces resource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8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 resou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 resource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if not available: 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 resource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 message …,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send (messag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ceive (messag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… use message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248520" y="2514600"/>
            <a:ext cx="20034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nsum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sour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´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s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        // Currently available 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Ma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         // Maximum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// Allocated to the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Ne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        // Need = Max -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: X[i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-th row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838080" y="5562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qu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   // Requests of waiting pro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762120" y="5486400"/>
            <a:ext cx="7543800" cy="0"/>
          </a:xfrm>
          <a:prstGeom prst="line">
            <a:avLst/>
          </a:prstGeom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762120" y="4267080"/>
            <a:ext cx="7543800" cy="0"/>
          </a:xfrm>
          <a:prstGeom prst="line">
            <a:avLst/>
          </a:prstGeom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4" dur="indefinite" restart="never" nodeType="tmRoot">
          <p:childTnLst>
            <p:seq>
              <p:cTn id="4435" dur="indefinite" nodeType="mainSeq">
                <p:childTnLst>
                  <p:par>
                    <p:cTn id="4436" fill="hold">
                      <p:stCondLst>
                        <p:cond delay="indefinite"/>
                      </p:stCondLst>
                      <p:childTnLst>
                        <p:par>
                          <p:cTn id="4437" fill="hold">
                            <p:stCondLst>
                              <p:cond delay="0"/>
                            </p:stCondLst>
                            <p:childTnLst>
                              <p:par>
                                <p:cTn id="44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0" dur="500"/>
                                        <p:tgtEl>
                                          <p:spTgt spid="3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4" fill="hold">
                      <p:stCondLst>
                        <p:cond delay="indefinite"/>
                      </p:stCondLst>
                      <p:childTnLst>
                        <p:par>
                          <p:cTn id="4445" fill="hold">
                            <p:stCondLst>
                              <p:cond delay="0"/>
                            </p:stCondLst>
                            <p:childTnLst>
                              <p:par>
                                <p:cTn id="4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1" dur="500"/>
                                        <p:tgtEl>
                                          <p:spTgt spid="3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´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af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in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= { false, false, …, false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ail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:   ! Finish[i]   &amp;&amp;   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ork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k +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[i] = tru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: Finish[i] == true ? true : false)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5493600" y="1523880"/>
            <a:ext cx="306072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5954040" y="4848840"/>
            <a:ext cx="71856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397" y="30657"/>
                </a:moveTo>
                <a:lnTo>
                  <a:pt x="-2225" y="5936"/>
                </a:lnTo>
              </a:path>
              <a:path w="21600" h="21600">
                <a:moveTo>
                  <a:pt x="-2225" y="0"/>
                </a:moveTo>
                <a:lnTo>
                  <a:pt x="-2225" y="21600"/>
                </a:ln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S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7188480" y="4848840"/>
            <a:ext cx="10310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12" y="29118"/>
                </a:moveTo>
                <a:lnTo>
                  <a:pt x="-1566" y="5936"/>
                </a:lnTo>
              </a:path>
              <a:path w="21600" h="21600">
                <a:moveTo>
                  <a:pt x="-1566" y="0"/>
                </a:moveTo>
                <a:lnTo>
                  <a:pt x="-1566" y="21600"/>
                </a:lnTo>
              </a:path>
            </a:pathLst>
          </a:cu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ns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2" dur="indefinite" restart="never" nodeType="tmRoot">
          <p:childTnLst>
            <p:seq>
              <p:cTn id="4453" dur="indefinite" nodeType="mainSeq">
                <p:childTnLst>
                  <p:par>
                    <p:cTn id="4454" fill="hold">
                      <p:stCondLst>
                        <p:cond delay="0"/>
                      </p:stCondLst>
                      <p:childTnLst>
                        <p:par>
                          <p:cTn id="4455" fill="hold">
                            <p:stCondLst>
                              <p:cond delay="0"/>
                            </p:stCondLst>
                            <p:childTnLst>
                              <p:par>
                                <p:cTn id="44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8" dur="500"/>
                                        <p:tgtEl>
                                          <p:spTgt spid="3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1" dur="500"/>
                                        <p:tgtEl>
                                          <p:spTgt spid="3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2" fill="hold">
                      <p:stCondLst>
                        <p:cond delay="indefinite"/>
                      </p:stCondLst>
                      <p:childTnLst>
                        <p:par>
                          <p:cTn id="4463" fill="hold">
                            <p:stCondLst>
                              <p:cond delay="0"/>
                            </p:stCondLst>
                            <p:childTnLst>
                              <p:par>
                                <p:cTn id="44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6" dur="500"/>
                                        <p:tgtEl>
                                          <p:spTgt spid="3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9" dur="500"/>
                                        <p:tgtEl>
                                          <p:spTgt spid="3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0" fill="hold">
                      <p:stCondLst>
                        <p:cond delay="indefinite"/>
                      </p:stCondLst>
                      <p:childTnLst>
                        <p:par>
                          <p:cTn id="4471" fill="hold">
                            <p:stCondLst>
                              <p:cond delay="0"/>
                            </p:stCondLst>
                            <p:childTnLst>
                              <p:par>
                                <p:cTn id="44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4" dur="500"/>
                                        <p:tgtEl>
                                          <p:spTgt spid="3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5" fill="hold">
                      <p:stCondLst>
                        <p:cond delay="indefinite"/>
                      </p:stCondLst>
                      <p:childTnLst>
                        <p:par>
                          <p:cTn id="4476" fill="hold">
                            <p:stCondLst>
                              <p:cond delay="0"/>
                            </p:stCondLst>
                            <p:childTnLst>
                              <p:par>
                                <p:cTn id="44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9" dur="500"/>
                                        <p:tgtEl>
                                          <p:spTgt spid="3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2" dur="500"/>
                                        <p:tgtEl>
                                          <p:spTgt spid="3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3" fill="hold">
                      <p:stCondLst>
                        <p:cond delay="indefinite"/>
                      </p:stCondLst>
                      <p:childTnLst>
                        <p:par>
                          <p:cTn id="4484" fill="hold">
                            <p:stCondLst>
                              <p:cond delay="0"/>
                            </p:stCondLst>
                            <p:childTnLst>
                              <p:par>
                                <p:cTn id="44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7" dur="500"/>
                                        <p:tgtEl>
                                          <p:spTgt spid="3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4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1" dur="500"/>
                                        <p:tgtEl>
                                          <p:spTgt spid="3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2" fill="hold">
                      <p:stCondLst>
                        <p:cond delay="indefinite"/>
                      </p:stCondLst>
                      <p:childTnLst>
                        <p:par>
                          <p:cTn id="4493" fill="hold">
                            <p:stCondLst>
                              <p:cond delay="0"/>
                            </p:stCondLst>
                            <p:childTnLst>
                              <p:par>
                                <p:cTn id="44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6" dur="500"/>
                                        <p:tgtEl>
                                          <p:spTgt spid="3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7" fill="hold">
                      <p:stCondLst>
                        <p:cond delay="indefinite"/>
                      </p:stCondLst>
                      <p:childTnLst>
                        <p:par>
                          <p:cTn id="4498" fill="hold">
                            <p:stCondLst>
                              <p:cond delay="0"/>
                            </p:stCondLst>
                            <p:childTnLst>
                              <p:par>
                                <p:cTn id="4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1" dur="500"/>
                                        <p:tgtEl>
                                          <p:spTgt spid="3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2" fill="hold">
                      <p:stCondLst>
                        <p:cond delay="indefinite"/>
                      </p:stCondLst>
                      <p:childTnLst>
                        <p:par>
                          <p:cTn id="4503" fill="hold">
                            <p:stCondLst>
                              <p:cond delay="0"/>
                            </p:stCondLst>
                            <p:childTnLst>
                              <p:par>
                                <p:cTn id="4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6" dur="500"/>
                                        <p:tgtEl>
                                          <p:spTgt spid="3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7" fill="hold">
                      <p:stCondLst>
                        <p:cond delay="indefinite"/>
                      </p:stCondLst>
                      <p:childTnLst>
                        <p:par>
                          <p:cTn id="4508" fill="hold">
                            <p:stCondLst>
                              <p:cond delay="0"/>
                            </p:stCondLst>
                            <p:childTnLst>
                              <p:par>
                                <p:cTn id="4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1" dur="500" fill="hold"/>
                                        <p:tgtEl>
                                          <p:spTgt spid="3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2" dur="500" fill="hold"/>
                                        <p:tgtEl>
                                          <p:spTgt spid="3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"/>
          <p:cNvSpPr/>
          <p:nvPr/>
        </p:nvSpPr>
        <p:spPr>
          <a:xfrm>
            <a:off x="762120" y="1523880"/>
            <a:ext cx="3504960" cy="6098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´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requests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! (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 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! (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vailable))  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= Availab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!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Sa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) {  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Available = Available +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0, 0, …, 0}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1" name=""/>
          <p:cNvGrpSpPr/>
          <p:nvPr/>
        </p:nvGrpSpPr>
        <p:grpSpPr>
          <a:xfrm>
            <a:off x="6248520" y="3352680"/>
            <a:ext cx="1884960" cy="1067040"/>
            <a:chOff x="6248520" y="3352680"/>
            <a:chExt cx="1884960" cy="1067040"/>
          </a:xfrm>
        </p:grpSpPr>
        <p:sp>
          <p:nvSpPr>
            <p:cNvPr id="3212" name=""/>
            <p:cNvSpPr/>
            <p:nvPr/>
          </p:nvSpPr>
          <p:spPr>
            <a:xfrm>
              <a:off x="6248520" y="335268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6553800" y="3564000"/>
              <a:ext cx="157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9f"/>
                  </a:solidFill>
                  <a:latin typeface="Arial"/>
                </a:rPr>
                <a:t>Condit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9f"/>
                  </a:solidFill>
                  <a:latin typeface="Arial"/>
                </a:rPr>
                <a:t>Al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4" name=""/>
          <p:cNvGrpSpPr/>
          <p:nvPr/>
        </p:nvGrpSpPr>
        <p:grpSpPr>
          <a:xfrm>
            <a:off x="7851600" y="4572000"/>
            <a:ext cx="1062000" cy="1066680"/>
            <a:chOff x="7851600" y="4572000"/>
            <a:chExt cx="1062000" cy="1066680"/>
          </a:xfrm>
        </p:grpSpPr>
        <p:sp>
          <p:nvSpPr>
            <p:cNvPr id="3215" name=""/>
            <p:cNvSpPr/>
            <p:nvPr/>
          </p:nvSpPr>
          <p:spPr>
            <a:xfrm>
              <a:off x="7851600" y="4572000"/>
              <a:ext cx="228600" cy="10666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8082000" y="486108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9f"/>
                  </a:solidFill>
                  <a:latin typeface="Arial"/>
                </a:rPr>
                <a:t>U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3" dur="indefinite" restart="never" nodeType="tmRoot">
          <p:childTnLst>
            <p:seq>
              <p:cTn id="4514" dur="indefinite" nodeType="mainSeq">
                <p:childTnLst>
                  <p:par>
                    <p:cTn id="4515" fill="hold">
                      <p:stCondLst>
                        <p:cond delay="indefinite"/>
                      </p:stCondLst>
                      <p:childTnLst>
                        <p:par>
                          <p:cTn id="4516" fill="hold">
                            <p:stCondLst>
                              <p:cond delay="0"/>
                            </p:stCondLst>
                            <p:childTnLst>
                              <p:par>
                                <p:cTn id="4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9" fill="hold">
                            <p:stCondLst>
                              <p:cond delay="500"/>
                            </p:stCondLst>
                            <p:childTnLst>
                              <p:par>
                                <p:cTn id="45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2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3" fill="hold">
                      <p:stCondLst>
                        <p:cond delay="indefinite"/>
                      </p:stCondLst>
                      <p:childTnLst>
                        <p:par>
                          <p:cTn id="4524" fill="hold">
                            <p:stCondLst>
                              <p:cond delay="0"/>
                            </p:stCondLst>
                            <p:childTnLst>
                              <p:par>
                                <p:cTn id="45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27" dur="500"/>
                                        <p:tgtEl>
                                          <p:spTgt spid="3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8" fill="hold">
                      <p:stCondLst>
                        <p:cond delay="indefinite"/>
                      </p:stCondLst>
                      <p:childTnLst>
                        <p:par>
                          <p:cTn id="4529" fill="hold">
                            <p:stCondLst>
                              <p:cond delay="0"/>
                            </p:stCondLst>
                            <p:childTnLst>
                              <p:par>
                                <p:cTn id="45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32" dur="500"/>
                                        <p:tgtEl>
                                          <p:spTgt spid="3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"/>
          <p:cNvSpPr/>
          <p:nvPr/>
        </p:nvSpPr>
        <p:spPr>
          <a:xfrm>
            <a:off x="4549680" y="5454720"/>
            <a:ext cx="3222720" cy="488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762120" y="1523880"/>
            <a:ext cx="3504960" cy="6098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´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lea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 (Amoun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 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ount 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= Available + Amount 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mount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5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: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0,...,0} 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requ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2057400" y="4495680"/>
            <a:ext cx="198108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588" y="33526"/>
                </a:moveTo>
                <a:lnTo>
                  <a:pt x="-831" y="3456"/>
                </a:lnTo>
              </a:path>
              <a:path w="21600" h="21600">
                <a:moveTo>
                  <a:pt x="-831" y="0"/>
                </a:moveTo>
                <a:lnTo>
                  <a:pt x="-831" y="21600"/>
                </a:lnTo>
              </a:path>
            </a:pathLst>
          </a:cu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y now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later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2" name=""/>
          <p:cNvGrpSpPr/>
          <p:nvPr/>
        </p:nvGrpSpPr>
        <p:grpSpPr>
          <a:xfrm>
            <a:off x="5867280" y="2971800"/>
            <a:ext cx="2744640" cy="1066680"/>
            <a:chOff x="5867280" y="2971800"/>
            <a:chExt cx="2744640" cy="1066680"/>
          </a:xfrm>
        </p:grpSpPr>
        <p:sp>
          <p:nvSpPr>
            <p:cNvPr id="3223" name=""/>
            <p:cNvSpPr/>
            <p:nvPr/>
          </p:nvSpPr>
          <p:spPr>
            <a:xfrm>
              <a:off x="5867280" y="2971800"/>
              <a:ext cx="228600" cy="10666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094800" y="3260880"/>
              <a:ext cx="25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9f"/>
                  </a:solidFill>
                  <a:latin typeface="Arial"/>
                </a:rPr>
                <a:t>Release Resour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5" name=""/>
          <p:cNvSpPr/>
          <p:nvPr/>
        </p:nvSpPr>
        <p:spPr>
          <a:xfrm>
            <a:off x="5105520" y="4156200"/>
            <a:ext cx="304776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52" y="-6018"/>
                </a:moveTo>
                <a:lnTo>
                  <a:pt x="-540" y="3456"/>
                </a:lnTo>
              </a:path>
              <a:path w="21600" h="21600">
                <a:moveTo>
                  <a:pt x="-540" y="0"/>
                </a:moveTo>
                <a:lnTo>
                  <a:pt x="-540" y="21600"/>
                </a:lnTo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request it again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3" dur="indefinite" restart="never" nodeType="tmRoot">
          <p:childTnLst>
            <p:seq>
              <p:cTn id="4534" dur="indefinite" nodeType="mainSeq">
                <p:childTnLst>
                  <p:par>
                    <p:cTn id="4535" fill="hold">
                      <p:stCondLst>
                        <p:cond delay="indefinite"/>
                      </p:stCondLst>
                      <p:childTnLst>
                        <p:par>
                          <p:cTn id="4536" fill="hold">
                            <p:stCondLst>
                              <p:cond delay="0"/>
                            </p:stCondLst>
                            <p:childTnLst>
                              <p:par>
                                <p:cTn id="4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9" fill="hold">
                            <p:stCondLst>
                              <p:cond delay="500"/>
                            </p:stCondLst>
                            <p:childTnLst>
                              <p:par>
                                <p:cTn id="4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45" dur="500"/>
                                        <p:tgtEl>
                                          <p:spTgt spid="3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6" fill="hold">
                      <p:stCondLst>
                        <p:cond delay="indefinite"/>
                      </p:stCondLst>
                      <p:childTnLst>
                        <p:par>
                          <p:cTn id="4547" fill="hold">
                            <p:stCondLst>
                              <p:cond delay="0"/>
                            </p:stCondLst>
                            <p:childTnLst>
                              <p:par>
                                <p:cTn id="45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0" dur="5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1" fill="hold">
                      <p:stCondLst>
                        <p:cond delay="indefinite"/>
                      </p:stCondLst>
                      <p:childTnLst>
                        <p:par>
                          <p:cTn id="4552" fill="hold">
                            <p:stCondLst>
                              <p:cond delay="0"/>
                            </p:stCondLst>
                            <p:childTnLst>
                              <p:par>
                                <p:cTn id="45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5" dur="500"/>
                                        <p:tgtEl>
                                          <p:spTgt spid="3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6" fill="hold">
                      <p:stCondLst>
                        <p:cond delay="indefinite"/>
                      </p:stCondLst>
                      <p:childTnLst>
                        <p:par>
                          <p:cTn id="4557" fill="hold">
                            <p:stCondLst>
                              <p:cond delay="0"/>
                            </p:stCondLst>
                            <p:childTnLst>
                              <p:par>
                                <p:cTn id="45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0" dur="500"/>
                                        <p:tgtEl>
                                          <p:spTgt spid="3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685800" y="1447920"/>
            <a:ext cx="2362320" cy="30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axim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3048120" y="1447920"/>
            <a:ext cx="16761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4876920" y="1476360"/>
            <a:ext cx="1747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7086600" y="1523880"/>
            <a:ext cx="1747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3052800" y="422424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2" name=""/>
          <p:cNvGrpSpPr/>
          <p:nvPr/>
        </p:nvGrpSpPr>
        <p:grpSpPr>
          <a:xfrm>
            <a:off x="762120" y="1523880"/>
            <a:ext cx="5867280" cy="3129120"/>
            <a:chOff x="762120" y="1523880"/>
            <a:chExt cx="5867280" cy="3129120"/>
          </a:xfrm>
        </p:grpSpPr>
        <p:sp>
          <p:nvSpPr>
            <p:cNvPr id="3233" name=""/>
            <p:cNvSpPr/>
            <p:nvPr/>
          </p:nvSpPr>
          <p:spPr>
            <a:xfrm>
              <a:off x="297180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72428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662940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26216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762120" y="2286000"/>
              <a:ext cx="586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2971800" y="4272120"/>
              <a:ext cx="175248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9" name=""/>
          <p:cNvSpPr/>
          <p:nvPr/>
        </p:nvSpPr>
        <p:spPr>
          <a:xfrm>
            <a:off x="366480" y="4992840"/>
            <a:ext cx="9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15238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,3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26812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5,3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2133720" y="5029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333360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453384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573408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6934320" y="5029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39625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,4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51814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,5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624852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0,5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754380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0,5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 txBox="1"/>
          <p:nvPr/>
        </p:nvSpPr>
        <p:spPr>
          <a:xfrm>
            <a:off x="7772400" y="4419720"/>
            <a:ext cx="838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af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252" name=""/>
          <p:cNvSpPr/>
          <p:nvPr/>
        </p:nvSpPr>
        <p:spPr>
          <a:xfrm>
            <a:off x="7091280" y="3079800"/>
            <a:ext cx="17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4800600" y="23302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4800600" y="2720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4800600" y="3090960"/>
            <a:ext cx="1676520" cy="38088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4800600" y="344952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4800600" y="3809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3025800" y="23302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3025800" y="2720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3025800" y="3090960"/>
            <a:ext cx="1676520" cy="38088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3025800" y="344952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3025800" y="3809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1" dur="indefinite" restart="never" nodeType="tmRoot">
          <p:childTnLst>
            <p:seq>
              <p:cTn id="4562" dur="indefinite" nodeType="mainSeq">
                <p:childTnLst>
                  <p:par>
                    <p:cTn id="4563" fill="hold">
                      <p:stCondLst>
                        <p:cond delay="indefinite"/>
                      </p:stCondLst>
                      <p:childTnLst>
                        <p:par>
                          <p:cTn id="4564" fill="hold">
                            <p:stCondLst>
                              <p:cond delay="0"/>
                            </p:stCondLst>
                            <p:childTnLst>
                              <p:par>
                                <p:cTn id="4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7" dur="500"/>
                                        <p:tgtEl>
                                          <p:spTgt spid="3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8" fill="hold">
                      <p:stCondLst>
                        <p:cond delay="indefinite"/>
                      </p:stCondLst>
                      <p:childTnLst>
                        <p:par>
                          <p:cTn id="4569" fill="hold">
                            <p:stCondLst>
                              <p:cond delay="0"/>
                            </p:stCondLst>
                            <p:childTnLst>
                              <p:par>
                                <p:cTn id="45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2" dur="500"/>
                                        <p:tgtEl>
                                          <p:spTgt spid="3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3" fill="hold">
                      <p:stCondLst>
                        <p:cond delay="indefinite"/>
                      </p:stCondLst>
                      <p:childTnLst>
                        <p:par>
                          <p:cTn id="4574" fill="hold">
                            <p:stCondLst>
                              <p:cond delay="0"/>
                            </p:stCondLst>
                            <p:childTnLst>
                              <p:par>
                                <p:cTn id="4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7" dur="5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8" fill="hold">
                      <p:stCondLst>
                        <p:cond delay="indefinite"/>
                      </p:stCondLst>
                      <p:childTnLst>
                        <p:par>
                          <p:cTn id="4579" fill="hold">
                            <p:stCondLst>
                              <p:cond delay="0"/>
                            </p:stCondLst>
                            <p:childTnLst>
                              <p:par>
                                <p:cTn id="4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2" dur="5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3" fill="hold">
                      <p:stCondLst>
                        <p:cond delay="indefinite"/>
                      </p:stCondLst>
                      <p:childTnLst>
                        <p:par>
                          <p:cTn id="4584" fill="hold">
                            <p:stCondLst>
                              <p:cond delay="0"/>
                            </p:stCondLst>
                            <p:childTnLst>
                              <p:par>
                                <p:cTn id="4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7" dur="500" fill="hold"/>
                                        <p:tgtEl>
                                          <p:spTgt spid="3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8" dur="500" fill="hold"/>
                                        <p:tgtEl>
                                          <p:spTgt spid="3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9" fill="hold">
                      <p:stCondLst>
                        <p:cond delay="indefinite"/>
                      </p:stCondLst>
                      <p:childTnLst>
                        <p:par>
                          <p:cTn id="4590" fill="hold">
                            <p:stCondLst>
                              <p:cond delay="0"/>
                            </p:stCondLst>
                            <p:childTnLst>
                              <p:par>
                                <p:cTn id="4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3" dur="500"/>
                                        <p:tgtEl>
                                          <p:spTgt spid="3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4" fill="hold">
                      <p:stCondLst>
                        <p:cond delay="indefinite"/>
                      </p:stCondLst>
                      <p:childTnLst>
                        <p:par>
                          <p:cTn id="4595" fill="hold">
                            <p:stCondLst>
                              <p:cond delay="0"/>
                            </p:stCondLst>
                            <p:childTnLst>
                              <p:par>
                                <p:cTn id="4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8" dur="500"/>
                                        <p:tgtEl>
                                          <p:spTgt spid="3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9" fill="hold">
                      <p:stCondLst>
                        <p:cond delay="indefinite"/>
                      </p:stCondLst>
                      <p:childTnLst>
                        <p:par>
                          <p:cTn id="4600" fill="hold">
                            <p:stCondLst>
                              <p:cond delay="0"/>
                            </p:stCondLst>
                            <p:childTnLst>
                              <p:par>
                                <p:cTn id="4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3" dur="500"/>
                                        <p:tgtEl>
                                          <p:spTgt spid="3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4" fill="hold">
                      <p:stCondLst>
                        <p:cond delay="indefinite"/>
                      </p:stCondLst>
                      <p:childTnLst>
                        <p:par>
                          <p:cTn id="4605" fill="hold">
                            <p:stCondLst>
                              <p:cond delay="0"/>
                            </p:stCondLst>
                            <p:childTnLst>
                              <p:par>
                                <p:cTn id="4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8" dur="500" fill="hold"/>
                                        <p:tgtEl>
                                          <p:spTgt spid="3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9" dur="500" fill="hold"/>
                                        <p:tgtEl>
                                          <p:spTgt spid="3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0" fill="hold">
                      <p:stCondLst>
                        <p:cond delay="indefinite"/>
                      </p:stCondLst>
                      <p:childTnLst>
                        <p:par>
                          <p:cTn id="4611" fill="hold">
                            <p:stCondLst>
                              <p:cond delay="0"/>
                            </p:stCondLst>
                            <p:childTnLst>
                              <p:par>
                                <p:cTn id="4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4" dur="500" fill="hold"/>
                                        <p:tgtEl>
                                          <p:spTgt spid="3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5" dur="500" fill="hold"/>
                                        <p:tgtEl>
                                          <p:spTgt spid="3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6" fill="hold">
                      <p:stCondLst>
                        <p:cond delay="indefinite"/>
                      </p:stCondLst>
                      <p:childTnLst>
                        <p:par>
                          <p:cTn id="4617" fill="hold">
                            <p:stCondLst>
                              <p:cond delay="0"/>
                            </p:stCondLst>
                            <p:childTnLst>
                              <p:par>
                                <p:cTn id="4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0" dur="500" fill="hold"/>
                                        <p:tgtEl>
                                          <p:spTgt spid="3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1" dur="500" fill="hold"/>
                                        <p:tgtEl>
                                          <p:spTgt spid="3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23" fill="hold">
                      <p:stCondLst>
                        <p:cond delay="indefinite"/>
                      </p:stCondLst>
                      <p:childTnLst>
                        <p:par>
                          <p:cTn id="4624" fill="hold">
                            <p:stCondLst>
                              <p:cond delay="0"/>
                            </p:stCondLst>
                            <p:childTnLst>
                              <p:par>
                                <p:cTn id="4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7" dur="500" fill="hold"/>
                                        <p:tgtEl>
                                          <p:spTgt spid="3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8" dur="500" fill="hold"/>
                                        <p:tgtEl>
                                          <p:spTgt spid="3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9" fill="hold">
                      <p:stCondLst>
                        <p:cond delay="indefinite"/>
                      </p:stCondLst>
                      <p:childTnLst>
                        <p:par>
                          <p:cTn id="4630" fill="hold">
                            <p:stCondLst>
                              <p:cond delay="0"/>
                            </p:stCondLst>
                            <p:childTnLst>
                              <p:par>
                                <p:cTn id="46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3" dur="500" fill="hold"/>
                                        <p:tgtEl>
                                          <p:spTgt spid="3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4" dur="500" fill="hold"/>
                                        <p:tgtEl>
                                          <p:spTgt spid="3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36" fill="hold">
                      <p:stCondLst>
                        <p:cond delay="indefinite"/>
                      </p:stCondLst>
                      <p:childTnLst>
                        <p:par>
                          <p:cTn id="4637" fill="hold">
                            <p:stCondLst>
                              <p:cond delay="0"/>
                            </p:stCondLst>
                            <p:childTnLst>
                              <p:par>
                                <p:cTn id="46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0" dur="500" fill="hold"/>
                                        <p:tgtEl>
                                          <p:spTgt spid="3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1" dur="500" fill="hold"/>
                                        <p:tgtEl>
                                          <p:spTgt spid="3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2" fill="hold">
                      <p:stCondLst>
                        <p:cond delay="indefinite"/>
                      </p:stCondLst>
                      <p:childTnLst>
                        <p:par>
                          <p:cTn id="4643" fill="hold">
                            <p:stCondLst>
                              <p:cond delay="0"/>
                            </p:stCondLst>
                            <p:childTnLst>
                              <p:par>
                                <p:cTn id="4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6" dur="500" fill="hold"/>
                                        <p:tgtEl>
                                          <p:spTgt spid="3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7" dur="500" fill="hold"/>
                                        <p:tgtEl>
                                          <p:spTgt spid="3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49" fill="hold">
                      <p:stCondLst>
                        <p:cond delay="indefinite"/>
                      </p:stCondLst>
                      <p:childTnLst>
                        <p:par>
                          <p:cTn id="4650" fill="hold">
                            <p:stCondLst>
                              <p:cond delay="0"/>
                            </p:stCondLst>
                            <p:childTnLst>
                              <p:par>
                                <p:cTn id="4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3" dur="500" fill="hold"/>
                                        <p:tgtEl>
                                          <p:spTgt spid="3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4" dur="500" fill="hold"/>
                                        <p:tgtEl>
                                          <p:spTgt spid="3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5" fill="hold">
                      <p:stCondLst>
                        <p:cond delay="indefinite"/>
                      </p:stCondLst>
                      <p:childTnLst>
                        <p:par>
                          <p:cTn id="4656" fill="hold">
                            <p:stCondLst>
                              <p:cond delay="0"/>
                            </p:stCondLst>
                            <p:childTnLst>
                              <p:par>
                                <p:cTn id="4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9" dur="500" fill="hold"/>
                                        <p:tgtEl>
                                          <p:spTgt spid="3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0" dur="500" fill="hold"/>
                                        <p:tgtEl>
                                          <p:spTgt spid="3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62" fill="hold">
                      <p:stCondLst>
                        <p:cond delay="indefinite"/>
                      </p:stCondLst>
                      <p:childTnLst>
                        <p:par>
                          <p:cTn id="4663" fill="hold">
                            <p:stCondLst>
                              <p:cond delay="0"/>
                            </p:stCondLst>
                            <p:childTnLst>
                              <p:par>
                                <p:cTn id="4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6" dur="500" fill="hold"/>
                                        <p:tgtEl>
                                          <p:spTgt spid="3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7" dur="500" fill="hold"/>
                                        <p:tgtEl>
                                          <p:spTgt spid="3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8" fill="hold">
                      <p:stCondLst>
                        <p:cond delay="indefinite"/>
                      </p:stCondLst>
                      <p:childTnLst>
                        <p:par>
                          <p:cTn id="4669" fill="hold">
                            <p:stCondLst>
                              <p:cond delay="0"/>
                            </p:stCondLst>
                            <p:childTnLst>
                              <p:par>
                                <p:cTn id="4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2" dur="500" fill="hold"/>
                                        <p:tgtEl>
                                          <p:spTgt spid="3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3" dur="500" fill="hold"/>
                                        <p:tgtEl>
                                          <p:spTgt spid="3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75" fill="hold">
                      <p:stCondLst>
                        <p:cond delay="indefinite"/>
                      </p:stCondLst>
                      <p:childTnLst>
                        <p:par>
                          <p:cTn id="4676" fill="hold">
                            <p:stCondLst>
                              <p:cond delay="0"/>
                            </p:stCondLst>
                            <p:childTnLst>
                              <p:par>
                                <p:cTn id="4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9" dur="500" fill="hold"/>
                                        <p:tgtEl>
                                          <p:spTgt spid="3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0" dur="500" fill="hold"/>
                                        <p:tgtEl>
                                          <p:spTgt spid="3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1" fill="hold">
                      <p:stCondLst>
                        <p:cond delay="indefinite"/>
                      </p:stCondLst>
                      <p:childTnLst>
                        <p:par>
                          <p:cTn id="4682" fill="hold">
                            <p:stCondLst>
                              <p:cond delay="0"/>
                            </p:stCondLst>
                            <p:childTnLst>
                              <p:par>
                                <p:cTn id="4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5" dur="500" fill="hold"/>
                                        <p:tgtEl>
                                          <p:spTgt spid="3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6" dur="500" fill="hold"/>
                                        <p:tgtEl>
                                          <p:spTgt spid="3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88" fill="hold">
                      <p:stCondLst>
                        <p:cond delay="indefinite"/>
                      </p:stCondLst>
                      <p:childTnLst>
                        <p:par>
                          <p:cTn id="4689" fill="hold">
                            <p:stCondLst>
                              <p:cond delay="0"/>
                            </p:stCondLst>
                            <p:childTnLst>
                              <p:par>
                                <p:cTn id="4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2" dur="500" fill="hold"/>
                                        <p:tgtEl>
                                          <p:spTgt spid="3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3" dur="500" fill="hold"/>
                                        <p:tgtEl>
                                          <p:spTgt spid="3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4" fill="hold">
                      <p:stCondLst>
                        <p:cond delay="indefinite"/>
                      </p:stCondLst>
                      <p:childTnLst>
                        <p:par>
                          <p:cTn id="4695" fill="hold">
                            <p:stCondLst>
                              <p:cond delay="0"/>
                            </p:stCondLst>
                            <p:childTnLst>
                              <p:par>
                                <p:cTn id="4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8" dur="500" fill="hold"/>
                                        <p:tgtEl>
                                          <p:spTgt spid="3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9" dur="500" fill="hold"/>
                                        <p:tgtEl>
                                          <p:spTgt spid="3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01" fill="hold">
                      <p:stCondLst>
                        <p:cond delay="indefinite"/>
                      </p:stCondLst>
                      <p:childTnLst>
                        <p:par>
                          <p:cTn id="4702" fill="hold">
                            <p:stCondLst>
                              <p:cond delay="0"/>
                            </p:stCondLst>
                            <p:childTnLst>
                              <p:par>
                                <p:cTn id="47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5" dur="500" fill="hold"/>
                                        <p:tgtEl>
                                          <p:spTgt spid="3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6" dur="500" fill="hold"/>
                                        <p:tgtEl>
                                          <p:spTgt spid="3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7" fill="hold">
                      <p:stCondLst>
                        <p:cond delay="indefinite"/>
                      </p:stCondLst>
                      <p:childTnLst>
                        <p:par>
                          <p:cTn id="4708" fill="hold">
                            <p:stCondLst>
                              <p:cond delay="0"/>
                            </p:stCondLst>
                            <p:childTnLst>
                              <p:par>
                                <p:cTn id="47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1" dur="500" fill="hold"/>
                                        <p:tgtEl>
                                          <p:spTgt spid="3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2" dur="500" fill="hold"/>
                                        <p:tgtEl>
                                          <p:spTgt spid="3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14" fill="hold">
                      <p:stCondLst>
                        <p:cond delay="indefinite"/>
                      </p:stCondLst>
                      <p:childTnLst>
                        <p:par>
                          <p:cTn id="4715" fill="hold">
                            <p:stCondLst>
                              <p:cond delay="0"/>
                            </p:stCondLst>
                            <p:childTnLst>
                              <p:par>
                                <p:cTn id="4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8" dur="500" fill="hold"/>
                                        <p:tgtEl>
                                          <p:spTgt spid="3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9" dur="500" fill="hold"/>
                                        <p:tgtEl>
                                          <p:spTgt spid="3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0" fill="hold">
                      <p:stCondLst>
                        <p:cond delay="indefinite"/>
                      </p:stCondLst>
                      <p:childTnLst>
                        <p:par>
                          <p:cTn id="4721" fill="hold">
                            <p:stCondLst>
                              <p:cond delay="0"/>
                            </p:stCondLst>
                            <p:childTnLst>
                              <p:par>
                                <p:cTn id="4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4" dur="500" fill="hold"/>
                                        <p:tgtEl>
                                          <p:spTgt spid="3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5" dur="500" fill="hold"/>
                                        <p:tgtEl>
                                          <p:spTgt spid="3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27" fill="hold">
                      <p:stCondLst>
                        <p:cond delay="indefinite"/>
                      </p:stCondLst>
                      <p:childTnLst>
                        <p:par>
                          <p:cTn id="4728" fill="hold">
                            <p:stCondLst>
                              <p:cond delay="0"/>
                            </p:stCondLst>
                            <p:childTnLst>
                              <p:par>
                                <p:cTn id="4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1" dur="500" fill="hold"/>
                                        <p:tgtEl>
                                          <p:spTgt spid="3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2" dur="500" fill="hold"/>
                                        <p:tgtEl>
                                          <p:spTgt spid="3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3" fill="hold">
                      <p:stCondLst>
                        <p:cond delay="indefinite"/>
                      </p:stCondLst>
                      <p:childTnLst>
                        <p:par>
                          <p:cTn id="4734" fill="hold">
                            <p:stCondLst>
                              <p:cond delay="0"/>
                            </p:stCondLst>
                            <p:childTnLst>
                              <p:par>
                                <p:cTn id="4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7" dur="500" fill="hold"/>
                                        <p:tgtEl>
                                          <p:spTgt spid="3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8" dur="500" fill="hold"/>
                                        <p:tgtEl>
                                          <p:spTgt spid="3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40" fill="hold">
                      <p:stCondLst>
                        <p:cond delay="indefinite"/>
                      </p:stCondLst>
                      <p:childTnLst>
                        <p:par>
                          <p:cTn id="4741" fill="hold">
                            <p:stCondLst>
                              <p:cond delay="0"/>
                            </p:stCondLst>
                            <p:childTnLst>
                              <p:par>
                                <p:cTn id="47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4" dur="1000" fill="hold"/>
                                        <p:tgtEl>
                                          <p:spTgt spid="3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5" dur="1000" fill="hold"/>
                                        <p:tgtEl>
                                          <p:spTgt spid="3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6" dur="1000" fill="hold"/>
                                        <p:tgtEl>
                                          <p:spTgt spid="3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7" dur="1000" fill="hold"/>
                                        <p:tgtEl>
                                          <p:spTgt spid="3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7086600" y="1523880"/>
            <a:ext cx="1747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5" name=""/>
          <p:cNvGrpSpPr/>
          <p:nvPr/>
        </p:nvGrpSpPr>
        <p:grpSpPr>
          <a:xfrm>
            <a:off x="685800" y="1447920"/>
            <a:ext cx="5943600" cy="3236040"/>
            <a:chOff x="685800" y="1447920"/>
            <a:chExt cx="5943600" cy="3236040"/>
          </a:xfrm>
        </p:grpSpPr>
        <p:sp>
          <p:nvSpPr>
            <p:cNvPr id="3266" name=""/>
            <p:cNvSpPr/>
            <p:nvPr/>
          </p:nvSpPr>
          <p:spPr>
            <a:xfrm>
              <a:off x="685800" y="1447920"/>
              <a:ext cx="2362320" cy="30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aximu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B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9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048120" y="1447920"/>
              <a:ext cx="1676160" cy="28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lloca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876920" y="1476360"/>
              <a:ext cx="1747800" cy="27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Nee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297180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472428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662940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126216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62120" y="2286000"/>
              <a:ext cx="586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4" name=""/>
            <p:cNvGrpSpPr/>
            <p:nvPr/>
          </p:nvGrpSpPr>
          <p:grpSpPr>
            <a:xfrm>
              <a:off x="2971800" y="4224240"/>
              <a:ext cx="1828800" cy="459720"/>
              <a:chOff x="2971800" y="4224240"/>
              <a:chExt cx="1828800" cy="459720"/>
            </a:xfrm>
          </p:grpSpPr>
          <p:sp>
            <p:nvSpPr>
              <p:cNvPr id="3275" name=""/>
              <p:cNvSpPr/>
              <p:nvPr/>
            </p:nvSpPr>
            <p:spPr>
              <a:xfrm>
                <a:off x="3052800" y="4224240"/>
                <a:ext cx="174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2971800" y="4271760"/>
                <a:ext cx="1752480" cy="3808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7" name=""/>
          <p:cNvSpPr/>
          <p:nvPr/>
        </p:nvSpPr>
        <p:spPr>
          <a:xfrm>
            <a:off x="366480" y="4992840"/>
            <a:ext cx="9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15238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,3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26812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5,3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2133720" y="5029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333360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453384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573408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6934320" y="5029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39625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,4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51814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,5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624852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0,5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754380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0,5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 txBox="1"/>
          <p:nvPr/>
        </p:nvSpPr>
        <p:spPr>
          <a:xfrm>
            <a:off x="7772400" y="4419720"/>
            <a:ext cx="838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af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290" name=""/>
          <p:cNvSpPr/>
          <p:nvPr/>
        </p:nvSpPr>
        <p:spPr>
          <a:xfrm>
            <a:off x="464400" y="4572000"/>
            <a:ext cx="1433520" cy="510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1,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7086600" y="3886200"/>
            <a:ext cx="380880" cy="380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8348760" y="3886200"/>
            <a:ext cx="380880" cy="380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3038400" y="2728800"/>
            <a:ext cx="38124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4191120" y="2728800"/>
            <a:ext cx="38088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4867200" y="2728800"/>
            <a:ext cx="38124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6005520" y="2728800"/>
            <a:ext cx="38088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4200480" y="4267080"/>
            <a:ext cx="38088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4800600" y="23302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4800600" y="2720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4800600" y="3090960"/>
            <a:ext cx="1676520" cy="38088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4800600" y="344952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4800600" y="3809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4800600" y="2743200"/>
            <a:ext cx="1676520" cy="380880"/>
          </a:xfrm>
          <a:prstGeom prst="ellipse">
            <a:avLst/>
          </a:prstGeom>
          <a:noFill/>
          <a:ln w="284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7010280" y="3886200"/>
            <a:ext cx="1676520" cy="380880"/>
          </a:xfrm>
          <a:prstGeom prst="ellipse">
            <a:avLst/>
          </a:prstGeom>
          <a:noFill/>
          <a:ln w="284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8" dur="indefinite" restart="never" nodeType="tmRoot">
          <p:childTnLst>
            <p:seq>
              <p:cTn id="4749" dur="indefinite" nodeType="mainSeq">
                <p:childTnLst>
                  <p:par>
                    <p:cTn id="4750" fill="hold">
                      <p:stCondLst>
                        <p:cond delay="indefinite"/>
                      </p:stCondLst>
                      <p:childTnLst>
                        <p:par>
                          <p:cTn id="4751" fill="hold">
                            <p:stCondLst>
                              <p:cond delay="0"/>
                            </p:stCondLst>
                            <p:childTnLst>
                              <p:par>
                                <p:cTn id="47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54" dur="500"/>
                                        <p:tgtEl>
                                          <p:spTgt spid="3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5" fill="hold">
                            <p:stCondLst>
                              <p:cond delay="500"/>
                            </p:stCondLst>
                            <p:childTnLst>
                              <p:par>
                                <p:cTn id="47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8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9" fill="hold">
                      <p:stCondLst>
                        <p:cond delay="indefinite"/>
                      </p:stCondLst>
                      <p:childTnLst>
                        <p:par>
                          <p:cTn id="4760" fill="hold">
                            <p:stCondLst>
                              <p:cond delay="0"/>
                            </p:stCondLst>
                            <p:childTnLst>
                              <p:par>
                                <p:cTn id="476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3" dur="500" fill="hold"/>
                                        <p:tgtEl>
                                          <p:spTgt spid="3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4" dur="500" fill="hold"/>
                                        <p:tgtEl>
                                          <p:spTgt spid="3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5" fill="hold">
                      <p:stCondLst>
                        <p:cond delay="indefinite"/>
                      </p:stCondLst>
                      <p:childTnLst>
                        <p:par>
                          <p:cTn id="4766" fill="hold">
                            <p:stCondLst>
                              <p:cond delay="0"/>
                            </p:stCondLst>
                            <p:childTnLst>
                              <p:par>
                                <p:cTn id="4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9" dur="500" fill="hold"/>
                                        <p:tgtEl>
                                          <p:spTgt spid="3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0" dur="500" fill="hold"/>
                                        <p:tgtEl>
                                          <p:spTgt spid="3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1" fill="hold">
                      <p:stCondLst>
                        <p:cond delay="indefinite"/>
                      </p:stCondLst>
                      <p:childTnLst>
                        <p:par>
                          <p:cTn id="4772" fill="hold">
                            <p:stCondLst>
                              <p:cond delay="0"/>
                            </p:stCondLst>
                            <p:childTnLst>
                              <p:par>
                                <p:cTn id="4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5" dur="500" fill="hold"/>
                                        <p:tgtEl>
                                          <p:spTgt spid="3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6" dur="500" fill="hold"/>
                                        <p:tgtEl>
                                          <p:spTgt spid="3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78" fill="hold">
                      <p:stCondLst>
                        <p:cond delay="indefinite"/>
                      </p:stCondLst>
                      <p:childTnLst>
                        <p:par>
                          <p:cTn id="4779" fill="hold">
                            <p:stCondLst>
                              <p:cond delay="0"/>
                            </p:stCondLst>
                            <p:childTnLst>
                              <p:par>
                                <p:cTn id="4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2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3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85" fill="hold">
                            <p:stCondLst>
                              <p:cond delay="500"/>
                            </p:stCondLst>
                            <p:childTnLst>
                              <p:par>
                                <p:cTn id="47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8" dur="500" fill="hold"/>
                                        <p:tgtEl>
                                          <p:spTgt spid="3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9" dur="500" fill="hold"/>
                                        <p:tgtEl>
                                          <p:spTgt spid="3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3" dur="500" fill="hold"/>
                                        <p:tgtEl>
                                          <p:spTgt spid="3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4" dur="500" fill="hold"/>
                                        <p:tgtEl>
                                          <p:spTgt spid="3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8" dur="500" fill="hold"/>
                                        <p:tgtEl>
                                          <p:spTgt spid="3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9" dur="500" fill="hold"/>
                                        <p:tgtEl>
                                          <p:spTgt spid="3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0" fill="hold">
                      <p:stCondLst>
                        <p:cond delay="indefinite"/>
                      </p:stCondLst>
                      <p:childTnLst>
                        <p:par>
                          <p:cTn id="4801" fill="hold">
                            <p:stCondLst>
                              <p:cond delay="0"/>
                            </p:stCondLst>
                            <p:childTnLst>
                              <p:par>
                                <p:cTn id="48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4" dur="5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5" dur="5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6" fill="hold">
                            <p:stCondLst>
                              <p:cond delay="500"/>
                            </p:stCondLst>
                            <p:childTnLst>
                              <p:par>
                                <p:cTn id="48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9" dur="500" fill="hold"/>
                                        <p:tgtEl>
                                          <p:spTgt spid="3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0" dur="500" fill="hold"/>
                                        <p:tgtEl>
                                          <p:spTgt spid="3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1" fill="hold">
                      <p:stCondLst>
                        <p:cond delay="indefinite"/>
                      </p:stCondLst>
                      <p:childTnLst>
                        <p:par>
                          <p:cTn id="4812" fill="hold">
                            <p:stCondLst>
                              <p:cond delay="0"/>
                            </p:stCondLst>
                            <p:childTnLst>
                              <p:par>
                                <p:cTn id="48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5" dur="500" fill="hold"/>
                                        <p:tgtEl>
                                          <p:spTgt spid="3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6" dur="500" fill="hold"/>
                                        <p:tgtEl>
                                          <p:spTgt spid="3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7" fill="hold">
                            <p:stCondLst>
                              <p:cond delay="500"/>
                            </p:stCondLst>
                            <p:childTnLst>
                              <p:par>
                                <p:cTn id="48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0" dur="500" fill="hold"/>
                                        <p:tgtEl>
                                          <p:spTgt spid="3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1" dur="500" fill="hold"/>
                                        <p:tgtEl>
                                          <p:spTgt spid="3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2" fill="hold">
                      <p:stCondLst>
                        <p:cond delay="indefinite"/>
                      </p:stCondLst>
                      <p:childTnLst>
                        <p:par>
                          <p:cTn id="4823" fill="hold">
                            <p:stCondLst>
                              <p:cond delay="0"/>
                            </p:stCondLst>
                            <p:childTnLst>
                              <p:par>
                                <p:cTn id="48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6" dur="500"/>
                                        <p:tgtEl>
                                          <p:spTgt spid="3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7" fill="hold">
                      <p:stCondLst>
                        <p:cond delay="indefinite"/>
                      </p:stCondLst>
                      <p:childTnLst>
                        <p:par>
                          <p:cTn id="4828" fill="hold">
                            <p:stCondLst>
                              <p:cond delay="0"/>
                            </p:stCondLst>
                            <p:childTnLst>
                              <p:par>
                                <p:cTn id="4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1" dur="500" fill="hold"/>
                                        <p:tgtEl>
                                          <p:spTgt spid="3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2" dur="500" fill="hold"/>
                                        <p:tgtEl>
                                          <p:spTgt spid="3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3" fill="hold">
                      <p:stCondLst>
                        <p:cond delay="indefinite"/>
                      </p:stCondLst>
                      <p:childTnLst>
                        <p:par>
                          <p:cTn id="4834" fill="hold">
                            <p:stCondLst>
                              <p:cond delay="0"/>
                            </p:stCondLst>
                            <p:childTnLst>
                              <p:par>
                                <p:cTn id="4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7" dur="500" fill="hold"/>
                                        <p:tgtEl>
                                          <p:spTgt spid="3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8" dur="500" fill="hold"/>
                                        <p:tgtEl>
                                          <p:spTgt spid="3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9" fill="hold">
                      <p:stCondLst>
                        <p:cond delay="indefinite"/>
                      </p:stCondLst>
                      <p:childTnLst>
                        <p:par>
                          <p:cTn id="4840" fill="hold">
                            <p:stCondLst>
                              <p:cond delay="0"/>
                            </p:stCondLst>
                            <p:childTnLst>
                              <p:par>
                                <p:cTn id="48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3" dur="500" fill="hold"/>
                                        <p:tgtEl>
                                          <p:spTgt spid="3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4" dur="500" fill="hold"/>
                                        <p:tgtEl>
                                          <p:spTgt spid="3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46" fill="hold">
                            <p:stCondLst>
                              <p:cond delay="500"/>
                            </p:stCondLst>
                            <p:childTnLst>
                              <p:par>
                                <p:cTn id="48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9" dur="500" fill="hold"/>
                                        <p:tgtEl>
                                          <p:spTgt spid="3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0" dur="500" fill="hold"/>
                                        <p:tgtEl>
                                          <p:spTgt spid="3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1" fill="hold">
                      <p:stCondLst>
                        <p:cond delay="indefinite"/>
                      </p:stCondLst>
                      <p:childTnLst>
                        <p:par>
                          <p:cTn id="4852" fill="hold">
                            <p:stCondLst>
                              <p:cond delay="0"/>
                            </p:stCondLst>
                            <p:childTnLst>
                              <p:par>
                                <p:cTn id="48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5" dur="500" fill="hold"/>
                                        <p:tgtEl>
                                          <p:spTgt spid="3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6" dur="500" fill="hold"/>
                                        <p:tgtEl>
                                          <p:spTgt spid="3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7" fill="hold">
                      <p:stCondLst>
                        <p:cond delay="indefinite"/>
                      </p:stCondLst>
                      <p:childTnLst>
                        <p:par>
                          <p:cTn id="4858" fill="hold">
                            <p:stCondLst>
                              <p:cond delay="0"/>
                            </p:stCondLst>
                            <p:childTnLst>
                              <p:par>
                                <p:cTn id="48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1" dur="500" fill="hold"/>
                                        <p:tgtEl>
                                          <p:spTgt spid="3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2" dur="500" fill="hold"/>
                                        <p:tgtEl>
                                          <p:spTgt spid="3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64" fill="hold">
                            <p:stCondLst>
                              <p:cond delay="500"/>
                            </p:stCondLst>
                            <p:childTnLst>
                              <p:par>
                                <p:cTn id="48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7" dur="500" fill="hold"/>
                                        <p:tgtEl>
                                          <p:spTgt spid="3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8" dur="500" fill="hold"/>
                                        <p:tgtEl>
                                          <p:spTgt spid="3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9" fill="hold">
                      <p:stCondLst>
                        <p:cond delay="indefinite"/>
                      </p:stCondLst>
                      <p:childTnLst>
                        <p:par>
                          <p:cTn id="4870" fill="hold">
                            <p:stCondLst>
                              <p:cond delay="0"/>
                            </p:stCondLst>
                            <p:childTnLst>
                              <p:par>
                                <p:cTn id="48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3" dur="500" fill="hold"/>
                                        <p:tgtEl>
                                          <p:spTgt spid="3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4" dur="500" fill="hold"/>
                                        <p:tgtEl>
                                          <p:spTgt spid="3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5" fill="hold">
                      <p:stCondLst>
                        <p:cond delay="indefinite"/>
                      </p:stCondLst>
                      <p:childTnLst>
                        <p:par>
                          <p:cTn id="4876" fill="hold">
                            <p:stCondLst>
                              <p:cond delay="0"/>
                            </p:stCondLst>
                            <p:childTnLst>
                              <p:par>
                                <p:cTn id="48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9" dur="500" fill="hold"/>
                                        <p:tgtEl>
                                          <p:spTgt spid="3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0" dur="500" fill="hold"/>
                                        <p:tgtEl>
                                          <p:spTgt spid="3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5" dur="500" fill="hold"/>
                                        <p:tgtEl>
                                          <p:spTgt spid="3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6" dur="500" fill="hold"/>
                                        <p:tgtEl>
                                          <p:spTgt spid="3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7" fill="hold">
                      <p:stCondLst>
                        <p:cond delay="indefinite"/>
                      </p:stCondLst>
                      <p:childTnLst>
                        <p:par>
                          <p:cTn id="4888" fill="hold">
                            <p:stCondLst>
                              <p:cond delay="0"/>
                            </p:stCondLst>
                            <p:childTnLst>
                              <p:par>
                                <p:cTn id="48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1" dur="500" fill="hold"/>
                                        <p:tgtEl>
                                          <p:spTgt spid="3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2" dur="500" fill="hold"/>
                                        <p:tgtEl>
                                          <p:spTgt spid="3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3" fill="hold">
                      <p:stCondLst>
                        <p:cond delay="indefinite"/>
                      </p:stCondLst>
                      <p:childTnLst>
                        <p:par>
                          <p:cTn id="4894" fill="hold">
                            <p:stCondLst>
                              <p:cond delay="0"/>
                            </p:stCondLst>
                            <p:childTnLst>
                              <p:par>
                                <p:cTn id="48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7" dur="500" fill="hold"/>
                                        <p:tgtEl>
                                          <p:spTgt spid="3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8" dur="500" fill="hold"/>
                                        <p:tgtEl>
                                          <p:spTgt spid="3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00" fill="hold">
                            <p:stCondLst>
                              <p:cond delay="500"/>
                            </p:stCondLst>
                            <p:childTnLst>
                              <p:par>
                                <p:cTn id="49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3" dur="500" fill="hold"/>
                                        <p:tgtEl>
                                          <p:spTgt spid="3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4" dur="500" fill="hold"/>
                                        <p:tgtEl>
                                          <p:spTgt spid="3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5" fill="hold">
                      <p:stCondLst>
                        <p:cond delay="indefinite"/>
                      </p:stCondLst>
                      <p:childTnLst>
                        <p:par>
                          <p:cTn id="4906" fill="hold">
                            <p:stCondLst>
                              <p:cond delay="0"/>
                            </p:stCondLst>
                            <p:childTnLst>
                              <p:par>
                                <p:cTn id="49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9" dur="500" fill="hold"/>
                                        <p:tgtEl>
                                          <p:spTgt spid="3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0" dur="500" fill="hold"/>
                                        <p:tgtEl>
                                          <p:spTgt spid="3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1" fill="hold">
                      <p:stCondLst>
                        <p:cond delay="indefinite"/>
                      </p:stCondLst>
                      <p:childTnLst>
                        <p:par>
                          <p:cTn id="4912" fill="hold">
                            <p:stCondLst>
                              <p:cond delay="0"/>
                            </p:stCondLst>
                            <p:childTnLst>
                              <p:par>
                                <p:cTn id="49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5" dur="500" fill="hold"/>
                                        <p:tgtEl>
                                          <p:spTgt spid="3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6" dur="500" fill="hold"/>
                                        <p:tgtEl>
                                          <p:spTgt spid="3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18" fill="hold">
                            <p:stCondLst>
                              <p:cond delay="500"/>
                            </p:stCondLst>
                            <p:childTnLst>
                              <p:par>
                                <p:cTn id="49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1" dur="500" fill="hold"/>
                                        <p:tgtEl>
                                          <p:spTgt spid="3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2" dur="500" fill="hold"/>
                                        <p:tgtEl>
                                          <p:spTgt spid="3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3" fill="hold">
                      <p:stCondLst>
                        <p:cond delay="indefinite"/>
                      </p:stCondLst>
                      <p:childTnLst>
                        <p:par>
                          <p:cTn id="4924" fill="hold">
                            <p:stCondLst>
                              <p:cond delay="0"/>
                            </p:stCondLst>
                            <p:childTnLst>
                              <p:par>
                                <p:cTn id="49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7" dur="10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8" dur="10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9" dur="10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0" dur="10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685800" y="1447920"/>
            <a:ext cx="2362320" cy="30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axim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3048120" y="1447920"/>
            <a:ext cx="16761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4876920" y="1476360"/>
            <a:ext cx="1747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297180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472428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662940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126216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762120" y="228600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7086600" y="1523880"/>
            <a:ext cx="1747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6" name=""/>
          <p:cNvGrpSpPr/>
          <p:nvPr/>
        </p:nvGrpSpPr>
        <p:grpSpPr>
          <a:xfrm>
            <a:off x="2971800" y="4224240"/>
            <a:ext cx="1828800" cy="459720"/>
            <a:chOff x="2971800" y="4224240"/>
            <a:chExt cx="1828800" cy="459720"/>
          </a:xfrm>
        </p:grpSpPr>
        <p:sp>
          <p:nvSpPr>
            <p:cNvPr id="3317" name=""/>
            <p:cNvSpPr/>
            <p:nvPr/>
          </p:nvSpPr>
          <p:spPr>
            <a:xfrm>
              <a:off x="3052800" y="4224240"/>
              <a:ext cx="17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971800" y="4271760"/>
              <a:ext cx="175248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9" name=""/>
          <p:cNvSpPr/>
          <p:nvPr/>
        </p:nvSpPr>
        <p:spPr>
          <a:xfrm>
            <a:off x="464400" y="4572000"/>
            <a:ext cx="1433520" cy="510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3,3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2286000" y="4838760"/>
            <a:ext cx="266688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6" y="1855"/>
                </a:moveTo>
                <a:lnTo>
                  <a:pt x="-617" y="3456"/>
                </a:lnTo>
              </a:path>
              <a:path w="21600" h="21600">
                <a:moveTo>
                  <a:pt x="-617" y="0"/>
                </a:moveTo>
                <a:lnTo>
                  <a:pt x="-617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(unavail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4800600" y="3809880"/>
            <a:ext cx="1676520" cy="381240"/>
          </a:xfrm>
          <a:prstGeom prst="ellipse">
            <a:avLst/>
          </a:prstGeom>
          <a:noFill/>
          <a:ln w="284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7010280" y="3886200"/>
            <a:ext cx="1676520" cy="380880"/>
          </a:xfrm>
          <a:prstGeom prst="ellipse">
            <a:avLst/>
          </a:prstGeom>
          <a:noFill/>
          <a:ln w="284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1" dur="indefinite" restart="never" nodeType="tmRoot">
          <p:childTnLst>
            <p:seq>
              <p:cTn id="4932" dur="indefinite" nodeType="mainSeq">
                <p:childTnLst>
                  <p:par>
                    <p:cTn id="4933" fill="hold">
                      <p:stCondLst>
                        <p:cond delay="indefinite"/>
                      </p:stCondLst>
                      <p:childTnLst>
                        <p:par>
                          <p:cTn id="4934" fill="hold">
                            <p:stCondLst>
                              <p:cond delay="0"/>
                            </p:stCondLst>
                            <p:childTnLst>
                              <p:par>
                                <p:cTn id="49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7" dur="500" fill="hold"/>
                                        <p:tgtEl>
                                          <p:spTgt spid="3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8" dur="500" fill="hold"/>
                                        <p:tgtEl>
                                          <p:spTgt spid="3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9" fill="hold">
                      <p:stCondLst>
                        <p:cond delay="indefinite"/>
                      </p:stCondLst>
                      <p:childTnLst>
                        <p:par>
                          <p:cTn id="4940" fill="hold">
                            <p:stCondLst>
                              <p:cond delay="0"/>
                            </p:stCondLst>
                            <p:childTnLst>
                              <p:par>
                                <p:cTn id="49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3" dur="500" fill="hold"/>
                                        <p:tgtEl>
                                          <p:spTgt spid="3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4" dur="500" fill="hold"/>
                                        <p:tgtEl>
                                          <p:spTgt spid="3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5" fill="hold">
                      <p:stCondLst>
                        <p:cond delay="indefinite"/>
                      </p:stCondLst>
                      <p:childTnLst>
                        <p:par>
                          <p:cTn id="4946" fill="hold">
                            <p:stCondLst>
                              <p:cond delay="0"/>
                            </p:stCondLst>
                            <p:childTnLst>
                              <p:par>
                                <p:cTn id="49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9" dur="500" fill="hold"/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0" dur="500" fill="hold"/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52" fill="hold">
                      <p:stCondLst>
                        <p:cond delay="indefinite"/>
                      </p:stCondLst>
                      <p:childTnLst>
                        <p:par>
                          <p:cTn id="4953" fill="hold">
                            <p:stCondLst>
                              <p:cond delay="0"/>
                            </p:stCondLst>
                            <p:childTnLst>
                              <p:par>
                                <p:cTn id="49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56" dur="500"/>
                                        <p:tgtEl>
                                          <p:spTgt spid="3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685800" y="1447920"/>
            <a:ext cx="2362320" cy="30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axim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3048120" y="1447920"/>
            <a:ext cx="16761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4876920" y="1476360"/>
            <a:ext cx="1747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297180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472428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662940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126216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762120" y="228600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7086600" y="1523880"/>
            <a:ext cx="1747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3" name=""/>
          <p:cNvGrpSpPr/>
          <p:nvPr/>
        </p:nvGrpSpPr>
        <p:grpSpPr>
          <a:xfrm>
            <a:off x="2971800" y="4224240"/>
            <a:ext cx="1828800" cy="459720"/>
            <a:chOff x="2971800" y="4224240"/>
            <a:chExt cx="1828800" cy="459720"/>
          </a:xfrm>
        </p:grpSpPr>
        <p:sp>
          <p:nvSpPr>
            <p:cNvPr id="3334" name=""/>
            <p:cNvSpPr/>
            <p:nvPr/>
          </p:nvSpPr>
          <p:spPr>
            <a:xfrm>
              <a:off x="3052800" y="4224240"/>
              <a:ext cx="17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2971800" y="4271760"/>
              <a:ext cx="175248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6" name=""/>
          <p:cNvSpPr/>
          <p:nvPr/>
        </p:nvSpPr>
        <p:spPr>
          <a:xfrm>
            <a:off x="366480" y="4992840"/>
            <a:ext cx="9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15238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,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 txBox="1"/>
          <p:nvPr/>
        </p:nvSpPr>
        <p:spPr>
          <a:xfrm>
            <a:off x="4267080" y="4876920"/>
            <a:ext cx="12193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nsaf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339" name=""/>
          <p:cNvSpPr/>
          <p:nvPr/>
        </p:nvSpPr>
        <p:spPr>
          <a:xfrm>
            <a:off x="464400" y="4572000"/>
            <a:ext cx="1433520" cy="510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0,2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7694640" y="3886200"/>
            <a:ext cx="380880" cy="380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3624120" y="2333520"/>
            <a:ext cx="38124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5452920" y="2333520"/>
            <a:ext cx="38124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3614760" y="4267080"/>
            <a:ext cx="38088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2286000" y="4724280"/>
            <a:ext cx="160020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126" y="1877"/>
                </a:moveTo>
                <a:lnTo>
                  <a:pt x="-1029" y="2422"/>
                </a:lnTo>
              </a:path>
              <a:path w="21600" h="21600">
                <a:moveTo>
                  <a:pt x="-1029" y="0"/>
                </a:moveTo>
                <a:lnTo>
                  <a:pt x="-1029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(unsaf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3624120" y="2333520"/>
            <a:ext cx="38124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5451480" y="234000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3610080" y="4267080"/>
            <a:ext cx="3808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4800600" y="2340000"/>
            <a:ext cx="1676520" cy="380880"/>
          </a:xfrm>
          <a:prstGeom prst="ellipse">
            <a:avLst/>
          </a:prstGeom>
          <a:noFill/>
          <a:ln w="284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7010280" y="3886200"/>
            <a:ext cx="1676520" cy="380880"/>
          </a:xfrm>
          <a:prstGeom prst="ellipse">
            <a:avLst/>
          </a:prstGeom>
          <a:noFill/>
          <a:ln w="284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7701120" y="388620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4800600" y="23302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4800600" y="2720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4800600" y="3090960"/>
            <a:ext cx="1676520" cy="38088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4800600" y="344952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4800600" y="3809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8" dur="indefinite" restart="never" nodeType="tmRoot">
          <p:childTnLst>
            <p:seq>
              <p:cTn id="4959" dur="indefinite" nodeType="mainSeq">
                <p:childTnLst>
                  <p:par>
                    <p:cTn id="4960" fill="hold">
                      <p:stCondLst>
                        <p:cond delay="indefinite"/>
                      </p:stCondLst>
                      <p:childTnLst>
                        <p:par>
                          <p:cTn id="4961" fill="hold">
                            <p:stCondLst>
                              <p:cond delay="0"/>
                            </p:stCondLst>
                            <p:childTnLst>
                              <p:par>
                                <p:cTn id="496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4" dur="500" fill="hold"/>
                                        <p:tgtEl>
                                          <p:spTgt spid="3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5" dur="500" fill="hold"/>
                                        <p:tgtEl>
                                          <p:spTgt spid="3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6" fill="hold">
                      <p:stCondLst>
                        <p:cond delay="indefinite"/>
                      </p:stCondLst>
                      <p:childTnLst>
                        <p:par>
                          <p:cTn id="4967" fill="hold">
                            <p:stCondLst>
                              <p:cond delay="0"/>
                            </p:stCondLst>
                            <p:childTnLst>
                              <p:par>
                                <p:cTn id="49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0" dur="500" fill="hold"/>
                                        <p:tgtEl>
                                          <p:spTgt spid="3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1" dur="500" fill="hold"/>
                                        <p:tgtEl>
                                          <p:spTgt spid="3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2" fill="hold">
                      <p:stCondLst>
                        <p:cond delay="indefinite"/>
                      </p:stCondLst>
                      <p:childTnLst>
                        <p:par>
                          <p:cTn id="4973" fill="hold">
                            <p:stCondLst>
                              <p:cond delay="0"/>
                            </p:stCondLst>
                            <p:childTnLst>
                              <p:par>
                                <p:cTn id="49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6" dur="500" fill="hold"/>
                                        <p:tgtEl>
                                          <p:spTgt spid="3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7" dur="500" fill="hold"/>
                                        <p:tgtEl>
                                          <p:spTgt spid="3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79" fill="hold">
                      <p:stCondLst>
                        <p:cond delay="indefinite"/>
                      </p:stCondLst>
                      <p:childTnLst>
                        <p:par>
                          <p:cTn id="4980" fill="hold">
                            <p:stCondLst>
                              <p:cond delay="0"/>
                            </p:stCondLst>
                            <p:childTnLst>
                              <p:par>
                                <p:cTn id="49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3" dur="500" fill="hold"/>
                                        <p:tgtEl>
                                          <p:spTgt spid="3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4" dur="500" fill="hold"/>
                                        <p:tgtEl>
                                          <p:spTgt spid="3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86" fill="hold">
                            <p:stCondLst>
                              <p:cond delay="500"/>
                            </p:stCondLst>
                            <p:childTnLst>
                              <p:par>
                                <p:cTn id="49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9" dur="500" fill="hold"/>
                                        <p:tgtEl>
                                          <p:spTgt spid="3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0" dur="500" fill="hold"/>
                                        <p:tgtEl>
                                          <p:spTgt spid="3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1" fill="hold">
                      <p:stCondLst>
                        <p:cond delay="indefinite"/>
                      </p:stCondLst>
                      <p:childTnLst>
                        <p:par>
                          <p:cTn id="4992" fill="hold">
                            <p:stCondLst>
                              <p:cond delay="0"/>
                            </p:stCondLst>
                            <p:childTnLst>
                              <p:par>
                                <p:cTn id="49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5" dur="500" fill="hold"/>
                                        <p:tgtEl>
                                          <p:spTgt spid="3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6" dur="500" fill="hold"/>
                                        <p:tgtEl>
                                          <p:spTgt spid="3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7" fill="hold">
                      <p:stCondLst>
                        <p:cond delay="indefinite"/>
                      </p:stCondLst>
                      <p:childTnLst>
                        <p:par>
                          <p:cTn id="4998" fill="hold">
                            <p:stCondLst>
                              <p:cond delay="0"/>
                            </p:stCondLst>
                            <p:childTnLst>
                              <p:par>
                                <p:cTn id="49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1" dur="500" fill="hold"/>
                                        <p:tgtEl>
                                          <p:spTgt spid="3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2" dur="500" fill="hold"/>
                                        <p:tgtEl>
                                          <p:spTgt spid="3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3" fill="hold">
                      <p:stCondLst>
                        <p:cond delay="indefinite"/>
                      </p:stCondLst>
                      <p:childTnLst>
                        <p:par>
                          <p:cTn id="5004" fill="hold">
                            <p:stCondLst>
                              <p:cond delay="0"/>
                            </p:stCondLst>
                            <p:childTnLst>
                              <p:par>
                                <p:cTn id="50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7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8" fill="hold">
                      <p:stCondLst>
                        <p:cond delay="indefinite"/>
                      </p:stCondLst>
                      <p:childTnLst>
                        <p:par>
                          <p:cTn id="5009" fill="hold">
                            <p:stCondLst>
                              <p:cond delay="0"/>
                            </p:stCondLst>
                            <p:childTnLst>
                              <p:par>
                                <p:cTn id="50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2" dur="500" fill="hold"/>
                                        <p:tgtEl>
                                          <p:spTgt spid="3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3" dur="500" fill="hold"/>
                                        <p:tgtEl>
                                          <p:spTgt spid="3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4" fill="hold">
                      <p:stCondLst>
                        <p:cond delay="indefinite"/>
                      </p:stCondLst>
                      <p:childTnLst>
                        <p:par>
                          <p:cTn id="5015" fill="hold">
                            <p:stCondLst>
                              <p:cond delay="0"/>
                            </p:stCondLst>
                            <p:childTnLst>
                              <p:par>
                                <p:cTn id="50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8" dur="500" fill="hold"/>
                                        <p:tgtEl>
                                          <p:spTgt spid="3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9" dur="500" fill="hold"/>
                                        <p:tgtEl>
                                          <p:spTgt spid="3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0" fill="hold">
                      <p:stCondLst>
                        <p:cond delay="indefinite"/>
                      </p:stCondLst>
                      <p:childTnLst>
                        <p:par>
                          <p:cTn id="5021" fill="hold">
                            <p:stCondLst>
                              <p:cond delay="0"/>
                            </p:stCondLst>
                            <p:childTnLst>
                              <p:par>
                                <p:cTn id="50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4" dur="500" fill="hold"/>
                                        <p:tgtEl>
                                          <p:spTgt spid="3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5" dur="500" fill="hold"/>
                                        <p:tgtEl>
                                          <p:spTgt spid="3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7" fill="hold">
                      <p:stCondLst>
                        <p:cond delay="indefinite"/>
                      </p:stCondLst>
                      <p:childTnLst>
                        <p:par>
                          <p:cTn id="5028" fill="hold">
                            <p:stCondLst>
                              <p:cond delay="0"/>
                            </p:stCondLst>
                            <p:childTnLst>
                              <p:par>
                                <p:cTn id="5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1" dur="500" fill="hold"/>
                                        <p:tgtEl>
                                          <p:spTgt spid="3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2" dur="500" fill="hold"/>
                                        <p:tgtEl>
                                          <p:spTgt spid="3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34" fill="hold">
                      <p:stCondLst>
                        <p:cond delay="indefinite"/>
                      </p:stCondLst>
                      <p:childTnLst>
                        <p:par>
                          <p:cTn id="5035" fill="hold">
                            <p:stCondLst>
                              <p:cond delay="0"/>
                            </p:stCondLst>
                            <p:childTnLst>
                              <p:par>
                                <p:cTn id="50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8" dur="500" fill="hold"/>
                                        <p:tgtEl>
                                          <p:spTgt spid="3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9" dur="500" fill="hold"/>
                                        <p:tgtEl>
                                          <p:spTgt spid="3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41" fill="hold">
                      <p:stCondLst>
                        <p:cond delay="indefinite"/>
                      </p:stCondLst>
                      <p:childTnLst>
                        <p:par>
                          <p:cTn id="5042" fill="hold">
                            <p:stCondLst>
                              <p:cond delay="0"/>
                            </p:stCondLst>
                            <p:childTnLst>
                              <p:par>
                                <p:cTn id="50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5" dur="500" fill="hold"/>
                                        <p:tgtEl>
                                          <p:spTgt spid="3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6" dur="500" fill="hold"/>
                                        <p:tgtEl>
                                          <p:spTgt spid="3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48" fill="hold">
                      <p:stCondLst>
                        <p:cond delay="indefinite"/>
                      </p:stCondLst>
                      <p:childTnLst>
                        <p:par>
                          <p:cTn id="5049" fill="hold">
                            <p:stCondLst>
                              <p:cond delay="0"/>
                            </p:stCondLst>
                            <p:childTnLst>
                              <p:par>
                                <p:cTn id="50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2" dur="10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3" dur="10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4" dur="10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5" dur="10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57" fill="hold">
                      <p:stCondLst>
                        <p:cond delay="indefinite"/>
                      </p:stCondLst>
                      <p:childTnLst>
                        <p:par>
                          <p:cTn id="5058" fill="hold">
                            <p:stCondLst>
                              <p:cond delay="0"/>
                            </p:stCondLst>
                            <p:childTnLst>
                              <p:par>
                                <p:cTn id="50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61" dur="500"/>
                                        <p:tgtEl>
                                          <p:spTgt spid="3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2" fill="hold">
                      <p:stCondLst>
                        <p:cond delay="indefinite"/>
                      </p:stCondLst>
                      <p:childTnLst>
                        <p:par>
                          <p:cTn id="5063" fill="hold">
                            <p:stCondLst>
                              <p:cond delay="0"/>
                            </p:stCondLst>
                            <p:childTnLst>
                              <p:par>
                                <p:cTn id="50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6" dur="500" fill="hold"/>
                                        <p:tgtEl>
                                          <p:spTgt spid="3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7" dur="500" fill="hold"/>
                                        <p:tgtEl>
                                          <p:spTgt spid="3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8" fill="hold">
                            <p:stCondLst>
                              <p:cond delay="500"/>
                            </p:stCondLst>
                            <p:childTnLst>
                              <p:par>
                                <p:cTn id="50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1" dur="500" fill="hold"/>
                                        <p:tgtEl>
                                          <p:spTgt spid="3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2" dur="500" fill="hold"/>
                                        <p:tgtEl>
                                          <p:spTgt spid="3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3" fill="hold">
                      <p:stCondLst>
                        <p:cond delay="indefinite"/>
                      </p:stCondLst>
                      <p:childTnLst>
                        <p:par>
                          <p:cTn id="5074" fill="hold">
                            <p:stCondLst>
                              <p:cond delay="0"/>
                            </p:stCondLst>
                            <p:childTnLst>
                              <p:par>
                                <p:cTn id="50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7" dur="500" fill="hold"/>
                                        <p:tgtEl>
                                          <p:spTgt spid="3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8" dur="500" fill="hold"/>
                                        <p:tgtEl>
                                          <p:spTgt spid="3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9" fill="hold">
                      <p:stCondLst>
                        <p:cond delay="indefinite"/>
                      </p:stCondLst>
                      <p:childTnLst>
                        <p:par>
                          <p:cTn id="5080" fill="hold">
                            <p:stCondLst>
                              <p:cond delay="0"/>
                            </p:stCondLst>
                            <p:childTnLst>
                              <p:par>
                                <p:cTn id="50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3" dur="500" fill="hold"/>
                                        <p:tgtEl>
                                          <p:spTgt spid="3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4" dur="500" fill="hold"/>
                                        <p:tgtEl>
                                          <p:spTgt spid="3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Avoidance: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dead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information about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 per request that can be fulfilled  +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utilization may be 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8" name=""/>
          <p:cNvGrpSpPr/>
          <p:nvPr/>
        </p:nvGrpSpPr>
        <p:grpSpPr>
          <a:xfrm>
            <a:off x="4867560" y="2057400"/>
            <a:ext cx="3057120" cy="1817640"/>
            <a:chOff x="4867560" y="2057400"/>
            <a:chExt cx="3057120" cy="1817640"/>
          </a:xfrm>
        </p:grpSpPr>
        <p:grpSp>
          <p:nvGrpSpPr>
            <p:cNvPr id="3359" name=""/>
            <p:cNvGrpSpPr/>
            <p:nvPr/>
          </p:nvGrpSpPr>
          <p:grpSpPr>
            <a:xfrm>
              <a:off x="7259400" y="2763360"/>
              <a:ext cx="487800" cy="178560"/>
              <a:chOff x="7259400" y="2763360"/>
              <a:chExt cx="487800" cy="178560"/>
            </a:xfrm>
          </p:grpSpPr>
          <p:sp>
            <p:nvSpPr>
              <p:cNvPr id="3360" name=""/>
              <p:cNvSpPr/>
              <p:nvPr/>
            </p:nvSpPr>
            <p:spPr>
              <a:xfrm>
                <a:off x="7626600" y="2820240"/>
                <a:ext cx="12240" cy="1260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0" y="0"/>
                    </a:moveTo>
                    <a:lnTo>
                      <a:pt x="136" y="68"/>
                    </a:lnTo>
                    <a:lnTo>
                      <a:pt x="0" y="136"/>
                    </a:lnTo>
                    <a:lnTo>
                      <a:pt x="46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7390440" y="2773080"/>
                <a:ext cx="87480" cy="54360"/>
              </a:xfrm>
              <a:custGeom>
                <a:avLst/>
                <a:gdLst/>
                <a:ahLst/>
                <a:rect l="l" t="t" r="r" b="b"/>
                <a:pathLst>
                  <a:path w="941" h="571">
                    <a:moveTo>
                      <a:pt x="57" y="571"/>
                    </a:moveTo>
                    <a:lnTo>
                      <a:pt x="231" y="571"/>
                    </a:lnTo>
                    <a:lnTo>
                      <a:pt x="941" y="0"/>
                    </a:lnTo>
                    <a:lnTo>
                      <a:pt x="737" y="87"/>
                    </a:lnTo>
                    <a:lnTo>
                      <a:pt x="535" y="184"/>
                    </a:lnTo>
                    <a:lnTo>
                      <a:pt x="337" y="289"/>
                    </a:lnTo>
                    <a:lnTo>
                      <a:pt x="147" y="403"/>
                    </a:lnTo>
                    <a:lnTo>
                      <a:pt x="0" y="499"/>
                    </a:lnTo>
                    <a:lnTo>
                      <a:pt x="57" y="5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390440" y="2773080"/>
                <a:ext cx="87480" cy="54360"/>
              </a:xfrm>
              <a:custGeom>
                <a:avLst/>
                <a:gdLst/>
                <a:ahLst/>
                <a:rect l="l" t="t" r="r" b="b"/>
                <a:pathLst>
                  <a:path w="941" h="571">
                    <a:moveTo>
                      <a:pt x="57" y="571"/>
                    </a:moveTo>
                    <a:lnTo>
                      <a:pt x="231" y="571"/>
                    </a:lnTo>
                    <a:lnTo>
                      <a:pt x="941" y="0"/>
                    </a:lnTo>
                    <a:lnTo>
                      <a:pt x="737" y="87"/>
                    </a:lnTo>
                    <a:lnTo>
                      <a:pt x="535" y="184"/>
                    </a:lnTo>
                    <a:lnTo>
                      <a:pt x="337" y="289"/>
                    </a:lnTo>
                    <a:lnTo>
                      <a:pt x="147" y="403"/>
                    </a:lnTo>
                    <a:lnTo>
                      <a:pt x="0" y="499"/>
                    </a:lnTo>
                    <a:lnTo>
                      <a:pt x="57" y="571"/>
                    </a:lnTo>
                    <a:lnTo>
                      <a:pt x="57" y="57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7707600" y="282204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337" h="359">
                    <a:moveTo>
                      <a:pt x="211" y="0"/>
                    </a:moveTo>
                    <a:lnTo>
                      <a:pt x="277" y="52"/>
                    </a:lnTo>
                    <a:lnTo>
                      <a:pt x="302" y="79"/>
                    </a:lnTo>
                    <a:lnTo>
                      <a:pt x="321" y="105"/>
                    </a:lnTo>
                    <a:lnTo>
                      <a:pt x="325" y="115"/>
                    </a:lnTo>
                    <a:lnTo>
                      <a:pt x="325" y="162"/>
                    </a:lnTo>
                    <a:lnTo>
                      <a:pt x="337" y="243"/>
                    </a:lnTo>
                    <a:lnTo>
                      <a:pt x="325" y="325"/>
                    </a:lnTo>
                    <a:lnTo>
                      <a:pt x="289" y="359"/>
                    </a:lnTo>
                    <a:lnTo>
                      <a:pt x="0" y="21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ff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7707600" y="282204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337" h="359">
                    <a:moveTo>
                      <a:pt x="211" y="0"/>
                    </a:moveTo>
                    <a:lnTo>
                      <a:pt x="277" y="52"/>
                    </a:lnTo>
                    <a:lnTo>
                      <a:pt x="302" y="79"/>
                    </a:lnTo>
                    <a:lnTo>
                      <a:pt x="321" y="105"/>
                    </a:lnTo>
                    <a:lnTo>
                      <a:pt x="325" y="115"/>
                    </a:lnTo>
                    <a:lnTo>
                      <a:pt x="325" y="162"/>
                    </a:lnTo>
                    <a:lnTo>
                      <a:pt x="337" y="243"/>
                    </a:lnTo>
                    <a:lnTo>
                      <a:pt x="325" y="325"/>
                    </a:lnTo>
                    <a:lnTo>
                      <a:pt x="289" y="359"/>
                    </a:lnTo>
                    <a:lnTo>
                      <a:pt x="0" y="21"/>
                    </a:lnTo>
                    <a:lnTo>
                      <a:pt x="211" y="0"/>
                    </a:lnTo>
                    <a:lnTo>
                      <a:pt x="2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 flipH="1">
                <a:off x="7721640" y="2837880"/>
                <a:ext cx="154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 flipH="1">
                <a:off x="7725240" y="2845440"/>
                <a:ext cx="13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265880" y="2847600"/>
                <a:ext cx="29160" cy="18360"/>
              </a:xfrm>
              <a:custGeom>
                <a:avLst/>
                <a:gdLst/>
                <a:ahLst/>
                <a:rect l="l" t="t" r="r" b="b"/>
                <a:pathLst>
                  <a:path w="313" h="198">
                    <a:moveTo>
                      <a:pt x="187" y="198"/>
                    </a:moveTo>
                    <a:lnTo>
                      <a:pt x="313" y="0"/>
                    </a:lnTo>
                    <a:lnTo>
                      <a:pt x="82" y="0"/>
                    </a:lnTo>
                    <a:lnTo>
                      <a:pt x="47" y="47"/>
                    </a:lnTo>
                    <a:lnTo>
                      <a:pt x="23" y="97"/>
                    </a:lnTo>
                    <a:lnTo>
                      <a:pt x="6" y="150"/>
                    </a:lnTo>
                    <a:lnTo>
                      <a:pt x="0" y="198"/>
                    </a:lnTo>
                    <a:lnTo>
                      <a:pt x="187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265880" y="2847600"/>
                <a:ext cx="29160" cy="18360"/>
              </a:xfrm>
              <a:custGeom>
                <a:avLst/>
                <a:gdLst/>
                <a:ahLst/>
                <a:rect l="l" t="t" r="r" b="b"/>
                <a:pathLst>
                  <a:path w="313" h="198">
                    <a:moveTo>
                      <a:pt x="187" y="198"/>
                    </a:moveTo>
                    <a:lnTo>
                      <a:pt x="313" y="0"/>
                    </a:lnTo>
                    <a:lnTo>
                      <a:pt x="82" y="0"/>
                    </a:lnTo>
                    <a:lnTo>
                      <a:pt x="47" y="47"/>
                    </a:lnTo>
                    <a:lnTo>
                      <a:pt x="23" y="97"/>
                    </a:lnTo>
                    <a:lnTo>
                      <a:pt x="6" y="150"/>
                    </a:lnTo>
                    <a:lnTo>
                      <a:pt x="0" y="198"/>
                    </a:lnTo>
                    <a:lnTo>
                      <a:pt x="187" y="198"/>
                    </a:lnTo>
                    <a:lnTo>
                      <a:pt x="187" y="1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7285320" y="2849760"/>
                <a:ext cx="439920" cy="92160"/>
              </a:xfrm>
              <a:custGeom>
                <a:avLst/>
                <a:gdLst/>
                <a:ahLst/>
                <a:rect l="l" t="t" r="r" b="b"/>
                <a:pathLst>
                  <a:path w="4723" h="962">
                    <a:moveTo>
                      <a:pt x="3768" y="592"/>
                    </a:moveTo>
                    <a:lnTo>
                      <a:pt x="3781" y="655"/>
                    </a:lnTo>
                    <a:lnTo>
                      <a:pt x="3803" y="714"/>
                    </a:lnTo>
                    <a:lnTo>
                      <a:pt x="3832" y="770"/>
                    </a:lnTo>
                    <a:lnTo>
                      <a:pt x="3869" y="820"/>
                    </a:lnTo>
                    <a:lnTo>
                      <a:pt x="3916" y="864"/>
                    </a:lnTo>
                    <a:lnTo>
                      <a:pt x="3968" y="898"/>
                    </a:lnTo>
                    <a:lnTo>
                      <a:pt x="4024" y="928"/>
                    </a:lnTo>
                    <a:lnTo>
                      <a:pt x="4084" y="951"/>
                    </a:lnTo>
                    <a:lnTo>
                      <a:pt x="4153" y="962"/>
                    </a:lnTo>
                    <a:lnTo>
                      <a:pt x="4212" y="962"/>
                    </a:lnTo>
                    <a:lnTo>
                      <a:pt x="4269" y="951"/>
                    </a:lnTo>
                    <a:lnTo>
                      <a:pt x="4340" y="928"/>
                    </a:lnTo>
                    <a:lnTo>
                      <a:pt x="4386" y="894"/>
                    </a:lnTo>
                    <a:lnTo>
                      <a:pt x="4445" y="847"/>
                    </a:lnTo>
                    <a:lnTo>
                      <a:pt x="4482" y="795"/>
                    </a:lnTo>
                    <a:lnTo>
                      <a:pt x="4516" y="743"/>
                    </a:lnTo>
                    <a:lnTo>
                      <a:pt x="4541" y="684"/>
                    </a:lnTo>
                    <a:lnTo>
                      <a:pt x="4558" y="623"/>
                    </a:lnTo>
                    <a:lnTo>
                      <a:pt x="4562" y="558"/>
                    </a:lnTo>
                    <a:lnTo>
                      <a:pt x="4560" y="499"/>
                    </a:lnTo>
                    <a:lnTo>
                      <a:pt x="4711" y="486"/>
                    </a:lnTo>
                    <a:lnTo>
                      <a:pt x="4723" y="82"/>
                    </a:lnTo>
                    <a:lnTo>
                      <a:pt x="3687" y="35"/>
                    </a:lnTo>
                    <a:lnTo>
                      <a:pt x="161" y="0"/>
                    </a:lnTo>
                    <a:lnTo>
                      <a:pt x="0" y="464"/>
                    </a:lnTo>
                    <a:lnTo>
                      <a:pt x="82" y="581"/>
                    </a:lnTo>
                    <a:lnTo>
                      <a:pt x="220" y="592"/>
                    </a:lnTo>
                    <a:lnTo>
                      <a:pt x="230" y="655"/>
                    </a:lnTo>
                    <a:lnTo>
                      <a:pt x="252" y="716"/>
                    </a:lnTo>
                    <a:lnTo>
                      <a:pt x="279" y="773"/>
                    </a:lnTo>
                    <a:lnTo>
                      <a:pt x="316" y="825"/>
                    </a:lnTo>
                    <a:lnTo>
                      <a:pt x="363" y="869"/>
                    </a:lnTo>
                    <a:lnTo>
                      <a:pt x="413" y="906"/>
                    </a:lnTo>
                    <a:lnTo>
                      <a:pt x="472" y="934"/>
                    </a:lnTo>
                    <a:lnTo>
                      <a:pt x="534" y="953"/>
                    </a:lnTo>
                    <a:lnTo>
                      <a:pt x="595" y="962"/>
                    </a:lnTo>
                    <a:lnTo>
                      <a:pt x="659" y="962"/>
                    </a:lnTo>
                    <a:lnTo>
                      <a:pt x="723" y="951"/>
                    </a:lnTo>
                    <a:lnTo>
                      <a:pt x="780" y="930"/>
                    </a:lnTo>
                    <a:lnTo>
                      <a:pt x="838" y="901"/>
                    </a:lnTo>
                    <a:lnTo>
                      <a:pt x="889" y="862"/>
                    </a:lnTo>
                    <a:lnTo>
                      <a:pt x="933" y="814"/>
                    </a:lnTo>
                    <a:lnTo>
                      <a:pt x="969" y="762"/>
                    </a:lnTo>
                    <a:lnTo>
                      <a:pt x="998" y="706"/>
                    </a:lnTo>
                    <a:lnTo>
                      <a:pt x="1015" y="644"/>
                    </a:lnTo>
                    <a:lnTo>
                      <a:pt x="1025" y="592"/>
                    </a:lnTo>
                    <a:lnTo>
                      <a:pt x="3768" y="5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7285320" y="2849760"/>
                <a:ext cx="439920" cy="92160"/>
              </a:xfrm>
              <a:custGeom>
                <a:avLst/>
                <a:gdLst/>
                <a:ahLst/>
                <a:rect l="l" t="t" r="r" b="b"/>
                <a:pathLst>
                  <a:path w="4723" h="962">
                    <a:moveTo>
                      <a:pt x="3768" y="592"/>
                    </a:moveTo>
                    <a:lnTo>
                      <a:pt x="3781" y="655"/>
                    </a:lnTo>
                    <a:lnTo>
                      <a:pt x="3803" y="714"/>
                    </a:lnTo>
                    <a:lnTo>
                      <a:pt x="3832" y="770"/>
                    </a:lnTo>
                    <a:lnTo>
                      <a:pt x="3869" y="820"/>
                    </a:lnTo>
                    <a:lnTo>
                      <a:pt x="3916" y="864"/>
                    </a:lnTo>
                    <a:lnTo>
                      <a:pt x="3968" y="898"/>
                    </a:lnTo>
                    <a:lnTo>
                      <a:pt x="4024" y="928"/>
                    </a:lnTo>
                    <a:lnTo>
                      <a:pt x="4084" y="951"/>
                    </a:lnTo>
                    <a:lnTo>
                      <a:pt x="4153" y="962"/>
                    </a:lnTo>
                    <a:lnTo>
                      <a:pt x="4212" y="962"/>
                    </a:lnTo>
                    <a:lnTo>
                      <a:pt x="4269" y="951"/>
                    </a:lnTo>
                    <a:lnTo>
                      <a:pt x="4340" y="928"/>
                    </a:lnTo>
                    <a:lnTo>
                      <a:pt x="4386" y="894"/>
                    </a:lnTo>
                    <a:lnTo>
                      <a:pt x="4445" y="847"/>
                    </a:lnTo>
                    <a:lnTo>
                      <a:pt x="4482" y="795"/>
                    </a:lnTo>
                    <a:lnTo>
                      <a:pt x="4516" y="743"/>
                    </a:lnTo>
                    <a:lnTo>
                      <a:pt x="4541" y="684"/>
                    </a:lnTo>
                    <a:lnTo>
                      <a:pt x="4558" y="623"/>
                    </a:lnTo>
                    <a:lnTo>
                      <a:pt x="4562" y="558"/>
                    </a:lnTo>
                    <a:lnTo>
                      <a:pt x="4560" y="499"/>
                    </a:lnTo>
                    <a:lnTo>
                      <a:pt x="4711" y="486"/>
                    </a:lnTo>
                    <a:lnTo>
                      <a:pt x="4723" y="82"/>
                    </a:lnTo>
                    <a:lnTo>
                      <a:pt x="3687" y="35"/>
                    </a:lnTo>
                    <a:lnTo>
                      <a:pt x="161" y="0"/>
                    </a:lnTo>
                    <a:lnTo>
                      <a:pt x="0" y="464"/>
                    </a:lnTo>
                    <a:lnTo>
                      <a:pt x="82" y="581"/>
                    </a:lnTo>
                    <a:lnTo>
                      <a:pt x="220" y="592"/>
                    </a:lnTo>
                    <a:lnTo>
                      <a:pt x="230" y="655"/>
                    </a:lnTo>
                    <a:lnTo>
                      <a:pt x="252" y="716"/>
                    </a:lnTo>
                    <a:lnTo>
                      <a:pt x="279" y="773"/>
                    </a:lnTo>
                    <a:lnTo>
                      <a:pt x="316" y="825"/>
                    </a:lnTo>
                    <a:lnTo>
                      <a:pt x="363" y="869"/>
                    </a:lnTo>
                    <a:lnTo>
                      <a:pt x="413" y="906"/>
                    </a:lnTo>
                    <a:lnTo>
                      <a:pt x="472" y="934"/>
                    </a:lnTo>
                    <a:lnTo>
                      <a:pt x="534" y="953"/>
                    </a:lnTo>
                    <a:lnTo>
                      <a:pt x="595" y="962"/>
                    </a:lnTo>
                    <a:lnTo>
                      <a:pt x="659" y="962"/>
                    </a:lnTo>
                    <a:lnTo>
                      <a:pt x="723" y="951"/>
                    </a:lnTo>
                    <a:lnTo>
                      <a:pt x="780" y="930"/>
                    </a:lnTo>
                    <a:lnTo>
                      <a:pt x="838" y="901"/>
                    </a:lnTo>
                    <a:lnTo>
                      <a:pt x="889" y="862"/>
                    </a:lnTo>
                    <a:lnTo>
                      <a:pt x="933" y="814"/>
                    </a:lnTo>
                    <a:lnTo>
                      <a:pt x="969" y="762"/>
                    </a:lnTo>
                    <a:lnTo>
                      <a:pt x="998" y="706"/>
                    </a:lnTo>
                    <a:lnTo>
                      <a:pt x="1015" y="644"/>
                    </a:lnTo>
                    <a:lnTo>
                      <a:pt x="1025" y="592"/>
                    </a:lnTo>
                    <a:lnTo>
                      <a:pt x="3768" y="592"/>
                    </a:lnTo>
                    <a:lnTo>
                      <a:pt x="3768" y="5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7263360" y="2763360"/>
                <a:ext cx="477000" cy="150840"/>
              </a:xfrm>
              <a:custGeom>
                <a:avLst/>
                <a:gdLst/>
                <a:ahLst/>
                <a:rect l="l" t="t" r="r" b="b"/>
                <a:pathLst>
                  <a:path w="5122" h="1580">
                    <a:moveTo>
                      <a:pt x="386" y="1555"/>
                    </a:moveTo>
                    <a:lnTo>
                      <a:pt x="352" y="1557"/>
                    </a:lnTo>
                    <a:lnTo>
                      <a:pt x="233" y="1555"/>
                    </a:lnTo>
                    <a:lnTo>
                      <a:pt x="119" y="1546"/>
                    </a:lnTo>
                    <a:lnTo>
                      <a:pt x="107" y="1486"/>
                    </a:lnTo>
                    <a:lnTo>
                      <a:pt x="72" y="1464"/>
                    </a:lnTo>
                    <a:lnTo>
                      <a:pt x="82" y="1416"/>
                    </a:lnTo>
                    <a:lnTo>
                      <a:pt x="82" y="1415"/>
                    </a:lnTo>
                    <a:lnTo>
                      <a:pt x="48" y="1382"/>
                    </a:lnTo>
                    <a:lnTo>
                      <a:pt x="21" y="1346"/>
                    </a:lnTo>
                    <a:lnTo>
                      <a:pt x="0" y="1301"/>
                    </a:lnTo>
                    <a:lnTo>
                      <a:pt x="0" y="1194"/>
                    </a:lnTo>
                    <a:lnTo>
                      <a:pt x="129" y="1103"/>
                    </a:lnTo>
                    <a:lnTo>
                      <a:pt x="245" y="940"/>
                    </a:lnTo>
                    <a:lnTo>
                      <a:pt x="258" y="933"/>
                    </a:lnTo>
                    <a:lnTo>
                      <a:pt x="262" y="921"/>
                    </a:lnTo>
                    <a:lnTo>
                      <a:pt x="260" y="908"/>
                    </a:lnTo>
                    <a:lnTo>
                      <a:pt x="252" y="898"/>
                    </a:lnTo>
                    <a:lnTo>
                      <a:pt x="241" y="894"/>
                    </a:lnTo>
                    <a:lnTo>
                      <a:pt x="235" y="894"/>
                    </a:lnTo>
                    <a:lnTo>
                      <a:pt x="107" y="894"/>
                    </a:lnTo>
                    <a:lnTo>
                      <a:pt x="107" y="881"/>
                    </a:lnTo>
                    <a:lnTo>
                      <a:pt x="114" y="859"/>
                    </a:lnTo>
                    <a:lnTo>
                      <a:pt x="132" y="841"/>
                    </a:lnTo>
                    <a:lnTo>
                      <a:pt x="154" y="837"/>
                    </a:lnTo>
                    <a:lnTo>
                      <a:pt x="200" y="812"/>
                    </a:lnTo>
                    <a:lnTo>
                      <a:pt x="338" y="768"/>
                    </a:lnTo>
                    <a:lnTo>
                      <a:pt x="526" y="709"/>
                    </a:lnTo>
                    <a:lnTo>
                      <a:pt x="728" y="662"/>
                    </a:lnTo>
                    <a:lnTo>
                      <a:pt x="931" y="620"/>
                    </a:lnTo>
                    <a:lnTo>
                      <a:pt x="1133" y="590"/>
                    </a:lnTo>
                    <a:lnTo>
                      <a:pt x="1340" y="568"/>
                    </a:lnTo>
                    <a:lnTo>
                      <a:pt x="1420" y="603"/>
                    </a:lnTo>
                    <a:lnTo>
                      <a:pt x="1459" y="612"/>
                    </a:lnTo>
                    <a:lnTo>
                      <a:pt x="1498" y="614"/>
                    </a:lnTo>
                    <a:lnTo>
                      <a:pt x="1535" y="604"/>
                    </a:lnTo>
                    <a:lnTo>
                      <a:pt x="1538" y="603"/>
                    </a:lnTo>
                    <a:lnTo>
                      <a:pt x="2234" y="127"/>
                    </a:lnTo>
                    <a:lnTo>
                      <a:pt x="2280" y="103"/>
                    </a:lnTo>
                    <a:lnTo>
                      <a:pt x="2362" y="71"/>
                    </a:lnTo>
                    <a:lnTo>
                      <a:pt x="2444" y="47"/>
                    </a:lnTo>
                    <a:lnTo>
                      <a:pt x="2528" y="35"/>
                    </a:lnTo>
                    <a:lnTo>
                      <a:pt x="3317" y="0"/>
                    </a:lnTo>
                    <a:lnTo>
                      <a:pt x="4166" y="25"/>
                    </a:lnTo>
                    <a:lnTo>
                      <a:pt x="4248" y="47"/>
                    </a:lnTo>
                    <a:lnTo>
                      <a:pt x="4282" y="81"/>
                    </a:lnTo>
                    <a:lnTo>
                      <a:pt x="4854" y="499"/>
                    </a:lnTo>
                    <a:lnTo>
                      <a:pt x="5029" y="637"/>
                    </a:lnTo>
                    <a:lnTo>
                      <a:pt x="4829" y="648"/>
                    </a:lnTo>
                    <a:lnTo>
                      <a:pt x="5087" y="1009"/>
                    </a:lnTo>
                    <a:lnTo>
                      <a:pt x="5122" y="1254"/>
                    </a:lnTo>
                    <a:lnTo>
                      <a:pt x="5039" y="1336"/>
                    </a:lnTo>
                    <a:lnTo>
                      <a:pt x="5060" y="1370"/>
                    </a:lnTo>
                    <a:lnTo>
                      <a:pt x="5053" y="1392"/>
                    </a:lnTo>
                    <a:lnTo>
                      <a:pt x="4888" y="1439"/>
                    </a:lnTo>
                    <a:lnTo>
                      <a:pt x="4873" y="1370"/>
                    </a:lnTo>
                    <a:lnTo>
                      <a:pt x="4850" y="1301"/>
                    </a:lnTo>
                    <a:lnTo>
                      <a:pt x="4818" y="1240"/>
                    </a:lnTo>
                    <a:lnTo>
                      <a:pt x="4776" y="1181"/>
                    </a:lnTo>
                    <a:lnTo>
                      <a:pt x="4726" y="1128"/>
                    </a:lnTo>
                    <a:lnTo>
                      <a:pt x="4669" y="1084"/>
                    </a:lnTo>
                    <a:lnTo>
                      <a:pt x="4607" y="1049"/>
                    </a:lnTo>
                    <a:lnTo>
                      <a:pt x="4541" y="1022"/>
                    </a:lnTo>
                    <a:lnTo>
                      <a:pt x="4473" y="1007"/>
                    </a:lnTo>
                    <a:lnTo>
                      <a:pt x="4403" y="998"/>
                    </a:lnTo>
                    <a:lnTo>
                      <a:pt x="4331" y="1001"/>
                    </a:lnTo>
                    <a:lnTo>
                      <a:pt x="4259" y="1015"/>
                    </a:lnTo>
                    <a:lnTo>
                      <a:pt x="4193" y="1036"/>
                    </a:lnTo>
                    <a:lnTo>
                      <a:pt x="4131" y="1069"/>
                    </a:lnTo>
                    <a:lnTo>
                      <a:pt x="4070" y="1108"/>
                    </a:lnTo>
                    <a:lnTo>
                      <a:pt x="4017" y="1158"/>
                    </a:lnTo>
                    <a:lnTo>
                      <a:pt x="3973" y="1215"/>
                    </a:lnTo>
                    <a:lnTo>
                      <a:pt x="3937" y="1277"/>
                    </a:lnTo>
                    <a:lnTo>
                      <a:pt x="3910" y="1340"/>
                    </a:lnTo>
                    <a:lnTo>
                      <a:pt x="3891" y="1410"/>
                    </a:lnTo>
                    <a:lnTo>
                      <a:pt x="3882" y="1481"/>
                    </a:lnTo>
                    <a:lnTo>
                      <a:pt x="3885" y="1553"/>
                    </a:lnTo>
                    <a:lnTo>
                      <a:pt x="3887" y="1580"/>
                    </a:lnTo>
                    <a:lnTo>
                      <a:pt x="1340" y="1580"/>
                    </a:lnTo>
                    <a:lnTo>
                      <a:pt x="1346" y="1511"/>
                    </a:lnTo>
                    <a:lnTo>
                      <a:pt x="1340" y="1439"/>
                    </a:lnTo>
                    <a:lnTo>
                      <a:pt x="1326" y="1370"/>
                    </a:lnTo>
                    <a:lnTo>
                      <a:pt x="1304" y="1305"/>
                    </a:lnTo>
                    <a:lnTo>
                      <a:pt x="1271" y="1244"/>
                    </a:lnTo>
                    <a:lnTo>
                      <a:pt x="1229" y="1191"/>
                    </a:lnTo>
                    <a:lnTo>
                      <a:pt x="1181" y="1139"/>
                    </a:lnTo>
                    <a:lnTo>
                      <a:pt x="1123" y="1095"/>
                    </a:lnTo>
                    <a:lnTo>
                      <a:pt x="1064" y="1064"/>
                    </a:lnTo>
                    <a:lnTo>
                      <a:pt x="998" y="1039"/>
                    </a:lnTo>
                    <a:lnTo>
                      <a:pt x="931" y="1025"/>
                    </a:lnTo>
                    <a:lnTo>
                      <a:pt x="860" y="1022"/>
                    </a:lnTo>
                    <a:lnTo>
                      <a:pt x="790" y="1026"/>
                    </a:lnTo>
                    <a:lnTo>
                      <a:pt x="724" y="1042"/>
                    </a:lnTo>
                    <a:lnTo>
                      <a:pt x="659" y="1069"/>
                    </a:lnTo>
                    <a:lnTo>
                      <a:pt x="598" y="1103"/>
                    </a:lnTo>
                    <a:lnTo>
                      <a:pt x="543" y="1145"/>
                    </a:lnTo>
                    <a:lnTo>
                      <a:pt x="493" y="1194"/>
                    </a:lnTo>
                    <a:lnTo>
                      <a:pt x="455" y="1252"/>
                    </a:lnTo>
                    <a:lnTo>
                      <a:pt x="423" y="1313"/>
                    </a:lnTo>
                    <a:lnTo>
                      <a:pt x="400" y="1380"/>
                    </a:lnTo>
                    <a:lnTo>
                      <a:pt x="388" y="1449"/>
                    </a:lnTo>
                    <a:lnTo>
                      <a:pt x="383" y="1519"/>
                    </a:lnTo>
                    <a:lnTo>
                      <a:pt x="386" y="1546"/>
                    </a:lnTo>
                    <a:lnTo>
                      <a:pt x="386" y="1555"/>
                    </a:lnTo>
                    <a:close/>
                  </a:path>
                </a:pathLst>
              </a:custGeom>
              <a:solidFill>
                <a:srgbClr val="006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7263360" y="2763360"/>
                <a:ext cx="477000" cy="150840"/>
              </a:xfrm>
              <a:custGeom>
                <a:avLst/>
                <a:gdLst/>
                <a:ahLst/>
                <a:rect l="l" t="t" r="r" b="b"/>
                <a:pathLst>
                  <a:path w="5122" h="1580">
                    <a:moveTo>
                      <a:pt x="386" y="1555"/>
                    </a:moveTo>
                    <a:lnTo>
                      <a:pt x="352" y="1557"/>
                    </a:lnTo>
                    <a:lnTo>
                      <a:pt x="233" y="1555"/>
                    </a:lnTo>
                    <a:lnTo>
                      <a:pt x="119" y="1546"/>
                    </a:lnTo>
                    <a:lnTo>
                      <a:pt x="107" y="1486"/>
                    </a:lnTo>
                    <a:lnTo>
                      <a:pt x="72" y="1464"/>
                    </a:lnTo>
                    <a:lnTo>
                      <a:pt x="82" y="1416"/>
                    </a:lnTo>
                    <a:lnTo>
                      <a:pt x="82" y="1415"/>
                    </a:lnTo>
                    <a:lnTo>
                      <a:pt x="48" y="1382"/>
                    </a:lnTo>
                    <a:lnTo>
                      <a:pt x="21" y="1346"/>
                    </a:lnTo>
                    <a:lnTo>
                      <a:pt x="0" y="1301"/>
                    </a:lnTo>
                    <a:lnTo>
                      <a:pt x="0" y="1194"/>
                    </a:lnTo>
                    <a:lnTo>
                      <a:pt x="129" y="1103"/>
                    </a:lnTo>
                    <a:lnTo>
                      <a:pt x="245" y="940"/>
                    </a:lnTo>
                    <a:lnTo>
                      <a:pt x="258" y="933"/>
                    </a:lnTo>
                    <a:lnTo>
                      <a:pt x="262" y="921"/>
                    </a:lnTo>
                    <a:lnTo>
                      <a:pt x="260" y="908"/>
                    </a:lnTo>
                    <a:lnTo>
                      <a:pt x="252" y="898"/>
                    </a:lnTo>
                    <a:lnTo>
                      <a:pt x="241" y="894"/>
                    </a:lnTo>
                    <a:lnTo>
                      <a:pt x="235" y="894"/>
                    </a:lnTo>
                    <a:lnTo>
                      <a:pt x="107" y="894"/>
                    </a:lnTo>
                    <a:lnTo>
                      <a:pt x="107" y="881"/>
                    </a:lnTo>
                    <a:lnTo>
                      <a:pt x="114" y="859"/>
                    </a:lnTo>
                    <a:lnTo>
                      <a:pt x="132" y="841"/>
                    </a:lnTo>
                    <a:lnTo>
                      <a:pt x="154" y="837"/>
                    </a:lnTo>
                    <a:lnTo>
                      <a:pt x="200" y="812"/>
                    </a:lnTo>
                    <a:lnTo>
                      <a:pt x="338" y="768"/>
                    </a:lnTo>
                    <a:lnTo>
                      <a:pt x="526" y="709"/>
                    </a:lnTo>
                    <a:lnTo>
                      <a:pt x="728" y="662"/>
                    </a:lnTo>
                    <a:lnTo>
                      <a:pt x="931" y="620"/>
                    </a:lnTo>
                    <a:lnTo>
                      <a:pt x="1133" y="590"/>
                    </a:lnTo>
                    <a:lnTo>
                      <a:pt x="1340" y="568"/>
                    </a:lnTo>
                    <a:lnTo>
                      <a:pt x="1420" y="603"/>
                    </a:lnTo>
                    <a:lnTo>
                      <a:pt x="1459" y="612"/>
                    </a:lnTo>
                    <a:lnTo>
                      <a:pt x="1498" y="614"/>
                    </a:lnTo>
                    <a:lnTo>
                      <a:pt x="1535" y="604"/>
                    </a:lnTo>
                    <a:lnTo>
                      <a:pt x="1538" y="603"/>
                    </a:lnTo>
                    <a:lnTo>
                      <a:pt x="2234" y="127"/>
                    </a:lnTo>
                    <a:lnTo>
                      <a:pt x="2280" y="103"/>
                    </a:lnTo>
                    <a:lnTo>
                      <a:pt x="2362" y="71"/>
                    </a:lnTo>
                    <a:lnTo>
                      <a:pt x="2444" y="47"/>
                    </a:lnTo>
                    <a:lnTo>
                      <a:pt x="2528" y="35"/>
                    </a:lnTo>
                    <a:lnTo>
                      <a:pt x="3317" y="0"/>
                    </a:lnTo>
                    <a:lnTo>
                      <a:pt x="4166" y="25"/>
                    </a:lnTo>
                    <a:lnTo>
                      <a:pt x="4248" y="47"/>
                    </a:lnTo>
                    <a:lnTo>
                      <a:pt x="4282" y="81"/>
                    </a:lnTo>
                    <a:lnTo>
                      <a:pt x="4854" y="499"/>
                    </a:lnTo>
                    <a:lnTo>
                      <a:pt x="5029" y="637"/>
                    </a:lnTo>
                    <a:lnTo>
                      <a:pt x="4829" y="648"/>
                    </a:lnTo>
                    <a:lnTo>
                      <a:pt x="5087" y="1009"/>
                    </a:lnTo>
                    <a:lnTo>
                      <a:pt x="5122" y="1254"/>
                    </a:lnTo>
                    <a:lnTo>
                      <a:pt x="5039" y="1336"/>
                    </a:lnTo>
                    <a:lnTo>
                      <a:pt x="5060" y="1370"/>
                    </a:lnTo>
                    <a:lnTo>
                      <a:pt x="5053" y="1392"/>
                    </a:lnTo>
                    <a:lnTo>
                      <a:pt x="4888" y="1439"/>
                    </a:lnTo>
                    <a:lnTo>
                      <a:pt x="4873" y="1370"/>
                    </a:lnTo>
                    <a:lnTo>
                      <a:pt x="4850" y="1301"/>
                    </a:lnTo>
                    <a:lnTo>
                      <a:pt x="4818" y="1240"/>
                    </a:lnTo>
                    <a:lnTo>
                      <a:pt x="4776" y="1181"/>
                    </a:lnTo>
                    <a:lnTo>
                      <a:pt x="4726" y="1128"/>
                    </a:lnTo>
                    <a:lnTo>
                      <a:pt x="4669" y="1084"/>
                    </a:lnTo>
                    <a:lnTo>
                      <a:pt x="4607" y="1049"/>
                    </a:lnTo>
                    <a:lnTo>
                      <a:pt x="4541" y="1022"/>
                    </a:lnTo>
                    <a:lnTo>
                      <a:pt x="4473" y="1007"/>
                    </a:lnTo>
                    <a:lnTo>
                      <a:pt x="4403" y="998"/>
                    </a:lnTo>
                    <a:lnTo>
                      <a:pt x="4331" y="1001"/>
                    </a:lnTo>
                    <a:lnTo>
                      <a:pt x="4259" y="1015"/>
                    </a:lnTo>
                    <a:lnTo>
                      <a:pt x="4193" y="1036"/>
                    </a:lnTo>
                    <a:lnTo>
                      <a:pt x="4131" y="1069"/>
                    </a:lnTo>
                    <a:lnTo>
                      <a:pt x="4070" y="1108"/>
                    </a:lnTo>
                    <a:lnTo>
                      <a:pt x="4017" y="1158"/>
                    </a:lnTo>
                    <a:lnTo>
                      <a:pt x="3973" y="1215"/>
                    </a:lnTo>
                    <a:lnTo>
                      <a:pt x="3937" y="1277"/>
                    </a:lnTo>
                    <a:lnTo>
                      <a:pt x="3910" y="1340"/>
                    </a:lnTo>
                    <a:lnTo>
                      <a:pt x="3891" y="1410"/>
                    </a:lnTo>
                    <a:lnTo>
                      <a:pt x="3882" y="1481"/>
                    </a:lnTo>
                    <a:lnTo>
                      <a:pt x="3885" y="1553"/>
                    </a:lnTo>
                    <a:lnTo>
                      <a:pt x="3887" y="1580"/>
                    </a:lnTo>
                    <a:lnTo>
                      <a:pt x="1340" y="1580"/>
                    </a:lnTo>
                    <a:lnTo>
                      <a:pt x="1346" y="1511"/>
                    </a:lnTo>
                    <a:lnTo>
                      <a:pt x="1340" y="1439"/>
                    </a:lnTo>
                    <a:lnTo>
                      <a:pt x="1326" y="1370"/>
                    </a:lnTo>
                    <a:lnTo>
                      <a:pt x="1304" y="1305"/>
                    </a:lnTo>
                    <a:lnTo>
                      <a:pt x="1271" y="1244"/>
                    </a:lnTo>
                    <a:lnTo>
                      <a:pt x="1229" y="1191"/>
                    </a:lnTo>
                    <a:lnTo>
                      <a:pt x="1181" y="1139"/>
                    </a:lnTo>
                    <a:lnTo>
                      <a:pt x="1123" y="1095"/>
                    </a:lnTo>
                    <a:lnTo>
                      <a:pt x="1064" y="1064"/>
                    </a:lnTo>
                    <a:lnTo>
                      <a:pt x="998" y="1039"/>
                    </a:lnTo>
                    <a:lnTo>
                      <a:pt x="931" y="1025"/>
                    </a:lnTo>
                    <a:lnTo>
                      <a:pt x="860" y="1022"/>
                    </a:lnTo>
                    <a:lnTo>
                      <a:pt x="790" y="1026"/>
                    </a:lnTo>
                    <a:lnTo>
                      <a:pt x="724" y="1042"/>
                    </a:lnTo>
                    <a:lnTo>
                      <a:pt x="659" y="1069"/>
                    </a:lnTo>
                    <a:lnTo>
                      <a:pt x="598" y="1103"/>
                    </a:lnTo>
                    <a:lnTo>
                      <a:pt x="543" y="1145"/>
                    </a:lnTo>
                    <a:lnTo>
                      <a:pt x="493" y="1194"/>
                    </a:lnTo>
                    <a:lnTo>
                      <a:pt x="455" y="1252"/>
                    </a:lnTo>
                    <a:lnTo>
                      <a:pt x="423" y="1313"/>
                    </a:lnTo>
                    <a:lnTo>
                      <a:pt x="400" y="1380"/>
                    </a:lnTo>
                    <a:lnTo>
                      <a:pt x="388" y="1449"/>
                    </a:lnTo>
                    <a:lnTo>
                      <a:pt x="383" y="1519"/>
                    </a:lnTo>
                    <a:lnTo>
                      <a:pt x="386" y="1546"/>
                    </a:lnTo>
                    <a:lnTo>
                      <a:pt x="386" y="1555"/>
                    </a:lnTo>
                    <a:lnTo>
                      <a:pt x="386" y="15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7320240" y="2880720"/>
                <a:ext cx="47160" cy="48600"/>
              </a:xfrm>
              <a:custGeom>
                <a:avLst/>
                <a:gdLst/>
                <a:ahLst/>
                <a:rect l="l" t="t" r="r" b="b"/>
                <a:pathLst>
                  <a:path w="510" h="511">
                    <a:moveTo>
                      <a:pt x="510" y="258"/>
                    </a:moveTo>
                    <a:lnTo>
                      <a:pt x="506" y="206"/>
                    </a:lnTo>
                    <a:lnTo>
                      <a:pt x="492" y="158"/>
                    </a:lnTo>
                    <a:lnTo>
                      <a:pt x="467" y="113"/>
                    </a:lnTo>
                    <a:lnTo>
                      <a:pt x="434" y="75"/>
                    </a:lnTo>
                    <a:lnTo>
                      <a:pt x="396" y="43"/>
                    </a:lnTo>
                    <a:lnTo>
                      <a:pt x="350" y="18"/>
                    </a:lnTo>
                    <a:lnTo>
                      <a:pt x="299" y="6"/>
                    </a:lnTo>
                    <a:lnTo>
                      <a:pt x="249" y="0"/>
                    </a:lnTo>
                    <a:lnTo>
                      <a:pt x="199" y="8"/>
                    </a:lnTo>
                    <a:lnTo>
                      <a:pt x="153" y="23"/>
                    </a:lnTo>
                    <a:lnTo>
                      <a:pt x="109" y="48"/>
                    </a:lnTo>
                    <a:lnTo>
                      <a:pt x="69" y="82"/>
                    </a:lnTo>
                    <a:lnTo>
                      <a:pt x="40" y="122"/>
                    </a:lnTo>
                    <a:lnTo>
                      <a:pt x="18" y="168"/>
                    </a:lnTo>
                    <a:lnTo>
                      <a:pt x="2" y="218"/>
                    </a:lnTo>
                    <a:lnTo>
                      <a:pt x="0" y="268"/>
                    </a:lnTo>
                    <a:lnTo>
                      <a:pt x="8" y="317"/>
                    </a:lnTo>
                    <a:lnTo>
                      <a:pt x="25" y="366"/>
                    </a:lnTo>
                    <a:lnTo>
                      <a:pt x="50" y="408"/>
                    </a:lnTo>
                    <a:lnTo>
                      <a:pt x="84" y="447"/>
                    </a:lnTo>
                    <a:lnTo>
                      <a:pt x="124" y="477"/>
                    </a:lnTo>
                    <a:lnTo>
                      <a:pt x="171" y="499"/>
                    </a:lnTo>
                    <a:lnTo>
                      <a:pt x="220" y="510"/>
                    </a:lnTo>
                    <a:lnTo>
                      <a:pt x="271" y="511"/>
                    </a:lnTo>
                    <a:lnTo>
                      <a:pt x="319" y="504"/>
                    </a:lnTo>
                    <a:lnTo>
                      <a:pt x="368" y="487"/>
                    </a:lnTo>
                    <a:lnTo>
                      <a:pt x="413" y="460"/>
                    </a:lnTo>
                    <a:lnTo>
                      <a:pt x="449" y="425"/>
                    </a:lnTo>
                    <a:lnTo>
                      <a:pt x="476" y="383"/>
                    </a:lnTo>
                    <a:lnTo>
                      <a:pt x="499" y="337"/>
                    </a:lnTo>
                    <a:lnTo>
                      <a:pt x="509" y="286"/>
                    </a:lnTo>
                    <a:lnTo>
                      <a:pt x="510" y="2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7320240" y="2880720"/>
                <a:ext cx="47160" cy="48600"/>
              </a:xfrm>
              <a:custGeom>
                <a:avLst/>
                <a:gdLst/>
                <a:ahLst/>
                <a:rect l="l" t="t" r="r" b="b"/>
                <a:pathLst>
                  <a:path w="510" h="511">
                    <a:moveTo>
                      <a:pt x="510" y="258"/>
                    </a:moveTo>
                    <a:lnTo>
                      <a:pt x="506" y="206"/>
                    </a:lnTo>
                    <a:lnTo>
                      <a:pt x="492" y="158"/>
                    </a:lnTo>
                    <a:lnTo>
                      <a:pt x="467" y="113"/>
                    </a:lnTo>
                    <a:lnTo>
                      <a:pt x="434" y="75"/>
                    </a:lnTo>
                    <a:lnTo>
                      <a:pt x="396" y="43"/>
                    </a:lnTo>
                    <a:lnTo>
                      <a:pt x="350" y="18"/>
                    </a:lnTo>
                    <a:lnTo>
                      <a:pt x="299" y="6"/>
                    </a:lnTo>
                    <a:lnTo>
                      <a:pt x="249" y="0"/>
                    </a:lnTo>
                    <a:lnTo>
                      <a:pt x="199" y="8"/>
                    </a:lnTo>
                    <a:lnTo>
                      <a:pt x="153" y="23"/>
                    </a:lnTo>
                    <a:lnTo>
                      <a:pt x="109" y="48"/>
                    </a:lnTo>
                    <a:lnTo>
                      <a:pt x="69" y="82"/>
                    </a:lnTo>
                    <a:lnTo>
                      <a:pt x="40" y="122"/>
                    </a:lnTo>
                    <a:lnTo>
                      <a:pt x="18" y="168"/>
                    </a:lnTo>
                    <a:lnTo>
                      <a:pt x="2" y="218"/>
                    </a:lnTo>
                    <a:lnTo>
                      <a:pt x="0" y="268"/>
                    </a:lnTo>
                    <a:lnTo>
                      <a:pt x="8" y="317"/>
                    </a:lnTo>
                    <a:lnTo>
                      <a:pt x="25" y="366"/>
                    </a:lnTo>
                    <a:lnTo>
                      <a:pt x="50" y="408"/>
                    </a:lnTo>
                    <a:lnTo>
                      <a:pt x="84" y="447"/>
                    </a:lnTo>
                    <a:lnTo>
                      <a:pt x="124" y="477"/>
                    </a:lnTo>
                    <a:lnTo>
                      <a:pt x="171" y="499"/>
                    </a:lnTo>
                    <a:lnTo>
                      <a:pt x="220" y="510"/>
                    </a:lnTo>
                    <a:lnTo>
                      <a:pt x="271" y="511"/>
                    </a:lnTo>
                    <a:lnTo>
                      <a:pt x="319" y="504"/>
                    </a:lnTo>
                    <a:lnTo>
                      <a:pt x="368" y="487"/>
                    </a:lnTo>
                    <a:lnTo>
                      <a:pt x="413" y="460"/>
                    </a:lnTo>
                    <a:lnTo>
                      <a:pt x="449" y="425"/>
                    </a:lnTo>
                    <a:lnTo>
                      <a:pt x="476" y="383"/>
                    </a:lnTo>
                    <a:lnTo>
                      <a:pt x="499" y="337"/>
                    </a:lnTo>
                    <a:lnTo>
                      <a:pt x="509" y="286"/>
                    </a:lnTo>
                    <a:lnTo>
                      <a:pt x="510" y="258"/>
                    </a:lnTo>
                    <a:lnTo>
                      <a:pt x="510" y="258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7650000" y="2880720"/>
                <a:ext cx="47160" cy="48600"/>
              </a:xfrm>
              <a:custGeom>
                <a:avLst/>
                <a:gdLst/>
                <a:ahLst/>
                <a:rect l="l" t="t" r="r" b="b"/>
                <a:pathLst>
                  <a:path w="510" h="511">
                    <a:moveTo>
                      <a:pt x="510" y="258"/>
                    </a:moveTo>
                    <a:lnTo>
                      <a:pt x="505" y="206"/>
                    </a:lnTo>
                    <a:lnTo>
                      <a:pt x="491" y="158"/>
                    </a:lnTo>
                    <a:lnTo>
                      <a:pt x="466" y="114"/>
                    </a:lnTo>
                    <a:lnTo>
                      <a:pt x="433" y="75"/>
                    </a:lnTo>
                    <a:lnTo>
                      <a:pt x="394" y="43"/>
                    </a:lnTo>
                    <a:lnTo>
                      <a:pt x="347" y="18"/>
                    </a:lnTo>
                    <a:lnTo>
                      <a:pt x="300" y="6"/>
                    </a:lnTo>
                    <a:lnTo>
                      <a:pt x="249" y="0"/>
                    </a:lnTo>
                    <a:lnTo>
                      <a:pt x="198" y="8"/>
                    </a:lnTo>
                    <a:lnTo>
                      <a:pt x="149" y="23"/>
                    </a:lnTo>
                    <a:lnTo>
                      <a:pt x="107" y="48"/>
                    </a:lnTo>
                    <a:lnTo>
                      <a:pt x="69" y="82"/>
                    </a:lnTo>
                    <a:lnTo>
                      <a:pt x="36" y="122"/>
                    </a:lnTo>
                    <a:lnTo>
                      <a:pt x="17" y="168"/>
                    </a:lnTo>
                    <a:lnTo>
                      <a:pt x="2" y="218"/>
                    </a:lnTo>
                    <a:lnTo>
                      <a:pt x="0" y="268"/>
                    </a:lnTo>
                    <a:lnTo>
                      <a:pt x="6" y="317"/>
                    </a:lnTo>
                    <a:lnTo>
                      <a:pt x="25" y="366"/>
                    </a:lnTo>
                    <a:lnTo>
                      <a:pt x="48" y="408"/>
                    </a:lnTo>
                    <a:lnTo>
                      <a:pt x="84" y="447"/>
                    </a:lnTo>
                    <a:lnTo>
                      <a:pt x="122" y="477"/>
                    </a:lnTo>
                    <a:lnTo>
                      <a:pt x="170" y="499"/>
                    </a:lnTo>
                    <a:lnTo>
                      <a:pt x="218" y="510"/>
                    </a:lnTo>
                    <a:lnTo>
                      <a:pt x="271" y="511"/>
                    </a:lnTo>
                    <a:lnTo>
                      <a:pt x="319" y="504"/>
                    </a:lnTo>
                    <a:lnTo>
                      <a:pt x="367" y="487"/>
                    </a:lnTo>
                    <a:lnTo>
                      <a:pt x="411" y="460"/>
                    </a:lnTo>
                    <a:lnTo>
                      <a:pt x="446" y="425"/>
                    </a:lnTo>
                    <a:lnTo>
                      <a:pt x="478" y="383"/>
                    </a:lnTo>
                    <a:lnTo>
                      <a:pt x="497" y="337"/>
                    </a:lnTo>
                    <a:lnTo>
                      <a:pt x="508" y="286"/>
                    </a:lnTo>
                    <a:lnTo>
                      <a:pt x="510" y="2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650000" y="2880720"/>
                <a:ext cx="47160" cy="48600"/>
              </a:xfrm>
              <a:custGeom>
                <a:avLst/>
                <a:gdLst/>
                <a:ahLst/>
                <a:rect l="l" t="t" r="r" b="b"/>
                <a:pathLst>
                  <a:path w="510" h="511">
                    <a:moveTo>
                      <a:pt x="510" y="258"/>
                    </a:moveTo>
                    <a:lnTo>
                      <a:pt x="505" y="206"/>
                    </a:lnTo>
                    <a:lnTo>
                      <a:pt x="491" y="158"/>
                    </a:lnTo>
                    <a:lnTo>
                      <a:pt x="466" y="114"/>
                    </a:lnTo>
                    <a:lnTo>
                      <a:pt x="433" y="75"/>
                    </a:lnTo>
                    <a:lnTo>
                      <a:pt x="394" y="43"/>
                    </a:lnTo>
                    <a:lnTo>
                      <a:pt x="347" y="18"/>
                    </a:lnTo>
                    <a:lnTo>
                      <a:pt x="300" y="6"/>
                    </a:lnTo>
                    <a:lnTo>
                      <a:pt x="249" y="0"/>
                    </a:lnTo>
                    <a:lnTo>
                      <a:pt x="198" y="8"/>
                    </a:lnTo>
                    <a:lnTo>
                      <a:pt x="149" y="23"/>
                    </a:lnTo>
                    <a:lnTo>
                      <a:pt x="107" y="48"/>
                    </a:lnTo>
                    <a:lnTo>
                      <a:pt x="69" y="82"/>
                    </a:lnTo>
                    <a:lnTo>
                      <a:pt x="36" y="122"/>
                    </a:lnTo>
                    <a:lnTo>
                      <a:pt x="17" y="168"/>
                    </a:lnTo>
                    <a:lnTo>
                      <a:pt x="2" y="218"/>
                    </a:lnTo>
                    <a:lnTo>
                      <a:pt x="0" y="268"/>
                    </a:lnTo>
                    <a:lnTo>
                      <a:pt x="6" y="317"/>
                    </a:lnTo>
                    <a:lnTo>
                      <a:pt x="25" y="366"/>
                    </a:lnTo>
                    <a:lnTo>
                      <a:pt x="48" y="408"/>
                    </a:lnTo>
                    <a:lnTo>
                      <a:pt x="84" y="447"/>
                    </a:lnTo>
                    <a:lnTo>
                      <a:pt x="122" y="477"/>
                    </a:lnTo>
                    <a:lnTo>
                      <a:pt x="170" y="499"/>
                    </a:lnTo>
                    <a:lnTo>
                      <a:pt x="218" y="510"/>
                    </a:lnTo>
                    <a:lnTo>
                      <a:pt x="271" y="511"/>
                    </a:lnTo>
                    <a:lnTo>
                      <a:pt x="319" y="504"/>
                    </a:lnTo>
                    <a:lnTo>
                      <a:pt x="367" y="487"/>
                    </a:lnTo>
                    <a:lnTo>
                      <a:pt x="411" y="460"/>
                    </a:lnTo>
                    <a:lnTo>
                      <a:pt x="446" y="425"/>
                    </a:lnTo>
                    <a:lnTo>
                      <a:pt x="478" y="383"/>
                    </a:lnTo>
                    <a:lnTo>
                      <a:pt x="497" y="337"/>
                    </a:lnTo>
                    <a:lnTo>
                      <a:pt x="508" y="286"/>
                    </a:lnTo>
                    <a:lnTo>
                      <a:pt x="510" y="258"/>
                    </a:lnTo>
                    <a:lnTo>
                      <a:pt x="510" y="258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417440" y="2770920"/>
                <a:ext cx="128160" cy="58680"/>
              </a:xfrm>
              <a:custGeom>
                <a:avLst/>
                <a:gdLst/>
                <a:ahLst/>
                <a:rect l="l" t="t" r="r" b="b"/>
                <a:pathLst>
                  <a:path w="1379" h="616">
                    <a:moveTo>
                      <a:pt x="0" y="616"/>
                    </a:moveTo>
                    <a:lnTo>
                      <a:pt x="12" y="589"/>
                    </a:lnTo>
                    <a:lnTo>
                      <a:pt x="37" y="542"/>
                    </a:lnTo>
                    <a:lnTo>
                      <a:pt x="73" y="502"/>
                    </a:lnTo>
                    <a:lnTo>
                      <a:pt x="115" y="466"/>
                    </a:lnTo>
                    <a:lnTo>
                      <a:pt x="639" y="106"/>
                    </a:lnTo>
                    <a:lnTo>
                      <a:pt x="698" y="71"/>
                    </a:lnTo>
                    <a:lnTo>
                      <a:pt x="760" y="47"/>
                    </a:lnTo>
                    <a:lnTo>
                      <a:pt x="829" y="32"/>
                    </a:lnTo>
                    <a:lnTo>
                      <a:pt x="895" y="24"/>
                    </a:lnTo>
                    <a:lnTo>
                      <a:pt x="1359" y="0"/>
                    </a:lnTo>
                    <a:lnTo>
                      <a:pt x="1375" y="9"/>
                    </a:lnTo>
                    <a:lnTo>
                      <a:pt x="1379" y="36"/>
                    </a:lnTo>
                    <a:lnTo>
                      <a:pt x="1268" y="582"/>
                    </a:lnTo>
                    <a:lnTo>
                      <a:pt x="1233" y="595"/>
                    </a:lnTo>
                    <a:lnTo>
                      <a:pt x="12" y="616"/>
                    </a:lnTo>
                    <a:lnTo>
                      <a:pt x="0" y="6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417440" y="2770920"/>
                <a:ext cx="128160" cy="58680"/>
              </a:xfrm>
              <a:custGeom>
                <a:avLst/>
                <a:gdLst/>
                <a:ahLst/>
                <a:rect l="l" t="t" r="r" b="b"/>
                <a:pathLst>
                  <a:path w="1379" h="616">
                    <a:moveTo>
                      <a:pt x="0" y="616"/>
                    </a:moveTo>
                    <a:lnTo>
                      <a:pt x="12" y="589"/>
                    </a:lnTo>
                    <a:lnTo>
                      <a:pt x="37" y="542"/>
                    </a:lnTo>
                    <a:lnTo>
                      <a:pt x="73" y="502"/>
                    </a:lnTo>
                    <a:lnTo>
                      <a:pt x="115" y="466"/>
                    </a:lnTo>
                    <a:lnTo>
                      <a:pt x="639" y="106"/>
                    </a:lnTo>
                    <a:lnTo>
                      <a:pt x="698" y="71"/>
                    </a:lnTo>
                    <a:lnTo>
                      <a:pt x="760" y="47"/>
                    </a:lnTo>
                    <a:lnTo>
                      <a:pt x="829" y="32"/>
                    </a:lnTo>
                    <a:lnTo>
                      <a:pt x="895" y="24"/>
                    </a:lnTo>
                    <a:lnTo>
                      <a:pt x="1359" y="0"/>
                    </a:lnTo>
                    <a:lnTo>
                      <a:pt x="1375" y="9"/>
                    </a:lnTo>
                    <a:lnTo>
                      <a:pt x="1379" y="36"/>
                    </a:lnTo>
                    <a:lnTo>
                      <a:pt x="1268" y="582"/>
                    </a:lnTo>
                    <a:lnTo>
                      <a:pt x="1233" y="595"/>
                    </a:lnTo>
                    <a:lnTo>
                      <a:pt x="12" y="616"/>
                    </a:lnTo>
                    <a:lnTo>
                      <a:pt x="0" y="616"/>
                    </a:lnTo>
                    <a:lnTo>
                      <a:pt x="0" y="6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553880" y="2770200"/>
                <a:ext cx="105120" cy="57240"/>
              </a:xfrm>
              <a:custGeom>
                <a:avLst/>
                <a:gdLst/>
                <a:ahLst/>
                <a:rect l="l" t="t" r="r" b="b"/>
                <a:pathLst>
                  <a:path w="1129" h="599">
                    <a:moveTo>
                      <a:pt x="80" y="5"/>
                    </a:moveTo>
                    <a:lnTo>
                      <a:pt x="686" y="0"/>
                    </a:lnTo>
                    <a:lnTo>
                      <a:pt x="724" y="5"/>
                    </a:lnTo>
                    <a:lnTo>
                      <a:pt x="758" y="18"/>
                    </a:lnTo>
                    <a:lnTo>
                      <a:pt x="793" y="53"/>
                    </a:lnTo>
                    <a:lnTo>
                      <a:pt x="1118" y="471"/>
                    </a:lnTo>
                    <a:lnTo>
                      <a:pt x="1129" y="492"/>
                    </a:lnTo>
                    <a:lnTo>
                      <a:pt x="1129" y="516"/>
                    </a:lnTo>
                    <a:lnTo>
                      <a:pt x="1121" y="538"/>
                    </a:lnTo>
                    <a:lnTo>
                      <a:pt x="1104" y="555"/>
                    </a:lnTo>
                    <a:lnTo>
                      <a:pt x="1081" y="565"/>
                    </a:lnTo>
                    <a:lnTo>
                      <a:pt x="1062" y="568"/>
                    </a:lnTo>
                    <a:lnTo>
                      <a:pt x="1039" y="571"/>
                    </a:lnTo>
                    <a:lnTo>
                      <a:pt x="940" y="574"/>
                    </a:lnTo>
                    <a:lnTo>
                      <a:pt x="13" y="599"/>
                    </a:lnTo>
                    <a:lnTo>
                      <a:pt x="0" y="574"/>
                    </a:lnTo>
                    <a:lnTo>
                      <a:pt x="59" y="37"/>
                    </a:lnTo>
                    <a:lnTo>
                      <a:pt x="70" y="18"/>
                    </a:lnTo>
                    <a:lnTo>
                      <a:pt x="8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553880" y="2770200"/>
                <a:ext cx="105120" cy="57240"/>
              </a:xfrm>
              <a:custGeom>
                <a:avLst/>
                <a:gdLst/>
                <a:ahLst/>
                <a:rect l="l" t="t" r="r" b="b"/>
                <a:pathLst>
                  <a:path w="1129" h="599">
                    <a:moveTo>
                      <a:pt x="80" y="5"/>
                    </a:moveTo>
                    <a:lnTo>
                      <a:pt x="686" y="0"/>
                    </a:lnTo>
                    <a:lnTo>
                      <a:pt x="724" y="5"/>
                    </a:lnTo>
                    <a:lnTo>
                      <a:pt x="758" y="18"/>
                    </a:lnTo>
                    <a:lnTo>
                      <a:pt x="793" y="53"/>
                    </a:lnTo>
                    <a:lnTo>
                      <a:pt x="1118" y="471"/>
                    </a:lnTo>
                    <a:lnTo>
                      <a:pt x="1129" y="492"/>
                    </a:lnTo>
                    <a:lnTo>
                      <a:pt x="1129" y="516"/>
                    </a:lnTo>
                    <a:lnTo>
                      <a:pt x="1121" y="538"/>
                    </a:lnTo>
                    <a:lnTo>
                      <a:pt x="1104" y="555"/>
                    </a:lnTo>
                    <a:lnTo>
                      <a:pt x="1081" y="565"/>
                    </a:lnTo>
                    <a:lnTo>
                      <a:pt x="1062" y="568"/>
                    </a:lnTo>
                    <a:lnTo>
                      <a:pt x="1039" y="571"/>
                    </a:lnTo>
                    <a:lnTo>
                      <a:pt x="940" y="574"/>
                    </a:lnTo>
                    <a:lnTo>
                      <a:pt x="13" y="599"/>
                    </a:lnTo>
                    <a:lnTo>
                      <a:pt x="0" y="574"/>
                    </a:lnTo>
                    <a:lnTo>
                      <a:pt x="59" y="37"/>
                    </a:lnTo>
                    <a:lnTo>
                      <a:pt x="70" y="18"/>
                    </a:lnTo>
                    <a:lnTo>
                      <a:pt x="80" y="5"/>
                    </a:lnTo>
                    <a:lnTo>
                      <a:pt x="8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441200" y="2772360"/>
                <a:ext cx="103680" cy="54720"/>
              </a:xfrm>
              <a:custGeom>
                <a:avLst/>
                <a:gdLst/>
                <a:ahLst/>
                <a:rect l="l" t="t" r="r" b="b"/>
                <a:pathLst>
                  <a:path w="1113" h="573">
                    <a:moveTo>
                      <a:pt x="423" y="92"/>
                    </a:moveTo>
                    <a:lnTo>
                      <a:pt x="449" y="74"/>
                    </a:lnTo>
                    <a:lnTo>
                      <a:pt x="509" y="46"/>
                    </a:lnTo>
                    <a:lnTo>
                      <a:pt x="572" y="32"/>
                    </a:lnTo>
                    <a:lnTo>
                      <a:pt x="637" y="23"/>
                    </a:lnTo>
                    <a:lnTo>
                      <a:pt x="1101" y="0"/>
                    </a:lnTo>
                    <a:lnTo>
                      <a:pt x="1110" y="7"/>
                    </a:lnTo>
                    <a:lnTo>
                      <a:pt x="1113" y="27"/>
                    </a:lnTo>
                    <a:lnTo>
                      <a:pt x="1004" y="546"/>
                    </a:lnTo>
                    <a:lnTo>
                      <a:pt x="976" y="558"/>
                    </a:lnTo>
                    <a:lnTo>
                      <a:pt x="34" y="573"/>
                    </a:lnTo>
                    <a:lnTo>
                      <a:pt x="0" y="532"/>
                    </a:lnTo>
                    <a:lnTo>
                      <a:pt x="0" y="382"/>
                    </a:lnTo>
                    <a:lnTo>
                      <a:pt x="423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441200" y="2772360"/>
                <a:ext cx="103680" cy="54720"/>
              </a:xfrm>
              <a:custGeom>
                <a:avLst/>
                <a:gdLst/>
                <a:ahLst/>
                <a:rect l="l" t="t" r="r" b="b"/>
                <a:pathLst>
                  <a:path w="1113" h="573">
                    <a:moveTo>
                      <a:pt x="423" y="92"/>
                    </a:moveTo>
                    <a:lnTo>
                      <a:pt x="449" y="74"/>
                    </a:lnTo>
                    <a:lnTo>
                      <a:pt x="509" y="46"/>
                    </a:lnTo>
                    <a:lnTo>
                      <a:pt x="572" y="32"/>
                    </a:lnTo>
                    <a:lnTo>
                      <a:pt x="637" y="23"/>
                    </a:lnTo>
                    <a:lnTo>
                      <a:pt x="1101" y="0"/>
                    </a:lnTo>
                    <a:lnTo>
                      <a:pt x="1110" y="7"/>
                    </a:lnTo>
                    <a:lnTo>
                      <a:pt x="1113" y="27"/>
                    </a:lnTo>
                    <a:lnTo>
                      <a:pt x="1004" y="546"/>
                    </a:lnTo>
                    <a:lnTo>
                      <a:pt x="976" y="558"/>
                    </a:lnTo>
                    <a:lnTo>
                      <a:pt x="34" y="573"/>
                    </a:lnTo>
                    <a:lnTo>
                      <a:pt x="0" y="532"/>
                    </a:lnTo>
                    <a:lnTo>
                      <a:pt x="0" y="382"/>
                    </a:lnTo>
                    <a:lnTo>
                      <a:pt x="423" y="92"/>
                    </a:lnTo>
                    <a:lnTo>
                      <a:pt x="423" y="92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555680" y="2771640"/>
                <a:ext cx="100440" cy="54360"/>
              </a:xfrm>
              <a:custGeom>
                <a:avLst/>
                <a:gdLst/>
                <a:ahLst/>
                <a:rect l="l" t="t" r="r" b="b"/>
                <a:pathLst>
                  <a:path w="1082" h="571">
                    <a:moveTo>
                      <a:pt x="1038" y="540"/>
                    </a:moveTo>
                    <a:lnTo>
                      <a:pt x="1057" y="533"/>
                    </a:lnTo>
                    <a:lnTo>
                      <a:pt x="1072" y="516"/>
                    </a:lnTo>
                    <a:lnTo>
                      <a:pt x="1082" y="497"/>
                    </a:lnTo>
                    <a:lnTo>
                      <a:pt x="1080" y="471"/>
                    </a:lnTo>
                    <a:lnTo>
                      <a:pt x="1068" y="453"/>
                    </a:lnTo>
                    <a:lnTo>
                      <a:pt x="1065" y="445"/>
                    </a:lnTo>
                    <a:lnTo>
                      <a:pt x="1044" y="420"/>
                    </a:lnTo>
                    <a:lnTo>
                      <a:pt x="769" y="62"/>
                    </a:lnTo>
                    <a:lnTo>
                      <a:pt x="744" y="35"/>
                    </a:lnTo>
                    <a:lnTo>
                      <a:pt x="715" y="15"/>
                    </a:lnTo>
                    <a:lnTo>
                      <a:pt x="678" y="3"/>
                    </a:lnTo>
                    <a:lnTo>
                      <a:pt x="640" y="0"/>
                    </a:lnTo>
                    <a:lnTo>
                      <a:pt x="69" y="5"/>
                    </a:lnTo>
                    <a:lnTo>
                      <a:pt x="58" y="10"/>
                    </a:lnTo>
                    <a:lnTo>
                      <a:pt x="52" y="29"/>
                    </a:lnTo>
                    <a:lnTo>
                      <a:pt x="0" y="556"/>
                    </a:lnTo>
                    <a:lnTo>
                      <a:pt x="7" y="567"/>
                    </a:lnTo>
                    <a:lnTo>
                      <a:pt x="11" y="571"/>
                    </a:lnTo>
                    <a:lnTo>
                      <a:pt x="1011" y="546"/>
                    </a:lnTo>
                    <a:lnTo>
                      <a:pt x="1038" y="5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555680" y="2771640"/>
                <a:ext cx="100440" cy="54360"/>
              </a:xfrm>
              <a:custGeom>
                <a:avLst/>
                <a:gdLst/>
                <a:ahLst/>
                <a:rect l="l" t="t" r="r" b="b"/>
                <a:pathLst>
                  <a:path w="1082" h="571">
                    <a:moveTo>
                      <a:pt x="1038" y="540"/>
                    </a:moveTo>
                    <a:lnTo>
                      <a:pt x="1057" y="533"/>
                    </a:lnTo>
                    <a:lnTo>
                      <a:pt x="1072" y="516"/>
                    </a:lnTo>
                    <a:lnTo>
                      <a:pt x="1082" y="497"/>
                    </a:lnTo>
                    <a:lnTo>
                      <a:pt x="1080" y="471"/>
                    </a:lnTo>
                    <a:lnTo>
                      <a:pt x="1068" y="453"/>
                    </a:lnTo>
                    <a:lnTo>
                      <a:pt x="1065" y="445"/>
                    </a:lnTo>
                    <a:lnTo>
                      <a:pt x="1044" y="420"/>
                    </a:lnTo>
                    <a:lnTo>
                      <a:pt x="769" y="62"/>
                    </a:lnTo>
                    <a:lnTo>
                      <a:pt x="744" y="35"/>
                    </a:lnTo>
                    <a:lnTo>
                      <a:pt x="715" y="15"/>
                    </a:lnTo>
                    <a:lnTo>
                      <a:pt x="678" y="3"/>
                    </a:lnTo>
                    <a:lnTo>
                      <a:pt x="640" y="0"/>
                    </a:lnTo>
                    <a:lnTo>
                      <a:pt x="69" y="5"/>
                    </a:lnTo>
                    <a:lnTo>
                      <a:pt x="58" y="10"/>
                    </a:lnTo>
                    <a:lnTo>
                      <a:pt x="52" y="29"/>
                    </a:lnTo>
                    <a:lnTo>
                      <a:pt x="0" y="556"/>
                    </a:lnTo>
                    <a:lnTo>
                      <a:pt x="7" y="567"/>
                    </a:lnTo>
                    <a:lnTo>
                      <a:pt x="11" y="571"/>
                    </a:lnTo>
                    <a:lnTo>
                      <a:pt x="1011" y="546"/>
                    </a:lnTo>
                    <a:lnTo>
                      <a:pt x="1038" y="540"/>
                    </a:lnTo>
                    <a:lnTo>
                      <a:pt x="1038" y="54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259400" y="2866320"/>
                <a:ext cx="63000" cy="22320"/>
              </a:xfrm>
              <a:custGeom>
                <a:avLst/>
                <a:gdLst/>
                <a:ahLst/>
                <a:rect l="l" t="t" r="r" b="b"/>
                <a:pathLst>
                  <a:path w="682" h="237">
                    <a:moveTo>
                      <a:pt x="682" y="0"/>
                    </a:moveTo>
                    <a:lnTo>
                      <a:pt x="623" y="42"/>
                    </a:lnTo>
                    <a:lnTo>
                      <a:pt x="570" y="89"/>
                    </a:lnTo>
                    <a:lnTo>
                      <a:pt x="522" y="143"/>
                    </a:lnTo>
                    <a:lnTo>
                      <a:pt x="485" y="202"/>
                    </a:lnTo>
                    <a:lnTo>
                      <a:pt x="468" y="235"/>
                    </a:lnTo>
                    <a:lnTo>
                      <a:pt x="278" y="237"/>
                    </a:lnTo>
                    <a:lnTo>
                      <a:pt x="36" y="223"/>
                    </a:lnTo>
                    <a:lnTo>
                      <a:pt x="12" y="212"/>
                    </a:lnTo>
                    <a:lnTo>
                      <a:pt x="0" y="187"/>
                    </a:lnTo>
                    <a:lnTo>
                      <a:pt x="2" y="62"/>
                    </a:lnTo>
                    <a:lnTo>
                      <a:pt x="0" y="57"/>
                    </a:lnTo>
                    <a:lnTo>
                      <a:pt x="9" y="32"/>
                    </a:lnTo>
                    <a:lnTo>
                      <a:pt x="25" y="15"/>
                    </a:lnTo>
                    <a:lnTo>
                      <a:pt x="46" y="5"/>
                    </a:lnTo>
                    <a:lnTo>
                      <a:pt x="71" y="3"/>
                    </a:lnTo>
                    <a:lnTo>
                      <a:pt x="675" y="3"/>
                    </a:lnTo>
                    <a:lnTo>
                      <a:pt x="68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259400" y="2866320"/>
                <a:ext cx="63000" cy="22320"/>
              </a:xfrm>
              <a:custGeom>
                <a:avLst/>
                <a:gdLst/>
                <a:ahLst/>
                <a:rect l="l" t="t" r="r" b="b"/>
                <a:pathLst>
                  <a:path w="682" h="237">
                    <a:moveTo>
                      <a:pt x="682" y="0"/>
                    </a:moveTo>
                    <a:lnTo>
                      <a:pt x="623" y="42"/>
                    </a:lnTo>
                    <a:lnTo>
                      <a:pt x="570" y="89"/>
                    </a:lnTo>
                    <a:lnTo>
                      <a:pt x="522" y="143"/>
                    </a:lnTo>
                    <a:lnTo>
                      <a:pt x="485" y="202"/>
                    </a:lnTo>
                    <a:lnTo>
                      <a:pt x="468" y="235"/>
                    </a:lnTo>
                    <a:lnTo>
                      <a:pt x="278" y="237"/>
                    </a:lnTo>
                    <a:lnTo>
                      <a:pt x="36" y="223"/>
                    </a:lnTo>
                    <a:lnTo>
                      <a:pt x="12" y="212"/>
                    </a:lnTo>
                    <a:lnTo>
                      <a:pt x="0" y="187"/>
                    </a:lnTo>
                    <a:lnTo>
                      <a:pt x="2" y="62"/>
                    </a:lnTo>
                    <a:lnTo>
                      <a:pt x="0" y="57"/>
                    </a:lnTo>
                    <a:lnTo>
                      <a:pt x="9" y="32"/>
                    </a:lnTo>
                    <a:lnTo>
                      <a:pt x="25" y="15"/>
                    </a:lnTo>
                    <a:lnTo>
                      <a:pt x="46" y="5"/>
                    </a:lnTo>
                    <a:lnTo>
                      <a:pt x="71" y="3"/>
                    </a:lnTo>
                    <a:lnTo>
                      <a:pt x="675" y="3"/>
                    </a:lnTo>
                    <a:lnTo>
                      <a:pt x="682" y="0"/>
                    </a:lnTo>
                    <a:lnTo>
                      <a:pt x="68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259760" y="2874960"/>
                <a:ext cx="5184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7689960" y="2858760"/>
                <a:ext cx="57240" cy="25200"/>
              </a:xfrm>
              <a:custGeom>
                <a:avLst/>
                <a:gdLst/>
                <a:ahLst/>
                <a:rect l="l" t="t" r="r" b="b"/>
                <a:pathLst>
                  <a:path w="613" h="266">
                    <a:moveTo>
                      <a:pt x="1" y="40"/>
                    </a:moveTo>
                    <a:lnTo>
                      <a:pt x="53" y="65"/>
                    </a:lnTo>
                    <a:lnTo>
                      <a:pt x="112" y="103"/>
                    </a:lnTo>
                    <a:lnTo>
                      <a:pt x="170" y="153"/>
                    </a:lnTo>
                    <a:lnTo>
                      <a:pt x="216" y="206"/>
                    </a:lnTo>
                    <a:lnTo>
                      <a:pt x="252" y="266"/>
                    </a:lnTo>
                    <a:lnTo>
                      <a:pt x="518" y="257"/>
                    </a:lnTo>
                    <a:lnTo>
                      <a:pt x="546" y="257"/>
                    </a:lnTo>
                    <a:lnTo>
                      <a:pt x="574" y="247"/>
                    </a:lnTo>
                    <a:lnTo>
                      <a:pt x="596" y="227"/>
                    </a:lnTo>
                    <a:lnTo>
                      <a:pt x="611" y="202"/>
                    </a:lnTo>
                    <a:lnTo>
                      <a:pt x="611" y="197"/>
                    </a:lnTo>
                    <a:lnTo>
                      <a:pt x="613" y="136"/>
                    </a:lnTo>
                    <a:lnTo>
                      <a:pt x="606" y="128"/>
                    </a:lnTo>
                    <a:lnTo>
                      <a:pt x="598" y="120"/>
                    </a:lnTo>
                    <a:lnTo>
                      <a:pt x="588" y="116"/>
                    </a:lnTo>
                    <a:lnTo>
                      <a:pt x="587" y="46"/>
                    </a:lnTo>
                    <a:lnTo>
                      <a:pt x="508" y="0"/>
                    </a:lnTo>
                    <a:lnTo>
                      <a:pt x="17" y="25"/>
                    </a:lnTo>
                    <a:lnTo>
                      <a:pt x="0" y="40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689960" y="2858760"/>
                <a:ext cx="57240" cy="25200"/>
              </a:xfrm>
              <a:custGeom>
                <a:avLst/>
                <a:gdLst/>
                <a:ahLst/>
                <a:rect l="l" t="t" r="r" b="b"/>
                <a:pathLst>
                  <a:path w="613" h="266">
                    <a:moveTo>
                      <a:pt x="1" y="40"/>
                    </a:moveTo>
                    <a:lnTo>
                      <a:pt x="53" y="65"/>
                    </a:lnTo>
                    <a:lnTo>
                      <a:pt x="112" y="103"/>
                    </a:lnTo>
                    <a:lnTo>
                      <a:pt x="170" y="153"/>
                    </a:lnTo>
                    <a:lnTo>
                      <a:pt x="216" y="206"/>
                    </a:lnTo>
                    <a:lnTo>
                      <a:pt x="252" y="266"/>
                    </a:lnTo>
                    <a:lnTo>
                      <a:pt x="518" y="257"/>
                    </a:lnTo>
                    <a:lnTo>
                      <a:pt x="546" y="257"/>
                    </a:lnTo>
                    <a:lnTo>
                      <a:pt x="574" y="247"/>
                    </a:lnTo>
                    <a:lnTo>
                      <a:pt x="596" y="227"/>
                    </a:lnTo>
                    <a:lnTo>
                      <a:pt x="611" y="202"/>
                    </a:lnTo>
                    <a:lnTo>
                      <a:pt x="611" y="197"/>
                    </a:lnTo>
                    <a:lnTo>
                      <a:pt x="613" y="136"/>
                    </a:lnTo>
                    <a:lnTo>
                      <a:pt x="606" y="128"/>
                    </a:lnTo>
                    <a:lnTo>
                      <a:pt x="598" y="120"/>
                    </a:lnTo>
                    <a:lnTo>
                      <a:pt x="588" y="116"/>
                    </a:lnTo>
                    <a:lnTo>
                      <a:pt x="587" y="46"/>
                    </a:lnTo>
                    <a:lnTo>
                      <a:pt x="508" y="0"/>
                    </a:lnTo>
                    <a:lnTo>
                      <a:pt x="17" y="25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 flipH="1">
                <a:off x="7696080" y="2863080"/>
                <a:ext cx="47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 flipH="1">
                <a:off x="7704000" y="2869920"/>
                <a:ext cx="399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435080" y="2807640"/>
                <a:ext cx="14760" cy="16200"/>
              </a:xfrm>
              <a:custGeom>
                <a:avLst/>
                <a:gdLst/>
                <a:ahLst/>
                <a:rect l="l" t="t" r="r" b="b"/>
                <a:pathLst>
                  <a:path w="162" h="173">
                    <a:moveTo>
                      <a:pt x="0" y="34"/>
                    </a:moveTo>
                    <a:lnTo>
                      <a:pt x="85" y="0"/>
                    </a:lnTo>
                    <a:lnTo>
                      <a:pt x="146" y="4"/>
                    </a:lnTo>
                    <a:lnTo>
                      <a:pt x="162" y="163"/>
                    </a:lnTo>
                    <a:lnTo>
                      <a:pt x="113" y="173"/>
                    </a:lnTo>
                    <a:lnTo>
                      <a:pt x="0" y="165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7435080" y="2807640"/>
                <a:ext cx="14760" cy="16200"/>
              </a:xfrm>
              <a:custGeom>
                <a:avLst/>
                <a:gdLst/>
                <a:ahLst/>
                <a:rect l="l" t="t" r="r" b="b"/>
                <a:pathLst>
                  <a:path w="162" h="173">
                    <a:moveTo>
                      <a:pt x="0" y="34"/>
                    </a:moveTo>
                    <a:lnTo>
                      <a:pt x="85" y="0"/>
                    </a:lnTo>
                    <a:lnTo>
                      <a:pt x="146" y="4"/>
                    </a:lnTo>
                    <a:lnTo>
                      <a:pt x="162" y="163"/>
                    </a:lnTo>
                    <a:lnTo>
                      <a:pt x="113" y="173"/>
                    </a:lnTo>
                    <a:lnTo>
                      <a:pt x="0" y="165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7509240" y="2835360"/>
                <a:ext cx="18360" cy="9000"/>
              </a:xfrm>
              <a:custGeom>
                <a:avLst/>
                <a:gdLst/>
                <a:ahLst/>
                <a:rect l="l" t="t" r="r" b="b"/>
                <a:pathLst>
                  <a:path w="199" h="93">
                    <a:moveTo>
                      <a:pt x="0" y="93"/>
                    </a:moveTo>
                    <a:lnTo>
                      <a:pt x="2" y="1"/>
                    </a:lnTo>
                    <a:lnTo>
                      <a:pt x="199" y="0"/>
                    </a:lnTo>
                    <a:lnTo>
                      <a:pt x="199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7509240" y="2835360"/>
                <a:ext cx="18360" cy="9000"/>
              </a:xfrm>
              <a:custGeom>
                <a:avLst/>
                <a:gdLst/>
                <a:ahLst/>
                <a:rect l="l" t="t" r="r" b="b"/>
                <a:pathLst>
                  <a:path w="199" h="93">
                    <a:moveTo>
                      <a:pt x="0" y="93"/>
                    </a:moveTo>
                    <a:lnTo>
                      <a:pt x="2" y="1"/>
                    </a:lnTo>
                    <a:lnTo>
                      <a:pt x="199" y="0"/>
                    </a:lnTo>
                    <a:lnTo>
                      <a:pt x="199" y="93"/>
                    </a:lnTo>
                    <a:lnTo>
                      <a:pt x="0" y="93"/>
                    </a:lnTo>
                    <a:lnTo>
                      <a:pt x="0" y="9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509240" y="2835360"/>
                <a:ext cx="18360" cy="5400"/>
              </a:xfrm>
              <a:custGeom>
                <a:avLst/>
                <a:gdLst/>
                <a:ahLst/>
                <a:rect l="l" t="t" r="r" b="b"/>
                <a:pathLst>
                  <a:path w="199" h="59">
                    <a:moveTo>
                      <a:pt x="0" y="59"/>
                    </a:moveTo>
                    <a:lnTo>
                      <a:pt x="2" y="1"/>
                    </a:lnTo>
                    <a:lnTo>
                      <a:pt x="199" y="0"/>
                    </a:lnTo>
                    <a:lnTo>
                      <a:pt x="199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7509240" y="2835360"/>
                <a:ext cx="18360" cy="5400"/>
              </a:xfrm>
              <a:custGeom>
                <a:avLst/>
                <a:gdLst/>
                <a:ahLst/>
                <a:rect l="l" t="t" r="r" b="b"/>
                <a:pathLst>
                  <a:path w="199" h="59">
                    <a:moveTo>
                      <a:pt x="0" y="59"/>
                    </a:moveTo>
                    <a:lnTo>
                      <a:pt x="2" y="1"/>
                    </a:lnTo>
                    <a:lnTo>
                      <a:pt x="199" y="0"/>
                    </a:lnTo>
                    <a:lnTo>
                      <a:pt x="199" y="59"/>
                    </a:lnTo>
                    <a:lnTo>
                      <a:pt x="0" y="59"/>
                    </a:lnTo>
                    <a:lnTo>
                      <a:pt x="0" y="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7417080" y="2825280"/>
                <a:ext cx="296280" cy="5400"/>
              </a:xfrm>
              <a:custGeom>
                <a:avLst/>
                <a:gdLst/>
                <a:ahLst/>
                <a:rect l="l" t="t" r="r" b="b"/>
                <a:pathLst>
                  <a:path w="3184" h="61">
                    <a:moveTo>
                      <a:pt x="0" y="50"/>
                    </a:moveTo>
                    <a:lnTo>
                      <a:pt x="0" y="61"/>
                    </a:lnTo>
                    <a:lnTo>
                      <a:pt x="318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407720" y="2766600"/>
                <a:ext cx="306360" cy="136440"/>
              </a:xfrm>
              <a:custGeom>
                <a:avLst/>
                <a:gdLst/>
                <a:ahLst/>
                <a:rect l="l" t="t" r="r" b="b"/>
                <a:pathLst>
                  <a:path w="3291" h="1428">
                    <a:moveTo>
                      <a:pt x="81" y="1428"/>
                    </a:moveTo>
                    <a:lnTo>
                      <a:pt x="59" y="1361"/>
                    </a:lnTo>
                    <a:lnTo>
                      <a:pt x="25" y="1226"/>
                    </a:lnTo>
                    <a:lnTo>
                      <a:pt x="0" y="1090"/>
                    </a:lnTo>
                    <a:lnTo>
                      <a:pt x="9" y="870"/>
                    </a:lnTo>
                    <a:lnTo>
                      <a:pt x="34" y="660"/>
                    </a:lnTo>
                    <a:lnTo>
                      <a:pt x="36" y="639"/>
                    </a:lnTo>
                    <a:lnTo>
                      <a:pt x="52" y="601"/>
                    </a:lnTo>
                    <a:lnTo>
                      <a:pt x="74" y="569"/>
                    </a:lnTo>
                    <a:lnTo>
                      <a:pt x="103" y="544"/>
                    </a:lnTo>
                    <a:lnTo>
                      <a:pt x="720" y="115"/>
                    </a:lnTo>
                    <a:lnTo>
                      <a:pt x="758" y="97"/>
                    </a:lnTo>
                    <a:lnTo>
                      <a:pt x="846" y="61"/>
                    </a:lnTo>
                    <a:lnTo>
                      <a:pt x="940" y="34"/>
                    </a:lnTo>
                    <a:lnTo>
                      <a:pt x="1650" y="0"/>
                    </a:lnTo>
                    <a:lnTo>
                      <a:pt x="2547" y="21"/>
                    </a:lnTo>
                    <a:lnTo>
                      <a:pt x="2640" y="80"/>
                    </a:lnTo>
                    <a:lnTo>
                      <a:pt x="3069" y="441"/>
                    </a:lnTo>
                    <a:lnTo>
                      <a:pt x="3291" y="6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389720" y="2903400"/>
                <a:ext cx="235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271280" y="2898360"/>
                <a:ext cx="277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7286760" y="2843640"/>
                <a:ext cx="438480" cy="8280"/>
              </a:xfrm>
              <a:custGeom>
                <a:avLst/>
                <a:gdLst/>
                <a:ahLst/>
                <a:rect l="l" t="t" r="r" b="b"/>
                <a:pathLst>
                  <a:path w="4710" h="91">
                    <a:moveTo>
                      <a:pt x="0" y="91"/>
                    </a:moveTo>
                    <a:lnTo>
                      <a:pt x="3070" y="34"/>
                    </a:lnTo>
                    <a:lnTo>
                      <a:pt x="47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542360" y="2768040"/>
                <a:ext cx="12960" cy="135000"/>
              </a:xfrm>
              <a:custGeom>
                <a:avLst/>
                <a:gdLst/>
                <a:ahLst/>
                <a:rect l="l" t="t" r="r" b="b"/>
                <a:pathLst>
                  <a:path w="140" h="1417">
                    <a:moveTo>
                      <a:pt x="22" y="1417"/>
                    </a:moveTo>
                    <a:lnTo>
                      <a:pt x="17" y="1355"/>
                    </a:lnTo>
                    <a:lnTo>
                      <a:pt x="5" y="1178"/>
                    </a:lnTo>
                    <a:lnTo>
                      <a:pt x="0" y="997"/>
                    </a:lnTo>
                    <a:lnTo>
                      <a:pt x="7" y="817"/>
                    </a:lnTo>
                    <a:lnTo>
                      <a:pt x="25" y="639"/>
                    </a:lnTo>
                    <a:lnTo>
                      <a:pt x="34" y="639"/>
                    </a:lnTo>
                    <a:lnTo>
                      <a:pt x="1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7307640" y="2850120"/>
                <a:ext cx="86040" cy="49680"/>
              </a:xfrm>
              <a:custGeom>
                <a:avLst/>
                <a:gdLst/>
                <a:ahLst/>
                <a:rect l="l" t="t" r="r" b="b"/>
                <a:pathLst>
                  <a:path w="924" h="518">
                    <a:moveTo>
                      <a:pt x="924" y="518"/>
                    </a:moveTo>
                    <a:lnTo>
                      <a:pt x="914" y="444"/>
                    </a:lnTo>
                    <a:lnTo>
                      <a:pt x="897" y="373"/>
                    </a:lnTo>
                    <a:lnTo>
                      <a:pt x="872" y="304"/>
                    </a:lnTo>
                    <a:lnTo>
                      <a:pt x="835" y="239"/>
                    </a:lnTo>
                    <a:lnTo>
                      <a:pt x="791" y="183"/>
                    </a:lnTo>
                    <a:lnTo>
                      <a:pt x="739" y="131"/>
                    </a:lnTo>
                    <a:lnTo>
                      <a:pt x="680" y="87"/>
                    </a:lnTo>
                    <a:lnTo>
                      <a:pt x="615" y="52"/>
                    </a:lnTo>
                    <a:lnTo>
                      <a:pt x="546" y="24"/>
                    </a:lnTo>
                    <a:lnTo>
                      <a:pt x="477" y="7"/>
                    </a:lnTo>
                    <a:lnTo>
                      <a:pt x="405" y="0"/>
                    </a:lnTo>
                    <a:lnTo>
                      <a:pt x="331" y="4"/>
                    </a:lnTo>
                    <a:lnTo>
                      <a:pt x="260" y="18"/>
                    </a:lnTo>
                    <a:lnTo>
                      <a:pt x="189" y="39"/>
                    </a:lnTo>
                    <a:lnTo>
                      <a:pt x="124" y="72"/>
                    </a:lnTo>
                    <a:lnTo>
                      <a:pt x="63" y="114"/>
                    </a:lnTo>
                    <a:lnTo>
                      <a:pt x="8" y="163"/>
                    </a:lnTo>
                    <a:lnTo>
                      <a:pt x="0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7621200" y="2848680"/>
                <a:ext cx="78840" cy="51840"/>
              </a:xfrm>
              <a:custGeom>
                <a:avLst/>
                <a:gdLst/>
                <a:ahLst/>
                <a:rect l="l" t="t" r="r" b="b"/>
                <a:pathLst>
                  <a:path w="850" h="544">
                    <a:moveTo>
                      <a:pt x="850" y="128"/>
                    </a:moveTo>
                    <a:lnTo>
                      <a:pt x="792" y="84"/>
                    </a:lnTo>
                    <a:lnTo>
                      <a:pt x="731" y="48"/>
                    </a:lnTo>
                    <a:lnTo>
                      <a:pt x="664" y="21"/>
                    </a:lnTo>
                    <a:lnTo>
                      <a:pt x="593" y="8"/>
                    </a:lnTo>
                    <a:lnTo>
                      <a:pt x="524" y="0"/>
                    </a:lnTo>
                    <a:lnTo>
                      <a:pt x="452" y="4"/>
                    </a:lnTo>
                    <a:lnTo>
                      <a:pt x="380" y="17"/>
                    </a:lnTo>
                    <a:lnTo>
                      <a:pt x="311" y="42"/>
                    </a:lnTo>
                    <a:lnTo>
                      <a:pt x="248" y="73"/>
                    </a:lnTo>
                    <a:lnTo>
                      <a:pt x="188" y="115"/>
                    </a:lnTo>
                    <a:lnTo>
                      <a:pt x="135" y="164"/>
                    </a:lnTo>
                    <a:lnTo>
                      <a:pt x="92" y="222"/>
                    </a:lnTo>
                    <a:lnTo>
                      <a:pt x="55" y="283"/>
                    </a:lnTo>
                    <a:lnTo>
                      <a:pt x="24" y="350"/>
                    </a:lnTo>
                    <a:lnTo>
                      <a:pt x="7" y="419"/>
                    </a:lnTo>
                    <a:lnTo>
                      <a:pt x="0" y="491"/>
                    </a:lnTo>
                    <a:lnTo>
                      <a:pt x="3" y="5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7627680" y="2768760"/>
                <a:ext cx="42120" cy="82080"/>
              </a:xfrm>
              <a:custGeom>
                <a:avLst/>
                <a:gdLst/>
                <a:ahLst/>
                <a:rect l="l" t="t" r="r" b="b"/>
                <a:pathLst>
                  <a:path w="454" h="858">
                    <a:moveTo>
                      <a:pt x="326" y="858"/>
                    </a:moveTo>
                    <a:lnTo>
                      <a:pt x="454" y="649"/>
                    </a:lnTo>
                    <a:lnTo>
                      <a:pt x="446" y="599"/>
                    </a:lnTo>
                    <a:lnTo>
                      <a:pt x="432" y="554"/>
                    </a:lnTo>
                    <a:lnTo>
                      <a:pt x="407" y="5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7629120" y="2833560"/>
                <a:ext cx="180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7629120" y="2833560"/>
                <a:ext cx="18000" cy="8280"/>
              </a:xfrm>
              <a:custGeom>
                <a:avLst/>
                <a:gdLst/>
                <a:ahLst/>
                <a:rect l="l" t="t" r="r" b="b"/>
                <a:pathLst>
                  <a:path w="197" h="93">
                    <a:moveTo>
                      <a:pt x="0" y="93"/>
                    </a:moveTo>
                    <a:lnTo>
                      <a:pt x="0" y="0"/>
                    </a:lnTo>
                    <a:lnTo>
                      <a:pt x="197" y="0"/>
                    </a:lnTo>
                    <a:lnTo>
                      <a:pt x="197" y="93"/>
                    </a:lnTo>
                    <a:lnTo>
                      <a:pt x="0" y="93"/>
                    </a:lnTo>
                    <a:lnTo>
                      <a:pt x="0" y="9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7629120" y="2833560"/>
                <a:ext cx="18000" cy="5040"/>
              </a:xfrm>
              <a:custGeom>
                <a:avLst/>
                <a:gdLst/>
                <a:ahLst/>
                <a:rect l="l" t="t" r="r" b="b"/>
                <a:pathLst>
                  <a:path w="197" h="59">
                    <a:moveTo>
                      <a:pt x="0" y="56"/>
                    </a:moveTo>
                    <a:lnTo>
                      <a:pt x="0" y="0"/>
                    </a:lnTo>
                    <a:lnTo>
                      <a:pt x="197" y="0"/>
                    </a:lnTo>
                    <a:lnTo>
                      <a:pt x="197" y="59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7629120" y="2833560"/>
                <a:ext cx="18000" cy="5040"/>
              </a:xfrm>
              <a:custGeom>
                <a:avLst/>
                <a:gdLst/>
                <a:ahLst/>
                <a:rect l="l" t="t" r="r" b="b"/>
                <a:pathLst>
                  <a:path w="197" h="59">
                    <a:moveTo>
                      <a:pt x="0" y="56"/>
                    </a:moveTo>
                    <a:lnTo>
                      <a:pt x="0" y="0"/>
                    </a:lnTo>
                    <a:lnTo>
                      <a:pt x="197" y="0"/>
                    </a:lnTo>
                    <a:lnTo>
                      <a:pt x="197" y="59"/>
                    </a:lnTo>
                    <a:lnTo>
                      <a:pt x="0" y="56"/>
                    </a:lnTo>
                    <a:lnTo>
                      <a:pt x="0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7394760" y="285984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59" h="47">
                    <a:moveTo>
                      <a:pt x="0" y="47"/>
                    </a:moveTo>
                    <a:lnTo>
                      <a:pt x="0" y="0"/>
                    </a:lnTo>
                    <a:lnTo>
                      <a:pt x="55" y="0"/>
                    </a:lnTo>
                    <a:lnTo>
                      <a:pt x="59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7394760" y="285984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59" h="47">
                    <a:moveTo>
                      <a:pt x="0" y="47"/>
                    </a:moveTo>
                    <a:lnTo>
                      <a:pt x="0" y="0"/>
                    </a:lnTo>
                    <a:lnTo>
                      <a:pt x="55" y="0"/>
                    </a:lnTo>
                    <a:lnTo>
                      <a:pt x="59" y="47"/>
                    </a:lnTo>
                    <a:lnTo>
                      <a:pt x="0" y="47"/>
                    </a:lnTo>
                    <a:lnTo>
                      <a:pt x="0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7386480" y="2872080"/>
                <a:ext cx="2419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7383240" y="2868840"/>
                <a:ext cx="2466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5" name=""/>
            <p:cNvGrpSpPr/>
            <p:nvPr/>
          </p:nvGrpSpPr>
          <p:grpSpPr>
            <a:xfrm>
              <a:off x="5218920" y="2741760"/>
              <a:ext cx="487800" cy="209880"/>
              <a:chOff x="5218920" y="2741760"/>
              <a:chExt cx="487800" cy="209880"/>
            </a:xfrm>
          </p:grpSpPr>
          <p:sp>
            <p:nvSpPr>
              <p:cNvPr id="3416" name=""/>
              <p:cNvSpPr/>
              <p:nvPr/>
            </p:nvSpPr>
            <p:spPr>
              <a:xfrm>
                <a:off x="5223600" y="2816640"/>
                <a:ext cx="18720" cy="46080"/>
              </a:xfrm>
              <a:custGeom>
                <a:avLst/>
                <a:gdLst/>
                <a:ahLst/>
                <a:rect l="l" t="t" r="r" b="b"/>
                <a:pathLst>
                  <a:path w="216" h="397">
                    <a:moveTo>
                      <a:pt x="14" y="27"/>
                    </a:moveTo>
                    <a:lnTo>
                      <a:pt x="0" y="52"/>
                    </a:lnTo>
                    <a:lnTo>
                      <a:pt x="25" y="115"/>
                    </a:lnTo>
                    <a:lnTo>
                      <a:pt x="0" y="180"/>
                    </a:lnTo>
                    <a:lnTo>
                      <a:pt x="0" y="269"/>
                    </a:lnTo>
                    <a:lnTo>
                      <a:pt x="14" y="369"/>
                    </a:lnTo>
                    <a:lnTo>
                      <a:pt x="202" y="397"/>
                    </a:lnTo>
                    <a:lnTo>
                      <a:pt x="216" y="0"/>
                    </a:lnTo>
                    <a:lnTo>
                      <a:pt x="14" y="27"/>
                    </a:lnTo>
                    <a:close/>
                  </a:path>
                </a:pathLst>
              </a:custGeom>
              <a:solidFill>
                <a:srgbClr val="ff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5223600" y="2816640"/>
                <a:ext cx="18720" cy="46080"/>
              </a:xfrm>
              <a:custGeom>
                <a:avLst/>
                <a:gdLst/>
                <a:ahLst/>
                <a:rect l="l" t="t" r="r" b="b"/>
                <a:pathLst>
                  <a:path w="216" h="397">
                    <a:moveTo>
                      <a:pt x="14" y="27"/>
                    </a:moveTo>
                    <a:lnTo>
                      <a:pt x="0" y="52"/>
                    </a:lnTo>
                    <a:lnTo>
                      <a:pt x="25" y="115"/>
                    </a:lnTo>
                    <a:lnTo>
                      <a:pt x="0" y="180"/>
                    </a:lnTo>
                    <a:lnTo>
                      <a:pt x="0" y="269"/>
                    </a:lnTo>
                    <a:lnTo>
                      <a:pt x="14" y="369"/>
                    </a:lnTo>
                    <a:lnTo>
                      <a:pt x="202" y="397"/>
                    </a:lnTo>
                    <a:lnTo>
                      <a:pt x="216" y="0"/>
                    </a:lnTo>
                    <a:lnTo>
                      <a:pt x="14" y="27"/>
                    </a:lnTo>
                    <a:lnTo>
                      <a:pt x="14" y="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661360" y="284796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49" h="229">
                    <a:moveTo>
                      <a:pt x="449" y="229"/>
                    </a:moveTo>
                    <a:lnTo>
                      <a:pt x="361" y="0"/>
                    </a:lnTo>
                    <a:lnTo>
                      <a:pt x="0" y="0"/>
                    </a:lnTo>
                    <a:lnTo>
                      <a:pt x="0" y="203"/>
                    </a:lnTo>
                    <a:lnTo>
                      <a:pt x="449" y="2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661360" y="284796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49" h="229">
                    <a:moveTo>
                      <a:pt x="449" y="229"/>
                    </a:moveTo>
                    <a:lnTo>
                      <a:pt x="361" y="0"/>
                    </a:lnTo>
                    <a:lnTo>
                      <a:pt x="0" y="0"/>
                    </a:lnTo>
                    <a:lnTo>
                      <a:pt x="0" y="203"/>
                    </a:lnTo>
                    <a:lnTo>
                      <a:pt x="449" y="229"/>
                    </a:lnTo>
                    <a:lnTo>
                      <a:pt x="449" y="2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5661360" y="2845080"/>
                <a:ext cx="29520" cy="27000"/>
              </a:xfrm>
              <a:custGeom>
                <a:avLst/>
                <a:gdLst/>
                <a:ahLst/>
                <a:rect l="l" t="t" r="r" b="b"/>
                <a:pathLst>
                  <a:path w="335" h="228">
                    <a:moveTo>
                      <a:pt x="246" y="10"/>
                    </a:moveTo>
                    <a:lnTo>
                      <a:pt x="335" y="215"/>
                    </a:lnTo>
                    <a:lnTo>
                      <a:pt x="65" y="228"/>
                    </a:lnTo>
                    <a:lnTo>
                      <a:pt x="0" y="190"/>
                    </a:lnTo>
                    <a:lnTo>
                      <a:pt x="14" y="0"/>
                    </a:lnTo>
                    <a:lnTo>
                      <a:pt x="246" y="10"/>
                    </a:lnTo>
                    <a:close/>
                  </a:path>
                </a:pathLst>
              </a:custGeom>
              <a:solidFill>
                <a:srgbClr val="ff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5661360" y="2845080"/>
                <a:ext cx="29520" cy="27000"/>
              </a:xfrm>
              <a:custGeom>
                <a:avLst/>
                <a:gdLst/>
                <a:ahLst/>
                <a:rect l="l" t="t" r="r" b="b"/>
                <a:pathLst>
                  <a:path w="335" h="228">
                    <a:moveTo>
                      <a:pt x="246" y="10"/>
                    </a:moveTo>
                    <a:lnTo>
                      <a:pt x="335" y="215"/>
                    </a:lnTo>
                    <a:lnTo>
                      <a:pt x="65" y="228"/>
                    </a:lnTo>
                    <a:lnTo>
                      <a:pt x="0" y="190"/>
                    </a:lnTo>
                    <a:lnTo>
                      <a:pt x="14" y="0"/>
                    </a:lnTo>
                    <a:lnTo>
                      <a:pt x="246" y="10"/>
                    </a:lnTo>
                    <a:lnTo>
                      <a:pt x="246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243400" y="2750760"/>
                <a:ext cx="331920" cy="70200"/>
              </a:xfrm>
              <a:custGeom>
                <a:avLst/>
                <a:gdLst/>
                <a:ahLst/>
                <a:rect l="l" t="t" r="r" b="b"/>
                <a:pathLst>
                  <a:path w="3752" h="600">
                    <a:moveTo>
                      <a:pt x="15" y="587"/>
                    </a:moveTo>
                    <a:lnTo>
                      <a:pt x="3752" y="600"/>
                    </a:lnTo>
                    <a:lnTo>
                      <a:pt x="3752" y="522"/>
                    </a:lnTo>
                    <a:lnTo>
                      <a:pt x="3736" y="508"/>
                    </a:lnTo>
                    <a:lnTo>
                      <a:pt x="3387" y="306"/>
                    </a:lnTo>
                    <a:lnTo>
                      <a:pt x="3040" y="117"/>
                    </a:lnTo>
                    <a:lnTo>
                      <a:pt x="2856" y="36"/>
                    </a:lnTo>
                    <a:lnTo>
                      <a:pt x="2856" y="50"/>
                    </a:lnTo>
                    <a:lnTo>
                      <a:pt x="910" y="0"/>
                    </a:lnTo>
                    <a:lnTo>
                      <a:pt x="885" y="8"/>
                    </a:lnTo>
                    <a:lnTo>
                      <a:pt x="698" y="73"/>
                    </a:lnTo>
                    <a:lnTo>
                      <a:pt x="517" y="148"/>
                    </a:lnTo>
                    <a:lnTo>
                      <a:pt x="338" y="234"/>
                    </a:lnTo>
                    <a:lnTo>
                      <a:pt x="168" y="329"/>
                    </a:lnTo>
                    <a:lnTo>
                      <a:pt x="0" y="432"/>
                    </a:lnTo>
                    <a:lnTo>
                      <a:pt x="15" y="5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243400" y="2750760"/>
                <a:ext cx="331920" cy="70200"/>
              </a:xfrm>
              <a:custGeom>
                <a:avLst/>
                <a:gdLst/>
                <a:ahLst/>
                <a:rect l="l" t="t" r="r" b="b"/>
                <a:pathLst>
                  <a:path w="3752" h="600">
                    <a:moveTo>
                      <a:pt x="15" y="587"/>
                    </a:moveTo>
                    <a:lnTo>
                      <a:pt x="3752" y="600"/>
                    </a:lnTo>
                    <a:lnTo>
                      <a:pt x="3752" y="522"/>
                    </a:lnTo>
                    <a:lnTo>
                      <a:pt x="3736" y="508"/>
                    </a:lnTo>
                    <a:lnTo>
                      <a:pt x="3387" y="306"/>
                    </a:lnTo>
                    <a:lnTo>
                      <a:pt x="3040" y="117"/>
                    </a:lnTo>
                    <a:lnTo>
                      <a:pt x="2856" y="36"/>
                    </a:lnTo>
                    <a:lnTo>
                      <a:pt x="2856" y="50"/>
                    </a:lnTo>
                    <a:lnTo>
                      <a:pt x="910" y="0"/>
                    </a:lnTo>
                    <a:lnTo>
                      <a:pt x="885" y="8"/>
                    </a:lnTo>
                    <a:lnTo>
                      <a:pt x="698" y="73"/>
                    </a:lnTo>
                    <a:lnTo>
                      <a:pt x="517" y="148"/>
                    </a:lnTo>
                    <a:lnTo>
                      <a:pt x="338" y="234"/>
                    </a:lnTo>
                    <a:lnTo>
                      <a:pt x="168" y="329"/>
                    </a:lnTo>
                    <a:lnTo>
                      <a:pt x="0" y="432"/>
                    </a:lnTo>
                    <a:lnTo>
                      <a:pt x="15" y="587"/>
                    </a:lnTo>
                    <a:lnTo>
                      <a:pt x="15" y="58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5254200" y="2840760"/>
                <a:ext cx="414720" cy="110880"/>
              </a:xfrm>
              <a:custGeom>
                <a:avLst/>
                <a:gdLst/>
                <a:ahLst/>
                <a:rect l="l" t="t" r="r" b="b"/>
                <a:pathLst>
                  <a:path w="4697" h="947">
                    <a:moveTo>
                      <a:pt x="1024" y="586"/>
                    </a:moveTo>
                    <a:lnTo>
                      <a:pt x="1016" y="651"/>
                    </a:lnTo>
                    <a:lnTo>
                      <a:pt x="993" y="714"/>
                    </a:lnTo>
                    <a:lnTo>
                      <a:pt x="962" y="771"/>
                    </a:lnTo>
                    <a:lnTo>
                      <a:pt x="924" y="823"/>
                    </a:lnTo>
                    <a:lnTo>
                      <a:pt x="873" y="865"/>
                    </a:lnTo>
                    <a:lnTo>
                      <a:pt x="817" y="901"/>
                    </a:lnTo>
                    <a:lnTo>
                      <a:pt x="759" y="926"/>
                    </a:lnTo>
                    <a:lnTo>
                      <a:pt x="695" y="941"/>
                    </a:lnTo>
                    <a:lnTo>
                      <a:pt x="630" y="943"/>
                    </a:lnTo>
                    <a:lnTo>
                      <a:pt x="563" y="935"/>
                    </a:lnTo>
                    <a:lnTo>
                      <a:pt x="502" y="918"/>
                    </a:lnTo>
                    <a:lnTo>
                      <a:pt x="443" y="890"/>
                    </a:lnTo>
                    <a:lnTo>
                      <a:pt x="391" y="851"/>
                    </a:lnTo>
                    <a:lnTo>
                      <a:pt x="343" y="804"/>
                    </a:lnTo>
                    <a:lnTo>
                      <a:pt x="307" y="750"/>
                    </a:lnTo>
                    <a:lnTo>
                      <a:pt x="279" y="693"/>
                    </a:lnTo>
                    <a:lnTo>
                      <a:pt x="262" y="628"/>
                    </a:lnTo>
                    <a:lnTo>
                      <a:pt x="256" y="563"/>
                    </a:lnTo>
                    <a:lnTo>
                      <a:pt x="256" y="511"/>
                    </a:lnTo>
                    <a:lnTo>
                      <a:pt x="75" y="496"/>
                    </a:lnTo>
                    <a:lnTo>
                      <a:pt x="0" y="13"/>
                    </a:lnTo>
                    <a:lnTo>
                      <a:pt x="4541" y="0"/>
                    </a:lnTo>
                    <a:lnTo>
                      <a:pt x="4697" y="575"/>
                    </a:lnTo>
                    <a:lnTo>
                      <a:pt x="4479" y="575"/>
                    </a:lnTo>
                    <a:lnTo>
                      <a:pt x="4472" y="639"/>
                    </a:lnTo>
                    <a:lnTo>
                      <a:pt x="4449" y="703"/>
                    </a:lnTo>
                    <a:lnTo>
                      <a:pt x="4418" y="762"/>
                    </a:lnTo>
                    <a:lnTo>
                      <a:pt x="4380" y="815"/>
                    </a:lnTo>
                    <a:lnTo>
                      <a:pt x="4332" y="859"/>
                    </a:lnTo>
                    <a:lnTo>
                      <a:pt x="4277" y="896"/>
                    </a:lnTo>
                    <a:lnTo>
                      <a:pt x="4218" y="924"/>
                    </a:lnTo>
                    <a:lnTo>
                      <a:pt x="4153" y="941"/>
                    </a:lnTo>
                    <a:lnTo>
                      <a:pt x="4086" y="947"/>
                    </a:lnTo>
                    <a:lnTo>
                      <a:pt x="4019" y="938"/>
                    </a:lnTo>
                    <a:lnTo>
                      <a:pt x="3958" y="924"/>
                    </a:lnTo>
                    <a:lnTo>
                      <a:pt x="3899" y="896"/>
                    </a:lnTo>
                    <a:lnTo>
                      <a:pt x="3843" y="859"/>
                    </a:lnTo>
                    <a:lnTo>
                      <a:pt x="3796" y="815"/>
                    </a:lnTo>
                    <a:lnTo>
                      <a:pt x="3754" y="762"/>
                    </a:lnTo>
                    <a:lnTo>
                      <a:pt x="3723" y="701"/>
                    </a:lnTo>
                    <a:lnTo>
                      <a:pt x="3704" y="639"/>
                    </a:lnTo>
                    <a:lnTo>
                      <a:pt x="3698" y="600"/>
                    </a:lnTo>
                    <a:lnTo>
                      <a:pt x="1024" y="5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5254200" y="2840760"/>
                <a:ext cx="414720" cy="110880"/>
              </a:xfrm>
              <a:custGeom>
                <a:avLst/>
                <a:gdLst/>
                <a:ahLst/>
                <a:rect l="l" t="t" r="r" b="b"/>
                <a:pathLst>
                  <a:path w="4697" h="947">
                    <a:moveTo>
                      <a:pt x="1024" y="586"/>
                    </a:moveTo>
                    <a:lnTo>
                      <a:pt x="1016" y="651"/>
                    </a:lnTo>
                    <a:lnTo>
                      <a:pt x="993" y="714"/>
                    </a:lnTo>
                    <a:lnTo>
                      <a:pt x="962" y="771"/>
                    </a:lnTo>
                    <a:lnTo>
                      <a:pt x="924" y="823"/>
                    </a:lnTo>
                    <a:lnTo>
                      <a:pt x="873" y="865"/>
                    </a:lnTo>
                    <a:lnTo>
                      <a:pt x="817" y="901"/>
                    </a:lnTo>
                    <a:lnTo>
                      <a:pt x="759" y="926"/>
                    </a:lnTo>
                    <a:lnTo>
                      <a:pt x="695" y="941"/>
                    </a:lnTo>
                    <a:lnTo>
                      <a:pt x="630" y="943"/>
                    </a:lnTo>
                    <a:lnTo>
                      <a:pt x="563" y="935"/>
                    </a:lnTo>
                    <a:lnTo>
                      <a:pt x="502" y="918"/>
                    </a:lnTo>
                    <a:lnTo>
                      <a:pt x="443" y="890"/>
                    </a:lnTo>
                    <a:lnTo>
                      <a:pt x="391" y="851"/>
                    </a:lnTo>
                    <a:lnTo>
                      <a:pt x="343" y="804"/>
                    </a:lnTo>
                    <a:lnTo>
                      <a:pt x="307" y="750"/>
                    </a:lnTo>
                    <a:lnTo>
                      <a:pt x="279" y="693"/>
                    </a:lnTo>
                    <a:lnTo>
                      <a:pt x="262" y="628"/>
                    </a:lnTo>
                    <a:lnTo>
                      <a:pt x="256" y="563"/>
                    </a:lnTo>
                    <a:lnTo>
                      <a:pt x="256" y="511"/>
                    </a:lnTo>
                    <a:lnTo>
                      <a:pt x="75" y="496"/>
                    </a:lnTo>
                    <a:lnTo>
                      <a:pt x="0" y="13"/>
                    </a:lnTo>
                    <a:lnTo>
                      <a:pt x="4541" y="0"/>
                    </a:lnTo>
                    <a:lnTo>
                      <a:pt x="4697" y="575"/>
                    </a:lnTo>
                    <a:lnTo>
                      <a:pt x="4479" y="575"/>
                    </a:lnTo>
                    <a:lnTo>
                      <a:pt x="4472" y="639"/>
                    </a:lnTo>
                    <a:lnTo>
                      <a:pt x="4449" y="703"/>
                    </a:lnTo>
                    <a:lnTo>
                      <a:pt x="4418" y="762"/>
                    </a:lnTo>
                    <a:lnTo>
                      <a:pt x="4380" y="815"/>
                    </a:lnTo>
                    <a:lnTo>
                      <a:pt x="4332" y="859"/>
                    </a:lnTo>
                    <a:lnTo>
                      <a:pt x="4277" y="896"/>
                    </a:lnTo>
                    <a:lnTo>
                      <a:pt x="4218" y="924"/>
                    </a:lnTo>
                    <a:lnTo>
                      <a:pt x="4153" y="941"/>
                    </a:lnTo>
                    <a:lnTo>
                      <a:pt x="4086" y="947"/>
                    </a:lnTo>
                    <a:lnTo>
                      <a:pt x="4019" y="938"/>
                    </a:lnTo>
                    <a:lnTo>
                      <a:pt x="3958" y="924"/>
                    </a:lnTo>
                    <a:lnTo>
                      <a:pt x="3899" y="896"/>
                    </a:lnTo>
                    <a:lnTo>
                      <a:pt x="3843" y="859"/>
                    </a:lnTo>
                    <a:lnTo>
                      <a:pt x="3796" y="815"/>
                    </a:lnTo>
                    <a:lnTo>
                      <a:pt x="3754" y="762"/>
                    </a:lnTo>
                    <a:lnTo>
                      <a:pt x="3723" y="701"/>
                    </a:lnTo>
                    <a:lnTo>
                      <a:pt x="3704" y="639"/>
                    </a:lnTo>
                    <a:lnTo>
                      <a:pt x="3698" y="600"/>
                    </a:lnTo>
                    <a:lnTo>
                      <a:pt x="1024" y="586"/>
                    </a:lnTo>
                    <a:lnTo>
                      <a:pt x="1024" y="5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5223600" y="2741760"/>
                <a:ext cx="470160" cy="181080"/>
              </a:xfrm>
              <a:custGeom>
                <a:avLst/>
                <a:gdLst/>
                <a:ahLst/>
                <a:rect l="l" t="t" r="r" b="b"/>
                <a:pathLst>
                  <a:path w="5322" h="1544">
                    <a:moveTo>
                      <a:pt x="5016" y="1200"/>
                    </a:moveTo>
                    <a:lnTo>
                      <a:pt x="5016" y="971"/>
                    </a:lnTo>
                    <a:lnTo>
                      <a:pt x="5013" y="949"/>
                    </a:lnTo>
                    <a:lnTo>
                      <a:pt x="5018" y="927"/>
                    </a:lnTo>
                    <a:lnTo>
                      <a:pt x="5035" y="913"/>
                    </a:lnTo>
                    <a:lnTo>
                      <a:pt x="5058" y="904"/>
                    </a:lnTo>
                    <a:lnTo>
                      <a:pt x="5068" y="907"/>
                    </a:lnTo>
                    <a:lnTo>
                      <a:pt x="5322" y="907"/>
                    </a:lnTo>
                    <a:lnTo>
                      <a:pt x="5289" y="871"/>
                    </a:lnTo>
                    <a:lnTo>
                      <a:pt x="5234" y="829"/>
                    </a:lnTo>
                    <a:lnTo>
                      <a:pt x="5054" y="779"/>
                    </a:lnTo>
                    <a:lnTo>
                      <a:pt x="4831" y="722"/>
                    </a:lnTo>
                    <a:lnTo>
                      <a:pt x="4606" y="680"/>
                    </a:lnTo>
                    <a:lnTo>
                      <a:pt x="4376" y="648"/>
                    </a:lnTo>
                    <a:lnTo>
                      <a:pt x="4147" y="625"/>
                    </a:lnTo>
                    <a:lnTo>
                      <a:pt x="4064" y="606"/>
                    </a:lnTo>
                    <a:lnTo>
                      <a:pt x="4027" y="611"/>
                    </a:lnTo>
                    <a:lnTo>
                      <a:pt x="3980" y="586"/>
                    </a:lnTo>
                    <a:lnTo>
                      <a:pt x="3886" y="600"/>
                    </a:lnTo>
                    <a:lnTo>
                      <a:pt x="3790" y="602"/>
                    </a:lnTo>
                    <a:lnTo>
                      <a:pt x="3748" y="600"/>
                    </a:lnTo>
                    <a:lnTo>
                      <a:pt x="3059" y="167"/>
                    </a:lnTo>
                    <a:lnTo>
                      <a:pt x="3122" y="128"/>
                    </a:lnTo>
                    <a:lnTo>
                      <a:pt x="3067" y="103"/>
                    </a:lnTo>
                    <a:lnTo>
                      <a:pt x="2975" y="69"/>
                    </a:lnTo>
                    <a:lnTo>
                      <a:pt x="2905" y="50"/>
                    </a:lnTo>
                    <a:lnTo>
                      <a:pt x="2841" y="38"/>
                    </a:lnTo>
                    <a:lnTo>
                      <a:pt x="2740" y="27"/>
                    </a:lnTo>
                    <a:lnTo>
                      <a:pt x="2450" y="8"/>
                    </a:lnTo>
                    <a:lnTo>
                      <a:pt x="2160" y="0"/>
                    </a:lnTo>
                    <a:lnTo>
                      <a:pt x="1870" y="2"/>
                    </a:lnTo>
                    <a:lnTo>
                      <a:pt x="1583" y="13"/>
                    </a:lnTo>
                    <a:lnTo>
                      <a:pt x="1291" y="38"/>
                    </a:lnTo>
                    <a:lnTo>
                      <a:pt x="1289" y="38"/>
                    </a:lnTo>
                    <a:lnTo>
                      <a:pt x="1203" y="50"/>
                    </a:lnTo>
                    <a:lnTo>
                      <a:pt x="1119" y="69"/>
                    </a:lnTo>
                    <a:lnTo>
                      <a:pt x="1035" y="103"/>
                    </a:lnTo>
                    <a:lnTo>
                      <a:pt x="1058" y="111"/>
                    </a:lnTo>
                    <a:lnTo>
                      <a:pt x="1071" y="130"/>
                    </a:lnTo>
                    <a:lnTo>
                      <a:pt x="1077" y="151"/>
                    </a:lnTo>
                    <a:lnTo>
                      <a:pt x="1074" y="167"/>
                    </a:lnTo>
                    <a:lnTo>
                      <a:pt x="485" y="435"/>
                    </a:lnTo>
                    <a:lnTo>
                      <a:pt x="426" y="463"/>
                    </a:lnTo>
                    <a:lnTo>
                      <a:pt x="368" y="480"/>
                    </a:lnTo>
                    <a:lnTo>
                      <a:pt x="317" y="485"/>
                    </a:lnTo>
                    <a:lnTo>
                      <a:pt x="75" y="510"/>
                    </a:lnTo>
                    <a:lnTo>
                      <a:pt x="69" y="514"/>
                    </a:lnTo>
                    <a:lnTo>
                      <a:pt x="38" y="544"/>
                    </a:lnTo>
                    <a:lnTo>
                      <a:pt x="14" y="581"/>
                    </a:lnTo>
                    <a:lnTo>
                      <a:pt x="2" y="619"/>
                    </a:lnTo>
                    <a:lnTo>
                      <a:pt x="0" y="665"/>
                    </a:lnTo>
                    <a:lnTo>
                      <a:pt x="44" y="670"/>
                    </a:lnTo>
                    <a:lnTo>
                      <a:pt x="86" y="686"/>
                    </a:lnTo>
                    <a:lnTo>
                      <a:pt x="119" y="714"/>
                    </a:lnTo>
                    <a:lnTo>
                      <a:pt x="151" y="747"/>
                    </a:lnTo>
                    <a:lnTo>
                      <a:pt x="153" y="753"/>
                    </a:lnTo>
                    <a:lnTo>
                      <a:pt x="192" y="1035"/>
                    </a:lnTo>
                    <a:lnTo>
                      <a:pt x="703" y="1035"/>
                    </a:lnTo>
                    <a:lnTo>
                      <a:pt x="768" y="999"/>
                    </a:lnTo>
                    <a:lnTo>
                      <a:pt x="840" y="971"/>
                    </a:lnTo>
                    <a:lnTo>
                      <a:pt x="913" y="957"/>
                    </a:lnTo>
                    <a:lnTo>
                      <a:pt x="985" y="955"/>
                    </a:lnTo>
                    <a:lnTo>
                      <a:pt x="1060" y="963"/>
                    </a:lnTo>
                    <a:lnTo>
                      <a:pt x="1133" y="980"/>
                    </a:lnTo>
                    <a:lnTo>
                      <a:pt x="1199" y="1007"/>
                    </a:lnTo>
                    <a:lnTo>
                      <a:pt x="1264" y="1047"/>
                    </a:lnTo>
                    <a:lnTo>
                      <a:pt x="1323" y="1094"/>
                    </a:lnTo>
                    <a:lnTo>
                      <a:pt x="1370" y="1150"/>
                    </a:lnTo>
                    <a:lnTo>
                      <a:pt x="1412" y="1211"/>
                    </a:lnTo>
                    <a:lnTo>
                      <a:pt x="1442" y="1278"/>
                    </a:lnTo>
                    <a:lnTo>
                      <a:pt x="1465" y="1351"/>
                    </a:lnTo>
                    <a:lnTo>
                      <a:pt x="1473" y="1427"/>
                    </a:lnTo>
                    <a:lnTo>
                      <a:pt x="1473" y="1499"/>
                    </a:lnTo>
                    <a:lnTo>
                      <a:pt x="1470" y="1519"/>
                    </a:lnTo>
                    <a:lnTo>
                      <a:pt x="3941" y="1544"/>
                    </a:lnTo>
                    <a:lnTo>
                      <a:pt x="3935" y="1471"/>
                    </a:lnTo>
                    <a:lnTo>
                      <a:pt x="3941" y="1396"/>
                    </a:lnTo>
                    <a:lnTo>
                      <a:pt x="3958" y="1320"/>
                    </a:lnTo>
                    <a:lnTo>
                      <a:pt x="3983" y="1251"/>
                    </a:lnTo>
                    <a:lnTo>
                      <a:pt x="4022" y="1183"/>
                    </a:lnTo>
                    <a:lnTo>
                      <a:pt x="4067" y="1125"/>
                    </a:lnTo>
                    <a:lnTo>
                      <a:pt x="4122" y="1074"/>
                    </a:lnTo>
                    <a:lnTo>
                      <a:pt x="4184" y="1030"/>
                    </a:lnTo>
                    <a:lnTo>
                      <a:pt x="4251" y="997"/>
                    </a:lnTo>
                    <a:lnTo>
                      <a:pt x="4321" y="971"/>
                    </a:lnTo>
                    <a:lnTo>
                      <a:pt x="4396" y="961"/>
                    </a:lnTo>
                    <a:lnTo>
                      <a:pt x="4472" y="957"/>
                    </a:lnTo>
                    <a:lnTo>
                      <a:pt x="4547" y="965"/>
                    </a:lnTo>
                    <a:lnTo>
                      <a:pt x="4617" y="988"/>
                    </a:lnTo>
                    <a:lnTo>
                      <a:pt x="4686" y="1016"/>
                    </a:lnTo>
                    <a:lnTo>
                      <a:pt x="4751" y="1058"/>
                    </a:lnTo>
                    <a:lnTo>
                      <a:pt x="4808" y="1106"/>
                    </a:lnTo>
                    <a:lnTo>
                      <a:pt x="4812" y="1110"/>
                    </a:lnTo>
                    <a:lnTo>
                      <a:pt x="5016" y="1200"/>
                    </a:lnTo>
                    <a:close/>
                  </a:path>
                </a:pathLst>
              </a:custGeom>
              <a:solidFill>
                <a:srgbClr val="c96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5223600" y="2741760"/>
                <a:ext cx="470160" cy="181080"/>
              </a:xfrm>
              <a:custGeom>
                <a:avLst/>
                <a:gdLst/>
                <a:ahLst/>
                <a:rect l="l" t="t" r="r" b="b"/>
                <a:pathLst>
                  <a:path w="5322" h="1544">
                    <a:moveTo>
                      <a:pt x="5016" y="1200"/>
                    </a:moveTo>
                    <a:lnTo>
                      <a:pt x="5016" y="971"/>
                    </a:lnTo>
                    <a:lnTo>
                      <a:pt x="5013" y="949"/>
                    </a:lnTo>
                    <a:lnTo>
                      <a:pt x="5018" y="927"/>
                    </a:lnTo>
                    <a:lnTo>
                      <a:pt x="5035" y="913"/>
                    </a:lnTo>
                    <a:lnTo>
                      <a:pt x="5058" y="904"/>
                    </a:lnTo>
                    <a:lnTo>
                      <a:pt x="5068" y="907"/>
                    </a:lnTo>
                    <a:lnTo>
                      <a:pt x="5322" y="907"/>
                    </a:lnTo>
                    <a:lnTo>
                      <a:pt x="5289" y="871"/>
                    </a:lnTo>
                    <a:lnTo>
                      <a:pt x="5234" y="829"/>
                    </a:lnTo>
                    <a:lnTo>
                      <a:pt x="5054" y="779"/>
                    </a:lnTo>
                    <a:lnTo>
                      <a:pt x="4831" y="722"/>
                    </a:lnTo>
                    <a:lnTo>
                      <a:pt x="4606" y="680"/>
                    </a:lnTo>
                    <a:lnTo>
                      <a:pt x="4376" y="648"/>
                    </a:lnTo>
                    <a:lnTo>
                      <a:pt x="4147" y="625"/>
                    </a:lnTo>
                    <a:lnTo>
                      <a:pt x="4064" y="606"/>
                    </a:lnTo>
                    <a:lnTo>
                      <a:pt x="4027" y="611"/>
                    </a:lnTo>
                    <a:lnTo>
                      <a:pt x="3980" y="586"/>
                    </a:lnTo>
                    <a:lnTo>
                      <a:pt x="3886" y="600"/>
                    </a:lnTo>
                    <a:lnTo>
                      <a:pt x="3790" y="602"/>
                    </a:lnTo>
                    <a:lnTo>
                      <a:pt x="3748" y="600"/>
                    </a:lnTo>
                    <a:lnTo>
                      <a:pt x="3059" y="167"/>
                    </a:lnTo>
                    <a:lnTo>
                      <a:pt x="3122" y="128"/>
                    </a:lnTo>
                    <a:lnTo>
                      <a:pt x="3067" y="103"/>
                    </a:lnTo>
                    <a:lnTo>
                      <a:pt x="2975" y="69"/>
                    </a:lnTo>
                    <a:lnTo>
                      <a:pt x="2905" y="50"/>
                    </a:lnTo>
                    <a:lnTo>
                      <a:pt x="2841" y="38"/>
                    </a:lnTo>
                    <a:lnTo>
                      <a:pt x="2740" y="27"/>
                    </a:lnTo>
                    <a:lnTo>
                      <a:pt x="2450" y="8"/>
                    </a:lnTo>
                    <a:lnTo>
                      <a:pt x="2160" y="0"/>
                    </a:lnTo>
                    <a:lnTo>
                      <a:pt x="1870" y="2"/>
                    </a:lnTo>
                    <a:lnTo>
                      <a:pt x="1583" y="13"/>
                    </a:lnTo>
                    <a:lnTo>
                      <a:pt x="1291" y="38"/>
                    </a:lnTo>
                    <a:lnTo>
                      <a:pt x="1289" y="38"/>
                    </a:lnTo>
                    <a:lnTo>
                      <a:pt x="1203" y="50"/>
                    </a:lnTo>
                    <a:lnTo>
                      <a:pt x="1119" y="69"/>
                    </a:lnTo>
                    <a:lnTo>
                      <a:pt x="1035" y="103"/>
                    </a:lnTo>
                    <a:lnTo>
                      <a:pt x="1058" y="111"/>
                    </a:lnTo>
                    <a:lnTo>
                      <a:pt x="1071" y="130"/>
                    </a:lnTo>
                    <a:lnTo>
                      <a:pt x="1077" y="151"/>
                    </a:lnTo>
                    <a:lnTo>
                      <a:pt x="1074" y="167"/>
                    </a:lnTo>
                    <a:lnTo>
                      <a:pt x="485" y="435"/>
                    </a:lnTo>
                    <a:lnTo>
                      <a:pt x="426" y="463"/>
                    </a:lnTo>
                    <a:lnTo>
                      <a:pt x="368" y="480"/>
                    </a:lnTo>
                    <a:lnTo>
                      <a:pt x="317" y="485"/>
                    </a:lnTo>
                    <a:lnTo>
                      <a:pt x="75" y="510"/>
                    </a:lnTo>
                    <a:lnTo>
                      <a:pt x="69" y="514"/>
                    </a:lnTo>
                    <a:lnTo>
                      <a:pt x="38" y="544"/>
                    </a:lnTo>
                    <a:lnTo>
                      <a:pt x="14" y="581"/>
                    </a:lnTo>
                    <a:lnTo>
                      <a:pt x="2" y="619"/>
                    </a:lnTo>
                    <a:lnTo>
                      <a:pt x="0" y="665"/>
                    </a:lnTo>
                    <a:lnTo>
                      <a:pt x="44" y="670"/>
                    </a:lnTo>
                    <a:lnTo>
                      <a:pt x="86" y="686"/>
                    </a:lnTo>
                    <a:lnTo>
                      <a:pt x="119" y="714"/>
                    </a:lnTo>
                    <a:lnTo>
                      <a:pt x="151" y="747"/>
                    </a:lnTo>
                    <a:lnTo>
                      <a:pt x="153" y="753"/>
                    </a:lnTo>
                    <a:lnTo>
                      <a:pt x="192" y="1035"/>
                    </a:lnTo>
                    <a:lnTo>
                      <a:pt x="703" y="1035"/>
                    </a:lnTo>
                    <a:lnTo>
                      <a:pt x="768" y="999"/>
                    </a:lnTo>
                    <a:lnTo>
                      <a:pt x="840" y="971"/>
                    </a:lnTo>
                    <a:lnTo>
                      <a:pt x="913" y="957"/>
                    </a:lnTo>
                    <a:lnTo>
                      <a:pt x="985" y="955"/>
                    </a:lnTo>
                    <a:lnTo>
                      <a:pt x="1060" y="963"/>
                    </a:lnTo>
                    <a:lnTo>
                      <a:pt x="1133" y="980"/>
                    </a:lnTo>
                    <a:lnTo>
                      <a:pt x="1199" y="1007"/>
                    </a:lnTo>
                    <a:lnTo>
                      <a:pt x="1264" y="1047"/>
                    </a:lnTo>
                    <a:lnTo>
                      <a:pt x="1323" y="1094"/>
                    </a:lnTo>
                    <a:lnTo>
                      <a:pt x="1370" y="1150"/>
                    </a:lnTo>
                    <a:lnTo>
                      <a:pt x="1412" y="1211"/>
                    </a:lnTo>
                    <a:lnTo>
                      <a:pt x="1442" y="1278"/>
                    </a:lnTo>
                    <a:lnTo>
                      <a:pt x="1465" y="1351"/>
                    </a:lnTo>
                    <a:lnTo>
                      <a:pt x="1473" y="1427"/>
                    </a:lnTo>
                    <a:lnTo>
                      <a:pt x="1473" y="1499"/>
                    </a:lnTo>
                    <a:lnTo>
                      <a:pt x="1470" y="1519"/>
                    </a:lnTo>
                    <a:lnTo>
                      <a:pt x="3941" y="1544"/>
                    </a:lnTo>
                    <a:lnTo>
                      <a:pt x="3935" y="1471"/>
                    </a:lnTo>
                    <a:lnTo>
                      <a:pt x="3941" y="1396"/>
                    </a:lnTo>
                    <a:lnTo>
                      <a:pt x="3958" y="1320"/>
                    </a:lnTo>
                    <a:lnTo>
                      <a:pt x="3983" y="1251"/>
                    </a:lnTo>
                    <a:lnTo>
                      <a:pt x="4022" y="1183"/>
                    </a:lnTo>
                    <a:lnTo>
                      <a:pt x="4067" y="1125"/>
                    </a:lnTo>
                    <a:lnTo>
                      <a:pt x="4122" y="1074"/>
                    </a:lnTo>
                    <a:lnTo>
                      <a:pt x="4184" y="1030"/>
                    </a:lnTo>
                    <a:lnTo>
                      <a:pt x="4251" y="997"/>
                    </a:lnTo>
                    <a:lnTo>
                      <a:pt x="4321" y="971"/>
                    </a:lnTo>
                    <a:lnTo>
                      <a:pt x="4396" y="961"/>
                    </a:lnTo>
                    <a:lnTo>
                      <a:pt x="4472" y="957"/>
                    </a:lnTo>
                    <a:lnTo>
                      <a:pt x="4547" y="965"/>
                    </a:lnTo>
                    <a:lnTo>
                      <a:pt x="4617" y="988"/>
                    </a:lnTo>
                    <a:lnTo>
                      <a:pt x="4686" y="1016"/>
                    </a:lnTo>
                    <a:lnTo>
                      <a:pt x="4751" y="1058"/>
                    </a:lnTo>
                    <a:lnTo>
                      <a:pt x="4808" y="1106"/>
                    </a:lnTo>
                    <a:lnTo>
                      <a:pt x="4812" y="1110"/>
                    </a:lnTo>
                    <a:lnTo>
                      <a:pt x="5016" y="1200"/>
                    </a:lnTo>
                    <a:lnTo>
                      <a:pt x="5016" y="12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5645520" y="2868840"/>
                <a:ext cx="61200" cy="50760"/>
              </a:xfrm>
              <a:custGeom>
                <a:avLst/>
                <a:gdLst/>
                <a:ahLst/>
                <a:rect l="l" t="t" r="r" b="b"/>
                <a:pathLst>
                  <a:path w="693" h="436">
                    <a:moveTo>
                      <a:pt x="603" y="434"/>
                    </a:moveTo>
                    <a:lnTo>
                      <a:pt x="623" y="403"/>
                    </a:lnTo>
                    <a:lnTo>
                      <a:pt x="603" y="333"/>
                    </a:lnTo>
                    <a:lnTo>
                      <a:pt x="623" y="305"/>
                    </a:lnTo>
                    <a:lnTo>
                      <a:pt x="632" y="296"/>
                    </a:lnTo>
                    <a:lnTo>
                      <a:pt x="649" y="277"/>
                    </a:lnTo>
                    <a:lnTo>
                      <a:pt x="674" y="246"/>
                    </a:lnTo>
                    <a:lnTo>
                      <a:pt x="687" y="207"/>
                    </a:lnTo>
                    <a:lnTo>
                      <a:pt x="693" y="166"/>
                    </a:lnTo>
                    <a:lnTo>
                      <a:pt x="693" y="51"/>
                    </a:lnTo>
                    <a:lnTo>
                      <a:pt x="615" y="0"/>
                    </a:lnTo>
                    <a:lnTo>
                      <a:pt x="0" y="0"/>
                    </a:lnTo>
                    <a:lnTo>
                      <a:pt x="48" y="54"/>
                    </a:lnTo>
                    <a:lnTo>
                      <a:pt x="87" y="113"/>
                    </a:lnTo>
                    <a:lnTo>
                      <a:pt x="115" y="176"/>
                    </a:lnTo>
                    <a:lnTo>
                      <a:pt x="135" y="246"/>
                    </a:lnTo>
                    <a:lnTo>
                      <a:pt x="143" y="316"/>
                    </a:lnTo>
                    <a:lnTo>
                      <a:pt x="141" y="386"/>
                    </a:lnTo>
                    <a:lnTo>
                      <a:pt x="137" y="436"/>
                    </a:lnTo>
                    <a:lnTo>
                      <a:pt x="603" y="43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5645520" y="2868840"/>
                <a:ext cx="61200" cy="50760"/>
              </a:xfrm>
              <a:custGeom>
                <a:avLst/>
                <a:gdLst/>
                <a:ahLst/>
                <a:rect l="l" t="t" r="r" b="b"/>
                <a:pathLst>
                  <a:path w="693" h="436">
                    <a:moveTo>
                      <a:pt x="603" y="434"/>
                    </a:moveTo>
                    <a:lnTo>
                      <a:pt x="623" y="403"/>
                    </a:lnTo>
                    <a:lnTo>
                      <a:pt x="603" y="333"/>
                    </a:lnTo>
                    <a:lnTo>
                      <a:pt x="623" y="305"/>
                    </a:lnTo>
                    <a:lnTo>
                      <a:pt x="632" y="296"/>
                    </a:lnTo>
                    <a:lnTo>
                      <a:pt x="649" y="277"/>
                    </a:lnTo>
                    <a:lnTo>
                      <a:pt x="674" y="246"/>
                    </a:lnTo>
                    <a:lnTo>
                      <a:pt x="687" y="207"/>
                    </a:lnTo>
                    <a:lnTo>
                      <a:pt x="693" y="166"/>
                    </a:lnTo>
                    <a:lnTo>
                      <a:pt x="693" y="51"/>
                    </a:lnTo>
                    <a:lnTo>
                      <a:pt x="615" y="0"/>
                    </a:lnTo>
                    <a:lnTo>
                      <a:pt x="0" y="0"/>
                    </a:lnTo>
                    <a:lnTo>
                      <a:pt x="48" y="54"/>
                    </a:lnTo>
                    <a:lnTo>
                      <a:pt x="87" y="113"/>
                    </a:lnTo>
                    <a:lnTo>
                      <a:pt x="115" y="176"/>
                    </a:lnTo>
                    <a:lnTo>
                      <a:pt x="135" y="246"/>
                    </a:lnTo>
                    <a:lnTo>
                      <a:pt x="143" y="316"/>
                    </a:lnTo>
                    <a:lnTo>
                      <a:pt x="141" y="386"/>
                    </a:lnTo>
                    <a:lnTo>
                      <a:pt x="137" y="436"/>
                    </a:lnTo>
                    <a:lnTo>
                      <a:pt x="603" y="434"/>
                    </a:lnTo>
                    <a:lnTo>
                      <a:pt x="603" y="4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 flipH="1">
                <a:off x="5657400" y="2916360"/>
                <a:ext cx="421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 flipH="1">
                <a:off x="5649480" y="2874960"/>
                <a:ext cx="5688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 flipH="1">
                <a:off x="5655600" y="2889000"/>
                <a:ext cx="511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218920" y="2855520"/>
                <a:ext cx="70200" cy="52560"/>
              </a:xfrm>
              <a:custGeom>
                <a:avLst/>
                <a:gdLst/>
                <a:ahLst/>
                <a:rect l="l" t="t" r="r" b="b"/>
                <a:pathLst>
                  <a:path w="794" h="447">
                    <a:moveTo>
                      <a:pt x="0" y="190"/>
                    </a:moveTo>
                    <a:lnTo>
                      <a:pt x="5" y="229"/>
                    </a:lnTo>
                    <a:lnTo>
                      <a:pt x="19" y="276"/>
                    </a:lnTo>
                    <a:lnTo>
                      <a:pt x="44" y="321"/>
                    </a:lnTo>
                    <a:lnTo>
                      <a:pt x="78" y="355"/>
                    </a:lnTo>
                    <a:lnTo>
                      <a:pt x="78" y="380"/>
                    </a:lnTo>
                    <a:lnTo>
                      <a:pt x="195" y="385"/>
                    </a:lnTo>
                    <a:lnTo>
                      <a:pt x="315" y="397"/>
                    </a:lnTo>
                    <a:lnTo>
                      <a:pt x="432" y="422"/>
                    </a:lnTo>
                    <a:lnTo>
                      <a:pt x="513" y="447"/>
                    </a:lnTo>
                    <a:lnTo>
                      <a:pt x="527" y="372"/>
                    </a:lnTo>
                    <a:lnTo>
                      <a:pt x="555" y="301"/>
                    </a:lnTo>
                    <a:lnTo>
                      <a:pt x="591" y="232"/>
                    </a:lnTo>
                    <a:lnTo>
                      <a:pt x="636" y="173"/>
                    </a:lnTo>
                    <a:lnTo>
                      <a:pt x="689" y="120"/>
                    </a:lnTo>
                    <a:lnTo>
                      <a:pt x="750" y="72"/>
                    </a:lnTo>
                    <a:lnTo>
                      <a:pt x="794" y="51"/>
                    </a:lnTo>
                    <a:lnTo>
                      <a:pt x="63" y="0"/>
                    </a:lnTo>
                    <a:lnTo>
                      <a:pt x="0" y="26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218920" y="2855520"/>
                <a:ext cx="70200" cy="52560"/>
              </a:xfrm>
              <a:custGeom>
                <a:avLst/>
                <a:gdLst/>
                <a:ahLst/>
                <a:rect l="l" t="t" r="r" b="b"/>
                <a:pathLst>
                  <a:path w="794" h="447">
                    <a:moveTo>
                      <a:pt x="0" y="190"/>
                    </a:moveTo>
                    <a:lnTo>
                      <a:pt x="5" y="229"/>
                    </a:lnTo>
                    <a:lnTo>
                      <a:pt x="19" y="276"/>
                    </a:lnTo>
                    <a:lnTo>
                      <a:pt x="44" y="321"/>
                    </a:lnTo>
                    <a:lnTo>
                      <a:pt x="78" y="355"/>
                    </a:lnTo>
                    <a:lnTo>
                      <a:pt x="78" y="380"/>
                    </a:lnTo>
                    <a:lnTo>
                      <a:pt x="195" y="385"/>
                    </a:lnTo>
                    <a:lnTo>
                      <a:pt x="315" y="397"/>
                    </a:lnTo>
                    <a:lnTo>
                      <a:pt x="432" y="422"/>
                    </a:lnTo>
                    <a:lnTo>
                      <a:pt x="513" y="447"/>
                    </a:lnTo>
                    <a:lnTo>
                      <a:pt x="527" y="372"/>
                    </a:lnTo>
                    <a:lnTo>
                      <a:pt x="555" y="301"/>
                    </a:lnTo>
                    <a:lnTo>
                      <a:pt x="591" y="232"/>
                    </a:lnTo>
                    <a:lnTo>
                      <a:pt x="636" y="173"/>
                    </a:lnTo>
                    <a:lnTo>
                      <a:pt x="689" y="120"/>
                    </a:lnTo>
                    <a:lnTo>
                      <a:pt x="750" y="72"/>
                    </a:lnTo>
                    <a:lnTo>
                      <a:pt x="794" y="51"/>
                    </a:lnTo>
                    <a:lnTo>
                      <a:pt x="63" y="0"/>
                    </a:lnTo>
                    <a:lnTo>
                      <a:pt x="0" y="26"/>
                    </a:lnTo>
                    <a:lnTo>
                      <a:pt x="0" y="190"/>
                    </a:lnTo>
                    <a:lnTo>
                      <a:pt x="0" y="1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225760" y="2896920"/>
                <a:ext cx="38880" cy="6480"/>
              </a:xfrm>
              <a:custGeom>
                <a:avLst/>
                <a:gdLst/>
                <a:ahLst/>
                <a:rect l="l" t="t" r="r" b="b"/>
                <a:pathLst>
                  <a:path w="441" h="53">
                    <a:moveTo>
                      <a:pt x="0" y="0"/>
                    </a:moveTo>
                    <a:lnTo>
                      <a:pt x="130" y="2"/>
                    </a:lnTo>
                    <a:lnTo>
                      <a:pt x="262" y="17"/>
                    </a:lnTo>
                    <a:lnTo>
                      <a:pt x="390" y="38"/>
                    </a:lnTo>
                    <a:lnTo>
                      <a:pt x="441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218920" y="2879640"/>
                <a:ext cx="49680" cy="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5218920" y="2862000"/>
                <a:ext cx="63000" cy="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595840" y="2880720"/>
                <a:ext cx="39960" cy="53640"/>
              </a:xfrm>
              <a:custGeom>
                <a:avLst/>
                <a:gdLst/>
                <a:ahLst/>
                <a:rect l="l" t="t" r="r" b="b"/>
                <a:pathLst>
                  <a:path w="457" h="461">
                    <a:moveTo>
                      <a:pt x="0" y="232"/>
                    </a:moveTo>
                    <a:lnTo>
                      <a:pt x="6" y="182"/>
                    </a:lnTo>
                    <a:lnTo>
                      <a:pt x="19" y="134"/>
                    </a:lnTo>
                    <a:lnTo>
                      <a:pt x="46" y="90"/>
                    </a:lnTo>
                    <a:lnTo>
                      <a:pt x="83" y="54"/>
                    </a:lnTo>
                    <a:lnTo>
                      <a:pt x="125" y="25"/>
                    </a:lnTo>
                    <a:lnTo>
                      <a:pt x="172" y="8"/>
                    </a:lnTo>
                    <a:lnTo>
                      <a:pt x="223" y="0"/>
                    </a:lnTo>
                    <a:lnTo>
                      <a:pt x="270" y="6"/>
                    </a:lnTo>
                    <a:lnTo>
                      <a:pt x="321" y="20"/>
                    </a:lnTo>
                    <a:lnTo>
                      <a:pt x="365" y="44"/>
                    </a:lnTo>
                    <a:lnTo>
                      <a:pt x="401" y="78"/>
                    </a:lnTo>
                    <a:lnTo>
                      <a:pt x="430" y="120"/>
                    </a:lnTo>
                    <a:lnTo>
                      <a:pt x="449" y="168"/>
                    </a:lnTo>
                    <a:lnTo>
                      <a:pt x="457" y="215"/>
                    </a:lnTo>
                    <a:lnTo>
                      <a:pt x="457" y="266"/>
                    </a:lnTo>
                    <a:lnTo>
                      <a:pt x="443" y="316"/>
                    </a:lnTo>
                    <a:lnTo>
                      <a:pt x="418" y="360"/>
                    </a:lnTo>
                    <a:lnTo>
                      <a:pt x="388" y="400"/>
                    </a:lnTo>
                    <a:lnTo>
                      <a:pt x="346" y="428"/>
                    </a:lnTo>
                    <a:lnTo>
                      <a:pt x="302" y="449"/>
                    </a:lnTo>
                    <a:lnTo>
                      <a:pt x="251" y="461"/>
                    </a:lnTo>
                    <a:lnTo>
                      <a:pt x="201" y="461"/>
                    </a:lnTo>
                    <a:lnTo>
                      <a:pt x="151" y="447"/>
                    </a:lnTo>
                    <a:lnTo>
                      <a:pt x="105" y="428"/>
                    </a:lnTo>
                    <a:lnTo>
                      <a:pt x="67" y="394"/>
                    </a:lnTo>
                    <a:lnTo>
                      <a:pt x="36" y="355"/>
                    </a:lnTo>
                    <a:lnTo>
                      <a:pt x="14" y="310"/>
                    </a:lnTo>
                    <a:lnTo>
                      <a:pt x="0" y="260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595840" y="2880720"/>
                <a:ext cx="39960" cy="53640"/>
              </a:xfrm>
              <a:custGeom>
                <a:avLst/>
                <a:gdLst/>
                <a:ahLst/>
                <a:rect l="l" t="t" r="r" b="b"/>
                <a:pathLst>
                  <a:path w="457" h="461">
                    <a:moveTo>
                      <a:pt x="0" y="232"/>
                    </a:moveTo>
                    <a:lnTo>
                      <a:pt x="6" y="182"/>
                    </a:lnTo>
                    <a:lnTo>
                      <a:pt x="19" y="134"/>
                    </a:lnTo>
                    <a:lnTo>
                      <a:pt x="46" y="90"/>
                    </a:lnTo>
                    <a:lnTo>
                      <a:pt x="83" y="54"/>
                    </a:lnTo>
                    <a:lnTo>
                      <a:pt x="125" y="25"/>
                    </a:lnTo>
                    <a:lnTo>
                      <a:pt x="172" y="8"/>
                    </a:lnTo>
                    <a:lnTo>
                      <a:pt x="223" y="0"/>
                    </a:lnTo>
                    <a:lnTo>
                      <a:pt x="270" y="6"/>
                    </a:lnTo>
                    <a:lnTo>
                      <a:pt x="321" y="20"/>
                    </a:lnTo>
                    <a:lnTo>
                      <a:pt x="365" y="44"/>
                    </a:lnTo>
                    <a:lnTo>
                      <a:pt x="401" y="78"/>
                    </a:lnTo>
                    <a:lnTo>
                      <a:pt x="430" y="120"/>
                    </a:lnTo>
                    <a:lnTo>
                      <a:pt x="449" y="168"/>
                    </a:lnTo>
                    <a:lnTo>
                      <a:pt x="457" y="215"/>
                    </a:lnTo>
                    <a:lnTo>
                      <a:pt x="457" y="266"/>
                    </a:lnTo>
                    <a:lnTo>
                      <a:pt x="443" y="316"/>
                    </a:lnTo>
                    <a:lnTo>
                      <a:pt x="418" y="360"/>
                    </a:lnTo>
                    <a:lnTo>
                      <a:pt x="388" y="400"/>
                    </a:lnTo>
                    <a:lnTo>
                      <a:pt x="346" y="428"/>
                    </a:lnTo>
                    <a:lnTo>
                      <a:pt x="302" y="449"/>
                    </a:lnTo>
                    <a:lnTo>
                      <a:pt x="251" y="461"/>
                    </a:lnTo>
                    <a:lnTo>
                      <a:pt x="201" y="461"/>
                    </a:lnTo>
                    <a:lnTo>
                      <a:pt x="151" y="447"/>
                    </a:lnTo>
                    <a:lnTo>
                      <a:pt x="105" y="428"/>
                    </a:lnTo>
                    <a:lnTo>
                      <a:pt x="67" y="394"/>
                    </a:lnTo>
                    <a:lnTo>
                      <a:pt x="36" y="355"/>
                    </a:lnTo>
                    <a:lnTo>
                      <a:pt x="14" y="310"/>
                    </a:lnTo>
                    <a:lnTo>
                      <a:pt x="0" y="260"/>
                    </a:lnTo>
                    <a:lnTo>
                      <a:pt x="0" y="232"/>
                    </a:lnTo>
                    <a:lnTo>
                      <a:pt x="0" y="232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291280" y="2884320"/>
                <a:ext cx="38160" cy="50400"/>
              </a:xfrm>
              <a:custGeom>
                <a:avLst/>
                <a:gdLst/>
                <a:ahLst/>
                <a:rect l="l" t="t" r="r" b="b"/>
                <a:pathLst>
                  <a:path w="435" h="432">
                    <a:moveTo>
                      <a:pt x="0" y="217"/>
                    </a:moveTo>
                    <a:lnTo>
                      <a:pt x="5" y="166"/>
                    </a:lnTo>
                    <a:lnTo>
                      <a:pt x="21" y="119"/>
                    </a:lnTo>
                    <a:lnTo>
                      <a:pt x="46" y="77"/>
                    </a:lnTo>
                    <a:lnTo>
                      <a:pt x="82" y="44"/>
                    </a:lnTo>
                    <a:lnTo>
                      <a:pt x="124" y="19"/>
                    </a:lnTo>
                    <a:lnTo>
                      <a:pt x="172" y="2"/>
                    </a:lnTo>
                    <a:lnTo>
                      <a:pt x="219" y="0"/>
                    </a:lnTo>
                    <a:lnTo>
                      <a:pt x="267" y="4"/>
                    </a:lnTo>
                    <a:lnTo>
                      <a:pt x="315" y="21"/>
                    </a:lnTo>
                    <a:lnTo>
                      <a:pt x="353" y="46"/>
                    </a:lnTo>
                    <a:lnTo>
                      <a:pt x="390" y="82"/>
                    </a:lnTo>
                    <a:lnTo>
                      <a:pt x="414" y="124"/>
                    </a:lnTo>
                    <a:lnTo>
                      <a:pt x="429" y="172"/>
                    </a:lnTo>
                    <a:lnTo>
                      <a:pt x="435" y="220"/>
                    </a:lnTo>
                    <a:lnTo>
                      <a:pt x="426" y="270"/>
                    </a:lnTo>
                    <a:lnTo>
                      <a:pt x="410" y="315"/>
                    </a:lnTo>
                    <a:lnTo>
                      <a:pt x="382" y="357"/>
                    </a:lnTo>
                    <a:lnTo>
                      <a:pt x="345" y="390"/>
                    </a:lnTo>
                    <a:lnTo>
                      <a:pt x="303" y="415"/>
                    </a:lnTo>
                    <a:lnTo>
                      <a:pt x="256" y="430"/>
                    </a:lnTo>
                    <a:lnTo>
                      <a:pt x="208" y="432"/>
                    </a:lnTo>
                    <a:lnTo>
                      <a:pt x="158" y="424"/>
                    </a:lnTo>
                    <a:lnTo>
                      <a:pt x="114" y="407"/>
                    </a:lnTo>
                    <a:lnTo>
                      <a:pt x="74" y="378"/>
                    </a:lnTo>
                    <a:lnTo>
                      <a:pt x="41" y="342"/>
                    </a:lnTo>
                    <a:lnTo>
                      <a:pt x="15" y="300"/>
                    </a:lnTo>
                    <a:lnTo>
                      <a:pt x="5" y="254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291280" y="2884320"/>
                <a:ext cx="38160" cy="50400"/>
              </a:xfrm>
              <a:custGeom>
                <a:avLst/>
                <a:gdLst/>
                <a:ahLst/>
                <a:rect l="l" t="t" r="r" b="b"/>
                <a:pathLst>
                  <a:path w="435" h="432">
                    <a:moveTo>
                      <a:pt x="0" y="217"/>
                    </a:moveTo>
                    <a:lnTo>
                      <a:pt x="5" y="166"/>
                    </a:lnTo>
                    <a:lnTo>
                      <a:pt x="21" y="119"/>
                    </a:lnTo>
                    <a:lnTo>
                      <a:pt x="46" y="77"/>
                    </a:lnTo>
                    <a:lnTo>
                      <a:pt x="82" y="44"/>
                    </a:lnTo>
                    <a:lnTo>
                      <a:pt x="124" y="19"/>
                    </a:lnTo>
                    <a:lnTo>
                      <a:pt x="172" y="2"/>
                    </a:lnTo>
                    <a:lnTo>
                      <a:pt x="219" y="0"/>
                    </a:lnTo>
                    <a:lnTo>
                      <a:pt x="267" y="4"/>
                    </a:lnTo>
                    <a:lnTo>
                      <a:pt x="315" y="21"/>
                    </a:lnTo>
                    <a:lnTo>
                      <a:pt x="353" y="46"/>
                    </a:lnTo>
                    <a:lnTo>
                      <a:pt x="390" y="82"/>
                    </a:lnTo>
                    <a:lnTo>
                      <a:pt x="414" y="124"/>
                    </a:lnTo>
                    <a:lnTo>
                      <a:pt x="429" y="172"/>
                    </a:lnTo>
                    <a:lnTo>
                      <a:pt x="435" y="220"/>
                    </a:lnTo>
                    <a:lnTo>
                      <a:pt x="426" y="270"/>
                    </a:lnTo>
                    <a:lnTo>
                      <a:pt x="410" y="315"/>
                    </a:lnTo>
                    <a:lnTo>
                      <a:pt x="382" y="357"/>
                    </a:lnTo>
                    <a:lnTo>
                      <a:pt x="345" y="390"/>
                    </a:lnTo>
                    <a:lnTo>
                      <a:pt x="303" y="415"/>
                    </a:lnTo>
                    <a:lnTo>
                      <a:pt x="256" y="430"/>
                    </a:lnTo>
                    <a:lnTo>
                      <a:pt x="208" y="432"/>
                    </a:lnTo>
                    <a:lnTo>
                      <a:pt x="158" y="424"/>
                    </a:lnTo>
                    <a:lnTo>
                      <a:pt x="114" y="407"/>
                    </a:lnTo>
                    <a:lnTo>
                      <a:pt x="74" y="378"/>
                    </a:lnTo>
                    <a:lnTo>
                      <a:pt x="41" y="342"/>
                    </a:lnTo>
                    <a:lnTo>
                      <a:pt x="15" y="300"/>
                    </a:lnTo>
                    <a:lnTo>
                      <a:pt x="5" y="254"/>
                    </a:lnTo>
                    <a:lnTo>
                      <a:pt x="0" y="217"/>
                    </a:lnTo>
                    <a:lnTo>
                      <a:pt x="0" y="217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236920" y="2832120"/>
                <a:ext cx="439200" cy="14400"/>
              </a:xfrm>
              <a:custGeom>
                <a:avLst/>
                <a:gdLst/>
                <a:ahLst/>
                <a:rect l="l" t="t" r="r" b="b"/>
                <a:pathLst>
                  <a:path w="4966" h="124">
                    <a:moveTo>
                      <a:pt x="4966" y="124"/>
                    </a:moveTo>
                    <a:lnTo>
                      <a:pt x="2228" y="6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238360" y="2837880"/>
                <a:ext cx="426600" cy="10440"/>
              </a:xfrm>
              <a:custGeom>
                <a:avLst/>
                <a:gdLst/>
                <a:ahLst/>
                <a:rect l="l" t="t" r="r" b="b"/>
                <a:pathLst>
                  <a:path w="4823" h="89">
                    <a:moveTo>
                      <a:pt x="4823" y="89"/>
                    </a:moveTo>
                    <a:lnTo>
                      <a:pt x="3660" y="89"/>
                    </a:lnTo>
                    <a:lnTo>
                      <a:pt x="2214" y="64"/>
                    </a:lnTo>
                    <a:lnTo>
                      <a:pt x="946" y="2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320080" y="2746080"/>
                <a:ext cx="251640" cy="164880"/>
              </a:xfrm>
              <a:custGeom>
                <a:avLst/>
                <a:gdLst/>
                <a:ahLst/>
                <a:rect l="l" t="t" r="r" b="b"/>
                <a:pathLst>
                  <a:path w="2850" h="1405">
                    <a:moveTo>
                      <a:pt x="2696" y="612"/>
                    </a:moveTo>
                    <a:lnTo>
                      <a:pt x="1926" y="115"/>
                    </a:lnTo>
                    <a:lnTo>
                      <a:pt x="1903" y="101"/>
                    </a:lnTo>
                    <a:lnTo>
                      <a:pt x="1873" y="84"/>
                    </a:lnTo>
                    <a:lnTo>
                      <a:pt x="1836" y="65"/>
                    </a:lnTo>
                    <a:lnTo>
                      <a:pt x="1775" y="51"/>
                    </a:lnTo>
                    <a:lnTo>
                      <a:pt x="1722" y="40"/>
                    </a:lnTo>
                    <a:lnTo>
                      <a:pt x="1711" y="40"/>
                    </a:lnTo>
                    <a:lnTo>
                      <a:pt x="1477" y="25"/>
                    </a:lnTo>
                    <a:lnTo>
                      <a:pt x="1036" y="6"/>
                    </a:lnTo>
                    <a:lnTo>
                      <a:pt x="597" y="0"/>
                    </a:lnTo>
                    <a:lnTo>
                      <a:pt x="574" y="0"/>
                    </a:lnTo>
                    <a:lnTo>
                      <a:pt x="528" y="0"/>
                    </a:lnTo>
                    <a:lnTo>
                      <a:pt x="488" y="9"/>
                    </a:lnTo>
                    <a:lnTo>
                      <a:pt x="450" y="29"/>
                    </a:lnTo>
                    <a:lnTo>
                      <a:pt x="418" y="54"/>
                    </a:lnTo>
                    <a:lnTo>
                      <a:pt x="410" y="62"/>
                    </a:lnTo>
                    <a:lnTo>
                      <a:pt x="0" y="596"/>
                    </a:lnTo>
                    <a:lnTo>
                      <a:pt x="9" y="741"/>
                    </a:lnTo>
                    <a:lnTo>
                      <a:pt x="11" y="774"/>
                    </a:lnTo>
                    <a:lnTo>
                      <a:pt x="19" y="816"/>
                    </a:lnTo>
                    <a:lnTo>
                      <a:pt x="42" y="852"/>
                    </a:lnTo>
                    <a:lnTo>
                      <a:pt x="72" y="886"/>
                    </a:lnTo>
                    <a:lnTo>
                      <a:pt x="108" y="908"/>
                    </a:lnTo>
                    <a:lnTo>
                      <a:pt x="150" y="919"/>
                    </a:lnTo>
                    <a:lnTo>
                      <a:pt x="215" y="959"/>
                    </a:lnTo>
                    <a:lnTo>
                      <a:pt x="273" y="1005"/>
                    </a:lnTo>
                    <a:lnTo>
                      <a:pt x="324" y="1059"/>
                    </a:lnTo>
                    <a:lnTo>
                      <a:pt x="366" y="1123"/>
                    </a:lnTo>
                    <a:lnTo>
                      <a:pt x="396" y="1190"/>
                    </a:lnTo>
                    <a:lnTo>
                      <a:pt x="418" y="1263"/>
                    </a:lnTo>
                    <a:lnTo>
                      <a:pt x="429" y="1336"/>
                    </a:lnTo>
                    <a:lnTo>
                      <a:pt x="433" y="1395"/>
                    </a:lnTo>
                    <a:lnTo>
                      <a:pt x="2850" y="14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345640" y="2864160"/>
                <a:ext cx="235080" cy="4680"/>
              </a:xfrm>
              <a:custGeom>
                <a:avLst/>
                <a:gdLst/>
                <a:ahLst/>
                <a:rect l="l" t="t" r="r" b="b"/>
                <a:pathLst>
                  <a:path w="2663" h="38">
                    <a:moveTo>
                      <a:pt x="2663" y="38"/>
                    </a:moveTo>
                    <a:lnTo>
                      <a:pt x="2432" y="38"/>
                    </a:lnTo>
                    <a:lnTo>
                      <a:pt x="1010" y="2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351400" y="2874960"/>
                <a:ext cx="224640" cy="3240"/>
              </a:xfrm>
              <a:custGeom>
                <a:avLst/>
                <a:gdLst/>
                <a:ahLst/>
                <a:rect l="l" t="t" r="r" b="b"/>
                <a:pathLst>
                  <a:path w="2549" h="28">
                    <a:moveTo>
                      <a:pt x="2549" y="28"/>
                    </a:moveTo>
                    <a:lnTo>
                      <a:pt x="2368" y="28"/>
                    </a:lnTo>
                    <a:lnTo>
                      <a:pt x="936" y="1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5553720" y="2817720"/>
                <a:ext cx="6840" cy="104760"/>
              </a:xfrm>
              <a:custGeom>
                <a:avLst/>
                <a:gdLst/>
                <a:ahLst/>
                <a:rect l="l" t="t" r="r" b="b"/>
                <a:pathLst>
                  <a:path w="80" h="894">
                    <a:moveTo>
                      <a:pt x="53" y="0"/>
                    </a:moveTo>
                    <a:lnTo>
                      <a:pt x="76" y="160"/>
                    </a:lnTo>
                    <a:lnTo>
                      <a:pt x="80" y="318"/>
                    </a:lnTo>
                    <a:lnTo>
                      <a:pt x="76" y="477"/>
                    </a:lnTo>
                    <a:lnTo>
                      <a:pt x="55" y="634"/>
                    </a:lnTo>
                    <a:lnTo>
                      <a:pt x="25" y="790"/>
                    </a:lnTo>
                    <a:lnTo>
                      <a:pt x="0" y="8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423400" y="2747520"/>
                <a:ext cx="12600" cy="162360"/>
              </a:xfrm>
              <a:custGeom>
                <a:avLst/>
                <a:gdLst/>
                <a:ahLst/>
                <a:rect l="l" t="t" r="r" b="b"/>
                <a:pathLst>
                  <a:path w="142" h="1383">
                    <a:moveTo>
                      <a:pt x="92" y="1383"/>
                    </a:moveTo>
                    <a:lnTo>
                      <a:pt x="94" y="1368"/>
                    </a:lnTo>
                    <a:lnTo>
                      <a:pt x="119" y="1245"/>
                    </a:lnTo>
                    <a:lnTo>
                      <a:pt x="136" y="1119"/>
                    </a:lnTo>
                    <a:lnTo>
                      <a:pt x="142" y="991"/>
                    </a:lnTo>
                    <a:lnTo>
                      <a:pt x="136" y="865"/>
                    </a:lnTo>
                    <a:lnTo>
                      <a:pt x="119" y="737"/>
                    </a:lnTo>
                    <a:lnTo>
                      <a:pt x="92" y="61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566320" y="2861280"/>
                <a:ext cx="4680" cy="4680"/>
              </a:xfrm>
              <a:prstGeom prst="rect">
                <a:avLst/>
              </a:prstGeom>
              <a:solidFill>
                <a:srgbClr val="ff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566320" y="2861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4" h="38">
                    <a:moveTo>
                      <a:pt x="54" y="3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54" y="38"/>
                    </a:lnTo>
                    <a:lnTo>
                      <a:pt x="54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445360" y="2835000"/>
                <a:ext cx="1872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445360" y="2835000"/>
                <a:ext cx="18720" cy="8640"/>
              </a:xfrm>
              <a:custGeom>
                <a:avLst/>
                <a:gdLst/>
                <a:ahLst/>
                <a:rect l="l" t="t" r="r" b="b"/>
                <a:pathLst>
                  <a:path w="217" h="75">
                    <a:moveTo>
                      <a:pt x="217" y="75"/>
                    </a:moveTo>
                    <a:lnTo>
                      <a:pt x="217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217" y="75"/>
                    </a:lnTo>
                    <a:lnTo>
                      <a:pt x="217" y="7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445360" y="2835000"/>
                <a:ext cx="18720" cy="5760"/>
              </a:xfrm>
              <a:prstGeom prst="rect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445360" y="2835000"/>
                <a:ext cx="18720" cy="5760"/>
              </a:xfrm>
              <a:custGeom>
                <a:avLst/>
                <a:gdLst/>
                <a:ahLst/>
                <a:rect l="l" t="t" r="r" b="b"/>
                <a:pathLst>
                  <a:path w="217" h="50">
                    <a:moveTo>
                      <a:pt x="217" y="50"/>
                    </a:moveTo>
                    <a:lnTo>
                      <a:pt x="217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217" y="50"/>
                    </a:lnTo>
                    <a:lnTo>
                      <a:pt x="217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5329800" y="2830320"/>
                <a:ext cx="1944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5329800" y="2830320"/>
                <a:ext cx="19440" cy="8640"/>
              </a:xfrm>
              <a:custGeom>
                <a:avLst/>
                <a:gdLst/>
                <a:ahLst/>
                <a:rect l="l" t="t" r="r" b="b"/>
                <a:pathLst>
                  <a:path w="216" h="76">
                    <a:moveTo>
                      <a:pt x="216" y="76"/>
                    </a:moveTo>
                    <a:lnTo>
                      <a:pt x="216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216" y="76"/>
                    </a:lnTo>
                    <a:lnTo>
                      <a:pt x="216" y="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329800" y="2830320"/>
                <a:ext cx="19440" cy="5760"/>
              </a:xfrm>
              <a:prstGeom prst="rect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329800" y="2830320"/>
                <a:ext cx="19440" cy="5760"/>
              </a:xfrm>
              <a:custGeom>
                <a:avLst/>
                <a:gdLst/>
                <a:ahLst/>
                <a:rect l="l" t="t" r="r" b="b"/>
                <a:pathLst>
                  <a:path w="216" h="51">
                    <a:moveTo>
                      <a:pt x="216" y="51"/>
                    </a:moveTo>
                    <a:lnTo>
                      <a:pt x="216" y="0"/>
                    </a:lnTo>
                    <a:lnTo>
                      <a:pt x="0" y="0"/>
                    </a:lnTo>
                    <a:lnTo>
                      <a:pt x="0" y="51"/>
                    </a:lnTo>
                    <a:lnTo>
                      <a:pt x="216" y="51"/>
                    </a:lnTo>
                    <a:lnTo>
                      <a:pt x="216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430600" y="2754360"/>
                <a:ext cx="101520" cy="64800"/>
              </a:xfrm>
              <a:custGeom>
                <a:avLst/>
                <a:gdLst/>
                <a:ahLst/>
                <a:rect l="l" t="t" r="r" b="b"/>
                <a:pathLst>
                  <a:path w="1153" h="554">
                    <a:moveTo>
                      <a:pt x="1153" y="514"/>
                    </a:moveTo>
                    <a:lnTo>
                      <a:pt x="1089" y="554"/>
                    </a:lnTo>
                    <a:lnTo>
                      <a:pt x="1025" y="554"/>
                    </a:lnTo>
                    <a:lnTo>
                      <a:pt x="90" y="539"/>
                    </a:lnTo>
                    <a:lnTo>
                      <a:pt x="0" y="0"/>
                    </a:lnTo>
                    <a:lnTo>
                      <a:pt x="240" y="9"/>
                    </a:lnTo>
                    <a:lnTo>
                      <a:pt x="372" y="11"/>
                    </a:lnTo>
                    <a:lnTo>
                      <a:pt x="441" y="17"/>
                    </a:lnTo>
                    <a:lnTo>
                      <a:pt x="506" y="23"/>
                    </a:lnTo>
                    <a:lnTo>
                      <a:pt x="569" y="45"/>
                    </a:lnTo>
                    <a:lnTo>
                      <a:pt x="653" y="92"/>
                    </a:lnTo>
                    <a:lnTo>
                      <a:pt x="1075" y="361"/>
                    </a:lnTo>
                    <a:lnTo>
                      <a:pt x="1153" y="5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430600" y="2754360"/>
                <a:ext cx="101520" cy="64800"/>
              </a:xfrm>
              <a:custGeom>
                <a:avLst/>
                <a:gdLst/>
                <a:ahLst/>
                <a:rect l="l" t="t" r="r" b="b"/>
                <a:pathLst>
                  <a:path w="1153" h="554">
                    <a:moveTo>
                      <a:pt x="1153" y="514"/>
                    </a:moveTo>
                    <a:lnTo>
                      <a:pt x="1089" y="554"/>
                    </a:lnTo>
                    <a:lnTo>
                      <a:pt x="1025" y="554"/>
                    </a:lnTo>
                    <a:lnTo>
                      <a:pt x="90" y="539"/>
                    </a:lnTo>
                    <a:lnTo>
                      <a:pt x="0" y="0"/>
                    </a:lnTo>
                    <a:lnTo>
                      <a:pt x="240" y="9"/>
                    </a:lnTo>
                    <a:lnTo>
                      <a:pt x="372" y="11"/>
                    </a:lnTo>
                    <a:lnTo>
                      <a:pt x="441" y="17"/>
                    </a:lnTo>
                    <a:lnTo>
                      <a:pt x="506" y="23"/>
                    </a:lnTo>
                    <a:lnTo>
                      <a:pt x="569" y="45"/>
                    </a:lnTo>
                    <a:lnTo>
                      <a:pt x="653" y="92"/>
                    </a:lnTo>
                    <a:lnTo>
                      <a:pt x="1075" y="361"/>
                    </a:lnTo>
                    <a:lnTo>
                      <a:pt x="1153" y="514"/>
                    </a:lnTo>
                    <a:lnTo>
                      <a:pt x="1153" y="5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343480" y="2754000"/>
                <a:ext cx="79920" cy="63720"/>
              </a:xfrm>
              <a:custGeom>
                <a:avLst/>
                <a:gdLst/>
                <a:ahLst/>
                <a:rect l="l" t="t" r="r" b="b"/>
                <a:pathLst>
                  <a:path w="907" h="547">
                    <a:moveTo>
                      <a:pt x="846" y="11"/>
                    </a:moveTo>
                    <a:lnTo>
                      <a:pt x="296" y="0"/>
                    </a:lnTo>
                    <a:lnTo>
                      <a:pt x="246" y="0"/>
                    </a:lnTo>
                    <a:lnTo>
                      <a:pt x="215" y="17"/>
                    </a:lnTo>
                    <a:lnTo>
                      <a:pt x="0" y="285"/>
                    </a:lnTo>
                    <a:lnTo>
                      <a:pt x="40" y="522"/>
                    </a:lnTo>
                    <a:lnTo>
                      <a:pt x="907" y="547"/>
                    </a:lnTo>
                    <a:lnTo>
                      <a:pt x="846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343480" y="2754000"/>
                <a:ext cx="79920" cy="63720"/>
              </a:xfrm>
              <a:custGeom>
                <a:avLst/>
                <a:gdLst/>
                <a:ahLst/>
                <a:rect l="l" t="t" r="r" b="b"/>
                <a:pathLst>
                  <a:path w="907" h="547">
                    <a:moveTo>
                      <a:pt x="846" y="11"/>
                    </a:moveTo>
                    <a:lnTo>
                      <a:pt x="296" y="0"/>
                    </a:lnTo>
                    <a:lnTo>
                      <a:pt x="246" y="0"/>
                    </a:lnTo>
                    <a:lnTo>
                      <a:pt x="215" y="17"/>
                    </a:lnTo>
                    <a:lnTo>
                      <a:pt x="0" y="285"/>
                    </a:lnTo>
                    <a:lnTo>
                      <a:pt x="40" y="522"/>
                    </a:lnTo>
                    <a:lnTo>
                      <a:pt x="907" y="547"/>
                    </a:lnTo>
                    <a:lnTo>
                      <a:pt x="846" y="11"/>
                    </a:lnTo>
                    <a:lnTo>
                      <a:pt x="846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524560" y="2795400"/>
                <a:ext cx="24480" cy="23760"/>
              </a:xfrm>
              <a:custGeom>
                <a:avLst/>
                <a:gdLst/>
                <a:ahLst/>
                <a:rect l="l" t="t" r="r" b="b"/>
                <a:pathLst>
                  <a:path w="282" h="204">
                    <a:moveTo>
                      <a:pt x="0" y="0"/>
                    </a:moveTo>
                    <a:lnTo>
                      <a:pt x="282" y="189"/>
                    </a:lnTo>
                    <a:lnTo>
                      <a:pt x="36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5524560" y="2795400"/>
                <a:ext cx="24480" cy="23760"/>
              </a:xfrm>
              <a:custGeom>
                <a:avLst/>
                <a:gdLst/>
                <a:ahLst/>
                <a:rect l="l" t="t" r="r" b="b"/>
                <a:pathLst>
                  <a:path w="282" h="204">
                    <a:moveTo>
                      <a:pt x="0" y="0"/>
                    </a:moveTo>
                    <a:lnTo>
                      <a:pt x="282" y="189"/>
                    </a:lnTo>
                    <a:lnTo>
                      <a:pt x="36" y="20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5328360" y="2786760"/>
                <a:ext cx="18360" cy="28080"/>
              </a:xfrm>
              <a:custGeom>
                <a:avLst/>
                <a:gdLst/>
                <a:ahLst/>
                <a:rect l="l" t="t" r="r" b="b"/>
                <a:pathLst>
                  <a:path w="207" h="243">
                    <a:moveTo>
                      <a:pt x="167" y="0"/>
                    </a:moveTo>
                    <a:lnTo>
                      <a:pt x="0" y="231"/>
                    </a:lnTo>
                    <a:lnTo>
                      <a:pt x="207" y="243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5328360" y="2786760"/>
                <a:ext cx="18360" cy="28080"/>
              </a:xfrm>
              <a:custGeom>
                <a:avLst/>
                <a:gdLst/>
                <a:ahLst/>
                <a:rect l="l" t="t" r="r" b="b"/>
                <a:pathLst>
                  <a:path w="207" h="243">
                    <a:moveTo>
                      <a:pt x="167" y="0"/>
                    </a:moveTo>
                    <a:lnTo>
                      <a:pt x="0" y="231"/>
                    </a:lnTo>
                    <a:lnTo>
                      <a:pt x="207" y="243"/>
                    </a:lnTo>
                    <a:lnTo>
                      <a:pt x="167" y="0"/>
                    </a:lnTo>
                    <a:lnTo>
                      <a:pt x="16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5569920" y="2816640"/>
                <a:ext cx="109440" cy="27000"/>
              </a:xfrm>
              <a:custGeom>
                <a:avLst/>
                <a:gdLst/>
                <a:ahLst/>
                <a:rect l="l" t="t" r="r" b="b"/>
                <a:pathLst>
                  <a:path w="1242" h="230">
                    <a:moveTo>
                      <a:pt x="0" y="0"/>
                    </a:moveTo>
                    <a:lnTo>
                      <a:pt x="147" y="17"/>
                    </a:lnTo>
                    <a:lnTo>
                      <a:pt x="293" y="37"/>
                    </a:lnTo>
                    <a:lnTo>
                      <a:pt x="441" y="59"/>
                    </a:lnTo>
                    <a:lnTo>
                      <a:pt x="588" y="82"/>
                    </a:lnTo>
                    <a:lnTo>
                      <a:pt x="734" y="113"/>
                    </a:lnTo>
                    <a:lnTo>
                      <a:pt x="879" y="141"/>
                    </a:lnTo>
                    <a:lnTo>
                      <a:pt x="1024" y="174"/>
                    </a:lnTo>
                    <a:lnTo>
                      <a:pt x="1167" y="210"/>
                    </a:lnTo>
                    <a:lnTo>
                      <a:pt x="1242" y="2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5231160" y="2809080"/>
                <a:ext cx="318240" cy="13320"/>
              </a:xfrm>
              <a:custGeom>
                <a:avLst/>
                <a:gdLst/>
                <a:ahLst/>
                <a:rect l="l" t="t" r="r" b="b"/>
                <a:pathLst>
                  <a:path w="3596" h="114">
                    <a:moveTo>
                      <a:pt x="0" y="0"/>
                    </a:moveTo>
                    <a:lnTo>
                      <a:pt x="1090" y="62"/>
                    </a:lnTo>
                    <a:lnTo>
                      <a:pt x="2175" y="102"/>
                    </a:lnTo>
                    <a:lnTo>
                      <a:pt x="3353" y="114"/>
                    </a:lnTo>
                    <a:lnTo>
                      <a:pt x="3593" y="99"/>
                    </a:lnTo>
                    <a:lnTo>
                      <a:pt x="3596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5229000" y="2747520"/>
                <a:ext cx="106920" cy="58680"/>
              </a:xfrm>
              <a:custGeom>
                <a:avLst/>
                <a:gdLst/>
                <a:ahLst/>
                <a:rect l="l" t="t" r="r" b="b"/>
                <a:pathLst>
                  <a:path w="1209" h="503">
                    <a:moveTo>
                      <a:pt x="1171" y="0"/>
                    </a:moveTo>
                    <a:lnTo>
                      <a:pt x="1198" y="8"/>
                    </a:lnTo>
                    <a:lnTo>
                      <a:pt x="1207" y="20"/>
                    </a:lnTo>
                    <a:lnTo>
                      <a:pt x="1209" y="37"/>
                    </a:lnTo>
                    <a:lnTo>
                      <a:pt x="1203" y="50"/>
                    </a:lnTo>
                    <a:lnTo>
                      <a:pt x="1192" y="62"/>
                    </a:lnTo>
                    <a:lnTo>
                      <a:pt x="1050" y="125"/>
                    </a:lnTo>
                    <a:lnTo>
                      <a:pt x="447" y="413"/>
                    </a:lnTo>
                    <a:lnTo>
                      <a:pt x="386" y="438"/>
                    </a:lnTo>
                    <a:lnTo>
                      <a:pt x="316" y="461"/>
                    </a:lnTo>
                    <a:lnTo>
                      <a:pt x="249" y="478"/>
                    </a:lnTo>
                    <a:lnTo>
                      <a:pt x="197" y="483"/>
                    </a:lnTo>
                    <a:lnTo>
                      <a:pt x="0" y="5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5225760" y="2830320"/>
                <a:ext cx="10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5223600" y="2837880"/>
                <a:ext cx="140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5223600" y="2849400"/>
                <a:ext cx="15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5265720" y="2754000"/>
                <a:ext cx="84600" cy="57960"/>
              </a:xfrm>
              <a:custGeom>
                <a:avLst/>
                <a:gdLst/>
                <a:ahLst/>
                <a:rect l="l" t="t" r="r" b="b"/>
                <a:pathLst>
                  <a:path w="960" h="497">
                    <a:moveTo>
                      <a:pt x="40" y="369"/>
                    </a:moveTo>
                    <a:lnTo>
                      <a:pt x="693" y="61"/>
                    </a:lnTo>
                    <a:lnTo>
                      <a:pt x="735" y="44"/>
                    </a:lnTo>
                    <a:lnTo>
                      <a:pt x="813" y="23"/>
                    </a:lnTo>
                    <a:lnTo>
                      <a:pt x="901" y="6"/>
                    </a:lnTo>
                    <a:lnTo>
                      <a:pt x="960" y="0"/>
                    </a:lnTo>
                    <a:lnTo>
                      <a:pt x="958" y="11"/>
                    </a:lnTo>
                    <a:lnTo>
                      <a:pt x="523" y="497"/>
                    </a:lnTo>
                    <a:lnTo>
                      <a:pt x="190" y="472"/>
                    </a:lnTo>
                    <a:lnTo>
                      <a:pt x="50" y="458"/>
                    </a:lnTo>
                    <a:lnTo>
                      <a:pt x="28" y="455"/>
                    </a:lnTo>
                    <a:lnTo>
                      <a:pt x="9" y="444"/>
                    </a:lnTo>
                    <a:lnTo>
                      <a:pt x="0" y="424"/>
                    </a:lnTo>
                    <a:lnTo>
                      <a:pt x="0" y="402"/>
                    </a:lnTo>
                    <a:lnTo>
                      <a:pt x="11" y="382"/>
                    </a:lnTo>
                    <a:lnTo>
                      <a:pt x="30" y="371"/>
                    </a:lnTo>
                    <a:lnTo>
                      <a:pt x="36" y="3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5318640" y="275148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39" h="81">
                    <a:moveTo>
                      <a:pt x="3" y="0"/>
                    </a:moveTo>
                    <a:lnTo>
                      <a:pt x="31" y="8"/>
                    </a:lnTo>
                    <a:lnTo>
                      <a:pt x="36" y="14"/>
                    </a:lnTo>
                    <a:lnTo>
                      <a:pt x="39" y="23"/>
                    </a:lnTo>
                    <a:lnTo>
                      <a:pt x="39" y="34"/>
                    </a:lnTo>
                    <a:lnTo>
                      <a:pt x="36" y="48"/>
                    </a:lnTo>
                    <a:lnTo>
                      <a:pt x="28" y="59"/>
                    </a:lnTo>
                    <a:lnTo>
                      <a:pt x="20" y="67"/>
                    </a:lnTo>
                    <a:lnTo>
                      <a:pt x="0" y="8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276520" y="2760480"/>
                <a:ext cx="65160" cy="46800"/>
              </a:xfrm>
              <a:custGeom>
                <a:avLst/>
                <a:gdLst/>
                <a:ahLst/>
                <a:rect l="l" t="t" r="r" b="b"/>
                <a:pathLst>
                  <a:path w="740" h="402">
                    <a:moveTo>
                      <a:pt x="704" y="5"/>
                    </a:moveTo>
                    <a:lnTo>
                      <a:pt x="628" y="25"/>
                    </a:lnTo>
                    <a:lnTo>
                      <a:pt x="548" y="55"/>
                    </a:lnTo>
                    <a:lnTo>
                      <a:pt x="422" y="109"/>
                    </a:lnTo>
                    <a:lnTo>
                      <a:pt x="176" y="240"/>
                    </a:lnTo>
                    <a:lnTo>
                      <a:pt x="53" y="304"/>
                    </a:lnTo>
                    <a:lnTo>
                      <a:pt x="34" y="318"/>
                    </a:lnTo>
                    <a:lnTo>
                      <a:pt x="17" y="326"/>
                    </a:lnTo>
                    <a:lnTo>
                      <a:pt x="3" y="340"/>
                    </a:lnTo>
                    <a:lnTo>
                      <a:pt x="0" y="351"/>
                    </a:lnTo>
                    <a:lnTo>
                      <a:pt x="0" y="366"/>
                    </a:lnTo>
                    <a:lnTo>
                      <a:pt x="17" y="376"/>
                    </a:lnTo>
                    <a:lnTo>
                      <a:pt x="395" y="402"/>
                    </a:lnTo>
                    <a:lnTo>
                      <a:pt x="740" y="0"/>
                    </a:lnTo>
                    <a:lnTo>
                      <a:pt x="704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5276520" y="2760480"/>
                <a:ext cx="65160" cy="46800"/>
              </a:xfrm>
              <a:custGeom>
                <a:avLst/>
                <a:gdLst/>
                <a:ahLst/>
                <a:rect l="l" t="t" r="r" b="b"/>
                <a:pathLst>
                  <a:path w="740" h="402">
                    <a:moveTo>
                      <a:pt x="704" y="5"/>
                    </a:moveTo>
                    <a:lnTo>
                      <a:pt x="628" y="25"/>
                    </a:lnTo>
                    <a:lnTo>
                      <a:pt x="548" y="55"/>
                    </a:lnTo>
                    <a:lnTo>
                      <a:pt x="422" y="109"/>
                    </a:lnTo>
                    <a:lnTo>
                      <a:pt x="176" y="240"/>
                    </a:lnTo>
                    <a:lnTo>
                      <a:pt x="53" y="304"/>
                    </a:lnTo>
                    <a:lnTo>
                      <a:pt x="34" y="318"/>
                    </a:lnTo>
                    <a:lnTo>
                      <a:pt x="17" y="326"/>
                    </a:lnTo>
                    <a:lnTo>
                      <a:pt x="3" y="340"/>
                    </a:lnTo>
                    <a:lnTo>
                      <a:pt x="0" y="351"/>
                    </a:lnTo>
                    <a:lnTo>
                      <a:pt x="0" y="366"/>
                    </a:lnTo>
                    <a:lnTo>
                      <a:pt x="17" y="376"/>
                    </a:lnTo>
                    <a:lnTo>
                      <a:pt x="395" y="402"/>
                    </a:lnTo>
                    <a:lnTo>
                      <a:pt x="740" y="0"/>
                    </a:lnTo>
                    <a:lnTo>
                      <a:pt x="704" y="5"/>
                    </a:lnTo>
                    <a:lnTo>
                      <a:pt x="70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5520240" y="2796120"/>
                <a:ext cx="13680" cy="23400"/>
              </a:xfrm>
              <a:custGeom>
                <a:avLst/>
                <a:gdLst/>
                <a:ahLst/>
                <a:rect l="l" t="t" r="r" b="b"/>
                <a:pathLst>
                  <a:path w="155" h="201">
                    <a:moveTo>
                      <a:pt x="155" y="178"/>
                    </a:moveTo>
                    <a:lnTo>
                      <a:pt x="135" y="28"/>
                    </a:lnTo>
                    <a:lnTo>
                      <a:pt x="115" y="17"/>
                    </a:lnTo>
                    <a:lnTo>
                      <a:pt x="13" y="0"/>
                    </a:lnTo>
                    <a:lnTo>
                      <a:pt x="8" y="5"/>
                    </a:lnTo>
                    <a:lnTo>
                      <a:pt x="0" y="159"/>
                    </a:lnTo>
                    <a:lnTo>
                      <a:pt x="83" y="201"/>
                    </a:lnTo>
                    <a:lnTo>
                      <a:pt x="100" y="201"/>
                    </a:lnTo>
                    <a:lnTo>
                      <a:pt x="155" y="1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520240" y="2796120"/>
                <a:ext cx="13680" cy="23400"/>
              </a:xfrm>
              <a:custGeom>
                <a:avLst/>
                <a:gdLst/>
                <a:ahLst/>
                <a:rect l="l" t="t" r="r" b="b"/>
                <a:pathLst>
                  <a:path w="155" h="201">
                    <a:moveTo>
                      <a:pt x="155" y="178"/>
                    </a:moveTo>
                    <a:lnTo>
                      <a:pt x="135" y="28"/>
                    </a:lnTo>
                    <a:lnTo>
                      <a:pt x="115" y="17"/>
                    </a:lnTo>
                    <a:lnTo>
                      <a:pt x="13" y="0"/>
                    </a:lnTo>
                    <a:lnTo>
                      <a:pt x="8" y="5"/>
                    </a:lnTo>
                    <a:lnTo>
                      <a:pt x="0" y="159"/>
                    </a:lnTo>
                    <a:lnTo>
                      <a:pt x="83" y="201"/>
                    </a:lnTo>
                    <a:lnTo>
                      <a:pt x="100" y="201"/>
                    </a:lnTo>
                    <a:lnTo>
                      <a:pt x="155" y="178"/>
                    </a:lnTo>
                    <a:lnTo>
                      <a:pt x="155" y="1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9" name=""/>
            <p:cNvSpPr/>
            <p:nvPr/>
          </p:nvSpPr>
          <p:spPr>
            <a:xfrm rot="564000">
              <a:off x="4952880" y="2387520"/>
              <a:ext cx="2751840" cy="1271160"/>
            </a:xfrm>
            <a:custGeom>
              <a:avLst/>
              <a:gdLst/>
              <a:ahLst/>
              <a:rect l="l" t="t" r="r" b="b"/>
              <a:pathLst>
                <a:path w="1776" h="1104">
                  <a:moveTo>
                    <a:pt x="240" y="0"/>
                  </a:moveTo>
                  <a:lnTo>
                    <a:pt x="528" y="48"/>
                  </a:lnTo>
                  <a:lnTo>
                    <a:pt x="720" y="384"/>
                  </a:lnTo>
                  <a:lnTo>
                    <a:pt x="1008" y="480"/>
                  </a:lnTo>
                  <a:lnTo>
                    <a:pt x="1248" y="720"/>
                  </a:lnTo>
                  <a:lnTo>
                    <a:pt x="1536" y="816"/>
                  </a:lnTo>
                  <a:lnTo>
                    <a:pt x="1776" y="1056"/>
                  </a:lnTo>
                  <a:lnTo>
                    <a:pt x="1392" y="1104"/>
                  </a:lnTo>
                  <a:lnTo>
                    <a:pt x="1392" y="1008"/>
                  </a:lnTo>
                  <a:lnTo>
                    <a:pt x="1200" y="864"/>
                  </a:lnTo>
                  <a:lnTo>
                    <a:pt x="960" y="768"/>
                  </a:lnTo>
                  <a:lnTo>
                    <a:pt x="912" y="624"/>
                  </a:lnTo>
                  <a:lnTo>
                    <a:pt x="576" y="480"/>
                  </a:lnTo>
                  <a:lnTo>
                    <a:pt x="432" y="288"/>
                  </a:lnTo>
                  <a:lnTo>
                    <a:pt x="192" y="96"/>
                  </a:lnTo>
                  <a:lnTo>
                    <a:pt x="0" y="96"/>
                  </a:lnTo>
                </a:path>
              </a:pathLst>
            </a:custGeom>
            <a:solidFill>
              <a:srgbClr val="00ccff"/>
            </a:solidFill>
            <a:ln w="126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0" name=""/>
            <p:cNvGrpSpPr/>
            <p:nvPr/>
          </p:nvGrpSpPr>
          <p:grpSpPr>
            <a:xfrm>
              <a:off x="4997160" y="2057400"/>
              <a:ext cx="2927520" cy="1129320"/>
              <a:chOff x="4997160" y="2057400"/>
              <a:chExt cx="2927520" cy="1129320"/>
            </a:xfrm>
          </p:grpSpPr>
          <p:sp>
            <p:nvSpPr>
              <p:cNvPr id="3481" name=""/>
              <p:cNvSpPr/>
              <p:nvPr/>
            </p:nvSpPr>
            <p:spPr>
              <a:xfrm>
                <a:off x="4997160" y="2057400"/>
                <a:ext cx="2927520" cy="1129320"/>
              </a:xfrm>
              <a:custGeom>
                <a:avLst/>
                <a:gdLst/>
                <a:ahLst/>
                <a:rect l="l" t="t" r="r" b="b"/>
                <a:pathLst>
                  <a:path w="2127" h="626">
                    <a:moveTo>
                      <a:pt x="863" y="232"/>
                    </a:moveTo>
                    <a:lnTo>
                      <a:pt x="1263" y="232"/>
                    </a:lnTo>
                    <a:lnTo>
                      <a:pt x="1279" y="243"/>
                    </a:lnTo>
                    <a:lnTo>
                      <a:pt x="1279" y="253"/>
                    </a:lnTo>
                    <a:lnTo>
                      <a:pt x="1279" y="626"/>
                    </a:lnTo>
                    <a:lnTo>
                      <a:pt x="1518" y="626"/>
                    </a:lnTo>
                    <a:lnTo>
                      <a:pt x="1518" y="271"/>
                    </a:lnTo>
                    <a:lnTo>
                      <a:pt x="1531" y="280"/>
                    </a:lnTo>
                    <a:lnTo>
                      <a:pt x="1556" y="294"/>
                    </a:lnTo>
                    <a:lnTo>
                      <a:pt x="1600" y="320"/>
                    </a:lnTo>
                    <a:lnTo>
                      <a:pt x="1600" y="490"/>
                    </a:lnTo>
                    <a:lnTo>
                      <a:pt x="1628" y="490"/>
                    </a:lnTo>
                    <a:lnTo>
                      <a:pt x="1628" y="333"/>
                    </a:lnTo>
                    <a:lnTo>
                      <a:pt x="1671" y="354"/>
                    </a:lnTo>
                    <a:lnTo>
                      <a:pt x="1722" y="378"/>
                    </a:lnTo>
                    <a:lnTo>
                      <a:pt x="1722" y="490"/>
                    </a:lnTo>
                    <a:lnTo>
                      <a:pt x="1752" y="490"/>
                    </a:lnTo>
                    <a:lnTo>
                      <a:pt x="1752" y="391"/>
                    </a:lnTo>
                    <a:lnTo>
                      <a:pt x="1793" y="408"/>
                    </a:lnTo>
                    <a:lnTo>
                      <a:pt x="1837" y="427"/>
                    </a:lnTo>
                    <a:lnTo>
                      <a:pt x="1837" y="490"/>
                    </a:lnTo>
                    <a:lnTo>
                      <a:pt x="1867" y="490"/>
                    </a:lnTo>
                    <a:lnTo>
                      <a:pt x="1867" y="437"/>
                    </a:lnTo>
                    <a:lnTo>
                      <a:pt x="1880" y="442"/>
                    </a:lnTo>
                    <a:lnTo>
                      <a:pt x="1900" y="449"/>
                    </a:lnTo>
                    <a:lnTo>
                      <a:pt x="1926" y="457"/>
                    </a:lnTo>
                    <a:lnTo>
                      <a:pt x="1954" y="465"/>
                    </a:lnTo>
                    <a:lnTo>
                      <a:pt x="1984" y="473"/>
                    </a:lnTo>
                    <a:lnTo>
                      <a:pt x="2012" y="481"/>
                    </a:lnTo>
                    <a:lnTo>
                      <a:pt x="2038" y="486"/>
                    </a:lnTo>
                    <a:lnTo>
                      <a:pt x="2050" y="489"/>
                    </a:lnTo>
                    <a:lnTo>
                      <a:pt x="2061" y="490"/>
                    </a:lnTo>
                    <a:lnTo>
                      <a:pt x="1518" y="490"/>
                    </a:lnTo>
                    <a:lnTo>
                      <a:pt x="1518" y="509"/>
                    </a:lnTo>
                    <a:lnTo>
                      <a:pt x="2127" y="509"/>
                    </a:lnTo>
                    <a:lnTo>
                      <a:pt x="2127" y="491"/>
                    </a:lnTo>
                    <a:lnTo>
                      <a:pt x="2107" y="488"/>
                    </a:lnTo>
                    <a:lnTo>
                      <a:pt x="2086" y="484"/>
                    </a:lnTo>
                    <a:lnTo>
                      <a:pt x="2066" y="480"/>
                    </a:lnTo>
                    <a:lnTo>
                      <a:pt x="2043" y="475"/>
                    </a:lnTo>
                    <a:lnTo>
                      <a:pt x="2000" y="463"/>
                    </a:lnTo>
                    <a:lnTo>
                      <a:pt x="1954" y="450"/>
                    </a:lnTo>
                    <a:lnTo>
                      <a:pt x="1905" y="435"/>
                    </a:lnTo>
                    <a:lnTo>
                      <a:pt x="1862" y="419"/>
                    </a:lnTo>
                    <a:lnTo>
                      <a:pt x="1839" y="410"/>
                    </a:lnTo>
                    <a:lnTo>
                      <a:pt x="1816" y="401"/>
                    </a:lnTo>
                    <a:lnTo>
                      <a:pt x="1773" y="383"/>
                    </a:lnTo>
                    <a:lnTo>
                      <a:pt x="1730" y="365"/>
                    </a:lnTo>
                    <a:lnTo>
                      <a:pt x="1689" y="346"/>
                    </a:lnTo>
                    <a:lnTo>
                      <a:pt x="1651" y="327"/>
                    </a:lnTo>
                    <a:lnTo>
                      <a:pt x="1612" y="308"/>
                    </a:lnTo>
                    <a:lnTo>
                      <a:pt x="1579" y="290"/>
                    </a:lnTo>
                    <a:lnTo>
                      <a:pt x="1551" y="273"/>
                    </a:lnTo>
                    <a:lnTo>
                      <a:pt x="1526" y="257"/>
                    </a:lnTo>
                    <a:lnTo>
                      <a:pt x="1505" y="243"/>
                    </a:lnTo>
                    <a:lnTo>
                      <a:pt x="1518" y="232"/>
                    </a:lnTo>
                    <a:lnTo>
                      <a:pt x="1518" y="86"/>
                    </a:lnTo>
                    <a:lnTo>
                      <a:pt x="1500" y="70"/>
                    </a:lnTo>
                    <a:lnTo>
                      <a:pt x="1480" y="86"/>
                    </a:lnTo>
                    <a:lnTo>
                      <a:pt x="1477" y="85"/>
                    </a:lnTo>
                    <a:lnTo>
                      <a:pt x="1467" y="81"/>
                    </a:lnTo>
                    <a:lnTo>
                      <a:pt x="1454" y="74"/>
                    </a:lnTo>
                    <a:lnTo>
                      <a:pt x="1439" y="64"/>
                    </a:lnTo>
                    <a:lnTo>
                      <a:pt x="1424" y="52"/>
                    </a:lnTo>
                    <a:lnTo>
                      <a:pt x="1416" y="45"/>
                    </a:lnTo>
                    <a:lnTo>
                      <a:pt x="1411" y="37"/>
                    </a:lnTo>
                    <a:lnTo>
                      <a:pt x="1406" y="29"/>
                    </a:lnTo>
                    <a:lnTo>
                      <a:pt x="1401" y="20"/>
                    </a:lnTo>
                    <a:lnTo>
                      <a:pt x="1398" y="11"/>
                    </a:lnTo>
                    <a:lnTo>
                      <a:pt x="1398" y="0"/>
                    </a:lnTo>
                    <a:lnTo>
                      <a:pt x="1398" y="11"/>
                    </a:lnTo>
                    <a:lnTo>
                      <a:pt x="1396" y="20"/>
                    </a:lnTo>
                    <a:lnTo>
                      <a:pt x="1393" y="25"/>
                    </a:lnTo>
                    <a:lnTo>
                      <a:pt x="1391" y="29"/>
                    </a:lnTo>
                    <a:lnTo>
                      <a:pt x="1386" y="37"/>
                    </a:lnTo>
                    <a:lnTo>
                      <a:pt x="1378" y="45"/>
                    </a:lnTo>
                    <a:lnTo>
                      <a:pt x="1373" y="52"/>
                    </a:lnTo>
                    <a:lnTo>
                      <a:pt x="1358" y="64"/>
                    </a:lnTo>
                    <a:lnTo>
                      <a:pt x="1342" y="74"/>
                    </a:lnTo>
                    <a:lnTo>
                      <a:pt x="1330" y="81"/>
                    </a:lnTo>
                    <a:lnTo>
                      <a:pt x="1319" y="85"/>
                    </a:lnTo>
                    <a:lnTo>
                      <a:pt x="1317" y="86"/>
                    </a:lnTo>
                    <a:lnTo>
                      <a:pt x="1297" y="70"/>
                    </a:lnTo>
                    <a:lnTo>
                      <a:pt x="1279" y="86"/>
                    </a:lnTo>
                    <a:lnTo>
                      <a:pt x="1279" y="194"/>
                    </a:lnTo>
                    <a:lnTo>
                      <a:pt x="848" y="194"/>
                    </a:lnTo>
                    <a:lnTo>
                      <a:pt x="848" y="86"/>
                    </a:lnTo>
                    <a:lnTo>
                      <a:pt x="830" y="70"/>
                    </a:lnTo>
                    <a:lnTo>
                      <a:pt x="810" y="86"/>
                    </a:lnTo>
                    <a:lnTo>
                      <a:pt x="807" y="85"/>
                    </a:lnTo>
                    <a:lnTo>
                      <a:pt x="797" y="81"/>
                    </a:lnTo>
                    <a:lnTo>
                      <a:pt x="785" y="74"/>
                    </a:lnTo>
                    <a:lnTo>
                      <a:pt x="769" y="64"/>
                    </a:lnTo>
                    <a:lnTo>
                      <a:pt x="754" y="52"/>
                    </a:lnTo>
                    <a:lnTo>
                      <a:pt x="746" y="45"/>
                    </a:lnTo>
                    <a:lnTo>
                      <a:pt x="741" y="37"/>
                    </a:lnTo>
                    <a:lnTo>
                      <a:pt x="736" y="29"/>
                    </a:lnTo>
                    <a:lnTo>
                      <a:pt x="731" y="20"/>
                    </a:lnTo>
                    <a:lnTo>
                      <a:pt x="728" y="11"/>
                    </a:lnTo>
                    <a:lnTo>
                      <a:pt x="728" y="0"/>
                    </a:lnTo>
                    <a:lnTo>
                      <a:pt x="728" y="11"/>
                    </a:lnTo>
                    <a:lnTo>
                      <a:pt x="723" y="20"/>
                    </a:lnTo>
                    <a:lnTo>
                      <a:pt x="723" y="25"/>
                    </a:lnTo>
                    <a:lnTo>
                      <a:pt x="721" y="29"/>
                    </a:lnTo>
                    <a:lnTo>
                      <a:pt x="716" y="37"/>
                    </a:lnTo>
                    <a:lnTo>
                      <a:pt x="708" y="45"/>
                    </a:lnTo>
                    <a:lnTo>
                      <a:pt x="703" y="52"/>
                    </a:lnTo>
                    <a:lnTo>
                      <a:pt x="688" y="64"/>
                    </a:lnTo>
                    <a:lnTo>
                      <a:pt x="672" y="74"/>
                    </a:lnTo>
                    <a:lnTo>
                      <a:pt x="660" y="81"/>
                    </a:lnTo>
                    <a:lnTo>
                      <a:pt x="650" y="85"/>
                    </a:lnTo>
                    <a:lnTo>
                      <a:pt x="647" y="86"/>
                    </a:lnTo>
                    <a:lnTo>
                      <a:pt x="627" y="70"/>
                    </a:lnTo>
                    <a:lnTo>
                      <a:pt x="609" y="86"/>
                    </a:lnTo>
                    <a:lnTo>
                      <a:pt x="609" y="232"/>
                    </a:lnTo>
                    <a:lnTo>
                      <a:pt x="622" y="243"/>
                    </a:lnTo>
                    <a:lnTo>
                      <a:pt x="601" y="257"/>
                    </a:lnTo>
                    <a:lnTo>
                      <a:pt x="576" y="273"/>
                    </a:lnTo>
                    <a:lnTo>
                      <a:pt x="545" y="290"/>
                    </a:lnTo>
                    <a:lnTo>
                      <a:pt x="512" y="308"/>
                    </a:lnTo>
                    <a:lnTo>
                      <a:pt x="476" y="327"/>
                    </a:lnTo>
                    <a:lnTo>
                      <a:pt x="438" y="346"/>
                    </a:lnTo>
                    <a:lnTo>
                      <a:pt x="397" y="365"/>
                    </a:lnTo>
                    <a:lnTo>
                      <a:pt x="352" y="383"/>
                    </a:lnTo>
                    <a:lnTo>
                      <a:pt x="308" y="401"/>
                    </a:lnTo>
                    <a:lnTo>
                      <a:pt x="262" y="419"/>
                    </a:lnTo>
                    <a:lnTo>
                      <a:pt x="217" y="435"/>
                    </a:lnTo>
                    <a:lnTo>
                      <a:pt x="173" y="450"/>
                    </a:lnTo>
                    <a:lnTo>
                      <a:pt x="150" y="457"/>
                    </a:lnTo>
                    <a:lnTo>
                      <a:pt x="127" y="463"/>
                    </a:lnTo>
                    <a:lnTo>
                      <a:pt x="84" y="475"/>
                    </a:lnTo>
                    <a:lnTo>
                      <a:pt x="61" y="480"/>
                    </a:lnTo>
                    <a:lnTo>
                      <a:pt x="41" y="484"/>
                    </a:lnTo>
                    <a:lnTo>
                      <a:pt x="20" y="488"/>
                    </a:lnTo>
                    <a:lnTo>
                      <a:pt x="0" y="491"/>
                    </a:lnTo>
                    <a:lnTo>
                      <a:pt x="0" y="509"/>
                    </a:lnTo>
                    <a:lnTo>
                      <a:pt x="609" y="509"/>
                    </a:lnTo>
                    <a:lnTo>
                      <a:pt x="609" y="490"/>
                    </a:lnTo>
                    <a:lnTo>
                      <a:pt x="64" y="490"/>
                    </a:lnTo>
                    <a:lnTo>
                      <a:pt x="76" y="489"/>
                    </a:lnTo>
                    <a:lnTo>
                      <a:pt x="87" y="486"/>
                    </a:lnTo>
                    <a:lnTo>
                      <a:pt x="115" y="481"/>
                    </a:lnTo>
                    <a:lnTo>
                      <a:pt x="127" y="477"/>
                    </a:lnTo>
                    <a:lnTo>
                      <a:pt x="143" y="473"/>
                    </a:lnTo>
                    <a:lnTo>
                      <a:pt x="171" y="465"/>
                    </a:lnTo>
                    <a:lnTo>
                      <a:pt x="199" y="457"/>
                    </a:lnTo>
                    <a:lnTo>
                      <a:pt x="224" y="449"/>
                    </a:lnTo>
                    <a:lnTo>
                      <a:pt x="245" y="442"/>
                    </a:lnTo>
                    <a:lnTo>
                      <a:pt x="257" y="437"/>
                    </a:lnTo>
                    <a:lnTo>
                      <a:pt x="257" y="490"/>
                    </a:lnTo>
                    <a:lnTo>
                      <a:pt x="288" y="490"/>
                    </a:lnTo>
                    <a:lnTo>
                      <a:pt x="288" y="427"/>
                    </a:lnTo>
                    <a:lnTo>
                      <a:pt x="331" y="408"/>
                    </a:lnTo>
                    <a:lnTo>
                      <a:pt x="372" y="391"/>
                    </a:lnTo>
                    <a:lnTo>
                      <a:pt x="372" y="490"/>
                    </a:lnTo>
                    <a:lnTo>
                      <a:pt x="405" y="490"/>
                    </a:lnTo>
                    <a:lnTo>
                      <a:pt x="405" y="378"/>
                    </a:lnTo>
                    <a:lnTo>
                      <a:pt x="456" y="354"/>
                    </a:lnTo>
                    <a:lnTo>
                      <a:pt x="499" y="333"/>
                    </a:lnTo>
                    <a:lnTo>
                      <a:pt x="499" y="490"/>
                    </a:lnTo>
                    <a:lnTo>
                      <a:pt x="527" y="490"/>
                    </a:lnTo>
                    <a:lnTo>
                      <a:pt x="527" y="320"/>
                    </a:lnTo>
                    <a:lnTo>
                      <a:pt x="571" y="294"/>
                    </a:lnTo>
                    <a:lnTo>
                      <a:pt x="593" y="280"/>
                    </a:lnTo>
                    <a:lnTo>
                      <a:pt x="609" y="271"/>
                    </a:lnTo>
                    <a:lnTo>
                      <a:pt x="609" y="626"/>
                    </a:lnTo>
                    <a:lnTo>
                      <a:pt x="848" y="626"/>
                    </a:lnTo>
                    <a:lnTo>
                      <a:pt x="848" y="253"/>
                    </a:lnTo>
                    <a:lnTo>
                      <a:pt x="848" y="243"/>
                    </a:lnTo>
                    <a:lnTo>
                      <a:pt x="863" y="2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6163920" y="2941200"/>
                <a:ext cx="593280" cy="32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6757560" y="2495880"/>
                <a:ext cx="308160" cy="18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6865920" y="2208960"/>
                <a:ext cx="111600" cy="88200"/>
              </a:xfrm>
              <a:custGeom>
                <a:avLst/>
                <a:gdLst/>
                <a:ahLst/>
                <a:rect l="l" t="t" r="r" b="b"/>
                <a:pathLst>
                  <a:path w="81" h="49">
                    <a:moveTo>
                      <a:pt x="0" y="49"/>
                    </a:moveTo>
                    <a:lnTo>
                      <a:pt x="81" y="49"/>
                    </a:lnTo>
                    <a:lnTo>
                      <a:pt x="81" y="26"/>
                    </a:lnTo>
                    <a:lnTo>
                      <a:pt x="76" y="25"/>
                    </a:lnTo>
                    <a:lnTo>
                      <a:pt x="68" y="24"/>
                    </a:lnTo>
                    <a:lnTo>
                      <a:pt x="63" y="22"/>
                    </a:lnTo>
                    <a:lnTo>
                      <a:pt x="56" y="19"/>
                    </a:lnTo>
                    <a:lnTo>
                      <a:pt x="51" y="16"/>
                    </a:lnTo>
                    <a:lnTo>
                      <a:pt x="45" y="11"/>
                    </a:lnTo>
                    <a:lnTo>
                      <a:pt x="40" y="6"/>
                    </a:lnTo>
                    <a:lnTo>
                      <a:pt x="40" y="0"/>
                    </a:lnTo>
                    <a:lnTo>
                      <a:pt x="38" y="6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5" y="19"/>
                    </a:lnTo>
                    <a:lnTo>
                      <a:pt x="17" y="22"/>
                    </a:lnTo>
                    <a:lnTo>
                      <a:pt x="12" y="24"/>
                    </a:lnTo>
                    <a:lnTo>
                      <a:pt x="5" y="25"/>
                    </a:lnTo>
                    <a:lnTo>
                      <a:pt x="0" y="26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6897960" y="2342520"/>
                <a:ext cx="47880" cy="63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6830640" y="2342520"/>
                <a:ext cx="49320" cy="63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6963840" y="2342520"/>
                <a:ext cx="49320" cy="63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6855120" y="2849400"/>
                <a:ext cx="129240" cy="954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6757560" y="2622240"/>
                <a:ext cx="328680" cy="18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6757560" y="2768400"/>
                <a:ext cx="328680" cy="18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6757560" y="2544480"/>
                <a:ext cx="328680" cy="55800"/>
              </a:xfrm>
              <a:custGeom>
                <a:avLst/>
                <a:gdLst/>
                <a:ahLst/>
                <a:rect l="l" t="t" r="r" b="b"/>
                <a:pathLst>
                  <a:path w="239" h="31">
                    <a:moveTo>
                      <a:pt x="71" y="22"/>
                    </a:moveTo>
                    <a:lnTo>
                      <a:pt x="0" y="22"/>
                    </a:lnTo>
                    <a:lnTo>
                      <a:pt x="0" y="31"/>
                    </a:lnTo>
                    <a:lnTo>
                      <a:pt x="239" y="31"/>
                    </a:lnTo>
                    <a:lnTo>
                      <a:pt x="239" y="22"/>
                    </a:lnTo>
                    <a:lnTo>
                      <a:pt x="168" y="22"/>
                    </a:lnTo>
                    <a:lnTo>
                      <a:pt x="168" y="0"/>
                    </a:lnTo>
                    <a:lnTo>
                      <a:pt x="71" y="0"/>
                    </a:lnTo>
                    <a:lnTo>
                      <a:pt x="71" y="22"/>
                    </a:lnTo>
                    <a:close/>
                  </a:path>
                </a:pathLst>
              </a:cu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6757560" y="2687040"/>
                <a:ext cx="328680" cy="57960"/>
              </a:xfrm>
              <a:custGeom>
                <a:avLst/>
                <a:gdLst/>
                <a:ahLst/>
                <a:rect l="l" t="t" r="r" b="b"/>
                <a:pathLst>
                  <a:path w="239" h="32">
                    <a:moveTo>
                      <a:pt x="71" y="22"/>
                    </a:moveTo>
                    <a:lnTo>
                      <a:pt x="0" y="22"/>
                    </a:lnTo>
                    <a:lnTo>
                      <a:pt x="0" y="32"/>
                    </a:lnTo>
                    <a:lnTo>
                      <a:pt x="239" y="32"/>
                    </a:lnTo>
                    <a:lnTo>
                      <a:pt x="239" y="22"/>
                    </a:lnTo>
                    <a:lnTo>
                      <a:pt x="168" y="22"/>
                    </a:lnTo>
                    <a:lnTo>
                      <a:pt x="168" y="0"/>
                    </a:lnTo>
                    <a:lnTo>
                      <a:pt x="71" y="0"/>
                    </a:lnTo>
                    <a:lnTo>
                      <a:pt x="71" y="22"/>
                    </a:lnTo>
                    <a:close/>
                  </a:path>
                </a:pathLst>
              </a:cu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5853240" y="2495880"/>
                <a:ext cx="310680" cy="18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943960" y="2208960"/>
                <a:ext cx="108360" cy="88200"/>
              </a:xfrm>
              <a:custGeom>
                <a:avLst/>
                <a:gdLst/>
                <a:ahLst/>
                <a:rect l="l" t="t" r="r" b="b"/>
                <a:pathLst>
                  <a:path w="79" h="49">
                    <a:moveTo>
                      <a:pt x="79" y="49"/>
                    </a:moveTo>
                    <a:lnTo>
                      <a:pt x="0" y="49"/>
                    </a:lnTo>
                    <a:lnTo>
                      <a:pt x="0" y="26"/>
                    </a:lnTo>
                    <a:lnTo>
                      <a:pt x="5" y="25"/>
                    </a:lnTo>
                    <a:lnTo>
                      <a:pt x="10" y="24"/>
                    </a:lnTo>
                    <a:lnTo>
                      <a:pt x="18" y="22"/>
                    </a:lnTo>
                    <a:lnTo>
                      <a:pt x="25" y="19"/>
                    </a:lnTo>
                    <a:lnTo>
                      <a:pt x="30" y="16"/>
                    </a:lnTo>
                    <a:lnTo>
                      <a:pt x="35" y="11"/>
                    </a:lnTo>
                    <a:lnTo>
                      <a:pt x="38" y="6"/>
                    </a:lnTo>
                    <a:lnTo>
                      <a:pt x="40" y="0"/>
                    </a:lnTo>
                    <a:lnTo>
                      <a:pt x="40" y="6"/>
                    </a:lnTo>
                    <a:lnTo>
                      <a:pt x="46" y="11"/>
                    </a:lnTo>
                    <a:lnTo>
                      <a:pt x="51" y="16"/>
                    </a:lnTo>
                    <a:lnTo>
                      <a:pt x="56" y="19"/>
                    </a:lnTo>
                    <a:lnTo>
                      <a:pt x="63" y="22"/>
                    </a:lnTo>
                    <a:lnTo>
                      <a:pt x="69" y="24"/>
                    </a:lnTo>
                    <a:lnTo>
                      <a:pt x="76" y="25"/>
                    </a:lnTo>
                    <a:lnTo>
                      <a:pt x="79" y="26"/>
                    </a:lnTo>
                    <a:lnTo>
                      <a:pt x="79" y="49"/>
                    </a:lnTo>
                    <a:close/>
                  </a:path>
                </a:pathLst>
              </a:cu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975640" y="2342520"/>
                <a:ext cx="48240" cy="63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6041880" y="2342520"/>
                <a:ext cx="49320" cy="63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5905440" y="2342520"/>
                <a:ext cx="52200" cy="63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5933160" y="2849400"/>
                <a:ext cx="128880" cy="954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5835240" y="2622240"/>
                <a:ext cx="328680" cy="18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5835240" y="2768400"/>
                <a:ext cx="328680" cy="18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835240" y="2544480"/>
                <a:ext cx="328680" cy="55800"/>
              </a:xfrm>
              <a:custGeom>
                <a:avLst/>
                <a:gdLst/>
                <a:ahLst/>
                <a:rect l="l" t="t" r="r" b="b"/>
                <a:pathLst>
                  <a:path w="239" h="31">
                    <a:moveTo>
                      <a:pt x="168" y="22"/>
                    </a:moveTo>
                    <a:lnTo>
                      <a:pt x="239" y="22"/>
                    </a:lnTo>
                    <a:lnTo>
                      <a:pt x="239" y="31"/>
                    </a:lnTo>
                    <a:lnTo>
                      <a:pt x="0" y="31"/>
                    </a:lnTo>
                    <a:lnTo>
                      <a:pt x="0" y="22"/>
                    </a:lnTo>
                    <a:lnTo>
                      <a:pt x="71" y="22"/>
                    </a:lnTo>
                    <a:lnTo>
                      <a:pt x="71" y="0"/>
                    </a:lnTo>
                    <a:lnTo>
                      <a:pt x="168" y="0"/>
                    </a:lnTo>
                    <a:lnTo>
                      <a:pt x="168" y="22"/>
                    </a:lnTo>
                    <a:close/>
                  </a:path>
                </a:pathLst>
              </a:cu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835240" y="2687040"/>
                <a:ext cx="328680" cy="57960"/>
              </a:xfrm>
              <a:custGeom>
                <a:avLst/>
                <a:gdLst/>
                <a:ahLst/>
                <a:rect l="l" t="t" r="r" b="b"/>
                <a:pathLst>
                  <a:path w="239" h="32">
                    <a:moveTo>
                      <a:pt x="168" y="22"/>
                    </a:moveTo>
                    <a:lnTo>
                      <a:pt x="239" y="22"/>
                    </a:lnTo>
                    <a:lnTo>
                      <a:pt x="239" y="32"/>
                    </a:lnTo>
                    <a:lnTo>
                      <a:pt x="0" y="32"/>
                    </a:lnTo>
                    <a:lnTo>
                      <a:pt x="0" y="22"/>
                    </a:lnTo>
                    <a:lnTo>
                      <a:pt x="71" y="22"/>
                    </a:lnTo>
                    <a:lnTo>
                      <a:pt x="71" y="0"/>
                    </a:lnTo>
                    <a:lnTo>
                      <a:pt x="168" y="0"/>
                    </a:lnTo>
                    <a:lnTo>
                      <a:pt x="168" y="22"/>
                    </a:lnTo>
                    <a:close/>
                  </a:path>
                </a:pathLst>
              </a:cu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6185160" y="2454480"/>
                <a:ext cx="554400" cy="1044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4" name=""/>
            <p:cNvGrpSpPr/>
            <p:nvPr/>
          </p:nvGrpSpPr>
          <p:grpSpPr>
            <a:xfrm>
              <a:off x="5630040" y="2057400"/>
              <a:ext cx="209520" cy="1035720"/>
              <a:chOff x="5630040" y="2057400"/>
              <a:chExt cx="209520" cy="1035720"/>
            </a:xfrm>
          </p:grpSpPr>
          <p:grpSp>
            <p:nvGrpSpPr>
              <p:cNvPr id="3505" name=""/>
              <p:cNvGrpSpPr/>
              <p:nvPr/>
            </p:nvGrpSpPr>
            <p:grpSpPr>
              <a:xfrm>
                <a:off x="5630040" y="2057400"/>
                <a:ext cx="209520" cy="1035720"/>
                <a:chOff x="5630040" y="2057400"/>
                <a:chExt cx="209520" cy="1035720"/>
              </a:xfrm>
            </p:grpSpPr>
            <p:grpSp>
              <p:nvGrpSpPr>
                <p:cNvPr id="3506" name=""/>
                <p:cNvGrpSpPr/>
                <p:nvPr/>
              </p:nvGrpSpPr>
              <p:grpSpPr>
                <a:xfrm>
                  <a:off x="5630040" y="2057400"/>
                  <a:ext cx="209520" cy="560880"/>
                  <a:chOff x="5630040" y="2057400"/>
                  <a:chExt cx="209520" cy="560880"/>
                </a:xfrm>
              </p:grpSpPr>
              <p:sp>
                <p:nvSpPr>
                  <p:cNvPr id="3507" name=""/>
                  <p:cNvSpPr/>
                  <p:nvPr/>
                </p:nvSpPr>
                <p:spPr>
                  <a:xfrm>
                    <a:off x="5630040" y="2057400"/>
                    <a:ext cx="209520" cy="560880"/>
                  </a:xfrm>
                  <a:prstGeom prst="rect">
                    <a:avLst/>
                  </a:prstGeom>
                  <a:solidFill>
                    <a:srgbClr val="ff8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8" name=""/>
                  <p:cNvSpPr/>
                  <p:nvPr/>
                </p:nvSpPr>
                <p:spPr>
                  <a:xfrm>
                    <a:off x="5661720" y="2071440"/>
                    <a:ext cx="14508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547" h="496">
                        <a:moveTo>
                          <a:pt x="0" y="171"/>
                        </a:moveTo>
                        <a:lnTo>
                          <a:pt x="1" y="155"/>
                        </a:lnTo>
                        <a:lnTo>
                          <a:pt x="5" y="139"/>
                        </a:lnTo>
                        <a:lnTo>
                          <a:pt x="12" y="124"/>
                        </a:lnTo>
                        <a:lnTo>
                          <a:pt x="21" y="110"/>
                        </a:lnTo>
                        <a:lnTo>
                          <a:pt x="28" y="99"/>
                        </a:lnTo>
                        <a:lnTo>
                          <a:pt x="37" y="88"/>
                        </a:lnTo>
                        <a:lnTo>
                          <a:pt x="48" y="76"/>
                        </a:lnTo>
                        <a:lnTo>
                          <a:pt x="63" y="63"/>
                        </a:lnTo>
                        <a:lnTo>
                          <a:pt x="80" y="52"/>
                        </a:lnTo>
                        <a:lnTo>
                          <a:pt x="102" y="40"/>
                        </a:lnTo>
                        <a:lnTo>
                          <a:pt x="123" y="30"/>
                        </a:lnTo>
                        <a:lnTo>
                          <a:pt x="149" y="21"/>
                        </a:lnTo>
                        <a:lnTo>
                          <a:pt x="172" y="14"/>
                        </a:lnTo>
                        <a:lnTo>
                          <a:pt x="200" y="8"/>
                        </a:lnTo>
                        <a:lnTo>
                          <a:pt x="224" y="4"/>
                        </a:lnTo>
                        <a:lnTo>
                          <a:pt x="244" y="3"/>
                        </a:lnTo>
                        <a:lnTo>
                          <a:pt x="267" y="0"/>
                        </a:lnTo>
                        <a:lnTo>
                          <a:pt x="292" y="0"/>
                        </a:lnTo>
                        <a:lnTo>
                          <a:pt x="310" y="3"/>
                        </a:lnTo>
                        <a:lnTo>
                          <a:pt x="330" y="5"/>
                        </a:lnTo>
                        <a:lnTo>
                          <a:pt x="352" y="9"/>
                        </a:lnTo>
                        <a:lnTo>
                          <a:pt x="372" y="14"/>
                        </a:lnTo>
                        <a:lnTo>
                          <a:pt x="393" y="20"/>
                        </a:lnTo>
                        <a:lnTo>
                          <a:pt x="412" y="27"/>
                        </a:lnTo>
                        <a:lnTo>
                          <a:pt x="432" y="36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1" y="58"/>
                        </a:lnTo>
                        <a:lnTo>
                          <a:pt x="484" y="67"/>
                        </a:lnTo>
                        <a:lnTo>
                          <a:pt x="496" y="77"/>
                        </a:lnTo>
                        <a:lnTo>
                          <a:pt x="508" y="90"/>
                        </a:lnTo>
                        <a:lnTo>
                          <a:pt x="518" y="102"/>
                        </a:lnTo>
                        <a:lnTo>
                          <a:pt x="526" y="113"/>
                        </a:lnTo>
                        <a:lnTo>
                          <a:pt x="533" y="123"/>
                        </a:lnTo>
                        <a:lnTo>
                          <a:pt x="538" y="134"/>
                        </a:lnTo>
                        <a:lnTo>
                          <a:pt x="543" y="145"/>
                        </a:lnTo>
                        <a:lnTo>
                          <a:pt x="547" y="160"/>
                        </a:lnTo>
                        <a:lnTo>
                          <a:pt x="547" y="496"/>
                        </a:lnTo>
                        <a:lnTo>
                          <a:pt x="1" y="494"/>
                        </a:lnTo>
                        <a:lnTo>
                          <a:pt x="0" y="171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9" name=""/>
                  <p:cNvSpPr/>
                  <p:nvPr/>
                </p:nvSpPr>
                <p:spPr>
                  <a:xfrm>
                    <a:off x="5661720" y="2079360"/>
                    <a:ext cx="14508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547" h="495">
                        <a:moveTo>
                          <a:pt x="0" y="169"/>
                        </a:moveTo>
                        <a:lnTo>
                          <a:pt x="1" y="155"/>
                        </a:lnTo>
                        <a:lnTo>
                          <a:pt x="5" y="138"/>
                        </a:lnTo>
                        <a:lnTo>
                          <a:pt x="12" y="124"/>
                        </a:lnTo>
                        <a:lnTo>
                          <a:pt x="21" y="109"/>
                        </a:lnTo>
                        <a:lnTo>
                          <a:pt x="28" y="98"/>
                        </a:lnTo>
                        <a:lnTo>
                          <a:pt x="37" y="87"/>
                        </a:lnTo>
                        <a:lnTo>
                          <a:pt x="48" y="75"/>
                        </a:lnTo>
                        <a:lnTo>
                          <a:pt x="63" y="63"/>
                        </a:lnTo>
                        <a:lnTo>
                          <a:pt x="80" y="52"/>
                        </a:lnTo>
                        <a:lnTo>
                          <a:pt x="102" y="40"/>
                        </a:lnTo>
                        <a:lnTo>
                          <a:pt x="123" y="30"/>
                        </a:lnTo>
                        <a:lnTo>
                          <a:pt x="149" y="21"/>
                        </a:lnTo>
                        <a:lnTo>
                          <a:pt x="172" y="13"/>
                        </a:lnTo>
                        <a:lnTo>
                          <a:pt x="200" y="8"/>
                        </a:lnTo>
                        <a:lnTo>
                          <a:pt x="224" y="3"/>
                        </a:lnTo>
                        <a:lnTo>
                          <a:pt x="244" y="2"/>
                        </a:lnTo>
                        <a:lnTo>
                          <a:pt x="267" y="0"/>
                        </a:lnTo>
                        <a:lnTo>
                          <a:pt x="292" y="0"/>
                        </a:lnTo>
                        <a:lnTo>
                          <a:pt x="310" y="2"/>
                        </a:lnTo>
                        <a:lnTo>
                          <a:pt x="330" y="4"/>
                        </a:lnTo>
                        <a:lnTo>
                          <a:pt x="352" y="9"/>
                        </a:lnTo>
                        <a:lnTo>
                          <a:pt x="372" y="13"/>
                        </a:lnTo>
                        <a:lnTo>
                          <a:pt x="393" y="20"/>
                        </a:lnTo>
                        <a:lnTo>
                          <a:pt x="412" y="26"/>
                        </a:lnTo>
                        <a:lnTo>
                          <a:pt x="432" y="35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1" y="57"/>
                        </a:lnTo>
                        <a:lnTo>
                          <a:pt x="484" y="66"/>
                        </a:lnTo>
                        <a:lnTo>
                          <a:pt x="496" y="76"/>
                        </a:lnTo>
                        <a:lnTo>
                          <a:pt x="508" y="89"/>
                        </a:lnTo>
                        <a:lnTo>
                          <a:pt x="518" y="102"/>
                        </a:lnTo>
                        <a:lnTo>
                          <a:pt x="526" y="113"/>
                        </a:lnTo>
                        <a:lnTo>
                          <a:pt x="533" y="123"/>
                        </a:lnTo>
                        <a:lnTo>
                          <a:pt x="538" y="134"/>
                        </a:lnTo>
                        <a:lnTo>
                          <a:pt x="543" y="145"/>
                        </a:lnTo>
                        <a:lnTo>
                          <a:pt x="547" y="158"/>
                        </a:lnTo>
                        <a:lnTo>
                          <a:pt x="547" y="495"/>
                        </a:lnTo>
                        <a:lnTo>
                          <a:pt x="1" y="493"/>
                        </a:lnTo>
                        <a:lnTo>
                          <a:pt x="0" y="169"/>
                        </a:lnTo>
                        <a:close/>
                      </a:path>
                    </a:pathLst>
                  </a:cu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0" name=""/>
                  <p:cNvSpPr/>
                  <p:nvPr/>
                </p:nvSpPr>
                <p:spPr>
                  <a:xfrm>
                    <a:off x="5671080" y="2085840"/>
                    <a:ext cx="123840" cy="139680"/>
                  </a:xfrm>
                  <a:prstGeom prst="ellipse">
                    <a:avLst/>
                  </a:prstGeom>
                  <a:solidFill>
                    <a:srgbClr val="ff404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11" name=""/>
                  <p:cNvGrpSpPr/>
                  <p:nvPr/>
                </p:nvGrpSpPr>
                <p:grpSpPr>
                  <a:xfrm>
                    <a:off x="5741280" y="2099520"/>
                    <a:ext cx="21960" cy="22320"/>
                    <a:chOff x="5741280" y="2099520"/>
                    <a:chExt cx="21960" cy="22320"/>
                  </a:xfrm>
                </p:grpSpPr>
                <p:sp>
                  <p:nvSpPr>
                    <p:cNvPr id="3512" name=""/>
                    <p:cNvSpPr/>
                    <p:nvPr/>
                  </p:nvSpPr>
                  <p:spPr>
                    <a:xfrm>
                      <a:off x="5741280" y="2099520"/>
                      <a:ext cx="14040" cy="15840"/>
                    </a:xfrm>
                    <a:prstGeom prst="ellipse">
                      <a:avLst/>
                    </a:prstGeom>
                    <a:solidFill>
                      <a:srgbClr val="ff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3" name=""/>
                    <p:cNvSpPr/>
                    <p:nvPr/>
                  </p:nvSpPr>
                  <p:spPr>
                    <a:xfrm>
                      <a:off x="5752080" y="2108880"/>
                      <a:ext cx="11160" cy="12960"/>
                    </a:xfrm>
                    <a:prstGeom prst="ellipse">
                      <a:avLst/>
                    </a:prstGeom>
                    <a:solidFill>
                      <a:srgbClr val="ff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14" name=""/>
                  <p:cNvSpPr/>
                  <p:nvPr/>
                </p:nvSpPr>
                <p:spPr>
                  <a:xfrm>
                    <a:off x="5657760" y="2259000"/>
                    <a:ext cx="14508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8" h="496">
                        <a:moveTo>
                          <a:pt x="0" y="171"/>
                        </a:moveTo>
                        <a:lnTo>
                          <a:pt x="1" y="155"/>
                        </a:lnTo>
                        <a:lnTo>
                          <a:pt x="6" y="139"/>
                        </a:lnTo>
                        <a:lnTo>
                          <a:pt x="12" y="124"/>
                        </a:lnTo>
                        <a:lnTo>
                          <a:pt x="21" y="110"/>
                        </a:lnTo>
                        <a:lnTo>
                          <a:pt x="29" y="99"/>
                        </a:lnTo>
                        <a:lnTo>
                          <a:pt x="38" y="88"/>
                        </a:lnTo>
                        <a:lnTo>
                          <a:pt x="49" y="75"/>
                        </a:lnTo>
                        <a:lnTo>
                          <a:pt x="63" y="63"/>
                        </a:lnTo>
                        <a:lnTo>
                          <a:pt x="81" y="52"/>
                        </a:lnTo>
                        <a:lnTo>
                          <a:pt x="103" y="40"/>
                        </a:lnTo>
                        <a:lnTo>
                          <a:pt x="124" y="30"/>
                        </a:lnTo>
                        <a:lnTo>
                          <a:pt x="150" y="21"/>
                        </a:lnTo>
                        <a:lnTo>
                          <a:pt x="174" y="14"/>
                        </a:lnTo>
                        <a:lnTo>
                          <a:pt x="200" y="8"/>
                        </a:lnTo>
                        <a:lnTo>
                          <a:pt x="225" y="4"/>
                        </a:lnTo>
                        <a:lnTo>
                          <a:pt x="245" y="3"/>
                        </a:lnTo>
                        <a:lnTo>
                          <a:pt x="268" y="0"/>
                        </a:lnTo>
                        <a:lnTo>
                          <a:pt x="292" y="0"/>
                        </a:lnTo>
                        <a:lnTo>
                          <a:pt x="311" y="3"/>
                        </a:lnTo>
                        <a:lnTo>
                          <a:pt x="331" y="5"/>
                        </a:lnTo>
                        <a:lnTo>
                          <a:pt x="353" y="9"/>
                        </a:lnTo>
                        <a:lnTo>
                          <a:pt x="373" y="14"/>
                        </a:lnTo>
                        <a:lnTo>
                          <a:pt x="394" y="20"/>
                        </a:lnTo>
                        <a:lnTo>
                          <a:pt x="413" y="27"/>
                        </a:lnTo>
                        <a:lnTo>
                          <a:pt x="433" y="36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1" y="58"/>
                        </a:lnTo>
                        <a:lnTo>
                          <a:pt x="485" y="67"/>
                        </a:lnTo>
                        <a:lnTo>
                          <a:pt x="497" y="77"/>
                        </a:lnTo>
                        <a:lnTo>
                          <a:pt x="509" y="90"/>
                        </a:lnTo>
                        <a:lnTo>
                          <a:pt x="519" y="102"/>
                        </a:lnTo>
                        <a:lnTo>
                          <a:pt x="527" y="113"/>
                        </a:lnTo>
                        <a:lnTo>
                          <a:pt x="533" y="123"/>
                        </a:lnTo>
                        <a:lnTo>
                          <a:pt x="539" y="134"/>
                        </a:lnTo>
                        <a:lnTo>
                          <a:pt x="543" y="145"/>
                        </a:lnTo>
                        <a:lnTo>
                          <a:pt x="548" y="160"/>
                        </a:lnTo>
                        <a:lnTo>
                          <a:pt x="548" y="496"/>
                        </a:lnTo>
                        <a:lnTo>
                          <a:pt x="1" y="493"/>
                        </a:lnTo>
                        <a:lnTo>
                          <a:pt x="0" y="171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5" name=""/>
                  <p:cNvSpPr/>
                  <p:nvPr/>
                </p:nvSpPr>
                <p:spPr>
                  <a:xfrm>
                    <a:off x="5658480" y="2265120"/>
                    <a:ext cx="14436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548" h="496">
                        <a:moveTo>
                          <a:pt x="0" y="171"/>
                        </a:moveTo>
                        <a:lnTo>
                          <a:pt x="1" y="155"/>
                        </a:lnTo>
                        <a:lnTo>
                          <a:pt x="6" y="139"/>
                        </a:lnTo>
                        <a:lnTo>
                          <a:pt x="12" y="124"/>
                        </a:lnTo>
                        <a:lnTo>
                          <a:pt x="21" y="110"/>
                        </a:lnTo>
                        <a:lnTo>
                          <a:pt x="29" y="99"/>
                        </a:lnTo>
                        <a:lnTo>
                          <a:pt x="38" y="88"/>
                        </a:lnTo>
                        <a:lnTo>
                          <a:pt x="49" y="75"/>
                        </a:lnTo>
                        <a:lnTo>
                          <a:pt x="63" y="63"/>
                        </a:lnTo>
                        <a:lnTo>
                          <a:pt x="81" y="52"/>
                        </a:lnTo>
                        <a:lnTo>
                          <a:pt x="103" y="40"/>
                        </a:lnTo>
                        <a:lnTo>
                          <a:pt x="124" y="30"/>
                        </a:lnTo>
                        <a:lnTo>
                          <a:pt x="150" y="21"/>
                        </a:lnTo>
                        <a:lnTo>
                          <a:pt x="174" y="14"/>
                        </a:lnTo>
                        <a:lnTo>
                          <a:pt x="201" y="8"/>
                        </a:lnTo>
                        <a:lnTo>
                          <a:pt x="225" y="4"/>
                        </a:lnTo>
                        <a:lnTo>
                          <a:pt x="245" y="3"/>
                        </a:lnTo>
                        <a:lnTo>
                          <a:pt x="268" y="0"/>
                        </a:lnTo>
                        <a:lnTo>
                          <a:pt x="292" y="0"/>
                        </a:lnTo>
                        <a:lnTo>
                          <a:pt x="311" y="3"/>
                        </a:lnTo>
                        <a:lnTo>
                          <a:pt x="331" y="5"/>
                        </a:lnTo>
                        <a:lnTo>
                          <a:pt x="353" y="9"/>
                        </a:lnTo>
                        <a:lnTo>
                          <a:pt x="373" y="14"/>
                        </a:lnTo>
                        <a:lnTo>
                          <a:pt x="394" y="20"/>
                        </a:lnTo>
                        <a:lnTo>
                          <a:pt x="413" y="27"/>
                        </a:lnTo>
                        <a:lnTo>
                          <a:pt x="433" y="36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2" y="58"/>
                        </a:lnTo>
                        <a:lnTo>
                          <a:pt x="485" y="67"/>
                        </a:lnTo>
                        <a:lnTo>
                          <a:pt x="497" y="77"/>
                        </a:lnTo>
                        <a:lnTo>
                          <a:pt x="509" y="90"/>
                        </a:lnTo>
                        <a:lnTo>
                          <a:pt x="519" y="102"/>
                        </a:lnTo>
                        <a:lnTo>
                          <a:pt x="527" y="113"/>
                        </a:lnTo>
                        <a:lnTo>
                          <a:pt x="534" y="123"/>
                        </a:lnTo>
                        <a:lnTo>
                          <a:pt x="539" y="134"/>
                        </a:lnTo>
                        <a:lnTo>
                          <a:pt x="543" y="145"/>
                        </a:lnTo>
                        <a:lnTo>
                          <a:pt x="548" y="160"/>
                        </a:lnTo>
                        <a:lnTo>
                          <a:pt x="548" y="496"/>
                        </a:lnTo>
                        <a:lnTo>
                          <a:pt x="1" y="493"/>
                        </a:lnTo>
                        <a:lnTo>
                          <a:pt x="0" y="171"/>
                        </a:lnTo>
                        <a:close/>
                      </a:path>
                    </a:pathLst>
                  </a:cu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6" name=""/>
                  <p:cNvSpPr/>
                  <p:nvPr/>
                </p:nvSpPr>
                <p:spPr>
                  <a:xfrm>
                    <a:off x="5667840" y="2271240"/>
                    <a:ext cx="123840" cy="140400"/>
                  </a:xfrm>
                  <a:prstGeom prst="ellipse">
                    <a:avLst/>
                  </a:prstGeom>
                  <a:solidFill>
                    <a:srgbClr val="e0e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17" name=""/>
                  <p:cNvGrpSpPr/>
                  <p:nvPr/>
                </p:nvGrpSpPr>
                <p:grpSpPr>
                  <a:xfrm>
                    <a:off x="5738040" y="2284920"/>
                    <a:ext cx="21960" cy="22320"/>
                    <a:chOff x="5738040" y="2284920"/>
                    <a:chExt cx="21960" cy="22320"/>
                  </a:xfrm>
                </p:grpSpPr>
                <p:sp>
                  <p:nvSpPr>
                    <p:cNvPr id="3518" name=""/>
                    <p:cNvSpPr/>
                    <p:nvPr/>
                  </p:nvSpPr>
                  <p:spPr>
                    <a:xfrm>
                      <a:off x="5738040" y="2284920"/>
                      <a:ext cx="14040" cy="15840"/>
                    </a:xfrm>
                    <a:prstGeom prst="ellipse">
                      <a:avLst/>
                    </a:prstGeom>
                    <a:solidFill>
                      <a:srgbClr val="ffff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9" name=""/>
                    <p:cNvSpPr/>
                    <p:nvPr/>
                  </p:nvSpPr>
                  <p:spPr>
                    <a:xfrm>
                      <a:off x="5749200" y="2295000"/>
                      <a:ext cx="10800" cy="12240"/>
                    </a:xfrm>
                    <a:prstGeom prst="ellipse">
                      <a:avLst/>
                    </a:prstGeom>
                    <a:solidFill>
                      <a:srgbClr val="ffff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20" name=""/>
                  <p:cNvGrpSpPr/>
                  <p:nvPr/>
                </p:nvGrpSpPr>
                <p:grpSpPr>
                  <a:xfrm>
                    <a:off x="5661720" y="2436120"/>
                    <a:ext cx="145080" cy="153000"/>
                    <a:chOff x="5661720" y="2436120"/>
                    <a:chExt cx="145080" cy="153000"/>
                  </a:xfrm>
                </p:grpSpPr>
                <p:sp>
                  <p:nvSpPr>
                    <p:cNvPr id="3521" name=""/>
                    <p:cNvSpPr/>
                    <p:nvPr/>
                  </p:nvSpPr>
                  <p:spPr>
                    <a:xfrm>
                      <a:off x="5661720" y="2436120"/>
                      <a:ext cx="145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8" h="494">
                          <a:moveTo>
                            <a:pt x="0" y="169"/>
                          </a:moveTo>
                          <a:lnTo>
                            <a:pt x="2" y="154"/>
                          </a:lnTo>
                          <a:lnTo>
                            <a:pt x="6" y="137"/>
                          </a:lnTo>
                          <a:lnTo>
                            <a:pt x="13" y="123"/>
                          </a:lnTo>
                          <a:lnTo>
                            <a:pt x="21" y="108"/>
                          </a:lnTo>
                          <a:lnTo>
                            <a:pt x="29" y="97"/>
                          </a:lnTo>
                          <a:lnTo>
                            <a:pt x="38" y="86"/>
                          </a:lnTo>
                          <a:lnTo>
                            <a:pt x="49" y="74"/>
                          </a:lnTo>
                          <a:lnTo>
                            <a:pt x="63" y="63"/>
                          </a:lnTo>
                          <a:lnTo>
                            <a:pt x="81" y="52"/>
                          </a:lnTo>
                          <a:lnTo>
                            <a:pt x="103" y="40"/>
                          </a:lnTo>
                          <a:lnTo>
                            <a:pt x="124" y="30"/>
                          </a:lnTo>
                          <a:lnTo>
                            <a:pt x="150" y="21"/>
                          </a:lnTo>
                          <a:lnTo>
                            <a:pt x="174" y="13"/>
                          </a:lnTo>
                          <a:lnTo>
                            <a:pt x="201" y="8"/>
                          </a:lnTo>
                          <a:lnTo>
                            <a:pt x="225" y="3"/>
                          </a:lnTo>
                          <a:lnTo>
                            <a:pt x="245" y="2"/>
                          </a:lnTo>
                          <a:lnTo>
                            <a:pt x="268" y="0"/>
                          </a:lnTo>
                          <a:lnTo>
                            <a:pt x="293" y="0"/>
                          </a:lnTo>
                          <a:lnTo>
                            <a:pt x="311" y="2"/>
                          </a:lnTo>
                          <a:lnTo>
                            <a:pt x="331" y="4"/>
                          </a:lnTo>
                          <a:lnTo>
                            <a:pt x="353" y="9"/>
                          </a:lnTo>
                          <a:lnTo>
                            <a:pt x="373" y="13"/>
                          </a:lnTo>
                          <a:lnTo>
                            <a:pt x="394" y="20"/>
                          </a:lnTo>
                          <a:lnTo>
                            <a:pt x="413" y="26"/>
                          </a:lnTo>
                          <a:lnTo>
                            <a:pt x="433" y="35"/>
                          </a:lnTo>
                          <a:lnTo>
                            <a:pt x="447" y="42"/>
                          </a:lnTo>
                          <a:lnTo>
                            <a:pt x="460" y="50"/>
                          </a:lnTo>
                          <a:lnTo>
                            <a:pt x="472" y="57"/>
                          </a:lnTo>
                          <a:lnTo>
                            <a:pt x="485" y="66"/>
                          </a:lnTo>
                          <a:lnTo>
                            <a:pt x="497" y="75"/>
                          </a:lnTo>
                          <a:lnTo>
                            <a:pt x="509" y="88"/>
                          </a:lnTo>
                          <a:lnTo>
                            <a:pt x="519" y="101"/>
                          </a:lnTo>
                          <a:lnTo>
                            <a:pt x="527" y="112"/>
                          </a:lnTo>
                          <a:lnTo>
                            <a:pt x="534" y="122"/>
                          </a:lnTo>
                          <a:lnTo>
                            <a:pt x="539" y="133"/>
                          </a:lnTo>
                          <a:lnTo>
                            <a:pt x="544" y="144"/>
                          </a:lnTo>
                          <a:lnTo>
                            <a:pt x="548" y="158"/>
                          </a:lnTo>
                          <a:lnTo>
                            <a:pt x="548" y="494"/>
                          </a:lnTo>
                          <a:lnTo>
                            <a:pt x="2" y="492"/>
                          </a:lnTo>
                          <a:lnTo>
                            <a:pt x="0" y="169"/>
                          </a:lnTo>
                          <a:close/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22" name=""/>
                    <p:cNvGrpSpPr/>
                    <p:nvPr/>
                  </p:nvGrpSpPr>
                  <p:grpSpPr>
                    <a:xfrm>
                      <a:off x="5661720" y="2441520"/>
                      <a:ext cx="145080" cy="147600"/>
                      <a:chOff x="5661720" y="2441520"/>
                      <a:chExt cx="145080" cy="147600"/>
                    </a:xfrm>
                  </p:grpSpPr>
                  <p:sp>
                    <p:nvSpPr>
                      <p:cNvPr id="3523" name=""/>
                      <p:cNvSpPr/>
                      <p:nvPr/>
                    </p:nvSpPr>
                    <p:spPr>
                      <a:xfrm>
                        <a:off x="5661720" y="2441520"/>
                        <a:ext cx="145080" cy="147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7" h="494">
                            <a:moveTo>
                              <a:pt x="0" y="169"/>
                            </a:moveTo>
                            <a:lnTo>
                              <a:pt x="1" y="153"/>
                            </a:lnTo>
                            <a:lnTo>
                              <a:pt x="5" y="137"/>
                            </a:lnTo>
                            <a:lnTo>
                              <a:pt x="12" y="122"/>
                            </a:lnTo>
                            <a:lnTo>
                              <a:pt x="21" y="108"/>
                            </a:lnTo>
                            <a:lnTo>
                              <a:pt x="28" y="97"/>
                            </a:lnTo>
                            <a:lnTo>
                              <a:pt x="37" y="86"/>
                            </a:lnTo>
                            <a:lnTo>
                              <a:pt x="48" y="74"/>
                            </a:lnTo>
                            <a:lnTo>
                              <a:pt x="63" y="62"/>
                            </a:lnTo>
                            <a:lnTo>
                              <a:pt x="80" y="50"/>
                            </a:lnTo>
                            <a:lnTo>
                              <a:pt x="102" y="39"/>
                            </a:lnTo>
                            <a:lnTo>
                              <a:pt x="123" y="29"/>
                            </a:lnTo>
                            <a:lnTo>
                              <a:pt x="149" y="21"/>
                            </a:lnTo>
                            <a:lnTo>
                              <a:pt x="172" y="13"/>
                            </a:lnTo>
                            <a:lnTo>
                              <a:pt x="200" y="7"/>
                            </a:lnTo>
                            <a:lnTo>
                              <a:pt x="224" y="3"/>
                            </a:lnTo>
                            <a:lnTo>
                              <a:pt x="244" y="2"/>
                            </a:lnTo>
                            <a:lnTo>
                              <a:pt x="267" y="0"/>
                            </a:lnTo>
                            <a:lnTo>
                              <a:pt x="292" y="0"/>
                            </a:lnTo>
                            <a:lnTo>
                              <a:pt x="310" y="2"/>
                            </a:lnTo>
                            <a:lnTo>
                              <a:pt x="330" y="4"/>
                            </a:lnTo>
                            <a:lnTo>
                              <a:pt x="352" y="8"/>
                            </a:lnTo>
                            <a:lnTo>
                              <a:pt x="372" y="13"/>
                            </a:lnTo>
                            <a:lnTo>
                              <a:pt x="393" y="20"/>
                            </a:lnTo>
                            <a:lnTo>
                              <a:pt x="412" y="26"/>
                            </a:lnTo>
                            <a:lnTo>
                              <a:pt x="432" y="35"/>
                            </a:lnTo>
                            <a:lnTo>
                              <a:pt x="447" y="42"/>
                            </a:lnTo>
                            <a:lnTo>
                              <a:pt x="459" y="49"/>
                            </a:lnTo>
                            <a:lnTo>
                              <a:pt x="471" y="56"/>
                            </a:lnTo>
                            <a:lnTo>
                              <a:pt x="484" y="65"/>
                            </a:lnTo>
                            <a:lnTo>
                              <a:pt x="496" y="75"/>
                            </a:lnTo>
                            <a:lnTo>
                              <a:pt x="508" y="88"/>
                            </a:lnTo>
                            <a:lnTo>
                              <a:pt x="518" y="100"/>
                            </a:lnTo>
                            <a:lnTo>
                              <a:pt x="526" y="111"/>
                            </a:lnTo>
                            <a:lnTo>
                              <a:pt x="533" y="121"/>
                            </a:lnTo>
                            <a:lnTo>
                              <a:pt x="538" y="132"/>
                            </a:lnTo>
                            <a:lnTo>
                              <a:pt x="543" y="143"/>
                            </a:lnTo>
                            <a:lnTo>
                              <a:pt x="547" y="158"/>
                            </a:lnTo>
                            <a:lnTo>
                              <a:pt x="547" y="494"/>
                            </a:lnTo>
                            <a:lnTo>
                              <a:pt x="1" y="492"/>
                            </a:lnTo>
                            <a:lnTo>
                              <a:pt x="0" y="169"/>
                            </a:lnTo>
                            <a:close/>
                          </a:path>
                        </a:pathLst>
                      </a:custGeom>
                      <a:solidFill>
                        <a:srgbClr val="e07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4" name=""/>
                      <p:cNvSpPr/>
                      <p:nvPr/>
                    </p:nvSpPr>
                    <p:spPr>
                      <a:xfrm>
                        <a:off x="5671080" y="2447280"/>
                        <a:ext cx="123840" cy="140040"/>
                      </a:xfrm>
                      <a:prstGeom prst="ellipse">
                        <a:avLst/>
                      </a:prstGeom>
                      <a:solidFill>
                        <a:srgbClr val="00a000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525" name=""/>
                      <p:cNvGrpSpPr/>
                      <p:nvPr/>
                    </p:nvGrpSpPr>
                    <p:grpSpPr>
                      <a:xfrm>
                        <a:off x="5741280" y="2460600"/>
                        <a:ext cx="21960" cy="23040"/>
                        <a:chOff x="5741280" y="2460600"/>
                        <a:chExt cx="21960" cy="23040"/>
                      </a:xfrm>
                    </p:grpSpPr>
                    <p:sp>
                      <p:nvSpPr>
                        <p:cNvPr id="3526" name=""/>
                        <p:cNvSpPr/>
                        <p:nvPr/>
                      </p:nvSpPr>
                      <p:spPr>
                        <a:xfrm>
                          <a:off x="5741280" y="2460600"/>
                          <a:ext cx="14040" cy="16560"/>
                        </a:xfrm>
                        <a:prstGeom prst="ellipse">
                          <a:avLst/>
                        </a:prstGeom>
                        <a:solidFill>
                          <a:srgbClr val="80ff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560" bIns="-34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27" name=""/>
                        <p:cNvSpPr/>
                        <p:nvPr/>
                      </p:nvSpPr>
                      <p:spPr>
                        <a:xfrm>
                          <a:off x="5752080" y="2470680"/>
                          <a:ext cx="11160" cy="12960"/>
                        </a:xfrm>
                        <a:prstGeom prst="ellipse">
                          <a:avLst/>
                        </a:prstGeom>
                        <a:solidFill>
                          <a:srgbClr val="80ff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3528" name=""/>
                <p:cNvSpPr/>
                <p:nvPr/>
              </p:nvSpPr>
              <p:spPr>
                <a:xfrm>
                  <a:off x="5712120" y="2622240"/>
                  <a:ext cx="43200" cy="47088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9" name=""/>
              <p:cNvSpPr/>
              <p:nvPr/>
            </p:nvSpPr>
            <p:spPr>
              <a:xfrm>
                <a:off x="5670360" y="2082960"/>
                <a:ext cx="132840" cy="141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5663880" y="2266200"/>
                <a:ext cx="132840" cy="141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1" name=""/>
            <p:cNvGrpSpPr/>
            <p:nvPr/>
          </p:nvGrpSpPr>
          <p:grpSpPr>
            <a:xfrm>
              <a:off x="7081920" y="2057400"/>
              <a:ext cx="209520" cy="1035720"/>
              <a:chOff x="7081920" y="2057400"/>
              <a:chExt cx="209520" cy="1035720"/>
            </a:xfrm>
          </p:grpSpPr>
          <p:grpSp>
            <p:nvGrpSpPr>
              <p:cNvPr id="3532" name=""/>
              <p:cNvGrpSpPr/>
              <p:nvPr/>
            </p:nvGrpSpPr>
            <p:grpSpPr>
              <a:xfrm>
                <a:off x="7081920" y="2057400"/>
                <a:ext cx="209520" cy="1035720"/>
                <a:chOff x="7081920" y="2057400"/>
                <a:chExt cx="209520" cy="1035720"/>
              </a:xfrm>
            </p:grpSpPr>
            <p:grpSp>
              <p:nvGrpSpPr>
                <p:cNvPr id="3533" name=""/>
                <p:cNvGrpSpPr/>
                <p:nvPr/>
              </p:nvGrpSpPr>
              <p:grpSpPr>
                <a:xfrm>
                  <a:off x="7081920" y="2057400"/>
                  <a:ext cx="209520" cy="560880"/>
                  <a:chOff x="7081920" y="2057400"/>
                  <a:chExt cx="209520" cy="560880"/>
                </a:xfrm>
              </p:grpSpPr>
              <p:sp>
                <p:nvSpPr>
                  <p:cNvPr id="3534" name=""/>
                  <p:cNvSpPr/>
                  <p:nvPr/>
                </p:nvSpPr>
                <p:spPr>
                  <a:xfrm>
                    <a:off x="7081920" y="2057400"/>
                    <a:ext cx="209520" cy="560880"/>
                  </a:xfrm>
                  <a:prstGeom prst="rect">
                    <a:avLst/>
                  </a:prstGeom>
                  <a:solidFill>
                    <a:srgbClr val="ff8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5" name=""/>
                  <p:cNvSpPr/>
                  <p:nvPr/>
                </p:nvSpPr>
                <p:spPr>
                  <a:xfrm>
                    <a:off x="7113600" y="2071440"/>
                    <a:ext cx="14508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547" h="496">
                        <a:moveTo>
                          <a:pt x="0" y="171"/>
                        </a:moveTo>
                        <a:lnTo>
                          <a:pt x="1" y="155"/>
                        </a:lnTo>
                        <a:lnTo>
                          <a:pt x="5" y="139"/>
                        </a:lnTo>
                        <a:lnTo>
                          <a:pt x="12" y="124"/>
                        </a:lnTo>
                        <a:lnTo>
                          <a:pt x="21" y="110"/>
                        </a:lnTo>
                        <a:lnTo>
                          <a:pt x="28" y="99"/>
                        </a:lnTo>
                        <a:lnTo>
                          <a:pt x="37" y="88"/>
                        </a:lnTo>
                        <a:lnTo>
                          <a:pt x="48" y="76"/>
                        </a:lnTo>
                        <a:lnTo>
                          <a:pt x="63" y="63"/>
                        </a:lnTo>
                        <a:lnTo>
                          <a:pt x="80" y="52"/>
                        </a:lnTo>
                        <a:lnTo>
                          <a:pt x="102" y="40"/>
                        </a:lnTo>
                        <a:lnTo>
                          <a:pt x="123" y="30"/>
                        </a:lnTo>
                        <a:lnTo>
                          <a:pt x="149" y="21"/>
                        </a:lnTo>
                        <a:lnTo>
                          <a:pt x="172" y="14"/>
                        </a:lnTo>
                        <a:lnTo>
                          <a:pt x="200" y="8"/>
                        </a:lnTo>
                        <a:lnTo>
                          <a:pt x="224" y="4"/>
                        </a:lnTo>
                        <a:lnTo>
                          <a:pt x="244" y="3"/>
                        </a:lnTo>
                        <a:lnTo>
                          <a:pt x="267" y="0"/>
                        </a:lnTo>
                        <a:lnTo>
                          <a:pt x="292" y="0"/>
                        </a:lnTo>
                        <a:lnTo>
                          <a:pt x="310" y="3"/>
                        </a:lnTo>
                        <a:lnTo>
                          <a:pt x="330" y="5"/>
                        </a:lnTo>
                        <a:lnTo>
                          <a:pt x="352" y="9"/>
                        </a:lnTo>
                        <a:lnTo>
                          <a:pt x="372" y="14"/>
                        </a:lnTo>
                        <a:lnTo>
                          <a:pt x="393" y="20"/>
                        </a:lnTo>
                        <a:lnTo>
                          <a:pt x="412" y="27"/>
                        </a:lnTo>
                        <a:lnTo>
                          <a:pt x="432" y="36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1" y="58"/>
                        </a:lnTo>
                        <a:lnTo>
                          <a:pt x="484" y="67"/>
                        </a:lnTo>
                        <a:lnTo>
                          <a:pt x="496" y="77"/>
                        </a:lnTo>
                        <a:lnTo>
                          <a:pt x="508" y="90"/>
                        </a:lnTo>
                        <a:lnTo>
                          <a:pt x="518" y="102"/>
                        </a:lnTo>
                        <a:lnTo>
                          <a:pt x="526" y="113"/>
                        </a:lnTo>
                        <a:lnTo>
                          <a:pt x="533" y="123"/>
                        </a:lnTo>
                        <a:lnTo>
                          <a:pt x="538" y="134"/>
                        </a:lnTo>
                        <a:lnTo>
                          <a:pt x="543" y="145"/>
                        </a:lnTo>
                        <a:lnTo>
                          <a:pt x="547" y="160"/>
                        </a:lnTo>
                        <a:lnTo>
                          <a:pt x="547" y="496"/>
                        </a:lnTo>
                        <a:lnTo>
                          <a:pt x="1" y="494"/>
                        </a:lnTo>
                        <a:lnTo>
                          <a:pt x="0" y="171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6" name=""/>
                  <p:cNvSpPr/>
                  <p:nvPr/>
                </p:nvSpPr>
                <p:spPr>
                  <a:xfrm>
                    <a:off x="7113600" y="2079360"/>
                    <a:ext cx="14508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547" h="495">
                        <a:moveTo>
                          <a:pt x="0" y="169"/>
                        </a:moveTo>
                        <a:lnTo>
                          <a:pt x="1" y="155"/>
                        </a:lnTo>
                        <a:lnTo>
                          <a:pt x="5" y="138"/>
                        </a:lnTo>
                        <a:lnTo>
                          <a:pt x="12" y="124"/>
                        </a:lnTo>
                        <a:lnTo>
                          <a:pt x="21" y="109"/>
                        </a:lnTo>
                        <a:lnTo>
                          <a:pt x="28" y="98"/>
                        </a:lnTo>
                        <a:lnTo>
                          <a:pt x="37" y="87"/>
                        </a:lnTo>
                        <a:lnTo>
                          <a:pt x="48" y="75"/>
                        </a:lnTo>
                        <a:lnTo>
                          <a:pt x="63" y="63"/>
                        </a:lnTo>
                        <a:lnTo>
                          <a:pt x="80" y="52"/>
                        </a:lnTo>
                        <a:lnTo>
                          <a:pt x="102" y="40"/>
                        </a:lnTo>
                        <a:lnTo>
                          <a:pt x="123" y="30"/>
                        </a:lnTo>
                        <a:lnTo>
                          <a:pt x="149" y="21"/>
                        </a:lnTo>
                        <a:lnTo>
                          <a:pt x="172" y="13"/>
                        </a:lnTo>
                        <a:lnTo>
                          <a:pt x="200" y="8"/>
                        </a:lnTo>
                        <a:lnTo>
                          <a:pt x="224" y="3"/>
                        </a:lnTo>
                        <a:lnTo>
                          <a:pt x="244" y="2"/>
                        </a:lnTo>
                        <a:lnTo>
                          <a:pt x="267" y="0"/>
                        </a:lnTo>
                        <a:lnTo>
                          <a:pt x="292" y="0"/>
                        </a:lnTo>
                        <a:lnTo>
                          <a:pt x="310" y="2"/>
                        </a:lnTo>
                        <a:lnTo>
                          <a:pt x="330" y="4"/>
                        </a:lnTo>
                        <a:lnTo>
                          <a:pt x="352" y="9"/>
                        </a:lnTo>
                        <a:lnTo>
                          <a:pt x="372" y="13"/>
                        </a:lnTo>
                        <a:lnTo>
                          <a:pt x="393" y="20"/>
                        </a:lnTo>
                        <a:lnTo>
                          <a:pt x="412" y="26"/>
                        </a:lnTo>
                        <a:lnTo>
                          <a:pt x="432" y="35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1" y="57"/>
                        </a:lnTo>
                        <a:lnTo>
                          <a:pt x="484" y="66"/>
                        </a:lnTo>
                        <a:lnTo>
                          <a:pt x="496" y="76"/>
                        </a:lnTo>
                        <a:lnTo>
                          <a:pt x="508" y="89"/>
                        </a:lnTo>
                        <a:lnTo>
                          <a:pt x="518" y="102"/>
                        </a:lnTo>
                        <a:lnTo>
                          <a:pt x="526" y="113"/>
                        </a:lnTo>
                        <a:lnTo>
                          <a:pt x="533" y="123"/>
                        </a:lnTo>
                        <a:lnTo>
                          <a:pt x="538" y="134"/>
                        </a:lnTo>
                        <a:lnTo>
                          <a:pt x="543" y="145"/>
                        </a:lnTo>
                        <a:lnTo>
                          <a:pt x="547" y="158"/>
                        </a:lnTo>
                        <a:lnTo>
                          <a:pt x="547" y="495"/>
                        </a:lnTo>
                        <a:lnTo>
                          <a:pt x="1" y="493"/>
                        </a:lnTo>
                        <a:lnTo>
                          <a:pt x="0" y="169"/>
                        </a:lnTo>
                        <a:close/>
                      </a:path>
                    </a:pathLst>
                  </a:cu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7" name=""/>
                  <p:cNvSpPr/>
                  <p:nvPr/>
                </p:nvSpPr>
                <p:spPr>
                  <a:xfrm>
                    <a:off x="7122960" y="2085840"/>
                    <a:ext cx="123840" cy="139680"/>
                  </a:xfrm>
                  <a:prstGeom prst="ellipse">
                    <a:avLst/>
                  </a:prstGeom>
                  <a:solidFill>
                    <a:srgbClr val="ff404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38" name=""/>
                  <p:cNvGrpSpPr/>
                  <p:nvPr/>
                </p:nvGrpSpPr>
                <p:grpSpPr>
                  <a:xfrm>
                    <a:off x="7193160" y="2099520"/>
                    <a:ext cx="21960" cy="22320"/>
                    <a:chOff x="7193160" y="2099520"/>
                    <a:chExt cx="21960" cy="22320"/>
                  </a:xfrm>
                </p:grpSpPr>
                <p:sp>
                  <p:nvSpPr>
                    <p:cNvPr id="3539" name=""/>
                    <p:cNvSpPr/>
                    <p:nvPr/>
                  </p:nvSpPr>
                  <p:spPr>
                    <a:xfrm>
                      <a:off x="7193160" y="2099520"/>
                      <a:ext cx="14040" cy="15840"/>
                    </a:xfrm>
                    <a:prstGeom prst="ellipse">
                      <a:avLst/>
                    </a:prstGeom>
                    <a:solidFill>
                      <a:srgbClr val="ff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0" name=""/>
                    <p:cNvSpPr/>
                    <p:nvPr/>
                  </p:nvSpPr>
                  <p:spPr>
                    <a:xfrm>
                      <a:off x="7203960" y="2108880"/>
                      <a:ext cx="11160" cy="12960"/>
                    </a:xfrm>
                    <a:prstGeom prst="ellipse">
                      <a:avLst/>
                    </a:prstGeom>
                    <a:solidFill>
                      <a:srgbClr val="ff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41" name=""/>
                  <p:cNvSpPr/>
                  <p:nvPr/>
                </p:nvSpPr>
                <p:spPr>
                  <a:xfrm>
                    <a:off x="7109640" y="2259000"/>
                    <a:ext cx="14508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8" h="496">
                        <a:moveTo>
                          <a:pt x="0" y="171"/>
                        </a:moveTo>
                        <a:lnTo>
                          <a:pt x="1" y="155"/>
                        </a:lnTo>
                        <a:lnTo>
                          <a:pt x="6" y="139"/>
                        </a:lnTo>
                        <a:lnTo>
                          <a:pt x="12" y="124"/>
                        </a:lnTo>
                        <a:lnTo>
                          <a:pt x="21" y="110"/>
                        </a:lnTo>
                        <a:lnTo>
                          <a:pt x="29" y="99"/>
                        </a:lnTo>
                        <a:lnTo>
                          <a:pt x="38" y="88"/>
                        </a:lnTo>
                        <a:lnTo>
                          <a:pt x="49" y="75"/>
                        </a:lnTo>
                        <a:lnTo>
                          <a:pt x="63" y="63"/>
                        </a:lnTo>
                        <a:lnTo>
                          <a:pt x="81" y="52"/>
                        </a:lnTo>
                        <a:lnTo>
                          <a:pt x="103" y="40"/>
                        </a:lnTo>
                        <a:lnTo>
                          <a:pt x="124" y="30"/>
                        </a:lnTo>
                        <a:lnTo>
                          <a:pt x="150" y="21"/>
                        </a:lnTo>
                        <a:lnTo>
                          <a:pt x="174" y="14"/>
                        </a:lnTo>
                        <a:lnTo>
                          <a:pt x="200" y="8"/>
                        </a:lnTo>
                        <a:lnTo>
                          <a:pt x="225" y="4"/>
                        </a:lnTo>
                        <a:lnTo>
                          <a:pt x="245" y="3"/>
                        </a:lnTo>
                        <a:lnTo>
                          <a:pt x="268" y="0"/>
                        </a:lnTo>
                        <a:lnTo>
                          <a:pt x="292" y="0"/>
                        </a:lnTo>
                        <a:lnTo>
                          <a:pt x="311" y="3"/>
                        </a:lnTo>
                        <a:lnTo>
                          <a:pt x="331" y="5"/>
                        </a:lnTo>
                        <a:lnTo>
                          <a:pt x="353" y="9"/>
                        </a:lnTo>
                        <a:lnTo>
                          <a:pt x="373" y="14"/>
                        </a:lnTo>
                        <a:lnTo>
                          <a:pt x="394" y="20"/>
                        </a:lnTo>
                        <a:lnTo>
                          <a:pt x="413" y="27"/>
                        </a:lnTo>
                        <a:lnTo>
                          <a:pt x="433" y="36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1" y="58"/>
                        </a:lnTo>
                        <a:lnTo>
                          <a:pt x="485" y="67"/>
                        </a:lnTo>
                        <a:lnTo>
                          <a:pt x="497" y="77"/>
                        </a:lnTo>
                        <a:lnTo>
                          <a:pt x="509" y="90"/>
                        </a:lnTo>
                        <a:lnTo>
                          <a:pt x="519" y="102"/>
                        </a:lnTo>
                        <a:lnTo>
                          <a:pt x="527" y="113"/>
                        </a:lnTo>
                        <a:lnTo>
                          <a:pt x="533" y="123"/>
                        </a:lnTo>
                        <a:lnTo>
                          <a:pt x="539" y="134"/>
                        </a:lnTo>
                        <a:lnTo>
                          <a:pt x="543" y="145"/>
                        </a:lnTo>
                        <a:lnTo>
                          <a:pt x="548" y="160"/>
                        </a:lnTo>
                        <a:lnTo>
                          <a:pt x="548" y="496"/>
                        </a:lnTo>
                        <a:lnTo>
                          <a:pt x="1" y="493"/>
                        </a:lnTo>
                        <a:lnTo>
                          <a:pt x="0" y="171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2" name=""/>
                  <p:cNvSpPr/>
                  <p:nvPr/>
                </p:nvSpPr>
                <p:spPr>
                  <a:xfrm>
                    <a:off x="7110360" y="2265120"/>
                    <a:ext cx="14436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548" h="496">
                        <a:moveTo>
                          <a:pt x="0" y="171"/>
                        </a:moveTo>
                        <a:lnTo>
                          <a:pt x="1" y="155"/>
                        </a:lnTo>
                        <a:lnTo>
                          <a:pt x="6" y="139"/>
                        </a:lnTo>
                        <a:lnTo>
                          <a:pt x="12" y="124"/>
                        </a:lnTo>
                        <a:lnTo>
                          <a:pt x="21" y="110"/>
                        </a:lnTo>
                        <a:lnTo>
                          <a:pt x="29" y="99"/>
                        </a:lnTo>
                        <a:lnTo>
                          <a:pt x="38" y="88"/>
                        </a:lnTo>
                        <a:lnTo>
                          <a:pt x="49" y="75"/>
                        </a:lnTo>
                        <a:lnTo>
                          <a:pt x="63" y="63"/>
                        </a:lnTo>
                        <a:lnTo>
                          <a:pt x="81" y="52"/>
                        </a:lnTo>
                        <a:lnTo>
                          <a:pt x="103" y="40"/>
                        </a:lnTo>
                        <a:lnTo>
                          <a:pt x="124" y="30"/>
                        </a:lnTo>
                        <a:lnTo>
                          <a:pt x="150" y="21"/>
                        </a:lnTo>
                        <a:lnTo>
                          <a:pt x="174" y="14"/>
                        </a:lnTo>
                        <a:lnTo>
                          <a:pt x="201" y="8"/>
                        </a:lnTo>
                        <a:lnTo>
                          <a:pt x="225" y="4"/>
                        </a:lnTo>
                        <a:lnTo>
                          <a:pt x="245" y="3"/>
                        </a:lnTo>
                        <a:lnTo>
                          <a:pt x="268" y="0"/>
                        </a:lnTo>
                        <a:lnTo>
                          <a:pt x="292" y="0"/>
                        </a:lnTo>
                        <a:lnTo>
                          <a:pt x="311" y="3"/>
                        </a:lnTo>
                        <a:lnTo>
                          <a:pt x="331" y="5"/>
                        </a:lnTo>
                        <a:lnTo>
                          <a:pt x="353" y="9"/>
                        </a:lnTo>
                        <a:lnTo>
                          <a:pt x="373" y="14"/>
                        </a:lnTo>
                        <a:lnTo>
                          <a:pt x="394" y="20"/>
                        </a:lnTo>
                        <a:lnTo>
                          <a:pt x="413" y="27"/>
                        </a:lnTo>
                        <a:lnTo>
                          <a:pt x="433" y="36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2" y="58"/>
                        </a:lnTo>
                        <a:lnTo>
                          <a:pt x="485" y="67"/>
                        </a:lnTo>
                        <a:lnTo>
                          <a:pt x="497" y="77"/>
                        </a:lnTo>
                        <a:lnTo>
                          <a:pt x="509" y="90"/>
                        </a:lnTo>
                        <a:lnTo>
                          <a:pt x="519" y="102"/>
                        </a:lnTo>
                        <a:lnTo>
                          <a:pt x="527" y="113"/>
                        </a:lnTo>
                        <a:lnTo>
                          <a:pt x="534" y="123"/>
                        </a:lnTo>
                        <a:lnTo>
                          <a:pt x="539" y="134"/>
                        </a:lnTo>
                        <a:lnTo>
                          <a:pt x="543" y="145"/>
                        </a:lnTo>
                        <a:lnTo>
                          <a:pt x="548" y="160"/>
                        </a:lnTo>
                        <a:lnTo>
                          <a:pt x="548" y="496"/>
                        </a:lnTo>
                        <a:lnTo>
                          <a:pt x="1" y="493"/>
                        </a:lnTo>
                        <a:lnTo>
                          <a:pt x="0" y="171"/>
                        </a:lnTo>
                        <a:close/>
                      </a:path>
                    </a:pathLst>
                  </a:cu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3" name=""/>
                  <p:cNvSpPr/>
                  <p:nvPr/>
                </p:nvSpPr>
                <p:spPr>
                  <a:xfrm>
                    <a:off x="7119720" y="2271240"/>
                    <a:ext cx="123840" cy="140400"/>
                  </a:xfrm>
                  <a:prstGeom prst="ellipse">
                    <a:avLst/>
                  </a:prstGeom>
                  <a:solidFill>
                    <a:srgbClr val="e0e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44" name=""/>
                  <p:cNvGrpSpPr/>
                  <p:nvPr/>
                </p:nvGrpSpPr>
                <p:grpSpPr>
                  <a:xfrm>
                    <a:off x="7189920" y="2284920"/>
                    <a:ext cx="21960" cy="22320"/>
                    <a:chOff x="7189920" y="2284920"/>
                    <a:chExt cx="21960" cy="22320"/>
                  </a:xfrm>
                </p:grpSpPr>
                <p:sp>
                  <p:nvSpPr>
                    <p:cNvPr id="3545" name=""/>
                    <p:cNvSpPr/>
                    <p:nvPr/>
                  </p:nvSpPr>
                  <p:spPr>
                    <a:xfrm>
                      <a:off x="7189920" y="2284920"/>
                      <a:ext cx="14040" cy="15840"/>
                    </a:xfrm>
                    <a:prstGeom prst="ellipse">
                      <a:avLst/>
                    </a:prstGeom>
                    <a:solidFill>
                      <a:srgbClr val="ffff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6" name=""/>
                    <p:cNvSpPr/>
                    <p:nvPr/>
                  </p:nvSpPr>
                  <p:spPr>
                    <a:xfrm>
                      <a:off x="7201080" y="2295000"/>
                      <a:ext cx="10800" cy="12240"/>
                    </a:xfrm>
                    <a:prstGeom prst="ellipse">
                      <a:avLst/>
                    </a:prstGeom>
                    <a:solidFill>
                      <a:srgbClr val="ffff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47" name=""/>
                  <p:cNvGrpSpPr/>
                  <p:nvPr/>
                </p:nvGrpSpPr>
                <p:grpSpPr>
                  <a:xfrm>
                    <a:off x="7113600" y="2436120"/>
                    <a:ext cx="145080" cy="153000"/>
                    <a:chOff x="7113600" y="2436120"/>
                    <a:chExt cx="145080" cy="153000"/>
                  </a:xfrm>
                </p:grpSpPr>
                <p:sp>
                  <p:nvSpPr>
                    <p:cNvPr id="3548" name=""/>
                    <p:cNvSpPr/>
                    <p:nvPr/>
                  </p:nvSpPr>
                  <p:spPr>
                    <a:xfrm>
                      <a:off x="7113600" y="2436120"/>
                      <a:ext cx="145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8" h="494">
                          <a:moveTo>
                            <a:pt x="0" y="169"/>
                          </a:moveTo>
                          <a:lnTo>
                            <a:pt x="2" y="154"/>
                          </a:lnTo>
                          <a:lnTo>
                            <a:pt x="6" y="137"/>
                          </a:lnTo>
                          <a:lnTo>
                            <a:pt x="13" y="123"/>
                          </a:lnTo>
                          <a:lnTo>
                            <a:pt x="21" y="108"/>
                          </a:lnTo>
                          <a:lnTo>
                            <a:pt x="29" y="97"/>
                          </a:lnTo>
                          <a:lnTo>
                            <a:pt x="38" y="86"/>
                          </a:lnTo>
                          <a:lnTo>
                            <a:pt x="49" y="74"/>
                          </a:lnTo>
                          <a:lnTo>
                            <a:pt x="63" y="63"/>
                          </a:lnTo>
                          <a:lnTo>
                            <a:pt x="81" y="52"/>
                          </a:lnTo>
                          <a:lnTo>
                            <a:pt x="103" y="40"/>
                          </a:lnTo>
                          <a:lnTo>
                            <a:pt x="124" y="30"/>
                          </a:lnTo>
                          <a:lnTo>
                            <a:pt x="150" y="21"/>
                          </a:lnTo>
                          <a:lnTo>
                            <a:pt x="174" y="13"/>
                          </a:lnTo>
                          <a:lnTo>
                            <a:pt x="201" y="8"/>
                          </a:lnTo>
                          <a:lnTo>
                            <a:pt x="225" y="3"/>
                          </a:lnTo>
                          <a:lnTo>
                            <a:pt x="245" y="2"/>
                          </a:lnTo>
                          <a:lnTo>
                            <a:pt x="268" y="0"/>
                          </a:lnTo>
                          <a:lnTo>
                            <a:pt x="293" y="0"/>
                          </a:lnTo>
                          <a:lnTo>
                            <a:pt x="311" y="2"/>
                          </a:lnTo>
                          <a:lnTo>
                            <a:pt x="331" y="4"/>
                          </a:lnTo>
                          <a:lnTo>
                            <a:pt x="353" y="9"/>
                          </a:lnTo>
                          <a:lnTo>
                            <a:pt x="373" y="13"/>
                          </a:lnTo>
                          <a:lnTo>
                            <a:pt x="394" y="20"/>
                          </a:lnTo>
                          <a:lnTo>
                            <a:pt x="413" y="26"/>
                          </a:lnTo>
                          <a:lnTo>
                            <a:pt x="433" y="35"/>
                          </a:lnTo>
                          <a:lnTo>
                            <a:pt x="447" y="42"/>
                          </a:lnTo>
                          <a:lnTo>
                            <a:pt x="460" y="50"/>
                          </a:lnTo>
                          <a:lnTo>
                            <a:pt x="472" y="57"/>
                          </a:lnTo>
                          <a:lnTo>
                            <a:pt x="485" y="66"/>
                          </a:lnTo>
                          <a:lnTo>
                            <a:pt x="497" y="75"/>
                          </a:lnTo>
                          <a:lnTo>
                            <a:pt x="509" y="88"/>
                          </a:lnTo>
                          <a:lnTo>
                            <a:pt x="519" y="101"/>
                          </a:lnTo>
                          <a:lnTo>
                            <a:pt x="527" y="112"/>
                          </a:lnTo>
                          <a:lnTo>
                            <a:pt x="534" y="122"/>
                          </a:lnTo>
                          <a:lnTo>
                            <a:pt x="539" y="133"/>
                          </a:lnTo>
                          <a:lnTo>
                            <a:pt x="544" y="144"/>
                          </a:lnTo>
                          <a:lnTo>
                            <a:pt x="548" y="158"/>
                          </a:lnTo>
                          <a:lnTo>
                            <a:pt x="548" y="494"/>
                          </a:lnTo>
                          <a:lnTo>
                            <a:pt x="2" y="492"/>
                          </a:lnTo>
                          <a:lnTo>
                            <a:pt x="0" y="169"/>
                          </a:lnTo>
                          <a:close/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49" name=""/>
                    <p:cNvGrpSpPr/>
                    <p:nvPr/>
                  </p:nvGrpSpPr>
                  <p:grpSpPr>
                    <a:xfrm>
                      <a:off x="7113600" y="2441520"/>
                      <a:ext cx="145080" cy="147600"/>
                      <a:chOff x="7113600" y="2441520"/>
                      <a:chExt cx="145080" cy="147600"/>
                    </a:xfrm>
                  </p:grpSpPr>
                  <p:sp>
                    <p:nvSpPr>
                      <p:cNvPr id="3550" name=""/>
                      <p:cNvSpPr/>
                      <p:nvPr/>
                    </p:nvSpPr>
                    <p:spPr>
                      <a:xfrm>
                        <a:off x="7113600" y="2441520"/>
                        <a:ext cx="145080" cy="147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7" h="494">
                            <a:moveTo>
                              <a:pt x="0" y="169"/>
                            </a:moveTo>
                            <a:lnTo>
                              <a:pt x="1" y="153"/>
                            </a:lnTo>
                            <a:lnTo>
                              <a:pt x="5" y="137"/>
                            </a:lnTo>
                            <a:lnTo>
                              <a:pt x="12" y="122"/>
                            </a:lnTo>
                            <a:lnTo>
                              <a:pt x="21" y="108"/>
                            </a:lnTo>
                            <a:lnTo>
                              <a:pt x="28" y="97"/>
                            </a:lnTo>
                            <a:lnTo>
                              <a:pt x="37" y="86"/>
                            </a:lnTo>
                            <a:lnTo>
                              <a:pt x="48" y="74"/>
                            </a:lnTo>
                            <a:lnTo>
                              <a:pt x="63" y="62"/>
                            </a:lnTo>
                            <a:lnTo>
                              <a:pt x="80" y="50"/>
                            </a:lnTo>
                            <a:lnTo>
                              <a:pt x="102" y="39"/>
                            </a:lnTo>
                            <a:lnTo>
                              <a:pt x="123" y="29"/>
                            </a:lnTo>
                            <a:lnTo>
                              <a:pt x="149" y="21"/>
                            </a:lnTo>
                            <a:lnTo>
                              <a:pt x="172" y="13"/>
                            </a:lnTo>
                            <a:lnTo>
                              <a:pt x="200" y="7"/>
                            </a:lnTo>
                            <a:lnTo>
                              <a:pt x="224" y="3"/>
                            </a:lnTo>
                            <a:lnTo>
                              <a:pt x="244" y="2"/>
                            </a:lnTo>
                            <a:lnTo>
                              <a:pt x="267" y="0"/>
                            </a:lnTo>
                            <a:lnTo>
                              <a:pt x="292" y="0"/>
                            </a:lnTo>
                            <a:lnTo>
                              <a:pt x="310" y="2"/>
                            </a:lnTo>
                            <a:lnTo>
                              <a:pt x="330" y="4"/>
                            </a:lnTo>
                            <a:lnTo>
                              <a:pt x="352" y="8"/>
                            </a:lnTo>
                            <a:lnTo>
                              <a:pt x="372" y="13"/>
                            </a:lnTo>
                            <a:lnTo>
                              <a:pt x="393" y="20"/>
                            </a:lnTo>
                            <a:lnTo>
                              <a:pt x="412" y="26"/>
                            </a:lnTo>
                            <a:lnTo>
                              <a:pt x="432" y="35"/>
                            </a:lnTo>
                            <a:lnTo>
                              <a:pt x="447" y="42"/>
                            </a:lnTo>
                            <a:lnTo>
                              <a:pt x="459" y="49"/>
                            </a:lnTo>
                            <a:lnTo>
                              <a:pt x="471" y="56"/>
                            </a:lnTo>
                            <a:lnTo>
                              <a:pt x="484" y="65"/>
                            </a:lnTo>
                            <a:lnTo>
                              <a:pt x="496" y="75"/>
                            </a:lnTo>
                            <a:lnTo>
                              <a:pt x="508" y="88"/>
                            </a:lnTo>
                            <a:lnTo>
                              <a:pt x="518" y="100"/>
                            </a:lnTo>
                            <a:lnTo>
                              <a:pt x="526" y="111"/>
                            </a:lnTo>
                            <a:lnTo>
                              <a:pt x="533" y="121"/>
                            </a:lnTo>
                            <a:lnTo>
                              <a:pt x="538" y="132"/>
                            </a:lnTo>
                            <a:lnTo>
                              <a:pt x="543" y="143"/>
                            </a:lnTo>
                            <a:lnTo>
                              <a:pt x="547" y="158"/>
                            </a:lnTo>
                            <a:lnTo>
                              <a:pt x="547" y="494"/>
                            </a:lnTo>
                            <a:lnTo>
                              <a:pt x="1" y="492"/>
                            </a:lnTo>
                            <a:lnTo>
                              <a:pt x="0" y="169"/>
                            </a:lnTo>
                            <a:close/>
                          </a:path>
                        </a:pathLst>
                      </a:custGeom>
                      <a:solidFill>
                        <a:srgbClr val="e07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1" name=""/>
                      <p:cNvSpPr/>
                      <p:nvPr/>
                    </p:nvSpPr>
                    <p:spPr>
                      <a:xfrm>
                        <a:off x="7122960" y="2447280"/>
                        <a:ext cx="123840" cy="140040"/>
                      </a:xfrm>
                      <a:prstGeom prst="ellipse">
                        <a:avLst/>
                      </a:prstGeom>
                      <a:solidFill>
                        <a:srgbClr val="00a000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552" name=""/>
                      <p:cNvGrpSpPr/>
                      <p:nvPr/>
                    </p:nvGrpSpPr>
                    <p:grpSpPr>
                      <a:xfrm>
                        <a:off x="7193160" y="2460600"/>
                        <a:ext cx="21960" cy="23040"/>
                        <a:chOff x="7193160" y="2460600"/>
                        <a:chExt cx="21960" cy="23040"/>
                      </a:xfrm>
                    </p:grpSpPr>
                    <p:sp>
                      <p:nvSpPr>
                        <p:cNvPr id="3553" name=""/>
                        <p:cNvSpPr/>
                        <p:nvPr/>
                      </p:nvSpPr>
                      <p:spPr>
                        <a:xfrm>
                          <a:off x="7193160" y="2460600"/>
                          <a:ext cx="14040" cy="16560"/>
                        </a:xfrm>
                        <a:prstGeom prst="ellipse">
                          <a:avLst/>
                        </a:prstGeom>
                        <a:solidFill>
                          <a:srgbClr val="80ff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560" bIns="-34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4" name=""/>
                        <p:cNvSpPr/>
                        <p:nvPr/>
                      </p:nvSpPr>
                      <p:spPr>
                        <a:xfrm>
                          <a:off x="7203960" y="2470680"/>
                          <a:ext cx="11160" cy="12960"/>
                        </a:xfrm>
                        <a:prstGeom prst="ellipse">
                          <a:avLst/>
                        </a:prstGeom>
                        <a:solidFill>
                          <a:srgbClr val="80ff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3555" name=""/>
                <p:cNvSpPr/>
                <p:nvPr/>
              </p:nvSpPr>
              <p:spPr>
                <a:xfrm>
                  <a:off x="7164000" y="2622240"/>
                  <a:ext cx="43200" cy="4708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56" name=""/>
              <p:cNvSpPr/>
              <p:nvPr/>
            </p:nvSpPr>
            <p:spPr>
              <a:xfrm>
                <a:off x="7124400" y="2446560"/>
                <a:ext cx="132840" cy="141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7120440" y="2269080"/>
                <a:ext cx="132840" cy="141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5" dur="indefinite" restart="never" nodeType="tmRoot">
          <p:childTnLst>
            <p:seq>
              <p:cTn id="5086" dur="indefinite" nodeType="mainSeq">
                <p:childTnLst>
                  <p:par>
                    <p:cTn id="5087" fill="hold">
                      <p:stCondLst>
                        <p:cond delay="indefinite"/>
                      </p:stCondLst>
                      <p:childTnLst>
                        <p:par>
                          <p:cTn id="5088" fill="hold">
                            <p:stCondLst>
                              <p:cond delay="0"/>
                            </p:stCondLst>
                            <p:childTnLst>
                              <p:par>
                                <p:cTn id="50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1" dur="500" fill="hold"/>
                                        <p:tgtEl>
                                          <p:spTgt spid="3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2" dur="500" fill="hold"/>
                                        <p:tgtEl>
                                          <p:spTgt spid="3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3" fill="hold">
                      <p:stCondLst>
                        <p:cond delay="indefinite"/>
                      </p:stCondLst>
                      <p:childTnLst>
                        <p:par>
                          <p:cTn id="5094" fill="hold">
                            <p:stCondLst>
                              <p:cond delay="0"/>
                            </p:stCondLst>
                            <p:childTnLst>
                              <p:par>
                                <p:cTn id="50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7" dur="500"/>
                                        <p:tgtEl>
                                          <p:spTgt spid="3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0" dur="500"/>
                                        <p:tgtEl>
                                          <p:spTgt spid="3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1" fill="hold">
                      <p:stCondLst>
                        <p:cond delay="indefinite"/>
                      </p:stCondLst>
                      <p:childTnLst>
                        <p:par>
                          <p:cTn id="5102" fill="hold">
                            <p:stCondLst>
                              <p:cond delay="0"/>
                            </p:stCondLst>
                            <p:childTnLst>
                              <p:par>
                                <p:cTn id="5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5" dur="500"/>
                                        <p:tgtEl>
                                          <p:spTgt spid="3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8" dur="500"/>
                                        <p:tgtEl>
                                          <p:spTgt spid="3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1" dur="500"/>
                                        <p:tgtEl>
                                          <p:spTgt spid="3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4" dur="500"/>
                                        <p:tgtEl>
                                          <p:spTgt spid="3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Detection &amp; Reco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neither prevention, nor avoidanc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0" name=""/>
          <p:cNvGraphicFramePr/>
          <p:nvPr/>
        </p:nvGraphicFramePr>
        <p:xfrm>
          <a:off x="4038480" y="2209680"/>
          <a:ext cx="180036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209680"/>
                    <a:ext cx="180036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2" name=""/>
          <p:cNvGraphicFramePr/>
          <p:nvPr/>
        </p:nvGraphicFramePr>
        <p:xfrm>
          <a:off x="1981080" y="4038480"/>
          <a:ext cx="2895840" cy="210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038480"/>
                    <a:ext cx="2895840" cy="21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4" name=""/>
          <p:cNvSpPr/>
          <p:nvPr/>
        </p:nvSpPr>
        <p:spPr>
          <a:xfrm>
            <a:off x="5109120" y="340848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4194360" y="554184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5" dur="indefinite" restart="never" nodeType="tmRoot">
          <p:childTnLst>
            <p:seq>
              <p:cTn id="5116" dur="indefinite" nodeType="mainSeq">
                <p:childTnLst>
                  <p:par>
                    <p:cTn id="5117" fill="hold">
                      <p:stCondLst>
                        <p:cond delay="indefinite"/>
                      </p:stCondLst>
                      <p:childTnLst>
                        <p:par>
                          <p:cTn id="5118" fill="hold">
                            <p:stCondLst>
                              <p:cond delay="0"/>
                            </p:stCondLst>
                            <p:childTnLst>
                              <p:par>
                                <p:cTn id="51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1" dur="500" fill="hold"/>
                                        <p:tgtEl>
                                          <p:spTgt spid="3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2" dur="500" fill="hold"/>
                                        <p:tgtEl>
                                          <p:spTgt spid="3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3" dur="500" fill="hold"/>
                                        <p:tgtEl>
                                          <p:spTgt spid="3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4" dur="500" fill="hold"/>
                                        <p:tgtEl>
                                          <p:spTgt spid="3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5" fill="hold">
                            <p:stCondLst>
                              <p:cond delay="500"/>
                            </p:stCondLst>
                            <p:childTnLst>
                              <p:par>
                                <p:cTn id="51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28" dur="500"/>
                                        <p:tgtEl>
                                          <p:spTgt spid="3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9" fill="hold">
                      <p:stCondLst>
                        <p:cond delay="indefinite"/>
                      </p:stCondLst>
                      <p:childTnLst>
                        <p:par>
                          <p:cTn id="5130" fill="hold">
                            <p:stCondLst>
                              <p:cond delay="0"/>
                            </p:stCondLst>
                            <p:childTnLst>
                              <p:par>
                                <p:cTn id="51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3" dur="500" fill="hold"/>
                                        <p:tgtEl>
                                          <p:spTgt spid="3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4" dur="500" fill="hold"/>
                                        <p:tgtEl>
                                          <p:spTgt spid="3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5" fill="hold">
                            <p:stCondLst>
                              <p:cond delay="500"/>
                            </p:stCondLst>
                            <p:childTnLst>
                              <p:par>
                                <p:cTn id="51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38" dur="500"/>
                                        <p:tgtEl>
                                          <p:spTgt spid="3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2971800"/>
            <a:ext cx="3886200" cy="243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3276720"/>
            <a:ext cx="990720" cy="533160"/>
          </a:xfrm>
          <a:prstGeom prst="ellipse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4038480"/>
            <a:ext cx="990720" cy="533520"/>
          </a:xfrm>
          <a:prstGeom prst="ellipse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4648320"/>
            <a:ext cx="990720" cy="533160"/>
          </a:xfrm>
          <a:prstGeom prst="ellipse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3505320"/>
            <a:ext cx="990720" cy="533160"/>
          </a:xfrm>
          <a:prstGeom prst="ellipse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02240" y="2784600"/>
            <a:ext cx="3032280" cy="398880"/>
          </a:xfrm>
          <a:prstGeom prst="borderCallout1">
            <a:avLst>
              <a:gd name="adj1" fmla="val 18750"/>
              <a:gd name="adj2" fmla="val -8333"/>
              <a:gd name="adj3" fmla="val 238861"/>
              <a:gd name="adj4" fmla="val -38314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ing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3581280"/>
            <a:ext cx="3048120" cy="70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vent which can only be caused by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4114800"/>
            <a:ext cx="4343400" cy="965160"/>
          </a:xfrm>
          <a:custGeom>
            <a:avLst/>
            <a:gdLst/>
            <a:ahLst/>
            <a:rect l="l" t="t" r="r" b="b"/>
            <a:pathLst>
              <a:path w="2328" h="608">
                <a:moveTo>
                  <a:pt x="2160" y="0"/>
                </a:moveTo>
                <a:cubicBezTo>
                  <a:pt x="2244" y="224"/>
                  <a:pt x="2328" y="448"/>
                  <a:pt x="1968" y="528"/>
                </a:cubicBezTo>
                <a:cubicBezTo>
                  <a:pt x="1608" y="608"/>
                  <a:pt x="804" y="544"/>
                  <a:pt x="0" y="48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6080" y="4876920"/>
            <a:ext cx="1715400" cy="58140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De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7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rith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nstance / typ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cle Det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8" name=""/>
          <p:cNvGraphicFramePr/>
          <p:nvPr/>
        </p:nvGraphicFramePr>
        <p:xfrm>
          <a:off x="3124080" y="1676520"/>
          <a:ext cx="115596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11559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0" name=""/>
          <p:cNvSpPr/>
          <p:nvPr/>
        </p:nvSpPr>
        <p:spPr>
          <a:xfrm>
            <a:off x="4829040" y="297180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ait-for-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685800" y="41148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nstance(s) /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4801680" y="4343400"/>
            <a:ext cx="371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tec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nker´s Algorithm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9" dur="indefinite" restart="never" nodeType="tmRoot">
          <p:childTnLst>
            <p:seq>
              <p:cTn id="5140" dur="indefinite" nodeType="mainSeq">
                <p:childTnLst>
                  <p:par>
                    <p:cTn id="5141" fill="hold">
                      <p:stCondLst>
                        <p:cond delay="indefinite"/>
                      </p:stCondLst>
                      <p:childTnLst>
                        <p:par>
                          <p:cTn id="5142" fill="hold">
                            <p:stCondLst>
                              <p:cond delay="0"/>
                            </p:stCondLst>
                            <p:childTnLst>
                              <p:par>
                                <p:cTn id="5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5" dur="500" fill="hold"/>
                                        <p:tgtEl>
                                          <p:spTgt spid="3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6" dur="500" fill="hold"/>
                                        <p:tgtEl>
                                          <p:spTgt spid="3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7" dur="500" fill="hold"/>
                                        <p:tgtEl>
                                          <p:spTgt spid="3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8" dur="500" fill="hold"/>
                                        <p:tgtEl>
                                          <p:spTgt spid="3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9" fill="hold">
                      <p:stCondLst>
                        <p:cond delay="indefinite"/>
                      </p:stCondLst>
                      <p:childTnLst>
                        <p:par>
                          <p:cTn id="5150" fill="hold">
                            <p:stCondLst>
                              <p:cond delay="0"/>
                            </p:stCondLst>
                            <p:childTnLst>
                              <p:par>
                                <p:cTn id="5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3" dur="500"/>
                                        <p:tgtEl>
                                          <p:spTgt spid="3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4" fill="hold">
                      <p:stCondLst>
                        <p:cond delay="indefinite"/>
                      </p:stCondLst>
                      <p:childTnLst>
                        <p:par>
                          <p:cTn id="5155" fill="hold">
                            <p:stCondLst>
                              <p:cond delay="0"/>
                            </p:stCondLst>
                            <p:childTnLst>
                              <p:par>
                                <p:cTn id="5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8" dur="500"/>
                                        <p:tgtEl>
                                          <p:spTgt spid="3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1" dur="500"/>
                                        <p:tgtEl>
                                          <p:spTgt spid="3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2" fill="hold">
                            <p:stCondLst>
                              <p:cond delay="500"/>
                            </p:stCondLst>
                            <p:childTnLst>
                              <p:par>
                                <p:cTn id="5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5" dur="75"/>
                                        <p:tgtEl>
                                          <p:spTgt spid="3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6" fill="hold">
                      <p:stCondLst>
                        <p:cond delay="indefinite"/>
                      </p:stCondLst>
                      <p:childTnLst>
                        <p:par>
                          <p:cTn id="5167" fill="hold">
                            <p:stCondLst>
                              <p:cond delay="0"/>
                            </p:stCondLst>
                            <p:childTnLst>
                              <p:par>
                                <p:cTn id="5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0" dur="500"/>
                                        <p:tgtEl>
                                          <p:spTgt spid="3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1" fill="hold">
                            <p:stCondLst>
                              <p:cond delay="500"/>
                            </p:stCondLst>
                            <p:childTnLst>
                              <p:par>
                                <p:cTn id="5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4" dur="75"/>
                                        <p:tgtEl>
                                          <p:spTgt spid="3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it-For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4" name=""/>
          <p:cNvGrpSpPr/>
          <p:nvPr/>
        </p:nvGrpSpPr>
        <p:grpSpPr>
          <a:xfrm>
            <a:off x="2057400" y="1828800"/>
            <a:ext cx="762120" cy="990720"/>
            <a:chOff x="2057400" y="1828800"/>
            <a:chExt cx="762120" cy="990720"/>
          </a:xfrm>
        </p:grpSpPr>
        <p:sp>
          <p:nvSpPr>
            <p:cNvPr id="3575" name=""/>
            <p:cNvSpPr/>
            <p:nvPr/>
          </p:nvSpPr>
          <p:spPr>
            <a:xfrm>
              <a:off x="2057400" y="220968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2212920" y="18288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2362320" y="2438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8" name=""/>
          <p:cNvSpPr/>
          <p:nvPr/>
        </p:nvSpPr>
        <p:spPr>
          <a:xfrm>
            <a:off x="3505320" y="22003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685800" y="2200320"/>
            <a:ext cx="685800" cy="6094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0" name=""/>
          <p:cNvCxnSpPr>
            <a:stCxn id="3575" idx="1"/>
            <a:endCxn id="3579" idx="6"/>
          </p:cNvCxnSpPr>
          <p:nvPr/>
        </p:nvCxnSpPr>
        <p:spPr>
          <a:xfrm flipH="1" flipV="1">
            <a:off x="1371240" y="2504880"/>
            <a:ext cx="667440" cy="10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headEnd len="med" type="triangle" w="med"/>
          </a:ln>
        </p:spPr>
      </p:cxnSp>
      <p:cxnSp>
        <p:nvCxnSpPr>
          <p:cNvPr id="3581" name=""/>
          <p:cNvCxnSpPr>
            <a:stCxn id="3578" idx="2"/>
            <a:endCxn id="3577" idx="6"/>
          </p:cNvCxnSpPr>
          <p:nvPr/>
        </p:nvCxnSpPr>
        <p:spPr>
          <a:xfrm flipH="1">
            <a:off x="2514240" y="2505240"/>
            <a:ext cx="991440" cy="100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</p:cxnSp>
      <p:sp>
        <p:nvSpPr>
          <p:cNvPr id="3582" name=""/>
          <p:cNvSpPr/>
          <p:nvPr/>
        </p:nvSpPr>
        <p:spPr>
          <a:xfrm>
            <a:off x="3581280" y="48769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762120" y="4876920"/>
            <a:ext cx="685800" cy="6094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4" name=""/>
          <p:cNvCxnSpPr>
            <a:stCxn id="3582" idx="2"/>
            <a:endCxn id="3583" idx="6"/>
          </p:cNvCxnSpPr>
          <p:nvPr/>
        </p:nvCxnSpPr>
        <p:spPr>
          <a:xfrm flipH="1">
            <a:off x="1447560" y="5181120"/>
            <a:ext cx="2134080" cy="1080"/>
          </a:xfrm>
          <a:prstGeom prst="straightConnector1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</p:cxnSp>
      <p:sp>
        <p:nvSpPr>
          <p:cNvPr id="3585" name=""/>
          <p:cNvSpPr/>
          <p:nvPr/>
        </p:nvSpPr>
        <p:spPr>
          <a:xfrm>
            <a:off x="1981080" y="3429000"/>
            <a:ext cx="99072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4574160" y="1905120"/>
            <a:ext cx="172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4664520" y="4768920"/>
            <a:ext cx="154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-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4952880" y="3429000"/>
            <a:ext cx="99072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7956720" y="4836960"/>
            <a:ext cx="342720" cy="3416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7086600" y="4838760"/>
            <a:ext cx="343080" cy="34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7315200" y="518148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cubicBezTo>
                  <a:pt x="80" y="72"/>
                  <a:pt x="160" y="144"/>
                  <a:pt x="240" y="144"/>
                </a:cubicBezTo>
                <a:cubicBezTo>
                  <a:pt x="320" y="144"/>
                  <a:pt x="400" y="72"/>
                  <a:pt x="480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 flipV="1">
            <a:off x="7315200" y="45997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cubicBezTo>
                  <a:pt x="80" y="72"/>
                  <a:pt x="160" y="144"/>
                  <a:pt x="240" y="144"/>
                </a:cubicBezTo>
                <a:cubicBezTo>
                  <a:pt x="320" y="144"/>
                  <a:pt x="400" y="72"/>
                  <a:pt x="480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3" name=""/>
          <p:cNvGrpSpPr/>
          <p:nvPr/>
        </p:nvGrpSpPr>
        <p:grpSpPr>
          <a:xfrm>
            <a:off x="6629400" y="1927080"/>
            <a:ext cx="1670040" cy="1949040"/>
            <a:chOff x="6629400" y="1927080"/>
            <a:chExt cx="1670040" cy="1949040"/>
          </a:xfrm>
        </p:grpSpPr>
        <p:sp>
          <p:nvSpPr>
            <p:cNvPr id="3594" name=""/>
            <p:cNvSpPr/>
            <p:nvPr/>
          </p:nvSpPr>
          <p:spPr>
            <a:xfrm>
              <a:off x="7086600" y="2705040"/>
              <a:ext cx="343080" cy="3412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5" name=""/>
            <p:cNvGrpSpPr/>
            <p:nvPr/>
          </p:nvGrpSpPr>
          <p:grpSpPr>
            <a:xfrm>
              <a:off x="7499520" y="1927080"/>
              <a:ext cx="472320" cy="649080"/>
              <a:chOff x="7499520" y="1927080"/>
              <a:chExt cx="472320" cy="649080"/>
            </a:xfrm>
          </p:grpSpPr>
          <p:sp>
            <p:nvSpPr>
              <p:cNvPr id="3596" name=""/>
              <p:cNvSpPr/>
              <p:nvPr/>
            </p:nvSpPr>
            <p:spPr>
              <a:xfrm>
                <a:off x="7499520" y="2235240"/>
                <a:ext cx="380520" cy="34092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7579440" y="1927080"/>
                <a:ext cx="392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7652160" y="2363040"/>
                <a:ext cx="75960" cy="85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99" name=""/>
            <p:cNvCxnSpPr>
              <a:stCxn id="3598" idx="5"/>
              <a:endCxn id="3600" idx="1"/>
            </p:cNvCxnSpPr>
            <p:nvPr/>
          </p:nvCxnSpPr>
          <p:spPr>
            <a:xfrm>
              <a:off x="7716600" y="2436480"/>
              <a:ext cx="291240" cy="316440"/>
            </a:xfrm>
            <a:prstGeom prst="straightConnector1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</p:cxnSp>
        <p:cxnSp>
          <p:nvCxnSpPr>
            <p:cNvPr id="3601" name=""/>
            <p:cNvCxnSpPr>
              <a:stCxn id="3602" idx="4"/>
              <a:endCxn id="3603" idx="1"/>
            </p:cNvCxnSpPr>
            <p:nvPr/>
          </p:nvCxnSpPr>
          <p:spPr>
            <a:xfrm>
              <a:off x="7257600" y="3046320"/>
              <a:ext cx="229320" cy="294480"/>
            </a:xfrm>
            <a:prstGeom prst="straightConnector1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3604" name=""/>
            <p:cNvCxnSpPr>
              <a:stCxn id="3602" idx="0"/>
              <a:endCxn id="3596" idx="1"/>
            </p:cNvCxnSpPr>
            <p:nvPr/>
          </p:nvCxnSpPr>
          <p:spPr>
            <a:xfrm flipV="1">
              <a:off x="7257960" y="2405880"/>
              <a:ext cx="226080" cy="299160"/>
            </a:xfrm>
            <a:prstGeom prst="straightConnector1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</p:cxnSp>
        <p:grpSp>
          <p:nvGrpSpPr>
            <p:cNvPr id="3605" name=""/>
            <p:cNvGrpSpPr/>
            <p:nvPr/>
          </p:nvGrpSpPr>
          <p:grpSpPr>
            <a:xfrm>
              <a:off x="7505640" y="3168720"/>
              <a:ext cx="438120" cy="707400"/>
              <a:chOff x="7505640" y="3168720"/>
              <a:chExt cx="438120" cy="707400"/>
            </a:xfrm>
          </p:grpSpPr>
          <p:sp>
            <p:nvSpPr>
              <p:cNvPr id="3606" name=""/>
              <p:cNvSpPr/>
              <p:nvPr/>
            </p:nvSpPr>
            <p:spPr>
              <a:xfrm>
                <a:off x="7551360" y="3505320"/>
                <a:ext cx="392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7" name=""/>
              <p:cNvGrpSpPr/>
              <p:nvPr/>
            </p:nvGrpSpPr>
            <p:grpSpPr>
              <a:xfrm>
                <a:off x="7505640" y="3168720"/>
                <a:ext cx="381240" cy="341280"/>
                <a:chOff x="7505640" y="3168720"/>
                <a:chExt cx="381240" cy="341280"/>
              </a:xfrm>
            </p:grpSpPr>
            <p:sp>
              <p:nvSpPr>
                <p:cNvPr id="3608" name=""/>
                <p:cNvSpPr/>
                <p:nvPr/>
              </p:nvSpPr>
              <p:spPr>
                <a:xfrm>
                  <a:off x="7658640" y="3301920"/>
                  <a:ext cx="76320" cy="853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3" name=""/>
                <p:cNvSpPr/>
                <p:nvPr/>
              </p:nvSpPr>
              <p:spPr>
                <a:xfrm>
                  <a:off x="7505640" y="3168720"/>
                  <a:ext cx="381240" cy="341280"/>
                </a:xfrm>
                <a:prstGeom prst="rect">
                  <a:avLst/>
                </a:prstGeom>
                <a:solidFill>
                  <a:srgbClr val="cecece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9" name=""/>
                <p:cNvSpPr/>
                <p:nvPr/>
              </p:nvSpPr>
              <p:spPr>
                <a:xfrm>
                  <a:off x="7658640" y="3301920"/>
                  <a:ext cx="76320" cy="853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0" name=""/>
                <p:cNvSpPr/>
                <p:nvPr/>
              </p:nvSpPr>
              <p:spPr>
                <a:xfrm>
                  <a:off x="7658640" y="3304800"/>
                  <a:ext cx="76320" cy="853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00" name=""/>
            <p:cNvSpPr/>
            <p:nvPr/>
          </p:nvSpPr>
          <p:spPr>
            <a:xfrm>
              <a:off x="7956720" y="2703600"/>
              <a:ext cx="342720" cy="3412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7086600" y="2705040"/>
              <a:ext cx="343080" cy="3412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11" name=""/>
            <p:cNvCxnSpPr>
              <a:stCxn id="3610" idx="6"/>
              <a:endCxn id="3600" idx="4"/>
            </p:cNvCxnSpPr>
            <p:nvPr/>
          </p:nvCxnSpPr>
          <p:spPr>
            <a:xfrm flipV="1">
              <a:off x="7735680" y="3044520"/>
              <a:ext cx="392760" cy="303840"/>
            </a:xfrm>
            <a:prstGeom prst="straightConnector1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</p:cxnSp>
        <p:grpSp>
          <p:nvGrpSpPr>
            <p:cNvPr id="3612" name=""/>
            <p:cNvGrpSpPr/>
            <p:nvPr/>
          </p:nvGrpSpPr>
          <p:grpSpPr>
            <a:xfrm>
              <a:off x="6629400" y="1940040"/>
              <a:ext cx="474840" cy="650520"/>
              <a:chOff x="6629400" y="1940040"/>
              <a:chExt cx="474840" cy="650520"/>
            </a:xfrm>
          </p:grpSpPr>
          <p:sp>
            <p:nvSpPr>
              <p:cNvPr id="3613" name=""/>
              <p:cNvSpPr/>
              <p:nvPr/>
            </p:nvSpPr>
            <p:spPr>
              <a:xfrm>
                <a:off x="6629400" y="2249280"/>
                <a:ext cx="380880" cy="3412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6711840" y="1940040"/>
                <a:ext cx="392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6782400" y="2377080"/>
                <a:ext cx="76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16" name=""/>
            <p:cNvCxnSpPr>
              <a:stCxn id="3602" idx="1"/>
              <a:endCxn id="3615" idx="5"/>
            </p:cNvCxnSpPr>
            <p:nvPr/>
          </p:nvCxnSpPr>
          <p:spPr>
            <a:xfrm flipH="1" flipV="1">
              <a:off x="6848280" y="2448720"/>
              <a:ext cx="289440" cy="305640"/>
            </a:xfrm>
            <a:prstGeom prst="straightConnector1">
              <a:avLst/>
            </a:prstGeom>
            <a:ln w="38160">
              <a:solidFill>
                <a:srgbClr val="00279f"/>
              </a:solidFill>
              <a:miter/>
              <a:head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5" dur="indefinite" restart="never" nodeType="tmRoot">
          <p:childTnLst>
            <p:seq>
              <p:cTn id="5176" dur="indefinite" nodeType="mainSeq">
                <p:childTnLst>
                  <p:par>
                    <p:cTn id="5177" fill="hold">
                      <p:stCondLst>
                        <p:cond delay="indefinite"/>
                      </p:stCondLst>
                      <p:childTnLst>
                        <p:par>
                          <p:cTn id="5178" fill="hold">
                            <p:stCondLst>
                              <p:cond delay="0"/>
                            </p:stCondLst>
                            <p:childTnLst>
                              <p:par>
                                <p:cTn id="5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1" dur="5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2" fill="hold">
                      <p:stCondLst>
                        <p:cond delay="indefinite"/>
                      </p:stCondLst>
                      <p:childTnLst>
                        <p:par>
                          <p:cTn id="5183" fill="hold">
                            <p:stCondLst>
                              <p:cond delay="0"/>
                            </p:stCondLst>
                            <p:childTnLst>
                              <p:par>
                                <p:cTn id="5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6" dur="500"/>
                                        <p:tgtEl>
                                          <p:spTgt spid="3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7" fill="hold">
                      <p:stCondLst>
                        <p:cond delay="indefinite"/>
                      </p:stCondLst>
                      <p:childTnLst>
                        <p:par>
                          <p:cTn id="5188" fill="hold">
                            <p:stCondLst>
                              <p:cond delay="0"/>
                            </p:stCondLst>
                            <p:childTnLst>
                              <p:par>
                                <p:cTn id="5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1" dur="500"/>
                                        <p:tgtEl>
                                          <p:spTgt spid="3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2" fill="hold">
                      <p:stCondLst>
                        <p:cond delay="indefinite"/>
                      </p:stCondLst>
                      <p:childTnLst>
                        <p:par>
                          <p:cTn id="5193" fill="hold">
                            <p:stCondLst>
                              <p:cond delay="0"/>
                            </p:stCondLst>
                            <p:childTnLst>
                              <p:par>
                                <p:cTn id="5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6" dur="500"/>
                                        <p:tgtEl>
                                          <p:spTgt spid="3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7" fill="hold">
                            <p:stCondLst>
                              <p:cond delay="500"/>
                            </p:stCondLst>
                            <p:childTnLst>
                              <p:par>
                                <p:cTn id="5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0" dur="500"/>
                                        <p:tgtEl>
                                          <p:spTgt spid="3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4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8" dur="500"/>
                                        <p:tgtEl>
                                          <p:spTgt spid="3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2" dur="500"/>
                                        <p:tgtEl>
                                          <p:spTgt spid="3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3" fill="hold">
                      <p:stCondLst>
                        <p:cond delay="indefinite"/>
                      </p:stCondLst>
                      <p:childTnLst>
                        <p:par>
                          <p:cTn id="5214" fill="hold">
                            <p:stCondLst>
                              <p:cond delay="0"/>
                            </p:stCondLst>
                            <p:childTnLst>
                              <p:par>
                                <p:cTn id="5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7" dur="500"/>
                                        <p:tgtEl>
                                          <p:spTgt spid="3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8" fill="hold">
                      <p:stCondLst>
                        <p:cond delay="indefinite"/>
                      </p:stCondLst>
                      <p:childTnLst>
                        <p:par>
                          <p:cTn id="5219" fill="hold">
                            <p:stCondLst>
                              <p:cond delay="0"/>
                            </p:stCondLst>
                            <p:childTnLst>
                              <p:par>
                                <p:cTn id="5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2" dur="5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6" dur="500"/>
                                        <p:tgtEl>
                                          <p:spTgt spid="3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0" dur="500"/>
                                        <p:tgtEl>
                                          <p:spTgt spid="3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1" fill="hold">
                      <p:stCondLst>
                        <p:cond delay="indefinite"/>
                      </p:stCondLst>
                      <p:childTnLst>
                        <p:par>
                          <p:cTn id="5232" fill="hold">
                            <p:stCondLst>
                              <p:cond delay="0"/>
                            </p:stCondLst>
                            <p:childTnLst>
                              <p:par>
                                <p:cTn id="5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5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6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7" fill="hold">
                      <p:stCondLst>
                        <p:cond delay="indefinite"/>
                      </p:stCondLst>
                      <p:childTnLst>
                        <p:par>
                          <p:cTn id="5238" fill="hold">
                            <p:stCondLst>
                              <p:cond delay="0"/>
                            </p:stCondLst>
                            <p:childTnLst>
                              <p:par>
                                <p:cTn id="5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1" dur="500"/>
                                        <p:tgtEl>
                                          <p:spTgt spid="3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2" fill="hold">
                            <p:stCondLst>
                              <p:cond delay="500"/>
                            </p:stCondLst>
                            <p:childTnLst>
                              <p:par>
                                <p:cTn id="5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5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6" fill="hold">
                      <p:stCondLst>
                        <p:cond delay="indefinite"/>
                      </p:stCondLst>
                      <p:childTnLst>
                        <p:par>
                          <p:cTn id="5247" fill="hold">
                            <p:stCondLst>
                              <p:cond delay="0"/>
                            </p:stCondLst>
                            <p:childTnLst>
                              <p:par>
                                <p:cTn id="5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0" dur="500"/>
                                        <p:tgtEl>
                                          <p:spTgt spid="3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1" fill="hold">
                      <p:stCondLst>
                        <p:cond delay="indefinite"/>
                      </p:stCondLst>
                      <p:childTnLst>
                        <p:par>
                          <p:cTn id="5252" fill="hold">
                            <p:stCondLst>
                              <p:cond delay="0"/>
                            </p:stCondLst>
                            <p:childTnLst>
                              <p:par>
                                <p:cTn id="5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5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"/>
          <p:cNvSpPr/>
          <p:nvPr/>
        </p:nvSpPr>
        <p:spPr>
          <a:xfrm>
            <a:off x="5562720" y="3352680"/>
            <a:ext cx="2514600" cy="2590920"/>
          </a:xfrm>
          <a:prstGeom prst="ellipse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it-For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9" name=""/>
          <p:cNvGrpSpPr/>
          <p:nvPr/>
        </p:nvGrpSpPr>
        <p:grpSpPr>
          <a:xfrm>
            <a:off x="609480" y="1447920"/>
            <a:ext cx="4572000" cy="4572000"/>
            <a:chOff x="609480" y="1447920"/>
            <a:chExt cx="4572000" cy="4572000"/>
          </a:xfrm>
        </p:grpSpPr>
        <p:grpSp>
          <p:nvGrpSpPr>
            <p:cNvPr id="3620" name=""/>
            <p:cNvGrpSpPr/>
            <p:nvPr/>
          </p:nvGrpSpPr>
          <p:grpSpPr>
            <a:xfrm>
              <a:off x="838080" y="2057400"/>
              <a:ext cx="762120" cy="990720"/>
              <a:chOff x="838080" y="2057400"/>
              <a:chExt cx="762120" cy="990720"/>
            </a:xfrm>
          </p:grpSpPr>
          <p:sp>
            <p:nvSpPr>
              <p:cNvPr id="3621" name=""/>
              <p:cNvSpPr/>
              <p:nvPr/>
            </p:nvSpPr>
            <p:spPr>
              <a:xfrm>
                <a:off x="838080" y="2438280"/>
                <a:ext cx="76212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993600" y="205740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1143000" y="26668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4" name=""/>
            <p:cNvSpPr/>
            <p:nvPr/>
          </p:nvSpPr>
          <p:spPr>
            <a:xfrm>
              <a:off x="2286000" y="541008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2133720" y="365760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26" name=""/>
            <p:cNvCxnSpPr>
              <a:stCxn id="3621" idx="2"/>
              <a:endCxn id="3627" idx="0"/>
            </p:cNvCxnSpPr>
            <p:nvPr/>
          </p:nvCxnSpPr>
          <p:spPr>
            <a:xfrm flipH="1">
              <a:off x="952200" y="3067200"/>
              <a:ext cx="267120" cy="59112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headEnd len="med" type="triangle" w="med"/>
            </a:ln>
          </p:spPr>
        </p:cxnSp>
        <p:cxnSp>
          <p:nvCxnSpPr>
            <p:cNvPr id="3628" name=""/>
            <p:cNvCxnSpPr>
              <a:stCxn id="3625" idx="1"/>
              <a:endCxn id="3623" idx="6"/>
            </p:cNvCxnSpPr>
            <p:nvPr/>
          </p:nvCxnSpPr>
          <p:spPr>
            <a:xfrm flipH="1" flipV="1">
              <a:off x="1294920" y="2742840"/>
              <a:ext cx="938880" cy="100368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</p:cxnSp>
        <p:grpSp>
          <p:nvGrpSpPr>
            <p:cNvPr id="3629" name=""/>
            <p:cNvGrpSpPr/>
            <p:nvPr/>
          </p:nvGrpSpPr>
          <p:grpSpPr>
            <a:xfrm>
              <a:off x="1295280" y="4419720"/>
              <a:ext cx="762120" cy="990000"/>
              <a:chOff x="1295280" y="4419720"/>
              <a:chExt cx="762120" cy="990000"/>
            </a:xfrm>
          </p:grpSpPr>
          <p:sp>
            <p:nvSpPr>
              <p:cNvPr id="3630" name=""/>
              <p:cNvSpPr/>
              <p:nvPr/>
            </p:nvSpPr>
            <p:spPr>
              <a:xfrm>
                <a:off x="1295280" y="4800240"/>
                <a:ext cx="76212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1450800" y="44197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1600200" y="5028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3" name=""/>
            <p:cNvGrpSpPr/>
            <p:nvPr/>
          </p:nvGrpSpPr>
          <p:grpSpPr>
            <a:xfrm>
              <a:off x="2362320" y="2057400"/>
              <a:ext cx="761760" cy="990720"/>
              <a:chOff x="2362320" y="2057400"/>
              <a:chExt cx="761760" cy="990720"/>
            </a:xfrm>
          </p:grpSpPr>
          <p:sp>
            <p:nvSpPr>
              <p:cNvPr id="3634" name=""/>
              <p:cNvSpPr/>
              <p:nvPr/>
            </p:nvSpPr>
            <p:spPr>
              <a:xfrm>
                <a:off x="2362320" y="243828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517480" y="205740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666880" y="266688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7" name=""/>
            <p:cNvGrpSpPr/>
            <p:nvPr/>
          </p:nvGrpSpPr>
          <p:grpSpPr>
            <a:xfrm>
              <a:off x="3657600" y="4419720"/>
              <a:ext cx="762120" cy="990000"/>
              <a:chOff x="3657600" y="4419720"/>
              <a:chExt cx="762120" cy="990000"/>
            </a:xfrm>
          </p:grpSpPr>
          <p:sp>
            <p:nvSpPr>
              <p:cNvPr id="3638" name=""/>
              <p:cNvSpPr/>
              <p:nvPr/>
            </p:nvSpPr>
            <p:spPr>
              <a:xfrm>
                <a:off x="3657600" y="4800240"/>
                <a:ext cx="76212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3813120" y="44197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3962520" y="5028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1" name=""/>
            <p:cNvGrpSpPr/>
            <p:nvPr/>
          </p:nvGrpSpPr>
          <p:grpSpPr>
            <a:xfrm>
              <a:off x="3962520" y="2057400"/>
              <a:ext cx="761760" cy="990720"/>
              <a:chOff x="3962520" y="2057400"/>
              <a:chExt cx="761760" cy="990720"/>
            </a:xfrm>
          </p:grpSpPr>
          <p:sp>
            <p:nvSpPr>
              <p:cNvPr id="3642" name=""/>
              <p:cNvSpPr/>
              <p:nvPr/>
            </p:nvSpPr>
            <p:spPr>
              <a:xfrm>
                <a:off x="3962520" y="243828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4117680" y="205740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4267080" y="266688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5" name=""/>
            <p:cNvSpPr/>
            <p:nvPr/>
          </p:nvSpPr>
          <p:spPr>
            <a:xfrm>
              <a:off x="3124080" y="144792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4495680" y="365760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09480" y="365760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47" name=""/>
            <p:cNvCxnSpPr>
              <a:stCxn id="3634" idx="2"/>
              <a:endCxn id="3625" idx="0"/>
            </p:cNvCxnSpPr>
            <p:nvPr/>
          </p:nvCxnSpPr>
          <p:spPr>
            <a:xfrm flipH="1">
              <a:off x="2476080" y="3067200"/>
              <a:ext cx="267120" cy="59112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headEnd len="med" type="triangle" w="med"/>
            </a:ln>
          </p:spPr>
        </p:cxnSp>
        <p:cxnSp>
          <p:nvCxnSpPr>
            <p:cNvPr id="3648" name=""/>
            <p:cNvCxnSpPr>
              <a:stCxn id="3638" idx="1"/>
              <a:endCxn id="3625" idx="5"/>
            </p:cNvCxnSpPr>
            <p:nvPr/>
          </p:nvCxnSpPr>
          <p:spPr>
            <a:xfrm flipH="1" flipV="1">
              <a:off x="2718720" y="4177800"/>
              <a:ext cx="919800" cy="9280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headEnd len="med" type="triangle" w="med"/>
            </a:ln>
          </p:spPr>
        </p:cxnSp>
        <p:cxnSp>
          <p:nvCxnSpPr>
            <p:cNvPr id="3649" name=""/>
            <p:cNvCxnSpPr>
              <a:stCxn id="3624" idx="6"/>
              <a:endCxn id="3640" idx="3"/>
            </p:cNvCxnSpPr>
            <p:nvPr/>
          </p:nvCxnSpPr>
          <p:spPr>
            <a:xfrm flipV="1">
              <a:off x="2971440" y="5158800"/>
              <a:ext cx="1013400" cy="55620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</p:cxnSp>
        <p:cxnSp>
          <p:nvCxnSpPr>
            <p:cNvPr id="3650" name=""/>
            <p:cNvCxnSpPr>
              <a:stCxn id="3642" idx="2"/>
              <a:endCxn id="3646" idx="0"/>
            </p:cNvCxnSpPr>
            <p:nvPr/>
          </p:nvCxnSpPr>
          <p:spPr>
            <a:xfrm>
              <a:off x="4343400" y="3067200"/>
              <a:ext cx="496080" cy="59112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headEnd len="med" type="triangle" w="med"/>
            </a:ln>
          </p:spPr>
        </p:cxnSp>
        <p:cxnSp>
          <p:nvCxnSpPr>
            <p:cNvPr id="3651" name=""/>
            <p:cNvCxnSpPr>
              <a:stCxn id="3627" idx="4"/>
              <a:endCxn id="3632" idx="6"/>
            </p:cNvCxnSpPr>
            <p:nvPr/>
          </p:nvCxnSpPr>
          <p:spPr>
            <a:xfrm>
              <a:off x="952560" y="4266720"/>
              <a:ext cx="800640" cy="83916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</p:cxnSp>
        <p:cxnSp>
          <p:nvCxnSpPr>
            <p:cNvPr id="3652" name=""/>
            <p:cNvCxnSpPr>
              <a:stCxn id="3645" idx="3"/>
              <a:endCxn id="3636" idx="7"/>
            </p:cNvCxnSpPr>
            <p:nvPr/>
          </p:nvCxnSpPr>
          <p:spPr>
            <a:xfrm flipH="1">
              <a:off x="2796840" y="1968480"/>
              <a:ext cx="427680" cy="72144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</p:cxnSp>
        <p:cxnSp>
          <p:nvCxnSpPr>
            <p:cNvPr id="3653" name=""/>
            <p:cNvCxnSpPr>
              <a:stCxn id="3645" idx="5"/>
              <a:endCxn id="3644" idx="1"/>
            </p:cNvCxnSpPr>
            <p:nvPr/>
          </p:nvCxnSpPr>
          <p:spPr>
            <a:xfrm>
              <a:off x="3709800" y="1968480"/>
              <a:ext cx="579960" cy="72144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</p:cxnSp>
        <p:cxnSp>
          <p:nvCxnSpPr>
            <p:cNvPr id="3654" name=""/>
            <p:cNvCxnSpPr>
              <a:stCxn id="3638" idx="3"/>
              <a:endCxn id="3646" idx="4"/>
            </p:cNvCxnSpPr>
            <p:nvPr/>
          </p:nvCxnSpPr>
          <p:spPr>
            <a:xfrm flipV="1">
              <a:off x="4438440" y="4266360"/>
              <a:ext cx="400680" cy="83916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headEnd len="med" type="triangle" w="med"/>
            </a:ln>
          </p:spPr>
        </p:cxnSp>
        <p:cxnSp>
          <p:nvCxnSpPr>
            <p:cNvPr id="3655" name=""/>
            <p:cNvCxnSpPr>
              <a:stCxn id="3630" idx="2"/>
              <a:endCxn id="3624" idx="2"/>
            </p:cNvCxnSpPr>
            <p:nvPr/>
          </p:nvCxnSpPr>
          <p:spPr>
            <a:xfrm>
              <a:off x="1676160" y="5429160"/>
              <a:ext cx="610200" cy="28656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headEnd len="med" type="triangle" w="med"/>
            </a:ln>
          </p:spPr>
        </p:cxnSp>
      </p:grpSp>
      <p:sp>
        <p:nvSpPr>
          <p:cNvPr id="3656" name=""/>
          <p:cNvSpPr/>
          <p:nvPr/>
        </p:nvSpPr>
        <p:spPr>
          <a:xfrm>
            <a:off x="6991200" y="25146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5791320" y="3733920"/>
            <a:ext cx="685800" cy="6094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6991200" y="3733920"/>
            <a:ext cx="685800" cy="6094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8153280" y="3733920"/>
            <a:ext cx="685800" cy="6094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6991200" y="5029200"/>
            <a:ext cx="685800" cy="6094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1" name=""/>
          <p:cNvCxnSpPr>
            <a:stCxn id="3658" idx="2"/>
            <a:endCxn id="3657" idx="6"/>
          </p:cNvCxnSpPr>
          <p:nvPr/>
        </p:nvCxnSpPr>
        <p:spPr>
          <a:xfrm flipH="1">
            <a:off x="6477120" y="4038120"/>
            <a:ext cx="514440" cy="1080"/>
          </a:xfrm>
          <a:prstGeom prst="straightConnector1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</p:cxnSp>
      <p:cxnSp>
        <p:nvCxnSpPr>
          <p:cNvPr id="3662" name=""/>
          <p:cNvCxnSpPr>
            <a:stCxn id="3660" idx="0"/>
            <a:endCxn id="3658" idx="4"/>
          </p:cNvCxnSpPr>
          <p:nvPr/>
        </p:nvCxnSpPr>
        <p:spPr>
          <a:xfrm flipV="1">
            <a:off x="7333920" y="4342680"/>
            <a:ext cx="1080" cy="686520"/>
          </a:xfrm>
          <a:prstGeom prst="straightConnector1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</p:cxnSp>
      <p:cxnSp>
        <p:nvCxnSpPr>
          <p:cNvPr id="3663" name=""/>
          <p:cNvCxnSpPr>
            <a:stCxn id="3657" idx="4"/>
            <a:endCxn id="3660" idx="2"/>
          </p:cNvCxnSpPr>
          <p:nvPr/>
        </p:nvCxnSpPr>
        <p:spPr>
          <a:xfrm>
            <a:off x="6133680" y="4343400"/>
            <a:ext cx="857880" cy="991440"/>
          </a:xfrm>
          <a:prstGeom prst="straightConnector1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</p:cxnSp>
      <p:cxnSp>
        <p:nvCxnSpPr>
          <p:cNvPr id="3664" name=""/>
          <p:cNvCxnSpPr>
            <a:stCxn id="3656" idx="4"/>
            <a:endCxn id="3658" idx="0"/>
          </p:cNvCxnSpPr>
          <p:nvPr/>
        </p:nvCxnSpPr>
        <p:spPr>
          <a:xfrm>
            <a:off x="7333920" y="3124080"/>
            <a:ext cx="1080" cy="610560"/>
          </a:xfrm>
          <a:prstGeom prst="straightConnector1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</p:cxnSp>
      <p:cxnSp>
        <p:nvCxnSpPr>
          <p:cNvPr id="3665" name=""/>
          <p:cNvCxnSpPr>
            <a:stCxn id="3656" idx="5"/>
            <a:endCxn id="3659" idx="1"/>
          </p:cNvCxnSpPr>
          <p:nvPr/>
        </p:nvCxnSpPr>
        <p:spPr>
          <a:xfrm>
            <a:off x="7577280" y="3035160"/>
            <a:ext cx="676800" cy="788400"/>
          </a:xfrm>
          <a:prstGeom prst="straightConnector1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</p:cxnSp>
      <p:cxnSp>
        <p:nvCxnSpPr>
          <p:cNvPr id="3666" name=""/>
          <p:cNvCxnSpPr>
            <a:stCxn id="3660" idx="7"/>
            <a:endCxn id="3659" idx="3"/>
          </p:cNvCxnSpPr>
          <p:nvPr/>
        </p:nvCxnSpPr>
        <p:spPr>
          <a:xfrm flipV="1">
            <a:off x="7577280" y="4253760"/>
            <a:ext cx="676800" cy="864360"/>
          </a:xfrm>
          <a:prstGeom prst="straightConnector1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</p:cxnSp>
      <p:sp>
        <p:nvSpPr>
          <p:cNvPr id="3667" name=""/>
          <p:cNvSpPr/>
          <p:nvPr/>
        </p:nvSpPr>
        <p:spPr>
          <a:xfrm>
            <a:off x="6461280" y="4254480"/>
            <a:ext cx="650880" cy="800280"/>
          </a:xfrm>
          <a:custGeom>
            <a:avLst/>
            <a:gdLst/>
            <a:ahLst/>
            <a:rect l="l" t="t" r="r" b="b"/>
            <a:pathLst>
              <a:path w="410" h="504">
                <a:moveTo>
                  <a:pt x="120" y="229"/>
                </a:moveTo>
                <a:cubicBezTo>
                  <a:pt x="96" y="197"/>
                  <a:pt x="20" y="181"/>
                  <a:pt x="10" y="152"/>
                </a:cubicBezTo>
                <a:cubicBezTo>
                  <a:pt x="0" y="123"/>
                  <a:pt x="10" y="80"/>
                  <a:pt x="58" y="56"/>
                </a:cubicBezTo>
                <a:cubicBezTo>
                  <a:pt x="106" y="32"/>
                  <a:pt x="242" y="0"/>
                  <a:pt x="298" y="8"/>
                </a:cubicBezTo>
                <a:cubicBezTo>
                  <a:pt x="354" y="16"/>
                  <a:pt x="378" y="32"/>
                  <a:pt x="394" y="104"/>
                </a:cubicBezTo>
                <a:cubicBezTo>
                  <a:pt x="410" y="176"/>
                  <a:pt x="410" y="376"/>
                  <a:pt x="394" y="440"/>
                </a:cubicBezTo>
                <a:cubicBezTo>
                  <a:pt x="378" y="504"/>
                  <a:pt x="338" y="504"/>
                  <a:pt x="298" y="488"/>
                </a:cubicBezTo>
                <a:cubicBezTo>
                  <a:pt x="258" y="472"/>
                  <a:pt x="182" y="376"/>
                  <a:pt x="154" y="344"/>
                </a:cubicBezTo>
                <a:cubicBezTo>
                  <a:pt x="126" y="312"/>
                  <a:pt x="135" y="304"/>
                  <a:pt x="130" y="293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3886200" y="5589720"/>
            <a:ext cx="16765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652" y="-8609"/>
                </a:moveTo>
                <a:lnTo>
                  <a:pt x="22582" y="6028"/>
                </a:lnTo>
              </a:path>
              <a:path w="21600" h="21600">
                <a:moveTo>
                  <a:pt x="22582" y="0"/>
                </a:moveTo>
                <a:lnTo>
                  <a:pt x="22582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ad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5723280" y="1523880"/>
            <a:ext cx="24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peration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6" dur="indefinite" restart="never" nodeType="tmRoot">
          <p:childTnLst>
            <p:seq>
              <p:cTn id="5257" dur="indefinite" nodeType="mainSeq">
                <p:childTnLst>
                  <p:par>
                    <p:cTn id="5258" fill="hold">
                      <p:stCondLst>
                        <p:cond delay="indefinite"/>
                      </p:stCondLst>
                      <p:childTnLst>
                        <p:par>
                          <p:cTn id="5259" fill="hold">
                            <p:stCondLst>
                              <p:cond delay="0"/>
                            </p:stCondLst>
                            <p:childTnLst>
                              <p:par>
                                <p:cTn id="52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62" dur="5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3" fill="hold">
                      <p:stCondLst>
                        <p:cond delay="indefinite"/>
                      </p:stCondLst>
                      <p:childTnLst>
                        <p:par>
                          <p:cTn id="5264" fill="hold">
                            <p:stCondLst>
                              <p:cond delay="0"/>
                            </p:stCondLst>
                            <p:childTnLst>
                              <p:par>
                                <p:cTn id="5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7" dur="500"/>
                                        <p:tgtEl>
                                          <p:spTgt spid="3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8" fill="hold">
                            <p:stCondLst>
                              <p:cond delay="500"/>
                            </p:stCondLst>
                            <p:childTnLst>
                              <p:par>
                                <p:cTn id="5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1" dur="500"/>
                                        <p:tgtEl>
                                          <p:spTgt spid="3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5" dur="500"/>
                                        <p:tgtEl>
                                          <p:spTgt spid="3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9" dur="500"/>
                                        <p:tgtEl>
                                          <p:spTgt spid="3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3" dur="500"/>
                                        <p:tgtEl>
                                          <p:spTgt spid="3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4" fill="hold">
                      <p:stCondLst>
                        <p:cond delay="indefinite"/>
                      </p:stCondLst>
                      <p:childTnLst>
                        <p:par>
                          <p:cTn id="5285" fill="hold">
                            <p:stCondLst>
                              <p:cond delay="0"/>
                            </p:stCondLst>
                            <p:childTnLst>
                              <p:par>
                                <p:cTn id="5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8" dur="500"/>
                                        <p:tgtEl>
                                          <p:spTgt spid="3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9" fill="hold">
                      <p:stCondLst>
                        <p:cond delay="indefinite"/>
                      </p:stCondLst>
                      <p:childTnLst>
                        <p:par>
                          <p:cTn id="5290" fill="hold">
                            <p:stCondLst>
                              <p:cond delay="0"/>
                            </p:stCondLst>
                            <p:childTnLst>
                              <p:par>
                                <p:cTn id="5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3" dur="500"/>
                                        <p:tgtEl>
                                          <p:spTgt spid="3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4" fill="hold">
                      <p:stCondLst>
                        <p:cond delay="indefinite"/>
                      </p:stCondLst>
                      <p:childTnLst>
                        <p:par>
                          <p:cTn id="5295" fill="hold">
                            <p:stCondLst>
                              <p:cond delay="0"/>
                            </p:stCondLst>
                            <p:childTnLst>
                              <p:par>
                                <p:cTn id="5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8" dur="500"/>
                                        <p:tgtEl>
                                          <p:spTgt spid="3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9" fill="hold">
                      <p:stCondLst>
                        <p:cond delay="indefinite"/>
                      </p:stCondLst>
                      <p:childTnLst>
                        <p:par>
                          <p:cTn id="5300" fill="hold">
                            <p:stCondLst>
                              <p:cond delay="0"/>
                            </p:stCondLst>
                            <p:childTnLst>
                              <p:par>
                                <p:cTn id="5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3" dur="500"/>
                                        <p:tgtEl>
                                          <p:spTgt spid="3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4" fill="hold">
                      <p:stCondLst>
                        <p:cond delay="indefinite"/>
                      </p:stCondLst>
                      <p:childTnLst>
                        <p:par>
                          <p:cTn id="5305" fill="hold">
                            <p:stCondLst>
                              <p:cond delay="0"/>
                            </p:stCondLst>
                            <p:childTnLst>
                              <p:par>
                                <p:cTn id="5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8" dur="500"/>
                                        <p:tgtEl>
                                          <p:spTgt spid="3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9" fill="hold">
                      <p:stCondLst>
                        <p:cond delay="indefinite"/>
                      </p:stCondLst>
                      <p:childTnLst>
                        <p:par>
                          <p:cTn id="5310" fill="hold">
                            <p:stCondLst>
                              <p:cond delay="0"/>
                            </p:stCondLst>
                            <p:childTnLst>
                              <p:par>
                                <p:cTn id="5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3" dur="500"/>
                                        <p:tgtEl>
                                          <p:spTgt spid="3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4" fill="hold">
                      <p:stCondLst>
                        <p:cond delay="indefinite"/>
                      </p:stCondLst>
                      <p:childTnLst>
                        <p:par>
                          <p:cTn id="5315" fill="hold">
                            <p:stCondLst>
                              <p:cond delay="0"/>
                            </p:stCondLst>
                            <p:childTnLst>
                              <p:par>
                                <p:cTn id="531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8" dur="500" fill="hold"/>
                                        <p:tgtEl>
                                          <p:spTgt spid="3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9" dur="500" fill="hold"/>
                                        <p:tgtEl>
                                          <p:spTgt spid="3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0" fill="hold">
                      <p:stCondLst>
                        <p:cond delay="indefinite"/>
                      </p:stCondLst>
                      <p:childTnLst>
                        <p:par>
                          <p:cTn id="5321" fill="hold">
                            <p:stCondLst>
                              <p:cond delay="0"/>
                            </p:stCondLst>
                            <p:childTnLst>
                              <p:par>
                                <p:cTn id="5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4" dur="500" fill="hold"/>
                                        <p:tgtEl>
                                          <p:spTgt spid="3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5" dur="500" fill="hold"/>
                                        <p:tgtEl>
                                          <p:spTgt spid="3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6" fill="hold">
                            <p:stCondLst>
                              <p:cond delay="500"/>
                            </p:stCondLst>
                            <p:childTnLst>
                              <p:par>
                                <p:cTn id="53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29" dur="500"/>
                                        <p:tgtEl>
                                          <p:spTgt spid="3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0" fill="hold">
                      <p:stCondLst>
                        <p:cond delay="indefinite"/>
                      </p:stCondLst>
                      <p:childTnLst>
                        <p:par>
                          <p:cTn id="5331" fill="hold">
                            <p:stCondLst>
                              <p:cond delay="0"/>
                            </p:stCondLst>
                            <p:childTnLst>
                              <p:par>
                                <p:cTn id="53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34" dur="500"/>
                                        <p:tgtEl>
                                          <p:spTgt spid="3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ction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s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        // Currently available 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qu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  // Current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// Allocated to the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: X[i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-th row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762120" y="3657600"/>
            <a:ext cx="7543800" cy="0"/>
          </a:xfrm>
          <a:prstGeom prst="line">
            <a:avLst/>
          </a:prstGeom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5" dur="indefinite" restart="never" nodeType="tmRoot">
          <p:childTnLst>
            <p:seq>
              <p:cTn id="5336" dur="indefinite" nodeType="mainSeq">
                <p:childTnLst>
                  <p:par>
                    <p:cTn id="5337" fill="hold">
                      <p:stCondLst>
                        <p:cond delay="indefinite"/>
                      </p:stCondLst>
                      <p:childTnLst>
                        <p:par>
                          <p:cTn id="5338" fill="hold">
                            <p:stCondLst>
                              <p:cond delay="0"/>
                            </p:stCondLst>
                            <p:childTnLst>
                              <p:par>
                                <p:cTn id="53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1" dur="500"/>
                                        <p:tgtEl>
                                          <p:spTgt spid="3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2" fill="hold">
                            <p:stCondLst>
                              <p:cond delay="500"/>
                            </p:stCondLst>
                            <p:childTnLst>
                              <p:par>
                                <p:cTn id="5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"/>
          <p:cNvSpPr/>
          <p:nvPr/>
        </p:nvSpPr>
        <p:spPr>
          <a:xfrm>
            <a:off x="762120" y="1600200"/>
            <a:ext cx="213336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ction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eadlock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in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= {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 {0,…0}, …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 {0,…0} 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ail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:   ! Finish[i]   &amp;&amp;  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ork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k +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[i]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inish != {true, ..., true})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DEAD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5105520" y="5105520"/>
            <a:ext cx="3354120" cy="398880"/>
          </a:xfrm>
          <a:prstGeom prst="borderCallout1">
            <a:avLst>
              <a:gd name="adj1" fmla="val 18750"/>
              <a:gd name="adj2" fmla="val -8333"/>
              <a:gd name="adj3" fmla="val 183587"/>
              <a:gd name="adj4" fmla="val -8699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rocs for which ! Finish[i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5" dur="indefinite" restart="never" nodeType="tmRoot">
          <p:childTnLst>
            <p:seq>
              <p:cTn id="5346" dur="indefinite" nodeType="mainSeq">
                <p:childTnLst>
                  <p:par>
                    <p:cTn id="5347" fill="hold">
                      <p:stCondLst>
                        <p:cond delay="indefinite"/>
                      </p:stCondLst>
                      <p:childTnLst>
                        <p:par>
                          <p:cTn id="5348" fill="hold">
                            <p:stCondLst>
                              <p:cond delay="0"/>
                            </p:stCondLst>
                            <p:childTnLst>
                              <p:par>
                                <p:cTn id="5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1" fill="hold">
                            <p:stCondLst>
                              <p:cond delay="500"/>
                            </p:stCondLst>
                            <p:childTnLst>
                              <p:par>
                                <p:cTn id="53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4" dur="500"/>
                                        <p:tgtEl>
                                          <p:spTgt spid="3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5" fill="hold">
                      <p:stCondLst>
                        <p:cond delay="indefinite"/>
                      </p:stCondLst>
                      <p:childTnLst>
                        <p:par>
                          <p:cTn id="5356" fill="hold">
                            <p:stCondLst>
                              <p:cond delay="0"/>
                            </p:stCondLst>
                            <p:childTnLst>
                              <p:par>
                                <p:cTn id="53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9" dur="500"/>
                                        <p:tgtEl>
                                          <p:spTgt spid="3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62" dur="500"/>
                                        <p:tgtEl>
                                          <p:spTgt spid="3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3" fill="hold">
                      <p:stCondLst>
                        <p:cond delay="indefinite"/>
                      </p:stCondLst>
                      <p:childTnLst>
                        <p:par>
                          <p:cTn id="5364" fill="hold">
                            <p:stCondLst>
                              <p:cond delay="0"/>
                            </p:stCondLst>
                            <p:childTnLst>
                              <p:par>
                                <p:cTn id="53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67" dur="500"/>
                                        <p:tgtEl>
                                          <p:spTgt spid="3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8" fill="hold">
                      <p:stCondLst>
                        <p:cond delay="indefinite"/>
                      </p:stCondLst>
                      <p:childTnLst>
                        <p:par>
                          <p:cTn id="5369" fill="hold">
                            <p:stCondLst>
                              <p:cond delay="0"/>
                            </p:stCondLst>
                            <p:childTnLst>
                              <p:par>
                                <p:cTn id="5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2" dur="500"/>
                                        <p:tgtEl>
                                          <p:spTgt spid="3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5" dur="500"/>
                                        <p:tgtEl>
                                          <p:spTgt spid="36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6" fill="hold">
                      <p:stCondLst>
                        <p:cond delay="indefinite"/>
                      </p:stCondLst>
                      <p:childTnLst>
                        <p:par>
                          <p:cTn id="5377" fill="hold">
                            <p:stCondLst>
                              <p:cond delay="0"/>
                            </p:stCondLst>
                            <p:childTnLst>
                              <p:par>
                                <p:cTn id="53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0" dur="500"/>
                                        <p:tgtEl>
                                          <p:spTgt spid="3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3" dur="500"/>
                                        <p:tgtEl>
                                          <p:spTgt spid="3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4" fill="hold">
                      <p:stCondLst>
                        <p:cond delay="indefinite"/>
                      </p:stCondLst>
                      <p:childTnLst>
                        <p:par>
                          <p:cTn id="5385" fill="hold">
                            <p:stCondLst>
                              <p:cond delay="0"/>
                            </p:stCondLst>
                            <p:childTnLst>
                              <p:par>
                                <p:cTn id="53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8" dur="500"/>
                                        <p:tgtEl>
                                          <p:spTgt spid="36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9" fill="hold">
                      <p:stCondLst>
                        <p:cond delay="indefinite"/>
                      </p:stCondLst>
                      <p:childTnLst>
                        <p:par>
                          <p:cTn id="5390" fill="hold">
                            <p:stCondLst>
                              <p:cond delay="0"/>
                            </p:stCondLst>
                            <p:childTnLst>
                              <p:par>
                                <p:cTn id="5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3" dur="500"/>
                                        <p:tgtEl>
                                          <p:spTgt spid="3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ction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685800" y="1447920"/>
            <a:ext cx="2362320" cy="30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3048120" y="1447920"/>
            <a:ext cx="16761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qu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5181480" y="1523880"/>
            <a:ext cx="1747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1347840" y="422424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2" name=""/>
          <p:cNvGrpSpPr/>
          <p:nvPr/>
        </p:nvGrpSpPr>
        <p:grpSpPr>
          <a:xfrm>
            <a:off x="762120" y="1523880"/>
            <a:ext cx="3962160" cy="3129120"/>
            <a:chOff x="762120" y="1523880"/>
            <a:chExt cx="3962160" cy="3129120"/>
          </a:xfrm>
        </p:grpSpPr>
        <p:grpSp>
          <p:nvGrpSpPr>
            <p:cNvPr id="3683" name=""/>
            <p:cNvGrpSpPr/>
            <p:nvPr/>
          </p:nvGrpSpPr>
          <p:grpSpPr>
            <a:xfrm>
              <a:off x="762120" y="1523880"/>
              <a:ext cx="3962160" cy="2743200"/>
              <a:chOff x="762120" y="1523880"/>
              <a:chExt cx="3962160" cy="2743200"/>
            </a:xfrm>
          </p:grpSpPr>
          <p:sp>
            <p:nvSpPr>
              <p:cNvPr id="3684" name=""/>
              <p:cNvSpPr/>
              <p:nvPr/>
            </p:nvSpPr>
            <p:spPr>
              <a:xfrm>
                <a:off x="2971800" y="15238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4724280" y="15238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1262160" y="15238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762120" y="2286000"/>
                <a:ext cx="3962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8" name=""/>
            <p:cNvSpPr/>
            <p:nvPr/>
          </p:nvSpPr>
          <p:spPr>
            <a:xfrm>
              <a:off x="1252440" y="4272120"/>
              <a:ext cx="171936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9" name=""/>
          <p:cNvSpPr/>
          <p:nvPr/>
        </p:nvSpPr>
        <p:spPr>
          <a:xfrm>
            <a:off x="366480" y="4992840"/>
            <a:ext cx="9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15238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,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26812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,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2133720" y="5029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333360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453384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573408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6934320" y="5029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39625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,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51814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5,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632448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,2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754380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,2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 txBox="1"/>
          <p:nvPr/>
        </p:nvSpPr>
        <p:spPr>
          <a:xfrm>
            <a:off x="6400800" y="4191120"/>
            <a:ext cx="22096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 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702" name=""/>
          <p:cNvSpPr/>
          <p:nvPr/>
        </p:nvSpPr>
        <p:spPr>
          <a:xfrm>
            <a:off x="5181480" y="3079800"/>
            <a:ext cx="17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2971800" y="23302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2971800" y="2720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2971800" y="3090960"/>
            <a:ext cx="1676520" cy="38088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2971800" y="344952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2971800" y="3809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3202200" y="4419720"/>
            <a:ext cx="2177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adlock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1284120" y="23302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1284120" y="2720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1284120" y="3090960"/>
            <a:ext cx="1676520" cy="38088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1284120" y="344952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1284120" y="3809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4" dur="indefinite" restart="never" nodeType="tmRoot">
          <p:childTnLst>
            <p:seq>
              <p:cTn id="5395" dur="indefinite" nodeType="mainSeq">
                <p:childTnLst>
                  <p:par>
                    <p:cTn id="5396" fill="hold">
                      <p:stCondLst>
                        <p:cond delay="indefinite"/>
                      </p:stCondLst>
                      <p:childTnLst>
                        <p:par>
                          <p:cTn id="5397" fill="hold">
                            <p:stCondLst>
                              <p:cond delay="0"/>
                            </p:stCondLst>
                            <p:childTnLst>
                              <p:par>
                                <p:cTn id="5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0" dur="500"/>
                                        <p:tgtEl>
                                          <p:spTgt spid="3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1" fill="hold">
                      <p:stCondLst>
                        <p:cond delay="indefinite"/>
                      </p:stCondLst>
                      <p:childTnLst>
                        <p:par>
                          <p:cTn id="5402" fill="hold">
                            <p:stCondLst>
                              <p:cond delay="0"/>
                            </p:stCondLst>
                            <p:childTnLst>
                              <p:par>
                                <p:cTn id="54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05" dur="500"/>
                                        <p:tgtEl>
                                          <p:spTgt spid="3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6" fill="hold">
                      <p:stCondLst>
                        <p:cond delay="indefinite"/>
                      </p:stCondLst>
                      <p:childTnLst>
                        <p:par>
                          <p:cTn id="5407" fill="hold">
                            <p:stCondLst>
                              <p:cond delay="0"/>
                            </p:stCondLst>
                            <p:childTnLst>
                              <p:par>
                                <p:cTn id="5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0" dur="500"/>
                                        <p:tgtEl>
                                          <p:spTgt spid="3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1" fill="hold">
                      <p:stCondLst>
                        <p:cond delay="indefinite"/>
                      </p:stCondLst>
                      <p:childTnLst>
                        <p:par>
                          <p:cTn id="5412" fill="hold">
                            <p:stCondLst>
                              <p:cond delay="0"/>
                            </p:stCondLst>
                            <p:childTnLst>
                              <p:par>
                                <p:cTn id="5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5" dur="500" fill="hold"/>
                                        <p:tgtEl>
                                          <p:spTgt spid="3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6" dur="500" fill="hold"/>
                                        <p:tgtEl>
                                          <p:spTgt spid="3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7" fill="hold">
                      <p:stCondLst>
                        <p:cond delay="indefinite"/>
                      </p:stCondLst>
                      <p:childTnLst>
                        <p:par>
                          <p:cTn id="5418" fill="hold">
                            <p:stCondLst>
                              <p:cond delay="0"/>
                            </p:stCondLst>
                            <p:childTnLst>
                              <p:par>
                                <p:cTn id="5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1" dur="500"/>
                                        <p:tgtEl>
                                          <p:spTgt spid="3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2" fill="hold">
                      <p:stCondLst>
                        <p:cond delay="indefinite"/>
                      </p:stCondLst>
                      <p:childTnLst>
                        <p:par>
                          <p:cTn id="5423" fill="hold">
                            <p:stCondLst>
                              <p:cond delay="0"/>
                            </p:stCondLst>
                            <p:childTnLst>
                              <p:par>
                                <p:cTn id="5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6" dur="500"/>
                                        <p:tgtEl>
                                          <p:spTgt spid="3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7" fill="hold">
                      <p:stCondLst>
                        <p:cond delay="indefinite"/>
                      </p:stCondLst>
                      <p:childTnLst>
                        <p:par>
                          <p:cTn id="5428" fill="hold">
                            <p:stCondLst>
                              <p:cond delay="0"/>
                            </p:stCondLst>
                            <p:childTnLst>
                              <p:par>
                                <p:cTn id="54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1" dur="500" fill="hold"/>
                                        <p:tgtEl>
                                          <p:spTgt spid="3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2" dur="500" fill="hold"/>
                                        <p:tgtEl>
                                          <p:spTgt spid="3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3" fill="hold">
                      <p:stCondLst>
                        <p:cond delay="indefinite"/>
                      </p:stCondLst>
                      <p:childTnLst>
                        <p:par>
                          <p:cTn id="5434" fill="hold">
                            <p:stCondLst>
                              <p:cond delay="0"/>
                            </p:stCondLst>
                            <p:childTnLst>
                              <p:par>
                                <p:cTn id="5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7" dur="500"/>
                                        <p:tgtEl>
                                          <p:spTgt spid="3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8" fill="hold">
                      <p:stCondLst>
                        <p:cond delay="indefinite"/>
                      </p:stCondLst>
                      <p:childTnLst>
                        <p:par>
                          <p:cTn id="5439" fill="hold">
                            <p:stCondLst>
                              <p:cond delay="0"/>
                            </p:stCondLst>
                            <p:childTnLst>
                              <p:par>
                                <p:cTn id="5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2" dur="500" fill="hold"/>
                                        <p:tgtEl>
                                          <p:spTgt spid="3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3" dur="500" fill="hold"/>
                                        <p:tgtEl>
                                          <p:spTgt spid="3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4" fill="hold">
                      <p:stCondLst>
                        <p:cond delay="indefinite"/>
                      </p:stCondLst>
                      <p:childTnLst>
                        <p:par>
                          <p:cTn id="5445" fill="hold">
                            <p:stCondLst>
                              <p:cond delay="0"/>
                            </p:stCondLst>
                            <p:childTnLst>
                              <p:par>
                                <p:cTn id="5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8" dur="500" fill="hold"/>
                                        <p:tgtEl>
                                          <p:spTgt spid="3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9" dur="500" fill="hold"/>
                                        <p:tgtEl>
                                          <p:spTgt spid="3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0" fill="hold">
                      <p:stCondLst>
                        <p:cond delay="indefinite"/>
                      </p:stCondLst>
                      <p:childTnLst>
                        <p:par>
                          <p:cTn id="5451" fill="hold">
                            <p:stCondLst>
                              <p:cond delay="0"/>
                            </p:stCondLst>
                            <p:childTnLst>
                              <p:par>
                                <p:cTn id="5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4" dur="500" fill="hold"/>
                                        <p:tgtEl>
                                          <p:spTgt spid="3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5" dur="500" fill="hold"/>
                                        <p:tgtEl>
                                          <p:spTgt spid="3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57" fill="hold">
                      <p:stCondLst>
                        <p:cond delay="indefinite"/>
                      </p:stCondLst>
                      <p:childTnLst>
                        <p:par>
                          <p:cTn id="5458" fill="hold">
                            <p:stCondLst>
                              <p:cond delay="0"/>
                            </p:stCondLst>
                            <p:childTnLst>
                              <p:par>
                                <p:cTn id="5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1" dur="500" fill="hold"/>
                                        <p:tgtEl>
                                          <p:spTgt spid="3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2" dur="500" fill="hold"/>
                                        <p:tgtEl>
                                          <p:spTgt spid="3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3" fill="hold">
                            <p:stCondLst>
                              <p:cond delay="500"/>
                            </p:stCondLst>
                            <p:childTnLst>
                              <p:par>
                                <p:cTn id="5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6" dur="500" fill="hold"/>
                                        <p:tgtEl>
                                          <p:spTgt spid="3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7" dur="500" fill="hold"/>
                                        <p:tgtEl>
                                          <p:spTgt spid="3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69" fill="hold">
                      <p:stCondLst>
                        <p:cond delay="indefinite"/>
                      </p:stCondLst>
                      <p:childTnLst>
                        <p:par>
                          <p:cTn id="5470" fill="hold">
                            <p:stCondLst>
                              <p:cond delay="0"/>
                            </p:stCondLst>
                            <p:childTnLst>
                              <p:par>
                                <p:cTn id="5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3" dur="500" fill="hold"/>
                                        <p:tgtEl>
                                          <p:spTgt spid="3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4" dur="500" fill="hold"/>
                                        <p:tgtEl>
                                          <p:spTgt spid="3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5" fill="hold">
                      <p:stCondLst>
                        <p:cond delay="indefinite"/>
                      </p:stCondLst>
                      <p:childTnLst>
                        <p:par>
                          <p:cTn id="5476" fill="hold">
                            <p:stCondLst>
                              <p:cond delay="0"/>
                            </p:stCondLst>
                            <p:childTnLst>
                              <p:par>
                                <p:cTn id="5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9" dur="500" fill="hold"/>
                                        <p:tgtEl>
                                          <p:spTgt spid="3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0" dur="500" fill="hold"/>
                                        <p:tgtEl>
                                          <p:spTgt spid="3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82" fill="hold">
                      <p:stCondLst>
                        <p:cond delay="indefinite"/>
                      </p:stCondLst>
                      <p:childTnLst>
                        <p:par>
                          <p:cTn id="5483" fill="hold">
                            <p:stCondLst>
                              <p:cond delay="0"/>
                            </p:stCondLst>
                            <p:childTnLst>
                              <p:par>
                                <p:cTn id="5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6" dur="500" fill="hold"/>
                                        <p:tgtEl>
                                          <p:spTgt spid="3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7" dur="500" fill="hold"/>
                                        <p:tgtEl>
                                          <p:spTgt spid="3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8" fill="hold">
                            <p:stCondLst>
                              <p:cond delay="500"/>
                            </p:stCondLst>
                            <p:childTnLst>
                              <p:par>
                                <p:cTn id="5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1" dur="500" fill="hold"/>
                                        <p:tgtEl>
                                          <p:spTgt spid="3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2" dur="500" fill="hold"/>
                                        <p:tgtEl>
                                          <p:spTgt spid="3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94" fill="hold">
                      <p:stCondLst>
                        <p:cond delay="indefinite"/>
                      </p:stCondLst>
                      <p:childTnLst>
                        <p:par>
                          <p:cTn id="5495" fill="hold">
                            <p:stCondLst>
                              <p:cond delay="0"/>
                            </p:stCondLst>
                            <p:childTnLst>
                              <p:par>
                                <p:cTn id="5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8" dur="500" fill="hold"/>
                                        <p:tgtEl>
                                          <p:spTgt spid="3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9" dur="500" fill="hold"/>
                                        <p:tgtEl>
                                          <p:spTgt spid="3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0" fill="hold">
                      <p:stCondLst>
                        <p:cond delay="indefinite"/>
                      </p:stCondLst>
                      <p:childTnLst>
                        <p:par>
                          <p:cTn id="5501" fill="hold">
                            <p:stCondLst>
                              <p:cond delay="0"/>
                            </p:stCondLst>
                            <p:childTnLst>
                              <p:par>
                                <p:cTn id="5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4" dur="500" fill="hold"/>
                                        <p:tgtEl>
                                          <p:spTgt spid="3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5" dur="500" fill="hold"/>
                                        <p:tgtEl>
                                          <p:spTgt spid="3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07" fill="hold">
                      <p:stCondLst>
                        <p:cond delay="indefinite"/>
                      </p:stCondLst>
                      <p:childTnLst>
                        <p:par>
                          <p:cTn id="5508" fill="hold">
                            <p:stCondLst>
                              <p:cond delay="0"/>
                            </p:stCondLst>
                            <p:childTnLst>
                              <p:par>
                                <p:cTn id="5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1" dur="500" fill="hold"/>
                                        <p:tgtEl>
                                          <p:spTgt spid="3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2" dur="500" fill="hold"/>
                                        <p:tgtEl>
                                          <p:spTgt spid="3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6" dur="500" fill="hold"/>
                                        <p:tgtEl>
                                          <p:spTgt spid="3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7" dur="500" fill="hold"/>
                                        <p:tgtEl>
                                          <p:spTgt spid="3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19" fill="hold">
                      <p:stCondLst>
                        <p:cond delay="indefinite"/>
                      </p:stCondLst>
                      <p:childTnLst>
                        <p:par>
                          <p:cTn id="5520" fill="hold">
                            <p:stCondLst>
                              <p:cond delay="0"/>
                            </p:stCondLst>
                            <p:childTnLst>
                              <p:par>
                                <p:cTn id="5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3" dur="500" fill="hold"/>
                                        <p:tgtEl>
                                          <p:spTgt spid="3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4" dur="500" fill="hold"/>
                                        <p:tgtEl>
                                          <p:spTgt spid="3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5" fill="hold">
                      <p:stCondLst>
                        <p:cond delay="indefinite"/>
                      </p:stCondLst>
                      <p:childTnLst>
                        <p:par>
                          <p:cTn id="5526" fill="hold">
                            <p:stCondLst>
                              <p:cond delay="0"/>
                            </p:stCondLst>
                            <p:childTnLst>
                              <p:par>
                                <p:cTn id="5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9" dur="500" fill="hold"/>
                                        <p:tgtEl>
                                          <p:spTgt spid="3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0" dur="500" fill="hold"/>
                                        <p:tgtEl>
                                          <p:spTgt spid="3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32" fill="hold">
                      <p:stCondLst>
                        <p:cond delay="indefinite"/>
                      </p:stCondLst>
                      <p:childTnLst>
                        <p:par>
                          <p:cTn id="5533" fill="hold">
                            <p:stCondLst>
                              <p:cond delay="0"/>
                            </p:stCondLst>
                            <p:childTnLst>
                              <p:par>
                                <p:cTn id="5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6" dur="500" fill="hold"/>
                                        <p:tgtEl>
                                          <p:spTgt spid="3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7" dur="500" fill="hold"/>
                                        <p:tgtEl>
                                          <p:spTgt spid="3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1" dur="500" fill="hold"/>
                                        <p:tgtEl>
                                          <p:spTgt spid="3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2" dur="500" fill="hold"/>
                                        <p:tgtEl>
                                          <p:spTgt spid="3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44" fill="hold">
                      <p:stCondLst>
                        <p:cond delay="indefinite"/>
                      </p:stCondLst>
                      <p:childTnLst>
                        <p:par>
                          <p:cTn id="5545" fill="hold">
                            <p:stCondLst>
                              <p:cond delay="0"/>
                            </p:stCondLst>
                            <p:childTnLst>
                              <p:par>
                                <p:cTn id="5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8" dur="500" fill="hold"/>
                                        <p:tgtEl>
                                          <p:spTgt spid="3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9" dur="500" fill="hold"/>
                                        <p:tgtEl>
                                          <p:spTgt spid="3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0" fill="hold">
                      <p:stCondLst>
                        <p:cond delay="indefinite"/>
                      </p:stCondLst>
                      <p:childTnLst>
                        <p:par>
                          <p:cTn id="5551" fill="hold">
                            <p:stCondLst>
                              <p:cond delay="0"/>
                            </p:stCondLst>
                            <p:childTnLst>
                              <p:par>
                                <p:cTn id="5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4" dur="500" fill="hold"/>
                                        <p:tgtEl>
                                          <p:spTgt spid="3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5" dur="500" fill="hold"/>
                                        <p:tgtEl>
                                          <p:spTgt spid="3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57" fill="hold">
                      <p:stCondLst>
                        <p:cond delay="indefinite"/>
                      </p:stCondLst>
                      <p:childTnLst>
                        <p:par>
                          <p:cTn id="5558" fill="hold">
                            <p:stCondLst>
                              <p:cond delay="0"/>
                            </p:stCondLst>
                            <p:childTnLst>
                              <p:par>
                                <p:cTn id="5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1" dur="500" fill="hold"/>
                                        <p:tgtEl>
                                          <p:spTgt spid="3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2" dur="500" fill="hold"/>
                                        <p:tgtEl>
                                          <p:spTgt spid="3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3" fill="hold">
                      <p:stCondLst>
                        <p:cond delay="indefinite"/>
                      </p:stCondLst>
                      <p:childTnLst>
                        <p:par>
                          <p:cTn id="5564" fill="hold">
                            <p:stCondLst>
                              <p:cond delay="0"/>
                            </p:stCondLst>
                            <p:childTnLst>
                              <p:par>
                                <p:cTn id="55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7" dur="500" fill="hold"/>
                                        <p:tgtEl>
                                          <p:spTgt spid="3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8" dur="500" fill="hold"/>
                                        <p:tgtEl>
                                          <p:spTgt spid="3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5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3" dur="1000" fill="hold"/>
                                        <p:tgtEl>
                                          <p:spTgt spid="3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4" dur="1000" fill="hold"/>
                                        <p:tgtEl>
                                          <p:spTgt spid="3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5" dur="1000" fill="hold"/>
                                        <p:tgtEl>
                                          <p:spTgt spid="3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6" dur="1000" fill="hold"/>
                                        <p:tgtEl>
                                          <p:spTgt spid="3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ction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685800" y="1447920"/>
            <a:ext cx="2362320" cy="30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3048120" y="1447920"/>
            <a:ext cx="16761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qu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297180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472428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126216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762120" y="22860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5181480" y="1523880"/>
            <a:ext cx="1747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2" name=""/>
          <p:cNvGrpSpPr/>
          <p:nvPr/>
        </p:nvGrpSpPr>
        <p:grpSpPr>
          <a:xfrm>
            <a:off x="1252440" y="4224240"/>
            <a:ext cx="1843200" cy="459720"/>
            <a:chOff x="1252440" y="4224240"/>
            <a:chExt cx="1843200" cy="459720"/>
          </a:xfrm>
        </p:grpSpPr>
        <p:sp>
          <p:nvSpPr>
            <p:cNvPr id="3723" name=""/>
            <p:cNvSpPr/>
            <p:nvPr/>
          </p:nvSpPr>
          <p:spPr>
            <a:xfrm>
              <a:off x="1347840" y="4224240"/>
              <a:ext cx="17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1252440" y="4272120"/>
              <a:ext cx="171936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5" name=""/>
          <p:cNvSpPr/>
          <p:nvPr/>
        </p:nvSpPr>
        <p:spPr>
          <a:xfrm>
            <a:off x="366480" y="4992840"/>
            <a:ext cx="9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15238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,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26812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,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2133720" y="5029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 txBox="1"/>
          <p:nvPr/>
        </p:nvSpPr>
        <p:spPr>
          <a:xfrm>
            <a:off x="4572000" y="4648320"/>
            <a:ext cx="22096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730" name=""/>
          <p:cNvSpPr/>
          <p:nvPr/>
        </p:nvSpPr>
        <p:spPr>
          <a:xfrm>
            <a:off x="7093800" y="2438280"/>
            <a:ext cx="1433520" cy="510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0,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4205160" y="3081240"/>
            <a:ext cx="381240" cy="38124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6019920" y="5410080"/>
            <a:ext cx="236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6586560" y="5396040"/>
            <a:ext cx="533520" cy="60948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3202200" y="4419720"/>
            <a:ext cx="2177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adlock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3068640" y="3114720"/>
            <a:ext cx="79380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 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2971800" y="23302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2971800" y="2720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2971800" y="3090960"/>
            <a:ext cx="1676520" cy="38088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2971800" y="344952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2971800" y="3809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7" dur="indefinite" restart="never" nodeType="tmRoot">
          <p:childTnLst>
            <p:seq>
              <p:cTn id="5578" dur="indefinite" nodeType="mainSeq">
                <p:childTnLst>
                  <p:par>
                    <p:cTn id="5579" fill="hold">
                      <p:stCondLst>
                        <p:cond delay="indefinite"/>
                      </p:stCondLst>
                      <p:childTnLst>
                        <p:par>
                          <p:cTn id="5580" fill="hold">
                            <p:stCondLst>
                              <p:cond delay="0"/>
                            </p:stCondLst>
                            <p:childTnLst>
                              <p:par>
                                <p:cTn id="55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3" dur="500" fill="hold"/>
                                        <p:tgtEl>
                                          <p:spTgt spid="3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4" dur="500" fill="hold"/>
                                        <p:tgtEl>
                                          <p:spTgt spid="3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5" fill="hold">
                      <p:stCondLst>
                        <p:cond delay="indefinite"/>
                      </p:stCondLst>
                      <p:childTnLst>
                        <p:par>
                          <p:cTn id="5586" fill="hold">
                            <p:stCondLst>
                              <p:cond delay="0"/>
                            </p:stCondLst>
                            <p:childTnLst>
                              <p:par>
                                <p:cTn id="5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9" dur="500" fill="hold"/>
                                        <p:tgtEl>
                                          <p:spTgt spid="3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0" dur="500" fill="hold"/>
                                        <p:tgtEl>
                                          <p:spTgt spid="3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4" fill="hold">
                      <p:stCondLst>
                        <p:cond delay="indefinite"/>
                      </p:stCondLst>
                      <p:childTnLst>
                        <p:par>
                          <p:cTn id="5595" fill="hold">
                            <p:stCondLst>
                              <p:cond delay="0"/>
                            </p:stCondLst>
                            <p:childTnLst>
                              <p:par>
                                <p:cTn id="559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8" dur="500" fill="hold"/>
                                        <p:tgtEl>
                                          <p:spTgt spid="3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9" dur="500" fill="hold"/>
                                        <p:tgtEl>
                                          <p:spTgt spid="3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0" fill="hold">
                      <p:stCondLst>
                        <p:cond delay="indefinite"/>
                      </p:stCondLst>
                      <p:childTnLst>
                        <p:par>
                          <p:cTn id="5601" fill="hold">
                            <p:stCondLst>
                              <p:cond delay="0"/>
                            </p:stCondLst>
                            <p:childTnLst>
                              <p:par>
                                <p:cTn id="5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4" dur="500"/>
                                        <p:tgtEl>
                                          <p:spTgt spid="3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5" fill="hold">
                      <p:stCondLst>
                        <p:cond delay="indefinite"/>
                      </p:stCondLst>
                      <p:childTnLst>
                        <p:par>
                          <p:cTn id="5606" fill="hold">
                            <p:stCondLst>
                              <p:cond delay="0"/>
                            </p:stCondLst>
                            <p:childTnLst>
                              <p:par>
                                <p:cTn id="56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9" dur="500" fill="hold"/>
                                        <p:tgtEl>
                                          <p:spTgt spid="3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0" dur="500" fill="hold"/>
                                        <p:tgtEl>
                                          <p:spTgt spid="3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1" fill="hold">
                      <p:stCondLst>
                        <p:cond delay="indefinite"/>
                      </p:stCondLst>
                      <p:childTnLst>
                        <p:par>
                          <p:cTn id="5612" fill="hold">
                            <p:stCondLst>
                              <p:cond delay="0"/>
                            </p:stCondLst>
                            <p:childTnLst>
                              <p:par>
                                <p:cTn id="5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5" dur="500" fill="hold"/>
                                        <p:tgtEl>
                                          <p:spTgt spid="3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6" dur="500" fill="hold"/>
                                        <p:tgtEl>
                                          <p:spTgt spid="3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7" fill="hold">
                      <p:stCondLst>
                        <p:cond delay="indefinite"/>
                      </p:stCondLst>
                      <p:childTnLst>
                        <p:par>
                          <p:cTn id="5618" fill="hold">
                            <p:stCondLst>
                              <p:cond delay="0"/>
                            </p:stCondLst>
                            <p:childTnLst>
                              <p:par>
                                <p:cTn id="56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1" dur="500" fill="hold"/>
                                        <p:tgtEl>
                                          <p:spTgt spid="3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2" dur="500" fill="hold"/>
                                        <p:tgtEl>
                                          <p:spTgt spid="3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24" fill="hold">
                            <p:stCondLst>
                              <p:cond delay="500"/>
                            </p:stCondLst>
                            <p:childTnLst>
                              <p:par>
                                <p:cTn id="56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7" dur="500" fill="hold"/>
                                        <p:tgtEl>
                                          <p:spTgt spid="3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8" dur="500" fill="hold"/>
                                        <p:tgtEl>
                                          <p:spTgt spid="3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9" fill="hold">
                      <p:stCondLst>
                        <p:cond delay="indefinite"/>
                      </p:stCondLst>
                      <p:childTnLst>
                        <p:par>
                          <p:cTn id="5630" fill="hold">
                            <p:stCondLst>
                              <p:cond delay="0"/>
                            </p:stCondLst>
                            <p:childTnLst>
                              <p:par>
                                <p:cTn id="56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3" dur="500" fill="hold"/>
                                        <p:tgtEl>
                                          <p:spTgt spid="3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4" dur="500" fill="hold"/>
                                        <p:tgtEl>
                                          <p:spTgt spid="3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5" fill="hold">
                      <p:stCondLst>
                        <p:cond delay="indefinite"/>
                      </p:stCondLst>
                      <p:childTnLst>
                        <p:par>
                          <p:cTn id="5636" fill="hold">
                            <p:stCondLst>
                              <p:cond delay="0"/>
                            </p:stCondLst>
                            <p:childTnLst>
                              <p:par>
                                <p:cTn id="5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9" dur="500" fill="hold"/>
                                        <p:tgtEl>
                                          <p:spTgt spid="3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0" dur="500" fill="hold"/>
                                        <p:tgtEl>
                                          <p:spTgt spid="3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42" fill="hold">
                      <p:stCondLst>
                        <p:cond delay="indefinite"/>
                      </p:stCondLst>
                      <p:childTnLst>
                        <p:par>
                          <p:cTn id="5643" fill="hold">
                            <p:stCondLst>
                              <p:cond delay="0"/>
                            </p:stCondLst>
                            <p:childTnLst>
                              <p:par>
                                <p:cTn id="5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6" dur="500" fill="hold"/>
                                        <p:tgtEl>
                                          <p:spTgt spid="3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7" dur="500" fill="hold"/>
                                        <p:tgtEl>
                                          <p:spTgt spid="3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49" fill="hold">
                      <p:stCondLst>
                        <p:cond delay="indefinite"/>
                      </p:stCondLst>
                      <p:childTnLst>
                        <p:par>
                          <p:cTn id="5650" fill="hold">
                            <p:stCondLst>
                              <p:cond delay="0"/>
                            </p:stCondLst>
                            <p:childTnLst>
                              <p:par>
                                <p:cTn id="5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3" dur="500" fill="hold"/>
                                        <p:tgtEl>
                                          <p:spTgt spid="3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4" dur="500" fill="hold"/>
                                        <p:tgtEl>
                                          <p:spTgt spid="3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56" fill="hold">
                      <p:stCondLst>
                        <p:cond delay="indefinite"/>
                      </p:stCondLst>
                      <p:childTnLst>
                        <p:par>
                          <p:cTn id="5657" fill="hold">
                            <p:stCondLst>
                              <p:cond delay="0"/>
                            </p:stCondLst>
                            <p:childTnLst>
                              <p:par>
                                <p:cTn id="56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0" dur="1000" fill="hold"/>
                                        <p:tgtEl>
                                          <p:spTgt spid="3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1" dur="1000" fill="hold"/>
                                        <p:tgtEl>
                                          <p:spTgt spid="3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2" dur="1000" fill="hold"/>
                                        <p:tgtEl>
                                          <p:spTgt spid="3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3" dur="1000" fill="hold"/>
                                        <p:tgtEl>
                                          <p:spTgt spid="3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65" fill="hold">
                      <p:stCondLst>
                        <p:cond delay="indefinite"/>
                      </p:stCondLst>
                      <p:childTnLst>
                        <p:par>
                          <p:cTn id="5666" fill="hold">
                            <p:stCondLst>
                              <p:cond delay="0"/>
                            </p:stCondLst>
                            <p:childTnLst>
                              <p:par>
                                <p:cTn id="56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9" dur="500"/>
                                        <p:tgtEl>
                                          <p:spTgt spid="3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0" fill="hold">
                      <p:stCondLst>
                        <p:cond delay="indefinite"/>
                      </p:stCondLst>
                      <p:childTnLst>
                        <p:par>
                          <p:cTn id="5671" fill="hold">
                            <p:stCondLst>
                              <p:cond delay="0"/>
                            </p:stCondLst>
                            <p:childTnLst>
                              <p:par>
                                <p:cTn id="56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4" dur="500" fill="hold"/>
                                        <p:tgtEl>
                                          <p:spTgt spid="3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5" dur="500" fill="hold"/>
                                        <p:tgtEl>
                                          <p:spTgt spid="3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De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istic view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urrent (unfulfilled) reque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lock still possible in “futur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De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 of running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5" name=""/>
          <p:cNvGraphicFramePr/>
          <p:nvPr/>
        </p:nvGraphicFramePr>
        <p:xfrm>
          <a:off x="6248520" y="1981080"/>
          <a:ext cx="2209680" cy="19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981080"/>
                    <a:ext cx="220968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7" name=""/>
          <p:cNvSpPr/>
          <p:nvPr/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request c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gr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lty”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per hour, 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PU utilization drops below 40%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ycl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cess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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8" name=""/>
          <p:cNvGrpSpPr/>
          <p:nvPr/>
        </p:nvGrpSpPr>
        <p:grpSpPr>
          <a:xfrm>
            <a:off x="7620120" y="1976400"/>
            <a:ext cx="457200" cy="614160"/>
            <a:chOff x="7620120" y="1976400"/>
            <a:chExt cx="457200" cy="614160"/>
          </a:xfrm>
        </p:grpSpPr>
        <p:sp>
          <p:nvSpPr>
            <p:cNvPr id="3749" name=""/>
            <p:cNvSpPr/>
            <p:nvPr/>
          </p:nvSpPr>
          <p:spPr>
            <a:xfrm>
              <a:off x="7624080" y="2330280"/>
              <a:ext cx="209880" cy="257760"/>
            </a:xfrm>
            <a:custGeom>
              <a:avLst/>
              <a:gdLst/>
              <a:ahLst/>
              <a:rect l="l" t="t" r="r" b="b"/>
              <a:pathLst>
                <a:path w="731" h="830">
                  <a:moveTo>
                    <a:pt x="693" y="0"/>
                  </a:moveTo>
                  <a:lnTo>
                    <a:pt x="731" y="82"/>
                  </a:lnTo>
                  <a:lnTo>
                    <a:pt x="656" y="207"/>
                  </a:lnTo>
                  <a:lnTo>
                    <a:pt x="559" y="355"/>
                  </a:lnTo>
                  <a:lnTo>
                    <a:pt x="462" y="519"/>
                  </a:lnTo>
                  <a:lnTo>
                    <a:pt x="372" y="623"/>
                  </a:lnTo>
                  <a:lnTo>
                    <a:pt x="253" y="764"/>
                  </a:lnTo>
                  <a:lnTo>
                    <a:pt x="178" y="830"/>
                  </a:lnTo>
                  <a:lnTo>
                    <a:pt x="105" y="800"/>
                  </a:lnTo>
                  <a:lnTo>
                    <a:pt x="23" y="712"/>
                  </a:lnTo>
                  <a:lnTo>
                    <a:pt x="0" y="652"/>
                  </a:lnTo>
                  <a:lnTo>
                    <a:pt x="67" y="496"/>
                  </a:lnTo>
                  <a:lnTo>
                    <a:pt x="171" y="334"/>
                  </a:lnTo>
                  <a:lnTo>
                    <a:pt x="276" y="200"/>
                  </a:lnTo>
                  <a:lnTo>
                    <a:pt x="417" y="96"/>
                  </a:lnTo>
                  <a:lnTo>
                    <a:pt x="559" y="37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ad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7824240" y="1998720"/>
              <a:ext cx="251280" cy="354600"/>
            </a:xfrm>
            <a:custGeom>
              <a:avLst/>
              <a:gdLst/>
              <a:ahLst/>
              <a:rect l="l" t="t" r="r" b="b"/>
              <a:pathLst>
                <a:path w="876" h="1139">
                  <a:moveTo>
                    <a:pt x="653" y="0"/>
                  </a:moveTo>
                  <a:lnTo>
                    <a:pt x="846" y="103"/>
                  </a:lnTo>
                  <a:lnTo>
                    <a:pt x="876" y="289"/>
                  </a:lnTo>
                  <a:lnTo>
                    <a:pt x="855" y="525"/>
                  </a:lnTo>
                  <a:lnTo>
                    <a:pt x="794" y="695"/>
                  </a:lnTo>
                  <a:lnTo>
                    <a:pt x="735" y="836"/>
                  </a:lnTo>
                  <a:lnTo>
                    <a:pt x="624" y="932"/>
                  </a:lnTo>
                  <a:lnTo>
                    <a:pt x="519" y="1014"/>
                  </a:lnTo>
                  <a:lnTo>
                    <a:pt x="371" y="1066"/>
                  </a:lnTo>
                  <a:lnTo>
                    <a:pt x="134" y="1057"/>
                  </a:lnTo>
                  <a:lnTo>
                    <a:pt x="66" y="1139"/>
                  </a:lnTo>
                  <a:lnTo>
                    <a:pt x="0" y="1057"/>
                  </a:lnTo>
                  <a:lnTo>
                    <a:pt x="75" y="962"/>
                  </a:lnTo>
                  <a:lnTo>
                    <a:pt x="289" y="932"/>
                  </a:lnTo>
                  <a:lnTo>
                    <a:pt x="468" y="828"/>
                  </a:lnTo>
                  <a:lnTo>
                    <a:pt x="580" y="695"/>
                  </a:lnTo>
                  <a:lnTo>
                    <a:pt x="676" y="518"/>
                  </a:lnTo>
                  <a:lnTo>
                    <a:pt x="705" y="362"/>
                  </a:lnTo>
                  <a:lnTo>
                    <a:pt x="712" y="185"/>
                  </a:lnTo>
                  <a:lnTo>
                    <a:pt x="676" y="73"/>
                  </a:lnTo>
                  <a:lnTo>
                    <a:pt x="653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866360" y="1982880"/>
              <a:ext cx="210960" cy="354960"/>
            </a:xfrm>
            <a:custGeom>
              <a:avLst/>
              <a:gdLst/>
              <a:ahLst/>
              <a:rect l="l" t="t" r="r" b="b"/>
              <a:pathLst>
                <a:path w="736" h="1138">
                  <a:moveTo>
                    <a:pt x="89" y="1087"/>
                  </a:moveTo>
                  <a:lnTo>
                    <a:pt x="216" y="1087"/>
                  </a:lnTo>
                  <a:lnTo>
                    <a:pt x="349" y="1035"/>
                  </a:lnTo>
                  <a:lnTo>
                    <a:pt x="446" y="969"/>
                  </a:lnTo>
                  <a:lnTo>
                    <a:pt x="544" y="872"/>
                  </a:lnTo>
                  <a:lnTo>
                    <a:pt x="617" y="747"/>
                  </a:lnTo>
                  <a:lnTo>
                    <a:pt x="662" y="613"/>
                  </a:lnTo>
                  <a:lnTo>
                    <a:pt x="692" y="488"/>
                  </a:lnTo>
                  <a:lnTo>
                    <a:pt x="699" y="370"/>
                  </a:lnTo>
                  <a:lnTo>
                    <a:pt x="692" y="267"/>
                  </a:lnTo>
                  <a:lnTo>
                    <a:pt x="685" y="185"/>
                  </a:lnTo>
                  <a:lnTo>
                    <a:pt x="633" y="141"/>
                  </a:lnTo>
                  <a:lnTo>
                    <a:pt x="565" y="97"/>
                  </a:lnTo>
                  <a:lnTo>
                    <a:pt x="535" y="90"/>
                  </a:lnTo>
                  <a:lnTo>
                    <a:pt x="490" y="38"/>
                  </a:lnTo>
                  <a:lnTo>
                    <a:pt x="499" y="0"/>
                  </a:lnTo>
                  <a:lnTo>
                    <a:pt x="551" y="38"/>
                  </a:lnTo>
                  <a:lnTo>
                    <a:pt x="713" y="156"/>
                  </a:lnTo>
                  <a:lnTo>
                    <a:pt x="736" y="236"/>
                  </a:lnTo>
                  <a:lnTo>
                    <a:pt x="736" y="347"/>
                  </a:lnTo>
                  <a:lnTo>
                    <a:pt x="736" y="458"/>
                  </a:lnTo>
                  <a:lnTo>
                    <a:pt x="729" y="584"/>
                  </a:lnTo>
                  <a:lnTo>
                    <a:pt x="692" y="688"/>
                  </a:lnTo>
                  <a:lnTo>
                    <a:pt x="662" y="783"/>
                  </a:lnTo>
                  <a:lnTo>
                    <a:pt x="617" y="865"/>
                  </a:lnTo>
                  <a:lnTo>
                    <a:pt x="565" y="931"/>
                  </a:lnTo>
                  <a:lnTo>
                    <a:pt x="506" y="997"/>
                  </a:lnTo>
                  <a:lnTo>
                    <a:pt x="417" y="1049"/>
                  </a:lnTo>
                  <a:lnTo>
                    <a:pt x="312" y="1101"/>
                  </a:lnTo>
                  <a:lnTo>
                    <a:pt x="216" y="1131"/>
                  </a:lnTo>
                  <a:lnTo>
                    <a:pt x="75" y="1138"/>
                  </a:lnTo>
                  <a:lnTo>
                    <a:pt x="0" y="1101"/>
                  </a:lnTo>
                  <a:lnTo>
                    <a:pt x="89" y="10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7809480" y="1980720"/>
              <a:ext cx="223560" cy="388440"/>
            </a:xfrm>
            <a:custGeom>
              <a:avLst/>
              <a:gdLst/>
              <a:ahLst/>
              <a:rect l="l" t="t" r="r" b="b"/>
              <a:pathLst>
                <a:path w="779" h="1249">
                  <a:moveTo>
                    <a:pt x="155" y="1190"/>
                  </a:moveTo>
                  <a:lnTo>
                    <a:pt x="230" y="1094"/>
                  </a:lnTo>
                  <a:lnTo>
                    <a:pt x="230" y="1027"/>
                  </a:lnTo>
                  <a:lnTo>
                    <a:pt x="341" y="997"/>
                  </a:lnTo>
                  <a:lnTo>
                    <a:pt x="460" y="945"/>
                  </a:lnTo>
                  <a:lnTo>
                    <a:pt x="549" y="872"/>
                  </a:lnTo>
                  <a:lnTo>
                    <a:pt x="631" y="768"/>
                  </a:lnTo>
                  <a:lnTo>
                    <a:pt x="697" y="672"/>
                  </a:lnTo>
                  <a:lnTo>
                    <a:pt x="742" y="554"/>
                  </a:lnTo>
                  <a:lnTo>
                    <a:pt x="758" y="443"/>
                  </a:lnTo>
                  <a:lnTo>
                    <a:pt x="779" y="356"/>
                  </a:lnTo>
                  <a:lnTo>
                    <a:pt x="779" y="207"/>
                  </a:lnTo>
                  <a:lnTo>
                    <a:pt x="749" y="111"/>
                  </a:lnTo>
                  <a:lnTo>
                    <a:pt x="705" y="38"/>
                  </a:lnTo>
                  <a:lnTo>
                    <a:pt x="638" y="0"/>
                  </a:lnTo>
                  <a:lnTo>
                    <a:pt x="676" y="66"/>
                  </a:lnTo>
                  <a:lnTo>
                    <a:pt x="721" y="141"/>
                  </a:lnTo>
                  <a:lnTo>
                    <a:pt x="742" y="222"/>
                  </a:lnTo>
                  <a:lnTo>
                    <a:pt x="735" y="311"/>
                  </a:lnTo>
                  <a:lnTo>
                    <a:pt x="728" y="415"/>
                  </a:lnTo>
                  <a:lnTo>
                    <a:pt x="705" y="540"/>
                  </a:lnTo>
                  <a:lnTo>
                    <a:pt x="676" y="636"/>
                  </a:lnTo>
                  <a:lnTo>
                    <a:pt x="608" y="731"/>
                  </a:lnTo>
                  <a:lnTo>
                    <a:pt x="542" y="820"/>
                  </a:lnTo>
                  <a:lnTo>
                    <a:pt x="467" y="886"/>
                  </a:lnTo>
                  <a:lnTo>
                    <a:pt x="364" y="945"/>
                  </a:lnTo>
                  <a:lnTo>
                    <a:pt x="274" y="983"/>
                  </a:lnTo>
                  <a:lnTo>
                    <a:pt x="178" y="990"/>
                  </a:lnTo>
                  <a:lnTo>
                    <a:pt x="110" y="968"/>
                  </a:lnTo>
                  <a:lnTo>
                    <a:pt x="66" y="1020"/>
                  </a:lnTo>
                  <a:lnTo>
                    <a:pt x="0" y="1117"/>
                  </a:lnTo>
                  <a:lnTo>
                    <a:pt x="51" y="1168"/>
                  </a:lnTo>
                  <a:lnTo>
                    <a:pt x="141" y="1056"/>
                  </a:lnTo>
                  <a:lnTo>
                    <a:pt x="192" y="1065"/>
                  </a:lnTo>
                  <a:lnTo>
                    <a:pt x="82" y="1197"/>
                  </a:lnTo>
                  <a:lnTo>
                    <a:pt x="110" y="1249"/>
                  </a:lnTo>
                  <a:lnTo>
                    <a:pt x="155" y="1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7806960" y="1976400"/>
              <a:ext cx="216000" cy="325080"/>
            </a:xfrm>
            <a:custGeom>
              <a:avLst/>
              <a:gdLst/>
              <a:ahLst/>
              <a:rect l="l" t="t" r="r" b="b"/>
              <a:pathLst>
                <a:path w="751" h="1045">
                  <a:moveTo>
                    <a:pt x="104" y="1023"/>
                  </a:moveTo>
                  <a:lnTo>
                    <a:pt x="52" y="948"/>
                  </a:lnTo>
                  <a:lnTo>
                    <a:pt x="14" y="875"/>
                  </a:lnTo>
                  <a:lnTo>
                    <a:pt x="0" y="779"/>
                  </a:lnTo>
                  <a:lnTo>
                    <a:pt x="7" y="659"/>
                  </a:lnTo>
                  <a:lnTo>
                    <a:pt x="30" y="527"/>
                  </a:lnTo>
                  <a:lnTo>
                    <a:pt x="75" y="386"/>
                  </a:lnTo>
                  <a:lnTo>
                    <a:pt x="141" y="259"/>
                  </a:lnTo>
                  <a:lnTo>
                    <a:pt x="246" y="134"/>
                  </a:lnTo>
                  <a:lnTo>
                    <a:pt x="387" y="45"/>
                  </a:lnTo>
                  <a:lnTo>
                    <a:pt x="514" y="0"/>
                  </a:lnTo>
                  <a:lnTo>
                    <a:pt x="603" y="8"/>
                  </a:lnTo>
                  <a:lnTo>
                    <a:pt x="676" y="38"/>
                  </a:lnTo>
                  <a:lnTo>
                    <a:pt x="751" y="90"/>
                  </a:lnTo>
                  <a:lnTo>
                    <a:pt x="737" y="134"/>
                  </a:lnTo>
                  <a:lnTo>
                    <a:pt x="647" y="67"/>
                  </a:lnTo>
                  <a:lnTo>
                    <a:pt x="594" y="45"/>
                  </a:lnTo>
                  <a:lnTo>
                    <a:pt x="521" y="45"/>
                  </a:lnTo>
                  <a:lnTo>
                    <a:pt x="453" y="67"/>
                  </a:lnTo>
                  <a:lnTo>
                    <a:pt x="371" y="97"/>
                  </a:lnTo>
                  <a:lnTo>
                    <a:pt x="312" y="141"/>
                  </a:lnTo>
                  <a:lnTo>
                    <a:pt x="246" y="186"/>
                  </a:lnTo>
                  <a:lnTo>
                    <a:pt x="201" y="252"/>
                  </a:lnTo>
                  <a:lnTo>
                    <a:pt x="157" y="327"/>
                  </a:lnTo>
                  <a:lnTo>
                    <a:pt x="112" y="415"/>
                  </a:lnTo>
                  <a:lnTo>
                    <a:pt x="75" y="511"/>
                  </a:lnTo>
                  <a:lnTo>
                    <a:pt x="52" y="630"/>
                  </a:lnTo>
                  <a:lnTo>
                    <a:pt x="52" y="763"/>
                  </a:lnTo>
                  <a:lnTo>
                    <a:pt x="59" y="875"/>
                  </a:lnTo>
                  <a:lnTo>
                    <a:pt x="112" y="971"/>
                  </a:lnTo>
                  <a:lnTo>
                    <a:pt x="216" y="1045"/>
                  </a:lnTo>
                  <a:lnTo>
                    <a:pt x="104" y="10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946280" y="2060280"/>
              <a:ext cx="23760" cy="85680"/>
            </a:xfrm>
            <a:custGeom>
              <a:avLst/>
              <a:gdLst/>
              <a:ahLst/>
              <a:rect l="l" t="t" r="r" b="b"/>
              <a:pathLst>
                <a:path w="85" h="275">
                  <a:moveTo>
                    <a:pt x="0" y="0"/>
                  </a:moveTo>
                  <a:lnTo>
                    <a:pt x="43" y="53"/>
                  </a:lnTo>
                  <a:lnTo>
                    <a:pt x="68" y="115"/>
                  </a:lnTo>
                  <a:lnTo>
                    <a:pt x="85" y="206"/>
                  </a:lnTo>
                  <a:lnTo>
                    <a:pt x="76" y="275"/>
                  </a:lnTo>
                  <a:lnTo>
                    <a:pt x="50" y="245"/>
                  </a:lnTo>
                  <a:lnTo>
                    <a:pt x="43" y="169"/>
                  </a:lnTo>
                  <a:lnTo>
                    <a:pt x="17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7620120" y="2322720"/>
              <a:ext cx="230760" cy="267840"/>
            </a:xfrm>
            <a:custGeom>
              <a:avLst/>
              <a:gdLst/>
              <a:ahLst/>
              <a:rect l="l" t="t" r="r" b="b"/>
              <a:pathLst>
                <a:path w="803" h="860">
                  <a:moveTo>
                    <a:pt x="714" y="0"/>
                  </a:moveTo>
                  <a:lnTo>
                    <a:pt x="595" y="21"/>
                  </a:lnTo>
                  <a:lnTo>
                    <a:pt x="491" y="52"/>
                  </a:lnTo>
                  <a:lnTo>
                    <a:pt x="372" y="134"/>
                  </a:lnTo>
                  <a:lnTo>
                    <a:pt x="261" y="237"/>
                  </a:lnTo>
                  <a:lnTo>
                    <a:pt x="157" y="364"/>
                  </a:lnTo>
                  <a:lnTo>
                    <a:pt x="45" y="534"/>
                  </a:lnTo>
                  <a:lnTo>
                    <a:pt x="0" y="653"/>
                  </a:lnTo>
                  <a:lnTo>
                    <a:pt x="0" y="698"/>
                  </a:lnTo>
                  <a:lnTo>
                    <a:pt x="45" y="749"/>
                  </a:lnTo>
                  <a:lnTo>
                    <a:pt x="104" y="816"/>
                  </a:lnTo>
                  <a:lnTo>
                    <a:pt x="202" y="860"/>
                  </a:lnTo>
                  <a:lnTo>
                    <a:pt x="268" y="830"/>
                  </a:lnTo>
                  <a:lnTo>
                    <a:pt x="380" y="689"/>
                  </a:lnTo>
                  <a:lnTo>
                    <a:pt x="491" y="548"/>
                  </a:lnTo>
                  <a:lnTo>
                    <a:pt x="595" y="378"/>
                  </a:lnTo>
                  <a:lnTo>
                    <a:pt x="700" y="237"/>
                  </a:lnTo>
                  <a:lnTo>
                    <a:pt x="803" y="111"/>
                  </a:lnTo>
                  <a:lnTo>
                    <a:pt x="782" y="37"/>
                  </a:lnTo>
                  <a:lnTo>
                    <a:pt x="714" y="44"/>
                  </a:lnTo>
                  <a:lnTo>
                    <a:pt x="700" y="103"/>
                  </a:lnTo>
                  <a:lnTo>
                    <a:pt x="669" y="193"/>
                  </a:lnTo>
                  <a:lnTo>
                    <a:pt x="580" y="312"/>
                  </a:lnTo>
                  <a:lnTo>
                    <a:pt x="514" y="423"/>
                  </a:lnTo>
                  <a:lnTo>
                    <a:pt x="432" y="534"/>
                  </a:lnTo>
                  <a:lnTo>
                    <a:pt x="380" y="630"/>
                  </a:lnTo>
                  <a:lnTo>
                    <a:pt x="282" y="734"/>
                  </a:lnTo>
                  <a:lnTo>
                    <a:pt x="223" y="801"/>
                  </a:lnTo>
                  <a:lnTo>
                    <a:pt x="179" y="816"/>
                  </a:lnTo>
                  <a:lnTo>
                    <a:pt x="97" y="778"/>
                  </a:lnTo>
                  <a:lnTo>
                    <a:pt x="59" y="712"/>
                  </a:lnTo>
                  <a:lnTo>
                    <a:pt x="52" y="653"/>
                  </a:lnTo>
                  <a:lnTo>
                    <a:pt x="90" y="557"/>
                  </a:lnTo>
                  <a:lnTo>
                    <a:pt x="149" y="444"/>
                  </a:lnTo>
                  <a:lnTo>
                    <a:pt x="231" y="319"/>
                  </a:lnTo>
                  <a:lnTo>
                    <a:pt x="343" y="216"/>
                  </a:lnTo>
                  <a:lnTo>
                    <a:pt x="439" y="134"/>
                  </a:lnTo>
                  <a:lnTo>
                    <a:pt x="550" y="75"/>
                  </a:lnTo>
                  <a:lnTo>
                    <a:pt x="639" y="59"/>
                  </a:lnTo>
                  <a:lnTo>
                    <a:pt x="707" y="44"/>
                  </a:lnTo>
                  <a:lnTo>
                    <a:pt x="7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6" dur="indefinite" restart="never" nodeType="tmRoot">
          <p:childTnLst>
            <p:seq>
              <p:cTn id="5677" dur="indefinite" nodeType="mainSeq">
                <p:childTnLst>
                  <p:par>
                    <p:cTn id="5678" fill="hold">
                      <p:stCondLst>
                        <p:cond delay="indefinite"/>
                      </p:stCondLst>
                      <p:childTnLst>
                        <p:par>
                          <p:cTn id="5679" fill="hold">
                            <p:stCondLst>
                              <p:cond delay="0"/>
                            </p:stCondLst>
                            <p:childTnLst>
                              <p:par>
                                <p:cTn id="5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2" dur="500"/>
                                        <p:tgtEl>
                                          <p:spTgt spid="3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3" fill="hold">
                            <p:stCondLst>
                              <p:cond delay="500"/>
                            </p:stCondLst>
                            <p:childTnLst>
                              <p:par>
                                <p:cTn id="5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6" dur="500"/>
                                        <p:tgtEl>
                                          <p:spTgt spid="3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0" dur="500" fill="hold"/>
                                        <p:tgtEl>
                                          <p:spTgt spid="3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1" dur="500" fill="hold"/>
                                        <p:tgtEl>
                                          <p:spTgt spid="3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2" fill="hold">
                      <p:stCondLst>
                        <p:cond delay="indefinite"/>
                      </p:stCondLst>
                      <p:childTnLst>
                        <p:par>
                          <p:cTn id="5693" fill="hold">
                            <p:stCondLst>
                              <p:cond delay="0"/>
                            </p:stCondLst>
                            <p:childTnLst>
                              <p:par>
                                <p:cTn id="5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6" dur="500"/>
                                        <p:tgtEl>
                                          <p:spTgt spid="3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7" fill="hold">
                      <p:stCondLst>
                        <p:cond delay="indefinite"/>
                      </p:stCondLst>
                      <p:childTnLst>
                        <p:par>
                          <p:cTn id="5698" fill="hold">
                            <p:stCondLst>
                              <p:cond delay="0"/>
                            </p:stCondLst>
                            <p:childTnLst>
                              <p:par>
                                <p:cTn id="5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1" dur="500"/>
                                        <p:tgtEl>
                                          <p:spTgt spid="3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2" fill="hold">
                      <p:stCondLst>
                        <p:cond delay="indefinite"/>
                      </p:stCondLst>
                      <p:childTnLst>
                        <p:par>
                          <p:cTn id="5703" fill="hold">
                            <p:stCondLst>
                              <p:cond delay="0"/>
                            </p:stCondLst>
                            <p:childTnLst>
                              <p:par>
                                <p:cTn id="5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6" dur="500"/>
                                        <p:tgtEl>
                                          <p:spTgt spid="3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7" fill="hold">
                      <p:stCondLst>
                        <p:cond delay="indefinite"/>
                      </p:stCondLst>
                      <p:childTnLst>
                        <p:par>
                          <p:cTn id="5708" fill="hold">
                            <p:stCondLst>
                              <p:cond delay="0"/>
                            </p:stCondLst>
                            <p:childTnLst>
                              <p:par>
                                <p:cTn id="5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1" dur="500"/>
                                        <p:tgtEl>
                                          <p:spTgt spid="3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2" fill="hold">
                      <p:stCondLst>
                        <p:cond delay="indefinite"/>
                      </p:stCondLst>
                      <p:childTnLst>
                        <p:par>
                          <p:cTn id="5713" fill="hold">
                            <p:stCondLst>
                              <p:cond delay="0"/>
                            </p:stCondLst>
                            <p:childTnLst>
                              <p:par>
                                <p:cTn id="5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6" dur="500"/>
                                        <p:tgtEl>
                                          <p:spTgt spid="3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Reco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 System Administra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tic Reco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Term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 Preemp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8" name="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1500120" cy="1854360"/>
          </a:xfrm>
          <a:prstGeom prst="rect">
            <a:avLst/>
          </a:prstGeom>
          <a:ln w="0">
            <a:noFill/>
          </a:ln>
        </p:spPr>
      </p:pic>
      <p:pic>
        <p:nvPicPr>
          <p:cNvPr id="3759" name="" descr=""/>
          <p:cNvPicPr/>
          <p:nvPr/>
        </p:nvPicPr>
        <p:blipFill>
          <a:blip r:embed="rId2"/>
          <a:stretch/>
        </p:blipFill>
        <p:spPr>
          <a:xfrm>
            <a:off x="5791320" y="2209680"/>
            <a:ext cx="1500120" cy="1854360"/>
          </a:xfrm>
          <a:prstGeom prst="rect">
            <a:avLst/>
          </a:prstGeom>
          <a:ln w="0">
            <a:noFill/>
          </a:ln>
        </p:spPr>
      </p:pic>
      <p:pic>
        <p:nvPicPr>
          <p:cNvPr id="3760" name="" descr=""/>
          <p:cNvPicPr/>
          <p:nvPr/>
        </p:nvPicPr>
        <p:blipFill>
          <a:blip r:embed="rId3"/>
          <a:stretch/>
        </p:blipFill>
        <p:spPr>
          <a:xfrm>
            <a:off x="5791320" y="2209680"/>
            <a:ext cx="15001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7" dur="indefinite" restart="never" nodeType="tmRoot">
          <p:childTnLst>
            <p:seq>
              <p:cTn id="5718" dur="indefinite" nodeType="mainSeq">
                <p:childTnLst>
                  <p:par>
                    <p:cTn id="5719" fill="hold">
                      <p:stCondLst>
                        <p:cond delay="0"/>
                      </p:stCondLst>
                      <p:childTnLst>
                        <p:par>
                          <p:cTn id="5720" fill="hold">
                            <p:stCondLst>
                              <p:cond delay="0"/>
                            </p:stCondLst>
                            <p:childTnLst>
                              <p:par>
                                <p:cTn id="5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3" dur="500"/>
                                        <p:tgtEl>
                                          <p:spTgt spid="3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24" dur="1" fill="hold">
                                    <p:stCondLst>
                                      <p:cond evt="end">
                                        <p:tn val="5721"/>
                                      </p:cond>
                                    </p:stCondLst>
                                  </p:cTn>
                                  <p:tgtEl>
                                    <p:spTgt spid="37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25" fill="hold">
                            <p:stCondLst>
                              <p:cond delay="500"/>
                            </p:stCondLst>
                            <p:childTnLst>
                              <p:par>
                                <p:cTn id="57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8" dur="500"/>
                                        <p:tgtEl>
                                          <p:spTgt spid="3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29" dur="1" fill="hold">
                                    <p:stCondLst>
                                      <p:cond evt="end">
                                        <p:tn val="5726"/>
                                      </p:cond>
                                    </p:stCondLst>
                                  </p:cTn>
                                  <p:tgtEl>
                                    <p:spTgt spid="37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33" dur="500"/>
                                        <p:tgtEl>
                                          <p:spTgt spid="3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658680" y="1523880"/>
            <a:ext cx="1413720" cy="861840"/>
            <a:chOff x="3658680" y="1523880"/>
            <a:chExt cx="1413720" cy="861840"/>
          </a:xfrm>
        </p:grpSpPr>
        <p:grpSp>
          <p:nvGrpSpPr>
            <p:cNvPr id="226" name=""/>
            <p:cNvGrpSpPr/>
            <p:nvPr/>
          </p:nvGrpSpPr>
          <p:grpSpPr>
            <a:xfrm>
              <a:off x="3803400" y="1523880"/>
              <a:ext cx="990720" cy="533520"/>
              <a:chOff x="3803400" y="1523880"/>
              <a:chExt cx="990720" cy="533520"/>
            </a:xfrm>
          </p:grpSpPr>
          <p:sp>
            <p:nvSpPr>
              <p:cNvPr id="227" name=""/>
              <p:cNvSpPr/>
              <p:nvPr/>
            </p:nvSpPr>
            <p:spPr>
              <a:xfrm>
                <a:off x="3803400" y="1523880"/>
                <a:ext cx="990720" cy="533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3921480" y="1605600"/>
                <a:ext cx="754560" cy="246240"/>
                <a:chOff x="3921480" y="1605600"/>
                <a:chExt cx="754560" cy="2462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921480" y="16056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393080" y="16056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086360" y="1893240"/>
                <a:ext cx="424440" cy="123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58560" y="18111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4497120" y="18111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3658680" y="201744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e Uni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223960" y="1523880"/>
            <a:ext cx="1413720" cy="861840"/>
            <a:chOff x="5223960" y="1523880"/>
            <a:chExt cx="1413720" cy="861840"/>
          </a:xfrm>
        </p:grpSpPr>
        <p:grpSp>
          <p:nvGrpSpPr>
            <p:cNvPr id="236" name=""/>
            <p:cNvGrpSpPr/>
            <p:nvPr/>
          </p:nvGrpSpPr>
          <p:grpSpPr>
            <a:xfrm>
              <a:off x="5368680" y="1523880"/>
              <a:ext cx="990720" cy="533520"/>
              <a:chOff x="5368680" y="1523880"/>
              <a:chExt cx="990720" cy="533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368680" y="1523880"/>
                <a:ext cx="990720" cy="533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5486760" y="1605600"/>
                <a:ext cx="754560" cy="246240"/>
                <a:chOff x="5486760" y="1605600"/>
                <a:chExt cx="754560" cy="24624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486760" y="16056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958360" y="16056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5651640" y="1893240"/>
                <a:ext cx="424440" cy="123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523840" y="18111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062400" y="18111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5223960" y="201744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e Uni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789240" y="1523880"/>
            <a:ext cx="1413720" cy="861840"/>
            <a:chOff x="6789240" y="1523880"/>
            <a:chExt cx="1413720" cy="861840"/>
          </a:xfrm>
        </p:grpSpPr>
        <p:grpSp>
          <p:nvGrpSpPr>
            <p:cNvPr id="246" name=""/>
            <p:cNvGrpSpPr/>
            <p:nvPr/>
          </p:nvGrpSpPr>
          <p:grpSpPr>
            <a:xfrm>
              <a:off x="6933960" y="1523880"/>
              <a:ext cx="990720" cy="533520"/>
              <a:chOff x="6933960" y="1523880"/>
              <a:chExt cx="990720" cy="533520"/>
            </a:xfrm>
          </p:grpSpPr>
          <p:sp>
            <p:nvSpPr>
              <p:cNvPr id="247" name=""/>
              <p:cNvSpPr/>
              <p:nvPr/>
            </p:nvSpPr>
            <p:spPr>
              <a:xfrm>
                <a:off x="6933960" y="1523880"/>
                <a:ext cx="990720" cy="533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7052040" y="1605600"/>
                <a:ext cx="754560" cy="246240"/>
                <a:chOff x="7052040" y="1605600"/>
                <a:chExt cx="754560" cy="2462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7052040" y="16056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523640" y="16056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7216920" y="1893240"/>
                <a:ext cx="424440" cy="123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089120" y="18111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627680" y="18111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6789240" y="201744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e Unit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295280" y="2362320"/>
            <a:ext cx="5562720" cy="3352320"/>
            <a:chOff x="1295280" y="2362320"/>
            <a:chExt cx="5562720" cy="3352320"/>
          </a:xfrm>
        </p:grpSpPr>
        <p:sp>
          <p:nvSpPr>
            <p:cNvPr id="256" name=""/>
            <p:cNvSpPr/>
            <p:nvPr/>
          </p:nvSpPr>
          <p:spPr>
            <a:xfrm>
              <a:off x="1295280" y="2362320"/>
              <a:ext cx="556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 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 B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2987640" y="2362320"/>
              <a:ext cx="1828800" cy="3352320"/>
              <a:chOff x="2987640" y="2362320"/>
              <a:chExt cx="1828800" cy="3352320"/>
            </a:xfrm>
          </p:grpSpPr>
          <p:sp>
            <p:nvSpPr>
              <p:cNvPr id="258" name=""/>
              <p:cNvSpPr/>
              <p:nvPr/>
            </p:nvSpPr>
            <p:spPr>
              <a:xfrm>
                <a:off x="2987640" y="2362320"/>
                <a:ext cx="0" cy="335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16440" y="2362320"/>
                <a:ext cx="0" cy="335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1295280" y="2743200"/>
              <a:ext cx="502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08760" y="3124080"/>
            <a:ext cx="399960" cy="2514600"/>
            <a:chOff x="608760" y="3124080"/>
            <a:chExt cx="399960" cy="2514600"/>
          </a:xfrm>
        </p:grpSpPr>
        <p:sp>
          <p:nvSpPr>
            <p:cNvPr id="262" name=""/>
            <p:cNvSpPr/>
            <p:nvPr/>
          </p:nvSpPr>
          <p:spPr>
            <a:xfrm>
              <a:off x="930240" y="3124080"/>
              <a:ext cx="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6205400">
              <a:off x="427680" y="421956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387440" y="3062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16240" y="2743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68720" y="3214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468080" y="3405240"/>
            <a:ext cx="1413720" cy="861840"/>
            <a:chOff x="1468080" y="3405240"/>
            <a:chExt cx="1413720" cy="861840"/>
          </a:xfrm>
        </p:grpSpPr>
        <p:grpSp>
          <p:nvGrpSpPr>
            <p:cNvPr id="268" name=""/>
            <p:cNvGrpSpPr/>
            <p:nvPr/>
          </p:nvGrpSpPr>
          <p:grpSpPr>
            <a:xfrm>
              <a:off x="1612800" y="3405240"/>
              <a:ext cx="990720" cy="533520"/>
              <a:chOff x="1612800" y="3405240"/>
              <a:chExt cx="990720" cy="533520"/>
            </a:xfrm>
          </p:grpSpPr>
          <p:sp>
            <p:nvSpPr>
              <p:cNvPr id="269" name=""/>
              <p:cNvSpPr/>
              <p:nvPr/>
            </p:nvSpPr>
            <p:spPr>
              <a:xfrm>
                <a:off x="1612800" y="3405240"/>
                <a:ext cx="990720" cy="533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1730880" y="3486960"/>
                <a:ext cx="754560" cy="246240"/>
                <a:chOff x="1730880" y="3486960"/>
                <a:chExt cx="754560" cy="2462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730880" y="348696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202480" y="348696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1895760" y="3774600"/>
                <a:ext cx="424440" cy="123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767960" y="369252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2306520" y="369252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1468080" y="389880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e Uni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296880" y="3086280"/>
            <a:ext cx="1413720" cy="861840"/>
            <a:chOff x="3296880" y="3086280"/>
            <a:chExt cx="1413720" cy="861840"/>
          </a:xfrm>
        </p:grpSpPr>
        <p:grpSp>
          <p:nvGrpSpPr>
            <p:cNvPr id="278" name=""/>
            <p:cNvGrpSpPr/>
            <p:nvPr/>
          </p:nvGrpSpPr>
          <p:grpSpPr>
            <a:xfrm>
              <a:off x="3441600" y="3086280"/>
              <a:ext cx="990720" cy="533520"/>
              <a:chOff x="3441600" y="3086280"/>
              <a:chExt cx="990720" cy="533520"/>
            </a:xfrm>
          </p:grpSpPr>
          <p:sp>
            <p:nvSpPr>
              <p:cNvPr id="279" name=""/>
              <p:cNvSpPr/>
              <p:nvPr/>
            </p:nvSpPr>
            <p:spPr>
              <a:xfrm>
                <a:off x="3441600" y="3086280"/>
                <a:ext cx="990720" cy="533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3559680" y="3168000"/>
                <a:ext cx="754560" cy="246240"/>
                <a:chOff x="3559680" y="3168000"/>
                <a:chExt cx="754560" cy="2462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559680" y="31680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031280" y="31680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3724560" y="3455640"/>
                <a:ext cx="424440" cy="123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96760" y="33735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4135320" y="33735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96880" y="357984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e Uni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049360" y="3557520"/>
            <a:ext cx="1413720" cy="861840"/>
            <a:chOff x="5049360" y="3557520"/>
            <a:chExt cx="1413720" cy="861840"/>
          </a:xfrm>
        </p:grpSpPr>
        <p:grpSp>
          <p:nvGrpSpPr>
            <p:cNvPr id="288" name=""/>
            <p:cNvGrpSpPr/>
            <p:nvPr/>
          </p:nvGrpSpPr>
          <p:grpSpPr>
            <a:xfrm>
              <a:off x="5194080" y="3557520"/>
              <a:ext cx="990720" cy="533520"/>
              <a:chOff x="5194080" y="3557520"/>
              <a:chExt cx="990720" cy="533520"/>
            </a:xfrm>
          </p:grpSpPr>
          <p:sp>
            <p:nvSpPr>
              <p:cNvPr id="289" name=""/>
              <p:cNvSpPr/>
              <p:nvPr/>
            </p:nvSpPr>
            <p:spPr>
              <a:xfrm>
                <a:off x="5194080" y="3557520"/>
                <a:ext cx="990720" cy="533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5312160" y="3639240"/>
                <a:ext cx="754560" cy="246240"/>
                <a:chOff x="5312160" y="3639240"/>
                <a:chExt cx="754560" cy="2462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312160" y="363924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783760" y="363924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5477040" y="3926880"/>
                <a:ext cx="424440" cy="123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349240" y="384480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5887800" y="384480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5049360" y="405108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e Unit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387440" y="4724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16240" y="5119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68720" y="43434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64080" y="4648320"/>
          <a:ext cx="53352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4080" y="464832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882800" y="5029200"/>
          <a:ext cx="53352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2800" y="502920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711600" y="5410080"/>
          <a:ext cx="533520" cy="52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1600" y="5410080"/>
                    <a:ext cx="5335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6781680" y="3962520"/>
            <a:ext cx="1905120" cy="18288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086600" y="4191120"/>
            <a:ext cx="533520" cy="802080"/>
            <a:chOff x="7086600" y="4191120"/>
            <a:chExt cx="533520" cy="802080"/>
          </a:xfrm>
        </p:grpSpPr>
        <p:graphicFrame>
          <p:nvGraphicFramePr>
            <p:cNvPr id="308" name=""/>
            <p:cNvGraphicFramePr/>
            <p:nvPr/>
          </p:nvGraphicFramePr>
          <p:xfrm>
            <a:off x="7086600" y="4191120"/>
            <a:ext cx="533520" cy="523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86600" y="4191120"/>
                      <a:ext cx="53352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0" name=""/>
            <p:cNvSpPr/>
            <p:nvPr/>
          </p:nvSpPr>
          <p:spPr>
            <a:xfrm>
              <a:off x="7099200" y="4594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7467480" y="4876920"/>
            <a:ext cx="533520" cy="802080"/>
            <a:chOff x="7467480" y="4876920"/>
            <a:chExt cx="533520" cy="802080"/>
          </a:xfrm>
        </p:grpSpPr>
        <p:graphicFrame>
          <p:nvGraphicFramePr>
            <p:cNvPr id="312" name=""/>
            <p:cNvGraphicFramePr/>
            <p:nvPr/>
          </p:nvGraphicFramePr>
          <p:xfrm>
            <a:off x="7467480" y="4876920"/>
            <a:ext cx="533520" cy="523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467480" y="4876920"/>
                      <a:ext cx="53352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4" name=""/>
            <p:cNvSpPr/>
            <p:nvPr/>
          </p:nvSpPr>
          <p:spPr>
            <a:xfrm>
              <a:off x="7480080" y="5280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8001000" y="4495680"/>
            <a:ext cx="533520" cy="802080"/>
            <a:chOff x="8001000" y="4495680"/>
            <a:chExt cx="533520" cy="802080"/>
          </a:xfrm>
        </p:grpSpPr>
        <p:graphicFrame>
          <p:nvGraphicFramePr>
            <p:cNvPr id="316" name=""/>
            <p:cNvGraphicFramePr/>
            <p:nvPr/>
          </p:nvGraphicFramePr>
          <p:xfrm>
            <a:off x="8001000" y="4495680"/>
            <a:ext cx="533520" cy="523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001000" y="4495680"/>
                      <a:ext cx="53352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8" name=""/>
            <p:cNvSpPr/>
            <p:nvPr/>
          </p:nvSpPr>
          <p:spPr>
            <a:xfrm>
              <a:off x="8013600" y="4898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 txBox="1"/>
          <p:nvPr/>
        </p:nvSpPr>
        <p:spPr>
          <a:xfrm>
            <a:off x="4267080" y="5334120"/>
            <a:ext cx="160020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6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1447920"/>
            <a:ext cx="1524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57800" y="1447920"/>
            <a:ext cx="1676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34320" y="1447920"/>
            <a:ext cx="1523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Termi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deadlocked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at a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219320" y="3124080"/>
            <a:ext cx="2438280" cy="19051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lo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1676520" y="4267080"/>
            <a:ext cx="38088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2209680" y="3962520"/>
            <a:ext cx="38124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2666880" y="3809880"/>
            <a:ext cx="38124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3124080" y="4038480"/>
            <a:ext cx="38124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2590920" y="434340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0" name=""/>
          <p:cNvGrpSpPr/>
          <p:nvPr/>
        </p:nvGrpSpPr>
        <p:grpSpPr>
          <a:xfrm>
            <a:off x="1668600" y="4206960"/>
            <a:ext cx="421200" cy="525960"/>
            <a:chOff x="1668600" y="4206960"/>
            <a:chExt cx="421200" cy="525960"/>
          </a:xfrm>
        </p:grpSpPr>
        <p:sp>
          <p:nvSpPr>
            <p:cNvPr id="3771" name=""/>
            <p:cNvSpPr/>
            <p:nvPr/>
          </p:nvSpPr>
          <p:spPr>
            <a:xfrm rot="3390000">
              <a:off x="1753920" y="423468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 rot="3390000">
              <a:off x="1696320" y="440100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3" name=""/>
          <p:cNvGrpSpPr/>
          <p:nvPr/>
        </p:nvGrpSpPr>
        <p:grpSpPr>
          <a:xfrm>
            <a:off x="2167200" y="3902400"/>
            <a:ext cx="421200" cy="525960"/>
            <a:chOff x="2167200" y="3902400"/>
            <a:chExt cx="421200" cy="525960"/>
          </a:xfrm>
        </p:grpSpPr>
        <p:sp>
          <p:nvSpPr>
            <p:cNvPr id="3774" name=""/>
            <p:cNvSpPr/>
            <p:nvPr/>
          </p:nvSpPr>
          <p:spPr>
            <a:xfrm rot="3390000">
              <a:off x="2252520" y="393012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 rot="3390000">
              <a:off x="2194920" y="409644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6" name=""/>
          <p:cNvGrpSpPr/>
          <p:nvPr/>
        </p:nvGrpSpPr>
        <p:grpSpPr>
          <a:xfrm>
            <a:off x="2624400" y="3749760"/>
            <a:ext cx="421200" cy="525960"/>
            <a:chOff x="2624400" y="3749760"/>
            <a:chExt cx="421200" cy="525960"/>
          </a:xfrm>
        </p:grpSpPr>
        <p:sp>
          <p:nvSpPr>
            <p:cNvPr id="3777" name=""/>
            <p:cNvSpPr/>
            <p:nvPr/>
          </p:nvSpPr>
          <p:spPr>
            <a:xfrm rot="3390000">
              <a:off x="2709720" y="377748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 rot="3390000">
              <a:off x="2652120" y="394380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9" name=""/>
          <p:cNvGrpSpPr/>
          <p:nvPr/>
        </p:nvGrpSpPr>
        <p:grpSpPr>
          <a:xfrm>
            <a:off x="2548080" y="4283280"/>
            <a:ext cx="421200" cy="525960"/>
            <a:chOff x="2548080" y="4283280"/>
            <a:chExt cx="421200" cy="525960"/>
          </a:xfrm>
        </p:grpSpPr>
        <p:sp>
          <p:nvSpPr>
            <p:cNvPr id="3780" name=""/>
            <p:cNvSpPr/>
            <p:nvPr/>
          </p:nvSpPr>
          <p:spPr>
            <a:xfrm rot="3390000">
              <a:off x="2633400" y="431100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 rot="3390000">
              <a:off x="2575800" y="447732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2" name=""/>
          <p:cNvGrpSpPr/>
          <p:nvPr/>
        </p:nvGrpSpPr>
        <p:grpSpPr>
          <a:xfrm>
            <a:off x="3081600" y="3978360"/>
            <a:ext cx="421200" cy="525960"/>
            <a:chOff x="3081600" y="3978360"/>
            <a:chExt cx="421200" cy="525960"/>
          </a:xfrm>
        </p:grpSpPr>
        <p:sp>
          <p:nvSpPr>
            <p:cNvPr id="3783" name=""/>
            <p:cNvSpPr/>
            <p:nvPr/>
          </p:nvSpPr>
          <p:spPr>
            <a:xfrm rot="3390000">
              <a:off x="3166920" y="400608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rot="3390000">
              <a:off x="3109320" y="417240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5" name=""/>
          <p:cNvSpPr/>
          <p:nvPr/>
        </p:nvSpPr>
        <p:spPr>
          <a:xfrm>
            <a:off x="582120" y="5240880"/>
            <a:ext cx="406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: Deadlock 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US: Expensive (Lost Time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5181480" y="2438280"/>
            <a:ext cx="2438640" cy="19051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lo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5638680" y="3581280"/>
            <a:ext cx="38124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6172200" y="327672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6629400" y="3124080"/>
            <a:ext cx="38088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7086600" y="3352680"/>
            <a:ext cx="38088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6553080" y="3657600"/>
            <a:ext cx="38124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2" name=""/>
          <p:cNvGrpSpPr/>
          <p:nvPr/>
        </p:nvGrpSpPr>
        <p:grpSpPr>
          <a:xfrm>
            <a:off x="7078680" y="3369240"/>
            <a:ext cx="420840" cy="525960"/>
            <a:chOff x="7078680" y="3369240"/>
            <a:chExt cx="420840" cy="525960"/>
          </a:xfrm>
        </p:grpSpPr>
        <p:sp>
          <p:nvSpPr>
            <p:cNvPr id="3793" name=""/>
            <p:cNvSpPr/>
            <p:nvPr/>
          </p:nvSpPr>
          <p:spPr>
            <a:xfrm rot="3390000">
              <a:off x="7164000" y="3397320"/>
              <a:ext cx="249840" cy="33948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 rot="3390000">
              <a:off x="7106400" y="356328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5" name=""/>
          <p:cNvSpPr/>
          <p:nvPr/>
        </p:nvSpPr>
        <p:spPr>
          <a:xfrm>
            <a:off x="7543800" y="3276720"/>
            <a:ext cx="990720" cy="457200"/>
          </a:xfrm>
          <a:prstGeom prst="leftArrow">
            <a:avLst>
              <a:gd name="adj1" fmla="val 50000"/>
              <a:gd name="adj2" fmla="val 54173"/>
            </a:avLst>
          </a:prstGeom>
          <a:solidFill>
            <a:srgbClr val="ff95a7"/>
          </a:solidFill>
          <a:ln w="9360">
            <a:solidFill>
              <a:srgbClr val="00279f"/>
            </a:solidFill>
            <a:miter/>
          </a:ln>
          <a:effectLst>
            <a:outerShdw dist="68321" dir="20281825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vict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 rot="12577200">
            <a:off x="5333760" y="388584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3504" y="11220"/>
                </a:moveTo>
                <a:arcTo wR="-7308" hR="-7308" stAng="10602321" swAng="-13000768"/>
                <a:lnTo>
                  <a:pt x="2524" y="17738"/>
                </a:lnTo>
                <a:arcTo wR="10800" hR="10800" stAng="8401554" swAng="13000768"/>
                <a:lnTo>
                  <a:pt x="24278" y="10024"/>
                </a:lnTo>
                <a:lnTo>
                  <a:pt x="20095" y="14718"/>
                </a:lnTo>
                <a:lnTo>
                  <a:pt x="15400" y="10535"/>
                </a:lnTo>
                <a:close/>
              </a:path>
            </a:pathLst>
          </a:custGeom>
          <a:solidFill>
            <a:srgbClr val="ff95a7"/>
          </a:solidFill>
          <a:ln w="12600">
            <a:solidFill>
              <a:srgbClr val="00279f"/>
            </a:solidFill>
            <a:miter/>
          </a:ln>
          <a:effectLst>
            <a:outerShdw dist="85328" dir="3806096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"/>
          <p:cNvSpPr/>
          <p:nvPr/>
        </p:nvSpPr>
        <p:spPr>
          <a:xfrm>
            <a:off x="6629400" y="3124080"/>
            <a:ext cx="380880" cy="3812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 rot="1276800">
            <a:off x="6857640" y="3886200"/>
            <a:ext cx="990720" cy="457200"/>
          </a:xfrm>
          <a:prstGeom prst="leftArrow">
            <a:avLst>
              <a:gd name="adj1" fmla="val 50000"/>
              <a:gd name="adj2" fmla="val 54173"/>
            </a:avLst>
          </a:prstGeom>
          <a:solidFill>
            <a:srgbClr val="ff95a7"/>
          </a:solidFill>
          <a:ln w="9360">
            <a:solidFill>
              <a:srgbClr val="00279f"/>
            </a:solidFill>
            <a:miter/>
          </a:ln>
          <a:effectLst>
            <a:outerShdw dist="68321" dir="20281825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vict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6549480" y="4705920"/>
            <a:ext cx="114372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430" y="-570"/>
                </a:moveTo>
                <a:lnTo>
                  <a:pt x="-1409" y="6400"/>
                </a:lnTo>
              </a:path>
              <a:path w="21600" h="21600">
                <a:moveTo>
                  <a:pt x="-1409" y="0"/>
                </a:moveTo>
                <a:lnTo>
                  <a:pt x="-1409" y="21600"/>
                </a:lnTo>
              </a:path>
            </a:pathLst>
          </a:cu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Re-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0" name=""/>
          <p:cNvGrpSpPr/>
          <p:nvPr/>
        </p:nvGrpSpPr>
        <p:grpSpPr>
          <a:xfrm>
            <a:off x="6545520" y="3673800"/>
            <a:ext cx="421200" cy="525960"/>
            <a:chOff x="6545520" y="3673800"/>
            <a:chExt cx="421200" cy="525960"/>
          </a:xfrm>
        </p:grpSpPr>
        <p:sp>
          <p:nvSpPr>
            <p:cNvPr id="3801" name=""/>
            <p:cNvSpPr/>
            <p:nvPr/>
          </p:nvSpPr>
          <p:spPr>
            <a:xfrm rot="3390000">
              <a:off x="6630840" y="370152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 rot="3390000">
              <a:off x="6573240" y="386784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3" name=""/>
          <p:cNvSpPr/>
          <p:nvPr/>
        </p:nvSpPr>
        <p:spPr>
          <a:xfrm rot="12577200">
            <a:off x="5333760" y="388584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3504" y="11220"/>
                </a:moveTo>
                <a:arcTo wR="-7308" hR="-7308" stAng="10602321" swAng="-13000768"/>
                <a:lnTo>
                  <a:pt x="2524" y="17738"/>
                </a:lnTo>
                <a:arcTo wR="10800" hR="10800" stAng="8401554" swAng="13000768"/>
                <a:lnTo>
                  <a:pt x="24278" y="10024"/>
                </a:lnTo>
                <a:lnTo>
                  <a:pt x="20095" y="14718"/>
                </a:lnTo>
                <a:lnTo>
                  <a:pt x="15400" y="10535"/>
                </a:lnTo>
                <a:close/>
              </a:path>
            </a:pathLst>
          </a:custGeom>
          <a:solidFill>
            <a:srgbClr val="ff95a7"/>
          </a:solidFill>
          <a:ln w="12600">
            <a:solidFill>
              <a:srgbClr val="00279f"/>
            </a:solidFill>
            <a:miter/>
          </a:ln>
          <a:effectLst>
            <a:outerShdw dist="85328" dir="3806096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5638680" y="3581280"/>
            <a:ext cx="381240" cy="3812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6172200" y="3276720"/>
            <a:ext cx="380880" cy="3808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4718520" y="5256720"/>
            <a:ext cx="427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: Less Da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US: Overhead (victim, re-che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4" dur="indefinite" restart="never" nodeType="tmRoot">
          <p:childTnLst>
            <p:seq>
              <p:cTn id="5735" dur="indefinite" nodeType="mainSeq">
                <p:childTnLst>
                  <p:par>
                    <p:cTn id="5736" fill="hold">
                      <p:stCondLst>
                        <p:cond delay="indefinite"/>
                      </p:stCondLst>
                      <p:childTnLst>
                        <p:par>
                          <p:cTn id="5737" fill="hold">
                            <p:stCondLst>
                              <p:cond delay="0"/>
                            </p:stCondLst>
                            <p:childTnLst>
                              <p:par>
                                <p:cTn id="5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0" dur="500"/>
                                        <p:tgtEl>
                                          <p:spTgt spid="3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1" fill="hold">
                            <p:stCondLst>
                              <p:cond delay="500"/>
                            </p:stCondLst>
                            <p:childTnLst>
                              <p:par>
                                <p:cTn id="57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4" dur="500" fill="hold"/>
                                        <p:tgtEl>
                                          <p:spTgt spid="3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5" dur="500" fill="hold"/>
                                        <p:tgtEl>
                                          <p:spTgt spid="3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9" dur="500" fill="hold"/>
                                        <p:tgtEl>
                                          <p:spTgt spid="3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0" dur="500" fill="hold"/>
                                        <p:tgtEl>
                                          <p:spTgt spid="3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4" dur="500" fill="hold"/>
                                        <p:tgtEl>
                                          <p:spTgt spid="3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5" dur="500" fill="hold"/>
                                        <p:tgtEl>
                                          <p:spTgt spid="3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9" dur="500" fill="hold"/>
                                        <p:tgtEl>
                                          <p:spTgt spid="3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0" dur="500" fill="hold"/>
                                        <p:tgtEl>
                                          <p:spTgt spid="3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4" dur="500" fill="hold"/>
                                        <p:tgtEl>
                                          <p:spTgt spid="3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5" dur="500" fill="hold"/>
                                        <p:tgtEl>
                                          <p:spTgt spid="3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6" fill="hold">
                      <p:stCondLst>
                        <p:cond delay="indefinite"/>
                      </p:stCondLst>
                      <p:childTnLst>
                        <p:par>
                          <p:cTn id="5767" fill="hold">
                            <p:stCondLst>
                              <p:cond delay="0"/>
                            </p:stCondLst>
                            <p:childTnLst>
                              <p:par>
                                <p:cTn id="576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0" dur="500" fill="hold"/>
                                        <p:tgtEl>
                                          <p:spTgt spid="3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1" dur="500" fill="hold"/>
                                        <p:tgtEl>
                                          <p:spTgt spid="3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7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5" dur="500" fill="hold"/>
                                        <p:tgtEl>
                                          <p:spTgt spid="3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6" dur="500" fill="hold"/>
                                        <p:tgtEl>
                                          <p:spTgt spid="3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0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1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5" dur="500" fill="hold"/>
                                        <p:tgtEl>
                                          <p:spTgt spid="3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6" dur="500" fill="hold"/>
                                        <p:tgtEl>
                                          <p:spTgt spid="3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0" dur="500" fill="hold"/>
                                        <p:tgtEl>
                                          <p:spTgt spid="3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1" dur="500" fill="hold"/>
                                        <p:tgtEl>
                                          <p:spTgt spid="3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2" fill="hold">
                      <p:stCondLst>
                        <p:cond delay="indefinite"/>
                      </p:stCondLst>
                      <p:childTnLst>
                        <p:par>
                          <p:cTn id="5793" fill="hold">
                            <p:stCondLst>
                              <p:cond delay="0"/>
                            </p:stCondLst>
                            <p:childTnLst>
                              <p:par>
                                <p:cTn id="5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6" dur="500"/>
                                        <p:tgtEl>
                                          <p:spTgt spid="3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7" fill="hold">
                      <p:stCondLst>
                        <p:cond delay="indefinite"/>
                      </p:stCondLst>
                      <p:childTnLst>
                        <p:par>
                          <p:cTn id="5798" fill="hold">
                            <p:stCondLst>
                              <p:cond delay="0"/>
                            </p:stCondLst>
                            <p:childTnLst>
                              <p:par>
                                <p:cTn id="5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1" dur="500"/>
                                        <p:tgtEl>
                                          <p:spTgt spid="3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2" fill="hold">
                      <p:stCondLst>
                        <p:cond delay="indefinite"/>
                      </p:stCondLst>
                      <p:childTnLst>
                        <p:par>
                          <p:cTn id="5803" fill="hold">
                            <p:stCondLst>
                              <p:cond delay="0"/>
                            </p:stCondLst>
                            <p:childTnLst>
                              <p:par>
                                <p:cTn id="5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6" dur="500"/>
                                        <p:tgtEl>
                                          <p:spTgt spid="3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7" fill="hold">
                      <p:stCondLst>
                        <p:cond delay="indefinite"/>
                      </p:stCondLst>
                      <p:childTnLst>
                        <p:par>
                          <p:cTn id="5808" fill="hold">
                            <p:stCondLst>
                              <p:cond delay="0"/>
                            </p:stCondLst>
                            <p:childTnLst>
                              <p:par>
                                <p:cTn id="58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1" dur="500"/>
                                        <p:tgtEl>
                                          <p:spTgt spid="3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2" fill="hold">
                            <p:stCondLst>
                              <p:cond delay="500"/>
                            </p:stCondLst>
                            <p:childTnLst>
                              <p:par>
                                <p:cTn id="58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5" dur="500" fill="hold"/>
                                        <p:tgtEl>
                                          <p:spTgt spid="3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6" dur="500" fill="hold"/>
                                        <p:tgtEl>
                                          <p:spTgt spid="3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0" dur="500" fill="hold"/>
                                        <p:tgtEl>
                                          <p:spTgt spid="3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1" dur="500" fill="hold"/>
                                        <p:tgtEl>
                                          <p:spTgt spid="3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5" dur="500" fill="hold"/>
                                        <p:tgtEl>
                                          <p:spTgt spid="3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6" dur="500" fill="hold"/>
                                        <p:tgtEl>
                                          <p:spTgt spid="3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0" dur="500" fill="hold"/>
                                        <p:tgtEl>
                                          <p:spTgt spid="3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1" dur="500" fill="hold"/>
                                        <p:tgtEl>
                                          <p:spTgt spid="3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8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5" dur="500" fill="hold"/>
                                        <p:tgtEl>
                                          <p:spTgt spid="3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6" dur="500" fill="hold"/>
                                        <p:tgtEl>
                                          <p:spTgt spid="3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7" fill="hold">
                      <p:stCondLst>
                        <p:cond delay="indefinite"/>
                      </p:stCondLst>
                      <p:childTnLst>
                        <p:par>
                          <p:cTn id="5838" fill="hold">
                            <p:stCondLst>
                              <p:cond delay="0"/>
                            </p:stCondLst>
                            <p:childTnLst>
                              <p:par>
                                <p:cTn id="58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1" dur="500"/>
                                        <p:tgtEl>
                                          <p:spTgt spid="3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2" fill="hold">
                      <p:stCondLst>
                        <p:cond delay="indefinite"/>
                      </p:stCondLst>
                      <p:childTnLst>
                        <p:par>
                          <p:cTn id="5843" fill="hold">
                            <p:stCondLst>
                              <p:cond delay="0"/>
                            </p:stCondLst>
                            <p:childTnLst>
                              <p:par>
                                <p:cTn id="584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6" dur="500" fill="hold"/>
                                        <p:tgtEl>
                                          <p:spTgt spid="3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7" dur="500" fill="hold"/>
                                        <p:tgtEl>
                                          <p:spTgt spid="3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49" fill="hold">
                      <p:stCondLst>
                        <p:cond delay="indefinite"/>
                      </p:stCondLst>
                      <p:childTnLst>
                        <p:par>
                          <p:cTn id="5850" fill="hold">
                            <p:stCondLst>
                              <p:cond delay="0"/>
                            </p:stCondLst>
                            <p:childTnLst>
                              <p:par>
                                <p:cTn id="58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3" dur="500"/>
                                        <p:tgtEl>
                                          <p:spTgt spid="3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57" dur="500"/>
                                        <p:tgtEl>
                                          <p:spTgt spid="3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59" fill="hold">
                      <p:stCondLst>
                        <p:cond delay="indefinite"/>
                      </p:stCondLst>
                      <p:childTnLst>
                        <p:par>
                          <p:cTn id="5860" fill="hold">
                            <p:stCondLst>
                              <p:cond delay="0"/>
                            </p:stCondLst>
                            <p:childTnLst>
                              <p:par>
                                <p:cTn id="5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64" fill="hold">
                      <p:stCondLst>
                        <p:cond delay="indefinite"/>
                      </p:stCondLst>
                      <p:childTnLst>
                        <p:par>
                          <p:cTn id="5865" fill="hold">
                            <p:stCondLst>
                              <p:cond delay="0"/>
                            </p:stCondLst>
                            <p:childTnLst>
                              <p:par>
                                <p:cTn id="58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8" dur="500"/>
                                        <p:tgtEl>
                                          <p:spTgt spid="3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9" fill="hold">
                      <p:stCondLst>
                        <p:cond delay="indefinite"/>
                      </p:stCondLst>
                      <p:childTnLst>
                        <p:par>
                          <p:cTn id="5870" fill="hold">
                            <p:stCondLst>
                              <p:cond delay="0"/>
                            </p:stCondLst>
                            <p:childTnLst>
                              <p:par>
                                <p:cTn id="58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3" dur="500" fill="hold"/>
                                        <p:tgtEl>
                                          <p:spTgt spid="3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4" dur="500" fill="hold"/>
                                        <p:tgtEl>
                                          <p:spTgt spid="3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76" fill="hold">
                      <p:stCondLst>
                        <p:cond delay="indefinite"/>
                      </p:stCondLst>
                      <p:childTnLst>
                        <p:par>
                          <p:cTn id="5877" fill="hold">
                            <p:stCondLst>
                              <p:cond delay="0"/>
                            </p:stCondLst>
                            <p:childTnLst>
                              <p:par>
                                <p:cTn id="58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0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1" fill="hold">
                      <p:stCondLst>
                        <p:cond delay="indefinite"/>
                      </p:stCondLst>
                      <p:childTnLst>
                        <p:par>
                          <p:cTn id="5882" fill="hold">
                            <p:stCondLst>
                              <p:cond delay="0"/>
                            </p:stCondLst>
                            <p:childTnLst>
                              <p:par>
                                <p:cTn id="5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9" fill="hold">
                      <p:stCondLst>
                        <p:cond delay="indefinite"/>
                      </p:stCondLst>
                      <p:childTnLst>
                        <p:par>
                          <p:cTn id="5890" fill="hold">
                            <p:stCondLst>
                              <p:cond delay="0"/>
                            </p:stCondLst>
                            <p:childTnLst>
                              <p:par>
                                <p:cTn id="58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3" dur="500"/>
                                        <p:tgtEl>
                                          <p:spTgt spid="3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4" fill="hold">
                      <p:stCondLst>
                        <p:cond delay="indefinite"/>
                      </p:stCondLst>
                      <p:childTnLst>
                        <p:par>
                          <p:cTn id="5895" fill="hold">
                            <p:stCondLst>
                              <p:cond delay="0"/>
                            </p:stCondLst>
                            <p:childTnLst>
                              <p:par>
                                <p:cTn id="58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8" dur="500"/>
                                        <p:tgtEl>
                                          <p:spTgt spid="3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Termi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cti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-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CPU-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uch mor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/ Types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mor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/ Bat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 sta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0" name=""/>
          <p:cNvGraphicFramePr/>
          <p:nvPr/>
        </p:nvGraphicFramePr>
        <p:xfrm>
          <a:off x="5715000" y="2844720"/>
          <a:ext cx="121932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844720"/>
                    <a:ext cx="12193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12" name=""/>
          <p:cNvGrpSpPr/>
          <p:nvPr/>
        </p:nvGrpSpPr>
        <p:grpSpPr>
          <a:xfrm>
            <a:off x="6622920" y="2819520"/>
            <a:ext cx="1300320" cy="406080"/>
            <a:chOff x="6622920" y="2819520"/>
            <a:chExt cx="1300320" cy="406080"/>
          </a:xfrm>
        </p:grpSpPr>
        <p:sp>
          <p:nvSpPr>
            <p:cNvPr id="3813" name=""/>
            <p:cNvSpPr/>
            <p:nvPr/>
          </p:nvSpPr>
          <p:spPr>
            <a:xfrm>
              <a:off x="6622920" y="2835360"/>
              <a:ext cx="228600" cy="3902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0080 h 390240"/>
                <a:gd name="textAreaBottom" fmla="*/ 380160 h 39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6852600" y="2819520"/>
              <a:ext cx="10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9f"/>
                  </a:solidFill>
                  <a:latin typeface="Arial"/>
                </a:rPr>
                <a:t>½ P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5" name=""/>
          <p:cNvGrpSpPr/>
          <p:nvPr/>
        </p:nvGrpSpPr>
        <p:grpSpPr>
          <a:xfrm>
            <a:off x="7010280" y="3454560"/>
            <a:ext cx="1067040" cy="457200"/>
            <a:chOff x="7010280" y="3454560"/>
            <a:chExt cx="1067040" cy="457200"/>
          </a:xfrm>
        </p:grpSpPr>
        <p:sp>
          <p:nvSpPr>
            <p:cNvPr id="3816" name=""/>
            <p:cNvSpPr/>
            <p:nvPr/>
          </p:nvSpPr>
          <p:spPr>
            <a:xfrm>
              <a:off x="7010280" y="3454560"/>
              <a:ext cx="1067040" cy="45720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59040 h 457200"/>
                <a:gd name="textAreaBottom" fmla="*/ 3981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ccff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 txBox="1"/>
            <p:nvPr/>
          </p:nvSpPr>
          <p:spPr>
            <a:xfrm>
              <a:off x="7035840" y="3497760"/>
              <a:ext cx="1015200" cy="386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279f"/>
                    </a:solidFill>
                    <a:miter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Times New Roman"/>
                </a:rPr>
                <a:t>PayCheck</a:t>
              </a:r>
              <a:endParaRPr b="0" lang="en-US" sz="2400" spc="1" strike="noStrike">
                <a:ln w="9360">
                  <a:solidFill>
                    <a:srgbClr val="00279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818" name=""/>
          <p:cNvGrpSpPr/>
          <p:nvPr/>
        </p:nvGrpSpPr>
        <p:grpSpPr>
          <a:xfrm>
            <a:off x="7162920" y="3606840"/>
            <a:ext cx="1066680" cy="457200"/>
            <a:chOff x="7162920" y="3606840"/>
            <a:chExt cx="1066680" cy="457200"/>
          </a:xfrm>
        </p:grpSpPr>
        <p:sp>
          <p:nvSpPr>
            <p:cNvPr id="3819" name=""/>
            <p:cNvSpPr/>
            <p:nvPr/>
          </p:nvSpPr>
          <p:spPr>
            <a:xfrm>
              <a:off x="7162920" y="3606840"/>
              <a:ext cx="1066680" cy="4572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59040 h 457200"/>
                <a:gd name="textAreaBottom" fmla="*/ 3981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ccff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 txBox="1"/>
            <p:nvPr/>
          </p:nvSpPr>
          <p:spPr>
            <a:xfrm>
              <a:off x="7188480" y="3650040"/>
              <a:ext cx="1014840" cy="386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279f"/>
                    </a:solidFill>
                    <a:miter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Times New Roman"/>
                </a:rPr>
                <a:t>PayCheck</a:t>
              </a:r>
              <a:endParaRPr b="0" lang="en-US" sz="2400" spc="1" strike="noStrike">
                <a:ln w="9360">
                  <a:solidFill>
                    <a:srgbClr val="00279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821" name=""/>
          <p:cNvGrpSpPr/>
          <p:nvPr/>
        </p:nvGrpSpPr>
        <p:grpSpPr>
          <a:xfrm>
            <a:off x="7315200" y="3759120"/>
            <a:ext cx="1066680" cy="457200"/>
            <a:chOff x="7315200" y="3759120"/>
            <a:chExt cx="1066680" cy="457200"/>
          </a:xfrm>
        </p:grpSpPr>
        <p:sp>
          <p:nvSpPr>
            <p:cNvPr id="3822" name=""/>
            <p:cNvSpPr/>
            <p:nvPr/>
          </p:nvSpPr>
          <p:spPr>
            <a:xfrm>
              <a:off x="7315200" y="3759120"/>
              <a:ext cx="1066680" cy="4572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59040 h 457200"/>
                <a:gd name="textAreaBottom" fmla="*/ 3981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ccff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 txBox="1"/>
            <p:nvPr/>
          </p:nvSpPr>
          <p:spPr>
            <a:xfrm>
              <a:off x="7340760" y="3802320"/>
              <a:ext cx="1014840" cy="386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279f"/>
                    </a:solidFill>
                    <a:miter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Times New Roman"/>
                </a:rPr>
                <a:t>PayCheck</a:t>
              </a:r>
              <a:endParaRPr b="0" lang="en-US" sz="2400" spc="1" strike="noStrike">
                <a:ln w="9360">
                  <a:solidFill>
                    <a:srgbClr val="00279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824" name=""/>
          <p:cNvGrpSpPr/>
          <p:nvPr/>
        </p:nvGrpSpPr>
        <p:grpSpPr>
          <a:xfrm>
            <a:off x="7467480" y="3911760"/>
            <a:ext cx="1067040" cy="457200"/>
            <a:chOff x="7467480" y="3911760"/>
            <a:chExt cx="1067040" cy="457200"/>
          </a:xfrm>
        </p:grpSpPr>
        <p:sp>
          <p:nvSpPr>
            <p:cNvPr id="3825" name=""/>
            <p:cNvSpPr/>
            <p:nvPr/>
          </p:nvSpPr>
          <p:spPr>
            <a:xfrm>
              <a:off x="7467480" y="3911760"/>
              <a:ext cx="1067040" cy="45720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59040 h 457200"/>
                <a:gd name="textAreaBottom" fmla="*/ 3981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ccff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 txBox="1"/>
            <p:nvPr/>
          </p:nvSpPr>
          <p:spPr>
            <a:xfrm>
              <a:off x="7493040" y="3954960"/>
              <a:ext cx="1015200" cy="386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279f"/>
                    </a:solidFill>
                    <a:miter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Times New Roman"/>
                </a:rPr>
                <a:t>PayCheck</a:t>
              </a:r>
              <a:endParaRPr b="0" lang="en-US" sz="2400" spc="1" strike="noStrike">
                <a:ln w="9360">
                  <a:solidFill>
                    <a:srgbClr val="00279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827" name=""/>
          <p:cNvSpPr/>
          <p:nvPr/>
        </p:nvSpPr>
        <p:spPr>
          <a:xfrm>
            <a:off x="5105520" y="3733920"/>
            <a:ext cx="1371600" cy="914400"/>
          </a:xfrm>
          <a:prstGeom prst="can">
            <a:avLst>
              <a:gd name="adj" fmla="val 25000"/>
            </a:avLst>
          </a:prstGeom>
          <a:solidFill>
            <a:srgbClr val="66ff66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6454800" y="4464720"/>
            <a:ext cx="238428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70" y="-2067"/>
                </a:moveTo>
                <a:lnTo>
                  <a:pt x="-690" y="6400"/>
                </a:lnTo>
              </a:path>
              <a:path w="21600" h="21600">
                <a:moveTo>
                  <a:pt x="-690" y="0"/>
                </a:moveTo>
                <a:lnTo>
                  <a:pt x="-690" y="21600"/>
                </a:lnTo>
              </a:path>
            </a:pathLst>
          </a:cu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: 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Ab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4648320" y="4876920"/>
            <a:ext cx="3809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v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-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chosen as a vic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9" dur="indefinite" restart="never" nodeType="tmRoot">
          <p:childTnLst>
            <p:seq>
              <p:cTn id="5900" dur="indefinite" nodeType="mainSeq">
                <p:childTnLst>
                  <p:par>
                    <p:cTn id="5901" fill="hold">
                      <p:stCondLst>
                        <p:cond delay="indefinite"/>
                      </p:stCondLst>
                      <p:childTnLst>
                        <p:par>
                          <p:cTn id="5902" fill="hold">
                            <p:stCondLst>
                              <p:cond delay="0"/>
                            </p:stCondLst>
                            <p:childTnLst>
                              <p:par>
                                <p:cTn id="59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5" dur="500"/>
                                        <p:tgtEl>
                                          <p:spTgt spid="3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6" fill="hold">
                      <p:stCondLst>
                        <p:cond delay="indefinite"/>
                      </p:stCondLst>
                      <p:childTnLst>
                        <p:par>
                          <p:cTn id="5907" fill="hold">
                            <p:stCondLst>
                              <p:cond delay="0"/>
                            </p:stCondLst>
                            <p:childTnLst>
                              <p:par>
                                <p:cTn id="59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0" dur="500"/>
                                        <p:tgtEl>
                                          <p:spTgt spid="3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3" dur="500"/>
                                        <p:tgtEl>
                                          <p:spTgt spid="3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6" dur="500"/>
                                        <p:tgtEl>
                                          <p:spTgt spid="3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9" dur="500"/>
                                        <p:tgtEl>
                                          <p:spTgt spid="3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2" dur="500"/>
                                        <p:tgtEl>
                                          <p:spTgt spid="3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5" dur="500"/>
                                        <p:tgtEl>
                                          <p:spTgt spid="3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8" dur="500"/>
                                        <p:tgtEl>
                                          <p:spTgt spid="38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1" dur="500"/>
                                        <p:tgtEl>
                                          <p:spTgt spid="38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2" fill="hold">
                      <p:stCondLst>
                        <p:cond delay="indefinite"/>
                      </p:stCondLst>
                      <p:childTnLst>
                        <p:par>
                          <p:cTn id="5933" fill="hold">
                            <p:stCondLst>
                              <p:cond delay="0"/>
                            </p:stCondLst>
                            <p:childTnLst>
                              <p:par>
                                <p:cTn id="5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6" dur="500"/>
                                        <p:tgtEl>
                                          <p:spTgt spid="38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7" fill="hold">
                      <p:stCondLst>
                        <p:cond delay="indefinite"/>
                      </p:stCondLst>
                      <p:childTnLst>
                        <p:par>
                          <p:cTn id="5938" fill="hold">
                            <p:stCondLst>
                              <p:cond delay="0"/>
                            </p:stCondLst>
                            <p:childTnLst>
                              <p:par>
                                <p:cTn id="59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1" dur="500"/>
                                        <p:tgtEl>
                                          <p:spTgt spid="3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2" fill="hold">
                      <p:stCondLst>
                        <p:cond delay="indefinite"/>
                      </p:stCondLst>
                      <p:childTnLst>
                        <p:par>
                          <p:cTn id="5943" fill="hold">
                            <p:stCondLst>
                              <p:cond delay="0"/>
                            </p:stCondLst>
                            <p:childTnLst>
                              <p:par>
                                <p:cTn id="59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6" dur="500"/>
                                        <p:tgtEl>
                                          <p:spTgt spid="3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7" fill="hold">
                      <p:stCondLst>
                        <p:cond delay="indefinite"/>
                      </p:stCondLst>
                      <p:childTnLst>
                        <p:par>
                          <p:cTn id="5948" fill="hold">
                            <p:stCondLst>
                              <p:cond delay="0"/>
                            </p:stCondLst>
                            <p:childTnLst>
                              <p:par>
                                <p:cTn id="59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1" dur="500"/>
                                        <p:tgtEl>
                                          <p:spTgt spid="3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2" fill="hold">
                      <p:stCondLst>
                        <p:cond delay="indefinite"/>
                      </p:stCondLst>
                      <p:childTnLst>
                        <p:par>
                          <p:cTn id="5953" fill="hold">
                            <p:stCondLst>
                              <p:cond delay="0"/>
                            </p:stCondLst>
                            <p:childTnLst>
                              <p:par>
                                <p:cTn id="59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6" dur="500" fill="hold"/>
                                        <p:tgtEl>
                                          <p:spTgt spid="3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7" dur="500" fill="hold"/>
                                        <p:tgtEl>
                                          <p:spTgt spid="3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8" fill="hold">
                      <p:stCondLst>
                        <p:cond delay="indefinite"/>
                      </p:stCondLst>
                      <p:childTnLst>
                        <p:par>
                          <p:cTn id="5959" fill="hold">
                            <p:stCondLst>
                              <p:cond delay="0"/>
                            </p:stCondLst>
                            <p:childTnLst>
                              <p:par>
                                <p:cTn id="59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62" dur="500"/>
                                        <p:tgtEl>
                                          <p:spTgt spid="3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3" fill="hold">
                      <p:stCondLst>
                        <p:cond delay="indefinite"/>
                      </p:stCondLst>
                      <p:childTnLst>
                        <p:par>
                          <p:cTn id="5964" fill="hold">
                            <p:stCondLst>
                              <p:cond delay="0"/>
                            </p:stCondLst>
                            <p:childTnLst>
                              <p:par>
                                <p:cTn id="59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67" dur="5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8" fill="hold">
                            <p:stCondLst>
                              <p:cond delay="500"/>
                            </p:stCondLst>
                            <p:childTnLst>
                              <p:par>
                                <p:cTn id="59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71" dur="500"/>
                                        <p:tgtEl>
                                          <p:spTgt spid="3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75" dur="500"/>
                                        <p:tgtEl>
                                          <p:spTgt spid="3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79" dur="500"/>
                                        <p:tgtEl>
                                          <p:spTgt spid="3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0" fill="hold">
                      <p:stCondLst>
                        <p:cond delay="indefinite"/>
                      </p:stCondLst>
                      <p:childTnLst>
                        <p:par>
                          <p:cTn id="5981" fill="hold">
                            <p:stCondLst>
                              <p:cond delay="0"/>
                            </p:stCondLst>
                            <p:childTnLst>
                              <p:par>
                                <p:cTn id="59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84" dur="500"/>
                                        <p:tgtEl>
                                          <p:spTgt spid="3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5" fill="hold">
                      <p:stCondLst>
                        <p:cond delay="indefinite"/>
                      </p:stCondLst>
                      <p:childTnLst>
                        <p:par>
                          <p:cTn id="5986" fill="hold">
                            <p:stCondLst>
                              <p:cond delay="0"/>
                            </p:stCondLst>
                            <p:childTnLst>
                              <p:par>
                                <p:cTn id="59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89" dur="500"/>
                                        <p:tgtEl>
                                          <p:spTgt spid="3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0" fill="hold">
                      <p:stCondLst>
                        <p:cond delay="indefinite"/>
                      </p:stCondLst>
                      <p:childTnLst>
                        <p:par>
                          <p:cTn id="5991" fill="hold">
                            <p:stCondLst>
                              <p:cond delay="0"/>
                            </p:stCondLst>
                            <p:childTnLst>
                              <p:par>
                                <p:cTn id="59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4" dur="500"/>
                                        <p:tgtEl>
                                          <p:spTgt spid="3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5" fill="hold">
                      <p:stCondLst>
                        <p:cond delay="indefinite"/>
                      </p:stCondLst>
                      <p:childTnLst>
                        <p:par>
                          <p:cTn id="5996" fill="hold">
                            <p:stCondLst>
                              <p:cond delay="0"/>
                            </p:stCondLst>
                            <p:childTnLst>
                              <p:par>
                                <p:cTn id="59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9" dur="500"/>
                                        <p:tgtEl>
                                          <p:spTgt spid="3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2" dur="500"/>
                                        <p:tgtEl>
                                          <p:spTgt spid="3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"/>
          <p:cNvSpPr/>
          <p:nvPr/>
        </p:nvSpPr>
        <p:spPr>
          <a:xfrm>
            <a:off x="4456800" y="5723640"/>
            <a:ext cx="406080" cy="368280"/>
          </a:xfrm>
          <a:prstGeom prst="rect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4420080" y="5723640"/>
            <a:ext cx="5007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Preem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victi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-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vation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 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heckpoin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>
            <a:off x="1066680" y="5060880"/>
            <a:ext cx="457200" cy="4572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990720" y="5594400"/>
            <a:ext cx="6705360" cy="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7" name=""/>
          <p:cNvGraphicFramePr/>
          <p:nvPr/>
        </p:nvGraphicFramePr>
        <p:xfrm>
          <a:off x="3429000" y="5137200"/>
          <a:ext cx="457200" cy="3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5137200"/>
                    <a:ext cx="457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39" name=""/>
          <p:cNvGrpSpPr/>
          <p:nvPr/>
        </p:nvGrpSpPr>
        <p:grpSpPr>
          <a:xfrm>
            <a:off x="5334120" y="4571280"/>
            <a:ext cx="2060640" cy="718200"/>
            <a:chOff x="5334120" y="4571280"/>
            <a:chExt cx="2060640" cy="718200"/>
          </a:xfrm>
        </p:grpSpPr>
        <p:sp>
          <p:nvSpPr>
            <p:cNvPr id="3840" name=""/>
            <p:cNvSpPr/>
            <p:nvPr/>
          </p:nvSpPr>
          <p:spPr>
            <a:xfrm>
              <a:off x="5334120" y="4908600"/>
              <a:ext cx="2057400" cy="38088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0" y="240"/>
                  </a:moveTo>
                  <a:lnTo>
                    <a:pt x="0" y="0"/>
                  </a:lnTo>
                  <a:lnTo>
                    <a:pt x="864" y="0"/>
                  </a:lnTo>
                </a:path>
              </a:pathLst>
            </a:custGeom>
            <a:noFill/>
            <a:ln w="19080">
              <a:solidFill>
                <a:srgbClr val="00279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336640" y="45712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starts using pri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2" name=""/>
          <p:cNvSpPr/>
          <p:nvPr/>
        </p:nvSpPr>
        <p:spPr>
          <a:xfrm>
            <a:off x="2514600" y="5060880"/>
            <a:ext cx="457200" cy="4572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4419720" y="5060880"/>
            <a:ext cx="457200" cy="4572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6705720" y="5060880"/>
            <a:ext cx="457200" cy="4572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5" name=""/>
          <p:cNvGrpSpPr/>
          <p:nvPr/>
        </p:nvGrpSpPr>
        <p:grpSpPr>
          <a:xfrm>
            <a:off x="7543800" y="4572000"/>
            <a:ext cx="838080" cy="1219320"/>
            <a:chOff x="7543800" y="4572000"/>
            <a:chExt cx="838080" cy="1219320"/>
          </a:xfrm>
        </p:grpSpPr>
        <p:sp>
          <p:nvSpPr>
            <p:cNvPr id="3846" name=""/>
            <p:cNvSpPr/>
            <p:nvPr/>
          </p:nvSpPr>
          <p:spPr>
            <a:xfrm>
              <a:off x="7924680" y="5029200"/>
              <a:ext cx="75600" cy="762120"/>
            </a:xfrm>
            <a:prstGeom prst="rect">
              <a:avLst/>
            </a:prstGeom>
            <a:solidFill>
              <a:srgbClr val="008000"/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7543800" y="4572000"/>
              <a:ext cx="838080" cy="609480"/>
            </a:xfrm>
            <a:prstGeom prst="hexagon">
              <a:avLst>
                <a:gd name="adj" fmla="val 34377"/>
                <a:gd name="vf" fmla="val 115470"/>
              </a:avLst>
            </a:prstGeom>
            <a:solidFill>
              <a:srgbClr val="ffffff"/>
            </a:solidFill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ad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8" name=""/>
          <p:cNvSpPr/>
          <p:nvPr/>
        </p:nvSpPr>
        <p:spPr>
          <a:xfrm>
            <a:off x="2531160" y="5723640"/>
            <a:ext cx="406080" cy="368280"/>
          </a:xfrm>
          <a:prstGeom prst="rect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6739920" y="5723640"/>
            <a:ext cx="406080" cy="368280"/>
          </a:xfrm>
          <a:prstGeom prst="rect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0" name=""/>
          <p:cNvGraphicFramePr/>
          <p:nvPr/>
        </p:nvGraphicFramePr>
        <p:xfrm>
          <a:off x="8001000" y="5218200"/>
          <a:ext cx="457200" cy="3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01000" y="5218200"/>
                    <a:ext cx="457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52" name=""/>
          <p:cNvGrpSpPr/>
          <p:nvPr/>
        </p:nvGrpSpPr>
        <p:grpSpPr>
          <a:xfrm>
            <a:off x="8069400" y="5121360"/>
            <a:ext cx="421200" cy="525960"/>
            <a:chOff x="8069400" y="5121360"/>
            <a:chExt cx="421200" cy="525960"/>
          </a:xfrm>
        </p:grpSpPr>
        <p:sp>
          <p:nvSpPr>
            <p:cNvPr id="3853" name=""/>
            <p:cNvSpPr/>
            <p:nvPr/>
          </p:nvSpPr>
          <p:spPr>
            <a:xfrm rot="3390000">
              <a:off x="8154720" y="514908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 rot="3390000">
              <a:off x="8097120" y="531540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5" name=""/>
          <p:cNvSpPr/>
          <p:nvPr/>
        </p:nvSpPr>
        <p:spPr>
          <a:xfrm>
            <a:off x="650880" y="57286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poi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3361320" y="4274640"/>
            <a:ext cx="1093680" cy="642600"/>
          </a:xfrm>
          <a:prstGeom prst="borderCallout1">
            <a:avLst>
              <a:gd name="adj1" fmla="val 18750"/>
              <a:gd name="adj2" fmla="val -8333"/>
              <a:gd name="adj3" fmla="val 149268"/>
              <a:gd name="adj4" fmla="val -15888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6705720" y="506088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6696000" y="5586840"/>
            <a:ext cx="4669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5268600" y="5723640"/>
            <a:ext cx="1489680" cy="368280"/>
          </a:xfrm>
          <a:prstGeom prst="borderCallout1">
            <a:avLst>
              <a:gd name="adj1" fmla="val 18750"/>
              <a:gd name="adj2" fmla="val -8333"/>
              <a:gd name="adj3" fmla="val 41402"/>
              <a:gd name="adj4" fmla="val -33652"/>
            </a:avLst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 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4538520" y="4495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2635200" y="4495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4419720" y="506088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 rot="5700000">
            <a:off x="2748600" y="5480640"/>
            <a:ext cx="609480" cy="316080"/>
          </a:xfrm>
          <a:custGeom>
            <a:avLst/>
            <a:gdLst>
              <a:gd name="textAreaLeft" fmla="*/ 106560 w 609480"/>
              <a:gd name="textAreaRight" fmla="*/ 442080 w 609480"/>
              <a:gd name="textAreaTop" fmla="*/ 42120 h 316080"/>
              <a:gd name="textAreaBottom" fmla="*/ 273960 h 316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 rot="5700000">
            <a:off x="4718160" y="5480640"/>
            <a:ext cx="609480" cy="315720"/>
          </a:xfrm>
          <a:custGeom>
            <a:avLst/>
            <a:gdLst>
              <a:gd name="textAreaLeft" fmla="*/ 106560 w 609480"/>
              <a:gd name="textAreaRight" fmla="*/ 442080 w 609480"/>
              <a:gd name="textAreaTop" fmla="*/ 42120 h 315720"/>
              <a:gd name="textAreaBottom" fmla="*/ 273600 h 315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 rot="5700000">
            <a:off x="7004160" y="5480640"/>
            <a:ext cx="609480" cy="315720"/>
          </a:xfrm>
          <a:custGeom>
            <a:avLst/>
            <a:gdLst>
              <a:gd name="textAreaLeft" fmla="*/ 106560 w 609480"/>
              <a:gd name="textAreaRight" fmla="*/ 442080 w 609480"/>
              <a:gd name="textAreaTop" fmla="*/ 42120 h 315720"/>
              <a:gd name="textAreaBottom" fmla="*/ 273600 h 315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3" dur="indefinite" restart="never" nodeType="tmRoot">
          <p:childTnLst>
            <p:seq>
              <p:cTn id="6004" dur="indefinite" nodeType="mainSeq">
                <p:childTnLst>
                  <p:par>
                    <p:cTn id="6005" fill="hold">
                      <p:stCondLst>
                        <p:cond delay="indefinite"/>
                      </p:stCondLst>
                      <p:childTnLst>
                        <p:par>
                          <p:cTn id="6006" fill="hold">
                            <p:stCondLst>
                              <p:cond delay="0"/>
                            </p:stCondLst>
                            <p:childTnLst>
                              <p:par>
                                <p:cTn id="60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09" dur="500"/>
                                        <p:tgtEl>
                                          <p:spTgt spid="3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13" dur="500"/>
                                        <p:tgtEl>
                                          <p:spTgt spid="3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4" fill="hold">
                      <p:stCondLst>
                        <p:cond delay="indefinite"/>
                      </p:stCondLst>
                      <p:childTnLst>
                        <p:par>
                          <p:cTn id="6015" fill="hold">
                            <p:stCondLst>
                              <p:cond delay="0"/>
                            </p:stCondLst>
                            <p:childTnLst>
                              <p:par>
                                <p:cTn id="6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8" dur="500"/>
                                        <p:tgtEl>
                                          <p:spTgt spid="3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9" fill="hold">
                      <p:stCondLst>
                        <p:cond delay="indefinite"/>
                      </p:stCondLst>
                      <p:childTnLst>
                        <p:par>
                          <p:cTn id="6020" fill="hold">
                            <p:stCondLst>
                              <p:cond delay="0"/>
                            </p:stCondLst>
                            <p:childTnLst>
                              <p:par>
                                <p:cTn id="6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3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4" fill="hold">
                      <p:stCondLst>
                        <p:cond delay="indefinite"/>
                      </p:stCondLst>
                      <p:childTnLst>
                        <p:par>
                          <p:cTn id="6025" fill="hold">
                            <p:stCondLst>
                              <p:cond delay="0"/>
                            </p:stCondLst>
                            <p:childTnLst>
                              <p:par>
                                <p:cTn id="60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8" dur="500"/>
                                        <p:tgtEl>
                                          <p:spTgt spid="3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9" fill="hold">
                            <p:stCondLst>
                              <p:cond delay="500"/>
                            </p:stCondLst>
                            <p:childTnLst>
                              <p:par>
                                <p:cTn id="60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2" dur="500"/>
                                        <p:tgtEl>
                                          <p:spTgt spid="3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34" fill="hold">
                      <p:stCondLst>
                        <p:cond delay="indefinite"/>
                      </p:stCondLst>
                      <p:childTnLst>
                        <p:par>
                          <p:cTn id="6035" fill="hold">
                            <p:stCondLst>
                              <p:cond delay="0"/>
                            </p:stCondLst>
                            <p:childTnLst>
                              <p:par>
                                <p:cTn id="60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38" dur="500"/>
                                        <p:tgtEl>
                                          <p:spTgt spid="3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9" fill="hold">
                      <p:stCondLst>
                        <p:cond delay="indefinite"/>
                      </p:stCondLst>
                      <p:childTnLst>
                        <p:par>
                          <p:cTn id="6040" fill="hold">
                            <p:stCondLst>
                              <p:cond delay="0"/>
                            </p:stCondLst>
                            <p:childTnLst>
                              <p:par>
                                <p:cTn id="60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3" dur="500" fill="hold"/>
                                        <p:tgtEl>
                                          <p:spTgt spid="3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4" dur="500" fill="hold"/>
                                        <p:tgtEl>
                                          <p:spTgt spid="3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5" fill="hold">
                      <p:stCondLst>
                        <p:cond delay="indefinite"/>
                      </p:stCondLst>
                      <p:childTnLst>
                        <p:par>
                          <p:cTn id="6046" fill="hold">
                            <p:stCondLst>
                              <p:cond delay="0"/>
                            </p:stCondLst>
                            <p:childTnLst>
                              <p:par>
                                <p:cTn id="6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9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0" fill="hold">
                      <p:stCondLst>
                        <p:cond delay="indefinite"/>
                      </p:stCondLst>
                      <p:childTnLst>
                        <p:par>
                          <p:cTn id="6051" fill="hold">
                            <p:stCondLst>
                              <p:cond delay="0"/>
                            </p:stCondLst>
                            <p:childTnLst>
                              <p:par>
                                <p:cTn id="6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4" dur="500"/>
                                        <p:tgtEl>
                                          <p:spTgt spid="3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5" fill="hold">
                            <p:stCondLst>
                              <p:cond delay="500"/>
                            </p:stCondLst>
                            <p:childTnLst>
                              <p:par>
                                <p:cTn id="6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8" dur="500"/>
                                        <p:tgtEl>
                                          <p:spTgt spid="3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60" fill="hold">
                      <p:stCondLst>
                        <p:cond delay="indefinite"/>
                      </p:stCondLst>
                      <p:childTnLst>
                        <p:par>
                          <p:cTn id="6061" fill="hold">
                            <p:stCondLst>
                              <p:cond delay="0"/>
                            </p:stCondLst>
                            <p:childTnLst>
                              <p:par>
                                <p:cTn id="60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64" dur="500"/>
                                        <p:tgtEl>
                                          <p:spTgt spid="3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5" fill="hold">
                      <p:stCondLst>
                        <p:cond delay="indefinite"/>
                      </p:stCondLst>
                      <p:childTnLst>
                        <p:par>
                          <p:cTn id="6066" fill="hold">
                            <p:stCondLst>
                              <p:cond delay="0"/>
                            </p:stCondLst>
                            <p:childTnLst>
                              <p:par>
                                <p:cTn id="6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9" dur="500"/>
                                        <p:tgtEl>
                                          <p:spTgt spid="3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0" fill="hold">
                      <p:stCondLst>
                        <p:cond delay="indefinite"/>
                      </p:stCondLst>
                      <p:childTnLst>
                        <p:par>
                          <p:cTn id="6071" fill="hold">
                            <p:stCondLst>
                              <p:cond delay="0"/>
                            </p:stCondLst>
                            <p:childTnLst>
                              <p:par>
                                <p:cTn id="60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4" dur="500"/>
                                        <p:tgtEl>
                                          <p:spTgt spid="3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5" fill="hold">
                            <p:stCondLst>
                              <p:cond delay="500"/>
                            </p:stCondLst>
                            <p:childTnLst>
                              <p:par>
                                <p:cTn id="6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8" dur="500"/>
                                        <p:tgtEl>
                                          <p:spTgt spid="3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80" fill="hold">
                      <p:stCondLst>
                        <p:cond delay="indefinite"/>
                      </p:stCondLst>
                      <p:childTnLst>
                        <p:par>
                          <p:cTn id="6081" fill="hold">
                            <p:stCondLst>
                              <p:cond delay="0"/>
                            </p:stCondLst>
                            <p:childTnLst>
                              <p:par>
                                <p:cTn id="60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84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5" fill="hold">
                      <p:stCondLst>
                        <p:cond delay="indefinite"/>
                      </p:stCondLst>
                      <p:childTnLst>
                        <p:par>
                          <p:cTn id="6086" fill="hold">
                            <p:stCondLst>
                              <p:cond delay="0"/>
                            </p:stCondLst>
                            <p:childTnLst>
                              <p:par>
                                <p:cTn id="60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9" dur="500" fill="hold"/>
                                        <p:tgtEl>
                                          <p:spTgt spid="3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0" dur="500" fill="hold"/>
                                        <p:tgtEl>
                                          <p:spTgt spid="3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92" fill="hold">
                            <p:stCondLst>
                              <p:cond delay="500"/>
                            </p:stCondLst>
                            <p:childTnLst>
                              <p:par>
                                <p:cTn id="609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5" dur="500" fill="hold"/>
                                        <p:tgtEl>
                                          <p:spTgt spid="3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6" dur="500" fill="hold"/>
                                        <p:tgtEl>
                                          <p:spTgt spid="3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98" fill="hold">
                      <p:stCondLst>
                        <p:cond delay="indefinite"/>
                      </p:stCondLst>
                      <p:childTnLst>
                        <p:par>
                          <p:cTn id="6099" fill="hold">
                            <p:stCondLst>
                              <p:cond delay="0"/>
                            </p:stCondLst>
                            <p:childTnLst>
                              <p:par>
                                <p:cTn id="61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02" dur="500"/>
                                        <p:tgtEl>
                                          <p:spTgt spid="3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04" fill="hold">
                            <p:stCondLst>
                              <p:cond delay="500"/>
                            </p:stCondLst>
                            <p:childTnLst>
                              <p:par>
                                <p:cTn id="6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61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14" dur="500"/>
                                        <p:tgtEl>
                                          <p:spTgt spid="3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5" fill="hold">
                      <p:stCondLst>
                        <p:cond delay="indefinite"/>
                      </p:stCondLst>
                      <p:childTnLst>
                        <p:par>
                          <p:cTn id="6116" fill="hold">
                            <p:stCondLst>
                              <p:cond delay="0"/>
                            </p:stCondLst>
                            <p:childTnLst>
                              <p:par>
                                <p:cTn id="6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19" dur="500"/>
                                        <p:tgtEl>
                                          <p:spTgt spid="3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2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bined 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 Partitioned into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es Hierarchically Orde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Ordering To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Class: Most appropriate techni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lock never involves &gt; 1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bined 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>
            <a:off x="1828800" y="1905120"/>
            <a:ext cx="2895480" cy="761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Resourc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CB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1828800" y="2793960"/>
            <a:ext cx="2895480" cy="762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ap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1828800" y="3683160"/>
            <a:ext cx="2895480" cy="761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1828800" y="4572000"/>
            <a:ext cx="2895480" cy="762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inter, Tape Unit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5025960" y="2368440"/>
            <a:ext cx="2133720" cy="703800"/>
          </a:xfrm>
          <a:prstGeom prst="borderCallout1">
            <a:avLst>
              <a:gd name="adj1" fmla="val 18750"/>
              <a:gd name="adj2" fmla="val -8333"/>
              <a:gd name="adj3" fmla="val -11912"/>
              <a:gd name="adj4" fmla="val -25740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rde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5029200" y="3171960"/>
            <a:ext cx="2133720" cy="703800"/>
          </a:xfrm>
          <a:prstGeom prst="borderCallout1">
            <a:avLst>
              <a:gd name="adj1" fmla="val 18750"/>
              <a:gd name="adj2" fmla="val -8333"/>
              <a:gd name="adj3" fmla="val -11856"/>
              <a:gd name="adj4" fmla="val -25740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eallo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5029200" y="4010040"/>
            <a:ext cx="2133720" cy="703800"/>
          </a:xfrm>
          <a:prstGeom prst="borderCallout1">
            <a:avLst>
              <a:gd name="adj1" fmla="val 18750"/>
              <a:gd name="adj2" fmla="val -8333"/>
              <a:gd name="adj3" fmla="val -11856"/>
              <a:gd name="adj4" fmla="val -25740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eem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5029200" y="4848120"/>
            <a:ext cx="2133720" cy="703800"/>
          </a:xfrm>
          <a:prstGeom prst="borderCallout1">
            <a:avLst>
              <a:gd name="adj1" fmla="val 18750"/>
              <a:gd name="adj2" fmla="val -8333"/>
              <a:gd name="adj3" fmla="val -11912"/>
              <a:gd name="adj4" fmla="val -25740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an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anker´s Alg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">
            <a:hlinkClick r:id="rId1"/>
          </p:cNvPr>
          <p:cNvSpPr/>
          <p:nvPr/>
        </p:nvSpPr>
        <p:spPr>
          <a:xfrm>
            <a:off x="7924680" y="54864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3794"/>
                </a:moveTo>
                <a:lnTo>
                  <a:pt x="23975" y="10800"/>
                </a:lnTo>
                <a:lnTo>
                  <a:pt x="9962" y="17806"/>
                </a:lnTo>
                <a:close/>
              </a:path>
            </a:pathLst>
          </a:custGeom>
          <a:solidFill>
            <a:srgbClr val="99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7" dur="indefinite" restart="never" nodeType="tmRoot">
          <p:childTnLst>
            <p:seq>
              <p:cTn id="6128" dur="indefinite" nodeType="mainSeq">
                <p:childTnLst>
                  <p:par>
                    <p:cTn id="6129" fill="hold">
                      <p:stCondLst>
                        <p:cond delay="indefinite"/>
                      </p:stCondLst>
                      <p:childTnLst>
                        <p:par>
                          <p:cTn id="6130" fill="hold">
                            <p:stCondLst>
                              <p:cond delay="0"/>
                            </p:stCondLst>
                            <p:childTnLst>
                              <p:par>
                                <p:cTn id="6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3" dur="500"/>
                                        <p:tgtEl>
                                          <p:spTgt spid="3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4" fill="hold">
                      <p:stCondLst>
                        <p:cond delay="indefinite"/>
                      </p:stCondLst>
                      <p:childTnLst>
                        <p:par>
                          <p:cTn id="6135" fill="hold">
                            <p:stCondLst>
                              <p:cond delay="0"/>
                            </p:stCondLst>
                            <p:childTnLst>
                              <p:par>
                                <p:cTn id="6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8" dur="500"/>
                                        <p:tgtEl>
                                          <p:spTgt spid="3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9" fill="hold">
                      <p:stCondLst>
                        <p:cond delay="indefinite"/>
                      </p:stCondLst>
                      <p:childTnLst>
                        <p:par>
                          <p:cTn id="6140" fill="hold">
                            <p:stCondLst>
                              <p:cond delay="0"/>
                            </p:stCondLst>
                            <p:childTnLst>
                              <p:par>
                                <p:cTn id="6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3" dur="500"/>
                                        <p:tgtEl>
                                          <p:spTgt spid="3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4" fill="hold">
                      <p:stCondLst>
                        <p:cond delay="indefinite"/>
                      </p:stCondLst>
                      <p:childTnLst>
                        <p:par>
                          <p:cTn id="6145" fill="hold">
                            <p:stCondLst>
                              <p:cond delay="0"/>
                            </p:stCondLst>
                            <p:childTnLst>
                              <p:par>
                                <p:cTn id="6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8" dur="500"/>
                                        <p:tgtEl>
                                          <p:spTgt spid="3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9" fill="hold">
                      <p:stCondLst>
                        <p:cond delay="indefinite"/>
                      </p:stCondLst>
                      <p:childTnLst>
                        <p:par>
                          <p:cTn id="6150" fill="hold">
                            <p:stCondLst>
                              <p:cond delay="0"/>
                            </p:stCondLst>
                            <p:childTnLst>
                              <p:par>
                                <p:cTn id="6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53" dur="500"/>
                                        <p:tgtEl>
                                          <p:spTgt spid="3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4" fill="hold">
                      <p:stCondLst>
                        <p:cond delay="indefinite"/>
                      </p:stCondLst>
                      <p:childTnLst>
                        <p:par>
                          <p:cTn id="6155" fill="hold">
                            <p:stCondLst>
                              <p:cond delay="0"/>
                            </p:stCondLst>
                            <p:childTnLst>
                              <p:par>
                                <p:cTn id="6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58" dur="500"/>
                                        <p:tgtEl>
                                          <p:spTgt spid="3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9" fill="hold">
                      <p:stCondLst>
                        <p:cond delay="indefinite"/>
                      </p:stCondLst>
                      <p:childTnLst>
                        <p:par>
                          <p:cTn id="6160" fill="hold">
                            <p:stCondLst>
                              <p:cond delay="0"/>
                            </p:stCondLst>
                            <p:childTnLst>
                              <p:par>
                                <p:cTn id="6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63" dur="500"/>
                                        <p:tgtEl>
                                          <p:spTgt spid="3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4" fill="hold">
                      <p:stCondLst>
                        <p:cond delay="indefinite"/>
                      </p:stCondLst>
                      <p:childTnLst>
                        <p:par>
                          <p:cTn id="6165" fill="hold">
                            <p:stCondLst>
                              <p:cond delay="0"/>
                            </p:stCondLst>
                            <p:childTnLst>
                              <p:par>
                                <p:cTn id="61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68" dur="500"/>
                                        <p:tgtEl>
                                          <p:spTgt spid="3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803760" y="1523880"/>
            <a:ext cx="990360" cy="533520"/>
            <a:chOff x="3803760" y="1523880"/>
            <a:chExt cx="990360" cy="533520"/>
          </a:xfrm>
        </p:grpSpPr>
        <p:sp>
          <p:nvSpPr>
            <p:cNvPr id="326" name=""/>
            <p:cNvSpPr/>
            <p:nvPr/>
          </p:nvSpPr>
          <p:spPr>
            <a:xfrm>
              <a:off x="3803760" y="1523880"/>
              <a:ext cx="990360" cy="5335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21840" y="1605600"/>
              <a:ext cx="753840" cy="246240"/>
              <a:chOff x="3921840" y="1605600"/>
              <a:chExt cx="753840" cy="246240"/>
            </a:xfrm>
          </p:grpSpPr>
          <p:sp>
            <p:nvSpPr>
              <p:cNvPr id="328" name=""/>
              <p:cNvSpPr/>
              <p:nvPr/>
            </p:nvSpPr>
            <p:spPr>
              <a:xfrm>
                <a:off x="3921840" y="1605600"/>
                <a:ext cx="28260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93080" y="1605600"/>
                <a:ext cx="28260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4086720" y="1893240"/>
              <a:ext cx="424440" cy="123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58920" y="18111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497120" y="18111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295280" y="2590920"/>
            <a:ext cx="3353040" cy="3352680"/>
            <a:chOff x="1295280" y="2590920"/>
            <a:chExt cx="3353040" cy="3352680"/>
          </a:xfrm>
        </p:grpSpPr>
        <p:sp>
          <p:nvSpPr>
            <p:cNvPr id="334" name=""/>
            <p:cNvSpPr/>
            <p:nvPr/>
          </p:nvSpPr>
          <p:spPr>
            <a:xfrm>
              <a:off x="1295280" y="259092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 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87640" y="2590920"/>
              <a:ext cx="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95280" y="297180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56480" y="3352680"/>
            <a:ext cx="399960" cy="2514600"/>
            <a:chOff x="456480" y="3352680"/>
            <a:chExt cx="399960" cy="2514600"/>
          </a:xfrm>
        </p:grpSpPr>
        <p:sp>
          <p:nvSpPr>
            <p:cNvPr id="338" name=""/>
            <p:cNvSpPr/>
            <p:nvPr/>
          </p:nvSpPr>
          <p:spPr>
            <a:xfrm>
              <a:off x="777960" y="3352680"/>
              <a:ext cx="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6205400">
              <a:off x="275400" y="444816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1066680" y="329076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2971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03480" y="4724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859040" y="5029200"/>
          <a:ext cx="533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9040" y="502920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3711600" y="5410080"/>
          <a:ext cx="53352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1600" y="5410080"/>
                    <a:ext cx="5335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6781680" y="3962520"/>
            <a:ext cx="1905120" cy="18288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467480" y="4876920"/>
            <a:ext cx="533520" cy="802080"/>
            <a:chOff x="7467480" y="4876920"/>
            <a:chExt cx="533520" cy="802080"/>
          </a:xfrm>
        </p:grpSpPr>
        <p:graphicFrame>
          <p:nvGraphicFramePr>
            <p:cNvPr id="349" name=""/>
            <p:cNvGraphicFramePr/>
            <p:nvPr/>
          </p:nvGraphicFramePr>
          <p:xfrm>
            <a:off x="7467480" y="4876920"/>
            <a:ext cx="533520" cy="523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67480" y="4876920"/>
                      <a:ext cx="53352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7480080" y="5280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7620120" y="4114800"/>
            <a:ext cx="533160" cy="802080"/>
            <a:chOff x="7620120" y="4114800"/>
            <a:chExt cx="533160" cy="802080"/>
          </a:xfrm>
        </p:grpSpPr>
        <p:graphicFrame>
          <p:nvGraphicFramePr>
            <p:cNvPr id="353" name=""/>
            <p:cNvGraphicFramePr/>
            <p:nvPr/>
          </p:nvGraphicFramePr>
          <p:xfrm>
            <a:off x="7620120" y="4114800"/>
            <a:ext cx="533160" cy="523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5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20120" y="4114800"/>
                      <a:ext cx="533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"/>
            <p:cNvSpPr/>
            <p:nvPr/>
          </p:nvSpPr>
          <p:spPr>
            <a:xfrm>
              <a:off x="7632360" y="4518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 txBox="1"/>
          <p:nvPr/>
        </p:nvSpPr>
        <p:spPr>
          <a:xfrm>
            <a:off x="4267080" y="5334120"/>
            <a:ext cx="160020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6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1447920"/>
            <a:ext cx="15242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5257800" y="1521000"/>
          <a:ext cx="914400" cy="68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57800" y="1521000"/>
                    <a:ext cx="91440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5181480" y="1447920"/>
            <a:ext cx="15242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668600" y="3657600"/>
          <a:ext cx="914400" cy="68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8600" y="3657600"/>
                    <a:ext cx="914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3" name=""/>
          <p:cNvGrpSpPr/>
          <p:nvPr/>
        </p:nvGrpSpPr>
        <p:grpSpPr>
          <a:xfrm>
            <a:off x="3551400" y="3352680"/>
            <a:ext cx="990360" cy="533520"/>
            <a:chOff x="3551400" y="3352680"/>
            <a:chExt cx="990360" cy="533520"/>
          </a:xfrm>
        </p:grpSpPr>
        <p:sp>
          <p:nvSpPr>
            <p:cNvPr id="364" name=""/>
            <p:cNvSpPr/>
            <p:nvPr/>
          </p:nvSpPr>
          <p:spPr>
            <a:xfrm>
              <a:off x="3551400" y="3352680"/>
              <a:ext cx="990360" cy="5335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3669480" y="3434400"/>
              <a:ext cx="753840" cy="246240"/>
              <a:chOff x="3669480" y="3434400"/>
              <a:chExt cx="753840" cy="246240"/>
            </a:xfrm>
          </p:grpSpPr>
          <p:sp>
            <p:nvSpPr>
              <p:cNvPr id="366" name=""/>
              <p:cNvSpPr/>
              <p:nvPr/>
            </p:nvSpPr>
            <p:spPr>
              <a:xfrm>
                <a:off x="3669480" y="3434400"/>
                <a:ext cx="28260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40720" y="3434400"/>
                <a:ext cx="28260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3834360" y="3722040"/>
              <a:ext cx="424440" cy="123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06560" y="36399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244760" y="36399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2971800" y="5029200"/>
            <a:ext cx="19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21:23:42Z</dcterms:created>
  <dc:creator>De Decker</dc:creator>
  <dc:description/>
  <dc:language>en-US</dc:language>
  <cp:lastModifiedBy>Bart De Decker</cp:lastModifiedBy>
  <dcterms:modified xsi:type="dcterms:W3CDTF">2005-11-04T10:50:23Z</dcterms:modified>
  <cp:revision>22</cp:revision>
  <dc:subject/>
  <dc:title>Overview</dc:title>
</cp:coreProperties>
</file>