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9856788" cy="6732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E608BAD8-9AA2-455F-A55D-195ABEC23AC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3400" y="295200"/>
            <a:ext cx="1656000" cy="1296360"/>
            <a:chOff x="23400" y="295200"/>
            <a:chExt cx="1656000" cy="1296360"/>
          </a:xfrm>
        </p:grpSpPr>
        <p:sp>
          <p:nvSpPr>
            <p:cNvPr id="5" name=""/>
            <p:cNvSpPr/>
            <p:nvPr/>
          </p:nvSpPr>
          <p:spPr>
            <a:xfrm>
              <a:off x="310680" y="504720"/>
              <a:ext cx="1066680" cy="91440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3400" y="295200"/>
              <a:ext cx="1656000" cy="1296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99680F12-8A76-4FF6-A248-BB622002E26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04240" y="131760"/>
            <a:ext cx="2537640" cy="2028600"/>
            <a:chOff x="804240" y="131760"/>
            <a:chExt cx="2537640" cy="2028600"/>
          </a:xfrm>
        </p:grpSpPr>
        <p:sp>
          <p:nvSpPr>
            <p:cNvPr id="47" name=""/>
            <p:cNvSpPr/>
            <p:nvPr/>
          </p:nvSpPr>
          <p:spPr>
            <a:xfrm>
              <a:off x="1255680" y="376920"/>
              <a:ext cx="1605600" cy="159876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4240" y="131760"/>
              <a:ext cx="2537640" cy="20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3886200"/>
            <a:ext cx="1218960" cy="167652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ile Syste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ile = “Logical” Contai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n-Line Storage of Data &amp;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2971800"/>
            <a:ext cx="914400" cy="99072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4191120"/>
            <a:ext cx="1219320" cy="167616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85400">
            <a:off x="679320" y="4865400"/>
            <a:ext cx="1295640" cy="1218960"/>
          </a:xfrm>
          <a:prstGeom prst="flowChartMagneticTap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3124080"/>
            <a:ext cx="914400" cy="99072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3276720"/>
            <a:ext cx="914400" cy="99036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3276720"/>
            <a:ext cx="2057400" cy="1689120"/>
          </a:xfrm>
          <a:custGeom>
            <a:avLst/>
            <a:gdLst/>
            <a:ahLst/>
            <a:rect l="l" t="t" r="r" b="b"/>
            <a:pathLst>
              <a:path w="1296" h="1064">
                <a:moveTo>
                  <a:pt x="0" y="152"/>
                </a:moveTo>
                <a:cubicBezTo>
                  <a:pt x="204" y="76"/>
                  <a:pt x="408" y="0"/>
                  <a:pt x="624" y="152"/>
                </a:cubicBezTo>
                <a:cubicBezTo>
                  <a:pt x="840" y="304"/>
                  <a:pt x="1068" y="684"/>
                  <a:pt x="1296" y="1064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990000" y="3581280"/>
            <a:ext cx="533160" cy="2057400"/>
          </a:xfrm>
          <a:custGeom>
            <a:avLst/>
            <a:gdLst/>
            <a:ahLst/>
            <a:rect l="l" t="t" r="r" b="b"/>
            <a:pathLst>
              <a:path w="1296" h="1064">
                <a:moveTo>
                  <a:pt x="0" y="152"/>
                </a:moveTo>
                <a:cubicBezTo>
                  <a:pt x="204" y="76"/>
                  <a:pt x="408" y="0"/>
                  <a:pt x="624" y="152"/>
                </a:cubicBezTo>
                <a:cubicBezTo>
                  <a:pt x="840" y="304"/>
                  <a:pt x="1068" y="684"/>
                  <a:pt x="1296" y="1064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010280" y="3048120"/>
            <a:ext cx="838440" cy="414360"/>
            <a:chOff x="7010280" y="3048120"/>
            <a:chExt cx="838440" cy="414360"/>
          </a:xfrm>
        </p:grpSpPr>
        <p:sp>
          <p:nvSpPr>
            <p:cNvPr id="96" name=""/>
            <p:cNvSpPr/>
            <p:nvPr/>
          </p:nvSpPr>
          <p:spPr>
            <a:xfrm>
              <a:off x="7010280" y="3048120"/>
              <a:ext cx="83844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14040" y="3048120"/>
              <a:ext cx="634320" cy="414360"/>
            </a:xfrm>
            <a:custGeom>
              <a:avLst/>
              <a:gdLst/>
              <a:ahLst/>
              <a:rect l="l" t="t" r="r" b="b"/>
              <a:pathLst>
                <a:path w="2842" h="2025">
                  <a:moveTo>
                    <a:pt x="0" y="152"/>
                  </a:moveTo>
                  <a:lnTo>
                    <a:pt x="1737" y="152"/>
                  </a:lnTo>
                  <a:lnTo>
                    <a:pt x="1836" y="0"/>
                  </a:lnTo>
                  <a:lnTo>
                    <a:pt x="2475" y="0"/>
                  </a:lnTo>
                  <a:lnTo>
                    <a:pt x="2574" y="152"/>
                  </a:lnTo>
                  <a:lnTo>
                    <a:pt x="2842" y="152"/>
                  </a:lnTo>
                  <a:lnTo>
                    <a:pt x="2842" y="2025"/>
                  </a:lnTo>
                  <a:lnTo>
                    <a:pt x="0" y="2025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f3dfc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249680" y="3108600"/>
              <a:ext cx="564120" cy="31608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0280" y="3166920"/>
              <a:ext cx="838440" cy="295560"/>
            </a:xfrm>
            <a:custGeom>
              <a:avLst/>
              <a:gdLst/>
              <a:ahLst/>
              <a:rect l="l" t="t" r="r" b="b"/>
              <a:pathLst>
                <a:path w="3760" h="1445">
                  <a:moveTo>
                    <a:pt x="918" y="1445"/>
                  </a:moveTo>
                  <a:lnTo>
                    <a:pt x="3760" y="1445"/>
                  </a:lnTo>
                  <a:lnTo>
                    <a:pt x="2842" y="0"/>
                  </a:lnTo>
                  <a:lnTo>
                    <a:pt x="0" y="0"/>
                  </a:lnTo>
                  <a:lnTo>
                    <a:pt x="918" y="1445"/>
                  </a:lnTo>
                  <a:close/>
                </a:path>
              </a:pathLst>
            </a:custGeom>
            <a:solidFill>
              <a:srgbClr val="f3dfc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715000" y="4800600"/>
            <a:ext cx="380880" cy="533520"/>
          </a:xfrm>
          <a:prstGeom prst="foldedCorner">
            <a:avLst>
              <a:gd name="adj" fmla="val 12500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3048120"/>
            <a:ext cx="1752840" cy="1066680"/>
          </a:xfrm>
          <a:custGeom>
            <a:avLst/>
            <a:gdLst/>
            <a:ahLst/>
            <a:rect l="l" t="t" r="r" b="b"/>
            <a:pathLst>
              <a:path w="1296" h="1064">
                <a:moveTo>
                  <a:pt x="0" y="152"/>
                </a:moveTo>
                <a:cubicBezTo>
                  <a:pt x="204" y="76"/>
                  <a:pt x="408" y="0"/>
                  <a:pt x="624" y="152"/>
                </a:cubicBezTo>
                <a:cubicBezTo>
                  <a:pt x="840" y="304"/>
                  <a:pt x="1068" y="684"/>
                  <a:pt x="1296" y="1064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5562720"/>
            <a:ext cx="380880" cy="53316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7480" y="3809880"/>
            <a:ext cx="381240" cy="533520"/>
          </a:xfrm>
          <a:prstGeom prst="foldedCorner">
            <a:avLst>
              <a:gd name="adj" fmla="val 12500"/>
            </a:avLst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01000" y="5562720"/>
            <a:ext cx="380880" cy="533160"/>
          </a:xfrm>
          <a:prstGeom prst="foldedCorner">
            <a:avLst>
              <a:gd name="adj" fmla="val 12500"/>
            </a:avLst>
          </a:prstGeom>
          <a:solidFill>
            <a:srgbClr val="6df1e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238880" y="4800600"/>
            <a:ext cx="838440" cy="414360"/>
            <a:chOff x="7238880" y="4800600"/>
            <a:chExt cx="838440" cy="414360"/>
          </a:xfrm>
        </p:grpSpPr>
        <p:sp>
          <p:nvSpPr>
            <p:cNvPr id="106" name=""/>
            <p:cNvSpPr/>
            <p:nvPr/>
          </p:nvSpPr>
          <p:spPr>
            <a:xfrm>
              <a:off x="7238880" y="4800600"/>
              <a:ext cx="83844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42640" y="4800600"/>
              <a:ext cx="634320" cy="414360"/>
            </a:xfrm>
            <a:custGeom>
              <a:avLst/>
              <a:gdLst/>
              <a:ahLst/>
              <a:rect l="l" t="t" r="r" b="b"/>
              <a:pathLst>
                <a:path w="2842" h="2025">
                  <a:moveTo>
                    <a:pt x="0" y="152"/>
                  </a:moveTo>
                  <a:lnTo>
                    <a:pt x="1737" y="152"/>
                  </a:lnTo>
                  <a:lnTo>
                    <a:pt x="1836" y="0"/>
                  </a:lnTo>
                  <a:lnTo>
                    <a:pt x="2475" y="0"/>
                  </a:lnTo>
                  <a:lnTo>
                    <a:pt x="2574" y="152"/>
                  </a:lnTo>
                  <a:lnTo>
                    <a:pt x="2842" y="152"/>
                  </a:lnTo>
                  <a:lnTo>
                    <a:pt x="2842" y="2025"/>
                  </a:lnTo>
                  <a:lnTo>
                    <a:pt x="0" y="2025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f3dfc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78280" y="4861080"/>
              <a:ext cx="564120" cy="31608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38880" y="4919400"/>
              <a:ext cx="838440" cy="295560"/>
            </a:xfrm>
            <a:custGeom>
              <a:avLst/>
              <a:gdLst/>
              <a:ahLst/>
              <a:rect l="l" t="t" r="r" b="b"/>
              <a:pathLst>
                <a:path w="3760" h="1445">
                  <a:moveTo>
                    <a:pt x="918" y="1445"/>
                  </a:moveTo>
                  <a:lnTo>
                    <a:pt x="3760" y="1445"/>
                  </a:lnTo>
                  <a:lnTo>
                    <a:pt x="2842" y="0"/>
                  </a:lnTo>
                  <a:lnTo>
                    <a:pt x="0" y="0"/>
                  </a:lnTo>
                  <a:lnTo>
                    <a:pt x="918" y="1445"/>
                  </a:lnTo>
                  <a:close/>
                </a:path>
              </a:pathLst>
            </a:custGeom>
            <a:solidFill>
              <a:srgbClr val="f3dfc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019920" y="3962520"/>
            <a:ext cx="838080" cy="414360"/>
            <a:chOff x="6019920" y="3962520"/>
            <a:chExt cx="838080" cy="414360"/>
          </a:xfrm>
        </p:grpSpPr>
        <p:sp>
          <p:nvSpPr>
            <p:cNvPr id="111" name=""/>
            <p:cNvSpPr/>
            <p:nvPr/>
          </p:nvSpPr>
          <p:spPr>
            <a:xfrm>
              <a:off x="6019920" y="3962520"/>
              <a:ext cx="83808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23680" y="3962520"/>
              <a:ext cx="633960" cy="414360"/>
            </a:xfrm>
            <a:custGeom>
              <a:avLst/>
              <a:gdLst/>
              <a:ahLst/>
              <a:rect l="l" t="t" r="r" b="b"/>
              <a:pathLst>
                <a:path w="2842" h="2025">
                  <a:moveTo>
                    <a:pt x="0" y="152"/>
                  </a:moveTo>
                  <a:lnTo>
                    <a:pt x="1737" y="152"/>
                  </a:lnTo>
                  <a:lnTo>
                    <a:pt x="1836" y="0"/>
                  </a:lnTo>
                  <a:lnTo>
                    <a:pt x="2475" y="0"/>
                  </a:lnTo>
                  <a:lnTo>
                    <a:pt x="2574" y="152"/>
                  </a:lnTo>
                  <a:lnTo>
                    <a:pt x="2842" y="152"/>
                  </a:lnTo>
                  <a:lnTo>
                    <a:pt x="2842" y="2025"/>
                  </a:lnTo>
                  <a:lnTo>
                    <a:pt x="0" y="2025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f3dfc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59320" y="4023000"/>
              <a:ext cx="564120" cy="31608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19920" y="4081320"/>
              <a:ext cx="838080" cy="295560"/>
            </a:xfrm>
            <a:custGeom>
              <a:avLst/>
              <a:gdLst/>
              <a:ahLst/>
              <a:rect l="l" t="t" r="r" b="b"/>
              <a:pathLst>
                <a:path w="3760" h="1445">
                  <a:moveTo>
                    <a:pt x="918" y="1445"/>
                  </a:moveTo>
                  <a:lnTo>
                    <a:pt x="3760" y="1445"/>
                  </a:lnTo>
                  <a:lnTo>
                    <a:pt x="2842" y="0"/>
                  </a:lnTo>
                  <a:lnTo>
                    <a:pt x="0" y="0"/>
                  </a:lnTo>
                  <a:lnTo>
                    <a:pt x="918" y="1445"/>
                  </a:lnTo>
                  <a:close/>
                </a:path>
              </a:pathLst>
            </a:custGeom>
            <a:solidFill>
              <a:srgbClr val="f3dfc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8381880" y="3886200"/>
            <a:ext cx="381240" cy="533520"/>
          </a:xfrm>
          <a:prstGeom prst="foldedCorner">
            <a:avLst>
              <a:gd name="adj" fmla="val 12500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99" idx="0"/>
            <a:endCxn id="114" idx="0"/>
          </p:cNvCxnSpPr>
          <p:nvPr/>
        </p:nvCxnSpPr>
        <p:spPr>
          <a:xfrm flipH="1">
            <a:off x="6653520" y="3462480"/>
            <a:ext cx="561600" cy="61920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4" idx="1"/>
            <a:endCxn id="100" idx="0"/>
          </p:cNvCxnSpPr>
          <p:nvPr/>
        </p:nvCxnSpPr>
        <p:spPr>
          <a:xfrm flipH="1">
            <a:off x="5905440" y="4376880"/>
            <a:ext cx="319320" cy="424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9" idx="1"/>
            <a:endCxn id="103" idx="0"/>
          </p:cNvCxnSpPr>
          <p:nvPr/>
        </p:nvCxnSpPr>
        <p:spPr>
          <a:xfrm flipH="1">
            <a:off x="7658280" y="3462480"/>
            <a:ext cx="190800" cy="34776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9" idx="2"/>
            <a:endCxn id="115" idx="0"/>
          </p:cNvCxnSpPr>
          <p:nvPr/>
        </p:nvCxnSpPr>
        <p:spPr>
          <a:xfrm>
            <a:off x="7848720" y="3462480"/>
            <a:ext cx="724320" cy="424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2"/>
            <a:endCxn id="109" idx="0"/>
          </p:cNvCxnSpPr>
          <p:nvPr/>
        </p:nvCxnSpPr>
        <p:spPr>
          <a:xfrm>
            <a:off x="6858000" y="4376880"/>
            <a:ext cx="1015200" cy="5428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9" idx="1"/>
            <a:endCxn id="102" idx="0"/>
          </p:cNvCxnSpPr>
          <p:nvPr/>
        </p:nvCxnSpPr>
        <p:spPr>
          <a:xfrm flipH="1">
            <a:off x="7277040" y="5214960"/>
            <a:ext cx="166680" cy="3481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9" idx="2"/>
            <a:endCxn id="104" idx="0"/>
          </p:cNvCxnSpPr>
          <p:nvPr/>
        </p:nvCxnSpPr>
        <p:spPr>
          <a:xfrm>
            <a:off x="8077320" y="5214960"/>
            <a:ext cx="114480" cy="3481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3581280" y="28954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ap on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8945600">
            <a:off x="5766480" y="3060000"/>
            <a:ext cx="16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rgan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133720" y="4114800"/>
            <a:ext cx="930240" cy="882720"/>
            <a:chOff x="2133720" y="4114800"/>
            <a:chExt cx="930240" cy="882720"/>
          </a:xfrm>
        </p:grpSpPr>
        <p:grpSp>
          <p:nvGrpSpPr>
            <p:cNvPr id="126" name=""/>
            <p:cNvGrpSpPr/>
            <p:nvPr/>
          </p:nvGrpSpPr>
          <p:grpSpPr>
            <a:xfrm>
              <a:off x="2133720" y="4115160"/>
              <a:ext cx="479520" cy="383040"/>
              <a:chOff x="2133720" y="4115160"/>
              <a:chExt cx="479520" cy="38304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4115160"/>
                <a:ext cx="479520" cy="383040"/>
              </a:xfrm>
              <a:custGeom>
                <a:avLst/>
                <a:gdLst/>
                <a:ahLst/>
                <a:rect l="l" t="t" r="r" b="b"/>
                <a:pathLst>
                  <a:path w="1168" h="859">
                    <a:moveTo>
                      <a:pt x="1168" y="156"/>
                    </a:moveTo>
                    <a:lnTo>
                      <a:pt x="1106" y="110"/>
                    </a:lnTo>
                    <a:lnTo>
                      <a:pt x="1063" y="87"/>
                    </a:lnTo>
                    <a:lnTo>
                      <a:pt x="1035" y="75"/>
                    </a:lnTo>
                    <a:lnTo>
                      <a:pt x="1002" y="62"/>
                    </a:lnTo>
                    <a:lnTo>
                      <a:pt x="972" y="49"/>
                    </a:lnTo>
                    <a:lnTo>
                      <a:pt x="934" y="36"/>
                    </a:lnTo>
                    <a:lnTo>
                      <a:pt x="893" y="26"/>
                    </a:lnTo>
                    <a:lnTo>
                      <a:pt x="845" y="16"/>
                    </a:lnTo>
                    <a:lnTo>
                      <a:pt x="799" y="8"/>
                    </a:lnTo>
                    <a:lnTo>
                      <a:pt x="768" y="3"/>
                    </a:lnTo>
                    <a:lnTo>
                      <a:pt x="729" y="0"/>
                    </a:lnTo>
                    <a:lnTo>
                      <a:pt x="696" y="1"/>
                    </a:lnTo>
                    <a:lnTo>
                      <a:pt x="649" y="1"/>
                    </a:lnTo>
                    <a:lnTo>
                      <a:pt x="599" y="3"/>
                    </a:lnTo>
                    <a:lnTo>
                      <a:pt x="559" y="6"/>
                    </a:lnTo>
                    <a:lnTo>
                      <a:pt x="515" y="11"/>
                    </a:lnTo>
                    <a:lnTo>
                      <a:pt x="463" y="19"/>
                    </a:lnTo>
                    <a:lnTo>
                      <a:pt x="413" y="32"/>
                    </a:lnTo>
                    <a:lnTo>
                      <a:pt x="362" y="46"/>
                    </a:lnTo>
                    <a:lnTo>
                      <a:pt x="303" y="68"/>
                    </a:lnTo>
                    <a:lnTo>
                      <a:pt x="247" y="93"/>
                    </a:lnTo>
                    <a:lnTo>
                      <a:pt x="193" y="122"/>
                    </a:lnTo>
                    <a:lnTo>
                      <a:pt x="149" y="155"/>
                    </a:lnTo>
                    <a:lnTo>
                      <a:pt x="107" y="194"/>
                    </a:lnTo>
                    <a:lnTo>
                      <a:pt x="75" y="228"/>
                    </a:lnTo>
                    <a:lnTo>
                      <a:pt x="50" y="261"/>
                    </a:lnTo>
                    <a:lnTo>
                      <a:pt x="30" y="298"/>
                    </a:lnTo>
                    <a:lnTo>
                      <a:pt x="19" y="323"/>
                    </a:lnTo>
                    <a:lnTo>
                      <a:pt x="12" y="347"/>
                    </a:lnTo>
                    <a:lnTo>
                      <a:pt x="4" y="382"/>
                    </a:lnTo>
                    <a:lnTo>
                      <a:pt x="0" y="412"/>
                    </a:lnTo>
                    <a:lnTo>
                      <a:pt x="0" y="440"/>
                    </a:lnTo>
                    <a:lnTo>
                      <a:pt x="2" y="462"/>
                    </a:lnTo>
                    <a:lnTo>
                      <a:pt x="4" y="489"/>
                    </a:lnTo>
                    <a:lnTo>
                      <a:pt x="6" y="518"/>
                    </a:lnTo>
                    <a:lnTo>
                      <a:pt x="13" y="543"/>
                    </a:lnTo>
                    <a:lnTo>
                      <a:pt x="16" y="560"/>
                    </a:lnTo>
                    <a:lnTo>
                      <a:pt x="21" y="577"/>
                    </a:lnTo>
                    <a:lnTo>
                      <a:pt x="31" y="602"/>
                    </a:lnTo>
                    <a:lnTo>
                      <a:pt x="47" y="630"/>
                    </a:lnTo>
                    <a:lnTo>
                      <a:pt x="77" y="675"/>
                    </a:lnTo>
                    <a:lnTo>
                      <a:pt x="102" y="706"/>
                    </a:lnTo>
                    <a:lnTo>
                      <a:pt x="175" y="775"/>
                    </a:lnTo>
                    <a:lnTo>
                      <a:pt x="277" y="859"/>
                    </a:lnTo>
                    <a:lnTo>
                      <a:pt x="467" y="763"/>
                    </a:lnTo>
                    <a:lnTo>
                      <a:pt x="262" y="615"/>
                    </a:lnTo>
                    <a:lnTo>
                      <a:pt x="247" y="597"/>
                    </a:lnTo>
                    <a:lnTo>
                      <a:pt x="237" y="584"/>
                    </a:lnTo>
                    <a:lnTo>
                      <a:pt x="223" y="565"/>
                    </a:lnTo>
                    <a:lnTo>
                      <a:pt x="211" y="545"/>
                    </a:lnTo>
                    <a:lnTo>
                      <a:pt x="202" y="521"/>
                    </a:lnTo>
                    <a:lnTo>
                      <a:pt x="197" y="499"/>
                    </a:lnTo>
                    <a:lnTo>
                      <a:pt x="192" y="472"/>
                    </a:lnTo>
                    <a:lnTo>
                      <a:pt x="192" y="448"/>
                    </a:lnTo>
                    <a:lnTo>
                      <a:pt x="197" y="412"/>
                    </a:lnTo>
                    <a:lnTo>
                      <a:pt x="202" y="385"/>
                    </a:lnTo>
                    <a:lnTo>
                      <a:pt x="210" y="366"/>
                    </a:lnTo>
                    <a:lnTo>
                      <a:pt x="222" y="341"/>
                    </a:lnTo>
                    <a:lnTo>
                      <a:pt x="240" y="315"/>
                    </a:lnTo>
                    <a:lnTo>
                      <a:pt x="267" y="285"/>
                    </a:lnTo>
                    <a:lnTo>
                      <a:pt x="303" y="258"/>
                    </a:lnTo>
                    <a:lnTo>
                      <a:pt x="354" y="232"/>
                    </a:lnTo>
                    <a:lnTo>
                      <a:pt x="391" y="218"/>
                    </a:lnTo>
                    <a:lnTo>
                      <a:pt x="431" y="203"/>
                    </a:lnTo>
                    <a:lnTo>
                      <a:pt x="467" y="194"/>
                    </a:lnTo>
                    <a:lnTo>
                      <a:pt x="490" y="190"/>
                    </a:lnTo>
                    <a:lnTo>
                      <a:pt x="519" y="182"/>
                    </a:lnTo>
                    <a:lnTo>
                      <a:pt x="544" y="177"/>
                    </a:lnTo>
                    <a:lnTo>
                      <a:pt x="584" y="174"/>
                    </a:lnTo>
                    <a:lnTo>
                      <a:pt x="609" y="173"/>
                    </a:lnTo>
                    <a:lnTo>
                      <a:pt x="639" y="168"/>
                    </a:lnTo>
                    <a:lnTo>
                      <a:pt x="669" y="170"/>
                    </a:lnTo>
                    <a:lnTo>
                      <a:pt x="690" y="170"/>
                    </a:lnTo>
                    <a:lnTo>
                      <a:pt x="742" y="174"/>
                    </a:lnTo>
                    <a:lnTo>
                      <a:pt x="794" y="180"/>
                    </a:lnTo>
                    <a:lnTo>
                      <a:pt x="832" y="187"/>
                    </a:lnTo>
                    <a:lnTo>
                      <a:pt x="857" y="195"/>
                    </a:lnTo>
                    <a:lnTo>
                      <a:pt x="887" y="204"/>
                    </a:lnTo>
                    <a:lnTo>
                      <a:pt x="916" y="214"/>
                    </a:lnTo>
                    <a:lnTo>
                      <a:pt x="936" y="222"/>
                    </a:lnTo>
                    <a:lnTo>
                      <a:pt x="957" y="231"/>
                    </a:lnTo>
                    <a:lnTo>
                      <a:pt x="989" y="244"/>
                    </a:lnTo>
                    <a:lnTo>
                      <a:pt x="1168" y="156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204280" y="4168800"/>
                <a:ext cx="404280" cy="166680"/>
              </a:xfrm>
              <a:custGeom>
                <a:avLst/>
                <a:gdLst/>
                <a:ahLst/>
                <a:rect l="l" t="t" r="r" b="b"/>
                <a:pathLst>
                  <a:path w="984" h="374">
                    <a:moveTo>
                      <a:pt x="984" y="40"/>
                    </a:moveTo>
                    <a:lnTo>
                      <a:pt x="796" y="135"/>
                    </a:lnTo>
                    <a:lnTo>
                      <a:pt x="753" y="113"/>
                    </a:lnTo>
                    <a:lnTo>
                      <a:pt x="696" y="92"/>
                    </a:lnTo>
                    <a:lnTo>
                      <a:pt x="637" y="77"/>
                    </a:lnTo>
                    <a:lnTo>
                      <a:pt x="565" y="67"/>
                    </a:lnTo>
                    <a:lnTo>
                      <a:pt x="489" y="64"/>
                    </a:lnTo>
                    <a:lnTo>
                      <a:pt x="395" y="67"/>
                    </a:lnTo>
                    <a:lnTo>
                      <a:pt x="333" y="77"/>
                    </a:lnTo>
                    <a:lnTo>
                      <a:pt x="253" y="95"/>
                    </a:lnTo>
                    <a:lnTo>
                      <a:pt x="188" y="120"/>
                    </a:lnTo>
                    <a:lnTo>
                      <a:pt x="140" y="144"/>
                    </a:lnTo>
                    <a:lnTo>
                      <a:pt x="102" y="169"/>
                    </a:lnTo>
                    <a:lnTo>
                      <a:pt x="70" y="202"/>
                    </a:lnTo>
                    <a:lnTo>
                      <a:pt x="43" y="242"/>
                    </a:lnTo>
                    <a:lnTo>
                      <a:pt x="27" y="288"/>
                    </a:lnTo>
                    <a:lnTo>
                      <a:pt x="19" y="331"/>
                    </a:lnTo>
                    <a:lnTo>
                      <a:pt x="16" y="374"/>
                    </a:lnTo>
                    <a:lnTo>
                      <a:pt x="3" y="328"/>
                    </a:lnTo>
                    <a:lnTo>
                      <a:pt x="0" y="291"/>
                    </a:lnTo>
                    <a:lnTo>
                      <a:pt x="8" y="242"/>
                    </a:lnTo>
                    <a:lnTo>
                      <a:pt x="24" y="202"/>
                    </a:lnTo>
                    <a:lnTo>
                      <a:pt x="54" y="156"/>
                    </a:lnTo>
                    <a:lnTo>
                      <a:pt x="89" y="116"/>
                    </a:lnTo>
                    <a:lnTo>
                      <a:pt x="129" y="86"/>
                    </a:lnTo>
                    <a:lnTo>
                      <a:pt x="167" y="64"/>
                    </a:lnTo>
                    <a:lnTo>
                      <a:pt x="215" y="46"/>
                    </a:lnTo>
                    <a:lnTo>
                      <a:pt x="269" y="28"/>
                    </a:lnTo>
                    <a:lnTo>
                      <a:pt x="320" y="18"/>
                    </a:lnTo>
                    <a:lnTo>
                      <a:pt x="379" y="6"/>
                    </a:lnTo>
                    <a:lnTo>
                      <a:pt x="419" y="3"/>
                    </a:lnTo>
                    <a:lnTo>
                      <a:pt x="470" y="0"/>
                    </a:lnTo>
                    <a:lnTo>
                      <a:pt x="530" y="0"/>
                    </a:lnTo>
                    <a:lnTo>
                      <a:pt x="589" y="3"/>
                    </a:lnTo>
                    <a:lnTo>
                      <a:pt x="664" y="15"/>
                    </a:lnTo>
                    <a:lnTo>
                      <a:pt x="723" y="28"/>
                    </a:lnTo>
                    <a:lnTo>
                      <a:pt x="777" y="43"/>
                    </a:lnTo>
                    <a:lnTo>
                      <a:pt x="820" y="58"/>
                    </a:lnTo>
                    <a:lnTo>
                      <a:pt x="828" y="61"/>
                    </a:lnTo>
                    <a:lnTo>
                      <a:pt x="847" y="40"/>
                    </a:lnTo>
                    <a:lnTo>
                      <a:pt x="874" y="25"/>
                    </a:lnTo>
                    <a:lnTo>
                      <a:pt x="901" y="12"/>
                    </a:lnTo>
                    <a:lnTo>
                      <a:pt x="944" y="12"/>
                    </a:lnTo>
                    <a:lnTo>
                      <a:pt x="984" y="4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152800" y="4242600"/>
                <a:ext cx="42480" cy="162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" y="9312"/>
                    </a:moveTo>
                    <a:arcTo wR="10800" hR="10800" stAng="-10324926" swAng="37597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" y="9312"/>
                    </a:moveTo>
                    <a:arcTo wR="10800" hR="10800" stAng="-10324926" swAng="3759744"/>
                  </a:path>
                </a:pathLst>
              </a:custGeom>
              <a:noFill/>
              <a:ln w="1260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206800" y="4114800"/>
              <a:ext cx="857160" cy="882720"/>
              <a:chOff x="2206800" y="4114800"/>
              <a:chExt cx="857160" cy="88272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2206800" y="4114800"/>
                <a:ext cx="857160" cy="882720"/>
                <a:chOff x="2206800" y="4114800"/>
                <a:chExt cx="857160" cy="882720"/>
              </a:xfrm>
            </p:grpSpPr>
            <p:grpSp>
              <p:nvGrpSpPr>
                <p:cNvPr id="132" name=""/>
                <p:cNvGrpSpPr/>
                <p:nvPr/>
              </p:nvGrpSpPr>
              <p:grpSpPr>
                <a:xfrm>
                  <a:off x="2206800" y="4114800"/>
                  <a:ext cx="509400" cy="589320"/>
                  <a:chOff x="2206800" y="4114800"/>
                  <a:chExt cx="509400" cy="58932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2245680" y="4147200"/>
                    <a:ext cx="470520" cy="55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6" h="1248">
                        <a:moveTo>
                          <a:pt x="0" y="1248"/>
                        </a:moveTo>
                        <a:lnTo>
                          <a:pt x="0" y="569"/>
                        </a:lnTo>
                        <a:lnTo>
                          <a:pt x="1146" y="0"/>
                        </a:lnTo>
                        <a:lnTo>
                          <a:pt x="1144" y="640"/>
                        </a:lnTo>
                        <a:lnTo>
                          <a:pt x="0" y="1248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2206800" y="4369320"/>
                    <a:ext cx="38880" cy="3344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750">
                        <a:moveTo>
                          <a:pt x="0" y="0"/>
                        </a:moveTo>
                        <a:lnTo>
                          <a:pt x="95" y="71"/>
                        </a:lnTo>
                        <a:lnTo>
                          <a:pt x="95" y="750"/>
                        </a:lnTo>
                        <a:lnTo>
                          <a:pt x="0" y="67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2206800" y="4114800"/>
                    <a:ext cx="50940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41" h="642">
                        <a:moveTo>
                          <a:pt x="0" y="571"/>
                        </a:moveTo>
                        <a:lnTo>
                          <a:pt x="96" y="642"/>
                        </a:lnTo>
                        <a:lnTo>
                          <a:pt x="1241" y="73"/>
                        </a:lnTo>
                        <a:lnTo>
                          <a:pt x="1149" y="0"/>
                        </a:lnTo>
                        <a:lnTo>
                          <a:pt x="0" y="571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2256120" y="4154400"/>
                  <a:ext cx="509040" cy="589680"/>
                  <a:chOff x="2256120" y="4154400"/>
                  <a:chExt cx="509040" cy="5896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>
                    <a:off x="2295360" y="4187880"/>
                    <a:ext cx="469800" cy="55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44" h="1247">
                        <a:moveTo>
                          <a:pt x="0" y="1247"/>
                        </a:moveTo>
                        <a:lnTo>
                          <a:pt x="0" y="567"/>
                        </a:lnTo>
                        <a:lnTo>
                          <a:pt x="1142" y="0"/>
                        </a:lnTo>
                        <a:lnTo>
                          <a:pt x="1144" y="637"/>
                        </a:lnTo>
                        <a:lnTo>
                          <a:pt x="0" y="1247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2256120" y="4409640"/>
                    <a:ext cx="39240" cy="33444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750">
                        <a:moveTo>
                          <a:pt x="1" y="0"/>
                        </a:moveTo>
                        <a:lnTo>
                          <a:pt x="96" y="70"/>
                        </a:lnTo>
                        <a:lnTo>
                          <a:pt x="96" y="750"/>
                        </a:lnTo>
                        <a:lnTo>
                          <a:pt x="0" y="67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2256120" y="4154400"/>
                    <a:ext cx="50868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9" h="642">
                        <a:moveTo>
                          <a:pt x="0" y="571"/>
                        </a:moveTo>
                        <a:lnTo>
                          <a:pt x="97" y="642"/>
                        </a:lnTo>
                        <a:lnTo>
                          <a:pt x="1239" y="75"/>
                        </a:lnTo>
                        <a:lnTo>
                          <a:pt x="1143" y="0"/>
                        </a:lnTo>
                        <a:lnTo>
                          <a:pt x="0" y="571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2304360" y="4195440"/>
                  <a:ext cx="509760" cy="589320"/>
                  <a:chOff x="2304360" y="4195440"/>
                  <a:chExt cx="509760" cy="58932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2343240" y="4228200"/>
                    <a:ext cx="470880" cy="55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7" h="1248">
                        <a:moveTo>
                          <a:pt x="0" y="1248"/>
                        </a:moveTo>
                        <a:lnTo>
                          <a:pt x="0" y="569"/>
                        </a:lnTo>
                        <a:lnTo>
                          <a:pt x="1147" y="0"/>
                        </a:lnTo>
                        <a:lnTo>
                          <a:pt x="1145" y="640"/>
                        </a:lnTo>
                        <a:lnTo>
                          <a:pt x="0" y="1248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2304360" y="4449960"/>
                    <a:ext cx="38880" cy="3348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751">
                        <a:moveTo>
                          <a:pt x="0" y="0"/>
                        </a:moveTo>
                        <a:lnTo>
                          <a:pt x="95" y="72"/>
                        </a:lnTo>
                        <a:lnTo>
                          <a:pt x="95" y="751"/>
                        </a:lnTo>
                        <a:lnTo>
                          <a:pt x="0" y="67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2304360" y="4195440"/>
                    <a:ext cx="509760" cy="28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42" h="643">
                        <a:moveTo>
                          <a:pt x="0" y="571"/>
                        </a:moveTo>
                        <a:lnTo>
                          <a:pt x="96" y="643"/>
                        </a:lnTo>
                        <a:lnTo>
                          <a:pt x="1242" y="74"/>
                        </a:lnTo>
                        <a:lnTo>
                          <a:pt x="1150" y="0"/>
                        </a:lnTo>
                        <a:lnTo>
                          <a:pt x="0" y="571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2354040" y="4237920"/>
                  <a:ext cx="508680" cy="589680"/>
                  <a:chOff x="2354040" y="4237920"/>
                  <a:chExt cx="508680" cy="58968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>
                    <a:off x="2393640" y="4272120"/>
                    <a:ext cx="469080" cy="55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42" h="1245">
                        <a:moveTo>
                          <a:pt x="0" y="1245"/>
                        </a:moveTo>
                        <a:lnTo>
                          <a:pt x="0" y="566"/>
                        </a:lnTo>
                        <a:lnTo>
                          <a:pt x="1142" y="0"/>
                        </a:lnTo>
                        <a:lnTo>
                          <a:pt x="1138" y="636"/>
                        </a:lnTo>
                        <a:lnTo>
                          <a:pt x="0" y="1245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2354040" y="4493160"/>
                    <a:ext cx="39600" cy="3344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750">
                        <a:moveTo>
                          <a:pt x="0" y="0"/>
                        </a:moveTo>
                        <a:lnTo>
                          <a:pt x="97" y="71"/>
                        </a:lnTo>
                        <a:lnTo>
                          <a:pt x="97" y="750"/>
                        </a:lnTo>
                        <a:lnTo>
                          <a:pt x="1" y="67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2354400" y="4237920"/>
                    <a:ext cx="508320" cy="28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8" h="643">
                        <a:moveTo>
                          <a:pt x="0" y="572"/>
                        </a:moveTo>
                        <a:lnTo>
                          <a:pt x="97" y="643"/>
                        </a:lnTo>
                        <a:lnTo>
                          <a:pt x="1238" y="77"/>
                        </a:lnTo>
                        <a:lnTo>
                          <a:pt x="1143" y="0"/>
                        </a:lnTo>
                        <a:lnTo>
                          <a:pt x="0" y="572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404440" y="4281840"/>
                  <a:ext cx="509400" cy="589680"/>
                  <a:chOff x="2404440" y="4281840"/>
                  <a:chExt cx="509400" cy="58968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443320" y="4314240"/>
                    <a:ext cx="470520" cy="55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46" h="1249">
                        <a:moveTo>
                          <a:pt x="0" y="1249"/>
                        </a:moveTo>
                        <a:lnTo>
                          <a:pt x="0" y="569"/>
                        </a:lnTo>
                        <a:lnTo>
                          <a:pt x="1146" y="0"/>
                        </a:lnTo>
                        <a:lnTo>
                          <a:pt x="1144" y="641"/>
                        </a:lnTo>
                        <a:lnTo>
                          <a:pt x="0" y="1249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2404440" y="4536360"/>
                    <a:ext cx="38880" cy="3348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751">
                        <a:moveTo>
                          <a:pt x="0" y="0"/>
                        </a:moveTo>
                        <a:lnTo>
                          <a:pt x="95" y="71"/>
                        </a:lnTo>
                        <a:lnTo>
                          <a:pt x="95" y="751"/>
                        </a:lnTo>
                        <a:lnTo>
                          <a:pt x="0" y="67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2404440" y="4281840"/>
                    <a:ext cx="50940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41" h="642">
                        <a:moveTo>
                          <a:pt x="0" y="571"/>
                        </a:moveTo>
                        <a:lnTo>
                          <a:pt x="95" y="642"/>
                        </a:lnTo>
                        <a:lnTo>
                          <a:pt x="1241" y="73"/>
                        </a:lnTo>
                        <a:lnTo>
                          <a:pt x="1149" y="0"/>
                        </a:lnTo>
                        <a:lnTo>
                          <a:pt x="0" y="571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2454120" y="4324320"/>
                  <a:ext cx="508680" cy="589680"/>
                  <a:chOff x="2454120" y="4324320"/>
                  <a:chExt cx="508680" cy="58968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2493360" y="4358160"/>
                    <a:ext cx="469440" cy="55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3" h="1246">
                        <a:moveTo>
                          <a:pt x="0" y="1246"/>
                        </a:moveTo>
                        <a:lnTo>
                          <a:pt x="0" y="567"/>
                        </a:lnTo>
                        <a:lnTo>
                          <a:pt x="1143" y="0"/>
                        </a:lnTo>
                        <a:lnTo>
                          <a:pt x="1139" y="636"/>
                        </a:lnTo>
                        <a:lnTo>
                          <a:pt x="0" y="1246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454120" y="4579200"/>
                    <a:ext cx="39240" cy="33444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750">
                        <a:moveTo>
                          <a:pt x="1" y="0"/>
                        </a:moveTo>
                        <a:lnTo>
                          <a:pt x="96" y="71"/>
                        </a:lnTo>
                        <a:lnTo>
                          <a:pt x="96" y="750"/>
                        </a:lnTo>
                        <a:lnTo>
                          <a:pt x="0" y="67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454120" y="4324320"/>
                    <a:ext cx="508680" cy="28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9" h="643">
                        <a:moveTo>
                          <a:pt x="0" y="571"/>
                        </a:moveTo>
                        <a:lnTo>
                          <a:pt x="96" y="643"/>
                        </a:lnTo>
                        <a:lnTo>
                          <a:pt x="1239" y="76"/>
                        </a:lnTo>
                        <a:lnTo>
                          <a:pt x="1143" y="0"/>
                        </a:lnTo>
                        <a:lnTo>
                          <a:pt x="0" y="571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2505960" y="4365360"/>
                  <a:ext cx="510120" cy="589680"/>
                  <a:chOff x="2505960" y="4365360"/>
                  <a:chExt cx="510120" cy="58968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2544840" y="4398120"/>
                    <a:ext cx="470160" cy="55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5" h="1248">
                        <a:moveTo>
                          <a:pt x="0" y="1248"/>
                        </a:moveTo>
                        <a:lnTo>
                          <a:pt x="0" y="569"/>
                        </a:lnTo>
                        <a:lnTo>
                          <a:pt x="1145" y="0"/>
                        </a:lnTo>
                        <a:lnTo>
                          <a:pt x="1143" y="640"/>
                        </a:lnTo>
                        <a:lnTo>
                          <a:pt x="0" y="1248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2505960" y="4620600"/>
                    <a:ext cx="38880" cy="3344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750">
                        <a:moveTo>
                          <a:pt x="0" y="0"/>
                        </a:moveTo>
                        <a:lnTo>
                          <a:pt x="95" y="71"/>
                        </a:lnTo>
                        <a:lnTo>
                          <a:pt x="95" y="750"/>
                        </a:lnTo>
                        <a:lnTo>
                          <a:pt x="0" y="67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2505960" y="4365360"/>
                    <a:ext cx="51012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43" h="645">
                        <a:moveTo>
                          <a:pt x="0" y="574"/>
                        </a:moveTo>
                        <a:lnTo>
                          <a:pt x="96" y="645"/>
                        </a:lnTo>
                        <a:lnTo>
                          <a:pt x="1243" y="74"/>
                        </a:lnTo>
                        <a:lnTo>
                          <a:pt x="1151" y="0"/>
                        </a:lnTo>
                        <a:lnTo>
                          <a:pt x="0" y="574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2555640" y="4408200"/>
                  <a:ext cx="508320" cy="589320"/>
                  <a:chOff x="2555640" y="4408200"/>
                  <a:chExt cx="508320" cy="58932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>
                    <a:off x="2594520" y="4441680"/>
                    <a:ext cx="469440" cy="55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3" h="1246">
                        <a:moveTo>
                          <a:pt x="0" y="1246"/>
                        </a:moveTo>
                        <a:lnTo>
                          <a:pt x="0" y="567"/>
                        </a:lnTo>
                        <a:lnTo>
                          <a:pt x="1143" y="0"/>
                        </a:lnTo>
                        <a:lnTo>
                          <a:pt x="1140" y="636"/>
                        </a:lnTo>
                        <a:lnTo>
                          <a:pt x="0" y="1246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2555640" y="4663440"/>
                    <a:ext cx="38880" cy="33408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749">
                        <a:moveTo>
                          <a:pt x="1" y="0"/>
                        </a:moveTo>
                        <a:lnTo>
                          <a:pt x="95" y="70"/>
                        </a:lnTo>
                        <a:lnTo>
                          <a:pt x="95" y="749"/>
                        </a:lnTo>
                        <a:lnTo>
                          <a:pt x="0" y="67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2555640" y="4408200"/>
                    <a:ext cx="50832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8" h="642">
                        <a:moveTo>
                          <a:pt x="0" y="571"/>
                        </a:moveTo>
                        <a:lnTo>
                          <a:pt x="95" y="642"/>
                        </a:lnTo>
                        <a:lnTo>
                          <a:pt x="1238" y="75"/>
                        </a:lnTo>
                        <a:lnTo>
                          <a:pt x="1143" y="0"/>
                        </a:lnTo>
                        <a:lnTo>
                          <a:pt x="0" y="571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4" name=""/>
              <p:cNvGrpSpPr/>
              <p:nvPr/>
            </p:nvGrpSpPr>
            <p:grpSpPr>
              <a:xfrm>
                <a:off x="2768760" y="4601880"/>
                <a:ext cx="152280" cy="228240"/>
                <a:chOff x="2768760" y="4601880"/>
                <a:chExt cx="152280" cy="228240"/>
              </a:xfrm>
            </p:grpSpPr>
            <p:grpSp>
              <p:nvGrpSpPr>
                <p:cNvPr id="165" name=""/>
                <p:cNvGrpSpPr/>
                <p:nvPr/>
              </p:nvGrpSpPr>
              <p:grpSpPr>
                <a:xfrm>
                  <a:off x="2768760" y="4601880"/>
                  <a:ext cx="152280" cy="228240"/>
                  <a:chOff x="2768760" y="4601880"/>
                  <a:chExt cx="152280" cy="22824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2768760" y="4601880"/>
                    <a:ext cx="146520" cy="221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2774160" y="4608720"/>
                    <a:ext cx="146880" cy="22140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" name=""/>
                <p:cNvSpPr/>
                <p:nvPr/>
              </p:nvSpPr>
              <p:spPr>
                <a:xfrm>
                  <a:off x="2833920" y="4653360"/>
                  <a:ext cx="19440" cy="123120"/>
                </a:xfrm>
                <a:custGeom>
                  <a:avLst/>
                  <a:gdLst/>
                  <a:ahLst/>
                  <a:rect l="l" t="t" r="r" b="b"/>
                  <a:pathLst>
                    <a:path w="48" h="276">
                      <a:moveTo>
                        <a:pt x="0" y="18"/>
                      </a:moveTo>
                      <a:lnTo>
                        <a:pt x="48" y="0"/>
                      </a:lnTo>
                      <a:lnTo>
                        <a:pt x="48" y="258"/>
                      </a:lnTo>
                      <a:lnTo>
                        <a:pt x="0" y="276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9" name=""/>
          <p:cNvSpPr/>
          <p:nvPr/>
        </p:nvSpPr>
        <p:spPr>
          <a:xfrm rot="2215200">
            <a:off x="1599480" y="4876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t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ccess Metho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equential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irect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andom Rec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Other Access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n top of Direct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.g. Indexed Sequential Access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938760" y="2314440"/>
            <a:ext cx="4876560" cy="4194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992920" y="1492200"/>
            <a:ext cx="1752480" cy="825480"/>
            <a:chOff x="5992920" y="1492200"/>
            <a:chExt cx="1752480" cy="825480"/>
          </a:xfrm>
        </p:grpSpPr>
        <p:sp>
          <p:nvSpPr>
            <p:cNvPr id="237" name=""/>
            <p:cNvSpPr/>
            <p:nvPr/>
          </p:nvSpPr>
          <p:spPr>
            <a:xfrm>
              <a:off x="5992920" y="1538280"/>
              <a:ext cx="304920" cy="764640"/>
            </a:xfrm>
            <a:prstGeom prst="downArrow">
              <a:avLst>
                <a:gd name="adj1" fmla="val 50000"/>
                <a:gd name="adj2" fmla="val 62692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21520" y="14922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Current 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300720" y="2276640"/>
            <a:ext cx="1295640" cy="457200"/>
          </a:xfrm>
          <a:prstGeom prst="rightArrow">
            <a:avLst>
              <a:gd name="adj1" fmla="val 50000"/>
              <a:gd name="adj2" fmla="val 70846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00720" y="2749680"/>
            <a:ext cx="206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 next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Write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938760" y="2504520"/>
            <a:ext cx="2286000" cy="609480"/>
          </a:xfrm>
          <a:custGeom>
            <a:avLst/>
            <a:gdLst>
              <a:gd name="textAreaLeft" fmla="*/ 400320 w 2286000"/>
              <a:gd name="textAreaRight" fmla="*/ 1657800 w 22860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00520" y="31305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ndexed Sequential Access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.g.  read Key=“Cool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8120" y="3276720"/>
            <a:ext cx="1828800" cy="131364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Aernout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Beernaert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Bram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Buy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4772160"/>
            <a:ext cx="1828800" cy="131364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Cool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Dehasp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De Roos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2819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ec.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3320" y="3276720"/>
            <a:ext cx="1828800" cy="131364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Aernout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Cool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786280" y="2895480"/>
            <a:ext cx="2519640" cy="1371600"/>
            <a:chOff x="5786280" y="2895480"/>
            <a:chExt cx="2519640" cy="1371600"/>
          </a:xfrm>
        </p:grpSpPr>
        <p:sp>
          <p:nvSpPr>
            <p:cNvPr id="251" name=""/>
            <p:cNvSpPr/>
            <p:nvPr/>
          </p:nvSpPr>
          <p:spPr>
            <a:xfrm>
              <a:off x="5786280" y="2895480"/>
              <a:ext cx="2519640" cy="45720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Arial"/>
                </a:rPr>
                <a:t>Aernouts, 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86280" y="3352680"/>
              <a:ext cx="2519640" cy="45720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Arial"/>
                </a:rPr>
                <a:t>Aerts,  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86280" y="3809880"/>
              <a:ext cx="2519640" cy="45720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Arial"/>
                </a:rPr>
                <a:t>Barbaix, 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786280" y="4572000"/>
            <a:ext cx="2519640" cy="1371600"/>
            <a:chOff x="5786280" y="4572000"/>
            <a:chExt cx="2519640" cy="1371600"/>
          </a:xfrm>
        </p:grpSpPr>
        <p:sp>
          <p:nvSpPr>
            <p:cNvPr id="255" name=""/>
            <p:cNvSpPr/>
            <p:nvPr/>
          </p:nvSpPr>
          <p:spPr>
            <a:xfrm>
              <a:off x="5786280" y="4572000"/>
              <a:ext cx="2519640" cy="45720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Arial"/>
                </a:rPr>
                <a:t>Beernaerts,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86280" y="5029200"/>
              <a:ext cx="2519640" cy="45720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Arial"/>
                </a:rPr>
                <a:t>Bekaert,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86280" y="5486400"/>
              <a:ext cx="2519640" cy="45720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Arial"/>
                </a:rPr>
                <a:t>Berbers,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791320" y="2438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ata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133720" y="3352680"/>
            <a:ext cx="838080" cy="1526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33720" y="3733920"/>
            <a:ext cx="914400" cy="10666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648320" y="2895480"/>
            <a:ext cx="1143000" cy="6098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3733920"/>
            <a:ext cx="1143000" cy="8380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Managing files 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Thousands of files &amp; Gbytes of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ow to organiz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2 Lev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rt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cating, Grouping, Na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2133720" y="3967200"/>
            <a:ext cx="838080" cy="914400"/>
          </a:xfrm>
          <a:prstGeom prst="can">
            <a:avLst>
              <a:gd name="adj" fmla="val 25000"/>
            </a:avLst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4348080"/>
            <a:ext cx="838080" cy="533520"/>
          </a:xfrm>
          <a:prstGeom prst="can">
            <a:avLst>
              <a:gd name="adj" fmla="val 250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33720" y="3967200"/>
            <a:ext cx="838080" cy="533520"/>
          </a:xfrm>
          <a:prstGeom prst="can">
            <a:avLst>
              <a:gd name="adj" fmla="val 25000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05520" y="4043520"/>
            <a:ext cx="609480" cy="83808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4195800"/>
            <a:ext cx="609480" cy="83808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76920" y="3890880"/>
            <a:ext cx="1371600" cy="1219320"/>
          </a:xfrm>
          <a:prstGeom prst="ellipse">
            <a:avLst/>
          </a:prstGeom>
          <a:noFill/>
          <a:ln cap="rnd" w="57240">
            <a:solidFill>
              <a:srgbClr val="00ae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248520" y="3357720"/>
            <a:ext cx="2057400" cy="1295280"/>
          </a:xfrm>
          <a:prstGeom prst="cloudCallout">
            <a:avLst>
              <a:gd name="adj1" fmla="val -62731"/>
              <a:gd name="adj2" fmla="val 32351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3510000"/>
            <a:ext cx="1218960" cy="83808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48000" y="3500280"/>
            <a:ext cx="792360" cy="505080"/>
          </a:xfrm>
          <a:prstGeom prst="wedgeRoundRectCallout">
            <a:avLst>
              <a:gd name="adj1" fmla="val -117134"/>
              <a:gd name="adj2" fmla="val 87421"/>
              <a:gd name="adj3" fmla="val 16667"/>
            </a:avLst>
          </a:prstGeom>
          <a:solidFill>
            <a:srgbClr val="f3a9a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19640" y="4365720"/>
            <a:ext cx="792000" cy="504720"/>
          </a:xfrm>
          <a:prstGeom prst="wedgeRoundRectCallout">
            <a:avLst>
              <a:gd name="adj1" fmla="val -129958"/>
              <a:gd name="adj2" fmla="val -9749"/>
              <a:gd name="adj3" fmla="val 16667"/>
            </a:avLst>
          </a:prstGeom>
          <a:solidFill>
            <a:srgbClr val="f3a9a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85080" y="2997360"/>
            <a:ext cx="792360" cy="504720"/>
          </a:xfrm>
          <a:prstGeom prst="wedgeRoundRectCallout">
            <a:avLst>
              <a:gd name="adj1" fmla="val -117134"/>
              <a:gd name="adj2" fmla="val 119180"/>
              <a:gd name="adj3" fmla="val 16667"/>
            </a:avLst>
          </a:prstGeom>
          <a:solidFill>
            <a:srgbClr val="f3a9a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7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500"/>
                            </p:stCondLst>
                            <p:childTnLst>
                              <p:par>
                                <p:cTn id="7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irectory Stru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ingl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Two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cyclic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General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209760" y="2421000"/>
            <a:ext cx="1422720" cy="901800"/>
            <a:chOff x="3209760" y="2421000"/>
            <a:chExt cx="1422720" cy="901800"/>
          </a:xfrm>
        </p:grpSpPr>
        <p:sp>
          <p:nvSpPr>
            <p:cNvPr id="279" name=""/>
            <p:cNvSpPr/>
            <p:nvPr/>
          </p:nvSpPr>
          <p:spPr>
            <a:xfrm>
              <a:off x="3209760" y="2421000"/>
              <a:ext cx="1422720" cy="90180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09760" y="2522520"/>
              <a:ext cx="1422720" cy="79992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50800" y="2708640"/>
              <a:ext cx="1312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D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900000" y="3727440"/>
            <a:ext cx="828720" cy="78408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77000" y="3727440"/>
            <a:ext cx="1006560" cy="71748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EL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59360" y="3727440"/>
            <a:ext cx="1125360" cy="143676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c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21000" y="3727440"/>
            <a:ext cx="947520" cy="84924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072040" y="1413000"/>
            <a:ext cx="1371600" cy="838080"/>
            <a:chOff x="5072040" y="1413000"/>
            <a:chExt cx="1371600" cy="838080"/>
          </a:xfrm>
        </p:grpSpPr>
        <p:sp>
          <p:nvSpPr>
            <p:cNvPr id="287" name=""/>
            <p:cNvSpPr/>
            <p:nvPr/>
          </p:nvSpPr>
          <p:spPr>
            <a:xfrm>
              <a:off x="5072040" y="1413000"/>
              <a:ext cx="1371600" cy="83808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72040" y="1507320"/>
              <a:ext cx="1371600" cy="74340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111640" y="1680120"/>
              <a:ext cx="12654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 flipH="1">
            <a:off x="3852360" y="2098800"/>
            <a:ext cx="131292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08640" y="2098800"/>
            <a:ext cx="135432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203640" y="2421000"/>
            <a:ext cx="1422360" cy="901800"/>
            <a:chOff x="3203640" y="2421000"/>
            <a:chExt cx="1422360" cy="901800"/>
          </a:xfrm>
        </p:grpSpPr>
        <p:sp>
          <p:nvSpPr>
            <p:cNvPr id="293" name=""/>
            <p:cNvSpPr/>
            <p:nvPr/>
          </p:nvSpPr>
          <p:spPr>
            <a:xfrm>
              <a:off x="3203640" y="2421000"/>
              <a:ext cx="1422360" cy="90180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03640" y="2522520"/>
              <a:ext cx="1422360" cy="79992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44680" y="2708640"/>
              <a:ext cx="13122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User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7164360" y="2421000"/>
            <a:ext cx="1422360" cy="901800"/>
            <a:chOff x="7164360" y="2421000"/>
            <a:chExt cx="1422360" cy="901800"/>
          </a:xfrm>
        </p:grpSpPr>
        <p:sp>
          <p:nvSpPr>
            <p:cNvPr id="297" name=""/>
            <p:cNvSpPr/>
            <p:nvPr/>
          </p:nvSpPr>
          <p:spPr>
            <a:xfrm>
              <a:off x="7164360" y="2421000"/>
              <a:ext cx="1422360" cy="90180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64360" y="2522520"/>
              <a:ext cx="1422360" cy="79992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05400" y="2708640"/>
              <a:ext cx="13122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User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 flipH="1">
            <a:off x="1314360" y="3073320"/>
            <a:ext cx="2014560" cy="6541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972880" y="3205080"/>
            <a:ext cx="474840" cy="5223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0280" y="3139920"/>
            <a:ext cx="592200" cy="5875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13320" y="3205080"/>
            <a:ext cx="1778040" cy="5223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3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8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4" dur="5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9" dur="50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4" dur="50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ree Stru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523880" y="1905120"/>
            <a:ext cx="878040" cy="761760"/>
            <a:chOff x="1523880" y="1905120"/>
            <a:chExt cx="878040" cy="761760"/>
          </a:xfrm>
        </p:grpSpPr>
        <p:sp>
          <p:nvSpPr>
            <p:cNvPr id="306" name=""/>
            <p:cNvSpPr/>
            <p:nvPr/>
          </p:nvSpPr>
          <p:spPr>
            <a:xfrm>
              <a:off x="1523880" y="1905120"/>
              <a:ext cx="878040" cy="76176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523880" y="1990800"/>
              <a:ext cx="878040" cy="67572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49080" y="2148120"/>
              <a:ext cx="8100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609480" y="3035160"/>
            <a:ext cx="671760" cy="65592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38280" y="3035160"/>
            <a:ext cx="1103400" cy="91440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c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74920" y="3035160"/>
            <a:ext cx="768240" cy="70992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990360" y="2590920"/>
            <a:ext cx="68580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1981080" y="2590920"/>
            <a:ext cx="7632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62320" y="2590920"/>
            <a:ext cx="53316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105520" y="2408400"/>
            <a:ext cx="1195200" cy="801360"/>
            <a:chOff x="5105520" y="2408400"/>
            <a:chExt cx="1195200" cy="801360"/>
          </a:xfrm>
        </p:grpSpPr>
        <p:sp>
          <p:nvSpPr>
            <p:cNvPr id="316" name=""/>
            <p:cNvSpPr/>
            <p:nvPr/>
          </p:nvSpPr>
          <p:spPr>
            <a:xfrm>
              <a:off x="5105520" y="2408400"/>
              <a:ext cx="1195200" cy="80136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105520" y="2498760"/>
              <a:ext cx="1195200" cy="71100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39720" y="2664000"/>
              <a:ext cx="11026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us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2743200" y="5410080"/>
            <a:ext cx="696960" cy="696960"/>
          </a:xfrm>
          <a:prstGeom prst="foldedCorner">
            <a:avLst>
              <a:gd name="adj" fmla="val 12500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952880" y="5410080"/>
            <a:ext cx="1219320" cy="668520"/>
          </a:xfrm>
          <a:prstGeom prst="foldedCorner">
            <a:avLst>
              <a:gd name="adj" fmla="val 12500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h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57600" y="5410080"/>
            <a:ext cx="797040" cy="755640"/>
          </a:xfrm>
          <a:prstGeom prst="foldedCorner">
            <a:avLst>
              <a:gd name="adj" fmla="val 12500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952880" y="3048120"/>
            <a:ext cx="57312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237520" y="2971800"/>
            <a:ext cx="372960" cy="6094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67280" y="1828800"/>
            <a:ext cx="205740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4572000" y="1371600"/>
            <a:ext cx="1371600" cy="838080"/>
            <a:chOff x="4572000" y="1371600"/>
            <a:chExt cx="1371600" cy="838080"/>
          </a:xfrm>
        </p:grpSpPr>
        <p:sp>
          <p:nvSpPr>
            <p:cNvPr id="326" name=""/>
            <p:cNvSpPr/>
            <p:nvPr/>
          </p:nvSpPr>
          <p:spPr>
            <a:xfrm>
              <a:off x="4572000" y="1371600"/>
              <a:ext cx="1371600" cy="83808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72000" y="1465920"/>
              <a:ext cx="1371600" cy="74340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11600" y="1638720"/>
              <a:ext cx="12654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oot (/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 flipH="1">
            <a:off x="2362320" y="2057400"/>
            <a:ext cx="230328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08600" y="2057400"/>
            <a:ext cx="13500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4419720" y="3408480"/>
            <a:ext cx="1195200" cy="801720"/>
            <a:chOff x="4419720" y="3408480"/>
            <a:chExt cx="1195200" cy="801720"/>
          </a:xfrm>
        </p:grpSpPr>
        <p:sp>
          <p:nvSpPr>
            <p:cNvPr id="332" name=""/>
            <p:cNvSpPr/>
            <p:nvPr/>
          </p:nvSpPr>
          <p:spPr>
            <a:xfrm>
              <a:off x="4419720" y="3408480"/>
              <a:ext cx="119520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19720" y="3498840"/>
              <a:ext cx="119520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53920" y="3664080"/>
              <a:ext cx="11026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joh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7238880" y="2209680"/>
            <a:ext cx="1195560" cy="801720"/>
            <a:chOff x="7238880" y="2209680"/>
            <a:chExt cx="1195560" cy="801720"/>
          </a:xfrm>
        </p:grpSpPr>
        <p:sp>
          <p:nvSpPr>
            <p:cNvPr id="336" name=""/>
            <p:cNvSpPr/>
            <p:nvPr/>
          </p:nvSpPr>
          <p:spPr>
            <a:xfrm>
              <a:off x="7238880" y="2209680"/>
              <a:ext cx="119556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238880" y="2300040"/>
              <a:ext cx="119556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73080" y="2465280"/>
              <a:ext cx="110304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te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6477120" y="3408480"/>
            <a:ext cx="1195200" cy="801720"/>
            <a:chOff x="6477120" y="3408480"/>
            <a:chExt cx="1195200" cy="801720"/>
          </a:xfrm>
        </p:grpSpPr>
        <p:sp>
          <p:nvSpPr>
            <p:cNvPr id="340" name=""/>
            <p:cNvSpPr/>
            <p:nvPr/>
          </p:nvSpPr>
          <p:spPr>
            <a:xfrm>
              <a:off x="6477120" y="3408480"/>
              <a:ext cx="119520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77120" y="3498840"/>
              <a:ext cx="119520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511320" y="3664080"/>
              <a:ext cx="11026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048120" y="4408560"/>
            <a:ext cx="1423800" cy="801720"/>
            <a:chOff x="3048120" y="4408560"/>
            <a:chExt cx="1423800" cy="801720"/>
          </a:xfrm>
        </p:grpSpPr>
        <p:sp>
          <p:nvSpPr>
            <p:cNvPr id="344" name=""/>
            <p:cNvSpPr/>
            <p:nvPr/>
          </p:nvSpPr>
          <p:spPr>
            <a:xfrm>
              <a:off x="3048120" y="4408560"/>
              <a:ext cx="142380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48120" y="4498920"/>
              <a:ext cx="142380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89160" y="4664160"/>
              <a:ext cx="13132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ro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800600" y="4408560"/>
            <a:ext cx="1424160" cy="801720"/>
            <a:chOff x="4800600" y="4408560"/>
            <a:chExt cx="1424160" cy="801720"/>
          </a:xfrm>
        </p:grpSpPr>
        <p:sp>
          <p:nvSpPr>
            <p:cNvPr id="348" name=""/>
            <p:cNvSpPr/>
            <p:nvPr/>
          </p:nvSpPr>
          <p:spPr>
            <a:xfrm>
              <a:off x="4800600" y="4408560"/>
              <a:ext cx="142416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800600" y="4498920"/>
              <a:ext cx="142416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41640" y="4664160"/>
              <a:ext cx="131364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ga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7086600" y="4408560"/>
            <a:ext cx="1500120" cy="801720"/>
            <a:chOff x="7086600" y="4408560"/>
            <a:chExt cx="1500120" cy="801720"/>
          </a:xfrm>
        </p:grpSpPr>
        <p:sp>
          <p:nvSpPr>
            <p:cNvPr id="352" name=""/>
            <p:cNvSpPr/>
            <p:nvPr/>
          </p:nvSpPr>
          <p:spPr>
            <a:xfrm>
              <a:off x="7086600" y="4408560"/>
              <a:ext cx="150012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086600" y="4498920"/>
              <a:ext cx="150012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29800" y="4664160"/>
              <a:ext cx="138384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od-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7162920" y="5410080"/>
            <a:ext cx="696960" cy="696960"/>
          </a:xfrm>
          <a:prstGeom prst="foldedCorner">
            <a:avLst>
              <a:gd name="adj" fmla="val 12500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ec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59520" y="3124080"/>
            <a:ext cx="95076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05120" y="4572000"/>
            <a:ext cx="696960" cy="696960"/>
          </a:xfrm>
          <a:prstGeom prst="foldedCorner">
            <a:avLst>
              <a:gd name="adj" fmla="val 12500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EL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447040" y="3581280"/>
            <a:ext cx="696960" cy="609840"/>
          </a:xfrm>
          <a:prstGeom prst="foldedCorner">
            <a:avLst>
              <a:gd name="adj" fmla="val 1250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989840" y="5410080"/>
            <a:ext cx="696960" cy="696960"/>
          </a:xfrm>
          <a:prstGeom prst="foldedCorner">
            <a:avLst>
              <a:gd name="adj" fmla="val 12500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ec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962520" y="4114800"/>
            <a:ext cx="57312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209320" y="3886200"/>
            <a:ext cx="2249640" cy="6858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973920" y="4114800"/>
            <a:ext cx="72216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05520" y="4114800"/>
            <a:ext cx="68580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81280" y="5029200"/>
            <a:ext cx="68580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047760" y="5105520"/>
            <a:ext cx="22860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5105520"/>
            <a:ext cx="76320" cy="3045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001000" y="5105520"/>
            <a:ext cx="380880" cy="3045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315200" y="5105520"/>
            <a:ext cx="380880" cy="3045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ree Stru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th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bsolute,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6705720" y="2408400"/>
            <a:ext cx="1195200" cy="801360"/>
            <a:chOff x="6705720" y="2408400"/>
            <a:chExt cx="1195200" cy="801360"/>
          </a:xfrm>
        </p:grpSpPr>
        <p:sp>
          <p:nvSpPr>
            <p:cNvPr id="372" name=""/>
            <p:cNvSpPr/>
            <p:nvPr/>
          </p:nvSpPr>
          <p:spPr>
            <a:xfrm>
              <a:off x="6705720" y="2408400"/>
              <a:ext cx="1195200" cy="80136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705720" y="2498760"/>
              <a:ext cx="1195200" cy="71100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739920" y="2664000"/>
              <a:ext cx="11026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us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 flipH="1">
            <a:off x="6324480" y="3048120"/>
            <a:ext cx="57312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172200" y="1371600"/>
            <a:ext cx="1371600" cy="838080"/>
            <a:chOff x="6172200" y="1371600"/>
            <a:chExt cx="1371600" cy="838080"/>
          </a:xfrm>
        </p:grpSpPr>
        <p:sp>
          <p:nvSpPr>
            <p:cNvPr id="377" name=""/>
            <p:cNvSpPr/>
            <p:nvPr/>
          </p:nvSpPr>
          <p:spPr>
            <a:xfrm>
              <a:off x="6172200" y="1371600"/>
              <a:ext cx="1371600" cy="83808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172200" y="1465920"/>
              <a:ext cx="1371600" cy="74340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11800" y="1638720"/>
              <a:ext cx="12654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oot (/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7086600" y="2057400"/>
            <a:ext cx="13500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791320" y="3408480"/>
            <a:ext cx="1195200" cy="801720"/>
            <a:chOff x="5791320" y="3408480"/>
            <a:chExt cx="1195200" cy="801720"/>
          </a:xfrm>
        </p:grpSpPr>
        <p:sp>
          <p:nvSpPr>
            <p:cNvPr id="382" name=""/>
            <p:cNvSpPr/>
            <p:nvPr/>
          </p:nvSpPr>
          <p:spPr>
            <a:xfrm>
              <a:off x="5791320" y="3408480"/>
              <a:ext cx="119520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91320" y="3498840"/>
              <a:ext cx="119520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825520" y="3664080"/>
              <a:ext cx="11026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joh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7338960" y="3408480"/>
            <a:ext cx="1195560" cy="801720"/>
            <a:chOff x="7338960" y="3408480"/>
            <a:chExt cx="1195560" cy="801720"/>
          </a:xfrm>
        </p:grpSpPr>
        <p:sp>
          <p:nvSpPr>
            <p:cNvPr id="386" name=""/>
            <p:cNvSpPr/>
            <p:nvPr/>
          </p:nvSpPr>
          <p:spPr>
            <a:xfrm>
              <a:off x="7338960" y="3408480"/>
              <a:ext cx="119556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338960" y="3498840"/>
              <a:ext cx="119556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73160" y="3664080"/>
              <a:ext cx="110304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7338960" y="4419720"/>
            <a:ext cx="1500120" cy="801720"/>
            <a:chOff x="7338960" y="4419720"/>
            <a:chExt cx="1500120" cy="801720"/>
          </a:xfrm>
        </p:grpSpPr>
        <p:sp>
          <p:nvSpPr>
            <p:cNvPr id="390" name=""/>
            <p:cNvSpPr/>
            <p:nvPr/>
          </p:nvSpPr>
          <p:spPr>
            <a:xfrm>
              <a:off x="7338960" y="4419720"/>
              <a:ext cx="150012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338960" y="4510080"/>
              <a:ext cx="150012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382160" y="4675320"/>
              <a:ext cx="138384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od-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7162920" y="3124080"/>
            <a:ext cx="95076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924680" y="4114800"/>
            <a:ext cx="2376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162920" y="5410080"/>
            <a:ext cx="696960" cy="696960"/>
          </a:xfrm>
          <a:prstGeom prst="foldedCorner">
            <a:avLst>
              <a:gd name="adj" fmla="val 12500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ec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7315200" y="5105520"/>
            <a:ext cx="380880" cy="3045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788000" y="3284640"/>
            <a:ext cx="1231920" cy="792000"/>
          </a:xfrm>
          <a:prstGeom prst="rightArrow">
            <a:avLst>
              <a:gd name="adj1" fmla="val 50000"/>
              <a:gd name="adj2" fmla="val 38886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300720" y="5373720"/>
            <a:ext cx="862200" cy="647640"/>
          </a:xfrm>
          <a:prstGeom prst="rightArrow">
            <a:avLst>
              <a:gd name="adj1" fmla="val 50000"/>
              <a:gd name="adj2" fmla="val 33282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65760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ire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= special type of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cyclic Grap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523880" y="1905120"/>
            <a:ext cx="878040" cy="761760"/>
            <a:chOff x="1523880" y="1905120"/>
            <a:chExt cx="878040" cy="761760"/>
          </a:xfrm>
        </p:grpSpPr>
        <p:sp>
          <p:nvSpPr>
            <p:cNvPr id="402" name=""/>
            <p:cNvSpPr/>
            <p:nvPr/>
          </p:nvSpPr>
          <p:spPr>
            <a:xfrm>
              <a:off x="1523880" y="1905120"/>
              <a:ext cx="878040" cy="76176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523880" y="1990800"/>
              <a:ext cx="878040" cy="67572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549080" y="2148120"/>
              <a:ext cx="8100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09480" y="3035160"/>
            <a:ext cx="671760" cy="65592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438280" y="3035160"/>
            <a:ext cx="1103400" cy="91440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c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74920" y="3035160"/>
            <a:ext cx="768240" cy="70992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111320" y="2590920"/>
            <a:ext cx="565200" cy="5508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35280" y="2565360"/>
            <a:ext cx="152280" cy="5335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62320" y="2590920"/>
            <a:ext cx="554040" cy="4777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5105520" y="2408400"/>
            <a:ext cx="1195200" cy="801360"/>
            <a:chOff x="5105520" y="2408400"/>
            <a:chExt cx="1195200" cy="801360"/>
          </a:xfrm>
        </p:grpSpPr>
        <p:sp>
          <p:nvSpPr>
            <p:cNvPr id="412" name=""/>
            <p:cNvSpPr/>
            <p:nvPr/>
          </p:nvSpPr>
          <p:spPr>
            <a:xfrm>
              <a:off x="5105520" y="2408400"/>
              <a:ext cx="1195200" cy="80136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105520" y="2498760"/>
              <a:ext cx="1195200" cy="71100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39720" y="2664000"/>
              <a:ext cx="11026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us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743200" y="5410080"/>
            <a:ext cx="696960" cy="696960"/>
          </a:xfrm>
          <a:prstGeom prst="foldedCorner">
            <a:avLst>
              <a:gd name="adj" fmla="val 12500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5410080"/>
            <a:ext cx="1219320" cy="668520"/>
          </a:xfrm>
          <a:prstGeom prst="foldedCorner">
            <a:avLst>
              <a:gd name="adj" fmla="val 12500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h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657600" y="5410080"/>
            <a:ext cx="797040" cy="755640"/>
          </a:xfrm>
          <a:prstGeom prst="foldedCorner">
            <a:avLst>
              <a:gd name="adj" fmla="val 12500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4952880" y="3048120"/>
            <a:ext cx="57312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237520" y="2971800"/>
            <a:ext cx="372960" cy="6094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67280" y="1828800"/>
            <a:ext cx="205740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4572000" y="1371600"/>
            <a:ext cx="1371600" cy="838080"/>
            <a:chOff x="4572000" y="1371600"/>
            <a:chExt cx="1371600" cy="838080"/>
          </a:xfrm>
        </p:grpSpPr>
        <p:sp>
          <p:nvSpPr>
            <p:cNvPr id="422" name=""/>
            <p:cNvSpPr/>
            <p:nvPr/>
          </p:nvSpPr>
          <p:spPr>
            <a:xfrm>
              <a:off x="4572000" y="1371600"/>
              <a:ext cx="1371600" cy="83808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72000" y="1465920"/>
              <a:ext cx="1371600" cy="74340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11600" y="1638720"/>
              <a:ext cx="12654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oot (/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 flipH="1">
            <a:off x="2362320" y="2057400"/>
            <a:ext cx="230328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808600" y="2057400"/>
            <a:ext cx="13500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4419720" y="3408480"/>
            <a:ext cx="1195200" cy="801720"/>
            <a:chOff x="4419720" y="3408480"/>
            <a:chExt cx="1195200" cy="801720"/>
          </a:xfrm>
        </p:grpSpPr>
        <p:sp>
          <p:nvSpPr>
            <p:cNvPr id="428" name=""/>
            <p:cNvSpPr/>
            <p:nvPr/>
          </p:nvSpPr>
          <p:spPr>
            <a:xfrm>
              <a:off x="4419720" y="3408480"/>
              <a:ext cx="119520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19720" y="3498840"/>
              <a:ext cx="119520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53920" y="3664080"/>
              <a:ext cx="11026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joh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7238880" y="2209680"/>
            <a:ext cx="1195560" cy="801720"/>
            <a:chOff x="7238880" y="2209680"/>
            <a:chExt cx="1195560" cy="801720"/>
          </a:xfrm>
        </p:grpSpPr>
        <p:sp>
          <p:nvSpPr>
            <p:cNvPr id="432" name=""/>
            <p:cNvSpPr/>
            <p:nvPr/>
          </p:nvSpPr>
          <p:spPr>
            <a:xfrm>
              <a:off x="7238880" y="2209680"/>
              <a:ext cx="119556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238880" y="2300040"/>
              <a:ext cx="119556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273080" y="2465280"/>
              <a:ext cx="110304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te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6477120" y="3408480"/>
            <a:ext cx="1195200" cy="801720"/>
            <a:chOff x="6477120" y="3408480"/>
            <a:chExt cx="1195200" cy="801720"/>
          </a:xfrm>
        </p:grpSpPr>
        <p:sp>
          <p:nvSpPr>
            <p:cNvPr id="436" name=""/>
            <p:cNvSpPr/>
            <p:nvPr/>
          </p:nvSpPr>
          <p:spPr>
            <a:xfrm>
              <a:off x="6477120" y="3408480"/>
              <a:ext cx="119520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77120" y="3498840"/>
              <a:ext cx="119520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1320" y="3664080"/>
              <a:ext cx="11026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048120" y="4408560"/>
            <a:ext cx="1423800" cy="801720"/>
            <a:chOff x="3048120" y="4408560"/>
            <a:chExt cx="1423800" cy="801720"/>
          </a:xfrm>
        </p:grpSpPr>
        <p:sp>
          <p:nvSpPr>
            <p:cNvPr id="440" name=""/>
            <p:cNvSpPr/>
            <p:nvPr/>
          </p:nvSpPr>
          <p:spPr>
            <a:xfrm>
              <a:off x="3048120" y="4408560"/>
              <a:ext cx="142380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48120" y="4498920"/>
              <a:ext cx="142380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089160" y="4664160"/>
              <a:ext cx="13132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ro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00600" y="4408560"/>
            <a:ext cx="1424160" cy="801720"/>
            <a:chOff x="4800600" y="4408560"/>
            <a:chExt cx="1424160" cy="801720"/>
          </a:xfrm>
        </p:grpSpPr>
        <p:sp>
          <p:nvSpPr>
            <p:cNvPr id="444" name=""/>
            <p:cNvSpPr/>
            <p:nvPr/>
          </p:nvSpPr>
          <p:spPr>
            <a:xfrm>
              <a:off x="4800600" y="4408560"/>
              <a:ext cx="142416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00600" y="4498920"/>
              <a:ext cx="142416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41640" y="4664160"/>
              <a:ext cx="131364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ga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7086600" y="4408560"/>
            <a:ext cx="1500120" cy="801720"/>
            <a:chOff x="7086600" y="4408560"/>
            <a:chExt cx="1500120" cy="801720"/>
          </a:xfrm>
        </p:grpSpPr>
        <p:sp>
          <p:nvSpPr>
            <p:cNvPr id="448" name=""/>
            <p:cNvSpPr/>
            <p:nvPr/>
          </p:nvSpPr>
          <p:spPr>
            <a:xfrm>
              <a:off x="7086600" y="4408560"/>
              <a:ext cx="150012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86600" y="4498920"/>
              <a:ext cx="150012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29800" y="4664160"/>
              <a:ext cx="138384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od-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7162920" y="5410080"/>
            <a:ext cx="696960" cy="696960"/>
          </a:xfrm>
          <a:prstGeom prst="foldedCorner">
            <a:avLst>
              <a:gd name="adj" fmla="val 12500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ec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59520" y="3124080"/>
            <a:ext cx="95076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905120" y="4572000"/>
            <a:ext cx="696960" cy="696960"/>
          </a:xfrm>
          <a:prstGeom prst="foldedCorner">
            <a:avLst>
              <a:gd name="adj" fmla="val 12500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EL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447040" y="3581280"/>
            <a:ext cx="696960" cy="609840"/>
          </a:xfrm>
          <a:prstGeom prst="foldedCorner">
            <a:avLst>
              <a:gd name="adj" fmla="val 1250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989840" y="5410080"/>
            <a:ext cx="696960" cy="696960"/>
          </a:xfrm>
          <a:prstGeom prst="foldedCorner">
            <a:avLst>
              <a:gd name="adj" fmla="val 12500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ec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3962520" y="4114800"/>
            <a:ext cx="57312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209320" y="3886200"/>
            <a:ext cx="2249640" cy="7621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973920" y="4114800"/>
            <a:ext cx="72216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05520" y="4114800"/>
            <a:ext cx="72216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581280" y="5029200"/>
            <a:ext cx="68580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3047760" y="5105520"/>
            <a:ext cx="22860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86400" y="5105520"/>
            <a:ext cx="76320" cy="3045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001000" y="5105520"/>
            <a:ext cx="380880" cy="3045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7315200" y="5105520"/>
            <a:ext cx="380880" cy="3045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394160" y="4114800"/>
            <a:ext cx="2235240" cy="457200"/>
          </a:xfrm>
          <a:custGeom>
            <a:avLst/>
            <a:gdLst/>
            <a:ahLst/>
            <a:rect l="l" t="t" r="r" b="b"/>
            <a:pathLst>
              <a:path w="1408" h="288">
                <a:moveTo>
                  <a:pt x="1408" y="0"/>
                </a:moveTo>
                <a:cubicBezTo>
                  <a:pt x="1296" y="40"/>
                  <a:pt x="1184" y="80"/>
                  <a:pt x="976" y="96"/>
                </a:cubicBezTo>
                <a:cubicBezTo>
                  <a:pt x="768" y="112"/>
                  <a:pt x="320" y="64"/>
                  <a:pt x="160" y="96"/>
                </a:cubicBezTo>
                <a:cubicBezTo>
                  <a:pt x="0" y="128"/>
                  <a:pt x="8" y="208"/>
                  <a:pt x="16" y="288"/>
                </a:cubicBezTo>
              </a:path>
            </a:pathLst>
          </a:custGeom>
          <a:noFill/>
          <a:ln w="76320">
            <a:solidFill>
              <a:srgbClr val="00279f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172200" y="411480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432" y="0"/>
                </a:moveTo>
                <a:cubicBezTo>
                  <a:pt x="420" y="236"/>
                  <a:pt x="408" y="472"/>
                  <a:pt x="336" y="624"/>
                </a:cubicBezTo>
                <a:cubicBezTo>
                  <a:pt x="264" y="776"/>
                  <a:pt x="132" y="844"/>
                  <a:pt x="0" y="912"/>
                </a:cubicBezTo>
              </a:path>
            </a:pathLst>
          </a:custGeom>
          <a:noFill/>
          <a:ln w="76320">
            <a:solidFill>
              <a:srgbClr val="00279f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cyclic Grap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ymbolic Li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457200" y="2438280"/>
            <a:ext cx="3657600" cy="2590920"/>
            <a:chOff x="457200" y="2438280"/>
            <a:chExt cx="3657600" cy="2590920"/>
          </a:xfrm>
        </p:grpSpPr>
        <p:sp>
          <p:nvSpPr>
            <p:cNvPr id="470" name=""/>
            <p:cNvSpPr/>
            <p:nvPr/>
          </p:nvSpPr>
          <p:spPr>
            <a:xfrm>
              <a:off x="1963800" y="4381560"/>
              <a:ext cx="965160" cy="647640"/>
            </a:xfrm>
            <a:prstGeom prst="foldedCorner">
              <a:avLst>
                <a:gd name="adj" fmla="val 12500"/>
              </a:avLst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Ch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1541520" y="2438280"/>
              <a:ext cx="946080" cy="777960"/>
              <a:chOff x="1541520" y="2438280"/>
              <a:chExt cx="946080" cy="777960"/>
            </a:xfrm>
          </p:grpSpPr>
          <p:sp>
            <p:nvSpPr>
              <p:cNvPr id="472" name=""/>
              <p:cNvSpPr/>
              <p:nvPr/>
            </p:nvSpPr>
            <p:spPr>
              <a:xfrm>
                <a:off x="1541520" y="2438280"/>
                <a:ext cx="946080" cy="777960"/>
              </a:xfrm>
              <a:custGeom>
                <a:avLst/>
                <a:gdLst/>
                <a:ahLst/>
                <a:rect l="l" t="t" r="r" b="b"/>
                <a:pathLst>
                  <a:path w="5886" h="4192">
                    <a:moveTo>
                      <a:pt x="0" y="314"/>
                    </a:moveTo>
                    <a:lnTo>
                      <a:pt x="3598" y="314"/>
                    </a:lnTo>
                    <a:lnTo>
                      <a:pt x="3803" y="0"/>
                    </a:lnTo>
                    <a:lnTo>
                      <a:pt x="5128" y="0"/>
                    </a:lnTo>
                    <a:lnTo>
                      <a:pt x="5333" y="314"/>
                    </a:lnTo>
                    <a:lnTo>
                      <a:pt x="5886" y="314"/>
                    </a:lnTo>
                    <a:lnTo>
                      <a:pt x="5886" y="4192"/>
                    </a:lnTo>
                    <a:lnTo>
                      <a:pt x="0" y="4192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rgbClr val="f3dfc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541520" y="2525760"/>
                <a:ext cx="946080" cy="690120"/>
              </a:xfrm>
              <a:prstGeom prst="rect">
                <a:avLst/>
              </a:prstGeom>
              <a:solidFill>
                <a:srgbClr val="f3dfc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568520" y="2686320"/>
                <a:ext cx="87264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joh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3168720" y="2438280"/>
              <a:ext cx="946080" cy="777960"/>
              <a:chOff x="3168720" y="2438280"/>
              <a:chExt cx="946080" cy="777960"/>
            </a:xfrm>
          </p:grpSpPr>
          <p:sp>
            <p:nvSpPr>
              <p:cNvPr id="476" name=""/>
              <p:cNvSpPr/>
              <p:nvPr/>
            </p:nvSpPr>
            <p:spPr>
              <a:xfrm>
                <a:off x="3168720" y="2438280"/>
                <a:ext cx="946080" cy="777960"/>
              </a:xfrm>
              <a:custGeom>
                <a:avLst/>
                <a:gdLst/>
                <a:ahLst/>
                <a:rect l="l" t="t" r="r" b="b"/>
                <a:pathLst>
                  <a:path w="5886" h="4192">
                    <a:moveTo>
                      <a:pt x="0" y="314"/>
                    </a:moveTo>
                    <a:lnTo>
                      <a:pt x="3598" y="314"/>
                    </a:lnTo>
                    <a:lnTo>
                      <a:pt x="3803" y="0"/>
                    </a:lnTo>
                    <a:lnTo>
                      <a:pt x="5128" y="0"/>
                    </a:lnTo>
                    <a:lnTo>
                      <a:pt x="5333" y="314"/>
                    </a:lnTo>
                    <a:lnTo>
                      <a:pt x="5886" y="314"/>
                    </a:lnTo>
                    <a:lnTo>
                      <a:pt x="5886" y="4192"/>
                    </a:lnTo>
                    <a:lnTo>
                      <a:pt x="0" y="4192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rgbClr val="f3dfc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168720" y="2525760"/>
                <a:ext cx="946080" cy="690120"/>
              </a:xfrm>
              <a:prstGeom prst="rect">
                <a:avLst/>
              </a:prstGeom>
              <a:solidFill>
                <a:srgbClr val="f3dfc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195720" y="2686320"/>
                <a:ext cx="87264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ma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457200" y="3408480"/>
              <a:ext cx="1125360" cy="777600"/>
              <a:chOff x="457200" y="3408480"/>
              <a:chExt cx="1125360" cy="777600"/>
            </a:xfrm>
          </p:grpSpPr>
          <p:sp>
            <p:nvSpPr>
              <p:cNvPr id="480" name=""/>
              <p:cNvSpPr/>
              <p:nvPr/>
            </p:nvSpPr>
            <p:spPr>
              <a:xfrm>
                <a:off x="457200" y="3408480"/>
                <a:ext cx="1125360" cy="777600"/>
              </a:xfrm>
              <a:custGeom>
                <a:avLst/>
                <a:gdLst/>
                <a:ahLst/>
                <a:rect l="l" t="t" r="r" b="b"/>
                <a:pathLst>
                  <a:path w="5886" h="4192">
                    <a:moveTo>
                      <a:pt x="0" y="314"/>
                    </a:moveTo>
                    <a:lnTo>
                      <a:pt x="3598" y="314"/>
                    </a:lnTo>
                    <a:lnTo>
                      <a:pt x="3803" y="0"/>
                    </a:lnTo>
                    <a:lnTo>
                      <a:pt x="5128" y="0"/>
                    </a:lnTo>
                    <a:lnTo>
                      <a:pt x="5333" y="314"/>
                    </a:lnTo>
                    <a:lnTo>
                      <a:pt x="5886" y="314"/>
                    </a:lnTo>
                    <a:lnTo>
                      <a:pt x="5886" y="4192"/>
                    </a:lnTo>
                    <a:lnTo>
                      <a:pt x="0" y="4192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rgbClr val="f3dfc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7200" y="3495960"/>
                <a:ext cx="1125360" cy="689760"/>
              </a:xfrm>
              <a:prstGeom prst="rect">
                <a:avLst/>
              </a:prstGeom>
              <a:solidFill>
                <a:srgbClr val="f3dfc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89600" y="3656520"/>
                <a:ext cx="103824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projec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1843200" y="3408480"/>
              <a:ext cx="1127160" cy="777600"/>
              <a:chOff x="1843200" y="3408480"/>
              <a:chExt cx="1127160" cy="777600"/>
            </a:xfrm>
          </p:grpSpPr>
          <p:sp>
            <p:nvSpPr>
              <p:cNvPr id="484" name=""/>
              <p:cNvSpPr/>
              <p:nvPr/>
            </p:nvSpPr>
            <p:spPr>
              <a:xfrm>
                <a:off x="1843200" y="3408480"/>
                <a:ext cx="1127160" cy="777600"/>
              </a:xfrm>
              <a:custGeom>
                <a:avLst/>
                <a:gdLst/>
                <a:ahLst/>
                <a:rect l="l" t="t" r="r" b="b"/>
                <a:pathLst>
                  <a:path w="5886" h="4192">
                    <a:moveTo>
                      <a:pt x="0" y="314"/>
                    </a:moveTo>
                    <a:lnTo>
                      <a:pt x="3598" y="314"/>
                    </a:lnTo>
                    <a:lnTo>
                      <a:pt x="3803" y="0"/>
                    </a:lnTo>
                    <a:lnTo>
                      <a:pt x="5128" y="0"/>
                    </a:lnTo>
                    <a:lnTo>
                      <a:pt x="5333" y="314"/>
                    </a:lnTo>
                    <a:lnTo>
                      <a:pt x="5886" y="314"/>
                    </a:lnTo>
                    <a:lnTo>
                      <a:pt x="5886" y="4192"/>
                    </a:lnTo>
                    <a:lnTo>
                      <a:pt x="0" y="4192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rgbClr val="f3dfc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843200" y="3495960"/>
                <a:ext cx="1127160" cy="689760"/>
              </a:xfrm>
              <a:prstGeom prst="rect">
                <a:avLst/>
              </a:prstGeom>
              <a:solidFill>
                <a:srgbClr val="f3dfc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875600" y="3656520"/>
                <a:ext cx="103968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gam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 flipH="1">
              <a:off x="1180800" y="3124080"/>
              <a:ext cx="452520" cy="37008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084400" y="3124080"/>
              <a:ext cx="571320" cy="4431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386080" y="4084560"/>
              <a:ext cx="60120" cy="2970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522440" y="3124080"/>
              <a:ext cx="1766880" cy="443160"/>
            </a:xfrm>
            <a:custGeom>
              <a:avLst/>
              <a:gdLst/>
              <a:ahLst/>
              <a:rect l="l" t="t" r="r" b="b"/>
              <a:pathLst>
                <a:path w="1408" h="288">
                  <a:moveTo>
                    <a:pt x="1408" y="0"/>
                  </a:moveTo>
                  <a:cubicBezTo>
                    <a:pt x="1296" y="40"/>
                    <a:pt x="1184" y="80"/>
                    <a:pt x="976" y="96"/>
                  </a:cubicBezTo>
                  <a:cubicBezTo>
                    <a:pt x="768" y="112"/>
                    <a:pt x="320" y="64"/>
                    <a:pt x="160" y="96"/>
                  </a:cubicBezTo>
                  <a:cubicBezTo>
                    <a:pt x="0" y="128"/>
                    <a:pt x="8" y="208"/>
                    <a:pt x="16" y="288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928960" y="3124080"/>
              <a:ext cx="541440" cy="1405080"/>
            </a:xfrm>
            <a:custGeom>
              <a:avLst/>
              <a:gdLst/>
              <a:ahLst/>
              <a:rect l="l" t="t" r="r" b="b"/>
              <a:pathLst>
                <a:path w="432" h="912">
                  <a:moveTo>
                    <a:pt x="432" y="0"/>
                  </a:moveTo>
                  <a:cubicBezTo>
                    <a:pt x="420" y="236"/>
                    <a:pt x="408" y="472"/>
                    <a:pt x="336" y="624"/>
                  </a:cubicBezTo>
                  <a:cubicBezTo>
                    <a:pt x="264" y="776"/>
                    <a:pt x="132" y="844"/>
                    <a:pt x="0" y="912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5715000" y="2895480"/>
            <a:ext cx="1195560" cy="801720"/>
            <a:chOff x="5715000" y="2895480"/>
            <a:chExt cx="1195560" cy="801720"/>
          </a:xfrm>
        </p:grpSpPr>
        <p:sp>
          <p:nvSpPr>
            <p:cNvPr id="493" name=""/>
            <p:cNvSpPr/>
            <p:nvPr/>
          </p:nvSpPr>
          <p:spPr>
            <a:xfrm>
              <a:off x="5715000" y="2895480"/>
              <a:ext cx="119556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15000" y="2985840"/>
              <a:ext cx="119556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49200" y="3151080"/>
              <a:ext cx="110304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4114800" y="4008600"/>
            <a:ext cx="1447920" cy="761760"/>
          </a:xfrm>
          <a:prstGeom prst="bevel">
            <a:avLst>
              <a:gd name="adj" fmla="val 125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j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05440" y="4008600"/>
            <a:ext cx="1447920" cy="761760"/>
          </a:xfrm>
          <a:prstGeom prst="bevel">
            <a:avLst>
              <a:gd name="adj" fmla="val 125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H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7696080" y="3962520"/>
            <a:ext cx="1447920" cy="853920"/>
            <a:chOff x="7696080" y="3962520"/>
            <a:chExt cx="1447920" cy="853920"/>
          </a:xfrm>
        </p:grpSpPr>
        <p:sp>
          <p:nvSpPr>
            <p:cNvPr id="499" name=""/>
            <p:cNvSpPr/>
            <p:nvPr/>
          </p:nvSpPr>
          <p:spPr>
            <a:xfrm>
              <a:off x="7696080" y="3962520"/>
              <a:ext cx="1447920" cy="8539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96080" y="4058640"/>
              <a:ext cx="1447920" cy="75744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37840" y="4234680"/>
              <a:ext cx="13356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od-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 flipH="1">
            <a:off x="5105520" y="3581280"/>
            <a:ext cx="76176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48520" y="3581280"/>
            <a:ext cx="7596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05720" y="3581280"/>
            <a:ext cx="1143000" cy="3812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666880" y="4876920"/>
            <a:ext cx="2971800" cy="533160"/>
          </a:xfrm>
          <a:prstGeom prst="wedgeRoundRectCallout">
            <a:avLst>
              <a:gd name="adj1" fmla="val 11166"/>
              <a:gd name="adj2" fmla="val -123513"/>
              <a:gd name="adj3" fmla="val 16667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../john/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572000" y="5486400"/>
            <a:ext cx="4267080" cy="533520"/>
          </a:xfrm>
          <a:prstGeom prst="wedgeRoundRectCallout">
            <a:avLst>
              <a:gd name="adj1" fmla="val 1712"/>
              <a:gd name="adj2" fmla="val -225893"/>
              <a:gd name="adj3" fmla="val 16667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/users/john/games/Ch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4500720" y="1268280"/>
            <a:ext cx="3124080" cy="1523880"/>
            <a:chOff x="4500720" y="1268280"/>
            <a:chExt cx="3124080" cy="1523880"/>
          </a:xfrm>
        </p:grpSpPr>
        <p:sp>
          <p:nvSpPr>
            <p:cNvPr id="508" name=""/>
            <p:cNvSpPr/>
            <p:nvPr/>
          </p:nvSpPr>
          <p:spPr>
            <a:xfrm>
              <a:off x="4500720" y="1268280"/>
              <a:ext cx="3124080" cy="1523880"/>
            </a:xfrm>
            <a:prstGeom prst="wedgeRoundRectCallout">
              <a:avLst>
                <a:gd name="adj1" fmla="val -3101"/>
                <a:gd name="adj2" fmla="val 81041"/>
                <a:gd name="adj3" fmla="val 16667"/>
              </a:avLst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29320" y="1801800"/>
              <a:ext cx="274320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432080"/>
                  <a:tab algn="l" pos="2863800"/>
                  <a:tab algn="l" pos="4295880"/>
                  <a:tab algn="l" pos="5727600"/>
                  <a:tab algn="l" pos="7159680"/>
                  <a:tab algn="l" pos="8591400"/>
                  <a:tab algn="l" pos="1002348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CHESS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29320" y="1320480"/>
              <a:ext cx="274320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432080"/>
                  <a:tab algn="l" pos="2863800"/>
                  <a:tab algn="l" pos="4295880"/>
                  <a:tab algn="l" pos="5727600"/>
                  <a:tab algn="l" pos="7159680"/>
                  <a:tab algn="l" pos="8591400"/>
                  <a:tab algn="l" pos="1002348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roj98   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729320" y="2282760"/>
              <a:ext cx="274320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432080"/>
                  <a:tab algn="l" pos="2863800"/>
                  <a:tab algn="l" pos="4295880"/>
                  <a:tab algn="l" pos="5727600"/>
                  <a:tab algn="l" pos="7159680"/>
                  <a:tab algn="l" pos="8591400"/>
                  <a:tab algn="l" pos="1002348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od-B1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00920" y="132048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457200" y="2438280"/>
            <a:ext cx="3657600" cy="2590920"/>
            <a:chOff x="457200" y="2438280"/>
            <a:chExt cx="3657600" cy="2590920"/>
          </a:xfrm>
        </p:grpSpPr>
        <p:sp>
          <p:nvSpPr>
            <p:cNvPr id="514" name=""/>
            <p:cNvSpPr/>
            <p:nvPr/>
          </p:nvSpPr>
          <p:spPr>
            <a:xfrm>
              <a:off x="1963800" y="4381560"/>
              <a:ext cx="965160" cy="647640"/>
            </a:xfrm>
            <a:prstGeom prst="foldedCorner">
              <a:avLst>
                <a:gd name="adj" fmla="val 12500"/>
              </a:avLst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Ch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1541520" y="2438280"/>
              <a:ext cx="946080" cy="777960"/>
              <a:chOff x="1541520" y="2438280"/>
              <a:chExt cx="946080" cy="777960"/>
            </a:xfrm>
          </p:grpSpPr>
          <p:sp>
            <p:nvSpPr>
              <p:cNvPr id="516" name=""/>
              <p:cNvSpPr/>
              <p:nvPr/>
            </p:nvSpPr>
            <p:spPr>
              <a:xfrm>
                <a:off x="1541520" y="2438280"/>
                <a:ext cx="946080" cy="777960"/>
              </a:xfrm>
              <a:custGeom>
                <a:avLst/>
                <a:gdLst/>
                <a:ahLst/>
                <a:rect l="l" t="t" r="r" b="b"/>
                <a:pathLst>
                  <a:path w="5886" h="4192">
                    <a:moveTo>
                      <a:pt x="0" y="314"/>
                    </a:moveTo>
                    <a:lnTo>
                      <a:pt x="3598" y="314"/>
                    </a:lnTo>
                    <a:lnTo>
                      <a:pt x="3803" y="0"/>
                    </a:lnTo>
                    <a:lnTo>
                      <a:pt x="5128" y="0"/>
                    </a:lnTo>
                    <a:lnTo>
                      <a:pt x="5333" y="314"/>
                    </a:lnTo>
                    <a:lnTo>
                      <a:pt x="5886" y="314"/>
                    </a:lnTo>
                    <a:lnTo>
                      <a:pt x="5886" y="4192"/>
                    </a:lnTo>
                    <a:lnTo>
                      <a:pt x="0" y="4192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rgbClr val="f3dfc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541520" y="2525760"/>
                <a:ext cx="946080" cy="690120"/>
              </a:xfrm>
              <a:prstGeom prst="rect">
                <a:avLst/>
              </a:prstGeom>
              <a:solidFill>
                <a:srgbClr val="f3dfc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568520" y="2686320"/>
                <a:ext cx="87264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joh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3168720" y="2438280"/>
              <a:ext cx="946080" cy="777960"/>
              <a:chOff x="3168720" y="2438280"/>
              <a:chExt cx="946080" cy="777960"/>
            </a:xfrm>
          </p:grpSpPr>
          <p:sp>
            <p:nvSpPr>
              <p:cNvPr id="520" name=""/>
              <p:cNvSpPr/>
              <p:nvPr/>
            </p:nvSpPr>
            <p:spPr>
              <a:xfrm>
                <a:off x="3168720" y="2438280"/>
                <a:ext cx="946080" cy="777960"/>
              </a:xfrm>
              <a:custGeom>
                <a:avLst/>
                <a:gdLst/>
                <a:ahLst/>
                <a:rect l="l" t="t" r="r" b="b"/>
                <a:pathLst>
                  <a:path w="5886" h="4192">
                    <a:moveTo>
                      <a:pt x="0" y="314"/>
                    </a:moveTo>
                    <a:lnTo>
                      <a:pt x="3598" y="314"/>
                    </a:lnTo>
                    <a:lnTo>
                      <a:pt x="3803" y="0"/>
                    </a:lnTo>
                    <a:lnTo>
                      <a:pt x="5128" y="0"/>
                    </a:lnTo>
                    <a:lnTo>
                      <a:pt x="5333" y="314"/>
                    </a:lnTo>
                    <a:lnTo>
                      <a:pt x="5886" y="314"/>
                    </a:lnTo>
                    <a:lnTo>
                      <a:pt x="5886" y="4192"/>
                    </a:lnTo>
                    <a:lnTo>
                      <a:pt x="0" y="4192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rgbClr val="f3dfc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168720" y="2525760"/>
                <a:ext cx="946080" cy="690120"/>
              </a:xfrm>
              <a:prstGeom prst="rect">
                <a:avLst/>
              </a:prstGeom>
              <a:solidFill>
                <a:srgbClr val="f3dfc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195720" y="2686320"/>
                <a:ext cx="87264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ma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457200" y="3408480"/>
              <a:ext cx="1125360" cy="777600"/>
              <a:chOff x="457200" y="3408480"/>
              <a:chExt cx="1125360" cy="777600"/>
            </a:xfrm>
          </p:grpSpPr>
          <p:sp>
            <p:nvSpPr>
              <p:cNvPr id="524" name=""/>
              <p:cNvSpPr/>
              <p:nvPr/>
            </p:nvSpPr>
            <p:spPr>
              <a:xfrm>
                <a:off x="457200" y="3408480"/>
                <a:ext cx="1125360" cy="777600"/>
              </a:xfrm>
              <a:custGeom>
                <a:avLst/>
                <a:gdLst/>
                <a:ahLst/>
                <a:rect l="l" t="t" r="r" b="b"/>
                <a:pathLst>
                  <a:path w="5886" h="4192">
                    <a:moveTo>
                      <a:pt x="0" y="314"/>
                    </a:moveTo>
                    <a:lnTo>
                      <a:pt x="3598" y="314"/>
                    </a:lnTo>
                    <a:lnTo>
                      <a:pt x="3803" y="0"/>
                    </a:lnTo>
                    <a:lnTo>
                      <a:pt x="5128" y="0"/>
                    </a:lnTo>
                    <a:lnTo>
                      <a:pt x="5333" y="314"/>
                    </a:lnTo>
                    <a:lnTo>
                      <a:pt x="5886" y="314"/>
                    </a:lnTo>
                    <a:lnTo>
                      <a:pt x="5886" y="4192"/>
                    </a:lnTo>
                    <a:lnTo>
                      <a:pt x="0" y="4192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rgbClr val="f3dfc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57200" y="3495960"/>
                <a:ext cx="1125360" cy="689760"/>
              </a:xfrm>
              <a:prstGeom prst="rect">
                <a:avLst/>
              </a:prstGeom>
              <a:solidFill>
                <a:srgbClr val="f3dfc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9600" y="3656520"/>
                <a:ext cx="103824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projec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1843200" y="3408480"/>
              <a:ext cx="1127160" cy="777600"/>
              <a:chOff x="1843200" y="3408480"/>
              <a:chExt cx="1127160" cy="777600"/>
            </a:xfrm>
          </p:grpSpPr>
          <p:sp>
            <p:nvSpPr>
              <p:cNvPr id="528" name=""/>
              <p:cNvSpPr/>
              <p:nvPr/>
            </p:nvSpPr>
            <p:spPr>
              <a:xfrm>
                <a:off x="1843200" y="3408480"/>
                <a:ext cx="1127160" cy="777600"/>
              </a:xfrm>
              <a:custGeom>
                <a:avLst/>
                <a:gdLst/>
                <a:ahLst/>
                <a:rect l="l" t="t" r="r" b="b"/>
                <a:pathLst>
                  <a:path w="5886" h="4192">
                    <a:moveTo>
                      <a:pt x="0" y="314"/>
                    </a:moveTo>
                    <a:lnTo>
                      <a:pt x="3598" y="314"/>
                    </a:lnTo>
                    <a:lnTo>
                      <a:pt x="3803" y="0"/>
                    </a:lnTo>
                    <a:lnTo>
                      <a:pt x="5128" y="0"/>
                    </a:lnTo>
                    <a:lnTo>
                      <a:pt x="5333" y="314"/>
                    </a:lnTo>
                    <a:lnTo>
                      <a:pt x="5886" y="314"/>
                    </a:lnTo>
                    <a:lnTo>
                      <a:pt x="5886" y="4192"/>
                    </a:lnTo>
                    <a:lnTo>
                      <a:pt x="0" y="4192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rgbClr val="f3dfc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843200" y="3495960"/>
                <a:ext cx="1127160" cy="689760"/>
              </a:xfrm>
              <a:prstGeom prst="rect">
                <a:avLst/>
              </a:prstGeom>
              <a:solidFill>
                <a:srgbClr val="f3dfc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875600" y="3656520"/>
                <a:ext cx="103968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gam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 flipH="1">
              <a:off x="1180800" y="3124080"/>
              <a:ext cx="452520" cy="37008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084400" y="3124080"/>
              <a:ext cx="571320" cy="4431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86080" y="4084560"/>
              <a:ext cx="60120" cy="2970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522440" y="3124080"/>
              <a:ext cx="1766880" cy="443160"/>
            </a:xfrm>
            <a:custGeom>
              <a:avLst/>
              <a:gdLst/>
              <a:ahLst/>
              <a:rect l="l" t="t" r="r" b="b"/>
              <a:pathLst>
                <a:path w="1408" h="288">
                  <a:moveTo>
                    <a:pt x="1408" y="0"/>
                  </a:moveTo>
                  <a:cubicBezTo>
                    <a:pt x="1296" y="40"/>
                    <a:pt x="1184" y="80"/>
                    <a:pt x="976" y="96"/>
                  </a:cubicBezTo>
                  <a:cubicBezTo>
                    <a:pt x="768" y="112"/>
                    <a:pt x="320" y="64"/>
                    <a:pt x="160" y="96"/>
                  </a:cubicBezTo>
                  <a:cubicBezTo>
                    <a:pt x="0" y="128"/>
                    <a:pt x="8" y="208"/>
                    <a:pt x="16" y="288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28960" y="3124080"/>
              <a:ext cx="541440" cy="1405080"/>
            </a:xfrm>
            <a:custGeom>
              <a:avLst/>
              <a:gdLst/>
              <a:ahLst/>
              <a:rect l="l" t="t" r="r" b="b"/>
              <a:pathLst>
                <a:path w="432" h="912">
                  <a:moveTo>
                    <a:pt x="432" y="0"/>
                  </a:moveTo>
                  <a:cubicBezTo>
                    <a:pt x="420" y="236"/>
                    <a:pt x="408" y="472"/>
                    <a:pt x="336" y="624"/>
                  </a:cubicBezTo>
                  <a:cubicBezTo>
                    <a:pt x="264" y="776"/>
                    <a:pt x="132" y="844"/>
                    <a:pt x="0" y="912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cyclic Grap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Hard Li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4495680" y="3637080"/>
            <a:ext cx="1195560" cy="801720"/>
            <a:chOff x="4495680" y="3637080"/>
            <a:chExt cx="1195560" cy="801720"/>
          </a:xfrm>
        </p:grpSpPr>
        <p:sp>
          <p:nvSpPr>
            <p:cNvPr id="539" name=""/>
            <p:cNvSpPr/>
            <p:nvPr/>
          </p:nvSpPr>
          <p:spPr>
            <a:xfrm>
              <a:off x="4495680" y="3637080"/>
              <a:ext cx="119556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95680" y="3727440"/>
              <a:ext cx="119556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529880" y="3892680"/>
              <a:ext cx="110304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joh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6477120" y="3618000"/>
            <a:ext cx="1195200" cy="801720"/>
            <a:chOff x="6477120" y="3618000"/>
            <a:chExt cx="1195200" cy="801720"/>
          </a:xfrm>
        </p:grpSpPr>
        <p:sp>
          <p:nvSpPr>
            <p:cNvPr id="543" name=""/>
            <p:cNvSpPr/>
            <p:nvPr/>
          </p:nvSpPr>
          <p:spPr>
            <a:xfrm>
              <a:off x="6477120" y="3618000"/>
              <a:ext cx="119520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477120" y="3708360"/>
              <a:ext cx="119520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11320" y="3873600"/>
              <a:ext cx="11026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4876920" y="4608360"/>
            <a:ext cx="1423800" cy="801720"/>
            <a:chOff x="4876920" y="4608360"/>
            <a:chExt cx="1423800" cy="801720"/>
          </a:xfrm>
        </p:grpSpPr>
        <p:sp>
          <p:nvSpPr>
            <p:cNvPr id="547" name=""/>
            <p:cNvSpPr/>
            <p:nvPr/>
          </p:nvSpPr>
          <p:spPr>
            <a:xfrm>
              <a:off x="4876920" y="4608360"/>
              <a:ext cx="142380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76920" y="4698720"/>
              <a:ext cx="142380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917960" y="4863960"/>
              <a:ext cx="13132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ga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5181480" y="4343400"/>
            <a:ext cx="60984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985000" y="1828800"/>
            <a:ext cx="3124080" cy="1523880"/>
            <a:chOff x="5985000" y="1828800"/>
            <a:chExt cx="3124080" cy="1523880"/>
          </a:xfrm>
        </p:grpSpPr>
        <p:sp>
          <p:nvSpPr>
            <p:cNvPr id="552" name=""/>
            <p:cNvSpPr/>
            <p:nvPr/>
          </p:nvSpPr>
          <p:spPr>
            <a:xfrm>
              <a:off x="5985000" y="1828800"/>
              <a:ext cx="3124080" cy="1523880"/>
            </a:xfrm>
            <a:prstGeom prst="wedgeRoundRectCallout">
              <a:avLst>
                <a:gd name="adj1" fmla="val -3101"/>
                <a:gd name="adj2" fmla="val 81041"/>
                <a:gd name="adj3" fmla="val 16667"/>
              </a:avLst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13600" y="2362320"/>
              <a:ext cx="274320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432080"/>
                  <a:tab algn="l" pos="2863800"/>
                  <a:tab algn="l" pos="4295880"/>
                  <a:tab algn="l" pos="5727600"/>
                  <a:tab algn="l" pos="7159680"/>
                  <a:tab algn="l" pos="8591400"/>
                  <a:tab algn="l" pos="1002348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CHESS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213600" y="1881000"/>
              <a:ext cx="274320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432080"/>
                  <a:tab algn="l" pos="2863800"/>
                  <a:tab algn="l" pos="4295880"/>
                  <a:tab algn="l" pos="5727600"/>
                  <a:tab algn="l" pos="7159680"/>
                  <a:tab algn="l" pos="8591400"/>
                  <a:tab algn="l" pos="1002348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roj98   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213600" y="2843280"/>
              <a:ext cx="274320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432080"/>
                  <a:tab algn="l" pos="2863800"/>
                  <a:tab algn="l" pos="4295880"/>
                  <a:tab algn="l" pos="5727600"/>
                  <a:tab algn="l" pos="7159680"/>
                  <a:tab algn="l" pos="8591400"/>
                  <a:tab algn="l" pos="1002348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od-B1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585200" y="188100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032280" y="1125360"/>
            <a:ext cx="3124080" cy="1524240"/>
            <a:chOff x="3032280" y="1125360"/>
            <a:chExt cx="3124080" cy="1524240"/>
          </a:xfrm>
        </p:grpSpPr>
        <p:sp>
          <p:nvSpPr>
            <p:cNvPr id="558" name=""/>
            <p:cNvSpPr/>
            <p:nvPr/>
          </p:nvSpPr>
          <p:spPr>
            <a:xfrm>
              <a:off x="3032280" y="1125360"/>
              <a:ext cx="3124080" cy="1524240"/>
            </a:xfrm>
            <a:prstGeom prst="wedgeRoundRectCallout">
              <a:avLst>
                <a:gd name="adj1" fmla="val 25000"/>
                <a:gd name="adj2" fmla="val 131148"/>
                <a:gd name="adj3" fmla="val 16667"/>
              </a:avLst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60880" y="1658880"/>
              <a:ext cx="274320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432080"/>
                  <a:tab algn="l" pos="2863800"/>
                  <a:tab algn="l" pos="4295880"/>
                  <a:tab algn="l" pos="5727600"/>
                  <a:tab algn="l" pos="7159680"/>
                  <a:tab algn="l" pos="8591400"/>
                  <a:tab algn="l" pos="1002348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roject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260880" y="1177920"/>
              <a:ext cx="274320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432080"/>
                  <a:tab algn="l" pos="2863800"/>
                  <a:tab algn="l" pos="4295880"/>
                  <a:tab algn="l" pos="5727600"/>
                  <a:tab algn="l" pos="7159680"/>
                  <a:tab algn="l" pos="8591400"/>
                  <a:tab algn="l" pos="1002348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HELP   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60880" y="2139840"/>
              <a:ext cx="274320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432080"/>
                  <a:tab algn="l" pos="2863800"/>
                  <a:tab algn="l" pos="4295880"/>
                  <a:tab algn="l" pos="5727600"/>
                  <a:tab algn="l" pos="7159680"/>
                  <a:tab algn="l" pos="8591400"/>
                  <a:tab algn="l" pos="1002348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Games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632480" y="117792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5076720" y="5445000"/>
            <a:ext cx="3124440" cy="609480"/>
            <a:chOff x="5076720" y="5445000"/>
            <a:chExt cx="3124440" cy="609480"/>
          </a:xfrm>
        </p:grpSpPr>
        <p:sp>
          <p:nvSpPr>
            <p:cNvPr id="564" name=""/>
            <p:cNvSpPr/>
            <p:nvPr/>
          </p:nvSpPr>
          <p:spPr>
            <a:xfrm>
              <a:off x="5076720" y="5445000"/>
              <a:ext cx="3124440" cy="609480"/>
            </a:xfrm>
            <a:prstGeom prst="wedgeRoundRectCallout">
              <a:avLst>
                <a:gd name="adj1" fmla="val -35365"/>
                <a:gd name="adj2" fmla="val -99740"/>
                <a:gd name="adj3" fmla="val 16667"/>
              </a:avLst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305320" y="5497200"/>
              <a:ext cx="274320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432080"/>
                  <a:tab algn="l" pos="2863800"/>
                  <a:tab algn="l" pos="4295880"/>
                  <a:tab algn="l" pos="5727600"/>
                  <a:tab algn="l" pos="7159680"/>
                  <a:tab algn="l" pos="8591400"/>
                  <a:tab algn="l" pos="1002348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Chess   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76920" y="5497200"/>
              <a:ext cx="0" cy="40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4673520" y="1697040"/>
            <a:ext cx="1297080" cy="3808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730920" y="5516640"/>
            <a:ext cx="1297080" cy="380880"/>
          </a:xfrm>
          <a:prstGeom prst="rect">
            <a:avLst/>
          </a:prstGeom>
          <a:solidFill>
            <a:srgbClr val="a9f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9480" y="5486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nsistenc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639200" y="2400480"/>
            <a:ext cx="1296720" cy="380880"/>
          </a:xfrm>
          <a:prstGeom prst="rect">
            <a:avLst/>
          </a:prstGeom>
          <a:solidFill>
            <a:srgbClr val="a9f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639200" y="1917720"/>
            <a:ext cx="1295280" cy="3808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cyclic Grap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Traverse Fil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ile / Directory Dele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angling pointers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How to keep acyclic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"/>
          <p:cNvSpPr/>
          <p:nvPr/>
        </p:nvSpPr>
        <p:spPr>
          <a:xfrm>
            <a:off x="3059280" y="4941720"/>
            <a:ext cx="796680" cy="755640"/>
          </a:xfrm>
          <a:prstGeom prst="foldedCorner">
            <a:avLst>
              <a:gd name="adj" fmla="val 12500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564000" y="4581360"/>
            <a:ext cx="573120" cy="3812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903400" y="4376880"/>
            <a:ext cx="381240" cy="5443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901960" y="4376880"/>
            <a:ext cx="380880" cy="544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2916360" y="5013360"/>
            <a:ext cx="1015560" cy="914400"/>
            <a:chOff x="2916360" y="5013360"/>
            <a:chExt cx="1015560" cy="914400"/>
          </a:xfrm>
        </p:grpSpPr>
        <p:sp>
          <p:nvSpPr>
            <p:cNvPr id="579" name=""/>
            <p:cNvSpPr/>
            <p:nvPr/>
          </p:nvSpPr>
          <p:spPr>
            <a:xfrm>
              <a:off x="2916360" y="5241960"/>
              <a:ext cx="939600" cy="609840"/>
            </a:xfrm>
            <a:custGeom>
              <a:avLst/>
              <a:gdLst/>
              <a:ahLst/>
              <a:rect l="l" t="t" r="r" b="b"/>
              <a:pathLst>
                <a:path w="688" h="720">
                  <a:moveTo>
                    <a:pt x="0" y="0"/>
                  </a:moveTo>
                  <a:cubicBezTo>
                    <a:pt x="232" y="12"/>
                    <a:pt x="464" y="24"/>
                    <a:pt x="576" y="144"/>
                  </a:cubicBezTo>
                  <a:cubicBezTo>
                    <a:pt x="688" y="264"/>
                    <a:pt x="680" y="492"/>
                    <a:pt x="672" y="720"/>
                  </a:cubicBezTo>
                </a:path>
              </a:pathLst>
            </a:custGeom>
            <a:noFill/>
            <a:ln w="5724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246480" y="5013360"/>
              <a:ext cx="685440" cy="914400"/>
            </a:xfrm>
            <a:custGeom>
              <a:avLst/>
              <a:gdLst/>
              <a:ahLst/>
              <a:rect l="l" t="t" r="r" b="b"/>
              <a:pathLst>
                <a:path w="432" h="576">
                  <a:moveTo>
                    <a:pt x="432" y="0"/>
                  </a:moveTo>
                  <a:cubicBezTo>
                    <a:pt x="300" y="48"/>
                    <a:pt x="168" y="96"/>
                    <a:pt x="96" y="192"/>
                  </a:cubicBezTo>
                  <a:cubicBezTo>
                    <a:pt x="24" y="288"/>
                    <a:pt x="12" y="432"/>
                    <a:pt x="0" y="576"/>
                  </a:cubicBezTo>
                </a:path>
              </a:pathLst>
            </a:custGeom>
            <a:noFill/>
            <a:ln w="5724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6455880" y="40766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458040" y="4964040"/>
            <a:ext cx="796680" cy="755640"/>
          </a:xfrm>
          <a:prstGeom prst="foldedCorner">
            <a:avLst>
              <a:gd name="adj" fmla="val 12500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6962760" y="4603680"/>
            <a:ext cx="573120" cy="3812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302520" y="4398840"/>
            <a:ext cx="380880" cy="5446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300720" y="4398840"/>
            <a:ext cx="381240" cy="544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455880" y="4076640"/>
            <a:ext cx="994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4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9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2" dur="5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4" dur="500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Tahoma"/>
              </a:rPr>
              <a:t>File System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1.  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iles &amp; Direc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2. 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ile System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llocation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3.  Secondary Memory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isk Schedu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General Grap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1523880" y="1905120"/>
            <a:ext cx="878040" cy="761760"/>
            <a:chOff x="1523880" y="1905120"/>
            <a:chExt cx="878040" cy="761760"/>
          </a:xfrm>
        </p:grpSpPr>
        <p:sp>
          <p:nvSpPr>
            <p:cNvPr id="589" name=""/>
            <p:cNvSpPr/>
            <p:nvPr/>
          </p:nvSpPr>
          <p:spPr>
            <a:xfrm>
              <a:off x="1523880" y="1905120"/>
              <a:ext cx="878040" cy="76176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23880" y="1990800"/>
              <a:ext cx="878040" cy="67572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549080" y="2148120"/>
              <a:ext cx="8100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609480" y="3035160"/>
            <a:ext cx="671760" cy="65592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38280" y="3035160"/>
            <a:ext cx="1103400" cy="91440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c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474920" y="3035160"/>
            <a:ext cx="768240" cy="70992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1111320" y="2590920"/>
            <a:ext cx="565200" cy="5508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057400" y="2590920"/>
            <a:ext cx="152280" cy="5331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62320" y="2590920"/>
            <a:ext cx="1295280" cy="6094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5105520" y="2408400"/>
            <a:ext cx="1195200" cy="801360"/>
            <a:chOff x="5105520" y="2408400"/>
            <a:chExt cx="1195200" cy="801360"/>
          </a:xfrm>
        </p:grpSpPr>
        <p:sp>
          <p:nvSpPr>
            <p:cNvPr id="599" name=""/>
            <p:cNvSpPr/>
            <p:nvPr/>
          </p:nvSpPr>
          <p:spPr>
            <a:xfrm>
              <a:off x="5105520" y="2408400"/>
              <a:ext cx="1195200" cy="80136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105520" y="2498760"/>
              <a:ext cx="1195200" cy="71100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139720" y="2664000"/>
              <a:ext cx="11026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us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2743200" y="5410080"/>
            <a:ext cx="696960" cy="696960"/>
          </a:xfrm>
          <a:prstGeom prst="foldedCorner">
            <a:avLst>
              <a:gd name="adj" fmla="val 12500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952880" y="5410080"/>
            <a:ext cx="1219320" cy="668520"/>
          </a:xfrm>
          <a:prstGeom prst="foldedCorner">
            <a:avLst>
              <a:gd name="adj" fmla="val 12500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h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57600" y="5410080"/>
            <a:ext cx="797040" cy="755640"/>
          </a:xfrm>
          <a:prstGeom prst="foldedCorner">
            <a:avLst>
              <a:gd name="adj" fmla="val 12500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4952880" y="3048120"/>
            <a:ext cx="57312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237520" y="2971800"/>
            <a:ext cx="372960" cy="6094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867280" y="1828800"/>
            <a:ext cx="205740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4572000" y="1371600"/>
            <a:ext cx="1371600" cy="838080"/>
            <a:chOff x="4572000" y="1371600"/>
            <a:chExt cx="1371600" cy="838080"/>
          </a:xfrm>
        </p:grpSpPr>
        <p:sp>
          <p:nvSpPr>
            <p:cNvPr id="609" name=""/>
            <p:cNvSpPr/>
            <p:nvPr/>
          </p:nvSpPr>
          <p:spPr>
            <a:xfrm>
              <a:off x="4572000" y="1371600"/>
              <a:ext cx="1371600" cy="83808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72000" y="1465920"/>
              <a:ext cx="1371600" cy="74340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11600" y="1638720"/>
              <a:ext cx="12654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oot (/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 flipH="1">
            <a:off x="2362320" y="2057400"/>
            <a:ext cx="230328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808600" y="2057400"/>
            <a:ext cx="13500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4419720" y="3408480"/>
            <a:ext cx="1195200" cy="801720"/>
            <a:chOff x="4419720" y="3408480"/>
            <a:chExt cx="1195200" cy="801720"/>
          </a:xfrm>
        </p:grpSpPr>
        <p:sp>
          <p:nvSpPr>
            <p:cNvPr id="615" name=""/>
            <p:cNvSpPr/>
            <p:nvPr/>
          </p:nvSpPr>
          <p:spPr>
            <a:xfrm>
              <a:off x="4419720" y="3408480"/>
              <a:ext cx="119520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419720" y="3498840"/>
              <a:ext cx="119520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453920" y="3664080"/>
              <a:ext cx="11026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joh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7238880" y="2209680"/>
            <a:ext cx="1195560" cy="801720"/>
            <a:chOff x="7238880" y="2209680"/>
            <a:chExt cx="1195560" cy="801720"/>
          </a:xfrm>
        </p:grpSpPr>
        <p:sp>
          <p:nvSpPr>
            <p:cNvPr id="619" name=""/>
            <p:cNvSpPr/>
            <p:nvPr/>
          </p:nvSpPr>
          <p:spPr>
            <a:xfrm>
              <a:off x="7238880" y="2209680"/>
              <a:ext cx="119556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38880" y="2300040"/>
              <a:ext cx="119556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273080" y="2465280"/>
              <a:ext cx="110304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te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6477120" y="3408480"/>
            <a:ext cx="1195200" cy="801720"/>
            <a:chOff x="6477120" y="3408480"/>
            <a:chExt cx="1195200" cy="801720"/>
          </a:xfrm>
        </p:grpSpPr>
        <p:sp>
          <p:nvSpPr>
            <p:cNvPr id="623" name=""/>
            <p:cNvSpPr/>
            <p:nvPr/>
          </p:nvSpPr>
          <p:spPr>
            <a:xfrm>
              <a:off x="6477120" y="3408480"/>
              <a:ext cx="119520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77120" y="3498840"/>
              <a:ext cx="119520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11320" y="3664080"/>
              <a:ext cx="11026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048120" y="4408560"/>
            <a:ext cx="1423800" cy="801720"/>
            <a:chOff x="3048120" y="4408560"/>
            <a:chExt cx="1423800" cy="801720"/>
          </a:xfrm>
        </p:grpSpPr>
        <p:sp>
          <p:nvSpPr>
            <p:cNvPr id="627" name=""/>
            <p:cNvSpPr/>
            <p:nvPr/>
          </p:nvSpPr>
          <p:spPr>
            <a:xfrm>
              <a:off x="3048120" y="4408560"/>
              <a:ext cx="142380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048120" y="4498920"/>
              <a:ext cx="142380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089160" y="4664160"/>
              <a:ext cx="13132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ro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800600" y="4408560"/>
            <a:ext cx="1424160" cy="801720"/>
            <a:chOff x="4800600" y="4408560"/>
            <a:chExt cx="1424160" cy="801720"/>
          </a:xfrm>
        </p:grpSpPr>
        <p:sp>
          <p:nvSpPr>
            <p:cNvPr id="631" name=""/>
            <p:cNvSpPr/>
            <p:nvPr/>
          </p:nvSpPr>
          <p:spPr>
            <a:xfrm>
              <a:off x="4800600" y="4408560"/>
              <a:ext cx="142416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800600" y="4498920"/>
              <a:ext cx="142416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41640" y="4664160"/>
              <a:ext cx="131364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ga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7086600" y="4408560"/>
            <a:ext cx="1500120" cy="801720"/>
            <a:chOff x="7086600" y="4408560"/>
            <a:chExt cx="1500120" cy="801720"/>
          </a:xfrm>
        </p:grpSpPr>
        <p:sp>
          <p:nvSpPr>
            <p:cNvPr id="635" name=""/>
            <p:cNvSpPr/>
            <p:nvPr/>
          </p:nvSpPr>
          <p:spPr>
            <a:xfrm>
              <a:off x="7086600" y="4408560"/>
              <a:ext cx="150012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86600" y="4498920"/>
              <a:ext cx="150012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29800" y="4664160"/>
              <a:ext cx="138384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od-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7162920" y="5410080"/>
            <a:ext cx="696960" cy="696960"/>
          </a:xfrm>
          <a:prstGeom prst="foldedCorner">
            <a:avLst>
              <a:gd name="adj" fmla="val 12500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ec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59520" y="3124080"/>
            <a:ext cx="95076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05120" y="4572000"/>
            <a:ext cx="696960" cy="696960"/>
          </a:xfrm>
          <a:prstGeom prst="foldedCorner">
            <a:avLst>
              <a:gd name="adj" fmla="val 12500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EL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8447040" y="3581280"/>
            <a:ext cx="696960" cy="609840"/>
          </a:xfrm>
          <a:prstGeom prst="foldedCorner">
            <a:avLst>
              <a:gd name="adj" fmla="val 1250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989840" y="5410080"/>
            <a:ext cx="696960" cy="696960"/>
          </a:xfrm>
          <a:prstGeom prst="foldedCorner">
            <a:avLst>
              <a:gd name="adj" fmla="val 12500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ec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3962520" y="4114800"/>
            <a:ext cx="57312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2209320" y="3886200"/>
            <a:ext cx="2249640" cy="7621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973920" y="4114800"/>
            <a:ext cx="72216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4114800"/>
            <a:ext cx="72216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581280" y="5029200"/>
            <a:ext cx="68580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3047760" y="5105520"/>
            <a:ext cx="22860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486400" y="5105520"/>
            <a:ext cx="76320" cy="3045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001000" y="5105520"/>
            <a:ext cx="380880" cy="3045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7315200" y="5105520"/>
            <a:ext cx="380880" cy="3045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19720" y="4191120"/>
            <a:ext cx="2209680" cy="380880"/>
          </a:xfrm>
          <a:custGeom>
            <a:avLst/>
            <a:gdLst/>
            <a:ahLst/>
            <a:rect l="l" t="t" r="r" b="b"/>
            <a:pathLst>
              <a:path w="1392" h="240">
                <a:moveTo>
                  <a:pt x="1392" y="0"/>
                </a:moveTo>
                <a:cubicBezTo>
                  <a:pt x="1052" y="28"/>
                  <a:pt x="712" y="56"/>
                  <a:pt x="480" y="96"/>
                </a:cubicBezTo>
                <a:cubicBezTo>
                  <a:pt x="248" y="136"/>
                  <a:pt x="124" y="188"/>
                  <a:pt x="0" y="240"/>
                </a:cubicBezTo>
              </a:path>
            </a:pathLst>
          </a:custGeom>
          <a:noFill/>
          <a:ln w="76320">
            <a:solidFill>
              <a:srgbClr val="00279f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577960" y="2666880"/>
            <a:ext cx="2527560" cy="2438640"/>
          </a:xfrm>
          <a:custGeom>
            <a:avLst/>
            <a:gdLst/>
            <a:ahLst/>
            <a:rect l="l" t="t" r="r" b="b"/>
            <a:pathLst>
              <a:path w="1592" h="1536">
                <a:moveTo>
                  <a:pt x="344" y="1536"/>
                </a:moveTo>
                <a:cubicBezTo>
                  <a:pt x="292" y="1532"/>
                  <a:pt x="240" y="1528"/>
                  <a:pt x="200" y="1440"/>
                </a:cubicBezTo>
                <a:cubicBezTo>
                  <a:pt x="160" y="1352"/>
                  <a:pt x="0" y="1120"/>
                  <a:pt x="104" y="1008"/>
                </a:cubicBezTo>
                <a:cubicBezTo>
                  <a:pt x="208" y="896"/>
                  <a:pt x="632" y="888"/>
                  <a:pt x="824" y="768"/>
                </a:cubicBezTo>
                <a:cubicBezTo>
                  <a:pt x="1016" y="648"/>
                  <a:pt x="1128" y="416"/>
                  <a:pt x="1256" y="288"/>
                </a:cubicBezTo>
                <a:cubicBezTo>
                  <a:pt x="1384" y="160"/>
                  <a:pt x="1488" y="80"/>
                  <a:pt x="1592" y="0"/>
                </a:cubicBezTo>
              </a:path>
            </a:pathLst>
          </a:custGeom>
          <a:noFill/>
          <a:ln w="76320">
            <a:solidFill>
              <a:srgbClr val="00279f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General Grap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ycles allow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Traverse Fil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ust mark  (otherwise infinite loo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ile / Directory Dele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Garbage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3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8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1" dur="5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6" dur="500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9" dur="500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ile System Moun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609480" y="3281400"/>
            <a:ext cx="1447920" cy="1143000"/>
          </a:xfrm>
          <a:prstGeom prst="can">
            <a:avLst>
              <a:gd name="adj" fmla="val 250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09480" y="5486400"/>
            <a:ext cx="1447920" cy="609480"/>
          </a:xfrm>
          <a:prstGeom prst="can">
            <a:avLst>
              <a:gd name="adj" fmla="val 25000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9480" y="4724280"/>
            <a:ext cx="1447920" cy="838440"/>
          </a:xfrm>
          <a:prstGeom prst="can">
            <a:avLst>
              <a:gd name="adj" fmla="val 25000"/>
            </a:avLst>
          </a:prstGeom>
          <a:solidFill>
            <a:srgbClr val="6df1e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09480" y="2666880"/>
            <a:ext cx="1447920" cy="838440"/>
          </a:xfrm>
          <a:prstGeom prst="can">
            <a:avLst>
              <a:gd name="adj" fmla="val 25000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9480" y="1752480"/>
            <a:ext cx="1447920" cy="106704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895480" y="1828800"/>
            <a:ext cx="381240" cy="380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514600" y="2362320"/>
            <a:ext cx="380880" cy="380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200400" y="2362320"/>
            <a:ext cx="380880" cy="380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2362320"/>
            <a:ext cx="380880" cy="380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2742840" y="2057400"/>
            <a:ext cx="22860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276720" y="2133720"/>
            <a:ext cx="914400" cy="22860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2133720"/>
            <a:ext cx="228600" cy="22860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2514240" y="2666880"/>
            <a:ext cx="22860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048120" y="3276720"/>
            <a:ext cx="380880" cy="38088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666880" y="3809880"/>
            <a:ext cx="381240" cy="38124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352680" y="3809880"/>
            <a:ext cx="381240" cy="38124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2895120" y="3505320"/>
            <a:ext cx="228600" cy="30456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276720" y="3581280"/>
            <a:ext cx="228600" cy="22860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2666520" y="4114800"/>
            <a:ext cx="22860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124080" y="4724280"/>
            <a:ext cx="381240" cy="381240"/>
          </a:xfrm>
          <a:prstGeom prst="rect">
            <a:avLst/>
          </a:prstGeom>
          <a:solidFill>
            <a:srgbClr val="6df1e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429000" y="5257800"/>
            <a:ext cx="380880" cy="380880"/>
          </a:xfrm>
          <a:prstGeom prst="rect">
            <a:avLst/>
          </a:prstGeom>
          <a:solidFill>
            <a:srgbClr val="6df1e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352680" y="5029200"/>
            <a:ext cx="228600" cy="22860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267080" y="5257800"/>
            <a:ext cx="381240" cy="38088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572000" y="5791320"/>
            <a:ext cx="380880" cy="38088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5680" y="5562720"/>
            <a:ext cx="228600" cy="22860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2" name=""/>
          <p:cNvCxnSpPr>
            <a:stCxn id="664" idx="3"/>
            <a:endCxn id="670" idx="3"/>
          </p:cNvCxnSpPr>
          <p:nvPr/>
        </p:nvCxnSpPr>
        <p:spPr>
          <a:xfrm flipH="1">
            <a:off x="3428280" y="2552760"/>
            <a:ext cx="153000" cy="915120"/>
          </a:xfrm>
          <a:prstGeom prst="bentConnector3">
            <a:avLst>
              <a:gd name="adj1" fmla="val -205188"/>
            </a:avLst>
          </a:prstGeom>
          <a:ln w="57240">
            <a:solidFill>
              <a:srgbClr val="00ae00"/>
            </a:solidFill>
            <a:miter/>
            <a:headEnd len="med" type="triangle" w="med"/>
          </a:ln>
        </p:spPr>
      </p:cxnSp>
      <p:cxnSp>
        <p:nvCxnSpPr>
          <p:cNvPr id="683" name=""/>
          <p:cNvCxnSpPr>
            <a:stCxn id="672" idx="3"/>
            <a:endCxn id="676" idx="3"/>
          </p:cNvCxnSpPr>
          <p:nvPr/>
        </p:nvCxnSpPr>
        <p:spPr>
          <a:xfrm flipH="1">
            <a:off x="3504600" y="4000680"/>
            <a:ext cx="229320" cy="915120"/>
          </a:xfrm>
          <a:prstGeom prst="bentConnector3">
            <a:avLst>
              <a:gd name="adj1" fmla="val -232547"/>
            </a:avLst>
          </a:prstGeom>
          <a:ln w="57240">
            <a:solidFill>
              <a:srgbClr val="00ae00"/>
            </a:solidFill>
            <a:miter/>
            <a:headEnd len="med" type="triangle" w="med"/>
          </a:ln>
        </p:spPr>
      </p:cxnSp>
      <p:cxnSp>
        <p:nvCxnSpPr>
          <p:cNvPr id="684" name=""/>
          <p:cNvCxnSpPr>
            <a:stCxn id="665" idx="3"/>
            <a:endCxn id="679" idx="3"/>
          </p:cNvCxnSpPr>
          <p:nvPr/>
        </p:nvCxnSpPr>
        <p:spPr>
          <a:xfrm>
            <a:off x="4343040" y="2552400"/>
            <a:ext cx="305640" cy="2896200"/>
          </a:xfrm>
          <a:prstGeom prst="bentConnector3">
            <a:avLst>
              <a:gd name="adj1" fmla="val 241627"/>
            </a:avLst>
          </a:prstGeom>
          <a:ln w="57240">
            <a:solidFill>
              <a:srgbClr val="00ae00"/>
            </a:solidFill>
            <a:miter/>
            <a:headEnd len="med" type="triangle" w="med"/>
          </a:ln>
        </p:spPr>
      </p:cxnSp>
      <p:sp>
        <p:nvSpPr>
          <p:cNvPr id="685" name=""/>
          <p:cNvSpPr/>
          <p:nvPr/>
        </p:nvSpPr>
        <p:spPr>
          <a:xfrm>
            <a:off x="5638680" y="144792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unt device 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? Valid 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5791320" y="4038480"/>
            <a:ext cx="2132640" cy="1447560"/>
            <a:chOff x="5791320" y="4038480"/>
            <a:chExt cx="2132640" cy="1447560"/>
          </a:xfrm>
        </p:grpSpPr>
        <p:grpSp>
          <p:nvGrpSpPr>
            <p:cNvPr id="687" name=""/>
            <p:cNvGrpSpPr/>
            <p:nvPr/>
          </p:nvGrpSpPr>
          <p:grpSpPr>
            <a:xfrm>
              <a:off x="7467480" y="4876560"/>
              <a:ext cx="456480" cy="609480"/>
              <a:chOff x="7467480" y="4876560"/>
              <a:chExt cx="456480" cy="609480"/>
            </a:xfrm>
          </p:grpSpPr>
          <p:sp>
            <p:nvSpPr>
              <p:cNvPr id="688" name=""/>
              <p:cNvSpPr/>
              <p:nvPr/>
            </p:nvSpPr>
            <p:spPr>
              <a:xfrm>
                <a:off x="7467480" y="4876560"/>
                <a:ext cx="228240" cy="22860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543440" y="5105160"/>
                <a:ext cx="380520" cy="3808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5791320" y="4038480"/>
              <a:ext cx="1828080" cy="1143000"/>
              <a:chOff x="5791320" y="4038480"/>
              <a:chExt cx="1828080" cy="1143000"/>
            </a:xfrm>
          </p:grpSpPr>
          <p:sp>
            <p:nvSpPr>
              <p:cNvPr id="691" name=""/>
              <p:cNvSpPr/>
              <p:nvPr/>
            </p:nvSpPr>
            <p:spPr>
              <a:xfrm>
                <a:off x="6172200" y="4038480"/>
                <a:ext cx="380520" cy="38124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791320" y="4572000"/>
                <a:ext cx="380880" cy="3808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476760" y="4572000"/>
                <a:ext cx="380880" cy="3808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238880" y="4572000"/>
                <a:ext cx="380520" cy="3808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6019560" y="4267080"/>
                <a:ext cx="228240" cy="30492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553080" y="4343400"/>
                <a:ext cx="914040" cy="22860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400800" y="4343400"/>
                <a:ext cx="228240" cy="22860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5791320" y="4876920"/>
                <a:ext cx="228240" cy="30456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9" name=""/>
          <p:cNvGrpSpPr/>
          <p:nvPr/>
        </p:nvGrpSpPr>
        <p:grpSpPr>
          <a:xfrm>
            <a:off x="6095520" y="4572000"/>
            <a:ext cx="1067040" cy="1143000"/>
            <a:chOff x="6095520" y="4572000"/>
            <a:chExt cx="1067040" cy="1143000"/>
          </a:xfrm>
        </p:grpSpPr>
        <p:sp>
          <p:nvSpPr>
            <p:cNvPr id="700" name=""/>
            <p:cNvSpPr/>
            <p:nvPr/>
          </p:nvSpPr>
          <p:spPr>
            <a:xfrm>
              <a:off x="6476760" y="4572000"/>
              <a:ext cx="380880" cy="380880"/>
            </a:xfrm>
            <a:prstGeom prst="rect">
              <a:avLst/>
            </a:prstGeom>
            <a:solidFill>
              <a:srgbClr val="a9f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095880" y="5105520"/>
              <a:ext cx="380880" cy="380880"/>
            </a:xfrm>
            <a:prstGeom prst="rect">
              <a:avLst/>
            </a:prstGeom>
            <a:solidFill>
              <a:srgbClr val="a9f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781680" y="5105520"/>
              <a:ext cx="380880" cy="380880"/>
            </a:xfrm>
            <a:prstGeom prst="rect">
              <a:avLst/>
            </a:prstGeom>
            <a:solidFill>
              <a:srgbClr val="a9f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6324120" y="4800600"/>
              <a:ext cx="228600" cy="30492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705360" y="4876920"/>
              <a:ext cx="228600" cy="2286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6095520" y="5410080"/>
              <a:ext cx="228600" cy="30492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6781680" y="5105520"/>
            <a:ext cx="685800" cy="914400"/>
            <a:chOff x="6781680" y="5105520"/>
            <a:chExt cx="685800" cy="914400"/>
          </a:xfrm>
        </p:grpSpPr>
        <p:sp>
          <p:nvSpPr>
            <p:cNvPr id="707" name=""/>
            <p:cNvSpPr/>
            <p:nvPr/>
          </p:nvSpPr>
          <p:spPr>
            <a:xfrm>
              <a:off x="6781680" y="5105520"/>
              <a:ext cx="380880" cy="380880"/>
            </a:xfrm>
            <a:prstGeom prst="rect">
              <a:avLst/>
            </a:prstGeom>
            <a:solidFill>
              <a:srgbClr val="6df1e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086240" y="5638680"/>
              <a:ext cx="381240" cy="381240"/>
            </a:xfrm>
            <a:prstGeom prst="rect">
              <a:avLst/>
            </a:prstGeom>
            <a:solidFill>
              <a:srgbClr val="6df1e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010280" y="5410080"/>
              <a:ext cx="228600" cy="2286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7238880" y="4572000"/>
            <a:ext cx="685800" cy="914400"/>
            <a:chOff x="7238880" y="4572000"/>
            <a:chExt cx="685800" cy="914400"/>
          </a:xfrm>
        </p:grpSpPr>
        <p:sp>
          <p:nvSpPr>
            <p:cNvPr id="711" name=""/>
            <p:cNvSpPr/>
            <p:nvPr/>
          </p:nvSpPr>
          <p:spPr>
            <a:xfrm>
              <a:off x="7238880" y="4572000"/>
              <a:ext cx="380880" cy="38124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43440" y="5105520"/>
              <a:ext cx="381240" cy="38088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467480" y="4876920"/>
              <a:ext cx="228600" cy="2286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5676120" y="342900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User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91120" y="2666880"/>
            <a:ext cx="228600" cy="22860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2895480"/>
            <a:ext cx="38124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038480" y="2819520"/>
            <a:ext cx="838440" cy="533160"/>
          </a:xfrm>
          <a:prstGeom prst="ellipse">
            <a:avLst/>
          </a:prstGeom>
          <a:noFill/>
          <a:ln w="38160">
            <a:solidFill>
              <a:srgbClr val="b3b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591160" y="2590920"/>
            <a:ext cx="195264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60" y="25920"/>
                </a:moveTo>
                <a:lnTo>
                  <a:pt x="-843" y="6480"/>
                </a:lnTo>
              </a:path>
              <a:path w="21600" h="21600">
                <a:moveTo>
                  <a:pt x="-843" y="0"/>
                </a:moveTo>
                <a:lnTo>
                  <a:pt x="-843" y="21600"/>
                </a:lnTo>
              </a:path>
            </a:pathLst>
          </a:custGeom>
          <a:noFill/>
          <a:ln w="28440">
            <a:solidFill>
              <a:srgbClr val="b3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900"/>
                </a:solidFill>
                <a:latin typeface="Tahoma"/>
              </a:rPr>
              <a:t>unacce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0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500"/>
                            </p:stCondLst>
                            <p:childTnLst>
                              <p:par>
                                <p:cTn id="1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le Sha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user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etworked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L, Password(s)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cy Seman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s directly vi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s visible after close (session bas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9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2" dur="500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5" dur="500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0" dur="500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. Implem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ile System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ile System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irectory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llocation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ontiguous, Linked, Ind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ree Space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fficiency &amp;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ile System Stru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1257480" y="5029200"/>
            <a:ext cx="3429000" cy="4597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/O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143000" y="4241880"/>
            <a:ext cx="3657600" cy="459720"/>
          </a:xfrm>
          <a:prstGeom prst="rect">
            <a:avLst/>
          </a:prstGeom>
          <a:solidFill>
            <a:srgbClr val="a9f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Basic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09480" y="3454560"/>
            <a:ext cx="4724640" cy="459720"/>
          </a:xfrm>
          <a:prstGeom prst="rect">
            <a:avLst/>
          </a:prstGeom>
          <a:solidFill>
            <a:srgbClr val="f3a9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ile Organ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143000" y="2666880"/>
            <a:ext cx="3657600" cy="459720"/>
          </a:xfrm>
          <a:prstGeom prst="rect">
            <a:avLst/>
          </a:prstGeom>
          <a:solidFill>
            <a:srgbClr val="6df1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gic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52760" y="5562720"/>
            <a:ext cx="838080" cy="60948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57400" y="1676520"/>
            <a:ext cx="1828800" cy="6094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819520" y="304812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819520" y="388620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819520" y="467208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819520" y="228600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029200" y="1974960"/>
            <a:ext cx="320040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31" y="23417"/>
                </a:moveTo>
                <a:lnTo>
                  <a:pt x="-514" y="2957"/>
                </a:lnTo>
              </a:path>
              <a:path w="21600" h="21600">
                <a:moveTo>
                  <a:pt x="-514" y="0"/>
                </a:moveTo>
                <a:lnTo>
                  <a:pt x="-514" y="21600"/>
                </a:lnTo>
              </a:path>
            </a:pathLst>
          </a:custGeom>
          <a:solidFill>
            <a:srgbClr val="6df1e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irectory Structure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19520" y="548640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562720" y="2968560"/>
            <a:ext cx="320040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31" y="23436"/>
                </a:moveTo>
                <a:lnTo>
                  <a:pt x="-514" y="2957"/>
                </a:lnTo>
              </a:path>
              <a:path w="21600" h="21600">
                <a:moveTo>
                  <a:pt x="-514" y="0"/>
                </a:moveTo>
                <a:lnTo>
                  <a:pt x="-514" y="21600"/>
                </a:lnTo>
              </a:path>
            </a:pathLst>
          </a:cu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ile Alloc. Methods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ree Space M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181480" y="3962520"/>
            <a:ext cx="320040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113" y="13116"/>
                </a:moveTo>
                <a:lnTo>
                  <a:pt x="-514" y="2957"/>
                </a:lnTo>
              </a:path>
              <a:path w="21600" h="21600">
                <a:moveTo>
                  <a:pt x="-514" y="0"/>
                </a:moveTo>
                <a:lnTo>
                  <a:pt x="-514" y="21600"/>
                </a:lnTo>
              </a:path>
            </a:pathLst>
          </a:cu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isk Layout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Buffer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029200" y="4956120"/>
            <a:ext cx="320040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735" y="9519"/>
                </a:moveTo>
                <a:lnTo>
                  <a:pt x="-514" y="2957"/>
                </a:lnTo>
              </a:path>
              <a:path w="21600" h="21600">
                <a:moveTo>
                  <a:pt x="-514" y="0"/>
                </a:moveTo>
                <a:lnTo>
                  <a:pt x="-514" y="21600"/>
                </a:lnTo>
              </a:path>
            </a:pathLst>
          </a:cu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evice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nterrupt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500"/>
                            </p:stCondLst>
                            <p:childTnLst>
                              <p:par>
                                <p:cTn id="1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500"/>
                            </p:stCondLst>
                            <p:childTnLst>
                              <p:par>
                                <p:cTn id="1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500"/>
                            </p:stCondLst>
                            <p:childTnLst>
                              <p:par>
                                <p:cTn id="1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5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500"/>
                            </p:stCondLst>
                            <p:childTnLst>
                              <p:par>
                                <p:cTn id="1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500"/>
                            </p:stCondLst>
                            <p:childTnLst>
                              <p:par>
                                <p:cTn id="14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ile System Stru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76320" y="1676520"/>
            <a:ext cx="4724280" cy="4495680"/>
            <a:chOff x="76320" y="1676520"/>
            <a:chExt cx="4724280" cy="4495680"/>
          </a:xfrm>
        </p:grpSpPr>
        <p:sp>
          <p:nvSpPr>
            <p:cNvPr id="741" name=""/>
            <p:cNvSpPr/>
            <p:nvPr/>
          </p:nvSpPr>
          <p:spPr>
            <a:xfrm>
              <a:off x="723960" y="5029200"/>
              <a:ext cx="3428640" cy="459720"/>
            </a:xfrm>
            <a:prstGeom prst="rect">
              <a:avLst/>
            </a:pr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I/O 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09480" y="4241880"/>
              <a:ext cx="3657240" cy="459720"/>
            </a:xfrm>
            <a:prstGeom prst="rect">
              <a:avLst/>
            </a:prstGeom>
            <a:solidFill>
              <a:srgbClr val="a9f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asic File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6320" y="3454560"/>
              <a:ext cx="4724280" cy="459720"/>
            </a:xfrm>
            <a:prstGeom prst="rect">
              <a:avLst/>
            </a:prstGeom>
            <a:solidFill>
              <a:srgbClr val="f3a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File Organization Mod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480" y="2666880"/>
              <a:ext cx="3657240" cy="459720"/>
            </a:xfrm>
            <a:prstGeom prst="rect">
              <a:avLst/>
            </a:prstGeom>
            <a:solidFill>
              <a:srgbClr val="6df1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ogical File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19240" y="5562720"/>
              <a:ext cx="837720" cy="609480"/>
            </a:xfrm>
            <a:prstGeom prst="can">
              <a:avLst>
                <a:gd name="adj" fmla="val 25000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523880" y="1676520"/>
              <a:ext cx="182844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286000" y="3048120"/>
              <a:ext cx="304200" cy="380880"/>
            </a:xfrm>
            <a:prstGeom prst="downArrow">
              <a:avLst>
                <a:gd name="adj1" fmla="val 50000"/>
                <a:gd name="adj2" fmla="val 31302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286000" y="3886200"/>
              <a:ext cx="304200" cy="380880"/>
            </a:xfrm>
            <a:prstGeom prst="downArrow">
              <a:avLst>
                <a:gd name="adj1" fmla="val 50000"/>
                <a:gd name="adj2" fmla="val 31302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286000" y="4672080"/>
              <a:ext cx="304200" cy="380880"/>
            </a:xfrm>
            <a:prstGeom prst="downArrow">
              <a:avLst>
                <a:gd name="adj1" fmla="val 50000"/>
                <a:gd name="adj2" fmla="val 31302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286000" y="2286000"/>
              <a:ext cx="304200" cy="380880"/>
            </a:xfrm>
            <a:prstGeom prst="downArrow">
              <a:avLst>
                <a:gd name="adj1" fmla="val 50000"/>
                <a:gd name="adj2" fmla="val 31302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286000" y="5486400"/>
              <a:ext cx="304200" cy="380880"/>
            </a:xfrm>
            <a:prstGeom prst="downArrow">
              <a:avLst>
                <a:gd name="adj1" fmla="val 50000"/>
                <a:gd name="adj2" fmla="val 31302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4563360" y="4050720"/>
            <a:ext cx="966960" cy="1191240"/>
          </a:xfrm>
          <a:prstGeom prst="rect">
            <a:avLst/>
          </a:prstGeom>
          <a:solidFill>
            <a:srgbClr val="f7b705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343400" y="1447920"/>
            <a:ext cx="4267080" cy="533160"/>
          </a:xfrm>
          <a:prstGeom prst="wedgeRoundRectCallout">
            <a:avLst>
              <a:gd name="adj1" fmla="val -80842"/>
              <a:gd name="adj2" fmla="val 27083"/>
              <a:gd name="adj3" fmla="val 16667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 Ope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“/a/b/F”, READ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572000" y="2362320"/>
            <a:ext cx="4267080" cy="1981080"/>
          </a:xfrm>
          <a:prstGeom prst="wedgeRoundRectCallout">
            <a:avLst>
              <a:gd name="adj1" fmla="val -63578"/>
              <a:gd name="adj2" fmla="val -24680"/>
              <a:gd name="adj3" fmla="val 16667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N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N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N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[IN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 = 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Dev.D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IN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rot="20116200">
            <a:off x="2644560" y="5160600"/>
            <a:ext cx="3276360" cy="609480"/>
          </a:xfrm>
          <a:custGeom>
            <a:avLst/>
            <a:gdLst>
              <a:gd name="textAreaLeft" fmla="*/ 573120 w 3276360"/>
              <a:gd name="textAreaRight" fmla="*/ 2375280 w 327636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9" dur="indefinite" restart="never" nodeType="tmRoot">
          <p:childTnLst>
            <p:seq>
              <p:cTn id="1430" dur="indefinite" nodeType="mainSeq">
                <p:childTnLst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1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1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6" dur="500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61" dur="500"/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66" dur="500"/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4" dur="500"/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9" dur="500"/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ile System Stru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76320" y="1676520"/>
            <a:ext cx="4724280" cy="4495680"/>
            <a:chOff x="76320" y="1676520"/>
            <a:chExt cx="4724280" cy="4495680"/>
          </a:xfrm>
        </p:grpSpPr>
        <p:sp>
          <p:nvSpPr>
            <p:cNvPr id="758" name=""/>
            <p:cNvSpPr/>
            <p:nvPr/>
          </p:nvSpPr>
          <p:spPr>
            <a:xfrm>
              <a:off x="723960" y="5029200"/>
              <a:ext cx="3428640" cy="459720"/>
            </a:xfrm>
            <a:prstGeom prst="rect">
              <a:avLst/>
            </a:pr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I/O 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4241880"/>
              <a:ext cx="3657240" cy="459720"/>
            </a:xfrm>
            <a:prstGeom prst="rect">
              <a:avLst/>
            </a:prstGeom>
            <a:solidFill>
              <a:srgbClr val="a9f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asic File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320" y="3454560"/>
              <a:ext cx="4724280" cy="459720"/>
            </a:xfrm>
            <a:prstGeom prst="rect">
              <a:avLst/>
            </a:prstGeom>
            <a:solidFill>
              <a:srgbClr val="f3a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File Organization Mod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2666880"/>
              <a:ext cx="3657240" cy="459720"/>
            </a:xfrm>
            <a:prstGeom prst="rect">
              <a:avLst/>
            </a:prstGeom>
            <a:solidFill>
              <a:srgbClr val="6df1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ogical File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019240" y="5562720"/>
              <a:ext cx="837720" cy="609480"/>
            </a:xfrm>
            <a:prstGeom prst="can">
              <a:avLst>
                <a:gd name="adj" fmla="val 25000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523880" y="1676520"/>
              <a:ext cx="182844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286000" y="3048120"/>
              <a:ext cx="304200" cy="380880"/>
            </a:xfrm>
            <a:prstGeom prst="downArrow">
              <a:avLst>
                <a:gd name="adj1" fmla="val 50000"/>
                <a:gd name="adj2" fmla="val 31302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286000" y="3886200"/>
              <a:ext cx="304200" cy="380880"/>
            </a:xfrm>
            <a:prstGeom prst="downArrow">
              <a:avLst>
                <a:gd name="adj1" fmla="val 50000"/>
                <a:gd name="adj2" fmla="val 31302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286000" y="4672080"/>
              <a:ext cx="304200" cy="380880"/>
            </a:xfrm>
            <a:prstGeom prst="downArrow">
              <a:avLst>
                <a:gd name="adj1" fmla="val 50000"/>
                <a:gd name="adj2" fmla="val 31302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2286000"/>
              <a:ext cx="304200" cy="380880"/>
            </a:xfrm>
            <a:prstGeom prst="downArrow">
              <a:avLst>
                <a:gd name="adj1" fmla="val 50000"/>
                <a:gd name="adj2" fmla="val 31302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286000" y="5486400"/>
              <a:ext cx="304200" cy="380880"/>
            </a:xfrm>
            <a:prstGeom prst="downArrow">
              <a:avLst>
                <a:gd name="adj1" fmla="val 50000"/>
                <a:gd name="adj2" fmla="val 31302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4563360" y="4050720"/>
            <a:ext cx="966960" cy="1191240"/>
          </a:xfrm>
          <a:prstGeom prst="rect">
            <a:avLst/>
          </a:prstGeom>
          <a:solidFill>
            <a:srgbClr val="f7b705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343400" y="1447920"/>
            <a:ext cx="3733920" cy="533160"/>
          </a:xfrm>
          <a:prstGeom prst="wedgeRoundRectCallout">
            <a:avLst>
              <a:gd name="adj1" fmla="val -85245"/>
              <a:gd name="adj2" fmla="val 27083"/>
              <a:gd name="adj3" fmla="val 16667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N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572000" y="2057400"/>
            <a:ext cx="4267080" cy="762120"/>
          </a:xfrm>
          <a:prstGeom prst="wedgeRoundRectCallout">
            <a:avLst>
              <a:gd name="adj1" fmla="val -61865"/>
              <a:gd name="adj2" fmla="val 55833"/>
              <a:gd name="adj3" fmla="val 16667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 whether Read Allowed</a:t>
            </a:r>
            <a:br>
              <a:rPr sz="2000"/>
            </a:b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N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RecordN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572000" y="2971800"/>
            <a:ext cx="3733920" cy="838080"/>
          </a:xfrm>
          <a:prstGeom prst="wedgeRoundRectCallout">
            <a:avLst>
              <a:gd name="adj1" fmla="val -60458"/>
              <a:gd name="adj2" fmla="val 25949"/>
              <a:gd name="adj3" fmla="val 16667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culate BlockNb</a:t>
            </a:r>
            <a:br>
              <a:rPr sz="2000"/>
            </a:b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PartNb, BlockN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343400" y="4038480"/>
            <a:ext cx="3733920" cy="1067040"/>
          </a:xfrm>
          <a:prstGeom prst="wedgeRoundRectCallout">
            <a:avLst>
              <a:gd name="adj1" fmla="val -65861"/>
              <a:gd name="adj2" fmla="val -20685"/>
              <a:gd name="adj3" fmla="val 16667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disk cache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culate Cyl, Track, Sector</a:t>
            </a:r>
            <a:br>
              <a:rPr sz="2000"/>
            </a:b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yl, Track, Sec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038480" y="5486400"/>
            <a:ext cx="3733920" cy="457200"/>
          </a:xfrm>
          <a:prstGeom prst="wedgeRoundRectCallout">
            <a:avLst>
              <a:gd name="adj1" fmla="val -65689"/>
              <a:gd name="adj2" fmla="val -101041"/>
              <a:gd name="adj3" fmla="val 16667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 …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isk Struc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t Control Block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boots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fo for booting an 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artition Control Block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uperbloc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tition Details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# blocks, |block|, # free, ^free, # free FCB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rectories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ile Control Block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inode,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vDir-ent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ile’s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ata Blocks of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9" dur="5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7" dur="500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0" dur="500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5" dur="500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0" dur="500"/>
                                        <p:tgtEl>
                                          <p:spTgt spid="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3" dur="500"/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500"/>
                                        <p:tgtEl>
                                          <p:spTgt spid="7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-Memory File System 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tion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unted Part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rectory 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pen-Fil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py of File Control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er-Process Open-Fil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ome of the data blocks of files/di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5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8" dur="5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3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8" dur="500"/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1" dur="500"/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6" dur="500"/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1" dur="500"/>
                                        <p:tgtEl>
                                          <p:spTgt spid="7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. User Interfa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i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ncept &amp;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il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ile Types &amp; 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ccess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equent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irectory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- or 2-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cyc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ile-System M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ile Sha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irtual File Syste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rcRect l="2783" t="1146" r="2632" b="1654"/>
          <a:stretch/>
        </p:blipFill>
        <p:spPr>
          <a:xfrm>
            <a:off x="1981080" y="1523880"/>
            <a:ext cx="5935680" cy="4575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rectory Implem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 lis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-consuming to sear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h Tabl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eases directory searc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lli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situations where two file names hash to the same 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2" dur="indefinite" restart="never" nodeType="tmRoot">
          <p:childTnLst>
            <p:seq>
              <p:cTn id="1583" dur="indefinite" nodeType="mainSeq">
                <p:childTnLst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8" dur="5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500"/>
                            </p:stCondLst>
                            <p:childTnLst>
                              <p:par>
                                <p:cTn id="15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2" dur="500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7" dur="500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500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5" dur="500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8" dur="500"/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1" dur="500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llocation Metho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ont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Link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ndex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5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ree Space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380880" y="1981080"/>
            <a:ext cx="4262400" cy="3429000"/>
          </a:xfrm>
          <a:prstGeom prst="can">
            <a:avLst>
              <a:gd name="adj" fmla="val 1777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ntiguous Allo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457200" y="2736720"/>
            <a:ext cx="4121280" cy="540000"/>
            <a:chOff x="457200" y="2736720"/>
            <a:chExt cx="4121280" cy="540000"/>
          </a:xfrm>
        </p:grpSpPr>
        <p:sp>
          <p:nvSpPr>
            <p:cNvPr id="788" name=""/>
            <p:cNvSpPr/>
            <p:nvPr/>
          </p:nvSpPr>
          <p:spPr>
            <a:xfrm>
              <a:off x="1054080" y="2736720"/>
              <a:ext cx="53964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650960" y="2736720"/>
              <a:ext cx="53964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247840" y="2736720"/>
              <a:ext cx="53964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844720" y="2736720"/>
              <a:ext cx="54000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41600" y="2736720"/>
              <a:ext cx="540000" cy="540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38480" y="2736720"/>
              <a:ext cx="540000" cy="540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57200" y="2736720"/>
              <a:ext cx="53964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457200" y="3335400"/>
            <a:ext cx="4121280" cy="539640"/>
            <a:chOff x="457200" y="3335400"/>
            <a:chExt cx="4121280" cy="539640"/>
          </a:xfrm>
        </p:grpSpPr>
        <p:sp>
          <p:nvSpPr>
            <p:cNvPr id="796" name=""/>
            <p:cNvSpPr/>
            <p:nvPr/>
          </p:nvSpPr>
          <p:spPr>
            <a:xfrm>
              <a:off x="1054080" y="333540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650960" y="333540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247840" y="333540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44720" y="333540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41600" y="333540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38480" y="333540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57200" y="333540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457200" y="3933720"/>
            <a:ext cx="4121280" cy="541440"/>
            <a:chOff x="457200" y="3933720"/>
            <a:chExt cx="4121280" cy="541440"/>
          </a:xfrm>
        </p:grpSpPr>
        <p:sp>
          <p:nvSpPr>
            <p:cNvPr id="804" name=""/>
            <p:cNvSpPr/>
            <p:nvPr/>
          </p:nvSpPr>
          <p:spPr>
            <a:xfrm>
              <a:off x="1054080" y="393552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650960" y="393552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247840" y="393552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44720" y="393552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441600" y="393552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038480" y="3933720"/>
              <a:ext cx="540000" cy="540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7200" y="3933720"/>
              <a:ext cx="53964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57200" y="4533840"/>
            <a:ext cx="4121280" cy="539640"/>
            <a:chOff x="457200" y="4533840"/>
            <a:chExt cx="4121280" cy="539640"/>
          </a:xfrm>
        </p:grpSpPr>
        <p:sp>
          <p:nvSpPr>
            <p:cNvPr id="812" name=""/>
            <p:cNvSpPr/>
            <p:nvPr/>
          </p:nvSpPr>
          <p:spPr>
            <a:xfrm>
              <a:off x="457200" y="453384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54080" y="453384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650960" y="453384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247840" y="453384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844720" y="453384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441600" y="453384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038480" y="453384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4732200" y="1714680"/>
            <a:ext cx="4283280" cy="2095200"/>
            <a:chOff x="4732200" y="1714680"/>
            <a:chExt cx="4283280" cy="2095200"/>
          </a:xfrm>
        </p:grpSpPr>
        <p:sp>
          <p:nvSpPr>
            <p:cNvPr id="820" name=""/>
            <p:cNvSpPr/>
            <p:nvPr/>
          </p:nvSpPr>
          <p:spPr>
            <a:xfrm>
              <a:off x="4732200" y="1714680"/>
              <a:ext cx="4283280" cy="2095200"/>
            </a:xfrm>
            <a:prstGeom prst="rect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767120" y="1744560"/>
              <a:ext cx="422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523880"/>
                  <a:tab algn="l" pos="2678040"/>
                  <a:tab algn="l" pos="3325680"/>
                  <a:tab algn="l" pos="3738600"/>
                  <a:tab algn="l" pos="4984920"/>
                  <a:tab algn="l" pos="6230880"/>
                  <a:tab algn="l" pos="7477200"/>
                  <a:tab algn="l" pos="8723160"/>
                  <a:tab algn="l" pos="996948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st B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#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3444840" y="2739960"/>
            <a:ext cx="539640" cy="539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038480" y="2743200"/>
            <a:ext cx="540000" cy="539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57200" y="3344760"/>
            <a:ext cx="539640" cy="540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050840" y="3344760"/>
            <a:ext cx="540000" cy="540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038480" y="3344760"/>
            <a:ext cx="540000" cy="540000"/>
          </a:xfrm>
          <a:prstGeom prst="rect">
            <a:avLst/>
          </a:prstGeom>
          <a:solidFill>
            <a:srgbClr val="f7b7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832120" y="3344760"/>
            <a:ext cx="539640" cy="540000"/>
          </a:xfrm>
          <a:prstGeom prst="rect">
            <a:avLst/>
          </a:prstGeom>
          <a:solidFill>
            <a:srgbClr val="f7b7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444840" y="3341520"/>
            <a:ext cx="539640" cy="540000"/>
          </a:xfrm>
          <a:prstGeom prst="rect">
            <a:avLst/>
          </a:prstGeom>
          <a:solidFill>
            <a:srgbClr val="f7b7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60680" y="3930480"/>
            <a:ext cx="539640" cy="54000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254320" y="3930480"/>
            <a:ext cx="539640" cy="54000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835360" y="3930480"/>
            <a:ext cx="539640" cy="54000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444840" y="3930480"/>
            <a:ext cx="539640" cy="54000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767120" y="2273400"/>
            <a:ext cx="4224600" cy="4597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523880"/>
                <a:tab algn="l" pos="2678040"/>
                <a:tab algn="l" pos="33256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ject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  5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5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765680" y="2795760"/>
            <a:ext cx="4224240" cy="459720"/>
          </a:xfrm>
          <a:prstGeom prst="rect">
            <a:avLst/>
          </a:prstGeom>
          <a:solidFill>
            <a:srgbClr val="f7b7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523880"/>
                <a:tab algn="l" pos="2678040"/>
                <a:tab algn="l" pos="33256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cMan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11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767120" y="3316320"/>
            <a:ext cx="4224600" cy="459720"/>
          </a:xfrm>
          <a:prstGeom prst="rect">
            <a:avLst/>
          </a:prstGeom>
          <a:solidFill>
            <a:srgbClr val="a9f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523880"/>
                <a:tab algn="l" pos="2678040"/>
                <a:tab algn="l" pos="33256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dB1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16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058080" y="4800600"/>
            <a:ext cx="2209680" cy="4597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? Project  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058080" y="4800600"/>
            <a:ext cx="2209680" cy="459720"/>
          </a:xfrm>
          <a:prstGeom prst="rect">
            <a:avLst/>
          </a:prstGeom>
          <a:solidFill>
            <a:srgbClr val="f7b7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? Pacman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058080" y="4800600"/>
            <a:ext cx="2209680" cy="459720"/>
          </a:xfrm>
          <a:prstGeom prst="rect">
            <a:avLst/>
          </a:prstGeom>
          <a:solidFill>
            <a:srgbClr val="a9f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? modB1 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2" dur="indefinite" restart="never" nodeType="tmRoot">
          <p:childTnLst>
            <p:seq>
              <p:cTn id="1613" dur="indefinite" nodeType="mainSeq">
                <p:childTnLst>
                  <p:par>
                    <p:cTn id="1614" fill="hold">
                      <p:stCondLst>
                        <p:cond delay="0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500"/>
                            </p:stCondLst>
                            <p:childTnLst>
                              <p:par>
                                <p:cTn id="1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6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8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500"/>
                            </p:stCondLst>
                            <p:childTnLst>
                              <p:par>
                                <p:cTn id="16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500"/>
                            </p:stCondLst>
                            <p:childTnLst>
                              <p:par>
                                <p:cTn id="16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9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380880" y="1981080"/>
            <a:ext cx="4262400" cy="3429000"/>
          </a:xfrm>
          <a:prstGeom prst="can">
            <a:avLst>
              <a:gd name="adj" fmla="val 1777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Linked Allo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457200" y="2736720"/>
            <a:ext cx="4121280" cy="540000"/>
            <a:chOff x="457200" y="2736720"/>
            <a:chExt cx="4121280" cy="540000"/>
          </a:xfrm>
        </p:grpSpPr>
        <p:sp>
          <p:nvSpPr>
            <p:cNvPr id="842" name=""/>
            <p:cNvSpPr/>
            <p:nvPr/>
          </p:nvSpPr>
          <p:spPr>
            <a:xfrm>
              <a:off x="1054080" y="2736720"/>
              <a:ext cx="53964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650960" y="2736720"/>
              <a:ext cx="539640" cy="540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247840" y="2736720"/>
              <a:ext cx="53964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844720" y="2736720"/>
              <a:ext cx="54000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441600" y="2736720"/>
              <a:ext cx="540000" cy="540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038480" y="2736720"/>
              <a:ext cx="540000" cy="540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57200" y="2736720"/>
              <a:ext cx="53964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457200" y="3335400"/>
            <a:ext cx="4121280" cy="539640"/>
            <a:chOff x="457200" y="3335400"/>
            <a:chExt cx="4121280" cy="539640"/>
          </a:xfrm>
        </p:grpSpPr>
        <p:sp>
          <p:nvSpPr>
            <p:cNvPr id="850" name=""/>
            <p:cNvSpPr/>
            <p:nvPr/>
          </p:nvSpPr>
          <p:spPr>
            <a:xfrm>
              <a:off x="1054080" y="333540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650960" y="333540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247840" y="333540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844720" y="333540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41600" y="333540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038480" y="333540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57200" y="333540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457200" y="3933720"/>
            <a:ext cx="4121280" cy="541440"/>
            <a:chOff x="457200" y="3933720"/>
            <a:chExt cx="4121280" cy="541440"/>
          </a:xfrm>
        </p:grpSpPr>
        <p:sp>
          <p:nvSpPr>
            <p:cNvPr id="858" name=""/>
            <p:cNvSpPr/>
            <p:nvPr/>
          </p:nvSpPr>
          <p:spPr>
            <a:xfrm>
              <a:off x="1054080" y="393552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650960" y="393552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247840" y="393552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844720" y="393552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441600" y="3935520"/>
              <a:ext cx="54000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038480" y="3933720"/>
              <a:ext cx="540000" cy="540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57200" y="3933720"/>
              <a:ext cx="53964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457200" y="4533840"/>
            <a:ext cx="4121280" cy="539640"/>
            <a:chOff x="457200" y="4533840"/>
            <a:chExt cx="4121280" cy="539640"/>
          </a:xfrm>
        </p:grpSpPr>
        <p:sp>
          <p:nvSpPr>
            <p:cNvPr id="866" name=""/>
            <p:cNvSpPr/>
            <p:nvPr/>
          </p:nvSpPr>
          <p:spPr>
            <a:xfrm>
              <a:off x="457200" y="453384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054080" y="453384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650960" y="453384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247840" y="453384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844720" y="4533840"/>
              <a:ext cx="54000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41600" y="453384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038480" y="453384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4732200" y="1714680"/>
            <a:ext cx="4283280" cy="2095200"/>
            <a:chOff x="4732200" y="1714680"/>
            <a:chExt cx="4283280" cy="2095200"/>
          </a:xfrm>
        </p:grpSpPr>
        <p:sp>
          <p:nvSpPr>
            <p:cNvPr id="874" name=""/>
            <p:cNvSpPr/>
            <p:nvPr/>
          </p:nvSpPr>
          <p:spPr>
            <a:xfrm>
              <a:off x="4732200" y="1714680"/>
              <a:ext cx="4283280" cy="2095200"/>
            </a:xfrm>
            <a:prstGeom prst="rect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67120" y="1744560"/>
              <a:ext cx="422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523880"/>
                  <a:tab algn="l" pos="2470320"/>
                  <a:tab algn="l" pos="3325680"/>
                  <a:tab algn="l" pos="3738600"/>
                  <a:tab algn="l" pos="4984920"/>
                  <a:tab algn="l" pos="6230880"/>
                  <a:tab algn="l" pos="7477200"/>
                  <a:tab algn="l" pos="8723160"/>
                  <a:tab algn="l" pos="996948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Head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Tail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"/>
          <p:cNvSpPr/>
          <p:nvPr/>
        </p:nvSpPr>
        <p:spPr>
          <a:xfrm>
            <a:off x="3444840" y="2743200"/>
            <a:ext cx="539640" cy="539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046400" y="2743200"/>
            <a:ext cx="540000" cy="539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652760" y="2743200"/>
            <a:ext cx="539640" cy="539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038480" y="3352680"/>
            <a:ext cx="540000" cy="540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444840" y="3344760"/>
            <a:ext cx="539640" cy="540000"/>
          </a:xfrm>
          <a:prstGeom prst="rect">
            <a:avLst/>
          </a:prstGeom>
          <a:solidFill>
            <a:srgbClr val="f7b7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847960" y="3930480"/>
            <a:ext cx="539640" cy="540000"/>
          </a:xfrm>
          <a:prstGeom prst="rect">
            <a:avLst/>
          </a:prstGeom>
          <a:solidFill>
            <a:srgbClr val="f7b7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046400" y="3938760"/>
            <a:ext cx="540000" cy="539640"/>
          </a:xfrm>
          <a:prstGeom prst="rect">
            <a:avLst/>
          </a:prstGeom>
          <a:solidFill>
            <a:srgbClr val="f7b7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862360" y="3328920"/>
            <a:ext cx="539640" cy="53964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652760" y="3938760"/>
            <a:ext cx="539640" cy="53964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058760" y="4532400"/>
            <a:ext cx="540000" cy="53964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246400" y="4540320"/>
            <a:ext cx="539640" cy="53964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767120" y="2273400"/>
            <a:ext cx="4224600" cy="4597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523880"/>
                <a:tab algn="l" pos="2678040"/>
                <a:tab algn="l" pos="33256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ject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  2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5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765680" y="2795760"/>
            <a:ext cx="4224240" cy="459720"/>
          </a:xfrm>
          <a:prstGeom prst="rect">
            <a:avLst/>
          </a:prstGeom>
          <a:solidFill>
            <a:srgbClr val="f7b7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523880"/>
                <a:tab algn="l" pos="2678040"/>
                <a:tab algn="l" pos="33256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cMan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20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8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767120" y="3316320"/>
            <a:ext cx="4224600" cy="459720"/>
          </a:xfrm>
          <a:prstGeom prst="rect">
            <a:avLst/>
          </a:prstGeom>
          <a:solidFill>
            <a:srgbClr val="a9f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523880"/>
                <a:tab algn="l" pos="2678040"/>
                <a:tab algn="l" pos="33256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dB1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11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057400" y="2844720"/>
            <a:ext cx="1371600" cy="355680"/>
          </a:xfrm>
          <a:custGeom>
            <a:avLst/>
            <a:gdLst/>
            <a:ahLst/>
            <a:rect l="l" t="t" r="r" b="b"/>
            <a:pathLst>
              <a:path w="864" h="224">
                <a:moveTo>
                  <a:pt x="0" y="224"/>
                </a:moveTo>
                <a:cubicBezTo>
                  <a:pt x="192" y="144"/>
                  <a:pt x="384" y="64"/>
                  <a:pt x="528" y="32"/>
                </a:cubicBezTo>
                <a:cubicBezTo>
                  <a:pt x="672" y="0"/>
                  <a:pt x="768" y="16"/>
                  <a:pt x="864" y="32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757680" y="2820960"/>
            <a:ext cx="304560" cy="432000"/>
          </a:xfrm>
          <a:custGeom>
            <a:avLst/>
            <a:gdLst/>
            <a:ahLst/>
            <a:rect l="l" t="t" r="r" b="b"/>
            <a:pathLst>
              <a:path w="192" h="224">
                <a:moveTo>
                  <a:pt x="0" y="224"/>
                </a:moveTo>
                <a:cubicBezTo>
                  <a:pt x="32" y="144"/>
                  <a:pt x="64" y="64"/>
                  <a:pt x="96" y="32"/>
                </a:cubicBezTo>
                <a:cubicBezTo>
                  <a:pt x="128" y="0"/>
                  <a:pt x="160" y="16"/>
                  <a:pt x="192" y="32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419720" y="312408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0"/>
                </a:moveTo>
                <a:cubicBezTo>
                  <a:pt x="72" y="8"/>
                  <a:pt x="144" y="16"/>
                  <a:pt x="144" y="48"/>
                </a:cubicBezTo>
                <a:cubicBezTo>
                  <a:pt x="144" y="80"/>
                  <a:pt x="72" y="136"/>
                  <a:pt x="0" y="192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886200" y="3403440"/>
            <a:ext cx="304920" cy="1092240"/>
          </a:xfrm>
          <a:custGeom>
            <a:avLst/>
            <a:gdLst/>
            <a:ahLst/>
            <a:rect l="l" t="t" r="r" b="b"/>
            <a:pathLst>
              <a:path w="168" h="400">
                <a:moveTo>
                  <a:pt x="144" y="400"/>
                </a:moveTo>
                <a:cubicBezTo>
                  <a:pt x="156" y="264"/>
                  <a:pt x="168" y="128"/>
                  <a:pt x="144" y="64"/>
                </a:cubicBezTo>
                <a:cubicBezTo>
                  <a:pt x="120" y="0"/>
                  <a:pt x="60" y="8"/>
                  <a:pt x="0" y="16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429000" y="3809880"/>
            <a:ext cx="254160" cy="304920"/>
          </a:xfrm>
          <a:custGeom>
            <a:avLst/>
            <a:gdLst/>
            <a:ahLst/>
            <a:rect l="l" t="t" r="r" b="b"/>
            <a:pathLst>
              <a:path w="160" h="192">
                <a:moveTo>
                  <a:pt x="96" y="0"/>
                </a:moveTo>
                <a:cubicBezTo>
                  <a:pt x="128" y="32"/>
                  <a:pt x="160" y="64"/>
                  <a:pt x="144" y="96"/>
                </a:cubicBezTo>
                <a:cubicBezTo>
                  <a:pt x="128" y="128"/>
                  <a:pt x="64" y="160"/>
                  <a:pt x="0" y="192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514600" y="3733920"/>
            <a:ext cx="457200" cy="838080"/>
          </a:xfrm>
          <a:custGeom>
            <a:avLst/>
            <a:gdLst/>
            <a:ahLst/>
            <a:rect l="l" t="t" r="r" b="b"/>
            <a:pathLst>
              <a:path w="288" h="528">
                <a:moveTo>
                  <a:pt x="288" y="0"/>
                </a:moveTo>
                <a:cubicBezTo>
                  <a:pt x="216" y="76"/>
                  <a:pt x="144" y="152"/>
                  <a:pt x="96" y="240"/>
                </a:cubicBezTo>
                <a:cubicBezTo>
                  <a:pt x="48" y="328"/>
                  <a:pt x="24" y="428"/>
                  <a:pt x="0" y="52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600200" y="5029200"/>
            <a:ext cx="838080" cy="152280"/>
          </a:xfrm>
          <a:custGeom>
            <a:avLst/>
            <a:gdLst/>
            <a:ahLst/>
            <a:rect l="l" t="t" r="r" b="b"/>
            <a:pathLst>
              <a:path w="528" h="96">
                <a:moveTo>
                  <a:pt x="528" y="0"/>
                </a:moveTo>
                <a:cubicBezTo>
                  <a:pt x="404" y="48"/>
                  <a:pt x="280" y="96"/>
                  <a:pt x="192" y="96"/>
                </a:cubicBezTo>
                <a:cubicBezTo>
                  <a:pt x="104" y="96"/>
                  <a:pt x="52" y="48"/>
                  <a:pt x="0" y="0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041480" y="4114800"/>
            <a:ext cx="711000" cy="914400"/>
          </a:xfrm>
          <a:custGeom>
            <a:avLst/>
            <a:gdLst/>
            <a:ahLst/>
            <a:rect l="l" t="t" r="r" b="b"/>
            <a:pathLst>
              <a:path w="448" h="576">
                <a:moveTo>
                  <a:pt x="64" y="576"/>
                </a:moveTo>
                <a:cubicBezTo>
                  <a:pt x="32" y="432"/>
                  <a:pt x="0" y="288"/>
                  <a:pt x="64" y="192"/>
                </a:cubicBezTo>
                <a:cubicBezTo>
                  <a:pt x="128" y="96"/>
                  <a:pt x="288" y="48"/>
                  <a:pt x="448" y="0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762120" y="1219320"/>
            <a:ext cx="1619280" cy="1403280"/>
            <a:chOff x="762120" y="1219320"/>
            <a:chExt cx="1619280" cy="1403280"/>
          </a:xfrm>
        </p:grpSpPr>
        <p:sp>
          <p:nvSpPr>
            <p:cNvPr id="899" name=""/>
            <p:cNvSpPr/>
            <p:nvPr/>
          </p:nvSpPr>
          <p:spPr>
            <a:xfrm>
              <a:off x="762120" y="1219320"/>
              <a:ext cx="1619280" cy="1403280"/>
            </a:xfrm>
            <a:prstGeom prst="wedgeRoundRectCallout">
              <a:avLst>
                <a:gd name="adj1" fmla="val 8527"/>
                <a:gd name="adj2" fmla="val 73754"/>
                <a:gd name="adj3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941400" y="1284120"/>
              <a:ext cx="1258920" cy="1258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4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950760" y="2198520"/>
              <a:ext cx="1241640" cy="360360"/>
            </a:xfrm>
            <a:prstGeom prst="rect">
              <a:avLst/>
            </a:prstGeom>
            <a:solidFill>
              <a:srgbClr val="f3a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nl-BE" sz="2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4343400" y="4495680"/>
            <a:ext cx="1619280" cy="1403640"/>
            <a:chOff x="4343400" y="4495680"/>
            <a:chExt cx="1619280" cy="1403640"/>
          </a:xfrm>
        </p:grpSpPr>
        <p:sp>
          <p:nvSpPr>
            <p:cNvPr id="903" name=""/>
            <p:cNvSpPr/>
            <p:nvPr/>
          </p:nvSpPr>
          <p:spPr>
            <a:xfrm>
              <a:off x="4343400" y="4495680"/>
              <a:ext cx="1619280" cy="1403640"/>
            </a:xfrm>
            <a:prstGeom prst="wedgeRoundRectCallout">
              <a:avLst>
                <a:gd name="adj1" fmla="val -50907"/>
                <a:gd name="adj2" fmla="val -93750"/>
                <a:gd name="adj3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524480" y="4560840"/>
              <a:ext cx="1258920" cy="1258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48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532400" y="5475240"/>
              <a:ext cx="1241280" cy="360360"/>
            </a:xfrm>
            <a:prstGeom prst="rect">
              <a:avLst/>
            </a:prstGeom>
            <a:solidFill>
              <a:srgbClr val="f3a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nl-BE" sz="2800" spc="-1" strike="noStrike">
                  <a:solidFill>
                    <a:srgbClr val="000000"/>
                  </a:solidFill>
                  <a:latin typeface="Tahoma"/>
                </a:rPr>
                <a:t>ni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2819520" y="1219320"/>
            <a:ext cx="1619280" cy="1403280"/>
            <a:chOff x="2819520" y="1219320"/>
            <a:chExt cx="1619280" cy="1403280"/>
          </a:xfrm>
        </p:grpSpPr>
        <p:sp>
          <p:nvSpPr>
            <p:cNvPr id="907" name=""/>
            <p:cNvSpPr/>
            <p:nvPr/>
          </p:nvSpPr>
          <p:spPr>
            <a:xfrm>
              <a:off x="2819520" y="1219320"/>
              <a:ext cx="1619280" cy="1403280"/>
            </a:xfrm>
            <a:prstGeom prst="wedgeRoundRectCallout">
              <a:avLst>
                <a:gd name="adj1" fmla="val 8527"/>
                <a:gd name="adj2" fmla="val 73754"/>
                <a:gd name="adj3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998800" y="1284120"/>
              <a:ext cx="1258920" cy="1258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4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008160" y="2198520"/>
              <a:ext cx="1241640" cy="360360"/>
            </a:xfrm>
            <a:prstGeom prst="rect">
              <a:avLst/>
            </a:prstGeom>
            <a:solidFill>
              <a:srgbClr val="f3a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nl-BE" sz="2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6553080" y="4952880"/>
            <a:ext cx="2210040" cy="4597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? Project 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553080" y="4952880"/>
            <a:ext cx="2210040" cy="459720"/>
          </a:xfrm>
          <a:prstGeom prst="rect">
            <a:avLst/>
          </a:prstGeom>
          <a:solidFill>
            <a:srgbClr val="f7b7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? PacMan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553080" y="4952880"/>
            <a:ext cx="2210040" cy="459720"/>
          </a:xfrm>
          <a:prstGeom prst="rect">
            <a:avLst/>
          </a:prstGeom>
          <a:solidFill>
            <a:srgbClr val="a9f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? modB1 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500"/>
                            </p:stCondLst>
                            <p:childTnLst>
                              <p:par>
                                <p:cTn id="1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0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4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500"/>
                            </p:stCondLst>
                            <p:childTnLst>
                              <p:par>
                                <p:cTn id="1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8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5" fill="hold">
                            <p:stCondLst>
                              <p:cond delay="500"/>
                            </p:stCondLst>
                            <p:childTnLst>
                              <p:par>
                                <p:cTn id="17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8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8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500"/>
                            </p:stCondLst>
                            <p:childTnLst>
                              <p:par>
                                <p:cTn id="1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5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500"/>
                            </p:stCondLst>
                            <p:childTnLst>
                              <p:par>
                                <p:cTn id="1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0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5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2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8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0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3" name=""/>
          <p:cNvGrpSpPr/>
          <p:nvPr/>
        </p:nvGrpSpPr>
        <p:grpSpPr>
          <a:xfrm>
            <a:off x="1600200" y="2743200"/>
            <a:ext cx="1079640" cy="2886120"/>
            <a:chOff x="1600200" y="2743200"/>
            <a:chExt cx="1079640" cy="2886120"/>
          </a:xfrm>
        </p:grpSpPr>
        <p:sp>
          <p:nvSpPr>
            <p:cNvPr id="914" name=""/>
            <p:cNvSpPr/>
            <p:nvPr/>
          </p:nvSpPr>
          <p:spPr>
            <a:xfrm>
              <a:off x="1600200" y="4540320"/>
              <a:ext cx="1079640" cy="3603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600200" y="3817800"/>
              <a:ext cx="1079640" cy="3603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600200" y="2743200"/>
              <a:ext cx="1079640" cy="36036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600200" y="3095640"/>
              <a:ext cx="1079640" cy="3603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600200" y="3454560"/>
              <a:ext cx="1079640" cy="36036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600200" y="4178160"/>
              <a:ext cx="1079640" cy="36036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600200" y="4902120"/>
              <a:ext cx="1079640" cy="36036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600200" y="5268960"/>
              <a:ext cx="1079640" cy="36036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1600200" y="4532400"/>
            <a:ext cx="1079640" cy="36036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600200" y="3809880"/>
            <a:ext cx="1079640" cy="36036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600200" y="3092400"/>
            <a:ext cx="1079640" cy="36036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791320" y="3124080"/>
            <a:ext cx="1752480" cy="459720"/>
          </a:xfrm>
          <a:prstGeom prst="rect">
            <a:avLst/>
          </a:prstGeom>
          <a:solidFill>
            <a:srgbClr val="a9f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? Help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Linked Allo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AT = File Allocation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ssemble all Pointers in 1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928" name=""/>
          <p:cNvCxnSpPr>
            <a:stCxn id="917" idx="3"/>
            <a:endCxn id="929" idx="3"/>
          </p:cNvCxnSpPr>
          <p:nvPr/>
        </p:nvCxnSpPr>
        <p:spPr>
          <a:xfrm>
            <a:off x="2679840" y="3276720"/>
            <a:ext cx="2160" cy="716400"/>
          </a:xfrm>
          <a:prstGeom prst="bentConnector3">
            <a:avLst>
              <a:gd name="adj1" fmla="val 14400000"/>
            </a:avLst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9" idx="1"/>
            <a:endCxn id="931" idx="1"/>
          </p:cNvCxnSpPr>
          <p:nvPr/>
        </p:nvCxnSpPr>
        <p:spPr>
          <a:xfrm flipH="1" flipV="1" rot="10800000">
            <a:off x="1599840" y="3991320"/>
            <a:ext cx="2160" cy="724680"/>
          </a:xfrm>
          <a:prstGeom prst="bentConnector3">
            <a:avLst>
              <a:gd name="adj1" fmla="val -14400000"/>
            </a:avLst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932" name=""/>
          <p:cNvGrpSpPr/>
          <p:nvPr/>
        </p:nvGrpSpPr>
        <p:grpSpPr>
          <a:xfrm>
            <a:off x="2590920" y="4724280"/>
            <a:ext cx="761400" cy="533520"/>
            <a:chOff x="2590920" y="4724280"/>
            <a:chExt cx="761400" cy="533520"/>
          </a:xfrm>
        </p:grpSpPr>
        <p:grpSp>
          <p:nvGrpSpPr>
            <p:cNvPr id="933" name=""/>
            <p:cNvGrpSpPr/>
            <p:nvPr/>
          </p:nvGrpSpPr>
          <p:grpSpPr>
            <a:xfrm>
              <a:off x="2819160" y="5029200"/>
              <a:ext cx="533160" cy="228600"/>
              <a:chOff x="2819160" y="5029200"/>
              <a:chExt cx="533160" cy="228600"/>
            </a:xfrm>
          </p:grpSpPr>
          <p:sp>
            <p:nvSpPr>
              <p:cNvPr id="934" name=""/>
              <p:cNvSpPr/>
              <p:nvPr/>
            </p:nvSpPr>
            <p:spPr>
              <a:xfrm>
                <a:off x="2819160" y="5029200"/>
                <a:ext cx="533160" cy="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885760" y="5143680"/>
                <a:ext cx="399960" cy="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952360" y="5257800"/>
                <a:ext cx="266760" cy="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2590920" y="4724280"/>
              <a:ext cx="456840" cy="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047760" y="4724280"/>
              <a:ext cx="0" cy="30492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514440" y="2890800"/>
            <a:ext cx="1009440" cy="459720"/>
            <a:chOff x="514440" y="2890800"/>
            <a:chExt cx="1009440" cy="459720"/>
          </a:xfrm>
        </p:grpSpPr>
        <p:sp>
          <p:nvSpPr>
            <p:cNvPr id="940" name=""/>
            <p:cNvSpPr/>
            <p:nvPr/>
          </p:nvSpPr>
          <p:spPr>
            <a:xfrm>
              <a:off x="609480" y="3276720"/>
              <a:ext cx="91440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14440" y="289080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St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"/>
          <p:cNvSpPr/>
          <p:nvPr/>
        </p:nvSpPr>
        <p:spPr>
          <a:xfrm>
            <a:off x="4114800" y="4038480"/>
            <a:ext cx="4800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If kept in RAM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   Direct Acces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liability !?!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    2 x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352680" y="2671920"/>
            <a:ext cx="609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000000"/>
                </a:solidFill>
                <a:latin typeface="Tahoma"/>
              </a:rPr>
              <a:t>23</a:t>
            </a:r>
            <a:br>
              <a:rPr sz="2000"/>
            </a:br>
            <a:r>
              <a:rPr b="0" i="1" lang="nl-BE" sz="2000" spc="-1" strike="noStrike">
                <a:solidFill>
                  <a:srgbClr val="000000"/>
                </a:solidFill>
                <a:latin typeface="Tahoma"/>
              </a:rPr>
              <a:t>24</a:t>
            </a:r>
            <a:br>
              <a:rPr sz="2000"/>
            </a:br>
            <a:r>
              <a:rPr b="0" i="1" lang="nl-BE" sz="2000" spc="-1" strike="noStrike">
                <a:solidFill>
                  <a:srgbClr val="000000"/>
                </a:solidFill>
                <a:latin typeface="Tahoma"/>
              </a:rPr>
              <a:t>25</a:t>
            </a:r>
            <a:br>
              <a:rPr sz="2000"/>
            </a:br>
            <a:r>
              <a:rPr b="0" i="1" lang="nl-BE" sz="2000" spc="-1" strike="noStrike">
                <a:solidFill>
                  <a:srgbClr val="000000"/>
                </a:solidFill>
                <a:latin typeface="Tahoma"/>
              </a:rPr>
              <a:t>26</a:t>
            </a:r>
            <a:br>
              <a:rPr sz="2000"/>
            </a:br>
            <a:r>
              <a:rPr b="0" i="1" lang="nl-BE" sz="2000" spc="-1" strike="noStrike">
                <a:solidFill>
                  <a:srgbClr val="000000"/>
                </a:solidFill>
                <a:latin typeface="Tahoma"/>
              </a:rPr>
              <a:t>27</a:t>
            </a:r>
            <a:br>
              <a:rPr sz="2000"/>
            </a:br>
            <a:r>
              <a:rPr b="0" i="1" lang="nl-BE" sz="2000" spc="-1" strike="noStrike">
                <a:solidFill>
                  <a:srgbClr val="000000"/>
                </a:solidFill>
                <a:latin typeface="Tahoma"/>
              </a:rPr>
              <a:t>28</a:t>
            </a:r>
            <a:br>
              <a:rPr sz="2000"/>
            </a:br>
            <a:r>
              <a:rPr b="0" i="1" lang="nl-BE" sz="2000" spc="-1" strike="noStrike">
                <a:solidFill>
                  <a:srgbClr val="000000"/>
                </a:solidFill>
                <a:latin typeface="Tahoma"/>
              </a:rPr>
              <a:t>29</a:t>
            </a:r>
            <a:br>
              <a:rPr sz="2000"/>
            </a:br>
            <a:r>
              <a:rPr b="0" i="1" lang="nl-BE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4572000" y="2743200"/>
            <a:ext cx="3962520" cy="904320"/>
            <a:chOff x="4572000" y="2743200"/>
            <a:chExt cx="3962520" cy="904320"/>
          </a:xfrm>
        </p:grpSpPr>
        <p:sp>
          <p:nvSpPr>
            <p:cNvPr id="945" name=""/>
            <p:cNvSpPr/>
            <p:nvPr/>
          </p:nvSpPr>
          <p:spPr>
            <a:xfrm>
              <a:off x="4572000" y="2743200"/>
              <a:ext cx="3962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523880"/>
                  <a:tab algn="l" pos="2470320"/>
                  <a:tab algn="l" pos="3325680"/>
                  <a:tab algn="l" pos="3738600"/>
                  <a:tab algn="l" pos="4984920"/>
                  <a:tab algn="l" pos="6230880"/>
                  <a:tab algn="l" pos="7477200"/>
                  <a:tab algn="l" pos="8723160"/>
                  <a:tab algn="l" pos="996948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Start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572000" y="3187800"/>
              <a:ext cx="3962520" cy="459720"/>
            </a:xfrm>
            <a:prstGeom prst="rect">
              <a:avLst/>
            </a:prstGeom>
            <a:solidFill>
              <a:srgbClr val="a9f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523880"/>
                  <a:tab algn="l" pos="2470320"/>
                  <a:tab algn="l" pos="3325680"/>
                  <a:tab algn="l" pos="3738600"/>
                  <a:tab algn="l" pos="4984920"/>
                  <a:tab algn="l" pos="6230880"/>
                  <a:tab algn="l" pos="7477200"/>
                  <a:tab algn="l" pos="8723160"/>
                  <a:tab algn="l" pos="996948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Help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4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356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"/>
          <p:cNvSpPr/>
          <p:nvPr/>
        </p:nvSpPr>
        <p:spPr>
          <a:xfrm>
            <a:off x="1600200" y="3811680"/>
            <a:ext cx="1079640" cy="36036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000000"/>
                </a:solidFill>
                <a:latin typeface="Tahoma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600200" y="4535640"/>
            <a:ext cx="1079640" cy="36036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000000"/>
                </a:solidFill>
                <a:latin typeface="Tahoma"/>
              </a:rPr>
              <a:t>n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600200" y="3092400"/>
            <a:ext cx="1079640" cy="36036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000000"/>
                </a:solidFill>
                <a:latin typeface="Tahoma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512640" y="3652920"/>
            <a:ext cx="1011240" cy="459720"/>
            <a:chOff x="512640" y="3652920"/>
            <a:chExt cx="1011240" cy="459720"/>
          </a:xfrm>
        </p:grpSpPr>
        <p:sp>
          <p:nvSpPr>
            <p:cNvPr id="949" name=""/>
            <p:cNvSpPr/>
            <p:nvPr/>
          </p:nvSpPr>
          <p:spPr>
            <a:xfrm>
              <a:off x="609480" y="4038840"/>
              <a:ext cx="91440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12640" y="3652920"/>
              <a:ext cx="7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513720" y="4338720"/>
            <a:ext cx="1010160" cy="459720"/>
            <a:chOff x="513720" y="4338720"/>
            <a:chExt cx="1010160" cy="459720"/>
          </a:xfrm>
        </p:grpSpPr>
        <p:sp>
          <p:nvSpPr>
            <p:cNvPr id="952" name=""/>
            <p:cNvSpPr/>
            <p:nvPr/>
          </p:nvSpPr>
          <p:spPr>
            <a:xfrm>
              <a:off x="609480" y="4724640"/>
              <a:ext cx="91440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13720" y="4338720"/>
              <a:ext cx="66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3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6" dur="indefinite" restart="never" nodeType="tmRoot">
          <p:childTnLst>
            <p:seq>
              <p:cTn id="1907" dur="indefinite" nodeType="mainSeq">
                <p:childTnLst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2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3" fill="hold">
                            <p:stCondLst>
                              <p:cond delay="500"/>
                            </p:stCondLst>
                            <p:childTnLst>
                              <p:par>
                                <p:cTn id="19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1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500"/>
                            </p:stCondLst>
                            <p:childTnLst>
                              <p:par>
                                <p:cTn id="19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3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8" fill="hold">
                            <p:stCondLst>
                              <p:cond delay="500"/>
                            </p:stCondLst>
                            <p:childTnLst>
                              <p:par>
                                <p:cTn id="19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fill="hold">
                            <p:stCondLst>
                              <p:cond delay="500"/>
                            </p:stCondLst>
                            <p:childTnLst>
                              <p:par>
                                <p:cTn id="19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8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500"/>
                            </p:stCondLst>
                            <p:childTnLst>
                              <p:par>
                                <p:cTn id="19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500"/>
                            </p:stCondLst>
                            <p:childTnLst>
                              <p:par>
                                <p:cTn id="1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4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fill="hold">
                            <p:stCondLst>
                              <p:cond delay="500"/>
                            </p:stCondLst>
                            <p:childTnLst>
                              <p:par>
                                <p:cTn id="19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4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500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9" dur="500"/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380880" y="1981080"/>
            <a:ext cx="4262400" cy="3429000"/>
          </a:xfrm>
          <a:prstGeom prst="can">
            <a:avLst>
              <a:gd name="adj" fmla="val 1777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Indexed Allo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457200" y="2736720"/>
            <a:ext cx="4121280" cy="540000"/>
            <a:chOff x="457200" y="2736720"/>
            <a:chExt cx="4121280" cy="540000"/>
          </a:xfrm>
        </p:grpSpPr>
        <p:sp>
          <p:nvSpPr>
            <p:cNvPr id="957" name=""/>
            <p:cNvSpPr/>
            <p:nvPr/>
          </p:nvSpPr>
          <p:spPr>
            <a:xfrm>
              <a:off x="1054080" y="2736720"/>
              <a:ext cx="53964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650960" y="2736720"/>
              <a:ext cx="539640" cy="540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247840" y="2736720"/>
              <a:ext cx="53964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44720" y="2736720"/>
              <a:ext cx="54000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441600" y="2736720"/>
              <a:ext cx="540000" cy="540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038480" y="2736720"/>
              <a:ext cx="540000" cy="540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57200" y="2736720"/>
              <a:ext cx="53964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457200" y="3335400"/>
            <a:ext cx="4121280" cy="539640"/>
            <a:chOff x="457200" y="3335400"/>
            <a:chExt cx="4121280" cy="539640"/>
          </a:xfrm>
        </p:grpSpPr>
        <p:sp>
          <p:nvSpPr>
            <p:cNvPr id="965" name=""/>
            <p:cNvSpPr/>
            <p:nvPr/>
          </p:nvSpPr>
          <p:spPr>
            <a:xfrm>
              <a:off x="1054080" y="333540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650960" y="333540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47840" y="333540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844720" y="333540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441600" y="333540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038480" y="333540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57200" y="333540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457200" y="3933720"/>
            <a:ext cx="4121280" cy="541440"/>
            <a:chOff x="457200" y="3933720"/>
            <a:chExt cx="4121280" cy="541440"/>
          </a:xfrm>
        </p:grpSpPr>
        <p:sp>
          <p:nvSpPr>
            <p:cNvPr id="973" name=""/>
            <p:cNvSpPr/>
            <p:nvPr/>
          </p:nvSpPr>
          <p:spPr>
            <a:xfrm>
              <a:off x="1054080" y="393552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650960" y="393552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247840" y="393552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844720" y="393552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441600" y="3935520"/>
              <a:ext cx="54000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038480" y="3933720"/>
              <a:ext cx="540000" cy="540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57200" y="3933720"/>
              <a:ext cx="53964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457200" y="4533840"/>
            <a:ext cx="4121280" cy="539640"/>
            <a:chOff x="457200" y="4533840"/>
            <a:chExt cx="4121280" cy="539640"/>
          </a:xfrm>
        </p:grpSpPr>
        <p:sp>
          <p:nvSpPr>
            <p:cNvPr id="981" name=""/>
            <p:cNvSpPr/>
            <p:nvPr/>
          </p:nvSpPr>
          <p:spPr>
            <a:xfrm>
              <a:off x="457200" y="453384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054080" y="453384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650960" y="453384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247840" y="453384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844720" y="4533840"/>
              <a:ext cx="54000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441600" y="453384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038480" y="453384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4732200" y="1714680"/>
            <a:ext cx="4283280" cy="2095200"/>
            <a:chOff x="4732200" y="1714680"/>
            <a:chExt cx="4283280" cy="2095200"/>
          </a:xfrm>
        </p:grpSpPr>
        <p:sp>
          <p:nvSpPr>
            <p:cNvPr id="989" name=""/>
            <p:cNvSpPr/>
            <p:nvPr/>
          </p:nvSpPr>
          <p:spPr>
            <a:xfrm>
              <a:off x="4732200" y="1714680"/>
              <a:ext cx="4283280" cy="2095200"/>
            </a:xfrm>
            <a:prstGeom prst="rect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767120" y="1744560"/>
              <a:ext cx="422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523880"/>
                  <a:tab algn="l" pos="2470320"/>
                  <a:tab algn="l" pos="2678040"/>
                  <a:tab algn="l" pos="3738600"/>
                  <a:tab algn="l" pos="4984920"/>
                  <a:tab algn="l" pos="6230880"/>
                  <a:tab algn="l" pos="7477200"/>
                  <a:tab algn="l" pos="8723160"/>
                  <a:tab algn="l" pos="996948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Index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3444840" y="2743200"/>
            <a:ext cx="539640" cy="539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046400" y="2743200"/>
            <a:ext cx="540000" cy="539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066680" y="3352680"/>
            <a:ext cx="540000" cy="540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038480" y="3352680"/>
            <a:ext cx="540000" cy="540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444840" y="3344760"/>
            <a:ext cx="539640" cy="540000"/>
          </a:xfrm>
          <a:prstGeom prst="rect">
            <a:avLst/>
          </a:prstGeom>
          <a:solidFill>
            <a:srgbClr val="f7b7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847960" y="3930480"/>
            <a:ext cx="539640" cy="540000"/>
          </a:xfrm>
          <a:prstGeom prst="rect">
            <a:avLst/>
          </a:prstGeom>
          <a:solidFill>
            <a:srgbClr val="f7b7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046400" y="3938760"/>
            <a:ext cx="540000" cy="539640"/>
          </a:xfrm>
          <a:prstGeom prst="rect">
            <a:avLst/>
          </a:prstGeom>
          <a:solidFill>
            <a:srgbClr val="f7b7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862360" y="3328920"/>
            <a:ext cx="539640" cy="53964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652760" y="3938760"/>
            <a:ext cx="539640" cy="53964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058760" y="4532400"/>
            <a:ext cx="540000" cy="53964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246400" y="4540320"/>
            <a:ext cx="539640" cy="53964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767120" y="2273400"/>
            <a:ext cx="4224600" cy="4597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523880"/>
                <a:tab algn="l" pos="2678040"/>
                <a:tab algn="l" pos="33256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ject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  2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5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765680" y="2795760"/>
            <a:ext cx="4224240" cy="459720"/>
          </a:xfrm>
          <a:prstGeom prst="rect">
            <a:avLst/>
          </a:prstGeom>
          <a:solidFill>
            <a:srgbClr val="f7b7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523880"/>
                <a:tab algn="l" pos="2678040"/>
                <a:tab algn="l" pos="33256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cMan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26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767120" y="3316320"/>
            <a:ext cx="4224600" cy="459720"/>
          </a:xfrm>
          <a:prstGeom prst="rect">
            <a:avLst/>
          </a:prstGeom>
          <a:solidFill>
            <a:srgbClr val="a9f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523880"/>
                <a:tab algn="l" pos="2678040"/>
                <a:tab algn="l" pos="33256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dB1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  9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676520" y="2743200"/>
            <a:ext cx="539640" cy="53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981080" y="2666880"/>
            <a:ext cx="1524240" cy="152640"/>
          </a:xfrm>
          <a:custGeom>
            <a:avLst/>
            <a:gdLst/>
            <a:ahLst/>
            <a:rect l="l" t="t" r="r" b="b"/>
            <a:pathLst>
              <a:path w="960" h="96">
                <a:moveTo>
                  <a:pt x="0" y="96"/>
                </a:moveTo>
                <a:cubicBezTo>
                  <a:pt x="280" y="48"/>
                  <a:pt x="560" y="0"/>
                  <a:pt x="720" y="0"/>
                </a:cubicBezTo>
                <a:cubicBezTo>
                  <a:pt x="880" y="0"/>
                  <a:pt x="920" y="48"/>
                  <a:pt x="960" y="96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057400" y="2895480"/>
            <a:ext cx="1981080" cy="88920"/>
          </a:xfrm>
          <a:custGeom>
            <a:avLst/>
            <a:gdLst/>
            <a:ahLst/>
            <a:rect l="l" t="t" r="r" b="b"/>
            <a:pathLst>
              <a:path w="1200" h="56">
                <a:moveTo>
                  <a:pt x="0" y="56"/>
                </a:moveTo>
                <a:cubicBezTo>
                  <a:pt x="44" y="36"/>
                  <a:pt x="88" y="16"/>
                  <a:pt x="288" y="8"/>
                </a:cubicBezTo>
                <a:cubicBezTo>
                  <a:pt x="488" y="0"/>
                  <a:pt x="844" y="4"/>
                  <a:pt x="1200" y="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057400" y="3200400"/>
            <a:ext cx="1981080" cy="304920"/>
          </a:xfrm>
          <a:custGeom>
            <a:avLst/>
            <a:gdLst/>
            <a:ahLst/>
            <a:rect l="l" t="t" r="r" b="b"/>
            <a:pathLst>
              <a:path w="1248" h="192">
                <a:moveTo>
                  <a:pt x="0" y="0"/>
                </a:moveTo>
                <a:cubicBezTo>
                  <a:pt x="256" y="8"/>
                  <a:pt x="512" y="16"/>
                  <a:pt x="720" y="48"/>
                </a:cubicBezTo>
                <a:cubicBezTo>
                  <a:pt x="928" y="80"/>
                  <a:pt x="1088" y="136"/>
                  <a:pt x="1248" y="192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295280" y="3048120"/>
            <a:ext cx="609840" cy="30456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384" y="0"/>
                </a:moveTo>
                <a:cubicBezTo>
                  <a:pt x="272" y="0"/>
                  <a:pt x="160" y="0"/>
                  <a:pt x="96" y="48"/>
                </a:cubicBezTo>
                <a:cubicBezTo>
                  <a:pt x="32" y="96"/>
                  <a:pt x="16" y="192"/>
                  <a:pt x="0" y="28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660680" y="3344760"/>
            <a:ext cx="539640" cy="5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452760" y="4538520"/>
            <a:ext cx="539640" cy="540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133720" y="3505320"/>
            <a:ext cx="685800" cy="1440"/>
          </a:xfrm>
          <a:custGeom>
            <a:avLst/>
            <a:gdLst/>
            <a:ahLst/>
            <a:rect l="l" t="t" r="r" b="b"/>
            <a:pathLst>
              <a:path w="432" h="1">
                <a:moveTo>
                  <a:pt x="0" y="0"/>
                </a:moveTo>
                <a:cubicBezTo>
                  <a:pt x="84" y="0"/>
                  <a:pt x="168" y="0"/>
                  <a:pt x="240" y="0"/>
                </a:cubicBezTo>
                <a:cubicBezTo>
                  <a:pt x="312" y="0"/>
                  <a:pt x="400" y="0"/>
                  <a:pt x="432" y="0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143000" y="3657600"/>
            <a:ext cx="609480" cy="83808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456" y="0"/>
                </a:moveTo>
                <a:cubicBezTo>
                  <a:pt x="300" y="124"/>
                  <a:pt x="144" y="248"/>
                  <a:pt x="72" y="336"/>
                </a:cubicBezTo>
                <a:cubicBezTo>
                  <a:pt x="0" y="424"/>
                  <a:pt x="12" y="476"/>
                  <a:pt x="24" y="52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057400" y="3594240"/>
            <a:ext cx="609480" cy="901440"/>
          </a:xfrm>
          <a:custGeom>
            <a:avLst/>
            <a:gdLst/>
            <a:ahLst/>
            <a:rect l="l" t="t" r="r" b="b"/>
            <a:pathLst>
              <a:path w="384" h="568">
                <a:moveTo>
                  <a:pt x="0" y="40"/>
                </a:moveTo>
                <a:cubicBezTo>
                  <a:pt x="88" y="20"/>
                  <a:pt x="176" y="0"/>
                  <a:pt x="240" y="88"/>
                </a:cubicBezTo>
                <a:cubicBezTo>
                  <a:pt x="304" y="176"/>
                  <a:pt x="344" y="372"/>
                  <a:pt x="384" y="56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981080" y="3784680"/>
            <a:ext cx="470160" cy="330120"/>
          </a:xfrm>
          <a:custGeom>
            <a:avLst/>
            <a:gdLst/>
            <a:ahLst/>
            <a:rect l="l" t="t" r="r" b="b"/>
            <a:pathLst>
              <a:path w="296" h="208">
                <a:moveTo>
                  <a:pt x="0" y="16"/>
                </a:moveTo>
                <a:cubicBezTo>
                  <a:pt x="72" y="8"/>
                  <a:pt x="144" y="0"/>
                  <a:pt x="192" y="16"/>
                </a:cubicBezTo>
                <a:cubicBezTo>
                  <a:pt x="240" y="32"/>
                  <a:pt x="296" y="80"/>
                  <a:pt x="288" y="112"/>
                </a:cubicBezTo>
                <a:cubicBezTo>
                  <a:pt x="280" y="144"/>
                  <a:pt x="212" y="176"/>
                  <a:pt x="144" y="20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276720" y="4038480"/>
            <a:ext cx="380880" cy="68580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192" y="384"/>
                </a:moveTo>
                <a:cubicBezTo>
                  <a:pt x="184" y="272"/>
                  <a:pt x="176" y="160"/>
                  <a:pt x="144" y="96"/>
                </a:cubicBezTo>
                <a:cubicBezTo>
                  <a:pt x="112" y="32"/>
                  <a:pt x="56" y="16"/>
                  <a:pt x="0" y="0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632040" y="3886200"/>
            <a:ext cx="177840" cy="762120"/>
          </a:xfrm>
          <a:custGeom>
            <a:avLst/>
            <a:gdLst/>
            <a:ahLst/>
            <a:rect l="l" t="t" r="r" b="b"/>
            <a:pathLst>
              <a:path w="112" h="480">
                <a:moveTo>
                  <a:pt x="112" y="480"/>
                </a:moveTo>
                <a:cubicBezTo>
                  <a:pt x="72" y="352"/>
                  <a:pt x="32" y="224"/>
                  <a:pt x="16" y="144"/>
                </a:cubicBezTo>
                <a:cubicBezTo>
                  <a:pt x="0" y="64"/>
                  <a:pt x="8" y="32"/>
                  <a:pt x="16" y="0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860640" y="4114800"/>
            <a:ext cx="177840" cy="762120"/>
          </a:xfrm>
          <a:custGeom>
            <a:avLst/>
            <a:gdLst/>
            <a:ahLst/>
            <a:rect l="l" t="t" r="r" b="b"/>
            <a:pathLst>
              <a:path w="112" h="480">
                <a:moveTo>
                  <a:pt x="16" y="480"/>
                </a:moveTo>
                <a:cubicBezTo>
                  <a:pt x="8" y="328"/>
                  <a:pt x="0" y="176"/>
                  <a:pt x="16" y="96"/>
                </a:cubicBezTo>
                <a:cubicBezTo>
                  <a:pt x="32" y="16"/>
                  <a:pt x="72" y="8"/>
                  <a:pt x="112" y="0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4419720" y="3962520"/>
            <a:ext cx="2666880" cy="1981080"/>
            <a:chOff x="4419720" y="3962520"/>
            <a:chExt cx="2666880" cy="1981080"/>
          </a:xfrm>
        </p:grpSpPr>
        <p:sp>
          <p:nvSpPr>
            <p:cNvPr id="1020" name=""/>
            <p:cNvSpPr/>
            <p:nvPr/>
          </p:nvSpPr>
          <p:spPr>
            <a:xfrm>
              <a:off x="4419720" y="3962520"/>
              <a:ext cx="2666880" cy="1981080"/>
            </a:xfrm>
            <a:prstGeom prst="wedgeRoundRectCallout">
              <a:avLst>
                <a:gd name="adj1" fmla="val -71666"/>
                <a:gd name="adj2" fmla="val -319"/>
                <a:gd name="adj3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959360" y="4038480"/>
              <a:ext cx="1800360" cy="180036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4800" spc="-1" strike="noStrike">
                  <a:solidFill>
                    <a:srgbClr val="000000"/>
                  </a:solidFill>
                  <a:latin typeface="Tahoma"/>
                </a:rPr>
                <a:t>2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2" name=""/>
          <p:cNvSpPr/>
          <p:nvPr/>
        </p:nvSpPr>
        <p:spPr>
          <a:xfrm>
            <a:off x="4968720" y="5119560"/>
            <a:ext cx="1781280" cy="36036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n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968720" y="4398840"/>
            <a:ext cx="1781280" cy="36036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968720" y="4038480"/>
            <a:ext cx="1781280" cy="36036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968720" y="4759200"/>
            <a:ext cx="1781280" cy="36036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968720" y="5478480"/>
            <a:ext cx="1781280" cy="36036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n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905120" y="5597640"/>
            <a:ext cx="2209680" cy="4597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? Project 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905120" y="5597640"/>
            <a:ext cx="2209680" cy="459720"/>
          </a:xfrm>
          <a:prstGeom prst="rect">
            <a:avLst/>
          </a:prstGeom>
          <a:solidFill>
            <a:srgbClr val="f7b7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? PacMan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905120" y="5597640"/>
            <a:ext cx="2209680" cy="459720"/>
          </a:xfrm>
          <a:prstGeom prst="rect">
            <a:avLst/>
          </a:prstGeom>
          <a:solidFill>
            <a:srgbClr val="a9f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? modB1 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0" dur="indefinite" restart="never" nodeType="tmRoot">
          <p:childTnLst>
            <p:seq>
              <p:cTn id="2001" dur="indefinite" nodeType="mainSeq">
                <p:childTnLst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6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0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4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8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2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6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7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3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0" fill="hold">
                            <p:stCondLst>
                              <p:cond delay="500"/>
                            </p:stCondLst>
                            <p:childTnLst>
                              <p:par>
                                <p:cTn id="20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3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8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fill="hold">
                            <p:stCondLst>
                              <p:cond delay="500"/>
                            </p:stCondLst>
                            <p:childTnLst>
                              <p:par>
                                <p:cTn id="20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3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0" fill="hold">
                            <p:stCondLst>
                              <p:cond delay="500"/>
                            </p:stCondLst>
                            <p:childTnLst>
                              <p:par>
                                <p:cTn id="20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3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0" fill="hold">
                            <p:stCondLst>
                              <p:cond delay="500"/>
                            </p:stCondLst>
                            <p:childTnLst>
                              <p:par>
                                <p:cTn id="20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3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8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4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0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5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9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4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500"/>
                            </p:stCondLst>
                            <p:childTnLst>
                              <p:par>
                                <p:cTn id="2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9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0" fill="hold">
                            <p:stCondLst>
                              <p:cond delay="500"/>
                            </p:stCondLst>
                            <p:childTnLst>
                              <p:par>
                                <p:cTn id="2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3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7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1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5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0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2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fill="hold">
                      <p:stCondLst>
                        <p:cond delay="indefinite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8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500"/>
                            </p:stCondLst>
                            <p:childTnLst>
                              <p:par>
                                <p:cTn id="2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3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0" fill="hold">
                            <p:stCondLst>
                              <p:cond delay="500"/>
                            </p:stCondLst>
                            <p:childTnLst>
                              <p:par>
                                <p:cTn id="2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3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fill="hold">
                      <p:stCondLst>
                        <p:cond delay="indefinite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3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fill="hold">
                      <p:stCondLst>
                        <p:cond delay="indefinite"/>
                      </p:stCondLst>
                      <p:childTnLst>
                        <p:par>
                          <p:cTn id="2205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3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Indexed Allo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tructure of Index Bl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link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ulti-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ombined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"/>
          <p:cNvSpPr/>
          <p:nvPr/>
        </p:nvSpPr>
        <p:spPr>
          <a:xfrm>
            <a:off x="5791320" y="4343400"/>
            <a:ext cx="4572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477120" y="4343400"/>
            <a:ext cx="4572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162920" y="4343400"/>
            <a:ext cx="4572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105520" y="4952880"/>
            <a:ext cx="4572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791320" y="4952880"/>
            <a:ext cx="457200" cy="381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791320" y="5486400"/>
            <a:ext cx="4572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924680" y="4038480"/>
            <a:ext cx="457200" cy="38124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477120" y="4876920"/>
            <a:ext cx="457200" cy="38088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477120" y="5486400"/>
            <a:ext cx="457200" cy="38088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095880" y="4343400"/>
            <a:ext cx="457200" cy="343080"/>
          </a:xfrm>
          <a:custGeom>
            <a:avLst/>
            <a:gdLst/>
            <a:ahLst/>
            <a:rect l="l" t="t" r="r" b="b"/>
            <a:pathLst>
              <a:path w="288" h="216">
                <a:moveTo>
                  <a:pt x="0" y="192"/>
                </a:moveTo>
                <a:cubicBezTo>
                  <a:pt x="60" y="204"/>
                  <a:pt x="120" y="216"/>
                  <a:pt x="144" y="192"/>
                </a:cubicBezTo>
                <a:cubicBezTo>
                  <a:pt x="168" y="168"/>
                  <a:pt x="120" y="80"/>
                  <a:pt x="144" y="48"/>
                </a:cubicBezTo>
                <a:cubicBezTo>
                  <a:pt x="168" y="16"/>
                  <a:pt x="228" y="8"/>
                  <a:pt x="288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781680" y="4343400"/>
            <a:ext cx="457200" cy="343080"/>
          </a:xfrm>
          <a:custGeom>
            <a:avLst/>
            <a:gdLst/>
            <a:ahLst/>
            <a:rect l="l" t="t" r="r" b="b"/>
            <a:pathLst>
              <a:path w="288" h="216">
                <a:moveTo>
                  <a:pt x="0" y="192"/>
                </a:moveTo>
                <a:cubicBezTo>
                  <a:pt x="60" y="204"/>
                  <a:pt x="120" y="216"/>
                  <a:pt x="144" y="192"/>
                </a:cubicBezTo>
                <a:cubicBezTo>
                  <a:pt x="168" y="168"/>
                  <a:pt x="120" y="80"/>
                  <a:pt x="144" y="48"/>
                </a:cubicBezTo>
                <a:cubicBezTo>
                  <a:pt x="168" y="16"/>
                  <a:pt x="228" y="8"/>
                  <a:pt x="288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5486400" y="5029200"/>
            <a:ext cx="304920" cy="763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410080" y="5181480"/>
            <a:ext cx="38124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6172200" y="4876920"/>
            <a:ext cx="380880" cy="3045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6172200" y="5486040"/>
            <a:ext cx="304920" cy="2286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7467480" y="4038120"/>
            <a:ext cx="457200" cy="3812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086600" y="3809880"/>
            <a:ext cx="457200" cy="38124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6705720" y="3809520"/>
            <a:ext cx="380880" cy="6858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24480" y="3733920"/>
            <a:ext cx="457200" cy="38088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5943600" y="3733560"/>
            <a:ext cx="380880" cy="6858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4" dur="indefinite" restart="never" nodeType="tmRoot">
          <p:childTnLst>
            <p:seq>
              <p:cTn id="2215" dur="indefinite" nodeType="mainSeq">
                <p:childTnLst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0" dur="5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3" dur="500"/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6" dur="500"/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9" dur="500"/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4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8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4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9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2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4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Indexed Allo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xample Un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"/>
          <p:cNvSpPr/>
          <p:nvPr/>
        </p:nvSpPr>
        <p:spPr>
          <a:xfrm>
            <a:off x="1219320" y="2057400"/>
            <a:ext cx="281916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od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wner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group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imes … (3)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iz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#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219320" y="3986280"/>
            <a:ext cx="2819160" cy="86256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irect block (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219320" y="4848120"/>
            <a:ext cx="2819160" cy="39888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Indirect  (= Inde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219320" y="5257800"/>
            <a:ext cx="2819160" cy="398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ouble Indi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219320" y="5686560"/>
            <a:ext cx="2819160" cy="398880"/>
          </a:xfrm>
          <a:prstGeom prst="rect">
            <a:avLst/>
          </a:prstGeom>
          <a:solidFill>
            <a:srgbClr val="6df1e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riple Indi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343400" y="3581280"/>
            <a:ext cx="1066680" cy="6098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495680" y="3733920"/>
            <a:ext cx="106704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648320" y="3886200"/>
            <a:ext cx="106668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495680" y="4648320"/>
            <a:ext cx="106704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43600" y="4267080"/>
            <a:ext cx="1066680" cy="6098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095880" y="4419720"/>
            <a:ext cx="106704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248520" y="4572000"/>
            <a:ext cx="106668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495680" y="5410080"/>
            <a:ext cx="1067040" cy="6098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29360" y="5410080"/>
            <a:ext cx="1066680" cy="6098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500960" y="4952880"/>
            <a:ext cx="1066680" cy="6098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53240" y="5105520"/>
            <a:ext cx="106704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772400" y="5257800"/>
            <a:ext cx="106668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3886200" y="3733920"/>
            <a:ext cx="45720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V="1">
            <a:off x="3886200" y="3962520"/>
            <a:ext cx="60948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3886200" y="4191120"/>
            <a:ext cx="76212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3886200" y="4876560"/>
            <a:ext cx="609480" cy="2286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5486400" y="4267080"/>
            <a:ext cx="45720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5486400" y="4495680"/>
            <a:ext cx="60948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5486400" y="4724280"/>
            <a:ext cx="76212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886200" y="5486400"/>
            <a:ext cx="609480" cy="763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5519880" y="5562360"/>
            <a:ext cx="609480" cy="2286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7043760" y="5105520"/>
            <a:ext cx="45720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7043760" y="5334120"/>
            <a:ext cx="60948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7043760" y="5562720"/>
            <a:ext cx="76212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181480" y="1676520"/>
            <a:ext cx="3353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Block = 4 k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isk Address = 4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2860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279f"/>
                </a:solidFill>
                <a:latin typeface="Tahoma"/>
              </a:rPr>
              <a:t>48 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6320" y="4876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279f"/>
                </a:solidFill>
                <a:latin typeface="Tahoma"/>
              </a:rPr>
              <a:t>+ 4 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6320" y="5334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279f"/>
                </a:solidFill>
                <a:latin typeface="Tahoma"/>
              </a:rPr>
              <a:t>+ 4 G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632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279f"/>
                </a:solidFill>
                <a:latin typeface="Tahoma"/>
              </a:rPr>
              <a:t>+ 4 T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5" dur="indefinite" restart="never" nodeType="tmRoot">
          <p:childTnLst>
            <p:seq>
              <p:cTn id="2316" dur="indefinite" nodeType="mainSeq">
                <p:childTnLst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5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7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1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2" fill="hold">
                            <p:stCondLst>
                              <p:cond delay="500"/>
                            </p:stCondLst>
                            <p:childTnLst>
                              <p:par>
                                <p:cTn id="2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9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7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5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9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fill="hold">
                            <p:stCondLst>
                              <p:cond delay="500"/>
                            </p:stCondLst>
                            <p:childTnLst>
                              <p:par>
                                <p:cTn id="2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7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5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3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7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1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2" fill="hold">
                            <p:stCondLst>
                              <p:cond delay="4500"/>
                            </p:stCondLst>
                            <p:childTnLst>
                              <p:par>
                                <p:cTn id="2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5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fill="hold">
                      <p:stCondLst>
                        <p:cond delay="indefinite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50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55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60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65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ree Space Manage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Bit Vec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1 bit / block  (1 = free, 0 = allocat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K if kept in mem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Linked 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n blocks needed, n read-operati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+ Counting     (first block, # bloc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6" dur="indefinite" restart="never" nodeType="tmRoot">
          <p:childTnLst>
            <p:seq>
              <p:cTn id="2467" dur="indefinite" nodeType="mainSeq">
                <p:childTnLst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2" dur="500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5" dur="500"/>
                                        <p:tgtEl>
                                          <p:spTgt spid="10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8" dur="500"/>
                                        <p:tgtEl>
                                          <p:spTgt spid="10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3" dur="500"/>
                                        <p:tgtEl>
                                          <p:spTgt spid="10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6" dur="500"/>
                                        <p:tgtEl>
                                          <p:spTgt spid="10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fill="hold">
                      <p:stCondLst>
                        <p:cond delay="indefinite"/>
                      </p:stCondLst>
                      <p:childTnLst>
                        <p:par>
                          <p:cTn id="2488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1" dur="500"/>
                                        <p:tgtEl>
                                          <p:spTgt spid="10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4" dur="500"/>
                                        <p:tgtEl>
                                          <p:spTgt spid="10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ile Concep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Logical” View of Information Sto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ile = named collection of related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ext, Binary Data, Executable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ile Attrib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Name  (Symboli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ime&amp;date of last use, modification, cre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 rot="1810800">
            <a:off x="4266000" y="4343040"/>
            <a:ext cx="41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Kept in File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29400" y="3048120"/>
            <a:ext cx="1219320" cy="144756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0" y="3581280"/>
            <a:ext cx="609480" cy="45720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172200" y="3733920"/>
            <a:ext cx="83808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Grouping and Coun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"/>
          <p:cNvSpPr/>
          <p:nvPr/>
        </p:nvSpPr>
        <p:spPr>
          <a:xfrm>
            <a:off x="380880" y="2514600"/>
            <a:ext cx="4262400" cy="3429000"/>
          </a:xfrm>
          <a:prstGeom prst="can">
            <a:avLst>
              <a:gd name="adj" fmla="val 1777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457200" y="3270240"/>
            <a:ext cx="4121280" cy="539640"/>
            <a:chOff x="457200" y="3270240"/>
            <a:chExt cx="4121280" cy="539640"/>
          </a:xfrm>
        </p:grpSpPr>
        <p:sp>
          <p:nvSpPr>
            <p:cNvPr id="1093" name=""/>
            <p:cNvSpPr/>
            <p:nvPr/>
          </p:nvSpPr>
          <p:spPr>
            <a:xfrm>
              <a:off x="1054080" y="327024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650960" y="327024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47840" y="327024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844720" y="3270240"/>
              <a:ext cx="54000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41600" y="327024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038480" y="327024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57200" y="327024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457200" y="3868560"/>
            <a:ext cx="4121280" cy="539640"/>
            <a:chOff x="457200" y="3868560"/>
            <a:chExt cx="4121280" cy="539640"/>
          </a:xfrm>
        </p:grpSpPr>
        <p:sp>
          <p:nvSpPr>
            <p:cNvPr id="1101" name=""/>
            <p:cNvSpPr/>
            <p:nvPr/>
          </p:nvSpPr>
          <p:spPr>
            <a:xfrm>
              <a:off x="1054080" y="386856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650960" y="386856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247840" y="386856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844720" y="386856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441600" y="386856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038480" y="386856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57200" y="386856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57200" y="4467240"/>
            <a:ext cx="4121280" cy="541440"/>
            <a:chOff x="457200" y="4467240"/>
            <a:chExt cx="4121280" cy="541440"/>
          </a:xfrm>
        </p:grpSpPr>
        <p:sp>
          <p:nvSpPr>
            <p:cNvPr id="1109" name=""/>
            <p:cNvSpPr/>
            <p:nvPr/>
          </p:nvSpPr>
          <p:spPr>
            <a:xfrm>
              <a:off x="1054080" y="446904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650960" y="446904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247840" y="446904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844720" y="446904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441600" y="4469040"/>
              <a:ext cx="54000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038480" y="4467240"/>
              <a:ext cx="540000" cy="540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57200" y="4467240"/>
              <a:ext cx="53964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6" name=""/>
          <p:cNvGrpSpPr/>
          <p:nvPr/>
        </p:nvGrpSpPr>
        <p:grpSpPr>
          <a:xfrm>
            <a:off x="457200" y="5067360"/>
            <a:ext cx="4121280" cy="539640"/>
            <a:chOff x="457200" y="5067360"/>
            <a:chExt cx="4121280" cy="539640"/>
          </a:xfrm>
        </p:grpSpPr>
        <p:sp>
          <p:nvSpPr>
            <p:cNvPr id="1117" name=""/>
            <p:cNvSpPr/>
            <p:nvPr/>
          </p:nvSpPr>
          <p:spPr>
            <a:xfrm>
              <a:off x="457200" y="506736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054080" y="506736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650960" y="506736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247840" y="506736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844720" y="5067360"/>
              <a:ext cx="54000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441600" y="506736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38480" y="506736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4732200" y="1714680"/>
            <a:ext cx="4283280" cy="2095200"/>
            <a:chOff x="4732200" y="1714680"/>
            <a:chExt cx="4283280" cy="2095200"/>
          </a:xfrm>
        </p:grpSpPr>
        <p:sp>
          <p:nvSpPr>
            <p:cNvPr id="1125" name=""/>
            <p:cNvSpPr/>
            <p:nvPr/>
          </p:nvSpPr>
          <p:spPr>
            <a:xfrm>
              <a:off x="4732200" y="1714680"/>
              <a:ext cx="4283280" cy="2095200"/>
            </a:xfrm>
            <a:prstGeom prst="rect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767120" y="1744560"/>
              <a:ext cx="422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523880"/>
                  <a:tab algn="l" pos="2470320"/>
                  <a:tab algn="l" pos="2678040"/>
                  <a:tab algn="l" pos="3738600"/>
                  <a:tab algn="l" pos="4984920"/>
                  <a:tab algn="l" pos="6230880"/>
                  <a:tab algn="l" pos="7477200"/>
                  <a:tab algn="l" pos="8723160"/>
                  <a:tab algn="l" pos="996948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Index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4767120" y="2273400"/>
            <a:ext cx="4224600" cy="4597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523880"/>
                <a:tab algn="l" pos="2678040"/>
                <a:tab algn="l" pos="33256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765680" y="2795760"/>
            <a:ext cx="4224240" cy="459720"/>
          </a:xfrm>
          <a:prstGeom prst="rect">
            <a:avLst/>
          </a:prstGeom>
          <a:solidFill>
            <a:srgbClr val="f7b7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523880"/>
                <a:tab algn="l" pos="2678040"/>
                <a:tab algn="l" pos="33256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767120" y="3316320"/>
            <a:ext cx="4224600" cy="459720"/>
          </a:xfrm>
          <a:prstGeom prst="rect">
            <a:avLst/>
          </a:prstGeom>
          <a:solidFill>
            <a:srgbClr val="a9f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523880"/>
                <a:tab algn="l" pos="2678040"/>
                <a:tab algn="l" pos="33256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$FREE$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  2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990720" y="1371600"/>
            <a:ext cx="2666880" cy="1600200"/>
          </a:xfrm>
          <a:prstGeom prst="wedgeRoundRectCallout">
            <a:avLst>
              <a:gd name="adj1" fmla="val -9347"/>
              <a:gd name="adj2" fmla="val 85120"/>
              <a:gd name="adj3" fmla="val 16667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447920" y="1468440"/>
            <a:ext cx="1800000" cy="144792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447920" y="2549520"/>
            <a:ext cx="1780920" cy="360360"/>
          </a:xfrm>
          <a:prstGeom prst="rect">
            <a:avLst/>
          </a:prstGeom>
          <a:solidFill>
            <a:srgbClr val="6df1e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20  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 flipV="1">
            <a:off x="2133720" y="3276000"/>
            <a:ext cx="1371600" cy="15228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456" y="0"/>
                </a:moveTo>
                <a:cubicBezTo>
                  <a:pt x="300" y="124"/>
                  <a:pt x="144" y="248"/>
                  <a:pt x="72" y="336"/>
                </a:cubicBezTo>
                <a:cubicBezTo>
                  <a:pt x="0" y="424"/>
                  <a:pt x="12" y="476"/>
                  <a:pt x="24" y="52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133720" y="3505320"/>
            <a:ext cx="761760" cy="457200"/>
          </a:xfrm>
          <a:custGeom>
            <a:avLst/>
            <a:gdLst/>
            <a:ahLst/>
            <a:rect l="l" t="t" r="r" b="b"/>
            <a:pathLst>
              <a:path w="384" h="568">
                <a:moveTo>
                  <a:pt x="0" y="40"/>
                </a:moveTo>
                <a:cubicBezTo>
                  <a:pt x="88" y="20"/>
                  <a:pt x="176" y="0"/>
                  <a:pt x="240" y="88"/>
                </a:cubicBezTo>
                <a:cubicBezTo>
                  <a:pt x="304" y="176"/>
                  <a:pt x="344" y="372"/>
                  <a:pt x="384" y="56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457280" y="1828800"/>
            <a:ext cx="1781280" cy="36036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11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457280" y="1468440"/>
            <a:ext cx="1781280" cy="36036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5   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447920" y="2189160"/>
            <a:ext cx="1780920" cy="36036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16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334120" y="4114800"/>
            <a:ext cx="2666880" cy="1600200"/>
          </a:xfrm>
          <a:prstGeom prst="wedgeRoundRectCallout">
            <a:avLst>
              <a:gd name="adj1" fmla="val -83810"/>
              <a:gd name="adj2" fmla="val -23013"/>
              <a:gd name="adj3" fmla="val 16667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612800" y="3657600"/>
            <a:ext cx="444600" cy="838080"/>
          </a:xfrm>
          <a:custGeom>
            <a:avLst/>
            <a:gdLst/>
            <a:ahLst/>
            <a:rect l="l" t="t" r="r" b="b"/>
            <a:pathLst>
              <a:path w="280" h="528">
                <a:moveTo>
                  <a:pt x="280" y="0"/>
                </a:moveTo>
                <a:cubicBezTo>
                  <a:pt x="180" y="52"/>
                  <a:pt x="80" y="104"/>
                  <a:pt x="40" y="192"/>
                </a:cubicBezTo>
                <a:cubicBezTo>
                  <a:pt x="0" y="280"/>
                  <a:pt x="20" y="404"/>
                  <a:pt x="40" y="52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133720" y="3733920"/>
            <a:ext cx="1904760" cy="761760"/>
          </a:xfrm>
          <a:custGeom>
            <a:avLst/>
            <a:gdLst/>
            <a:ahLst/>
            <a:rect l="l" t="t" r="r" b="b"/>
            <a:pathLst>
              <a:path w="1200" h="480">
                <a:moveTo>
                  <a:pt x="0" y="0"/>
                </a:moveTo>
                <a:cubicBezTo>
                  <a:pt x="188" y="104"/>
                  <a:pt x="376" y="208"/>
                  <a:pt x="576" y="288"/>
                </a:cubicBezTo>
                <a:cubicBezTo>
                  <a:pt x="776" y="368"/>
                  <a:pt x="988" y="424"/>
                  <a:pt x="1200" y="480"/>
                </a:cubicBezTo>
              </a:path>
            </a:pathLst>
          </a:custGeom>
          <a:noFill/>
          <a:ln w="76320">
            <a:solidFill>
              <a:srgbClr val="6df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715000" y="4191120"/>
            <a:ext cx="1800360" cy="144756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722920" y="5272200"/>
            <a:ext cx="1781280" cy="360360"/>
          </a:xfrm>
          <a:prstGeom prst="rect">
            <a:avLst/>
          </a:prstGeom>
          <a:solidFill>
            <a:srgbClr val="6df1e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722920" y="4551480"/>
            <a:ext cx="1781280" cy="36036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24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722920" y="4191120"/>
            <a:ext cx="1781280" cy="36036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22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722920" y="4911840"/>
            <a:ext cx="1781280" cy="36036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26   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187280" y="4589640"/>
            <a:ext cx="2953080" cy="49500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456" y="0"/>
                </a:moveTo>
                <a:cubicBezTo>
                  <a:pt x="300" y="124"/>
                  <a:pt x="144" y="248"/>
                  <a:pt x="72" y="336"/>
                </a:cubicBezTo>
                <a:cubicBezTo>
                  <a:pt x="0" y="424"/>
                  <a:pt x="12" y="476"/>
                  <a:pt x="24" y="52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484360" y="4724280"/>
            <a:ext cx="1800360" cy="36036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456" y="0"/>
                </a:moveTo>
                <a:cubicBezTo>
                  <a:pt x="300" y="124"/>
                  <a:pt x="144" y="248"/>
                  <a:pt x="72" y="336"/>
                </a:cubicBezTo>
                <a:cubicBezTo>
                  <a:pt x="0" y="424"/>
                  <a:pt x="12" y="476"/>
                  <a:pt x="24" y="52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564000" y="4869000"/>
            <a:ext cx="792000" cy="215640"/>
          </a:xfrm>
          <a:custGeom>
            <a:avLst/>
            <a:gdLst/>
            <a:ahLst/>
            <a:rect l="l" t="t" r="r" b="b"/>
            <a:pathLst>
              <a:path w="280" h="528">
                <a:moveTo>
                  <a:pt x="280" y="0"/>
                </a:moveTo>
                <a:cubicBezTo>
                  <a:pt x="180" y="52"/>
                  <a:pt x="80" y="104"/>
                  <a:pt x="40" y="192"/>
                </a:cubicBezTo>
                <a:cubicBezTo>
                  <a:pt x="0" y="280"/>
                  <a:pt x="20" y="404"/>
                  <a:pt x="40" y="52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5" dur="indefinite" restart="never" nodeType="tmRoot">
          <p:childTnLst>
            <p:seq>
              <p:cTn id="2496" dur="indefinite" nodeType="mainSeq">
                <p:childTnLst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1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2" fill="hold">
                            <p:stCondLst>
                              <p:cond delay="500"/>
                            </p:stCondLst>
                            <p:childTnLst>
                              <p:par>
                                <p:cTn id="2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9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3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9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3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8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1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2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3" fill="hold">
                      <p:stCondLst>
                        <p:cond delay="indefinite"/>
                      </p:stCondLst>
                      <p:childTnLst>
                        <p:par>
                          <p:cTn id="2544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7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8" fill="hold">
                            <p:stCondLst>
                              <p:cond delay="500"/>
                            </p:stCondLst>
                            <p:childTnLst>
                              <p:par>
                                <p:cTn id="2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1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fill="hold">
                      <p:stCondLst>
                        <p:cond delay="indefinite"/>
                      </p:stCondLst>
                      <p:childTnLst>
                        <p:par>
                          <p:cTn id="2553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6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0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1" fill="hold">
                      <p:stCondLst>
                        <p:cond delay="indefinite"/>
                      </p:stCondLst>
                      <p:childTnLst>
                        <p:par>
                          <p:cTn id="2562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5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6" fill="hold">
                            <p:stCondLst>
                              <p:cond delay="500"/>
                            </p:stCondLst>
                            <p:childTnLst>
                              <p:par>
                                <p:cTn id="25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9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4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5" fill="hold">
                            <p:stCondLst>
                              <p:cond delay="500"/>
                            </p:stCondLst>
                            <p:childTnLst>
                              <p:par>
                                <p:cTn id="25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8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9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4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5" fill="hold">
                            <p:stCondLst>
                              <p:cond delay="500"/>
                            </p:stCondLst>
                            <p:childTnLst>
                              <p:par>
                                <p:cTn id="25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8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4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5" fill="hold">
                            <p:stCondLst>
                              <p:cond delay="500"/>
                            </p:stCondLst>
                            <p:childTnLst>
                              <p:par>
                                <p:cTn id="25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8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3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4" fill="hold">
                            <p:stCondLst>
                              <p:cond delay="500"/>
                            </p:stCondLst>
                            <p:childTnLst>
                              <p:par>
                                <p:cTn id="26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7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2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3" fill="hold">
                            <p:stCondLst>
                              <p:cond delay="500"/>
                            </p:stCondLst>
                            <p:childTnLst>
                              <p:par>
                                <p:cTn id="26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6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0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Efficiency &amp; Perform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isk vs CP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cy dependent 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k allocation and directory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data kept in file’s directory en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ime of last access  (always write DIR on clo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1" dur="indefinite" restart="never" nodeType="tmRoot">
          <p:childTnLst>
            <p:seq>
              <p:cTn id="2622" dur="indefinite" nodeType="mainSeq">
                <p:childTnLst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27" dur="500"/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32" dur="500"/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35" dur="500"/>
                                        <p:tgtEl>
                                          <p:spTgt spid="1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38" dur="500"/>
                                        <p:tgtEl>
                                          <p:spTgt spid="1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1" dur="500"/>
                                        <p:tgtEl>
                                          <p:spTgt spid="1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fficiency &amp; Perform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ile Position (current Read/Write Pt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6-bit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| File |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2-bit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| File |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isk Addresses  (block numb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-bit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| Partition |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6-bit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| Partition |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2-bit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| Partition |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"/>
          <p:cNvSpPr/>
          <p:nvPr/>
        </p:nvSpPr>
        <p:spPr>
          <a:xfrm>
            <a:off x="4191840" y="203508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279f"/>
                </a:solidFill>
                <a:latin typeface="Tahoma"/>
              </a:rPr>
              <a:t>64 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199040" y="249228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279f"/>
                </a:solidFill>
                <a:latin typeface="Tahoma"/>
              </a:rPr>
              <a:t>4 G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787640" y="342900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279f"/>
                </a:solidFill>
                <a:latin typeface="Tahoma"/>
              </a:rPr>
              <a:t>4 k b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971680" y="3429000"/>
            <a:ext cx="24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c0128"/>
                </a:solidFill>
                <a:latin typeface="Tahoma"/>
              </a:rPr>
              <a:t>(x 8 kB = 32 M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784040" y="386064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279f"/>
                </a:solidFill>
                <a:latin typeface="Tahoma"/>
              </a:rPr>
              <a:t>64 k b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024960" y="3860640"/>
            <a:ext cx="22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c0128"/>
                </a:solidFill>
                <a:latin typeface="Tahoma"/>
              </a:rPr>
              <a:t>(x 8 kB = ½ G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83320" y="429264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279f"/>
                </a:solidFill>
                <a:latin typeface="Tahoma"/>
              </a:rPr>
              <a:t>4 G b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996520" y="4292640"/>
            <a:ext cx="23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c0128"/>
                </a:solidFill>
                <a:latin typeface="Tahoma"/>
              </a:rPr>
              <a:t>(x 8 kB = 32 T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2" dur="indefinite" restart="never" nodeType="tmRoot">
          <p:childTnLst>
            <p:seq>
              <p:cTn id="2643" dur="indefinite" nodeType="mainSeq">
                <p:childTnLst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8" dur="500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1" dur="500"/>
                                        <p:tgtEl>
                                          <p:spTgt spid="1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4" dur="500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5" fill="hold">
                      <p:stCondLst>
                        <p:cond delay="indefinite"/>
                      </p:stCondLst>
                      <p:childTnLst>
                        <p:par>
                          <p:cTn id="2656" fill="hold">
                            <p:stCondLst>
                              <p:cond delay="0"/>
                            </p:stCondLst>
                            <p:childTnLst>
                              <p:par>
                                <p:cTn id="26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9" dur="500"/>
                                        <p:tgtEl>
                                          <p:spTgt spid="1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2" dur="500"/>
                                        <p:tgtEl>
                                          <p:spTgt spid="1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5" dur="500"/>
                                        <p:tgtEl>
                                          <p:spTgt spid="1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8" dur="500"/>
                                        <p:tgtEl>
                                          <p:spTgt spid="1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8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3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4" fill="hold">
                      <p:stCondLst>
                        <p:cond delay="indefinite"/>
                      </p:stCondLst>
                      <p:childTnLst>
                        <p:par>
                          <p:cTn id="2685" fill="hold">
                            <p:stCondLst>
                              <p:cond delay="0"/>
                            </p:stCondLst>
                            <p:childTnLst>
                              <p:par>
                                <p:cTn id="2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8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9" fill="hold">
                      <p:stCondLst>
                        <p:cond delay="indefinite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3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4" fill="hold">
                      <p:stCondLst>
                        <p:cond delay="indefinite"/>
                      </p:stCondLst>
                      <p:childTnLst>
                        <p:par>
                          <p:cTn id="2695" fill="hold">
                            <p:stCondLst>
                              <p:cond delay="0"/>
                            </p:stCondLst>
                            <p:childTnLst>
                              <p:par>
                                <p:cTn id="2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8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2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6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Efficiency &amp; Perform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Read from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"/>
          <p:cNvSpPr/>
          <p:nvPr/>
        </p:nvSpPr>
        <p:spPr>
          <a:xfrm>
            <a:off x="914400" y="2590920"/>
            <a:ext cx="4267080" cy="30200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791320" y="1676520"/>
            <a:ext cx="2133360" cy="205740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943600" y="2590920"/>
            <a:ext cx="762120" cy="45720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066680" y="2743200"/>
            <a:ext cx="1295640" cy="1572120"/>
          </a:xfrm>
          <a:prstGeom prst="rect">
            <a:avLst/>
          </a:prstGeom>
          <a:solidFill>
            <a:srgbClr val="6df1e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438280" y="3886200"/>
            <a:ext cx="2514600" cy="15721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350320" y="4156200"/>
            <a:ext cx="36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gical record smaller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 than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plit buffer (pag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buffer not in MEM (V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371600" y="3352680"/>
            <a:ext cx="457200" cy="304920"/>
          </a:xfrm>
          <a:prstGeom prst="rect">
            <a:avLst/>
          </a:prstGeom>
          <a:solidFill>
            <a:srgbClr val="f7b7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066680" y="3505320"/>
            <a:ext cx="129564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581280" y="4800600"/>
            <a:ext cx="762120" cy="45720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429000" y="4648320"/>
            <a:ext cx="762120" cy="45720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276720" y="4495680"/>
            <a:ext cx="761760" cy="45720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124080" y="4343400"/>
            <a:ext cx="762120" cy="45720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733920" y="2629080"/>
            <a:ext cx="2286000" cy="1790640"/>
          </a:xfrm>
          <a:custGeom>
            <a:avLst/>
            <a:gdLst/>
            <a:ahLst/>
            <a:rect l="l" t="t" r="r" b="b"/>
            <a:pathLst>
              <a:path w="1440" h="1128">
                <a:moveTo>
                  <a:pt x="1440" y="120"/>
                </a:moveTo>
                <a:cubicBezTo>
                  <a:pt x="1224" y="60"/>
                  <a:pt x="1008" y="0"/>
                  <a:pt x="768" y="168"/>
                </a:cubicBezTo>
                <a:cubicBezTo>
                  <a:pt x="528" y="336"/>
                  <a:pt x="128" y="968"/>
                  <a:pt x="0" y="1128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276720" y="4419720"/>
            <a:ext cx="457200" cy="304560"/>
          </a:xfrm>
          <a:prstGeom prst="rect">
            <a:avLst/>
          </a:prstGeom>
          <a:solidFill>
            <a:srgbClr val="f7b7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752480" y="3327480"/>
            <a:ext cx="1676520" cy="1244520"/>
          </a:xfrm>
          <a:custGeom>
            <a:avLst/>
            <a:gdLst/>
            <a:ahLst/>
            <a:rect l="l" t="t" r="r" b="b"/>
            <a:pathLst>
              <a:path w="1056" h="784">
                <a:moveTo>
                  <a:pt x="1056" y="784"/>
                </a:moveTo>
                <a:cubicBezTo>
                  <a:pt x="1024" y="504"/>
                  <a:pt x="992" y="224"/>
                  <a:pt x="816" y="112"/>
                </a:cubicBezTo>
                <a:cubicBezTo>
                  <a:pt x="640" y="0"/>
                  <a:pt x="320" y="56"/>
                  <a:pt x="0" y="112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419720" y="2819520"/>
            <a:ext cx="539640" cy="539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590920" y="3200400"/>
            <a:ext cx="539640" cy="539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63680" y="4525920"/>
            <a:ext cx="2127240" cy="459720"/>
          </a:xfrm>
          <a:prstGeom prst="borderCallout1">
            <a:avLst>
              <a:gd name="adj1" fmla="val 18750"/>
              <a:gd name="adj2" fmla="val -8333"/>
              <a:gd name="adj3" fmla="val 3675"/>
              <a:gd name="adj4" fmla="val 141027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is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7" dur="indefinite" restart="never" nodeType="tmRoot">
          <p:childTnLst>
            <p:seq>
              <p:cTn id="2708" dur="indefinite" nodeType="mainSeq">
                <p:childTnLst>
                  <p:par>
                    <p:cTn id="2709" fill="hold">
                      <p:stCondLst>
                        <p:cond delay="indefinite"/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3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4" fill="hold">
                            <p:stCondLst>
                              <p:cond delay="500"/>
                            </p:stCondLst>
                            <p:childTnLst>
                              <p:par>
                                <p:cTn id="2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7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1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5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9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3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7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8" fill="hold">
                            <p:stCondLst>
                              <p:cond delay="3500"/>
                            </p:stCondLst>
                            <p:childTnLst>
                              <p:par>
                                <p:cTn id="27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1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45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fill="hold">
                      <p:stCondLst>
                        <p:cond delay="indefinite"/>
                      </p:stCondLst>
                      <p:childTnLst>
                        <p:par>
                          <p:cTn id="2747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0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1" fill="hold">
                            <p:stCondLst>
                              <p:cond delay="500"/>
                            </p:stCondLst>
                            <p:childTnLst>
                              <p:par>
                                <p:cTn id="27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4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8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fill="hold">
                      <p:stCondLst>
                        <p:cond delay="indefinite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4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8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2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3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7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2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7" dur="500"/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2" dur="500"/>
                                        <p:tgtEl>
                                          <p:spTgt spid="1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7" dur="500"/>
                                        <p:tgtEl>
                                          <p:spTgt spid="1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Efficiency &amp; Perform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Write to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"/>
          <p:cNvSpPr/>
          <p:nvPr/>
        </p:nvSpPr>
        <p:spPr>
          <a:xfrm>
            <a:off x="914400" y="2590920"/>
            <a:ext cx="4267080" cy="30200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791320" y="1676520"/>
            <a:ext cx="2133360" cy="205740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943600" y="2590920"/>
            <a:ext cx="762120" cy="45720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066680" y="2743200"/>
            <a:ext cx="1295640" cy="1572120"/>
          </a:xfrm>
          <a:prstGeom prst="rect">
            <a:avLst/>
          </a:prstGeom>
          <a:solidFill>
            <a:srgbClr val="6df1e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438280" y="3886200"/>
            <a:ext cx="2514600" cy="15721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371600" y="3352680"/>
            <a:ext cx="457200" cy="304920"/>
          </a:xfrm>
          <a:prstGeom prst="rect">
            <a:avLst/>
          </a:prstGeom>
          <a:solidFill>
            <a:srgbClr val="f7b7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581280" y="4800600"/>
            <a:ext cx="762120" cy="45720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429000" y="4648320"/>
            <a:ext cx="762120" cy="45720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276720" y="4495680"/>
            <a:ext cx="761760" cy="45720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124080" y="4343400"/>
            <a:ext cx="762120" cy="45720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733920" y="2629080"/>
            <a:ext cx="2286000" cy="1790640"/>
          </a:xfrm>
          <a:custGeom>
            <a:avLst/>
            <a:gdLst/>
            <a:ahLst/>
            <a:rect l="l" t="t" r="r" b="b"/>
            <a:pathLst>
              <a:path w="1440" h="1128">
                <a:moveTo>
                  <a:pt x="1440" y="120"/>
                </a:moveTo>
                <a:cubicBezTo>
                  <a:pt x="1224" y="60"/>
                  <a:pt x="1008" y="0"/>
                  <a:pt x="768" y="168"/>
                </a:cubicBezTo>
                <a:cubicBezTo>
                  <a:pt x="528" y="336"/>
                  <a:pt x="128" y="968"/>
                  <a:pt x="0" y="1128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276720" y="4419720"/>
            <a:ext cx="457200" cy="304560"/>
          </a:xfrm>
          <a:prstGeom prst="rect">
            <a:avLst/>
          </a:prstGeom>
          <a:solidFill>
            <a:srgbClr val="f7b7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752480" y="3327480"/>
            <a:ext cx="1676520" cy="1244520"/>
          </a:xfrm>
          <a:custGeom>
            <a:avLst/>
            <a:gdLst/>
            <a:ahLst/>
            <a:rect l="l" t="t" r="r" b="b"/>
            <a:pathLst>
              <a:path w="1056" h="784">
                <a:moveTo>
                  <a:pt x="1056" y="784"/>
                </a:moveTo>
                <a:cubicBezTo>
                  <a:pt x="1024" y="504"/>
                  <a:pt x="992" y="224"/>
                  <a:pt x="816" y="112"/>
                </a:cubicBezTo>
                <a:cubicBezTo>
                  <a:pt x="640" y="0"/>
                  <a:pt x="320" y="56"/>
                  <a:pt x="0" y="112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419720" y="2819520"/>
            <a:ext cx="539640" cy="539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590920" y="3200400"/>
            <a:ext cx="539640" cy="539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886200" y="3048120"/>
            <a:ext cx="2438280" cy="1523880"/>
          </a:xfrm>
          <a:custGeom>
            <a:avLst/>
            <a:gdLst/>
            <a:ahLst/>
            <a:rect l="l" t="t" r="r" b="b"/>
            <a:pathLst>
              <a:path w="1536" h="960">
                <a:moveTo>
                  <a:pt x="0" y="960"/>
                </a:moveTo>
                <a:cubicBezTo>
                  <a:pt x="352" y="896"/>
                  <a:pt x="704" y="832"/>
                  <a:pt x="960" y="672"/>
                </a:cubicBezTo>
                <a:cubicBezTo>
                  <a:pt x="1216" y="512"/>
                  <a:pt x="1376" y="256"/>
                  <a:pt x="1536" y="0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334120" y="3657600"/>
            <a:ext cx="539640" cy="539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156360" y="4365720"/>
            <a:ext cx="1795320" cy="83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255" y="14935"/>
                </a:moveTo>
                <a:lnTo>
                  <a:pt x="-917" y="2962"/>
                </a:lnTo>
              </a:path>
              <a:path w="21600" h="21600">
                <a:moveTo>
                  <a:pt x="-917" y="0"/>
                </a:moveTo>
                <a:lnTo>
                  <a:pt x="-917" y="21600"/>
                </a:lnTo>
              </a:path>
            </a:pathLst>
          </a:cu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ember block n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508720" y="5373720"/>
            <a:ext cx="3889440" cy="50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965" y="-7947"/>
                </a:moveTo>
                <a:lnTo>
                  <a:pt x="-423" y="4891"/>
                </a:lnTo>
              </a:path>
              <a:path w="21600" h="21600">
                <a:moveTo>
                  <a:pt x="-423" y="0"/>
                </a:moveTo>
                <a:lnTo>
                  <a:pt x="-423" y="21600"/>
                </a:lnTo>
              </a:path>
            </a:pathLst>
          </a:cu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: Replacement al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8" dur="indefinite" restart="never" nodeType="tmRoot">
          <p:childTnLst>
            <p:seq>
              <p:cTn id="2799" dur="indefinite" nodeType="mainSeq">
                <p:childTnLst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4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5" fill="hold">
                            <p:stCondLst>
                              <p:cond delay="500"/>
                            </p:stCondLst>
                            <p:childTnLst>
                              <p:par>
                                <p:cTn id="28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8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2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6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0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4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8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2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6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1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2" fill="hold">
                            <p:stCondLst>
                              <p:cond delay="500"/>
                            </p:stCondLst>
                            <p:childTnLst>
                              <p:par>
                                <p:cTn id="28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5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9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0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1" fill="hold">
                      <p:stCondLst>
                        <p:cond delay="indefinite"/>
                      </p:stCondLst>
                      <p:childTnLst>
                        <p:par>
                          <p:cTn id="2852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5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6" fill="hold">
                            <p:stCondLst>
                              <p:cond delay="500"/>
                            </p:stCondLst>
                            <p:childTnLst>
                              <p:par>
                                <p:cTn id="2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9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3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4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0" fill="hold">
                            <p:stCondLst>
                              <p:cond delay="500"/>
                            </p:stCondLst>
                            <p:childTnLst>
                              <p:par>
                                <p:cTn id="28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3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4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79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84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Efficiency &amp; Perform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Virtual Disk (RAM Dis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Temporary Sto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as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"/>
          <p:cNvSpPr/>
          <p:nvPr/>
        </p:nvSpPr>
        <p:spPr>
          <a:xfrm>
            <a:off x="5580000" y="2349360"/>
            <a:ext cx="2592360" cy="32407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153120" y="3141720"/>
            <a:ext cx="1549440" cy="1015920"/>
          </a:xfrm>
          <a:prstGeom prst="rect">
            <a:avLst/>
          </a:prstGeom>
          <a:solidFill>
            <a:srgbClr val="a9f7a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M-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3132000" y="2781360"/>
            <a:ext cx="2016360" cy="2087640"/>
            <a:chOff x="3132000" y="2781360"/>
            <a:chExt cx="2016360" cy="2087640"/>
          </a:xfrm>
        </p:grpSpPr>
        <p:sp>
          <p:nvSpPr>
            <p:cNvPr id="1207" name=""/>
            <p:cNvSpPr/>
            <p:nvPr/>
          </p:nvSpPr>
          <p:spPr>
            <a:xfrm>
              <a:off x="3132000" y="2781360"/>
              <a:ext cx="2016360" cy="2087640"/>
            </a:xfrm>
            <a:prstGeom prst="cloudCallout">
              <a:avLst>
                <a:gd name="adj1" fmla="val 112912"/>
                <a:gd name="adj2" fmla="val 263"/>
              </a:avLst>
            </a:prstGeom>
            <a:solidFill>
              <a:srgbClr val="cecece"/>
            </a:solidFill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419640" y="3284640"/>
              <a:ext cx="1152360" cy="1008000"/>
            </a:xfrm>
            <a:prstGeom prst="flowChartMagneticDisk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5" dur="indefinite" restart="never" nodeType="tmRoot">
          <p:childTnLst>
            <p:seq>
              <p:cTn id="2886" dur="indefinite" nodeType="mainSeq">
                <p:childTnLst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1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6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7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1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2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06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7" fill="hold">
                      <p:stCondLst>
                        <p:cond delay="indefinite"/>
                      </p:stCondLst>
                      <p:childTnLst>
                        <p:par>
                          <p:cTn id="2908" fill="hold">
                            <p:stCondLst>
                              <p:cond delay="0"/>
                            </p:stCondLst>
                            <p:childTnLst>
                              <p:par>
                                <p:cTn id="29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1" dur="500"/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4" dur="500"/>
                                        <p:tgtEl>
                                          <p:spTgt spid="1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covery &amp; Resto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0" name=""/>
          <p:cNvSpPr/>
          <p:nvPr/>
        </p:nvSpPr>
        <p:spPr>
          <a:xfrm>
            <a:off x="755640" y="2276640"/>
            <a:ext cx="2160720" cy="2232000"/>
          </a:xfrm>
          <a:prstGeom prst="flowChartMagneticDisk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724360" y="1844640"/>
            <a:ext cx="2592720" cy="32407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078240" y="2565360"/>
            <a:ext cx="746280" cy="459720"/>
          </a:xfrm>
          <a:prstGeom prst="rect">
            <a:avLst/>
          </a:prstGeom>
          <a:solidFill>
            <a:srgbClr val="f7b70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056640" y="3141720"/>
            <a:ext cx="1741320" cy="1015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140880" y="3645000"/>
            <a:ext cx="951840" cy="459720"/>
          </a:xfrm>
          <a:prstGeom prst="rect">
            <a:avLst/>
          </a:prstGeom>
          <a:solidFill>
            <a:srgbClr val="6df1e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635280" y="2925720"/>
            <a:ext cx="187164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093" y="-5400"/>
                </a:moveTo>
                <a:lnTo>
                  <a:pt x="22479" y="2859"/>
                </a:lnTo>
              </a:path>
              <a:path w="21600" h="21600">
                <a:moveTo>
                  <a:pt x="22479" y="0"/>
                </a:moveTo>
                <a:lnTo>
                  <a:pt x="22479" y="21600"/>
                </a:lnTo>
              </a:path>
            </a:pathLst>
          </a:cu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y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203640" y="4149720"/>
            <a:ext cx="230328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909" y="-3772"/>
                </a:moveTo>
                <a:lnTo>
                  <a:pt x="22315" y="2859"/>
                </a:lnTo>
              </a:path>
              <a:path w="21600" h="21600">
                <a:moveTo>
                  <a:pt x="22315" y="0"/>
                </a:moveTo>
                <a:lnTo>
                  <a:pt x="22315" y="21600"/>
                </a:lnTo>
              </a:path>
            </a:pathLst>
          </a:cu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ied, Not written (y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900000" y="3141720"/>
            <a:ext cx="792360" cy="459720"/>
          </a:xfrm>
          <a:prstGeom prst="rect">
            <a:avLst/>
          </a:prstGeom>
          <a:solidFill>
            <a:srgbClr val="fafd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748160" y="3645000"/>
            <a:ext cx="951840" cy="459720"/>
          </a:xfrm>
          <a:prstGeom prst="rect">
            <a:avLst/>
          </a:prstGeom>
          <a:solidFill>
            <a:srgbClr val="a9f7a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911880" y="5013360"/>
            <a:ext cx="732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er Shut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(Crash, Power, …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istency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916360" y="1341360"/>
            <a:ext cx="2449440" cy="1887480"/>
          </a:xfrm>
          <a:prstGeom prst="irregularSeal1">
            <a:avLst/>
          </a:prstGeom>
          <a:solidFill>
            <a:srgbClr val="fc0128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Backup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5" dur="indefinite" restart="never" nodeType="tmRoot">
          <p:childTnLst>
            <p:seq>
              <p:cTn id="2916" dur="indefinite" nodeType="mainSeq">
                <p:childTnLst>
                  <p:par>
                    <p:cTn id="2917" fill="hold">
                      <p:stCondLst>
                        <p:cond delay="indefinite"/>
                      </p:stCondLst>
                      <p:childTnLst>
                        <p:par>
                          <p:cTn id="2918" fill="hold">
                            <p:stCondLst>
                              <p:cond delay="0"/>
                            </p:stCondLst>
                            <p:childTnLst>
                              <p:par>
                                <p:cTn id="29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1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2" fill="hold">
                            <p:stCondLst>
                              <p:cond delay="500"/>
                            </p:stCondLst>
                            <p:childTnLst>
                              <p:par>
                                <p:cTn id="29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5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6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9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0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1" fill="hold">
                      <p:stCondLst>
                        <p:cond delay="indefinite"/>
                      </p:stCondLst>
                      <p:childTnLst>
                        <p:par>
                          <p:cTn id="2932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5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6" fill="hold">
                      <p:stCondLst>
                        <p:cond delay="indefinite"/>
                      </p:stCondLst>
                      <p:childTnLst>
                        <p:par>
                          <p:cTn id="2937" fill="hold">
                            <p:stCondLst>
                              <p:cond delay="0"/>
                            </p:stCondLst>
                            <p:childTnLst>
                              <p:par>
                                <p:cTn id="29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0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1" fill="hold">
                            <p:stCondLst>
                              <p:cond delay="500"/>
                            </p:stCondLst>
                            <p:childTnLst>
                              <p:par>
                                <p:cTn id="29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4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8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9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0" fill="hold">
                      <p:stCondLst>
                        <p:cond delay="indefinite"/>
                      </p:stCondLst>
                      <p:childTnLst>
                        <p:par>
                          <p:cTn id="2951" fill="hold">
                            <p:stCondLst>
                              <p:cond delay="0"/>
                            </p:stCondLst>
                            <p:childTnLst>
                              <p:par>
                                <p:cTn id="29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5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5" fill="hold">
                      <p:stCondLst>
                        <p:cond delay="indefinite"/>
                      </p:stCondLst>
                      <p:childTnLst>
                        <p:par>
                          <p:cTn id="2956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59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0" fill="hold">
                      <p:stCondLst>
                        <p:cond delay="indefinite"/>
                      </p:stCondLst>
                      <p:childTnLst>
                        <p:par>
                          <p:cTn id="2961" fill="hold">
                            <p:stCondLst>
                              <p:cond delay="0"/>
                            </p:stCondLst>
                            <p:childTnLst>
                              <p:par>
                                <p:cTn id="29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4" dur="500"/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5" fill="hold">
                      <p:stCondLst>
                        <p:cond delay="indefinite"/>
                      </p:stCondLst>
                      <p:childTnLst>
                        <p:par>
                          <p:cTn id="2966" fill="hold">
                            <p:stCondLst>
                              <p:cond delay="0"/>
                            </p:stCondLst>
                            <p:childTnLst>
                              <p:par>
                                <p:cTn id="29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9" dur="500"/>
                                        <p:tgtEl>
                                          <p:spTgt spid="1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4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5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. Secondary Memory Mg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isk Character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isk Schedu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200" spc="-1" strike="noStrike">
                <a:solidFill>
                  <a:srgbClr val="000000"/>
                </a:solidFill>
                <a:latin typeface="Tahoma"/>
              </a:rPr>
              <a:t>Disk Management (Bad Block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wap Space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isk Character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Block (cluster) = 1 or more se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Blocks: numbered 0, …, 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"/>
          <p:cNvSpPr/>
          <p:nvPr/>
        </p:nvSpPr>
        <p:spPr>
          <a:xfrm>
            <a:off x="6248520" y="4495680"/>
            <a:ext cx="1066680" cy="0"/>
          </a:xfrm>
          <a:prstGeom prst="line">
            <a:avLst/>
          </a:prstGeom>
          <a:ln w="5724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4716360" y="3505320"/>
            <a:ext cx="2133720" cy="1218960"/>
            <a:chOff x="4716360" y="3505320"/>
            <a:chExt cx="2133720" cy="1218960"/>
          </a:xfrm>
        </p:grpSpPr>
        <p:grpSp>
          <p:nvGrpSpPr>
            <p:cNvPr id="1227" name=""/>
            <p:cNvGrpSpPr/>
            <p:nvPr/>
          </p:nvGrpSpPr>
          <p:grpSpPr>
            <a:xfrm>
              <a:off x="4716360" y="3505320"/>
              <a:ext cx="1257480" cy="1218960"/>
              <a:chOff x="4716360" y="3505320"/>
              <a:chExt cx="1257480" cy="1218960"/>
            </a:xfrm>
          </p:grpSpPr>
          <p:grpSp>
            <p:nvGrpSpPr>
              <p:cNvPr id="1228" name=""/>
              <p:cNvGrpSpPr/>
              <p:nvPr/>
            </p:nvGrpSpPr>
            <p:grpSpPr>
              <a:xfrm>
                <a:off x="4754520" y="3581280"/>
                <a:ext cx="1219320" cy="1067040"/>
                <a:chOff x="4754520" y="3581280"/>
                <a:chExt cx="1219320" cy="106704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4754520" y="3581280"/>
                  <a:ext cx="12193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4754520" y="4114800"/>
                  <a:ext cx="12193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4754520" y="4648320"/>
                  <a:ext cx="12193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2" name=""/>
              <p:cNvSpPr/>
              <p:nvPr/>
            </p:nvSpPr>
            <p:spPr>
              <a:xfrm>
                <a:off x="4716360" y="3505320"/>
                <a:ext cx="228600" cy="75960"/>
              </a:xfrm>
              <a:prstGeom prst="flowChartTerminator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716360" y="3581280"/>
                <a:ext cx="228600" cy="76320"/>
              </a:xfrm>
              <a:prstGeom prst="flowChartTerminator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716360" y="4038480"/>
                <a:ext cx="228600" cy="76320"/>
              </a:xfrm>
              <a:prstGeom prst="flowChartTerminator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716360" y="4114800"/>
                <a:ext cx="228600" cy="76320"/>
              </a:xfrm>
              <a:prstGeom prst="flowChartTerminator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4716360" y="4572000"/>
                <a:ext cx="228600" cy="76320"/>
              </a:xfrm>
              <a:prstGeom prst="flowChartTerminator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716360" y="4648320"/>
                <a:ext cx="228600" cy="75960"/>
              </a:xfrm>
              <a:prstGeom prst="flowChartTerminator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8" name=""/>
            <p:cNvSpPr/>
            <p:nvPr/>
          </p:nvSpPr>
          <p:spPr>
            <a:xfrm>
              <a:off x="5935680" y="3581280"/>
              <a:ext cx="0" cy="1067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935680" y="4114800"/>
              <a:ext cx="914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"/>
          <p:cNvGrpSpPr/>
          <p:nvPr/>
        </p:nvGrpSpPr>
        <p:grpSpPr>
          <a:xfrm>
            <a:off x="2666880" y="3124080"/>
            <a:ext cx="2362320" cy="1981080"/>
            <a:chOff x="2666880" y="3124080"/>
            <a:chExt cx="2362320" cy="1981080"/>
          </a:xfrm>
        </p:grpSpPr>
        <p:grpSp>
          <p:nvGrpSpPr>
            <p:cNvPr id="1241" name=""/>
            <p:cNvGrpSpPr/>
            <p:nvPr/>
          </p:nvGrpSpPr>
          <p:grpSpPr>
            <a:xfrm>
              <a:off x="2666880" y="4495680"/>
              <a:ext cx="2362320" cy="609480"/>
              <a:chOff x="2666880" y="4495680"/>
              <a:chExt cx="2362320" cy="609480"/>
            </a:xfrm>
          </p:grpSpPr>
          <p:sp>
            <p:nvSpPr>
              <p:cNvPr id="1242" name=""/>
              <p:cNvSpPr/>
              <p:nvPr/>
            </p:nvSpPr>
            <p:spPr>
              <a:xfrm>
                <a:off x="2666880" y="4724280"/>
                <a:ext cx="2362320" cy="380880"/>
              </a:xfrm>
              <a:prstGeom prst="can">
                <a:avLst>
                  <a:gd name="adj" fmla="val 500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733560" y="4495680"/>
                <a:ext cx="228600" cy="380880"/>
              </a:xfrm>
              <a:prstGeom prst="can">
                <a:avLst>
                  <a:gd name="adj" fmla="val 25000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"/>
            <p:cNvGrpSpPr/>
            <p:nvPr/>
          </p:nvGrpSpPr>
          <p:grpSpPr>
            <a:xfrm>
              <a:off x="2666880" y="3962520"/>
              <a:ext cx="2362320" cy="609480"/>
              <a:chOff x="2666880" y="3962520"/>
              <a:chExt cx="2362320" cy="609480"/>
            </a:xfrm>
          </p:grpSpPr>
          <p:sp>
            <p:nvSpPr>
              <p:cNvPr id="1245" name=""/>
              <p:cNvSpPr/>
              <p:nvPr/>
            </p:nvSpPr>
            <p:spPr>
              <a:xfrm>
                <a:off x="2666880" y="4191120"/>
                <a:ext cx="2362320" cy="380880"/>
              </a:xfrm>
              <a:prstGeom prst="can">
                <a:avLst>
                  <a:gd name="adj" fmla="val 500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733560" y="3962520"/>
                <a:ext cx="228600" cy="380880"/>
              </a:xfrm>
              <a:prstGeom prst="can">
                <a:avLst>
                  <a:gd name="adj" fmla="val 25000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2666880" y="3429000"/>
              <a:ext cx="2362320" cy="609480"/>
              <a:chOff x="2666880" y="3429000"/>
              <a:chExt cx="2362320" cy="609480"/>
            </a:xfrm>
          </p:grpSpPr>
          <p:sp>
            <p:nvSpPr>
              <p:cNvPr id="1248" name=""/>
              <p:cNvSpPr/>
              <p:nvPr/>
            </p:nvSpPr>
            <p:spPr>
              <a:xfrm>
                <a:off x="2666880" y="3657600"/>
                <a:ext cx="2362320" cy="380880"/>
              </a:xfrm>
              <a:prstGeom prst="can">
                <a:avLst>
                  <a:gd name="adj" fmla="val 500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733560" y="3429000"/>
                <a:ext cx="228600" cy="380880"/>
              </a:xfrm>
              <a:prstGeom prst="can">
                <a:avLst>
                  <a:gd name="adj" fmla="val 25000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2666880" y="3124080"/>
              <a:ext cx="2362320" cy="381240"/>
            </a:xfrm>
            <a:prstGeom prst="can">
              <a:avLst>
                <a:gd name="adj" fmla="val 50000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838080" y="5257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nl-BE" sz="2400" spc="-1" strike="noStrike" baseline="-25000">
                <a:solidFill>
                  <a:srgbClr val="000000"/>
                </a:solidFill>
                <a:latin typeface="Tahoma"/>
              </a:rPr>
              <a:t>I/O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= T</a:t>
            </a:r>
            <a:r>
              <a:rPr b="0" lang="nl-BE" sz="2400" spc="-1" strike="noStrike" baseline="-25000">
                <a:solidFill>
                  <a:srgbClr val="000000"/>
                </a:solidFill>
                <a:latin typeface="Tahoma"/>
              </a:rPr>
              <a:t>seek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+ T</a:t>
            </a:r>
            <a:r>
              <a:rPr b="0" lang="nl-BE" sz="2400" spc="-1" strike="noStrike" baseline="-25000">
                <a:solidFill>
                  <a:srgbClr val="000000"/>
                </a:solidFill>
                <a:latin typeface="Tahoma"/>
              </a:rPr>
              <a:t>latency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+ T</a:t>
            </a:r>
            <a:r>
              <a:rPr b="0" lang="nl-BE" sz="2400" spc="-1" strike="noStrike" baseline="-25000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6" dur="indefinite" restart="never" nodeType="tmRoot">
          <p:childTnLst>
            <p:seq>
              <p:cTn id="2977" dur="indefinite" nodeType="mainSeq">
                <p:childTnLst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2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3" fill="hold">
                            <p:stCondLst>
                              <p:cond delay="500"/>
                            </p:stCondLst>
                            <p:childTnLst>
                              <p:par>
                                <p:cTn id="29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9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8.65616E-006 C -2.77778E-007 -8.65616E-006 -0.05833 0.00023 -0.05937 -8.65616E-006 C -0.06041 -0.00024 -2.77778E-007 -8.65616E-006 -2.77778E-007 -8.65616E-006 Z">
                                      <p:cBhvr>
                                        <p:cTn id="2992" dur="2000" fill="hold"/>
                                        <p:tgtEl>
                                          <p:spTgt spid="1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3" fill="hold">
                      <p:stCondLst>
                        <p:cond delay="indefinite"/>
                      </p:stCondLst>
                      <p:childTnLst>
                        <p:par>
                          <p:cTn id="2994" fill="hold">
                            <p:stCondLst>
                              <p:cond delay="0"/>
                            </p:stCondLst>
                            <p:childTnLst>
                              <p:par>
                                <p:cTn id="29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7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isk Schedul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3" name=""/>
          <p:cNvSpPr/>
          <p:nvPr/>
        </p:nvSpPr>
        <p:spPr>
          <a:xfrm>
            <a:off x="3976200" y="2208600"/>
            <a:ext cx="209484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eady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389760" y="3281760"/>
            <a:ext cx="312984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evice queue (disk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602520" y="3586320"/>
            <a:ext cx="312984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evice queue (disk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961440" y="3891240"/>
            <a:ext cx="302004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evice queue (ta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309120" y="4805640"/>
            <a:ext cx="325008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vent Queue (event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507480" y="5097600"/>
            <a:ext cx="325008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vent Queue (event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729600" y="5402520"/>
            <a:ext cx="325008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vent Queue (even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162920" y="2133720"/>
            <a:ext cx="121896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2120" y="3124080"/>
            <a:ext cx="1218960" cy="60984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isk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914400" y="3505320"/>
            <a:ext cx="121932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isk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143000" y="3886200"/>
            <a:ext cx="121932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T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4" name=""/>
          <p:cNvCxnSpPr>
            <a:stCxn id="1253" idx="3"/>
            <a:endCxn id="1260" idx="2"/>
          </p:cNvCxnSpPr>
          <p:nvPr/>
        </p:nvCxnSpPr>
        <p:spPr>
          <a:xfrm>
            <a:off x="6022440" y="2437920"/>
            <a:ext cx="1140840" cy="1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1265" name=""/>
          <p:cNvGrpSpPr/>
          <p:nvPr/>
        </p:nvGrpSpPr>
        <p:grpSpPr>
          <a:xfrm>
            <a:off x="6552360" y="3504960"/>
            <a:ext cx="1220040" cy="616320"/>
            <a:chOff x="6552360" y="3504960"/>
            <a:chExt cx="1220040" cy="616320"/>
          </a:xfrm>
        </p:grpSpPr>
        <p:cxnSp>
          <p:nvCxnSpPr>
            <p:cNvPr id="1266" name=""/>
            <p:cNvCxnSpPr>
              <a:endCxn id="1255" idx="3"/>
            </p:cNvCxnSpPr>
            <p:nvPr/>
          </p:nvCxnSpPr>
          <p:spPr>
            <a:xfrm flipH="1" flipV="1">
              <a:off x="6781320" y="3816360"/>
              <a:ext cx="991440" cy="7020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1267" name=""/>
            <p:cNvCxnSpPr>
              <a:endCxn id="1256" idx="3"/>
            </p:cNvCxnSpPr>
            <p:nvPr/>
          </p:nvCxnSpPr>
          <p:spPr>
            <a:xfrm flipH="1">
              <a:off x="7009560" y="3885840"/>
              <a:ext cx="686520" cy="23580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1268" name=""/>
            <p:cNvCxnSpPr/>
            <p:nvPr/>
          </p:nvCxnSpPr>
          <p:spPr>
            <a:xfrm flipH="1" flipV="1">
              <a:off x="6552360" y="3504960"/>
              <a:ext cx="1220040" cy="30528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</p:grpSp>
      <p:cxnSp>
        <p:nvCxnSpPr>
          <p:cNvPr id="1269" name=""/>
          <p:cNvCxnSpPr>
            <a:stCxn id="1260" idx="4"/>
            <a:endCxn id="1253" idx="1"/>
          </p:cNvCxnSpPr>
          <p:nvPr/>
        </p:nvCxnSpPr>
        <p:spPr>
          <a:xfrm flipV="1" rot="16200000">
            <a:off x="5745240" y="716040"/>
            <a:ext cx="305640" cy="3748680"/>
          </a:xfrm>
          <a:prstGeom prst="bentConnector4">
            <a:avLst>
              <a:gd name="adj1" fmla="val -75000"/>
              <a:gd name="adj2" fmla="val 119218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270" name=""/>
          <p:cNvCxnSpPr/>
          <p:nvPr/>
        </p:nvCxnSpPr>
        <p:spPr>
          <a:xfrm>
            <a:off x="7772040" y="2971800"/>
            <a:ext cx="1080" cy="9151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1271" name=""/>
          <p:cNvGrpSpPr/>
          <p:nvPr/>
        </p:nvGrpSpPr>
        <p:grpSpPr>
          <a:xfrm>
            <a:off x="6552360" y="4952520"/>
            <a:ext cx="1220040" cy="616320"/>
            <a:chOff x="6552360" y="4952520"/>
            <a:chExt cx="1220040" cy="616320"/>
          </a:xfrm>
        </p:grpSpPr>
        <p:cxnSp>
          <p:nvCxnSpPr>
            <p:cNvPr id="1272" name=""/>
            <p:cNvCxnSpPr/>
            <p:nvPr/>
          </p:nvCxnSpPr>
          <p:spPr>
            <a:xfrm flipH="1" flipV="1">
              <a:off x="6781320" y="5263920"/>
              <a:ext cx="991440" cy="7020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1273" name=""/>
            <p:cNvCxnSpPr/>
            <p:nvPr/>
          </p:nvCxnSpPr>
          <p:spPr>
            <a:xfrm flipH="1">
              <a:off x="7009560" y="5333400"/>
              <a:ext cx="686520" cy="23580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1274" name=""/>
            <p:cNvCxnSpPr/>
            <p:nvPr/>
          </p:nvCxnSpPr>
          <p:spPr>
            <a:xfrm flipH="1" flipV="1">
              <a:off x="6552360" y="4952520"/>
              <a:ext cx="1220040" cy="30528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</p:grpSp>
      <p:cxnSp>
        <p:nvCxnSpPr>
          <p:cNvPr id="1275" name=""/>
          <p:cNvCxnSpPr/>
          <p:nvPr/>
        </p:nvCxnSpPr>
        <p:spPr>
          <a:xfrm>
            <a:off x="7772040" y="3809880"/>
            <a:ext cx="1080" cy="152496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276" name=""/>
          <p:cNvCxnSpPr>
            <a:stCxn id="1255" idx="1"/>
            <a:endCxn id="1262" idx="6"/>
          </p:cNvCxnSpPr>
          <p:nvPr/>
        </p:nvCxnSpPr>
        <p:spPr>
          <a:xfrm flipH="1" flipV="1">
            <a:off x="2133000" y="3809520"/>
            <a:ext cx="1516680" cy="720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277" name=""/>
          <p:cNvCxnSpPr>
            <a:stCxn id="1262" idx="2"/>
            <a:endCxn id="1253" idx="1"/>
          </p:cNvCxnSpPr>
          <p:nvPr/>
        </p:nvCxnSpPr>
        <p:spPr>
          <a:xfrm flipH="1" rot="10800000">
            <a:off x="913320" y="2437560"/>
            <a:ext cx="3110760" cy="1372320"/>
          </a:xfrm>
          <a:prstGeom prst="bentConnector3">
            <a:avLst>
              <a:gd name="adj1" fmla="val -20057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278" name=""/>
          <p:cNvCxnSpPr>
            <a:stCxn id="1258" idx="1"/>
            <a:endCxn id="1253" idx="1"/>
          </p:cNvCxnSpPr>
          <p:nvPr/>
        </p:nvCxnSpPr>
        <p:spPr>
          <a:xfrm flipH="1" rot="10800000">
            <a:off x="3548520" y="2437560"/>
            <a:ext cx="475560" cy="2890080"/>
          </a:xfrm>
          <a:prstGeom prst="bentConnector3">
            <a:avLst>
              <a:gd name="adj1" fmla="val -687954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279" name=""/>
          <p:cNvCxnSpPr>
            <a:endCxn id="1253" idx="0"/>
          </p:cNvCxnSpPr>
          <p:nvPr/>
        </p:nvCxnSpPr>
        <p:spPr>
          <a:xfrm>
            <a:off x="3809880" y="1834920"/>
            <a:ext cx="1215360" cy="369000"/>
          </a:xfrm>
          <a:prstGeom prst="bentConnector2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1280" name=""/>
          <p:cNvSpPr/>
          <p:nvPr/>
        </p:nvSpPr>
        <p:spPr>
          <a:xfrm>
            <a:off x="2133720" y="2971800"/>
            <a:ext cx="1447560" cy="1219320"/>
          </a:xfrm>
          <a:prstGeom prst="flowChartDecision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ev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ch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8" dur="indefinite" restart="never" nodeType="tmRoot">
          <p:childTnLst>
            <p:seq>
              <p:cTn id="2999" dur="indefinite" nodeType="mainSeq">
                <p:childTnLst>
                  <p:par>
                    <p:cTn id="3000" fill="hold">
                      <p:stCondLst>
                        <p:cond delay="indefinite"/>
                      </p:stCondLst>
                      <p:childTnLst>
                        <p:par>
                          <p:cTn id="3001" fill="hold">
                            <p:stCondLst>
                              <p:cond delay="0"/>
                            </p:stCondLst>
                            <p:childTnLst>
                              <p:par>
                                <p:cTn id="3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4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2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6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4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8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2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6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0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0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4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5" fill="hold">
                            <p:stCondLst>
                              <p:cond delay="5500"/>
                            </p:stCondLst>
                            <p:childTnLst>
                              <p:par>
                                <p:cTn id="30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8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2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3" fill="hold">
                            <p:stCondLst>
                              <p:cond delay="6500"/>
                            </p:stCondLst>
                            <p:childTnLst>
                              <p:par>
                                <p:cTn id="30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7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0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1" fill="hold">
                            <p:stCondLst>
                              <p:cond delay="7500"/>
                            </p:stCondLst>
                            <p:childTnLst>
                              <p:par>
                                <p:cTn id="30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4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8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2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3" fill="hold">
                            <p:stCondLst>
                              <p:cond delay="9000"/>
                            </p:stCondLst>
                            <p:childTnLst>
                              <p:par>
                                <p:cTn id="30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6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7" fill="hold">
                            <p:stCondLst>
                              <p:cond delay="9500"/>
                            </p:stCondLst>
                            <p:childTnLst>
                              <p:par>
                                <p:cTn id="30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8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4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5" fill="hold">
                      <p:stCondLst>
                        <p:cond delay="indefinite"/>
                      </p:stCondLst>
                      <p:childTnLst>
                        <p:par>
                          <p:cTn id="3086" fill="hold">
                            <p:stCondLst>
                              <p:cond delay="0"/>
                            </p:stCondLst>
                            <p:childTnLst>
                              <p:par>
                                <p:cTn id="30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9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0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ile Opera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ile =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re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r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trun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876920" y="2743200"/>
            <a:ext cx="4114800" cy="24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pp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a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rite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08720" y="1557360"/>
            <a:ext cx="1600200" cy="266688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13640" y="2624040"/>
            <a:ext cx="838080" cy="45972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isk Schedul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nl-BE" sz="2800" spc="-1" strike="noStrike" baseline="-25000">
                <a:solidFill>
                  <a:srgbClr val="000000"/>
                </a:solidFill>
                <a:latin typeface="Tahoma"/>
              </a:rPr>
              <a:t>total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nl-BE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nl-BE" sz="2800" spc="-1" strike="noStrike" baseline="30000">
                <a:solidFill>
                  <a:srgbClr val="000000"/>
                </a:solidFill>
                <a:latin typeface="Tahoma"/>
              </a:rPr>
              <a:t>(j)</a:t>
            </a:r>
            <a:r>
              <a:rPr b="0" lang="nl-BE" sz="2800" spc="-1" strike="noStrike" baseline="-25000">
                <a:solidFill>
                  <a:srgbClr val="000000"/>
                </a:solidFill>
                <a:latin typeface="Tahoma"/>
              </a:rPr>
              <a:t>I/O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nl-BE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nl-BE" sz="2800" spc="-1" strike="noStrike" baseline="30000">
                <a:solidFill>
                  <a:srgbClr val="000000"/>
                </a:solidFill>
                <a:latin typeface="Tahoma"/>
              </a:rPr>
              <a:t>(j)</a:t>
            </a:r>
            <a:r>
              <a:rPr b="0" lang="nl-BE" sz="2800" spc="-1" strike="noStrike" baseline="-25000">
                <a:solidFill>
                  <a:srgbClr val="000000"/>
                </a:solidFill>
                <a:latin typeface="Tahoma"/>
              </a:rPr>
              <a:t>seek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nl-BE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nl-BE" sz="2800" spc="-1" strike="noStrike" baseline="30000">
                <a:solidFill>
                  <a:srgbClr val="000000"/>
                </a:solidFill>
                <a:latin typeface="Tahoma"/>
              </a:rPr>
              <a:t>(j)</a:t>
            </a:r>
            <a:r>
              <a:rPr b="0" lang="nl-BE" sz="2800" spc="-1" strike="noStrike" baseline="-25000">
                <a:solidFill>
                  <a:srgbClr val="000000"/>
                </a:solidFill>
                <a:latin typeface="Tahoma"/>
              </a:rPr>
              <a:t>latency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nl-BE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nl-BE" sz="2800" spc="-1" strike="noStrike" baseline="30000">
                <a:solidFill>
                  <a:srgbClr val="000000"/>
                </a:solidFill>
                <a:latin typeface="Tahoma"/>
              </a:rPr>
              <a:t>(j)</a:t>
            </a:r>
            <a:r>
              <a:rPr b="0" lang="nl-BE" sz="2800" spc="-1" strike="noStrike" baseline="-25000">
                <a:solidFill>
                  <a:srgbClr val="000000"/>
                </a:solidFill>
                <a:latin typeface="Tahoma"/>
              </a:rPr>
              <a:t>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3" name=""/>
          <p:cNvGrpSpPr/>
          <p:nvPr/>
        </p:nvGrpSpPr>
        <p:grpSpPr>
          <a:xfrm>
            <a:off x="2057400" y="4114800"/>
            <a:ext cx="1907640" cy="1294920"/>
            <a:chOff x="2057400" y="4114800"/>
            <a:chExt cx="1907640" cy="1294920"/>
          </a:xfrm>
        </p:grpSpPr>
        <p:sp>
          <p:nvSpPr>
            <p:cNvPr id="1284" name=""/>
            <p:cNvSpPr/>
            <p:nvPr/>
          </p:nvSpPr>
          <p:spPr>
            <a:xfrm>
              <a:off x="2057400" y="4114800"/>
              <a:ext cx="1907640" cy="431640"/>
            </a:xfrm>
            <a:prstGeom prst="rect">
              <a:avLst/>
            </a:prstGeom>
            <a:solidFill>
              <a:srgbClr val="a9f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ead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057400" y="4543200"/>
              <a:ext cx="1907640" cy="431280"/>
            </a:xfrm>
            <a:prstGeom prst="rect">
              <a:avLst/>
            </a:prstGeom>
            <a:solidFill>
              <a:srgbClr val="a9f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roc.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057400" y="4978080"/>
              <a:ext cx="1907640" cy="431640"/>
            </a:xfrm>
            <a:prstGeom prst="rect">
              <a:avLst/>
            </a:prstGeom>
            <a:solidFill>
              <a:srgbClr val="a9f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uf-addr.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457200" y="3276720"/>
            <a:ext cx="1439640" cy="1294920"/>
            <a:chOff x="457200" y="3276720"/>
            <a:chExt cx="1439640" cy="1294920"/>
          </a:xfrm>
        </p:grpSpPr>
        <p:sp>
          <p:nvSpPr>
            <p:cNvPr id="1288" name=""/>
            <p:cNvSpPr/>
            <p:nvPr/>
          </p:nvSpPr>
          <p:spPr>
            <a:xfrm>
              <a:off x="457200" y="3276720"/>
              <a:ext cx="1439640" cy="431640"/>
            </a:xfrm>
            <a:prstGeom prst="rect">
              <a:avLst/>
            </a:prstGeom>
            <a:solidFill>
              <a:srgbClr val="cecece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Disk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3705120"/>
              <a:ext cx="1439640" cy="431280"/>
            </a:xfrm>
            <a:prstGeom prst="rect">
              <a:avLst/>
            </a:prstGeom>
            <a:solidFill>
              <a:srgbClr val="cecece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us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57200" y="4140000"/>
              <a:ext cx="1439640" cy="431640"/>
            </a:xfrm>
            <a:prstGeom prst="rect">
              <a:avLst/>
            </a:prstGeom>
            <a:solidFill>
              <a:srgbClr val="cecece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eqLi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4191120" y="4114800"/>
            <a:ext cx="1907640" cy="1294920"/>
            <a:chOff x="4191120" y="4114800"/>
            <a:chExt cx="1907640" cy="1294920"/>
          </a:xfrm>
        </p:grpSpPr>
        <p:sp>
          <p:nvSpPr>
            <p:cNvPr id="1292" name=""/>
            <p:cNvSpPr/>
            <p:nvPr/>
          </p:nvSpPr>
          <p:spPr>
            <a:xfrm>
              <a:off x="4191120" y="4114800"/>
              <a:ext cx="1907640" cy="43164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ead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191120" y="4543200"/>
              <a:ext cx="1907640" cy="43128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roc.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191120" y="4978080"/>
              <a:ext cx="1907640" cy="43164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uf-addr.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6324480" y="4114800"/>
            <a:ext cx="1908000" cy="1294920"/>
            <a:chOff x="6324480" y="4114800"/>
            <a:chExt cx="1908000" cy="1294920"/>
          </a:xfrm>
        </p:grpSpPr>
        <p:sp>
          <p:nvSpPr>
            <p:cNvPr id="1296" name=""/>
            <p:cNvSpPr/>
            <p:nvPr/>
          </p:nvSpPr>
          <p:spPr>
            <a:xfrm>
              <a:off x="6324480" y="4114800"/>
              <a:ext cx="1908000" cy="43164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write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324480" y="4543200"/>
              <a:ext cx="1908000" cy="43128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roc.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324480" y="4978080"/>
              <a:ext cx="1908000" cy="43164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uf-addr.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9" name=""/>
          <p:cNvSpPr/>
          <p:nvPr/>
        </p:nvSpPr>
        <p:spPr>
          <a:xfrm>
            <a:off x="1523880" y="4191120"/>
            <a:ext cx="533520" cy="15228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cubicBezTo>
                  <a:pt x="68" y="48"/>
                  <a:pt x="136" y="0"/>
                  <a:pt x="192" y="0"/>
                </a:cubicBezTo>
                <a:cubicBezTo>
                  <a:pt x="248" y="0"/>
                  <a:pt x="292" y="48"/>
                  <a:pt x="336" y="96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505320" y="4114800"/>
            <a:ext cx="685800" cy="22860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144"/>
                </a:moveTo>
                <a:cubicBezTo>
                  <a:pt x="60" y="72"/>
                  <a:pt x="120" y="0"/>
                  <a:pt x="192" y="0"/>
                </a:cubicBezTo>
                <a:cubicBezTo>
                  <a:pt x="264" y="0"/>
                  <a:pt x="348" y="72"/>
                  <a:pt x="432" y="144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638680" y="4114800"/>
            <a:ext cx="685800" cy="22860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144"/>
                </a:moveTo>
                <a:cubicBezTo>
                  <a:pt x="60" y="72"/>
                  <a:pt x="120" y="0"/>
                  <a:pt x="192" y="0"/>
                </a:cubicBezTo>
                <a:cubicBezTo>
                  <a:pt x="264" y="0"/>
                  <a:pt x="348" y="72"/>
                  <a:pt x="432" y="144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8077320" y="4343400"/>
            <a:ext cx="761400" cy="533520"/>
            <a:chOff x="8077320" y="4343400"/>
            <a:chExt cx="761400" cy="533520"/>
          </a:xfrm>
        </p:grpSpPr>
        <p:grpSp>
          <p:nvGrpSpPr>
            <p:cNvPr id="1303" name=""/>
            <p:cNvGrpSpPr/>
            <p:nvPr/>
          </p:nvGrpSpPr>
          <p:grpSpPr>
            <a:xfrm>
              <a:off x="8305560" y="4648320"/>
              <a:ext cx="533160" cy="228600"/>
              <a:chOff x="8305560" y="4648320"/>
              <a:chExt cx="533160" cy="228600"/>
            </a:xfrm>
          </p:grpSpPr>
          <p:sp>
            <p:nvSpPr>
              <p:cNvPr id="1304" name=""/>
              <p:cNvSpPr/>
              <p:nvPr/>
            </p:nvSpPr>
            <p:spPr>
              <a:xfrm>
                <a:off x="8305560" y="4648320"/>
                <a:ext cx="533160" cy="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8372160" y="4762800"/>
                <a:ext cx="399960" cy="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8438760" y="4876920"/>
                <a:ext cx="266760" cy="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8077320" y="4343400"/>
              <a:ext cx="456840" cy="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534160" y="4343400"/>
              <a:ext cx="0" cy="30492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9" name=""/>
          <p:cNvGrpSpPr/>
          <p:nvPr/>
        </p:nvGrpSpPr>
        <p:grpSpPr>
          <a:xfrm>
            <a:off x="457200" y="4572000"/>
            <a:ext cx="1439640" cy="1294920"/>
            <a:chOff x="457200" y="4572000"/>
            <a:chExt cx="1439640" cy="1294920"/>
          </a:xfrm>
        </p:grpSpPr>
        <p:sp>
          <p:nvSpPr>
            <p:cNvPr id="1310" name=""/>
            <p:cNvSpPr/>
            <p:nvPr/>
          </p:nvSpPr>
          <p:spPr>
            <a:xfrm>
              <a:off x="457200" y="4572000"/>
              <a:ext cx="1439640" cy="43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Disk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57200" y="5000400"/>
              <a:ext cx="1439640" cy="43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Id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57200" y="5435280"/>
              <a:ext cx="1439640" cy="43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ReqLi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1752480" y="5562720"/>
            <a:ext cx="762120" cy="532800"/>
            <a:chOff x="1752480" y="5562720"/>
            <a:chExt cx="762120" cy="532800"/>
          </a:xfrm>
        </p:grpSpPr>
        <p:grpSp>
          <p:nvGrpSpPr>
            <p:cNvPr id="1314" name=""/>
            <p:cNvGrpSpPr/>
            <p:nvPr/>
          </p:nvGrpSpPr>
          <p:grpSpPr>
            <a:xfrm>
              <a:off x="1981080" y="5867280"/>
              <a:ext cx="533520" cy="228240"/>
              <a:chOff x="1981080" y="5867280"/>
              <a:chExt cx="533520" cy="228240"/>
            </a:xfrm>
          </p:grpSpPr>
          <p:sp>
            <p:nvSpPr>
              <p:cNvPr id="1315" name=""/>
              <p:cNvSpPr/>
              <p:nvPr/>
            </p:nvSpPr>
            <p:spPr>
              <a:xfrm>
                <a:off x="1981080" y="5867280"/>
                <a:ext cx="533520" cy="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2047680" y="5981400"/>
                <a:ext cx="399960" cy="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2114280" y="6095520"/>
                <a:ext cx="266760" cy="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8" name=""/>
            <p:cNvSpPr/>
            <p:nvPr/>
          </p:nvSpPr>
          <p:spPr>
            <a:xfrm>
              <a:off x="1752480" y="5562720"/>
              <a:ext cx="457200" cy="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209680" y="5562720"/>
              <a:ext cx="0" cy="30456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2514600" y="2552760"/>
            <a:ext cx="1523880" cy="992880"/>
            <a:chOff x="2514600" y="2552760"/>
            <a:chExt cx="1523880" cy="992880"/>
          </a:xfrm>
        </p:grpSpPr>
        <p:sp>
          <p:nvSpPr>
            <p:cNvPr id="1321" name=""/>
            <p:cNvSpPr/>
            <p:nvPr/>
          </p:nvSpPr>
          <p:spPr>
            <a:xfrm>
              <a:off x="3048120" y="2552760"/>
              <a:ext cx="304560" cy="609480"/>
            </a:xfrm>
            <a:prstGeom prst="upArrow">
              <a:avLst>
                <a:gd name="adj1" fmla="val 50000"/>
                <a:gd name="adj2" fmla="val 5003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514600" y="30859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optim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381560" y="2552760"/>
            <a:ext cx="1523880" cy="992880"/>
            <a:chOff x="4381560" y="2552760"/>
            <a:chExt cx="1523880" cy="992880"/>
          </a:xfrm>
        </p:grpSpPr>
        <p:sp>
          <p:nvSpPr>
            <p:cNvPr id="1324" name=""/>
            <p:cNvSpPr/>
            <p:nvPr/>
          </p:nvSpPr>
          <p:spPr>
            <a:xfrm>
              <a:off x="4915080" y="2552760"/>
              <a:ext cx="304560" cy="609480"/>
            </a:xfrm>
            <a:prstGeom prst="upArrow">
              <a:avLst>
                <a:gd name="adj1" fmla="val 50000"/>
                <a:gd name="adj2" fmla="val 5003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81560" y="30859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difficu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248520" y="2552760"/>
            <a:ext cx="1523880" cy="992880"/>
            <a:chOff x="6248520" y="2552760"/>
            <a:chExt cx="1523880" cy="992880"/>
          </a:xfrm>
        </p:grpSpPr>
        <p:sp>
          <p:nvSpPr>
            <p:cNvPr id="1327" name=""/>
            <p:cNvSpPr/>
            <p:nvPr/>
          </p:nvSpPr>
          <p:spPr>
            <a:xfrm>
              <a:off x="6782040" y="2552760"/>
              <a:ext cx="304560" cy="609480"/>
            </a:xfrm>
            <a:prstGeom prst="upArrow">
              <a:avLst>
                <a:gd name="adj1" fmla="val 50000"/>
                <a:gd name="adj2" fmla="val 5003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248520" y="30859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cons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>
            <a:off x="4067280" y="5589720"/>
            <a:ext cx="2012760" cy="54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00" y="-14253"/>
                </a:moveTo>
                <a:lnTo>
                  <a:pt x="-818" y="4521"/>
                </a:lnTo>
              </a:path>
              <a:path w="21600" h="21600">
                <a:moveTo>
                  <a:pt x="-818" y="0"/>
                </a:moveTo>
                <a:lnTo>
                  <a:pt x="-818" y="21600"/>
                </a:lnTo>
              </a:path>
            </a:pathLst>
          </a:custGeom>
          <a:noFill/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Current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1" dur="indefinite" restart="never" nodeType="tmRoot">
          <p:childTnLst>
            <p:seq>
              <p:cTn id="3092" dur="indefinite" nodeType="mainSeq">
                <p:childTnLst>
                  <p:par>
                    <p:cTn id="3093" fill="hold">
                      <p:stCondLst>
                        <p:cond delay="indefinite"/>
                      </p:stCondLst>
                      <p:childTnLst>
                        <p:par>
                          <p:cTn id="3094" fill="hold">
                            <p:stCondLst>
                              <p:cond delay="0"/>
                            </p:stCondLst>
                            <p:childTnLst>
                              <p:par>
                                <p:cTn id="30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7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2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3" fill="hold">
                      <p:stCondLst>
                        <p:cond delay="indefinite"/>
                      </p:stCondLst>
                      <p:childTnLst>
                        <p:par>
                          <p:cTn id="3104" fill="hold">
                            <p:stCondLst>
                              <p:cond delay="0"/>
                            </p:stCondLst>
                            <p:childTnLst>
                              <p:par>
                                <p:cTn id="3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7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8" fill="hold">
                      <p:stCondLst>
                        <p:cond delay="indefinite"/>
                      </p:stCondLst>
                      <p:childTnLst>
                        <p:par>
                          <p:cTn id="3109" fill="hold">
                            <p:stCondLst>
                              <p:cond delay="0"/>
                            </p:stCondLst>
                            <p:childTnLst>
                              <p:par>
                                <p:cTn id="3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2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6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0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3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7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1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5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9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3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4" fill="hold">
                      <p:stCondLst>
                        <p:cond delay="indefinite"/>
                      </p:stCondLst>
                      <p:childTnLst>
                        <p:par>
                          <p:cTn id="3145" fill="hold">
                            <p:stCondLst>
                              <p:cond delay="0"/>
                            </p:stCondLst>
                            <p:childTnLst>
                              <p:par>
                                <p:cTn id="3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8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9" fill="hold">
                            <p:stCondLst>
                              <p:cond delay="500"/>
                            </p:stCondLst>
                            <p:childTnLst>
                              <p:par>
                                <p:cTn id="3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2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irst Come, First Ser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hortest Seek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Loo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ircular Loo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31" name=""/>
          <p:cNvGrpSpPr/>
          <p:nvPr/>
        </p:nvGrpSpPr>
        <p:grpSpPr>
          <a:xfrm>
            <a:off x="380880" y="1600200"/>
            <a:ext cx="8686440" cy="761760"/>
            <a:chOff x="380880" y="1600200"/>
            <a:chExt cx="8686440" cy="761760"/>
          </a:xfrm>
        </p:grpSpPr>
        <p:sp>
          <p:nvSpPr>
            <p:cNvPr id="1332" name=""/>
            <p:cNvSpPr/>
            <p:nvPr/>
          </p:nvSpPr>
          <p:spPr>
            <a:xfrm>
              <a:off x="673200" y="1790640"/>
              <a:ext cx="1079280" cy="469800"/>
            </a:xfrm>
            <a:prstGeom prst="rect">
              <a:avLst/>
            </a:prstGeom>
            <a:solidFill>
              <a:srgbClr val="a9f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044800" y="17906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416400" y="17906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W 1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788000" y="17906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W 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159600" y="17906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1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531200" y="17906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W 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676520" y="16002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048120" y="16002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419720" y="16002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791320" y="16002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162920" y="16002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3" name=""/>
            <p:cNvGrpSpPr/>
            <p:nvPr/>
          </p:nvGrpSpPr>
          <p:grpSpPr>
            <a:xfrm>
              <a:off x="8534520" y="1905120"/>
              <a:ext cx="532800" cy="456840"/>
              <a:chOff x="8534520" y="1905120"/>
              <a:chExt cx="532800" cy="456840"/>
            </a:xfrm>
          </p:grpSpPr>
          <p:grpSp>
            <p:nvGrpSpPr>
              <p:cNvPr id="1344" name=""/>
              <p:cNvGrpSpPr/>
              <p:nvPr/>
            </p:nvGrpSpPr>
            <p:grpSpPr>
              <a:xfrm>
                <a:off x="8694360" y="2166120"/>
                <a:ext cx="372960" cy="195840"/>
                <a:chOff x="8694360" y="2166120"/>
                <a:chExt cx="372960" cy="19584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8694360" y="2166120"/>
                  <a:ext cx="37296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8740800" y="2264040"/>
                  <a:ext cx="27972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8787240" y="2361960"/>
                  <a:ext cx="18648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8" name=""/>
              <p:cNvSpPr/>
              <p:nvPr/>
            </p:nvSpPr>
            <p:spPr>
              <a:xfrm>
                <a:off x="8534520" y="1905120"/>
                <a:ext cx="319680" cy="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8854200" y="1905120"/>
                <a:ext cx="0" cy="26100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0" name=""/>
            <p:cNvSpPr/>
            <p:nvPr/>
          </p:nvSpPr>
          <p:spPr>
            <a:xfrm>
              <a:off x="380880" y="1600200"/>
              <a:ext cx="457200" cy="22860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1" name="PlaceHolder 2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isk Schedul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2" name=""/>
          <p:cNvSpPr/>
          <p:nvPr/>
        </p:nvSpPr>
        <p:spPr>
          <a:xfrm>
            <a:off x="4716360" y="2563920"/>
            <a:ext cx="259884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889" y="-9463"/>
                </a:moveTo>
                <a:lnTo>
                  <a:pt x="-633" y="5676"/>
                </a:lnTo>
              </a:path>
              <a:path w="21600" h="21600">
                <a:moveTo>
                  <a:pt x="-633" y="0"/>
                </a:moveTo>
                <a:lnTo>
                  <a:pt x="-633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ylinder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600200" y="2563920"/>
            <a:ext cx="266688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10" y="-18118"/>
                </a:moveTo>
                <a:lnTo>
                  <a:pt x="-617" y="5254"/>
                </a:lnTo>
              </a:path>
              <a:path w="21600" h="21600">
                <a:moveTo>
                  <a:pt x="-617" y="0"/>
                </a:moveTo>
                <a:lnTo>
                  <a:pt x="-617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urrent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814920" y="1752480"/>
            <a:ext cx="761760" cy="533520"/>
          </a:xfrm>
          <a:prstGeom prst="ellipse">
            <a:avLst/>
          </a:prstGeom>
          <a:noFill/>
          <a:ln cap="rnd" w="76320">
            <a:solidFill>
              <a:srgbClr val="00ae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3" dur="indefinite" restart="never" nodeType="tmRoot">
          <p:childTnLst>
            <p:seq>
              <p:cTn id="3154" dur="indefinite" nodeType="mainSeq">
                <p:childTnLst>
                  <p:par>
                    <p:cTn id="3155" fill="hold">
                      <p:stCondLst>
                        <p:cond delay="0"/>
                      </p:stCondLst>
                      <p:childTnLst>
                        <p:par>
                          <p:cTn id="3156" fill="hold">
                            <p:stCondLst>
                              <p:cond delay="0"/>
                            </p:stCondLst>
                            <p:childTnLst>
                              <p:par>
                                <p:cTn id="3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9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0" fill="hold">
                      <p:stCondLst>
                        <p:cond delay="indefinite"/>
                      </p:stCondLst>
                      <p:childTnLst>
                        <p:par>
                          <p:cTn id="3161" fill="hold">
                            <p:stCondLst>
                              <p:cond delay="0"/>
                            </p:stCondLst>
                            <p:childTnLst>
                              <p:par>
                                <p:cTn id="31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4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9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0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1" fill="hold">
                            <p:stCondLst>
                              <p:cond delay="500"/>
                            </p:stCondLst>
                            <p:childTnLst>
                              <p:par>
                                <p:cTn id="317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4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5" fill="hold">
                      <p:stCondLst>
                        <p:cond delay="indefinite"/>
                      </p:stCondLst>
                      <p:childTnLst>
                        <p:par>
                          <p:cTn id="3176" fill="hold">
                            <p:stCondLst>
                              <p:cond delay="0"/>
                            </p:stCondLst>
                            <p:childTnLst>
                              <p:par>
                                <p:cTn id="3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9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CF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irst Come, First Ser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7" name=""/>
          <p:cNvGrpSpPr/>
          <p:nvPr/>
        </p:nvGrpSpPr>
        <p:grpSpPr>
          <a:xfrm>
            <a:off x="380880" y="2057400"/>
            <a:ext cx="8686440" cy="761760"/>
            <a:chOff x="380880" y="2057400"/>
            <a:chExt cx="8686440" cy="761760"/>
          </a:xfrm>
        </p:grpSpPr>
        <p:sp>
          <p:nvSpPr>
            <p:cNvPr id="1358" name=""/>
            <p:cNvSpPr/>
            <p:nvPr/>
          </p:nvSpPr>
          <p:spPr>
            <a:xfrm>
              <a:off x="673200" y="2247840"/>
              <a:ext cx="1079280" cy="469800"/>
            </a:xfrm>
            <a:prstGeom prst="rect">
              <a:avLst/>
            </a:prstGeom>
            <a:solidFill>
              <a:srgbClr val="a9f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0448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4164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W 1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7880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W 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1596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1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5312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W 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6765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0481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4197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7913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1629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9" name=""/>
            <p:cNvGrpSpPr/>
            <p:nvPr/>
          </p:nvGrpSpPr>
          <p:grpSpPr>
            <a:xfrm>
              <a:off x="8534520" y="2362320"/>
              <a:ext cx="532800" cy="456840"/>
              <a:chOff x="8534520" y="2362320"/>
              <a:chExt cx="532800" cy="456840"/>
            </a:xfrm>
          </p:grpSpPr>
          <p:grpSp>
            <p:nvGrpSpPr>
              <p:cNvPr id="1370" name=""/>
              <p:cNvGrpSpPr/>
              <p:nvPr/>
            </p:nvGrpSpPr>
            <p:grpSpPr>
              <a:xfrm>
                <a:off x="8694360" y="2623320"/>
                <a:ext cx="372960" cy="195840"/>
                <a:chOff x="8694360" y="2623320"/>
                <a:chExt cx="372960" cy="195840"/>
              </a:xfrm>
            </p:grpSpPr>
            <p:sp>
              <p:nvSpPr>
                <p:cNvPr id="1371" name=""/>
                <p:cNvSpPr/>
                <p:nvPr/>
              </p:nvSpPr>
              <p:spPr>
                <a:xfrm>
                  <a:off x="8694360" y="2623320"/>
                  <a:ext cx="37296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8740800" y="2721240"/>
                  <a:ext cx="27972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8787240" y="2819160"/>
                  <a:ext cx="18648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4" name=""/>
              <p:cNvSpPr/>
              <p:nvPr/>
            </p:nvSpPr>
            <p:spPr>
              <a:xfrm>
                <a:off x="8534520" y="2362320"/>
                <a:ext cx="319680" cy="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8854200" y="2362320"/>
                <a:ext cx="0" cy="26100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6" name=""/>
            <p:cNvSpPr/>
            <p:nvPr/>
          </p:nvSpPr>
          <p:spPr>
            <a:xfrm>
              <a:off x="380880" y="2057400"/>
              <a:ext cx="457200" cy="22860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7" name=""/>
          <p:cNvGrpSpPr/>
          <p:nvPr/>
        </p:nvGrpSpPr>
        <p:grpSpPr>
          <a:xfrm>
            <a:off x="533520" y="3048120"/>
            <a:ext cx="8305560" cy="685800"/>
            <a:chOff x="533520" y="3048120"/>
            <a:chExt cx="8305560" cy="685800"/>
          </a:xfrm>
        </p:grpSpPr>
        <p:grpSp>
          <p:nvGrpSpPr>
            <p:cNvPr id="1378" name=""/>
            <p:cNvGrpSpPr/>
            <p:nvPr/>
          </p:nvGrpSpPr>
          <p:grpSpPr>
            <a:xfrm>
              <a:off x="685800" y="3429000"/>
              <a:ext cx="6629400" cy="304920"/>
              <a:chOff x="685800" y="3429000"/>
              <a:chExt cx="6629400" cy="304920"/>
            </a:xfrm>
          </p:grpSpPr>
          <p:sp>
            <p:nvSpPr>
              <p:cNvPr id="1379" name=""/>
              <p:cNvSpPr/>
              <p:nvPr/>
            </p:nvSpPr>
            <p:spPr>
              <a:xfrm>
                <a:off x="8503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10170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11818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134784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151452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6794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8453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201024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21769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234324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5077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6740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8389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0052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17160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33364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35028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36676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38340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00068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41652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43315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4964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46627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82904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49939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1598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3247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49144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565776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58222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59889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15384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3198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48648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6513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8173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9822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1488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31520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8580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0" name=""/>
            <p:cNvSpPr/>
            <p:nvPr/>
          </p:nvSpPr>
          <p:spPr>
            <a:xfrm>
              <a:off x="533520" y="3048120"/>
              <a:ext cx="830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0        25      50        75      100     125     150     175      200   </a:t>
              </a:r>
              <a:r>
                <a:rPr b="0" lang="nl-BE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h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1" name=""/>
          <p:cNvGrpSpPr/>
          <p:nvPr/>
        </p:nvGrpSpPr>
        <p:grpSpPr>
          <a:xfrm>
            <a:off x="685800" y="3581280"/>
            <a:ext cx="7010280" cy="2225880"/>
            <a:chOff x="685800" y="3581280"/>
            <a:chExt cx="7010280" cy="2225880"/>
          </a:xfrm>
        </p:grpSpPr>
        <p:grpSp>
          <p:nvGrpSpPr>
            <p:cNvPr id="1422" name=""/>
            <p:cNvGrpSpPr/>
            <p:nvPr/>
          </p:nvGrpSpPr>
          <p:grpSpPr>
            <a:xfrm>
              <a:off x="685800" y="3886200"/>
              <a:ext cx="7010280" cy="1600200"/>
              <a:chOff x="685800" y="3886200"/>
              <a:chExt cx="7010280" cy="1600200"/>
            </a:xfrm>
          </p:grpSpPr>
          <p:sp>
            <p:nvSpPr>
              <p:cNvPr id="1423" name=""/>
              <p:cNvSpPr/>
              <p:nvPr/>
            </p:nvSpPr>
            <p:spPr>
              <a:xfrm>
                <a:off x="685800" y="452592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85800" y="484488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85800" y="516564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85800" y="548640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85800" y="388620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85800" y="420516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9" name=""/>
            <p:cNvSpPr/>
            <p:nvPr/>
          </p:nvSpPr>
          <p:spPr>
            <a:xfrm>
              <a:off x="1017720" y="358128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79400" y="358128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336840" y="358128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495680" y="358128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313320" y="359712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4" name=""/>
          <p:cNvSpPr/>
          <p:nvPr/>
        </p:nvSpPr>
        <p:spPr>
          <a:xfrm>
            <a:off x="3914640" y="3809880"/>
            <a:ext cx="152640" cy="152640"/>
          </a:xfrm>
          <a:prstGeom prst="ellipse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938160" y="4114800"/>
            <a:ext cx="152280" cy="15228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224760" y="4419720"/>
            <a:ext cx="152280" cy="15228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623960" y="4753080"/>
            <a:ext cx="152280" cy="15228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419720" y="5076720"/>
            <a:ext cx="152280" cy="15264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276720" y="5410080"/>
            <a:ext cx="152280" cy="15264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0" name=""/>
          <p:cNvCxnSpPr>
            <a:stCxn id="1434" idx="2"/>
            <a:endCxn id="1435" idx="6"/>
          </p:cNvCxnSpPr>
          <p:nvPr/>
        </p:nvCxnSpPr>
        <p:spPr>
          <a:xfrm flipH="1">
            <a:off x="1089720" y="3885840"/>
            <a:ext cx="2824920" cy="30564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441" name=""/>
          <p:cNvCxnSpPr>
            <a:stCxn id="1435" idx="6"/>
            <a:endCxn id="1436" idx="2"/>
          </p:cNvCxnSpPr>
          <p:nvPr/>
        </p:nvCxnSpPr>
        <p:spPr>
          <a:xfrm>
            <a:off x="1090440" y="4191120"/>
            <a:ext cx="5135040" cy="3052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442" name=""/>
          <p:cNvCxnSpPr>
            <a:stCxn id="1436" idx="2"/>
            <a:endCxn id="1437" idx="6"/>
          </p:cNvCxnSpPr>
          <p:nvPr/>
        </p:nvCxnSpPr>
        <p:spPr>
          <a:xfrm flipH="1">
            <a:off x="1775520" y="4495680"/>
            <a:ext cx="4449240" cy="334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443" name=""/>
          <p:cNvCxnSpPr>
            <a:stCxn id="1437" idx="6"/>
            <a:endCxn id="1438" idx="2"/>
          </p:cNvCxnSpPr>
          <p:nvPr/>
        </p:nvCxnSpPr>
        <p:spPr>
          <a:xfrm>
            <a:off x="1775880" y="4829040"/>
            <a:ext cx="2644200" cy="3247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444" name=""/>
          <p:cNvCxnSpPr>
            <a:stCxn id="1438" idx="2"/>
            <a:endCxn id="1439" idx="3"/>
          </p:cNvCxnSpPr>
          <p:nvPr/>
        </p:nvCxnSpPr>
        <p:spPr>
          <a:xfrm flipH="1">
            <a:off x="3298320" y="5153040"/>
            <a:ext cx="1121760" cy="388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1445" name=""/>
          <p:cNvSpPr/>
          <p:nvPr/>
        </p:nvSpPr>
        <p:spPr>
          <a:xfrm>
            <a:off x="7848720" y="3809880"/>
            <a:ext cx="107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90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912080" y="413388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60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912080" y="445788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40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846920" y="478152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85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7846920" y="510552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0" name=""/>
          <p:cNvGrpSpPr/>
          <p:nvPr/>
        </p:nvGrpSpPr>
        <p:grpSpPr>
          <a:xfrm>
            <a:off x="7772400" y="5610240"/>
            <a:ext cx="1184400" cy="485640"/>
            <a:chOff x="7772400" y="5610240"/>
            <a:chExt cx="1184400" cy="485640"/>
          </a:xfrm>
        </p:grpSpPr>
        <p:sp>
          <p:nvSpPr>
            <p:cNvPr id="1451" name=""/>
            <p:cNvSpPr/>
            <p:nvPr/>
          </p:nvSpPr>
          <p:spPr>
            <a:xfrm>
              <a:off x="7877160" y="5638680"/>
              <a:ext cx="1079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5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772400" y="561024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0" dur="indefinite" restart="never" nodeType="tmRoot">
          <p:childTnLst>
            <p:seq>
              <p:cTn id="3181" dur="indefinite" nodeType="mainSeq">
                <p:childTnLst>
                  <p:par>
                    <p:cTn id="3182" fill="hold">
                      <p:stCondLst>
                        <p:cond delay="indefinite"/>
                      </p:stCondLst>
                      <p:childTnLst>
                        <p:par>
                          <p:cTn id="3183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6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7" fill="hold">
                      <p:stCondLst>
                        <p:cond delay="indefinite"/>
                      </p:stCondLst>
                      <p:childTnLst>
                        <p:par>
                          <p:cTn id="3188" fill="hold">
                            <p:stCondLst>
                              <p:cond delay="0"/>
                            </p:stCondLst>
                            <p:childTnLst>
                              <p:par>
                                <p:cTn id="3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1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2" fill="hold">
                      <p:stCondLst>
                        <p:cond delay="indefinite"/>
                      </p:stCondLst>
                      <p:childTnLst>
                        <p:par>
                          <p:cTn id="3193" fill="hold">
                            <p:stCondLst>
                              <p:cond delay="0"/>
                            </p:stCondLst>
                            <p:childTnLst>
                              <p:par>
                                <p:cTn id="3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6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7" fill="hold">
                      <p:stCondLst>
                        <p:cond delay="indefinite"/>
                      </p:stCondLst>
                      <p:childTnLst>
                        <p:par>
                          <p:cTn id="3198" fill="hold">
                            <p:stCondLst>
                              <p:cond delay="0"/>
                            </p:stCondLst>
                            <p:childTnLst>
                              <p:par>
                                <p:cTn id="3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1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2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3" fill="hold">
                      <p:stCondLst>
                        <p:cond delay="indefinite"/>
                      </p:stCondLst>
                      <p:childTnLst>
                        <p:par>
                          <p:cTn id="3204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7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8" fill="hold">
                            <p:stCondLst>
                              <p:cond delay="500"/>
                            </p:stCondLst>
                            <p:childTnLst>
                              <p:par>
                                <p:cTn id="3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1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2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6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7" fill="hold">
                      <p:stCondLst>
                        <p:cond delay="indefinite"/>
                      </p:stCondLst>
                      <p:childTnLst>
                        <p:par>
                          <p:cTn id="3218" fill="hold">
                            <p:stCondLst>
                              <p:cond delay="0"/>
                            </p:stCondLst>
                            <p:childTnLst>
                              <p:par>
                                <p:cTn id="3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1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5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6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7" fill="hold">
                      <p:stCondLst>
                        <p:cond delay="indefinite"/>
                      </p:stCondLst>
                      <p:childTnLst>
                        <p:par>
                          <p:cTn id="3228" fill="hold">
                            <p:stCondLst>
                              <p:cond delay="0"/>
                            </p:stCondLst>
                            <p:childTnLst>
                              <p:par>
                                <p:cTn id="3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1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fill="hold">
                      <p:stCondLst>
                        <p:cond delay="indefinite"/>
                      </p:stCondLst>
                      <p:childTnLst>
                        <p:par>
                          <p:cTn id="3233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36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7" fill="hold">
                            <p:stCondLst>
                              <p:cond delay="500"/>
                            </p:stCondLst>
                            <p:childTnLst>
                              <p:par>
                                <p:cTn id="3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0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1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5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6" fill="hold">
                      <p:stCondLst>
                        <p:cond delay="indefinite"/>
                      </p:stCondLst>
                      <p:childTnLst>
                        <p:par>
                          <p:cTn id="3247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0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1" fill="hold">
                            <p:stCondLst>
                              <p:cond delay="500"/>
                            </p:stCondLst>
                            <p:childTnLst>
                              <p:par>
                                <p:cTn id="3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4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5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9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0" fill="hold">
                      <p:stCondLst>
                        <p:cond delay="indefinite"/>
                      </p:stCondLst>
                      <p:childTnLst>
                        <p:par>
                          <p:cTn id="3261" fill="hold">
                            <p:stCondLst>
                              <p:cond delay="0"/>
                            </p:stCondLst>
                            <p:childTnLst>
                              <p:par>
                                <p:cTn id="32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64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8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9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3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4" fill="hold">
                      <p:stCondLst>
                        <p:cond delay="indefinite"/>
                      </p:stCondLst>
                      <p:childTnLst>
                        <p:par>
                          <p:cTn id="3275" fill="hold">
                            <p:stCondLst>
                              <p:cond delay="0"/>
                            </p:stCondLst>
                            <p:childTnLst>
                              <p:par>
                                <p:cTn id="3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8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CF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a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Wild Swing of H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Not fastest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9" dur="indefinite" restart="never" nodeType="tmRoot">
          <p:childTnLst>
            <p:seq>
              <p:cTn id="3280" dur="indefinite" nodeType="mainSeq">
                <p:childTnLst>
                  <p:par>
                    <p:cTn id="3281" fill="hold">
                      <p:stCondLst>
                        <p:cond delay="indefinite"/>
                      </p:stCondLst>
                      <p:childTnLst>
                        <p:par>
                          <p:cTn id="3282" fill="hold">
                            <p:stCondLst>
                              <p:cond delay="0"/>
                            </p:stCondLst>
                            <p:childTnLst>
                              <p:par>
                                <p:cTn id="32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5" dur="500"/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90" dur="500"/>
                                        <p:tgtEl>
                                          <p:spTgt spid="1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1" fill="hold">
                      <p:stCondLst>
                        <p:cond delay="indefinite"/>
                      </p:stCondLst>
                      <p:childTnLst>
                        <p:par>
                          <p:cTn id="3292" fill="hold">
                            <p:stCondLst>
                              <p:cond delay="0"/>
                            </p:stCondLst>
                            <p:childTnLst>
                              <p:par>
                                <p:cTn id="32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95" dur="500"/>
                                        <p:tgtEl>
                                          <p:spTgt spid="1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6" fill="hold">
                      <p:stCondLst>
                        <p:cond delay="indefinite"/>
                      </p:stCondLst>
                      <p:childTnLst>
                        <p:par>
                          <p:cTn id="3297" fill="hold">
                            <p:stCondLst>
                              <p:cond delay="0"/>
                            </p:stCondLst>
                            <p:childTnLst>
                              <p:par>
                                <p:cTn id="3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0" dur="500"/>
                                        <p:tgtEl>
                                          <p:spTgt spid="1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STF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hortest Seek Time Fir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380880" y="2057400"/>
            <a:ext cx="8686440" cy="761760"/>
            <a:chOff x="380880" y="2057400"/>
            <a:chExt cx="8686440" cy="761760"/>
          </a:xfrm>
        </p:grpSpPr>
        <p:sp>
          <p:nvSpPr>
            <p:cNvPr id="1458" name=""/>
            <p:cNvSpPr/>
            <p:nvPr/>
          </p:nvSpPr>
          <p:spPr>
            <a:xfrm>
              <a:off x="673200" y="2247840"/>
              <a:ext cx="1079280" cy="469800"/>
            </a:xfrm>
            <a:prstGeom prst="rect">
              <a:avLst/>
            </a:prstGeom>
            <a:solidFill>
              <a:srgbClr val="a9f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0448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4164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W 1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7880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W 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1596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1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5312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W 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6765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0481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4197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7913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1629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9" name=""/>
            <p:cNvGrpSpPr/>
            <p:nvPr/>
          </p:nvGrpSpPr>
          <p:grpSpPr>
            <a:xfrm>
              <a:off x="8534520" y="2362320"/>
              <a:ext cx="532800" cy="456840"/>
              <a:chOff x="8534520" y="2362320"/>
              <a:chExt cx="532800" cy="456840"/>
            </a:xfrm>
          </p:grpSpPr>
          <p:grpSp>
            <p:nvGrpSpPr>
              <p:cNvPr id="1470" name=""/>
              <p:cNvGrpSpPr/>
              <p:nvPr/>
            </p:nvGrpSpPr>
            <p:grpSpPr>
              <a:xfrm>
                <a:off x="8694360" y="2623320"/>
                <a:ext cx="372960" cy="195840"/>
                <a:chOff x="8694360" y="2623320"/>
                <a:chExt cx="372960" cy="19584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8694360" y="2623320"/>
                  <a:ext cx="37296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8740800" y="2721240"/>
                  <a:ext cx="27972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8787240" y="2819160"/>
                  <a:ext cx="18648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4" name=""/>
              <p:cNvSpPr/>
              <p:nvPr/>
            </p:nvSpPr>
            <p:spPr>
              <a:xfrm>
                <a:off x="8534520" y="2362320"/>
                <a:ext cx="319680" cy="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8854200" y="2362320"/>
                <a:ext cx="0" cy="26100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6" name=""/>
            <p:cNvSpPr/>
            <p:nvPr/>
          </p:nvSpPr>
          <p:spPr>
            <a:xfrm>
              <a:off x="380880" y="2057400"/>
              <a:ext cx="457200" cy="22860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533520" y="3048120"/>
            <a:ext cx="8305560" cy="685800"/>
            <a:chOff x="533520" y="3048120"/>
            <a:chExt cx="8305560" cy="685800"/>
          </a:xfrm>
        </p:grpSpPr>
        <p:grpSp>
          <p:nvGrpSpPr>
            <p:cNvPr id="1478" name=""/>
            <p:cNvGrpSpPr/>
            <p:nvPr/>
          </p:nvGrpSpPr>
          <p:grpSpPr>
            <a:xfrm>
              <a:off x="685800" y="3429000"/>
              <a:ext cx="6629400" cy="304920"/>
              <a:chOff x="685800" y="3429000"/>
              <a:chExt cx="6629400" cy="304920"/>
            </a:xfrm>
          </p:grpSpPr>
          <p:sp>
            <p:nvSpPr>
              <p:cNvPr id="1479" name=""/>
              <p:cNvSpPr/>
              <p:nvPr/>
            </p:nvSpPr>
            <p:spPr>
              <a:xfrm>
                <a:off x="8503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10170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1818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134784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151452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6794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8453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201024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21769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34324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5077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6740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28389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0052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17160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3364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5028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36676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38340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00068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41652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315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4964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6627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482904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9939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51598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53247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549144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565776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58222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59889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15384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3198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48648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66513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68173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69822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1488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31520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8580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0" name=""/>
            <p:cNvSpPr/>
            <p:nvPr/>
          </p:nvSpPr>
          <p:spPr>
            <a:xfrm>
              <a:off x="533520" y="3048120"/>
              <a:ext cx="830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0        25      50        75      100     125     150     175     200   </a:t>
              </a:r>
              <a:r>
                <a:rPr b="0" lang="nl-BE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h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685800" y="3581280"/>
            <a:ext cx="7010280" cy="2225880"/>
            <a:chOff x="685800" y="3581280"/>
            <a:chExt cx="7010280" cy="2225880"/>
          </a:xfrm>
        </p:grpSpPr>
        <p:grpSp>
          <p:nvGrpSpPr>
            <p:cNvPr id="1522" name=""/>
            <p:cNvGrpSpPr/>
            <p:nvPr/>
          </p:nvGrpSpPr>
          <p:grpSpPr>
            <a:xfrm>
              <a:off x="685800" y="3886200"/>
              <a:ext cx="7010280" cy="1600200"/>
              <a:chOff x="685800" y="3886200"/>
              <a:chExt cx="7010280" cy="1600200"/>
            </a:xfrm>
          </p:grpSpPr>
          <p:sp>
            <p:nvSpPr>
              <p:cNvPr id="1523" name=""/>
              <p:cNvSpPr/>
              <p:nvPr/>
            </p:nvSpPr>
            <p:spPr>
              <a:xfrm>
                <a:off x="685800" y="452592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685800" y="484488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85800" y="516564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685800" y="548640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685800" y="388620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685800" y="420516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9" name=""/>
            <p:cNvSpPr/>
            <p:nvPr/>
          </p:nvSpPr>
          <p:spPr>
            <a:xfrm>
              <a:off x="1017720" y="358128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679400" y="358128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336840" y="358128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495680" y="358128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313320" y="359712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4" name=""/>
          <p:cNvSpPr/>
          <p:nvPr/>
        </p:nvSpPr>
        <p:spPr>
          <a:xfrm>
            <a:off x="3914640" y="3809880"/>
            <a:ext cx="152640" cy="152640"/>
          </a:xfrm>
          <a:prstGeom prst="ellipse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938160" y="5076720"/>
            <a:ext cx="152280" cy="15264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6224760" y="5410080"/>
            <a:ext cx="152280" cy="15264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623960" y="4753080"/>
            <a:ext cx="152280" cy="15228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419720" y="4119480"/>
            <a:ext cx="152280" cy="15264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3276720" y="4443480"/>
            <a:ext cx="152280" cy="15228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0" name=""/>
          <p:cNvCxnSpPr>
            <a:stCxn id="1534" idx="5"/>
            <a:endCxn id="1538" idx="2"/>
          </p:cNvCxnSpPr>
          <p:nvPr/>
        </p:nvCxnSpPr>
        <p:spPr>
          <a:xfrm>
            <a:off x="4044600" y="3940200"/>
            <a:ext cx="375480" cy="25596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541" name=""/>
          <p:cNvCxnSpPr>
            <a:stCxn id="1538" idx="2"/>
            <a:endCxn id="1539" idx="7"/>
          </p:cNvCxnSpPr>
          <p:nvPr/>
        </p:nvCxnSpPr>
        <p:spPr>
          <a:xfrm flipH="1">
            <a:off x="3406320" y="4195800"/>
            <a:ext cx="1013760" cy="2707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542" name=""/>
          <p:cNvCxnSpPr>
            <a:stCxn id="1539" idx="2"/>
            <a:endCxn id="1537" idx="6"/>
          </p:cNvCxnSpPr>
          <p:nvPr/>
        </p:nvCxnSpPr>
        <p:spPr>
          <a:xfrm flipH="1">
            <a:off x="1775880" y="4519440"/>
            <a:ext cx="1501200" cy="3103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543" name=""/>
          <p:cNvCxnSpPr>
            <a:stCxn id="1537" idx="3"/>
            <a:endCxn id="1535" idx="6"/>
          </p:cNvCxnSpPr>
          <p:nvPr/>
        </p:nvCxnSpPr>
        <p:spPr>
          <a:xfrm flipH="1">
            <a:off x="1090080" y="4883040"/>
            <a:ext cx="556560" cy="2707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544" name=""/>
          <p:cNvCxnSpPr>
            <a:stCxn id="1535" idx="6"/>
            <a:endCxn id="1536" idx="2"/>
          </p:cNvCxnSpPr>
          <p:nvPr/>
        </p:nvCxnSpPr>
        <p:spPr>
          <a:xfrm>
            <a:off x="1090440" y="5153040"/>
            <a:ext cx="5135040" cy="334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1545" name=""/>
          <p:cNvSpPr/>
          <p:nvPr/>
        </p:nvSpPr>
        <p:spPr>
          <a:xfrm>
            <a:off x="7848720" y="3809880"/>
            <a:ext cx="107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5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846920" y="413388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5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846920" y="445788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50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846920" y="478152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0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7846920" y="510552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0" name=""/>
          <p:cNvGrpSpPr/>
          <p:nvPr/>
        </p:nvGrpSpPr>
        <p:grpSpPr>
          <a:xfrm>
            <a:off x="7772400" y="5610240"/>
            <a:ext cx="1184400" cy="485640"/>
            <a:chOff x="7772400" y="5610240"/>
            <a:chExt cx="1184400" cy="485640"/>
          </a:xfrm>
        </p:grpSpPr>
        <p:sp>
          <p:nvSpPr>
            <p:cNvPr id="1551" name=""/>
            <p:cNvSpPr/>
            <p:nvPr/>
          </p:nvSpPr>
          <p:spPr>
            <a:xfrm>
              <a:off x="7877160" y="5638680"/>
              <a:ext cx="1079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772400" y="561024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1" dur="indefinite" restart="never" nodeType="tmRoot">
          <p:childTnLst>
            <p:seq>
              <p:cTn id="3302" dur="indefinite" nodeType="mainSeq">
                <p:childTnLst>
                  <p:par>
                    <p:cTn id="3303" fill="hold">
                      <p:stCondLst>
                        <p:cond delay="indefinite"/>
                      </p:stCondLst>
                      <p:childTnLst>
                        <p:par>
                          <p:cTn id="3304" fill="hold">
                            <p:stCondLst>
                              <p:cond delay="0"/>
                            </p:stCondLst>
                            <p:childTnLst>
                              <p:par>
                                <p:cTn id="3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7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1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5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6" fill="hold">
                      <p:stCondLst>
                        <p:cond delay="indefinite"/>
                      </p:stCondLst>
                      <p:childTnLst>
                        <p:par>
                          <p:cTn id="3317" fill="hold">
                            <p:stCondLst>
                              <p:cond delay="0"/>
                            </p:stCondLst>
                            <p:childTnLst>
                              <p:par>
                                <p:cTn id="3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0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1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2" fill="hold">
                      <p:stCondLst>
                        <p:cond delay="indefinite"/>
                      </p:stCondLst>
                      <p:childTnLst>
                        <p:par>
                          <p:cTn id="3323" fill="hold">
                            <p:stCondLst>
                              <p:cond delay="0"/>
                            </p:stCondLst>
                            <p:childTnLst>
                              <p:par>
                                <p:cTn id="3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6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7" fill="hold">
                      <p:stCondLst>
                        <p:cond delay="indefinite"/>
                      </p:stCondLst>
                      <p:childTnLst>
                        <p:par>
                          <p:cTn id="3328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1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2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6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fill="hold">
                      <p:stCondLst>
                        <p:cond delay="indefinite"/>
                      </p:stCondLst>
                      <p:childTnLst>
                        <p:par>
                          <p:cTn id="3338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1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5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6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0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1" fill="hold">
                      <p:stCondLst>
                        <p:cond delay="indefinite"/>
                      </p:stCondLst>
                      <p:childTnLst>
                        <p:par>
                          <p:cTn id="3352" fill="hold">
                            <p:stCondLst>
                              <p:cond delay="0"/>
                            </p:stCondLst>
                            <p:childTnLst>
                              <p:par>
                                <p:cTn id="33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5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6" fill="hold">
                      <p:stCondLst>
                        <p:cond delay="indefinite"/>
                      </p:stCondLst>
                      <p:childTnLst>
                        <p:par>
                          <p:cTn id="3357" fill="hold">
                            <p:stCondLst>
                              <p:cond delay="0"/>
                            </p:stCondLst>
                            <p:childTnLst>
                              <p:par>
                                <p:cTn id="3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0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1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5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fill="hold">
                      <p:stCondLst>
                        <p:cond delay="indefinite"/>
                      </p:stCondLst>
                      <p:childTnLst>
                        <p:par>
                          <p:cTn id="3367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70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1" fill="hold">
                      <p:stCondLst>
                        <p:cond delay="indefinite"/>
                      </p:stCondLst>
                      <p:childTnLst>
                        <p:par>
                          <p:cTn id="3372" fill="hold">
                            <p:stCondLst>
                              <p:cond delay="0"/>
                            </p:stCondLst>
                            <p:childTnLst>
                              <p:par>
                                <p:cTn id="3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5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6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0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1" fill="hold">
                      <p:stCondLst>
                        <p:cond delay="indefinite"/>
                      </p:stCondLst>
                      <p:childTnLst>
                        <p:par>
                          <p:cTn id="3382" fill="hold">
                            <p:stCondLst>
                              <p:cond delay="0"/>
                            </p:stCondLst>
                            <p:childTnLst>
                              <p:par>
                                <p:cTn id="3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5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9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0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1" fill="hold">
                      <p:stCondLst>
                        <p:cond delay="indefinite"/>
                      </p:stCondLst>
                      <p:childTnLst>
                        <p:par>
                          <p:cTn id="3392" fill="hold">
                            <p:stCondLst>
                              <p:cond delay="0"/>
                            </p:stCondLst>
                            <p:childTnLst>
                              <p:par>
                                <p:cTn id="3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5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6" fill="hold">
                      <p:stCondLst>
                        <p:cond delay="indefinite"/>
                      </p:stCondLst>
                      <p:childTnLst>
                        <p:par>
                          <p:cTn id="3397" fill="hold">
                            <p:stCondLst>
                              <p:cond delay="0"/>
                            </p:stCondLst>
                            <p:childTnLst>
                              <p:par>
                                <p:cTn id="3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0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STF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ubstantial improvement </a:t>
            </a:r>
            <a:r>
              <a:rPr b="0" lang="nl-BE" sz="3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nl-BE" sz="3200" spc="-1" strike="noStrike" baseline="30000">
                <a:solidFill>
                  <a:srgbClr val="000000"/>
                </a:solidFill>
                <a:latin typeface="Tahoma"/>
              </a:rPr>
              <a:t>(j)</a:t>
            </a:r>
            <a:r>
              <a:rPr b="0" lang="nl-BE" sz="3200" spc="-1" strike="noStrike" baseline="-25000">
                <a:solidFill>
                  <a:srgbClr val="000000"/>
                </a:solidFill>
                <a:latin typeface="Tahoma"/>
              </a:rPr>
              <a:t>seek</a:t>
            </a: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Not opti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JF-scheduling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tarvation pos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5" name=""/>
          <p:cNvGrpSpPr/>
          <p:nvPr/>
        </p:nvGrpSpPr>
        <p:grpSpPr>
          <a:xfrm>
            <a:off x="838080" y="4800600"/>
            <a:ext cx="8305560" cy="685800"/>
            <a:chOff x="838080" y="4800600"/>
            <a:chExt cx="8305560" cy="685800"/>
          </a:xfrm>
        </p:grpSpPr>
        <p:grpSp>
          <p:nvGrpSpPr>
            <p:cNvPr id="1556" name=""/>
            <p:cNvGrpSpPr/>
            <p:nvPr/>
          </p:nvGrpSpPr>
          <p:grpSpPr>
            <a:xfrm>
              <a:off x="990360" y="5181480"/>
              <a:ext cx="6629400" cy="304920"/>
              <a:chOff x="990360" y="5181480"/>
              <a:chExt cx="6629400" cy="304920"/>
            </a:xfrm>
          </p:grpSpPr>
          <p:sp>
            <p:nvSpPr>
              <p:cNvPr id="1557" name=""/>
              <p:cNvSpPr/>
              <p:nvPr/>
            </p:nvSpPr>
            <p:spPr>
              <a:xfrm>
                <a:off x="115488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132156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48644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165240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1819080" y="51814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198396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14992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31480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48148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647800" y="51814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81232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97864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14352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30984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476160" y="51814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64104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80736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97224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413856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305240" y="51814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46976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63608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480096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496728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5133600" y="51814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529848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546444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562932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579600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5962320" y="51814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12684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629352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645840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662436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791040" y="51814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95592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12188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28676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45344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619760" y="51814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990360" y="51814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8" name=""/>
            <p:cNvSpPr/>
            <p:nvPr/>
          </p:nvSpPr>
          <p:spPr>
            <a:xfrm>
              <a:off x="838080" y="4800600"/>
              <a:ext cx="830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Arial"/>
                </a:rPr>
                <a:t>0       25     50      75     100    125    150   175    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9" name=""/>
          <p:cNvSpPr/>
          <p:nvPr/>
        </p:nvSpPr>
        <p:spPr>
          <a:xfrm>
            <a:off x="2057400" y="5257800"/>
            <a:ext cx="228600" cy="228600"/>
          </a:xfrm>
          <a:prstGeom prst="ellipse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133720" y="4495680"/>
            <a:ext cx="228600" cy="22860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438280" y="4648320"/>
            <a:ext cx="228600" cy="22860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1828800" y="4648320"/>
            <a:ext cx="228600" cy="22860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286000" y="4267080"/>
            <a:ext cx="228600" cy="22860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1981080" y="4191120"/>
            <a:ext cx="228600" cy="22860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477120" y="4648320"/>
            <a:ext cx="228600" cy="22860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095880" y="4648320"/>
            <a:ext cx="228600" cy="22860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248520" y="4267080"/>
            <a:ext cx="228600" cy="22860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858000" y="4343400"/>
            <a:ext cx="228600" cy="22860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6553080" y="4343400"/>
            <a:ext cx="228600" cy="22860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553080" y="3962520"/>
            <a:ext cx="228600" cy="22860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3505320" y="5635800"/>
            <a:ext cx="257940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405" y="-6558"/>
                </a:moveTo>
                <a:lnTo>
                  <a:pt x="-638" y="5254"/>
                </a:lnTo>
              </a:path>
              <a:path w="21600" h="21600">
                <a:moveTo>
                  <a:pt x="-638" y="0"/>
                </a:moveTo>
                <a:lnTo>
                  <a:pt x="-638" y="21600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urrent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477120" y="2590920"/>
            <a:ext cx="1981080" cy="1295280"/>
          </a:xfrm>
          <a:prstGeom prst="cloudCallout">
            <a:avLst>
              <a:gd name="adj1" fmla="val -31250"/>
              <a:gd name="adj2" fmla="val 73652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6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1" dur="indefinite" restart="never" nodeType="tmRoot">
          <p:childTnLst>
            <p:seq>
              <p:cTn id="3402" dur="indefinite" nodeType="mainSeq">
                <p:childTnLst>
                  <p:par>
                    <p:cTn id="3403" fill="hold">
                      <p:stCondLst>
                        <p:cond delay="indefinite"/>
                      </p:stCondLst>
                      <p:childTnLst>
                        <p:par>
                          <p:cTn id="3404" fill="hold">
                            <p:stCondLst>
                              <p:cond delay="0"/>
                            </p:stCondLst>
                            <p:childTnLst>
                              <p:par>
                                <p:cTn id="34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7" dur="500"/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8" fill="hold">
                      <p:stCondLst>
                        <p:cond delay="indefinite"/>
                      </p:stCondLst>
                      <p:childTnLst>
                        <p:par>
                          <p:cTn id="3409" fill="hold">
                            <p:stCondLst>
                              <p:cond delay="0"/>
                            </p:stCondLst>
                            <p:childTnLst>
                              <p:par>
                                <p:cTn id="34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12" dur="500"/>
                                        <p:tgtEl>
                                          <p:spTgt spid="1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17" dur="500"/>
                                        <p:tgtEl>
                                          <p:spTgt spid="1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8" fill="hold">
                      <p:stCondLst>
                        <p:cond delay="indefinite"/>
                      </p:stCondLst>
                      <p:childTnLst>
                        <p:par>
                          <p:cTn id="3419" fill="hold">
                            <p:stCondLst>
                              <p:cond delay="0"/>
                            </p:stCondLst>
                            <p:childTnLst>
                              <p:par>
                                <p:cTn id="3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2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3" fill="hold">
                            <p:stCondLst>
                              <p:cond delay="500"/>
                            </p:stCondLst>
                            <p:childTnLst>
                              <p:par>
                                <p:cTn id="34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6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7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8" fill="hold">
                      <p:stCondLst>
                        <p:cond delay="indefinite"/>
                      </p:stCondLst>
                      <p:childTnLst>
                        <p:par>
                          <p:cTn id="3429" fill="hold">
                            <p:stCondLst>
                              <p:cond delay="0"/>
                            </p:stCondLst>
                            <p:childTnLst>
                              <p:par>
                                <p:cTn id="3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32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3" fill="hold">
                      <p:stCondLst>
                        <p:cond delay="indefinite"/>
                      </p:stCondLst>
                      <p:childTnLst>
                        <p:par>
                          <p:cTn id="3434" fill="hold">
                            <p:stCondLst>
                              <p:cond delay="0"/>
                            </p:stCondLst>
                            <p:childTnLst>
                              <p:par>
                                <p:cTn id="3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7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8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2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3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7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8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2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3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7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8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2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3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7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8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9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2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3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7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8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9" fill="hold">
                            <p:stCondLst>
                              <p:cond delay="4500"/>
                            </p:stCondLst>
                            <p:childTnLst>
                              <p:par>
                                <p:cTn id="3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2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3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7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8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9" fill="hold">
                      <p:stCondLst>
                        <p:cond delay="indefinite"/>
                      </p:stCondLst>
                      <p:childTnLst>
                        <p:par>
                          <p:cTn id="3490" fill="hold">
                            <p:stCondLst>
                              <p:cond delay="0"/>
                            </p:stCondLst>
                            <p:childTnLst>
                              <p:par>
                                <p:cTn id="34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93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Loo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levator Algorith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15" name=""/>
          <p:cNvGrpSpPr/>
          <p:nvPr/>
        </p:nvGrpSpPr>
        <p:grpSpPr>
          <a:xfrm>
            <a:off x="380880" y="2057400"/>
            <a:ext cx="8686440" cy="761760"/>
            <a:chOff x="380880" y="2057400"/>
            <a:chExt cx="8686440" cy="761760"/>
          </a:xfrm>
        </p:grpSpPr>
        <p:sp>
          <p:nvSpPr>
            <p:cNvPr id="1616" name=""/>
            <p:cNvSpPr/>
            <p:nvPr/>
          </p:nvSpPr>
          <p:spPr>
            <a:xfrm>
              <a:off x="673200" y="2247840"/>
              <a:ext cx="1079280" cy="469800"/>
            </a:xfrm>
            <a:prstGeom prst="rect">
              <a:avLst/>
            </a:prstGeom>
            <a:solidFill>
              <a:srgbClr val="a9f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0448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4164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W 1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7880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W 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1596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1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5312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W 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6765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0481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4197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7913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1629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7" name=""/>
            <p:cNvGrpSpPr/>
            <p:nvPr/>
          </p:nvGrpSpPr>
          <p:grpSpPr>
            <a:xfrm>
              <a:off x="8534520" y="2362320"/>
              <a:ext cx="532800" cy="456840"/>
              <a:chOff x="8534520" y="2362320"/>
              <a:chExt cx="532800" cy="456840"/>
            </a:xfrm>
          </p:grpSpPr>
          <p:grpSp>
            <p:nvGrpSpPr>
              <p:cNvPr id="1628" name=""/>
              <p:cNvGrpSpPr/>
              <p:nvPr/>
            </p:nvGrpSpPr>
            <p:grpSpPr>
              <a:xfrm>
                <a:off x="8694360" y="2623320"/>
                <a:ext cx="372960" cy="195840"/>
                <a:chOff x="8694360" y="2623320"/>
                <a:chExt cx="372960" cy="195840"/>
              </a:xfrm>
            </p:grpSpPr>
            <p:sp>
              <p:nvSpPr>
                <p:cNvPr id="1629" name=""/>
                <p:cNvSpPr/>
                <p:nvPr/>
              </p:nvSpPr>
              <p:spPr>
                <a:xfrm>
                  <a:off x="8694360" y="2623320"/>
                  <a:ext cx="37296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8740800" y="2721240"/>
                  <a:ext cx="27972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8787240" y="2819160"/>
                  <a:ext cx="18648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2" name=""/>
              <p:cNvSpPr/>
              <p:nvPr/>
            </p:nvSpPr>
            <p:spPr>
              <a:xfrm>
                <a:off x="8534520" y="2362320"/>
                <a:ext cx="319680" cy="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8854200" y="2362320"/>
                <a:ext cx="0" cy="26100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4" name=""/>
            <p:cNvSpPr/>
            <p:nvPr/>
          </p:nvSpPr>
          <p:spPr>
            <a:xfrm>
              <a:off x="380880" y="2057400"/>
              <a:ext cx="457200" cy="22860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533520" y="3048120"/>
            <a:ext cx="8305560" cy="685800"/>
            <a:chOff x="533520" y="3048120"/>
            <a:chExt cx="8305560" cy="685800"/>
          </a:xfrm>
        </p:grpSpPr>
        <p:grpSp>
          <p:nvGrpSpPr>
            <p:cNvPr id="1636" name=""/>
            <p:cNvGrpSpPr/>
            <p:nvPr/>
          </p:nvGrpSpPr>
          <p:grpSpPr>
            <a:xfrm>
              <a:off x="685800" y="3429000"/>
              <a:ext cx="6629400" cy="304920"/>
              <a:chOff x="685800" y="3429000"/>
              <a:chExt cx="6629400" cy="304920"/>
            </a:xfrm>
          </p:grpSpPr>
          <p:sp>
            <p:nvSpPr>
              <p:cNvPr id="1637" name=""/>
              <p:cNvSpPr/>
              <p:nvPr/>
            </p:nvSpPr>
            <p:spPr>
              <a:xfrm>
                <a:off x="8503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10170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11818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134784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151452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16794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18453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201024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21769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234324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25077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26740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28389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0052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17160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3364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5028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6676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8340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400068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41652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43315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44964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46627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482904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9939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1598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53247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549144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65776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8222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59889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615384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63198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648648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66513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68173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69822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71488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731520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68580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8" name=""/>
            <p:cNvSpPr/>
            <p:nvPr/>
          </p:nvSpPr>
          <p:spPr>
            <a:xfrm>
              <a:off x="533520" y="3048120"/>
              <a:ext cx="830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0        25      50        75      100     125     150     175     200   </a:t>
              </a:r>
              <a:r>
                <a:rPr b="0" lang="nl-BE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h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9" name=""/>
          <p:cNvGrpSpPr/>
          <p:nvPr/>
        </p:nvGrpSpPr>
        <p:grpSpPr>
          <a:xfrm>
            <a:off x="685800" y="3581280"/>
            <a:ext cx="7010280" cy="2225880"/>
            <a:chOff x="685800" y="3581280"/>
            <a:chExt cx="7010280" cy="2225880"/>
          </a:xfrm>
        </p:grpSpPr>
        <p:grpSp>
          <p:nvGrpSpPr>
            <p:cNvPr id="1680" name=""/>
            <p:cNvGrpSpPr/>
            <p:nvPr/>
          </p:nvGrpSpPr>
          <p:grpSpPr>
            <a:xfrm>
              <a:off x="685800" y="3886200"/>
              <a:ext cx="7010280" cy="1600200"/>
              <a:chOff x="685800" y="3886200"/>
              <a:chExt cx="7010280" cy="1600200"/>
            </a:xfrm>
          </p:grpSpPr>
          <p:sp>
            <p:nvSpPr>
              <p:cNvPr id="1681" name=""/>
              <p:cNvSpPr/>
              <p:nvPr/>
            </p:nvSpPr>
            <p:spPr>
              <a:xfrm>
                <a:off x="685800" y="452592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685800" y="484488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685800" y="516564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685800" y="548640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685800" y="388620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685800" y="420516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7" name=""/>
            <p:cNvSpPr/>
            <p:nvPr/>
          </p:nvSpPr>
          <p:spPr>
            <a:xfrm>
              <a:off x="1017720" y="358128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679400" y="358128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336840" y="358128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495680" y="358128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313320" y="359712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2" name=""/>
          <p:cNvSpPr/>
          <p:nvPr/>
        </p:nvSpPr>
        <p:spPr>
          <a:xfrm>
            <a:off x="3914640" y="3809880"/>
            <a:ext cx="152640" cy="152640"/>
          </a:xfrm>
          <a:prstGeom prst="ellipse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938160" y="4772160"/>
            <a:ext cx="152280" cy="15228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224760" y="5405400"/>
            <a:ext cx="152280" cy="15228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623960" y="4443480"/>
            <a:ext cx="152280" cy="15228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419720" y="5076720"/>
            <a:ext cx="152280" cy="15264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276720" y="4114800"/>
            <a:ext cx="152280" cy="15228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H="1">
            <a:off x="3581280" y="304812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9" name=""/>
          <p:cNvCxnSpPr>
            <a:stCxn id="1692" idx="3"/>
            <a:endCxn id="1697" idx="6"/>
          </p:cNvCxnSpPr>
          <p:nvPr/>
        </p:nvCxnSpPr>
        <p:spPr>
          <a:xfrm flipH="1">
            <a:off x="3428280" y="3939840"/>
            <a:ext cx="508680" cy="25164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700" name=""/>
          <p:cNvCxnSpPr>
            <a:stCxn id="1697" idx="3"/>
            <a:endCxn id="1695" idx="6"/>
          </p:cNvCxnSpPr>
          <p:nvPr/>
        </p:nvCxnSpPr>
        <p:spPr>
          <a:xfrm flipH="1">
            <a:off x="1775520" y="4245120"/>
            <a:ext cx="1523160" cy="27504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701" name=""/>
          <p:cNvCxnSpPr>
            <a:stCxn id="1695" idx="3"/>
            <a:endCxn id="1693" idx="2"/>
          </p:cNvCxnSpPr>
          <p:nvPr/>
        </p:nvCxnSpPr>
        <p:spPr>
          <a:xfrm flipH="1">
            <a:off x="937440" y="4573080"/>
            <a:ext cx="708840" cy="27540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702" name=""/>
          <p:cNvCxnSpPr>
            <a:stCxn id="1693" idx="6"/>
            <a:endCxn id="1696" idx="2"/>
          </p:cNvCxnSpPr>
          <p:nvPr/>
        </p:nvCxnSpPr>
        <p:spPr>
          <a:xfrm>
            <a:off x="1090440" y="4847760"/>
            <a:ext cx="3330000" cy="30564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703" name=""/>
          <p:cNvCxnSpPr>
            <a:stCxn id="1696" idx="6"/>
            <a:endCxn id="1694" idx="2"/>
          </p:cNvCxnSpPr>
          <p:nvPr/>
        </p:nvCxnSpPr>
        <p:spPr>
          <a:xfrm>
            <a:off x="4571640" y="5152680"/>
            <a:ext cx="1653480" cy="32904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1704" name=""/>
          <p:cNvSpPr/>
          <p:nvPr/>
        </p:nvSpPr>
        <p:spPr>
          <a:xfrm>
            <a:off x="7848720" y="3809880"/>
            <a:ext cx="107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0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7846920" y="413388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50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846920" y="445788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0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889760" y="478152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05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7846920" y="510552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9" name=""/>
          <p:cNvGrpSpPr/>
          <p:nvPr/>
        </p:nvGrpSpPr>
        <p:grpSpPr>
          <a:xfrm>
            <a:off x="7772400" y="5610240"/>
            <a:ext cx="1184400" cy="485640"/>
            <a:chOff x="7772400" y="5610240"/>
            <a:chExt cx="1184400" cy="485640"/>
          </a:xfrm>
        </p:grpSpPr>
        <p:sp>
          <p:nvSpPr>
            <p:cNvPr id="1710" name=""/>
            <p:cNvSpPr/>
            <p:nvPr/>
          </p:nvSpPr>
          <p:spPr>
            <a:xfrm>
              <a:off x="7877160" y="5638680"/>
              <a:ext cx="1079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772400" y="561024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4" dur="indefinite" restart="never" nodeType="tmRoot">
          <p:childTnLst>
            <p:seq>
              <p:cTn id="3495" dur="indefinite" nodeType="mainSeq">
                <p:childTnLst>
                  <p:par>
                    <p:cTn id="3496" fill="hold">
                      <p:stCondLst>
                        <p:cond delay="0"/>
                      </p:stCondLst>
                      <p:childTnLst>
                        <p:par>
                          <p:cTn id="3497" fill="hold">
                            <p:stCondLst>
                              <p:cond delay="0"/>
                            </p:stCondLst>
                            <p:childTnLst>
                              <p:par>
                                <p:cTn id="3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0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1" fill="hold">
                            <p:stCondLst>
                              <p:cond delay="500"/>
                            </p:stCondLst>
                            <p:childTnLst>
                              <p:par>
                                <p:cTn id="3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4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8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9" fill="hold">
                      <p:stCondLst>
                        <p:cond delay="indefinite"/>
                      </p:stCondLst>
                      <p:childTnLst>
                        <p:par>
                          <p:cTn id="3510" fill="hold">
                            <p:stCondLst>
                              <p:cond delay="0"/>
                            </p:stCondLst>
                            <p:childTnLst>
                              <p:par>
                                <p:cTn id="3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3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4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5" fill="hold">
                      <p:stCondLst>
                        <p:cond delay="indefinite"/>
                      </p:stCondLst>
                      <p:childTnLst>
                        <p:par>
                          <p:cTn id="3516" fill="hold">
                            <p:stCondLst>
                              <p:cond delay="0"/>
                            </p:stCondLst>
                            <p:childTnLst>
                              <p:par>
                                <p:cTn id="35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19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0" fill="hold">
                      <p:stCondLst>
                        <p:cond delay="indefinite"/>
                      </p:stCondLst>
                      <p:childTnLst>
                        <p:par>
                          <p:cTn id="3521" fill="hold">
                            <p:stCondLst>
                              <p:cond delay="0"/>
                            </p:stCondLst>
                            <p:childTnLst>
                              <p:par>
                                <p:cTn id="35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4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5" fill="hold">
                            <p:stCondLst>
                              <p:cond delay="500"/>
                            </p:stCondLst>
                            <p:childTnLst>
                              <p:par>
                                <p:cTn id="35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8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9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3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4" fill="hold">
                      <p:stCondLst>
                        <p:cond delay="indefinite"/>
                      </p:stCondLst>
                      <p:childTnLst>
                        <p:par>
                          <p:cTn id="3535" fill="hold">
                            <p:stCondLst>
                              <p:cond delay="0"/>
                            </p:stCondLst>
                            <p:childTnLst>
                              <p:par>
                                <p:cTn id="35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8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9" fill="hold">
                            <p:stCondLst>
                              <p:cond delay="500"/>
                            </p:stCondLst>
                            <p:childTnLst>
                              <p:par>
                                <p:cTn id="35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2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3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7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8" fill="hold">
                      <p:stCondLst>
                        <p:cond delay="indefinite"/>
                      </p:stCondLst>
                      <p:childTnLst>
                        <p:par>
                          <p:cTn id="3549" fill="hold">
                            <p:stCondLst>
                              <p:cond delay="0"/>
                            </p:stCondLst>
                            <p:childTnLst>
                              <p:par>
                                <p:cTn id="35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2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6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7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1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fill="hold">
                      <p:stCondLst>
                        <p:cond delay="indefinite"/>
                      </p:stCondLst>
                      <p:childTnLst>
                        <p:par>
                          <p:cTn id="3563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6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7" fill="hold">
                            <p:stCondLst>
                              <p:cond delay="500"/>
                            </p:stCondLst>
                            <p:childTnLst>
                              <p:par>
                                <p:cTn id="35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0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1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5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6" fill="hold">
                      <p:stCondLst>
                        <p:cond delay="indefinite"/>
                      </p:stCondLst>
                      <p:childTnLst>
                        <p:par>
                          <p:cTn id="3577" fill="hold">
                            <p:stCondLst>
                              <p:cond delay="0"/>
                            </p:stCondLst>
                            <p:childTnLst>
                              <p:par>
                                <p:cTn id="3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0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1" fill="hold">
                            <p:stCondLst>
                              <p:cond delay="500"/>
                            </p:stCondLst>
                            <p:childTnLst>
                              <p:par>
                                <p:cTn id="35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4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5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9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0" fill="hold">
                      <p:stCondLst>
                        <p:cond delay="indefinite"/>
                      </p:stCondLst>
                      <p:childTnLst>
                        <p:par>
                          <p:cTn id="3591" fill="hold">
                            <p:stCondLst>
                              <p:cond delay="0"/>
                            </p:stCondLst>
                            <p:childTnLst>
                              <p:par>
                                <p:cTn id="3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4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Loo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tatic situation, Opti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Reverse direction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highest density at other sid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4" name=""/>
          <p:cNvGrpSpPr/>
          <p:nvPr/>
        </p:nvGrpSpPr>
        <p:grpSpPr>
          <a:xfrm>
            <a:off x="533520" y="3733920"/>
            <a:ext cx="8305560" cy="1143000"/>
            <a:chOff x="533520" y="3733920"/>
            <a:chExt cx="8305560" cy="1143000"/>
          </a:xfrm>
        </p:grpSpPr>
        <p:grpSp>
          <p:nvGrpSpPr>
            <p:cNvPr id="1715" name=""/>
            <p:cNvGrpSpPr/>
            <p:nvPr/>
          </p:nvGrpSpPr>
          <p:grpSpPr>
            <a:xfrm>
              <a:off x="533520" y="4191120"/>
              <a:ext cx="8305560" cy="685800"/>
              <a:chOff x="533520" y="4191120"/>
              <a:chExt cx="8305560" cy="685800"/>
            </a:xfrm>
          </p:grpSpPr>
          <p:grpSp>
            <p:nvGrpSpPr>
              <p:cNvPr id="1716" name=""/>
              <p:cNvGrpSpPr/>
              <p:nvPr/>
            </p:nvGrpSpPr>
            <p:grpSpPr>
              <a:xfrm>
                <a:off x="685800" y="4572000"/>
                <a:ext cx="6629400" cy="304920"/>
                <a:chOff x="685800" y="4572000"/>
                <a:chExt cx="6629400" cy="304920"/>
              </a:xfrm>
            </p:grpSpPr>
            <p:sp>
              <p:nvSpPr>
                <p:cNvPr id="1717" name=""/>
                <p:cNvSpPr/>
                <p:nvPr/>
              </p:nvSpPr>
              <p:spPr>
                <a:xfrm>
                  <a:off x="85032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101700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118188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134784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1514520" y="457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167940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184536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201024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217692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2343240" y="457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250776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267408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283896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300528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3171600" y="457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333648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350280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366768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383400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4000680" y="457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416520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433152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449640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466272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4829040" y="457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499392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515988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532476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549144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5657760" y="457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582228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598896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615384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631980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6486480" y="457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665136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681732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698220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714888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7315200" y="457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685800" y="457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8" name=""/>
              <p:cNvSpPr/>
              <p:nvPr/>
            </p:nvSpPr>
            <p:spPr>
              <a:xfrm>
                <a:off x="533520" y="4191120"/>
                <a:ext cx="830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Arial"/>
                  </a:rPr>
                  <a:t>0       25     50      75     100    125    150   175    2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9" name=""/>
            <p:cNvSpPr/>
            <p:nvPr/>
          </p:nvSpPr>
          <p:spPr>
            <a:xfrm>
              <a:off x="6477120" y="396252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934320" y="396252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095880" y="396252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248520" y="373392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629400" y="380988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562720" y="396252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800600" y="396252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657600" y="396252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057400" y="396252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838080" y="4572000"/>
              <a:ext cx="228600" cy="228600"/>
            </a:xfrm>
            <a:prstGeom prst="ellipse">
              <a:avLst/>
            </a:prstGeom>
            <a:solidFill>
              <a:srgbClr val="a9f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934320" y="373392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248520" y="403848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943600" y="380988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181480" y="380988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705720" y="396252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162920" y="380988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962520" y="388620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6" name=""/>
          <p:cNvSpPr/>
          <p:nvPr/>
        </p:nvSpPr>
        <p:spPr>
          <a:xfrm>
            <a:off x="685800" y="5257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No uniform waiting t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5" dur="indefinite" restart="never" nodeType="tmRoot">
          <p:childTnLst>
            <p:seq>
              <p:cTn id="3596" dur="indefinite" nodeType="mainSeq">
                <p:childTnLst>
                  <p:par>
                    <p:cTn id="3597" fill="hold">
                      <p:stCondLst>
                        <p:cond delay="indefinite"/>
                      </p:stCondLst>
                      <p:childTnLst>
                        <p:par>
                          <p:cTn id="3598" fill="hold">
                            <p:stCondLst>
                              <p:cond delay="0"/>
                            </p:stCondLst>
                            <p:childTnLst>
                              <p:par>
                                <p:cTn id="35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01" dur="500"/>
                                        <p:tgtEl>
                                          <p:spTgt spid="1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2" fill="hold">
                      <p:stCondLst>
                        <p:cond delay="indefinite"/>
                      </p:stCondLst>
                      <p:childTnLst>
                        <p:par>
                          <p:cTn id="3603" fill="hold">
                            <p:stCondLst>
                              <p:cond delay="0"/>
                            </p:stCondLst>
                            <p:childTnLst>
                              <p:par>
                                <p:cTn id="36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06" dur="500"/>
                                        <p:tgtEl>
                                          <p:spTgt spid="1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7" fill="hold">
                      <p:stCondLst>
                        <p:cond delay="indefinite"/>
                      </p:stCondLst>
                      <p:childTnLst>
                        <p:par>
                          <p:cTn id="3608" fill="hold">
                            <p:stCondLst>
                              <p:cond delay="0"/>
                            </p:stCondLst>
                            <p:childTnLst>
                              <p:par>
                                <p:cTn id="3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1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2" fill="hold">
                      <p:stCondLst>
                        <p:cond delay="indefinite"/>
                      </p:stCondLst>
                      <p:childTnLst>
                        <p:par>
                          <p:cTn id="3613" fill="hold">
                            <p:stCondLst>
                              <p:cond delay="0"/>
                            </p:stCondLst>
                            <p:childTnLst>
                              <p:par>
                                <p:cTn id="3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6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-Loo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ircular Elev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9" name=""/>
          <p:cNvGrpSpPr/>
          <p:nvPr/>
        </p:nvGrpSpPr>
        <p:grpSpPr>
          <a:xfrm>
            <a:off x="380880" y="2057400"/>
            <a:ext cx="8686440" cy="761760"/>
            <a:chOff x="380880" y="2057400"/>
            <a:chExt cx="8686440" cy="761760"/>
          </a:xfrm>
        </p:grpSpPr>
        <p:sp>
          <p:nvSpPr>
            <p:cNvPr id="1780" name=""/>
            <p:cNvSpPr/>
            <p:nvPr/>
          </p:nvSpPr>
          <p:spPr>
            <a:xfrm>
              <a:off x="673200" y="2247840"/>
              <a:ext cx="1079280" cy="469800"/>
            </a:xfrm>
            <a:prstGeom prst="rect">
              <a:avLst/>
            </a:prstGeom>
            <a:solidFill>
              <a:srgbClr val="a9f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0448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4164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W 1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7880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W 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1596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1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5312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W 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6765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0481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4197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7913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1629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1" name=""/>
            <p:cNvGrpSpPr/>
            <p:nvPr/>
          </p:nvGrpSpPr>
          <p:grpSpPr>
            <a:xfrm>
              <a:off x="8534520" y="2362320"/>
              <a:ext cx="532800" cy="456840"/>
              <a:chOff x="8534520" y="2362320"/>
              <a:chExt cx="532800" cy="456840"/>
            </a:xfrm>
          </p:grpSpPr>
          <p:grpSp>
            <p:nvGrpSpPr>
              <p:cNvPr id="1792" name=""/>
              <p:cNvGrpSpPr/>
              <p:nvPr/>
            </p:nvGrpSpPr>
            <p:grpSpPr>
              <a:xfrm>
                <a:off x="8694360" y="2623320"/>
                <a:ext cx="372960" cy="195840"/>
                <a:chOff x="8694360" y="2623320"/>
                <a:chExt cx="372960" cy="195840"/>
              </a:xfrm>
            </p:grpSpPr>
            <p:sp>
              <p:nvSpPr>
                <p:cNvPr id="1793" name=""/>
                <p:cNvSpPr/>
                <p:nvPr/>
              </p:nvSpPr>
              <p:spPr>
                <a:xfrm>
                  <a:off x="8694360" y="2623320"/>
                  <a:ext cx="37296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8740800" y="2721240"/>
                  <a:ext cx="27972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8787240" y="2819160"/>
                  <a:ext cx="18648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6" name=""/>
              <p:cNvSpPr/>
              <p:nvPr/>
            </p:nvSpPr>
            <p:spPr>
              <a:xfrm>
                <a:off x="8534520" y="2362320"/>
                <a:ext cx="319680" cy="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8854200" y="2362320"/>
                <a:ext cx="0" cy="26100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8" name=""/>
            <p:cNvSpPr/>
            <p:nvPr/>
          </p:nvSpPr>
          <p:spPr>
            <a:xfrm>
              <a:off x="380880" y="2057400"/>
              <a:ext cx="457200" cy="22860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533520" y="3048120"/>
            <a:ext cx="8305560" cy="685800"/>
            <a:chOff x="533520" y="3048120"/>
            <a:chExt cx="8305560" cy="685800"/>
          </a:xfrm>
        </p:grpSpPr>
        <p:grpSp>
          <p:nvGrpSpPr>
            <p:cNvPr id="1800" name=""/>
            <p:cNvGrpSpPr/>
            <p:nvPr/>
          </p:nvGrpSpPr>
          <p:grpSpPr>
            <a:xfrm>
              <a:off x="685800" y="3429000"/>
              <a:ext cx="6629400" cy="304920"/>
              <a:chOff x="685800" y="3429000"/>
              <a:chExt cx="6629400" cy="304920"/>
            </a:xfrm>
          </p:grpSpPr>
          <p:sp>
            <p:nvSpPr>
              <p:cNvPr id="1801" name=""/>
              <p:cNvSpPr/>
              <p:nvPr/>
            </p:nvSpPr>
            <p:spPr>
              <a:xfrm>
                <a:off x="8503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10170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11818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134784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151452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16794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18453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01024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1769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234324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25077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26740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28389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0052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317160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3364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5028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6676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38340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00068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1652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3315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4964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6627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82904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9939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51598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53247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549144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565776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58222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9889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615384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3198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648648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66513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68173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69822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1488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31520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68580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2" name=""/>
            <p:cNvSpPr/>
            <p:nvPr/>
          </p:nvSpPr>
          <p:spPr>
            <a:xfrm>
              <a:off x="533520" y="3048120"/>
              <a:ext cx="830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0        25      50        75      100     125     150     175     200   </a:t>
              </a:r>
              <a:r>
                <a:rPr b="0" lang="nl-BE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h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3" name=""/>
          <p:cNvGrpSpPr/>
          <p:nvPr/>
        </p:nvGrpSpPr>
        <p:grpSpPr>
          <a:xfrm>
            <a:off x="685800" y="3581280"/>
            <a:ext cx="7010280" cy="2225880"/>
            <a:chOff x="685800" y="3581280"/>
            <a:chExt cx="7010280" cy="2225880"/>
          </a:xfrm>
        </p:grpSpPr>
        <p:grpSp>
          <p:nvGrpSpPr>
            <p:cNvPr id="1844" name=""/>
            <p:cNvGrpSpPr/>
            <p:nvPr/>
          </p:nvGrpSpPr>
          <p:grpSpPr>
            <a:xfrm>
              <a:off x="685800" y="3886200"/>
              <a:ext cx="7010280" cy="1600200"/>
              <a:chOff x="685800" y="3886200"/>
              <a:chExt cx="7010280" cy="1600200"/>
            </a:xfrm>
          </p:grpSpPr>
          <p:sp>
            <p:nvSpPr>
              <p:cNvPr id="1845" name=""/>
              <p:cNvSpPr/>
              <p:nvPr/>
            </p:nvSpPr>
            <p:spPr>
              <a:xfrm>
                <a:off x="685800" y="452592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85800" y="484488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85800" y="516564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685800" y="548640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85800" y="388620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85800" y="420516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1" name=""/>
            <p:cNvSpPr/>
            <p:nvPr/>
          </p:nvSpPr>
          <p:spPr>
            <a:xfrm>
              <a:off x="1017720" y="358128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679400" y="358128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336840" y="358128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495680" y="358128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313320" y="359712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6" name=""/>
          <p:cNvSpPr/>
          <p:nvPr/>
        </p:nvSpPr>
        <p:spPr>
          <a:xfrm>
            <a:off x="3914640" y="3809880"/>
            <a:ext cx="152640" cy="152640"/>
          </a:xfrm>
          <a:prstGeom prst="ellipse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938160" y="4767120"/>
            <a:ext cx="152280" cy="15264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224760" y="4419720"/>
            <a:ext cx="152280" cy="15228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1623960" y="5081760"/>
            <a:ext cx="152280" cy="15228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419720" y="4114800"/>
            <a:ext cx="152280" cy="15228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3276720" y="5410080"/>
            <a:ext cx="152280" cy="15264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3581280" y="304812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3" name=""/>
          <p:cNvCxnSpPr>
            <a:stCxn id="1856" idx="5"/>
            <a:endCxn id="1860" idx="1"/>
          </p:cNvCxnSpPr>
          <p:nvPr/>
        </p:nvCxnSpPr>
        <p:spPr>
          <a:xfrm>
            <a:off x="4044960" y="3939840"/>
            <a:ext cx="397440" cy="19764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864" name=""/>
          <p:cNvCxnSpPr>
            <a:stCxn id="1860" idx="5"/>
            <a:endCxn id="1858" idx="1"/>
          </p:cNvCxnSpPr>
          <p:nvPr/>
        </p:nvCxnSpPr>
        <p:spPr>
          <a:xfrm>
            <a:off x="4549680" y="4245120"/>
            <a:ext cx="1697760" cy="1972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865" name=""/>
          <p:cNvCxnSpPr>
            <a:stCxn id="1858" idx="2"/>
            <a:endCxn id="1857" idx="6"/>
          </p:cNvCxnSpPr>
          <p:nvPr/>
        </p:nvCxnSpPr>
        <p:spPr>
          <a:xfrm flipH="1">
            <a:off x="1090080" y="4495680"/>
            <a:ext cx="5135040" cy="348480"/>
          </a:xfrm>
          <a:prstGeom prst="straightConnector1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866" name=""/>
          <p:cNvCxnSpPr>
            <a:stCxn id="1857" idx="5"/>
            <a:endCxn id="1859" idx="2"/>
          </p:cNvCxnSpPr>
          <p:nvPr/>
        </p:nvCxnSpPr>
        <p:spPr>
          <a:xfrm>
            <a:off x="1068120" y="4897080"/>
            <a:ext cx="556200" cy="26100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867" name=""/>
          <p:cNvCxnSpPr>
            <a:stCxn id="1859" idx="5"/>
            <a:endCxn id="1861" idx="2"/>
          </p:cNvCxnSpPr>
          <p:nvPr/>
        </p:nvCxnSpPr>
        <p:spPr>
          <a:xfrm>
            <a:off x="1753920" y="5211360"/>
            <a:ext cx="1523160" cy="27540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1868" name=""/>
          <p:cNvSpPr/>
          <p:nvPr/>
        </p:nvSpPr>
        <p:spPr>
          <a:xfrm>
            <a:off x="7848720" y="3809880"/>
            <a:ext cx="107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5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846920" y="413388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55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912080" y="445788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60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7846920" y="478152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0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846920" y="510552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7772400" y="5610240"/>
            <a:ext cx="1184400" cy="485640"/>
            <a:chOff x="7772400" y="5610240"/>
            <a:chExt cx="1184400" cy="485640"/>
          </a:xfrm>
        </p:grpSpPr>
        <p:sp>
          <p:nvSpPr>
            <p:cNvPr id="1874" name=""/>
            <p:cNvSpPr/>
            <p:nvPr/>
          </p:nvSpPr>
          <p:spPr>
            <a:xfrm>
              <a:off x="7877160" y="5638680"/>
              <a:ext cx="1079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3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772400" y="561024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7" dur="indefinite" restart="never" nodeType="tmRoot">
          <p:childTnLst>
            <p:seq>
              <p:cTn id="3618" dur="indefinite" nodeType="mainSeq">
                <p:childTnLst>
                  <p:par>
                    <p:cTn id="3619" fill="hold">
                      <p:stCondLst>
                        <p:cond delay="indefinite"/>
                      </p:stCondLst>
                      <p:childTnLst>
                        <p:par>
                          <p:cTn id="3620" fill="hold">
                            <p:stCondLst>
                              <p:cond delay="0"/>
                            </p:stCondLst>
                            <p:childTnLst>
                              <p:par>
                                <p:cTn id="3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3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4" fill="hold">
                      <p:stCondLst>
                        <p:cond delay="indefinite"/>
                      </p:stCondLst>
                      <p:childTnLst>
                        <p:par>
                          <p:cTn id="3625" fill="hold">
                            <p:stCondLst>
                              <p:cond delay="0"/>
                            </p:stCondLst>
                            <p:childTnLst>
                              <p:par>
                                <p:cTn id="3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8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9" fill="hold">
                            <p:stCondLst>
                              <p:cond delay="500"/>
                            </p:stCondLst>
                            <p:childTnLst>
                              <p:par>
                                <p:cTn id="36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2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3" fill="hold">
                      <p:stCondLst>
                        <p:cond delay="indefinite"/>
                      </p:stCondLst>
                      <p:childTnLst>
                        <p:par>
                          <p:cTn id="3634" fill="hold">
                            <p:stCondLst>
                              <p:cond delay="0"/>
                            </p:stCondLst>
                            <p:childTnLst>
                              <p:par>
                                <p:cTn id="36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7" dur="5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8" dur="5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9" fill="hold">
                            <p:stCondLst>
                              <p:cond delay="500"/>
                            </p:stCondLst>
                            <p:childTnLst>
                              <p:par>
                                <p:cTn id="364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42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3" fill="hold">
                      <p:stCondLst>
                        <p:cond delay="indefinite"/>
                      </p:stCondLst>
                      <p:childTnLst>
                        <p:par>
                          <p:cTn id="3644" fill="hold">
                            <p:stCondLst>
                              <p:cond delay="0"/>
                            </p:stCondLst>
                            <p:childTnLst>
                              <p:par>
                                <p:cTn id="3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7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8" fill="hold">
                            <p:stCondLst>
                              <p:cond delay="500"/>
                            </p:stCondLst>
                            <p:childTnLst>
                              <p:par>
                                <p:cTn id="36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1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2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6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7" fill="hold">
                      <p:stCondLst>
                        <p:cond delay="indefinite"/>
                      </p:stCondLst>
                      <p:childTnLst>
                        <p:par>
                          <p:cTn id="3658" fill="hold">
                            <p:stCondLst>
                              <p:cond delay="0"/>
                            </p:stCondLst>
                            <p:childTnLst>
                              <p:par>
                                <p:cTn id="3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1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5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6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0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1" fill="hold">
                      <p:stCondLst>
                        <p:cond delay="indefinite"/>
                      </p:stCondLst>
                      <p:childTnLst>
                        <p:par>
                          <p:cTn id="3672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75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9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0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4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5" fill="hold">
                      <p:stCondLst>
                        <p:cond delay="indefinite"/>
                      </p:stCondLst>
                      <p:childTnLst>
                        <p:par>
                          <p:cTn id="3686" fill="hold">
                            <p:stCondLst>
                              <p:cond delay="0"/>
                            </p:stCondLst>
                            <p:childTnLst>
                              <p:par>
                                <p:cTn id="3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9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0" fill="hold">
                            <p:stCondLst>
                              <p:cond delay="500"/>
                            </p:stCondLst>
                            <p:childTnLst>
                              <p:par>
                                <p:cTn id="36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3" dur="5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4" dur="5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8" dur="5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9" fill="hold">
                      <p:stCondLst>
                        <p:cond delay="indefinite"/>
                      </p:stCondLst>
                      <p:childTnLst>
                        <p:par>
                          <p:cTn id="3700" fill="hold">
                            <p:stCondLst>
                              <p:cond delay="0"/>
                            </p:stCondLst>
                            <p:childTnLst>
                              <p:par>
                                <p:cTn id="3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3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4" fill="hold">
                            <p:stCondLst>
                              <p:cond delay="500"/>
                            </p:stCondLst>
                            <p:childTnLst>
                              <p:par>
                                <p:cTn id="37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7" dur="5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8" dur="5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2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6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-Loo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More uniform waiting ti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78" name=""/>
          <p:cNvGrpSpPr/>
          <p:nvPr/>
        </p:nvGrpSpPr>
        <p:grpSpPr>
          <a:xfrm>
            <a:off x="1143000" y="3433680"/>
            <a:ext cx="7315200" cy="681120"/>
            <a:chOff x="1143000" y="3433680"/>
            <a:chExt cx="7315200" cy="681120"/>
          </a:xfrm>
        </p:grpSpPr>
        <p:grpSp>
          <p:nvGrpSpPr>
            <p:cNvPr id="1879" name=""/>
            <p:cNvGrpSpPr/>
            <p:nvPr/>
          </p:nvGrpSpPr>
          <p:grpSpPr>
            <a:xfrm>
              <a:off x="1295280" y="3809880"/>
              <a:ext cx="6629400" cy="304920"/>
              <a:chOff x="1295280" y="3809880"/>
              <a:chExt cx="6629400" cy="304920"/>
            </a:xfrm>
          </p:grpSpPr>
          <p:sp>
            <p:nvSpPr>
              <p:cNvPr id="1880" name=""/>
              <p:cNvSpPr/>
              <p:nvPr/>
            </p:nvSpPr>
            <p:spPr>
              <a:xfrm>
                <a:off x="145980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162648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79136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95732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2124000" y="38098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228888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245484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61972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278640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2952720" y="38098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311724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328356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344844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361476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3781080" y="38098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394596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11228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427716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44348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4610160" y="38098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477468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494100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510588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527220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438520" y="38098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60340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76936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93424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610092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267240" y="38098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643176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659844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676332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692928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7095960" y="38098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726084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42680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59168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75836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924680" y="38098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295280" y="38098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1" name=""/>
            <p:cNvSpPr/>
            <p:nvPr/>
          </p:nvSpPr>
          <p:spPr>
            <a:xfrm>
              <a:off x="1143000" y="343368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Arial"/>
                </a:rPr>
                <a:t>0       25     50      75     100    125    150   175    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2" name=""/>
          <p:cNvSpPr/>
          <p:nvPr/>
        </p:nvSpPr>
        <p:spPr>
          <a:xfrm>
            <a:off x="7620120" y="3809880"/>
            <a:ext cx="228600" cy="228600"/>
          </a:xfrm>
          <a:prstGeom prst="ellipse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1523520" y="2971800"/>
            <a:ext cx="5334120" cy="609480"/>
            <a:chOff x="1523520" y="2971800"/>
            <a:chExt cx="5334120" cy="609480"/>
          </a:xfrm>
        </p:grpSpPr>
        <p:sp>
          <p:nvSpPr>
            <p:cNvPr id="1924" name=""/>
            <p:cNvSpPr/>
            <p:nvPr/>
          </p:nvSpPr>
          <p:spPr>
            <a:xfrm flipH="1">
              <a:off x="2208960" y="327672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H="1">
              <a:off x="1751760" y="320040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H="1">
              <a:off x="2590200" y="320040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H="1">
              <a:off x="2437560" y="297180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H="1">
              <a:off x="2056680" y="304812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H="1">
              <a:off x="3123360" y="320040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H="1">
              <a:off x="3885480" y="320040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H="1">
              <a:off x="5028480" y="320040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6628680" y="320040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1751760" y="297180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H="1">
              <a:off x="2437560" y="327672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H="1">
              <a:off x="2742480" y="304812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3504600" y="304812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H="1">
              <a:off x="1980360" y="335268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H="1">
              <a:off x="1523160" y="304812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H="1">
              <a:off x="4723560" y="312408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0" name=""/>
          <p:cNvSpPr/>
          <p:nvPr/>
        </p:nvSpPr>
        <p:spPr>
          <a:xfrm>
            <a:off x="304920" y="2413080"/>
            <a:ext cx="8623080" cy="1473120"/>
          </a:xfrm>
          <a:custGeom>
            <a:avLst/>
            <a:gdLst/>
            <a:ahLst/>
            <a:rect l="l" t="t" r="r" b="b"/>
            <a:pathLst>
              <a:path w="5816" h="928">
                <a:moveTo>
                  <a:pt x="5224" y="928"/>
                </a:moveTo>
                <a:cubicBezTo>
                  <a:pt x="5520" y="692"/>
                  <a:pt x="5816" y="456"/>
                  <a:pt x="5464" y="304"/>
                </a:cubicBezTo>
                <a:cubicBezTo>
                  <a:pt x="5112" y="152"/>
                  <a:pt x="3944" y="32"/>
                  <a:pt x="3112" y="16"/>
                </a:cubicBezTo>
                <a:cubicBezTo>
                  <a:pt x="2280" y="0"/>
                  <a:pt x="944" y="88"/>
                  <a:pt x="472" y="208"/>
                </a:cubicBezTo>
                <a:cubicBezTo>
                  <a:pt x="0" y="328"/>
                  <a:pt x="256" y="624"/>
                  <a:pt x="280" y="736"/>
                </a:cubicBezTo>
                <a:cubicBezTo>
                  <a:pt x="304" y="848"/>
                  <a:pt x="460" y="864"/>
                  <a:pt x="616" y="880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85800" y="48006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Less optimal (than Look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7" dur="indefinite" restart="never" nodeType="tmRoot">
          <p:childTnLst>
            <p:seq>
              <p:cTn id="3718" dur="indefinite" nodeType="mainSeq">
                <p:childTnLst>
                  <p:par>
                    <p:cTn id="3719" fill="hold">
                      <p:stCondLst>
                        <p:cond delay="indefinite"/>
                      </p:stCondLst>
                      <p:childTnLst>
                        <p:par>
                          <p:cTn id="3720" fill="hold">
                            <p:stCondLst>
                              <p:cond delay="0"/>
                            </p:stCondLst>
                            <p:childTnLst>
                              <p:par>
                                <p:cTn id="37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23" dur="500"/>
                                        <p:tgtEl>
                                          <p:spTgt spid="1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4" fill="hold">
                      <p:stCondLst>
                        <p:cond delay="indefinite"/>
                      </p:stCondLst>
                      <p:childTnLst>
                        <p:par>
                          <p:cTn id="3725" fill="hold">
                            <p:stCondLst>
                              <p:cond delay="0"/>
                            </p:stCondLst>
                            <p:childTnLst>
                              <p:par>
                                <p:cTn id="3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8" dur="5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9" fill="hold">
                      <p:stCondLst>
                        <p:cond delay="indefinite"/>
                      </p:stCondLst>
                      <p:childTnLst>
                        <p:par>
                          <p:cTn id="3730" fill="hold">
                            <p:stCondLst>
                              <p:cond delay="0"/>
                            </p:stCondLst>
                            <p:childTnLst>
                              <p:par>
                                <p:cTn id="3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3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4" fill="hold">
                      <p:stCondLst>
                        <p:cond delay="indefinite"/>
                      </p:stCondLst>
                      <p:childTnLst>
                        <p:par>
                          <p:cTn id="3735" fill="hold">
                            <p:stCondLst>
                              <p:cond delay="0"/>
                            </p:stCondLst>
                            <p:childTnLst>
                              <p:par>
                                <p:cTn id="37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8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9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0" fill="hold">
                      <p:stCondLst>
                        <p:cond delay="indefinite"/>
                      </p:stCondLst>
                      <p:childTnLst>
                        <p:par>
                          <p:cTn id="3741" fill="hold">
                            <p:stCondLst>
                              <p:cond delay="0"/>
                            </p:stCondLst>
                            <p:childTnLst>
                              <p:par>
                                <p:cTn id="37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4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fill="hold">
                      <p:stCondLst>
                        <p:cond delay="indefinite"/>
                      </p:stCondLst>
                      <p:childTnLst>
                        <p:par>
                          <p:cTn id="3746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49" dur="500"/>
                                        <p:tgtEl>
                                          <p:spTgt spid="1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ile Operations </a:t>
            </a:r>
            <a:r>
              <a:rPr b="0" i="1" lang="nl-BE" sz="32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Most op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ad / write file direc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Optim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pen File Table 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n 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ntry for every file-in-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py of DIRECTORY-entry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l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2514600"/>
            <a:ext cx="2133720" cy="198108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4480" y="3276720"/>
            <a:ext cx="1067040" cy="3682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Fil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3505320"/>
            <a:ext cx="1066680" cy="36828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Fil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3735360"/>
            <a:ext cx="1066680" cy="3682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Fil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5029200"/>
            <a:ext cx="3962160" cy="10159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5257800"/>
            <a:ext cx="1066680" cy="36828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Fil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10280" y="1905120"/>
            <a:ext cx="1863720" cy="398880"/>
          </a:xfrm>
          <a:prstGeom prst="borderCallout1">
            <a:avLst>
              <a:gd name="adj1" fmla="val 18750"/>
              <a:gd name="adj2" fmla="val -8333"/>
              <a:gd name="adj3" fmla="val 418300"/>
              <a:gd name="adj4" fmla="val -9018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5410080"/>
            <a:ext cx="1067040" cy="36828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Fil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43800" y="3581280"/>
            <a:ext cx="1066680" cy="221004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451080 h 2210040"/>
              <a:gd name="textAreaBottom" fmla="*/ 153792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17" stAng="-5400000" swAng="5400000"/>
                <a:lnTo>
                  <a:pt x="21600" y="10624"/>
                </a:lnTo>
                <a:arcTo wR="21600" hR="8817" stAng="0" swAng="3076759"/>
                <a:lnTo>
                  <a:pt x="6718" y="21163"/>
                </a:lnTo>
                <a:lnTo>
                  <a:pt x="0" y="18537"/>
                </a:lnTo>
                <a:lnTo>
                  <a:pt x="6718" y="15036"/>
                </a:lnTo>
                <a:lnTo>
                  <a:pt x="6718" y="17196"/>
                </a:lnTo>
                <a:arcTo wR="21600" hR="8817" stAng="3076759" swAng="-2932287"/>
                <a:lnTo>
                  <a:pt x="21486" y="9720"/>
                </a:lnTo>
                <a:arcTo wR="21600" hR="8817" stAng="-144472" swAng="-5255528"/>
                <a:close/>
              </a:path>
              <a:path fill="darkenLess" w="21600" h="21600">
                <a:moveTo>
                  <a:pt x="0" y="0"/>
                </a:moveTo>
                <a:arcTo wR="21600" hR="8817" stAng="-5400000" swAng="5400000"/>
                <a:lnTo>
                  <a:pt x="21600" y="10624"/>
                </a:lnTo>
                <a:arcTo wR="21600" hR="8817" stAng="0" swAng="-144472"/>
                <a:lnTo>
                  <a:pt x="21486" y="9720"/>
                </a:lnTo>
                <a:arcTo wR="21600" hR="8817" stAng="-144472" swAng="-5255528"/>
                <a:close/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3281400">
            <a:off x="8289360" y="385848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5181480"/>
            <a:ext cx="1447560" cy="703800"/>
          </a:xfrm>
          <a:prstGeom prst="borderCallout1">
            <a:avLst>
              <a:gd name="adj1" fmla="val 18750"/>
              <a:gd name="adj2" fmla="val -8333"/>
              <a:gd name="adj3" fmla="val 62013"/>
              <a:gd name="adj4" fmla="val 238907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pen Fil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500"/>
                            </p:stCondLst>
                            <p:childTnLst>
                              <p:par>
                                <p:cTn id="3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wap Space Manage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ntire process 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ndividual pages (virtual memory mg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iz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oo small: abort process/crash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oo much: waste disk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ultiple swap sp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verlap I/O (different disk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Loc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0" dur="indefinite" restart="never" nodeType="tmRoot">
          <p:childTnLst>
            <p:seq>
              <p:cTn id="3751" dur="indefinite" nodeType="mainSeq">
                <p:childTnLst>
                  <p:par>
                    <p:cTn id="3752" fill="hold">
                      <p:stCondLst>
                        <p:cond delay="indefinite"/>
                      </p:stCondLst>
                      <p:childTnLst>
                        <p:par>
                          <p:cTn id="3753" fill="hold">
                            <p:stCondLst>
                              <p:cond delay="0"/>
                            </p:stCondLst>
                            <p:childTnLst>
                              <p:par>
                                <p:cTn id="37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56" dur="500"/>
                                        <p:tgtEl>
                                          <p:spTgt spid="1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59" dur="500"/>
                                        <p:tgtEl>
                                          <p:spTgt spid="1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62" dur="500"/>
                                        <p:tgtEl>
                                          <p:spTgt spid="1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3" fill="hold">
                      <p:stCondLst>
                        <p:cond delay="indefinite"/>
                      </p:stCondLst>
                      <p:childTnLst>
                        <p:par>
                          <p:cTn id="3764" fill="hold">
                            <p:stCondLst>
                              <p:cond delay="0"/>
                            </p:stCondLst>
                            <p:childTnLst>
                              <p:par>
                                <p:cTn id="37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67" dur="500"/>
                                        <p:tgtEl>
                                          <p:spTgt spid="1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70" dur="500"/>
                                        <p:tgtEl>
                                          <p:spTgt spid="1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73" dur="500"/>
                                        <p:tgtEl>
                                          <p:spTgt spid="1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fill="hold">
                      <p:stCondLst>
                        <p:cond delay="indefinite"/>
                      </p:stCondLst>
                      <p:childTnLst>
                        <p:par>
                          <p:cTn id="3775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78" dur="500"/>
                                        <p:tgtEl>
                                          <p:spTgt spid="1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81" dur="500"/>
                                        <p:tgtEl>
                                          <p:spTgt spid="19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2" fill="hold">
                      <p:stCondLst>
                        <p:cond delay="indefinite"/>
                      </p:stCondLst>
                      <p:childTnLst>
                        <p:par>
                          <p:cTn id="3783" fill="hold">
                            <p:stCondLst>
                              <p:cond delay="0"/>
                            </p:stCondLst>
                            <p:childTnLst>
                              <p:par>
                                <p:cTn id="37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86" dur="500"/>
                                        <p:tgtEl>
                                          <p:spTgt spid="19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wap Space Manage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ae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e00"/>
                </a:solidFill>
                <a:latin typeface="Tahoma"/>
              </a:rPr>
              <a:t>Easy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c012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ahoma"/>
              </a:rPr>
              <a:t>I/O not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rectories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sk Cac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c012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ahoma"/>
              </a:rPr>
              <a:t>External Frag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c012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ahoma"/>
              </a:rPr>
              <a:t>Scattered over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ny Arm Displacemen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ap Part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No Fi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No Direc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1500"/>
              </a:spcBef>
              <a:buClr>
                <a:srgbClr val="00ae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e00"/>
                </a:solidFill>
                <a:latin typeface="Tahoma"/>
              </a:rPr>
              <a:t>Optimize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c012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ahoma"/>
              </a:rPr>
              <a:t>Non-optimal Al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rnal/Internal Frag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a short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c012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ahoma"/>
              </a:rPr>
              <a:t>Only as swap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c012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ahoma"/>
              </a:rPr>
              <a:t>Cannot gr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7" dur="indefinite" restart="never" nodeType="tmRoot">
          <p:childTnLst>
            <p:seq>
              <p:cTn id="3788" dur="indefinite" nodeType="mainSeq">
                <p:childTnLst>
                  <p:par>
                    <p:cTn id="3789" fill="hold">
                      <p:stCondLst>
                        <p:cond delay="indefinite"/>
                      </p:stCondLst>
                      <p:childTnLst>
                        <p:par>
                          <p:cTn id="3790" fill="hold">
                            <p:stCondLst>
                              <p:cond delay="0"/>
                            </p:stCondLst>
                            <p:childTnLst>
                              <p:par>
                                <p:cTn id="37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93" dur="500"/>
                                        <p:tgtEl>
                                          <p:spTgt spid="1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4" fill="hold">
                      <p:stCondLst>
                        <p:cond delay="indefinite"/>
                      </p:stCondLst>
                      <p:childTnLst>
                        <p:par>
                          <p:cTn id="3795" fill="hold">
                            <p:stCondLst>
                              <p:cond delay="0"/>
                            </p:stCondLst>
                            <p:childTnLst>
                              <p:par>
                                <p:cTn id="37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98" dur="500"/>
                                        <p:tgtEl>
                                          <p:spTgt spid="1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02" dur="500"/>
                                        <p:tgtEl>
                                          <p:spTgt spid="1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06" dur="500"/>
                                        <p:tgtEl>
                                          <p:spTgt spid="19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7" fill="hold">
                      <p:stCondLst>
                        <p:cond delay="indefinite"/>
                      </p:stCondLst>
                      <p:childTnLst>
                        <p:par>
                          <p:cTn id="3808" fill="hold">
                            <p:stCondLst>
                              <p:cond delay="0"/>
                            </p:stCondLst>
                            <p:childTnLst>
                              <p:par>
                                <p:cTn id="38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11" dur="500"/>
                                        <p:tgtEl>
                                          <p:spTgt spid="1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16" dur="500"/>
                                        <p:tgtEl>
                                          <p:spTgt spid="19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7" fill="hold">
                      <p:stCondLst>
                        <p:cond delay="indefinite"/>
                      </p:stCondLst>
                      <p:childTnLst>
                        <p:par>
                          <p:cTn id="3818" fill="hold">
                            <p:stCondLst>
                              <p:cond delay="0"/>
                            </p:stCondLst>
                            <p:childTnLst>
                              <p:par>
                                <p:cTn id="38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21" dur="500"/>
                                        <p:tgtEl>
                                          <p:spTgt spid="19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2" fill="hold">
                            <p:stCondLst>
                              <p:cond delay="500"/>
                            </p:stCondLst>
                            <p:childTnLst>
                              <p:par>
                                <p:cTn id="38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25" dur="500"/>
                                        <p:tgtEl>
                                          <p:spTgt spid="19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29" dur="500"/>
                                        <p:tgtEl>
                                          <p:spTgt spid="19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4" dur="500"/>
                                        <p:tgtEl>
                                          <p:spTgt spid="19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5" fill="hold">
                            <p:stCondLst>
                              <p:cond delay="500"/>
                            </p:stCondLst>
                            <p:childTnLst>
                              <p:par>
                                <p:cTn id="38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8" dur="500"/>
                                        <p:tgtEl>
                                          <p:spTgt spid="19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2" dur="500"/>
                                        <p:tgtEl>
                                          <p:spTgt spid="19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3" fill="hold">
                      <p:stCondLst>
                        <p:cond delay="indefinite"/>
                      </p:stCondLst>
                      <p:childTnLst>
                        <p:par>
                          <p:cTn id="3844" fill="hold">
                            <p:stCondLst>
                              <p:cond delay="0"/>
                            </p:stCondLst>
                            <p:childTnLst>
                              <p:par>
                                <p:cTn id="38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7" dur="500"/>
                                        <p:tgtEl>
                                          <p:spTgt spid="19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8" fill="hold">
                      <p:stCondLst>
                        <p:cond delay="indefinite"/>
                      </p:stCondLst>
                      <p:childTnLst>
                        <p:par>
                          <p:cTn id="3849" fill="hold">
                            <p:stCondLst>
                              <p:cond delay="0"/>
                            </p:stCondLst>
                            <p:childTnLst>
                              <p:par>
                                <p:cTn id="38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2" dur="500"/>
                                        <p:tgtEl>
                                          <p:spTgt spid="19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5" dur="500"/>
                                        <p:tgtEl>
                                          <p:spTgt spid="19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60" dur="500"/>
                                        <p:tgtEl>
                                          <p:spTgt spid="19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fill="hold">
                      <p:stCondLst>
                        <p:cond delay="indefinite"/>
                      </p:stCondLst>
                      <p:childTnLst>
                        <p:par>
                          <p:cTn id="3862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65" dur="500"/>
                                        <p:tgtEl>
                                          <p:spTgt spid="19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8" name="" descr=""/>
          <p:cNvPicPr/>
          <p:nvPr/>
        </p:nvPicPr>
        <p:blipFill>
          <a:blip r:embed="rId1"/>
          <a:stretch/>
        </p:blipFill>
        <p:spPr>
          <a:xfrm>
            <a:off x="3643200" y="1430280"/>
            <a:ext cx="18576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6" dur="indefinite" restart="never" nodeType="tmRoot">
          <p:childTnLst>
            <p:seq>
              <p:cTn id="3867" dur="indefinite" nodeType="mainSeq">
                <p:childTnLst>
                  <p:par>
                    <p:cTn id="3868" fill="hold">
                      <p:stCondLst>
                        <p:cond delay="0"/>
                      </p:stCondLst>
                      <p:childTnLst>
                        <p:par>
                          <p:cTn id="3869" fill="hold">
                            <p:stCondLst>
                              <p:cond delay="0"/>
                            </p:stCondLst>
                            <p:childTnLst>
                              <p:par>
                                <p:cTn id="387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2" dur="50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3" dur="50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ile Operations </a:t>
            </a:r>
            <a:r>
              <a:rPr b="0" i="1" lang="nl-BE" sz="32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xtra Facilit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lock a file (part of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emory mapped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ssociate virtual address range with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4100400"/>
            <a:ext cx="1447560" cy="160020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3871800"/>
            <a:ext cx="1143000" cy="106704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4938840"/>
            <a:ext cx="1143000" cy="53316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4938840"/>
            <a:ext cx="1143000" cy="53316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4" idx="1"/>
            <a:endCxn id="203" idx="0"/>
          </p:cNvCxnSpPr>
          <p:nvPr/>
        </p:nvCxnSpPr>
        <p:spPr>
          <a:xfrm rot="10800000">
            <a:off x="1561320" y="4938120"/>
            <a:ext cx="1639080" cy="267120"/>
          </a:xfrm>
          <a:prstGeom prst="curvedConnector5">
            <a:avLst>
              <a:gd name="adj1" fmla="val 32557"/>
              <a:gd name="adj2" fmla="val 92847"/>
              <a:gd name="adj3" fmla="val 32557"/>
            </a:avLst>
          </a:prstGeom>
          <a:ln w="5724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206" name=""/>
          <p:cNvSpPr/>
          <p:nvPr/>
        </p:nvSpPr>
        <p:spPr>
          <a:xfrm>
            <a:off x="4800600" y="3948120"/>
            <a:ext cx="1752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OAD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TOR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13372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5624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3" idx="2"/>
            <a:endCxn id="204" idx="2"/>
          </p:cNvCxnSpPr>
          <p:nvPr/>
        </p:nvCxnSpPr>
        <p:spPr>
          <a:xfrm flipH="1" rot="16200000">
            <a:off x="2665080" y="4367520"/>
            <a:ext cx="2520" cy="221076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57240">
            <a:solidFill>
              <a:srgbClr val="fc012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5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ther Attribut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2: EXEC and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3705120" y="2852640"/>
            <a:ext cx="866880" cy="106704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X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49680" y="4532400"/>
            <a:ext cx="1444680" cy="1087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 rot="2748000">
            <a:off x="3883320" y="3807360"/>
            <a:ext cx="1216080" cy="630360"/>
          </a:xfrm>
          <a:prstGeom prst="rightArrow">
            <a:avLst>
              <a:gd name="adj1" fmla="val 50000"/>
              <a:gd name="adj2" fmla="val 4823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796560" y="3300480"/>
            <a:ext cx="1585080" cy="1458720"/>
            <a:chOff x="3796560" y="3300480"/>
            <a:chExt cx="1585080" cy="1458720"/>
          </a:xfrm>
        </p:grpSpPr>
        <p:sp>
          <p:nvSpPr>
            <p:cNvPr id="216" name=""/>
            <p:cNvSpPr/>
            <p:nvPr/>
          </p:nvSpPr>
          <p:spPr>
            <a:xfrm rot="1888800">
              <a:off x="3849120" y="4043160"/>
              <a:ext cx="1560240" cy="333000"/>
            </a:xfrm>
            <a:custGeom>
              <a:avLst/>
              <a:gdLst/>
              <a:ahLst/>
              <a:rect l="l" t="t" r="r" b="b"/>
              <a:pathLst>
                <a:path w="1296" h="104">
                  <a:moveTo>
                    <a:pt x="0" y="104"/>
                  </a:moveTo>
                  <a:cubicBezTo>
                    <a:pt x="276" y="60"/>
                    <a:pt x="552" y="16"/>
                    <a:pt x="768" y="8"/>
                  </a:cubicBezTo>
                  <a:cubicBezTo>
                    <a:pt x="984" y="0"/>
                    <a:pt x="1140" y="28"/>
                    <a:pt x="1296" y="56"/>
                  </a:cubicBezTo>
                </a:path>
              </a:pathLst>
            </a:custGeom>
            <a:noFill/>
            <a:ln w="1522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 rot="19181400">
              <a:off x="3733560" y="3776400"/>
              <a:ext cx="1618200" cy="399600"/>
            </a:xfrm>
            <a:custGeom>
              <a:avLst/>
              <a:gdLst/>
              <a:ahLst/>
              <a:rect l="l" t="t" r="r" b="b"/>
              <a:pathLst>
                <a:path w="1296" h="104">
                  <a:moveTo>
                    <a:pt x="0" y="104"/>
                  </a:moveTo>
                  <a:cubicBezTo>
                    <a:pt x="276" y="60"/>
                    <a:pt x="552" y="16"/>
                    <a:pt x="768" y="8"/>
                  </a:cubicBezTo>
                  <a:cubicBezTo>
                    <a:pt x="984" y="0"/>
                    <a:pt x="1140" y="28"/>
                    <a:pt x="1296" y="56"/>
                  </a:cubicBezTo>
                </a:path>
              </a:pathLst>
            </a:custGeom>
            <a:noFill/>
            <a:ln w="1522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Logical vs Internal Stru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Every Filetype </a:t>
            </a:r>
            <a:r>
              <a:rPr b="0" lang="nl-B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 Logical Stru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imple </a:t>
            </a: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Compl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isk </a:t>
            </a:r>
            <a:r>
              <a:rPr b="0" lang="nl-B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 Fixed Block Siz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ile = # disk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nternal Frag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5162400" y="5079960"/>
            <a:ext cx="1067040" cy="457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58040" y="5079960"/>
            <a:ext cx="1066680" cy="457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753320" y="5079960"/>
            <a:ext cx="1066680" cy="457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62400" y="5079960"/>
            <a:ext cx="762120" cy="4572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924520" y="5079960"/>
            <a:ext cx="304920" cy="45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58040" y="5079960"/>
            <a:ext cx="380880" cy="45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38920" y="5079960"/>
            <a:ext cx="685800" cy="45720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53320" y="5079960"/>
            <a:ext cx="76320" cy="45720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29640" y="5079960"/>
            <a:ext cx="761760" cy="45720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76800" y="5765760"/>
            <a:ext cx="121932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19" y="-19725"/>
                </a:moveTo>
                <a:lnTo>
                  <a:pt x="-1350" y="5400"/>
                </a:lnTo>
              </a:path>
              <a:path w="21600" h="21600">
                <a:moveTo>
                  <a:pt x="-1350" y="0"/>
                </a:moveTo>
                <a:lnTo>
                  <a:pt x="-1350" y="21600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158440" y="4270320"/>
            <a:ext cx="2032920" cy="811800"/>
            <a:chOff x="5158440" y="4270320"/>
            <a:chExt cx="2032920" cy="811800"/>
          </a:xfrm>
        </p:grpSpPr>
        <p:sp>
          <p:nvSpPr>
            <p:cNvPr id="231" name=""/>
            <p:cNvSpPr/>
            <p:nvPr/>
          </p:nvSpPr>
          <p:spPr>
            <a:xfrm>
              <a:off x="6201000" y="4270320"/>
              <a:ext cx="9903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11250" y="15750"/>
                  </a:moveTo>
                  <a:lnTo>
                    <a:pt x="-1662" y="5400"/>
                  </a:lnTo>
                </a:path>
                <a:path w="21600" h="21600">
                  <a:moveTo>
                    <a:pt x="-1662" y="0"/>
                  </a:moveTo>
                  <a:lnTo>
                    <a:pt x="-1662" y="21600"/>
                  </a:lnTo>
                </a:path>
              </a:pathLst>
            </a:cu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ahoma"/>
                </a:rPr>
                <a:t>Blo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361600">
              <a:off x="5465880" y="4314240"/>
              <a:ext cx="456840" cy="1067040"/>
            </a:xfrm>
            <a:custGeom>
              <a:avLst/>
              <a:gdLst>
                <a:gd name="textAreaLeft" fmla="*/ 291960 w 456840"/>
                <a:gd name="textAreaRight" fmla="*/ 457200 w 45684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5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8T16:23:00Z</dcterms:created>
  <dc:creator>Prof. B. De Decker</dc:creator>
  <dc:description/>
  <cp:keywords/>
  <dc:language>en-US</dc:language>
  <cp:lastModifiedBy>Bart De Decker</cp:lastModifiedBy>
  <cp:lastPrinted>1998-10-07T15:13:33Z</cp:lastPrinted>
  <dcterms:modified xsi:type="dcterms:W3CDTF">2005-12-02T07:31:21Z</dcterms:modified>
  <cp:revision>228</cp:revision>
  <dc:subject>Lecture 4</dc:subject>
  <dc:title>IT - Module B1</dc:title>
</cp:coreProperties>
</file>