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4D67B838-5845-4B5C-A0B6-467CEA6C56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24849FFD-55A2-4954-9A27-2155AAC2C9D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04_filesystem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32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357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715000" y="3048120"/>
            <a:ext cx="838080" cy="620640"/>
            <a:chOff x="5715000" y="3048120"/>
            <a:chExt cx="838080" cy="620640"/>
          </a:xfrm>
        </p:grpSpPr>
        <p:sp>
          <p:nvSpPr>
            <p:cNvPr id="367" name=""/>
            <p:cNvSpPr/>
            <p:nvPr/>
          </p:nvSpPr>
          <p:spPr>
            <a:xfrm>
              <a:off x="5715000" y="30481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3600" y="32004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352680" y="3276720"/>
            <a:ext cx="967680" cy="914400"/>
            <a:chOff x="3352680" y="3276720"/>
            <a:chExt cx="967680" cy="914400"/>
          </a:xfrm>
        </p:grpSpPr>
        <p:grpSp>
          <p:nvGrpSpPr>
            <p:cNvPr id="370" name=""/>
            <p:cNvGrpSpPr/>
            <p:nvPr/>
          </p:nvGrpSpPr>
          <p:grpSpPr>
            <a:xfrm>
              <a:off x="3352680" y="3581640"/>
              <a:ext cx="967680" cy="609480"/>
              <a:chOff x="3352680" y="3581640"/>
              <a:chExt cx="967680" cy="609480"/>
            </a:xfrm>
          </p:grpSpPr>
          <p:sp>
            <p:nvSpPr>
              <p:cNvPr id="371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530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375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61680" y="2589840"/>
            <a:ext cx="82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5680" y="51346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nd Free Fram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nd Free Frame … NON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404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433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608360" y="2496960"/>
            <a:ext cx="900360" cy="36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5200" y="36147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46640" y="361476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446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267080" y="5256720"/>
            <a:ext cx="2661120" cy="703800"/>
            <a:chOff x="4267080" y="5256720"/>
            <a:chExt cx="2661120" cy="703800"/>
          </a:xfrm>
        </p:grpSpPr>
        <p:sp>
          <p:nvSpPr>
            <p:cNvPr id="449" name=""/>
            <p:cNvSpPr/>
            <p:nvPr/>
          </p:nvSpPr>
          <p:spPr>
            <a:xfrm>
              <a:off x="4267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8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76720" y="2895120"/>
            <a:ext cx="849240" cy="697320"/>
            <a:chOff x="3276720" y="2895120"/>
            <a:chExt cx="849240" cy="697320"/>
          </a:xfrm>
        </p:grpSpPr>
        <p:sp>
          <p:nvSpPr>
            <p:cNvPr id="453" name=""/>
            <p:cNvSpPr/>
            <p:nvPr/>
          </p:nvSpPr>
          <p:spPr>
            <a:xfrm rot="16200000">
              <a:off x="3250440" y="292140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124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903400" y="2514600"/>
            <a:ext cx="5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44840" y="251460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2819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401720" y="2747880"/>
            <a:ext cx="3617280" cy="1514520"/>
            <a:chOff x="4401720" y="2747880"/>
            <a:chExt cx="3617280" cy="1514520"/>
          </a:xfrm>
        </p:grpSpPr>
        <p:sp>
          <p:nvSpPr>
            <p:cNvPr id="459" name=""/>
            <p:cNvSpPr/>
            <p:nvPr/>
          </p:nvSpPr>
          <p:spPr>
            <a:xfrm flipH="1" rot="898800">
              <a:off x="4419360" y="320004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0" y="35053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613400" y="2496960"/>
            <a:ext cx="900000" cy="3607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724280" y="1752480"/>
            <a:ext cx="3581640" cy="990000"/>
            <a:chOff x="4724280" y="1752480"/>
            <a:chExt cx="3581640" cy="990000"/>
          </a:xfrm>
        </p:grpSpPr>
        <p:sp>
          <p:nvSpPr>
            <p:cNvPr id="463" name=""/>
            <p:cNvSpPr/>
            <p:nvPr/>
          </p:nvSpPr>
          <p:spPr>
            <a:xfrm flipV="1">
              <a:off x="4724280" y="2132280"/>
              <a:ext cx="3581640" cy="609480"/>
            </a:xfrm>
            <a:custGeom>
              <a:avLst/>
              <a:gdLst>
                <a:gd name="textAreaLeft" fmla="*/ 626760 w 3581640"/>
                <a:gd name="textAreaRight" fmla="*/ 2596680 w 35816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17524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410080" y="2261160"/>
            <a:ext cx="1052280" cy="874080"/>
            <a:chOff x="5410080" y="2261160"/>
            <a:chExt cx="1052280" cy="874080"/>
          </a:xfrm>
        </p:grpSpPr>
        <p:sp>
          <p:nvSpPr>
            <p:cNvPr id="466" name=""/>
            <p:cNvSpPr/>
            <p:nvPr/>
          </p:nvSpPr>
          <p:spPr>
            <a:xfrm>
              <a:off x="5547240" y="22611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Vic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10080" y="251460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5000" y="2666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395280" y="5373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15667" y="10800"/>
                </a:moveTo>
                <a:lnTo>
                  <a:pt x="5162" y="17806"/>
                </a:lnTo>
                <a:lnTo>
                  <a:pt x="5162" y="3794"/>
                </a:lnTo>
                <a:close/>
              </a:path>
              <a:path fill="darken" w="24337" h="21600">
                <a:moveTo>
                  <a:pt x="17513" y="3794"/>
                </a:moveTo>
                <a:lnTo>
                  <a:pt x="17513" y="17806"/>
                </a:lnTo>
                <a:lnTo>
                  <a:pt x="19175" y="17806"/>
                </a:lnTo>
                <a:lnTo>
                  <a:pt x="19175" y="3794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81240" y="1523880"/>
            <a:ext cx="7377120" cy="39592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Find Vic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Write Page to Swap Space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Read Page in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33520" y="1447920"/>
            <a:ext cx="794520" cy="1083600"/>
            <a:chOff x="533520" y="1447920"/>
            <a:chExt cx="794520" cy="1083600"/>
          </a:xfrm>
        </p:grpSpPr>
        <p:sp>
          <p:nvSpPr>
            <p:cNvPr id="473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76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546440" y="5532480"/>
            <a:ext cx="353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2" y="-58219"/>
                </a:moveTo>
                <a:lnTo>
                  <a:pt x="-466" y="4000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void if not modified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(modify/dirty bit) or 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44400">
            <a:off x="4914720" y="1514160"/>
            <a:ext cx="3768840" cy="2657160"/>
          </a:xfrm>
          <a:prstGeom prst="irregularSeal1">
            <a:avLst/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formance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PF low: Good Replacement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py-on-write (FOR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mory-mapped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8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8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8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81960" y="1992240"/>
            <a:ext cx="1180080" cy="2890080"/>
            <a:chOff x="381960" y="1992240"/>
            <a:chExt cx="1180080" cy="2890080"/>
          </a:xfrm>
        </p:grpSpPr>
        <p:sp>
          <p:nvSpPr>
            <p:cNvPr id="481" name=""/>
            <p:cNvSpPr/>
            <p:nvPr/>
          </p:nvSpPr>
          <p:spPr>
            <a:xfrm>
              <a:off x="6620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040" y="27111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0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0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40" y="41320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0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0240" y="30686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240" y="4492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960" y="20340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0240" y="23540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0240" y="343188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0240" y="41353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590920" y="2057400"/>
            <a:ext cx="1218960" cy="2743200"/>
            <a:chOff x="2590920" y="2057400"/>
            <a:chExt cx="1218960" cy="2743200"/>
          </a:xfrm>
        </p:grpSpPr>
        <p:sp>
          <p:nvSpPr>
            <p:cNvPr id="494" name=""/>
            <p:cNvSpPr/>
            <p:nvPr/>
          </p:nvSpPr>
          <p:spPr>
            <a:xfrm>
              <a:off x="25909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6204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040" y="2362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48440" y="1523880"/>
            <a:ext cx="3608640" cy="1708920"/>
            <a:chOff x="748440" y="1523880"/>
            <a:chExt cx="3608640" cy="1708920"/>
          </a:xfrm>
        </p:grpSpPr>
        <p:sp>
          <p:nvSpPr>
            <p:cNvPr id="501" name=""/>
            <p:cNvSpPr/>
            <p:nvPr/>
          </p:nvSpPr>
          <p:spPr>
            <a:xfrm flipV="1" rot="976800">
              <a:off x="7617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080" y="2366640"/>
            <a:ext cx="3524400" cy="2505240"/>
            <a:chOff x="28080" y="2366640"/>
            <a:chExt cx="3524400" cy="2505240"/>
          </a:xfrm>
        </p:grpSpPr>
        <p:sp>
          <p:nvSpPr>
            <p:cNvPr id="504" name=""/>
            <p:cNvSpPr/>
            <p:nvPr/>
          </p:nvSpPr>
          <p:spPr>
            <a:xfrm flipH="1" rot="1786200">
              <a:off x="0" y="3200040"/>
              <a:ext cx="3581280" cy="83772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1960 h 837720"/>
                <a:gd name="textAreaBottom" fmla="*/ 72576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9200">
              <a:off x="1904760" y="365724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07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20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27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1840" y="48769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out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33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71800" y="136332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092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95280" y="5157720"/>
            <a:ext cx="1655640" cy="459720"/>
            <a:chOff x="395280" y="5157720"/>
            <a:chExt cx="1655640" cy="459720"/>
          </a:xfrm>
        </p:grpSpPr>
        <p:sp>
          <p:nvSpPr>
            <p:cNvPr id="541" name=""/>
            <p:cNvSpPr/>
            <p:nvPr/>
          </p:nvSpPr>
          <p:spPr>
            <a:xfrm>
              <a:off x="395280" y="558972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320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050920" y="5492880"/>
            <a:ext cx="1728720" cy="459720"/>
            <a:chOff x="2050920" y="5492880"/>
            <a:chExt cx="1728720" cy="459720"/>
          </a:xfrm>
        </p:grpSpPr>
        <p:sp>
          <p:nvSpPr>
            <p:cNvPr id="544" name=""/>
            <p:cNvSpPr/>
            <p:nvPr/>
          </p:nvSpPr>
          <p:spPr>
            <a:xfrm>
              <a:off x="205092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4720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47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51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780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13760" y="5229360"/>
            <a:ext cx="1218600" cy="459720"/>
            <a:chOff x="3713760" y="5229360"/>
            <a:chExt cx="1218600" cy="459720"/>
          </a:xfrm>
        </p:grpSpPr>
        <p:sp>
          <p:nvSpPr>
            <p:cNvPr id="555" name=""/>
            <p:cNvSpPr/>
            <p:nvPr/>
          </p:nvSpPr>
          <p:spPr>
            <a:xfrm>
              <a:off x="3780000" y="5661000"/>
              <a:ext cx="115236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3760" y="522936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58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62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75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82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87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92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96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99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0560" y="1968480"/>
            <a:ext cx="1180080" cy="2890440"/>
            <a:chOff x="610560" y="1968480"/>
            <a:chExt cx="1180080" cy="2890440"/>
          </a:xfrm>
        </p:grpSpPr>
        <p:sp>
          <p:nvSpPr>
            <p:cNvPr id="602" name=""/>
            <p:cNvSpPr/>
            <p:nvPr/>
          </p:nvSpPr>
          <p:spPr>
            <a:xfrm>
              <a:off x="890640" y="232560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90640" y="26877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90640" y="196848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90640" y="3754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0640" y="4108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90640" y="3406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88840" y="304488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8840" y="44690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0560" y="20106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8840" y="23306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88840" y="34084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8840" y="411156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19520" y="2033640"/>
            <a:ext cx="1218960" cy="2743200"/>
            <a:chOff x="2819520" y="2033640"/>
            <a:chExt cx="1218960" cy="2743200"/>
          </a:xfrm>
        </p:grpSpPr>
        <p:sp>
          <p:nvSpPr>
            <p:cNvPr id="615" name=""/>
            <p:cNvSpPr/>
            <p:nvPr/>
          </p:nvSpPr>
          <p:spPr>
            <a:xfrm>
              <a:off x="2819520" y="203364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3224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800" y="41673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1800" y="3710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885960" y="233028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85960" y="3038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77040" y="1500120"/>
            <a:ext cx="3608640" cy="1708920"/>
            <a:chOff x="977040" y="1500120"/>
            <a:chExt cx="3608640" cy="1708920"/>
          </a:xfrm>
        </p:grpSpPr>
        <p:sp>
          <p:nvSpPr>
            <p:cNvPr id="622" name=""/>
            <p:cNvSpPr/>
            <p:nvPr/>
          </p:nvSpPr>
          <p:spPr>
            <a:xfrm flipV="1" rot="976800">
              <a:off x="990360" y="21096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62320" y="15001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85960" y="233208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0720" y="485316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ol + Remember Cont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9600">
            <a:off x="1908000" y="3212640"/>
            <a:ext cx="46836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139500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27194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4360" y="5133960"/>
            <a:ext cx="1655640" cy="459720"/>
            <a:chOff x="684360" y="5133960"/>
            <a:chExt cx="1655640" cy="459720"/>
          </a:xfrm>
        </p:grpSpPr>
        <p:sp>
          <p:nvSpPr>
            <p:cNvPr id="630" name=""/>
            <p:cNvSpPr/>
            <p:nvPr/>
          </p:nvSpPr>
          <p:spPr>
            <a:xfrm>
              <a:off x="684360" y="556596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2280" y="51339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82560" y="5492880"/>
            <a:ext cx="0" cy="43308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611280" y="5492880"/>
            <a:ext cx="1727280" cy="459720"/>
            <a:chOff x="611280" y="5492880"/>
            <a:chExt cx="1727280" cy="459720"/>
          </a:xfrm>
        </p:grpSpPr>
        <p:sp>
          <p:nvSpPr>
            <p:cNvPr id="634" name=""/>
            <p:cNvSpPr/>
            <p:nvPr/>
          </p:nvSpPr>
          <p:spPr>
            <a:xfrm>
              <a:off x="677880" y="590220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1280" y="5492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763640" y="220500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63640" y="3645000"/>
            <a:ext cx="1368360" cy="93636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63640" y="134136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 device id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rite page to d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victim = clean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Replac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ssential for Virtual Memor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ver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ing Algorithms MFU, LF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105520" y="3505320"/>
            <a:ext cx="2666880" cy="99036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-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ferenc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Frame | = 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7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2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87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nly pa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 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2 0 3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p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1 2 0 3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ure 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ever bring page in Memory until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1736640" y="3200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84360" y="601992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7320" y="5569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143720" y="3429000"/>
            <a:ext cx="60696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36640" y="51814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65240" y="3505320"/>
            <a:ext cx="4206960" cy="1676160"/>
          </a:xfrm>
          <a:custGeom>
            <a:avLst/>
            <a:gdLst/>
            <a:ahLst/>
            <a:rect l="l" t="t" r="r" b="b"/>
            <a:pathLst>
              <a:path w="2688" h="1064">
                <a:moveTo>
                  <a:pt x="0" y="0"/>
                </a:moveTo>
                <a:cubicBezTo>
                  <a:pt x="36" y="172"/>
                  <a:pt x="72" y="344"/>
                  <a:pt x="144" y="480"/>
                </a:cubicBezTo>
                <a:cubicBezTo>
                  <a:pt x="216" y="616"/>
                  <a:pt x="280" y="728"/>
                  <a:pt x="432" y="816"/>
                </a:cubicBezTo>
                <a:cubicBezTo>
                  <a:pt x="584" y="904"/>
                  <a:pt x="824" y="968"/>
                  <a:pt x="1056" y="1008"/>
                </a:cubicBezTo>
                <a:cubicBezTo>
                  <a:pt x="1288" y="1048"/>
                  <a:pt x="1552" y="1048"/>
                  <a:pt x="1824" y="1056"/>
                </a:cubicBezTo>
                <a:cubicBezTo>
                  <a:pt x="2096" y="1064"/>
                  <a:pt x="2392" y="1060"/>
                  <a:pt x="2688" y="1056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8880" y="3280320"/>
            <a:ext cx="1547640" cy="703800"/>
          </a:xfrm>
          <a:prstGeom prst="borderCallout1">
            <a:avLst>
              <a:gd name="adj1" fmla="val 18750"/>
              <a:gd name="adj2" fmla="val -8333"/>
              <a:gd name="adj3" fmla="val 271879"/>
              <a:gd name="adj4" fmla="val -5181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differe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648320" y="4495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, Restri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rst In, Firs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Longest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698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197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143000" y="5562720"/>
            <a:ext cx="4002120" cy="539640"/>
            <a:chOff x="1143000" y="5562720"/>
            <a:chExt cx="4002120" cy="539640"/>
          </a:xfrm>
        </p:grpSpPr>
        <p:sp>
          <p:nvSpPr>
            <p:cNvPr id="723" name=""/>
            <p:cNvSpPr/>
            <p:nvPr/>
          </p:nvSpPr>
          <p:spPr>
            <a:xfrm>
              <a:off x="1143000" y="5562720"/>
              <a:ext cx="125892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young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4600" y="5562720"/>
              <a:ext cx="125892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l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862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id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482920" y="4724280"/>
            <a:ext cx="6095880" cy="1145520"/>
            <a:chOff x="2482920" y="4724280"/>
            <a:chExt cx="6095880" cy="1145520"/>
          </a:xfrm>
        </p:grpSpPr>
        <p:sp>
          <p:nvSpPr>
            <p:cNvPr id="727" name=""/>
            <p:cNvSpPr/>
            <p:nvPr/>
          </p:nvSpPr>
          <p:spPr>
            <a:xfrm>
              <a:off x="2482920" y="47242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82920" y="5181480"/>
              <a:ext cx="6095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93040" y="5349240"/>
              <a:ext cx="182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FIFO: 8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metimes bad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nomaly of Be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ore frames but More P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470480"/>
            <a:ext cx="0" cy="1604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27320" y="5954760"/>
            <a:ext cx="4402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33520" y="5561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883160" y="4359960"/>
            <a:ext cx="48528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40000" y="551340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66880" y="4419720"/>
            <a:ext cx="2895840" cy="1143000"/>
          </a:xfrm>
          <a:custGeom>
            <a:avLst/>
            <a:gdLst/>
            <a:ahLst/>
            <a:rect l="l" t="t" r="r" b="b"/>
            <a:pathLst>
              <a:path w="1824" h="720">
                <a:moveTo>
                  <a:pt x="0" y="0"/>
                </a:moveTo>
                <a:cubicBezTo>
                  <a:pt x="104" y="188"/>
                  <a:pt x="208" y="376"/>
                  <a:pt x="288" y="432"/>
                </a:cubicBezTo>
                <a:cubicBezTo>
                  <a:pt x="368" y="488"/>
                  <a:pt x="408" y="328"/>
                  <a:pt x="480" y="336"/>
                </a:cubicBezTo>
                <a:cubicBezTo>
                  <a:pt x="552" y="344"/>
                  <a:pt x="592" y="424"/>
                  <a:pt x="720" y="480"/>
                </a:cubicBezTo>
                <a:cubicBezTo>
                  <a:pt x="848" y="536"/>
                  <a:pt x="1064" y="632"/>
                  <a:pt x="1248" y="672"/>
                </a:cubicBezTo>
                <a:cubicBezTo>
                  <a:pt x="1432" y="712"/>
                  <a:pt x="1628" y="716"/>
                  <a:pt x="1824" y="720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95480" y="4572000"/>
            <a:ext cx="990720" cy="914400"/>
          </a:xfrm>
          <a:prstGeom prst="ellipse">
            <a:avLst/>
          </a:prstGeom>
          <a:noFill/>
          <a:ln w="7632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will not be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781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03" name=""/>
            <p:cNvSpPr/>
            <p:nvPr/>
          </p:nvSpPr>
          <p:spPr>
            <a:xfrm>
              <a:off x="1143000" y="5562720"/>
              <a:ext cx="144000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e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95480" y="5562720"/>
              <a:ext cx="144000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07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08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632640" y="534924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OPT: 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as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has not been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855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77" name=""/>
            <p:cNvSpPr/>
            <p:nvPr/>
          </p:nvSpPr>
          <p:spPr>
            <a:xfrm>
              <a:off x="1143000" y="5562720"/>
              <a:ext cx="161928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cent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95480" y="5562720"/>
              <a:ext cx="161928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Longest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81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82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644160" y="534924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LRU: 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741760" y="2682720"/>
            <a:ext cx="1800000" cy="1090800"/>
            <a:chOff x="2741760" y="2682720"/>
            <a:chExt cx="1800000" cy="1090800"/>
          </a:xfrm>
        </p:grpSpPr>
        <p:sp>
          <p:nvSpPr>
            <p:cNvPr id="889" name=""/>
            <p:cNvSpPr/>
            <p:nvPr/>
          </p:nvSpPr>
          <p:spPr>
            <a:xfrm>
              <a:off x="2741760" y="26827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2840" y="26827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41760" y="30481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2840" y="30481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1760" y="341316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82840" y="341316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41760" y="26827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1760" y="3048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41760" y="3413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Logical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286000" y="2666880"/>
            <a:ext cx="539640" cy="1090800"/>
            <a:chOff x="2286000" y="2666880"/>
            <a:chExt cx="539640" cy="1090800"/>
          </a:xfrm>
        </p:grpSpPr>
        <p:sp>
          <p:nvSpPr>
            <p:cNvPr id="900" name=""/>
            <p:cNvSpPr/>
            <p:nvPr/>
          </p:nvSpPr>
          <p:spPr>
            <a:xfrm>
              <a:off x="2286000" y="2666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6000" y="3032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86000" y="33973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019920" y="2362320"/>
            <a:ext cx="215892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00800" y="32767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2895480"/>
            <a:ext cx="53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33840" y="3413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10160" y="32860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rot="21349800">
            <a:off x="4037400" y="3049560"/>
            <a:ext cx="2590920" cy="381240"/>
          </a:xfrm>
          <a:custGeom>
            <a:avLst/>
            <a:gdLst>
              <a:gd name="textAreaLeft" fmla="*/ 453240 w 2590920"/>
              <a:gd name="textAreaRight" fmla="*/ 1878480 w 2590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860880" y="3467160"/>
            <a:ext cx="802440" cy="877320"/>
            <a:chOff x="6860880" y="3467160"/>
            <a:chExt cx="802440" cy="877320"/>
          </a:xfrm>
        </p:grpSpPr>
        <p:cxnSp>
          <p:nvCxnSpPr>
            <p:cNvPr id="910" name=""/>
            <p:cNvCxnSpPr>
              <a:stCxn id="907" idx="3"/>
              <a:endCxn id="907" idx="2"/>
            </p:cNvCxnSpPr>
            <p:nvPr/>
          </p:nvCxnSpPr>
          <p:spPr>
            <a:xfrm flipH="1">
              <a:off x="6860880" y="3467160"/>
              <a:ext cx="450000" cy="180000"/>
            </a:xfrm>
            <a:prstGeom prst="curvedConnector5">
              <a:avLst>
                <a:gd name="adj1" fmla="val -50840"/>
                <a:gd name="adj2" fmla="val 153907"/>
                <a:gd name="adj3" fmla="val -50840"/>
              </a:avLst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24400" y="39456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+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T &amp;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dy’s anoma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!!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Algorithm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Referenc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: load-time: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4511520" y="25876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10080" y="313200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0080" y="36720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10080" y="4210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805040" y="2587680"/>
            <a:ext cx="2703600" cy="2162160"/>
            <a:chOff x="1805040" y="2587680"/>
            <a:chExt cx="2703600" cy="2162160"/>
          </a:xfrm>
        </p:grpSpPr>
        <p:sp>
          <p:nvSpPr>
            <p:cNvPr id="921" name=""/>
            <p:cNvSpPr/>
            <p:nvPr/>
          </p:nvSpPr>
          <p:spPr>
            <a:xfrm>
              <a:off x="180648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87560" y="258768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900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0504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86120" y="313200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756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0504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86120" y="36720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2756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0504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86120" y="42102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2756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447920" y="3139920"/>
            <a:ext cx="325440" cy="1617840"/>
            <a:chOff x="1447920" y="3139920"/>
            <a:chExt cx="325440" cy="1617840"/>
          </a:xfrm>
        </p:grpSpPr>
        <p:sp>
          <p:nvSpPr>
            <p:cNvPr id="934" name=""/>
            <p:cNvSpPr/>
            <p:nvPr/>
          </p:nvSpPr>
          <p:spPr>
            <a:xfrm>
              <a:off x="1447920" y="3139920"/>
              <a:ext cx="325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7920" y="37116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47920" y="421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605680" y="44031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75360" y="2583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49720" y="31370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049720" y="36766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9720" y="42148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5334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Sometimes Modify Bit (Dirty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6960" y="2891160"/>
            <a:ext cx="2209320" cy="703800"/>
          </a:xfrm>
          <a:prstGeom prst="borderCallout1">
            <a:avLst>
              <a:gd name="adj1" fmla="val 18750"/>
              <a:gd name="adj2" fmla="val -8333"/>
              <a:gd name="adj3" fmla="val 162828"/>
              <a:gd name="adj4" fmla="val -4709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262560" y="4339080"/>
            <a:ext cx="1756440" cy="7038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-41000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1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500"/>
                            </p:stCondLst>
                            <p:childTnLst>
                              <p:par>
                                <p:cTn id="2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erence B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ly reset ref. bit to z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ctim is page with ref. bit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: Exact order 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rov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dditional Referenc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mproved 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5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0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5" dur="5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0" dur="500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3" dur="500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6" dur="500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9" dur="500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16360" y="2198520"/>
            <a:ext cx="539640" cy="2695680"/>
            <a:chOff x="3816360" y="2198520"/>
            <a:chExt cx="539640" cy="2695680"/>
          </a:xfrm>
        </p:grpSpPr>
        <p:sp>
          <p:nvSpPr>
            <p:cNvPr id="948" name=""/>
            <p:cNvSpPr/>
            <p:nvPr/>
          </p:nvSpPr>
          <p:spPr>
            <a:xfrm>
              <a:off x="3816360" y="27432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16360" y="219852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16360" y="32781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16360" y="382104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16360" y="43545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dditional Reference B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827520" y="16542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5360" y="4571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2738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762120" y="1654200"/>
            <a:ext cx="3062160" cy="3246480"/>
            <a:chOff x="762120" y="1654200"/>
            <a:chExt cx="3062160" cy="3246480"/>
          </a:xfrm>
        </p:grpSpPr>
        <p:sp>
          <p:nvSpPr>
            <p:cNvPr id="958" name=""/>
            <p:cNvSpPr/>
            <p:nvPr/>
          </p:nvSpPr>
          <p:spPr>
            <a:xfrm>
              <a:off x="1122480" y="1654200"/>
              <a:ext cx="1079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03560" y="165420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44640" y="165420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068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01760" y="2198520"/>
              <a:ext cx="54000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4320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2068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01760" y="27385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4320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3560" y="22068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3560" y="277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068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01760" y="32767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4320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3560" y="32846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1924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00320" y="38196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4176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2120" y="38275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1924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00320" y="435276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4176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 -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2120" y="43610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106960" y="1447920"/>
            <a:ext cx="107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additional</a:t>
            </a:r>
            <a:br>
              <a:rPr sz="2400"/>
            </a:b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.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03720" y="2195640"/>
            <a:ext cx="720720" cy="2700360"/>
            <a:chOff x="5103720" y="2195640"/>
            <a:chExt cx="720720" cy="2700360"/>
          </a:xfrm>
        </p:grpSpPr>
        <p:sp>
          <p:nvSpPr>
            <p:cNvPr id="983" name=""/>
            <p:cNvSpPr/>
            <p:nvPr/>
          </p:nvSpPr>
          <p:spPr>
            <a:xfrm>
              <a:off x="5105520" y="219564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5520" y="273528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05520" y="3279600"/>
              <a:ext cx="71892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03720" y="3822840"/>
              <a:ext cx="71928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3720" y="4356000"/>
              <a:ext cx="71928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267080" y="27432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6477120" y="2895480"/>
            <a:ext cx="1295280" cy="1524240"/>
            <a:chOff x="6477120" y="2895480"/>
            <a:chExt cx="1295280" cy="1524240"/>
          </a:xfrm>
        </p:grpSpPr>
        <p:sp>
          <p:nvSpPr>
            <p:cNvPr id="990" name=""/>
            <p:cNvSpPr/>
            <p:nvPr/>
          </p:nvSpPr>
          <p:spPr>
            <a:xfrm>
              <a:off x="6477120" y="2895480"/>
              <a:ext cx="1295280" cy="15242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1"/>
            <a:stretch/>
          </p:blipFill>
          <p:spPr>
            <a:xfrm>
              <a:off x="7010280" y="3352680"/>
              <a:ext cx="4748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2" name=""/>
          <p:cNvSpPr/>
          <p:nvPr/>
        </p:nvSpPr>
        <p:spPr>
          <a:xfrm>
            <a:off x="340560" y="5256360"/>
            <a:ext cx="74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r-Interrupt:  OS copies and clears ref. Bit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e replacement: smallest number  (ref, add.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019920" y="236232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16360" y="2743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16360" y="2200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16360" y="3289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16360" y="3832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6360" y="43434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16360" y="435276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18160" y="274644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18160" y="2201760"/>
            <a:ext cx="53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718160" y="32814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18160" y="382428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18160" y="43578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02800" y="297072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ew reference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82880" y="3850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82880" y="38520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570360" y="19800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6019920" y="3352320"/>
            <a:ext cx="1752480" cy="1708920"/>
            <a:chOff x="6019920" y="3352320"/>
            <a:chExt cx="1752480" cy="1708920"/>
          </a:xfrm>
        </p:grpSpPr>
        <p:sp>
          <p:nvSpPr>
            <p:cNvPr id="1020" name=""/>
            <p:cNvSpPr/>
            <p:nvPr/>
          </p:nvSpPr>
          <p:spPr>
            <a:xfrm>
              <a:off x="6019920" y="3962520"/>
              <a:ext cx="1752480" cy="380880"/>
            </a:xfrm>
            <a:prstGeom prst="leftArrow">
              <a:avLst>
                <a:gd name="adj1" fmla="val 50000"/>
                <a:gd name="adj2" fmla="val 115028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21760" y="3352320"/>
              <a:ext cx="76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6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only partially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(error-subr., tabl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at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86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ultiprog.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throughpu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ss I/O  (Load, Swap in/out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c0128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easy (impossible?) to implement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     (HW-support, extra S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erformance!  (possibly Thras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704960" y="2971800"/>
            <a:ext cx="2519280" cy="251928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nd Chance (Clock Alg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irculair List, Replace Current Hea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less Ref-Bit = 1, Give 2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2492280"/>
            <a:ext cx="107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3102120"/>
            <a:ext cx="107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09880" y="30099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5160" y="30099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73440" y="4041720"/>
            <a:ext cx="380880" cy="38088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33" idx="6"/>
            <a:endCxn id="1026" idx="1"/>
          </p:cNvCxnSpPr>
          <p:nvPr/>
        </p:nvCxnSpPr>
        <p:spPr>
          <a:xfrm>
            <a:off x="3153960" y="4231800"/>
            <a:ext cx="59940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5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3" idx="5"/>
            <a:endCxn id="1027" idx="0"/>
          </p:cNvCxnSpPr>
          <p:nvPr/>
        </p:nvCxnSpPr>
        <p:spPr>
          <a:xfrm>
            <a:off x="3098520" y="4366800"/>
            <a:ext cx="47700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3" idx="3"/>
            <a:endCxn id="1025" idx="0"/>
          </p:cNvCxnSpPr>
          <p:nvPr/>
        </p:nvCxnSpPr>
        <p:spPr>
          <a:xfrm flipH="1">
            <a:off x="2279160" y="4366800"/>
            <a:ext cx="55008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3" idx="2"/>
            <a:endCxn id="1030" idx="3"/>
          </p:cNvCxnSpPr>
          <p:nvPr/>
        </p:nvCxnSpPr>
        <p:spPr>
          <a:xfrm flipH="1">
            <a:off x="2015640" y="4231800"/>
            <a:ext cx="75816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"/>
          <p:cNvCxnSpPr>
            <a:stCxn id="1033" idx="1"/>
            <a:endCxn id="1031" idx="2"/>
          </p:cNvCxnSpPr>
          <p:nvPr/>
        </p:nvCxnSpPr>
        <p:spPr>
          <a:xfrm flipH="1" flipV="1">
            <a:off x="2279160" y="3548880"/>
            <a:ext cx="550080" cy="5482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250920" y="4581360"/>
            <a:ext cx="1447560" cy="18288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16000" y="4869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/>
          <p:nvPr/>
        </p:nvCxnSpPr>
        <p:spPr>
          <a:xfrm>
            <a:off x="3152880" y="4233600"/>
            <a:ext cx="598680" cy="1080"/>
          </a:xfrm>
          <a:prstGeom prst="straightConnector1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</p:cxnSp>
      <p:grpSp>
        <p:nvGrpSpPr>
          <p:cNvPr id="1047" name=""/>
          <p:cNvGrpSpPr/>
          <p:nvPr/>
        </p:nvGrpSpPr>
        <p:grpSpPr>
          <a:xfrm>
            <a:off x="6659640" y="3578400"/>
            <a:ext cx="1347840" cy="1218960"/>
            <a:chOff x="6659640" y="3578400"/>
            <a:chExt cx="1347840" cy="1218960"/>
          </a:xfrm>
        </p:grpSpPr>
        <p:sp>
          <p:nvSpPr>
            <p:cNvPr id="1048" name=""/>
            <p:cNvSpPr/>
            <p:nvPr/>
          </p:nvSpPr>
          <p:spPr>
            <a:xfrm>
              <a:off x="6659640" y="3578400"/>
              <a:ext cx="1295640" cy="1218960"/>
            </a:xfrm>
            <a:prstGeom prst="ellipse">
              <a:avLst/>
            </a:prstGeom>
            <a:solidFill>
              <a:srgbClr val="aff2aa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711840" y="3930480"/>
              <a:ext cx="647640" cy="304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59840" y="4216320"/>
              <a:ext cx="647640" cy="10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31320" y="41115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7408800" y="35067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23840" y="3578400"/>
            <a:ext cx="190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f (ref. bit == 0)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dd to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93040" y="3984480"/>
            <a:ext cx="233280" cy="5083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 rot="795600">
            <a:off x="6854400" y="3798720"/>
            <a:ext cx="228600" cy="5335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87240" y="242100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voi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f not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87680" y="4843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479920" y="530064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+ modify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"/>
                            </p:stCondLst>
                            <p:childTnLst>
                              <p:par>
                                <p:cTn id="2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00"/>
                            </p:stCondLst>
                            <p:childTnLst>
                              <p:par>
                                <p:cTn id="2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500"/>
                            </p:stCondLst>
                            <p:childTnLst>
                              <p:par>
                                <p:cTn id="2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unting Algorith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-support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52760" y="2332080"/>
            <a:ext cx="3095280" cy="2055240"/>
            <a:chOff x="1652760" y="2332080"/>
            <a:chExt cx="3095280" cy="2055240"/>
          </a:xfrm>
        </p:grpSpPr>
        <p:sp>
          <p:nvSpPr>
            <p:cNvPr id="1062" name=""/>
            <p:cNvSpPr/>
            <p:nvPr/>
          </p:nvSpPr>
          <p:spPr>
            <a:xfrm>
              <a:off x="1652760" y="2514960"/>
              <a:ext cx="14713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05320" y="2332080"/>
              <a:ext cx="1242720" cy="82548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u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24080" y="251496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52760" y="29520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5320" y="297684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24080" y="297684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52760" y="341532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05320" y="344052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24080" y="344052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52760" y="38772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5320" y="390240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24080" y="390240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3506760" y="3443760"/>
            <a:ext cx="1243080" cy="45972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34290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4724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FU  (Mo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FU (Lea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2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5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Always Correc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truction Boundari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Fault, Restart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FO, 3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733920" y="4648320"/>
            <a:ext cx="1149120" cy="539640"/>
            <a:chOff x="3733920" y="4648320"/>
            <a:chExt cx="1149120" cy="539640"/>
          </a:xfrm>
        </p:grpSpPr>
        <p:sp>
          <p:nvSpPr>
            <p:cNvPr id="1080" name=""/>
            <p:cNvSpPr/>
            <p:nvPr/>
          </p:nvSpPr>
          <p:spPr>
            <a:xfrm>
              <a:off x="3809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339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34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952880" y="4648320"/>
            <a:ext cx="1758960" cy="539640"/>
            <a:chOff x="4952880" y="4648320"/>
            <a:chExt cx="1758960" cy="539640"/>
          </a:xfrm>
        </p:grpSpPr>
        <p:sp>
          <p:nvSpPr>
            <p:cNvPr id="1084" name=""/>
            <p:cNvSpPr/>
            <p:nvPr/>
          </p:nvSpPr>
          <p:spPr>
            <a:xfrm>
              <a:off x="5029200" y="4648320"/>
              <a:ext cx="160020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28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627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722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584440" y="4648320"/>
            <a:ext cx="1079640" cy="539640"/>
            <a:chOff x="2584440" y="4648320"/>
            <a:chExt cx="1079640" cy="539640"/>
          </a:xfrm>
        </p:grpSpPr>
        <p:sp>
          <p:nvSpPr>
            <p:cNvPr id="1089" name=""/>
            <p:cNvSpPr/>
            <p:nvPr/>
          </p:nvSpPr>
          <p:spPr>
            <a:xfrm>
              <a:off x="2666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240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8444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3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8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6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9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500"/>
                            </p:stCondLst>
                            <p:childTnLst>
                              <p:par>
                                <p:cTn id="2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rame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function (Instruction Set)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max # pages ref. in 1 instr.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914400" y="4419720"/>
            <a:ext cx="2400480" cy="1752120"/>
            <a:chOff x="914400" y="4419720"/>
            <a:chExt cx="2400480" cy="1752120"/>
          </a:xfrm>
        </p:grpSpPr>
        <p:sp>
          <p:nvSpPr>
            <p:cNvPr id="1095" name=""/>
            <p:cNvSpPr/>
            <p:nvPr/>
          </p:nvSpPr>
          <p:spPr>
            <a:xfrm>
              <a:off x="914400" y="53337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14400" y="44197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14400" y="50734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X MVC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200400" y="3048120"/>
            <a:ext cx="2400480" cy="1752120"/>
            <a:chOff x="3200400" y="3048120"/>
            <a:chExt cx="2400480" cy="1752120"/>
          </a:xfrm>
        </p:grpSpPr>
        <p:sp>
          <p:nvSpPr>
            <p:cNvPr id="1099" name=""/>
            <p:cNvSpPr/>
            <p:nvPr/>
          </p:nvSpPr>
          <p:spPr>
            <a:xfrm>
              <a:off x="32004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004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00400" y="373356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943600" y="3048120"/>
            <a:ext cx="2400480" cy="1752480"/>
            <a:chOff x="5943600" y="3048120"/>
            <a:chExt cx="2400480" cy="1752480"/>
          </a:xfrm>
        </p:grpSpPr>
        <p:sp>
          <p:nvSpPr>
            <p:cNvPr id="1103" name=""/>
            <p:cNvSpPr/>
            <p:nvPr/>
          </p:nvSpPr>
          <p:spPr>
            <a:xfrm>
              <a:off x="5943600" y="39625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436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943600" y="342900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57200" y="3048120"/>
            <a:ext cx="2400480" cy="1752120"/>
            <a:chOff x="457200" y="3048120"/>
            <a:chExt cx="2400480" cy="1752120"/>
          </a:xfrm>
        </p:grpSpPr>
        <p:sp>
          <p:nvSpPr>
            <p:cNvPr id="1107" name=""/>
            <p:cNvSpPr/>
            <p:nvPr/>
          </p:nvSpPr>
          <p:spPr>
            <a:xfrm>
              <a:off x="4572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72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7200" y="37018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VC  A(L)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4264200" y="53334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 = 8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9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4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location Sche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rtional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y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vs Local Allocation/Repla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0" dur="indefinite" restart="never" nodeType="tmRoot">
          <p:childTnLst>
            <p:seq>
              <p:cTn id="2541" dur="indefinite" nodeType="mainSeq">
                <p:childTnLst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133720" y="1981080"/>
            <a:ext cx="685800" cy="3048120"/>
            <a:chOff x="2133720" y="1981080"/>
            <a:chExt cx="685800" cy="3048120"/>
          </a:xfrm>
        </p:grpSpPr>
        <p:sp>
          <p:nvSpPr>
            <p:cNvPr id="1115" name=""/>
            <p:cNvSpPr/>
            <p:nvPr/>
          </p:nvSpPr>
          <p:spPr>
            <a:xfrm>
              <a:off x="2133720" y="1981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33720" y="2362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33720" y="2743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3720" y="3124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33720" y="3505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33720" y="3886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33720" y="4267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33720" y="4648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3581280" y="2438280"/>
            <a:ext cx="1638360" cy="2791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5812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08360" y="328464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672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40760" y="2277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20092800">
            <a:off x="2055240" y="3284280"/>
            <a:ext cx="2211120" cy="761760"/>
          </a:xfrm>
          <a:custGeom>
            <a:avLst/>
            <a:gdLst>
              <a:gd name="textAreaLeft" fmla="*/ 387000 w 2211120"/>
              <a:gd name="textAreaRight" fmla="*/ 1603080 w 22111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1126800">
            <a:off x="2195280" y="4004280"/>
            <a:ext cx="1904760" cy="8380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943600" y="2819520"/>
            <a:ext cx="2209680" cy="1942920"/>
          </a:xfrm>
          <a:custGeom>
            <a:avLst/>
            <a:gdLst/>
            <a:ahLst/>
            <a:rect l="l" t="t" r="r" b="b"/>
            <a:pathLst>
              <a:path w="1920" h="1224">
                <a:moveTo>
                  <a:pt x="0" y="416"/>
                </a:moveTo>
                <a:cubicBezTo>
                  <a:pt x="40" y="368"/>
                  <a:pt x="80" y="320"/>
                  <a:pt x="144" y="320"/>
                </a:cubicBezTo>
                <a:cubicBezTo>
                  <a:pt x="208" y="320"/>
                  <a:pt x="304" y="464"/>
                  <a:pt x="384" y="416"/>
                </a:cubicBezTo>
                <a:cubicBezTo>
                  <a:pt x="464" y="368"/>
                  <a:pt x="560" y="64"/>
                  <a:pt x="624" y="32"/>
                </a:cubicBezTo>
                <a:cubicBezTo>
                  <a:pt x="688" y="0"/>
                  <a:pt x="720" y="200"/>
                  <a:pt x="768" y="224"/>
                </a:cubicBezTo>
                <a:cubicBezTo>
                  <a:pt x="816" y="248"/>
                  <a:pt x="856" y="128"/>
                  <a:pt x="912" y="176"/>
                </a:cubicBezTo>
                <a:cubicBezTo>
                  <a:pt x="968" y="224"/>
                  <a:pt x="1056" y="496"/>
                  <a:pt x="1104" y="512"/>
                </a:cubicBezTo>
                <a:cubicBezTo>
                  <a:pt x="1152" y="528"/>
                  <a:pt x="1168" y="304"/>
                  <a:pt x="1200" y="272"/>
                </a:cubicBezTo>
                <a:cubicBezTo>
                  <a:pt x="1232" y="240"/>
                  <a:pt x="1264" y="328"/>
                  <a:pt x="1296" y="320"/>
                </a:cubicBezTo>
                <a:cubicBezTo>
                  <a:pt x="1328" y="312"/>
                  <a:pt x="1352" y="168"/>
                  <a:pt x="1392" y="224"/>
                </a:cubicBezTo>
                <a:cubicBezTo>
                  <a:pt x="1432" y="280"/>
                  <a:pt x="1496" y="504"/>
                  <a:pt x="1536" y="656"/>
                </a:cubicBezTo>
                <a:cubicBezTo>
                  <a:pt x="1576" y="808"/>
                  <a:pt x="1600" y="1048"/>
                  <a:pt x="1632" y="1136"/>
                </a:cubicBezTo>
                <a:cubicBezTo>
                  <a:pt x="1664" y="1224"/>
                  <a:pt x="1696" y="1184"/>
                  <a:pt x="1728" y="1184"/>
                </a:cubicBezTo>
                <a:cubicBezTo>
                  <a:pt x="1760" y="1184"/>
                  <a:pt x="1792" y="1136"/>
                  <a:pt x="1824" y="1136"/>
                </a:cubicBezTo>
                <a:cubicBezTo>
                  <a:pt x="1856" y="1136"/>
                  <a:pt x="1888" y="1160"/>
                  <a:pt x="1920" y="1184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544160" y="4875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27640" y="364500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70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95640" y="3068640"/>
            <a:ext cx="2808000" cy="7192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362320" y="4220280"/>
            <a:ext cx="2714400" cy="838440"/>
          </a:xfrm>
          <a:custGeom>
            <a:avLst/>
            <a:gdLst>
              <a:gd name="textAreaLeft" fmla="*/ 474840 w 2714400"/>
              <a:gd name="textAreaRight" fmla="*/ 1968120 w 27144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500"/>
                            </p:stCondLst>
                            <p:childTnLst>
                              <p:par>
                                <p:cTn id="26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cality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rcRect l="21896" t="718" r="21896" b="1671"/>
          <a:stretch/>
        </p:blipFill>
        <p:spPr>
          <a:xfrm>
            <a:off x="4724280" y="1523880"/>
            <a:ext cx="3495960" cy="45529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426960" y="3327480"/>
            <a:ext cx="4301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grates from Locality to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calities may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imum #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termined by Instruction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tive Pages (current  loc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# Active in Use &gt; # Frames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F, PF, PF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7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2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7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500"/>
                            </p:stCondLst>
                            <p:childTnLst>
                              <p:par>
                                <p:cTn id="2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1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6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1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Allocation (worst ca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1752480" y="5562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981080" y="2666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149640"/>
            <a:ext cx="3810240" cy="2413080"/>
          </a:xfrm>
          <a:custGeom>
            <a:avLst/>
            <a:gdLst/>
            <a:ahLst/>
            <a:rect l="l" t="t" r="r" b="b"/>
            <a:pathLst>
              <a:path w="2640" h="1520">
                <a:moveTo>
                  <a:pt x="0" y="1520"/>
                </a:moveTo>
                <a:cubicBezTo>
                  <a:pt x="140" y="1316"/>
                  <a:pt x="280" y="1112"/>
                  <a:pt x="432" y="944"/>
                </a:cubicBezTo>
                <a:cubicBezTo>
                  <a:pt x="584" y="776"/>
                  <a:pt x="664" y="648"/>
                  <a:pt x="912" y="512"/>
                </a:cubicBezTo>
                <a:cubicBezTo>
                  <a:pt x="1160" y="376"/>
                  <a:pt x="1704" y="0"/>
                  <a:pt x="1920" y="128"/>
                </a:cubicBezTo>
                <a:cubicBezTo>
                  <a:pt x="2136" y="256"/>
                  <a:pt x="2088" y="1064"/>
                  <a:pt x="2208" y="1280"/>
                </a:cubicBezTo>
                <a:cubicBezTo>
                  <a:pt x="2328" y="1496"/>
                  <a:pt x="2484" y="1460"/>
                  <a:pt x="2640" y="142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52880" y="3124080"/>
            <a:ext cx="0" cy="2743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16480" y="2925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648040" y="520452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gree of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2" dur="indefinite" restart="never" nodeType="tmRoot">
          <p:childTnLst>
            <p:seq>
              <p:cTn id="2673" dur="indefinite" nodeType="mainSeq">
                <p:childTnLst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8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500"/>
                            </p:stCondLst>
                            <p:childTnLst>
                              <p:par>
                                <p:cTn id="26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500"/>
                            </p:stCondLst>
                            <p:childTnLst>
                              <p:par>
                                <p:cTn id="2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d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ing Set Model  (Treat Cau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ge Fault Rate  (Treat Sympto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ing + Swapping (Pa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01760" y="2160720"/>
            <a:ext cx="900000" cy="2165040"/>
            <a:chOff x="1301760" y="2160720"/>
            <a:chExt cx="900000" cy="2165040"/>
          </a:xfrm>
        </p:grpSpPr>
        <p:sp>
          <p:nvSpPr>
            <p:cNvPr id="94" name=""/>
            <p:cNvSpPr/>
            <p:nvPr/>
          </p:nvSpPr>
          <p:spPr>
            <a:xfrm>
              <a:off x="1301760" y="25178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01760" y="28796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1760" y="32418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760" y="36036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39654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760" y="21607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08360" y="2133720"/>
            <a:ext cx="903600" cy="2860560"/>
            <a:chOff x="4608360" y="2133720"/>
            <a:chExt cx="903600" cy="2860560"/>
          </a:xfrm>
        </p:grpSpPr>
        <p:sp>
          <p:nvSpPr>
            <p:cNvPr id="101" name=""/>
            <p:cNvSpPr/>
            <p:nvPr/>
          </p:nvSpPr>
          <p:spPr>
            <a:xfrm>
              <a:off x="4610160" y="24908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0160" y="28526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0160" y="21337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0160" y="3919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0160" y="42735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0160" y="35719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1600" y="320976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08360" y="463392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1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448080" y="3247920"/>
            <a:ext cx="361800" cy="1086120"/>
            <a:chOff x="3448080" y="3247920"/>
            <a:chExt cx="361800" cy="1086120"/>
          </a:xfrm>
        </p:grpSpPr>
        <p:sp>
          <p:nvSpPr>
            <p:cNvPr id="142" name=""/>
            <p:cNvSpPr/>
            <p:nvPr/>
          </p:nvSpPr>
          <p:spPr>
            <a:xfrm>
              <a:off x="3448080" y="32479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49520" y="36133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8080" y="397368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448080" y="4338720"/>
            <a:ext cx="361800" cy="725400"/>
            <a:chOff x="3448080" y="4338720"/>
            <a:chExt cx="361800" cy="725400"/>
          </a:xfrm>
        </p:grpSpPr>
        <p:sp>
          <p:nvSpPr>
            <p:cNvPr id="146" name=""/>
            <p:cNvSpPr/>
            <p:nvPr/>
          </p:nvSpPr>
          <p:spPr>
            <a:xfrm>
              <a:off x="3449520" y="433872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8080" y="470376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149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28800" y="5253480"/>
            <a:ext cx="322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0, 1, 2:    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4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00400" y="5562720"/>
            <a:ext cx="2153160" cy="685800"/>
            <a:chOff x="3200400" y="5562720"/>
            <a:chExt cx="2153160" cy="685800"/>
          </a:xfrm>
        </p:grpSpPr>
        <p:sp>
          <p:nvSpPr>
            <p:cNvPr id="160" name=""/>
            <p:cNvSpPr/>
            <p:nvPr/>
          </p:nvSpPr>
          <p:spPr>
            <a:xfrm>
              <a:off x="3200400" y="5562720"/>
              <a:ext cx="990720" cy="68580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3480" y="5713920"/>
              <a:ext cx="145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-Fa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2280" y="44863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43855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7c92"/>
                </a:solidFill>
                <a:latin typeface="Tahoma"/>
              </a:rPr>
              <a:t>Valid but not 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9435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22909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“Locality”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urrent Locality = Working Set (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| WS of 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D (Dema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g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l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8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3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3" dur="500"/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6" dur="500"/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9" dur="500"/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1072080" y="4572000"/>
            <a:ext cx="6459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small will not encompass entire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large will encompass several loc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encompass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2760" y="175248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Se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68440" y="2575080"/>
            <a:ext cx="78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6 1 5 7 7 7 7 5 1 6 2 3 4 1 2 3 4 4 4 3 4 3 4 4 4 1 3 2 3 4 4 3 4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86480" y="3886200"/>
            <a:ext cx="262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1, 2, 5, 6, 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30160" y="2727360"/>
            <a:ext cx="2490840" cy="1229040"/>
            <a:chOff x="830160" y="2727360"/>
            <a:chExt cx="2490840" cy="1229040"/>
          </a:xfrm>
        </p:grpSpPr>
        <p:grpSp>
          <p:nvGrpSpPr>
            <p:cNvPr id="1160" name=""/>
            <p:cNvGrpSpPr/>
            <p:nvPr/>
          </p:nvGrpSpPr>
          <p:grpSpPr>
            <a:xfrm>
              <a:off x="830160" y="2727360"/>
              <a:ext cx="2143080" cy="1066680"/>
              <a:chOff x="830160" y="2727360"/>
              <a:chExt cx="2143080" cy="1066680"/>
            </a:xfrm>
          </p:grpSpPr>
          <p:sp>
            <p:nvSpPr>
              <p:cNvPr id="1161" name=""/>
              <p:cNvSpPr/>
              <p:nvPr/>
            </p:nvSpPr>
            <p:spPr>
              <a:xfrm flipV="1">
                <a:off x="2973240" y="287964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0160" y="316548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755720" y="2727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930040" y="34462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343400" y="2722680"/>
            <a:ext cx="2490840" cy="1229040"/>
            <a:chOff x="4343400" y="2722680"/>
            <a:chExt cx="2490840" cy="1229040"/>
          </a:xfrm>
        </p:grpSpPr>
        <p:grpSp>
          <p:nvGrpSpPr>
            <p:cNvPr id="1166" name=""/>
            <p:cNvGrpSpPr/>
            <p:nvPr/>
          </p:nvGrpSpPr>
          <p:grpSpPr>
            <a:xfrm>
              <a:off x="4343400" y="2722680"/>
              <a:ext cx="2143080" cy="1066680"/>
              <a:chOff x="4343400" y="2722680"/>
              <a:chExt cx="2143080" cy="106668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6486480" y="287496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343400" y="316080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68960" y="2722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>
              <a:off x="6443280" y="344160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110200" y="3886200"/>
            <a:ext cx="178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3, 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09360" y="449568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0" dur="indefinite" restart="never" nodeType="tmRoot">
          <p:childTnLst>
            <p:seq>
              <p:cTn id="2741" dur="indefinite" nodeType="mainSeq">
                <p:childTnLst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rack of W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referenc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odify 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ldest reference: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st reference: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roxi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r + extra referenc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/invalid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9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4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7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0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5" dur="500"/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8" dur="500"/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1" dur="500"/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Fault Frequen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"/>
          <p:cNvSpPr/>
          <p:nvPr/>
        </p:nvSpPr>
        <p:spPr>
          <a:xfrm>
            <a:off x="2743200" y="1981080"/>
            <a:ext cx="9360" cy="373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0280" y="55627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57480" y="2743200"/>
            <a:ext cx="4419720" cy="2133720"/>
          </a:xfrm>
          <a:custGeom>
            <a:avLst/>
            <a:gdLst/>
            <a:ahLst/>
            <a:rect l="l" t="t" r="r" b="b"/>
            <a:pathLst>
              <a:path w="2784" h="1344">
                <a:moveTo>
                  <a:pt x="0" y="0"/>
                </a:moveTo>
                <a:cubicBezTo>
                  <a:pt x="96" y="236"/>
                  <a:pt x="192" y="472"/>
                  <a:pt x="384" y="672"/>
                </a:cubicBezTo>
                <a:cubicBezTo>
                  <a:pt x="576" y="872"/>
                  <a:pt x="752" y="1088"/>
                  <a:pt x="1152" y="1200"/>
                </a:cubicBezTo>
                <a:cubicBezTo>
                  <a:pt x="1552" y="1312"/>
                  <a:pt x="2168" y="1328"/>
                  <a:pt x="2784" y="134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2920" y="2492640"/>
            <a:ext cx="2337120" cy="398880"/>
          </a:xfrm>
          <a:prstGeom prst="borderCallout1">
            <a:avLst>
              <a:gd name="adj1" fmla="val 18750"/>
              <a:gd name="adj2" fmla="val -8333"/>
              <a:gd name="adj3" fmla="val 110004"/>
              <a:gd name="adj4" fmla="val -2118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821560" y="5032800"/>
            <a:ext cx="2422440" cy="398880"/>
          </a:xfrm>
          <a:prstGeom prst="borderCallout1">
            <a:avLst>
              <a:gd name="adj1" fmla="val 18750"/>
              <a:gd name="adj2" fmla="val -8333"/>
              <a:gd name="adj3" fmla="val -88546"/>
              <a:gd name="adj4" fmla="val -35912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745640" y="2056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10920" y="563796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523960" y="2886840"/>
            <a:ext cx="6031800" cy="398880"/>
            <a:chOff x="2523960" y="2886840"/>
            <a:chExt cx="6031800" cy="398880"/>
          </a:xfrm>
        </p:grpSpPr>
        <p:sp>
          <p:nvSpPr>
            <p:cNvPr id="1184" name=""/>
            <p:cNvSpPr/>
            <p:nvPr/>
          </p:nvSpPr>
          <p:spPr>
            <a:xfrm>
              <a:off x="2523960" y="327672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79520" y="2886840"/>
              <a:ext cx="17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Upp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523960" y="3961440"/>
            <a:ext cx="6223320" cy="398880"/>
            <a:chOff x="2523960" y="3961440"/>
            <a:chExt cx="6223320" cy="398880"/>
          </a:xfrm>
        </p:grpSpPr>
        <p:sp>
          <p:nvSpPr>
            <p:cNvPr id="1187" name=""/>
            <p:cNvSpPr/>
            <p:nvPr/>
          </p:nvSpPr>
          <p:spPr>
            <a:xfrm>
              <a:off x="2523960" y="434340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83280" y="39614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Low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191120" y="4114800"/>
            <a:ext cx="771480" cy="38088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20" y="184"/>
                  <a:pt x="256" y="176"/>
                  <a:pt x="192" y="144"/>
                </a:cubicBezTo>
                <a:cubicBezTo>
                  <a:pt x="128" y="112"/>
                  <a:pt x="64" y="56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271680" y="2957400"/>
            <a:ext cx="447840" cy="60984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0"/>
                </a:moveTo>
                <a:cubicBezTo>
                  <a:pt x="28" y="48"/>
                  <a:pt x="56" y="96"/>
                  <a:pt x="96" y="144"/>
                </a:cubicBezTo>
                <a:cubicBezTo>
                  <a:pt x="136" y="192"/>
                  <a:pt x="188" y="240"/>
                  <a:pt x="240" y="28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057480" y="2895480"/>
            <a:ext cx="15228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86280" y="45720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752200" y="4648320"/>
            <a:ext cx="2210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752200" y="2971800"/>
            <a:ext cx="3049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38360" y="3581280"/>
            <a:ext cx="15264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71880" y="41148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33520" y="3276720"/>
            <a:ext cx="1990440" cy="1066680"/>
            <a:chOff x="533520" y="3276720"/>
            <a:chExt cx="1990440" cy="1066680"/>
          </a:xfrm>
        </p:grpSpPr>
        <p:sp>
          <p:nvSpPr>
            <p:cNvPr id="1198" name=""/>
            <p:cNvSpPr/>
            <p:nvPr/>
          </p:nvSpPr>
          <p:spPr>
            <a:xfrm>
              <a:off x="2219400" y="3276720"/>
              <a:ext cx="304560" cy="1066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34624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Acceptable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F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2" dur="indefinite" restart="never" nodeType="tmRoot">
          <p:childTnLst>
            <p:seq>
              <p:cTn id="2813" dur="indefinite" nodeType="mainSeq">
                <p:childTnLst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500"/>
                            </p:stCondLst>
                            <p:childTnLst>
                              <p:par>
                                <p:cTn id="2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500"/>
                            </p:stCondLst>
                            <p:childTnLst>
                              <p:par>
                                <p:cTn id="28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 Siz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LB R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Inter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Time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4716360" y="1413000"/>
            <a:ext cx="352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02" y="15300"/>
                </a:moveTo>
                <a:lnTo>
                  <a:pt x="-467" y="4000"/>
                </a:lnTo>
              </a:path>
              <a:path w="21600" h="21600">
                <a:moveTo>
                  <a:pt x="-467" y="0"/>
                </a:moveTo>
                <a:lnTo>
                  <a:pt x="-467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Bring in Working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580000" y="1989000"/>
            <a:ext cx="25210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90" y="12825"/>
                </a:moveTo>
                <a:lnTo>
                  <a:pt x="-653" y="4000"/>
                </a:lnTo>
              </a:path>
              <a:path w="21600" h="21600">
                <a:moveTo>
                  <a:pt x="-653" y="0"/>
                </a:moveTo>
                <a:lnTo>
                  <a:pt x="-653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Large v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48360" y="270828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979" y="8381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Address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508720" y="335772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0" y="5906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#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24360" y="4005360"/>
            <a:ext cx="2880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66" y="55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T/process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43280" y="458136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23" y="46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I/O to us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24360" y="534024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192" y="-225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Unexpected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1" dur="indefinite" restart="never" nodeType="tmRoot">
          <p:childTnLst>
            <p:seq>
              <p:cTn id="2902" dur="indefinite" nodeType="mainSeq">
                <p:childTnLst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7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7" dur="5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7" dur="5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7" dur="500"/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7" dur="500"/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7" dur="500"/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7" dur="500"/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A[ ][ ] = new int[1024][1024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Frame | = 4kB,   | int | = 4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w is stored in one p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t yet in memory, Code in M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&lt;1024 frames, Local Repl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R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9205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353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20040" y="5638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x 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08840" y="56386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64920" y="1315800"/>
            <a:ext cx="3224880" cy="209556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/Link.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9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2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5" dur="500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0" dur="500"/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3" dur="500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6" dur="500"/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3389400" y="224640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1218" name="">
            <a:hlinkClick r:id="rId2"/>
          </p:cNvPr>
          <p:cNvSpPr/>
          <p:nvPr/>
        </p:nvSpPr>
        <p:spPr>
          <a:xfrm>
            <a:off x="7238880" y="5181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81240" y="1600200"/>
            <a:ext cx="7377120" cy="2109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  (in PCB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Valid Address   (NO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ABORT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rt Reading Page in Free Fram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81240" y="4002120"/>
            <a:ext cx="7377120" cy="180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I/O OK, for whi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447920"/>
            <a:ext cx="795960" cy="1083600"/>
            <a:chOff x="533520" y="1447920"/>
            <a:chExt cx="795960" cy="1083600"/>
          </a:xfrm>
        </p:grpSpPr>
        <p:sp>
          <p:nvSpPr>
            <p:cNvPr id="168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20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5120" y="3718080"/>
            <a:ext cx="849960" cy="1083600"/>
            <a:chOff x="465120" y="3718080"/>
            <a:chExt cx="849960" cy="1083600"/>
          </a:xfrm>
        </p:grpSpPr>
        <p:sp>
          <p:nvSpPr>
            <p:cNvPr id="171" name=""/>
            <p:cNvSpPr/>
            <p:nvPr/>
          </p:nvSpPr>
          <p:spPr>
            <a:xfrm>
              <a:off x="465120" y="3718080"/>
              <a:ext cx="68580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920" y="44028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1600" y="320976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116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9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31240" y="2132640"/>
            <a:ext cx="468720" cy="2950200"/>
            <a:chOff x="2631240" y="2132640"/>
            <a:chExt cx="468720" cy="2950200"/>
          </a:xfrm>
        </p:grpSpPr>
        <p:sp>
          <p:nvSpPr>
            <p:cNvPr id="227" name=""/>
            <p:cNvSpPr/>
            <p:nvPr/>
          </p:nvSpPr>
          <p:spPr>
            <a:xfrm>
              <a:off x="2916000" y="25066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880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616280" y="3208320"/>
            <a:ext cx="90036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10160" y="3208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11320" y="3621240"/>
            <a:ext cx="540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52760" y="36212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4120" y="3276720"/>
            <a:ext cx="838080" cy="620640"/>
            <a:chOff x="5334120" y="3276720"/>
            <a:chExt cx="838080" cy="620640"/>
          </a:xfrm>
        </p:grpSpPr>
        <p:sp>
          <p:nvSpPr>
            <p:cNvPr id="241" name=""/>
            <p:cNvSpPr/>
            <p:nvPr/>
          </p:nvSpPr>
          <p:spPr>
            <a:xfrm>
              <a:off x="5334120" y="32767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3429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244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4080" y="5256720"/>
            <a:ext cx="2661120" cy="703800"/>
            <a:chOff x="3124080" y="5256720"/>
            <a:chExt cx="2661120" cy="703800"/>
          </a:xfrm>
        </p:grpSpPr>
        <p:sp>
          <p:nvSpPr>
            <p:cNvPr id="247" name=""/>
            <p:cNvSpPr/>
            <p:nvPr/>
          </p:nvSpPr>
          <p:spPr>
            <a:xfrm>
              <a:off x="3124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5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352680" y="3276720"/>
            <a:ext cx="969480" cy="914400"/>
            <a:chOff x="3352680" y="3276720"/>
            <a:chExt cx="969480" cy="914400"/>
          </a:xfrm>
        </p:grpSpPr>
        <p:grpSp>
          <p:nvGrpSpPr>
            <p:cNvPr id="251" name=""/>
            <p:cNvGrpSpPr/>
            <p:nvPr/>
          </p:nvGrpSpPr>
          <p:grpSpPr>
            <a:xfrm>
              <a:off x="3352680" y="3581640"/>
              <a:ext cx="969480" cy="609480"/>
              <a:chOff x="3352680" y="3581640"/>
              <a:chExt cx="96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548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256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72000" y="2286000"/>
            <a:ext cx="3581280" cy="1142640"/>
            <a:chOff x="4572000" y="2286000"/>
            <a:chExt cx="3581280" cy="1142640"/>
          </a:xfrm>
        </p:grpSpPr>
        <p:sp>
          <p:nvSpPr>
            <p:cNvPr id="259" name=""/>
            <p:cNvSpPr/>
            <p:nvPr/>
          </p:nvSpPr>
          <p:spPr>
            <a:xfrm>
              <a:off x="6781680" y="2286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4572000" y="28188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 (valid/inval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apping  (fast di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ling of page-fault (PF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ble to RESTART instruction after 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icky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     ADD A,B,C    (C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 +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34648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335268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7040" y="396252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77040" y="297180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19720" y="2133720"/>
            <a:ext cx="969480" cy="609480"/>
            <a:chOff x="4419720" y="2133720"/>
            <a:chExt cx="969480" cy="609480"/>
          </a:xfrm>
        </p:grpSpPr>
        <p:sp>
          <p:nvSpPr>
            <p:cNvPr id="270" name=""/>
            <p:cNvSpPr/>
            <p:nvPr/>
          </p:nvSpPr>
          <p:spPr>
            <a:xfrm>
              <a:off x="4419720" y="21337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21920" y="22089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9480" y="26528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17196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9108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 A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2116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ore result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13372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instr. + 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381560" y="2666880"/>
            <a:ext cx="969480" cy="609480"/>
            <a:chOff x="4381560" y="2666880"/>
            <a:chExt cx="969480" cy="609480"/>
          </a:xfrm>
        </p:grpSpPr>
        <p:sp>
          <p:nvSpPr>
            <p:cNvPr id="278" name=""/>
            <p:cNvSpPr/>
            <p:nvPr/>
          </p:nvSpPr>
          <p:spPr>
            <a:xfrm>
              <a:off x="4381560" y="266688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83760" y="274212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57880" y="3200400"/>
            <a:ext cx="969480" cy="609480"/>
            <a:chOff x="4457880" y="3200400"/>
            <a:chExt cx="969480" cy="609480"/>
          </a:xfrm>
        </p:grpSpPr>
        <p:sp>
          <p:nvSpPr>
            <p:cNvPr id="281" name=""/>
            <p:cNvSpPr/>
            <p:nvPr/>
          </p:nvSpPr>
          <p:spPr>
            <a:xfrm>
              <a:off x="4457880" y="32004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60080" y="3275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4114800"/>
            <a:ext cx="969480" cy="609480"/>
            <a:chOff x="4427640" y="4114800"/>
            <a:chExt cx="969480" cy="609480"/>
          </a:xfrm>
        </p:grpSpPr>
        <p:sp>
          <p:nvSpPr>
            <p:cNvPr id="284" name=""/>
            <p:cNvSpPr/>
            <p:nvPr/>
          </p:nvSpPr>
          <p:spPr>
            <a:xfrm>
              <a:off x="4427640" y="41148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840" y="41900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638680" y="236232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36852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77040" y="397836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8764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4800600"/>
            <a:ext cx="7696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ssible: restart 4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oincrement in indexregisters    12(R3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ve bytes across page bounderie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086280"/>
            <a:ext cx="9903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352680"/>
            <a:ext cx="99072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2971800"/>
            <a:ext cx="533520" cy="62244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336" y="392"/>
                </a:moveTo>
                <a:cubicBezTo>
                  <a:pt x="388" y="252"/>
                  <a:pt x="440" y="112"/>
                  <a:pt x="384" y="56"/>
                </a:cubicBezTo>
                <a:cubicBezTo>
                  <a:pt x="328" y="0"/>
                  <a:pt x="164" y="28"/>
                  <a:pt x="0" y="56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2819520"/>
            <a:ext cx="0" cy="144756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ing HW available, OS imp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ing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086280"/>
            <a:ext cx="76176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5240" y="45450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41560" y="4545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5181480"/>
            <a:ext cx="1889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fau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never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8520" y="5181480"/>
            <a:ext cx="2730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often no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almost always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18T10:32:29Z</dcterms:modified>
  <cp:revision>304</cp:revision>
  <dc:subject>Lecture 3</dc:subject>
  <dc:title>IT - Module B1</dc:title>
</cp:coreProperties>
</file>