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C0F2F0ED-9B91-4AD4-BBE8-0E8BB4CB63F8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4920" y="-19080"/>
            <a:ext cx="1810800" cy="1425240"/>
            <a:chOff x="-34920" y="-19080"/>
            <a:chExt cx="1810800" cy="1425240"/>
          </a:xfrm>
        </p:grpSpPr>
        <p:sp>
          <p:nvSpPr>
            <p:cNvPr id="5" name=""/>
            <p:cNvSpPr/>
            <p:nvPr/>
          </p:nvSpPr>
          <p:spPr>
            <a:xfrm>
              <a:off x="266040" y="145080"/>
              <a:ext cx="1194120" cy="114480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4920" y="-19080"/>
              <a:ext cx="1810800" cy="1425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EA0AC6EF-DAC5-4CDB-8234-B92A99E0B9EA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440" y="374760"/>
            <a:ext cx="2332440" cy="1856520"/>
            <a:chOff x="46440" y="374760"/>
            <a:chExt cx="2332440" cy="1856520"/>
          </a:xfrm>
        </p:grpSpPr>
        <p:sp>
          <p:nvSpPr>
            <p:cNvPr id="47" name=""/>
            <p:cNvSpPr/>
            <p:nvPr/>
          </p:nvSpPr>
          <p:spPr>
            <a:xfrm>
              <a:off x="428040" y="612720"/>
              <a:ext cx="1545840" cy="143388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40" y="374760"/>
              <a:ext cx="2332440" cy="185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../os/04_filesystem.ppt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ocess Communication (I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in M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c Synch.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5880" y="4419720"/>
            <a:ext cx="1752480" cy="837720"/>
            <a:chOff x="6095880" y="4419720"/>
            <a:chExt cx="1752480" cy="837720"/>
          </a:xfrm>
        </p:grpSpPr>
        <p:sp>
          <p:nvSpPr>
            <p:cNvPr id="88" name=""/>
            <p:cNvSpPr/>
            <p:nvPr/>
          </p:nvSpPr>
          <p:spPr>
            <a:xfrm>
              <a:off x="6095880" y="4419720"/>
              <a:ext cx="1752480" cy="837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ss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82600" y="4498200"/>
              <a:ext cx="270000" cy="235440"/>
              <a:chOff x="7482600" y="4498200"/>
              <a:chExt cx="270000" cy="235440"/>
            </a:xfrm>
          </p:grpSpPr>
          <p:sp>
            <p:nvSpPr>
              <p:cNvPr id="90" name=""/>
              <p:cNvSpPr/>
              <p:nvPr/>
            </p:nvSpPr>
            <p:spPr>
              <a:xfrm>
                <a:off x="7482600" y="4498200"/>
                <a:ext cx="270000" cy="23544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93760" y="4506480"/>
                <a:ext cx="251280" cy="21564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72600" y="4531680"/>
                <a:ext cx="89640" cy="16812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5909400" y="5402160"/>
            <a:ext cx="29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ha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3520" y="3124080"/>
            <a:ext cx="3962160" cy="13716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ssage Siz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 up Large M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Size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Length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28800" y="3504600"/>
            <a:ext cx="4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00120" y="4597560"/>
            <a:ext cx="1503360" cy="1472400"/>
          </a:xfrm>
          <a:prstGeom prst="rect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50292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54864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9436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4840" y="4572000"/>
            <a:ext cx="0" cy="160020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80280" y="3240360"/>
            <a:ext cx="1503360" cy="2399760"/>
          </a:xfrm>
          <a:prstGeom prst="rect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080120" y="3238560"/>
            <a:ext cx="1222920" cy="952560"/>
            <a:chOff x="7080120" y="3238560"/>
            <a:chExt cx="1222920" cy="952560"/>
          </a:xfrm>
        </p:grpSpPr>
        <p:sp>
          <p:nvSpPr>
            <p:cNvPr id="294" name=""/>
            <p:cNvSpPr/>
            <p:nvPr/>
          </p:nvSpPr>
          <p:spPr>
            <a:xfrm>
              <a:off x="7080120" y="3238560"/>
              <a:ext cx="228600" cy="9525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4840 h 952560"/>
                <a:gd name="textAreaBottom" fmla="*/ 927720 h 95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02240" y="350028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257800" y="419112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086600" y="4229280"/>
            <a:ext cx="969480" cy="1409040"/>
            <a:chOff x="7086600" y="4229280"/>
            <a:chExt cx="969480" cy="1409040"/>
          </a:xfrm>
        </p:grpSpPr>
        <p:sp>
          <p:nvSpPr>
            <p:cNvPr id="298" name=""/>
            <p:cNvSpPr/>
            <p:nvPr/>
          </p:nvSpPr>
          <p:spPr>
            <a:xfrm>
              <a:off x="7086600" y="4229280"/>
              <a:ext cx="228600" cy="1409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6720 h 1409040"/>
                <a:gd name="textAreaBottom" fmla="*/ 1372320 h 140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13040" y="461880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ized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200400"/>
            <a:ext cx="716292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38862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38098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93040" y="4951800"/>
            <a:ext cx="286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t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rambled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3809880"/>
            <a:ext cx="4038840" cy="38124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343400" y="3962520"/>
            <a:ext cx="685440" cy="380520"/>
            <a:chOff x="4343400" y="3962520"/>
            <a:chExt cx="685440" cy="380520"/>
          </a:xfrm>
        </p:grpSpPr>
        <p:grpSp>
          <p:nvGrpSpPr>
            <p:cNvPr id="308" name=""/>
            <p:cNvGrpSpPr/>
            <p:nvPr/>
          </p:nvGrpSpPr>
          <p:grpSpPr>
            <a:xfrm>
              <a:off x="4343400" y="3962520"/>
              <a:ext cx="685440" cy="380520"/>
              <a:chOff x="4343400" y="3962520"/>
              <a:chExt cx="685440" cy="380520"/>
            </a:xfrm>
          </p:grpSpPr>
          <p:sp>
            <p:nvSpPr>
              <p:cNvPr id="309" name=""/>
              <p:cNvSpPr/>
              <p:nvPr/>
            </p:nvSpPr>
            <p:spPr>
              <a:xfrm>
                <a:off x="4343400" y="39625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47400" y="40158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19360" y="4114800"/>
              <a:ext cx="381240" cy="151920"/>
              <a:chOff x="4419360" y="4114800"/>
              <a:chExt cx="381240" cy="1519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19360" y="41148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19360" y="42163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3725640" y="5324400"/>
            <a:ext cx="848160" cy="780120"/>
            <a:chOff x="3725640" y="5324400"/>
            <a:chExt cx="848160" cy="780120"/>
          </a:xfrm>
        </p:grpSpPr>
        <p:sp>
          <p:nvSpPr>
            <p:cNvPr id="315" name=""/>
            <p:cNvSpPr/>
            <p:nvPr/>
          </p:nvSpPr>
          <p:spPr>
            <a:xfrm rot="5320800">
              <a:off x="3915360" y="5149080"/>
              <a:ext cx="468360" cy="83772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320800">
              <a:off x="3663000" y="5467680"/>
              <a:ext cx="702360" cy="5587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791320" y="5024520"/>
            <a:ext cx="2651040" cy="398880"/>
            <a:chOff x="5791320" y="5024520"/>
            <a:chExt cx="2651040" cy="398880"/>
          </a:xfrm>
        </p:grpSpPr>
        <p:sp>
          <p:nvSpPr>
            <p:cNvPr id="318" name=""/>
            <p:cNvSpPr/>
            <p:nvPr/>
          </p:nvSpPr>
          <p:spPr>
            <a:xfrm>
              <a:off x="5791320" y="5028480"/>
              <a:ext cx="304920" cy="3078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920 h 307800"/>
                <a:gd name="textAreaBottom" fmla="*/ 29988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76080" y="5024520"/>
              <a:ext cx="236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Instant Not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791320" y="5405400"/>
            <a:ext cx="2002680" cy="500040"/>
            <a:chOff x="5791320" y="5405400"/>
            <a:chExt cx="2002680" cy="500040"/>
          </a:xfrm>
        </p:grpSpPr>
        <p:sp>
          <p:nvSpPr>
            <p:cNvPr id="321" name=""/>
            <p:cNvSpPr/>
            <p:nvPr/>
          </p:nvSpPr>
          <p:spPr>
            <a:xfrm>
              <a:off x="5791320" y="5410080"/>
              <a:ext cx="304560" cy="4953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2600 h 495360"/>
                <a:gd name="textAreaBottom" fmla="*/ 48276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05960" y="5405400"/>
              <a:ext cx="168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System Cra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3200400"/>
            <a:ext cx="228600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3200400"/>
            <a:ext cx="228600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38862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38098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70800" y="4951800"/>
            <a:ext cx="278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ambled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3809880"/>
            <a:ext cx="4038840" cy="38124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86200" y="3429000"/>
            <a:ext cx="1714320" cy="1257120"/>
            <a:chOff x="3886200" y="3429000"/>
            <a:chExt cx="1714320" cy="1257120"/>
          </a:xfrm>
        </p:grpSpPr>
        <p:grpSp>
          <p:nvGrpSpPr>
            <p:cNvPr id="332" name=""/>
            <p:cNvGrpSpPr/>
            <p:nvPr/>
          </p:nvGrpSpPr>
          <p:grpSpPr>
            <a:xfrm>
              <a:off x="3886200" y="3429000"/>
              <a:ext cx="1714320" cy="1257120"/>
              <a:chOff x="3886200" y="3429000"/>
              <a:chExt cx="1714320" cy="1257120"/>
            </a:xfrm>
          </p:grpSpPr>
          <p:sp>
            <p:nvSpPr>
              <p:cNvPr id="333" name=""/>
              <p:cNvSpPr/>
              <p:nvPr/>
            </p:nvSpPr>
            <p:spPr>
              <a:xfrm>
                <a:off x="4267080" y="3657600"/>
                <a:ext cx="1143000" cy="7621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14800" y="3886200"/>
                <a:ext cx="380880" cy="533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19720" y="403884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3886200" y="3429000"/>
                <a:ext cx="1714320" cy="1257120"/>
                <a:chOff x="3886200" y="3429000"/>
                <a:chExt cx="1714320" cy="125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062960" y="427284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886200" y="396432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018680" y="359136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43120" y="342900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026320" y="3517920"/>
                  <a:ext cx="574200" cy="50292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185440" y="401292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708080" y="437004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352400" y="451584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4134600" y="364068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419720" y="4038480"/>
            <a:ext cx="685440" cy="380520"/>
            <a:chOff x="4419720" y="4038480"/>
            <a:chExt cx="685440" cy="380520"/>
          </a:xfrm>
        </p:grpSpPr>
        <p:grpSp>
          <p:nvGrpSpPr>
            <p:cNvPr id="347" name=""/>
            <p:cNvGrpSpPr/>
            <p:nvPr/>
          </p:nvGrpSpPr>
          <p:grpSpPr>
            <a:xfrm>
              <a:off x="4419720" y="4038480"/>
              <a:ext cx="685440" cy="380520"/>
              <a:chOff x="4419720" y="4038480"/>
              <a:chExt cx="685440" cy="380520"/>
            </a:xfrm>
          </p:grpSpPr>
          <p:sp>
            <p:nvSpPr>
              <p:cNvPr id="348" name=""/>
              <p:cNvSpPr/>
              <p:nvPr/>
            </p:nvSpPr>
            <p:spPr>
              <a:xfrm>
                <a:off x="4419720" y="403848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3720" y="409176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4495680" y="4190760"/>
              <a:ext cx="381240" cy="151920"/>
              <a:chOff x="4495680" y="4190760"/>
              <a:chExt cx="381240" cy="151920"/>
            </a:xfrm>
          </p:grpSpPr>
          <p:sp>
            <p:nvSpPr>
              <p:cNvPr id="351" name=""/>
              <p:cNvSpPr/>
              <p:nvPr/>
            </p:nvSpPr>
            <p:spPr>
              <a:xfrm>
                <a:off x="4495680" y="419076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95680" y="429228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cess Termin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1523880"/>
            <a:ext cx="2286000" cy="129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1523880"/>
            <a:ext cx="2286000" cy="129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22096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7120" y="213372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3962520"/>
            <a:ext cx="228600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3962520"/>
            <a:ext cx="228600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441972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43434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218448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2209680"/>
            <a:ext cx="685800" cy="53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1480" y="3199320"/>
            <a:ext cx="21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257800" y="2819520"/>
            <a:ext cx="457200" cy="804240"/>
            <a:chOff x="5257800" y="2819520"/>
            <a:chExt cx="457200" cy="804240"/>
          </a:xfrm>
        </p:grpSpPr>
        <p:sp>
          <p:nvSpPr>
            <p:cNvPr id="366" name=""/>
            <p:cNvSpPr/>
            <p:nvPr/>
          </p:nvSpPr>
          <p:spPr>
            <a:xfrm>
              <a:off x="5443560" y="3166920"/>
              <a:ext cx="76320" cy="45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57800" y="2819520"/>
              <a:ext cx="457200" cy="38052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477120" y="4343400"/>
            <a:ext cx="685800" cy="53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8280" y="434340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61200" y="5393160"/>
            <a:ext cx="452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(blocking send)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sources (buffers), protocol (ack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514600" y="4910040"/>
            <a:ext cx="457200" cy="804960"/>
            <a:chOff x="2514600" y="4910040"/>
            <a:chExt cx="457200" cy="804960"/>
          </a:xfrm>
        </p:grpSpPr>
        <p:sp>
          <p:nvSpPr>
            <p:cNvPr id="372" name=""/>
            <p:cNvSpPr/>
            <p:nvPr/>
          </p:nvSpPr>
          <p:spPr>
            <a:xfrm>
              <a:off x="2700360" y="5257800"/>
              <a:ext cx="76320" cy="457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14600" y="4910040"/>
              <a:ext cx="457200" cy="3808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886200" y="1676520"/>
            <a:ext cx="1714320" cy="1257120"/>
            <a:chOff x="3886200" y="1676520"/>
            <a:chExt cx="1714320" cy="1257120"/>
          </a:xfrm>
        </p:grpSpPr>
        <p:grpSp>
          <p:nvGrpSpPr>
            <p:cNvPr id="375" name=""/>
            <p:cNvGrpSpPr/>
            <p:nvPr/>
          </p:nvGrpSpPr>
          <p:grpSpPr>
            <a:xfrm>
              <a:off x="3886200" y="1676520"/>
              <a:ext cx="1714320" cy="1257120"/>
              <a:chOff x="3886200" y="1676520"/>
              <a:chExt cx="1714320" cy="125712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7080" y="190476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114800" y="213336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228600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3886200" y="1676520"/>
                <a:ext cx="1714320" cy="1257120"/>
                <a:chOff x="3886200" y="1676520"/>
                <a:chExt cx="1714320" cy="1257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062960" y="252000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86200" y="221148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018680" y="183852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443120" y="167652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26320" y="176544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85440" y="226044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708080" y="261720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352400" y="276336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" name=""/>
            <p:cNvSpPr/>
            <p:nvPr/>
          </p:nvSpPr>
          <p:spPr>
            <a:xfrm>
              <a:off x="4134600" y="188784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886200" y="4000680"/>
            <a:ext cx="1714320" cy="1257120"/>
            <a:chOff x="3886200" y="4000680"/>
            <a:chExt cx="1714320" cy="1257120"/>
          </a:xfrm>
        </p:grpSpPr>
        <p:grpSp>
          <p:nvGrpSpPr>
            <p:cNvPr id="390" name=""/>
            <p:cNvGrpSpPr/>
            <p:nvPr/>
          </p:nvGrpSpPr>
          <p:grpSpPr>
            <a:xfrm>
              <a:off x="3886200" y="4000680"/>
              <a:ext cx="1714320" cy="1257120"/>
              <a:chOff x="3886200" y="4000680"/>
              <a:chExt cx="1714320" cy="1257120"/>
            </a:xfrm>
          </p:grpSpPr>
          <p:sp>
            <p:nvSpPr>
              <p:cNvPr id="391" name=""/>
              <p:cNvSpPr/>
              <p:nvPr/>
            </p:nvSpPr>
            <p:spPr>
              <a:xfrm>
                <a:off x="4267080" y="422892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114800" y="445752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19720" y="461016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3886200" y="4000680"/>
                <a:ext cx="1714320" cy="1257120"/>
                <a:chOff x="3886200" y="4000680"/>
                <a:chExt cx="1714320" cy="1257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062960" y="484416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886200" y="453564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018680" y="416268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43120" y="400068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026320" y="408960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185440" y="458460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708080" y="494136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352400" y="508752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3" name=""/>
            <p:cNvSpPr/>
            <p:nvPr/>
          </p:nvSpPr>
          <p:spPr>
            <a:xfrm>
              <a:off x="4134600" y="421200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st Mess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216684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209088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62320" y="214164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08160" y="3275640"/>
            <a:ext cx="39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not always necess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415800" cy="662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980720" y="364068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Acknowledgment +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09680" y="4038480"/>
            <a:ext cx="3886200" cy="380520"/>
            <a:chOff x="2209680" y="4038480"/>
            <a:chExt cx="3886200" cy="380520"/>
          </a:xfrm>
        </p:grpSpPr>
        <p:sp>
          <p:nvSpPr>
            <p:cNvPr id="414" name=""/>
            <p:cNvSpPr/>
            <p:nvPr/>
          </p:nvSpPr>
          <p:spPr>
            <a:xfrm>
              <a:off x="2209680" y="42670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962520" y="4038480"/>
              <a:ext cx="685440" cy="380520"/>
              <a:chOff x="3962520" y="4038480"/>
              <a:chExt cx="685440" cy="380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3962520" y="4038480"/>
                <a:ext cx="685440" cy="380520"/>
                <a:chOff x="3962520" y="4038480"/>
                <a:chExt cx="685440" cy="3805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962520" y="403848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466520" y="409176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038480" y="4190760"/>
                <a:ext cx="381240" cy="151920"/>
                <a:chOff x="4038480" y="4190760"/>
                <a:chExt cx="381240" cy="1519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4038480" y="419076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038480" y="429228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2209320" y="4724280"/>
            <a:ext cx="3886200" cy="380520"/>
            <a:chOff x="2209320" y="4724280"/>
            <a:chExt cx="3886200" cy="380520"/>
          </a:xfrm>
        </p:grpSpPr>
        <p:sp>
          <p:nvSpPr>
            <p:cNvPr id="423" name=""/>
            <p:cNvSpPr/>
            <p:nvPr/>
          </p:nvSpPr>
          <p:spPr>
            <a:xfrm flipH="1">
              <a:off x="2209320" y="49528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3886200" y="4724280"/>
              <a:ext cx="533160" cy="380520"/>
              <a:chOff x="3886200" y="4724280"/>
              <a:chExt cx="533160" cy="38052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3886200" y="4724280"/>
                <a:ext cx="533160" cy="380520"/>
                <a:chOff x="3886200" y="4724280"/>
                <a:chExt cx="533160" cy="3805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886200" y="4724280"/>
                  <a:ext cx="533160" cy="380520"/>
                </a:xfrm>
                <a:prstGeom prst="rect">
                  <a:avLst/>
                </a:prstGeom>
                <a:solidFill>
                  <a:srgbClr val="ffff00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278240" y="4777560"/>
                  <a:ext cx="76320" cy="95040"/>
                </a:xfrm>
                <a:prstGeom prst="rect">
                  <a:avLst/>
                </a:prstGeom>
                <a:solidFill>
                  <a:srgbClr val="ffff00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945240" y="4876560"/>
                <a:ext cx="296280" cy="151920"/>
                <a:chOff x="3945240" y="4876560"/>
                <a:chExt cx="296280" cy="1519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945240" y="4876560"/>
                  <a:ext cx="29628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945240" y="4978080"/>
                  <a:ext cx="22212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1" name=""/>
          <p:cNvSpPr/>
          <p:nvPr/>
        </p:nvSpPr>
        <p:spPr>
          <a:xfrm>
            <a:off x="1177920" y="556164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Duplicat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86200" y="1676520"/>
            <a:ext cx="1714320" cy="1257120"/>
            <a:chOff x="3886200" y="1676520"/>
            <a:chExt cx="1714320" cy="1257120"/>
          </a:xfrm>
        </p:grpSpPr>
        <p:grpSp>
          <p:nvGrpSpPr>
            <p:cNvPr id="433" name=""/>
            <p:cNvGrpSpPr/>
            <p:nvPr/>
          </p:nvGrpSpPr>
          <p:grpSpPr>
            <a:xfrm>
              <a:off x="3886200" y="1676520"/>
              <a:ext cx="1714320" cy="1257120"/>
              <a:chOff x="3886200" y="1676520"/>
              <a:chExt cx="1714320" cy="1257120"/>
            </a:xfrm>
          </p:grpSpPr>
          <p:sp>
            <p:nvSpPr>
              <p:cNvPr id="434" name=""/>
              <p:cNvSpPr/>
              <p:nvPr/>
            </p:nvSpPr>
            <p:spPr>
              <a:xfrm>
                <a:off x="4267080" y="190476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14800" y="213336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419720" y="228600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3886200" y="1676520"/>
                <a:ext cx="1714320" cy="1257120"/>
                <a:chOff x="3886200" y="1676520"/>
                <a:chExt cx="1714320" cy="12571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062960" y="252000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86200" y="221148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018680" y="183852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43120" y="167652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026320" y="176544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185440" y="226044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708080" y="261720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352400" y="276336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4134600" y="188784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495680" y="2286000"/>
            <a:ext cx="685440" cy="380520"/>
            <a:chOff x="4495680" y="2286000"/>
            <a:chExt cx="685440" cy="380520"/>
          </a:xfrm>
        </p:grpSpPr>
        <p:grpSp>
          <p:nvGrpSpPr>
            <p:cNvPr id="448" name=""/>
            <p:cNvGrpSpPr/>
            <p:nvPr/>
          </p:nvGrpSpPr>
          <p:grpSpPr>
            <a:xfrm>
              <a:off x="4495680" y="2286000"/>
              <a:ext cx="685440" cy="380520"/>
              <a:chOff x="4495680" y="2286000"/>
              <a:chExt cx="685440" cy="380520"/>
            </a:xfrm>
          </p:grpSpPr>
          <p:sp>
            <p:nvSpPr>
              <p:cNvPr id="449" name=""/>
              <p:cNvSpPr/>
              <p:nvPr/>
            </p:nvSpPr>
            <p:spPr>
              <a:xfrm>
                <a:off x="4495680" y="22860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99680" y="23392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4571640" y="2438280"/>
              <a:ext cx="381240" cy="151920"/>
              <a:chOff x="4571640" y="2438280"/>
              <a:chExt cx="381240" cy="151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571640" y="24382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571640" y="25398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583520" y="2162880"/>
            <a:ext cx="696240" cy="680760"/>
            <a:chOff x="4583520" y="2162880"/>
            <a:chExt cx="696240" cy="680760"/>
          </a:xfrm>
        </p:grpSpPr>
        <p:sp>
          <p:nvSpPr>
            <p:cNvPr id="455" name=""/>
            <p:cNvSpPr/>
            <p:nvPr/>
          </p:nvSpPr>
          <p:spPr>
            <a:xfrm rot="1672200">
              <a:off x="4662360" y="2228760"/>
              <a:ext cx="390600" cy="43488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72200">
              <a:off x="4660560" y="2433600"/>
              <a:ext cx="585360" cy="2898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209680" y="4038480"/>
            <a:ext cx="3886200" cy="380520"/>
            <a:chOff x="2209680" y="4038480"/>
            <a:chExt cx="3886200" cy="380520"/>
          </a:xfrm>
        </p:grpSpPr>
        <p:sp>
          <p:nvSpPr>
            <p:cNvPr id="458" name=""/>
            <p:cNvSpPr/>
            <p:nvPr/>
          </p:nvSpPr>
          <p:spPr>
            <a:xfrm>
              <a:off x="2209680" y="42670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3962520" y="4038480"/>
              <a:ext cx="685440" cy="380520"/>
              <a:chOff x="3962520" y="4038480"/>
              <a:chExt cx="685440" cy="38052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3962520" y="4038480"/>
                <a:ext cx="685440" cy="380520"/>
                <a:chOff x="3962520" y="4038480"/>
                <a:chExt cx="685440" cy="3805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3962520" y="403848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466520" y="409176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4038480" y="4190760"/>
                <a:ext cx="381240" cy="151920"/>
                <a:chOff x="4038480" y="4190760"/>
                <a:chExt cx="381240" cy="1519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038480" y="419076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038480" y="429228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6" name=""/>
          <p:cNvGrpSpPr/>
          <p:nvPr/>
        </p:nvGrpSpPr>
        <p:grpSpPr>
          <a:xfrm>
            <a:off x="1197000" y="4114800"/>
            <a:ext cx="1306800" cy="1143000"/>
            <a:chOff x="1197000" y="4114800"/>
            <a:chExt cx="1306800" cy="1143000"/>
          </a:xfrm>
        </p:grpSpPr>
        <p:sp>
          <p:nvSpPr>
            <p:cNvPr id="467" name=""/>
            <p:cNvSpPr/>
            <p:nvPr/>
          </p:nvSpPr>
          <p:spPr>
            <a:xfrm>
              <a:off x="1568160" y="4114800"/>
              <a:ext cx="53352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97000" y="4402800"/>
              <a:ext cx="1306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415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rambled Mess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216684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09088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2320" y="214164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34680" y="31233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8640" y="31233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600200" y="5105520"/>
            <a:ext cx="685440" cy="380520"/>
            <a:chOff x="1600200" y="5105520"/>
            <a:chExt cx="685440" cy="380520"/>
          </a:xfrm>
        </p:grpSpPr>
        <p:grpSp>
          <p:nvGrpSpPr>
            <p:cNvPr id="479" name=""/>
            <p:cNvGrpSpPr/>
            <p:nvPr/>
          </p:nvGrpSpPr>
          <p:grpSpPr>
            <a:xfrm>
              <a:off x="1600200" y="5105520"/>
              <a:ext cx="685440" cy="380520"/>
              <a:chOff x="1600200" y="5105520"/>
              <a:chExt cx="685440" cy="380520"/>
            </a:xfrm>
          </p:grpSpPr>
          <p:sp>
            <p:nvSpPr>
              <p:cNvPr id="480" name=""/>
              <p:cNvSpPr/>
              <p:nvPr/>
            </p:nvSpPr>
            <p:spPr>
              <a:xfrm>
                <a:off x="1600200" y="51055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104200" y="51588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1676160" y="5257800"/>
              <a:ext cx="381240" cy="151920"/>
              <a:chOff x="1676160" y="5257800"/>
              <a:chExt cx="381240" cy="151920"/>
            </a:xfrm>
          </p:grpSpPr>
          <p:sp>
            <p:nvSpPr>
              <p:cNvPr id="483" name=""/>
              <p:cNvSpPr/>
              <p:nvPr/>
            </p:nvSpPr>
            <p:spPr>
              <a:xfrm>
                <a:off x="1676160" y="52578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76160" y="53593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1905120" y="3657600"/>
            <a:ext cx="2971800" cy="1447920"/>
          </a:xfrm>
          <a:prstGeom prst="wedgeEllipseCallout">
            <a:avLst>
              <a:gd name="adj1" fmla="val -47277"/>
              <a:gd name="adj2" fmla="val 57347"/>
            </a:avLst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426708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95a7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4343400"/>
            <a:ext cx="457200" cy="53352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4038480"/>
            <a:ext cx="1143000" cy="38124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880" y="3732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 = f(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029200" y="5029200"/>
            <a:ext cx="685440" cy="533160"/>
            <a:chOff x="5029200" y="5029200"/>
            <a:chExt cx="685440" cy="533160"/>
          </a:xfrm>
        </p:grpSpPr>
        <p:grpSp>
          <p:nvGrpSpPr>
            <p:cNvPr id="491" name=""/>
            <p:cNvGrpSpPr/>
            <p:nvPr/>
          </p:nvGrpSpPr>
          <p:grpSpPr>
            <a:xfrm>
              <a:off x="5029200" y="5181840"/>
              <a:ext cx="685440" cy="380520"/>
              <a:chOff x="5029200" y="5181840"/>
              <a:chExt cx="685440" cy="380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029200" y="5181840"/>
                <a:ext cx="685440" cy="380520"/>
                <a:chOff x="5029200" y="5181840"/>
                <a:chExt cx="685440" cy="3805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029200" y="518184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533200" y="523512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105160" y="5334120"/>
                <a:ext cx="381240" cy="151920"/>
                <a:chOff x="5105160" y="5334120"/>
                <a:chExt cx="381240" cy="1519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105160" y="533412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105160" y="543564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5105520" y="5029200"/>
              <a:ext cx="457200" cy="348840"/>
              <a:chOff x="5105520" y="5029200"/>
              <a:chExt cx="457200" cy="348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156280" y="5136840"/>
                <a:ext cx="330480" cy="241200"/>
              </a:xfrm>
              <a:custGeom>
                <a:avLst/>
                <a:gdLst/>
                <a:ahLst/>
                <a:rect l="l" t="t" r="r" b="b"/>
                <a:pathLst>
                  <a:path w="232" h="320">
                    <a:moveTo>
                      <a:pt x="16" y="24"/>
                    </a:moveTo>
                    <a:cubicBezTo>
                      <a:pt x="0" y="40"/>
                      <a:pt x="96" y="72"/>
                      <a:pt x="112" y="120"/>
                    </a:cubicBezTo>
                    <a:cubicBezTo>
                      <a:pt x="128" y="168"/>
                      <a:pt x="104" y="304"/>
                      <a:pt x="112" y="312"/>
                    </a:cubicBezTo>
                    <a:cubicBezTo>
                      <a:pt x="120" y="320"/>
                      <a:pt x="144" y="216"/>
                      <a:pt x="160" y="168"/>
                    </a:cubicBezTo>
                    <a:cubicBezTo>
                      <a:pt x="176" y="120"/>
                      <a:pt x="232" y="48"/>
                      <a:pt x="208" y="24"/>
                    </a:cubicBezTo>
                    <a:cubicBezTo>
                      <a:pt x="184" y="0"/>
                      <a:pt x="32" y="8"/>
                      <a:pt x="16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05520" y="5029200"/>
                <a:ext cx="45720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"/>
          <p:cNvSpPr/>
          <p:nvPr/>
        </p:nvSpPr>
        <p:spPr>
          <a:xfrm>
            <a:off x="5410080" y="3657600"/>
            <a:ext cx="2971800" cy="1447920"/>
          </a:xfrm>
          <a:prstGeom prst="wedgeEllipseCallout">
            <a:avLst>
              <a:gd name="adj1" fmla="val -47277"/>
              <a:gd name="adj2" fmla="val 57347"/>
            </a:avLst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4267080"/>
            <a:ext cx="685800" cy="6858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4343400"/>
            <a:ext cx="457200" cy="5335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5410080"/>
            <a:ext cx="457200" cy="5335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34040" y="5074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f(ms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2173800">
            <a:off x="6130440" y="4878000"/>
            <a:ext cx="922320" cy="384120"/>
          </a:xfrm>
          <a:custGeom>
            <a:avLst/>
            <a:gdLst>
              <a:gd name="textAreaLeft" fmla="*/ 161280 w 922320"/>
              <a:gd name="textAreaRight" fmla="*/ 668880 w 922320"/>
              <a:gd name="textAreaTop" fmla="*/ 51480 h 384120"/>
              <a:gd name="textAreaBottom" fmla="*/ 3326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900600">
            <a:off x="6850080" y="4817880"/>
            <a:ext cx="304920" cy="590400"/>
          </a:xfrm>
          <a:prstGeom prst="upDownArrow">
            <a:avLst>
              <a:gd name="adj1" fmla="val 50000"/>
              <a:gd name="adj2" fmla="val 38546"/>
            </a:avLst>
          </a:prstGeom>
          <a:solidFill>
            <a:srgbClr val="fc0128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86200" y="1577880"/>
            <a:ext cx="1827720" cy="1446840"/>
            <a:chOff x="3886200" y="1577880"/>
            <a:chExt cx="1827720" cy="1446840"/>
          </a:xfrm>
        </p:grpSpPr>
        <p:grpSp>
          <p:nvGrpSpPr>
            <p:cNvPr id="509" name=""/>
            <p:cNvGrpSpPr/>
            <p:nvPr/>
          </p:nvGrpSpPr>
          <p:grpSpPr>
            <a:xfrm>
              <a:off x="3886200" y="1577880"/>
              <a:ext cx="1827720" cy="1446840"/>
              <a:chOff x="3886200" y="1577880"/>
              <a:chExt cx="1827720" cy="1446840"/>
            </a:xfrm>
          </p:grpSpPr>
          <p:sp>
            <p:nvSpPr>
              <p:cNvPr id="510" name=""/>
              <p:cNvSpPr/>
              <p:nvPr/>
            </p:nvSpPr>
            <p:spPr>
              <a:xfrm>
                <a:off x="4292280" y="1840680"/>
                <a:ext cx="1218600" cy="8769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29920" y="2103840"/>
                <a:ext cx="406080" cy="613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455000" y="2279520"/>
                <a:ext cx="406080" cy="613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3886200" y="1577880"/>
                <a:ext cx="1827720" cy="1446840"/>
                <a:chOff x="3886200" y="1577880"/>
                <a:chExt cx="1827720" cy="14468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074480" y="2548800"/>
                  <a:ext cx="405000" cy="35460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886200" y="2193840"/>
                  <a:ext cx="367200" cy="42948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027320" y="1764720"/>
                  <a:ext cx="508680" cy="44784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479840" y="1577880"/>
                  <a:ext cx="659520" cy="35460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101560" y="1680480"/>
                  <a:ext cx="612360" cy="57852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271480" y="2250000"/>
                  <a:ext cx="414360" cy="5227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762440" y="2660760"/>
                  <a:ext cx="593640" cy="2332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383000" y="2828880"/>
                  <a:ext cx="452160" cy="19584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2" name=""/>
            <p:cNvSpPr/>
            <p:nvPr/>
          </p:nvSpPr>
          <p:spPr>
            <a:xfrm>
              <a:off x="4241880" y="1866240"/>
              <a:ext cx="110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495680" y="2286000"/>
            <a:ext cx="685440" cy="380520"/>
            <a:chOff x="4495680" y="2286000"/>
            <a:chExt cx="685440" cy="380520"/>
          </a:xfrm>
        </p:grpSpPr>
        <p:grpSp>
          <p:nvGrpSpPr>
            <p:cNvPr id="524" name=""/>
            <p:cNvGrpSpPr/>
            <p:nvPr/>
          </p:nvGrpSpPr>
          <p:grpSpPr>
            <a:xfrm>
              <a:off x="4495680" y="2286000"/>
              <a:ext cx="685440" cy="380520"/>
              <a:chOff x="4495680" y="2286000"/>
              <a:chExt cx="685440" cy="380520"/>
            </a:xfrm>
          </p:grpSpPr>
          <p:sp>
            <p:nvSpPr>
              <p:cNvPr id="525" name=""/>
              <p:cNvSpPr/>
              <p:nvPr/>
            </p:nvSpPr>
            <p:spPr>
              <a:xfrm>
                <a:off x="4495680" y="22860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999680" y="23392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4571640" y="2438280"/>
              <a:ext cx="381240" cy="151920"/>
              <a:chOff x="4571640" y="2438280"/>
              <a:chExt cx="381240" cy="151920"/>
            </a:xfrm>
          </p:grpSpPr>
          <p:sp>
            <p:nvSpPr>
              <p:cNvPr id="528" name=""/>
              <p:cNvSpPr/>
              <p:nvPr/>
            </p:nvSpPr>
            <p:spPr>
              <a:xfrm>
                <a:off x="4571640" y="24382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71640" y="25398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4572000" y="2133720"/>
            <a:ext cx="457200" cy="348840"/>
            <a:chOff x="4572000" y="2133720"/>
            <a:chExt cx="457200" cy="348840"/>
          </a:xfrm>
        </p:grpSpPr>
        <p:sp>
          <p:nvSpPr>
            <p:cNvPr id="531" name=""/>
            <p:cNvSpPr/>
            <p:nvPr/>
          </p:nvSpPr>
          <p:spPr>
            <a:xfrm>
              <a:off x="4622760" y="2241360"/>
              <a:ext cx="330480" cy="241200"/>
            </a:xfrm>
            <a:custGeom>
              <a:avLst/>
              <a:gdLst/>
              <a:ahLst/>
              <a:rect l="l" t="t" r="r" b="b"/>
              <a:pathLst>
                <a:path w="232" h="320">
                  <a:moveTo>
                    <a:pt x="16" y="24"/>
                  </a:moveTo>
                  <a:cubicBezTo>
                    <a:pt x="0" y="40"/>
                    <a:pt x="96" y="72"/>
                    <a:pt x="112" y="120"/>
                  </a:cubicBezTo>
                  <a:cubicBezTo>
                    <a:pt x="128" y="168"/>
                    <a:pt x="104" y="304"/>
                    <a:pt x="112" y="312"/>
                  </a:cubicBezTo>
                  <a:cubicBezTo>
                    <a:pt x="120" y="320"/>
                    <a:pt x="144" y="216"/>
                    <a:pt x="160" y="168"/>
                  </a:cubicBezTo>
                  <a:cubicBezTo>
                    <a:pt x="176" y="120"/>
                    <a:pt x="232" y="48"/>
                    <a:pt x="208" y="24"/>
                  </a:cubicBezTo>
                  <a:cubicBezTo>
                    <a:pt x="184" y="0"/>
                    <a:pt x="32" y="8"/>
                    <a:pt x="16" y="24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72000" y="2133720"/>
              <a:ext cx="457200" cy="1522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5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4267080"/>
            <a:ext cx="3200400" cy="1828800"/>
          </a:xfrm>
          <a:prstGeom prst="ellipse">
            <a:avLst/>
          </a:prstGeom>
          <a:noFill/>
          <a:ln w="19080">
            <a:solidFill>
              <a:srgbClr val="00279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-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66680" y="2819520"/>
            <a:ext cx="221004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43600" y="2971800"/>
            <a:ext cx="220968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4800600"/>
            <a:ext cx="221004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10800" y="4952520"/>
            <a:ext cx="203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U-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. M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6" idx="6"/>
            <a:endCxn id="538" idx="1"/>
          </p:cNvCxnSpPr>
          <p:nvPr/>
        </p:nvCxnSpPr>
        <p:spPr>
          <a:xfrm>
            <a:off x="3286080" y="3390480"/>
            <a:ext cx="1991520" cy="15678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1" name=""/>
          <p:cNvCxnSpPr>
            <a:stCxn id="537" idx="4"/>
            <a:endCxn id="538" idx="0"/>
          </p:cNvCxnSpPr>
          <p:nvPr/>
        </p:nvCxnSpPr>
        <p:spPr>
          <a:xfrm flipH="1">
            <a:off x="6057360" y="4123800"/>
            <a:ext cx="991080" cy="6678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2" name=""/>
          <p:cNvSpPr/>
          <p:nvPr/>
        </p:nvSpPr>
        <p:spPr>
          <a:xfrm>
            <a:off x="3962520" y="2971800"/>
            <a:ext cx="1676160" cy="9144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0" y="1523880"/>
            <a:ext cx="1676520" cy="9144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5"/>
            <a:endCxn id="537" idx="0"/>
          </p:cNvCxnSpPr>
          <p:nvPr/>
        </p:nvCxnSpPr>
        <p:spPr>
          <a:xfrm>
            <a:off x="6002280" y="2314440"/>
            <a:ext cx="1046880" cy="648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Creation of Processes/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box = “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most all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SV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send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Ms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Ker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r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4343400"/>
            <a:ext cx="1905120" cy="12193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24480" y="4267080"/>
            <a:ext cx="533520" cy="3812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24480" y="5170320"/>
            <a:ext cx="533520" cy="3812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47" idx="7"/>
            <a:endCxn id="548" idx="2"/>
          </p:cNvCxnSpPr>
          <p:nvPr/>
        </p:nvCxnSpPr>
        <p:spPr>
          <a:xfrm flipV="1">
            <a:off x="5664240" y="4504680"/>
            <a:ext cx="651600" cy="6840"/>
          </a:xfrm>
          <a:prstGeom prst="straightConnector1">
            <a:avLst/>
          </a:prstGeom>
          <a:ln w="28440">
            <a:solidFill>
              <a:srgbClr val="00279f"/>
            </a:solidFill>
            <a:miter/>
            <a:headEnd len="med" type="triangle" w="med"/>
          </a:ln>
        </p:spPr>
      </p:cxnSp>
      <p:cxnSp>
        <p:nvCxnSpPr>
          <p:cNvPr id="551" name=""/>
          <p:cNvCxnSpPr>
            <a:stCxn id="547" idx="5"/>
            <a:endCxn id="549" idx="2"/>
          </p:cNvCxnSpPr>
          <p:nvPr/>
        </p:nvCxnSpPr>
        <p:spPr>
          <a:xfrm>
            <a:off x="5664240" y="5394240"/>
            <a:ext cx="651600" cy="15120"/>
          </a:xfrm>
          <a:prstGeom prst="straightConnector1">
            <a:avLst/>
          </a:prstGeom>
          <a:ln w="284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6843960" y="411444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rnel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plies of SV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69520" y="50731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fy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vents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_allocate  (pseudo SV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3090960"/>
            <a:ext cx="167652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2840" y="39402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02640" y="259704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O (same sen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40520" y="3348000"/>
            <a:ext cx="30290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nership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(m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heritance of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-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rights in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3352680"/>
            <a:ext cx="2361960" cy="14479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7"/>
            <a:endCxn id="556" idx="2"/>
          </p:cNvCxnSpPr>
          <p:nvPr/>
        </p:nvCxnSpPr>
        <p:spPr>
          <a:xfrm>
            <a:off x="2549160" y="3555720"/>
            <a:ext cx="632520" cy="1188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3657600" y="1981080"/>
            <a:ext cx="137160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95280" y="2362320"/>
            <a:ext cx="1524240" cy="88092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4" idx="6"/>
            <a:endCxn id="563" idx="2"/>
          </p:cNvCxnSpPr>
          <p:nvPr/>
        </p:nvCxnSpPr>
        <p:spPr>
          <a:xfrm flipV="1">
            <a:off x="2828520" y="2457000"/>
            <a:ext cx="810360" cy="3470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3150720" y="2116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3" idx="3"/>
            <a:endCxn id="568" idx="0"/>
          </p:cNvCxnSpPr>
          <p:nvPr/>
        </p:nvCxnSpPr>
        <p:spPr>
          <a:xfrm>
            <a:off x="4248000" y="2761920"/>
            <a:ext cx="1696320" cy="119124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5639040" y="3412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81480" y="3962520"/>
            <a:ext cx="1524240" cy="88092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19880" y="2284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828800" y="3200400"/>
            <a:ext cx="3429000" cy="1752480"/>
            <a:chOff x="1828800" y="3200400"/>
            <a:chExt cx="3429000" cy="1752480"/>
          </a:xfrm>
        </p:grpSpPr>
        <p:sp>
          <p:nvSpPr>
            <p:cNvPr id="572" name=""/>
            <p:cNvSpPr/>
            <p:nvPr/>
          </p:nvSpPr>
          <p:spPr>
            <a:xfrm flipV="1">
              <a:off x="1828800" y="3200400"/>
              <a:ext cx="3429000" cy="175248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360 h 1752480"/>
                <a:gd name="textAreaBottom" fmla="*/ 17532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88" stAng="10800000" swAng="5400000"/>
                  <a:lnTo>
                    <a:pt x="15130" y="4872"/>
                  </a:lnTo>
                  <a:lnTo>
                    <a:pt x="15130" y="0"/>
                  </a:lnTo>
                  <a:lnTo>
                    <a:pt x="21600" y="6079"/>
                  </a:lnTo>
                  <a:lnTo>
                    <a:pt x="15130" y="12158"/>
                  </a:lnTo>
                  <a:lnTo>
                    <a:pt x="15130" y="7286"/>
                  </a:lnTo>
                  <a:lnTo>
                    <a:pt x="12427" y="7286"/>
                  </a:lnTo>
                  <a:arcTo wR="10013" hR="4874" stAng="16200000" swAng="-5400000"/>
                  <a:lnTo>
                    <a:pt x="2414" y="21600"/>
                  </a:lnTo>
                  <a:close/>
                </a:path>
              </a:pathLst>
            </a:custGeom>
            <a:solidFill>
              <a:srgbClr val="00ae00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2438280" y="3962520"/>
              <a:ext cx="1447200" cy="777960"/>
              <a:chOff x="2438280" y="3962520"/>
              <a:chExt cx="1447200" cy="77796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2438280" y="3962520"/>
                <a:ext cx="1447200" cy="761040"/>
                <a:chOff x="2438280" y="3962520"/>
                <a:chExt cx="1447200" cy="7610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2438280" y="3962520"/>
                  <a:ext cx="1447200" cy="76104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502440" y="4069440"/>
                  <a:ext cx="207000" cy="1904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2449440" y="4097880"/>
                <a:ext cx="1355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ort 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wnersh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8" name=""/>
          <p:cNvSpPr/>
          <p:nvPr/>
        </p:nvSpPr>
        <p:spPr>
          <a:xfrm>
            <a:off x="2819880" y="2284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387080" y="2161440"/>
            <a:ext cx="1429200" cy="1412640"/>
            <a:chOff x="1387080" y="2161440"/>
            <a:chExt cx="1429200" cy="1412640"/>
          </a:xfrm>
        </p:grpSpPr>
        <p:sp>
          <p:nvSpPr>
            <p:cNvPr id="580" name=""/>
            <p:cNvSpPr/>
            <p:nvPr/>
          </p:nvSpPr>
          <p:spPr>
            <a:xfrm rot="1672200">
              <a:off x="1554480" y="2294280"/>
              <a:ext cx="796320" cy="9140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72200">
              <a:off x="1548720" y="2720880"/>
              <a:ext cx="1194120" cy="6094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2" name=""/>
          <p:cNvCxnSpPr>
            <a:stCxn id="563" idx="3"/>
            <a:endCxn id="568" idx="0"/>
          </p:cNvCxnSpPr>
          <p:nvPr/>
        </p:nvCxnSpPr>
        <p:spPr>
          <a:xfrm>
            <a:off x="4248000" y="2761920"/>
            <a:ext cx="1696320" cy="11912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5424120" y="3259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64" idx="6"/>
            <a:endCxn id="563" idx="2"/>
          </p:cNvCxnSpPr>
          <p:nvPr/>
        </p:nvCxnSpPr>
        <p:spPr>
          <a:xfrm flipV="1">
            <a:off x="2828520" y="2457000"/>
            <a:ext cx="810360" cy="347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706680" y="54396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52160" y="2116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5760" y="28184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ahoma"/>
              </a:rPr>
              <a:t>Port-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481640" y="1752480"/>
          <a:ext cx="68580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1640" y="1752480"/>
                    <a:ext cx="68580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362320" y="2533680"/>
          <a:ext cx="4800600" cy="28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33680"/>
                    <a:ext cx="480060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"/>
          <p:cNvGrpSpPr/>
          <p:nvPr/>
        </p:nvGrpSpPr>
        <p:grpSpPr>
          <a:xfrm>
            <a:off x="2960280" y="3044520"/>
            <a:ext cx="421920" cy="316080"/>
            <a:chOff x="2960280" y="3044520"/>
            <a:chExt cx="421920" cy="316080"/>
          </a:xfrm>
        </p:grpSpPr>
        <p:sp>
          <p:nvSpPr>
            <p:cNvPr id="100" name=""/>
            <p:cNvSpPr/>
            <p:nvPr/>
          </p:nvSpPr>
          <p:spPr>
            <a:xfrm rot="20235600">
              <a:off x="2980800" y="311076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235600">
              <a:off x="3018960" y="312516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235600">
              <a:off x="3047040" y="308448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241320" y="2965680"/>
            <a:ext cx="286920" cy="417960"/>
            <a:chOff x="6241320" y="2965680"/>
            <a:chExt cx="286920" cy="417960"/>
          </a:xfrm>
        </p:grpSpPr>
        <p:sp>
          <p:nvSpPr>
            <p:cNvPr id="104" name=""/>
            <p:cNvSpPr/>
            <p:nvPr/>
          </p:nvSpPr>
          <p:spPr>
            <a:xfrm rot="15169800">
              <a:off x="6194160" y="308304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5169800">
              <a:off x="6239880" y="316836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5169800">
              <a:off x="6229080" y="321120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197040" y="2959920"/>
            <a:ext cx="286920" cy="417960"/>
            <a:chOff x="6197040" y="2959920"/>
            <a:chExt cx="286920" cy="417960"/>
          </a:xfrm>
        </p:grpSpPr>
        <p:sp>
          <p:nvSpPr>
            <p:cNvPr id="108" name=""/>
            <p:cNvSpPr/>
            <p:nvPr/>
          </p:nvSpPr>
          <p:spPr>
            <a:xfrm flipH="1" flipV="1" rot="15169800">
              <a:off x="6149520" y="307692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 rot="15169800">
              <a:off x="6267240" y="308304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 rot="15169800">
              <a:off x="6387480" y="308628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4809960" y="2071800"/>
          <a:ext cx="685800" cy="38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9960" y="2071800"/>
                    <a:ext cx="68580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3018600" y="3058920"/>
            <a:ext cx="421920" cy="316080"/>
            <a:chOff x="3018600" y="3058920"/>
            <a:chExt cx="421920" cy="316080"/>
          </a:xfrm>
        </p:grpSpPr>
        <p:sp>
          <p:nvSpPr>
            <p:cNvPr id="114" name=""/>
            <p:cNvSpPr/>
            <p:nvPr/>
          </p:nvSpPr>
          <p:spPr>
            <a:xfrm flipH="1" flipV="1" rot="20235600">
              <a:off x="3039120" y="312516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 rot="20235600">
              <a:off x="3163680" y="320292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 rot="20235600">
              <a:off x="3243600" y="3288960"/>
              <a:ext cx="10908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37000" y="1752480"/>
            <a:ext cx="1066680" cy="1066680"/>
            <a:chOff x="4437000" y="1752480"/>
            <a:chExt cx="1066680" cy="1066680"/>
          </a:xfrm>
        </p:grpSpPr>
        <p:sp>
          <p:nvSpPr>
            <p:cNvPr id="118" name=""/>
            <p:cNvSpPr/>
            <p:nvPr/>
          </p:nvSpPr>
          <p:spPr>
            <a:xfrm>
              <a:off x="4437000" y="1752480"/>
              <a:ext cx="761760" cy="106668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144"/>
                  </a:moveTo>
                  <a:lnTo>
                    <a:pt x="480" y="672"/>
                  </a:lnTo>
                  <a:lnTo>
                    <a:pt x="480" y="432"/>
                  </a:lnTo>
                  <a:lnTo>
                    <a:pt x="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37000" y="1752480"/>
              <a:ext cx="1066680" cy="685800"/>
            </a:xfrm>
            <a:custGeom>
              <a:avLst/>
              <a:gdLst/>
              <a:ahLst/>
              <a:rect l="l" t="t" r="r" b="b"/>
              <a:pathLst>
                <a:path w="672" h="432">
                  <a:moveTo>
                    <a:pt x="0" y="0"/>
                  </a:moveTo>
                  <a:lnTo>
                    <a:pt x="192" y="0"/>
                  </a:lnTo>
                  <a:lnTo>
                    <a:pt x="672" y="432"/>
                  </a:lnTo>
                  <a:lnTo>
                    <a:pt x="480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8760" y="2438280"/>
              <a:ext cx="304920" cy="380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27600" y="556164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7080" y="3753000"/>
            <a:ext cx="142920" cy="107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37080" y="4149720"/>
            <a:ext cx="14292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3789360"/>
            <a:ext cx="142920" cy="10800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4365720"/>
            <a:ext cx="142920" cy="10800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9.91659E-007 C 0.00399 0.00672 0.00798 0.01343 0.01267 0.02015 C 0.01736 0.02687 0.02222 0.03359 0.02795 0.04054 C 0.03368 0.04749 0.03993 0.05607 0.04687 0.06232 C 0.05381 0.06858 0.06249 0.07368 0.06961 0.07761 C 0.07673 0.08155 0.08385 0.0841 0.08993 0.08619 C 0.096 0.08827 0.10121 0.08943 0.10642 0.08943 C 0.11163 0.08943 0.11649 0.08781 0.12152 0.08619 E">
                                      <p:cBhvr>
                                        <p:cTn id="4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59 -0.00695 0.01319 -0.01367 0.01909 -0.02201 C 0.025 -0.03035 0.0302 -0.04055 0.03541 -0.05074 E">
                                      <p:cBhvr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9981E-007 C -0.00556 0.01182 -0.01077 0.02363 -0.01545 0.03197 C -0.01997 0.04031 -0.02379 0.04495 -0.0283 0.05051 C -0.03299 0.05607 -0.03837 0.06094 -0.04341 0.0658 E">
                                      <p:cBhvr>
                                        <p:cTn id="7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76089E-007 C -0.01302 0.00209 -0.02604 0.0044 -0.03923 1.76089E-007 C -0.05243 -0.0044 -0.06962 -0.01738 -0.07986 -0.02711 C -0.0901 -0.03684 -0.09462 -0.04981 -0.10139 -0.05908 C -0.10816 -0.06835 -0.11423 -0.07553 -0.12031 -0.08271 E">
                                      <p:cBhvr>
                                        <p:cTn id="7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8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3520" y="1447920"/>
            <a:ext cx="2286000" cy="167616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152388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205740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259092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y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3200400"/>
            <a:ext cx="2286000" cy="2286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3276720"/>
            <a:ext cx="1981080" cy="83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m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4191120"/>
            <a:ext cx="198108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19810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523880"/>
            <a:ext cx="3048120" cy="4038840"/>
          </a:xfrm>
          <a:prstGeom prst="wedgeRoundRectCallout">
            <a:avLst>
              <a:gd name="adj1" fmla="val -145467"/>
              <a:gd name="adj2" fmla="val 21263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16765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67280" y="23623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67280" y="30481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67280" y="37339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480060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7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3640" y="40687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92000" y="5646600"/>
            <a:ext cx="67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(s), Floats, …, Port-Rights, Memory Segment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312408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34" y="10226"/>
                </a:moveTo>
                <a:lnTo>
                  <a:pt x="-771" y="3456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yped i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37040" y="2209680"/>
            <a:ext cx="15112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193" y="8625"/>
                </a:moveTo>
                <a:lnTo>
                  <a:pt x="-1089" y="3456"/>
                </a:lnTo>
              </a:path>
              <a:path w="21600" h="21600">
                <a:moveTo>
                  <a:pt x="-1089" y="0"/>
                </a:moveTo>
                <a:lnTo>
                  <a:pt x="-1089" y="21600"/>
                </a:lnTo>
              </a:path>
            </a:pathLst>
          </a:cu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xed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VC msg_s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end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(if full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max T 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/port/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ahoma"/>
              </a:rPr>
              <a:t>SVC msg_rece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receiv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ort / set of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(if empty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max T 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intrasyst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Copying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em. Mgt. + Copy on 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5181480" y="3352680"/>
            <a:ext cx="1905120" cy="2133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76520" y="3276720"/>
            <a:ext cx="1904760" cy="213336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2800" y="365688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sg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97120" y="4343400"/>
            <a:ext cx="731880" cy="430200"/>
          </a:xfrm>
          <a:prstGeom prst="rect">
            <a:avLst/>
          </a:prstGeom>
          <a:solidFill>
            <a:srgbClr val="990000"/>
          </a:solidFill>
          <a:ln w="64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720880" y="4365720"/>
            <a:ext cx="685440" cy="380520"/>
            <a:chOff x="2720880" y="4365720"/>
            <a:chExt cx="685440" cy="380520"/>
          </a:xfrm>
        </p:grpSpPr>
        <p:grpSp>
          <p:nvGrpSpPr>
            <p:cNvPr id="617" name=""/>
            <p:cNvGrpSpPr/>
            <p:nvPr/>
          </p:nvGrpSpPr>
          <p:grpSpPr>
            <a:xfrm>
              <a:off x="2720880" y="4365720"/>
              <a:ext cx="685440" cy="380520"/>
              <a:chOff x="2720880" y="4365720"/>
              <a:chExt cx="685440" cy="380520"/>
            </a:xfrm>
          </p:grpSpPr>
          <p:sp>
            <p:nvSpPr>
              <p:cNvPr id="618" name=""/>
              <p:cNvSpPr/>
              <p:nvPr/>
            </p:nvSpPr>
            <p:spPr>
              <a:xfrm>
                <a:off x="2720880" y="43657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224880" y="44190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796840" y="4518000"/>
              <a:ext cx="381240" cy="151920"/>
              <a:chOff x="2796840" y="4518000"/>
              <a:chExt cx="381240" cy="151920"/>
            </a:xfrm>
          </p:grpSpPr>
          <p:sp>
            <p:nvSpPr>
              <p:cNvPr id="621" name=""/>
              <p:cNvSpPr/>
              <p:nvPr/>
            </p:nvSpPr>
            <p:spPr>
              <a:xfrm>
                <a:off x="2796840" y="45180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96840" y="46195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993600" y="4920480"/>
            <a:ext cx="1216080" cy="642600"/>
          </a:xfrm>
          <a:prstGeom prst="borderCallout1">
            <a:avLst>
              <a:gd name="adj1" fmla="val 18750"/>
              <a:gd name="adj2" fmla="val -8333"/>
              <a:gd name="adj3" fmla="val -29393"/>
              <a:gd name="adj4" fmla="val 142791"/>
            </a:avLst>
          </a:prstGeom>
          <a:solidFill>
            <a:srgbClr val="cc66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opy o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429000" y="4343400"/>
            <a:ext cx="205740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0"/>
                </a:moveTo>
                <a:lnTo>
                  <a:pt x="1104" y="0"/>
                </a:lnTo>
                <a:lnTo>
                  <a:pt x="0" y="48"/>
                </a:lnTo>
                <a:lnTo>
                  <a:pt x="0" y="240"/>
                </a:lnTo>
              </a:path>
            </a:pathLst>
          </a:custGeom>
          <a:solidFill>
            <a:srgbClr val="990000"/>
          </a:solidFill>
          <a:ln w="93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187760" y="36712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sg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90640" y="45712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tor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993600" y="3276720"/>
            <a:ext cx="6093000" cy="2286360"/>
            <a:chOff x="993600" y="3276720"/>
            <a:chExt cx="6093000" cy="2286360"/>
          </a:xfrm>
        </p:grpSpPr>
        <p:sp>
          <p:nvSpPr>
            <p:cNvPr id="628" name=""/>
            <p:cNvSpPr/>
            <p:nvPr/>
          </p:nvSpPr>
          <p:spPr>
            <a:xfrm>
              <a:off x="3429000" y="4343400"/>
              <a:ext cx="2057400" cy="380880"/>
            </a:xfrm>
            <a:custGeom>
              <a:avLst/>
              <a:gdLst/>
              <a:ahLst/>
              <a:rect l="l" t="t" r="r" b="b"/>
              <a:pathLst>
                <a:path w="1104" h="240">
                  <a:moveTo>
                    <a:pt x="0" y="0"/>
                  </a:moveTo>
                  <a:lnTo>
                    <a:pt x="1104" y="0"/>
                  </a:lnTo>
                  <a:lnTo>
                    <a:pt x="0" y="48"/>
                  </a:lnTo>
                  <a:lnTo>
                    <a:pt x="0" y="24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81480" y="3352680"/>
              <a:ext cx="1905120" cy="2133720"/>
            </a:xfrm>
            <a:prstGeom prst="ellipse">
              <a:avLst/>
            </a:prstGeom>
            <a:solidFill>
              <a:srgbClr val="ff95a7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93600" y="4920480"/>
              <a:ext cx="1216080" cy="642600"/>
            </a:xfrm>
            <a:prstGeom prst="borderCallout1">
              <a:avLst>
                <a:gd name="adj1" fmla="val 18750"/>
                <a:gd name="adj2" fmla="val -8333"/>
                <a:gd name="adj3" fmla="val -29393"/>
                <a:gd name="adj4" fmla="val 142791"/>
              </a:avLst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opy on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6520" y="3276720"/>
              <a:ext cx="1904760" cy="213336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2720880" y="4365720"/>
              <a:ext cx="685440" cy="380520"/>
              <a:chOff x="2720880" y="4365720"/>
              <a:chExt cx="685440" cy="3805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2720880" y="4365720"/>
                <a:ext cx="685440" cy="380520"/>
                <a:chOff x="2720880" y="4365720"/>
                <a:chExt cx="685440" cy="3805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720880" y="436572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224880" y="441900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96840" y="4518000"/>
                <a:ext cx="381240" cy="151920"/>
                <a:chOff x="2796840" y="4518000"/>
                <a:chExt cx="381240" cy="1519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96840" y="451800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796840" y="461952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39" name=""/>
          <p:cNvGrpSpPr/>
          <p:nvPr/>
        </p:nvGrpSpPr>
        <p:grpSpPr>
          <a:xfrm>
            <a:off x="4800600" y="4800600"/>
            <a:ext cx="685440" cy="380520"/>
            <a:chOff x="4800600" y="4800600"/>
            <a:chExt cx="685440" cy="380520"/>
          </a:xfrm>
        </p:grpSpPr>
        <p:grpSp>
          <p:nvGrpSpPr>
            <p:cNvPr id="640" name=""/>
            <p:cNvGrpSpPr/>
            <p:nvPr/>
          </p:nvGrpSpPr>
          <p:grpSpPr>
            <a:xfrm>
              <a:off x="4800600" y="4800600"/>
              <a:ext cx="685440" cy="380520"/>
              <a:chOff x="4800600" y="4800600"/>
              <a:chExt cx="685440" cy="380520"/>
            </a:xfrm>
          </p:grpSpPr>
          <p:sp>
            <p:nvSpPr>
              <p:cNvPr id="641" name=""/>
              <p:cNvSpPr/>
              <p:nvPr/>
            </p:nvSpPr>
            <p:spPr>
              <a:xfrm>
                <a:off x="4800600" y="48006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304600" y="48538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876560" y="4952880"/>
              <a:ext cx="381240" cy="151920"/>
              <a:chOff x="4876560" y="4952880"/>
              <a:chExt cx="381240" cy="151920"/>
            </a:xfrm>
          </p:grpSpPr>
          <p:sp>
            <p:nvSpPr>
              <p:cNvPr id="644" name=""/>
              <p:cNvSpPr/>
              <p:nvPr/>
            </p:nvSpPr>
            <p:spPr>
              <a:xfrm>
                <a:off x="4876560" y="49528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76560" y="50544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ent-Server Commun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Procedure Calls (R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Method Invocation (RM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ck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ndpoint for commun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 = &lt;IP address, por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: between 2 so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447920" y="3200400"/>
            <a:ext cx="685800" cy="1355760"/>
            <a:chOff x="1447920" y="3200400"/>
            <a:chExt cx="685800" cy="1355760"/>
          </a:xfrm>
        </p:grpSpPr>
        <p:sp>
          <p:nvSpPr>
            <p:cNvPr id="651" name=""/>
            <p:cNvSpPr/>
            <p:nvPr/>
          </p:nvSpPr>
          <p:spPr>
            <a:xfrm>
              <a:off x="1447920" y="4387680"/>
              <a:ext cx="685800" cy="168480"/>
            </a:xfrm>
            <a:custGeom>
              <a:avLst/>
              <a:gdLst/>
              <a:ahLst/>
              <a:rect l="l" t="t" r="r" b="b"/>
              <a:pathLst>
                <a:path w="1198" h="381">
                  <a:moveTo>
                    <a:pt x="0" y="381"/>
                  </a:moveTo>
                  <a:lnTo>
                    <a:pt x="45" y="88"/>
                  </a:lnTo>
                  <a:lnTo>
                    <a:pt x="143" y="0"/>
                  </a:lnTo>
                  <a:lnTo>
                    <a:pt x="1022" y="27"/>
                  </a:lnTo>
                  <a:lnTo>
                    <a:pt x="1128" y="79"/>
                  </a:lnTo>
                  <a:lnTo>
                    <a:pt x="1198" y="381"/>
                  </a:lnTo>
                  <a:lnTo>
                    <a:pt x="1066" y="309"/>
                  </a:lnTo>
                  <a:lnTo>
                    <a:pt x="124" y="309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47920" y="4481640"/>
              <a:ext cx="685800" cy="74520"/>
            </a:xfrm>
            <a:custGeom>
              <a:avLst/>
              <a:gdLst/>
              <a:ahLst/>
              <a:rect l="l" t="t" r="r" b="b"/>
              <a:pathLst>
                <a:path w="1198" h="169">
                  <a:moveTo>
                    <a:pt x="0" y="169"/>
                  </a:moveTo>
                  <a:lnTo>
                    <a:pt x="1198" y="169"/>
                  </a:lnTo>
                  <a:lnTo>
                    <a:pt x="1047" y="0"/>
                  </a:lnTo>
                  <a:lnTo>
                    <a:pt x="133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524600" y="3200400"/>
              <a:ext cx="106200" cy="1272960"/>
            </a:xfrm>
            <a:custGeom>
              <a:avLst/>
              <a:gdLst/>
              <a:ahLst/>
              <a:rect l="l" t="t" r="r" b="b"/>
              <a:pathLst>
                <a:path w="187" h="2873">
                  <a:moveTo>
                    <a:pt x="0" y="2864"/>
                  </a:moveTo>
                  <a:lnTo>
                    <a:pt x="19" y="2873"/>
                  </a:lnTo>
                  <a:lnTo>
                    <a:pt x="187" y="2873"/>
                  </a:lnTo>
                  <a:lnTo>
                    <a:pt x="187" y="0"/>
                  </a:lnTo>
                  <a:lnTo>
                    <a:pt x="19" y="0"/>
                  </a:lnTo>
                  <a:lnTo>
                    <a:pt x="0" y="27"/>
                  </a:lnTo>
                  <a:lnTo>
                    <a:pt x="0" y="28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75680" y="3200400"/>
              <a:ext cx="66240" cy="1272960"/>
            </a:xfrm>
            <a:custGeom>
              <a:avLst/>
              <a:gdLst/>
              <a:ahLst/>
              <a:rect l="l" t="t" r="r" b="b"/>
              <a:pathLst>
                <a:path w="115" h="2873">
                  <a:moveTo>
                    <a:pt x="0" y="2873"/>
                  </a:moveTo>
                  <a:lnTo>
                    <a:pt x="99" y="2873"/>
                  </a:lnTo>
                  <a:lnTo>
                    <a:pt x="115" y="2855"/>
                  </a:lnTo>
                  <a:lnTo>
                    <a:pt x="115" y="2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87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35040" y="3200400"/>
              <a:ext cx="497880" cy="12729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49800" y="3200400"/>
              <a:ext cx="462240" cy="772200"/>
            </a:xfrm>
            <a:custGeom>
              <a:avLst/>
              <a:gdLst/>
              <a:ahLst/>
              <a:rect l="l" t="t" r="r" b="b"/>
              <a:pathLst>
                <a:path w="808" h="1742">
                  <a:moveTo>
                    <a:pt x="0" y="0"/>
                  </a:moveTo>
                  <a:lnTo>
                    <a:pt x="0" y="1706"/>
                  </a:lnTo>
                  <a:lnTo>
                    <a:pt x="46" y="1742"/>
                  </a:lnTo>
                  <a:lnTo>
                    <a:pt x="143" y="1742"/>
                  </a:lnTo>
                  <a:lnTo>
                    <a:pt x="143" y="1645"/>
                  </a:lnTo>
                  <a:lnTo>
                    <a:pt x="169" y="1609"/>
                  </a:lnTo>
                  <a:lnTo>
                    <a:pt x="649" y="1609"/>
                  </a:lnTo>
                  <a:lnTo>
                    <a:pt x="684" y="1645"/>
                  </a:lnTo>
                  <a:lnTo>
                    <a:pt x="684" y="1742"/>
                  </a:lnTo>
                  <a:lnTo>
                    <a:pt x="782" y="1742"/>
                  </a:lnTo>
                  <a:lnTo>
                    <a:pt x="808" y="1715"/>
                  </a:lnTo>
                  <a:lnTo>
                    <a:pt x="8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40400" y="3984120"/>
              <a:ext cx="720" cy="489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31160" y="3984120"/>
              <a:ext cx="720" cy="489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7688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9740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1684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3736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5824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7876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9928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1872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3960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6012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7956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1900080" y="3925440"/>
              <a:ext cx="1080" cy="54000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70320" y="3780000"/>
              <a:ext cx="416520" cy="93600"/>
            </a:xfrm>
            <a:custGeom>
              <a:avLst/>
              <a:gdLst/>
              <a:ahLst/>
              <a:rect l="l" t="t" r="r" b="b"/>
              <a:pathLst>
                <a:path w="727" h="213">
                  <a:moveTo>
                    <a:pt x="727" y="0"/>
                  </a:moveTo>
                  <a:lnTo>
                    <a:pt x="0" y="0"/>
                  </a:lnTo>
                  <a:lnTo>
                    <a:pt x="0" y="213"/>
                  </a:lnTo>
                  <a:lnTo>
                    <a:pt x="62" y="213"/>
                  </a:lnTo>
                  <a:lnTo>
                    <a:pt x="62" y="37"/>
                  </a:lnTo>
                  <a:lnTo>
                    <a:pt x="683" y="19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70320" y="3866040"/>
              <a:ext cx="416520" cy="7560"/>
            </a:xfrm>
            <a:custGeom>
              <a:avLst/>
              <a:gdLst/>
              <a:ahLst/>
              <a:rect l="l" t="t" r="r" b="b"/>
              <a:pathLst>
                <a:path w="727" h="18">
                  <a:moveTo>
                    <a:pt x="683" y="0"/>
                  </a:moveTo>
                  <a:lnTo>
                    <a:pt x="62" y="0"/>
                  </a:lnTo>
                  <a:lnTo>
                    <a:pt x="0" y="18"/>
                  </a:lnTo>
                  <a:lnTo>
                    <a:pt x="727" y="18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01280" y="3791520"/>
              <a:ext cx="365040" cy="709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70560" y="3799800"/>
              <a:ext cx="75240" cy="504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0000" y="3810960"/>
              <a:ext cx="40680" cy="3096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1" y="35"/>
                  </a:moveTo>
                  <a:lnTo>
                    <a:pt x="69" y="27"/>
                  </a:lnTo>
                  <a:lnTo>
                    <a:pt x="68" y="21"/>
                  </a:lnTo>
                  <a:lnTo>
                    <a:pt x="65" y="15"/>
                  </a:lnTo>
                  <a:lnTo>
                    <a:pt x="59" y="9"/>
                  </a:lnTo>
                  <a:lnTo>
                    <a:pt x="54" y="4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9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7" y="56"/>
                  </a:lnTo>
                  <a:lnTo>
                    <a:pt x="12" y="60"/>
                  </a:lnTo>
                  <a:lnTo>
                    <a:pt x="18" y="65"/>
                  </a:lnTo>
                  <a:lnTo>
                    <a:pt x="24" y="68"/>
                  </a:lnTo>
                  <a:lnTo>
                    <a:pt x="31" y="69"/>
                  </a:lnTo>
                  <a:lnTo>
                    <a:pt x="39" y="69"/>
                  </a:lnTo>
                  <a:lnTo>
                    <a:pt x="45" y="68"/>
                  </a:lnTo>
                  <a:lnTo>
                    <a:pt x="53" y="66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8" y="50"/>
                  </a:lnTo>
                  <a:lnTo>
                    <a:pt x="69" y="42"/>
                  </a:lnTo>
                  <a:lnTo>
                    <a:pt x="71" y="36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8320" y="3819240"/>
              <a:ext cx="41040" cy="309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37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5" y="16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5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5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2" y="63"/>
                  </a:lnTo>
                  <a:lnTo>
                    <a:pt x="18" y="67"/>
                  </a:lnTo>
                  <a:lnTo>
                    <a:pt x="24" y="70"/>
                  </a:lnTo>
                  <a:lnTo>
                    <a:pt x="32" y="72"/>
                  </a:lnTo>
                  <a:lnTo>
                    <a:pt x="40" y="72"/>
                  </a:lnTo>
                  <a:lnTo>
                    <a:pt x="46" y="70"/>
                  </a:lnTo>
                  <a:lnTo>
                    <a:pt x="53" y="67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8" y="52"/>
                  </a:lnTo>
                  <a:lnTo>
                    <a:pt x="70" y="44"/>
                  </a:lnTo>
                  <a:lnTo>
                    <a:pt x="71" y="37"/>
                  </a:lnTo>
                  <a:lnTo>
                    <a:pt x="71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08920" y="3819240"/>
              <a:ext cx="39960" cy="3096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70" y="37"/>
                  </a:moveTo>
                  <a:lnTo>
                    <a:pt x="70" y="29"/>
                  </a:lnTo>
                  <a:lnTo>
                    <a:pt x="67" y="22"/>
                  </a:lnTo>
                  <a:lnTo>
                    <a:pt x="64" y="16"/>
                  </a:lnTo>
                  <a:lnTo>
                    <a:pt x="59" y="9"/>
                  </a:lnTo>
                  <a:lnTo>
                    <a:pt x="53" y="5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5" y="70"/>
                  </a:lnTo>
                  <a:lnTo>
                    <a:pt x="31" y="72"/>
                  </a:lnTo>
                  <a:lnTo>
                    <a:pt x="38" y="72"/>
                  </a:lnTo>
                  <a:lnTo>
                    <a:pt x="46" y="70"/>
                  </a:lnTo>
                  <a:lnTo>
                    <a:pt x="52" y="67"/>
                  </a:lnTo>
                  <a:lnTo>
                    <a:pt x="58" y="63"/>
                  </a:lnTo>
                  <a:lnTo>
                    <a:pt x="64" y="58"/>
                  </a:lnTo>
                  <a:lnTo>
                    <a:pt x="67" y="52"/>
                  </a:lnTo>
                  <a:lnTo>
                    <a:pt x="70" y="44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605960" y="3689640"/>
              <a:ext cx="70560" cy="55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05960" y="3689640"/>
              <a:ext cx="70560" cy="5508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125" y="0"/>
                  </a:moveTo>
                  <a:lnTo>
                    <a:pt x="0" y="0"/>
                  </a:lnTo>
                  <a:lnTo>
                    <a:pt x="0" y="1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64560" y="3219840"/>
              <a:ext cx="432720" cy="42372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564560" y="3219480"/>
              <a:ext cx="1080" cy="423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564560" y="359208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1564560" y="350172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64560" y="3234960"/>
              <a:ext cx="432720" cy="158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97280" y="3219840"/>
              <a:ext cx="1080" cy="423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1564560" y="3219840"/>
              <a:ext cx="432720" cy="72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64560" y="3250800"/>
              <a:ext cx="432720" cy="163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31160" y="3431520"/>
              <a:ext cx="294120" cy="54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56360" y="3250800"/>
              <a:ext cx="233640" cy="4356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0" y="0"/>
                  </a:moveTo>
                  <a:lnTo>
                    <a:pt x="0" y="98"/>
                  </a:lnTo>
                  <a:lnTo>
                    <a:pt x="409" y="98"/>
                  </a:lnTo>
                  <a:lnTo>
                    <a:pt x="40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51680" y="3333240"/>
              <a:ext cx="161280" cy="6624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284" y="0"/>
                  </a:moveTo>
                  <a:lnTo>
                    <a:pt x="0" y="0"/>
                  </a:lnTo>
                  <a:lnTo>
                    <a:pt x="0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51680" y="3333240"/>
              <a:ext cx="161280" cy="6624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0" y="150"/>
                  </a:moveTo>
                  <a:lnTo>
                    <a:pt x="284" y="150"/>
                  </a:lnTo>
                  <a:lnTo>
                    <a:pt x="284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79680" y="3352680"/>
              <a:ext cx="386640" cy="19440"/>
            </a:xfrm>
            <a:custGeom>
              <a:avLst/>
              <a:gdLst/>
              <a:ahLst/>
              <a:rect l="l" t="t" r="r" b="b"/>
              <a:pathLst>
                <a:path w="675" h="44">
                  <a:moveTo>
                    <a:pt x="0" y="44"/>
                  </a:moveTo>
                  <a:lnTo>
                    <a:pt x="124" y="44"/>
                  </a:lnTo>
                  <a:lnTo>
                    <a:pt x="124" y="36"/>
                  </a:lnTo>
                  <a:lnTo>
                    <a:pt x="408" y="36"/>
                  </a:lnTo>
                  <a:lnTo>
                    <a:pt x="408" y="44"/>
                  </a:lnTo>
                  <a:lnTo>
                    <a:pt x="675" y="44"/>
                  </a:lnTo>
                  <a:lnTo>
                    <a:pt x="675" y="0"/>
                  </a:lnTo>
                  <a:lnTo>
                    <a:pt x="417" y="0"/>
                  </a:lnTo>
                  <a:lnTo>
                    <a:pt x="417" y="9"/>
                  </a:lnTo>
                  <a:lnTo>
                    <a:pt x="124" y="9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47800" y="3336840"/>
              <a:ext cx="20160" cy="583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132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18" y="9"/>
                  </a:lnTo>
                  <a:lnTo>
                    <a:pt x="9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76880" y="3341160"/>
              <a:ext cx="65160" cy="792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0" y="18"/>
                  </a:moveTo>
                  <a:lnTo>
                    <a:pt x="0" y="0"/>
                  </a:lnTo>
                  <a:lnTo>
                    <a:pt x="1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585440" y="3294360"/>
              <a:ext cx="29520" cy="1944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64560" y="332532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51680" y="3442320"/>
              <a:ext cx="248400" cy="31680"/>
            </a:xfrm>
            <a:custGeom>
              <a:avLst/>
              <a:gdLst/>
              <a:ahLst/>
              <a:rect l="l" t="t" r="r" b="b"/>
              <a:pathLst>
                <a:path w="436" h="71">
                  <a:moveTo>
                    <a:pt x="0" y="0"/>
                  </a:moveTo>
                  <a:lnTo>
                    <a:pt x="0" y="27"/>
                  </a:lnTo>
                  <a:lnTo>
                    <a:pt x="134" y="27"/>
                  </a:lnTo>
                  <a:lnTo>
                    <a:pt x="134" y="71"/>
                  </a:lnTo>
                  <a:lnTo>
                    <a:pt x="311" y="71"/>
                  </a:lnTo>
                  <a:lnTo>
                    <a:pt x="311" y="27"/>
                  </a:lnTo>
                  <a:lnTo>
                    <a:pt x="436" y="27"/>
                  </a:lnTo>
                  <a:lnTo>
                    <a:pt x="4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26920" y="3439800"/>
              <a:ext cx="1018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1691640" y="3466080"/>
              <a:ext cx="100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64800" y="3461760"/>
              <a:ext cx="35280" cy="12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11240" y="3333240"/>
              <a:ext cx="9000" cy="11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13"/>
                  </a:moveTo>
                  <a:lnTo>
                    <a:pt x="17" y="7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5" y="24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934320" y="4114800"/>
            <a:ext cx="772920" cy="1660320"/>
            <a:chOff x="6934320" y="4114800"/>
            <a:chExt cx="772920" cy="1660320"/>
          </a:xfrm>
        </p:grpSpPr>
        <p:sp>
          <p:nvSpPr>
            <p:cNvPr id="703" name=""/>
            <p:cNvSpPr/>
            <p:nvPr/>
          </p:nvSpPr>
          <p:spPr>
            <a:xfrm>
              <a:off x="6934320" y="5568840"/>
              <a:ext cx="772920" cy="206280"/>
            </a:xfrm>
            <a:custGeom>
              <a:avLst/>
              <a:gdLst/>
              <a:ahLst/>
              <a:rect l="l" t="t" r="r" b="b"/>
              <a:pathLst>
                <a:path w="1198" h="381">
                  <a:moveTo>
                    <a:pt x="0" y="381"/>
                  </a:moveTo>
                  <a:lnTo>
                    <a:pt x="45" y="88"/>
                  </a:lnTo>
                  <a:lnTo>
                    <a:pt x="143" y="0"/>
                  </a:lnTo>
                  <a:lnTo>
                    <a:pt x="1022" y="27"/>
                  </a:lnTo>
                  <a:lnTo>
                    <a:pt x="1128" y="79"/>
                  </a:lnTo>
                  <a:lnTo>
                    <a:pt x="1198" y="381"/>
                  </a:lnTo>
                  <a:lnTo>
                    <a:pt x="1066" y="309"/>
                  </a:lnTo>
                  <a:lnTo>
                    <a:pt x="124" y="309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4320" y="5684040"/>
              <a:ext cx="772920" cy="91080"/>
            </a:xfrm>
            <a:custGeom>
              <a:avLst/>
              <a:gdLst/>
              <a:ahLst/>
              <a:rect l="l" t="t" r="r" b="b"/>
              <a:pathLst>
                <a:path w="1198" h="169">
                  <a:moveTo>
                    <a:pt x="0" y="169"/>
                  </a:moveTo>
                  <a:lnTo>
                    <a:pt x="1198" y="169"/>
                  </a:lnTo>
                  <a:lnTo>
                    <a:pt x="1047" y="0"/>
                  </a:lnTo>
                  <a:lnTo>
                    <a:pt x="133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20720" y="4114800"/>
              <a:ext cx="119880" cy="1559520"/>
            </a:xfrm>
            <a:custGeom>
              <a:avLst/>
              <a:gdLst/>
              <a:ahLst/>
              <a:rect l="l" t="t" r="r" b="b"/>
              <a:pathLst>
                <a:path w="187" h="2873">
                  <a:moveTo>
                    <a:pt x="0" y="2864"/>
                  </a:moveTo>
                  <a:lnTo>
                    <a:pt x="19" y="2873"/>
                  </a:lnTo>
                  <a:lnTo>
                    <a:pt x="187" y="2873"/>
                  </a:lnTo>
                  <a:lnTo>
                    <a:pt x="187" y="0"/>
                  </a:lnTo>
                  <a:lnTo>
                    <a:pt x="19" y="0"/>
                  </a:lnTo>
                  <a:lnTo>
                    <a:pt x="0" y="27"/>
                  </a:lnTo>
                  <a:lnTo>
                    <a:pt x="0" y="28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29040" y="4114800"/>
              <a:ext cx="74880" cy="1559520"/>
            </a:xfrm>
            <a:custGeom>
              <a:avLst/>
              <a:gdLst/>
              <a:ahLst/>
              <a:rect l="l" t="t" r="r" b="b"/>
              <a:pathLst>
                <a:path w="115" h="2873">
                  <a:moveTo>
                    <a:pt x="0" y="2873"/>
                  </a:moveTo>
                  <a:lnTo>
                    <a:pt x="99" y="2873"/>
                  </a:lnTo>
                  <a:lnTo>
                    <a:pt x="115" y="2855"/>
                  </a:lnTo>
                  <a:lnTo>
                    <a:pt x="115" y="2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87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32600" y="4114800"/>
              <a:ext cx="560880" cy="155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49160" y="4114800"/>
              <a:ext cx="520920" cy="945720"/>
            </a:xfrm>
            <a:custGeom>
              <a:avLst/>
              <a:gdLst/>
              <a:ahLst/>
              <a:rect l="l" t="t" r="r" b="b"/>
              <a:pathLst>
                <a:path w="808" h="1742">
                  <a:moveTo>
                    <a:pt x="0" y="0"/>
                  </a:moveTo>
                  <a:lnTo>
                    <a:pt x="0" y="1706"/>
                  </a:lnTo>
                  <a:lnTo>
                    <a:pt x="46" y="1742"/>
                  </a:lnTo>
                  <a:lnTo>
                    <a:pt x="143" y="1742"/>
                  </a:lnTo>
                  <a:lnTo>
                    <a:pt x="143" y="1645"/>
                  </a:lnTo>
                  <a:lnTo>
                    <a:pt x="169" y="1609"/>
                  </a:lnTo>
                  <a:lnTo>
                    <a:pt x="649" y="1609"/>
                  </a:lnTo>
                  <a:lnTo>
                    <a:pt x="684" y="1645"/>
                  </a:lnTo>
                  <a:lnTo>
                    <a:pt x="684" y="1742"/>
                  </a:lnTo>
                  <a:lnTo>
                    <a:pt x="782" y="1742"/>
                  </a:lnTo>
                  <a:lnTo>
                    <a:pt x="808" y="1715"/>
                  </a:lnTo>
                  <a:lnTo>
                    <a:pt x="8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89080" y="5074560"/>
              <a:ext cx="1080" cy="599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40600" y="5074560"/>
              <a:ext cx="1080" cy="599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920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15480" y="5002920"/>
              <a:ext cx="1008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3744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604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8424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07280" y="5002920"/>
              <a:ext cx="1008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0320" y="5002920"/>
              <a:ext cx="1044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522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7568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9872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206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443720" y="5002560"/>
              <a:ext cx="1440" cy="66132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72200" y="4825080"/>
              <a:ext cx="469440" cy="114840"/>
            </a:xfrm>
            <a:custGeom>
              <a:avLst/>
              <a:gdLst/>
              <a:ahLst/>
              <a:rect l="l" t="t" r="r" b="b"/>
              <a:pathLst>
                <a:path w="727" h="213">
                  <a:moveTo>
                    <a:pt x="727" y="0"/>
                  </a:moveTo>
                  <a:lnTo>
                    <a:pt x="0" y="0"/>
                  </a:lnTo>
                  <a:lnTo>
                    <a:pt x="0" y="213"/>
                  </a:lnTo>
                  <a:lnTo>
                    <a:pt x="62" y="213"/>
                  </a:lnTo>
                  <a:lnTo>
                    <a:pt x="62" y="37"/>
                  </a:lnTo>
                  <a:lnTo>
                    <a:pt x="683" y="19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72200" y="4930200"/>
              <a:ext cx="469440" cy="9360"/>
            </a:xfrm>
            <a:custGeom>
              <a:avLst/>
              <a:gdLst/>
              <a:ahLst/>
              <a:rect l="l" t="t" r="r" b="b"/>
              <a:pathLst>
                <a:path w="727" h="18">
                  <a:moveTo>
                    <a:pt x="683" y="0"/>
                  </a:moveTo>
                  <a:lnTo>
                    <a:pt x="62" y="0"/>
                  </a:lnTo>
                  <a:lnTo>
                    <a:pt x="0" y="18"/>
                  </a:lnTo>
                  <a:lnTo>
                    <a:pt x="727" y="18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7120" y="4839120"/>
              <a:ext cx="411480" cy="86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10600" y="4848840"/>
              <a:ext cx="84960" cy="615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32560" y="4862880"/>
              <a:ext cx="46080" cy="3816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1" y="35"/>
                  </a:moveTo>
                  <a:lnTo>
                    <a:pt x="69" y="27"/>
                  </a:lnTo>
                  <a:lnTo>
                    <a:pt x="68" y="21"/>
                  </a:lnTo>
                  <a:lnTo>
                    <a:pt x="65" y="15"/>
                  </a:lnTo>
                  <a:lnTo>
                    <a:pt x="59" y="9"/>
                  </a:lnTo>
                  <a:lnTo>
                    <a:pt x="54" y="4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9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7" y="56"/>
                  </a:lnTo>
                  <a:lnTo>
                    <a:pt x="12" y="60"/>
                  </a:lnTo>
                  <a:lnTo>
                    <a:pt x="18" y="65"/>
                  </a:lnTo>
                  <a:lnTo>
                    <a:pt x="24" y="68"/>
                  </a:lnTo>
                  <a:lnTo>
                    <a:pt x="31" y="69"/>
                  </a:lnTo>
                  <a:lnTo>
                    <a:pt x="39" y="69"/>
                  </a:lnTo>
                  <a:lnTo>
                    <a:pt x="45" y="68"/>
                  </a:lnTo>
                  <a:lnTo>
                    <a:pt x="53" y="66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8" y="50"/>
                  </a:lnTo>
                  <a:lnTo>
                    <a:pt x="69" y="42"/>
                  </a:lnTo>
                  <a:lnTo>
                    <a:pt x="71" y="36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95400" y="4872600"/>
              <a:ext cx="46440" cy="3780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37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5" y="16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5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5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2" y="63"/>
                  </a:lnTo>
                  <a:lnTo>
                    <a:pt x="18" y="67"/>
                  </a:lnTo>
                  <a:lnTo>
                    <a:pt x="24" y="70"/>
                  </a:lnTo>
                  <a:lnTo>
                    <a:pt x="32" y="72"/>
                  </a:lnTo>
                  <a:lnTo>
                    <a:pt x="40" y="72"/>
                  </a:lnTo>
                  <a:lnTo>
                    <a:pt x="46" y="70"/>
                  </a:lnTo>
                  <a:lnTo>
                    <a:pt x="53" y="67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8" y="52"/>
                  </a:lnTo>
                  <a:lnTo>
                    <a:pt x="70" y="44"/>
                  </a:lnTo>
                  <a:lnTo>
                    <a:pt x="71" y="37"/>
                  </a:lnTo>
                  <a:lnTo>
                    <a:pt x="71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28440" y="4872600"/>
              <a:ext cx="45000" cy="3780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70" y="37"/>
                  </a:moveTo>
                  <a:lnTo>
                    <a:pt x="70" y="29"/>
                  </a:lnTo>
                  <a:lnTo>
                    <a:pt x="67" y="22"/>
                  </a:lnTo>
                  <a:lnTo>
                    <a:pt x="64" y="16"/>
                  </a:lnTo>
                  <a:lnTo>
                    <a:pt x="59" y="9"/>
                  </a:lnTo>
                  <a:lnTo>
                    <a:pt x="53" y="5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5" y="70"/>
                  </a:lnTo>
                  <a:lnTo>
                    <a:pt x="31" y="72"/>
                  </a:lnTo>
                  <a:lnTo>
                    <a:pt x="38" y="72"/>
                  </a:lnTo>
                  <a:lnTo>
                    <a:pt x="46" y="70"/>
                  </a:lnTo>
                  <a:lnTo>
                    <a:pt x="52" y="67"/>
                  </a:lnTo>
                  <a:lnTo>
                    <a:pt x="58" y="63"/>
                  </a:lnTo>
                  <a:lnTo>
                    <a:pt x="64" y="58"/>
                  </a:lnTo>
                  <a:lnTo>
                    <a:pt x="67" y="52"/>
                  </a:lnTo>
                  <a:lnTo>
                    <a:pt x="70" y="44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12160" y="4714200"/>
              <a:ext cx="79560" cy="67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12160" y="4714200"/>
              <a:ext cx="79560" cy="6732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125" y="0"/>
                  </a:moveTo>
                  <a:lnTo>
                    <a:pt x="0" y="0"/>
                  </a:lnTo>
                  <a:lnTo>
                    <a:pt x="0" y="1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65720" y="4138560"/>
              <a:ext cx="487440" cy="51912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065720" y="4138560"/>
              <a:ext cx="1440" cy="519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065720" y="4594680"/>
              <a:ext cx="4874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065720" y="4483800"/>
              <a:ext cx="4874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65720" y="4156920"/>
              <a:ext cx="487440" cy="19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53520" y="4138560"/>
              <a:ext cx="1440" cy="519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5720" y="4138560"/>
              <a:ext cx="4874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5720" y="4176360"/>
              <a:ext cx="487440" cy="2008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40600" y="4398120"/>
              <a:ext cx="331200" cy="66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69040" y="4176360"/>
              <a:ext cx="263160" cy="5328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0" y="0"/>
                  </a:moveTo>
                  <a:lnTo>
                    <a:pt x="0" y="98"/>
                  </a:lnTo>
                  <a:lnTo>
                    <a:pt x="409" y="98"/>
                  </a:lnTo>
                  <a:lnTo>
                    <a:pt x="40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3640" y="4277520"/>
              <a:ext cx="181800" cy="8100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284" y="0"/>
                  </a:moveTo>
                  <a:lnTo>
                    <a:pt x="0" y="0"/>
                  </a:lnTo>
                  <a:lnTo>
                    <a:pt x="0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63640" y="4277520"/>
              <a:ext cx="181800" cy="8100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0" y="150"/>
                  </a:moveTo>
                  <a:lnTo>
                    <a:pt x="284" y="150"/>
                  </a:lnTo>
                  <a:lnTo>
                    <a:pt x="284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82640" y="4301640"/>
              <a:ext cx="435600" cy="23760"/>
            </a:xfrm>
            <a:custGeom>
              <a:avLst/>
              <a:gdLst/>
              <a:ahLst/>
              <a:rect l="l" t="t" r="r" b="b"/>
              <a:pathLst>
                <a:path w="675" h="44">
                  <a:moveTo>
                    <a:pt x="0" y="44"/>
                  </a:moveTo>
                  <a:lnTo>
                    <a:pt x="124" y="44"/>
                  </a:lnTo>
                  <a:lnTo>
                    <a:pt x="124" y="36"/>
                  </a:lnTo>
                  <a:lnTo>
                    <a:pt x="408" y="36"/>
                  </a:lnTo>
                  <a:lnTo>
                    <a:pt x="408" y="44"/>
                  </a:lnTo>
                  <a:lnTo>
                    <a:pt x="675" y="44"/>
                  </a:lnTo>
                  <a:lnTo>
                    <a:pt x="675" y="0"/>
                  </a:lnTo>
                  <a:lnTo>
                    <a:pt x="417" y="0"/>
                  </a:lnTo>
                  <a:lnTo>
                    <a:pt x="417" y="9"/>
                  </a:lnTo>
                  <a:lnTo>
                    <a:pt x="124" y="9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2360" y="4281840"/>
              <a:ext cx="23040" cy="7164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132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18" y="9"/>
                  </a:lnTo>
                  <a:lnTo>
                    <a:pt x="9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92080" y="4287240"/>
              <a:ext cx="73440" cy="972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0" y="18"/>
                  </a:moveTo>
                  <a:lnTo>
                    <a:pt x="0" y="0"/>
                  </a:lnTo>
                  <a:lnTo>
                    <a:pt x="1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89120" y="4230000"/>
              <a:ext cx="33120" cy="237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65720" y="4267800"/>
              <a:ext cx="4874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3640" y="4411080"/>
              <a:ext cx="279720" cy="38880"/>
            </a:xfrm>
            <a:custGeom>
              <a:avLst/>
              <a:gdLst/>
              <a:ahLst/>
              <a:rect l="l" t="t" r="r" b="b"/>
              <a:pathLst>
                <a:path w="436" h="71">
                  <a:moveTo>
                    <a:pt x="0" y="0"/>
                  </a:moveTo>
                  <a:lnTo>
                    <a:pt x="0" y="27"/>
                  </a:lnTo>
                  <a:lnTo>
                    <a:pt x="134" y="27"/>
                  </a:lnTo>
                  <a:lnTo>
                    <a:pt x="134" y="71"/>
                  </a:lnTo>
                  <a:lnTo>
                    <a:pt x="311" y="71"/>
                  </a:lnTo>
                  <a:lnTo>
                    <a:pt x="311" y="27"/>
                  </a:lnTo>
                  <a:lnTo>
                    <a:pt x="436" y="27"/>
                  </a:lnTo>
                  <a:lnTo>
                    <a:pt x="4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48960" y="4407840"/>
              <a:ext cx="1148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208640" y="4440600"/>
              <a:ext cx="1116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04120" y="4435200"/>
              <a:ext cx="39600" cy="15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456680" y="4277520"/>
              <a:ext cx="10440" cy="136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13"/>
                  </a:moveTo>
                  <a:lnTo>
                    <a:pt x="17" y="7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5" y="24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2324160" y="3352680"/>
            <a:ext cx="1485720" cy="1067040"/>
          </a:xfrm>
          <a:prstGeom prst="wedgeRoundRectCallout">
            <a:avLst>
              <a:gd name="adj1" fmla="val -79379"/>
              <a:gd name="adj2" fmla="val 22916"/>
              <a:gd name="adj3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4800600"/>
            <a:ext cx="1524240" cy="1066680"/>
          </a:xfrm>
          <a:prstGeom prst="wedgeRoundRectCallout">
            <a:avLst>
              <a:gd name="adj1" fmla="val 110314"/>
              <a:gd name="adj2" fmla="val -49851"/>
              <a:gd name="adj3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70920" y="454968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146.86.5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533640" y="57513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161.25.1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90920" y="3505320"/>
            <a:ext cx="8380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029200" y="502920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352680" y="3809880"/>
            <a:ext cx="152640" cy="15264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429000" y="3809880"/>
            <a:ext cx="1600200" cy="1219320"/>
          </a:xfrm>
          <a:custGeom>
            <a:avLst/>
            <a:gdLst/>
            <a:ahLst/>
            <a:rect l="l" t="t" r="r" b="b"/>
            <a:pathLst>
              <a:path w="592" h="768">
                <a:moveTo>
                  <a:pt x="0" y="48"/>
                </a:moveTo>
                <a:cubicBezTo>
                  <a:pt x="104" y="24"/>
                  <a:pt x="208" y="0"/>
                  <a:pt x="240" y="48"/>
                </a:cubicBezTo>
                <a:cubicBezTo>
                  <a:pt x="272" y="96"/>
                  <a:pt x="144" y="272"/>
                  <a:pt x="192" y="336"/>
                </a:cubicBezTo>
                <a:cubicBezTo>
                  <a:pt x="240" y="400"/>
                  <a:pt x="464" y="360"/>
                  <a:pt x="528" y="432"/>
                </a:cubicBezTo>
                <a:cubicBezTo>
                  <a:pt x="592" y="504"/>
                  <a:pt x="584" y="636"/>
                  <a:pt x="576" y="76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505320" y="3193920"/>
            <a:ext cx="2784240" cy="615960"/>
            <a:chOff x="3505320" y="3193920"/>
            <a:chExt cx="2784240" cy="615960"/>
          </a:xfrm>
        </p:grpSpPr>
        <p:sp>
          <p:nvSpPr>
            <p:cNvPr id="764" name=""/>
            <p:cNvSpPr/>
            <p:nvPr/>
          </p:nvSpPr>
          <p:spPr>
            <a:xfrm>
              <a:off x="4013280" y="319392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ahoma"/>
                </a:rPr>
                <a:t>146.86.5.20, 16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05320" y="3429000"/>
              <a:ext cx="53316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cubicBezTo>
                    <a:pt x="268" y="28"/>
                    <a:pt x="200" y="56"/>
                    <a:pt x="144" y="96"/>
                  </a:cubicBezTo>
                  <a:cubicBezTo>
                    <a:pt x="88" y="136"/>
                    <a:pt x="44" y="188"/>
                    <a:pt x="0" y="24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574000" y="5029200"/>
            <a:ext cx="2378880" cy="621000"/>
            <a:chOff x="2574000" y="5029200"/>
            <a:chExt cx="2378880" cy="621000"/>
          </a:xfrm>
        </p:grpSpPr>
        <p:sp>
          <p:nvSpPr>
            <p:cNvPr id="767" name=""/>
            <p:cNvSpPr/>
            <p:nvPr/>
          </p:nvSpPr>
          <p:spPr>
            <a:xfrm>
              <a:off x="2574000" y="5251320"/>
              <a:ext cx="198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ahoma"/>
                </a:rPr>
                <a:t>161.25.19.8, 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19720" y="502920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92"/>
                  </a:moveTo>
                  <a:cubicBezTo>
                    <a:pt x="44" y="136"/>
                    <a:pt x="88" y="80"/>
                    <a:pt x="144" y="48"/>
                  </a:cubicBezTo>
                  <a:cubicBezTo>
                    <a:pt x="200" y="16"/>
                    <a:pt x="268" y="8"/>
                    <a:pt x="336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6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5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I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2362320"/>
            <a:ext cx="106704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3640" y="379332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79720" y="45550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2" idx="6"/>
            <a:endCxn id="773" idx="2"/>
          </p:cNvCxnSpPr>
          <p:nvPr/>
        </p:nvCxnSpPr>
        <p:spPr>
          <a:xfrm>
            <a:off x="1837800" y="2628720"/>
            <a:ext cx="1048320" cy="1080"/>
          </a:xfrm>
          <a:prstGeom prst="straightConnector1">
            <a:avLst/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777" name=""/>
          <p:cNvCxnSpPr>
            <a:stCxn id="772" idx="4"/>
            <a:endCxn id="778" idx="0"/>
          </p:cNvCxnSpPr>
          <p:nvPr/>
        </p:nvCxnSpPr>
        <p:spPr>
          <a:xfrm flipH="1">
            <a:off x="1248840" y="2905200"/>
            <a:ext cx="46800" cy="7531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79" name=""/>
          <p:cNvSpPr/>
          <p:nvPr/>
        </p:nvSpPr>
        <p:spPr>
          <a:xfrm>
            <a:off x="665280" y="304740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VC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0880" y="356868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4254480"/>
            <a:ext cx="381024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"/>
          <p:cNvCxnSpPr>
            <a:stCxn id="773" idx="4"/>
            <a:endCxn id="778" idx="1"/>
          </p:cNvCxnSpPr>
          <p:nvPr/>
        </p:nvCxnSpPr>
        <p:spPr>
          <a:xfrm>
            <a:off x="3428640" y="2905200"/>
            <a:ext cx="34200" cy="829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82" name=""/>
          <p:cNvSpPr/>
          <p:nvPr/>
        </p:nvSpPr>
        <p:spPr>
          <a:xfrm>
            <a:off x="2814480" y="30376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VC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2895480"/>
            <a:ext cx="106704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96" y="0"/>
                </a:moveTo>
                <a:cubicBezTo>
                  <a:pt x="48" y="196"/>
                  <a:pt x="0" y="392"/>
                  <a:pt x="48" y="480"/>
                </a:cubicBezTo>
                <a:cubicBezTo>
                  <a:pt x="96" y="568"/>
                  <a:pt x="280" y="512"/>
                  <a:pt x="384" y="528"/>
                </a:cubicBezTo>
                <a:cubicBezTo>
                  <a:pt x="488" y="544"/>
                  <a:pt x="580" y="560"/>
                  <a:pt x="672" y="57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38280" y="2819520"/>
            <a:ext cx="927360" cy="1054080"/>
          </a:xfrm>
          <a:custGeom>
            <a:avLst/>
            <a:gdLst/>
            <a:ahLst/>
            <a:rect l="l" t="t" r="r" b="b"/>
            <a:pathLst>
              <a:path w="584" h="664">
                <a:moveTo>
                  <a:pt x="0" y="624"/>
                </a:moveTo>
                <a:cubicBezTo>
                  <a:pt x="100" y="600"/>
                  <a:pt x="200" y="576"/>
                  <a:pt x="288" y="576"/>
                </a:cubicBezTo>
                <a:cubicBezTo>
                  <a:pt x="376" y="576"/>
                  <a:pt x="480" y="664"/>
                  <a:pt x="528" y="624"/>
                </a:cubicBezTo>
                <a:cubicBezTo>
                  <a:pt x="576" y="584"/>
                  <a:pt x="568" y="440"/>
                  <a:pt x="576" y="336"/>
                </a:cubicBezTo>
                <a:cubicBezTo>
                  <a:pt x="584" y="232"/>
                  <a:pt x="580" y="116"/>
                  <a:pt x="576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28480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41852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96320" y="478368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02400" y="55458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5" idx="6"/>
            <a:endCxn id="786" idx="2"/>
          </p:cNvCxnSpPr>
          <p:nvPr/>
        </p:nvCxnSpPr>
        <p:spPr>
          <a:xfrm>
            <a:off x="6361200" y="2628720"/>
            <a:ext cx="1048320" cy="1080"/>
          </a:xfrm>
          <a:prstGeom prst="straightConnector1">
            <a:avLst/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790" name=""/>
          <p:cNvCxnSpPr>
            <a:stCxn id="785" idx="4"/>
            <a:endCxn id="791" idx="0"/>
          </p:cNvCxnSpPr>
          <p:nvPr/>
        </p:nvCxnSpPr>
        <p:spPr>
          <a:xfrm>
            <a:off x="5818320" y="2904840"/>
            <a:ext cx="70200" cy="9183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2" name=""/>
          <p:cNvSpPr/>
          <p:nvPr/>
        </p:nvSpPr>
        <p:spPr>
          <a:xfrm>
            <a:off x="5221440" y="31377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03920" y="455940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03920" y="5245200"/>
            <a:ext cx="380988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64480" y="395820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Midd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29200" y="373392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"/>
          <p:cNvCxnSpPr>
            <a:stCxn id="791" idx="1"/>
            <a:endCxn id="786" idx="4"/>
          </p:cNvCxnSpPr>
          <p:nvPr/>
        </p:nvCxnSpPr>
        <p:spPr>
          <a:xfrm flipV="1">
            <a:off x="7681680" y="2904480"/>
            <a:ext cx="270360" cy="8420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7696080" y="313776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1880" y="525672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: Socket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867280" y="4343400"/>
            <a:ext cx="76320" cy="4572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7467480" y="4343400"/>
            <a:ext cx="76320" cy="4572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248520" y="220896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057400" y="2438280"/>
            <a:ext cx="533160" cy="304920"/>
            <a:chOff x="2057400" y="2438280"/>
            <a:chExt cx="533160" cy="304920"/>
          </a:xfrm>
        </p:grpSpPr>
        <p:grpSp>
          <p:nvGrpSpPr>
            <p:cNvPr id="803" name=""/>
            <p:cNvGrpSpPr/>
            <p:nvPr/>
          </p:nvGrpSpPr>
          <p:grpSpPr>
            <a:xfrm>
              <a:off x="2057400" y="2438280"/>
              <a:ext cx="533160" cy="304920"/>
              <a:chOff x="2057400" y="2438280"/>
              <a:chExt cx="533160" cy="304920"/>
            </a:xfrm>
          </p:grpSpPr>
          <p:sp>
            <p:nvSpPr>
              <p:cNvPr id="804" name=""/>
              <p:cNvSpPr/>
              <p:nvPr/>
            </p:nvSpPr>
            <p:spPr>
              <a:xfrm>
                <a:off x="2057400" y="2438280"/>
                <a:ext cx="533160" cy="3049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449440" y="2481120"/>
                <a:ext cx="76320" cy="7632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2116440" y="2559960"/>
              <a:ext cx="296280" cy="121680"/>
              <a:chOff x="2116440" y="2559960"/>
              <a:chExt cx="296280" cy="121680"/>
            </a:xfrm>
          </p:grpSpPr>
          <p:sp>
            <p:nvSpPr>
              <p:cNvPr id="807" name=""/>
              <p:cNvSpPr/>
              <p:nvPr/>
            </p:nvSpPr>
            <p:spPr>
              <a:xfrm>
                <a:off x="2116440" y="2559960"/>
                <a:ext cx="296280" cy="4068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116440" y="2641320"/>
                <a:ext cx="222120" cy="4032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500"/>
                            </p:stCondLst>
                            <p:childTnLst>
                              <p:par>
                                <p:cTn id="1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50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mote Method Inv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MG  (Object Management Group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ributed Component Object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2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5" dur="5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8" dur="5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1" dur="500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4" dur="500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7" dur="500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0" dur="500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3" dur="500"/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6" dur="500"/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876920" y="1447920"/>
            <a:ext cx="3733560" cy="4647960"/>
          </a:xfrm>
          <a:prstGeom prst="ellipse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20" y="1447920"/>
            <a:ext cx="3809880" cy="4647960"/>
          </a:xfrm>
          <a:prstGeom prst="ellipse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 = RPC_xyz(args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Procedure Call (R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1066680" y="3200400"/>
            <a:ext cx="2895840" cy="22096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xyz (ar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marshal xyz, ar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S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marshal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562720" y="3276720"/>
            <a:ext cx="2514600" cy="2286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skeleto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marshal proc, ar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 = proc (arg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marshal 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C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29400" y="2438280"/>
            <a:ext cx="1600200" cy="68580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 xyz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2819520" y="4038480"/>
            <a:ext cx="2895480" cy="152640"/>
          </a:xfrm>
          <a:prstGeom prst="line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72400" y="2590920"/>
            <a:ext cx="1143000" cy="2247840"/>
          </a:xfrm>
          <a:custGeom>
            <a:avLst/>
            <a:gdLst/>
            <a:ahLst/>
            <a:rect l="l" t="t" r="r" b="b"/>
            <a:pathLst>
              <a:path w="720" h="1416">
                <a:moveTo>
                  <a:pt x="0" y="1248"/>
                </a:moveTo>
                <a:cubicBezTo>
                  <a:pt x="156" y="1332"/>
                  <a:pt x="312" y="1416"/>
                  <a:pt x="432" y="1248"/>
                </a:cubicBezTo>
                <a:cubicBezTo>
                  <a:pt x="552" y="1080"/>
                  <a:pt x="720" y="448"/>
                  <a:pt x="720" y="240"/>
                </a:cubicBezTo>
                <a:cubicBezTo>
                  <a:pt x="720" y="32"/>
                  <a:pt x="576" y="16"/>
                  <a:pt x="432" y="0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848720" y="2692440"/>
            <a:ext cx="685800" cy="2247840"/>
          </a:xfrm>
          <a:custGeom>
            <a:avLst/>
            <a:gdLst/>
            <a:ahLst/>
            <a:rect l="l" t="t" r="r" b="b"/>
            <a:pathLst>
              <a:path w="432" h="1416">
                <a:moveTo>
                  <a:pt x="0" y="176"/>
                </a:moveTo>
                <a:cubicBezTo>
                  <a:pt x="168" y="88"/>
                  <a:pt x="336" y="0"/>
                  <a:pt x="384" y="176"/>
                </a:cubicBezTo>
                <a:cubicBezTo>
                  <a:pt x="432" y="352"/>
                  <a:pt x="352" y="1048"/>
                  <a:pt x="288" y="1232"/>
                </a:cubicBezTo>
                <a:cubicBezTo>
                  <a:pt x="224" y="1416"/>
                  <a:pt x="112" y="1348"/>
                  <a:pt x="0" y="1280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3276360" y="4495680"/>
            <a:ext cx="2438280" cy="609840"/>
          </a:xfrm>
          <a:prstGeom prst="line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040" y="2502000"/>
            <a:ext cx="571680" cy="850680"/>
          </a:xfrm>
          <a:custGeom>
            <a:avLst/>
            <a:gdLst/>
            <a:ahLst/>
            <a:rect l="l" t="t" r="r" b="b"/>
            <a:pathLst>
              <a:path w="360" h="784">
                <a:moveTo>
                  <a:pt x="312" y="56"/>
                </a:moveTo>
                <a:cubicBezTo>
                  <a:pt x="180" y="28"/>
                  <a:pt x="48" y="0"/>
                  <a:pt x="24" y="104"/>
                </a:cubicBezTo>
                <a:cubicBezTo>
                  <a:pt x="0" y="208"/>
                  <a:pt x="112" y="576"/>
                  <a:pt x="168" y="680"/>
                </a:cubicBezTo>
                <a:cubicBezTo>
                  <a:pt x="224" y="784"/>
                  <a:pt x="292" y="756"/>
                  <a:pt x="360" y="728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8600" y="2654280"/>
            <a:ext cx="914400" cy="2603520"/>
          </a:xfrm>
          <a:custGeom>
            <a:avLst/>
            <a:gdLst/>
            <a:ahLst/>
            <a:rect l="l" t="t" r="r" b="b"/>
            <a:pathLst>
              <a:path w="576" h="1832">
                <a:moveTo>
                  <a:pt x="576" y="1648"/>
                </a:moveTo>
                <a:cubicBezTo>
                  <a:pt x="404" y="1740"/>
                  <a:pt x="232" y="1832"/>
                  <a:pt x="144" y="1600"/>
                </a:cubicBezTo>
                <a:cubicBezTo>
                  <a:pt x="56" y="1368"/>
                  <a:pt x="0" y="512"/>
                  <a:pt x="48" y="256"/>
                </a:cubicBezTo>
                <a:cubicBezTo>
                  <a:pt x="96" y="0"/>
                  <a:pt x="264" y="32"/>
                  <a:pt x="432" y="64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3809880" y="5486040"/>
            <a:ext cx="2514600" cy="609840"/>
            <a:chOff x="3809880" y="5486040"/>
            <a:chExt cx="2514600" cy="609840"/>
          </a:xfrm>
        </p:grpSpPr>
        <p:sp>
          <p:nvSpPr>
            <p:cNvPr id="824" name=""/>
            <p:cNvSpPr/>
            <p:nvPr/>
          </p:nvSpPr>
          <p:spPr>
            <a:xfrm>
              <a:off x="3809880" y="5638680"/>
              <a:ext cx="11574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25333" y="-15450"/>
                  </a:moveTo>
                  <a:lnTo>
                    <a:pt x="-1422" y="5400"/>
                  </a:lnTo>
                </a:path>
                <a:path w="21600" h="21600">
                  <a:moveTo>
                    <a:pt x="-1422" y="0"/>
                  </a:moveTo>
                  <a:lnTo>
                    <a:pt x="-1422" y="21600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9200" y="5638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5029200" y="5486040"/>
              <a:ext cx="12952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"/>
                            </p:stCondLst>
                            <p:childTnLst>
                              <p:par>
                                <p:cTn id="1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Procedure Ca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fferences in data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chine-independent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XDR (eXternal Data Repres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Serv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xed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me Server / Matchm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Method Inv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 is a Java mechanism similar to RP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 allows a Java program on one machine to invoke a method on a remote o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rcRect l="479" t="24295" r="479" b="24745"/>
          <a:stretch/>
        </p:blipFill>
        <p:spPr>
          <a:xfrm>
            <a:off x="1143000" y="3505320"/>
            <a:ext cx="690876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ic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lnSpc>
                <a:spcPct val="20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se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tination, ms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ce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sour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L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al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MI: Archite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2557440" y="1905120"/>
            <a:ext cx="1447920" cy="6858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00600" y="1905120"/>
            <a:ext cx="1447920" cy="6858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09680" y="3581280"/>
            <a:ext cx="2133720" cy="60984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343400" y="3581280"/>
            <a:ext cx="2362320" cy="60984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09680" y="4191120"/>
            <a:ext cx="4496040" cy="60948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te reference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209680" y="4800600"/>
            <a:ext cx="4496040" cy="60948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33" idx="4"/>
            <a:endCxn id="835" idx="0"/>
          </p:cNvCxnSpPr>
          <p:nvPr/>
        </p:nvCxnSpPr>
        <p:spPr>
          <a:xfrm flipH="1">
            <a:off x="3276000" y="2599920"/>
            <a:ext cx="5400" cy="972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0" name=""/>
          <p:cNvCxnSpPr>
            <a:stCxn id="834" idx="4"/>
            <a:endCxn id="836" idx="0"/>
          </p:cNvCxnSpPr>
          <p:nvPr/>
        </p:nvCxnSpPr>
        <p:spPr>
          <a:xfrm>
            <a:off x="5524200" y="2599920"/>
            <a:ext cx="1080" cy="972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assic Synchr. Probl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ization via I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depends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/ 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ing / Non-blocking Send/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517920" y="3025800"/>
            <a:ext cx="182880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87720" y="3095640"/>
            <a:ext cx="83844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657720" y="1675440"/>
            <a:ext cx="369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rect Addressing (mailb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48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50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3" name=""/>
          <p:cNvSpPr/>
          <p:nvPr/>
        </p:nvSpPr>
        <p:spPr>
          <a:xfrm>
            <a:off x="762120" y="31240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in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67280" y="31240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in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74000" y="1523880"/>
            <a:ext cx="774720" cy="128916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192800" y="1641600"/>
            <a:ext cx="774720" cy="12888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07160" y="2057400"/>
            <a:ext cx="774720" cy="128916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957200">
            <a:off x="7221960" y="2208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60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62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"/>
          <p:cNvGrpSpPr/>
          <p:nvPr/>
        </p:nvGrpSpPr>
        <p:grpSpPr>
          <a:xfrm>
            <a:off x="2514600" y="3886200"/>
            <a:ext cx="838080" cy="457200"/>
            <a:chOff x="2514600" y="3886200"/>
            <a:chExt cx="838080" cy="457200"/>
          </a:xfrm>
        </p:grpSpPr>
        <p:sp>
          <p:nvSpPr>
            <p:cNvPr id="866" name=""/>
            <p:cNvSpPr/>
            <p:nvPr/>
          </p:nvSpPr>
          <p:spPr>
            <a:xfrm>
              <a:off x="2514600" y="38862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3177720" y="3929040"/>
              <a:ext cx="128880" cy="128160"/>
              <a:chOff x="3177720" y="3929040"/>
              <a:chExt cx="128880" cy="128160"/>
            </a:xfrm>
          </p:grpSpPr>
          <p:sp>
            <p:nvSpPr>
              <p:cNvPr id="868" name=""/>
              <p:cNvSpPr/>
              <p:nvPr/>
            </p:nvSpPr>
            <p:spPr>
              <a:xfrm>
                <a:off x="3177720" y="39290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82760" y="39333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220560" y="39474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1" name=""/>
          <p:cNvSpPr/>
          <p:nvPr/>
        </p:nvSpPr>
        <p:spPr>
          <a:xfrm>
            <a:off x="7696080" y="4038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4038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3520" y="46483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76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78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1" name=""/>
          <p:cNvGrpSpPr/>
          <p:nvPr/>
        </p:nvGrpSpPr>
        <p:grpSpPr>
          <a:xfrm>
            <a:off x="3505320" y="3116160"/>
            <a:ext cx="1682640" cy="298440"/>
            <a:chOff x="3505320" y="3116160"/>
            <a:chExt cx="1682640" cy="298440"/>
          </a:xfrm>
        </p:grpSpPr>
        <p:sp>
          <p:nvSpPr>
            <p:cNvPr id="882" name=""/>
            <p:cNvSpPr/>
            <p:nvPr/>
          </p:nvSpPr>
          <p:spPr>
            <a:xfrm>
              <a:off x="3517920" y="3116160"/>
              <a:ext cx="1670040" cy="13320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96" y="0"/>
                  </a:moveTo>
                  <a:lnTo>
                    <a:pt x="0" y="96"/>
                  </a:lnTo>
                  <a:lnTo>
                    <a:pt x="1008" y="96"/>
                  </a:lnTo>
                  <a:lnTo>
                    <a:pt x="1104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81280" y="3255840"/>
              <a:ext cx="1524240" cy="158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05320" y="3255840"/>
              <a:ext cx="1600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962520" y="3124080"/>
            <a:ext cx="83808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159040" y="3624840"/>
            <a:ext cx="831600" cy="398880"/>
          </a:xfrm>
          <a:prstGeom prst="borderCallout1">
            <a:avLst>
              <a:gd name="adj1" fmla="val 18750"/>
              <a:gd name="adj2" fmla="val -8333"/>
              <a:gd name="adj3" fmla="val 137148"/>
              <a:gd name="adj4" fmla="val -32148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5867280" y="3124080"/>
            <a:ext cx="3098160" cy="2743200"/>
            <a:chOff x="5867280" y="3124080"/>
            <a:chExt cx="3098160" cy="2743200"/>
          </a:xfrm>
        </p:grpSpPr>
        <p:sp>
          <p:nvSpPr>
            <p:cNvPr id="888" name=""/>
            <p:cNvSpPr/>
            <p:nvPr/>
          </p:nvSpPr>
          <p:spPr>
            <a:xfrm>
              <a:off x="7701120" y="4038480"/>
              <a:ext cx="457200" cy="304920"/>
            </a:xfrm>
            <a:prstGeom prst="leftArrow">
              <a:avLst>
                <a:gd name="adj1" fmla="val 50000"/>
                <a:gd name="adj2" fmla="val 37485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195040" y="3624840"/>
              <a:ext cx="770400" cy="398880"/>
            </a:xfrm>
            <a:prstGeom prst="borderCallout1">
              <a:avLst>
                <a:gd name="adj1" fmla="val 18750"/>
                <a:gd name="adj2" fmla="val -8333"/>
                <a:gd name="adj3" fmla="val 142467"/>
                <a:gd name="adj4" fmla="val -48152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67280" y="3124080"/>
              <a:ext cx="2057400" cy="2743200"/>
            </a:xfrm>
            <a:prstGeom prst="ellipse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c0128"/>
                  </a:solidFill>
                  <a:latin typeface="Tahoma"/>
                </a:rPr>
                <a:t>receive m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ritical S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Tahoma"/>
                </a:rPr>
                <a:t>send m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main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7848720" y="43434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96080" y="46483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257800" y="3886200"/>
            <a:ext cx="838080" cy="457200"/>
            <a:chOff x="5257800" y="3886200"/>
            <a:chExt cx="838080" cy="457200"/>
          </a:xfrm>
        </p:grpSpPr>
        <p:sp>
          <p:nvSpPr>
            <p:cNvPr id="894" name=""/>
            <p:cNvSpPr/>
            <p:nvPr/>
          </p:nvSpPr>
          <p:spPr>
            <a:xfrm>
              <a:off x="5257800" y="38862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5920920" y="3929040"/>
              <a:ext cx="128880" cy="128160"/>
              <a:chOff x="5920920" y="3929040"/>
              <a:chExt cx="128880" cy="128160"/>
            </a:xfrm>
          </p:grpSpPr>
          <p:sp>
            <p:nvSpPr>
              <p:cNvPr id="896" name=""/>
              <p:cNvSpPr/>
              <p:nvPr/>
            </p:nvSpPr>
            <p:spPr>
              <a:xfrm>
                <a:off x="5920920" y="39290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925960" y="39333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963760" y="39474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"/>
                            </p:stCondLst>
                            <p:childTnLst>
                              <p:par>
                                <p:cTn id="1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500"/>
                            </p:stCondLst>
                            <p:childTnLst>
                              <p:par>
                                <p:cTn id="18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00"/>
                            </p:stCondLst>
                            <p:childTnLst>
                              <p:par>
                                <p:cTn id="18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500"/>
                            </p:stCondLst>
                            <p:childTnLst>
                              <p:par>
                                <p:cTn id="19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Blocking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n-Blocking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Multiple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box mutex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_mailbox (…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mut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msg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Remainder S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0" y="2286000"/>
            <a:ext cx="3962520" cy="32004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452160" y="18277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Com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62120" y="3124080"/>
            <a:ext cx="2209680" cy="2743200"/>
          </a:xfrm>
          <a:prstGeom prst="ellipse">
            <a:avLst/>
          </a:prstGeom>
          <a:solidFill>
            <a:srgbClr val="66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“in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msg =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 “out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.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05520" y="3276720"/>
            <a:ext cx="2819160" cy="266688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 Process 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(msg, 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) =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</a:t>
            </a:r>
            <a:r>
              <a:rPr b="0" i="1" lang="en-US" sz="2000" spc="-1" strike="noStrike" u="sng">
                <a:solidFill>
                  <a:srgbClr val="00279f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, 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msg = receive (</a:t>
            </a:r>
            <a:r>
              <a:rPr b="0" i="1" lang="en-US" sz="2000" spc="-1" strike="noStrike" u="sng">
                <a:solidFill>
                  <a:srgbClr val="00279f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5973600">
            <a:off x="3839760" y="3001680"/>
            <a:ext cx="457200" cy="2819520"/>
          </a:xfrm>
          <a:prstGeom prst="upArrow">
            <a:avLst>
              <a:gd name="adj1" fmla="val 50000"/>
              <a:gd name="adj2" fmla="val 154173"/>
            </a:avLst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267080" y="4038480"/>
            <a:ext cx="838440" cy="457200"/>
            <a:chOff x="4267080" y="4038480"/>
            <a:chExt cx="838440" cy="457200"/>
          </a:xfrm>
        </p:grpSpPr>
        <p:sp>
          <p:nvSpPr>
            <p:cNvPr id="909" name=""/>
            <p:cNvSpPr/>
            <p:nvPr/>
          </p:nvSpPr>
          <p:spPr>
            <a:xfrm>
              <a:off x="426708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4930560" y="4081320"/>
              <a:ext cx="128880" cy="128160"/>
              <a:chOff x="4930560" y="4081320"/>
              <a:chExt cx="128880" cy="128160"/>
            </a:xfrm>
          </p:grpSpPr>
          <p:sp>
            <p:nvSpPr>
              <p:cNvPr id="911" name=""/>
              <p:cNvSpPr/>
              <p:nvPr/>
            </p:nvSpPr>
            <p:spPr>
              <a:xfrm>
                <a:off x="4930560" y="40813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935600" y="40856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973400" y="40996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 flipH="1" flipV="1" rot="5988000">
            <a:off x="3888720" y="3335040"/>
            <a:ext cx="457200" cy="2886120"/>
          </a:xfrm>
          <a:prstGeom prst="upArrow">
            <a:avLst>
              <a:gd name="adj1" fmla="val 50000"/>
              <a:gd name="adj2" fmla="val 157815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1800" y="4648320"/>
            <a:ext cx="838080" cy="457200"/>
            <a:chOff x="2971800" y="4648320"/>
            <a:chExt cx="838080" cy="457200"/>
          </a:xfrm>
        </p:grpSpPr>
        <p:sp>
          <p:nvSpPr>
            <p:cNvPr id="916" name=""/>
            <p:cNvSpPr/>
            <p:nvPr/>
          </p:nvSpPr>
          <p:spPr>
            <a:xfrm>
              <a:off x="2971800" y="46483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3634920" y="4691160"/>
              <a:ext cx="128880" cy="128160"/>
              <a:chOff x="3634920" y="4691160"/>
              <a:chExt cx="128880" cy="128160"/>
            </a:xfrm>
          </p:grpSpPr>
          <p:sp>
            <p:nvSpPr>
              <p:cNvPr id="918" name=""/>
              <p:cNvSpPr/>
              <p:nvPr/>
            </p:nvSpPr>
            <p:spPr>
              <a:xfrm>
                <a:off x="3634920" y="46911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639960" y="46954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677760" y="47095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1" name=""/>
          <p:cNvSpPr/>
          <p:nvPr/>
        </p:nvSpPr>
        <p:spPr>
          <a:xfrm rot="5685600">
            <a:off x="3808440" y="3893760"/>
            <a:ext cx="457200" cy="27432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886200" y="5257800"/>
            <a:ext cx="838080" cy="457200"/>
            <a:chOff x="3886200" y="5257800"/>
            <a:chExt cx="838080" cy="457200"/>
          </a:xfrm>
        </p:grpSpPr>
        <p:sp>
          <p:nvSpPr>
            <p:cNvPr id="923" name=""/>
            <p:cNvSpPr/>
            <p:nvPr/>
          </p:nvSpPr>
          <p:spPr>
            <a:xfrm>
              <a:off x="3886200" y="52578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4549320" y="5300640"/>
              <a:ext cx="128880" cy="128160"/>
              <a:chOff x="4549320" y="5300640"/>
              <a:chExt cx="128880" cy="128160"/>
            </a:xfrm>
          </p:grpSpPr>
          <p:sp>
            <p:nvSpPr>
              <p:cNvPr id="925" name=""/>
              <p:cNvSpPr/>
              <p:nvPr/>
            </p:nvSpPr>
            <p:spPr>
              <a:xfrm>
                <a:off x="4549320" y="5300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54360" y="5304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592160" y="5319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8" name=""/>
          <p:cNvSpPr/>
          <p:nvPr/>
        </p:nvSpPr>
        <p:spPr>
          <a:xfrm>
            <a:off x="6997680" y="1523880"/>
            <a:ext cx="774720" cy="12891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162920" y="1676520"/>
            <a:ext cx="774720" cy="128880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07160" y="2057400"/>
            <a:ext cx="774720" cy="12891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rot="1957200">
            <a:off x="7236000" y="22093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500"/>
                            </p:stCondLst>
                            <p:childTnLst>
                              <p:par>
                                <p:cTn id="19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00"/>
                            </p:stCondLst>
                            <p:childTnLst>
                              <p:par>
                                <p:cTn id="19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500"/>
                            </p:stCondLst>
                            <p:childTnLst>
                              <p:par>
                                <p:cTn id="2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20" dur="1" fill="hold"/>
                                  <p:tgtEl>
                                    <p:spTgt spid="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Blocking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n-Blocking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Direct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Mutex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sg,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receiv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“OK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2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Want-in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mut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Left CS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0" y="2438280"/>
            <a:ext cx="3962520" cy="32004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3581280"/>
            <a:ext cx="3962160" cy="2438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500"/>
                            </p:stCondLst>
                            <p:childTnLst>
                              <p:par>
                                <p:cTn id="2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8088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e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duc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705720" y="2895480"/>
            <a:ext cx="213336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item = receive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um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21217800">
            <a:off x="2284200" y="4411440"/>
            <a:ext cx="4416120" cy="444240"/>
          </a:xfrm>
          <a:prstGeom prst="rightArrow">
            <a:avLst>
              <a:gd name="adj1" fmla="val 50000"/>
              <a:gd name="adj2" fmla="val 248521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2438280" y="4572000"/>
            <a:ext cx="838440" cy="457200"/>
            <a:chOff x="2438280" y="4572000"/>
            <a:chExt cx="838440" cy="457200"/>
          </a:xfrm>
        </p:grpSpPr>
        <p:sp>
          <p:nvSpPr>
            <p:cNvPr id="941" name=""/>
            <p:cNvSpPr/>
            <p:nvPr/>
          </p:nvSpPr>
          <p:spPr>
            <a:xfrm>
              <a:off x="2438280" y="45720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3101760" y="4614840"/>
              <a:ext cx="128880" cy="128160"/>
              <a:chOff x="3101760" y="4614840"/>
              <a:chExt cx="128880" cy="128160"/>
            </a:xfrm>
          </p:grpSpPr>
          <p:sp>
            <p:nvSpPr>
              <p:cNvPr id="943" name=""/>
              <p:cNvSpPr/>
              <p:nvPr/>
            </p:nvSpPr>
            <p:spPr>
              <a:xfrm>
                <a:off x="3101760" y="46148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106800" y="46191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144600" y="46332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"/>
          <p:cNvGrpSpPr/>
          <p:nvPr/>
        </p:nvGrpSpPr>
        <p:grpSpPr>
          <a:xfrm>
            <a:off x="3276720" y="4495680"/>
            <a:ext cx="838080" cy="457200"/>
            <a:chOff x="3276720" y="4495680"/>
            <a:chExt cx="838080" cy="457200"/>
          </a:xfrm>
        </p:grpSpPr>
        <p:sp>
          <p:nvSpPr>
            <p:cNvPr id="947" name=""/>
            <p:cNvSpPr/>
            <p:nvPr/>
          </p:nvSpPr>
          <p:spPr>
            <a:xfrm>
              <a:off x="3276720" y="44956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3939840" y="4538520"/>
              <a:ext cx="128880" cy="128160"/>
              <a:chOff x="3939840" y="4538520"/>
              <a:chExt cx="128880" cy="128160"/>
            </a:xfrm>
          </p:grpSpPr>
          <p:sp>
            <p:nvSpPr>
              <p:cNvPr id="949" name=""/>
              <p:cNvSpPr/>
              <p:nvPr/>
            </p:nvSpPr>
            <p:spPr>
              <a:xfrm>
                <a:off x="3939840" y="45385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944880" y="45428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82680" y="45568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4114800" y="4419720"/>
            <a:ext cx="838080" cy="457200"/>
            <a:chOff x="4114800" y="4419720"/>
            <a:chExt cx="838080" cy="457200"/>
          </a:xfrm>
        </p:grpSpPr>
        <p:sp>
          <p:nvSpPr>
            <p:cNvPr id="953" name=""/>
            <p:cNvSpPr/>
            <p:nvPr/>
          </p:nvSpPr>
          <p:spPr>
            <a:xfrm>
              <a:off x="4114800" y="44197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777920" y="4462560"/>
              <a:ext cx="128880" cy="128160"/>
              <a:chOff x="4777920" y="4462560"/>
              <a:chExt cx="128880" cy="128160"/>
            </a:xfrm>
          </p:grpSpPr>
          <p:sp>
            <p:nvSpPr>
              <p:cNvPr id="955" name=""/>
              <p:cNvSpPr/>
              <p:nvPr/>
            </p:nvSpPr>
            <p:spPr>
              <a:xfrm>
                <a:off x="4777920" y="44625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82960" y="44668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20760" y="44809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4952880" y="4343400"/>
            <a:ext cx="838440" cy="457200"/>
            <a:chOff x="4952880" y="4343400"/>
            <a:chExt cx="838440" cy="457200"/>
          </a:xfrm>
        </p:grpSpPr>
        <p:sp>
          <p:nvSpPr>
            <p:cNvPr id="959" name=""/>
            <p:cNvSpPr/>
            <p:nvPr/>
          </p:nvSpPr>
          <p:spPr>
            <a:xfrm>
              <a:off x="4952880" y="43434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5616360" y="4386240"/>
              <a:ext cx="128880" cy="128160"/>
              <a:chOff x="5616360" y="4386240"/>
              <a:chExt cx="128880" cy="128160"/>
            </a:xfrm>
          </p:grpSpPr>
          <p:sp>
            <p:nvSpPr>
              <p:cNvPr id="961" name=""/>
              <p:cNvSpPr/>
              <p:nvPr/>
            </p:nvSpPr>
            <p:spPr>
              <a:xfrm>
                <a:off x="5616360" y="43862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621400" y="43905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659200" y="44046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"/>
          <p:cNvSpPr/>
          <p:nvPr/>
        </p:nvSpPr>
        <p:spPr>
          <a:xfrm>
            <a:off x="680760" y="15991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40120" y="569808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= Bounded by Capacity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4432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766200" y="422172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item = receive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791320" y="4267080"/>
            <a:ext cx="838080" cy="457200"/>
            <a:chOff x="5791320" y="4267080"/>
            <a:chExt cx="838080" cy="457200"/>
          </a:xfrm>
        </p:grpSpPr>
        <p:sp>
          <p:nvSpPr>
            <p:cNvPr id="973" name=""/>
            <p:cNvSpPr/>
            <p:nvPr/>
          </p:nvSpPr>
          <p:spPr>
            <a:xfrm>
              <a:off x="5791320" y="42670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6454440" y="4309920"/>
              <a:ext cx="128880" cy="128160"/>
              <a:chOff x="6454440" y="4309920"/>
              <a:chExt cx="128880" cy="128160"/>
            </a:xfrm>
          </p:grpSpPr>
          <p:sp>
            <p:nvSpPr>
              <p:cNvPr id="975" name=""/>
              <p:cNvSpPr/>
              <p:nvPr/>
            </p:nvSpPr>
            <p:spPr>
              <a:xfrm>
                <a:off x="6454440" y="43099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459480" y="43142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497280" y="43282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8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5791320" y="4267080"/>
            <a:ext cx="838080" cy="457200"/>
            <a:chOff x="5791320" y="4267080"/>
            <a:chExt cx="838080" cy="457200"/>
          </a:xfrm>
        </p:grpSpPr>
        <p:sp>
          <p:nvSpPr>
            <p:cNvPr id="980" name=""/>
            <p:cNvSpPr/>
            <p:nvPr/>
          </p:nvSpPr>
          <p:spPr>
            <a:xfrm>
              <a:off x="5791320" y="42670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6454440" y="4309920"/>
              <a:ext cx="128880" cy="128160"/>
              <a:chOff x="6454440" y="4309920"/>
              <a:chExt cx="128880" cy="128160"/>
            </a:xfrm>
          </p:grpSpPr>
          <p:sp>
            <p:nvSpPr>
              <p:cNvPr id="982" name=""/>
              <p:cNvSpPr/>
              <p:nvPr/>
            </p:nvSpPr>
            <p:spPr>
              <a:xfrm>
                <a:off x="6454440" y="43099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59480" y="43142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497280" y="43282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"/>
          <p:cNvSpPr/>
          <p:nvPr/>
        </p:nvSpPr>
        <p:spPr>
          <a:xfrm>
            <a:off x="55872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1" dur="indefinite" restart="never" nodeType="tmRoot">
          <p:childTnLst>
            <p:seq>
              <p:cTn id="2042" dur="indefinite" nodeType="mainSeq">
                <p:childTnLst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500"/>
                            </p:stCondLst>
                            <p:childTnLst>
                              <p:par>
                                <p:cTn id="2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500"/>
                            </p:stCondLst>
                            <p:childTnLst>
                              <p:par>
                                <p:cTn id="2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00"/>
                            </p:stCondLst>
                            <p:childTnLst>
                              <p:par>
                                <p:cTn id="2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500"/>
                            </p:stCondLst>
                            <p:childTnLst>
                              <p:par>
                                <p:cTn id="2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= produc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, i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c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duc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 (ic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>
            <a:off x="609480" y="2286000"/>
            <a:ext cx="3581640" cy="26668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48320" y="2286000"/>
            <a:ext cx="3809880" cy="26668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0" dur="indefinite" restart="never" nodeType="tmRoot">
          <p:childTnLst>
            <p:seq>
              <p:cTn id="2141" dur="indefinite" nodeType="mainSeq">
                <p:childTnLst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500"/>
                            </p:stCondLst>
                            <p:childTnLst>
                              <p:par>
                                <p:cTn id="21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0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500"/>
                            </p:stCondLst>
                            <p:childTnLst>
                              <p:par>
                                <p:cTn id="2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>
            <a:off x="680760" y="15991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720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duc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5308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um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68080" y="2606040"/>
            <a:ext cx="27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 of size 4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 rot="21181800">
            <a:off x="2440800" y="3969720"/>
            <a:ext cx="4192560" cy="185760"/>
          </a:xfrm>
          <a:prstGeom prst="rightArrow">
            <a:avLst>
              <a:gd name="adj1" fmla="val 50000"/>
              <a:gd name="adj2" fmla="val 564244"/>
            </a:avLst>
          </a:pr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21125400">
            <a:off x="2284560" y="4576680"/>
            <a:ext cx="4419360" cy="228600"/>
          </a:xfrm>
          <a:prstGeom prst="rightArrow">
            <a:avLst>
              <a:gd name="adj1" fmla="val 50000"/>
              <a:gd name="adj2" fmla="val 483307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590920" y="3657600"/>
            <a:ext cx="3352680" cy="685800"/>
            <a:chOff x="2590920" y="3657600"/>
            <a:chExt cx="3352680" cy="685800"/>
          </a:xfrm>
        </p:grpSpPr>
        <p:grpSp>
          <p:nvGrpSpPr>
            <p:cNvPr id="999" name=""/>
            <p:cNvGrpSpPr/>
            <p:nvPr/>
          </p:nvGrpSpPr>
          <p:grpSpPr>
            <a:xfrm>
              <a:off x="5105520" y="3657600"/>
              <a:ext cx="838080" cy="457200"/>
              <a:chOff x="5105520" y="3657600"/>
              <a:chExt cx="838080" cy="457200"/>
            </a:xfrm>
          </p:grpSpPr>
          <p:sp>
            <p:nvSpPr>
              <p:cNvPr id="1000" name=""/>
              <p:cNvSpPr/>
              <p:nvPr/>
            </p:nvSpPr>
            <p:spPr>
              <a:xfrm>
                <a:off x="5105520" y="36576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5768640" y="3700440"/>
                <a:ext cx="128880" cy="128160"/>
                <a:chOff x="5768640" y="3700440"/>
                <a:chExt cx="128880" cy="12816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5768640" y="37004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773680" y="37047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811480" y="37188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5" name=""/>
            <p:cNvGrpSpPr/>
            <p:nvPr/>
          </p:nvGrpSpPr>
          <p:grpSpPr>
            <a:xfrm>
              <a:off x="4267080" y="3733920"/>
              <a:ext cx="838440" cy="457200"/>
              <a:chOff x="4267080" y="3733920"/>
              <a:chExt cx="838440" cy="457200"/>
            </a:xfrm>
          </p:grpSpPr>
          <p:sp>
            <p:nvSpPr>
              <p:cNvPr id="1006" name=""/>
              <p:cNvSpPr/>
              <p:nvPr/>
            </p:nvSpPr>
            <p:spPr>
              <a:xfrm>
                <a:off x="4267080" y="3733920"/>
                <a:ext cx="83844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7" name=""/>
              <p:cNvGrpSpPr/>
              <p:nvPr/>
            </p:nvGrpSpPr>
            <p:grpSpPr>
              <a:xfrm>
                <a:off x="4930560" y="3776760"/>
                <a:ext cx="128880" cy="128160"/>
                <a:chOff x="4930560" y="3776760"/>
                <a:chExt cx="128880" cy="12816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4930560" y="377676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935600" y="378108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3400" y="379512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1" name=""/>
            <p:cNvGrpSpPr/>
            <p:nvPr/>
          </p:nvGrpSpPr>
          <p:grpSpPr>
            <a:xfrm>
              <a:off x="3429000" y="3809880"/>
              <a:ext cx="838080" cy="457200"/>
              <a:chOff x="3429000" y="3809880"/>
              <a:chExt cx="838080" cy="457200"/>
            </a:xfrm>
          </p:grpSpPr>
          <p:sp>
            <p:nvSpPr>
              <p:cNvPr id="1012" name=""/>
              <p:cNvSpPr/>
              <p:nvPr/>
            </p:nvSpPr>
            <p:spPr>
              <a:xfrm>
                <a:off x="3429000" y="380988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"/>
              <p:cNvGrpSpPr/>
              <p:nvPr/>
            </p:nvGrpSpPr>
            <p:grpSpPr>
              <a:xfrm>
                <a:off x="4092120" y="3852720"/>
                <a:ext cx="128880" cy="128160"/>
                <a:chOff x="4092120" y="3852720"/>
                <a:chExt cx="128880" cy="12816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4092120" y="385272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097160" y="385704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34960" y="387108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7" name=""/>
            <p:cNvGrpSpPr/>
            <p:nvPr/>
          </p:nvGrpSpPr>
          <p:grpSpPr>
            <a:xfrm>
              <a:off x="2590920" y="3886200"/>
              <a:ext cx="838080" cy="457200"/>
              <a:chOff x="2590920" y="3886200"/>
              <a:chExt cx="838080" cy="457200"/>
            </a:xfrm>
          </p:grpSpPr>
          <p:sp>
            <p:nvSpPr>
              <p:cNvPr id="1018" name=""/>
              <p:cNvSpPr/>
              <p:nvPr/>
            </p:nvSpPr>
            <p:spPr>
              <a:xfrm>
                <a:off x="2590920" y="38862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9" name=""/>
              <p:cNvGrpSpPr/>
              <p:nvPr/>
            </p:nvGrpSpPr>
            <p:grpSpPr>
              <a:xfrm>
                <a:off x="3254040" y="3929040"/>
                <a:ext cx="128880" cy="128160"/>
                <a:chOff x="3254040" y="3929040"/>
                <a:chExt cx="128880" cy="12816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254040" y="39290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259080" y="39333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296880" y="39474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3" name=""/>
          <p:cNvGrpSpPr/>
          <p:nvPr/>
        </p:nvGrpSpPr>
        <p:grpSpPr>
          <a:xfrm>
            <a:off x="3429000" y="3657600"/>
            <a:ext cx="2514600" cy="609480"/>
            <a:chOff x="3429000" y="3657600"/>
            <a:chExt cx="2514600" cy="609480"/>
          </a:xfrm>
        </p:grpSpPr>
        <p:grpSp>
          <p:nvGrpSpPr>
            <p:cNvPr id="1024" name=""/>
            <p:cNvGrpSpPr/>
            <p:nvPr/>
          </p:nvGrpSpPr>
          <p:grpSpPr>
            <a:xfrm>
              <a:off x="5105520" y="3657600"/>
              <a:ext cx="838080" cy="457200"/>
              <a:chOff x="5105520" y="3657600"/>
              <a:chExt cx="838080" cy="457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5105520" y="36576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5768640" y="3700440"/>
                <a:ext cx="128880" cy="128160"/>
                <a:chOff x="5768640" y="3700440"/>
                <a:chExt cx="128880" cy="12816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768640" y="37004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773680" y="37047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811480" y="37188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0" name=""/>
            <p:cNvGrpSpPr/>
            <p:nvPr/>
          </p:nvGrpSpPr>
          <p:grpSpPr>
            <a:xfrm>
              <a:off x="4267440" y="3733560"/>
              <a:ext cx="838080" cy="457200"/>
              <a:chOff x="4267440" y="3733560"/>
              <a:chExt cx="838080" cy="457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4267440" y="373356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2" name=""/>
              <p:cNvGrpSpPr/>
              <p:nvPr/>
            </p:nvGrpSpPr>
            <p:grpSpPr>
              <a:xfrm>
                <a:off x="4930560" y="3776400"/>
                <a:ext cx="128880" cy="128160"/>
                <a:chOff x="4930560" y="3776400"/>
                <a:chExt cx="128880" cy="1281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4930560" y="377640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935600" y="378072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973400" y="379476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6" name=""/>
            <p:cNvGrpSpPr/>
            <p:nvPr/>
          </p:nvGrpSpPr>
          <p:grpSpPr>
            <a:xfrm>
              <a:off x="3429000" y="3809880"/>
              <a:ext cx="838440" cy="457200"/>
              <a:chOff x="3429000" y="3809880"/>
              <a:chExt cx="838440" cy="457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3429000" y="3809880"/>
                <a:ext cx="83844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8" name=""/>
              <p:cNvGrpSpPr/>
              <p:nvPr/>
            </p:nvGrpSpPr>
            <p:grpSpPr>
              <a:xfrm>
                <a:off x="4092480" y="3852720"/>
                <a:ext cx="128880" cy="128160"/>
                <a:chOff x="4092480" y="3852720"/>
                <a:chExt cx="128880" cy="12816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092480" y="385272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097520" y="385704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135320" y="387108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2" name=""/>
          <p:cNvSpPr/>
          <p:nvPr/>
        </p:nvSpPr>
        <p:spPr>
          <a:xfrm>
            <a:off x="882360" y="4375800"/>
            <a:ext cx="13525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876920" y="4419720"/>
            <a:ext cx="838080" cy="457200"/>
            <a:chOff x="4876920" y="4419720"/>
            <a:chExt cx="838080" cy="457200"/>
          </a:xfrm>
        </p:grpSpPr>
        <p:sp>
          <p:nvSpPr>
            <p:cNvPr id="1044" name=""/>
            <p:cNvSpPr/>
            <p:nvPr/>
          </p:nvSpPr>
          <p:spPr>
            <a:xfrm>
              <a:off x="4876920" y="44197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5540040" y="4462560"/>
              <a:ext cx="128880" cy="128160"/>
              <a:chOff x="5540040" y="4462560"/>
              <a:chExt cx="128880" cy="128160"/>
            </a:xfrm>
          </p:grpSpPr>
          <p:sp>
            <p:nvSpPr>
              <p:cNvPr id="1046" name=""/>
              <p:cNvSpPr/>
              <p:nvPr/>
            </p:nvSpPr>
            <p:spPr>
              <a:xfrm>
                <a:off x="5540040" y="44625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545080" y="44668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582880" y="44809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9" name=""/>
          <p:cNvSpPr/>
          <p:nvPr/>
        </p:nvSpPr>
        <p:spPr>
          <a:xfrm>
            <a:off x="846720" y="4675680"/>
            <a:ext cx="1276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43240" y="4070880"/>
            <a:ext cx="1524960" cy="398880"/>
          </a:xfrm>
          <a:prstGeom prst="rect">
            <a:avLst/>
          </a:prstGeom>
          <a:solidFill>
            <a:srgbClr val="cecece"/>
          </a:solidFill>
          <a:ln w="190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5943600" y="3581280"/>
            <a:ext cx="838080" cy="457200"/>
            <a:chOff x="5943600" y="3581280"/>
            <a:chExt cx="838080" cy="457200"/>
          </a:xfrm>
        </p:grpSpPr>
        <p:sp>
          <p:nvSpPr>
            <p:cNvPr id="1052" name=""/>
            <p:cNvSpPr/>
            <p:nvPr/>
          </p:nvSpPr>
          <p:spPr>
            <a:xfrm>
              <a:off x="5943600" y="3581280"/>
              <a:ext cx="838080" cy="457200"/>
            </a:xfrm>
            <a:prstGeom prst="rect">
              <a:avLst/>
            </a:prstGeom>
            <a:solidFill>
              <a:srgbClr val="66ff66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6606720" y="3624120"/>
              <a:ext cx="128880" cy="128160"/>
              <a:chOff x="6606720" y="3624120"/>
              <a:chExt cx="128880" cy="128160"/>
            </a:xfrm>
          </p:grpSpPr>
          <p:sp>
            <p:nvSpPr>
              <p:cNvPr id="1054" name=""/>
              <p:cNvSpPr/>
              <p:nvPr/>
            </p:nvSpPr>
            <p:spPr>
              <a:xfrm>
                <a:off x="6606720" y="3624120"/>
                <a:ext cx="128880" cy="128160"/>
              </a:xfrm>
              <a:prstGeom prst="rect">
                <a:avLst/>
              </a:prstGeom>
              <a:solidFill>
                <a:srgbClr val="66ff66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611760" y="3628440"/>
                <a:ext cx="119880" cy="117360"/>
              </a:xfrm>
              <a:prstGeom prst="rect">
                <a:avLst/>
              </a:prstGeom>
              <a:solidFill>
                <a:srgbClr val="66ff66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649560" y="36424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"/>
          <p:cNvSpPr/>
          <p:nvPr/>
        </p:nvSpPr>
        <p:spPr>
          <a:xfrm>
            <a:off x="7024320" y="4371120"/>
            <a:ext cx="11041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195280" y="56980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ze Buffer = N = # OK + #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0" dur="indefinite" restart="never" nodeType="tmRoot">
          <p:childTnLst>
            <p:seq>
              <p:cTn id="2161" dur="indefinite" nodeType="mainSeq">
                <p:childTnLst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500"/>
                            </p:stCondLst>
                            <p:childTnLst>
                              <p:par>
                                <p:cTn id="2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2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p, o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= produc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k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, i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i = 0; i &lt; 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roducer, “OK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c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duc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roducer, “OK”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 (ic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609480" y="2286000"/>
            <a:ext cx="3962520" cy="35053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8320" y="2286000"/>
            <a:ext cx="3809880" cy="36576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rId1"/>
          </p:cNvPr>
          <p:cNvSpPr/>
          <p:nvPr/>
        </p:nvSpPr>
        <p:spPr>
          <a:xfrm>
            <a:off x="8101080" y="1557360"/>
            <a:ext cx="790560" cy="549360"/>
          </a:xfrm>
          <a:custGeom>
            <a:avLst/>
            <a:gdLst>
              <a:gd name="textAreaLeft" fmla="*/ 35280 w 790560"/>
              <a:gd name="textAreaRight" fmla="*/ 755280 w 790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677" y="1400"/>
                </a:lnTo>
                <a:lnTo>
                  <a:pt x="1400" y="140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677" y="20200"/>
                </a:lnTo>
                <a:lnTo>
                  <a:pt x="29677" y="140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77" y="2020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77" h="21600">
                <a:moveTo>
                  <a:pt x="8532" y="3794"/>
                </a:moveTo>
                <a:lnTo>
                  <a:pt x="22545" y="10800"/>
                </a:lnTo>
                <a:lnTo>
                  <a:pt x="8532" y="17806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3" dur="indefinite" restart="never" nodeType="tmRoot">
          <p:childTnLst>
            <p:seq>
              <p:cTn id="2244" dur="indefinite" nodeType="mainSeq">
                <p:childTnLst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mplementation 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links establish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with &gt;2 proc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1 links between 2 proc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of a lin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-sized or variable-sized msg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irectional or bi-directional link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24480" y="1981080"/>
            <a:ext cx="914400" cy="12193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3276720"/>
            <a:ext cx="3963960" cy="1904760"/>
            <a:chOff x="685800" y="3276720"/>
            <a:chExt cx="3963960" cy="1904760"/>
          </a:xfrm>
        </p:grpSpPr>
        <p:sp>
          <p:nvSpPr>
            <p:cNvPr id="136" name=""/>
            <p:cNvSpPr/>
            <p:nvPr/>
          </p:nvSpPr>
          <p:spPr>
            <a:xfrm>
              <a:off x="685800" y="3308760"/>
              <a:ext cx="396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8640" y="3276720"/>
              <a:ext cx="0" cy="190476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800" y="372096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96880" y="380916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1440" y="41904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28920" y="479988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,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receive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133720"/>
            <a:ext cx="762120" cy="99036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133720"/>
            <a:ext cx="762120" cy="99036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51460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209680" y="2209680"/>
            <a:ext cx="533520" cy="304920"/>
            <a:chOff x="2209680" y="2209680"/>
            <a:chExt cx="533520" cy="304920"/>
          </a:xfrm>
        </p:grpSpPr>
        <p:sp>
          <p:nvSpPr>
            <p:cNvPr id="146" name=""/>
            <p:cNvSpPr/>
            <p:nvPr/>
          </p:nvSpPr>
          <p:spPr>
            <a:xfrm>
              <a:off x="2209680" y="2209680"/>
              <a:ext cx="53352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2631960" y="2238120"/>
              <a:ext cx="82080" cy="85680"/>
              <a:chOff x="2631960" y="2238120"/>
              <a:chExt cx="82080" cy="85680"/>
            </a:xfrm>
          </p:grpSpPr>
          <p:sp>
            <p:nvSpPr>
              <p:cNvPr id="148" name=""/>
              <p:cNvSpPr/>
              <p:nvPr/>
            </p:nvSpPr>
            <p:spPr>
              <a:xfrm>
                <a:off x="2631960" y="22381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35200" y="22410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59320" y="22503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550440" y="554580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ween 2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209680"/>
            <a:ext cx="762120" cy="990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2209680"/>
            <a:ext cx="762120" cy="990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971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95880" y="2666880"/>
            <a:ext cx="533520" cy="304920"/>
            <a:chOff x="6095880" y="2666880"/>
            <a:chExt cx="533520" cy="304920"/>
          </a:xfrm>
        </p:grpSpPr>
        <p:sp>
          <p:nvSpPr>
            <p:cNvPr id="156" name=""/>
            <p:cNvSpPr/>
            <p:nvPr/>
          </p:nvSpPr>
          <p:spPr>
            <a:xfrm>
              <a:off x="6095880" y="2666880"/>
              <a:ext cx="53352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518160" y="2695320"/>
              <a:ext cx="82080" cy="85680"/>
              <a:chOff x="6518160" y="2695320"/>
              <a:chExt cx="82080" cy="85680"/>
            </a:xfrm>
          </p:grpSpPr>
          <p:sp>
            <p:nvSpPr>
              <p:cNvPr id="158" name=""/>
              <p:cNvSpPr/>
              <p:nvPr/>
            </p:nvSpPr>
            <p:spPr>
              <a:xfrm>
                <a:off x="6518160" y="26953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21400" y="26982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45520" y="27075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6934320" y="2971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1440" y="3581280"/>
            <a:ext cx="3963960" cy="1066680"/>
            <a:chOff x="4951440" y="3581280"/>
            <a:chExt cx="3963960" cy="1066680"/>
          </a:xfrm>
        </p:grpSpPr>
        <p:sp>
          <p:nvSpPr>
            <p:cNvPr id="163" name=""/>
            <p:cNvSpPr/>
            <p:nvPr/>
          </p:nvSpPr>
          <p:spPr>
            <a:xfrm>
              <a:off x="4951440" y="3613680"/>
              <a:ext cx="396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3920" y="3581280"/>
              <a:ext cx="1800" cy="10666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1440" y="402552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912200" y="4114080"/>
            <a:ext cx="18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1960" y="41140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502920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1972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562720"/>
            <a:ext cx="38088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96080" y="457200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5486400"/>
            <a:ext cx="380880" cy="457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876920"/>
            <a:ext cx="53352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4724280"/>
            <a:ext cx="914400" cy="38124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257800"/>
            <a:ext cx="914400" cy="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791320" y="4800600"/>
            <a:ext cx="304560" cy="152280"/>
            <a:chOff x="5791320" y="4800600"/>
            <a:chExt cx="304560" cy="152280"/>
          </a:xfrm>
        </p:grpSpPr>
        <p:grpSp>
          <p:nvGrpSpPr>
            <p:cNvPr id="177" name=""/>
            <p:cNvGrpSpPr/>
            <p:nvPr/>
          </p:nvGrpSpPr>
          <p:grpSpPr>
            <a:xfrm>
              <a:off x="5791320" y="4800600"/>
              <a:ext cx="304560" cy="152280"/>
              <a:chOff x="5791320" y="4800600"/>
              <a:chExt cx="304560" cy="152280"/>
            </a:xfrm>
          </p:grpSpPr>
          <p:sp>
            <p:nvSpPr>
              <p:cNvPr id="178" name=""/>
              <p:cNvSpPr/>
              <p:nvPr/>
            </p:nvSpPr>
            <p:spPr>
              <a:xfrm>
                <a:off x="5791320" y="4800600"/>
                <a:ext cx="304560" cy="15228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15240" y="482184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824800" y="4861440"/>
              <a:ext cx="169200" cy="60840"/>
              <a:chOff x="5824800" y="4861440"/>
              <a:chExt cx="169200" cy="60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824800" y="4861440"/>
                <a:ext cx="16920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24800" y="490212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5715000" y="5181480"/>
            <a:ext cx="304920" cy="152640"/>
            <a:chOff x="5715000" y="5181480"/>
            <a:chExt cx="304920" cy="152640"/>
          </a:xfrm>
        </p:grpSpPr>
        <p:grpSp>
          <p:nvGrpSpPr>
            <p:cNvPr id="184" name=""/>
            <p:cNvGrpSpPr/>
            <p:nvPr/>
          </p:nvGrpSpPr>
          <p:grpSpPr>
            <a:xfrm>
              <a:off x="5715000" y="5181480"/>
              <a:ext cx="304920" cy="152640"/>
              <a:chOff x="5715000" y="5181480"/>
              <a:chExt cx="304920" cy="152640"/>
            </a:xfrm>
          </p:grpSpPr>
          <p:sp>
            <p:nvSpPr>
              <p:cNvPr id="185" name=""/>
              <p:cNvSpPr/>
              <p:nvPr/>
            </p:nvSpPr>
            <p:spPr>
              <a:xfrm>
                <a:off x="5715000" y="51814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39280" y="52027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48480" y="5242320"/>
              <a:ext cx="169560" cy="60840"/>
              <a:chOff x="5748480" y="5242320"/>
              <a:chExt cx="169560" cy="6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748480" y="52423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48480" y="52830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 flipV="1">
            <a:off x="5943600" y="5257800"/>
            <a:ext cx="685800" cy="45720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095880" y="5486400"/>
            <a:ext cx="304920" cy="152280"/>
            <a:chOff x="6095880" y="5486400"/>
            <a:chExt cx="304920" cy="152280"/>
          </a:xfrm>
        </p:grpSpPr>
        <p:grpSp>
          <p:nvGrpSpPr>
            <p:cNvPr id="192" name=""/>
            <p:cNvGrpSpPr/>
            <p:nvPr/>
          </p:nvGrpSpPr>
          <p:grpSpPr>
            <a:xfrm>
              <a:off x="6095880" y="5486400"/>
              <a:ext cx="304920" cy="152280"/>
              <a:chOff x="6095880" y="5486400"/>
              <a:chExt cx="304920" cy="152280"/>
            </a:xfrm>
          </p:grpSpPr>
          <p:sp>
            <p:nvSpPr>
              <p:cNvPr id="193" name=""/>
              <p:cNvSpPr/>
              <p:nvPr/>
            </p:nvSpPr>
            <p:spPr>
              <a:xfrm>
                <a:off x="6095880" y="5486400"/>
                <a:ext cx="304920" cy="15228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20160" y="550764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129360" y="5547240"/>
              <a:ext cx="169560" cy="60840"/>
              <a:chOff x="6129360" y="5547240"/>
              <a:chExt cx="169560" cy="60840"/>
            </a:xfrm>
          </p:grpSpPr>
          <p:sp>
            <p:nvSpPr>
              <p:cNvPr id="196" name=""/>
              <p:cNvSpPr/>
              <p:nvPr/>
            </p:nvSpPr>
            <p:spPr>
              <a:xfrm>
                <a:off x="6129360" y="554724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29360" y="558792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 flipV="1">
            <a:off x="6858000" y="4876920"/>
            <a:ext cx="838080" cy="30456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086600" y="4952880"/>
            <a:ext cx="304920" cy="152640"/>
            <a:chOff x="7086600" y="4952880"/>
            <a:chExt cx="304920" cy="152640"/>
          </a:xfrm>
        </p:grpSpPr>
        <p:grpSp>
          <p:nvGrpSpPr>
            <p:cNvPr id="200" name=""/>
            <p:cNvGrpSpPr/>
            <p:nvPr/>
          </p:nvGrpSpPr>
          <p:grpSpPr>
            <a:xfrm>
              <a:off x="7086600" y="4952880"/>
              <a:ext cx="304920" cy="152640"/>
              <a:chOff x="7086600" y="4952880"/>
              <a:chExt cx="304920" cy="152640"/>
            </a:xfrm>
          </p:grpSpPr>
          <p:sp>
            <p:nvSpPr>
              <p:cNvPr id="201" name=""/>
              <p:cNvSpPr/>
              <p:nvPr/>
            </p:nvSpPr>
            <p:spPr>
              <a:xfrm>
                <a:off x="7086600" y="49528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10880" y="49741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120080" y="5013720"/>
              <a:ext cx="169560" cy="60840"/>
              <a:chOff x="7120080" y="5013720"/>
              <a:chExt cx="169560" cy="60840"/>
            </a:xfrm>
          </p:grpSpPr>
          <p:sp>
            <p:nvSpPr>
              <p:cNvPr id="204" name=""/>
              <p:cNvSpPr/>
              <p:nvPr/>
            </p:nvSpPr>
            <p:spPr>
              <a:xfrm>
                <a:off x="7120080" y="50137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20080" y="50544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6858000" y="5257800"/>
            <a:ext cx="914400" cy="457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238880" y="5410080"/>
            <a:ext cx="304920" cy="152640"/>
            <a:chOff x="7238880" y="5410080"/>
            <a:chExt cx="304920" cy="152640"/>
          </a:xfrm>
        </p:grpSpPr>
        <p:grpSp>
          <p:nvGrpSpPr>
            <p:cNvPr id="208" name=""/>
            <p:cNvGrpSpPr/>
            <p:nvPr/>
          </p:nvGrpSpPr>
          <p:grpSpPr>
            <a:xfrm>
              <a:off x="7238880" y="5410080"/>
              <a:ext cx="304920" cy="152640"/>
              <a:chOff x="7238880" y="5410080"/>
              <a:chExt cx="304920" cy="152640"/>
            </a:xfrm>
          </p:grpSpPr>
          <p:sp>
            <p:nvSpPr>
              <p:cNvPr id="209" name=""/>
              <p:cNvSpPr/>
              <p:nvPr/>
            </p:nvSpPr>
            <p:spPr>
              <a:xfrm>
                <a:off x="7238880" y="54100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63160" y="54313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272360" y="5470920"/>
              <a:ext cx="169560" cy="60840"/>
              <a:chOff x="7272360" y="5470920"/>
              <a:chExt cx="169560" cy="60840"/>
            </a:xfrm>
          </p:grpSpPr>
          <p:sp>
            <p:nvSpPr>
              <p:cNvPr id="212" name=""/>
              <p:cNvSpPr/>
              <p:nvPr/>
            </p:nvSpPr>
            <p:spPr>
              <a:xfrm>
                <a:off x="7272360" y="54709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72360" y="55116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5452200" y="3276000"/>
            <a:ext cx="26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createMailBox(.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34320" y="2666880"/>
            <a:ext cx="533160" cy="304920"/>
            <a:chOff x="6934320" y="2666880"/>
            <a:chExt cx="533160" cy="304920"/>
          </a:xfrm>
        </p:grpSpPr>
        <p:sp>
          <p:nvSpPr>
            <p:cNvPr id="216" name=""/>
            <p:cNvSpPr/>
            <p:nvPr/>
          </p:nvSpPr>
          <p:spPr>
            <a:xfrm>
              <a:off x="6934320" y="2666880"/>
              <a:ext cx="53316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56240" y="2695320"/>
              <a:ext cx="82080" cy="85680"/>
              <a:chOff x="7356240" y="2695320"/>
              <a:chExt cx="82080" cy="85680"/>
            </a:xfrm>
          </p:grpSpPr>
          <p:sp>
            <p:nvSpPr>
              <p:cNvPr id="218" name=""/>
              <p:cNvSpPr/>
              <p:nvPr/>
            </p:nvSpPr>
            <p:spPr>
              <a:xfrm>
                <a:off x="7356240" y="26953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359480" y="26982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83600" y="27075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nership of Mail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438280"/>
            <a:ext cx="1371600" cy="19051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1240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9240" y="449532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wner = recei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matically destr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438280"/>
            <a:ext cx="1371600" cy="19051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3276720"/>
            <a:ext cx="1676160" cy="19047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42670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012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39960" y="4377240"/>
            <a:ext cx="29786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ed explicitly/implici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rbage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uff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 of Communicatio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 sent but not (yet) received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135160" y="2741760"/>
            <a:ext cx="1905120" cy="86832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2560" y="2666880"/>
            <a:ext cx="0" cy="94320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4840" y="2741760"/>
            <a:ext cx="1905120" cy="86832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3240" y="36565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1040" y="344268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79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(un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49320" y="3594600"/>
            <a:ext cx="11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(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72680" y="4549680"/>
            <a:ext cx="1752840" cy="785520"/>
            <a:chOff x="1372680" y="4549680"/>
            <a:chExt cx="1752840" cy="785520"/>
          </a:xfrm>
        </p:grpSpPr>
        <p:sp>
          <p:nvSpPr>
            <p:cNvPr id="240" name=""/>
            <p:cNvSpPr/>
            <p:nvPr/>
          </p:nvSpPr>
          <p:spPr>
            <a:xfrm rot="5400000">
              <a:off x="2058480" y="3863880"/>
              <a:ext cx="381240" cy="175284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9"/>
                  </a:lnTo>
                  <a:cubicBezTo>
                    <a:pt x="10800" y="9919"/>
                    <a:pt x="16200" y="10819"/>
                    <a:pt x="21600" y="10819"/>
                  </a:cubicBezTo>
                  <a:cubicBezTo>
                    <a:pt x="16200" y="10819"/>
                    <a:pt x="10800" y="11719"/>
                    <a:pt x="10800" y="1261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15960" y="4936320"/>
              <a:ext cx="15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Tahoma"/>
                </a:rPr>
                <a:t>unbuffe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198600" y="4551480"/>
            <a:ext cx="3963960" cy="783720"/>
            <a:chOff x="3198600" y="4551480"/>
            <a:chExt cx="3963960" cy="783720"/>
          </a:xfrm>
        </p:grpSpPr>
        <p:sp>
          <p:nvSpPr>
            <p:cNvPr id="243" name=""/>
            <p:cNvSpPr/>
            <p:nvPr/>
          </p:nvSpPr>
          <p:spPr>
            <a:xfrm rot="5400000">
              <a:off x="4989960" y="2759760"/>
              <a:ext cx="380880" cy="39639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103320 h 3963960"/>
                <a:gd name="textAreaBottom" fmla="*/ 3860640 h 39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1000" y="49363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Tahoma"/>
                </a:rPr>
                <a:t>buffe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Unbuffer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until receiver rea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Blocking 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Limited Capac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buffer full: WAIT 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error-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Unlimited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if no msg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Blocking 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ver WAIT (poss. err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4678200" y="3880440"/>
            <a:ext cx="3627720" cy="703800"/>
          </a:xfrm>
          <a:prstGeom prst="borderCallout1">
            <a:avLst>
              <a:gd name="adj1" fmla="val 18750"/>
              <a:gd name="adj2" fmla="val -8333"/>
              <a:gd name="adj3" fmla="val -712"/>
              <a:gd name="adj4" fmla="val -33027"/>
            </a:avLst>
          </a:prstGeom>
          <a:solidFill>
            <a:srgbClr val="cecece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does not kn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when) message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30800" y="487620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33720" y="51048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60000" y="5423760"/>
            <a:ext cx="17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“OK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75440" y="5728680"/>
            <a:ext cx="19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k = receive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5067360"/>
            <a:ext cx="762120" cy="26676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4"/>
                </a:moveTo>
                <a:cubicBezTo>
                  <a:pt x="60" y="12"/>
                  <a:pt x="120" y="0"/>
                  <a:pt x="144" y="24"/>
                </a:cubicBezTo>
                <a:cubicBezTo>
                  <a:pt x="168" y="48"/>
                  <a:pt x="120" y="152"/>
                  <a:pt x="144" y="168"/>
                </a:cubicBezTo>
                <a:cubicBezTo>
                  <a:pt x="168" y="184"/>
                  <a:pt x="264" y="104"/>
                  <a:pt x="288" y="120"/>
                </a:cubicBezTo>
                <a:cubicBezTo>
                  <a:pt x="312" y="136"/>
                  <a:pt x="272" y="240"/>
                  <a:pt x="288" y="264"/>
                </a:cubicBezTo>
                <a:cubicBezTo>
                  <a:pt x="304" y="288"/>
                  <a:pt x="344" y="276"/>
                  <a:pt x="384" y="264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5607000"/>
            <a:ext cx="457200" cy="304920"/>
          </a:xfrm>
          <a:custGeom>
            <a:avLst/>
            <a:gdLst/>
            <a:ahLst/>
            <a:rect l="l" t="t" r="r" b="b"/>
            <a:pathLst>
              <a:path w="336" h="128">
                <a:moveTo>
                  <a:pt x="336" y="16"/>
                </a:moveTo>
                <a:cubicBezTo>
                  <a:pt x="280" y="8"/>
                  <a:pt x="224" y="0"/>
                  <a:pt x="192" y="16"/>
                </a:cubicBezTo>
                <a:cubicBezTo>
                  <a:pt x="160" y="32"/>
                  <a:pt x="176" y="96"/>
                  <a:pt x="144" y="112"/>
                </a:cubicBezTo>
                <a:cubicBezTo>
                  <a:pt x="112" y="128"/>
                  <a:pt x="56" y="120"/>
                  <a:pt x="0" y="112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191120" y="4800600"/>
            <a:ext cx="4572000" cy="1295280"/>
            <a:chOff x="4191120" y="4800600"/>
            <a:chExt cx="4572000" cy="1295280"/>
          </a:xfrm>
        </p:grpSpPr>
        <p:sp>
          <p:nvSpPr>
            <p:cNvPr id="256" name=""/>
            <p:cNvSpPr/>
            <p:nvPr/>
          </p:nvSpPr>
          <p:spPr>
            <a:xfrm>
              <a:off x="4191120" y="4800600"/>
              <a:ext cx="4572000" cy="12952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  <a:effectLst>
              <a:outerShdw dist="53966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77120" y="487692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419280" y="334224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ndez-V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8560" y="2133720"/>
            <a:ext cx="8224560" cy="3809880"/>
            <a:chOff x="538560" y="2133720"/>
            <a:chExt cx="8224560" cy="3809880"/>
          </a:xfrm>
        </p:grpSpPr>
        <p:sp>
          <p:nvSpPr>
            <p:cNvPr id="261" name=""/>
            <p:cNvSpPr/>
            <p:nvPr/>
          </p:nvSpPr>
          <p:spPr>
            <a:xfrm>
              <a:off x="538560" y="3259800"/>
              <a:ext cx="24361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locking S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n Blocking S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77000" y="2437560"/>
              <a:ext cx="548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locking Receiv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n Blocking Rece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8120" y="2133720"/>
              <a:ext cx="0" cy="38098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2895480"/>
              <a:ext cx="815364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38680" y="2133720"/>
              <a:ext cx="0" cy="37144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124080" y="2133720"/>
            <a:ext cx="2362320" cy="38098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09880"/>
              <a:gd name="textAreaBottom" fmla="*/ 3694680 h 3809880"/>
            </a:gdLst>
            <a:ahLst/>
            <a:rect l="textAreaLeft" t="textAreaTop" r="textAreaRight" b="textAreaBottom"/>
            <a:pathLst>
              <a:path w="21600" h="34834">
                <a:moveTo>
                  <a:pt x="3600" y="0"/>
                </a:moveTo>
                <a:arcTo wR="3600" hR="3600" stAng="16200000" swAng="-5400000"/>
                <a:lnTo>
                  <a:pt x="0" y="31234"/>
                </a:lnTo>
                <a:arcTo wR="3600" hR="3600" stAng="10800000" swAng="-5400000"/>
                <a:lnTo>
                  <a:pt x="18000" y="3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4495680"/>
            <a:ext cx="8305920" cy="1447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7160" y="3809880"/>
            <a:ext cx="60948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5680" y="3809880"/>
            <a:ext cx="60984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886200"/>
            <a:ext cx="1295280" cy="2286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67200" y="4804560"/>
            <a:ext cx="27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Busy Waiting / P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95520" y="47836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Most us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77560" y="3894480"/>
            <a:ext cx="8085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537" y="15328"/>
                </a:moveTo>
                <a:lnTo>
                  <a:pt x="23531" y="5936"/>
                </a:lnTo>
              </a:path>
              <a:path w="21600" h="21600">
                <a:moveTo>
                  <a:pt x="23531" y="0"/>
                </a:moveTo>
                <a:lnTo>
                  <a:pt x="23531" y="21600"/>
                </a:lnTo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3754440"/>
            <a:ext cx="19051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67160" y="3809880"/>
            <a:ext cx="60948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3809880"/>
            <a:ext cx="60984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3886200"/>
            <a:ext cx="1295280" cy="2286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21120" y="3856680"/>
            <a:ext cx="8085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966" y="14140"/>
                </a:moveTo>
                <a:lnTo>
                  <a:pt x="-1931" y="5936"/>
                </a:lnTo>
              </a:path>
              <a:path w="21600" h="21600">
                <a:moveTo>
                  <a:pt x="-1931" y="0"/>
                </a:moveTo>
                <a:lnTo>
                  <a:pt x="-1931" y="21600"/>
                </a:lnTo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20:24:45Z</dcterms:created>
  <dc:creator>Bart De Decker</dc:creator>
  <dc:description/>
  <dc:language>en-US</dc:language>
  <cp:lastModifiedBy>Bart De Decker</cp:lastModifiedBy>
  <cp:lastPrinted>1999-12-09T15:29:42Z</cp:lastPrinted>
  <dcterms:modified xsi:type="dcterms:W3CDTF">2004-11-12T09:48:44Z</dcterms:modified>
  <cp:revision>346</cp:revision>
  <dc:subject/>
  <dc:title>Module B2: Concurrent Programming</dc:title>
</cp:coreProperties>
</file>