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3.wmf" ContentType="image/x-wmf"/>
  <Override PartName="/ppt/media/image5.png" ContentType="image/png"/>
  <Override PartName="/ppt/media/image8.jpeg" ContentType="image/jpeg"/>
  <Override PartName="/ppt/media/image16.wmf" ContentType="image/x-wmf"/>
  <Override PartName="/ppt/media/image15.wmf" ContentType="image/x-wmf"/>
  <Override PartName="/ppt/media/image1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F2F5F191-3195-40A2-BAA3-7601ED47AEE4}" type="slidenum">
              <a:rPr b="1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4920" y="-19080"/>
            <a:ext cx="1810800" cy="1425240"/>
            <a:chOff x="-34920" y="-19080"/>
            <a:chExt cx="1810800" cy="1425240"/>
          </a:xfrm>
        </p:grpSpPr>
        <p:sp>
          <p:nvSpPr>
            <p:cNvPr id="5" name=""/>
            <p:cNvSpPr/>
            <p:nvPr/>
          </p:nvSpPr>
          <p:spPr>
            <a:xfrm>
              <a:off x="266040" y="145080"/>
              <a:ext cx="1194120" cy="114480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34920" y="-19080"/>
              <a:ext cx="1810800" cy="1425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50AA5545-1082-40A2-BF8B-D76254B068A1}" type="slidenum">
              <a:rPr b="1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440" y="374760"/>
            <a:ext cx="2332440" cy="1856520"/>
            <a:chOff x="46440" y="374760"/>
            <a:chExt cx="2332440" cy="1856520"/>
          </a:xfrm>
        </p:grpSpPr>
        <p:sp>
          <p:nvSpPr>
            <p:cNvPr id="47" name=""/>
            <p:cNvSpPr/>
            <p:nvPr/>
          </p:nvSpPr>
          <p:spPr>
            <a:xfrm>
              <a:off x="428040" y="612720"/>
              <a:ext cx="1545840" cy="143388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40" y="374760"/>
              <a:ext cx="2332440" cy="185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file:///S3%20deadlocks.ppt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9.wmf"/><Relationship Id="rId20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cal Synchronization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Constr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 Reg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chronization in Solaris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Imple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 Semaphore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Ker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User Code (?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2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Solari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ex_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var_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v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utex_init (&amp;m, ...);  cv_init (&amp;cv, ...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utex_lock (&amp;m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4416480" y="4284720"/>
            <a:ext cx="3584520" cy="100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015" y="1171"/>
                </a:moveTo>
                <a:lnTo>
                  <a:pt x="-459" y="6028"/>
                </a:lnTo>
              </a:path>
              <a:path w="21600" h="21600">
                <a:moveTo>
                  <a:pt x="-459" y="0"/>
                </a:moveTo>
                <a:lnTo>
                  <a:pt x="-459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ck Mutex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Block 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qui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4416480" y="3200400"/>
            <a:ext cx="35845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553" y="16907"/>
                </a:moveTo>
                <a:lnTo>
                  <a:pt x="-459" y="3456"/>
                </a:lnTo>
              </a:path>
              <a:path w="21600" h="21600">
                <a:moveTo>
                  <a:pt x="-459" y="0"/>
                </a:moveTo>
                <a:lnTo>
                  <a:pt x="-459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” necessary because of possible 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4724280" y="1600200"/>
            <a:ext cx="3733920" cy="8254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gion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when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ondition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o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685800" y="373392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! conditio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533520" y="4086360"/>
            <a:ext cx="304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cv_wait (&amp;cv, &amp;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762120" y="4495680"/>
            <a:ext cx="304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utex_unlock (&amp;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1" dur="indefinite" restart="never" nodeType="tmRoot">
          <p:childTnLst>
            <p:seq>
              <p:cTn id="4922" dur="indefinite" nodeType="mainSeq">
                <p:childTnLst>
                  <p:par>
                    <p:cTn id="4923" fill="hold">
                      <p:stCondLst>
                        <p:cond delay="indefinite"/>
                      </p:stCondLst>
                      <p:childTnLst>
                        <p:par>
                          <p:cTn id="4924" fill="hold">
                            <p:stCondLst>
                              <p:cond delay="0"/>
                            </p:stCondLst>
                            <p:childTnLst>
                              <p:par>
                                <p:cTn id="49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7" dur="500" fill="hold"/>
                                        <p:tgtEl>
                                          <p:spTgt spid="3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8" dur="500" fill="hold"/>
                                        <p:tgtEl>
                                          <p:spTgt spid="3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9" fill="hold">
                      <p:stCondLst>
                        <p:cond delay="indefinite"/>
                      </p:stCondLst>
                      <p:childTnLst>
                        <p:par>
                          <p:cTn id="4930" fill="hold">
                            <p:stCondLst>
                              <p:cond delay="0"/>
                            </p:stCondLst>
                            <p:childTnLst>
                              <p:par>
                                <p:cTn id="49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3" dur="500"/>
                                        <p:tgtEl>
                                          <p:spTgt spid="3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4" fill="hold">
                      <p:stCondLst>
                        <p:cond delay="indefinite"/>
                      </p:stCondLst>
                      <p:childTnLst>
                        <p:par>
                          <p:cTn id="4935" fill="hold">
                            <p:stCondLst>
                              <p:cond delay="0"/>
                            </p:stCondLst>
                            <p:childTnLst>
                              <p:par>
                                <p:cTn id="4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8" dur="500"/>
                                        <p:tgtEl>
                                          <p:spTgt spid="3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9" fill="hold">
                      <p:stCondLst>
                        <p:cond delay="indefinite"/>
                      </p:stCondLst>
                      <p:childTnLst>
                        <p:par>
                          <p:cTn id="4940" fill="hold">
                            <p:stCondLst>
                              <p:cond delay="0"/>
                            </p:stCondLst>
                            <p:childTnLst>
                              <p:par>
                                <p:cTn id="49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3" dur="500"/>
                                        <p:tgtEl>
                                          <p:spTgt spid="3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4" fill="hold">
                      <p:stCondLst>
                        <p:cond delay="indefinite"/>
                      </p:stCondLst>
                      <p:childTnLst>
                        <p:par>
                          <p:cTn id="4945" fill="hold">
                            <p:stCondLst>
                              <p:cond delay="0"/>
                            </p:stCondLst>
                            <p:childTnLst>
                              <p:par>
                                <p:cTn id="4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8" dur="500"/>
                                        <p:tgtEl>
                                          <p:spTgt spid="3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9" fill="hold">
                      <p:stCondLst>
                        <p:cond delay="indefinite"/>
                      </p:stCondLst>
                      <p:childTnLst>
                        <p:par>
                          <p:cTn id="4950" fill="hold">
                            <p:stCondLst>
                              <p:cond delay="0"/>
                            </p:stCondLst>
                            <p:childTnLst>
                              <p:par>
                                <p:cTn id="4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3" dur="500"/>
                                        <p:tgtEl>
                                          <p:spTgt spid="3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4" fill="hold">
                      <p:stCondLst>
                        <p:cond delay="indefinite"/>
                      </p:stCondLst>
                      <p:childTnLst>
                        <p:par>
                          <p:cTn id="4955" fill="hold">
                            <p:stCondLst>
                              <p:cond delay="0"/>
                            </p:stCondLst>
                            <p:childTnLst>
                              <p:par>
                                <p:cTn id="4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8" dur="500"/>
                                        <p:tgtEl>
                                          <p:spTgt spid="30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9" fill="hold">
                      <p:stCondLst>
                        <p:cond delay="indefinite"/>
                      </p:stCondLst>
                      <p:childTnLst>
                        <p:par>
                          <p:cTn id="4960" fill="hold">
                            <p:stCondLst>
                              <p:cond delay="0"/>
                            </p:stCondLst>
                            <p:childTnLst>
                              <p:par>
                                <p:cTn id="4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3" dur="500"/>
                                        <p:tgtEl>
                                          <p:spTgt spid="3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4" fill="hold">
                            <p:stCondLst>
                              <p:cond delay="500"/>
                            </p:stCondLst>
                            <p:childTnLst>
                              <p:par>
                                <p:cTn id="49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67" dur="500"/>
                                        <p:tgtEl>
                                          <p:spTgt spid="3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8" fill="hold">
                      <p:stCondLst>
                        <p:cond delay="indefinite"/>
                      </p:stCondLst>
                      <p:childTnLst>
                        <p:par>
                          <p:cTn id="4969" fill="hold">
                            <p:stCondLst>
                              <p:cond delay="0"/>
                            </p:stCondLst>
                            <p:childTnLst>
                              <p:par>
                                <p:cTn id="4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2" dur="500"/>
                                        <p:tgtEl>
                                          <p:spTgt spid="3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3" fill="hold">
                            <p:stCondLst>
                              <p:cond delay="500"/>
                            </p:stCondLst>
                            <p:childTnLst>
                              <p:par>
                                <p:cTn id="49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76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7" fill="hold">
                      <p:stCondLst>
                        <p:cond delay="indefinite"/>
                      </p:stCondLst>
                      <p:childTnLst>
                        <p:par>
                          <p:cTn id="4978" fill="hold">
                            <p:stCondLst>
                              <p:cond delay="0"/>
                            </p:stCondLst>
                            <p:childTnLst>
                              <p:par>
                                <p:cTn id="4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1" dur="500"/>
                                        <p:tgtEl>
                                          <p:spTgt spid="3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2" fill="hold">
                      <p:stCondLst>
                        <p:cond delay="indefinite"/>
                      </p:stCondLst>
                      <p:childTnLst>
                        <p:par>
                          <p:cTn id="4983" fill="hold">
                            <p:stCondLst>
                              <p:cond delay="0"/>
                            </p:stCondLst>
                            <p:childTnLst>
                              <p:par>
                                <p:cTn id="49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6" dur="500"/>
                                        <p:tgtEl>
                                          <p:spTgt spid="3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7" fill="hold">
                      <p:stCondLst>
                        <p:cond delay="indefinite"/>
                      </p:stCondLst>
                      <p:childTnLst>
                        <p:par>
                          <p:cTn id="4988" fill="hold">
                            <p:stCondLst>
                              <p:cond delay="0"/>
                            </p:stCondLst>
                            <p:childTnLst>
                              <p:par>
                                <p:cTn id="49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1" dur="500"/>
                                        <p:tgtEl>
                                          <p:spTgt spid="3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omic Trans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Field of Databas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-Based Re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t Atomic Trans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5943600" y="2286000"/>
            <a:ext cx="2057400" cy="1371600"/>
          </a:xfrm>
          <a:prstGeom prst="flowChartMagneticDisk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2" dur="indefinite" restart="never" nodeType="tmRoot">
          <p:childTnLst>
            <p:seq>
              <p:cTn id="4993" dur="indefinite" nodeType="mainSeq">
                <p:childTnLst>
                  <p:par>
                    <p:cTn id="4994" fill="hold">
                      <p:stCondLst>
                        <p:cond delay="indefinite"/>
                      </p:stCondLst>
                      <p:childTnLst>
                        <p:par>
                          <p:cTn id="4995" fill="hold">
                            <p:stCondLst>
                              <p:cond delay="0"/>
                            </p:stCondLst>
                            <p:childTnLst>
                              <p:par>
                                <p:cTn id="4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8" dur="500"/>
                                        <p:tgtEl>
                                          <p:spTgt spid="3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"/>
          <p:cNvSpPr/>
          <p:nvPr/>
        </p:nvSpPr>
        <p:spPr>
          <a:xfrm>
            <a:off x="533520" y="2057400"/>
            <a:ext cx="3276360" cy="3276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609480" y="251460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609480" y="3505320"/>
            <a:ext cx="1676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B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2271600" y="2576520"/>
            <a:ext cx="1295640" cy="3988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2273400" y="3573360"/>
            <a:ext cx="1295280" cy="3988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2279520" y="2576520"/>
            <a:ext cx="1295640" cy="3988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2274840" y="3573360"/>
            <a:ext cx="1295280" cy="3988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 flipV="1">
            <a:off x="3733920" y="2666880"/>
            <a:ext cx="457200" cy="1067040"/>
          </a:xfrm>
          <a:custGeom>
            <a:avLst/>
            <a:gdLst>
              <a:gd name="textAreaLeft" fmla="*/ 61200 w 457200"/>
              <a:gd name="textAreaRight" fmla="*/ 396000 w 457200"/>
              <a:gd name="textAreaTop" fmla="*/ 186840 h 1067040"/>
              <a:gd name="textAreaBottom" fmla="*/ 7740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0" name=""/>
          <p:cNvGrpSpPr/>
          <p:nvPr/>
        </p:nvGrpSpPr>
        <p:grpSpPr>
          <a:xfrm>
            <a:off x="533520" y="2063880"/>
            <a:ext cx="3276360" cy="3276360"/>
            <a:chOff x="533520" y="2063880"/>
            <a:chExt cx="3276360" cy="3276360"/>
          </a:xfrm>
        </p:grpSpPr>
        <p:sp>
          <p:nvSpPr>
            <p:cNvPr id="3081" name=""/>
            <p:cNvSpPr/>
            <p:nvPr/>
          </p:nvSpPr>
          <p:spPr>
            <a:xfrm>
              <a:off x="533520" y="2063880"/>
              <a:ext cx="3276360" cy="32763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09480" y="2520720"/>
              <a:ext cx="1675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count 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09480" y="3511440"/>
              <a:ext cx="1675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count B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2271600" y="2582640"/>
              <a:ext cx="1294920" cy="398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2271600" y="3573360"/>
              <a:ext cx="1294920" cy="398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6" name=""/>
          <p:cNvSpPr/>
          <p:nvPr/>
        </p:nvSpPr>
        <p:spPr>
          <a:xfrm>
            <a:off x="4495680" y="304812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100.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B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4495680" y="2057400"/>
            <a:ext cx="3124440" cy="2717280"/>
          </a:xfrm>
          <a:prstGeom prst="rect">
            <a:avLst/>
          </a:prstGeom>
          <a:solidFill>
            <a:srgbClr val="cecece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T1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00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A += 100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2274840" y="3575160"/>
            <a:ext cx="1295280" cy="3988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4267080" y="31240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6705720" y="3124080"/>
            <a:ext cx="1981080" cy="9907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2274840" y="3575160"/>
            <a:ext cx="1295280" cy="39888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9" dur="indefinite" restart="never" nodeType="tmRoot">
          <p:childTnLst>
            <p:seq>
              <p:cTn id="5000" dur="indefinite" nodeType="mainSeq">
                <p:childTnLst>
                  <p:par>
                    <p:cTn id="5001" fill="hold">
                      <p:stCondLst>
                        <p:cond delay="indefinite"/>
                      </p:stCondLst>
                      <p:childTnLst>
                        <p:par>
                          <p:cTn id="5002" fill="hold">
                            <p:stCondLst>
                              <p:cond delay="0"/>
                            </p:stCondLst>
                            <p:childTnLst>
                              <p:par>
                                <p:cTn id="5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5" dur="500"/>
                                        <p:tgtEl>
                                          <p:spTgt spid="3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6" fill="hold">
                      <p:stCondLst>
                        <p:cond delay="indefinite"/>
                      </p:stCondLst>
                      <p:childTnLst>
                        <p:par>
                          <p:cTn id="5007" fill="hold">
                            <p:stCondLst>
                              <p:cond delay="0"/>
                            </p:stCondLst>
                            <p:childTnLst>
                              <p:par>
                                <p:cTn id="5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0" dur="5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1" fill="hold">
                            <p:stCondLst>
                              <p:cond delay="500"/>
                            </p:stCondLst>
                            <p:childTnLst>
                              <p:par>
                                <p:cTn id="5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4" dur="500"/>
                                        <p:tgtEl>
                                          <p:spTgt spid="3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8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2" dur="500"/>
                                        <p:tgtEl>
                                          <p:spTgt spid="3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3" fill="hold">
                      <p:stCondLst>
                        <p:cond delay="indefinite"/>
                      </p:stCondLst>
                      <p:childTnLst>
                        <p:par>
                          <p:cTn id="5024" fill="hold">
                            <p:stCondLst>
                              <p:cond delay="0"/>
                            </p:stCondLst>
                            <p:childTnLst>
                              <p:par>
                                <p:cTn id="5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7" dur="500"/>
                                        <p:tgtEl>
                                          <p:spTgt spid="3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8" fill="hold">
                      <p:stCondLst>
                        <p:cond delay="indefinite"/>
                      </p:stCondLst>
                      <p:childTnLst>
                        <p:par>
                          <p:cTn id="5029" fill="hold">
                            <p:stCondLst>
                              <p:cond delay="0"/>
                            </p:stCondLst>
                            <p:childTnLst>
                              <p:par>
                                <p:cTn id="503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2" dur="500" fill="hold"/>
                                        <p:tgtEl>
                                          <p:spTgt spid="3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3" dur="500" fill="hold"/>
                                        <p:tgtEl>
                                          <p:spTgt spid="3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4" fill="hold">
                            <p:stCondLst>
                              <p:cond delay="500"/>
                            </p:stCondLst>
                            <p:childTnLst>
                              <p:par>
                                <p:cTn id="50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7" dur="500"/>
                                        <p:tgtEl>
                                          <p:spTgt spid="3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1" dur="5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2" dur="5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44" fill="hold">
                      <p:stCondLst>
                        <p:cond delay="indefinite"/>
                      </p:stCondLst>
                      <p:childTnLst>
                        <p:par>
                          <p:cTn id="5045" fill="hold">
                            <p:stCondLst>
                              <p:cond delay="0"/>
                            </p:stCondLst>
                            <p:childTnLst>
                              <p:par>
                                <p:cTn id="50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8" dur="5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9" fill="hold">
                      <p:stCondLst>
                        <p:cond delay="indefinite"/>
                      </p:stCondLst>
                      <p:childTnLst>
                        <p:par>
                          <p:cTn id="5050" fill="hold">
                            <p:stCondLst>
                              <p:cond delay="0"/>
                            </p:stCondLst>
                            <p:childTnLst>
                              <p:par>
                                <p:cTn id="50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3" dur="500"/>
                                        <p:tgtEl>
                                          <p:spTgt spid="3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4" fill="hold">
                      <p:stCondLst>
                        <p:cond delay="indefinite"/>
                      </p:stCondLst>
                      <p:childTnLst>
                        <p:par>
                          <p:cTn id="5055" fill="hold">
                            <p:stCondLst>
                              <p:cond delay="0"/>
                            </p:stCondLst>
                            <p:childTnLst>
                              <p:par>
                                <p:cTn id="5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58" dur="500"/>
                                        <p:tgtEl>
                                          <p:spTgt spid="3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9" fill="hold">
                      <p:stCondLst>
                        <p:cond delay="indefinite"/>
                      </p:stCondLst>
                      <p:childTnLst>
                        <p:par>
                          <p:cTn id="5060" fill="hold">
                            <p:stCondLst>
                              <p:cond delay="0"/>
                            </p:stCondLst>
                            <p:childTnLst>
                              <p:par>
                                <p:cTn id="50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3" dur="500" fill="hold"/>
                                        <p:tgtEl>
                                          <p:spTgt spid="3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4" dur="500" fill="hold"/>
                                        <p:tgtEl>
                                          <p:spTgt spid="3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5" fill="hold">
                      <p:stCondLst>
                        <p:cond delay="indefinite"/>
                      </p:stCondLst>
                      <p:childTnLst>
                        <p:par>
                          <p:cTn id="5066" fill="hold">
                            <p:stCondLst>
                              <p:cond delay="0"/>
                            </p:stCondLst>
                            <p:childTnLst>
                              <p:par>
                                <p:cTn id="50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9" dur="500" fill="hold"/>
                                        <p:tgtEl>
                                          <p:spTgt spid="3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0" dur="500" fill="hold"/>
                                        <p:tgtEl>
                                          <p:spTgt spid="3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1" fill="hold">
                      <p:stCondLst>
                        <p:cond delay="indefinite"/>
                      </p:stCondLst>
                      <p:childTnLst>
                        <p:par>
                          <p:cTn id="5072" fill="hold">
                            <p:stCondLst>
                              <p:cond delay="0"/>
                            </p:stCondLst>
                            <p:childTnLst>
                              <p:par>
                                <p:cTn id="50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5" dur="500" fill="hold"/>
                                        <p:tgtEl>
                                          <p:spTgt spid="3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6" dur="500" fill="hold"/>
                                        <p:tgtEl>
                                          <p:spTgt spid="3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ic Transaction: Logical Un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Critical S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||  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; 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; 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ic Transaction: All or Not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ly or as if never happene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286000" y="2057400"/>
            <a:ext cx="1828800" cy="2286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1219320" y="2743200"/>
            <a:ext cx="1447560" cy="380880"/>
          </a:xfrm>
          <a:custGeom>
            <a:avLst/>
            <a:gdLst/>
            <a:ahLst/>
            <a:rect l="l" t="t" r="r" b="b"/>
            <a:pathLst>
              <a:path w="912" h="240">
                <a:moveTo>
                  <a:pt x="0" y="240"/>
                </a:moveTo>
                <a:cubicBezTo>
                  <a:pt x="44" y="120"/>
                  <a:pt x="88" y="0"/>
                  <a:pt x="240" y="0"/>
                </a:cubicBezTo>
                <a:cubicBezTo>
                  <a:pt x="392" y="0"/>
                  <a:pt x="652" y="120"/>
                  <a:pt x="912" y="24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1145520" y="2163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1297800" y="35352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4572000" y="2895480"/>
            <a:ext cx="38862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81" y="34783"/>
                </a:moveTo>
                <a:lnTo>
                  <a:pt x="-424" y="2957"/>
                </a:lnTo>
              </a:path>
              <a:path w="21600" h="21600">
                <a:moveTo>
                  <a:pt x="-424" y="0"/>
                </a:moveTo>
                <a:lnTo>
                  <a:pt x="-424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ystem/Program)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1830240" y="50292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4876920" y="3962520"/>
            <a:ext cx="259056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249" y="8721"/>
                </a:moveTo>
                <a:lnTo>
                  <a:pt x="-635" y="2957"/>
                </a:lnTo>
              </a:path>
              <a:path w="21600" h="21600">
                <a:moveTo>
                  <a:pt x="-635" y="0"/>
                </a:moveTo>
                <a:lnTo>
                  <a:pt x="-635" y="21600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 or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4343400" y="1981080"/>
            <a:ext cx="28195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58" y="26468"/>
                </a:moveTo>
                <a:lnTo>
                  <a:pt x="-584" y="2957"/>
                </a:lnTo>
              </a:path>
              <a:path w="21600" h="21600">
                <a:moveTo>
                  <a:pt x="-584" y="0"/>
                </a:moveTo>
                <a:lnTo>
                  <a:pt x="-584" y="216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Logical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1447920" y="3200400"/>
            <a:ext cx="1143000" cy="304920"/>
          </a:xfrm>
          <a:custGeom>
            <a:avLst/>
            <a:gdLst/>
            <a:ahLst/>
            <a:rect l="l" t="t" r="r" b="b"/>
            <a:pathLst>
              <a:path w="720" h="192">
                <a:moveTo>
                  <a:pt x="720" y="192"/>
                </a:moveTo>
                <a:cubicBezTo>
                  <a:pt x="588" y="96"/>
                  <a:pt x="456" y="0"/>
                  <a:pt x="336" y="0"/>
                </a:cubicBezTo>
                <a:cubicBezTo>
                  <a:pt x="216" y="0"/>
                  <a:pt x="108" y="96"/>
                  <a:pt x="0" y="1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4" name=""/>
          <p:cNvGrpSpPr/>
          <p:nvPr/>
        </p:nvGrpSpPr>
        <p:grpSpPr>
          <a:xfrm>
            <a:off x="1143000" y="3124080"/>
            <a:ext cx="762120" cy="914040"/>
            <a:chOff x="1143000" y="3124080"/>
            <a:chExt cx="762120" cy="914040"/>
          </a:xfrm>
        </p:grpSpPr>
        <p:sp>
          <p:nvSpPr>
            <p:cNvPr id="3105" name=""/>
            <p:cNvSpPr/>
            <p:nvPr/>
          </p:nvSpPr>
          <p:spPr>
            <a:xfrm>
              <a:off x="1143000" y="3276360"/>
              <a:ext cx="762120" cy="761760"/>
            </a:xfrm>
            <a:custGeom>
              <a:avLst/>
              <a:gdLst/>
              <a:ahLst/>
              <a:rect l="l" t="t" r="r" b="b"/>
              <a:pathLst>
                <a:path w="624" h="560">
                  <a:moveTo>
                    <a:pt x="0" y="80"/>
                  </a:moveTo>
                  <a:cubicBezTo>
                    <a:pt x="12" y="80"/>
                    <a:pt x="24" y="80"/>
                    <a:pt x="96" y="80"/>
                  </a:cubicBezTo>
                  <a:cubicBezTo>
                    <a:pt x="168" y="80"/>
                    <a:pt x="344" y="0"/>
                    <a:pt x="432" y="80"/>
                  </a:cubicBezTo>
                  <a:cubicBezTo>
                    <a:pt x="520" y="160"/>
                    <a:pt x="572" y="360"/>
                    <a:pt x="624" y="560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1514160" y="3124080"/>
              <a:ext cx="273240" cy="848880"/>
            </a:xfrm>
            <a:custGeom>
              <a:avLst/>
              <a:gdLst/>
              <a:ahLst/>
              <a:rect l="l" t="t" r="r" b="b"/>
              <a:pathLst>
                <a:path w="224" h="624">
                  <a:moveTo>
                    <a:pt x="224" y="0"/>
                  </a:moveTo>
                  <a:cubicBezTo>
                    <a:pt x="144" y="68"/>
                    <a:pt x="64" y="136"/>
                    <a:pt x="32" y="240"/>
                  </a:cubicBezTo>
                  <a:cubicBezTo>
                    <a:pt x="0" y="344"/>
                    <a:pt x="16" y="484"/>
                    <a:pt x="32" y="624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7" name=""/>
          <p:cNvSpPr/>
          <p:nvPr/>
        </p:nvSpPr>
        <p:spPr>
          <a:xfrm>
            <a:off x="1830600" y="54864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3582360" y="50292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nnot be un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3582720" y="548640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s if never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6400800" y="3962520"/>
            <a:ext cx="1143000" cy="457200"/>
          </a:xfrm>
          <a:prstGeom prst="ellipse">
            <a:avLst/>
          </a:prstGeom>
          <a:noFill/>
          <a:ln w="381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4876920" y="3962520"/>
            <a:ext cx="1295280" cy="457200"/>
          </a:xfrm>
          <a:prstGeom prst="ellipse">
            <a:avLst/>
          </a:prstGeom>
          <a:noFill/>
          <a:ln w="381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7" dur="indefinite" restart="never" nodeType="tmRoot">
          <p:childTnLst>
            <p:seq>
              <p:cTn id="5078" dur="indefinite" nodeType="mainSeq">
                <p:childTnLst>
                  <p:par>
                    <p:cTn id="5079" fill="hold">
                      <p:stCondLst>
                        <p:cond delay="indefinite"/>
                      </p:stCondLst>
                      <p:childTnLst>
                        <p:par>
                          <p:cTn id="5080" fill="hold">
                            <p:stCondLst>
                              <p:cond delay="0"/>
                            </p:stCondLst>
                            <p:childTnLst>
                              <p:par>
                                <p:cTn id="50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3" dur="500"/>
                                        <p:tgtEl>
                                          <p:spTgt spid="3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4" fill="hold">
                      <p:stCondLst>
                        <p:cond delay="indefinite"/>
                      </p:stCondLst>
                      <p:childTnLst>
                        <p:par>
                          <p:cTn id="5085" fill="hold">
                            <p:stCondLst>
                              <p:cond delay="0"/>
                            </p:stCondLst>
                            <p:childTnLst>
                              <p:par>
                                <p:cTn id="5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8" dur="5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9" fill="hold">
                            <p:stCondLst>
                              <p:cond delay="500"/>
                            </p:stCondLst>
                            <p:childTnLst>
                              <p:par>
                                <p:cTn id="50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2" dur="500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3" fill="hold">
                      <p:stCondLst>
                        <p:cond delay="indefinite"/>
                      </p:stCondLst>
                      <p:childTnLst>
                        <p:par>
                          <p:cTn id="5094" fill="hold">
                            <p:stCondLst>
                              <p:cond delay="0"/>
                            </p:stCondLst>
                            <p:childTnLst>
                              <p:par>
                                <p:cTn id="5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7" dur="500"/>
                                        <p:tgtEl>
                                          <p:spTgt spid="3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01" dur="500"/>
                                        <p:tgtEl>
                                          <p:spTgt spid="3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2" fill="hold">
                      <p:stCondLst>
                        <p:cond delay="indefinite"/>
                      </p:stCondLst>
                      <p:childTnLst>
                        <p:par>
                          <p:cTn id="5103" fill="hold">
                            <p:stCondLst>
                              <p:cond delay="0"/>
                            </p:stCondLst>
                            <p:childTnLst>
                              <p:par>
                                <p:cTn id="5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06" dur="500"/>
                                        <p:tgtEl>
                                          <p:spTgt spid="3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7" fill="hold">
                      <p:stCondLst>
                        <p:cond delay="indefinite"/>
                      </p:stCondLst>
                      <p:childTnLst>
                        <p:par>
                          <p:cTn id="5108" fill="hold">
                            <p:stCondLst>
                              <p:cond delay="0"/>
                            </p:stCondLst>
                            <p:childTnLst>
                              <p:par>
                                <p:cTn id="5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11" dur="500"/>
                                        <p:tgtEl>
                                          <p:spTgt spid="3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2" fill="hold">
                      <p:stCondLst>
                        <p:cond delay="indefinite"/>
                      </p:stCondLst>
                      <p:childTnLst>
                        <p:par>
                          <p:cTn id="5113" fill="hold">
                            <p:stCondLst>
                              <p:cond delay="0"/>
                            </p:stCondLst>
                            <p:childTnLst>
                              <p:par>
                                <p:cTn id="5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6" dur="500" fill="hold"/>
                                        <p:tgtEl>
                                          <p:spTgt spid="3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7" dur="500" fill="hold"/>
                                        <p:tgtEl>
                                          <p:spTgt spid="3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8" fill="hold">
                      <p:stCondLst>
                        <p:cond delay="indefinite"/>
                      </p:stCondLst>
                      <p:childTnLst>
                        <p:par>
                          <p:cTn id="5119" fill="hold">
                            <p:stCondLst>
                              <p:cond delay="0"/>
                            </p:stCondLst>
                            <p:childTnLst>
                              <p:par>
                                <p:cTn id="5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2" dur="500"/>
                                        <p:tgtEl>
                                          <p:spTgt spid="3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3" fill="hold">
                            <p:stCondLst>
                              <p:cond delay="500"/>
                            </p:stCondLst>
                            <p:childTnLst>
                              <p:par>
                                <p:cTn id="512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6" dur="500" fill="hold"/>
                                        <p:tgtEl>
                                          <p:spTgt spid="3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7" dur="500" fill="hold"/>
                                        <p:tgtEl>
                                          <p:spTgt spid="3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8" fill="hold">
                      <p:stCondLst>
                        <p:cond delay="indefinite"/>
                      </p:stCondLst>
                      <p:childTnLst>
                        <p:par>
                          <p:cTn id="5129" fill="hold">
                            <p:stCondLst>
                              <p:cond delay="0"/>
                            </p:stCondLst>
                            <p:childTnLst>
                              <p:par>
                                <p:cTn id="5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2" dur="5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3" fill="hold">
                            <p:stCondLst>
                              <p:cond delay="500"/>
                            </p:stCondLst>
                            <p:childTnLst>
                              <p:par>
                                <p:cTn id="5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6" dur="500" fill="hold"/>
                                        <p:tgtEl>
                                          <p:spTgt spid="3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7" dur="500" fill="hold"/>
                                        <p:tgtEl>
                                          <p:spTgt spid="3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8" fill="hold">
                      <p:stCondLst>
                        <p:cond delay="indefinite"/>
                      </p:stCondLst>
                      <p:childTnLst>
                        <p:par>
                          <p:cTn id="5139" fill="hold">
                            <p:stCondLst>
                              <p:cond delay="0"/>
                            </p:stCondLst>
                            <p:childTnLst>
                              <p:par>
                                <p:cTn id="5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2" dur="500"/>
                                        <p:tgtEl>
                                          <p:spTgt spid="3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6" dur="500" fill="hold"/>
                                        <p:tgtEl>
                                          <p:spTgt spid="3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7" dur="500" fill="hold"/>
                                        <p:tgtEl>
                                          <p:spTgt spid="3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1" dur="500" fill="hold"/>
                                        <p:tgtEl>
                                          <p:spTgt spid="3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2" dur="500" fill="hold"/>
                                        <p:tgtEl>
                                          <p:spTgt spid="3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l-or-Not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838080" y="1600200"/>
            <a:ext cx="1676520" cy="1295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752480" y="301932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-48328"/>
              <a:gd name="adj4" fmla="val -478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447920" y="3591000"/>
            <a:ext cx="2133360" cy="703800"/>
          </a:xfrm>
          <a:prstGeom prst="borderCallout1">
            <a:avLst>
              <a:gd name="adj1" fmla="val 18750"/>
              <a:gd name="adj2" fmla="val -8333"/>
              <a:gd name="adj3" fmla="val -158689"/>
              <a:gd name="adj4" fmla="val -2387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surv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5410080" y="1600200"/>
            <a:ext cx="1295640" cy="14479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6324480" y="3200400"/>
            <a:ext cx="1067040" cy="398880"/>
          </a:xfrm>
          <a:prstGeom prst="borderCallout1">
            <a:avLst>
              <a:gd name="adj1" fmla="val 18750"/>
              <a:gd name="adj2" fmla="val -8333"/>
              <a:gd name="adj3" fmla="val -109824"/>
              <a:gd name="adj4" fmla="val -47449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5943600" y="3733920"/>
            <a:ext cx="2666880" cy="703800"/>
          </a:xfrm>
          <a:prstGeom prst="borderCallout1">
            <a:avLst>
              <a:gd name="adj1" fmla="val 18750"/>
              <a:gd name="adj2" fmla="val -8333"/>
              <a:gd name="adj3" fmla="val -188444"/>
              <a:gd name="adj4" fmla="val -16949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rv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3276720" y="4495680"/>
            <a:ext cx="1295280" cy="14479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4952880" y="4646520"/>
            <a:ext cx="1219320" cy="398880"/>
          </a:xfrm>
          <a:prstGeom prst="borderCallout1">
            <a:avLst>
              <a:gd name="adj1" fmla="val 18750"/>
              <a:gd name="adj2" fmla="val -8333"/>
              <a:gd name="adj3" fmla="val 87101"/>
              <a:gd name="adj4" fmla="val -5218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4952880" y="5229360"/>
            <a:ext cx="1600200" cy="703800"/>
          </a:xfrm>
          <a:prstGeom prst="borderCallout1">
            <a:avLst>
              <a:gd name="adj1" fmla="val 18750"/>
              <a:gd name="adj2" fmla="val -8333"/>
              <a:gd name="adj3" fmla="val -4037"/>
              <a:gd name="adj4" fmla="val -32722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2057400" y="4952880"/>
            <a:ext cx="609480" cy="7621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2438280" y="5257800"/>
            <a:ext cx="609840" cy="7621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3" dur="indefinite" restart="never" nodeType="tmRoot">
          <p:childTnLst>
            <p:seq>
              <p:cTn id="5154" dur="indefinite" nodeType="mainSeq">
                <p:childTnLst>
                  <p:par>
                    <p:cTn id="5155" fill="hold">
                      <p:stCondLst>
                        <p:cond delay="indefinite"/>
                      </p:stCondLst>
                      <p:childTnLst>
                        <p:par>
                          <p:cTn id="5156" fill="hold">
                            <p:stCondLst>
                              <p:cond delay="0"/>
                            </p:stCondLst>
                            <p:childTnLst>
                              <p:par>
                                <p:cTn id="5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59" dur="500"/>
                                        <p:tgtEl>
                                          <p:spTgt spid="3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0" fill="hold">
                      <p:stCondLst>
                        <p:cond delay="indefinite"/>
                      </p:stCondLst>
                      <p:childTnLst>
                        <p:par>
                          <p:cTn id="5161" fill="hold">
                            <p:stCondLst>
                              <p:cond delay="0"/>
                            </p:stCondLst>
                            <p:childTnLst>
                              <p:par>
                                <p:cTn id="5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64" dur="500"/>
                                        <p:tgtEl>
                                          <p:spTgt spid="3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5" fill="hold">
                      <p:stCondLst>
                        <p:cond delay="indefinite"/>
                      </p:stCondLst>
                      <p:childTnLst>
                        <p:par>
                          <p:cTn id="5166" fill="hold">
                            <p:stCondLst>
                              <p:cond delay="0"/>
                            </p:stCondLst>
                            <p:childTnLst>
                              <p:par>
                                <p:cTn id="5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69" dur="500"/>
                                        <p:tgtEl>
                                          <p:spTgt spid="3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0" fill="hold">
                      <p:stCondLst>
                        <p:cond delay="indefinite"/>
                      </p:stCondLst>
                      <p:childTnLst>
                        <p:par>
                          <p:cTn id="5171" fill="hold">
                            <p:stCondLst>
                              <p:cond delay="0"/>
                            </p:stCondLst>
                            <p:childTnLst>
                              <p:par>
                                <p:cTn id="5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4" dur="500"/>
                                        <p:tgtEl>
                                          <p:spTgt spid="3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5" fill="hold">
                      <p:stCondLst>
                        <p:cond delay="indefinite"/>
                      </p:stCondLst>
                      <p:childTnLst>
                        <p:par>
                          <p:cTn id="5176" fill="hold">
                            <p:stCondLst>
                              <p:cond delay="0"/>
                            </p:stCondLst>
                            <p:childTnLst>
                              <p:par>
                                <p:cTn id="51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9" dur="500"/>
                                        <p:tgtEl>
                                          <p:spTgt spid="3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0" fill="hold">
                      <p:stCondLst>
                        <p:cond delay="indefinite"/>
                      </p:stCondLst>
                      <p:childTnLst>
                        <p:par>
                          <p:cTn id="5181" fill="hold">
                            <p:stCondLst>
                              <p:cond delay="0"/>
                            </p:stCondLst>
                            <p:childTnLst>
                              <p:par>
                                <p:cTn id="5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84" dur="500"/>
                                        <p:tgtEl>
                                          <p:spTgt spid="3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5" fill="hold">
                      <p:stCondLst>
                        <p:cond delay="indefinite"/>
                      </p:stCondLst>
                      <p:childTnLst>
                        <p:par>
                          <p:cTn id="5186" fill="hold">
                            <p:stCondLst>
                              <p:cond delay="0"/>
                            </p:stCondLst>
                            <p:childTnLst>
                              <p:par>
                                <p:cTn id="5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9" dur="500"/>
                                        <p:tgtEl>
                                          <p:spTgt spid="3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0" fill="hold">
                      <p:stCondLst>
                        <p:cond delay="indefinite"/>
                      </p:stCondLst>
                      <p:childTnLst>
                        <p:par>
                          <p:cTn id="5191" fill="hold">
                            <p:stCondLst>
                              <p:cond delay="0"/>
                            </p:stCondLst>
                            <p:childTnLst>
                              <p:par>
                                <p:cTn id="5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4" dur="5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5" fill="hold">
                            <p:stCondLst>
                              <p:cond delay="500"/>
                            </p:stCondLst>
                            <p:childTnLst>
                              <p:par>
                                <p:cTn id="5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8" dur="500"/>
                                        <p:tgtEl>
                                          <p:spTgt spid="3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9" fill="hold">
                      <p:stCondLst>
                        <p:cond delay="indefinite"/>
                      </p:stCondLst>
                      <p:childTnLst>
                        <p:par>
                          <p:cTn id="5200" fill="hold">
                            <p:stCondLst>
                              <p:cond delay="0"/>
                            </p:stCondLst>
                            <p:childTnLst>
                              <p:par>
                                <p:cTn id="52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03" dur="500"/>
                                        <p:tgtEl>
                                          <p:spTgt spid="3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4" fill="hold">
                      <p:stCondLst>
                        <p:cond delay="indefinite"/>
                      </p:stCondLst>
                      <p:childTnLst>
                        <p:par>
                          <p:cTn id="5205" fill="hold">
                            <p:stCondLst>
                              <p:cond delay="0"/>
                            </p:stCondLst>
                            <p:childTnLst>
                              <p:par>
                                <p:cTn id="5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08" dur="500"/>
                                        <p:tgtEl>
                                          <p:spTgt spid="3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 Based Reco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arantee Atomic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, record all modifications on 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Write-ahead Log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1752480" y="3352680"/>
            <a:ext cx="609624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marL="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ransID  DataID  OldValue  NewValue</a:t>
            </a:r>
            <a:br>
              <a:rPr sz="2400"/>
            </a:b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TransID  starts TIME</a:t>
            </a:r>
            <a:br>
              <a:rPr sz="2400"/>
            </a:b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TransID  commit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685800" y="516744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6000"/>
          </a:bodyPr>
          <a:p>
            <a:pPr lvl="2" marL="754200" indent="-1508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, writ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9" dur="indefinite" restart="never" nodeType="tmRoot">
          <p:childTnLst>
            <p:seq>
              <p:cTn id="5210" dur="indefinite" nodeType="mainSeq">
                <p:childTnLst>
                  <p:par>
                    <p:cTn id="5211" fill="hold">
                      <p:stCondLst>
                        <p:cond delay="indefinite"/>
                      </p:stCondLst>
                      <p:childTnLst>
                        <p:par>
                          <p:cTn id="5212" fill="hold">
                            <p:stCondLst>
                              <p:cond delay="0"/>
                            </p:stCondLst>
                            <p:childTnLst>
                              <p:par>
                                <p:cTn id="5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5" dur="5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6" fill="hold">
                      <p:stCondLst>
                        <p:cond delay="indefinite"/>
                      </p:stCondLst>
                      <p:childTnLst>
                        <p:par>
                          <p:cTn id="5217" fill="hold">
                            <p:stCondLst>
                              <p:cond delay="0"/>
                            </p:stCondLst>
                            <p:childTnLst>
                              <p:par>
                                <p:cTn id="5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0" dur="500"/>
                                        <p:tgtEl>
                                          <p:spTgt spid="3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3" dur="500"/>
                                        <p:tgtEl>
                                          <p:spTgt spid="3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4" fill="hold">
                      <p:stCondLst>
                        <p:cond delay="indefinite"/>
                      </p:stCondLst>
                      <p:childTnLst>
                        <p:par>
                          <p:cTn id="5225" fill="hold">
                            <p:stCondLst>
                              <p:cond delay="0"/>
                            </p:stCondLst>
                            <p:childTnLst>
                              <p:par>
                                <p:cTn id="5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8" dur="500"/>
                                        <p:tgtEl>
                                          <p:spTgt spid="3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 Based Reco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ver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undo (TransID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set to old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redo (TransID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t to new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bo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ndo (TransI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ystem Failu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committed transactions: redo(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s: undo (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9" dur="indefinite" restart="never" nodeType="tmRoot">
          <p:childTnLst>
            <p:seq>
              <p:cTn id="5230" dur="indefinite" nodeType="mainSeq">
                <p:childTnLst>
                  <p:par>
                    <p:cTn id="5231" fill="hold">
                      <p:stCondLst>
                        <p:cond delay="indefinite"/>
                      </p:stCondLst>
                      <p:childTnLst>
                        <p:par>
                          <p:cTn id="5232" fill="hold">
                            <p:stCondLst>
                              <p:cond delay="0"/>
                            </p:stCondLst>
                            <p:childTnLst>
                              <p:par>
                                <p:cTn id="5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5" dur="5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Atomic Trans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Transaction in a Critical S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 restrictive (CS = serial schedul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leaving OK if result equival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erial execu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6" dur="indefinite" restart="never" nodeType="tmRoot">
          <p:childTnLst>
            <p:seq>
              <p:cTn id="5237" dur="indefinite" nodeType="mainSeq">
                <p:childTnLst>
                  <p:par>
                    <p:cTn id="5238" fill="hold">
                      <p:stCondLst>
                        <p:cond delay="indefinite"/>
                      </p:stCondLst>
                      <p:childTnLst>
                        <p:par>
                          <p:cTn id="5239" fill="hold">
                            <p:stCondLst>
                              <p:cond delay="0"/>
                            </p:stCondLst>
                            <p:childTnLst>
                              <p:par>
                                <p:cTn id="5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2" dur="500"/>
                                        <p:tgtEl>
                                          <p:spTgt spid="3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licting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fli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2333520" y="2690640"/>
            <a:ext cx="44690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same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e is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669960" y="3747960"/>
            <a:ext cx="8093160" cy="24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lict serializ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 not conflic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executed in arbitrary or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4390920" y="2133720"/>
            <a:ext cx="381240" cy="457200"/>
          </a:xfrm>
          <a:prstGeom prst="upDownArrow">
            <a:avLst>
              <a:gd name="adj1" fmla="val 50000"/>
              <a:gd name="adj2" fmla="val 23874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3" dur="indefinite" restart="never" nodeType="tmRoot">
          <p:childTnLst>
            <p:seq>
              <p:cTn id="5244" dur="indefinite" nodeType="mainSeq">
                <p:childTnLst>
                  <p:par>
                    <p:cTn id="5245" fill="hold">
                      <p:stCondLst>
                        <p:cond delay="indefinite"/>
                      </p:stCondLst>
                      <p:childTnLst>
                        <p:par>
                          <p:cTn id="5246" fill="hold">
                            <p:stCondLst>
                              <p:cond delay="0"/>
                            </p:stCondLst>
                            <p:childTnLst>
                              <p:par>
                                <p:cTn id="5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9" dur="500"/>
                                        <p:tgtEl>
                                          <p:spTgt spid="3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0" fill="hold">
                            <p:stCondLst>
                              <p:cond delay="500"/>
                            </p:stCondLst>
                            <p:childTnLst>
                              <p:par>
                                <p:cTn id="5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3" dur="500"/>
                                        <p:tgtEl>
                                          <p:spTgt spid="3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7" dur="500"/>
                                        <p:tgtEl>
                                          <p:spTgt spid="3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8" fill="hold">
                      <p:stCondLst>
                        <p:cond delay="indefinite"/>
                      </p:stCondLst>
                      <p:childTnLst>
                        <p:par>
                          <p:cTn id="5259" fill="hold">
                            <p:stCondLst>
                              <p:cond delay="0"/>
                            </p:stCondLst>
                            <p:childTnLst>
                              <p:par>
                                <p:cTn id="5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2" dur="500"/>
                                        <p:tgtEl>
                                          <p:spTgt spid="3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47628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usy wai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oper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emaphore close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o queue and block process (threa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266360" y="1600200"/>
            <a:ext cx="1755720" cy="1904400"/>
            <a:chOff x="4266360" y="1600200"/>
            <a:chExt cx="1755720" cy="1904400"/>
          </a:xfrm>
        </p:grpSpPr>
        <p:sp>
          <p:nvSpPr>
            <p:cNvPr id="273" name=""/>
            <p:cNvSpPr/>
            <p:nvPr/>
          </p:nvSpPr>
          <p:spPr>
            <a:xfrm>
              <a:off x="4619160" y="1600200"/>
              <a:ext cx="261720" cy="190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266360" y="1681200"/>
              <a:ext cx="1755720" cy="640440"/>
              <a:chOff x="4266360" y="1681200"/>
              <a:chExt cx="1755720" cy="640440"/>
            </a:xfrm>
          </p:grpSpPr>
          <p:sp>
            <p:nvSpPr>
              <p:cNvPr id="275" name=""/>
              <p:cNvSpPr/>
              <p:nvPr/>
            </p:nvSpPr>
            <p:spPr>
              <a:xfrm rot="5434200">
                <a:off x="4888440" y="1293480"/>
                <a:ext cx="158400" cy="1401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5315760" y="1681200"/>
                <a:ext cx="706320" cy="640440"/>
                <a:chOff x="5315760" y="1681200"/>
                <a:chExt cx="706320" cy="640440"/>
              </a:xfrm>
            </p:grpSpPr>
            <p:sp>
              <p:nvSpPr>
                <p:cNvPr id="277" name=""/>
                <p:cNvSpPr/>
                <p:nvPr/>
              </p:nvSpPr>
              <p:spPr>
                <a:xfrm rot="5434200">
                  <a:off x="5351760" y="1650960"/>
                  <a:ext cx="633600" cy="7002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5434200">
                  <a:off x="5509800" y="1825920"/>
                  <a:ext cx="317160" cy="350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9" name=""/>
          <p:cNvGrpSpPr/>
          <p:nvPr/>
        </p:nvGrpSpPr>
        <p:grpSpPr>
          <a:xfrm>
            <a:off x="5029200" y="2514600"/>
            <a:ext cx="1630440" cy="1881720"/>
            <a:chOff x="5029200" y="2514600"/>
            <a:chExt cx="1630440" cy="1881720"/>
          </a:xfrm>
        </p:grpSpPr>
        <p:graphicFrame>
          <p:nvGraphicFramePr>
            <p:cNvPr id="280" name=""/>
            <p:cNvGraphicFramePr/>
            <p:nvPr/>
          </p:nvGraphicFramePr>
          <p:xfrm>
            <a:off x="5029200" y="2514600"/>
            <a:ext cx="1630440" cy="1600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29200" y="251460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5334120" y="38862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638680" y="2590920"/>
            <a:ext cx="1630440" cy="1881720"/>
            <a:chOff x="5638680" y="2590920"/>
            <a:chExt cx="1630440" cy="1881720"/>
          </a:xfrm>
        </p:grpSpPr>
        <p:graphicFrame>
          <p:nvGraphicFramePr>
            <p:cNvPr id="284" name=""/>
            <p:cNvGraphicFramePr/>
            <p:nvPr/>
          </p:nvGraphicFramePr>
          <p:xfrm>
            <a:off x="5638680" y="2590920"/>
            <a:ext cx="1630440" cy="160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38680" y="259092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5943600" y="39625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24480" y="2743200"/>
            <a:ext cx="1630440" cy="1881720"/>
            <a:chOff x="6324480" y="2743200"/>
            <a:chExt cx="1630440" cy="1881720"/>
          </a:xfrm>
        </p:grpSpPr>
        <p:graphicFrame>
          <p:nvGraphicFramePr>
            <p:cNvPr id="288" name=""/>
            <p:cNvGraphicFramePr/>
            <p:nvPr/>
          </p:nvGraphicFramePr>
          <p:xfrm>
            <a:off x="6324480" y="2743200"/>
            <a:ext cx="1630440" cy="160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24480" y="274320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6629400" y="41148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85800" y="4191120"/>
            <a:ext cx="4038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-op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rocess (thread) waiting: remove one (1) from queue and wake it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029200" y="2514600"/>
            <a:ext cx="2925720" cy="2110320"/>
            <a:chOff x="5029200" y="2514600"/>
            <a:chExt cx="2925720" cy="2110320"/>
          </a:xfrm>
        </p:grpSpPr>
        <p:sp>
          <p:nvSpPr>
            <p:cNvPr id="293" name=""/>
            <p:cNvSpPr/>
            <p:nvPr/>
          </p:nvSpPr>
          <p:spPr>
            <a:xfrm>
              <a:off x="5029200" y="2514600"/>
              <a:ext cx="1600200" cy="198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5639040" y="2590920"/>
              <a:ext cx="1630080" cy="1881720"/>
              <a:chOff x="5639040" y="2590920"/>
              <a:chExt cx="1630080" cy="1881720"/>
            </a:xfrm>
          </p:grpSpPr>
          <p:graphicFrame>
            <p:nvGraphicFramePr>
              <p:cNvPr id="295" name=""/>
              <p:cNvGraphicFramePr/>
              <p:nvPr/>
            </p:nvGraphicFramePr>
            <p:xfrm>
              <a:off x="5639040" y="2590920"/>
              <a:ext cx="1630080" cy="16002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96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639040" y="2590920"/>
                        <a:ext cx="163008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7" name=""/>
              <p:cNvSpPr/>
              <p:nvPr/>
            </p:nvSpPr>
            <p:spPr>
              <a:xfrm>
                <a:off x="5943600" y="3962520"/>
                <a:ext cx="532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6324840" y="2743200"/>
              <a:ext cx="1630080" cy="1881720"/>
              <a:chOff x="6324840" y="2743200"/>
              <a:chExt cx="1630080" cy="1881720"/>
            </a:xfrm>
          </p:grpSpPr>
          <p:graphicFrame>
            <p:nvGraphicFramePr>
              <p:cNvPr id="299" name=""/>
              <p:cNvGraphicFramePr/>
              <p:nvPr/>
            </p:nvGraphicFramePr>
            <p:xfrm>
              <a:off x="6324840" y="2743200"/>
              <a:ext cx="1630080" cy="1600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0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324840" y="2743200"/>
                        <a:ext cx="163008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1" name=""/>
              <p:cNvSpPr/>
              <p:nvPr/>
            </p:nvSpPr>
            <p:spPr>
              <a:xfrm>
                <a:off x="6629400" y="4114800"/>
                <a:ext cx="532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8" name=""/>
          <p:cNvGrpSpPr/>
          <p:nvPr/>
        </p:nvGrpSpPr>
        <p:grpSpPr>
          <a:xfrm>
            <a:off x="685800" y="1523880"/>
            <a:ext cx="3809880" cy="4572000"/>
            <a:chOff x="685800" y="1523880"/>
            <a:chExt cx="3809880" cy="4572000"/>
          </a:xfrm>
        </p:grpSpPr>
        <p:sp>
          <p:nvSpPr>
            <p:cNvPr id="3139" name=""/>
            <p:cNvSpPr/>
            <p:nvPr/>
          </p:nvSpPr>
          <p:spPr>
            <a:xfrm>
              <a:off x="243828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85800" y="1523880"/>
              <a:ext cx="3809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1" name=""/>
          <p:cNvSpPr/>
          <p:nvPr/>
        </p:nvSpPr>
        <p:spPr>
          <a:xfrm>
            <a:off x="4419720" y="160020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2" name=""/>
          <p:cNvGrpSpPr/>
          <p:nvPr/>
        </p:nvGrpSpPr>
        <p:grpSpPr>
          <a:xfrm>
            <a:off x="4572000" y="1523880"/>
            <a:ext cx="3809880" cy="4572000"/>
            <a:chOff x="4572000" y="1523880"/>
            <a:chExt cx="3809880" cy="4572000"/>
          </a:xfrm>
        </p:grpSpPr>
        <p:sp>
          <p:nvSpPr>
            <p:cNvPr id="3143" name=""/>
            <p:cNvSpPr/>
            <p:nvPr/>
          </p:nvSpPr>
          <p:spPr>
            <a:xfrm>
              <a:off x="624816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572000" y="1523880"/>
              <a:ext cx="3809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5" name=""/>
          <p:cNvSpPr/>
          <p:nvPr/>
        </p:nvSpPr>
        <p:spPr>
          <a:xfrm>
            <a:off x="4586400" y="356400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6400800" y="409572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7" name=""/>
          <p:cNvGrpSpPr/>
          <p:nvPr/>
        </p:nvGrpSpPr>
        <p:grpSpPr>
          <a:xfrm>
            <a:off x="4572000" y="1523880"/>
            <a:ext cx="3809880" cy="4572000"/>
            <a:chOff x="4572000" y="1523880"/>
            <a:chExt cx="3809880" cy="4572000"/>
          </a:xfrm>
        </p:grpSpPr>
        <p:sp>
          <p:nvSpPr>
            <p:cNvPr id="3148" name=""/>
            <p:cNvSpPr/>
            <p:nvPr/>
          </p:nvSpPr>
          <p:spPr>
            <a:xfrm>
              <a:off x="4572000" y="1523880"/>
              <a:ext cx="380988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24816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0" name=""/>
          <p:cNvSpPr/>
          <p:nvPr/>
        </p:nvSpPr>
        <p:spPr>
          <a:xfrm>
            <a:off x="4586400" y="302904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6400800" y="3565440"/>
            <a:ext cx="1523880" cy="60984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2" name=""/>
          <p:cNvGrpSpPr/>
          <p:nvPr/>
        </p:nvGrpSpPr>
        <p:grpSpPr>
          <a:xfrm>
            <a:off x="4572000" y="1523880"/>
            <a:ext cx="3809880" cy="4572000"/>
            <a:chOff x="4572000" y="1523880"/>
            <a:chExt cx="3809880" cy="4572000"/>
          </a:xfrm>
        </p:grpSpPr>
        <p:sp>
          <p:nvSpPr>
            <p:cNvPr id="3153" name=""/>
            <p:cNvSpPr/>
            <p:nvPr/>
          </p:nvSpPr>
          <p:spPr>
            <a:xfrm>
              <a:off x="4572000" y="1523880"/>
              <a:ext cx="380988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24816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5" name=""/>
          <p:cNvSpPr/>
          <p:nvPr/>
        </p:nvSpPr>
        <p:spPr>
          <a:xfrm>
            <a:off x="4586400" y="404028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6400800" y="457200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7" name=""/>
          <p:cNvGrpSpPr/>
          <p:nvPr/>
        </p:nvGrpSpPr>
        <p:grpSpPr>
          <a:xfrm>
            <a:off x="4572000" y="1523880"/>
            <a:ext cx="3809880" cy="4572000"/>
            <a:chOff x="4572000" y="1523880"/>
            <a:chExt cx="3809880" cy="4572000"/>
          </a:xfrm>
        </p:grpSpPr>
        <p:sp>
          <p:nvSpPr>
            <p:cNvPr id="3158" name=""/>
            <p:cNvSpPr/>
            <p:nvPr/>
          </p:nvSpPr>
          <p:spPr>
            <a:xfrm>
              <a:off x="4572000" y="1523880"/>
              <a:ext cx="380988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24816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4586400" y="350676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6400800" y="4038480"/>
            <a:ext cx="1523880" cy="60984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2" name=""/>
          <p:cNvGrpSpPr/>
          <p:nvPr/>
        </p:nvGrpSpPr>
        <p:grpSpPr>
          <a:xfrm>
            <a:off x="4572000" y="1523880"/>
            <a:ext cx="3809880" cy="4572000"/>
            <a:chOff x="4572000" y="1523880"/>
            <a:chExt cx="3809880" cy="4572000"/>
          </a:xfrm>
        </p:grpSpPr>
        <p:sp>
          <p:nvSpPr>
            <p:cNvPr id="3163" name=""/>
            <p:cNvSpPr/>
            <p:nvPr/>
          </p:nvSpPr>
          <p:spPr>
            <a:xfrm>
              <a:off x="4572000" y="1523880"/>
              <a:ext cx="380988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624816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3" dur="indefinite" restart="never" nodeType="tmRoot">
          <p:childTnLst>
            <p:seq>
              <p:cTn id="5264" dur="indefinite" nodeType="mainSeq">
                <p:childTnLst>
                  <p:par>
                    <p:cTn id="5265" fill="hold">
                      <p:stCondLst>
                        <p:cond delay="indefinite"/>
                      </p:stCondLst>
                      <p:childTnLst>
                        <p:par>
                          <p:cTn id="5266" fill="hold">
                            <p:stCondLst>
                              <p:cond delay="0"/>
                            </p:stCondLst>
                            <p:childTnLst>
                              <p:par>
                                <p:cTn id="5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69" dur="500"/>
                                        <p:tgtEl>
                                          <p:spTgt spid="3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0" fill="hold">
                      <p:stCondLst>
                        <p:cond delay="indefinite"/>
                      </p:stCondLst>
                      <p:childTnLst>
                        <p:par>
                          <p:cTn id="5271" fill="hold">
                            <p:stCondLst>
                              <p:cond delay="0"/>
                            </p:stCondLst>
                            <p:childTnLst>
                              <p:par>
                                <p:cTn id="5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4" fill="hold">
                      <p:stCondLst>
                        <p:cond delay="indefinite"/>
                      </p:stCondLst>
                      <p:childTnLst>
                        <p:par>
                          <p:cTn id="5275" fill="hold">
                            <p:stCondLst>
                              <p:cond delay="0"/>
                            </p:stCondLst>
                            <p:childTnLst>
                              <p:par>
                                <p:cTn id="5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8" dur="500"/>
                                        <p:tgtEl>
                                          <p:spTgt spid="3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9" fill="hold">
                      <p:stCondLst>
                        <p:cond delay="indefinite"/>
                      </p:stCondLst>
                      <p:childTnLst>
                        <p:par>
                          <p:cTn id="5280" fill="hold">
                            <p:stCondLst>
                              <p:cond delay="0"/>
                            </p:stCondLst>
                            <p:childTnLst>
                              <p:par>
                                <p:cTn id="5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3" dur="500" fill="hold"/>
                                        <p:tgtEl>
                                          <p:spTgt spid="3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4" dur="500" fill="hold"/>
                                        <p:tgtEl>
                                          <p:spTgt spid="3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5" fill="hold">
                            <p:stCondLst>
                              <p:cond delay="500"/>
                            </p:stCondLst>
                            <p:childTnLst>
                              <p:par>
                                <p:cTn id="5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8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9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0" fill="hold">
                      <p:stCondLst>
                        <p:cond delay="indefinite"/>
                      </p:stCondLst>
                      <p:childTnLst>
                        <p:par>
                          <p:cTn id="5291" fill="hold">
                            <p:stCondLst>
                              <p:cond delay="0"/>
                            </p:stCondLst>
                            <p:childTnLst>
                              <p:par>
                                <p:cTn id="5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4" fill="hold">
                      <p:stCondLst>
                        <p:cond delay="indefinite"/>
                      </p:stCondLst>
                      <p:childTnLst>
                        <p:par>
                          <p:cTn id="5295" fill="hold">
                            <p:stCondLst>
                              <p:cond delay="0"/>
                            </p:stCondLst>
                            <p:childTnLst>
                              <p:par>
                                <p:cTn id="5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8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9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0" fill="hold">
                            <p:stCondLst>
                              <p:cond delay="500"/>
                            </p:stCondLst>
                            <p:childTnLst>
                              <p:par>
                                <p:cTn id="5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3" dur="500" fill="hold"/>
                                        <p:tgtEl>
                                          <p:spTgt spid="3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4" dur="500" fill="hold"/>
                                        <p:tgtEl>
                                          <p:spTgt spid="3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5" fill="hold">
                      <p:stCondLst>
                        <p:cond delay="indefinite"/>
                      </p:stCondLst>
                      <p:childTnLst>
                        <p:par>
                          <p:cTn id="5306" fill="hold">
                            <p:stCondLst>
                              <p:cond delay="0"/>
                            </p:stCondLst>
                            <p:childTnLst>
                              <p:par>
                                <p:cTn id="5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9" fill="hold">
                      <p:stCondLst>
                        <p:cond delay="indefinite"/>
                      </p:stCondLst>
                      <p:childTnLst>
                        <p:par>
                          <p:cTn id="5310" fill="hold">
                            <p:stCondLst>
                              <p:cond delay="0"/>
                            </p:stCondLst>
                            <p:childTnLst>
                              <p:par>
                                <p:cTn id="5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3" dur="500" fill="hold"/>
                                        <p:tgtEl>
                                          <p:spTgt spid="3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4" dur="500" fill="hold"/>
                                        <p:tgtEl>
                                          <p:spTgt spid="3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5" fill="hold">
                            <p:stCondLst>
                              <p:cond delay="500"/>
                            </p:stCondLst>
                            <p:childTnLst>
                              <p:par>
                                <p:cTn id="5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8" dur="500" fill="hold"/>
                                        <p:tgtEl>
                                          <p:spTgt spid="3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9" dur="500" fill="hold"/>
                                        <p:tgtEl>
                                          <p:spTgt spid="3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0" fill="hold">
                      <p:stCondLst>
                        <p:cond delay="indefinite"/>
                      </p:stCondLst>
                      <p:childTnLst>
                        <p:par>
                          <p:cTn id="5321" fill="hold">
                            <p:stCondLst>
                              <p:cond delay="0"/>
                            </p:stCondLst>
                            <p:childTnLst>
                              <p:par>
                                <p:cTn id="5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4" fill="hold">
                      <p:stCondLst>
                        <p:cond delay="indefinite"/>
                      </p:stCondLst>
                      <p:childTnLst>
                        <p:par>
                          <p:cTn id="5325" fill="hold">
                            <p:stCondLst>
                              <p:cond delay="0"/>
                            </p:stCondLst>
                            <p:childTnLst>
                              <p:par>
                                <p:cTn id="5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8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9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3" dur="500" fill="hold"/>
                                        <p:tgtEl>
                                          <p:spTgt spid="3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4" dur="500" fill="hold"/>
                                        <p:tgtEl>
                                          <p:spTgt spid="3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5" fill="hold">
                      <p:stCondLst>
                        <p:cond delay="indefinite"/>
                      </p:stCondLst>
                      <p:childTnLst>
                        <p:par>
                          <p:cTn id="5336" fill="hold">
                            <p:stCondLst>
                              <p:cond delay="0"/>
                            </p:stCondLst>
                            <p:childTnLst>
                              <p:par>
                                <p:cTn id="5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914400" y="1981080"/>
            <a:ext cx="2590920" cy="762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T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3581280" y="1981080"/>
            <a:ext cx="2590920" cy="762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914400" y="3581280"/>
            <a:ext cx="2590920" cy="762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T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2209680" y="4419720"/>
            <a:ext cx="2590920" cy="7617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5029200" y="3429000"/>
            <a:ext cx="533520" cy="1905120"/>
          </a:xfrm>
          <a:custGeom>
            <a:avLst/>
            <a:gdLst>
              <a:gd name="textAreaLeft" fmla="*/ 0 w 533520"/>
              <a:gd name="textAreaRight" fmla="*/ 192600 w 5335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5791320" y="4175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7315200" y="2120760"/>
            <a:ext cx="1282680" cy="2400480"/>
          </a:xfrm>
          <a:custGeom>
            <a:avLst/>
            <a:gdLst/>
            <a:ahLst/>
            <a:rect l="l" t="t" r="r" b="b"/>
            <a:pathLst>
              <a:path w="664" h="1512">
                <a:moveTo>
                  <a:pt x="96" y="1448"/>
                </a:moveTo>
                <a:cubicBezTo>
                  <a:pt x="272" y="1480"/>
                  <a:pt x="448" y="1512"/>
                  <a:pt x="528" y="1304"/>
                </a:cubicBezTo>
                <a:cubicBezTo>
                  <a:pt x="608" y="1096"/>
                  <a:pt x="664" y="400"/>
                  <a:pt x="576" y="200"/>
                </a:cubicBezTo>
                <a:cubicBezTo>
                  <a:pt x="488" y="0"/>
                  <a:pt x="244" y="52"/>
                  <a:pt x="0" y="10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9" dur="indefinite" restart="never" nodeType="tmRoot">
          <p:childTnLst>
            <p:seq>
              <p:cTn id="5340" dur="indefinite" nodeType="mainSeq">
                <p:childTnLst>
                  <p:par>
                    <p:cTn id="5341" fill="hold">
                      <p:stCondLst>
                        <p:cond delay="indefinite"/>
                      </p:stCondLst>
                      <p:childTnLst>
                        <p:par>
                          <p:cTn id="5342" fill="hold">
                            <p:stCondLst>
                              <p:cond delay="0"/>
                            </p:stCondLst>
                            <p:childTnLst>
                              <p:par>
                                <p:cTn id="5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5" dur="500"/>
                                        <p:tgtEl>
                                          <p:spTgt spid="3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6" fill="hold">
                      <p:stCondLst>
                        <p:cond delay="indefinite"/>
                      </p:stCondLst>
                      <p:childTnLst>
                        <p:par>
                          <p:cTn id="5347" fill="hold">
                            <p:stCondLst>
                              <p:cond delay="0"/>
                            </p:stCondLst>
                            <p:childTnLst>
                              <p:par>
                                <p:cTn id="5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0" dur="500"/>
                                        <p:tgtEl>
                                          <p:spTgt spid="3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1" fill="hold">
                      <p:stCondLst>
                        <p:cond delay="indefinite"/>
                      </p:stCondLst>
                      <p:childTnLst>
                        <p:par>
                          <p:cTn id="5352" fill="hold">
                            <p:stCondLst>
                              <p:cond delay="0"/>
                            </p:stCondLst>
                            <p:childTnLst>
                              <p:par>
                                <p:cTn id="5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5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6" fill="hold">
                      <p:stCondLst>
                        <p:cond delay="indefinite"/>
                      </p:stCondLst>
                      <p:childTnLst>
                        <p:par>
                          <p:cTn id="5357" fill="hold">
                            <p:stCondLst>
                              <p:cond delay="0"/>
                            </p:stCondLst>
                            <p:childTnLst>
                              <p:par>
                                <p:cTn id="5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0" dur="500"/>
                                        <p:tgtEl>
                                          <p:spTgt spid="3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1" fill="hold">
                      <p:stCondLst>
                        <p:cond delay="indefinite"/>
                      </p:stCondLst>
                      <p:childTnLst>
                        <p:par>
                          <p:cTn id="5362" fill="hold">
                            <p:stCondLst>
                              <p:cond delay="0"/>
                            </p:stCondLst>
                            <p:childTnLst>
                              <p:par>
                                <p:cTn id="5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5" dur="500"/>
                                        <p:tgtEl>
                                          <p:spTgt spid="3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6" fill="hold">
                            <p:stCondLst>
                              <p:cond delay="500"/>
                            </p:stCondLst>
                            <p:childTnLst>
                              <p:par>
                                <p:cTn id="5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9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3" dur="500" fill="hold"/>
                                        <p:tgtEl>
                                          <p:spTgt spid="3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4" dur="500" fill="hold"/>
                                        <p:tgtEl>
                                          <p:spTgt spid="3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re Serializ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king Protoc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5" name="" descr=""/>
          <p:cNvPicPr/>
          <p:nvPr/>
        </p:nvPicPr>
        <p:blipFill>
          <a:blip r:embed="rId1"/>
          <a:stretch/>
        </p:blipFill>
        <p:spPr>
          <a:xfrm>
            <a:off x="4191120" y="4495680"/>
            <a:ext cx="857160" cy="857520"/>
          </a:xfrm>
          <a:prstGeom prst="rect">
            <a:avLst/>
          </a:prstGeom>
          <a:ln w="0">
            <a:noFill/>
          </a:ln>
        </p:spPr>
      </p:pic>
      <p:grpSp>
        <p:nvGrpSpPr>
          <p:cNvPr id="3176" name=""/>
          <p:cNvGrpSpPr/>
          <p:nvPr/>
        </p:nvGrpSpPr>
        <p:grpSpPr>
          <a:xfrm>
            <a:off x="4952880" y="2835000"/>
            <a:ext cx="730440" cy="1022400"/>
            <a:chOff x="4952880" y="2835000"/>
            <a:chExt cx="730440" cy="1022400"/>
          </a:xfrm>
        </p:grpSpPr>
        <p:sp>
          <p:nvSpPr>
            <p:cNvPr id="3177" name=""/>
            <p:cNvSpPr/>
            <p:nvPr/>
          </p:nvSpPr>
          <p:spPr>
            <a:xfrm>
              <a:off x="4956840" y="3360600"/>
              <a:ext cx="681480" cy="49680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952880" y="3272760"/>
              <a:ext cx="678960" cy="18324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256360" y="3524760"/>
              <a:ext cx="82800" cy="2325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rot="3105600">
              <a:off x="5186160" y="2943000"/>
              <a:ext cx="444600" cy="3492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1" name=""/>
          <p:cNvSpPr/>
          <p:nvPr/>
        </p:nvSpPr>
        <p:spPr>
          <a:xfrm>
            <a:off x="685800" y="36576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stamp based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5" dur="indefinite" restart="never" nodeType="tmRoot">
          <p:childTnLst>
            <p:seq>
              <p:cTn id="5376" dur="indefinite" nodeType="mainSeq">
                <p:childTnLst>
                  <p:par>
                    <p:cTn id="5377" fill="hold">
                      <p:stCondLst>
                        <p:cond delay="0"/>
                      </p:stCondLst>
                      <p:childTnLst>
                        <p:par>
                          <p:cTn id="5378" fill="hold">
                            <p:stCondLst>
                              <p:cond delay="0"/>
                            </p:stCondLst>
                            <p:childTnLst>
                              <p:par>
                                <p:cTn id="5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1" dur="500" fill="hold"/>
                                        <p:tgtEl>
                                          <p:spTgt spid="3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2" dur="500" fill="hold"/>
                                        <p:tgtEl>
                                          <p:spTgt spid="3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3" fill="hold">
                      <p:stCondLst>
                        <p:cond delay="indefinite"/>
                      </p:stCondLst>
                      <p:childTnLst>
                        <p:par>
                          <p:cTn id="5384" fill="hold">
                            <p:stCondLst>
                              <p:cond delay="0"/>
                            </p:stCondLst>
                            <p:childTnLst>
                              <p:par>
                                <p:cTn id="5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7" dur="500"/>
                                        <p:tgtEl>
                                          <p:spTgt spid="3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8" fill="hold">
                            <p:stCondLst>
                              <p:cond delay="500"/>
                            </p:stCondLst>
                            <p:childTnLst>
                              <p:par>
                                <p:cTn id="5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1" dur="500" fill="hold"/>
                                        <p:tgtEl>
                                          <p:spTgt spid="3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2" dur="500" fill="hold"/>
                                        <p:tgtEl>
                                          <p:spTgt spid="3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king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 a lock with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ing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access (Read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sive access (Wri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hase Loc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ing phase (obtain lock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rinking phase (release lock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conflicting operations by first 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Dead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3" dur="indefinite" restart="never" nodeType="tmRoot">
          <p:childTnLst>
            <p:seq>
              <p:cTn id="5394" dur="indefinite" nodeType="mainSeq">
                <p:childTnLst>
                  <p:par>
                    <p:cTn id="5395" fill="hold">
                      <p:stCondLst>
                        <p:cond delay="indefinite"/>
                      </p:stCondLst>
                      <p:childTnLst>
                        <p:par>
                          <p:cTn id="5396" fill="hold">
                            <p:stCondLst>
                              <p:cond delay="0"/>
                            </p:stCondLst>
                            <p:childTnLst>
                              <p:par>
                                <p:cTn id="5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9" dur="500"/>
                                        <p:tgtEl>
                                          <p:spTgt spid="3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0" fill="hold">
                      <p:stCondLst>
                        <p:cond delay="indefinite"/>
                      </p:stCondLst>
                      <p:childTnLst>
                        <p:par>
                          <p:cTn id="5401" fill="hold">
                            <p:stCondLst>
                              <p:cond delay="0"/>
                            </p:stCondLst>
                            <p:childTnLst>
                              <p:par>
                                <p:cTn id="5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4" dur="500"/>
                                        <p:tgtEl>
                                          <p:spTgt spid="3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7" dur="500"/>
                                        <p:tgtEl>
                                          <p:spTgt spid="3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0" dur="500"/>
                                        <p:tgtEl>
                                          <p:spTgt spid="3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3" dur="500"/>
                                        <p:tgtEl>
                                          <p:spTgt spid="3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6" dur="500"/>
                                        <p:tgtEl>
                                          <p:spTgt spid="3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9" dur="500"/>
                                        <p:tgtEl>
                                          <p:spTgt spid="3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0" fill="hold">
                      <p:stCondLst>
                        <p:cond delay="indefinite"/>
                      </p:stCondLst>
                      <p:childTnLst>
                        <p:par>
                          <p:cTn id="5421" fill="hold">
                            <p:stCondLst>
                              <p:cond delay="0"/>
                            </p:stCondLst>
                            <p:childTnLst>
                              <p:par>
                                <p:cTn id="5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4" dur="500"/>
                                        <p:tgtEl>
                                          <p:spTgt spid="3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7" dur="500"/>
                                        <p:tgtEl>
                                          <p:spTgt spid="3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8" fill="hold">
                      <p:stCondLst>
                        <p:cond delay="indefinite"/>
                      </p:stCondLst>
                      <p:childTnLst>
                        <p:par>
                          <p:cTn id="5429" fill="hold">
                            <p:stCondLst>
                              <p:cond delay="0"/>
                            </p:stCondLst>
                            <p:childTnLst>
                              <p:par>
                                <p:cTn id="5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2" dur="500"/>
                                        <p:tgtEl>
                                          <p:spTgt spid="3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"/>
          <p:cNvSpPr/>
          <p:nvPr/>
        </p:nvSpPr>
        <p:spPr>
          <a:xfrm>
            <a:off x="914400" y="198108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3505320" y="1676520"/>
            <a:ext cx="1676160" cy="236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king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365760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3657600" y="3184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914400" y="411480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5486400" y="2057400"/>
            <a:ext cx="1676520" cy="3048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5638680" y="2590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5638680" y="42512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5638680" y="2895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wri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5638680" y="45561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4444200" y="5105520"/>
            <a:ext cx="144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; 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6" name=""/>
          <p:cNvGrpSpPr/>
          <p:nvPr/>
        </p:nvGrpSpPr>
        <p:grpSpPr>
          <a:xfrm>
            <a:off x="1219320" y="2286000"/>
            <a:ext cx="685440" cy="909720"/>
            <a:chOff x="1219320" y="2286000"/>
            <a:chExt cx="685440" cy="909720"/>
          </a:xfrm>
        </p:grpSpPr>
        <p:sp>
          <p:nvSpPr>
            <p:cNvPr id="3197" name=""/>
            <p:cNvSpPr/>
            <p:nvPr/>
          </p:nvSpPr>
          <p:spPr>
            <a:xfrm>
              <a:off x="1222920" y="2634840"/>
              <a:ext cx="681840" cy="56088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219320" y="2535840"/>
              <a:ext cx="679680" cy="2059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523160" y="2819880"/>
              <a:ext cx="82440" cy="26208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329480" y="2286000"/>
              <a:ext cx="484200" cy="3618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1" name=""/>
          <p:cNvSpPr/>
          <p:nvPr/>
        </p:nvSpPr>
        <p:spPr>
          <a:xfrm>
            <a:off x="685800" y="3048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685800" y="3048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3" name=""/>
          <p:cNvGrpSpPr/>
          <p:nvPr/>
        </p:nvGrpSpPr>
        <p:grpSpPr>
          <a:xfrm>
            <a:off x="1219320" y="4572000"/>
            <a:ext cx="685440" cy="909720"/>
            <a:chOff x="1219320" y="4572000"/>
            <a:chExt cx="685440" cy="909720"/>
          </a:xfrm>
        </p:grpSpPr>
        <p:sp>
          <p:nvSpPr>
            <p:cNvPr id="3204" name=""/>
            <p:cNvSpPr/>
            <p:nvPr/>
          </p:nvSpPr>
          <p:spPr>
            <a:xfrm>
              <a:off x="1222920" y="4920840"/>
              <a:ext cx="681840" cy="56088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219320" y="4821840"/>
              <a:ext cx="679680" cy="2059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523160" y="5105880"/>
              <a:ext cx="82440" cy="26208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329480" y="4572000"/>
              <a:ext cx="484200" cy="3618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8" name=""/>
          <p:cNvSpPr/>
          <p:nvPr/>
        </p:nvSpPr>
        <p:spPr>
          <a:xfrm>
            <a:off x="685800" y="5334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5638680" y="3718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wri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6159600" y="3200400"/>
            <a:ext cx="164880" cy="609480"/>
          </a:xfrm>
          <a:custGeom>
            <a:avLst/>
            <a:gdLst/>
            <a:ahLst/>
            <a:rect l="l" t="t" r="r" b="b"/>
            <a:pathLst>
              <a:path w="104" h="384">
                <a:moveTo>
                  <a:pt x="56" y="0"/>
                </a:moveTo>
                <a:cubicBezTo>
                  <a:pt x="28" y="32"/>
                  <a:pt x="0" y="64"/>
                  <a:pt x="8" y="96"/>
                </a:cubicBezTo>
                <a:cubicBezTo>
                  <a:pt x="16" y="128"/>
                  <a:pt x="104" y="168"/>
                  <a:pt x="104" y="192"/>
                </a:cubicBezTo>
                <a:cubicBezTo>
                  <a:pt x="104" y="216"/>
                  <a:pt x="16" y="208"/>
                  <a:pt x="8" y="240"/>
                </a:cubicBezTo>
                <a:cubicBezTo>
                  <a:pt x="0" y="272"/>
                  <a:pt x="28" y="328"/>
                  <a:pt x="56" y="38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6886440" y="3287880"/>
            <a:ext cx="962280" cy="398880"/>
          </a:xfrm>
          <a:prstGeom prst="borderCallout1">
            <a:avLst>
              <a:gd name="adj1" fmla="val 18750"/>
              <a:gd name="adj2" fmla="val -8333"/>
              <a:gd name="adj3" fmla="val 27231"/>
              <a:gd name="adj4" fmla="val -6334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380880" y="4419720"/>
            <a:ext cx="2743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914400" y="411480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4" name=""/>
          <p:cNvGrpSpPr/>
          <p:nvPr/>
        </p:nvGrpSpPr>
        <p:grpSpPr>
          <a:xfrm>
            <a:off x="1371600" y="4724280"/>
            <a:ext cx="685440" cy="909720"/>
            <a:chOff x="1371600" y="4724280"/>
            <a:chExt cx="685440" cy="909720"/>
          </a:xfrm>
        </p:grpSpPr>
        <p:sp>
          <p:nvSpPr>
            <p:cNvPr id="3215" name=""/>
            <p:cNvSpPr/>
            <p:nvPr/>
          </p:nvSpPr>
          <p:spPr>
            <a:xfrm>
              <a:off x="1375200" y="5073120"/>
              <a:ext cx="681840" cy="56088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1371600" y="4974120"/>
              <a:ext cx="679680" cy="2059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1675440" y="5258160"/>
              <a:ext cx="82440" cy="26208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1481760" y="4724280"/>
              <a:ext cx="484200" cy="3618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9" name=""/>
          <p:cNvSpPr/>
          <p:nvPr/>
        </p:nvSpPr>
        <p:spPr>
          <a:xfrm>
            <a:off x="685800" y="5334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685800" y="5334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1" name=""/>
          <p:cNvGrpSpPr/>
          <p:nvPr/>
        </p:nvGrpSpPr>
        <p:grpSpPr>
          <a:xfrm>
            <a:off x="3505320" y="1676520"/>
            <a:ext cx="1676160" cy="2361960"/>
            <a:chOff x="3505320" y="1676520"/>
            <a:chExt cx="1676160" cy="2361960"/>
          </a:xfrm>
        </p:grpSpPr>
        <p:sp>
          <p:nvSpPr>
            <p:cNvPr id="3222" name=""/>
            <p:cNvSpPr/>
            <p:nvPr/>
          </p:nvSpPr>
          <p:spPr>
            <a:xfrm>
              <a:off x="3505320" y="1676520"/>
              <a:ext cx="1676160" cy="23619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657600" y="22096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3657600" y="31845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5" name=""/>
          <p:cNvSpPr/>
          <p:nvPr/>
        </p:nvSpPr>
        <p:spPr>
          <a:xfrm>
            <a:off x="685800" y="3048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685800" y="3048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7" name=""/>
          <p:cNvGrpSpPr/>
          <p:nvPr/>
        </p:nvGrpSpPr>
        <p:grpSpPr>
          <a:xfrm>
            <a:off x="7935480" y="1752480"/>
            <a:ext cx="527760" cy="3581280"/>
            <a:chOff x="7935480" y="1752480"/>
            <a:chExt cx="527760" cy="3581280"/>
          </a:xfrm>
        </p:grpSpPr>
        <p:sp>
          <p:nvSpPr>
            <p:cNvPr id="3228" name=""/>
            <p:cNvSpPr/>
            <p:nvPr/>
          </p:nvSpPr>
          <p:spPr>
            <a:xfrm>
              <a:off x="8382240" y="1752480"/>
              <a:ext cx="0" cy="358128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 rot="16229400">
              <a:off x="7772760" y="3520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279f"/>
                  </a:solidFill>
                  <a:latin typeface="Arial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3" dur="indefinite" restart="never" nodeType="tmRoot">
          <p:childTnLst>
            <p:seq>
              <p:cTn id="5434" dur="indefinite" nodeType="mainSeq">
                <p:childTnLst>
                  <p:par>
                    <p:cTn id="5435" fill="hold">
                      <p:stCondLst>
                        <p:cond delay="indefinite"/>
                      </p:stCondLst>
                      <p:childTnLst>
                        <p:par>
                          <p:cTn id="5436" fill="hold">
                            <p:stCondLst>
                              <p:cond delay="0"/>
                            </p:stCondLst>
                            <p:childTnLst>
                              <p:par>
                                <p:cTn id="5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9" dur="500"/>
                                        <p:tgtEl>
                                          <p:spTgt spid="3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3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4" fill="hold">
                      <p:stCondLst>
                        <p:cond delay="indefinite"/>
                      </p:stCondLst>
                      <p:childTnLst>
                        <p:par>
                          <p:cTn id="5445" fill="hold">
                            <p:stCondLst>
                              <p:cond delay="0"/>
                            </p:stCondLst>
                            <p:childTnLst>
                              <p:par>
                                <p:cTn id="5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8" dur="5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9" fill="hold">
                            <p:stCondLst>
                              <p:cond delay="500"/>
                            </p:stCondLst>
                            <p:childTnLst>
                              <p:par>
                                <p:cTn id="5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2" dur="500"/>
                                        <p:tgtEl>
                                          <p:spTgt spid="3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6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7" fill="hold">
                      <p:stCondLst>
                        <p:cond delay="indefinite"/>
                      </p:stCondLst>
                      <p:childTnLst>
                        <p:par>
                          <p:cTn id="5458" fill="hold">
                            <p:stCondLst>
                              <p:cond delay="0"/>
                            </p:stCondLst>
                            <p:childTnLst>
                              <p:par>
                                <p:cTn id="5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1" dur="500"/>
                                        <p:tgtEl>
                                          <p:spTgt spid="3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2" fill="hold">
                      <p:stCondLst>
                        <p:cond delay="indefinite"/>
                      </p:stCondLst>
                      <p:childTnLst>
                        <p:par>
                          <p:cTn id="5463" fill="hold">
                            <p:stCondLst>
                              <p:cond delay="0"/>
                            </p:stCondLst>
                            <p:childTnLst>
                              <p:par>
                                <p:cTn id="5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6" dur="500" fill="hold"/>
                                        <p:tgtEl>
                                          <p:spTgt spid="3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7" dur="500" fill="hold"/>
                                        <p:tgtEl>
                                          <p:spTgt spid="3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8" fill="hold">
                            <p:stCondLst>
                              <p:cond delay="500"/>
                            </p:stCondLst>
                            <p:childTnLst>
                              <p:par>
                                <p:cTn id="5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1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2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3" fill="hold">
                      <p:stCondLst>
                        <p:cond delay="indefinite"/>
                      </p:stCondLst>
                      <p:childTnLst>
                        <p:par>
                          <p:cTn id="5474" fill="hold">
                            <p:stCondLst>
                              <p:cond delay="0"/>
                            </p:stCondLst>
                            <p:childTnLst>
                              <p:par>
                                <p:cTn id="5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7" dur="5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8" fill="hold">
                            <p:stCondLst>
                              <p:cond delay="500"/>
                            </p:stCondLst>
                            <p:childTnLst>
                              <p:par>
                                <p:cTn id="54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1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2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3" fill="hold">
                      <p:stCondLst>
                        <p:cond delay="indefinite"/>
                      </p:stCondLst>
                      <p:childTnLst>
                        <p:par>
                          <p:cTn id="5484" fill="hold">
                            <p:stCondLst>
                              <p:cond delay="0"/>
                            </p:stCondLst>
                            <p:childTnLst>
                              <p:par>
                                <p:cTn id="5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7" dur="5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8" fill="hold">
                            <p:stCondLst>
                              <p:cond delay="500"/>
                            </p:stCondLst>
                            <p:childTnLst>
                              <p:par>
                                <p:cTn id="54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91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95" dur="500"/>
                                        <p:tgtEl>
                                          <p:spTgt spid="3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6" fill="hold">
                      <p:stCondLst>
                        <p:cond delay="indefinite"/>
                      </p:stCondLst>
                      <p:childTnLst>
                        <p:par>
                          <p:cTn id="5497" fill="hold">
                            <p:stCondLst>
                              <p:cond delay="0"/>
                            </p:stCondLst>
                            <p:childTnLst>
                              <p:par>
                                <p:cTn id="5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0" dur="500"/>
                                        <p:tgtEl>
                                          <p:spTgt spid="3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4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5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9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0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1" fill="hold">
                      <p:stCondLst>
                        <p:cond delay="indefinite"/>
                      </p:stCondLst>
                      <p:childTnLst>
                        <p:par>
                          <p:cTn id="5512" fill="hold">
                            <p:stCondLst>
                              <p:cond delay="0"/>
                            </p:stCondLst>
                            <p:childTnLst>
                              <p:par>
                                <p:cTn id="5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8" dur="500" fill="hold"/>
                                        <p:tgtEl>
                                          <p:spTgt spid="3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9" dur="500" fill="hold"/>
                                        <p:tgtEl>
                                          <p:spTgt spid="3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6" fill="hold">
                      <p:stCondLst>
                        <p:cond delay="indefinite"/>
                      </p:stCondLst>
                      <p:childTnLst>
                        <p:par>
                          <p:cTn id="5527" fill="hold">
                            <p:stCondLst>
                              <p:cond delay="0"/>
                            </p:stCondLst>
                            <p:childTnLst>
                              <p:par>
                                <p:cTn id="5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0" dur="500"/>
                                        <p:tgtEl>
                                          <p:spTgt spid="3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4" dur="500" fill="hold"/>
                                        <p:tgtEl>
                                          <p:spTgt spid="3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5" dur="500" fill="hold"/>
                                        <p:tgtEl>
                                          <p:spTgt spid="3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6" fill="hold">
                      <p:stCondLst>
                        <p:cond delay="indefinite"/>
                      </p:stCondLst>
                      <p:childTnLst>
                        <p:par>
                          <p:cTn id="5537" fill="hold">
                            <p:stCondLst>
                              <p:cond delay="0"/>
                            </p:stCondLst>
                            <p:childTnLst>
                              <p:par>
                                <p:cTn id="5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0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4" dur="500" fill="hold"/>
                                        <p:tgtEl>
                                          <p:spTgt spid="3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5" dur="500" fill="hold"/>
                                        <p:tgtEl>
                                          <p:spTgt spid="3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9" dur="500" fill="hold"/>
                                        <p:tgtEl>
                                          <p:spTgt spid="3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0" dur="500" fill="hold"/>
                                        <p:tgtEl>
                                          <p:spTgt spid="3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1" fill="hold">
                      <p:stCondLst>
                        <p:cond delay="indefinite"/>
                      </p:stCondLst>
                      <p:childTnLst>
                        <p:par>
                          <p:cTn id="5552" fill="hold">
                            <p:stCondLst>
                              <p:cond delay="0"/>
                            </p:stCondLst>
                            <p:childTnLst>
                              <p:par>
                                <p:cTn id="5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5" dur="500"/>
                                        <p:tgtEl>
                                          <p:spTgt spid="3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9" dur="500" fill="hold"/>
                                        <p:tgtEl>
                                          <p:spTgt spid="3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0" dur="500" fill="hold"/>
                                        <p:tgtEl>
                                          <p:spTgt spid="3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1" fill="hold">
                      <p:stCondLst>
                        <p:cond delay="indefinite"/>
                      </p:stCondLst>
                      <p:childTnLst>
                        <p:par>
                          <p:cTn id="5562" fill="hold">
                            <p:stCondLst>
                              <p:cond delay="0"/>
                            </p:stCondLst>
                            <p:childTnLst>
                              <p:par>
                                <p:cTn id="55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5" dur="500" fill="hold"/>
                                        <p:tgtEl>
                                          <p:spTgt spid="3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6" dur="500" fill="hold"/>
                                        <p:tgtEl>
                                          <p:spTgt spid="3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"/>
          <p:cNvSpPr/>
          <p:nvPr/>
        </p:nvSpPr>
        <p:spPr>
          <a:xfrm>
            <a:off x="914400" y="198108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3505320" y="1676520"/>
            <a:ext cx="1676160" cy="236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king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365760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3657600" y="3184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write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914400" y="411480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486400" y="2057400"/>
            <a:ext cx="1676520" cy="2362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638680" y="2590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8" name=""/>
          <p:cNvGrpSpPr/>
          <p:nvPr/>
        </p:nvGrpSpPr>
        <p:grpSpPr>
          <a:xfrm>
            <a:off x="1219320" y="2286000"/>
            <a:ext cx="685440" cy="909720"/>
            <a:chOff x="1219320" y="2286000"/>
            <a:chExt cx="685440" cy="909720"/>
          </a:xfrm>
        </p:grpSpPr>
        <p:sp>
          <p:nvSpPr>
            <p:cNvPr id="3239" name=""/>
            <p:cNvSpPr/>
            <p:nvPr/>
          </p:nvSpPr>
          <p:spPr>
            <a:xfrm>
              <a:off x="1222920" y="2634840"/>
              <a:ext cx="681840" cy="56088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219320" y="2535840"/>
              <a:ext cx="679680" cy="2059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523160" y="2819880"/>
              <a:ext cx="82440" cy="26208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329480" y="2286000"/>
              <a:ext cx="484200" cy="3618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3" name=""/>
          <p:cNvSpPr/>
          <p:nvPr/>
        </p:nvSpPr>
        <p:spPr>
          <a:xfrm>
            <a:off x="685800" y="3048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4" name=""/>
          <p:cNvGrpSpPr/>
          <p:nvPr/>
        </p:nvGrpSpPr>
        <p:grpSpPr>
          <a:xfrm>
            <a:off x="1219320" y="4572000"/>
            <a:ext cx="685440" cy="909720"/>
            <a:chOff x="1219320" y="4572000"/>
            <a:chExt cx="685440" cy="909720"/>
          </a:xfrm>
        </p:grpSpPr>
        <p:sp>
          <p:nvSpPr>
            <p:cNvPr id="3245" name=""/>
            <p:cNvSpPr/>
            <p:nvPr/>
          </p:nvSpPr>
          <p:spPr>
            <a:xfrm>
              <a:off x="1222920" y="4920840"/>
              <a:ext cx="681840" cy="56088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219320" y="4821840"/>
              <a:ext cx="679680" cy="2059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523160" y="5105880"/>
              <a:ext cx="82440" cy="26208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329480" y="4572000"/>
              <a:ext cx="484200" cy="3618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9" name=""/>
          <p:cNvSpPr/>
          <p:nvPr/>
        </p:nvSpPr>
        <p:spPr>
          <a:xfrm>
            <a:off x="685800" y="5334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5638680" y="3718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wri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6858000" y="4141800"/>
            <a:ext cx="961920" cy="398880"/>
          </a:xfrm>
          <a:prstGeom prst="borderCallout1">
            <a:avLst>
              <a:gd name="adj1" fmla="val 18750"/>
              <a:gd name="adj2" fmla="val -8333"/>
              <a:gd name="adj3" fmla="val -19476"/>
              <a:gd name="adj4" fmla="val -40888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2971800" y="3733920"/>
            <a:ext cx="961920" cy="398880"/>
          </a:xfrm>
          <a:prstGeom prst="borderCallout1">
            <a:avLst>
              <a:gd name="adj1" fmla="val 18750"/>
              <a:gd name="adj2" fmla="val -8333"/>
              <a:gd name="adj3" fmla="val -50134"/>
              <a:gd name="adj4" fmla="val 164981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 txBox="1"/>
          <p:nvPr/>
        </p:nvSpPr>
        <p:spPr>
          <a:xfrm>
            <a:off x="4267080" y="4876920"/>
            <a:ext cx="2210040" cy="95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254" name=""/>
          <p:cNvGrpSpPr/>
          <p:nvPr/>
        </p:nvGrpSpPr>
        <p:grpSpPr>
          <a:xfrm>
            <a:off x="7935480" y="1752480"/>
            <a:ext cx="527760" cy="3581280"/>
            <a:chOff x="7935480" y="1752480"/>
            <a:chExt cx="527760" cy="3581280"/>
          </a:xfrm>
        </p:grpSpPr>
        <p:sp>
          <p:nvSpPr>
            <p:cNvPr id="3255" name=""/>
            <p:cNvSpPr/>
            <p:nvPr/>
          </p:nvSpPr>
          <p:spPr>
            <a:xfrm>
              <a:off x="8382240" y="1752480"/>
              <a:ext cx="0" cy="358128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 rot="16229400">
              <a:off x="7772760" y="3520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279f"/>
                  </a:solidFill>
                  <a:latin typeface="Arial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7" dur="indefinite" restart="never" nodeType="tmRoot">
          <p:childTnLst>
            <p:seq>
              <p:cTn id="5568" dur="indefinite" nodeType="mainSeq">
                <p:childTnLst>
                  <p:par>
                    <p:cTn id="5569" fill="hold">
                      <p:stCondLst>
                        <p:cond delay="indefinite"/>
                      </p:stCondLst>
                      <p:childTnLst>
                        <p:par>
                          <p:cTn id="5570" fill="hold">
                            <p:stCondLst>
                              <p:cond delay="0"/>
                            </p:stCondLst>
                            <p:childTnLst>
                              <p:par>
                                <p:cTn id="5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3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7" dur="500"/>
                                        <p:tgtEl>
                                          <p:spTgt spid="3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8" fill="hold">
                      <p:stCondLst>
                        <p:cond delay="indefinite"/>
                      </p:stCondLst>
                      <p:childTnLst>
                        <p:par>
                          <p:cTn id="5579" fill="hold">
                            <p:stCondLst>
                              <p:cond delay="0"/>
                            </p:stCondLst>
                            <p:childTnLst>
                              <p:par>
                                <p:cTn id="5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2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6" dur="500"/>
                                        <p:tgtEl>
                                          <p:spTgt spid="3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0" dur="500"/>
                                        <p:tgtEl>
                                          <p:spTgt spid="3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1" fill="hold">
                      <p:stCondLst>
                        <p:cond delay="indefinite"/>
                      </p:stCondLst>
                      <p:childTnLst>
                        <p:par>
                          <p:cTn id="5592" fill="hold">
                            <p:stCondLst>
                              <p:cond delay="0"/>
                            </p:stCondLst>
                            <p:childTnLst>
                              <p:par>
                                <p:cTn id="5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5" dur="500"/>
                                        <p:tgtEl>
                                          <p:spTgt spid="3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5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9" dur="500" fill="hold"/>
                                        <p:tgtEl>
                                          <p:spTgt spid="3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0" dur="500" fill="hold"/>
                                        <p:tgtEl>
                                          <p:spTgt spid="3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4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5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6" fill="hold">
                      <p:stCondLst>
                        <p:cond delay="indefinite"/>
                      </p:stCondLst>
                      <p:childTnLst>
                        <p:par>
                          <p:cTn id="5607" fill="hold">
                            <p:stCondLst>
                              <p:cond delay="0"/>
                            </p:stCondLst>
                            <p:childTnLst>
                              <p:par>
                                <p:cTn id="5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0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1" fill="hold">
                            <p:stCondLst>
                              <p:cond delay="500"/>
                            </p:stCondLst>
                            <p:childTnLst>
                              <p:par>
                                <p:cTn id="56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4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5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9" dur="500" fill="hold"/>
                                        <p:tgtEl>
                                          <p:spTgt spid="3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0" dur="500" fill="hold"/>
                                        <p:tgtEl>
                                          <p:spTgt spid="3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1" fill="hold">
                      <p:stCondLst>
                        <p:cond delay="indefinite"/>
                      </p:stCondLst>
                      <p:childTnLst>
                        <p:par>
                          <p:cTn id="5622" fill="hold">
                            <p:stCondLst>
                              <p:cond delay="0"/>
                            </p:stCondLst>
                            <p:childTnLst>
                              <p:par>
                                <p:cTn id="5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5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6" fill="hold">
                            <p:stCondLst>
                              <p:cond delay="500"/>
                            </p:stCondLst>
                            <p:childTnLst>
                              <p:par>
                                <p:cTn id="56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9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0" fill="hold">
                      <p:stCondLst>
                        <p:cond delay="indefinite"/>
                      </p:stCondLst>
                      <p:childTnLst>
                        <p:par>
                          <p:cTn id="5631" fill="hold">
                            <p:stCondLst>
                              <p:cond delay="0"/>
                            </p:stCondLst>
                            <p:childTnLst>
                              <p:par>
                                <p:cTn id="5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4" dur="500"/>
                                        <p:tgtEl>
                                          <p:spTgt spid="3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5" fill="hold">
                            <p:stCondLst>
                              <p:cond delay="500"/>
                            </p:stCondLst>
                            <p:childTnLst>
                              <p:par>
                                <p:cTn id="56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8" dur="500"/>
                                        <p:tgtEl>
                                          <p:spTgt spid="3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9" fill="hold">
                      <p:stCondLst>
                        <p:cond delay="indefinite"/>
                      </p:stCondLst>
                      <p:childTnLst>
                        <p:par>
                          <p:cTn id="5640" fill="hold">
                            <p:stCondLst>
                              <p:cond delay="0"/>
                            </p:stCondLst>
                            <p:childTnLst>
                              <p:par>
                                <p:cTn id="56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3" dur="10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4" dur="10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5" dur="10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6" dur="10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-Based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ordering in adv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unique TS with Transaction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R-TS and W-TS with Object Ob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tamp of transaction: last succesful read/wr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Ordering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(T) &lt; W-TS(Obj):  re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(T) &lt; R-TS(Obj):   reje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(T) &lt; W-TS(Obj):  re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: abort + restart (new 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ing operations in TS 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9" name=""/>
          <p:cNvGrpSpPr/>
          <p:nvPr/>
        </p:nvGrpSpPr>
        <p:grpSpPr>
          <a:xfrm>
            <a:off x="5940720" y="3429000"/>
            <a:ext cx="2087280" cy="504720"/>
            <a:chOff x="5940720" y="3429000"/>
            <a:chExt cx="2087280" cy="504720"/>
          </a:xfrm>
        </p:grpSpPr>
        <p:sp>
          <p:nvSpPr>
            <p:cNvPr id="3260" name=""/>
            <p:cNvSpPr/>
            <p:nvPr/>
          </p:nvSpPr>
          <p:spPr>
            <a:xfrm>
              <a:off x="6012000" y="393372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524720" y="3429000"/>
              <a:ext cx="0" cy="5047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659640" y="3429000"/>
              <a:ext cx="0" cy="5047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940720" y="342900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R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6732360" y="342900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Arial"/>
                </a:rPr>
                <a:t>W(T*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5" name=""/>
          <p:cNvGrpSpPr/>
          <p:nvPr/>
        </p:nvGrpSpPr>
        <p:grpSpPr>
          <a:xfrm>
            <a:off x="5940360" y="4005360"/>
            <a:ext cx="2114640" cy="504720"/>
            <a:chOff x="5940360" y="4005360"/>
            <a:chExt cx="2114640" cy="504720"/>
          </a:xfrm>
        </p:grpSpPr>
        <p:sp>
          <p:nvSpPr>
            <p:cNvPr id="3266" name=""/>
            <p:cNvSpPr/>
            <p:nvPr/>
          </p:nvSpPr>
          <p:spPr>
            <a:xfrm>
              <a:off x="6039000" y="451008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551720" y="4005360"/>
              <a:ext cx="0" cy="5047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686640" y="4005360"/>
              <a:ext cx="0" cy="5047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940360" y="4005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W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6786720" y="40053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Arial"/>
                </a:rPr>
                <a:t>R(T*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1" name=""/>
          <p:cNvGrpSpPr/>
          <p:nvPr/>
        </p:nvGrpSpPr>
        <p:grpSpPr>
          <a:xfrm>
            <a:off x="5940360" y="4579920"/>
            <a:ext cx="2114640" cy="504720"/>
            <a:chOff x="5940360" y="4579920"/>
            <a:chExt cx="2114640" cy="504720"/>
          </a:xfrm>
        </p:grpSpPr>
        <p:sp>
          <p:nvSpPr>
            <p:cNvPr id="3272" name=""/>
            <p:cNvSpPr/>
            <p:nvPr/>
          </p:nvSpPr>
          <p:spPr>
            <a:xfrm>
              <a:off x="6039000" y="508464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551720" y="4579920"/>
              <a:ext cx="0" cy="5047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686640" y="4579920"/>
              <a:ext cx="0" cy="5047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5940360" y="4579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W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6759360" y="457992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Arial"/>
                </a:rPr>
                <a:t>W(T*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7" name=""/>
          <p:cNvSpPr/>
          <p:nvPr/>
        </p:nvSpPr>
        <p:spPr>
          <a:xfrm>
            <a:off x="8028360" y="342900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7" dur="indefinite" restart="never" nodeType="tmRoot">
          <p:childTnLst>
            <p:seq>
              <p:cTn id="5648" dur="indefinite" nodeType="mainSeq">
                <p:childTnLst>
                  <p:par>
                    <p:cTn id="5649" fill="hold">
                      <p:stCondLst>
                        <p:cond delay="indefinite"/>
                      </p:stCondLst>
                      <p:childTnLst>
                        <p:par>
                          <p:cTn id="5650" fill="hold">
                            <p:stCondLst>
                              <p:cond delay="0"/>
                            </p:stCondLst>
                            <p:childTnLst>
                              <p:par>
                                <p:cTn id="5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3" dur="500"/>
                                        <p:tgtEl>
                                          <p:spTgt spid="3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4" fill="hold">
                      <p:stCondLst>
                        <p:cond delay="indefinite"/>
                      </p:stCondLst>
                      <p:childTnLst>
                        <p:par>
                          <p:cTn id="5655" fill="hold">
                            <p:stCondLst>
                              <p:cond delay="0"/>
                            </p:stCondLst>
                            <p:childTnLst>
                              <p:par>
                                <p:cTn id="5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8" dur="500"/>
                                        <p:tgtEl>
                                          <p:spTgt spid="3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9" fill="hold">
                      <p:stCondLst>
                        <p:cond delay="indefinite"/>
                      </p:stCondLst>
                      <p:childTnLst>
                        <p:par>
                          <p:cTn id="5660" fill="hold">
                            <p:stCondLst>
                              <p:cond delay="0"/>
                            </p:stCondLst>
                            <p:childTnLst>
                              <p:par>
                                <p:cTn id="5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3" dur="500"/>
                                        <p:tgtEl>
                                          <p:spTgt spid="3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6" dur="500"/>
                                        <p:tgtEl>
                                          <p:spTgt spid="3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7" fill="hold">
                      <p:stCondLst>
                        <p:cond delay="indefinite"/>
                      </p:stCondLst>
                      <p:childTnLst>
                        <p:par>
                          <p:cTn id="5668" fill="hold">
                            <p:stCondLst>
                              <p:cond delay="0"/>
                            </p:stCondLst>
                            <p:childTnLst>
                              <p:par>
                                <p:cTn id="5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1" dur="500"/>
                                        <p:tgtEl>
                                          <p:spTgt spid="3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4" dur="500"/>
                                        <p:tgtEl>
                                          <p:spTgt spid="3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5" fill="hold">
                            <p:stCondLst>
                              <p:cond delay="500"/>
                            </p:stCondLst>
                            <p:childTnLst>
                              <p:par>
                                <p:cTn id="5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8" dur="500"/>
                                        <p:tgtEl>
                                          <p:spTgt spid="3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2" dur="500"/>
                                        <p:tgtEl>
                                          <p:spTgt spid="3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3" fill="hold">
                      <p:stCondLst>
                        <p:cond delay="indefinite"/>
                      </p:stCondLst>
                      <p:childTnLst>
                        <p:par>
                          <p:cTn id="5684" fill="hold">
                            <p:stCondLst>
                              <p:cond delay="0"/>
                            </p:stCondLst>
                            <p:childTnLst>
                              <p:par>
                                <p:cTn id="5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7" dur="500"/>
                                        <p:tgtEl>
                                          <p:spTgt spid="3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8" fill="hold">
                            <p:stCondLst>
                              <p:cond delay="500"/>
                            </p:stCondLst>
                            <p:childTnLst>
                              <p:par>
                                <p:cTn id="5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1" dur="500"/>
                                        <p:tgtEl>
                                          <p:spTgt spid="3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5" dur="500"/>
                                        <p:tgtEl>
                                          <p:spTgt spid="3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6" fill="hold">
                      <p:stCondLst>
                        <p:cond delay="indefinite"/>
                      </p:stCondLst>
                      <p:childTnLst>
                        <p:par>
                          <p:cTn id="5697" fill="hold">
                            <p:stCondLst>
                              <p:cond delay="0"/>
                            </p:stCondLst>
                            <p:childTnLst>
                              <p:par>
                                <p:cTn id="5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0" dur="500"/>
                                        <p:tgtEl>
                                          <p:spTgt spid="3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1" fill="hold">
                      <p:stCondLst>
                        <p:cond delay="indefinite"/>
                      </p:stCondLst>
                      <p:childTnLst>
                        <p:par>
                          <p:cTn id="5702" fill="hold">
                            <p:stCondLst>
                              <p:cond delay="0"/>
                            </p:stCondLst>
                            <p:childTnLst>
                              <p:par>
                                <p:cTn id="5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5" dur="500"/>
                                        <p:tgtEl>
                                          <p:spTgt spid="3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8" dur="500"/>
                                        <p:tgtEl>
                                          <p:spTgt spid="3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Based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914400" y="198108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914400" y="411480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3505320" y="1676520"/>
            <a:ext cx="1676160" cy="236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5486400" y="2057400"/>
            <a:ext cx="1676520" cy="2666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1066680" y="2422440"/>
            <a:ext cx="9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1066680" y="4556160"/>
            <a:ext cx="9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2081160" y="2438280"/>
            <a:ext cx="609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2081160" y="4556160"/>
            <a:ext cx="609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365760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4495680" y="1523880"/>
            <a:ext cx="60984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6477120" y="196524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2081160" y="243828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5638680" y="2590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2081160" y="243828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5638680" y="28796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2004840" y="23907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2081160" y="287964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3657600" y="3184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2004840" y="499572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081160" y="457200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5638680" y="36417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2004840" y="50007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2081160" y="457200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5638680" y="3946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004840" y="49863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2004840" y="45435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2081160" y="501336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4444200" y="5105520"/>
            <a:ext cx="144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; 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9" dur="indefinite" restart="never" nodeType="tmRoot">
          <p:childTnLst>
            <p:seq>
              <p:cTn id="5710" dur="indefinite" nodeType="mainSeq">
                <p:childTnLst>
                  <p:par>
                    <p:cTn id="5711" fill="hold">
                      <p:stCondLst>
                        <p:cond delay="indefinite"/>
                      </p:stCondLst>
                      <p:childTnLst>
                        <p:par>
                          <p:cTn id="5712" fill="hold">
                            <p:stCondLst>
                              <p:cond delay="0"/>
                            </p:stCondLst>
                            <p:childTnLst>
                              <p:par>
                                <p:cTn id="5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5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6" fill="hold">
                            <p:stCondLst>
                              <p:cond delay="500"/>
                            </p:stCondLst>
                            <p:childTnLst>
                              <p:par>
                                <p:cTn id="5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9" dur="500"/>
                                        <p:tgtEl>
                                          <p:spTgt spid="3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3" dur="500"/>
                                        <p:tgtEl>
                                          <p:spTgt spid="3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7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8" fill="hold">
                      <p:stCondLst>
                        <p:cond delay="indefinite"/>
                      </p:stCondLst>
                      <p:childTnLst>
                        <p:par>
                          <p:cTn id="5729" fill="hold">
                            <p:stCondLst>
                              <p:cond delay="0"/>
                            </p:stCondLst>
                            <p:childTnLst>
                              <p:par>
                                <p:cTn id="5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2" dur="500"/>
                                        <p:tgtEl>
                                          <p:spTgt spid="3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3" fill="hold">
                            <p:stCondLst>
                              <p:cond delay="500"/>
                            </p:stCondLst>
                            <p:childTnLst>
                              <p:par>
                                <p:cTn id="5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6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0" dur="500"/>
                                        <p:tgtEl>
                                          <p:spTgt spid="3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4" dur="500"/>
                                        <p:tgtEl>
                                          <p:spTgt spid="3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5" fill="hold">
                      <p:stCondLst>
                        <p:cond delay="indefinite"/>
                      </p:stCondLst>
                      <p:childTnLst>
                        <p:par>
                          <p:cTn id="5746" fill="hold">
                            <p:stCondLst>
                              <p:cond delay="0"/>
                            </p:stCondLst>
                            <p:childTnLst>
                              <p:par>
                                <p:cTn id="57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9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0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1" fill="hold">
                      <p:stCondLst>
                        <p:cond delay="indefinite"/>
                      </p:stCondLst>
                      <p:childTnLst>
                        <p:par>
                          <p:cTn id="5752" fill="hold">
                            <p:stCondLst>
                              <p:cond delay="0"/>
                            </p:stCondLst>
                            <p:childTnLst>
                              <p:par>
                                <p:cTn id="5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5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6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7" fill="hold">
                      <p:stCondLst>
                        <p:cond delay="indefinite"/>
                      </p:stCondLst>
                      <p:childTnLst>
                        <p:par>
                          <p:cTn id="5758" fill="hold">
                            <p:stCondLst>
                              <p:cond delay="0"/>
                            </p:stCondLst>
                            <p:childTnLst>
                              <p:par>
                                <p:cTn id="5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1" dur="500"/>
                                        <p:tgtEl>
                                          <p:spTgt spid="3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2" fill="hold">
                      <p:stCondLst>
                        <p:cond delay="indefinite"/>
                      </p:stCondLst>
                      <p:childTnLst>
                        <p:par>
                          <p:cTn id="5763" fill="hold">
                            <p:stCondLst>
                              <p:cond delay="0"/>
                            </p:stCondLst>
                            <p:childTnLst>
                              <p:par>
                                <p:cTn id="5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6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7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8" fill="hold">
                      <p:stCondLst>
                        <p:cond delay="indefinite"/>
                      </p:stCondLst>
                      <p:childTnLst>
                        <p:par>
                          <p:cTn id="5769" fill="hold">
                            <p:stCondLst>
                              <p:cond delay="0"/>
                            </p:stCondLst>
                            <p:childTnLst>
                              <p:par>
                                <p:cTn id="5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2" dur="500" fill="hold"/>
                                        <p:tgtEl>
                                          <p:spTgt spid="3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3" dur="500" fill="hold"/>
                                        <p:tgtEl>
                                          <p:spTgt spid="3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75" fill="hold">
                      <p:stCondLst>
                        <p:cond delay="indefinite"/>
                      </p:stCondLst>
                      <p:childTnLst>
                        <p:par>
                          <p:cTn id="5776" fill="hold">
                            <p:stCondLst>
                              <p:cond delay="0"/>
                            </p:stCondLst>
                            <p:childTnLst>
                              <p:par>
                                <p:cTn id="5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9" dur="5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0" fill="hold">
                      <p:stCondLst>
                        <p:cond delay="indefinite"/>
                      </p:stCondLst>
                      <p:childTnLst>
                        <p:par>
                          <p:cTn id="5781" fill="hold">
                            <p:stCondLst>
                              <p:cond delay="0"/>
                            </p:stCondLst>
                            <p:childTnLst>
                              <p:par>
                                <p:cTn id="57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4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5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6" fill="hold">
                      <p:stCondLst>
                        <p:cond delay="indefinite"/>
                      </p:stCondLst>
                      <p:childTnLst>
                        <p:par>
                          <p:cTn id="5787" fill="hold">
                            <p:stCondLst>
                              <p:cond delay="0"/>
                            </p:stCondLst>
                            <p:childTnLst>
                              <p:par>
                                <p:cTn id="57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0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1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93" fill="hold">
                      <p:stCondLst>
                        <p:cond delay="indefinite"/>
                      </p:stCondLst>
                      <p:childTnLst>
                        <p:par>
                          <p:cTn id="5794" fill="hold">
                            <p:stCondLst>
                              <p:cond delay="0"/>
                            </p:stCondLst>
                            <p:childTnLst>
                              <p:par>
                                <p:cTn id="5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7" dur="500"/>
                                        <p:tgtEl>
                                          <p:spTgt spid="3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8" fill="hold">
                      <p:stCondLst>
                        <p:cond delay="indefinite"/>
                      </p:stCondLst>
                      <p:childTnLst>
                        <p:par>
                          <p:cTn id="5799" fill="hold">
                            <p:stCondLst>
                              <p:cond delay="0"/>
                            </p:stCondLst>
                            <p:childTnLst>
                              <p:par>
                                <p:cTn id="58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2" dur="5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3" dur="5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4" fill="hold">
                            <p:stCondLst>
                              <p:cond delay="500"/>
                            </p:stCondLst>
                            <p:childTnLst>
                              <p:par>
                                <p:cTn id="58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7" dur="500" fill="hold"/>
                                        <p:tgtEl>
                                          <p:spTgt spid="3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8" dur="500" fill="hold"/>
                                        <p:tgtEl>
                                          <p:spTgt spid="3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10" fill="hold">
                      <p:stCondLst>
                        <p:cond delay="indefinite"/>
                      </p:stCondLst>
                      <p:childTnLst>
                        <p:par>
                          <p:cTn id="5811" fill="hold">
                            <p:stCondLst>
                              <p:cond delay="0"/>
                            </p:stCondLst>
                            <p:childTnLst>
                              <p:par>
                                <p:cTn id="58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4" dur="500" fill="hold"/>
                                        <p:tgtEl>
                                          <p:spTgt spid="3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5" dur="500" fill="hold"/>
                                        <p:tgtEl>
                                          <p:spTgt spid="3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17" fill="hold">
                      <p:stCondLst>
                        <p:cond delay="indefinite"/>
                      </p:stCondLst>
                      <p:childTnLst>
                        <p:par>
                          <p:cTn id="5818" fill="hold">
                            <p:stCondLst>
                              <p:cond delay="0"/>
                            </p:stCondLst>
                            <p:childTnLst>
                              <p:par>
                                <p:cTn id="5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1" dur="500"/>
                                        <p:tgtEl>
                                          <p:spTgt spid="3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2" fill="hold">
                      <p:stCondLst>
                        <p:cond delay="indefinite"/>
                      </p:stCondLst>
                      <p:childTnLst>
                        <p:par>
                          <p:cTn id="5823" fill="hold">
                            <p:stCondLst>
                              <p:cond delay="0"/>
                            </p:stCondLst>
                            <p:childTnLst>
                              <p:par>
                                <p:cTn id="58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6" dur="500" fill="hold"/>
                                        <p:tgtEl>
                                          <p:spTgt spid="3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7" dur="500" fill="hold"/>
                                        <p:tgtEl>
                                          <p:spTgt spid="3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8" fill="hold">
                      <p:stCondLst>
                        <p:cond delay="indefinite"/>
                      </p:stCondLst>
                      <p:childTnLst>
                        <p:par>
                          <p:cTn id="5829" fill="hold">
                            <p:stCondLst>
                              <p:cond delay="0"/>
                            </p:stCondLst>
                            <p:childTnLst>
                              <p:par>
                                <p:cTn id="5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2" dur="500" fill="hold"/>
                                        <p:tgtEl>
                                          <p:spTgt spid="3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3" dur="500" fill="hold"/>
                                        <p:tgtEl>
                                          <p:spTgt spid="3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35" fill="hold">
                      <p:stCondLst>
                        <p:cond delay="indefinite"/>
                      </p:stCondLst>
                      <p:childTnLst>
                        <p:par>
                          <p:cTn id="5836" fill="hold">
                            <p:stCondLst>
                              <p:cond delay="0"/>
                            </p:stCondLst>
                            <p:childTnLst>
                              <p:par>
                                <p:cTn id="5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9" dur="500"/>
                                        <p:tgtEl>
                                          <p:spTgt spid="3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0" fill="hold">
                      <p:stCondLst>
                        <p:cond delay="indefinite"/>
                      </p:stCondLst>
                      <p:childTnLst>
                        <p:par>
                          <p:cTn id="5841" fill="hold">
                            <p:stCondLst>
                              <p:cond delay="0"/>
                            </p:stCondLst>
                            <p:childTnLst>
                              <p:par>
                                <p:cTn id="58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4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5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6" fill="hold">
                      <p:stCondLst>
                        <p:cond delay="indefinite"/>
                      </p:stCondLst>
                      <p:childTnLst>
                        <p:par>
                          <p:cTn id="5847" fill="hold">
                            <p:stCondLst>
                              <p:cond delay="0"/>
                            </p:stCondLst>
                            <p:childTnLst>
                              <p:par>
                                <p:cTn id="58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0" dur="500" fill="hold"/>
                                        <p:tgtEl>
                                          <p:spTgt spid="3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1" dur="500" fill="hold"/>
                                        <p:tgtEl>
                                          <p:spTgt spid="3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53" fill="hold">
                      <p:stCondLst>
                        <p:cond delay="indefinite"/>
                      </p:stCondLst>
                      <p:childTnLst>
                        <p:par>
                          <p:cTn id="5854" fill="hold">
                            <p:stCondLst>
                              <p:cond delay="0"/>
                            </p:stCondLst>
                            <p:childTnLst>
                              <p:par>
                                <p:cTn id="5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7" dur="500"/>
                                        <p:tgtEl>
                                          <p:spTgt spid="3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8" fill="hold">
                      <p:stCondLst>
                        <p:cond delay="indefinite"/>
                      </p:stCondLst>
                      <p:childTnLst>
                        <p:par>
                          <p:cTn id="5859" fill="hold">
                            <p:stCondLst>
                              <p:cond delay="0"/>
                            </p:stCondLst>
                            <p:childTnLst>
                              <p:par>
                                <p:cTn id="5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2" dur="500" fill="hold"/>
                                        <p:tgtEl>
                                          <p:spTgt spid="3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3" dur="500" fill="hold"/>
                                        <p:tgtEl>
                                          <p:spTgt spid="3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4" fill="hold">
                            <p:stCondLst>
                              <p:cond delay="500"/>
                            </p:stCondLst>
                            <p:childTnLst>
                              <p:par>
                                <p:cTn id="58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7" dur="500" fill="hold"/>
                                        <p:tgtEl>
                                          <p:spTgt spid="3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8" dur="500" fill="hold"/>
                                        <p:tgtEl>
                                          <p:spTgt spid="3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70" fill="hold">
                      <p:stCondLst>
                        <p:cond delay="indefinite"/>
                      </p:stCondLst>
                      <p:childTnLst>
                        <p:par>
                          <p:cTn id="5871" fill="hold">
                            <p:stCondLst>
                              <p:cond delay="0"/>
                            </p:stCondLst>
                            <p:childTnLst>
                              <p:par>
                                <p:cTn id="5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4" dur="500"/>
                                        <p:tgtEl>
                                          <p:spTgt spid="3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76" fill="hold">
                      <p:stCondLst>
                        <p:cond delay="indefinite"/>
                      </p:stCondLst>
                      <p:childTnLst>
                        <p:par>
                          <p:cTn id="5877" fill="hold">
                            <p:stCondLst>
                              <p:cond delay="0"/>
                            </p:stCondLst>
                            <p:childTnLst>
                              <p:par>
                                <p:cTn id="587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0" dur="5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1" dur="5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Based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914400" y="198108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914400" y="411480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3505320" y="1676520"/>
            <a:ext cx="1676160" cy="3429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5486400" y="2057400"/>
            <a:ext cx="1676520" cy="2666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1066680" y="2422440"/>
            <a:ext cx="9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1066680" y="4556160"/>
            <a:ext cx="9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2081160" y="2438280"/>
            <a:ext cx="609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2081160" y="4556160"/>
            <a:ext cx="609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365760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4495680" y="1523880"/>
            <a:ext cx="60984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6477120" y="196524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2081160" y="243828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5638680" y="2590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2081160" y="243828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5638680" y="28796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2004840" y="23907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2081160" y="287964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3657600" y="45561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2004840" y="499572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5638680" y="36417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2004840" y="50007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2081160" y="457200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5638680" y="3946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004840" y="49863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2004840" y="45435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2081160" y="501336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0" name=""/>
          <p:cNvGrpSpPr/>
          <p:nvPr/>
        </p:nvGrpSpPr>
        <p:grpSpPr>
          <a:xfrm>
            <a:off x="3657600" y="4572000"/>
            <a:ext cx="762120" cy="380880"/>
            <a:chOff x="3657600" y="4572000"/>
            <a:chExt cx="762120" cy="380880"/>
          </a:xfrm>
        </p:grpSpPr>
        <p:sp>
          <p:nvSpPr>
            <p:cNvPr id="3341" name=""/>
            <p:cNvSpPr/>
            <p:nvPr/>
          </p:nvSpPr>
          <p:spPr>
            <a:xfrm>
              <a:off x="3657600" y="4635360"/>
              <a:ext cx="762120" cy="317520"/>
            </a:xfrm>
            <a:custGeom>
              <a:avLst/>
              <a:gdLst/>
              <a:ahLst/>
              <a:rect l="l" t="t" r="r" b="b"/>
              <a:pathLst>
                <a:path w="624" h="560">
                  <a:moveTo>
                    <a:pt x="0" y="80"/>
                  </a:moveTo>
                  <a:cubicBezTo>
                    <a:pt x="12" y="80"/>
                    <a:pt x="24" y="80"/>
                    <a:pt x="96" y="80"/>
                  </a:cubicBezTo>
                  <a:cubicBezTo>
                    <a:pt x="168" y="80"/>
                    <a:pt x="344" y="0"/>
                    <a:pt x="432" y="80"/>
                  </a:cubicBezTo>
                  <a:cubicBezTo>
                    <a:pt x="520" y="160"/>
                    <a:pt x="572" y="360"/>
                    <a:pt x="624" y="560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4028760" y="4572000"/>
              <a:ext cx="273240" cy="353520"/>
            </a:xfrm>
            <a:custGeom>
              <a:avLst/>
              <a:gdLst/>
              <a:ahLst/>
              <a:rect l="l" t="t" r="r" b="b"/>
              <a:pathLst>
                <a:path w="224" h="624">
                  <a:moveTo>
                    <a:pt x="224" y="0"/>
                  </a:moveTo>
                  <a:cubicBezTo>
                    <a:pt x="144" y="68"/>
                    <a:pt x="64" y="136"/>
                    <a:pt x="32" y="240"/>
                  </a:cubicBezTo>
                  <a:cubicBezTo>
                    <a:pt x="0" y="344"/>
                    <a:pt x="16" y="484"/>
                    <a:pt x="32" y="624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3" name=""/>
          <p:cNvSpPr/>
          <p:nvPr/>
        </p:nvSpPr>
        <p:spPr>
          <a:xfrm>
            <a:off x="5256360" y="5456160"/>
            <a:ext cx="12967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863" y="-11024"/>
                </a:moveTo>
                <a:lnTo>
                  <a:pt x="-1269" y="3456"/>
                </a:lnTo>
              </a:path>
              <a:path w="21600" h="21600">
                <a:moveTo>
                  <a:pt x="-1269" y="0"/>
                </a:moveTo>
                <a:lnTo>
                  <a:pt x="-1269" y="21600"/>
                </a:ln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2071800" y="502920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4495680" y="15238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2" dur="indefinite" restart="never" nodeType="tmRoot">
          <p:childTnLst>
            <p:seq>
              <p:cTn id="5883" dur="indefinite" nodeType="mainSeq">
                <p:childTnLst>
                  <p:par>
                    <p:cTn id="5884" fill="hold">
                      <p:stCondLst>
                        <p:cond delay="indefinite"/>
                      </p:stCondLst>
                      <p:childTnLst>
                        <p:par>
                          <p:cTn id="5885" fill="hold">
                            <p:stCondLst>
                              <p:cond delay="0"/>
                            </p:stCondLst>
                            <p:childTnLst>
                              <p:par>
                                <p:cTn id="5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8" dur="500"/>
                                        <p:tgtEl>
                                          <p:spTgt spid="3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9" fill="hold">
                            <p:stCondLst>
                              <p:cond delay="500"/>
                            </p:stCondLst>
                            <p:childTnLst>
                              <p:par>
                                <p:cTn id="58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2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6" dur="500"/>
                                        <p:tgtEl>
                                          <p:spTgt spid="3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0" dur="500"/>
                                        <p:tgtEl>
                                          <p:spTgt spid="3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1" fill="hold">
                      <p:stCondLst>
                        <p:cond delay="indefinite"/>
                      </p:stCondLst>
                      <p:childTnLst>
                        <p:par>
                          <p:cTn id="5902" fill="hold">
                            <p:stCondLst>
                              <p:cond delay="0"/>
                            </p:stCondLst>
                            <p:childTnLst>
                              <p:par>
                                <p:cTn id="5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5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6" fill="hold">
                            <p:stCondLst>
                              <p:cond delay="500"/>
                            </p:stCondLst>
                            <p:childTnLst>
                              <p:par>
                                <p:cTn id="5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9" dur="500"/>
                                        <p:tgtEl>
                                          <p:spTgt spid="3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3" dur="500"/>
                                        <p:tgtEl>
                                          <p:spTgt spid="3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7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8" fill="hold">
                      <p:stCondLst>
                        <p:cond delay="indefinite"/>
                      </p:stCondLst>
                      <p:childTnLst>
                        <p:par>
                          <p:cTn id="5919" fill="hold">
                            <p:stCondLst>
                              <p:cond delay="0"/>
                            </p:stCondLst>
                            <p:childTnLst>
                              <p:par>
                                <p:cTn id="59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2" dur="500" fill="hold"/>
                                        <p:tgtEl>
                                          <p:spTgt spid="3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3" dur="500" fill="hold"/>
                                        <p:tgtEl>
                                          <p:spTgt spid="3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4" fill="hold">
                      <p:stCondLst>
                        <p:cond delay="indefinite"/>
                      </p:stCondLst>
                      <p:childTnLst>
                        <p:par>
                          <p:cTn id="5925" fill="hold">
                            <p:stCondLst>
                              <p:cond delay="0"/>
                            </p:stCondLst>
                            <p:childTnLst>
                              <p:par>
                                <p:cTn id="59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8" dur="500" fill="hold"/>
                                        <p:tgtEl>
                                          <p:spTgt spid="3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9" dur="500" fill="hold"/>
                                        <p:tgtEl>
                                          <p:spTgt spid="3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0" fill="hold">
                      <p:stCondLst>
                        <p:cond delay="indefinite"/>
                      </p:stCondLst>
                      <p:childTnLst>
                        <p:par>
                          <p:cTn id="5931" fill="hold">
                            <p:stCondLst>
                              <p:cond delay="0"/>
                            </p:stCondLst>
                            <p:childTnLst>
                              <p:par>
                                <p:cTn id="5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4" dur="500"/>
                                        <p:tgtEl>
                                          <p:spTgt spid="3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5" fill="hold">
                      <p:stCondLst>
                        <p:cond delay="indefinite"/>
                      </p:stCondLst>
                      <p:childTnLst>
                        <p:par>
                          <p:cTn id="5936" fill="hold">
                            <p:stCondLst>
                              <p:cond delay="0"/>
                            </p:stCondLst>
                            <p:childTnLst>
                              <p:par>
                                <p:cTn id="59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9" dur="500" fill="hold"/>
                                        <p:tgtEl>
                                          <p:spTgt spid="3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0" dur="500" fill="hold"/>
                                        <p:tgtEl>
                                          <p:spTgt spid="3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1" fill="hold">
                      <p:stCondLst>
                        <p:cond delay="indefinite"/>
                      </p:stCondLst>
                      <p:childTnLst>
                        <p:par>
                          <p:cTn id="5942" fill="hold">
                            <p:stCondLst>
                              <p:cond delay="0"/>
                            </p:stCondLst>
                            <p:childTnLst>
                              <p:par>
                                <p:cTn id="59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5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6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48" fill="hold">
                      <p:stCondLst>
                        <p:cond delay="indefinite"/>
                      </p:stCondLst>
                      <p:childTnLst>
                        <p:par>
                          <p:cTn id="5949" fill="hold">
                            <p:stCondLst>
                              <p:cond delay="0"/>
                            </p:stCondLst>
                            <p:childTnLst>
                              <p:par>
                                <p:cTn id="5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2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3" fill="hold">
                      <p:stCondLst>
                        <p:cond delay="indefinite"/>
                      </p:stCondLst>
                      <p:childTnLst>
                        <p:par>
                          <p:cTn id="5954" fill="hold">
                            <p:stCondLst>
                              <p:cond delay="0"/>
                            </p:stCondLst>
                            <p:childTnLst>
                              <p:par>
                                <p:cTn id="59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7" dur="500" fill="hold"/>
                                        <p:tgtEl>
                                          <p:spTgt spid="3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8" dur="500" fill="hold"/>
                                        <p:tgtEl>
                                          <p:spTgt spid="3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9" fill="hold">
                      <p:stCondLst>
                        <p:cond delay="indefinite"/>
                      </p:stCondLst>
                      <p:childTnLst>
                        <p:par>
                          <p:cTn id="5960" fill="hold">
                            <p:stCondLst>
                              <p:cond delay="0"/>
                            </p:stCondLst>
                            <p:childTnLst>
                              <p:par>
                                <p:cTn id="59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3" dur="5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4" dur="5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66" fill="hold">
                      <p:stCondLst>
                        <p:cond delay="indefinite"/>
                      </p:stCondLst>
                      <p:childTnLst>
                        <p:par>
                          <p:cTn id="5967" fill="hold">
                            <p:stCondLst>
                              <p:cond delay="0"/>
                            </p:stCondLst>
                            <p:childTnLst>
                              <p:par>
                                <p:cTn id="5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0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1" fill="hold">
                      <p:stCondLst>
                        <p:cond delay="indefinite"/>
                      </p:stCondLst>
                      <p:childTnLst>
                        <p:par>
                          <p:cTn id="5972" fill="hold">
                            <p:stCondLst>
                              <p:cond delay="0"/>
                            </p:stCondLst>
                            <p:childTnLst>
                              <p:par>
                                <p:cTn id="5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5" dur="500" fill="hold"/>
                                        <p:tgtEl>
                                          <p:spTgt spid="3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6" dur="500" fill="hold"/>
                                        <p:tgtEl>
                                          <p:spTgt spid="3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7" fill="hold">
                            <p:stCondLst>
                              <p:cond delay="500"/>
                            </p:stCondLst>
                            <p:childTnLst>
                              <p:par>
                                <p:cTn id="59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0" dur="500" fill="hold"/>
                                        <p:tgtEl>
                                          <p:spTgt spid="3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1" dur="500" fill="hold"/>
                                        <p:tgtEl>
                                          <p:spTgt spid="3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83" fill="hold">
                      <p:stCondLst>
                        <p:cond delay="indefinite"/>
                      </p:stCondLst>
                      <p:childTnLst>
                        <p:par>
                          <p:cTn id="5984" fill="hold">
                            <p:stCondLst>
                              <p:cond delay="0"/>
                            </p:stCondLst>
                            <p:childTnLst>
                              <p:par>
                                <p:cTn id="59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7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8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90" fill="hold">
                      <p:stCondLst>
                        <p:cond delay="indefinite"/>
                      </p:stCondLst>
                      <p:childTnLst>
                        <p:par>
                          <p:cTn id="5991" fill="hold">
                            <p:stCondLst>
                              <p:cond delay="0"/>
                            </p:stCondLst>
                            <p:childTnLst>
                              <p:par>
                                <p:cTn id="5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4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5" fill="hold">
                      <p:stCondLst>
                        <p:cond delay="indefinite"/>
                      </p:stCondLst>
                      <p:childTnLst>
                        <p:par>
                          <p:cTn id="5996" fill="hold">
                            <p:stCondLst>
                              <p:cond delay="0"/>
                            </p:stCondLst>
                            <p:childTnLst>
                              <p:par>
                                <p:cTn id="5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9" dur="500" fill="hold"/>
                                        <p:tgtEl>
                                          <p:spTgt spid="3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0" dur="500" fill="hold"/>
                                        <p:tgtEl>
                                          <p:spTgt spid="3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1" fill="hold">
                      <p:stCondLst>
                        <p:cond delay="indefinite"/>
                      </p:stCondLst>
                      <p:childTnLst>
                        <p:par>
                          <p:cTn id="6002" fill="hold">
                            <p:stCondLst>
                              <p:cond delay="0"/>
                            </p:stCondLst>
                            <p:childTnLst>
                              <p:par>
                                <p:cTn id="60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5" dur="500" fill="hold"/>
                                        <p:tgtEl>
                                          <p:spTgt spid="3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6" dur="500" fill="hold"/>
                                        <p:tgtEl>
                                          <p:spTgt spid="3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08" fill="hold">
                      <p:stCondLst>
                        <p:cond delay="indefinite"/>
                      </p:stCondLst>
                      <p:childTnLst>
                        <p:par>
                          <p:cTn id="6009" fill="hold">
                            <p:stCondLst>
                              <p:cond delay="0"/>
                            </p:stCondLst>
                            <p:childTnLst>
                              <p:par>
                                <p:cTn id="6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2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3" fill="hold">
                      <p:stCondLst>
                        <p:cond delay="indefinite"/>
                      </p:stCondLst>
                      <p:childTnLst>
                        <p:par>
                          <p:cTn id="6014" fill="hold">
                            <p:stCondLst>
                              <p:cond delay="0"/>
                            </p:stCondLst>
                            <p:childTnLst>
                              <p:par>
                                <p:cTn id="60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7" dur="5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8" dur="5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9" fill="hold">
                            <p:stCondLst>
                              <p:cond delay="500"/>
                            </p:stCondLst>
                            <p:childTnLst>
                              <p:par>
                                <p:cTn id="60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2" dur="500" fill="hold"/>
                                        <p:tgtEl>
                                          <p:spTgt spid="3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3" dur="500" fill="hold"/>
                                        <p:tgtEl>
                                          <p:spTgt spid="3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25" fill="hold">
                      <p:stCondLst>
                        <p:cond delay="indefinite"/>
                      </p:stCondLst>
                      <p:childTnLst>
                        <p:par>
                          <p:cTn id="6026" fill="hold">
                            <p:stCondLst>
                              <p:cond delay="0"/>
                            </p:stCondLst>
                            <p:childTnLst>
                              <p:par>
                                <p:cTn id="6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9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31" fill="hold">
                      <p:stCondLst>
                        <p:cond delay="indefinite"/>
                      </p:stCondLst>
                      <p:childTnLst>
                        <p:par>
                          <p:cTn id="6032" fill="hold">
                            <p:stCondLst>
                              <p:cond delay="0"/>
                            </p:stCondLst>
                            <p:childTnLst>
                              <p:par>
                                <p:cTn id="6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5" dur="500"/>
                                        <p:tgtEl>
                                          <p:spTgt spid="3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6" fill="hold">
                      <p:stCondLst>
                        <p:cond delay="indefinite"/>
                      </p:stCondLst>
                      <p:childTnLst>
                        <p:par>
                          <p:cTn id="6037" fill="hold">
                            <p:stCondLst>
                              <p:cond delay="0"/>
                            </p:stCondLst>
                            <p:childTnLst>
                              <p:par>
                                <p:cTn id="60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0" dur="500" fill="hold"/>
                                        <p:tgtEl>
                                          <p:spTgt spid="3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1" dur="500" fill="hold"/>
                                        <p:tgtEl>
                                          <p:spTgt spid="3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2" fill="hold">
                            <p:stCondLst>
                              <p:cond delay="500"/>
                            </p:stCondLst>
                            <p:childTnLst>
                              <p:par>
                                <p:cTn id="60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5" dur="500" fill="hold"/>
                                        <p:tgtEl>
                                          <p:spTgt spid="3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6" dur="500" fill="hold"/>
                                        <p:tgtEl>
                                          <p:spTgt spid="3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1" dur="5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2" dur="5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3" fill="hold">
                      <p:stCondLst>
                        <p:cond delay="indefinite"/>
                      </p:stCondLst>
                      <p:childTnLst>
                        <p:par>
                          <p:cTn id="6054" fill="hold">
                            <p:stCondLst>
                              <p:cond delay="0"/>
                            </p:stCondLst>
                            <p:childTnLst>
                              <p:par>
                                <p:cTn id="60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7" dur="500"/>
                                        <p:tgtEl>
                                          <p:spTgt spid="3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8" fill="hold">
                            <p:stCondLst>
                              <p:cond delay="500"/>
                            </p:stCondLst>
                            <p:childTnLst>
                              <p:par>
                                <p:cTn id="605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1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2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348" name="">
            <a:hlinkClick r:id="rId2"/>
          </p:cNvPr>
          <p:cNvSpPr/>
          <p:nvPr/>
        </p:nvSpPr>
        <p:spPr>
          <a:xfrm>
            <a:off x="7010280" y="5334120"/>
            <a:ext cx="1295640" cy="76176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6731" h="21600">
                <a:moveTo>
                  <a:pt x="0" y="0"/>
                </a:moveTo>
                <a:lnTo>
                  <a:pt x="36731" y="0"/>
                </a:lnTo>
                <a:lnTo>
                  <a:pt x="36731" y="21600"/>
                </a:lnTo>
                <a:lnTo>
                  <a:pt x="0" y="21600"/>
                </a:lnTo>
                <a:close/>
              </a:path>
              <a:path fill="lightenLess" w="36731" h="21600">
                <a:moveTo>
                  <a:pt x="0" y="0"/>
                </a:moveTo>
                <a:lnTo>
                  <a:pt x="36731" y="0"/>
                </a:lnTo>
                <a:lnTo>
                  <a:pt x="35331" y="1400"/>
                </a:lnTo>
                <a:lnTo>
                  <a:pt x="1400" y="1400"/>
                </a:lnTo>
                <a:close/>
              </a:path>
              <a:path fill="darken" w="36731" h="21600">
                <a:moveTo>
                  <a:pt x="36731" y="0"/>
                </a:moveTo>
                <a:lnTo>
                  <a:pt x="36731" y="21600"/>
                </a:lnTo>
                <a:lnTo>
                  <a:pt x="35331" y="20200"/>
                </a:lnTo>
                <a:lnTo>
                  <a:pt x="35331" y="1400"/>
                </a:lnTo>
                <a:close/>
              </a:path>
              <a:path fill="darkenLess" w="36731" h="21600">
                <a:moveTo>
                  <a:pt x="36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31" y="20200"/>
                </a:lnTo>
                <a:close/>
              </a:path>
              <a:path fill="lighten" w="36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31" h="21600">
                <a:moveTo>
                  <a:pt x="11359" y="3794"/>
                </a:moveTo>
                <a:lnTo>
                  <a:pt x="25372" y="10800"/>
                </a:lnTo>
                <a:lnTo>
                  <a:pt x="11359" y="17806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3" dur="indefinite" restart="never" nodeType="tmRoot">
          <p:childTnLst>
            <p:seq>
              <p:cTn id="6064" dur="indefinite" nodeType="mainSeq">
                <p:childTnLst>
                  <p:par>
                    <p:cTn id="6065" fill="hold">
                      <p:stCondLst>
                        <p:cond delay="0"/>
                      </p:stCondLst>
                      <p:childTnLst>
                        <p:par>
                          <p:cTn id="6066" fill="hold">
                            <p:stCondLst>
                              <p:cond delay="0"/>
                            </p:stCondLst>
                            <p:childTnLst>
                              <p:par>
                                <p:cTn id="60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9" dur="5000" fill="hold"/>
                                        <p:tgtEl>
                                          <p:spTgt spid="3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0" dur="5000" fill="hold"/>
                                        <p:tgtEl>
                                          <p:spTgt spid="3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by 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C create, P,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ock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current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s CPU-schedu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keup (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kes up process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90720" y="1905120"/>
            <a:ext cx="2743200" cy="3962160"/>
          </a:xfrm>
          <a:prstGeom prst="rect">
            <a:avLst/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 (&amp;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1905120"/>
            <a:ext cx="4343400" cy="3962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19720" y="2590920"/>
            <a:ext cx="3276360" cy="19047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C-service routin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(svc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Psvc:  P(&amp;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4572000"/>
            <a:ext cx="1828800" cy="114300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P(…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10080" y="3733920"/>
            <a:ext cx="1613160" cy="990360"/>
          </a:xfrm>
          <a:custGeom>
            <a:avLst/>
            <a:gdLst/>
            <a:ahLst/>
            <a:rect l="l" t="t" r="r" b="b"/>
            <a:pathLst>
              <a:path w="1016" h="720">
                <a:moveTo>
                  <a:pt x="960" y="0"/>
                </a:moveTo>
                <a:cubicBezTo>
                  <a:pt x="988" y="128"/>
                  <a:pt x="1016" y="256"/>
                  <a:pt x="912" y="336"/>
                </a:cubicBezTo>
                <a:cubicBezTo>
                  <a:pt x="808" y="416"/>
                  <a:pt x="472" y="440"/>
                  <a:pt x="336" y="480"/>
                </a:cubicBezTo>
                <a:cubicBezTo>
                  <a:pt x="200" y="520"/>
                  <a:pt x="152" y="536"/>
                  <a:pt x="96" y="576"/>
                </a:cubicBezTo>
                <a:cubicBezTo>
                  <a:pt x="40" y="616"/>
                  <a:pt x="20" y="668"/>
                  <a:pt x="0" y="72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3809880"/>
            <a:ext cx="2514600" cy="16002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P(…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C Psvc,&amp;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895480"/>
            <a:ext cx="838080" cy="1689120"/>
          </a:xfrm>
          <a:custGeom>
            <a:avLst/>
            <a:gdLst/>
            <a:ahLst/>
            <a:rect l="l" t="t" r="r" b="b"/>
            <a:pathLst>
              <a:path w="912" h="344">
                <a:moveTo>
                  <a:pt x="0" y="344"/>
                </a:moveTo>
                <a:cubicBezTo>
                  <a:pt x="92" y="228"/>
                  <a:pt x="184" y="112"/>
                  <a:pt x="336" y="56"/>
                </a:cubicBezTo>
                <a:cubicBezTo>
                  <a:pt x="488" y="0"/>
                  <a:pt x="700" y="4"/>
                  <a:pt x="912" y="8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4280" y="2971800"/>
            <a:ext cx="1168200" cy="1092240"/>
          </a:xfrm>
          <a:custGeom>
            <a:avLst/>
            <a:gdLst/>
            <a:ahLst/>
            <a:rect l="l" t="t" r="r" b="b"/>
            <a:pathLst>
              <a:path w="736" h="496">
                <a:moveTo>
                  <a:pt x="736" y="0"/>
                </a:moveTo>
                <a:cubicBezTo>
                  <a:pt x="532" y="12"/>
                  <a:pt x="328" y="24"/>
                  <a:pt x="208" y="96"/>
                </a:cubicBezTo>
                <a:cubicBezTo>
                  <a:pt x="88" y="168"/>
                  <a:pt x="0" y="368"/>
                  <a:pt x="16" y="432"/>
                </a:cubicBezTo>
                <a:cubicBezTo>
                  <a:pt x="32" y="496"/>
                  <a:pt x="168" y="488"/>
                  <a:pt x="304" y="48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5513400"/>
            <a:ext cx="20005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25" y="-11172"/>
                </a:moveTo>
                <a:lnTo>
                  <a:pt x="-823" y="5254"/>
                </a:lnTo>
              </a:path>
              <a:path w="21600" h="21600">
                <a:moveTo>
                  <a:pt x="-823" y="0"/>
                </a:moveTo>
                <a:lnTo>
                  <a:pt x="-823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tub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4800600"/>
            <a:ext cx="1523880" cy="609480"/>
          </a:xfrm>
          <a:prstGeom prst="leftArrow">
            <a:avLst>
              <a:gd name="adj1" fmla="val 50000"/>
              <a:gd name="adj2" fmla="val 6250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342864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-&gt;value ==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add process to s-&gt;queue...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block()</a:t>
            </a:r>
            <a:r>
              <a:rPr b="1" i="1" lang="en-US" sz="2400" spc="-1" strike="noStrike" baseline="30000">
                <a:solidFill>
                  <a:srgbClr val="fc0128"/>
                </a:solidFill>
                <a:latin typeface="Arial"/>
              </a:rPr>
              <a:t>§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 --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523880"/>
            <a:ext cx="7920" cy="406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ypedef semaphore stru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list queu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2286000"/>
            <a:ext cx="4343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V (semaphore *s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s-&gt;queue not empty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rocess p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...remove from s-&gt;queue..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wakeup (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320040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8880" y="5734080"/>
            <a:ext cx="59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c.state = waiting; invoke CPU-schedule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24720" y="4365720"/>
            <a:ext cx="330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92720" y="3230640"/>
            <a:ext cx="223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 &lt;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6 E">
                                      <p:cBhvr>
                                        <p:cTn id="638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6 E">
                                      <p:cBhvr>
                                        <p:cTn id="640" dur="2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6 E">
                                      <p:cBhvr>
                                        <p:cTn id="642" dur="2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6 E">
                                      <p:cBhvr>
                                        <p:cTn id="644" dur="2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826 E">
                                      <p:cBhvr>
                                        <p:cTn id="646" dur="2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8 E">
                                      <p:cBhvr>
                                        <p:cTn id="656" dur="2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8 E">
                                      <p:cBhvr>
                                        <p:cTn id="658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8 E">
                                      <p:cBhvr>
                                        <p:cTn id="660" dur="2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8 E">
                                      <p:cBhvr>
                                        <p:cTn id="662" dur="2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8 E">
                                      <p:cBhvr>
                                        <p:cTn id="664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2012 E">
                                      <p:cBhvr>
                                        <p:cTn id="666" dur="20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342864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 --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-&gt;value &lt;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add process to s-&gt;queue...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block()</a:t>
            </a:r>
            <a:r>
              <a:rPr b="1" i="1" lang="en-US" sz="2400" spc="-1" strike="noStrike" baseline="30000">
                <a:solidFill>
                  <a:srgbClr val="fc0128"/>
                </a:solidFill>
                <a:latin typeface="Arial"/>
              </a:rPr>
              <a:t>§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523880"/>
            <a:ext cx="7920" cy="406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ypedef semaphore stru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list queu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0" y="2286000"/>
            <a:ext cx="4343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V (semaphore *s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-&gt;value &lt;= 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rocess p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...remove from s-&gt;queue..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wakeup (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320040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8880" y="5734080"/>
            <a:ext cx="59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c.state = waiting; invoke CPU-schedule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phore s = 1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37339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4191120"/>
            <a:ext cx="4191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4648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5105520"/>
            <a:ext cx="4191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5562720"/>
            <a:ext cx="4191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676520" y="3666960"/>
          <a:ext cx="53316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6696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514600" y="4059360"/>
          <a:ext cx="53352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05936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762120" y="4995720"/>
          <a:ext cx="533160" cy="52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9572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2514600" y="4503600"/>
          <a:ext cx="533520" cy="52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450360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762120" y="5451480"/>
          <a:ext cx="533160" cy="52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545148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514600" y="4981680"/>
          <a:ext cx="533520" cy="52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498168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1981080" y="4267080"/>
            <a:ext cx="1524240" cy="330480"/>
          </a:xfrm>
          <a:custGeom>
            <a:avLst/>
            <a:gdLst/>
            <a:ahLst/>
            <a:rect l="l" t="t" r="r" b="b"/>
            <a:pathLst>
              <a:path w="864" h="208">
                <a:moveTo>
                  <a:pt x="864" y="112"/>
                </a:moveTo>
                <a:cubicBezTo>
                  <a:pt x="840" y="56"/>
                  <a:pt x="816" y="0"/>
                  <a:pt x="672" y="16"/>
                </a:cubicBezTo>
                <a:cubicBezTo>
                  <a:pt x="528" y="32"/>
                  <a:pt x="112" y="176"/>
                  <a:pt x="0" y="208"/>
                </a:cubicBezTo>
              </a:path>
            </a:pathLst>
          </a:custGeom>
          <a:noFill/>
          <a:ln w="3816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676520" y="4089240"/>
          <a:ext cx="533160" cy="52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08924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 flipH="1">
            <a:off x="2209680" y="5105520"/>
            <a:ext cx="533520" cy="330120"/>
          </a:xfrm>
          <a:custGeom>
            <a:avLst/>
            <a:gdLst/>
            <a:ahLst/>
            <a:rect l="l" t="t" r="r" b="b"/>
            <a:pathLst>
              <a:path w="864" h="208">
                <a:moveTo>
                  <a:pt x="864" y="112"/>
                </a:moveTo>
                <a:cubicBezTo>
                  <a:pt x="840" y="56"/>
                  <a:pt x="816" y="0"/>
                  <a:pt x="672" y="16"/>
                </a:cubicBezTo>
                <a:cubicBezTo>
                  <a:pt x="528" y="32"/>
                  <a:pt x="112" y="176"/>
                  <a:pt x="0" y="208"/>
                </a:cubicBezTo>
              </a:path>
            </a:pathLst>
          </a:custGeom>
          <a:noFill/>
          <a:ln w="3816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5562720"/>
            <a:ext cx="2286000" cy="330120"/>
          </a:xfrm>
          <a:custGeom>
            <a:avLst/>
            <a:gdLst/>
            <a:ahLst/>
            <a:rect l="l" t="t" r="r" b="b"/>
            <a:pathLst>
              <a:path w="864" h="208">
                <a:moveTo>
                  <a:pt x="864" y="112"/>
                </a:moveTo>
                <a:cubicBezTo>
                  <a:pt x="840" y="56"/>
                  <a:pt x="816" y="0"/>
                  <a:pt x="672" y="16"/>
                </a:cubicBezTo>
                <a:cubicBezTo>
                  <a:pt x="528" y="32"/>
                  <a:pt x="112" y="176"/>
                  <a:pt x="0" y="208"/>
                </a:cubicBezTo>
              </a:path>
            </a:pathLst>
          </a:custGeom>
          <a:noFill/>
          <a:ln w="3816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2394000"/>
            <a:ext cx="77724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33520" y="1981080"/>
            <a:ext cx="7945200" cy="3810240"/>
            <a:chOff x="533520" y="1981080"/>
            <a:chExt cx="7945200" cy="3810240"/>
          </a:xfrm>
        </p:grpSpPr>
        <p:sp>
          <p:nvSpPr>
            <p:cNvPr id="357" name=""/>
            <p:cNvSpPr/>
            <p:nvPr/>
          </p:nvSpPr>
          <p:spPr>
            <a:xfrm>
              <a:off x="533520" y="2362320"/>
              <a:ext cx="693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2057400"/>
              <a:ext cx="0" cy="37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320" y="1981080"/>
              <a:ext cx="7772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6400800" y="1295280"/>
            <a:ext cx="2514600" cy="703800"/>
          </a:xfr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value| == ||queue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37339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P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257800" y="32767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P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41911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P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7800" y="46483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P3 P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7800" y="51055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P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57800" y="55627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283356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3276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7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26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&gt;value --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-&gt;value &lt;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 process to s-&gt;queue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lock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0240" y="15238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V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&gt;value++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-&gt;value &lt;=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p 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move from s-&gt;queue ...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keup (p)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716360" y="1523880"/>
            <a:ext cx="7920" cy="406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2209680"/>
            <a:ext cx="9907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3000" y="3809880"/>
            <a:ext cx="83808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38080" y="4708440"/>
            <a:ext cx="16002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Ex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29200" y="2193840"/>
            <a:ext cx="9907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4784760"/>
            <a:ext cx="685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-17316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oproc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/Exit == disable/enable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roc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/Exit == SW/HW Solution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still busy waiting but for short time!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No while-loop inside C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Imple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 Semaphore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Ker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User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5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666880" y="1600200"/>
          <a:ext cx="344016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00200"/>
                    <a:ext cx="34401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"/>
          <p:cNvGrpSpPr/>
          <p:nvPr/>
        </p:nvGrpSpPr>
        <p:grpSpPr>
          <a:xfrm>
            <a:off x="1944720" y="3514320"/>
            <a:ext cx="1541160" cy="2048400"/>
            <a:chOff x="1944720" y="3514320"/>
            <a:chExt cx="1541160" cy="2048400"/>
          </a:xfrm>
        </p:grpSpPr>
        <p:sp>
          <p:nvSpPr>
            <p:cNvPr id="91" name=""/>
            <p:cNvSpPr/>
            <p:nvPr/>
          </p:nvSpPr>
          <p:spPr>
            <a:xfrm>
              <a:off x="2210040" y="3733920"/>
              <a:ext cx="228600" cy="1828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944720" y="3514320"/>
              <a:ext cx="1541160" cy="994320"/>
              <a:chOff x="1944720" y="3514320"/>
              <a:chExt cx="1541160" cy="994320"/>
            </a:xfrm>
          </p:grpSpPr>
          <p:sp>
            <p:nvSpPr>
              <p:cNvPr id="93" name=""/>
              <p:cNvSpPr/>
              <p:nvPr/>
            </p:nvSpPr>
            <p:spPr>
              <a:xfrm rot="3885600">
                <a:off x="2452320" y="3569760"/>
                <a:ext cx="152280" cy="1219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2674800" y="3514320"/>
                <a:ext cx="811080" cy="811080"/>
                <a:chOff x="2674800" y="3514320"/>
                <a:chExt cx="811080" cy="811080"/>
              </a:xfrm>
            </p:grpSpPr>
            <p:sp>
              <p:nvSpPr>
                <p:cNvPr id="95" name=""/>
                <p:cNvSpPr/>
                <p:nvPr/>
              </p:nvSpPr>
              <p:spPr>
                <a:xfrm rot="3885600">
                  <a:off x="2775240" y="3615120"/>
                  <a:ext cx="609480" cy="6094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rot="3885600">
                  <a:off x="2927880" y="376740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7" name=""/>
          <p:cNvSpPr/>
          <p:nvPr/>
        </p:nvSpPr>
        <p:spPr>
          <a:xfrm>
            <a:off x="6516720" y="4508640"/>
            <a:ext cx="233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°1936 - †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659640" y="170028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Race Cond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Semaphores in user code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C block, SVC wake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/Exit == SW/HW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scheduling is not pre-emp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Race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26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&gt;value --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-&gt;value &lt;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 process to s-&gt;queue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lock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00240" y="15238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V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&gt;value++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-&gt;value &lt;=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p 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move from s-&gt;queue ...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keup (p)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24280" y="15238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2209680"/>
            <a:ext cx="9907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3809880"/>
            <a:ext cx="83808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080" y="4708440"/>
            <a:ext cx="16002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Ex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29200" y="2193840"/>
            <a:ext cx="9907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29200" y="4784760"/>
            <a:ext cx="685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76520" y="3809880"/>
            <a:ext cx="304560" cy="45720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43000" y="3809880"/>
            <a:ext cx="83808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828800" y="3733920"/>
            <a:ext cx="152280" cy="685440"/>
            <a:chOff x="1828800" y="3733920"/>
            <a:chExt cx="152280" cy="685440"/>
          </a:xfrm>
        </p:grpSpPr>
        <p:sp>
          <p:nvSpPr>
            <p:cNvPr id="396" name=""/>
            <p:cNvSpPr/>
            <p:nvPr/>
          </p:nvSpPr>
          <p:spPr>
            <a:xfrm>
              <a:off x="1828800" y="3733920"/>
              <a:ext cx="152280" cy="1368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1866240" y="3870720"/>
              <a:ext cx="114120" cy="2055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66600" y="4076640"/>
              <a:ext cx="114120" cy="2055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866240" y="4282560"/>
              <a:ext cx="114120" cy="1368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2314440" y="4191120"/>
            <a:ext cx="1952640" cy="459720"/>
          </a:xfrm>
          <a:prstGeom prst="borderCallout1">
            <a:avLst>
              <a:gd name="adj1" fmla="val 18750"/>
              <a:gd name="adj2" fmla="val -8333"/>
              <a:gd name="adj3" fmla="val -12361"/>
              <a:gd name="adj4" fmla="val -21935"/>
            </a:avLst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e-e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Race cond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1: P(&amp;sem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2: V(&amp;s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29400" y="4267080"/>
            <a:ext cx="1219320" cy="60984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NO-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15238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85440" y="198108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33720" y="3352680"/>
            <a:ext cx="1952640" cy="459720"/>
          </a:xfrm>
          <a:prstGeom prst="borderCallout1">
            <a:avLst>
              <a:gd name="adj1" fmla="val 18750"/>
              <a:gd name="adj2" fmla="val -8333"/>
              <a:gd name="adj3" fmla="val -8837"/>
              <a:gd name="adj4" fmla="val -43166"/>
            </a:avLst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e-e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33560" y="1933560"/>
            <a:ext cx="32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to s-&gt;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0" y="28195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y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&gt;value++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-&gt;value &lt;= 0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p = … remov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keup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47600" y="563868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lo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464976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stat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lock (s)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s == locked)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lock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unlock (s)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op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ck(s) when op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= N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914400" y="3200400"/>
            <a:ext cx="1220400" cy="1526400"/>
            <a:chOff x="914400" y="3200400"/>
            <a:chExt cx="1220400" cy="1526400"/>
          </a:xfrm>
        </p:grpSpPr>
        <p:grpSp>
          <p:nvGrpSpPr>
            <p:cNvPr id="415" name=""/>
            <p:cNvGrpSpPr/>
            <p:nvPr/>
          </p:nvGrpSpPr>
          <p:grpSpPr>
            <a:xfrm>
              <a:off x="1294920" y="3200400"/>
              <a:ext cx="839880" cy="914400"/>
              <a:chOff x="1294920" y="3200400"/>
              <a:chExt cx="839880" cy="914400"/>
            </a:xfrm>
          </p:grpSpPr>
          <p:sp>
            <p:nvSpPr>
              <p:cNvPr id="416" name=""/>
              <p:cNvSpPr/>
              <p:nvPr/>
            </p:nvSpPr>
            <p:spPr>
              <a:xfrm>
                <a:off x="1463760" y="3200400"/>
                <a:ext cx="125280" cy="9144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1294920" y="3239640"/>
                <a:ext cx="839880" cy="307800"/>
                <a:chOff x="1294920" y="3239640"/>
                <a:chExt cx="839880" cy="307800"/>
              </a:xfrm>
            </p:grpSpPr>
            <p:sp>
              <p:nvSpPr>
                <p:cNvPr id="418" name=""/>
                <p:cNvSpPr/>
                <p:nvPr/>
              </p:nvSpPr>
              <p:spPr>
                <a:xfrm rot="5434200">
                  <a:off x="1592280" y="3054240"/>
                  <a:ext cx="75960" cy="6706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9" name=""/>
                <p:cNvGrpSpPr/>
                <p:nvPr/>
              </p:nvGrpSpPr>
              <p:grpSpPr>
                <a:xfrm>
                  <a:off x="1796760" y="3239640"/>
                  <a:ext cx="338040" cy="307800"/>
                  <a:chOff x="1796760" y="3239640"/>
                  <a:chExt cx="338040" cy="3078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5434200">
                    <a:off x="1813320" y="322560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5434200">
                    <a:off x="1889640" y="330912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2" name=""/>
            <p:cNvSpPr/>
            <p:nvPr/>
          </p:nvSpPr>
          <p:spPr>
            <a:xfrm>
              <a:off x="914400" y="42670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209680" y="3074040"/>
            <a:ext cx="1524240" cy="1652760"/>
            <a:chOff x="2209680" y="3074040"/>
            <a:chExt cx="1524240" cy="1652760"/>
          </a:xfrm>
        </p:grpSpPr>
        <p:grpSp>
          <p:nvGrpSpPr>
            <p:cNvPr id="424" name=""/>
            <p:cNvGrpSpPr/>
            <p:nvPr/>
          </p:nvGrpSpPr>
          <p:grpSpPr>
            <a:xfrm>
              <a:off x="2614680" y="3074040"/>
              <a:ext cx="839520" cy="1040760"/>
              <a:chOff x="2614680" y="3074040"/>
              <a:chExt cx="839520" cy="1040760"/>
            </a:xfrm>
          </p:grpSpPr>
          <p:sp>
            <p:nvSpPr>
              <p:cNvPr id="425" name=""/>
              <p:cNvSpPr/>
              <p:nvPr/>
            </p:nvSpPr>
            <p:spPr>
              <a:xfrm>
                <a:off x="2758320" y="3200400"/>
                <a:ext cx="125640" cy="9144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2614680" y="3074040"/>
                <a:ext cx="839520" cy="529200"/>
                <a:chOff x="2614680" y="3074040"/>
                <a:chExt cx="839520" cy="529200"/>
              </a:xfrm>
            </p:grpSpPr>
            <p:sp>
              <p:nvSpPr>
                <p:cNvPr id="427" name=""/>
                <p:cNvSpPr/>
                <p:nvPr/>
              </p:nvSpPr>
              <p:spPr>
                <a:xfrm rot="3885600">
                  <a:off x="2895840" y="3090600"/>
                  <a:ext cx="75960" cy="6706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021120" y="3074040"/>
                  <a:ext cx="433080" cy="418680"/>
                  <a:chOff x="3021120" y="3074040"/>
                  <a:chExt cx="433080" cy="41868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rot="3885600">
                    <a:off x="3085200" y="3115800"/>
                    <a:ext cx="30492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3885600">
                    <a:off x="3161160" y="3199320"/>
                    <a:ext cx="1526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1" name=""/>
            <p:cNvSpPr/>
            <p:nvPr/>
          </p:nvSpPr>
          <p:spPr>
            <a:xfrm>
              <a:off x="2209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CS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Sema mutex = ope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blocking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Sema block = lock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120" y="3048120"/>
            <a:ext cx="2666880" cy="144756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 (&amp;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…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ck (&amp;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0600" y="3048120"/>
            <a:ext cx="2514600" cy="144756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 (&amp;bloc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2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Imple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 Semaphore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Ker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User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3" dur="20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09480" y="3365640"/>
            <a:ext cx="4051440" cy="876240"/>
          </a:xfrm>
          <a:custGeom>
            <a:avLst/>
            <a:gdLst/>
            <a:ahLst/>
            <a:rect l="l" t="t" r="r" b="b"/>
            <a:pathLst>
              <a:path w="2552" h="552">
                <a:moveTo>
                  <a:pt x="2200" y="40"/>
                </a:moveTo>
                <a:cubicBezTo>
                  <a:pt x="1848" y="40"/>
                  <a:pt x="656" y="8"/>
                  <a:pt x="328" y="40"/>
                </a:cubicBezTo>
                <a:cubicBezTo>
                  <a:pt x="0" y="72"/>
                  <a:pt x="152" y="192"/>
                  <a:pt x="232" y="232"/>
                </a:cubicBezTo>
                <a:cubicBezTo>
                  <a:pt x="312" y="272"/>
                  <a:pt x="704" y="240"/>
                  <a:pt x="808" y="280"/>
                </a:cubicBezTo>
                <a:cubicBezTo>
                  <a:pt x="912" y="320"/>
                  <a:pt x="768" y="432"/>
                  <a:pt x="856" y="472"/>
                </a:cubicBezTo>
                <a:cubicBezTo>
                  <a:pt x="944" y="512"/>
                  <a:pt x="1232" y="552"/>
                  <a:pt x="1336" y="520"/>
                </a:cubicBezTo>
                <a:cubicBezTo>
                  <a:pt x="1440" y="488"/>
                  <a:pt x="1304" y="320"/>
                  <a:pt x="1480" y="280"/>
                </a:cubicBezTo>
                <a:cubicBezTo>
                  <a:pt x="1656" y="240"/>
                  <a:pt x="2232" y="320"/>
                  <a:pt x="2392" y="280"/>
                </a:cubicBezTo>
                <a:cubicBezTo>
                  <a:pt x="2552" y="240"/>
                  <a:pt x="2472" y="80"/>
                  <a:pt x="2440" y="40"/>
                </a:cubicBezTo>
                <a:cubicBezTo>
                  <a:pt x="2408" y="0"/>
                  <a:pt x="2552" y="40"/>
                  <a:pt x="2200" y="40"/>
                </a:cubicBezTo>
                <a:close/>
              </a:path>
            </a:pathLst>
          </a:custGeom>
          <a:solidFill>
            <a:srgbClr val="ff95a7"/>
          </a:solidFill>
          <a:ln w="38160">
            <a:solidFill>
              <a:srgbClr val="fc0128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81480" y="3276720"/>
            <a:ext cx="3429000" cy="1218960"/>
          </a:xfrm>
          <a:prstGeom prst="roundRect">
            <a:avLst>
              <a:gd name="adj" fmla="val 16667"/>
            </a:avLst>
          </a:prstGeom>
          <a:solidFill>
            <a:srgbClr val="ff95a7"/>
          </a:solidFill>
          <a:ln w="381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24280" y="15238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09480" y="1523880"/>
            <a:ext cx="4267080" cy="4572000"/>
            <a:chOff x="609480" y="1523880"/>
            <a:chExt cx="4267080" cy="4572000"/>
          </a:xfrm>
        </p:grpSpPr>
        <p:sp>
          <p:nvSpPr>
            <p:cNvPr id="444" name=""/>
            <p:cNvSpPr/>
            <p:nvPr/>
          </p:nvSpPr>
          <p:spPr>
            <a:xfrm>
              <a:off x="609480" y="1523880"/>
              <a:ext cx="42670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173160" indent="-17316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void P (semaphore *s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26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-&gt;value --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f (s-&gt;value &lt; 0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dd process to s-&gt;queue.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lock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10000"/>
                </a:lnSpc>
                <a:spcBef>
                  <a:spcPts val="499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4600" y="2209680"/>
              <a:ext cx="990720" cy="398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Entry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09520" y="3809880"/>
              <a:ext cx="838080" cy="398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Exit 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4600" y="4708440"/>
              <a:ext cx="1600200" cy="398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Exi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795920" y="1523880"/>
            <a:ext cx="3886200" cy="4572000"/>
            <a:chOff x="4795920" y="1523880"/>
            <a:chExt cx="3886200" cy="4572000"/>
          </a:xfrm>
        </p:grpSpPr>
        <p:sp>
          <p:nvSpPr>
            <p:cNvPr id="449" name=""/>
            <p:cNvSpPr/>
            <p:nvPr/>
          </p:nvSpPr>
          <p:spPr>
            <a:xfrm>
              <a:off x="4795920" y="1523880"/>
              <a:ext cx="38862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30040" indent="-2300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void V (semaphore *s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-&gt;value++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f (s-&gt;value &lt;= 0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 p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emove from s-&gt;queue ...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wakeup (p)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29200" y="2193840"/>
              <a:ext cx="990720" cy="398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Entry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29200" y="4784760"/>
              <a:ext cx="685800" cy="398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Exi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1676520" y="1905120"/>
            <a:ext cx="1828800" cy="380880"/>
          </a:xfrm>
          <a:prstGeom prst="wedgeRoundRectCallout">
            <a:avLst>
              <a:gd name="adj1" fmla="val -50087"/>
              <a:gd name="adj2" fmla="val 95000"/>
              <a:gd name="adj3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(&amp;mut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600200" y="4114800"/>
            <a:ext cx="2742840" cy="685800"/>
            <a:chOff x="1600200" y="4114800"/>
            <a:chExt cx="2742840" cy="685800"/>
          </a:xfrm>
        </p:grpSpPr>
        <p:sp>
          <p:nvSpPr>
            <p:cNvPr id="454" name=""/>
            <p:cNvSpPr/>
            <p:nvPr/>
          </p:nvSpPr>
          <p:spPr>
            <a:xfrm>
              <a:off x="2233080" y="4343400"/>
              <a:ext cx="2109960" cy="457200"/>
            </a:xfrm>
            <a:prstGeom prst="wedgeRoundRectCallout">
              <a:avLst>
                <a:gd name="adj1" fmla="val -71319"/>
                <a:gd name="adj2" fmla="val 73263"/>
                <a:gd name="adj3" fmla="val 16667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nlock(&amp;mute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00200" y="4114800"/>
              <a:ext cx="112536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624" y="144"/>
                  </a:moveTo>
                  <a:lnTo>
                    <a:pt x="0" y="0"/>
                  </a:lnTo>
                  <a:lnTo>
                    <a:pt x="768" y="144"/>
                  </a:lnTo>
                </a:path>
              </a:pathLst>
            </a:cu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6324480" y="1981080"/>
            <a:ext cx="1828800" cy="457200"/>
          </a:xfrm>
          <a:prstGeom prst="wedgeRoundRectCallout">
            <a:avLst>
              <a:gd name="adj1" fmla="val -73699"/>
              <a:gd name="adj2" fmla="val 39583"/>
              <a:gd name="adj3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(&amp;mut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24480" y="4648320"/>
            <a:ext cx="2133720" cy="457200"/>
          </a:xfrm>
          <a:prstGeom prst="wedgeRoundRectCallout">
            <a:avLst>
              <a:gd name="adj1" fmla="val -80879"/>
              <a:gd name="adj2" fmla="val 4166"/>
              <a:gd name="adj3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k(&amp;mut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43200" y="2819520"/>
            <a:ext cx="1828800" cy="380880"/>
          </a:xfrm>
          <a:prstGeom prst="wedgeRoundRectCallout">
            <a:avLst>
              <a:gd name="adj1" fmla="val -44356"/>
              <a:gd name="adj2" fmla="val 131666"/>
              <a:gd name="adj3" fmla="val 1666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(&amp;b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2666880"/>
            <a:ext cx="2057400" cy="381240"/>
          </a:xfrm>
          <a:prstGeom prst="wedgeRoundRectCallout">
            <a:avLst>
              <a:gd name="adj1" fmla="val -52314"/>
              <a:gd name="adj2" fmla="val 134583"/>
              <a:gd name="adj3" fmla="val 1666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k(&amp;b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ng Semaphores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#define open  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#define locked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ype semaphore struct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inSema mutex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inSema block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nt valu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init (semaphore * s, 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      int valu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mutex =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block =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locked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 = valu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ng Semaphores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P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--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 0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 e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V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ce Condition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P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--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 0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 e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V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38280" y="5486400"/>
            <a:ext cx="1952640" cy="459720"/>
          </a:xfrm>
          <a:prstGeom prst="borderCallout1">
            <a:avLst>
              <a:gd name="adj1" fmla="val 18750"/>
              <a:gd name="adj2" fmla="val -8333"/>
              <a:gd name="adj3" fmla="val -340375"/>
              <a:gd name="adj4" fmla="val -16402"/>
            </a:avLst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e-e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9948200">
            <a:off x="7381440" y="2782440"/>
            <a:ext cx="1371600" cy="60984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NO-OP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620120" y="2819520"/>
            <a:ext cx="837360" cy="609480"/>
            <a:chOff x="7620120" y="2819520"/>
            <a:chExt cx="837360" cy="609480"/>
          </a:xfrm>
        </p:grpSpPr>
        <p:sp>
          <p:nvSpPr>
            <p:cNvPr id="472" name=""/>
            <p:cNvSpPr/>
            <p:nvPr/>
          </p:nvSpPr>
          <p:spPr>
            <a:xfrm>
              <a:off x="7620120" y="2819520"/>
              <a:ext cx="718200" cy="60948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59160" y="2886840"/>
              <a:ext cx="598320" cy="4741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er valu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   means CLO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257440" y="1752480"/>
            <a:ext cx="839880" cy="914400"/>
            <a:chOff x="5257440" y="1752480"/>
            <a:chExt cx="839880" cy="914400"/>
          </a:xfrm>
        </p:grpSpPr>
        <p:sp>
          <p:nvSpPr>
            <p:cNvPr id="102" name=""/>
            <p:cNvSpPr/>
            <p:nvPr/>
          </p:nvSpPr>
          <p:spPr>
            <a:xfrm>
              <a:off x="5425920" y="1752480"/>
              <a:ext cx="12492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257440" y="1791720"/>
              <a:ext cx="839880" cy="307800"/>
              <a:chOff x="5257440" y="1791720"/>
              <a:chExt cx="839880" cy="307800"/>
            </a:xfrm>
          </p:grpSpPr>
          <p:sp>
            <p:nvSpPr>
              <p:cNvPr id="104" name=""/>
              <p:cNvSpPr/>
              <p:nvPr/>
            </p:nvSpPr>
            <p:spPr>
              <a:xfrm rot="5434200">
                <a:off x="5554800" y="1606320"/>
                <a:ext cx="75960" cy="670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5759280" y="1791720"/>
                <a:ext cx="338040" cy="307800"/>
                <a:chOff x="5759280" y="1791720"/>
                <a:chExt cx="338040" cy="307800"/>
              </a:xfrm>
            </p:grpSpPr>
            <p:sp>
              <p:nvSpPr>
                <p:cNvPr id="106" name=""/>
                <p:cNvSpPr/>
                <p:nvPr/>
              </p:nvSpPr>
              <p:spPr>
                <a:xfrm rot="5434200">
                  <a:off x="5775840" y="1777680"/>
                  <a:ext cx="30456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rot="5434200">
                  <a:off x="5852160" y="1861200"/>
                  <a:ext cx="15228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8" name=""/>
          <p:cNvGrpSpPr/>
          <p:nvPr/>
        </p:nvGrpSpPr>
        <p:grpSpPr>
          <a:xfrm>
            <a:off x="6424560" y="1931040"/>
            <a:ext cx="839520" cy="1040760"/>
            <a:chOff x="6424560" y="1931040"/>
            <a:chExt cx="839520" cy="1040760"/>
          </a:xfrm>
        </p:grpSpPr>
        <p:sp>
          <p:nvSpPr>
            <p:cNvPr id="109" name=""/>
            <p:cNvSpPr/>
            <p:nvPr/>
          </p:nvSpPr>
          <p:spPr>
            <a:xfrm>
              <a:off x="6568200" y="2057400"/>
              <a:ext cx="12564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424560" y="1931040"/>
              <a:ext cx="839520" cy="529200"/>
              <a:chOff x="6424560" y="1931040"/>
              <a:chExt cx="839520" cy="529200"/>
            </a:xfrm>
          </p:grpSpPr>
          <p:sp>
            <p:nvSpPr>
              <p:cNvPr id="111" name=""/>
              <p:cNvSpPr/>
              <p:nvPr/>
            </p:nvSpPr>
            <p:spPr>
              <a:xfrm rot="3885600">
                <a:off x="6705720" y="1947600"/>
                <a:ext cx="75960" cy="6706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6831000" y="1931040"/>
                <a:ext cx="433080" cy="418680"/>
                <a:chOff x="6831000" y="1931040"/>
                <a:chExt cx="433080" cy="418680"/>
              </a:xfrm>
            </p:grpSpPr>
            <p:sp>
              <p:nvSpPr>
                <p:cNvPr id="113" name=""/>
                <p:cNvSpPr/>
                <p:nvPr/>
              </p:nvSpPr>
              <p:spPr>
                <a:xfrm rot="3885600">
                  <a:off x="6895080" y="197280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3885600">
                  <a:off x="6971040" y="205632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5" name=""/>
          <p:cNvGrpSpPr/>
          <p:nvPr/>
        </p:nvGrpSpPr>
        <p:grpSpPr>
          <a:xfrm>
            <a:off x="7445160" y="1734480"/>
            <a:ext cx="599400" cy="1236960"/>
            <a:chOff x="7445160" y="1734480"/>
            <a:chExt cx="599400" cy="1236960"/>
          </a:xfrm>
        </p:grpSpPr>
        <p:sp>
          <p:nvSpPr>
            <p:cNvPr id="116" name=""/>
            <p:cNvSpPr/>
            <p:nvPr/>
          </p:nvSpPr>
          <p:spPr>
            <a:xfrm>
              <a:off x="7559640" y="2057040"/>
              <a:ext cx="125280" cy="914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445160" y="1734480"/>
              <a:ext cx="599400" cy="814320"/>
              <a:chOff x="7445160" y="1734480"/>
              <a:chExt cx="599400" cy="814320"/>
            </a:xfrm>
          </p:grpSpPr>
          <p:sp>
            <p:nvSpPr>
              <p:cNvPr id="118" name=""/>
              <p:cNvSpPr/>
              <p:nvPr/>
            </p:nvSpPr>
            <p:spPr>
              <a:xfrm rot="1882800">
                <a:off x="7614000" y="1907280"/>
                <a:ext cx="75960" cy="6706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7609680" y="1734480"/>
                <a:ext cx="434880" cy="444960"/>
                <a:chOff x="7609680" y="1734480"/>
                <a:chExt cx="434880" cy="444960"/>
              </a:xfrm>
            </p:grpSpPr>
            <p:sp>
              <p:nvSpPr>
                <p:cNvPr id="120" name=""/>
                <p:cNvSpPr/>
                <p:nvPr/>
              </p:nvSpPr>
              <p:spPr>
                <a:xfrm rot="1882800">
                  <a:off x="7674480" y="178920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1882800">
                  <a:off x="7750440" y="187272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2" name=""/>
          <p:cNvSpPr/>
          <p:nvPr/>
        </p:nvSpPr>
        <p:spPr>
          <a:xfrm>
            <a:off x="5715000" y="3247920"/>
            <a:ext cx="1768320" cy="703800"/>
          </a:xfr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valu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omic)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obere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erhoge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590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0  means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e condition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1: P(&amp;sem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2: V(&amp;s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19720" y="15238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85440" y="198108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3193920"/>
            <a:ext cx="1952640" cy="459720"/>
          </a:xfrm>
          <a:prstGeom prst="borderCallout1">
            <a:avLst>
              <a:gd name="adj1" fmla="val 18750"/>
              <a:gd name="adj2" fmla="val -8333"/>
              <a:gd name="adj3" fmla="val -87949"/>
              <a:gd name="adj4" fmla="val 124384"/>
            </a:avLst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e-e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1933560"/>
            <a:ext cx="34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-&gt;value &lt; 0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lock (&amp; s-&gt;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0" y="281952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k (&amp; s-&gt;mutex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&gt;value++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-&gt;value &lt;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nlock (&amp; s-&gt;bloc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95280" y="563868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ock (&amp; s-&gt;bloc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0" y="5029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lock (&amp; s-&gt;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866920" y="4419720"/>
            <a:ext cx="534960" cy="685800"/>
            <a:chOff x="5866920" y="4419720"/>
            <a:chExt cx="534960" cy="685800"/>
          </a:xfrm>
        </p:grpSpPr>
        <p:sp>
          <p:nvSpPr>
            <p:cNvPr id="484" name=""/>
            <p:cNvSpPr/>
            <p:nvPr/>
          </p:nvSpPr>
          <p:spPr>
            <a:xfrm>
              <a:off x="5974200" y="4419720"/>
              <a:ext cx="7956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5866920" y="4448520"/>
              <a:ext cx="534960" cy="230400"/>
              <a:chOff x="5866920" y="4448520"/>
              <a:chExt cx="534960" cy="230400"/>
            </a:xfrm>
          </p:grpSpPr>
          <p:sp>
            <p:nvSpPr>
              <p:cNvPr id="486" name=""/>
              <p:cNvSpPr/>
              <p:nvPr/>
            </p:nvSpPr>
            <p:spPr>
              <a:xfrm rot="5434200">
                <a:off x="6052320" y="4348080"/>
                <a:ext cx="56880" cy="4269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6186600" y="4448520"/>
                <a:ext cx="215280" cy="230400"/>
                <a:chOff x="6186600" y="4448520"/>
                <a:chExt cx="215280" cy="230400"/>
              </a:xfrm>
            </p:grpSpPr>
            <p:sp>
              <p:nvSpPr>
                <p:cNvPr id="488" name=""/>
                <p:cNvSpPr/>
                <p:nvPr/>
              </p:nvSpPr>
              <p:spPr>
                <a:xfrm rot="5434200">
                  <a:off x="6179760" y="4457160"/>
                  <a:ext cx="228240" cy="2131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5434200">
                  <a:off x="6237000" y="4510440"/>
                  <a:ext cx="114120" cy="106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90" name=""/>
          <p:cNvGrpSpPr/>
          <p:nvPr/>
        </p:nvGrpSpPr>
        <p:grpSpPr>
          <a:xfrm>
            <a:off x="6871320" y="4345200"/>
            <a:ext cx="543600" cy="760320"/>
            <a:chOff x="6871320" y="4345200"/>
            <a:chExt cx="543600" cy="760320"/>
          </a:xfrm>
        </p:grpSpPr>
        <p:sp>
          <p:nvSpPr>
            <p:cNvPr id="491" name=""/>
            <p:cNvSpPr/>
            <p:nvPr/>
          </p:nvSpPr>
          <p:spPr>
            <a:xfrm>
              <a:off x="6964560" y="4419720"/>
              <a:ext cx="79920" cy="68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6871320" y="4345200"/>
              <a:ext cx="543600" cy="356760"/>
              <a:chOff x="6871320" y="4345200"/>
              <a:chExt cx="543600" cy="356760"/>
            </a:xfrm>
          </p:grpSpPr>
          <p:sp>
            <p:nvSpPr>
              <p:cNvPr id="493" name=""/>
              <p:cNvSpPr/>
              <p:nvPr/>
            </p:nvSpPr>
            <p:spPr>
              <a:xfrm rot="3885600">
                <a:off x="7048080" y="4371480"/>
                <a:ext cx="56880" cy="4269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7124760" y="4345200"/>
                <a:ext cx="290160" cy="297720"/>
                <a:chOff x="7124760" y="4345200"/>
                <a:chExt cx="290160" cy="297720"/>
              </a:xfrm>
            </p:grpSpPr>
            <p:sp>
              <p:nvSpPr>
                <p:cNvPr id="495" name=""/>
                <p:cNvSpPr/>
                <p:nvPr/>
              </p:nvSpPr>
              <p:spPr>
                <a:xfrm rot="3885600">
                  <a:off x="7155360" y="4387320"/>
                  <a:ext cx="228600" cy="2131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3885600">
                  <a:off x="7212240" y="4440240"/>
                  <a:ext cx="114480" cy="106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97" name=""/>
          <p:cNvSpPr/>
          <p:nvPr/>
        </p:nvSpPr>
        <p:spPr>
          <a:xfrm>
            <a:off x="6248520" y="47242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0" y="5638680"/>
            <a:ext cx="2352600" cy="459720"/>
          </a:xfrm>
          <a:prstGeom prst="borderCallout1">
            <a:avLst>
              <a:gd name="adj1" fmla="val 18750"/>
              <a:gd name="adj2" fmla="val -8333"/>
              <a:gd name="adj3" fmla="val 49449"/>
              <a:gd name="adj4" fmla="val -25152"/>
            </a:avLst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ontinue, O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e Condition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256120" y="2415600"/>
            <a:ext cx="1773720" cy="2384640"/>
            <a:chOff x="2256120" y="2415600"/>
            <a:chExt cx="1773720" cy="2384640"/>
          </a:xfrm>
        </p:grpSpPr>
        <p:sp>
          <p:nvSpPr>
            <p:cNvPr id="501" name=""/>
            <p:cNvSpPr/>
            <p:nvPr/>
          </p:nvSpPr>
          <p:spPr>
            <a:xfrm>
              <a:off x="2560320" y="2666880"/>
              <a:ext cx="262800" cy="2133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2256120" y="2415600"/>
              <a:ext cx="1773720" cy="1148760"/>
              <a:chOff x="2256120" y="2415600"/>
              <a:chExt cx="1773720" cy="1148760"/>
            </a:xfrm>
          </p:grpSpPr>
          <p:sp>
            <p:nvSpPr>
              <p:cNvPr id="503" name=""/>
              <p:cNvSpPr/>
              <p:nvPr/>
            </p:nvSpPr>
            <p:spPr>
              <a:xfrm rot="3885600">
                <a:off x="2838960" y="2484360"/>
                <a:ext cx="177480" cy="1401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3093480" y="2415600"/>
                <a:ext cx="936360" cy="941400"/>
                <a:chOff x="3093480" y="2415600"/>
                <a:chExt cx="936360" cy="941400"/>
              </a:xfrm>
            </p:grpSpPr>
            <p:sp>
              <p:nvSpPr>
                <p:cNvPr id="505" name=""/>
                <p:cNvSpPr/>
                <p:nvPr/>
              </p:nvSpPr>
              <p:spPr>
                <a:xfrm rot="3885600">
                  <a:off x="3206160" y="2535840"/>
                  <a:ext cx="710640" cy="7002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rot="3885600">
                  <a:off x="3383640" y="2711160"/>
                  <a:ext cx="355680" cy="350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07" name=""/>
          <p:cNvSpPr/>
          <p:nvPr/>
        </p:nvSpPr>
        <p:spPr>
          <a:xfrm>
            <a:off x="2136600" y="48769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ck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800600" y="3124080"/>
            <a:ext cx="167652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9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P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0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e Condition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2880" y="1343160"/>
            <a:ext cx="8305560" cy="4828680"/>
            <a:chOff x="542880" y="1343160"/>
            <a:chExt cx="8305560" cy="4828680"/>
          </a:xfrm>
        </p:grpSpPr>
        <p:grpSp>
          <p:nvGrpSpPr>
            <p:cNvPr id="511" name=""/>
            <p:cNvGrpSpPr/>
            <p:nvPr/>
          </p:nvGrpSpPr>
          <p:grpSpPr>
            <a:xfrm>
              <a:off x="2516400" y="1371600"/>
              <a:ext cx="4309560" cy="4800240"/>
              <a:chOff x="2516400" y="1371600"/>
              <a:chExt cx="4309560" cy="4800240"/>
            </a:xfrm>
          </p:grpSpPr>
          <p:sp>
            <p:nvSpPr>
              <p:cNvPr id="512" name=""/>
              <p:cNvSpPr/>
              <p:nvPr/>
            </p:nvSpPr>
            <p:spPr>
              <a:xfrm>
                <a:off x="251640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00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82596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542880" y="1724040"/>
              <a:ext cx="830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280" y="1343160"/>
              <a:ext cx="8071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1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P(&amp; s)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2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P(&amp; s)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3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V(&amp; s)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4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V(&amp; 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432560" y="1981080"/>
            <a:ext cx="1255320" cy="959760"/>
            <a:chOff x="7432560" y="1981080"/>
            <a:chExt cx="1255320" cy="959760"/>
          </a:xfrm>
        </p:grpSpPr>
        <p:grpSp>
          <p:nvGrpSpPr>
            <p:cNvPr id="518" name=""/>
            <p:cNvGrpSpPr/>
            <p:nvPr/>
          </p:nvGrpSpPr>
          <p:grpSpPr>
            <a:xfrm>
              <a:off x="8042760" y="1981080"/>
              <a:ext cx="645120" cy="595440"/>
              <a:chOff x="8042760" y="1981080"/>
              <a:chExt cx="645120" cy="595440"/>
            </a:xfrm>
          </p:grpSpPr>
          <p:sp>
            <p:nvSpPr>
              <p:cNvPr id="519" name=""/>
              <p:cNvSpPr/>
              <p:nvPr/>
            </p:nvSpPr>
            <p:spPr>
              <a:xfrm>
                <a:off x="8171640" y="1981080"/>
                <a:ext cx="96120" cy="5954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8042760" y="2006640"/>
                <a:ext cx="645120" cy="200880"/>
                <a:chOff x="8042760" y="2006640"/>
                <a:chExt cx="645120" cy="200880"/>
              </a:xfrm>
            </p:grpSpPr>
            <p:sp>
              <p:nvSpPr>
                <p:cNvPr id="521" name=""/>
                <p:cNvSpPr/>
                <p:nvPr/>
              </p:nvSpPr>
              <p:spPr>
                <a:xfrm rot="5434200">
                  <a:off x="8275680" y="1846080"/>
                  <a:ext cx="49320" cy="515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8428320" y="2006640"/>
                  <a:ext cx="259560" cy="200880"/>
                  <a:chOff x="8428320" y="2006640"/>
                  <a:chExt cx="259560" cy="20088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rot="5434200">
                    <a:off x="8458560" y="1977840"/>
                    <a:ext cx="198360" cy="2577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rot="5434200">
                    <a:off x="8507880" y="2042280"/>
                    <a:ext cx="99360" cy="128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640" bIns="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5" name=""/>
            <p:cNvSpPr/>
            <p:nvPr/>
          </p:nvSpPr>
          <p:spPr>
            <a:xfrm>
              <a:off x="7924680" y="2481120"/>
              <a:ext cx="6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32560" y="2133720"/>
              <a:ext cx="6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7130880" y="4010040"/>
            <a:ext cx="946440" cy="398880"/>
          </a:xfrm>
          <a:prstGeom prst="borderCallout1">
            <a:avLst>
              <a:gd name="adj1" fmla="val 18750"/>
              <a:gd name="adj2" fmla="val -8333"/>
              <a:gd name="adj3" fmla="val 66004"/>
              <a:gd name="adj4" fmla="val -37222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p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57800" y="510552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83407"/>
              <a:gd name="adj4" fmla="val 17134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NOP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71800" y="4979880"/>
            <a:ext cx="1371600" cy="398880"/>
          </a:xfrm>
          <a:prstGeom prst="borderCallout1">
            <a:avLst>
              <a:gd name="adj1" fmla="val 18750"/>
              <a:gd name="adj2" fmla="val -8333"/>
              <a:gd name="adj3" fmla="val 177092"/>
              <a:gd name="adj4" fmla="val -55074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an 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05520" y="5638680"/>
            <a:ext cx="1371600" cy="398880"/>
          </a:xfrm>
          <a:prstGeom prst="borderCallout1">
            <a:avLst>
              <a:gd name="adj1" fmla="val 18750"/>
              <a:gd name="adj2" fmla="val -8333"/>
              <a:gd name="adj3" fmla="val 82773"/>
              <a:gd name="adj4" fmla="val -5229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lock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7040" y="17510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--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1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40080" y="26384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--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2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24200" y="3581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++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1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82400" y="471024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++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0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n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439720" y="579132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6000" y="552924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84720" y="4437000"/>
            <a:ext cx="4751280" cy="647640"/>
          </a:xfrm>
          <a:custGeom>
            <a:avLst/>
            <a:gdLst/>
            <a:ahLst/>
            <a:rect l="l" t="t" r="r" b="b"/>
            <a:pathLst>
              <a:path w="2993" h="408">
                <a:moveTo>
                  <a:pt x="2948" y="318"/>
                </a:moveTo>
                <a:lnTo>
                  <a:pt x="2903" y="136"/>
                </a:lnTo>
                <a:lnTo>
                  <a:pt x="1814" y="136"/>
                </a:lnTo>
                <a:lnTo>
                  <a:pt x="1723" y="0"/>
                </a:lnTo>
                <a:lnTo>
                  <a:pt x="45" y="0"/>
                </a:lnTo>
                <a:lnTo>
                  <a:pt x="0" y="136"/>
                </a:lnTo>
                <a:lnTo>
                  <a:pt x="362" y="272"/>
                </a:lnTo>
                <a:lnTo>
                  <a:pt x="1088" y="272"/>
                </a:lnTo>
                <a:lnTo>
                  <a:pt x="1496" y="272"/>
                </a:lnTo>
                <a:lnTo>
                  <a:pt x="1633" y="408"/>
                </a:lnTo>
                <a:lnTo>
                  <a:pt x="2993" y="408"/>
                </a:lnTo>
                <a:lnTo>
                  <a:pt x="2948" y="318"/>
                </a:lnTo>
                <a:close/>
              </a:path>
            </a:pathLst>
          </a:custGeom>
          <a:noFill/>
          <a:ln w="38160">
            <a:solidFill>
              <a:srgbClr val="fc0128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0"/>
                            </p:stCondLst>
                            <p:childTnLst>
                              <p:par>
                                <p:cTn id="13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6.93642E-007 L -0.49045 0.19815 E">
                                      <p:cBhvr>
                                        <p:cTn id="1354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ng Semaphores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P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--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 0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V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038240" y="4952880"/>
            <a:ext cx="3610080" cy="547200"/>
            <a:chOff x="1038240" y="4952880"/>
            <a:chExt cx="3610080" cy="547200"/>
          </a:xfrm>
        </p:grpSpPr>
        <p:sp>
          <p:nvSpPr>
            <p:cNvPr id="542" name=""/>
            <p:cNvSpPr/>
            <p:nvPr/>
          </p:nvSpPr>
          <p:spPr>
            <a:xfrm>
              <a:off x="1038240" y="5040360"/>
              <a:ext cx="3610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unlock (&amp; s-&gt;mutex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65600" y="4952880"/>
              <a:ext cx="662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5029200" y="3975120"/>
            <a:ext cx="373392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ce Condi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80880" y="1343160"/>
            <a:ext cx="8534160" cy="4828680"/>
            <a:chOff x="380880" y="1343160"/>
            <a:chExt cx="8534160" cy="4828680"/>
          </a:xfrm>
        </p:grpSpPr>
        <p:grpSp>
          <p:nvGrpSpPr>
            <p:cNvPr id="547" name=""/>
            <p:cNvGrpSpPr/>
            <p:nvPr/>
          </p:nvGrpSpPr>
          <p:grpSpPr>
            <a:xfrm>
              <a:off x="2408400" y="1371600"/>
              <a:ext cx="4428000" cy="4800240"/>
              <a:chOff x="2408400" y="1371600"/>
              <a:chExt cx="4428000" cy="4800240"/>
            </a:xfrm>
          </p:grpSpPr>
          <p:sp>
            <p:nvSpPr>
              <p:cNvPr id="548" name=""/>
              <p:cNvSpPr/>
              <p:nvPr/>
            </p:nvSpPr>
            <p:spPr>
              <a:xfrm>
                <a:off x="240840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62240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83640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380880" y="172404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5640" y="1343160"/>
              <a:ext cx="8293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1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P(&amp; s)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2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P(&amp; s)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3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V(&amp; s)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4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V(&amp; 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7432560" y="1981080"/>
            <a:ext cx="1255320" cy="959760"/>
            <a:chOff x="7432560" y="1981080"/>
            <a:chExt cx="1255320" cy="959760"/>
          </a:xfrm>
        </p:grpSpPr>
        <p:grpSp>
          <p:nvGrpSpPr>
            <p:cNvPr id="554" name=""/>
            <p:cNvGrpSpPr/>
            <p:nvPr/>
          </p:nvGrpSpPr>
          <p:grpSpPr>
            <a:xfrm>
              <a:off x="8042760" y="1981080"/>
              <a:ext cx="645120" cy="595440"/>
              <a:chOff x="8042760" y="1981080"/>
              <a:chExt cx="645120" cy="595440"/>
            </a:xfrm>
          </p:grpSpPr>
          <p:sp>
            <p:nvSpPr>
              <p:cNvPr id="555" name=""/>
              <p:cNvSpPr/>
              <p:nvPr/>
            </p:nvSpPr>
            <p:spPr>
              <a:xfrm>
                <a:off x="8171640" y="1981080"/>
                <a:ext cx="96120" cy="5954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8042760" y="2006640"/>
                <a:ext cx="645120" cy="200880"/>
                <a:chOff x="8042760" y="2006640"/>
                <a:chExt cx="645120" cy="200880"/>
              </a:xfrm>
            </p:grpSpPr>
            <p:sp>
              <p:nvSpPr>
                <p:cNvPr id="557" name=""/>
                <p:cNvSpPr/>
                <p:nvPr/>
              </p:nvSpPr>
              <p:spPr>
                <a:xfrm rot="5434200">
                  <a:off x="8275680" y="1846080"/>
                  <a:ext cx="49320" cy="515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8" name=""/>
                <p:cNvGrpSpPr/>
                <p:nvPr/>
              </p:nvGrpSpPr>
              <p:grpSpPr>
                <a:xfrm>
                  <a:off x="8428320" y="2006640"/>
                  <a:ext cx="259560" cy="200880"/>
                  <a:chOff x="8428320" y="2006640"/>
                  <a:chExt cx="259560" cy="20088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rot="5434200">
                    <a:off x="8458560" y="1977840"/>
                    <a:ext cx="198360" cy="2577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rot="5434200">
                    <a:off x="8507880" y="2042280"/>
                    <a:ext cx="99360" cy="128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640" bIns="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61" name=""/>
            <p:cNvSpPr/>
            <p:nvPr/>
          </p:nvSpPr>
          <p:spPr>
            <a:xfrm>
              <a:off x="7924680" y="2481120"/>
              <a:ext cx="6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32560" y="2133720"/>
              <a:ext cx="6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7130880" y="377208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86560"/>
              <a:gd name="adj4" fmla="val -4808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71800" y="4419720"/>
            <a:ext cx="1371600" cy="398880"/>
          </a:xfrm>
          <a:prstGeom prst="borderCallout1">
            <a:avLst>
              <a:gd name="adj1" fmla="val 18750"/>
              <a:gd name="adj2" fmla="val -8333"/>
              <a:gd name="adj3" fmla="val 86921"/>
              <a:gd name="adj4" fmla="val -60402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an 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52880" y="4495680"/>
            <a:ext cx="1371600" cy="398880"/>
          </a:xfrm>
          <a:prstGeom prst="borderCallout1">
            <a:avLst>
              <a:gd name="adj1" fmla="val 18750"/>
              <a:gd name="adj2" fmla="val -8333"/>
              <a:gd name="adj3" fmla="val -2703"/>
              <a:gd name="adj4" fmla="val 13851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4080" y="17510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--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1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63760" y="26384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--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2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720" y="342900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++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1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09400" y="4281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63760" y="551484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4080" y="457200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33160" y="499752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++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0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5334120"/>
            <a:ext cx="1371600" cy="398880"/>
          </a:xfrm>
          <a:prstGeom prst="borderCallout1">
            <a:avLst>
              <a:gd name="adj1" fmla="val 18750"/>
              <a:gd name="adj2" fmla="val -8333"/>
              <a:gd name="adj3" fmla="val 89356"/>
              <a:gd name="adj4" fmla="val -42009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an 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29400" y="563868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-30564"/>
              <a:gd name="adj4" fmla="val 146162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781680" y="685800"/>
            <a:ext cx="13716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1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ng Semaphores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Semaphores (varia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#define open 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#define locked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ype semaphore struct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inSema mutex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inSema block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inSema Pfcf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valu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init (semaphore * s,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          int valu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mutex =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block =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locked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Pfcfs =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 = valu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8" dur="5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1" dur="500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4" dur="500"/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ng Semaphores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Semaphores (varia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 (semaphore * 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lock (&amp; s-&gt;Pfcfs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--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-&gt;value &lt;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ck (&amp; s-&gt;block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unlock (&amp; s-&gt;Pfcfs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V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9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5" dur="500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1" dur="500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7" dur="500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500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cal Synchronization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ers / Wri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685800" y="2133720"/>
            <a:ext cx="3276720" cy="3886200"/>
            <a:chOff x="685800" y="2133720"/>
            <a:chExt cx="3276720" cy="3886200"/>
          </a:xfrm>
        </p:grpSpPr>
        <p:sp>
          <p:nvSpPr>
            <p:cNvPr id="585" name=""/>
            <p:cNvSpPr/>
            <p:nvPr/>
          </p:nvSpPr>
          <p:spPr>
            <a:xfrm>
              <a:off x="685800" y="2438280"/>
              <a:ext cx="3276720" cy="35816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p = produce (…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nsert (buffer, ip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" y="2133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Produ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4648320" y="2133720"/>
            <a:ext cx="3428640" cy="3886200"/>
            <a:chOff x="4648320" y="2133720"/>
            <a:chExt cx="3428640" cy="3886200"/>
          </a:xfrm>
        </p:grpSpPr>
        <p:sp>
          <p:nvSpPr>
            <p:cNvPr id="588" name=""/>
            <p:cNvSpPr/>
            <p:nvPr/>
          </p:nvSpPr>
          <p:spPr>
            <a:xfrm>
              <a:off x="4648320" y="2438280"/>
              <a:ext cx="3428640" cy="35816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c = remove (buffer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onsume (ic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48320" y="2133720"/>
              <a:ext cx="151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uffer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187280" y="387036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449568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347652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416232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1584360"/>
            <a:ext cx="289584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mutex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81480" y="4548240"/>
            <a:ext cx="1828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emp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86400" y="1752480"/>
            <a:ext cx="2971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ful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1371600"/>
            <a:ext cx="2971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empty =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87280" y="487692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f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87280" y="3516480"/>
            <a:ext cx="1828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emp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81480" y="307656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f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92200" y="4038480"/>
            <a:ext cx="604440" cy="761760"/>
            <a:chOff x="592200" y="4038480"/>
            <a:chExt cx="604440" cy="761760"/>
          </a:xfrm>
        </p:grpSpPr>
        <p:grpSp>
          <p:nvGrpSpPr>
            <p:cNvPr id="604" name=""/>
            <p:cNvGrpSpPr/>
            <p:nvPr/>
          </p:nvGrpSpPr>
          <p:grpSpPr>
            <a:xfrm>
              <a:off x="815760" y="4038480"/>
              <a:ext cx="380880" cy="761760"/>
              <a:chOff x="815760" y="4038480"/>
              <a:chExt cx="380880" cy="761760"/>
            </a:xfrm>
          </p:grpSpPr>
          <p:sp>
            <p:nvSpPr>
              <p:cNvPr id="605" name=""/>
              <p:cNvSpPr/>
              <p:nvPr/>
            </p:nvSpPr>
            <p:spPr>
              <a:xfrm>
                <a:off x="815760" y="4038480"/>
                <a:ext cx="380880" cy="126720"/>
              </a:xfrm>
              <a:prstGeom prst="rightArrow">
                <a:avLst>
                  <a:gd name="adj1" fmla="val 50000"/>
                  <a:gd name="adj2" fmla="val 75142"/>
                </a:avLst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15760" y="4673160"/>
                <a:ext cx="380880" cy="127080"/>
              </a:xfrm>
              <a:prstGeom prst="rightArrow">
                <a:avLst>
                  <a:gd name="adj1" fmla="val 50000"/>
                  <a:gd name="adj2" fmla="val 74929"/>
                </a:avLst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15760" y="4070160"/>
                <a:ext cx="75960" cy="6984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592200" y="41943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573800" y="3552840"/>
            <a:ext cx="579240" cy="914400"/>
            <a:chOff x="4573800" y="3552840"/>
            <a:chExt cx="579240" cy="914400"/>
          </a:xfrm>
        </p:grpSpPr>
        <p:grpSp>
          <p:nvGrpSpPr>
            <p:cNvPr id="610" name=""/>
            <p:cNvGrpSpPr/>
            <p:nvPr/>
          </p:nvGrpSpPr>
          <p:grpSpPr>
            <a:xfrm>
              <a:off x="4771800" y="3552840"/>
              <a:ext cx="381240" cy="914400"/>
              <a:chOff x="4771800" y="3552840"/>
              <a:chExt cx="381240" cy="914400"/>
            </a:xfrm>
          </p:grpSpPr>
          <p:sp>
            <p:nvSpPr>
              <p:cNvPr id="611" name=""/>
              <p:cNvSpPr/>
              <p:nvPr/>
            </p:nvSpPr>
            <p:spPr>
              <a:xfrm>
                <a:off x="4771800" y="3552840"/>
                <a:ext cx="381240" cy="152280"/>
              </a:xfrm>
              <a:prstGeom prst="rightArrow">
                <a:avLst>
                  <a:gd name="adj1" fmla="val 50000"/>
                  <a:gd name="adj2" fmla="val 62589"/>
                </a:avLst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771800" y="4314600"/>
                <a:ext cx="381240" cy="152640"/>
              </a:xfrm>
              <a:prstGeom prst="rightArrow">
                <a:avLst>
                  <a:gd name="adj1" fmla="val 50000"/>
                  <a:gd name="adj2" fmla="val 62441"/>
                </a:avLst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71800" y="3591000"/>
                <a:ext cx="76320" cy="83808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4573800" y="37814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 txBox="1"/>
          <p:nvPr/>
        </p:nvSpPr>
        <p:spPr>
          <a:xfrm>
            <a:off x="2666880" y="2057400"/>
            <a:ext cx="495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&gt;=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7010280" y="2057400"/>
            <a:ext cx="495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&gt;=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2" dur="indefinite" restart="never" nodeType="tmRoot">
          <p:childTnLst>
            <p:seq>
              <p:cTn id="1583" dur="indefinite" nodeType="mainSeq">
                <p:childTnLst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685800" y="2133720"/>
            <a:ext cx="3276720" cy="3886200"/>
            <a:chOff x="685800" y="2133720"/>
            <a:chExt cx="3276720" cy="3886200"/>
          </a:xfrm>
        </p:grpSpPr>
        <p:sp>
          <p:nvSpPr>
            <p:cNvPr id="618" name=""/>
            <p:cNvSpPr/>
            <p:nvPr/>
          </p:nvSpPr>
          <p:spPr>
            <a:xfrm>
              <a:off x="685800" y="2438280"/>
              <a:ext cx="3276720" cy="35816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p = produce (…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nsert (buffer, ip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5800" y="2133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Produ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648320" y="2133720"/>
            <a:ext cx="3428640" cy="3886200"/>
            <a:chOff x="4648320" y="2133720"/>
            <a:chExt cx="3428640" cy="3886200"/>
          </a:xfrm>
        </p:grpSpPr>
        <p:sp>
          <p:nvSpPr>
            <p:cNvPr id="621" name=""/>
            <p:cNvSpPr/>
            <p:nvPr/>
          </p:nvSpPr>
          <p:spPr>
            <a:xfrm>
              <a:off x="4648320" y="2438280"/>
              <a:ext cx="3428640" cy="35816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c = remove (buffer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onsume (ic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48320" y="2133720"/>
              <a:ext cx="151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uffer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187280" y="387036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187280" y="449568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81480" y="416232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38280" y="1584360"/>
            <a:ext cx="289584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mutex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81480" y="4548240"/>
            <a:ext cx="1828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emp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86400" y="1752480"/>
            <a:ext cx="2971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ful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486400" y="1371600"/>
            <a:ext cx="2971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empty =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87280" y="487692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f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87280" y="3516480"/>
            <a:ext cx="1828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emp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181480" y="349092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81480" y="309096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f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769080" y="3276720"/>
            <a:ext cx="241200" cy="380880"/>
          </a:xfrm>
          <a:custGeom>
            <a:avLst/>
            <a:gdLst/>
            <a:ahLst/>
            <a:rect l="l" t="t" r="r" b="b"/>
            <a:pathLst>
              <a:path w="152" h="240">
                <a:moveTo>
                  <a:pt x="0" y="0"/>
                </a:moveTo>
                <a:cubicBezTo>
                  <a:pt x="68" y="28"/>
                  <a:pt x="136" y="56"/>
                  <a:pt x="144" y="96"/>
                </a:cubicBezTo>
                <a:cubicBezTo>
                  <a:pt x="152" y="136"/>
                  <a:pt x="100" y="188"/>
                  <a:pt x="48" y="2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81480" y="309420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81480" y="348948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f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162920" y="3102120"/>
            <a:ext cx="1765080" cy="642600"/>
          </a:xfrm>
          <a:prstGeom prst="borderCallout1">
            <a:avLst>
              <a:gd name="adj1" fmla="val 18750"/>
              <a:gd name="adj2" fmla="val -8333"/>
              <a:gd name="adj3" fmla="val 83759"/>
              <a:gd name="adj4" fmla="val -2228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Deadlock if full =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500"/>
                            </p:stCondLst>
                            <p:childTnLst>
                              <p:par>
                                <p:cTn id="1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(s) </a:t>
            </a:r>
            <a:r>
              <a:rPr b="1" lang="en-US" sz="32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(s == 0)  {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943600" y="4876920"/>
            <a:ext cx="243828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omical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468840" y="2388240"/>
            <a:ext cx="839520" cy="1040760"/>
            <a:chOff x="6468840" y="2388240"/>
            <a:chExt cx="839520" cy="1040760"/>
          </a:xfrm>
        </p:grpSpPr>
        <p:sp>
          <p:nvSpPr>
            <p:cNvPr id="129" name=""/>
            <p:cNvSpPr/>
            <p:nvPr/>
          </p:nvSpPr>
          <p:spPr>
            <a:xfrm>
              <a:off x="6612840" y="2514600"/>
              <a:ext cx="12564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468840" y="2388240"/>
              <a:ext cx="839520" cy="529200"/>
              <a:chOff x="6468840" y="2388240"/>
              <a:chExt cx="839520" cy="529200"/>
            </a:xfrm>
          </p:grpSpPr>
          <p:sp>
            <p:nvSpPr>
              <p:cNvPr id="131" name=""/>
              <p:cNvSpPr/>
              <p:nvPr/>
            </p:nvSpPr>
            <p:spPr>
              <a:xfrm rot="3885600">
                <a:off x="6750000" y="2404800"/>
                <a:ext cx="75960" cy="670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6875280" y="2388240"/>
                <a:ext cx="433080" cy="418680"/>
                <a:chOff x="6875280" y="2388240"/>
                <a:chExt cx="433080" cy="418680"/>
              </a:xfrm>
            </p:grpSpPr>
            <p:sp>
              <p:nvSpPr>
                <p:cNvPr id="133" name=""/>
                <p:cNvSpPr/>
                <p:nvPr/>
              </p:nvSpPr>
              <p:spPr>
                <a:xfrm rot="3885600">
                  <a:off x="6939360" y="243000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3885600">
                  <a:off x="7015320" y="251352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7742880" y="2462400"/>
            <a:ext cx="859680" cy="966600"/>
            <a:chOff x="7742880" y="2462400"/>
            <a:chExt cx="859680" cy="966600"/>
          </a:xfrm>
        </p:grpSpPr>
        <p:sp>
          <p:nvSpPr>
            <p:cNvPr id="136" name=""/>
            <p:cNvSpPr/>
            <p:nvPr/>
          </p:nvSpPr>
          <p:spPr>
            <a:xfrm>
              <a:off x="7908840" y="2514600"/>
              <a:ext cx="12492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742880" y="2462400"/>
              <a:ext cx="859680" cy="373680"/>
              <a:chOff x="7742880" y="2462400"/>
              <a:chExt cx="859680" cy="373680"/>
            </a:xfrm>
          </p:grpSpPr>
          <p:sp>
            <p:nvSpPr>
              <p:cNvPr id="138" name=""/>
              <p:cNvSpPr/>
              <p:nvPr/>
            </p:nvSpPr>
            <p:spPr>
              <a:xfrm rot="4620000">
                <a:off x="8039880" y="2387880"/>
                <a:ext cx="75960" cy="6706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8207280" y="2462400"/>
                <a:ext cx="395280" cy="372600"/>
                <a:chOff x="8207280" y="2462400"/>
                <a:chExt cx="395280" cy="372600"/>
              </a:xfrm>
            </p:grpSpPr>
            <p:sp>
              <p:nvSpPr>
                <p:cNvPr id="140" name=""/>
                <p:cNvSpPr/>
                <p:nvPr/>
              </p:nvSpPr>
              <p:spPr>
                <a:xfrm rot="4620000">
                  <a:off x="8252280" y="248076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4620000">
                  <a:off x="8328240" y="256428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2" name=""/>
          <p:cNvGrpSpPr/>
          <p:nvPr/>
        </p:nvGrpSpPr>
        <p:grpSpPr>
          <a:xfrm>
            <a:off x="5378040" y="1828800"/>
            <a:ext cx="839880" cy="914400"/>
            <a:chOff x="5378040" y="1828800"/>
            <a:chExt cx="839880" cy="914400"/>
          </a:xfrm>
        </p:grpSpPr>
        <p:sp>
          <p:nvSpPr>
            <p:cNvPr id="143" name=""/>
            <p:cNvSpPr/>
            <p:nvPr/>
          </p:nvSpPr>
          <p:spPr>
            <a:xfrm>
              <a:off x="5546520" y="1828800"/>
              <a:ext cx="124920" cy="914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378040" y="1868040"/>
              <a:ext cx="839880" cy="307800"/>
              <a:chOff x="5378040" y="1868040"/>
              <a:chExt cx="839880" cy="307800"/>
            </a:xfrm>
          </p:grpSpPr>
          <p:sp>
            <p:nvSpPr>
              <p:cNvPr id="145" name=""/>
              <p:cNvSpPr/>
              <p:nvPr/>
            </p:nvSpPr>
            <p:spPr>
              <a:xfrm rot="5434200">
                <a:off x="5675400" y="1682640"/>
                <a:ext cx="75960" cy="6706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5879880" y="1868040"/>
                <a:ext cx="338040" cy="307800"/>
                <a:chOff x="5879880" y="1868040"/>
                <a:chExt cx="338040" cy="307800"/>
              </a:xfrm>
            </p:grpSpPr>
            <p:sp>
              <p:nvSpPr>
                <p:cNvPr id="147" name=""/>
                <p:cNvSpPr/>
                <p:nvPr/>
              </p:nvSpPr>
              <p:spPr>
                <a:xfrm rot="5434200">
                  <a:off x="5896440" y="1854000"/>
                  <a:ext cx="30456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5434200">
                  <a:off x="5972760" y="1937520"/>
                  <a:ext cx="15228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9" name=""/>
          <p:cNvGrpSpPr/>
          <p:nvPr/>
        </p:nvGrpSpPr>
        <p:grpSpPr>
          <a:xfrm>
            <a:off x="3061440" y="3834000"/>
            <a:ext cx="859680" cy="966600"/>
            <a:chOff x="3061440" y="3834000"/>
            <a:chExt cx="859680" cy="966600"/>
          </a:xfrm>
        </p:grpSpPr>
        <p:sp>
          <p:nvSpPr>
            <p:cNvPr id="150" name=""/>
            <p:cNvSpPr/>
            <p:nvPr/>
          </p:nvSpPr>
          <p:spPr>
            <a:xfrm>
              <a:off x="3227400" y="3886200"/>
              <a:ext cx="124920" cy="9144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061440" y="3834000"/>
              <a:ext cx="859680" cy="373680"/>
              <a:chOff x="3061440" y="3834000"/>
              <a:chExt cx="859680" cy="373680"/>
            </a:xfrm>
          </p:grpSpPr>
          <p:sp>
            <p:nvSpPr>
              <p:cNvPr id="152" name=""/>
              <p:cNvSpPr/>
              <p:nvPr/>
            </p:nvSpPr>
            <p:spPr>
              <a:xfrm rot="4620000">
                <a:off x="3358440" y="3759480"/>
                <a:ext cx="75960" cy="6706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3525840" y="3834000"/>
                <a:ext cx="395280" cy="372600"/>
                <a:chOff x="3525840" y="3834000"/>
                <a:chExt cx="395280" cy="372600"/>
              </a:xfrm>
            </p:grpSpPr>
            <p:sp>
              <p:nvSpPr>
                <p:cNvPr id="154" name=""/>
                <p:cNvSpPr/>
                <p:nvPr/>
              </p:nvSpPr>
              <p:spPr>
                <a:xfrm rot="4620000">
                  <a:off x="3570840" y="385236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4620000">
                  <a:off x="3646800" y="393588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6" name=""/>
          <p:cNvGrpSpPr/>
          <p:nvPr/>
        </p:nvGrpSpPr>
        <p:grpSpPr>
          <a:xfrm>
            <a:off x="4454640" y="3836160"/>
            <a:ext cx="839520" cy="1040760"/>
            <a:chOff x="4454640" y="3836160"/>
            <a:chExt cx="839520" cy="1040760"/>
          </a:xfrm>
        </p:grpSpPr>
        <p:sp>
          <p:nvSpPr>
            <p:cNvPr id="157" name=""/>
            <p:cNvSpPr/>
            <p:nvPr/>
          </p:nvSpPr>
          <p:spPr>
            <a:xfrm>
              <a:off x="4598280" y="3962520"/>
              <a:ext cx="125640" cy="914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454640" y="3836160"/>
              <a:ext cx="839520" cy="529200"/>
              <a:chOff x="4454640" y="3836160"/>
              <a:chExt cx="839520" cy="529200"/>
            </a:xfrm>
          </p:grpSpPr>
          <p:sp>
            <p:nvSpPr>
              <p:cNvPr id="159" name=""/>
              <p:cNvSpPr/>
              <p:nvPr/>
            </p:nvSpPr>
            <p:spPr>
              <a:xfrm rot="3885600">
                <a:off x="4735800" y="3852720"/>
                <a:ext cx="75960" cy="6706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4861080" y="3836160"/>
                <a:ext cx="433080" cy="418680"/>
                <a:chOff x="4861080" y="3836160"/>
                <a:chExt cx="433080" cy="418680"/>
              </a:xfrm>
            </p:grpSpPr>
            <p:sp>
              <p:nvSpPr>
                <p:cNvPr id="161" name=""/>
                <p:cNvSpPr/>
                <p:nvPr/>
              </p:nvSpPr>
              <p:spPr>
                <a:xfrm rot="3885600">
                  <a:off x="4925160" y="387792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3885600">
                  <a:off x="5001120" y="396144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3" name=""/>
          <p:cNvSpPr/>
          <p:nvPr/>
        </p:nvSpPr>
        <p:spPr>
          <a:xfrm>
            <a:off x="7130880" y="297180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45080" y="43434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573800">
            <a:off x="7968960" y="2133360"/>
            <a:ext cx="1066680" cy="3412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rot="1574400">
            <a:off x="4583160" y="3657240"/>
            <a:ext cx="1066680" cy="304920"/>
          </a:xfrm>
          <a:custGeom>
            <a:avLst/>
            <a:gdLst>
              <a:gd name="textAreaLeft" fmla="*/ 186120 w 1066680"/>
              <a:gd name="textAreaRight" fmla="*/ 772920 w 10666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84040" y="2335320"/>
            <a:ext cx="831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56272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-Note: P and V are not procedure cal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V(s)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96960" y="2522520"/>
            <a:ext cx="1246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--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ers / Wri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048120" y="2438280"/>
            <a:ext cx="3047760" cy="121932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3720" y="2057400"/>
            <a:ext cx="1752480" cy="660240"/>
          </a:xfrm>
          <a:custGeom>
            <a:avLst/>
            <a:gdLst/>
            <a:ahLst/>
            <a:rect l="l" t="t" r="r" b="b"/>
            <a:pathLst>
              <a:path w="1104" h="416">
                <a:moveTo>
                  <a:pt x="1104" y="320"/>
                </a:moveTo>
                <a:cubicBezTo>
                  <a:pt x="960" y="192"/>
                  <a:pt x="816" y="64"/>
                  <a:pt x="672" y="32"/>
                </a:cubicBezTo>
                <a:cubicBezTo>
                  <a:pt x="528" y="0"/>
                  <a:pt x="352" y="64"/>
                  <a:pt x="240" y="128"/>
                </a:cubicBezTo>
                <a:cubicBezTo>
                  <a:pt x="128" y="192"/>
                  <a:pt x="64" y="304"/>
                  <a:pt x="0" y="41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0" y="2400480"/>
            <a:ext cx="1600200" cy="1028520"/>
          </a:xfrm>
          <a:custGeom>
            <a:avLst/>
            <a:gdLst/>
            <a:ahLst/>
            <a:rect l="l" t="t" r="r" b="b"/>
            <a:pathLst>
              <a:path w="1008" h="648">
                <a:moveTo>
                  <a:pt x="1008" y="216"/>
                </a:moveTo>
                <a:cubicBezTo>
                  <a:pt x="828" y="108"/>
                  <a:pt x="648" y="0"/>
                  <a:pt x="480" y="72"/>
                </a:cubicBezTo>
                <a:cubicBezTo>
                  <a:pt x="312" y="144"/>
                  <a:pt x="156" y="396"/>
                  <a:pt x="0" y="64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1803240"/>
            <a:ext cx="2590560" cy="787680"/>
          </a:xfrm>
          <a:custGeom>
            <a:avLst/>
            <a:gdLst/>
            <a:ahLst/>
            <a:rect l="l" t="t" r="r" b="b"/>
            <a:pathLst>
              <a:path w="1632" h="496">
                <a:moveTo>
                  <a:pt x="1632" y="496"/>
                </a:moveTo>
                <a:cubicBezTo>
                  <a:pt x="1540" y="392"/>
                  <a:pt x="1448" y="288"/>
                  <a:pt x="1296" y="208"/>
                </a:cubicBezTo>
                <a:cubicBezTo>
                  <a:pt x="1144" y="128"/>
                  <a:pt x="936" y="0"/>
                  <a:pt x="720" y="16"/>
                </a:cubicBezTo>
                <a:cubicBezTo>
                  <a:pt x="504" y="32"/>
                  <a:pt x="252" y="168"/>
                  <a:pt x="0" y="30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5180760" y="2057400"/>
            <a:ext cx="1752840" cy="660240"/>
          </a:xfrm>
          <a:custGeom>
            <a:avLst/>
            <a:gdLst/>
            <a:ahLst/>
            <a:rect l="l" t="t" r="r" b="b"/>
            <a:pathLst>
              <a:path w="1104" h="416">
                <a:moveTo>
                  <a:pt x="1104" y="320"/>
                </a:moveTo>
                <a:cubicBezTo>
                  <a:pt x="960" y="192"/>
                  <a:pt x="816" y="64"/>
                  <a:pt x="672" y="32"/>
                </a:cubicBezTo>
                <a:cubicBezTo>
                  <a:pt x="528" y="0"/>
                  <a:pt x="352" y="64"/>
                  <a:pt x="240" y="128"/>
                </a:cubicBezTo>
                <a:cubicBezTo>
                  <a:pt x="128" y="192"/>
                  <a:pt x="64" y="304"/>
                  <a:pt x="0" y="41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5409360" y="2286000"/>
            <a:ext cx="1600200" cy="1028880"/>
          </a:xfrm>
          <a:custGeom>
            <a:avLst/>
            <a:gdLst/>
            <a:ahLst/>
            <a:rect l="l" t="t" r="r" b="b"/>
            <a:pathLst>
              <a:path w="1008" h="648">
                <a:moveTo>
                  <a:pt x="1008" y="216"/>
                </a:moveTo>
                <a:cubicBezTo>
                  <a:pt x="828" y="108"/>
                  <a:pt x="648" y="0"/>
                  <a:pt x="480" y="72"/>
                </a:cubicBezTo>
                <a:cubicBezTo>
                  <a:pt x="312" y="144"/>
                  <a:pt x="156" y="396"/>
                  <a:pt x="0" y="64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876920" y="1803240"/>
            <a:ext cx="2590560" cy="787680"/>
          </a:xfrm>
          <a:custGeom>
            <a:avLst/>
            <a:gdLst/>
            <a:ahLst/>
            <a:rect l="l" t="t" r="r" b="b"/>
            <a:pathLst>
              <a:path w="1632" h="496">
                <a:moveTo>
                  <a:pt x="1632" y="496"/>
                </a:moveTo>
                <a:cubicBezTo>
                  <a:pt x="1540" y="392"/>
                  <a:pt x="1448" y="288"/>
                  <a:pt x="1296" y="208"/>
                </a:cubicBezTo>
                <a:cubicBezTo>
                  <a:pt x="1144" y="128"/>
                  <a:pt x="936" y="0"/>
                  <a:pt x="720" y="16"/>
                </a:cubicBezTo>
                <a:cubicBezTo>
                  <a:pt x="504" y="32"/>
                  <a:pt x="252" y="168"/>
                  <a:pt x="0" y="30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743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010280" y="2666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ri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05120" y="4100400"/>
            <a:ext cx="2514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4840"/>
                <a:tab algn="l" pos="409680"/>
                <a:tab algn="l" pos="614520"/>
                <a:tab algn="l" pos="819000"/>
                <a:tab algn="l" pos="1023840"/>
                <a:tab algn="l" pos="1228680"/>
                <a:tab algn="l" pos="1433520"/>
                <a:tab algn="l" pos="1638360"/>
                <a:tab algn="l" pos="1843200"/>
                <a:tab algn="l" pos="2048040"/>
                <a:tab algn="l" pos="2252520"/>
                <a:tab algn="l" pos="2457360"/>
                <a:tab algn="l" pos="2662200"/>
                <a:tab algn="l" pos="2867040"/>
                <a:tab algn="l" pos="3071880"/>
                <a:tab algn="l" pos="3276720"/>
                <a:tab algn="l" pos="3481560"/>
                <a:tab algn="l" pos="3686040"/>
                <a:tab algn="l" pos="3890880"/>
                <a:tab algn="l" pos="409572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ader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+ rea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4840"/>
                <a:tab algn="l" pos="409680"/>
                <a:tab algn="l" pos="614520"/>
                <a:tab algn="l" pos="819000"/>
                <a:tab algn="l" pos="1023840"/>
                <a:tab algn="l" pos="1228680"/>
                <a:tab algn="l" pos="1433520"/>
                <a:tab algn="l" pos="1638360"/>
                <a:tab algn="l" pos="1843200"/>
                <a:tab algn="l" pos="2048040"/>
                <a:tab algn="l" pos="2252520"/>
                <a:tab algn="l" pos="2457360"/>
                <a:tab algn="l" pos="2662200"/>
                <a:tab algn="l" pos="2867040"/>
                <a:tab algn="l" pos="3071880"/>
                <a:tab algn="l" pos="3276720"/>
                <a:tab algn="l" pos="3481560"/>
                <a:tab algn="l" pos="3686040"/>
                <a:tab algn="l" pos="3890880"/>
                <a:tab algn="l" pos="409572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ader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+ wri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4840"/>
                <a:tab algn="l" pos="409680"/>
                <a:tab algn="l" pos="614520"/>
                <a:tab algn="l" pos="819000"/>
                <a:tab algn="l" pos="1023840"/>
                <a:tab algn="l" pos="1228680"/>
                <a:tab algn="l" pos="1433520"/>
                <a:tab algn="l" pos="1638360"/>
                <a:tab algn="l" pos="1843200"/>
                <a:tab algn="l" pos="2048040"/>
                <a:tab algn="l" pos="2252520"/>
                <a:tab algn="l" pos="2457360"/>
                <a:tab algn="l" pos="2662200"/>
                <a:tab algn="l" pos="2867040"/>
                <a:tab algn="l" pos="3071880"/>
                <a:tab algn="l" pos="3276720"/>
                <a:tab algn="l" pos="3481560"/>
                <a:tab algn="l" pos="3686040"/>
                <a:tab algn="l" pos="3890880"/>
                <a:tab algn="l" pos="409572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riter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+ writ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170320" y="4114800"/>
            <a:ext cx="1154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N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N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500"/>
                            </p:stCondLst>
                            <p:childTnLst>
                              <p:par>
                                <p:cTn id="17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3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8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"/>
          <p:cNvGrpSpPr/>
          <p:nvPr/>
        </p:nvGrpSpPr>
        <p:grpSpPr>
          <a:xfrm>
            <a:off x="6629400" y="2075040"/>
            <a:ext cx="1066320" cy="1962720"/>
            <a:chOff x="6629400" y="2075040"/>
            <a:chExt cx="1066320" cy="1962720"/>
          </a:xfrm>
        </p:grpSpPr>
        <p:sp>
          <p:nvSpPr>
            <p:cNvPr id="653" name=""/>
            <p:cNvSpPr/>
            <p:nvPr/>
          </p:nvSpPr>
          <p:spPr>
            <a:xfrm flipH="1">
              <a:off x="6629400" y="3781440"/>
              <a:ext cx="1066320" cy="25632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6897600" y="3744360"/>
              <a:ext cx="300240" cy="16740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167600" y="3750480"/>
              <a:ext cx="34920" cy="115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107480" y="3860280"/>
              <a:ext cx="65160" cy="1008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972120" y="3862440"/>
              <a:ext cx="135000" cy="4716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892560" y="3903480"/>
              <a:ext cx="82080" cy="1260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892560" y="3748320"/>
              <a:ext cx="187920" cy="1612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075440" y="3740400"/>
              <a:ext cx="112320" cy="144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7137720" y="3781440"/>
              <a:ext cx="327960" cy="23760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7173000" y="3777480"/>
              <a:ext cx="122400" cy="2052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7132680" y="3785760"/>
              <a:ext cx="42480" cy="115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138080" y="3899160"/>
              <a:ext cx="49680" cy="2052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185600" y="3912120"/>
              <a:ext cx="149760" cy="846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333200" y="3988440"/>
              <a:ext cx="120240" cy="3492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7370280" y="3858120"/>
              <a:ext cx="100440" cy="16560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7287840" y="3790080"/>
              <a:ext cx="92520" cy="7380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800040" y="3159000"/>
              <a:ext cx="82080" cy="453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6744600" y="3082680"/>
              <a:ext cx="64440" cy="5148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6802200" y="3082680"/>
              <a:ext cx="82800" cy="842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490880" y="3129840"/>
              <a:ext cx="177480" cy="25020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625880" y="3128040"/>
              <a:ext cx="39960" cy="532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658640" y="3179520"/>
              <a:ext cx="15120" cy="7452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7608240" y="3250080"/>
              <a:ext cx="60120" cy="846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7571160" y="3332520"/>
              <a:ext cx="47520" cy="5148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7520760" y="3347280"/>
              <a:ext cx="55080" cy="3672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7518600" y="3251880"/>
              <a:ext cx="20160" cy="993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485840" y="3154680"/>
              <a:ext cx="42480" cy="993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7488000" y="3129840"/>
              <a:ext cx="82800" cy="2664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7570800" y="3125880"/>
              <a:ext cx="65160" cy="1260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578000" y="3227040"/>
              <a:ext cx="65160" cy="5976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565400" y="3266640"/>
              <a:ext cx="22680" cy="2052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7565760" y="3163320"/>
              <a:ext cx="37440" cy="10476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039800" y="2424240"/>
              <a:ext cx="327960" cy="49248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7127280" y="2482560"/>
              <a:ext cx="70200" cy="16308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7137360" y="2527920"/>
              <a:ext cx="62280" cy="12384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7119720" y="2478240"/>
              <a:ext cx="27720" cy="17136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7127640" y="2478240"/>
              <a:ext cx="77760" cy="5760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7202880" y="2432880"/>
              <a:ext cx="104760" cy="21276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7200360" y="2527920"/>
              <a:ext cx="77760" cy="12168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7267680" y="2428560"/>
              <a:ext cx="45360" cy="21924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7194960" y="2430360"/>
              <a:ext cx="118080" cy="10548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7042680" y="3458880"/>
              <a:ext cx="180000" cy="308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7075080" y="3752640"/>
              <a:ext cx="102600" cy="2052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035120" y="3454560"/>
              <a:ext cx="49680" cy="30204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040160" y="3454560"/>
              <a:ext cx="187920" cy="3096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170480" y="3479400"/>
              <a:ext cx="57600" cy="28116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7167960" y="3475080"/>
              <a:ext cx="190080" cy="3394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75960" y="3479400"/>
              <a:ext cx="87120" cy="3250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162920" y="3796200"/>
              <a:ext cx="120240" cy="223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7162200" y="3471480"/>
              <a:ext cx="19800" cy="33300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178040" y="3471480"/>
              <a:ext cx="185040" cy="140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6917400" y="2889720"/>
              <a:ext cx="513360" cy="6102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047720" y="2886120"/>
              <a:ext cx="308160" cy="3096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6912360" y="2887920"/>
              <a:ext cx="147600" cy="58536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917400" y="3454560"/>
              <a:ext cx="518400" cy="4968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7347960" y="2886120"/>
              <a:ext cx="87840" cy="57276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6796800" y="2455200"/>
              <a:ext cx="360360" cy="123912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7127280" y="2486880"/>
              <a:ext cx="34920" cy="48348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25480" y="2970360"/>
              <a:ext cx="12240" cy="71388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879960" y="3615840"/>
              <a:ext cx="257760" cy="8280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9600" y="3301560"/>
              <a:ext cx="29880" cy="31824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899400" y="2993400"/>
              <a:ext cx="65160" cy="30996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797160" y="2970360"/>
              <a:ext cx="162720" cy="3312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6792480" y="2801160"/>
              <a:ext cx="72000" cy="1774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6855120" y="2478240"/>
              <a:ext cx="225360" cy="32688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070040" y="2453400"/>
              <a:ext cx="62280" cy="3096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7125120" y="2453400"/>
              <a:ext cx="37440" cy="3672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255080" y="2451600"/>
              <a:ext cx="390600" cy="122256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260120" y="2451600"/>
              <a:ext cx="29880" cy="12600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7250400" y="2577600"/>
              <a:ext cx="19800" cy="64476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252920" y="3222720"/>
              <a:ext cx="32040" cy="4554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7280280" y="3609720"/>
              <a:ext cx="225360" cy="684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466040" y="3154680"/>
              <a:ext cx="39600" cy="45900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471080" y="3106800"/>
              <a:ext cx="180000" cy="5616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437960" y="2494800"/>
              <a:ext cx="210600" cy="61632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7279920" y="2447280"/>
              <a:ext cx="165240" cy="5148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092720" y="2449080"/>
              <a:ext cx="64440" cy="43416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7088040" y="2449080"/>
              <a:ext cx="44640" cy="15948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7087680" y="2608560"/>
              <a:ext cx="34920" cy="1800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087680" y="2619000"/>
              <a:ext cx="32040" cy="2880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7087680" y="2641680"/>
              <a:ext cx="42480" cy="21276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7119720" y="2854440"/>
              <a:ext cx="19800" cy="3312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130160" y="2595960"/>
              <a:ext cx="27000" cy="28728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148160" y="2459520"/>
              <a:ext cx="17280" cy="13644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122960" y="2445120"/>
              <a:ext cx="42480" cy="2052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52400" y="2174400"/>
              <a:ext cx="248040" cy="36144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055280" y="2171880"/>
              <a:ext cx="107280" cy="7020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052040" y="2238120"/>
              <a:ext cx="22680" cy="11196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047000" y="2346120"/>
              <a:ext cx="22680" cy="3888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047720" y="2378880"/>
              <a:ext cx="47520" cy="1656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087680" y="2391480"/>
              <a:ext cx="29880" cy="928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7110000" y="2473920"/>
              <a:ext cx="19800" cy="100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122960" y="2473920"/>
              <a:ext cx="67320" cy="6588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185240" y="2462040"/>
              <a:ext cx="102600" cy="7812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7157520" y="2171880"/>
              <a:ext cx="147960" cy="29592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124760" y="2430360"/>
              <a:ext cx="55080" cy="4968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7373160" y="2656080"/>
              <a:ext cx="67320" cy="8892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393680" y="2742840"/>
              <a:ext cx="49680" cy="9072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393320" y="2830320"/>
              <a:ext cx="84960" cy="32868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6982560" y="2670840"/>
              <a:ext cx="72360" cy="8064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6982920" y="2749320"/>
              <a:ext cx="44640" cy="7812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6952680" y="2823480"/>
              <a:ext cx="72360" cy="17388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260480" y="2434680"/>
              <a:ext cx="84960" cy="43848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292520" y="2430360"/>
              <a:ext cx="60120" cy="2880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7325280" y="2453400"/>
              <a:ext cx="24840" cy="15516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303320" y="2604600"/>
              <a:ext cx="44640" cy="144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303320" y="2616840"/>
              <a:ext cx="44640" cy="2052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7257960" y="2637360"/>
              <a:ext cx="89640" cy="24012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7258320" y="2819880"/>
              <a:ext cx="9360" cy="532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253280" y="2432880"/>
              <a:ext cx="49680" cy="38700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7017480" y="2079000"/>
              <a:ext cx="498240" cy="44640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7077600" y="2207160"/>
              <a:ext cx="82800" cy="2880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7150320" y="2230200"/>
              <a:ext cx="77760" cy="7812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7223040" y="2300400"/>
              <a:ext cx="12240" cy="223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7224840" y="2321280"/>
              <a:ext cx="65160" cy="15516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280640" y="2473920"/>
              <a:ext cx="127440" cy="1872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7403400" y="2486880"/>
              <a:ext cx="29520" cy="4284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7428600" y="2472120"/>
              <a:ext cx="34560" cy="5760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7453440" y="2387160"/>
              <a:ext cx="64440" cy="8676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390800" y="2201040"/>
              <a:ext cx="130320" cy="18792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7390440" y="2140920"/>
              <a:ext cx="15120" cy="6192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235640" y="2080800"/>
              <a:ext cx="167760" cy="6408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7065000" y="2075040"/>
              <a:ext cx="172440" cy="3924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022520" y="2108160"/>
              <a:ext cx="47520" cy="7020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7013160" y="2171880"/>
              <a:ext cx="49680" cy="10332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052400" y="2205360"/>
              <a:ext cx="34920" cy="6588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094880" y="2287800"/>
              <a:ext cx="29880" cy="3096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059960" y="2300400"/>
              <a:ext cx="12240" cy="24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766560" y="2982960"/>
              <a:ext cx="248040" cy="23760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922440" y="2991600"/>
              <a:ext cx="27000" cy="5940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934680" y="3049200"/>
              <a:ext cx="19800" cy="5580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917040" y="3094920"/>
              <a:ext cx="29880" cy="144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847560" y="3038760"/>
              <a:ext cx="72000" cy="6408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837480" y="3036960"/>
              <a:ext cx="17280" cy="140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837480" y="3047400"/>
              <a:ext cx="44640" cy="10296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874560" y="3125880"/>
              <a:ext cx="142200" cy="2664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909840" y="3134160"/>
              <a:ext cx="110160" cy="9072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884640" y="3206520"/>
              <a:ext cx="24840" cy="1872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809400" y="3142080"/>
              <a:ext cx="82800" cy="7020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761880" y="3106800"/>
              <a:ext cx="55080" cy="414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762240" y="3061440"/>
              <a:ext cx="21960" cy="4752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771600" y="2979000"/>
              <a:ext cx="65160" cy="8244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6829920" y="2979000"/>
              <a:ext cx="99720" cy="1872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939720" y="3100680"/>
              <a:ext cx="19800" cy="453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861960" y="3142080"/>
              <a:ext cx="92520" cy="2880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6811920" y="3086280"/>
              <a:ext cx="52200" cy="7452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6806880" y="3040920"/>
              <a:ext cx="19800" cy="4752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6824520" y="3036960"/>
              <a:ext cx="29880" cy="11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6851880" y="3038760"/>
              <a:ext cx="32760" cy="2664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6877080" y="3063960"/>
              <a:ext cx="72360" cy="4284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7620120" y="2303640"/>
            <a:ext cx="990000" cy="2039400"/>
            <a:chOff x="7620120" y="2303640"/>
            <a:chExt cx="990000" cy="2039400"/>
          </a:xfrm>
        </p:grpSpPr>
        <p:sp>
          <p:nvSpPr>
            <p:cNvPr id="804" name=""/>
            <p:cNvSpPr/>
            <p:nvPr/>
          </p:nvSpPr>
          <p:spPr>
            <a:xfrm flipH="1">
              <a:off x="7620120" y="4076640"/>
              <a:ext cx="990000" cy="2664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869240" y="4038120"/>
              <a:ext cx="278640" cy="17388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8120160" y="4044240"/>
              <a:ext cx="32400" cy="12024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8064360" y="4158360"/>
              <a:ext cx="60480" cy="1044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938720" y="4160160"/>
              <a:ext cx="125280" cy="4896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864200" y="4203360"/>
              <a:ext cx="76320" cy="129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7864560" y="4041720"/>
              <a:ext cx="174240" cy="16740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8034120" y="4033440"/>
              <a:ext cx="104040" cy="1476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8092080" y="4076640"/>
              <a:ext cx="304560" cy="2469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8124840" y="4071960"/>
              <a:ext cx="113760" cy="2124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8087040" y="4080960"/>
              <a:ext cx="39240" cy="12024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8092440" y="4198680"/>
              <a:ext cx="46080" cy="2124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8136360" y="4212000"/>
              <a:ext cx="138960" cy="882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8273520" y="4291560"/>
              <a:ext cx="111600" cy="3636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8308080" y="4155840"/>
              <a:ext cx="93240" cy="171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8232120" y="4085280"/>
              <a:ext cx="85680" cy="7668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778520" y="3429720"/>
              <a:ext cx="76320" cy="471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7727400" y="3350160"/>
              <a:ext cx="59760" cy="5328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7780320" y="3350160"/>
              <a:ext cx="76680" cy="8748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8420040" y="3399480"/>
              <a:ext cx="164880" cy="25992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8545320" y="3397680"/>
              <a:ext cx="37080" cy="5544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8575200" y="3451320"/>
              <a:ext cx="14040" cy="7740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8528760" y="3524400"/>
              <a:ext cx="55800" cy="882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8493840" y="3610080"/>
              <a:ext cx="44280" cy="5328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8447760" y="3625200"/>
              <a:ext cx="51120" cy="3816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8445600" y="3526200"/>
              <a:ext cx="18720" cy="10332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8415000" y="3425400"/>
              <a:ext cx="39240" cy="10332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8417160" y="3399480"/>
              <a:ext cx="76680" cy="2772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8494560" y="3395160"/>
              <a:ext cx="60480" cy="129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8501400" y="3500280"/>
              <a:ext cx="60480" cy="6228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8489880" y="3541320"/>
              <a:ext cx="20880" cy="212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8489880" y="3434040"/>
              <a:ext cx="34560" cy="1090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8001360" y="2666520"/>
              <a:ext cx="304560" cy="51156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8082360" y="2727000"/>
              <a:ext cx="65160" cy="16956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8091720" y="2774160"/>
              <a:ext cx="57960" cy="12852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8075520" y="2722680"/>
              <a:ext cx="25560" cy="1782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8082720" y="2722680"/>
              <a:ext cx="72000" cy="5976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8152920" y="2675160"/>
              <a:ext cx="97200" cy="22104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8150400" y="2774160"/>
              <a:ext cx="72000" cy="12636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8212320" y="2670840"/>
              <a:ext cx="42120" cy="22788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8145360" y="2673000"/>
              <a:ext cx="109440" cy="1094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03880" y="3741120"/>
              <a:ext cx="167040" cy="32004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8033760" y="4046400"/>
              <a:ext cx="95400" cy="2124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7997040" y="3736800"/>
              <a:ext cx="46080" cy="31356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8001720" y="3736800"/>
              <a:ext cx="174240" cy="3204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8121960" y="3762720"/>
              <a:ext cx="53640" cy="29232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8120160" y="3758400"/>
              <a:ext cx="176400" cy="35280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8219880" y="3762720"/>
              <a:ext cx="81000" cy="3376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8115480" y="4091760"/>
              <a:ext cx="111600" cy="2304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8114760" y="3754440"/>
              <a:ext cx="18360" cy="34596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8129160" y="3754440"/>
              <a:ext cx="171720" cy="1440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7887600" y="3150000"/>
              <a:ext cx="476640" cy="63396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8007840" y="3146040"/>
              <a:ext cx="286200" cy="3204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882920" y="3148200"/>
              <a:ext cx="136800" cy="60804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887240" y="3736800"/>
              <a:ext cx="481320" cy="5148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8286840" y="3146040"/>
              <a:ext cx="81720" cy="59472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775640" y="2698560"/>
              <a:ext cx="334800" cy="12873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8082720" y="2731320"/>
              <a:ext cx="32400" cy="5022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8080560" y="3233880"/>
              <a:ext cx="11520" cy="74160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853040" y="3904560"/>
              <a:ext cx="239040" cy="8604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7852320" y="3578040"/>
              <a:ext cx="27720" cy="33084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7871400" y="3257640"/>
              <a:ext cx="60480" cy="32184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775640" y="3233880"/>
              <a:ext cx="151200" cy="3456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771320" y="3057840"/>
              <a:ext cx="66960" cy="1846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829280" y="2722680"/>
              <a:ext cx="209160" cy="33948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8029080" y="2696760"/>
              <a:ext cx="57960" cy="3204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080560" y="2696760"/>
              <a:ext cx="34560" cy="3816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8201160" y="2694960"/>
              <a:ext cx="362520" cy="126972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8205840" y="2694960"/>
              <a:ext cx="27720" cy="13104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8196840" y="2826000"/>
              <a:ext cx="18360" cy="66996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8199000" y="3495960"/>
              <a:ext cx="29880" cy="47304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8224200" y="3898080"/>
              <a:ext cx="209160" cy="7092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97000" y="3425400"/>
              <a:ext cx="36720" cy="47700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8401680" y="3375720"/>
              <a:ext cx="167040" cy="5832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8370720" y="2739600"/>
              <a:ext cx="195480" cy="6400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8224560" y="2690280"/>
              <a:ext cx="153360" cy="5328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8050680" y="2692440"/>
              <a:ext cx="59760" cy="45108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8045640" y="2692440"/>
              <a:ext cx="41400" cy="16560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8046000" y="2858040"/>
              <a:ext cx="32400" cy="1872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8045280" y="2868840"/>
              <a:ext cx="29880" cy="2988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8045640" y="2892240"/>
              <a:ext cx="39240" cy="22104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8075520" y="3113640"/>
              <a:ext cx="18360" cy="3456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8085240" y="2845080"/>
              <a:ext cx="25200" cy="29844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101440" y="2703240"/>
              <a:ext cx="16200" cy="14148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8078400" y="2688120"/>
              <a:ext cx="39240" cy="212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012880" y="2406960"/>
              <a:ext cx="230400" cy="37548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8015760" y="2404440"/>
              <a:ext cx="99360" cy="7308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8013240" y="2473200"/>
              <a:ext cx="20880" cy="1162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8008560" y="2585160"/>
              <a:ext cx="20880" cy="403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8007840" y="2619360"/>
              <a:ext cx="44280" cy="1728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8045640" y="2632320"/>
              <a:ext cx="27720" cy="964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8066520" y="2718360"/>
              <a:ext cx="18360" cy="104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8078400" y="2718360"/>
              <a:ext cx="62640" cy="68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8136000" y="2705400"/>
              <a:ext cx="95400" cy="813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8110440" y="2404440"/>
              <a:ext cx="137520" cy="30744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080560" y="2673000"/>
              <a:ext cx="51120" cy="5148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8310960" y="2907360"/>
              <a:ext cx="62640" cy="9252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8329680" y="2997360"/>
              <a:ext cx="46080" cy="9432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8329320" y="3088080"/>
              <a:ext cx="78840" cy="34164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7947720" y="2922480"/>
              <a:ext cx="67320" cy="8352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7948080" y="3004200"/>
              <a:ext cx="41400" cy="813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7920000" y="3081240"/>
              <a:ext cx="67320" cy="18072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8205840" y="2677320"/>
              <a:ext cx="78840" cy="45540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8235720" y="2673000"/>
              <a:ext cx="55800" cy="2988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8266680" y="2696760"/>
              <a:ext cx="23040" cy="16128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8245440" y="2853720"/>
              <a:ext cx="41400" cy="1476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8245440" y="2866320"/>
              <a:ext cx="41400" cy="2124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8203680" y="2887920"/>
              <a:ext cx="83160" cy="24948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8204040" y="3077280"/>
              <a:ext cx="8640" cy="5544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8199360" y="2675160"/>
              <a:ext cx="46080" cy="40176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7980120" y="2307960"/>
              <a:ext cx="462600" cy="46368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8035920" y="2440800"/>
              <a:ext cx="76680" cy="2988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8103960" y="2464920"/>
              <a:ext cx="72000" cy="813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8171280" y="2538000"/>
              <a:ext cx="11520" cy="230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8173440" y="2559240"/>
              <a:ext cx="60480" cy="16128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8224200" y="2718360"/>
              <a:ext cx="118440" cy="194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8338680" y="2731320"/>
              <a:ext cx="27360" cy="4464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8361720" y="2716200"/>
              <a:ext cx="32040" cy="5976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8385480" y="2628000"/>
              <a:ext cx="59760" cy="9000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8326800" y="2434680"/>
              <a:ext cx="120960" cy="19512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326440" y="2372040"/>
              <a:ext cx="14040" cy="6408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8182440" y="2309760"/>
              <a:ext cx="155880" cy="6660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8024400" y="2303640"/>
              <a:ext cx="160200" cy="406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7984800" y="2338200"/>
              <a:ext cx="44280" cy="7308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7976160" y="2404440"/>
              <a:ext cx="46080" cy="10764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8013240" y="2439000"/>
              <a:ext cx="32400" cy="68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8052480" y="2524680"/>
              <a:ext cx="27720" cy="3204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8019720" y="2538000"/>
              <a:ext cx="11520" cy="2556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7747560" y="3246840"/>
              <a:ext cx="230400" cy="2469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7892280" y="3255840"/>
              <a:ext cx="25200" cy="615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7903440" y="3315600"/>
              <a:ext cx="18360" cy="5796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7887240" y="3363120"/>
              <a:ext cx="27720" cy="1476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7822440" y="3305160"/>
              <a:ext cx="66960" cy="6660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7812720" y="3303000"/>
              <a:ext cx="16200" cy="14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7813080" y="3313800"/>
              <a:ext cx="41400" cy="10692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7847640" y="3395160"/>
              <a:ext cx="132120" cy="2772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7880760" y="3403800"/>
              <a:ext cx="102240" cy="9432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7857360" y="3479040"/>
              <a:ext cx="23040" cy="194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7787160" y="3412080"/>
              <a:ext cx="76680" cy="7308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7743600" y="3375720"/>
              <a:ext cx="51120" cy="432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743240" y="3328560"/>
              <a:ext cx="20520" cy="4968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7752600" y="3242520"/>
              <a:ext cx="60480" cy="8568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806240" y="3242520"/>
              <a:ext cx="92520" cy="194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7908120" y="3369240"/>
              <a:ext cx="18360" cy="471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7836480" y="3412080"/>
              <a:ext cx="85680" cy="2988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790040" y="3354120"/>
              <a:ext cx="48240" cy="7740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7785000" y="3306960"/>
              <a:ext cx="18360" cy="4968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7801200" y="3303000"/>
              <a:ext cx="27720" cy="126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7827120" y="3305160"/>
              <a:ext cx="30240" cy="2772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7849800" y="3330720"/>
              <a:ext cx="67320" cy="4464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5943600" y="2455920"/>
            <a:ext cx="914040" cy="2039400"/>
            <a:chOff x="5943600" y="2455920"/>
            <a:chExt cx="914040" cy="2039400"/>
          </a:xfrm>
        </p:grpSpPr>
        <p:sp>
          <p:nvSpPr>
            <p:cNvPr id="955" name=""/>
            <p:cNvSpPr/>
            <p:nvPr/>
          </p:nvSpPr>
          <p:spPr>
            <a:xfrm>
              <a:off x="5943600" y="4228920"/>
              <a:ext cx="914040" cy="2664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70200" y="4190400"/>
              <a:ext cx="257400" cy="17388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65880" y="4196520"/>
              <a:ext cx="29880" cy="12024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391800" y="4310640"/>
              <a:ext cx="55800" cy="1044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47600" y="4312440"/>
              <a:ext cx="115560" cy="4896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561720" y="4355640"/>
              <a:ext cx="70560" cy="129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71000" y="4194000"/>
              <a:ext cx="160920" cy="16740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379200" y="4185720"/>
              <a:ext cx="96120" cy="1476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40520" y="4228920"/>
              <a:ext cx="281160" cy="2469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86680" y="4224240"/>
              <a:ext cx="105120" cy="2124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390000" y="4233240"/>
              <a:ext cx="36360" cy="12024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379200" y="4350960"/>
              <a:ext cx="42840" cy="2124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52480" y="4364280"/>
              <a:ext cx="128520" cy="882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51320" y="4443840"/>
              <a:ext cx="102960" cy="3636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136200" y="4308120"/>
              <a:ext cx="86040" cy="171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213600" y="4237560"/>
              <a:ext cx="79200" cy="7668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40920" y="3582000"/>
              <a:ext cx="70560" cy="471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703200" y="3502440"/>
              <a:ext cx="55440" cy="5328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638760" y="3502440"/>
              <a:ext cx="70920" cy="8748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966640" y="3551760"/>
              <a:ext cx="152280" cy="25992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68800" y="3549960"/>
              <a:ext cx="34560" cy="5544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962320" y="3603600"/>
              <a:ext cx="12960" cy="7740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966640" y="3676680"/>
              <a:ext cx="51480" cy="882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09480" y="3762360"/>
              <a:ext cx="40680" cy="5328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46200" y="3777480"/>
              <a:ext cx="47160" cy="3816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78240" y="3678480"/>
              <a:ext cx="17280" cy="10332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86880" y="3577680"/>
              <a:ext cx="36360" cy="10332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50520" y="3551760"/>
              <a:ext cx="70920" cy="2772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94360" y="3547440"/>
              <a:ext cx="55800" cy="129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988240" y="3652560"/>
              <a:ext cx="55800" cy="6228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035400" y="3693600"/>
              <a:ext cx="19440" cy="212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022800" y="3586320"/>
              <a:ext cx="32040" cy="1090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24400" y="2818800"/>
              <a:ext cx="281160" cy="51156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70200" y="2879280"/>
              <a:ext cx="60120" cy="16956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368400" y="2926440"/>
              <a:ext cx="53280" cy="12852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413040" y="2874960"/>
              <a:ext cx="23760" cy="1782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364080" y="2874960"/>
              <a:ext cx="66600" cy="5976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275880" y="2827440"/>
              <a:ext cx="90000" cy="22104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301800" y="2926440"/>
              <a:ext cx="66600" cy="12636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71560" y="2823120"/>
              <a:ext cx="38880" cy="22788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271560" y="2825280"/>
              <a:ext cx="101160" cy="1094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348960" y="3893400"/>
              <a:ext cx="154080" cy="32004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87480" y="4198680"/>
              <a:ext cx="87840" cy="2124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467400" y="3889080"/>
              <a:ext cx="42840" cy="31356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344640" y="3889080"/>
              <a:ext cx="160920" cy="3204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344640" y="3915000"/>
              <a:ext cx="49320" cy="29232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233040" y="3910680"/>
              <a:ext cx="163080" cy="35280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228720" y="3915000"/>
              <a:ext cx="74880" cy="3376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297480" y="4244040"/>
              <a:ext cx="102960" cy="2304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383520" y="3906720"/>
              <a:ext cx="16920" cy="34596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228720" y="3906720"/>
              <a:ext cx="158400" cy="1440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170760" y="3302280"/>
              <a:ext cx="439920" cy="63396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235200" y="3298320"/>
              <a:ext cx="264240" cy="3204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488640" y="3300480"/>
              <a:ext cx="126360" cy="60804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166440" y="3889080"/>
              <a:ext cx="444240" cy="5148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166440" y="3298320"/>
              <a:ext cx="75240" cy="59472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404760" y="2850840"/>
              <a:ext cx="308880" cy="12873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00440" y="2883600"/>
              <a:ext cx="29880" cy="5022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22040" y="3386160"/>
              <a:ext cx="10440" cy="74160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422040" y="4056840"/>
              <a:ext cx="220680" cy="8604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17160" y="3730320"/>
              <a:ext cx="25560" cy="33084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570000" y="3409920"/>
              <a:ext cx="55800" cy="32184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574320" y="3386160"/>
              <a:ext cx="139680" cy="3456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56040" y="3210120"/>
              <a:ext cx="61560" cy="1846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1000" y="2874960"/>
              <a:ext cx="192960" cy="33948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426360" y="2849040"/>
              <a:ext cx="53280" cy="3204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400440" y="2849040"/>
              <a:ext cx="32040" cy="3816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86440" y="2847240"/>
              <a:ext cx="334800" cy="126972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291000" y="2847240"/>
              <a:ext cx="25560" cy="13104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307920" y="2978280"/>
              <a:ext cx="16920" cy="66996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95320" y="3648240"/>
              <a:ext cx="27720" cy="47304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106680" y="4050360"/>
              <a:ext cx="192960" cy="7092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106680" y="3577680"/>
              <a:ext cx="33840" cy="47700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81760" y="3528000"/>
              <a:ext cx="154080" cy="5832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983920" y="2891880"/>
              <a:ext cx="180360" cy="6400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158160" y="2842560"/>
              <a:ext cx="141480" cy="5328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404760" y="2844720"/>
              <a:ext cx="55440" cy="45108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426360" y="2844720"/>
              <a:ext cx="38160" cy="16560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434640" y="3010320"/>
              <a:ext cx="29880" cy="1872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37160" y="3021120"/>
              <a:ext cx="27720" cy="2988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428160" y="3044520"/>
              <a:ext cx="36360" cy="22104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419880" y="3265920"/>
              <a:ext cx="16920" cy="3456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04760" y="2997360"/>
              <a:ext cx="23040" cy="29844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398280" y="2855520"/>
              <a:ext cx="14760" cy="14148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98280" y="2840400"/>
              <a:ext cx="36360" cy="212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82360" y="2559240"/>
              <a:ext cx="212400" cy="37548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400440" y="2556720"/>
              <a:ext cx="91800" cy="7308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475680" y="2625480"/>
              <a:ext cx="19440" cy="1162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480000" y="2737440"/>
              <a:ext cx="19440" cy="403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58400" y="2771640"/>
              <a:ext cx="40680" cy="1728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438960" y="2784600"/>
              <a:ext cx="25560" cy="964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428160" y="2870640"/>
              <a:ext cx="16920" cy="104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376680" y="2870640"/>
              <a:ext cx="57600" cy="68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292800" y="2857680"/>
              <a:ext cx="87840" cy="813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278040" y="2556720"/>
              <a:ext cx="126720" cy="30744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85320" y="2825280"/>
              <a:ext cx="47160" cy="5148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62120" y="3059640"/>
              <a:ext cx="57600" cy="9252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159960" y="3149640"/>
              <a:ext cx="42840" cy="9432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129720" y="3240360"/>
              <a:ext cx="72720" cy="34164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492600" y="3074760"/>
              <a:ext cx="62280" cy="8352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516360" y="3156480"/>
              <a:ext cx="38160" cy="813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518520" y="3233520"/>
              <a:ext cx="62280" cy="18072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43840" y="2829600"/>
              <a:ext cx="72720" cy="45540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37360" y="2825280"/>
              <a:ext cx="51480" cy="2988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239520" y="2849040"/>
              <a:ext cx="21240" cy="16128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241680" y="3006000"/>
              <a:ext cx="38160" cy="1476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241680" y="3018600"/>
              <a:ext cx="38160" cy="2124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241680" y="3040200"/>
              <a:ext cx="76680" cy="24948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310440" y="3229560"/>
              <a:ext cx="7920" cy="5544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280200" y="2827440"/>
              <a:ext cx="42840" cy="40176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097680" y="2460240"/>
              <a:ext cx="427320" cy="46368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02600" y="2593080"/>
              <a:ext cx="70920" cy="2988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344640" y="2617200"/>
              <a:ext cx="66600" cy="813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338160" y="2690280"/>
              <a:ext cx="10440" cy="230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291000" y="2711520"/>
              <a:ext cx="55800" cy="16128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190200" y="2870640"/>
              <a:ext cx="109440" cy="194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68960" y="2883600"/>
              <a:ext cx="25200" cy="4464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143040" y="2868480"/>
              <a:ext cx="29520" cy="5976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095880" y="2780280"/>
              <a:ext cx="55440" cy="9000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093360" y="2586960"/>
              <a:ext cx="111960" cy="19512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92360" y="2524320"/>
              <a:ext cx="12960" cy="6408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194160" y="2462040"/>
              <a:ext cx="144000" cy="6660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36360" y="2455920"/>
              <a:ext cx="147960" cy="406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480000" y="2490480"/>
              <a:ext cx="40680" cy="7308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486120" y="2556720"/>
              <a:ext cx="42840" cy="10764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464880" y="2591280"/>
              <a:ext cx="29880" cy="68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32840" y="2676960"/>
              <a:ext cx="25560" cy="3204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477840" y="2690280"/>
              <a:ext cx="10440" cy="2556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27160" y="3399120"/>
              <a:ext cx="212400" cy="2469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582960" y="3408120"/>
              <a:ext cx="23040" cy="615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578640" y="3467880"/>
              <a:ext cx="16920" cy="5796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85120" y="3515400"/>
              <a:ext cx="25560" cy="1476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608880" y="3457440"/>
              <a:ext cx="61560" cy="6660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664320" y="3455280"/>
              <a:ext cx="14760" cy="14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640920" y="3466080"/>
              <a:ext cx="38160" cy="10692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25360" y="3547440"/>
              <a:ext cx="122040" cy="2772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522840" y="3556080"/>
              <a:ext cx="94320" cy="9432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617160" y="3631320"/>
              <a:ext cx="21240" cy="194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632280" y="3564360"/>
              <a:ext cx="70920" cy="7308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96720" y="3528000"/>
              <a:ext cx="47160" cy="432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724800" y="3480840"/>
              <a:ext cx="18720" cy="4968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679440" y="3394800"/>
              <a:ext cx="55800" cy="8568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600240" y="3394800"/>
              <a:ext cx="85680" cy="194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574320" y="3521520"/>
              <a:ext cx="16920" cy="471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578640" y="3564360"/>
              <a:ext cx="79200" cy="2988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656040" y="3506400"/>
              <a:ext cx="44640" cy="7740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688440" y="3459240"/>
              <a:ext cx="16920" cy="4968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664320" y="3455280"/>
              <a:ext cx="25560" cy="126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638760" y="3457440"/>
              <a:ext cx="28080" cy="2772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82960" y="3483000"/>
              <a:ext cx="62280" cy="4464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6248520" y="4267080"/>
            <a:ext cx="2438280" cy="1752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6858000" y="3429000"/>
            <a:ext cx="1142640" cy="2420280"/>
            <a:chOff x="6858000" y="3429000"/>
            <a:chExt cx="1142640" cy="2420280"/>
          </a:xfrm>
        </p:grpSpPr>
        <p:sp>
          <p:nvSpPr>
            <p:cNvPr id="1107" name=""/>
            <p:cNvSpPr/>
            <p:nvPr/>
          </p:nvSpPr>
          <p:spPr>
            <a:xfrm>
              <a:off x="6858000" y="5533200"/>
              <a:ext cx="1142640" cy="31608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91520" y="5487480"/>
              <a:ext cx="321840" cy="20628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386120" y="5495040"/>
              <a:ext cx="37440" cy="142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18160" y="5630400"/>
              <a:ext cx="69840" cy="1260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488360" y="5632560"/>
              <a:ext cx="144720" cy="5832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630560" y="5683680"/>
              <a:ext cx="88200" cy="1548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517520" y="5492160"/>
              <a:ext cx="201240" cy="19872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402320" y="5482440"/>
              <a:ext cx="120240" cy="1764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04240" y="5533200"/>
              <a:ext cx="351360" cy="29304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286760" y="5528160"/>
              <a:ext cx="131400" cy="2520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15640" y="5538240"/>
              <a:ext cx="45360" cy="142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402320" y="5678280"/>
              <a:ext cx="53280" cy="2520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244280" y="5694120"/>
              <a:ext cx="160560" cy="1044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117560" y="5788440"/>
              <a:ext cx="128880" cy="4320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098840" y="5627520"/>
              <a:ext cx="107640" cy="2041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195680" y="5543640"/>
              <a:ext cx="99000" cy="9108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729920" y="4765680"/>
              <a:ext cx="88200" cy="5580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807680" y="4671360"/>
              <a:ext cx="69120" cy="6336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726680" y="4671360"/>
              <a:ext cx="88560" cy="1040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87160" y="4729680"/>
              <a:ext cx="190440" cy="308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889320" y="4727520"/>
              <a:ext cx="43200" cy="658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881400" y="4790880"/>
              <a:ext cx="16200" cy="9180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887160" y="4877640"/>
              <a:ext cx="64440" cy="1044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940440" y="4979520"/>
              <a:ext cx="50760" cy="6336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986160" y="4997520"/>
              <a:ext cx="58680" cy="4536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026480" y="4880160"/>
              <a:ext cx="21600" cy="12240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037280" y="4760280"/>
              <a:ext cx="45360" cy="12240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991560" y="4729680"/>
              <a:ext cx="88560" cy="327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921720" y="4724640"/>
              <a:ext cx="69840" cy="1548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913800" y="4849560"/>
              <a:ext cx="69840" cy="7380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972840" y="4898160"/>
              <a:ext cx="24120" cy="2520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957000" y="4770720"/>
              <a:ext cx="39960" cy="12924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209000" y="3859920"/>
              <a:ext cx="351360" cy="60732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391520" y="3931560"/>
              <a:ext cx="75240" cy="20124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389000" y="3987720"/>
              <a:ext cx="66600" cy="15264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445160" y="3926160"/>
              <a:ext cx="29520" cy="21168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383600" y="3926160"/>
              <a:ext cx="83160" cy="70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73440" y="3870000"/>
              <a:ext cx="112320" cy="26244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305840" y="3987720"/>
              <a:ext cx="83160" cy="15012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268040" y="3864960"/>
              <a:ext cx="48600" cy="27036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268040" y="3867120"/>
              <a:ext cx="126360" cy="12996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64520" y="5135400"/>
              <a:ext cx="192600" cy="37980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12760" y="5497200"/>
              <a:ext cx="109800" cy="2520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512480" y="5130000"/>
              <a:ext cx="53280" cy="37224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359120" y="5130000"/>
              <a:ext cx="201240" cy="3816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59120" y="5160600"/>
              <a:ext cx="61920" cy="3470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219800" y="5155560"/>
              <a:ext cx="203760" cy="4186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214400" y="5160600"/>
              <a:ext cx="93600" cy="4006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00080" y="5551200"/>
              <a:ext cx="128880" cy="277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07720" y="5150880"/>
              <a:ext cx="21240" cy="41040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214400" y="5150880"/>
              <a:ext cx="198360" cy="1728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142040" y="4433400"/>
              <a:ext cx="549720" cy="7524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222320" y="4429080"/>
              <a:ext cx="330120" cy="3816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539480" y="4431240"/>
              <a:ext cx="158040" cy="72180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136640" y="5130000"/>
              <a:ext cx="555480" cy="612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36640" y="4429080"/>
              <a:ext cx="93960" cy="70596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434720" y="3898080"/>
              <a:ext cx="386280" cy="152820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29320" y="3936600"/>
              <a:ext cx="37440" cy="59616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55960" y="4533120"/>
              <a:ext cx="13320" cy="88020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455960" y="5329080"/>
              <a:ext cx="276120" cy="10224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700040" y="4941360"/>
              <a:ext cx="32040" cy="39276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41000" y="4561560"/>
              <a:ext cx="69840" cy="38232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46400" y="4533120"/>
              <a:ext cx="174600" cy="4104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748640" y="4324320"/>
              <a:ext cx="77040" cy="2188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517520" y="3926160"/>
              <a:ext cx="241560" cy="40284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461360" y="3895560"/>
              <a:ext cx="66600" cy="3816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429320" y="3895560"/>
              <a:ext cx="39960" cy="4536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911280" y="3893400"/>
              <a:ext cx="418320" cy="150732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92160" y="3893400"/>
              <a:ext cx="32040" cy="15552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13760" y="4048920"/>
              <a:ext cx="21240" cy="7952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97920" y="4844160"/>
              <a:ext cx="34560" cy="5616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061760" y="5321520"/>
              <a:ext cx="241560" cy="8424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061760" y="4760280"/>
              <a:ext cx="42480" cy="5662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905880" y="4701240"/>
              <a:ext cx="192600" cy="6912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908400" y="3946680"/>
              <a:ext cx="225720" cy="75996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26200" y="3888000"/>
              <a:ext cx="176760" cy="6336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34720" y="3890520"/>
              <a:ext cx="69120" cy="53532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461360" y="3890520"/>
              <a:ext cx="47880" cy="19656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471800" y="4087080"/>
              <a:ext cx="37440" cy="2232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474680" y="4099680"/>
              <a:ext cx="34560" cy="3564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463880" y="4127400"/>
              <a:ext cx="45360" cy="26244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53440" y="4390200"/>
              <a:ext cx="21240" cy="4104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434720" y="4071600"/>
              <a:ext cx="29160" cy="35424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26080" y="3903120"/>
              <a:ext cx="18720" cy="16812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26080" y="3885120"/>
              <a:ext cx="45360" cy="2520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281360" y="3551400"/>
              <a:ext cx="265680" cy="44568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429320" y="3548520"/>
              <a:ext cx="114840" cy="8676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522920" y="3630240"/>
              <a:ext cx="24120" cy="13824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528320" y="3763080"/>
              <a:ext cx="24120" cy="4788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501680" y="3803760"/>
              <a:ext cx="50760" cy="2052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477200" y="3819240"/>
              <a:ext cx="32040" cy="1144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463880" y="3921120"/>
              <a:ext cx="21240" cy="1260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399440" y="3921120"/>
              <a:ext cx="72360" cy="8136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294680" y="3906000"/>
              <a:ext cx="109800" cy="9648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275960" y="3548520"/>
              <a:ext cx="158760" cy="36468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10240" y="3867120"/>
              <a:ext cx="58680" cy="612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130880" y="4145400"/>
              <a:ext cx="72360" cy="10980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128720" y="4252680"/>
              <a:ext cx="53280" cy="11196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90920" y="4359960"/>
              <a:ext cx="91080" cy="40536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544160" y="4163400"/>
              <a:ext cx="77760" cy="993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574040" y="4260600"/>
              <a:ext cx="47880" cy="9648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576560" y="4352040"/>
              <a:ext cx="77760" cy="21456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233120" y="3872520"/>
              <a:ext cx="91080" cy="54072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25200" y="3867120"/>
              <a:ext cx="64440" cy="3564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227720" y="3895560"/>
              <a:ext cx="26640" cy="19116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230960" y="4082040"/>
              <a:ext cx="47880" cy="1764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230960" y="4096800"/>
              <a:ext cx="47880" cy="2520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230960" y="4122360"/>
              <a:ext cx="96120" cy="29592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316640" y="4347360"/>
              <a:ext cx="10080" cy="658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278840" y="3870000"/>
              <a:ext cx="53280" cy="47700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050600" y="3434040"/>
              <a:ext cx="534240" cy="55044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431480" y="3592080"/>
              <a:ext cx="88560" cy="3564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359120" y="3620160"/>
              <a:ext cx="83160" cy="9648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351200" y="3706920"/>
              <a:ext cx="13320" cy="277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292160" y="3732480"/>
              <a:ext cx="69840" cy="19116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166160" y="3921120"/>
              <a:ext cx="136800" cy="23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39520" y="3936600"/>
              <a:ext cx="31320" cy="5292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07480" y="3918600"/>
              <a:ext cx="37080" cy="70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048440" y="3814200"/>
              <a:ext cx="69120" cy="10692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45200" y="3584520"/>
              <a:ext cx="139680" cy="23184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168680" y="3510360"/>
              <a:ext cx="16200" cy="7632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171200" y="3436200"/>
              <a:ext cx="180000" cy="7920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349040" y="3429000"/>
              <a:ext cx="184680" cy="4824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528320" y="3470040"/>
              <a:ext cx="50760" cy="8676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536240" y="3548520"/>
              <a:ext cx="53280" cy="1278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509600" y="3589560"/>
              <a:ext cx="37440" cy="8136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9280" y="3691440"/>
              <a:ext cx="32040" cy="3816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525800" y="3706920"/>
              <a:ext cx="13320" cy="3060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587360" y="4548600"/>
              <a:ext cx="265680" cy="29304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657560" y="4559040"/>
              <a:ext cx="29160" cy="7344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51800" y="4630320"/>
              <a:ext cx="21240" cy="6876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59720" y="4686480"/>
              <a:ext cx="32040" cy="1764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89600" y="4617360"/>
              <a:ext cx="77040" cy="7920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759080" y="4615200"/>
              <a:ext cx="18720" cy="172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29920" y="4627800"/>
              <a:ext cx="47880" cy="12708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584840" y="4724640"/>
              <a:ext cx="152640" cy="327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581960" y="4735080"/>
              <a:ext cx="117720" cy="11196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700040" y="4824000"/>
              <a:ext cx="26640" cy="23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718760" y="4744800"/>
              <a:ext cx="88560" cy="8676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799040" y="4701240"/>
              <a:ext cx="58680" cy="514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834320" y="4645440"/>
              <a:ext cx="23400" cy="5868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77800" y="4543560"/>
              <a:ext cx="69840" cy="10152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678800" y="4543560"/>
              <a:ext cx="106920" cy="23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646400" y="4694040"/>
              <a:ext cx="21240" cy="5580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651800" y="4744800"/>
              <a:ext cx="99000" cy="3564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748640" y="4676040"/>
              <a:ext cx="55800" cy="9180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788960" y="4619880"/>
              <a:ext cx="21240" cy="5868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759080" y="4615200"/>
              <a:ext cx="32040" cy="1476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726680" y="4617360"/>
              <a:ext cx="35280" cy="327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657560" y="4648320"/>
              <a:ext cx="77760" cy="5292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7" name=""/>
          <p:cNvSpPr/>
          <p:nvPr/>
        </p:nvSpPr>
        <p:spPr>
          <a:xfrm>
            <a:off x="1371600" y="2743200"/>
            <a:ext cx="2286000" cy="1752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ers / Wri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457200" y="2819520"/>
            <a:ext cx="457200" cy="1186920"/>
            <a:chOff x="457200" y="2819520"/>
            <a:chExt cx="457200" cy="1186920"/>
          </a:xfrm>
        </p:grpSpPr>
        <p:sp>
          <p:nvSpPr>
            <p:cNvPr id="1260" name=""/>
            <p:cNvSpPr/>
            <p:nvPr/>
          </p:nvSpPr>
          <p:spPr>
            <a:xfrm>
              <a:off x="457200" y="384984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1" name=""/>
            <p:cNvGrpSpPr/>
            <p:nvPr/>
          </p:nvGrpSpPr>
          <p:grpSpPr>
            <a:xfrm>
              <a:off x="457200" y="2819520"/>
              <a:ext cx="352440" cy="1117080"/>
              <a:chOff x="457200" y="2819520"/>
              <a:chExt cx="352440" cy="1117080"/>
            </a:xfrm>
          </p:grpSpPr>
          <p:sp>
            <p:nvSpPr>
              <p:cNvPr id="1262" name=""/>
              <p:cNvSpPr/>
              <p:nvPr/>
            </p:nvSpPr>
            <p:spPr>
              <a:xfrm>
                <a:off x="607680" y="284688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46640" y="314964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41440" y="388152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36480" y="384876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94360" y="296244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18480" y="300168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85080" y="300168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67800" y="300096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82040" y="2962440"/>
                <a:ext cx="280800" cy="93060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13160" y="333360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07040" y="3011040"/>
                <a:ext cx="16200" cy="14832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24880" y="305316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84280" y="298476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38200" y="315360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67720" y="340200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57640" y="339660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35040" y="383508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38200" y="386424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57200" y="3430080"/>
                <a:ext cx="302760" cy="22428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35840" y="347004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70160" y="348084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 flipV="1">
                <a:off x="612360" y="345276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 flipV="1">
                <a:off x="601200" y="345600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 flipV="1">
                <a:off x="590760" y="345672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02000" y="288036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00560" y="289296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84280" y="281952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30360" y="292104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96600" y="32310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53840" y="329760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73280" y="330372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56720" y="330516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63200" y="332604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64640" y="330444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709200" y="292716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7" name=""/>
          <p:cNvGrpSpPr/>
          <p:nvPr/>
        </p:nvGrpSpPr>
        <p:grpSpPr>
          <a:xfrm>
            <a:off x="1981080" y="1828800"/>
            <a:ext cx="1066680" cy="2191680"/>
            <a:chOff x="1981080" y="1828800"/>
            <a:chExt cx="1066680" cy="2191680"/>
          </a:xfrm>
        </p:grpSpPr>
        <p:sp>
          <p:nvSpPr>
            <p:cNvPr id="1298" name=""/>
            <p:cNvSpPr/>
            <p:nvPr/>
          </p:nvSpPr>
          <p:spPr>
            <a:xfrm>
              <a:off x="1981080" y="3734280"/>
              <a:ext cx="1066680" cy="2862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478960" y="3692880"/>
              <a:ext cx="300240" cy="18684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473920" y="3699720"/>
              <a:ext cx="34920" cy="12924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04160" y="3822480"/>
              <a:ext cx="65160" cy="1152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69320" y="3824280"/>
              <a:ext cx="135000" cy="5256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702520" y="3870360"/>
              <a:ext cx="82080" cy="1404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596680" y="3697200"/>
              <a:ext cx="187920" cy="18000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489400" y="3688200"/>
              <a:ext cx="112320" cy="162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11120" y="3734280"/>
              <a:ext cx="328320" cy="26532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381400" y="3729600"/>
              <a:ext cx="122400" cy="2304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01640" y="3738960"/>
              <a:ext cx="42480" cy="12924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89400" y="3865680"/>
              <a:ext cx="49680" cy="2304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341800" y="3880080"/>
              <a:ext cx="149760" cy="9468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223360" y="3965400"/>
              <a:ext cx="120240" cy="392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205720" y="3819600"/>
              <a:ext cx="100440" cy="18468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296080" y="3743640"/>
              <a:ext cx="92520" cy="8244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795040" y="3039120"/>
              <a:ext cx="82080" cy="507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867760" y="2953800"/>
              <a:ext cx="64440" cy="5760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792160" y="2953800"/>
              <a:ext cx="82800" cy="9396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008080" y="3006720"/>
              <a:ext cx="177480" cy="27972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010600" y="3004560"/>
              <a:ext cx="40320" cy="5940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003040" y="3062160"/>
              <a:ext cx="15120" cy="8316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008080" y="3140640"/>
              <a:ext cx="60120" cy="9468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058120" y="3233160"/>
              <a:ext cx="47520" cy="57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100600" y="3249360"/>
              <a:ext cx="55080" cy="4104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38400" y="3142800"/>
              <a:ext cx="20160" cy="11088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148480" y="3034440"/>
              <a:ext cx="42480" cy="11088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106000" y="3006720"/>
              <a:ext cx="82800" cy="2952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040480" y="3002040"/>
              <a:ext cx="65160" cy="1404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033280" y="3115080"/>
              <a:ext cx="65160" cy="6696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088360" y="3159000"/>
              <a:ext cx="22680" cy="230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073600" y="3043800"/>
              <a:ext cx="37440" cy="11700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308680" y="2219040"/>
              <a:ext cx="328320" cy="54972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478960" y="2283840"/>
              <a:ext cx="70200" cy="18216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476800" y="2334600"/>
              <a:ext cx="62280" cy="13824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529000" y="2279160"/>
              <a:ext cx="27720" cy="19152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471760" y="2279160"/>
              <a:ext cx="77760" cy="6408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368800" y="2228400"/>
              <a:ext cx="104760" cy="23760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99040" y="2334600"/>
              <a:ext cx="77760" cy="13608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363760" y="2223720"/>
              <a:ext cx="45360" cy="24480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363760" y="2225520"/>
              <a:ext cx="118080" cy="11772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454120" y="3373920"/>
              <a:ext cx="180000" cy="34380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499120" y="3701880"/>
              <a:ext cx="102600" cy="2304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592000" y="3369240"/>
              <a:ext cx="49680" cy="33732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49080" y="3369240"/>
              <a:ext cx="187920" cy="3456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449080" y="3396960"/>
              <a:ext cx="57600" cy="31428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318760" y="3392280"/>
              <a:ext cx="190080" cy="3790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13720" y="3396960"/>
              <a:ext cx="87480" cy="3628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394000" y="3750480"/>
              <a:ext cx="120240" cy="2484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494440" y="3387960"/>
              <a:ext cx="19800" cy="37188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13720" y="3387960"/>
              <a:ext cx="185040" cy="1548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246040" y="2738520"/>
              <a:ext cx="513360" cy="68148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321280" y="2734200"/>
              <a:ext cx="308160" cy="3456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17200" y="2736360"/>
              <a:ext cx="147600" cy="65340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241000" y="3369240"/>
              <a:ext cx="518400" cy="5544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241000" y="2734200"/>
              <a:ext cx="87840" cy="63936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519280" y="2253600"/>
              <a:ext cx="360720" cy="138384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514240" y="2288520"/>
              <a:ext cx="34920" cy="5400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39440" y="2828520"/>
              <a:ext cx="12240" cy="79704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539440" y="3549240"/>
              <a:ext cx="257760" cy="9252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66960" y="3198600"/>
              <a:ext cx="29880" cy="3556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11880" y="2854440"/>
              <a:ext cx="65160" cy="34596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17280" y="2828520"/>
              <a:ext cx="162720" cy="3708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812680" y="2639520"/>
              <a:ext cx="72000" cy="19836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96680" y="2279160"/>
              <a:ext cx="225360" cy="36504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544480" y="2251440"/>
              <a:ext cx="62280" cy="3456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514240" y="2251440"/>
              <a:ext cx="37440" cy="4104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030760" y="2249280"/>
              <a:ext cx="390600" cy="136476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386440" y="2249280"/>
              <a:ext cx="29880" cy="14076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406240" y="2390040"/>
              <a:ext cx="19800" cy="72000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391480" y="3110400"/>
              <a:ext cx="32040" cy="50832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171160" y="3542760"/>
              <a:ext cx="225360" cy="7632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171160" y="3034440"/>
              <a:ext cx="39600" cy="51264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25720" y="2981160"/>
              <a:ext cx="180000" cy="626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027880" y="2297520"/>
              <a:ext cx="210600" cy="68796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231280" y="2244600"/>
              <a:ext cx="165240" cy="5760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519280" y="2246760"/>
              <a:ext cx="64440" cy="48492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44480" y="2246760"/>
              <a:ext cx="44640" cy="1778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54200" y="2424600"/>
              <a:ext cx="34920" cy="2016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57080" y="2436120"/>
              <a:ext cx="32040" cy="3240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46640" y="2461320"/>
              <a:ext cx="42480" cy="23760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36920" y="2699280"/>
              <a:ext cx="19800" cy="3708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519280" y="2410560"/>
              <a:ext cx="27000" cy="32076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511360" y="2258280"/>
              <a:ext cx="17280" cy="15228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511360" y="2242080"/>
              <a:ext cx="42480" cy="230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76360" y="1939680"/>
              <a:ext cx="248040" cy="40356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514240" y="1937160"/>
              <a:ext cx="107280" cy="7848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01720" y="2010960"/>
              <a:ext cx="22680" cy="12492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606760" y="2131560"/>
              <a:ext cx="22680" cy="4320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581920" y="2167920"/>
              <a:ext cx="47520" cy="1872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559240" y="2182320"/>
              <a:ext cx="29880" cy="1036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546640" y="2274480"/>
              <a:ext cx="19800" cy="115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486520" y="2274480"/>
              <a:ext cx="67320" cy="738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388600" y="2260800"/>
              <a:ext cx="102600" cy="8712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371320" y="1937160"/>
              <a:ext cx="147960" cy="33048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96600" y="2225520"/>
              <a:ext cx="55080" cy="5544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235960" y="2477520"/>
              <a:ext cx="67320" cy="9936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233800" y="2574720"/>
              <a:ext cx="49680" cy="10152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98520" y="2671920"/>
              <a:ext cx="84960" cy="3672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621520" y="2493720"/>
              <a:ext cx="72360" cy="9000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649600" y="2581920"/>
              <a:ext cx="44640" cy="8712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651760" y="2664720"/>
              <a:ext cx="72360" cy="19404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331360" y="2230560"/>
              <a:ext cx="84960" cy="48960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324160" y="2225520"/>
              <a:ext cx="60120" cy="3240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326320" y="2251440"/>
              <a:ext cx="24840" cy="17316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329200" y="2419920"/>
              <a:ext cx="44640" cy="162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329200" y="2433600"/>
              <a:ext cx="44640" cy="2304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329200" y="2456640"/>
              <a:ext cx="89640" cy="26820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409120" y="2660400"/>
              <a:ext cx="9360" cy="5940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373840" y="2228400"/>
              <a:ext cx="49680" cy="43200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161080" y="1833480"/>
              <a:ext cx="498600" cy="49860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6760" y="1976400"/>
              <a:ext cx="82800" cy="3240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449080" y="2001960"/>
              <a:ext cx="77760" cy="8712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441520" y="2080440"/>
              <a:ext cx="12240" cy="248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386440" y="2103480"/>
              <a:ext cx="65160" cy="17316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69080" y="2274480"/>
              <a:ext cx="127800" cy="2088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243880" y="2288520"/>
              <a:ext cx="29520" cy="4788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213640" y="2272320"/>
              <a:ext cx="34560" cy="6408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158560" y="2177640"/>
              <a:ext cx="64440" cy="968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156040" y="1969560"/>
              <a:ext cx="130320" cy="20988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271240" y="1902600"/>
              <a:ext cx="15120" cy="6912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273400" y="1835280"/>
              <a:ext cx="168120" cy="7164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439360" y="1828800"/>
              <a:ext cx="172440" cy="439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606760" y="1865880"/>
              <a:ext cx="47520" cy="7848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614320" y="1937160"/>
              <a:ext cx="49680" cy="11556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89480" y="1974240"/>
              <a:ext cx="34920" cy="738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551680" y="2066400"/>
              <a:ext cx="29880" cy="3456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604600" y="2080440"/>
              <a:ext cx="12240" cy="27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661840" y="2842920"/>
              <a:ext cx="248040" cy="26532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727360" y="2852280"/>
              <a:ext cx="27000" cy="6624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722320" y="2916720"/>
              <a:ext cx="19800" cy="622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729520" y="2967480"/>
              <a:ext cx="29880" cy="162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757600" y="2905200"/>
              <a:ext cx="72000" cy="7164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822040" y="2903040"/>
              <a:ext cx="17280" cy="15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795040" y="2914560"/>
              <a:ext cx="44640" cy="11520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659680" y="3002040"/>
              <a:ext cx="142560" cy="2952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656800" y="3011400"/>
              <a:ext cx="110160" cy="10152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766960" y="3092040"/>
              <a:ext cx="24840" cy="208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784600" y="3020400"/>
              <a:ext cx="82800" cy="7848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859840" y="2981160"/>
              <a:ext cx="55080" cy="4644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892600" y="2930400"/>
              <a:ext cx="21960" cy="5328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839680" y="2837880"/>
              <a:ext cx="65160" cy="9216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747160" y="2837880"/>
              <a:ext cx="99720" cy="2088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717280" y="2974320"/>
              <a:ext cx="19800" cy="507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722320" y="3020400"/>
              <a:ext cx="92520" cy="3240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12680" y="2958120"/>
              <a:ext cx="52200" cy="8316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50120" y="2907360"/>
              <a:ext cx="19800" cy="5328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822040" y="2903040"/>
              <a:ext cx="29880" cy="133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92160" y="2905200"/>
              <a:ext cx="32760" cy="2952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727360" y="2932920"/>
              <a:ext cx="72360" cy="4788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353040" y="1219320"/>
            <a:ext cx="914040" cy="1980720"/>
            <a:chOff x="3353040" y="1219320"/>
            <a:chExt cx="914040" cy="1980720"/>
          </a:xfrm>
        </p:grpSpPr>
        <p:sp>
          <p:nvSpPr>
            <p:cNvPr id="1449" name=""/>
            <p:cNvSpPr/>
            <p:nvPr/>
          </p:nvSpPr>
          <p:spPr>
            <a:xfrm flipH="1">
              <a:off x="3352680" y="2941200"/>
              <a:ext cx="914040" cy="25884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3582720" y="2903760"/>
              <a:ext cx="257400" cy="16884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814560" y="2909880"/>
              <a:ext cx="29880" cy="11664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3762720" y="3020760"/>
              <a:ext cx="55800" cy="1008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3647160" y="3022560"/>
              <a:ext cx="115560" cy="4752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3578400" y="3064320"/>
              <a:ext cx="70560" cy="1260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3578400" y="2907720"/>
              <a:ext cx="160920" cy="16272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3735000" y="2899440"/>
              <a:ext cx="96120" cy="144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3788640" y="2941200"/>
              <a:ext cx="281160" cy="2397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3818880" y="2936880"/>
              <a:ext cx="105120" cy="2052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3783960" y="2945520"/>
              <a:ext cx="36360" cy="11664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3788280" y="3060000"/>
              <a:ext cx="42840" cy="2052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829320" y="3072600"/>
              <a:ext cx="128520" cy="8532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3956400" y="3150000"/>
              <a:ext cx="102960" cy="3528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3988080" y="3018240"/>
              <a:ext cx="86040" cy="16704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3917880" y="2949840"/>
              <a:ext cx="79200" cy="74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3499200" y="2313000"/>
              <a:ext cx="70560" cy="4572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3452040" y="2235960"/>
              <a:ext cx="55440" cy="518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3500640" y="2235960"/>
              <a:ext cx="70920" cy="8496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4091400" y="2283840"/>
              <a:ext cx="152280" cy="25272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4207320" y="2281680"/>
              <a:ext cx="34560" cy="5364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4235400" y="2333880"/>
              <a:ext cx="12960" cy="7524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4192200" y="2404800"/>
              <a:ext cx="51480" cy="8532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4160160" y="2488320"/>
              <a:ext cx="40680" cy="518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4116960" y="2502720"/>
              <a:ext cx="47160" cy="37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4115160" y="2406600"/>
              <a:ext cx="17280" cy="10008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4087080" y="2308680"/>
              <a:ext cx="36360" cy="10008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4088880" y="2283840"/>
              <a:ext cx="70920" cy="2664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4160160" y="2279520"/>
              <a:ext cx="55800" cy="1260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4166280" y="2381760"/>
              <a:ext cx="55800" cy="6048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4155840" y="2421360"/>
              <a:ext cx="19440" cy="2052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4155480" y="2317320"/>
              <a:ext cx="32040" cy="10584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3704760" y="1571760"/>
              <a:ext cx="281160" cy="49680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3780000" y="1630440"/>
              <a:ext cx="60120" cy="1645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3789000" y="1676520"/>
              <a:ext cx="53280" cy="12492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3773880" y="1626120"/>
              <a:ext cx="23760" cy="17316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3779640" y="1626120"/>
              <a:ext cx="66600" cy="5796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3844800" y="1580400"/>
              <a:ext cx="90000" cy="21456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3841920" y="1676520"/>
              <a:ext cx="66600" cy="12276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3900240" y="1576080"/>
              <a:ext cx="38880" cy="22140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3837600" y="1577880"/>
              <a:ext cx="101160" cy="10620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3707640" y="2615400"/>
              <a:ext cx="154080" cy="31068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3735360" y="2911680"/>
              <a:ext cx="87840" cy="2052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3700080" y="2611440"/>
              <a:ext cx="42840" cy="30456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3704760" y="2611440"/>
              <a:ext cx="160920" cy="3096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3816360" y="2636280"/>
              <a:ext cx="49320" cy="28368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3814200" y="2631960"/>
              <a:ext cx="163080" cy="34236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3907080" y="2636280"/>
              <a:ext cx="74880" cy="32796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3810240" y="2955960"/>
              <a:ext cx="102960" cy="2268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3809880" y="2628360"/>
              <a:ext cx="16920" cy="33588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3823560" y="2628360"/>
              <a:ext cx="158400" cy="140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3600000" y="2041200"/>
              <a:ext cx="439920" cy="6156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3711240" y="2037600"/>
              <a:ext cx="264240" cy="3096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3595320" y="2039400"/>
              <a:ext cx="126360" cy="59040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3600000" y="2611440"/>
              <a:ext cx="444240" cy="5004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3968640" y="2037600"/>
              <a:ext cx="75240" cy="5778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3497040" y="1603080"/>
              <a:ext cx="308880" cy="125028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780000" y="1634760"/>
              <a:ext cx="29880" cy="487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3777840" y="2122920"/>
              <a:ext cx="10440" cy="7203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3567600" y="2774160"/>
              <a:ext cx="220680" cy="8352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3567600" y="2457000"/>
              <a:ext cx="25560" cy="32112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3584520" y="2145960"/>
              <a:ext cx="55800" cy="31284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3496680" y="2122920"/>
              <a:ext cx="139680" cy="3348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492720" y="1951920"/>
              <a:ext cx="61560" cy="1792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3546720" y="1626120"/>
              <a:ext cx="192960" cy="3297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3731040" y="1601280"/>
              <a:ext cx="53280" cy="3096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3777840" y="1601280"/>
              <a:ext cx="32040" cy="37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3889440" y="1599120"/>
              <a:ext cx="334800" cy="123336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3893760" y="1599120"/>
              <a:ext cx="25560" cy="1270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3885480" y="1726560"/>
              <a:ext cx="16920" cy="65052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3887280" y="2377440"/>
              <a:ext cx="27720" cy="45936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3911040" y="2768040"/>
              <a:ext cx="192960" cy="6876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4070160" y="2308680"/>
              <a:ext cx="33840" cy="46332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4074840" y="2260440"/>
              <a:ext cx="154080" cy="5652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4046040" y="1642680"/>
              <a:ext cx="180360" cy="62172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3910680" y="1594800"/>
              <a:ext cx="141480" cy="518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3750480" y="1596960"/>
              <a:ext cx="55440" cy="43812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3746160" y="1596960"/>
              <a:ext cx="38160" cy="16092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3745800" y="1757880"/>
              <a:ext cx="29880" cy="1836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3745440" y="1768320"/>
              <a:ext cx="27720" cy="291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3745800" y="1791000"/>
              <a:ext cx="36360" cy="21456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3773520" y="2005920"/>
              <a:ext cx="16920" cy="3348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3782880" y="1744920"/>
              <a:ext cx="23040" cy="29016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3797280" y="1607400"/>
              <a:ext cx="14760" cy="13752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3775680" y="1592640"/>
              <a:ext cx="36360" cy="2052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3715920" y="1319400"/>
              <a:ext cx="212400" cy="36468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718080" y="1317240"/>
              <a:ext cx="91800" cy="7092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3715560" y="1383840"/>
              <a:ext cx="19440" cy="11304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3711240" y="1492560"/>
              <a:ext cx="19440" cy="3924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3711240" y="1526040"/>
              <a:ext cx="40680" cy="1692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3745800" y="1538640"/>
              <a:ext cx="25560" cy="9360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3765240" y="1621800"/>
              <a:ext cx="16920" cy="100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3776400" y="1621800"/>
              <a:ext cx="57600" cy="666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3830040" y="1609560"/>
              <a:ext cx="87840" cy="7884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3805920" y="1317240"/>
              <a:ext cx="126720" cy="29844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3777840" y="1577880"/>
              <a:ext cx="47160" cy="5004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990960" y="1805760"/>
              <a:ext cx="57600" cy="896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4007520" y="1893240"/>
              <a:ext cx="42840" cy="9180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4008240" y="1981080"/>
              <a:ext cx="72720" cy="33156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3655440" y="1820160"/>
              <a:ext cx="62280" cy="813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3656160" y="1899720"/>
              <a:ext cx="38160" cy="7884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3629520" y="1974600"/>
              <a:ext cx="62280" cy="17532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3894120" y="1582200"/>
              <a:ext cx="72720" cy="4424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3921480" y="1577880"/>
              <a:ext cx="51480" cy="291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3949560" y="1601280"/>
              <a:ext cx="21240" cy="1566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3930840" y="1753560"/>
              <a:ext cx="38160" cy="144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3930840" y="1765800"/>
              <a:ext cx="38160" cy="2052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3891960" y="1786680"/>
              <a:ext cx="76680" cy="24228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3892320" y="1970640"/>
              <a:ext cx="7920" cy="5364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3887280" y="1580400"/>
              <a:ext cx="42840" cy="3902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3685320" y="1223280"/>
              <a:ext cx="427320" cy="450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3736800" y="1352520"/>
              <a:ext cx="70920" cy="291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3799080" y="1375920"/>
              <a:ext cx="66600" cy="7884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3861720" y="1446840"/>
              <a:ext cx="10440" cy="226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3863520" y="1467720"/>
              <a:ext cx="55800" cy="1566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3911040" y="1621800"/>
              <a:ext cx="109440" cy="1872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4016520" y="1634760"/>
              <a:ext cx="25200" cy="4320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4038120" y="1620000"/>
              <a:ext cx="29520" cy="5796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4059360" y="1534320"/>
              <a:ext cx="55440" cy="8748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4005000" y="1346400"/>
              <a:ext cx="111960" cy="18972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4005360" y="1285920"/>
              <a:ext cx="12960" cy="6228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3872520" y="1225440"/>
              <a:ext cx="144000" cy="6480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3726000" y="1219320"/>
              <a:ext cx="147960" cy="3960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3689640" y="1252800"/>
              <a:ext cx="40680" cy="7092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3681360" y="1317240"/>
              <a:ext cx="42840" cy="1044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3715560" y="1350720"/>
              <a:ext cx="29880" cy="666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3751920" y="1433880"/>
              <a:ext cx="25560" cy="3096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3722040" y="1446840"/>
              <a:ext cx="10440" cy="24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3471120" y="2135520"/>
              <a:ext cx="212400" cy="2397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604680" y="2144160"/>
              <a:ext cx="23040" cy="597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3614760" y="2202120"/>
              <a:ext cx="16920" cy="5616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3599640" y="2248200"/>
              <a:ext cx="25560" cy="144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3539880" y="2192040"/>
              <a:ext cx="61560" cy="6480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3531240" y="2189880"/>
              <a:ext cx="14760" cy="140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3531600" y="2200320"/>
              <a:ext cx="38160" cy="1040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3562920" y="2279520"/>
              <a:ext cx="122040" cy="2664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3593520" y="2287800"/>
              <a:ext cx="94320" cy="9180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3571920" y="2360880"/>
              <a:ext cx="21240" cy="1872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3507120" y="2296080"/>
              <a:ext cx="70920" cy="7092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3466440" y="2260440"/>
              <a:ext cx="47160" cy="4212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3467160" y="2214720"/>
              <a:ext cx="18720" cy="4824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3475080" y="2131200"/>
              <a:ext cx="55800" cy="8316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3524760" y="2131200"/>
              <a:ext cx="85680" cy="1872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3619080" y="2254320"/>
              <a:ext cx="16920" cy="4572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3552840" y="2296080"/>
              <a:ext cx="79200" cy="291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3510000" y="2239560"/>
              <a:ext cx="44640" cy="7524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3504960" y="2193840"/>
              <a:ext cx="16920" cy="4824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3520440" y="2189880"/>
              <a:ext cx="25560" cy="1224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3543840" y="2192040"/>
              <a:ext cx="28080" cy="2664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3565080" y="2216880"/>
              <a:ext cx="62280" cy="4320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609480" y="2971800"/>
            <a:ext cx="457200" cy="1186920"/>
            <a:chOff x="609480" y="2971800"/>
            <a:chExt cx="457200" cy="1186920"/>
          </a:xfrm>
        </p:grpSpPr>
        <p:sp>
          <p:nvSpPr>
            <p:cNvPr id="1600" name=""/>
            <p:cNvSpPr/>
            <p:nvPr/>
          </p:nvSpPr>
          <p:spPr>
            <a:xfrm>
              <a:off x="609480" y="400212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1" name=""/>
            <p:cNvGrpSpPr/>
            <p:nvPr/>
          </p:nvGrpSpPr>
          <p:grpSpPr>
            <a:xfrm>
              <a:off x="609480" y="2971800"/>
              <a:ext cx="352440" cy="1117080"/>
              <a:chOff x="609480" y="2971800"/>
              <a:chExt cx="352440" cy="1117080"/>
            </a:xfrm>
          </p:grpSpPr>
          <p:sp>
            <p:nvSpPr>
              <p:cNvPr id="1602" name=""/>
              <p:cNvSpPr/>
              <p:nvPr/>
            </p:nvSpPr>
            <p:spPr>
              <a:xfrm>
                <a:off x="759960" y="299916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898920" y="330192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93720" y="403380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88760" y="400104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46640" y="311472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0760" y="315396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837360" y="315396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820080" y="315324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34320" y="3114720"/>
                <a:ext cx="280800" cy="93060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865440" y="348588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859320" y="3163320"/>
                <a:ext cx="16200" cy="14832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77160" y="320544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36560" y="313704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90480" y="330588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20000" y="355428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09920" y="354888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87320" y="398736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90480" y="401652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09480" y="3582360"/>
                <a:ext cx="302760" cy="22428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888120" y="362232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22440" y="363312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 flipV="1">
                <a:off x="764640" y="360504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flipV="1">
                <a:off x="753480" y="360828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>
                <a:off x="743040" y="360900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854280" y="303264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52840" y="304524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6560" y="297180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82640" y="307332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848880" y="338328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906120" y="344988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925560" y="34560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909000" y="345744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915480" y="347832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916920" y="345672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H="1">
                <a:off x="861480" y="307944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7" name=""/>
          <p:cNvGrpSpPr/>
          <p:nvPr/>
        </p:nvGrpSpPr>
        <p:grpSpPr>
          <a:xfrm>
            <a:off x="762120" y="3124080"/>
            <a:ext cx="457200" cy="1187280"/>
            <a:chOff x="762120" y="3124080"/>
            <a:chExt cx="457200" cy="1187280"/>
          </a:xfrm>
        </p:grpSpPr>
        <p:sp>
          <p:nvSpPr>
            <p:cNvPr id="1638" name=""/>
            <p:cNvSpPr/>
            <p:nvPr/>
          </p:nvSpPr>
          <p:spPr>
            <a:xfrm>
              <a:off x="762120" y="415476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9" name=""/>
            <p:cNvGrpSpPr/>
            <p:nvPr/>
          </p:nvGrpSpPr>
          <p:grpSpPr>
            <a:xfrm>
              <a:off x="762120" y="3124080"/>
              <a:ext cx="352440" cy="1117440"/>
              <a:chOff x="762120" y="3124080"/>
              <a:chExt cx="352440" cy="1117440"/>
            </a:xfrm>
          </p:grpSpPr>
          <p:sp>
            <p:nvSpPr>
              <p:cNvPr id="1640" name=""/>
              <p:cNvSpPr/>
              <p:nvPr/>
            </p:nvSpPr>
            <p:spPr>
              <a:xfrm>
                <a:off x="912600" y="315144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051560" y="345420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846360" y="418644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941400" y="415368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899280" y="326736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923400" y="330624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990000" y="330624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972720" y="330552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86960" y="3267360"/>
                <a:ext cx="280800" cy="9309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018080" y="363816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011960" y="3315600"/>
                <a:ext cx="16200" cy="1486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829800" y="335772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889200" y="328932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843120" y="345816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872640" y="370656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62560" y="370116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939960" y="413964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43120" y="416916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62120" y="3735000"/>
                <a:ext cx="302760" cy="2246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040760" y="377496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75080" y="378540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 flipV="1">
                <a:off x="917280" y="375768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H="1" flipV="1">
                <a:off x="906120" y="376056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 flipV="1">
                <a:off x="895680" y="376128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1006920" y="318528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005480" y="319752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889200" y="312408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935280" y="322596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001520" y="35355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058760" y="360216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078200" y="36086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061640" y="361008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8120" y="363060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9560" y="360936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>
                <a:off x="1014120" y="323172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5" name=""/>
          <p:cNvGrpSpPr/>
          <p:nvPr/>
        </p:nvGrpSpPr>
        <p:grpSpPr>
          <a:xfrm>
            <a:off x="914400" y="3276720"/>
            <a:ext cx="457200" cy="1186920"/>
            <a:chOff x="914400" y="3276720"/>
            <a:chExt cx="457200" cy="1186920"/>
          </a:xfrm>
        </p:grpSpPr>
        <p:sp>
          <p:nvSpPr>
            <p:cNvPr id="1676" name=""/>
            <p:cNvSpPr/>
            <p:nvPr/>
          </p:nvSpPr>
          <p:spPr>
            <a:xfrm>
              <a:off x="914400" y="430704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7" name=""/>
            <p:cNvGrpSpPr/>
            <p:nvPr/>
          </p:nvGrpSpPr>
          <p:grpSpPr>
            <a:xfrm>
              <a:off x="914400" y="3276720"/>
              <a:ext cx="352440" cy="1117080"/>
              <a:chOff x="914400" y="3276720"/>
              <a:chExt cx="352440" cy="1117080"/>
            </a:xfrm>
          </p:grpSpPr>
          <p:sp>
            <p:nvSpPr>
              <p:cNvPr id="1678" name=""/>
              <p:cNvSpPr/>
              <p:nvPr/>
            </p:nvSpPr>
            <p:spPr>
              <a:xfrm>
                <a:off x="1064880" y="330408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03840" y="360684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998640" y="433872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093680" y="430596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051560" y="341964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75680" y="345888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142280" y="345888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125000" y="345816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939240" y="3419640"/>
                <a:ext cx="280800" cy="93060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170360" y="379080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164240" y="3468240"/>
                <a:ext cx="16200" cy="14832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982080" y="351036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041480" y="344196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95400" y="361080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024920" y="385920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014840" y="385380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092240" y="429228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995400" y="432144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914400" y="3887280"/>
                <a:ext cx="302760" cy="22428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193040" y="392724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927360" y="393804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1069560" y="390996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 flipV="1">
                <a:off x="1058400" y="391320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1047960" y="391392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159200" y="333756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157760" y="335016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041480" y="327672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087560" y="337824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153800" y="36882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1040" y="375480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1230480" y="376092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1213920" y="376236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1220400" y="378324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221840" y="376164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1166400" y="338436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3" name=""/>
          <p:cNvGrpSpPr/>
          <p:nvPr/>
        </p:nvGrpSpPr>
        <p:grpSpPr>
          <a:xfrm>
            <a:off x="3657960" y="1846440"/>
            <a:ext cx="914040" cy="1962720"/>
            <a:chOff x="3657960" y="1846440"/>
            <a:chExt cx="914040" cy="1962720"/>
          </a:xfrm>
        </p:grpSpPr>
        <p:sp>
          <p:nvSpPr>
            <p:cNvPr id="1714" name=""/>
            <p:cNvSpPr/>
            <p:nvPr/>
          </p:nvSpPr>
          <p:spPr>
            <a:xfrm flipH="1">
              <a:off x="3657600" y="3552840"/>
              <a:ext cx="914040" cy="25632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3887640" y="3515760"/>
              <a:ext cx="257400" cy="16740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4119480" y="3521880"/>
              <a:ext cx="29880" cy="115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4067640" y="3631680"/>
              <a:ext cx="55800" cy="1008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3952080" y="3633840"/>
              <a:ext cx="115560" cy="4716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3883320" y="3674880"/>
              <a:ext cx="70560" cy="1260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3883320" y="3519720"/>
              <a:ext cx="160920" cy="1612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4039920" y="3511800"/>
              <a:ext cx="96120" cy="144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>
              <a:off x="4093560" y="3552840"/>
              <a:ext cx="281160" cy="23760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4123800" y="3548880"/>
              <a:ext cx="105120" cy="2052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4088880" y="3557160"/>
              <a:ext cx="36360" cy="115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4093200" y="3670560"/>
              <a:ext cx="42840" cy="2052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4134240" y="3683520"/>
              <a:ext cx="128520" cy="846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>
              <a:off x="4261320" y="3759840"/>
              <a:ext cx="102960" cy="3492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4293000" y="3629520"/>
              <a:ext cx="86040" cy="16560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4222800" y="3561480"/>
              <a:ext cx="79200" cy="7380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3804120" y="2930400"/>
              <a:ext cx="70560" cy="453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>
              <a:off x="3756960" y="2854080"/>
              <a:ext cx="55440" cy="5148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3805560" y="2854080"/>
              <a:ext cx="70920" cy="842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4396320" y="2901240"/>
              <a:ext cx="152280" cy="25020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>
              <a:off x="4512240" y="2899440"/>
              <a:ext cx="34560" cy="532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4540320" y="2950920"/>
              <a:ext cx="12960" cy="7452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>
              <a:off x="4497120" y="3021480"/>
              <a:ext cx="51480" cy="846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>
              <a:off x="4465080" y="3103920"/>
              <a:ext cx="40680" cy="5148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4421880" y="3118680"/>
              <a:ext cx="47160" cy="3672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4420080" y="3023280"/>
              <a:ext cx="17280" cy="993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4392000" y="2926080"/>
              <a:ext cx="36360" cy="993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4393800" y="2901240"/>
              <a:ext cx="70920" cy="2664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4465080" y="2897280"/>
              <a:ext cx="55800" cy="1260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4471200" y="2998440"/>
              <a:ext cx="55800" cy="5976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4460760" y="3038040"/>
              <a:ext cx="19440" cy="2052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4460400" y="2934720"/>
              <a:ext cx="32040" cy="10476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4009680" y="2195640"/>
              <a:ext cx="281160" cy="49248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4084920" y="2253960"/>
              <a:ext cx="60120" cy="16308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4093920" y="2299320"/>
              <a:ext cx="53280" cy="12384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4078800" y="2249640"/>
              <a:ext cx="23760" cy="17136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4084560" y="2249640"/>
              <a:ext cx="66600" cy="5760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4149720" y="2204280"/>
              <a:ext cx="90000" cy="21276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4146840" y="2299320"/>
              <a:ext cx="66600" cy="12168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4205160" y="2199960"/>
              <a:ext cx="38880" cy="21924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4142520" y="2201760"/>
              <a:ext cx="101160" cy="10548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4012560" y="3230280"/>
              <a:ext cx="154080" cy="308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4040280" y="3524040"/>
              <a:ext cx="87840" cy="2052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4005000" y="3225960"/>
              <a:ext cx="42840" cy="30204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4009680" y="3225960"/>
              <a:ext cx="160920" cy="3096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4121280" y="3250800"/>
              <a:ext cx="49320" cy="28116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119120" y="3246480"/>
              <a:ext cx="163080" cy="3394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4212000" y="3250800"/>
              <a:ext cx="74880" cy="3250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4115160" y="3567600"/>
              <a:ext cx="102960" cy="223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4114800" y="3242880"/>
              <a:ext cx="16920" cy="33300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4128480" y="3242880"/>
              <a:ext cx="158400" cy="140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3904920" y="2661120"/>
              <a:ext cx="439920" cy="6102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4016160" y="2657520"/>
              <a:ext cx="264240" cy="3096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900240" y="2659320"/>
              <a:ext cx="126360" cy="58536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3904920" y="3225960"/>
              <a:ext cx="444240" cy="4968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273560" y="2657520"/>
              <a:ext cx="75240" cy="57276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3801960" y="2226600"/>
              <a:ext cx="308880" cy="123912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4084920" y="2258280"/>
              <a:ext cx="29880" cy="48348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4082760" y="2741760"/>
              <a:ext cx="10440" cy="71388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3872520" y="3387240"/>
              <a:ext cx="220680" cy="8280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3872520" y="3072960"/>
              <a:ext cx="25560" cy="31824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3889440" y="2764800"/>
              <a:ext cx="55800" cy="30996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3801600" y="2741760"/>
              <a:ext cx="139680" cy="3312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797640" y="2572560"/>
              <a:ext cx="61560" cy="1774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3851640" y="2249640"/>
              <a:ext cx="192960" cy="32688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4035960" y="2224800"/>
              <a:ext cx="53280" cy="3096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4082760" y="2224800"/>
              <a:ext cx="32040" cy="3672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4194360" y="2223000"/>
              <a:ext cx="334800" cy="122256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4198680" y="2223000"/>
              <a:ext cx="25560" cy="12600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4190400" y="2349000"/>
              <a:ext cx="16920" cy="64476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4192200" y="2994120"/>
              <a:ext cx="27720" cy="4554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4215960" y="3381120"/>
              <a:ext cx="192960" cy="684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4375080" y="2926080"/>
              <a:ext cx="33840" cy="45900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4379760" y="2878200"/>
              <a:ext cx="154080" cy="5616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4350960" y="2266200"/>
              <a:ext cx="180360" cy="61632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4215600" y="2218680"/>
              <a:ext cx="141480" cy="5148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4055400" y="2220480"/>
              <a:ext cx="55440" cy="43416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4051080" y="2220480"/>
              <a:ext cx="38160" cy="15948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4050720" y="2379960"/>
              <a:ext cx="29880" cy="1800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4050360" y="2390400"/>
              <a:ext cx="27720" cy="2880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4050720" y="2413080"/>
              <a:ext cx="36360" cy="21276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>
              <a:off x="4078440" y="2625840"/>
              <a:ext cx="16920" cy="3312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4087800" y="2367360"/>
              <a:ext cx="23040" cy="28728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4102200" y="2230920"/>
              <a:ext cx="14760" cy="13644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4080600" y="2216520"/>
              <a:ext cx="36360" cy="2052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4020840" y="1945800"/>
              <a:ext cx="212400" cy="36144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4023000" y="1943280"/>
              <a:ext cx="91800" cy="7020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4020480" y="2009520"/>
              <a:ext cx="19440" cy="11196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4016160" y="2117520"/>
              <a:ext cx="19440" cy="3888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4016160" y="2150280"/>
              <a:ext cx="40680" cy="1656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>
              <a:off x="4050720" y="2162880"/>
              <a:ext cx="25560" cy="928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>
              <a:off x="4070160" y="2245320"/>
              <a:ext cx="16920" cy="100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4081320" y="2245320"/>
              <a:ext cx="57600" cy="6588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4134960" y="2233440"/>
              <a:ext cx="87840" cy="7812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4110840" y="1943280"/>
              <a:ext cx="126720" cy="29592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4082760" y="2201760"/>
              <a:ext cx="47160" cy="4968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4295880" y="2427480"/>
              <a:ext cx="57600" cy="8892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4312440" y="2514240"/>
              <a:ext cx="42840" cy="9072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4313160" y="2601720"/>
              <a:ext cx="72720" cy="32868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3960360" y="2442240"/>
              <a:ext cx="62280" cy="8064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3961080" y="2520720"/>
              <a:ext cx="38160" cy="7812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3934440" y="2594880"/>
              <a:ext cx="62280" cy="17388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4199040" y="2206080"/>
              <a:ext cx="72720" cy="43848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4226400" y="2201760"/>
              <a:ext cx="51480" cy="2880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4254480" y="2224800"/>
              <a:ext cx="21240" cy="15516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4235760" y="2376000"/>
              <a:ext cx="38160" cy="144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4235760" y="2388240"/>
              <a:ext cx="38160" cy="2052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4196880" y="2408760"/>
              <a:ext cx="76680" cy="24012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4197240" y="2591280"/>
              <a:ext cx="7920" cy="532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4192200" y="2204280"/>
              <a:ext cx="42840" cy="38700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3990240" y="1850400"/>
              <a:ext cx="427320" cy="44640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4041720" y="1978560"/>
              <a:ext cx="70920" cy="2880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4104000" y="2001600"/>
              <a:ext cx="66600" cy="7812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4166640" y="2071800"/>
              <a:ext cx="10440" cy="223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4168440" y="2092680"/>
              <a:ext cx="55800" cy="15516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4215960" y="2245320"/>
              <a:ext cx="109440" cy="1872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4321440" y="2258280"/>
              <a:ext cx="25200" cy="4284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4343040" y="2243520"/>
              <a:ext cx="29520" cy="5760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4364280" y="2158560"/>
              <a:ext cx="55440" cy="8676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4309920" y="1972440"/>
              <a:ext cx="111960" cy="18792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4310280" y="1912320"/>
              <a:ext cx="12960" cy="6192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4177440" y="1852200"/>
              <a:ext cx="144000" cy="6408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4030920" y="1846440"/>
              <a:ext cx="147960" cy="3924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3994560" y="1879560"/>
              <a:ext cx="40680" cy="7020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3986280" y="1943280"/>
              <a:ext cx="42840" cy="10332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>
              <a:off x="4020480" y="1976760"/>
              <a:ext cx="29880" cy="6588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4056840" y="2059200"/>
              <a:ext cx="25560" cy="3096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4026960" y="2071800"/>
              <a:ext cx="10440" cy="24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3776040" y="2754360"/>
              <a:ext cx="212400" cy="23760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3909600" y="2763000"/>
              <a:ext cx="23040" cy="5940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3919680" y="2820600"/>
              <a:ext cx="16920" cy="5580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3904560" y="2866320"/>
              <a:ext cx="25560" cy="144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3844800" y="2810160"/>
              <a:ext cx="61560" cy="6408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3836160" y="2808360"/>
              <a:ext cx="14760" cy="140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3836520" y="2818800"/>
              <a:ext cx="38160" cy="10296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>
              <a:off x="3867840" y="2897280"/>
              <a:ext cx="122040" cy="2664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3898440" y="2905560"/>
              <a:ext cx="94320" cy="9072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3876840" y="2977920"/>
              <a:ext cx="21240" cy="1872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3812040" y="2913480"/>
              <a:ext cx="70920" cy="7020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3771360" y="2878200"/>
              <a:ext cx="47160" cy="414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3772080" y="2832840"/>
              <a:ext cx="18720" cy="4752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3780000" y="2750400"/>
              <a:ext cx="55800" cy="8244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3829680" y="2750400"/>
              <a:ext cx="85680" cy="1872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3924000" y="2872080"/>
              <a:ext cx="16920" cy="453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3857760" y="2913480"/>
              <a:ext cx="79200" cy="2880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3814920" y="2857680"/>
              <a:ext cx="44640" cy="7452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3809880" y="2812320"/>
              <a:ext cx="16920" cy="4752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825360" y="2808360"/>
              <a:ext cx="25560" cy="11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3848760" y="2810160"/>
              <a:ext cx="28080" cy="2664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3870000" y="2835360"/>
              <a:ext cx="62280" cy="4284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7238880" y="4191120"/>
            <a:ext cx="457200" cy="1186920"/>
            <a:chOff x="7238880" y="4191120"/>
            <a:chExt cx="457200" cy="1186920"/>
          </a:xfrm>
        </p:grpSpPr>
        <p:sp>
          <p:nvSpPr>
            <p:cNvPr id="1865" name=""/>
            <p:cNvSpPr/>
            <p:nvPr/>
          </p:nvSpPr>
          <p:spPr>
            <a:xfrm>
              <a:off x="7238880" y="522144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6" name=""/>
            <p:cNvGrpSpPr/>
            <p:nvPr/>
          </p:nvGrpSpPr>
          <p:grpSpPr>
            <a:xfrm>
              <a:off x="7238880" y="4191120"/>
              <a:ext cx="352440" cy="1117080"/>
              <a:chOff x="7238880" y="4191120"/>
              <a:chExt cx="352440" cy="1117080"/>
            </a:xfrm>
          </p:grpSpPr>
          <p:sp>
            <p:nvSpPr>
              <p:cNvPr id="1867" name=""/>
              <p:cNvSpPr/>
              <p:nvPr/>
            </p:nvSpPr>
            <p:spPr>
              <a:xfrm>
                <a:off x="7389360" y="421848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528320" y="452124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323120" y="525312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418160" y="522036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376040" y="433404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400160" y="437328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466760" y="437328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449480" y="437256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263720" y="4334040"/>
                <a:ext cx="280800" cy="93060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494840" y="470520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488720" y="4382640"/>
                <a:ext cx="16200" cy="14832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306560" y="442476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365960" y="435636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319880" y="452520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349400" y="477360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339320" y="476820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416720" y="520668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319880" y="523584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238880" y="4801680"/>
                <a:ext cx="302760" cy="22428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517520" y="484164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251840" y="485244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 flipV="1">
                <a:off x="7394040" y="482436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H="1" flipV="1">
                <a:off x="7382880" y="482760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H="1" flipV="1">
                <a:off x="7372440" y="482832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483680" y="425196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482240" y="426456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365960" y="419112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412040" y="429264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478280" y="46026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535520" y="466920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554960" y="467532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538400" y="467676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544880" y="469764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546320" y="467604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7490880" y="429876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2" name=""/>
          <p:cNvGrpSpPr/>
          <p:nvPr/>
        </p:nvGrpSpPr>
        <p:grpSpPr>
          <a:xfrm>
            <a:off x="7086600" y="4267080"/>
            <a:ext cx="457200" cy="1187280"/>
            <a:chOff x="7086600" y="4267080"/>
            <a:chExt cx="457200" cy="1187280"/>
          </a:xfrm>
        </p:grpSpPr>
        <p:sp>
          <p:nvSpPr>
            <p:cNvPr id="1903" name=""/>
            <p:cNvSpPr/>
            <p:nvPr/>
          </p:nvSpPr>
          <p:spPr>
            <a:xfrm>
              <a:off x="7086600" y="529776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7086600" y="4267080"/>
              <a:ext cx="352440" cy="1117440"/>
              <a:chOff x="7086600" y="4267080"/>
              <a:chExt cx="352440" cy="1117440"/>
            </a:xfrm>
          </p:grpSpPr>
          <p:sp>
            <p:nvSpPr>
              <p:cNvPr id="1905" name=""/>
              <p:cNvSpPr/>
              <p:nvPr/>
            </p:nvSpPr>
            <p:spPr>
              <a:xfrm>
                <a:off x="7237080" y="429444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376040" y="459720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170840" y="532944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265880" y="529668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223760" y="441036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247880" y="444924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314480" y="444924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297200" y="444852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111440" y="4410360"/>
                <a:ext cx="280800" cy="9309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342560" y="478116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336440" y="4458600"/>
                <a:ext cx="16200" cy="1486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154280" y="450072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213680" y="443232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167600" y="460116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197120" y="484956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187040" y="484416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264440" y="528264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167600" y="531216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086600" y="4878000"/>
                <a:ext cx="302760" cy="2246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365240" y="491796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099560" y="492840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 flipV="1">
                <a:off x="7241760" y="490068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 flipV="1">
                <a:off x="7230600" y="490356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H="1" flipV="1">
                <a:off x="7220160" y="490428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331400" y="432828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329960" y="434052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213680" y="426708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259760" y="436896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326000" y="46785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383240" y="474516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402680" y="47516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386120" y="475308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392600" y="477360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394040" y="475236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7338600" y="437472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0" name=""/>
          <p:cNvGrpSpPr/>
          <p:nvPr/>
        </p:nvGrpSpPr>
        <p:grpSpPr>
          <a:xfrm>
            <a:off x="7315200" y="4419720"/>
            <a:ext cx="457200" cy="1186920"/>
            <a:chOff x="7315200" y="4419720"/>
            <a:chExt cx="457200" cy="1186920"/>
          </a:xfrm>
        </p:grpSpPr>
        <p:sp>
          <p:nvSpPr>
            <p:cNvPr id="1941" name=""/>
            <p:cNvSpPr/>
            <p:nvPr/>
          </p:nvSpPr>
          <p:spPr>
            <a:xfrm>
              <a:off x="7315200" y="545004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2" name=""/>
            <p:cNvGrpSpPr/>
            <p:nvPr/>
          </p:nvGrpSpPr>
          <p:grpSpPr>
            <a:xfrm>
              <a:off x="7315200" y="4419720"/>
              <a:ext cx="352440" cy="1117080"/>
              <a:chOff x="7315200" y="4419720"/>
              <a:chExt cx="352440" cy="1117080"/>
            </a:xfrm>
          </p:grpSpPr>
          <p:sp>
            <p:nvSpPr>
              <p:cNvPr id="1943" name=""/>
              <p:cNvSpPr/>
              <p:nvPr/>
            </p:nvSpPr>
            <p:spPr>
              <a:xfrm>
                <a:off x="7465680" y="444708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604640" y="474984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7399440" y="548172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494480" y="544896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452360" y="456264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476480" y="460188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543080" y="460188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525800" y="460116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340040" y="4562640"/>
                <a:ext cx="280800" cy="93060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571160" y="493380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565040" y="4611240"/>
                <a:ext cx="16200" cy="14832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382880" y="465336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442280" y="458496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396200" y="475380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425720" y="500220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415640" y="499680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493040" y="543528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396200" y="546444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315200" y="5030280"/>
                <a:ext cx="302760" cy="22428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593840" y="507024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328160" y="508104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H="1" flipV="1">
                <a:off x="7470360" y="505296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flipH="1" flipV="1">
                <a:off x="7459200" y="505620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H="1" flipV="1">
                <a:off x="7448760" y="505692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560000" y="448056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558560" y="449316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442280" y="441972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488360" y="452124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554600" y="48312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611840" y="489780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631280" y="490392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614720" y="490536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621200" y="492624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622640" y="490464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>
                <a:off x="7567200" y="452736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8" name=""/>
          <p:cNvGrpSpPr/>
          <p:nvPr/>
        </p:nvGrpSpPr>
        <p:grpSpPr>
          <a:xfrm>
            <a:off x="7086600" y="4495680"/>
            <a:ext cx="457200" cy="1187280"/>
            <a:chOff x="7086600" y="4495680"/>
            <a:chExt cx="457200" cy="1187280"/>
          </a:xfrm>
        </p:grpSpPr>
        <p:sp>
          <p:nvSpPr>
            <p:cNvPr id="1979" name=""/>
            <p:cNvSpPr/>
            <p:nvPr/>
          </p:nvSpPr>
          <p:spPr>
            <a:xfrm>
              <a:off x="7086600" y="552636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0" name=""/>
            <p:cNvGrpSpPr/>
            <p:nvPr/>
          </p:nvGrpSpPr>
          <p:grpSpPr>
            <a:xfrm>
              <a:off x="7086600" y="4495680"/>
              <a:ext cx="352440" cy="1117440"/>
              <a:chOff x="7086600" y="4495680"/>
              <a:chExt cx="352440" cy="1117440"/>
            </a:xfrm>
          </p:grpSpPr>
          <p:sp>
            <p:nvSpPr>
              <p:cNvPr id="1981" name=""/>
              <p:cNvSpPr/>
              <p:nvPr/>
            </p:nvSpPr>
            <p:spPr>
              <a:xfrm>
                <a:off x="7237080" y="452304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376040" y="482580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170840" y="555804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265880" y="552528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223760" y="463896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247880" y="467784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314480" y="467784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297200" y="467712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111440" y="4638960"/>
                <a:ext cx="280800" cy="9309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342560" y="500976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336440" y="4687200"/>
                <a:ext cx="16200" cy="1486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154280" y="472932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213680" y="466092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167600" y="482976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197120" y="507816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187040" y="507276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264440" y="551124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167600" y="554076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086600" y="5106600"/>
                <a:ext cx="302760" cy="2246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365240" y="514656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099560" y="515700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H="1" flipV="1">
                <a:off x="7241760" y="512928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H="1" flipV="1">
                <a:off x="7230600" y="513216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H="1" flipV="1">
                <a:off x="7220160" y="513288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331400" y="455688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329960" y="456912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213680" y="449568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259760" y="459756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326000" y="49071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383240" y="497376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402680" y="49802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386120" y="498168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392600" y="500220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394040" y="498096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H="1">
                <a:off x="7338600" y="460332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6" name=""/>
          <p:cNvSpPr/>
          <p:nvPr/>
        </p:nvSpPr>
        <p:spPr>
          <a:xfrm>
            <a:off x="304920" y="4572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readers } == 1 writer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t reader entering &amp; last reader leav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762120" y="1676520"/>
            <a:ext cx="1143000" cy="45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570" y="34333"/>
                </a:moveTo>
                <a:lnTo>
                  <a:pt x="23040" y="5457"/>
                </a:lnTo>
              </a:path>
              <a:path w="21600" h="21600">
                <a:moveTo>
                  <a:pt x="23040" y="0"/>
                </a:moveTo>
                <a:lnTo>
                  <a:pt x="23040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952560" y="2286000"/>
            <a:ext cx="129528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26" y="30164"/>
                </a:moveTo>
                <a:lnTo>
                  <a:pt x="-1271" y="5457"/>
                </a:lnTo>
              </a:path>
              <a:path w="21600" h="21600">
                <a:moveTo>
                  <a:pt x="-1271" y="0"/>
                </a:moveTo>
                <a:lnTo>
                  <a:pt x="-1271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191120" y="1447920"/>
            <a:ext cx="4147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itical Section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191120" y="4191120"/>
            <a:ext cx="20365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897" y="-6244"/>
                </a:moveTo>
                <a:lnTo>
                  <a:pt x="22408" y="4000"/>
                </a:lnTo>
              </a:path>
              <a:path w="21600" h="21600">
                <a:moveTo>
                  <a:pt x="22408" y="0"/>
                </a:moveTo>
                <a:lnTo>
                  <a:pt x="22408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ve of R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1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500"/>
                            </p:stCondLst>
                            <p:childTnLst>
                              <p:par>
                                <p:cTn id="178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5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500"/>
                            </p:stCondLst>
                            <p:childTnLst>
                              <p:par>
                                <p:cTn id="17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4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500"/>
                            </p:stCondLst>
                            <p:childTnLst>
                              <p:par>
                                <p:cTn id="18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8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2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6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7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500"/>
                            </p:stCondLst>
                            <p:childTnLst>
                              <p:par>
                                <p:cTn id="18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0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8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500"/>
                            </p:stCondLst>
                            <p:childTnLst>
                              <p:par>
                                <p:cTn id="18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62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7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ers / Wri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n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ers preced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rs preced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ing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4419720" y="2314440"/>
            <a:ext cx="3219120" cy="914400"/>
            <a:chOff x="4419720" y="2314440"/>
            <a:chExt cx="3219120" cy="914400"/>
          </a:xfrm>
        </p:grpSpPr>
        <p:sp>
          <p:nvSpPr>
            <p:cNvPr id="2024" name=""/>
            <p:cNvSpPr/>
            <p:nvPr/>
          </p:nvSpPr>
          <p:spPr>
            <a:xfrm>
              <a:off x="4419720" y="231444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011920" y="2565720"/>
              <a:ext cx="262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Starvation Possible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4" dur="500"/>
                                        <p:tgtEl>
                                          <p:spTgt spid="2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2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4" dur="500"/>
                                        <p:tgtEl>
                                          <p:spTgt spid="2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9" dur="500"/>
                                        <p:tgtEl>
                                          <p:spTgt spid="2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2" dur="500"/>
                                        <p:tgtEl>
                                          <p:spTgt spid="2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7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6" name=""/>
          <p:cNvGrpSpPr/>
          <p:nvPr/>
        </p:nvGrpSpPr>
        <p:grpSpPr>
          <a:xfrm>
            <a:off x="685800" y="2819520"/>
            <a:ext cx="3276720" cy="3200400"/>
            <a:chOff x="685800" y="2819520"/>
            <a:chExt cx="3276720" cy="3200400"/>
          </a:xfrm>
        </p:grpSpPr>
        <p:sp>
          <p:nvSpPr>
            <p:cNvPr id="2027" name=""/>
            <p:cNvSpPr/>
            <p:nvPr/>
          </p:nvSpPr>
          <p:spPr>
            <a:xfrm>
              <a:off x="685800" y="3139920"/>
              <a:ext cx="3276720" cy="28800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rite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85800" y="28195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Wri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685800" y="1523880"/>
            <a:ext cx="7924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wrt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rcount = 0;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ers / Wri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1066680" y="378612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 (&amp; w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066680" y="463248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 (&amp; w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800600" y="1447920"/>
            <a:ext cx="3733560" cy="4571640"/>
            <a:chOff x="4800600" y="1447920"/>
            <a:chExt cx="3733560" cy="4571640"/>
          </a:xfrm>
        </p:grpSpPr>
        <p:sp>
          <p:nvSpPr>
            <p:cNvPr id="2034" name=""/>
            <p:cNvSpPr/>
            <p:nvPr/>
          </p:nvSpPr>
          <p:spPr>
            <a:xfrm>
              <a:off x="4800600" y="1806120"/>
              <a:ext cx="3733560" cy="4213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Read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800600" y="1447920"/>
              <a:ext cx="14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R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6" name=""/>
          <p:cNvSpPr/>
          <p:nvPr/>
        </p:nvSpPr>
        <p:spPr>
          <a:xfrm>
            <a:off x="5181480" y="2641680"/>
            <a:ext cx="3276720" cy="703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count++;</a:t>
            </a:r>
            <a:br>
              <a:rPr sz="2000"/>
            </a:b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if (rcount == 1) P (&amp; w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81480" y="4508640"/>
            <a:ext cx="3276720" cy="703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count--;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f (rcount == 0) V (&amp; w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5181480" y="518940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5181480" y="334800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181480" y="224316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181480" y="409896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04880" y="2209680"/>
            <a:ext cx="3139920" cy="39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emaphore mutex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5867280" y="1143000"/>
            <a:ext cx="28530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aders precedenc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4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9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"/>
                            </p:stCondLst>
                            <p:childTnLst>
                              <p:par>
                                <p:cTn id="1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8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8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3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8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500"/>
                            </p:stCondLst>
                            <p:childTnLst>
                              <p:par>
                                <p:cTn id="19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500"/>
                            </p:stCondLst>
                            <p:childTnLst>
                              <p:par>
                                <p:cTn id="19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4" name="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938160" cy="2178000"/>
          </a:xfrm>
          <a:prstGeom prst="rect">
            <a:avLst/>
          </a:prstGeom>
          <a:ln w="0">
            <a:noFill/>
          </a:ln>
        </p:spPr>
      </p:pic>
      <p:pic>
        <p:nvPicPr>
          <p:cNvPr id="2045" name="" descr=""/>
          <p:cNvPicPr/>
          <p:nvPr/>
        </p:nvPicPr>
        <p:blipFill>
          <a:blip r:embed="rId2"/>
          <a:stretch/>
        </p:blipFill>
        <p:spPr>
          <a:xfrm>
            <a:off x="3429000" y="1600200"/>
            <a:ext cx="892080" cy="2071800"/>
          </a:xfrm>
          <a:prstGeom prst="rect">
            <a:avLst/>
          </a:prstGeom>
          <a:ln w="0">
            <a:noFill/>
          </a:ln>
        </p:spPr>
      </p:pic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3048120" y="2743200"/>
            <a:ext cx="3809880" cy="2590560"/>
            <a:chOff x="3048120" y="2743200"/>
            <a:chExt cx="3809880" cy="2590560"/>
          </a:xfrm>
        </p:grpSpPr>
        <p:grpSp>
          <p:nvGrpSpPr>
            <p:cNvPr id="2048" name=""/>
            <p:cNvGrpSpPr/>
            <p:nvPr/>
          </p:nvGrpSpPr>
          <p:grpSpPr>
            <a:xfrm>
              <a:off x="4572000" y="4038480"/>
              <a:ext cx="838080" cy="1295280"/>
              <a:chOff x="4572000" y="4038480"/>
              <a:chExt cx="838080" cy="1295280"/>
            </a:xfrm>
          </p:grpSpPr>
          <p:sp>
            <p:nvSpPr>
              <p:cNvPr id="2049" name=""/>
              <p:cNvSpPr/>
              <p:nvPr/>
            </p:nvSpPr>
            <p:spPr>
              <a:xfrm>
                <a:off x="4572000" y="4876560"/>
                <a:ext cx="838080" cy="457200"/>
              </a:xfrm>
              <a:prstGeom prst="ellipse">
                <a:avLst/>
              </a:prstGeom>
              <a:solidFill>
                <a:srgbClr val="cc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762440" y="4038480"/>
                <a:ext cx="457200" cy="1143000"/>
              </a:xfrm>
              <a:prstGeom prst="can">
                <a:avLst>
                  <a:gd name="adj" fmla="val 25000"/>
                </a:avLst>
              </a:prstGeom>
              <a:solidFill>
                <a:srgbClr val="cc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1" name=""/>
            <p:cNvSpPr/>
            <p:nvPr/>
          </p:nvSpPr>
          <p:spPr>
            <a:xfrm>
              <a:off x="3048120" y="2743200"/>
              <a:ext cx="3809880" cy="182880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3906720" y="2971080"/>
            <a:ext cx="698400" cy="606600"/>
            <a:chOff x="3906720" y="2971080"/>
            <a:chExt cx="698400" cy="606600"/>
          </a:xfrm>
        </p:grpSpPr>
        <p:sp>
          <p:nvSpPr>
            <p:cNvPr id="2053" name=""/>
            <p:cNvSpPr/>
            <p:nvPr/>
          </p:nvSpPr>
          <p:spPr>
            <a:xfrm rot="1574400">
              <a:off x="4296960" y="3362400"/>
              <a:ext cx="183600" cy="135720"/>
            </a:xfrm>
            <a:custGeom>
              <a:avLst/>
              <a:gdLst/>
              <a:ahLst/>
              <a:rect l="l" t="t" r="r" b="b"/>
              <a:pathLst>
                <a:path w="429" h="268">
                  <a:moveTo>
                    <a:pt x="413" y="99"/>
                  </a:moveTo>
                  <a:lnTo>
                    <a:pt x="422" y="103"/>
                  </a:lnTo>
                  <a:lnTo>
                    <a:pt x="429" y="147"/>
                  </a:lnTo>
                  <a:lnTo>
                    <a:pt x="413" y="190"/>
                  </a:lnTo>
                  <a:lnTo>
                    <a:pt x="389" y="229"/>
                  </a:lnTo>
                  <a:lnTo>
                    <a:pt x="371" y="265"/>
                  </a:lnTo>
                  <a:lnTo>
                    <a:pt x="329" y="265"/>
                  </a:lnTo>
                  <a:lnTo>
                    <a:pt x="284" y="268"/>
                  </a:lnTo>
                  <a:lnTo>
                    <a:pt x="231" y="264"/>
                  </a:lnTo>
                  <a:lnTo>
                    <a:pt x="167" y="241"/>
                  </a:lnTo>
                  <a:lnTo>
                    <a:pt x="104" y="205"/>
                  </a:lnTo>
                  <a:lnTo>
                    <a:pt x="65" y="173"/>
                  </a:lnTo>
                  <a:lnTo>
                    <a:pt x="39" y="131"/>
                  </a:lnTo>
                  <a:lnTo>
                    <a:pt x="11" y="63"/>
                  </a:lnTo>
                  <a:lnTo>
                    <a:pt x="0" y="30"/>
                  </a:lnTo>
                  <a:lnTo>
                    <a:pt x="10" y="9"/>
                  </a:lnTo>
                  <a:lnTo>
                    <a:pt x="42" y="0"/>
                  </a:lnTo>
                  <a:lnTo>
                    <a:pt x="76" y="13"/>
                  </a:lnTo>
                  <a:lnTo>
                    <a:pt x="121" y="38"/>
                  </a:lnTo>
                  <a:lnTo>
                    <a:pt x="181" y="64"/>
                  </a:lnTo>
                  <a:lnTo>
                    <a:pt x="268" y="87"/>
                  </a:lnTo>
                  <a:lnTo>
                    <a:pt x="327" y="87"/>
                  </a:lnTo>
                  <a:lnTo>
                    <a:pt x="364" y="90"/>
                  </a:lnTo>
                  <a:lnTo>
                    <a:pt x="41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rot="1574400">
              <a:off x="4431240" y="348336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2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rot="1574400">
              <a:off x="4458240" y="344844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1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rot="1574400">
              <a:off x="4471560" y="3410280"/>
              <a:ext cx="123840" cy="7056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1"/>
                  </a:lnTo>
                  <a:lnTo>
                    <a:pt x="182" y="108"/>
                  </a:lnTo>
                  <a:lnTo>
                    <a:pt x="228" y="77"/>
                  </a:lnTo>
                  <a:lnTo>
                    <a:pt x="261" y="40"/>
                  </a:lnTo>
                  <a:lnTo>
                    <a:pt x="282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rot="1574400">
              <a:off x="3924000" y="3068280"/>
              <a:ext cx="484920" cy="191160"/>
            </a:xfrm>
            <a:custGeom>
              <a:avLst/>
              <a:gdLst/>
              <a:ahLst/>
              <a:rect l="l" t="t" r="r" b="b"/>
              <a:pathLst>
                <a:path w="1138" h="381">
                  <a:moveTo>
                    <a:pt x="1138" y="381"/>
                  </a:moveTo>
                  <a:lnTo>
                    <a:pt x="1122" y="360"/>
                  </a:lnTo>
                  <a:lnTo>
                    <a:pt x="1076" y="308"/>
                  </a:lnTo>
                  <a:lnTo>
                    <a:pt x="1043" y="276"/>
                  </a:lnTo>
                  <a:lnTo>
                    <a:pt x="1002" y="244"/>
                  </a:lnTo>
                  <a:lnTo>
                    <a:pt x="956" y="212"/>
                  </a:lnTo>
                  <a:lnTo>
                    <a:pt x="904" y="184"/>
                  </a:lnTo>
                  <a:lnTo>
                    <a:pt x="785" y="135"/>
                  </a:lnTo>
                  <a:lnTo>
                    <a:pt x="694" y="108"/>
                  </a:lnTo>
                  <a:lnTo>
                    <a:pt x="619" y="95"/>
                  </a:lnTo>
                  <a:lnTo>
                    <a:pt x="552" y="94"/>
                  </a:lnTo>
                  <a:lnTo>
                    <a:pt x="484" y="95"/>
                  </a:lnTo>
                  <a:lnTo>
                    <a:pt x="404" y="93"/>
                  </a:lnTo>
                  <a:lnTo>
                    <a:pt x="303" y="82"/>
                  </a:lnTo>
                  <a:lnTo>
                    <a:pt x="172" y="55"/>
                  </a:lnTo>
                  <a:lnTo>
                    <a:pt x="105" y="36"/>
                  </a:lnTo>
                  <a:lnTo>
                    <a:pt x="50" y="1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3559680" y="3680640"/>
            <a:ext cx="798840" cy="444600"/>
            <a:chOff x="3559680" y="3680640"/>
            <a:chExt cx="798840" cy="444600"/>
          </a:xfrm>
        </p:grpSpPr>
        <p:sp>
          <p:nvSpPr>
            <p:cNvPr id="2059" name=""/>
            <p:cNvSpPr/>
            <p:nvPr/>
          </p:nvSpPr>
          <p:spPr>
            <a:xfrm rot="19632600">
              <a:off x="4066200" y="3791880"/>
              <a:ext cx="183600" cy="135720"/>
            </a:xfrm>
            <a:custGeom>
              <a:avLst/>
              <a:gdLst/>
              <a:ahLst/>
              <a:rect l="l" t="t" r="r" b="b"/>
              <a:pathLst>
                <a:path w="429" h="268">
                  <a:moveTo>
                    <a:pt x="413" y="99"/>
                  </a:moveTo>
                  <a:lnTo>
                    <a:pt x="422" y="103"/>
                  </a:lnTo>
                  <a:lnTo>
                    <a:pt x="429" y="147"/>
                  </a:lnTo>
                  <a:lnTo>
                    <a:pt x="413" y="190"/>
                  </a:lnTo>
                  <a:lnTo>
                    <a:pt x="389" y="229"/>
                  </a:lnTo>
                  <a:lnTo>
                    <a:pt x="371" y="265"/>
                  </a:lnTo>
                  <a:lnTo>
                    <a:pt x="329" y="265"/>
                  </a:lnTo>
                  <a:lnTo>
                    <a:pt x="284" y="268"/>
                  </a:lnTo>
                  <a:lnTo>
                    <a:pt x="231" y="264"/>
                  </a:lnTo>
                  <a:lnTo>
                    <a:pt x="167" y="241"/>
                  </a:lnTo>
                  <a:lnTo>
                    <a:pt x="104" y="205"/>
                  </a:lnTo>
                  <a:lnTo>
                    <a:pt x="65" y="173"/>
                  </a:lnTo>
                  <a:lnTo>
                    <a:pt x="39" y="131"/>
                  </a:lnTo>
                  <a:lnTo>
                    <a:pt x="11" y="63"/>
                  </a:lnTo>
                  <a:lnTo>
                    <a:pt x="0" y="30"/>
                  </a:lnTo>
                  <a:lnTo>
                    <a:pt x="10" y="9"/>
                  </a:lnTo>
                  <a:lnTo>
                    <a:pt x="42" y="0"/>
                  </a:lnTo>
                  <a:lnTo>
                    <a:pt x="76" y="13"/>
                  </a:lnTo>
                  <a:lnTo>
                    <a:pt x="121" y="38"/>
                  </a:lnTo>
                  <a:lnTo>
                    <a:pt x="181" y="64"/>
                  </a:lnTo>
                  <a:lnTo>
                    <a:pt x="268" y="87"/>
                  </a:lnTo>
                  <a:lnTo>
                    <a:pt x="327" y="87"/>
                  </a:lnTo>
                  <a:lnTo>
                    <a:pt x="364" y="90"/>
                  </a:lnTo>
                  <a:lnTo>
                    <a:pt x="41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rot="19632600">
              <a:off x="4225320" y="378108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2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rot="19632600">
              <a:off x="4209480" y="374040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1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rot="19632600">
              <a:off x="4183560" y="3708360"/>
              <a:ext cx="123840" cy="7056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1"/>
                  </a:lnTo>
                  <a:lnTo>
                    <a:pt x="182" y="108"/>
                  </a:lnTo>
                  <a:lnTo>
                    <a:pt x="228" y="77"/>
                  </a:lnTo>
                  <a:lnTo>
                    <a:pt x="261" y="40"/>
                  </a:lnTo>
                  <a:lnTo>
                    <a:pt x="282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rot="19632600">
              <a:off x="3572640" y="3817800"/>
              <a:ext cx="484920" cy="191160"/>
            </a:xfrm>
            <a:custGeom>
              <a:avLst/>
              <a:gdLst/>
              <a:ahLst/>
              <a:rect l="l" t="t" r="r" b="b"/>
              <a:pathLst>
                <a:path w="1138" h="381">
                  <a:moveTo>
                    <a:pt x="1138" y="381"/>
                  </a:moveTo>
                  <a:lnTo>
                    <a:pt x="1122" y="360"/>
                  </a:lnTo>
                  <a:lnTo>
                    <a:pt x="1076" y="308"/>
                  </a:lnTo>
                  <a:lnTo>
                    <a:pt x="1043" y="276"/>
                  </a:lnTo>
                  <a:lnTo>
                    <a:pt x="1002" y="244"/>
                  </a:lnTo>
                  <a:lnTo>
                    <a:pt x="956" y="212"/>
                  </a:lnTo>
                  <a:lnTo>
                    <a:pt x="904" y="184"/>
                  </a:lnTo>
                  <a:lnTo>
                    <a:pt x="785" y="135"/>
                  </a:lnTo>
                  <a:lnTo>
                    <a:pt x="694" y="108"/>
                  </a:lnTo>
                  <a:lnTo>
                    <a:pt x="619" y="95"/>
                  </a:lnTo>
                  <a:lnTo>
                    <a:pt x="552" y="94"/>
                  </a:lnTo>
                  <a:lnTo>
                    <a:pt x="484" y="95"/>
                  </a:lnTo>
                  <a:lnTo>
                    <a:pt x="404" y="93"/>
                  </a:lnTo>
                  <a:lnTo>
                    <a:pt x="303" y="82"/>
                  </a:lnTo>
                  <a:lnTo>
                    <a:pt x="172" y="55"/>
                  </a:lnTo>
                  <a:lnTo>
                    <a:pt x="105" y="36"/>
                  </a:lnTo>
                  <a:lnTo>
                    <a:pt x="50" y="1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4" name=""/>
          <p:cNvGrpSpPr/>
          <p:nvPr/>
        </p:nvGrpSpPr>
        <p:grpSpPr>
          <a:xfrm>
            <a:off x="4842000" y="3889440"/>
            <a:ext cx="363960" cy="682560"/>
            <a:chOff x="4842000" y="3889440"/>
            <a:chExt cx="363960" cy="682560"/>
          </a:xfrm>
        </p:grpSpPr>
        <p:sp>
          <p:nvSpPr>
            <p:cNvPr id="2065" name=""/>
            <p:cNvSpPr/>
            <p:nvPr/>
          </p:nvSpPr>
          <p:spPr>
            <a:xfrm rot="16507800">
              <a:off x="5039640" y="4007520"/>
              <a:ext cx="164880" cy="135720"/>
            </a:xfrm>
            <a:custGeom>
              <a:avLst/>
              <a:gdLst/>
              <a:ahLst/>
              <a:rect l="l" t="t" r="r" b="b"/>
              <a:pathLst>
                <a:path w="429" h="268">
                  <a:moveTo>
                    <a:pt x="413" y="99"/>
                  </a:moveTo>
                  <a:lnTo>
                    <a:pt x="422" y="103"/>
                  </a:lnTo>
                  <a:lnTo>
                    <a:pt x="429" y="147"/>
                  </a:lnTo>
                  <a:lnTo>
                    <a:pt x="413" y="190"/>
                  </a:lnTo>
                  <a:lnTo>
                    <a:pt x="389" y="229"/>
                  </a:lnTo>
                  <a:lnTo>
                    <a:pt x="371" y="265"/>
                  </a:lnTo>
                  <a:lnTo>
                    <a:pt x="329" y="265"/>
                  </a:lnTo>
                  <a:lnTo>
                    <a:pt x="284" y="268"/>
                  </a:lnTo>
                  <a:lnTo>
                    <a:pt x="231" y="264"/>
                  </a:lnTo>
                  <a:lnTo>
                    <a:pt x="167" y="241"/>
                  </a:lnTo>
                  <a:lnTo>
                    <a:pt x="104" y="205"/>
                  </a:lnTo>
                  <a:lnTo>
                    <a:pt x="65" y="173"/>
                  </a:lnTo>
                  <a:lnTo>
                    <a:pt x="39" y="131"/>
                  </a:lnTo>
                  <a:lnTo>
                    <a:pt x="11" y="63"/>
                  </a:lnTo>
                  <a:lnTo>
                    <a:pt x="0" y="30"/>
                  </a:lnTo>
                  <a:lnTo>
                    <a:pt x="10" y="9"/>
                  </a:lnTo>
                  <a:lnTo>
                    <a:pt x="42" y="0"/>
                  </a:lnTo>
                  <a:lnTo>
                    <a:pt x="76" y="13"/>
                  </a:lnTo>
                  <a:lnTo>
                    <a:pt x="121" y="38"/>
                  </a:lnTo>
                  <a:lnTo>
                    <a:pt x="181" y="64"/>
                  </a:lnTo>
                  <a:lnTo>
                    <a:pt x="268" y="87"/>
                  </a:lnTo>
                  <a:lnTo>
                    <a:pt x="327" y="87"/>
                  </a:lnTo>
                  <a:lnTo>
                    <a:pt x="364" y="90"/>
                  </a:lnTo>
                  <a:lnTo>
                    <a:pt x="41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rot="16507800">
              <a:off x="5110200" y="3924720"/>
              <a:ext cx="1112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2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rot="16507800">
              <a:off x="5067720" y="3912840"/>
              <a:ext cx="1112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1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rot="16507800">
              <a:off x="5027400" y="3912840"/>
              <a:ext cx="111240" cy="7056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1"/>
                  </a:lnTo>
                  <a:lnTo>
                    <a:pt x="182" y="108"/>
                  </a:lnTo>
                  <a:lnTo>
                    <a:pt x="228" y="77"/>
                  </a:lnTo>
                  <a:lnTo>
                    <a:pt x="261" y="40"/>
                  </a:lnTo>
                  <a:lnTo>
                    <a:pt x="282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rot="16507800">
              <a:off x="4738680" y="4250880"/>
              <a:ext cx="435600" cy="191160"/>
            </a:xfrm>
            <a:custGeom>
              <a:avLst/>
              <a:gdLst/>
              <a:ahLst/>
              <a:rect l="l" t="t" r="r" b="b"/>
              <a:pathLst>
                <a:path w="1138" h="381">
                  <a:moveTo>
                    <a:pt x="1138" y="381"/>
                  </a:moveTo>
                  <a:lnTo>
                    <a:pt x="1122" y="360"/>
                  </a:lnTo>
                  <a:lnTo>
                    <a:pt x="1076" y="308"/>
                  </a:lnTo>
                  <a:lnTo>
                    <a:pt x="1043" y="276"/>
                  </a:lnTo>
                  <a:lnTo>
                    <a:pt x="1002" y="244"/>
                  </a:lnTo>
                  <a:lnTo>
                    <a:pt x="956" y="212"/>
                  </a:lnTo>
                  <a:lnTo>
                    <a:pt x="904" y="184"/>
                  </a:lnTo>
                  <a:lnTo>
                    <a:pt x="785" y="135"/>
                  </a:lnTo>
                  <a:lnTo>
                    <a:pt x="694" y="108"/>
                  </a:lnTo>
                  <a:lnTo>
                    <a:pt x="619" y="95"/>
                  </a:lnTo>
                  <a:lnTo>
                    <a:pt x="552" y="94"/>
                  </a:lnTo>
                  <a:lnTo>
                    <a:pt x="484" y="95"/>
                  </a:lnTo>
                  <a:lnTo>
                    <a:pt x="404" y="93"/>
                  </a:lnTo>
                  <a:lnTo>
                    <a:pt x="303" y="82"/>
                  </a:lnTo>
                  <a:lnTo>
                    <a:pt x="172" y="55"/>
                  </a:lnTo>
                  <a:lnTo>
                    <a:pt x="105" y="36"/>
                  </a:lnTo>
                  <a:lnTo>
                    <a:pt x="50" y="1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0" name=""/>
          <p:cNvGrpSpPr/>
          <p:nvPr/>
        </p:nvGrpSpPr>
        <p:grpSpPr>
          <a:xfrm>
            <a:off x="5782680" y="3515400"/>
            <a:ext cx="785160" cy="304200"/>
            <a:chOff x="5782680" y="3515400"/>
            <a:chExt cx="785160" cy="304200"/>
          </a:xfrm>
        </p:grpSpPr>
        <p:sp>
          <p:nvSpPr>
            <p:cNvPr id="2071" name=""/>
            <p:cNvSpPr/>
            <p:nvPr/>
          </p:nvSpPr>
          <p:spPr>
            <a:xfrm rot="10453200">
              <a:off x="5895360" y="3524040"/>
              <a:ext cx="183600" cy="135720"/>
            </a:xfrm>
            <a:custGeom>
              <a:avLst/>
              <a:gdLst/>
              <a:ahLst/>
              <a:rect l="l" t="t" r="r" b="b"/>
              <a:pathLst>
                <a:path w="429" h="268">
                  <a:moveTo>
                    <a:pt x="413" y="99"/>
                  </a:moveTo>
                  <a:lnTo>
                    <a:pt x="422" y="103"/>
                  </a:lnTo>
                  <a:lnTo>
                    <a:pt x="429" y="147"/>
                  </a:lnTo>
                  <a:lnTo>
                    <a:pt x="413" y="190"/>
                  </a:lnTo>
                  <a:lnTo>
                    <a:pt x="389" y="229"/>
                  </a:lnTo>
                  <a:lnTo>
                    <a:pt x="371" y="265"/>
                  </a:lnTo>
                  <a:lnTo>
                    <a:pt x="329" y="265"/>
                  </a:lnTo>
                  <a:lnTo>
                    <a:pt x="284" y="268"/>
                  </a:lnTo>
                  <a:lnTo>
                    <a:pt x="231" y="264"/>
                  </a:lnTo>
                  <a:lnTo>
                    <a:pt x="167" y="241"/>
                  </a:lnTo>
                  <a:lnTo>
                    <a:pt x="104" y="205"/>
                  </a:lnTo>
                  <a:lnTo>
                    <a:pt x="65" y="173"/>
                  </a:lnTo>
                  <a:lnTo>
                    <a:pt x="39" y="131"/>
                  </a:lnTo>
                  <a:lnTo>
                    <a:pt x="11" y="63"/>
                  </a:lnTo>
                  <a:lnTo>
                    <a:pt x="0" y="30"/>
                  </a:lnTo>
                  <a:lnTo>
                    <a:pt x="10" y="9"/>
                  </a:lnTo>
                  <a:lnTo>
                    <a:pt x="42" y="0"/>
                  </a:lnTo>
                  <a:lnTo>
                    <a:pt x="76" y="13"/>
                  </a:lnTo>
                  <a:lnTo>
                    <a:pt x="121" y="38"/>
                  </a:lnTo>
                  <a:lnTo>
                    <a:pt x="181" y="64"/>
                  </a:lnTo>
                  <a:lnTo>
                    <a:pt x="268" y="87"/>
                  </a:lnTo>
                  <a:lnTo>
                    <a:pt x="327" y="87"/>
                  </a:lnTo>
                  <a:lnTo>
                    <a:pt x="364" y="90"/>
                  </a:lnTo>
                  <a:lnTo>
                    <a:pt x="41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10453200">
              <a:off x="5790240" y="353736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2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10453200">
              <a:off x="5785920" y="358092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1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10453200">
              <a:off x="5794200" y="3620520"/>
              <a:ext cx="123840" cy="7056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1"/>
                  </a:lnTo>
                  <a:lnTo>
                    <a:pt x="182" y="108"/>
                  </a:lnTo>
                  <a:lnTo>
                    <a:pt x="228" y="77"/>
                  </a:lnTo>
                  <a:lnTo>
                    <a:pt x="261" y="40"/>
                  </a:lnTo>
                  <a:lnTo>
                    <a:pt x="282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10453200">
              <a:off x="6074280" y="3604320"/>
              <a:ext cx="484920" cy="191160"/>
            </a:xfrm>
            <a:custGeom>
              <a:avLst/>
              <a:gdLst/>
              <a:ahLst/>
              <a:rect l="l" t="t" r="r" b="b"/>
              <a:pathLst>
                <a:path w="1138" h="381">
                  <a:moveTo>
                    <a:pt x="1138" y="381"/>
                  </a:moveTo>
                  <a:lnTo>
                    <a:pt x="1122" y="360"/>
                  </a:lnTo>
                  <a:lnTo>
                    <a:pt x="1076" y="308"/>
                  </a:lnTo>
                  <a:lnTo>
                    <a:pt x="1043" y="276"/>
                  </a:lnTo>
                  <a:lnTo>
                    <a:pt x="1002" y="244"/>
                  </a:lnTo>
                  <a:lnTo>
                    <a:pt x="956" y="212"/>
                  </a:lnTo>
                  <a:lnTo>
                    <a:pt x="904" y="184"/>
                  </a:lnTo>
                  <a:lnTo>
                    <a:pt x="785" y="135"/>
                  </a:lnTo>
                  <a:lnTo>
                    <a:pt x="694" y="108"/>
                  </a:lnTo>
                  <a:lnTo>
                    <a:pt x="619" y="95"/>
                  </a:lnTo>
                  <a:lnTo>
                    <a:pt x="552" y="94"/>
                  </a:lnTo>
                  <a:lnTo>
                    <a:pt x="484" y="95"/>
                  </a:lnTo>
                  <a:lnTo>
                    <a:pt x="404" y="93"/>
                  </a:lnTo>
                  <a:lnTo>
                    <a:pt x="303" y="82"/>
                  </a:lnTo>
                  <a:lnTo>
                    <a:pt x="172" y="55"/>
                  </a:lnTo>
                  <a:lnTo>
                    <a:pt x="105" y="36"/>
                  </a:lnTo>
                  <a:lnTo>
                    <a:pt x="50" y="1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5184360" y="2859120"/>
            <a:ext cx="608400" cy="504720"/>
            <a:chOff x="5184360" y="2859120"/>
            <a:chExt cx="608400" cy="504720"/>
          </a:xfrm>
        </p:grpSpPr>
        <p:sp>
          <p:nvSpPr>
            <p:cNvPr id="2077" name=""/>
            <p:cNvSpPr/>
            <p:nvPr/>
          </p:nvSpPr>
          <p:spPr>
            <a:xfrm rot="7655400">
              <a:off x="5259600" y="3117600"/>
              <a:ext cx="146520" cy="135720"/>
            </a:xfrm>
            <a:custGeom>
              <a:avLst/>
              <a:gdLst/>
              <a:ahLst/>
              <a:rect l="l" t="t" r="r" b="b"/>
              <a:pathLst>
                <a:path w="429" h="268">
                  <a:moveTo>
                    <a:pt x="413" y="99"/>
                  </a:moveTo>
                  <a:lnTo>
                    <a:pt x="422" y="103"/>
                  </a:lnTo>
                  <a:lnTo>
                    <a:pt x="429" y="147"/>
                  </a:lnTo>
                  <a:lnTo>
                    <a:pt x="413" y="190"/>
                  </a:lnTo>
                  <a:lnTo>
                    <a:pt x="389" y="229"/>
                  </a:lnTo>
                  <a:lnTo>
                    <a:pt x="371" y="265"/>
                  </a:lnTo>
                  <a:lnTo>
                    <a:pt x="329" y="265"/>
                  </a:lnTo>
                  <a:lnTo>
                    <a:pt x="284" y="268"/>
                  </a:lnTo>
                  <a:lnTo>
                    <a:pt x="231" y="264"/>
                  </a:lnTo>
                  <a:lnTo>
                    <a:pt x="167" y="241"/>
                  </a:lnTo>
                  <a:lnTo>
                    <a:pt x="104" y="205"/>
                  </a:lnTo>
                  <a:lnTo>
                    <a:pt x="65" y="173"/>
                  </a:lnTo>
                  <a:lnTo>
                    <a:pt x="39" y="131"/>
                  </a:lnTo>
                  <a:lnTo>
                    <a:pt x="11" y="63"/>
                  </a:lnTo>
                  <a:lnTo>
                    <a:pt x="0" y="30"/>
                  </a:lnTo>
                  <a:lnTo>
                    <a:pt x="10" y="9"/>
                  </a:lnTo>
                  <a:lnTo>
                    <a:pt x="42" y="0"/>
                  </a:lnTo>
                  <a:lnTo>
                    <a:pt x="76" y="13"/>
                  </a:lnTo>
                  <a:lnTo>
                    <a:pt x="121" y="38"/>
                  </a:lnTo>
                  <a:lnTo>
                    <a:pt x="181" y="64"/>
                  </a:lnTo>
                  <a:lnTo>
                    <a:pt x="268" y="87"/>
                  </a:lnTo>
                  <a:lnTo>
                    <a:pt x="327" y="87"/>
                  </a:lnTo>
                  <a:lnTo>
                    <a:pt x="364" y="90"/>
                  </a:lnTo>
                  <a:lnTo>
                    <a:pt x="41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rot="7655400">
              <a:off x="5192640" y="3214080"/>
              <a:ext cx="9900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2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rot="7655400">
              <a:off x="5222520" y="3245760"/>
              <a:ext cx="9900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1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rot="7655400">
              <a:off x="5256360" y="3267720"/>
              <a:ext cx="99000" cy="7056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1"/>
                  </a:lnTo>
                  <a:lnTo>
                    <a:pt x="182" y="108"/>
                  </a:lnTo>
                  <a:lnTo>
                    <a:pt x="228" y="77"/>
                  </a:lnTo>
                  <a:lnTo>
                    <a:pt x="261" y="40"/>
                  </a:lnTo>
                  <a:lnTo>
                    <a:pt x="282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rot="7655400">
              <a:off x="5405400" y="2975040"/>
              <a:ext cx="387000" cy="191160"/>
            </a:xfrm>
            <a:custGeom>
              <a:avLst/>
              <a:gdLst/>
              <a:ahLst/>
              <a:rect l="l" t="t" r="r" b="b"/>
              <a:pathLst>
                <a:path w="1138" h="381">
                  <a:moveTo>
                    <a:pt x="1138" y="381"/>
                  </a:moveTo>
                  <a:lnTo>
                    <a:pt x="1122" y="360"/>
                  </a:lnTo>
                  <a:lnTo>
                    <a:pt x="1076" y="308"/>
                  </a:lnTo>
                  <a:lnTo>
                    <a:pt x="1043" y="276"/>
                  </a:lnTo>
                  <a:lnTo>
                    <a:pt x="1002" y="244"/>
                  </a:lnTo>
                  <a:lnTo>
                    <a:pt x="956" y="212"/>
                  </a:lnTo>
                  <a:lnTo>
                    <a:pt x="904" y="184"/>
                  </a:lnTo>
                  <a:lnTo>
                    <a:pt x="785" y="135"/>
                  </a:lnTo>
                  <a:lnTo>
                    <a:pt x="694" y="108"/>
                  </a:lnTo>
                  <a:lnTo>
                    <a:pt x="619" y="95"/>
                  </a:lnTo>
                  <a:lnTo>
                    <a:pt x="552" y="94"/>
                  </a:lnTo>
                  <a:lnTo>
                    <a:pt x="484" y="95"/>
                  </a:lnTo>
                  <a:lnTo>
                    <a:pt x="404" y="93"/>
                  </a:lnTo>
                  <a:lnTo>
                    <a:pt x="303" y="82"/>
                  </a:lnTo>
                  <a:lnTo>
                    <a:pt x="172" y="55"/>
                  </a:lnTo>
                  <a:lnTo>
                    <a:pt x="105" y="36"/>
                  </a:lnTo>
                  <a:lnTo>
                    <a:pt x="50" y="1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4038480" y="3962520"/>
            <a:ext cx="762120" cy="536400"/>
            <a:chOff x="4038480" y="3962520"/>
            <a:chExt cx="762120" cy="536400"/>
          </a:xfrm>
        </p:grpSpPr>
        <p:sp>
          <p:nvSpPr>
            <p:cNvPr id="2083" name=""/>
            <p:cNvSpPr/>
            <p:nvPr/>
          </p:nvSpPr>
          <p:spPr>
            <a:xfrm>
              <a:off x="4038480" y="3962520"/>
              <a:ext cx="762120" cy="536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107240" y="4010760"/>
              <a:ext cx="623520" cy="437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5334120" y="3886200"/>
            <a:ext cx="761760" cy="536400"/>
            <a:chOff x="5334120" y="3886200"/>
            <a:chExt cx="761760" cy="536400"/>
          </a:xfrm>
        </p:grpSpPr>
        <p:sp>
          <p:nvSpPr>
            <p:cNvPr id="2086" name=""/>
            <p:cNvSpPr/>
            <p:nvPr/>
          </p:nvSpPr>
          <p:spPr>
            <a:xfrm>
              <a:off x="5334120" y="3886200"/>
              <a:ext cx="761760" cy="536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402880" y="3934440"/>
              <a:ext cx="623160" cy="437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8" name=""/>
          <p:cNvGrpSpPr/>
          <p:nvPr/>
        </p:nvGrpSpPr>
        <p:grpSpPr>
          <a:xfrm>
            <a:off x="3352680" y="3200400"/>
            <a:ext cx="762120" cy="536400"/>
            <a:chOff x="3352680" y="3200400"/>
            <a:chExt cx="762120" cy="536400"/>
          </a:xfrm>
        </p:grpSpPr>
        <p:sp>
          <p:nvSpPr>
            <p:cNvPr id="2089" name=""/>
            <p:cNvSpPr/>
            <p:nvPr/>
          </p:nvSpPr>
          <p:spPr>
            <a:xfrm>
              <a:off x="3352680" y="3200400"/>
              <a:ext cx="762120" cy="536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421440" y="3248640"/>
              <a:ext cx="623520" cy="437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1" name=""/>
          <p:cNvGrpSpPr/>
          <p:nvPr/>
        </p:nvGrpSpPr>
        <p:grpSpPr>
          <a:xfrm>
            <a:off x="4495680" y="2816280"/>
            <a:ext cx="685800" cy="536400"/>
            <a:chOff x="4495680" y="2816280"/>
            <a:chExt cx="685800" cy="536400"/>
          </a:xfrm>
        </p:grpSpPr>
        <p:sp>
          <p:nvSpPr>
            <p:cNvPr id="2092" name=""/>
            <p:cNvSpPr/>
            <p:nvPr/>
          </p:nvSpPr>
          <p:spPr>
            <a:xfrm>
              <a:off x="4495680" y="2816280"/>
              <a:ext cx="685800" cy="536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557600" y="2864520"/>
              <a:ext cx="561240" cy="437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5715000" y="2971800"/>
            <a:ext cx="685800" cy="536400"/>
            <a:chOff x="5715000" y="2971800"/>
            <a:chExt cx="685800" cy="536400"/>
          </a:xfrm>
        </p:grpSpPr>
        <p:sp>
          <p:nvSpPr>
            <p:cNvPr id="2095" name=""/>
            <p:cNvSpPr/>
            <p:nvPr/>
          </p:nvSpPr>
          <p:spPr>
            <a:xfrm>
              <a:off x="5715000" y="2971800"/>
              <a:ext cx="685800" cy="536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776920" y="3020040"/>
              <a:ext cx="561240" cy="437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7" name="" descr=""/>
          <p:cNvPicPr/>
          <p:nvPr/>
        </p:nvPicPr>
        <p:blipFill>
          <a:blip r:embed="rId3"/>
          <a:stretch/>
        </p:blipFill>
        <p:spPr>
          <a:xfrm>
            <a:off x="990720" y="2590920"/>
            <a:ext cx="892080" cy="2071440"/>
          </a:xfrm>
          <a:prstGeom prst="rect">
            <a:avLst/>
          </a:prstGeom>
          <a:ln w="0">
            <a:noFill/>
          </a:ln>
        </p:spPr>
      </p:pic>
      <p:pic>
        <p:nvPicPr>
          <p:cNvPr id="2098" name="" descr=""/>
          <p:cNvPicPr/>
          <p:nvPr/>
        </p:nvPicPr>
        <p:blipFill>
          <a:blip r:embed="rId4"/>
          <a:stretch/>
        </p:blipFill>
        <p:spPr>
          <a:xfrm>
            <a:off x="2133720" y="3962520"/>
            <a:ext cx="892080" cy="2071440"/>
          </a:xfrm>
          <a:prstGeom prst="rect">
            <a:avLst/>
          </a:prstGeom>
          <a:ln w="0">
            <a:noFill/>
          </a:ln>
        </p:spPr>
      </p:pic>
      <p:pic>
        <p:nvPicPr>
          <p:cNvPr id="2099" name="" descr=""/>
          <p:cNvPicPr/>
          <p:nvPr/>
        </p:nvPicPr>
        <p:blipFill>
          <a:blip r:embed="rId5"/>
          <a:stretch/>
        </p:blipFill>
        <p:spPr>
          <a:xfrm>
            <a:off x="7848720" y="3962520"/>
            <a:ext cx="938160" cy="2178000"/>
          </a:xfrm>
          <a:prstGeom prst="rect">
            <a:avLst/>
          </a:prstGeom>
          <a:ln w="0">
            <a:noFill/>
          </a:ln>
        </p:spPr>
      </p:pic>
      <p:grpSp>
        <p:nvGrpSpPr>
          <p:cNvPr id="2100" name=""/>
          <p:cNvGrpSpPr/>
          <p:nvPr/>
        </p:nvGrpSpPr>
        <p:grpSpPr>
          <a:xfrm>
            <a:off x="4525920" y="3261600"/>
            <a:ext cx="1036800" cy="472320"/>
            <a:chOff x="4525920" y="3261600"/>
            <a:chExt cx="1036800" cy="472320"/>
          </a:xfrm>
        </p:grpSpPr>
        <p:sp>
          <p:nvSpPr>
            <p:cNvPr id="2101" name=""/>
            <p:cNvSpPr/>
            <p:nvPr/>
          </p:nvSpPr>
          <p:spPr>
            <a:xfrm>
              <a:off x="4648320" y="3505320"/>
              <a:ext cx="914400" cy="228600"/>
            </a:xfrm>
            <a:prstGeom prst="can">
              <a:avLst>
                <a:gd name="adj" fmla="val 500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4648320" y="3429000"/>
              <a:ext cx="884160" cy="187200"/>
            </a:xfrm>
            <a:custGeom>
              <a:avLst/>
              <a:gdLst/>
              <a:ahLst/>
              <a:rect l="l" t="t" r="r" b="b"/>
              <a:pathLst>
                <a:path w="976" h="328">
                  <a:moveTo>
                    <a:pt x="0" y="288"/>
                  </a:moveTo>
                  <a:cubicBezTo>
                    <a:pt x="0" y="308"/>
                    <a:pt x="0" y="328"/>
                    <a:pt x="48" y="288"/>
                  </a:cubicBezTo>
                  <a:cubicBezTo>
                    <a:pt x="96" y="248"/>
                    <a:pt x="208" y="56"/>
                    <a:pt x="288" y="48"/>
                  </a:cubicBezTo>
                  <a:cubicBezTo>
                    <a:pt x="368" y="40"/>
                    <a:pt x="424" y="216"/>
                    <a:pt x="528" y="240"/>
                  </a:cubicBezTo>
                  <a:cubicBezTo>
                    <a:pt x="632" y="264"/>
                    <a:pt x="848" y="216"/>
                    <a:pt x="912" y="192"/>
                  </a:cubicBezTo>
                  <a:cubicBezTo>
                    <a:pt x="976" y="168"/>
                    <a:pt x="936" y="112"/>
                    <a:pt x="912" y="96"/>
                  </a:cubicBezTo>
                  <a:cubicBezTo>
                    <a:pt x="888" y="80"/>
                    <a:pt x="792" y="112"/>
                    <a:pt x="768" y="96"/>
                  </a:cubicBezTo>
                  <a:cubicBezTo>
                    <a:pt x="744" y="80"/>
                    <a:pt x="756" y="40"/>
                    <a:pt x="768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rot="853200">
              <a:off x="4723920" y="3352680"/>
              <a:ext cx="771480" cy="227160"/>
            </a:xfrm>
            <a:custGeom>
              <a:avLst/>
              <a:gdLst/>
              <a:ahLst/>
              <a:rect l="l" t="t" r="r" b="b"/>
              <a:pathLst>
                <a:path w="976" h="328">
                  <a:moveTo>
                    <a:pt x="0" y="288"/>
                  </a:moveTo>
                  <a:cubicBezTo>
                    <a:pt x="0" y="308"/>
                    <a:pt x="0" y="328"/>
                    <a:pt x="48" y="288"/>
                  </a:cubicBezTo>
                  <a:cubicBezTo>
                    <a:pt x="96" y="248"/>
                    <a:pt x="208" y="56"/>
                    <a:pt x="288" y="48"/>
                  </a:cubicBezTo>
                  <a:cubicBezTo>
                    <a:pt x="368" y="40"/>
                    <a:pt x="424" y="216"/>
                    <a:pt x="528" y="240"/>
                  </a:cubicBezTo>
                  <a:cubicBezTo>
                    <a:pt x="632" y="264"/>
                    <a:pt x="848" y="216"/>
                    <a:pt x="912" y="192"/>
                  </a:cubicBezTo>
                  <a:cubicBezTo>
                    <a:pt x="976" y="168"/>
                    <a:pt x="936" y="112"/>
                    <a:pt x="912" y="96"/>
                  </a:cubicBezTo>
                  <a:cubicBezTo>
                    <a:pt x="888" y="80"/>
                    <a:pt x="792" y="112"/>
                    <a:pt x="768" y="96"/>
                  </a:cubicBezTo>
                  <a:cubicBezTo>
                    <a:pt x="744" y="80"/>
                    <a:pt x="756" y="40"/>
                    <a:pt x="768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943800">
              <a:off x="4572000" y="3429000"/>
              <a:ext cx="930240" cy="152280"/>
            </a:xfrm>
            <a:custGeom>
              <a:avLst/>
              <a:gdLst/>
              <a:ahLst/>
              <a:rect l="l" t="t" r="r" b="b"/>
              <a:pathLst>
                <a:path w="976" h="328">
                  <a:moveTo>
                    <a:pt x="0" y="288"/>
                  </a:moveTo>
                  <a:cubicBezTo>
                    <a:pt x="0" y="308"/>
                    <a:pt x="0" y="328"/>
                    <a:pt x="48" y="288"/>
                  </a:cubicBezTo>
                  <a:cubicBezTo>
                    <a:pt x="96" y="248"/>
                    <a:pt x="208" y="56"/>
                    <a:pt x="288" y="48"/>
                  </a:cubicBezTo>
                  <a:cubicBezTo>
                    <a:pt x="368" y="40"/>
                    <a:pt x="424" y="216"/>
                    <a:pt x="528" y="240"/>
                  </a:cubicBezTo>
                  <a:cubicBezTo>
                    <a:pt x="632" y="264"/>
                    <a:pt x="848" y="216"/>
                    <a:pt x="912" y="192"/>
                  </a:cubicBezTo>
                  <a:cubicBezTo>
                    <a:pt x="976" y="168"/>
                    <a:pt x="936" y="112"/>
                    <a:pt x="912" y="96"/>
                  </a:cubicBezTo>
                  <a:cubicBezTo>
                    <a:pt x="888" y="80"/>
                    <a:pt x="792" y="112"/>
                    <a:pt x="768" y="96"/>
                  </a:cubicBezTo>
                  <a:cubicBezTo>
                    <a:pt x="744" y="80"/>
                    <a:pt x="756" y="40"/>
                    <a:pt x="768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4525920" y="3505320"/>
              <a:ext cx="808200" cy="110880"/>
            </a:xfrm>
            <a:custGeom>
              <a:avLst/>
              <a:gdLst/>
              <a:ahLst/>
              <a:rect l="l" t="t" r="r" b="b"/>
              <a:pathLst>
                <a:path w="976" h="328">
                  <a:moveTo>
                    <a:pt x="0" y="288"/>
                  </a:moveTo>
                  <a:cubicBezTo>
                    <a:pt x="0" y="308"/>
                    <a:pt x="0" y="328"/>
                    <a:pt x="48" y="288"/>
                  </a:cubicBezTo>
                  <a:cubicBezTo>
                    <a:pt x="96" y="248"/>
                    <a:pt x="208" y="56"/>
                    <a:pt x="288" y="48"/>
                  </a:cubicBezTo>
                  <a:cubicBezTo>
                    <a:pt x="368" y="40"/>
                    <a:pt x="424" y="216"/>
                    <a:pt x="528" y="240"/>
                  </a:cubicBezTo>
                  <a:cubicBezTo>
                    <a:pt x="632" y="264"/>
                    <a:pt x="848" y="216"/>
                    <a:pt x="912" y="192"/>
                  </a:cubicBezTo>
                  <a:cubicBezTo>
                    <a:pt x="976" y="168"/>
                    <a:pt x="936" y="112"/>
                    <a:pt x="912" y="96"/>
                  </a:cubicBezTo>
                  <a:cubicBezTo>
                    <a:pt x="888" y="80"/>
                    <a:pt x="792" y="112"/>
                    <a:pt x="768" y="96"/>
                  </a:cubicBezTo>
                  <a:cubicBezTo>
                    <a:pt x="744" y="80"/>
                    <a:pt x="756" y="40"/>
                    <a:pt x="768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6" name=""/>
          <p:cNvSpPr/>
          <p:nvPr/>
        </p:nvSpPr>
        <p:spPr>
          <a:xfrm>
            <a:off x="1676520" y="1676520"/>
            <a:ext cx="1523880" cy="761760"/>
          </a:xfrm>
          <a:prstGeom prst="cloudCallout">
            <a:avLst>
              <a:gd name="adj1" fmla="val -43125"/>
              <a:gd name="adj2" fmla="val 72083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y i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6400800" y="1371600"/>
            <a:ext cx="1676520" cy="685800"/>
          </a:xfrm>
          <a:prstGeom prst="cloudCallout">
            <a:avLst>
              <a:gd name="adj1" fmla="val -34657"/>
              <a:gd name="adj2" fmla="val 7453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uppos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523880" y="3200400"/>
            <a:ext cx="1676520" cy="609480"/>
          </a:xfrm>
          <a:prstGeom prst="cloudCallout">
            <a:avLst>
              <a:gd name="adj1" fmla="val 22347"/>
              <a:gd name="adj2" fmla="val 10599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A i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781680" y="2971800"/>
            <a:ext cx="1676520" cy="685800"/>
          </a:xfrm>
          <a:prstGeom prst="cloudCallout">
            <a:avLst>
              <a:gd name="adj1" fmla="val 22347"/>
              <a:gd name="adj2" fmla="val 99768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at if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419720" y="1295280"/>
            <a:ext cx="1676160" cy="685800"/>
          </a:xfrm>
          <a:prstGeom prst="cloudCallout">
            <a:avLst>
              <a:gd name="adj1" fmla="val -57671"/>
              <a:gd name="adj2" fmla="val 13888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How about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400800" y="1371600"/>
            <a:ext cx="1676520" cy="685800"/>
          </a:xfrm>
          <a:prstGeom prst="cloudCallout">
            <a:avLst>
              <a:gd name="adj1" fmla="val -34657"/>
              <a:gd name="adj2" fmla="val 7453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UNGR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3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500"/>
                            </p:stCondLst>
                            <p:childTnLst>
                              <p:par>
                                <p:cTn id="19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7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1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5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9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4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8" dur="5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2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6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0" dur="5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5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fill="hold">
                            <p:stCondLst>
                              <p:cond delay="500"/>
                            </p:stCondLst>
                            <p:childTnLst>
                              <p:par>
                                <p:cTn id="20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500"/>
                            </p:stCondLst>
                            <p:childTnLst>
                              <p:par>
                                <p:cTn id="204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2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ilosop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hi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wo forks (one at a time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— if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atisfi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t down the two f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chronization Proble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neighbours cannot eat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7" dur="indefinite" restart="never" nodeType="tmRoot">
          <p:childTnLst>
            <p:seq>
              <p:cTn id="2078" dur="indefinite" nodeType="mainSeq">
                <p:childTnLst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3" dur="500"/>
                                        <p:tgtEl>
                                          <p:spTgt spid="2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8" dur="500"/>
                                        <p:tgtEl>
                                          <p:spTgt spid="2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3" dur="500"/>
                                        <p:tgtEl>
                                          <p:spTgt spid="2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6" dur="500"/>
                                        <p:tgtEl>
                                          <p:spTgt spid="2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1" dur="500"/>
                                        <p:tgtEl>
                                          <p:spTgt spid="2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6" dur="500"/>
                                        <p:tgtEl>
                                          <p:spTgt spid="2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9" dur="500"/>
                                        <p:tgtEl>
                                          <p:spTgt spid="2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2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9" dur="500"/>
                                        <p:tgtEl>
                                          <p:spTgt spid="2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emaphore [ ] fork = { 1, 1, 1, 1, 1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6" name=""/>
          <p:cNvGrpSpPr/>
          <p:nvPr/>
        </p:nvGrpSpPr>
        <p:grpSpPr>
          <a:xfrm>
            <a:off x="762120" y="2111400"/>
            <a:ext cx="3733560" cy="3755880"/>
            <a:chOff x="762120" y="2111400"/>
            <a:chExt cx="3733560" cy="3755880"/>
          </a:xfrm>
        </p:grpSpPr>
        <p:sp>
          <p:nvSpPr>
            <p:cNvPr id="2117" name=""/>
            <p:cNvSpPr/>
            <p:nvPr/>
          </p:nvSpPr>
          <p:spPr>
            <a:xfrm>
              <a:off x="762120" y="2568600"/>
              <a:ext cx="3733560" cy="329868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true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Think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2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Eat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7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62120" y="21114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Arial"/>
                </a:rPr>
                <a:t>Philosopher 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9" name=""/>
          <p:cNvSpPr/>
          <p:nvPr/>
        </p:nvSpPr>
        <p:spPr>
          <a:xfrm>
            <a:off x="1143000" y="34066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fork[ i 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143000" y="3814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fork[ (i+1) % 5 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1143000" y="4529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fork[ i 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143000" y="4915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fork[ (i+1) % 5 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3" name=""/>
          <p:cNvGrpSpPr/>
          <p:nvPr/>
        </p:nvGrpSpPr>
        <p:grpSpPr>
          <a:xfrm>
            <a:off x="3886200" y="3429000"/>
            <a:ext cx="3962520" cy="762120"/>
            <a:chOff x="3886200" y="3429000"/>
            <a:chExt cx="3962520" cy="762120"/>
          </a:xfrm>
        </p:grpSpPr>
        <p:sp>
          <p:nvSpPr>
            <p:cNvPr id="2124" name=""/>
            <p:cNvSpPr/>
            <p:nvPr/>
          </p:nvSpPr>
          <p:spPr>
            <a:xfrm>
              <a:off x="3886200" y="3429000"/>
              <a:ext cx="304920" cy="762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343400" y="3581280"/>
              <a:ext cx="350532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ick up left and right 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3886200" y="4495680"/>
            <a:ext cx="3962520" cy="762120"/>
            <a:chOff x="3886200" y="4495680"/>
            <a:chExt cx="3962520" cy="762120"/>
          </a:xfrm>
        </p:grpSpPr>
        <p:sp>
          <p:nvSpPr>
            <p:cNvPr id="2127" name=""/>
            <p:cNvSpPr/>
            <p:nvPr/>
          </p:nvSpPr>
          <p:spPr>
            <a:xfrm>
              <a:off x="3886200" y="4495680"/>
              <a:ext cx="304920" cy="762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343400" y="4647960"/>
              <a:ext cx="350532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t down left and right 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500"/>
                                        <p:tgtEl>
                                          <p:spTgt spid="2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1" dur="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2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8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65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ock is possibl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hilosophers take their left fork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1" name=""/>
          <p:cNvGrpSpPr/>
          <p:nvPr/>
        </p:nvGrpSpPr>
        <p:grpSpPr>
          <a:xfrm>
            <a:off x="6451200" y="1905120"/>
            <a:ext cx="1168920" cy="2178000"/>
            <a:chOff x="6451200" y="1905120"/>
            <a:chExt cx="1168920" cy="2178000"/>
          </a:xfrm>
        </p:grpSpPr>
        <p:pic>
          <p:nvPicPr>
            <p:cNvPr id="2132" name="" descr=""/>
            <p:cNvPicPr/>
            <p:nvPr/>
          </p:nvPicPr>
          <p:blipFill>
            <a:blip r:embed="rId1"/>
            <a:stretch/>
          </p:blipFill>
          <p:spPr>
            <a:xfrm>
              <a:off x="6681960" y="1905120"/>
              <a:ext cx="938160" cy="217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3" name=""/>
            <p:cNvGrpSpPr/>
            <p:nvPr/>
          </p:nvGrpSpPr>
          <p:grpSpPr>
            <a:xfrm>
              <a:off x="6451200" y="2506680"/>
              <a:ext cx="693360" cy="222480"/>
              <a:chOff x="6451200" y="2506680"/>
              <a:chExt cx="693360" cy="222480"/>
            </a:xfrm>
          </p:grpSpPr>
          <p:sp>
            <p:nvSpPr>
              <p:cNvPr id="2134" name=""/>
              <p:cNvSpPr/>
              <p:nvPr/>
            </p:nvSpPr>
            <p:spPr>
              <a:xfrm rot="10453200">
                <a:off x="6550560" y="2514600"/>
                <a:ext cx="162720" cy="97920"/>
              </a:xfrm>
              <a:custGeom>
                <a:avLst/>
                <a:gdLst/>
                <a:ahLst/>
                <a:rect l="l" t="t" r="r" b="b"/>
                <a:pathLst>
                  <a:path w="429" h="268">
                    <a:moveTo>
                      <a:pt x="413" y="99"/>
                    </a:moveTo>
                    <a:lnTo>
                      <a:pt x="422" y="103"/>
                    </a:lnTo>
                    <a:lnTo>
                      <a:pt x="429" y="147"/>
                    </a:lnTo>
                    <a:lnTo>
                      <a:pt x="413" y="190"/>
                    </a:lnTo>
                    <a:lnTo>
                      <a:pt x="389" y="229"/>
                    </a:lnTo>
                    <a:lnTo>
                      <a:pt x="371" y="265"/>
                    </a:lnTo>
                    <a:lnTo>
                      <a:pt x="329" y="265"/>
                    </a:lnTo>
                    <a:lnTo>
                      <a:pt x="284" y="268"/>
                    </a:lnTo>
                    <a:lnTo>
                      <a:pt x="231" y="264"/>
                    </a:lnTo>
                    <a:lnTo>
                      <a:pt x="167" y="241"/>
                    </a:lnTo>
                    <a:lnTo>
                      <a:pt x="104" y="205"/>
                    </a:lnTo>
                    <a:lnTo>
                      <a:pt x="65" y="173"/>
                    </a:lnTo>
                    <a:lnTo>
                      <a:pt x="39" y="131"/>
                    </a:lnTo>
                    <a:lnTo>
                      <a:pt x="11" y="63"/>
                    </a:lnTo>
                    <a:lnTo>
                      <a:pt x="0" y="30"/>
                    </a:lnTo>
                    <a:lnTo>
                      <a:pt x="10" y="9"/>
                    </a:lnTo>
                    <a:lnTo>
                      <a:pt x="42" y="0"/>
                    </a:lnTo>
                    <a:lnTo>
                      <a:pt x="76" y="13"/>
                    </a:lnTo>
                    <a:lnTo>
                      <a:pt x="121" y="38"/>
                    </a:lnTo>
                    <a:lnTo>
                      <a:pt x="181" y="64"/>
                    </a:lnTo>
                    <a:lnTo>
                      <a:pt x="268" y="87"/>
                    </a:lnTo>
                    <a:lnTo>
                      <a:pt x="327" y="87"/>
                    </a:lnTo>
                    <a:lnTo>
                      <a:pt x="364" y="90"/>
                    </a:lnTo>
                    <a:lnTo>
                      <a:pt x="413" y="99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rot="10453200">
                <a:off x="6454440" y="2523960"/>
                <a:ext cx="110880" cy="50040"/>
              </a:xfrm>
              <a:custGeom>
                <a:avLst/>
                <a:gdLst/>
                <a:ahLst/>
                <a:rect l="l" t="t" r="r" b="b"/>
                <a:pathLst>
                  <a:path w="288" h="139">
                    <a:moveTo>
                      <a:pt x="0" y="136"/>
                    </a:moveTo>
                    <a:lnTo>
                      <a:pt x="17" y="138"/>
                    </a:lnTo>
                    <a:lnTo>
                      <a:pt x="59" y="139"/>
                    </a:lnTo>
                    <a:lnTo>
                      <a:pt x="118" y="132"/>
                    </a:lnTo>
                    <a:lnTo>
                      <a:pt x="182" y="109"/>
                    </a:lnTo>
                    <a:lnTo>
                      <a:pt x="228" y="77"/>
                    </a:lnTo>
                    <a:lnTo>
                      <a:pt x="261" y="41"/>
                    </a:lnTo>
                    <a:lnTo>
                      <a:pt x="281" y="11"/>
                    </a:lnTo>
                    <a:lnTo>
                      <a:pt x="288" y="0"/>
                    </a:lnTo>
                  </a:path>
                </a:pathLst>
              </a:custGeom>
              <a:solidFill>
                <a:srgbClr val="00279f"/>
              </a:solidFill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10453200">
                <a:off x="6453000" y="2554560"/>
                <a:ext cx="109440" cy="50040"/>
              </a:xfrm>
              <a:custGeom>
                <a:avLst/>
                <a:gdLst/>
                <a:ahLst/>
                <a:rect l="l" t="t" r="r" b="b"/>
                <a:pathLst>
                  <a:path w="288" h="139">
                    <a:moveTo>
                      <a:pt x="0" y="136"/>
                    </a:moveTo>
                    <a:lnTo>
                      <a:pt x="17" y="138"/>
                    </a:lnTo>
                    <a:lnTo>
                      <a:pt x="59" y="139"/>
                    </a:lnTo>
                    <a:lnTo>
                      <a:pt x="118" y="132"/>
                    </a:lnTo>
                    <a:lnTo>
                      <a:pt x="181" y="109"/>
                    </a:lnTo>
                    <a:lnTo>
                      <a:pt x="228" y="77"/>
                    </a:lnTo>
                    <a:lnTo>
                      <a:pt x="261" y="41"/>
                    </a:lnTo>
                    <a:lnTo>
                      <a:pt x="281" y="11"/>
                    </a:lnTo>
                    <a:lnTo>
                      <a:pt x="288" y="0"/>
                    </a:lnTo>
                  </a:path>
                </a:pathLst>
              </a:custGeom>
              <a:solidFill>
                <a:srgbClr val="00279f"/>
              </a:solidFill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10453200">
                <a:off x="6459840" y="2581920"/>
                <a:ext cx="109440" cy="51480"/>
              </a:xfrm>
              <a:custGeom>
                <a:avLst/>
                <a:gdLst/>
                <a:ahLst/>
                <a:rect l="l" t="t" r="r" b="b"/>
                <a:pathLst>
                  <a:path w="288" h="139">
                    <a:moveTo>
                      <a:pt x="0" y="136"/>
                    </a:moveTo>
                    <a:lnTo>
                      <a:pt x="17" y="138"/>
                    </a:lnTo>
                    <a:lnTo>
                      <a:pt x="59" y="139"/>
                    </a:lnTo>
                    <a:lnTo>
                      <a:pt x="118" y="131"/>
                    </a:lnTo>
                    <a:lnTo>
                      <a:pt x="182" y="108"/>
                    </a:lnTo>
                    <a:lnTo>
                      <a:pt x="228" y="77"/>
                    </a:lnTo>
                    <a:lnTo>
                      <a:pt x="261" y="40"/>
                    </a:lnTo>
                    <a:lnTo>
                      <a:pt x="282" y="11"/>
                    </a:lnTo>
                    <a:lnTo>
                      <a:pt x="288" y="0"/>
                    </a:lnTo>
                  </a:path>
                </a:pathLst>
              </a:custGeom>
              <a:solidFill>
                <a:srgbClr val="00279f"/>
              </a:solidFill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0453200">
                <a:off x="6708600" y="2570040"/>
                <a:ext cx="429840" cy="137880"/>
              </a:xfrm>
              <a:custGeom>
                <a:avLst/>
                <a:gdLst/>
                <a:ahLst/>
                <a:rect l="l" t="t" r="r" b="b"/>
                <a:pathLst>
                  <a:path w="1138" h="381">
                    <a:moveTo>
                      <a:pt x="1138" y="381"/>
                    </a:moveTo>
                    <a:lnTo>
                      <a:pt x="1122" y="360"/>
                    </a:lnTo>
                    <a:lnTo>
                      <a:pt x="1076" y="308"/>
                    </a:lnTo>
                    <a:lnTo>
                      <a:pt x="1043" y="276"/>
                    </a:lnTo>
                    <a:lnTo>
                      <a:pt x="1002" y="244"/>
                    </a:lnTo>
                    <a:lnTo>
                      <a:pt x="956" y="212"/>
                    </a:lnTo>
                    <a:lnTo>
                      <a:pt x="904" y="184"/>
                    </a:lnTo>
                    <a:lnTo>
                      <a:pt x="785" y="135"/>
                    </a:lnTo>
                    <a:lnTo>
                      <a:pt x="694" y="108"/>
                    </a:lnTo>
                    <a:lnTo>
                      <a:pt x="619" y="95"/>
                    </a:lnTo>
                    <a:lnTo>
                      <a:pt x="552" y="94"/>
                    </a:lnTo>
                    <a:lnTo>
                      <a:pt x="484" y="95"/>
                    </a:lnTo>
                    <a:lnTo>
                      <a:pt x="404" y="93"/>
                    </a:lnTo>
                    <a:lnTo>
                      <a:pt x="303" y="82"/>
                    </a:lnTo>
                    <a:lnTo>
                      <a:pt x="172" y="55"/>
                    </a:lnTo>
                    <a:lnTo>
                      <a:pt x="105" y="36"/>
                    </a:lnTo>
                    <a:lnTo>
                      <a:pt x="50" y="19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9" name=""/>
          <p:cNvSpPr/>
          <p:nvPr/>
        </p:nvSpPr>
        <p:spPr>
          <a:xfrm>
            <a:off x="685800" y="29718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Sol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solu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ke first fork with lowest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t most 4 philosophers at th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2 forks inside CS if both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6" dur="indefinite" restart="never" nodeType="tmRoot">
          <p:childTnLst>
            <p:seq>
              <p:cTn id="2167" dur="indefinite" nodeType="mainSeq">
                <p:childTnLst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7" dur="500"/>
                                        <p:tgtEl>
                                          <p:spTgt spid="2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500"/>
                            </p:stCondLst>
                            <p:childTnLst>
                              <p:par>
                                <p:cTn id="2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1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6" dur="500"/>
                                        <p:tgtEl>
                                          <p:spTgt spid="2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1" dur="500"/>
                                        <p:tgtEl>
                                          <p:spTgt spid="2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6" dur="500"/>
                                        <p:tgtEl>
                                          <p:spTgt spid="2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2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6" dur="500"/>
                                        <p:tgtEl>
                                          <p:spTgt spid="2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guage Constru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al Reg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rent Pascal, Mod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7" dur="indefinite" restart="never" nodeType="tmRoot">
          <p:childTnLst>
            <p:seq>
              <p:cTn id="2208" dur="indefinite" nodeType="mainSeq">
                <p:childTnLst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s used incorrect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dependent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5864400" y="2209680"/>
            <a:ext cx="2155680" cy="1676520"/>
            <a:chOff x="5864400" y="2209680"/>
            <a:chExt cx="2155680" cy="1676520"/>
          </a:xfrm>
        </p:grpSpPr>
        <p:sp>
          <p:nvSpPr>
            <p:cNvPr id="2145" name=""/>
            <p:cNvSpPr/>
            <p:nvPr/>
          </p:nvSpPr>
          <p:spPr>
            <a:xfrm>
              <a:off x="6248160" y="2590920"/>
              <a:ext cx="1143000" cy="129528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V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864400" y="2209680"/>
              <a:ext cx="21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semaphore s =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7391520" y="4038480"/>
            <a:ext cx="1143000" cy="1295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533520" y="4038480"/>
            <a:ext cx="1143000" cy="1295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9" name=""/>
          <p:cNvGrpSpPr/>
          <p:nvPr/>
        </p:nvGrpSpPr>
        <p:grpSpPr>
          <a:xfrm>
            <a:off x="2247840" y="4038480"/>
            <a:ext cx="1143000" cy="1295280"/>
            <a:chOff x="2247840" y="4038480"/>
            <a:chExt cx="1143000" cy="1295280"/>
          </a:xfrm>
        </p:grpSpPr>
        <p:sp>
          <p:nvSpPr>
            <p:cNvPr id="2150" name=""/>
            <p:cNvSpPr/>
            <p:nvPr/>
          </p:nvSpPr>
          <p:spPr>
            <a:xfrm>
              <a:off x="2247840" y="4038480"/>
              <a:ext cx="1143000" cy="129528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V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324160" y="4267080"/>
              <a:ext cx="83808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cubicBezTo>
                    <a:pt x="28" y="24"/>
                    <a:pt x="56" y="0"/>
                    <a:pt x="96" y="0"/>
                  </a:cubicBezTo>
                  <a:cubicBezTo>
                    <a:pt x="136" y="0"/>
                    <a:pt x="192" y="48"/>
                    <a:pt x="240" y="48"/>
                  </a:cubicBezTo>
                  <a:cubicBezTo>
                    <a:pt x="288" y="48"/>
                    <a:pt x="336" y="0"/>
                    <a:pt x="384" y="0"/>
                  </a:cubicBezTo>
                  <a:cubicBezTo>
                    <a:pt x="432" y="0"/>
                    <a:pt x="480" y="24"/>
                    <a:pt x="528" y="4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2" name=""/>
          <p:cNvGrpSpPr/>
          <p:nvPr/>
        </p:nvGrpSpPr>
        <p:grpSpPr>
          <a:xfrm>
            <a:off x="3962520" y="4038480"/>
            <a:ext cx="1143000" cy="1295640"/>
            <a:chOff x="3962520" y="4038480"/>
            <a:chExt cx="1143000" cy="1295640"/>
          </a:xfrm>
        </p:grpSpPr>
        <p:sp>
          <p:nvSpPr>
            <p:cNvPr id="2153" name=""/>
            <p:cNvSpPr/>
            <p:nvPr/>
          </p:nvSpPr>
          <p:spPr>
            <a:xfrm>
              <a:off x="3962520" y="4038480"/>
              <a:ext cx="1143000" cy="12956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V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038480" y="4952880"/>
              <a:ext cx="83844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cubicBezTo>
                    <a:pt x="28" y="24"/>
                    <a:pt x="56" y="0"/>
                    <a:pt x="96" y="0"/>
                  </a:cubicBezTo>
                  <a:cubicBezTo>
                    <a:pt x="136" y="0"/>
                    <a:pt x="192" y="48"/>
                    <a:pt x="240" y="48"/>
                  </a:cubicBezTo>
                  <a:cubicBezTo>
                    <a:pt x="288" y="48"/>
                    <a:pt x="336" y="0"/>
                    <a:pt x="384" y="0"/>
                  </a:cubicBezTo>
                  <a:cubicBezTo>
                    <a:pt x="432" y="0"/>
                    <a:pt x="480" y="24"/>
                    <a:pt x="528" y="4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5" name=""/>
          <p:cNvSpPr/>
          <p:nvPr/>
        </p:nvSpPr>
        <p:spPr>
          <a:xfrm>
            <a:off x="5676840" y="4038480"/>
            <a:ext cx="1143000" cy="1295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392720" y="5462640"/>
            <a:ext cx="121896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42" y="-10994"/>
                </a:moveTo>
                <a:lnTo>
                  <a:pt x="-1350" y="3775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uture dead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2735280" y="5475240"/>
            <a:ext cx="99864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52" y="-9071"/>
                </a:moveTo>
                <a:lnTo>
                  <a:pt x="-1648" y="3775"/>
                </a:lnTo>
              </a:path>
              <a:path w="21600" h="21600">
                <a:moveTo>
                  <a:pt x="-1648" y="0"/>
                </a:moveTo>
                <a:lnTo>
                  <a:pt x="-1648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p to 2 in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7696080" y="5757840"/>
            <a:ext cx="121932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81" y="-33307"/>
                </a:moveTo>
                <a:lnTo>
                  <a:pt x="-1350" y="6507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dead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049800" y="5468760"/>
            <a:ext cx="96048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57" y="-10510"/>
                </a:moveTo>
                <a:lnTo>
                  <a:pt x="-1714" y="3775"/>
                </a:lnTo>
              </a:path>
              <a:path w="21600" h="21600">
                <a:moveTo>
                  <a:pt x="-1714" y="0"/>
                </a:moveTo>
                <a:lnTo>
                  <a:pt x="-1714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p to 3 in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191120" y="3200400"/>
            <a:ext cx="96048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5876" y="36439"/>
                </a:moveTo>
                <a:lnTo>
                  <a:pt x="23314" y="3775"/>
                </a:lnTo>
              </a:path>
              <a:path w="21600" h="21600">
                <a:moveTo>
                  <a:pt x="23314" y="0"/>
                </a:moveTo>
                <a:lnTo>
                  <a:pt x="23314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p to 3 in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941560" y="3200400"/>
            <a:ext cx="96048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783" y="45788"/>
                </a:moveTo>
                <a:lnTo>
                  <a:pt x="-1714" y="3775"/>
                </a:lnTo>
              </a:path>
              <a:path w="21600" h="21600">
                <a:moveTo>
                  <a:pt x="-1714" y="0"/>
                </a:moveTo>
                <a:lnTo>
                  <a:pt x="-1714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p to 2 in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295280" y="3232080"/>
            <a:ext cx="96048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76" y="35907"/>
                </a:moveTo>
                <a:lnTo>
                  <a:pt x="-1714" y="3775"/>
                </a:lnTo>
              </a:path>
              <a:path w="21600" h="21600">
                <a:moveTo>
                  <a:pt x="-1714" y="0"/>
                </a:moveTo>
                <a:lnTo>
                  <a:pt x="-1714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p to 3 in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4" dur="indefinite" restart="never" nodeType="tmRoot">
          <p:childTnLst>
            <p:seq>
              <p:cTn id="2215" dur="indefinite" nodeType="mainSeq">
                <p:childTnLst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0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0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0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5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0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5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0" dur="5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5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0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5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0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562720" y="3886200"/>
            <a:ext cx="2133360" cy="914400"/>
            <a:chOff x="5562720" y="3886200"/>
            <a:chExt cx="2133360" cy="914400"/>
          </a:xfrm>
        </p:grpSpPr>
        <p:sp>
          <p:nvSpPr>
            <p:cNvPr id="172" name=""/>
            <p:cNvSpPr/>
            <p:nvPr/>
          </p:nvSpPr>
          <p:spPr>
            <a:xfrm>
              <a:off x="5562720" y="4343400"/>
              <a:ext cx="2133360" cy="4572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58760" y="3886200"/>
              <a:ext cx="1236960" cy="4572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67400" y="4267440"/>
              <a:ext cx="1219680" cy="3045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988920" y="2209680"/>
            <a:ext cx="160200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5320" y="333360"/>
            <a:ext cx="693396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073480"/>
            <a:ext cx="160164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08640" y="2133720"/>
            <a:ext cx="2897280" cy="9903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5210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V(s)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++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(s)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s == 0)  {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-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1521000"/>
            <a:ext cx="3810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(s)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s == 0)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(s)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s == 0)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62120" y="4724280"/>
            <a:ext cx="2512800" cy="1295280"/>
            <a:chOff x="762120" y="4724280"/>
            <a:chExt cx="2512800" cy="1295280"/>
          </a:xfrm>
        </p:grpSpPr>
        <p:sp>
          <p:nvSpPr>
            <p:cNvPr id="182" name=""/>
            <p:cNvSpPr/>
            <p:nvPr/>
          </p:nvSpPr>
          <p:spPr>
            <a:xfrm>
              <a:off x="762120" y="4724280"/>
              <a:ext cx="2154960" cy="129528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79600" y="4867560"/>
              <a:ext cx="1795320" cy="100764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257800" y="2133720"/>
            <a:ext cx="2512800" cy="1294920"/>
            <a:chOff x="5257800" y="2133720"/>
            <a:chExt cx="2512800" cy="1294920"/>
          </a:xfrm>
        </p:grpSpPr>
        <p:sp>
          <p:nvSpPr>
            <p:cNvPr id="185" name=""/>
            <p:cNvSpPr/>
            <p:nvPr/>
          </p:nvSpPr>
          <p:spPr>
            <a:xfrm>
              <a:off x="5257800" y="2133720"/>
              <a:ext cx="2154960" cy="129492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75280" y="2277000"/>
              <a:ext cx="1795320" cy="100728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Constr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 # time dependent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ily added to any langua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re-process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565200" y="4038480"/>
            <a:ext cx="2438280" cy="1572120"/>
          </a:xfrm>
          <a:prstGeom prst="rect">
            <a:avLst/>
          </a:prstGeom>
          <a:solidFill>
            <a:srgbClr val="cecece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3048120" y="46483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3603600" y="4343400"/>
            <a:ext cx="1905120" cy="1066680"/>
          </a:xfrm>
          <a:prstGeom prst="plus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re-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118200" y="3657600"/>
            <a:ext cx="2438280" cy="2303640"/>
          </a:xfrm>
          <a:prstGeom prst="rect">
            <a:avLst/>
          </a:prstGeom>
          <a:solidFill>
            <a:srgbClr val="cecece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 (&amp; v_mutex);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;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V (&amp; v_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540400" y="4648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1" dur="indefinite" restart="never" nodeType="tmRoot">
          <p:childTnLst>
            <p:seq>
              <p:cTn id="2282" dur="indefinite" nodeType="mainSeq">
                <p:childTnLst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7" dur="500"/>
                                        <p:tgtEl>
                                          <p:spTgt spid="2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2" dur="500"/>
                                        <p:tgtEl>
                                          <p:spTgt spid="2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7" dur="500"/>
                                        <p:tgtEl>
                                          <p:spTgt spid="2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5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5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8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500"/>
                            </p:stCondLst>
                            <p:childTnLst>
                              <p:par>
                                <p:cTn id="23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2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6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0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Critical Reg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hared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SomeType v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NLY accessible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onstru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STATEMEN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MENT executed in a 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oolExpr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STATEMEN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olExpr and STATEMENT inside C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BoolExpr =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STATEMENT execute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BoolExpr =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tual exclusion relinquishe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 delayed until BoolExpr true and region is f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Critical Reg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659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true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S1   ||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true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S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659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3659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1 ; S2  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S2 ; S1 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59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685800" y="3657600"/>
            <a:ext cx="7696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t: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 {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TATEMENT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wait (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oolExpr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TATEMENT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1" dur="indefinite" restart="never" nodeType="tmRoot">
          <p:childTnLst>
            <p:seq>
              <p:cTn id="2322" dur="indefinite" nodeType="mainSeq">
                <p:childTnLst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7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 using CC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181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hared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struct {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tem [N] pool;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count, in, out;    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init 0, 0, 0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 buf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7" name=""/>
          <p:cNvGrpSpPr/>
          <p:nvPr/>
        </p:nvGrpSpPr>
        <p:grpSpPr>
          <a:xfrm>
            <a:off x="4952880" y="2514600"/>
            <a:ext cx="3647880" cy="3580920"/>
            <a:chOff x="4952880" y="2514600"/>
            <a:chExt cx="3647880" cy="3580920"/>
          </a:xfrm>
        </p:grpSpPr>
        <p:sp>
          <p:nvSpPr>
            <p:cNvPr id="2178" name=""/>
            <p:cNvSpPr/>
            <p:nvPr/>
          </p:nvSpPr>
          <p:spPr>
            <a:xfrm>
              <a:off x="4952880" y="2826000"/>
              <a:ext cx="3575520" cy="32695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519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519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9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 ic;</a:t>
              </a:r>
              <a:br>
                <a:rPr sz="2000"/>
              </a:br>
              <a:br>
                <a:rPr sz="2000"/>
              </a:br>
              <a:br>
                <a:rPr sz="2000"/>
              </a:br>
              <a:br>
                <a:rPr sz="1600"/>
              </a:br>
              <a:br>
                <a:rPr sz="1600"/>
              </a:b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sume (ic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519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519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021080" y="2514600"/>
              <a:ext cx="1579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ae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0" name=""/>
          <p:cNvSpPr/>
          <p:nvPr/>
        </p:nvSpPr>
        <p:spPr>
          <a:xfrm>
            <a:off x="5524200" y="3700440"/>
            <a:ext cx="2861640" cy="1739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b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count &gt; 0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c = pool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unt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1" name=""/>
          <p:cNvGrpSpPr/>
          <p:nvPr/>
        </p:nvGrpSpPr>
        <p:grpSpPr>
          <a:xfrm>
            <a:off x="609480" y="2735280"/>
            <a:ext cx="3962160" cy="3352680"/>
            <a:chOff x="609480" y="2735280"/>
            <a:chExt cx="3962160" cy="3352680"/>
          </a:xfrm>
        </p:grpSpPr>
        <p:sp>
          <p:nvSpPr>
            <p:cNvPr id="2182" name=""/>
            <p:cNvSpPr/>
            <p:nvPr/>
          </p:nvSpPr>
          <p:spPr>
            <a:xfrm>
              <a:off x="3103200" y="2735280"/>
              <a:ext cx="14684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ae00"/>
                  </a:solidFill>
                  <a:latin typeface="Arial"/>
                </a:rPr>
                <a:t>Produ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9480" y="3040200"/>
              <a:ext cx="3713760" cy="304776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 ip = produce(…);</a:t>
              </a:r>
              <a:br>
                <a:rPr sz="2000"/>
              </a:br>
              <a:br>
                <a:rPr sz="2000"/>
              </a:br>
              <a:br>
                <a:rPr sz="2000"/>
              </a:br>
              <a:br>
                <a:rPr sz="2000"/>
              </a:br>
              <a:br>
                <a:rPr sz="2000"/>
              </a:br>
              <a:br>
                <a:rPr sz="2000"/>
              </a:b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4" name=""/>
          <p:cNvSpPr/>
          <p:nvPr/>
        </p:nvSpPr>
        <p:spPr>
          <a:xfrm>
            <a:off x="1107360" y="3898800"/>
            <a:ext cx="2746080" cy="1739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b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count &lt; 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ool[in] = 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 = (in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8" dur="indefinite" restart="never" nodeType="tmRoot">
          <p:childTnLst>
            <p:seq>
              <p:cTn id="2329" dur="indefinite" nodeType="mainSeq">
                <p:childTnLst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4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9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5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2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500" fill="hold"/>
                                        <p:tgtEl>
                                          <p:spTgt spid="2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4" dur="500" fill="hold"/>
                                        <p:tgtEl>
                                          <p:spTgt spid="2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2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2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2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2" fill="hold">
                            <p:stCondLst>
                              <p:cond delay="500"/>
                            </p:stCondLst>
                            <p:childTnLst>
                              <p:par>
                                <p:cTn id="2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2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500" fill="hold"/>
                                        <p:tgtEl>
                                          <p:spTgt spid="2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0" dur="500" fill="hold"/>
                                        <p:tgtEl>
                                          <p:spTgt spid="2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2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2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2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2" dur="5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5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8" dur="500" fill="hold"/>
                                        <p:tgtEl>
                                          <p:spTgt spid="2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500" fill="hold"/>
                                        <p:tgtEl>
                                          <p:spTgt spid="2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2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2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2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2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500"/>
                            </p:stCondLst>
                            <p:childTnLst>
                              <p:par>
                                <p:cTn id="2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2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2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2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2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2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2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ers/Writers using CC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33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hared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struct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nreaders; // init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nwriters; 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init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oolean busy;   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init fal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 rw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3981600" y="2736720"/>
            <a:ext cx="4799880" cy="3359160"/>
            <a:chOff x="3981600" y="2736720"/>
            <a:chExt cx="4799880" cy="3359160"/>
          </a:xfrm>
        </p:grpSpPr>
        <p:sp>
          <p:nvSpPr>
            <p:cNvPr id="2188" name=""/>
            <p:cNvSpPr/>
            <p:nvPr/>
          </p:nvSpPr>
          <p:spPr>
            <a:xfrm>
              <a:off x="3981600" y="3029040"/>
              <a:ext cx="4704480" cy="30668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70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d/Write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02840" y="2736720"/>
              <a:ext cx="20786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Wri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0" name=""/>
          <p:cNvSpPr/>
          <p:nvPr/>
        </p:nvSpPr>
        <p:spPr>
          <a:xfrm>
            <a:off x="4085280" y="3179880"/>
            <a:ext cx="4396320" cy="1312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rw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writers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wait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((nreaders == 0) &amp;&amp; ! bus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usy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1" name=""/>
          <p:cNvGrpSpPr/>
          <p:nvPr/>
        </p:nvGrpSpPr>
        <p:grpSpPr>
          <a:xfrm>
            <a:off x="542880" y="3726000"/>
            <a:ext cx="3352320" cy="2369880"/>
            <a:chOff x="542880" y="3726000"/>
            <a:chExt cx="3352320" cy="2369880"/>
          </a:xfrm>
        </p:grpSpPr>
        <p:sp>
          <p:nvSpPr>
            <p:cNvPr id="2192" name=""/>
            <p:cNvSpPr/>
            <p:nvPr/>
          </p:nvSpPr>
          <p:spPr>
            <a:xfrm>
              <a:off x="2473200" y="3726000"/>
              <a:ext cx="14220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R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42880" y="4030560"/>
              <a:ext cx="3263760" cy="20653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51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d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4" name=""/>
          <p:cNvSpPr/>
          <p:nvPr/>
        </p:nvSpPr>
        <p:spPr>
          <a:xfrm>
            <a:off x="623880" y="4191120"/>
            <a:ext cx="3124080" cy="8251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nwriters == 0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readers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19200" y="5445000"/>
            <a:ext cx="3124080" cy="5814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r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readers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4091040" y="4954680"/>
            <a:ext cx="4495680" cy="10688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rw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writers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usy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 txBox="1"/>
          <p:nvPr/>
        </p:nvSpPr>
        <p:spPr>
          <a:xfrm>
            <a:off x="5562720" y="1981080"/>
            <a:ext cx="2852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riters precedenc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6" dur="indefinite" restart="never" nodeType="tmRoot">
          <p:childTnLst>
            <p:seq>
              <p:cTn id="2417" dur="indefinite" nodeType="mainSeq">
                <p:childTnLst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5" dur="500"/>
                                        <p:tgtEl>
                                          <p:spTgt spid="2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0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5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500" fill="hold"/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0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0" dur="500"/>
                                        <p:tgtEl>
                                          <p:spTgt spid="2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2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2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7" dur="500"/>
                                        <p:tgtEl>
                                          <p:spTgt spid="2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2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2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2" dur="500" fill="hold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6" dur="500" fill="hold"/>
                                        <p:tgtEl>
                                          <p:spTgt spid="2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2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2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2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8" dur="500"/>
                                        <p:tgtEl>
                                          <p:spTgt spid="2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2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2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5" fill="hold">
                            <p:stCondLst>
                              <p:cond delay="500"/>
                            </p:stCondLst>
                            <p:childTnLst>
                              <p:par>
                                <p:cTn id="25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2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500" fill="hold"/>
                                        <p:tgtEl>
                                          <p:spTgt spid="2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9" name=""/>
          <p:cNvGrpSpPr/>
          <p:nvPr/>
        </p:nvGrpSpPr>
        <p:grpSpPr>
          <a:xfrm>
            <a:off x="1752480" y="2798640"/>
            <a:ext cx="3886200" cy="1925640"/>
            <a:chOff x="1752480" y="2798640"/>
            <a:chExt cx="3886200" cy="1925640"/>
          </a:xfrm>
        </p:grpSpPr>
        <p:grpSp>
          <p:nvGrpSpPr>
            <p:cNvPr id="2200" name=""/>
            <p:cNvGrpSpPr/>
            <p:nvPr/>
          </p:nvGrpSpPr>
          <p:grpSpPr>
            <a:xfrm>
              <a:off x="1752480" y="2927520"/>
              <a:ext cx="3886200" cy="1796760"/>
              <a:chOff x="1752480" y="2927520"/>
              <a:chExt cx="3886200" cy="1796760"/>
            </a:xfrm>
          </p:grpSpPr>
          <p:sp>
            <p:nvSpPr>
              <p:cNvPr id="2201" name=""/>
              <p:cNvSpPr/>
              <p:nvPr/>
            </p:nvSpPr>
            <p:spPr>
              <a:xfrm>
                <a:off x="1752480" y="2927520"/>
                <a:ext cx="3886200" cy="17967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259000" y="3376440"/>
                <a:ext cx="2873520" cy="898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836720" y="3017880"/>
                <a:ext cx="3718080" cy="1616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090880" y="3260880"/>
                <a:ext cx="3209760" cy="1168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5" name=""/>
            <p:cNvSpPr/>
            <p:nvPr/>
          </p:nvSpPr>
          <p:spPr>
            <a:xfrm>
              <a:off x="2590920" y="2798640"/>
              <a:ext cx="21333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6" name=""/>
          <p:cNvGrpSpPr/>
          <p:nvPr/>
        </p:nvGrpSpPr>
        <p:grpSpPr>
          <a:xfrm>
            <a:off x="3962520" y="2496960"/>
            <a:ext cx="838080" cy="459720"/>
            <a:chOff x="3962520" y="2496960"/>
            <a:chExt cx="838080" cy="459720"/>
          </a:xfrm>
        </p:grpSpPr>
        <p:sp>
          <p:nvSpPr>
            <p:cNvPr id="2207" name=""/>
            <p:cNvSpPr/>
            <p:nvPr/>
          </p:nvSpPr>
          <p:spPr>
            <a:xfrm>
              <a:off x="3962520" y="2874960"/>
              <a:ext cx="838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963960" y="24969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tr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9" name=""/>
          <p:cNvGrpSpPr/>
          <p:nvPr/>
        </p:nvGrpSpPr>
        <p:grpSpPr>
          <a:xfrm>
            <a:off x="3847320" y="3411360"/>
            <a:ext cx="953280" cy="459720"/>
            <a:chOff x="3847320" y="3411360"/>
            <a:chExt cx="953280" cy="459720"/>
          </a:xfrm>
        </p:grpSpPr>
        <p:sp>
          <p:nvSpPr>
            <p:cNvPr id="2210" name=""/>
            <p:cNvSpPr/>
            <p:nvPr/>
          </p:nvSpPr>
          <p:spPr>
            <a:xfrm>
              <a:off x="3962520" y="3459240"/>
              <a:ext cx="838080" cy="177840"/>
            </a:xfrm>
            <a:custGeom>
              <a:avLst/>
              <a:gdLst/>
              <a:ahLst/>
              <a:rect l="l" t="t" r="r" b="b"/>
              <a:pathLst>
                <a:path w="528" h="112">
                  <a:moveTo>
                    <a:pt x="0" y="16"/>
                  </a:moveTo>
                  <a:cubicBezTo>
                    <a:pt x="100" y="8"/>
                    <a:pt x="200" y="0"/>
                    <a:pt x="288" y="16"/>
                  </a:cubicBezTo>
                  <a:cubicBezTo>
                    <a:pt x="376" y="32"/>
                    <a:pt x="452" y="72"/>
                    <a:pt x="528" y="112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847320" y="34113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Arial"/>
                </a:rPr>
                <a:t>fa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2" name=""/>
          <p:cNvSpPr/>
          <p:nvPr/>
        </p:nvSpPr>
        <p:spPr>
          <a:xfrm>
            <a:off x="5489280" y="26496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505320" y="2209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oolExp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4" name=""/>
          <p:cNvGrpSpPr/>
          <p:nvPr/>
        </p:nvGrpSpPr>
        <p:grpSpPr>
          <a:xfrm>
            <a:off x="380880" y="2388240"/>
            <a:ext cx="1524240" cy="1652760"/>
            <a:chOff x="380880" y="2388240"/>
            <a:chExt cx="1524240" cy="1652760"/>
          </a:xfrm>
        </p:grpSpPr>
        <p:grpSp>
          <p:nvGrpSpPr>
            <p:cNvPr id="2215" name=""/>
            <p:cNvGrpSpPr/>
            <p:nvPr/>
          </p:nvGrpSpPr>
          <p:grpSpPr>
            <a:xfrm>
              <a:off x="785880" y="2388240"/>
              <a:ext cx="839520" cy="1040760"/>
              <a:chOff x="785880" y="2388240"/>
              <a:chExt cx="839520" cy="1040760"/>
            </a:xfrm>
          </p:grpSpPr>
          <p:sp>
            <p:nvSpPr>
              <p:cNvPr id="2216" name=""/>
              <p:cNvSpPr/>
              <p:nvPr/>
            </p:nvSpPr>
            <p:spPr>
              <a:xfrm>
                <a:off x="929520" y="2514600"/>
                <a:ext cx="125640" cy="9144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7" name=""/>
              <p:cNvGrpSpPr/>
              <p:nvPr/>
            </p:nvGrpSpPr>
            <p:grpSpPr>
              <a:xfrm>
                <a:off x="785880" y="2388240"/>
                <a:ext cx="839520" cy="529200"/>
                <a:chOff x="785880" y="2388240"/>
                <a:chExt cx="839520" cy="529200"/>
              </a:xfrm>
            </p:grpSpPr>
            <p:sp>
              <p:nvSpPr>
                <p:cNvPr id="2218" name=""/>
                <p:cNvSpPr/>
                <p:nvPr/>
              </p:nvSpPr>
              <p:spPr>
                <a:xfrm rot="3885600">
                  <a:off x="1067040" y="2404800"/>
                  <a:ext cx="75960" cy="6706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9" name=""/>
                <p:cNvGrpSpPr/>
                <p:nvPr/>
              </p:nvGrpSpPr>
              <p:grpSpPr>
                <a:xfrm>
                  <a:off x="1192320" y="2388240"/>
                  <a:ext cx="433080" cy="418680"/>
                  <a:chOff x="1192320" y="2388240"/>
                  <a:chExt cx="433080" cy="418680"/>
                </a:xfrm>
              </p:grpSpPr>
              <p:sp>
                <p:nvSpPr>
                  <p:cNvPr id="2220" name=""/>
                  <p:cNvSpPr/>
                  <p:nvPr/>
                </p:nvSpPr>
                <p:spPr>
                  <a:xfrm rot="3885600">
                    <a:off x="1256400" y="2430000"/>
                    <a:ext cx="30492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 rot="3885600">
                    <a:off x="1332360" y="2513520"/>
                    <a:ext cx="1526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22" name=""/>
            <p:cNvSpPr/>
            <p:nvPr/>
          </p:nvSpPr>
          <p:spPr>
            <a:xfrm>
              <a:off x="380880" y="3581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te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784080" y="2388240"/>
            <a:ext cx="839520" cy="1040760"/>
            <a:chOff x="784080" y="2388240"/>
            <a:chExt cx="839520" cy="1040760"/>
          </a:xfrm>
        </p:grpSpPr>
        <p:sp>
          <p:nvSpPr>
            <p:cNvPr id="2224" name=""/>
            <p:cNvSpPr/>
            <p:nvPr/>
          </p:nvSpPr>
          <p:spPr>
            <a:xfrm>
              <a:off x="928080" y="2514600"/>
              <a:ext cx="12564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5" name=""/>
            <p:cNvGrpSpPr/>
            <p:nvPr/>
          </p:nvGrpSpPr>
          <p:grpSpPr>
            <a:xfrm>
              <a:off x="784080" y="2388240"/>
              <a:ext cx="839520" cy="529200"/>
              <a:chOff x="784080" y="2388240"/>
              <a:chExt cx="839520" cy="529200"/>
            </a:xfrm>
          </p:grpSpPr>
          <p:sp>
            <p:nvSpPr>
              <p:cNvPr id="2226" name=""/>
              <p:cNvSpPr/>
              <p:nvPr/>
            </p:nvSpPr>
            <p:spPr>
              <a:xfrm rot="3885600">
                <a:off x="1065240" y="2404800"/>
                <a:ext cx="75960" cy="67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7" name=""/>
              <p:cNvGrpSpPr/>
              <p:nvPr/>
            </p:nvGrpSpPr>
            <p:grpSpPr>
              <a:xfrm>
                <a:off x="1190520" y="2388240"/>
                <a:ext cx="433080" cy="418680"/>
                <a:chOff x="1190520" y="2388240"/>
                <a:chExt cx="433080" cy="418680"/>
              </a:xfrm>
            </p:grpSpPr>
            <p:sp>
              <p:nvSpPr>
                <p:cNvPr id="2228" name=""/>
                <p:cNvSpPr/>
                <p:nvPr/>
              </p:nvSpPr>
              <p:spPr>
                <a:xfrm rot="3885600">
                  <a:off x="1254600" y="2430000"/>
                  <a:ext cx="304920" cy="335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rot="3885600">
                  <a:off x="1330560" y="251352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0" name=""/>
          <p:cNvGrpSpPr/>
          <p:nvPr/>
        </p:nvGrpSpPr>
        <p:grpSpPr>
          <a:xfrm>
            <a:off x="761760" y="2514600"/>
            <a:ext cx="839880" cy="914400"/>
            <a:chOff x="761760" y="2514600"/>
            <a:chExt cx="839880" cy="914400"/>
          </a:xfrm>
        </p:grpSpPr>
        <p:sp>
          <p:nvSpPr>
            <p:cNvPr id="2231" name=""/>
            <p:cNvSpPr/>
            <p:nvPr/>
          </p:nvSpPr>
          <p:spPr>
            <a:xfrm>
              <a:off x="930240" y="2514600"/>
              <a:ext cx="12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2" name=""/>
            <p:cNvGrpSpPr/>
            <p:nvPr/>
          </p:nvGrpSpPr>
          <p:grpSpPr>
            <a:xfrm>
              <a:off x="761760" y="2553840"/>
              <a:ext cx="839880" cy="307800"/>
              <a:chOff x="761760" y="2553840"/>
              <a:chExt cx="839880" cy="307800"/>
            </a:xfrm>
          </p:grpSpPr>
          <p:sp>
            <p:nvSpPr>
              <p:cNvPr id="2233" name=""/>
              <p:cNvSpPr/>
              <p:nvPr/>
            </p:nvSpPr>
            <p:spPr>
              <a:xfrm rot="5434200">
                <a:off x="1059120" y="2368440"/>
                <a:ext cx="75960" cy="6706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4" name=""/>
              <p:cNvGrpSpPr/>
              <p:nvPr/>
            </p:nvGrpSpPr>
            <p:grpSpPr>
              <a:xfrm>
                <a:off x="1263600" y="2553840"/>
                <a:ext cx="338040" cy="307800"/>
                <a:chOff x="1263600" y="2553840"/>
                <a:chExt cx="338040" cy="307800"/>
              </a:xfrm>
            </p:grpSpPr>
            <p:sp>
              <p:nvSpPr>
                <p:cNvPr id="2235" name=""/>
                <p:cNvSpPr/>
                <p:nvPr/>
              </p:nvSpPr>
              <p:spPr>
                <a:xfrm rot="5434200">
                  <a:off x="1280160" y="2539800"/>
                  <a:ext cx="30456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rot="5434200">
                  <a:off x="1356480" y="2623320"/>
                  <a:ext cx="15228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7" name=""/>
          <p:cNvGrpSpPr/>
          <p:nvPr/>
        </p:nvGrpSpPr>
        <p:grpSpPr>
          <a:xfrm>
            <a:off x="2133720" y="3733920"/>
            <a:ext cx="1220040" cy="1526400"/>
            <a:chOff x="2133720" y="3733920"/>
            <a:chExt cx="1220040" cy="1526400"/>
          </a:xfrm>
        </p:grpSpPr>
        <p:grpSp>
          <p:nvGrpSpPr>
            <p:cNvPr id="2238" name=""/>
            <p:cNvGrpSpPr/>
            <p:nvPr/>
          </p:nvGrpSpPr>
          <p:grpSpPr>
            <a:xfrm>
              <a:off x="2513880" y="3733920"/>
              <a:ext cx="839880" cy="914400"/>
              <a:chOff x="2513880" y="3733920"/>
              <a:chExt cx="839880" cy="914400"/>
            </a:xfrm>
          </p:grpSpPr>
          <p:sp>
            <p:nvSpPr>
              <p:cNvPr id="2239" name=""/>
              <p:cNvSpPr/>
              <p:nvPr/>
            </p:nvSpPr>
            <p:spPr>
              <a:xfrm>
                <a:off x="2682360" y="3733920"/>
                <a:ext cx="124920" cy="9144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0" name=""/>
              <p:cNvGrpSpPr/>
              <p:nvPr/>
            </p:nvGrpSpPr>
            <p:grpSpPr>
              <a:xfrm>
                <a:off x="2513880" y="3773160"/>
                <a:ext cx="839880" cy="307800"/>
                <a:chOff x="2513880" y="3773160"/>
                <a:chExt cx="839880" cy="307800"/>
              </a:xfrm>
            </p:grpSpPr>
            <p:sp>
              <p:nvSpPr>
                <p:cNvPr id="2241" name=""/>
                <p:cNvSpPr/>
                <p:nvPr/>
              </p:nvSpPr>
              <p:spPr>
                <a:xfrm rot="5434200">
                  <a:off x="2811240" y="3587760"/>
                  <a:ext cx="75960" cy="67068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2" name=""/>
                <p:cNvGrpSpPr/>
                <p:nvPr/>
              </p:nvGrpSpPr>
              <p:grpSpPr>
                <a:xfrm>
                  <a:off x="3015720" y="3773160"/>
                  <a:ext cx="338040" cy="307800"/>
                  <a:chOff x="3015720" y="3773160"/>
                  <a:chExt cx="338040" cy="307800"/>
                </a:xfrm>
              </p:grpSpPr>
              <p:sp>
                <p:nvSpPr>
                  <p:cNvPr id="2243" name=""/>
                  <p:cNvSpPr/>
                  <p:nvPr/>
                </p:nvSpPr>
                <p:spPr>
                  <a:xfrm rot="5434200">
                    <a:off x="3032280" y="375912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 rot="5434200">
                    <a:off x="3108600" y="384264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45" name=""/>
            <p:cNvSpPr/>
            <p:nvPr/>
          </p:nvSpPr>
          <p:spPr>
            <a:xfrm>
              <a:off x="21337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6" name=""/>
          <p:cNvGrpSpPr/>
          <p:nvPr/>
        </p:nvGrpSpPr>
        <p:grpSpPr>
          <a:xfrm>
            <a:off x="1066680" y="3027240"/>
            <a:ext cx="7238880" cy="304920"/>
            <a:chOff x="1066680" y="3027240"/>
            <a:chExt cx="7238880" cy="304920"/>
          </a:xfrm>
        </p:grpSpPr>
        <p:sp>
          <p:nvSpPr>
            <p:cNvPr id="2247" name=""/>
            <p:cNvSpPr/>
            <p:nvPr/>
          </p:nvSpPr>
          <p:spPr>
            <a:xfrm>
              <a:off x="1143000" y="3027240"/>
              <a:ext cx="7162560" cy="304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066680" y="309240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066680" y="324468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50" name=""/>
          <p:cNvGraphicFramePr/>
          <p:nvPr/>
        </p:nvGraphicFramePr>
        <p:xfrm>
          <a:off x="1752480" y="2749680"/>
          <a:ext cx="914400" cy="46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2749680"/>
                    <a:ext cx="9144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8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3" dur="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8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fill="hold">
                            <p:stCondLst>
                              <p:cond delay="500"/>
                            </p:stCondLst>
                            <p:childTnLst>
                              <p:par>
                                <p:cTn id="2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2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6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1" dur="5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2" fill="hold">
                            <p:stCondLst>
                              <p:cond delay="500"/>
                            </p:stCondLst>
                            <p:childTnLst>
                              <p:par>
                                <p:cTn id="2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5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0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5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500"/>
                            </p:stCondLst>
                            <p:childTnLst>
                              <p:par>
                                <p:cTn id="2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5489280" y="26496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4" name=""/>
          <p:cNvGrpSpPr/>
          <p:nvPr/>
        </p:nvGrpSpPr>
        <p:grpSpPr>
          <a:xfrm>
            <a:off x="761760" y="2209680"/>
            <a:ext cx="7543800" cy="3050640"/>
            <a:chOff x="761760" y="2209680"/>
            <a:chExt cx="7543800" cy="3050640"/>
          </a:xfrm>
        </p:grpSpPr>
        <p:sp>
          <p:nvSpPr>
            <p:cNvPr id="2255" name=""/>
            <p:cNvSpPr/>
            <p:nvPr/>
          </p:nvSpPr>
          <p:spPr>
            <a:xfrm>
              <a:off x="1752480" y="2927520"/>
              <a:ext cx="3886200" cy="17967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259000" y="3376440"/>
              <a:ext cx="2873520" cy="89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836720" y="3017880"/>
              <a:ext cx="3718080" cy="1616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1066680" y="3027240"/>
              <a:ext cx="7238880" cy="304920"/>
              <a:chOff x="1066680" y="3027240"/>
              <a:chExt cx="7238880" cy="304920"/>
            </a:xfrm>
          </p:grpSpPr>
          <p:sp>
            <p:nvSpPr>
              <p:cNvPr id="2259" name=""/>
              <p:cNvSpPr/>
              <p:nvPr/>
            </p:nvSpPr>
            <p:spPr>
              <a:xfrm>
                <a:off x="1143000" y="3027240"/>
                <a:ext cx="716256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066680" y="309240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066680" y="324468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2" name=""/>
            <p:cNvSpPr/>
            <p:nvPr/>
          </p:nvSpPr>
          <p:spPr>
            <a:xfrm>
              <a:off x="2090880" y="3260880"/>
              <a:ext cx="3209760" cy="1168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590920" y="2798640"/>
              <a:ext cx="21333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962520" y="3459240"/>
              <a:ext cx="838080" cy="177840"/>
            </a:xfrm>
            <a:custGeom>
              <a:avLst/>
              <a:gdLst/>
              <a:ahLst/>
              <a:rect l="l" t="t" r="r" b="b"/>
              <a:pathLst>
                <a:path w="528" h="112">
                  <a:moveTo>
                    <a:pt x="0" y="16"/>
                  </a:moveTo>
                  <a:cubicBezTo>
                    <a:pt x="100" y="8"/>
                    <a:pt x="200" y="0"/>
                    <a:pt x="288" y="16"/>
                  </a:cubicBezTo>
                  <a:cubicBezTo>
                    <a:pt x="376" y="32"/>
                    <a:pt x="452" y="72"/>
                    <a:pt x="528" y="112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962520" y="2874960"/>
              <a:ext cx="838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963960" y="24969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tr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847320" y="34113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Arial"/>
                </a:rPr>
                <a:t>fa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505320" y="2209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BoolExpr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9" name=""/>
            <p:cNvGrpSpPr/>
            <p:nvPr/>
          </p:nvGrpSpPr>
          <p:grpSpPr>
            <a:xfrm>
              <a:off x="1828800" y="3733920"/>
              <a:ext cx="1220400" cy="1526400"/>
              <a:chOff x="1828800" y="3733920"/>
              <a:chExt cx="1220400" cy="1526400"/>
            </a:xfrm>
          </p:grpSpPr>
          <p:grpSp>
            <p:nvGrpSpPr>
              <p:cNvPr id="2270" name=""/>
              <p:cNvGrpSpPr/>
              <p:nvPr/>
            </p:nvGrpSpPr>
            <p:grpSpPr>
              <a:xfrm>
                <a:off x="2209320" y="3733920"/>
                <a:ext cx="839880" cy="914400"/>
                <a:chOff x="2209320" y="3733920"/>
                <a:chExt cx="839880" cy="914400"/>
              </a:xfrm>
            </p:grpSpPr>
            <p:sp>
              <p:nvSpPr>
                <p:cNvPr id="2271" name=""/>
                <p:cNvSpPr/>
                <p:nvPr/>
              </p:nvSpPr>
              <p:spPr>
                <a:xfrm>
                  <a:off x="2378160" y="3733920"/>
                  <a:ext cx="125280" cy="9144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2" name=""/>
                <p:cNvGrpSpPr/>
                <p:nvPr/>
              </p:nvGrpSpPr>
              <p:grpSpPr>
                <a:xfrm>
                  <a:off x="2209320" y="3773160"/>
                  <a:ext cx="839880" cy="307800"/>
                  <a:chOff x="2209320" y="3773160"/>
                  <a:chExt cx="839880" cy="307800"/>
                </a:xfrm>
              </p:grpSpPr>
              <p:sp>
                <p:nvSpPr>
                  <p:cNvPr id="2273" name=""/>
                  <p:cNvSpPr/>
                  <p:nvPr/>
                </p:nvSpPr>
                <p:spPr>
                  <a:xfrm rot="5434200">
                    <a:off x="2506680" y="3587760"/>
                    <a:ext cx="75960" cy="6706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74" name=""/>
                  <p:cNvGrpSpPr/>
                  <p:nvPr/>
                </p:nvGrpSpPr>
                <p:grpSpPr>
                  <a:xfrm>
                    <a:off x="2711160" y="3773160"/>
                    <a:ext cx="338040" cy="307800"/>
                    <a:chOff x="2711160" y="3773160"/>
                    <a:chExt cx="338040" cy="307800"/>
                  </a:xfrm>
                </p:grpSpPr>
                <p:sp>
                  <p:nvSpPr>
                    <p:cNvPr id="2275" name=""/>
                    <p:cNvSpPr/>
                    <p:nvPr/>
                  </p:nvSpPr>
                  <p:spPr>
                    <a:xfrm rot="5434200">
                      <a:off x="2727720" y="3759120"/>
                      <a:ext cx="304560" cy="335160"/>
                    </a:xfrm>
                    <a:prstGeom prst="ellipse">
                      <a:avLst/>
                    </a:prstGeom>
                    <a:solidFill>
                      <a:srgbClr val="fc0128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6" name=""/>
                    <p:cNvSpPr/>
                    <p:nvPr/>
                  </p:nvSpPr>
                  <p:spPr>
                    <a:xfrm rot="5434200">
                      <a:off x="2804040" y="3842640"/>
                      <a:ext cx="152280" cy="167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77" name=""/>
              <p:cNvSpPr/>
              <p:nvPr/>
            </p:nvSpPr>
            <p:spPr>
              <a:xfrm>
                <a:off x="1828800" y="480060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ela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8" name=""/>
            <p:cNvGrpSpPr/>
            <p:nvPr/>
          </p:nvGrpSpPr>
          <p:grpSpPr>
            <a:xfrm>
              <a:off x="784080" y="2388240"/>
              <a:ext cx="839520" cy="1040760"/>
              <a:chOff x="784080" y="2388240"/>
              <a:chExt cx="839520" cy="1040760"/>
            </a:xfrm>
          </p:grpSpPr>
          <p:sp>
            <p:nvSpPr>
              <p:cNvPr id="2279" name=""/>
              <p:cNvSpPr/>
              <p:nvPr/>
            </p:nvSpPr>
            <p:spPr>
              <a:xfrm>
                <a:off x="928080" y="2514600"/>
                <a:ext cx="12564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0" name=""/>
              <p:cNvGrpSpPr/>
              <p:nvPr/>
            </p:nvGrpSpPr>
            <p:grpSpPr>
              <a:xfrm>
                <a:off x="784080" y="2388240"/>
                <a:ext cx="839520" cy="529200"/>
                <a:chOff x="784080" y="2388240"/>
                <a:chExt cx="839520" cy="529200"/>
              </a:xfrm>
            </p:grpSpPr>
            <p:sp>
              <p:nvSpPr>
                <p:cNvPr id="2281" name=""/>
                <p:cNvSpPr/>
                <p:nvPr/>
              </p:nvSpPr>
              <p:spPr>
                <a:xfrm rot="3885600">
                  <a:off x="1065240" y="2404800"/>
                  <a:ext cx="75960" cy="670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2" name=""/>
                <p:cNvGrpSpPr/>
                <p:nvPr/>
              </p:nvGrpSpPr>
              <p:grpSpPr>
                <a:xfrm>
                  <a:off x="1190520" y="2388240"/>
                  <a:ext cx="433080" cy="418680"/>
                  <a:chOff x="1190520" y="2388240"/>
                  <a:chExt cx="433080" cy="418680"/>
                </a:xfrm>
              </p:grpSpPr>
              <p:sp>
                <p:nvSpPr>
                  <p:cNvPr id="2283" name=""/>
                  <p:cNvSpPr/>
                  <p:nvPr/>
                </p:nvSpPr>
                <p:spPr>
                  <a:xfrm rot="3885600">
                    <a:off x="1254600" y="2430000"/>
                    <a:ext cx="304920" cy="335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 rot="3885600">
                    <a:off x="1330560" y="2513520"/>
                    <a:ext cx="1526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85" name=""/>
            <p:cNvGrpSpPr/>
            <p:nvPr/>
          </p:nvGrpSpPr>
          <p:grpSpPr>
            <a:xfrm>
              <a:off x="761760" y="2514600"/>
              <a:ext cx="839880" cy="914400"/>
              <a:chOff x="761760" y="2514600"/>
              <a:chExt cx="839880" cy="914400"/>
            </a:xfrm>
          </p:grpSpPr>
          <p:sp>
            <p:nvSpPr>
              <p:cNvPr id="2286" name=""/>
              <p:cNvSpPr/>
              <p:nvPr/>
            </p:nvSpPr>
            <p:spPr>
              <a:xfrm>
                <a:off x="930240" y="2514600"/>
                <a:ext cx="124920" cy="9144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7" name=""/>
              <p:cNvGrpSpPr/>
              <p:nvPr/>
            </p:nvGrpSpPr>
            <p:grpSpPr>
              <a:xfrm>
                <a:off x="761760" y="2553840"/>
                <a:ext cx="839880" cy="307800"/>
                <a:chOff x="761760" y="2553840"/>
                <a:chExt cx="839880" cy="307800"/>
              </a:xfrm>
            </p:grpSpPr>
            <p:sp>
              <p:nvSpPr>
                <p:cNvPr id="2288" name=""/>
                <p:cNvSpPr/>
                <p:nvPr/>
              </p:nvSpPr>
              <p:spPr>
                <a:xfrm rot="5434200">
                  <a:off x="1059120" y="2368440"/>
                  <a:ext cx="75960" cy="67068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9" name=""/>
                <p:cNvGrpSpPr/>
                <p:nvPr/>
              </p:nvGrpSpPr>
              <p:grpSpPr>
                <a:xfrm>
                  <a:off x="1263600" y="2553840"/>
                  <a:ext cx="338040" cy="307800"/>
                  <a:chOff x="1263600" y="2553840"/>
                  <a:chExt cx="338040" cy="307800"/>
                </a:xfrm>
              </p:grpSpPr>
              <p:sp>
                <p:nvSpPr>
                  <p:cNvPr id="2290" name=""/>
                  <p:cNvSpPr/>
                  <p:nvPr/>
                </p:nvSpPr>
                <p:spPr>
                  <a:xfrm rot="5434200">
                    <a:off x="1280160" y="253980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 rot="5434200">
                    <a:off x="1356480" y="262332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92" name=""/>
            <p:cNvSpPr/>
            <p:nvPr/>
          </p:nvSpPr>
          <p:spPr>
            <a:xfrm>
              <a:off x="1414440" y="4835520"/>
              <a:ext cx="1440" cy="1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 rot="495600">
              <a:off x="2842920" y="4143240"/>
              <a:ext cx="912600" cy="46980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 rot="20461800">
              <a:off x="4191120" y="4025880"/>
              <a:ext cx="912600" cy="46980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5" name=""/>
          <p:cNvSpPr/>
          <p:nvPr/>
        </p:nvSpPr>
        <p:spPr>
          <a:xfrm>
            <a:off x="1143000" y="2743200"/>
            <a:ext cx="912960" cy="46980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6" name=""/>
          <p:cNvGraphicFramePr/>
          <p:nvPr/>
        </p:nvGraphicFramePr>
        <p:xfrm>
          <a:off x="7467480" y="2787480"/>
          <a:ext cx="9144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67480" y="2787480"/>
                    <a:ext cx="9144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8" name=""/>
          <p:cNvSpPr/>
          <p:nvPr/>
        </p:nvSpPr>
        <p:spPr>
          <a:xfrm flipH="1" flipV="1">
            <a:off x="5104800" y="3429000"/>
            <a:ext cx="2895480" cy="1752480"/>
          </a:xfrm>
          <a:custGeom>
            <a:avLst/>
            <a:gdLst>
              <a:gd name="textAreaLeft" fmla="*/ -360 w 2895480"/>
              <a:gd name="textAreaRight" fmla="*/ 2895480 w 2895480"/>
              <a:gd name="textAreaTop" fmla="*/ 360 h 1752480"/>
              <a:gd name="textAreaBottom" fmla="*/ 1753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269" stAng="10800000" swAng="5400000"/>
                <a:lnTo>
                  <a:pt x="18049" y="4891"/>
                </a:lnTo>
                <a:lnTo>
                  <a:pt x="18049" y="0"/>
                </a:lnTo>
                <a:lnTo>
                  <a:pt x="21600" y="6079"/>
                </a:lnTo>
                <a:lnTo>
                  <a:pt x="18049" y="12158"/>
                </a:lnTo>
                <a:lnTo>
                  <a:pt x="18049" y="7267"/>
                </a:lnTo>
                <a:lnTo>
                  <a:pt x="12427" y="7267"/>
                </a:lnTo>
                <a:arcTo wR="10051" hR="4893" stAng="16200000" swAng="-5400000"/>
                <a:lnTo>
                  <a:pt x="2376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5521680" y="4797360"/>
            <a:ext cx="27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: Reevaluat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x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2" dur="indefinite" restart="never" nodeType="tmRoot">
          <p:childTnLst>
            <p:seq>
              <p:cTn id="2603" dur="indefinite" nodeType="mainSeq">
                <p:childTnLst>
                  <p:par>
                    <p:cTn id="2604" fill="hold">
                      <p:stCondLst>
                        <p:cond delay="0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5" fill="hold">
                            <p:stCondLst>
                              <p:cond delay="500"/>
                            </p:stCondLst>
                            <p:childTnLst>
                              <p:par>
                                <p:cTn id="26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8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3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1" name=""/>
          <p:cNvGrpSpPr/>
          <p:nvPr/>
        </p:nvGrpSpPr>
        <p:grpSpPr>
          <a:xfrm>
            <a:off x="1828800" y="4800600"/>
            <a:ext cx="5562720" cy="304920"/>
            <a:chOff x="1828800" y="4800600"/>
            <a:chExt cx="5562720" cy="304920"/>
          </a:xfrm>
        </p:grpSpPr>
        <p:sp>
          <p:nvSpPr>
            <p:cNvPr id="2302" name=""/>
            <p:cNvSpPr/>
            <p:nvPr/>
          </p:nvSpPr>
          <p:spPr>
            <a:xfrm>
              <a:off x="1887120" y="4800600"/>
              <a:ext cx="5504040" cy="304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828800" y="4865760"/>
              <a:ext cx="556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828800" y="5018040"/>
              <a:ext cx="556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5" name=""/>
          <p:cNvGrpSpPr/>
          <p:nvPr/>
        </p:nvGrpSpPr>
        <p:grpSpPr>
          <a:xfrm>
            <a:off x="1523880" y="4191120"/>
            <a:ext cx="1220400" cy="1526400"/>
            <a:chOff x="1523880" y="4191120"/>
            <a:chExt cx="1220400" cy="1526400"/>
          </a:xfrm>
        </p:grpSpPr>
        <p:grpSp>
          <p:nvGrpSpPr>
            <p:cNvPr id="2306" name=""/>
            <p:cNvGrpSpPr/>
            <p:nvPr/>
          </p:nvGrpSpPr>
          <p:grpSpPr>
            <a:xfrm>
              <a:off x="1904400" y="4191120"/>
              <a:ext cx="839880" cy="914400"/>
              <a:chOff x="1904400" y="4191120"/>
              <a:chExt cx="839880" cy="914400"/>
            </a:xfrm>
          </p:grpSpPr>
          <p:sp>
            <p:nvSpPr>
              <p:cNvPr id="2307" name=""/>
              <p:cNvSpPr/>
              <p:nvPr/>
            </p:nvSpPr>
            <p:spPr>
              <a:xfrm>
                <a:off x="2073240" y="4191120"/>
                <a:ext cx="125280" cy="9144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8" name=""/>
              <p:cNvGrpSpPr/>
              <p:nvPr/>
            </p:nvGrpSpPr>
            <p:grpSpPr>
              <a:xfrm>
                <a:off x="1904400" y="4230360"/>
                <a:ext cx="839880" cy="307800"/>
                <a:chOff x="1904400" y="4230360"/>
                <a:chExt cx="839880" cy="307800"/>
              </a:xfrm>
            </p:grpSpPr>
            <p:sp>
              <p:nvSpPr>
                <p:cNvPr id="2309" name=""/>
                <p:cNvSpPr/>
                <p:nvPr/>
              </p:nvSpPr>
              <p:spPr>
                <a:xfrm rot="5434200">
                  <a:off x="2201760" y="4044960"/>
                  <a:ext cx="75960" cy="6706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0" name=""/>
                <p:cNvGrpSpPr/>
                <p:nvPr/>
              </p:nvGrpSpPr>
              <p:grpSpPr>
                <a:xfrm>
                  <a:off x="2406240" y="4230360"/>
                  <a:ext cx="338040" cy="307800"/>
                  <a:chOff x="2406240" y="4230360"/>
                  <a:chExt cx="338040" cy="307800"/>
                </a:xfrm>
              </p:grpSpPr>
              <p:sp>
                <p:nvSpPr>
                  <p:cNvPr id="2311" name=""/>
                  <p:cNvSpPr/>
                  <p:nvPr/>
                </p:nvSpPr>
                <p:spPr>
                  <a:xfrm rot="5434200">
                    <a:off x="2422800" y="421632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 rot="5434200">
                    <a:off x="2499120" y="429984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13" name=""/>
            <p:cNvSpPr/>
            <p:nvPr/>
          </p:nvSpPr>
          <p:spPr>
            <a:xfrm>
              <a:off x="1523880" y="52578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ay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648320" y="4267080"/>
            <a:ext cx="1220040" cy="1526400"/>
            <a:chOff x="4648320" y="4267080"/>
            <a:chExt cx="1220040" cy="1526400"/>
          </a:xfrm>
        </p:grpSpPr>
        <p:grpSp>
          <p:nvGrpSpPr>
            <p:cNvPr id="2315" name=""/>
            <p:cNvGrpSpPr/>
            <p:nvPr/>
          </p:nvGrpSpPr>
          <p:grpSpPr>
            <a:xfrm>
              <a:off x="5028480" y="4267080"/>
              <a:ext cx="839880" cy="914400"/>
              <a:chOff x="5028480" y="4267080"/>
              <a:chExt cx="839880" cy="914400"/>
            </a:xfrm>
          </p:grpSpPr>
          <p:sp>
            <p:nvSpPr>
              <p:cNvPr id="2316" name=""/>
              <p:cNvSpPr/>
              <p:nvPr/>
            </p:nvSpPr>
            <p:spPr>
              <a:xfrm>
                <a:off x="5196960" y="4267080"/>
                <a:ext cx="124920" cy="9144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7" name=""/>
              <p:cNvGrpSpPr/>
              <p:nvPr/>
            </p:nvGrpSpPr>
            <p:grpSpPr>
              <a:xfrm>
                <a:off x="5028480" y="4306320"/>
                <a:ext cx="839880" cy="307800"/>
                <a:chOff x="5028480" y="4306320"/>
                <a:chExt cx="839880" cy="307800"/>
              </a:xfrm>
            </p:grpSpPr>
            <p:sp>
              <p:nvSpPr>
                <p:cNvPr id="2318" name=""/>
                <p:cNvSpPr/>
                <p:nvPr/>
              </p:nvSpPr>
              <p:spPr>
                <a:xfrm rot="5434200">
                  <a:off x="5325840" y="4120920"/>
                  <a:ext cx="75960" cy="6706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9" name=""/>
                <p:cNvGrpSpPr/>
                <p:nvPr/>
              </p:nvGrpSpPr>
              <p:grpSpPr>
                <a:xfrm>
                  <a:off x="5530320" y="4306320"/>
                  <a:ext cx="338040" cy="307800"/>
                  <a:chOff x="5530320" y="4306320"/>
                  <a:chExt cx="338040" cy="307800"/>
                </a:xfrm>
              </p:grpSpPr>
              <p:sp>
                <p:nvSpPr>
                  <p:cNvPr id="2320" name=""/>
                  <p:cNvSpPr/>
                  <p:nvPr/>
                </p:nvSpPr>
                <p:spPr>
                  <a:xfrm rot="5434200">
                    <a:off x="5546880" y="429228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 rot="5434200">
                    <a:off x="5623200" y="437580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22" name=""/>
            <p:cNvSpPr/>
            <p:nvPr/>
          </p:nvSpPr>
          <p:spPr>
            <a:xfrm>
              <a:off x="4648320" y="5333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ay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914400" y="2590920"/>
            <a:ext cx="7010280" cy="2666880"/>
            <a:chOff x="914400" y="2590920"/>
            <a:chExt cx="7010280" cy="2666880"/>
          </a:xfrm>
        </p:grpSpPr>
        <p:sp>
          <p:nvSpPr>
            <p:cNvPr id="2324" name=""/>
            <p:cNvSpPr/>
            <p:nvPr/>
          </p:nvSpPr>
          <p:spPr>
            <a:xfrm>
              <a:off x="914400" y="2895480"/>
              <a:ext cx="838080" cy="2362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191120" y="2590920"/>
              <a:ext cx="3733560" cy="2133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6" name=""/>
          <p:cNvSpPr/>
          <p:nvPr/>
        </p:nvSpPr>
        <p:spPr>
          <a:xfrm>
            <a:off x="4044600" y="1525680"/>
            <a:ext cx="45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No assumption about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cheduling of semaphor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7" name=""/>
          <p:cNvGrpSpPr/>
          <p:nvPr/>
        </p:nvGrpSpPr>
        <p:grpSpPr>
          <a:xfrm>
            <a:off x="472320" y="1745640"/>
            <a:ext cx="3642120" cy="2265480"/>
            <a:chOff x="472320" y="1745640"/>
            <a:chExt cx="3642120" cy="2265480"/>
          </a:xfrm>
        </p:grpSpPr>
        <p:sp>
          <p:nvSpPr>
            <p:cNvPr id="2328" name=""/>
            <p:cNvSpPr/>
            <p:nvPr/>
          </p:nvSpPr>
          <p:spPr>
            <a:xfrm>
              <a:off x="1146960" y="2150640"/>
              <a:ext cx="2702520" cy="14007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499400" y="2500560"/>
              <a:ext cx="1998000" cy="70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205640" y="2221200"/>
              <a:ext cx="2585520" cy="1260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669960" y="2184120"/>
              <a:ext cx="3444480" cy="312480"/>
              <a:chOff x="669960" y="2184120"/>
              <a:chExt cx="3444480" cy="312480"/>
            </a:xfrm>
          </p:grpSpPr>
          <p:sp>
            <p:nvSpPr>
              <p:cNvPr id="2332" name=""/>
              <p:cNvSpPr/>
              <p:nvPr/>
            </p:nvSpPr>
            <p:spPr>
              <a:xfrm>
                <a:off x="705960" y="2184120"/>
                <a:ext cx="3408120" cy="3124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69960" y="2250720"/>
                <a:ext cx="344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69960" y="2406960"/>
                <a:ext cx="344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5" name=""/>
            <p:cNvSpPr/>
            <p:nvPr/>
          </p:nvSpPr>
          <p:spPr>
            <a:xfrm>
              <a:off x="1382400" y="2410560"/>
              <a:ext cx="2232000" cy="910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730160" y="2050200"/>
              <a:ext cx="1483560" cy="17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683800" y="2565000"/>
              <a:ext cx="582480" cy="138600"/>
            </a:xfrm>
            <a:custGeom>
              <a:avLst/>
              <a:gdLst/>
              <a:ahLst/>
              <a:rect l="l" t="t" r="r" b="b"/>
              <a:pathLst>
                <a:path w="528" h="112">
                  <a:moveTo>
                    <a:pt x="0" y="16"/>
                  </a:moveTo>
                  <a:cubicBezTo>
                    <a:pt x="100" y="8"/>
                    <a:pt x="200" y="0"/>
                    <a:pt x="288" y="16"/>
                  </a:cubicBezTo>
                  <a:cubicBezTo>
                    <a:pt x="376" y="32"/>
                    <a:pt x="452" y="72"/>
                    <a:pt x="528" y="112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602440" y="25750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9" name=""/>
            <p:cNvGrpSpPr/>
            <p:nvPr/>
          </p:nvGrpSpPr>
          <p:grpSpPr>
            <a:xfrm>
              <a:off x="1200240" y="2779200"/>
              <a:ext cx="848160" cy="1231920"/>
              <a:chOff x="1200240" y="2779200"/>
              <a:chExt cx="848160" cy="1231920"/>
            </a:xfrm>
          </p:grpSpPr>
          <p:grpSp>
            <p:nvGrpSpPr>
              <p:cNvPr id="2340" name=""/>
              <p:cNvGrpSpPr/>
              <p:nvPr/>
            </p:nvGrpSpPr>
            <p:grpSpPr>
              <a:xfrm>
                <a:off x="1464480" y="2779200"/>
                <a:ext cx="583920" cy="712800"/>
                <a:chOff x="1464480" y="2779200"/>
                <a:chExt cx="583920" cy="712800"/>
              </a:xfrm>
            </p:grpSpPr>
            <p:sp>
              <p:nvSpPr>
                <p:cNvPr id="2341" name=""/>
                <p:cNvSpPr/>
                <p:nvPr/>
              </p:nvSpPr>
              <p:spPr>
                <a:xfrm>
                  <a:off x="1581840" y="2779200"/>
                  <a:ext cx="86760" cy="71280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2" name=""/>
                <p:cNvGrpSpPr/>
                <p:nvPr/>
              </p:nvGrpSpPr>
              <p:grpSpPr>
                <a:xfrm>
                  <a:off x="1464480" y="2809440"/>
                  <a:ext cx="583920" cy="239400"/>
                  <a:chOff x="1464480" y="2809440"/>
                  <a:chExt cx="583920" cy="239400"/>
                </a:xfrm>
              </p:grpSpPr>
              <p:sp>
                <p:nvSpPr>
                  <p:cNvPr id="2343" name=""/>
                  <p:cNvSpPr/>
                  <p:nvPr/>
                </p:nvSpPr>
                <p:spPr>
                  <a:xfrm rot="5434200">
                    <a:off x="1668240" y="2693520"/>
                    <a:ext cx="59040" cy="46620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44" name=""/>
                  <p:cNvGrpSpPr/>
                  <p:nvPr/>
                </p:nvGrpSpPr>
                <p:grpSpPr>
                  <a:xfrm>
                    <a:off x="1812960" y="2809440"/>
                    <a:ext cx="235440" cy="239400"/>
                    <a:chOff x="1812960" y="2809440"/>
                    <a:chExt cx="235440" cy="239400"/>
                  </a:xfrm>
                </p:grpSpPr>
                <p:sp>
                  <p:nvSpPr>
                    <p:cNvPr id="2345" name=""/>
                    <p:cNvSpPr/>
                    <p:nvPr/>
                  </p:nvSpPr>
                  <p:spPr>
                    <a:xfrm rot="5434200">
                      <a:off x="1811880" y="2812320"/>
                      <a:ext cx="237240" cy="232920"/>
                    </a:xfrm>
                    <a:prstGeom prst="ellipse">
                      <a:avLst/>
                    </a:prstGeom>
                    <a:solidFill>
                      <a:srgbClr val="fc0128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6" name=""/>
                    <p:cNvSpPr/>
                    <p:nvPr/>
                  </p:nvSpPr>
                  <p:spPr>
                    <a:xfrm rot="5434200">
                      <a:off x="1871640" y="2870280"/>
                      <a:ext cx="118800" cy="116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0" bIns="36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47" name=""/>
              <p:cNvSpPr/>
              <p:nvPr/>
            </p:nvSpPr>
            <p:spPr>
              <a:xfrm>
                <a:off x="1200240" y="3612240"/>
                <a:ext cx="84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la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8" name=""/>
            <p:cNvGrpSpPr/>
            <p:nvPr/>
          </p:nvGrpSpPr>
          <p:grpSpPr>
            <a:xfrm>
              <a:off x="472320" y="1745640"/>
              <a:ext cx="590040" cy="795960"/>
              <a:chOff x="472320" y="1745640"/>
              <a:chExt cx="590040" cy="795960"/>
            </a:xfrm>
          </p:grpSpPr>
          <p:sp>
            <p:nvSpPr>
              <p:cNvPr id="2349" name=""/>
              <p:cNvSpPr/>
              <p:nvPr/>
            </p:nvSpPr>
            <p:spPr>
              <a:xfrm>
                <a:off x="573840" y="1828800"/>
                <a:ext cx="87120" cy="712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0" name=""/>
              <p:cNvGrpSpPr/>
              <p:nvPr/>
            </p:nvGrpSpPr>
            <p:grpSpPr>
              <a:xfrm>
                <a:off x="472320" y="1745640"/>
                <a:ext cx="590040" cy="382320"/>
                <a:chOff x="472320" y="1745640"/>
                <a:chExt cx="590040" cy="382320"/>
              </a:xfrm>
            </p:grpSpPr>
            <p:sp>
              <p:nvSpPr>
                <p:cNvPr id="2351" name=""/>
                <p:cNvSpPr/>
                <p:nvPr/>
              </p:nvSpPr>
              <p:spPr>
                <a:xfrm rot="3885600">
                  <a:off x="665640" y="1768680"/>
                  <a:ext cx="59400" cy="466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52" name=""/>
                <p:cNvGrpSpPr/>
                <p:nvPr/>
              </p:nvGrpSpPr>
              <p:grpSpPr>
                <a:xfrm>
                  <a:off x="750600" y="1745640"/>
                  <a:ext cx="311760" cy="314280"/>
                  <a:chOff x="750600" y="1745640"/>
                  <a:chExt cx="311760" cy="314280"/>
                </a:xfrm>
              </p:grpSpPr>
              <p:sp>
                <p:nvSpPr>
                  <p:cNvPr id="2353" name=""/>
                  <p:cNvSpPr/>
                  <p:nvPr/>
                </p:nvSpPr>
                <p:spPr>
                  <a:xfrm rot="3885600">
                    <a:off x="787680" y="1785960"/>
                    <a:ext cx="237600" cy="232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 rot="3885600">
                    <a:off x="847080" y="1843920"/>
                    <a:ext cx="118800" cy="11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55" name=""/>
            <p:cNvSpPr/>
            <p:nvPr/>
          </p:nvSpPr>
          <p:spPr>
            <a:xfrm>
              <a:off x="911880" y="3638160"/>
              <a:ext cx="720" cy="10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 rot="495600">
              <a:off x="1905120" y="3098520"/>
              <a:ext cx="634320" cy="36648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 rot="20461800">
              <a:off x="2841840" y="3006720"/>
              <a:ext cx="634320" cy="36612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8" name=""/>
          <p:cNvSpPr/>
          <p:nvPr/>
        </p:nvSpPr>
        <p:spPr>
          <a:xfrm flipH="1" rot="234600">
            <a:off x="2361240" y="4560480"/>
            <a:ext cx="685800" cy="43344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 rot="234600">
            <a:off x="5578920" y="4571640"/>
            <a:ext cx="685800" cy="43344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flipH="1" rot="234600">
            <a:off x="6628320" y="4571640"/>
            <a:ext cx="685800" cy="43344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24360" y="56610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val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7886160" y="41497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24360" y="56610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val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4" dur="indefinite" restart="never" nodeType="tmRoot">
          <p:childTnLst>
            <p:seq>
              <p:cTn id="2625" dur="indefinite" nodeType="mainSeq">
                <p:childTnLst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0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5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0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1" fill="hold">
                            <p:stCondLst>
                              <p:cond delay="500"/>
                            </p:stCondLst>
                            <p:childTnLst>
                              <p:par>
                                <p:cTn id="26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4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8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3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6763E-006 L -0.25296 1.6763E-006 E">
                                      <p:cBhvr>
                                        <p:cTn id="2667" dur="2000" fill="hold"/>
                                        <p:tgtEl>
                                          <p:spTgt spid="2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671" dur="2000" fill="hold"/>
                                        <p:tgtEl>
                                          <p:spTgt spid="2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04624E-007 L -0.15746 -4.04624E-007 E">
                                      <p:cBhvr>
                                        <p:cTn id="2675" dur="2000" fill="hold"/>
                                        <p:tgtEl>
                                          <p:spTgt spid="2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10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455 0.00301 L 0.35382 0.00301 E">
                                      <p:cBhvr>
                                        <p:cTn id="2702" dur="2000" fill="hold"/>
                                        <p:tgtEl>
                                          <p:spTgt spid="2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73 -0.00139 L -0.48802 -0.00139 E">
                                      <p:cBhvr>
                                        <p:cTn id="2706" dur="2000" fill="hold"/>
                                        <p:tgtEl>
                                          <p:spTgt spid="2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20" dur="1" fill="hold"/>
                                  <p:tgtEl>
                                    <p:spTgt spid="2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611280" y="1752480"/>
            <a:ext cx="2743200" cy="38916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SomeType 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11280" y="4114800"/>
            <a:ext cx="2743200" cy="38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 v do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572000" y="1752480"/>
            <a:ext cx="3276720" cy="19051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ype 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v_mutex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v_delay1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v_delay2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v_count1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v_count2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4572000" y="4114800"/>
            <a:ext cx="3276720" cy="9907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v_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581280" y="1752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581280" y="41148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7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2" dur="5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3" fill="hold">
                            <p:stCondLst>
                              <p:cond delay="500"/>
                            </p:stCondLst>
                            <p:childTnLst>
                              <p:par>
                                <p:cTn id="2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6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1" dur="5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6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7" fill="hold">
                            <p:stCondLst>
                              <p:cond delay="500"/>
                            </p:stCondLst>
                            <p:childTnLst>
                              <p:par>
                                <p:cTn id="2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0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5" dur="500"/>
                                        <p:tgtEl>
                                          <p:spTgt spid="2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0" dur="500"/>
                                        <p:tgtEl>
                                          <p:spTgt spid="2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5" dur="500"/>
                                        <p:tgtEl>
                                          <p:spTgt spid="2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611280" y="1447920"/>
            <a:ext cx="2894040" cy="38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 v when B do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4191120" y="1447920"/>
            <a:ext cx="4724280" cy="47242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v_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 ! B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_count1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v_count2 &gt; 0)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delay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v_delay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_count1--; v_count2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v_count1 &gt; 0)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delay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delay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v_delay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_count2--;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v_count1 &gt; 0)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delay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{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v_count2 &gt; 0)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delay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mutex);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581280" y="14479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295280" y="2382840"/>
            <a:ext cx="2667240" cy="1008720"/>
          </a:xfrm>
          <a:prstGeom prst="borderCallout1">
            <a:avLst>
              <a:gd name="adj1" fmla="val 18750"/>
              <a:gd name="adj2" fmla="val -8333"/>
              <a:gd name="adj3" fmla="val -37458"/>
              <a:gd name="adj4" fmla="val 131888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evaluation of B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very time a process leaves the C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6" name=""/>
          <p:cNvGrpSpPr/>
          <p:nvPr/>
        </p:nvGrpSpPr>
        <p:grpSpPr>
          <a:xfrm>
            <a:off x="304920" y="4503600"/>
            <a:ext cx="3251160" cy="1325520"/>
            <a:chOff x="304920" y="4503600"/>
            <a:chExt cx="3251160" cy="1325520"/>
          </a:xfrm>
        </p:grpSpPr>
        <p:grpSp>
          <p:nvGrpSpPr>
            <p:cNvPr id="2377" name=""/>
            <p:cNvGrpSpPr/>
            <p:nvPr/>
          </p:nvGrpSpPr>
          <p:grpSpPr>
            <a:xfrm>
              <a:off x="457200" y="5068800"/>
              <a:ext cx="3098880" cy="265320"/>
              <a:chOff x="457200" y="5068800"/>
              <a:chExt cx="3098880" cy="265320"/>
            </a:xfrm>
          </p:grpSpPr>
          <p:sp>
            <p:nvSpPr>
              <p:cNvPr id="2378" name=""/>
              <p:cNvSpPr/>
              <p:nvPr/>
            </p:nvSpPr>
            <p:spPr>
              <a:xfrm>
                <a:off x="489600" y="5068800"/>
                <a:ext cx="3066120" cy="265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457200" y="5125320"/>
                <a:ext cx="309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57200" y="5257800"/>
                <a:ext cx="309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1" name=""/>
            <p:cNvGrpSpPr/>
            <p:nvPr/>
          </p:nvGrpSpPr>
          <p:grpSpPr>
            <a:xfrm>
              <a:off x="304920" y="4503600"/>
              <a:ext cx="972000" cy="1325520"/>
              <a:chOff x="304920" y="4503600"/>
              <a:chExt cx="972000" cy="1325520"/>
            </a:xfrm>
          </p:grpSpPr>
          <p:grpSp>
            <p:nvGrpSpPr>
              <p:cNvPr id="2382" name=""/>
              <p:cNvGrpSpPr/>
              <p:nvPr/>
            </p:nvGrpSpPr>
            <p:grpSpPr>
              <a:xfrm>
                <a:off x="607680" y="4503600"/>
                <a:ext cx="669240" cy="794520"/>
                <a:chOff x="607680" y="4503600"/>
                <a:chExt cx="669240" cy="794520"/>
              </a:xfrm>
            </p:grpSpPr>
            <p:sp>
              <p:nvSpPr>
                <p:cNvPr id="2383" name=""/>
                <p:cNvSpPr/>
                <p:nvPr/>
              </p:nvSpPr>
              <p:spPr>
                <a:xfrm>
                  <a:off x="741960" y="4503600"/>
                  <a:ext cx="99720" cy="794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4" name=""/>
                <p:cNvGrpSpPr/>
                <p:nvPr/>
              </p:nvGrpSpPr>
              <p:grpSpPr>
                <a:xfrm>
                  <a:off x="607680" y="4537440"/>
                  <a:ext cx="669240" cy="267120"/>
                  <a:chOff x="607680" y="4537440"/>
                  <a:chExt cx="669240" cy="267120"/>
                </a:xfrm>
              </p:grpSpPr>
              <p:sp>
                <p:nvSpPr>
                  <p:cNvPr id="2385" name=""/>
                  <p:cNvSpPr/>
                  <p:nvPr/>
                </p:nvSpPr>
                <p:spPr>
                  <a:xfrm rot="5434200">
                    <a:off x="842040" y="4401000"/>
                    <a:ext cx="65880" cy="53424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86" name=""/>
                  <p:cNvGrpSpPr/>
                  <p:nvPr/>
                </p:nvGrpSpPr>
                <p:grpSpPr>
                  <a:xfrm>
                    <a:off x="1007280" y="4537440"/>
                    <a:ext cx="269640" cy="267120"/>
                    <a:chOff x="1007280" y="4537440"/>
                    <a:chExt cx="269640" cy="267120"/>
                  </a:xfrm>
                </p:grpSpPr>
                <p:sp>
                  <p:nvSpPr>
                    <p:cNvPr id="2387" name=""/>
                    <p:cNvSpPr/>
                    <p:nvPr/>
                  </p:nvSpPr>
                  <p:spPr>
                    <a:xfrm rot="5434200">
                      <a:off x="1009440" y="4537080"/>
                      <a:ext cx="264600" cy="267120"/>
                    </a:xfrm>
                    <a:prstGeom prst="ellipse">
                      <a:avLst/>
                    </a:prstGeom>
                    <a:solidFill>
                      <a:srgbClr val="fc0128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8" name=""/>
                    <p:cNvSpPr/>
                    <p:nvPr/>
                  </p:nvSpPr>
                  <p:spPr>
                    <a:xfrm rot="5434200">
                      <a:off x="1075680" y="4603680"/>
                      <a:ext cx="132480" cy="133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89" name=""/>
              <p:cNvSpPr/>
              <p:nvPr/>
            </p:nvSpPr>
            <p:spPr>
              <a:xfrm>
                <a:off x="304920" y="5430240"/>
                <a:ext cx="9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lay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0" name=""/>
            <p:cNvGrpSpPr/>
            <p:nvPr/>
          </p:nvGrpSpPr>
          <p:grpSpPr>
            <a:xfrm>
              <a:off x="2133720" y="4503600"/>
              <a:ext cx="972000" cy="1325520"/>
              <a:chOff x="2133720" y="4503600"/>
              <a:chExt cx="972000" cy="1325520"/>
            </a:xfrm>
          </p:grpSpPr>
          <p:grpSp>
            <p:nvGrpSpPr>
              <p:cNvPr id="2391" name=""/>
              <p:cNvGrpSpPr/>
              <p:nvPr/>
            </p:nvGrpSpPr>
            <p:grpSpPr>
              <a:xfrm>
                <a:off x="2436480" y="4503600"/>
                <a:ext cx="669240" cy="794520"/>
                <a:chOff x="2436480" y="4503600"/>
                <a:chExt cx="669240" cy="794520"/>
              </a:xfrm>
            </p:grpSpPr>
            <p:sp>
              <p:nvSpPr>
                <p:cNvPr id="2392" name=""/>
                <p:cNvSpPr/>
                <p:nvPr/>
              </p:nvSpPr>
              <p:spPr>
                <a:xfrm>
                  <a:off x="2570760" y="4503600"/>
                  <a:ext cx="99720" cy="7945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3" name=""/>
                <p:cNvGrpSpPr/>
                <p:nvPr/>
              </p:nvGrpSpPr>
              <p:grpSpPr>
                <a:xfrm>
                  <a:off x="2436480" y="4537440"/>
                  <a:ext cx="669240" cy="267120"/>
                  <a:chOff x="2436480" y="4537440"/>
                  <a:chExt cx="669240" cy="267120"/>
                </a:xfrm>
              </p:grpSpPr>
              <p:sp>
                <p:nvSpPr>
                  <p:cNvPr id="2394" name=""/>
                  <p:cNvSpPr/>
                  <p:nvPr/>
                </p:nvSpPr>
                <p:spPr>
                  <a:xfrm rot="5434200">
                    <a:off x="2670840" y="4401000"/>
                    <a:ext cx="65880" cy="53424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95" name=""/>
                  <p:cNvGrpSpPr/>
                  <p:nvPr/>
                </p:nvGrpSpPr>
                <p:grpSpPr>
                  <a:xfrm>
                    <a:off x="2836080" y="4537440"/>
                    <a:ext cx="269640" cy="267120"/>
                    <a:chOff x="2836080" y="4537440"/>
                    <a:chExt cx="269640" cy="267120"/>
                  </a:xfrm>
                </p:grpSpPr>
                <p:sp>
                  <p:nvSpPr>
                    <p:cNvPr id="2396" name=""/>
                    <p:cNvSpPr/>
                    <p:nvPr/>
                  </p:nvSpPr>
                  <p:spPr>
                    <a:xfrm rot="5434200">
                      <a:off x="2838240" y="4537080"/>
                      <a:ext cx="264600" cy="267120"/>
                    </a:xfrm>
                    <a:prstGeom prst="ellipse">
                      <a:avLst/>
                    </a:prstGeom>
                    <a:solidFill>
                      <a:srgbClr val="fc0128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7" name=""/>
                    <p:cNvSpPr/>
                    <p:nvPr/>
                  </p:nvSpPr>
                  <p:spPr>
                    <a:xfrm rot="5434200">
                      <a:off x="2904480" y="4603680"/>
                      <a:ext cx="132480" cy="133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98" name=""/>
              <p:cNvSpPr/>
              <p:nvPr/>
            </p:nvSpPr>
            <p:spPr>
              <a:xfrm>
                <a:off x="2133720" y="5430240"/>
                <a:ext cx="9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lay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9" name=""/>
          <p:cNvSpPr/>
          <p:nvPr/>
        </p:nvSpPr>
        <p:spPr>
          <a:xfrm flipH="1" rot="234600">
            <a:off x="2894400" y="4800240"/>
            <a:ext cx="685800" cy="43344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0" name=""/>
          <p:cNvGrpSpPr/>
          <p:nvPr/>
        </p:nvGrpSpPr>
        <p:grpSpPr>
          <a:xfrm>
            <a:off x="825480" y="3716280"/>
            <a:ext cx="2008080" cy="647640"/>
            <a:chOff x="825480" y="3716280"/>
            <a:chExt cx="2008080" cy="647640"/>
          </a:xfrm>
        </p:grpSpPr>
        <p:sp>
          <p:nvSpPr>
            <p:cNvPr id="2401" name=""/>
            <p:cNvSpPr/>
            <p:nvPr/>
          </p:nvSpPr>
          <p:spPr>
            <a:xfrm rot="16200000">
              <a:off x="1655640" y="3392280"/>
              <a:ext cx="287280" cy="1655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25480" y="3716280"/>
              <a:ext cx="200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y re-evalu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3" name=""/>
          <p:cNvGrpSpPr/>
          <p:nvPr/>
        </p:nvGrpSpPr>
        <p:grpSpPr>
          <a:xfrm>
            <a:off x="1332000" y="4508640"/>
            <a:ext cx="915120" cy="743400"/>
            <a:chOff x="1332000" y="4508640"/>
            <a:chExt cx="915120" cy="743400"/>
          </a:xfrm>
        </p:grpSpPr>
        <p:sp>
          <p:nvSpPr>
            <p:cNvPr id="2404" name=""/>
            <p:cNvSpPr/>
            <p:nvPr/>
          </p:nvSpPr>
          <p:spPr>
            <a:xfrm flipH="1" rot="234600">
              <a:off x="1547280" y="4795560"/>
              <a:ext cx="685440" cy="43344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332000" y="4508640"/>
              <a:ext cx="43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6" name=""/>
          <p:cNvGrpSpPr/>
          <p:nvPr/>
        </p:nvGrpSpPr>
        <p:grpSpPr>
          <a:xfrm>
            <a:off x="2700360" y="4508640"/>
            <a:ext cx="915480" cy="743400"/>
            <a:chOff x="2700360" y="4508640"/>
            <a:chExt cx="915480" cy="743400"/>
          </a:xfrm>
        </p:grpSpPr>
        <p:sp>
          <p:nvSpPr>
            <p:cNvPr id="2407" name=""/>
            <p:cNvSpPr/>
            <p:nvPr/>
          </p:nvSpPr>
          <p:spPr>
            <a:xfrm flipH="1" rot="234600">
              <a:off x="2915280" y="4795560"/>
              <a:ext cx="685800" cy="43344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700360" y="450864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6" dur="indefinite" restart="never" nodeType="tmRoot">
          <p:childTnLst>
            <p:seq>
              <p:cTn id="2767" dur="indefinite" nodeType="mainSeq">
                <p:childTnLst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2" dur="5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6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0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4" dur="500"/>
                                        <p:tgtEl>
                                          <p:spTgt spid="2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9" dur="500"/>
                                        <p:tgtEl>
                                          <p:spTgt spid="2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fill="hold">
                            <p:stCondLst>
                              <p:cond delay="500"/>
                            </p:stCondLst>
                            <p:childTnLst>
                              <p:par>
                                <p:cTn id="27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3" dur="5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8" dur="5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5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4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9" dur="500"/>
                                        <p:tgtEl>
                                          <p:spTgt spid="2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3" dur="500"/>
                                        <p:tgtEl>
                                          <p:spTgt spid="2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7" dur="500"/>
                                        <p:tgtEl>
                                          <p:spTgt spid="2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9942E-006 L -0.20851 -0.00047 E">
                                      <p:cBhvr>
                                        <p:cTn id="2821" dur="2000" fill="hold"/>
                                        <p:tgtEl>
                                          <p:spTgt spid="2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fill="hold">
                      <p:stCondLst>
                        <p:cond delay="indefinite"/>
                      </p:stCondLst>
                      <p:childTnLst>
                        <p:par>
                          <p:cTn id="2823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6" dur="500"/>
                                        <p:tgtEl>
                                          <p:spTgt spid="2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0" dur="500"/>
                                        <p:tgtEl>
                                          <p:spTgt spid="2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00047 L -0.31875 -0.00047 E">
                                      <p:cBhvr>
                                        <p:cTn id="2834" dur="2000" fill="hold"/>
                                        <p:tgtEl>
                                          <p:spTgt spid="2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9" dur="500"/>
                                        <p:tgtEl>
                                          <p:spTgt spid="2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0" fill="hold">
                      <p:stCondLst>
                        <p:cond delay="indefinite"/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4" dur="500"/>
                                        <p:tgtEl>
                                          <p:spTgt spid="2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9" dur="500" fill="hold"/>
                                        <p:tgtEl>
                                          <p:spTgt spid="2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2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5" dur="500"/>
                                        <p:tgtEl>
                                          <p:spTgt spid="2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500"/>
                            </p:stCondLst>
                            <p:childTnLst>
                              <p:par>
                                <p:cTn id="2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0" dur="500"/>
                                        <p:tgtEl>
                                          <p:spTgt spid="2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5" dur="500" fill="hold"/>
                                        <p:tgtEl>
                                          <p:spTgt spid="2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500" fill="hold"/>
                                        <p:tgtEl>
                                          <p:spTgt spid="2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1" dur="500"/>
                                        <p:tgtEl>
                                          <p:spTgt spid="2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3" fill="hold">
                            <p:stCondLst>
                              <p:cond delay="500"/>
                            </p:stCondLst>
                            <p:childTnLst>
                              <p:par>
                                <p:cTn id="2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6" dur="500"/>
                                        <p:tgtEl>
                                          <p:spTgt spid="2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1" dur="500"/>
                                        <p:tgtEl>
                                          <p:spTgt spid="23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6" dur="500"/>
                                        <p:tgtEl>
                                          <p:spTgt spid="23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1" dur="500"/>
                                        <p:tgtEl>
                                          <p:spTgt spid="23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void P (semaphore *s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*s == 0) 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s--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void V (semaphore *s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s++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59092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380988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495288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66688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358128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35440" y="4370400"/>
            <a:ext cx="1636560" cy="81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69" y="-7397"/>
                </a:moveTo>
                <a:lnTo>
                  <a:pt x="-1006" y="3043"/>
                </a:lnTo>
              </a:path>
              <a:path w="21600" h="21600">
                <a:moveTo>
                  <a:pt x="-1006" y="0"/>
                </a:moveTo>
                <a:lnTo>
                  <a:pt x="-1006" y="216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opted in Concurrent Pascal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[Brinch Hansen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 [Hoare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with special proper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1143000" y="2819520"/>
            <a:ext cx="5638680" cy="28954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monitor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ype1 P1 (…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ype2 P2 (…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ypeN PN (…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ME (…) { …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4267080" y="5105520"/>
            <a:ext cx="243864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50" y="-3490"/>
                </a:moveTo>
                <a:lnTo>
                  <a:pt x="-675" y="3456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nstructor or initialization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4876920" y="3019320"/>
            <a:ext cx="12319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825" y="13926"/>
                </a:moveTo>
                <a:lnTo>
                  <a:pt x="-1336" y="6028"/>
                </a:lnTo>
              </a:path>
              <a:path w="21600" h="21600">
                <a:moveTo>
                  <a:pt x="-1336" y="0"/>
                </a:moveTo>
                <a:lnTo>
                  <a:pt x="-1336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934320" y="2590920"/>
            <a:ext cx="1904760" cy="205740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Only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1 process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t a time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ctive in the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7543800" y="4952880"/>
            <a:ext cx="12319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285" y="-27044"/>
                </a:moveTo>
                <a:lnTo>
                  <a:pt x="-1336" y="3456"/>
                </a:lnTo>
              </a:path>
              <a:path w="21600" h="21600">
                <a:moveTo>
                  <a:pt x="-1336" y="0"/>
                </a:moveTo>
                <a:lnTo>
                  <a:pt x="-1336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very Pi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s a 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 txBox="1"/>
          <p:nvPr/>
        </p:nvSpPr>
        <p:spPr>
          <a:xfrm>
            <a:off x="228600" y="2286000"/>
            <a:ext cx="13716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/= Java or C++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8" dur="500"/>
                                        <p:tgtEl>
                                          <p:spTgt spid="2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3" dur="500"/>
                                        <p:tgtEl>
                                          <p:spTgt spid="2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8" dur="500"/>
                                        <p:tgtEl>
                                          <p:spTgt spid="2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9" fill="hold">
                      <p:stCondLst>
                        <p:cond delay="indefinite"/>
                      </p:stCondLst>
                      <p:childTnLst>
                        <p:par>
                          <p:cTn id="2910" fill="hold">
                            <p:stCondLst>
                              <p:cond delay="0"/>
                            </p:stCondLst>
                            <p:childTnLst>
                              <p:par>
                                <p:cTn id="29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3" dur="500"/>
                                        <p:tgtEl>
                                          <p:spTgt spid="2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8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4" dur="5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9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0" fill="hold">
                      <p:stCondLst>
                        <p:cond delay="indefinite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4" dur="500" fill="hold"/>
                                        <p:tgtEl>
                                          <p:spTgt spid="2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500" fill="hold"/>
                                        <p:tgtEl>
                                          <p:spTgt spid="2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500" fill="hold"/>
                                        <p:tgtEl>
                                          <p:spTgt spid="2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500" fill="hold"/>
                                        <p:tgtEl>
                                          <p:spTgt spid="2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1600200" y="1523880"/>
            <a:ext cx="4267080" cy="4572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2552760" y="1981080"/>
            <a:ext cx="2362320" cy="6858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ha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905120" y="3048120"/>
            <a:ext cx="533160" cy="1447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590920" y="3048120"/>
            <a:ext cx="533160" cy="1447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4876920" y="3048120"/>
            <a:ext cx="533160" cy="1447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590920" y="4800600"/>
            <a:ext cx="2361960" cy="685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Initialization</a:t>
            </a:r>
            <a:br>
              <a:rPr sz="24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constru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715000" y="1981080"/>
            <a:ext cx="990720" cy="3682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c.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477120" y="2592360"/>
            <a:ext cx="990360" cy="3682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c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7238880" y="3179880"/>
            <a:ext cx="990720" cy="3682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c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181480" y="2133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6400800" y="23623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086600" y="29512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106960" y="16002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Entry 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730600" y="3200400"/>
            <a:ext cx="253800" cy="9907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352680" y="3838680"/>
            <a:ext cx="1032120" cy="368280"/>
          </a:xfrm>
          <a:prstGeom prst="borderCallout1">
            <a:avLst>
              <a:gd name="adj1" fmla="val 18750"/>
              <a:gd name="adj2" fmla="val -8333"/>
              <a:gd name="adj3" fmla="val 21189"/>
              <a:gd name="adj4" fmla="val -39675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c.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8" dur="indefinite" restart="never" nodeType="tmRoot">
          <p:childTnLst>
            <p:seq>
              <p:cTn id="2939" dur="indefinite" nodeType="mainSeq">
                <p:childTnLst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4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9" dur="500"/>
                                        <p:tgtEl>
                                          <p:spTgt spid="2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4" dur="500"/>
                                        <p:tgtEl>
                                          <p:spTgt spid="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9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0" fill="hold">
                      <p:stCondLst>
                        <p:cond delay="indefinite"/>
                      </p:stCondLst>
                      <p:childTnLst>
                        <p:par>
                          <p:cTn id="2961" fill="hold">
                            <p:stCondLst>
                              <p:cond delay="0"/>
                            </p:stCondLst>
                            <p:childTnLst>
                              <p:par>
                                <p:cTn id="2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4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9" dur="5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4" dur="500"/>
                                        <p:tgtEl>
                                          <p:spTgt spid="2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fill="hold">
                            <p:stCondLst>
                              <p:cond delay="500"/>
                            </p:stCondLst>
                            <p:childTnLst>
                              <p:par>
                                <p:cTn id="29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8" dur="5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3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8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2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6" dur="5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0" dur="5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4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8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Synchronization Mechanis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2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1185840" y="3657600"/>
            <a:ext cx="4419720" cy="24382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oni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condition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TypeK Pk (…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x.wa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…;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x.sig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9" dur="indefinite" restart="never" nodeType="tmRoot">
          <p:childTnLst>
            <p:seq>
              <p:cTn id="3010" dur="indefinite" nodeType="mainSeq">
                <p:childTnLst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5" dur="5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0" dur="5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4" dur="5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7" dur="500"/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2" dur="500"/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5" dur="500"/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0" dur="500"/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5" dur="500"/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x.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wa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d until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x.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ig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cess can enter the moni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x.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ig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process waiting for x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me 1 process waiting for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ield to awoken process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Hoare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ing process has prece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ing process leaves monitor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Concurrent Pascal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6" dur="indefinite" restart="never" nodeType="tmRoot">
          <p:childTnLst>
            <p:seq>
              <p:cTn id="3047" dur="indefinite" nodeType="mainSeq">
                <p:childTnLst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2" dur="500"/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5" dur="500"/>
                                        <p:tgtEl>
                                          <p:spTgt spid="2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8" dur="500"/>
                                        <p:tgtEl>
                                          <p:spTgt spid="2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3" dur="500"/>
                                        <p:tgtEl>
                                          <p:spTgt spid="2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6" dur="500"/>
                                        <p:tgtEl>
                                          <p:spTgt spid="2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9" dur="500"/>
                                        <p:tgtEl>
                                          <p:spTgt spid="2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2" dur="500"/>
                                        <p:tgtEl>
                                          <p:spTgt spid="2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5" dur="500"/>
                                        <p:tgtEl>
                                          <p:spTgt spid="2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8" dur="500"/>
                                        <p:tgtEl>
                                          <p:spTgt spid="2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685800" y="1523880"/>
            <a:ext cx="4876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buffer(…) {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ut(item ip) { …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tem get() { 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buf = new buffer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685800" y="3659040"/>
            <a:ext cx="3495600" cy="1979640"/>
            <a:chOff x="685800" y="3659040"/>
            <a:chExt cx="3495600" cy="1979640"/>
          </a:xfrm>
        </p:grpSpPr>
        <p:grpSp>
          <p:nvGrpSpPr>
            <p:cNvPr id="2441" name=""/>
            <p:cNvGrpSpPr/>
            <p:nvPr/>
          </p:nvGrpSpPr>
          <p:grpSpPr>
            <a:xfrm>
              <a:off x="685800" y="3733920"/>
              <a:ext cx="3495600" cy="1904760"/>
              <a:chOff x="685800" y="3733920"/>
              <a:chExt cx="3495600" cy="1904760"/>
            </a:xfrm>
          </p:grpSpPr>
          <p:sp>
            <p:nvSpPr>
              <p:cNvPr id="2442" name=""/>
              <p:cNvSpPr/>
              <p:nvPr/>
            </p:nvSpPr>
            <p:spPr>
              <a:xfrm>
                <a:off x="2886120" y="3733920"/>
                <a:ext cx="12952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ae00"/>
                    </a:solidFill>
                    <a:latin typeface="Arial"/>
                  </a:rPr>
                  <a:t>Produc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85800" y="4038480"/>
                <a:ext cx="3276720" cy="1600200"/>
              </a:xfrm>
              <a:prstGeom prst="rect">
                <a:avLst/>
              </a:prstGeom>
              <a:noFill/>
              <a:ln w="381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hile (tru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 = produce(…)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uf.put(ip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4" name=""/>
            <p:cNvSpPr/>
            <p:nvPr/>
          </p:nvSpPr>
          <p:spPr>
            <a:xfrm>
              <a:off x="687240" y="3659040"/>
              <a:ext cx="99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 i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5" name=""/>
          <p:cNvGrpSpPr/>
          <p:nvPr/>
        </p:nvGrpSpPr>
        <p:grpSpPr>
          <a:xfrm>
            <a:off x="4419720" y="3659040"/>
            <a:ext cx="3504960" cy="1979280"/>
            <a:chOff x="4419720" y="3659040"/>
            <a:chExt cx="3504960" cy="1979280"/>
          </a:xfrm>
        </p:grpSpPr>
        <p:grpSp>
          <p:nvGrpSpPr>
            <p:cNvPr id="2446" name=""/>
            <p:cNvGrpSpPr/>
            <p:nvPr/>
          </p:nvGrpSpPr>
          <p:grpSpPr>
            <a:xfrm>
              <a:off x="4419720" y="3733920"/>
              <a:ext cx="3504960" cy="1904400"/>
              <a:chOff x="4419720" y="3733920"/>
              <a:chExt cx="3504960" cy="1904400"/>
            </a:xfrm>
          </p:grpSpPr>
          <p:sp>
            <p:nvSpPr>
              <p:cNvPr id="2447" name=""/>
              <p:cNvSpPr/>
              <p:nvPr/>
            </p:nvSpPr>
            <p:spPr>
              <a:xfrm>
                <a:off x="6477120" y="3733920"/>
                <a:ext cx="14475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ae00"/>
                    </a:solidFill>
                    <a:latin typeface="Arial"/>
                  </a:rPr>
                  <a:t>Consum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419720" y="4038480"/>
                <a:ext cx="3276360" cy="1599840"/>
              </a:xfrm>
              <a:prstGeom prst="rect">
                <a:avLst/>
              </a:prstGeom>
              <a:noFill/>
              <a:ln w="381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hile (tru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c = buf.get ()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nsume (ic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9" name=""/>
            <p:cNvSpPr/>
            <p:nvPr/>
          </p:nvSpPr>
          <p:spPr>
            <a:xfrm>
              <a:off x="4420800" y="365904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 ic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9" dur="indefinite" restart="never" nodeType="tmRoot">
          <p:childTnLst>
            <p:seq>
              <p:cTn id="3080" dur="indefinite" nodeType="mainSeq">
                <p:childTnLst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5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0" dur="5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5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1" name=""/>
          <p:cNvGrpSpPr/>
          <p:nvPr/>
        </p:nvGrpSpPr>
        <p:grpSpPr>
          <a:xfrm>
            <a:off x="1066680" y="2895480"/>
            <a:ext cx="4953240" cy="3005280"/>
            <a:chOff x="1066680" y="2895480"/>
            <a:chExt cx="4953240" cy="3005280"/>
          </a:xfrm>
        </p:grpSpPr>
        <p:sp>
          <p:nvSpPr>
            <p:cNvPr id="2452" name=""/>
            <p:cNvSpPr/>
            <p:nvPr/>
          </p:nvSpPr>
          <p:spPr>
            <a:xfrm>
              <a:off x="1066680" y="4376880"/>
              <a:ext cx="4953240" cy="1523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066680" y="2895480"/>
              <a:ext cx="4953240" cy="13716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4" name=""/>
          <p:cNvSpPr/>
          <p:nvPr/>
        </p:nvSpPr>
        <p:spPr>
          <a:xfrm>
            <a:off x="609480" y="1378080"/>
            <a:ext cx="5486400" cy="47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monitor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buff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tem pool [] = new item[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in, out, c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buffer () { in = 0; out = 0; count = 0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void put (item ip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ool[in] = ip;  in = (in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unt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item get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tem ic = pool[out];  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unt</a:t>
            </a:r>
            <a:r>
              <a:rPr b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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turn 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452960" y="3192480"/>
            <a:ext cx="2896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count == N)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ree.wait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1454400" y="4602240"/>
            <a:ext cx="273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count == 0)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ull.wait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039320" y="2178000"/>
            <a:ext cx="190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re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3009240" y="2178000"/>
            <a:ext cx="1790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ull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501640" y="3657600"/>
            <a:ext cx="13114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ull.signal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2536920" y="50436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ree.signal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6" dur="indefinite" restart="never" nodeType="tmRoot">
          <p:childTnLst>
            <p:seq>
              <p:cTn id="3097" dur="indefinite" nodeType="mainSeq">
                <p:childTnLst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2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7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2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7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fill="hold">
                      <p:stCondLst>
                        <p:cond delay="indefinite"/>
                      </p:stCondLst>
                      <p:childTnLst>
                        <p:par>
                          <p:cTn id="3119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2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7" dur="500"/>
                                        <p:tgtEl>
                                          <p:spTgt spid="2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2" dur="500"/>
                                        <p:tgtEl>
                                          <p:spTgt spid="2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fill="hold">
                      <p:stCondLst>
                        <p:cond delay="indefinite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7" dur="5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685800" y="1676520"/>
            <a:ext cx="7162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dining_philo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dining_philos () { 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ick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t i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t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nt i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ning_philos dp = new dining_phil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3" name=""/>
          <p:cNvGrpSpPr/>
          <p:nvPr/>
        </p:nvGrpSpPr>
        <p:grpSpPr>
          <a:xfrm>
            <a:off x="5038560" y="3429000"/>
            <a:ext cx="3724200" cy="2590920"/>
            <a:chOff x="5038560" y="3429000"/>
            <a:chExt cx="3724200" cy="2590920"/>
          </a:xfrm>
        </p:grpSpPr>
        <p:sp>
          <p:nvSpPr>
            <p:cNvPr id="2464" name=""/>
            <p:cNvSpPr/>
            <p:nvPr/>
          </p:nvSpPr>
          <p:spPr>
            <a:xfrm>
              <a:off x="6714720" y="3429000"/>
              <a:ext cx="2048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Philosopher </a:t>
              </a:r>
              <a:r>
                <a:rPr b="1" i="1" lang="en-US" sz="1800" spc="-1" strike="noStrike">
                  <a:solidFill>
                    <a:srgbClr val="00ae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038560" y="3733920"/>
              <a:ext cx="3276360" cy="22860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ink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dp.pickup (i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at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dp.putdown (i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8" dur="indefinite" restart="never" nodeType="tmRoot">
          <p:childTnLst>
            <p:seq>
              <p:cTn id="3139" dur="indefinite" nodeType="mainSeq">
                <p:childTnLst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4" dur="500"/>
                                        <p:tgtEl>
                                          <p:spTgt spid="2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fill="hold">
                      <p:stCondLst>
                        <p:cond delay="indefinite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9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"/>
          <p:cNvSpPr/>
          <p:nvPr/>
        </p:nvSpPr>
        <p:spPr>
          <a:xfrm>
            <a:off x="914400" y="4016520"/>
            <a:ext cx="6405480" cy="1339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914400" y="2438280"/>
            <a:ext cx="6405480" cy="14194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609480" y="1525680"/>
            <a:ext cx="7162920" cy="45702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onitor dining_philosopher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[] state = new int[5];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thinking=0, hungry=1, eating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ickup (int i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tate[i] = hung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est (i);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if forks available, state[i] == 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utdown (int i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tate[i] = think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est (i+1 % 5);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wake up right neighbou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est (i+4 % 5);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wake up left neighbou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…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(continued) ...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1433520" y="3260880"/>
            <a:ext cx="3675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tate[i] != eating)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self[i].wait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004040" y="2057400"/>
            <a:ext cx="42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ndition self [ ] = new condition [5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0" dur="indefinite" restart="never" nodeType="tmRoot">
          <p:childTnLst>
            <p:seq>
              <p:cTn id="3151" dur="indefinite" nodeType="mainSeq">
                <p:childTnLst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6" dur="500"/>
                                        <p:tgtEl>
                                          <p:spTgt spid="2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9" dur="500"/>
                                        <p:tgtEl>
                                          <p:spTgt spid="24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0" fill="hold">
                      <p:stCondLst>
                        <p:cond delay="indefinite"/>
                      </p:stCondLst>
                      <p:childTnLst>
                        <p:par>
                          <p:cTn id="3161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4" dur="500"/>
                                        <p:tgtEl>
                                          <p:spTgt spid="2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7" dur="500"/>
                                        <p:tgtEl>
                                          <p:spTgt spid="2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0" dur="500"/>
                                        <p:tgtEl>
                                          <p:spTgt spid="2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5" dur="500"/>
                                        <p:tgtEl>
                                          <p:spTgt spid="2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8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1" dur="500"/>
                                        <p:tgtEl>
                                          <p:spTgt spid="24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6" dur="500"/>
                                        <p:tgtEl>
                                          <p:spTgt spid="2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1" dur="500"/>
                                        <p:tgtEl>
                                          <p:spTgt spid="2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2" fill="hold">
                      <p:stCondLst>
                        <p:cond delay="indefinite"/>
                      </p:stCondLst>
                      <p:childTnLst>
                        <p:par>
                          <p:cTn id="3193" fill="hold">
                            <p:stCondLst>
                              <p:cond delay="0"/>
                            </p:stCondLst>
                            <p:childTnLst>
                              <p:par>
                                <p:cTn id="3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6" dur="500"/>
                                        <p:tgtEl>
                                          <p:spTgt spid="2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1" dur="500"/>
                                        <p:tgtEl>
                                          <p:spTgt spid="2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6" dur="500"/>
                                        <p:tgtEl>
                                          <p:spTgt spid="2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7" fill="hold">
                            <p:stCondLst>
                              <p:cond delay="500"/>
                            </p:stCondLst>
                            <p:childTnLst>
                              <p:par>
                                <p:cTn id="3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0" dur="5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5" dur="500"/>
                                        <p:tgtEl>
                                          <p:spTgt spid="2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6" fill="hold">
                            <p:stCondLst>
                              <p:cond delay="500"/>
                            </p:stCondLst>
                            <p:childTnLst>
                              <p:par>
                                <p:cTn id="3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9" dur="500"/>
                                        <p:tgtEl>
                                          <p:spTgt spid="24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1066680" y="4865760"/>
            <a:ext cx="5867640" cy="930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066680" y="2319480"/>
            <a:ext cx="5867640" cy="24033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609480" y="1523880"/>
            <a:ext cx="6477120" cy="457056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onitor dining_philosopher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test (int k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tate[k] == hungry  &amp;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tate[(k+1) % 5] != eating &amp;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tate[(k+4) % 5] != eating)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tate[k] = eating;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dining_philosophers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or (int i = 0; i&lt;5; i++) state[i] = think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240280" y="3809880"/>
            <a:ext cx="3757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elf[k].signal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wake up philo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0" dur="indefinite" restart="never" nodeType="tmRoot">
          <p:childTnLst>
            <p:seq>
              <p:cTn id="3221" dur="indefinite" nodeType="mainSeq">
                <p:childTnLst>
                  <p:par>
                    <p:cTn id="3222" fill="hold">
                      <p:stCondLst>
                        <p:cond delay="indefinite"/>
                      </p:stCondLst>
                      <p:childTnLst>
                        <p:par>
                          <p:cTn id="3223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6" dur="500"/>
                                        <p:tgtEl>
                                          <p:spTgt spid="2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9" dur="500"/>
                                        <p:tgtEl>
                                          <p:spTgt spid="2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2" dur="500"/>
                                        <p:tgtEl>
                                          <p:spTgt spid="2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5" dur="500"/>
                                        <p:tgtEl>
                                          <p:spTgt spid="2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8" dur="500"/>
                                        <p:tgtEl>
                                          <p:spTgt spid="2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1" dur="5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fill="hold">
                      <p:stCondLst>
                        <p:cond delay="indefinite"/>
                      </p:stCondLst>
                      <p:childTnLst>
                        <p:par>
                          <p:cTn id="3243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6" dur="500"/>
                                        <p:tgtEl>
                                          <p:spTgt spid="2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9" dur="500"/>
                                        <p:tgtEl>
                                          <p:spTgt spid="2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2" dur="500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7" dur="500"/>
                                        <p:tgtEl>
                                          <p:spTgt spid="2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0" dur="500"/>
                                        <p:tgtEl>
                                          <p:spTgt spid="2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3" dur="500"/>
                                        <p:tgtEl>
                                          <p:spTgt spid="2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6" dur="500"/>
                                        <p:tgtEl>
                                          <p:spTgt spid="2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1" dur="500"/>
                                        <p:tgtEl>
                                          <p:spTgt spid="2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6" dur="5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eadlock f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Forks taken in pickup (= C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rv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s: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 S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0574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ypedef semaphore 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emaphore s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933640"/>
            <a:ext cx="3809880" cy="31622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3728880"/>
            <a:ext cx="289548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(&amp; 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467240"/>
            <a:ext cx="289548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(&amp; 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524196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C-Note: P and V are defined as procedure cal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59280" y="3500280"/>
            <a:ext cx="3816360" cy="144720"/>
            <a:chOff x="4859280" y="3500280"/>
            <a:chExt cx="3816360" cy="144720"/>
          </a:xfrm>
        </p:grpSpPr>
        <p:sp>
          <p:nvSpPr>
            <p:cNvPr id="205" name=""/>
            <p:cNvSpPr/>
            <p:nvPr/>
          </p:nvSpPr>
          <p:spPr>
            <a:xfrm>
              <a:off x="4899240" y="3500280"/>
              <a:ext cx="377604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59280" y="353124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59280" y="360360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075280" y="3716280"/>
            <a:ext cx="3816360" cy="144360"/>
            <a:chOff x="5075280" y="3716280"/>
            <a:chExt cx="3816360" cy="144360"/>
          </a:xfrm>
        </p:grpSpPr>
        <p:sp>
          <p:nvSpPr>
            <p:cNvPr id="209" name=""/>
            <p:cNvSpPr/>
            <p:nvPr/>
          </p:nvSpPr>
          <p:spPr>
            <a:xfrm>
              <a:off x="5115240" y="3716280"/>
              <a:ext cx="377604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75280" y="374688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75280" y="381924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291280" y="3932280"/>
            <a:ext cx="3816360" cy="144360"/>
            <a:chOff x="5291280" y="3932280"/>
            <a:chExt cx="3816360" cy="144360"/>
          </a:xfrm>
        </p:grpSpPr>
        <p:sp>
          <p:nvSpPr>
            <p:cNvPr id="213" name=""/>
            <p:cNvSpPr/>
            <p:nvPr/>
          </p:nvSpPr>
          <p:spPr>
            <a:xfrm>
              <a:off x="5331240" y="3932280"/>
              <a:ext cx="3776040" cy="144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91280" y="396288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91280" y="403524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83040" y="2942280"/>
            <a:ext cx="839520" cy="1040760"/>
            <a:chOff x="4883040" y="2942280"/>
            <a:chExt cx="839520" cy="1040760"/>
          </a:xfrm>
        </p:grpSpPr>
        <p:sp>
          <p:nvSpPr>
            <p:cNvPr id="217" name=""/>
            <p:cNvSpPr/>
            <p:nvPr/>
          </p:nvSpPr>
          <p:spPr>
            <a:xfrm>
              <a:off x="5026680" y="3068640"/>
              <a:ext cx="12564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4883040" y="2942280"/>
              <a:ext cx="839520" cy="529200"/>
              <a:chOff x="4883040" y="2942280"/>
              <a:chExt cx="839520" cy="529200"/>
            </a:xfrm>
          </p:grpSpPr>
          <p:sp>
            <p:nvSpPr>
              <p:cNvPr id="219" name=""/>
              <p:cNvSpPr/>
              <p:nvPr/>
            </p:nvSpPr>
            <p:spPr>
              <a:xfrm rot="3885600">
                <a:off x="5164200" y="2958840"/>
                <a:ext cx="75960" cy="6706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5289480" y="2942280"/>
                <a:ext cx="433080" cy="418680"/>
                <a:chOff x="5289480" y="2942280"/>
                <a:chExt cx="433080" cy="418680"/>
              </a:xfrm>
            </p:grpSpPr>
            <p:sp>
              <p:nvSpPr>
                <p:cNvPr id="221" name=""/>
                <p:cNvSpPr/>
                <p:nvPr/>
              </p:nvSpPr>
              <p:spPr>
                <a:xfrm rot="3885600">
                  <a:off x="5353560" y="298404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3885600">
                  <a:off x="5429520" y="306756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1598040" y="2928960"/>
            <a:ext cx="78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ung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1" name=""/>
          <p:cNvGrpSpPr/>
          <p:nvPr/>
        </p:nvGrpSpPr>
        <p:grpSpPr>
          <a:xfrm>
            <a:off x="1599480" y="3182760"/>
            <a:ext cx="1984320" cy="305280"/>
            <a:chOff x="1599480" y="3182760"/>
            <a:chExt cx="1984320" cy="305280"/>
          </a:xfrm>
        </p:grpSpPr>
        <p:sp>
          <p:nvSpPr>
            <p:cNvPr id="2482" name=""/>
            <p:cNvSpPr/>
            <p:nvPr/>
          </p:nvSpPr>
          <p:spPr>
            <a:xfrm>
              <a:off x="1599480" y="318276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e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802960" y="3182760"/>
              <a:ext cx="78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hung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4" name=""/>
          <p:cNvSpPr/>
          <p:nvPr/>
        </p:nvSpPr>
        <p:spPr>
          <a:xfrm>
            <a:off x="4004640" y="3436920"/>
            <a:ext cx="78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ung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5" name=""/>
          <p:cNvGrpSpPr/>
          <p:nvPr/>
        </p:nvGrpSpPr>
        <p:grpSpPr>
          <a:xfrm>
            <a:off x="1599120" y="3689280"/>
            <a:ext cx="4354920" cy="305280"/>
            <a:chOff x="1599120" y="3689280"/>
            <a:chExt cx="4354920" cy="305280"/>
          </a:xfrm>
        </p:grpSpPr>
        <p:sp>
          <p:nvSpPr>
            <p:cNvPr id="2486" name=""/>
            <p:cNvSpPr/>
            <p:nvPr/>
          </p:nvSpPr>
          <p:spPr>
            <a:xfrm>
              <a:off x="1599120" y="36892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006080" y="368928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e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173200" y="3689280"/>
              <a:ext cx="78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hung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9" name=""/>
          <p:cNvSpPr/>
          <p:nvPr/>
        </p:nvSpPr>
        <p:spPr>
          <a:xfrm>
            <a:off x="1598040" y="4419720"/>
            <a:ext cx="78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ung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38160" y="3962520"/>
            <a:ext cx="78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ung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6339600" y="4191120"/>
            <a:ext cx="69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2" name=""/>
          <p:cNvGrpSpPr/>
          <p:nvPr/>
        </p:nvGrpSpPr>
        <p:grpSpPr>
          <a:xfrm>
            <a:off x="1599480" y="4702320"/>
            <a:ext cx="5618520" cy="305280"/>
            <a:chOff x="1599480" y="4702320"/>
            <a:chExt cx="5618520" cy="305280"/>
          </a:xfrm>
        </p:grpSpPr>
        <p:sp>
          <p:nvSpPr>
            <p:cNvPr id="2493" name=""/>
            <p:cNvSpPr/>
            <p:nvPr/>
          </p:nvSpPr>
          <p:spPr>
            <a:xfrm>
              <a:off x="1599480" y="470232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e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339600" y="470232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5" name=""/>
          <p:cNvGrpSpPr/>
          <p:nvPr/>
        </p:nvGrpSpPr>
        <p:grpSpPr>
          <a:xfrm>
            <a:off x="4005720" y="4956120"/>
            <a:ext cx="1862640" cy="305280"/>
            <a:chOff x="4005720" y="4956120"/>
            <a:chExt cx="1862640" cy="305280"/>
          </a:xfrm>
        </p:grpSpPr>
        <p:sp>
          <p:nvSpPr>
            <p:cNvPr id="2496" name=""/>
            <p:cNvSpPr/>
            <p:nvPr/>
          </p:nvSpPr>
          <p:spPr>
            <a:xfrm>
              <a:off x="4005720" y="495612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174280" y="495612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e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8" name=""/>
          <p:cNvGrpSpPr/>
          <p:nvPr/>
        </p:nvGrpSpPr>
        <p:grpSpPr>
          <a:xfrm>
            <a:off x="4004640" y="5208480"/>
            <a:ext cx="2048040" cy="305280"/>
            <a:chOff x="4004640" y="5208480"/>
            <a:chExt cx="2048040" cy="305280"/>
          </a:xfrm>
        </p:grpSpPr>
        <p:sp>
          <p:nvSpPr>
            <p:cNvPr id="2499" name=""/>
            <p:cNvSpPr/>
            <p:nvPr/>
          </p:nvSpPr>
          <p:spPr>
            <a:xfrm>
              <a:off x="4004640" y="5208480"/>
              <a:ext cx="78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hung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174280" y="52084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1" name=""/>
          <p:cNvSpPr/>
          <p:nvPr/>
        </p:nvSpPr>
        <p:spPr>
          <a:xfrm>
            <a:off x="4006080" y="5462640"/>
            <a:ext cx="69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599120" y="5715000"/>
            <a:ext cx="87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3" name=""/>
          <p:cNvGrpSpPr/>
          <p:nvPr/>
        </p:nvGrpSpPr>
        <p:grpSpPr>
          <a:xfrm>
            <a:off x="1599120" y="2666880"/>
            <a:ext cx="5618880" cy="305280"/>
            <a:chOff x="1599120" y="2666880"/>
            <a:chExt cx="5618880" cy="305280"/>
          </a:xfrm>
        </p:grpSpPr>
        <p:sp>
          <p:nvSpPr>
            <p:cNvPr id="2504" name=""/>
            <p:cNvSpPr/>
            <p:nvPr/>
          </p:nvSpPr>
          <p:spPr>
            <a:xfrm>
              <a:off x="1599120" y="26668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804040" y="26668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005720" y="26668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174280" y="26668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339600" y="26668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9" name=""/>
          <p:cNvGrpSpPr/>
          <p:nvPr/>
        </p:nvGrpSpPr>
        <p:grpSpPr>
          <a:xfrm>
            <a:off x="1523880" y="2133720"/>
            <a:ext cx="5507280" cy="3870360"/>
            <a:chOff x="1523880" y="2133720"/>
            <a:chExt cx="5507280" cy="3870360"/>
          </a:xfrm>
        </p:grpSpPr>
        <p:sp>
          <p:nvSpPr>
            <p:cNvPr id="2510" name=""/>
            <p:cNvSpPr/>
            <p:nvPr/>
          </p:nvSpPr>
          <p:spPr>
            <a:xfrm>
              <a:off x="1523880" y="2567160"/>
              <a:ext cx="550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1" name=""/>
            <p:cNvGrpSpPr/>
            <p:nvPr/>
          </p:nvGrpSpPr>
          <p:grpSpPr>
            <a:xfrm>
              <a:off x="1773720" y="2133720"/>
              <a:ext cx="5105520" cy="3870360"/>
              <a:chOff x="1773720" y="2133720"/>
              <a:chExt cx="5105520" cy="3870360"/>
            </a:xfrm>
          </p:grpSpPr>
          <p:sp>
            <p:nvSpPr>
              <p:cNvPr id="2512" name=""/>
              <p:cNvSpPr/>
              <p:nvPr/>
            </p:nvSpPr>
            <p:spPr>
              <a:xfrm>
                <a:off x="2658960" y="2270160"/>
                <a:ext cx="1800" cy="373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822840" y="2270160"/>
                <a:ext cx="1440" cy="373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986360" y="2270160"/>
                <a:ext cx="1440" cy="373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149880" y="2270160"/>
                <a:ext cx="1800" cy="373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6" name=""/>
              <p:cNvGrpSpPr/>
              <p:nvPr/>
            </p:nvGrpSpPr>
            <p:grpSpPr>
              <a:xfrm>
                <a:off x="1773720" y="2133720"/>
                <a:ext cx="5105520" cy="416520"/>
                <a:chOff x="1773720" y="2133720"/>
                <a:chExt cx="5105520" cy="416520"/>
              </a:xfrm>
            </p:grpSpPr>
            <p:sp>
              <p:nvSpPr>
                <p:cNvPr id="2517" name=""/>
                <p:cNvSpPr/>
                <p:nvPr/>
              </p:nvSpPr>
              <p:spPr>
                <a:xfrm>
                  <a:off x="1773720" y="2133720"/>
                  <a:ext cx="4716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Ph</a:t>
                  </a:r>
                  <a:r>
                    <a:rPr b="0" lang="en-US" sz="2400" spc="-1" strike="noStrike" baseline="-25000">
                      <a:solidFill>
                        <a:srgbClr val="00008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2931120" y="2133720"/>
                  <a:ext cx="4716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Ph</a:t>
                  </a:r>
                  <a:r>
                    <a:rPr b="0" lang="en-US" sz="2400" spc="-1" strike="noStrike" baseline="-25000">
                      <a:solidFill>
                        <a:srgbClr val="00008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4089960" y="2133720"/>
                  <a:ext cx="4716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Ph</a:t>
                  </a:r>
                  <a:r>
                    <a:rPr b="0" lang="en-US" sz="2400" spc="-1" strike="noStrike" baseline="-25000">
                      <a:solidFill>
                        <a:srgbClr val="00008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5248800" y="2133720"/>
                  <a:ext cx="4716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Ph</a:t>
                  </a:r>
                  <a:r>
                    <a:rPr b="0" lang="en-US" sz="2400" spc="-1" strike="noStrike" baseline="-25000">
                      <a:solidFill>
                        <a:srgbClr val="00008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6407640" y="2133720"/>
                  <a:ext cx="4716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Ph</a:t>
                  </a:r>
                  <a:r>
                    <a:rPr b="0" lang="en-US" sz="2400" spc="-1" strike="noStrike" baseline="-25000">
                      <a:solidFill>
                        <a:srgbClr val="00008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22" name=""/>
          <p:cNvGrpSpPr/>
          <p:nvPr/>
        </p:nvGrpSpPr>
        <p:grpSpPr>
          <a:xfrm>
            <a:off x="685080" y="2666880"/>
            <a:ext cx="399960" cy="3353040"/>
            <a:chOff x="685080" y="2666880"/>
            <a:chExt cx="399960" cy="3353040"/>
          </a:xfrm>
        </p:grpSpPr>
        <p:sp>
          <p:nvSpPr>
            <p:cNvPr id="2523" name=""/>
            <p:cNvSpPr/>
            <p:nvPr/>
          </p:nvSpPr>
          <p:spPr>
            <a:xfrm>
              <a:off x="1066680" y="2666880"/>
              <a:ext cx="0" cy="335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rot="16204800">
              <a:off x="465840" y="41817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5" name=""/>
          <p:cNvGrpSpPr/>
          <p:nvPr/>
        </p:nvGrpSpPr>
        <p:grpSpPr>
          <a:xfrm>
            <a:off x="2971800" y="5334120"/>
            <a:ext cx="457200" cy="609480"/>
            <a:chOff x="2971800" y="5334120"/>
            <a:chExt cx="457200" cy="609480"/>
          </a:xfrm>
        </p:grpSpPr>
        <p:sp>
          <p:nvSpPr>
            <p:cNvPr id="2526" name=""/>
            <p:cNvSpPr/>
            <p:nvPr/>
          </p:nvSpPr>
          <p:spPr>
            <a:xfrm>
              <a:off x="3167640" y="5334120"/>
              <a:ext cx="65160" cy="6094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971800" y="5469120"/>
              <a:ext cx="457200" cy="676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8" name=""/>
          <p:cNvSpPr txBox="1"/>
          <p:nvPr/>
        </p:nvSpPr>
        <p:spPr>
          <a:xfrm>
            <a:off x="457200" y="1371600"/>
            <a:ext cx="34718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tarvation Possib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7" dur="indefinite" restart="never" nodeType="tmRoot">
          <p:childTnLst>
            <p:seq>
              <p:cTn id="3278" dur="indefinite" nodeType="mainSeq">
                <p:childTnLst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3" dur="500"/>
                                        <p:tgtEl>
                                          <p:spTgt spid="2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4" fill="hold">
                      <p:stCondLst>
                        <p:cond delay="indefinite"/>
                      </p:stCondLst>
                      <p:childTnLst>
                        <p:par>
                          <p:cTn id="3285" fill="hold">
                            <p:stCondLst>
                              <p:cond delay="0"/>
                            </p:stCondLst>
                            <p:childTnLst>
                              <p:par>
                                <p:cTn id="3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2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9" dur="500" fill="hold"/>
                                        <p:tgtEl>
                                          <p:spTgt spid="2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0" fill="hold">
                      <p:stCondLst>
                        <p:cond delay="indefinite"/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4" dur="500"/>
                                        <p:tgtEl>
                                          <p:spTgt spid="2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9" dur="500"/>
                                        <p:tgtEl>
                                          <p:spTgt spid="2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0" fill="hold">
                      <p:stCondLst>
                        <p:cond delay="indefinite"/>
                      </p:stCondLst>
                      <p:childTnLst>
                        <p:par>
                          <p:cTn id="3301" fill="hold">
                            <p:stCondLst>
                              <p:cond delay="0"/>
                            </p:stCondLst>
                            <p:childTnLst>
                              <p:par>
                                <p:cTn id="3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4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9" dur="5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0" fill="hold">
                      <p:stCondLst>
                        <p:cond delay="indefinite"/>
                      </p:stCondLst>
                      <p:childTnLst>
                        <p:par>
                          <p:cTn id="3311" fill="hold">
                            <p:stCondLst>
                              <p:cond delay="0"/>
                            </p:stCondLst>
                            <p:childTnLst>
                              <p:par>
                                <p:cTn id="3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4" dur="5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fill="hold">
                      <p:stCondLst>
                        <p:cond delay="indefinite"/>
                      </p:stCondLst>
                      <p:childTnLst>
                        <p:par>
                          <p:cTn id="3316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9" dur="500"/>
                                        <p:tgtEl>
                                          <p:spTgt spid="2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4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fill="hold">
                      <p:stCondLst>
                        <p:cond delay="indefinite"/>
                      </p:stCondLst>
                      <p:childTnLst>
                        <p:par>
                          <p:cTn id="3326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9" dur="5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4" dur="5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5" fill="hold">
                      <p:stCondLst>
                        <p:cond delay="indefinite"/>
                      </p:stCondLst>
                      <p:childTnLst>
                        <p:par>
                          <p:cTn id="3336" fill="hold">
                            <p:stCondLst>
                              <p:cond delay="0"/>
                            </p:stCondLst>
                            <p:childTnLst>
                              <p:par>
                                <p:cTn id="3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9" dur="500"/>
                                        <p:tgtEl>
                                          <p:spTgt spid="2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0" fill="hold">
                      <p:stCondLst>
                        <p:cond delay="indefinite"/>
                      </p:stCondLst>
                      <p:childTnLst>
                        <p:par>
                          <p:cTn id="3341" fill="hold">
                            <p:stCondLst>
                              <p:cond delay="0"/>
                            </p:stCondLst>
                            <p:childTnLst>
                              <p:par>
                                <p:cTn id="3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4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9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0" fill="hold">
                      <p:stCondLst>
                        <p:cond delay="indefinite"/>
                      </p:stCondLst>
                      <p:childTnLst>
                        <p:par>
                          <p:cTn id="3351" fill="hold">
                            <p:stCondLst>
                              <p:cond delay="0"/>
                            </p:stCondLst>
                            <p:childTnLst>
                              <p:par>
                                <p:cTn id="3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4" dur="500"/>
                                        <p:tgtEl>
                                          <p:spTgt spid="2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5" fill="hold">
                      <p:stCondLst>
                        <p:cond delay="indefinite"/>
                      </p:stCondLst>
                      <p:childTnLst>
                        <p:par>
                          <p:cTn id="3356" fill="hold">
                            <p:stCondLst>
                              <p:cond delay="0"/>
                            </p:stCondLst>
                            <p:childTnLst>
                              <p:par>
                                <p:cTn id="33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9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0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3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4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5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6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"/>
          <p:cNvSpPr/>
          <p:nvPr/>
        </p:nvSpPr>
        <p:spPr>
          <a:xfrm>
            <a:off x="4429080" y="5686560"/>
            <a:ext cx="1362240" cy="398880"/>
          </a:xfrm>
          <a:prstGeom prst="borderCallout1">
            <a:avLst>
              <a:gd name="adj1" fmla="val 18750"/>
              <a:gd name="adj2" fmla="val -8333"/>
              <a:gd name="adj3" fmla="val -85300"/>
              <a:gd name="adj4" fmla="val 8005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monitor-ca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685800" y="1447920"/>
            <a:ext cx="3886200" cy="4572000"/>
            <a:chOff x="685800" y="1447920"/>
            <a:chExt cx="3886200" cy="4572000"/>
          </a:xfrm>
        </p:grpSpPr>
        <p:sp>
          <p:nvSpPr>
            <p:cNvPr id="2532" name=""/>
            <p:cNvSpPr/>
            <p:nvPr/>
          </p:nvSpPr>
          <p:spPr>
            <a:xfrm>
              <a:off x="685800" y="1447920"/>
              <a:ext cx="3886200" cy="45720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nitor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600200" y="2133720"/>
              <a:ext cx="2095560" cy="6858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Shared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990720" y="2971800"/>
              <a:ext cx="53316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676520" y="2971800"/>
              <a:ext cx="53316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3657600" y="2971800"/>
              <a:ext cx="53352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638360" y="4724280"/>
              <a:ext cx="1942920" cy="685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Initialization</a:t>
              </a:r>
              <a:br>
                <a:rPr sz="2400"/>
              </a:b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(construct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8" name=""/>
          <p:cNvSpPr/>
          <p:nvPr/>
        </p:nvSpPr>
        <p:spPr>
          <a:xfrm>
            <a:off x="1816200" y="3124080"/>
            <a:ext cx="253800" cy="9907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2438280" y="3762360"/>
            <a:ext cx="1032120" cy="368280"/>
          </a:xfrm>
          <a:prstGeom prst="borderCallout1">
            <a:avLst>
              <a:gd name="adj1" fmla="val 18750"/>
              <a:gd name="adj2" fmla="val -8333"/>
              <a:gd name="adj3" fmla="val 21189"/>
              <a:gd name="adj4" fmla="val -39675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c.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0" name=""/>
          <p:cNvGrpSpPr/>
          <p:nvPr/>
        </p:nvGrpSpPr>
        <p:grpSpPr>
          <a:xfrm>
            <a:off x="4724280" y="1447920"/>
            <a:ext cx="3886200" cy="4572000"/>
            <a:chOff x="4724280" y="1447920"/>
            <a:chExt cx="3886200" cy="4572000"/>
          </a:xfrm>
        </p:grpSpPr>
        <p:sp>
          <p:nvSpPr>
            <p:cNvPr id="2541" name=""/>
            <p:cNvSpPr/>
            <p:nvPr/>
          </p:nvSpPr>
          <p:spPr>
            <a:xfrm>
              <a:off x="4724280" y="1447920"/>
              <a:ext cx="3886200" cy="457200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nitor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638680" y="2133720"/>
              <a:ext cx="2095560" cy="6858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Shared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029200" y="2971800"/>
              <a:ext cx="53352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715000" y="2971800"/>
              <a:ext cx="53352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F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696080" y="2971800"/>
              <a:ext cx="53352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F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76840" y="4724280"/>
              <a:ext cx="1943280" cy="685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Initialization</a:t>
              </a:r>
              <a:br>
                <a:rPr sz="2400"/>
              </a:b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(construct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7" name=""/>
          <p:cNvSpPr/>
          <p:nvPr/>
        </p:nvSpPr>
        <p:spPr>
          <a:xfrm>
            <a:off x="5854680" y="3124080"/>
            <a:ext cx="254160" cy="9907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1905120" y="2946240"/>
            <a:ext cx="4114800" cy="787680"/>
          </a:xfrm>
          <a:custGeom>
            <a:avLst/>
            <a:gdLst/>
            <a:ahLst/>
            <a:rect l="l" t="t" r="r" b="b"/>
            <a:pathLst>
              <a:path w="2592" h="736">
                <a:moveTo>
                  <a:pt x="0" y="736"/>
                </a:moveTo>
                <a:cubicBezTo>
                  <a:pt x="284" y="508"/>
                  <a:pt x="568" y="280"/>
                  <a:pt x="912" y="160"/>
                </a:cubicBezTo>
                <a:cubicBezTo>
                  <a:pt x="1256" y="40"/>
                  <a:pt x="1784" y="32"/>
                  <a:pt x="2064" y="16"/>
                </a:cubicBezTo>
                <a:cubicBezTo>
                  <a:pt x="2344" y="0"/>
                  <a:pt x="2468" y="32"/>
                  <a:pt x="2592" y="64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867280" y="3413160"/>
            <a:ext cx="685800" cy="398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4429080" y="5686560"/>
            <a:ext cx="1362240" cy="398880"/>
          </a:xfrm>
          <a:prstGeom prst="borderCallout1">
            <a:avLst>
              <a:gd name="adj1" fmla="val 18750"/>
              <a:gd name="adj2" fmla="val -8333"/>
              <a:gd name="adj3" fmla="val -85300"/>
              <a:gd name="adj4" fmla="val 8005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57200" y="5686560"/>
            <a:ext cx="1362240" cy="398880"/>
          </a:xfrm>
          <a:prstGeom prst="borderCallout1">
            <a:avLst>
              <a:gd name="adj1" fmla="val 18750"/>
              <a:gd name="adj2" fmla="val -8333"/>
              <a:gd name="adj3" fmla="val -85300"/>
              <a:gd name="adj4" fmla="val 8005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28600" y="5486400"/>
            <a:ext cx="1905120" cy="76212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8" dur="indefinite" restart="never" nodeType="tmRoot">
          <p:childTnLst>
            <p:seq>
              <p:cTn id="3369" dur="indefinite" nodeType="mainSeq">
                <p:childTnLst>
                  <p:par>
                    <p:cTn id="3370" fill="hold">
                      <p:stCondLst>
                        <p:cond delay="indefinite"/>
                      </p:stCondLst>
                      <p:childTnLst>
                        <p:par>
                          <p:cTn id="3371" fill="hold">
                            <p:stCondLst>
                              <p:cond delay="0"/>
                            </p:stCondLst>
                            <p:childTnLst>
                              <p:par>
                                <p:cTn id="33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4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fill="hold">
                      <p:stCondLst>
                        <p:cond delay="indefinite"/>
                      </p:stCondLst>
                      <p:childTnLst>
                        <p:par>
                          <p:cTn id="3376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9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fill="hold">
                      <p:stCondLst>
                        <p:cond delay="indefinite"/>
                      </p:stCondLst>
                      <p:childTnLst>
                        <p:par>
                          <p:cTn id="3381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4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3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88" dur="500"/>
                                        <p:tgtEl>
                                          <p:spTgt spid="2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2" dur="500"/>
                                        <p:tgtEl>
                                          <p:spTgt spid="2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7" dur="5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1" dur="500"/>
                                        <p:tgtEl>
                                          <p:spTgt spid="2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5" dur="500"/>
                                        <p:tgtEl>
                                          <p:spTgt spid="2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6" fill="hold">
                      <p:stCondLst>
                        <p:cond delay="indefinite"/>
                      </p:stCondLst>
                      <p:childTnLst>
                        <p:par>
                          <p:cTn id="3407" fill="hold">
                            <p:stCondLst>
                              <p:cond delay="0"/>
                            </p:stCondLst>
                            <p:childTnLst>
                              <p:par>
                                <p:cTn id="340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0" dur="5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5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2" fill="hold">
                            <p:stCondLst>
                              <p:cond delay="500"/>
                            </p:stCondLst>
                            <p:childTnLst>
                              <p:par>
                                <p:cTn id="3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5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0" dur="500" fill="hold"/>
                                        <p:tgtEl>
                                          <p:spTgt spid="2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1" dur="500" fill="hold"/>
                                        <p:tgtEl>
                                          <p:spTgt spid="2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4" name=""/>
          <p:cNvGrpSpPr/>
          <p:nvPr/>
        </p:nvGrpSpPr>
        <p:grpSpPr>
          <a:xfrm>
            <a:off x="4038480" y="2862360"/>
            <a:ext cx="2971800" cy="1849320"/>
            <a:chOff x="4038480" y="2862360"/>
            <a:chExt cx="2971800" cy="1849320"/>
          </a:xfrm>
        </p:grpSpPr>
        <p:sp>
          <p:nvSpPr>
            <p:cNvPr id="2555" name=""/>
            <p:cNvSpPr/>
            <p:nvPr/>
          </p:nvSpPr>
          <p:spPr>
            <a:xfrm>
              <a:off x="4038480" y="2990880"/>
              <a:ext cx="2895840" cy="17208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419720" y="3440160"/>
              <a:ext cx="2266920" cy="89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122720" y="3081240"/>
              <a:ext cx="2770200" cy="1554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343400" y="3340080"/>
              <a:ext cx="2349360" cy="1082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876920" y="2862360"/>
              <a:ext cx="21333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0" name=""/>
          <p:cNvGrpSpPr/>
          <p:nvPr/>
        </p:nvGrpSpPr>
        <p:grpSpPr>
          <a:xfrm>
            <a:off x="5487480" y="3522600"/>
            <a:ext cx="1140840" cy="495720"/>
            <a:chOff x="5487480" y="3522600"/>
            <a:chExt cx="1140840" cy="495720"/>
          </a:xfrm>
        </p:grpSpPr>
        <p:sp>
          <p:nvSpPr>
            <p:cNvPr id="2561" name=""/>
            <p:cNvSpPr/>
            <p:nvPr/>
          </p:nvSpPr>
          <p:spPr>
            <a:xfrm>
              <a:off x="5867280" y="3522600"/>
              <a:ext cx="623880" cy="177840"/>
            </a:xfrm>
            <a:custGeom>
              <a:avLst/>
              <a:gdLst/>
              <a:ahLst/>
              <a:rect l="l" t="t" r="r" b="b"/>
              <a:pathLst>
                <a:path w="528" h="112">
                  <a:moveTo>
                    <a:pt x="0" y="16"/>
                  </a:moveTo>
                  <a:cubicBezTo>
                    <a:pt x="100" y="8"/>
                    <a:pt x="200" y="0"/>
                    <a:pt x="288" y="16"/>
                  </a:cubicBezTo>
                  <a:cubicBezTo>
                    <a:pt x="376" y="32"/>
                    <a:pt x="452" y="72"/>
                    <a:pt x="528" y="11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487480" y="3619440"/>
              <a:ext cx="114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?.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4114800" y="3797280"/>
            <a:ext cx="1447920" cy="1770480"/>
            <a:chOff x="4114800" y="3797280"/>
            <a:chExt cx="1447920" cy="1770480"/>
          </a:xfrm>
        </p:grpSpPr>
        <p:grpSp>
          <p:nvGrpSpPr>
            <p:cNvPr id="2564" name=""/>
            <p:cNvGrpSpPr/>
            <p:nvPr/>
          </p:nvGrpSpPr>
          <p:grpSpPr>
            <a:xfrm>
              <a:off x="4571640" y="3797280"/>
              <a:ext cx="839880" cy="914400"/>
              <a:chOff x="4571640" y="3797280"/>
              <a:chExt cx="839880" cy="914400"/>
            </a:xfrm>
          </p:grpSpPr>
          <p:sp>
            <p:nvSpPr>
              <p:cNvPr id="2565" name=""/>
              <p:cNvSpPr/>
              <p:nvPr/>
            </p:nvSpPr>
            <p:spPr>
              <a:xfrm>
                <a:off x="4740480" y="3797280"/>
                <a:ext cx="125280" cy="9144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6" name=""/>
              <p:cNvGrpSpPr/>
              <p:nvPr/>
            </p:nvGrpSpPr>
            <p:grpSpPr>
              <a:xfrm>
                <a:off x="4571640" y="3836520"/>
                <a:ext cx="839880" cy="307800"/>
                <a:chOff x="4571640" y="3836520"/>
                <a:chExt cx="839880" cy="307800"/>
              </a:xfrm>
            </p:grpSpPr>
            <p:sp>
              <p:nvSpPr>
                <p:cNvPr id="2567" name=""/>
                <p:cNvSpPr/>
                <p:nvPr/>
              </p:nvSpPr>
              <p:spPr>
                <a:xfrm rot="5434200">
                  <a:off x="4869000" y="3651120"/>
                  <a:ext cx="75960" cy="6706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8" name=""/>
                <p:cNvGrpSpPr/>
                <p:nvPr/>
              </p:nvGrpSpPr>
              <p:grpSpPr>
                <a:xfrm>
                  <a:off x="5073480" y="3836520"/>
                  <a:ext cx="338040" cy="307800"/>
                  <a:chOff x="5073480" y="3836520"/>
                  <a:chExt cx="338040" cy="307800"/>
                </a:xfrm>
              </p:grpSpPr>
              <p:sp>
                <p:nvSpPr>
                  <p:cNvPr id="2569" name=""/>
                  <p:cNvSpPr/>
                  <p:nvPr/>
                </p:nvSpPr>
                <p:spPr>
                  <a:xfrm rot="5434200">
                    <a:off x="5090040" y="382248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 rot="5434200">
                    <a:off x="5166360" y="390600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71" name=""/>
            <p:cNvSpPr/>
            <p:nvPr/>
          </p:nvSpPr>
          <p:spPr>
            <a:xfrm>
              <a:off x="4114800" y="486396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xt_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2" name=""/>
          <p:cNvSpPr/>
          <p:nvPr/>
        </p:nvSpPr>
        <p:spPr>
          <a:xfrm>
            <a:off x="228600" y="2057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3" name=""/>
          <p:cNvGrpSpPr/>
          <p:nvPr/>
        </p:nvGrpSpPr>
        <p:grpSpPr>
          <a:xfrm>
            <a:off x="747720" y="2388240"/>
            <a:ext cx="863280" cy="1040760"/>
            <a:chOff x="747720" y="2388240"/>
            <a:chExt cx="863280" cy="1040760"/>
          </a:xfrm>
        </p:grpSpPr>
        <p:sp>
          <p:nvSpPr>
            <p:cNvPr id="2574" name=""/>
            <p:cNvSpPr/>
            <p:nvPr/>
          </p:nvSpPr>
          <p:spPr>
            <a:xfrm>
              <a:off x="747720" y="2438280"/>
              <a:ext cx="8380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5" name=""/>
            <p:cNvGrpSpPr/>
            <p:nvPr/>
          </p:nvGrpSpPr>
          <p:grpSpPr>
            <a:xfrm>
              <a:off x="771480" y="2388240"/>
              <a:ext cx="839520" cy="1040760"/>
              <a:chOff x="771480" y="2388240"/>
              <a:chExt cx="839520" cy="1040760"/>
            </a:xfrm>
          </p:grpSpPr>
          <p:sp>
            <p:nvSpPr>
              <p:cNvPr id="2576" name=""/>
              <p:cNvSpPr/>
              <p:nvPr/>
            </p:nvSpPr>
            <p:spPr>
              <a:xfrm>
                <a:off x="915120" y="2514600"/>
                <a:ext cx="125640" cy="9144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7" name=""/>
              <p:cNvGrpSpPr/>
              <p:nvPr/>
            </p:nvGrpSpPr>
            <p:grpSpPr>
              <a:xfrm>
                <a:off x="771480" y="2388240"/>
                <a:ext cx="839520" cy="529200"/>
                <a:chOff x="771480" y="2388240"/>
                <a:chExt cx="839520" cy="529200"/>
              </a:xfrm>
            </p:grpSpPr>
            <p:sp>
              <p:nvSpPr>
                <p:cNvPr id="2578" name=""/>
                <p:cNvSpPr/>
                <p:nvPr/>
              </p:nvSpPr>
              <p:spPr>
                <a:xfrm rot="3885600">
                  <a:off x="1052640" y="2404800"/>
                  <a:ext cx="75960" cy="6706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9" name=""/>
                <p:cNvGrpSpPr/>
                <p:nvPr/>
              </p:nvGrpSpPr>
              <p:grpSpPr>
                <a:xfrm>
                  <a:off x="1177920" y="2388240"/>
                  <a:ext cx="433080" cy="418680"/>
                  <a:chOff x="1177920" y="2388240"/>
                  <a:chExt cx="433080" cy="418680"/>
                </a:xfrm>
              </p:grpSpPr>
              <p:sp>
                <p:nvSpPr>
                  <p:cNvPr id="2580" name=""/>
                  <p:cNvSpPr/>
                  <p:nvPr/>
                </p:nvSpPr>
                <p:spPr>
                  <a:xfrm rot="3885600">
                    <a:off x="1242000" y="2430000"/>
                    <a:ext cx="30492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 rot="3885600">
                    <a:off x="1317960" y="2513520"/>
                    <a:ext cx="1526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582" name=""/>
          <p:cNvGrpSpPr/>
          <p:nvPr/>
        </p:nvGrpSpPr>
        <p:grpSpPr>
          <a:xfrm>
            <a:off x="747360" y="2438280"/>
            <a:ext cx="839880" cy="990720"/>
            <a:chOff x="747360" y="2438280"/>
            <a:chExt cx="839880" cy="990720"/>
          </a:xfrm>
        </p:grpSpPr>
        <p:sp>
          <p:nvSpPr>
            <p:cNvPr id="2583" name=""/>
            <p:cNvSpPr/>
            <p:nvPr/>
          </p:nvSpPr>
          <p:spPr>
            <a:xfrm>
              <a:off x="747720" y="2438280"/>
              <a:ext cx="8380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4" name=""/>
            <p:cNvGrpSpPr/>
            <p:nvPr/>
          </p:nvGrpSpPr>
          <p:grpSpPr>
            <a:xfrm>
              <a:off x="747360" y="2514600"/>
              <a:ext cx="839880" cy="914400"/>
              <a:chOff x="747360" y="2514600"/>
              <a:chExt cx="839880" cy="914400"/>
            </a:xfrm>
          </p:grpSpPr>
          <p:sp>
            <p:nvSpPr>
              <p:cNvPr id="2585" name=""/>
              <p:cNvSpPr/>
              <p:nvPr/>
            </p:nvSpPr>
            <p:spPr>
              <a:xfrm>
                <a:off x="915840" y="2514600"/>
                <a:ext cx="124920" cy="9144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6" name=""/>
              <p:cNvGrpSpPr/>
              <p:nvPr/>
            </p:nvGrpSpPr>
            <p:grpSpPr>
              <a:xfrm>
                <a:off x="747360" y="2553840"/>
                <a:ext cx="839880" cy="307800"/>
                <a:chOff x="747360" y="2553840"/>
                <a:chExt cx="839880" cy="307800"/>
              </a:xfrm>
            </p:grpSpPr>
            <p:sp>
              <p:nvSpPr>
                <p:cNvPr id="2587" name=""/>
                <p:cNvSpPr/>
                <p:nvPr/>
              </p:nvSpPr>
              <p:spPr>
                <a:xfrm rot="5434200">
                  <a:off x="1044720" y="2368440"/>
                  <a:ext cx="75960" cy="67068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8" name=""/>
                <p:cNvGrpSpPr/>
                <p:nvPr/>
              </p:nvGrpSpPr>
              <p:grpSpPr>
                <a:xfrm>
                  <a:off x="1249200" y="2553840"/>
                  <a:ext cx="338040" cy="307800"/>
                  <a:chOff x="1249200" y="2553840"/>
                  <a:chExt cx="338040" cy="307800"/>
                </a:xfrm>
              </p:grpSpPr>
              <p:sp>
                <p:nvSpPr>
                  <p:cNvPr id="2589" name=""/>
                  <p:cNvSpPr/>
                  <p:nvPr/>
                </p:nvSpPr>
                <p:spPr>
                  <a:xfrm rot="5434200">
                    <a:off x="1265760" y="253980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 rot="5434200">
                    <a:off x="1342080" y="262332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591" name=""/>
          <p:cNvGrpSpPr/>
          <p:nvPr/>
        </p:nvGrpSpPr>
        <p:grpSpPr>
          <a:xfrm>
            <a:off x="762120" y="2388240"/>
            <a:ext cx="863280" cy="1040760"/>
            <a:chOff x="762120" y="2388240"/>
            <a:chExt cx="863280" cy="1040760"/>
          </a:xfrm>
        </p:grpSpPr>
        <p:sp>
          <p:nvSpPr>
            <p:cNvPr id="2592" name=""/>
            <p:cNvSpPr/>
            <p:nvPr/>
          </p:nvSpPr>
          <p:spPr>
            <a:xfrm>
              <a:off x="762120" y="2438280"/>
              <a:ext cx="8380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3" name=""/>
            <p:cNvGrpSpPr/>
            <p:nvPr/>
          </p:nvGrpSpPr>
          <p:grpSpPr>
            <a:xfrm>
              <a:off x="785880" y="2388240"/>
              <a:ext cx="839520" cy="1040760"/>
              <a:chOff x="785880" y="2388240"/>
              <a:chExt cx="839520" cy="1040760"/>
            </a:xfrm>
          </p:grpSpPr>
          <p:sp>
            <p:nvSpPr>
              <p:cNvPr id="2594" name=""/>
              <p:cNvSpPr/>
              <p:nvPr/>
            </p:nvSpPr>
            <p:spPr>
              <a:xfrm>
                <a:off x="929520" y="2514600"/>
                <a:ext cx="125640" cy="9144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5" name=""/>
              <p:cNvGrpSpPr/>
              <p:nvPr/>
            </p:nvGrpSpPr>
            <p:grpSpPr>
              <a:xfrm>
                <a:off x="785880" y="2388240"/>
                <a:ext cx="839520" cy="529200"/>
                <a:chOff x="785880" y="2388240"/>
                <a:chExt cx="839520" cy="529200"/>
              </a:xfrm>
            </p:grpSpPr>
            <p:sp>
              <p:nvSpPr>
                <p:cNvPr id="2596" name=""/>
                <p:cNvSpPr/>
                <p:nvPr/>
              </p:nvSpPr>
              <p:spPr>
                <a:xfrm rot="3885600">
                  <a:off x="1067040" y="2404800"/>
                  <a:ext cx="75960" cy="67068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7" name=""/>
                <p:cNvGrpSpPr/>
                <p:nvPr/>
              </p:nvGrpSpPr>
              <p:grpSpPr>
                <a:xfrm>
                  <a:off x="1192320" y="2388240"/>
                  <a:ext cx="433080" cy="418680"/>
                  <a:chOff x="1192320" y="2388240"/>
                  <a:chExt cx="433080" cy="418680"/>
                </a:xfrm>
              </p:grpSpPr>
              <p:sp>
                <p:nvSpPr>
                  <p:cNvPr id="2598" name=""/>
                  <p:cNvSpPr/>
                  <p:nvPr/>
                </p:nvSpPr>
                <p:spPr>
                  <a:xfrm rot="3885600">
                    <a:off x="1256400" y="2430000"/>
                    <a:ext cx="30492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 rot="3885600">
                    <a:off x="1332360" y="2513520"/>
                    <a:ext cx="1526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600" name=""/>
          <p:cNvGrpSpPr/>
          <p:nvPr/>
        </p:nvGrpSpPr>
        <p:grpSpPr>
          <a:xfrm>
            <a:off x="747360" y="2438280"/>
            <a:ext cx="839880" cy="990720"/>
            <a:chOff x="747360" y="2438280"/>
            <a:chExt cx="839880" cy="990720"/>
          </a:xfrm>
        </p:grpSpPr>
        <p:sp>
          <p:nvSpPr>
            <p:cNvPr id="2601" name=""/>
            <p:cNvSpPr/>
            <p:nvPr/>
          </p:nvSpPr>
          <p:spPr>
            <a:xfrm>
              <a:off x="747720" y="2438280"/>
              <a:ext cx="8380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2" name=""/>
            <p:cNvGrpSpPr/>
            <p:nvPr/>
          </p:nvGrpSpPr>
          <p:grpSpPr>
            <a:xfrm>
              <a:off x="747360" y="2514600"/>
              <a:ext cx="839880" cy="914400"/>
              <a:chOff x="747360" y="2514600"/>
              <a:chExt cx="839880" cy="914400"/>
            </a:xfrm>
          </p:grpSpPr>
          <p:sp>
            <p:nvSpPr>
              <p:cNvPr id="2603" name=""/>
              <p:cNvSpPr/>
              <p:nvPr/>
            </p:nvSpPr>
            <p:spPr>
              <a:xfrm>
                <a:off x="915840" y="2514600"/>
                <a:ext cx="124920" cy="91440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4" name=""/>
              <p:cNvGrpSpPr/>
              <p:nvPr/>
            </p:nvGrpSpPr>
            <p:grpSpPr>
              <a:xfrm>
                <a:off x="747360" y="2553840"/>
                <a:ext cx="839880" cy="307800"/>
                <a:chOff x="747360" y="2553840"/>
                <a:chExt cx="839880" cy="307800"/>
              </a:xfrm>
            </p:grpSpPr>
            <p:sp>
              <p:nvSpPr>
                <p:cNvPr id="2605" name=""/>
                <p:cNvSpPr/>
                <p:nvPr/>
              </p:nvSpPr>
              <p:spPr>
                <a:xfrm rot="5434200">
                  <a:off x="1044720" y="2368440"/>
                  <a:ext cx="75960" cy="67068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6" name=""/>
                <p:cNvGrpSpPr/>
                <p:nvPr/>
              </p:nvGrpSpPr>
              <p:grpSpPr>
                <a:xfrm>
                  <a:off x="1249200" y="2553840"/>
                  <a:ext cx="338040" cy="307800"/>
                  <a:chOff x="1249200" y="2553840"/>
                  <a:chExt cx="338040" cy="307800"/>
                </a:xfrm>
              </p:grpSpPr>
              <p:sp>
                <p:nvSpPr>
                  <p:cNvPr id="2607" name=""/>
                  <p:cNvSpPr/>
                  <p:nvPr/>
                </p:nvSpPr>
                <p:spPr>
                  <a:xfrm rot="5434200">
                    <a:off x="1265760" y="253980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 rot="5434200">
                    <a:off x="1342080" y="262332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609" name=""/>
          <p:cNvGrpSpPr/>
          <p:nvPr/>
        </p:nvGrpSpPr>
        <p:grpSpPr>
          <a:xfrm>
            <a:off x="990720" y="2798640"/>
            <a:ext cx="2971800" cy="1849680"/>
            <a:chOff x="990720" y="2798640"/>
            <a:chExt cx="2971800" cy="1849680"/>
          </a:xfrm>
        </p:grpSpPr>
        <p:sp>
          <p:nvSpPr>
            <p:cNvPr id="2610" name=""/>
            <p:cNvSpPr/>
            <p:nvPr/>
          </p:nvSpPr>
          <p:spPr>
            <a:xfrm>
              <a:off x="990720" y="2927520"/>
              <a:ext cx="2895480" cy="172080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371600" y="3376440"/>
              <a:ext cx="2266920" cy="89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074600" y="3017880"/>
              <a:ext cx="2770200" cy="1554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1295280" y="3276720"/>
              <a:ext cx="2349720" cy="1082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828800" y="2798640"/>
              <a:ext cx="2133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5" name=""/>
          <p:cNvGrpSpPr/>
          <p:nvPr/>
        </p:nvGrpSpPr>
        <p:grpSpPr>
          <a:xfrm>
            <a:off x="2441880" y="3459240"/>
            <a:ext cx="1001520" cy="495720"/>
            <a:chOff x="2441880" y="3459240"/>
            <a:chExt cx="1001520" cy="495720"/>
          </a:xfrm>
        </p:grpSpPr>
        <p:sp>
          <p:nvSpPr>
            <p:cNvPr id="2616" name=""/>
            <p:cNvSpPr/>
            <p:nvPr/>
          </p:nvSpPr>
          <p:spPr>
            <a:xfrm>
              <a:off x="2819520" y="3459240"/>
              <a:ext cx="623880" cy="177840"/>
            </a:xfrm>
            <a:custGeom>
              <a:avLst/>
              <a:gdLst/>
              <a:ahLst/>
              <a:rect l="l" t="t" r="r" b="b"/>
              <a:pathLst>
                <a:path w="528" h="112">
                  <a:moveTo>
                    <a:pt x="0" y="16"/>
                  </a:moveTo>
                  <a:cubicBezTo>
                    <a:pt x="100" y="8"/>
                    <a:pt x="200" y="0"/>
                    <a:pt x="288" y="16"/>
                  </a:cubicBezTo>
                  <a:cubicBezTo>
                    <a:pt x="376" y="32"/>
                    <a:pt x="452" y="72"/>
                    <a:pt x="528" y="112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441880" y="355608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x.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8" name=""/>
          <p:cNvGrpSpPr/>
          <p:nvPr/>
        </p:nvGrpSpPr>
        <p:grpSpPr>
          <a:xfrm>
            <a:off x="1066680" y="3657600"/>
            <a:ext cx="1220400" cy="1770480"/>
            <a:chOff x="1066680" y="3657600"/>
            <a:chExt cx="1220400" cy="1770480"/>
          </a:xfrm>
        </p:grpSpPr>
        <p:grpSp>
          <p:nvGrpSpPr>
            <p:cNvPr id="2619" name=""/>
            <p:cNvGrpSpPr/>
            <p:nvPr/>
          </p:nvGrpSpPr>
          <p:grpSpPr>
            <a:xfrm>
              <a:off x="1447200" y="3657600"/>
              <a:ext cx="839880" cy="914400"/>
              <a:chOff x="1447200" y="3657600"/>
              <a:chExt cx="839880" cy="914400"/>
            </a:xfrm>
          </p:grpSpPr>
          <p:sp>
            <p:nvSpPr>
              <p:cNvPr id="2620" name=""/>
              <p:cNvSpPr/>
              <p:nvPr/>
            </p:nvSpPr>
            <p:spPr>
              <a:xfrm>
                <a:off x="1616040" y="3657600"/>
                <a:ext cx="125280" cy="91440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1" name=""/>
              <p:cNvGrpSpPr/>
              <p:nvPr/>
            </p:nvGrpSpPr>
            <p:grpSpPr>
              <a:xfrm>
                <a:off x="1447200" y="3696840"/>
                <a:ext cx="839880" cy="307800"/>
                <a:chOff x="1447200" y="3696840"/>
                <a:chExt cx="839880" cy="307800"/>
              </a:xfrm>
            </p:grpSpPr>
            <p:sp>
              <p:nvSpPr>
                <p:cNvPr id="2622" name=""/>
                <p:cNvSpPr/>
                <p:nvPr/>
              </p:nvSpPr>
              <p:spPr>
                <a:xfrm rot="5434200">
                  <a:off x="1744560" y="3511440"/>
                  <a:ext cx="75960" cy="67068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3" name=""/>
                <p:cNvGrpSpPr/>
                <p:nvPr/>
              </p:nvGrpSpPr>
              <p:grpSpPr>
                <a:xfrm>
                  <a:off x="1949040" y="3696840"/>
                  <a:ext cx="338040" cy="307800"/>
                  <a:chOff x="1949040" y="3696840"/>
                  <a:chExt cx="338040" cy="307800"/>
                </a:xfrm>
              </p:grpSpPr>
              <p:sp>
                <p:nvSpPr>
                  <p:cNvPr id="2624" name=""/>
                  <p:cNvSpPr/>
                  <p:nvPr/>
                </p:nvSpPr>
                <p:spPr>
                  <a:xfrm rot="5434200">
                    <a:off x="1965600" y="368280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 rot="5434200">
                    <a:off x="2041920" y="376632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26" name=""/>
            <p:cNvSpPr/>
            <p:nvPr/>
          </p:nvSpPr>
          <p:spPr>
            <a:xfrm>
              <a:off x="1066680" y="472428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_delay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_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7" name=""/>
          <p:cNvSpPr/>
          <p:nvPr/>
        </p:nvSpPr>
        <p:spPr>
          <a:xfrm flipH="1" rot="234600">
            <a:off x="1904400" y="4114800"/>
            <a:ext cx="838080" cy="43344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8" name=""/>
          <p:cNvGrpSpPr/>
          <p:nvPr/>
        </p:nvGrpSpPr>
        <p:grpSpPr>
          <a:xfrm>
            <a:off x="1066680" y="3027240"/>
            <a:ext cx="7238880" cy="304920"/>
            <a:chOff x="1066680" y="3027240"/>
            <a:chExt cx="7238880" cy="304920"/>
          </a:xfrm>
        </p:grpSpPr>
        <p:sp>
          <p:nvSpPr>
            <p:cNvPr id="2629" name=""/>
            <p:cNvSpPr/>
            <p:nvPr/>
          </p:nvSpPr>
          <p:spPr>
            <a:xfrm>
              <a:off x="1143000" y="3027240"/>
              <a:ext cx="7162560" cy="3049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066680" y="309240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066680" y="324468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32" name=""/>
          <p:cNvGraphicFramePr/>
          <p:nvPr/>
        </p:nvGraphicFramePr>
        <p:xfrm>
          <a:off x="3809880" y="2771640"/>
          <a:ext cx="914400" cy="470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3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2771640"/>
                    <a:ext cx="9144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4" name=""/>
          <p:cNvGraphicFramePr/>
          <p:nvPr/>
        </p:nvGraphicFramePr>
        <p:xfrm>
          <a:off x="1905120" y="2771640"/>
          <a:ext cx="914400" cy="470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3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905120" y="2771640"/>
                    <a:ext cx="9144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2" dur="indefinite" restart="never" nodeType="tmRoot">
          <p:childTnLst>
            <p:seq>
              <p:cTn id="3423" dur="indefinite" nodeType="mainSeq">
                <p:childTnLst>
                  <p:par>
                    <p:cTn id="3424" fill="hold">
                      <p:stCondLst>
                        <p:cond delay="indefinite"/>
                      </p:stCondLst>
                      <p:childTnLst>
                        <p:par>
                          <p:cTn id="3425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8" dur="500"/>
                                        <p:tgtEl>
                                          <p:spTgt spid="2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9" fill="hold">
                            <p:stCondLst>
                              <p:cond delay="500"/>
                            </p:stCondLst>
                            <p:childTnLst>
                              <p:par>
                                <p:cTn id="34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2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3" fill="hold">
                      <p:stCondLst>
                        <p:cond delay="indefinite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7" dur="500"/>
                                        <p:tgtEl>
                                          <p:spTgt spid="2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2" dur="5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fill="hold">
                      <p:stCondLst>
                        <p:cond delay="indefinite"/>
                      </p:stCondLst>
                      <p:childTnLst>
                        <p:par>
                          <p:cTn id="3444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7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8" fill="hold">
                      <p:stCondLst>
                        <p:cond delay="indefinite"/>
                      </p:stCondLst>
                      <p:childTnLst>
                        <p:par>
                          <p:cTn id="3449" fill="hold">
                            <p:stCondLst>
                              <p:cond delay="0"/>
                            </p:stCondLst>
                            <p:childTnLst>
                              <p:par>
                                <p:cTn id="3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2" dur="5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3" fill="hold">
                      <p:stCondLst>
                        <p:cond delay="indefinite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7" fill="hold">
                            <p:stCondLst>
                              <p:cond delay="500"/>
                            </p:stCondLst>
                            <p:childTnLst>
                              <p:par>
                                <p:cTn id="3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0" dur="500" fill="hold"/>
                                        <p:tgtEl>
                                          <p:spTgt spid="2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1" dur="500" fill="hold"/>
                                        <p:tgtEl>
                                          <p:spTgt spid="2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66" dur="500"/>
                                        <p:tgtEl>
                                          <p:spTgt spid="2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68" fill="hold">
                            <p:stCondLst>
                              <p:cond delay="500"/>
                            </p:stCondLst>
                            <p:childTnLst>
                              <p:par>
                                <p:cTn id="3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5" fill="hold">
                            <p:stCondLst>
                              <p:cond delay="500"/>
                            </p:stCondLst>
                            <p:childTnLst>
                              <p:par>
                                <p:cTn id="3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8" dur="500" fill="hold"/>
                                        <p:tgtEl>
                                          <p:spTgt spid="2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2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4" dur="500"/>
                                        <p:tgtEl>
                                          <p:spTgt spid="2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5" fill="hold">
                            <p:stCondLst>
                              <p:cond delay="500"/>
                            </p:stCondLst>
                            <p:childTnLst>
                              <p:par>
                                <p:cTn id="3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8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2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611280" y="1790640"/>
            <a:ext cx="3046320" cy="6098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N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611280" y="3048120"/>
            <a:ext cx="3046320" cy="38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condi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4572000" y="1752480"/>
            <a:ext cx="4114800" cy="11430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AME {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mutex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nex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next_coun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4572000" y="3048120"/>
            <a:ext cx="4114800" cy="685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x_delay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x_coun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3809880" y="19051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3809880" y="30481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09480" y="3886200"/>
            <a:ext cx="3048120" cy="12952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F 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570560" y="3886200"/>
            <a:ext cx="4116240" cy="22096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void F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 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dy of F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next_count &gt; 0)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nex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808440" y="3886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3" dur="indefinite" restart="never" nodeType="tmRoot">
          <p:childTnLst>
            <p:seq>
              <p:cTn id="3494" dur="indefinite" nodeType="mainSeq">
                <p:childTnLst>
                  <p:par>
                    <p:cTn id="3495" fill="hold">
                      <p:stCondLst>
                        <p:cond delay="indefinite"/>
                      </p:stCondLst>
                      <p:childTnLst>
                        <p:par>
                          <p:cTn id="3496" fill="hold">
                            <p:stCondLst>
                              <p:cond delay="0"/>
                            </p:stCondLst>
                            <p:childTnLst>
                              <p:par>
                                <p:cTn id="3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9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4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5" fill="hold">
                            <p:stCondLst>
                              <p:cond delay="500"/>
                            </p:stCondLst>
                            <p:childTnLst>
                              <p:par>
                                <p:cTn id="3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8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3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18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9" fill="hold">
                            <p:stCondLst>
                              <p:cond delay="500"/>
                            </p:stCondLst>
                            <p:childTnLst>
                              <p:par>
                                <p:cTn id="3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2" dur="500"/>
                                        <p:tgtEl>
                                          <p:spTgt spid="2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7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8" fill="hold">
                      <p:stCondLst>
                        <p:cond delay="indefinite"/>
                      </p:stCondLst>
                      <p:childTnLst>
                        <p:par>
                          <p:cTn id="3529" fill="hold">
                            <p:stCondLst>
                              <p:cond delay="0"/>
                            </p:stCondLst>
                            <p:childTnLst>
                              <p:par>
                                <p:cTn id="3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2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3" fill="hold">
                            <p:stCondLst>
                              <p:cond delay="500"/>
                            </p:stCondLst>
                            <p:childTnLst>
                              <p:par>
                                <p:cTn id="3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6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0" dur="500"/>
                                        <p:tgtEl>
                                          <p:spTgt spid="2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3" dur="500"/>
                                        <p:tgtEl>
                                          <p:spTgt spid="2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6" dur="500"/>
                                        <p:tgtEl>
                                          <p:spTgt spid="2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9" dur="500"/>
                                        <p:tgtEl>
                                          <p:spTgt spid="2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4" dur="500"/>
                                        <p:tgtEl>
                                          <p:spTgt spid="2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5" fill="hold">
                      <p:stCondLst>
                        <p:cond delay="indefinite"/>
                      </p:stCondLst>
                      <p:childTnLst>
                        <p:par>
                          <p:cTn id="3556" fill="hold">
                            <p:stCondLst>
                              <p:cond delay="0"/>
                            </p:stCondLst>
                            <p:childTnLst>
                              <p:par>
                                <p:cTn id="3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9" dur="500"/>
                                        <p:tgtEl>
                                          <p:spTgt spid="2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0" fill="hold">
                      <p:stCondLst>
                        <p:cond delay="indefinite"/>
                      </p:stCondLst>
                      <p:childTnLst>
                        <p:par>
                          <p:cTn id="3561" fill="hold">
                            <p:stCondLst>
                              <p:cond delay="0"/>
                            </p:stCondLst>
                            <p:childTnLst>
                              <p:par>
                                <p:cTn id="3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4" dur="500"/>
                                        <p:tgtEl>
                                          <p:spTgt spid="2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611280" y="1790640"/>
            <a:ext cx="3046320" cy="419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611280" y="3886200"/>
            <a:ext cx="3046320" cy="38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4572000" y="1752480"/>
            <a:ext cx="4114800" cy="17528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x_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next_count &gt; 0)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nex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x_del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x_count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809880" y="19051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3809880" y="3886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4572000" y="3809880"/>
            <a:ext cx="4114800" cy="21337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x_count &gt; 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ext_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x_del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nex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ext_count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5" dur="indefinite" restart="never" nodeType="tmRoot">
          <p:childTnLst>
            <p:seq>
              <p:cTn id="3566" dur="indefinite" nodeType="mainSeq">
                <p:childTnLst>
                  <p:par>
                    <p:cTn id="3567" fill="hold">
                      <p:stCondLst>
                        <p:cond delay="indefinite"/>
                      </p:stCondLst>
                      <p:childTnLst>
                        <p:par>
                          <p:cTn id="3568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1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fill="hold">
                      <p:stCondLst>
                        <p:cond delay="indefinite"/>
                      </p:stCondLst>
                      <p:childTnLst>
                        <p:par>
                          <p:cTn id="3573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76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7" fill="hold">
                            <p:stCondLst>
                              <p:cond delay="500"/>
                            </p:stCondLst>
                            <p:childTnLst>
                              <p:par>
                                <p:cTn id="3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0" dur="5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5" dur="500"/>
                                        <p:tgtEl>
                                          <p:spTgt spid="2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6" fill="hold">
                            <p:stCondLst>
                              <p:cond delay="500"/>
                            </p:stCondLst>
                            <p:childTnLst>
                              <p:par>
                                <p:cTn id="3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9" dur="500"/>
                                        <p:tgtEl>
                                          <p:spTgt spid="2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3" dur="500"/>
                                        <p:tgtEl>
                                          <p:spTgt spid="2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fill="hold">
                      <p:stCondLst>
                        <p:cond delay="indefinite"/>
                      </p:stCondLst>
                      <p:childTnLst>
                        <p:par>
                          <p:cTn id="3595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8" dur="500"/>
                                        <p:tgtEl>
                                          <p:spTgt spid="2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fill="hold">
                      <p:stCondLst>
                        <p:cond delay="indefinite"/>
                      </p:stCondLst>
                      <p:childTnLst>
                        <p:par>
                          <p:cTn id="3600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3" dur="500"/>
                                        <p:tgtEl>
                                          <p:spTgt spid="2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fill="hold">
                      <p:stCondLst>
                        <p:cond delay="indefinite"/>
                      </p:stCondLst>
                      <p:childTnLst>
                        <p:par>
                          <p:cTn id="3605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8" dur="500"/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fill="hold">
                      <p:stCondLst>
                        <p:cond delay="indefinite"/>
                      </p:stCondLst>
                      <p:childTnLst>
                        <p:par>
                          <p:cTn id="3610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3" dur="5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4" fill="hold">
                            <p:stCondLst>
                              <p:cond delay="500"/>
                            </p:stCondLst>
                            <p:childTnLst>
                              <p:par>
                                <p:cTn id="3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7" dur="500"/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2" dur="500"/>
                                        <p:tgtEl>
                                          <p:spTgt spid="2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5" dur="500"/>
                                        <p:tgtEl>
                                          <p:spTgt spid="2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fill="hold">
                      <p:stCondLst>
                        <p:cond delay="indefinite"/>
                      </p:stCondLst>
                      <p:childTnLst>
                        <p:par>
                          <p:cTn id="3627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0" dur="500"/>
                                        <p:tgtEl>
                                          <p:spTgt spid="2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1" fill="hold">
                            <p:stCondLst>
                              <p:cond delay="500"/>
                            </p:stCondLst>
                            <p:childTnLst>
                              <p:par>
                                <p:cTn id="3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4" dur="500"/>
                                        <p:tgtEl>
                                          <p:spTgt spid="2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8" dur="500"/>
                                        <p:tgtEl>
                                          <p:spTgt spid="2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3" dur="500"/>
                                        <p:tgtEl>
                                          <p:spTgt spid="2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Manag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4" name=""/>
          <p:cNvGraphicFramePr/>
          <p:nvPr/>
        </p:nvGraphicFramePr>
        <p:xfrm>
          <a:off x="990720" y="1828800"/>
          <a:ext cx="2819160" cy="19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281916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6" name=""/>
          <p:cNvSpPr/>
          <p:nvPr/>
        </p:nvSpPr>
        <p:spPr>
          <a:xfrm>
            <a:off x="1599840" y="3867120"/>
            <a:ext cx="231732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lusiv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cq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7" name=""/>
          <p:cNvGraphicFramePr/>
          <p:nvPr/>
        </p:nvGraphicFramePr>
        <p:xfrm>
          <a:off x="4114800" y="1905120"/>
          <a:ext cx="1574640" cy="24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905120"/>
                    <a:ext cx="157464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9" name=""/>
          <p:cNvSpPr/>
          <p:nvPr/>
        </p:nvSpPr>
        <p:spPr>
          <a:xfrm>
            <a:off x="5410440" y="19051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4" dur="indefinite" restart="never" nodeType="tmRoot">
          <p:childTnLst>
            <p:seq>
              <p:cTn id="3645" dur="indefinite" nodeType="mainSeq">
                <p:childTnLst>
                  <p:par>
                    <p:cTn id="3646" fill="hold">
                      <p:stCondLst>
                        <p:cond delay="indefinite"/>
                      </p:stCondLst>
                      <p:childTnLst>
                        <p:par>
                          <p:cTn id="3647" fill="hold">
                            <p:stCondLst>
                              <p:cond delay="0"/>
                            </p:stCondLst>
                            <p:childTnLst>
                              <p:par>
                                <p:cTn id="3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0" dur="500" fill="hold"/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1" dur="500" fill="hold"/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6" dur="500"/>
                                        <p:tgtEl>
                                          <p:spTgt spid="2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1" dur="500"/>
                                        <p:tgtEl>
                                          <p:spTgt spid="2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2" fill="hold">
                      <p:stCondLst>
                        <p:cond delay="indefinite"/>
                      </p:stCondLst>
                      <p:childTnLst>
                        <p:par>
                          <p:cTn id="3663" fill="hold">
                            <p:stCondLst>
                              <p:cond delay="0"/>
                            </p:stCondLst>
                            <p:childTnLst>
                              <p:par>
                                <p:cTn id="3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6" dur="500"/>
                                        <p:tgtEl>
                                          <p:spTgt spid="2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7" fill="hold">
                      <p:stCondLst>
                        <p:cond delay="indefinite"/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1" dur="500"/>
                                        <p:tgtEl>
                                          <p:spTgt spid="2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2" fill="hold">
                      <p:stCondLst>
                        <p:cond delay="indefinite"/>
                      </p:stCondLst>
                      <p:childTnLst>
                        <p:par>
                          <p:cTn id="3673" fill="hold">
                            <p:stCondLst>
                              <p:cond delay="0"/>
                            </p:stCondLst>
                            <p:childTnLst>
                              <p:par>
                                <p:cTn id="3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6" dur="500"/>
                                        <p:tgtEl>
                                          <p:spTgt spid="2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1" dur="5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5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3" fill="hold">
                            <p:stCondLst>
                              <p:cond delay="500"/>
                            </p:stCondLst>
                            <p:childTnLst>
                              <p:par>
                                <p:cTn id="3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6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Manag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1" name=""/>
          <p:cNvGrpSpPr/>
          <p:nvPr/>
        </p:nvGrpSpPr>
        <p:grpSpPr>
          <a:xfrm>
            <a:off x="609480" y="1525680"/>
            <a:ext cx="5410440" cy="4417920"/>
            <a:chOff x="609480" y="1525680"/>
            <a:chExt cx="5410440" cy="4417920"/>
          </a:xfrm>
        </p:grpSpPr>
        <p:sp>
          <p:nvSpPr>
            <p:cNvPr id="2662" name=""/>
            <p:cNvSpPr/>
            <p:nvPr/>
          </p:nvSpPr>
          <p:spPr>
            <a:xfrm>
              <a:off x="990720" y="2895480"/>
              <a:ext cx="4876560" cy="12956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990720" y="4267080"/>
              <a:ext cx="4876560" cy="12193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09480" y="1525680"/>
              <a:ext cx="5410440" cy="44179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monitor manager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ool busy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manager() { busy = false;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void acquire(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usy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void release(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usy = false;</a:t>
              </a: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5" name=""/>
          <p:cNvSpPr/>
          <p:nvPr/>
        </p:nvSpPr>
        <p:spPr>
          <a:xfrm>
            <a:off x="6248520" y="4276800"/>
            <a:ext cx="2361960" cy="1666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.acquir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 devic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.relea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6246360" y="3049560"/>
            <a:ext cx="24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mgr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anag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1454040" y="3149640"/>
            <a:ext cx="2754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busy) then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ree.wa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1441440" y="48006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ree.signal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1051920" y="21384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ndition fr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7" dur="indefinite" restart="never" nodeType="tmRoot">
          <p:childTnLst>
            <p:seq>
              <p:cTn id="3688" dur="indefinite" nodeType="mainSeq">
                <p:childTnLst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3" dur="500"/>
                                        <p:tgtEl>
                                          <p:spTgt spid="2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4" fill="hold">
                      <p:stCondLst>
                        <p:cond delay="indefinite"/>
                      </p:stCondLst>
                      <p:childTnLst>
                        <p:par>
                          <p:cTn id="3695" fill="hold">
                            <p:stCondLst>
                              <p:cond delay="0"/>
                            </p:stCondLst>
                            <p:childTnLst>
                              <p:par>
                                <p:cTn id="3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8" dur="500"/>
                                        <p:tgtEl>
                                          <p:spTgt spid="2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9" fill="hold">
                      <p:stCondLst>
                        <p:cond delay="indefinite"/>
                      </p:stCondLst>
                      <p:childTnLst>
                        <p:par>
                          <p:cTn id="3700" fill="hold">
                            <p:stCondLst>
                              <p:cond delay="0"/>
                            </p:stCondLst>
                            <p:childTnLst>
                              <p:par>
                                <p:cTn id="3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3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8" dur="5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3" dur="500"/>
                                        <p:tgtEl>
                                          <p:spTgt spid="2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4" fill="hold">
                      <p:stCondLst>
                        <p:cond delay="indefinite"/>
                      </p:stCondLst>
                      <p:childTnLst>
                        <p:par>
                          <p:cTn id="3715" fill="hold">
                            <p:stCondLst>
                              <p:cond delay="0"/>
                            </p:stCondLst>
                            <p:childTnLst>
                              <p:par>
                                <p:cTn id="3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8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Manag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1" name=""/>
          <p:cNvGraphicFramePr/>
          <p:nvPr/>
        </p:nvGraphicFramePr>
        <p:xfrm>
          <a:off x="990720" y="1828800"/>
          <a:ext cx="2819160" cy="19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281916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3" name=""/>
          <p:cNvGraphicFramePr/>
          <p:nvPr/>
        </p:nvGraphicFramePr>
        <p:xfrm>
          <a:off x="4114800" y="1905120"/>
          <a:ext cx="1574640" cy="24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905120"/>
                    <a:ext cx="157464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5" name=""/>
          <p:cNvSpPr/>
          <p:nvPr/>
        </p:nvSpPr>
        <p:spPr>
          <a:xfrm>
            <a:off x="4115160" y="15238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6" name=""/>
          <p:cNvGrpSpPr/>
          <p:nvPr/>
        </p:nvGrpSpPr>
        <p:grpSpPr>
          <a:xfrm>
            <a:off x="5608800" y="3352680"/>
            <a:ext cx="1630080" cy="1881720"/>
            <a:chOff x="5608800" y="3352680"/>
            <a:chExt cx="1630080" cy="1881720"/>
          </a:xfrm>
        </p:grpSpPr>
        <p:graphicFrame>
          <p:nvGraphicFramePr>
            <p:cNvPr id="2677" name=""/>
            <p:cNvGraphicFramePr/>
            <p:nvPr/>
          </p:nvGraphicFramePr>
          <p:xfrm>
            <a:off x="5608800" y="3352680"/>
            <a:ext cx="1630080" cy="160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08800" y="3352680"/>
                      <a:ext cx="163008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79" name=""/>
            <p:cNvSpPr/>
            <p:nvPr/>
          </p:nvSpPr>
          <p:spPr>
            <a:xfrm>
              <a:off x="5913360" y="4724280"/>
              <a:ext cx="53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0" name=""/>
          <p:cNvGrpSpPr/>
          <p:nvPr/>
        </p:nvGrpSpPr>
        <p:grpSpPr>
          <a:xfrm>
            <a:off x="6218280" y="3429000"/>
            <a:ext cx="1630440" cy="1881720"/>
            <a:chOff x="6218280" y="3429000"/>
            <a:chExt cx="1630440" cy="1881720"/>
          </a:xfrm>
        </p:grpSpPr>
        <p:graphicFrame>
          <p:nvGraphicFramePr>
            <p:cNvPr id="2681" name=""/>
            <p:cNvGraphicFramePr/>
            <p:nvPr/>
          </p:nvGraphicFramePr>
          <p:xfrm>
            <a:off x="6218280" y="3429000"/>
            <a:ext cx="1630440" cy="160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8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18280" y="342900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83" name=""/>
            <p:cNvSpPr/>
            <p:nvPr/>
          </p:nvSpPr>
          <p:spPr>
            <a:xfrm>
              <a:off x="6523200" y="48006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4" name=""/>
          <p:cNvGrpSpPr/>
          <p:nvPr/>
        </p:nvGrpSpPr>
        <p:grpSpPr>
          <a:xfrm>
            <a:off x="6904080" y="3581280"/>
            <a:ext cx="1630440" cy="1881720"/>
            <a:chOff x="6904080" y="3581280"/>
            <a:chExt cx="1630440" cy="1881720"/>
          </a:xfrm>
        </p:grpSpPr>
        <p:graphicFrame>
          <p:nvGraphicFramePr>
            <p:cNvPr id="2685" name=""/>
            <p:cNvGraphicFramePr/>
            <p:nvPr/>
          </p:nvGraphicFramePr>
          <p:xfrm>
            <a:off x="6904080" y="3581280"/>
            <a:ext cx="1630440" cy="1600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904080" y="358128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87" name=""/>
            <p:cNvSpPr/>
            <p:nvPr/>
          </p:nvSpPr>
          <p:spPr>
            <a:xfrm>
              <a:off x="7209000" y="49528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8" name=""/>
          <p:cNvSpPr/>
          <p:nvPr/>
        </p:nvSpPr>
        <p:spPr>
          <a:xfrm>
            <a:off x="5638680" y="2971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r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9" name=""/>
          <p:cNvGrpSpPr/>
          <p:nvPr/>
        </p:nvGrpSpPr>
        <p:grpSpPr>
          <a:xfrm>
            <a:off x="3124080" y="2743200"/>
            <a:ext cx="690840" cy="2948400"/>
            <a:chOff x="3124080" y="2743200"/>
            <a:chExt cx="690840" cy="2948400"/>
          </a:xfrm>
        </p:grpSpPr>
        <p:graphicFrame>
          <p:nvGraphicFramePr>
            <p:cNvPr id="2690" name=""/>
            <p:cNvGraphicFramePr/>
            <p:nvPr/>
          </p:nvGraphicFramePr>
          <p:xfrm>
            <a:off x="3124080" y="2743200"/>
            <a:ext cx="690840" cy="2590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9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124080" y="2743200"/>
                      <a:ext cx="690840" cy="25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92" name=""/>
            <p:cNvSpPr/>
            <p:nvPr/>
          </p:nvSpPr>
          <p:spPr>
            <a:xfrm>
              <a:off x="3200400" y="51814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3" name=""/>
          <p:cNvSpPr/>
          <p:nvPr/>
        </p:nvSpPr>
        <p:spPr>
          <a:xfrm>
            <a:off x="838080" y="3886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sy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84600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sy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5" name=""/>
          <p:cNvGrpSpPr/>
          <p:nvPr/>
        </p:nvGrpSpPr>
        <p:grpSpPr>
          <a:xfrm>
            <a:off x="5608800" y="3354480"/>
            <a:ext cx="2925720" cy="2110320"/>
            <a:chOff x="5608800" y="3354480"/>
            <a:chExt cx="2925720" cy="2110320"/>
          </a:xfrm>
        </p:grpSpPr>
        <p:sp>
          <p:nvSpPr>
            <p:cNvPr id="2696" name=""/>
            <p:cNvSpPr/>
            <p:nvPr/>
          </p:nvSpPr>
          <p:spPr>
            <a:xfrm>
              <a:off x="5608800" y="3354480"/>
              <a:ext cx="1600200" cy="198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7" name=""/>
            <p:cNvGrpSpPr/>
            <p:nvPr/>
          </p:nvGrpSpPr>
          <p:grpSpPr>
            <a:xfrm>
              <a:off x="6218640" y="3430800"/>
              <a:ext cx="1630080" cy="1881720"/>
              <a:chOff x="6218640" y="3430800"/>
              <a:chExt cx="1630080" cy="1881720"/>
            </a:xfrm>
          </p:grpSpPr>
          <p:graphicFrame>
            <p:nvGraphicFramePr>
              <p:cNvPr id="2698" name=""/>
              <p:cNvGraphicFramePr/>
              <p:nvPr/>
            </p:nvGraphicFramePr>
            <p:xfrm>
              <a:off x="6218640" y="3430800"/>
              <a:ext cx="1630080" cy="16002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699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218640" y="3430800"/>
                        <a:ext cx="163008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00" name=""/>
              <p:cNvSpPr/>
              <p:nvPr/>
            </p:nvSpPr>
            <p:spPr>
              <a:xfrm>
                <a:off x="6523200" y="4802400"/>
                <a:ext cx="532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1" name=""/>
            <p:cNvGrpSpPr/>
            <p:nvPr/>
          </p:nvGrpSpPr>
          <p:grpSpPr>
            <a:xfrm>
              <a:off x="6904440" y="3583080"/>
              <a:ext cx="1630080" cy="1881720"/>
              <a:chOff x="6904440" y="3583080"/>
              <a:chExt cx="1630080" cy="1881720"/>
            </a:xfrm>
          </p:grpSpPr>
          <p:graphicFrame>
            <p:nvGraphicFramePr>
              <p:cNvPr id="2702" name=""/>
              <p:cNvGraphicFramePr/>
              <p:nvPr/>
            </p:nvGraphicFramePr>
            <p:xfrm>
              <a:off x="6904440" y="3583080"/>
              <a:ext cx="1630080" cy="16002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0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904440" y="3583080"/>
                        <a:ext cx="163008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04" name=""/>
              <p:cNvSpPr/>
              <p:nvPr/>
            </p:nvSpPr>
            <p:spPr>
              <a:xfrm>
                <a:off x="7209000" y="4954680"/>
                <a:ext cx="532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5" name=""/>
          <p:cNvSpPr/>
          <p:nvPr/>
        </p:nvSpPr>
        <p:spPr>
          <a:xfrm>
            <a:off x="2971800" y="2743200"/>
            <a:ext cx="99072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83808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sy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84600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sy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8" name=""/>
          <p:cNvGrpSpPr/>
          <p:nvPr/>
        </p:nvGrpSpPr>
        <p:grpSpPr>
          <a:xfrm>
            <a:off x="2895480" y="2743200"/>
            <a:ext cx="1098720" cy="2948400"/>
            <a:chOff x="2895480" y="2743200"/>
            <a:chExt cx="1098720" cy="2948400"/>
          </a:xfrm>
        </p:grpSpPr>
        <p:sp>
          <p:nvSpPr>
            <p:cNvPr id="2709" name=""/>
            <p:cNvSpPr/>
            <p:nvPr/>
          </p:nvSpPr>
          <p:spPr>
            <a:xfrm>
              <a:off x="3200400" y="51814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10" name=""/>
            <p:cNvGraphicFramePr/>
            <p:nvPr/>
          </p:nvGraphicFramePr>
          <p:xfrm>
            <a:off x="2895480" y="2743200"/>
            <a:ext cx="1098720" cy="2616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1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895480" y="2743200"/>
                      <a:ext cx="109872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12" name=""/>
          <p:cNvSpPr/>
          <p:nvPr/>
        </p:nvSpPr>
        <p:spPr>
          <a:xfrm>
            <a:off x="4648320" y="5257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FCFS</a:t>
            </a:r>
            <a:br>
              <a:rPr sz="28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sched. alg. of que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9" dur="indefinite" restart="never" nodeType="tmRoot">
          <p:childTnLst>
            <p:seq>
              <p:cTn id="3720" dur="indefinite" nodeType="mainSeq">
                <p:childTnLst>
                  <p:par>
                    <p:cTn id="3721" fill="hold">
                      <p:stCondLst>
                        <p:cond delay="indefinite"/>
                      </p:stCondLst>
                      <p:childTnLst>
                        <p:par>
                          <p:cTn id="3722" fill="hold">
                            <p:stCondLst>
                              <p:cond delay="0"/>
                            </p:stCondLst>
                            <p:childTnLst>
                              <p:par>
                                <p:cTn id="3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5" dur="500" fill="hold"/>
                                        <p:tgtEl>
                                          <p:spTgt spid="2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6" dur="500" fill="hold"/>
                                        <p:tgtEl>
                                          <p:spTgt spid="2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fill="hold">
                      <p:stCondLst>
                        <p:cond delay="indefinite"/>
                      </p:stCondLst>
                      <p:childTnLst>
                        <p:par>
                          <p:cTn id="3728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1" dur="500" fill="hold"/>
                                        <p:tgtEl>
                                          <p:spTgt spid="2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2" dur="500" fill="hold"/>
                                        <p:tgtEl>
                                          <p:spTgt spid="2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3" fill="hold">
                            <p:stCondLst>
                              <p:cond delay="500"/>
                            </p:stCondLst>
                            <p:childTnLst>
                              <p:par>
                                <p:cTn id="37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6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1" dur="500"/>
                                        <p:tgtEl>
                                          <p:spTgt spid="2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500"/>
                            </p:stCondLst>
                            <p:childTnLst>
                              <p:par>
                                <p:cTn id="3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5" dur="500"/>
                                        <p:tgtEl>
                                          <p:spTgt spid="2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0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5" dur="5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0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1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6" dur="500" fill="hold"/>
                                        <p:tgtEl>
                                          <p:spTgt spid="2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7" dur="500" fill="hold"/>
                                        <p:tgtEl>
                                          <p:spTgt spid="2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2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3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1" dur="500"/>
                                        <p:tgtEl>
                                          <p:spTgt spid="2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2" fill="hold">
                      <p:stCondLst>
                        <p:cond delay="indefinite"/>
                      </p:stCondLst>
                      <p:childTnLst>
                        <p:par>
                          <p:cTn id="3783" fill="hold">
                            <p:stCondLst>
                              <p:cond delay="0"/>
                            </p:stCondLst>
                            <p:childTnLst>
                              <p:par>
                                <p:cTn id="3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6" fill="hold">
                            <p:stCondLst>
                              <p:cond delay="500"/>
                            </p:stCondLst>
                            <p:childTnLst>
                              <p:par>
                                <p:cTn id="37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9" dur="500" fill="hold"/>
                                        <p:tgtEl>
                                          <p:spTgt spid="2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0" dur="500" fill="hold"/>
                                        <p:tgtEl>
                                          <p:spTgt spid="2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4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fill="hold">
                      <p:stCondLst>
                        <p:cond delay="indefinite"/>
                      </p:stCondLst>
                      <p:childTnLst>
                        <p:par>
                          <p:cTn id="3796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9" dur="500" fill="hold"/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500" fill="hold"/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rtest Job First Schedul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4" name=""/>
          <p:cNvGraphicFramePr/>
          <p:nvPr/>
        </p:nvGraphicFramePr>
        <p:xfrm>
          <a:off x="990720" y="1828800"/>
          <a:ext cx="2819160" cy="19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281916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6" name=""/>
          <p:cNvGraphicFramePr/>
          <p:nvPr/>
        </p:nvGraphicFramePr>
        <p:xfrm>
          <a:off x="4114800" y="1905120"/>
          <a:ext cx="1574640" cy="24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905120"/>
                    <a:ext cx="157464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8" name=""/>
          <p:cNvSpPr/>
          <p:nvPr/>
        </p:nvSpPr>
        <p:spPr>
          <a:xfrm>
            <a:off x="5410440" y="19051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9" name=""/>
          <p:cNvGrpSpPr/>
          <p:nvPr/>
        </p:nvGrpSpPr>
        <p:grpSpPr>
          <a:xfrm>
            <a:off x="5608800" y="3352680"/>
            <a:ext cx="1630080" cy="1881720"/>
            <a:chOff x="5608800" y="3352680"/>
            <a:chExt cx="1630080" cy="1881720"/>
          </a:xfrm>
        </p:grpSpPr>
        <p:graphicFrame>
          <p:nvGraphicFramePr>
            <p:cNvPr id="2720" name=""/>
            <p:cNvGraphicFramePr/>
            <p:nvPr/>
          </p:nvGraphicFramePr>
          <p:xfrm>
            <a:off x="5608800" y="3352680"/>
            <a:ext cx="1630080" cy="160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08800" y="3352680"/>
                      <a:ext cx="163008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2" name=""/>
            <p:cNvSpPr/>
            <p:nvPr/>
          </p:nvSpPr>
          <p:spPr>
            <a:xfrm>
              <a:off x="5913360" y="4724280"/>
              <a:ext cx="53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3" name=""/>
          <p:cNvGrpSpPr/>
          <p:nvPr/>
        </p:nvGrpSpPr>
        <p:grpSpPr>
          <a:xfrm>
            <a:off x="6218280" y="3352680"/>
            <a:ext cx="1630440" cy="1881720"/>
            <a:chOff x="6218280" y="3352680"/>
            <a:chExt cx="1630440" cy="1881720"/>
          </a:xfrm>
        </p:grpSpPr>
        <p:graphicFrame>
          <p:nvGraphicFramePr>
            <p:cNvPr id="2724" name=""/>
            <p:cNvGraphicFramePr/>
            <p:nvPr/>
          </p:nvGraphicFramePr>
          <p:xfrm>
            <a:off x="6218280" y="3352680"/>
            <a:ext cx="1630440" cy="160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18280" y="335268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6" name=""/>
            <p:cNvSpPr/>
            <p:nvPr/>
          </p:nvSpPr>
          <p:spPr>
            <a:xfrm>
              <a:off x="6523200" y="47242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7" name=""/>
          <p:cNvGrpSpPr/>
          <p:nvPr/>
        </p:nvGrpSpPr>
        <p:grpSpPr>
          <a:xfrm>
            <a:off x="6904080" y="3581280"/>
            <a:ext cx="1630440" cy="1881720"/>
            <a:chOff x="6904080" y="3581280"/>
            <a:chExt cx="1630440" cy="1881720"/>
          </a:xfrm>
        </p:grpSpPr>
        <p:graphicFrame>
          <p:nvGraphicFramePr>
            <p:cNvPr id="2728" name=""/>
            <p:cNvGraphicFramePr/>
            <p:nvPr/>
          </p:nvGraphicFramePr>
          <p:xfrm>
            <a:off x="6904080" y="3581280"/>
            <a:ext cx="1630440" cy="1600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904080" y="358128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0" name=""/>
            <p:cNvSpPr/>
            <p:nvPr/>
          </p:nvSpPr>
          <p:spPr>
            <a:xfrm>
              <a:off x="7209000" y="49528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1" name=""/>
          <p:cNvSpPr/>
          <p:nvPr/>
        </p:nvSpPr>
        <p:spPr>
          <a:xfrm>
            <a:off x="5715000" y="2971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r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2" name=""/>
          <p:cNvGrpSpPr/>
          <p:nvPr/>
        </p:nvGrpSpPr>
        <p:grpSpPr>
          <a:xfrm>
            <a:off x="3124080" y="2743200"/>
            <a:ext cx="690840" cy="2948400"/>
            <a:chOff x="3124080" y="2743200"/>
            <a:chExt cx="690840" cy="2948400"/>
          </a:xfrm>
        </p:grpSpPr>
        <p:graphicFrame>
          <p:nvGraphicFramePr>
            <p:cNvPr id="2733" name=""/>
            <p:cNvGraphicFramePr/>
            <p:nvPr/>
          </p:nvGraphicFramePr>
          <p:xfrm>
            <a:off x="3124080" y="2743200"/>
            <a:ext cx="690840" cy="2590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3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124080" y="2743200"/>
                      <a:ext cx="690840" cy="25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5" name=""/>
            <p:cNvSpPr/>
            <p:nvPr/>
          </p:nvSpPr>
          <p:spPr>
            <a:xfrm>
              <a:off x="3200400" y="51814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6" name=""/>
          <p:cNvSpPr/>
          <p:nvPr/>
        </p:nvSpPr>
        <p:spPr>
          <a:xfrm>
            <a:off x="838080" y="3886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sy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84600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sy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971800" y="2743200"/>
            <a:ext cx="99072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83808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sy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84600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sy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4648320" y="5257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JF</a:t>
            </a:r>
            <a:br>
              <a:rPr sz="28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sched. alg. of Manag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5638680" y="50673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0 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6456240" y="52052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 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7161120" y="5334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7 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5" name=""/>
          <p:cNvGrpSpPr/>
          <p:nvPr/>
        </p:nvGrpSpPr>
        <p:grpSpPr>
          <a:xfrm>
            <a:off x="5608800" y="3352680"/>
            <a:ext cx="2925720" cy="2210040"/>
            <a:chOff x="5608800" y="3352680"/>
            <a:chExt cx="2925720" cy="2210040"/>
          </a:xfrm>
        </p:grpSpPr>
        <p:grpSp>
          <p:nvGrpSpPr>
            <p:cNvPr id="2746" name=""/>
            <p:cNvGrpSpPr/>
            <p:nvPr/>
          </p:nvGrpSpPr>
          <p:grpSpPr>
            <a:xfrm>
              <a:off x="5608800" y="3352680"/>
              <a:ext cx="2925720" cy="2110320"/>
              <a:chOff x="5608800" y="3352680"/>
              <a:chExt cx="2925720" cy="2110320"/>
            </a:xfrm>
          </p:grpSpPr>
          <p:sp>
            <p:nvSpPr>
              <p:cNvPr id="2747" name=""/>
              <p:cNvSpPr/>
              <p:nvPr/>
            </p:nvSpPr>
            <p:spPr>
              <a:xfrm>
                <a:off x="6248520" y="3352680"/>
                <a:ext cx="1600200" cy="198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8" name=""/>
              <p:cNvGrpSpPr/>
              <p:nvPr/>
            </p:nvGrpSpPr>
            <p:grpSpPr>
              <a:xfrm>
                <a:off x="5608800" y="3352680"/>
                <a:ext cx="1630440" cy="1881720"/>
                <a:chOff x="5608800" y="3352680"/>
                <a:chExt cx="1630440" cy="1881720"/>
              </a:xfrm>
            </p:grpSpPr>
            <p:graphicFrame>
              <p:nvGraphicFramePr>
                <p:cNvPr id="2749" name=""/>
                <p:cNvGraphicFramePr/>
                <p:nvPr/>
              </p:nvGraphicFramePr>
              <p:xfrm>
                <a:off x="5608800" y="3352680"/>
                <a:ext cx="1630440" cy="160020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2750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5608800" y="3352680"/>
                          <a:ext cx="1630440" cy="1600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51" name=""/>
                <p:cNvSpPr/>
                <p:nvPr/>
              </p:nvSpPr>
              <p:spPr>
                <a:xfrm>
                  <a:off x="5913720" y="472428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2" name=""/>
              <p:cNvGrpSpPr/>
              <p:nvPr/>
            </p:nvGrpSpPr>
            <p:grpSpPr>
              <a:xfrm>
                <a:off x="6904080" y="3581280"/>
                <a:ext cx="1630440" cy="1881720"/>
                <a:chOff x="6904080" y="3581280"/>
                <a:chExt cx="1630440" cy="1881720"/>
              </a:xfrm>
            </p:grpSpPr>
            <p:graphicFrame>
              <p:nvGraphicFramePr>
                <p:cNvPr id="2753" name=""/>
                <p:cNvGraphicFramePr/>
                <p:nvPr/>
              </p:nvGraphicFramePr>
              <p:xfrm>
                <a:off x="6904080" y="3581280"/>
                <a:ext cx="1630440" cy="160020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2754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6904080" y="3581280"/>
                          <a:ext cx="1630440" cy="1600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55" name=""/>
                <p:cNvSpPr/>
                <p:nvPr/>
              </p:nvSpPr>
              <p:spPr>
                <a:xfrm>
                  <a:off x="7209000" y="495288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6" name=""/>
            <p:cNvSpPr/>
            <p:nvPr/>
          </p:nvSpPr>
          <p:spPr>
            <a:xfrm>
              <a:off x="6477120" y="5181480"/>
              <a:ext cx="7617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7" name=""/>
          <p:cNvGrpSpPr/>
          <p:nvPr/>
        </p:nvGrpSpPr>
        <p:grpSpPr>
          <a:xfrm>
            <a:off x="3011400" y="2709720"/>
            <a:ext cx="986040" cy="2981880"/>
            <a:chOff x="3011400" y="2709720"/>
            <a:chExt cx="986040" cy="2981880"/>
          </a:xfrm>
        </p:grpSpPr>
        <p:sp>
          <p:nvSpPr>
            <p:cNvPr id="2758" name=""/>
            <p:cNvSpPr/>
            <p:nvPr/>
          </p:nvSpPr>
          <p:spPr>
            <a:xfrm>
              <a:off x="3200400" y="51814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59" name=""/>
            <p:cNvGraphicFramePr/>
            <p:nvPr/>
          </p:nvGraphicFramePr>
          <p:xfrm>
            <a:off x="3011400" y="2709720"/>
            <a:ext cx="986040" cy="2590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6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011400" y="2709720"/>
                      <a:ext cx="986040" cy="25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61" name=""/>
          <p:cNvSpPr/>
          <p:nvPr/>
        </p:nvSpPr>
        <p:spPr>
          <a:xfrm>
            <a:off x="616320" y="4343400"/>
            <a:ext cx="22806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cquire (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1" dur="indefinite" restart="never" nodeType="tmRoot">
          <p:childTnLst>
            <p:seq>
              <p:cTn id="3802" dur="indefinite" nodeType="mainSeq">
                <p:childTnLst>
                  <p:par>
                    <p:cTn id="3803" fill="hold">
                      <p:stCondLst>
                        <p:cond delay="indefinite"/>
                      </p:stCondLst>
                      <p:childTnLst>
                        <p:par>
                          <p:cTn id="3804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7" dur="500" fill="hold"/>
                                        <p:tgtEl>
                                          <p:spTgt spid="2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8" dur="500" fill="hold"/>
                                        <p:tgtEl>
                                          <p:spTgt spid="2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9" fill="hold">
                      <p:stCondLst>
                        <p:cond delay="indefinite"/>
                      </p:stCondLst>
                      <p:childTnLst>
                        <p:par>
                          <p:cTn id="3810" fill="hold">
                            <p:stCondLst>
                              <p:cond delay="0"/>
                            </p:stCondLst>
                            <p:childTnLst>
                              <p:par>
                                <p:cTn id="38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3" dur="500" fill="hold"/>
                                        <p:tgtEl>
                                          <p:spTgt spid="2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4" dur="500" fill="hold"/>
                                        <p:tgtEl>
                                          <p:spTgt spid="2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5" fill="hold">
                            <p:stCondLst>
                              <p:cond delay="500"/>
                            </p:stCondLst>
                            <p:childTnLst>
                              <p:par>
                                <p:cTn id="3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8" dur="500"/>
                                        <p:tgtEl>
                                          <p:spTgt spid="2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3" dur="500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8" dur="500"/>
                                        <p:tgtEl>
                                          <p:spTgt spid="2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9" fill="hold">
                      <p:stCondLst>
                        <p:cond delay="indefinite"/>
                      </p:stCondLst>
                      <p:childTnLst>
                        <p:par>
                          <p:cTn id="3830" fill="hold">
                            <p:stCondLst>
                              <p:cond delay="0"/>
                            </p:stCondLst>
                            <p:childTnLst>
                              <p:par>
                                <p:cTn id="3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3" dur="500"/>
                                        <p:tgtEl>
                                          <p:spTgt spid="2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4" fill="hold">
                      <p:stCondLst>
                        <p:cond delay="indefinite"/>
                      </p:stCondLst>
                      <p:childTnLst>
                        <p:par>
                          <p:cTn id="3835" fill="hold">
                            <p:stCondLst>
                              <p:cond delay="0"/>
                            </p:stCondLst>
                            <p:childTnLst>
                              <p:par>
                                <p:cTn id="3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8" dur="500"/>
                                        <p:tgtEl>
                                          <p:spTgt spid="2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9" fill="hold">
                      <p:stCondLst>
                        <p:cond delay="indefinite"/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3" dur="500"/>
                                        <p:tgtEl>
                                          <p:spTgt spid="2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4" fill="hold">
                            <p:stCondLst>
                              <p:cond delay="500"/>
                            </p:stCondLst>
                            <p:childTnLst>
                              <p:par>
                                <p:cTn id="3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7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8" fill="hold">
                      <p:stCondLst>
                        <p:cond delay="indefinite"/>
                      </p:stCondLst>
                      <p:childTnLst>
                        <p:par>
                          <p:cTn id="3849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2" dur="500"/>
                                        <p:tgtEl>
                                          <p:spTgt spid="2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3" fill="hold">
                      <p:stCondLst>
                        <p:cond delay="indefinite"/>
                      </p:stCondLst>
                      <p:childTnLst>
                        <p:par>
                          <p:cTn id="3854" fill="hold">
                            <p:stCondLst>
                              <p:cond delay="0"/>
                            </p:stCondLst>
                            <p:childTnLst>
                              <p:par>
                                <p:cTn id="3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7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8" fill="hold">
                      <p:stCondLst>
                        <p:cond delay="indefinite"/>
                      </p:stCondLst>
                      <p:childTnLst>
                        <p:par>
                          <p:cTn id="3859" fill="hold">
                            <p:stCondLst>
                              <p:cond delay="0"/>
                            </p:stCondLst>
                            <p:childTnLst>
                              <p:par>
                                <p:cTn id="3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3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9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4" dur="500" fill="hold"/>
                                        <p:tgtEl>
                                          <p:spTgt spid="2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5" dur="500" fill="hold"/>
                                        <p:tgtEl>
                                          <p:spTgt spid="2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0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1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2" fill="hold">
                      <p:stCondLst>
                        <p:cond delay="indefinite"/>
                      </p:stCondLst>
                      <p:childTnLst>
                        <p:par>
                          <p:cTn id="3883" fill="hold">
                            <p:stCondLst>
                              <p:cond delay="0"/>
                            </p:stCondLst>
                            <p:childTnLst>
                              <p:par>
                                <p:cTn id="38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6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7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2" dur="5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3" dur="5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1" dur="500"/>
                                        <p:tgtEl>
                                          <p:spTgt spid="2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6" fill="hold">
                            <p:stCondLst>
                              <p:cond delay="500"/>
                            </p:stCondLst>
                            <p:childTnLst>
                              <p:par>
                                <p:cTn id="39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9" dur="500"/>
                                        <p:tgtEl>
                                          <p:spTgt spid="2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3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4" fill="hold">
                      <p:stCondLst>
                        <p:cond delay="indefinite"/>
                      </p:stCondLst>
                      <p:childTnLst>
                        <p:par>
                          <p:cTn id="3915" fill="hold">
                            <p:stCondLst>
                              <p:cond delay="0"/>
                            </p:stCondLst>
                            <p:childTnLst>
                              <p:par>
                                <p:cTn id="391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9" dur="500" fill="hold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Wa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x.wa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x.sig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ich process resumed? Sched. alg. of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x.wait (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riority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x.sig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me process with highest prio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0" dur="indefinite" restart="never" nodeType="tmRoot">
          <p:childTnLst>
            <p:seq>
              <p:cTn id="3921" dur="indefinite" nodeType="mainSeq">
                <p:childTnLst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6" dur="500"/>
                                        <p:tgtEl>
                                          <p:spTgt spid="2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fill="hold">
                      <p:stCondLst>
                        <p:cond delay="indefinite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1" dur="500"/>
                                        <p:tgtEl>
                                          <p:spTgt spid="2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fill="hold">
                      <p:stCondLst>
                        <p:cond delay="indefinite"/>
                      </p:stCondLst>
                      <p:childTnLst>
                        <p:par>
                          <p:cTn id="3933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6" dur="500"/>
                                        <p:tgtEl>
                                          <p:spTgt spid="2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fill="hold">
                      <p:stCondLst>
                        <p:cond delay="indefinite"/>
                      </p:stCondLst>
                      <p:childTnLst>
                        <p:par>
                          <p:cTn id="3938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1" dur="500"/>
                                        <p:tgtEl>
                                          <p:spTgt spid="2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2" fill="hold">
                      <p:stCondLst>
                        <p:cond delay="indefinite"/>
                      </p:stCondLst>
                      <p:childTnLst>
                        <p:par>
                          <p:cTn id="3943" fill="hold">
                            <p:stCondLst>
                              <p:cond delay="0"/>
                            </p:stCondLst>
                            <p:childTnLst>
                              <p:par>
                                <p:cTn id="3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6" dur="500"/>
                                        <p:tgtEl>
                                          <p:spTgt spid="2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705720" y="4305240"/>
            <a:ext cx="1676160" cy="1790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s: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ss 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292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emaphore s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4305240"/>
            <a:ext cx="1676520" cy="1790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1680" y="4757760"/>
            <a:ext cx="129564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(&amp;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5257800"/>
            <a:ext cx="129528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(&amp;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3809880"/>
            <a:ext cx="8380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362320" y="3048120"/>
            <a:ext cx="686520" cy="685800"/>
            <a:chOff x="2362320" y="3048120"/>
            <a:chExt cx="686520" cy="685800"/>
          </a:xfrm>
        </p:grpSpPr>
        <p:sp>
          <p:nvSpPr>
            <p:cNvPr id="232" name=""/>
            <p:cNvSpPr/>
            <p:nvPr/>
          </p:nvSpPr>
          <p:spPr>
            <a:xfrm>
              <a:off x="2499840" y="3048120"/>
              <a:ext cx="10224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62320" y="3076920"/>
              <a:ext cx="686520" cy="231120"/>
              <a:chOff x="2362320" y="3076920"/>
              <a:chExt cx="686520" cy="231120"/>
            </a:xfrm>
          </p:grpSpPr>
          <p:sp>
            <p:nvSpPr>
              <p:cNvPr id="234" name=""/>
              <p:cNvSpPr/>
              <p:nvPr/>
            </p:nvSpPr>
            <p:spPr>
              <a:xfrm rot="5434200">
                <a:off x="2608200" y="2915640"/>
                <a:ext cx="56880" cy="548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2772360" y="3076920"/>
                <a:ext cx="276480" cy="231120"/>
                <a:chOff x="2772360" y="3076920"/>
                <a:chExt cx="276480" cy="231120"/>
              </a:xfrm>
            </p:grpSpPr>
            <p:sp>
              <p:nvSpPr>
                <p:cNvPr id="236" name=""/>
                <p:cNvSpPr/>
                <p:nvPr/>
              </p:nvSpPr>
              <p:spPr>
                <a:xfrm rot="5434200">
                  <a:off x="2796120" y="3055320"/>
                  <a:ext cx="228240" cy="2743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5434200">
                  <a:off x="2853720" y="3124080"/>
                  <a:ext cx="114120" cy="137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8" name=""/>
          <p:cNvGrpSpPr/>
          <p:nvPr/>
        </p:nvGrpSpPr>
        <p:grpSpPr>
          <a:xfrm>
            <a:off x="2362320" y="3048120"/>
            <a:ext cx="686520" cy="685800"/>
            <a:chOff x="2362320" y="3048120"/>
            <a:chExt cx="686520" cy="685800"/>
          </a:xfrm>
        </p:grpSpPr>
        <p:sp>
          <p:nvSpPr>
            <p:cNvPr id="239" name=""/>
            <p:cNvSpPr/>
            <p:nvPr/>
          </p:nvSpPr>
          <p:spPr>
            <a:xfrm>
              <a:off x="2499840" y="3048120"/>
              <a:ext cx="10224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362320" y="3076920"/>
              <a:ext cx="686520" cy="231120"/>
              <a:chOff x="2362320" y="3076920"/>
              <a:chExt cx="686520" cy="231120"/>
            </a:xfrm>
          </p:grpSpPr>
          <p:sp>
            <p:nvSpPr>
              <p:cNvPr id="241" name=""/>
              <p:cNvSpPr/>
              <p:nvPr/>
            </p:nvSpPr>
            <p:spPr>
              <a:xfrm rot="5434200">
                <a:off x="2608200" y="2915640"/>
                <a:ext cx="56880" cy="548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2772360" y="3076920"/>
                <a:ext cx="276480" cy="231120"/>
                <a:chOff x="2772360" y="3076920"/>
                <a:chExt cx="276480" cy="231120"/>
              </a:xfrm>
            </p:grpSpPr>
            <p:sp>
              <p:nvSpPr>
                <p:cNvPr id="243" name=""/>
                <p:cNvSpPr/>
                <p:nvPr/>
              </p:nvSpPr>
              <p:spPr>
                <a:xfrm rot="5434200">
                  <a:off x="2796120" y="3055320"/>
                  <a:ext cx="228240" cy="274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5434200">
                  <a:off x="2853720" y="3124080"/>
                  <a:ext cx="114120" cy="137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5" name=""/>
          <p:cNvGrpSpPr/>
          <p:nvPr/>
        </p:nvGrpSpPr>
        <p:grpSpPr>
          <a:xfrm>
            <a:off x="2364120" y="2929680"/>
            <a:ext cx="703440" cy="804240"/>
            <a:chOff x="2364120" y="2929680"/>
            <a:chExt cx="703440" cy="804240"/>
          </a:xfrm>
        </p:grpSpPr>
        <p:sp>
          <p:nvSpPr>
            <p:cNvPr id="246" name=""/>
            <p:cNvSpPr/>
            <p:nvPr/>
          </p:nvSpPr>
          <p:spPr>
            <a:xfrm>
              <a:off x="2499840" y="2971800"/>
              <a:ext cx="102240" cy="762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2364120" y="2929680"/>
              <a:ext cx="703440" cy="309240"/>
              <a:chOff x="2364120" y="2929680"/>
              <a:chExt cx="703440" cy="309240"/>
            </a:xfrm>
          </p:grpSpPr>
          <p:sp>
            <p:nvSpPr>
              <p:cNvPr id="248" name=""/>
              <p:cNvSpPr/>
              <p:nvPr/>
            </p:nvSpPr>
            <p:spPr>
              <a:xfrm rot="4620000">
                <a:off x="2606760" y="2871720"/>
                <a:ext cx="63360" cy="5486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2743200" y="2929680"/>
                <a:ext cx="324360" cy="309240"/>
                <a:chOff x="2743200" y="2929680"/>
                <a:chExt cx="324360" cy="309240"/>
              </a:xfrm>
            </p:grpSpPr>
            <p:sp>
              <p:nvSpPr>
                <p:cNvPr id="250" name=""/>
                <p:cNvSpPr/>
                <p:nvPr/>
              </p:nvSpPr>
              <p:spPr>
                <a:xfrm rot="4620000">
                  <a:off x="2778120" y="2946960"/>
                  <a:ext cx="254160" cy="2743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4620000">
                  <a:off x="2841840" y="3015360"/>
                  <a:ext cx="127080" cy="137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2" name=""/>
          <p:cNvSpPr/>
          <p:nvPr/>
        </p:nvSpPr>
        <p:spPr>
          <a:xfrm>
            <a:off x="2514600" y="335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P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396252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V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87600" y="3200400"/>
            <a:ext cx="6984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04" y="624"/>
                </a:moveTo>
                <a:cubicBezTo>
                  <a:pt x="52" y="436"/>
                  <a:pt x="0" y="248"/>
                  <a:pt x="56" y="144"/>
                </a:cubicBezTo>
                <a:cubicBezTo>
                  <a:pt x="112" y="40"/>
                  <a:pt x="276" y="20"/>
                  <a:pt x="440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rtest Job Fir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5" name=""/>
          <p:cNvGrpSpPr/>
          <p:nvPr/>
        </p:nvGrpSpPr>
        <p:grpSpPr>
          <a:xfrm>
            <a:off x="609480" y="1525680"/>
            <a:ext cx="5410440" cy="4417920"/>
            <a:chOff x="609480" y="1525680"/>
            <a:chExt cx="5410440" cy="4417920"/>
          </a:xfrm>
        </p:grpSpPr>
        <p:sp>
          <p:nvSpPr>
            <p:cNvPr id="2766" name=""/>
            <p:cNvSpPr/>
            <p:nvPr/>
          </p:nvSpPr>
          <p:spPr>
            <a:xfrm>
              <a:off x="990720" y="2895480"/>
              <a:ext cx="4876560" cy="1447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990720" y="4419720"/>
              <a:ext cx="4876560" cy="11430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09480" y="1525680"/>
              <a:ext cx="5410440" cy="44179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monitor manager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oolean busy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ondition free;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manager () { busy = false;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void acquire()                </a:t>
              </a: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f (busy) then  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free.wai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usy = 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void release(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usy = false;</a:t>
              </a: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free.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9" name=""/>
          <p:cNvSpPr/>
          <p:nvPr/>
        </p:nvSpPr>
        <p:spPr>
          <a:xfrm>
            <a:off x="6172200" y="4419720"/>
            <a:ext cx="2362320" cy="1666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.acquir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 devic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.relea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246360" y="3049560"/>
            <a:ext cx="24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mgr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anag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098960" y="3505320"/>
            <a:ext cx="491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(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3224160" y="2846520"/>
            <a:ext cx="11239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(t: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7635960" y="4632480"/>
            <a:ext cx="704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(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5867280" y="1600200"/>
            <a:ext cx="2590920" cy="129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137" y="33591"/>
                </a:moveTo>
                <a:lnTo>
                  <a:pt x="-635" y="1906"/>
                </a:lnTo>
              </a:path>
              <a:path w="21600" h="21600">
                <a:moveTo>
                  <a:pt x="-635" y="0"/>
                </a:moveTo>
                <a:lnTo>
                  <a:pt x="-635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0 = highest prior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write free.wait(MAX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3" dur="500"/>
                                        <p:tgtEl>
                                          <p:spTgt spid="2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7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1" dur="5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2" fill="hold">
                      <p:stCondLst>
                        <p:cond delay="indefinite"/>
                      </p:stCondLst>
                      <p:childTnLst>
                        <p:par>
                          <p:cTn id="3963" fill="hold">
                            <p:stCondLst>
                              <p:cond delay="0"/>
                            </p:stCondLst>
                            <p:childTnLst>
                              <p:par>
                                <p:cTn id="39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6" dur="5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7" dur="5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8" fill="hold">
                            <p:stCondLst>
                              <p:cond delay="500"/>
                            </p:stCondLst>
                            <p:childTnLst>
                              <p:par>
                                <p:cTn id="39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1" dur="5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2" dur="5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3" fill="hold">
                      <p:stCondLst>
                        <p:cond delay="indefinite"/>
                      </p:stCondLst>
                      <p:childTnLst>
                        <p:par>
                          <p:cTn id="3974" fill="hold">
                            <p:stCondLst>
                              <p:cond delay="0"/>
                            </p:stCondLst>
                            <p:childTnLst>
                              <p:par>
                                <p:cTn id="39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7" dur="5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8" dur="5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3" dur="500"/>
                                        <p:tgtEl>
                                          <p:spTgt spid="2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: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ier to write synchronization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 time-dependent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... still pos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533520" y="4038480"/>
            <a:ext cx="2332080" cy="1295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acquir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se resourc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relea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6705720" y="3156120"/>
            <a:ext cx="160020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33" y="36548"/>
                </a:moveTo>
                <a:lnTo>
                  <a:pt x="-1029" y="3775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Release but</a:t>
            </a:r>
            <a:br>
              <a:rPr sz="1800"/>
            </a:b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not acquir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579600" y="4876920"/>
            <a:ext cx="1523880" cy="75960"/>
          </a:xfrm>
          <a:custGeom>
            <a:avLst/>
            <a:gdLst/>
            <a:ahLst/>
            <a:rect l="l" t="t" r="r" b="b"/>
            <a:pathLst>
              <a:path w="528" h="48">
                <a:moveTo>
                  <a:pt x="0" y="48"/>
                </a:moveTo>
                <a:cubicBezTo>
                  <a:pt x="28" y="24"/>
                  <a:pt x="56" y="0"/>
                  <a:pt x="96" y="0"/>
                </a:cubicBezTo>
                <a:cubicBezTo>
                  <a:pt x="136" y="0"/>
                  <a:pt x="192" y="48"/>
                  <a:pt x="240" y="48"/>
                </a:cubicBezTo>
                <a:cubicBezTo>
                  <a:pt x="288" y="48"/>
                  <a:pt x="336" y="0"/>
                  <a:pt x="384" y="0"/>
                </a:cubicBezTo>
                <a:cubicBezTo>
                  <a:pt x="432" y="0"/>
                  <a:pt x="480" y="24"/>
                  <a:pt x="528" y="48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3352680" y="4038480"/>
            <a:ext cx="2332080" cy="1295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acquir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se resourc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relea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3398760" y="4267080"/>
            <a:ext cx="2057400" cy="76320"/>
          </a:xfrm>
          <a:custGeom>
            <a:avLst/>
            <a:gdLst/>
            <a:ahLst/>
            <a:rect l="l" t="t" r="r" b="b"/>
            <a:pathLst>
              <a:path w="528" h="48">
                <a:moveTo>
                  <a:pt x="0" y="48"/>
                </a:moveTo>
                <a:cubicBezTo>
                  <a:pt x="28" y="24"/>
                  <a:pt x="56" y="0"/>
                  <a:pt x="96" y="0"/>
                </a:cubicBezTo>
                <a:cubicBezTo>
                  <a:pt x="136" y="0"/>
                  <a:pt x="192" y="48"/>
                  <a:pt x="240" y="48"/>
                </a:cubicBezTo>
                <a:cubicBezTo>
                  <a:pt x="288" y="48"/>
                  <a:pt x="336" y="0"/>
                  <a:pt x="384" y="0"/>
                </a:cubicBezTo>
                <a:cubicBezTo>
                  <a:pt x="432" y="0"/>
                  <a:pt x="480" y="24"/>
                  <a:pt x="528" y="48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6202440" y="4038480"/>
            <a:ext cx="2332080" cy="16765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relea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acquir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se resourc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relea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733920" y="3156120"/>
            <a:ext cx="167616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76" y="46998"/>
                </a:moveTo>
                <a:lnTo>
                  <a:pt x="-982" y="3775"/>
                </a:lnTo>
              </a:path>
              <a:path w="21600" h="21600">
                <a:moveTo>
                  <a:pt x="-982" y="0"/>
                </a:moveTo>
                <a:lnTo>
                  <a:pt x="-982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Use but</a:t>
            </a:r>
            <a:br>
              <a:rPr sz="1800"/>
            </a:b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not acquir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914400" y="3200400"/>
            <a:ext cx="175248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129" y="59817"/>
                </a:moveTo>
                <a:lnTo>
                  <a:pt x="-939" y="3775"/>
                </a:lnTo>
              </a:path>
              <a:path w="21600" h="21600">
                <a:moveTo>
                  <a:pt x="-939" y="0"/>
                </a:moveTo>
                <a:lnTo>
                  <a:pt x="-939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Forget to</a:t>
            </a:r>
            <a:br>
              <a:rPr sz="1800"/>
            </a:b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release 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4" dur="indefinite" restart="never" nodeType="tmRoot">
          <p:childTnLst>
            <p:seq>
              <p:cTn id="3985" dur="indefinite" nodeType="mainSeq">
                <p:childTnLst>
                  <p:par>
                    <p:cTn id="3986" fill="hold">
                      <p:stCondLst>
                        <p:cond delay="indefinite"/>
                      </p:stCondLst>
                      <p:childTnLst>
                        <p:par>
                          <p:cTn id="3987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0" dur="5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5" dur="500"/>
                                        <p:tgtEl>
                                          <p:spTgt spid="2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fill="hold">
                      <p:stCondLst>
                        <p:cond delay="indefinite"/>
                      </p:stCondLst>
                      <p:childTnLst>
                        <p:par>
                          <p:cTn id="3997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0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1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2" fill="hold">
                      <p:stCondLst>
                        <p:cond delay="indefinite"/>
                      </p:stCondLst>
                      <p:childTnLst>
                        <p:par>
                          <p:cTn id="4003" fill="hold">
                            <p:stCondLst>
                              <p:cond delay="0"/>
                            </p:stCondLst>
                            <p:childTnLst>
                              <p:par>
                                <p:cTn id="40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6" dur="500"/>
                                        <p:tgtEl>
                                          <p:spTgt spid="2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1" dur="5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6" dur="500" fill="hold"/>
                                        <p:tgtEl>
                                          <p:spTgt spid="2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7" dur="500" fill="hold"/>
                                        <p:tgtEl>
                                          <p:spTgt spid="2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8" fill="hold">
                      <p:stCondLst>
                        <p:cond delay="indefinite"/>
                      </p:stCondLst>
                      <p:childTnLst>
                        <p:par>
                          <p:cTn id="4019" fill="hold">
                            <p:stCondLst>
                              <p:cond delay="0"/>
                            </p:stCondLst>
                            <p:childTnLst>
                              <p:par>
                                <p:cTn id="40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2" dur="5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7" dur="500"/>
                                        <p:tgtEl>
                                          <p:spTgt spid="2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8" fill="hold">
                      <p:stCondLst>
                        <p:cond delay="indefinite"/>
                      </p:stCondLst>
                      <p:childTnLst>
                        <p:par>
                          <p:cTn id="4029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2" dur="500"/>
                                        <p:tgtEl>
                                          <p:spTgt spid="2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: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990720" y="2133720"/>
            <a:ext cx="5410080" cy="38862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onitor manag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oolean bus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ndition fr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manager () { busy = false; }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  void acquire (time t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  void release() { …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781680" y="2895480"/>
            <a:ext cx="1981440" cy="91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639" y="30340"/>
                </a:moveTo>
                <a:lnTo>
                  <a:pt x="-831" y="2658"/>
                </a:lnTo>
              </a:path>
              <a:path w="21600" h="21600">
                <a:moveTo>
                  <a:pt x="-831" y="0"/>
                </a:moveTo>
                <a:lnTo>
                  <a:pt x="-831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to predict all uses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419120" y="4191120"/>
            <a:ext cx="3657600" cy="1447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void use (time t, …) {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cquire (t);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;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lease 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9" name=""/>
          <p:cNvGrpSpPr/>
          <p:nvPr/>
        </p:nvGrpSpPr>
        <p:grpSpPr>
          <a:xfrm>
            <a:off x="3048120" y="4648320"/>
            <a:ext cx="5715000" cy="1191240"/>
            <a:chOff x="3048120" y="4648320"/>
            <a:chExt cx="5715000" cy="1191240"/>
          </a:xfrm>
        </p:grpSpPr>
        <p:sp>
          <p:nvSpPr>
            <p:cNvPr id="2790" name=""/>
            <p:cNvSpPr/>
            <p:nvPr/>
          </p:nvSpPr>
          <p:spPr>
            <a:xfrm>
              <a:off x="6781680" y="4648320"/>
              <a:ext cx="1981440" cy="11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38837" y="-2238"/>
                  </a:moveTo>
                  <a:lnTo>
                    <a:pt x="-831" y="2052"/>
                  </a:lnTo>
                </a:path>
                <a:path w="21600" h="21600">
                  <a:moveTo>
                    <a:pt x="-831" y="0"/>
                  </a:moveTo>
                  <a:lnTo>
                    <a:pt x="-831" y="21600"/>
                  </a:lnTo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less!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heduling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hed. alg. of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y 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 flipV="1">
              <a:off x="3048120" y="5116320"/>
              <a:ext cx="3657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2" name=""/>
          <p:cNvSpPr/>
          <p:nvPr/>
        </p:nvSpPr>
        <p:spPr>
          <a:xfrm>
            <a:off x="1420920" y="3344760"/>
            <a:ext cx="945720" cy="703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 txBox="1"/>
          <p:nvPr/>
        </p:nvSpPr>
        <p:spPr>
          <a:xfrm>
            <a:off x="685800" y="1295280"/>
            <a:ext cx="71024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annot incorporate resource in Monitor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3" dur="indefinite" restart="never" nodeType="tmRoot">
          <p:childTnLst>
            <p:seq>
              <p:cTn id="4034" dur="indefinite" nodeType="mainSeq">
                <p:childTnLst>
                  <p:par>
                    <p:cTn id="4035" fill="hold">
                      <p:stCondLst>
                        <p:cond delay="indefinite"/>
                      </p:stCondLst>
                      <p:childTnLst>
                        <p:par>
                          <p:cTn id="4036" fill="hold">
                            <p:stCondLst>
                              <p:cond delay="0"/>
                            </p:stCondLst>
                            <p:childTnLst>
                              <p:par>
                                <p:cTn id="40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9" dur="5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0" fill="hold">
                      <p:stCondLst>
                        <p:cond delay="indefinite"/>
                      </p:stCondLst>
                      <p:childTnLst>
                        <p:par>
                          <p:cTn id="4041" fill="hold">
                            <p:stCondLst>
                              <p:cond delay="0"/>
                            </p:stCondLst>
                            <p:childTnLst>
                              <p:par>
                                <p:cTn id="4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4" dur="5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5" fill="hold">
                            <p:stCondLst>
                              <p:cond delay="500"/>
                            </p:stCondLst>
                            <p:childTnLst>
                              <p:par>
                                <p:cTn id="40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8" dur="5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9" fill="hold">
                      <p:stCondLst>
                        <p:cond delay="indefinite"/>
                      </p:stCondLst>
                      <p:childTnLst>
                        <p:par>
                          <p:cTn id="4050" fill="hold">
                            <p:stCondLst>
                              <p:cond delay="0"/>
                            </p:stCondLst>
                            <p:childTnLst>
                              <p:par>
                                <p:cTn id="40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3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4" fill="hold">
                      <p:stCondLst>
                        <p:cond delay="indefinite"/>
                      </p:stCondLst>
                      <p:childTnLst>
                        <p:par>
                          <p:cTn id="4055" fill="hold">
                            <p:stCondLst>
                              <p:cond delay="0"/>
                            </p:stCondLst>
                            <p:childTnLst>
                              <p:par>
                                <p:cTn id="4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8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3" dur="500" fill="hold"/>
                                        <p:tgtEl>
                                          <p:spTgt spid="2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4" dur="500" fill="hold"/>
                                        <p:tgtEl>
                                          <p:spTgt spid="2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: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nes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y correct order of monitor ca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 access if monitor igno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 provides process with “toke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1600200" y="2133720"/>
            <a:ext cx="1828800" cy="3047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8" name=""/>
          <p:cNvGrpSpPr/>
          <p:nvPr/>
        </p:nvGrpSpPr>
        <p:grpSpPr>
          <a:xfrm>
            <a:off x="1143000" y="3209040"/>
            <a:ext cx="897840" cy="1334520"/>
            <a:chOff x="1143000" y="3209040"/>
            <a:chExt cx="897840" cy="1334520"/>
          </a:xfrm>
        </p:grpSpPr>
        <p:sp>
          <p:nvSpPr>
            <p:cNvPr id="2799" name=""/>
            <p:cNvSpPr/>
            <p:nvPr/>
          </p:nvSpPr>
          <p:spPr>
            <a:xfrm>
              <a:off x="1148040" y="388944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1143000" y="377352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1509840" y="410544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rot="3105600">
              <a:off x="1400760" y="335844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03" name=""/>
          <p:cNvGraphicFramePr/>
          <p:nvPr/>
        </p:nvGraphicFramePr>
        <p:xfrm>
          <a:off x="7086600" y="3819600"/>
          <a:ext cx="53352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8196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5" name=""/>
          <p:cNvGraphicFramePr/>
          <p:nvPr/>
        </p:nvGraphicFramePr>
        <p:xfrm>
          <a:off x="7238880" y="3971880"/>
          <a:ext cx="53352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397188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7" name=""/>
          <p:cNvGraphicFramePr/>
          <p:nvPr/>
        </p:nvGraphicFramePr>
        <p:xfrm>
          <a:off x="7391520" y="4124160"/>
          <a:ext cx="533160" cy="52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412416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9" name=""/>
          <p:cNvGraphicFramePr/>
          <p:nvPr/>
        </p:nvGraphicFramePr>
        <p:xfrm>
          <a:off x="7543800" y="4276800"/>
          <a:ext cx="53352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42768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1" name=""/>
          <p:cNvSpPr/>
          <p:nvPr/>
        </p:nvSpPr>
        <p:spPr>
          <a:xfrm>
            <a:off x="4952880" y="2133720"/>
            <a:ext cx="1828800" cy="3047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69343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495680" y="3581280"/>
            <a:ext cx="828720" cy="1062000"/>
            <a:chOff x="4495680" y="3581280"/>
            <a:chExt cx="828720" cy="1062000"/>
          </a:xfrm>
        </p:grpSpPr>
        <p:sp>
          <p:nvSpPr>
            <p:cNvPr id="2814" name=""/>
            <p:cNvSpPr/>
            <p:nvPr/>
          </p:nvSpPr>
          <p:spPr>
            <a:xfrm>
              <a:off x="4500360" y="39884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495680" y="38732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862520" y="42048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628880" y="35812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8" name=""/>
          <p:cNvSpPr/>
          <p:nvPr/>
        </p:nvSpPr>
        <p:spPr>
          <a:xfrm>
            <a:off x="1905120" y="3124080"/>
            <a:ext cx="8380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981080" y="4114800"/>
            <a:ext cx="83844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057400" y="3276720"/>
            <a:ext cx="8380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286000" y="3429000"/>
            <a:ext cx="8380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133720" y="4267080"/>
            <a:ext cx="83808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647640" y="5229360"/>
            <a:ext cx="194328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768" y="-15040"/>
                </a:moveTo>
                <a:lnTo>
                  <a:pt x="22447" y="3456"/>
                </a:lnTo>
              </a:path>
              <a:path w="21600" h="21600">
                <a:moveTo>
                  <a:pt x="22447" y="0"/>
                </a:moveTo>
                <a:lnTo>
                  <a:pt x="22447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nise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5562720" y="4191120"/>
            <a:ext cx="838080" cy="53316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6095880" y="4191120"/>
            <a:ext cx="165240" cy="53316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2819520" y="1600200"/>
            <a:ext cx="220968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83" y="58406"/>
                </a:moveTo>
                <a:lnTo>
                  <a:pt x="-745" y="3456"/>
                </a:lnTo>
              </a:path>
              <a:path w="21600" h="21600">
                <a:moveTo>
                  <a:pt x="-745" y="0"/>
                </a:moveTo>
                <a:lnTo>
                  <a:pt x="-745" y="21600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ynchronise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5105520" y="3124080"/>
            <a:ext cx="8380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5562720" y="312408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5867280" y="3429000"/>
            <a:ext cx="8384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6324480" y="342900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6019920" y="34290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2" name=""/>
          <p:cNvGraphicFramePr/>
          <p:nvPr/>
        </p:nvGraphicFramePr>
        <p:xfrm>
          <a:off x="3733920" y="4114800"/>
          <a:ext cx="533160" cy="52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41148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4" name=""/>
          <p:cNvGraphicFramePr/>
          <p:nvPr/>
        </p:nvGraphicFramePr>
        <p:xfrm>
          <a:off x="3886200" y="4267080"/>
          <a:ext cx="533520" cy="52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426708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6" name=""/>
          <p:cNvGraphicFramePr/>
          <p:nvPr/>
        </p:nvGraphicFramePr>
        <p:xfrm>
          <a:off x="4038480" y="4419720"/>
          <a:ext cx="53352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38480" y="44197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8" name=""/>
          <p:cNvSpPr/>
          <p:nvPr/>
        </p:nvSpPr>
        <p:spPr>
          <a:xfrm>
            <a:off x="6308640" y="1523880"/>
            <a:ext cx="260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mparable to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onitor with 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 condition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572000" y="5334120"/>
            <a:ext cx="2133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163" y="-14223"/>
                </a:moveTo>
                <a:lnTo>
                  <a:pt x="-771" y="2422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ing to acquire the 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7696080" y="5146560"/>
            <a:ext cx="11052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67" y="-21633"/>
                </a:moveTo>
                <a:lnTo>
                  <a:pt x="-1490" y="3456"/>
                </a:lnTo>
              </a:path>
              <a:path w="21600" h="21600">
                <a:moveTo>
                  <a:pt x="-1490" y="0"/>
                </a:moveTo>
                <a:lnTo>
                  <a:pt x="-1490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3657600" y="3276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5" dur="indefinite" restart="never" nodeType="tmRoot">
          <p:childTnLst>
            <p:seq>
              <p:cTn id="4066" dur="indefinite" nodeType="mainSeq">
                <p:childTnLst>
                  <p:par>
                    <p:cTn id="4067" fill="hold">
                      <p:stCondLst>
                        <p:cond delay="indefinite"/>
                      </p:stCondLst>
                      <p:childTnLst>
                        <p:par>
                          <p:cTn id="4068" fill="hold">
                            <p:stCondLst>
                              <p:cond delay="0"/>
                            </p:stCondLst>
                            <p:childTnLst>
                              <p:par>
                                <p:cTn id="40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1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2" fill="hold">
                      <p:stCondLst>
                        <p:cond delay="indefinite"/>
                      </p:stCondLst>
                      <p:childTnLst>
                        <p:par>
                          <p:cTn id="4073" fill="hold">
                            <p:stCondLst>
                              <p:cond delay="0"/>
                            </p:stCondLst>
                            <p:childTnLst>
                              <p:par>
                                <p:cTn id="40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6" dur="500" fill="hold"/>
                                        <p:tgtEl>
                                          <p:spTgt spid="2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7" dur="500" fill="hold"/>
                                        <p:tgtEl>
                                          <p:spTgt spid="2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8" fill="hold">
                            <p:stCondLst>
                              <p:cond delay="500"/>
                            </p:stCondLst>
                            <p:childTnLst>
                              <p:par>
                                <p:cTn id="4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2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2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1" dur="5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2" fill="hold">
                      <p:stCondLst>
                        <p:cond delay="indefinite"/>
                      </p:stCondLst>
                      <p:childTnLst>
                        <p:par>
                          <p:cTn id="4093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6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7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1" dur="500" fill="hold"/>
                                        <p:tgtEl>
                                          <p:spTgt spid="2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2" dur="500" fill="hold"/>
                                        <p:tgtEl>
                                          <p:spTgt spid="2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6" dur="500"/>
                                        <p:tgtEl>
                                          <p:spTgt spid="2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7" fill="hold">
                      <p:stCondLst>
                        <p:cond delay="indefinite"/>
                      </p:stCondLst>
                      <p:childTnLst>
                        <p:par>
                          <p:cTn id="4108" fill="hold">
                            <p:stCondLst>
                              <p:cond delay="0"/>
                            </p:stCondLst>
                            <p:childTnLst>
                              <p:par>
                                <p:cTn id="4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1" dur="5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2" dur="5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3" fill="hold">
                      <p:stCondLst>
                        <p:cond delay="indefinite"/>
                      </p:stCondLst>
                      <p:childTnLst>
                        <p:par>
                          <p:cTn id="4114" fill="hold">
                            <p:stCondLst>
                              <p:cond delay="0"/>
                            </p:stCondLst>
                            <p:childTnLst>
                              <p:par>
                                <p:cTn id="4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7" dur="500"/>
                                        <p:tgtEl>
                                          <p:spTgt spid="2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2" dur="5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6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7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1" dur="500" fill="hold"/>
                                        <p:tgtEl>
                                          <p:spTgt spid="2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2" dur="500" fill="hold"/>
                                        <p:tgtEl>
                                          <p:spTgt spid="2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6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7" fill="hold">
                      <p:stCondLst>
                        <p:cond delay="indefinite"/>
                      </p:stCondLst>
                      <p:childTnLst>
                        <p:par>
                          <p:cTn id="4138" fill="hold">
                            <p:stCondLst>
                              <p:cond delay="0"/>
                            </p:stCondLst>
                            <p:childTnLst>
                              <p:par>
                                <p:cTn id="4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1" dur="500"/>
                                        <p:tgtEl>
                                          <p:spTgt spid="2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2" fill="hold">
                            <p:stCondLst>
                              <p:cond delay="500"/>
                            </p:stCondLst>
                            <p:childTnLst>
                              <p:par>
                                <p:cTn id="41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5" dur="5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9" dur="500"/>
                                        <p:tgtEl>
                                          <p:spTgt spid="2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0" fill="hold">
                      <p:stCondLst>
                        <p:cond delay="indefinite"/>
                      </p:stCondLst>
                      <p:childTnLst>
                        <p:par>
                          <p:cTn id="4151" fill="hold">
                            <p:stCondLst>
                              <p:cond delay="0"/>
                            </p:stCondLst>
                            <p:childTnLst>
                              <p:par>
                                <p:cTn id="4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4" dur="500" fill="hold"/>
                                        <p:tgtEl>
                                          <p:spTgt spid="2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5" dur="500" fill="hold"/>
                                        <p:tgtEl>
                                          <p:spTgt spid="2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6" fill="hold">
                            <p:stCondLst>
                              <p:cond delay="500"/>
                            </p:stCondLst>
                            <p:childTnLst>
                              <p:par>
                                <p:cTn id="4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9" dur="5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0" fill="hold">
                      <p:stCondLst>
                        <p:cond delay="indefinite"/>
                      </p:stCondLst>
                      <p:childTnLst>
                        <p:par>
                          <p:cTn id="4161" fill="hold">
                            <p:stCondLst>
                              <p:cond delay="0"/>
                            </p:stCondLst>
                            <p:childTnLst>
                              <p:par>
                                <p:cTn id="4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4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3" dur="5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4" dur="5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8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9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3" dur="500"/>
                                        <p:tgtEl>
                                          <p:spTgt spid="2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4" fill="hold">
                      <p:stCondLst>
                        <p:cond delay="indefinite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8" dur="5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9" fill="hold">
                            <p:stCondLst>
                              <p:cond delay="500"/>
                            </p:stCondLst>
                            <p:childTnLst>
                              <p:par>
                                <p:cTn id="4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2" dur="500" fill="hold"/>
                                        <p:tgtEl>
                                          <p:spTgt spid="2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3" dur="500" fill="hold"/>
                                        <p:tgtEl>
                                          <p:spTgt spid="2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7" dur="5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8" dur="5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2" dur="5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3" dur="5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7" dur="500" fill="hold"/>
                                        <p:tgtEl>
                                          <p:spTgt spid="2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8" dur="500" fill="hold"/>
                                        <p:tgtEl>
                                          <p:spTgt spid="2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2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3" name=""/>
          <p:cNvGraphicFramePr/>
          <p:nvPr/>
        </p:nvGraphicFramePr>
        <p:xfrm>
          <a:off x="6019920" y="4343400"/>
          <a:ext cx="533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3434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5" name=""/>
          <p:cNvGraphicFramePr/>
          <p:nvPr/>
        </p:nvGraphicFramePr>
        <p:xfrm>
          <a:off x="6172200" y="4495680"/>
          <a:ext cx="5335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9568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7" name=""/>
          <p:cNvGraphicFramePr/>
          <p:nvPr/>
        </p:nvGraphicFramePr>
        <p:xfrm>
          <a:off x="6324480" y="4648320"/>
          <a:ext cx="53352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46483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9" name=""/>
          <p:cNvGraphicFramePr/>
          <p:nvPr/>
        </p:nvGraphicFramePr>
        <p:xfrm>
          <a:off x="6477120" y="4800600"/>
          <a:ext cx="53316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48006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1" name=""/>
          <p:cNvSpPr/>
          <p:nvPr/>
        </p:nvSpPr>
        <p:spPr>
          <a:xfrm>
            <a:off x="2895480" y="1981080"/>
            <a:ext cx="2286000" cy="3581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5943600" y="3581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3352680" y="4038480"/>
            <a:ext cx="99072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4038480" y="40384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3124080" y="2743200"/>
            <a:ext cx="8384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3581280" y="274320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3809880" y="3352680"/>
            <a:ext cx="8384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4267080" y="33526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962520" y="335268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0" name=""/>
          <p:cNvGraphicFramePr/>
          <p:nvPr/>
        </p:nvGraphicFramePr>
        <p:xfrm>
          <a:off x="1143000" y="4648320"/>
          <a:ext cx="533520" cy="52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46483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2" name=""/>
          <p:cNvSpPr/>
          <p:nvPr/>
        </p:nvSpPr>
        <p:spPr>
          <a:xfrm>
            <a:off x="4800600" y="3657600"/>
            <a:ext cx="914400" cy="533520"/>
          </a:xfrm>
          <a:prstGeom prst="wedgeRoundRectCallout">
            <a:avLst>
              <a:gd name="adj1" fmla="val -125000"/>
              <a:gd name="adj2" fmla="val 76189"/>
              <a:gd name="adj3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3" name=""/>
          <p:cNvGrpSpPr/>
          <p:nvPr/>
        </p:nvGrpSpPr>
        <p:grpSpPr>
          <a:xfrm>
            <a:off x="1927080" y="3804120"/>
            <a:ext cx="897840" cy="1334520"/>
            <a:chOff x="1927080" y="3804120"/>
            <a:chExt cx="897840" cy="1334520"/>
          </a:xfrm>
        </p:grpSpPr>
        <p:sp>
          <p:nvSpPr>
            <p:cNvPr id="2864" name=""/>
            <p:cNvSpPr/>
            <p:nvPr/>
          </p:nvSpPr>
          <p:spPr>
            <a:xfrm>
              <a:off x="1932120" y="448452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927080" y="436860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293920" y="470052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rot="3105600">
              <a:off x="2184840" y="395352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8" name=""/>
          <p:cNvSpPr/>
          <p:nvPr/>
        </p:nvSpPr>
        <p:spPr>
          <a:xfrm>
            <a:off x="1844640" y="3705120"/>
            <a:ext cx="107784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9" name=""/>
          <p:cNvGrpSpPr/>
          <p:nvPr/>
        </p:nvGrpSpPr>
        <p:grpSpPr>
          <a:xfrm>
            <a:off x="1927080" y="3973680"/>
            <a:ext cx="828720" cy="1062000"/>
            <a:chOff x="1927080" y="3973680"/>
            <a:chExt cx="828720" cy="1062000"/>
          </a:xfrm>
        </p:grpSpPr>
        <p:sp>
          <p:nvSpPr>
            <p:cNvPr id="2870" name=""/>
            <p:cNvSpPr/>
            <p:nvPr/>
          </p:nvSpPr>
          <p:spPr>
            <a:xfrm>
              <a:off x="1931760" y="43808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927080" y="42656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2293920" y="45972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2060280" y="39736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4" name=""/>
          <p:cNvSpPr/>
          <p:nvPr/>
        </p:nvSpPr>
        <p:spPr>
          <a:xfrm>
            <a:off x="4038480" y="40384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f95a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1846440" y="3705120"/>
            <a:ext cx="107784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6" name=""/>
          <p:cNvGrpSpPr/>
          <p:nvPr/>
        </p:nvGrpSpPr>
        <p:grpSpPr>
          <a:xfrm>
            <a:off x="1927080" y="3804120"/>
            <a:ext cx="897840" cy="1334520"/>
            <a:chOff x="1927080" y="3804120"/>
            <a:chExt cx="897840" cy="1334520"/>
          </a:xfrm>
        </p:grpSpPr>
        <p:sp>
          <p:nvSpPr>
            <p:cNvPr id="2877" name=""/>
            <p:cNvSpPr/>
            <p:nvPr/>
          </p:nvSpPr>
          <p:spPr>
            <a:xfrm>
              <a:off x="1932120" y="448452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927080" y="436860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2293920" y="470052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rot="3105600">
              <a:off x="2184840" y="395352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1" name=""/>
          <p:cNvSpPr/>
          <p:nvPr/>
        </p:nvSpPr>
        <p:spPr>
          <a:xfrm>
            <a:off x="1143000" y="4648320"/>
            <a:ext cx="6094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2" name=""/>
          <p:cNvGraphicFramePr/>
          <p:nvPr/>
        </p:nvGraphicFramePr>
        <p:xfrm>
          <a:off x="1295280" y="4800600"/>
          <a:ext cx="533520" cy="52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48006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4" name=""/>
          <p:cNvGraphicFramePr/>
          <p:nvPr/>
        </p:nvGraphicFramePr>
        <p:xfrm>
          <a:off x="1447920" y="4952880"/>
          <a:ext cx="533160" cy="52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47920" y="495288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6" name=""/>
          <p:cNvSpPr/>
          <p:nvPr/>
        </p:nvSpPr>
        <p:spPr>
          <a:xfrm>
            <a:off x="1846440" y="3705120"/>
            <a:ext cx="107784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7" name=""/>
          <p:cNvGrpSpPr/>
          <p:nvPr/>
        </p:nvGrpSpPr>
        <p:grpSpPr>
          <a:xfrm>
            <a:off x="1927080" y="3975120"/>
            <a:ext cx="828720" cy="1062000"/>
            <a:chOff x="1927080" y="3975120"/>
            <a:chExt cx="828720" cy="1062000"/>
          </a:xfrm>
        </p:grpSpPr>
        <p:sp>
          <p:nvSpPr>
            <p:cNvPr id="2888" name=""/>
            <p:cNvSpPr/>
            <p:nvPr/>
          </p:nvSpPr>
          <p:spPr>
            <a:xfrm>
              <a:off x="1931760" y="438228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1927080" y="426708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293920" y="459864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060280" y="397512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2" name=""/>
          <p:cNvSpPr/>
          <p:nvPr/>
        </p:nvSpPr>
        <p:spPr>
          <a:xfrm>
            <a:off x="3581280" y="4800600"/>
            <a:ext cx="99072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330800" y="48006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 flipH="1">
            <a:off x="4648320" y="33526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297180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2666880" y="39625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297180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2666880" y="39625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3" dur="indefinite" restart="never" nodeType="tmRoot">
          <p:childTnLst>
            <p:seq>
              <p:cTn id="4214" dur="indefinite" nodeType="mainSeq">
                <p:childTnLst>
                  <p:par>
                    <p:cTn id="4215" fill="hold">
                      <p:stCondLst>
                        <p:cond delay="indefinite"/>
                      </p:stCondLst>
                      <p:childTnLst>
                        <p:par>
                          <p:cTn id="4216" fill="hold">
                            <p:stCondLst>
                              <p:cond delay="0"/>
                            </p:stCondLst>
                            <p:childTnLst>
                              <p:par>
                                <p:cTn id="4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9" dur="5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3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7" dur="5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1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5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0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1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2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3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4" fill="hold">
                      <p:stCondLst>
                        <p:cond delay="indefinite"/>
                      </p:stCondLst>
                      <p:childTnLst>
                        <p:par>
                          <p:cTn id="4245" fill="hold">
                            <p:stCondLst>
                              <p:cond delay="0"/>
                            </p:stCondLst>
                            <p:childTnLst>
                              <p:par>
                                <p:cTn id="4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48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9" fill="hold">
                            <p:stCondLst>
                              <p:cond delay="500"/>
                            </p:stCondLst>
                            <p:childTnLst>
                              <p:par>
                                <p:cTn id="4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2" dur="500" fill="hold"/>
                                        <p:tgtEl>
                                          <p:spTgt spid="2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3" dur="500" fill="hold"/>
                                        <p:tgtEl>
                                          <p:spTgt spid="2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7" dur="500" fill="hold"/>
                                        <p:tgtEl>
                                          <p:spTgt spid="2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8" dur="500" fill="hold"/>
                                        <p:tgtEl>
                                          <p:spTgt spid="2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2" dur="500" fill="hold"/>
                                        <p:tgtEl>
                                          <p:spTgt spid="2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3" dur="500" fill="hold"/>
                                        <p:tgtEl>
                                          <p:spTgt spid="2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7" dur="500"/>
                                        <p:tgtEl>
                                          <p:spTgt spid="2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1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2" fill="hold">
                      <p:stCondLst>
                        <p:cond delay="indefinite"/>
                      </p:stCondLst>
                      <p:childTnLst>
                        <p:par>
                          <p:cTn id="4273" fill="hold">
                            <p:stCondLst>
                              <p:cond delay="0"/>
                            </p:stCondLst>
                            <p:childTnLst>
                              <p:par>
                                <p:cTn id="4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6" dur="500" fill="hold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7" dur="500" fill="hold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500"/>
                            </p:stCondLst>
                            <p:childTnLst>
                              <p:par>
                                <p:cTn id="4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9" dur="5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0" fill="hold">
                      <p:stCondLst>
                        <p:cond delay="indefinite"/>
                      </p:stCondLst>
                      <p:childTnLst>
                        <p:par>
                          <p:cTn id="4291" fill="hold">
                            <p:stCondLst>
                              <p:cond delay="0"/>
                            </p:stCondLst>
                            <p:childTnLst>
                              <p:par>
                                <p:cTn id="42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94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5" dur="1" fill="hold">
                                    <p:stCondLst>
                                      <p:cond evt="end">
                                        <p:tn val="4292"/>
                                      </p:cond>
                                    </p:stCondLst>
                                  </p:cTn>
                                  <p:tgtEl>
                                    <p:spTgt spid="28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6" fill="hold">
                            <p:stCondLst>
                              <p:cond delay="500"/>
                            </p:stCondLst>
                            <p:childTnLst>
                              <p:par>
                                <p:cTn id="42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9" dur="5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0" fill="hold">
                      <p:stCondLst>
                        <p:cond delay="indefinite"/>
                      </p:stCondLst>
                      <p:childTnLst>
                        <p:par>
                          <p:cTn id="4301" fill="hold">
                            <p:stCondLst>
                              <p:cond delay="0"/>
                            </p:stCondLst>
                            <p:childTnLst>
                              <p:par>
                                <p:cTn id="4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4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5" fill="hold">
                      <p:stCondLst>
                        <p:cond delay="indefinite"/>
                      </p:stCondLst>
                      <p:childTnLst>
                        <p:par>
                          <p:cTn id="4306" fill="hold">
                            <p:stCondLst>
                              <p:cond delay="0"/>
                            </p:stCondLst>
                            <p:childTnLst>
                              <p:par>
                                <p:cTn id="4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9" dur="500" fill="hold"/>
                                        <p:tgtEl>
                                          <p:spTgt spid="2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0" dur="500" fill="hold"/>
                                        <p:tgtEl>
                                          <p:spTgt spid="2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12" fill="hold">
                      <p:stCondLst>
                        <p:cond delay="indefinite"/>
                      </p:stCondLst>
                      <p:childTnLst>
                        <p:par>
                          <p:cTn id="4313" fill="hold">
                            <p:stCondLst>
                              <p:cond delay="0"/>
                            </p:stCondLst>
                            <p:childTnLst>
                              <p:par>
                                <p:cTn id="43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16" dur="5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17" dur="1" fill="hold">
                                    <p:stCondLst>
                                      <p:cond evt="end">
                                        <p:tn val="4314"/>
                                      </p:cond>
                                    </p:stCondLst>
                                  </p:cTn>
                                  <p:tgtEl>
                                    <p:spTgt spid="28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8" fill="hold">
                            <p:stCondLst>
                              <p:cond delay="500"/>
                            </p:stCondLst>
                            <p:childTnLst>
                              <p:par>
                                <p:cTn id="4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1" dur="5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2" dur="5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3" fill="hold">
                      <p:stCondLst>
                        <p:cond delay="indefinite"/>
                      </p:stCondLst>
                      <p:childTnLst>
                        <p:par>
                          <p:cTn id="4324" fill="hold">
                            <p:stCondLst>
                              <p:cond delay="0"/>
                            </p:stCondLst>
                            <p:childTnLst>
                              <p:par>
                                <p:cTn id="43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7" dur="5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28" dur="1" fill="hold">
                                    <p:stCondLst>
                                      <p:cond evt="end">
                                        <p:tn val="4325"/>
                                      </p:cond>
                                    </p:stCondLst>
                                  </p:cTn>
                                  <p:tgtEl>
                                    <p:spTgt spid="28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2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3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fill="hold">
                      <p:stCondLst>
                        <p:cond delay="indefinite"/>
                      </p:stCondLst>
                      <p:childTnLst>
                        <p:par>
                          <p:cTn id="4335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8" dur="5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9" fill="hold">
                      <p:stCondLst>
                        <p:cond delay="indefinite"/>
                      </p:stCondLst>
                      <p:childTnLst>
                        <p:par>
                          <p:cTn id="4340" fill="hold">
                            <p:stCondLst>
                              <p:cond delay="0"/>
                            </p:stCondLst>
                            <p:childTnLst>
                              <p:par>
                                <p:cTn id="4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44" fill="hold">
                            <p:stCondLst>
                              <p:cond delay="500"/>
                            </p:stCondLst>
                            <p:childTnLst>
                              <p:par>
                                <p:cTn id="43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7" dur="500" fill="hold"/>
                                        <p:tgtEl>
                                          <p:spTgt spid="2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8" dur="500" fill="hold"/>
                                        <p:tgtEl>
                                          <p:spTgt spid="2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5" fill="hold">
                      <p:stCondLst>
                        <p:cond delay="indefinite"/>
                      </p:stCondLst>
                      <p:childTnLst>
                        <p:par>
                          <p:cTn id="4356" fill="hold">
                            <p:stCondLst>
                              <p:cond delay="0"/>
                            </p:stCondLst>
                            <p:childTnLst>
                              <p:par>
                                <p:cTn id="4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9" fill="hold">
                            <p:stCondLst>
                              <p:cond delay="500"/>
                            </p:stCondLst>
                            <p:childTnLst>
                              <p:par>
                                <p:cTn id="4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8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0" name=""/>
          <p:cNvGraphicFramePr/>
          <p:nvPr/>
        </p:nvGraphicFramePr>
        <p:xfrm>
          <a:off x="6019920" y="4343400"/>
          <a:ext cx="533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3434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2" name=""/>
          <p:cNvSpPr/>
          <p:nvPr/>
        </p:nvSpPr>
        <p:spPr>
          <a:xfrm>
            <a:off x="2895480" y="1981080"/>
            <a:ext cx="2286000" cy="3581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5943600" y="3581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3352680" y="4038480"/>
            <a:ext cx="99072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4038480" y="4191120"/>
            <a:ext cx="228600" cy="38088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3124080" y="2743200"/>
            <a:ext cx="8384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3581280" y="274320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3809880" y="3352680"/>
            <a:ext cx="8384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4267080" y="33526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3962520" y="335268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1" name=""/>
          <p:cNvGraphicFramePr/>
          <p:nvPr/>
        </p:nvGraphicFramePr>
        <p:xfrm>
          <a:off x="1295280" y="4800600"/>
          <a:ext cx="53352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006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3" name=""/>
          <p:cNvSpPr/>
          <p:nvPr/>
        </p:nvSpPr>
        <p:spPr>
          <a:xfrm>
            <a:off x="3581280" y="4800600"/>
            <a:ext cx="99072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4330800" y="48006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4419720" y="3886200"/>
            <a:ext cx="1371600" cy="533520"/>
          </a:xfrm>
          <a:prstGeom prst="wedgeRoundRectCallout">
            <a:avLst>
              <a:gd name="adj1" fmla="val -48379"/>
              <a:gd name="adj2" fmla="val 187203"/>
              <a:gd name="adj3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tif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5867280" y="434340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1143000" y="4724280"/>
            <a:ext cx="60948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8" name=""/>
          <p:cNvGraphicFramePr/>
          <p:nvPr/>
        </p:nvGraphicFramePr>
        <p:xfrm>
          <a:off x="1447920" y="4952880"/>
          <a:ext cx="533160" cy="52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95288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0" name=""/>
          <p:cNvSpPr/>
          <p:nvPr/>
        </p:nvSpPr>
        <p:spPr>
          <a:xfrm>
            <a:off x="1295280" y="4876920"/>
            <a:ext cx="6098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1" name=""/>
          <p:cNvGraphicFramePr/>
          <p:nvPr/>
        </p:nvGraphicFramePr>
        <p:xfrm>
          <a:off x="1676520" y="5114880"/>
          <a:ext cx="53316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11488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3" name=""/>
          <p:cNvSpPr/>
          <p:nvPr/>
        </p:nvSpPr>
        <p:spPr>
          <a:xfrm>
            <a:off x="3429000" y="40384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3733920" y="48006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3429000" y="40384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f95a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3733920" y="48006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f95a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1600200" y="5105520"/>
            <a:ext cx="6094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4330800" y="48006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f95a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1928880" y="3973680"/>
            <a:ext cx="828720" cy="1062000"/>
            <a:chOff x="1928880" y="3973680"/>
            <a:chExt cx="828720" cy="1062000"/>
          </a:xfrm>
        </p:grpSpPr>
        <p:sp>
          <p:nvSpPr>
            <p:cNvPr id="2930" name=""/>
            <p:cNvSpPr/>
            <p:nvPr/>
          </p:nvSpPr>
          <p:spPr>
            <a:xfrm>
              <a:off x="1933560" y="43808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1928880" y="42656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2295720" y="45972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062080" y="39736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4" name=""/>
          <p:cNvSpPr/>
          <p:nvPr/>
        </p:nvSpPr>
        <p:spPr>
          <a:xfrm>
            <a:off x="1814400" y="3648240"/>
            <a:ext cx="1078200" cy="1690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5" name=""/>
          <p:cNvGrpSpPr/>
          <p:nvPr/>
        </p:nvGrpSpPr>
        <p:grpSpPr>
          <a:xfrm>
            <a:off x="1928880" y="3804120"/>
            <a:ext cx="897840" cy="1334520"/>
            <a:chOff x="1928880" y="3804120"/>
            <a:chExt cx="897840" cy="1334520"/>
          </a:xfrm>
        </p:grpSpPr>
        <p:sp>
          <p:nvSpPr>
            <p:cNvPr id="2936" name=""/>
            <p:cNvSpPr/>
            <p:nvPr/>
          </p:nvSpPr>
          <p:spPr>
            <a:xfrm>
              <a:off x="1933920" y="448452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1928880" y="436860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2295720" y="470052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 rot="3105600">
              <a:off x="2186640" y="395352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0" name=""/>
          <p:cNvSpPr/>
          <p:nvPr/>
        </p:nvSpPr>
        <p:spPr>
          <a:xfrm>
            <a:off x="1838160" y="3705120"/>
            <a:ext cx="107820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1" name=""/>
          <p:cNvGrpSpPr/>
          <p:nvPr/>
        </p:nvGrpSpPr>
        <p:grpSpPr>
          <a:xfrm>
            <a:off x="1928880" y="3973680"/>
            <a:ext cx="828720" cy="1062000"/>
            <a:chOff x="1928880" y="3973680"/>
            <a:chExt cx="828720" cy="1062000"/>
          </a:xfrm>
        </p:grpSpPr>
        <p:sp>
          <p:nvSpPr>
            <p:cNvPr id="2942" name=""/>
            <p:cNvSpPr/>
            <p:nvPr/>
          </p:nvSpPr>
          <p:spPr>
            <a:xfrm>
              <a:off x="1933560" y="43808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1928880" y="42656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2295720" y="45972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2062080" y="39736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6" name=""/>
          <p:cNvSpPr/>
          <p:nvPr/>
        </p:nvSpPr>
        <p:spPr>
          <a:xfrm>
            <a:off x="1814400" y="3705120"/>
            <a:ext cx="107820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7" name=""/>
          <p:cNvGrpSpPr/>
          <p:nvPr/>
        </p:nvGrpSpPr>
        <p:grpSpPr>
          <a:xfrm>
            <a:off x="1928880" y="3804120"/>
            <a:ext cx="897840" cy="1334520"/>
            <a:chOff x="1928880" y="3804120"/>
            <a:chExt cx="897840" cy="1334520"/>
          </a:xfrm>
        </p:grpSpPr>
        <p:sp>
          <p:nvSpPr>
            <p:cNvPr id="2948" name=""/>
            <p:cNvSpPr/>
            <p:nvPr/>
          </p:nvSpPr>
          <p:spPr>
            <a:xfrm>
              <a:off x="1933920" y="448452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1928880" y="436860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295720" y="470052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rot="3105600">
              <a:off x="2186640" y="395352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2" name=""/>
          <p:cNvSpPr/>
          <p:nvPr/>
        </p:nvSpPr>
        <p:spPr>
          <a:xfrm>
            <a:off x="1847880" y="3705120"/>
            <a:ext cx="107784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3" name=""/>
          <p:cNvGrpSpPr/>
          <p:nvPr/>
        </p:nvGrpSpPr>
        <p:grpSpPr>
          <a:xfrm>
            <a:off x="1928880" y="3973680"/>
            <a:ext cx="828720" cy="1062000"/>
            <a:chOff x="1928880" y="3973680"/>
            <a:chExt cx="828720" cy="1062000"/>
          </a:xfrm>
        </p:grpSpPr>
        <p:sp>
          <p:nvSpPr>
            <p:cNvPr id="2954" name=""/>
            <p:cNvSpPr/>
            <p:nvPr/>
          </p:nvSpPr>
          <p:spPr>
            <a:xfrm>
              <a:off x="1933560" y="43808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1928880" y="42656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295720" y="45972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062080" y="39736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8" name=""/>
          <p:cNvSpPr/>
          <p:nvPr/>
        </p:nvSpPr>
        <p:spPr>
          <a:xfrm>
            <a:off x="1824120" y="3705120"/>
            <a:ext cx="107784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9" name=""/>
          <p:cNvGrpSpPr/>
          <p:nvPr/>
        </p:nvGrpSpPr>
        <p:grpSpPr>
          <a:xfrm>
            <a:off x="1928880" y="3804120"/>
            <a:ext cx="897840" cy="1334520"/>
            <a:chOff x="1928880" y="3804120"/>
            <a:chExt cx="897840" cy="1334520"/>
          </a:xfrm>
        </p:grpSpPr>
        <p:sp>
          <p:nvSpPr>
            <p:cNvPr id="2960" name=""/>
            <p:cNvSpPr/>
            <p:nvPr/>
          </p:nvSpPr>
          <p:spPr>
            <a:xfrm>
              <a:off x="1933920" y="448452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1928880" y="436860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2295720" y="470052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 rot="3105600">
              <a:off x="2186640" y="395352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4" name=""/>
          <p:cNvSpPr/>
          <p:nvPr/>
        </p:nvSpPr>
        <p:spPr>
          <a:xfrm>
            <a:off x="1814400" y="3705120"/>
            <a:ext cx="107820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5" name=""/>
          <p:cNvGrpSpPr/>
          <p:nvPr/>
        </p:nvGrpSpPr>
        <p:grpSpPr>
          <a:xfrm>
            <a:off x="1928880" y="3975120"/>
            <a:ext cx="828720" cy="1062000"/>
            <a:chOff x="1928880" y="3975120"/>
            <a:chExt cx="828720" cy="1062000"/>
          </a:xfrm>
        </p:grpSpPr>
        <p:sp>
          <p:nvSpPr>
            <p:cNvPr id="2966" name=""/>
            <p:cNvSpPr/>
            <p:nvPr/>
          </p:nvSpPr>
          <p:spPr>
            <a:xfrm>
              <a:off x="1933560" y="438228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1928880" y="426708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2295720" y="459864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062080" y="397512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70" name=""/>
          <p:cNvGraphicFramePr/>
          <p:nvPr/>
        </p:nvGraphicFramePr>
        <p:xfrm>
          <a:off x="6172200" y="4495680"/>
          <a:ext cx="533520" cy="52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449568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2" name=""/>
          <p:cNvGraphicFramePr/>
          <p:nvPr/>
        </p:nvGraphicFramePr>
        <p:xfrm>
          <a:off x="6324480" y="4648320"/>
          <a:ext cx="533520" cy="52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24480" y="46483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4" name=""/>
          <p:cNvGraphicFramePr/>
          <p:nvPr/>
        </p:nvGraphicFramePr>
        <p:xfrm>
          <a:off x="6477120" y="4800600"/>
          <a:ext cx="53316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77120" y="48006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9" dur="indefinite" restart="never" nodeType="tmRoot">
          <p:childTnLst>
            <p:seq>
              <p:cTn id="4370" dur="indefinite" nodeType="mainSeq">
                <p:childTnLst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75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6" fill="hold">
                      <p:stCondLst>
                        <p:cond delay="indefinite"/>
                      </p:stCondLst>
                      <p:childTnLst>
                        <p:par>
                          <p:cTn id="4377" fill="hold">
                            <p:stCondLst>
                              <p:cond delay="0"/>
                            </p:stCondLst>
                            <p:childTnLst>
                              <p:par>
                                <p:cTn id="4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81" fill="hold">
                            <p:stCondLst>
                              <p:cond delay="500"/>
                            </p:stCondLst>
                            <p:childTnLst>
                              <p:par>
                                <p:cTn id="4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4" dur="5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5" dur="5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6" fill="hold">
                      <p:stCondLst>
                        <p:cond delay="indefinite"/>
                      </p:stCondLst>
                      <p:childTnLst>
                        <p:par>
                          <p:cTn id="4387" fill="hold">
                            <p:stCondLst>
                              <p:cond delay="0"/>
                            </p:stCondLst>
                            <p:childTnLst>
                              <p:par>
                                <p:cTn id="4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0" fill="hold">
                            <p:stCondLst>
                              <p:cond delay="500"/>
                            </p:stCondLst>
                            <p:childTnLst>
                              <p:par>
                                <p:cTn id="4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6" fill="hold">
                      <p:stCondLst>
                        <p:cond delay="indefinite"/>
                      </p:stCondLst>
                      <p:childTnLst>
                        <p:par>
                          <p:cTn id="4397" fill="hold">
                            <p:stCondLst>
                              <p:cond delay="0"/>
                            </p:stCondLst>
                            <p:childTnLst>
                              <p:par>
                                <p:cTn id="4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9" dur="500"/>
                                        <p:tgtEl>
                                          <p:spTgt spid="2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0" fill="hold">
                      <p:stCondLst>
                        <p:cond delay="indefinite"/>
                      </p:stCondLst>
                      <p:childTnLst>
                        <p:par>
                          <p:cTn id="4411" fill="hold">
                            <p:stCondLst>
                              <p:cond delay="0"/>
                            </p:stCondLst>
                            <p:childTnLst>
                              <p:par>
                                <p:cTn id="4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0" fill="hold">
                      <p:stCondLst>
                        <p:cond delay="indefinite"/>
                      </p:stCondLst>
                      <p:childTnLst>
                        <p:par>
                          <p:cTn id="4421" fill="hold">
                            <p:stCondLst>
                              <p:cond delay="0"/>
                            </p:stCondLst>
                            <p:childTnLst>
                              <p:par>
                                <p:cTn id="4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3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4" fill="hold">
                      <p:stCondLst>
                        <p:cond delay="indefinite"/>
                      </p:stCondLst>
                      <p:childTnLst>
                        <p:par>
                          <p:cTn id="4435" fill="hold">
                            <p:stCondLst>
                              <p:cond delay="0"/>
                            </p:stCondLst>
                            <p:childTnLst>
                              <p:par>
                                <p:cTn id="4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4" fill="hold">
                      <p:stCondLst>
                        <p:cond delay="indefinite"/>
                      </p:stCondLst>
                      <p:childTnLst>
                        <p:par>
                          <p:cTn id="4445" fill="hold">
                            <p:stCondLst>
                              <p:cond delay="0"/>
                            </p:stCondLst>
                            <p:childTnLst>
                              <p:par>
                                <p:cTn id="4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7" dur="500"/>
                                        <p:tgtEl>
                                          <p:spTgt spid="2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undedBuffer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id put (int i) { 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em get (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countBuffer () { … }  // returns # of items in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653400" y="3913200"/>
            <a:ext cx="66135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lock (mutex) with each instance of tha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of method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of method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ing/unlocking atom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1905120" y="2209680"/>
            <a:ext cx="1752480" cy="45720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8" dur="indefinite" restart="never" nodeType="tmRoot">
          <p:childTnLst>
            <p:seq>
              <p:cTn id="4459" dur="indefinite" nodeType="mainSeq">
                <p:childTnLst>
                  <p:par>
                    <p:cTn id="4460" fill="hold">
                      <p:stCondLst>
                        <p:cond delay="indefinite"/>
                      </p:stCondLst>
                      <p:childTnLst>
                        <p:par>
                          <p:cTn id="4461" fill="hold">
                            <p:stCondLst>
                              <p:cond delay="0"/>
                            </p:stCondLst>
                            <p:childTnLst>
                              <p:par>
                                <p:cTn id="44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4" dur="500"/>
                                        <p:tgtEl>
                                          <p:spTgt spid="2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8" dur="50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9" dur="50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0" fill="hold">
                      <p:stCondLst>
                        <p:cond delay="indefinite"/>
                      </p:stCondLst>
                      <p:childTnLst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4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entrantClass 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id a () { …; b(); …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id b () { …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738720" y="4400640"/>
            <a:ext cx="777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lo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-ent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 c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qu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lock it already 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5" dur="indefinite" restart="never" nodeType="tmRoot">
          <p:childTnLst>
            <p:seq>
              <p:cTn id="4476" dur="indefinite" nodeType="mainSeq">
                <p:childTnLst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1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2" fill="hold">
                      <p:stCondLst>
                        <p:cond delay="indefinite"/>
                      </p:stCondLst>
                      <p:childTnLst>
                        <p:par>
                          <p:cTn id="4483" fill="hold">
                            <p:stCondLst>
                              <p:cond delay="0"/>
                            </p:stCondLst>
                            <p:childTnLst>
                              <p:par>
                                <p:cTn id="4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6" dur="500"/>
                                        <p:tgtEl>
                                          <p:spTgt spid="2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fill="hold">
                      <p:stCondLst>
                        <p:cond delay="indefinite"/>
                      </p:stCondLst>
                      <p:childTnLst>
                        <p:par>
                          <p:cTn id="4488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1" dur="500"/>
                                        <p:tgtEl>
                                          <p:spTgt spid="2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2" fill="hold">
                      <p:stCondLst>
                        <p:cond delay="indefinite"/>
                      </p:stCondLst>
                      <p:childTnLst>
                        <p:par>
                          <p:cTn id="4493" fill="hold">
                            <p:stCondLst>
                              <p:cond delay="0"/>
                            </p:stCondLst>
                            <p:childTnLst>
                              <p:par>
                                <p:cTn id="4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6" dur="500"/>
                                        <p:tgtEl>
                                          <p:spTgt spid="2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"/>
          <p:cNvSpPr/>
          <p:nvPr/>
        </p:nvSpPr>
        <p:spPr>
          <a:xfrm>
            <a:off x="1066680" y="2438280"/>
            <a:ext cx="3657600" cy="2819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1523880" y="3200400"/>
            <a:ext cx="2949840" cy="121932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lySynchronizedClass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oid c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i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S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4952880" y="3851280"/>
            <a:ext cx="2971800" cy="825480"/>
          </a:xfrm>
          <a:prstGeom prst="borderCallout1">
            <a:avLst>
              <a:gd name="adj1" fmla="val 18750"/>
              <a:gd name="adj2" fmla="val -8333"/>
              <a:gd name="adj3" fmla="val -17259"/>
              <a:gd name="adj4" fmla="val -5506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art of method is synchro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7" dur="indefinite" restart="never" nodeType="tmRoot">
          <p:childTnLst>
            <p:seq>
              <p:cTn id="4498" dur="indefinite" nodeType="mainSeq">
                <p:childTnLst>
                  <p:par>
                    <p:cTn id="4499" fill="hold">
                      <p:stCondLst>
                        <p:cond delay="indefinite"/>
                      </p:stCondLst>
                      <p:childTnLst>
                        <p:par>
                          <p:cTn id="4500" fill="hold">
                            <p:stCondLst>
                              <p:cond delay="0"/>
                            </p:stCondLst>
                            <p:childTnLst>
                              <p:par>
                                <p:cTn id="45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3" dur="500"/>
                                        <p:tgtEl>
                                          <p:spTgt spid="2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4" fill="hold">
                      <p:stCondLst>
                        <p:cond delay="indefinite"/>
                      </p:stCondLst>
                      <p:childTnLst>
                        <p:par>
                          <p:cTn id="4505" fill="hold">
                            <p:stCondLst>
                              <p:cond delay="0"/>
                            </p:stCondLst>
                            <p:childTnLst>
                              <p:par>
                                <p:cTn id="4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8" dur="5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9" dur="5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0" fill="hold">
                      <p:stCondLst>
                        <p:cond delay="indefinite"/>
                      </p:stCondLst>
                      <p:childTnLst>
                        <p:par>
                          <p:cTn id="4511" fill="hold">
                            <p:stCondLst>
                              <p:cond delay="0"/>
                            </p:stCondLst>
                            <p:childTnLst>
                              <p:par>
                                <p:cTn id="4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4" dur="50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5" dur="50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6" fill="hold">
                      <p:stCondLst>
                        <p:cond delay="indefinite"/>
                      </p:stCondLst>
                      <p:childTnLst>
                        <p:par>
                          <p:cTn id="4517" fill="hold">
                            <p:stCondLst>
                              <p:cond delay="0"/>
                            </p:stCondLst>
                            <p:childTnLst>
                              <p:par>
                                <p:cTn id="45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0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Probl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s =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r =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v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if the queue is not a FIFO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2895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62120" y="2895480"/>
            <a:ext cx="3124080" cy="3124440"/>
            <a:chOff x="762120" y="2895480"/>
            <a:chExt cx="3124080" cy="3124440"/>
          </a:xfrm>
        </p:grpSpPr>
        <p:sp>
          <p:nvSpPr>
            <p:cNvPr id="260" name=""/>
            <p:cNvSpPr/>
            <p:nvPr/>
          </p:nvSpPr>
          <p:spPr>
            <a:xfrm>
              <a:off x="2286000" y="289548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2120" y="335268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2" name=""/>
          <p:cNvGraphicFramePr/>
          <p:nvPr/>
        </p:nvGraphicFramePr>
        <p:xfrm>
          <a:off x="2743200" y="5562720"/>
          <a:ext cx="53352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5627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914400" y="5191200"/>
          <a:ext cx="53352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1912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838080" y="528624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9040" y="3422520"/>
            <a:ext cx="3178440" cy="18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// s == 0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(&amp;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// r =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(&amp;r);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"/>
          <p:cNvSpPr/>
          <p:nvPr/>
        </p:nvSpPr>
        <p:spPr>
          <a:xfrm>
            <a:off x="1066680" y="2438280"/>
            <a:ext cx="3581640" cy="2819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1600200" y="3200400"/>
            <a:ext cx="2819520" cy="121932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lySynchronizedClass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oid d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bj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S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952880" y="3851280"/>
            <a:ext cx="2590920" cy="825480"/>
          </a:xfrm>
          <a:prstGeom prst="borderCallout1">
            <a:avLst>
              <a:gd name="adj1" fmla="val 18750"/>
              <a:gd name="adj2" fmla="val -8333"/>
              <a:gd name="adj3" fmla="val -6666"/>
              <a:gd name="adj4" fmla="val -32462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e on an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1" dur="indefinite" restart="never" nodeType="tmRoot">
          <p:childTnLst>
            <p:seq>
              <p:cTn id="4522" dur="indefinite" nodeType="mainSeq">
                <p:childTnLst>
                  <p:par>
                    <p:cTn id="4523" fill="hold">
                      <p:stCondLst>
                        <p:cond delay="indefinite"/>
                      </p:stCondLst>
                      <p:childTnLst>
                        <p:par>
                          <p:cTn id="4524" fill="hold">
                            <p:stCondLst>
                              <p:cond delay="0"/>
                            </p:stCondLst>
                            <p:childTnLst>
                              <p:par>
                                <p:cTn id="45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7" dur="500"/>
                                        <p:tgtEl>
                                          <p:spTgt spid="2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8" fill="hold">
                      <p:stCondLst>
                        <p:cond delay="indefinite"/>
                      </p:stCondLst>
                      <p:childTnLst>
                        <p:par>
                          <p:cTn id="4529" fill="hold">
                            <p:stCondLst>
                              <p:cond delay="0"/>
                            </p:stCondLst>
                            <p:childTnLst>
                              <p:par>
                                <p:cTn id="4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2" dur="500"/>
                                        <p:tgtEl>
                                          <p:spTgt spid="2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3" fill="hold">
                      <p:stCondLst>
                        <p:cond delay="indefinite"/>
                      </p:stCondLst>
                      <p:childTnLst>
                        <p:par>
                          <p:cTn id="4534" fill="hold">
                            <p:stCondLst>
                              <p:cond delay="0"/>
                            </p:stCondLst>
                            <p:childTnLst>
                              <p:par>
                                <p:cTn id="4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7" dur="50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8" dur="50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9" fill="hold">
                      <p:stCondLst>
                        <p:cond delay="indefinite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3" dur="500"/>
                                        <p:tgtEl>
                                          <p:spTgt spid="2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bject.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nquishes the 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s for a 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mes when a) notified and b) lock is reac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Object.wait (long time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Object.wait (long timeout, int nanosec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bject.notif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es one thread waiting on tha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bject.notifyAl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es all threads waiting on tha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4952880" y="1523880"/>
            <a:ext cx="3733920" cy="8384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10476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if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wns loc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4" dur="indefinite" restart="never" nodeType="tmRoot">
          <p:childTnLst>
            <p:seq>
              <p:cTn id="4545" dur="indefinite" nodeType="mainSeq">
                <p:childTnLst>
                  <p:par>
                    <p:cTn id="4546" fill="hold">
                      <p:stCondLst>
                        <p:cond delay="indefinite"/>
                      </p:stCondLst>
                      <p:childTnLst>
                        <p:par>
                          <p:cTn id="4547" fill="hold">
                            <p:stCondLst>
                              <p:cond delay="0"/>
                            </p:stCondLst>
                            <p:childTnLst>
                              <p:par>
                                <p:cTn id="4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0" dur="500"/>
                                        <p:tgtEl>
                                          <p:spTgt spid="2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3" dur="500"/>
                                        <p:tgtEl>
                                          <p:spTgt spid="2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6" dur="500"/>
                                        <p:tgtEl>
                                          <p:spTgt spid="2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9" dur="500"/>
                                        <p:tgtEl>
                                          <p:spTgt spid="2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0" fill="hold">
                      <p:stCondLst>
                        <p:cond delay="indefinite"/>
                      </p:stCondLst>
                      <p:childTnLst>
                        <p:par>
                          <p:cTn id="4561" fill="hold">
                            <p:stCondLst>
                              <p:cond delay="0"/>
                            </p:stCondLst>
                            <p:childTnLst>
                              <p:par>
                                <p:cTn id="4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4" dur="500"/>
                                        <p:tgtEl>
                                          <p:spTgt spid="2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5" fill="hold">
                      <p:stCondLst>
                        <p:cond delay="indefinite"/>
                      </p:stCondLst>
                      <p:childTnLst>
                        <p:par>
                          <p:cTn id="4566" fill="hold">
                            <p:stCondLst>
                              <p:cond delay="0"/>
                            </p:stCondLst>
                            <p:childTnLst>
                              <p:par>
                                <p:cTn id="4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9" dur="500"/>
                                        <p:tgtEl>
                                          <p:spTgt spid="2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0" fill="hold">
                      <p:stCondLst>
                        <p:cond delay="indefinite"/>
                      </p:stCondLst>
                      <p:childTnLst>
                        <p:par>
                          <p:cTn id="4571" fill="hold">
                            <p:stCondLst>
                              <p:cond delay="0"/>
                            </p:stCondLst>
                            <p:childTnLst>
                              <p:par>
                                <p:cTn id="4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4" dur="500"/>
                                        <p:tgtEl>
                                          <p:spTgt spid="29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7" dur="500"/>
                                        <p:tgtEl>
                                          <p:spTgt spid="29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8" fill="hold">
                      <p:stCondLst>
                        <p:cond delay="indefinite"/>
                      </p:stCondLst>
                      <p:childTnLst>
                        <p:par>
                          <p:cTn id="4579" fill="hold">
                            <p:stCondLst>
                              <p:cond delay="0"/>
                            </p:stCondLst>
                            <p:childTnLst>
                              <p:par>
                                <p:cTn id="4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2" dur="500"/>
                                        <p:tgtEl>
                                          <p:spTgt spid="29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5" dur="500"/>
                                        <p:tgtEl>
                                          <p:spTgt spid="29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6" fill="hold">
                      <p:stCondLst>
                        <p:cond delay="indefinite"/>
                      </p:stCondLst>
                      <p:childTnLst>
                        <p:par>
                          <p:cTn id="4587" fill="hold">
                            <p:stCondLst>
                              <p:cond delay="0"/>
                            </p:stCondLst>
                            <p:childTnLst>
                              <p:par>
                                <p:cTn id="458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0" dur="5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1" dur="5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1219320" y="2133720"/>
            <a:ext cx="3124080" cy="3352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1447920" y="3352680"/>
            <a:ext cx="2590560" cy="12193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nized a(…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4876920" y="2133720"/>
            <a:ext cx="3124080" cy="3352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5105520" y="3352680"/>
            <a:ext cx="2590560" cy="12193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nized b(…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971800" y="3657600"/>
            <a:ext cx="2133720" cy="520560"/>
          </a:xfrm>
          <a:custGeom>
            <a:avLst/>
            <a:gdLst/>
            <a:ahLst/>
            <a:rect l="l" t="t" r="r" b="b"/>
            <a:pathLst>
              <a:path w="1344" h="328">
                <a:moveTo>
                  <a:pt x="0" y="328"/>
                </a:moveTo>
                <a:cubicBezTo>
                  <a:pt x="296" y="204"/>
                  <a:pt x="592" y="80"/>
                  <a:pt x="816" y="40"/>
                </a:cubicBezTo>
                <a:cubicBezTo>
                  <a:pt x="1040" y="0"/>
                  <a:pt x="1192" y="44"/>
                  <a:pt x="1344" y="8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2" name=""/>
          <p:cNvGrpSpPr/>
          <p:nvPr/>
        </p:nvGrpSpPr>
        <p:grpSpPr>
          <a:xfrm>
            <a:off x="990720" y="4191120"/>
            <a:ext cx="828720" cy="1062000"/>
            <a:chOff x="990720" y="4191120"/>
            <a:chExt cx="828720" cy="1062000"/>
          </a:xfrm>
        </p:grpSpPr>
        <p:sp>
          <p:nvSpPr>
            <p:cNvPr id="3003" name=""/>
            <p:cNvSpPr/>
            <p:nvPr/>
          </p:nvSpPr>
          <p:spPr>
            <a:xfrm>
              <a:off x="995400" y="459828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990720" y="448308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1357560" y="481464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1123920" y="419112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7" name=""/>
          <p:cNvSpPr/>
          <p:nvPr/>
        </p:nvSpPr>
        <p:spPr>
          <a:xfrm>
            <a:off x="2819520" y="3733920"/>
            <a:ext cx="164880" cy="53316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6248520" y="3733920"/>
            <a:ext cx="164880" cy="53316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6019920" y="3767040"/>
            <a:ext cx="91440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wai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0" name=""/>
          <p:cNvGrpSpPr/>
          <p:nvPr/>
        </p:nvGrpSpPr>
        <p:grpSpPr>
          <a:xfrm>
            <a:off x="4809960" y="4576680"/>
            <a:ext cx="828720" cy="1062000"/>
            <a:chOff x="4809960" y="4576680"/>
            <a:chExt cx="828720" cy="1062000"/>
          </a:xfrm>
        </p:grpSpPr>
        <p:sp>
          <p:nvSpPr>
            <p:cNvPr id="3011" name=""/>
            <p:cNvSpPr/>
            <p:nvPr/>
          </p:nvSpPr>
          <p:spPr>
            <a:xfrm>
              <a:off x="4814640" y="49838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809960" y="48686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176800" y="52002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943160" y="45766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4419720" y="4504320"/>
            <a:ext cx="1600200" cy="1381320"/>
            <a:chOff x="4419720" y="4504320"/>
            <a:chExt cx="1600200" cy="1381320"/>
          </a:xfrm>
        </p:grpSpPr>
        <p:sp>
          <p:nvSpPr>
            <p:cNvPr id="3016" name=""/>
            <p:cNvSpPr/>
            <p:nvPr/>
          </p:nvSpPr>
          <p:spPr>
            <a:xfrm>
              <a:off x="4419720" y="4572000"/>
              <a:ext cx="1600200" cy="1313640"/>
            </a:xfrm>
            <a:prstGeom prst="borderCallout1">
              <a:avLst>
                <a:gd name="adj1" fmla="val 18750"/>
                <a:gd name="adj2" fmla="val -8333"/>
                <a:gd name="adj3" fmla="val -38273"/>
                <a:gd name="adj4" fmla="val 129439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4800600" y="4504320"/>
              <a:ext cx="897840" cy="1334520"/>
              <a:chOff x="4800600" y="4504320"/>
              <a:chExt cx="897840" cy="1334520"/>
            </a:xfrm>
          </p:grpSpPr>
          <p:sp>
            <p:nvSpPr>
              <p:cNvPr id="3018" name=""/>
              <p:cNvSpPr/>
              <p:nvPr/>
            </p:nvSpPr>
            <p:spPr>
              <a:xfrm>
                <a:off x="4805640" y="5184720"/>
                <a:ext cx="823680" cy="654120"/>
              </a:xfrm>
              <a:custGeom>
                <a:avLst/>
                <a:gdLst/>
                <a:ahLst/>
                <a:rect l="l" t="t" r="r" b="b"/>
                <a:pathLst>
                  <a:path w="2458" h="1557">
                    <a:moveTo>
                      <a:pt x="0" y="3"/>
                    </a:moveTo>
                    <a:lnTo>
                      <a:pt x="0" y="1283"/>
                    </a:lnTo>
                    <a:lnTo>
                      <a:pt x="26" y="1344"/>
                    </a:lnTo>
                    <a:lnTo>
                      <a:pt x="69" y="1377"/>
                    </a:lnTo>
                    <a:lnTo>
                      <a:pt x="154" y="1414"/>
                    </a:lnTo>
                    <a:lnTo>
                      <a:pt x="265" y="1455"/>
                    </a:lnTo>
                    <a:lnTo>
                      <a:pt x="401" y="1491"/>
                    </a:lnTo>
                    <a:lnTo>
                      <a:pt x="597" y="1521"/>
                    </a:lnTo>
                    <a:lnTo>
                      <a:pt x="763" y="1534"/>
                    </a:lnTo>
                    <a:lnTo>
                      <a:pt x="934" y="1554"/>
                    </a:lnTo>
                    <a:lnTo>
                      <a:pt x="1110" y="1557"/>
                    </a:lnTo>
                    <a:lnTo>
                      <a:pt x="1331" y="1557"/>
                    </a:lnTo>
                    <a:lnTo>
                      <a:pt x="1475" y="1554"/>
                    </a:lnTo>
                    <a:lnTo>
                      <a:pt x="1605" y="1546"/>
                    </a:lnTo>
                    <a:lnTo>
                      <a:pt x="1731" y="1534"/>
                    </a:lnTo>
                    <a:lnTo>
                      <a:pt x="1907" y="1513"/>
                    </a:lnTo>
                    <a:lnTo>
                      <a:pt x="2069" y="1488"/>
                    </a:lnTo>
                    <a:lnTo>
                      <a:pt x="2191" y="1455"/>
                    </a:lnTo>
                    <a:lnTo>
                      <a:pt x="2272" y="1432"/>
                    </a:lnTo>
                    <a:lnTo>
                      <a:pt x="2357" y="1392"/>
                    </a:lnTo>
                    <a:lnTo>
                      <a:pt x="2413" y="1356"/>
                    </a:lnTo>
                    <a:lnTo>
                      <a:pt x="2450" y="1311"/>
                    </a:lnTo>
                    <a:lnTo>
                      <a:pt x="2458" y="1272"/>
                    </a:lnTo>
                    <a:lnTo>
                      <a:pt x="24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800600" y="5068800"/>
                <a:ext cx="820800" cy="241560"/>
              </a:xfrm>
              <a:prstGeom prst="ellipse">
                <a:avLst/>
              </a:prstGeom>
              <a:solidFill>
                <a:srgbClr val="ffb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5167440" y="5400720"/>
                <a:ext cx="100080" cy="306360"/>
              </a:xfrm>
              <a:custGeom>
                <a:avLst/>
                <a:gdLst/>
                <a:ahLst/>
                <a:rect l="l" t="t" r="r" b="b"/>
                <a:pathLst>
                  <a:path w="299" h="727">
                    <a:moveTo>
                      <a:pt x="57" y="289"/>
                    </a:moveTo>
                    <a:lnTo>
                      <a:pt x="5" y="253"/>
                    </a:lnTo>
                    <a:lnTo>
                      <a:pt x="0" y="199"/>
                    </a:lnTo>
                    <a:lnTo>
                      <a:pt x="0" y="131"/>
                    </a:lnTo>
                    <a:lnTo>
                      <a:pt x="42" y="42"/>
                    </a:lnTo>
                    <a:lnTo>
                      <a:pt x="103" y="0"/>
                    </a:lnTo>
                    <a:lnTo>
                      <a:pt x="184" y="0"/>
                    </a:lnTo>
                    <a:lnTo>
                      <a:pt x="256" y="42"/>
                    </a:lnTo>
                    <a:lnTo>
                      <a:pt x="284" y="131"/>
                    </a:lnTo>
                    <a:lnTo>
                      <a:pt x="271" y="235"/>
                    </a:lnTo>
                    <a:lnTo>
                      <a:pt x="232" y="289"/>
                    </a:lnTo>
                    <a:lnTo>
                      <a:pt x="171" y="312"/>
                    </a:lnTo>
                    <a:lnTo>
                      <a:pt x="299" y="727"/>
                    </a:lnTo>
                    <a:lnTo>
                      <a:pt x="0" y="727"/>
                    </a:lnTo>
                    <a:lnTo>
                      <a:pt x="99" y="306"/>
                    </a:lnTo>
                    <a:lnTo>
                      <a:pt x="57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rot="3105600">
                <a:off x="5058360" y="4653720"/>
                <a:ext cx="585720" cy="422280"/>
              </a:xfrm>
              <a:custGeom>
                <a:avLst/>
                <a:gdLst/>
                <a:ahLst/>
                <a:rect l="l" t="t" r="r" b="b"/>
                <a:pathLst>
                  <a:path w="1744" h="1005">
                    <a:moveTo>
                      <a:pt x="0" y="942"/>
                    </a:moveTo>
                    <a:lnTo>
                      <a:pt x="0" y="799"/>
                    </a:lnTo>
                    <a:lnTo>
                      <a:pt x="22" y="665"/>
                    </a:lnTo>
                    <a:lnTo>
                      <a:pt x="61" y="536"/>
                    </a:lnTo>
                    <a:lnTo>
                      <a:pt x="104" y="434"/>
                    </a:lnTo>
                    <a:lnTo>
                      <a:pt x="175" y="340"/>
                    </a:lnTo>
                    <a:lnTo>
                      <a:pt x="229" y="274"/>
                    </a:lnTo>
                    <a:lnTo>
                      <a:pt x="323" y="193"/>
                    </a:lnTo>
                    <a:lnTo>
                      <a:pt x="389" y="150"/>
                    </a:lnTo>
                    <a:lnTo>
                      <a:pt x="487" y="84"/>
                    </a:lnTo>
                    <a:lnTo>
                      <a:pt x="595" y="41"/>
                    </a:lnTo>
                    <a:lnTo>
                      <a:pt x="737" y="8"/>
                    </a:lnTo>
                    <a:lnTo>
                      <a:pt x="869" y="0"/>
                    </a:lnTo>
                    <a:lnTo>
                      <a:pt x="999" y="11"/>
                    </a:lnTo>
                    <a:lnTo>
                      <a:pt x="1108" y="29"/>
                    </a:lnTo>
                    <a:lnTo>
                      <a:pt x="1243" y="76"/>
                    </a:lnTo>
                    <a:lnTo>
                      <a:pt x="1352" y="142"/>
                    </a:lnTo>
                    <a:lnTo>
                      <a:pt x="1428" y="196"/>
                    </a:lnTo>
                    <a:lnTo>
                      <a:pt x="1504" y="270"/>
                    </a:lnTo>
                    <a:lnTo>
                      <a:pt x="1569" y="340"/>
                    </a:lnTo>
                    <a:lnTo>
                      <a:pt x="1619" y="416"/>
                    </a:lnTo>
                    <a:lnTo>
                      <a:pt x="1657" y="490"/>
                    </a:lnTo>
                    <a:lnTo>
                      <a:pt x="1696" y="581"/>
                    </a:lnTo>
                    <a:lnTo>
                      <a:pt x="1711" y="665"/>
                    </a:lnTo>
                    <a:lnTo>
                      <a:pt x="1729" y="734"/>
                    </a:lnTo>
                    <a:lnTo>
                      <a:pt x="1741" y="799"/>
                    </a:lnTo>
                    <a:lnTo>
                      <a:pt x="1744" y="927"/>
                    </a:lnTo>
                    <a:lnTo>
                      <a:pt x="1708" y="960"/>
                    </a:lnTo>
                    <a:lnTo>
                      <a:pt x="1631" y="982"/>
                    </a:lnTo>
                    <a:lnTo>
                      <a:pt x="1543" y="997"/>
                    </a:lnTo>
                    <a:lnTo>
                      <a:pt x="1449" y="982"/>
                    </a:lnTo>
                    <a:lnTo>
                      <a:pt x="1380" y="954"/>
                    </a:lnTo>
                    <a:lnTo>
                      <a:pt x="1362" y="921"/>
                    </a:lnTo>
                    <a:lnTo>
                      <a:pt x="1362" y="764"/>
                    </a:lnTo>
                    <a:lnTo>
                      <a:pt x="1352" y="698"/>
                    </a:lnTo>
                    <a:lnTo>
                      <a:pt x="1326" y="621"/>
                    </a:lnTo>
                    <a:lnTo>
                      <a:pt x="1275" y="536"/>
                    </a:lnTo>
                    <a:lnTo>
                      <a:pt x="1228" y="493"/>
                    </a:lnTo>
                    <a:lnTo>
                      <a:pt x="1177" y="439"/>
                    </a:lnTo>
                    <a:lnTo>
                      <a:pt x="1090" y="394"/>
                    </a:lnTo>
                    <a:lnTo>
                      <a:pt x="1024" y="373"/>
                    </a:lnTo>
                    <a:lnTo>
                      <a:pt x="970" y="350"/>
                    </a:lnTo>
                    <a:lnTo>
                      <a:pt x="912" y="350"/>
                    </a:lnTo>
                    <a:lnTo>
                      <a:pt x="792" y="350"/>
                    </a:lnTo>
                    <a:lnTo>
                      <a:pt x="727" y="361"/>
                    </a:lnTo>
                    <a:lnTo>
                      <a:pt x="643" y="394"/>
                    </a:lnTo>
                    <a:lnTo>
                      <a:pt x="577" y="434"/>
                    </a:lnTo>
                    <a:lnTo>
                      <a:pt x="519" y="478"/>
                    </a:lnTo>
                    <a:lnTo>
                      <a:pt x="468" y="526"/>
                    </a:lnTo>
                    <a:lnTo>
                      <a:pt x="425" y="599"/>
                    </a:lnTo>
                    <a:lnTo>
                      <a:pt x="399" y="657"/>
                    </a:lnTo>
                    <a:lnTo>
                      <a:pt x="381" y="719"/>
                    </a:lnTo>
                    <a:lnTo>
                      <a:pt x="378" y="752"/>
                    </a:lnTo>
                    <a:lnTo>
                      <a:pt x="378" y="931"/>
                    </a:lnTo>
                    <a:lnTo>
                      <a:pt x="348" y="975"/>
                    </a:lnTo>
                    <a:lnTo>
                      <a:pt x="272" y="1005"/>
                    </a:lnTo>
                    <a:lnTo>
                      <a:pt x="193" y="997"/>
                    </a:lnTo>
                    <a:lnTo>
                      <a:pt x="66" y="982"/>
                    </a:lnTo>
                    <a:lnTo>
                      <a:pt x="0" y="942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2" name=""/>
          <p:cNvSpPr/>
          <p:nvPr/>
        </p:nvSpPr>
        <p:spPr>
          <a:xfrm>
            <a:off x="2209680" y="3809880"/>
            <a:ext cx="121932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bj2.b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2" dur="indefinite" restart="never" nodeType="tmRoot">
          <p:childTnLst>
            <p:seq>
              <p:cTn id="4593" dur="indefinite" nodeType="mainSeq">
                <p:childTnLst>
                  <p:par>
                    <p:cTn id="4594" fill="hold">
                      <p:stCondLst>
                        <p:cond delay="indefinite"/>
                      </p:stCondLst>
                      <p:childTnLst>
                        <p:par>
                          <p:cTn id="4595" fill="hold">
                            <p:stCondLst>
                              <p:cond delay="0"/>
                            </p:stCondLst>
                            <p:childTnLst>
                              <p:par>
                                <p:cTn id="4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8" dur="500"/>
                                        <p:tgtEl>
                                          <p:spTgt spid="2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2" dur="500"/>
                                        <p:tgtEl>
                                          <p:spTgt spid="2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3" fill="hold">
                      <p:stCondLst>
                        <p:cond delay="indefinite"/>
                      </p:stCondLst>
                      <p:childTnLst>
                        <p:par>
                          <p:cTn id="4604" fill="hold">
                            <p:stCondLst>
                              <p:cond delay="0"/>
                            </p:stCondLst>
                            <p:childTnLst>
                              <p:par>
                                <p:cTn id="4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7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8" fill="hold">
                            <p:stCondLst>
                              <p:cond delay="500"/>
                            </p:stCondLst>
                            <p:childTnLst>
                              <p:par>
                                <p:cTn id="4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1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2" fill="hold">
                      <p:stCondLst>
                        <p:cond delay="indefinite"/>
                      </p:stCondLst>
                      <p:childTnLst>
                        <p:par>
                          <p:cTn id="4613" fill="hold">
                            <p:stCondLst>
                              <p:cond delay="0"/>
                            </p:stCondLst>
                            <p:childTnLst>
                              <p:par>
                                <p:cTn id="4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6" fill="hold">
                            <p:stCondLst>
                              <p:cond delay="500"/>
                            </p:stCondLst>
                            <p:childTnLst>
                              <p:par>
                                <p:cTn id="46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9" dur="500"/>
                                        <p:tgtEl>
                                          <p:spTgt spid="3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0" fill="hold">
                      <p:stCondLst>
                        <p:cond delay="indefinite"/>
                      </p:stCondLst>
                      <p:childTnLst>
                        <p:par>
                          <p:cTn id="4621" fill="hold">
                            <p:stCondLst>
                              <p:cond delay="0"/>
                            </p:stCondLst>
                            <p:childTnLst>
                              <p:par>
                                <p:cTn id="46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4" dur="500" fill="hold"/>
                                        <p:tgtEl>
                                          <p:spTgt spid="3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5" dur="500" fill="hold"/>
                                        <p:tgtEl>
                                          <p:spTgt spid="3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6" fill="hold">
                      <p:stCondLst>
                        <p:cond delay="indefinite"/>
                      </p:stCondLst>
                      <p:childTnLst>
                        <p:par>
                          <p:cTn id="4627" fill="hold">
                            <p:stCondLst>
                              <p:cond delay="0"/>
                            </p:stCondLst>
                            <p:childTnLst>
                              <p:par>
                                <p:cTn id="4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0" dur="5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1" fill="hold">
                            <p:stCondLst>
                              <p:cond delay="500"/>
                            </p:stCondLst>
                            <p:childTnLst>
                              <p:par>
                                <p:cTn id="4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37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8" fill="hold">
                      <p:stCondLst>
                        <p:cond delay="indefinite"/>
                      </p:stCondLst>
                      <p:childTnLst>
                        <p:par>
                          <p:cTn id="4639" fill="hold">
                            <p:stCondLst>
                              <p:cond delay="0"/>
                            </p:stCondLst>
                            <p:childTnLst>
                              <p:par>
                                <p:cTn id="46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2" dur="5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3" dur="5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4" fill="hold">
                            <p:stCondLst>
                              <p:cond delay="500"/>
                            </p:stCondLst>
                            <p:childTnLst>
                              <p:par>
                                <p:cTn id="4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7" dur="500"/>
                                        <p:tgtEl>
                                          <p:spTgt spid="3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8380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undedBuffer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 in = 0, out = 0, count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[ ] p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undedBuffer (int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= new Object[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oid put (Object obj) {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get () {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8" dur="indefinite" restart="never" nodeType="tmRoot">
          <p:childTnLst>
            <p:seq>
              <p:cTn id="4649" dur="indefinite" nodeType="mainSeq">
                <p:childTnLst>
                  <p:par>
                    <p:cTn id="4650" fill="hold">
                      <p:stCondLst>
                        <p:cond delay="indefinite"/>
                      </p:stCondLst>
                      <p:childTnLst>
                        <p:par>
                          <p:cTn id="4651" fill="hold">
                            <p:stCondLst>
                              <p:cond delay="0"/>
                            </p:stCondLst>
                            <p:childTnLst>
                              <p:par>
                                <p:cTn id="46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4" dur="500"/>
                                        <p:tgtEl>
                                          <p:spTgt spid="3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8380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oid put (Object obj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[in] = ob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= (in + 1) % pool.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684440" y="2057400"/>
            <a:ext cx="5859360" cy="17424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unt == pool.length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)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1676160" y="5257800"/>
            <a:ext cx="13006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1600200" y="2035080"/>
            <a:ext cx="60116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             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terruptedException e) { …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5" dur="indefinite" restart="never" nodeType="tmRoot">
          <p:childTnLst>
            <p:seq>
              <p:cTn id="4656" dur="indefinite" nodeType="mainSeq">
                <p:childTnLst>
                  <p:par>
                    <p:cTn id="4657" fill="hold">
                      <p:stCondLst>
                        <p:cond delay="indefinite"/>
                      </p:stCondLst>
                      <p:childTnLst>
                        <p:par>
                          <p:cTn id="4658" fill="hold">
                            <p:stCondLst>
                              <p:cond delay="0"/>
                            </p:stCondLst>
                            <p:childTnLst>
                              <p:par>
                                <p:cTn id="46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1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2" fill="hold">
                      <p:stCondLst>
                        <p:cond delay="indefinite"/>
                      </p:stCondLst>
                      <p:childTnLst>
                        <p:par>
                          <p:cTn id="4663" fill="hold">
                            <p:stCondLst>
                              <p:cond delay="0"/>
                            </p:stCondLst>
                            <p:childTnLst>
                              <p:par>
                                <p:cTn id="4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6" dur="500"/>
                                        <p:tgtEl>
                                          <p:spTgt spid="3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7" fill="hold">
                      <p:stCondLst>
                        <p:cond delay="indefinite"/>
                      </p:stCondLst>
                      <p:childTnLst>
                        <p:par>
                          <p:cTn id="4668" fill="hold">
                            <p:stCondLst>
                              <p:cond delay="0"/>
                            </p:stCondLst>
                            <p:childTnLst>
                              <p:par>
                                <p:cTn id="4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1" dur="500"/>
                                        <p:tgtEl>
                                          <p:spTgt spid="3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2" fill="hold">
                      <p:stCondLst>
                        <p:cond delay="indefinite"/>
                      </p:stCondLst>
                      <p:childTnLst>
                        <p:par>
                          <p:cTn id="4673" fill="hold">
                            <p:stCondLst>
                              <p:cond delay="0"/>
                            </p:stCondLst>
                            <p:childTnLst>
                              <p:par>
                                <p:cTn id="4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6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8380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get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bj = pool[out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= (out + 1) % pool.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b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684440" y="2057400"/>
            <a:ext cx="6087960" cy="17787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unt == 0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{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);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(InterruptedException e) { …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3151080" y="4800600"/>
            <a:ext cx="13006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4" name="" descr=""/>
          <p:cNvPicPr/>
          <p:nvPr/>
        </p:nvPicPr>
        <p:blipFill>
          <a:blip r:embed="rId1"/>
          <a:stretch/>
        </p:blipFill>
        <p:spPr>
          <a:xfrm>
            <a:off x="5791320" y="4267080"/>
            <a:ext cx="865080" cy="1862280"/>
          </a:xfrm>
          <a:prstGeom prst="rect">
            <a:avLst/>
          </a:prstGeom>
          <a:ln w="0">
            <a:noFill/>
          </a:ln>
        </p:spPr>
      </p:pic>
      <p:sp>
        <p:nvSpPr>
          <p:cNvPr id="3035" name=""/>
          <p:cNvSpPr/>
          <p:nvPr/>
        </p:nvSpPr>
        <p:spPr>
          <a:xfrm>
            <a:off x="6477120" y="3886200"/>
            <a:ext cx="2133360" cy="685800"/>
          </a:xfrm>
          <a:prstGeom prst="cloudCallout">
            <a:avLst>
              <a:gd name="adj1" fmla="val -54837"/>
              <a:gd name="adj2" fmla="val 57407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otifyAl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7" dur="indefinite" restart="never" nodeType="tmRoot">
          <p:childTnLst>
            <p:seq>
              <p:cTn id="4678" dur="indefinite" nodeType="mainSeq">
                <p:childTnLst>
                  <p:par>
                    <p:cTn id="4679" fill="hold">
                      <p:stCondLst>
                        <p:cond delay="indefinite"/>
                      </p:stCondLst>
                      <p:childTnLst>
                        <p:par>
                          <p:cTn id="4680" fill="hold">
                            <p:stCondLst>
                              <p:cond delay="0"/>
                            </p:stCondLst>
                            <p:childTnLst>
                              <p:par>
                                <p:cTn id="46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3" dur="5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4" fill="hold">
                      <p:stCondLst>
                        <p:cond delay="indefinite"/>
                      </p:stCondLst>
                      <p:childTnLst>
                        <p:par>
                          <p:cTn id="4685" fill="hold">
                            <p:stCondLst>
                              <p:cond delay="0"/>
                            </p:stCondLst>
                            <p:childTnLst>
                              <p:par>
                                <p:cTn id="4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8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9" fill="hold">
                      <p:stCondLst>
                        <p:cond delay="indefinite"/>
                      </p:stCondLst>
                      <p:childTnLst>
                        <p:par>
                          <p:cTn id="4690" fill="hold">
                            <p:stCondLst>
                              <p:cond delay="0"/>
                            </p:stCondLst>
                            <p:childTnLst>
                              <p:par>
                                <p:cTn id="4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3" dur="500"/>
                                        <p:tgtEl>
                                          <p:spTgt spid="3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4" fill="hold">
                      <p:stCondLst>
                        <p:cond delay="indefinite"/>
                      </p:stCondLst>
                      <p:childTnLst>
                        <p:par>
                          <p:cTn id="4695" fill="hold">
                            <p:stCondLst>
                              <p:cond delay="0"/>
                            </p:stCondLst>
                            <p:childTnLst>
                              <p:par>
                                <p:cTn id="4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8" dur="500" fill="hold"/>
                                        <p:tgtEl>
                                          <p:spTgt spid="3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9" dur="500" fill="hold"/>
                                        <p:tgtEl>
                                          <p:spTgt spid="3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0" fill="hold">
                            <p:stCondLst>
                              <p:cond delay="500"/>
                            </p:stCondLst>
                            <p:childTnLst>
                              <p:par>
                                <p:cTn id="4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3" dur="500" fill="hold"/>
                                        <p:tgtEl>
                                          <p:spTgt spid="3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4" dur="500" fill="hold"/>
                                        <p:tgtEl>
                                          <p:spTgt spid="3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a real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traditional O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 by disabling/enabling interru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1143000" y="3429000"/>
            <a:ext cx="5791320" cy="182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nt prevLevel =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etPriorityLevel (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Modify Shared Data Structure D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etPriorityLevel (prevLeve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7010280" y="3657600"/>
            <a:ext cx="1905120" cy="1008720"/>
          </a:xfrm>
          <a:prstGeom prst="borderCallout1">
            <a:avLst>
              <a:gd name="adj1" fmla="val 18750"/>
              <a:gd name="adj2" fmla="val -8333"/>
              <a:gd name="adj3" fmla="val 21333"/>
              <a:gd name="adj4" fmla="val -49231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interrupts of level &gt; k are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6019920" y="2638440"/>
            <a:ext cx="2438280" cy="703800"/>
          </a:xfrm>
          <a:prstGeom prst="borderCallout1">
            <a:avLst>
              <a:gd name="adj1" fmla="val 18750"/>
              <a:gd name="adj2" fmla="val -8333"/>
              <a:gd name="adj3" fmla="val 141870"/>
              <a:gd name="adj4" fmla="val -13462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highest priority level that needs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5" dur="indefinite" restart="never" nodeType="tmRoot">
          <p:childTnLst>
            <p:seq>
              <p:cTn id="4706" dur="indefinite" nodeType="mainSeq">
                <p:childTnLst>
                  <p:par>
                    <p:cTn id="4707" fill="hold">
                      <p:stCondLst>
                        <p:cond delay="indefinite"/>
                      </p:stCondLst>
                      <p:childTnLst>
                        <p:par>
                          <p:cTn id="4708" fill="hold">
                            <p:stCondLst>
                              <p:cond delay="0"/>
                            </p:stCondLst>
                            <p:childTnLst>
                              <p:par>
                                <p:cTn id="4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1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2" fill="hold">
                      <p:stCondLst>
                        <p:cond delay="indefinite"/>
                      </p:stCondLst>
                      <p:childTnLst>
                        <p:par>
                          <p:cTn id="4713" fill="hold">
                            <p:stCondLst>
                              <p:cond delay="0"/>
                            </p:stCondLst>
                            <p:childTnLst>
                              <p:par>
                                <p:cTn id="47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6" dur="500"/>
                                        <p:tgtEl>
                                          <p:spTgt spid="3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7" fill="hold">
                      <p:stCondLst>
                        <p:cond delay="indefinite"/>
                      </p:stCondLst>
                      <p:childTnLst>
                        <p:par>
                          <p:cTn id="4718" fill="hold">
                            <p:stCondLst>
                              <p:cond delay="0"/>
                            </p:stCondLst>
                            <p:childTnLst>
                              <p:par>
                                <p:cTn id="47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21" dur="500"/>
                                        <p:tgtEl>
                                          <p:spTgt spid="3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Solari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upport for Soft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T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ultithrea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upport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ulti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chronization Mechanis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daptive Mutex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ondition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aders/Writers 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emaph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2" dur="indefinite" restart="never" nodeType="tmRoot">
          <p:childTnLst>
            <p:seq>
              <p:cTn id="4723" dur="indefinite" nodeType="mainSeq">
                <p:childTnLst>
                  <p:par>
                    <p:cTn id="4724" fill="hold">
                      <p:stCondLst>
                        <p:cond delay="indefinite"/>
                      </p:stCondLst>
                      <p:childTnLst>
                        <p:par>
                          <p:cTn id="4725" fill="hold">
                            <p:stCondLst>
                              <p:cond delay="0"/>
                            </p:stCondLst>
                            <p:childTnLst>
                              <p:par>
                                <p:cTn id="4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8" dur="500"/>
                                        <p:tgtEl>
                                          <p:spTgt spid="3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1" dur="500"/>
                                        <p:tgtEl>
                                          <p:spTgt spid="3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4" dur="500"/>
                                        <p:tgtEl>
                                          <p:spTgt spid="3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7" dur="500"/>
                                        <p:tgtEl>
                                          <p:spTgt spid="3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8" fill="hold">
                      <p:stCondLst>
                        <p:cond delay="indefinite"/>
                      </p:stCondLst>
                      <p:childTnLst>
                        <p:par>
                          <p:cTn id="4739" fill="hold">
                            <p:stCondLst>
                              <p:cond delay="0"/>
                            </p:stCondLst>
                            <p:childTnLst>
                              <p:par>
                                <p:cTn id="4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2" dur="500"/>
                                        <p:tgtEl>
                                          <p:spTgt spid="3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5" dur="500"/>
                                        <p:tgtEl>
                                          <p:spTgt spid="3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8" dur="500"/>
                                        <p:tgtEl>
                                          <p:spTgt spid="3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1" dur="500"/>
                                        <p:tgtEl>
                                          <p:spTgt spid="30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4" dur="500"/>
                                        <p:tgtEl>
                                          <p:spTgt spid="30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Solari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941560" y="25146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hort 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2941560" y="39466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Longer CS</a:t>
            </a:r>
            <a:br>
              <a:rPr sz="20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| CS | &gt;&gt; | switch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2941560" y="516564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ata structures</a:t>
            </a:r>
            <a:br>
              <a:rPr sz="20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mostly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5257800" y="25146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If Holding thread = RUNNING</a:t>
            </a:r>
            <a:br>
              <a:rPr sz="20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en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sy waiting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(multiProc.)</a:t>
            </a:r>
            <a:br>
              <a:rPr sz="20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els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L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8" name=""/>
          <p:cNvGrpSpPr/>
          <p:nvPr/>
        </p:nvGrpSpPr>
        <p:grpSpPr>
          <a:xfrm>
            <a:off x="762120" y="1752480"/>
            <a:ext cx="7848360" cy="4343400"/>
            <a:chOff x="762120" y="1752480"/>
            <a:chExt cx="7848360" cy="4343400"/>
          </a:xfrm>
        </p:grpSpPr>
        <p:sp>
          <p:nvSpPr>
            <p:cNvPr id="3049" name=""/>
            <p:cNvSpPr/>
            <p:nvPr/>
          </p:nvSpPr>
          <p:spPr>
            <a:xfrm>
              <a:off x="762120" y="1752480"/>
              <a:ext cx="7467480" cy="42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141560"/>
                  <a:tab algn="l" pos="2282760"/>
                  <a:tab algn="l" pos="3424320"/>
                  <a:tab algn="l" pos="4565520"/>
                  <a:tab algn="l" pos="5707080"/>
                  <a:tab algn="l" pos="6848640"/>
                  <a:tab algn="l" pos="7989840"/>
                  <a:tab algn="l" pos="9131400"/>
                  <a:tab algn="l" pos="10272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sed fo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f 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141560"/>
                  <a:tab algn="l" pos="2282760"/>
                  <a:tab algn="l" pos="3424320"/>
                  <a:tab algn="l" pos="4565520"/>
                  <a:tab algn="l" pos="5707080"/>
                  <a:tab algn="l" pos="6848640"/>
                  <a:tab algn="l" pos="7989840"/>
                  <a:tab algn="l" pos="9131400"/>
                  <a:tab algn="l" pos="10272600"/>
                </a:tabLst>
              </a:pP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exes</a:t>
              </a:r>
              <a:br>
                <a:rPr sz="2000"/>
              </a:b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141560"/>
                  <a:tab algn="l" pos="2282760"/>
                  <a:tab algn="l" pos="3424320"/>
                  <a:tab algn="l" pos="4565520"/>
                  <a:tab algn="l" pos="5707080"/>
                  <a:tab algn="l" pos="6848640"/>
                  <a:tab algn="l" pos="7989840"/>
                  <a:tab algn="l" pos="9131400"/>
                  <a:tab algn="l" pos="10272600"/>
                </a:tabLst>
              </a:pP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br>
                <a:rPr sz="2000"/>
              </a:b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141560"/>
                  <a:tab algn="l" pos="2282760"/>
                  <a:tab algn="l" pos="3424320"/>
                  <a:tab algn="l" pos="4565520"/>
                  <a:tab algn="l" pos="5707080"/>
                  <a:tab algn="l" pos="6848640"/>
                  <a:tab algn="l" pos="7989840"/>
                  <a:tab algn="l" pos="9131400"/>
                  <a:tab algn="l" pos="10272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ders/Writer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38080" y="22860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38080" y="38862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38080" y="510552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895480" y="1752480"/>
              <a:ext cx="0" cy="434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257800" y="1752480"/>
              <a:ext cx="0" cy="434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5" name=""/>
          <p:cNvSpPr/>
          <p:nvPr/>
        </p:nvSpPr>
        <p:spPr>
          <a:xfrm>
            <a:off x="5257800" y="39466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L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5257800" y="51656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L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5" dur="indefinite" restart="never" nodeType="tmRoot">
          <p:childTnLst>
            <p:seq>
              <p:cTn id="4756" dur="indefinite" nodeType="mainSeq">
                <p:childTnLst>
                  <p:par>
                    <p:cTn id="4757" fill="hold">
                      <p:stCondLst>
                        <p:cond delay="indefinite"/>
                      </p:stCondLst>
                      <p:childTnLst>
                        <p:par>
                          <p:cTn id="4758" fill="hold">
                            <p:stCondLst>
                              <p:cond delay="0"/>
                            </p:stCondLst>
                            <p:childTnLst>
                              <p:par>
                                <p:cTn id="4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1" dur="5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2" fill="hold">
                      <p:stCondLst>
                        <p:cond delay="indefinite"/>
                      </p:stCondLst>
                      <p:childTnLst>
                        <p:par>
                          <p:cTn id="4763" fill="hold">
                            <p:stCondLst>
                              <p:cond delay="0"/>
                            </p:stCondLst>
                            <p:childTnLst>
                              <p:par>
                                <p:cTn id="4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6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7" fill="hold">
                      <p:stCondLst>
                        <p:cond delay="indefinite"/>
                      </p:stCondLst>
                      <p:childTnLst>
                        <p:par>
                          <p:cTn id="4768" fill="hold">
                            <p:stCondLst>
                              <p:cond delay="0"/>
                            </p:stCondLst>
                            <p:childTnLst>
                              <p:par>
                                <p:cTn id="4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1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2" fill="hold">
                      <p:stCondLst>
                        <p:cond delay="indefinite"/>
                      </p:stCondLst>
                      <p:childTnLst>
                        <p:par>
                          <p:cTn id="4773" fill="hold">
                            <p:stCondLst>
                              <p:cond delay="0"/>
                            </p:stCondLst>
                            <p:childTnLst>
                              <p:par>
                                <p:cTn id="4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6" dur="500"/>
                                        <p:tgtEl>
                                          <p:spTgt spid="3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7" fill="hold">
                      <p:stCondLst>
                        <p:cond delay="indefinite"/>
                      </p:stCondLst>
                      <p:childTnLst>
                        <p:par>
                          <p:cTn id="4778" fill="hold">
                            <p:stCondLst>
                              <p:cond delay="0"/>
                            </p:stCondLst>
                            <p:childTnLst>
                              <p:par>
                                <p:cTn id="4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1" dur="500"/>
                                        <p:tgtEl>
                                          <p:spTgt spid="3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2" fill="hold">
                      <p:stCondLst>
                        <p:cond delay="indefinite"/>
                      </p:stCondLst>
                      <p:childTnLst>
                        <p:par>
                          <p:cTn id="4783" fill="hold">
                            <p:stCondLst>
                              <p:cond delay="0"/>
                            </p:stCondLst>
                            <p:childTnLst>
                              <p:par>
                                <p:cTn id="4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6" dur="500"/>
                                        <p:tgtEl>
                                          <p:spTgt spid="3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7" fill="hold">
                      <p:stCondLst>
                        <p:cond delay="indefinite"/>
                      </p:stCondLst>
                      <p:childTnLst>
                        <p:par>
                          <p:cTn id="4788" fill="hold">
                            <p:stCondLst>
                              <p:cond delay="0"/>
                            </p:stCondLst>
                            <p:childTnLst>
                              <p:par>
                                <p:cTn id="4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1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Solari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279f"/>
              </a:buClr>
              <a:buFont typeface="Helvetica"/>
              <a:buAutoNum type="alphaLcParenR"/>
              <a:tabLst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Mut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mutex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d mutex_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mutex_un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int mutex_try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mutex_destro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b) Semaph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sema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d sema_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sema_p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int sema_try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sema_destro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71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477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c) condition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cv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d cv_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cv_sig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cv_broadc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int cv_timed_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cv_destro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d) readers/writers 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rw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d rw_e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rw_e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int rw_trye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rw_down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d rw_up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int rw_tryup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rw_destro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2" dur="indefinite" restart="never" nodeType="tmRoot">
          <p:childTnLst>
            <p:seq>
              <p:cTn id="4793" dur="indefinite" nodeType="mainSeq">
                <p:childTnLst>
                  <p:par>
                    <p:cTn id="4794" fill="hold">
                      <p:stCondLst>
                        <p:cond delay="indefinite"/>
                      </p:stCondLst>
                      <p:childTnLst>
                        <p:par>
                          <p:cTn id="4795" fill="hold">
                            <p:stCondLst>
                              <p:cond delay="0"/>
                            </p:stCondLst>
                            <p:childTnLst>
                              <p:par>
                                <p:cTn id="47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98" dur="500"/>
                                        <p:tgtEl>
                                          <p:spTgt spid="3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2" dur="500"/>
                                        <p:tgtEl>
                                          <p:spTgt spid="30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6" dur="500"/>
                                        <p:tgtEl>
                                          <p:spTgt spid="3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0" dur="500"/>
                                        <p:tgtEl>
                                          <p:spTgt spid="3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1" fill="hold">
                      <p:stCondLst>
                        <p:cond delay="indefinite"/>
                      </p:stCondLst>
                      <p:childTnLst>
                        <p:par>
                          <p:cTn id="4812" fill="hold">
                            <p:stCondLst>
                              <p:cond delay="0"/>
                            </p:stCondLst>
                            <p:childTnLst>
                              <p:par>
                                <p:cTn id="48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5" dur="500"/>
                                        <p:tgtEl>
                                          <p:spTgt spid="3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6" fill="hold">
                            <p:stCondLst>
                              <p:cond delay="500"/>
                            </p:stCondLst>
                            <p:childTnLst>
                              <p:par>
                                <p:cTn id="48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9" dur="500"/>
                                        <p:tgtEl>
                                          <p:spTgt spid="3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0" fill="hold">
                      <p:stCondLst>
                        <p:cond delay="indefinite"/>
                      </p:stCondLst>
                      <p:childTnLst>
                        <p:par>
                          <p:cTn id="4821" fill="hold">
                            <p:stCondLst>
                              <p:cond delay="0"/>
                            </p:stCondLst>
                            <p:childTnLst>
                              <p:par>
                                <p:cTn id="48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4" dur="500"/>
                                        <p:tgtEl>
                                          <p:spTgt spid="30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5" fill="hold">
                            <p:stCondLst>
                              <p:cond delay="500"/>
                            </p:stCondLst>
                            <p:childTnLst>
                              <p:par>
                                <p:cTn id="48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8" dur="500"/>
                                        <p:tgtEl>
                                          <p:spTgt spid="30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9" fill="hold">
                      <p:stCondLst>
                        <p:cond delay="indefinite"/>
                      </p:stCondLst>
                      <p:childTnLst>
                        <p:par>
                          <p:cTn id="4830" fill="hold">
                            <p:stCondLst>
                              <p:cond delay="0"/>
                            </p:stCondLst>
                            <p:childTnLst>
                              <p:par>
                                <p:cTn id="4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3" dur="500"/>
                                        <p:tgtEl>
                                          <p:spTgt spid="3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4" fill="hold">
                            <p:stCondLst>
                              <p:cond delay="500"/>
                            </p:stCondLst>
                            <p:childTnLst>
                              <p:par>
                                <p:cTn id="4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7" dur="500"/>
                                        <p:tgtEl>
                                          <p:spTgt spid="3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8" fill="hold">
                      <p:stCondLst>
                        <p:cond delay="indefinite"/>
                      </p:stCondLst>
                      <p:childTnLst>
                        <p:par>
                          <p:cTn id="4839" fill="hold">
                            <p:stCondLst>
                              <p:cond delay="0"/>
                            </p:stCondLst>
                            <p:childTnLst>
                              <p:par>
                                <p:cTn id="4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2" dur="500"/>
                                        <p:tgtEl>
                                          <p:spTgt spid="3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6" dur="500"/>
                                        <p:tgtEl>
                                          <p:spTgt spid="30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7" fill="hold">
                      <p:stCondLst>
                        <p:cond delay="indefinite"/>
                      </p:stCondLst>
                      <p:childTnLst>
                        <p:par>
                          <p:cTn id="4848" fill="hold">
                            <p:stCondLst>
                              <p:cond delay="0"/>
                            </p:stCondLst>
                            <p:childTnLst>
                              <p:par>
                                <p:cTn id="48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1" dur="500"/>
                                        <p:tgtEl>
                                          <p:spTgt spid="3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2" fill="hold">
                            <p:stCondLst>
                              <p:cond delay="500"/>
                            </p:stCondLst>
                            <p:childTnLst>
                              <p:par>
                                <p:cTn id="48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5" dur="500"/>
                                        <p:tgtEl>
                                          <p:spTgt spid="3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6" fill="hold">
                      <p:stCondLst>
                        <p:cond delay="indefinite"/>
                      </p:stCondLst>
                      <p:childTnLst>
                        <p:par>
                          <p:cTn id="4857" fill="hold">
                            <p:stCondLst>
                              <p:cond delay="0"/>
                            </p:stCondLst>
                            <p:childTnLst>
                              <p:par>
                                <p:cTn id="48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0" dur="500"/>
                                        <p:tgtEl>
                                          <p:spTgt spid="30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1" fill="hold">
                            <p:stCondLst>
                              <p:cond delay="500"/>
                            </p:stCondLst>
                            <p:childTnLst>
                              <p:par>
                                <p:cTn id="48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4" dur="500"/>
                                        <p:tgtEl>
                                          <p:spTgt spid="30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5" fill="hold">
                      <p:stCondLst>
                        <p:cond delay="indefinite"/>
                      </p:stCondLst>
                      <p:childTnLst>
                        <p:par>
                          <p:cTn id="4866" fill="hold">
                            <p:stCondLst>
                              <p:cond delay="0"/>
                            </p:stCondLst>
                            <p:childTnLst>
                              <p:par>
                                <p:cTn id="4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9" dur="500"/>
                                        <p:tgtEl>
                                          <p:spTgt spid="3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0" fill="hold">
                            <p:stCondLst>
                              <p:cond delay="500"/>
                            </p:stCondLst>
                            <p:childTnLst>
                              <p:par>
                                <p:cTn id="4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3" dur="500"/>
                                        <p:tgtEl>
                                          <p:spTgt spid="3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7" dur="500"/>
                                        <p:tgtEl>
                                          <p:spTgt spid="3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8" fill="hold">
                      <p:stCondLst>
                        <p:cond delay="indefinite"/>
                      </p:stCondLst>
                      <p:childTnLst>
                        <p:par>
                          <p:cTn id="4879" fill="hold">
                            <p:stCondLst>
                              <p:cond delay="0"/>
                            </p:stCondLst>
                            <p:childTnLst>
                              <p:par>
                                <p:cTn id="4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2" dur="500"/>
                                        <p:tgtEl>
                                          <p:spTgt spid="30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6" dur="500"/>
                                        <p:tgtEl>
                                          <p:spTgt spid="30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7" fill="hold">
                      <p:stCondLst>
                        <p:cond delay="indefinite"/>
                      </p:stCondLst>
                      <p:childTnLst>
                        <p:par>
                          <p:cTn id="4888" fill="hold">
                            <p:stCondLst>
                              <p:cond delay="0"/>
                            </p:stCondLst>
                            <p:childTnLst>
                              <p:par>
                                <p:cTn id="4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1" dur="500"/>
                                        <p:tgtEl>
                                          <p:spTgt spid="30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2" fill="hold">
                            <p:stCondLst>
                              <p:cond delay="500"/>
                            </p:stCondLst>
                            <p:childTnLst>
                              <p:par>
                                <p:cTn id="4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5" dur="500"/>
                                        <p:tgtEl>
                                          <p:spTgt spid="30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6" fill="hold">
                      <p:stCondLst>
                        <p:cond delay="indefinite"/>
                      </p:stCondLst>
                      <p:childTnLst>
                        <p:par>
                          <p:cTn id="4897" fill="hold">
                            <p:stCondLst>
                              <p:cond delay="0"/>
                            </p:stCondLst>
                            <p:childTnLst>
                              <p:par>
                                <p:cTn id="48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0" dur="500"/>
                                        <p:tgtEl>
                                          <p:spTgt spid="3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1" fill="hold">
                      <p:stCondLst>
                        <p:cond delay="indefinite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5" dur="500"/>
                                        <p:tgtEl>
                                          <p:spTgt spid="30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6" fill="hold">
                      <p:stCondLst>
                        <p:cond delay="indefinite"/>
                      </p:stCondLst>
                      <p:childTnLst>
                        <p:par>
                          <p:cTn id="4907" fill="hold">
                            <p:stCondLst>
                              <p:cond delay="0"/>
                            </p:stCondLst>
                            <p:childTnLst>
                              <p:par>
                                <p:cTn id="4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0" dur="500"/>
                                        <p:tgtEl>
                                          <p:spTgt spid="3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1" fill="hold">
                      <p:stCondLst>
                        <p:cond delay="indefinite"/>
                      </p:stCondLst>
                      <p:childTnLst>
                        <p:par>
                          <p:cTn id="4912" fill="hold">
                            <p:stCondLst>
                              <p:cond delay="0"/>
                            </p:stCondLst>
                            <p:childTnLst>
                              <p:par>
                                <p:cTn id="4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5" dur="500"/>
                                        <p:tgtEl>
                                          <p:spTgt spid="3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6" fill="hold">
                      <p:stCondLst>
                        <p:cond delay="indefinite"/>
                      </p:stCondLst>
                      <p:childTnLst>
                        <p:par>
                          <p:cTn id="4917" fill="hold">
                            <p:stCondLst>
                              <p:cond delay="0"/>
                            </p:stCondLst>
                            <p:childTnLst>
                              <p:par>
                                <p:cTn id="4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0" dur="500"/>
                                        <p:tgtEl>
                                          <p:spTgt spid="30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20:24:45Z</dcterms:created>
  <dc:creator>Bart De Decker</dc:creator>
  <dc:description/>
  <dc:language>en-US</dc:language>
  <cp:lastModifiedBy>Bart De Decker</cp:lastModifiedBy>
  <cp:lastPrinted>1999-11-25T16:17:00Z</cp:lastPrinted>
  <dcterms:modified xsi:type="dcterms:W3CDTF">2005-10-21T09:27:16Z</dcterms:modified>
  <cp:revision>103</cp:revision>
  <dc:subject/>
  <dc:title>Module B2: Concurrent Programming</dc:title>
</cp:coreProperties>
</file>